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9-</a:t>
            </a:r>
            <a:fld id="{AE86919D-EC91-4F00-9920-A2B2D4F57B2E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98800" cy="297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1752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 turnover measures the relative size of accounts receivable and the success of a company’s credit and collection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(R/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43000" y="1523880"/>
            <a:ext cx="7104240" cy="1028880"/>
            <a:chOff x="1143000" y="1523880"/>
            <a:chExt cx="7104240" cy="1028880"/>
          </a:xfrm>
        </p:grpSpPr>
        <p:sp>
          <p:nvSpPr>
            <p:cNvPr id="68" name=""/>
            <p:cNvSpPr txBox="1"/>
            <p:nvPr/>
          </p:nvSpPr>
          <p:spPr>
            <a:xfrm>
              <a:off x="1143000" y="1677960"/>
              <a:ext cx="3986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180040" y="1523880"/>
              <a:ext cx="30672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et Sales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Average Net A/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2971800"/>
            <a:ext cx="6782040" cy="1028880"/>
            <a:chOff x="1523880" y="2971800"/>
            <a:chExt cx="6782040" cy="1028880"/>
          </a:xfrm>
        </p:grpSpPr>
        <p:sp>
          <p:nvSpPr>
            <p:cNvPr id="71" name=""/>
            <p:cNvSpPr txBox="1"/>
            <p:nvPr/>
          </p:nvSpPr>
          <p:spPr>
            <a:xfrm>
              <a:off x="1523880" y="312408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590920" y="2971800"/>
              <a:ext cx="571500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   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($324,329,000 + $353,671,000) /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971800" y="4343400"/>
            <a:ext cx="3870360" cy="1028880"/>
            <a:chOff x="2971800" y="4343400"/>
            <a:chExt cx="3870360" cy="1028880"/>
          </a:xfrm>
        </p:grpSpPr>
        <p:sp>
          <p:nvSpPr>
            <p:cNvPr id="74" name=""/>
            <p:cNvSpPr txBox="1"/>
            <p:nvPr/>
          </p:nvSpPr>
          <p:spPr>
            <a:xfrm>
              <a:off x="2971800" y="4572000"/>
              <a:ext cx="10605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R/T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189320" y="4343400"/>
              <a:ext cx="2652840" cy="102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2,003,038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39,00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3505320" y="5562720"/>
            <a:ext cx="28782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/T  =  5.9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14400" y="1676520"/>
            <a:ext cx="79502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erage days’ sales uncollected measures, on average, how long it takes to collect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66680" y="304920"/>
            <a:ext cx="7666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erage Days’ Sales Uncollec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7400" y="3352680"/>
            <a:ext cx="5843520" cy="3051360"/>
            <a:chOff x="2057400" y="3352680"/>
            <a:chExt cx="5843520" cy="3051360"/>
          </a:xfrm>
        </p:grpSpPr>
        <p:sp>
          <p:nvSpPr>
            <p:cNvPr id="80" name=""/>
            <p:cNvSpPr txBox="1"/>
            <p:nvPr/>
          </p:nvSpPr>
          <p:spPr>
            <a:xfrm>
              <a:off x="2057400" y="3618000"/>
              <a:ext cx="1682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ADSU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722760" y="3352680"/>
              <a:ext cx="4178160" cy="11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    </a:t>
              </a: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days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ceivable Turnov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276720" y="491328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809880" y="4684680"/>
              <a:ext cx="1084320" cy="106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365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5.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276720" y="5827680"/>
              <a:ext cx="258768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 61.9 day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83059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Receivable Turnover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755640"/>
            <a:ext cx="8167680" cy="5575320"/>
            <a:chOff x="685800" y="755640"/>
            <a:chExt cx="8167680" cy="5575320"/>
          </a:xfrm>
        </p:grpSpPr>
        <p:sp>
          <p:nvSpPr>
            <p:cNvPr id="87" name=""/>
            <p:cNvSpPr/>
            <p:nvPr/>
          </p:nvSpPr>
          <p:spPr>
            <a:xfrm>
              <a:off x="777960" y="755640"/>
              <a:ext cx="807552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4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6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9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81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09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798480"/>
              <a:ext cx="18576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20920" y="15732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220920" y="426240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47880" y="3733920"/>
              <a:ext cx="4795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81280" y="3187800"/>
              <a:ext cx="489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220920" y="2651040"/>
              <a:ext cx="435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071880" y="2111400"/>
              <a:ext cx="4503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2400" y="1379520"/>
              <a:ext cx="1997280" cy="371880"/>
            </a:xfrm>
            <a:custGeom>
              <a:avLst/>
              <a:gdLst/>
              <a:ahLst/>
              <a:rect l="0" t="0" r="r" b="b"/>
              <a:pathLst>
                <a:path w="5548" h="1033">
                  <a:moveTo>
                    <a:pt x="0" y="0"/>
                  </a:moveTo>
                  <a:lnTo>
                    <a:pt x="5548" y="0"/>
                  </a:lnTo>
                  <a:lnTo>
                    <a:pt x="5548" y="1033"/>
                  </a:lnTo>
                  <a:lnTo>
                    <a:pt x="0" y="1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2400" y="1916280"/>
              <a:ext cx="2454480" cy="368640"/>
            </a:xfrm>
            <a:custGeom>
              <a:avLst/>
              <a:gdLst/>
              <a:ahLst/>
              <a:rect l="0" t="0" r="r" b="b"/>
              <a:pathLst>
                <a:path w="6818" h="1024">
                  <a:moveTo>
                    <a:pt x="0" y="1024"/>
                  </a:moveTo>
                  <a:lnTo>
                    <a:pt x="6818" y="1024"/>
                  </a:lnTo>
                  <a:lnTo>
                    <a:pt x="6818" y="0"/>
                  </a:lnTo>
                  <a:lnTo>
                    <a:pt x="0" y="0"/>
                  </a:lnTo>
                  <a:lnTo>
                    <a:pt x="0" y="102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3920" y="2992320"/>
              <a:ext cx="441720" cy="367200"/>
            </a:xfrm>
            <a:custGeom>
              <a:avLst/>
              <a:gdLst/>
              <a:ahLst/>
              <a:rect l="0" t="0" r="r" b="b"/>
              <a:pathLst>
                <a:path w="1227" h="1020">
                  <a:moveTo>
                    <a:pt x="358" y="265"/>
                  </a:moveTo>
                  <a:lnTo>
                    <a:pt x="0" y="750"/>
                  </a:lnTo>
                  <a:lnTo>
                    <a:pt x="61" y="1020"/>
                  </a:lnTo>
                  <a:lnTo>
                    <a:pt x="1227" y="1020"/>
                  </a:lnTo>
                  <a:lnTo>
                    <a:pt x="1227" y="0"/>
                  </a:lnTo>
                  <a:lnTo>
                    <a:pt x="295" y="0"/>
                  </a:lnTo>
                  <a:lnTo>
                    <a:pt x="358" y="265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92400" y="3529080"/>
              <a:ext cx="551160" cy="356040"/>
            </a:xfrm>
            <a:custGeom>
              <a:avLst/>
              <a:gdLst/>
              <a:ahLst/>
              <a:rect l="0" t="0" r="r" b="b"/>
              <a:pathLst>
                <a:path w="1531" h="989">
                  <a:moveTo>
                    <a:pt x="0" y="0"/>
                  </a:moveTo>
                  <a:lnTo>
                    <a:pt x="1531" y="0"/>
                  </a:lnTo>
                  <a:lnTo>
                    <a:pt x="1531" y="989"/>
                  </a:lnTo>
                  <a:lnTo>
                    <a:pt x="0" y="9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808760" y="134604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.8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705800" y="18842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.5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7705800" y="242244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.4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7696080" y="297180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96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808760" y="3495600"/>
              <a:ext cx="992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6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696080" y="4038480"/>
              <a:ext cx="1090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.9 Tim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82520" y="4010040"/>
              <a:ext cx="107316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049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2400" y="565632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2400" y="537696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0"/>
                  </a:moveTo>
                  <a:lnTo>
                    <a:pt x="865" y="490"/>
                  </a:lnTo>
                  <a:lnTo>
                    <a:pt x="0" y="490"/>
                  </a:lnTo>
                  <a:lnTo>
                    <a:pt x="0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5095800"/>
              <a:ext cx="311400" cy="176400"/>
            </a:xfrm>
            <a:custGeom>
              <a:avLst/>
              <a:gdLst/>
              <a:ahLst/>
              <a:rect l="0" t="0" r="r" b="b"/>
              <a:pathLst>
                <a:path w="865" h="490">
                  <a:moveTo>
                    <a:pt x="865" y="490"/>
                  </a:moveTo>
                  <a:lnTo>
                    <a:pt x="865" y="0"/>
                  </a:lnTo>
                  <a:lnTo>
                    <a:pt x="0" y="0"/>
                  </a:lnTo>
                  <a:lnTo>
                    <a:pt x="0" y="490"/>
                  </a:lnTo>
                  <a:lnTo>
                    <a:pt x="865" y="49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610000" y="5014800"/>
              <a:ext cx="17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10000" y="5294160"/>
              <a:ext cx="2335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610000" y="5573880"/>
              <a:ext cx="23050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4382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954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3526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809880" y="4592520"/>
              <a:ext cx="279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1911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6483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51055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238880" y="4572000"/>
              <a:ext cx="4777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46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7320" y="48164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5" y="14"/>
                  </a:moveTo>
                  <a:lnTo>
                    <a:pt x="10" y="14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68960" y="481644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9" y="14"/>
                  </a:moveTo>
                  <a:lnTo>
                    <a:pt x="15" y="14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2760" y="4816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14"/>
                  </a:move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7720" y="129240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852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01720" y="1224000"/>
              <a:ext cx="1413000" cy="3268800"/>
              <a:chOff x="801720" y="1224000"/>
              <a:chExt cx="1413000" cy="3268800"/>
            </a:xfrm>
          </p:grpSpPr>
          <p:sp>
            <p:nvSpPr>
              <p:cNvPr id="137" name=""/>
              <p:cNvSpPr txBox="1"/>
              <p:nvPr/>
            </p:nvSpPr>
            <p:spPr>
              <a:xfrm>
                <a:off x="1006560" y="122400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166760" y="139860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1158840" y="17827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1220760" y="195732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136520" y="2341440"/>
                <a:ext cx="1049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801720" y="2514600"/>
                <a:ext cx="13176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262160" y="2901960"/>
                <a:ext cx="9129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405080" y="3073320"/>
                <a:ext cx="7351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220760" y="34574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1209600" y="363204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038240" y="4191120"/>
                <a:ext cx="10508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467480" y="1300320"/>
              <a:ext cx="0" cy="328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92400" y="2992320"/>
              <a:ext cx="4715280" cy="367200"/>
            </a:xfrm>
            <a:custGeom>
              <a:avLst/>
              <a:gdLst/>
              <a:ahLst/>
              <a:rect l="0" t="0" r="r" b="b"/>
              <a:pathLst>
                <a:path w="13098" h="1020">
                  <a:moveTo>
                    <a:pt x="12728" y="750"/>
                  </a:moveTo>
                  <a:lnTo>
                    <a:pt x="13098" y="265"/>
                  </a:lnTo>
                  <a:lnTo>
                    <a:pt x="13032" y="0"/>
                  </a:lnTo>
                  <a:lnTo>
                    <a:pt x="0" y="0"/>
                  </a:lnTo>
                  <a:lnTo>
                    <a:pt x="0" y="1020"/>
                  </a:lnTo>
                  <a:lnTo>
                    <a:pt x="12794" y="1020"/>
                  </a:lnTo>
                  <a:lnTo>
                    <a:pt x="12728" y="75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2400" y="2455920"/>
              <a:ext cx="3216600" cy="362160"/>
            </a:xfrm>
            <a:custGeom>
              <a:avLst/>
              <a:gdLst/>
              <a:ahLst/>
              <a:rect l="0" t="0" r="r" b="b"/>
              <a:pathLst>
                <a:path w="8935" h="1006">
                  <a:moveTo>
                    <a:pt x="0" y="0"/>
                  </a:moveTo>
                  <a:lnTo>
                    <a:pt x="8935" y="0"/>
                  </a:lnTo>
                  <a:lnTo>
                    <a:pt x="8935" y="1006"/>
                  </a:lnTo>
                  <a:lnTo>
                    <a:pt x="0" y="10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2400" y="4067280"/>
              <a:ext cx="4662720" cy="351360"/>
            </a:xfrm>
            <a:custGeom>
              <a:avLst/>
              <a:gdLst/>
              <a:ahLst/>
              <a:rect l="0" t="0" r="r" b="b"/>
              <a:pathLst>
                <a:path w="12952" h="976">
                  <a:moveTo>
                    <a:pt x="0" y="976"/>
                  </a:moveTo>
                  <a:lnTo>
                    <a:pt x="12952" y="976"/>
                  </a:lnTo>
                  <a:lnTo>
                    <a:pt x="12952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5562720" y="4592520"/>
              <a:ext cx="4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01992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553080" y="4592520"/>
              <a:ext cx="379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143000" y="1600200"/>
            <a:ext cx="74358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that have significant A/R may be unwilling or unable to wait until the A/R are collected to receive thei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set up finance companies to help their customers finance their purch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36680" y="344520"/>
            <a:ext cx="6969240" cy="11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90720" y="1600200"/>
            <a:ext cx="76644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companies borrow the funds they need and use their A/R as collat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can also be raised by selling or transferring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factoring)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their A/R to another entity called a f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oring can be done with or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6680" y="344520"/>
            <a:ext cx="704520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Receiv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47920" y="182880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bears any losses from uncollectibl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’s acceptance of credit cards is an example of 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higher fee than with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out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19320" y="182880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is liable to the purchaser if the receivable is not 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ctor charges a lower fee than without recou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5280" y="457200"/>
            <a:ext cx="71820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66680" y="1828800"/>
            <a:ext cx="74278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er of the receivables has a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liability that can develop into a real liability if a possible subsequent event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533520"/>
            <a:ext cx="702936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actoring With Reco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43000" y="2209680"/>
            <a:ext cx="732780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has recourse against the endorser/seller of the note (contingent liabilit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who sells the note must disclose the 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76520" y="45720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ounting (Selling)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523880"/>
            <a:ext cx="7924680" cy="41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the management issues related to short-term 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the importance of electronic 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38088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81080" y="5335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212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following is related to (a) managing cash needs during seasonal cycles, (b) setting credit policies, or (c) financing receiv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ccounts receivable to a fa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rrowing funds for short-term need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slow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ing thorough checks of new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ustomers’ ability to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7240" indent="-635040">
              <a:lnSpc>
                <a:spcPct val="90000"/>
              </a:lnSpc>
              <a:spcBef>
                <a:spcPts val="479"/>
              </a:spcBef>
              <a:tabLst>
                <a:tab algn="l" pos="45864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vesting cash that is not current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eded for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228600"/>
            <a:ext cx="1675080" cy="1598760"/>
            <a:chOff x="914400" y="228600"/>
            <a:chExt cx="1675080" cy="1598760"/>
          </a:xfrm>
        </p:grpSpPr>
        <p:sp>
          <p:nvSpPr>
            <p:cNvPr id="170" name=""/>
            <p:cNvSpPr/>
            <p:nvPr/>
          </p:nvSpPr>
          <p:spPr>
            <a:xfrm>
              <a:off x="919080" y="1014480"/>
              <a:ext cx="406800" cy="555840"/>
            </a:xfrm>
            <a:custGeom>
              <a:avLst/>
              <a:gdLst/>
              <a:ahLst/>
              <a:rect l="0" t="0" r="r" b="b"/>
              <a:pathLst>
                <a:path w="1130" h="1544">
                  <a:moveTo>
                    <a:pt x="455" y="0"/>
                  </a:moveTo>
                  <a:lnTo>
                    <a:pt x="393" y="70"/>
                  </a:lnTo>
                  <a:lnTo>
                    <a:pt x="393" y="273"/>
                  </a:lnTo>
                  <a:lnTo>
                    <a:pt x="455" y="414"/>
                  </a:lnTo>
                  <a:lnTo>
                    <a:pt x="521" y="485"/>
                  </a:lnTo>
                  <a:lnTo>
                    <a:pt x="419" y="586"/>
                  </a:lnTo>
                  <a:lnTo>
                    <a:pt x="283" y="812"/>
                  </a:lnTo>
                  <a:lnTo>
                    <a:pt x="22" y="1165"/>
                  </a:lnTo>
                  <a:lnTo>
                    <a:pt x="0" y="1253"/>
                  </a:lnTo>
                  <a:lnTo>
                    <a:pt x="22" y="1323"/>
                  </a:lnTo>
                  <a:lnTo>
                    <a:pt x="105" y="1323"/>
                  </a:lnTo>
                  <a:lnTo>
                    <a:pt x="171" y="1240"/>
                  </a:lnTo>
                  <a:lnTo>
                    <a:pt x="283" y="1041"/>
                  </a:lnTo>
                  <a:lnTo>
                    <a:pt x="349" y="957"/>
                  </a:lnTo>
                  <a:lnTo>
                    <a:pt x="393" y="1085"/>
                  </a:lnTo>
                  <a:lnTo>
                    <a:pt x="362" y="1231"/>
                  </a:lnTo>
                  <a:lnTo>
                    <a:pt x="246" y="1434"/>
                  </a:lnTo>
                  <a:lnTo>
                    <a:pt x="283" y="1478"/>
                  </a:lnTo>
                  <a:lnTo>
                    <a:pt x="349" y="1465"/>
                  </a:lnTo>
                  <a:lnTo>
                    <a:pt x="490" y="1359"/>
                  </a:lnTo>
                  <a:lnTo>
                    <a:pt x="605" y="1178"/>
                  </a:lnTo>
                  <a:lnTo>
                    <a:pt x="605" y="1487"/>
                  </a:lnTo>
                  <a:lnTo>
                    <a:pt x="737" y="1544"/>
                  </a:lnTo>
                  <a:lnTo>
                    <a:pt x="812" y="1354"/>
                  </a:lnTo>
                  <a:lnTo>
                    <a:pt x="888" y="1531"/>
                  </a:lnTo>
                  <a:lnTo>
                    <a:pt x="941" y="1478"/>
                  </a:lnTo>
                  <a:lnTo>
                    <a:pt x="967" y="1125"/>
                  </a:lnTo>
                  <a:lnTo>
                    <a:pt x="1130" y="781"/>
                  </a:lnTo>
                  <a:lnTo>
                    <a:pt x="1091" y="586"/>
                  </a:lnTo>
                  <a:lnTo>
                    <a:pt x="980" y="511"/>
                  </a:lnTo>
                  <a:lnTo>
                    <a:pt x="857" y="520"/>
                  </a:lnTo>
                  <a:lnTo>
                    <a:pt x="812" y="366"/>
                  </a:lnTo>
                  <a:lnTo>
                    <a:pt x="693" y="326"/>
                  </a:lnTo>
                  <a:lnTo>
                    <a:pt x="583" y="277"/>
                  </a:lnTo>
                  <a:lnTo>
                    <a:pt x="521" y="3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0360" y="1238400"/>
              <a:ext cx="120960" cy="270360"/>
            </a:xfrm>
            <a:custGeom>
              <a:avLst/>
              <a:gdLst/>
              <a:ahLst/>
              <a:rect l="0" t="0" r="r" b="b"/>
              <a:pathLst>
                <a:path w="336" h="751">
                  <a:moveTo>
                    <a:pt x="167" y="0"/>
                  </a:moveTo>
                  <a:lnTo>
                    <a:pt x="336" y="195"/>
                  </a:lnTo>
                  <a:lnTo>
                    <a:pt x="252" y="623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1" y="314"/>
                  </a:lnTo>
                  <a:lnTo>
                    <a:pt x="167" y="15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39760" y="1085760"/>
              <a:ext cx="300240" cy="243360"/>
            </a:xfrm>
            <a:custGeom>
              <a:avLst/>
              <a:gdLst/>
              <a:ahLst/>
              <a:rect l="0" t="0" r="r" b="b"/>
              <a:pathLst>
                <a:path w="834" h="676">
                  <a:moveTo>
                    <a:pt x="339" y="0"/>
                  </a:moveTo>
                  <a:lnTo>
                    <a:pt x="339" y="105"/>
                  </a:lnTo>
                  <a:lnTo>
                    <a:pt x="374" y="203"/>
                  </a:lnTo>
                  <a:lnTo>
                    <a:pt x="538" y="367"/>
                  </a:lnTo>
                  <a:lnTo>
                    <a:pt x="834" y="464"/>
                  </a:lnTo>
                  <a:lnTo>
                    <a:pt x="790" y="663"/>
                  </a:lnTo>
                  <a:lnTo>
                    <a:pt x="538" y="676"/>
                  </a:lnTo>
                  <a:lnTo>
                    <a:pt x="154" y="526"/>
                  </a:lnTo>
                  <a:lnTo>
                    <a:pt x="0" y="269"/>
                  </a:lnTo>
                  <a:lnTo>
                    <a:pt x="189" y="13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8920" y="8064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105" y="640"/>
                  </a:moveTo>
                  <a:lnTo>
                    <a:pt x="0" y="741"/>
                  </a:lnTo>
                  <a:lnTo>
                    <a:pt x="22" y="988"/>
                  </a:lnTo>
                  <a:lnTo>
                    <a:pt x="185" y="1103"/>
                  </a:lnTo>
                  <a:lnTo>
                    <a:pt x="198" y="1483"/>
                  </a:lnTo>
                  <a:lnTo>
                    <a:pt x="361" y="1483"/>
                  </a:lnTo>
                  <a:lnTo>
                    <a:pt x="348" y="1161"/>
                  </a:lnTo>
                  <a:lnTo>
                    <a:pt x="471" y="1492"/>
                  </a:lnTo>
                  <a:lnTo>
                    <a:pt x="551" y="1505"/>
                  </a:lnTo>
                  <a:lnTo>
                    <a:pt x="613" y="1399"/>
                  </a:lnTo>
                  <a:lnTo>
                    <a:pt x="627" y="1188"/>
                  </a:lnTo>
                  <a:lnTo>
                    <a:pt x="807" y="1386"/>
                  </a:lnTo>
                  <a:lnTo>
                    <a:pt x="874" y="1364"/>
                  </a:lnTo>
                  <a:lnTo>
                    <a:pt x="856" y="1236"/>
                  </a:lnTo>
                  <a:lnTo>
                    <a:pt x="790" y="1046"/>
                  </a:lnTo>
                  <a:lnTo>
                    <a:pt x="724" y="913"/>
                  </a:lnTo>
                  <a:lnTo>
                    <a:pt x="741" y="830"/>
                  </a:lnTo>
                  <a:lnTo>
                    <a:pt x="790" y="852"/>
                  </a:lnTo>
                  <a:lnTo>
                    <a:pt x="953" y="1046"/>
                  </a:lnTo>
                  <a:lnTo>
                    <a:pt x="1125" y="1090"/>
                  </a:lnTo>
                  <a:lnTo>
                    <a:pt x="1165" y="1032"/>
                  </a:lnTo>
                  <a:lnTo>
                    <a:pt x="1138" y="927"/>
                  </a:lnTo>
                  <a:lnTo>
                    <a:pt x="816" y="622"/>
                  </a:lnTo>
                  <a:lnTo>
                    <a:pt x="551" y="530"/>
                  </a:lnTo>
                  <a:lnTo>
                    <a:pt x="524" y="361"/>
                  </a:lnTo>
                  <a:lnTo>
                    <a:pt x="613" y="207"/>
                  </a:lnTo>
                  <a:lnTo>
                    <a:pt x="613" y="52"/>
                  </a:lnTo>
                  <a:lnTo>
                    <a:pt x="537" y="0"/>
                  </a:lnTo>
                  <a:lnTo>
                    <a:pt x="348" y="411"/>
                  </a:lnTo>
                  <a:lnTo>
                    <a:pt x="185" y="468"/>
                  </a:lnTo>
                  <a:lnTo>
                    <a:pt x="145" y="583"/>
                  </a:lnTo>
                  <a:lnTo>
                    <a:pt x="105" y="64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3120" y="339840"/>
              <a:ext cx="456120" cy="689400"/>
            </a:xfrm>
            <a:custGeom>
              <a:avLst/>
              <a:gdLst/>
              <a:ahLst/>
              <a:rect l="0" t="0" r="r" b="b"/>
              <a:pathLst>
                <a:path w="1267" h="1915">
                  <a:moveTo>
                    <a:pt x="322" y="268"/>
                  </a:moveTo>
                  <a:lnTo>
                    <a:pt x="224" y="636"/>
                  </a:lnTo>
                  <a:lnTo>
                    <a:pt x="13" y="706"/>
                  </a:lnTo>
                  <a:lnTo>
                    <a:pt x="66" y="821"/>
                  </a:lnTo>
                  <a:lnTo>
                    <a:pt x="0" y="900"/>
                  </a:lnTo>
                  <a:lnTo>
                    <a:pt x="0" y="1024"/>
                  </a:lnTo>
                  <a:lnTo>
                    <a:pt x="101" y="1151"/>
                  </a:lnTo>
                  <a:lnTo>
                    <a:pt x="198" y="1151"/>
                  </a:lnTo>
                  <a:lnTo>
                    <a:pt x="260" y="1571"/>
                  </a:lnTo>
                  <a:lnTo>
                    <a:pt x="344" y="1757"/>
                  </a:lnTo>
                  <a:lnTo>
                    <a:pt x="605" y="1915"/>
                  </a:lnTo>
                  <a:lnTo>
                    <a:pt x="860" y="1898"/>
                  </a:lnTo>
                  <a:lnTo>
                    <a:pt x="985" y="1571"/>
                  </a:lnTo>
                  <a:lnTo>
                    <a:pt x="1016" y="1090"/>
                  </a:lnTo>
                  <a:lnTo>
                    <a:pt x="1267" y="847"/>
                  </a:lnTo>
                  <a:lnTo>
                    <a:pt x="1258" y="750"/>
                  </a:lnTo>
                  <a:lnTo>
                    <a:pt x="1223" y="706"/>
                  </a:lnTo>
                  <a:lnTo>
                    <a:pt x="1091" y="697"/>
                  </a:lnTo>
                  <a:lnTo>
                    <a:pt x="1130" y="569"/>
                  </a:lnTo>
                  <a:lnTo>
                    <a:pt x="1007" y="481"/>
                  </a:lnTo>
                  <a:lnTo>
                    <a:pt x="940" y="207"/>
                  </a:lnTo>
                  <a:lnTo>
                    <a:pt x="547" y="0"/>
                  </a:lnTo>
                  <a:lnTo>
                    <a:pt x="344" y="194"/>
                  </a:lnTo>
                  <a:lnTo>
                    <a:pt x="322" y="26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06600" y="917640"/>
              <a:ext cx="417960" cy="817920"/>
            </a:xfrm>
            <a:custGeom>
              <a:avLst/>
              <a:gdLst/>
              <a:ahLst/>
              <a:rect l="0" t="0" r="r" b="b"/>
              <a:pathLst>
                <a:path w="1161" h="2272">
                  <a:moveTo>
                    <a:pt x="238" y="114"/>
                  </a:moveTo>
                  <a:lnTo>
                    <a:pt x="402" y="224"/>
                  </a:lnTo>
                  <a:lnTo>
                    <a:pt x="486" y="352"/>
                  </a:lnTo>
                  <a:lnTo>
                    <a:pt x="950" y="0"/>
                  </a:lnTo>
                  <a:lnTo>
                    <a:pt x="1100" y="70"/>
                  </a:lnTo>
                  <a:lnTo>
                    <a:pt x="1161" y="436"/>
                  </a:lnTo>
                  <a:lnTo>
                    <a:pt x="825" y="1478"/>
                  </a:lnTo>
                  <a:lnTo>
                    <a:pt x="932" y="2055"/>
                  </a:lnTo>
                  <a:lnTo>
                    <a:pt x="494" y="2272"/>
                  </a:lnTo>
                  <a:lnTo>
                    <a:pt x="154" y="2152"/>
                  </a:lnTo>
                  <a:lnTo>
                    <a:pt x="154" y="1535"/>
                  </a:lnTo>
                  <a:lnTo>
                    <a:pt x="0" y="943"/>
                  </a:lnTo>
                  <a:lnTo>
                    <a:pt x="154" y="224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5680" y="252360"/>
              <a:ext cx="387720" cy="214560"/>
            </a:xfrm>
            <a:custGeom>
              <a:avLst/>
              <a:gdLst/>
              <a:ahLst/>
              <a:rect l="0" t="0" r="r" b="b"/>
              <a:pathLst>
                <a:path w="1077" h="596">
                  <a:moveTo>
                    <a:pt x="136" y="574"/>
                  </a:moveTo>
                  <a:lnTo>
                    <a:pt x="292" y="411"/>
                  </a:lnTo>
                  <a:lnTo>
                    <a:pt x="393" y="389"/>
                  </a:lnTo>
                  <a:lnTo>
                    <a:pt x="393" y="402"/>
                  </a:lnTo>
                  <a:lnTo>
                    <a:pt x="441" y="389"/>
                  </a:lnTo>
                  <a:lnTo>
                    <a:pt x="508" y="433"/>
                  </a:lnTo>
                  <a:lnTo>
                    <a:pt x="636" y="464"/>
                  </a:lnTo>
                  <a:lnTo>
                    <a:pt x="741" y="596"/>
                  </a:lnTo>
                  <a:lnTo>
                    <a:pt x="905" y="534"/>
                  </a:lnTo>
                  <a:lnTo>
                    <a:pt x="905" y="472"/>
                  </a:lnTo>
                  <a:lnTo>
                    <a:pt x="1077" y="402"/>
                  </a:lnTo>
                  <a:lnTo>
                    <a:pt x="1029" y="291"/>
                  </a:lnTo>
                  <a:lnTo>
                    <a:pt x="866" y="277"/>
                  </a:lnTo>
                  <a:lnTo>
                    <a:pt x="892" y="158"/>
                  </a:lnTo>
                  <a:lnTo>
                    <a:pt x="755" y="171"/>
                  </a:lnTo>
                  <a:lnTo>
                    <a:pt x="733" y="88"/>
                  </a:lnTo>
                  <a:lnTo>
                    <a:pt x="636" y="88"/>
                  </a:lnTo>
                  <a:lnTo>
                    <a:pt x="574" y="132"/>
                  </a:lnTo>
                  <a:lnTo>
                    <a:pt x="508" y="132"/>
                  </a:lnTo>
                  <a:lnTo>
                    <a:pt x="521" y="0"/>
                  </a:lnTo>
                  <a:lnTo>
                    <a:pt x="393" y="61"/>
                  </a:lnTo>
                  <a:lnTo>
                    <a:pt x="211" y="277"/>
                  </a:lnTo>
                  <a:lnTo>
                    <a:pt x="202" y="132"/>
                  </a:lnTo>
                  <a:lnTo>
                    <a:pt x="105" y="202"/>
                  </a:lnTo>
                  <a:lnTo>
                    <a:pt x="83" y="389"/>
                  </a:lnTo>
                  <a:lnTo>
                    <a:pt x="0" y="358"/>
                  </a:lnTo>
                  <a:lnTo>
                    <a:pt x="13" y="472"/>
                  </a:lnTo>
                  <a:lnTo>
                    <a:pt x="136" y="57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1066680"/>
              <a:ext cx="124200" cy="621000"/>
            </a:xfrm>
            <a:custGeom>
              <a:avLst/>
              <a:gdLst/>
              <a:ahLst/>
              <a:rect l="0" t="0" r="r" b="b"/>
              <a:pathLst>
                <a:path w="345" h="1725">
                  <a:moveTo>
                    <a:pt x="181" y="8"/>
                  </a:moveTo>
                  <a:lnTo>
                    <a:pt x="57" y="88"/>
                  </a:lnTo>
                  <a:lnTo>
                    <a:pt x="57" y="233"/>
                  </a:lnTo>
                  <a:lnTo>
                    <a:pt x="142" y="277"/>
                  </a:lnTo>
                  <a:lnTo>
                    <a:pt x="35" y="511"/>
                  </a:lnTo>
                  <a:lnTo>
                    <a:pt x="0" y="806"/>
                  </a:lnTo>
                  <a:lnTo>
                    <a:pt x="89" y="1209"/>
                  </a:lnTo>
                  <a:lnTo>
                    <a:pt x="89" y="1376"/>
                  </a:lnTo>
                  <a:lnTo>
                    <a:pt x="44" y="1509"/>
                  </a:lnTo>
                  <a:lnTo>
                    <a:pt x="217" y="1725"/>
                  </a:lnTo>
                  <a:lnTo>
                    <a:pt x="337" y="1385"/>
                  </a:lnTo>
                  <a:lnTo>
                    <a:pt x="337" y="1165"/>
                  </a:lnTo>
                  <a:lnTo>
                    <a:pt x="247" y="940"/>
                  </a:lnTo>
                  <a:lnTo>
                    <a:pt x="208" y="648"/>
                  </a:lnTo>
                  <a:lnTo>
                    <a:pt x="297" y="366"/>
                  </a:lnTo>
                  <a:lnTo>
                    <a:pt x="262" y="255"/>
                  </a:lnTo>
                  <a:lnTo>
                    <a:pt x="345" y="194"/>
                  </a:lnTo>
                  <a:lnTo>
                    <a:pt x="337" y="114"/>
                  </a:lnTo>
                  <a:lnTo>
                    <a:pt x="230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25760" y="858960"/>
              <a:ext cx="98640" cy="57600"/>
            </a:xfrm>
            <a:custGeom>
              <a:avLst/>
              <a:gdLst/>
              <a:ahLst/>
              <a:rect l="0" t="0" r="r" b="b"/>
              <a:pathLst>
                <a:path w="274" h="160">
                  <a:moveTo>
                    <a:pt x="0" y="53"/>
                  </a:moveTo>
                  <a:lnTo>
                    <a:pt x="110" y="160"/>
                  </a:lnTo>
                  <a:lnTo>
                    <a:pt x="221" y="147"/>
                  </a:lnTo>
                  <a:lnTo>
                    <a:pt x="274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14520" y="571680"/>
              <a:ext cx="125640" cy="122760"/>
            </a:xfrm>
            <a:custGeom>
              <a:avLst/>
              <a:gdLst/>
              <a:ahLst/>
              <a:rect l="0" t="0" r="r" b="b"/>
              <a:pathLst>
                <a:path w="349" h="341">
                  <a:moveTo>
                    <a:pt x="0" y="35"/>
                  </a:moveTo>
                  <a:lnTo>
                    <a:pt x="239" y="341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5200" y="549360"/>
              <a:ext cx="106560" cy="117720"/>
            </a:xfrm>
            <a:custGeom>
              <a:avLst/>
              <a:gdLst/>
              <a:ahLst/>
              <a:rect l="0" t="0" r="r" b="b"/>
              <a:pathLst>
                <a:path w="296" h="327">
                  <a:moveTo>
                    <a:pt x="0" y="44"/>
                  </a:moveTo>
                  <a:lnTo>
                    <a:pt x="203" y="327"/>
                  </a:lnTo>
                  <a:lnTo>
                    <a:pt x="296" y="252"/>
                  </a:lnTo>
                  <a:lnTo>
                    <a:pt x="8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68440" y="390600"/>
              <a:ext cx="438480" cy="303480"/>
            </a:xfrm>
            <a:custGeom>
              <a:avLst/>
              <a:gdLst/>
              <a:ahLst/>
              <a:rect l="0" t="0" r="r" b="b"/>
              <a:pathLst>
                <a:path w="1218" h="843">
                  <a:moveTo>
                    <a:pt x="560" y="499"/>
                  </a:moveTo>
                  <a:lnTo>
                    <a:pt x="449" y="472"/>
                  </a:lnTo>
                  <a:lnTo>
                    <a:pt x="542" y="392"/>
                  </a:lnTo>
                  <a:lnTo>
                    <a:pt x="507" y="357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596"/>
                  </a:lnTo>
                  <a:lnTo>
                    <a:pt x="149" y="838"/>
                  </a:lnTo>
                  <a:lnTo>
                    <a:pt x="180" y="843"/>
                  </a:lnTo>
                  <a:lnTo>
                    <a:pt x="52" y="583"/>
                  </a:lnTo>
                  <a:lnTo>
                    <a:pt x="255" y="499"/>
                  </a:lnTo>
                  <a:lnTo>
                    <a:pt x="383" y="499"/>
                  </a:lnTo>
                  <a:lnTo>
                    <a:pt x="480" y="552"/>
                  </a:lnTo>
                  <a:lnTo>
                    <a:pt x="507" y="627"/>
                  </a:lnTo>
                  <a:lnTo>
                    <a:pt x="507" y="781"/>
                  </a:lnTo>
                  <a:lnTo>
                    <a:pt x="507" y="838"/>
                  </a:lnTo>
                  <a:lnTo>
                    <a:pt x="564" y="759"/>
                  </a:lnTo>
                  <a:lnTo>
                    <a:pt x="564" y="591"/>
                  </a:lnTo>
                  <a:lnTo>
                    <a:pt x="653" y="591"/>
                  </a:lnTo>
                  <a:lnTo>
                    <a:pt x="693" y="781"/>
                  </a:lnTo>
                  <a:lnTo>
                    <a:pt x="741" y="807"/>
                  </a:lnTo>
                  <a:lnTo>
                    <a:pt x="887" y="807"/>
                  </a:lnTo>
                  <a:lnTo>
                    <a:pt x="1041" y="768"/>
                  </a:lnTo>
                  <a:lnTo>
                    <a:pt x="1143" y="693"/>
                  </a:lnTo>
                  <a:lnTo>
                    <a:pt x="1165" y="530"/>
                  </a:lnTo>
                  <a:lnTo>
                    <a:pt x="1218" y="455"/>
                  </a:lnTo>
                  <a:lnTo>
                    <a:pt x="1182" y="401"/>
                  </a:lnTo>
                  <a:lnTo>
                    <a:pt x="1050" y="361"/>
                  </a:lnTo>
                  <a:lnTo>
                    <a:pt x="1028" y="189"/>
                  </a:lnTo>
                  <a:lnTo>
                    <a:pt x="896" y="189"/>
                  </a:lnTo>
                  <a:lnTo>
                    <a:pt x="750" y="0"/>
                  </a:lnTo>
                  <a:lnTo>
                    <a:pt x="882" y="207"/>
                  </a:lnTo>
                  <a:lnTo>
                    <a:pt x="931" y="207"/>
                  </a:lnTo>
                  <a:lnTo>
                    <a:pt x="962" y="357"/>
                  </a:lnTo>
                  <a:lnTo>
                    <a:pt x="785" y="401"/>
                  </a:lnTo>
                  <a:lnTo>
                    <a:pt x="662" y="366"/>
                  </a:lnTo>
                  <a:lnTo>
                    <a:pt x="644" y="401"/>
                  </a:lnTo>
                  <a:lnTo>
                    <a:pt x="706" y="455"/>
                  </a:lnTo>
                  <a:lnTo>
                    <a:pt x="706" y="490"/>
                  </a:lnTo>
                  <a:lnTo>
                    <a:pt x="860" y="433"/>
                  </a:lnTo>
                  <a:lnTo>
                    <a:pt x="975" y="414"/>
                  </a:lnTo>
                  <a:lnTo>
                    <a:pt x="1116" y="441"/>
                  </a:lnTo>
                  <a:lnTo>
                    <a:pt x="1116" y="459"/>
                  </a:lnTo>
                  <a:lnTo>
                    <a:pt x="1050" y="525"/>
                  </a:lnTo>
                  <a:lnTo>
                    <a:pt x="1028" y="591"/>
                  </a:lnTo>
                  <a:lnTo>
                    <a:pt x="1019" y="693"/>
                  </a:lnTo>
                  <a:lnTo>
                    <a:pt x="940" y="741"/>
                  </a:lnTo>
                  <a:lnTo>
                    <a:pt x="825" y="750"/>
                  </a:lnTo>
                  <a:lnTo>
                    <a:pt x="741" y="750"/>
                  </a:lnTo>
                  <a:lnTo>
                    <a:pt x="715" y="724"/>
                  </a:lnTo>
                  <a:lnTo>
                    <a:pt x="693" y="530"/>
                  </a:lnTo>
                  <a:lnTo>
                    <a:pt x="564" y="530"/>
                  </a:lnTo>
                  <a:lnTo>
                    <a:pt x="56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19280" y="739800"/>
              <a:ext cx="140040" cy="62280"/>
            </a:xfrm>
            <a:custGeom>
              <a:avLst/>
              <a:gdLst/>
              <a:ahLst/>
              <a:rect l="0" t="0" r="r" b="b"/>
              <a:pathLst>
                <a:path w="389" h="173">
                  <a:moveTo>
                    <a:pt x="0" y="0"/>
                  </a:moveTo>
                  <a:lnTo>
                    <a:pt x="61" y="80"/>
                  </a:lnTo>
                  <a:lnTo>
                    <a:pt x="234" y="80"/>
                  </a:lnTo>
                  <a:lnTo>
                    <a:pt x="300" y="17"/>
                  </a:lnTo>
                  <a:lnTo>
                    <a:pt x="389" y="17"/>
                  </a:lnTo>
                  <a:lnTo>
                    <a:pt x="375" y="58"/>
                  </a:lnTo>
                  <a:lnTo>
                    <a:pt x="375" y="80"/>
                  </a:lnTo>
                  <a:lnTo>
                    <a:pt x="217" y="173"/>
                  </a:lnTo>
                  <a:lnTo>
                    <a:pt x="132" y="173"/>
                  </a:lnTo>
                  <a:lnTo>
                    <a:pt x="83" y="143"/>
                  </a:lnTo>
                  <a:lnTo>
                    <a:pt x="39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0520" y="638280"/>
              <a:ext cx="214560" cy="329040"/>
            </a:xfrm>
            <a:custGeom>
              <a:avLst/>
              <a:gdLst/>
              <a:ahLst/>
              <a:rect l="0" t="0" r="r" b="b"/>
              <a:pathLst>
                <a:path w="596" h="914">
                  <a:moveTo>
                    <a:pt x="596" y="66"/>
                  </a:moveTo>
                  <a:lnTo>
                    <a:pt x="596" y="79"/>
                  </a:lnTo>
                  <a:lnTo>
                    <a:pt x="494" y="171"/>
                  </a:lnTo>
                  <a:lnTo>
                    <a:pt x="406" y="189"/>
                  </a:lnTo>
                  <a:lnTo>
                    <a:pt x="238" y="167"/>
                  </a:lnTo>
                  <a:lnTo>
                    <a:pt x="268" y="490"/>
                  </a:lnTo>
                  <a:lnTo>
                    <a:pt x="309" y="764"/>
                  </a:lnTo>
                  <a:lnTo>
                    <a:pt x="375" y="914"/>
                  </a:lnTo>
                  <a:lnTo>
                    <a:pt x="309" y="813"/>
                  </a:lnTo>
                  <a:lnTo>
                    <a:pt x="277" y="698"/>
                  </a:lnTo>
                  <a:lnTo>
                    <a:pt x="233" y="384"/>
                  </a:lnTo>
                  <a:lnTo>
                    <a:pt x="180" y="402"/>
                  </a:lnTo>
                  <a:lnTo>
                    <a:pt x="127" y="371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92" y="0"/>
                  </a:lnTo>
                  <a:lnTo>
                    <a:pt x="101" y="17"/>
                  </a:lnTo>
                  <a:lnTo>
                    <a:pt x="48" y="35"/>
                  </a:lnTo>
                  <a:lnTo>
                    <a:pt x="39" y="105"/>
                  </a:lnTo>
                  <a:lnTo>
                    <a:pt x="44" y="194"/>
                  </a:lnTo>
                  <a:lnTo>
                    <a:pt x="123" y="274"/>
                  </a:lnTo>
                  <a:lnTo>
                    <a:pt x="149" y="256"/>
                  </a:lnTo>
                  <a:lnTo>
                    <a:pt x="149" y="88"/>
                  </a:lnTo>
                  <a:lnTo>
                    <a:pt x="224" y="119"/>
                  </a:lnTo>
                  <a:lnTo>
                    <a:pt x="336" y="154"/>
                  </a:lnTo>
                  <a:lnTo>
                    <a:pt x="433" y="145"/>
                  </a:lnTo>
                  <a:lnTo>
                    <a:pt x="530" y="88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1000" y="382680"/>
              <a:ext cx="62280" cy="173520"/>
            </a:xfrm>
            <a:custGeom>
              <a:avLst/>
              <a:gdLst/>
              <a:ahLst/>
              <a:rect l="0" t="0" r="r" b="b"/>
              <a:pathLst>
                <a:path w="173" h="482">
                  <a:moveTo>
                    <a:pt x="93" y="482"/>
                  </a:moveTo>
                  <a:lnTo>
                    <a:pt x="173" y="199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4"/>
                  </a:lnTo>
                  <a:lnTo>
                    <a:pt x="62" y="168"/>
                  </a:lnTo>
                  <a:lnTo>
                    <a:pt x="67" y="305"/>
                  </a:lnTo>
                  <a:lnTo>
                    <a:pt x="106" y="368"/>
                  </a:lnTo>
                  <a:lnTo>
                    <a:pt x="93" y="4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15960" y="228600"/>
              <a:ext cx="479880" cy="230400"/>
            </a:xfrm>
            <a:custGeom>
              <a:avLst/>
              <a:gdLst/>
              <a:ahLst/>
              <a:rect l="0" t="0" r="r" b="b"/>
              <a:pathLst>
                <a:path w="1333" h="640">
                  <a:moveTo>
                    <a:pt x="13" y="437"/>
                  </a:moveTo>
                  <a:lnTo>
                    <a:pt x="132" y="494"/>
                  </a:lnTo>
                  <a:lnTo>
                    <a:pt x="114" y="419"/>
                  </a:lnTo>
                  <a:lnTo>
                    <a:pt x="141" y="273"/>
                  </a:lnTo>
                  <a:lnTo>
                    <a:pt x="211" y="242"/>
                  </a:lnTo>
                  <a:lnTo>
                    <a:pt x="224" y="393"/>
                  </a:lnTo>
                  <a:lnTo>
                    <a:pt x="446" y="119"/>
                  </a:lnTo>
                  <a:lnTo>
                    <a:pt x="499" y="105"/>
                  </a:lnTo>
                  <a:lnTo>
                    <a:pt x="459" y="211"/>
                  </a:lnTo>
                  <a:lnTo>
                    <a:pt x="605" y="268"/>
                  </a:lnTo>
                  <a:lnTo>
                    <a:pt x="706" y="158"/>
                  </a:lnTo>
                  <a:lnTo>
                    <a:pt x="755" y="189"/>
                  </a:lnTo>
                  <a:lnTo>
                    <a:pt x="710" y="277"/>
                  </a:lnTo>
                  <a:lnTo>
                    <a:pt x="777" y="238"/>
                  </a:lnTo>
                  <a:lnTo>
                    <a:pt x="874" y="273"/>
                  </a:lnTo>
                  <a:lnTo>
                    <a:pt x="799" y="349"/>
                  </a:lnTo>
                  <a:lnTo>
                    <a:pt x="1069" y="393"/>
                  </a:lnTo>
                  <a:lnTo>
                    <a:pt x="887" y="450"/>
                  </a:lnTo>
                  <a:lnTo>
                    <a:pt x="1113" y="481"/>
                  </a:lnTo>
                  <a:lnTo>
                    <a:pt x="843" y="543"/>
                  </a:lnTo>
                  <a:lnTo>
                    <a:pt x="904" y="587"/>
                  </a:lnTo>
                  <a:lnTo>
                    <a:pt x="816" y="640"/>
                  </a:lnTo>
                  <a:lnTo>
                    <a:pt x="962" y="640"/>
                  </a:lnTo>
                  <a:lnTo>
                    <a:pt x="949" y="609"/>
                  </a:lnTo>
                  <a:lnTo>
                    <a:pt x="1095" y="636"/>
                  </a:lnTo>
                  <a:lnTo>
                    <a:pt x="1069" y="538"/>
                  </a:lnTo>
                  <a:lnTo>
                    <a:pt x="1201" y="490"/>
                  </a:lnTo>
                  <a:lnTo>
                    <a:pt x="1104" y="446"/>
                  </a:lnTo>
                  <a:lnTo>
                    <a:pt x="1333" y="428"/>
                  </a:lnTo>
                  <a:lnTo>
                    <a:pt x="1139" y="317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2" y="97"/>
                  </a:lnTo>
                  <a:lnTo>
                    <a:pt x="697" y="119"/>
                  </a:lnTo>
                  <a:lnTo>
                    <a:pt x="587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4" y="189"/>
                  </a:lnTo>
                  <a:lnTo>
                    <a:pt x="97" y="273"/>
                  </a:lnTo>
                  <a:lnTo>
                    <a:pt x="83" y="428"/>
                  </a:lnTo>
                  <a:lnTo>
                    <a:pt x="0" y="393"/>
                  </a:lnTo>
                  <a:lnTo>
                    <a:pt x="30" y="538"/>
                  </a:lnTo>
                  <a:lnTo>
                    <a:pt x="13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20720" y="35244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4"/>
                  </a:lnTo>
                  <a:lnTo>
                    <a:pt x="190" y="75"/>
                  </a:lnTo>
                  <a:lnTo>
                    <a:pt x="239" y="142"/>
                  </a:lnTo>
                  <a:lnTo>
                    <a:pt x="376" y="182"/>
                  </a:lnTo>
                  <a:lnTo>
                    <a:pt x="230" y="160"/>
                  </a:lnTo>
                  <a:lnTo>
                    <a:pt x="181" y="106"/>
                  </a:lnTo>
                  <a:lnTo>
                    <a:pt x="115" y="160"/>
                  </a:lnTo>
                  <a:lnTo>
                    <a:pt x="115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956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8" y="101"/>
                  </a:moveTo>
                  <a:lnTo>
                    <a:pt x="265" y="88"/>
                  </a:lnTo>
                  <a:lnTo>
                    <a:pt x="353" y="101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1" y="177"/>
                  </a:lnTo>
                  <a:lnTo>
                    <a:pt x="380" y="136"/>
                  </a:lnTo>
                  <a:lnTo>
                    <a:pt x="314" y="203"/>
                  </a:lnTo>
                  <a:lnTo>
                    <a:pt x="207" y="283"/>
                  </a:lnTo>
                  <a:lnTo>
                    <a:pt x="154" y="283"/>
                  </a:lnTo>
                  <a:lnTo>
                    <a:pt x="88" y="247"/>
                  </a:lnTo>
                  <a:lnTo>
                    <a:pt x="163" y="278"/>
                  </a:lnTo>
                  <a:lnTo>
                    <a:pt x="198" y="278"/>
                  </a:lnTo>
                  <a:lnTo>
                    <a:pt x="265" y="221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1"/>
                  </a:lnTo>
                  <a:lnTo>
                    <a:pt x="70" y="119"/>
                  </a:lnTo>
                  <a:lnTo>
                    <a:pt x="70" y="199"/>
                  </a:lnTo>
                  <a:lnTo>
                    <a:pt x="39" y="155"/>
                  </a:lnTo>
                  <a:lnTo>
                    <a:pt x="0" y="212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8" y="74"/>
                  </a:lnTo>
                  <a:lnTo>
                    <a:pt x="88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9040" y="596880"/>
              <a:ext cx="348120" cy="475200"/>
            </a:xfrm>
            <a:custGeom>
              <a:avLst/>
              <a:gdLst/>
              <a:ahLst/>
              <a:rect l="0" t="0" r="r" b="b"/>
              <a:pathLst>
                <a:path w="967" h="1320">
                  <a:moveTo>
                    <a:pt x="817" y="0"/>
                  </a:moveTo>
                  <a:lnTo>
                    <a:pt x="914" y="0"/>
                  </a:lnTo>
                  <a:lnTo>
                    <a:pt x="967" y="66"/>
                  </a:lnTo>
                  <a:lnTo>
                    <a:pt x="967" y="132"/>
                  </a:lnTo>
                  <a:lnTo>
                    <a:pt x="888" y="344"/>
                  </a:lnTo>
                  <a:lnTo>
                    <a:pt x="813" y="446"/>
                  </a:lnTo>
                  <a:lnTo>
                    <a:pt x="729" y="455"/>
                  </a:lnTo>
                  <a:lnTo>
                    <a:pt x="702" y="455"/>
                  </a:lnTo>
                  <a:lnTo>
                    <a:pt x="702" y="719"/>
                  </a:lnTo>
                  <a:lnTo>
                    <a:pt x="738" y="909"/>
                  </a:lnTo>
                  <a:lnTo>
                    <a:pt x="738" y="1060"/>
                  </a:lnTo>
                  <a:lnTo>
                    <a:pt x="596" y="1219"/>
                  </a:lnTo>
                  <a:lnTo>
                    <a:pt x="393" y="1320"/>
                  </a:lnTo>
                  <a:lnTo>
                    <a:pt x="269" y="1320"/>
                  </a:lnTo>
                  <a:lnTo>
                    <a:pt x="202" y="1294"/>
                  </a:lnTo>
                  <a:lnTo>
                    <a:pt x="114" y="1113"/>
                  </a:lnTo>
                  <a:lnTo>
                    <a:pt x="35" y="1047"/>
                  </a:lnTo>
                  <a:lnTo>
                    <a:pt x="0" y="1003"/>
                  </a:lnTo>
                  <a:lnTo>
                    <a:pt x="105" y="1060"/>
                  </a:lnTo>
                  <a:lnTo>
                    <a:pt x="189" y="1126"/>
                  </a:lnTo>
                  <a:lnTo>
                    <a:pt x="340" y="1135"/>
                  </a:lnTo>
                  <a:lnTo>
                    <a:pt x="481" y="1069"/>
                  </a:lnTo>
                  <a:lnTo>
                    <a:pt x="552" y="1003"/>
                  </a:lnTo>
                  <a:lnTo>
                    <a:pt x="631" y="860"/>
                  </a:lnTo>
                  <a:lnTo>
                    <a:pt x="644" y="702"/>
                  </a:lnTo>
                  <a:lnTo>
                    <a:pt x="675" y="194"/>
                  </a:lnTo>
                  <a:lnTo>
                    <a:pt x="715" y="268"/>
                  </a:lnTo>
                  <a:lnTo>
                    <a:pt x="808" y="176"/>
                  </a:lnTo>
                  <a:lnTo>
                    <a:pt x="910" y="132"/>
                  </a:lnTo>
                  <a:lnTo>
                    <a:pt x="928" y="83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9400" y="1006560"/>
              <a:ext cx="279720" cy="441720"/>
            </a:xfrm>
            <a:custGeom>
              <a:avLst/>
              <a:gdLst/>
              <a:ahLst/>
              <a:rect l="0" t="0" r="r" b="b"/>
              <a:pathLst>
                <a:path w="777" h="1227">
                  <a:moveTo>
                    <a:pt x="97" y="0"/>
                  </a:moveTo>
                  <a:lnTo>
                    <a:pt x="189" y="61"/>
                  </a:lnTo>
                  <a:lnTo>
                    <a:pt x="251" y="314"/>
                  </a:lnTo>
                  <a:lnTo>
                    <a:pt x="450" y="362"/>
                  </a:lnTo>
                  <a:lnTo>
                    <a:pt x="516" y="428"/>
                  </a:lnTo>
                  <a:lnTo>
                    <a:pt x="525" y="521"/>
                  </a:lnTo>
                  <a:lnTo>
                    <a:pt x="622" y="508"/>
                  </a:lnTo>
                  <a:lnTo>
                    <a:pt x="737" y="587"/>
                  </a:lnTo>
                  <a:lnTo>
                    <a:pt x="777" y="688"/>
                  </a:lnTo>
                  <a:lnTo>
                    <a:pt x="777" y="860"/>
                  </a:lnTo>
                  <a:lnTo>
                    <a:pt x="622" y="1126"/>
                  </a:lnTo>
                  <a:lnTo>
                    <a:pt x="565" y="1227"/>
                  </a:lnTo>
                  <a:lnTo>
                    <a:pt x="591" y="1082"/>
                  </a:lnTo>
                  <a:lnTo>
                    <a:pt x="565" y="1038"/>
                  </a:lnTo>
                  <a:lnTo>
                    <a:pt x="472" y="945"/>
                  </a:lnTo>
                  <a:lnTo>
                    <a:pt x="321" y="830"/>
                  </a:lnTo>
                  <a:lnTo>
                    <a:pt x="503" y="896"/>
                  </a:lnTo>
                  <a:lnTo>
                    <a:pt x="609" y="976"/>
                  </a:lnTo>
                  <a:lnTo>
                    <a:pt x="666" y="967"/>
                  </a:lnTo>
                  <a:lnTo>
                    <a:pt x="697" y="913"/>
                  </a:lnTo>
                  <a:lnTo>
                    <a:pt x="737" y="794"/>
                  </a:lnTo>
                  <a:lnTo>
                    <a:pt x="728" y="680"/>
                  </a:lnTo>
                  <a:lnTo>
                    <a:pt x="671" y="609"/>
                  </a:lnTo>
                  <a:lnTo>
                    <a:pt x="574" y="587"/>
                  </a:lnTo>
                  <a:lnTo>
                    <a:pt x="472" y="587"/>
                  </a:lnTo>
                  <a:lnTo>
                    <a:pt x="437" y="406"/>
                  </a:lnTo>
                  <a:lnTo>
                    <a:pt x="260" y="344"/>
                  </a:lnTo>
                  <a:lnTo>
                    <a:pt x="260" y="389"/>
                  </a:lnTo>
                  <a:lnTo>
                    <a:pt x="189" y="264"/>
                  </a:lnTo>
                  <a:lnTo>
                    <a:pt x="145" y="61"/>
                  </a:lnTo>
                  <a:lnTo>
                    <a:pt x="74" y="30"/>
                  </a:lnTo>
                  <a:lnTo>
                    <a:pt x="39" y="97"/>
                  </a:lnTo>
                  <a:lnTo>
                    <a:pt x="39" y="238"/>
                  </a:lnTo>
                  <a:lnTo>
                    <a:pt x="66" y="389"/>
                  </a:lnTo>
                  <a:lnTo>
                    <a:pt x="158" y="521"/>
                  </a:lnTo>
                  <a:lnTo>
                    <a:pt x="57" y="441"/>
                  </a:lnTo>
                  <a:lnTo>
                    <a:pt x="8" y="314"/>
                  </a:lnTo>
                  <a:lnTo>
                    <a:pt x="0" y="136"/>
                  </a:lnTo>
                  <a:lnTo>
                    <a:pt x="39" y="3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12" y="66"/>
                  </a:lnTo>
                  <a:lnTo>
                    <a:pt x="283" y="300"/>
                  </a:lnTo>
                  <a:lnTo>
                    <a:pt x="159" y="459"/>
                  </a:lnTo>
                  <a:lnTo>
                    <a:pt x="13" y="640"/>
                  </a:lnTo>
                  <a:lnTo>
                    <a:pt x="0" y="738"/>
                  </a:lnTo>
                  <a:lnTo>
                    <a:pt x="30" y="826"/>
                  </a:lnTo>
                  <a:lnTo>
                    <a:pt x="101" y="826"/>
                  </a:lnTo>
                  <a:lnTo>
                    <a:pt x="199" y="738"/>
                  </a:lnTo>
                  <a:lnTo>
                    <a:pt x="274" y="561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7" y="728"/>
                  </a:lnTo>
                  <a:lnTo>
                    <a:pt x="252" y="901"/>
                  </a:lnTo>
                  <a:lnTo>
                    <a:pt x="252" y="963"/>
                  </a:lnTo>
                  <a:lnTo>
                    <a:pt x="367" y="980"/>
                  </a:lnTo>
                  <a:lnTo>
                    <a:pt x="283" y="928"/>
                  </a:lnTo>
                  <a:lnTo>
                    <a:pt x="296" y="901"/>
                  </a:lnTo>
                  <a:lnTo>
                    <a:pt x="371" y="778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5" y="486"/>
                  </a:lnTo>
                  <a:lnTo>
                    <a:pt x="123" y="786"/>
                  </a:lnTo>
                  <a:lnTo>
                    <a:pt x="74" y="795"/>
                  </a:lnTo>
                  <a:lnTo>
                    <a:pt x="30" y="756"/>
                  </a:lnTo>
                  <a:lnTo>
                    <a:pt x="30" y="666"/>
                  </a:lnTo>
                  <a:lnTo>
                    <a:pt x="101" y="552"/>
                  </a:lnTo>
                  <a:lnTo>
                    <a:pt x="305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2640" y="1400040"/>
              <a:ext cx="113040" cy="167040"/>
            </a:xfrm>
            <a:custGeom>
              <a:avLst/>
              <a:gdLst/>
              <a:ahLst/>
              <a:rect l="0" t="0" r="r" b="b"/>
              <a:pathLst>
                <a:path w="314" h="464">
                  <a:moveTo>
                    <a:pt x="0" y="406"/>
                  </a:moveTo>
                  <a:lnTo>
                    <a:pt x="105" y="292"/>
                  </a:lnTo>
                  <a:lnTo>
                    <a:pt x="123" y="176"/>
                  </a:lnTo>
                  <a:lnTo>
                    <a:pt x="247" y="0"/>
                  </a:lnTo>
                  <a:lnTo>
                    <a:pt x="265" y="114"/>
                  </a:lnTo>
                  <a:lnTo>
                    <a:pt x="256" y="415"/>
                  </a:lnTo>
                  <a:lnTo>
                    <a:pt x="314" y="464"/>
                  </a:lnTo>
                  <a:lnTo>
                    <a:pt x="225" y="433"/>
                  </a:lnTo>
                  <a:lnTo>
                    <a:pt x="172" y="256"/>
                  </a:lnTo>
                  <a:lnTo>
                    <a:pt x="105" y="344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320" y="1406520"/>
              <a:ext cx="76680" cy="154440"/>
            </a:xfrm>
            <a:custGeom>
              <a:avLst/>
              <a:gdLst/>
              <a:ahLst/>
              <a:rect l="0" t="0" r="r" b="b"/>
              <a:pathLst>
                <a:path w="213" h="429">
                  <a:moveTo>
                    <a:pt x="0" y="328"/>
                  </a:moveTo>
                  <a:lnTo>
                    <a:pt x="8" y="164"/>
                  </a:lnTo>
                  <a:lnTo>
                    <a:pt x="52" y="70"/>
                  </a:lnTo>
                  <a:lnTo>
                    <a:pt x="102" y="412"/>
                  </a:lnTo>
                  <a:lnTo>
                    <a:pt x="165" y="412"/>
                  </a:lnTo>
                  <a:lnTo>
                    <a:pt x="200" y="52"/>
                  </a:lnTo>
                  <a:lnTo>
                    <a:pt x="213" y="0"/>
                  </a:lnTo>
                  <a:lnTo>
                    <a:pt x="200" y="278"/>
                  </a:lnTo>
                  <a:lnTo>
                    <a:pt x="165" y="429"/>
                  </a:lnTo>
                  <a:lnTo>
                    <a:pt x="84" y="429"/>
                  </a:lnTo>
                  <a:lnTo>
                    <a:pt x="52" y="137"/>
                  </a:lnTo>
                  <a:lnTo>
                    <a:pt x="30" y="177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57480" y="814320"/>
              <a:ext cx="184680" cy="403560"/>
            </a:xfrm>
            <a:custGeom>
              <a:avLst/>
              <a:gdLst/>
              <a:ahLst/>
              <a:rect l="0" t="0" r="r" b="b"/>
              <a:pathLst>
                <a:path w="513" h="1121">
                  <a:moveTo>
                    <a:pt x="137" y="605"/>
                  </a:moveTo>
                  <a:lnTo>
                    <a:pt x="172" y="436"/>
                  </a:lnTo>
                  <a:lnTo>
                    <a:pt x="344" y="388"/>
                  </a:lnTo>
                  <a:lnTo>
                    <a:pt x="513" y="0"/>
                  </a:lnTo>
                  <a:lnTo>
                    <a:pt x="513" y="110"/>
                  </a:lnTo>
                  <a:lnTo>
                    <a:pt x="371" y="405"/>
                  </a:lnTo>
                  <a:lnTo>
                    <a:pt x="190" y="467"/>
                  </a:lnTo>
                  <a:lnTo>
                    <a:pt x="159" y="605"/>
                  </a:lnTo>
                  <a:lnTo>
                    <a:pt x="230" y="605"/>
                  </a:lnTo>
                  <a:lnTo>
                    <a:pt x="61" y="671"/>
                  </a:lnTo>
                  <a:lnTo>
                    <a:pt x="30" y="785"/>
                  </a:lnTo>
                  <a:lnTo>
                    <a:pt x="39" y="940"/>
                  </a:lnTo>
                  <a:lnTo>
                    <a:pt x="208" y="1121"/>
                  </a:lnTo>
                  <a:lnTo>
                    <a:pt x="30" y="962"/>
                  </a:lnTo>
                  <a:lnTo>
                    <a:pt x="0" y="834"/>
                  </a:lnTo>
                  <a:lnTo>
                    <a:pt x="13" y="710"/>
                  </a:lnTo>
                  <a:lnTo>
                    <a:pt x="79" y="605"/>
                  </a:lnTo>
                  <a:lnTo>
                    <a:pt x="137" y="6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2760" y="814320"/>
              <a:ext cx="306720" cy="389160"/>
            </a:xfrm>
            <a:custGeom>
              <a:avLst/>
              <a:gdLst/>
              <a:ahLst/>
              <a:rect l="0" t="0" r="r" b="b"/>
              <a:pathLst>
                <a:path w="852" h="1081">
                  <a:moveTo>
                    <a:pt x="238" y="0"/>
                  </a:moveTo>
                  <a:lnTo>
                    <a:pt x="286" y="30"/>
                  </a:lnTo>
                  <a:lnTo>
                    <a:pt x="299" y="123"/>
                  </a:lnTo>
                  <a:lnTo>
                    <a:pt x="299" y="211"/>
                  </a:lnTo>
                  <a:lnTo>
                    <a:pt x="207" y="370"/>
                  </a:lnTo>
                  <a:lnTo>
                    <a:pt x="229" y="480"/>
                  </a:lnTo>
                  <a:lnTo>
                    <a:pt x="516" y="605"/>
                  </a:lnTo>
                  <a:lnTo>
                    <a:pt x="847" y="953"/>
                  </a:lnTo>
                  <a:lnTo>
                    <a:pt x="852" y="1046"/>
                  </a:lnTo>
                  <a:lnTo>
                    <a:pt x="834" y="1081"/>
                  </a:lnTo>
                  <a:lnTo>
                    <a:pt x="710" y="1081"/>
                  </a:lnTo>
                  <a:lnTo>
                    <a:pt x="600" y="1015"/>
                  </a:lnTo>
                  <a:lnTo>
                    <a:pt x="508" y="900"/>
                  </a:lnTo>
                  <a:lnTo>
                    <a:pt x="455" y="847"/>
                  </a:lnTo>
                  <a:lnTo>
                    <a:pt x="392" y="825"/>
                  </a:lnTo>
                  <a:lnTo>
                    <a:pt x="468" y="825"/>
                  </a:lnTo>
                  <a:lnTo>
                    <a:pt x="609" y="1006"/>
                  </a:lnTo>
                  <a:lnTo>
                    <a:pt x="790" y="1063"/>
                  </a:lnTo>
                  <a:lnTo>
                    <a:pt x="821" y="1006"/>
                  </a:lnTo>
                  <a:lnTo>
                    <a:pt x="807" y="922"/>
                  </a:lnTo>
                  <a:lnTo>
                    <a:pt x="494" y="684"/>
                  </a:lnTo>
                  <a:lnTo>
                    <a:pt x="446" y="605"/>
                  </a:lnTo>
                  <a:lnTo>
                    <a:pt x="207" y="552"/>
                  </a:lnTo>
                  <a:lnTo>
                    <a:pt x="167" y="605"/>
                  </a:lnTo>
                  <a:lnTo>
                    <a:pt x="0" y="710"/>
                  </a:lnTo>
                  <a:lnTo>
                    <a:pt x="154" y="591"/>
                  </a:lnTo>
                  <a:lnTo>
                    <a:pt x="167" y="515"/>
                  </a:lnTo>
                  <a:lnTo>
                    <a:pt x="167" y="339"/>
                  </a:lnTo>
                  <a:lnTo>
                    <a:pt x="273" y="211"/>
                  </a:lnTo>
                  <a:lnTo>
                    <a:pt x="273" y="3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25520" y="1120680"/>
              <a:ext cx="262440" cy="233640"/>
            </a:xfrm>
            <a:custGeom>
              <a:avLst/>
              <a:gdLst/>
              <a:ahLst/>
              <a:rect l="0" t="0" r="r" b="b"/>
              <a:pathLst>
                <a:path w="729" h="649">
                  <a:moveTo>
                    <a:pt x="548" y="0"/>
                  </a:moveTo>
                  <a:lnTo>
                    <a:pt x="530" y="61"/>
                  </a:lnTo>
                  <a:lnTo>
                    <a:pt x="637" y="268"/>
                  </a:lnTo>
                  <a:lnTo>
                    <a:pt x="689" y="490"/>
                  </a:lnTo>
                  <a:lnTo>
                    <a:pt x="628" y="490"/>
                  </a:lnTo>
                  <a:lnTo>
                    <a:pt x="521" y="393"/>
                  </a:lnTo>
                  <a:lnTo>
                    <a:pt x="419" y="189"/>
                  </a:lnTo>
                  <a:lnTo>
                    <a:pt x="344" y="158"/>
                  </a:lnTo>
                  <a:lnTo>
                    <a:pt x="358" y="268"/>
                  </a:lnTo>
                  <a:lnTo>
                    <a:pt x="428" y="353"/>
                  </a:lnTo>
                  <a:lnTo>
                    <a:pt x="428" y="499"/>
                  </a:lnTo>
                  <a:lnTo>
                    <a:pt x="375" y="622"/>
                  </a:lnTo>
                  <a:lnTo>
                    <a:pt x="305" y="574"/>
                  </a:lnTo>
                  <a:lnTo>
                    <a:pt x="225" y="393"/>
                  </a:lnTo>
                  <a:lnTo>
                    <a:pt x="203" y="268"/>
                  </a:lnTo>
                  <a:lnTo>
                    <a:pt x="158" y="242"/>
                  </a:lnTo>
                  <a:lnTo>
                    <a:pt x="145" y="547"/>
                  </a:lnTo>
                  <a:lnTo>
                    <a:pt x="79" y="591"/>
                  </a:lnTo>
                  <a:lnTo>
                    <a:pt x="17" y="547"/>
                  </a:lnTo>
                  <a:lnTo>
                    <a:pt x="8" y="282"/>
                  </a:lnTo>
                  <a:lnTo>
                    <a:pt x="0" y="547"/>
                  </a:lnTo>
                  <a:lnTo>
                    <a:pt x="48" y="640"/>
                  </a:lnTo>
                  <a:lnTo>
                    <a:pt x="145" y="640"/>
                  </a:lnTo>
                  <a:lnTo>
                    <a:pt x="176" y="565"/>
                  </a:lnTo>
                  <a:lnTo>
                    <a:pt x="195" y="317"/>
                  </a:lnTo>
                  <a:lnTo>
                    <a:pt x="212" y="411"/>
                  </a:lnTo>
                  <a:lnTo>
                    <a:pt x="292" y="631"/>
                  </a:lnTo>
                  <a:lnTo>
                    <a:pt x="384" y="649"/>
                  </a:lnTo>
                  <a:lnTo>
                    <a:pt x="450" y="565"/>
                  </a:lnTo>
                  <a:lnTo>
                    <a:pt x="450" y="362"/>
                  </a:lnTo>
                  <a:lnTo>
                    <a:pt x="628" y="534"/>
                  </a:lnTo>
                  <a:lnTo>
                    <a:pt x="720" y="534"/>
                  </a:lnTo>
                  <a:lnTo>
                    <a:pt x="729" y="411"/>
                  </a:lnTo>
                  <a:lnTo>
                    <a:pt x="667" y="207"/>
                  </a:lnTo>
                  <a:lnTo>
                    <a:pt x="548" y="39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1440" y="880920"/>
              <a:ext cx="1161000" cy="946440"/>
            </a:xfrm>
            <a:custGeom>
              <a:avLst/>
              <a:gdLst/>
              <a:ahLst/>
              <a:rect l="0" t="0" r="r" b="b"/>
              <a:pathLst>
                <a:path w="3225" h="2629">
                  <a:moveTo>
                    <a:pt x="1165" y="220"/>
                  </a:moveTo>
                  <a:lnTo>
                    <a:pt x="1103" y="224"/>
                  </a:lnTo>
                  <a:lnTo>
                    <a:pt x="1010" y="361"/>
                  </a:lnTo>
                  <a:lnTo>
                    <a:pt x="979" y="268"/>
                  </a:lnTo>
                  <a:lnTo>
                    <a:pt x="878" y="211"/>
                  </a:lnTo>
                  <a:lnTo>
                    <a:pt x="798" y="255"/>
                  </a:lnTo>
                  <a:lnTo>
                    <a:pt x="767" y="427"/>
                  </a:lnTo>
                  <a:lnTo>
                    <a:pt x="476" y="635"/>
                  </a:lnTo>
                  <a:lnTo>
                    <a:pt x="498" y="727"/>
                  </a:lnTo>
                  <a:lnTo>
                    <a:pt x="427" y="806"/>
                  </a:lnTo>
                  <a:lnTo>
                    <a:pt x="427" y="868"/>
                  </a:lnTo>
                  <a:lnTo>
                    <a:pt x="507" y="1062"/>
                  </a:lnTo>
                  <a:lnTo>
                    <a:pt x="520" y="1315"/>
                  </a:lnTo>
                  <a:lnTo>
                    <a:pt x="458" y="1535"/>
                  </a:lnTo>
                  <a:lnTo>
                    <a:pt x="251" y="1681"/>
                  </a:lnTo>
                  <a:lnTo>
                    <a:pt x="229" y="1866"/>
                  </a:lnTo>
                  <a:lnTo>
                    <a:pt x="158" y="1866"/>
                  </a:lnTo>
                  <a:lnTo>
                    <a:pt x="132" y="1711"/>
                  </a:lnTo>
                  <a:lnTo>
                    <a:pt x="61" y="1711"/>
                  </a:lnTo>
                  <a:lnTo>
                    <a:pt x="39" y="1875"/>
                  </a:lnTo>
                  <a:lnTo>
                    <a:pt x="0" y="1919"/>
                  </a:lnTo>
                  <a:lnTo>
                    <a:pt x="141" y="2148"/>
                  </a:lnTo>
                  <a:lnTo>
                    <a:pt x="242" y="2157"/>
                  </a:lnTo>
                  <a:lnTo>
                    <a:pt x="427" y="2324"/>
                  </a:lnTo>
                  <a:lnTo>
                    <a:pt x="590" y="2346"/>
                  </a:lnTo>
                  <a:lnTo>
                    <a:pt x="683" y="2258"/>
                  </a:lnTo>
                  <a:lnTo>
                    <a:pt x="909" y="1936"/>
                  </a:lnTo>
                  <a:lnTo>
                    <a:pt x="927" y="2369"/>
                  </a:lnTo>
                  <a:lnTo>
                    <a:pt x="909" y="2629"/>
                  </a:lnTo>
                  <a:lnTo>
                    <a:pt x="2775" y="2629"/>
                  </a:lnTo>
                  <a:lnTo>
                    <a:pt x="2634" y="2346"/>
                  </a:lnTo>
                  <a:lnTo>
                    <a:pt x="2572" y="2100"/>
                  </a:lnTo>
                  <a:lnTo>
                    <a:pt x="2550" y="1734"/>
                  </a:lnTo>
                  <a:lnTo>
                    <a:pt x="2661" y="1817"/>
                  </a:lnTo>
                  <a:lnTo>
                    <a:pt x="2775" y="1817"/>
                  </a:lnTo>
                  <a:lnTo>
                    <a:pt x="2925" y="1725"/>
                  </a:lnTo>
                  <a:lnTo>
                    <a:pt x="3027" y="1711"/>
                  </a:lnTo>
                  <a:lnTo>
                    <a:pt x="3088" y="1614"/>
                  </a:lnTo>
                  <a:lnTo>
                    <a:pt x="3132" y="1359"/>
                  </a:lnTo>
                  <a:lnTo>
                    <a:pt x="3225" y="1274"/>
                  </a:lnTo>
                  <a:lnTo>
                    <a:pt x="3181" y="1195"/>
                  </a:lnTo>
                  <a:lnTo>
                    <a:pt x="3110" y="1195"/>
                  </a:lnTo>
                  <a:lnTo>
                    <a:pt x="3053" y="1239"/>
                  </a:lnTo>
                  <a:lnTo>
                    <a:pt x="2996" y="1252"/>
                  </a:lnTo>
                  <a:lnTo>
                    <a:pt x="2934" y="1195"/>
                  </a:lnTo>
                  <a:lnTo>
                    <a:pt x="2855" y="1186"/>
                  </a:lnTo>
                  <a:lnTo>
                    <a:pt x="2709" y="1093"/>
                  </a:lnTo>
                  <a:lnTo>
                    <a:pt x="2612" y="992"/>
                  </a:lnTo>
                  <a:lnTo>
                    <a:pt x="2599" y="868"/>
                  </a:lnTo>
                  <a:lnTo>
                    <a:pt x="2612" y="754"/>
                  </a:lnTo>
                  <a:lnTo>
                    <a:pt x="2678" y="657"/>
                  </a:lnTo>
                  <a:lnTo>
                    <a:pt x="2753" y="568"/>
                  </a:lnTo>
                  <a:lnTo>
                    <a:pt x="2749" y="427"/>
                  </a:lnTo>
                  <a:lnTo>
                    <a:pt x="2749" y="308"/>
                  </a:lnTo>
                  <a:lnTo>
                    <a:pt x="2709" y="224"/>
                  </a:lnTo>
                  <a:lnTo>
                    <a:pt x="2599" y="198"/>
                  </a:lnTo>
                  <a:lnTo>
                    <a:pt x="2559" y="180"/>
                  </a:lnTo>
                  <a:lnTo>
                    <a:pt x="2489" y="52"/>
                  </a:lnTo>
                  <a:lnTo>
                    <a:pt x="2422" y="8"/>
                  </a:lnTo>
                  <a:lnTo>
                    <a:pt x="2351" y="0"/>
                  </a:lnTo>
                  <a:lnTo>
                    <a:pt x="2298" y="17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9"/>
                  </a:lnTo>
                  <a:lnTo>
                    <a:pt x="2011" y="149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51"/>
                  </a:lnTo>
                  <a:lnTo>
                    <a:pt x="1936" y="679"/>
                  </a:lnTo>
                  <a:lnTo>
                    <a:pt x="1831" y="873"/>
                  </a:lnTo>
                  <a:lnTo>
                    <a:pt x="1751" y="1111"/>
                  </a:lnTo>
                  <a:lnTo>
                    <a:pt x="1747" y="1252"/>
                  </a:lnTo>
                  <a:lnTo>
                    <a:pt x="1707" y="1381"/>
                  </a:lnTo>
                  <a:lnTo>
                    <a:pt x="1659" y="1495"/>
                  </a:lnTo>
                  <a:lnTo>
                    <a:pt x="1632" y="1689"/>
                  </a:lnTo>
                  <a:lnTo>
                    <a:pt x="1650" y="1848"/>
                  </a:lnTo>
                  <a:lnTo>
                    <a:pt x="1707" y="2033"/>
                  </a:lnTo>
                  <a:lnTo>
                    <a:pt x="1747" y="2100"/>
                  </a:lnTo>
                  <a:lnTo>
                    <a:pt x="1632" y="2170"/>
                  </a:lnTo>
                  <a:lnTo>
                    <a:pt x="1504" y="2205"/>
                  </a:lnTo>
                  <a:lnTo>
                    <a:pt x="1363" y="2232"/>
                  </a:lnTo>
                  <a:lnTo>
                    <a:pt x="1275" y="2232"/>
                  </a:lnTo>
                  <a:lnTo>
                    <a:pt x="1213" y="2197"/>
                  </a:lnTo>
                  <a:lnTo>
                    <a:pt x="1213" y="2047"/>
                  </a:lnTo>
                  <a:lnTo>
                    <a:pt x="1213" y="1808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2"/>
                  </a:lnTo>
                  <a:lnTo>
                    <a:pt x="1085" y="978"/>
                  </a:lnTo>
                  <a:lnTo>
                    <a:pt x="1121" y="771"/>
                  </a:lnTo>
                  <a:lnTo>
                    <a:pt x="1182" y="617"/>
                  </a:lnTo>
                  <a:lnTo>
                    <a:pt x="1187" y="524"/>
                  </a:lnTo>
                  <a:lnTo>
                    <a:pt x="1165" y="374"/>
                  </a:lnTo>
                  <a:lnTo>
                    <a:pt x="1165" y="268"/>
                  </a:lnTo>
                  <a:lnTo>
                    <a:pt x="1182" y="224"/>
                  </a:lnTo>
                  <a:lnTo>
                    <a:pt x="1165" y="2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3960" y="1069920"/>
              <a:ext cx="144720" cy="616320"/>
            </a:xfrm>
            <a:custGeom>
              <a:avLst/>
              <a:gdLst/>
              <a:ahLst/>
              <a:rect l="0" t="0" r="r" b="b"/>
              <a:pathLst>
                <a:path w="402" h="1712">
                  <a:moveTo>
                    <a:pt x="158" y="17"/>
                  </a:moveTo>
                  <a:lnTo>
                    <a:pt x="52" y="74"/>
                  </a:lnTo>
                  <a:lnTo>
                    <a:pt x="61" y="242"/>
                  </a:lnTo>
                  <a:lnTo>
                    <a:pt x="141" y="286"/>
                  </a:lnTo>
                  <a:lnTo>
                    <a:pt x="44" y="468"/>
                  </a:lnTo>
                  <a:lnTo>
                    <a:pt x="0" y="662"/>
                  </a:lnTo>
                  <a:lnTo>
                    <a:pt x="0" y="852"/>
                  </a:lnTo>
                  <a:lnTo>
                    <a:pt x="44" y="1024"/>
                  </a:lnTo>
                  <a:lnTo>
                    <a:pt x="88" y="1240"/>
                  </a:lnTo>
                  <a:lnTo>
                    <a:pt x="88" y="1355"/>
                  </a:lnTo>
                  <a:lnTo>
                    <a:pt x="44" y="1505"/>
                  </a:lnTo>
                  <a:lnTo>
                    <a:pt x="208" y="1712"/>
                  </a:lnTo>
                  <a:lnTo>
                    <a:pt x="278" y="1682"/>
                  </a:lnTo>
                  <a:lnTo>
                    <a:pt x="318" y="1532"/>
                  </a:lnTo>
                  <a:lnTo>
                    <a:pt x="397" y="1346"/>
                  </a:lnTo>
                  <a:lnTo>
                    <a:pt x="402" y="1248"/>
                  </a:lnTo>
                  <a:lnTo>
                    <a:pt x="344" y="1059"/>
                  </a:lnTo>
                  <a:lnTo>
                    <a:pt x="265" y="878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18" y="374"/>
                  </a:lnTo>
                  <a:lnTo>
                    <a:pt x="318" y="321"/>
                  </a:lnTo>
                  <a:lnTo>
                    <a:pt x="292" y="264"/>
                  </a:lnTo>
                  <a:lnTo>
                    <a:pt x="367" y="194"/>
                  </a:lnTo>
                  <a:lnTo>
                    <a:pt x="367" y="127"/>
                  </a:lnTo>
                  <a:lnTo>
                    <a:pt x="265" y="0"/>
                  </a:lnTo>
                  <a:lnTo>
                    <a:pt x="353" y="127"/>
                  </a:lnTo>
                  <a:lnTo>
                    <a:pt x="353" y="185"/>
                  </a:lnTo>
                  <a:lnTo>
                    <a:pt x="274" y="242"/>
                  </a:lnTo>
                  <a:lnTo>
                    <a:pt x="300" y="321"/>
                  </a:lnTo>
                  <a:lnTo>
                    <a:pt x="292" y="374"/>
                  </a:lnTo>
                  <a:lnTo>
                    <a:pt x="217" y="534"/>
                  </a:lnTo>
                  <a:lnTo>
                    <a:pt x="208" y="688"/>
                  </a:lnTo>
                  <a:lnTo>
                    <a:pt x="225" y="830"/>
                  </a:lnTo>
                  <a:lnTo>
                    <a:pt x="278" y="1032"/>
                  </a:lnTo>
                  <a:lnTo>
                    <a:pt x="344" y="1200"/>
                  </a:lnTo>
                  <a:lnTo>
                    <a:pt x="344" y="1338"/>
                  </a:lnTo>
                  <a:lnTo>
                    <a:pt x="300" y="1505"/>
                  </a:lnTo>
                  <a:lnTo>
                    <a:pt x="225" y="1682"/>
                  </a:lnTo>
                  <a:lnTo>
                    <a:pt x="132" y="1576"/>
                  </a:lnTo>
                  <a:lnTo>
                    <a:pt x="97" y="1505"/>
                  </a:lnTo>
                  <a:lnTo>
                    <a:pt x="105" y="1338"/>
                  </a:lnTo>
                  <a:lnTo>
                    <a:pt x="97" y="1165"/>
                  </a:lnTo>
                  <a:lnTo>
                    <a:pt x="44" y="935"/>
                  </a:lnTo>
                  <a:lnTo>
                    <a:pt x="30" y="790"/>
                  </a:lnTo>
                  <a:lnTo>
                    <a:pt x="44" y="613"/>
                  </a:lnTo>
                  <a:lnTo>
                    <a:pt x="88" y="441"/>
                  </a:lnTo>
                  <a:lnTo>
                    <a:pt x="167" y="273"/>
                  </a:lnTo>
                  <a:lnTo>
                    <a:pt x="97" y="202"/>
                  </a:lnTo>
                  <a:lnTo>
                    <a:pt x="88" y="88"/>
                  </a:lnTo>
                  <a:lnTo>
                    <a:pt x="158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52440"/>
              <a:ext cx="230400" cy="298800"/>
            </a:xfrm>
            <a:custGeom>
              <a:avLst/>
              <a:gdLst/>
              <a:ahLst/>
              <a:rect l="0" t="0" r="r" b="b"/>
              <a:pathLst>
                <a:path w="640" h="830">
                  <a:moveTo>
                    <a:pt x="105" y="211"/>
                  </a:moveTo>
                  <a:lnTo>
                    <a:pt x="198" y="194"/>
                  </a:lnTo>
                  <a:lnTo>
                    <a:pt x="291" y="198"/>
                  </a:lnTo>
                  <a:lnTo>
                    <a:pt x="367" y="238"/>
                  </a:lnTo>
                  <a:lnTo>
                    <a:pt x="411" y="277"/>
                  </a:lnTo>
                  <a:lnTo>
                    <a:pt x="428" y="317"/>
                  </a:lnTo>
                  <a:lnTo>
                    <a:pt x="428" y="366"/>
                  </a:lnTo>
                  <a:lnTo>
                    <a:pt x="406" y="392"/>
                  </a:lnTo>
                  <a:lnTo>
                    <a:pt x="362" y="410"/>
                  </a:lnTo>
                  <a:lnTo>
                    <a:pt x="317" y="410"/>
                  </a:lnTo>
                  <a:lnTo>
                    <a:pt x="260" y="396"/>
                  </a:lnTo>
                  <a:lnTo>
                    <a:pt x="202" y="370"/>
                  </a:lnTo>
                  <a:lnTo>
                    <a:pt x="158" y="339"/>
                  </a:lnTo>
                  <a:lnTo>
                    <a:pt x="141" y="446"/>
                  </a:lnTo>
                  <a:lnTo>
                    <a:pt x="105" y="525"/>
                  </a:lnTo>
                  <a:lnTo>
                    <a:pt x="0" y="688"/>
                  </a:lnTo>
                  <a:lnTo>
                    <a:pt x="154" y="830"/>
                  </a:lnTo>
                  <a:lnTo>
                    <a:pt x="268" y="609"/>
                  </a:lnTo>
                  <a:lnTo>
                    <a:pt x="406" y="627"/>
                  </a:lnTo>
                  <a:lnTo>
                    <a:pt x="490" y="609"/>
                  </a:lnTo>
                  <a:lnTo>
                    <a:pt x="565" y="561"/>
                  </a:lnTo>
                  <a:lnTo>
                    <a:pt x="613" y="490"/>
                  </a:lnTo>
                  <a:lnTo>
                    <a:pt x="640" y="401"/>
                  </a:lnTo>
                  <a:lnTo>
                    <a:pt x="640" y="313"/>
                  </a:lnTo>
                  <a:lnTo>
                    <a:pt x="613" y="220"/>
                  </a:lnTo>
                  <a:lnTo>
                    <a:pt x="565" y="123"/>
                  </a:lnTo>
                  <a:lnTo>
                    <a:pt x="499" y="61"/>
                  </a:lnTo>
                  <a:lnTo>
                    <a:pt x="415" y="17"/>
                  </a:lnTo>
                  <a:lnTo>
                    <a:pt x="327" y="0"/>
                  </a:lnTo>
                  <a:lnTo>
                    <a:pt x="211" y="0"/>
                  </a:lnTo>
                  <a:lnTo>
                    <a:pt x="88" y="17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00160" y="639720"/>
              <a:ext cx="82800" cy="60840"/>
            </a:xfrm>
            <a:custGeom>
              <a:avLst/>
              <a:gdLst/>
              <a:ahLst/>
              <a:rect l="0" t="0" r="r" b="b"/>
              <a:pathLst>
                <a:path w="230" h="169">
                  <a:moveTo>
                    <a:pt x="9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4" y="151"/>
                  </a:lnTo>
                  <a:lnTo>
                    <a:pt x="137" y="169"/>
                  </a:lnTo>
                  <a:lnTo>
                    <a:pt x="203" y="165"/>
                  </a:lnTo>
                  <a:lnTo>
                    <a:pt x="230" y="124"/>
                  </a:lnTo>
                  <a:lnTo>
                    <a:pt x="221" y="93"/>
                  </a:lnTo>
                  <a:lnTo>
                    <a:pt x="190" y="49"/>
                  </a:lnTo>
                  <a:lnTo>
                    <a:pt x="128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724280" y="3200400"/>
            <a:ext cx="11685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943600" y="3276720"/>
            <a:ext cx="15238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1.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2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3.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4.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71600" y="3124080"/>
            <a:ext cx="2426040" cy="3173760"/>
            <a:chOff x="1371600" y="3124080"/>
            <a:chExt cx="2426040" cy="3173760"/>
          </a:xfrm>
        </p:grpSpPr>
        <p:sp>
          <p:nvSpPr>
            <p:cNvPr id="203" name=""/>
            <p:cNvSpPr/>
            <p:nvPr/>
          </p:nvSpPr>
          <p:spPr>
            <a:xfrm>
              <a:off x="1908000" y="3373560"/>
              <a:ext cx="891000" cy="1457640"/>
            </a:xfrm>
            <a:custGeom>
              <a:avLst/>
              <a:gdLst/>
              <a:ahLst/>
              <a:rect l="0" t="0" r="r" b="b"/>
              <a:pathLst>
                <a:path w="2475" h="4049">
                  <a:moveTo>
                    <a:pt x="1240" y="0"/>
                  </a:moveTo>
                  <a:lnTo>
                    <a:pt x="1522" y="881"/>
                  </a:lnTo>
                  <a:lnTo>
                    <a:pt x="1711" y="1499"/>
                  </a:lnTo>
                  <a:lnTo>
                    <a:pt x="1676" y="1600"/>
                  </a:lnTo>
                  <a:lnTo>
                    <a:pt x="1500" y="2122"/>
                  </a:lnTo>
                  <a:lnTo>
                    <a:pt x="1429" y="2214"/>
                  </a:lnTo>
                  <a:lnTo>
                    <a:pt x="1442" y="2399"/>
                  </a:lnTo>
                  <a:lnTo>
                    <a:pt x="1306" y="2479"/>
                  </a:lnTo>
                  <a:lnTo>
                    <a:pt x="1187" y="2479"/>
                  </a:lnTo>
                  <a:lnTo>
                    <a:pt x="979" y="2399"/>
                  </a:lnTo>
                  <a:lnTo>
                    <a:pt x="962" y="2615"/>
                  </a:lnTo>
                  <a:lnTo>
                    <a:pt x="1800" y="2858"/>
                  </a:lnTo>
                  <a:lnTo>
                    <a:pt x="1756" y="2629"/>
                  </a:lnTo>
                  <a:lnTo>
                    <a:pt x="1782" y="2399"/>
                  </a:lnTo>
                  <a:lnTo>
                    <a:pt x="1876" y="2241"/>
                  </a:lnTo>
                  <a:lnTo>
                    <a:pt x="2021" y="2241"/>
                  </a:lnTo>
                  <a:lnTo>
                    <a:pt x="2250" y="2324"/>
                  </a:lnTo>
                  <a:lnTo>
                    <a:pt x="2475" y="2479"/>
                  </a:lnTo>
                  <a:lnTo>
                    <a:pt x="2250" y="2735"/>
                  </a:lnTo>
                  <a:lnTo>
                    <a:pt x="1654" y="4049"/>
                  </a:lnTo>
                  <a:lnTo>
                    <a:pt x="927" y="4031"/>
                  </a:lnTo>
                  <a:lnTo>
                    <a:pt x="145" y="1733"/>
                  </a:lnTo>
                  <a:lnTo>
                    <a:pt x="0" y="1305"/>
                  </a:lnTo>
                  <a:lnTo>
                    <a:pt x="0" y="1075"/>
                  </a:lnTo>
                  <a:lnTo>
                    <a:pt x="251" y="0"/>
                  </a:lnTo>
                  <a:lnTo>
                    <a:pt x="843" y="39"/>
                  </a:lnTo>
                  <a:lnTo>
                    <a:pt x="124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94040" y="4003560"/>
              <a:ext cx="92520" cy="84600"/>
            </a:xfrm>
            <a:custGeom>
              <a:avLst/>
              <a:gdLst/>
              <a:ahLst/>
              <a:rect l="0" t="0" r="r" b="b"/>
              <a:pathLst>
                <a:path w="257" h="235">
                  <a:moveTo>
                    <a:pt x="93" y="0"/>
                  </a:moveTo>
                  <a:lnTo>
                    <a:pt x="177" y="17"/>
                  </a:lnTo>
                  <a:lnTo>
                    <a:pt x="257" y="213"/>
                  </a:lnTo>
                  <a:lnTo>
                    <a:pt x="52" y="235"/>
                  </a:lnTo>
                  <a:lnTo>
                    <a:pt x="0" y="5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08280" y="3124080"/>
              <a:ext cx="657360" cy="684720"/>
            </a:xfrm>
            <a:custGeom>
              <a:avLst/>
              <a:gdLst/>
              <a:ahLst/>
              <a:rect l="0" t="0" r="r" b="b"/>
              <a:pathLst>
                <a:path w="1826" h="1902">
                  <a:moveTo>
                    <a:pt x="1826" y="202"/>
                  </a:moveTo>
                  <a:lnTo>
                    <a:pt x="1707" y="481"/>
                  </a:lnTo>
                  <a:lnTo>
                    <a:pt x="1623" y="591"/>
                  </a:lnTo>
                  <a:lnTo>
                    <a:pt x="1734" y="710"/>
                  </a:lnTo>
                  <a:lnTo>
                    <a:pt x="1817" y="1651"/>
                  </a:lnTo>
                  <a:lnTo>
                    <a:pt x="1584" y="957"/>
                  </a:lnTo>
                  <a:lnTo>
                    <a:pt x="1363" y="737"/>
                  </a:lnTo>
                  <a:lnTo>
                    <a:pt x="899" y="838"/>
                  </a:lnTo>
                  <a:lnTo>
                    <a:pt x="564" y="821"/>
                  </a:lnTo>
                  <a:lnTo>
                    <a:pt x="511" y="1107"/>
                  </a:lnTo>
                  <a:lnTo>
                    <a:pt x="529" y="1593"/>
                  </a:lnTo>
                  <a:lnTo>
                    <a:pt x="498" y="1902"/>
                  </a:lnTo>
                  <a:lnTo>
                    <a:pt x="313" y="1832"/>
                  </a:lnTo>
                  <a:lnTo>
                    <a:pt x="0" y="931"/>
                  </a:lnTo>
                  <a:lnTo>
                    <a:pt x="79" y="759"/>
                  </a:lnTo>
                  <a:lnTo>
                    <a:pt x="211" y="556"/>
                  </a:lnTo>
                  <a:lnTo>
                    <a:pt x="352" y="499"/>
                  </a:lnTo>
                  <a:lnTo>
                    <a:pt x="383" y="304"/>
                  </a:lnTo>
                  <a:lnTo>
                    <a:pt x="529" y="105"/>
                  </a:lnTo>
                  <a:lnTo>
                    <a:pt x="701" y="35"/>
                  </a:lnTo>
                  <a:lnTo>
                    <a:pt x="927" y="13"/>
                  </a:lnTo>
                  <a:lnTo>
                    <a:pt x="1151" y="35"/>
                  </a:lnTo>
                  <a:lnTo>
                    <a:pt x="1385" y="105"/>
                  </a:lnTo>
                  <a:lnTo>
                    <a:pt x="1363" y="268"/>
                  </a:lnTo>
                  <a:lnTo>
                    <a:pt x="1429" y="246"/>
                  </a:lnTo>
                  <a:lnTo>
                    <a:pt x="1465" y="0"/>
                  </a:lnTo>
                  <a:lnTo>
                    <a:pt x="1557" y="52"/>
                  </a:lnTo>
                  <a:lnTo>
                    <a:pt x="1478" y="357"/>
                  </a:lnTo>
                  <a:lnTo>
                    <a:pt x="1637" y="52"/>
                  </a:lnTo>
                  <a:lnTo>
                    <a:pt x="1557" y="401"/>
                  </a:lnTo>
                  <a:lnTo>
                    <a:pt x="1747" y="132"/>
                  </a:lnTo>
                  <a:lnTo>
                    <a:pt x="1601" y="481"/>
                  </a:lnTo>
                  <a:lnTo>
                    <a:pt x="1707" y="357"/>
                  </a:lnTo>
                  <a:lnTo>
                    <a:pt x="1756" y="229"/>
                  </a:lnTo>
                  <a:lnTo>
                    <a:pt x="1826" y="20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7760" y="3448080"/>
              <a:ext cx="1370520" cy="1751400"/>
            </a:xfrm>
            <a:custGeom>
              <a:avLst/>
              <a:gdLst/>
              <a:ahLst/>
              <a:rect l="0" t="0" r="r" b="b"/>
              <a:pathLst>
                <a:path w="3807" h="4865">
                  <a:moveTo>
                    <a:pt x="3807" y="1231"/>
                  </a:moveTo>
                  <a:lnTo>
                    <a:pt x="2943" y="983"/>
                  </a:lnTo>
                  <a:lnTo>
                    <a:pt x="2126" y="551"/>
                  </a:lnTo>
                  <a:lnTo>
                    <a:pt x="1319" y="0"/>
                  </a:lnTo>
                  <a:lnTo>
                    <a:pt x="1173" y="595"/>
                  </a:lnTo>
                  <a:lnTo>
                    <a:pt x="802" y="1778"/>
                  </a:lnTo>
                  <a:lnTo>
                    <a:pt x="670" y="2029"/>
                  </a:lnTo>
                  <a:lnTo>
                    <a:pt x="833" y="2144"/>
                  </a:lnTo>
                  <a:lnTo>
                    <a:pt x="926" y="2276"/>
                  </a:lnTo>
                  <a:lnTo>
                    <a:pt x="859" y="2369"/>
                  </a:lnTo>
                  <a:lnTo>
                    <a:pt x="595" y="2386"/>
                  </a:lnTo>
                  <a:lnTo>
                    <a:pt x="471" y="2686"/>
                  </a:lnTo>
                  <a:lnTo>
                    <a:pt x="180" y="3198"/>
                  </a:lnTo>
                  <a:lnTo>
                    <a:pt x="0" y="3378"/>
                  </a:lnTo>
                  <a:lnTo>
                    <a:pt x="723" y="3701"/>
                  </a:lnTo>
                  <a:lnTo>
                    <a:pt x="1345" y="4244"/>
                  </a:lnTo>
                  <a:lnTo>
                    <a:pt x="1972" y="4667"/>
                  </a:lnTo>
                  <a:lnTo>
                    <a:pt x="2232" y="4865"/>
                  </a:lnTo>
                  <a:lnTo>
                    <a:pt x="2699" y="4032"/>
                  </a:lnTo>
                  <a:lnTo>
                    <a:pt x="3110" y="3026"/>
                  </a:lnTo>
                  <a:lnTo>
                    <a:pt x="3450" y="2152"/>
                  </a:lnTo>
                  <a:lnTo>
                    <a:pt x="3701" y="1509"/>
                  </a:lnTo>
                  <a:lnTo>
                    <a:pt x="3807" y="12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84520" y="4292640"/>
              <a:ext cx="897120" cy="751320"/>
            </a:xfrm>
            <a:custGeom>
              <a:avLst/>
              <a:gdLst/>
              <a:ahLst/>
              <a:rect l="0" t="0" r="r" b="b"/>
              <a:pathLst>
                <a:path w="2492" h="2087">
                  <a:moveTo>
                    <a:pt x="2157" y="304"/>
                  </a:moveTo>
                  <a:lnTo>
                    <a:pt x="1919" y="83"/>
                  </a:lnTo>
                  <a:lnTo>
                    <a:pt x="1597" y="105"/>
                  </a:lnTo>
                  <a:lnTo>
                    <a:pt x="1451" y="0"/>
                  </a:lnTo>
                  <a:lnTo>
                    <a:pt x="1337" y="22"/>
                  </a:lnTo>
                  <a:lnTo>
                    <a:pt x="1359" y="105"/>
                  </a:lnTo>
                  <a:lnTo>
                    <a:pt x="1442" y="264"/>
                  </a:lnTo>
                  <a:lnTo>
                    <a:pt x="1159" y="321"/>
                  </a:lnTo>
                  <a:lnTo>
                    <a:pt x="987" y="105"/>
                  </a:lnTo>
                  <a:lnTo>
                    <a:pt x="930" y="0"/>
                  </a:lnTo>
                  <a:lnTo>
                    <a:pt x="564" y="105"/>
                  </a:lnTo>
                  <a:lnTo>
                    <a:pt x="132" y="105"/>
                  </a:lnTo>
                  <a:lnTo>
                    <a:pt x="0" y="401"/>
                  </a:lnTo>
                  <a:lnTo>
                    <a:pt x="52" y="1046"/>
                  </a:lnTo>
                  <a:lnTo>
                    <a:pt x="8" y="1107"/>
                  </a:lnTo>
                  <a:lnTo>
                    <a:pt x="119" y="1359"/>
                  </a:lnTo>
                  <a:lnTo>
                    <a:pt x="79" y="1460"/>
                  </a:lnTo>
                  <a:lnTo>
                    <a:pt x="295" y="2087"/>
                  </a:lnTo>
                  <a:lnTo>
                    <a:pt x="2492" y="1442"/>
                  </a:lnTo>
                  <a:lnTo>
                    <a:pt x="2051" y="1165"/>
                  </a:lnTo>
                  <a:lnTo>
                    <a:pt x="1817" y="1442"/>
                  </a:lnTo>
                  <a:lnTo>
                    <a:pt x="1306" y="1460"/>
                  </a:lnTo>
                  <a:lnTo>
                    <a:pt x="1271" y="1226"/>
                  </a:lnTo>
                  <a:lnTo>
                    <a:pt x="1597" y="1090"/>
                  </a:lnTo>
                  <a:lnTo>
                    <a:pt x="1835" y="1090"/>
                  </a:lnTo>
                  <a:lnTo>
                    <a:pt x="1742" y="1032"/>
                  </a:lnTo>
                  <a:lnTo>
                    <a:pt x="2020" y="741"/>
                  </a:lnTo>
                  <a:lnTo>
                    <a:pt x="2170" y="374"/>
                  </a:lnTo>
                  <a:lnTo>
                    <a:pt x="2157" y="30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0440" y="4378320"/>
              <a:ext cx="143280" cy="332280"/>
            </a:xfrm>
            <a:custGeom>
              <a:avLst/>
              <a:gdLst/>
              <a:ahLst/>
              <a:rect l="0" t="0" r="r" b="b"/>
              <a:pathLst>
                <a:path w="398" h="923">
                  <a:moveTo>
                    <a:pt x="133" y="0"/>
                  </a:moveTo>
                  <a:lnTo>
                    <a:pt x="319" y="499"/>
                  </a:lnTo>
                  <a:lnTo>
                    <a:pt x="398" y="853"/>
                  </a:lnTo>
                  <a:lnTo>
                    <a:pt x="155" y="923"/>
                  </a:lnTo>
                  <a:lnTo>
                    <a:pt x="0" y="40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46320" y="4718160"/>
              <a:ext cx="162360" cy="82800"/>
            </a:xfrm>
            <a:custGeom>
              <a:avLst/>
              <a:gdLst/>
              <a:ahLst/>
              <a:rect l="0" t="0" r="r" b="b"/>
              <a:pathLst>
                <a:path w="451" h="230">
                  <a:moveTo>
                    <a:pt x="0" y="137"/>
                  </a:moveTo>
                  <a:lnTo>
                    <a:pt x="336" y="0"/>
                  </a:lnTo>
                  <a:lnTo>
                    <a:pt x="451" y="23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1320" y="4054320"/>
              <a:ext cx="155880" cy="74880"/>
            </a:xfrm>
            <a:custGeom>
              <a:avLst/>
              <a:gdLst/>
              <a:ahLst/>
              <a:rect l="0" t="0" r="r" b="b"/>
              <a:pathLst>
                <a:path w="433" h="208">
                  <a:moveTo>
                    <a:pt x="384" y="0"/>
                  </a:moveTo>
                  <a:lnTo>
                    <a:pt x="433" y="111"/>
                  </a:lnTo>
                  <a:lnTo>
                    <a:pt x="384" y="186"/>
                  </a:lnTo>
                  <a:lnTo>
                    <a:pt x="230" y="208"/>
                  </a:lnTo>
                  <a:lnTo>
                    <a:pt x="0" y="111"/>
                  </a:lnTo>
                  <a:lnTo>
                    <a:pt x="31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3840" y="4008600"/>
              <a:ext cx="214560" cy="108360"/>
            </a:xfrm>
            <a:custGeom>
              <a:avLst/>
              <a:gdLst/>
              <a:ahLst/>
              <a:rect l="0" t="0" r="r" b="b"/>
              <a:pathLst>
                <a:path w="596" h="301">
                  <a:moveTo>
                    <a:pt x="596" y="0"/>
                  </a:moveTo>
                  <a:lnTo>
                    <a:pt x="406" y="44"/>
                  </a:lnTo>
                  <a:lnTo>
                    <a:pt x="242" y="61"/>
                  </a:lnTo>
                  <a:lnTo>
                    <a:pt x="0" y="22"/>
                  </a:lnTo>
                  <a:lnTo>
                    <a:pt x="145" y="240"/>
                  </a:lnTo>
                  <a:lnTo>
                    <a:pt x="433" y="301"/>
                  </a:lnTo>
                  <a:lnTo>
                    <a:pt x="596" y="225"/>
                  </a:lnTo>
                  <a:lnTo>
                    <a:pt x="552" y="186"/>
                  </a:lnTo>
                  <a:lnTo>
                    <a:pt x="583" y="98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11240" y="4689360"/>
              <a:ext cx="1054440" cy="408240"/>
            </a:xfrm>
            <a:custGeom>
              <a:avLst/>
              <a:gdLst/>
              <a:ahLst/>
              <a:rect l="0" t="0" r="r" b="b"/>
              <a:pathLst>
                <a:path w="2929" h="1134">
                  <a:moveTo>
                    <a:pt x="2646" y="22"/>
                  </a:moveTo>
                  <a:lnTo>
                    <a:pt x="2144" y="70"/>
                  </a:lnTo>
                  <a:lnTo>
                    <a:pt x="1663" y="264"/>
                  </a:lnTo>
                  <a:lnTo>
                    <a:pt x="1102" y="264"/>
                  </a:lnTo>
                  <a:lnTo>
                    <a:pt x="463" y="132"/>
                  </a:lnTo>
                  <a:lnTo>
                    <a:pt x="110" y="0"/>
                  </a:lnTo>
                  <a:lnTo>
                    <a:pt x="335" y="299"/>
                  </a:lnTo>
                  <a:lnTo>
                    <a:pt x="0" y="229"/>
                  </a:lnTo>
                  <a:lnTo>
                    <a:pt x="202" y="467"/>
                  </a:lnTo>
                  <a:lnTo>
                    <a:pt x="0" y="794"/>
                  </a:lnTo>
                  <a:lnTo>
                    <a:pt x="511" y="1037"/>
                  </a:lnTo>
                  <a:lnTo>
                    <a:pt x="2752" y="1134"/>
                  </a:lnTo>
                  <a:lnTo>
                    <a:pt x="2929" y="904"/>
                  </a:lnTo>
                  <a:lnTo>
                    <a:pt x="2673" y="680"/>
                  </a:lnTo>
                  <a:lnTo>
                    <a:pt x="2849" y="449"/>
                  </a:lnTo>
                  <a:lnTo>
                    <a:pt x="2567" y="388"/>
                  </a:lnTo>
                  <a:lnTo>
                    <a:pt x="2739" y="136"/>
                  </a:lnTo>
                  <a:lnTo>
                    <a:pt x="2567" y="198"/>
                  </a:lnTo>
                  <a:lnTo>
                    <a:pt x="2483" y="198"/>
                  </a:lnTo>
                  <a:lnTo>
                    <a:pt x="2646" y="2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12920" y="6019920"/>
              <a:ext cx="603720" cy="241560"/>
            </a:xfrm>
            <a:custGeom>
              <a:avLst/>
              <a:gdLst/>
              <a:ahLst/>
              <a:rect l="0" t="0" r="r" b="b"/>
              <a:pathLst>
                <a:path w="1677" h="671">
                  <a:moveTo>
                    <a:pt x="1677" y="336"/>
                  </a:moveTo>
                  <a:lnTo>
                    <a:pt x="927" y="0"/>
                  </a:lnTo>
                  <a:lnTo>
                    <a:pt x="547" y="371"/>
                  </a:lnTo>
                  <a:lnTo>
                    <a:pt x="0" y="508"/>
                  </a:lnTo>
                  <a:lnTo>
                    <a:pt x="176" y="636"/>
                  </a:lnTo>
                  <a:lnTo>
                    <a:pt x="1294" y="671"/>
                  </a:lnTo>
                  <a:lnTo>
                    <a:pt x="1677" y="336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8720" y="5060880"/>
              <a:ext cx="959040" cy="1235520"/>
            </a:xfrm>
            <a:custGeom>
              <a:avLst/>
              <a:gdLst/>
              <a:ahLst/>
              <a:rect l="0" t="0" r="r" b="b"/>
              <a:pathLst>
                <a:path w="2664" h="3432">
                  <a:moveTo>
                    <a:pt x="2642" y="70"/>
                  </a:moveTo>
                  <a:lnTo>
                    <a:pt x="0" y="0"/>
                  </a:lnTo>
                  <a:lnTo>
                    <a:pt x="0" y="657"/>
                  </a:lnTo>
                  <a:lnTo>
                    <a:pt x="313" y="855"/>
                  </a:lnTo>
                  <a:lnTo>
                    <a:pt x="335" y="2943"/>
                  </a:lnTo>
                  <a:lnTo>
                    <a:pt x="630" y="2974"/>
                  </a:lnTo>
                  <a:lnTo>
                    <a:pt x="630" y="3366"/>
                  </a:lnTo>
                  <a:lnTo>
                    <a:pt x="2095" y="3432"/>
                  </a:lnTo>
                  <a:lnTo>
                    <a:pt x="2077" y="2908"/>
                  </a:lnTo>
                  <a:lnTo>
                    <a:pt x="2377" y="2908"/>
                  </a:lnTo>
                  <a:lnTo>
                    <a:pt x="2421" y="789"/>
                  </a:lnTo>
                  <a:lnTo>
                    <a:pt x="2624" y="590"/>
                  </a:lnTo>
                  <a:lnTo>
                    <a:pt x="2664" y="251"/>
                  </a:lnTo>
                  <a:lnTo>
                    <a:pt x="2642" y="70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0640" y="4772160"/>
              <a:ext cx="41760" cy="314640"/>
            </a:xfrm>
            <a:custGeom>
              <a:avLst/>
              <a:gdLst/>
              <a:ahLst/>
              <a:rect l="0" t="0" r="r" b="b"/>
              <a:pathLst>
                <a:path w="116" h="874">
                  <a:moveTo>
                    <a:pt x="116" y="202"/>
                  </a:moveTo>
                  <a:lnTo>
                    <a:pt x="116" y="874"/>
                  </a:lnTo>
                  <a:lnTo>
                    <a:pt x="26" y="838"/>
                  </a:lnTo>
                  <a:lnTo>
                    <a:pt x="0" y="0"/>
                  </a:lnTo>
                  <a:lnTo>
                    <a:pt x="116" y="2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8600" y="6006960"/>
              <a:ext cx="705240" cy="216360"/>
            </a:xfrm>
            <a:custGeom>
              <a:avLst/>
              <a:gdLst/>
              <a:ahLst/>
              <a:rect l="0" t="0" r="r" b="b"/>
              <a:pathLst>
                <a:path w="1959" h="601">
                  <a:moveTo>
                    <a:pt x="1959" y="437"/>
                  </a:moveTo>
                  <a:lnTo>
                    <a:pt x="1442" y="437"/>
                  </a:lnTo>
                  <a:lnTo>
                    <a:pt x="1028" y="101"/>
                  </a:lnTo>
                  <a:lnTo>
                    <a:pt x="538" y="101"/>
                  </a:lnTo>
                  <a:lnTo>
                    <a:pt x="0" y="0"/>
                  </a:lnTo>
                  <a:lnTo>
                    <a:pt x="401" y="309"/>
                  </a:lnTo>
                  <a:lnTo>
                    <a:pt x="1050" y="544"/>
                  </a:lnTo>
                  <a:lnTo>
                    <a:pt x="1376" y="601"/>
                  </a:lnTo>
                  <a:lnTo>
                    <a:pt x="1959" y="43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5040" y="6070680"/>
              <a:ext cx="367200" cy="167040"/>
            </a:xfrm>
            <a:custGeom>
              <a:avLst/>
              <a:gdLst/>
              <a:ahLst/>
              <a:rect l="0" t="0" r="r" b="b"/>
              <a:pathLst>
                <a:path w="1020" h="464">
                  <a:moveTo>
                    <a:pt x="1020" y="167"/>
                  </a:moveTo>
                  <a:lnTo>
                    <a:pt x="512" y="167"/>
                  </a:lnTo>
                  <a:lnTo>
                    <a:pt x="0" y="0"/>
                  </a:lnTo>
                  <a:lnTo>
                    <a:pt x="83" y="327"/>
                  </a:lnTo>
                  <a:lnTo>
                    <a:pt x="494" y="464"/>
                  </a:lnTo>
                  <a:lnTo>
                    <a:pt x="835" y="296"/>
                  </a:lnTo>
                  <a:lnTo>
                    <a:pt x="1020" y="1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52560" y="6006960"/>
              <a:ext cx="190800" cy="206640"/>
            </a:xfrm>
            <a:custGeom>
              <a:avLst/>
              <a:gdLst/>
              <a:ahLst/>
              <a:rect l="0" t="0" r="r" b="b"/>
              <a:pathLst>
                <a:path w="530" h="574">
                  <a:moveTo>
                    <a:pt x="44" y="0"/>
                  </a:moveTo>
                  <a:lnTo>
                    <a:pt x="349" y="216"/>
                  </a:lnTo>
                  <a:lnTo>
                    <a:pt x="486" y="371"/>
                  </a:lnTo>
                  <a:lnTo>
                    <a:pt x="530" y="574"/>
                  </a:lnTo>
                  <a:lnTo>
                    <a:pt x="459" y="574"/>
                  </a:lnTo>
                  <a:lnTo>
                    <a:pt x="397" y="406"/>
                  </a:lnTo>
                  <a:lnTo>
                    <a:pt x="238" y="246"/>
                  </a:lnTo>
                  <a:lnTo>
                    <a:pt x="0" y="7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30280" y="5500800"/>
              <a:ext cx="132120" cy="346320"/>
            </a:xfrm>
            <a:custGeom>
              <a:avLst/>
              <a:gdLst/>
              <a:ahLst/>
              <a:rect l="0" t="0" r="r" b="b"/>
              <a:pathLst>
                <a:path w="367" h="962">
                  <a:moveTo>
                    <a:pt x="127" y="97"/>
                  </a:moveTo>
                  <a:lnTo>
                    <a:pt x="167" y="521"/>
                  </a:lnTo>
                  <a:lnTo>
                    <a:pt x="367" y="865"/>
                  </a:lnTo>
                  <a:lnTo>
                    <a:pt x="340" y="962"/>
                  </a:lnTo>
                  <a:lnTo>
                    <a:pt x="127" y="688"/>
                  </a:lnTo>
                  <a:lnTo>
                    <a:pt x="0" y="255"/>
                  </a:lnTo>
                  <a:lnTo>
                    <a:pt x="35" y="0"/>
                  </a:lnTo>
                  <a:lnTo>
                    <a:pt x="127" y="9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3680" y="4525920"/>
              <a:ext cx="311400" cy="746640"/>
            </a:xfrm>
            <a:custGeom>
              <a:avLst/>
              <a:gdLst/>
              <a:ahLst/>
              <a:rect l="0" t="0" r="r" b="b"/>
              <a:pathLst>
                <a:path w="865" h="2074">
                  <a:moveTo>
                    <a:pt x="746" y="1585"/>
                  </a:moveTo>
                  <a:lnTo>
                    <a:pt x="627" y="1836"/>
                  </a:lnTo>
                  <a:lnTo>
                    <a:pt x="0" y="2074"/>
                  </a:lnTo>
                  <a:lnTo>
                    <a:pt x="110" y="1902"/>
                  </a:lnTo>
                  <a:lnTo>
                    <a:pt x="675" y="1615"/>
                  </a:lnTo>
                  <a:lnTo>
                    <a:pt x="790" y="1288"/>
                  </a:lnTo>
                  <a:lnTo>
                    <a:pt x="653" y="918"/>
                  </a:lnTo>
                  <a:lnTo>
                    <a:pt x="591" y="887"/>
                  </a:lnTo>
                  <a:lnTo>
                    <a:pt x="66" y="167"/>
                  </a:lnTo>
                  <a:lnTo>
                    <a:pt x="110" y="0"/>
                  </a:lnTo>
                  <a:lnTo>
                    <a:pt x="277" y="0"/>
                  </a:lnTo>
                  <a:lnTo>
                    <a:pt x="790" y="785"/>
                  </a:lnTo>
                  <a:lnTo>
                    <a:pt x="746" y="918"/>
                  </a:lnTo>
                  <a:lnTo>
                    <a:pt x="865" y="1209"/>
                  </a:lnTo>
                  <a:lnTo>
                    <a:pt x="847" y="1456"/>
                  </a:lnTo>
                  <a:lnTo>
                    <a:pt x="746" y="15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57440" y="4513320"/>
              <a:ext cx="203400" cy="346320"/>
            </a:xfrm>
            <a:custGeom>
              <a:avLst/>
              <a:gdLst/>
              <a:ahLst/>
              <a:rect l="0" t="0" r="r" b="b"/>
              <a:pathLst>
                <a:path w="565" h="962">
                  <a:moveTo>
                    <a:pt x="119" y="0"/>
                  </a:moveTo>
                  <a:lnTo>
                    <a:pt x="44" y="35"/>
                  </a:lnTo>
                  <a:lnTo>
                    <a:pt x="26" y="101"/>
                  </a:lnTo>
                  <a:lnTo>
                    <a:pt x="0" y="167"/>
                  </a:lnTo>
                  <a:lnTo>
                    <a:pt x="44" y="264"/>
                  </a:lnTo>
                  <a:lnTo>
                    <a:pt x="525" y="962"/>
                  </a:lnTo>
                  <a:lnTo>
                    <a:pt x="508" y="860"/>
                  </a:lnTo>
                  <a:lnTo>
                    <a:pt x="525" y="794"/>
                  </a:lnTo>
                  <a:lnTo>
                    <a:pt x="565" y="759"/>
                  </a:lnTo>
                  <a:lnTo>
                    <a:pt x="486" y="636"/>
                  </a:lnTo>
                  <a:lnTo>
                    <a:pt x="415" y="697"/>
                  </a:lnTo>
                  <a:lnTo>
                    <a:pt x="119" y="264"/>
                  </a:lnTo>
                  <a:lnTo>
                    <a:pt x="119" y="167"/>
                  </a:lnTo>
                  <a:lnTo>
                    <a:pt x="163" y="132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43280" y="4667400"/>
              <a:ext cx="716400" cy="152640"/>
            </a:xfrm>
            <a:custGeom>
              <a:avLst/>
              <a:gdLst/>
              <a:ahLst/>
              <a:rect l="0" t="0" r="r" b="b"/>
              <a:pathLst>
                <a:path w="1990" h="424">
                  <a:moveTo>
                    <a:pt x="1990" y="230"/>
                  </a:moveTo>
                  <a:lnTo>
                    <a:pt x="1664" y="292"/>
                  </a:lnTo>
                  <a:lnTo>
                    <a:pt x="1279" y="327"/>
                  </a:lnTo>
                  <a:lnTo>
                    <a:pt x="834" y="292"/>
                  </a:lnTo>
                  <a:lnTo>
                    <a:pt x="538" y="230"/>
                  </a:lnTo>
                  <a:lnTo>
                    <a:pt x="308" y="167"/>
                  </a:lnTo>
                  <a:lnTo>
                    <a:pt x="158" y="97"/>
                  </a:lnTo>
                  <a:lnTo>
                    <a:pt x="0" y="0"/>
                  </a:lnTo>
                  <a:lnTo>
                    <a:pt x="326" y="424"/>
                  </a:lnTo>
                  <a:lnTo>
                    <a:pt x="180" y="132"/>
                  </a:lnTo>
                  <a:lnTo>
                    <a:pt x="467" y="265"/>
                  </a:lnTo>
                  <a:lnTo>
                    <a:pt x="878" y="358"/>
                  </a:lnTo>
                  <a:lnTo>
                    <a:pt x="1279" y="393"/>
                  </a:lnTo>
                  <a:lnTo>
                    <a:pt x="1664" y="327"/>
                  </a:lnTo>
                  <a:lnTo>
                    <a:pt x="199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60480" y="4859280"/>
              <a:ext cx="821160" cy="452880"/>
            </a:xfrm>
            <a:custGeom>
              <a:avLst/>
              <a:gdLst/>
              <a:ahLst/>
              <a:rect l="0" t="0" r="r" b="b"/>
              <a:pathLst>
                <a:path w="2281" h="1258">
                  <a:moveTo>
                    <a:pt x="119" y="167"/>
                  </a:moveTo>
                  <a:lnTo>
                    <a:pt x="70" y="503"/>
                  </a:lnTo>
                  <a:lnTo>
                    <a:pt x="0" y="950"/>
                  </a:lnTo>
                  <a:lnTo>
                    <a:pt x="379" y="1086"/>
                  </a:lnTo>
                  <a:lnTo>
                    <a:pt x="405" y="1258"/>
                  </a:lnTo>
                  <a:lnTo>
                    <a:pt x="427" y="1223"/>
                  </a:lnTo>
                  <a:lnTo>
                    <a:pt x="427" y="600"/>
                  </a:lnTo>
                  <a:lnTo>
                    <a:pt x="2281" y="600"/>
                  </a:lnTo>
                  <a:lnTo>
                    <a:pt x="2281" y="503"/>
                  </a:lnTo>
                  <a:lnTo>
                    <a:pt x="405" y="472"/>
                  </a:lnTo>
                  <a:lnTo>
                    <a:pt x="555" y="406"/>
                  </a:lnTo>
                  <a:lnTo>
                    <a:pt x="202" y="327"/>
                  </a:lnTo>
                  <a:lnTo>
                    <a:pt x="445" y="327"/>
                  </a:lnTo>
                  <a:lnTo>
                    <a:pt x="229" y="194"/>
                  </a:lnTo>
                  <a:lnTo>
                    <a:pt x="533" y="194"/>
                  </a:lnTo>
                  <a:lnTo>
                    <a:pt x="317" y="0"/>
                  </a:lnTo>
                  <a:lnTo>
                    <a:pt x="119" y="1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7720" y="4772160"/>
              <a:ext cx="789480" cy="120960"/>
            </a:xfrm>
            <a:custGeom>
              <a:avLst/>
              <a:gdLst/>
              <a:ahLst/>
              <a:rect l="0" t="0" r="r" b="b"/>
              <a:pathLst>
                <a:path w="2193" h="336">
                  <a:moveTo>
                    <a:pt x="2083" y="101"/>
                  </a:moveTo>
                  <a:lnTo>
                    <a:pt x="1376" y="167"/>
                  </a:lnTo>
                  <a:lnTo>
                    <a:pt x="860" y="167"/>
                  </a:lnTo>
                  <a:lnTo>
                    <a:pt x="498" y="132"/>
                  </a:lnTo>
                  <a:lnTo>
                    <a:pt x="136" y="35"/>
                  </a:lnTo>
                  <a:lnTo>
                    <a:pt x="0" y="0"/>
                  </a:lnTo>
                  <a:lnTo>
                    <a:pt x="136" y="101"/>
                  </a:lnTo>
                  <a:lnTo>
                    <a:pt x="609" y="203"/>
                  </a:lnTo>
                  <a:lnTo>
                    <a:pt x="1231" y="239"/>
                  </a:lnTo>
                  <a:lnTo>
                    <a:pt x="229" y="239"/>
                  </a:lnTo>
                  <a:lnTo>
                    <a:pt x="1156" y="300"/>
                  </a:lnTo>
                  <a:lnTo>
                    <a:pt x="1735" y="300"/>
                  </a:lnTo>
                  <a:lnTo>
                    <a:pt x="2193" y="336"/>
                  </a:lnTo>
                  <a:lnTo>
                    <a:pt x="1491" y="239"/>
                  </a:lnTo>
                  <a:lnTo>
                    <a:pt x="2083" y="1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90640" y="4784760"/>
              <a:ext cx="32040" cy="302040"/>
            </a:xfrm>
            <a:custGeom>
              <a:avLst/>
              <a:gdLst/>
              <a:ahLst/>
              <a:rect l="0" t="0" r="r" b="b"/>
              <a:pathLst>
                <a:path w="89" h="839">
                  <a:moveTo>
                    <a:pt x="0" y="0"/>
                  </a:moveTo>
                  <a:lnTo>
                    <a:pt x="0" y="839"/>
                  </a:lnTo>
                  <a:lnTo>
                    <a:pt x="89" y="839"/>
                  </a:lnTo>
                  <a:lnTo>
                    <a:pt x="89" y="2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76560" y="4844880"/>
              <a:ext cx="781560" cy="1452960"/>
            </a:xfrm>
            <a:custGeom>
              <a:avLst/>
              <a:gdLst/>
              <a:ahLst/>
              <a:rect l="0" t="0" r="r" b="b"/>
              <a:pathLst>
                <a:path w="2171" h="4036">
                  <a:moveTo>
                    <a:pt x="1712" y="70"/>
                  </a:moveTo>
                  <a:lnTo>
                    <a:pt x="1862" y="291"/>
                  </a:lnTo>
                  <a:lnTo>
                    <a:pt x="1862" y="471"/>
                  </a:lnTo>
                  <a:lnTo>
                    <a:pt x="1814" y="635"/>
                  </a:lnTo>
                  <a:lnTo>
                    <a:pt x="1646" y="762"/>
                  </a:lnTo>
                  <a:lnTo>
                    <a:pt x="1323" y="921"/>
                  </a:lnTo>
                  <a:lnTo>
                    <a:pt x="1015" y="1050"/>
                  </a:lnTo>
                  <a:lnTo>
                    <a:pt x="768" y="1196"/>
                  </a:lnTo>
                  <a:lnTo>
                    <a:pt x="556" y="1425"/>
                  </a:lnTo>
                  <a:lnTo>
                    <a:pt x="432" y="1689"/>
                  </a:lnTo>
                  <a:lnTo>
                    <a:pt x="410" y="1919"/>
                  </a:lnTo>
                  <a:lnTo>
                    <a:pt x="467" y="2245"/>
                  </a:lnTo>
                  <a:lnTo>
                    <a:pt x="618" y="2576"/>
                  </a:lnTo>
                  <a:lnTo>
                    <a:pt x="741" y="2783"/>
                  </a:lnTo>
                  <a:lnTo>
                    <a:pt x="966" y="2977"/>
                  </a:lnTo>
                  <a:lnTo>
                    <a:pt x="1248" y="3137"/>
                  </a:lnTo>
                  <a:lnTo>
                    <a:pt x="1473" y="3274"/>
                  </a:lnTo>
                  <a:lnTo>
                    <a:pt x="1686" y="3379"/>
                  </a:lnTo>
                  <a:lnTo>
                    <a:pt x="1884" y="3503"/>
                  </a:lnTo>
                  <a:lnTo>
                    <a:pt x="2021" y="3679"/>
                  </a:lnTo>
                  <a:lnTo>
                    <a:pt x="2039" y="3803"/>
                  </a:lnTo>
                  <a:lnTo>
                    <a:pt x="1946" y="3869"/>
                  </a:lnTo>
                  <a:lnTo>
                    <a:pt x="1814" y="3834"/>
                  </a:lnTo>
                  <a:lnTo>
                    <a:pt x="1686" y="3772"/>
                  </a:lnTo>
                  <a:lnTo>
                    <a:pt x="1597" y="3772"/>
                  </a:lnTo>
                  <a:lnTo>
                    <a:pt x="1646" y="3503"/>
                  </a:lnTo>
                  <a:lnTo>
                    <a:pt x="110" y="3503"/>
                  </a:lnTo>
                  <a:lnTo>
                    <a:pt x="110" y="3904"/>
                  </a:lnTo>
                  <a:lnTo>
                    <a:pt x="0" y="3970"/>
                  </a:lnTo>
                  <a:lnTo>
                    <a:pt x="44" y="4036"/>
                  </a:lnTo>
                  <a:lnTo>
                    <a:pt x="1664" y="4036"/>
                  </a:lnTo>
                  <a:lnTo>
                    <a:pt x="1566" y="3935"/>
                  </a:lnTo>
                  <a:lnTo>
                    <a:pt x="163" y="3904"/>
                  </a:lnTo>
                  <a:lnTo>
                    <a:pt x="163" y="3834"/>
                  </a:lnTo>
                  <a:lnTo>
                    <a:pt x="1597" y="3834"/>
                  </a:lnTo>
                  <a:lnTo>
                    <a:pt x="1739" y="3869"/>
                  </a:lnTo>
                  <a:lnTo>
                    <a:pt x="1929" y="3935"/>
                  </a:lnTo>
                  <a:lnTo>
                    <a:pt x="2021" y="3970"/>
                  </a:lnTo>
                  <a:lnTo>
                    <a:pt x="2131" y="3904"/>
                  </a:lnTo>
                  <a:lnTo>
                    <a:pt x="2171" y="3834"/>
                  </a:lnTo>
                  <a:lnTo>
                    <a:pt x="2158" y="3701"/>
                  </a:lnTo>
                  <a:lnTo>
                    <a:pt x="2087" y="3609"/>
                  </a:lnTo>
                  <a:lnTo>
                    <a:pt x="2021" y="3635"/>
                  </a:lnTo>
                  <a:lnTo>
                    <a:pt x="1840" y="3441"/>
                  </a:lnTo>
                  <a:lnTo>
                    <a:pt x="1664" y="3331"/>
                  </a:lnTo>
                  <a:lnTo>
                    <a:pt x="1686" y="3274"/>
                  </a:lnTo>
                  <a:lnTo>
                    <a:pt x="1929" y="3410"/>
                  </a:lnTo>
                  <a:lnTo>
                    <a:pt x="1646" y="3203"/>
                  </a:lnTo>
                  <a:lnTo>
                    <a:pt x="1271" y="3035"/>
                  </a:lnTo>
                  <a:lnTo>
                    <a:pt x="944" y="2818"/>
                  </a:lnTo>
                  <a:lnTo>
                    <a:pt x="675" y="2479"/>
                  </a:lnTo>
                  <a:lnTo>
                    <a:pt x="768" y="2655"/>
                  </a:lnTo>
                  <a:lnTo>
                    <a:pt x="697" y="2655"/>
                  </a:lnTo>
                  <a:lnTo>
                    <a:pt x="485" y="2214"/>
                  </a:lnTo>
                  <a:lnTo>
                    <a:pt x="485" y="1954"/>
                  </a:lnTo>
                  <a:lnTo>
                    <a:pt x="533" y="1919"/>
                  </a:lnTo>
                  <a:lnTo>
                    <a:pt x="596" y="2214"/>
                  </a:lnTo>
                  <a:lnTo>
                    <a:pt x="556" y="1822"/>
                  </a:lnTo>
                  <a:lnTo>
                    <a:pt x="596" y="1623"/>
                  </a:lnTo>
                  <a:lnTo>
                    <a:pt x="658" y="1460"/>
                  </a:lnTo>
                  <a:lnTo>
                    <a:pt x="794" y="1328"/>
                  </a:lnTo>
                  <a:lnTo>
                    <a:pt x="1015" y="1231"/>
                  </a:lnTo>
                  <a:lnTo>
                    <a:pt x="1584" y="983"/>
                  </a:lnTo>
                  <a:lnTo>
                    <a:pt x="1085" y="1196"/>
                  </a:lnTo>
                  <a:lnTo>
                    <a:pt x="1165" y="1050"/>
                  </a:lnTo>
                  <a:lnTo>
                    <a:pt x="1686" y="762"/>
                  </a:lnTo>
                  <a:lnTo>
                    <a:pt x="1712" y="855"/>
                  </a:lnTo>
                  <a:lnTo>
                    <a:pt x="1664" y="921"/>
                  </a:lnTo>
                  <a:lnTo>
                    <a:pt x="1814" y="732"/>
                  </a:lnTo>
                  <a:lnTo>
                    <a:pt x="1884" y="537"/>
                  </a:lnTo>
                  <a:lnTo>
                    <a:pt x="1902" y="335"/>
                  </a:lnTo>
                  <a:lnTo>
                    <a:pt x="1840" y="132"/>
                  </a:lnTo>
                  <a:lnTo>
                    <a:pt x="1712" y="0"/>
                  </a:lnTo>
                  <a:lnTo>
                    <a:pt x="1712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98680" y="5297400"/>
              <a:ext cx="545040" cy="724320"/>
            </a:xfrm>
            <a:custGeom>
              <a:avLst/>
              <a:gdLst/>
              <a:ahLst/>
              <a:rect l="0" t="0" r="r" b="b"/>
              <a:pathLst>
                <a:path w="1514" h="2012">
                  <a:moveTo>
                    <a:pt x="1514" y="0"/>
                  </a:moveTo>
                  <a:lnTo>
                    <a:pt x="468" y="0"/>
                  </a:lnTo>
                  <a:lnTo>
                    <a:pt x="123" y="167"/>
                  </a:lnTo>
                  <a:lnTo>
                    <a:pt x="0" y="388"/>
                  </a:lnTo>
                  <a:lnTo>
                    <a:pt x="61" y="432"/>
                  </a:lnTo>
                  <a:lnTo>
                    <a:pt x="123" y="790"/>
                  </a:lnTo>
                  <a:lnTo>
                    <a:pt x="149" y="1151"/>
                  </a:lnTo>
                  <a:lnTo>
                    <a:pt x="198" y="1460"/>
                  </a:lnTo>
                  <a:lnTo>
                    <a:pt x="224" y="1222"/>
                  </a:lnTo>
                  <a:lnTo>
                    <a:pt x="198" y="887"/>
                  </a:lnTo>
                  <a:lnTo>
                    <a:pt x="176" y="622"/>
                  </a:lnTo>
                  <a:lnTo>
                    <a:pt x="149" y="432"/>
                  </a:lnTo>
                  <a:lnTo>
                    <a:pt x="149" y="335"/>
                  </a:lnTo>
                  <a:lnTo>
                    <a:pt x="242" y="264"/>
                  </a:lnTo>
                  <a:lnTo>
                    <a:pt x="286" y="366"/>
                  </a:lnTo>
                  <a:lnTo>
                    <a:pt x="326" y="860"/>
                  </a:lnTo>
                  <a:lnTo>
                    <a:pt x="326" y="1527"/>
                  </a:lnTo>
                  <a:lnTo>
                    <a:pt x="326" y="467"/>
                  </a:lnTo>
                  <a:lnTo>
                    <a:pt x="706" y="489"/>
                  </a:lnTo>
                  <a:lnTo>
                    <a:pt x="750" y="693"/>
                  </a:lnTo>
                  <a:lnTo>
                    <a:pt x="768" y="1222"/>
                  </a:lnTo>
                  <a:lnTo>
                    <a:pt x="790" y="1814"/>
                  </a:lnTo>
                  <a:lnTo>
                    <a:pt x="812" y="860"/>
                  </a:lnTo>
                  <a:lnTo>
                    <a:pt x="812" y="489"/>
                  </a:lnTo>
                  <a:lnTo>
                    <a:pt x="790" y="335"/>
                  </a:lnTo>
                  <a:lnTo>
                    <a:pt x="882" y="264"/>
                  </a:lnTo>
                  <a:lnTo>
                    <a:pt x="949" y="335"/>
                  </a:lnTo>
                  <a:lnTo>
                    <a:pt x="949" y="467"/>
                  </a:lnTo>
                  <a:lnTo>
                    <a:pt x="900" y="1721"/>
                  </a:lnTo>
                  <a:lnTo>
                    <a:pt x="1010" y="489"/>
                  </a:lnTo>
                  <a:lnTo>
                    <a:pt x="1121" y="489"/>
                  </a:lnTo>
                  <a:lnTo>
                    <a:pt x="1223" y="525"/>
                  </a:lnTo>
                  <a:lnTo>
                    <a:pt x="1267" y="565"/>
                  </a:lnTo>
                  <a:lnTo>
                    <a:pt x="1289" y="2012"/>
                  </a:lnTo>
                  <a:lnTo>
                    <a:pt x="1333" y="2012"/>
                  </a:lnTo>
                  <a:lnTo>
                    <a:pt x="1377" y="167"/>
                  </a:lnTo>
                  <a:lnTo>
                    <a:pt x="15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9880" y="5288040"/>
              <a:ext cx="410040" cy="756000"/>
            </a:xfrm>
            <a:custGeom>
              <a:avLst/>
              <a:gdLst/>
              <a:ahLst/>
              <a:rect l="0" t="0" r="r" b="b"/>
              <a:pathLst>
                <a:path w="1139" h="2100">
                  <a:moveTo>
                    <a:pt x="1139" y="0"/>
                  </a:moveTo>
                  <a:lnTo>
                    <a:pt x="0" y="0"/>
                  </a:lnTo>
                  <a:lnTo>
                    <a:pt x="39" y="123"/>
                  </a:lnTo>
                  <a:lnTo>
                    <a:pt x="268" y="229"/>
                  </a:lnTo>
                  <a:lnTo>
                    <a:pt x="331" y="2100"/>
                  </a:lnTo>
                  <a:lnTo>
                    <a:pt x="331" y="555"/>
                  </a:lnTo>
                  <a:lnTo>
                    <a:pt x="419" y="520"/>
                  </a:lnTo>
                  <a:lnTo>
                    <a:pt x="556" y="555"/>
                  </a:lnTo>
                  <a:lnTo>
                    <a:pt x="675" y="1425"/>
                  </a:lnTo>
                  <a:lnTo>
                    <a:pt x="759" y="2003"/>
                  </a:lnTo>
                  <a:lnTo>
                    <a:pt x="649" y="291"/>
                  </a:lnTo>
                  <a:lnTo>
                    <a:pt x="693" y="229"/>
                  </a:lnTo>
                  <a:lnTo>
                    <a:pt x="785" y="291"/>
                  </a:lnTo>
                  <a:lnTo>
                    <a:pt x="852" y="1906"/>
                  </a:lnTo>
                  <a:lnTo>
                    <a:pt x="875" y="458"/>
                  </a:lnTo>
                  <a:lnTo>
                    <a:pt x="976" y="194"/>
                  </a:lnTo>
                  <a:lnTo>
                    <a:pt x="1095" y="30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8880" y="5129280"/>
              <a:ext cx="79560" cy="119520"/>
            </a:xfrm>
            <a:custGeom>
              <a:avLst/>
              <a:gdLst/>
              <a:ahLst/>
              <a:rect l="0" t="0" r="r" b="b"/>
              <a:pathLst>
                <a:path w="221" h="332">
                  <a:moveTo>
                    <a:pt x="221" y="332"/>
                  </a:moveTo>
                  <a:lnTo>
                    <a:pt x="221" y="0"/>
                  </a:lnTo>
                  <a:lnTo>
                    <a:pt x="0" y="0"/>
                  </a:lnTo>
                  <a:lnTo>
                    <a:pt x="155" y="66"/>
                  </a:lnTo>
                  <a:lnTo>
                    <a:pt x="221" y="3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70000" y="5118120"/>
              <a:ext cx="603720" cy="116280"/>
            </a:xfrm>
            <a:custGeom>
              <a:avLst/>
              <a:gdLst/>
              <a:ahLst/>
              <a:rect l="0" t="0" r="r" b="b"/>
              <a:pathLst>
                <a:path w="1677" h="323">
                  <a:moveTo>
                    <a:pt x="1677" y="0"/>
                  </a:moveTo>
                  <a:lnTo>
                    <a:pt x="0" y="0"/>
                  </a:lnTo>
                  <a:lnTo>
                    <a:pt x="0" y="323"/>
                  </a:lnTo>
                  <a:lnTo>
                    <a:pt x="44" y="66"/>
                  </a:lnTo>
                  <a:lnTo>
                    <a:pt x="1638" y="66"/>
                  </a:lnTo>
                  <a:lnTo>
                    <a:pt x="16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7240" y="609768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143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169" y="9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71600" y="5983200"/>
              <a:ext cx="767160" cy="267120"/>
            </a:xfrm>
            <a:custGeom>
              <a:avLst/>
              <a:gdLst/>
              <a:ahLst/>
              <a:rect l="0" t="0" r="r" b="b"/>
              <a:pathLst>
                <a:path w="2131" h="742">
                  <a:moveTo>
                    <a:pt x="2105" y="512"/>
                  </a:moveTo>
                  <a:lnTo>
                    <a:pt x="1774" y="538"/>
                  </a:lnTo>
                  <a:lnTo>
                    <a:pt x="1517" y="472"/>
                  </a:lnTo>
                  <a:lnTo>
                    <a:pt x="1315" y="340"/>
                  </a:lnTo>
                  <a:lnTo>
                    <a:pt x="1196" y="239"/>
                  </a:lnTo>
                  <a:lnTo>
                    <a:pt x="1151" y="167"/>
                  </a:lnTo>
                  <a:lnTo>
                    <a:pt x="1218" y="132"/>
                  </a:lnTo>
                  <a:lnTo>
                    <a:pt x="1151" y="101"/>
                  </a:lnTo>
                  <a:lnTo>
                    <a:pt x="949" y="132"/>
                  </a:lnTo>
                  <a:lnTo>
                    <a:pt x="613" y="101"/>
                  </a:lnTo>
                  <a:lnTo>
                    <a:pt x="317" y="70"/>
                  </a:lnTo>
                  <a:lnTo>
                    <a:pt x="185" y="35"/>
                  </a:lnTo>
                  <a:lnTo>
                    <a:pt x="70" y="0"/>
                  </a:lnTo>
                  <a:lnTo>
                    <a:pt x="0" y="0"/>
                  </a:lnTo>
                  <a:lnTo>
                    <a:pt x="70" y="167"/>
                  </a:lnTo>
                  <a:lnTo>
                    <a:pt x="246" y="340"/>
                  </a:lnTo>
                  <a:lnTo>
                    <a:pt x="383" y="441"/>
                  </a:lnTo>
                  <a:lnTo>
                    <a:pt x="92" y="512"/>
                  </a:lnTo>
                  <a:lnTo>
                    <a:pt x="185" y="575"/>
                  </a:lnTo>
                  <a:lnTo>
                    <a:pt x="339" y="575"/>
                  </a:lnTo>
                  <a:lnTo>
                    <a:pt x="454" y="641"/>
                  </a:lnTo>
                  <a:lnTo>
                    <a:pt x="887" y="672"/>
                  </a:lnTo>
                  <a:lnTo>
                    <a:pt x="1390" y="742"/>
                  </a:lnTo>
                  <a:lnTo>
                    <a:pt x="1500" y="742"/>
                  </a:lnTo>
                  <a:lnTo>
                    <a:pt x="2131" y="538"/>
                  </a:lnTo>
                  <a:lnTo>
                    <a:pt x="1456" y="672"/>
                  </a:lnTo>
                  <a:lnTo>
                    <a:pt x="993" y="575"/>
                  </a:lnTo>
                  <a:lnTo>
                    <a:pt x="688" y="472"/>
                  </a:lnTo>
                  <a:lnTo>
                    <a:pt x="427" y="340"/>
                  </a:lnTo>
                  <a:lnTo>
                    <a:pt x="246" y="217"/>
                  </a:lnTo>
                  <a:lnTo>
                    <a:pt x="185" y="101"/>
                  </a:lnTo>
                  <a:lnTo>
                    <a:pt x="471" y="167"/>
                  </a:lnTo>
                  <a:lnTo>
                    <a:pt x="847" y="217"/>
                  </a:lnTo>
                  <a:lnTo>
                    <a:pt x="1151" y="217"/>
                  </a:lnTo>
                  <a:lnTo>
                    <a:pt x="1315" y="318"/>
                  </a:lnTo>
                  <a:lnTo>
                    <a:pt x="1611" y="512"/>
                  </a:lnTo>
                  <a:lnTo>
                    <a:pt x="2105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51280" y="6021360"/>
              <a:ext cx="781560" cy="276480"/>
            </a:xfrm>
            <a:custGeom>
              <a:avLst/>
              <a:gdLst/>
              <a:ahLst/>
              <a:rect l="0" t="0" r="r" b="b"/>
              <a:pathLst>
                <a:path w="2171" h="768">
                  <a:moveTo>
                    <a:pt x="0" y="66"/>
                  </a:moveTo>
                  <a:lnTo>
                    <a:pt x="83" y="268"/>
                  </a:lnTo>
                  <a:lnTo>
                    <a:pt x="66" y="304"/>
                  </a:lnTo>
                  <a:lnTo>
                    <a:pt x="176" y="534"/>
                  </a:lnTo>
                  <a:lnTo>
                    <a:pt x="286" y="565"/>
                  </a:lnTo>
                  <a:lnTo>
                    <a:pt x="313" y="636"/>
                  </a:lnTo>
                  <a:lnTo>
                    <a:pt x="1332" y="733"/>
                  </a:lnTo>
                  <a:lnTo>
                    <a:pt x="1271" y="768"/>
                  </a:lnTo>
                  <a:lnTo>
                    <a:pt x="1597" y="733"/>
                  </a:lnTo>
                  <a:lnTo>
                    <a:pt x="1990" y="768"/>
                  </a:lnTo>
                  <a:lnTo>
                    <a:pt x="1880" y="600"/>
                  </a:lnTo>
                  <a:lnTo>
                    <a:pt x="2171" y="366"/>
                  </a:lnTo>
                  <a:lnTo>
                    <a:pt x="1359" y="0"/>
                  </a:lnTo>
                  <a:lnTo>
                    <a:pt x="2101" y="366"/>
                  </a:lnTo>
                  <a:lnTo>
                    <a:pt x="1761" y="565"/>
                  </a:lnTo>
                  <a:lnTo>
                    <a:pt x="1487" y="600"/>
                  </a:lnTo>
                  <a:lnTo>
                    <a:pt x="1504" y="534"/>
                  </a:lnTo>
                  <a:lnTo>
                    <a:pt x="1332" y="600"/>
                  </a:lnTo>
                  <a:lnTo>
                    <a:pt x="697" y="565"/>
                  </a:lnTo>
                  <a:lnTo>
                    <a:pt x="1019" y="406"/>
                  </a:lnTo>
                  <a:lnTo>
                    <a:pt x="511" y="534"/>
                  </a:lnTo>
                  <a:lnTo>
                    <a:pt x="313" y="508"/>
                  </a:lnTo>
                  <a:lnTo>
                    <a:pt x="198" y="406"/>
                  </a:lnTo>
                  <a:lnTo>
                    <a:pt x="83" y="171"/>
                  </a:lnTo>
                  <a:lnTo>
                    <a:pt x="511" y="304"/>
                  </a:lnTo>
                  <a:lnTo>
                    <a:pt x="830" y="304"/>
                  </a:lnTo>
                  <a:lnTo>
                    <a:pt x="1019" y="304"/>
                  </a:lnTo>
                  <a:lnTo>
                    <a:pt x="449" y="23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41520" y="6008760"/>
              <a:ext cx="136800" cy="133560"/>
            </a:xfrm>
            <a:custGeom>
              <a:avLst/>
              <a:gdLst/>
              <a:ahLst/>
              <a:rect l="0" t="0" r="r" b="b"/>
              <a:pathLst>
                <a:path w="380" h="371">
                  <a:moveTo>
                    <a:pt x="380" y="0"/>
                  </a:moveTo>
                  <a:lnTo>
                    <a:pt x="0" y="371"/>
                  </a:lnTo>
                  <a:lnTo>
                    <a:pt x="274" y="3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6440" y="4911840"/>
              <a:ext cx="81360" cy="52920"/>
            </a:xfrm>
            <a:custGeom>
              <a:avLst/>
              <a:gdLst/>
              <a:ahLst/>
              <a:rect l="0" t="0" r="r" b="b"/>
              <a:pathLst>
                <a:path w="226" h="147">
                  <a:moveTo>
                    <a:pt x="226" y="147"/>
                  </a:moveTo>
                  <a:lnTo>
                    <a:pt x="93" y="125"/>
                  </a:lnTo>
                  <a:lnTo>
                    <a:pt x="0" y="125"/>
                  </a:lnTo>
                  <a:lnTo>
                    <a:pt x="8" y="0"/>
                  </a:lnTo>
                  <a:lnTo>
                    <a:pt x="44" y="80"/>
                  </a:lnTo>
                  <a:lnTo>
                    <a:pt x="226" y="1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4160" y="4906800"/>
              <a:ext cx="633600" cy="33840"/>
            </a:xfrm>
            <a:custGeom>
              <a:avLst/>
              <a:gdLst/>
              <a:ahLst/>
              <a:rect l="0" t="0" r="r" b="b"/>
              <a:pathLst>
                <a:path w="1760" h="94">
                  <a:moveTo>
                    <a:pt x="1760" y="94"/>
                  </a:moveTo>
                  <a:lnTo>
                    <a:pt x="1182" y="49"/>
                  </a:lnTo>
                  <a:lnTo>
                    <a:pt x="802" y="72"/>
                  </a:lnTo>
                  <a:lnTo>
                    <a:pt x="30" y="72"/>
                  </a:lnTo>
                  <a:lnTo>
                    <a:pt x="0" y="0"/>
                  </a:lnTo>
                  <a:lnTo>
                    <a:pt x="1266" y="31"/>
                  </a:lnTo>
                  <a:lnTo>
                    <a:pt x="1760" y="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4800" y="4964040"/>
              <a:ext cx="574920" cy="33840"/>
            </a:xfrm>
            <a:custGeom>
              <a:avLst/>
              <a:gdLst/>
              <a:ahLst/>
              <a:rect l="0" t="0" r="r" b="b"/>
              <a:pathLst>
                <a:path w="1597" h="94">
                  <a:moveTo>
                    <a:pt x="1597" y="17"/>
                  </a:moveTo>
                  <a:lnTo>
                    <a:pt x="988" y="49"/>
                  </a:lnTo>
                  <a:lnTo>
                    <a:pt x="405" y="94"/>
                  </a:lnTo>
                  <a:lnTo>
                    <a:pt x="0" y="31"/>
                  </a:lnTo>
                  <a:lnTo>
                    <a:pt x="295" y="17"/>
                  </a:lnTo>
                  <a:lnTo>
                    <a:pt x="648" y="31"/>
                  </a:lnTo>
                  <a:lnTo>
                    <a:pt x="1345" y="0"/>
                  </a:lnTo>
                  <a:lnTo>
                    <a:pt x="1597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43200" y="4997520"/>
              <a:ext cx="87840" cy="20880"/>
            </a:xfrm>
            <a:custGeom>
              <a:avLst/>
              <a:gdLst/>
              <a:ahLst/>
              <a:rect l="0" t="0" r="r" b="b"/>
              <a:pathLst>
                <a:path w="244" h="58">
                  <a:moveTo>
                    <a:pt x="244" y="58"/>
                  </a:moveTo>
                  <a:lnTo>
                    <a:pt x="0" y="0"/>
                  </a:lnTo>
                  <a:lnTo>
                    <a:pt x="0" y="45"/>
                  </a:lnTo>
                  <a:lnTo>
                    <a:pt x="244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33560" y="3137040"/>
              <a:ext cx="541800" cy="711720"/>
            </a:xfrm>
            <a:custGeom>
              <a:avLst/>
              <a:gdLst/>
              <a:ahLst/>
              <a:rect l="0" t="0" r="r" b="b"/>
              <a:pathLst>
                <a:path w="1505" h="1977">
                  <a:moveTo>
                    <a:pt x="246" y="613"/>
                  </a:moveTo>
                  <a:lnTo>
                    <a:pt x="406" y="671"/>
                  </a:lnTo>
                  <a:lnTo>
                    <a:pt x="596" y="693"/>
                  </a:lnTo>
                  <a:lnTo>
                    <a:pt x="781" y="640"/>
                  </a:lnTo>
                  <a:lnTo>
                    <a:pt x="896" y="591"/>
                  </a:lnTo>
                  <a:lnTo>
                    <a:pt x="874" y="538"/>
                  </a:lnTo>
                  <a:lnTo>
                    <a:pt x="1010" y="489"/>
                  </a:lnTo>
                  <a:lnTo>
                    <a:pt x="1161" y="339"/>
                  </a:lnTo>
                  <a:lnTo>
                    <a:pt x="1236" y="185"/>
                  </a:lnTo>
                  <a:lnTo>
                    <a:pt x="1267" y="30"/>
                  </a:lnTo>
                  <a:lnTo>
                    <a:pt x="1324" y="0"/>
                  </a:lnTo>
                  <a:lnTo>
                    <a:pt x="1267" y="233"/>
                  </a:lnTo>
                  <a:lnTo>
                    <a:pt x="1183" y="357"/>
                  </a:lnTo>
                  <a:lnTo>
                    <a:pt x="1032" y="538"/>
                  </a:lnTo>
                  <a:lnTo>
                    <a:pt x="1219" y="383"/>
                  </a:lnTo>
                  <a:lnTo>
                    <a:pt x="1302" y="233"/>
                  </a:lnTo>
                  <a:lnTo>
                    <a:pt x="1346" y="105"/>
                  </a:lnTo>
                  <a:lnTo>
                    <a:pt x="1413" y="105"/>
                  </a:lnTo>
                  <a:lnTo>
                    <a:pt x="1307" y="286"/>
                  </a:lnTo>
                  <a:lnTo>
                    <a:pt x="1197" y="440"/>
                  </a:lnTo>
                  <a:lnTo>
                    <a:pt x="1046" y="591"/>
                  </a:lnTo>
                  <a:lnTo>
                    <a:pt x="1236" y="516"/>
                  </a:lnTo>
                  <a:lnTo>
                    <a:pt x="1382" y="357"/>
                  </a:lnTo>
                  <a:lnTo>
                    <a:pt x="1435" y="255"/>
                  </a:lnTo>
                  <a:lnTo>
                    <a:pt x="1452" y="185"/>
                  </a:lnTo>
                  <a:lnTo>
                    <a:pt x="1505" y="207"/>
                  </a:lnTo>
                  <a:lnTo>
                    <a:pt x="1413" y="357"/>
                  </a:lnTo>
                  <a:lnTo>
                    <a:pt x="1302" y="516"/>
                  </a:lnTo>
                  <a:lnTo>
                    <a:pt x="1183" y="613"/>
                  </a:lnTo>
                  <a:lnTo>
                    <a:pt x="1063" y="640"/>
                  </a:lnTo>
                  <a:lnTo>
                    <a:pt x="1010" y="693"/>
                  </a:lnTo>
                  <a:lnTo>
                    <a:pt x="1010" y="777"/>
                  </a:lnTo>
                  <a:lnTo>
                    <a:pt x="944" y="856"/>
                  </a:lnTo>
                  <a:lnTo>
                    <a:pt x="803" y="882"/>
                  </a:lnTo>
                  <a:lnTo>
                    <a:pt x="666" y="909"/>
                  </a:lnTo>
                  <a:lnTo>
                    <a:pt x="508" y="882"/>
                  </a:lnTo>
                  <a:lnTo>
                    <a:pt x="343" y="856"/>
                  </a:lnTo>
                  <a:lnTo>
                    <a:pt x="246" y="799"/>
                  </a:lnTo>
                  <a:lnTo>
                    <a:pt x="189" y="931"/>
                  </a:lnTo>
                  <a:lnTo>
                    <a:pt x="176" y="1129"/>
                  </a:lnTo>
                  <a:lnTo>
                    <a:pt x="163" y="1407"/>
                  </a:lnTo>
                  <a:lnTo>
                    <a:pt x="176" y="1642"/>
                  </a:lnTo>
                  <a:lnTo>
                    <a:pt x="211" y="1770"/>
                  </a:lnTo>
                  <a:lnTo>
                    <a:pt x="211" y="1845"/>
                  </a:lnTo>
                  <a:lnTo>
                    <a:pt x="277" y="1924"/>
                  </a:lnTo>
                  <a:lnTo>
                    <a:pt x="277" y="1977"/>
                  </a:lnTo>
                  <a:lnTo>
                    <a:pt x="163" y="1876"/>
                  </a:lnTo>
                  <a:lnTo>
                    <a:pt x="0" y="1823"/>
                  </a:lnTo>
                  <a:lnTo>
                    <a:pt x="0" y="1792"/>
                  </a:lnTo>
                  <a:lnTo>
                    <a:pt x="105" y="1792"/>
                  </a:lnTo>
                  <a:lnTo>
                    <a:pt x="74" y="1469"/>
                  </a:lnTo>
                  <a:lnTo>
                    <a:pt x="52" y="1178"/>
                  </a:lnTo>
                  <a:lnTo>
                    <a:pt x="83" y="1129"/>
                  </a:lnTo>
                  <a:lnTo>
                    <a:pt x="105" y="909"/>
                  </a:lnTo>
                  <a:lnTo>
                    <a:pt x="163" y="759"/>
                  </a:lnTo>
                  <a:lnTo>
                    <a:pt x="246" y="6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30280" y="3124080"/>
              <a:ext cx="35280" cy="124200"/>
            </a:xfrm>
            <a:custGeom>
              <a:avLst/>
              <a:gdLst/>
              <a:ahLst/>
              <a:rect l="0" t="0" r="r" b="b"/>
              <a:pathLst>
                <a:path w="98" h="345">
                  <a:moveTo>
                    <a:pt x="98" y="13"/>
                  </a:moveTo>
                  <a:lnTo>
                    <a:pt x="62" y="172"/>
                  </a:lnTo>
                  <a:lnTo>
                    <a:pt x="0" y="345"/>
                  </a:lnTo>
                  <a:lnTo>
                    <a:pt x="26" y="115"/>
                  </a:lnTo>
                  <a:lnTo>
                    <a:pt x="0" y="0"/>
                  </a:lnTo>
                  <a:lnTo>
                    <a:pt x="98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4200" y="3124080"/>
              <a:ext cx="386280" cy="243360"/>
            </a:xfrm>
            <a:custGeom>
              <a:avLst/>
              <a:gdLst/>
              <a:ahLst/>
              <a:rect l="0" t="0" r="r" b="b"/>
              <a:pathLst>
                <a:path w="1073" h="676">
                  <a:moveTo>
                    <a:pt x="1073" y="83"/>
                  </a:moveTo>
                  <a:lnTo>
                    <a:pt x="763" y="0"/>
                  </a:lnTo>
                  <a:lnTo>
                    <a:pt x="486" y="0"/>
                  </a:lnTo>
                  <a:lnTo>
                    <a:pt x="309" y="13"/>
                  </a:lnTo>
                  <a:lnTo>
                    <a:pt x="136" y="83"/>
                  </a:lnTo>
                  <a:lnTo>
                    <a:pt x="52" y="217"/>
                  </a:lnTo>
                  <a:lnTo>
                    <a:pt x="13" y="340"/>
                  </a:lnTo>
                  <a:lnTo>
                    <a:pt x="0" y="393"/>
                  </a:lnTo>
                  <a:lnTo>
                    <a:pt x="0" y="477"/>
                  </a:lnTo>
                  <a:lnTo>
                    <a:pt x="105" y="597"/>
                  </a:lnTo>
                  <a:lnTo>
                    <a:pt x="242" y="676"/>
                  </a:lnTo>
                  <a:lnTo>
                    <a:pt x="292" y="494"/>
                  </a:lnTo>
                  <a:lnTo>
                    <a:pt x="344" y="419"/>
                  </a:lnTo>
                  <a:lnTo>
                    <a:pt x="441" y="340"/>
                  </a:lnTo>
                  <a:lnTo>
                    <a:pt x="569" y="322"/>
                  </a:lnTo>
                  <a:lnTo>
                    <a:pt x="424" y="340"/>
                  </a:lnTo>
                  <a:lnTo>
                    <a:pt x="309" y="419"/>
                  </a:lnTo>
                  <a:lnTo>
                    <a:pt x="406" y="292"/>
                  </a:lnTo>
                  <a:lnTo>
                    <a:pt x="292" y="393"/>
                  </a:lnTo>
                  <a:lnTo>
                    <a:pt x="224" y="494"/>
                  </a:lnTo>
                  <a:lnTo>
                    <a:pt x="202" y="597"/>
                  </a:lnTo>
                  <a:lnTo>
                    <a:pt x="171" y="522"/>
                  </a:lnTo>
                  <a:lnTo>
                    <a:pt x="224" y="371"/>
                  </a:lnTo>
                  <a:lnTo>
                    <a:pt x="278" y="269"/>
                  </a:lnTo>
                  <a:lnTo>
                    <a:pt x="344" y="199"/>
                  </a:lnTo>
                  <a:lnTo>
                    <a:pt x="292" y="172"/>
                  </a:lnTo>
                  <a:lnTo>
                    <a:pt x="224" y="322"/>
                  </a:lnTo>
                  <a:lnTo>
                    <a:pt x="171" y="393"/>
                  </a:lnTo>
                  <a:lnTo>
                    <a:pt x="136" y="477"/>
                  </a:lnTo>
                  <a:lnTo>
                    <a:pt x="119" y="371"/>
                  </a:lnTo>
                  <a:lnTo>
                    <a:pt x="158" y="269"/>
                  </a:lnTo>
                  <a:lnTo>
                    <a:pt x="242" y="199"/>
                  </a:lnTo>
                  <a:lnTo>
                    <a:pt x="292" y="141"/>
                  </a:lnTo>
                  <a:lnTo>
                    <a:pt x="278" y="114"/>
                  </a:lnTo>
                  <a:lnTo>
                    <a:pt x="389" y="66"/>
                  </a:lnTo>
                  <a:lnTo>
                    <a:pt x="552" y="35"/>
                  </a:lnTo>
                  <a:lnTo>
                    <a:pt x="746" y="35"/>
                  </a:lnTo>
                  <a:lnTo>
                    <a:pt x="923" y="83"/>
                  </a:lnTo>
                  <a:lnTo>
                    <a:pt x="1038" y="141"/>
                  </a:lnTo>
                  <a:lnTo>
                    <a:pt x="1073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85960" y="3303720"/>
              <a:ext cx="617760" cy="1029240"/>
            </a:xfrm>
            <a:custGeom>
              <a:avLst/>
              <a:gdLst/>
              <a:ahLst/>
              <a:rect l="0" t="0" r="r" b="b"/>
              <a:pathLst>
                <a:path w="1716" h="2859">
                  <a:moveTo>
                    <a:pt x="357" y="0"/>
                  </a:moveTo>
                  <a:lnTo>
                    <a:pt x="185" y="123"/>
                  </a:lnTo>
                  <a:lnTo>
                    <a:pt x="70" y="264"/>
                  </a:lnTo>
                  <a:lnTo>
                    <a:pt x="22" y="418"/>
                  </a:lnTo>
                  <a:lnTo>
                    <a:pt x="0" y="590"/>
                  </a:lnTo>
                  <a:lnTo>
                    <a:pt x="22" y="763"/>
                  </a:lnTo>
                  <a:lnTo>
                    <a:pt x="105" y="1002"/>
                  </a:lnTo>
                  <a:lnTo>
                    <a:pt x="216" y="1231"/>
                  </a:lnTo>
                  <a:lnTo>
                    <a:pt x="273" y="1359"/>
                  </a:lnTo>
                  <a:lnTo>
                    <a:pt x="308" y="1535"/>
                  </a:lnTo>
                  <a:lnTo>
                    <a:pt x="357" y="1659"/>
                  </a:lnTo>
                  <a:lnTo>
                    <a:pt x="405" y="1791"/>
                  </a:lnTo>
                  <a:lnTo>
                    <a:pt x="445" y="1866"/>
                  </a:lnTo>
                  <a:lnTo>
                    <a:pt x="392" y="2047"/>
                  </a:lnTo>
                  <a:lnTo>
                    <a:pt x="357" y="2273"/>
                  </a:lnTo>
                  <a:lnTo>
                    <a:pt x="357" y="2453"/>
                  </a:lnTo>
                  <a:lnTo>
                    <a:pt x="343" y="2643"/>
                  </a:lnTo>
                  <a:lnTo>
                    <a:pt x="308" y="2793"/>
                  </a:lnTo>
                  <a:lnTo>
                    <a:pt x="255" y="2859"/>
                  </a:lnTo>
                  <a:lnTo>
                    <a:pt x="321" y="2859"/>
                  </a:lnTo>
                  <a:lnTo>
                    <a:pt x="357" y="2744"/>
                  </a:lnTo>
                  <a:lnTo>
                    <a:pt x="405" y="2568"/>
                  </a:lnTo>
                  <a:lnTo>
                    <a:pt x="427" y="2370"/>
                  </a:lnTo>
                  <a:lnTo>
                    <a:pt x="445" y="2590"/>
                  </a:lnTo>
                  <a:lnTo>
                    <a:pt x="427" y="2744"/>
                  </a:lnTo>
                  <a:lnTo>
                    <a:pt x="405" y="2819"/>
                  </a:lnTo>
                  <a:lnTo>
                    <a:pt x="379" y="2859"/>
                  </a:lnTo>
                  <a:lnTo>
                    <a:pt x="427" y="2859"/>
                  </a:lnTo>
                  <a:lnTo>
                    <a:pt x="485" y="2691"/>
                  </a:lnTo>
                  <a:lnTo>
                    <a:pt x="493" y="2859"/>
                  </a:lnTo>
                  <a:lnTo>
                    <a:pt x="599" y="2859"/>
                  </a:lnTo>
                  <a:lnTo>
                    <a:pt x="723" y="2837"/>
                  </a:lnTo>
                  <a:lnTo>
                    <a:pt x="882" y="2793"/>
                  </a:lnTo>
                  <a:lnTo>
                    <a:pt x="1006" y="2793"/>
                  </a:lnTo>
                  <a:lnTo>
                    <a:pt x="1006" y="2691"/>
                  </a:lnTo>
                  <a:lnTo>
                    <a:pt x="1090" y="2669"/>
                  </a:lnTo>
                  <a:lnTo>
                    <a:pt x="1209" y="2621"/>
                  </a:lnTo>
                  <a:lnTo>
                    <a:pt x="1266" y="2590"/>
                  </a:lnTo>
                  <a:lnTo>
                    <a:pt x="1420" y="2669"/>
                  </a:lnTo>
                  <a:lnTo>
                    <a:pt x="1570" y="2691"/>
                  </a:lnTo>
                  <a:lnTo>
                    <a:pt x="1654" y="2691"/>
                  </a:lnTo>
                  <a:lnTo>
                    <a:pt x="1716" y="2643"/>
                  </a:lnTo>
                  <a:lnTo>
                    <a:pt x="1592" y="2669"/>
                  </a:lnTo>
                  <a:lnTo>
                    <a:pt x="1592" y="2691"/>
                  </a:lnTo>
                  <a:lnTo>
                    <a:pt x="1473" y="2669"/>
                  </a:lnTo>
                  <a:lnTo>
                    <a:pt x="1354" y="2590"/>
                  </a:lnTo>
                  <a:lnTo>
                    <a:pt x="1178" y="2493"/>
                  </a:lnTo>
                  <a:lnTo>
                    <a:pt x="1019" y="2330"/>
                  </a:lnTo>
                  <a:lnTo>
                    <a:pt x="913" y="2171"/>
                  </a:lnTo>
                  <a:lnTo>
                    <a:pt x="802" y="2069"/>
                  </a:lnTo>
                  <a:lnTo>
                    <a:pt x="767" y="1994"/>
                  </a:lnTo>
                  <a:lnTo>
                    <a:pt x="736" y="1994"/>
                  </a:lnTo>
                  <a:lnTo>
                    <a:pt x="767" y="2069"/>
                  </a:lnTo>
                  <a:lnTo>
                    <a:pt x="736" y="2117"/>
                  </a:lnTo>
                  <a:lnTo>
                    <a:pt x="670" y="2095"/>
                  </a:lnTo>
                  <a:lnTo>
                    <a:pt x="657" y="2047"/>
                  </a:lnTo>
                  <a:lnTo>
                    <a:pt x="670" y="1994"/>
                  </a:lnTo>
                  <a:lnTo>
                    <a:pt x="687" y="1972"/>
                  </a:lnTo>
                  <a:lnTo>
                    <a:pt x="573" y="1941"/>
                  </a:lnTo>
                  <a:lnTo>
                    <a:pt x="485" y="1844"/>
                  </a:lnTo>
                  <a:lnTo>
                    <a:pt x="427" y="1738"/>
                  </a:lnTo>
                  <a:lnTo>
                    <a:pt x="379" y="1619"/>
                  </a:lnTo>
                  <a:lnTo>
                    <a:pt x="343" y="1509"/>
                  </a:lnTo>
                  <a:lnTo>
                    <a:pt x="357" y="1434"/>
                  </a:lnTo>
                  <a:lnTo>
                    <a:pt x="467" y="1487"/>
                  </a:lnTo>
                  <a:lnTo>
                    <a:pt x="533" y="1588"/>
                  </a:lnTo>
                  <a:lnTo>
                    <a:pt x="586" y="1659"/>
                  </a:lnTo>
                  <a:lnTo>
                    <a:pt x="621" y="1738"/>
                  </a:lnTo>
                  <a:lnTo>
                    <a:pt x="670" y="1813"/>
                  </a:lnTo>
                  <a:lnTo>
                    <a:pt x="657" y="1659"/>
                  </a:lnTo>
                  <a:lnTo>
                    <a:pt x="705" y="1641"/>
                  </a:lnTo>
                  <a:lnTo>
                    <a:pt x="621" y="1509"/>
                  </a:lnTo>
                  <a:lnTo>
                    <a:pt x="485" y="1434"/>
                  </a:lnTo>
                  <a:lnTo>
                    <a:pt x="405" y="1407"/>
                  </a:lnTo>
                  <a:lnTo>
                    <a:pt x="405" y="1359"/>
                  </a:lnTo>
                  <a:lnTo>
                    <a:pt x="493" y="1381"/>
                  </a:lnTo>
                  <a:lnTo>
                    <a:pt x="445" y="1231"/>
                  </a:lnTo>
                  <a:lnTo>
                    <a:pt x="427" y="1032"/>
                  </a:lnTo>
                  <a:lnTo>
                    <a:pt x="392" y="790"/>
                  </a:lnTo>
                  <a:lnTo>
                    <a:pt x="405" y="590"/>
                  </a:lnTo>
                  <a:lnTo>
                    <a:pt x="445" y="440"/>
                  </a:lnTo>
                  <a:lnTo>
                    <a:pt x="485" y="339"/>
                  </a:lnTo>
                  <a:lnTo>
                    <a:pt x="392" y="639"/>
                  </a:lnTo>
                  <a:lnTo>
                    <a:pt x="427" y="291"/>
                  </a:lnTo>
                  <a:lnTo>
                    <a:pt x="308" y="812"/>
                  </a:lnTo>
                  <a:lnTo>
                    <a:pt x="343" y="317"/>
                  </a:lnTo>
                  <a:lnTo>
                    <a:pt x="255" y="661"/>
                  </a:lnTo>
                  <a:lnTo>
                    <a:pt x="255" y="366"/>
                  </a:lnTo>
                  <a:lnTo>
                    <a:pt x="185" y="590"/>
                  </a:lnTo>
                  <a:lnTo>
                    <a:pt x="163" y="388"/>
                  </a:lnTo>
                  <a:lnTo>
                    <a:pt x="105" y="542"/>
                  </a:lnTo>
                  <a:lnTo>
                    <a:pt x="119" y="339"/>
                  </a:lnTo>
                  <a:lnTo>
                    <a:pt x="185" y="229"/>
                  </a:lnTo>
                  <a:lnTo>
                    <a:pt x="273" y="149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09760" y="3311640"/>
              <a:ext cx="214560" cy="616320"/>
            </a:xfrm>
            <a:custGeom>
              <a:avLst/>
              <a:gdLst/>
              <a:ahLst/>
              <a:rect l="0" t="0" r="r" b="b"/>
              <a:pathLst>
                <a:path w="596" h="1712">
                  <a:moveTo>
                    <a:pt x="260" y="0"/>
                  </a:moveTo>
                  <a:lnTo>
                    <a:pt x="367" y="123"/>
                  </a:lnTo>
                  <a:lnTo>
                    <a:pt x="406" y="392"/>
                  </a:lnTo>
                  <a:lnTo>
                    <a:pt x="424" y="688"/>
                  </a:lnTo>
                  <a:lnTo>
                    <a:pt x="424" y="843"/>
                  </a:lnTo>
                  <a:lnTo>
                    <a:pt x="424" y="922"/>
                  </a:lnTo>
                  <a:lnTo>
                    <a:pt x="353" y="896"/>
                  </a:lnTo>
                  <a:lnTo>
                    <a:pt x="389" y="1054"/>
                  </a:lnTo>
                  <a:lnTo>
                    <a:pt x="472" y="1235"/>
                  </a:lnTo>
                  <a:lnTo>
                    <a:pt x="543" y="1461"/>
                  </a:lnTo>
                  <a:lnTo>
                    <a:pt x="596" y="1664"/>
                  </a:lnTo>
                  <a:lnTo>
                    <a:pt x="578" y="1712"/>
                  </a:lnTo>
                  <a:lnTo>
                    <a:pt x="525" y="1492"/>
                  </a:lnTo>
                  <a:lnTo>
                    <a:pt x="437" y="1235"/>
                  </a:lnTo>
                  <a:lnTo>
                    <a:pt x="389" y="1076"/>
                  </a:lnTo>
                  <a:lnTo>
                    <a:pt x="336" y="922"/>
                  </a:lnTo>
                  <a:lnTo>
                    <a:pt x="277" y="768"/>
                  </a:lnTo>
                  <a:lnTo>
                    <a:pt x="238" y="613"/>
                  </a:lnTo>
                  <a:lnTo>
                    <a:pt x="171" y="472"/>
                  </a:lnTo>
                  <a:lnTo>
                    <a:pt x="79" y="343"/>
                  </a:lnTo>
                  <a:lnTo>
                    <a:pt x="0" y="238"/>
                  </a:lnTo>
                  <a:lnTo>
                    <a:pt x="189" y="418"/>
                  </a:lnTo>
                  <a:lnTo>
                    <a:pt x="136" y="268"/>
                  </a:lnTo>
                  <a:lnTo>
                    <a:pt x="238" y="446"/>
                  </a:lnTo>
                  <a:lnTo>
                    <a:pt x="189" y="238"/>
                  </a:lnTo>
                  <a:lnTo>
                    <a:pt x="277" y="418"/>
                  </a:lnTo>
                  <a:lnTo>
                    <a:pt x="255" y="207"/>
                  </a:lnTo>
                  <a:lnTo>
                    <a:pt x="336" y="392"/>
                  </a:lnTo>
                  <a:lnTo>
                    <a:pt x="300" y="123"/>
                  </a:lnTo>
                  <a:lnTo>
                    <a:pt x="220" y="7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05080" y="3622680"/>
              <a:ext cx="103680" cy="28800"/>
            </a:xfrm>
            <a:custGeom>
              <a:avLst/>
              <a:gdLst/>
              <a:ahLst/>
              <a:rect l="0" t="0" r="r" b="b"/>
              <a:pathLst>
                <a:path w="288" h="80">
                  <a:moveTo>
                    <a:pt x="288" y="30"/>
                  </a:moveTo>
                  <a:lnTo>
                    <a:pt x="199" y="0"/>
                  </a:lnTo>
                  <a:lnTo>
                    <a:pt x="115" y="0"/>
                  </a:lnTo>
                  <a:lnTo>
                    <a:pt x="0" y="30"/>
                  </a:lnTo>
                  <a:lnTo>
                    <a:pt x="35" y="58"/>
                  </a:lnTo>
                  <a:lnTo>
                    <a:pt x="93" y="80"/>
                  </a:lnTo>
                  <a:lnTo>
                    <a:pt x="128" y="58"/>
                  </a:lnTo>
                  <a:lnTo>
                    <a:pt x="150" y="30"/>
                  </a:lnTo>
                  <a:lnTo>
                    <a:pt x="288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11400" y="3632040"/>
              <a:ext cx="130680" cy="51120"/>
            </a:xfrm>
            <a:custGeom>
              <a:avLst/>
              <a:gdLst/>
              <a:ahLst/>
              <a:rect l="0" t="0" r="r" b="b"/>
              <a:pathLst>
                <a:path w="363" h="142">
                  <a:moveTo>
                    <a:pt x="363" y="0"/>
                  </a:moveTo>
                  <a:lnTo>
                    <a:pt x="225" y="0"/>
                  </a:lnTo>
                  <a:lnTo>
                    <a:pt x="142" y="30"/>
                  </a:lnTo>
                  <a:lnTo>
                    <a:pt x="30" y="52"/>
                  </a:lnTo>
                  <a:lnTo>
                    <a:pt x="0" y="120"/>
                  </a:lnTo>
                  <a:lnTo>
                    <a:pt x="30" y="89"/>
                  </a:lnTo>
                  <a:lnTo>
                    <a:pt x="88" y="142"/>
                  </a:lnTo>
                  <a:lnTo>
                    <a:pt x="155" y="142"/>
                  </a:lnTo>
                  <a:lnTo>
                    <a:pt x="190" y="120"/>
                  </a:lnTo>
                  <a:lnTo>
                    <a:pt x="203" y="52"/>
                  </a:lnTo>
                  <a:lnTo>
                    <a:pt x="225" y="3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7160" y="3489480"/>
              <a:ext cx="55800" cy="27360"/>
            </a:xfrm>
            <a:custGeom>
              <a:avLst/>
              <a:gdLst/>
              <a:ahLst/>
              <a:rect l="0" t="0" r="r" b="b"/>
              <a:pathLst>
                <a:path w="155" h="76">
                  <a:moveTo>
                    <a:pt x="155" y="76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55" y="7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6080" y="3489480"/>
              <a:ext cx="62280" cy="43200"/>
            </a:xfrm>
            <a:custGeom>
              <a:avLst/>
              <a:gdLst/>
              <a:ahLst/>
              <a:rect l="0" t="0" r="r" b="b"/>
              <a:pathLst>
                <a:path w="173" h="120">
                  <a:moveTo>
                    <a:pt x="173" y="0"/>
                  </a:moveTo>
                  <a:lnTo>
                    <a:pt x="0" y="120"/>
                  </a:lnTo>
                  <a:lnTo>
                    <a:pt x="124" y="12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3662280"/>
              <a:ext cx="168480" cy="286200"/>
            </a:xfrm>
            <a:custGeom>
              <a:avLst/>
              <a:gdLst/>
              <a:ahLst/>
              <a:rect l="0" t="0" r="r" b="b"/>
              <a:pathLst>
                <a:path w="468" h="795">
                  <a:moveTo>
                    <a:pt x="52" y="0"/>
                  </a:moveTo>
                  <a:lnTo>
                    <a:pt x="171" y="203"/>
                  </a:lnTo>
                  <a:lnTo>
                    <a:pt x="296" y="327"/>
                  </a:lnTo>
                  <a:lnTo>
                    <a:pt x="389" y="433"/>
                  </a:lnTo>
                  <a:lnTo>
                    <a:pt x="468" y="512"/>
                  </a:lnTo>
                  <a:lnTo>
                    <a:pt x="468" y="561"/>
                  </a:lnTo>
                  <a:lnTo>
                    <a:pt x="459" y="641"/>
                  </a:lnTo>
                  <a:lnTo>
                    <a:pt x="296" y="663"/>
                  </a:lnTo>
                  <a:lnTo>
                    <a:pt x="265" y="738"/>
                  </a:lnTo>
                  <a:lnTo>
                    <a:pt x="185" y="795"/>
                  </a:lnTo>
                  <a:lnTo>
                    <a:pt x="101" y="773"/>
                  </a:lnTo>
                  <a:lnTo>
                    <a:pt x="39" y="711"/>
                  </a:lnTo>
                  <a:lnTo>
                    <a:pt x="0" y="641"/>
                  </a:lnTo>
                  <a:lnTo>
                    <a:pt x="39" y="587"/>
                  </a:lnTo>
                  <a:lnTo>
                    <a:pt x="136" y="587"/>
                  </a:lnTo>
                  <a:lnTo>
                    <a:pt x="424" y="587"/>
                  </a:lnTo>
                  <a:lnTo>
                    <a:pt x="441" y="512"/>
                  </a:lnTo>
                  <a:lnTo>
                    <a:pt x="278" y="380"/>
                  </a:lnTo>
                  <a:lnTo>
                    <a:pt x="171" y="234"/>
                  </a:lnTo>
                  <a:lnTo>
                    <a:pt x="52" y="9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74760" y="3940200"/>
              <a:ext cx="279720" cy="200520"/>
            </a:xfrm>
            <a:custGeom>
              <a:avLst/>
              <a:gdLst/>
              <a:ahLst/>
              <a:rect l="0" t="0" r="r" b="b"/>
              <a:pathLst>
                <a:path w="777" h="557">
                  <a:moveTo>
                    <a:pt x="777" y="22"/>
                  </a:moveTo>
                  <a:lnTo>
                    <a:pt x="777" y="123"/>
                  </a:lnTo>
                  <a:lnTo>
                    <a:pt x="741" y="203"/>
                  </a:lnTo>
                  <a:lnTo>
                    <a:pt x="706" y="252"/>
                  </a:lnTo>
                  <a:lnTo>
                    <a:pt x="693" y="300"/>
                  </a:lnTo>
                  <a:lnTo>
                    <a:pt x="728" y="402"/>
                  </a:lnTo>
                  <a:lnTo>
                    <a:pt x="728" y="478"/>
                  </a:lnTo>
                  <a:lnTo>
                    <a:pt x="693" y="504"/>
                  </a:lnTo>
                  <a:lnTo>
                    <a:pt x="706" y="402"/>
                  </a:lnTo>
                  <a:lnTo>
                    <a:pt x="671" y="327"/>
                  </a:lnTo>
                  <a:lnTo>
                    <a:pt x="627" y="375"/>
                  </a:lnTo>
                  <a:lnTo>
                    <a:pt x="547" y="434"/>
                  </a:lnTo>
                  <a:lnTo>
                    <a:pt x="613" y="327"/>
                  </a:lnTo>
                  <a:lnTo>
                    <a:pt x="613" y="221"/>
                  </a:lnTo>
                  <a:lnTo>
                    <a:pt x="490" y="274"/>
                  </a:lnTo>
                  <a:lnTo>
                    <a:pt x="313" y="274"/>
                  </a:lnTo>
                  <a:lnTo>
                    <a:pt x="229" y="252"/>
                  </a:lnTo>
                  <a:lnTo>
                    <a:pt x="114" y="221"/>
                  </a:lnTo>
                  <a:lnTo>
                    <a:pt x="189" y="327"/>
                  </a:lnTo>
                  <a:lnTo>
                    <a:pt x="255" y="375"/>
                  </a:lnTo>
                  <a:lnTo>
                    <a:pt x="357" y="434"/>
                  </a:lnTo>
                  <a:lnTo>
                    <a:pt x="433" y="434"/>
                  </a:lnTo>
                  <a:lnTo>
                    <a:pt x="455" y="478"/>
                  </a:lnTo>
                  <a:lnTo>
                    <a:pt x="490" y="456"/>
                  </a:lnTo>
                  <a:lnTo>
                    <a:pt x="530" y="504"/>
                  </a:lnTo>
                  <a:lnTo>
                    <a:pt x="561" y="478"/>
                  </a:lnTo>
                  <a:lnTo>
                    <a:pt x="574" y="526"/>
                  </a:lnTo>
                  <a:lnTo>
                    <a:pt x="627" y="526"/>
                  </a:lnTo>
                  <a:lnTo>
                    <a:pt x="530" y="557"/>
                  </a:lnTo>
                  <a:lnTo>
                    <a:pt x="397" y="526"/>
                  </a:lnTo>
                  <a:lnTo>
                    <a:pt x="273" y="504"/>
                  </a:lnTo>
                  <a:lnTo>
                    <a:pt x="171" y="434"/>
                  </a:lnTo>
                  <a:lnTo>
                    <a:pt x="97" y="327"/>
                  </a:lnTo>
                  <a:lnTo>
                    <a:pt x="52" y="252"/>
                  </a:lnTo>
                  <a:lnTo>
                    <a:pt x="0" y="274"/>
                  </a:lnTo>
                  <a:lnTo>
                    <a:pt x="30" y="172"/>
                  </a:lnTo>
                  <a:lnTo>
                    <a:pt x="52" y="123"/>
                  </a:lnTo>
                  <a:lnTo>
                    <a:pt x="30" y="48"/>
                  </a:lnTo>
                  <a:lnTo>
                    <a:pt x="66" y="48"/>
                  </a:lnTo>
                  <a:lnTo>
                    <a:pt x="83" y="22"/>
                  </a:lnTo>
                  <a:lnTo>
                    <a:pt x="136" y="48"/>
                  </a:lnTo>
                  <a:lnTo>
                    <a:pt x="149" y="70"/>
                  </a:lnTo>
                  <a:lnTo>
                    <a:pt x="83" y="150"/>
                  </a:lnTo>
                  <a:lnTo>
                    <a:pt x="114" y="203"/>
                  </a:lnTo>
                  <a:lnTo>
                    <a:pt x="242" y="221"/>
                  </a:lnTo>
                  <a:lnTo>
                    <a:pt x="419" y="252"/>
                  </a:lnTo>
                  <a:lnTo>
                    <a:pt x="547" y="221"/>
                  </a:lnTo>
                  <a:lnTo>
                    <a:pt x="627" y="172"/>
                  </a:lnTo>
                  <a:lnTo>
                    <a:pt x="706" y="123"/>
                  </a:lnTo>
                  <a:lnTo>
                    <a:pt x="741" y="70"/>
                  </a:lnTo>
                  <a:lnTo>
                    <a:pt x="741" y="0"/>
                  </a:lnTo>
                  <a:lnTo>
                    <a:pt x="77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24240" y="3967200"/>
              <a:ext cx="86040" cy="251280"/>
            </a:xfrm>
            <a:custGeom>
              <a:avLst/>
              <a:gdLst/>
              <a:ahLst/>
              <a:rect l="0" t="0" r="r" b="b"/>
              <a:pathLst>
                <a:path w="239" h="698">
                  <a:moveTo>
                    <a:pt x="239" y="0"/>
                  </a:moveTo>
                  <a:lnTo>
                    <a:pt x="190" y="177"/>
                  </a:lnTo>
                  <a:lnTo>
                    <a:pt x="120" y="353"/>
                  </a:lnTo>
                  <a:lnTo>
                    <a:pt x="48" y="503"/>
                  </a:lnTo>
                  <a:lnTo>
                    <a:pt x="13" y="610"/>
                  </a:lnTo>
                  <a:lnTo>
                    <a:pt x="13" y="698"/>
                  </a:lnTo>
                  <a:lnTo>
                    <a:pt x="0" y="557"/>
                  </a:lnTo>
                  <a:lnTo>
                    <a:pt x="48" y="375"/>
                  </a:lnTo>
                  <a:lnTo>
                    <a:pt x="120" y="177"/>
                  </a:lnTo>
                  <a:lnTo>
                    <a:pt x="19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7240" y="4254480"/>
              <a:ext cx="268560" cy="464040"/>
            </a:xfrm>
            <a:custGeom>
              <a:avLst/>
              <a:gdLst/>
              <a:ahLst/>
              <a:rect l="0" t="0" r="r" b="b"/>
              <a:pathLst>
                <a:path w="746" h="1289">
                  <a:moveTo>
                    <a:pt x="384" y="0"/>
                  </a:moveTo>
                  <a:lnTo>
                    <a:pt x="384" y="132"/>
                  </a:lnTo>
                  <a:lnTo>
                    <a:pt x="530" y="101"/>
                  </a:lnTo>
                  <a:lnTo>
                    <a:pt x="746" y="321"/>
                  </a:lnTo>
                  <a:lnTo>
                    <a:pt x="508" y="132"/>
                  </a:lnTo>
                  <a:lnTo>
                    <a:pt x="406" y="154"/>
                  </a:lnTo>
                  <a:lnTo>
                    <a:pt x="508" y="291"/>
                  </a:lnTo>
                  <a:lnTo>
                    <a:pt x="609" y="547"/>
                  </a:lnTo>
                  <a:lnTo>
                    <a:pt x="693" y="834"/>
                  </a:lnTo>
                  <a:lnTo>
                    <a:pt x="746" y="1091"/>
                  </a:lnTo>
                  <a:lnTo>
                    <a:pt x="561" y="684"/>
                  </a:lnTo>
                  <a:lnTo>
                    <a:pt x="710" y="1192"/>
                  </a:lnTo>
                  <a:lnTo>
                    <a:pt x="530" y="733"/>
                  </a:lnTo>
                  <a:lnTo>
                    <a:pt x="662" y="1192"/>
                  </a:lnTo>
                  <a:lnTo>
                    <a:pt x="472" y="785"/>
                  </a:lnTo>
                  <a:lnTo>
                    <a:pt x="609" y="1241"/>
                  </a:lnTo>
                  <a:lnTo>
                    <a:pt x="441" y="882"/>
                  </a:lnTo>
                  <a:lnTo>
                    <a:pt x="561" y="1241"/>
                  </a:lnTo>
                  <a:lnTo>
                    <a:pt x="530" y="1289"/>
                  </a:lnTo>
                  <a:lnTo>
                    <a:pt x="424" y="966"/>
                  </a:lnTo>
                  <a:lnTo>
                    <a:pt x="317" y="710"/>
                  </a:lnTo>
                  <a:lnTo>
                    <a:pt x="189" y="472"/>
                  </a:lnTo>
                  <a:lnTo>
                    <a:pt x="92" y="291"/>
                  </a:lnTo>
                  <a:lnTo>
                    <a:pt x="0" y="194"/>
                  </a:lnTo>
                  <a:lnTo>
                    <a:pt x="211" y="393"/>
                  </a:lnTo>
                  <a:lnTo>
                    <a:pt x="295" y="393"/>
                  </a:lnTo>
                  <a:lnTo>
                    <a:pt x="406" y="371"/>
                  </a:lnTo>
                  <a:lnTo>
                    <a:pt x="441" y="321"/>
                  </a:lnTo>
                  <a:lnTo>
                    <a:pt x="384" y="216"/>
                  </a:lnTo>
                  <a:lnTo>
                    <a:pt x="357" y="291"/>
                  </a:lnTo>
                  <a:lnTo>
                    <a:pt x="357" y="21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41560" y="4340160"/>
              <a:ext cx="106560" cy="170280"/>
            </a:xfrm>
            <a:custGeom>
              <a:avLst/>
              <a:gdLst/>
              <a:ahLst/>
              <a:rect l="0" t="0" r="r" b="b"/>
              <a:pathLst>
                <a:path w="296" h="473">
                  <a:moveTo>
                    <a:pt x="44" y="0"/>
                  </a:moveTo>
                  <a:lnTo>
                    <a:pt x="44" y="155"/>
                  </a:lnTo>
                  <a:lnTo>
                    <a:pt x="296" y="372"/>
                  </a:lnTo>
                  <a:lnTo>
                    <a:pt x="159" y="473"/>
                  </a:lnTo>
                  <a:lnTo>
                    <a:pt x="225" y="394"/>
                  </a:lnTo>
                  <a:lnTo>
                    <a:pt x="44" y="234"/>
                  </a:lnTo>
                  <a:lnTo>
                    <a:pt x="57" y="181"/>
                  </a:lnTo>
                  <a:lnTo>
                    <a:pt x="0" y="10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90880" y="4519440"/>
              <a:ext cx="151200" cy="144720"/>
            </a:xfrm>
            <a:custGeom>
              <a:avLst/>
              <a:gdLst/>
              <a:ahLst/>
              <a:rect l="0" t="0" r="r" b="b"/>
              <a:pathLst>
                <a:path w="420" h="402">
                  <a:moveTo>
                    <a:pt x="420" y="349"/>
                  </a:moveTo>
                  <a:lnTo>
                    <a:pt x="243" y="176"/>
                  </a:lnTo>
                  <a:lnTo>
                    <a:pt x="101" y="70"/>
                  </a:lnTo>
                  <a:lnTo>
                    <a:pt x="0" y="0"/>
                  </a:lnTo>
                  <a:lnTo>
                    <a:pt x="243" y="225"/>
                  </a:lnTo>
                  <a:lnTo>
                    <a:pt x="345" y="349"/>
                  </a:lnTo>
                  <a:lnTo>
                    <a:pt x="403" y="402"/>
                  </a:lnTo>
                  <a:lnTo>
                    <a:pt x="42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79480" y="4332240"/>
              <a:ext cx="105120" cy="109800"/>
            </a:xfrm>
            <a:custGeom>
              <a:avLst/>
              <a:gdLst/>
              <a:ahLst/>
              <a:rect l="0" t="0" r="r" b="b"/>
              <a:pathLst>
                <a:path w="292" h="305">
                  <a:moveTo>
                    <a:pt x="292" y="0"/>
                  </a:moveTo>
                  <a:lnTo>
                    <a:pt x="105" y="0"/>
                  </a:lnTo>
                  <a:lnTo>
                    <a:pt x="39" y="181"/>
                  </a:lnTo>
                  <a:lnTo>
                    <a:pt x="0" y="305"/>
                  </a:lnTo>
                  <a:lnTo>
                    <a:pt x="74" y="305"/>
                  </a:lnTo>
                  <a:lnTo>
                    <a:pt x="92" y="181"/>
                  </a:lnTo>
                  <a:lnTo>
                    <a:pt x="141" y="52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38160" y="4376880"/>
              <a:ext cx="122760" cy="116280"/>
            </a:xfrm>
            <a:custGeom>
              <a:avLst/>
              <a:gdLst/>
              <a:ahLst/>
              <a:rect l="0" t="0" r="r" b="b"/>
              <a:pathLst>
                <a:path w="341" h="323">
                  <a:moveTo>
                    <a:pt x="341" y="323"/>
                  </a:moveTo>
                  <a:lnTo>
                    <a:pt x="133" y="102"/>
                  </a:lnTo>
                  <a:lnTo>
                    <a:pt x="0" y="0"/>
                  </a:lnTo>
                  <a:lnTo>
                    <a:pt x="0" y="79"/>
                  </a:lnTo>
                  <a:lnTo>
                    <a:pt x="341" y="3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7640" y="4441680"/>
              <a:ext cx="135360" cy="86040"/>
            </a:xfrm>
            <a:custGeom>
              <a:avLst/>
              <a:gdLst/>
              <a:ahLst/>
              <a:rect l="0" t="0" r="r" b="b"/>
              <a:pathLst>
                <a:path w="376" h="239">
                  <a:moveTo>
                    <a:pt x="376" y="217"/>
                  </a:moveTo>
                  <a:lnTo>
                    <a:pt x="186" y="88"/>
                  </a:lnTo>
                  <a:lnTo>
                    <a:pt x="79" y="0"/>
                  </a:lnTo>
                  <a:lnTo>
                    <a:pt x="17" y="0"/>
                  </a:lnTo>
                  <a:lnTo>
                    <a:pt x="0" y="61"/>
                  </a:lnTo>
                  <a:lnTo>
                    <a:pt x="52" y="88"/>
                  </a:lnTo>
                  <a:lnTo>
                    <a:pt x="79" y="61"/>
                  </a:lnTo>
                  <a:lnTo>
                    <a:pt x="186" y="114"/>
                  </a:lnTo>
                  <a:lnTo>
                    <a:pt x="239" y="168"/>
                  </a:lnTo>
                  <a:lnTo>
                    <a:pt x="256" y="190"/>
                  </a:lnTo>
                  <a:lnTo>
                    <a:pt x="341" y="239"/>
                  </a:lnTo>
                  <a:lnTo>
                    <a:pt x="376" y="2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4800" y="4510080"/>
              <a:ext cx="147960" cy="282960"/>
            </a:xfrm>
            <a:custGeom>
              <a:avLst/>
              <a:gdLst/>
              <a:ahLst/>
              <a:rect l="0" t="0" r="r" b="b"/>
              <a:pathLst>
                <a:path w="411" h="786">
                  <a:moveTo>
                    <a:pt x="141" y="22"/>
                  </a:moveTo>
                  <a:lnTo>
                    <a:pt x="141" y="203"/>
                  </a:lnTo>
                  <a:lnTo>
                    <a:pt x="141" y="305"/>
                  </a:lnTo>
                  <a:lnTo>
                    <a:pt x="154" y="428"/>
                  </a:lnTo>
                  <a:lnTo>
                    <a:pt x="292" y="305"/>
                  </a:lnTo>
                  <a:lnTo>
                    <a:pt x="411" y="149"/>
                  </a:lnTo>
                  <a:lnTo>
                    <a:pt x="221" y="428"/>
                  </a:lnTo>
                  <a:lnTo>
                    <a:pt x="105" y="508"/>
                  </a:lnTo>
                  <a:lnTo>
                    <a:pt x="202" y="711"/>
                  </a:lnTo>
                  <a:lnTo>
                    <a:pt x="141" y="786"/>
                  </a:lnTo>
                  <a:lnTo>
                    <a:pt x="52" y="663"/>
                  </a:lnTo>
                  <a:lnTo>
                    <a:pt x="35" y="578"/>
                  </a:lnTo>
                  <a:lnTo>
                    <a:pt x="0" y="534"/>
                  </a:lnTo>
                  <a:lnTo>
                    <a:pt x="70" y="455"/>
                  </a:lnTo>
                  <a:lnTo>
                    <a:pt x="35" y="305"/>
                  </a:lnTo>
                  <a:lnTo>
                    <a:pt x="35" y="203"/>
                  </a:lnTo>
                  <a:lnTo>
                    <a:pt x="13" y="48"/>
                  </a:lnTo>
                  <a:lnTo>
                    <a:pt x="35" y="0"/>
                  </a:lnTo>
                  <a:lnTo>
                    <a:pt x="70" y="305"/>
                  </a:lnTo>
                  <a:lnTo>
                    <a:pt x="141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46440" y="4573440"/>
              <a:ext cx="151200" cy="294120"/>
            </a:xfrm>
            <a:custGeom>
              <a:avLst/>
              <a:gdLst/>
              <a:ahLst/>
              <a:rect l="0" t="0" r="r" b="b"/>
              <a:pathLst>
                <a:path w="420" h="817">
                  <a:moveTo>
                    <a:pt x="328" y="0"/>
                  </a:moveTo>
                  <a:lnTo>
                    <a:pt x="212" y="331"/>
                  </a:lnTo>
                  <a:lnTo>
                    <a:pt x="106" y="486"/>
                  </a:lnTo>
                  <a:lnTo>
                    <a:pt x="0" y="591"/>
                  </a:lnTo>
                  <a:lnTo>
                    <a:pt x="106" y="486"/>
                  </a:lnTo>
                  <a:lnTo>
                    <a:pt x="190" y="380"/>
                  </a:lnTo>
                  <a:lnTo>
                    <a:pt x="124" y="591"/>
                  </a:lnTo>
                  <a:lnTo>
                    <a:pt x="0" y="817"/>
                  </a:lnTo>
                  <a:lnTo>
                    <a:pt x="159" y="591"/>
                  </a:lnTo>
                  <a:lnTo>
                    <a:pt x="243" y="406"/>
                  </a:lnTo>
                  <a:lnTo>
                    <a:pt x="328" y="101"/>
                  </a:lnTo>
                  <a:lnTo>
                    <a:pt x="420" y="437"/>
                  </a:lnTo>
                  <a:lnTo>
                    <a:pt x="350" y="52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06480" y="4811760"/>
              <a:ext cx="65520" cy="178200"/>
            </a:xfrm>
            <a:custGeom>
              <a:avLst/>
              <a:gdLst/>
              <a:ahLst/>
              <a:rect l="0" t="0" r="r" b="b"/>
              <a:pathLst>
                <a:path w="182" h="495">
                  <a:moveTo>
                    <a:pt x="67" y="0"/>
                  </a:moveTo>
                  <a:lnTo>
                    <a:pt x="111" y="155"/>
                  </a:lnTo>
                  <a:lnTo>
                    <a:pt x="53" y="155"/>
                  </a:lnTo>
                  <a:lnTo>
                    <a:pt x="182" y="495"/>
                  </a:lnTo>
                  <a:lnTo>
                    <a:pt x="0" y="52"/>
                  </a:lnTo>
                  <a:lnTo>
                    <a:pt x="5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58960" y="3433680"/>
              <a:ext cx="1138680" cy="1800360"/>
            </a:xfrm>
            <a:custGeom>
              <a:avLst/>
              <a:gdLst/>
              <a:ahLst/>
              <a:rect l="0" t="0" r="r" b="b"/>
              <a:pathLst>
                <a:path w="3163" h="5001">
                  <a:moveTo>
                    <a:pt x="35" y="2072"/>
                  </a:moveTo>
                  <a:lnTo>
                    <a:pt x="282" y="1415"/>
                  </a:lnTo>
                  <a:lnTo>
                    <a:pt x="489" y="811"/>
                  </a:lnTo>
                  <a:lnTo>
                    <a:pt x="604" y="366"/>
                  </a:lnTo>
                  <a:lnTo>
                    <a:pt x="670" y="70"/>
                  </a:lnTo>
                  <a:lnTo>
                    <a:pt x="1169" y="440"/>
                  </a:lnTo>
                  <a:lnTo>
                    <a:pt x="1725" y="776"/>
                  </a:lnTo>
                  <a:lnTo>
                    <a:pt x="2436" y="1093"/>
                  </a:lnTo>
                  <a:lnTo>
                    <a:pt x="3137" y="1300"/>
                  </a:lnTo>
                  <a:lnTo>
                    <a:pt x="2762" y="2094"/>
                  </a:lnTo>
                  <a:lnTo>
                    <a:pt x="2422" y="3087"/>
                  </a:lnTo>
                  <a:lnTo>
                    <a:pt x="2064" y="3987"/>
                  </a:lnTo>
                  <a:lnTo>
                    <a:pt x="1681" y="4675"/>
                  </a:lnTo>
                  <a:lnTo>
                    <a:pt x="1522" y="4895"/>
                  </a:lnTo>
                  <a:lnTo>
                    <a:pt x="1107" y="4512"/>
                  </a:lnTo>
                  <a:lnTo>
                    <a:pt x="762" y="4313"/>
                  </a:lnTo>
                  <a:lnTo>
                    <a:pt x="621" y="4238"/>
                  </a:lnTo>
                  <a:lnTo>
                    <a:pt x="630" y="4287"/>
                  </a:lnTo>
                  <a:lnTo>
                    <a:pt x="1019" y="4565"/>
                  </a:lnTo>
                  <a:lnTo>
                    <a:pt x="1253" y="4798"/>
                  </a:lnTo>
                  <a:lnTo>
                    <a:pt x="1368" y="5001"/>
                  </a:lnTo>
                  <a:lnTo>
                    <a:pt x="1416" y="4869"/>
                  </a:lnTo>
                  <a:lnTo>
                    <a:pt x="1562" y="4944"/>
                  </a:lnTo>
                  <a:lnTo>
                    <a:pt x="1782" y="4565"/>
                  </a:lnTo>
                  <a:lnTo>
                    <a:pt x="2038" y="4119"/>
                  </a:lnTo>
                  <a:lnTo>
                    <a:pt x="2360" y="3347"/>
                  </a:lnTo>
                  <a:lnTo>
                    <a:pt x="2691" y="2487"/>
                  </a:lnTo>
                  <a:lnTo>
                    <a:pt x="2912" y="2037"/>
                  </a:lnTo>
                  <a:lnTo>
                    <a:pt x="3124" y="1772"/>
                  </a:lnTo>
                  <a:lnTo>
                    <a:pt x="2991" y="1693"/>
                  </a:lnTo>
                  <a:lnTo>
                    <a:pt x="3163" y="1283"/>
                  </a:lnTo>
                  <a:lnTo>
                    <a:pt x="2528" y="1075"/>
                  </a:lnTo>
                  <a:lnTo>
                    <a:pt x="1980" y="846"/>
                  </a:lnTo>
                  <a:lnTo>
                    <a:pt x="1456" y="573"/>
                  </a:lnTo>
                  <a:lnTo>
                    <a:pt x="993" y="273"/>
                  </a:lnTo>
                  <a:lnTo>
                    <a:pt x="630" y="0"/>
                  </a:lnTo>
                  <a:lnTo>
                    <a:pt x="480" y="679"/>
                  </a:lnTo>
                  <a:lnTo>
                    <a:pt x="220" y="1508"/>
                  </a:lnTo>
                  <a:lnTo>
                    <a:pt x="0" y="2054"/>
                  </a:lnTo>
                  <a:lnTo>
                    <a:pt x="35" y="20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4173480"/>
              <a:ext cx="224280" cy="287640"/>
            </a:xfrm>
            <a:custGeom>
              <a:avLst/>
              <a:gdLst/>
              <a:ahLst/>
              <a:rect l="0" t="0" r="r" b="b"/>
              <a:pathLst>
                <a:path w="623" h="799">
                  <a:moveTo>
                    <a:pt x="234" y="0"/>
                  </a:moveTo>
                  <a:lnTo>
                    <a:pt x="424" y="83"/>
                  </a:lnTo>
                  <a:lnTo>
                    <a:pt x="544" y="185"/>
                  </a:lnTo>
                  <a:lnTo>
                    <a:pt x="610" y="233"/>
                  </a:lnTo>
                  <a:lnTo>
                    <a:pt x="592" y="313"/>
                  </a:lnTo>
                  <a:lnTo>
                    <a:pt x="464" y="352"/>
                  </a:lnTo>
                  <a:lnTo>
                    <a:pt x="283" y="330"/>
                  </a:lnTo>
                  <a:lnTo>
                    <a:pt x="149" y="295"/>
                  </a:lnTo>
                  <a:lnTo>
                    <a:pt x="190" y="388"/>
                  </a:lnTo>
                  <a:lnTo>
                    <a:pt x="177" y="565"/>
                  </a:lnTo>
                  <a:lnTo>
                    <a:pt x="105" y="680"/>
                  </a:lnTo>
                  <a:lnTo>
                    <a:pt x="26" y="406"/>
                  </a:lnTo>
                  <a:lnTo>
                    <a:pt x="57" y="198"/>
                  </a:lnTo>
                  <a:lnTo>
                    <a:pt x="123" y="66"/>
                  </a:lnTo>
                  <a:lnTo>
                    <a:pt x="177" y="17"/>
                  </a:lnTo>
                  <a:lnTo>
                    <a:pt x="105" y="17"/>
                  </a:lnTo>
                  <a:lnTo>
                    <a:pt x="26" y="185"/>
                  </a:lnTo>
                  <a:lnTo>
                    <a:pt x="0" y="370"/>
                  </a:lnTo>
                  <a:lnTo>
                    <a:pt x="39" y="565"/>
                  </a:lnTo>
                  <a:lnTo>
                    <a:pt x="92" y="799"/>
                  </a:lnTo>
                  <a:lnTo>
                    <a:pt x="243" y="547"/>
                  </a:lnTo>
                  <a:lnTo>
                    <a:pt x="309" y="388"/>
                  </a:lnTo>
                  <a:lnTo>
                    <a:pt x="491" y="388"/>
                  </a:lnTo>
                  <a:lnTo>
                    <a:pt x="592" y="352"/>
                  </a:lnTo>
                  <a:lnTo>
                    <a:pt x="623" y="295"/>
                  </a:lnTo>
                  <a:lnTo>
                    <a:pt x="610" y="233"/>
                  </a:lnTo>
                  <a:lnTo>
                    <a:pt x="415" y="39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0600" y="4684680"/>
              <a:ext cx="327240" cy="103680"/>
            </a:xfrm>
            <a:custGeom>
              <a:avLst/>
              <a:gdLst/>
              <a:ahLst/>
              <a:rect l="0" t="0" r="r" b="b"/>
              <a:pathLst>
                <a:path w="909" h="288">
                  <a:moveTo>
                    <a:pt x="26" y="172"/>
                  </a:moveTo>
                  <a:lnTo>
                    <a:pt x="388" y="66"/>
                  </a:lnTo>
                  <a:lnTo>
                    <a:pt x="591" y="22"/>
                  </a:lnTo>
                  <a:lnTo>
                    <a:pt x="785" y="39"/>
                  </a:lnTo>
                  <a:lnTo>
                    <a:pt x="869" y="120"/>
                  </a:lnTo>
                  <a:lnTo>
                    <a:pt x="803" y="199"/>
                  </a:lnTo>
                  <a:lnTo>
                    <a:pt x="719" y="218"/>
                  </a:lnTo>
                  <a:lnTo>
                    <a:pt x="680" y="288"/>
                  </a:lnTo>
                  <a:lnTo>
                    <a:pt x="830" y="248"/>
                  </a:lnTo>
                  <a:lnTo>
                    <a:pt x="869" y="172"/>
                  </a:lnTo>
                  <a:lnTo>
                    <a:pt x="909" y="120"/>
                  </a:lnTo>
                  <a:lnTo>
                    <a:pt x="869" y="39"/>
                  </a:lnTo>
                  <a:lnTo>
                    <a:pt x="724" y="0"/>
                  </a:lnTo>
                  <a:lnTo>
                    <a:pt x="578" y="0"/>
                  </a:lnTo>
                  <a:lnTo>
                    <a:pt x="189" y="98"/>
                  </a:lnTo>
                  <a:lnTo>
                    <a:pt x="0" y="155"/>
                  </a:lnTo>
                  <a:lnTo>
                    <a:pt x="26" y="1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76360" y="4754520"/>
              <a:ext cx="60840" cy="12960"/>
            </a:xfrm>
            <a:custGeom>
              <a:avLst/>
              <a:gdLst/>
              <a:ahLst/>
              <a:rect l="0" t="0" r="r" b="b"/>
              <a:pathLst>
                <a:path w="169" h="36">
                  <a:moveTo>
                    <a:pt x="160" y="0"/>
                  </a:moveTo>
                  <a:lnTo>
                    <a:pt x="0" y="0"/>
                  </a:lnTo>
                  <a:lnTo>
                    <a:pt x="169" y="36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0000" y="4503600"/>
              <a:ext cx="198720" cy="324360"/>
            </a:xfrm>
            <a:custGeom>
              <a:avLst/>
              <a:gdLst/>
              <a:ahLst/>
              <a:rect l="0" t="0" r="r" b="b"/>
              <a:pathLst>
                <a:path w="552" h="901">
                  <a:moveTo>
                    <a:pt x="52" y="0"/>
                  </a:moveTo>
                  <a:lnTo>
                    <a:pt x="543" y="786"/>
                  </a:lnTo>
                  <a:lnTo>
                    <a:pt x="552" y="901"/>
                  </a:lnTo>
                  <a:lnTo>
                    <a:pt x="477" y="844"/>
                  </a:lnTo>
                  <a:lnTo>
                    <a:pt x="477" y="786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75000" y="46162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26" y="177"/>
                  </a:moveTo>
                  <a:lnTo>
                    <a:pt x="269" y="0"/>
                  </a:lnTo>
                  <a:lnTo>
                    <a:pt x="314" y="79"/>
                  </a:lnTo>
                  <a:lnTo>
                    <a:pt x="74" y="230"/>
                  </a:lnTo>
                  <a:lnTo>
                    <a:pt x="0" y="212"/>
                  </a:lnTo>
                  <a:lnTo>
                    <a:pt x="26" y="1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3360" y="4165560"/>
              <a:ext cx="552960" cy="419400"/>
            </a:xfrm>
            <a:custGeom>
              <a:avLst/>
              <a:gdLst/>
              <a:ahLst/>
              <a:rect l="0" t="0" r="r" b="b"/>
              <a:pathLst>
                <a:path w="1536" h="1165">
                  <a:moveTo>
                    <a:pt x="0" y="1085"/>
                  </a:moveTo>
                  <a:lnTo>
                    <a:pt x="1496" y="0"/>
                  </a:lnTo>
                  <a:lnTo>
                    <a:pt x="1536" y="35"/>
                  </a:lnTo>
                  <a:lnTo>
                    <a:pt x="1527" y="57"/>
                  </a:lnTo>
                  <a:lnTo>
                    <a:pt x="52" y="1165"/>
                  </a:lnTo>
                  <a:lnTo>
                    <a:pt x="710" y="627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71680" y="4317840"/>
              <a:ext cx="255960" cy="437040"/>
            </a:xfrm>
            <a:custGeom>
              <a:avLst/>
              <a:gdLst/>
              <a:ahLst/>
              <a:rect l="0" t="0" r="r" b="b"/>
              <a:pathLst>
                <a:path w="711" h="1214">
                  <a:moveTo>
                    <a:pt x="521" y="437"/>
                  </a:moveTo>
                  <a:lnTo>
                    <a:pt x="322" y="777"/>
                  </a:lnTo>
                  <a:lnTo>
                    <a:pt x="171" y="967"/>
                  </a:lnTo>
                  <a:lnTo>
                    <a:pt x="711" y="1174"/>
                  </a:lnTo>
                  <a:lnTo>
                    <a:pt x="579" y="1214"/>
                  </a:lnTo>
                  <a:lnTo>
                    <a:pt x="389" y="1174"/>
                  </a:lnTo>
                  <a:lnTo>
                    <a:pt x="353" y="1060"/>
                  </a:lnTo>
                  <a:lnTo>
                    <a:pt x="132" y="1007"/>
                  </a:lnTo>
                  <a:lnTo>
                    <a:pt x="83" y="967"/>
                  </a:lnTo>
                  <a:lnTo>
                    <a:pt x="300" y="741"/>
                  </a:lnTo>
                  <a:lnTo>
                    <a:pt x="389" y="552"/>
                  </a:lnTo>
                  <a:lnTo>
                    <a:pt x="380" y="353"/>
                  </a:lnTo>
                  <a:lnTo>
                    <a:pt x="212" y="353"/>
                  </a:lnTo>
                  <a:lnTo>
                    <a:pt x="195" y="180"/>
                  </a:lnTo>
                  <a:lnTo>
                    <a:pt x="278" y="309"/>
                  </a:lnTo>
                  <a:lnTo>
                    <a:pt x="455" y="251"/>
                  </a:lnTo>
                  <a:lnTo>
                    <a:pt x="406" y="163"/>
                  </a:lnTo>
                  <a:lnTo>
                    <a:pt x="314" y="66"/>
                  </a:lnTo>
                  <a:lnTo>
                    <a:pt x="234" y="30"/>
                  </a:lnTo>
                  <a:lnTo>
                    <a:pt x="0" y="30"/>
                  </a:lnTo>
                  <a:lnTo>
                    <a:pt x="300" y="0"/>
                  </a:lnTo>
                  <a:lnTo>
                    <a:pt x="428" y="83"/>
                  </a:lnTo>
                  <a:lnTo>
                    <a:pt x="521" y="180"/>
                  </a:lnTo>
                  <a:lnTo>
                    <a:pt x="548" y="327"/>
                  </a:lnTo>
                  <a:lnTo>
                    <a:pt x="521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6680" y="4692600"/>
              <a:ext cx="174960" cy="251280"/>
            </a:xfrm>
            <a:custGeom>
              <a:avLst/>
              <a:gdLst/>
              <a:ahLst/>
              <a:rect l="0" t="0" r="r" b="b"/>
              <a:pathLst>
                <a:path w="486" h="698">
                  <a:moveTo>
                    <a:pt x="0" y="57"/>
                  </a:moveTo>
                  <a:lnTo>
                    <a:pt x="265" y="0"/>
                  </a:lnTo>
                  <a:lnTo>
                    <a:pt x="158" y="190"/>
                  </a:lnTo>
                  <a:lnTo>
                    <a:pt x="353" y="132"/>
                  </a:lnTo>
                  <a:lnTo>
                    <a:pt x="189" y="375"/>
                  </a:lnTo>
                  <a:lnTo>
                    <a:pt x="486" y="437"/>
                  </a:lnTo>
                  <a:lnTo>
                    <a:pt x="256" y="698"/>
                  </a:lnTo>
                  <a:lnTo>
                    <a:pt x="189" y="477"/>
                  </a:lnTo>
                  <a:lnTo>
                    <a:pt x="419" y="437"/>
                  </a:lnTo>
                  <a:lnTo>
                    <a:pt x="119" y="375"/>
                  </a:lnTo>
                  <a:lnTo>
                    <a:pt x="265" y="190"/>
                  </a:lnTo>
                  <a:lnTo>
                    <a:pt x="66" y="212"/>
                  </a:lnTo>
                  <a:lnTo>
                    <a:pt x="158" y="7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911160" y="606600"/>
            <a:ext cx="7778880" cy="22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naging cash needs during seas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setting credit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financing receiv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600200" y="2514600"/>
            <a:ext cx="69343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, cash equivalen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importance of elect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trans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066680" y="9144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and 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914400" y="175248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liquid of all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sists of coins and currency on hand, checks and money orders from customers, and deposits in bank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380880"/>
            <a:ext cx="806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400800" y="4038480"/>
            <a:ext cx="25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62120" y="114300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may also include a compensating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minimum amount that a bank requires a company to keep in its account as part of a credit-granting arran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stricts liqu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 requires disclosure in a footnote to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62320" y="304920"/>
            <a:ext cx="50166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371600" y="182880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(U.S. Treasury notes) with a maturity term of 90 days or less when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n on balance sheet at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Equival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46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on H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219320"/>
            <a:ext cx="7688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for expense advances, to cash checks, for smal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pt in an imprest (petty cash)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established at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s are maintained for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fund is periodically reimbursed to restore it to its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143000" y="167652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has cash transferred from its bank to another company’s bank instead of writing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al-Mart makes 75% of its payments to suppliers this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i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ustomer’s retail purchase is deducted directly from his/her bank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documents transactions for the retai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tailer must develop new internal contro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38040" y="403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ctronic Funds Transf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90920" y="16765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95280" y="312408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tems are included i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account? What i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nsating bal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533520"/>
            <a:ext cx="2208600" cy="2284560"/>
            <a:chOff x="838080" y="533520"/>
            <a:chExt cx="2208600" cy="2284560"/>
          </a:xfrm>
        </p:grpSpPr>
        <p:sp>
          <p:nvSpPr>
            <p:cNvPr id="290" name=""/>
            <p:cNvSpPr/>
            <p:nvPr/>
          </p:nvSpPr>
          <p:spPr>
            <a:xfrm>
              <a:off x="843120" y="1654200"/>
              <a:ext cx="538560" cy="798840"/>
            </a:xfrm>
            <a:custGeom>
              <a:avLst/>
              <a:gdLst/>
              <a:ahLst/>
              <a:rect l="0" t="0" r="r" b="b"/>
              <a:pathLst>
                <a:path w="1496" h="2219">
                  <a:moveTo>
                    <a:pt x="600" y="0"/>
                  </a:moveTo>
                  <a:lnTo>
                    <a:pt x="521" y="101"/>
                  </a:lnTo>
                  <a:lnTo>
                    <a:pt x="521" y="383"/>
                  </a:lnTo>
                  <a:lnTo>
                    <a:pt x="600" y="595"/>
                  </a:lnTo>
                  <a:lnTo>
                    <a:pt x="684" y="701"/>
                  </a:lnTo>
                  <a:lnTo>
                    <a:pt x="552" y="846"/>
                  </a:lnTo>
                  <a:lnTo>
                    <a:pt x="370" y="1169"/>
                  </a:lnTo>
                  <a:lnTo>
                    <a:pt x="26" y="1681"/>
                  </a:lnTo>
                  <a:lnTo>
                    <a:pt x="0" y="1795"/>
                  </a:lnTo>
                  <a:lnTo>
                    <a:pt x="26" y="1901"/>
                  </a:lnTo>
                  <a:lnTo>
                    <a:pt x="136" y="1901"/>
                  </a:lnTo>
                  <a:lnTo>
                    <a:pt x="229" y="1778"/>
                  </a:lnTo>
                  <a:lnTo>
                    <a:pt x="370" y="1495"/>
                  </a:lnTo>
                  <a:lnTo>
                    <a:pt x="464" y="1372"/>
                  </a:lnTo>
                  <a:lnTo>
                    <a:pt x="521" y="1562"/>
                  </a:lnTo>
                  <a:lnTo>
                    <a:pt x="481" y="1764"/>
                  </a:lnTo>
                  <a:lnTo>
                    <a:pt x="330" y="2055"/>
                  </a:lnTo>
                  <a:lnTo>
                    <a:pt x="370" y="2122"/>
                  </a:lnTo>
                  <a:lnTo>
                    <a:pt x="464" y="2108"/>
                  </a:lnTo>
                  <a:lnTo>
                    <a:pt x="649" y="1954"/>
                  </a:lnTo>
                  <a:lnTo>
                    <a:pt x="794" y="1694"/>
                  </a:lnTo>
                  <a:lnTo>
                    <a:pt x="794" y="2144"/>
                  </a:lnTo>
                  <a:lnTo>
                    <a:pt x="975" y="2219"/>
                  </a:lnTo>
                  <a:lnTo>
                    <a:pt x="1076" y="1941"/>
                  </a:lnTo>
                  <a:lnTo>
                    <a:pt x="1174" y="2201"/>
                  </a:lnTo>
                  <a:lnTo>
                    <a:pt x="1245" y="2122"/>
                  </a:lnTo>
                  <a:lnTo>
                    <a:pt x="1276" y="1610"/>
                  </a:lnTo>
                  <a:lnTo>
                    <a:pt x="1496" y="1125"/>
                  </a:lnTo>
                  <a:lnTo>
                    <a:pt x="1443" y="846"/>
                  </a:lnTo>
                  <a:lnTo>
                    <a:pt x="1294" y="740"/>
                  </a:lnTo>
                  <a:lnTo>
                    <a:pt x="1135" y="754"/>
                  </a:lnTo>
                  <a:lnTo>
                    <a:pt x="1076" y="524"/>
                  </a:lnTo>
                  <a:lnTo>
                    <a:pt x="918" y="476"/>
                  </a:lnTo>
                  <a:lnTo>
                    <a:pt x="772" y="401"/>
                  </a:lnTo>
                  <a:lnTo>
                    <a:pt x="684" y="52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280" y="1979640"/>
              <a:ext cx="157680" cy="386280"/>
            </a:xfrm>
            <a:custGeom>
              <a:avLst/>
              <a:gdLst/>
              <a:ahLst/>
              <a:rect l="0" t="0" r="r" b="b"/>
              <a:pathLst>
                <a:path w="438" h="1073">
                  <a:moveTo>
                    <a:pt x="217" y="0"/>
                  </a:moveTo>
                  <a:lnTo>
                    <a:pt x="438" y="278"/>
                  </a:lnTo>
                  <a:lnTo>
                    <a:pt x="327" y="883"/>
                  </a:lnTo>
                  <a:lnTo>
                    <a:pt x="0" y="1073"/>
                  </a:lnTo>
                  <a:lnTo>
                    <a:pt x="0" y="768"/>
                  </a:lnTo>
                  <a:lnTo>
                    <a:pt x="133" y="455"/>
                  </a:lnTo>
                  <a:lnTo>
                    <a:pt x="217" y="22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19480" y="1755720"/>
              <a:ext cx="398880" cy="349560"/>
            </a:xfrm>
            <a:custGeom>
              <a:avLst/>
              <a:gdLst/>
              <a:ahLst/>
              <a:rect l="0" t="0" r="r" b="b"/>
              <a:pathLst>
                <a:path w="1108" h="971">
                  <a:moveTo>
                    <a:pt x="455" y="0"/>
                  </a:moveTo>
                  <a:lnTo>
                    <a:pt x="455" y="154"/>
                  </a:lnTo>
                  <a:lnTo>
                    <a:pt x="494" y="295"/>
                  </a:lnTo>
                  <a:lnTo>
                    <a:pt x="715" y="521"/>
                  </a:lnTo>
                  <a:lnTo>
                    <a:pt x="1108" y="653"/>
                  </a:lnTo>
                  <a:lnTo>
                    <a:pt x="1051" y="953"/>
                  </a:lnTo>
                  <a:lnTo>
                    <a:pt x="715" y="971"/>
                  </a:lnTo>
                  <a:lnTo>
                    <a:pt x="211" y="759"/>
                  </a:lnTo>
                  <a:lnTo>
                    <a:pt x="0" y="383"/>
                  </a:lnTo>
                  <a:lnTo>
                    <a:pt x="251" y="1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79680" y="136224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3"/>
                  </a:lnTo>
                  <a:lnTo>
                    <a:pt x="26" y="1407"/>
                  </a:lnTo>
                  <a:lnTo>
                    <a:pt x="246" y="1566"/>
                  </a:lnTo>
                  <a:lnTo>
                    <a:pt x="260" y="2091"/>
                  </a:lnTo>
                  <a:lnTo>
                    <a:pt x="477" y="2091"/>
                  </a:lnTo>
                  <a:lnTo>
                    <a:pt x="464" y="1654"/>
                  </a:lnTo>
                  <a:lnTo>
                    <a:pt x="622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5"/>
                  </a:lnTo>
                  <a:lnTo>
                    <a:pt x="1054" y="1954"/>
                  </a:lnTo>
                  <a:lnTo>
                    <a:pt x="1147" y="1936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58" y="1478"/>
                  </a:lnTo>
                  <a:lnTo>
                    <a:pt x="1488" y="1548"/>
                  </a:lnTo>
                  <a:lnTo>
                    <a:pt x="1536" y="1456"/>
                  </a:lnTo>
                  <a:lnTo>
                    <a:pt x="1501" y="1319"/>
                  </a:lnTo>
                  <a:lnTo>
                    <a:pt x="1072" y="881"/>
                  </a:lnTo>
                  <a:lnTo>
                    <a:pt x="728" y="749"/>
                  </a:lnTo>
                  <a:lnTo>
                    <a:pt x="688" y="515"/>
                  </a:lnTo>
                  <a:lnTo>
                    <a:pt x="807" y="295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64" y="582"/>
                  </a:lnTo>
                  <a:lnTo>
                    <a:pt x="246" y="665"/>
                  </a:lnTo>
                  <a:lnTo>
                    <a:pt x="189" y="820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73200" y="696960"/>
              <a:ext cx="601920" cy="981360"/>
            </a:xfrm>
            <a:custGeom>
              <a:avLst/>
              <a:gdLst/>
              <a:ahLst/>
              <a:rect l="0" t="0" r="r" b="b"/>
              <a:pathLst>
                <a:path w="1672" h="2726">
                  <a:moveTo>
                    <a:pt x="414" y="379"/>
                  </a:moveTo>
                  <a:lnTo>
                    <a:pt x="295" y="903"/>
                  </a:lnTo>
                  <a:lnTo>
                    <a:pt x="13" y="1001"/>
                  </a:lnTo>
                  <a:lnTo>
                    <a:pt x="92" y="1172"/>
                  </a:lnTo>
                  <a:lnTo>
                    <a:pt x="0" y="1274"/>
                  </a:lnTo>
                  <a:lnTo>
                    <a:pt x="0" y="1465"/>
                  </a:lnTo>
                  <a:lnTo>
                    <a:pt x="136" y="1637"/>
                  </a:lnTo>
                  <a:lnTo>
                    <a:pt x="260" y="1637"/>
                  </a:lnTo>
                  <a:lnTo>
                    <a:pt x="348" y="2245"/>
                  </a:lnTo>
                  <a:lnTo>
                    <a:pt x="449" y="2501"/>
                  </a:lnTo>
                  <a:lnTo>
                    <a:pt x="793" y="2726"/>
                  </a:lnTo>
                  <a:lnTo>
                    <a:pt x="1138" y="2686"/>
                  </a:lnTo>
                  <a:lnTo>
                    <a:pt x="1301" y="2245"/>
                  </a:lnTo>
                  <a:lnTo>
                    <a:pt x="1341" y="1548"/>
                  </a:lnTo>
                  <a:lnTo>
                    <a:pt x="1672" y="1208"/>
                  </a:lnTo>
                  <a:lnTo>
                    <a:pt x="1654" y="1071"/>
                  </a:lnTo>
                  <a:lnTo>
                    <a:pt x="1614" y="1001"/>
                  </a:lnTo>
                  <a:lnTo>
                    <a:pt x="1442" y="987"/>
                  </a:lnTo>
                  <a:lnTo>
                    <a:pt x="1495" y="811"/>
                  </a:lnTo>
                  <a:lnTo>
                    <a:pt x="1319" y="687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49" y="277"/>
                  </a:lnTo>
                  <a:lnTo>
                    <a:pt x="41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7840" y="1514520"/>
              <a:ext cx="552960" cy="1175040"/>
            </a:xfrm>
            <a:custGeom>
              <a:avLst/>
              <a:gdLst/>
              <a:ahLst/>
              <a:rect l="0" t="0" r="r" b="b"/>
              <a:pathLst>
                <a:path w="1536" h="3264">
                  <a:moveTo>
                    <a:pt x="317" y="171"/>
                  </a:moveTo>
                  <a:lnTo>
                    <a:pt x="534" y="326"/>
                  </a:lnTo>
                  <a:lnTo>
                    <a:pt x="644" y="502"/>
                  </a:lnTo>
                  <a:lnTo>
                    <a:pt x="1258" y="0"/>
                  </a:lnTo>
                  <a:lnTo>
                    <a:pt x="1448" y="105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6" y="2946"/>
                  </a:lnTo>
                  <a:lnTo>
                    <a:pt x="653" y="3264"/>
                  </a:lnTo>
                  <a:lnTo>
                    <a:pt x="207" y="3083"/>
                  </a:lnTo>
                  <a:lnTo>
                    <a:pt x="207" y="2205"/>
                  </a:lnTo>
                  <a:lnTo>
                    <a:pt x="0" y="1358"/>
                  </a:lnTo>
                  <a:lnTo>
                    <a:pt x="207" y="326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563400"/>
              <a:ext cx="514800" cy="311400"/>
            </a:xfrm>
            <a:custGeom>
              <a:avLst/>
              <a:gdLst/>
              <a:ahLst/>
              <a:rect l="0" t="0" r="r" b="b"/>
              <a:pathLst>
                <a:path w="1430" h="865">
                  <a:moveTo>
                    <a:pt x="176" y="821"/>
                  </a:moveTo>
                  <a:lnTo>
                    <a:pt x="389" y="596"/>
                  </a:lnTo>
                  <a:lnTo>
                    <a:pt x="516" y="556"/>
                  </a:lnTo>
                  <a:lnTo>
                    <a:pt x="516" y="583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7" y="662"/>
                  </a:lnTo>
                  <a:lnTo>
                    <a:pt x="979" y="865"/>
                  </a:lnTo>
                  <a:lnTo>
                    <a:pt x="1210" y="781"/>
                  </a:lnTo>
                  <a:lnTo>
                    <a:pt x="1210" y="684"/>
                  </a:lnTo>
                  <a:lnTo>
                    <a:pt x="1430" y="583"/>
                  </a:lnTo>
                  <a:lnTo>
                    <a:pt x="1364" y="418"/>
                  </a:lnTo>
                  <a:lnTo>
                    <a:pt x="1152" y="401"/>
                  </a:lnTo>
                  <a:lnTo>
                    <a:pt x="1183" y="224"/>
                  </a:lnTo>
                  <a:lnTo>
                    <a:pt x="1002" y="246"/>
                  </a:lnTo>
                  <a:lnTo>
                    <a:pt x="971" y="123"/>
                  </a:lnTo>
                  <a:lnTo>
                    <a:pt x="847" y="123"/>
                  </a:lnTo>
                  <a:lnTo>
                    <a:pt x="755" y="189"/>
                  </a:lnTo>
                  <a:lnTo>
                    <a:pt x="675" y="189"/>
                  </a:lnTo>
                  <a:lnTo>
                    <a:pt x="693" y="0"/>
                  </a:lnTo>
                  <a:lnTo>
                    <a:pt x="516" y="83"/>
                  </a:lnTo>
                  <a:lnTo>
                    <a:pt x="282" y="401"/>
                  </a:lnTo>
                  <a:lnTo>
                    <a:pt x="264" y="189"/>
                  </a:lnTo>
                  <a:lnTo>
                    <a:pt x="141" y="291"/>
                  </a:lnTo>
                  <a:lnTo>
                    <a:pt x="110" y="556"/>
                  </a:lnTo>
                  <a:lnTo>
                    <a:pt x="0" y="512"/>
                  </a:lnTo>
                  <a:lnTo>
                    <a:pt x="13" y="684"/>
                  </a:lnTo>
                  <a:lnTo>
                    <a:pt x="176" y="82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1730520"/>
              <a:ext cx="163800" cy="889200"/>
            </a:xfrm>
            <a:custGeom>
              <a:avLst/>
              <a:gdLst/>
              <a:ahLst/>
              <a:rect l="0" t="0" r="r" b="b"/>
              <a:pathLst>
                <a:path w="455" h="2470">
                  <a:moveTo>
                    <a:pt x="239" y="17"/>
                  </a:moveTo>
                  <a:lnTo>
                    <a:pt x="79" y="119"/>
                  </a:lnTo>
                  <a:lnTo>
                    <a:pt x="79" y="326"/>
                  </a:lnTo>
                  <a:lnTo>
                    <a:pt x="18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7"/>
                  </a:lnTo>
                  <a:lnTo>
                    <a:pt x="57" y="2152"/>
                  </a:lnTo>
                  <a:lnTo>
                    <a:pt x="287" y="2470"/>
                  </a:lnTo>
                  <a:lnTo>
                    <a:pt x="437" y="1989"/>
                  </a:lnTo>
                  <a:lnTo>
                    <a:pt x="437" y="1663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9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9" y="0"/>
                  </a:lnTo>
                  <a:lnTo>
                    <a:pt x="239" y="1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6240" y="143352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71"/>
                  </a:moveTo>
                  <a:lnTo>
                    <a:pt x="145" y="226"/>
                  </a:lnTo>
                  <a:lnTo>
                    <a:pt x="292" y="209"/>
                  </a:lnTo>
                  <a:lnTo>
                    <a:pt x="367" y="17"/>
                  </a:lnTo>
                  <a:lnTo>
                    <a:pt x="199" y="0"/>
                  </a:lnTo>
                  <a:lnTo>
                    <a:pt x="39" y="1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30440" y="102564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2"/>
                  </a:moveTo>
                  <a:lnTo>
                    <a:pt x="309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0960" y="98748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70"/>
                  </a:moveTo>
                  <a:lnTo>
                    <a:pt x="274" y="482"/>
                  </a:lnTo>
                  <a:lnTo>
                    <a:pt x="393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960" y="765000"/>
              <a:ext cx="574920" cy="433800"/>
            </a:xfrm>
            <a:custGeom>
              <a:avLst/>
              <a:gdLst/>
              <a:ahLst/>
              <a:rect l="0" t="0" r="r" b="b"/>
              <a:pathLst>
                <a:path w="1597" h="1205">
                  <a:moveTo>
                    <a:pt x="732" y="719"/>
                  </a:moveTo>
                  <a:lnTo>
                    <a:pt x="586" y="671"/>
                  </a:lnTo>
                  <a:lnTo>
                    <a:pt x="714" y="561"/>
                  </a:lnTo>
                  <a:lnTo>
                    <a:pt x="661" y="508"/>
                  </a:lnTo>
                  <a:lnTo>
                    <a:pt x="502" y="649"/>
                  </a:lnTo>
                  <a:lnTo>
                    <a:pt x="202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89" y="1192"/>
                  </a:lnTo>
                  <a:lnTo>
                    <a:pt x="242" y="1205"/>
                  </a:lnTo>
                  <a:lnTo>
                    <a:pt x="66" y="830"/>
                  </a:lnTo>
                  <a:lnTo>
                    <a:pt x="330" y="719"/>
                  </a:lnTo>
                  <a:lnTo>
                    <a:pt x="502" y="719"/>
                  </a:lnTo>
                  <a:lnTo>
                    <a:pt x="630" y="790"/>
                  </a:lnTo>
                  <a:lnTo>
                    <a:pt x="661" y="887"/>
                  </a:lnTo>
                  <a:lnTo>
                    <a:pt x="661" y="1126"/>
                  </a:lnTo>
                  <a:lnTo>
                    <a:pt x="661" y="1192"/>
                  </a:lnTo>
                  <a:lnTo>
                    <a:pt x="740" y="1091"/>
                  </a:lnTo>
                  <a:lnTo>
                    <a:pt x="740" y="852"/>
                  </a:lnTo>
                  <a:lnTo>
                    <a:pt x="852" y="852"/>
                  </a:lnTo>
                  <a:lnTo>
                    <a:pt x="909" y="1126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59" y="1095"/>
                  </a:lnTo>
                  <a:lnTo>
                    <a:pt x="1500" y="994"/>
                  </a:lnTo>
                  <a:lnTo>
                    <a:pt x="1522" y="750"/>
                  </a:lnTo>
                  <a:lnTo>
                    <a:pt x="1597" y="649"/>
                  </a:lnTo>
                  <a:lnTo>
                    <a:pt x="1553" y="587"/>
                  </a:lnTo>
                  <a:lnTo>
                    <a:pt x="1372" y="516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22" y="295"/>
                  </a:lnTo>
                  <a:lnTo>
                    <a:pt x="1262" y="508"/>
                  </a:lnTo>
                  <a:lnTo>
                    <a:pt x="1028" y="587"/>
                  </a:lnTo>
                  <a:lnTo>
                    <a:pt x="869" y="521"/>
                  </a:lnTo>
                  <a:lnTo>
                    <a:pt x="843" y="587"/>
                  </a:lnTo>
                  <a:lnTo>
                    <a:pt x="935" y="649"/>
                  </a:lnTo>
                  <a:lnTo>
                    <a:pt x="935" y="702"/>
                  </a:lnTo>
                  <a:lnTo>
                    <a:pt x="1125" y="613"/>
                  </a:lnTo>
                  <a:lnTo>
                    <a:pt x="1284" y="596"/>
                  </a:lnTo>
                  <a:lnTo>
                    <a:pt x="1465" y="618"/>
                  </a:lnTo>
                  <a:lnTo>
                    <a:pt x="1465" y="653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41" y="994"/>
                  </a:lnTo>
                  <a:lnTo>
                    <a:pt x="1231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5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6880" y="1265400"/>
              <a:ext cx="184680" cy="89280"/>
            </a:xfrm>
            <a:custGeom>
              <a:avLst/>
              <a:gdLst/>
              <a:ahLst/>
              <a:rect l="0" t="0" r="r" b="b"/>
              <a:pathLst>
                <a:path w="513" h="248">
                  <a:moveTo>
                    <a:pt x="0" y="0"/>
                  </a:moveTo>
                  <a:lnTo>
                    <a:pt x="79" y="115"/>
                  </a:lnTo>
                  <a:lnTo>
                    <a:pt x="305" y="115"/>
                  </a:lnTo>
                  <a:lnTo>
                    <a:pt x="398" y="35"/>
                  </a:lnTo>
                  <a:lnTo>
                    <a:pt x="513" y="35"/>
                  </a:lnTo>
                  <a:lnTo>
                    <a:pt x="491" y="75"/>
                  </a:lnTo>
                  <a:lnTo>
                    <a:pt x="491" y="115"/>
                  </a:lnTo>
                  <a:lnTo>
                    <a:pt x="283" y="248"/>
                  </a:lnTo>
                  <a:lnTo>
                    <a:pt x="172" y="248"/>
                  </a:lnTo>
                  <a:lnTo>
                    <a:pt x="110" y="200"/>
                  </a:lnTo>
                  <a:lnTo>
                    <a:pt x="44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8800" y="1122480"/>
              <a:ext cx="282960" cy="466920"/>
            </a:xfrm>
            <a:custGeom>
              <a:avLst/>
              <a:gdLst/>
              <a:ahLst/>
              <a:rect l="0" t="0" r="r" b="b"/>
              <a:pathLst>
                <a:path w="786" h="1297">
                  <a:moveTo>
                    <a:pt x="786" y="88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8" y="697"/>
                  </a:lnTo>
                  <a:lnTo>
                    <a:pt x="406" y="1085"/>
                  </a:lnTo>
                  <a:lnTo>
                    <a:pt x="499" y="1297"/>
                  </a:lnTo>
                  <a:lnTo>
                    <a:pt x="406" y="1147"/>
                  </a:lnTo>
                  <a:lnTo>
                    <a:pt x="367" y="984"/>
                  </a:lnTo>
                  <a:lnTo>
                    <a:pt x="300" y="551"/>
                  </a:lnTo>
                  <a:lnTo>
                    <a:pt x="243" y="573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36" y="30"/>
                  </a:lnTo>
                  <a:lnTo>
                    <a:pt x="66" y="57"/>
                  </a:lnTo>
                  <a:lnTo>
                    <a:pt x="44" y="154"/>
                  </a:lnTo>
                  <a:lnTo>
                    <a:pt x="57" y="282"/>
                  </a:lnTo>
                  <a:lnTo>
                    <a:pt x="154" y="383"/>
                  </a:lnTo>
                  <a:lnTo>
                    <a:pt x="203" y="361"/>
                  </a:lnTo>
                  <a:lnTo>
                    <a:pt x="203" y="127"/>
                  </a:lnTo>
                  <a:lnTo>
                    <a:pt x="296" y="180"/>
                  </a:lnTo>
                  <a:lnTo>
                    <a:pt x="437" y="211"/>
                  </a:lnTo>
                  <a:lnTo>
                    <a:pt x="569" y="202"/>
                  </a:lnTo>
                  <a:lnTo>
                    <a:pt x="694" y="127"/>
                  </a:lnTo>
                  <a:lnTo>
                    <a:pt x="786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36560" y="75240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15" y="693"/>
                  </a:moveTo>
                  <a:lnTo>
                    <a:pt x="235" y="282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0" y="238"/>
                  </a:lnTo>
                  <a:lnTo>
                    <a:pt x="93" y="446"/>
                  </a:lnTo>
                  <a:lnTo>
                    <a:pt x="142" y="525"/>
                  </a:lnTo>
                  <a:lnTo>
                    <a:pt x="11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33680" y="53352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0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80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0"/>
                  </a:lnTo>
                  <a:lnTo>
                    <a:pt x="993" y="269"/>
                  </a:lnTo>
                  <a:lnTo>
                    <a:pt x="927" y="402"/>
                  </a:lnTo>
                  <a:lnTo>
                    <a:pt x="1019" y="327"/>
                  </a:lnTo>
                  <a:lnTo>
                    <a:pt x="1147" y="389"/>
                  </a:lnTo>
                  <a:lnTo>
                    <a:pt x="1046" y="494"/>
                  </a:lnTo>
                  <a:lnTo>
                    <a:pt x="1404" y="565"/>
                  </a:lnTo>
                  <a:lnTo>
                    <a:pt x="1165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78" y="844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4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8" y="136"/>
                  </a:lnTo>
                  <a:lnTo>
                    <a:pt x="913" y="180"/>
                  </a:lnTo>
                  <a:lnTo>
                    <a:pt x="772" y="247"/>
                  </a:lnTo>
                  <a:lnTo>
                    <a:pt x="891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32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68320" y="706320"/>
              <a:ext cx="179640" cy="100440"/>
            </a:xfrm>
            <a:custGeom>
              <a:avLst/>
              <a:gdLst/>
              <a:ahLst/>
              <a:rect l="0" t="0" r="r" b="b"/>
              <a:pathLst>
                <a:path w="499" h="279">
                  <a:moveTo>
                    <a:pt x="0" y="279"/>
                  </a:moveTo>
                  <a:lnTo>
                    <a:pt x="185" y="0"/>
                  </a:lnTo>
                  <a:lnTo>
                    <a:pt x="185" y="186"/>
                  </a:lnTo>
                  <a:lnTo>
                    <a:pt x="252" y="111"/>
                  </a:lnTo>
                  <a:lnTo>
                    <a:pt x="314" y="218"/>
                  </a:lnTo>
                  <a:lnTo>
                    <a:pt x="499" y="266"/>
                  </a:lnTo>
                  <a:lnTo>
                    <a:pt x="300" y="231"/>
                  </a:lnTo>
                  <a:lnTo>
                    <a:pt x="242" y="164"/>
                  </a:lnTo>
                  <a:lnTo>
                    <a:pt x="154" y="231"/>
                  </a:lnTo>
                  <a:lnTo>
                    <a:pt x="154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54280" y="1380960"/>
              <a:ext cx="214560" cy="144720"/>
            </a:xfrm>
            <a:custGeom>
              <a:avLst/>
              <a:gdLst/>
              <a:ahLst/>
              <a:rect l="0" t="0" r="r" b="b"/>
              <a:pathLst>
                <a:path w="596" h="402">
                  <a:moveTo>
                    <a:pt x="114" y="141"/>
                  </a:moveTo>
                  <a:lnTo>
                    <a:pt x="353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21"/>
                  </a:lnTo>
                  <a:lnTo>
                    <a:pt x="556" y="247"/>
                  </a:lnTo>
                  <a:lnTo>
                    <a:pt x="503" y="198"/>
                  </a:lnTo>
                  <a:lnTo>
                    <a:pt x="424" y="292"/>
                  </a:lnTo>
                  <a:lnTo>
                    <a:pt x="277" y="402"/>
                  </a:lnTo>
                  <a:lnTo>
                    <a:pt x="207" y="402"/>
                  </a:lnTo>
                  <a:lnTo>
                    <a:pt x="114" y="344"/>
                  </a:lnTo>
                  <a:lnTo>
                    <a:pt x="220" y="389"/>
                  </a:lnTo>
                  <a:lnTo>
                    <a:pt x="260" y="389"/>
                  </a:lnTo>
                  <a:lnTo>
                    <a:pt x="353" y="322"/>
                  </a:lnTo>
                  <a:lnTo>
                    <a:pt x="419" y="185"/>
                  </a:lnTo>
                  <a:lnTo>
                    <a:pt x="322" y="163"/>
                  </a:lnTo>
                  <a:lnTo>
                    <a:pt x="260" y="145"/>
                  </a:lnTo>
                  <a:lnTo>
                    <a:pt x="97" y="171"/>
                  </a:lnTo>
                  <a:lnTo>
                    <a:pt x="97" y="278"/>
                  </a:lnTo>
                  <a:lnTo>
                    <a:pt x="44" y="212"/>
                  </a:lnTo>
                  <a:lnTo>
                    <a:pt x="0" y="300"/>
                  </a:lnTo>
                  <a:lnTo>
                    <a:pt x="4" y="110"/>
                  </a:lnTo>
                  <a:lnTo>
                    <a:pt x="66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7280" y="1060560"/>
              <a:ext cx="459000" cy="679680"/>
            </a:xfrm>
            <a:custGeom>
              <a:avLst/>
              <a:gdLst/>
              <a:ahLst/>
              <a:rect l="0" t="0" r="r" b="b"/>
              <a:pathLst>
                <a:path w="1275" h="1888">
                  <a:moveTo>
                    <a:pt x="1072" y="0"/>
                  </a:moveTo>
                  <a:lnTo>
                    <a:pt x="1200" y="0"/>
                  </a:lnTo>
                  <a:lnTo>
                    <a:pt x="1275" y="88"/>
                  </a:lnTo>
                  <a:lnTo>
                    <a:pt x="1275" y="194"/>
                  </a:lnTo>
                  <a:lnTo>
                    <a:pt x="1169" y="485"/>
                  </a:lnTo>
                  <a:lnTo>
                    <a:pt x="1068" y="630"/>
                  </a:lnTo>
                  <a:lnTo>
                    <a:pt x="957" y="652"/>
                  </a:lnTo>
                  <a:lnTo>
                    <a:pt x="922" y="652"/>
                  </a:lnTo>
                  <a:lnTo>
                    <a:pt x="922" y="1028"/>
                  </a:lnTo>
                  <a:lnTo>
                    <a:pt x="979" y="1297"/>
                  </a:lnTo>
                  <a:lnTo>
                    <a:pt x="979" y="1513"/>
                  </a:lnTo>
                  <a:lnTo>
                    <a:pt x="781" y="1738"/>
                  </a:lnTo>
                  <a:lnTo>
                    <a:pt x="520" y="1888"/>
                  </a:lnTo>
                  <a:lnTo>
                    <a:pt x="357" y="1888"/>
                  </a:lnTo>
                  <a:lnTo>
                    <a:pt x="264" y="1839"/>
                  </a:lnTo>
                  <a:lnTo>
                    <a:pt x="149" y="1584"/>
                  </a:lnTo>
                  <a:lnTo>
                    <a:pt x="44" y="1491"/>
                  </a:lnTo>
                  <a:lnTo>
                    <a:pt x="0" y="1425"/>
                  </a:lnTo>
                  <a:lnTo>
                    <a:pt x="141" y="1513"/>
                  </a:lnTo>
                  <a:lnTo>
                    <a:pt x="246" y="1606"/>
                  </a:lnTo>
                  <a:lnTo>
                    <a:pt x="445" y="1623"/>
                  </a:lnTo>
                  <a:lnTo>
                    <a:pt x="630" y="1531"/>
                  </a:lnTo>
                  <a:lnTo>
                    <a:pt x="728" y="1425"/>
                  </a:lnTo>
                  <a:lnTo>
                    <a:pt x="834" y="1235"/>
                  </a:lnTo>
                  <a:lnTo>
                    <a:pt x="847" y="1002"/>
                  </a:lnTo>
                  <a:lnTo>
                    <a:pt x="887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94"/>
                  </a:lnTo>
                  <a:lnTo>
                    <a:pt x="1226" y="119"/>
                  </a:lnTo>
                  <a:lnTo>
                    <a:pt x="1209" y="48"/>
                  </a:lnTo>
                  <a:lnTo>
                    <a:pt x="1156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14480" y="1646280"/>
              <a:ext cx="371880" cy="625680"/>
            </a:xfrm>
            <a:custGeom>
              <a:avLst/>
              <a:gdLst/>
              <a:ahLst/>
              <a:rect l="0" t="0" r="r" b="b"/>
              <a:pathLst>
                <a:path w="1033" h="1738">
                  <a:moveTo>
                    <a:pt x="132" y="0"/>
                  </a:moveTo>
                  <a:lnTo>
                    <a:pt x="251" y="79"/>
                  </a:lnTo>
                  <a:lnTo>
                    <a:pt x="336" y="432"/>
                  </a:lnTo>
                  <a:lnTo>
                    <a:pt x="600" y="511"/>
                  </a:lnTo>
                  <a:lnTo>
                    <a:pt x="675" y="608"/>
                  </a:lnTo>
                  <a:lnTo>
                    <a:pt x="693" y="740"/>
                  </a:lnTo>
                  <a:lnTo>
                    <a:pt x="826" y="718"/>
                  </a:lnTo>
                  <a:lnTo>
                    <a:pt x="980" y="829"/>
                  </a:lnTo>
                  <a:lnTo>
                    <a:pt x="1033" y="966"/>
                  </a:lnTo>
                  <a:lnTo>
                    <a:pt x="1033" y="1213"/>
                  </a:lnTo>
                  <a:lnTo>
                    <a:pt x="826" y="1588"/>
                  </a:lnTo>
                  <a:lnTo>
                    <a:pt x="750" y="1738"/>
                  </a:lnTo>
                  <a:lnTo>
                    <a:pt x="786" y="1535"/>
                  </a:lnTo>
                  <a:lnTo>
                    <a:pt x="750" y="1465"/>
                  </a:lnTo>
                  <a:lnTo>
                    <a:pt x="622" y="1332"/>
                  </a:lnTo>
                  <a:lnTo>
                    <a:pt x="424" y="1182"/>
                  </a:lnTo>
                  <a:lnTo>
                    <a:pt x="666" y="1266"/>
                  </a:lnTo>
                  <a:lnTo>
                    <a:pt x="808" y="1385"/>
                  </a:lnTo>
                  <a:lnTo>
                    <a:pt x="883" y="1363"/>
                  </a:lnTo>
                  <a:lnTo>
                    <a:pt x="928" y="1301"/>
                  </a:lnTo>
                  <a:lnTo>
                    <a:pt x="980" y="1129"/>
                  </a:lnTo>
                  <a:lnTo>
                    <a:pt x="967" y="957"/>
                  </a:lnTo>
                  <a:lnTo>
                    <a:pt x="892" y="859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8" y="573"/>
                  </a:lnTo>
                  <a:lnTo>
                    <a:pt x="349" y="480"/>
                  </a:lnTo>
                  <a:lnTo>
                    <a:pt x="349" y="555"/>
                  </a:lnTo>
                  <a:lnTo>
                    <a:pt x="251" y="374"/>
                  </a:lnTo>
                  <a:lnTo>
                    <a:pt x="189" y="79"/>
                  </a:lnTo>
                  <a:lnTo>
                    <a:pt x="105" y="52"/>
                  </a:lnTo>
                  <a:lnTo>
                    <a:pt x="48" y="136"/>
                  </a:lnTo>
                  <a:lnTo>
                    <a:pt x="48" y="339"/>
                  </a:lnTo>
                  <a:lnTo>
                    <a:pt x="92" y="555"/>
                  </a:lnTo>
                  <a:lnTo>
                    <a:pt x="211" y="740"/>
                  </a:lnTo>
                  <a:lnTo>
                    <a:pt x="79" y="621"/>
                  </a:lnTo>
                  <a:lnTo>
                    <a:pt x="8" y="432"/>
                  </a:lnTo>
                  <a:lnTo>
                    <a:pt x="0" y="185"/>
                  </a:lnTo>
                  <a:lnTo>
                    <a:pt x="48" y="5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8080" y="192240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88"/>
                  </a:lnTo>
                  <a:lnTo>
                    <a:pt x="375" y="433"/>
                  </a:lnTo>
                  <a:lnTo>
                    <a:pt x="212" y="649"/>
                  </a:lnTo>
                  <a:lnTo>
                    <a:pt x="13" y="918"/>
                  </a:lnTo>
                  <a:lnTo>
                    <a:pt x="0" y="1051"/>
                  </a:lnTo>
                  <a:lnTo>
                    <a:pt x="39" y="1183"/>
                  </a:lnTo>
                  <a:lnTo>
                    <a:pt x="136" y="1183"/>
                  </a:lnTo>
                  <a:lnTo>
                    <a:pt x="261" y="1051"/>
                  </a:lnTo>
                  <a:lnTo>
                    <a:pt x="362" y="807"/>
                  </a:lnTo>
                  <a:lnTo>
                    <a:pt x="503" y="649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1" y="1289"/>
                  </a:lnTo>
                  <a:lnTo>
                    <a:pt x="331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9"/>
                  </a:lnTo>
                  <a:lnTo>
                    <a:pt x="494" y="1104"/>
                  </a:lnTo>
                  <a:lnTo>
                    <a:pt x="570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58" y="1113"/>
                  </a:lnTo>
                  <a:lnTo>
                    <a:pt x="101" y="1130"/>
                  </a:lnTo>
                  <a:lnTo>
                    <a:pt x="39" y="1086"/>
                  </a:lnTo>
                  <a:lnTo>
                    <a:pt x="39" y="953"/>
                  </a:lnTo>
                  <a:lnTo>
                    <a:pt x="136" y="785"/>
                  </a:lnTo>
                  <a:lnTo>
                    <a:pt x="402" y="450"/>
                  </a:lnTo>
                  <a:lnTo>
                    <a:pt x="570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2205000"/>
              <a:ext cx="149760" cy="244800"/>
            </a:xfrm>
            <a:custGeom>
              <a:avLst/>
              <a:gdLst/>
              <a:ahLst/>
              <a:rect l="0" t="0" r="r" b="b"/>
              <a:pathLst>
                <a:path w="416" h="680">
                  <a:moveTo>
                    <a:pt x="0" y="600"/>
                  </a:moveTo>
                  <a:lnTo>
                    <a:pt x="137" y="428"/>
                  </a:lnTo>
                  <a:lnTo>
                    <a:pt x="159" y="255"/>
                  </a:lnTo>
                  <a:lnTo>
                    <a:pt x="319" y="0"/>
                  </a:lnTo>
                  <a:lnTo>
                    <a:pt x="354" y="167"/>
                  </a:lnTo>
                  <a:lnTo>
                    <a:pt x="337" y="613"/>
                  </a:lnTo>
                  <a:lnTo>
                    <a:pt x="416" y="680"/>
                  </a:lnTo>
                  <a:lnTo>
                    <a:pt x="296" y="631"/>
                  </a:lnTo>
                  <a:lnTo>
                    <a:pt x="230" y="375"/>
                  </a:lnTo>
                  <a:lnTo>
                    <a:pt x="137" y="499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4920" y="221940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25"/>
                  </a:lnTo>
                  <a:lnTo>
                    <a:pt x="71" y="97"/>
                  </a:lnTo>
                  <a:lnTo>
                    <a:pt x="137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9"/>
                  </a:lnTo>
                  <a:lnTo>
                    <a:pt x="218" y="601"/>
                  </a:lnTo>
                  <a:lnTo>
                    <a:pt x="111" y="601"/>
                  </a:lnTo>
                  <a:lnTo>
                    <a:pt x="66" y="186"/>
                  </a:lnTo>
                  <a:lnTo>
                    <a:pt x="30" y="247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9680" y="1366920"/>
              <a:ext cx="241560" cy="579960"/>
            </a:xfrm>
            <a:custGeom>
              <a:avLst/>
              <a:gdLst/>
              <a:ahLst/>
              <a:rect l="0" t="0" r="r" b="b"/>
              <a:pathLst>
                <a:path w="671" h="1611">
                  <a:moveTo>
                    <a:pt x="176" y="874"/>
                  </a:moveTo>
                  <a:lnTo>
                    <a:pt x="229" y="618"/>
                  </a:lnTo>
                  <a:lnTo>
                    <a:pt x="450" y="556"/>
                  </a:lnTo>
                  <a:lnTo>
                    <a:pt x="671" y="0"/>
                  </a:lnTo>
                  <a:lnTo>
                    <a:pt x="671" y="158"/>
                  </a:lnTo>
                  <a:lnTo>
                    <a:pt x="486" y="587"/>
                  </a:lnTo>
                  <a:lnTo>
                    <a:pt x="246" y="666"/>
                  </a:lnTo>
                  <a:lnTo>
                    <a:pt x="211" y="874"/>
                  </a:lnTo>
                  <a:lnTo>
                    <a:pt x="299" y="874"/>
                  </a:lnTo>
                  <a:lnTo>
                    <a:pt x="83" y="957"/>
                  </a:lnTo>
                  <a:lnTo>
                    <a:pt x="39" y="1134"/>
                  </a:lnTo>
                  <a:lnTo>
                    <a:pt x="48" y="1355"/>
                  </a:lnTo>
                  <a:lnTo>
                    <a:pt x="268" y="1611"/>
                  </a:lnTo>
                  <a:lnTo>
                    <a:pt x="39" y="1386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6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41680" y="1366920"/>
              <a:ext cx="405000" cy="562320"/>
            </a:xfrm>
            <a:custGeom>
              <a:avLst/>
              <a:gdLst/>
              <a:ahLst/>
              <a:rect l="0" t="0" r="r" b="b"/>
              <a:pathLst>
                <a:path w="1125" h="1562">
                  <a:moveTo>
                    <a:pt x="313" y="0"/>
                  </a:moveTo>
                  <a:lnTo>
                    <a:pt x="374" y="52"/>
                  </a:lnTo>
                  <a:lnTo>
                    <a:pt x="396" y="185"/>
                  </a:lnTo>
                  <a:lnTo>
                    <a:pt x="396" y="304"/>
                  </a:lnTo>
                  <a:lnTo>
                    <a:pt x="268" y="529"/>
                  </a:lnTo>
                  <a:lnTo>
                    <a:pt x="299" y="696"/>
                  </a:lnTo>
                  <a:lnTo>
                    <a:pt x="680" y="878"/>
                  </a:lnTo>
                  <a:lnTo>
                    <a:pt x="1121" y="1372"/>
                  </a:lnTo>
                  <a:lnTo>
                    <a:pt x="1125" y="1504"/>
                  </a:lnTo>
                  <a:lnTo>
                    <a:pt x="1103" y="1562"/>
                  </a:lnTo>
                  <a:lnTo>
                    <a:pt x="940" y="1562"/>
                  </a:lnTo>
                  <a:lnTo>
                    <a:pt x="794" y="1465"/>
                  </a:lnTo>
                  <a:lnTo>
                    <a:pt x="666" y="1306"/>
                  </a:lnTo>
                  <a:lnTo>
                    <a:pt x="600" y="1218"/>
                  </a:lnTo>
                  <a:lnTo>
                    <a:pt x="515" y="1196"/>
                  </a:lnTo>
                  <a:lnTo>
                    <a:pt x="618" y="1196"/>
                  </a:lnTo>
                  <a:lnTo>
                    <a:pt x="803" y="1451"/>
                  </a:lnTo>
                  <a:lnTo>
                    <a:pt x="1032" y="1522"/>
                  </a:lnTo>
                  <a:lnTo>
                    <a:pt x="1085" y="1451"/>
                  </a:lnTo>
                  <a:lnTo>
                    <a:pt x="1063" y="1332"/>
                  </a:lnTo>
                  <a:lnTo>
                    <a:pt x="649" y="984"/>
                  </a:lnTo>
                  <a:lnTo>
                    <a:pt x="591" y="878"/>
                  </a:lnTo>
                  <a:lnTo>
                    <a:pt x="268" y="790"/>
                  </a:lnTo>
                  <a:lnTo>
                    <a:pt x="216" y="878"/>
                  </a:lnTo>
                  <a:lnTo>
                    <a:pt x="0" y="1028"/>
                  </a:lnTo>
                  <a:lnTo>
                    <a:pt x="207" y="852"/>
                  </a:lnTo>
                  <a:lnTo>
                    <a:pt x="216" y="745"/>
                  </a:lnTo>
                  <a:lnTo>
                    <a:pt x="216" y="498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7160" y="180828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15" y="0"/>
                  </a:moveTo>
                  <a:lnTo>
                    <a:pt x="693" y="79"/>
                  </a:lnTo>
                  <a:lnTo>
                    <a:pt x="835" y="380"/>
                  </a:lnTo>
                  <a:lnTo>
                    <a:pt x="905" y="694"/>
                  </a:lnTo>
                  <a:lnTo>
                    <a:pt x="826" y="694"/>
                  </a:lnTo>
                  <a:lnTo>
                    <a:pt x="684" y="556"/>
                  </a:lnTo>
                  <a:lnTo>
                    <a:pt x="552" y="269"/>
                  </a:lnTo>
                  <a:lnTo>
                    <a:pt x="450" y="220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4" y="875"/>
                  </a:lnTo>
                  <a:lnTo>
                    <a:pt x="402" y="813"/>
                  </a:lnTo>
                  <a:lnTo>
                    <a:pt x="296" y="556"/>
                  </a:lnTo>
                  <a:lnTo>
                    <a:pt x="269" y="380"/>
                  </a:lnTo>
                  <a:lnTo>
                    <a:pt x="207" y="336"/>
                  </a:lnTo>
                  <a:lnTo>
                    <a:pt x="189" y="778"/>
                  </a:lnTo>
                  <a:lnTo>
                    <a:pt x="101" y="848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9" y="883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47"/>
                  </a:lnTo>
                  <a:lnTo>
                    <a:pt x="950" y="747"/>
                  </a:lnTo>
                  <a:lnTo>
                    <a:pt x="958" y="587"/>
                  </a:lnTo>
                  <a:lnTo>
                    <a:pt x="870" y="296"/>
                  </a:lnTo>
                  <a:lnTo>
                    <a:pt x="715" y="61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77920" y="146520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30"/>
                  </a:lnTo>
                  <a:lnTo>
                    <a:pt x="1337" y="515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57"/>
                  </a:lnTo>
                  <a:lnTo>
                    <a:pt x="1009" y="608"/>
                  </a:lnTo>
                  <a:lnTo>
                    <a:pt x="626" y="908"/>
                  </a:lnTo>
                  <a:lnTo>
                    <a:pt x="652" y="1031"/>
                  </a:lnTo>
                  <a:lnTo>
                    <a:pt x="560" y="1146"/>
                  </a:lnTo>
                  <a:lnTo>
                    <a:pt x="560" y="1243"/>
                  </a:lnTo>
                  <a:lnTo>
                    <a:pt x="665" y="1525"/>
                  </a:lnTo>
                  <a:lnTo>
                    <a:pt x="683" y="1874"/>
                  </a:lnTo>
                  <a:lnTo>
                    <a:pt x="608" y="2201"/>
                  </a:lnTo>
                  <a:lnTo>
                    <a:pt x="335" y="2395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8"/>
                  </a:lnTo>
                  <a:lnTo>
                    <a:pt x="83" y="2448"/>
                  </a:lnTo>
                  <a:lnTo>
                    <a:pt x="48" y="2682"/>
                  </a:lnTo>
                  <a:lnTo>
                    <a:pt x="0" y="2748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0" y="3321"/>
                  </a:lnTo>
                  <a:lnTo>
                    <a:pt x="776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22" y="3383"/>
                  </a:lnTo>
                  <a:lnTo>
                    <a:pt x="1196" y="3758"/>
                  </a:lnTo>
                  <a:lnTo>
                    <a:pt x="3648" y="3758"/>
                  </a:lnTo>
                  <a:lnTo>
                    <a:pt x="3468" y="3352"/>
                  </a:lnTo>
                  <a:lnTo>
                    <a:pt x="3379" y="3008"/>
                  </a:lnTo>
                  <a:lnTo>
                    <a:pt x="3357" y="2483"/>
                  </a:lnTo>
                  <a:lnTo>
                    <a:pt x="3498" y="2602"/>
                  </a:lnTo>
                  <a:lnTo>
                    <a:pt x="3648" y="2602"/>
                  </a:lnTo>
                  <a:lnTo>
                    <a:pt x="3851" y="2466"/>
                  </a:lnTo>
                  <a:lnTo>
                    <a:pt x="3988" y="2448"/>
                  </a:lnTo>
                  <a:lnTo>
                    <a:pt x="4067" y="2311"/>
                  </a:lnTo>
                  <a:lnTo>
                    <a:pt x="4129" y="1954"/>
                  </a:lnTo>
                  <a:lnTo>
                    <a:pt x="4248" y="1807"/>
                  </a:lnTo>
                  <a:lnTo>
                    <a:pt x="4186" y="1702"/>
                  </a:lnTo>
                  <a:lnTo>
                    <a:pt x="4098" y="1702"/>
                  </a:lnTo>
                  <a:lnTo>
                    <a:pt x="4023" y="1777"/>
                  </a:lnTo>
                  <a:lnTo>
                    <a:pt x="3953" y="1794"/>
                  </a:lnTo>
                  <a:lnTo>
                    <a:pt x="3860" y="1702"/>
                  </a:lnTo>
                  <a:lnTo>
                    <a:pt x="3754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43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1"/>
                  </a:lnTo>
                  <a:lnTo>
                    <a:pt x="3622" y="599"/>
                  </a:lnTo>
                  <a:lnTo>
                    <a:pt x="3622" y="449"/>
                  </a:lnTo>
                  <a:lnTo>
                    <a:pt x="3565" y="330"/>
                  </a:lnTo>
                  <a:lnTo>
                    <a:pt x="3423" y="277"/>
                  </a:lnTo>
                  <a:lnTo>
                    <a:pt x="3371" y="251"/>
                  </a:lnTo>
                  <a:lnTo>
                    <a:pt x="3274" y="70"/>
                  </a:lnTo>
                  <a:lnTo>
                    <a:pt x="3194" y="17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4" y="396"/>
                  </a:lnTo>
                  <a:lnTo>
                    <a:pt x="2664" y="621"/>
                  </a:lnTo>
                  <a:lnTo>
                    <a:pt x="2646" y="780"/>
                  </a:lnTo>
                  <a:lnTo>
                    <a:pt x="2541" y="970"/>
                  </a:lnTo>
                  <a:lnTo>
                    <a:pt x="2404" y="1252"/>
                  </a:lnTo>
                  <a:lnTo>
                    <a:pt x="2302" y="1587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17"/>
                  </a:lnTo>
                  <a:lnTo>
                    <a:pt x="2174" y="2638"/>
                  </a:lnTo>
                  <a:lnTo>
                    <a:pt x="2245" y="2902"/>
                  </a:lnTo>
                  <a:lnTo>
                    <a:pt x="2298" y="3008"/>
                  </a:lnTo>
                  <a:lnTo>
                    <a:pt x="2152" y="3101"/>
                  </a:lnTo>
                  <a:lnTo>
                    <a:pt x="1985" y="3162"/>
                  </a:lnTo>
                  <a:lnTo>
                    <a:pt x="1791" y="3175"/>
                  </a:lnTo>
                  <a:lnTo>
                    <a:pt x="1676" y="3175"/>
                  </a:lnTo>
                  <a:lnTo>
                    <a:pt x="1601" y="3149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3" y="2258"/>
                  </a:lnTo>
                  <a:lnTo>
                    <a:pt x="1482" y="1967"/>
                  </a:lnTo>
                  <a:lnTo>
                    <a:pt x="1442" y="1728"/>
                  </a:lnTo>
                  <a:lnTo>
                    <a:pt x="1425" y="1397"/>
                  </a:lnTo>
                  <a:lnTo>
                    <a:pt x="1482" y="1111"/>
                  </a:lnTo>
                  <a:lnTo>
                    <a:pt x="1553" y="877"/>
                  </a:lnTo>
                  <a:lnTo>
                    <a:pt x="1562" y="740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3" y="330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74800" y="173664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26"/>
                  </a:moveTo>
                  <a:lnTo>
                    <a:pt x="70" y="110"/>
                  </a:lnTo>
                  <a:lnTo>
                    <a:pt x="79" y="343"/>
                  </a:lnTo>
                  <a:lnTo>
                    <a:pt x="189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0"/>
                  </a:lnTo>
                  <a:lnTo>
                    <a:pt x="114" y="1760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4" y="2444"/>
                  </a:lnTo>
                  <a:lnTo>
                    <a:pt x="371" y="2396"/>
                  </a:lnTo>
                  <a:lnTo>
                    <a:pt x="419" y="2189"/>
                  </a:lnTo>
                  <a:lnTo>
                    <a:pt x="525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4" y="1248"/>
                  </a:lnTo>
                  <a:lnTo>
                    <a:pt x="314" y="1059"/>
                  </a:lnTo>
                  <a:lnTo>
                    <a:pt x="314" y="887"/>
                  </a:lnTo>
                  <a:lnTo>
                    <a:pt x="344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9"/>
                  </a:lnTo>
                  <a:lnTo>
                    <a:pt x="486" y="277"/>
                  </a:lnTo>
                  <a:lnTo>
                    <a:pt x="486" y="185"/>
                  </a:lnTo>
                  <a:lnTo>
                    <a:pt x="344" y="0"/>
                  </a:lnTo>
                  <a:lnTo>
                    <a:pt x="459" y="185"/>
                  </a:lnTo>
                  <a:lnTo>
                    <a:pt x="459" y="264"/>
                  </a:lnTo>
                  <a:lnTo>
                    <a:pt x="358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5"/>
                  </a:lnTo>
                  <a:lnTo>
                    <a:pt x="274" y="979"/>
                  </a:lnTo>
                  <a:lnTo>
                    <a:pt x="296" y="1187"/>
                  </a:lnTo>
                  <a:lnTo>
                    <a:pt x="371" y="1478"/>
                  </a:lnTo>
                  <a:lnTo>
                    <a:pt x="450" y="1716"/>
                  </a:lnTo>
                  <a:lnTo>
                    <a:pt x="450" y="1906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6" y="2259"/>
                  </a:lnTo>
                  <a:lnTo>
                    <a:pt x="123" y="2145"/>
                  </a:lnTo>
                  <a:lnTo>
                    <a:pt x="136" y="1906"/>
                  </a:lnTo>
                  <a:lnTo>
                    <a:pt x="123" y="1663"/>
                  </a:lnTo>
                  <a:lnTo>
                    <a:pt x="66" y="1341"/>
                  </a:lnTo>
                  <a:lnTo>
                    <a:pt x="39" y="1125"/>
                  </a:lnTo>
                  <a:lnTo>
                    <a:pt x="66" y="869"/>
                  </a:lnTo>
                  <a:lnTo>
                    <a:pt x="114" y="627"/>
                  </a:lnTo>
                  <a:lnTo>
                    <a:pt x="220" y="388"/>
                  </a:lnTo>
                  <a:lnTo>
                    <a:pt x="123" y="291"/>
                  </a:lnTo>
                  <a:lnTo>
                    <a:pt x="114" y="119"/>
                  </a:lnTo>
                  <a:lnTo>
                    <a:pt x="21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25600" y="706320"/>
              <a:ext cx="303480" cy="430560"/>
            </a:xfrm>
            <a:custGeom>
              <a:avLst/>
              <a:gdLst/>
              <a:ahLst/>
              <a:rect l="0" t="0" r="r" b="b"/>
              <a:pathLst>
                <a:path w="843" h="1196">
                  <a:moveTo>
                    <a:pt x="141" y="304"/>
                  </a:moveTo>
                  <a:lnTo>
                    <a:pt x="260" y="282"/>
                  </a:lnTo>
                  <a:lnTo>
                    <a:pt x="383" y="291"/>
                  </a:lnTo>
                  <a:lnTo>
                    <a:pt x="481" y="339"/>
                  </a:lnTo>
                  <a:lnTo>
                    <a:pt x="538" y="401"/>
                  </a:lnTo>
                  <a:lnTo>
                    <a:pt x="565" y="463"/>
                  </a:lnTo>
                  <a:lnTo>
                    <a:pt x="565" y="529"/>
                  </a:lnTo>
                  <a:lnTo>
                    <a:pt x="530" y="568"/>
                  </a:lnTo>
                  <a:lnTo>
                    <a:pt x="477" y="595"/>
                  </a:lnTo>
                  <a:lnTo>
                    <a:pt x="414" y="595"/>
                  </a:lnTo>
                  <a:lnTo>
                    <a:pt x="339" y="582"/>
                  </a:lnTo>
                  <a:lnTo>
                    <a:pt x="264" y="533"/>
                  </a:lnTo>
                  <a:lnTo>
                    <a:pt x="211" y="485"/>
                  </a:lnTo>
                  <a:lnTo>
                    <a:pt x="189" y="640"/>
                  </a:lnTo>
                  <a:lnTo>
                    <a:pt x="141" y="746"/>
                  </a:lnTo>
                  <a:lnTo>
                    <a:pt x="0" y="997"/>
                  </a:lnTo>
                  <a:lnTo>
                    <a:pt x="207" y="1196"/>
                  </a:lnTo>
                  <a:lnTo>
                    <a:pt x="361" y="874"/>
                  </a:lnTo>
                  <a:lnTo>
                    <a:pt x="530" y="904"/>
                  </a:lnTo>
                  <a:lnTo>
                    <a:pt x="640" y="874"/>
                  </a:lnTo>
                  <a:lnTo>
                    <a:pt x="746" y="803"/>
                  </a:lnTo>
                  <a:lnTo>
                    <a:pt x="807" y="706"/>
                  </a:lnTo>
                  <a:lnTo>
                    <a:pt x="843" y="586"/>
                  </a:lnTo>
                  <a:lnTo>
                    <a:pt x="843" y="458"/>
                  </a:lnTo>
                  <a:lnTo>
                    <a:pt x="807" y="321"/>
                  </a:lnTo>
                  <a:lnTo>
                    <a:pt x="741" y="185"/>
                  </a:lnTo>
                  <a:lnTo>
                    <a:pt x="658" y="83"/>
                  </a:lnTo>
                  <a:lnTo>
                    <a:pt x="547" y="26"/>
                  </a:lnTo>
                  <a:lnTo>
                    <a:pt x="433" y="0"/>
                  </a:lnTo>
                  <a:lnTo>
                    <a:pt x="277" y="0"/>
                  </a:lnTo>
                  <a:lnTo>
                    <a:pt x="114" y="30"/>
                  </a:lnTo>
                  <a:lnTo>
                    <a:pt x="141" y="30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1123920"/>
              <a:ext cx="111600" cy="84600"/>
            </a:xfrm>
            <a:custGeom>
              <a:avLst/>
              <a:gdLst/>
              <a:ahLst/>
              <a:rect l="0" t="0" r="r" b="b"/>
              <a:pathLst>
                <a:path w="310" h="235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5"/>
                  </a:lnTo>
                  <a:lnTo>
                    <a:pt x="66" y="196"/>
                  </a:lnTo>
                  <a:lnTo>
                    <a:pt x="186" y="235"/>
                  </a:lnTo>
                  <a:lnTo>
                    <a:pt x="279" y="231"/>
                  </a:lnTo>
                  <a:lnTo>
                    <a:pt x="310" y="178"/>
                  </a:lnTo>
                  <a:lnTo>
                    <a:pt x="293" y="128"/>
                  </a:lnTo>
                  <a:lnTo>
                    <a:pt x="248" y="57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apply the allowance method of accounting for uncollectible accounts, using both the percentage of net sales method and the accounts receivable aging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8080" y="6858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consists of coins and currenc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hand, checks and money order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ved from customers, and deposi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 bank checking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ensating balance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nimum amount a bank requires in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y’s bank account as part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dit-granting agreement. If th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alance is unavailable to pay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ies during the year, it should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losed in the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209680" y="2666880"/>
            <a:ext cx="57150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short-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38160" y="132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371600" y="236232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s with a maturity of more than 90 days, but are intended to be held only until cash is needed for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92000" y="762120"/>
            <a:ext cx="80470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hort-Term Investments or Marketab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749160" y="457200"/>
            <a:ext cx="8394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143000" y="182880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more than on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in an investmen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to be held for an indefinite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219320" y="198108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securities that management intends to hold to their maturity whose cash value is not needed until that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76212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Held-to-Maturity Secur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480" y="25909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2/31  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/31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7,7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523880"/>
            <a:ext cx="7680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 U.S. Treasury bills at $97,000, which mature in 120 days at $100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066680" y="1600200"/>
            <a:ext cx="7543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are bought and held principally for the purpose of being sold in the near te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requently bought and sold to generate profits on short-term changes in their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1600" y="380880"/>
            <a:ext cx="6711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9907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assified as current assets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lued at fair (market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crease or decrease in the total trading portfolio is included in net income in the accounting period in which the increase or decrease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95280" y="331920"/>
            <a:ext cx="711504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58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0/25   Short-Term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,0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vestment in stock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for t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  Unrealized Loss o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Investme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to Adjus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Short-Term Investme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o Marke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8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loss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304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371600"/>
            <a:ext cx="8275680" cy="47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/2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3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hort-Term Investments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Realized Gain on Investments                 5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at a gain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Allowance to Adjust Short-Term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Investments to Market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realized gain on Investments           1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gnition of unrealiz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gain on trading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09480" y="30492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rading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2895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and explain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s related to short-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609480"/>
            <a:ext cx="71629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Short-Term Liquid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1143000" y="1981080"/>
            <a:ext cx="757404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and equity securities that do not meet the criteria for either held-to-maturity or trading secu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ed for in the same way as trading securities except that the unrealized gain or loss is not reported on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1066680" y="1981080"/>
            <a:ext cx="74977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reported as a special item in the stockholders’ equ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 and interest income for all three categories are shown in the Other Income and Expenses section of the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576360"/>
            <a:ext cx="713916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vailable-for-Sale Secu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52480" y="53352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unrealized gains and losses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ding securities? On what state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they repor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realized gains and losses on trad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curities are changes in the f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rket value of securities that have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en sold. Because the securiti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sold, the gains or losses ha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been realized. Unrealized gains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sses are reported on the incom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38880" y="228600"/>
            <a:ext cx="1522800" cy="1370160"/>
            <a:chOff x="7238880" y="228600"/>
            <a:chExt cx="1522800" cy="1370160"/>
          </a:xfrm>
        </p:grpSpPr>
        <p:sp>
          <p:nvSpPr>
            <p:cNvPr id="348" name=""/>
            <p:cNvSpPr/>
            <p:nvPr/>
          </p:nvSpPr>
          <p:spPr>
            <a:xfrm>
              <a:off x="7243920" y="901800"/>
              <a:ext cx="368640" cy="478080"/>
            </a:xfrm>
            <a:custGeom>
              <a:avLst/>
              <a:gdLst/>
              <a:ahLst/>
              <a:rect l="0" t="0" r="r" b="b"/>
              <a:pathLst>
                <a:path w="1024" h="1328">
                  <a:moveTo>
                    <a:pt x="410" y="0"/>
                  </a:moveTo>
                  <a:lnTo>
                    <a:pt x="352" y="61"/>
                  </a:lnTo>
                  <a:lnTo>
                    <a:pt x="352" y="233"/>
                  </a:lnTo>
                  <a:lnTo>
                    <a:pt x="410" y="357"/>
                  </a:lnTo>
                  <a:lnTo>
                    <a:pt x="471" y="418"/>
                  </a:lnTo>
                  <a:lnTo>
                    <a:pt x="379" y="507"/>
                  </a:lnTo>
                  <a:lnTo>
                    <a:pt x="260" y="697"/>
                  </a:lnTo>
                  <a:lnTo>
                    <a:pt x="17" y="1006"/>
                  </a:lnTo>
                  <a:lnTo>
                    <a:pt x="0" y="1076"/>
                  </a:lnTo>
                  <a:lnTo>
                    <a:pt x="17" y="1138"/>
                  </a:lnTo>
                  <a:lnTo>
                    <a:pt x="97" y="1138"/>
                  </a:lnTo>
                  <a:lnTo>
                    <a:pt x="154" y="1068"/>
                  </a:lnTo>
                  <a:lnTo>
                    <a:pt x="260" y="896"/>
                  </a:lnTo>
                  <a:lnTo>
                    <a:pt x="317" y="825"/>
                  </a:lnTo>
                  <a:lnTo>
                    <a:pt x="352" y="935"/>
                  </a:lnTo>
                  <a:lnTo>
                    <a:pt x="330" y="1059"/>
                  </a:lnTo>
                  <a:lnTo>
                    <a:pt x="224" y="1235"/>
                  </a:lnTo>
                  <a:lnTo>
                    <a:pt x="260" y="1271"/>
                  </a:lnTo>
                  <a:lnTo>
                    <a:pt x="317" y="1262"/>
                  </a:lnTo>
                  <a:lnTo>
                    <a:pt x="445" y="1169"/>
                  </a:lnTo>
                  <a:lnTo>
                    <a:pt x="547" y="1015"/>
                  </a:lnTo>
                  <a:lnTo>
                    <a:pt x="547" y="1284"/>
                  </a:lnTo>
                  <a:lnTo>
                    <a:pt x="666" y="1328"/>
                  </a:lnTo>
                  <a:lnTo>
                    <a:pt x="737" y="1165"/>
                  </a:lnTo>
                  <a:lnTo>
                    <a:pt x="803" y="1319"/>
                  </a:lnTo>
                  <a:lnTo>
                    <a:pt x="852" y="1271"/>
                  </a:lnTo>
                  <a:lnTo>
                    <a:pt x="874" y="966"/>
                  </a:lnTo>
                  <a:lnTo>
                    <a:pt x="1024" y="675"/>
                  </a:lnTo>
                  <a:lnTo>
                    <a:pt x="993" y="507"/>
                  </a:lnTo>
                  <a:lnTo>
                    <a:pt x="887" y="440"/>
                  </a:lnTo>
                  <a:lnTo>
                    <a:pt x="781" y="449"/>
                  </a:lnTo>
                  <a:lnTo>
                    <a:pt x="737" y="313"/>
                  </a:lnTo>
                  <a:lnTo>
                    <a:pt x="627" y="282"/>
                  </a:lnTo>
                  <a:lnTo>
                    <a:pt x="530" y="242"/>
                  </a:lnTo>
                  <a:lnTo>
                    <a:pt x="471" y="26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53160" y="1095480"/>
              <a:ext cx="109800" cy="233640"/>
            </a:xfrm>
            <a:custGeom>
              <a:avLst/>
              <a:gdLst/>
              <a:ahLst/>
              <a:rect l="0" t="0" r="r" b="b"/>
              <a:pathLst>
                <a:path w="305" h="649">
                  <a:moveTo>
                    <a:pt x="155" y="0"/>
                  </a:moveTo>
                  <a:lnTo>
                    <a:pt x="305" y="167"/>
                  </a:lnTo>
                  <a:lnTo>
                    <a:pt x="230" y="530"/>
                  </a:lnTo>
                  <a:lnTo>
                    <a:pt x="0" y="649"/>
                  </a:lnTo>
                  <a:lnTo>
                    <a:pt x="0" y="464"/>
                  </a:lnTo>
                  <a:lnTo>
                    <a:pt x="97" y="277"/>
                  </a:lnTo>
                  <a:lnTo>
                    <a:pt x="155" y="136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63080" y="961920"/>
              <a:ext cx="271800" cy="209880"/>
            </a:xfrm>
            <a:custGeom>
              <a:avLst/>
              <a:gdLst/>
              <a:ahLst/>
              <a:rect l="0" t="0" r="r" b="b"/>
              <a:pathLst>
                <a:path w="755" h="583">
                  <a:moveTo>
                    <a:pt x="313" y="0"/>
                  </a:moveTo>
                  <a:lnTo>
                    <a:pt x="313" y="92"/>
                  </a:lnTo>
                  <a:lnTo>
                    <a:pt x="339" y="176"/>
                  </a:lnTo>
                  <a:lnTo>
                    <a:pt x="486" y="318"/>
                  </a:lnTo>
                  <a:lnTo>
                    <a:pt x="755" y="397"/>
                  </a:lnTo>
                  <a:lnTo>
                    <a:pt x="719" y="574"/>
                  </a:lnTo>
                  <a:lnTo>
                    <a:pt x="486" y="583"/>
                  </a:lnTo>
                  <a:lnTo>
                    <a:pt x="145" y="455"/>
                  </a:lnTo>
                  <a:lnTo>
                    <a:pt x="0" y="233"/>
                  </a:lnTo>
                  <a:lnTo>
                    <a:pt x="171" y="1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72520" y="723960"/>
              <a:ext cx="379800" cy="464040"/>
            </a:xfrm>
            <a:custGeom>
              <a:avLst/>
              <a:gdLst/>
              <a:ahLst/>
              <a:rect l="0" t="0" r="r" b="b"/>
              <a:pathLst>
                <a:path w="1055" h="1289">
                  <a:moveTo>
                    <a:pt x="97" y="547"/>
                  </a:moveTo>
                  <a:lnTo>
                    <a:pt x="0" y="636"/>
                  </a:lnTo>
                  <a:lnTo>
                    <a:pt x="17" y="847"/>
                  </a:lnTo>
                  <a:lnTo>
                    <a:pt x="167" y="944"/>
                  </a:lnTo>
                  <a:lnTo>
                    <a:pt x="180" y="1267"/>
                  </a:lnTo>
                  <a:lnTo>
                    <a:pt x="331" y="1267"/>
                  </a:lnTo>
                  <a:lnTo>
                    <a:pt x="318" y="998"/>
                  </a:lnTo>
                  <a:lnTo>
                    <a:pt x="424" y="1280"/>
                  </a:lnTo>
                  <a:lnTo>
                    <a:pt x="503" y="1289"/>
                  </a:lnTo>
                  <a:lnTo>
                    <a:pt x="552" y="1197"/>
                  </a:lnTo>
                  <a:lnTo>
                    <a:pt x="565" y="1016"/>
                  </a:lnTo>
                  <a:lnTo>
                    <a:pt x="728" y="1188"/>
                  </a:lnTo>
                  <a:lnTo>
                    <a:pt x="790" y="1170"/>
                  </a:lnTo>
                  <a:lnTo>
                    <a:pt x="777" y="1060"/>
                  </a:lnTo>
                  <a:lnTo>
                    <a:pt x="715" y="896"/>
                  </a:lnTo>
                  <a:lnTo>
                    <a:pt x="653" y="785"/>
                  </a:lnTo>
                  <a:lnTo>
                    <a:pt x="675" y="715"/>
                  </a:lnTo>
                  <a:lnTo>
                    <a:pt x="715" y="728"/>
                  </a:lnTo>
                  <a:lnTo>
                    <a:pt x="866" y="896"/>
                  </a:lnTo>
                  <a:lnTo>
                    <a:pt x="1025" y="931"/>
                  </a:lnTo>
                  <a:lnTo>
                    <a:pt x="1055" y="882"/>
                  </a:lnTo>
                  <a:lnTo>
                    <a:pt x="1033" y="794"/>
                  </a:lnTo>
                  <a:lnTo>
                    <a:pt x="737" y="534"/>
                  </a:lnTo>
                  <a:lnTo>
                    <a:pt x="503" y="455"/>
                  </a:lnTo>
                  <a:lnTo>
                    <a:pt x="477" y="308"/>
                  </a:lnTo>
                  <a:lnTo>
                    <a:pt x="552" y="176"/>
                  </a:lnTo>
                  <a:lnTo>
                    <a:pt x="552" y="44"/>
                  </a:lnTo>
                  <a:lnTo>
                    <a:pt x="490" y="0"/>
                  </a:lnTo>
                  <a:lnTo>
                    <a:pt x="318" y="349"/>
                  </a:lnTo>
                  <a:lnTo>
                    <a:pt x="167" y="402"/>
                  </a:lnTo>
                  <a:lnTo>
                    <a:pt x="132" y="499"/>
                  </a:lnTo>
                  <a:lnTo>
                    <a:pt x="97" y="54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5400" y="325440"/>
              <a:ext cx="416160" cy="589320"/>
            </a:xfrm>
            <a:custGeom>
              <a:avLst/>
              <a:gdLst/>
              <a:ahLst/>
              <a:rect l="0" t="0" r="r" b="b"/>
              <a:pathLst>
                <a:path w="1156" h="1637">
                  <a:moveTo>
                    <a:pt x="291" y="224"/>
                  </a:moveTo>
                  <a:lnTo>
                    <a:pt x="202" y="542"/>
                  </a:lnTo>
                  <a:lnTo>
                    <a:pt x="13" y="604"/>
                  </a:lnTo>
                  <a:lnTo>
                    <a:pt x="61" y="701"/>
                  </a:lnTo>
                  <a:lnTo>
                    <a:pt x="0" y="767"/>
                  </a:lnTo>
                  <a:lnTo>
                    <a:pt x="0" y="878"/>
                  </a:lnTo>
                  <a:lnTo>
                    <a:pt x="92" y="984"/>
                  </a:lnTo>
                  <a:lnTo>
                    <a:pt x="180" y="984"/>
                  </a:lnTo>
                  <a:lnTo>
                    <a:pt x="238" y="1345"/>
                  </a:lnTo>
                  <a:lnTo>
                    <a:pt x="313" y="1500"/>
                  </a:lnTo>
                  <a:lnTo>
                    <a:pt x="551" y="1637"/>
                  </a:lnTo>
                  <a:lnTo>
                    <a:pt x="785" y="1619"/>
                  </a:lnTo>
                  <a:lnTo>
                    <a:pt x="896" y="1345"/>
                  </a:lnTo>
                  <a:lnTo>
                    <a:pt x="927" y="931"/>
                  </a:lnTo>
                  <a:lnTo>
                    <a:pt x="1156" y="723"/>
                  </a:lnTo>
                  <a:lnTo>
                    <a:pt x="1147" y="643"/>
                  </a:lnTo>
                  <a:lnTo>
                    <a:pt x="1121" y="604"/>
                  </a:lnTo>
                  <a:lnTo>
                    <a:pt x="997" y="595"/>
                  </a:lnTo>
                  <a:lnTo>
                    <a:pt x="1032" y="485"/>
                  </a:lnTo>
                  <a:lnTo>
                    <a:pt x="918" y="414"/>
                  </a:lnTo>
                  <a:lnTo>
                    <a:pt x="860" y="176"/>
                  </a:lnTo>
                  <a:lnTo>
                    <a:pt x="502" y="0"/>
                  </a:lnTo>
                  <a:lnTo>
                    <a:pt x="313" y="167"/>
                  </a:lnTo>
                  <a:lnTo>
                    <a:pt x="291" y="2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7080" y="819000"/>
              <a:ext cx="379800" cy="700560"/>
            </a:xfrm>
            <a:custGeom>
              <a:avLst/>
              <a:gdLst/>
              <a:ahLst/>
              <a:rect l="0" t="0" r="r" b="b"/>
              <a:pathLst>
                <a:path w="1055" h="1946">
                  <a:moveTo>
                    <a:pt x="216" y="101"/>
                  </a:moveTo>
                  <a:lnTo>
                    <a:pt x="367" y="194"/>
                  </a:lnTo>
                  <a:lnTo>
                    <a:pt x="446" y="299"/>
                  </a:lnTo>
                  <a:lnTo>
                    <a:pt x="866" y="0"/>
                  </a:lnTo>
                  <a:lnTo>
                    <a:pt x="998" y="61"/>
                  </a:lnTo>
                  <a:lnTo>
                    <a:pt x="1055" y="370"/>
                  </a:lnTo>
                  <a:lnTo>
                    <a:pt x="750" y="1266"/>
                  </a:lnTo>
                  <a:lnTo>
                    <a:pt x="848" y="1761"/>
                  </a:lnTo>
                  <a:lnTo>
                    <a:pt x="450" y="1946"/>
                  </a:lnTo>
                  <a:lnTo>
                    <a:pt x="141" y="1845"/>
                  </a:lnTo>
                  <a:lnTo>
                    <a:pt x="141" y="1315"/>
                  </a:lnTo>
                  <a:lnTo>
                    <a:pt x="0" y="807"/>
                  </a:lnTo>
                  <a:lnTo>
                    <a:pt x="141" y="194"/>
                  </a:lnTo>
                  <a:lnTo>
                    <a:pt x="216" y="10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92920" y="247680"/>
              <a:ext cx="356040" cy="186120"/>
            </a:xfrm>
            <a:custGeom>
              <a:avLst/>
              <a:gdLst/>
              <a:ahLst/>
              <a:rect l="0" t="0" r="r" b="b"/>
              <a:pathLst>
                <a:path w="989" h="517">
                  <a:moveTo>
                    <a:pt x="123" y="495"/>
                  </a:moveTo>
                  <a:lnTo>
                    <a:pt x="269" y="353"/>
                  </a:lnTo>
                  <a:lnTo>
                    <a:pt x="358" y="336"/>
                  </a:lnTo>
                  <a:lnTo>
                    <a:pt x="358" y="349"/>
                  </a:lnTo>
                  <a:lnTo>
                    <a:pt x="406" y="336"/>
                  </a:lnTo>
                  <a:lnTo>
                    <a:pt x="468" y="375"/>
                  </a:lnTo>
                  <a:lnTo>
                    <a:pt x="587" y="403"/>
                  </a:lnTo>
                  <a:lnTo>
                    <a:pt x="680" y="517"/>
                  </a:lnTo>
                  <a:lnTo>
                    <a:pt x="835" y="465"/>
                  </a:lnTo>
                  <a:lnTo>
                    <a:pt x="835" y="412"/>
                  </a:lnTo>
                  <a:lnTo>
                    <a:pt x="989" y="349"/>
                  </a:lnTo>
                  <a:lnTo>
                    <a:pt x="945" y="252"/>
                  </a:lnTo>
                  <a:lnTo>
                    <a:pt x="795" y="243"/>
                  </a:lnTo>
                  <a:lnTo>
                    <a:pt x="822" y="137"/>
                  </a:lnTo>
                  <a:lnTo>
                    <a:pt x="693" y="146"/>
                  </a:lnTo>
                  <a:lnTo>
                    <a:pt x="671" y="74"/>
                  </a:lnTo>
                  <a:lnTo>
                    <a:pt x="587" y="74"/>
                  </a:lnTo>
                  <a:lnTo>
                    <a:pt x="521" y="114"/>
                  </a:lnTo>
                  <a:lnTo>
                    <a:pt x="468" y="114"/>
                  </a:lnTo>
                  <a:lnTo>
                    <a:pt x="481" y="0"/>
                  </a:lnTo>
                  <a:lnTo>
                    <a:pt x="358" y="52"/>
                  </a:lnTo>
                  <a:lnTo>
                    <a:pt x="194" y="243"/>
                  </a:lnTo>
                  <a:lnTo>
                    <a:pt x="185" y="114"/>
                  </a:lnTo>
                  <a:lnTo>
                    <a:pt x="101" y="177"/>
                  </a:lnTo>
                  <a:lnTo>
                    <a:pt x="74" y="336"/>
                  </a:lnTo>
                  <a:lnTo>
                    <a:pt x="0" y="309"/>
                  </a:lnTo>
                  <a:lnTo>
                    <a:pt x="13" y="412"/>
                  </a:lnTo>
                  <a:lnTo>
                    <a:pt x="123" y="49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89760" y="947880"/>
              <a:ext cx="113040" cy="532080"/>
            </a:xfrm>
            <a:custGeom>
              <a:avLst/>
              <a:gdLst/>
              <a:ahLst/>
              <a:rect l="0" t="0" r="r" b="b"/>
              <a:pathLst>
                <a:path w="314" h="1478">
                  <a:moveTo>
                    <a:pt x="164" y="8"/>
                  </a:moveTo>
                  <a:lnTo>
                    <a:pt x="52" y="74"/>
                  </a:lnTo>
                  <a:lnTo>
                    <a:pt x="52" y="198"/>
                  </a:lnTo>
                  <a:lnTo>
                    <a:pt x="132" y="238"/>
                  </a:lnTo>
                  <a:lnTo>
                    <a:pt x="26" y="436"/>
                  </a:lnTo>
                  <a:lnTo>
                    <a:pt x="0" y="696"/>
                  </a:lnTo>
                  <a:lnTo>
                    <a:pt x="74" y="1032"/>
                  </a:lnTo>
                  <a:lnTo>
                    <a:pt x="74" y="1178"/>
                  </a:lnTo>
                  <a:lnTo>
                    <a:pt x="35" y="1284"/>
                  </a:lnTo>
                  <a:lnTo>
                    <a:pt x="199" y="1478"/>
                  </a:lnTo>
                  <a:lnTo>
                    <a:pt x="305" y="1191"/>
                  </a:lnTo>
                  <a:lnTo>
                    <a:pt x="305" y="993"/>
                  </a:lnTo>
                  <a:lnTo>
                    <a:pt x="225" y="807"/>
                  </a:lnTo>
                  <a:lnTo>
                    <a:pt x="186" y="560"/>
                  </a:lnTo>
                  <a:lnTo>
                    <a:pt x="269" y="313"/>
                  </a:lnTo>
                  <a:lnTo>
                    <a:pt x="243" y="220"/>
                  </a:lnTo>
                  <a:lnTo>
                    <a:pt x="314" y="167"/>
                  </a:lnTo>
                  <a:lnTo>
                    <a:pt x="305" y="101"/>
                  </a:lnTo>
                  <a:lnTo>
                    <a:pt x="208" y="0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85080" y="77004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44"/>
                  </a:moveTo>
                  <a:lnTo>
                    <a:pt x="97" y="133"/>
                  </a:lnTo>
                  <a:lnTo>
                    <a:pt x="203" y="124"/>
                  </a:lnTo>
                  <a:lnTo>
                    <a:pt x="252" y="13"/>
                  </a:lnTo>
                  <a:lnTo>
                    <a:pt x="142" y="0"/>
                  </a:lnTo>
                  <a:lnTo>
                    <a:pt x="26" y="1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85000" y="523800"/>
              <a:ext cx="113040" cy="103680"/>
            </a:xfrm>
            <a:custGeom>
              <a:avLst/>
              <a:gdLst/>
              <a:ahLst/>
              <a:rect l="0" t="0" r="r" b="b"/>
              <a:pathLst>
                <a:path w="314" h="288">
                  <a:moveTo>
                    <a:pt x="0" y="30"/>
                  </a:moveTo>
                  <a:lnTo>
                    <a:pt x="217" y="288"/>
                  </a:lnTo>
                  <a:lnTo>
                    <a:pt x="314" y="270"/>
                  </a:lnTo>
                  <a:lnTo>
                    <a:pt x="8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85160" y="501480"/>
              <a:ext cx="97200" cy="103680"/>
            </a:xfrm>
            <a:custGeom>
              <a:avLst/>
              <a:gdLst/>
              <a:ahLst/>
              <a:rect l="0" t="0" r="r" b="b"/>
              <a:pathLst>
                <a:path w="270" h="288">
                  <a:moveTo>
                    <a:pt x="0" y="39"/>
                  </a:moveTo>
                  <a:lnTo>
                    <a:pt x="186" y="288"/>
                  </a:lnTo>
                  <a:lnTo>
                    <a:pt x="270" y="226"/>
                  </a:lnTo>
                  <a:lnTo>
                    <a:pt x="7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42160" y="366840"/>
              <a:ext cx="397080" cy="260640"/>
            </a:xfrm>
            <a:custGeom>
              <a:avLst/>
              <a:gdLst/>
              <a:ahLst/>
              <a:rect l="0" t="0" r="r" b="b"/>
              <a:pathLst>
                <a:path w="1103" h="724">
                  <a:moveTo>
                    <a:pt x="507" y="428"/>
                  </a:moveTo>
                  <a:lnTo>
                    <a:pt x="405" y="406"/>
                  </a:lnTo>
                  <a:lnTo>
                    <a:pt x="493" y="335"/>
                  </a:lnTo>
                  <a:lnTo>
                    <a:pt x="463" y="304"/>
                  </a:lnTo>
                  <a:lnTo>
                    <a:pt x="348" y="393"/>
                  </a:lnTo>
                  <a:lnTo>
                    <a:pt x="141" y="411"/>
                  </a:lnTo>
                  <a:lnTo>
                    <a:pt x="0" y="415"/>
                  </a:lnTo>
                  <a:lnTo>
                    <a:pt x="0" y="516"/>
                  </a:lnTo>
                  <a:lnTo>
                    <a:pt x="132" y="719"/>
                  </a:lnTo>
                  <a:lnTo>
                    <a:pt x="163" y="724"/>
                  </a:lnTo>
                  <a:lnTo>
                    <a:pt x="44" y="499"/>
                  </a:lnTo>
                  <a:lnTo>
                    <a:pt x="224" y="428"/>
                  </a:lnTo>
                  <a:lnTo>
                    <a:pt x="348" y="428"/>
                  </a:lnTo>
                  <a:lnTo>
                    <a:pt x="436" y="472"/>
                  </a:lnTo>
                  <a:lnTo>
                    <a:pt x="463" y="538"/>
                  </a:lnTo>
                  <a:lnTo>
                    <a:pt x="463" y="675"/>
                  </a:lnTo>
                  <a:lnTo>
                    <a:pt x="463" y="719"/>
                  </a:lnTo>
                  <a:lnTo>
                    <a:pt x="511" y="653"/>
                  </a:lnTo>
                  <a:lnTo>
                    <a:pt x="511" y="508"/>
                  </a:lnTo>
                  <a:lnTo>
                    <a:pt x="591" y="508"/>
                  </a:lnTo>
                  <a:lnTo>
                    <a:pt x="631" y="675"/>
                  </a:lnTo>
                  <a:lnTo>
                    <a:pt x="671" y="684"/>
                  </a:lnTo>
                  <a:lnTo>
                    <a:pt x="807" y="684"/>
                  </a:lnTo>
                  <a:lnTo>
                    <a:pt x="944" y="662"/>
                  </a:lnTo>
                  <a:lnTo>
                    <a:pt x="1041" y="596"/>
                  </a:lnTo>
                  <a:lnTo>
                    <a:pt x="1054" y="450"/>
                  </a:lnTo>
                  <a:lnTo>
                    <a:pt x="1103" y="393"/>
                  </a:lnTo>
                  <a:lnTo>
                    <a:pt x="1072" y="348"/>
                  </a:lnTo>
                  <a:lnTo>
                    <a:pt x="953" y="313"/>
                  </a:lnTo>
                  <a:lnTo>
                    <a:pt x="931" y="163"/>
                  </a:lnTo>
                  <a:lnTo>
                    <a:pt x="812" y="163"/>
                  </a:lnTo>
                  <a:lnTo>
                    <a:pt x="675" y="0"/>
                  </a:lnTo>
                  <a:lnTo>
                    <a:pt x="803" y="176"/>
                  </a:lnTo>
                  <a:lnTo>
                    <a:pt x="843" y="176"/>
                  </a:lnTo>
                  <a:lnTo>
                    <a:pt x="874" y="304"/>
                  </a:lnTo>
                  <a:lnTo>
                    <a:pt x="715" y="348"/>
                  </a:lnTo>
                  <a:lnTo>
                    <a:pt x="600" y="313"/>
                  </a:lnTo>
                  <a:lnTo>
                    <a:pt x="583" y="348"/>
                  </a:lnTo>
                  <a:lnTo>
                    <a:pt x="644" y="393"/>
                  </a:lnTo>
                  <a:lnTo>
                    <a:pt x="644" y="424"/>
                  </a:lnTo>
                  <a:lnTo>
                    <a:pt x="777" y="371"/>
                  </a:lnTo>
                  <a:lnTo>
                    <a:pt x="887" y="357"/>
                  </a:lnTo>
                  <a:lnTo>
                    <a:pt x="1010" y="375"/>
                  </a:lnTo>
                  <a:lnTo>
                    <a:pt x="1010" y="393"/>
                  </a:lnTo>
                  <a:lnTo>
                    <a:pt x="953" y="441"/>
                  </a:lnTo>
                  <a:lnTo>
                    <a:pt x="931" y="508"/>
                  </a:lnTo>
                  <a:lnTo>
                    <a:pt x="927" y="596"/>
                  </a:lnTo>
                  <a:lnTo>
                    <a:pt x="852" y="631"/>
                  </a:lnTo>
                  <a:lnTo>
                    <a:pt x="746" y="644"/>
                  </a:lnTo>
                  <a:lnTo>
                    <a:pt x="671" y="644"/>
                  </a:lnTo>
                  <a:lnTo>
                    <a:pt x="644" y="622"/>
                  </a:lnTo>
                  <a:lnTo>
                    <a:pt x="631" y="450"/>
                  </a:lnTo>
                  <a:lnTo>
                    <a:pt x="511" y="450"/>
                  </a:lnTo>
                  <a:lnTo>
                    <a:pt x="507" y="4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80400" y="666720"/>
              <a:ext cx="127440" cy="52920"/>
            </a:xfrm>
            <a:custGeom>
              <a:avLst/>
              <a:gdLst/>
              <a:ahLst/>
              <a:rect l="0" t="0" r="r" b="b"/>
              <a:pathLst>
                <a:path w="354" h="147">
                  <a:moveTo>
                    <a:pt x="0" y="0"/>
                  </a:moveTo>
                  <a:lnTo>
                    <a:pt x="57" y="67"/>
                  </a:lnTo>
                  <a:lnTo>
                    <a:pt x="212" y="67"/>
                  </a:lnTo>
                  <a:lnTo>
                    <a:pt x="279" y="17"/>
                  </a:lnTo>
                  <a:lnTo>
                    <a:pt x="354" y="17"/>
                  </a:lnTo>
                  <a:lnTo>
                    <a:pt x="341" y="45"/>
                  </a:lnTo>
                  <a:lnTo>
                    <a:pt x="341" y="67"/>
                  </a:lnTo>
                  <a:lnTo>
                    <a:pt x="195" y="147"/>
                  </a:lnTo>
                  <a:lnTo>
                    <a:pt x="120" y="147"/>
                  </a:lnTo>
                  <a:lnTo>
                    <a:pt x="74" y="121"/>
                  </a:lnTo>
                  <a:lnTo>
                    <a:pt x="3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6040" y="581040"/>
              <a:ext cx="194040" cy="281520"/>
            </a:xfrm>
            <a:custGeom>
              <a:avLst/>
              <a:gdLst/>
              <a:ahLst/>
              <a:rect l="0" t="0" r="r" b="b"/>
              <a:pathLst>
                <a:path w="539" h="782">
                  <a:moveTo>
                    <a:pt x="539" y="57"/>
                  </a:moveTo>
                  <a:lnTo>
                    <a:pt x="539" y="66"/>
                  </a:lnTo>
                  <a:lnTo>
                    <a:pt x="442" y="145"/>
                  </a:lnTo>
                  <a:lnTo>
                    <a:pt x="367" y="163"/>
                  </a:lnTo>
                  <a:lnTo>
                    <a:pt x="212" y="145"/>
                  </a:lnTo>
                  <a:lnTo>
                    <a:pt x="243" y="419"/>
                  </a:lnTo>
                  <a:lnTo>
                    <a:pt x="283" y="654"/>
                  </a:lnTo>
                  <a:lnTo>
                    <a:pt x="344" y="782"/>
                  </a:lnTo>
                  <a:lnTo>
                    <a:pt x="283" y="694"/>
                  </a:lnTo>
                  <a:lnTo>
                    <a:pt x="252" y="597"/>
                  </a:lnTo>
                  <a:lnTo>
                    <a:pt x="208" y="327"/>
                  </a:lnTo>
                  <a:lnTo>
                    <a:pt x="168" y="344"/>
                  </a:lnTo>
                  <a:lnTo>
                    <a:pt x="114" y="318"/>
                  </a:lnTo>
                  <a:lnTo>
                    <a:pt x="13" y="176"/>
                  </a:lnTo>
                  <a:lnTo>
                    <a:pt x="0" y="97"/>
                  </a:lnTo>
                  <a:lnTo>
                    <a:pt x="0" y="48"/>
                  </a:lnTo>
                  <a:lnTo>
                    <a:pt x="22" y="13"/>
                  </a:lnTo>
                  <a:lnTo>
                    <a:pt x="83" y="0"/>
                  </a:lnTo>
                  <a:lnTo>
                    <a:pt x="97" y="17"/>
                  </a:lnTo>
                  <a:lnTo>
                    <a:pt x="44" y="35"/>
                  </a:lnTo>
                  <a:lnTo>
                    <a:pt x="30" y="92"/>
                  </a:lnTo>
                  <a:lnTo>
                    <a:pt x="35" y="167"/>
                  </a:lnTo>
                  <a:lnTo>
                    <a:pt x="110" y="234"/>
                  </a:lnTo>
                  <a:lnTo>
                    <a:pt x="142" y="221"/>
                  </a:lnTo>
                  <a:lnTo>
                    <a:pt x="142" y="74"/>
                  </a:lnTo>
                  <a:lnTo>
                    <a:pt x="203" y="105"/>
                  </a:lnTo>
                  <a:lnTo>
                    <a:pt x="305" y="127"/>
                  </a:lnTo>
                  <a:lnTo>
                    <a:pt x="393" y="123"/>
                  </a:lnTo>
                  <a:lnTo>
                    <a:pt x="482" y="74"/>
                  </a:lnTo>
                  <a:lnTo>
                    <a:pt x="539" y="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88240" y="360360"/>
              <a:ext cx="59040" cy="147960"/>
            </a:xfrm>
            <a:custGeom>
              <a:avLst/>
              <a:gdLst/>
              <a:ahLst/>
              <a:rect l="0" t="0" r="r" b="b"/>
              <a:pathLst>
                <a:path w="164" h="411">
                  <a:moveTo>
                    <a:pt x="89" y="411"/>
                  </a:moveTo>
                  <a:lnTo>
                    <a:pt x="164" y="167"/>
                  </a:lnTo>
                  <a:lnTo>
                    <a:pt x="22" y="83"/>
                  </a:lnTo>
                  <a:lnTo>
                    <a:pt x="0" y="0"/>
                  </a:lnTo>
                  <a:lnTo>
                    <a:pt x="13" y="97"/>
                  </a:lnTo>
                  <a:lnTo>
                    <a:pt x="57" y="141"/>
                  </a:lnTo>
                  <a:lnTo>
                    <a:pt x="61" y="265"/>
                  </a:lnTo>
                  <a:lnTo>
                    <a:pt x="102" y="314"/>
                  </a:lnTo>
                  <a:lnTo>
                    <a:pt x="89" y="4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6800" y="228600"/>
              <a:ext cx="435240" cy="197280"/>
            </a:xfrm>
            <a:custGeom>
              <a:avLst/>
              <a:gdLst/>
              <a:ahLst/>
              <a:rect l="0" t="0" r="r" b="b"/>
              <a:pathLst>
                <a:path w="1209" h="548">
                  <a:moveTo>
                    <a:pt x="13" y="375"/>
                  </a:moveTo>
                  <a:lnTo>
                    <a:pt x="119" y="429"/>
                  </a:lnTo>
                  <a:lnTo>
                    <a:pt x="105" y="358"/>
                  </a:lnTo>
                  <a:lnTo>
                    <a:pt x="127" y="234"/>
                  </a:lnTo>
                  <a:lnTo>
                    <a:pt x="194" y="208"/>
                  </a:lnTo>
                  <a:lnTo>
                    <a:pt x="202" y="340"/>
                  </a:lnTo>
                  <a:lnTo>
                    <a:pt x="405" y="105"/>
                  </a:lnTo>
                  <a:lnTo>
                    <a:pt x="454" y="92"/>
                  </a:lnTo>
                  <a:lnTo>
                    <a:pt x="414" y="181"/>
                  </a:lnTo>
                  <a:lnTo>
                    <a:pt x="542" y="225"/>
                  </a:lnTo>
                  <a:lnTo>
                    <a:pt x="640" y="136"/>
                  </a:lnTo>
                  <a:lnTo>
                    <a:pt x="688" y="164"/>
                  </a:lnTo>
                  <a:lnTo>
                    <a:pt x="644" y="243"/>
                  </a:lnTo>
                  <a:lnTo>
                    <a:pt x="702" y="195"/>
                  </a:lnTo>
                  <a:lnTo>
                    <a:pt x="794" y="234"/>
                  </a:lnTo>
                  <a:lnTo>
                    <a:pt x="719" y="300"/>
                  </a:lnTo>
                  <a:lnTo>
                    <a:pt x="971" y="340"/>
                  </a:lnTo>
                  <a:lnTo>
                    <a:pt x="803" y="384"/>
                  </a:lnTo>
                  <a:lnTo>
                    <a:pt x="1010" y="412"/>
                  </a:lnTo>
                  <a:lnTo>
                    <a:pt x="763" y="469"/>
                  </a:lnTo>
                  <a:lnTo>
                    <a:pt x="816" y="509"/>
                  </a:lnTo>
                  <a:lnTo>
                    <a:pt x="741" y="548"/>
                  </a:lnTo>
                  <a:lnTo>
                    <a:pt x="874" y="548"/>
                  </a:lnTo>
                  <a:lnTo>
                    <a:pt x="860" y="517"/>
                  </a:lnTo>
                  <a:lnTo>
                    <a:pt x="993" y="548"/>
                  </a:lnTo>
                  <a:lnTo>
                    <a:pt x="971" y="460"/>
                  </a:lnTo>
                  <a:lnTo>
                    <a:pt x="1090" y="420"/>
                  </a:lnTo>
                  <a:lnTo>
                    <a:pt x="1006" y="380"/>
                  </a:lnTo>
                  <a:lnTo>
                    <a:pt x="1209" y="367"/>
                  </a:lnTo>
                  <a:lnTo>
                    <a:pt x="1032" y="274"/>
                  </a:lnTo>
                  <a:lnTo>
                    <a:pt x="834" y="256"/>
                  </a:lnTo>
                  <a:lnTo>
                    <a:pt x="993" y="168"/>
                  </a:lnTo>
                  <a:lnTo>
                    <a:pt x="702" y="168"/>
                  </a:lnTo>
                  <a:lnTo>
                    <a:pt x="838" y="83"/>
                  </a:lnTo>
                  <a:lnTo>
                    <a:pt x="631" y="105"/>
                  </a:lnTo>
                  <a:lnTo>
                    <a:pt x="533" y="146"/>
                  </a:lnTo>
                  <a:lnTo>
                    <a:pt x="618" y="0"/>
                  </a:lnTo>
                  <a:lnTo>
                    <a:pt x="366" y="83"/>
                  </a:lnTo>
                  <a:lnTo>
                    <a:pt x="224" y="261"/>
                  </a:lnTo>
                  <a:lnTo>
                    <a:pt x="202" y="164"/>
                  </a:lnTo>
                  <a:lnTo>
                    <a:pt x="92" y="234"/>
                  </a:lnTo>
                  <a:lnTo>
                    <a:pt x="74" y="367"/>
                  </a:lnTo>
                  <a:lnTo>
                    <a:pt x="0" y="340"/>
                  </a:lnTo>
                  <a:lnTo>
                    <a:pt x="26" y="460"/>
                  </a:lnTo>
                  <a:lnTo>
                    <a:pt x="13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81840" y="33336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0" y="164"/>
                  </a:moveTo>
                  <a:lnTo>
                    <a:pt x="128" y="0"/>
                  </a:lnTo>
                  <a:lnTo>
                    <a:pt x="128" y="106"/>
                  </a:lnTo>
                  <a:lnTo>
                    <a:pt x="172" y="66"/>
                  </a:lnTo>
                  <a:lnTo>
                    <a:pt x="212" y="124"/>
                  </a:lnTo>
                  <a:lnTo>
                    <a:pt x="341" y="155"/>
                  </a:lnTo>
                  <a:lnTo>
                    <a:pt x="203" y="137"/>
                  </a:lnTo>
                  <a:lnTo>
                    <a:pt x="164" y="93"/>
                  </a:lnTo>
                  <a:lnTo>
                    <a:pt x="111" y="137"/>
                  </a:lnTo>
                  <a:lnTo>
                    <a:pt x="111" y="8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9240" y="736560"/>
              <a:ext cx="149760" cy="87840"/>
            </a:xfrm>
            <a:custGeom>
              <a:avLst/>
              <a:gdLst/>
              <a:ahLst/>
              <a:rect l="0" t="0" r="r" b="b"/>
              <a:pathLst>
                <a:path w="416" h="244">
                  <a:moveTo>
                    <a:pt x="79" y="84"/>
                  </a:moveTo>
                  <a:lnTo>
                    <a:pt x="252" y="75"/>
                  </a:lnTo>
                  <a:lnTo>
                    <a:pt x="332" y="93"/>
                  </a:lnTo>
                  <a:lnTo>
                    <a:pt x="376" y="57"/>
                  </a:lnTo>
                  <a:lnTo>
                    <a:pt x="416" y="137"/>
                  </a:lnTo>
                  <a:lnTo>
                    <a:pt x="390" y="155"/>
                  </a:lnTo>
                  <a:lnTo>
                    <a:pt x="354" y="120"/>
                  </a:lnTo>
                  <a:lnTo>
                    <a:pt x="296" y="177"/>
                  </a:lnTo>
                  <a:lnTo>
                    <a:pt x="190" y="244"/>
                  </a:lnTo>
                  <a:lnTo>
                    <a:pt x="146" y="244"/>
                  </a:lnTo>
                  <a:lnTo>
                    <a:pt x="79" y="213"/>
                  </a:lnTo>
                  <a:lnTo>
                    <a:pt x="155" y="240"/>
                  </a:lnTo>
                  <a:lnTo>
                    <a:pt x="186" y="240"/>
                  </a:lnTo>
                  <a:lnTo>
                    <a:pt x="252" y="196"/>
                  </a:lnTo>
                  <a:lnTo>
                    <a:pt x="292" y="111"/>
                  </a:lnTo>
                  <a:lnTo>
                    <a:pt x="230" y="98"/>
                  </a:lnTo>
                  <a:lnTo>
                    <a:pt x="181" y="93"/>
                  </a:lnTo>
                  <a:lnTo>
                    <a:pt x="66" y="106"/>
                  </a:lnTo>
                  <a:lnTo>
                    <a:pt x="66" y="172"/>
                  </a:lnTo>
                  <a:lnTo>
                    <a:pt x="30" y="133"/>
                  </a:lnTo>
                  <a:lnTo>
                    <a:pt x="0" y="187"/>
                  </a:lnTo>
                  <a:lnTo>
                    <a:pt x="4" y="67"/>
                  </a:lnTo>
                  <a:lnTo>
                    <a:pt x="44" y="0"/>
                  </a:lnTo>
                  <a:lnTo>
                    <a:pt x="79" y="67"/>
                  </a:lnTo>
                  <a:lnTo>
                    <a:pt x="79" y="8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1600" y="544680"/>
              <a:ext cx="316440" cy="406800"/>
            </a:xfrm>
            <a:custGeom>
              <a:avLst/>
              <a:gdLst/>
              <a:ahLst/>
              <a:rect l="0" t="0" r="r" b="b"/>
              <a:pathLst>
                <a:path w="879" h="1130">
                  <a:moveTo>
                    <a:pt x="742" y="0"/>
                  </a:moveTo>
                  <a:lnTo>
                    <a:pt x="831" y="0"/>
                  </a:lnTo>
                  <a:lnTo>
                    <a:pt x="879" y="57"/>
                  </a:lnTo>
                  <a:lnTo>
                    <a:pt x="879" y="114"/>
                  </a:lnTo>
                  <a:lnTo>
                    <a:pt x="808" y="296"/>
                  </a:lnTo>
                  <a:lnTo>
                    <a:pt x="734" y="380"/>
                  </a:lnTo>
                  <a:lnTo>
                    <a:pt x="663" y="393"/>
                  </a:lnTo>
                  <a:lnTo>
                    <a:pt x="640" y="393"/>
                  </a:lnTo>
                  <a:lnTo>
                    <a:pt x="640" y="613"/>
                  </a:lnTo>
                  <a:lnTo>
                    <a:pt x="676" y="777"/>
                  </a:lnTo>
                  <a:lnTo>
                    <a:pt x="676" y="910"/>
                  </a:lnTo>
                  <a:lnTo>
                    <a:pt x="543" y="1042"/>
                  </a:lnTo>
                  <a:lnTo>
                    <a:pt x="358" y="1130"/>
                  </a:lnTo>
                  <a:lnTo>
                    <a:pt x="243" y="1130"/>
                  </a:lnTo>
                  <a:lnTo>
                    <a:pt x="185" y="1108"/>
                  </a:lnTo>
                  <a:lnTo>
                    <a:pt x="105" y="950"/>
                  </a:lnTo>
                  <a:lnTo>
                    <a:pt x="26" y="892"/>
                  </a:lnTo>
                  <a:lnTo>
                    <a:pt x="0" y="857"/>
                  </a:lnTo>
                  <a:lnTo>
                    <a:pt x="101" y="910"/>
                  </a:lnTo>
                  <a:lnTo>
                    <a:pt x="171" y="967"/>
                  </a:lnTo>
                  <a:lnTo>
                    <a:pt x="309" y="972"/>
                  </a:lnTo>
                  <a:lnTo>
                    <a:pt x="437" y="914"/>
                  </a:lnTo>
                  <a:lnTo>
                    <a:pt x="503" y="857"/>
                  </a:lnTo>
                  <a:lnTo>
                    <a:pt x="574" y="737"/>
                  </a:lnTo>
                  <a:lnTo>
                    <a:pt x="587" y="600"/>
                  </a:lnTo>
                  <a:lnTo>
                    <a:pt x="613" y="167"/>
                  </a:lnTo>
                  <a:lnTo>
                    <a:pt x="649" y="229"/>
                  </a:lnTo>
                  <a:lnTo>
                    <a:pt x="734" y="149"/>
                  </a:lnTo>
                  <a:lnTo>
                    <a:pt x="826" y="114"/>
                  </a:lnTo>
                  <a:lnTo>
                    <a:pt x="848" y="70"/>
                  </a:lnTo>
                  <a:lnTo>
                    <a:pt x="835" y="26"/>
                  </a:lnTo>
                  <a:lnTo>
                    <a:pt x="800" y="4"/>
                  </a:lnTo>
                  <a:lnTo>
                    <a:pt x="74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61280" y="895320"/>
              <a:ext cx="254520" cy="378360"/>
            </a:xfrm>
            <a:custGeom>
              <a:avLst/>
              <a:gdLst/>
              <a:ahLst/>
              <a:rect l="0" t="0" r="r" b="b"/>
              <a:pathLst>
                <a:path w="707" h="1051">
                  <a:moveTo>
                    <a:pt x="92" y="0"/>
                  </a:moveTo>
                  <a:lnTo>
                    <a:pt x="171" y="48"/>
                  </a:lnTo>
                  <a:lnTo>
                    <a:pt x="230" y="260"/>
                  </a:lnTo>
                  <a:lnTo>
                    <a:pt x="411" y="314"/>
                  </a:lnTo>
                  <a:lnTo>
                    <a:pt x="468" y="367"/>
                  </a:lnTo>
                  <a:lnTo>
                    <a:pt x="477" y="450"/>
                  </a:lnTo>
                  <a:lnTo>
                    <a:pt x="562" y="437"/>
                  </a:lnTo>
                  <a:lnTo>
                    <a:pt x="676" y="503"/>
                  </a:lnTo>
                  <a:lnTo>
                    <a:pt x="707" y="587"/>
                  </a:lnTo>
                  <a:lnTo>
                    <a:pt x="707" y="737"/>
                  </a:lnTo>
                  <a:lnTo>
                    <a:pt x="562" y="958"/>
                  </a:lnTo>
                  <a:lnTo>
                    <a:pt x="516" y="1051"/>
                  </a:lnTo>
                  <a:lnTo>
                    <a:pt x="539" y="932"/>
                  </a:lnTo>
                  <a:lnTo>
                    <a:pt x="516" y="883"/>
                  </a:lnTo>
                  <a:lnTo>
                    <a:pt x="424" y="808"/>
                  </a:lnTo>
                  <a:lnTo>
                    <a:pt x="292" y="719"/>
                  </a:lnTo>
                  <a:lnTo>
                    <a:pt x="459" y="768"/>
                  </a:lnTo>
                  <a:lnTo>
                    <a:pt x="557" y="835"/>
                  </a:lnTo>
                  <a:lnTo>
                    <a:pt x="601" y="826"/>
                  </a:lnTo>
                  <a:lnTo>
                    <a:pt x="637" y="785"/>
                  </a:lnTo>
                  <a:lnTo>
                    <a:pt x="676" y="684"/>
                  </a:lnTo>
                  <a:lnTo>
                    <a:pt x="663" y="583"/>
                  </a:lnTo>
                  <a:lnTo>
                    <a:pt x="610" y="521"/>
                  </a:lnTo>
                  <a:lnTo>
                    <a:pt x="525" y="503"/>
                  </a:lnTo>
                  <a:lnTo>
                    <a:pt x="424" y="503"/>
                  </a:lnTo>
                  <a:lnTo>
                    <a:pt x="393" y="349"/>
                  </a:lnTo>
                  <a:lnTo>
                    <a:pt x="239" y="292"/>
                  </a:lnTo>
                  <a:lnTo>
                    <a:pt x="239" y="336"/>
                  </a:lnTo>
                  <a:lnTo>
                    <a:pt x="171" y="224"/>
                  </a:lnTo>
                  <a:lnTo>
                    <a:pt x="132" y="48"/>
                  </a:lnTo>
                  <a:lnTo>
                    <a:pt x="66" y="26"/>
                  </a:lnTo>
                  <a:lnTo>
                    <a:pt x="35" y="83"/>
                  </a:lnTo>
                  <a:lnTo>
                    <a:pt x="35" y="202"/>
                  </a:lnTo>
                  <a:lnTo>
                    <a:pt x="61" y="336"/>
                  </a:lnTo>
                  <a:lnTo>
                    <a:pt x="149" y="450"/>
                  </a:lnTo>
                  <a:lnTo>
                    <a:pt x="52" y="380"/>
                  </a:lnTo>
                  <a:lnTo>
                    <a:pt x="8" y="260"/>
                  </a:lnTo>
                  <a:lnTo>
                    <a:pt x="0" y="110"/>
                  </a:lnTo>
                  <a:lnTo>
                    <a:pt x="35" y="2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38880" y="1062000"/>
              <a:ext cx="168480" cy="302040"/>
            </a:xfrm>
            <a:custGeom>
              <a:avLst/>
              <a:gdLst/>
              <a:ahLst/>
              <a:rect l="0" t="0" r="r" b="b"/>
              <a:pathLst>
                <a:path w="468" h="839">
                  <a:moveTo>
                    <a:pt x="468" y="0"/>
                  </a:moveTo>
                  <a:lnTo>
                    <a:pt x="371" y="57"/>
                  </a:lnTo>
                  <a:lnTo>
                    <a:pt x="261" y="256"/>
                  </a:lnTo>
                  <a:lnTo>
                    <a:pt x="149" y="393"/>
                  </a:lnTo>
                  <a:lnTo>
                    <a:pt x="13" y="552"/>
                  </a:lnTo>
                  <a:lnTo>
                    <a:pt x="0" y="632"/>
                  </a:lnTo>
                  <a:lnTo>
                    <a:pt x="26" y="707"/>
                  </a:lnTo>
                  <a:lnTo>
                    <a:pt x="92" y="707"/>
                  </a:lnTo>
                  <a:lnTo>
                    <a:pt x="180" y="632"/>
                  </a:lnTo>
                  <a:lnTo>
                    <a:pt x="252" y="481"/>
                  </a:lnTo>
                  <a:lnTo>
                    <a:pt x="344" y="393"/>
                  </a:lnTo>
                  <a:lnTo>
                    <a:pt x="344" y="516"/>
                  </a:lnTo>
                  <a:lnTo>
                    <a:pt x="331" y="622"/>
                  </a:lnTo>
                  <a:lnTo>
                    <a:pt x="224" y="773"/>
                  </a:lnTo>
                  <a:lnTo>
                    <a:pt x="224" y="822"/>
                  </a:lnTo>
                  <a:lnTo>
                    <a:pt x="331" y="839"/>
                  </a:lnTo>
                  <a:lnTo>
                    <a:pt x="261" y="800"/>
                  </a:lnTo>
                  <a:lnTo>
                    <a:pt x="269" y="773"/>
                  </a:lnTo>
                  <a:lnTo>
                    <a:pt x="340" y="667"/>
                  </a:lnTo>
                  <a:lnTo>
                    <a:pt x="384" y="464"/>
                  </a:lnTo>
                  <a:lnTo>
                    <a:pt x="353" y="358"/>
                  </a:lnTo>
                  <a:lnTo>
                    <a:pt x="278" y="415"/>
                  </a:lnTo>
                  <a:lnTo>
                    <a:pt x="110" y="672"/>
                  </a:lnTo>
                  <a:lnTo>
                    <a:pt x="66" y="681"/>
                  </a:lnTo>
                  <a:lnTo>
                    <a:pt x="26" y="650"/>
                  </a:lnTo>
                  <a:lnTo>
                    <a:pt x="26" y="578"/>
                  </a:lnTo>
                  <a:lnTo>
                    <a:pt x="92" y="472"/>
                  </a:lnTo>
                  <a:lnTo>
                    <a:pt x="278" y="274"/>
                  </a:lnTo>
                  <a:lnTo>
                    <a:pt x="384" y="74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64520" y="1231920"/>
              <a:ext cx="103680" cy="144720"/>
            </a:xfrm>
            <a:custGeom>
              <a:avLst/>
              <a:gdLst/>
              <a:ahLst/>
              <a:rect l="0" t="0" r="r" b="b"/>
              <a:pathLst>
                <a:path w="288" h="402">
                  <a:moveTo>
                    <a:pt x="0" y="353"/>
                  </a:moveTo>
                  <a:lnTo>
                    <a:pt x="98" y="252"/>
                  </a:lnTo>
                  <a:lnTo>
                    <a:pt x="115" y="149"/>
                  </a:lnTo>
                  <a:lnTo>
                    <a:pt x="226" y="0"/>
                  </a:lnTo>
                  <a:lnTo>
                    <a:pt x="248" y="97"/>
                  </a:lnTo>
                  <a:lnTo>
                    <a:pt x="235" y="362"/>
                  </a:lnTo>
                  <a:lnTo>
                    <a:pt x="288" y="402"/>
                  </a:lnTo>
                  <a:lnTo>
                    <a:pt x="203" y="375"/>
                  </a:lnTo>
                  <a:lnTo>
                    <a:pt x="159" y="225"/>
                  </a:lnTo>
                  <a:lnTo>
                    <a:pt x="98" y="296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91240" y="1238400"/>
              <a:ext cx="68760" cy="130680"/>
            </a:xfrm>
            <a:custGeom>
              <a:avLst/>
              <a:gdLst/>
              <a:ahLst/>
              <a:rect l="0" t="0" r="r" b="b"/>
              <a:pathLst>
                <a:path w="191" h="363">
                  <a:moveTo>
                    <a:pt x="0" y="275"/>
                  </a:moveTo>
                  <a:lnTo>
                    <a:pt x="8" y="142"/>
                  </a:lnTo>
                  <a:lnTo>
                    <a:pt x="49" y="61"/>
                  </a:lnTo>
                  <a:lnTo>
                    <a:pt x="93" y="350"/>
                  </a:lnTo>
                  <a:lnTo>
                    <a:pt x="151" y="350"/>
                  </a:lnTo>
                  <a:lnTo>
                    <a:pt x="178" y="44"/>
                  </a:lnTo>
                  <a:lnTo>
                    <a:pt x="191" y="0"/>
                  </a:lnTo>
                  <a:lnTo>
                    <a:pt x="178" y="234"/>
                  </a:lnTo>
                  <a:lnTo>
                    <a:pt x="151" y="363"/>
                  </a:lnTo>
                  <a:lnTo>
                    <a:pt x="75" y="363"/>
                  </a:lnTo>
                  <a:lnTo>
                    <a:pt x="44" y="115"/>
                  </a:lnTo>
                  <a:lnTo>
                    <a:pt x="22" y="146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70720" y="730080"/>
              <a:ext cx="165600" cy="344880"/>
            </a:xfrm>
            <a:custGeom>
              <a:avLst/>
              <a:gdLst/>
              <a:ahLst/>
              <a:rect l="0" t="0" r="r" b="b"/>
              <a:pathLst>
                <a:path w="460" h="958">
                  <a:moveTo>
                    <a:pt x="124" y="516"/>
                  </a:moveTo>
                  <a:lnTo>
                    <a:pt x="159" y="371"/>
                  </a:lnTo>
                  <a:lnTo>
                    <a:pt x="309" y="331"/>
                  </a:lnTo>
                  <a:lnTo>
                    <a:pt x="460" y="0"/>
                  </a:lnTo>
                  <a:lnTo>
                    <a:pt x="460" y="92"/>
                  </a:lnTo>
                  <a:lnTo>
                    <a:pt x="331" y="349"/>
                  </a:lnTo>
                  <a:lnTo>
                    <a:pt x="172" y="397"/>
                  </a:lnTo>
                  <a:lnTo>
                    <a:pt x="150" y="516"/>
                  </a:lnTo>
                  <a:lnTo>
                    <a:pt x="203" y="516"/>
                  </a:lnTo>
                  <a:lnTo>
                    <a:pt x="57" y="574"/>
                  </a:lnTo>
                  <a:lnTo>
                    <a:pt x="26" y="675"/>
                  </a:lnTo>
                  <a:lnTo>
                    <a:pt x="35" y="808"/>
                  </a:lnTo>
                  <a:lnTo>
                    <a:pt x="190" y="958"/>
                  </a:lnTo>
                  <a:lnTo>
                    <a:pt x="26" y="822"/>
                  </a:lnTo>
                  <a:lnTo>
                    <a:pt x="0" y="715"/>
                  </a:lnTo>
                  <a:lnTo>
                    <a:pt x="13" y="605"/>
                  </a:lnTo>
                  <a:lnTo>
                    <a:pt x="66" y="525"/>
                  </a:lnTo>
                  <a:lnTo>
                    <a:pt x="124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81960" y="730080"/>
              <a:ext cx="279720" cy="333720"/>
            </a:xfrm>
            <a:custGeom>
              <a:avLst/>
              <a:gdLst/>
              <a:ahLst/>
              <a:rect l="0" t="0" r="r" b="b"/>
              <a:pathLst>
                <a:path w="777" h="927">
                  <a:moveTo>
                    <a:pt x="211" y="0"/>
                  </a:moveTo>
                  <a:lnTo>
                    <a:pt x="264" y="26"/>
                  </a:lnTo>
                  <a:lnTo>
                    <a:pt x="277" y="105"/>
                  </a:lnTo>
                  <a:lnTo>
                    <a:pt x="277" y="180"/>
                  </a:lnTo>
                  <a:lnTo>
                    <a:pt x="189" y="317"/>
                  </a:lnTo>
                  <a:lnTo>
                    <a:pt x="202" y="414"/>
                  </a:lnTo>
                  <a:lnTo>
                    <a:pt x="468" y="521"/>
                  </a:lnTo>
                  <a:lnTo>
                    <a:pt x="772" y="816"/>
                  </a:lnTo>
                  <a:lnTo>
                    <a:pt x="777" y="896"/>
                  </a:lnTo>
                  <a:lnTo>
                    <a:pt x="763" y="927"/>
                  </a:lnTo>
                  <a:lnTo>
                    <a:pt x="649" y="927"/>
                  </a:lnTo>
                  <a:lnTo>
                    <a:pt x="543" y="869"/>
                  </a:lnTo>
                  <a:lnTo>
                    <a:pt x="464" y="777"/>
                  </a:lnTo>
                  <a:lnTo>
                    <a:pt x="415" y="724"/>
                  </a:lnTo>
                  <a:lnTo>
                    <a:pt x="357" y="710"/>
                  </a:lnTo>
                  <a:lnTo>
                    <a:pt x="428" y="710"/>
                  </a:lnTo>
                  <a:lnTo>
                    <a:pt x="556" y="865"/>
                  </a:lnTo>
                  <a:lnTo>
                    <a:pt x="719" y="909"/>
                  </a:lnTo>
                  <a:lnTo>
                    <a:pt x="755" y="865"/>
                  </a:lnTo>
                  <a:lnTo>
                    <a:pt x="737" y="790"/>
                  </a:lnTo>
                  <a:lnTo>
                    <a:pt x="450" y="583"/>
                  </a:lnTo>
                  <a:lnTo>
                    <a:pt x="411" y="521"/>
                  </a:lnTo>
                  <a:lnTo>
                    <a:pt x="189" y="472"/>
                  </a:lnTo>
                  <a:lnTo>
                    <a:pt x="149" y="521"/>
                  </a:lnTo>
                  <a:lnTo>
                    <a:pt x="0" y="609"/>
                  </a:lnTo>
                  <a:lnTo>
                    <a:pt x="141" y="508"/>
                  </a:lnTo>
                  <a:lnTo>
                    <a:pt x="149" y="440"/>
                  </a:lnTo>
                  <a:lnTo>
                    <a:pt x="149" y="299"/>
                  </a:lnTo>
                  <a:lnTo>
                    <a:pt x="251" y="180"/>
                  </a:lnTo>
                  <a:lnTo>
                    <a:pt x="251" y="35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2640" y="993600"/>
              <a:ext cx="235440" cy="198720"/>
            </a:xfrm>
            <a:custGeom>
              <a:avLst/>
              <a:gdLst/>
              <a:ahLst/>
              <a:rect l="0" t="0" r="r" b="b"/>
              <a:pathLst>
                <a:path w="654" h="552">
                  <a:moveTo>
                    <a:pt x="491" y="0"/>
                  </a:moveTo>
                  <a:lnTo>
                    <a:pt x="472" y="48"/>
                  </a:lnTo>
                  <a:lnTo>
                    <a:pt x="575" y="229"/>
                  </a:lnTo>
                  <a:lnTo>
                    <a:pt x="623" y="415"/>
                  </a:lnTo>
                  <a:lnTo>
                    <a:pt x="566" y="415"/>
                  </a:lnTo>
                  <a:lnTo>
                    <a:pt x="464" y="336"/>
                  </a:lnTo>
                  <a:lnTo>
                    <a:pt x="380" y="163"/>
                  </a:lnTo>
                  <a:lnTo>
                    <a:pt x="305" y="136"/>
                  </a:lnTo>
                  <a:lnTo>
                    <a:pt x="318" y="229"/>
                  </a:lnTo>
                  <a:lnTo>
                    <a:pt x="384" y="300"/>
                  </a:lnTo>
                  <a:lnTo>
                    <a:pt x="384" y="428"/>
                  </a:lnTo>
                  <a:lnTo>
                    <a:pt x="340" y="530"/>
                  </a:lnTo>
                  <a:lnTo>
                    <a:pt x="274" y="490"/>
                  </a:lnTo>
                  <a:lnTo>
                    <a:pt x="203" y="336"/>
                  </a:lnTo>
                  <a:lnTo>
                    <a:pt x="186" y="229"/>
                  </a:lnTo>
                  <a:lnTo>
                    <a:pt x="141" y="194"/>
                  </a:lnTo>
                  <a:lnTo>
                    <a:pt x="132" y="468"/>
                  </a:lnTo>
                  <a:lnTo>
                    <a:pt x="66" y="503"/>
                  </a:lnTo>
                  <a:lnTo>
                    <a:pt x="17" y="468"/>
                  </a:lnTo>
                  <a:lnTo>
                    <a:pt x="8" y="238"/>
                  </a:lnTo>
                  <a:lnTo>
                    <a:pt x="0" y="464"/>
                  </a:lnTo>
                  <a:lnTo>
                    <a:pt x="44" y="543"/>
                  </a:lnTo>
                  <a:lnTo>
                    <a:pt x="132" y="543"/>
                  </a:lnTo>
                  <a:lnTo>
                    <a:pt x="158" y="481"/>
                  </a:lnTo>
                  <a:lnTo>
                    <a:pt x="177" y="268"/>
                  </a:lnTo>
                  <a:lnTo>
                    <a:pt x="190" y="353"/>
                  </a:lnTo>
                  <a:lnTo>
                    <a:pt x="265" y="534"/>
                  </a:lnTo>
                  <a:lnTo>
                    <a:pt x="349" y="552"/>
                  </a:lnTo>
                  <a:lnTo>
                    <a:pt x="406" y="481"/>
                  </a:lnTo>
                  <a:lnTo>
                    <a:pt x="406" y="305"/>
                  </a:lnTo>
                  <a:lnTo>
                    <a:pt x="566" y="450"/>
                  </a:lnTo>
                  <a:lnTo>
                    <a:pt x="645" y="450"/>
                  </a:lnTo>
                  <a:lnTo>
                    <a:pt x="654" y="353"/>
                  </a:lnTo>
                  <a:lnTo>
                    <a:pt x="597" y="176"/>
                  </a:lnTo>
                  <a:lnTo>
                    <a:pt x="491" y="35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72520" y="787320"/>
              <a:ext cx="1055880" cy="811440"/>
            </a:xfrm>
            <a:custGeom>
              <a:avLst/>
              <a:gdLst/>
              <a:ahLst/>
              <a:rect l="0" t="0" r="r" b="b"/>
              <a:pathLst>
                <a:path w="2933" h="2254">
                  <a:moveTo>
                    <a:pt x="1053" y="189"/>
                  </a:moveTo>
                  <a:lnTo>
                    <a:pt x="1001" y="198"/>
                  </a:lnTo>
                  <a:lnTo>
                    <a:pt x="917" y="313"/>
                  </a:lnTo>
                  <a:lnTo>
                    <a:pt x="890" y="229"/>
                  </a:lnTo>
                  <a:lnTo>
                    <a:pt x="798" y="180"/>
                  </a:lnTo>
                  <a:lnTo>
                    <a:pt x="723" y="220"/>
                  </a:lnTo>
                  <a:lnTo>
                    <a:pt x="696" y="366"/>
                  </a:lnTo>
                  <a:lnTo>
                    <a:pt x="436" y="542"/>
                  </a:lnTo>
                  <a:lnTo>
                    <a:pt x="454" y="621"/>
                  </a:lnTo>
                  <a:lnTo>
                    <a:pt x="388" y="687"/>
                  </a:lnTo>
                  <a:lnTo>
                    <a:pt x="388" y="745"/>
                  </a:lnTo>
                  <a:lnTo>
                    <a:pt x="463" y="912"/>
                  </a:lnTo>
                  <a:lnTo>
                    <a:pt x="471" y="1124"/>
                  </a:lnTo>
                  <a:lnTo>
                    <a:pt x="418" y="1319"/>
                  </a:lnTo>
                  <a:lnTo>
                    <a:pt x="229" y="1438"/>
                  </a:lnTo>
                  <a:lnTo>
                    <a:pt x="202" y="1601"/>
                  </a:lnTo>
                  <a:lnTo>
                    <a:pt x="149" y="1601"/>
                  </a:lnTo>
                  <a:lnTo>
                    <a:pt x="119" y="1469"/>
                  </a:lnTo>
                  <a:lnTo>
                    <a:pt x="57" y="1469"/>
                  </a:lnTo>
                  <a:lnTo>
                    <a:pt x="35" y="1610"/>
                  </a:lnTo>
                  <a:lnTo>
                    <a:pt x="0" y="1645"/>
                  </a:lnTo>
                  <a:lnTo>
                    <a:pt x="132" y="1844"/>
                  </a:lnTo>
                  <a:lnTo>
                    <a:pt x="220" y="1853"/>
                  </a:lnTo>
                  <a:lnTo>
                    <a:pt x="388" y="1994"/>
                  </a:lnTo>
                  <a:lnTo>
                    <a:pt x="537" y="2011"/>
                  </a:lnTo>
                  <a:lnTo>
                    <a:pt x="621" y="1936"/>
                  </a:lnTo>
                  <a:lnTo>
                    <a:pt x="824" y="1659"/>
                  </a:lnTo>
                  <a:lnTo>
                    <a:pt x="842" y="2033"/>
                  </a:lnTo>
                  <a:lnTo>
                    <a:pt x="824" y="2254"/>
                  </a:lnTo>
                  <a:lnTo>
                    <a:pt x="2523" y="2254"/>
                  </a:lnTo>
                  <a:lnTo>
                    <a:pt x="2395" y="2011"/>
                  </a:lnTo>
                  <a:lnTo>
                    <a:pt x="2338" y="1800"/>
                  </a:lnTo>
                  <a:lnTo>
                    <a:pt x="2320" y="1495"/>
                  </a:lnTo>
                  <a:lnTo>
                    <a:pt x="2421" y="1562"/>
                  </a:lnTo>
                  <a:lnTo>
                    <a:pt x="2523" y="1562"/>
                  </a:lnTo>
                  <a:lnTo>
                    <a:pt x="2660" y="1478"/>
                  </a:lnTo>
                  <a:lnTo>
                    <a:pt x="2752" y="1469"/>
                  </a:lnTo>
                  <a:lnTo>
                    <a:pt x="2809" y="1385"/>
                  </a:lnTo>
                  <a:lnTo>
                    <a:pt x="2854" y="1173"/>
                  </a:lnTo>
                  <a:lnTo>
                    <a:pt x="2933" y="1084"/>
                  </a:lnTo>
                  <a:lnTo>
                    <a:pt x="2893" y="1023"/>
                  </a:lnTo>
                  <a:lnTo>
                    <a:pt x="2827" y="1023"/>
                  </a:lnTo>
                  <a:lnTo>
                    <a:pt x="2779" y="1062"/>
                  </a:lnTo>
                  <a:lnTo>
                    <a:pt x="2730" y="1075"/>
                  </a:lnTo>
                  <a:lnTo>
                    <a:pt x="2668" y="1023"/>
                  </a:lnTo>
                  <a:lnTo>
                    <a:pt x="2598" y="1014"/>
                  </a:lnTo>
                  <a:lnTo>
                    <a:pt x="2461" y="934"/>
                  </a:lnTo>
                  <a:lnTo>
                    <a:pt x="2382" y="851"/>
                  </a:lnTo>
                  <a:lnTo>
                    <a:pt x="2364" y="745"/>
                  </a:lnTo>
                  <a:lnTo>
                    <a:pt x="2382" y="643"/>
                  </a:lnTo>
                  <a:lnTo>
                    <a:pt x="2435" y="564"/>
                  </a:lnTo>
                  <a:lnTo>
                    <a:pt x="2510" y="489"/>
                  </a:lnTo>
                  <a:lnTo>
                    <a:pt x="2496" y="357"/>
                  </a:lnTo>
                  <a:lnTo>
                    <a:pt x="2496" y="264"/>
                  </a:lnTo>
                  <a:lnTo>
                    <a:pt x="2461" y="198"/>
                  </a:lnTo>
                  <a:lnTo>
                    <a:pt x="2364" y="171"/>
                  </a:lnTo>
                  <a:lnTo>
                    <a:pt x="2329" y="154"/>
                  </a:lnTo>
                  <a:lnTo>
                    <a:pt x="2258" y="44"/>
                  </a:lnTo>
                  <a:lnTo>
                    <a:pt x="2205" y="8"/>
                  </a:lnTo>
                  <a:lnTo>
                    <a:pt x="2139" y="0"/>
                  </a:lnTo>
                  <a:lnTo>
                    <a:pt x="2091" y="17"/>
                  </a:lnTo>
                  <a:lnTo>
                    <a:pt x="2047" y="79"/>
                  </a:lnTo>
                  <a:lnTo>
                    <a:pt x="1980" y="114"/>
                  </a:lnTo>
                  <a:lnTo>
                    <a:pt x="1910" y="127"/>
                  </a:lnTo>
                  <a:lnTo>
                    <a:pt x="1831" y="127"/>
                  </a:lnTo>
                  <a:lnTo>
                    <a:pt x="1844" y="238"/>
                  </a:lnTo>
                  <a:lnTo>
                    <a:pt x="1844" y="379"/>
                  </a:lnTo>
                  <a:lnTo>
                    <a:pt x="1831" y="471"/>
                  </a:lnTo>
                  <a:lnTo>
                    <a:pt x="1756" y="582"/>
                  </a:lnTo>
                  <a:lnTo>
                    <a:pt x="1667" y="749"/>
                  </a:lnTo>
                  <a:lnTo>
                    <a:pt x="1592" y="956"/>
                  </a:lnTo>
                  <a:lnTo>
                    <a:pt x="1584" y="1075"/>
                  </a:lnTo>
                  <a:lnTo>
                    <a:pt x="1553" y="1182"/>
                  </a:lnTo>
                  <a:lnTo>
                    <a:pt x="1509" y="1284"/>
                  </a:lnTo>
                  <a:lnTo>
                    <a:pt x="1491" y="1447"/>
                  </a:lnTo>
                  <a:lnTo>
                    <a:pt x="1500" y="1584"/>
                  </a:lnTo>
                  <a:lnTo>
                    <a:pt x="1553" y="1742"/>
                  </a:lnTo>
                  <a:lnTo>
                    <a:pt x="1584" y="1800"/>
                  </a:lnTo>
                  <a:lnTo>
                    <a:pt x="1491" y="1861"/>
                  </a:lnTo>
                  <a:lnTo>
                    <a:pt x="1367" y="1901"/>
                  </a:lnTo>
                  <a:lnTo>
                    <a:pt x="1239" y="1910"/>
                  </a:lnTo>
                  <a:lnTo>
                    <a:pt x="1159" y="1910"/>
                  </a:lnTo>
                  <a:lnTo>
                    <a:pt x="1102" y="1888"/>
                  </a:lnTo>
                  <a:lnTo>
                    <a:pt x="1102" y="1756"/>
                  </a:lnTo>
                  <a:lnTo>
                    <a:pt x="1102" y="1553"/>
                  </a:lnTo>
                  <a:lnTo>
                    <a:pt x="1071" y="1359"/>
                  </a:lnTo>
                  <a:lnTo>
                    <a:pt x="1023" y="1182"/>
                  </a:lnTo>
                  <a:lnTo>
                    <a:pt x="996" y="1040"/>
                  </a:lnTo>
                  <a:lnTo>
                    <a:pt x="987" y="837"/>
                  </a:lnTo>
                  <a:lnTo>
                    <a:pt x="1023" y="665"/>
                  </a:lnTo>
                  <a:lnTo>
                    <a:pt x="1071" y="529"/>
                  </a:lnTo>
                  <a:lnTo>
                    <a:pt x="1075" y="440"/>
                  </a:lnTo>
                  <a:lnTo>
                    <a:pt x="1053" y="321"/>
                  </a:lnTo>
                  <a:lnTo>
                    <a:pt x="1053" y="229"/>
                  </a:lnTo>
                  <a:lnTo>
                    <a:pt x="1071" y="198"/>
                  </a:lnTo>
                  <a:lnTo>
                    <a:pt x="1053" y="1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85080" y="949320"/>
              <a:ext cx="132120" cy="528840"/>
            </a:xfrm>
            <a:custGeom>
              <a:avLst/>
              <a:gdLst/>
              <a:ahLst/>
              <a:rect l="0" t="0" r="r" b="b"/>
              <a:pathLst>
                <a:path w="367" h="1469">
                  <a:moveTo>
                    <a:pt x="145" y="17"/>
                  </a:moveTo>
                  <a:lnTo>
                    <a:pt x="48" y="66"/>
                  </a:lnTo>
                  <a:lnTo>
                    <a:pt x="57" y="207"/>
                  </a:lnTo>
                  <a:lnTo>
                    <a:pt x="132" y="246"/>
                  </a:lnTo>
                  <a:lnTo>
                    <a:pt x="44" y="401"/>
                  </a:lnTo>
                  <a:lnTo>
                    <a:pt x="0" y="568"/>
                  </a:lnTo>
                  <a:lnTo>
                    <a:pt x="0" y="732"/>
                  </a:lnTo>
                  <a:lnTo>
                    <a:pt x="44" y="882"/>
                  </a:lnTo>
                  <a:lnTo>
                    <a:pt x="74" y="1063"/>
                  </a:lnTo>
                  <a:lnTo>
                    <a:pt x="74" y="1165"/>
                  </a:lnTo>
                  <a:lnTo>
                    <a:pt x="44" y="1293"/>
                  </a:lnTo>
                  <a:lnTo>
                    <a:pt x="190" y="1469"/>
                  </a:lnTo>
                  <a:lnTo>
                    <a:pt x="252" y="1442"/>
                  </a:lnTo>
                  <a:lnTo>
                    <a:pt x="296" y="1319"/>
                  </a:lnTo>
                  <a:lnTo>
                    <a:pt x="362" y="1156"/>
                  </a:lnTo>
                  <a:lnTo>
                    <a:pt x="367" y="1068"/>
                  </a:lnTo>
                  <a:lnTo>
                    <a:pt x="314" y="909"/>
                  </a:lnTo>
                  <a:lnTo>
                    <a:pt x="239" y="750"/>
                  </a:lnTo>
                  <a:lnTo>
                    <a:pt x="217" y="639"/>
                  </a:lnTo>
                  <a:lnTo>
                    <a:pt x="217" y="533"/>
                  </a:lnTo>
                  <a:lnTo>
                    <a:pt x="239" y="440"/>
                  </a:lnTo>
                  <a:lnTo>
                    <a:pt x="296" y="321"/>
                  </a:lnTo>
                  <a:lnTo>
                    <a:pt x="296" y="277"/>
                  </a:lnTo>
                  <a:lnTo>
                    <a:pt x="265" y="224"/>
                  </a:lnTo>
                  <a:lnTo>
                    <a:pt x="336" y="167"/>
                  </a:lnTo>
                  <a:lnTo>
                    <a:pt x="336" y="110"/>
                  </a:lnTo>
                  <a:lnTo>
                    <a:pt x="239" y="0"/>
                  </a:lnTo>
                  <a:lnTo>
                    <a:pt x="322" y="110"/>
                  </a:lnTo>
                  <a:lnTo>
                    <a:pt x="322" y="158"/>
                  </a:lnTo>
                  <a:lnTo>
                    <a:pt x="247" y="207"/>
                  </a:lnTo>
                  <a:lnTo>
                    <a:pt x="274" y="277"/>
                  </a:lnTo>
                  <a:lnTo>
                    <a:pt x="265" y="321"/>
                  </a:lnTo>
                  <a:lnTo>
                    <a:pt x="199" y="458"/>
                  </a:lnTo>
                  <a:lnTo>
                    <a:pt x="190" y="590"/>
                  </a:lnTo>
                  <a:lnTo>
                    <a:pt x="208" y="714"/>
                  </a:lnTo>
                  <a:lnTo>
                    <a:pt x="252" y="887"/>
                  </a:lnTo>
                  <a:lnTo>
                    <a:pt x="314" y="1032"/>
                  </a:lnTo>
                  <a:lnTo>
                    <a:pt x="314" y="1147"/>
                  </a:lnTo>
                  <a:lnTo>
                    <a:pt x="274" y="1293"/>
                  </a:lnTo>
                  <a:lnTo>
                    <a:pt x="208" y="1442"/>
                  </a:lnTo>
                  <a:lnTo>
                    <a:pt x="123" y="1354"/>
                  </a:lnTo>
                  <a:lnTo>
                    <a:pt x="83" y="1293"/>
                  </a:lnTo>
                  <a:lnTo>
                    <a:pt x="97" y="1147"/>
                  </a:lnTo>
                  <a:lnTo>
                    <a:pt x="83" y="1002"/>
                  </a:lnTo>
                  <a:lnTo>
                    <a:pt x="44" y="803"/>
                  </a:lnTo>
                  <a:lnTo>
                    <a:pt x="26" y="674"/>
                  </a:lnTo>
                  <a:lnTo>
                    <a:pt x="44" y="524"/>
                  </a:lnTo>
                  <a:lnTo>
                    <a:pt x="74" y="383"/>
                  </a:lnTo>
                  <a:lnTo>
                    <a:pt x="154" y="233"/>
                  </a:lnTo>
                  <a:lnTo>
                    <a:pt x="83" y="176"/>
                  </a:lnTo>
                  <a:lnTo>
                    <a:pt x="74" y="74"/>
                  </a:lnTo>
                  <a:lnTo>
                    <a:pt x="14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64520" y="333360"/>
              <a:ext cx="209880" cy="257760"/>
            </a:xfrm>
            <a:custGeom>
              <a:avLst/>
              <a:gdLst/>
              <a:ahLst/>
              <a:rect l="0" t="0" r="r" b="b"/>
              <a:pathLst>
                <a:path w="583" h="716">
                  <a:moveTo>
                    <a:pt x="101" y="181"/>
                  </a:moveTo>
                  <a:lnTo>
                    <a:pt x="180" y="167"/>
                  </a:lnTo>
                  <a:lnTo>
                    <a:pt x="264" y="171"/>
                  </a:lnTo>
                  <a:lnTo>
                    <a:pt x="336" y="203"/>
                  </a:lnTo>
                  <a:lnTo>
                    <a:pt x="375" y="243"/>
                  </a:lnTo>
                  <a:lnTo>
                    <a:pt x="389" y="283"/>
                  </a:lnTo>
                  <a:lnTo>
                    <a:pt x="389" y="314"/>
                  </a:lnTo>
                  <a:lnTo>
                    <a:pt x="371" y="336"/>
                  </a:lnTo>
                  <a:lnTo>
                    <a:pt x="336" y="358"/>
                  </a:lnTo>
                  <a:lnTo>
                    <a:pt x="286" y="358"/>
                  </a:lnTo>
                  <a:lnTo>
                    <a:pt x="238" y="349"/>
                  </a:lnTo>
                  <a:lnTo>
                    <a:pt x="185" y="318"/>
                  </a:lnTo>
                  <a:lnTo>
                    <a:pt x="149" y="292"/>
                  </a:lnTo>
                  <a:lnTo>
                    <a:pt x="132" y="384"/>
                  </a:lnTo>
                  <a:lnTo>
                    <a:pt x="101" y="450"/>
                  </a:lnTo>
                  <a:lnTo>
                    <a:pt x="0" y="597"/>
                  </a:lnTo>
                  <a:lnTo>
                    <a:pt x="141" y="716"/>
                  </a:lnTo>
                  <a:lnTo>
                    <a:pt x="246" y="516"/>
                  </a:lnTo>
                  <a:lnTo>
                    <a:pt x="371" y="544"/>
                  </a:lnTo>
                  <a:lnTo>
                    <a:pt x="446" y="525"/>
                  </a:lnTo>
                  <a:lnTo>
                    <a:pt x="521" y="481"/>
                  </a:lnTo>
                  <a:lnTo>
                    <a:pt x="561" y="424"/>
                  </a:lnTo>
                  <a:lnTo>
                    <a:pt x="583" y="349"/>
                  </a:lnTo>
                  <a:lnTo>
                    <a:pt x="583" y="274"/>
                  </a:lnTo>
                  <a:lnTo>
                    <a:pt x="561" y="190"/>
                  </a:lnTo>
                  <a:lnTo>
                    <a:pt x="516" y="105"/>
                  </a:lnTo>
                  <a:lnTo>
                    <a:pt x="455" y="52"/>
                  </a:lnTo>
                  <a:lnTo>
                    <a:pt x="384" y="17"/>
                  </a:lnTo>
                  <a:lnTo>
                    <a:pt x="300" y="0"/>
                  </a:lnTo>
                  <a:lnTo>
                    <a:pt x="194" y="0"/>
                  </a:lnTo>
                  <a:lnTo>
                    <a:pt x="74" y="17"/>
                  </a:lnTo>
                  <a:lnTo>
                    <a:pt x="101" y="18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6360" y="582480"/>
              <a:ext cx="74880" cy="51120"/>
            </a:xfrm>
            <a:custGeom>
              <a:avLst/>
              <a:gdLst/>
              <a:ahLst/>
              <a:rect l="0" t="0" r="r" b="b"/>
              <a:pathLst>
                <a:path w="208" h="142">
                  <a:moveTo>
                    <a:pt x="79" y="0"/>
                  </a:moveTo>
                  <a:lnTo>
                    <a:pt x="26" y="0"/>
                  </a:lnTo>
                  <a:lnTo>
                    <a:pt x="0" y="17"/>
                  </a:lnTo>
                  <a:lnTo>
                    <a:pt x="0" y="70"/>
                  </a:lnTo>
                  <a:lnTo>
                    <a:pt x="44" y="124"/>
                  </a:lnTo>
                  <a:lnTo>
                    <a:pt x="128" y="142"/>
                  </a:lnTo>
                  <a:lnTo>
                    <a:pt x="190" y="142"/>
                  </a:lnTo>
                  <a:lnTo>
                    <a:pt x="208" y="106"/>
                  </a:lnTo>
                  <a:lnTo>
                    <a:pt x="199" y="80"/>
                  </a:lnTo>
                  <a:lnTo>
                    <a:pt x="168" y="39"/>
                  </a:lnTo>
                  <a:lnTo>
                    <a:pt x="120" y="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828800" y="175248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allowance method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for uncollect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, using bot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centage of net sales meth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accounts receiv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3880" y="457200"/>
            <a:ext cx="6649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219320" y="304920"/>
            <a:ext cx="70786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3000" y="1600200"/>
            <a:ext cx="7454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(A/R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hort-term liquid assets that arise from sales on credit to customers by wholesalers or retai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de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rms vary by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295280" y="230040"/>
            <a:ext cx="7002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447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stallment A/R arise from the sale of goods on terms that allow the buyer to make a series of time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frequently by department stores, appliance stor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payment period may be 24 months or more, are still classified as current assets if customary in the indus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441440" y="22860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14300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eivables from other than regular customers (employees, owners, officers) are shown separately with a title such as Receivables from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rmally, individual customer accounts receivable have debit bal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customer has a credit balance, this is shown as a current liability on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743040" y="123840"/>
            <a:ext cx="84866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55640" y="984240"/>
            <a:ext cx="8181720" cy="5346720"/>
            <a:chOff x="755640" y="984240"/>
            <a:chExt cx="8181720" cy="5346720"/>
          </a:xfrm>
        </p:grpSpPr>
        <p:sp>
          <p:nvSpPr>
            <p:cNvPr id="389" name=""/>
            <p:cNvSpPr/>
            <p:nvPr/>
          </p:nvSpPr>
          <p:spPr>
            <a:xfrm>
              <a:off x="755640" y="984240"/>
              <a:ext cx="8137440" cy="534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48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025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516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1012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42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808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04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2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804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098880" y="169056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098880" y="44276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098880" y="387972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533680" y="3335400"/>
              <a:ext cx="554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098880" y="2786040"/>
              <a:ext cx="497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943360" y="2238480"/>
              <a:ext cx="5133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2480" y="1494000"/>
              <a:ext cx="5937480" cy="376560"/>
            </a:xfrm>
            <a:custGeom>
              <a:avLst/>
              <a:gdLst/>
              <a:ahLst/>
              <a:rect l="0" t="0" r="r" b="b"/>
              <a:pathLst>
                <a:path w="16493" h="1046">
                  <a:moveTo>
                    <a:pt x="0" y="0"/>
                  </a:moveTo>
                  <a:lnTo>
                    <a:pt x="16493" y="0"/>
                  </a:lnTo>
                  <a:lnTo>
                    <a:pt x="16493" y="1046"/>
                  </a:lnTo>
                  <a:lnTo>
                    <a:pt x="0" y="10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22480" y="2043000"/>
              <a:ext cx="3462840" cy="394200"/>
            </a:xfrm>
            <a:custGeom>
              <a:avLst/>
              <a:gdLst/>
              <a:ahLst/>
              <a:rect l="0" t="0" r="r" b="b"/>
              <a:pathLst>
                <a:path w="9619" h="1095">
                  <a:moveTo>
                    <a:pt x="0" y="1095"/>
                  </a:moveTo>
                  <a:lnTo>
                    <a:pt x="9619" y="1095"/>
                  </a:lnTo>
                  <a:lnTo>
                    <a:pt x="9619" y="0"/>
                  </a:lnTo>
                  <a:lnTo>
                    <a:pt x="0" y="0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22480" y="2589120"/>
              <a:ext cx="2548440" cy="381240"/>
            </a:xfrm>
            <a:custGeom>
              <a:avLst/>
              <a:gdLst/>
              <a:ahLst/>
              <a:rect l="0" t="0" r="r" b="b"/>
              <a:pathLst>
                <a:path w="7079" h="1059">
                  <a:moveTo>
                    <a:pt x="0" y="0"/>
                  </a:moveTo>
                  <a:lnTo>
                    <a:pt x="7079" y="0"/>
                  </a:lnTo>
                  <a:lnTo>
                    <a:pt x="7079" y="1059"/>
                  </a:lnTo>
                  <a:lnTo>
                    <a:pt x="0" y="10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2480" y="3138480"/>
              <a:ext cx="719640" cy="365400"/>
            </a:xfrm>
            <a:custGeom>
              <a:avLst/>
              <a:gdLst/>
              <a:ahLst/>
              <a:rect l="0" t="0" r="r" b="b"/>
              <a:pathLst>
                <a:path w="1999" h="1015">
                  <a:moveTo>
                    <a:pt x="1999" y="0"/>
                  </a:moveTo>
                  <a:lnTo>
                    <a:pt x="0" y="0"/>
                  </a:lnTo>
                  <a:lnTo>
                    <a:pt x="0" y="1015"/>
                  </a:lnTo>
                  <a:lnTo>
                    <a:pt x="1999" y="1015"/>
                  </a:lnTo>
                  <a:lnTo>
                    <a:pt x="1999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2480" y="3683160"/>
              <a:ext cx="2472120" cy="430560"/>
            </a:xfrm>
            <a:custGeom>
              <a:avLst/>
              <a:gdLst/>
              <a:ahLst/>
              <a:rect l="0" t="0" r="r" b="b"/>
              <a:pathLst>
                <a:path w="6867" h="1196">
                  <a:moveTo>
                    <a:pt x="0" y="0"/>
                  </a:moveTo>
                  <a:lnTo>
                    <a:pt x="6867" y="0"/>
                  </a:lnTo>
                  <a:lnTo>
                    <a:pt x="6867" y="1196"/>
                  </a:lnTo>
                  <a:lnTo>
                    <a:pt x="0" y="11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2480" y="4232160"/>
              <a:ext cx="3920040" cy="414720"/>
            </a:xfrm>
            <a:custGeom>
              <a:avLst/>
              <a:gdLst/>
              <a:ahLst/>
              <a:rect l="0" t="0" r="r" b="b"/>
              <a:pathLst>
                <a:path w="10889" h="1152">
                  <a:moveTo>
                    <a:pt x="0" y="1152"/>
                  </a:moveTo>
                  <a:lnTo>
                    <a:pt x="10889" y="1152"/>
                  </a:lnTo>
                  <a:lnTo>
                    <a:pt x="10889" y="0"/>
                  </a:lnTo>
                  <a:lnTo>
                    <a:pt x="0" y="0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8180280" y="1461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6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8156520" y="200988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8156520" y="2557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8264520" y="3102120"/>
              <a:ext cx="64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8156520" y="365112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8156520" y="4199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187632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2480" y="584676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22480" y="5564160"/>
              <a:ext cx="324360" cy="178200"/>
            </a:xfrm>
            <a:custGeom>
              <a:avLst/>
              <a:gdLst/>
              <a:ahLst/>
              <a:rect l="0" t="0" r="r" b="b"/>
              <a:pathLst>
                <a:path w="901" h="495">
                  <a:moveTo>
                    <a:pt x="901" y="0"/>
                  </a:moveTo>
                  <a:lnTo>
                    <a:pt x="901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901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22480" y="5276880"/>
              <a:ext cx="324360" cy="181440"/>
            </a:xfrm>
            <a:custGeom>
              <a:avLst/>
              <a:gdLst/>
              <a:ahLst/>
              <a:rect l="0" t="0" r="r" b="b"/>
              <a:pathLst>
                <a:path w="901" h="504">
                  <a:moveTo>
                    <a:pt x="901" y="504"/>
                  </a:moveTo>
                  <a:lnTo>
                    <a:pt x="901" y="0"/>
                  </a:lnTo>
                  <a:lnTo>
                    <a:pt x="0" y="0"/>
                  </a:lnTo>
                  <a:lnTo>
                    <a:pt x="0" y="504"/>
                  </a:lnTo>
                  <a:lnTo>
                    <a:pt x="901" y="50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465280" y="5202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465280" y="548640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465280" y="577224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548080" y="476568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31226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794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44290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09904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7150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37380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01352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7658280" y="4765680"/>
              <a:ext cx="4064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1405080"/>
              <a:ext cx="0" cy="3341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58880" y="1447920"/>
              <a:ext cx="1341360" cy="3213000"/>
              <a:chOff x="758880" y="1447920"/>
              <a:chExt cx="1341360" cy="3213000"/>
            </a:xfrm>
          </p:grpSpPr>
          <p:sp>
            <p:nvSpPr>
              <p:cNvPr id="435" name=""/>
              <p:cNvSpPr txBox="1"/>
              <p:nvPr/>
            </p:nvSpPr>
            <p:spPr>
              <a:xfrm>
                <a:off x="892080" y="1447920"/>
                <a:ext cx="1208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1055520" y="1620720"/>
                <a:ext cx="9716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1042920" y="1996920"/>
                <a:ext cx="103032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1111320" y="2165400"/>
                <a:ext cx="9320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758880" y="2590920"/>
                <a:ext cx="1317600" cy="51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1141560" y="3124080"/>
                <a:ext cx="863640" cy="47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111320" y="36370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1095480" y="3809880"/>
                <a:ext cx="94140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927000" y="4186080"/>
                <a:ext cx="23004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903240" y="4359240"/>
                <a:ext cx="110016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762120" y="129528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owed by customers who will not or cannot pay are called uncollectible accounts or bad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loss or an expense of selling on cred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ase their volume of 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47920" y="304920"/>
            <a:ext cx="698652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477120" y="3733920"/>
            <a:ext cx="2438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09480" y="15228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 the Direct Charge-Off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90720" y="1676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irect charge-off method recognizes the loss at the time the A/R is determined to be uncollect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duce A/R and increase Uncollectible Account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d for federal tax purposes but not GAAP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it violates the matching princi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66680" y="1676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experience seasonal cycles of business activity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eak sales, strong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s are greater, expenditures are small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must carefully plan cash inflows, outflows, borrowing, and inves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380880"/>
            <a:ext cx="7238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ing Cash Needs During Seasonal Cyc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295280" y="213372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d debt losses are matched against the sales they help produ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time of sale, management cannot identify which customers will not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90720" y="533520"/>
            <a:ext cx="76723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8080" y="160020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observe the matching rule, losses from uncollectible accounts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stimate becomes an expense in the fiscal year in which the sales are made.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appears on the income statement as an operating expense</a:t>
            </a:r>
            <a:r>
              <a:rPr b="0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71600" y="228600"/>
            <a:ext cx="70102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1430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appears on the balance sheet as a contra-asset account that is deducted from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duces the accounts receivable to the amount expected to be realized in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66680" y="380880"/>
            <a:ext cx="7672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295280" y="220968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may be shown “net,” with the amount of the allowance for Uncollectible Accounts shown in a note to the financial 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90720" y="533520"/>
            <a:ext cx="76723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collectible Accounts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58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at of $100,000 in sales, $6,000 are estimated to be uncollect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would be record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the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uncollectible accounts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expense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47920" y="228600"/>
            <a:ext cx="64785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the Allow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447920" y="2286000"/>
            <a:ext cx="7203960" cy="25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estimate the expense to cover expected losses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makes the fin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371600" y="5335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066680" y="1828800"/>
            <a:ext cx="781380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n be optimistic or pessimistic about expected lo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optimistic, expense is smaller and net income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pessimistic, expense is larger and net income smal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either case, the estimated loss should be realist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295280" y="533520"/>
            <a:ext cx="731664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ing Uncollectibl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Exp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1066680" y="213372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is year’s net sales will not be collecte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nswer is the amount of uncollectible expense for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523880" y="4572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69960" y="1447920"/>
            <a:ext cx="8245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ually based on the company’s historical lo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 Uncollectible Account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Expense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Accounts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12,000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uncollecti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accounts expense at 2%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$600,000 net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contains the accumulated amounts from previous years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Percentage of Net Sales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066680" y="1752480"/>
            <a:ext cx="7696080" cy="41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Asks the question, “How much of the year-end balance of A/R will not be collected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000" spc="-1" strike="noStrike">
                <a:solidFill>
                  <a:srgbClr val="fcffd8"/>
                </a:solidFill>
                <a:latin typeface="Arial"/>
                <a:ea typeface="Arial"/>
              </a:rPr>
              <a:t>The difference between the amount determined to be uncollectible and the actual balance of the Allowance for Uncollectible Accounts is the expense for the yea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3049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43000" y="1676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ies sell on credit to be competitive and to increase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etting terms, companies must consider terms being offered by competitors and the needs of their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5560" y="304920"/>
            <a:ext cx="8488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990720" y="2133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ging of A/R is the process of listing each customer’s account according to the due date of th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that the older the account, the less likely that it will be p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5335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s Receivable Aging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53880" y="380880"/>
            <a:ext cx="87771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of Accounts Receivable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ging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85800" y="1523880"/>
            <a:ext cx="824220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rgeted Balance for Uncollectibl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2,4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Credit Balance in Allowance fo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s Expense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$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ournal Ent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2/31 Uncollectible Accounts Expense     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llowance for Uncollectible Accounts      1,6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rget balance less actual balance equals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81760" y="3962520"/>
            <a:ext cx="97344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90040" y="3886200"/>
            <a:ext cx="9730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295280" y="228600"/>
            <a:ext cx="67057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wo Methods of Estimating Uncollectible Ac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09480" y="1060560"/>
            <a:ext cx="8236080" cy="5270400"/>
            <a:chOff x="609480" y="1060560"/>
            <a:chExt cx="8236080" cy="5270400"/>
          </a:xfrm>
        </p:grpSpPr>
        <p:sp>
          <p:nvSpPr>
            <p:cNvPr id="478" name=""/>
            <p:cNvSpPr/>
            <p:nvPr/>
          </p:nvSpPr>
          <p:spPr>
            <a:xfrm>
              <a:off x="704880" y="1060560"/>
              <a:ext cx="814068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1122480"/>
              <a:ext cx="189000" cy="22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75120" y="113184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65600" y="1332000"/>
              <a:ext cx="200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151080" y="3159000"/>
              <a:ext cx="3251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LANCE SHEET APPROACH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398680" y="3382920"/>
              <a:ext cx="469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ING OF ACCOUNTS RECEIVABLE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635280" y="199692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938760" y="222552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55960" y="4673520"/>
              <a:ext cx="5634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850000" y="4673520"/>
              <a:ext cx="4730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5400" y="4610160"/>
              <a:ext cx="232200" cy="113040"/>
            </a:xfrm>
            <a:custGeom>
              <a:avLst/>
              <a:gdLst/>
              <a:ahLst/>
              <a:rect l="0" t="0" r="r" b="b"/>
              <a:pathLst>
                <a:path w="645" h="314">
                  <a:moveTo>
                    <a:pt x="66" y="159"/>
                  </a:moveTo>
                  <a:lnTo>
                    <a:pt x="66" y="177"/>
                  </a:lnTo>
                  <a:lnTo>
                    <a:pt x="66" y="208"/>
                  </a:lnTo>
                  <a:lnTo>
                    <a:pt x="57" y="225"/>
                  </a:lnTo>
                  <a:lnTo>
                    <a:pt x="52" y="239"/>
                  </a:lnTo>
                  <a:lnTo>
                    <a:pt x="52" y="256"/>
                  </a:lnTo>
                  <a:lnTo>
                    <a:pt x="39" y="265"/>
                  </a:lnTo>
                  <a:lnTo>
                    <a:pt x="39" y="278"/>
                  </a:lnTo>
                  <a:lnTo>
                    <a:pt x="30" y="283"/>
                  </a:lnTo>
                  <a:lnTo>
                    <a:pt x="22" y="300"/>
                  </a:lnTo>
                  <a:lnTo>
                    <a:pt x="22" y="305"/>
                  </a:lnTo>
                  <a:lnTo>
                    <a:pt x="8" y="314"/>
                  </a:lnTo>
                  <a:lnTo>
                    <a:pt x="0" y="314"/>
                  </a:lnTo>
                  <a:lnTo>
                    <a:pt x="645" y="159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22" y="22"/>
                  </a:lnTo>
                  <a:lnTo>
                    <a:pt x="30" y="30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2" y="74"/>
                  </a:lnTo>
                  <a:lnTo>
                    <a:pt x="57" y="88"/>
                  </a:lnTo>
                  <a:lnTo>
                    <a:pt x="66" y="105"/>
                  </a:lnTo>
                  <a:lnTo>
                    <a:pt x="66" y="132"/>
                  </a:lnTo>
                  <a:lnTo>
                    <a:pt x="66" y="1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624120" y="4384800"/>
              <a:ext cx="23176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y a percentage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3930480" y="4611600"/>
              <a:ext cx="151776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det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59200" y="2333520"/>
              <a:ext cx="5601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50000" y="2333520"/>
              <a:ext cx="476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08640" y="2266920"/>
              <a:ext cx="232200" cy="116280"/>
            </a:xfrm>
            <a:custGeom>
              <a:avLst/>
              <a:gdLst/>
              <a:ahLst/>
              <a:rect l="0" t="0" r="r" b="b"/>
              <a:pathLst>
                <a:path w="645" h="323">
                  <a:moveTo>
                    <a:pt x="66" y="164"/>
                  </a:moveTo>
                  <a:lnTo>
                    <a:pt x="66" y="181"/>
                  </a:lnTo>
                  <a:lnTo>
                    <a:pt x="66" y="203"/>
                  </a:lnTo>
                  <a:lnTo>
                    <a:pt x="57" y="230"/>
                  </a:lnTo>
                  <a:lnTo>
                    <a:pt x="57" y="244"/>
                  </a:lnTo>
                  <a:lnTo>
                    <a:pt x="52" y="262"/>
                  </a:lnTo>
                  <a:lnTo>
                    <a:pt x="39" y="275"/>
                  </a:lnTo>
                  <a:lnTo>
                    <a:pt x="39" y="279"/>
                  </a:lnTo>
                  <a:lnTo>
                    <a:pt x="30" y="293"/>
                  </a:lnTo>
                  <a:lnTo>
                    <a:pt x="22" y="297"/>
                  </a:lnTo>
                  <a:lnTo>
                    <a:pt x="22" y="310"/>
                  </a:lnTo>
                  <a:lnTo>
                    <a:pt x="8" y="315"/>
                  </a:lnTo>
                  <a:lnTo>
                    <a:pt x="0" y="323"/>
                  </a:lnTo>
                  <a:lnTo>
                    <a:pt x="645" y="164"/>
                  </a:lnTo>
                  <a:lnTo>
                    <a:pt x="0" y="0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13"/>
                  </a:lnTo>
                  <a:lnTo>
                    <a:pt x="30" y="26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52" y="57"/>
                  </a:lnTo>
                  <a:lnTo>
                    <a:pt x="57" y="70"/>
                  </a:lnTo>
                  <a:lnTo>
                    <a:pt x="57" y="89"/>
                  </a:lnTo>
                  <a:lnTo>
                    <a:pt x="66" y="111"/>
                  </a:lnTo>
                  <a:lnTo>
                    <a:pt x="66" y="137"/>
                  </a:lnTo>
                  <a:lnTo>
                    <a:pt x="6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831960" y="1704960"/>
              <a:ext cx="2058840" cy="1317600"/>
              <a:chOff x="831960" y="1704960"/>
              <a:chExt cx="2058840" cy="1317600"/>
            </a:xfrm>
          </p:grpSpPr>
          <p:sp>
            <p:nvSpPr>
              <p:cNvPr id="495" name=""/>
              <p:cNvSpPr/>
              <p:nvPr/>
            </p:nvSpPr>
            <p:spPr>
              <a:xfrm>
                <a:off x="83196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23760" y="1704960"/>
                <a:ext cx="1967040" cy="1239840"/>
              </a:xfrm>
              <a:prstGeom prst="rect">
                <a:avLst/>
              </a:prstGeom>
              <a:solidFill>
                <a:srgbClr val="ffbf9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1312920" y="2217600"/>
                <a:ext cx="124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 SALE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831960" y="4049640"/>
              <a:ext cx="2058840" cy="1317600"/>
              <a:chOff x="831960" y="4049640"/>
              <a:chExt cx="2058840" cy="1317600"/>
            </a:xfrm>
          </p:grpSpPr>
          <p:sp>
            <p:nvSpPr>
              <p:cNvPr id="499" name=""/>
              <p:cNvSpPr/>
              <p:nvPr/>
            </p:nvSpPr>
            <p:spPr>
              <a:xfrm>
                <a:off x="831960" y="413064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23760" y="4049640"/>
                <a:ext cx="1967040" cy="123984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1309680" y="44816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1236600" y="4664160"/>
                <a:ext cx="14079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CEIVA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576840" y="1704960"/>
              <a:ext cx="2060640" cy="1317600"/>
              <a:chOff x="6576840" y="1704960"/>
              <a:chExt cx="2060640" cy="1317600"/>
            </a:xfrm>
          </p:grpSpPr>
          <p:sp>
            <p:nvSpPr>
              <p:cNvPr id="504" name=""/>
              <p:cNvSpPr/>
              <p:nvPr/>
            </p:nvSpPr>
            <p:spPr>
              <a:xfrm>
                <a:off x="6576840" y="1785960"/>
                <a:ext cx="1973160" cy="1236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69000" y="1704960"/>
                <a:ext cx="1968480" cy="123984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6800760" y="201600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7027920" y="2203560"/>
                <a:ext cx="131292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 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7137360" y="2386080"/>
                <a:ext cx="10810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S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76840" y="3930480"/>
              <a:ext cx="2060640" cy="1550880"/>
              <a:chOff x="6576840" y="3930480"/>
              <a:chExt cx="2060640" cy="1550880"/>
            </a:xfrm>
          </p:grpSpPr>
          <p:sp>
            <p:nvSpPr>
              <p:cNvPr id="510" name=""/>
              <p:cNvSpPr/>
              <p:nvPr/>
            </p:nvSpPr>
            <p:spPr>
              <a:xfrm>
                <a:off x="6576840" y="4011480"/>
                <a:ext cx="1973160" cy="14698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9000" y="3930480"/>
                <a:ext cx="1968480" cy="147168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7070760" y="4138560"/>
                <a:ext cx="12286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RGETED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6970680" y="4319640"/>
                <a:ext cx="14302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LANCE OF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6759720" y="4510080"/>
                <a:ext cx="187488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OWANCE FOR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6800760" y="4700520"/>
                <a:ext cx="178920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COLLECTIBL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7054920" y="4884840"/>
                <a:ext cx="1260360" cy="3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UNT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7621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it is clear that a specific A/R will not be collected, the amount should be written off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1/15    Allowance for Uncollectibl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Account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s Receivabl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 2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not impact the realizable value of A/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19320" y="3049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19051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very of Accounts Receivable written of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Accounts Receivable                  10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Allowance for Uncollecti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Accoun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1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Cash                                                50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219320" y="30492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riting Off an Uncollectible Acc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133720" y="685800"/>
            <a:ext cx="5392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, at what poi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cycle of selling and collec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oes a loss on an uncollecti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occu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rding to GAAP, a loss from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collectible account occurs a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e the sale on credit is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7086600" y="228600"/>
            <a:ext cx="1751400" cy="1827360"/>
            <a:chOff x="7086600" y="228600"/>
            <a:chExt cx="1751400" cy="1827360"/>
          </a:xfrm>
        </p:grpSpPr>
        <p:sp>
          <p:nvSpPr>
            <p:cNvPr id="524" name=""/>
            <p:cNvSpPr/>
            <p:nvPr/>
          </p:nvSpPr>
          <p:spPr>
            <a:xfrm>
              <a:off x="7091280" y="1125360"/>
              <a:ext cx="425880" cy="638640"/>
            </a:xfrm>
            <a:custGeom>
              <a:avLst/>
              <a:gdLst/>
              <a:ahLst/>
              <a:rect l="0" t="0" r="r" b="b"/>
              <a:pathLst>
                <a:path w="1183" h="1774">
                  <a:moveTo>
                    <a:pt x="477" y="0"/>
                  </a:moveTo>
                  <a:lnTo>
                    <a:pt x="411" y="83"/>
                  </a:lnTo>
                  <a:lnTo>
                    <a:pt x="411" y="308"/>
                  </a:lnTo>
                  <a:lnTo>
                    <a:pt x="477" y="477"/>
                  </a:lnTo>
                  <a:lnTo>
                    <a:pt x="547" y="561"/>
                  </a:lnTo>
                  <a:lnTo>
                    <a:pt x="437" y="675"/>
                  </a:lnTo>
                  <a:lnTo>
                    <a:pt x="295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0" y="1523"/>
                  </a:lnTo>
                  <a:lnTo>
                    <a:pt x="180" y="1426"/>
                  </a:lnTo>
                  <a:lnTo>
                    <a:pt x="295" y="1196"/>
                  </a:lnTo>
                  <a:lnTo>
                    <a:pt x="367" y="1099"/>
                  </a:lnTo>
                  <a:lnTo>
                    <a:pt x="411" y="1248"/>
                  </a:lnTo>
                  <a:lnTo>
                    <a:pt x="380" y="1413"/>
                  </a:lnTo>
                  <a:lnTo>
                    <a:pt x="264" y="1646"/>
                  </a:lnTo>
                  <a:lnTo>
                    <a:pt x="295" y="1695"/>
                  </a:lnTo>
                  <a:lnTo>
                    <a:pt x="367" y="1682"/>
                  </a:lnTo>
                  <a:lnTo>
                    <a:pt x="512" y="1563"/>
                  </a:lnTo>
                  <a:lnTo>
                    <a:pt x="627" y="1355"/>
                  </a:lnTo>
                  <a:lnTo>
                    <a:pt x="627" y="1717"/>
                  </a:lnTo>
                  <a:lnTo>
                    <a:pt x="772" y="1774"/>
                  </a:lnTo>
                  <a:lnTo>
                    <a:pt x="856" y="1554"/>
                  </a:lnTo>
                  <a:lnTo>
                    <a:pt x="928" y="1761"/>
                  </a:lnTo>
                  <a:lnTo>
                    <a:pt x="985" y="1695"/>
                  </a:lnTo>
                  <a:lnTo>
                    <a:pt x="1011" y="1293"/>
                  </a:lnTo>
                  <a:lnTo>
                    <a:pt x="1183" y="900"/>
                  </a:lnTo>
                  <a:lnTo>
                    <a:pt x="1148" y="675"/>
                  </a:lnTo>
                  <a:lnTo>
                    <a:pt x="1025" y="587"/>
                  </a:lnTo>
                  <a:lnTo>
                    <a:pt x="897" y="605"/>
                  </a:lnTo>
                  <a:lnTo>
                    <a:pt x="856" y="418"/>
                  </a:lnTo>
                  <a:lnTo>
                    <a:pt x="724" y="374"/>
                  </a:lnTo>
                  <a:lnTo>
                    <a:pt x="609" y="321"/>
                  </a:lnTo>
                  <a:lnTo>
                    <a:pt x="547" y="3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48400" y="1384200"/>
              <a:ext cx="124200" cy="308160"/>
            </a:xfrm>
            <a:custGeom>
              <a:avLst/>
              <a:gdLst/>
              <a:ahLst/>
              <a:rect l="0" t="0" r="r" b="b"/>
              <a:pathLst>
                <a:path w="345" h="856">
                  <a:moveTo>
                    <a:pt x="172" y="0"/>
                  </a:moveTo>
                  <a:lnTo>
                    <a:pt x="345" y="220"/>
                  </a:lnTo>
                  <a:lnTo>
                    <a:pt x="262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06" y="361"/>
                  </a:lnTo>
                  <a:lnTo>
                    <a:pt x="172" y="18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63080" y="1206360"/>
              <a:ext cx="314640" cy="279720"/>
            </a:xfrm>
            <a:custGeom>
              <a:avLst/>
              <a:gdLst/>
              <a:ahLst/>
              <a:rect l="0" t="0" r="r" b="b"/>
              <a:pathLst>
                <a:path w="874" h="777">
                  <a:moveTo>
                    <a:pt x="361" y="0"/>
                  </a:moveTo>
                  <a:lnTo>
                    <a:pt x="361" y="123"/>
                  </a:lnTo>
                  <a:lnTo>
                    <a:pt x="392" y="238"/>
                  </a:lnTo>
                  <a:lnTo>
                    <a:pt x="561" y="419"/>
                  </a:lnTo>
                  <a:lnTo>
                    <a:pt x="874" y="525"/>
                  </a:lnTo>
                  <a:lnTo>
                    <a:pt x="834" y="763"/>
                  </a:lnTo>
                  <a:lnTo>
                    <a:pt x="561" y="777"/>
                  </a:lnTo>
                  <a:lnTo>
                    <a:pt x="167" y="609"/>
                  </a:lnTo>
                  <a:lnTo>
                    <a:pt x="0" y="313"/>
                  </a:lnTo>
                  <a:lnTo>
                    <a:pt x="198" y="13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9800" y="890640"/>
              <a:ext cx="438480" cy="616320"/>
            </a:xfrm>
            <a:custGeom>
              <a:avLst/>
              <a:gdLst/>
              <a:ahLst/>
              <a:rect l="0" t="0" r="r" b="b"/>
              <a:pathLst>
                <a:path w="1218" h="1712">
                  <a:moveTo>
                    <a:pt x="110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194" y="1253"/>
                  </a:lnTo>
                  <a:lnTo>
                    <a:pt x="207" y="1682"/>
                  </a:lnTo>
                  <a:lnTo>
                    <a:pt x="379" y="1682"/>
                  </a:lnTo>
                  <a:lnTo>
                    <a:pt x="366" y="1324"/>
                  </a:lnTo>
                  <a:lnTo>
                    <a:pt x="493" y="1699"/>
                  </a:lnTo>
                  <a:lnTo>
                    <a:pt x="582" y="1712"/>
                  </a:lnTo>
                  <a:lnTo>
                    <a:pt x="640" y="1589"/>
                  </a:lnTo>
                  <a:lnTo>
                    <a:pt x="653" y="1351"/>
                  </a:lnTo>
                  <a:lnTo>
                    <a:pt x="838" y="1571"/>
                  </a:lnTo>
                  <a:lnTo>
                    <a:pt x="913" y="1554"/>
                  </a:lnTo>
                  <a:lnTo>
                    <a:pt x="896" y="1404"/>
                  </a:lnTo>
                  <a:lnTo>
                    <a:pt x="825" y="1187"/>
                  </a:lnTo>
                  <a:lnTo>
                    <a:pt x="750" y="1041"/>
                  </a:lnTo>
                  <a:lnTo>
                    <a:pt x="781" y="949"/>
                  </a:lnTo>
                  <a:lnTo>
                    <a:pt x="825" y="966"/>
                  </a:lnTo>
                  <a:lnTo>
                    <a:pt x="997" y="1187"/>
                  </a:lnTo>
                  <a:lnTo>
                    <a:pt x="1182" y="1240"/>
                  </a:lnTo>
                  <a:lnTo>
                    <a:pt x="1218" y="1173"/>
                  </a:lnTo>
                  <a:lnTo>
                    <a:pt x="1196" y="1054"/>
                  </a:lnTo>
                  <a:lnTo>
                    <a:pt x="852" y="710"/>
                  </a:lnTo>
                  <a:lnTo>
                    <a:pt x="582" y="605"/>
                  </a:lnTo>
                  <a:lnTo>
                    <a:pt x="542" y="414"/>
                  </a:lnTo>
                  <a:lnTo>
                    <a:pt x="640" y="233"/>
                  </a:lnTo>
                  <a:lnTo>
                    <a:pt x="640" y="57"/>
                  </a:lnTo>
                  <a:lnTo>
                    <a:pt x="564" y="0"/>
                  </a:lnTo>
                  <a:lnTo>
                    <a:pt x="366" y="468"/>
                  </a:lnTo>
                  <a:lnTo>
                    <a:pt x="194" y="534"/>
                  </a:lnTo>
                  <a:lnTo>
                    <a:pt x="145" y="662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70880" y="358920"/>
              <a:ext cx="476640" cy="784440"/>
            </a:xfrm>
            <a:custGeom>
              <a:avLst/>
              <a:gdLst/>
              <a:ahLst/>
              <a:rect l="0" t="0" r="r" b="b"/>
              <a:pathLst>
                <a:path w="1324" h="2179">
                  <a:moveTo>
                    <a:pt x="330" y="304"/>
                  </a:moveTo>
                  <a:lnTo>
                    <a:pt x="229" y="723"/>
                  </a:lnTo>
                  <a:lnTo>
                    <a:pt x="13" y="802"/>
                  </a:lnTo>
                  <a:lnTo>
                    <a:pt x="74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05" y="1310"/>
                  </a:lnTo>
                  <a:lnTo>
                    <a:pt x="207" y="1310"/>
                  </a:lnTo>
                  <a:lnTo>
                    <a:pt x="277" y="1791"/>
                  </a:lnTo>
                  <a:lnTo>
                    <a:pt x="362" y="2003"/>
                  </a:lnTo>
                  <a:lnTo>
                    <a:pt x="631" y="2179"/>
                  </a:lnTo>
                  <a:lnTo>
                    <a:pt x="900" y="2152"/>
                  </a:lnTo>
                  <a:lnTo>
                    <a:pt x="1029" y="1791"/>
                  </a:lnTo>
                  <a:lnTo>
                    <a:pt x="1060" y="1240"/>
                  </a:lnTo>
                  <a:lnTo>
                    <a:pt x="1324" y="965"/>
                  </a:lnTo>
                  <a:lnTo>
                    <a:pt x="1311" y="855"/>
                  </a:lnTo>
                  <a:lnTo>
                    <a:pt x="1285" y="802"/>
                  </a:lnTo>
                  <a:lnTo>
                    <a:pt x="1144" y="793"/>
                  </a:lnTo>
                  <a:lnTo>
                    <a:pt x="1188" y="648"/>
                  </a:lnTo>
                  <a:lnTo>
                    <a:pt x="1047" y="546"/>
                  </a:lnTo>
                  <a:lnTo>
                    <a:pt x="988" y="233"/>
                  </a:lnTo>
                  <a:lnTo>
                    <a:pt x="578" y="0"/>
                  </a:lnTo>
                  <a:lnTo>
                    <a:pt x="362" y="220"/>
                  </a:lnTo>
                  <a:lnTo>
                    <a:pt x="330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4000" y="1014480"/>
              <a:ext cx="438480" cy="935280"/>
            </a:xfrm>
            <a:custGeom>
              <a:avLst/>
              <a:gdLst/>
              <a:ahLst/>
              <a:rect l="0" t="0" r="r" b="b"/>
              <a:pathLst>
                <a:path w="1218" h="2598">
                  <a:moveTo>
                    <a:pt x="246" y="136"/>
                  </a:moveTo>
                  <a:lnTo>
                    <a:pt x="423" y="260"/>
                  </a:lnTo>
                  <a:lnTo>
                    <a:pt x="507" y="396"/>
                  </a:lnTo>
                  <a:lnTo>
                    <a:pt x="997" y="0"/>
                  </a:lnTo>
                  <a:lnTo>
                    <a:pt x="1147" y="83"/>
                  </a:lnTo>
                  <a:lnTo>
                    <a:pt x="1218" y="493"/>
                  </a:lnTo>
                  <a:lnTo>
                    <a:pt x="869" y="1689"/>
                  </a:lnTo>
                  <a:lnTo>
                    <a:pt x="979" y="2351"/>
                  </a:lnTo>
                  <a:lnTo>
                    <a:pt x="520" y="2598"/>
                  </a:lnTo>
                  <a:lnTo>
                    <a:pt x="163" y="2457"/>
                  </a:lnTo>
                  <a:lnTo>
                    <a:pt x="163" y="1756"/>
                  </a:lnTo>
                  <a:lnTo>
                    <a:pt x="0" y="1075"/>
                  </a:lnTo>
                  <a:lnTo>
                    <a:pt x="163" y="260"/>
                  </a:lnTo>
                  <a:lnTo>
                    <a:pt x="246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23080" y="254160"/>
              <a:ext cx="410040" cy="248040"/>
            </a:xfrm>
            <a:custGeom>
              <a:avLst/>
              <a:gdLst/>
              <a:ahLst/>
              <a:rect l="0" t="0" r="r" b="b"/>
              <a:pathLst>
                <a:path w="1139" h="689">
                  <a:moveTo>
                    <a:pt x="136" y="659"/>
                  </a:moveTo>
                  <a:lnTo>
                    <a:pt x="305" y="472"/>
                  </a:lnTo>
                  <a:lnTo>
                    <a:pt x="415" y="446"/>
                  </a:lnTo>
                  <a:lnTo>
                    <a:pt x="415" y="464"/>
                  </a:lnTo>
                  <a:lnTo>
                    <a:pt x="468" y="446"/>
                  </a:lnTo>
                  <a:lnTo>
                    <a:pt x="538" y="499"/>
                  </a:lnTo>
                  <a:lnTo>
                    <a:pt x="671" y="531"/>
                  </a:lnTo>
                  <a:lnTo>
                    <a:pt x="781" y="689"/>
                  </a:lnTo>
                  <a:lnTo>
                    <a:pt x="958" y="619"/>
                  </a:lnTo>
                  <a:lnTo>
                    <a:pt x="958" y="544"/>
                  </a:lnTo>
                  <a:lnTo>
                    <a:pt x="1139" y="464"/>
                  </a:lnTo>
                  <a:lnTo>
                    <a:pt x="1086" y="331"/>
                  </a:lnTo>
                  <a:lnTo>
                    <a:pt x="919" y="322"/>
                  </a:lnTo>
                  <a:lnTo>
                    <a:pt x="945" y="181"/>
                  </a:lnTo>
                  <a:lnTo>
                    <a:pt x="799" y="199"/>
                  </a:lnTo>
                  <a:lnTo>
                    <a:pt x="772" y="97"/>
                  </a:lnTo>
                  <a:lnTo>
                    <a:pt x="671" y="97"/>
                  </a:lnTo>
                  <a:lnTo>
                    <a:pt x="600" y="149"/>
                  </a:lnTo>
                  <a:lnTo>
                    <a:pt x="538" y="149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0" y="322"/>
                  </a:lnTo>
                  <a:lnTo>
                    <a:pt x="211" y="149"/>
                  </a:lnTo>
                  <a:lnTo>
                    <a:pt x="114" y="234"/>
                  </a:lnTo>
                  <a:lnTo>
                    <a:pt x="88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36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32880" y="1185840"/>
              <a:ext cx="132120" cy="711720"/>
            </a:xfrm>
            <a:custGeom>
              <a:avLst/>
              <a:gdLst/>
              <a:ahLst/>
              <a:rect l="0" t="0" r="r" b="b"/>
              <a:pathLst>
                <a:path w="367" h="1977">
                  <a:moveTo>
                    <a:pt x="190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4" y="317"/>
                  </a:lnTo>
                  <a:lnTo>
                    <a:pt x="30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39" y="1726"/>
                  </a:lnTo>
                  <a:lnTo>
                    <a:pt x="230" y="1977"/>
                  </a:lnTo>
                  <a:lnTo>
                    <a:pt x="353" y="1593"/>
                  </a:lnTo>
                  <a:lnTo>
                    <a:pt x="353" y="1328"/>
                  </a:lnTo>
                  <a:lnTo>
                    <a:pt x="265" y="1081"/>
                  </a:lnTo>
                  <a:lnTo>
                    <a:pt x="217" y="746"/>
                  </a:lnTo>
                  <a:lnTo>
                    <a:pt x="309" y="418"/>
                  </a:lnTo>
                  <a:lnTo>
                    <a:pt x="278" y="295"/>
                  </a:lnTo>
                  <a:lnTo>
                    <a:pt x="367" y="220"/>
                  </a:lnTo>
                  <a:lnTo>
                    <a:pt x="353" y="136"/>
                  </a:lnTo>
                  <a:lnTo>
                    <a:pt x="247" y="0"/>
                  </a:lnTo>
                  <a:lnTo>
                    <a:pt x="190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29640" y="949320"/>
              <a:ext cx="105120" cy="65520"/>
            </a:xfrm>
            <a:custGeom>
              <a:avLst/>
              <a:gdLst/>
              <a:ahLst/>
              <a:rect l="0" t="0" r="r" b="b"/>
              <a:pathLst>
                <a:path w="292" h="182">
                  <a:moveTo>
                    <a:pt x="0" y="58"/>
                  </a:moveTo>
                  <a:lnTo>
                    <a:pt x="114" y="182"/>
                  </a:lnTo>
                  <a:lnTo>
                    <a:pt x="230" y="169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26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13720" y="622440"/>
              <a:ext cx="132120" cy="138600"/>
            </a:xfrm>
            <a:custGeom>
              <a:avLst/>
              <a:gdLst/>
              <a:ahLst/>
              <a:rect l="0" t="0" r="r" b="b"/>
              <a:pathLst>
                <a:path w="367" h="385">
                  <a:moveTo>
                    <a:pt x="0" y="44"/>
                  </a:moveTo>
                  <a:lnTo>
                    <a:pt x="256" y="385"/>
                  </a:lnTo>
                  <a:lnTo>
                    <a:pt x="367" y="359"/>
                  </a:lnTo>
                  <a:lnTo>
                    <a:pt x="10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45560" y="593640"/>
              <a:ext cx="111600" cy="135360"/>
            </a:xfrm>
            <a:custGeom>
              <a:avLst/>
              <a:gdLst/>
              <a:ahLst/>
              <a:rect l="0" t="0" r="r" b="b"/>
              <a:pathLst>
                <a:path w="310" h="376">
                  <a:moveTo>
                    <a:pt x="0" y="52"/>
                  </a:moveTo>
                  <a:lnTo>
                    <a:pt x="217" y="376"/>
                  </a:lnTo>
                  <a:lnTo>
                    <a:pt x="310" y="288"/>
                  </a:lnTo>
                  <a:lnTo>
                    <a:pt x="89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66200" y="414360"/>
              <a:ext cx="456120" cy="346320"/>
            </a:xfrm>
            <a:custGeom>
              <a:avLst/>
              <a:gdLst/>
              <a:ahLst/>
              <a:rect l="0" t="0" r="r" b="b"/>
              <a:pathLst>
                <a:path w="1267" h="962">
                  <a:moveTo>
                    <a:pt x="578" y="569"/>
                  </a:moveTo>
                  <a:lnTo>
                    <a:pt x="464" y="534"/>
                  </a:lnTo>
                  <a:lnTo>
                    <a:pt x="565" y="445"/>
                  </a:lnTo>
                  <a:lnTo>
                    <a:pt x="530" y="401"/>
                  </a:lnTo>
                  <a:lnTo>
                    <a:pt x="402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49" y="957"/>
                  </a:lnTo>
                  <a:lnTo>
                    <a:pt x="189" y="962"/>
                  </a:lnTo>
                  <a:lnTo>
                    <a:pt x="57" y="662"/>
                  </a:lnTo>
                  <a:lnTo>
                    <a:pt x="260" y="569"/>
                  </a:lnTo>
                  <a:lnTo>
                    <a:pt x="402" y="569"/>
                  </a:lnTo>
                  <a:lnTo>
                    <a:pt x="503" y="631"/>
                  </a:lnTo>
                  <a:lnTo>
                    <a:pt x="530" y="710"/>
                  </a:lnTo>
                  <a:lnTo>
                    <a:pt x="530" y="896"/>
                  </a:lnTo>
                  <a:lnTo>
                    <a:pt x="530" y="957"/>
                  </a:lnTo>
                  <a:lnTo>
                    <a:pt x="591" y="869"/>
                  </a:lnTo>
                  <a:lnTo>
                    <a:pt x="591" y="675"/>
                  </a:lnTo>
                  <a:lnTo>
                    <a:pt x="675" y="675"/>
                  </a:lnTo>
                  <a:lnTo>
                    <a:pt x="724" y="896"/>
                  </a:lnTo>
                  <a:lnTo>
                    <a:pt x="772" y="918"/>
                  </a:lnTo>
                  <a:lnTo>
                    <a:pt x="927" y="918"/>
                  </a:lnTo>
                  <a:lnTo>
                    <a:pt x="1082" y="874"/>
                  </a:lnTo>
                  <a:lnTo>
                    <a:pt x="1192" y="794"/>
                  </a:lnTo>
                  <a:lnTo>
                    <a:pt x="1205" y="600"/>
                  </a:lnTo>
                  <a:lnTo>
                    <a:pt x="1267" y="521"/>
                  </a:lnTo>
                  <a:lnTo>
                    <a:pt x="1232" y="467"/>
                  </a:lnTo>
                  <a:lnTo>
                    <a:pt x="1091" y="414"/>
                  </a:lnTo>
                  <a:lnTo>
                    <a:pt x="1069" y="216"/>
                  </a:lnTo>
                  <a:lnTo>
                    <a:pt x="935" y="216"/>
                  </a:lnTo>
                  <a:lnTo>
                    <a:pt x="777" y="0"/>
                  </a:lnTo>
                  <a:lnTo>
                    <a:pt x="922" y="233"/>
                  </a:lnTo>
                  <a:lnTo>
                    <a:pt x="967" y="233"/>
                  </a:lnTo>
                  <a:lnTo>
                    <a:pt x="998" y="401"/>
                  </a:lnTo>
                  <a:lnTo>
                    <a:pt x="821" y="467"/>
                  </a:lnTo>
                  <a:lnTo>
                    <a:pt x="693" y="418"/>
                  </a:lnTo>
                  <a:lnTo>
                    <a:pt x="666" y="467"/>
                  </a:lnTo>
                  <a:lnTo>
                    <a:pt x="737" y="521"/>
                  </a:lnTo>
                  <a:lnTo>
                    <a:pt x="737" y="561"/>
                  </a:lnTo>
                  <a:lnTo>
                    <a:pt x="891" y="490"/>
                  </a:lnTo>
                  <a:lnTo>
                    <a:pt x="1020" y="476"/>
                  </a:lnTo>
                  <a:lnTo>
                    <a:pt x="1161" y="499"/>
                  </a:lnTo>
                  <a:lnTo>
                    <a:pt x="1161" y="525"/>
                  </a:lnTo>
                  <a:lnTo>
                    <a:pt x="1095" y="587"/>
                  </a:lnTo>
                  <a:lnTo>
                    <a:pt x="1069" y="675"/>
                  </a:lnTo>
                  <a:lnTo>
                    <a:pt x="1060" y="794"/>
                  </a:lnTo>
                  <a:lnTo>
                    <a:pt x="976" y="843"/>
                  </a:lnTo>
                  <a:lnTo>
                    <a:pt x="856" y="856"/>
                  </a:lnTo>
                  <a:lnTo>
                    <a:pt x="772" y="856"/>
                  </a:lnTo>
                  <a:lnTo>
                    <a:pt x="741" y="821"/>
                  </a:lnTo>
                  <a:lnTo>
                    <a:pt x="724" y="600"/>
                  </a:lnTo>
                  <a:lnTo>
                    <a:pt x="591" y="600"/>
                  </a:lnTo>
                  <a:lnTo>
                    <a:pt x="578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3160" y="814320"/>
              <a:ext cx="146520" cy="68760"/>
            </a:xfrm>
            <a:custGeom>
              <a:avLst/>
              <a:gdLst/>
              <a:ahLst/>
              <a:rect l="0" t="0" r="r" b="b"/>
              <a:pathLst>
                <a:path w="407" h="191">
                  <a:moveTo>
                    <a:pt x="0" y="0"/>
                  </a:moveTo>
                  <a:lnTo>
                    <a:pt x="66" y="89"/>
                  </a:lnTo>
                  <a:lnTo>
                    <a:pt x="239" y="89"/>
                  </a:lnTo>
                  <a:lnTo>
                    <a:pt x="315" y="22"/>
                  </a:lnTo>
                  <a:lnTo>
                    <a:pt x="407" y="22"/>
                  </a:lnTo>
                  <a:lnTo>
                    <a:pt x="394" y="58"/>
                  </a:lnTo>
                  <a:lnTo>
                    <a:pt x="394" y="89"/>
                  </a:lnTo>
                  <a:lnTo>
                    <a:pt x="225" y="191"/>
                  </a:lnTo>
                  <a:lnTo>
                    <a:pt x="133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9720" y="700200"/>
              <a:ext cx="222480" cy="371880"/>
            </a:xfrm>
            <a:custGeom>
              <a:avLst/>
              <a:gdLst/>
              <a:ahLst/>
              <a:rect l="0" t="0" r="r" b="b"/>
              <a:pathLst>
                <a:path w="618" h="1033">
                  <a:moveTo>
                    <a:pt x="618" y="74"/>
                  </a:moveTo>
                  <a:lnTo>
                    <a:pt x="618" y="92"/>
                  </a:lnTo>
                  <a:lnTo>
                    <a:pt x="508" y="198"/>
                  </a:lnTo>
                  <a:lnTo>
                    <a:pt x="419" y="216"/>
                  </a:lnTo>
                  <a:lnTo>
                    <a:pt x="242" y="185"/>
                  </a:lnTo>
                  <a:lnTo>
                    <a:pt x="282" y="556"/>
                  </a:lnTo>
                  <a:lnTo>
                    <a:pt x="318" y="866"/>
                  </a:lnTo>
                  <a:lnTo>
                    <a:pt x="393" y="1033"/>
                  </a:lnTo>
                  <a:lnTo>
                    <a:pt x="318" y="914"/>
                  </a:lnTo>
                  <a:lnTo>
                    <a:pt x="291" y="786"/>
                  </a:lnTo>
                  <a:lnTo>
                    <a:pt x="238" y="437"/>
                  </a:lnTo>
                  <a:lnTo>
                    <a:pt x="189" y="455"/>
                  </a:lnTo>
                  <a:lnTo>
                    <a:pt x="127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39" y="220"/>
                  </a:lnTo>
                  <a:lnTo>
                    <a:pt x="123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33" y="141"/>
                  </a:lnTo>
                  <a:lnTo>
                    <a:pt x="344" y="167"/>
                  </a:lnTo>
                  <a:lnTo>
                    <a:pt x="446" y="163"/>
                  </a:lnTo>
                  <a:lnTo>
                    <a:pt x="547" y="101"/>
                  </a:lnTo>
                  <a:lnTo>
                    <a:pt x="61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8400" y="403200"/>
              <a:ext cx="66960" cy="200520"/>
            </a:xfrm>
            <a:custGeom>
              <a:avLst/>
              <a:gdLst/>
              <a:ahLst/>
              <a:rect l="0" t="0" r="r" b="b"/>
              <a:pathLst>
                <a:path w="186" h="557">
                  <a:moveTo>
                    <a:pt x="98" y="557"/>
                  </a:moveTo>
                  <a:lnTo>
                    <a:pt x="186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66" y="195"/>
                  </a:lnTo>
                  <a:lnTo>
                    <a:pt x="74" y="353"/>
                  </a:lnTo>
                  <a:lnTo>
                    <a:pt x="111" y="425"/>
                  </a:lnTo>
                  <a:lnTo>
                    <a:pt x="98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16960" y="228600"/>
              <a:ext cx="500400" cy="262440"/>
            </a:xfrm>
            <a:custGeom>
              <a:avLst/>
              <a:gdLst/>
              <a:ahLst/>
              <a:rect l="0" t="0" r="r" b="b"/>
              <a:pathLst>
                <a:path w="1390" h="729">
                  <a:moveTo>
                    <a:pt x="13" y="494"/>
                  </a:moveTo>
                  <a:lnTo>
                    <a:pt x="132" y="566"/>
                  </a:lnTo>
                  <a:lnTo>
                    <a:pt x="119" y="477"/>
                  </a:lnTo>
                  <a:lnTo>
                    <a:pt x="141" y="309"/>
                  </a:lnTo>
                  <a:lnTo>
                    <a:pt x="220" y="274"/>
                  </a:lnTo>
                  <a:lnTo>
                    <a:pt x="229" y="450"/>
                  </a:lnTo>
                  <a:lnTo>
                    <a:pt x="467" y="141"/>
                  </a:lnTo>
                  <a:lnTo>
                    <a:pt x="520" y="119"/>
                  </a:lnTo>
                  <a:lnTo>
                    <a:pt x="480" y="243"/>
                  </a:lnTo>
                  <a:lnTo>
                    <a:pt x="626" y="305"/>
                  </a:lnTo>
                  <a:lnTo>
                    <a:pt x="733" y="180"/>
                  </a:lnTo>
                  <a:lnTo>
                    <a:pt x="790" y="217"/>
                  </a:lnTo>
                  <a:lnTo>
                    <a:pt x="737" y="322"/>
                  </a:lnTo>
                  <a:lnTo>
                    <a:pt x="807" y="265"/>
                  </a:lnTo>
                  <a:lnTo>
                    <a:pt x="909" y="309"/>
                  </a:lnTo>
                  <a:lnTo>
                    <a:pt x="825" y="397"/>
                  </a:lnTo>
                  <a:lnTo>
                    <a:pt x="1112" y="450"/>
                  </a:lnTo>
                  <a:lnTo>
                    <a:pt x="922" y="516"/>
                  </a:lnTo>
                  <a:lnTo>
                    <a:pt x="1165" y="553"/>
                  </a:lnTo>
                  <a:lnTo>
                    <a:pt x="878" y="623"/>
                  </a:lnTo>
                  <a:lnTo>
                    <a:pt x="935" y="672"/>
                  </a:lnTo>
                  <a:lnTo>
                    <a:pt x="856" y="729"/>
                  </a:lnTo>
                  <a:lnTo>
                    <a:pt x="1002" y="729"/>
                  </a:lnTo>
                  <a:lnTo>
                    <a:pt x="988" y="689"/>
                  </a:lnTo>
                  <a:lnTo>
                    <a:pt x="1138" y="725"/>
                  </a:lnTo>
                  <a:lnTo>
                    <a:pt x="1112" y="610"/>
                  </a:lnTo>
                  <a:lnTo>
                    <a:pt x="1257" y="557"/>
                  </a:lnTo>
                  <a:lnTo>
                    <a:pt x="1156" y="503"/>
                  </a:lnTo>
                  <a:lnTo>
                    <a:pt x="1390" y="486"/>
                  </a:lnTo>
                  <a:lnTo>
                    <a:pt x="1187" y="371"/>
                  </a:lnTo>
                  <a:lnTo>
                    <a:pt x="957" y="336"/>
                  </a:lnTo>
                  <a:lnTo>
                    <a:pt x="1138" y="221"/>
                  </a:lnTo>
                  <a:lnTo>
                    <a:pt x="807" y="221"/>
                  </a:lnTo>
                  <a:lnTo>
                    <a:pt x="966" y="110"/>
                  </a:lnTo>
                  <a:lnTo>
                    <a:pt x="724" y="141"/>
                  </a:lnTo>
                  <a:lnTo>
                    <a:pt x="612" y="199"/>
                  </a:lnTo>
                  <a:lnTo>
                    <a:pt x="710" y="0"/>
                  </a:lnTo>
                  <a:lnTo>
                    <a:pt x="418" y="110"/>
                  </a:lnTo>
                  <a:lnTo>
                    <a:pt x="260" y="349"/>
                  </a:lnTo>
                  <a:lnTo>
                    <a:pt x="229" y="217"/>
                  </a:lnTo>
                  <a:lnTo>
                    <a:pt x="101" y="309"/>
                  </a:lnTo>
                  <a:lnTo>
                    <a:pt x="88" y="486"/>
                  </a:lnTo>
                  <a:lnTo>
                    <a:pt x="0" y="450"/>
                  </a:lnTo>
                  <a:lnTo>
                    <a:pt x="26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24960" y="36828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221"/>
                  </a:moveTo>
                  <a:lnTo>
                    <a:pt x="145" y="0"/>
                  </a:lnTo>
                  <a:lnTo>
                    <a:pt x="145" y="146"/>
                  </a:lnTo>
                  <a:lnTo>
                    <a:pt x="199" y="88"/>
                  </a:lnTo>
                  <a:lnTo>
                    <a:pt x="243" y="172"/>
                  </a:lnTo>
                  <a:lnTo>
                    <a:pt x="393" y="212"/>
                  </a:lnTo>
                  <a:lnTo>
                    <a:pt x="234" y="186"/>
                  </a:lnTo>
                  <a:lnTo>
                    <a:pt x="189" y="128"/>
                  </a:lnTo>
                  <a:lnTo>
                    <a:pt x="123" y="186"/>
                  </a:lnTo>
                  <a:lnTo>
                    <a:pt x="123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12000" y="906480"/>
              <a:ext cx="171720" cy="116280"/>
            </a:xfrm>
            <a:custGeom>
              <a:avLst/>
              <a:gdLst/>
              <a:ahLst/>
              <a:rect l="0" t="0" r="r" b="b"/>
              <a:pathLst>
                <a:path w="477" h="323">
                  <a:moveTo>
                    <a:pt x="92" y="111"/>
                  </a:moveTo>
                  <a:lnTo>
                    <a:pt x="287" y="98"/>
                  </a:lnTo>
                  <a:lnTo>
                    <a:pt x="380" y="120"/>
                  </a:lnTo>
                  <a:lnTo>
                    <a:pt x="424" y="74"/>
                  </a:lnTo>
                  <a:lnTo>
                    <a:pt x="477" y="181"/>
                  </a:lnTo>
                  <a:lnTo>
                    <a:pt x="446" y="199"/>
                  </a:lnTo>
                  <a:lnTo>
                    <a:pt x="402" y="159"/>
                  </a:lnTo>
                  <a:lnTo>
                    <a:pt x="340" y="230"/>
                  </a:lnTo>
                  <a:lnTo>
                    <a:pt x="220" y="323"/>
                  </a:lnTo>
                  <a:lnTo>
                    <a:pt x="167" y="323"/>
                  </a:lnTo>
                  <a:lnTo>
                    <a:pt x="92" y="279"/>
                  </a:lnTo>
                  <a:lnTo>
                    <a:pt x="180" y="319"/>
                  </a:lnTo>
                  <a:lnTo>
                    <a:pt x="211" y="319"/>
                  </a:lnTo>
                  <a:lnTo>
                    <a:pt x="287" y="257"/>
                  </a:lnTo>
                  <a:lnTo>
                    <a:pt x="340" y="146"/>
                  </a:lnTo>
                  <a:lnTo>
                    <a:pt x="261" y="128"/>
                  </a:lnTo>
                  <a:lnTo>
                    <a:pt x="207" y="120"/>
                  </a:lnTo>
                  <a:lnTo>
                    <a:pt x="79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8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90040" y="649440"/>
              <a:ext cx="365400" cy="543240"/>
            </a:xfrm>
            <a:custGeom>
              <a:avLst/>
              <a:gdLst/>
              <a:ahLst/>
              <a:rect l="0" t="0" r="r" b="b"/>
              <a:pathLst>
                <a:path w="1015" h="1509">
                  <a:moveTo>
                    <a:pt x="852" y="0"/>
                  </a:moveTo>
                  <a:lnTo>
                    <a:pt x="953" y="0"/>
                  </a:lnTo>
                  <a:lnTo>
                    <a:pt x="1015" y="74"/>
                  </a:lnTo>
                  <a:lnTo>
                    <a:pt x="1015" y="154"/>
                  </a:lnTo>
                  <a:lnTo>
                    <a:pt x="931" y="396"/>
                  </a:lnTo>
                  <a:lnTo>
                    <a:pt x="847" y="507"/>
                  </a:lnTo>
                  <a:lnTo>
                    <a:pt x="759" y="520"/>
                  </a:lnTo>
                  <a:lnTo>
                    <a:pt x="737" y="520"/>
                  </a:lnTo>
                  <a:lnTo>
                    <a:pt x="737" y="821"/>
                  </a:lnTo>
                  <a:lnTo>
                    <a:pt x="781" y="1037"/>
                  </a:lnTo>
                  <a:lnTo>
                    <a:pt x="781" y="1209"/>
                  </a:lnTo>
                  <a:lnTo>
                    <a:pt x="622" y="1390"/>
                  </a:lnTo>
                  <a:lnTo>
                    <a:pt x="414" y="1509"/>
                  </a:lnTo>
                  <a:lnTo>
                    <a:pt x="282" y="1509"/>
                  </a:lnTo>
                  <a:lnTo>
                    <a:pt x="211" y="1473"/>
                  </a:lnTo>
                  <a:lnTo>
                    <a:pt x="119" y="1266"/>
                  </a:lnTo>
                  <a:lnTo>
                    <a:pt x="30" y="1191"/>
                  </a:lnTo>
                  <a:lnTo>
                    <a:pt x="0" y="1138"/>
                  </a:lnTo>
                  <a:lnTo>
                    <a:pt x="114" y="1209"/>
                  </a:lnTo>
                  <a:lnTo>
                    <a:pt x="198" y="1288"/>
                  </a:lnTo>
                  <a:lnTo>
                    <a:pt x="361" y="1297"/>
                  </a:lnTo>
                  <a:lnTo>
                    <a:pt x="502" y="1218"/>
                  </a:lnTo>
                  <a:lnTo>
                    <a:pt x="583" y="1138"/>
                  </a:lnTo>
                  <a:lnTo>
                    <a:pt x="666" y="984"/>
                  </a:lnTo>
                  <a:lnTo>
                    <a:pt x="680" y="799"/>
                  </a:lnTo>
                  <a:lnTo>
                    <a:pt x="710" y="220"/>
                  </a:lnTo>
                  <a:lnTo>
                    <a:pt x="746" y="308"/>
                  </a:lnTo>
                  <a:lnTo>
                    <a:pt x="843" y="202"/>
                  </a:lnTo>
                  <a:lnTo>
                    <a:pt x="949" y="154"/>
                  </a:lnTo>
                  <a:lnTo>
                    <a:pt x="979" y="97"/>
                  </a:lnTo>
                  <a:lnTo>
                    <a:pt x="962" y="35"/>
                  </a:lnTo>
                  <a:lnTo>
                    <a:pt x="918" y="8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226280" y="1117440"/>
              <a:ext cx="294120" cy="503640"/>
            </a:xfrm>
            <a:custGeom>
              <a:avLst/>
              <a:gdLst/>
              <a:ahLst/>
              <a:rect l="0" t="0" r="r" b="b"/>
              <a:pathLst>
                <a:path w="817" h="1399">
                  <a:moveTo>
                    <a:pt x="101" y="0"/>
                  </a:moveTo>
                  <a:lnTo>
                    <a:pt x="198" y="61"/>
                  </a:lnTo>
                  <a:lnTo>
                    <a:pt x="269" y="343"/>
                  </a:lnTo>
                  <a:lnTo>
                    <a:pt x="477" y="415"/>
                  </a:lnTo>
                  <a:lnTo>
                    <a:pt x="534" y="490"/>
                  </a:lnTo>
                  <a:lnTo>
                    <a:pt x="547" y="596"/>
                  </a:lnTo>
                  <a:lnTo>
                    <a:pt x="650" y="578"/>
                  </a:lnTo>
                  <a:lnTo>
                    <a:pt x="782" y="666"/>
                  </a:lnTo>
                  <a:lnTo>
                    <a:pt x="817" y="781"/>
                  </a:lnTo>
                  <a:lnTo>
                    <a:pt x="817" y="979"/>
                  </a:lnTo>
                  <a:lnTo>
                    <a:pt x="650" y="1280"/>
                  </a:lnTo>
                  <a:lnTo>
                    <a:pt x="596" y="1399"/>
                  </a:lnTo>
                  <a:lnTo>
                    <a:pt x="623" y="1236"/>
                  </a:lnTo>
                  <a:lnTo>
                    <a:pt x="596" y="1179"/>
                  </a:lnTo>
                  <a:lnTo>
                    <a:pt x="494" y="1077"/>
                  </a:lnTo>
                  <a:lnTo>
                    <a:pt x="331" y="949"/>
                  </a:lnTo>
                  <a:lnTo>
                    <a:pt x="525" y="1019"/>
                  </a:lnTo>
                  <a:lnTo>
                    <a:pt x="641" y="1113"/>
                  </a:lnTo>
                  <a:lnTo>
                    <a:pt x="698" y="1100"/>
                  </a:lnTo>
                  <a:lnTo>
                    <a:pt x="734" y="1046"/>
                  </a:lnTo>
                  <a:lnTo>
                    <a:pt x="782" y="909"/>
                  </a:lnTo>
                  <a:lnTo>
                    <a:pt x="764" y="772"/>
                  </a:lnTo>
                  <a:lnTo>
                    <a:pt x="707" y="693"/>
                  </a:lnTo>
                  <a:lnTo>
                    <a:pt x="605" y="666"/>
                  </a:lnTo>
                  <a:lnTo>
                    <a:pt x="494" y="666"/>
                  </a:lnTo>
                  <a:lnTo>
                    <a:pt x="455" y="464"/>
                  </a:lnTo>
                  <a:lnTo>
                    <a:pt x="278" y="389"/>
                  </a:lnTo>
                  <a:lnTo>
                    <a:pt x="278" y="446"/>
                  </a:lnTo>
                  <a:lnTo>
                    <a:pt x="198" y="299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4" y="446"/>
                  </a:lnTo>
                  <a:lnTo>
                    <a:pt x="171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86600" y="1338120"/>
              <a:ext cx="194040" cy="405000"/>
            </a:xfrm>
            <a:custGeom>
              <a:avLst/>
              <a:gdLst/>
              <a:ahLst/>
              <a:rect l="0" t="0" r="r" b="b"/>
              <a:pathLst>
                <a:path w="539" h="1125">
                  <a:moveTo>
                    <a:pt x="539" y="0"/>
                  </a:moveTo>
                  <a:lnTo>
                    <a:pt x="429" y="74"/>
                  </a:lnTo>
                  <a:lnTo>
                    <a:pt x="296" y="348"/>
                  </a:lnTo>
                  <a:lnTo>
                    <a:pt x="172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05" y="944"/>
                  </a:lnTo>
                  <a:lnTo>
                    <a:pt x="208" y="852"/>
                  </a:lnTo>
                  <a:lnTo>
                    <a:pt x="287" y="649"/>
                  </a:lnTo>
                  <a:lnTo>
                    <a:pt x="397" y="524"/>
                  </a:lnTo>
                  <a:lnTo>
                    <a:pt x="397" y="688"/>
                  </a:lnTo>
                  <a:lnTo>
                    <a:pt x="384" y="834"/>
                  </a:lnTo>
                  <a:lnTo>
                    <a:pt x="261" y="1032"/>
                  </a:lnTo>
                  <a:lnTo>
                    <a:pt x="261" y="1099"/>
                  </a:lnTo>
                  <a:lnTo>
                    <a:pt x="384" y="1125"/>
                  </a:lnTo>
                  <a:lnTo>
                    <a:pt x="296" y="1068"/>
                  </a:lnTo>
                  <a:lnTo>
                    <a:pt x="309" y="1032"/>
                  </a:lnTo>
                  <a:lnTo>
                    <a:pt x="393" y="887"/>
                  </a:lnTo>
                  <a:lnTo>
                    <a:pt x="447" y="622"/>
                  </a:lnTo>
                  <a:lnTo>
                    <a:pt x="407" y="476"/>
                  </a:lnTo>
                  <a:lnTo>
                    <a:pt x="318" y="560"/>
                  </a:lnTo>
                  <a:lnTo>
                    <a:pt x="127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05" y="636"/>
                  </a:lnTo>
                  <a:lnTo>
                    <a:pt x="318" y="366"/>
                  </a:lnTo>
                  <a:lnTo>
                    <a:pt x="447" y="101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30960" y="1566720"/>
              <a:ext cx="119520" cy="192600"/>
            </a:xfrm>
            <a:custGeom>
              <a:avLst/>
              <a:gdLst/>
              <a:ahLst/>
              <a:rect l="0" t="0" r="r" b="b"/>
              <a:pathLst>
                <a:path w="332" h="535">
                  <a:moveTo>
                    <a:pt x="0" y="473"/>
                  </a:moveTo>
                  <a:lnTo>
                    <a:pt x="111" y="336"/>
                  </a:lnTo>
                  <a:lnTo>
                    <a:pt x="128" y="203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82"/>
                  </a:lnTo>
                  <a:lnTo>
                    <a:pt x="332" y="535"/>
                  </a:lnTo>
                  <a:lnTo>
                    <a:pt x="234" y="495"/>
                  </a:lnTo>
                  <a:lnTo>
                    <a:pt x="186" y="300"/>
                  </a:lnTo>
                  <a:lnTo>
                    <a:pt x="111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77120" y="1576440"/>
              <a:ext cx="79560" cy="173520"/>
            </a:xfrm>
            <a:custGeom>
              <a:avLst/>
              <a:gdLst/>
              <a:ahLst/>
              <a:rect l="0" t="0" r="r" b="b"/>
              <a:pathLst>
                <a:path w="221" h="482">
                  <a:moveTo>
                    <a:pt x="0" y="363"/>
                  </a:moveTo>
                  <a:lnTo>
                    <a:pt x="8" y="181"/>
                  </a:lnTo>
                  <a:lnTo>
                    <a:pt x="52" y="74"/>
                  </a:lnTo>
                  <a:lnTo>
                    <a:pt x="105" y="465"/>
                  </a:lnTo>
                  <a:lnTo>
                    <a:pt x="177" y="465"/>
                  </a:lnTo>
                  <a:lnTo>
                    <a:pt x="208" y="57"/>
                  </a:lnTo>
                  <a:lnTo>
                    <a:pt x="221" y="0"/>
                  </a:lnTo>
                  <a:lnTo>
                    <a:pt x="208" y="314"/>
                  </a:lnTo>
                  <a:lnTo>
                    <a:pt x="177" y="482"/>
                  </a:lnTo>
                  <a:lnTo>
                    <a:pt x="88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8360" y="896760"/>
              <a:ext cx="190800" cy="460800"/>
            </a:xfrm>
            <a:custGeom>
              <a:avLst/>
              <a:gdLst/>
              <a:ahLst/>
              <a:rect l="0" t="0" r="r" b="b"/>
              <a:pathLst>
                <a:path w="530" h="1280">
                  <a:moveTo>
                    <a:pt x="136" y="693"/>
                  </a:moveTo>
                  <a:lnTo>
                    <a:pt x="180" y="494"/>
                  </a:lnTo>
                  <a:lnTo>
                    <a:pt x="358" y="441"/>
                  </a:lnTo>
                  <a:lnTo>
                    <a:pt x="530" y="0"/>
                  </a:lnTo>
                  <a:lnTo>
                    <a:pt x="530" y="127"/>
                  </a:lnTo>
                  <a:lnTo>
                    <a:pt x="389" y="468"/>
                  </a:lnTo>
                  <a:lnTo>
                    <a:pt x="198" y="530"/>
                  </a:lnTo>
                  <a:lnTo>
                    <a:pt x="171" y="693"/>
                  </a:lnTo>
                  <a:lnTo>
                    <a:pt x="233" y="693"/>
                  </a:lnTo>
                  <a:lnTo>
                    <a:pt x="70" y="763"/>
                  </a:lnTo>
                  <a:lnTo>
                    <a:pt x="26" y="900"/>
                  </a:lnTo>
                  <a:lnTo>
                    <a:pt x="39" y="1077"/>
                  </a:lnTo>
                  <a:lnTo>
                    <a:pt x="216" y="1280"/>
                  </a:lnTo>
                  <a:lnTo>
                    <a:pt x="26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79" y="702"/>
                  </a:lnTo>
                  <a:lnTo>
                    <a:pt x="136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16880" y="896760"/>
              <a:ext cx="321120" cy="448200"/>
            </a:xfrm>
            <a:custGeom>
              <a:avLst/>
              <a:gdLst/>
              <a:ahLst/>
              <a:rect l="0" t="0" r="r" b="b"/>
              <a:pathLst>
                <a:path w="892" h="1245">
                  <a:moveTo>
                    <a:pt x="243" y="0"/>
                  </a:moveTo>
                  <a:lnTo>
                    <a:pt x="300" y="39"/>
                  </a:lnTo>
                  <a:lnTo>
                    <a:pt x="318" y="145"/>
                  </a:lnTo>
                  <a:lnTo>
                    <a:pt x="318" y="242"/>
                  </a:lnTo>
                  <a:lnTo>
                    <a:pt x="216" y="424"/>
                  </a:lnTo>
                  <a:lnTo>
                    <a:pt x="234" y="556"/>
                  </a:lnTo>
                  <a:lnTo>
                    <a:pt x="534" y="697"/>
                  </a:lnTo>
                  <a:lnTo>
                    <a:pt x="888" y="1095"/>
                  </a:lnTo>
                  <a:lnTo>
                    <a:pt x="892" y="1201"/>
                  </a:lnTo>
                  <a:lnTo>
                    <a:pt x="875" y="1245"/>
                  </a:lnTo>
                  <a:lnTo>
                    <a:pt x="742" y="1245"/>
                  </a:lnTo>
                  <a:lnTo>
                    <a:pt x="627" y="1166"/>
                  </a:lnTo>
                  <a:lnTo>
                    <a:pt x="530" y="1042"/>
                  </a:lnTo>
                  <a:lnTo>
                    <a:pt x="477" y="972"/>
                  </a:lnTo>
                  <a:lnTo>
                    <a:pt x="411" y="954"/>
                  </a:lnTo>
                  <a:lnTo>
                    <a:pt x="490" y="954"/>
                  </a:lnTo>
                  <a:lnTo>
                    <a:pt x="636" y="1157"/>
                  </a:lnTo>
                  <a:lnTo>
                    <a:pt x="822" y="1219"/>
                  </a:lnTo>
                  <a:lnTo>
                    <a:pt x="866" y="1157"/>
                  </a:lnTo>
                  <a:lnTo>
                    <a:pt x="839" y="1060"/>
                  </a:lnTo>
                  <a:lnTo>
                    <a:pt x="516" y="781"/>
                  </a:lnTo>
                  <a:lnTo>
                    <a:pt x="472" y="697"/>
                  </a:lnTo>
                  <a:lnTo>
                    <a:pt x="216" y="631"/>
                  </a:lnTo>
                  <a:lnTo>
                    <a:pt x="176" y="697"/>
                  </a:lnTo>
                  <a:lnTo>
                    <a:pt x="0" y="816"/>
                  </a:lnTo>
                  <a:lnTo>
                    <a:pt x="163" y="680"/>
                  </a:lnTo>
                  <a:lnTo>
                    <a:pt x="176" y="591"/>
                  </a:lnTo>
                  <a:lnTo>
                    <a:pt x="176" y="402"/>
                  </a:lnTo>
                  <a:lnTo>
                    <a:pt x="287" y="242"/>
                  </a:lnTo>
                  <a:lnTo>
                    <a:pt x="287" y="48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8200" y="1249200"/>
              <a:ext cx="273240" cy="265320"/>
            </a:xfrm>
            <a:custGeom>
              <a:avLst/>
              <a:gdLst/>
              <a:ahLst/>
              <a:rect l="0" t="0" r="r" b="b"/>
              <a:pathLst>
                <a:path w="759" h="737">
                  <a:moveTo>
                    <a:pt x="569" y="0"/>
                  </a:moveTo>
                  <a:lnTo>
                    <a:pt x="552" y="61"/>
                  </a:lnTo>
                  <a:lnTo>
                    <a:pt x="662" y="308"/>
                  </a:lnTo>
                  <a:lnTo>
                    <a:pt x="724" y="552"/>
                  </a:lnTo>
                  <a:lnTo>
                    <a:pt x="653" y="552"/>
                  </a:lnTo>
                  <a:lnTo>
                    <a:pt x="538" y="446"/>
                  </a:lnTo>
                  <a:lnTo>
                    <a:pt x="437" y="216"/>
                  </a:lnTo>
                  <a:lnTo>
                    <a:pt x="357" y="180"/>
                  </a:lnTo>
                  <a:lnTo>
                    <a:pt x="366" y="308"/>
                  </a:lnTo>
                  <a:lnTo>
                    <a:pt x="441" y="402"/>
                  </a:lnTo>
                  <a:lnTo>
                    <a:pt x="441" y="574"/>
                  </a:lnTo>
                  <a:lnTo>
                    <a:pt x="393" y="702"/>
                  </a:lnTo>
                  <a:lnTo>
                    <a:pt x="321" y="649"/>
                  </a:lnTo>
                  <a:lnTo>
                    <a:pt x="233" y="446"/>
                  </a:lnTo>
                  <a:lnTo>
                    <a:pt x="211" y="308"/>
                  </a:lnTo>
                  <a:lnTo>
                    <a:pt x="167" y="268"/>
                  </a:lnTo>
                  <a:lnTo>
                    <a:pt x="149" y="627"/>
                  </a:lnTo>
                  <a:lnTo>
                    <a:pt x="79" y="675"/>
                  </a:lnTo>
                  <a:lnTo>
                    <a:pt x="17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49" y="728"/>
                  </a:lnTo>
                  <a:lnTo>
                    <a:pt x="185" y="640"/>
                  </a:lnTo>
                  <a:lnTo>
                    <a:pt x="202" y="361"/>
                  </a:lnTo>
                  <a:lnTo>
                    <a:pt x="220" y="468"/>
                  </a:lnTo>
                  <a:lnTo>
                    <a:pt x="308" y="710"/>
                  </a:lnTo>
                  <a:lnTo>
                    <a:pt x="402" y="737"/>
                  </a:lnTo>
                  <a:lnTo>
                    <a:pt x="468" y="640"/>
                  </a:lnTo>
                  <a:lnTo>
                    <a:pt x="468" y="411"/>
                  </a:lnTo>
                  <a:lnTo>
                    <a:pt x="653" y="600"/>
                  </a:lnTo>
                  <a:lnTo>
                    <a:pt x="750" y="600"/>
                  </a:lnTo>
                  <a:lnTo>
                    <a:pt x="759" y="468"/>
                  </a:lnTo>
                  <a:lnTo>
                    <a:pt x="688" y="233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54800" y="973080"/>
              <a:ext cx="1214640" cy="1082880"/>
            </a:xfrm>
            <a:custGeom>
              <a:avLst/>
              <a:gdLst/>
              <a:ahLst/>
              <a:rect l="0" t="0" r="r" b="b"/>
              <a:pathLst>
                <a:path w="3374" h="3008">
                  <a:moveTo>
                    <a:pt x="1212" y="255"/>
                  </a:moveTo>
                  <a:lnTo>
                    <a:pt x="1155" y="264"/>
                  </a:lnTo>
                  <a:lnTo>
                    <a:pt x="1058" y="414"/>
                  </a:lnTo>
                  <a:lnTo>
                    <a:pt x="1023" y="308"/>
                  </a:lnTo>
                  <a:lnTo>
                    <a:pt x="912" y="242"/>
                  </a:lnTo>
                  <a:lnTo>
                    <a:pt x="833" y="295"/>
                  </a:lnTo>
                  <a:lnTo>
                    <a:pt x="802" y="480"/>
                  </a:lnTo>
                  <a:lnTo>
                    <a:pt x="498" y="727"/>
                  </a:lnTo>
                  <a:lnTo>
                    <a:pt x="520" y="829"/>
                  </a:lnTo>
                  <a:lnTo>
                    <a:pt x="449" y="917"/>
                  </a:lnTo>
                  <a:lnTo>
                    <a:pt x="449" y="996"/>
                  </a:lnTo>
                  <a:lnTo>
                    <a:pt x="529" y="1221"/>
                  </a:lnTo>
                  <a:lnTo>
                    <a:pt x="537" y="1499"/>
                  </a:lnTo>
                  <a:lnTo>
                    <a:pt x="485" y="1760"/>
                  </a:lnTo>
                  <a:lnTo>
                    <a:pt x="268" y="1919"/>
                  </a:lnTo>
                  <a:lnTo>
                    <a:pt x="233" y="2135"/>
                  </a:lnTo>
                  <a:lnTo>
                    <a:pt x="171" y="2135"/>
                  </a:lnTo>
                  <a:lnTo>
                    <a:pt x="136" y="1958"/>
                  </a:lnTo>
                  <a:lnTo>
                    <a:pt x="70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45" y="2461"/>
                  </a:lnTo>
                  <a:lnTo>
                    <a:pt x="260" y="2470"/>
                  </a:lnTo>
                  <a:lnTo>
                    <a:pt x="449" y="2660"/>
                  </a:lnTo>
                  <a:lnTo>
                    <a:pt x="617" y="2686"/>
                  </a:lnTo>
                  <a:lnTo>
                    <a:pt x="714" y="2580"/>
                  </a:lnTo>
                  <a:lnTo>
                    <a:pt x="952" y="2214"/>
                  </a:lnTo>
                  <a:lnTo>
                    <a:pt x="970" y="2708"/>
                  </a:lnTo>
                  <a:lnTo>
                    <a:pt x="952" y="3008"/>
                  </a:lnTo>
                  <a:lnTo>
                    <a:pt x="2898" y="3008"/>
                  </a:lnTo>
                  <a:lnTo>
                    <a:pt x="2757" y="2686"/>
                  </a:lnTo>
                  <a:lnTo>
                    <a:pt x="2686" y="2399"/>
                  </a:lnTo>
                  <a:lnTo>
                    <a:pt x="2668" y="1994"/>
                  </a:lnTo>
                  <a:lnTo>
                    <a:pt x="2783" y="2082"/>
                  </a:lnTo>
                  <a:lnTo>
                    <a:pt x="2898" y="2082"/>
                  </a:lnTo>
                  <a:lnTo>
                    <a:pt x="3061" y="1972"/>
                  </a:lnTo>
                  <a:lnTo>
                    <a:pt x="3167" y="1958"/>
                  </a:lnTo>
                  <a:lnTo>
                    <a:pt x="3233" y="1848"/>
                  </a:lnTo>
                  <a:lnTo>
                    <a:pt x="3277" y="1566"/>
                  </a:lnTo>
                  <a:lnTo>
                    <a:pt x="3374" y="1446"/>
                  </a:lnTo>
                  <a:lnTo>
                    <a:pt x="3321" y="1367"/>
                  </a:lnTo>
                  <a:lnTo>
                    <a:pt x="3255" y="1367"/>
                  </a:lnTo>
                  <a:lnTo>
                    <a:pt x="3193" y="1419"/>
                  </a:lnTo>
                  <a:lnTo>
                    <a:pt x="3140" y="1433"/>
                  </a:lnTo>
                  <a:lnTo>
                    <a:pt x="3070" y="1367"/>
                  </a:lnTo>
                  <a:lnTo>
                    <a:pt x="2986" y="1353"/>
                  </a:lnTo>
                  <a:lnTo>
                    <a:pt x="2836" y="1247"/>
                  </a:lnTo>
                  <a:lnTo>
                    <a:pt x="2739" y="1133"/>
                  </a:lnTo>
                  <a:lnTo>
                    <a:pt x="2717" y="996"/>
                  </a:lnTo>
                  <a:lnTo>
                    <a:pt x="2739" y="859"/>
                  </a:lnTo>
                  <a:lnTo>
                    <a:pt x="2801" y="749"/>
                  </a:lnTo>
                  <a:lnTo>
                    <a:pt x="2884" y="652"/>
                  </a:lnTo>
                  <a:lnTo>
                    <a:pt x="2876" y="480"/>
                  </a:lnTo>
                  <a:lnTo>
                    <a:pt x="2876" y="357"/>
                  </a:lnTo>
                  <a:lnTo>
                    <a:pt x="2836" y="264"/>
                  </a:lnTo>
                  <a:lnTo>
                    <a:pt x="2717" y="224"/>
                  </a:lnTo>
                  <a:lnTo>
                    <a:pt x="2682" y="202"/>
                  </a:lnTo>
                  <a:lnTo>
                    <a:pt x="2598" y="57"/>
                  </a:lnTo>
                  <a:lnTo>
                    <a:pt x="2532" y="8"/>
                  </a:lnTo>
                  <a:lnTo>
                    <a:pt x="2466" y="0"/>
                  </a:lnTo>
                  <a:lnTo>
                    <a:pt x="2404" y="22"/>
                  </a:lnTo>
                  <a:lnTo>
                    <a:pt x="2355" y="105"/>
                  </a:lnTo>
                  <a:lnTo>
                    <a:pt x="2280" y="149"/>
                  </a:lnTo>
                  <a:lnTo>
                    <a:pt x="2197" y="167"/>
                  </a:lnTo>
                  <a:lnTo>
                    <a:pt x="2104" y="167"/>
                  </a:lnTo>
                  <a:lnTo>
                    <a:pt x="2117" y="317"/>
                  </a:lnTo>
                  <a:lnTo>
                    <a:pt x="2117" y="507"/>
                  </a:lnTo>
                  <a:lnTo>
                    <a:pt x="2104" y="626"/>
                  </a:lnTo>
                  <a:lnTo>
                    <a:pt x="2020" y="776"/>
                  </a:lnTo>
                  <a:lnTo>
                    <a:pt x="1914" y="1001"/>
                  </a:lnTo>
                  <a:lnTo>
                    <a:pt x="1831" y="1274"/>
                  </a:lnTo>
                  <a:lnTo>
                    <a:pt x="1822" y="1433"/>
                  </a:lnTo>
                  <a:lnTo>
                    <a:pt x="1786" y="1579"/>
                  </a:lnTo>
                  <a:lnTo>
                    <a:pt x="1734" y="1711"/>
                  </a:lnTo>
                  <a:lnTo>
                    <a:pt x="1711" y="1932"/>
                  </a:lnTo>
                  <a:lnTo>
                    <a:pt x="1725" y="2113"/>
                  </a:lnTo>
                  <a:lnTo>
                    <a:pt x="1786" y="2324"/>
                  </a:lnTo>
                  <a:lnTo>
                    <a:pt x="1822" y="2399"/>
                  </a:lnTo>
                  <a:lnTo>
                    <a:pt x="1711" y="2483"/>
                  </a:lnTo>
                  <a:lnTo>
                    <a:pt x="1574" y="2532"/>
                  </a:lnTo>
                  <a:lnTo>
                    <a:pt x="1424" y="2545"/>
                  </a:lnTo>
                  <a:lnTo>
                    <a:pt x="1327" y="2545"/>
                  </a:lnTo>
                  <a:lnTo>
                    <a:pt x="1270" y="2518"/>
                  </a:lnTo>
                  <a:lnTo>
                    <a:pt x="1270" y="2338"/>
                  </a:lnTo>
                  <a:lnTo>
                    <a:pt x="1270" y="2069"/>
                  </a:lnTo>
                  <a:lnTo>
                    <a:pt x="1234" y="1808"/>
                  </a:lnTo>
                  <a:lnTo>
                    <a:pt x="1177" y="1579"/>
                  </a:lnTo>
                  <a:lnTo>
                    <a:pt x="1146" y="1384"/>
                  </a:lnTo>
                  <a:lnTo>
                    <a:pt x="1133" y="1115"/>
                  </a:lnTo>
                  <a:lnTo>
                    <a:pt x="1177" y="890"/>
                  </a:lnTo>
                  <a:lnTo>
                    <a:pt x="1234" y="696"/>
                  </a:lnTo>
                  <a:lnTo>
                    <a:pt x="1239" y="586"/>
                  </a:lnTo>
                  <a:lnTo>
                    <a:pt x="1212" y="432"/>
                  </a:lnTo>
                  <a:lnTo>
                    <a:pt x="1212" y="308"/>
                  </a:lnTo>
                  <a:lnTo>
                    <a:pt x="1234" y="264"/>
                  </a:lnTo>
                  <a:lnTo>
                    <a:pt x="121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27840" y="1189080"/>
              <a:ext cx="154440" cy="706680"/>
            </a:xfrm>
            <a:custGeom>
              <a:avLst/>
              <a:gdLst/>
              <a:ahLst/>
              <a:rect l="0" t="0" r="r" b="b"/>
              <a:pathLst>
                <a:path w="429" h="1963">
                  <a:moveTo>
                    <a:pt x="172" y="22"/>
                  </a:moveTo>
                  <a:lnTo>
                    <a:pt x="57" y="88"/>
                  </a:lnTo>
                  <a:lnTo>
                    <a:pt x="66" y="273"/>
                  </a:lnTo>
                  <a:lnTo>
                    <a:pt x="150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88" y="1416"/>
                  </a:lnTo>
                  <a:lnTo>
                    <a:pt x="88" y="1553"/>
                  </a:lnTo>
                  <a:lnTo>
                    <a:pt x="52" y="1725"/>
                  </a:lnTo>
                  <a:lnTo>
                    <a:pt x="225" y="1963"/>
                  </a:lnTo>
                  <a:lnTo>
                    <a:pt x="292" y="1923"/>
                  </a:lnTo>
                  <a:lnTo>
                    <a:pt x="345" y="1760"/>
                  </a:lnTo>
                  <a:lnTo>
                    <a:pt x="425" y="1544"/>
                  </a:lnTo>
                  <a:lnTo>
                    <a:pt x="429" y="1429"/>
                  </a:lnTo>
                  <a:lnTo>
                    <a:pt x="363" y="1213"/>
                  </a:lnTo>
                  <a:lnTo>
                    <a:pt x="283" y="1002"/>
                  </a:lnTo>
                  <a:lnTo>
                    <a:pt x="252" y="855"/>
                  </a:lnTo>
                  <a:lnTo>
                    <a:pt x="252" y="714"/>
                  </a:lnTo>
                  <a:lnTo>
                    <a:pt x="283" y="586"/>
                  </a:lnTo>
                  <a:lnTo>
                    <a:pt x="345" y="427"/>
                  </a:lnTo>
                  <a:lnTo>
                    <a:pt x="345" y="366"/>
                  </a:lnTo>
                  <a:lnTo>
                    <a:pt x="314" y="304"/>
                  </a:lnTo>
                  <a:lnTo>
                    <a:pt x="394" y="220"/>
                  </a:lnTo>
                  <a:lnTo>
                    <a:pt x="394" y="149"/>
                  </a:lnTo>
                  <a:lnTo>
                    <a:pt x="283" y="0"/>
                  </a:lnTo>
                  <a:lnTo>
                    <a:pt x="372" y="149"/>
                  </a:lnTo>
                  <a:lnTo>
                    <a:pt x="372" y="211"/>
                  </a:lnTo>
                  <a:lnTo>
                    <a:pt x="292" y="273"/>
                  </a:lnTo>
                  <a:lnTo>
                    <a:pt x="323" y="366"/>
                  </a:lnTo>
                  <a:lnTo>
                    <a:pt x="314" y="427"/>
                  </a:lnTo>
                  <a:lnTo>
                    <a:pt x="234" y="612"/>
                  </a:lnTo>
                  <a:lnTo>
                    <a:pt x="225" y="789"/>
                  </a:lnTo>
                  <a:lnTo>
                    <a:pt x="243" y="948"/>
                  </a:lnTo>
                  <a:lnTo>
                    <a:pt x="292" y="1187"/>
                  </a:lnTo>
                  <a:lnTo>
                    <a:pt x="363" y="1376"/>
                  </a:lnTo>
                  <a:lnTo>
                    <a:pt x="363" y="1535"/>
                  </a:lnTo>
                  <a:lnTo>
                    <a:pt x="323" y="1725"/>
                  </a:lnTo>
                  <a:lnTo>
                    <a:pt x="243" y="1923"/>
                  </a:lnTo>
                  <a:lnTo>
                    <a:pt x="142" y="1817"/>
                  </a:lnTo>
                  <a:lnTo>
                    <a:pt x="101" y="1725"/>
                  </a:lnTo>
                  <a:lnTo>
                    <a:pt x="111" y="1535"/>
                  </a:lnTo>
                  <a:lnTo>
                    <a:pt x="101" y="1341"/>
                  </a:lnTo>
                  <a:lnTo>
                    <a:pt x="52" y="1076"/>
                  </a:lnTo>
                  <a:lnTo>
                    <a:pt x="26" y="899"/>
                  </a:lnTo>
                  <a:lnTo>
                    <a:pt x="52" y="696"/>
                  </a:lnTo>
                  <a:lnTo>
                    <a:pt x="88" y="507"/>
                  </a:lnTo>
                  <a:lnTo>
                    <a:pt x="181" y="313"/>
                  </a:lnTo>
                  <a:lnTo>
                    <a:pt x="101" y="238"/>
                  </a:lnTo>
                  <a:lnTo>
                    <a:pt x="88" y="97"/>
                  </a:lnTo>
                  <a:lnTo>
                    <a:pt x="172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64520" y="368280"/>
              <a:ext cx="243360" cy="343440"/>
            </a:xfrm>
            <a:custGeom>
              <a:avLst/>
              <a:gdLst/>
              <a:ahLst/>
              <a:rect l="0" t="0" r="r" b="b"/>
              <a:pathLst>
                <a:path w="676" h="954">
                  <a:moveTo>
                    <a:pt x="114" y="243"/>
                  </a:moveTo>
                  <a:lnTo>
                    <a:pt x="212" y="220"/>
                  </a:lnTo>
                  <a:lnTo>
                    <a:pt x="309" y="229"/>
                  </a:lnTo>
                  <a:lnTo>
                    <a:pt x="389" y="274"/>
                  </a:lnTo>
                  <a:lnTo>
                    <a:pt x="428" y="322"/>
                  </a:lnTo>
                  <a:lnTo>
                    <a:pt x="455" y="375"/>
                  </a:lnTo>
                  <a:lnTo>
                    <a:pt x="455" y="419"/>
                  </a:lnTo>
                  <a:lnTo>
                    <a:pt x="428" y="455"/>
                  </a:lnTo>
                  <a:lnTo>
                    <a:pt x="384" y="472"/>
                  </a:lnTo>
                  <a:lnTo>
                    <a:pt x="331" y="477"/>
                  </a:lnTo>
                  <a:lnTo>
                    <a:pt x="274" y="464"/>
                  </a:lnTo>
                  <a:lnTo>
                    <a:pt x="212" y="424"/>
                  </a:lnTo>
                  <a:lnTo>
                    <a:pt x="172" y="389"/>
                  </a:lnTo>
                  <a:lnTo>
                    <a:pt x="154" y="512"/>
                  </a:lnTo>
                  <a:lnTo>
                    <a:pt x="114" y="596"/>
                  </a:lnTo>
                  <a:lnTo>
                    <a:pt x="0" y="795"/>
                  </a:lnTo>
                  <a:lnTo>
                    <a:pt x="163" y="954"/>
                  </a:lnTo>
                  <a:lnTo>
                    <a:pt x="287" y="697"/>
                  </a:lnTo>
                  <a:lnTo>
                    <a:pt x="428" y="716"/>
                  </a:lnTo>
                  <a:lnTo>
                    <a:pt x="517" y="702"/>
                  </a:lnTo>
                  <a:lnTo>
                    <a:pt x="601" y="640"/>
                  </a:lnTo>
                  <a:lnTo>
                    <a:pt x="650" y="565"/>
                  </a:lnTo>
                  <a:lnTo>
                    <a:pt x="676" y="468"/>
                  </a:lnTo>
                  <a:lnTo>
                    <a:pt x="676" y="362"/>
                  </a:lnTo>
                  <a:lnTo>
                    <a:pt x="650" y="256"/>
                  </a:lnTo>
                  <a:lnTo>
                    <a:pt x="597" y="145"/>
                  </a:lnTo>
                  <a:lnTo>
                    <a:pt x="526" y="66"/>
                  </a:lnTo>
                  <a:lnTo>
                    <a:pt x="446" y="22"/>
                  </a:lnTo>
                  <a:lnTo>
                    <a:pt x="349" y="0"/>
                  </a:lnTo>
                  <a:lnTo>
                    <a:pt x="225" y="0"/>
                  </a:lnTo>
                  <a:lnTo>
                    <a:pt x="92" y="22"/>
                  </a:lnTo>
                  <a:lnTo>
                    <a:pt x="114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21680" y="700200"/>
              <a:ext cx="89280" cy="66960"/>
            </a:xfrm>
            <a:custGeom>
              <a:avLst/>
              <a:gdLst/>
              <a:ahLst/>
              <a:rect l="0" t="0" r="r" b="b"/>
              <a:pathLst>
                <a:path w="248" h="186">
                  <a:moveTo>
                    <a:pt x="98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0" y="186"/>
                  </a:lnTo>
                  <a:lnTo>
                    <a:pt x="226" y="181"/>
                  </a:lnTo>
                  <a:lnTo>
                    <a:pt x="248" y="137"/>
                  </a:lnTo>
                  <a:lnTo>
                    <a:pt x="235" y="102"/>
                  </a:lnTo>
                  <a:lnTo>
                    <a:pt x="200" y="44"/>
                  </a:lnTo>
                  <a:lnTo>
                    <a:pt x="142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209680" y="228600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and describe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mak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culations and jou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involving promiss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84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295280" y="160020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issory not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n unconditional promise to pay a definite sum of money on demand or at a futur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igner of the not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71600" y="380880"/>
            <a:ext cx="694368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990720" y="1143000"/>
            <a:ext cx="7856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tity to whom payment is to be made is called 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e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regards all promissory notes it holds that are due in less than one year as notes receivable in the current asset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ard them as notes payable in the current liability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447920" y="152280"/>
            <a:ext cx="6943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219320" y="152388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companies accept notes receivable in settlement of past-due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roduce interes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represent a stronger legal claim than do accounts receiv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or discounting notes is a common financ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990720" y="457200"/>
            <a:ext cx="748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19320" y="175248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desirable to have customers who pay their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ompanies develop control procedures and establish a credit depar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1000" y="45720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tt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703440" y="222120"/>
            <a:ext cx="8213760" cy="605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262080"/>
            <a:ext cx="1904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373880" y="915840"/>
            <a:ext cx="1649520" cy="551160"/>
            <a:chOff x="7373880" y="915840"/>
            <a:chExt cx="1649520" cy="551160"/>
          </a:xfrm>
        </p:grpSpPr>
        <p:sp>
          <p:nvSpPr>
            <p:cNvPr id="566" name=""/>
            <p:cNvSpPr txBox="1"/>
            <p:nvPr/>
          </p:nvSpPr>
          <p:spPr>
            <a:xfrm>
              <a:off x="7373880" y="91584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7373880" y="1133640"/>
              <a:ext cx="735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658800" y="2362320"/>
            <a:ext cx="10396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cip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475400" y="268272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y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391520" y="3505320"/>
            <a:ext cx="1649520" cy="766800"/>
            <a:chOff x="7391520" y="3505320"/>
            <a:chExt cx="1649520" cy="766800"/>
          </a:xfrm>
        </p:grpSpPr>
        <p:sp>
          <p:nvSpPr>
            <p:cNvPr id="571" name=""/>
            <p:cNvSpPr txBox="1"/>
            <p:nvPr/>
          </p:nvSpPr>
          <p:spPr>
            <a:xfrm>
              <a:off x="7391520" y="3505320"/>
              <a:ext cx="16495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perio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7391520" y="3722760"/>
              <a:ext cx="1378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s on th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7391520" y="3938760"/>
              <a:ext cx="1457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urity d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7450200" y="4395960"/>
            <a:ext cx="1344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est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475400" y="5092560"/>
            <a:ext cx="7682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k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19280" y="752400"/>
            <a:ext cx="5767920" cy="5002560"/>
          </a:xfrm>
          <a:custGeom>
            <a:avLst/>
            <a:gdLst/>
            <a:ahLst/>
            <a:rect l="0" t="0" r="r" b="b"/>
            <a:pathLst>
              <a:path w="16022" h="13896">
                <a:moveTo>
                  <a:pt x="16022" y="13896"/>
                </a:moveTo>
                <a:lnTo>
                  <a:pt x="16022" y="0"/>
                </a:lnTo>
                <a:lnTo>
                  <a:pt x="0" y="0"/>
                </a:lnTo>
                <a:lnTo>
                  <a:pt x="0" y="13896"/>
                </a:lnTo>
                <a:lnTo>
                  <a:pt x="16022" y="1389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463920" y="887400"/>
            <a:ext cx="21798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00920" y="1655640"/>
            <a:ext cx="620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07080" y="1668600"/>
            <a:ext cx="134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75480" y="3503520"/>
            <a:ext cx="8701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ll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6840" y="37576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947960" y="1655640"/>
            <a:ext cx="94788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6040" y="1668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43000" y="2182680"/>
            <a:ext cx="5070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value received, I promise to pay to the order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436840" y="2719440"/>
            <a:ext cx="3992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k County Bank &amp; Trust Comp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33880" y="2960640"/>
            <a:ext cx="17812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ago, Illin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036880" y="4127400"/>
            <a:ext cx="42876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51240" y="4383000"/>
            <a:ext cx="329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036880" y="4413240"/>
            <a:ext cx="43927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us interest at the annual rate of 8 perc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11600" y="54100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10000" y="4950000"/>
            <a:ext cx="510120" cy="540000"/>
          </a:xfrm>
          <a:custGeom>
            <a:avLst/>
            <a:gdLst/>
            <a:ahLst/>
            <a:rect l="0" t="0" r="r" b="b"/>
            <a:pathLst>
              <a:path w="1417" h="1500">
                <a:moveTo>
                  <a:pt x="1417" y="114"/>
                </a:moveTo>
                <a:lnTo>
                  <a:pt x="1417" y="123"/>
                </a:lnTo>
                <a:lnTo>
                  <a:pt x="1417" y="127"/>
                </a:lnTo>
                <a:lnTo>
                  <a:pt x="1417" y="136"/>
                </a:lnTo>
                <a:lnTo>
                  <a:pt x="1417" y="154"/>
                </a:lnTo>
                <a:lnTo>
                  <a:pt x="1417" y="163"/>
                </a:lnTo>
                <a:lnTo>
                  <a:pt x="1417" y="167"/>
                </a:lnTo>
                <a:lnTo>
                  <a:pt x="1417" y="189"/>
                </a:lnTo>
                <a:lnTo>
                  <a:pt x="1417" y="194"/>
                </a:lnTo>
                <a:lnTo>
                  <a:pt x="1408" y="202"/>
                </a:lnTo>
                <a:lnTo>
                  <a:pt x="1408" y="207"/>
                </a:lnTo>
                <a:lnTo>
                  <a:pt x="1408" y="216"/>
                </a:lnTo>
                <a:lnTo>
                  <a:pt x="1399" y="224"/>
                </a:lnTo>
                <a:lnTo>
                  <a:pt x="1399" y="229"/>
                </a:lnTo>
                <a:lnTo>
                  <a:pt x="1395" y="238"/>
                </a:lnTo>
                <a:lnTo>
                  <a:pt x="1395" y="251"/>
                </a:lnTo>
                <a:lnTo>
                  <a:pt x="1386" y="260"/>
                </a:lnTo>
                <a:lnTo>
                  <a:pt x="1369" y="260"/>
                </a:lnTo>
                <a:lnTo>
                  <a:pt x="1364" y="238"/>
                </a:lnTo>
                <a:lnTo>
                  <a:pt x="1364" y="229"/>
                </a:lnTo>
                <a:lnTo>
                  <a:pt x="1364" y="216"/>
                </a:lnTo>
                <a:lnTo>
                  <a:pt x="1364" y="207"/>
                </a:lnTo>
                <a:lnTo>
                  <a:pt x="1364" y="194"/>
                </a:lnTo>
                <a:lnTo>
                  <a:pt x="1369" y="189"/>
                </a:lnTo>
                <a:lnTo>
                  <a:pt x="1369" y="167"/>
                </a:lnTo>
                <a:lnTo>
                  <a:pt x="1369" y="163"/>
                </a:lnTo>
                <a:lnTo>
                  <a:pt x="1369" y="145"/>
                </a:lnTo>
                <a:lnTo>
                  <a:pt x="1369" y="136"/>
                </a:lnTo>
                <a:lnTo>
                  <a:pt x="1369" y="127"/>
                </a:lnTo>
                <a:lnTo>
                  <a:pt x="1364" y="114"/>
                </a:lnTo>
                <a:lnTo>
                  <a:pt x="1360" y="101"/>
                </a:lnTo>
                <a:lnTo>
                  <a:pt x="1351" y="92"/>
                </a:lnTo>
                <a:lnTo>
                  <a:pt x="1342" y="88"/>
                </a:lnTo>
                <a:lnTo>
                  <a:pt x="1329" y="79"/>
                </a:lnTo>
                <a:lnTo>
                  <a:pt x="1276" y="61"/>
                </a:lnTo>
                <a:lnTo>
                  <a:pt x="1223" y="57"/>
                </a:lnTo>
                <a:lnTo>
                  <a:pt x="1170" y="57"/>
                </a:lnTo>
                <a:lnTo>
                  <a:pt x="1122" y="61"/>
                </a:lnTo>
                <a:lnTo>
                  <a:pt x="1069" y="61"/>
                </a:lnTo>
                <a:lnTo>
                  <a:pt x="1019" y="79"/>
                </a:lnTo>
                <a:lnTo>
                  <a:pt x="966" y="88"/>
                </a:lnTo>
                <a:lnTo>
                  <a:pt x="913" y="114"/>
                </a:lnTo>
                <a:lnTo>
                  <a:pt x="865" y="127"/>
                </a:lnTo>
                <a:lnTo>
                  <a:pt x="816" y="145"/>
                </a:lnTo>
                <a:lnTo>
                  <a:pt x="763" y="167"/>
                </a:lnTo>
                <a:lnTo>
                  <a:pt x="715" y="194"/>
                </a:lnTo>
                <a:lnTo>
                  <a:pt x="662" y="216"/>
                </a:lnTo>
                <a:lnTo>
                  <a:pt x="622" y="238"/>
                </a:lnTo>
                <a:lnTo>
                  <a:pt x="569" y="277"/>
                </a:lnTo>
                <a:lnTo>
                  <a:pt x="530" y="299"/>
                </a:lnTo>
                <a:lnTo>
                  <a:pt x="525" y="299"/>
                </a:lnTo>
                <a:lnTo>
                  <a:pt x="525" y="304"/>
                </a:lnTo>
                <a:lnTo>
                  <a:pt x="516" y="304"/>
                </a:lnTo>
                <a:lnTo>
                  <a:pt x="516" y="313"/>
                </a:lnTo>
                <a:lnTo>
                  <a:pt x="508" y="321"/>
                </a:lnTo>
                <a:lnTo>
                  <a:pt x="503" y="330"/>
                </a:lnTo>
                <a:lnTo>
                  <a:pt x="503" y="339"/>
                </a:lnTo>
                <a:lnTo>
                  <a:pt x="503" y="348"/>
                </a:lnTo>
                <a:lnTo>
                  <a:pt x="503" y="357"/>
                </a:lnTo>
                <a:lnTo>
                  <a:pt x="503" y="366"/>
                </a:lnTo>
                <a:lnTo>
                  <a:pt x="508" y="374"/>
                </a:lnTo>
                <a:lnTo>
                  <a:pt x="516" y="374"/>
                </a:lnTo>
                <a:lnTo>
                  <a:pt x="565" y="432"/>
                </a:lnTo>
                <a:lnTo>
                  <a:pt x="622" y="467"/>
                </a:lnTo>
                <a:lnTo>
                  <a:pt x="662" y="511"/>
                </a:lnTo>
                <a:lnTo>
                  <a:pt x="728" y="551"/>
                </a:lnTo>
                <a:lnTo>
                  <a:pt x="772" y="586"/>
                </a:lnTo>
                <a:lnTo>
                  <a:pt x="843" y="630"/>
                </a:lnTo>
                <a:lnTo>
                  <a:pt x="882" y="670"/>
                </a:lnTo>
                <a:lnTo>
                  <a:pt x="940" y="718"/>
                </a:lnTo>
                <a:lnTo>
                  <a:pt x="993" y="763"/>
                </a:lnTo>
                <a:lnTo>
                  <a:pt x="1037" y="807"/>
                </a:lnTo>
                <a:lnTo>
                  <a:pt x="1091" y="865"/>
                </a:lnTo>
                <a:lnTo>
                  <a:pt x="1126" y="918"/>
                </a:lnTo>
                <a:lnTo>
                  <a:pt x="1166" y="979"/>
                </a:lnTo>
                <a:lnTo>
                  <a:pt x="1192" y="1046"/>
                </a:lnTo>
                <a:lnTo>
                  <a:pt x="1223" y="1112"/>
                </a:lnTo>
                <a:lnTo>
                  <a:pt x="1245" y="1187"/>
                </a:lnTo>
                <a:lnTo>
                  <a:pt x="1241" y="1218"/>
                </a:lnTo>
                <a:lnTo>
                  <a:pt x="1241" y="1257"/>
                </a:lnTo>
                <a:lnTo>
                  <a:pt x="1223" y="1284"/>
                </a:lnTo>
                <a:lnTo>
                  <a:pt x="1210" y="1301"/>
                </a:lnTo>
                <a:lnTo>
                  <a:pt x="1188" y="1328"/>
                </a:lnTo>
                <a:lnTo>
                  <a:pt x="1179" y="1345"/>
                </a:lnTo>
                <a:lnTo>
                  <a:pt x="1157" y="1368"/>
                </a:lnTo>
                <a:lnTo>
                  <a:pt x="1126" y="1381"/>
                </a:lnTo>
                <a:lnTo>
                  <a:pt x="1108" y="1394"/>
                </a:lnTo>
                <a:lnTo>
                  <a:pt x="1082" y="1412"/>
                </a:lnTo>
                <a:lnTo>
                  <a:pt x="1054" y="1420"/>
                </a:lnTo>
                <a:lnTo>
                  <a:pt x="1024" y="1429"/>
                </a:lnTo>
                <a:lnTo>
                  <a:pt x="1006" y="1442"/>
                </a:lnTo>
                <a:lnTo>
                  <a:pt x="975" y="1447"/>
                </a:lnTo>
                <a:lnTo>
                  <a:pt x="957" y="1456"/>
                </a:lnTo>
                <a:lnTo>
                  <a:pt x="931" y="1465"/>
                </a:lnTo>
                <a:lnTo>
                  <a:pt x="874" y="1473"/>
                </a:lnTo>
                <a:lnTo>
                  <a:pt x="812" y="1482"/>
                </a:lnTo>
                <a:lnTo>
                  <a:pt x="755" y="1491"/>
                </a:lnTo>
                <a:lnTo>
                  <a:pt x="688" y="1491"/>
                </a:lnTo>
                <a:lnTo>
                  <a:pt x="631" y="1500"/>
                </a:lnTo>
                <a:lnTo>
                  <a:pt x="565" y="1500"/>
                </a:lnTo>
                <a:lnTo>
                  <a:pt x="494" y="1500"/>
                </a:lnTo>
                <a:lnTo>
                  <a:pt x="433" y="1491"/>
                </a:lnTo>
                <a:lnTo>
                  <a:pt x="371" y="1482"/>
                </a:lnTo>
                <a:lnTo>
                  <a:pt x="308" y="1465"/>
                </a:lnTo>
                <a:lnTo>
                  <a:pt x="246" y="1447"/>
                </a:lnTo>
                <a:lnTo>
                  <a:pt x="194" y="1429"/>
                </a:lnTo>
                <a:lnTo>
                  <a:pt x="141" y="1403"/>
                </a:lnTo>
                <a:lnTo>
                  <a:pt x="88" y="1359"/>
                </a:lnTo>
                <a:lnTo>
                  <a:pt x="48" y="1319"/>
                </a:lnTo>
                <a:lnTo>
                  <a:pt x="0" y="1275"/>
                </a:lnTo>
                <a:lnTo>
                  <a:pt x="0" y="1266"/>
                </a:lnTo>
                <a:lnTo>
                  <a:pt x="0" y="1244"/>
                </a:lnTo>
                <a:lnTo>
                  <a:pt x="0" y="1235"/>
                </a:lnTo>
                <a:lnTo>
                  <a:pt x="0" y="1218"/>
                </a:lnTo>
                <a:lnTo>
                  <a:pt x="0" y="1213"/>
                </a:lnTo>
                <a:lnTo>
                  <a:pt x="0" y="1200"/>
                </a:lnTo>
                <a:lnTo>
                  <a:pt x="0" y="1191"/>
                </a:lnTo>
                <a:lnTo>
                  <a:pt x="0" y="1173"/>
                </a:lnTo>
                <a:lnTo>
                  <a:pt x="0" y="1165"/>
                </a:lnTo>
                <a:lnTo>
                  <a:pt x="0" y="1156"/>
                </a:lnTo>
                <a:lnTo>
                  <a:pt x="8" y="1143"/>
                </a:lnTo>
                <a:lnTo>
                  <a:pt x="8" y="1134"/>
                </a:lnTo>
                <a:lnTo>
                  <a:pt x="17" y="1125"/>
                </a:lnTo>
                <a:lnTo>
                  <a:pt x="22" y="1112"/>
                </a:lnTo>
                <a:lnTo>
                  <a:pt x="30" y="1099"/>
                </a:lnTo>
                <a:lnTo>
                  <a:pt x="39" y="1090"/>
                </a:lnTo>
                <a:lnTo>
                  <a:pt x="48" y="1081"/>
                </a:lnTo>
                <a:lnTo>
                  <a:pt x="48" y="1076"/>
                </a:lnTo>
                <a:lnTo>
                  <a:pt x="52" y="1076"/>
                </a:lnTo>
                <a:lnTo>
                  <a:pt x="57" y="1068"/>
                </a:lnTo>
                <a:lnTo>
                  <a:pt x="66" y="1063"/>
                </a:lnTo>
                <a:lnTo>
                  <a:pt x="74" y="1054"/>
                </a:lnTo>
                <a:lnTo>
                  <a:pt x="79" y="1046"/>
                </a:lnTo>
                <a:lnTo>
                  <a:pt x="88" y="1041"/>
                </a:lnTo>
                <a:lnTo>
                  <a:pt x="97" y="1041"/>
                </a:lnTo>
                <a:lnTo>
                  <a:pt x="97" y="1028"/>
                </a:lnTo>
                <a:lnTo>
                  <a:pt x="105" y="1019"/>
                </a:lnTo>
                <a:lnTo>
                  <a:pt x="110" y="1019"/>
                </a:lnTo>
                <a:lnTo>
                  <a:pt x="119" y="1041"/>
                </a:lnTo>
                <a:lnTo>
                  <a:pt x="136" y="1019"/>
                </a:lnTo>
                <a:lnTo>
                  <a:pt x="141" y="1010"/>
                </a:lnTo>
                <a:lnTo>
                  <a:pt x="154" y="997"/>
                </a:lnTo>
                <a:lnTo>
                  <a:pt x="167" y="988"/>
                </a:lnTo>
                <a:lnTo>
                  <a:pt x="176" y="979"/>
                </a:lnTo>
                <a:lnTo>
                  <a:pt x="185" y="971"/>
                </a:lnTo>
                <a:lnTo>
                  <a:pt x="202" y="962"/>
                </a:lnTo>
                <a:lnTo>
                  <a:pt x="216" y="953"/>
                </a:lnTo>
                <a:lnTo>
                  <a:pt x="229" y="944"/>
                </a:lnTo>
                <a:lnTo>
                  <a:pt x="233" y="944"/>
                </a:lnTo>
                <a:lnTo>
                  <a:pt x="246" y="940"/>
                </a:lnTo>
                <a:lnTo>
                  <a:pt x="260" y="940"/>
                </a:lnTo>
                <a:lnTo>
                  <a:pt x="273" y="935"/>
                </a:lnTo>
                <a:lnTo>
                  <a:pt x="286" y="935"/>
                </a:lnTo>
                <a:lnTo>
                  <a:pt x="299" y="935"/>
                </a:lnTo>
                <a:lnTo>
                  <a:pt x="313" y="935"/>
                </a:lnTo>
                <a:lnTo>
                  <a:pt x="321" y="927"/>
                </a:lnTo>
                <a:lnTo>
                  <a:pt x="321" y="918"/>
                </a:lnTo>
                <a:lnTo>
                  <a:pt x="326" y="918"/>
                </a:lnTo>
                <a:lnTo>
                  <a:pt x="326" y="909"/>
                </a:lnTo>
                <a:lnTo>
                  <a:pt x="335" y="909"/>
                </a:lnTo>
                <a:lnTo>
                  <a:pt x="335" y="900"/>
                </a:lnTo>
                <a:lnTo>
                  <a:pt x="343" y="887"/>
                </a:lnTo>
                <a:lnTo>
                  <a:pt x="352" y="887"/>
                </a:lnTo>
                <a:lnTo>
                  <a:pt x="362" y="900"/>
                </a:lnTo>
                <a:lnTo>
                  <a:pt x="343" y="918"/>
                </a:lnTo>
                <a:lnTo>
                  <a:pt x="321" y="940"/>
                </a:lnTo>
                <a:lnTo>
                  <a:pt x="299" y="953"/>
                </a:lnTo>
                <a:lnTo>
                  <a:pt x="282" y="971"/>
                </a:lnTo>
                <a:lnTo>
                  <a:pt x="251" y="988"/>
                </a:lnTo>
                <a:lnTo>
                  <a:pt x="233" y="1006"/>
                </a:lnTo>
                <a:lnTo>
                  <a:pt x="207" y="1019"/>
                </a:lnTo>
                <a:lnTo>
                  <a:pt x="185" y="1046"/>
                </a:lnTo>
                <a:lnTo>
                  <a:pt x="158" y="1063"/>
                </a:lnTo>
                <a:lnTo>
                  <a:pt x="141" y="1076"/>
                </a:lnTo>
                <a:lnTo>
                  <a:pt x="119" y="1099"/>
                </a:lnTo>
                <a:lnTo>
                  <a:pt x="105" y="1125"/>
                </a:lnTo>
                <a:lnTo>
                  <a:pt x="88" y="1147"/>
                </a:lnTo>
                <a:lnTo>
                  <a:pt x="74" y="1187"/>
                </a:lnTo>
                <a:lnTo>
                  <a:pt x="57" y="1213"/>
                </a:lnTo>
                <a:lnTo>
                  <a:pt x="57" y="1257"/>
                </a:lnTo>
                <a:lnTo>
                  <a:pt x="110" y="1293"/>
                </a:lnTo>
                <a:lnTo>
                  <a:pt x="167" y="1337"/>
                </a:lnTo>
                <a:lnTo>
                  <a:pt x="233" y="1368"/>
                </a:lnTo>
                <a:lnTo>
                  <a:pt x="291" y="1394"/>
                </a:lnTo>
                <a:lnTo>
                  <a:pt x="362" y="1412"/>
                </a:lnTo>
                <a:lnTo>
                  <a:pt x="433" y="1429"/>
                </a:lnTo>
                <a:lnTo>
                  <a:pt x="503" y="1429"/>
                </a:lnTo>
                <a:lnTo>
                  <a:pt x="574" y="1434"/>
                </a:lnTo>
                <a:lnTo>
                  <a:pt x="649" y="1429"/>
                </a:lnTo>
                <a:lnTo>
                  <a:pt x="724" y="1420"/>
                </a:lnTo>
                <a:lnTo>
                  <a:pt x="785" y="1412"/>
                </a:lnTo>
                <a:lnTo>
                  <a:pt x="860" y="1394"/>
                </a:lnTo>
                <a:lnTo>
                  <a:pt x="931" y="1368"/>
                </a:lnTo>
                <a:lnTo>
                  <a:pt x="993" y="1354"/>
                </a:lnTo>
                <a:lnTo>
                  <a:pt x="1054" y="1319"/>
                </a:lnTo>
                <a:lnTo>
                  <a:pt x="1117" y="1301"/>
                </a:lnTo>
                <a:lnTo>
                  <a:pt x="1122" y="1293"/>
                </a:lnTo>
                <a:lnTo>
                  <a:pt x="1126" y="1284"/>
                </a:lnTo>
                <a:lnTo>
                  <a:pt x="1135" y="1275"/>
                </a:lnTo>
                <a:lnTo>
                  <a:pt x="1144" y="1266"/>
                </a:lnTo>
                <a:lnTo>
                  <a:pt x="1157" y="1257"/>
                </a:lnTo>
                <a:lnTo>
                  <a:pt x="1166" y="1235"/>
                </a:lnTo>
                <a:lnTo>
                  <a:pt x="1170" y="1226"/>
                </a:lnTo>
                <a:lnTo>
                  <a:pt x="1170" y="1218"/>
                </a:lnTo>
                <a:lnTo>
                  <a:pt x="1179" y="1209"/>
                </a:lnTo>
                <a:lnTo>
                  <a:pt x="1183" y="1200"/>
                </a:lnTo>
                <a:lnTo>
                  <a:pt x="1183" y="1187"/>
                </a:lnTo>
                <a:lnTo>
                  <a:pt x="1183" y="1173"/>
                </a:lnTo>
                <a:lnTo>
                  <a:pt x="1183" y="1156"/>
                </a:lnTo>
                <a:lnTo>
                  <a:pt x="1183" y="1147"/>
                </a:lnTo>
                <a:lnTo>
                  <a:pt x="1183" y="1134"/>
                </a:lnTo>
                <a:lnTo>
                  <a:pt x="1179" y="1121"/>
                </a:lnTo>
                <a:lnTo>
                  <a:pt x="1152" y="1063"/>
                </a:lnTo>
                <a:lnTo>
                  <a:pt x="1117" y="1010"/>
                </a:lnTo>
                <a:lnTo>
                  <a:pt x="1082" y="953"/>
                </a:lnTo>
                <a:lnTo>
                  <a:pt x="1037" y="909"/>
                </a:lnTo>
                <a:lnTo>
                  <a:pt x="1002" y="860"/>
                </a:lnTo>
                <a:lnTo>
                  <a:pt x="957" y="816"/>
                </a:lnTo>
                <a:lnTo>
                  <a:pt x="913" y="781"/>
                </a:lnTo>
                <a:lnTo>
                  <a:pt x="874" y="732"/>
                </a:lnTo>
                <a:lnTo>
                  <a:pt x="825" y="696"/>
                </a:lnTo>
                <a:lnTo>
                  <a:pt x="772" y="661"/>
                </a:lnTo>
                <a:lnTo>
                  <a:pt x="728" y="626"/>
                </a:lnTo>
                <a:lnTo>
                  <a:pt x="688" y="586"/>
                </a:lnTo>
                <a:lnTo>
                  <a:pt x="644" y="560"/>
                </a:lnTo>
                <a:lnTo>
                  <a:pt x="591" y="515"/>
                </a:lnTo>
                <a:lnTo>
                  <a:pt x="543" y="485"/>
                </a:lnTo>
                <a:lnTo>
                  <a:pt x="503" y="449"/>
                </a:lnTo>
                <a:lnTo>
                  <a:pt x="486" y="440"/>
                </a:lnTo>
                <a:lnTo>
                  <a:pt x="481" y="436"/>
                </a:lnTo>
                <a:lnTo>
                  <a:pt x="477" y="423"/>
                </a:lnTo>
                <a:lnTo>
                  <a:pt x="468" y="414"/>
                </a:lnTo>
                <a:lnTo>
                  <a:pt x="459" y="405"/>
                </a:lnTo>
                <a:lnTo>
                  <a:pt x="455" y="383"/>
                </a:lnTo>
                <a:lnTo>
                  <a:pt x="455" y="374"/>
                </a:lnTo>
                <a:lnTo>
                  <a:pt x="446" y="366"/>
                </a:lnTo>
                <a:lnTo>
                  <a:pt x="446" y="348"/>
                </a:lnTo>
                <a:lnTo>
                  <a:pt x="446" y="330"/>
                </a:lnTo>
                <a:lnTo>
                  <a:pt x="446" y="321"/>
                </a:lnTo>
                <a:lnTo>
                  <a:pt x="446" y="304"/>
                </a:lnTo>
                <a:lnTo>
                  <a:pt x="446" y="291"/>
                </a:lnTo>
                <a:lnTo>
                  <a:pt x="455" y="277"/>
                </a:lnTo>
                <a:lnTo>
                  <a:pt x="455" y="268"/>
                </a:lnTo>
                <a:lnTo>
                  <a:pt x="459" y="251"/>
                </a:lnTo>
                <a:lnTo>
                  <a:pt x="516" y="224"/>
                </a:lnTo>
                <a:lnTo>
                  <a:pt x="565" y="194"/>
                </a:lnTo>
                <a:lnTo>
                  <a:pt x="622" y="167"/>
                </a:lnTo>
                <a:lnTo>
                  <a:pt x="662" y="145"/>
                </a:lnTo>
                <a:lnTo>
                  <a:pt x="724" y="123"/>
                </a:lnTo>
                <a:lnTo>
                  <a:pt x="763" y="92"/>
                </a:lnTo>
                <a:lnTo>
                  <a:pt x="816" y="79"/>
                </a:lnTo>
                <a:lnTo>
                  <a:pt x="874" y="57"/>
                </a:lnTo>
                <a:lnTo>
                  <a:pt x="931" y="44"/>
                </a:lnTo>
                <a:lnTo>
                  <a:pt x="975" y="22"/>
                </a:lnTo>
                <a:lnTo>
                  <a:pt x="1032" y="17"/>
                </a:lnTo>
                <a:lnTo>
                  <a:pt x="1091" y="8"/>
                </a:lnTo>
                <a:lnTo>
                  <a:pt x="1144" y="8"/>
                </a:lnTo>
                <a:lnTo>
                  <a:pt x="1192" y="0"/>
                </a:lnTo>
                <a:lnTo>
                  <a:pt x="1258" y="8"/>
                </a:lnTo>
                <a:lnTo>
                  <a:pt x="1320" y="17"/>
                </a:lnTo>
                <a:lnTo>
                  <a:pt x="1329" y="17"/>
                </a:lnTo>
                <a:lnTo>
                  <a:pt x="1338" y="22"/>
                </a:lnTo>
                <a:lnTo>
                  <a:pt x="1342" y="22"/>
                </a:lnTo>
                <a:lnTo>
                  <a:pt x="1351" y="30"/>
                </a:lnTo>
                <a:lnTo>
                  <a:pt x="1360" y="30"/>
                </a:lnTo>
                <a:lnTo>
                  <a:pt x="1364" y="44"/>
                </a:lnTo>
                <a:lnTo>
                  <a:pt x="1369" y="44"/>
                </a:lnTo>
                <a:lnTo>
                  <a:pt x="1369" y="48"/>
                </a:lnTo>
                <a:lnTo>
                  <a:pt x="1377" y="57"/>
                </a:lnTo>
                <a:lnTo>
                  <a:pt x="1386" y="61"/>
                </a:lnTo>
                <a:lnTo>
                  <a:pt x="1395" y="61"/>
                </a:lnTo>
                <a:lnTo>
                  <a:pt x="1399" y="79"/>
                </a:lnTo>
                <a:lnTo>
                  <a:pt x="1408" y="79"/>
                </a:lnTo>
                <a:lnTo>
                  <a:pt x="1408" y="88"/>
                </a:lnTo>
                <a:lnTo>
                  <a:pt x="1417" y="101"/>
                </a:lnTo>
                <a:lnTo>
                  <a:pt x="1417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308480" y="5119560"/>
            <a:ext cx="470160" cy="260640"/>
          </a:xfrm>
          <a:custGeom>
            <a:avLst/>
            <a:gdLst/>
            <a:ahLst/>
            <a:rect l="0" t="0" r="r" b="b"/>
            <a:pathLst>
              <a:path w="1306" h="724">
                <a:moveTo>
                  <a:pt x="573" y="565"/>
                </a:moveTo>
                <a:lnTo>
                  <a:pt x="564" y="556"/>
                </a:lnTo>
                <a:lnTo>
                  <a:pt x="560" y="547"/>
                </a:lnTo>
                <a:lnTo>
                  <a:pt x="555" y="547"/>
                </a:lnTo>
                <a:lnTo>
                  <a:pt x="555" y="543"/>
                </a:lnTo>
                <a:lnTo>
                  <a:pt x="546" y="534"/>
                </a:lnTo>
                <a:lnTo>
                  <a:pt x="546" y="530"/>
                </a:lnTo>
                <a:lnTo>
                  <a:pt x="537" y="530"/>
                </a:lnTo>
                <a:lnTo>
                  <a:pt x="537" y="521"/>
                </a:lnTo>
                <a:lnTo>
                  <a:pt x="533" y="521"/>
                </a:lnTo>
                <a:lnTo>
                  <a:pt x="529" y="530"/>
                </a:lnTo>
                <a:lnTo>
                  <a:pt x="520" y="534"/>
                </a:lnTo>
                <a:lnTo>
                  <a:pt x="511" y="534"/>
                </a:lnTo>
                <a:lnTo>
                  <a:pt x="502" y="543"/>
                </a:lnTo>
                <a:lnTo>
                  <a:pt x="498" y="543"/>
                </a:lnTo>
                <a:lnTo>
                  <a:pt x="485" y="547"/>
                </a:lnTo>
                <a:lnTo>
                  <a:pt x="476" y="556"/>
                </a:lnTo>
                <a:lnTo>
                  <a:pt x="467" y="556"/>
                </a:lnTo>
                <a:lnTo>
                  <a:pt x="463" y="565"/>
                </a:lnTo>
                <a:lnTo>
                  <a:pt x="454" y="565"/>
                </a:lnTo>
                <a:lnTo>
                  <a:pt x="449" y="574"/>
                </a:lnTo>
                <a:lnTo>
                  <a:pt x="440" y="574"/>
                </a:lnTo>
                <a:lnTo>
                  <a:pt x="440" y="583"/>
                </a:lnTo>
                <a:lnTo>
                  <a:pt x="432" y="583"/>
                </a:lnTo>
                <a:lnTo>
                  <a:pt x="423" y="587"/>
                </a:lnTo>
                <a:lnTo>
                  <a:pt x="405" y="596"/>
                </a:lnTo>
                <a:lnTo>
                  <a:pt x="392" y="596"/>
                </a:lnTo>
                <a:lnTo>
                  <a:pt x="374" y="605"/>
                </a:lnTo>
                <a:lnTo>
                  <a:pt x="366" y="613"/>
                </a:lnTo>
                <a:lnTo>
                  <a:pt x="352" y="613"/>
                </a:lnTo>
                <a:lnTo>
                  <a:pt x="343" y="622"/>
                </a:lnTo>
                <a:lnTo>
                  <a:pt x="326" y="622"/>
                </a:lnTo>
                <a:lnTo>
                  <a:pt x="317" y="622"/>
                </a:lnTo>
                <a:lnTo>
                  <a:pt x="304" y="622"/>
                </a:lnTo>
                <a:lnTo>
                  <a:pt x="286" y="622"/>
                </a:lnTo>
                <a:lnTo>
                  <a:pt x="282" y="613"/>
                </a:lnTo>
                <a:lnTo>
                  <a:pt x="268" y="613"/>
                </a:lnTo>
                <a:lnTo>
                  <a:pt x="251" y="605"/>
                </a:lnTo>
                <a:lnTo>
                  <a:pt x="251" y="596"/>
                </a:lnTo>
                <a:lnTo>
                  <a:pt x="238" y="587"/>
                </a:lnTo>
                <a:lnTo>
                  <a:pt x="224" y="574"/>
                </a:lnTo>
                <a:lnTo>
                  <a:pt x="216" y="583"/>
                </a:lnTo>
                <a:lnTo>
                  <a:pt x="207" y="587"/>
                </a:lnTo>
                <a:lnTo>
                  <a:pt x="194" y="596"/>
                </a:lnTo>
                <a:lnTo>
                  <a:pt x="185" y="605"/>
                </a:lnTo>
                <a:lnTo>
                  <a:pt x="167" y="613"/>
                </a:lnTo>
                <a:lnTo>
                  <a:pt x="163" y="622"/>
                </a:lnTo>
                <a:lnTo>
                  <a:pt x="149" y="622"/>
                </a:lnTo>
                <a:lnTo>
                  <a:pt x="132" y="631"/>
                </a:lnTo>
                <a:lnTo>
                  <a:pt x="123" y="631"/>
                </a:lnTo>
                <a:lnTo>
                  <a:pt x="119" y="640"/>
                </a:lnTo>
                <a:lnTo>
                  <a:pt x="105" y="640"/>
                </a:lnTo>
                <a:lnTo>
                  <a:pt x="88" y="640"/>
                </a:lnTo>
                <a:lnTo>
                  <a:pt x="74" y="640"/>
                </a:lnTo>
                <a:lnTo>
                  <a:pt x="57" y="631"/>
                </a:lnTo>
                <a:lnTo>
                  <a:pt x="44" y="631"/>
                </a:lnTo>
                <a:lnTo>
                  <a:pt x="35" y="622"/>
                </a:lnTo>
                <a:lnTo>
                  <a:pt x="26" y="613"/>
                </a:lnTo>
                <a:lnTo>
                  <a:pt x="17" y="596"/>
                </a:lnTo>
                <a:lnTo>
                  <a:pt x="17" y="587"/>
                </a:lnTo>
                <a:lnTo>
                  <a:pt x="8" y="574"/>
                </a:lnTo>
                <a:lnTo>
                  <a:pt x="8" y="556"/>
                </a:lnTo>
                <a:lnTo>
                  <a:pt x="0" y="543"/>
                </a:lnTo>
                <a:lnTo>
                  <a:pt x="0" y="530"/>
                </a:lnTo>
                <a:lnTo>
                  <a:pt x="0" y="512"/>
                </a:lnTo>
                <a:lnTo>
                  <a:pt x="0" y="494"/>
                </a:lnTo>
                <a:lnTo>
                  <a:pt x="8" y="477"/>
                </a:lnTo>
                <a:lnTo>
                  <a:pt x="8" y="464"/>
                </a:lnTo>
                <a:lnTo>
                  <a:pt x="8" y="450"/>
                </a:lnTo>
                <a:lnTo>
                  <a:pt x="17" y="428"/>
                </a:lnTo>
                <a:lnTo>
                  <a:pt x="17" y="419"/>
                </a:lnTo>
                <a:lnTo>
                  <a:pt x="17" y="402"/>
                </a:lnTo>
                <a:lnTo>
                  <a:pt x="26" y="389"/>
                </a:lnTo>
                <a:lnTo>
                  <a:pt x="35" y="389"/>
                </a:lnTo>
                <a:lnTo>
                  <a:pt x="44" y="389"/>
                </a:lnTo>
                <a:lnTo>
                  <a:pt x="44" y="393"/>
                </a:lnTo>
                <a:lnTo>
                  <a:pt x="52" y="393"/>
                </a:lnTo>
                <a:lnTo>
                  <a:pt x="52" y="402"/>
                </a:lnTo>
                <a:lnTo>
                  <a:pt x="57" y="411"/>
                </a:lnTo>
                <a:lnTo>
                  <a:pt x="66" y="411"/>
                </a:lnTo>
                <a:lnTo>
                  <a:pt x="66" y="419"/>
                </a:lnTo>
                <a:lnTo>
                  <a:pt x="74" y="543"/>
                </a:lnTo>
                <a:lnTo>
                  <a:pt x="79" y="543"/>
                </a:lnTo>
                <a:lnTo>
                  <a:pt x="97" y="543"/>
                </a:lnTo>
                <a:lnTo>
                  <a:pt x="105" y="543"/>
                </a:lnTo>
                <a:lnTo>
                  <a:pt x="110" y="543"/>
                </a:lnTo>
                <a:lnTo>
                  <a:pt x="119" y="543"/>
                </a:lnTo>
                <a:lnTo>
                  <a:pt x="123" y="534"/>
                </a:lnTo>
                <a:lnTo>
                  <a:pt x="132" y="534"/>
                </a:lnTo>
                <a:lnTo>
                  <a:pt x="141" y="530"/>
                </a:lnTo>
                <a:lnTo>
                  <a:pt x="149" y="521"/>
                </a:lnTo>
                <a:lnTo>
                  <a:pt x="154" y="521"/>
                </a:lnTo>
                <a:lnTo>
                  <a:pt x="163" y="512"/>
                </a:lnTo>
                <a:lnTo>
                  <a:pt x="167" y="503"/>
                </a:lnTo>
                <a:lnTo>
                  <a:pt x="176" y="494"/>
                </a:lnTo>
                <a:lnTo>
                  <a:pt x="185" y="486"/>
                </a:lnTo>
                <a:lnTo>
                  <a:pt x="185" y="477"/>
                </a:lnTo>
                <a:lnTo>
                  <a:pt x="194" y="472"/>
                </a:lnTo>
                <a:lnTo>
                  <a:pt x="194" y="464"/>
                </a:lnTo>
                <a:lnTo>
                  <a:pt x="194" y="459"/>
                </a:lnTo>
                <a:lnTo>
                  <a:pt x="198" y="450"/>
                </a:lnTo>
                <a:lnTo>
                  <a:pt x="198" y="437"/>
                </a:lnTo>
                <a:lnTo>
                  <a:pt x="198" y="428"/>
                </a:lnTo>
                <a:lnTo>
                  <a:pt x="198" y="419"/>
                </a:lnTo>
                <a:lnTo>
                  <a:pt x="207" y="411"/>
                </a:lnTo>
                <a:lnTo>
                  <a:pt x="207" y="402"/>
                </a:lnTo>
                <a:lnTo>
                  <a:pt x="207" y="393"/>
                </a:lnTo>
                <a:lnTo>
                  <a:pt x="207" y="389"/>
                </a:lnTo>
                <a:lnTo>
                  <a:pt x="211" y="380"/>
                </a:lnTo>
                <a:lnTo>
                  <a:pt x="211" y="371"/>
                </a:lnTo>
                <a:lnTo>
                  <a:pt x="216" y="371"/>
                </a:lnTo>
                <a:lnTo>
                  <a:pt x="224" y="361"/>
                </a:lnTo>
                <a:lnTo>
                  <a:pt x="229" y="361"/>
                </a:lnTo>
                <a:lnTo>
                  <a:pt x="246" y="361"/>
                </a:lnTo>
                <a:lnTo>
                  <a:pt x="251" y="371"/>
                </a:lnTo>
                <a:lnTo>
                  <a:pt x="268" y="389"/>
                </a:lnTo>
                <a:lnTo>
                  <a:pt x="268" y="393"/>
                </a:lnTo>
                <a:lnTo>
                  <a:pt x="277" y="411"/>
                </a:lnTo>
                <a:lnTo>
                  <a:pt x="277" y="419"/>
                </a:lnTo>
                <a:lnTo>
                  <a:pt x="277" y="428"/>
                </a:lnTo>
                <a:lnTo>
                  <a:pt x="268" y="437"/>
                </a:lnTo>
                <a:lnTo>
                  <a:pt x="268" y="459"/>
                </a:lnTo>
                <a:lnTo>
                  <a:pt x="260" y="472"/>
                </a:lnTo>
                <a:lnTo>
                  <a:pt x="260" y="486"/>
                </a:lnTo>
                <a:lnTo>
                  <a:pt x="251" y="494"/>
                </a:lnTo>
                <a:lnTo>
                  <a:pt x="260" y="512"/>
                </a:lnTo>
                <a:lnTo>
                  <a:pt x="260" y="521"/>
                </a:lnTo>
                <a:lnTo>
                  <a:pt x="268" y="530"/>
                </a:lnTo>
                <a:lnTo>
                  <a:pt x="282" y="543"/>
                </a:lnTo>
                <a:lnTo>
                  <a:pt x="295" y="547"/>
                </a:lnTo>
                <a:lnTo>
                  <a:pt x="304" y="547"/>
                </a:lnTo>
                <a:lnTo>
                  <a:pt x="317" y="547"/>
                </a:lnTo>
                <a:lnTo>
                  <a:pt x="335" y="543"/>
                </a:lnTo>
                <a:lnTo>
                  <a:pt x="352" y="543"/>
                </a:lnTo>
                <a:lnTo>
                  <a:pt x="361" y="543"/>
                </a:lnTo>
                <a:lnTo>
                  <a:pt x="370" y="534"/>
                </a:lnTo>
                <a:lnTo>
                  <a:pt x="383" y="530"/>
                </a:lnTo>
                <a:lnTo>
                  <a:pt x="405" y="521"/>
                </a:lnTo>
                <a:lnTo>
                  <a:pt x="423" y="521"/>
                </a:lnTo>
                <a:lnTo>
                  <a:pt x="440" y="512"/>
                </a:lnTo>
                <a:lnTo>
                  <a:pt x="449" y="494"/>
                </a:lnTo>
                <a:lnTo>
                  <a:pt x="463" y="494"/>
                </a:lnTo>
                <a:lnTo>
                  <a:pt x="476" y="486"/>
                </a:lnTo>
                <a:lnTo>
                  <a:pt x="485" y="472"/>
                </a:lnTo>
                <a:lnTo>
                  <a:pt x="498" y="464"/>
                </a:lnTo>
                <a:lnTo>
                  <a:pt x="502" y="459"/>
                </a:lnTo>
                <a:lnTo>
                  <a:pt x="502" y="450"/>
                </a:lnTo>
                <a:lnTo>
                  <a:pt x="502" y="437"/>
                </a:lnTo>
                <a:lnTo>
                  <a:pt x="498" y="428"/>
                </a:lnTo>
                <a:lnTo>
                  <a:pt x="498" y="424"/>
                </a:lnTo>
                <a:lnTo>
                  <a:pt x="498" y="419"/>
                </a:lnTo>
                <a:lnTo>
                  <a:pt x="498" y="411"/>
                </a:lnTo>
                <a:lnTo>
                  <a:pt x="498" y="402"/>
                </a:lnTo>
                <a:lnTo>
                  <a:pt x="498" y="393"/>
                </a:lnTo>
                <a:lnTo>
                  <a:pt x="498" y="389"/>
                </a:lnTo>
                <a:lnTo>
                  <a:pt x="498" y="380"/>
                </a:lnTo>
                <a:lnTo>
                  <a:pt x="498" y="371"/>
                </a:lnTo>
                <a:lnTo>
                  <a:pt x="498" y="361"/>
                </a:lnTo>
                <a:lnTo>
                  <a:pt x="498" y="352"/>
                </a:lnTo>
                <a:lnTo>
                  <a:pt x="498" y="343"/>
                </a:lnTo>
                <a:lnTo>
                  <a:pt x="498" y="335"/>
                </a:lnTo>
                <a:lnTo>
                  <a:pt x="502" y="326"/>
                </a:lnTo>
                <a:lnTo>
                  <a:pt x="502" y="321"/>
                </a:lnTo>
                <a:lnTo>
                  <a:pt x="502" y="313"/>
                </a:lnTo>
                <a:lnTo>
                  <a:pt x="511" y="304"/>
                </a:lnTo>
                <a:lnTo>
                  <a:pt x="520" y="295"/>
                </a:lnTo>
                <a:lnTo>
                  <a:pt x="529" y="286"/>
                </a:lnTo>
                <a:lnTo>
                  <a:pt x="529" y="273"/>
                </a:lnTo>
                <a:lnTo>
                  <a:pt x="533" y="264"/>
                </a:lnTo>
                <a:lnTo>
                  <a:pt x="546" y="255"/>
                </a:lnTo>
                <a:lnTo>
                  <a:pt x="555" y="251"/>
                </a:lnTo>
                <a:lnTo>
                  <a:pt x="560" y="251"/>
                </a:lnTo>
                <a:lnTo>
                  <a:pt x="573" y="251"/>
                </a:lnTo>
                <a:lnTo>
                  <a:pt x="582" y="251"/>
                </a:lnTo>
                <a:lnTo>
                  <a:pt x="590" y="255"/>
                </a:lnTo>
                <a:lnTo>
                  <a:pt x="604" y="255"/>
                </a:lnTo>
                <a:lnTo>
                  <a:pt x="612" y="273"/>
                </a:lnTo>
                <a:lnTo>
                  <a:pt x="621" y="295"/>
                </a:lnTo>
                <a:lnTo>
                  <a:pt x="626" y="304"/>
                </a:lnTo>
                <a:lnTo>
                  <a:pt x="635" y="313"/>
                </a:lnTo>
                <a:lnTo>
                  <a:pt x="635" y="326"/>
                </a:lnTo>
                <a:lnTo>
                  <a:pt x="643" y="352"/>
                </a:lnTo>
                <a:lnTo>
                  <a:pt x="643" y="361"/>
                </a:lnTo>
                <a:lnTo>
                  <a:pt x="643" y="389"/>
                </a:lnTo>
                <a:lnTo>
                  <a:pt x="635" y="393"/>
                </a:lnTo>
                <a:lnTo>
                  <a:pt x="635" y="411"/>
                </a:lnTo>
                <a:lnTo>
                  <a:pt x="626" y="424"/>
                </a:lnTo>
                <a:lnTo>
                  <a:pt x="626" y="437"/>
                </a:lnTo>
                <a:lnTo>
                  <a:pt x="621" y="459"/>
                </a:lnTo>
                <a:lnTo>
                  <a:pt x="612" y="464"/>
                </a:lnTo>
                <a:lnTo>
                  <a:pt x="612" y="472"/>
                </a:lnTo>
                <a:lnTo>
                  <a:pt x="612" y="477"/>
                </a:lnTo>
                <a:lnTo>
                  <a:pt x="604" y="486"/>
                </a:lnTo>
                <a:lnTo>
                  <a:pt x="612" y="503"/>
                </a:lnTo>
                <a:lnTo>
                  <a:pt x="635" y="521"/>
                </a:lnTo>
                <a:lnTo>
                  <a:pt x="652" y="530"/>
                </a:lnTo>
                <a:lnTo>
                  <a:pt x="666" y="534"/>
                </a:lnTo>
                <a:lnTo>
                  <a:pt x="688" y="543"/>
                </a:lnTo>
                <a:lnTo>
                  <a:pt x="702" y="543"/>
                </a:lnTo>
                <a:lnTo>
                  <a:pt x="724" y="543"/>
                </a:lnTo>
                <a:lnTo>
                  <a:pt x="737" y="547"/>
                </a:lnTo>
                <a:lnTo>
                  <a:pt x="755" y="543"/>
                </a:lnTo>
                <a:lnTo>
                  <a:pt x="772" y="543"/>
                </a:lnTo>
                <a:lnTo>
                  <a:pt x="781" y="534"/>
                </a:lnTo>
                <a:lnTo>
                  <a:pt x="799" y="534"/>
                </a:lnTo>
                <a:lnTo>
                  <a:pt x="812" y="521"/>
                </a:lnTo>
                <a:lnTo>
                  <a:pt x="821" y="512"/>
                </a:lnTo>
                <a:lnTo>
                  <a:pt x="838" y="503"/>
                </a:lnTo>
                <a:lnTo>
                  <a:pt x="843" y="494"/>
                </a:lnTo>
                <a:lnTo>
                  <a:pt x="830" y="464"/>
                </a:lnTo>
                <a:lnTo>
                  <a:pt x="821" y="437"/>
                </a:lnTo>
                <a:lnTo>
                  <a:pt x="821" y="419"/>
                </a:lnTo>
                <a:lnTo>
                  <a:pt x="812" y="393"/>
                </a:lnTo>
                <a:lnTo>
                  <a:pt x="803" y="361"/>
                </a:lnTo>
                <a:lnTo>
                  <a:pt x="799" y="335"/>
                </a:lnTo>
                <a:lnTo>
                  <a:pt x="799" y="304"/>
                </a:lnTo>
                <a:lnTo>
                  <a:pt x="799" y="286"/>
                </a:lnTo>
                <a:lnTo>
                  <a:pt x="799" y="255"/>
                </a:lnTo>
                <a:lnTo>
                  <a:pt x="803" y="229"/>
                </a:lnTo>
                <a:lnTo>
                  <a:pt x="803" y="202"/>
                </a:lnTo>
                <a:lnTo>
                  <a:pt x="812" y="176"/>
                </a:lnTo>
                <a:lnTo>
                  <a:pt x="821" y="149"/>
                </a:lnTo>
                <a:lnTo>
                  <a:pt x="830" y="127"/>
                </a:lnTo>
                <a:lnTo>
                  <a:pt x="843" y="101"/>
                </a:lnTo>
                <a:lnTo>
                  <a:pt x="856" y="79"/>
                </a:lnTo>
                <a:lnTo>
                  <a:pt x="856" y="70"/>
                </a:lnTo>
                <a:lnTo>
                  <a:pt x="860" y="57"/>
                </a:lnTo>
                <a:lnTo>
                  <a:pt x="878" y="39"/>
                </a:lnTo>
                <a:lnTo>
                  <a:pt x="896" y="30"/>
                </a:lnTo>
                <a:lnTo>
                  <a:pt x="909" y="26"/>
                </a:lnTo>
                <a:lnTo>
                  <a:pt x="927" y="17"/>
                </a:lnTo>
                <a:lnTo>
                  <a:pt x="940" y="8"/>
                </a:lnTo>
                <a:lnTo>
                  <a:pt x="953" y="0"/>
                </a:lnTo>
                <a:lnTo>
                  <a:pt x="962" y="0"/>
                </a:lnTo>
                <a:lnTo>
                  <a:pt x="975" y="0"/>
                </a:lnTo>
                <a:lnTo>
                  <a:pt x="997" y="0"/>
                </a:lnTo>
                <a:lnTo>
                  <a:pt x="1006" y="8"/>
                </a:lnTo>
                <a:lnTo>
                  <a:pt x="1019" y="17"/>
                </a:lnTo>
                <a:lnTo>
                  <a:pt x="1024" y="30"/>
                </a:lnTo>
                <a:lnTo>
                  <a:pt x="1032" y="48"/>
                </a:lnTo>
                <a:lnTo>
                  <a:pt x="1050" y="61"/>
                </a:lnTo>
                <a:lnTo>
                  <a:pt x="1050" y="92"/>
                </a:lnTo>
                <a:lnTo>
                  <a:pt x="1054" y="127"/>
                </a:lnTo>
                <a:lnTo>
                  <a:pt x="1054" y="158"/>
                </a:lnTo>
                <a:lnTo>
                  <a:pt x="1054" y="180"/>
                </a:lnTo>
                <a:lnTo>
                  <a:pt x="1054" y="211"/>
                </a:lnTo>
                <a:lnTo>
                  <a:pt x="1050" y="246"/>
                </a:lnTo>
                <a:lnTo>
                  <a:pt x="1041" y="273"/>
                </a:lnTo>
                <a:lnTo>
                  <a:pt x="1032" y="304"/>
                </a:lnTo>
                <a:lnTo>
                  <a:pt x="1024" y="326"/>
                </a:lnTo>
                <a:lnTo>
                  <a:pt x="1019" y="361"/>
                </a:lnTo>
                <a:lnTo>
                  <a:pt x="1006" y="393"/>
                </a:lnTo>
                <a:lnTo>
                  <a:pt x="997" y="419"/>
                </a:lnTo>
                <a:lnTo>
                  <a:pt x="984" y="450"/>
                </a:lnTo>
                <a:lnTo>
                  <a:pt x="966" y="472"/>
                </a:lnTo>
                <a:lnTo>
                  <a:pt x="962" y="494"/>
                </a:lnTo>
                <a:lnTo>
                  <a:pt x="953" y="530"/>
                </a:lnTo>
                <a:lnTo>
                  <a:pt x="962" y="543"/>
                </a:lnTo>
                <a:lnTo>
                  <a:pt x="984" y="556"/>
                </a:lnTo>
                <a:lnTo>
                  <a:pt x="1006" y="574"/>
                </a:lnTo>
                <a:lnTo>
                  <a:pt x="1024" y="587"/>
                </a:lnTo>
                <a:lnTo>
                  <a:pt x="1050" y="605"/>
                </a:lnTo>
                <a:lnTo>
                  <a:pt x="1068" y="613"/>
                </a:lnTo>
                <a:lnTo>
                  <a:pt x="1085" y="622"/>
                </a:lnTo>
                <a:lnTo>
                  <a:pt x="1107" y="640"/>
                </a:lnTo>
                <a:lnTo>
                  <a:pt x="1134" y="640"/>
                </a:lnTo>
                <a:lnTo>
                  <a:pt x="1156" y="644"/>
                </a:lnTo>
                <a:lnTo>
                  <a:pt x="1182" y="653"/>
                </a:lnTo>
                <a:lnTo>
                  <a:pt x="1200" y="653"/>
                </a:lnTo>
                <a:lnTo>
                  <a:pt x="1226" y="662"/>
                </a:lnTo>
                <a:lnTo>
                  <a:pt x="1257" y="666"/>
                </a:lnTo>
                <a:lnTo>
                  <a:pt x="1275" y="666"/>
                </a:lnTo>
                <a:lnTo>
                  <a:pt x="1306" y="671"/>
                </a:lnTo>
                <a:lnTo>
                  <a:pt x="1284" y="693"/>
                </a:lnTo>
                <a:lnTo>
                  <a:pt x="1297" y="706"/>
                </a:lnTo>
                <a:lnTo>
                  <a:pt x="1262" y="715"/>
                </a:lnTo>
                <a:lnTo>
                  <a:pt x="1235" y="724"/>
                </a:lnTo>
                <a:lnTo>
                  <a:pt x="1204" y="724"/>
                </a:lnTo>
                <a:lnTo>
                  <a:pt x="1182" y="724"/>
                </a:lnTo>
                <a:lnTo>
                  <a:pt x="1156" y="724"/>
                </a:lnTo>
                <a:lnTo>
                  <a:pt x="1125" y="715"/>
                </a:lnTo>
                <a:lnTo>
                  <a:pt x="1099" y="715"/>
                </a:lnTo>
                <a:lnTo>
                  <a:pt x="1076" y="697"/>
                </a:lnTo>
                <a:lnTo>
                  <a:pt x="1050" y="693"/>
                </a:lnTo>
                <a:lnTo>
                  <a:pt x="1024" y="671"/>
                </a:lnTo>
                <a:lnTo>
                  <a:pt x="997" y="662"/>
                </a:lnTo>
                <a:lnTo>
                  <a:pt x="966" y="644"/>
                </a:lnTo>
                <a:lnTo>
                  <a:pt x="953" y="631"/>
                </a:lnTo>
                <a:lnTo>
                  <a:pt x="931" y="613"/>
                </a:lnTo>
                <a:lnTo>
                  <a:pt x="900" y="587"/>
                </a:lnTo>
                <a:lnTo>
                  <a:pt x="878" y="574"/>
                </a:lnTo>
                <a:lnTo>
                  <a:pt x="860" y="583"/>
                </a:lnTo>
                <a:lnTo>
                  <a:pt x="856" y="587"/>
                </a:lnTo>
                <a:lnTo>
                  <a:pt x="847" y="596"/>
                </a:lnTo>
                <a:lnTo>
                  <a:pt x="838" y="605"/>
                </a:lnTo>
                <a:lnTo>
                  <a:pt x="821" y="613"/>
                </a:lnTo>
                <a:lnTo>
                  <a:pt x="803" y="613"/>
                </a:lnTo>
                <a:lnTo>
                  <a:pt x="790" y="622"/>
                </a:lnTo>
                <a:lnTo>
                  <a:pt x="772" y="622"/>
                </a:lnTo>
                <a:lnTo>
                  <a:pt x="755" y="622"/>
                </a:lnTo>
                <a:lnTo>
                  <a:pt x="741" y="622"/>
                </a:lnTo>
                <a:lnTo>
                  <a:pt x="728" y="622"/>
                </a:lnTo>
                <a:lnTo>
                  <a:pt x="715" y="622"/>
                </a:lnTo>
                <a:lnTo>
                  <a:pt x="702" y="622"/>
                </a:lnTo>
                <a:lnTo>
                  <a:pt x="688" y="622"/>
                </a:lnTo>
                <a:lnTo>
                  <a:pt x="675" y="622"/>
                </a:lnTo>
                <a:lnTo>
                  <a:pt x="666" y="622"/>
                </a:lnTo>
                <a:lnTo>
                  <a:pt x="652" y="613"/>
                </a:lnTo>
                <a:lnTo>
                  <a:pt x="635" y="605"/>
                </a:lnTo>
                <a:lnTo>
                  <a:pt x="626" y="596"/>
                </a:lnTo>
                <a:lnTo>
                  <a:pt x="621" y="596"/>
                </a:lnTo>
                <a:lnTo>
                  <a:pt x="612" y="587"/>
                </a:lnTo>
                <a:lnTo>
                  <a:pt x="604" y="587"/>
                </a:lnTo>
                <a:lnTo>
                  <a:pt x="595" y="583"/>
                </a:lnTo>
                <a:lnTo>
                  <a:pt x="590" y="574"/>
                </a:lnTo>
                <a:lnTo>
                  <a:pt x="582" y="574"/>
                </a:lnTo>
                <a:lnTo>
                  <a:pt x="573" y="5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5154480"/>
            <a:ext cx="32040" cy="114840"/>
          </a:xfrm>
          <a:custGeom>
            <a:avLst/>
            <a:gdLst/>
            <a:ahLst/>
            <a:rect l="0" t="0" r="r" b="b"/>
            <a:pathLst>
              <a:path w="89" h="319">
                <a:moveTo>
                  <a:pt x="67" y="186"/>
                </a:moveTo>
                <a:lnTo>
                  <a:pt x="67" y="195"/>
                </a:lnTo>
                <a:lnTo>
                  <a:pt x="62" y="203"/>
                </a:lnTo>
                <a:lnTo>
                  <a:pt x="62" y="208"/>
                </a:lnTo>
                <a:lnTo>
                  <a:pt x="58" y="221"/>
                </a:lnTo>
                <a:lnTo>
                  <a:pt x="58" y="230"/>
                </a:lnTo>
                <a:lnTo>
                  <a:pt x="49" y="240"/>
                </a:lnTo>
                <a:lnTo>
                  <a:pt x="49" y="248"/>
                </a:lnTo>
                <a:lnTo>
                  <a:pt x="49" y="257"/>
                </a:lnTo>
                <a:lnTo>
                  <a:pt x="45" y="270"/>
                </a:lnTo>
                <a:lnTo>
                  <a:pt x="45" y="275"/>
                </a:lnTo>
                <a:lnTo>
                  <a:pt x="39" y="284"/>
                </a:lnTo>
                <a:lnTo>
                  <a:pt x="35" y="284"/>
                </a:lnTo>
                <a:lnTo>
                  <a:pt x="30" y="297"/>
                </a:lnTo>
                <a:lnTo>
                  <a:pt x="30" y="301"/>
                </a:lnTo>
                <a:lnTo>
                  <a:pt x="26" y="310"/>
                </a:lnTo>
                <a:lnTo>
                  <a:pt x="17" y="319"/>
                </a:lnTo>
                <a:lnTo>
                  <a:pt x="17" y="301"/>
                </a:lnTo>
                <a:lnTo>
                  <a:pt x="8" y="297"/>
                </a:lnTo>
                <a:lnTo>
                  <a:pt x="4" y="284"/>
                </a:lnTo>
                <a:lnTo>
                  <a:pt x="0" y="275"/>
                </a:lnTo>
                <a:lnTo>
                  <a:pt x="0" y="266"/>
                </a:lnTo>
                <a:lnTo>
                  <a:pt x="0" y="248"/>
                </a:lnTo>
                <a:lnTo>
                  <a:pt x="0" y="230"/>
                </a:lnTo>
                <a:lnTo>
                  <a:pt x="0" y="221"/>
                </a:lnTo>
                <a:lnTo>
                  <a:pt x="0" y="203"/>
                </a:lnTo>
                <a:lnTo>
                  <a:pt x="0" y="186"/>
                </a:lnTo>
                <a:lnTo>
                  <a:pt x="0" y="172"/>
                </a:lnTo>
                <a:lnTo>
                  <a:pt x="0" y="159"/>
                </a:lnTo>
                <a:lnTo>
                  <a:pt x="0" y="146"/>
                </a:lnTo>
                <a:lnTo>
                  <a:pt x="4" y="133"/>
                </a:lnTo>
                <a:lnTo>
                  <a:pt x="4" y="115"/>
                </a:lnTo>
                <a:lnTo>
                  <a:pt x="8" y="111"/>
                </a:lnTo>
                <a:lnTo>
                  <a:pt x="8" y="102"/>
                </a:lnTo>
                <a:lnTo>
                  <a:pt x="17" y="93"/>
                </a:lnTo>
                <a:lnTo>
                  <a:pt x="17" y="89"/>
                </a:lnTo>
                <a:lnTo>
                  <a:pt x="17" y="79"/>
                </a:lnTo>
                <a:lnTo>
                  <a:pt x="26" y="61"/>
                </a:lnTo>
                <a:lnTo>
                  <a:pt x="30" y="52"/>
                </a:lnTo>
                <a:lnTo>
                  <a:pt x="30" y="48"/>
                </a:lnTo>
                <a:lnTo>
                  <a:pt x="35" y="44"/>
                </a:lnTo>
                <a:lnTo>
                  <a:pt x="39" y="35"/>
                </a:lnTo>
                <a:lnTo>
                  <a:pt x="45" y="26"/>
                </a:lnTo>
                <a:lnTo>
                  <a:pt x="49" y="22"/>
                </a:lnTo>
                <a:lnTo>
                  <a:pt x="49" y="17"/>
                </a:lnTo>
                <a:lnTo>
                  <a:pt x="58" y="8"/>
                </a:lnTo>
                <a:lnTo>
                  <a:pt x="62" y="8"/>
                </a:lnTo>
                <a:lnTo>
                  <a:pt x="67" y="0"/>
                </a:lnTo>
                <a:lnTo>
                  <a:pt x="71" y="0"/>
                </a:lnTo>
                <a:lnTo>
                  <a:pt x="71" y="8"/>
                </a:lnTo>
                <a:lnTo>
                  <a:pt x="80" y="17"/>
                </a:lnTo>
                <a:lnTo>
                  <a:pt x="84" y="22"/>
                </a:lnTo>
                <a:lnTo>
                  <a:pt x="84" y="35"/>
                </a:lnTo>
                <a:lnTo>
                  <a:pt x="89" y="48"/>
                </a:lnTo>
                <a:lnTo>
                  <a:pt x="89" y="52"/>
                </a:lnTo>
                <a:lnTo>
                  <a:pt x="89" y="70"/>
                </a:lnTo>
                <a:lnTo>
                  <a:pt x="84" y="89"/>
                </a:lnTo>
                <a:lnTo>
                  <a:pt x="84" y="102"/>
                </a:lnTo>
                <a:lnTo>
                  <a:pt x="80" y="111"/>
                </a:lnTo>
                <a:lnTo>
                  <a:pt x="80" y="124"/>
                </a:lnTo>
                <a:lnTo>
                  <a:pt x="71" y="142"/>
                </a:lnTo>
                <a:lnTo>
                  <a:pt x="71" y="155"/>
                </a:lnTo>
                <a:lnTo>
                  <a:pt x="71" y="159"/>
                </a:lnTo>
                <a:lnTo>
                  <a:pt x="71" y="172"/>
                </a:lnTo>
                <a:lnTo>
                  <a:pt x="67" y="186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73680" y="5227560"/>
            <a:ext cx="316440" cy="133560"/>
          </a:xfrm>
          <a:custGeom>
            <a:avLst/>
            <a:gdLst/>
            <a:ahLst/>
            <a:rect l="0" t="0" r="r" b="b"/>
            <a:pathLst>
              <a:path w="879" h="371">
                <a:moveTo>
                  <a:pt x="322" y="57"/>
                </a:moveTo>
                <a:lnTo>
                  <a:pt x="318" y="119"/>
                </a:lnTo>
                <a:lnTo>
                  <a:pt x="309" y="123"/>
                </a:lnTo>
                <a:lnTo>
                  <a:pt x="300" y="132"/>
                </a:lnTo>
                <a:lnTo>
                  <a:pt x="292" y="141"/>
                </a:lnTo>
                <a:lnTo>
                  <a:pt x="292" y="149"/>
                </a:lnTo>
                <a:lnTo>
                  <a:pt x="287" y="154"/>
                </a:lnTo>
                <a:lnTo>
                  <a:pt x="287" y="171"/>
                </a:lnTo>
                <a:lnTo>
                  <a:pt x="278" y="176"/>
                </a:lnTo>
                <a:lnTo>
                  <a:pt x="278" y="186"/>
                </a:lnTo>
                <a:lnTo>
                  <a:pt x="269" y="195"/>
                </a:lnTo>
                <a:lnTo>
                  <a:pt x="269" y="203"/>
                </a:lnTo>
                <a:lnTo>
                  <a:pt x="269" y="212"/>
                </a:lnTo>
                <a:lnTo>
                  <a:pt x="269" y="225"/>
                </a:lnTo>
                <a:lnTo>
                  <a:pt x="269" y="234"/>
                </a:lnTo>
                <a:lnTo>
                  <a:pt x="269" y="247"/>
                </a:lnTo>
                <a:lnTo>
                  <a:pt x="269" y="252"/>
                </a:lnTo>
                <a:lnTo>
                  <a:pt x="278" y="269"/>
                </a:lnTo>
                <a:lnTo>
                  <a:pt x="292" y="252"/>
                </a:lnTo>
                <a:lnTo>
                  <a:pt x="309" y="247"/>
                </a:lnTo>
                <a:lnTo>
                  <a:pt x="318" y="234"/>
                </a:lnTo>
                <a:lnTo>
                  <a:pt x="331" y="217"/>
                </a:lnTo>
                <a:lnTo>
                  <a:pt x="340" y="203"/>
                </a:lnTo>
                <a:lnTo>
                  <a:pt x="344" y="186"/>
                </a:lnTo>
                <a:lnTo>
                  <a:pt x="358" y="176"/>
                </a:lnTo>
                <a:lnTo>
                  <a:pt x="375" y="163"/>
                </a:lnTo>
                <a:lnTo>
                  <a:pt x="380" y="149"/>
                </a:lnTo>
                <a:lnTo>
                  <a:pt x="397" y="132"/>
                </a:lnTo>
                <a:lnTo>
                  <a:pt x="402" y="119"/>
                </a:lnTo>
                <a:lnTo>
                  <a:pt x="415" y="101"/>
                </a:lnTo>
                <a:lnTo>
                  <a:pt x="424" y="97"/>
                </a:lnTo>
                <a:lnTo>
                  <a:pt x="441" y="79"/>
                </a:lnTo>
                <a:lnTo>
                  <a:pt x="446" y="70"/>
                </a:lnTo>
                <a:lnTo>
                  <a:pt x="464" y="57"/>
                </a:lnTo>
                <a:lnTo>
                  <a:pt x="468" y="61"/>
                </a:lnTo>
                <a:lnTo>
                  <a:pt x="481" y="70"/>
                </a:lnTo>
                <a:lnTo>
                  <a:pt x="481" y="79"/>
                </a:lnTo>
                <a:lnTo>
                  <a:pt x="490" y="97"/>
                </a:lnTo>
                <a:lnTo>
                  <a:pt x="499" y="101"/>
                </a:lnTo>
                <a:lnTo>
                  <a:pt x="499" y="110"/>
                </a:lnTo>
                <a:lnTo>
                  <a:pt x="499" y="119"/>
                </a:lnTo>
                <a:lnTo>
                  <a:pt x="503" y="132"/>
                </a:lnTo>
                <a:lnTo>
                  <a:pt x="503" y="141"/>
                </a:lnTo>
                <a:lnTo>
                  <a:pt x="503" y="154"/>
                </a:lnTo>
                <a:lnTo>
                  <a:pt x="503" y="163"/>
                </a:lnTo>
                <a:lnTo>
                  <a:pt x="503" y="171"/>
                </a:lnTo>
                <a:lnTo>
                  <a:pt x="503" y="186"/>
                </a:lnTo>
                <a:lnTo>
                  <a:pt x="512" y="186"/>
                </a:lnTo>
                <a:lnTo>
                  <a:pt x="512" y="203"/>
                </a:lnTo>
                <a:lnTo>
                  <a:pt x="512" y="212"/>
                </a:lnTo>
                <a:lnTo>
                  <a:pt x="521" y="203"/>
                </a:lnTo>
                <a:lnTo>
                  <a:pt x="530" y="195"/>
                </a:lnTo>
                <a:lnTo>
                  <a:pt x="534" y="186"/>
                </a:lnTo>
                <a:lnTo>
                  <a:pt x="538" y="171"/>
                </a:lnTo>
                <a:lnTo>
                  <a:pt x="547" y="163"/>
                </a:lnTo>
                <a:lnTo>
                  <a:pt x="552" y="154"/>
                </a:lnTo>
                <a:lnTo>
                  <a:pt x="552" y="149"/>
                </a:lnTo>
                <a:lnTo>
                  <a:pt x="561" y="141"/>
                </a:lnTo>
                <a:lnTo>
                  <a:pt x="561" y="132"/>
                </a:lnTo>
                <a:lnTo>
                  <a:pt x="569" y="123"/>
                </a:lnTo>
                <a:lnTo>
                  <a:pt x="578" y="119"/>
                </a:lnTo>
                <a:lnTo>
                  <a:pt x="587" y="119"/>
                </a:lnTo>
                <a:lnTo>
                  <a:pt x="591" y="119"/>
                </a:lnTo>
                <a:lnTo>
                  <a:pt x="600" y="119"/>
                </a:lnTo>
                <a:lnTo>
                  <a:pt x="618" y="123"/>
                </a:lnTo>
                <a:lnTo>
                  <a:pt x="627" y="123"/>
                </a:lnTo>
                <a:lnTo>
                  <a:pt x="627" y="132"/>
                </a:lnTo>
                <a:lnTo>
                  <a:pt x="636" y="141"/>
                </a:lnTo>
                <a:lnTo>
                  <a:pt x="636" y="149"/>
                </a:lnTo>
                <a:lnTo>
                  <a:pt x="640" y="154"/>
                </a:lnTo>
                <a:lnTo>
                  <a:pt x="640" y="163"/>
                </a:lnTo>
                <a:lnTo>
                  <a:pt x="640" y="171"/>
                </a:lnTo>
                <a:lnTo>
                  <a:pt x="649" y="176"/>
                </a:lnTo>
                <a:lnTo>
                  <a:pt x="649" y="186"/>
                </a:lnTo>
                <a:lnTo>
                  <a:pt x="649" y="195"/>
                </a:lnTo>
                <a:lnTo>
                  <a:pt x="653" y="203"/>
                </a:lnTo>
                <a:lnTo>
                  <a:pt x="653" y="212"/>
                </a:lnTo>
                <a:lnTo>
                  <a:pt x="663" y="217"/>
                </a:lnTo>
                <a:lnTo>
                  <a:pt x="667" y="225"/>
                </a:lnTo>
                <a:lnTo>
                  <a:pt x="676" y="203"/>
                </a:lnTo>
                <a:lnTo>
                  <a:pt x="685" y="195"/>
                </a:lnTo>
                <a:lnTo>
                  <a:pt x="694" y="186"/>
                </a:lnTo>
                <a:lnTo>
                  <a:pt x="707" y="186"/>
                </a:lnTo>
                <a:lnTo>
                  <a:pt x="711" y="186"/>
                </a:lnTo>
                <a:lnTo>
                  <a:pt x="729" y="186"/>
                </a:lnTo>
                <a:lnTo>
                  <a:pt x="738" y="195"/>
                </a:lnTo>
                <a:lnTo>
                  <a:pt x="756" y="203"/>
                </a:lnTo>
                <a:lnTo>
                  <a:pt x="764" y="217"/>
                </a:lnTo>
                <a:lnTo>
                  <a:pt x="773" y="225"/>
                </a:lnTo>
                <a:lnTo>
                  <a:pt x="791" y="239"/>
                </a:lnTo>
                <a:lnTo>
                  <a:pt x="800" y="247"/>
                </a:lnTo>
                <a:lnTo>
                  <a:pt x="817" y="252"/>
                </a:lnTo>
                <a:lnTo>
                  <a:pt x="835" y="252"/>
                </a:lnTo>
                <a:lnTo>
                  <a:pt x="839" y="261"/>
                </a:lnTo>
                <a:lnTo>
                  <a:pt x="857" y="252"/>
                </a:lnTo>
                <a:lnTo>
                  <a:pt x="857" y="261"/>
                </a:lnTo>
                <a:lnTo>
                  <a:pt x="861" y="261"/>
                </a:lnTo>
                <a:lnTo>
                  <a:pt x="861" y="269"/>
                </a:lnTo>
                <a:lnTo>
                  <a:pt x="870" y="269"/>
                </a:lnTo>
                <a:lnTo>
                  <a:pt x="870" y="278"/>
                </a:lnTo>
                <a:lnTo>
                  <a:pt x="879" y="278"/>
                </a:lnTo>
                <a:lnTo>
                  <a:pt x="879" y="287"/>
                </a:lnTo>
                <a:lnTo>
                  <a:pt x="879" y="296"/>
                </a:lnTo>
                <a:lnTo>
                  <a:pt x="879" y="305"/>
                </a:lnTo>
                <a:lnTo>
                  <a:pt x="870" y="309"/>
                </a:lnTo>
                <a:lnTo>
                  <a:pt x="861" y="314"/>
                </a:lnTo>
                <a:lnTo>
                  <a:pt x="857" y="314"/>
                </a:lnTo>
                <a:lnTo>
                  <a:pt x="848" y="318"/>
                </a:lnTo>
                <a:lnTo>
                  <a:pt x="839" y="318"/>
                </a:lnTo>
                <a:lnTo>
                  <a:pt x="835" y="318"/>
                </a:lnTo>
                <a:lnTo>
                  <a:pt x="826" y="318"/>
                </a:lnTo>
                <a:lnTo>
                  <a:pt x="817" y="318"/>
                </a:lnTo>
                <a:lnTo>
                  <a:pt x="808" y="318"/>
                </a:lnTo>
                <a:lnTo>
                  <a:pt x="800" y="318"/>
                </a:lnTo>
                <a:lnTo>
                  <a:pt x="791" y="314"/>
                </a:lnTo>
                <a:lnTo>
                  <a:pt x="782" y="314"/>
                </a:lnTo>
                <a:lnTo>
                  <a:pt x="773" y="314"/>
                </a:lnTo>
                <a:lnTo>
                  <a:pt x="764" y="309"/>
                </a:lnTo>
                <a:lnTo>
                  <a:pt x="756" y="309"/>
                </a:lnTo>
                <a:lnTo>
                  <a:pt x="756" y="305"/>
                </a:lnTo>
                <a:lnTo>
                  <a:pt x="720" y="269"/>
                </a:lnTo>
                <a:lnTo>
                  <a:pt x="711" y="278"/>
                </a:lnTo>
                <a:lnTo>
                  <a:pt x="711" y="287"/>
                </a:lnTo>
                <a:lnTo>
                  <a:pt x="707" y="296"/>
                </a:lnTo>
                <a:lnTo>
                  <a:pt x="698" y="305"/>
                </a:lnTo>
                <a:lnTo>
                  <a:pt x="698" y="309"/>
                </a:lnTo>
                <a:lnTo>
                  <a:pt x="694" y="314"/>
                </a:lnTo>
                <a:lnTo>
                  <a:pt x="685" y="318"/>
                </a:lnTo>
                <a:lnTo>
                  <a:pt x="685" y="327"/>
                </a:lnTo>
                <a:lnTo>
                  <a:pt x="681" y="336"/>
                </a:lnTo>
                <a:lnTo>
                  <a:pt x="676" y="336"/>
                </a:lnTo>
                <a:lnTo>
                  <a:pt x="667" y="344"/>
                </a:lnTo>
                <a:lnTo>
                  <a:pt x="663" y="344"/>
                </a:lnTo>
                <a:lnTo>
                  <a:pt x="653" y="353"/>
                </a:lnTo>
                <a:lnTo>
                  <a:pt x="649" y="353"/>
                </a:lnTo>
                <a:lnTo>
                  <a:pt x="636" y="353"/>
                </a:lnTo>
                <a:lnTo>
                  <a:pt x="627" y="353"/>
                </a:lnTo>
                <a:lnTo>
                  <a:pt x="627" y="344"/>
                </a:lnTo>
                <a:lnTo>
                  <a:pt x="627" y="336"/>
                </a:lnTo>
                <a:lnTo>
                  <a:pt x="618" y="327"/>
                </a:lnTo>
                <a:lnTo>
                  <a:pt x="618" y="318"/>
                </a:lnTo>
                <a:lnTo>
                  <a:pt x="609" y="314"/>
                </a:lnTo>
                <a:lnTo>
                  <a:pt x="609" y="305"/>
                </a:lnTo>
                <a:lnTo>
                  <a:pt x="600" y="296"/>
                </a:lnTo>
                <a:lnTo>
                  <a:pt x="600" y="278"/>
                </a:lnTo>
                <a:lnTo>
                  <a:pt x="600" y="269"/>
                </a:lnTo>
                <a:lnTo>
                  <a:pt x="600" y="261"/>
                </a:lnTo>
                <a:lnTo>
                  <a:pt x="600" y="252"/>
                </a:lnTo>
                <a:lnTo>
                  <a:pt x="600" y="247"/>
                </a:lnTo>
                <a:lnTo>
                  <a:pt x="591" y="239"/>
                </a:lnTo>
                <a:lnTo>
                  <a:pt x="578" y="247"/>
                </a:lnTo>
                <a:lnTo>
                  <a:pt x="569" y="252"/>
                </a:lnTo>
                <a:lnTo>
                  <a:pt x="561" y="269"/>
                </a:lnTo>
                <a:lnTo>
                  <a:pt x="561" y="278"/>
                </a:lnTo>
                <a:lnTo>
                  <a:pt x="552" y="296"/>
                </a:lnTo>
                <a:lnTo>
                  <a:pt x="552" y="305"/>
                </a:lnTo>
                <a:lnTo>
                  <a:pt x="538" y="314"/>
                </a:lnTo>
                <a:lnTo>
                  <a:pt x="538" y="327"/>
                </a:lnTo>
                <a:lnTo>
                  <a:pt x="534" y="344"/>
                </a:lnTo>
                <a:lnTo>
                  <a:pt x="530" y="353"/>
                </a:lnTo>
                <a:lnTo>
                  <a:pt x="521" y="358"/>
                </a:lnTo>
                <a:lnTo>
                  <a:pt x="503" y="367"/>
                </a:lnTo>
                <a:lnTo>
                  <a:pt x="499" y="371"/>
                </a:lnTo>
                <a:lnTo>
                  <a:pt x="481" y="371"/>
                </a:lnTo>
                <a:lnTo>
                  <a:pt x="468" y="371"/>
                </a:lnTo>
                <a:lnTo>
                  <a:pt x="455" y="367"/>
                </a:lnTo>
                <a:lnTo>
                  <a:pt x="446" y="353"/>
                </a:lnTo>
                <a:lnTo>
                  <a:pt x="446" y="344"/>
                </a:lnTo>
                <a:lnTo>
                  <a:pt x="446" y="336"/>
                </a:lnTo>
                <a:lnTo>
                  <a:pt x="441" y="327"/>
                </a:lnTo>
                <a:lnTo>
                  <a:pt x="441" y="318"/>
                </a:lnTo>
                <a:lnTo>
                  <a:pt x="441" y="314"/>
                </a:lnTo>
                <a:lnTo>
                  <a:pt x="441" y="305"/>
                </a:lnTo>
                <a:lnTo>
                  <a:pt x="441" y="296"/>
                </a:lnTo>
                <a:lnTo>
                  <a:pt x="441" y="287"/>
                </a:lnTo>
                <a:lnTo>
                  <a:pt x="441" y="269"/>
                </a:lnTo>
                <a:lnTo>
                  <a:pt x="441" y="261"/>
                </a:lnTo>
                <a:lnTo>
                  <a:pt x="433" y="252"/>
                </a:lnTo>
                <a:lnTo>
                  <a:pt x="433" y="247"/>
                </a:lnTo>
                <a:lnTo>
                  <a:pt x="433" y="239"/>
                </a:lnTo>
                <a:lnTo>
                  <a:pt x="433" y="225"/>
                </a:lnTo>
                <a:lnTo>
                  <a:pt x="441" y="217"/>
                </a:lnTo>
                <a:lnTo>
                  <a:pt x="424" y="225"/>
                </a:lnTo>
                <a:lnTo>
                  <a:pt x="415" y="239"/>
                </a:lnTo>
                <a:lnTo>
                  <a:pt x="402" y="252"/>
                </a:lnTo>
                <a:lnTo>
                  <a:pt x="397" y="261"/>
                </a:lnTo>
                <a:lnTo>
                  <a:pt x="389" y="278"/>
                </a:lnTo>
                <a:lnTo>
                  <a:pt x="375" y="296"/>
                </a:lnTo>
                <a:lnTo>
                  <a:pt x="367" y="305"/>
                </a:lnTo>
                <a:lnTo>
                  <a:pt x="349" y="314"/>
                </a:lnTo>
                <a:lnTo>
                  <a:pt x="344" y="327"/>
                </a:lnTo>
                <a:lnTo>
                  <a:pt x="331" y="336"/>
                </a:lnTo>
                <a:lnTo>
                  <a:pt x="331" y="344"/>
                </a:lnTo>
                <a:lnTo>
                  <a:pt x="318" y="353"/>
                </a:lnTo>
                <a:lnTo>
                  <a:pt x="300" y="353"/>
                </a:lnTo>
                <a:lnTo>
                  <a:pt x="287" y="358"/>
                </a:lnTo>
                <a:lnTo>
                  <a:pt x="269" y="358"/>
                </a:lnTo>
                <a:lnTo>
                  <a:pt x="252" y="353"/>
                </a:lnTo>
                <a:lnTo>
                  <a:pt x="211" y="296"/>
                </a:lnTo>
                <a:lnTo>
                  <a:pt x="207" y="305"/>
                </a:lnTo>
                <a:lnTo>
                  <a:pt x="194" y="309"/>
                </a:lnTo>
                <a:lnTo>
                  <a:pt x="185" y="314"/>
                </a:lnTo>
                <a:lnTo>
                  <a:pt x="171" y="318"/>
                </a:lnTo>
                <a:lnTo>
                  <a:pt x="167" y="327"/>
                </a:lnTo>
                <a:lnTo>
                  <a:pt x="149" y="336"/>
                </a:lnTo>
                <a:lnTo>
                  <a:pt x="145" y="344"/>
                </a:lnTo>
                <a:lnTo>
                  <a:pt x="132" y="353"/>
                </a:lnTo>
                <a:lnTo>
                  <a:pt x="123" y="353"/>
                </a:lnTo>
                <a:lnTo>
                  <a:pt x="110" y="358"/>
                </a:lnTo>
                <a:lnTo>
                  <a:pt x="105" y="358"/>
                </a:lnTo>
                <a:lnTo>
                  <a:pt x="92" y="367"/>
                </a:lnTo>
                <a:lnTo>
                  <a:pt x="79" y="367"/>
                </a:lnTo>
                <a:lnTo>
                  <a:pt x="61" y="367"/>
                </a:lnTo>
                <a:lnTo>
                  <a:pt x="52" y="367"/>
                </a:lnTo>
                <a:lnTo>
                  <a:pt x="44" y="358"/>
                </a:lnTo>
                <a:lnTo>
                  <a:pt x="39" y="353"/>
                </a:lnTo>
                <a:lnTo>
                  <a:pt x="30" y="344"/>
                </a:lnTo>
                <a:lnTo>
                  <a:pt x="22" y="336"/>
                </a:lnTo>
                <a:lnTo>
                  <a:pt x="17" y="327"/>
                </a:lnTo>
                <a:lnTo>
                  <a:pt x="8" y="318"/>
                </a:lnTo>
                <a:lnTo>
                  <a:pt x="0" y="314"/>
                </a:lnTo>
                <a:lnTo>
                  <a:pt x="0" y="305"/>
                </a:lnTo>
                <a:lnTo>
                  <a:pt x="0" y="296"/>
                </a:lnTo>
                <a:lnTo>
                  <a:pt x="0" y="278"/>
                </a:lnTo>
                <a:lnTo>
                  <a:pt x="0" y="269"/>
                </a:lnTo>
                <a:lnTo>
                  <a:pt x="0" y="261"/>
                </a:lnTo>
                <a:lnTo>
                  <a:pt x="0" y="247"/>
                </a:lnTo>
                <a:lnTo>
                  <a:pt x="0" y="239"/>
                </a:lnTo>
                <a:lnTo>
                  <a:pt x="0" y="225"/>
                </a:lnTo>
                <a:lnTo>
                  <a:pt x="0" y="217"/>
                </a:lnTo>
                <a:lnTo>
                  <a:pt x="8" y="203"/>
                </a:lnTo>
                <a:lnTo>
                  <a:pt x="17" y="186"/>
                </a:lnTo>
                <a:lnTo>
                  <a:pt x="30" y="176"/>
                </a:lnTo>
                <a:lnTo>
                  <a:pt x="39" y="154"/>
                </a:lnTo>
                <a:lnTo>
                  <a:pt x="48" y="141"/>
                </a:lnTo>
                <a:lnTo>
                  <a:pt x="61" y="123"/>
                </a:lnTo>
                <a:lnTo>
                  <a:pt x="79" y="110"/>
                </a:lnTo>
                <a:lnTo>
                  <a:pt x="92" y="97"/>
                </a:lnTo>
                <a:lnTo>
                  <a:pt x="105" y="79"/>
                </a:lnTo>
                <a:lnTo>
                  <a:pt x="114" y="61"/>
                </a:lnTo>
                <a:lnTo>
                  <a:pt x="132" y="52"/>
                </a:lnTo>
                <a:lnTo>
                  <a:pt x="149" y="39"/>
                </a:lnTo>
                <a:lnTo>
                  <a:pt x="167" y="30"/>
                </a:lnTo>
                <a:lnTo>
                  <a:pt x="180" y="22"/>
                </a:lnTo>
                <a:lnTo>
                  <a:pt x="198" y="17"/>
                </a:lnTo>
                <a:lnTo>
                  <a:pt x="221" y="8"/>
                </a:lnTo>
                <a:lnTo>
                  <a:pt x="230" y="0"/>
                </a:lnTo>
                <a:lnTo>
                  <a:pt x="239" y="0"/>
                </a:lnTo>
                <a:lnTo>
                  <a:pt x="243" y="0"/>
                </a:lnTo>
                <a:lnTo>
                  <a:pt x="252" y="0"/>
                </a:lnTo>
                <a:lnTo>
                  <a:pt x="261" y="0"/>
                </a:lnTo>
                <a:lnTo>
                  <a:pt x="269" y="8"/>
                </a:lnTo>
                <a:lnTo>
                  <a:pt x="278" y="8"/>
                </a:lnTo>
                <a:lnTo>
                  <a:pt x="287" y="17"/>
                </a:lnTo>
                <a:lnTo>
                  <a:pt x="292" y="17"/>
                </a:lnTo>
                <a:lnTo>
                  <a:pt x="292" y="22"/>
                </a:lnTo>
                <a:lnTo>
                  <a:pt x="300" y="30"/>
                </a:lnTo>
                <a:lnTo>
                  <a:pt x="309" y="30"/>
                </a:lnTo>
                <a:lnTo>
                  <a:pt x="309" y="39"/>
                </a:lnTo>
                <a:lnTo>
                  <a:pt x="318" y="44"/>
                </a:lnTo>
                <a:lnTo>
                  <a:pt x="318" y="52"/>
                </a:lnTo>
                <a:lnTo>
                  <a:pt x="322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002120" y="5267160"/>
            <a:ext cx="36720" cy="59040"/>
          </a:xfrm>
          <a:custGeom>
            <a:avLst/>
            <a:gdLst/>
            <a:ahLst/>
            <a:rect l="0" t="0" r="r" b="b"/>
            <a:pathLst>
              <a:path w="102" h="164">
                <a:moveTo>
                  <a:pt x="8" y="164"/>
                </a:moveTo>
                <a:lnTo>
                  <a:pt x="0" y="150"/>
                </a:lnTo>
                <a:lnTo>
                  <a:pt x="0" y="137"/>
                </a:lnTo>
                <a:lnTo>
                  <a:pt x="0" y="124"/>
                </a:lnTo>
                <a:lnTo>
                  <a:pt x="8" y="120"/>
                </a:lnTo>
                <a:lnTo>
                  <a:pt x="8" y="106"/>
                </a:lnTo>
                <a:lnTo>
                  <a:pt x="8" y="93"/>
                </a:lnTo>
                <a:lnTo>
                  <a:pt x="22" y="84"/>
                </a:lnTo>
                <a:lnTo>
                  <a:pt x="22" y="74"/>
                </a:lnTo>
                <a:lnTo>
                  <a:pt x="35" y="61"/>
                </a:lnTo>
                <a:lnTo>
                  <a:pt x="39" y="57"/>
                </a:lnTo>
                <a:lnTo>
                  <a:pt x="53" y="44"/>
                </a:lnTo>
                <a:lnTo>
                  <a:pt x="53" y="39"/>
                </a:lnTo>
                <a:lnTo>
                  <a:pt x="62" y="30"/>
                </a:lnTo>
                <a:lnTo>
                  <a:pt x="75" y="26"/>
                </a:lnTo>
                <a:lnTo>
                  <a:pt x="80" y="8"/>
                </a:lnTo>
                <a:lnTo>
                  <a:pt x="93" y="4"/>
                </a:lnTo>
                <a:lnTo>
                  <a:pt x="102" y="0"/>
                </a:lnTo>
                <a:lnTo>
                  <a:pt x="102" y="8"/>
                </a:lnTo>
                <a:lnTo>
                  <a:pt x="98" y="26"/>
                </a:lnTo>
                <a:lnTo>
                  <a:pt x="98" y="39"/>
                </a:lnTo>
                <a:lnTo>
                  <a:pt x="93" y="48"/>
                </a:lnTo>
                <a:lnTo>
                  <a:pt x="84" y="61"/>
                </a:lnTo>
                <a:lnTo>
                  <a:pt x="80" y="74"/>
                </a:lnTo>
                <a:lnTo>
                  <a:pt x="75" y="84"/>
                </a:lnTo>
                <a:lnTo>
                  <a:pt x="71" y="93"/>
                </a:lnTo>
                <a:lnTo>
                  <a:pt x="62" y="106"/>
                </a:lnTo>
                <a:lnTo>
                  <a:pt x="53" y="120"/>
                </a:lnTo>
                <a:lnTo>
                  <a:pt x="48" y="124"/>
                </a:lnTo>
                <a:lnTo>
                  <a:pt x="39" y="137"/>
                </a:lnTo>
                <a:lnTo>
                  <a:pt x="30" y="142"/>
                </a:lnTo>
                <a:lnTo>
                  <a:pt x="22" y="150"/>
                </a:lnTo>
                <a:lnTo>
                  <a:pt x="8" y="155"/>
                </a:lnTo>
                <a:lnTo>
                  <a:pt x="8" y="16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71880" y="4952880"/>
            <a:ext cx="311400" cy="641880"/>
          </a:xfrm>
          <a:custGeom>
            <a:avLst/>
            <a:gdLst/>
            <a:ahLst/>
            <a:rect l="0" t="0" r="r" b="b"/>
            <a:pathLst>
              <a:path w="865" h="1783">
                <a:moveTo>
                  <a:pt x="856" y="136"/>
                </a:moveTo>
                <a:lnTo>
                  <a:pt x="825" y="220"/>
                </a:lnTo>
                <a:lnTo>
                  <a:pt x="799" y="321"/>
                </a:lnTo>
                <a:lnTo>
                  <a:pt x="763" y="418"/>
                </a:lnTo>
                <a:lnTo>
                  <a:pt x="733" y="521"/>
                </a:lnTo>
                <a:lnTo>
                  <a:pt x="710" y="618"/>
                </a:lnTo>
                <a:lnTo>
                  <a:pt x="684" y="724"/>
                </a:lnTo>
                <a:lnTo>
                  <a:pt x="653" y="834"/>
                </a:lnTo>
                <a:lnTo>
                  <a:pt x="636" y="931"/>
                </a:lnTo>
                <a:lnTo>
                  <a:pt x="627" y="1032"/>
                </a:lnTo>
                <a:lnTo>
                  <a:pt x="618" y="1138"/>
                </a:lnTo>
                <a:lnTo>
                  <a:pt x="600" y="1248"/>
                </a:lnTo>
                <a:lnTo>
                  <a:pt x="600" y="1355"/>
                </a:lnTo>
                <a:lnTo>
                  <a:pt x="600" y="1461"/>
                </a:lnTo>
                <a:lnTo>
                  <a:pt x="609" y="1563"/>
                </a:lnTo>
                <a:lnTo>
                  <a:pt x="622" y="1677"/>
                </a:lnTo>
                <a:lnTo>
                  <a:pt x="636" y="1783"/>
                </a:lnTo>
                <a:lnTo>
                  <a:pt x="631" y="1783"/>
                </a:lnTo>
                <a:lnTo>
                  <a:pt x="622" y="1783"/>
                </a:lnTo>
                <a:lnTo>
                  <a:pt x="618" y="1783"/>
                </a:lnTo>
                <a:lnTo>
                  <a:pt x="609" y="1783"/>
                </a:lnTo>
                <a:lnTo>
                  <a:pt x="600" y="1774"/>
                </a:lnTo>
                <a:lnTo>
                  <a:pt x="596" y="1770"/>
                </a:lnTo>
                <a:lnTo>
                  <a:pt x="587" y="1761"/>
                </a:lnTo>
                <a:lnTo>
                  <a:pt x="578" y="1752"/>
                </a:lnTo>
                <a:lnTo>
                  <a:pt x="569" y="1739"/>
                </a:lnTo>
                <a:lnTo>
                  <a:pt x="569" y="1735"/>
                </a:lnTo>
                <a:lnTo>
                  <a:pt x="565" y="1721"/>
                </a:lnTo>
                <a:lnTo>
                  <a:pt x="561" y="1712"/>
                </a:lnTo>
                <a:lnTo>
                  <a:pt x="561" y="1699"/>
                </a:lnTo>
                <a:lnTo>
                  <a:pt x="552" y="1690"/>
                </a:lnTo>
                <a:lnTo>
                  <a:pt x="552" y="1677"/>
                </a:lnTo>
                <a:lnTo>
                  <a:pt x="543" y="1660"/>
                </a:lnTo>
                <a:lnTo>
                  <a:pt x="534" y="1589"/>
                </a:lnTo>
                <a:lnTo>
                  <a:pt x="534" y="1523"/>
                </a:lnTo>
                <a:lnTo>
                  <a:pt x="525" y="1452"/>
                </a:lnTo>
                <a:lnTo>
                  <a:pt x="525" y="1382"/>
                </a:lnTo>
                <a:lnTo>
                  <a:pt x="534" y="1310"/>
                </a:lnTo>
                <a:lnTo>
                  <a:pt x="534" y="1240"/>
                </a:lnTo>
                <a:lnTo>
                  <a:pt x="543" y="1173"/>
                </a:lnTo>
                <a:lnTo>
                  <a:pt x="552" y="1103"/>
                </a:lnTo>
                <a:lnTo>
                  <a:pt x="565" y="1032"/>
                </a:lnTo>
                <a:lnTo>
                  <a:pt x="569" y="971"/>
                </a:lnTo>
                <a:lnTo>
                  <a:pt x="587" y="896"/>
                </a:lnTo>
                <a:lnTo>
                  <a:pt x="596" y="834"/>
                </a:lnTo>
                <a:lnTo>
                  <a:pt x="609" y="768"/>
                </a:lnTo>
                <a:lnTo>
                  <a:pt x="622" y="702"/>
                </a:lnTo>
                <a:lnTo>
                  <a:pt x="627" y="640"/>
                </a:lnTo>
                <a:lnTo>
                  <a:pt x="636" y="574"/>
                </a:lnTo>
                <a:lnTo>
                  <a:pt x="622" y="591"/>
                </a:lnTo>
                <a:lnTo>
                  <a:pt x="609" y="618"/>
                </a:lnTo>
                <a:lnTo>
                  <a:pt x="596" y="653"/>
                </a:lnTo>
                <a:lnTo>
                  <a:pt x="569" y="671"/>
                </a:lnTo>
                <a:lnTo>
                  <a:pt x="561" y="710"/>
                </a:lnTo>
                <a:lnTo>
                  <a:pt x="534" y="741"/>
                </a:lnTo>
                <a:lnTo>
                  <a:pt x="525" y="768"/>
                </a:lnTo>
                <a:lnTo>
                  <a:pt x="503" y="794"/>
                </a:lnTo>
                <a:lnTo>
                  <a:pt x="486" y="821"/>
                </a:lnTo>
                <a:lnTo>
                  <a:pt x="464" y="847"/>
                </a:lnTo>
                <a:lnTo>
                  <a:pt x="433" y="860"/>
                </a:lnTo>
                <a:lnTo>
                  <a:pt x="418" y="887"/>
                </a:lnTo>
                <a:lnTo>
                  <a:pt x="388" y="904"/>
                </a:lnTo>
                <a:lnTo>
                  <a:pt x="366" y="913"/>
                </a:lnTo>
                <a:lnTo>
                  <a:pt x="335" y="922"/>
                </a:lnTo>
                <a:lnTo>
                  <a:pt x="304" y="931"/>
                </a:lnTo>
                <a:lnTo>
                  <a:pt x="295" y="913"/>
                </a:lnTo>
                <a:lnTo>
                  <a:pt x="286" y="904"/>
                </a:lnTo>
                <a:lnTo>
                  <a:pt x="268" y="887"/>
                </a:lnTo>
                <a:lnTo>
                  <a:pt x="268" y="878"/>
                </a:lnTo>
                <a:lnTo>
                  <a:pt x="264" y="860"/>
                </a:lnTo>
                <a:lnTo>
                  <a:pt x="260" y="847"/>
                </a:lnTo>
                <a:lnTo>
                  <a:pt x="260" y="834"/>
                </a:lnTo>
                <a:lnTo>
                  <a:pt x="251" y="821"/>
                </a:lnTo>
                <a:lnTo>
                  <a:pt x="251" y="803"/>
                </a:lnTo>
                <a:lnTo>
                  <a:pt x="251" y="785"/>
                </a:lnTo>
                <a:lnTo>
                  <a:pt x="251" y="772"/>
                </a:lnTo>
                <a:lnTo>
                  <a:pt x="251" y="759"/>
                </a:lnTo>
                <a:lnTo>
                  <a:pt x="251" y="741"/>
                </a:lnTo>
                <a:lnTo>
                  <a:pt x="251" y="733"/>
                </a:lnTo>
                <a:lnTo>
                  <a:pt x="251" y="719"/>
                </a:lnTo>
                <a:lnTo>
                  <a:pt x="251" y="710"/>
                </a:lnTo>
                <a:lnTo>
                  <a:pt x="57" y="1116"/>
                </a:lnTo>
                <a:lnTo>
                  <a:pt x="48" y="1116"/>
                </a:lnTo>
                <a:lnTo>
                  <a:pt x="44" y="1116"/>
                </a:lnTo>
                <a:lnTo>
                  <a:pt x="39" y="1116"/>
                </a:lnTo>
                <a:lnTo>
                  <a:pt x="35" y="1116"/>
                </a:lnTo>
                <a:lnTo>
                  <a:pt x="30" y="1116"/>
                </a:lnTo>
                <a:lnTo>
                  <a:pt x="22" y="1116"/>
                </a:lnTo>
                <a:lnTo>
                  <a:pt x="22" y="1112"/>
                </a:lnTo>
                <a:lnTo>
                  <a:pt x="17" y="1112"/>
                </a:lnTo>
                <a:lnTo>
                  <a:pt x="17" y="1103"/>
                </a:lnTo>
                <a:lnTo>
                  <a:pt x="8" y="1103"/>
                </a:lnTo>
                <a:lnTo>
                  <a:pt x="8" y="1094"/>
                </a:lnTo>
                <a:lnTo>
                  <a:pt x="0" y="1081"/>
                </a:lnTo>
                <a:lnTo>
                  <a:pt x="0" y="1072"/>
                </a:lnTo>
                <a:lnTo>
                  <a:pt x="8" y="1024"/>
                </a:lnTo>
                <a:lnTo>
                  <a:pt x="17" y="971"/>
                </a:lnTo>
                <a:lnTo>
                  <a:pt x="30" y="922"/>
                </a:lnTo>
                <a:lnTo>
                  <a:pt x="39" y="869"/>
                </a:lnTo>
                <a:lnTo>
                  <a:pt x="57" y="821"/>
                </a:lnTo>
                <a:lnTo>
                  <a:pt x="70" y="772"/>
                </a:lnTo>
                <a:lnTo>
                  <a:pt x="97" y="724"/>
                </a:lnTo>
                <a:lnTo>
                  <a:pt x="114" y="671"/>
                </a:lnTo>
                <a:lnTo>
                  <a:pt x="136" y="627"/>
                </a:lnTo>
                <a:lnTo>
                  <a:pt x="154" y="578"/>
                </a:lnTo>
                <a:lnTo>
                  <a:pt x="171" y="530"/>
                </a:lnTo>
                <a:lnTo>
                  <a:pt x="194" y="481"/>
                </a:lnTo>
                <a:lnTo>
                  <a:pt x="216" y="432"/>
                </a:lnTo>
                <a:lnTo>
                  <a:pt x="233" y="383"/>
                </a:lnTo>
                <a:lnTo>
                  <a:pt x="251" y="330"/>
                </a:lnTo>
                <a:lnTo>
                  <a:pt x="277" y="286"/>
                </a:lnTo>
                <a:lnTo>
                  <a:pt x="286" y="295"/>
                </a:lnTo>
                <a:lnTo>
                  <a:pt x="295" y="295"/>
                </a:lnTo>
                <a:lnTo>
                  <a:pt x="299" y="295"/>
                </a:lnTo>
                <a:lnTo>
                  <a:pt x="313" y="295"/>
                </a:lnTo>
                <a:lnTo>
                  <a:pt x="321" y="295"/>
                </a:lnTo>
                <a:lnTo>
                  <a:pt x="335" y="295"/>
                </a:lnTo>
                <a:lnTo>
                  <a:pt x="339" y="286"/>
                </a:lnTo>
                <a:lnTo>
                  <a:pt x="348" y="286"/>
                </a:lnTo>
                <a:lnTo>
                  <a:pt x="361" y="277"/>
                </a:lnTo>
                <a:lnTo>
                  <a:pt x="366" y="277"/>
                </a:lnTo>
                <a:lnTo>
                  <a:pt x="374" y="277"/>
                </a:lnTo>
                <a:lnTo>
                  <a:pt x="388" y="277"/>
                </a:lnTo>
                <a:lnTo>
                  <a:pt x="392" y="286"/>
                </a:lnTo>
                <a:lnTo>
                  <a:pt x="392" y="295"/>
                </a:lnTo>
                <a:lnTo>
                  <a:pt x="410" y="299"/>
                </a:lnTo>
                <a:lnTo>
                  <a:pt x="410" y="313"/>
                </a:lnTo>
                <a:lnTo>
                  <a:pt x="401" y="348"/>
                </a:lnTo>
                <a:lnTo>
                  <a:pt x="392" y="383"/>
                </a:lnTo>
                <a:lnTo>
                  <a:pt x="388" y="414"/>
                </a:lnTo>
                <a:lnTo>
                  <a:pt x="383" y="445"/>
                </a:lnTo>
                <a:lnTo>
                  <a:pt x="374" y="481"/>
                </a:lnTo>
                <a:lnTo>
                  <a:pt x="366" y="512"/>
                </a:lnTo>
                <a:lnTo>
                  <a:pt x="361" y="543"/>
                </a:lnTo>
                <a:lnTo>
                  <a:pt x="357" y="574"/>
                </a:lnTo>
                <a:lnTo>
                  <a:pt x="348" y="609"/>
                </a:lnTo>
                <a:lnTo>
                  <a:pt x="339" y="649"/>
                </a:lnTo>
                <a:lnTo>
                  <a:pt x="339" y="671"/>
                </a:lnTo>
                <a:lnTo>
                  <a:pt x="335" y="710"/>
                </a:lnTo>
                <a:lnTo>
                  <a:pt x="335" y="741"/>
                </a:lnTo>
                <a:lnTo>
                  <a:pt x="330" y="772"/>
                </a:lnTo>
                <a:lnTo>
                  <a:pt x="330" y="803"/>
                </a:lnTo>
                <a:lnTo>
                  <a:pt x="335" y="843"/>
                </a:lnTo>
                <a:lnTo>
                  <a:pt x="339" y="834"/>
                </a:lnTo>
                <a:lnTo>
                  <a:pt x="357" y="821"/>
                </a:lnTo>
                <a:lnTo>
                  <a:pt x="366" y="803"/>
                </a:lnTo>
                <a:lnTo>
                  <a:pt x="383" y="794"/>
                </a:lnTo>
                <a:lnTo>
                  <a:pt x="392" y="785"/>
                </a:lnTo>
                <a:lnTo>
                  <a:pt x="401" y="772"/>
                </a:lnTo>
                <a:lnTo>
                  <a:pt x="418" y="768"/>
                </a:lnTo>
                <a:lnTo>
                  <a:pt x="433" y="750"/>
                </a:lnTo>
                <a:lnTo>
                  <a:pt x="433" y="741"/>
                </a:lnTo>
                <a:lnTo>
                  <a:pt x="446" y="724"/>
                </a:lnTo>
                <a:lnTo>
                  <a:pt x="455" y="710"/>
                </a:lnTo>
                <a:lnTo>
                  <a:pt x="472" y="688"/>
                </a:lnTo>
                <a:lnTo>
                  <a:pt x="477" y="680"/>
                </a:lnTo>
                <a:lnTo>
                  <a:pt x="486" y="666"/>
                </a:lnTo>
                <a:lnTo>
                  <a:pt x="499" y="653"/>
                </a:lnTo>
                <a:lnTo>
                  <a:pt x="503" y="649"/>
                </a:lnTo>
                <a:lnTo>
                  <a:pt x="525" y="600"/>
                </a:lnTo>
                <a:lnTo>
                  <a:pt x="552" y="565"/>
                </a:lnTo>
                <a:lnTo>
                  <a:pt x="569" y="521"/>
                </a:lnTo>
                <a:lnTo>
                  <a:pt x="596" y="481"/>
                </a:lnTo>
                <a:lnTo>
                  <a:pt x="618" y="445"/>
                </a:lnTo>
                <a:lnTo>
                  <a:pt x="631" y="405"/>
                </a:lnTo>
                <a:lnTo>
                  <a:pt x="649" y="366"/>
                </a:lnTo>
                <a:lnTo>
                  <a:pt x="671" y="321"/>
                </a:lnTo>
                <a:lnTo>
                  <a:pt x="684" y="286"/>
                </a:lnTo>
                <a:lnTo>
                  <a:pt x="706" y="242"/>
                </a:lnTo>
                <a:lnTo>
                  <a:pt x="724" y="202"/>
                </a:lnTo>
                <a:lnTo>
                  <a:pt x="741" y="158"/>
                </a:lnTo>
                <a:lnTo>
                  <a:pt x="759" y="114"/>
                </a:lnTo>
                <a:lnTo>
                  <a:pt x="777" y="79"/>
                </a:lnTo>
                <a:lnTo>
                  <a:pt x="794" y="30"/>
                </a:lnTo>
                <a:lnTo>
                  <a:pt x="816" y="0"/>
                </a:lnTo>
                <a:lnTo>
                  <a:pt x="825" y="0"/>
                </a:lnTo>
                <a:lnTo>
                  <a:pt x="830" y="0"/>
                </a:lnTo>
                <a:lnTo>
                  <a:pt x="838" y="8"/>
                </a:lnTo>
                <a:lnTo>
                  <a:pt x="847" y="13"/>
                </a:lnTo>
                <a:lnTo>
                  <a:pt x="852" y="22"/>
                </a:lnTo>
                <a:lnTo>
                  <a:pt x="856" y="30"/>
                </a:lnTo>
                <a:lnTo>
                  <a:pt x="856" y="44"/>
                </a:lnTo>
                <a:lnTo>
                  <a:pt x="865" y="48"/>
                </a:lnTo>
                <a:lnTo>
                  <a:pt x="865" y="57"/>
                </a:lnTo>
                <a:lnTo>
                  <a:pt x="865" y="70"/>
                </a:lnTo>
                <a:lnTo>
                  <a:pt x="865" y="79"/>
                </a:lnTo>
                <a:lnTo>
                  <a:pt x="865" y="92"/>
                </a:lnTo>
                <a:lnTo>
                  <a:pt x="865" y="105"/>
                </a:lnTo>
                <a:lnTo>
                  <a:pt x="856" y="114"/>
                </a:lnTo>
                <a:lnTo>
                  <a:pt x="856" y="123"/>
                </a:lnTo>
                <a:lnTo>
                  <a:pt x="856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40440" y="5194440"/>
            <a:ext cx="756000" cy="192600"/>
          </a:xfrm>
          <a:custGeom>
            <a:avLst/>
            <a:gdLst/>
            <a:ahLst/>
            <a:rect l="0" t="0" r="r" b="b"/>
            <a:pathLst>
              <a:path w="2100" h="535">
                <a:moveTo>
                  <a:pt x="1235" y="39"/>
                </a:moveTo>
                <a:lnTo>
                  <a:pt x="1244" y="48"/>
                </a:lnTo>
                <a:lnTo>
                  <a:pt x="1248" y="61"/>
                </a:lnTo>
                <a:lnTo>
                  <a:pt x="1253" y="70"/>
                </a:lnTo>
                <a:lnTo>
                  <a:pt x="1262" y="83"/>
                </a:lnTo>
                <a:lnTo>
                  <a:pt x="1262" y="92"/>
                </a:lnTo>
                <a:lnTo>
                  <a:pt x="1271" y="101"/>
                </a:lnTo>
                <a:lnTo>
                  <a:pt x="1271" y="119"/>
                </a:lnTo>
                <a:lnTo>
                  <a:pt x="1279" y="123"/>
                </a:lnTo>
                <a:lnTo>
                  <a:pt x="1279" y="137"/>
                </a:lnTo>
                <a:lnTo>
                  <a:pt x="1279" y="146"/>
                </a:lnTo>
                <a:lnTo>
                  <a:pt x="1284" y="164"/>
                </a:lnTo>
                <a:lnTo>
                  <a:pt x="1284" y="168"/>
                </a:lnTo>
                <a:lnTo>
                  <a:pt x="1284" y="186"/>
                </a:lnTo>
                <a:lnTo>
                  <a:pt x="1284" y="199"/>
                </a:lnTo>
                <a:lnTo>
                  <a:pt x="1284" y="208"/>
                </a:lnTo>
                <a:lnTo>
                  <a:pt x="1288" y="221"/>
                </a:lnTo>
                <a:lnTo>
                  <a:pt x="1297" y="217"/>
                </a:lnTo>
                <a:lnTo>
                  <a:pt x="1306" y="217"/>
                </a:lnTo>
                <a:lnTo>
                  <a:pt x="1310" y="217"/>
                </a:lnTo>
                <a:lnTo>
                  <a:pt x="1315" y="217"/>
                </a:lnTo>
                <a:lnTo>
                  <a:pt x="1332" y="217"/>
                </a:lnTo>
                <a:lnTo>
                  <a:pt x="1337" y="217"/>
                </a:lnTo>
                <a:lnTo>
                  <a:pt x="1341" y="217"/>
                </a:lnTo>
                <a:lnTo>
                  <a:pt x="1350" y="221"/>
                </a:lnTo>
                <a:lnTo>
                  <a:pt x="1363" y="221"/>
                </a:lnTo>
                <a:lnTo>
                  <a:pt x="1372" y="230"/>
                </a:lnTo>
                <a:lnTo>
                  <a:pt x="1376" y="239"/>
                </a:lnTo>
                <a:lnTo>
                  <a:pt x="1390" y="247"/>
                </a:lnTo>
                <a:lnTo>
                  <a:pt x="1398" y="247"/>
                </a:lnTo>
                <a:lnTo>
                  <a:pt x="1403" y="256"/>
                </a:lnTo>
                <a:lnTo>
                  <a:pt x="1412" y="265"/>
                </a:lnTo>
                <a:lnTo>
                  <a:pt x="1420" y="269"/>
                </a:lnTo>
                <a:lnTo>
                  <a:pt x="1460" y="283"/>
                </a:lnTo>
                <a:lnTo>
                  <a:pt x="1495" y="300"/>
                </a:lnTo>
                <a:lnTo>
                  <a:pt x="1539" y="314"/>
                </a:lnTo>
                <a:lnTo>
                  <a:pt x="1575" y="322"/>
                </a:lnTo>
                <a:lnTo>
                  <a:pt x="1623" y="327"/>
                </a:lnTo>
                <a:lnTo>
                  <a:pt x="1667" y="327"/>
                </a:lnTo>
                <a:lnTo>
                  <a:pt x="1703" y="336"/>
                </a:lnTo>
                <a:lnTo>
                  <a:pt x="1751" y="327"/>
                </a:lnTo>
                <a:lnTo>
                  <a:pt x="1791" y="327"/>
                </a:lnTo>
                <a:lnTo>
                  <a:pt x="1839" y="322"/>
                </a:lnTo>
                <a:lnTo>
                  <a:pt x="1875" y="314"/>
                </a:lnTo>
                <a:lnTo>
                  <a:pt x="1923" y="314"/>
                </a:lnTo>
                <a:lnTo>
                  <a:pt x="1954" y="309"/>
                </a:lnTo>
                <a:lnTo>
                  <a:pt x="2011" y="300"/>
                </a:lnTo>
                <a:lnTo>
                  <a:pt x="2055" y="300"/>
                </a:lnTo>
                <a:lnTo>
                  <a:pt x="2091" y="292"/>
                </a:lnTo>
                <a:lnTo>
                  <a:pt x="2100" y="300"/>
                </a:lnTo>
                <a:lnTo>
                  <a:pt x="2100" y="309"/>
                </a:lnTo>
                <a:lnTo>
                  <a:pt x="2100" y="314"/>
                </a:lnTo>
                <a:lnTo>
                  <a:pt x="2100" y="322"/>
                </a:lnTo>
                <a:lnTo>
                  <a:pt x="2091" y="327"/>
                </a:lnTo>
                <a:lnTo>
                  <a:pt x="2091" y="336"/>
                </a:lnTo>
                <a:lnTo>
                  <a:pt x="2082" y="336"/>
                </a:lnTo>
                <a:lnTo>
                  <a:pt x="2077" y="344"/>
                </a:lnTo>
                <a:lnTo>
                  <a:pt x="2077" y="353"/>
                </a:lnTo>
                <a:lnTo>
                  <a:pt x="2069" y="362"/>
                </a:lnTo>
                <a:lnTo>
                  <a:pt x="2060" y="362"/>
                </a:lnTo>
                <a:lnTo>
                  <a:pt x="2055" y="362"/>
                </a:lnTo>
                <a:lnTo>
                  <a:pt x="2055" y="367"/>
                </a:lnTo>
                <a:lnTo>
                  <a:pt x="2051" y="367"/>
                </a:lnTo>
                <a:lnTo>
                  <a:pt x="2042" y="375"/>
                </a:lnTo>
                <a:lnTo>
                  <a:pt x="1994" y="375"/>
                </a:lnTo>
                <a:lnTo>
                  <a:pt x="1950" y="393"/>
                </a:lnTo>
                <a:lnTo>
                  <a:pt x="1897" y="393"/>
                </a:lnTo>
                <a:lnTo>
                  <a:pt x="1853" y="397"/>
                </a:lnTo>
                <a:lnTo>
                  <a:pt x="1804" y="407"/>
                </a:lnTo>
                <a:lnTo>
                  <a:pt x="1764" y="412"/>
                </a:lnTo>
                <a:lnTo>
                  <a:pt x="1711" y="412"/>
                </a:lnTo>
                <a:lnTo>
                  <a:pt x="1667" y="412"/>
                </a:lnTo>
                <a:lnTo>
                  <a:pt x="1614" y="412"/>
                </a:lnTo>
                <a:lnTo>
                  <a:pt x="1570" y="412"/>
                </a:lnTo>
                <a:lnTo>
                  <a:pt x="1526" y="397"/>
                </a:lnTo>
                <a:lnTo>
                  <a:pt x="1478" y="393"/>
                </a:lnTo>
                <a:lnTo>
                  <a:pt x="1442" y="375"/>
                </a:lnTo>
                <a:lnTo>
                  <a:pt x="1398" y="362"/>
                </a:lnTo>
                <a:lnTo>
                  <a:pt x="1354" y="327"/>
                </a:lnTo>
                <a:lnTo>
                  <a:pt x="1323" y="300"/>
                </a:lnTo>
                <a:lnTo>
                  <a:pt x="1315" y="309"/>
                </a:lnTo>
                <a:lnTo>
                  <a:pt x="1306" y="314"/>
                </a:lnTo>
                <a:lnTo>
                  <a:pt x="1297" y="322"/>
                </a:lnTo>
                <a:lnTo>
                  <a:pt x="1297" y="336"/>
                </a:lnTo>
                <a:lnTo>
                  <a:pt x="1288" y="344"/>
                </a:lnTo>
                <a:lnTo>
                  <a:pt x="1284" y="362"/>
                </a:lnTo>
                <a:lnTo>
                  <a:pt x="1284" y="367"/>
                </a:lnTo>
                <a:lnTo>
                  <a:pt x="1279" y="375"/>
                </a:lnTo>
                <a:lnTo>
                  <a:pt x="1279" y="384"/>
                </a:lnTo>
                <a:lnTo>
                  <a:pt x="1271" y="397"/>
                </a:lnTo>
                <a:lnTo>
                  <a:pt x="1262" y="397"/>
                </a:lnTo>
                <a:lnTo>
                  <a:pt x="1253" y="407"/>
                </a:lnTo>
                <a:lnTo>
                  <a:pt x="1248" y="412"/>
                </a:lnTo>
                <a:lnTo>
                  <a:pt x="1244" y="412"/>
                </a:lnTo>
                <a:lnTo>
                  <a:pt x="1226" y="412"/>
                </a:lnTo>
                <a:lnTo>
                  <a:pt x="1213" y="412"/>
                </a:lnTo>
                <a:lnTo>
                  <a:pt x="1200" y="393"/>
                </a:lnTo>
                <a:lnTo>
                  <a:pt x="1196" y="362"/>
                </a:lnTo>
                <a:lnTo>
                  <a:pt x="1196" y="336"/>
                </a:lnTo>
                <a:lnTo>
                  <a:pt x="1196" y="309"/>
                </a:lnTo>
                <a:lnTo>
                  <a:pt x="1196" y="274"/>
                </a:lnTo>
                <a:lnTo>
                  <a:pt x="1200" y="239"/>
                </a:lnTo>
                <a:lnTo>
                  <a:pt x="1209" y="208"/>
                </a:lnTo>
                <a:lnTo>
                  <a:pt x="1209" y="186"/>
                </a:lnTo>
                <a:lnTo>
                  <a:pt x="1213" y="155"/>
                </a:lnTo>
                <a:lnTo>
                  <a:pt x="1213" y="123"/>
                </a:lnTo>
                <a:lnTo>
                  <a:pt x="1209" y="101"/>
                </a:lnTo>
                <a:lnTo>
                  <a:pt x="1196" y="83"/>
                </a:lnTo>
                <a:lnTo>
                  <a:pt x="1182" y="74"/>
                </a:lnTo>
                <a:lnTo>
                  <a:pt x="1156" y="70"/>
                </a:lnTo>
                <a:lnTo>
                  <a:pt x="1121" y="70"/>
                </a:lnTo>
                <a:lnTo>
                  <a:pt x="1085" y="74"/>
                </a:lnTo>
                <a:lnTo>
                  <a:pt x="1076" y="83"/>
                </a:lnTo>
                <a:lnTo>
                  <a:pt x="1068" y="92"/>
                </a:lnTo>
                <a:lnTo>
                  <a:pt x="1059" y="101"/>
                </a:lnTo>
                <a:lnTo>
                  <a:pt x="1059" y="119"/>
                </a:lnTo>
                <a:lnTo>
                  <a:pt x="1059" y="123"/>
                </a:lnTo>
                <a:lnTo>
                  <a:pt x="1068" y="127"/>
                </a:lnTo>
                <a:lnTo>
                  <a:pt x="1068" y="146"/>
                </a:lnTo>
                <a:lnTo>
                  <a:pt x="1076" y="155"/>
                </a:lnTo>
                <a:lnTo>
                  <a:pt x="1085" y="164"/>
                </a:lnTo>
                <a:lnTo>
                  <a:pt x="1090" y="177"/>
                </a:lnTo>
                <a:lnTo>
                  <a:pt x="1090" y="186"/>
                </a:lnTo>
                <a:lnTo>
                  <a:pt x="1094" y="190"/>
                </a:lnTo>
                <a:lnTo>
                  <a:pt x="1099" y="208"/>
                </a:lnTo>
                <a:lnTo>
                  <a:pt x="1107" y="217"/>
                </a:lnTo>
                <a:lnTo>
                  <a:pt x="1107" y="230"/>
                </a:lnTo>
                <a:lnTo>
                  <a:pt x="1107" y="239"/>
                </a:lnTo>
                <a:lnTo>
                  <a:pt x="1107" y="247"/>
                </a:lnTo>
                <a:lnTo>
                  <a:pt x="1112" y="265"/>
                </a:lnTo>
                <a:lnTo>
                  <a:pt x="1112" y="269"/>
                </a:lnTo>
                <a:lnTo>
                  <a:pt x="1112" y="274"/>
                </a:lnTo>
                <a:lnTo>
                  <a:pt x="1121" y="292"/>
                </a:lnTo>
                <a:lnTo>
                  <a:pt x="1121" y="300"/>
                </a:lnTo>
                <a:lnTo>
                  <a:pt x="1121" y="314"/>
                </a:lnTo>
                <a:lnTo>
                  <a:pt x="1121" y="322"/>
                </a:lnTo>
                <a:lnTo>
                  <a:pt x="1121" y="336"/>
                </a:lnTo>
                <a:lnTo>
                  <a:pt x="1121" y="344"/>
                </a:lnTo>
                <a:lnTo>
                  <a:pt x="1112" y="362"/>
                </a:lnTo>
                <a:lnTo>
                  <a:pt x="1112" y="367"/>
                </a:lnTo>
                <a:lnTo>
                  <a:pt x="1112" y="375"/>
                </a:lnTo>
                <a:lnTo>
                  <a:pt x="1107" y="393"/>
                </a:lnTo>
                <a:lnTo>
                  <a:pt x="1107" y="397"/>
                </a:lnTo>
                <a:lnTo>
                  <a:pt x="1107" y="412"/>
                </a:lnTo>
                <a:lnTo>
                  <a:pt x="1094" y="420"/>
                </a:lnTo>
                <a:lnTo>
                  <a:pt x="1090" y="438"/>
                </a:lnTo>
                <a:lnTo>
                  <a:pt x="1076" y="447"/>
                </a:lnTo>
                <a:lnTo>
                  <a:pt x="1068" y="456"/>
                </a:lnTo>
                <a:lnTo>
                  <a:pt x="1049" y="465"/>
                </a:lnTo>
                <a:lnTo>
                  <a:pt x="1040" y="473"/>
                </a:lnTo>
                <a:lnTo>
                  <a:pt x="1023" y="473"/>
                </a:lnTo>
                <a:lnTo>
                  <a:pt x="1014" y="491"/>
                </a:lnTo>
                <a:lnTo>
                  <a:pt x="1001" y="491"/>
                </a:lnTo>
                <a:lnTo>
                  <a:pt x="987" y="500"/>
                </a:lnTo>
                <a:lnTo>
                  <a:pt x="974" y="500"/>
                </a:lnTo>
                <a:lnTo>
                  <a:pt x="961" y="500"/>
                </a:lnTo>
                <a:lnTo>
                  <a:pt x="952" y="500"/>
                </a:lnTo>
                <a:lnTo>
                  <a:pt x="934" y="500"/>
                </a:lnTo>
                <a:lnTo>
                  <a:pt x="917" y="491"/>
                </a:lnTo>
                <a:lnTo>
                  <a:pt x="903" y="491"/>
                </a:lnTo>
                <a:lnTo>
                  <a:pt x="868" y="438"/>
                </a:lnTo>
                <a:lnTo>
                  <a:pt x="846" y="438"/>
                </a:lnTo>
                <a:lnTo>
                  <a:pt x="820" y="447"/>
                </a:lnTo>
                <a:lnTo>
                  <a:pt x="793" y="456"/>
                </a:lnTo>
                <a:lnTo>
                  <a:pt x="776" y="465"/>
                </a:lnTo>
                <a:lnTo>
                  <a:pt x="754" y="473"/>
                </a:lnTo>
                <a:lnTo>
                  <a:pt x="727" y="491"/>
                </a:lnTo>
                <a:lnTo>
                  <a:pt x="709" y="509"/>
                </a:lnTo>
                <a:lnTo>
                  <a:pt x="679" y="513"/>
                </a:lnTo>
                <a:lnTo>
                  <a:pt x="657" y="522"/>
                </a:lnTo>
                <a:lnTo>
                  <a:pt x="635" y="531"/>
                </a:lnTo>
                <a:lnTo>
                  <a:pt x="617" y="535"/>
                </a:lnTo>
                <a:lnTo>
                  <a:pt x="590" y="535"/>
                </a:lnTo>
                <a:lnTo>
                  <a:pt x="564" y="531"/>
                </a:lnTo>
                <a:lnTo>
                  <a:pt x="551" y="513"/>
                </a:lnTo>
                <a:lnTo>
                  <a:pt x="529" y="500"/>
                </a:lnTo>
                <a:lnTo>
                  <a:pt x="520" y="465"/>
                </a:lnTo>
                <a:lnTo>
                  <a:pt x="502" y="473"/>
                </a:lnTo>
                <a:lnTo>
                  <a:pt x="498" y="487"/>
                </a:lnTo>
                <a:lnTo>
                  <a:pt x="493" y="491"/>
                </a:lnTo>
                <a:lnTo>
                  <a:pt x="476" y="491"/>
                </a:lnTo>
                <a:lnTo>
                  <a:pt x="467" y="500"/>
                </a:lnTo>
                <a:lnTo>
                  <a:pt x="454" y="500"/>
                </a:lnTo>
                <a:lnTo>
                  <a:pt x="449" y="509"/>
                </a:lnTo>
                <a:lnTo>
                  <a:pt x="440" y="509"/>
                </a:lnTo>
                <a:lnTo>
                  <a:pt x="427" y="509"/>
                </a:lnTo>
                <a:lnTo>
                  <a:pt x="414" y="509"/>
                </a:lnTo>
                <a:lnTo>
                  <a:pt x="405" y="509"/>
                </a:lnTo>
                <a:lnTo>
                  <a:pt x="392" y="509"/>
                </a:lnTo>
                <a:lnTo>
                  <a:pt x="383" y="509"/>
                </a:lnTo>
                <a:lnTo>
                  <a:pt x="370" y="509"/>
                </a:lnTo>
                <a:lnTo>
                  <a:pt x="357" y="500"/>
                </a:lnTo>
                <a:lnTo>
                  <a:pt x="348" y="500"/>
                </a:lnTo>
                <a:lnTo>
                  <a:pt x="348" y="491"/>
                </a:lnTo>
                <a:lnTo>
                  <a:pt x="343" y="487"/>
                </a:lnTo>
                <a:lnTo>
                  <a:pt x="335" y="473"/>
                </a:lnTo>
                <a:lnTo>
                  <a:pt x="335" y="465"/>
                </a:lnTo>
                <a:lnTo>
                  <a:pt x="326" y="456"/>
                </a:lnTo>
                <a:lnTo>
                  <a:pt x="317" y="447"/>
                </a:lnTo>
                <a:lnTo>
                  <a:pt x="317" y="438"/>
                </a:lnTo>
                <a:lnTo>
                  <a:pt x="317" y="429"/>
                </a:lnTo>
                <a:lnTo>
                  <a:pt x="308" y="420"/>
                </a:lnTo>
                <a:lnTo>
                  <a:pt x="308" y="412"/>
                </a:lnTo>
                <a:lnTo>
                  <a:pt x="308" y="407"/>
                </a:lnTo>
                <a:lnTo>
                  <a:pt x="308" y="397"/>
                </a:lnTo>
                <a:lnTo>
                  <a:pt x="286" y="407"/>
                </a:lnTo>
                <a:lnTo>
                  <a:pt x="268" y="420"/>
                </a:lnTo>
                <a:lnTo>
                  <a:pt x="260" y="429"/>
                </a:lnTo>
                <a:lnTo>
                  <a:pt x="251" y="447"/>
                </a:lnTo>
                <a:lnTo>
                  <a:pt x="242" y="456"/>
                </a:lnTo>
                <a:lnTo>
                  <a:pt x="224" y="465"/>
                </a:lnTo>
                <a:lnTo>
                  <a:pt x="202" y="473"/>
                </a:lnTo>
                <a:lnTo>
                  <a:pt x="185" y="487"/>
                </a:lnTo>
                <a:lnTo>
                  <a:pt x="171" y="491"/>
                </a:lnTo>
                <a:lnTo>
                  <a:pt x="154" y="500"/>
                </a:lnTo>
                <a:lnTo>
                  <a:pt x="145" y="509"/>
                </a:lnTo>
                <a:lnTo>
                  <a:pt x="127" y="509"/>
                </a:lnTo>
                <a:lnTo>
                  <a:pt x="114" y="513"/>
                </a:lnTo>
                <a:lnTo>
                  <a:pt x="88" y="513"/>
                </a:lnTo>
                <a:lnTo>
                  <a:pt x="74" y="509"/>
                </a:lnTo>
                <a:lnTo>
                  <a:pt x="48" y="509"/>
                </a:lnTo>
                <a:lnTo>
                  <a:pt x="48" y="500"/>
                </a:lnTo>
                <a:lnTo>
                  <a:pt x="44" y="491"/>
                </a:lnTo>
                <a:lnTo>
                  <a:pt x="35" y="487"/>
                </a:lnTo>
                <a:lnTo>
                  <a:pt x="17" y="473"/>
                </a:lnTo>
                <a:lnTo>
                  <a:pt x="17" y="465"/>
                </a:lnTo>
                <a:lnTo>
                  <a:pt x="17" y="456"/>
                </a:lnTo>
                <a:lnTo>
                  <a:pt x="8" y="447"/>
                </a:lnTo>
                <a:lnTo>
                  <a:pt x="8" y="438"/>
                </a:lnTo>
                <a:lnTo>
                  <a:pt x="8" y="420"/>
                </a:lnTo>
                <a:lnTo>
                  <a:pt x="0" y="412"/>
                </a:lnTo>
                <a:lnTo>
                  <a:pt x="0" y="397"/>
                </a:lnTo>
                <a:lnTo>
                  <a:pt x="0" y="393"/>
                </a:lnTo>
                <a:lnTo>
                  <a:pt x="8" y="375"/>
                </a:lnTo>
                <a:lnTo>
                  <a:pt x="8" y="367"/>
                </a:lnTo>
                <a:lnTo>
                  <a:pt x="8" y="353"/>
                </a:lnTo>
                <a:lnTo>
                  <a:pt x="17" y="344"/>
                </a:lnTo>
                <a:lnTo>
                  <a:pt x="17" y="322"/>
                </a:lnTo>
                <a:lnTo>
                  <a:pt x="35" y="300"/>
                </a:lnTo>
                <a:lnTo>
                  <a:pt x="48" y="274"/>
                </a:lnTo>
                <a:lnTo>
                  <a:pt x="57" y="256"/>
                </a:lnTo>
                <a:lnTo>
                  <a:pt x="74" y="230"/>
                </a:lnTo>
                <a:lnTo>
                  <a:pt x="97" y="217"/>
                </a:lnTo>
                <a:lnTo>
                  <a:pt x="114" y="190"/>
                </a:lnTo>
                <a:lnTo>
                  <a:pt x="136" y="177"/>
                </a:lnTo>
                <a:lnTo>
                  <a:pt x="149" y="164"/>
                </a:lnTo>
                <a:lnTo>
                  <a:pt x="171" y="146"/>
                </a:lnTo>
                <a:lnTo>
                  <a:pt x="194" y="127"/>
                </a:lnTo>
                <a:lnTo>
                  <a:pt x="224" y="123"/>
                </a:lnTo>
                <a:lnTo>
                  <a:pt x="242" y="110"/>
                </a:lnTo>
                <a:lnTo>
                  <a:pt x="260" y="101"/>
                </a:lnTo>
                <a:lnTo>
                  <a:pt x="277" y="101"/>
                </a:lnTo>
                <a:lnTo>
                  <a:pt x="308" y="101"/>
                </a:lnTo>
                <a:lnTo>
                  <a:pt x="317" y="110"/>
                </a:lnTo>
                <a:lnTo>
                  <a:pt x="317" y="119"/>
                </a:lnTo>
                <a:lnTo>
                  <a:pt x="326" y="119"/>
                </a:lnTo>
                <a:lnTo>
                  <a:pt x="335" y="119"/>
                </a:lnTo>
                <a:lnTo>
                  <a:pt x="335" y="123"/>
                </a:lnTo>
                <a:lnTo>
                  <a:pt x="335" y="127"/>
                </a:lnTo>
                <a:lnTo>
                  <a:pt x="343" y="127"/>
                </a:lnTo>
                <a:lnTo>
                  <a:pt x="343" y="137"/>
                </a:lnTo>
                <a:lnTo>
                  <a:pt x="348" y="137"/>
                </a:lnTo>
                <a:lnTo>
                  <a:pt x="348" y="146"/>
                </a:lnTo>
                <a:lnTo>
                  <a:pt x="348" y="155"/>
                </a:lnTo>
                <a:lnTo>
                  <a:pt x="348" y="164"/>
                </a:lnTo>
                <a:lnTo>
                  <a:pt x="348" y="168"/>
                </a:lnTo>
                <a:lnTo>
                  <a:pt x="326" y="168"/>
                </a:lnTo>
                <a:lnTo>
                  <a:pt x="304" y="168"/>
                </a:lnTo>
                <a:lnTo>
                  <a:pt x="277" y="177"/>
                </a:lnTo>
                <a:lnTo>
                  <a:pt x="260" y="186"/>
                </a:lnTo>
                <a:lnTo>
                  <a:pt x="242" y="190"/>
                </a:lnTo>
                <a:lnTo>
                  <a:pt x="233" y="199"/>
                </a:lnTo>
                <a:lnTo>
                  <a:pt x="211" y="217"/>
                </a:lnTo>
                <a:lnTo>
                  <a:pt x="194" y="230"/>
                </a:lnTo>
                <a:lnTo>
                  <a:pt x="171" y="247"/>
                </a:lnTo>
                <a:lnTo>
                  <a:pt x="154" y="265"/>
                </a:lnTo>
                <a:lnTo>
                  <a:pt x="145" y="274"/>
                </a:lnTo>
                <a:lnTo>
                  <a:pt x="127" y="300"/>
                </a:lnTo>
                <a:lnTo>
                  <a:pt x="114" y="314"/>
                </a:lnTo>
                <a:lnTo>
                  <a:pt x="97" y="336"/>
                </a:lnTo>
                <a:lnTo>
                  <a:pt x="79" y="353"/>
                </a:lnTo>
                <a:lnTo>
                  <a:pt x="74" y="375"/>
                </a:lnTo>
                <a:lnTo>
                  <a:pt x="74" y="384"/>
                </a:lnTo>
                <a:lnTo>
                  <a:pt x="74" y="393"/>
                </a:lnTo>
                <a:lnTo>
                  <a:pt x="74" y="397"/>
                </a:lnTo>
                <a:lnTo>
                  <a:pt x="74" y="407"/>
                </a:lnTo>
                <a:lnTo>
                  <a:pt x="66" y="407"/>
                </a:lnTo>
                <a:lnTo>
                  <a:pt x="66" y="412"/>
                </a:lnTo>
                <a:lnTo>
                  <a:pt x="57" y="412"/>
                </a:lnTo>
                <a:lnTo>
                  <a:pt x="74" y="420"/>
                </a:lnTo>
                <a:lnTo>
                  <a:pt x="88" y="420"/>
                </a:lnTo>
                <a:lnTo>
                  <a:pt x="105" y="420"/>
                </a:lnTo>
                <a:lnTo>
                  <a:pt x="119" y="420"/>
                </a:lnTo>
                <a:lnTo>
                  <a:pt x="136" y="420"/>
                </a:lnTo>
                <a:lnTo>
                  <a:pt x="145" y="412"/>
                </a:lnTo>
                <a:lnTo>
                  <a:pt x="154" y="412"/>
                </a:lnTo>
                <a:lnTo>
                  <a:pt x="171" y="397"/>
                </a:lnTo>
                <a:lnTo>
                  <a:pt x="185" y="393"/>
                </a:lnTo>
                <a:lnTo>
                  <a:pt x="202" y="384"/>
                </a:lnTo>
                <a:lnTo>
                  <a:pt x="216" y="375"/>
                </a:lnTo>
                <a:lnTo>
                  <a:pt x="224" y="362"/>
                </a:lnTo>
                <a:lnTo>
                  <a:pt x="242" y="353"/>
                </a:lnTo>
                <a:lnTo>
                  <a:pt x="251" y="336"/>
                </a:lnTo>
                <a:lnTo>
                  <a:pt x="260" y="322"/>
                </a:lnTo>
                <a:lnTo>
                  <a:pt x="268" y="314"/>
                </a:lnTo>
                <a:lnTo>
                  <a:pt x="277" y="309"/>
                </a:lnTo>
                <a:lnTo>
                  <a:pt x="286" y="292"/>
                </a:lnTo>
                <a:lnTo>
                  <a:pt x="295" y="283"/>
                </a:lnTo>
                <a:lnTo>
                  <a:pt x="308" y="274"/>
                </a:lnTo>
                <a:lnTo>
                  <a:pt x="317" y="265"/>
                </a:lnTo>
                <a:lnTo>
                  <a:pt x="326" y="256"/>
                </a:lnTo>
                <a:lnTo>
                  <a:pt x="335" y="239"/>
                </a:lnTo>
                <a:lnTo>
                  <a:pt x="335" y="230"/>
                </a:lnTo>
                <a:lnTo>
                  <a:pt x="343" y="217"/>
                </a:lnTo>
                <a:lnTo>
                  <a:pt x="348" y="199"/>
                </a:lnTo>
                <a:lnTo>
                  <a:pt x="357" y="190"/>
                </a:lnTo>
                <a:lnTo>
                  <a:pt x="366" y="186"/>
                </a:lnTo>
                <a:lnTo>
                  <a:pt x="370" y="168"/>
                </a:lnTo>
                <a:lnTo>
                  <a:pt x="370" y="155"/>
                </a:lnTo>
                <a:lnTo>
                  <a:pt x="374" y="137"/>
                </a:lnTo>
                <a:lnTo>
                  <a:pt x="383" y="127"/>
                </a:lnTo>
                <a:lnTo>
                  <a:pt x="383" y="123"/>
                </a:lnTo>
                <a:lnTo>
                  <a:pt x="392" y="123"/>
                </a:lnTo>
                <a:lnTo>
                  <a:pt x="401" y="119"/>
                </a:lnTo>
                <a:lnTo>
                  <a:pt x="405" y="119"/>
                </a:lnTo>
                <a:lnTo>
                  <a:pt x="414" y="119"/>
                </a:lnTo>
                <a:lnTo>
                  <a:pt x="423" y="119"/>
                </a:lnTo>
                <a:lnTo>
                  <a:pt x="423" y="123"/>
                </a:lnTo>
                <a:lnTo>
                  <a:pt x="427" y="123"/>
                </a:lnTo>
                <a:lnTo>
                  <a:pt x="432" y="123"/>
                </a:lnTo>
                <a:lnTo>
                  <a:pt x="440" y="127"/>
                </a:lnTo>
                <a:lnTo>
                  <a:pt x="440" y="137"/>
                </a:lnTo>
                <a:lnTo>
                  <a:pt x="449" y="137"/>
                </a:lnTo>
                <a:lnTo>
                  <a:pt x="454" y="146"/>
                </a:lnTo>
                <a:lnTo>
                  <a:pt x="463" y="155"/>
                </a:lnTo>
                <a:lnTo>
                  <a:pt x="467" y="164"/>
                </a:lnTo>
                <a:lnTo>
                  <a:pt x="467" y="168"/>
                </a:lnTo>
                <a:lnTo>
                  <a:pt x="467" y="186"/>
                </a:lnTo>
                <a:lnTo>
                  <a:pt x="467" y="190"/>
                </a:lnTo>
                <a:lnTo>
                  <a:pt x="467" y="199"/>
                </a:lnTo>
                <a:lnTo>
                  <a:pt x="467" y="208"/>
                </a:lnTo>
                <a:lnTo>
                  <a:pt x="463" y="217"/>
                </a:lnTo>
                <a:lnTo>
                  <a:pt x="454" y="221"/>
                </a:lnTo>
                <a:lnTo>
                  <a:pt x="449" y="221"/>
                </a:lnTo>
                <a:lnTo>
                  <a:pt x="449" y="230"/>
                </a:lnTo>
                <a:lnTo>
                  <a:pt x="440" y="239"/>
                </a:lnTo>
                <a:lnTo>
                  <a:pt x="432" y="247"/>
                </a:lnTo>
                <a:lnTo>
                  <a:pt x="427" y="247"/>
                </a:lnTo>
                <a:lnTo>
                  <a:pt x="423" y="256"/>
                </a:lnTo>
                <a:lnTo>
                  <a:pt x="423" y="265"/>
                </a:lnTo>
                <a:lnTo>
                  <a:pt x="414" y="269"/>
                </a:lnTo>
                <a:lnTo>
                  <a:pt x="405" y="274"/>
                </a:lnTo>
                <a:lnTo>
                  <a:pt x="405" y="283"/>
                </a:lnTo>
                <a:lnTo>
                  <a:pt x="401" y="292"/>
                </a:lnTo>
                <a:lnTo>
                  <a:pt x="401" y="300"/>
                </a:lnTo>
                <a:lnTo>
                  <a:pt x="401" y="314"/>
                </a:lnTo>
                <a:lnTo>
                  <a:pt x="392" y="322"/>
                </a:lnTo>
                <a:lnTo>
                  <a:pt x="392" y="327"/>
                </a:lnTo>
                <a:lnTo>
                  <a:pt x="392" y="336"/>
                </a:lnTo>
                <a:lnTo>
                  <a:pt x="383" y="344"/>
                </a:lnTo>
                <a:lnTo>
                  <a:pt x="383" y="362"/>
                </a:lnTo>
                <a:lnTo>
                  <a:pt x="383" y="367"/>
                </a:lnTo>
                <a:lnTo>
                  <a:pt x="383" y="375"/>
                </a:lnTo>
                <a:lnTo>
                  <a:pt x="383" y="384"/>
                </a:lnTo>
                <a:lnTo>
                  <a:pt x="383" y="393"/>
                </a:lnTo>
                <a:lnTo>
                  <a:pt x="383" y="397"/>
                </a:lnTo>
                <a:lnTo>
                  <a:pt x="383" y="412"/>
                </a:lnTo>
                <a:lnTo>
                  <a:pt x="392" y="420"/>
                </a:lnTo>
                <a:lnTo>
                  <a:pt x="405" y="420"/>
                </a:lnTo>
                <a:lnTo>
                  <a:pt x="427" y="412"/>
                </a:lnTo>
                <a:lnTo>
                  <a:pt x="440" y="412"/>
                </a:lnTo>
                <a:lnTo>
                  <a:pt x="454" y="397"/>
                </a:lnTo>
                <a:lnTo>
                  <a:pt x="476" y="393"/>
                </a:lnTo>
                <a:lnTo>
                  <a:pt x="493" y="384"/>
                </a:lnTo>
                <a:lnTo>
                  <a:pt x="498" y="367"/>
                </a:lnTo>
                <a:lnTo>
                  <a:pt x="511" y="353"/>
                </a:lnTo>
                <a:lnTo>
                  <a:pt x="524" y="336"/>
                </a:lnTo>
                <a:lnTo>
                  <a:pt x="537" y="322"/>
                </a:lnTo>
                <a:lnTo>
                  <a:pt x="546" y="309"/>
                </a:lnTo>
                <a:lnTo>
                  <a:pt x="560" y="292"/>
                </a:lnTo>
                <a:lnTo>
                  <a:pt x="573" y="269"/>
                </a:lnTo>
                <a:lnTo>
                  <a:pt x="590" y="256"/>
                </a:lnTo>
                <a:lnTo>
                  <a:pt x="604" y="239"/>
                </a:lnTo>
                <a:lnTo>
                  <a:pt x="612" y="221"/>
                </a:lnTo>
                <a:lnTo>
                  <a:pt x="617" y="217"/>
                </a:lnTo>
                <a:lnTo>
                  <a:pt x="617" y="208"/>
                </a:lnTo>
                <a:lnTo>
                  <a:pt x="621" y="190"/>
                </a:lnTo>
                <a:lnTo>
                  <a:pt x="621" y="186"/>
                </a:lnTo>
                <a:lnTo>
                  <a:pt x="626" y="177"/>
                </a:lnTo>
                <a:lnTo>
                  <a:pt x="626" y="164"/>
                </a:lnTo>
                <a:lnTo>
                  <a:pt x="635" y="155"/>
                </a:lnTo>
                <a:lnTo>
                  <a:pt x="635" y="146"/>
                </a:lnTo>
                <a:lnTo>
                  <a:pt x="643" y="137"/>
                </a:lnTo>
                <a:lnTo>
                  <a:pt x="652" y="123"/>
                </a:lnTo>
                <a:lnTo>
                  <a:pt x="657" y="119"/>
                </a:lnTo>
                <a:lnTo>
                  <a:pt x="670" y="119"/>
                </a:lnTo>
                <a:lnTo>
                  <a:pt x="679" y="123"/>
                </a:lnTo>
                <a:lnTo>
                  <a:pt x="687" y="123"/>
                </a:lnTo>
                <a:lnTo>
                  <a:pt x="701" y="137"/>
                </a:lnTo>
                <a:lnTo>
                  <a:pt x="709" y="146"/>
                </a:lnTo>
                <a:lnTo>
                  <a:pt x="718" y="164"/>
                </a:lnTo>
                <a:lnTo>
                  <a:pt x="723" y="177"/>
                </a:lnTo>
                <a:lnTo>
                  <a:pt x="727" y="186"/>
                </a:lnTo>
                <a:lnTo>
                  <a:pt x="727" y="199"/>
                </a:lnTo>
                <a:lnTo>
                  <a:pt x="736" y="217"/>
                </a:lnTo>
                <a:lnTo>
                  <a:pt x="736" y="230"/>
                </a:lnTo>
                <a:lnTo>
                  <a:pt x="740" y="247"/>
                </a:lnTo>
                <a:lnTo>
                  <a:pt x="740" y="265"/>
                </a:lnTo>
                <a:lnTo>
                  <a:pt x="749" y="274"/>
                </a:lnTo>
                <a:lnTo>
                  <a:pt x="749" y="292"/>
                </a:lnTo>
                <a:lnTo>
                  <a:pt x="749" y="309"/>
                </a:lnTo>
                <a:lnTo>
                  <a:pt x="754" y="322"/>
                </a:lnTo>
                <a:lnTo>
                  <a:pt x="754" y="336"/>
                </a:lnTo>
                <a:lnTo>
                  <a:pt x="754" y="344"/>
                </a:lnTo>
                <a:lnTo>
                  <a:pt x="758" y="367"/>
                </a:lnTo>
                <a:lnTo>
                  <a:pt x="789" y="367"/>
                </a:lnTo>
                <a:lnTo>
                  <a:pt x="811" y="367"/>
                </a:lnTo>
                <a:lnTo>
                  <a:pt x="829" y="362"/>
                </a:lnTo>
                <a:lnTo>
                  <a:pt x="846" y="344"/>
                </a:lnTo>
                <a:lnTo>
                  <a:pt x="859" y="336"/>
                </a:lnTo>
                <a:lnTo>
                  <a:pt x="877" y="314"/>
                </a:lnTo>
                <a:lnTo>
                  <a:pt x="890" y="300"/>
                </a:lnTo>
                <a:lnTo>
                  <a:pt x="899" y="274"/>
                </a:lnTo>
                <a:lnTo>
                  <a:pt x="912" y="265"/>
                </a:lnTo>
                <a:lnTo>
                  <a:pt x="926" y="239"/>
                </a:lnTo>
                <a:lnTo>
                  <a:pt x="934" y="217"/>
                </a:lnTo>
                <a:lnTo>
                  <a:pt x="952" y="190"/>
                </a:lnTo>
                <a:lnTo>
                  <a:pt x="952" y="168"/>
                </a:lnTo>
                <a:lnTo>
                  <a:pt x="970" y="155"/>
                </a:lnTo>
                <a:lnTo>
                  <a:pt x="983" y="137"/>
                </a:lnTo>
                <a:lnTo>
                  <a:pt x="1001" y="123"/>
                </a:lnTo>
                <a:lnTo>
                  <a:pt x="996" y="110"/>
                </a:lnTo>
                <a:lnTo>
                  <a:pt x="996" y="101"/>
                </a:lnTo>
                <a:lnTo>
                  <a:pt x="996" y="92"/>
                </a:lnTo>
                <a:lnTo>
                  <a:pt x="996" y="83"/>
                </a:lnTo>
                <a:lnTo>
                  <a:pt x="996" y="70"/>
                </a:lnTo>
                <a:lnTo>
                  <a:pt x="1001" y="61"/>
                </a:lnTo>
                <a:lnTo>
                  <a:pt x="1001" y="57"/>
                </a:lnTo>
                <a:lnTo>
                  <a:pt x="1001" y="48"/>
                </a:lnTo>
                <a:lnTo>
                  <a:pt x="1009" y="39"/>
                </a:lnTo>
                <a:lnTo>
                  <a:pt x="1014" y="30"/>
                </a:lnTo>
                <a:lnTo>
                  <a:pt x="1023" y="26"/>
                </a:lnTo>
                <a:lnTo>
                  <a:pt x="1031" y="17"/>
                </a:lnTo>
                <a:lnTo>
                  <a:pt x="1040" y="8"/>
                </a:lnTo>
                <a:lnTo>
                  <a:pt x="1049" y="8"/>
                </a:lnTo>
                <a:lnTo>
                  <a:pt x="1049" y="0"/>
                </a:lnTo>
                <a:lnTo>
                  <a:pt x="1068" y="0"/>
                </a:lnTo>
                <a:lnTo>
                  <a:pt x="1076" y="0"/>
                </a:lnTo>
                <a:lnTo>
                  <a:pt x="1090" y="0"/>
                </a:lnTo>
                <a:lnTo>
                  <a:pt x="1094" y="0"/>
                </a:lnTo>
                <a:lnTo>
                  <a:pt x="1107" y="0"/>
                </a:lnTo>
                <a:lnTo>
                  <a:pt x="1121" y="0"/>
                </a:lnTo>
                <a:lnTo>
                  <a:pt x="1138" y="0"/>
                </a:lnTo>
                <a:lnTo>
                  <a:pt x="1147" y="0"/>
                </a:lnTo>
                <a:lnTo>
                  <a:pt x="1156" y="0"/>
                </a:lnTo>
                <a:lnTo>
                  <a:pt x="1165" y="8"/>
                </a:lnTo>
                <a:lnTo>
                  <a:pt x="1182" y="8"/>
                </a:lnTo>
                <a:lnTo>
                  <a:pt x="1187" y="8"/>
                </a:lnTo>
                <a:lnTo>
                  <a:pt x="1200" y="17"/>
                </a:lnTo>
                <a:lnTo>
                  <a:pt x="1209" y="26"/>
                </a:lnTo>
                <a:lnTo>
                  <a:pt x="1213" y="26"/>
                </a:lnTo>
                <a:lnTo>
                  <a:pt x="1226" y="30"/>
                </a:lnTo>
                <a:lnTo>
                  <a:pt x="1235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489640" y="5288040"/>
            <a:ext cx="20880" cy="46440"/>
          </a:xfrm>
          <a:custGeom>
            <a:avLst/>
            <a:gdLst/>
            <a:ahLst/>
            <a:rect l="0" t="0" r="r" b="b"/>
            <a:pathLst>
              <a:path w="58" h="129">
                <a:moveTo>
                  <a:pt x="40" y="121"/>
                </a:moveTo>
                <a:lnTo>
                  <a:pt x="8" y="129"/>
                </a:lnTo>
                <a:lnTo>
                  <a:pt x="4" y="125"/>
                </a:lnTo>
                <a:lnTo>
                  <a:pt x="0" y="121"/>
                </a:lnTo>
                <a:lnTo>
                  <a:pt x="0" y="112"/>
                </a:lnTo>
                <a:lnTo>
                  <a:pt x="0" y="99"/>
                </a:lnTo>
                <a:lnTo>
                  <a:pt x="0" y="93"/>
                </a:lnTo>
                <a:lnTo>
                  <a:pt x="4" y="80"/>
                </a:lnTo>
                <a:lnTo>
                  <a:pt x="4" y="67"/>
                </a:lnTo>
                <a:lnTo>
                  <a:pt x="8" y="62"/>
                </a:lnTo>
                <a:lnTo>
                  <a:pt x="13" y="49"/>
                </a:lnTo>
                <a:lnTo>
                  <a:pt x="17" y="40"/>
                </a:lnTo>
                <a:lnTo>
                  <a:pt x="22" y="30"/>
                </a:lnTo>
                <a:lnTo>
                  <a:pt x="26" y="17"/>
                </a:lnTo>
                <a:lnTo>
                  <a:pt x="31" y="13"/>
                </a:lnTo>
                <a:lnTo>
                  <a:pt x="40" y="8"/>
                </a:lnTo>
                <a:lnTo>
                  <a:pt x="45" y="0"/>
                </a:lnTo>
                <a:lnTo>
                  <a:pt x="53" y="0"/>
                </a:lnTo>
                <a:lnTo>
                  <a:pt x="53" y="8"/>
                </a:lnTo>
                <a:lnTo>
                  <a:pt x="53" y="13"/>
                </a:lnTo>
                <a:lnTo>
                  <a:pt x="53" y="17"/>
                </a:lnTo>
                <a:lnTo>
                  <a:pt x="58" y="22"/>
                </a:lnTo>
                <a:lnTo>
                  <a:pt x="58" y="36"/>
                </a:lnTo>
                <a:lnTo>
                  <a:pt x="58" y="40"/>
                </a:lnTo>
                <a:lnTo>
                  <a:pt x="58" y="49"/>
                </a:lnTo>
                <a:lnTo>
                  <a:pt x="53" y="62"/>
                </a:lnTo>
                <a:lnTo>
                  <a:pt x="53" y="67"/>
                </a:lnTo>
                <a:lnTo>
                  <a:pt x="53" y="75"/>
                </a:lnTo>
                <a:lnTo>
                  <a:pt x="53" y="80"/>
                </a:lnTo>
                <a:lnTo>
                  <a:pt x="49" y="89"/>
                </a:lnTo>
                <a:lnTo>
                  <a:pt x="49" y="93"/>
                </a:lnTo>
                <a:lnTo>
                  <a:pt x="49" y="99"/>
                </a:lnTo>
                <a:lnTo>
                  <a:pt x="45" y="107"/>
                </a:lnTo>
                <a:lnTo>
                  <a:pt x="40" y="121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46720" y="5288040"/>
            <a:ext cx="28800" cy="55800"/>
          </a:xfrm>
          <a:custGeom>
            <a:avLst/>
            <a:gdLst/>
            <a:ahLst/>
            <a:rect l="0" t="0" r="r" b="b"/>
            <a:pathLst>
              <a:path w="80" h="155">
                <a:moveTo>
                  <a:pt x="80" y="124"/>
                </a:moveTo>
                <a:lnTo>
                  <a:pt x="75" y="133"/>
                </a:lnTo>
                <a:lnTo>
                  <a:pt x="71" y="142"/>
                </a:lnTo>
                <a:lnTo>
                  <a:pt x="62" y="142"/>
                </a:lnTo>
                <a:lnTo>
                  <a:pt x="58" y="146"/>
                </a:lnTo>
                <a:lnTo>
                  <a:pt x="53" y="146"/>
                </a:lnTo>
                <a:lnTo>
                  <a:pt x="49" y="146"/>
                </a:lnTo>
                <a:lnTo>
                  <a:pt x="45" y="155"/>
                </a:lnTo>
                <a:lnTo>
                  <a:pt x="35" y="155"/>
                </a:lnTo>
                <a:lnTo>
                  <a:pt x="30" y="155"/>
                </a:lnTo>
                <a:lnTo>
                  <a:pt x="26" y="155"/>
                </a:lnTo>
                <a:lnTo>
                  <a:pt x="22" y="155"/>
                </a:lnTo>
                <a:lnTo>
                  <a:pt x="17" y="155"/>
                </a:lnTo>
                <a:lnTo>
                  <a:pt x="4" y="155"/>
                </a:lnTo>
                <a:lnTo>
                  <a:pt x="0" y="155"/>
                </a:lnTo>
                <a:lnTo>
                  <a:pt x="75" y="0"/>
                </a:lnTo>
                <a:lnTo>
                  <a:pt x="75" y="8"/>
                </a:lnTo>
                <a:lnTo>
                  <a:pt x="75" y="13"/>
                </a:lnTo>
                <a:lnTo>
                  <a:pt x="75" y="17"/>
                </a:lnTo>
                <a:lnTo>
                  <a:pt x="75" y="22"/>
                </a:lnTo>
                <a:lnTo>
                  <a:pt x="75" y="39"/>
                </a:lnTo>
                <a:lnTo>
                  <a:pt x="80" y="44"/>
                </a:lnTo>
                <a:lnTo>
                  <a:pt x="80" y="52"/>
                </a:lnTo>
                <a:lnTo>
                  <a:pt x="80" y="66"/>
                </a:lnTo>
                <a:lnTo>
                  <a:pt x="80" y="70"/>
                </a:lnTo>
                <a:lnTo>
                  <a:pt x="80" y="80"/>
                </a:lnTo>
                <a:lnTo>
                  <a:pt x="80" y="84"/>
                </a:lnTo>
                <a:lnTo>
                  <a:pt x="80" y="98"/>
                </a:lnTo>
                <a:lnTo>
                  <a:pt x="80" y="102"/>
                </a:lnTo>
                <a:lnTo>
                  <a:pt x="80" y="111"/>
                </a:lnTo>
                <a:lnTo>
                  <a:pt x="80" y="115"/>
                </a:lnTo>
                <a:lnTo>
                  <a:pt x="80" y="124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13320" y="5241960"/>
            <a:ext cx="1800" cy="30600"/>
          </a:xfrm>
          <a:custGeom>
            <a:avLst/>
            <a:gdLst/>
            <a:ahLst/>
            <a:rect l="0" t="0" r="r" b="b"/>
            <a:pathLst>
              <a:path w="5" h="85">
                <a:moveTo>
                  <a:pt x="0" y="85"/>
                </a:moveTo>
                <a:lnTo>
                  <a:pt x="0" y="81"/>
                </a:lnTo>
                <a:lnTo>
                  <a:pt x="0" y="72"/>
                </a:lnTo>
                <a:lnTo>
                  <a:pt x="5" y="72"/>
                </a:lnTo>
                <a:lnTo>
                  <a:pt x="5" y="62"/>
                </a:lnTo>
                <a:lnTo>
                  <a:pt x="5" y="58"/>
                </a:lnTo>
                <a:lnTo>
                  <a:pt x="5" y="53"/>
                </a:lnTo>
                <a:lnTo>
                  <a:pt x="5" y="49"/>
                </a:lnTo>
                <a:lnTo>
                  <a:pt x="5" y="45"/>
                </a:lnTo>
                <a:lnTo>
                  <a:pt x="5" y="40"/>
                </a:lnTo>
                <a:lnTo>
                  <a:pt x="5" y="31"/>
                </a:lnTo>
                <a:lnTo>
                  <a:pt x="5" y="27"/>
                </a:lnTo>
                <a:lnTo>
                  <a:pt x="5" y="23"/>
                </a:lnTo>
                <a:lnTo>
                  <a:pt x="5" y="13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13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40"/>
                </a:lnTo>
                <a:lnTo>
                  <a:pt x="0" y="45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0" y="62"/>
                </a:lnTo>
                <a:lnTo>
                  <a:pt x="0" y="72"/>
                </a:lnTo>
                <a:lnTo>
                  <a:pt x="0" y="81"/>
                </a:lnTo>
                <a:lnTo>
                  <a:pt x="0" y="85"/>
                </a:lnTo>
                <a:close/>
              </a:path>
            </a:pathLst>
          </a:custGeom>
          <a:solidFill>
            <a:srgbClr val="ffe05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773360" y="1343160"/>
            <a:ext cx="1415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1,00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570640" y="1378080"/>
            <a:ext cx="18273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y 20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38320" y="3448080"/>
            <a:ext cx="3884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ne Thousand and no/100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396120" y="1141560"/>
            <a:ext cx="998280" cy="275040"/>
            <a:chOff x="6396120" y="1141560"/>
            <a:chExt cx="998280" cy="275040"/>
          </a:xfrm>
        </p:grpSpPr>
        <p:sp>
          <p:nvSpPr>
            <p:cNvPr id="605" name=""/>
            <p:cNvSpPr/>
            <p:nvPr/>
          </p:nvSpPr>
          <p:spPr>
            <a:xfrm flipH="1">
              <a:off x="6480000" y="1141560"/>
              <a:ext cx="914400" cy="241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96120" y="1332000"/>
              <a:ext cx="149760" cy="84600"/>
            </a:xfrm>
            <a:custGeom>
              <a:avLst/>
              <a:gdLst/>
              <a:ahLst/>
              <a:rect l="0" t="0" r="r" b="b"/>
              <a:pathLst>
                <a:path w="416" h="235">
                  <a:moveTo>
                    <a:pt x="0" y="235"/>
                  </a:moveTo>
                  <a:lnTo>
                    <a:pt x="416" y="226"/>
                  </a:lnTo>
                  <a:lnTo>
                    <a:pt x="34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999040" y="5184720"/>
            <a:ext cx="1509840" cy="87840"/>
            <a:chOff x="5999040" y="5184720"/>
            <a:chExt cx="1509840" cy="87840"/>
          </a:xfrm>
        </p:grpSpPr>
        <p:sp>
          <p:nvSpPr>
            <p:cNvPr id="608" name=""/>
            <p:cNvSpPr/>
            <p:nvPr/>
          </p:nvSpPr>
          <p:spPr>
            <a:xfrm flipH="1">
              <a:off x="6087960" y="523548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99040" y="5184720"/>
              <a:ext cx="155880" cy="87840"/>
            </a:xfrm>
            <a:custGeom>
              <a:avLst/>
              <a:gdLst/>
              <a:ahLst/>
              <a:rect l="0" t="0" r="r" b="b"/>
              <a:pathLst>
                <a:path w="433" h="244">
                  <a:moveTo>
                    <a:pt x="0" y="124"/>
                  </a:moveTo>
                  <a:lnTo>
                    <a:pt x="433" y="244"/>
                  </a:lnTo>
                  <a:lnTo>
                    <a:pt x="433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86480" y="4519440"/>
            <a:ext cx="981000" cy="127440"/>
            <a:chOff x="6486480" y="4519440"/>
            <a:chExt cx="981000" cy="127440"/>
          </a:xfrm>
        </p:grpSpPr>
        <p:sp>
          <p:nvSpPr>
            <p:cNvPr id="611" name=""/>
            <p:cNvSpPr/>
            <p:nvPr/>
          </p:nvSpPr>
          <p:spPr>
            <a:xfrm flipH="1">
              <a:off x="6545160" y="4592520"/>
              <a:ext cx="9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86480" y="4519440"/>
              <a:ext cx="95760" cy="127440"/>
            </a:xfrm>
            <a:custGeom>
              <a:avLst/>
              <a:gdLst/>
              <a:ahLst/>
              <a:rect l="0" t="0" r="r" b="b"/>
              <a:pathLst>
                <a:path w="266" h="354">
                  <a:moveTo>
                    <a:pt x="0" y="177"/>
                  </a:moveTo>
                  <a:lnTo>
                    <a:pt x="266" y="354"/>
                  </a:lnTo>
                  <a:lnTo>
                    <a:pt x="266" y="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2496960" y="4078440"/>
            <a:ext cx="2238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gust 18, 20x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654440" y="3967200"/>
            <a:ext cx="2813040" cy="246600"/>
            <a:chOff x="4654440" y="3967200"/>
            <a:chExt cx="2813040" cy="246600"/>
          </a:xfrm>
        </p:grpSpPr>
        <p:sp>
          <p:nvSpPr>
            <p:cNvPr id="615" name=""/>
            <p:cNvSpPr/>
            <p:nvPr/>
          </p:nvSpPr>
          <p:spPr>
            <a:xfrm flipH="1">
              <a:off x="4740120" y="3967200"/>
              <a:ext cx="2727360" cy="20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54440" y="4137120"/>
              <a:ext cx="159120" cy="76680"/>
            </a:xfrm>
            <a:custGeom>
              <a:avLst/>
              <a:gdLst/>
              <a:ahLst/>
              <a:rect l="0" t="0" r="r" b="b"/>
              <a:pathLst>
                <a:path w="442" h="213">
                  <a:moveTo>
                    <a:pt x="0" y="146"/>
                  </a:moveTo>
                  <a:lnTo>
                    <a:pt x="442" y="213"/>
                  </a:lnTo>
                  <a:lnTo>
                    <a:pt x="41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161040" y="2790720"/>
            <a:ext cx="1387440" cy="66960"/>
            <a:chOff x="6161040" y="2790720"/>
            <a:chExt cx="1387440" cy="66960"/>
          </a:xfrm>
        </p:grpSpPr>
        <p:sp>
          <p:nvSpPr>
            <p:cNvPr id="618" name=""/>
            <p:cNvSpPr/>
            <p:nvPr/>
          </p:nvSpPr>
          <p:spPr>
            <a:xfrm flipH="1">
              <a:off x="6240600" y="2828880"/>
              <a:ext cx="130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61040" y="2790720"/>
              <a:ext cx="136800" cy="66960"/>
            </a:xfrm>
            <a:custGeom>
              <a:avLst/>
              <a:gdLst/>
              <a:ahLst/>
              <a:rect l="0" t="0" r="r" b="b"/>
              <a:pathLst>
                <a:path w="380" h="186">
                  <a:moveTo>
                    <a:pt x="0" y="92"/>
                  </a:moveTo>
                  <a:lnTo>
                    <a:pt x="380" y="186"/>
                  </a:lnTo>
                  <a:lnTo>
                    <a:pt x="380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128600" y="1544760"/>
            <a:ext cx="689400" cy="849240"/>
            <a:chOff x="1128600" y="1544760"/>
            <a:chExt cx="689400" cy="849240"/>
          </a:xfrm>
        </p:grpSpPr>
        <p:sp>
          <p:nvSpPr>
            <p:cNvPr id="621" name=""/>
            <p:cNvSpPr/>
            <p:nvPr/>
          </p:nvSpPr>
          <p:spPr>
            <a:xfrm flipV="1">
              <a:off x="1128600" y="1622520"/>
              <a:ext cx="598680" cy="771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85880" y="1544760"/>
              <a:ext cx="132120" cy="144720"/>
            </a:xfrm>
            <a:custGeom>
              <a:avLst/>
              <a:gdLst/>
              <a:ahLst/>
              <a:rect l="0" t="0" r="r" b="b"/>
              <a:pathLst>
                <a:path w="367" h="402">
                  <a:moveTo>
                    <a:pt x="367" y="0"/>
                  </a:moveTo>
                  <a:lnTo>
                    <a:pt x="0" y="239"/>
                  </a:lnTo>
                  <a:lnTo>
                    <a:pt x="186" y="402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141560" y="2714760"/>
            <a:ext cx="889200" cy="800280"/>
            <a:chOff x="1141560" y="2714760"/>
            <a:chExt cx="889200" cy="800280"/>
          </a:xfrm>
        </p:grpSpPr>
        <p:sp>
          <p:nvSpPr>
            <p:cNvPr id="624" name=""/>
            <p:cNvSpPr/>
            <p:nvPr/>
          </p:nvSpPr>
          <p:spPr>
            <a:xfrm>
              <a:off x="1141560" y="2714760"/>
              <a:ext cx="799920" cy="712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84240" y="3375000"/>
              <a:ext cx="146520" cy="140040"/>
            </a:xfrm>
            <a:custGeom>
              <a:avLst/>
              <a:gdLst/>
              <a:ahLst/>
              <a:rect l="0" t="0" r="r" b="b"/>
              <a:pathLst>
                <a:path w="407" h="389">
                  <a:moveTo>
                    <a:pt x="407" y="389"/>
                  </a:moveTo>
                  <a:lnTo>
                    <a:pt x="172" y="0"/>
                  </a:lnTo>
                  <a:lnTo>
                    <a:pt x="0" y="189"/>
                  </a:lnTo>
                  <a:lnTo>
                    <a:pt x="407" y="3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990720" y="380880"/>
            <a:ext cx="76168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752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veral terms are important in accounting for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turity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e on which the note must be p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Duration of no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length of time in days between a promissory note’s issue date and its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1143000" y="484200"/>
            <a:ext cx="75405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s for Promissory N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914400" y="2057400"/>
            <a:ext cx="7866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terest and interest 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of borrowing money or the return for lending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Maturity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total proceeds at the maturity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6858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llect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$4,000 x 12/100 x 30/360 = $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91440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685800" y="17524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/1   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ved 12%, 30-day not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 payment of A/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/1   Account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0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ord dishonored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90720" y="2286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llustrativ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673200" y="1143000"/>
            <a:ext cx="8470800" cy="50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9/30  Interes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accrue 30 days’ interes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arned on a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ote recei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/30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2,026.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2,000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Receivab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13.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ceipt of note receivabl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plus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371600" y="228600"/>
            <a:ext cx="689436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djusting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600200" y="8380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09480" y="20574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promissory note?  Who is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r? Who is the pay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romissory note is an uncondit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 to pay a definite sum of mone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demand or at a future date. The pers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o signs the note and therefor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ises to pay is called the maker.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son to whom payment should be mad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called the pay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38080" y="228600"/>
            <a:ext cx="1827360" cy="1827360"/>
            <a:chOff x="838080" y="228600"/>
            <a:chExt cx="1827360" cy="1827360"/>
          </a:xfrm>
        </p:grpSpPr>
        <p:sp>
          <p:nvSpPr>
            <p:cNvPr id="639" name=""/>
            <p:cNvSpPr/>
            <p:nvPr/>
          </p:nvSpPr>
          <p:spPr>
            <a:xfrm>
              <a:off x="843120" y="1125360"/>
              <a:ext cx="444960" cy="638640"/>
            </a:xfrm>
            <a:custGeom>
              <a:avLst/>
              <a:gdLst/>
              <a:ahLst/>
              <a:rect l="0" t="0" r="r" b="b"/>
              <a:pathLst>
                <a:path w="1236" h="1774">
                  <a:moveTo>
                    <a:pt x="494" y="0"/>
                  </a:moveTo>
                  <a:lnTo>
                    <a:pt x="428" y="83"/>
                  </a:lnTo>
                  <a:lnTo>
                    <a:pt x="428" y="308"/>
                  </a:lnTo>
                  <a:lnTo>
                    <a:pt x="494" y="477"/>
                  </a:lnTo>
                  <a:lnTo>
                    <a:pt x="565" y="561"/>
                  </a:lnTo>
                  <a:lnTo>
                    <a:pt x="455" y="675"/>
                  </a:lnTo>
                  <a:lnTo>
                    <a:pt x="308" y="931"/>
                  </a:lnTo>
                  <a:lnTo>
                    <a:pt x="22" y="1342"/>
                  </a:lnTo>
                  <a:lnTo>
                    <a:pt x="0" y="1435"/>
                  </a:lnTo>
                  <a:lnTo>
                    <a:pt x="22" y="1523"/>
                  </a:lnTo>
                  <a:lnTo>
                    <a:pt x="114" y="1523"/>
                  </a:lnTo>
                  <a:lnTo>
                    <a:pt x="189" y="1426"/>
                  </a:lnTo>
                  <a:lnTo>
                    <a:pt x="308" y="1196"/>
                  </a:lnTo>
                  <a:lnTo>
                    <a:pt x="384" y="1099"/>
                  </a:lnTo>
                  <a:lnTo>
                    <a:pt x="428" y="1248"/>
                  </a:lnTo>
                  <a:lnTo>
                    <a:pt x="397" y="1413"/>
                  </a:lnTo>
                  <a:lnTo>
                    <a:pt x="277" y="1651"/>
                  </a:lnTo>
                  <a:lnTo>
                    <a:pt x="308" y="1695"/>
                  </a:lnTo>
                  <a:lnTo>
                    <a:pt x="384" y="1682"/>
                  </a:lnTo>
                  <a:lnTo>
                    <a:pt x="534" y="1563"/>
                  </a:lnTo>
                  <a:lnTo>
                    <a:pt x="658" y="1355"/>
                  </a:lnTo>
                  <a:lnTo>
                    <a:pt x="658" y="1717"/>
                  </a:lnTo>
                  <a:lnTo>
                    <a:pt x="807" y="1774"/>
                  </a:lnTo>
                  <a:lnTo>
                    <a:pt x="891" y="1554"/>
                  </a:lnTo>
                  <a:lnTo>
                    <a:pt x="967" y="1761"/>
                  </a:lnTo>
                  <a:lnTo>
                    <a:pt x="1029" y="1695"/>
                  </a:lnTo>
                  <a:lnTo>
                    <a:pt x="1055" y="1293"/>
                  </a:lnTo>
                  <a:lnTo>
                    <a:pt x="1236" y="900"/>
                  </a:lnTo>
                  <a:lnTo>
                    <a:pt x="1197" y="675"/>
                  </a:lnTo>
                  <a:lnTo>
                    <a:pt x="1069" y="587"/>
                  </a:lnTo>
                  <a:lnTo>
                    <a:pt x="936" y="605"/>
                  </a:lnTo>
                  <a:lnTo>
                    <a:pt x="891" y="418"/>
                  </a:lnTo>
                  <a:lnTo>
                    <a:pt x="755" y="374"/>
                  </a:lnTo>
                  <a:lnTo>
                    <a:pt x="636" y="321"/>
                  </a:lnTo>
                  <a:lnTo>
                    <a:pt x="565" y="39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16080" y="1384200"/>
              <a:ext cx="130680" cy="308160"/>
            </a:xfrm>
            <a:custGeom>
              <a:avLst/>
              <a:gdLst/>
              <a:ahLst/>
              <a:rect l="0" t="0" r="r" b="b"/>
              <a:pathLst>
                <a:path w="363" h="856">
                  <a:moveTo>
                    <a:pt x="181" y="0"/>
                  </a:moveTo>
                  <a:lnTo>
                    <a:pt x="363" y="220"/>
                  </a:lnTo>
                  <a:lnTo>
                    <a:pt x="275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1" y="361"/>
                  </a:lnTo>
                  <a:lnTo>
                    <a:pt x="181" y="18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65320" y="1206360"/>
              <a:ext cx="327240" cy="279720"/>
            </a:xfrm>
            <a:custGeom>
              <a:avLst/>
              <a:gdLst/>
              <a:ahLst/>
              <a:rect l="0" t="0" r="r" b="b"/>
              <a:pathLst>
                <a:path w="909" h="777">
                  <a:moveTo>
                    <a:pt x="374" y="0"/>
                  </a:moveTo>
                  <a:lnTo>
                    <a:pt x="374" y="123"/>
                  </a:lnTo>
                  <a:lnTo>
                    <a:pt x="405" y="238"/>
                  </a:lnTo>
                  <a:lnTo>
                    <a:pt x="583" y="419"/>
                  </a:lnTo>
                  <a:lnTo>
                    <a:pt x="909" y="525"/>
                  </a:lnTo>
                  <a:lnTo>
                    <a:pt x="860" y="763"/>
                  </a:lnTo>
                  <a:lnTo>
                    <a:pt x="583" y="777"/>
                  </a:lnTo>
                  <a:lnTo>
                    <a:pt x="176" y="609"/>
                  </a:lnTo>
                  <a:lnTo>
                    <a:pt x="0" y="313"/>
                  </a:lnTo>
                  <a:lnTo>
                    <a:pt x="202" y="13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97080" y="890640"/>
              <a:ext cx="457560" cy="616320"/>
            </a:xfrm>
            <a:custGeom>
              <a:avLst/>
              <a:gdLst/>
              <a:ahLst/>
              <a:rect l="0" t="0" r="r" b="b"/>
              <a:pathLst>
                <a:path w="1271" h="1712">
                  <a:moveTo>
                    <a:pt x="114" y="728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2" y="1253"/>
                  </a:lnTo>
                  <a:lnTo>
                    <a:pt x="216" y="1682"/>
                  </a:lnTo>
                  <a:lnTo>
                    <a:pt x="396" y="1682"/>
                  </a:lnTo>
                  <a:lnTo>
                    <a:pt x="383" y="1324"/>
                  </a:lnTo>
                  <a:lnTo>
                    <a:pt x="515" y="1699"/>
                  </a:lnTo>
                  <a:lnTo>
                    <a:pt x="604" y="1712"/>
                  </a:lnTo>
                  <a:lnTo>
                    <a:pt x="666" y="1589"/>
                  </a:lnTo>
                  <a:lnTo>
                    <a:pt x="680" y="1351"/>
                  </a:lnTo>
                  <a:lnTo>
                    <a:pt x="874" y="1571"/>
                  </a:lnTo>
                  <a:lnTo>
                    <a:pt x="953" y="1554"/>
                  </a:lnTo>
                  <a:lnTo>
                    <a:pt x="935" y="1404"/>
                  </a:lnTo>
                  <a:lnTo>
                    <a:pt x="860" y="1187"/>
                  </a:lnTo>
                  <a:lnTo>
                    <a:pt x="785" y="1041"/>
                  </a:lnTo>
                  <a:lnTo>
                    <a:pt x="816" y="949"/>
                  </a:lnTo>
                  <a:lnTo>
                    <a:pt x="860" y="966"/>
                  </a:lnTo>
                  <a:lnTo>
                    <a:pt x="1041" y="1187"/>
                  </a:lnTo>
                  <a:lnTo>
                    <a:pt x="1231" y="1240"/>
                  </a:lnTo>
                  <a:lnTo>
                    <a:pt x="1271" y="1173"/>
                  </a:lnTo>
                  <a:lnTo>
                    <a:pt x="1244" y="1054"/>
                  </a:lnTo>
                  <a:lnTo>
                    <a:pt x="887" y="710"/>
                  </a:lnTo>
                  <a:lnTo>
                    <a:pt x="604" y="605"/>
                  </a:lnTo>
                  <a:lnTo>
                    <a:pt x="568" y="414"/>
                  </a:lnTo>
                  <a:lnTo>
                    <a:pt x="666" y="233"/>
                  </a:lnTo>
                  <a:lnTo>
                    <a:pt x="666" y="57"/>
                  </a:lnTo>
                  <a:lnTo>
                    <a:pt x="590" y="0"/>
                  </a:lnTo>
                  <a:lnTo>
                    <a:pt x="383" y="468"/>
                  </a:lnTo>
                  <a:lnTo>
                    <a:pt x="202" y="534"/>
                  </a:lnTo>
                  <a:lnTo>
                    <a:pt x="154" y="662"/>
                  </a:lnTo>
                  <a:lnTo>
                    <a:pt x="114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6120" y="358920"/>
              <a:ext cx="498960" cy="784440"/>
            </a:xfrm>
            <a:custGeom>
              <a:avLst/>
              <a:gdLst/>
              <a:ahLst/>
              <a:rect l="0" t="0" r="r" b="b"/>
              <a:pathLst>
                <a:path w="1386" h="2179">
                  <a:moveTo>
                    <a:pt x="343" y="304"/>
                  </a:moveTo>
                  <a:lnTo>
                    <a:pt x="242" y="723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0" y="1310"/>
                  </a:lnTo>
                  <a:lnTo>
                    <a:pt x="216" y="1310"/>
                  </a:lnTo>
                  <a:lnTo>
                    <a:pt x="291" y="1791"/>
                  </a:lnTo>
                  <a:lnTo>
                    <a:pt x="380" y="2003"/>
                  </a:lnTo>
                  <a:lnTo>
                    <a:pt x="658" y="2179"/>
                  </a:lnTo>
                  <a:lnTo>
                    <a:pt x="944" y="2152"/>
                  </a:lnTo>
                  <a:lnTo>
                    <a:pt x="1077" y="1791"/>
                  </a:lnTo>
                  <a:lnTo>
                    <a:pt x="1108" y="1240"/>
                  </a:lnTo>
                  <a:lnTo>
                    <a:pt x="1386" y="965"/>
                  </a:lnTo>
                  <a:lnTo>
                    <a:pt x="1373" y="855"/>
                  </a:lnTo>
                  <a:lnTo>
                    <a:pt x="1342" y="802"/>
                  </a:lnTo>
                  <a:lnTo>
                    <a:pt x="1197" y="793"/>
                  </a:lnTo>
                  <a:lnTo>
                    <a:pt x="1245" y="648"/>
                  </a:lnTo>
                  <a:lnTo>
                    <a:pt x="1095" y="546"/>
                  </a:lnTo>
                  <a:lnTo>
                    <a:pt x="1032" y="233"/>
                  </a:lnTo>
                  <a:lnTo>
                    <a:pt x="605" y="0"/>
                  </a:lnTo>
                  <a:lnTo>
                    <a:pt x="380" y="220"/>
                  </a:lnTo>
                  <a:lnTo>
                    <a:pt x="343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2840" y="1014480"/>
              <a:ext cx="457560" cy="935280"/>
            </a:xfrm>
            <a:custGeom>
              <a:avLst/>
              <a:gdLst/>
              <a:ahLst/>
              <a:rect l="0" t="0" r="r" b="b"/>
              <a:pathLst>
                <a:path w="1271" h="2598">
                  <a:moveTo>
                    <a:pt x="260" y="136"/>
                  </a:moveTo>
                  <a:lnTo>
                    <a:pt x="440" y="260"/>
                  </a:lnTo>
                  <a:lnTo>
                    <a:pt x="529" y="401"/>
                  </a:lnTo>
                  <a:lnTo>
                    <a:pt x="1041" y="0"/>
                  </a:lnTo>
                  <a:lnTo>
                    <a:pt x="1196" y="83"/>
                  </a:lnTo>
                  <a:lnTo>
                    <a:pt x="1271" y="493"/>
                  </a:lnTo>
                  <a:lnTo>
                    <a:pt x="900" y="1689"/>
                  </a:lnTo>
                  <a:lnTo>
                    <a:pt x="1024" y="2351"/>
                  </a:lnTo>
                  <a:lnTo>
                    <a:pt x="542" y="2598"/>
                  </a:lnTo>
                  <a:lnTo>
                    <a:pt x="171" y="2457"/>
                  </a:lnTo>
                  <a:lnTo>
                    <a:pt x="171" y="1756"/>
                  </a:lnTo>
                  <a:lnTo>
                    <a:pt x="0" y="1075"/>
                  </a:lnTo>
                  <a:lnTo>
                    <a:pt x="171" y="260"/>
                  </a:lnTo>
                  <a:lnTo>
                    <a:pt x="260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01920" y="254160"/>
              <a:ext cx="429120" cy="248040"/>
            </a:xfrm>
            <a:custGeom>
              <a:avLst/>
              <a:gdLst/>
              <a:ahLst/>
              <a:rect l="0" t="0" r="r" b="b"/>
              <a:pathLst>
                <a:path w="1192" h="689">
                  <a:moveTo>
                    <a:pt x="145" y="659"/>
                  </a:moveTo>
                  <a:lnTo>
                    <a:pt x="322" y="472"/>
                  </a:lnTo>
                  <a:lnTo>
                    <a:pt x="433" y="446"/>
                  </a:lnTo>
                  <a:lnTo>
                    <a:pt x="433" y="464"/>
                  </a:lnTo>
                  <a:lnTo>
                    <a:pt x="490" y="446"/>
                  </a:lnTo>
                  <a:lnTo>
                    <a:pt x="565" y="499"/>
                  </a:lnTo>
                  <a:lnTo>
                    <a:pt x="702" y="531"/>
                  </a:lnTo>
                  <a:lnTo>
                    <a:pt x="816" y="689"/>
                  </a:lnTo>
                  <a:lnTo>
                    <a:pt x="1003" y="619"/>
                  </a:lnTo>
                  <a:lnTo>
                    <a:pt x="1003" y="544"/>
                  </a:lnTo>
                  <a:lnTo>
                    <a:pt x="1192" y="464"/>
                  </a:lnTo>
                  <a:lnTo>
                    <a:pt x="1135" y="331"/>
                  </a:lnTo>
                  <a:lnTo>
                    <a:pt x="963" y="322"/>
                  </a:lnTo>
                  <a:lnTo>
                    <a:pt x="989" y="181"/>
                  </a:lnTo>
                  <a:lnTo>
                    <a:pt x="834" y="199"/>
                  </a:lnTo>
                  <a:lnTo>
                    <a:pt x="807" y="97"/>
                  </a:lnTo>
                  <a:lnTo>
                    <a:pt x="702" y="97"/>
                  </a:lnTo>
                  <a:lnTo>
                    <a:pt x="627" y="149"/>
                  </a:lnTo>
                  <a:lnTo>
                    <a:pt x="565" y="149"/>
                  </a:lnTo>
                  <a:lnTo>
                    <a:pt x="578" y="0"/>
                  </a:lnTo>
                  <a:lnTo>
                    <a:pt x="433" y="70"/>
                  </a:lnTo>
                  <a:lnTo>
                    <a:pt x="233" y="322"/>
                  </a:lnTo>
                  <a:lnTo>
                    <a:pt x="220" y="149"/>
                  </a:lnTo>
                  <a:lnTo>
                    <a:pt x="119" y="234"/>
                  </a:lnTo>
                  <a:lnTo>
                    <a:pt x="92" y="446"/>
                  </a:lnTo>
                  <a:lnTo>
                    <a:pt x="0" y="411"/>
                  </a:lnTo>
                  <a:lnTo>
                    <a:pt x="13" y="544"/>
                  </a:lnTo>
                  <a:lnTo>
                    <a:pt x="145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17840" y="1185840"/>
              <a:ext cx="136800" cy="711720"/>
            </a:xfrm>
            <a:custGeom>
              <a:avLst/>
              <a:gdLst/>
              <a:ahLst/>
              <a:rect l="0" t="0" r="r" b="b"/>
              <a:pathLst>
                <a:path w="380" h="1977">
                  <a:moveTo>
                    <a:pt x="195" y="8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58" y="317"/>
                  </a:lnTo>
                  <a:lnTo>
                    <a:pt x="35" y="583"/>
                  </a:lnTo>
                  <a:lnTo>
                    <a:pt x="0" y="931"/>
                  </a:lnTo>
                  <a:lnTo>
                    <a:pt x="92" y="1385"/>
                  </a:lnTo>
                  <a:lnTo>
                    <a:pt x="92" y="1576"/>
                  </a:lnTo>
                  <a:lnTo>
                    <a:pt x="44" y="1726"/>
                  </a:lnTo>
                  <a:lnTo>
                    <a:pt x="243" y="1977"/>
                  </a:lnTo>
                  <a:lnTo>
                    <a:pt x="367" y="1593"/>
                  </a:lnTo>
                  <a:lnTo>
                    <a:pt x="367" y="1332"/>
                  </a:lnTo>
                  <a:lnTo>
                    <a:pt x="274" y="1081"/>
                  </a:lnTo>
                  <a:lnTo>
                    <a:pt x="225" y="746"/>
                  </a:lnTo>
                  <a:lnTo>
                    <a:pt x="318" y="418"/>
                  </a:lnTo>
                  <a:lnTo>
                    <a:pt x="292" y="295"/>
                  </a:lnTo>
                  <a:lnTo>
                    <a:pt x="380" y="220"/>
                  </a:lnTo>
                  <a:lnTo>
                    <a:pt x="367" y="136"/>
                  </a:lnTo>
                  <a:lnTo>
                    <a:pt x="256" y="0"/>
                  </a:lnTo>
                  <a:lnTo>
                    <a:pt x="195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12800" y="949320"/>
              <a:ext cx="109800" cy="65520"/>
            </a:xfrm>
            <a:custGeom>
              <a:avLst/>
              <a:gdLst/>
              <a:ahLst/>
              <a:rect l="0" t="0" r="r" b="b"/>
              <a:pathLst>
                <a:path w="305" h="182">
                  <a:moveTo>
                    <a:pt x="0" y="58"/>
                  </a:moveTo>
                  <a:lnTo>
                    <a:pt x="119" y="182"/>
                  </a:lnTo>
                  <a:lnTo>
                    <a:pt x="243" y="169"/>
                  </a:lnTo>
                  <a:lnTo>
                    <a:pt x="305" y="13"/>
                  </a:lnTo>
                  <a:lnTo>
                    <a:pt x="172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92200" y="622440"/>
              <a:ext cx="136800" cy="138600"/>
            </a:xfrm>
            <a:custGeom>
              <a:avLst/>
              <a:gdLst/>
              <a:ahLst/>
              <a:rect l="0" t="0" r="r" b="b"/>
              <a:pathLst>
                <a:path w="380" h="385">
                  <a:moveTo>
                    <a:pt x="0" y="44"/>
                  </a:moveTo>
                  <a:lnTo>
                    <a:pt x="265" y="385"/>
                  </a:lnTo>
                  <a:lnTo>
                    <a:pt x="380" y="359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31960" y="593640"/>
              <a:ext cx="119520" cy="135360"/>
            </a:xfrm>
            <a:custGeom>
              <a:avLst/>
              <a:gdLst/>
              <a:ahLst/>
              <a:rect l="0" t="0" r="r" b="b"/>
              <a:pathLst>
                <a:path w="332" h="376">
                  <a:moveTo>
                    <a:pt x="0" y="52"/>
                  </a:moveTo>
                  <a:lnTo>
                    <a:pt x="230" y="376"/>
                  </a:lnTo>
                  <a:lnTo>
                    <a:pt x="332" y="288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42880" y="414360"/>
              <a:ext cx="475200" cy="346320"/>
            </a:xfrm>
            <a:custGeom>
              <a:avLst/>
              <a:gdLst/>
              <a:ahLst/>
              <a:rect l="0" t="0" r="r" b="b"/>
              <a:pathLst>
                <a:path w="1320" h="962">
                  <a:moveTo>
                    <a:pt x="605" y="569"/>
                  </a:moveTo>
                  <a:lnTo>
                    <a:pt x="486" y="534"/>
                  </a:lnTo>
                  <a:lnTo>
                    <a:pt x="587" y="445"/>
                  </a:lnTo>
                  <a:lnTo>
                    <a:pt x="552" y="405"/>
                  </a:lnTo>
                  <a:lnTo>
                    <a:pt x="415" y="521"/>
                  </a:lnTo>
                  <a:lnTo>
                    <a:pt x="163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58" y="957"/>
                  </a:lnTo>
                  <a:lnTo>
                    <a:pt x="198" y="962"/>
                  </a:lnTo>
                  <a:lnTo>
                    <a:pt x="52" y="662"/>
                  </a:lnTo>
                  <a:lnTo>
                    <a:pt x="273" y="569"/>
                  </a:lnTo>
                  <a:lnTo>
                    <a:pt x="415" y="569"/>
                  </a:lnTo>
                  <a:lnTo>
                    <a:pt x="525" y="631"/>
                  </a:lnTo>
                  <a:lnTo>
                    <a:pt x="552" y="710"/>
                  </a:lnTo>
                  <a:lnTo>
                    <a:pt x="552" y="896"/>
                  </a:lnTo>
                  <a:lnTo>
                    <a:pt x="552" y="957"/>
                  </a:lnTo>
                  <a:lnTo>
                    <a:pt x="613" y="869"/>
                  </a:lnTo>
                  <a:lnTo>
                    <a:pt x="613" y="675"/>
                  </a:lnTo>
                  <a:lnTo>
                    <a:pt x="706" y="675"/>
                  </a:lnTo>
                  <a:lnTo>
                    <a:pt x="755" y="896"/>
                  </a:lnTo>
                  <a:lnTo>
                    <a:pt x="803" y="918"/>
                  </a:lnTo>
                  <a:lnTo>
                    <a:pt x="966" y="918"/>
                  </a:lnTo>
                  <a:lnTo>
                    <a:pt x="1126" y="874"/>
                  </a:lnTo>
                  <a:lnTo>
                    <a:pt x="1241" y="794"/>
                  </a:lnTo>
                  <a:lnTo>
                    <a:pt x="1258" y="600"/>
                  </a:lnTo>
                  <a:lnTo>
                    <a:pt x="1320" y="521"/>
                  </a:lnTo>
                  <a:lnTo>
                    <a:pt x="1285" y="467"/>
                  </a:lnTo>
                  <a:lnTo>
                    <a:pt x="1135" y="414"/>
                  </a:lnTo>
                  <a:lnTo>
                    <a:pt x="1113" y="216"/>
                  </a:lnTo>
                  <a:lnTo>
                    <a:pt x="975" y="216"/>
                  </a:lnTo>
                  <a:lnTo>
                    <a:pt x="807" y="0"/>
                  </a:lnTo>
                  <a:lnTo>
                    <a:pt x="962" y="233"/>
                  </a:lnTo>
                  <a:lnTo>
                    <a:pt x="1007" y="233"/>
                  </a:lnTo>
                  <a:lnTo>
                    <a:pt x="1038" y="405"/>
                  </a:lnTo>
                  <a:lnTo>
                    <a:pt x="852" y="467"/>
                  </a:lnTo>
                  <a:lnTo>
                    <a:pt x="715" y="418"/>
                  </a:lnTo>
                  <a:lnTo>
                    <a:pt x="697" y="467"/>
                  </a:lnTo>
                  <a:lnTo>
                    <a:pt x="768" y="521"/>
                  </a:lnTo>
                  <a:lnTo>
                    <a:pt x="768" y="561"/>
                  </a:lnTo>
                  <a:lnTo>
                    <a:pt x="927" y="490"/>
                  </a:lnTo>
                  <a:lnTo>
                    <a:pt x="1064" y="476"/>
                  </a:lnTo>
                  <a:lnTo>
                    <a:pt x="1210" y="499"/>
                  </a:lnTo>
                  <a:lnTo>
                    <a:pt x="1210" y="525"/>
                  </a:lnTo>
                  <a:lnTo>
                    <a:pt x="1139" y="587"/>
                  </a:lnTo>
                  <a:lnTo>
                    <a:pt x="1113" y="675"/>
                  </a:lnTo>
                  <a:lnTo>
                    <a:pt x="1108" y="794"/>
                  </a:lnTo>
                  <a:lnTo>
                    <a:pt x="1020" y="843"/>
                  </a:lnTo>
                  <a:lnTo>
                    <a:pt x="891" y="856"/>
                  </a:lnTo>
                  <a:lnTo>
                    <a:pt x="803" y="856"/>
                  </a:lnTo>
                  <a:lnTo>
                    <a:pt x="772" y="821"/>
                  </a:lnTo>
                  <a:lnTo>
                    <a:pt x="755" y="600"/>
                  </a:lnTo>
                  <a:lnTo>
                    <a:pt x="613" y="600"/>
                  </a:lnTo>
                  <a:lnTo>
                    <a:pt x="60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06680" y="814320"/>
              <a:ext cx="154440" cy="68760"/>
            </a:xfrm>
            <a:custGeom>
              <a:avLst/>
              <a:gdLst/>
              <a:ahLst/>
              <a:rect l="0" t="0" r="r" b="b"/>
              <a:pathLst>
                <a:path w="429" h="191">
                  <a:moveTo>
                    <a:pt x="0" y="0"/>
                  </a:moveTo>
                  <a:lnTo>
                    <a:pt x="70" y="89"/>
                  </a:lnTo>
                  <a:lnTo>
                    <a:pt x="252" y="89"/>
                  </a:lnTo>
                  <a:lnTo>
                    <a:pt x="332" y="22"/>
                  </a:lnTo>
                  <a:lnTo>
                    <a:pt x="429" y="22"/>
                  </a:lnTo>
                  <a:lnTo>
                    <a:pt x="412" y="58"/>
                  </a:lnTo>
                  <a:lnTo>
                    <a:pt x="412" y="89"/>
                  </a:lnTo>
                  <a:lnTo>
                    <a:pt x="239" y="191"/>
                  </a:lnTo>
                  <a:lnTo>
                    <a:pt x="142" y="191"/>
                  </a:lnTo>
                  <a:lnTo>
                    <a:pt x="92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6760" y="700200"/>
              <a:ext cx="232200" cy="371880"/>
            </a:xfrm>
            <a:custGeom>
              <a:avLst/>
              <a:gdLst/>
              <a:ahLst/>
              <a:rect l="0" t="0" r="r" b="b"/>
              <a:pathLst>
                <a:path w="645" h="1033">
                  <a:moveTo>
                    <a:pt x="645" y="74"/>
                  </a:moveTo>
                  <a:lnTo>
                    <a:pt x="645" y="92"/>
                  </a:lnTo>
                  <a:lnTo>
                    <a:pt x="531" y="198"/>
                  </a:lnTo>
                  <a:lnTo>
                    <a:pt x="437" y="216"/>
                  </a:lnTo>
                  <a:lnTo>
                    <a:pt x="256" y="185"/>
                  </a:lnTo>
                  <a:lnTo>
                    <a:pt x="292" y="556"/>
                  </a:lnTo>
                  <a:lnTo>
                    <a:pt x="331" y="866"/>
                  </a:lnTo>
                  <a:lnTo>
                    <a:pt x="411" y="1033"/>
                  </a:lnTo>
                  <a:lnTo>
                    <a:pt x="331" y="914"/>
                  </a:lnTo>
                  <a:lnTo>
                    <a:pt x="305" y="786"/>
                  </a:lnTo>
                  <a:lnTo>
                    <a:pt x="247" y="437"/>
                  </a:lnTo>
                  <a:lnTo>
                    <a:pt x="199" y="455"/>
                  </a:lnTo>
                  <a:lnTo>
                    <a:pt x="132" y="419"/>
                  </a:lnTo>
                  <a:lnTo>
                    <a:pt x="13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101" y="0"/>
                  </a:lnTo>
                  <a:lnTo>
                    <a:pt x="110" y="22"/>
                  </a:lnTo>
                  <a:lnTo>
                    <a:pt x="48" y="44"/>
                  </a:lnTo>
                  <a:lnTo>
                    <a:pt x="35" y="123"/>
                  </a:lnTo>
                  <a:lnTo>
                    <a:pt x="44" y="220"/>
                  </a:lnTo>
                  <a:lnTo>
                    <a:pt x="127" y="309"/>
                  </a:lnTo>
                  <a:lnTo>
                    <a:pt x="168" y="287"/>
                  </a:lnTo>
                  <a:lnTo>
                    <a:pt x="168" y="101"/>
                  </a:lnTo>
                  <a:lnTo>
                    <a:pt x="243" y="141"/>
                  </a:lnTo>
                  <a:lnTo>
                    <a:pt x="358" y="167"/>
                  </a:lnTo>
                  <a:lnTo>
                    <a:pt x="468" y="163"/>
                  </a:lnTo>
                  <a:lnTo>
                    <a:pt x="570" y="101"/>
                  </a:lnTo>
                  <a:lnTo>
                    <a:pt x="645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96880" y="403200"/>
              <a:ext cx="70200" cy="200520"/>
            </a:xfrm>
            <a:custGeom>
              <a:avLst/>
              <a:gdLst/>
              <a:ahLst/>
              <a:rect l="0" t="0" r="r" b="b"/>
              <a:pathLst>
                <a:path w="195" h="557">
                  <a:moveTo>
                    <a:pt x="102" y="557"/>
                  </a:moveTo>
                  <a:lnTo>
                    <a:pt x="195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0" y="195"/>
                  </a:lnTo>
                  <a:lnTo>
                    <a:pt x="79" y="353"/>
                  </a:lnTo>
                  <a:lnTo>
                    <a:pt x="120" y="425"/>
                  </a:lnTo>
                  <a:lnTo>
                    <a:pt x="102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95440" y="228600"/>
              <a:ext cx="522720" cy="262440"/>
            </a:xfrm>
            <a:custGeom>
              <a:avLst/>
              <a:gdLst/>
              <a:ahLst/>
              <a:rect l="0" t="0" r="r" b="b"/>
              <a:pathLst>
                <a:path w="1452" h="729">
                  <a:moveTo>
                    <a:pt x="13" y="494"/>
                  </a:moveTo>
                  <a:lnTo>
                    <a:pt x="136" y="566"/>
                  </a:lnTo>
                  <a:lnTo>
                    <a:pt x="123" y="477"/>
                  </a:lnTo>
                  <a:lnTo>
                    <a:pt x="145" y="309"/>
                  </a:lnTo>
                  <a:lnTo>
                    <a:pt x="233" y="274"/>
                  </a:lnTo>
                  <a:lnTo>
                    <a:pt x="242" y="450"/>
                  </a:lnTo>
                  <a:lnTo>
                    <a:pt x="490" y="141"/>
                  </a:lnTo>
                  <a:lnTo>
                    <a:pt x="543" y="119"/>
                  </a:lnTo>
                  <a:lnTo>
                    <a:pt x="503" y="243"/>
                  </a:lnTo>
                  <a:lnTo>
                    <a:pt x="653" y="305"/>
                  </a:lnTo>
                  <a:lnTo>
                    <a:pt x="763" y="180"/>
                  </a:lnTo>
                  <a:lnTo>
                    <a:pt x="825" y="217"/>
                  </a:lnTo>
                  <a:lnTo>
                    <a:pt x="768" y="322"/>
                  </a:lnTo>
                  <a:lnTo>
                    <a:pt x="843" y="265"/>
                  </a:lnTo>
                  <a:lnTo>
                    <a:pt x="953" y="309"/>
                  </a:lnTo>
                  <a:lnTo>
                    <a:pt x="865" y="397"/>
                  </a:lnTo>
                  <a:lnTo>
                    <a:pt x="1166" y="450"/>
                  </a:lnTo>
                  <a:lnTo>
                    <a:pt x="962" y="516"/>
                  </a:lnTo>
                  <a:lnTo>
                    <a:pt x="1214" y="548"/>
                  </a:lnTo>
                  <a:lnTo>
                    <a:pt x="918" y="623"/>
                  </a:lnTo>
                  <a:lnTo>
                    <a:pt x="979" y="672"/>
                  </a:lnTo>
                  <a:lnTo>
                    <a:pt x="896" y="729"/>
                  </a:lnTo>
                  <a:lnTo>
                    <a:pt x="1046" y="729"/>
                  </a:lnTo>
                  <a:lnTo>
                    <a:pt x="1032" y="689"/>
                  </a:lnTo>
                  <a:lnTo>
                    <a:pt x="1188" y="725"/>
                  </a:lnTo>
                  <a:lnTo>
                    <a:pt x="1166" y="610"/>
                  </a:lnTo>
                  <a:lnTo>
                    <a:pt x="1311" y="557"/>
                  </a:lnTo>
                  <a:lnTo>
                    <a:pt x="1210" y="503"/>
                  </a:lnTo>
                  <a:lnTo>
                    <a:pt x="1452" y="486"/>
                  </a:lnTo>
                  <a:lnTo>
                    <a:pt x="1241" y="371"/>
                  </a:lnTo>
                  <a:lnTo>
                    <a:pt x="997" y="336"/>
                  </a:lnTo>
                  <a:lnTo>
                    <a:pt x="1188" y="221"/>
                  </a:lnTo>
                  <a:lnTo>
                    <a:pt x="843" y="221"/>
                  </a:lnTo>
                  <a:lnTo>
                    <a:pt x="1010" y="110"/>
                  </a:lnTo>
                  <a:lnTo>
                    <a:pt x="755" y="141"/>
                  </a:lnTo>
                  <a:lnTo>
                    <a:pt x="640" y="199"/>
                  </a:lnTo>
                  <a:lnTo>
                    <a:pt x="741" y="0"/>
                  </a:lnTo>
                  <a:lnTo>
                    <a:pt x="437" y="110"/>
                  </a:lnTo>
                  <a:lnTo>
                    <a:pt x="273" y="349"/>
                  </a:lnTo>
                  <a:lnTo>
                    <a:pt x="242" y="217"/>
                  </a:lnTo>
                  <a:lnTo>
                    <a:pt x="105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09560" y="368280"/>
              <a:ext cx="146520" cy="79560"/>
            </a:xfrm>
            <a:custGeom>
              <a:avLst/>
              <a:gdLst/>
              <a:ahLst/>
              <a:rect l="0" t="0" r="r" b="b"/>
              <a:pathLst>
                <a:path w="407" h="221">
                  <a:moveTo>
                    <a:pt x="0" y="221"/>
                  </a:moveTo>
                  <a:lnTo>
                    <a:pt x="150" y="0"/>
                  </a:lnTo>
                  <a:lnTo>
                    <a:pt x="150" y="146"/>
                  </a:lnTo>
                  <a:lnTo>
                    <a:pt x="208" y="88"/>
                  </a:lnTo>
                  <a:lnTo>
                    <a:pt x="252" y="168"/>
                  </a:lnTo>
                  <a:lnTo>
                    <a:pt x="407" y="212"/>
                  </a:lnTo>
                  <a:lnTo>
                    <a:pt x="243" y="186"/>
                  </a:lnTo>
                  <a:lnTo>
                    <a:pt x="199" y="128"/>
                  </a:lnTo>
                  <a:lnTo>
                    <a:pt x="128" y="186"/>
                  </a:lnTo>
                  <a:lnTo>
                    <a:pt x="128" y="11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95520" y="906480"/>
              <a:ext cx="178200" cy="116280"/>
            </a:xfrm>
            <a:custGeom>
              <a:avLst/>
              <a:gdLst/>
              <a:ahLst/>
              <a:rect l="0" t="0" r="r" b="b"/>
              <a:pathLst>
                <a:path w="495" h="323">
                  <a:moveTo>
                    <a:pt x="92" y="111"/>
                  </a:moveTo>
                  <a:lnTo>
                    <a:pt x="296" y="98"/>
                  </a:lnTo>
                  <a:lnTo>
                    <a:pt x="394" y="120"/>
                  </a:lnTo>
                  <a:lnTo>
                    <a:pt x="442" y="74"/>
                  </a:lnTo>
                  <a:lnTo>
                    <a:pt x="495" y="181"/>
                  </a:lnTo>
                  <a:lnTo>
                    <a:pt x="465" y="199"/>
                  </a:lnTo>
                  <a:lnTo>
                    <a:pt x="420" y="159"/>
                  </a:lnTo>
                  <a:lnTo>
                    <a:pt x="353" y="230"/>
                  </a:lnTo>
                  <a:lnTo>
                    <a:pt x="230" y="323"/>
                  </a:lnTo>
                  <a:lnTo>
                    <a:pt x="177" y="323"/>
                  </a:lnTo>
                  <a:lnTo>
                    <a:pt x="92" y="279"/>
                  </a:lnTo>
                  <a:lnTo>
                    <a:pt x="186" y="319"/>
                  </a:lnTo>
                  <a:lnTo>
                    <a:pt x="221" y="319"/>
                  </a:lnTo>
                  <a:lnTo>
                    <a:pt x="296" y="257"/>
                  </a:lnTo>
                  <a:lnTo>
                    <a:pt x="353" y="146"/>
                  </a:lnTo>
                  <a:lnTo>
                    <a:pt x="269" y="128"/>
                  </a:lnTo>
                  <a:lnTo>
                    <a:pt x="217" y="120"/>
                  </a:lnTo>
                  <a:lnTo>
                    <a:pt x="83" y="142"/>
                  </a:lnTo>
                  <a:lnTo>
                    <a:pt x="79" y="225"/>
                  </a:lnTo>
                  <a:lnTo>
                    <a:pt x="35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2" y="89"/>
                  </a:lnTo>
                  <a:lnTo>
                    <a:pt x="92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3200" y="649440"/>
              <a:ext cx="379800" cy="543240"/>
            </a:xfrm>
            <a:custGeom>
              <a:avLst/>
              <a:gdLst/>
              <a:ahLst/>
              <a:rect l="0" t="0" r="r" b="b"/>
              <a:pathLst>
                <a:path w="1055" h="1509">
                  <a:moveTo>
                    <a:pt x="888" y="0"/>
                  </a:moveTo>
                  <a:lnTo>
                    <a:pt x="994" y="0"/>
                  </a:lnTo>
                  <a:lnTo>
                    <a:pt x="1055" y="74"/>
                  </a:lnTo>
                  <a:lnTo>
                    <a:pt x="1055" y="154"/>
                  </a:lnTo>
                  <a:lnTo>
                    <a:pt x="967" y="396"/>
                  </a:lnTo>
                  <a:lnTo>
                    <a:pt x="883" y="507"/>
                  </a:lnTo>
                  <a:lnTo>
                    <a:pt x="790" y="520"/>
                  </a:lnTo>
                  <a:lnTo>
                    <a:pt x="768" y="520"/>
                  </a:lnTo>
                  <a:lnTo>
                    <a:pt x="768" y="821"/>
                  </a:lnTo>
                  <a:lnTo>
                    <a:pt x="813" y="1037"/>
                  </a:lnTo>
                  <a:lnTo>
                    <a:pt x="813" y="1209"/>
                  </a:lnTo>
                  <a:lnTo>
                    <a:pt x="649" y="1390"/>
                  </a:lnTo>
                  <a:lnTo>
                    <a:pt x="433" y="1509"/>
                  </a:lnTo>
                  <a:lnTo>
                    <a:pt x="292" y="1509"/>
                  </a:lnTo>
                  <a:lnTo>
                    <a:pt x="220" y="1473"/>
                  </a:lnTo>
                  <a:lnTo>
                    <a:pt x="123" y="1266"/>
                  </a:lnTo>
                  <a:lnTo>
                    <a:pt x="35" y="1191"/>
                  </a:lnTo>
                  <a:lnTo>
                    <a:pt x="0" y="1134"/>
                  </a:lnTo>
                  <a:lnTo>
                    <a:pt x="119" y="1209"/>
                  </a:lnTo>
                  <a:lnTo>
                    <a:pt x="202" y="1288"/>
                  </a:lnTo>
                  <a:lnTo>
                    <a:pt x="375" y="1297"/>
                  </a:lnTo>
                  <a:lnTo>
                    <a:pt x="525" y="1218"/>
                  </a:lnTo>
                  <a:lnTo>
                    <a:pt x="605" y="1134"/>
                  </a:lnTo>
                  <a:lnTo>
                    <a:pt x="693" y="984"/>
                  </a:lnTo>
                  <a:lnTo>
                    <a:pt x="706" y="799"/>
                  </a:lnTo>
                  <a:lnTo>
                    <a:pt x="737" y="220"/>
                  </a:lnTo>
                  <a:lnTo>
                    <a:pt x="772" y="308"/>
                  </a:lnTo>
                  <a:lnTo>
                    <a:pt x="879" y="202"/>
                  </a:lnTo>
                  <a:lnTo>
                    <a:pt x="985" y="154"/>
                  </a:lnTo>
                  <a:lnTo>
                    <a:pt x="1016" y="97"/>
                  </a:lnTo>
                  <a:lnTo>
                    <a:pt x="998" y="35"/>
                  </a:lnTo>
                  <a:lnTo>
                    <a:pt x="954" y="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84240" y="1117440"/>
              <a:ext cx="306720" cy="503640"/>
            </a:xfrm>
            <a:custGeom>
              <a:avLst/>
              <a:gdLst/>
              <a:ahLst/>
              <a:rect l="0" t="0" r="r" b="b"/>
              <a:pathLst>
                <a:path w="852" h="1399">
                  <a:moveTo>
                    <a:pt x="105" y="0"/>
                  </a:moveTo>
                  <a:lnTo>
                    <a:pt x="207" y="61"/>
                  </a:lnTo>
                  <a:lnTo>
                    <a:pt x="277" y="343"/>
                  </a:lnTo>
                  <a:lnTo>
                    <a:pt x="499" y="415"/>
                  </a:lnTo>
                  <a:lnTo>
                    <a:pt x="561" y="490"/>
                  </a:lnTo>
                  <a:lnTo>
                    <a:pt x="569" y="596"/>
                  </a:lnTo>
                  <a:lnTo>
                    <a:pt x="675" y="578"/>
                  </a:lnTo>
                  <a:lnTo>
                    <a:pt x="812" y="666"/>
                  </a:lnTo>
                  <a:lnTo>
                    <a:pt x="852" y="785"/>
                  </a:lnTo>
                  <a:lnTo>
                    <a:pt x="852" y="979"/>
                  </a:lnTo>
                  <a:lnTo>
                    <a:pt x="675" y="1280"/>
                  </a:lnTo>
                  <a:lnTo>
                    <a:pt x="622" y="1399"/>
                  </a:lnTo>
                  <a:lnTo>
                    <a:pt x="649" y="1236"/>
                  </a:lnTo>
                  <a:lnTo>
                    <a:pt x="622" y="1179"/>
                  </a:lnTo>
                  <a:lnTo>
                    <a:pt x="516" y="1077"/>
                  </a:lnTo>
                  <a:lnTo>
                    <a:pt x="348" y="949"/>
                  </a:lnTo>
                  <a:lnTo>
                    <a:pt x="547" y="1019"/>
                  </a:lnTo>
                  <a:lnTo>
                    <a:pt x="666" y="1113"/>
                  </a:lnTo>
                  <a:lnTo>
                    <a:pt x="728" y="1100"/>
                  </a:lnTo>
                  <a:lnTo>
                    <a:pt x="763" y="1046"/>
                  </a:lnTo>
                  <a:lnTo>
                    <a:pt x="812" y="909"/>
                  </a:lnTo>
                  <a:lnTo>
                    <a:pt x="794" y="772"/>
                  </a:lnTo>
                  <a:lnTo>
                    <a:pt x="737" y="693"/>
                  </a:lnTo>
                  <a:lnTo>
                    <a:pt x="631" y="666"/>
                  </a:lnTo>
                  <a:lnTo>
                    <a:pt x="516" y="666"/>
                  </a:lnTo>
                  <a:lnTo>
                    <a:pt x="477" y="464"/>
                  </a:lnTo>
                  <a:lnTo>
                    <a:pt x="291" y="389"/>
                  </a:lnTo>
                  <a:lnTo>
                    <a:pt x="291" y="446"/>
                  </a:lnTo>
                  <a:lnTo>
                    <a:pt x="207" y="299"/>
                  </a:lnTo>
                  <a:lnTo>
                    <a:pt x="154" y="61"/>
                  </a:lnTo>
                  <a:lnTo>
                    <a:pt x="83" y="39"/>
                  </a:lnTo>
                  <a:lnTo>
                    <a:pt x="39" y="110"/>
                  </a:lnTo>
                  <a:lnTo>
                    <a:pt x="39" y="273"/>
                  </a:lnTo>
                  <a:lnTo>
                    <a:pt x="79" y="446"/>
                  </a:lnTo>
                  <a:lnTo>
                    <a:pt x="180" y="596"/>
                  </a:lnTo>
                  <a:lnTo>
                    <a:pt x="66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8080" y="1338120"/>
              <a:ext cx="201960" cy="405000"/>
            </a:xfrm>
            <a:custGeom>
              <a:avLst/>
              <a:gdLst/>
              <a:ahLst/>
              <a:rect l="0" t="0" r="r" b="b"/>
              <a:pathLst>
                <a:path w="561" h="1125">
                  <a:moveTo>
                    <a:pt x="561" y="0"/>
                  </a:moveTo>
                  <a:lnTo>
                    <a:pt x="446" y="79"/>
                  </a:lnTo>
                  <a:lnTo>
                    <a:pt x="309" y="348"/>
                  </a:lnTo>
                  <a:lnTo>
                    <a:pt x="176" y="524"/>
                  </a:lnTo>
                  <a:lnTo>
                    <a:pt x="13" y="737"/>
                  </a:lnTo>
                  <a:lnTo>
                    <a:pt x="0" y="852"/>
                  </a:lnTo>
                  <a:lnTo>
                    <a:pt x="30" y="944"/>
                  </a:lnTo>
                  <a:lnTo>
                    <a:pt x="110" y="944"/>
                  </a:lnTo>
                  <a:lnTo>
                    <a:pt x="216" y="852"/>
                  </a:lnTo>
                  <a:lnTo>
                    <a:pt x="300" y="649"/>
                  </a:lnTo>
                  <a:lnTo>
                    <a:pt x="415" y="524"/>
                  </a:lnTo>
                  <a:lnTo>
                    <a:pt x="415" y="688"/>
                  </a:lnTo>
                  <a:lnTo>
                    <a:pt x="393" y="834"/>
                  </a:lnTo>
                  <a:lnTo>
                    <a:pt x="273" y="1032"/>
                  </a:lnTo>
                  <a:lnTo>
                    <a:pt x="273" y="1099"/>
                  </a:lnTo>
                  <a:lnTo>
                    <a:pt x="393" y="1125"/>
                  </a:lnTo>
                  <a:lnTo>
                    <a:pt x="309" y="1068"/>
                  </a:lnTo>
                  <a:lnTo>
                    <a:pt x="322" y="1032"/>
                  </a:lnTo>
                  <a:lnTo>
                    <a:pt x="406" y="887"/>
                  </a:lnTo>
                  <a:lnTo>
                    <a:pt x="464" y="622"/>
                  </a:lnTo>
                  <a:lnTo>
                    <a:pt x="424" y="476"/>
                  </a:lnTo>
                  <a:lnTo>
                    <a:pt x="331" y="560"/>
                  </a:lnTo>
                  <a:lnTo>
                    <a:pt x="132" y="896"/>
                  </a:lnTo>
                  <a:lnTo>
                    <a:pt x="79" y="909"/>
                  </a:lnTo>
                  <a:lnTo>
                    <a:pt x="30" y="869"/>
                  </a:lnTo>
                  <a:lnTo>
                    <a:pt x="30" y="768"/>
                  </a:lnTo>
                  <a:lnTo>
                    <a:pt x="110" y="636"/>
                  </a:lnTo>
                  <a:lnTo>
                    <a:pt x="331" y="366"/>
                  </a:lnTo>
                  <a:lnTo>
                    <a:pt x="464" y="101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8920" y="1566720"/>
              <a:ext cx="124200" cy="192600"/>
            </a:xfrm>
            <a:custGeom>
              <a:avLst/>
              <a:gdLst/>
              <a:ahLst/>
              <a:rect l="0" t="0" r="r" b="b"/>
              <a:pathLst>
                <a:path w="345" h="535">
                  <a:moveTo>
                    <a:pt x="0" y="473"/>
                  </a:moveTo>
                  <a:lnTo>
                    <a:pt x="115" y="336"/>
                  </a:lnTo>
                  <a:lnTo>
                    <a:pt x="133" y="203"/>
                  </a:lnTo>
                  <a:lnTo>
                    <a:pt x="266" y="0"/>
                  </a:lnTo>
                  <a:lnTo>
                    <a:pt x="297" y="127"/>
                  </a:lnTo>
                  <a:lnTo>
                    <a:pt x="275" y="482"/>
                  </a:lnTo>
                  <a:lnTo>
                    <a:pt x="345" y="535"/>
                  </a:lnTo>
                  <a:lnTo>
                    <a:pt x="243" y="495"/>
                  </a:lnTo>
                  <a:lnTo>
                    <a:pt x="195" y="300"/>
                  </a:lnTo>
                  <a:lnTo>
                    <a:pt x="115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1560" y="1576440"/>
              <a:ext cx="82800" cy="173520"/>
            </a:xfrm>
            <a:custGeom>
              <a:avLst/>
              <a:gdLst/>
              <a:ahLst/>
              <a:rect l="0" t="0" r="r" b="b"/>
              <a:pathLst>
                <a:path w="230" h="482">
                  <a:moveTo>
                    <a:pt x="0" y="363"/>
                  </a:moveTo>
                  <a:lnTo>
                    <a:pt x="8" y="181"/>
                  </a:lnTo>
                  <a:lnTo>
                    <a:pt x="61" y="74"/>
                  </a:lnTo>
                  <a:lnTo>
                    <a:pt x="110" y="465"/>
                  </a:lnTo>
                  <a:lnTo>
                    <a:pt x="186" y="465"/>
                  </a:lnTo>
                  <a:lnTo>
                    <a:pt x="212" y="57"/>
                  </a:lnTo>
                  <a:lnTo>
                    <a:pt x="230" y="0"/>
                  </a:lnTo>
                  <a:lnTo>
                    <a:pt x="212" y="314"/>
                  </a:lnTo>
                  <a:lnTo>
                    <a:pt x="186" y="482"/>
                  </a:lnTo>
                  <a:lnTo>
                    <a:pt x="92" y="482"/>
                  </a:lnTo>
                  <a:lnTo>
                    <a:pt x="48" y="150"/>
                  </a:lnTo>
                  <a:lnTo>
                    <a:pt x="26" y="199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97080" y="896760"/>
              <a:ext cx="198720" cy="460800"/>
            </a:xfrm>
            <a:custGeom>
              <a:avLst/>
              <a:gdLst/>
              <a:ahLst/>
              <a:rect l="0" t="0" r="r" b="b"/>
              <a:pathLst>
                <a:path w="552" h="1280">
                  <a:moveTo>
                    <a:pt x="145" y="693"/>
                  </a:moveTo>
                  <a:lnTo>
                    <a:pt x="189" y="494"/>
                  </a:lnTo>
                  <a:lnTo>
                    <a:pt x="371" y="441"/>
                  </a:lnTo>
                  <a:lnTo>
                    <a:pt x="552" y="0"/>
                  </a:lnTo>
                  <a:lnTo>
                    <a:pt x="552" y="127"/>
                  </a:lnTo>
                  <a:lnTo>
                    <a:pt x="402" y="468"/>
                  </a:lnTo>
                  <a:lnTo>
                    <a:pt x="202" y="530"/>
                  </a:lnTo>
                  <a:lnTo>
                    <a:pt x="176" y="693"/>
                  </a:lnTo>
                  <a:lnTo>
                    <a:pt x="242" y="693"/>
                  </a:lnTo>
                  <a:lnTo>
                    <a:pt x="74" y="763"/>
                  </a:lnTo>
                  <a:lnTo>
                    <a:pt x="30" y="900"/>
                  </a:lnTo>
                  <a:lnTo>
                    <a:pt x="39" y="1077"/>
                  </a:lnTo>
                  <a:lnTo>
                    <a:pt x="224" y="1280"/>
                  </a:lnTo>
                  <a:lnTo>
                    <a:pt x="30" y="1104"/>
                  </a:lnTo>
                  <a:lnTo>
                    <a:pt x="0" y="953"/>
                  </a:lnTo>
                  <a:lnTo>
                    <a:pt x="13" y="807"/>
                  </a:lnTo>
                  <a:lnTo>
                    <a:pt x="83" y="702"/>
                  </a:lnTo>
                  <a:lnTo>
                    <a:pt x="14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30280" y="896760"/>
              <a:ext cx="335160" cy="448200"/>
            </a:xfrm>
            <a:custGeom>
              <a:avLst/>
              <a:gdLst/>
              <a:ahLst/>
              <a:rect l="0" t="0" r="r" b="b"/>
              <a:pathLst>
                <a:path w="931" h="1245">
                  <a:moveTo>
                    <a:pt x="255" y="0"/>
                  </a:moveTo>
                  <a:lnTo>
                    <a:pt x="313" y="39"/>
                  </a:lnTo>
                  <a:lnTo>
                    <a:pt x="330" y="145"/>
                  </a:lnTo>
                  <a:lnTo>
                    <a:pt x="330" y="242"/>
                  </a:lnTo>
                  <a:lnTo>
                    <a:pt x="224" y="424"/>
                  </a:lnTo>
                  <a:lnTo>
                    <a:pt x="246" y="556"/>
                  </a:lnTo>
                  <a:lnTo>
                    <a:pt x="556" y="697"/>
                  </a:lnTo>
                  <a:lnTo>
                    <a:pt x="927" y="1095"/>
                  </a:lnTo>
                  <a:lnTo>
                    <a:pt x="931" y="1201"/>
                  </a:lnTo>
                  <a:lnTo>
                    <a:pt x="913" y="1245"/>
                  </a:lnTo>
                  <a:lnTo>
                    <a:pt x="772" y="1245"/>
                  </a:lnTo>
                  <a:lnTo>
                    <a:pt x="653" y="1166"/>
                  </a:lnTo>
                  <a:lnTo>
                    <a:pt x="552" y="1042"/>
                  </a:lnTo>
                  <a:lnTo>
                    <a:pt x="499" y="972"/>
                  </a:lnTo>
                  <a:lnTo>
                    <a:pt x="432" y="954"/>
                  </a:lnTo>
                  <a:lnTo>
                    <a:pt x="512" y="954"/>
                  </a:lnTo>
                  <a:lnTo>
                    <a:pt x="662" y="1157"/>
                  </a:lnTo>
                  <a:lnTo>
                    <a:pt x="856" y="1219"/>
                  </a:lnTo>
                  <a:lnTo>
                    <a:pt x="900" y="1157"/>
                  </a:lnTo>
                  <a:lnTo>
                    <a:pt x="878" y="1060"/>
                  </a:lnTo>
                  <a:lnTo>
                    <a:pt x="538" y="781"/>
                  </a:lnTo>
                  <a:lnTo>
                    <a:pt x="490" y="697"/>
                  </a:lnTo>
                  <a:lnTo>
                    <a:pt x="224" y="631"/>
                  </a:lnTo>
                  <a:lnTo>
                    <a:pt x="180" y="697"/>
                  </a:lnTo>
                  <a:lnTo>
                    <a:pt x="0" y="816"/>
                  </a:lnTo>
                  <a:lnTo>
                    <a:pt x="171" y="680"/>
                  </a:lnTo>
                  <a:lnTo>
                    <a:pt x="180" y="591"/>
                  </a:lnTo>
                  <a:lnTo>
                    <a:pt x="180" y="402"/>
                  </a:lnTo>
                  <a:lnTo>
                    <a:pt x="299" y="242"/>
                  </a:lnTo>
                  <a:lnTo>
                    <a:pt x="299" y="48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70160" y="1249200"/>
              <a:ext cx="284400" cy="265320"/>
            </a:xfrm>
            <a:custGeom>
              <a:avLst/>
              <a:gdLst/>
              <a:ahLst/>
              <a:rect l="0" t="0" r="r" b="b"/>
              <a:pathLst>
                <a:path w="790" h="737">
                  <a:moveTo>
                    <a:pt x="591" y="0"/>
                  </a:moveTo>
                  <a:lnTo>
                    <a:pt x="574" y="61"/>
                  </a:lnTo>
                  <a:lnTo>
                    <a:pt x="688" y="308"/>
                  </a:lnTo>
                  <a:lnTo>
                    <a:pt x="750" y="552"/>
                  </a:lnTo>
                  <a:lnTo>
                    <a:pt x="680" y="552"/>
                  </a:lnTo>
                  <a:lnTo>
                    <a:pt x="561" y="446"/>
                  </a:lnTo>
                  <a:lnTo>
                    <a:pt x="455" y="216"/>
                  </a:lnTo>
                  <a:lnTo>
                    <a:pt x="370" y="180"/>
                  </a:lnTo>
                  <a:lnTo>
                    <a:pt x="383" y="308"/>
                  </a:lnTo>
                  <a:lnTo>
                    <a:pt x="459" y="402"/>
                  </a:lnTo>
                  <a:lnTo>
                    <a:pt x="459" y="574"/>
                  </a:lnTo>
                  <a:lnTo>
                    <a:pt x="406" y="702"/>
                  </a:lnTo>
                  <a:lnTo>
                    <a:pt x="335" y="649"/>
                  </a:lnTo>
                  <a:lnTo>
                    <a:pt x="242" y="446"/>
                  </a:lnTo>
                  <a:lnTo>
                    <a:pt x="220" y="308"/>
                  </a:lnTo>
                  <a:lnTo>
                    <a:pt x="167" y="268"/>
                  </a:lnTo>
                  <a:lnTo>
                    <a:pt x="154" y="627"/>
                  </a:lnTo>
                  <a:lnTo>
                    <a:pt x="83" y="675"/>
                  </a:lnTo>
                  <a:lnTo>
                    <a:pt x="22" y="627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48" y="728"/>
                  </a:lnTo>
                  <a:lnTo>
                    <a:pt x="154" y="728"/>
                  </a:lnTo>
                  <a:lnTo>
                    <a:pt x="194" y="640"/>
                  </a:lnTo>
                  <a:lnTo>
                    <a:pt x="211" y="361"/>
                  </a:lnTo>
                  <a:lnTo>
                    <a:pt x="229" y="468"/>
                  </a:lnTo>
                  <a:lnTo>
                    <a:pt x="321" y="710"/>
                  </a:lnTo>
                  <a:lnTo>
                    <a:pt x="419" y="737"/>
                  </a:lnTo>
                  <a:lnTo>
                    <a:pt x="490" y="640"/>
                  </a:lnTo>
                  <a:lnTo>
                    <a:pt x="490" y="411"/>
                  </a:lnTo>
                  <a:lnTo>
                    <a:pt x="680" y="600"/>
                  </a:lnTo>
                  <a:lnTo>
                    <a:pt x="781" y="600"/>
                  </a:lnTo>
                  <a:lnTo>
                    <a:pt x="790" y="468"/>
                  </a:lnTo>
                  <a:lnTo>
                    <a:pt x="715" y="233"/>
                  </a:lnTo>
                  <a:lnTo>
                    <a:pt x="591" y="48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17440" y="973080"/>
              <a:ext cx="1268640" cy="1082880"/>
            </a:xfrm>
            <a:custGeom>
              <a:avLst/>
              <a:gdLst/>
              <a:ahLst/>
              <a:rect l="0" t="0" r="r" b="b"/>
              <a:pathLst>
                <a:path w="3524" h="3008">
                  <a:moveTo>
                    <a:pt x="1265" y="255"/>
                  </a:moveTo>
                  <a:lnTo>
                    <a:pt x="1203" y="264"/>
                  </a:lnTo>
                  <a:lnTo>
                    <a:pt x="1106" y="414"/>
                  </a:lnTo>
                  <a:lnTo>
                    <a:pt x="1067" y="308"/>
                  </a:lnTo>
                  <a:lnTo>
                    <a:pt x="956" y="242"/>
                  </a:lnTo>
                  <a:lnTo>
                    <a:pt x="868" y="295"/>
                  </a:lnTo>
                  <a:lnTo>
                    <a:pt x="837" y="480"/>
                  </a:lnTo>
                  <a:lnTo>
                    <a:pt x="520" y="727"/>
                  </a:lnTo>
                  <a:lnTo>
                    <a:pt x="542" y="829"/>
                  </a:lnTo>
                  <a:lnTo>
                    <a:pt x="463" y="917"/>
                  </a:lnTo>
                  <a:lnTo>
                    <a:pt x="463" y="996"/>
                  </a:lnTo>
                  <a:lnTo>
                    <a:pt x="555" y="1221"/>
                  </a:lnTo>
                  <a:lnTo>
                    <a:pt x="560" y="1499"/>
                  </a:lnTo>
                  <a:lnTo>
                    <a:pt x="502" y="1760"/>
                  </a:lnTo>
                  <a:lnTo>
                    <a:pt x="277" y="1919"/>
                  </a:lnTo>
                  <a:lnTo>
                    <a:pt x="246" y="2135"/>
                  </a:lnTo>
                  <a:lnTo>
                    <a:pt x="176" y="2135"/>
                  </a:lnTo>
                  <a:lnTo>
                    <a:pt x="141" y="1958"/>
                  </a:lnTo>
                  <a:lnTo>
                    <a:pt x="74" y="1958"/>
                  </a:lnTo>
                  <a:lnTo>
                    <a:pt x="39" y="2148"/>
                  </a:lnTo>
                  <a:lnTo>
                    <a:pt x="0" y="2197"/>
                  </a:lnTo>
                  <a:lnTo>
                    <a:pt x="158" y="2461"/>
                  </a:lnTo>
                  <a:lnTo>
                    <a:pt x="268" y="2470"/>
                  </a:lnTo>
                  <a:lnTo>
                    <a:pt x="463" y="2660"/>
                  </a:lnTo>
                  <a:lnTo>
                    <a:pt x="643" y="2686"/>
                  </a:lnTo>
                  <a:lnTo>
                    <a:pt x="745" y="2580"/>
                  </a:lnTo>
                  <a:lnTo>
                    <a:pt x="992" y="2214"/>
                  </a:lnTo>
                  <a:lnTo>
                    <a:pt x="1014" y="2708"/>
                  </a:lnTo>
                  <a:lnTo>
                    <a:pt x="992" y="3008"/>
                  </a:lnTo>
                  <a:lnTo>
                    <a:pt x="3026" y="3008"/>
                  </a:lnTo>
                  <a:lnTo>
                    <a:pt x="2880" y="2686"/>
                  </a:lnTo>
                  <a:lnTo>
                    <a:pt x="2805" y="2399"/>
                  </a:lnTo>
                  <a:lnTo>
                    <a:pt x="2787" y="1989"/>
                  </a:lnTo>
                  <a:lnTo>
                    <a:pt x="2907" y="2082"/>
                  </a:lnTo>
                  <a:lnTo>
                    <a:pt x="3026" y="2082"/>
                  </a:lnTo>
                  <a:lnTo>
                    <a:pt x="3198" y="1972"/>
                  </a:lnTo>
                  <a:lnTo>
                    <a:pt x="3308" y="1958"/>
                  </a:lnTo>
                  <a:lnTo>
                    <a:pt x="3378" y="1848"/>
                  </a:lnTo>
                  <a:lnTo>
                    <a:pt x="3422" y="1566"/>
                  </a:lnTo>
                  <a:lnTo>
                    <a:pt x="3524" y="1446"/>
                  </a:lnTo>
                  <a:lnTo>
                    <a:pt x="3471" y="1367"/>
                  </a:lnTo>
                  <a:lnTo>
                    <a:pt x="3396" y="1367"/>
                  </a:lnTo>
                  <a:lnTo>
                    <a:pt x="3334" y="1419"/>
                  </a:lnTo>
                  <a:lnTo>
                    <a:pt x="3281" y="1433"/>
                  </a:lnTo>
                  <a:lnTo>
                    <a:pt x="3206" y="1367"/>
                  </a:lnTo>
                  <a:lnTo>
                    <a:pt x="3118" y="1353"/>
                  </a:lnTo>
                  <a:lnTo>
                    <a:pt x="2955" y="1247"/>
                  </a:lnTo>
                  <a:lnTo>
                    <a:pt x="2858" y="1133"/>
                  </a:lnTo>
                  <a:lnTo>
                    <a:pt x="2840" y="996"/>
                  </a:lnTo>
                  <a:lnTo>
                    <a:pt x="2858" y="859"/>
                  </a:lnTo>
                  <a:lnTo>
                    <a:pt x="2924" y="749"/>
                  </a:lnTo>
                  <a:lnTo>
                    <a:pt x="3012" y="652"/>
                  </a:lnTo>
                  <a:lnTo>
                    <a:pt x="3004" y="480"/>
                  </a:lnTo>
                  <a:lnTo>
                    <a:pt x="3004" y="357"/>
                  </a:lnTo>
                  <a:lnTo>
                    <a:pt x="2955" y="264"/>
                  </a:lnTo>
                  <a:lnTo>
                    <a:pt x="2840" y="224"/>
                  </a:lnTo>
                  <a:lnTo>
                    <a:pt x="2801" y="202"/>
                  </a:lnTo>
                  <a:lnTo>
                    <a:pt x="2712" y="57"/>
                  </a:lnTo>
                  <a:lnTo>
                    <a:pt x="2642" y="8"/>
                  </a:lnTo>
                  <a:lnTo>
                    <a:pt x="2571" y="0"/>
                  </a:lnTo>
                  <a:lnTo>
                    <a:pt x="2510" y="22"/>
                  </a:lnTo>
                  <a:lnTo>
                    <a:pt x="2461" y="105"/>
                  </a:lnTo>
                  <a:lnTo>
                    <a:pt x="2382" y="149"/>
                  </a:lnTo>
                  <a:lnTo>
                    <a:pt x="2294" y="167"/>
                  </a:lnTo>
                  <a:lnTo>
                    <a:pt x="2197" y="167"/>
                  </a:lnTo>
                  <a:lnTo>
                    <a:pt x="2214" y="317"/>
                  </a:lnTo>
                  <a:lnTo>
                    <a:pt x="2214" y="507"/>
                  </a:lnTo>
                  <a:lnTo>
                    <a:pt x="2197" y="626"/>
                  </a:lnTo>
                  <a:lnTo>
                    <a:pt x="2108" y="776"/>
                  </a:lnTo>
                  <a:lnTo>
                    <a:pt x="1998" y="1001"/>
                  </a:lnTo>
                  <a:lnTo>
                    <a:pt x="1910" y="1274"/>
                  </a:lnTo>
                  <a:lnTo>
                    <a:pt x="1906" y="1433"/>
                  </a:lnTo>
                  <a:lnTo>
                    <a:pt x="1866" y="1579"/>
                  </a:lnTo>
                  <a:lnTo>
                    <a:pt x="1808" y="1711"/>
                  </a:lnTo>
                  <a:lnTo>
                    <a:pt x="1786" y="1932"/>
                  </a:lnTo>
                  <a:lnTo>
                    <a:pt x="1800" y="2113"/>
                  </a:lnTo>
                  <a:lnTo>
                    <a:pt x="1866" y="2324"/>
                  </a:lnTo>
                  <a:lnTo>
                    <a:pt x="1906" y="2399"/>
                  </a:lnTo>
                  <a:lnTo>
                    <a:pt x="1786" y="2483"/>
                  </a:lnTo>
                  <a:lnTo>
                    <a:pt x="1644" y="2532"/>
                  </a:lnTo>
                  <a:lnTo>
                    <a:pt x="1486" y="2545"/>
                  </a:lnTo>
                  <a:lnTo>
                    <a:pt x="1389" y="2545"/>
                  </a:lnTo>
                  <a:lnTo>
                    <a:pt x="1327" y="2518"/>
                  </a:lnTo>
                  <a:lnTo>
                    <a:pt x="1327" y="2338"/>
                  </a:lnTo>
                  <a:lnTo>
                    <a:pt x="1327" y="2069"/>
                  </a:lnTo>
                  <a:lnTo>
                    <a:pt x="1287" y="1808"/>
                  </a:lnTo>
                  <a:lnTo>
                    <a:pt x="1225" y="1579"/>
                  </a:lnTo>
                  <a:lnTo>
                    <a:pt x="1199" y="1384"/>
                  </a:lnTo>
                  <a:lnTo>
                    <a:pt x="1181" y="1115"/>
                  </a:lnTo>
                  <a:lnTo>
                    <a:pt x="1225" y="890"/>
                  </a:lnTo>
                  <a:lnTo>
                    <a:pt x="1287" y="701"/>
                  </a:lnTo>
                  <a:lnTo>
                    <a:pt x="1292" y="586"/>
                  </a:lnTo>
                  <a:lnTo>
                    <a:pt x="1265" y="432"/>
                  </a:lnTo>
                  <a:lnTo>
                    <a:pt x="1265" y="308"/>
                  </a:lnTo>
                  <a:lnTo>
                    <a:pt x="1287" y="264"/>
                  </a:lnTo>
                  <a:lnTo>
                    <a:pt x="1265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11360" y="1189080"/>
              <a:ext cx="160560" cy="706680"/>
            </a:xfrm>
            <a:custGeom>
              <a:avLst/>
              <a:gdLst/>
              <a:ahLst/>
              <a:rect l="0" t="0" r="r" b="b"/>
              <a:pathLst>
                <a:path w="446" h="1963">
                  <a:moveTo>
                    <a:pt x="176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58" y="326"/>
                  </a:lnTo>
                  <a:lnTo>
                    <a:pt x="52" y="533"/>
                  </a:lnTo>
                  <a:lnTo>
                    <a:pt x="0" y="762"/>
                  </a:lnTo>
                  <a:lnTo>
                    <a:pt x="0" y="978"/>
                  </a:lnTo>
                  <a:lnTo>
                    <a:pt x="52" y="1178"/>
                  </a:lnTo>
                  <a:lnTo>
                    <a:pt x="92" y="1416"/>
                  </a:lnTo>
                  <a:lnTo>
                    <a:pt x="92" y="1553"/>
                  </a:lnTo>
                  <a:lnTo>
                    <a:pt x="52" y="1725"/>
                  </a:lnTo>
                  <a:lnTo>
                    <a:pt x="234" y="1963"/>
                  </a:lnTo>
                  <a:lnTo>
                    <a:pt x="305" y="1923"/>
                  </a:lnTo>
                  <a:lnTo>
                    <a:pt x="358" y="1760"/>
                  </a:lnTo>
                  <a:lnTo>
                    <a:pt x="441" y="1544"/>
                  </a:lnTo>
                  <a:lnTo>
                    <a:pt x="446" y="1429"/>
                  </a:lnTo>
                  <a:lnTo>
                    <a:pt x="375" y="1213"/>
                  </a:lnTo>
                  <a:lnTo>
                    <a:pt x="292" y="1002"/>
                  </a:lnTo>
                  <a:lnTo>
                    <a:pt x="261" y="851"/>
                  </a:lnTo>
                  <a:lnTo>
                    <a:pt x="261" y="714"/>
                  </a:lnTo>
                  <a:lnTo>
                    <a:pt x="292" y="586"/>
                  </a:lnTo>
                  <a:lnTo>
                    <a:pt x="358" y="427"/>
                  </a:lnTo>
                  <a:lnTo>
                    <a:pt x="358" y="366"/>
                  </a:lnTo>
                  <a:lnTo>
                    <a:pt x="327" y="304"/>
                  </a:lnTo>
                  <a:lnTo>
                    <a:pt x="411" y="220"/>
                  </a:lnTo>
                  <a:lnTo>
                    <a:pt x="411" y="149"/>
                  </a:lnTo>
                  <a:lnTo>
                    <a:pt x="292" y="0"/>
                  </a:lnTo>
                  <a:lnTo>
                    <a:pt x="384" y="149"/>
                  </a:lnTo>
                  <a:lnTo>
                    <a:pt x="384" y="211"/>
                  </a:lnTo>
                  <a:lnTo>
                    <a:pt x="300" y="273"/>
                  </a:lnTo>
                  <a:lnTo>
                    <a:pt x="336" y="366"/>
                  </a:lnTo>
                  <a:lnTo>
                    <a:pt x="327" y="427"/>
                  </a:lnTo>
                  <a:lnTo>
                    <a:pt x="243" y="612"/>
                  </a:lnTo>
                  <a:lnTo>
                    <a:pt x="234" y="789"/>
                  </a:lnTo>
                  <a:lnTo>
                    <a:pt x="252" y="948"/>
                  </a:lnTo>
                  <a:lnTo>
                    <a:pt x="305" y="1187"/>
                  </a:lnTo>
                  <a:lnTo>
                    <a:pt x="375" y="1376"/>
                  </a:lnTo>
                  <a:lnTo>
                    <a:pt x="375" y="1535"/>
                  </a:lnTo>
                  <a:lnTo>
                    <a:pt x="336" y="1725"/>
                  </a:lnTo>
                  <a:lnTo>
                    <a:pt x="252" y="1923"/>
                  </a:lnTo>
                  <a:lnTo>
                    <a:pt x="149" y="1817"/>
                  </a:lnTo>
                  <a:lnTo>
                    <a:pt x="105" y="1725"/>
                  </a:lnTo>
                  <a:lnTo>
                    <a:pt x="114" y="1535"/>
                  </a:lnTo>
                  <a:lnTo>
                    <a:pt x="105" y="1341"/>
                  </a:lnTo>
                  <a:lnTo>
                    <a:pt x="52" y="1076"/>
                  </a:lnTo>
                  <a:lnTo>
                    <a:pt x="30" y="899"/>
                  </a:lnTo>
                  <a:lnTo>
                    <a:pt x="52" y="701"/>
                  </a:lnTo>
                  <a:lnTo>
                    <a:pt x="92" y="507"/>
                  </a:lnTo>
                  <a:lnTo>
                    <a:pt x="189" y="313"/>
                  </a:lnTo>
                  <a:lnTo>
                    <a:pt x="105" y="238"/>
                  </a:lnTo>
                  <a:lnTo>
                    <a:pt x="92" y="97"/>
                  </a:lnTo>
                  <a:lnTo>
                    <a:pt x="176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8560" y="368280"/>
              <a:ext cx="252720" cy="343440"/>
            </a:xfrm>
            <a:custGeom>
              <a:avLst/>
              <a:gdLst/>
              <a:ahLst/>
              <a:rect l="0" t="0" r="r" b="b"/>
              <a:pathLst>
                <a:path w="702" h="954">
                  <a:moveTo>
                    <a:pt x="119" y="243"/>
                  </a:moveTo>
                  <a:lnTo>
                    <a:pt x="216" y="220"/>
                  </a:lnTo>
                  <a:lnTo>
                    <a:pt x="317" y="229"/>
                  </a:lnTo>
                  <a:lnTo>
                    <a:pt x="402" y="274"/>
                  </a:lnTo>
                  <a:lnTo>
                    <a:pt x="446" y="322"/>
                  </a:lnTo>
                  <a:lnTo>
                    <a:pt x="472" y="375"/>
                  </a:lnTo>
                  <a:lnTo>
                    <a:pt x="472" y="419"/>
                  </a:lnTo>
                  <a:lnTo>
                    <a:pt x="441" y="455"/>
                  </a:lnTo>
                  <a:lnTo>
                    <a:pt x="402" y="472"/>
                  </a:lnTo>
                  <a:lnTo>
                    <a:pt x="343" y="477"/>
                  </a:lnTo>
                  <a:lnTo>
                    <a:pt x="286" y="464"/>
                  </a:lnTo>
                  <a:lnTo>
                    <a:pt x="220" y="424"/>
                  </a:lnTo>
                  <a:lnTo>
                    <a:pt x="176" y="389"/>
                  </a:lnTo>
                  <a:lnTo>
                    <a:pt x="158" y="512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71" y="954"/>
                  </a:lnTo>
                  <a:lnTo>
                    <a:pt x="299" y="697"/>
                  </a:lnTo>
                  <a:lnTo>
                    <a:pt x="441" y="716"/>
                  </a:lnTo>
                  <a:lnTo>
                    <a:pt x="534" y="702"/>
                  </a:lnTo>
                  <a:lnTo>
                    <a:pt x="622" y="640"/>
                  </a:lnTo>
                  <a:lnTo>
                    <a:pt x="675" y="565"/>
                  </a:lnTo>
                  <a:lnTo>
                    <a:pt x="702" y="468"/>
                  </a:lnTo>
                  <a:lnTo>
                    <a:pt x="702" y="362"/>
                  </a:lnTo>
                  <a:lnTo>
                    <a:pt x="675" y="256"/>
                  </a:lnTo>
                  <a:lnTo>
                    <a:pt x="618" y="145"/>
                  </a:lnTo>
                  <a:lnTo>
                    <a:pt x="543" y="66"/>
                  </a:lnTo>
                  <a:lnTo>
                    <a:pt x="459" y="22"/>
                  </a:lnTo>
                  <a:lnTo>
                    <a:pt x="362" y="0"/>
                  </a:lnTo>
                  <a:lnTo>
                    <a:pt x="229" y="0"/>
                  </a:lnTo>
                  <a:lnTo>
                    <a:pt x="92" y="22"/>
                  </a:lnTo>
                  <a:lnTo>
                    <a:pt x="119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22480" y="700200"/>
              <a:ext cx="92520" cy="66960"/>
            </a:xfrm>
            <a:custGeom>
              <a:avLst/>
              <a:gdLst/>
              <a:ahLst/>
              <a:rect l="0" t="0" r="r" b="b"/>
              <a:pathLst>
                <a:path w="257" h="186">
                  <a:moveTo>
                    <a:pt x="102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92"/>
                  </a:lnTo>
                  <a:lnTo>
                    <a:pt x="52" y="164"/>
                  </a:lnTo>
                  <a:lnTo>
                    <a:pt x="155" y="186"/>
                  </a:lnTo>
                  <a:lnTo>
                    <a:pt x="235" y="181"/>
                  </a:lnTo>
                  <a:lnTo>
                    <a:pt x="257" y="137"/>
                  </a:lnTo>
                  <a:lnTo>
                    <a:pt x="244" y="102"/>
                  </a:lnTo>
                  <a:lnTo>
                    <a:pt x="209" y="44"/>
                  </a:lnTo>
                  <a:lnTo>
                    <a:pt x="146" y="8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438280" y="1676520"/>
            <a:ext cx="6248520" cy="32004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2620800" y="189720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Identify and explain the management issues related to short-term liquid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Expl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, cash equivalent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the importance of electronic funds transf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Account for short-term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371600" y="231840"/>
            <a:ext cx="5643720" cy="1660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>
            <a:off x="1932120" y="47304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674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679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5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0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723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0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731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735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741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2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0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6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5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8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1327320" y="158760"/>
            <a:ext cx="5194440" cy="2044800"/>
            <a:chOff x="1327320" y="158760"/>
            <a:chExt cx="5194440" cy="204480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327320" y="158760"/>
              <a:ext cx="519444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 txBox="1"/>
            <p:nvPr/>
          </p:nvSpPr>
          <p:spPr>
            <a:xfrm>
              <a:off x="2028960" y="32688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479680" y="2030400"/>
            <a:ext cx="6084720" cy="29718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2773440" y="2238480"/>
            <a:ext cx="5715000" cy="24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s receiv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pply the allowance method of accounting for uncollectible accounts, using both the percentage of net sales method and the accounts receivable aging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851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856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7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900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908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912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3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6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918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9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944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3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954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62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7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5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4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2678040" y="1523880"/>
            <a:ext cx="5952960" cy="25146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895480" y="1766880"/>
            <a:ext cx="56386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nd describ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issory no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make calculations and journal entries involving promissory n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bank 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371600" y="155520"/>
            <a:ext cx="5643720" cy="1660680"/>
            <a:chOff x="1371600" y="155520"/>
            <a:chExt cx="5643720" cy="1660680"/>
          </a:xfrm>
        </p:grpSpPr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1371600" y="155520"/>
              <a:ext cx="5643720" cy="16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 txBox="1"/>
            <p:nvPr/>
          </p:nvSpPr>
          <p:spPr>
            <a:xfrm>
              <a:off x="2389320" y="39672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609480" y="1295280"/>
            <a:ext cx="5562720" cy="5486760"/>
            <a:chOff x="609480" y="1295280"/>
            <a:chExt cx="5562720" cy="5486760"/>
          </a:xfrm>
        </p:grpSpPr>
        <p:sp>
          <p:nvSpPr>
            <p:cNvPr id="1028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480" y="6275520"/>
              <a:ext cx="19861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52880" y="6275520"/>
              <a:ext cx="3019320" cy="50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1216080" y="1368360"/>
              <a:ext cx="443160" cy="762480"/>
              <a:chOff x="1216080" y="1368360"/>
              <a:chExt cx="443160" cy="762480"/>
            </a:xfrm>
          </p:grpSpPr>
          <p:sp>
            <p:nvSpPr>
              <p:cNvPr id="1033" name=""/>
              <p:cNvSpPr/>
              <p:nvPr/>
            </p:nvSpPr>
            <p:spPr>
              <a:xfrm>
                <a:off x="1216080" y="1368360"/>
                <a:ext cx="443160" cy="762480"/>
              </a:xfrm>
              <a:custGeom>
                <a:avLst/>
                <a:gdLst/>
                <a:ahLst/>
                <a:rect l="0" t="0" r="r" b="b"/>
                <a:pathLst>
                  <a:path w="1231" h="2118">
                    <a:moveTo>
                      <a:pt x="1200" y="255"/>
                    </a:moveTo>
                    <a:lnTo>
                      <a:pt x="1222" y="445"/>
                    </a:lnTo>
                    <a:lnTo>
                      <a:pt x="1231" y="671"/>
                    </a:lnTo>
                    <a:lnTo>
                      <a:pt x="1213" y="781"/>
                    </a:lnTo>
                    <a:lnTo>
                      <a:pt x="1213" y="909"/>
                    </a:lnTo>
                    <a:lnTo>
                      <a:pt x="1196" y="1072"/>
                    </a:lnTo>
                    <a:lnTo>
                      <a:pt x="1165" y="1191"/>
                    </a:lnTo>
                    <a:lnTo>
                      <a:pt x="1129" y="1262"/>
                    </a:lnTo>
                    <a:lnTo>
                      <a:pt x="1085" y="1315"/>
                    </a:lnTo>
                    <a:lnTo>
                      <a:pt x="1024" y="1390"/>
                    </a:lnTo>
                    <a:lnTo>
                      <a:pt x="966" y="1491"/>
                    </a:lnTo>
                    <a:lnTo>
                      <a:pt x="927" y="1531"/>
                    </a:lnTo>
                    <a:lnTo>
                      <a:pt x="874" y="1575"/>
                    </a:lnTo>
                    <a:lnTo>
                      <a:pt x="882" y="1655"/>
                    </a:lnTo>
                    <a:lnTo>
                      <a:pt x="852" y="1743"/>
                    </a:lnTo>
                    <a:lnTo>
                      <a:pt x="414" y="2118"/>
                    </a:lnTo>
                    <a:lnTo>
                      <a:pt x="313" y="2114"/>
                    </a:lnTo>
                    <a:lnTo>
                      <a:pt x="0" y="1770"/>
                    </a:lnTo>
                    <a:lnTo>
                      <a:pt x="0" y="1686"/>
                    </a:lnTo>
                    <a:lnTo>
                      <a:pt x="52" y="1651"/>
                    </a:lnTo>
                    <a:lnTo>
                      <a:pt x="110" y="1584"/>
                    </a:lnTo>
                    <a:lnTo>
                      <a:pt x="132" y="1442"/>
                    </a:lnTo>
                    <a:lnTo>
                      <a:pt x="145" y="1257"/>
                    </a:lnTo>
                    <a:lnTo>
                      <a:pt x="163" y="1076"/>
                    </a:lnTo>
                    <a:lnTo>
                      <a:pt x="105" y="1041"/>
                    </a:lnTo>
                    <a:lnTo>
                      <a:pt x="48" y="953"/>
                    </a:lnTo>
                    <a:lnTo>
                      <a:pt x="8" y="847"/>
                    </a:lnTo>
                    <a:lnTo>
                      <a:pt x="17" y="706"/>
                    </a:lnTo>
                    <a:lnTo>
                      <a:pt x="52" y="640"/>
                    </a:lnTo>
                    <a:lnTo>
                      <a:pt x="114" y="627"/>
                    </a:lnTo>
                    <a:lnTo>
                      <a:pt x="171" y="671"/>
                    </a:lnTo>
                    <a:lnTo>
                      <a:pt x="233" y="728"/>
                    </a:lnTo>
                    <a:lnTo>
                      <a:pt x="282" y="445"/>
                    </a:lnTo>
                    <a:lnTo>
                      <a:pt x="326" y="238"/>
                    </a:lnTo>
                    <a:lnTo>
                      <a:pt x="370" y="110"/>
                    </a:lnTo>
                    <a:lnTo>
                      <a:pt x="414" y="66"/>
                    </a:lnTo>
                    <a:lnTo>
                      <a:pt x="520" y="17"/>
                    </a:lnTo>
                    <a:lnTo>
                      <a:pt x="671" y="0"/>
                    </a:lnTo>
                    <a:lnTo>
                      <a:pt x="891" y="13"/>
                    </a:lnTo>
                    <a:lnTo>
                      <a:pt x="1068" y="83"/>
                    </a:lnTo>
                    <a:lnTo>
                      <a:pt x="1200" y="255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1233360" y="1427040"/>
                <a:ext cx="419400" cy="653040"/>
                <a:chOff x="1233360" y="1427040"/>
                <a:chExt cx="419400" cy="653040"/>
              </a:xfrm>
            </p:grpSpPr>
            <p:grpSp>
              <p:nvGrpSpPr>
                <p:cNvPr id="1035" name=""/>
                <p:cNvGrpSpPr/>
                <p:nvPr/>
              </p:nvGrpSpPr>
              <p:grpSpPr>
                <a:xfrm>
                  <a:off x="1233360" y="1427040"/>
                  <a:ext cx="419400" cy="653040"/>
                  <a:chOff x="1233360" y="1427040"/>
                  <a:chExt cx="419400" cy="65304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233360" y="1427040"/>
                    <a:ext cx="419400" cy="653040"/>
                    <a:chOff x="1233360" y="1427040"/>
                    <a:chExt cx="419400" cy="65304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1233360" y="1746360"/>
                      <a:ext cx="306720" cy="33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52" h="927">
                          <a:moveTo>
                            <a:pt x="136" y="97"/>
                          </a:moveTo>
                          <a:lnTo>
                            <a:pt x="176" y="220"/>
                          </a:lnTo>
                          <a:lnTo>
                            <a:pt x="229" y="304"/>
                          </a:lnTo>
                          <a:lnTo>
                            <a:pt x="295" y="366"/>
                          </a:lnTo>
                          <a:lnTo>
                            <a:pt x="366" y="410"/>
                          </a:lnTo>
                          <a:lnTo>
                            <a:pt x="468" y="449"/>
                          </a:lnTo>
                          <a:lnTo>
                            <a:pt x="530" y="494"/>
                          </a:lnTo>
                          <a:lnTo>
                            <a:pt x="591" y="499"/>
                          </a:lnTo>
                          <a:lnTo>
                            <a:pt x="640" y="508"/>
                          </a:lnTo>
                          <a:lnTo>
                            <a:pt x="675" y="499"/>
                          </a:lnTo>
                          <a:lnTo>
                            <a:pt x="750" y="516"/>
                          </a:lnTo>
                          <a:lnTo>
                            <a:pt x="790" y="525"/>
                          </a:lnTo>
                          <a:lnTo>
                            <a:pt x="852" y="512"/>
                          </a:lnTo>
                          <a:lnTo>
                            <a:pt x="825" y="525"/>
                          </a:lnTo>
                          <a:lnTo>
                            <a:pt x="830" y="561"/>
                          </a:lnTo>
                          <a:lnTo>
                            <a:pt x="785" y="587"/>
                          </a:lnTo>
                          <a:lnTo>
                            <a:pt x="724" y="574"/>
                          </a:lnTo>
                          <a:lnTo>
                            <a:pt x="662" y="591"/>
                          </a:lnTo>
                          <a:lnTo>
                            <a:pt x="609" y="613"/>
                          </a:lnTo>
                          <a:lnTo>
                            <a:pt x="530" y="636"/>
                          </a:lnTo>
                          <a:lnTo>
                            <a:pt x="450" y="631"/>
                          </a:lnTo>
                          <a:lnTo>
                            <a:pt x="379" y="605"/>
                          </a:lnTo>
                          <a:lnTo>
                            <a:pt x="361" y="666"/>
                          </a:lnTo>
                          <a:lnTo>
                            <a:pt x="374" y="733"/>
                          </a:lnTo>
                          <a:lnTo>
                            <a:pt x="405" y="799"/>
                          </a:lnTo>
                          <a:lnTo>
                            <a:pt x="468" y="834"/>
                          </a:lnTo>
                          <a:lnTo>
                            <a:pt x="410" y="838"/>
                          </a:lnTo>
                          <a:lnTo>
                            <a:pt x="352" y="838"/>
                          </a:lnTo>
                          <a:lnTo>
                            <a:pt x="304" y="860"/>
                          </a:lnTo>
                          <a:lnTo>
                            <a:pt x="268" y="927"/>
                          </a:lnTo>
                          <a:lnTo>
                            <a:pt x="268" y="825"/>
                          </a:lnTo>
                          <a:lnTo>
                            <a:pt x="255" y="750"/>
                          </a:lnTo>
                          <a:lnTo>
                            <a:pt x="242" y="675"/>
                          </a:lnTo>
                          <a:lnTo>
                            <a:pt x="216" y="600"/>
                          </a:lnTo>
                          <a:lnTo>
                            <a:pt x="176" y="530"/>
                          </a:lnTo>
                          <a:lnTo>
                            <a:pt x="141" y="503"/>
                          </a:lnTo>
                          <a:lnTo>
                            <a:pt x="105" y="543"/>
                          </a:lnTo>
                          <a:lnTo>
                            <a:pt x="70" y="613"/>
                          </a:lnTo>
                          <a:lnTo>
                            <a:pt x="66" y="662"/>
                          </a:lnTo>
                          <a:lnTo>
                            <a:pt x="97" y="750"/>
                          </a:lnTo>
                          <a:lnTo>
                            <a:pt x="35" y="688"/>
                          </a:lnTo>
                          <a:lnTo>
                            <a:pt x="0" y="622"/>
                          </a:lnTo>
                          <a:lnTo>
                            <a:pt x="66" y="547"/>
                          </a:lnTo>
                          <a:lnTo>
                            <a:pt x="88" y="468"/>
                          </a:lnTo>
                          <a:lnTo>
                            <a:pt x="101" y="366"/>
                          </a:lnTo>
                          <a:lnTo>
                            <a:pt x="110" y="286"/>
                          </a:lnTo>
                          <a:lnTo>
                            <a:pt x="105" y="211"/>
                          </a:lnTo>
                          <a:lnTo>
                            <a:pt x="83" y="0"/>
                          </a:lnTo>
                          <a:lnTo>
                            <a:pt x="141" y="17"/>
                          </a:lnTo>
                          <a:lnTo>
                            <a:pt x="136" y="9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241280" y="1582560"/>
                      <a:ext cx="70200" cy="170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5" h="473">
                          <a:moveTo>
                            <a:pt x="0" y="0"/>
                          </a:moveTo>
                          <a:lnTo>
                            <a:pt x="13" y="128"/>
                          </a:lnTo>
                          <a:lnTo>
                            <a:pt x="26" y="186"/>
                          </a:lnTo>
                          <a:lnTo>
                            <a:pt x="39" y="239"/>
                          </a:lnTo>
                          <a:lnTo>
                            <a:pt x="66" y="292"/>
                          </a:lnTo>
                          <a:lnTo>
                            <a:pt x="102" y="327"/>
                          </a:lnTo>
                          <a:lnTo>
                            <a:pt x="120" y="385"/>
                          </a:lnTo>
                          <a:lnTo>
                            <a:pt x="106" y="473"/>
                          </a:lnTo>
                          <a:lnTo>
                            <a:pt x="142" y="465"/>
                          </a:lnTo>
                          <a:lnTo>
                            <a:pt x="172" y="429"/>
                          </a:lnTo>
                          <a:lnTo>
                            <a:pt x="190" y="363"/>
                          </a:lnTo>
                          <a:lnTo>
                            <a:pt x="195" y="309"/>
                          </a:lnTo>
                          <a:lnTo>
                            <a:pt x="195" y="261"/>
                          </a:lnTo>
                          <a:lnTo>
                            <a:pt x="168" y="212"/>
                          </a:lnTo>
                          <a:lnTo>
                            <a:pt x="111" y="1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293840" y="1427040"/>
                      <a:ext cx="128880" cy="28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58" h="786">
                          <a:moveTo>
                            <a:pt x="278" y="44"/>
                          </a:moveTo>
                          <a:lnTo>
                            <a:pt x="239" y="136"/>
                          </a:lnTo>
                          <a:lnTo>
                            <a:pt x="247" y="217"/>
                          </a:lnTo>
                          <a:lnTo>
                            <a:pt x="283" y="261"/>
                          </a:lnTo>
                          <a:lnTo>
                            <a:pt x="322" y="322"/>
                          </a:lnTo>
                          <a:lnTo>
                            <a:pt x="358" y="397"/>
                          </a:lnTo>
                          <a:lnTo>
                            <a:pt x="239" y="446"/>
                          </a:lnTo>
                          <a:lnTo>
                            <a:pt x="230" y="508"/>
                          </a:lnTo>
                          <a:lnTo>
                            <a:pt x="195" y="597"/>
                          </a:lnTo>
                          <a:lnTo>
                            <a:pt x="171" y="641"/>
                          </a:lnTo>
                          <a:lnTo>
                            <a:pt x="190" y="711"/>
                          </a:lnTo>
                          <a:lnTo>
                            <a:pt x="221" y="786"/>
                          </a:lnTo>
                          <a:lnTo>
                            <a:pt x="127" y="734"/>
                          </a:lnTo>
                          <a:lnTo>
                            <a:pt x="66" y="711"/>
                          </a:lnTo>
                          <a:lnTo>
                            <a:pt x="0" y="601"/>
                          </a:lnTo>
                          <a:lnTo>
                            <a:pt x="70" y="534"/>
                          </a:lnTo>
                          <a:lnTo>
                            <a:pt x="97" y="221"/>
                          </a:lnTo>
                          <a:lnTo>
                            <a:pt x="141" y="0"/>
                          </a:lnTo>
                          <a:lnTo>
                            <a:pt x="278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1380960" y="1569960"/>
                      <a:ext cx="157680" cy="200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57">
                          <a:moveTo>
                            <a:pt x="66" y="155"/>
                          </a:moveTo>
                          <a:lnTo>
                            <a:pt x="13" y="101"/>
                          </a:lnTo>
                          <a:lnTo>
                            <a:pt x="0" y="48"/>
                          </a:lnTo>
                          <a:lnTo>
                            <a:pt x="115" y="4"/>
                          </a:lnTo>
                          <a:lnTo>
                            <a:pt x="203" y="0"/>
                          </a:lnTo>
                          <a:lnTo>
                            <a:pt x="269" y="13"/>
                          </a:lnTo>
                          <a:lnTo>
                            <a:pt x="345" y="35"/>
                          </a:lnTo>
                          <a:lnTo>
                            <a:pt x="394" y="74"/>
                          </a:lnTo>
                          <a:lnTo>
                            <a:pt x="429" y="132"/>
                          </a:lnTo>
                          <a:lnTo>
                            <a:pt x="390" y="177"/>
                          </a:lnTo>
                          <a:lnTo>
                            <a:pt x="381" y="230"/>
                          </a:lnTo>
                          <a:lnTo>
                            <a:pt x="381" y="327"/>
                          </a:lnTo>
                          <a:lnTo>
                            <a:pt x="416" y="429"/>
                          </a:lnTo>
                          <a:lnTo>
                            <a:pt x="438" y="517"/>
                          </a:lnTo>
                          <a:lnTo>
                            <a:pt x="368" y="557"/>
                          </a:lnTo>
                          <a:lnTo>
                            <a:pt x="363" y="491"/>
                          </a:lnTo>
                          <a:lnTo>
                            <a:pt x="350" y="469"/>
                          </a:lnTo>
                          <a:lnTo>
                            <a:pt x="305" y="460"/>
                          </a:lnTo>
                          <a:lnTo>
                            <a:pt x="287" y="495"/>
                          </a:lnTo>
                          <a:lnTo>
                            <a:pt x="296" y="526"/>
                          </a:lnTo>
                          <a:lnTo>
                            <a:pt x="296" y="557"/>
                          </a:lnTo>
                          <a:lnTo>
                            <a:pt x="265" y="517"/>
                          </a:lnTo>
                          <a:lnTo>
                            <a:pt x="252" y="465"/>
                          </a:lnTo>
                          <a:lnTo>
                            <a:pt x="278" y="425"/>
                          </a:lnTo>
                          <a:lnTo>
                            <a:pt x="318" y="367"/>
                          </a:lnTo>
                          <a:lnTo>
                            <a:pt x="345" y="331"/>
                          </a:lnTo>
                          <a:lnTo>
                            <a:pt x="341" y="261"/>
                          </a:lnTo>
                          <a:lnTo>
                            <a:pt x="314" y="203"/>
                          </a:lnTo>
                          <a:lnTo>
                            <a:pt x="287" y="168"/>
                          </a:lnTo>
                          <a:lnTo>
                            <a:pt x="212" y="127"/>
                          </a:lnTo>
                          <a:lnTo>
                            <a:pt x="66" y="15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1550880" y="1630440"/>
                      <a:ext cx="101880" cy="111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310">
                          <a:moveTo>
                            <a:pt x="283" y="44"/>
                          </a:moveTo>
                          <a:lnTo>
                            <a:pt x="239" y="80"/>
                          </a:lnTo>
                          <a:lnTo>
                            <a:pt x="225" y="150"/>
                          </a:lnTo>
                          <a:lnTo>
                            <a:pt x="208" y="190"/>
                          </a:lnTo>
                          <a:lnTo>
                            <a:pt x="172" y="159"/>
                          </a:lnTo>
                          <a:lnTo>
                            <a:pt x="110" y="142"/>
                          </a:lnTo>
                          <a:lnTo>
                            <a:pt x="35" y="124"/>
                          </a:lnTo>
                          <a:lnTo>
                            <a:pt x="30" y="181"/>
                          </a:lnTo>
                          <a:lnTo>
                            <a:pt x="30" y="235"/>
                          </a:lnTo>
                          <a:lnTo>
                            <a:pt x="39" y="310"/>
                          </a:lnTo>
                          <a:lnTo>
                            <a:pt x="8" y="235"/>
                          </a:lnTo>
                          <a:lnTo>
                            <a:pt x="0" y="177"/>
                          </a:lnTo>
                          <a:lnTo>
                            <a:pt x="0" y="128"/>
                          </a:lnTo>
                          <a:lnTo>
                            <a:pt x="17" y="44"/>
                          </a:lnTo>
                          <a:lnTo>
                            <a:pt x="66" y="0"/>
                          </a:lnTo>
                          <a:lnTo>
                            <a:pt x="283" y="44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1387440" y="1592280"/>
                      <a:ext cx="12096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177">
                          <a:moveTo>
                            <a:pt x="336" y="137"/>
                          </a:moveTo>
                          <a:lnTo>
                            <a:pt x="287" y="70"/>
                          </a:lnTo>
                          <a:lnTo>
                            <a:pt x="225" y="35"/>
                          </a:lnTo>
                          <a:lnTo>
                            <a:pt x="177" y="4"/>
                          </a:lnTo>
                          <a:lnTo>
                            <a:pt x="105" y="0"/>
                          </a:lnTo>
                          <a:lnTo>
                            <a:pt x="52" y="17"/>
                          </a:lnTo>
                          <a:lnTo>
                            <a:pt x="13" y="44"/>
                          </a:lnTo>
                          <a:lnTo>
                            <a:pt x="0" y="93"/>
                          </a:lnTo>
                          <a:lnTo>
                            <a:pt x="61" y="142"/>
                          </a:lnTo>
                          <a:lnTo>
                            <a:pt x="114" y="159"/>
                          </a:lnTo>
                          <a:lnTo>
                            <a:pt x="163" y="177"/>
                          </a:lnTo>
                          <a:lnTo>
                            <a:pt x="221" y="164"/>
                          </a:lnTo>
                          <a:lnTo>
                            <a:pt x="274" y="142"/>
                          </a:lnTo>
                          <a:lnTo>
                            <a:pt x="336" y="137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1558800" y="1639800"/>
                      <a:ext cx="87840" cy="66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44" h="186">
                          <a:moveTo>
                            <a:pt x="0" y="35"/>
                          </a:moveTo>
                          <a:lnTo>
                            <a:pt x="80" y="0"/>
                          </a:lnTo>
                          <a:lnTo>
                            <a:pt x="142" y="17"/>
                          </a:lnTo>
                          <a:lnTo>
                            <a:pt x="209" y="39"/>
                          </a:lnTo>
                          <a:lnTo>
                            <a:pt x="235" y="88"/>
                          </a:lnTo>
                          <a:lnTo>
                            <a:pt x="244" y="137"/>
                          </a:lnTo>
                          <a:lnTo>
                            <a:pt x="213" y="186"/>
                          </a:lnTo>
                          <a:lnTo>
                            <a:pt x="159" y="177"/>
                          </a:lnTo>
                          <a:lnTo>
                            <a:pt x="93" y="146"/>
                          </a:lnTo>
                          <a:lnTo>
                            <a:pt x="22" y="12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1241280" y="1649520"/>
                      <a:ext cx="39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" h="213">
                          <a:moveTo>
                            <a:pt x="26" y="0"/>
                          </a:moveTo>
                          <a:lnTo>
                            <a:pt x="22" y="39"/>
                          </a:lnTo>
                          <a:lnTo>
                            <a:pt x="26" y="80"/>
                          </a:lnTo>
                          <a:lnTo>
                            <a:pt x="48" y="124"/>
                          </a:lnTo>
                          <a:lnTo>
                            <a:pt x="62" y="165"/>
                          </a:lnTo>
                          <a:lnTo>
                            <a:pt x="89" y="142"/>
                          </a:lnTo>
                          <a:lnTo>
                            <a:pt x="111" y="173"/>
                          </a:lnTo>
                          <a:lnTo>
                            <a:pt x="80" y="187"/>
                          </a:lnTo>
                          <a:lnTo>
                            <a:pt x="67" y="213"/>
                          </a:lnTo>
                          <a:lnTo>
                            <a:pt x="39" y="200"/>
                          </a:lnTo>
                          <a:lnTo>
                            <a:pt x="22" y="165"/>
                          </a:lnTo>
                          <a:lnTo>
                            <a:pt x="0" y="111"/>
                          </a:lnTo>
                          <a:lnTo>
                            <a:pt x="26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1397160" y="1746360"/>
                      <a:ext cx="60840" cy="59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69" h="164">
                          <a:moveTo>
                            <a:pt x="169" y="0"/>
                          </a:moveTo>
                          <a:lnTo>
                            <a:pt x="120" y="26"/>
                          </a:lnTo>
                          <a:lnTo>
                            <a:pt x="71" y="74"/>
                          </a:lnTo>
                          <a:lnTo>
                            <a:pt x="30" y="106"/>
                          </a:lnTo>
                          <a:lnTo>
                            <a:pt x="0" y="164"/>
                          </a:lnTo>
                          <a:lnTo>
                            <a:pt x="26" y="84"/>
                          </a:lnTo>
                          <a:lnTo>
                            <a:pt x="67" y="30"/>
                          </a:lnTo>
                          <a:lnTo>
                            <a:pt x="115" y="4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1565280" y="1778040"/>
                      <a:ext cx="32040" cy="63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9" h="177">
                          <a:moveTo>
                            <a:pt x="0" y="0"/>
                          </a:moveTo>
                          <a:lnTo>
                            <a:pt x="49" y="61"/>
                          </a:lnTo>
                          <a:lnTo>
                            <a:pt x="62" y="106"/>
                          </a:lnTo>
                          <a:lnTo>
                            <a:pt x="58" y="159"/>
                          </a:lnTo>
                          <a:lnTo>
                            <a:pt x="53" y="177"/>
                          </a:lnTo>
                          <a:lnTo>
                            <a:pt x="89" y="120"/>
                          </a:lnTo>
                          <a:lnTo>
                            <a:pt x="80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1501920" y="1778040"/>
                      <a:ext cx="288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" h="80">
                          <a:moveTo>
                            <a:pt x="80" y="80"/>
                          </a:moveTo>
                          <a:lnTo>
                            <a:pt x="26" y="80"/>
                          </a:lnTo>
                          <a:lnTo>
                            <a:pt x="0" y="49"/>
                          </a:lnTo>
                          <a:lnTo>
                            <a:pt x="26" y="0"/>
                          </a:lnTo>
                          <a:lnTo>
                            <a:pt x="71" y="4"/>
                          </a:lnTo>
                          <a:lnTo>
                            <a:pt x="80" y="8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1455840" y="1857240"/>
                      <a:ext cx="101880" cy="65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3" h="182">
                          <a:moveTo>
                            <a:pt x="0" y="0"/>
                          </a:moveTo>
                          <a:lnTo>
                            <a:pt x="61" y="4"/>
                          </a:lnTo>
                          <a:lnTo>
                            <a:pt x="110" y="13"/>
                          </a:lnTo>
                          <a:lnTo>
                            <a:pt x="159" y="35"/>
                          </a:lnTo>
                          <a:lnTo>
                            <a:pt x="217" y="71"/>
                          </a:lnTo>
                          <a:lnTo>
                            <a:pt x="252" y="84"/>
                          </a:lnTo>
                          <a:lnTo>
                            <a:pt x="283" y="111"/>
                          </a:lnTo>
                          <a:lnTo>
                            <a:pt x="256" y="143"/>
                          </a:lnTo>
                          <a:lnTo>
                            <a:pt x="203" y="182"/>
                          </a:lnTo>
                          <a:lnTo>
                            <a:pt x="190" y="147"/>
                          </a:lnTo>
                          <a:lnTo>
                            <a:pt x="164" y="93"/>
                          </a:lnTo>
                          <a:lnTo>
                            <a:pt x="136" y="53"/>
                          </a:lnTo>
                          <a:lnTo>
                            <a:pt x="79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9" name=""/>
                  <p:cNvSpPr/>
                  <p:nvPr/>
                </p:nvSpPr>
                <p:spPr>
                  <a:xfrm>
                    <a:off x="1512720" y="1754280"/>
                    <a:ext cx="57600" cy="2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76">
                        <a:moveTo>
                          <a:pt x="0" y="45"/>
                        </a:moveTo>
                        <a:lnTo>
                          <a:pt x="22" y="68"/>
                        </a:lnTo>
                        <a:lnTo>
                          <a:pt x="53" y="49"/>
                        </a:lnTo>
                        <a:lnTo>
                          <a:pt x="93" y="45"/>
                        </a:lnTo>
                        <a:lnTo>
                          <a:pt x="151" y="76"/>
                        </a:lnTo>
                        <a:lnTo>
                          <a:pt x="160" y="31"/>
                        </a:lnTo>
                        <a:lnTo>
                          <a:pt x="143" y="0"/>
                        </a:lnTo>
                        <a:lnTo>
                          <a:pt x="98" y="0"/>
                        </a:lnTo>
                        <a:lnTo>
                          <a:pt x="62" y="23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" name=""/>
                <p:cNvGrpSpPr/>
                <p:nvPr/>
              </p:nvGrpSpPr>
              <p:grpSpPr>
                <a:xfrm>
                  <a:off x="1465200" y="1692360"/>
                  <a:ext cx="101880" cy="95040"/>
                  <a:chOff x="1465200" y="1692360"/>
                  <a:chExt cx="101880" cy="95040"/>
                </a:xfrm>
              </p:grpSpPr>
              <p:sp>
                <p:nvSpPr>
                  <p:cNvPr id="1051" name=""/>
                  <p:cNvSpPr/>
                  <p:nvPr/>
                </p:nvSpPr>
                <p:spPr>
                  <a:xfrm>
                    <a:off x="1481040" y="1731960"/>
                    <a:ext cx="3996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20">
                        <a:moveTo>
                          <a:pt x="0" y="22"/>
                        </a:moveTo>
                        <a:lnTo>
                          <a:pt x="62" y="0"/>
                        </a:lnTo>
                        <a:lnTo>
                          <a:pt x="98" y="30"/>
                        </a:lnTo>
                        <a:lnTo>
                          <a:pt x="106" y="67"/>
                        </a:lnTo>
                        <a:lnTo>
                          <a:pt x="111" y="111"/>
                        </a:lnTo>
                        <a:lnTo>
                          <a:pt x="93" y="120"/>
                        </a:lnTo>
                        <a:lnTo>
                          <a:pt x="80" y="89"/>
                        </a:lnTo>
                        <a:lnTo>
                          <a:pt x="44" y="6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1465200" y="1692360"/>
                    <a:ext cx="3672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102" h="191">
                        <a:moveTo>
                          <a:pt x="102" y="0"/>
                        </a:moveTo>
                        <a:lnTo>
                          <a:pt x="75" y="49"/>
                        </a:lnTo>
                        <a:lnTo>
                          <a:pt x="39" y="80"/>
                        </a:lnTo>
                        <a:lnTo>
                          <a:pt x="17" y="115"/>
                        </a:lnTo>
                        <a:lnTo>
                          <a:pt x="30" y="151"/>
                        </a:lnTo>
                        <a:lnTo>
                          <a:pt x="44" y="191"/>
                        </a:lnTo>
                        <a:lnTo>
                          <a:pt x="22" y="187"/>
                        </a:lnTo>
                        <a:lnTo>
                          <a:pt x="8" y="147"/>
                        </a:lnTo>
                        <a:lnTo>
                          <a:pt x="0" y="106"/>
                        </a:lnTo>
                        <a:lnTo>
                          <a:pt x="8" y="75"/>
                        </a:lnTo>
                        <a:lnTo>
                          <a:pt x="44" y="39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1536840" y="1758960"/>
                    <a:ext cx="30240" cy="2844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4" name=""/>
            <p:cNvGrpSpPr/>
            <p:nvPr/>
          </p:nvGrpSpPr>
          <p:grpSpPr>
            <a:xfrm>
              <a:off x="1368360" y="1557360"/>
              <a:ext cx="288000" cy="298800"/>
              <a:chOff x="1368360" y="1557360"/>
              <a:chExt cx="288000" cy="29880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1432080" y="1792440"/>
                <a:ext cx="146520" cy="63720"/>
                <a:chOff x="1432080" y="1792440"/>
                <a:chExt cx="146520" cy="6372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432080" y="1792440"/>
                  <a:ext cx="146520" cy="63720"/>
                </a:xfrm>
                <a:custGeom>
                  <a:avLst/>
                  <a:gdLst/>
                  <a:ahLst/>
                  <a:rect l="0" t="0" r="r" b="b"/>
                  <a:pathLst>
                    <a:path w="407" h="177">
                      <a:moveTo>
                        <a:pt x="0" y="4"/>
                      </a:moveTo>
                      <a:lnTo>
                        <a:pt x="57" y="0"/>
                      </a:lnTo>
                      <a:lnTo>
                        <a:pt x="155" y="13"/>
                      </a:lnTo>
                      <a:lnTo>
                        <a:pt x="190" y="17"/>
                      </a:lnTo>
                      <a:lnTo>
                        <a:pt x="212" y="39"/>
                      </a:lnTo>
                      <a:lnTo>
                        <a:pt x="243" y="44"/>
                      </a:lnTo>
                      <a:lnTo>
                        <a:pt x="292" y="48"/>
                      </a:lnTo>
                      <a:lnTo>
                        <a:pt x="337" y="79"/>
                      </a:lnTo>
                      <a:lnTo>
                        <a:pt x="407" y="133"/>
                      </a:lnTo>
                      <a:lnTo>
                        <a:pt x="359" y="146"/>
                      </a:lnTo>
                      <a:lnTo>
                        <a:pt x="278" y="168"/>
                      </a:lnTo>
                      <a:lnTo>
                        <a:pt x="212" y="177"/>
                      </a:lnTo>
                      <a:lnTo>
                        <a:pt x="159" y="159"/>
                      </a:lnTo>
                      <a:lnTo>
                        <a:pt x="88" y="128"/>
                      </a:lnTo>
                      <a:lnTo>
                        <a:pt x="44" y="7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436760" y="1801800"/>
                  <a:ext cx="135360" cy="38520"/>
                </a:xfrm>
                <a:custGeom>
                  <a:avLst/>
                  <a:gdLst/>
                  <a:ahLst/>
                  <a:rect l="0" t="0" r="r" b="b"/>
                  <a:pathLst>
                    <a:path w="376" h="107">
                      <a:moveTo>
                        <a:pt x="0" y="0"/>
                      </a:moveTo>
                      <a:lnTo>
                        <a:pt x="66" y="8"/>
                      </a:lnTo>
                      <a:lnTo>
                        <a:pt x="111" y="36"/>
                      </a:lnTo>
                      <a:lnTo>
                        <a:pt x="159" y="58"/>
                      </a:lnTo>
                      <a:lnTo>
                        <a:pt x="195" y="58"/>
                      </a:lnTo>
                      <a:lnTo>
                        <a:pt x="243" y="75"/>
                      </a:lnTo>
                      <a:lnTo>
                        <a:pt x="297" y="85"/>
                      </a:lnTo>
                      <a:lnTo>
                        <a:pt x="345" y="90"/>
                      </a:lnTo>
                      <a:lnTo>
                        <a:pt x="376" y="107"/>
                      </a:lnTo>
                      <a:lnTo>
                        <a:pt x="341" y="94"/>
                      </a:lnTo>
                      <a:lnTo>
                        <a:pt x="297" y="99"/>
                      </a:lnTo>
                      <a:lnTo>
                        <a:pt x="265" y="94"/>
                      </a:lnTo>
                      <a:lnTo>
                        <a:pt x="217" y="94"/>
                      </a:lnTo>
                      <a:lnTo>
                        <a:pt x="199" y="85"/>
                      </a:lnTo>
                      <a:lnTo>
                        <a:pt x="159" y="71"/>
                      </a:lnTo>
                      <a:lnTo>
                        <a:pt x="120" y="62"/>
                      </a:lnTo>
                      <a:lnTo>
                        <a:pt x="74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1393920" y="1603440"/>
                <a:ext cx="92520" cy="42840"/>
                <a:chOff x="1393920" y="1603440"/>
                <a:chExt cx="92520" cy="4284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403280" y="1609560"/>
                  <a:ext cx="81360" cy="33840"/>
                </a:xfrm>
                <a:custGeom>
                  <a:avLst/>
                  <a:gdLst/>
                  <a:ahLst/>
                  <a:rect l="0" t="0" r="r" b="b"/>
                  <a:pathLst>
                    <a:path w="226" h="94">
                      <a:moveTo>
                        <a:pt x="226" y="85"/>
                      </a:moveTo>
                      <a:lnTo>
                        <a:pt x="191" y="27"/>
                      </a:lnTo>
                      <a:lnTo>
                        <a:pt x="146" y="8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48" y="76"/>
                      </a:lnTo>
                      <a:lnTo>
                        <a:pt x="111" y="90"/>
                      </a:lnTo>
                      <a:lnTo>
                        <a:pt x="191" y="94"/>
                      </a:lnTo>
                      <a:lnTo>
                        <a:pt x="226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1419120" y="1603440"/>
                  <a:ext cx="55440" cy="42840"/>
                  <a:chOff x="1419120" y="1603440"/>
                  <a:chExt cx="55440" cy="428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1419120" y="1603440"/>
                    <a:ext cx="55440" cy="4284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1427040" y="1604880"/>
                    <a:ext cx="41400" cy="4140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1430280" y="1604880"/>
                    <a:ext cx="3492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1433520" y="1612800"/>
                  <a:ext cx="2844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393920" y="1603440"/>
                  <a:ext cx="92520" cy="38520"/>
                </a:xfrm>
                <a:custGeom>
                  <a:avLst/>
                  <a:gdLst/>
                  <a:ahLst/>
                  <a:rect l="0" t="0" r="r" b="b"/>
                  <a:pathLst>
                    <a:path w="257" h="107">
                      <a:moveTo>
                        <a:pt x="257" y="107"/>
                      </a:moveTo>
                      <a:lnTo>
                        <a:pt x="226" y="75"/>
                      </a:lnTo>
                      <a:lnTo>
                        <a:pt x="200" y="45"/>
                      </a:lnTo>
                      <a:lnTo>
                        <a:pt x="177" y="40"/>
                      </a:lnTo>
                      <a:lnTo>
                        <a:pt x="146" y="22"/>
                      </a:lnTo>
                      <a:lnTo>
                        <a:pt x="111" y="31"/>
                      </a:lnTo>
                      <a:lnTo>
                        <a:pt x="89" y="40"/>
                      </a:lnTo>
                      <a:lnTo>
                        <a:pt x="22" y="58"/>
                      </a:lnTo>
                      <a:lnTo>
                        <a:pt x="57" y="71"/>
                      </a:lnTo>
                      <a:lnTo>
                        <a:pt x="93" y="94"/>
                      </a:lnTo>
                      <a:lnTo>
                        <a:pt x="39" y="75"/>
                      </a:lnTo>
                      <a:lnTo>
                        <a:pt x="0" y="58"/>
                      </a:lnTo>
                      <a:lnTo>
                        <a:pt x="35" y="40"/>
                      </a:lnTo>
                      <a:lnTo>
                        <a:pt x="67" y="17"/>
                      </a:lnTo>
                      <a:lnTo>
                        <a:pt x="102" y="0"/>
                      </a:lnTo>
                      <a:lnTo>
                        <a:pt x="159" y="4"/>
                      </a:lnTo>
                      <a:lnTo>
                        <a:pt x="181" y="17"/>
                      </a:lnTo>
                      <a:lnTo>
                        <a:pt x="218" y="40"/>
                      </a:lnTo>
                      <a:lnTo>
                        <a:pt x="253" y="75"/>
                      </a:lnTo>
                      <a:lnTo>
                        <a:pt x="257" y="107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1368360" y="1557360"/>
                <a:ext cx="288000" cy="100080"/>
                <a:chOff x="1368360" y="1557360"/>
                <a:chExt cx="288000" cy="1000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1368360" y="1557360"/>
                  <a:ext cx="160560" cy="63720"/>
                </a:xfrm>
                <a:custGeom>
                  <a:avLst/>
                  <a:gdLst/>
                  <a:ahLst/>
                  <a:rect l="0" t="0" r="r" b="b"/>
                  <a:pathLst>
                    <a:path w="446" h="177">
                      <a:moveTo>
                        <a:pt x="0" y="102"/>
                      </a:moveTo>
                      <a:lnTo>
                        <a:pt x="79" y="35"/>
                      </a:lnTo>
                      <a:lnTo>
                        <a:pt x="158" y="0"/>
                      </a:lnTo>
                      <a:lnTo>
                        <a:pt x="202" y="13"/>
                      </a:lnTo>
                      <a:lnTo>
                        <a:pt x="230" y="8"/>
                      </a:lnTo>
                      <a:lnTo>
                        <a:pt x="296" y="13"/>
                      </a:lnTo>
                      <a:lnTo>
                        <a:pt x="340" y="39"/>
                      </a:lnTo>
                      <a:lnTo>
                        <a:pt x="353" y="70"/>
                      </a:lnTo>
                      <a:lnTo>
                        <a:pt x="402" y="74"/>
                      </a:lnTo>
                      <a:lnTo>
                        <a:pt x="419" y="124"/>
                      </a:lnTo>
                      <a:lnTo>
                        <a:pt x="446" y="159"/>
                      </a:lnTo>
                      <a:lnTo>
                        <a:pt x="362" y="177"/>
                      </a:lnTo>
                      <a:lnTo>
                        <a:pt x="336" y="137"/>
                      </a:lnTo>
                      <a:lnTo>
                        <a:pt x="274" y="93"/>
                      </a:lnTo>
                      <a:lnTo>
                        <a:pt x="230" y="79"/>
                      </a:lnTo>
                      <a:lnTo>
                        <a:pt x="189" y="70"/>
                      </a:lnTo>
                      <a:lnTo>
                        <a:pt x="119" y="79"/>
                      </a:lnTo>
                      <a:lnTo>
                        <a:pt x="44" y="10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552680" y="1609560"/>
                  <a:ext cx="103680" cy="47880"/>
                </a:xfrm>
                <a:custGeom>
                  <a:avLst/>
                  <a:gdLst/>
                  <a:ahLst/>
                  <a:rect l="0" t="0" r="r" b="b"/>
                  <a:pathLst>
                    <a:path w="288" h="133">
                      <a:moveTo>
                        <a:pt x="288" y="98"/>
                      </a:moveTo>
                      <a:lnTo>
                        <a:pt x="266" y="44"/>
                      </a:lnTo>
                      <a:lnTo>
                        <a:pt x="212" y="26"/>
                      </a:lnTo>
                      <a:lnTo>
                        <a:pt x="181" y="13"/>
                      </a:lnTo>
                      <a:lnTo>
                        <a:pt x="155" y="0"/>
                      </a:lnTo>
                      <a:lnTo>
                        <a:pt x="89" y="0"/>
                      </a:lnTo>
                      <a:lnTo>
                        <a:pt x="52" y="26"/>
                      </a:lnTo>
                      <a:lnTo>
                        <a:pt x="0" y="30"/>
                      </a:lnTo>
                      <a:lnTo>
                        <a:pt x="44" y="89"/>
                      </a:lnTo>
                      <a:lnTo>
                        <a:pt x="133" y="80"/>
                      </a:lnTo>
                      <a:lnTo>
                        <a:pt x="208" y="102"/>
                      </a:lnTo>
                      <a:lnTo>
                        <a:pt x="275" y="133"/>
                      </a:lnTo>
                      <a:lnTo>
                        <a:pt x="288" y="9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1566720" y="1649520"/>
                <a:ext cx="78120" cy="42840"/>
                <a:chOff x="1566720" y="1649520"/>
                <a:chExt cx="78120" cy="4284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1566720" y="1655640"/>
                  <a:ext cx="71640" cy="33840"/>
                </a:xfrm>
                <a:custGeom>
                  <a:avLst/>
                  <a:gdLst/>
                  <a:ahLst/>
                  <a:rect l="0" t="0" r="r" b="b"/>
                  <a:pathLst>
                    <a:path w="199" h="94">
                      <a:moveTo>
                        <a:pt x="0" y="31"/>
                      </a:moveTo>
                      <a:lnTo>
                        <a:pt x="92" y="0"/>
                      </a:lnTo>
                      <a:lnTo>
                        <a:pt x="146" y="8"/>
                      </a:lnTo>
                      <a:lnTo>
                        <a:pt x="199" y="81"/>
                      </a:lnTo>
                      <a:lnTo>
                        <a:pt x="146" y="94"/>
                      </a:lnTo>
                      <a:lnTo>
                        <a:pt x="97" y="94"/>
                      </a:lnTo>
                      <a:lnTo>
                        <a:pt x="26" y="6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576440" y="1649520"/>
                  <a:ext cx="55440" cy="4284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587600" y="1654200"/>
                  <a:ext cx="38160" cy="3816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592280" y="1652760"/>
                  <a:ext cx="34920" cy="36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595520" y="1660680"/>
                  <a:ext cx="25560" cy="28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1566720" y="1649520"/>
                  <a:ext cx="78120" cy="41760"/>
                </a:xfrm>
                <a:custGeom>
                  <a:avLst/>
                  <a:gdLst/>
                  <a:ahLst/>
                  <a:rect l="0" t="0" r="r" b="b"/>
                  <a:pathLst>
                    <a:path w="217" h="116">
                      <a:moveTo>
                        <a:pt x="0" y="45"/>
                      </a:moveTo>
                      <a:lnTo>
                        <a:pt x="30" y="26"/>
                      </a:lnTo>
                      <a:lnTo>
                        <a:pt x="79" y="13"/>
                      </a:lnTo>
                      <a:lnTo>
                        <a:pt x="124" y="13"/>
                      </a:lnTo>
                      <a:lnTo>
                        <a:pt x="142" y="31"/>
                      </a:lnTo>
                      <a:lnTo>
                        <a:pt x="172" y="62"/>
                      </a:lnTo>
                      <a:lnTo>
                        <a:pt x="186" y="75"/>
                      </a:lnTo>
                      <a:lnTo>
                        <a:pt x="186" y="90"/>
                      </a:lnTo>
                      <a:lnTo>
                        <a:pt x="137" y="112"/>
                      </a:lnTo>
                      <a:lnTo>
                        <a:pt x="181" y="116"/>
                      </a:lnTo>
                      <a:lnTo>
                        <a:pt x="217" y="103"/>
                      </a:lnTo>
                      <a:lnTo>
                        <a:pt x="203" y="67"/>
                      </a:lnTo>
                      <a:lnTo>
                        <a:pt x="172" y="36"/>
                      </a:lnTo>
                      <a:lnTo>
                        <a:pt x="142" y="13"/>
                      </a:lnTo>
                      <a:lnTo>
                        <a:pt x="105" y="0"/>
                      </a:lnTo>
                      <a:lnTo>
                        <a:pt x="70" y="4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6" name=""/>
            <p:cNvGrpSpPr/>
            <p:nvPr/>
          </p:nvGrpSpPr>
          <p:grpSpPr>
            <a:xfrm>
              <a:off x="1185840" y="1295280"/>
              <a:ext cx="540000" cy="606960"/>
              <a:chOff x="1185840" y="1295280"/>
              <a:chExt cx="540000" cy="606960"/>
            </a:xfrm>
          </p:grpSpPr>
          <p:sp>
            <p:nvSpPr>
              <p:cNvPr id="1077" name=""/>
              <p:cNvSpPr/>
              <p:nvPr/>
            </p:nvSpPr>
            <p:spPr>
              <a:xfrm>
                <a:off x="1189080" y="1295280"/>
                <a:ext cx="536760" cy="606960"/>
              </a:xfrm>
              <a:custGeom>
                <a:avLst/>
                <a:gdLst/>
                <a:ahLst/>
                <a:rect l="0" t="0" r="r" b="b"/>
                <a:pathLst>
                  <a:path w="1491" h="1686">
                    <a:moveTo>
                      <a:pt x="1288" y="1076"/>
                    </a:moveTo>
                    <a:lnTo>
                      <a:pt x="1328" y="1050"/>
                    </a:lnTo>
                    <a:lnTo>
                      <a:pt x="1394" y="993"/>
                    </a:lnTo>
                    <a:lnTo>
                      <a:pt x="1425" y="949"/>
                    </a:lnTo>
                    <a:lnTo>
                      <a:pt x="1447" y="900"/>
                    </a:lnTo>
                    <a:lnTo>
                      <a:pt x="1451" y="834"/>
                    </a:lnTo>
                    <a:lnTo>
                      <a:pt x="1451" y="777"/>
                    </a:lnTo>
                    <a:lnTo>
                      <a:pt x="1478" y="733"/>
                    </a:lnTo>
                    <a:lnTo>
                      <a:pt x="1487" y="649"/>
                    </a:lnTo>
                    <a:lnTo>
                      <a:pt x="1491" y="547"/>
                    </a:lnTo>
                    <a:lnTo>
                      <a:pt x="1478" y="450"/>
                    </a:lnTo>
                    <a:lnTo>
                      <a:pt x="1456" y="396"/>
                    </a:lnTo>
                    <a:lnTo>
                      <a:pt x="1416" y="326"/>
                    </a:lnTo>
                    <a:lnTo>
                      <a:pt x="1368" y="273"/>
                    </a:lnTo>
                    <a:lnTo>
                      <a:pt x="1288" y="233"/>
                    </a:lnTo>
                    <a:lnTo>
                      <a:pt x="1257" y="167"/>
                    </a:lnTo>
                    <a:lnTo>
                      <a:pt x="1204" y="105"/>
                    </a:lnTo>
                    <a:lnTo>
                      <a:pt x="1129" y="74"/>
                    </a:lnTo>
                    <a:lnTo>
                      <a:pt x="1032" y="39"/>
                    </a:lnTo>
                    <a:lnTo>
                      <a:pt x="935" y="30"/>
                    </a:lnTo>
                    <a:lnTo>
                      <a:pt x="878" y="4"/>
                    </a:lnTo>
                    <a:lnTo>
                      <a:pt x="803" y="0"/>
                    </a:lnTo>
                    <a:lnTo>
                      <a:pt x="727" y="8"/>
                    </a:lnTo>
                    <a:lnTo>
                      <a:pt x="630" y="35"/>
                    </a:lnTo>
                    <a:lnTo>
                      <a:pt x="573" y="70"/>
                    </a:lnTo>
                    <a:lnTo>
                      <a:pt x="529" y="97"/>
                    </a:lnTo>
                    <a:lnTo>
                      <a:pt x="445" y="119"/>
                    </a:lnTo>
                    <a:lnTo>
                      <a:pt x="410" y="136"/>
                    </a:lnTo>
                    <a:lnTo>
                      <a:pt x="330" y="132"/>
                    </a:lnTo>
                    <a:lnTo>
                      <a:pt x="260" y="145"/>
                    </a:lnTo>
                    <a:lnTo>
                      <a:pt x="185" y="185"/>
                    </a:lnTo>
                    <a:lnTo>
                      <a:pt x="127" y="255"/>
                    </a:lnTo>
                    <a:lnTo>
                      <a:pt x="101" y="335"/>
                    </a:lnTo>
                    <a:lnTo>
                      <a:pt x="101" y="455"/>
                    </a:lnTo>
                    <a:lnTo>
                      <a:pt x="105" y="538"/>
                    </a:lnTo>
                    <a:lnTo>
                      <a:pt x="79" y="574"/>
                    </a:lnTo>
                    <a:lnTo>
                      <a:pt x="70" y="688"/>
                    </a:lnTo>
                    <a:lnTo>
                      <a:pt x="44" y="847"/>
                    </a:lnTo>
                    <a:lnTo>
                      <a:pt x="48" y="957"/>
                    </a:lnTo>
                    <a:lnTo>
                      <a:pt x="35" y="1032"/>
                    </a:lnTo>
                    <a:lnTo>
                      <a:pt x="17" y="1125"/>
                    </a:lnTo>
                    <a:lnTo>
                      <a:pt x="0" y="1231"/>
                    </a:lnTo>
                    <a:lnTo>
                      <a:pt x="35" y="1355"/>
                    </a:lnTo>
                    <a:lnTo>
                      <a:pt x="66" y="1421"/>
                    </a:lnTo>
                    <a:lnTo>
                      <a:pt x="83" y="1479"/>
                    </a:lnTo>
                    <a:lnTo>
                      <a:pt x="114" y="1585"/>
                    </a:lnTo>
                    <a:lnTo>
                      <a:pt x="163" y="1651"/>
                    </a:lnTo>
                    <a:lnTo>
                      <a:pt x="211" y="1686"/>
                    </a:lnTo>
                    <a:lnTo>
                      <a:pt x="233" y="1633"/>
                    </a:lnTo>
                    <a:lnTo>
                      <a:pt x="242" y="1540"/>
                    </a:lnTo>
                    <a:lnTo>
                      <a:pt x="242" y="1457"/>
                    </a:lnTo>
                    <a:lnTo>
                      <a:pt x="242" y="1399"/>
                    </a:lnTo>
                    <a:lnTo>
                      <a:pt x="242" y="1329"/>
                    </a:lnTo>
                    <a:lnTo>
                      <a:pt x="242" y="1272"/>
                    </a:lnTo>
                    <a:lnTo>
                      <a:pt x="207" y="1257"/>
                    </a:lnTo>
                    <a:lnTo>
                      <a:pt x="167" y="1191"/>
                    </a:lnTo>
                    <a:lnTo>
                      <a:pt x="136" y="1151"/>
                    </a:lnTo>
                    <a:lnTo>
                      <a:pt x="101" y="1050"/>
                    </a:lnTo>
                    <a:lnTo>
                      <a:pt x="97" y="966"/>
                    </a:lnTo>
                    <a:lnTo>
                      <a:pt x="119" y="904"/>
                    </a:lnTo>
                    <a:lnTo>
                      <a:pt x="154" y="882"/>
                    </a:lnTo>
                    <a:lnTo>
                      <a:pt x="189" y="904"/>
                    </a:lnTo>
                    <a:lnTo>
                      <a:pt x="216" y="949"/>
                    </a:lnTo>
                    <a:lnTo>
                      <a:pt x="260" y="1015"/>
                    </a:lnTo>
                    <a:lnTo>
                      <a:pt x="330" y="1046"/>
                    </a:lnTo>
                    <a:lnTo>
                      <a:pt x="366" y="1006"/>
                    </a:lnTo>
                    <a:lnTo>
                      <a:pt x="405" y="988"/>
                    </a:lnTo>
                    <a:lnTo>
                      <a:pt x="396" y="913"/>
                    </a:lnTo>
                    <a:lnTo>
                      <a:pt x="410" y="852"/>
                    </a:lnTo>
                    <a:lnTo>
                      <a:pt x="454" y="812"/>
                    </a:lnTo>
                    <a:lnTo>
                      <a:pt x="489" y="746"/>
                    </a:lnTo>
                    <a:lnTo>
                      <a:pt x="511" y="693"/>
                    </a:lnTo>
                    <a:lnTo>
                      <a:pt x="493" y="600"/>
                    </a:lnTo>
                    <a:lnTo>
                      <a:pt x="520" y="490"/>
                    </a:lnTo>
                    <a:lnTo>
                      <a:pt x="564" y="424"/>
                    </a:lnTo>
                    <a:lnTo>
                      <a:pt x="661" y="379"/>
                    </a:lnTo>
                    <a:lnTo>
                      <a:pt x="790" y="383"/>
                    </a:lnTo>
                    <a:lnTo>
                      <a:pt x="860" y="401"/>
                    </a:lnTo>
                    <a:lnTo>
                      <a:pt x="922" y="401"/>
                    </a:lnTo>
                    <a:lnTo>
                      <a:pt x="1050" y="414"/>
                    </a:lnTo>
                    <a:lnTo>
                      <a:pt x="1081" y="459"/>
                    </a:lnTo>
                    <a:lnTo>
                      <a:pt x="1169" y="503"/>
                    </a:lnTo>
                    <a:lnTo>
                      <a:pt x="1218" y="543"/>
                    </a:lnTo>
                    <a:lnTo>
                      <a:pt x="1262" y="609"/>
                    </a:lnTo>
                    <a:lnTo>
                      <a:pt x="1266" y="684"/>
                    </a:lnTo>
                    <a:lnTo>
                      <a:pt x="1271" y="759"/>
                    </a:lnTo>
                    <a:lnTo>
                      <a:pt x="1284" y="821"/>
                    </a:lnTo>
                    <a:lnTo>
                      <a:pt x="1310" y="856"/>
                    </a:lnTo>
                    <a:lnTo>
                      <a:pt x="1315" y="904"/>
                    </a:lnTo>
                    <a:lnTo>
                      <a:pt x="1288" y="940"/>
                    </a:lnTo>
                    <a:lnTo>
                      <a:pt x="1288" y="107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1185840" y="1317600"/>
                <a:ext cx="518040" cy="568800"/>
                <a:chOff x="1185840" y="1317600"/>
                <a:chExt cx="518040" cy="5688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335240" y="1317600"/>
                  <a:ext cx="324360" cy="197280"/>
                </a:xfrm>
                <a:custGeom>
                  <a:avLst/>
                  <a:gdLst/>
                  <a:ahLst/>
                  <a:rect l="0" t="0" r="r" b="b"/>
                  <a:pathLst>
                    <a:path w="901" h="548">
                      <a:moveTo>
                        <a:pt x="835" y="495"/>
                      </a:moveTo>
                      <a:lnTo>
                        <a:pt x="866" y="548"/>
                      </a:lnTo>
                      <a:lnTo>
                        <a:pt x="879" y="491"/>
                      </a:lnTo>
                      <a:lnTo>
                        <a:pt x="901" y="402"/>
                      </a:lnTo>
                      <a:lnTo>
                        <a:pt x="879" y="367"/>
                      </a:lnTo>
                      <a:lnTo>
                        <a:pt x="822" y="336"/>
                      </a:lnTo>
                      <a:lnTo>
                        <a:pt x="760" y="327"/>
                      </a:lnTo>
                      <a:lnTo>
                        <a:pt x="707" y="314"/>
                      </a:lnTo>
                      <a:lnTo>
                        <a:pt x="685" y="265"/>
                      </a:lnTo>
                      <a:lnTo>
                        <a:pt x="636" y="274"/>
                      </a:lnTo>
                      <a:lnTo>
                        <a:pt x="644" y="230"/>
                      </a:lnTo>
                      <a:lnTo>
                        <a:pt x="662" y="181"/>
                      </a:lnTo>
                      <a:lnTo>
                        <a:pt x="694" y="155"/>
                      </a:lnTo>
                      <a:lnTo>
                        <a:pt x="644" y="164"/>
                      </a:lnTo>
                      <a:lnTo>
                        <a:pt x="583" y="172"/>
                      </a:lnTo>
                      <a:lnTo>
                        <a:pt x="556" y="146"/>
                      </a:lnTo>
                      <a:lnTo>
                        <a:pt x="538" y="101"/>
                      </a:lnTo>
                      <a:lnTo>
                        <a:pt x="494" y="136"/>
                      </a:lnTo>
                      <a:lnTo>
                        <a:pt x="464" y="172"/>
                      </a:lnTo>
                      <a:lnTo>
                        <a:pt x="433" y="212"/>
                      </a:lnTo>
                      <a:lnTo>
                        <a:pt x="437" y="132"/>
                      </a:lnTo>
                      <a:lnTo>
                        <a:pt x="446" y="83"/>
                      </a:lnTo>
                      <a:lnTo>
                        <a:pt x="472" y="44"/>
                      </a:lnTo>
                      <a:lnTo>
                        <a:pt x="428" y="44"/>
                      </a:lnTo>
                      <a:lnTo>
                        <a:pt x="397" y="30"/>
                      </a:lnTo>
                      <a:lnTo>
                        <a:pt x="358" y="4"/>
                      </a:lnTo>
                      <a:lnTo>
                        <a:pt x="305" y="0"/>
                      </a:lnTo>
                      <a:lnTo>
                        <a:pt x="261" y="39"/>
                      </a:lnTo>
                      <a:lnTo>
                        <a:pt x="239" y="79"/>
                      </a:lnTo>
                      <a:lnTo>
                        <a:pt x="194" y="74"/>
                      </a:lnTo>
                      <a:lnTo>
                        <a:pt x="154" y="52"/>
                      </a:lnTo>
                      <a:lnTo>
                        <a:pt x="110" y="52"/>
                      </a:lnTo>
                      <a:lnTo>
                        <a:pt x="48" y="70"/>
                      </a:lnTo>
                      <a:lnTo>
                        <a:pt x="0" y="92"/>
                      </a:lnTo>
                      <a:lnTo>
                        <a:pt x="88" y="105"/>
                      </a:lnTo>
                      <a:lnTo>
                        <a:pt x="145" y="123"/>
                      </a:lnTo>
                      <a:lnTo>
                        <a:pt x="198" y="142"/>
                      </a:lnTo>
                      <a:lnTo>
                        <a:pt x="239" y="155"/>
                      </a:lnTo>
                      <a:lnTo>
                        <a:pt x="265" y="186"/>
                      </a:lnTo>
                      <a:lnTo>
                        <a:pt x="220" y="221"/>
                      </a:lnTo>
                      <a:lnTo>
                        <a:pt x="176" y="256"/>
                      </a:lnTo>
                      <a:lnTo>
                        <a:pt x="145" y="292"/>
                      </a:lnTo>
                      <a:lnTo>
                        <a:pt x="132" y="336"/>
                      </a:lnTo>
                      <a:lnTo>
                        <a:pt x="136" y="406"/>
                      </a:lnTo>
                      <a:lnTo>
                        <a:pt x="180" y="362"/>
                      </a:lnTo>
                      <a:lnTo>
                        <a:pt x="247" y="327"/>
                      </a:lnTo>
                      <a:lnTo>
                        <a:pt x="327" y="314"/>
                      </a:lnTo>
                      <a:lnTo>
                        <a:pt x="406" y="327"/>
                      </a:lnTo>
                      <a:lnTo>
                        <a:pt x="468" y="336"/>
                      </a:lnTo>
                      <a:lnTo>
                        <a:pt x="561" y="344"/>
                      </a:lnTo>
                      <a:lnTo>
                        <a:pt x="627" y="349"/>
                      </a:lnTo>
                      <a:lnTo>
                        <a:pt x="666" y="393"/>
                      </a:lnTo>
                      <a:lnTo>
                        <a:pt x="711" y="420"/>
                      </a:lnTo>
                      <a:lnTo>
                        <a:pt x="778" y="456"/>
                      </a:lnTo>
                      <a:lnTo>
                        <a:pt x="835" y="495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652760" y="1498680"/>
                  <a:ext cx="51120" cy="179640"/>
                </a:xfrm>
                <a:custGeom>
                  <a:avLst/>
                  <a:gdLst/>
                  <a:ahLst/>
                  <a:rect l="0" t="0" r="r" b="b"/>
                  <a:pathLst>
                    <a:path w="142" h="499">
                      <a:moveTo>
                        <a:pt x="98" y="0"/>
                      </a:moveTo>
                      <a:lnTo>
                        <a:pt x="44" y="88"/>
                      </a:lnTo>
                      <a:lnTo>
                        <a:pt x="13" y="185"/>
                      </a:lnTo>
                      <a:lnTo>
                        <a:pt x="8" y="265"/>
                      </a:lnTo>
                      <a:lnTo>
                        <a:pt x="17" y="314"/>
                      </a:lnTo>
                      <a:lnTo>
                        <a:pt x="4" y="402"/>
                      </a:lnTo>
                      <a:lnTo>
                        <a:pt x="0" y="499"/>
                      </a:lnTo>
                      <a:lnTo>
                        <a:pt x="44" y="486"/>
                      </a:lnTo>
                      <a:lnTo>
                        <a:pt x="106" y="424"/>
                      </a:lnTo>
                      <a:lnTo>
                        <a:pt x="137" y="380"/>
                      </a:lnTo>
                      <a:lnTo>
                        <a:pt x="142" y="300"/>
                      </a:lnTo>
                      <a:lnTo>
                        <a:pt x="128" y="252"/>
                      </a:lnTo>
                      <a:lnTo>
                        <a:pt x="98" y="189"/>
                      </a:lnTo>
                      <a:lnTo>
                        <a:pt x="84" y="265"/>
                      </a:lnTo>
                      <a:lnTo>
                        <a:pt x="66" y="309"/>
                      </a:lnTo>
                      <a:lnTo>
                        <a:pt x="39" y="362"/>
                      </a:lnTo>
                      <a:lnTo>
                        <a:pt x="57" y="256"/>
                      </a:lnTo>
                      <a:lnTo>
                        <a:pt x="75" y="185"/>
                      </a:lnTo>
                      <a:lnTo>
                        <a:pt x="84" y="11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217520" y="1649520"/>
                  <a:ext cx="60840" cy="230400"/>
                </a:xfrm>
                <a:custGeom>
                  <a:avLst/>
                  <a:gdLst/>
                  <a:ahLst/>
                  <a:rect l="0" t="0" r="r" b="b"/>
                  <a:pathLst>
                    <a:path w="169" h="640">
                      <a:moveTo>
                        <a:pt x="17" y="0"/>
                      </a:moveTo>
                      <a:lnTo>
                        <a:pt x="26" y="83"/>
                      </a:lnTo>
                      <a:lnTo>
                        <a:pt x="58" y="167"/>
                      </a:lnTo>
                      <a:lnTo>
                        <a:pt x="93" y="224"/>
                      </a:lnTo>
                      <a:lnTo>
                        <a:pt x="134" y="282"/>
                      </a:lnTo>
                      <a:lnTo>
                        <a:pt x="169" y="291"/>
                      </a:lnTo>
                      <a:lnTo>
                        <a:pt x="160" y="371"/>
                      </a:lnTo>
                      <a:lnTo>
                        <a:pt x="156" y="446"/>
                      </a:lnTo>
                      <a:lnTo>
                        <a:pt x="138" y="516"/>
                      </a:lnTo>
                      <a:lnTo>
                        <a:pt x="120" y="565"/>
                      </a:lnTo>
                      <a:lnTo>
                        <a:pt x="80" y="640"/>
                      </a:lnTo>
                      <a:lnTo>
                        <a:pt x="115" y="534"/>
                      </a:lnTo>
                      <a:lnTo>
                        <a:pt x="89" y="477"/>
                      </a:lnTo>
                      <a:lnTo>
                        <a:pt x="62" y="459"/>
                      </a:lnTo>
                      <a:lnTo>
                        <a:pt x="30" y="415"/>
                      </a:lnTo>
                      <a:lnTo>
                        <a:pt x="17" y="380"/>
                      </a:lnTo>
                      <a:lnTo>
                        <a:pt x="4" y="299"/>
                      </a:lnTo>
                      <a:lnTo>
                        <a:pt x="26" y="331"/>
                      </a:lnTo>
                      <a:lnTo>
                        <a:pt x="67" y="340"/>
                      </a:lnTo>
                      <a:lnTo>
                        <a:pt x="98" y="340"/>
                      </a:lnTo>
                      <a:lnTo>
                        <a:pt x="98" y="327"/>
                      </a:lnTo>
                      <a:lnTo>
                        <a:pt x="62" y="291"/>
                      </a:lnTo>
                      <a:lnTo>
                        <a:pt x="45" y="255"/>
                      </a:lnTo>
                      <a:lnTo>
                        <a:pt x="8" y="198"/>
                      </a:lnTo>
                      <a:lnTo>
                        <a:pt x="0" y="1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204920" y="1414440"/>
                  <a:ext cx="86040" cy="189360"/>
                </a:xfrm>
                <a:custGeom>
                  <a:avLst/>
                  <a:gdLst/>
                  <a:ahLst/>
                  <a:rect l="0" t="0" r="r" b="b"/>
                  <a:pathLst>
                    <a:path w="239" h="526">
                      <a:moveTo>
                        <a:pt x="61" y="0"/>
                      </a:moveTo>
                      <a:lnTo>
                        <a:pt x="74" y="61"/>
                      </a:lnTo>
                      <a:lnTo>
                        <a:pt x="101" y="142"/>
                      </a:lnTo>
                      <a:lnTo>
                        <a:pt x="105" y="186"/>
                      </a:lnTo>
                      <a:lnTo>
                        <a:pt x="114" y="247"/>
                      </a:lnTo>
                      <a:lnTo>
                        <a:pt x="181" y="172"/>
                      </a:lnTo>
                      <a:lnTo>
                        <a:pt x="168" y="239"/>
                      </a:lnTo>
                      <a:lnTo>
                        <a:pt x="172" y="296"/>
                      </a:lnTo>
                      <a:lnTo>
                        <a:pt x="212" y="274"/>
                      </a:lnTo>
                      <a:lnTo>
                        <a:pt x="230" y="322"/>
                      </a:lnTo>
                      <a:lnTo>
                        <a:pt x="239" y="384"/>
                      </a:lnTo>
                      <a:lnTo>
                        <a:pt x="190" y="429"/>
                      </a:lnTo>
                      <a:lnTo>
                        <a:pt x="164" y="367"/>
                      </a:lnTo>
                      <a:lnTo>
                        <a:pt x="142" y="336"/>
                      </a:lnTo>
                      <a:lnTo>
                        <a:pt x="105" y="367"/>
                      </a:lnTo>
                      <a:lnTo>
                        <a:pt x="79" y="407"/>
                      </a:lnTo>
                      <a:lnTo>
                        <a:pt x="44" y="469"/>
                      </a:lnTo>
                      <a:lnTo>
                        <a:pt x="0" y="526"/>
                      </a:lnTo>
                      <a:lnTo>
                        <a:pt x="0" y="429"/>
                      </a:lnTo>
                      <a:lnTo>
                        <a:pt x="17" y="349"/>
                      </a:lnTo>
                      <a:lnTo>
                        <a:pt x="22" y="300"/>
                      </a:lnTo>
                      <a:lnTo>
                        <a:pt x="30" y="234"/>
                      </a:lnTo>
                      <a:lnTo>
                        <a:pt x="66" y="217"/>
                      </a:lnTo>
                      <a:lnTo>
                        <a:pt x="52" y="119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185840" y="1633680"/>
                  <a:ext cx="57600" cy="252720"/>
                </a:xfrm>
                <a:custGeom>
                  <a:avLst/>
                  <a:gdLst/>
                  <a:ahLst/>
                  <a:rect l="0" t="0" r="r" b="b"/>
                  <a:pathLst>
                    <a:path w="160" h="702">
                      <a:moveTo>
                        <a:pt x="58" y="0"/>
                      </a:moveTo>
                      <a:lnTo>
                        <a:pt x="39" y="92"/>
                      </a:lnTo>
                      <a:lnTo>
                        <a:pt x="26" y="149"/>
                      </a:lnTo>
                      <a:lnTo>
                        <a:pt x="17" y="224"/>
                      </a:lnTo>
                      <a:lnTo>
                        <a:pt x="0" y="277"/>
                      </a:lnTo>
                      <a:lnTo>
                        <a:pt x="0" y="339"/>
                      </a:lnTo>
                      <a:lnTo>
                        <a:pt x="22" y="419"/>
                      </a:lnTo>
                      <a:lnTo>
                        <a:pt x="45" y="481"/>
                      </a:lnTo>
                      <a:lnTo>
                        <a:pt x="71" y="556"/>
                      </a:lnTo>
                      <a:lnTo>
                        <a:pt x="111" y="644"/>
                      </a:lnTo>
                      <a:lnTo>
                        <a:pt x="151" y="702"/>
                      </a:lnTo>
                      <a:lnTo>
                        <a:pt x="160" y="583"/>
                      </a:lnTo>
                      <a:lnTo>
                        <a:pt x="134" y="508"/>
                      </a:lnTo>
                      <a:lnTo>
                        <a:pt x="106" y="433"/>
                      </a:lnTo>
                      <a:lnTo>
                        <a:pt x="67" y="362"/>
                      </a:lnTo>
                      <a:lnTo>
                        <a:pt x="98" y="304"/>
                      </a:lnTo>
                      <a:lnTo>
                        <a:pt x="67" y="216"/>
                      </a:lnTo>
                      <a:lnTo>
                        <a:pt x="75" y="123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1432080" y="5904000"/>
              <a:ext cx="295560" cy="293760"/>
              <a:chOff x="1432080" y="5904000"/>
              <a:chExt cx="295560" cy="293760"/>
            </a:xfrm>
          </p:grpSpPr>
          <p:sp>
            <p:nvSpPr>
              <p:cNvPr id="1085" name=""/>
              <p:cNvSpPr/>
              <p:nvPr/>
            </p:nvSpPr>
            <p:spPr>
              <a:xfrm>
                <a:off x="1433520" y="5904000"/>
                <a:ext cx="294120" cy="278280"/>
              </a:xfrm>
              <a:custGeom>
                <a:avLst/>
                <a:gdLst/>
                <a:ahLst/>
                <a:rect l="0" t="0" r="r" b="b"/>
                <a:pathLst>
                  <a:path w="817" h="773">
                    <a:moveTo>
                      <a:pt x="623" y="83"/>
                    </a:moveTo>
                    <a:lnTo>
                      <a:pt x="694" y="221"/>
                    </a:lnTo>
                    <a:lnTo>
                      <a:pt x="742" y="314"/>
                    </a:lnTo>
                    <a:lnTo>
                      <a:pt x="782" y="393"/>
                    </a:lnTo>
                    <a:lnTo>
                      <a:pt x="804" y="450"/>
                    </a:lnTo>
                    <a:lnTo>
                      <a:pt x="817" y="494"/>
                    </a:lnTo>
                    <a:lnTo>
                      <a:pt x="804" y="552"/>
                    </a:lnTo>
                    <a:lnTo>
                      <a:pt x="773" y="601"/>
                    </a:lnTo>
                    <a:lnTo>
                      <a:pt x="778" y="641"/>
                    </a:lnTo>
                    <a:lnTo>
                      <a:pt x="600" y="703"/>
                    </a:lnTo>
                    <a:lnTo>
                      <a:pt x="433" y="747"/>
                    </a:lnTo>
                    <a:lnTo>
                      <a:pt x="300" y="738"/>
                    </a:lnTo>
                    <a:lnTo>
                      <a:pt x="70" y="773"/>
                    </a:lnTo>
                    <a:lnTo>
                      <a:pt x="22" y="738"/>
                    </a:lnTo>
                    <a:lnTo>
                      <a:pt x="0" y="698"/>
                    </a:lnTo>
                    <a:lnTo>
                      <a:pt x="0" y="623"/>
                    </a:lnTo>
                    <a:lnTo>
                      <a:pt x="13" y="512"/>
                    </a:lnTo>
                    <a:lnTo>
                      <a:pt x="26" y="380"/>
                    </a:lnTo>
                    <a:lnTo>
                      <a:pt x="35" y="283"/>
                    </a:lnTo>
                    <a:lnTo>
                      <a:pt x="57" y="217"/>
                    </a:lnTo>
                    <a:lnTo>
                      <a:pt x="110" y="83"/>
                    </a:lnTo>
                    <a:lnTo>
                      <a:pt x="336" y="0"/>
                    </a:lnTo>
                    <a:lnTo>
                      <a:pt x="623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32080" y="6114960"/>
                <a:ext cx="282960" cy="82800"/>
              </a:xfrm>
              <a:custGeom>
                <a:avLst/>
                <a:gdLst/>
                <a:ahLst/>
                <a:rect l="0" t="0" r="r" b="b"/>
                <a:pathLst>
                  <a:path w="786" h="230">
                    <a:moveTo>
                      <a:pt x="782" y="0"/>
                    </a:moveTo>
                    <a:lnTo>
                      <a:pt x="689" y="35"/>
                    </a:lnTo>
                    <a:lnTo>
                      <a:pt x="578" y="79"/>
                    </a:lnTo>
                    <a:lnTo>
                      <a:pt x="490" y="97"/>
                    </a:lnTo>
                    <a:lnTo>
                      <a:pt x="415" y="101"/>
                    </a:lnTo>
                    <a:lnTo>
                      <a:pt x="340" y="97"/>
                    </a:lnTo>
                    <a:lnTo>
                      <a:pt x="234" y="124"/>
                    </a:lnTo>
                    <a:lnTo>
                      <a:pt x="167" y="133"/>
                    </a:lnTo>
                    <a:lnTo>
                      <a:pt x="83" y="124"/>
                    </a:lnTo>
                    <a:lnTo>
                      <a:pt x="0" y="79"/>
                    </a:lnTo>
                    <a:lnTo>
                      <a:pt x="4" y="133"/>
                    </a:lnTo>
                    <a:lnTo>
                      <a:pt x="30" y="168"/>
                    </a:lnTo>
                    <a:lnTo>
                      <a:pt x="74" y="195"/>
                    </a:lnTo>
                    <a:lnTo>
                      <a:pt x="149" y="195"/>
                    </a:lnTo>
                    <a:lnTo>
                      <a:pt x="225" y="230"/>
                    </a:lnTo>
                    <a:lnTo>
                      <a:pt x="300" y="181"/>
                    </a:lnTo>
                    <a:lnTo>
                      <a:pt x="380" y="177"/>
                    </a:lnTo>
                    <a:lnTo>
                      <a:pt x="472" y="203"/>
                    </a:lnTo>
                    <a:lnTo>
                      <a:pt x="569" y="150"/>
                    </a:lnTo>
                    <a:lnTo>
                      <a:pt x="650" y="133"/>
                    </a:lnTo>
                    <a:lnTo>
                      <a:pt x="786" y="74"/>
                    </a:lnTo>
                    <a:lnTo>
                      <a:pt x="786" y="39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49360" y="6086520"/>
                <a:ext cx="155880" cy="63720"/>
              </a:xfrm>
              <a:custGeom>
                <a:avLst/>
                <a:gdLst/>
                <a:ahLst/>
                <a:rect l="0" t="0" r="r" b="b"/>
                <a:pathLst>
                  <a:path w="433" h="177">
                    <a:moveTo>
                      <a:pt x="433" y="61"/>
                    </a:moveTo>
                    <a:lnTo>
                      <a:pt x="305" y="98"/>
                    </a:lnTo>
                    <a:lnTo>
                      <a:pt x="234" y="115"/>
                    </a:lnTo>
                    <a:lnTo>
                      <a:pt x="149" y="102"/>
                    </a:lnTo>
                    <a:lnTo>
                      <a:pt x="92" y="89"/>
                    </a:lnTo>
                    <a:lnTo>
                      <a:pt x="48" y="48"/>
                    </a:lnTo>
                    <a:lnTo>
                      <a:pt x="4" y="0"/>
                    </a:lnTo>
                    <a:lnTo>
                      <a:pt x="0" y="52"/>
                    </a:lnTo>
                    <a:lnTo>
                      <a:pt x="17" y="120"/>
                    </a:lnTo>
                    <a:lnTo>
                      <a:pt x="66" y="168"/>
                    </a:lnTo>
                    <a:lnTo>
                      <a:pt x="114" y="177"/>
                    </a:lnTo>
                    <a:lnTo>
                      <a:pt x="167" y="172"/>
                    </a:lnTo>
                    <a:lnTo>
                      <a:pt x="234" y="164"/>
                    </a:lnTo>
                    <a:lnTo>
                      <a:pt x="327" y="120"/>
                    </a:lnTo>
                    <a:lnTo>
                      <a:pt x="433" y="6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1071720" y="5586480"/>
              <a:ext cx="329040" cy="519480"/>
              <a:chOff x="1071720" y="5586480"/>
              <a:chExt cx="329040" cy="519480"/>
            </a:xfrm>
          </p:grpSpPr>
          <p:sp>
            <p:nvSpPr>
              <p:cNvPr id="1089" name=""/>
              <p:cNvSpPr/>
              <p:nvPr/>
            </p:nvSpPr>
            <p:spPr>
              <a:xfrm>
                <a:off x="1071720" y="5586480"/>
                <a:ext cx="327240" cy="510120"/>
              </a:xfrm>
              <a:custGeom>
                <a:avLst/>
                <a:gdLst/>
                <a:ahLst/>
                <a:rect l="0" t="0" r="r" b="b"/>
                <a:pathLst>
                  <a:path w="909" h="1417">
                    <a:moveTo>
                      <a:pt x="693" y="0"/>
                    </a:moveTo>
                    <a:lnTo>
                      <a:pt x="785" y="88"/>
                    </a:lnTo>
                    <a:lnTo>
                      <a:pt x="834" y="154"/>
                    </a:lnTo>
                    <a:lnTo>
                      <a:pt x="865" y="233"/>
                    </a:lnTo>
                    <a:lnTo>
                      <a:pt x="891" y="348"/>
                    </a:lnTo>
                    <a:lnTo>
                      <a:pt x="909" y="419"/>
                    </a:lnTo>
                    <a:lnTo>
                      <a:pt x="896" y="486"/>
                    </a:lnTo>
                    <a:lnTo>
                      <a:pt x="878" y="578"/>
                    </a:lnTo>
                    <a:lnTo>
                      <a:pt x="777" y="852"/>
                    </a:lnTo>
                    <a:lnTo>
                      <a:pt x="733" y="865"/>
                    </a:lnTo>
                    <a:lnTo>
                      <a:pt x="724" y="993"/>
                    </a:lnTo>
                    <a:lnTo>
                      <a:pt x="719" y="1095"/>
                    </a:lnTo>
                    <a:lnTo>
                      <a:pt x="706" y="1219"/>
                    </a:lnTo>
                    <a:lnTo>
                      <a:pt x="710" y="1307"/>
                    </a:lnTo>
                    <a:lnTo>
                      <a:pt x="675" y="1329"/>
                    </a:lnTo>
                    <a:lnTo>
                      <a:pt x="508" y="1399"/>
                    </a:lnTo>
                    <a:lnTo>
                      <a:pt x="185" y="1417"/>
                    </a:lnTo>
                    <a:lnTo>
                      <a:pt x="74" y="1413"/>
                    </a:lnTo>
                    <a:lnTo>
                      <a:pt x="35" y="1360"/>
                    </a:lnTo>
                    <a:lnTo>
                      <a:pt x="17" y="1316"/>
                    </a:lnTo>
                    <a:lnTo>
                      <a:pt x="0" y="1245"/>
                    </a:lnTo>
                    <a:lnTo>
                      <a:pt x="4" y="1126"/>
                    </a:lnTo>
                    <a:lnTo>
                      <a:pt x="17" y="1041"/>
                    </a:lnTo>
                    <a:lnTo>
                      <a:pt x="52" y="949"/>
                    </a:lnTo>
                    <a:lnTo>
                      <a:pt x="119" y="821"/>
                    </a:lnTo>
                    <a:lnTo>
                      <a:pt x="154" y="671"/>
                    </a:lnTo>
                    <a:lnTo>
                      <a:pt x="202" y="534"/>
                    </a:lnTo>
                    <a:lnTo>
                      <a:pt x="229" y="437"/>
                    </a:lnTo>
                    <a:lnTo>
                      <a:pt x="246" y="326"/>
                    </a:lnTo>
                    <a:lnTo>
                      <a:pt x="295" y="44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0" name=""/>
              <p:cNvGrpSpPr/>
              <p:nvPr/>
            </p:nvGrpSpPr>
            <p:grpSpPr>
              <a:xfrm>
                <a:off x="1071720" y="5719680"/>
                <a:ext cx="329040" cy="386280"/>
                <a:chOff x="1071720" y="5719680"/>
                <a:chExt cx="329040" cy="38628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1071720" y="6035760"/>
                  <a:ext cx="259200" cy="70200"/>
                </a:xfrm>
                <a:custGeom>
                  <a:avLst/>
                  <a:gdLst/>
                  <a:ahLst/>
                  <a:rect l="0" t="0" r="r" b="b"/>
                  <a:pathLst>
                    <a:path w="720" h="195">
                      <a:moveTo>
                        <a:pt x="716" y="0"/>
                      </a:moveTo>
                      <a:lnTo>
                        <a:pt x="720" y="52"/>
                      </a:lnTo>
                      <a:lnTo>
                        <a:pt x="698" y="79"/>
                      </a:lnTo>
                      <a:lnTo>
                        <a:pt x="663" y="102"/>
                      </a:lnTo>
                      <a:lnTo>
                        <a:pt x="592" y="124"/>
                      </a:lnTo>
                      <a:lnTo>
                        <a:pt x="512" y="155"/>
                      </a:lnTo>
                      <a:lnTo>
                        <a:pt x="419" y="172"/>
                      </a:lnTo>
                      <a:lnTo>
                        <a:pt x="331" y="177"/>
                      </a:lnTo>
                      <a:lnTo>
                        <a:pt x="199" y="195"/>
                      </a:lnTo>
                      <a:lnTo>
                        <a:pt x="114" y="190"/>
                      </a:lnTo>
                      <a:lnTo>
                        <a:pt x="57" y="159"/>
                      </a:lnTo>
                      <a:lnTo>
                        <a:pt x="26" y="128"/>
                      </a:lnTo>
                      <a:lnTo>
                        <a:pt x="0" y="79"/>
                      </a:lnTo>
                      <a:lnTo>
                        <a:pt x="4" y="44"/>
                      </a:lnTo>
                      <a:lnTo>
                        <a:pt x="61" y="98"/>
                      </a:lnTo>
                      <a:lnTo>
                        <a:pt x="119" y="133"/>
                      </a:lnTo>
                      <a:lnTo>
                        <a:pt x="190" y="146"/>
                      </a:lnTo>
                      <a:lnTo>
                        <a:pt x="327" y="115"/>
                      </a:lnTo>
                      <a:lnTo>
                        <a:pt x="415" y="124"/>
                      </a:lnTo>
                      <a:lnTo>
                        <a:pt x="525" y="92"/>
                      </a:lnTo>
                      <a:lnTo>
                        <a:pt x="619" y="61"/>
                      </a:lnTo>
                      <a:lnTo>
                        <a:pt x="71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335240" y="5719680"/>
                  <a:ext cx="65520" cy="178200"/>
                </a:xfrm>
                <a:custGeom>
                  <a:avLst/>
                  <a:gdLst/>
                  <a:ahLst/>
                  <a:rect l="0" t="0" r="r" b="b"/>
                  <a:pathLst>
                    <a:path w="182" h="495">
                      <a:moveTo>
                        <a:pt x="173" y="0"/>
                      </a:moveTo>
                      <a:lnTo>
                        <a:pt x="0" y="495"/>
                      </a:lnTo>
                      <a:lnTo>
                        <a:pt x="49" y="487"/>
                      </a:lnTo>
                      <a:lnTo>
                        <a:pt x="182" y="101"/>
                      </a:lnTo>
                      <a:lnTo>
                        <a:pt x="17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>
              <a:off x="880920" y="3809880"/>
              <a:ext cx="954360" cy="2165760"/>
            </a:xfrm>
            <a:custGeom>
              <a:avLst/>
              <a:gdLst/>
              <a:ahLst/>
              <a:rect l="0" t="0" r="r" b="b"/>
              <a:pathLst>
                <a:path w="2651" h="6016">
                  <a:moveTo>
                    <a:pt x="2646" y="171"/>
                  </a:moveTo>
                  <a:lnTo>
                    <a:pt x="2651" y="674"/>
                  </a:lnTo>
                  <a:lnTo>
                    <a:pt x="2602" y="1239"/>
                  </a:lnTo>
                  <a:lnTo>
                    <a:pt x="2607" y="2033"/>
                  </a:lnTo>
                  <a:lnTo>
                    <a:pt x="2615" y="2757"/>
                  </a:lnTo>
                  <a:lnTo>
                    <a:pt x="2576" y="3392"/>
                  </a:lnTo>
                  <a:lnTo>
                    <a:pt x="2638" y="3753"/>
                  </a:lnTo>
                  <a:lnTo>
                    <a:pt x="2629" y="4260"/>
                  </a:lnTo>
                  <a:lnTo>
                    <a:pt x="2563" y="4715"/>
                  </a:lnTo>
                  <a:lnTo>
                    <a:pt x="2505" y="4984"/>
                  </a:lnTo>
                  <a:lnTo>
                    <a:pt x="2448" y="5364"/>
                  </a:lnTo>
                  <a:lnTo>
                    <a:pt x="2399" y="5721"/>
                  </a:lnTo>
                  <a:lnTo>
                    <a:pt x="2355" y="5774"/>
                  </a:lnTo>
                  <a:lnTo>
                    <a:pt x="2311" y="5827"/>
                  </a:lnTo>
                  <a:lnTo>
                    <a:pt x="2324" y="5875"/>
                  </a:lnTo>
                  <a:lnTo>
                    <a:pt x="2320" y="5937"/>
                  </a:lnTo>
                  <a:lnTo>
                    <a:pt x="2285" y="5977"/>
                  </a:lnTo>
                  <a:lnTo>
                    <a:pt x="2192" y="6016"/>
                  </a:lnTo>
                  <a:lnTo>
                    <a:pt x="2082" y="5990"/>
                  </a:lnTo>
                  <a:lnTo>
                    <a:pt x="1998" y="5972"/>
                  </a:lnTo>
                  <a:lnTo>
                    <a:pt x="1914" y="5985"/>
                  </a:lnTo>
                  <a:lnTo>
                    <a:pt x="1804" y="6012"/>
                  </a:lnTo>
                  <a:lnTo>
                    <a:pt x="1707" y="6012"/>
                  </a:lnTo>
                  <a:lnTo>
                    <a:pt x="1619" y="5999"/>
                  </a:lnTo>
                  <a:lnTo>
                    <a:pt x="1579" y="5977"/>
                  </a:lnTo>
                  <a:lnTo>
                    <a:pt x="1548" y="5928"/>
                  </a:lnTo>
                  <a:lnTo>
                    <a:pt x="1517" y="5858"/>
                  </a:lnTo>
                  <a:lnTo>
                    <a:pt x="1517" y="5765"/>
                  </a:lnTo>
                  <a:lnTo>
                    <a:pt x="1495" y="5681"/>
                  </a:lnTo>
                  <a:lnTo>
                    <a:pt x="1478" y="5619"/>
                  </a:lnTo>
                  <a:lnTo>
                    <a:pt x="1456" y="5487"/>
                  </a:lnTo>
                  <a:lnTo>
                    <a:pt x="1473" y="5373"/>
                  </a:lnTo>
                  <a:lnTo>
                    <a:pt x="1504" y="5152"/>
                  </a:lnTo>
                  <a:lnTo>
                    <a:pt x="1500" y="4923"/>
                  </a:lnTo>
                  <a:lnTo>
                    <a:pt x="1575" y="4610"/>
                  </a:lnTo>
                  <a:lnTo>
                    <a:pt x="1619" y="4348"/>
                  </a:lnTo>
                  <a:lnTo>
                    <a:pt x="1482" y="4062"/>
                  </a:lnTo>
                  <a:lnTo>
                    <a:pt x="1438" y="3766"/>
                  </a:lnTo>
                  <a:lnTo>
                    <a:pt x="1478" y="3436"/>
                  </a:lnTo>
                  <a:lnTo>
                    <a:pt x="1535" y="3087"/>
                  </a:lnTo>
                  <a:lnTo>
                    <a:pt x="1469" y="2391"/>
                  </a:lnTo>
                  <a:lnTo>
                    <a:pt x="1385" y="1764"/>
                  </a:lnTo>
                  <a:lnTo>
                    <a:pt x="1350" y="1071"/>
                  </a:lnTo>
                  <a:lnTo>
                    <a:pt x="1296" y="1384"/>
                  </a:lnTo>
                  <a:lnTo>
                    <a:pt x="1278" y="1645"/>
                  </a:lnTo>
                  <a:lnTo>
                    <a:pt x="1314" y="1813"/>
                  </a:lnTo>
                  <a:lnTo>
                    <a:pt x="1318" y="1989"/>
                  </a:lnTo>
                  <a:lnTo>
                    <a:pt x="1332" y="2492"/>
                  </a:lnTo>
                  <a:lnTo>
                    <a:pt x="1292" y="2792"/>
                  </a:lnTo>
                  <a:lnTo>
                    <a:pt x="1283" y="2981"/>
                  </a:lnTo>
                  <a:lnTo>
                    <a:pt x="1270" y="3206"/>
                  </a:lnTo>
                  <a:lnTo>
                    <a:pt x="1270" y="3537"/>
                  </a:lnTo>
                  <a:lnTo>
                    <a:pt x="1261" y="3652"/>
                  </a:lnTo>
                  <a:lnTo>
                    <a:pt x="1239" y="3793"/>
                  </a:lnTo>
                  <a:lnTo>
                    <a:pt x="1212" y="3908"/>
                  </a:lnTo>
                  <a:lnTo>
                    <a:pt x="1195" y="4044"/>
                  </a:lnTo>
                  <a:lnTo>
                    <a:pt x="1199" y="4172"/>
                  </a:lnTo>
                  <a:lnTo>
                    <a:pt x="1239" y="4313"/>
                  </a:lnTo>
                  <a:lnTo>
                    <a:pt x="1283" y="4415"/>
                  </a:lnTo>
                  <a:lnTo>
                    <a:pt x="1314" y="4561"/>
                  </a:lnTo>
                  <a:lnTo>
                    <a:pt x="1309" y="4658"/>
                  </a:lnTo>
                  <a:lnTo>
                    <a:pt x="1296" y="4768"/>
                  </a:lnTo>
                  <a:lnTo>
                    <a:pt x="1292" y="4874"/>
                  </a:lnTo>
                  <a:lnTo>
                    <a:pt x="1314" y="4958"/>
                  </a:lnTo>
                  <a:lnTo>
                    <a:pt x="1341" y="5029"/>
                  </a:lnTo>
                  <a:lnTo>
                    <a:pt x="1292" y="5170"/>
                  </a:lnTo>
                  <a:lnTo>
                    <a:pt x="1265" y="5262"/>
                  </a:lnTo>
                  <a:lnTo>
                    <a:pt x="1256" y="5377"/>
                  </a:lnTo>
                  <a:lnTo>
                    <a:pt x="1239" y="5443"/>
                  </a:lnTo>
                  <a:lnTo>
                    <a:pt x="1137" y="5514"/>
                  </a:lnTo>
                  <a:lnTo>
                    <a:pt x="1001" y="5571"/>
                  </a:lnTo>
                  <a:lnTo>
                    <a:pt x="903" y="5619"/>
                  </a:lnTo>
                  <a:lnTo>
                    <a:pt x="855" y="5589"/>
                  </a:lnTo>
                  <a:lnTo>
                    <a:pt x="824" y="5527"/>
                  </a:lnTo>
                  <a:lnTo>
                    <a:pt x="771" y="5474"/>
                  </a:lnTo>
                  <a:lnTo>
                    <a:pt x="714" y="5452"/>
                  </a:lnTo>
                  <a:lnTo>
                    <a:pt x="732" y="5373"/>
                  </a:lnTo>
                  <a:lnTo>
                    <a:pt x="723" y="5306"/>
                  </a:lnTo>
                  <a:lnTo>
                    <a:pt x="705" y="5271"/>
                  </a:lnTo>
                  <a:lnTo>
                    <a:pt x="670" y="5095"/>
                  </a:lnTo>
                  <a:lnTo>
                    <a:pt x="639" y="4910"/>
                  </a:lnTo>
                  <a:lnTo>
                    <a:pt x="560" y="4808"/>
                  </a:lnTo>
                  <a:lnTo>
                    <a:pt x="507" y="4707"/>
                  </a:lnTo>
                  <a:lnTo>
                    <a:pt x="414" y="4362"/>
                  </a:lnTo>
                  <a:lnTo>
                    <a:pt x="286" y="3916"/>
                  </a:lnTo>
                  <a:lnTo>
                    <a:pt x="211" y="3537"/>
                  </a:lnTo>
                  <a:lnTo>
                    <a:pt x="61" y="2571"/>
                  </a:lnTo>
                  <a:lnTo>
                    <a:pt x="0" y="1667"/>
                  </a:lnTo>
                  <a:lnTo>
                    <a:pt x="8" y="1009"/>
                  </a:lnTo>
                  <a:lnTo>
                    <a:pt x="88" y="339"/>
                  </a:lnTo>
                  <a:lnTo>
                    <a:pt x="198" y="0"/>
                  </a:lnTo>
                  <a:lnTo>
                    <a:pt x="1482" y="35"/>
                  </a:lnTo>
                  <a:lnTo>
                    <a:pt x="2646" y="17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880920" y="3851280"/>
              <a:ext cx="952920" cy="2103840"/>
              <a:chOff x="880920" y="3851280"/>
              <a:chExt cx="952920" cy="2103840"/>
            </a:xfrm>
          </p:grpSpPr>
          <p:sp>
            <p:nvSpPr>
              <p:cNvPr id="1095" name=""/>
              <p:cNvSpPr/>
              <p:nvPr/>
            </p:nvSpPr>
            <p:spPr>
              <a:xfrm>
                <a:off x="1670040" y="4199040"/>
                <a:ext cx="163800" cy="1313280"/>
              </a:xfrm>
              <a:custGeom>
                <a:avLst/>
                <a:gdLst/>
                <a:ahLst/>
                <a:rect l="0" t="0" r="r" b="b"/>
                <a:pathLst>
                  <a:path w="455" h="3648">
                    <a:moveTo>
                      <a:pt x="419" y="0"/>
                    </a:moveTo>
                    <a:lnTo>
                      <a:pt x="419" y="546"/>
                    </a:lnTo>
                    <a:lnTo>
                      <a:pt x="415" y="1072"/>
                    </a:lnTo>
                    <a:lnTo>
                      <a:pt x="419" y="1240"/>
                    </a:lnTo>
                    <a:lnTo>
                      <a:pt x="424" y="1425"/>
                    </a:lnTo>
                    <a:lnTo>
                      <a:pt x="415" y="1861"/>
                    </a:lnTo>
                    <a:lnTo>
                      <a:pt x="389" y="2311"/>
                    </a:lnTo>
                    <a:lnTo>
                      <a:pt x="428" y="2479"/>
                    </a:lnTo>
                    <a:lnTo>
                      <a:pt x="455" y="2642"/>
                    </a:lnTo>
                    <a:lnTo>
                      <a:pt x="446" y="2850"/>
                    </a:lnTo>
                    <a:lnTo>
                      <a:pt x="455" y="3062"/>
                    </a:lnTo>
                    <a:lnTo>
                      <a:pt x="450" y="3141"/>
                    </a:lnTo>
                    <a:lnTo>
                      <a:pt x="424" y="3331"/>
                    </a:lnTo>
                    <a:lnTo>
                      <a:pt x="397" y="3503"/>
                    </a:lnTo>
                    <a:lnTo>
                      <a:pt x="371" y="3648"/>
                    </a:lnTo>
                    <a:lnTo>
                      <a:pt x="327" y="3494"/>
                    </a:lnTo>
                    <a:lnTo>
                      <a:pt x="274" y="3371"/>
                    </a:lnTo>
                    <a:lnTo>
                      <a:pt x="216" y="3247"/>
                    </a:lnTo>
                    <a:lnTo>
                      <a:pt x="145" y="3079"/>
                    </a:lnTo>
                    <a:lnTo>
                      <a:pt x="79" y="2956"/>
                    </a:lnTo>
                    <a:lnTo>
                      <a:pt x="35" y="2819"/>
                    </a:lnTo>
                    <a:lnTo>
                      <a:pt x="13" y="2668"/>
                    </a:lnTo>
                    <a:lnTo>
                      <a:pt x="0" y="2505"/>
                    </a:lnTo>
                    <a:lnTo>
                      <a:pt x="0" y="2342"/>
                    </a:lnTo>
                    <a:lnTo>
                      <a:pt x="52" y="2170"/>
                    </a:lnTo>
                    <a:lnTo>
                      <a:pt x="97" y="2047"/>
                    </a:lnTo>
                    <a:lnTo>
                      <a:pt x="158" y="1901"/>
                    </a:lnTo>
                    <a:lnTo>
                      <a:pt x="220" y="1659"/>
                    </a:lnTo>
                    <a:lnTo>
                      <a:pt x="252" y="1478"/>
                    </a:lnTo>
                    <a:lnTo>
                      <a:pt x="283" y="1213"/>
                    </a:lnTo>
                    <a:lnTo>
                      <a:pt x="305" y="718"/>
                    </a:lnTo>
                    <a:lnTo>
                      <a:pt x="358" y="374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400040" y="4095720"/>
                <a:ext cx="189360" cy="1773720"/>
              </a:xfrm>
              <a:custGeom>
                <a:avLst/>
                <a:gdLst/>
                <a:ahLst/>
                <a:rect l="0" t="0" r="r" b="b"/>
                <a:pathLst>
                  <a:path w="526" h="4927">
                    <a:moveTo>
                      <a:pt x="349" y="0"/>
                    </a:moveTo>
                    <a:lnTo>
                      <a:pt x="344" y="141"/>
                    </a:lnTo>
                    <a:lnTo>
                      <a:pt x="322" y="317"/>
                    </a:lnTo>
                    <a:lnTo>
                      <a:pt x="283" y="502"/>
                    </a:lnTo>
                    <a:lnTo>
                      <a:pt x="177" y="692"/>
                    </a:lnTo>
                    <a:lnTo>
                      <a:pt x="119" y="833"/>
                    </a:lnTo>
                    <a:lnTo>
                      <a:pt x="74" y="1001"/>
                    </a:lnTo>
                    <a:lnTo>
                      <a:pt x="48" y="1111"/>
                    </a:lnTo>
                    <a:lnTo>
                      <a:pt x="35" y="1240"/>
                    </a:lnTo>
                    <a:lnTo>
                      <a:pt x="26" y="1390"/>
                    </a:lnTo>
                    <a:lnTo>
                      <a:pt x="22" y="1513"/>
                    </a:lnTo>
                    <a:lnTo>
                      <a:pt x="26" y="1659"/>
                    </a:lnTo>
                    <a:lnTo>
                      <a:pt x="66" y="2060"/>
                    </a:lnTo>
                    <a:lnTo>
                      <a:pt x="92" y="2298"/>
                    </a:lnTo>
                    <a:lnTo>
                      <a:pt x="74" y="2377"/>
                    </a:lnTo>
                    <a:lnTo>
                      <a:pt x="57" y="2483"/>
                    </a:lnTo>
                    <a:lnTo>
                      <a:pt x="22" y="2743"/>
                    </a:lnTo>
                    <a:lnTo>
                      <a:pt x="22" y="3092"/>
                    </a:lnTo>
                    <a:lnTo>
                      <a:pt x="39" y="3299"/>
                    </a:lnTo>
                    <a:lnTo>
                      <a:pt x="155" y="3555"/>
                    </a:lnTo>
                    <a:lnTo>
                      <a:pt x="114" y="3856"/>
                    </a:lnTo>
                    <a:lnTo>
                      <a:pt x="88" y="3966"/>
                    </a:lnTo>
                    <a:lnTo>
                      <a:pt x="61" y="4072"/>
                    </a:lnTo>
                    <a:lnTo>
                      <a:pt x="48" y="4129"/>
                    </a:lnTo>
                    <a:lnTo>
                      <a:pt x="48" y="4226"/>
                    </a:lnTo>
                    <a:lnTo>
                      <a:pt x="57" y="4358"/>
                    </a:lnTo>
                    <a:lnTo>
                      <a:pt x="30" y="4477"/>
                    </a:lnTo>
                    <a:lnTo>
                      <a:pt x="13" y="4596"/>
                    </a:lnTo>
                    <a:lnTo>
                      <a:pt x="0" y="4702"/>
                    </a:lnTo>
                    <a:lnTo>
                      <a:pt x="22" y="4817"/>
                    </a:lnTo>
                    <a:lnTo>
                      <a:pt x="70" y="4927"/>
                    </a:lnTo>
                    <a:lnTo>
                      <a:pt x="79" y="4790"/>
                    </a:lnTo>
                    <a:lnTo>
                      <a:pt x="97" y="4605"/>
                    </a:lnTo>
                    <a:lnTo>
                      <a:pt x="119" y="4473"/>
                    </a:lnTo>
                    <a:lnTo>
                      <a:pt x="177" y="4301"/>
                    </a:lnTo>
                    <a:lnTo>
                      <a:pt x="186" y="4195"/>
                    </a:lnTo>
                    <a:lnTo>
                      <a:pt x="203" y="4085"/>
                    </a:lnTo>
                    <a:lnTo>
                      <a:pt x="221" y="3917"/>
                    </a:lnTo>
                    <a:lnTo>
                      <a:pt x="269" y="3763"/>
                    </a:lnTo>
                    <a:lnTo>
                      <a:pt x="322" y="3559"/>
                    </a:lnTo>
                    <a:lnTo>
                      <a:pt x="283" y="3352"/>
                    </a:lnTo>
                    <a:lnTo>
                      <a:pt x="203" y="3114"/>
                    </a:lnTo>
                    <a:lnTo>
                      <a:pt x="181" y="2884"/>
                    </a:lnTo>
                    <a:lnTo>
                      <a:pt x="256" y="2717"/>
                    </a:lnTo>
                    <a:lnTo>
                      <a:pt x="353" y="2452"/>
                    </a:lnTo>
                    <a:lnTo>
                      <a:pt x="380" y="2214"/>
                    </a:lnTo>
                    <a:lnTo>
                      <a:pt x="407" y="2020"/>
                    </a:lnTo>
                    <a:lnTo>
                      <a:pt x="371" y="1769"/>
                    </a:lnTo>
                    <a:lnTo>
                      <a:pt x="309" y="1592"/>
                    </a:lnTo>
                    <a:lnTo>
                      <a:pt x="296" y="1372"/>
                    </a:lnTo>
                    <a:lnTo>
                      <a:pt x="322" y="1159"/>
                    </a:lnTo>
                    <a:lnTo>
                      <a:pt x="393" y="1001"/>
                    </a:lnTo>
                    <a:lnTo>
                      <a:pt x="460" y="829"/>
                    </a:lnTo>
                    <a:lnTo>
                      <a:pt x="504" y="674"/>
                    </a:lnTo>
                    <a:lnTo>
                      <a:pt x="526" y="502"/>
                    </a:lnTo>
                    <a:lnTo>
                      <a:pt x="513" y="295"/>
                    </a:lnTo>
                    <a:lnTo>
                      <a:pt x="491" y="176"/>
                    </a:lnTo>
                    <a:lnTo>
                      <a:pt x="416" y="74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620720" y="5568840"/>
                <a:ext cx="170280" cy="275040"/>
              </a:xfrm>
              <a:custGeom>
                <a:avLst/>
                <a:gdLst/>
                <a:ahLst/>
                <a:rect l="0" t="0" r="r" b="b"/>
                <a:pathLst>
                  <a:path w="473" h="764">
                    <a:moveTo>
                      <a:pt x="353" y="764"/>
                    </a:moveTo>
                    <a:lnTo>
                      <a:pt x="300" y="707"/>
                    </a:lnTo>
                    <a:lnTo>
                      <a:pt x="225" y="650"/>
                    </a:lnTo>
                    <a:lnTo>
                      <a:pt x="146" y="606"/>
                    </a:lnTo>
                    <a:lnTo>
                      <a:pt x="0" y="579"/>
                    </a:lnTo>
                    <a:lnTo>
                      <a:pt x="74" y="450"/>
                    </a:lnTo>
                    <a:lnTo>
                      <a:pt x="124" y="371"/>
                    </a:lnTo>
                    <a:lnTo>
                      <a:pt x="221" y="287"/>
                    </a:lnTo>
                    <a:lnTo>
                      <a:pt x="322" y="195"/>
                    </a:lnTo>
                    <a:lnTo>
                      <a:pt x="398" y="114"/>
                    </a:lnTo>
                    <a:lnTo>
                      <a:pt x="473" y="0"/>
                    </a:lnTo>
                    <a:lnTo>
                      <a:pt x="451" y="208"/>
                    </a:lnTo>
                    <a:lnTo>
                      <a:pt x="416" y="419"/>
                    </a:lnTo>
                    <a:lnTo>
                      <a:pt x="376" y="637"/>
                    </a:lnTo>
                    <a:lnTo>
                      <a:pt x="353" y="764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52600" y="5827680"/>
                <a:ext cx="241560" cy="127440"/>
              </a:xfrm>
              <a:custGeom>
                <a:avLst/>
                <a:gdLst/>
                <a:ahLst/>
                <a:rect l="0" t="0" r="r" b="b"/>
                <a:pathLst>
                  <a:path w="671" h="354">
                    <a:moveTo>
                      <a:pt x="367" y="0"/>
                    </a:moveTo>
                    <a:lnTo>
                      <a:pt x="455" y="4"/>
                    </a:lnTo>
                    <a:lnTo>
                      <a:pt x="565" y="30"/>
                    </a:lnTo>
                    <a:lnTo>
                      <a:pt x="618" y="89"/>
                    </a:lnTo>
                    <a:lnTo>
                      <a:pt x="658" y="168"/>
                    </a:lnTo>
                    <a:lnTo>
                      <a:pt x="671" y="261"/>
                    </a:lnTo>
                    <a:lnTo>
                      <a:pt x="644" y="341"/>
                    </a:lnTo>
                    <a:lnTo>
                      <a:pt x="574" y="354"/>
                    </a:lnTo>
                    <a:lnTo>
                      <a:pt x="450" y="337"/>
                    </a:lnTo>
                    <a:lnTo>
                      <a:pt x="362" y="297"/>
                    </a:lnTo>
                    <a:lnTo>
                      <a:pt x="238" y="256"/>
                    </a:lnTo>
                    <a:lnTo>
                      <a:pt x="123" y="221"/>
                    </a:lnTo>
                    <a:lnTo>
                      <a:pt x="0" y="203"/>
                    </a:lnTo>
                    <a:lnTo>
                      <a:pt x="180" y="70"/>
                    </a:lnTo>
                    <a:lnTo>
                      <a:pt x="282" y="17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560600" y="3914640"/>
                <a:ext cx="86040" cy="1481400"/>
              </a:xfrm>
              <a:custGeom>
                <a:avLst/>
                <a:gdLst/>
                <a:ahLst/>
                <a:rect l="0" t="0" r="r" b="b"/>
                <a:pathLst>
                  <a:path w="239" h="4115">
                    <a:moveTo>
                      <a:pt x="0" y="0"/>
                    </a:moveTo>
                    <a:lnTo>
                      <a:pt x="39" y="573"/>
                    </a:lnTo>
                    <a:lnTo>
                      <a:pt x="124" y="1274"/>
                    </a:lnTo>
                    <a:lnTo>
                      <a:pt x="181" y="2091"/>
                    </a:lnTo>
                    <a:lnTo>
                      <a:pt x="181" y="2827"/>
                    </a:lnTo>
                    <a:lnTo>
                      <a:pt x="181" y="3524"/>
                    </a:lnTo>
                    <a:lnTo>
                      <a:pt x="195" y="4115"/>
                    </a:lnTo>
                    <a:lnTo>
                      <a:pt x="239" y="2686"/>
                    </a:lnTo>
                    <a:lnTo>
                      <a:pt x="208" y="1882"/>
                    </a:lnTo>
                    <a:lnTo>
                      <a:pt x="168" y="12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71720" y="5294160"/>
                <a:ext cx="275040" cy="438480"/>
              </a:xfrm>
              <a:custGeom>
                <a:avLst/>
                <a:gdLst/>
                <a:ahLst/>
                <a:rect l="0" t="0" r="r" b="b"/>
                <a:pathLst>
                  <a:path w="764" h="1218">
                    <a:moveTo>
                      <a:pt x="101" y="715"/>
                    </a:moveTo>
                    <a:lnTo>
                      <a:pt x="26" y="595"/>
                    </a:lnTo>
                    <a:lnTo>
                      <a:pt x="0" y="445"/>
                    </a:lnTo>
                    <a:lnTo>
                      <a:pt x="8" y="308"/>
                    </a:lnTo>
                    <a:lnTo>
                      <a:pt x="48" y="207"/>
                    </a:lnTo>
                    <a:lnTo>
                      <a:pt x="83" y="105"/>
                    </a:lnTo>
                    <a:lnTo>
                      <a:pt x="141" y="39"/>
                    </a:lnTo>
                    <a:lnTo>
                      <a:pt x="243" y="0"/>
                    </a:lnTo>
                    <a:lnTo>
                      <a:pt x="371" y="0"/>
                    </a:lnTo>
                    <a:lnTo>
                      <a:pt x="468" y="17"/>
                    </a:lnTo>
                    <a:lnTo>
                      <a:pt x="561" y="79"/>
                    </a:lnTo>
                    <a:lnTo>
                      <a:pt x="641" y="154"/>
                    </a:lnTo>
                    <a:lnTo>
                      <a:pt x="694" y="229"/>
                    </a:lnTo>
                    <a:lnTo>
                      <a:pt x="738" y="326"/>
                    </a:lnTo>
                    <a:lnTo>
                      <a:pt x="764" y="418"/>
                    </a:lnTo>
                    <a:lnTo>
                      <a:pt x="742" y="533"/>
                    </a:lnTo>
                    <a:lnTo>
                      <a:pt x="681" y="649"/>
                    </a:lnTo>
                    <a:lnTo>
                      <a:pt x="659" y="750"/>
                    </a:lnTo>
                    <a:lnTo>
                      <a:pt x="619" y="838"/>
                    </a:lnTo>
                    <a:lnTo>
                      <a:pt x="547" y="904"/>
                    </a:lnTo>
                    <a:lnTo>
                      <a:pt x="446" y="944"/>
                    </a:lnTo>
                    <a:lnTo>
                      <a:pt x="358" y="962"/>
                    </a:lnTo>
                    <a:lnTo>
                      <a:pt x="287" y="1037"/>
                    </a:lnTo>
                    <a:lnTo>
                      <a:pt x="234" y="1129"/>
                    </a:lnTo>
                    <a:lnTo>
                      <a:pt x="203" y="1218"/>
                    </a:lnTo>
                    <a:lnTo>
                      <a:pt x="167" y="1116"/>
                    </a:lnTo>
                    <a:lnTo>
                      <a:pt x="141" y="988"/>
                    </a:lnTo>
                    <a:lnTo>
                      <a:pt x="278" y="847"/>
                    </a:lnTo>
                    <a:lnTo>
                      <a:pt x="428" y="706"/>
                    </a:lnTo>
                    <a:lnTo>
                      <a:pt x="455" y="649"/>
                    </a:lnTo>
                    <a:lnTo>
                      <a:pt x="459" y="568"/>
                    </a:lnTo>
                    <a:lnTo>
                      <a:pt x="437" y="511"/>
                    </a:lnTo>
                    <a:lnTo>
                      <a:pt x="375" y="463"/>
                    </a:lnTo>
                    <a:lnTo>
                      <a:pt x="314" y="454"/>
                    </a:lnTo>
                    <a:lnTo>
                      <a:pt x="225" y="485"/>
                    </a:lnTo>
                    <a:lnTo>
                      <a:pt x="154" y="533"/>
                    </a:lnTo>
                    <a:lnTo>
                      <a:pt x="114" y="604"/>
                    </a:lnTo>
                    <a:lnTo>
                      <a:pt x="101" y="715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55520" y="3851280"/>
                <a:ext cx="116280" cy="600480"/>
              </a:xfrm>
              <a:custGeom>
                <a:avLst/>
                <a:gdLst/>
                <a:ahLst/>
                <a:rect l="0" t="0" r="r" b="b"/>
                <a:pathLst>
                  <a:path w="323" h="1668">
                    <a:moveTo>
                      <a:pt x="57" y="26"/>
                    </a:moveTo>
                    <a:lnTo>
                      <a:pt x="0" y="180"/>
                    </a:lnTo>
                    <a:lnTo>
                      <a:pt x="44" y="424"/>
                    </a:lnTo>
                    <a:lnTo>
                      <a:pt x="89" y="583"/>
                    </a:lnTo>
                    <a:lnTo>
                      <a:pt x="115" y="772"/>
                    </a:lnTo>
                    <a:lnTo>
                      <a:pt x="102" y="1010"/>
                    </a:lnTo>
                    <a:lnTo>
                      <a:pt x="74" y="1231"/>
                    </a:lnTo>
                    <a:lnTo>
                      <a:pt x="74" y="1391"/>
                    </a:lnTo>
                    <a:lnTo>
                      <a:pt x="128" y="1540"/>
                    </a:lnTo>
                    <a:lnTo>
                      <a:pt x="186" y="1668"/>
                    </a:lnTo>
                    <a:lnTo>
                      <a:pt x="181" y="1514"/>
                    </a:lnTo>
                    <a:lnTo>
                      <a:pt x="186" y="1377"/>
                    </a:lnTo>
                    <a:lnTo>
                      <a:pt x="225" y="1200"/>
                    </a:lnTo>
                    <a:lnTo>
                      <a:pt x="257" y="1028"/>
                    </a:lnTo>
                    <a:lnTo>
                      <a:pt x="306" y="878"/>
                    </a:lnTo>
                    <a:lnTo>
                      <a:pt x="323" y="750"/>
                    </a:lnTo>
                    <a:lnTo>
                      <a:pt x="323" y="552"/>
                    </a:lnTo>
                    <a:lnTo>
                      <a:pt x="297" y="433"/>
                    </a:lnTo>
                    <a:lnTo>
                      <a:pt x="257" y="282"/>
                    </a:lnTo>
                    <a:lnTo>
                      <a:pt x="262" y="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80920" y="3878280"/>
                <a:ext cx="243360" cy="1543320"/>
              </a:xfrm>
              <a:custGeom>
                <a:avLst/>
                <a:gdLst/>
                <a:ahLst/>
                <a:rect l="0" t="0" r="r" b="b"/>
                <a:pathLst>
                  <a:path w="676" h="4287">
                    <a:moveTo>
                      <a:pt x="380" y="0"/>
                    </a:moveTo>
                    <a:lnTo>
                      <a:pt x="419" y="255"/>
                    </a:lnTo>
                    <a:lnTo>
                      <a:pt x="464" y="467"/>
                    </a:lnTo>
                    <a:lnTo>
                      <a:pt x="446" y="771"/>
                    </a:lnTo>
                    <a:lnTo>
                      <a:pt x="437" y="1102"/>
                    </a:lnTo>
                    <a:lnTo>
                      <a:pt x="437" y="1419"/>
                    </a:lnTo>
                    <a:lnTo>
                      <a:pt x="526" y="1825"/>
                    </a:lnTo>
                    <a:lnTo>
                      <a:pt x="570" y="2081"/>
                    </a:lnTo>
                    <a:lnTo>
                      <a:pt x="584" y="2386"/>
                    </a:lnTo>
                    <a:lnTo>
                      <a:pt x="579" y="2933"/>
                    </a:lnTo>
                    <a:lnTo>
                      <a:pt x="645" y="3281"/>
                    </a:lnTo>
                    <a:lnTo>
                      <a:pt x="676" y="3555"/>
                    </a:lnTo>
                    <a:lnTo>
                      <a:pt x="676" y="3736"/>
                    </a:lnTo>
                    <a:lnTo>
                      <a:pt x="676" y="3916"/>
                    </a:lnTo>
                    <a:lnTo>
                      <a:pt x="597" y="3982"/>
                    </a:lnTo>
                    <a:lnTo>
                      <a:pt x="539" y="4110"/>
                    </a:lnTo>
                    <a:lnTo>
                      <a:pt x="494" y="4269"/>
                    </a:lnTo>
                    <a:lnTo>
                      <a:pt x="446" y="4287"/>
                    </a:lnTo>
                    <a:lnTo>
                      <a:pt x="340" y="3934"/>
                    </a:lnTo>
                    <a:lnTo>
                      <a:pt x="274" y="3727"/>
                    </a:lnTo>
                    <a:lnTo>
                      <a:pt x="212" y="3374"/>
                    </a:lnTo>
                    <a:lnTo>
                      <a:pt x="136" y="2920"/>
                    </a:lnTo>
                    <a:lnTo>
                      <a:pt x="101" y="2638"/>
                    </a:lnTo>
                    <a:lnTo>
                      <a:pt x="48" y="2307"/>
                    </a:lnTo>
                    <a:lnTo>
                      <a:pt x="30" y="1944"/>
                    </a:lnTo>
                    <a:lnTo>
                      <a:pt x="8" y="1583"/>
                    </a:lnTo>
                    <a:lnTo>
                      <a:pt x="0" y="1336"/>
                    </a:lnTo>
                    <a:lnTo>
                      <a:pt x="4" y="1027"/>
                    </a:lnTo>
                    <a:lnTo>
                      <a:pt x="8" y="811"/>
                    </a:lnTo>
                    <a:lnTo>
                      <a:pt x="30" y="626"/>
                    </a:lnTo>
                    <a:lnTo>
                      <a:pt x="66" y="366"/>
                    </a:lnTo>
                    <a:lnTo>
                      <a:pt x="101" y="79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81120" y="3897360"/>
                <a:ext cx="252720" cy="55800"/>
              </a:xfrm>
              <a:custGeom>
                <a:avLst/>
                <a:gdLst/>
                <a:ahLst/>
                <a:rect l="0" t="0" r="r" b="b"/>
                <a:pathLst>
                  <a:path w="702" h="155">
                    <a:moveTo>
                      <a:pt x="702" y="22"/>
                    </a:moveTo>
                    <a:lnTo>
                      <a:pt x="702" y="124"/>
                    </a:lnTo>
                    <a:lnTo>
                      <a:pt x="631" y="155"/>
                    </a:lnTo>
                    <a:lnTo>
                      <a:pt x="556" y="120"/>
                    </a:lnTo>
                    <a:lnTo>
                      <a:pt x="468" y="93"/>
                    </a:lnTo>
                    <a:lnTo>
                      <a:pt x="362" y="89"/>
                    </a:lnTo>
                    <a:lnTo>
                      <a:pt x="242" y="84"/>
                    </a:lnTo>
                    <a:lnTo>
                      <a:pt x="145" y="84"/>
                    </a:lnTo>
                    <a:lnTo>
                      <a:pt x="0" y="39"/>
                    </a:lnTo>
                    <a:lnTo>
                      <a:pt x="499" y="0"/>
                    </a:lnTo>
                    <a:lnTo>
                      <a:pt x="702" y="22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158840" y="5749920"/>
                <a:ext cx="122760" cy="86040"/>
              </a:xfrm>
              <a:custGeom>
                <a:avLst/>
                <a:gdLst/>
                <a:ahLst/>
                <a:rect l="0" t="0" r="r" b="b"/>
                <a:pathLst>
                  <a:path w="341" h="239">
                    <a:moveTo>
                      <a:pt x="0" y="88"/>
                    </a:moveTo>
                    <a:lnTo>
                      <a:pt x="35" y="128"/>
                    </a:lnTo>
                    <a:lnTo>
                      <a:pt x="61" y="164"/>
                    </a:lnTo>
                    <a:lnTo>
                      <a:pt x="83" y="199"/>
                    </a:lnTo>
                    <a:lnTo>
                      <a:pt x="124" y="239"/>
                    </a:lnTo>
                    <a:lnTo>
                      <a:pt x="164" y="225"/>
                    </a:lnTo>
                    <a:lnTo>
                      <a:pt x="217" y="190"/>
                    </a:lnTo>
                    <a:lnTo>
                      <a:pt x="257" y="177"/>
                    </a:lnTo>
                    <a:lnTo>
                      <a:pt x="275" y="114"/>
                    </a:lnTo>
                    <a:lnTo>
                      <a:pt x="301" y="57"/>
                    </a:lnTo>
                    <a:lnTo>
                      <a:pt x="341" y="0"/>
                    </a:lnTo>
                    <a:lnTo>
                      <a:pt x="275" y="30"/>
                    </a:lnTo>
                    <a:lnTo>
                      <a:pt x="239" y="66"/>
                    </a:lnTo>
                    <a:lnTo>
                      <a:pt x="186" y="124"/>
                    </a:lnTo>
                    <a:lnTo>
                      <a:pt x="146" y="92"/>
                    </a:lnTo>
                    <a:lnTo>
                      <a:pt x="106" y="83"/>
                    </a:lnTo>
                    <a:lnTo>
                      <a:pt x="48" y="83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843200" y="3716280"/>
              <a:ext cx="306720" cy="443160"/>
              <a:chOff x="1843200" y="3716280"/>
              <a:chExt cx="306720" cy="443160"/>
            </a:xfrm>
          </p:grpSpPr>
          <p:grpSp>
            <p:nvGrpSpPr>
              <p:cNvPr id="1106" name=""/>
              <p:cNvGrpSpPr/>
              <p:nvPr/>
            </p:nvGrpSpPr>
            <p:grpSpPr>
              <a:xfrm>
                <a:off x="1843200" y="3786120"/>
                <a:ext cx="263880" cy="373320"/>
                <a:chOff x="1843200" y="3786120"/>
                <a:chExt cx="263880" cy="373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911240" y="3841920"/>
                  <a:ext cx="73440" cy="190800"/>
                </a:xfrm>
                <a:custGeom>
                  <a:avLst/>
                  <a:gdLst/>
                  <a:ahLst/>
                  <a:rect l="0" t="0" r="r" b="b"/>
                  <a:pathLst>
                    <a:path w="204" h="530">
                      <a:moveTo>
                        <a:pt x="124" y="0"/>
                      </a:moveTo>
                      <a:lnTo>
                        <a:pt x="196" y="211"/>
                      </a:lnTo>
                      <a:lnTo>
                        <a:pt x="204" y="428"/>
                      </a:lnTo>
                      <a:lnTo>
                        <a:pt x="137" y="530"/>
                      </a:lnTo>
                      <a:lnTo>
                        <a:pt x="0" y="336"/>
                      </a:lnTo>
                      <a:lnTo>
                        <a:pt x="22" y="14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97200" y="3952800"/>
                  <a:ext cx="79560" cy="122760"/>
                </a:xfrm>
                <a:custGeom>
                  <a:avLst/>
                  <a:gdLst/>
                  <a:ahLst/>
                  <a:rect l="0" t="0" r="r" b="b"/>
                  <a:pathLst>
                    <a:path w="221" h="341">
                      <a:moveTo>
                        <a:pt x="208" y="168"/>
                      </a:moveTo>
                      <a:lnTo>
                        <a:pt x="190" y="93"/>
                      </a:lnTo>
                      <a:lnTo>
                        <a:pt x="150" y="44"/>
                      </a:lnTo>
                      <a:lnTo>
                        <a:pt x="105" y="13"/>
                      </a:lnTo>
                      <a:lnTo>
                        <a:pt x="57" y="0"/>
                      </a:lnTo>
                      <a:lnTo>
                        <a:pt x="0" y="93"/>
                      </a:lnTo>
                      <a:lnTo>
                        <a:pt x="48" y="212"/>
                      </a:lnTo>
                      <a:lnTo>
                        <a:pt x="97" y="266"/>
                      </a:lnTo>
                      <a:lnTo>
                        <a:pt x="159" y="341"/>
                      </a:lnTo>
                      <a:lnTo>
                        <a:pt x="221" y="284"/>
                      </a:lnTo>
                      <a:lnTo>
                        <a:pt x="208" y="16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843200" y="3786120"/>
                  <a:ext cx="263880" cy="373320"/>
                </a:xfrm>
                <a:custGeom>
                  <a:avLst/>
                  <a:gdLst/>
                  <a:ahLst/>
                  <a:rect l="0" t="0" r="r" b="b"/>
                  <a:pathLst>
                    <a:path w="733" h="1037">
                      <a:moveTo>
                        <a:pt x="185" y="8"/>
                      </a:moveTo>
                      <a:lnTo>
                        <a:pt x="277" y="0"/>
                      </a:lnTo>
                      <a:lnTo>
                        <a:pt x="357" y="0"/>
                      </a:lnTo>
                      <a:lnTo>
                        <a:pt x="499" y="17"/>
                      </a:lnTo>
                      <a:lnTo>
                        <a:pt x="631" y="70"/>
                      </a:lnTo>
                      <a:lnTo>
                        <a:pt x="697" y="132"/>
                      </a:lnTo>
                      <a:lnTo>
                        <a:pt x="733" y="260"/>
                      </a:lnTo>
                      <a:lnTo>
                        <a:pt x="733" y="432"/>
                      </a:lnTo>
                      <a:lnTo>
                        <a:pt x="719" y="556"/>
                      </a:lnTo>
                      <a:lnTo>
                        <a:pt x="671" y="644"/>
                      </a:lnTo>
                      <a:lnTo>
                        <a:pt x="627" y="684"/>
                      </a:lnTo>
                      <a:lnTo>
                        <a:pt x="613" y="737"/>
                      </a:lnTo>
                      <a:lnTo>
                        <a:pt x="578" y="755"/>
                      </a:lnTo>
                      <a:lnTo>
                        <a:pt x="534" y="750"/>
                      </a:lnTo>
                      <a:lnTo>
                        <a:pt x="499" y="785"/>
                      </a:lnTo>
                      <a:lnTo>
                        <a:pt x="437" y="847"/>
                      </a:lnTo>
                      <a:lnTo>
                        <a:pt x="375" y="913"/>
                      </a:lnTo>
                      <a:lnTo>
                        <a:pt x="299" y="975"/>
                      </a:lnTo>
                      <a:lnTo>
                        <a:pt x="224" y="1028"/>
                      </a:lnTo>
                      <a:lnTo>
                        <a:pt x="176" y="1037"/>
                      </a:lnTo>
                      <a:lnTo>
                        <a:pt x="145" y="1024"/>
                      </a:lnTo>
                      <a:lnTo>
                        <a:pt x="123" y="975"/>
                      </a:lnTo>
                      <a:lnTo>
                        <a:pt x="154" y="909"/>
                      </a:lnTo>
                      <a:lnTo>
                        <a:pt x="194" y="869"/>
                      </a:lnTo>
                      <a:lnTo>
                        <a:pt x="242" y="852"/>
                      </a:lnTo>
                      <a:lnTo>
                        <a:pt x="277" y="781"/>
                      </a:lnTo>
                      <a:lnTo>
                        <a:pt x="295" y="733"/>
                      </a:lnTo>
                      <a:lnTo>
                        <a:pt x="317" y="684"/>
                      </a:lnTo>
                      <a:lnTo>
                        <a:pt x="357" y="613"/>
                      </a:lnTo>
                      <a:lnTo>
                        <a:pt x="371" y="569"/>
                      </a:lnTo>
                      <a:lnTo>
                        <a:pt x="348" y="521"/>
                      </a:lnTo>
                      <a:lnTo>
                        <a:pt x="321" y="449"/>
                      </a:lnTo>
                      <a:lnTo>
                        <a:pt x="308" y="374"/>
                      </a:lnTo>
                      <a:lnTo>
                        <a:pt x="277" y="295"/>
                      </a:lnTo>
                      <a:lnTo>
                        <a:pt x="268" y="374"/>
                      </a:lnTo>
                      <a:lnTo>
                        <a:pt x="246" y="414"/>
                      </a:lnTo>
                      <a:lnTo>
                        <a:pt x="229" y="493"/>
                      </a:lnTo>
                      <a:lnTo>
                        <a:pt x="207" y="556"/>
                      </a:lnTo>
                      <a:lnTo>
                        <a:pt x="198" y="649"/>
                      </a:lnTo>
                      <a:lnTo>
                        <a:pt x="171" y="719"/>
                      </a:lnTo>
                      <a:lnTo>
                        <a:pt x="123" y="772"/>
                      </a:lnTo>
                      <a:lnTo>
                        <a:pt x="66" y="785"/>
                      </a:lnTo>
                      <a:lnTo>
                        <a:pt x="22" y="763"/>
                      </a:lnTo>
                      <a:lnTo>
                        <a:pt x="0" y="715"/>
                      </a:lnTo>
                      <a:lnTo>
                        <a:pt x="22" y="622"/>
                      </a:lnTo>
                      <a:lnTo>
                        <a:pt x="35" y="556"/>
                      </a:lnTo>
                      <a:lnTo>
                        <a:pt x="35" y="485"/>
                      </a:lnTo>
                      <a:lnTo>
                        <a:pt x="48" y="405"/>
                      </a:lnTo>
                      <a:lnTo>
                        <a:pt x="61" y="326"/>
                      </a:lnTo>
                      <a:lnTo>
                        <a:pt x="83" y="238"/>
                      </a:lnTo>
                      <a:lnTo>
                        <a:pt x="141" y="123"/>
                      </a:lnTo>
                      <a:lnTo>
                        <a:pt x="185" y="8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000160" y="3951360"/>
                  <a:ext cx="84600" cy="140040"/>
                </a:xfrm>
                <a:custGeom>
                  <a:avLst/>
                  <a:gdLst/>
                  <a:ahLst/>
                  <a:rect l="0" t="0" r="r" b="b"/>
                  <a:pathLst>
                    <a:path w="235" h="389">
                      <a:moveTo>
                        <a:pt x="89" y="0"/>
                      </a:moveTo>
                      <a:lnTo>
                        <a:pt x="98" y="88"/>
                      </a:lnTo>
                      <a:lnTo>
                        <a:pt x="93" y="154"/>
                      </a:lnTo>
                      <a:lnTo>
                        <a:pt x="75" y="256"/>
                      </a:lnTo>
                      <a:lnTo>
                        <a:pt x="30" y="287"/>
                      </a:lnTo>
                      <a:lnTo>
                        <a:pt x="17" y="327"/>
                      </a:lnTo>
                      <a:lnTo>
                        <a:pt x="0" y="389"/>
                      </a:lnTo>
                      <a:lnTo>
                        <a:pt x="44" y="344"/>
                      </a:lnTo>
                      <a:lnTo>
                        <a:pt x="84" y="305"/>
                      </a:lnTo>
                      <a:lnTo>
                        <a:pt x="124" y="265"/>
                      </a:lnTo>
                      <a:lnTo>
                        <a:pt x="146" y="217"/>
                      </a:lnTo>
                      <a:lnTo>
                        <a:pt x="150" y="171"/>
                      </a:lnTo>
                      <a:lnTo>
                        <a:pt x="187" y="119"/>
                      </a:lnTo>
                      <a:lnTo>
                        <a:pt x="222" y="88"/>
                      </a:lnTo>
                      <a:lnTo>
                        <a:pt x="235" y="26"/>
                      </a:lnTo>
                      <a:lnTo>
                        <a:pt x="187" y="35"/>
                      </a:lnTo>
                      <a:lnTo>
                        <a:pt x="133" y="3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905120" y="3716280"/>
                <a:ext cx="244800" cy="130680"/>
                <a:chOff x="1905120" y="3716280"/>
                <a:chExt cx="244800" cy="1306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2049480" y="3720960"/>
                  <a:ext cx="100440" cy="97200"/>
                </a:xfrm>
                <a:custGeom>
                  <a:avLst/>
                  <a:gdLst/>
                  <a:ahLst/>
                  <a:rect l="0" t="0" r="r" b="b"/>
                  <a:pathLst>
                    <a:path w="279" h="270">
                      <a:moveTo>
                        <a:pt x="279" y="199"/>
                      </a:moveTo>
                      <a:lnTo>
                        <a:pt x="253" y="222"/>
                      </a:lnTo>
                      <a:lnTo>
                        <a:pt x="199" y="240"/>
                      </a:lnTo>
                      <a:lnTo>
                        <a:pt x="133" y="262"/>
                      </a:lnTo>
                      <a:lnTo>
                        <a:pt x="48" y="270"/>
                      </a:lnTo>
                      <a:lnTo>
                        <a:pt x="0" y="0"/>
                      </a:lnTo>
                      <a:lnTo>
                        <a:pt x="270" y="137"/>
                      </a:lnTo>
                      <a:lnTo>
                        <a:pt x="279" y="19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3" name=""/>
                <p:cNvGrpSpPr/>
                <p:nvPr/>
              </p:nvGrpSpPr>
              <p:grpSpPr>
                <a:xfrm>
                  <a:off x="1905120" y="3716280"/>
                  <a:ext cx="195480" cy="130680"/>
                  <a:chOff x="1905120" y="3716280"/>
                  <a:chExt cx="195480" cy="13068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>
                    <a:off x="1905120" y="3716280"/>
                    <a:ext cx="195480" cy="130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3" h="363">
                        <a:moveTo>
                          <a:pt x="486" y="0"/>
                        </a:moveTo>
                        <a:lnTo>
                          <a:pt x="525" y="79"/>
                        </a:lnTo>
                        <a:lnTo>
                          <a:pt x="543" y="186"/>
                        </a:lnTo>
                        <a:lnTo>
                          <a:pt x="538" y="288"/>
                        </a:lnTo>
                        <a:lnTo>
                          <a:pt x="530" y="363"/>
                        </a:lnTo>
                        <a:lnTo>
                          <a:pt x="459" y="306"/>
                        </a:lnTo>
                        <a:lnTo>
                          <a:pt x="402" y="256"/>
                        </a:lnTo>
                        <a:lnTo>
                          <a:pt x="309" y="217"/>
                        </a:lnTo>
                        <a:lnTo>
                          <a:pt x="202" y="195"/>
                        </a:lnTo>
                        <a:lnTo>
                          <a:pt x="66" y="199"/>
                        </a:lnTo>
                        <a:lnTo>
                          <a:pt x="4" y="212"/>
                        </a:lnTo>
                        <a:lnTo>
                          <a:pt x="0" y="102"/>
                        </a:lnTo>
                        <a:lnTo>
                          <a:pt x="61" y="0"/>
                        </a:lnTo>
                        <a:lnTo>
                          <a:pt x="4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1952640" y="3735360"/>
                    <a:ext cx="140040" cy="6552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82">
                        <a:moveTo>
                          <a:pt x="362" y="8"/>
                        </a:moveTo>
                        <a:lnTo>
                          <a:pt x="389" y="124"/>
                        </a:lnTo>
                        <a:lnTo>
                          <a:pt x="389" y="182"/>
                        </a:lnTo>
                        <a:lnTo>
                          <a:pt x="340" y="133"/>
                        </a:lnTo>
                        <a:lnTo>
                          <a:pt x="278" y="93"/>
                        </a:lnTo>
                        <a:lnTo>
                          <a:pt x="185" y="58"/>
                        </a:lnTo>
                        <a:lnTo>
                          <a:pt x="110" y="44"/>
                        </a:lnTo>
                        <a:lnTo>
                          <a:pt x="22" y="39"/>
                        </a:lnTo>
                        <a:lnTo>
                          <a:pt x="0" y="0"/>
                        </a:lnTo>
                        <a:lnTo>
                          <a:pt x="362" y="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6" name=""/>
            <p:cNvGrpSpPr/>
            <p:nvPr/>
          </p:nvGrpSpPr>
          <p:grpSpPr>
            <a:xfrm>
              <a:off x="1171440" y="1968480"/>
              <a:ext cx="365400" cy="781560"/>
              <a:chOff x="1171440" y="1968480"/>
              <a:chExt cx="365400" cy="78156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1171440" y="1968480"/>
                <a:ext cx="365400" cy="781560"/>
                <a:chOff x="1171440" y="1968480"/>
                <a:chExt cx="365400" cy="78156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1171440" y="1969920"/>
                  <a:ext cx="365400" cy="779760"/>
                </a:xfrm>
                <a:custGeom>
                  <a:avLst/>
                  <a:gdLst/>
                  <a:ahLst/>
                  <a:rect l="0" t="0" r="r" b="b"/>
                  <a:pathLst>
                    <a:path w="1015" h="2166">
                      <a:moveTo>
                        <a:pt x="1006" y="57"/>
                      </a:moveTo>
                      <a:lnTo>
                        <a:pt x="1015" y="216"/>
                      </a:lnTo>
                      <a:lnTo>
                        <a:pt x="357" y="2166"/>
                      </a:lnTo>
                      <a:lnTo>
                        <a:pt x="238" y="1742"/>
                      </a:lnTo>
                      <a:lnTo>
                        <a:pt x="70" y="987"/>
                      </a:lnTo>
                      <a:lnTo>
                        <a:pt x="0" y="198"/>
                      </a:lnTo>
                      <a:lnTo>
                        <a:pt x="158" y="0"/>
                      </a:lnTo>
                      <a:lnTo>
                        <a:pt x="202" y="66"/>
                      </a:lnTo>
                      <a:lnTo>
                        <a:pt x="295" y="167"/>
                      </a:lnTo>
                      <a:lnTo>
                        <a:pt x="388" y="273"/>
                      </a:lnTo>
                      <a:lnTo>
                        <a:pt x="480" y="339"/>
                      </a:lnTo>
                      <a:lnTo>
                        <a:pt x="561" y="352"/>
                      </a:lnTo>
                      <a:lnTo>
                        <a:pt x="702" y="260"/>
                      </a:lnTo>
                      <a:lnTo>
                        <a:pt x="834" y="176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"/>
                <p:cNvGrpSpPr/>
                <p:nvPr/>
              </p:nvGrpSpPr>
              <p:grpSpPr>
                <a:xfrm>
                  <a:off x="1189080" y="1968480"/>
                  <a:ext cx="346680" cy="781560"/>
                  <a:chOff x="1189080" y="1968480"/>
                  <a:chExt cx="346680" cy="78156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1189080" y="1968480"/>
                    <a:ext cx="346680" cy="321120"/>
                    <a:chOff x="1189080" y="1968480"/>
                    <a:chExt cx="346680" cy="321120"/>
                  </a:xfrm>
                </p:grpSpPr>
                <p:grpSp>
                  <p:nvGrpSpPr>
                    <p:cNvPr id="1121" name=""/>
                    <p:cNvGrpSpPr/>
                    <p:nvPr/>
                  </p:nvGrpSpPr>
                  <p:grpSpPr>
                    <a:xfrm>
                      <a:off x="1370160" y="1971720"/>
                      <a:ext cx="165600" cy="317880"/>
                      <a:chOff x="1370160" y="1971720"/>
                      <a:chExt cx="165600" cy="317880"/>
                    </a:xfrm>
                  </p:grpSpPr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1376280" y="2089080"/>
                        <a:ext cx="70200" cy="200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95" h="557">
                            <a:moveTo>
                              <a:pt x="0" y="0"/>
                            </a:moveTo>
                            <a:lnTo>
                              <a:pt x="0" y="79"/>
                            </a:lnTo>
                            <a:lnTo>
                              <a:pt x="0" y="132"/>
                            </a:lnTo>
                            <a:lnTo>
                              <a:pt x="35" y="190"/>
                            </a:lnTo>
                            <a:lnTo>
                              <a:pt x="102" y="322"/>
                            </a:lnTo>
                            <a:lnTo>
                              <a:pt x="186" y="557"/>
                            </a:lnTo>
                            <a:lnTo>
                              <a:pt x="195" y="4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1370160" y="1971720"/>
                        <a:ext cx="165600" cy="297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826">
                            <a:moveTo>
                              <a:pt x="451" y="0"/>
                            </a:moveTo>
                            <a:lnTo>
                              <a:pt x="420" y="52"/>
                            </a:lnTo>
                            <a:lnTo>
                              <a:pt x="318" y="141"/>
                            </a:lnTo>
                            <a:lnTo>
                              <a:pt x="208" y="221"/>
                            </a:lnTo>
                            <a:lnTo>
                              <a:pt x="101" y="278"/>
                            </a:lnTo>
                            <a:lnTo>
                              <a:pt x="39" y="327"/>
                            </a:lnTo>
                            <a:lnTo>
                              <a:pt x="0" y="336"/>
                            </a:lnTo>
                            <a:lnTo>
                              <a:pt x="26" y="367"/>
                            </a:lnTo>
                            <a:lnTo>
                              <a:pt x="52" y="424"/>
                            </a:lnTo>
                            <a:lnTo>
                              <a:pt x="97" y="530"/>
                            </a:lnTo>
                            <a:lnTo>
                              <a:pt x="137" y="650"/>
                            </a:lnTo>
                            <a:lnTo>
                              <a:pt x="195" y="826"/>
                            </a:lnTo>
                            <a:lnTo>
                              <a:pt x="221" y="769"/>
                            </a:lnTo>
                            <a:lnTo>
                              <a:pt x="372" y="402"/>
                            </a:lnTo>
                            <a:lnTo>
                              <a:pt x="460" y="163"/>
                            </a:lnTo>
                            <a:lnTo>
                              <a:pt x="451" y="0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1189080" y="1968480"/>
                      <a:ext cx="171720" cy="281520"/>
                      <a:chOff x="1189080" y="1968480"/>
                      <a:chExt cx="171720" cy="281520"/>
                    </a:xfrm>
                  </p:grpSpPr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1189080" y="2028960"/>
                        <a:ext cx="51120" cy="221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614">
                            <a:moveTo>
                              <a:pt x="0" y="114"/>
                            </a:moveTo>
                            <a:lnTo>
                              <a:pt x="8" y="221"/>
                            </a:lnTo>
                            <a:lnTo>
                              <a:pt x="26" y="314"/>
                            </a:lnTo>
                            <a:lnTo>
                              <a:pt x="61" y="446"/>
                            </a:lnTo>
                            <a:lnTo>
                              <a:pt x="93" y="614"/>
                            </a:lnTo>
                            <a:lnTo>
                              <a:pt x="142" y="491"/>
                            </a:lnTo>
                            <a:lnTo>
                              <a:pt x="93" y="252"/>
                            </a:lnTo>
                            <a:lnTo>
                              <a:pt x="0" y="0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1214280" y="1968480"/>
                        <a:ext cx="14652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07" h="530">
                            <a:moveTo>
                              <a:pt x="247" y="464"/>
                            </a:moveTo>
                            <a:lnTo>
                              <a:pt x="190" y="530"/>
                            </a:lnTo>
                            <a:lnTo>
                              <a:pt x="39" y="472"/>
                            </a:lnTo>
                            <a:lnTo>
                              <a:pt x="0" y="233"/>
                            </a:lnTo>
                            <a:lnTo>
                              <a:pt x="17" y="61"/>
                            </a:lnTo>
                            <a:lnTo>
                              <a:pt x="48" y="0"/>
                            </a:lnTo>
                            <a:lnTo>
                              <a:pt x="101" y="101"/>
                            </a:lnTo>
                            <a:lnTo>
                              <a:pt x="195" y="185"/>
                            </a:lnTo>
                            <a:lnTo>
                              <a:pt x="283" y="278"/>
                            </a:lnTo>
                            <a:lnTo>
                              <a:pt x="363" y="336"/>
                            </a:lnTo>
                            <a:lnTo>
                              <a:pt x="407" y="344"/>
                            </a:lnTo>
                            <a:lnTo>
                              <a:pt x="345" y="371"/>
                            </a:lnTo>
                            <a:lnTo>
                              <a:pt x="247" y="464"/>
                            </a:lnTo>
                            <a:close/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1192320" y="2068560"/>
                        <a:ext cx="57600" cy="151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60" h="420">
                            <a:moveTo>
                              <a:pt x="0" y="0"/>
                            </a:moveTo>
                            <a:lnTo>
                              <a:pt x="22" y="137"/>
                            </a:lnTo>
                            <a:lnTo>
                              <a:pt x="67" y="274"/>
                            </a:lnTo>
                            <a:lnTo>
                              <a:pt x="106" y="420"/>
                            </a:lnTo>
                            <a:lnTo>
                              <a:pt x="160" y="29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1192320" y="1973160"/>
                        <a:ext cx="95760" cy="27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66" h="755">
                            <a:moveTo>
                              <a:pt x="266" y="516"/>
                            </a:moveTo>
                            <a:lnTo>
                              <a:pt x="204" y="574"/>
                            </a:lnTo>
                            <a:lnTo>
                              <a:pt x="168" y="627"/>
                            </a:lnTo>
                            <a:lnTo>
                              <a:pt x="142" y="688"/>
                            </a:lnTo>
                            <a:lnTo>
                              <a:pt x="106" y="755"/>
                            </a:lnTo>
                            <a:lnTo>
                              <a:pt x="102" y="666"/>
                            </a:lnTo>
                            <a:lnTo>
                              <a:pt x="142" y="605"/>
                            </a:lnTo>
                            <a:lnTo>
                              <a:pt x="146" y="561"/>
                            </a:lnTo>
                            <a:lnTo>
                              <a:pt x="120" y="499"/>
                            </a:lnTo>
                            <a:lnTo>
                              <a:pt x="84" y="446"/>
                            </a:lnTo>
                            <a:lnTo>
                              <a:pt x="57" y="397"/>
                            </a:lnTo>
                            <a:lnTo>
                              <a:pt x="8" y="380"/>
                            </a:lnTo>
                            <a:lnTo>
                              <a:pt x="0" y="291"/>
                            </a:lnTo>
                            <a:lnTo>
                              <a:pt x="22" y="158"/>
                            </a:lnTo>
                            <a:lnTo>
                              <a:pt x="39" y="39"/>
                            </a:lnTo>
                            <a:lnTo>
                              <a:pt x="75" y="0"/>
                            </a:lnTo>
                            <a:lnTo>
                              <a:pt x="98" y="105"/>
                            </a:lnTo>
                            <a:lnTo>
                              <a:pt x="124" y="238"/>
                            </a:lnTo>
                            <a:lnTo>
                              <a:pt x="159" y="361"/>
                            </a:lnTo>
                            <a:lnTo>
                              <a:pt x="200" y="455"/>
                            </a:lnTo>
                            <a:lnTo>
                              <a:pt x="266" y="516"/>
                            </a:lnTo>
                            <a:close/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29" name=""/>
                  <p:cNvSpPr/>
                  <p:nvPr/>
                </p:nvSpPr>
                <p:spPr>
                  <a:xfrm>
                    <a:off x="1271520" y="2222640"/>
                    <a:ext cx="187560" cy="52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21" h="1465">
                        <a:moveTo>
                          <a:pt x="521" y="0"/>
                        </a:moveTo>
                        <a:lnTo>
                          <a:pt x="415" y="194"/>
                        </a:lnTo>
                        <a:lnTo>
                          <a:pt x="344" y="396"/>
                        </a:lnTo>
                        <a:lnTo>
                          <a:pt x="283" y="560"/>
                        </a:lnTo>
                        <a:lnTo>
                          <a:pt x="224" y="705"/>
                        </a:lnTo>
                        <a:lnTo>
                          <a:pt x="163" y="918"/>
                        </a:lnTo>
                        <a:lnTo>
                          <a:pt x="66" y="1103"/>
                        </a:lnTo>
                        <a:lnTo>
                          <a:pt x="0" y="1222"/>
                        </a:lnTo>
                        <a:lnTo>
                          <a:pt x="70" y="1465"/>
                        </a:lnTo>
                        <a:lnTo>
                          <a:pt x="292" y="904"/>
                        </a:lnTo>
                        <a:lnTo>
                          <a:pt x="52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0" name=""/>
              <p:cNvGrpSpPr/>
              <p:nvPr/>
            </p:nvGrpSpPr>
            <p:grpSpPr>
              <a:xfrm>
                <a:off x="1293840" y="2109960"/>
                <a:ext cx="82440" cy="404640"/>
                <a:chOff x="1293840" y="2109960"/>
                <a:chExt cx="82440" cy="40464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1293840" y="2109960"/>
                  <a:ext cx="79200" cy="404640"/>
                  <a:chOff x="1293840" y="2109960"/>
                  <a:chExt cx="79200" cy="4046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346040" y="2109960"/>
                    <a:ext cx="2700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317600" y="2289240"/>
                    <a:ext cx="28440" cy="302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293840" y="2486160"/>
                    <a:ext cx="31680" cy="2844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1297080" y="2109960"/>
                  <a:ext cx="79200" cy="401400"/>
                  <a:chOff x="1297080" y="2109960"/>
                  <a:chExt cx="79200" cy="40140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1349280" y="2109960"/>
                    <a:ext cx="2700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1320840" y="2289240"/>
                    <a:ext cx="28440" cy="2844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1297080" y="2484360"/>
                    <a:ext cx="31680" cy="270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39" name=""/>
            <p:cNvSpPr/>
            <p:nvPr/>
          </p:nvSpPr>
          <p:spPr>
            <a:xfrm>
              <a:off x="631800" y="2031840"/>
              <a:ext cx="1518120" cy="1899000"/>
            </a:xfrm>
            <a:custGeom>
              <a:avLst/>
              <a:gdLst/>
              <a:ahLst/>
              <a:rect l="0" t="0" r="r" b="b"/>
              <a:pathLst>
                <a:path w="4217" h="5275">
                  <a:moveTo>
                    <a:pt x="2814" y="127"/>
                  </a:moveTo>
                  <a:lnTo>
                    <a:pt x="2924" y="189"/>
                  </a:lnTo>
                  <a:lnTo>
                    <a:pt x="3074" y="246"/>
                  </a:lnTo>
                  <a:lnTo>
                    <a:pt x="3234" y="313"/>
                  </a:lnTo>
                  <a:lnTo>
                    <a:pt x="3437" y="396"/>
                  </a:lnTo>
                  <a:lnTo>
                    <a:pt x="3538" y="458"/>
                  </a:lnTo>
                  <a:lnTo>
                    <a:pt x="3595" y="489"/>
                  </a:lnTo>
                  <a:lnTo>
                    <a:pt x="3635" y="537"/>
                  </a:lnTo>
                  <a:lnTo>
                    <a:pt x="3657" y="696"/>
                  </a:lnTo>
                  <a:lnTo>
                    <a:pt x="3692" y="1172"/>
                  </a:lnTo>
                  <a:lnTo>
                    <a:pt x="3772" y="1759"/>
                  </a:lnTo>
                  <a:lnTo>
                    <a:pt x="3860" y="2266"/>
                  </a:lnTo>
                  <a:lnTo>
                    <a:pt x="3935" y="2655"/>
                  </a:lnTo>
                  <a:lnTo>
                    <a:pt x="3979" y="3118"/>
                  </a:lnTo>
                  <a:lnTo>
                    <a:pt x="4067" y="3471"/>
                  </a:lnTo>
                  <a:lnTo>
                    <a:pt x="4116" y="3899"/>
                  </a:lnTo>
                  <a:lnTo>
                    <a:pt x="4160" y="4423"/>
                  </a:lnTo>
                  <a:lnTo>
                    <a:pt x="4217" y="4891"/>
                  </a:lnTo>
                  <a:lnTo>
                    <a:pt x="4129" y="4820"/>
                  </a:lnTo>
                  <a:lnTo>
                    <a:pt x="3961" y="4776"/>
                  </a:lnTo>
                  <a:lnTo>
                    <a:pt x="3798" y="4763"/>
                  </a:lnTo>
                  <a:lnTo>
                    <a:pt x="3635" y="4763"/>
                  </a:lnTo>
                  <a:lnTo>
                    <a:pt x="3529" y="4812"/>
                  </a:lnTo>
                  <a:lnTo>
                    <a:pt x="3490" y="4582"/>
                  </a:lnTo>
                  <a:lnTo>
                    <a:pt x="3393" y="4141"/>
                  </a:lnTo>
                  <a:lnTo>
                    <a:pt x="3335" y="3749"/>
                  </a:lnTo>
                  <a:lnTo>
                    <a:pt x="3243" y="3387"/>
                  </a:lnTo>
                  <a:lnTo>
                    <a:pt x="3118" y="2880"/>
                  </a:lnTo>
                  <a:lnTo>
                    <a:pt x="3221" y="3643"/>
                  </a:lnTo>
                  <a:lnTo>
                    <a:pt x="3357" y="4520"/>
                  </a:lnTo>
                  <a:lnTo>
                    <a:pt x="3388" y="5173"/>
                  </a:lnTo>
                  <a:lnTo>
                    <a:pt x="3348" y="5222"/>
                  </a:lnTo>
                  <a:lnTo>
                    <a:pt x="3282" y="5244"/>
                  </a:lnTo>
                  <a:lnTo>
                    <a:pt x="3096" y="5230"/>
                  </a:lnTo>
                  <a:lnTo>
                    <a:pt x="2911" y="5226"/>
                  </a:lnTo>
                  <a:lnTo>
                    <a:pt x="2660" y="5239"/>
                  </a:lnTo>
                  <a:lnTo>
                    <a:pt x="2408" y="5244"/>
                  </a:lnTo>
                  <a:lnTo>
                    <a:pt x="2161" y="5235"/>
                  </a:lnTo>
                  <a:lnTo>
                    <a:pt x="1932" y="5239"/>
                  </a:lnTo>
                  <a:lnTo>
                    <a:pt x="1473" y="5230"/>
                  </a:lnTo>
                  <a:lnTo>
                    <a:pt x="1204" y="5248"/>
                  </a:lnTo>
                  <a:lnTo>
                    <a:pt x="965" y="5275"/>
                  </a:lnTo>
                  <a:lnTo>
                    <a:pt x="877" y="5275"/>
                  </a:lnTo>
                  <a:lnTo>
                    <a:pt x="784" y="5266"/>
                  </a:lnTo>
                  <a:lnTo>
                    <a:pt x="727" y="5235"/>
                  </a:lnTo>
                  <a:lnTo>
                    <a:pt x="652" y="5191"/>
                  </a:lnTo>
                  <a:lnTo>
                    <a:pt x="687" y="4803"/>
                  </a:lnTo>
                  <a:lnTo>
                    <a:pt x="736" y="4225"/>
                  </a:lnTo>
                  <a:lnTo>
                    <a:pt x="806" y="3683"/>
                  </a:lnTo>
                  <a:lnTo>
                    <a:pt x="886" y="3206"/>
                  </a:lnTo>
                  <a:lnTo>
                    <a:pt x="952" y="3017"/>
                  </a:lnTo>
                  <a:lnTo>
                    <a:pt x="983" y="2893"/>
                  </a:lnTo>
                  <a:lnTo>
                    <a:pt x="1049" y="2836"/>
                  </a:lnTo>
                  <a:lnTo>
                    <a:pt x="762" y="2902"/>
                  </a:lnTo>
                  <a:lnTo>
                    <a:pt x="568" y="2915"/>
                  </a:lnTo>
                  <a:lnTo>
                    <a:pt x="410" y="2907"/>
                  </a:lnTo>
                  <a:lnTo>
                    <a:pt x="282" y="2884"/>
                  </a:lnTo>
                  <a:lnTo>
                    <a:pt x="176" y="2854"/>
                  </a:lnTo>
                  <a:lnTo>
                    <a:pt x="105" y="2809"/>
                  </a:lnTo>
                  <a:lnTo>
                    <a:pt x="66" y="2757"/>
                  </a:lnTo>
                  <a:lnTo>
                    <a:pt x="8" y="2686"/>
                  </a:lnTo>
                  <a:lnTo>
                    <a:pt x="0" y="2570"/>
                  </a:lnTo>
                  <a:lnTo>
                    <a:pt x="30" y="2465"/>
                  </a:lnTo>
                  <a:lnTo>
                    <a:pt x="61" y="2226"/>
                  </a:lnTo>
                  <a:lnTo>
                    <a:pt x="136" y="1741"/>
                  </a:lnTo>
                  <a:lnTo>
                    <a:pt x="216" y="1371"/>
                  </a:lnTo>
                  <a:lnTo>
                    <a:pt x="273" y="1115"/>
                  </a:lnTo>
                  <a:lnTo>
                    <a:pt x="317" y="961"/>
                  </a:lnTo>
                  <a:lnTo>
                    <a:pt x="366" y="780"/>
                  </a:lnTo>
                  <a:lnTo>
                    <a:pt x="396" y="604"/>
                  </a:lnTo>
                  <a:lnTo>
                    <a:pt x="423" y="485"/>
                  </a:lnTo>
                  <a:lnTo>
                    <a:pt x="445" y="445"/>
                  </a:lnTo>
                  <a:lnTo>
                    <a:pt x="626" y="370"/>
                  </a:lnTo>
                  <a:lnTo>
                    <a:pt x="846" y="264"/>
                  </a:lnTo>
                  <a:lnTo>
                    <a:pt x="1085" y="154"/>
                  </a:lnTo>
                  <a:lnTo>
                    <a:pt x="1257" y="88"/>
                  </a:lnTo>
                  <a:lnTo>
                    <a:pt x="1487" y="0"/>
                  </a:lnTo>
                  <a:lnTo>
                    <a:pt x="1447" y="586"/>
                  </a:lnTo>
                  <a:lnTo>
                    <a:pt x="1786" y="2081"/>
                  </a:lnTo>
                  <a:lnTo>
                    <a:pt x="2003" y="1843"/>
                  </a:lnTo>
                  <a:lnTo>
                    <a:pt x="2395" y="366"/>
                  </a:lnTo>
                  <a:lnTo>
                    <a:pt x="2593" y="66"/>
                  </a:lnTo>
                  <a:lnTo>
                    <a:pt x="2814" y="127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673200" y="1959120"/>
              <a:ext cx="1433520" cy="1975320"/>
              <a:chOff x="673200" y="1959120"/>
              <a:chExt cx="1433520" cy="197532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673200" y="1959120"/>
                <a:ext cx="1433520" cy="1975320"/>
                <a:chOff x="673200" y="1959120"/>
                <a:chExt cx="1433520" cy="1975320"/>
              </a:xfrm>
            </p:grpSpPr>
            <p:grpSp>
              <p:nvGrpSpPr>
                <p:cNvPr id="1142" name=""/>
                <p:cNvGrpSpPr/>
                <p:nvPr/>
              </p:nvGrpSpPr>
              <p:grpSpPr>
                <a:xfrm>
                  <a:off x="673200" y="2046240"/>
                  <a:ext cx="1433520" cy="1888200"/>
                  <a:chOff x="673200" y="2046240"/>
                  <a:chExt cx="1433520" cy="188820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1509840" y="2046240"/>
                    <a:ext cx="286200" cy="2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632">
                        <a:moveTo>
                          <a:pt x="795" y="274"/>
                        </a:moveTo>
                        <a:lnTo>
                          <a:pt x="672" y="278"/>
                        </a:lnTo>
                        <a:lnTo>
                          <a:pt x="530" y="305"/>
                        </a:lnTo>
                        <a:lnTo>
                          <a:pt x="402" y="353"/>
                        </a:lnTo>
                        <a:lnTo>
                          <a:pt x="309" y="441"/>
                        </a:lnTo>
                        <a:lnTo>
                          <a:pt x="212" y="509"/>
                        </a:lnTo>
                        <a:lnTo>
                          <a:pt x="0" y="632"/>
                        </a:lnTo>
                        <a:lnTo>
                          <a:pt x="158" y="208"/>
                        </a:lnTo>
                        <a:lnTo>
                          <a:pt x="154" y="0"/>
                        </a:lnTo>
                        <a:lnTo>
                          <a:pt x="300" y="57"/>
                        </a:lnTo>
                        <a:lnTo>
                          <a:pt x="450" y="119"/>
                        </a:lnTo>
                        <a:lnTo>
                          <a:pt x="641" y="208"/>
                        </a:lnTo>
                        <a:lnTo>
                          <a:pt x="795" y="274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1900080" y="3149640"/>
                    <a:ext cx="20664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574" h="1703">
                        <a:moveTo>
                          <a:pt x="574" y="1703"/>
                        </a:moveTo>
                        <a:lnTo>
                          <a:pt x="556" y="1614"/>
                        </a:lnTo>
                        <a:lnTo>
                          <a:pt x="494" y="1531"/>
                        </a:lnTo>
                        <a:lnTo>
                          <a:pt x="397" y="1390"/>
                        </a:lnTo>
                        <a:lnTo>
                          <a:pt x="349" y="1284"/>
                        </a:lnTo>
                        <a:lnTo>
                          <a:pt x="314" y="1160"/>
                        </a:lnTo>
                        <a:lnTo>
                          <a:pt x="322" y="1054"/>
                        </a:lnTo>
                        <a:lnTo>
                          <a:pt x="349" y="918"/>
                        </a:lnTo>
                        <a:lnTo>
                          <a:pt x="367" y="776"/>
                        </a:lnTo>
                        <a:lnTo>
                          <a:pt x="367" y="617"/>
                        </a:lnTo>
                        <a:lnTo>
                          <a:pt x="331" y="445"/>
                        </a:lnTo>
                        <a:lnTo>
                          <a:pt x="286" y="282"/>
                        </a:lnTo>
                        <a:lnTo>
                          <a:pt x="233" y="154"/>
                        </a:lnTo>
                        <a:lnTo>
                          <a:pt x="180" y="0"/>
                        </a:lnTo>
                        <a:lnTo>
                          <a:pt x="171" y="246"/>
                        </a:lnTo>
                        <a:lnTo>
                          <a:pt x="163" y="410"/>
                        </a:lnTo>
                        <a:lnTo>
                          <a:pt x="136" y="568"/>
                        </a:lnTo>
                        <a:lnTo>
                          <a:pt x="105" y="727"/>
                        </a:lnTo>
                        <a:lnTo>
                          <a:pt x="92" y="837"/>
                        </a:lnTo>
                        <a:lnTo>
                          <a:pt x="79" y="949"/>
                        </a:lnTo>
                        <a:lnTo>
                          <a:pt x="101" y="1059"/>
                        </a:lnTo>
                        <a:lnTo>
                          <a:pt x="79" y="1138"/>
                        </a:lnTo>
                        <a:lnTo>
                          <a:pt x="44" y="1248"/>
                        </a:lnTo>
                        <a:lnTo>
                          <a:pt x="22" y="1385"/>
                        </a:lnTo>
                        <a:lnTo>
                          <a:pt x="0" y="1557"/>
                        </a:lnTo>
                        <a:lnTo>
                          <a:pt x="0" y="1703"/>
                        </a:lnTo>
                        <a:lnTo>
                          <a:pt x="70" y="1663"/>
                        </a:lnTo>
                        <a:lnTo>
                          <a:pt x="202" y="1645"/>
                        </a:lnTo>
                        <a:lnTo>
                          <a:pt x="327" y="1659"/>
                        </a:lnTo>
                        <a:lnTo>
                          <a:pt x="459" y="1672"/>
                        </a:lnTo>
                        <a:lnTo>
                          <a:pt x="574" y="170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751040" y="2201760"/>
                    <a:ext cx="19728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548" h="4340">
                        <a:moveTo>
                          <a:pt x="442" y="0"/>
                        </a:moveTo>
                        <a:lnTo>
                          <a:pt x="375" y="101"/>
                        </a:lnTo>
                        <a:lnTo>
                          <a:pt x="309" y="251"/>
                        </a:lnTo>
                        <a:lnTo>
                          <a:pt x="243" y="463"/>
                        </a:lnTo>
                        <a:lnTo>
                          <a:pt x="186" y="665"/>
                        </a:lnTo>
                        <a:lnTo>
                          <a:pt x="136" y="842"/>
                        </a:lnTo>
                        <a:lnTo>
                          <a:pt x="101" y="1049"/>
                        </a:lnTo>
                        <a:lnTo>
                          <a:pt x="136" y="1195"/>
                        </a:lnTo>
                        <a:lnTo>
                          <a:pt x="119" y="1331"/>
                        </a:lnTo>
                        <a:lnTo>
                          <a:pt x="92" y="1446"/>
                        </a:lnTo>
                        <a:lnTo>
                          <a:pt x="61" y="1609"/>
                        </a:lnTo>
                        <a:lnTo>
                          <a:pt x="48" y="1768"/>
                        </a:lnTo>
                        <a:lnTo>
                          <a:pt x="35" y="2010"/>
                        </a:lnTo>
                        <a:lnTo>
                          <a:pt x="39" y="2272"/>
                        </a:lnTo>
                        <a:lnTo>
                          <a:pt x="74" y="2413"/>
                        </a:lnTo>
                        <a:lnTo>
                          <a:pt x="35" y="2391"/>
                        </a:lnTo>
                        <a:lnTo>
                          <a:pt x="0" y="2351"/>
                        </a:lnTo>
                        <a:lnTo>
                          <a:pt x="79" y="2660"/>
                        </a:lnTo>
                        <a:lnTo>
                          <a:pt x="150" y="3012"/>
                        </a:lnTo>
                        <a:lnTo>
                          <a:pt x="225" y="3286"/>
                        </a:lnTo>
                        <a:lnTo>
                          <a:pt x="269" y="3590"/>
                        </a:lnTo>
                        <a:lnTo>
                          <a:pt x="340" y="3921"/>
                        </a:lnTo>
                        <a:lnTo>
                          <a:pt x="397" y="4203"/>
                        </a:lnTo>
                        <a:lnTo>
                          <a:pt x="425" y="4340"/>
                        </a:lnTo>
                        <a:lnTo>
                          <a:pt x="451" y="4203"/>
                        </a:lnTo>
                        <a:lnTo>
                          <a:pt x="482" y="4062"/>
                        </a:lnTo>
                        <a:lnTo>
                          <a:pt x="548" y="3938"/>
                        </a:lnTo>
                        <a:lnTo>
                          <a:pt x="487" y="3938"/>
                        </a:lnTo>
                        <a:lnTo>
                          <a:pt x="425" y="3969"/>
                        </a:lnTo>
                        <a:lnTo>
                          <a:pt x="375" y="3885"/>
                        </a:lnTo>
                        <a:lnTo>
                          <a:pt x="349" y="3784"/>
                        </a:lnTo>
                        <a:lnTo>
                          <a:pt x="322" y="3678"/>
                        </a:lnTo>
                        <a:lnTo>
                          <a:pt x="331" y="3594"/>
                        </a:lnTo>
                        <a:lnTo>
                          <a:pt x="349" y="3493"/>
                        </a:lnTo>
                        <a:lnTo>
                          <a:pt x="358" y="3361"/>
                        </a:lnTo>
                        <a:lnTo>
                          <a:pt x="318" y="3193"/>
                        </a:lnTo>
                        <a:lnTo>
                          <a:pt x="265" y="3043"/>
                        </a:lnTo>
                        <a:lnTo>
                          <a:pt x="261" y="2907"/>
                        </a:lnTo>
                        <a:lnTo>
                          <a:pt x="278" y="2752"/>
                        </a:lnTo>
                        <a:lnTo>
                          <a:pt x="327" y="2580"/>
                        </a:lnTo>
                        <a:lnTo>
                          <a:pt x="362" y="2421"/>
                        </a:lnTo>
                        <a:lnTo>
                          <a:pt x="397" y="2169"/>
                        </a:lnTo>
                        <a:lnTo>
                          <a:pt x="420" y="1935"/>
                        </a:lnTo>
                        <a:lnTo>
                          <a:pt x="442" y="1644"/>
                        </a:lnTo>
                        <a:lnTo>
                          <a:pt x="456" y="1393"/>
                        </a:lnTo>
                        <a:lnTo>
                          <a:pt x="465" y="1186"/>
                        </a:lnTo>
                        <a:lnTo>
                          <a:pt x="451" y="970"/>
                        </a:lnTo>
                        <a:lnTo>
                          <a:pt x="425" y="793"/>
                        </a:lnTo>
                        <a:lnTo>
                          <a:pt x="380" y="630"/>
                        </a:lnTo>
                        <a:lnTo>
                          <a:pt x="380" y="934"/>
                        </a:lnTo>
                        <a:lnTo>
                          <a:pt x="380" y="1142"/>
                        </a:lnTo>
                        <a:lnTo>
                          <a:pt x="371" y="1349"/>
                        </a:lnTo>
                        <a:lnTo>
                          <a:pt x="349" y="1569"/>
                        </a:lnTo>
                        <a:lnTo>
                          <a:pt x="314" y="1794"/>
                        </a:lnTo>
                        <a:lnTo>
                          <a:pt x="292" y="1949"/>
                        </a:lnTo>
                        <a:lnTo>
                          <a:pt x="256" y="2138"/>
                        </a:lnTo>
                        <a:lnTo>
                          <a:pt x="190" y="2391"/>
                        </a:lnTo>
                        <a:lnTo>
                          <a:pt x="127" y="2620"/>
                        </a:lnTo>
                        <a:lnTo>
                          <a:pt x="146" y="2223"/>
                        </a:lnTo>
                        <a:lnTo>
                          <a:pt x="155" y="1993"/>
                        </a:lnTo>
                        <a:lnTo>
                          <a:pt x="146" y="1825"/>
                        </a:lnTo>
                        <a:lnTo>
                          <a:pt x="155" y="1693"/>
                        </a:lnTo>
                        <a:lnTo>
                          <a:pt x="181" y="1565"/>
                        </a:lnTo>
                        <a:lnTo>
                          <a:pt x="212" y="1411"/>
                        </a:lnTo>
                        <a:lnTo>
                          <a:pt x="221" y="1265"/>
                        </a:lnTo>
                        <a:lnTo>
                          <a:pt x="186" y="1142"/>
                        </a:lnTo>
                        <a:lnTo>
                          <a:pt x="159" y="1045"/>
                        </a:lnTo>
                        <a:lnTo>
                          <a:pt x="212" y="798"/>
                        </a:lnTo>
                        <a:lnTo>
                          <a:pt x="243" y="674"/>
                        </a:lnTo>
                        <a:lnTo>
                          <a:pt x="287" y="555"/>
                        </a:lnTo>
                        <a:lnTo>
                          <a:pt x="322" y="418"/>
                        </a:lnTo>
                        <a:lnTo>
                          <a:pt x="349" y="282"/>
                        </a:lnTo>
                        <a:lnTo>
                          <a:pt x="389" y="154"/>
                        </a:lnTo>
                        <a:lnTo>
                          <a:pt x="465" y="8"/>
                        </a:lnTo>
                        <a:lnTo>
                          <a:pt x="442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1436760" y="3284640"/>
                    <a:ext cx="35280" cy="6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98" h="1765">
                        <a:moveTo>
                          <a:pt x="39" y="0"/>
                        </a:moveTo>
                        <a:lnTo>
                          <a:pt x="30" y="242"/>
                        </a:lnTo>
                        <a:lnTo>
                          <a:pt x="30" y="459"/>
                        </a:lnTo>
                        <a:lnTo>
                          <a:pt x="26" y="666"/>
                        </a:lnTo>
                        <a:lnTo>
                          <a:pt x="8" y="962"/>
                        </a:lnTo>
                        <a:lnTo>
                          <a:pt x="0" y="1222"/>
                        </a:lnTo>
                        <a:lnTo>
                          <a:pt x="44" y="1488"/>
                        </a:lnTo>
                        <a:lnTo>
                          <a:pt x="98" y="1765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1328760" y="2849400"/>
                    <a:ext cx="27324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59" h="1708">
                        <a:moveTo>
                          <a:pt x="759" y="0"/>
                        </a:moveTo>
                        <a:lnTo>
                          <a:pt x="702" y="110"/>
                        </a:lnTo>
                        <a:lnTo>
                          <a:pt x="688" y="198"/>
                        </a:lnTo>
                        <a:lnTo>
                          <a:pt x="719" y="295"/>
                        </a:lnTo>
                        <a:lnTo>
                          <a:pt x="741" y="414"/>
                        </a:lnTo>
                        <a:lnTo>
                          <a:pt x="737" y="516"/>
                        </a:lnTo>
                        <a:lnTo>
                          <a:pt x="715" y="627"/>
                        </a:lnTo>
                        <a:lnTo>
                          <a:pt x="666" y="785"/>
                        </a:lnTo>
                        <a:lnTo>
                          <a:pt x="587" y="1010"/>
                        </a:lnTo>
                        <a:lnTo>
                          <a:pt x="499" y="1235"/>
                        </a:lnTo>
                        <a:lnTo>
                          <a:pt x="406" y="1443"/>
                        </a:lnTo>
                        <a:lnTo>
                          <a:pt x="361" y="1554"/>
                        </a:lnTo>
                        <a:lnTo>
                          <a:pt x="326" y="1660"/>
                        </a:lnTo>
                        <a:lnTo>
                          <a:pt x="291" y="1699"/>
                        </a:lnTo>
                        <a:lnTo>
                          <a:pt x="229" y="1708"/>
                        </a:lnTo>
                        <a:lnTo>
                          <a:pt x="176" y="1682"/>
                        </a:lnTo>
                        <a:lnTo>
                          <a:pt x="132" y="1624"/>
                        </a:lnTo>
                        <a:lnTo>
                          <a:pt x="74" y="1536"/>
                        </a:lnTo>
                        <a:lnTo>
                          <a:pt x="22" y="1417"/>
                        </a:lnTo>
                        <a:lnTo>
                          <a:pt x="0" y="1311"/>
                        </a:lnTo>
                        <a:lnTo>
                          <a:pt x="13" y="1187"/>
                        </a:lnTo>
                        <a:lnTo>
                          <a:pt x="61" y="1298"/>
                        </a:lnTo>
                        <a:lnTo>
                          <a:pt x="101" y="1377"/>
                        </a:lnTo>
                        <a:lnTo>
                          <a:pt x="149" y="1435"/>
                        </a:lnTo>
                        <a:lnTo>
                          <a:pt x="211" y="1470"/>
                        </a:lnTo>
                        <a:lnTo>
                          <a:pt x="255" y="1373"/>
                        </a:lnTo>
                        <a:lnTo>
                          <a:pt x="304" y="1244"/>
                        </a:lnTo>
                        <a:lnTo>
                          <a:pt x="374" y="1076"/>
                        </a:lnTo>
                        <a:lnTo>
                          <a:pt x="459" y="931"/>
                        </a:lnTo>
                        <a:lnTo>
                          <a:pt x="521" y="812"/>
                        </a:lnTo>
                        <a:lnTo>
                          <a:pt x="561" y="688"/>
                        </a:lnTo>
                        <a:lnTo>
                          <a:pt x="622" y="477"/>
                        </a:lnTo>
                        <a:lnTo>
                          <a:pt x="587" y="366"/>
                        </a:lnTo>
                        <a:lnTo>
                          <a:pt x="600" y="268"/>
                        </a:lnTo>
                        <a:lnTo>
                          <a:pt x="609" y="176"/>
                        </a:lnTo>
                        <a:lnTo>
                          <a:pt x="662" y="83"/>
                        </a:lnTo>
                        <a:lnTo>
                          <a:pt x="759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779400" y="2197080"/>
                    <a:ext cx="271800" cy="68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55" h="1910">
                        <a:moveTo>
                          <a:pt x="277" y="0"/>
                        </a:moveTo>
                        <a:lnTo>
                          <a:pt x="264" y="286"/>
                        </a:lnTo>
                        <a:lnTo>
                          <a:pt x="229" y="630"/>
                        </a:lnTo>
                        <a:lnTo>
                          <a:pt x="255" y="776"/>
                        </a:lnTo>
                        <a:lnTo>
                          <a:pt x="238" y="957"/>
                        </a:lnTo>
                        <a:lnTo>
                          <a:pt x="242" y="1191"/>
                        </a:lnTo>
                        <a:lnTo>
                          <a:pt x="233" y="1372"/>
                        </a:lnTo>
                        <a:lnTo>
                          <a:pt x="0" y="1257"/>
                        </a:lnTo>
                        <a:lnTo>
                          <a:pt x="30" y="1337"/>
                        </a:lnTo>
                        <a:lnTo>
                          <a:pt x="70" y="1403"/>
                        </a:lnTo>
                        <a:lnTo>
                          <a:pt x="132" y="1465"/>
                        </a:lnTo>
                        <a:lnTo>
                          <a:pt x="189" y="1500"/>
                        </a:lnTo>
                        <a:lnTo>
                          <a:pt x="264" y="1517"/>
                        </a:lnTo>
                        <a:lnTo>
                          <a:pt x="224" y="1575"/>
                        </a:lnTo>
                        <a:lnTo>
                          <a:pt x="180" y="1623"/>
                        </a:lnTo>
                        <a:lnTo>
                          <a:pt x="110" y="1681"/>
                        </a:lnTo>
                        <a:lnTo>
                          <a:pt x="0" y="1742"/>
                        </a:lnTo>
                        <a:lnTo>
                          <a:pt x="97" y="1725"/>
                        </a:lnTo>
                        <a:lnTo>
                          <a:pt x="171" y="1698"/>
                        </a:lnTo>
                        <a:lnTo>
                          <a:pt x="238" y="1667"/>
                        </a:lnTo>
                        <a:lnTo>
                          <a:pt x="264" y="1628"/>
                        </a:lnTo>
                        <a:lnTo>
                          <a:pt x="339" y="1637"/>
                        </a:lnTo>
                        <a:lnTo>
                          <a:pt x="282" y="1738"/>
                        </a:lnTo>
                        <a:lnTo>
                          <a:pt x="216" y="1808"/>
                        </a:lnTo>
                        <a:lnTo>
                          <a:pt x="149" y="1910"/>
                        </a:lnTo>
                        <a:lnTo>
                          <a:pt x="260" y="1822"/>
                        </a:lnTo>
                        <a:lnTo>
                          <a:pt x="326" y="1756"/>
                        </a:lnTo>
                        <a:lnTo>
                          <a:pt x="411" y="1667"/>
                        </a:lnTo>
                        <a:lnTo>
                          <a:pt x="494" y="1681"/>
                        </a:lnTo>
                        <a:lnTo>
                          <a:pt x="618" y="1698"/>
                        </a:lnTo>
                        <a:lnTo>
                          <a:pt x="755" y="1734"/>
                        </a:lnTo>
                        <a:lnTo>
                          <a:pt x="640" y="1606"/>
                        </a:lnTo>
                        <a:lnTo>
                          <a:pt x="569" y="1460"/>
                        </a:lnTo>
                        <a:lnTo>
                          <a:pt x="534" y="1231"/>
                        </a:lnTo>
                        <a:lnTo>
                          <a:pt x="433" y="917"/>
                        </a:lnTo>
                        <a:lnTo>
                          <a:pt x="481" y="714"/>
                        </a:lnTo>
                        <a:lnTo>
                          <a:pt x="490" y="551"/>
                        </a:lnTo>
                        <a:lnTo>
                          <a:pt x="450" y="396"/>
                        </a:lnTo>
                        <a:lnTo>
                          <a:pt x="384" y="242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74720" y="2193840"/>
                    <a:ext cx="11484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319" h="1500">
                        <a:moveTo>
                          <a:pt x="74" y="0"/>
                        </a:moveTo>
                        <a:lnTo>
                          <a:pt x="98" y="97"/>
                        </a:lnTo>
                        <a:lnTo>
                          <a:pt x="124" y="211"/>
                        </a:lnTo>
                        <a:lnTo>
                          <a:pt x="120" y="335"/>
                        </a:lnTo>
                        <a:lnTo>
                          <a:pt x="181" y="405"/>
                        </a:lnTo>
                        <a:lnTo>
                          <a:pt x="240" y="511"/>
                        </a:lnTo>
                        <a:lnTo>
                          <a:pt x="279" y="648"/>
                        </a:lnTo>
                        <a:lnTo>
                          <a:pt x="315" y="803"/>
                        </a:lnTo>
                        <a:lnTo>
                          <a:pt x="319" y="944"/>
                        </a:lnTo>
                        <a:lnTo>
                          <a:pt x="310" y="1134"/>
                        </a:lnTo>
                        <a:lnTo>
                          <a:pt x="301" y="1315"/>
                        </a:lnTo>
                        <a:lnTo>
                          <a:pt x="279" y="1500"/>
                        </a:lnTo>
                        <a:lnTo>
                          <a:pt x="155" y="1438"/>
                        </a:lnTo>
                        <a:lnTo>
                          <a:pt x="106" y="1381"/>
                        </a:lnTo>
                        <a:lnTo>
                          <a:pt x="39" y="1306"/>
                        </a:lnTo>
                        <a:lnTo>
                          <a:pt x="0" y="1231"/>
                        </a:lnTo>
                        <a:lnTo>
                          <a:pt x="89" y="1271"/>
                        </a:lnTo>
                        <a:lnTo>
                          <a:pt x="172" y="1319"/>
                        </a:lnTo>
                        <a:lnTo>
                          <a:pt x="225" y="1376"/>
                        </a:lnTo>
                        <a:lnTo>
                          <a:pt x="230" y="1262"/>
                        </a:lnTo>
                        <a:lnTo>
                          <a:pt x="240" y="1129"/>
                        </a:lnTo>
                        <a:lnTo>
                          <a:pt x="248" y="909"/>
                        </a:lnTo>
                        <a:lnTo>
                          <a:pt x="248" y="740"/>
                        </a:lnTo>
                        <a:lnTo>
                          <a:pt x="199" y="577"/>
                        </a:lnTo>
                        <a:lnTo>
                          <a:pt x="146" y="458"/>
                        </a:lnTo>
                        <a:lnTo>
                          <a:pt x="89" y="330"/>
                        </a:lnTo>
                        <a:lnTo>
                          <a:pt x="70" y="216"/>
                        </a:lnTo>
                        <a:lnTo>
                          <a:pt x="74" y="101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673200" y="2570040"/>
                    <a:ext cx="116280" cy="30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861">
                        <a:moveTo>
                          <a:pt x="133" y="0"/>
                        </a:moveTo>
                        <a:lnTo>
                          <a:pt x="199" y="141"/>
                        </a:lnTo>
                        <a:lnTo>
                          <a:pt x="234" y="230"/>
                        </a:lnTo>
                        <a:lnTo>
                          <a:pt x="257" y="322"/>
                        </a:lnTo>
                        <a:lnTo>
                          <a:pt x="306" y="481"/>
                        </a:lnTo>
                        <a:lnTo>
                          <a:pt x="323" y="618"/>
                        </a:lnTo>
                        <a:lnTo>
                          <a:pt x="315" y="734"/>
                        </a:lnTo>
                        <a:lnTo>
                          <a:pt x="275" y="826"/>
                        </a:lnTo>
                        <a:lnTo>
                          <a:pt x="212" y="861"/>
                        </a:lnTo>
                        <a:lnTo>
                          <a:pt x="133" y="853"/>
                        </a:lnTo>
                        <a:lnTo>
                          <a:pt x="74" y="808"/>
                        </a:lnTo>
                        <a:lnTo>
                          <a:pt x="26" y="698"/>
                        </a:lnTo>
                        <a:lnTo>
                          <a:pt x="0" y="596"/>
                        </a:lnTo>
                        <a:lnTo>
                          <a:pt x="0" y="464"/>
                        </a:lnTo>
                        <a:lnTo>
                          <a:pt x="30" y="552"/>
                        </a:lnTo>
                        <a:lnTo>
                          <a:pt x="74" y="622"/>
                        </a:lnTo>
                        <a:lnTo>
                          <a:pt x="115" y="640"/>
                        </a:lnTo>
                        <a:lnTo>
                          <a:pt x="155" y="609"/>
                        </a:lnTo>
                        <a:lnTo>
                          <a:pt x="172" y="543"/>
                        </a:lnTo>
                        <a:lnTo>
                          <a:pt x="181" y="419"/>
                        </a:lnTo>
                        <a:lnTo>
                          <a:pt x="181" y="309"/>
                        </a:lnTo>
                        <a:lnTo>
                          <a:pt x="155" y="180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66880" y="3002040"/>
                    <a:ext cx="430560" cy="932400"/>
                  </a:xfrm>
                  <a:custGeom>
                    <a:avLst/>
                    <a:gdLst/>
                    <a:ahLst/>
                    <a:rect l="0" t="0" r="r" b="b"/>
                    <a:pathLst>
                      <a:path w="1196" h="2590">
                        <a:moveTo>
                          <a:pt x="1196" y="83"/>
                        </a:moveTo>
                        <a:lnTo>
                          <a:pt x="1068" y="176"/>
                        </a:lnTo>
                        <a:lnTo>
                          <a:pt x="966" y="242"/>
                        </a:lnTo>
                        <a:lnTo>
                          <a:pt x="869" y="330"/>
                        </a:lnTo>
                        <a:lnTo>
                          <a:pt x="763" y="432"/>
                        </a:lnTo>
                        <a:lnTo>
                          <a:pt x="644" y="568"/>
                        </a:lnTo>
                        <a:lnTo>
                          <a:pt x="537" y="666"/>
                        </a:lnTo>
                        <a:lnTo>
                          <a:pt x="471" y="759"/>
                        </a:lnTo>
                        <a:lnTo>
                          <a:pt x="432" y="874"/>
                        </a:lnTo>
                        <a:lnTo>
                          <a:pt x="476" y="1002"/>
                        </a:lnTo>
                        <a:lnTo>
                          <a:pt x="533" y="1129"/>
                        </a:lnTo>
                        <a:lnTo>
                          <a:pt x="636" y="1284"/>
                        </a:lnTo>
                        <a:lnTo>
                          <a:pt x="693" y="1425"/>
                        </a:lnTo>
                        <a:lnTo>
                          <a:pt x="777" y="1628"/>
                        </a:lnTo>
                        <a:lnTo>
                          <a:pt x="838" y="1804"/>
                        </a:lnTo>
                        <a:lnTo>
                          <a:pt x="878" y="1986"/>
                        </a:lnTo>
                        <a:lnTo>
                          <a:pt x="949" y="2092"/>
                        </a:lnTo>
                        <a:lnTo>
                          <a:pt x="1037" y="2246"/>
                        </a:lnTo>
                        <a:lnTo>
                          <a:pt x="1099" y="2392"/>
                        </a:lnTo>
                        <a:lnTo>
                          <a:pt x="1151" y="2546"/>
                        </a:lnTo>
                        <a:lnTo>
                          <a:pt x="878" y="2537"/>
                        </a:lnTo>
                        <a:lnTo>
                          <a:pt x="658" y="2550"/>
                        </a:lnTo>
                        <a:lnTo>
                          <a:pt x="485" y="2564"/>
                        </a:lnTo>
                        <a:lnTo>
                          <a:pt x="335" y="2586"/>
                        </a:lnTo>
                        <a:lnTo>
                          <a:pt x="224" y="2590"/>
                        </a:lnTo>
                        <a:lnTo>
                          <a:pt x="149" y="2572"/>
                        </a:lnTo>
                        <a:lnTo>
                          <a:pt x="74" y="2541"/>
                        </a:lnTo>
                        <a:lnTo>
                          <a:pt x="0" y="2497"/>
                        </a:lnTo>
                        <a:lnTo>
                          <a:pt x="30" y="2083"/>
                        </a:lnTo>
                        <a:lnTo>
                          <a:pt x="79" y="1601"/>
                        </a:lnTo>
                        <a:lnTo>
                          <a:pt x="149" y="1010"/>
                        </a:lnTo>
                        <a:lnTo>
                          <a:pt x="216" y="582"/>
                        </a:lnTo>
                        <a:lnTo>
                          <a:pt x="330" y="198"/>
                        </a:lnTo>
                        <a:lnTo>
                          <a:pt x="396" y="145"/>
                        </a:lnTo>
                        <a:lnTo>
                          <a:pt x="560" y="141"/>
                        </a:lnTo>
                        <a:lnTo>
                          <a:pt x="582" y="0"/>
                        </a:lnTo>
                        <a:lnTo>
                          <a:pt x="759" y="13"/>
                        </a:lnTo>
                        <a:lnTo>
                          <a:pt x="852" y="39"/>
                        </a:lnTo>
                        <a:lnTo>
                          <a:pt x="1196" y="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2" name=""/>
                  <p:cNvGrpSpPr/>
                  <p:nvPr/>
                </p:nvGrpSpPr>
                <p:grpSpPr>
                  <a:xfrm>
                    <a:off x="1488960" y="3397320"/>
                    <a:ext cx="278280" cy="57600"/>
                    <a:chOff x="1488960" y="3397320"/>
                    <a:chExt cx="278280" cy="57600"/>
                  </a:xfrm>
                </p:grpSpPr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1488960" y="3397320"/>
                      <a:ext cx="278280" cy="57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73" h="160">
                          <a:moveTo>
                            <a:pt x="773" y="49"/>
                          </a:moveTo>
                          <a:lnTo>
                            <a:pt x="764" y="160"/>
                          </a:lnTo>
                          <a:lnTo>
                            <a:pt x="641" y="147"/>
                          </a:lnTo>
                          <a:lnTo>
                            <a:pt x="499" y="121"/>
                          </a:lnTo>
                          <a:lnTo>
                            <a:pt x="353" y="115"/>
                          </a:lnTo>
                          <a:lnTo>
                            <a:pt x="208" y="111"/>
                          </a:lnTo>
                          <a:lnTo>
                            <a:pt x="26" y="129"/>
                          </a:lnTo>
                          <a:lnTo>
                            <a:pt x="0" y="22"/>
                          </a:lnTo>
                          <a:lnTo>
                            <a:pt x="158" y="0"/>
                          </a:lnTo>
                          <a:lnTo>
                            <a:pt x="336" y="4"/>
                          </a:lnTo>
                          <a:lnTo>
                            <a:pt x="450" y="8"/>
                          </a:lnTo>
                          <a:lnTo>
                            <a:pt x="619" y="22"/>
                          </a:lnTo>
                          <a:lnTo>
                            <a:pt x="773" y="4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1508040" y="3416400"/>
                      <a:ext cx="23544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54" h="80">
                          <a:moveTo>
                            <a:pt x="654" y="80"/>
                          </a:moveTo>
                          <a:lnTo>
                            <a:pt x="504" y="35"/>
                          </a:lnTo>
                          <a:lnTo>
                            <a:pt x="340" y="0"/>
                          </a:lnTo>
                          <a:lnTo>
                            <a:pt x="172" y="4"/>
                          </a:lnTo>
                          <a:lnTo>
                            <a:pt x="0" y="26"/>
                          </a:lnTo>
                          <a:lnTo>
                            <a:pt x="654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5" name=""/>
                  <p:cNvGrpSpPr/>
                  <p:nvPr/>
                </p:nvGrpSpPr>
                <p:grpSpPr>
                  <a:xfrm>
                    <a:off x="912960" y="3409920"/>
                    <a:ext cx="200520" cy="52920"/>
                    <a:chOff x="912960" y="3409920"/>
                    <a:chExt cx="200520" cy="52920"/>
                  </a:xfrm>
                </p:grpSpPr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912960" y="3409920"/>
                      <a:ext cx="200520" cy="52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57" h="147">
                          <a:moveTo>
                            <a:pt x="0" y="89"/>
                          </a:moveTo>
                          <a:lnTo>
                            <a:pt x="155" y="89"/>
                          </a:lnTo>
                          <a:lnTo>
                            <a:pt x="340" y="116"/>
                          </a:lnTo>
                          <a:lnTo>
                            <a:pt x="553" y="147"/>
                          </a:lnTo>
                          <a:lnTo>
                            <a:pt x="557" y="75"/>
                          </a:lnTo>
                          <a:lnTo>
                            <a:pt x="456" y="45"/>
                          </a:lnTo>
                          <a:lnTo>
                            <a:pt x="314" y="17"/>
                          </a:lnTo>
                          <a:lnTo>
                            <a:pt x="159" y="0"/>
                          </a:lnTo>
                          <a:lnTo>
                            <a:pt x="0" y="4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927000" y="3424320"/>
                      <a:ext cx="17352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82" h="80">
                          <a:moveTo>
                            <a:pt x="482" y="80"/>
                          </a:moveTo>
                          <a:lnTo>
                            <a:pt x="292" y="39"/>
                          </a:lnTo>
                          <a:lnTo>
                            <a:pt x="105" y="0"/>
                          </a:lnTo>
                          <a:lnTo>
                            <a:pt x="0" y="8"/>
                          </a:lnTo>
                          <a:lnTo>
                            <a:pt x="482" y="8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984240" y="1959120"/>
                  <a:ext cx="622800" cy="1357560"/>
                  <a:chOff x="984240" y="1959120"/>
                  <a:chExt cx="622800" cy="13575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>
                    <a:off x="1292400" y="1986120"/>
                    <a:ext cx="314640" cy="867240"/>
                  </a:xfrm>
                  <a:custGeom>
                    <a:avLst/>
                    <a:gdLst/>
                    <a:ahLst/>
                    <a:rect l="0" t="0" r="r" b="b"/>
                    <a:pathLst>
                      <a:path w="874" h="2409">
                        <a:moveTo>
                          <a:pt x="684" y="0"/>
                        </a:moveTo>
                        <a:lnTo>
                          <a:pt x="733" y="66"/>
                        </a:lnTo>
                        <a:lnTo>
                          <a:pt x="772" y="141"/>
                        </a:lnTo>
                        <a:lnTo>
                          <a:pt x="816" y="216"/>
                        </a:lnTo>
                        <a:lnTo>
                          <a:pt x="812" y="335"/>
                        </a:lnTo>
                        <a:lnTo>
                          <a:pt x="816" y="463"/>
                        </a:lnTo>
                        <a:lnTo>
                          <a:pt x="843" y="564"/>
                        </a:lnTo>
                        <a:lnTo>
                          <a:pt x="874" y="649"/>
                        </a:lnTo>
                        <a:lnTo>
                          <a:pt x="768" y="706"/>
                        </a:lnTo>
                        <a:lnTo>
                          <a:pt x="658" y="794"/>
                        </a:lnTo>
                        <a:lnTo>
                          <a:pt x="843" y="750"/>
                        </a:lnTo>
                        <a:lnTo>
                          <a:pt x="812" y="869"/>
                        </a:lnTo>
                        <a:lnTo>
                          <a:pt x="741" y="1209"/>
                        </a:lnTo>
                        <a:lnTo>
                          <a:pt x="666" y="1398"/>
                        </a:lnTo>
                        <a:lnTo>
                          <a:pt x="521" y="1685"/>
                        </a:lnTo>
                        <a:lnTo>
                          <a:pt x="388" y="1920"/>
                        </a:lnTo>
                        <a:lnTo>
                          <a:pt x="220" y="2158"/>
                        </a:lnTo>
                        <a:lnTo>
                          <a:pt x="0" y="2409"/>
                        </a:lnTo>
                        <a:lnTo>
                          <a:pt x="30" y="1999"/>
                        </a:lnTo>
                        <a:lnTo>
                          <a:pt x="198" y="1531"/>
                        </a:lnTo>
                        <a:lnTo>
                          <a:pt x="335" y="1063"/>
                        </a:lnTo>
                        <a:lnTo>
                          <a:pt x="508" y="573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282680" y="1973160"/>
                    <a:ext cx="319320" cy="868680"/>
                  </a:xfrm>
                  <a:custGeom>
                    <a:avLst/>
                    <a:gdLst/>
                    <a:ahLst/>
                    <a:rect l="0" t="0" r="r" b="b"/>
                    <a:pathLst>
                      <a:path w="887" h="2413">
                        <a:moveTo>
                          <a:pt x="688" y="0"/>
                        </a:moveTo>
                        <a:lnTo>
                          <a:pt x="733" y="66"/>
                        </a:lnTo>
                        <a:lnTo>
                          <a:pt x="777" y="141"/>
                        </a:lnTo>
                        <a:lnTo>
                          <a:pt x="821" y="216"/>
                        </a:lnTo>
                        <a:lnTo>
                          <a:pt x="825" y="343"/>
                        </a:lnTo>
                        <a:lnTo>
                          <a:pt x="816" y="467"/>
                        </a:lnTo>
                        <a:lnTo>
                          <a:pt x="856" y="568"/>
                        </a:lnTo>
                        <a:lnTo>
                          <a:pt x="887" y="652"/>
                        </a:lnTo>
                        <a:lnTo>
                          <a:pt x="772" y="723"/>
                        </a:lnTo>
                        <a:lnTo>
                          <a:pt x="666" y="802"/>
                        </a:lnTo>
                        <a:lnTo>
                          <a:pt x="847" y="749"/>
                        </a:lnTo>
                        <a:lnTo>
                          <a:pt x="816" y="873"/>
                        </a:lnTo>
                        <a:lnTo>
                          <a:pt x="741" y="1213"/>
                        </a:lnTo>
                        <a:lnTo>
                          <a:pt x="675" y="1403"/>
                        </a:lnTo>
                        <a:lnTo>
                          <a:pt x="530" y="1698"/>
                        </a:lnTo>
                        <a:lnTo>
                          <a:pt x="388" y="1936"/>
                        </a:lnTo>
                        <a:lnTo>
                          <a:pt x="220" y="2161"/>
                        </a:lnTo>
                        <a:lnTo>
                          <a:pt x="0" y="2413"/>
                        </a:lnTo>
                        <a:lnTo>
                          <a:pt x="35" y="2007"/>
                        </a:lnTo>
                        <a:lnTo>
                          <a:pt x="198" y="1522"/>
                        </a:lnTo>
                        <a:lnTo>
                          <a:pt x="339" y="1062"/>
                        </a:lnTo>
                        <a:lnTo>
                          <a:pt x="516" y="582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984240" y="1990800"/>
                    <a:ext cx="473400" cy="13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15" h="3683">
                        <a:moveTo>
                          <a:pt x="1266" y="3683"/>
                        </a:moveTo>
                        <a:lnTo>
                          <a:pt x="1222" y="3559"/>
                        </a:lnTo>
                        <a:lnTo>
                          <a:pt x="1200" y="3480"/>
                        </a:lnTo>
                        <a:lnTo>
                          <a:pt x="1143" y="3400"/>
                        </a:lnTo>
                        <a:lnTo>
                          <a:pt x="1054" y="3303"/>
                        </a:lnTo>
                        <a:lnTo>
                          <a:pt x="887" y="3065"/>
                        </a:lnTo>
                        <a:lnTo>
                          <a:pt x="706" y="2677"/>
                        </a:lnTo>
                        <a:lnTo>
                          <a:pt x="551" y="2294"/>
                        </a:lnTo>
                        <a:lnTo>
                          <a:pt x="361" y="1763"/>
                        </a:lnTo>
                        <a:lnTo>
                          <a:pt x="282" y="1508"/>
                        </a:lnTo>
                        <a:lnTo>
                          <a:pt x="198" y="1181"/>
                        </a:lnTo>
                        <a:lnTo>
                          <a:pt x="132" y="824"/>
                        </a:lnTo>
                        <a:lnTo>
                          <a:pt x="101" y="718"/>
                        </a:lnTo>
                        <a:lnTo>
                          <a:pt x="70" y="626"/>
                        </a:lnTo>
                        <a:lnTo>
                          <a:pt x="198" y="643"/>
                        </a:lnTo>
                        <a:lnTo>
                          <a:pt x="110" y="555"/>
                        </a:lnTo>
                        <a:lnTo>
                          <a:pt x="0" y="493"/>
                        </a:lnTo>
                        <a:lnTo>
                          <a:pt x="185" y="374"/>
                        </a:lnTo>
                        <a:lnTo>
                          <a:pt x="313" y="255"/>
                        </a:lnTo>
                        <a:lnTo>
                          <a:pt x="405" y="149"/>
                        </a:lnTo>
                        <a:lnTo>
                          <a:pt x="520" y="101"/>
                        </a:lnTo>
                        <a:lnTo>
                          <a:pt x="612" y="4"/>
                        </a:lnTo>
                        <a:lnTo>
                          <a:pt x="639" y="0"/>
                        </a:lnTo>
                        <a:lnTo>
                          <a:pt x="582" y="171"/>
                        </a:lnTo>
                        <a:lnTo>
                          <a:pt x="537" y="321"/>
                        </a:lnTo>
                        <a:lnTo>
                          <a:pt x="537" y="630"/>
                        </a:lnTo>
                        <a:lnTo>
                          <a:pt x="621" y="1045"/>
                        </a:lnTo>
                        <a:lnTo>
                          <a:pt x="688" y="1371"/>
                        </a:lnTo>
                        <a:lnTo>
                          <a:pt x="781" y="1799"/>
                        </a:lnTo>
                        <a:lnTo>
                          <a:pt x="891" y="2214"/>
                        </a:lnTo>
                        <a:lnTo>
                          <a:pt x="1028" y="2730"/>
                        </a:lnTo>
                        <a:lnTo>
                          <a:pt x="1134" y="3105"/>
                        </a:lnTo>
                        <a:lnTo>
                          <a:pt x="1209" y="3334"/>
                        </a:lnTo>
                        <a:lnTo>
                          <a:pt x="1244" y="3484"/>
                        </a:lnTo>
                        <a:lnTo>
                          <a:pt x="1315" y="3625"/>
                        </a:lnTo>
                        <a:lnTo>
                          <a:pt x="1266" y="368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996840" y="1959120"/>
                    <a:ext cx="452880" cy="1349640"/>
                  </a:xfrm>
                  <a:custGeom>
                    <a:avLst/>
                    <a:gdLst/>
                    <a:ahLst/>
                    <a:rect l="0" t="0" r="r" b="b"/>
                    <a:pathLst>
                      <a:path w="1258" h="3749">
                        <a:moveTo>
                          <a:pt x="1236" y="3749"/>
                        </a:moveTo>
                        <a:lnTo>
                          <a:pt x="1227" y="3639"/>
                        </a:lnTo>
                        <a:lnTo>
                          <a:pt x="1197" y="3555"/>
                        </a:lnTo>
                        <a:lnTo>
                          <a:pt x="1144" y="3480"/>
                        </a:lnTo>
                        <a:lnTo>
                          <a:pt x="1060" y="3378"/>
                        </a:lnTo>
                        <a:lnTo>
                          <a:pt x="882" y="3140"/>
                        </a:lnTo>
                        <a:lnTo>
                          <a:pt x="706" y="2761"/>
                        </a:lnTo>
                        <a:lnTo>
                          <a:pt x="552" y="2364"/>
                        </a:lnTo>
                        <a:lnTo>
                          <a:pt x="362" y="1843"/>
                        </a:lnTo>
                        <a:lnTo>
                          <a:pt x="277" y="1578"/>
                        </a:lnTo>
                        <a:lnTo>
                          <a:pt x="194" y="1261"/>
                        </a:lnTo>
                        <a:lnTo>
                          <a:pt x="127" y="899"/>
                        </a:lnTo>
                        <a:lnTo>
                          <a:pt x="101" y="793"/>
                        </a:lnTo>
                        <a:lnTo>
                          <a:pt x="66" y="696"/>
                        </a:lnTo>
                        <a:lnTo>
                          <a:pt x="189" y="714"/>
                        </a:lnTo>
                        <a:lnTo>
                          <a:pt x="101" y="635"/>
                        </a:lnTo>
                        <a:lnTo>
                          <a:pt x="0" y="568"/>
                        </a:lnTo>
                        <a:lnTo>
                          <a:pt x="176" y="454"/>
                        </a:lnTo>
                        <a:lnTo>
                          <a:pt x="304" y="330"/>
                        </a:lnTo>
                        <a:lnTo>
                          <a:pt x="402" y="233"/>
                        </a:lnTo>
                        <a:lnTo>
                          <a:pt x="499" y="127"/>
                        </a:lnTo>
                        <a:lnTo>
                          <a:pt x="609" y="44"/>
                        </a:lnTo>
                        <a:lnTo>
                          <a:pt x="675" y="0"/>
                        </a:lnTo>
                        <a:lnTo>
                          <a:pt x="636" y="74"/>
                        </a:lnTo>
                        <a:lnTo>
                          <a:pt x="583" y="251"/>
                        </a:lnTo>
                        <a:lnTo>
                          <a:pt x="530" y="388"/>
                        </a:lnTo>
                        <a:lnTo>
                          <a:pt x="534" y="701"/>
                        </a:lnTo>
                        <a:lnTo>
                          <a:pt x="618" y="1120"/>
                        </a:lnTo>
                        <a:lnTo>
                          <a:pt x="693" y="1450"/>
                        </a:lnTo>
                        <a:lnTo>
                          <a:pt x="781" y="1879"/>
                        </a:lnTo>
                        <a:lnTo>
                          <a:pt x="887" y="2285"/>
                        </a:lnTo>
                        <a:lnTo>
                          <a:pt x="1042" y="2809"/>
                        </a:lnTo>
                        <a:lnTo>
                          <a:pt x="1126" y="3189"/>
                        </a:lnTo>
                        <a:lnTo>
                          <a:pt x="1210" y="3414"/>
                        </a:lnTo>
                        <a:lnTo>
                          <a:pt x="1241" y="3564"/>
                        </a:lnTo>
                        <a:lnTo>
                          <a:pt x="1258" y="3652"/>
                        </a:lnTo>
                        <a:lnTo>
                          <a:pt x="1236" y="3749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1295280" y="2643120"/>
                    <a:ext cx="3996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51">
                        <a:moveTo>
                          <a:pt x="58" y="0"/>
                        </a:moveTo>
                        <a:lnTo>
                          <a:pt x="26" y="52"/>
                        </a:lnTo>
                        <a:lnTo>
                          <a:pt x="13" y="120"/>
                        </a:lnTo>
                        <a:lnTo>
                          <a:pt x="0" y="146"/>
                        </a:lnTo>
                        <a:lnTo>
                          <a:pt x="13" y="221"/>
                        </a:lnTo>
                        <a:lnTo>
                          <a:pt x="35" y="322"/>
                        </a:lnTo>
                        <a:lnTo>
                          <a:pt x="80" y="451"/>
                        </a:lnTo>
                        <a:lnTo>
                          <a:pt x="89" y="368"/>
                        </a:lnTo>
                        <a:lnTo>
                          <a:pt x="89" y="287"/>
                        </a:lnTo>
                        <a:lnTo>
                          <a:pt x="111" y="177"/>
                        </a:lnTo>
                        <a:lnTo>
                          <a:pt x="84" y="79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4" name=""/>
              <p:cNvGrpSpPr/>
              <p:nvPr/>
            </p:nvGrpSpPr>
            <p:grpSpPr>
              <a:xfrm>
                <a:off x="1379520" y="2706840"/>
                <a:ext cx="233280" cy="749160"/>
                <a:chOff x="1379520" y="2706840"/>
                <a:chExt cx="233280" cy="749160"/>
              </a:xfrm>
            </p:grpSpPr>
            <p:grpSp>
              <p:nvGrpSpPr>
                <p:cNvPr id="1165" name=""/>
                <p:cNvGrpSpPr/>
                <p:nvPr/>
              </p:nvGrpSpPr>
              <p:grpSpPr>
                <a:xfrm>
                  <a:off x="1379520" y="2706840"/>
                  <a:ext cx="233280" cy="749160"/>
                  <a:chOff x="1379520" y="2706840"/>
                  <a:chExt cx="233280" cy="749160"/>
                </a:xfrm>
              </p:grpSpPr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1379520" y="2708280"/>
                    <a:ext cx="222120" cy="747720"/>
                    <a:chOff x="1379520" y="2708280"/>
                    <a:chExt cx="222120" cy="74772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1554120" y="2708280"/>
                      <a:ext cx="4752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1484280" y="303516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1379520" y="3397320"/>
                      <a:ext cx="540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1390680" y="2706840"/>
                    <a:ext cx="222120" cy="747360"/>
                    <a:chOff x="1390680" y="2706840"/>
                    <a:chExt cx="222120" cy="74736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1566720" y="2706840"/>
                      <a:ext cx="4608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1495440" y="3033720"/>
                      <a:ext cx="41400" cy="651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1390680" y="3395520"/>
                      <a:ext cx="5544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1386000" y="2708280"/>
                    <a:ext cx="220320" cy="746280"/>
                    <a:chOff x="1386000" y="2708280"/>
                    <a:chExt cx="220320" cy="74628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1562040" y="2708280"/>
                      <a:ext cx="44280" cy="6336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1490760" y="3033720"/>
                      <a:ext cx="41400" cy="666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1386000" y="3397320"/>
                      <a:ext cx="554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txBody>
                    <a:bodyPr lIns="90000" rIns="90000" tIns="12240" bIns="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1411200" y="2743200"/>
                  <a:ext cx="186120" cy="708480"/>
                  <a:chOff x="1411200" y="2743200"/>
                  <a:chExt cx="186120" cy="70848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1411200" y="3427560"/>
                    <a:ext cx="2268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67">
                        <a:moveTo>
                          <a:pt x="0" y="67"/>
                        </a:moveTo>
                        <a:lnTo>
                          <a:pt x="63" y="67"/>
                        </a:lnTo>
                        <a:lnTo>
                          <a:pt x="63" y="67"/>
                        </a:lnTo>
                        <a:cubicBezTo>
                          <a:pt x="63" y="55"/>
                          <a:pt x="60" y="44"/>
                          <a:pt x="55" y="34"/>
                        </a:cubicBezTo>
                        <a:cubicBezTo>
                          <a:pt x="49" y="24"/>
                          <a:pt x="41" y="15"/>
                          <a:pt x="32" y="9"/>
                        </a:cubicBezTo>
                        <a:cubicBezTo>
                          <a:pt x="23" y="4"/>
                          <a:pt x="14" y="1"/>
                          <a:pt x="4" y="0"/>
                        </a:cubicBezTo>
                        <a:lnTo>
                          <a:pt x="0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577880" y="2743200"/>
                    <a:ext cx="1944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3">
                        <a:moveTo>
                          <a:pt x="0" y="63"/>
                        </a:moveTo>
                        <a:lnTo>
                          <a:pt x="54" y="63"/>
                        </a:lnTo>
                        <a:lnTo>
                          <a:pt x="54" y="63"/>
                        </a:lnTo>
                        <a:lnTo>
                          <a:pt x="54" y="63"/>
                        </a:lnTo>
                        <a:cubicBezTo>
                          <a:pt x="54" y="52"/>
                          <a:pt x="52" y="41"/>
                          <a:pt x="47" y="31"/>
                        </a:cubicBezTo>
                        <a:cubicBezTo>
                          <a:pt x="42" y="22"/>
                          <a:pt x="35" y="14"/>
                          <a:pt x="27" y="8"/>
                        </a:cubicBezTo>
                        <a:cubicBezTo>
                          <a:pt x="19" y="3"/>
                          <a:pt x="9" y="0"/>
                          <a:pt x="0" y="0"/>
                        </a:cubicBez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1528920" y="3067200"/>
                    <a:ext cx="19440" cy="2412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67">
                        <a:moveTo>
                          <a:pt x="4" y="67"/>
                        </a:moveTo>
                        <a:lnTo>
                          <a:pt x="54" y="67"/>
                        </a:lnTo>
                        <a:lnTo>
                          <a:pt x="54" y="67"/>
                        </a:lnTo>
                        <a:lnTo>
                          <a:pt x="54" y="67"/>
                        </a:lnTo>
                        <a:cubicBezTo>
                          <a:pt x="54" y="55"/>
                          <a:pt x="52" y="43"/>
                          <a:pt x="47" y="33"/>
                        </a:cubicBezTo>
                        <a:cubicBezTo>
                          <a:pt x="43" y="23"/>
                          <a:pt x="37" y="15"/>
                          <a:pt x="29" y="9"/>
                        </a:cubicBezTo>
                        <a:cubicBezTo>
                          <a:pt x="21" y="3"/>
                          <a:pt x="13" y="0"/>
                          <a:pt x="4" y="0"/>
                        </a:cubicBezTo>
                        <a:cubicBezTo>
                          <a:pt x="3" y="0"/>
                          <a:pt x="1" y="0"/>
                          <a:pt x="0" y="0"/>
                        </a:cubicBezTo>
                        <a:lnTo>
                          <a:pt x="4" y="67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2" name=""/>
            <p:cNvGrpSpPr/>
            <p:nvPr/>
          </p:nvGrpSpPr>
          <p:grpSpPr>
            <a:xfrm>
              <a:off x="969840" y="2766960"/>
              <a:ext cx="475200" cy="295560"/>
              <a:chOff x="969840" y="2766960"/>
              <a:chExt cx="475200" cy="29556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1050840" y="2766960"/>
                <a:ext cx="394200" cy="281520"/>
                <a:chOff x="1050840" y="2766960"/>
                <a:chExt cx="394200" cy="28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050840" y="2766960"/>
                  <a:ext cx="394200" cy="281520"/>
                </a:xfrm>
                <a:custGeom>
                  <a:avLst/>
                  <a:gdLst/>
                  <a:ahLst/>
                  <a:rect l="0" t="0" r="r" b="b"/>
                  <a:pathLst>
                    <a:path w="1095" h="782">
                      <a:moveTo>
                        <a:pt x="66" y="154"/>
                      </a:moveTo>
                      <a:lnTo>
                        <a:pt x="176" y="123"/>
                      </a:lnTo>
                      <a:lnTo>
                        <a:pt x="309" y="83"/>
                      </a:lnTo>
                      <a:lnTo>
                        <a:pt x="419" y="39"/>
                      </a:lnTo>
                      <a:lnTo>
                        <a:pt x="561" y="4"/>
                      </a:lnTo>
                      <a:lnTo>
                        <a:pt x="706" y="0"/>
                      </a:lnTo>
                      <a:lnTo>
                        <a:pt x="759" y="8"/>
                      </a:lnTo>
                      <a:lnTo>
                        <a:pt x="866" y="17"/>
                      </a:lnTo>
                      <a:lnTo>
                        <a:pt x="932" y="39"/>
                      </a:lnTo>
                      <a:lnTo>
                        <a:pt x="980" y="57"/>
                      </a:lnTo>
                      <a:lnTo>
                        <a:pt x="1077" y="52"/>
                      </a:lnTo>
                      <a:lnTo>
                        <a:pt x="1095" y="97"/>
                      </a:lnTo>
                      <a:lnTo>
                        <a:pt x="1086" y="145"/>
                      </a:lnTo>
                      <a:lnTo>
                        <a:pt x="1042" y="180"/>
                      </a:lnTo>
                      <a:lnTo>
                        <a:pt x="994" y="194"/>
                      </a:lnTo>
                      <a:lnTo>
                        <a:pt x="950" y="185"/>
                      </a:lnTo>
                      <a:lnTo>
                        <a:pt x="897" y="185"/>
                      </a:lnTo>
                      <a:lnTo>
                        <a:pt x="919" y="221"/>
                      </a:lnTo>
                      <a:lnTo>
                        <a:pt x="919" y="261"/>
                      </a:lnTo>
                      <a:lnTo>
                        <a:pt x="910" y="296"/>
                      </a:lnTo>
                      <a:lnTo>
                        <a:pt x="923" y="340"/>
                      </a:lnTo>
                      <a:lnTo>
                        <a:pt x="923" y="402"/>
                      </a:lnTo>
                      <a:lnTo>
                        <a:pt x="910" y="450"/>
                      </a:lnTo>
                      <a:lnTo>
                        <a:pt x="879" y="468"/>
                      </a:lnTo>
                      <a:lnTo>
                        <a:pt x="892" y="521"/>
                      </a:lnTo>
                      <a:lnTo>
                        <a:pt x="879" y="565"/>
                      </a:lnTo>
                      <a:lnTo>
                        <a:pt x="816" y="610"/>
                      </a:lnTo>
                      <a:lnTo>
                        <a:pt x="777" y="628"/>
                      </a:lnTo>
                      <a:lnTo>
                        <a:pt x="763" y="659"/>
                      </a:lnTo>
                      <a:lnTo>
                        <a:pt x="759" y="698"/>
                      </a:lnTo>
                      <a:lnTo>
                        <a:pt x="719" y="729"/>
                      </a:lnTo>
                      <a:lnTo>
                        <a:pt x="684" y="756"/>
                      </a:lnTo>
                      <a:lnTo>
                        <a:pt x="613" y="782"/>
                      </a:lnTo>
                      <a:lnTo>
                        <a:pt x="538" y="764"/>
                      </a:lnTo>
                      <a:lnTo>
                        <a:pt x="472" y="756"/>
                      </a:lnTo>
                      <a:lnTo>
                        <a:pt x="402" y="738"/>
                      </a:lnTo>
                      <a:lnTo>
                        <a:pt x="331" y="725"/>
                      </a:lnTo>
                      <a:lnTo>
                        <a:pt x="238" y="681"/>
                      </a:lnTo>
                      <a:lnTo>
                        <a:pt x="176" y="663"/>
                      </a:lnTo>
                      <a:lnTo>
                        <a:pt x="101" y="694"/>
                      </a:lnTo>
                      <a:lnTo>
                        <a:pt x="57" y="720"/>
                      </a:lnTo>
                      <a:lnTo>
                        <a:pt x="8" y="637"/>
                      </a:lnTo>
                      <a:lnTo>
                        <a:pt x="8" y="512"/>
                      </a:lnTo>
                      <a:lnTo>
                        <a:pt x="13" y="402"/>
                      </a:lnTo>
                      <a:lnTo>
                        <a:pt x="0" y="309"/>
                      </a:lnTo>
                      <a:lnTo>
                        <a:pt x="66" y="15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0840" y="2776680"/>
                  <a:ext cx="329040" cy="263520"/>
                  <a:chOff x="1050840" y="2776680"/>
                  <a:chExt cx="329040" cy="263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1050840" y="2782800"/>
                    <a:ext cx="18288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508" h="715">
                        <a:moveTo>
                          <a:pt x="411" y="0"/>
                        </a:moveTo>
                        <a:lnTo>
                          <a:pt x="446" y="57"/>
                        </a:lnTo>
                        <a:lnTo>
                          <a:pt x="477" y="110"/>
                        </a:lnTo>
                        <a:lnTo>
                          <a:pt x="468" y="176"/>
                        </a:lnTo>
                        <a:lnTo>
                          <a:pt x="437" y="242"/>
                        </a:lnTo>
                        <a:lnTo>
                          <a:pt x="411" y="273"/>
                        </a:lnTo>
                        <a:lnTo>
                          <a:pt x="441" y="313"/>
                        </a:lnTo>
                        <a:lnTo>
                          <a:pt x="450" y="367"/>
                        </a:lnTo>
                        <a:lnTo>
                          <a:pt x="441" y="415"/>
                        </a:lnTo>
                        <a:lnTo>
                          <a:pt x="411" y="437"/>
                        </a:lnTo>
                        <a:lnTo>
                          <a:pt x="428" y="494"/>
                        </a:lnTo>
                        <a:lnTo>
                          <a:pt x="419" y="552"/>
                        </a:lnTo>
                        <a:lnTo>
                          <a:pt x="397" y="591"/>
                        </a:lnTo>
                        <a:lnTo>
                          <a:pt x="428" y="622"/>
                        </a:lnTo>
                        <a:lnTo>
                          <a:pt x="477" y="671"/>
                        </a:lnTo>
                        <a:lnTo>
                          <a:pt x="508" y="715"/>
                        </a:lnTo>
                        <a:lnTo>
                          <a:pt x="437" y="710"/>
                        </a:lnTo>
                        <a:lnTo>
                          <a:pt x="362" y="684"/>
                        </a:lnTo>
                        <a:lnTo>
                          <a:pt x="300" y="662"/>
                        </a:lnTo>
                        <a:lnTo>
                          <a:pt x="224" y="627"/>
                        </a:lnTo>
                        <a:lnTo>
                          <a:pt x="158" y="631"/>
                        </a:lnTo>
                        <a:lnTo>
                          <a:pt x="17" y="680"/>
                        </a:lnTo>
                        <a:lnTo>
                          <a:pt x="0" y="123"/>
                        </a:lnTo>
                        <a:lnTo>
                          <a:pt x="202" y="66"/>
                        </a:lnTo>
                        <a:lnTo>
                          <a:pt x="314" y="3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1262160" y="2870280"/>
                    <a:ext cx="11772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7" h="80">
                        <a:moveTo>
                          <a:pt x="327" y="30"/>
                        </a:moveTo>
                        <a:lnTo>
                          <a:pt x="247" y="13"/>
                        </a:lnTo>
                        <a:lnTo>
                          <a:pt x="199" y="22"/>
                        </a:lnTo>
                        <a:lnTo>
                          <a:pt x="136" y="0"/>
                        </a:lnTo>
                        <a:lnTo>
                          <a:pt x="88" y="13"/>
                        </a:lnTo>
                        <a:lnTo>
                          <a:pt x="0" y="8"/>
                        </a:lnTo>
                        <a:lnTo>
                          <a:pt x="39" y="53"/>
                        </a:lnTo>
                        <a:lnTo>
                          <a:pt x="101" y="71"/>
                        </a:lnTo>
                        <a:lnTo>
                          <a:pt x="141" y="62"/>
                        </a:lnTo>
                        <a:lnTo>
                          <a:pt x="208" y="80"/>
                        </a:lnTo>
                        <a:lnTo>
                          <a:pt x="283" y="53"/>
                        </a:lnTo>
                        <a:lnTo>
                          <a:pt x="327" y="3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1219320" y="2925720"/>
                    <a:ext cx="14976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80">
                        <a:moveTo>
                          <a:pt x="416" y="49"/>
                        </a:moveTo>
                        <a:lnTo>
                          <a:pt x="283" y="45"/>
                        </a:lnTo>
                        <a:lnTo>
                          <a:pt x="199" y="0"/>
                        </a:lnTo>
                        <a:lnTo>
                          <a:pt x="128" y="22"/>
                        </a:lnTo>
                        <a:lnTo>
                          <a:pt x="61" y="13"/>
                        </a:lnTo>
                        <a:lnTo>
                          <a:pt x="0" y="26"/>
                        </a:lnTo>
                        <a:lnTo>
                          <a:pt x="83" y="71"/>
                        </a:lnTo>
                        <a:lnTo>
                          <a:pt x="159" y="80"/>
                        </a:lnTo>
                        <a:lnTo>
                          <a:pt x="203" y="62"/>
                        </a:lnTo>
                        <a:lnTo>
                          <a:pt x="274" y="71"/>
                        </a:lnTo>
                        <a:lnTo>
                          <a:pt x="319" y="71"/>
                        </a:lnTo>
                        <a:lnTo>
                          <a:pt x="416" y="4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1219320" y="2986200"/>
                    <a:ext cx="11304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14" h="80">
                        <a:moveTo>
                          <a:pt x="314" y="45"/>
                        </a:moveTo>
                        <a:lnTo>
                          <a:pt x="225" y="39"/>
                        </a:lnTo>
                        <a:lnTo>
                          <a:pt x="172" y="26"/>
                        </a:lnTo>
                        <a:lnTo>
                          <a:pt x="105" y="4"/>
                        </a:lnTo>
                        <a:lnTo>
                          <a:pt x="44" y="8"/>
                        </a:lnTo>
                        <a:lnTo>
                          <a:pt x="0" y="0"/>
                        </a:lnTo>
                        <a:lnTo>
                          <a:pt x="44" y="30"/>
                        </a:lnTo>
                        <a:lnTo>
                          <a:pt x="97" y="80"/>
                        </a:lnTo>
                        <a:lnTo>
                          <a:pt x="172" y="80"/>
                        </a:lnTo>
                        <a:lnTo>
                          <a:pt x="230" y="71"/>
                        </a:lnTo>
                        <a:lnTo>
                          <a:pt x="314" y="4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1216080" y="2776680"/>
                    <a:ext cx="16236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85">
                        <a:moveTo>
                          <a:pt x="451" y="53"/>
                        </a:moveTo>
                        <a:lnTo>
                          <a:pt x="381" y="58"/>
                        </a:lnTo>
                        <a:lnTo>
                          <a:pt x="287" y="53"/>
                        </a:lnTo>
                        <a:lnTo>
                          <a:pt x="225" y="45"/>
                        </a:lnTo>
                        <a:lnTo>
                          <a:pt x="177" y="68"/>
                        </a:lnTo>
                        <a:lnTo>
                          <a:pt x="110" y="85"/>
                        </a:lnTo>
                        <a:lnTo>
                          <a:pt x="48" y="72"/>
                        </a:lnTo>
                        <a:lnTo>
                          <a:pt x="0" y="31"/>
                        </a:lnTo>
                        <a:lnTo>
                          <a:pt x="92" y="36"/>
                        </a:lnTo>
                        <a:lnTo>
                          <a:pt x="150" y="27"/>
                        </a:lnTo>
                        <a:lnTo>
                          <a:pt x="221" y="0"/>
                        </a:lnTo>
                        <a:lnTo>
                          <a:pt x="274" y="0"/>
                        </a:lnTo>
                        <a:lnTo>
                          <a:pt x="376" y="17"/>
                        </a:lnTo>
                        <a:lnTo>
                          <a:pt x="451" y="5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969840" y="2809800"/>
                <a:ext cx="136800" cy="252720"/>
                <a:chOff x="969840" y="2809800"/>
                <a:chExt cx="136800" cy="25272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969840" y="2809800"/>
                  <a:ext cx="136800" cy="252720"/>
                </a:xfrm>
                <a:custGeom>
                  <a:avLst/>
                  <a:gdLst/>
                  <a:ahLst/>
                  <a:rect l="0" t="0" r="r" b="b"/>
                  <a:pathLst>
                    <a:path w="380" h="702">
                      <a:moveTo>
                        <a:pt x="380" y="0"/>
                      </a:moveTo>
                      <a:lnTo>
                        <a:pt x="309" y="44"/>
                      </a:lnTo>
                      <a:lnTo>
                        <a:pt x="278" y="70"/>
                      </a:lnTo>
                      <a:lnTo>
                        <a:pt x="256" y="132"/>
                      </a:lnTo>
                      <a:lnTo>
                        <a:pt x="243" y="189"/>
                      </a:lnTo>
                      <a:lnTo>
                        <a:pt x="247" y="277"/>
                      </a:lnTo>
                      <a:lnTo>
                        <a:pt x="247" y="393"/>
                      </a:lnTo>
                      <a:lnTo>
                        <a:pt x="252" y="499"/>
                      </a:lnTo>
                      <a:lnTo>
                        <a:pt x="265" y="552"/>
                      </a:lnTo>
                      <a:lnTo>
                        <a:pt x="278" y="583"/>
                      </a:lnTo>
                      <a:lnTo>
                        <a:pt x="314" y="613"/>
                      </a:lnTo>
                      <a:lnTo>
                        <a:pt x="375" y="609"/>
                      </a:lnTo>
                      <a:lnTo>
                        <a:pt x="322" y="649"/>
                      </a:lnTo>
                      <a:lnTo>
                        <a:pt x="269" y="675"/>
                      </a:lnTo>
                      <a:lnTo>
                        <a:pt x="180" y="693"/>
                      </a:lnTo>
                      <a:lnTo>
                        <a:pt x="110" y="684"/>
                      </a:lnTo>
                      <a:lnTo>
                        <a:pt x="17" y="702"/>
                      </a:lnTo>
                      <a:lnTo>
                        <a:pt x="22" y="600"/>
                      </a:lnTo>
                      <a:lnTo>
                        <a:pt x="4" y="494"/>
                      </a:lnTo>
                      <a:lnTo>
                        <a:pt x="0" y="428"/>
                      </a:lnTo>
                      <a:lnTo>
                        <a:pt x="8" y="321"/>
                      </a:lnTo>
                      <a:lnTo>
                        <a:pt x="30" y="246"/>
                      </a:lnTo>
                      <a:lnTo>
                        <a:pt x="74" y="167"/>
                      </a:lnTo>
                      <a:lnTo>
                        <a:pt x="114" y="101"/>
                      </a:lnTo>
                      <a:lnTo>
                        <a:pt x="180" y="48"/>
                      </a:lnTo>
                      <a:lnTo>
                        <a:pt x="217" y="13"/>
                      </a:lnTo>
                      <a:lnTo>
                        <a:pt x="278" y="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987480" y="2822400"/>
                  <a:ext cx="84600" cy="236880"/>
                </a:xfrm>
                <a:custGeom>
                  <a:avLst/>
                  <a:gdLst/>
                  <a:ahLst/>
                  <a:rect l="0" t="0" r="r" b="b"/>
                  <a:pathLst>
                    <a:path w="235" h="658">
                      <a:moveTo>
                        <a:pt x="231" y="0"/>
                      </a:moveTo>
                      <a:lnTo>
                        <a:pt x="191" y="74"/>
                      </a:lnTo>
                      <a:lnTo>
                        <a:pt x="168" y="141"/>
                      </a:lnTo>
                      <a:lnTo>
                        <a:pt x="159" y="242"/>
                      </a:lnTo>
                      <a:lnTo>
                        <a:pt x="155" y="358"/>
                      </a:lnTo>
                      <a:lnTo>
                        <a:pt x="142" y="411"/>
                      </a:lnTo>
                      <a:lnTo>
                        <a:pt x="155" y="499"/>
                      </a:lnTo>
                      <a:lnTo>
                        <a:pt x="200" y="578"/>
                      </a:lnTo>
                      <a:lnTo>
                        <a:pt x="235" y="631"/>
                      </a:lnTo>
                      <a:lnTo>
                        <a:pt x="200" y="649"/>
                      </a:lnTo>
                      <a:lnTo>
                        <a:pt x="133" y="658"/>
                      </a:lnTo>
                      <a:lnTo>
                        <a:pt x="67" y="653"/>
                      </a:lnTo>
                      <a:lnTo>
                        <a:pt x="17" y="649"/>
                      </a:lnTo>
                      <a:lnTo>
                        <a:pt x="30" y="565"/>
                      </a:lnTo>
                      <a:lnTo>
                        <a:pt x="30" y="481"/>
                      </a:lnTo>
                      <a:lnTo>
                        <a:pt x="0" y="375"/>
                      </a:lnTo>
                      <a:lnTo>
                        <a:pt x="17" y="291"/>
                      </a:lnTo>
                      <a:lnTo>
                        <a:pt x="39" y="185"/>
                      </a:lnTo>
                      <a:lnTo>
                        <a:pt x="80" y="114"/>
                      </a:lnTo>
                      <a:lnTo>
                        <a:pt x="128" y="61"/>
                      </a:lnTo>
                      <a:lnTo>
                        <a:pt x="172" y="26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011240" y="2889360"/>
                  <a:ext cx="55800" cy="154440"/>
                </a:xfrm>
                <a:custGeom>
                  <a:avLst/>
                  <a:gdLst/>
                  <a:ahLst/>
                  <a:rect l="0" t="0" r="r" b="b"/>
                  <a:pathLst>
                    <a:path w="155" h="429">
                      <a:moveTo>
                        <a:pt x="52" y="0"/>
                      </a:moveTo>
                      <a:lnTo>
                        <a:pt x="35" y="101"/>
                      </a:lnTo>
                      <a:lnTo>
                        <a:pt x="17" y="181"/>
                      </a:lnTo>
                      <a:lnTo>
                        <a:pt x="0" y="265"/>
                      </a:lnTo>
                      <a:lnTo>
                        <a:pt x="0" y="341"/>
                      </a:lnTo>
                      <a:lnTo>
                        <a:pt x="4" y="385"/>
                      </a:lnTo>
                      <a:lnTo>
                        <a:pt x="44" y="416"/>
                      </a:lnTo>
                      <a:lnTo>
                        <a:pt x="84" y="429"/>
                      </a:lnTo>
                      <a:lnTo>
                        <a:pt x="120" y="416"/>
                      </a:lnTo>
                      <a:lnTo>
                        <a:pt x="155" y="390"/>
                      </a:lnTo>
                      <a:lnTo>
                        <a:pt x="89" y="368"/>
                      </a:lnTo>
                      <a:lnTo>
                        <a:pt x="70" y="314"/>
                      </a:lnTo>
                      <a:lnTo>
                        <a:pt x="61" y="252"/>
                      </a:lnTo>
                      <a:lnTo>
                        <a:pt x="70" y="164"/>
                      </a:lnTo>
                      <a:lnTo>
                        <a:pt x="80" y="74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001880" y="2981160"/>
                  <a:ext cx="28440" cy="270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001880" y="2975040"/>
                  <a:ext cx="27000" cy="28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028880" y="3005280"/>
                  <a:ext cx="14400" cy="14400"/>
                </a:xfrm>
                <a:custGeom>
                  <a:avLst/>
                  <a:gdLst/>
                  <a:ahLst/>
                  <a:rect l="0" t="0" r="r" b="b"/>
                  <a:pathLst>
                    <a:path w="40" h="40">
                      <a:moveTo>
                        <a:pt x="40" y="4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1"/>
                        <a:pt x="25" y="2"/>
                        <a:pt x="20" y="5"/>
                      </a:cubicBezTo>
                      <a:cubicBezTo>
                        <a:pt x="14" y="9"/>
                        <a:pt x="9" y="14"/>
                        <a:pt x="5" y="20"/>
                      </a:cubicBezTo>
                      <a:cubicBezTo>
                        <a:pt x="2" y="25"/>
                        <a:pt x="1" y="30"/>
                        <a:pt x="0" y="36"/>
                      </a:cubicBez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071720" y="3017880"/>
                  <a:ext cx="32040" cy="28800"/>
                </a:xfrm>
                <a:custGeom>
                  <a:avLst/>
                  <a:gdLst/>
                  <a:ahLst/>
                  <a:rect l="0" t="0" r="r" b="b"/>
                  <a:pathLst>
                    <a:path w="89" h="80">
                      <a:moveTo>
                        <a:pt x="89" y="67"/>
                      </a:moveTo>
                      <a:lnTo>
                        <a:pt x="58" y="80"/>
                      </a:lnTo>
                      <a:lnTo>
                        <a:pt x="22" y="67"/>
                      </a:lnTo>
                      <a:lnTo>
                        <a:pt x="0" y="22"/>
                      </a:lnTo>
                      <a:lnTo>
                        <a:pt x="49" y="0"/>
                      </a:lnTo>
                      <a:lnTo>
                        <a:pt x="89" y="6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14400" y="228600"/>
            <a:ext cx="7902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redit Depar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137160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ines each customer who applies for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roves or rejects credit s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ests information about a potential credit customer, including resources, debts, references, and credit bureau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des whether to extend credit to the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90512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mmon measures of the effect of a company’s credit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Receivable turnov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Average days’ sales uncoll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nalyzing Credit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