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0-</a:t>
            </a:r>
            <a:fld id="{2A86C646-34C0-4387-B537-8756CF52A671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3049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0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 and Variable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84840" y="2768760"/>
            <a:ext cx="4164120" cy="35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53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ehavio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228600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676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riabl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3505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880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variable co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7920" y="1670040"/>
            <a:ext cx="7937640" cy="4584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58760" y="1974960"/>
            <a:ext cx="751212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acity can be expressed in several ways,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920" y="297180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units of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81080" y="38088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62320" y="45720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29528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60948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182880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variable cost should be related to an appropriate measure of capacity, but often more than one measure of capacity a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cost behavi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03848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44792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ants must aggregate variable costs that have the same activity base to facilitate estimation of futur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raditional definition of variable costs assumes a linear relationship exists between costs and the measure of capacity cho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3808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Variable-Cost Behavior Pattern: Linear Relation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725400" y="1822320"/>
            <a:ext cx="9375840" cy="4426200"/>
            <a:chOff x="-725400" y="1822320"/>
            <a:chExt cx="9375840" cy="4426200"/>
          </a:xfrm>
        </p:grpSpPr>
        <p:sp>
          <p:nvSpPr>
            <p:cNvPr id="145" name=""/>
            <p:cNvSpPr/>
            <p:nvPr/>
          </p:nvSpPr>
          <p:spPr>
            <a:xfrm>
              <a:off x="941400" y="1822320"/>
              <a:ext cx="7709040" cy="4356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-725400" y="3695760"/>
              <a:ext cx="3736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bor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648320" y="5791320"/>
              <a:ext cx="998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104920" y="4676760"/>
              <a:ext cx="1479600" cy="784080"/>
              <a:chOff x="2104920" y="4676760"/>
              <a:chExt cx="1479600" cy="784080"/>
            </a:xfrm>
          </p:grpSpPr>
          <p:sp>
            <p:nvSpPr>
              <p:cNvPr id="149" name=""/>
              <p:cNvSpPr/>
              <p:nvPr/>
            </p:nvSpPr>
            <p:spPr>
              <a:xfrm>
                <a:off x="2104920" y="4676760"/>
                <a:ext cx="14796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84520" y="4694400"/>
                <a:ext cx="0" cy="76644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033640" y="3110040"/>
              <a:ext cx="4614840" cy="2350800"/>
              <a:chOff x="2033640" y="3110040"/>
              <a:chExt cx="4614840" cy="23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2033640" y="3110040"/>
                <a:ext cx="4614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48480" y="3127320"/>
                <a:ext cx="0" cy="2333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 txBox="1"/>
            <p:nvPr/>
          </p:nvSpPr>
          <p:spPr>
            <a:xfrm>
              <a:off x="2489040" y="3352680"/>
              <a:ext cx="2476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2.50 per uni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09600" y="2112840"/>
              <a:ext cx="622440" cy="3526200"/>
              <a:chOff x="1209600" y="2112840"/>
              <a:chExt cx="622440" cy="3526200"/>
            </a:xfrm>
          </p:grpSpPr>
          <p:sp>
            <p:nvSpPr>
              <p:cNvPr id="156" name=""/>
              <p:cNvSpPr txBox="1"/>
              <p:nvPr/>
            </p:nvSpPr>
            <p:spPr>
              <a:xfrm>
                <a:off x="1346040" y="4510080"/>
                <a:ext cx="4827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1359000" y="5272200"/>
                <a:ext cx="460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1244520" y="374796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244520" y="296532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1209600" y="2112840"/>
                <a:ext cx="622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1952640" y="2265480"/>
              <a:ext cx="6254640" cy="315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935000" y="5602320"/>
              <a:ext cx="6453360" cy="366840"/>
              <a:chOff x="1935000" y="5602320"/>
              <a:chExt cx="6453360" cy="36684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9350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2665440" y="560232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43224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421632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9989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57834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656748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73515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80643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19440" y="2273400"/>
              <a:ext cx="6538680" cy="3400200"/>
              <a:chOff x="1819440" y="2273400"/>
              <a:chExt cx="6538680" cy="3400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819440" y="2362320"/>
                <a:ext cx="6538680" cy="3133440"/>
                <a:chOff x="1819440" y="2362320"/>
                <a:chExt cx="6538680" cy="3133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819440" y="314640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19440" y="392904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19440" y="47131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19440" y="549576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19440" y="23623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016000" y="2273400"/>
                <a:ext cx="6199200" cy="3400200"/>
                <a:chOff x="2016000" y="2273400"/>
                <a:chExt cx="6199200" cy="3400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79072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654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3401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166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910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657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04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2152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160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66680" y="457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linear 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sts vary with operating activity in a nonlinear fash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computer 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power 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of nonlinear costs can be approximated within the relevant range using a linear approximation techn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5335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levant range is the volume range within which actual operations are likely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523880" y="228600"/>
            <a:ext cx="6705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Relevant Ran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d Linear Approxi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4240" y="1670040"/>
            <a:ext cx="77090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2379600"/>
            <a:ext cx="7539120" cy="3792600"/>
            <a:chOff x="1143000" y="2379600"/>
            <a:chExt cx="7539120" cy="3792600"/>
          </a:xfrm>
        </p:grpSpPr>
        <p:grpSp>
          <p:nvGrpSpPr>
            <p:cNvPr id="198" name=""/>
            <p:cNvGrpSpPr/>
            <p:nvPr/>
          </p:nvGrpSpPr>
          <p:grpSpPr>
            <a:xfrm>
              <a:off x="1143000" y="2379600"/>
              <a:ext cx="6262200" cy="3792600"/>
              <a:chOff x="1143000" y="2379600"/>
              <a:chExt cx="6262200" cy="3792600"/>
            </a:xfrm>
          </p:grpSpPr>
          <p:sp>
            <p:nvSpPr>
              <p:cNvPr id="199" name=""/>
              <p:cNvSpPr txBox="1"/>
              <p:nvPr/>
            </p:nvSpPr>
            <p:spPr>
              <a:xfrm>
                <a:off x="1143000" y="3657600"/>
                <a:ext cx="91296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4191120" y="5715000"/>
                <a:ext cx="1284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olum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738440" y="251460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922400" y="2379600"/>
                <a:ext cx="5482800" cy="3564000"/>
                <a:chOff x="1922400" y="2379600"/>
                <a:chExt cx="5482800" cy="35640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1922400" y="2379600"/>
                  <a:ext cx="5316480" cy="3564000"/>
                  <a:chOff x="1922400" y="2379600"/>
                  <a:chExt cx="5316480" cy="35640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1922400" y="5638680"/>
                    <a:ext cx="5316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96252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94360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209680" y="2379600"/>
                    <a:ext cx="0" cy="3564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2249280" y="3675240"/>
                  <a:ext cx="5155920" cy="1933920"/>
                </a:xfrm>
                <a:custGeom>
                  <a:avLst/>
                  <a:gdLst/>
                  <a:ahLst/>
                  <a:rect l="0" t="0" r="r" b="b"/>
                  <a:pathLst>
                    <a:path fill="none" w="14322" h="5372">
                      <a:moveTo>
                        <a:pt x="14322" y="1"/>
                      </a:moveTo>
                      <a:lnTo>
                        <a:pt x="14322" y="1"/>
                      </a:lnTo>
                      <a:cubicBezTo>
                        <a:pt x="14260" y="1"/>
                        <a:pt x="14197" y="0"/>
                        <a:pt x="14135" y="0"/>
                      </a:cubicBezTo>
                      <a:cubicBezTo>
                        <a:pt x="11617" y="0"/>
                        <a:pt x="9144" y="299"/>
                        <a:pt x="6964" y="867"/>
                      </a:cubicBezTo>
                      <a:cubicBezTo>
                        <a:pt x="4784" y="1434"/>
                        <a:pt x="2973" y="2251"/>
                        <a:pt x="1714" y="3234"/>
                      </a:cubicBezTo>
                      <a:cubicBezTo>
                        <a:pt x="867" y="3895"/>
                        <a:pt x="287" y="4619"/>
                        <a:pt x="0" y="5372"/>
                      </a:cubicBezTo>
                    </a:path>
                  </a:pathLst>
                </a:custGeom>
                <a:ln w="12600">
                  <a:solidFill>
                    <a:srgbClr val="cc009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913120" y="3446640"/>
                  <a:ext cx="4021200" cy="97308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custDash>
                    <a:ds d="66981" sp="66981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"/>
            <p:cNvSpPr txBox="1"/>
            <p:nvPr/>
          </p:nvSpPr>
          <p:spPr>
            <a:xfrm>
              <a:off x="6705720" y="2666880"/>
              <a:ext cx="1976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781680" y="3733920"/>
              <a:ext cx="18921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e Behavi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ter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4037040" y="2590920"/>
              <a:ext cx="1878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eleva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n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905120" y="5638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06668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xed costs are costs that remain constant within a relevant range of volume or activity. Examples of fixed cos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ervisory sal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perty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95280" y="228600"/>
            <a:ext cx="7162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Fixed-Cost Behavior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96720" y="1365120"/>
            <a:ext cx="9120240" cy="4889520"/>
            <a:chOff x="-396720" y="1365120"/>
            <a:chExt cx="9120240" cy="4889520"/>
          </a:xfrm>
        </p:grpSpPr>
        <p:sp>
          <p:nvSpPr>
            <p:cNvPr id="220" name=""/>
            <p:cNvSpPr/>
            <p:nvPr/>
          </p:nvSpPr>
          <p:spPr>
            <a:xfrm>
              <a:off x="987480" y="1365120"/>
              <a:ext cx="7736040" cy="48895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-396720" y="1440000"/>
              <a:ext cx="9118440" cy="4770360"/>
              <a:chOff x="-396720" y="1440000"/>
              <a:chExt cx="9118440" cy="4770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-396720" y="1440000"/>
                <a:ext cx="9118440" cy="4770360"/>
                <a:chOff x="-396720" y="1440000"/>
                <a:chExt cx="9118440" cy="4770360"/>
              </a:xfrm>
            </p:grpSpPr>
            <p:sp>
              <p:nvSpPr>
                <p:cNvPr id="223" name=""/>
                <p:cNvSpPr txBox="1"/>
                <p:nvPr/>
              </p:nvSpPr>
              <p:spPr>
                <a:xfrm>
                  <a:off x="3695760" y="5753160"/>
                  <a:ext cx="2401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1341360" y="4262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1787400" y="500868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1339920" y="351792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1339920" y="277668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341360" y="2030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130480" y="541512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31878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46926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61977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76341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2173320" y="1795320"/>
                  <a:ext cx="6275520" cy="3538800"/>
                  <a:chOff x="2173320" y="1795320"/>
                  <a:chExt cx="6275520" cy="353880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2292480" y="1795320"/>
                    <a:ext cx="5883120" cy="3538800"/>
                    <a:chOff x="2292480" y="1795320"/>
                    <a:chExt cx="5883120" cy="353880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976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7288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4816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2340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9864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7388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4912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17560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292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2173320" y="1846440"/>
                    <a:ext cx="6275520" cy="3317760"/>
                    <a:chOff x="2173320" y="1846440"/>
                    <a:chExt cx="6275520" cy="331776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173320" y="2952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173320" y="368928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173320" y="44258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3320" y="51642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173320" y="2214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173320" y="2583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173320" y="3321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173320" y="405756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173320" y="47941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3320" y="18464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5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91788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8112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 txBox="1"/>
                <p:nvPr/>
              </p:nvSpPr>
              <p:spPr>
                <a:xfrm>
                  <a:off x="3048120" y="2793960"/>
                  <a:ext cx="227340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6122880" y="1440000"/>
                  <a:ext cx="194616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-396720" y="3271680"/>
                  <a:ext cx="3233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86440" y="1863720"/>
                  <a:ext cx="0" cy="34369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custDash>
                    <a:ds d="198592" sp="198592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 txBox="1"/>
              <p:nvPr/>
            </p:nvSpPr>
            <p:spPr>
              <a:xfrm>
                <a:off x="6580080" y="2590920"/>
                <a:ext cx="1741320" cy="8222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910040" y="2948040"/>
                <a:ext cx="1828800" cy="65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269040" y="2260440"/>
                <a:ext cx="460440" cy="660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680" y="373392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228600"/>
            <a:ext cx="2132280" cy="2132280"/>
            <a:chOff x="685800" y="228600"/>
            <a:chExt cx="2132280" cy="2132280"/>
          </a:xfrm>
        </p:grpSpPr>
        <p:sp>
          <p:nvSpPr>
            <p:cNvPr id="268" name=""/>
            <p:cNvSpPr/>
            <p:nvPr/>
          </p:nvSpPr>
          <p:spPr>
            <a:xfrm>
              <a:off x="69228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536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788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160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9536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3820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196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9552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084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936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052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9212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256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8276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5584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5260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580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996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296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572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040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968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7016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712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5584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1268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8904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2076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6856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examples of variable co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219320" y="91440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3880" y="220968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19320" y="16002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s have both variable and fixed cost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volume or usage, and part of the cost is fixed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70040" y="1593720"/>
            <a:ext cx="64832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87320" y="3649680"/>
            <a:ext cx="276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Telephon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00680" y="5556240"/>
            <a:ext cx="261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 Distan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02080" y="5403960"/>
            <a:ext cx="5316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2144880"/>
            <a:ext cx="0" cy="3563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2160" y="197496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Telephon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05200" y="3666960"/>
            <a:ext cx="4021200" cy="74484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654120" y="1670040"/>
            <a:ext cx="7499160" cy="4572000"/>
            <a:chOff x="654120" y="1670040"/>
            <a:chExt cx="7499160" cy="4572000"/>
          </a:xfrm>
        </p:grpSpPr>
        <p:sp>
          <p:nvSpPr>
            <p:cNvPr id="313" name=""/>
            <p:cNvSpPr/>
            <p:nvPr/>
          </p:nvSpPr>
          <p:spPr>
            <a:xfrm>
              <a:off x="1670040" y="1670040"/>
              <a:ext cx="6483240" cy="4572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54120" y="2050920"/>
              <a:ext cx="7264440" cy="3978360"/>
              <a:chOff x="654120" y="2050920"/>
              <a:chExt cx="7264440" cy="3978360"/>
            </a:xfrm>
          </p:grpSpPr>
          <p:sp>
            <p:nvSpPr>
              <p:cNvPr id="315" name=""/>
              <p:cNvSpPr txBox="1"/>
              <p:nvPr/>
            </p:nvSpPr>
            <p:spPr>
              <a:xfrm>
                <a:off x="654120" y="3728880"/>
                <a:ext cx="3035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Maintenance Cos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037040" y="5632560"/>
                <a:ext cx="25272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 Hou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602080" y="2220840"/>
                <a:ext cx="5316480" cy="3564000"/>
                <a:chOff x="2602080" y="2220840"/>
                <a:chExt cx="5316480" cy="3564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602080" y="5479920"/>
                  <a:ext cx="5316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89360" y="2220840"/>
                  <a:ext cx="0" cy="356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2898720" y="3432240"/>
                  <a:ext cx="2268720" cy="203976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151600" y="3403440"/>
                  <a:ext cx="1928520" cy="2088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 txBox="1"/>
              <p:nvPr/>
            </p:nvSpPr>
            <p:spPr>
              <a:xfrm>
                <a:off x="2432160" y="205092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igh-Low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catter diagram is a chart of plotted points that helps determine if there is a linear relationship between a cost item and its related activit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lume or u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438280" y="121932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38080" y="380880"/>
            <a:ext cx="2056320" cy="1980000"/>
            <a:chOff x="838080" y="380880"/>
            <a:chExt cx="2056320" cy="1980000"/>
          </a:xfrm>
        </p:grpSpPr>
        <p:sp>
          <p:nvSpPr>
            <p:cNvPr id="329" name=""/>
            <p:cNvSpPr/>
            <p:nvPr/>
          </p:nvSpPr>
          <p:spPr>
            <a:xfrm>
              <a:off x="844560" y="135252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6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3600" y="163368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9400" y="144144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67000" y="109872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2440" y="52236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63840" y="123192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85800" y="40788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16120" y="141912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9640" y="116208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4640" y="80640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4640" y="77472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9200" y="58104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520" y="101448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09840" y="89064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81120" y="56988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77880" y="38088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6400" y="53172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0560" y="111456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65360" y="83808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3320" y="134460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158436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06560" y="183024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9360" y="184140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5200" y="110340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7840" y="110340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8000" y="148608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52360" y="118728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8200" y="142236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0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22640" y="53172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71520" y="89208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a mixed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68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680" y="25146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 is used primarily as a planning and control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28954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5680" y="1442880"/>
            <a:ext cx="7781760" cy="4734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-V-P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70320" y="3733920"/>
            <a:ext cx="2693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es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68880" y="4952880"/>
            <a:ext cx="2200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4343400"/>
            <a:ext cx="360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Variabl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152880" y="373392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22600" y="4038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95480" y="4343400"/>
            <a:ext cx="677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914560" y="4952880"/>
            <a:ext cx="658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22600" y="464832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22600" y="5181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514600"/>
            <a:ext cx="7227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  =  VC  +  FC  +  Net In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35053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of decision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29400" y="228600"/>
            <a:ext cx="2132280" cy="2055960"/>
            <a:chOff x="6629400" y="228600"/>
            <a:chExt cx="2132280" cy="2055960"/>
          </a:xfrm>
        </p:grpSpPr>
        <p:sp>
          <p:nvSpPr>
            <p:cNvPr id="381" name=""/>
            <p:cNvSpPr/>
            <p:nvPr/>
          </p:nvSpPr>
          <p:spPr>
            <a:xfrm>
              <a:off x="663588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6896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48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1520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3896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8180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0556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3444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9296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412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3572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2616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2636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944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620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940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1356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8656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932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940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0400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328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1376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7072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944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5628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264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6436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1216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 txBox="1"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143000" y="990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reakeve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752480" y="228600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6668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is the point of zero prof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4479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3000" y="1447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tandard breakeven graph has five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horizontal axis (volum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vertical axis (dollar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ixed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revenu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371600" y="1676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a loss area, profit area, and breakeven point will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zero volume, net loss equals fixe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0666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Graphic Breakeven Analysis: Dakota Products, In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1447920"/>
            <a:ext cx="7696080" cy="487692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87520" y="20336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88960" y="497052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88960" y="43797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87520" y="26193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87520" y="320688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87520" y="37940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593720"/>
            <a:ext cx="6018120" cy="4048200"/>
          </a:xfrm>
          <a:prstGeom prst="rect">
            <a:avLst/>
          </a:prstGeom>
          <a:noFill/>
          <a:ln w="12600">
            <a:solidFill>
              <a:srgbClr val="66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79600" y="21718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79600" y="27496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81400" y="44830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81400" y="39052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81400" y="33274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79600" y="504972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2680" y="1619280"/>
            <a:ext cx="3657600" cy="4033800"/>
            <a:chOff x="3352680" y="1619280"/>
            <a:chExt cx="3657600" cy="4033800"/>
          </a:xfrm>
        </p:grpSpPr>
        <p:sp>
          <p:nvSpPr>
            <p:cNvPr id="440" name=""/>
            <p:cNvSpPr/>
            <p:nvPr/>
          </p:nvSpPr>
          <p:spPr>
            <a:xfrm>
              <a:off x="33526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14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102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14720" y="5659560"/>
            <a:ext cx="5062320" cy="338040"/>
            <a:chOff x="2214720" y="5659560"/>
            <a:chExt cx="5062320" cy="338040"/>
          </a:xfrm>
        </p:grpSpPr>
        <p:sp>
          <p:nvSpPr>
            <p:cNvPr id="444" name=""/>
            <p:cNvSpPr txBox="1"/>
            <p:nvPr/>
          </p:nvSpPr>
          <p:spPr>
            <a:xfrm>
              <a:off x="2214720" y="5659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301788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75324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4923000" y="566100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"/>
          <p:cNvSpPr txBox="1"/>
          <p:nvPr/>
        </p:nvSpPr>
        <p:spPr>
          <a:xfrm>
            <a:off x="-480960" y="35272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llars (in thousa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38480" y="5867280"/>
            <a:ext cx="240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s of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9600" y="3048120"/>
            <a:ext cx="3716280" cy="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57480"/>
            <a:ext cx="0" cy="257328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9600" y="4495680"/>
            <a:ext cx="5697720" cy="0"/>
          </a:xfrm>
          <a:prstGeom prst="line">
            <a:avLst/>
          </a:prstGeom>
          <a:ln w="255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343400" y="4952880"/>
            <a:ext cx="162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513320"/>
            <a:ext cx="0" cy="51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5275440"/>
            <a:ext cx="0" cy="36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400800" y="46483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t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189840" y="4970520"/>
            <a:ext cx="363240" cy="668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660760" y="2286000"/>
            <a:ext cx="220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es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379600" y="2608200"/>
            <a:ext cx="439920" cy="439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71680" y="2060640"/>
            <a:ext cx="5164200" cy="3570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71680" y="2511360"/>
            <a:ext cx="5087880" cy="1976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562720" y="160020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14600" y="3200400"/>
            <a:ext cx="1225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3120" y="3751200"/>
            <a:ext cx="210960" cy="287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89840" y="2227320"/>
            <a:ext cx="668160" cy="21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666880" y="4267080"/>
            <a:ext cx="1657440" cy="45720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315200" y="1752480"/>
            <a:ext cx="1073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N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86520" y="3429000"/>
            <a:ext cx="194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48520" y="30654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382752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62120" y="327672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ce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90920" y="91440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228600"/>
            <a:ext cx="1980000" cy="1903680"/>
            <a:chOff x="685800" y="228600"/>
            <a:chExt cx="1980000" cy="1903680"/>
          </a:xfrm>
        </p:grpSpPr>
        <p:sp>
          <p:nvSpPr>
            <p:cNvPr id="474" name=""/>
            <p:cNvSpPr/>
            <p:nvPr/>
          </p:nvSpPr>
          <p:spPr>
            <a:xfrm>
              <a:off x="6904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954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600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5748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446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42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6520" y="25560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303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56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53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55640" y="60804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136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19200" y="83808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334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000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9860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10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066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28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45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780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44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568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0364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366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3880" y="123048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178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699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 txBox="1"/>
          <p:nvPr/>
        </p:nvSpPr>
        <p:spPr>
          <a:xfrm>
            <a:off x="762120" y="2057400"/>
            <a:ext cx="80773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066680" y="8380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600200" y="2057400"/>
            <a:ext cx="6629400" cy="39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M = S - 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per unit equals selling price minus variable cost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 units = FC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ales mix is used to calculate the breakeven point for each product when an organization sells more than on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06668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- Variabl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Contribution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-    Fixe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Net income (lo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553080" y="228600"/>
            <a:ext cx="2208600" cy="2055960"/>
            <a:chOff x="6553080" y="228600"/>
            <a:chExt cx="2208600" cy="2055960"/>
          </a:xfrm>
        </p:grpSpPr>
        <p:sp>
          <p:nvSpPr>
            <p:cNvPr id="515" name=""/>
            <p:cNvSpPr/>
            <p:nvPr/>
          </p:nvSpPr>
          <p:spPr>
            <a:xfrm>
              <a:off x="655956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884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3592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9468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8820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3284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5660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628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8980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544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3416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8496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188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7560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5012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688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8512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6928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048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2948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3416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992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324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5668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216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9148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836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3916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8516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 txBox="1"/>
          <p:nvPr/>
        </p:nvSpPr>
        <p:spPr>
          <a:xfrm>
            <a:off x="1066680" y="228600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914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Future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7160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219320" y="14479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approach is extremely useful for profit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M per uni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ed net income can be calculated, assuming changes in volume, selling price, and/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1080" y="220968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how managers make use of this concept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143000" y="17524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havior of variable and fixed costs can be measured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nd revenues have a close linear approxi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ficiency and productivity hold steady within the relevant range of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7160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nd price variables hold steady during the period being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sales mix does not change during the period being plan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ion and sales volume are       roughly equ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838080" y="4724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Units  =  (FC + NI)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66688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62120" y="304920"/>
            <a:ext cx="2055960" cy="2055960"/>
            <a:chOff x="762120" y="304920"/>
            <a:chExt cx="2055960" cy="2055960"/>
          </a:xfrm>
        </p:grpSpPr>
        <p:sp>
          <p:nvSpPr>
            <p:cNvPr id="558" name=""/>
            <p:cNvSpPr/>
            <p:nvPr/>
          </p:nvSpPr>
          <p:spPr>
            <a:xfrm>
              <a:off x="76824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5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8728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4308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9068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612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8752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0984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1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3980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336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9868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6832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288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20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3352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480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019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304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146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890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2700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2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3024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340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924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4152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168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764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3188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463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556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838080" y="2438280"/>
            <a:ext cx="77724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a Service 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71600" y="259092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21932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concern does not manufacture a physical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per service rendered includ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(direct) lab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overhead costs (may be fixed or varia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9144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66680" y="16002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business can separate mixed costs into their variable and fixed portions in ord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riable and fixed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553080" y="228600"/>
            <a:ext cx="2284920" cy="2055960"/>
            <a:chOff x="6553080" y="228600"/>
            <a:chExt cx="2284920" cy="2055960"/>
          </a:xfrm>
        </p:grpSpPr>
        <p:sp>
          <p:nvSpPr>
            <p:cNvPr id="599" name=""/>
            <p:cNvSpPr/>
            <p:nvPr/>
          </p:nvSpPr>
          <p:spPr>
            <a:xfrm>
              <a:off x="6559560" y="1238400"/>
              <a:ext cx="554400" cy="717840"/>
            </a:xfrm>
            <a:custGeom>
              <a:avLst/>
              <a:gdLst/>
              <a:ahLst/>
              <a:rect l="0" t="0" r="r" b="b"/>
              <a:pathLst>
                <a:path w="1540" h="1994">
                  <a:moveTo>
                    <a:pt x="618" y="0"/>
                  </a:moveTo>
                  <a:lnTo>
                    <a:pt x="534" y="88"/>
                  </a:lnTo>
                  <a:lnTo>
                    <a:pt x="534" y="348"/>
                  </a:lnTo>
                  <a:lnTo>
                    <a:pt x="618" y="537"/>
                  </a:lnTo>
                  <a:lnTo>
                    <a:pt x="706" y="630"/>
                  </a:lnTo>
                  <a:lnTo>
                    <a:pt x="569" y="758"/>
                  </a:lnTo>
                  <a:lnTo>
                    <a:pt x="383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41" y="1707"/>
                  </a:lnTo>
                  <a:lnTo>
                    <a:pt x="233" y="1601"/>
                  </a:lnTo>
                  <a:lnTo>
                    <a:pt x="383" y="1341"/>
                  </a:lnTo>
                  <a:lnTo>
                    <a:pt x="477" y="1231"/>
                  </a:lnTo>
                  <a:lnTo>
                    <a:pt x="534" y="1403"/>
                  </a:lnTo>
                  <a:lnTo>
                    <a:pt x="494" y="1584"/>
                  </a:lnTo>
                  <a:lnTo>
                    <a:pt x="343" y="1848"/>
                  </a:lnTo>
                  <a:lnTo>
                    <a:pt x="383" y="1910"/>
                  </a:lnTo>
                  <a:lnTo>
                    <a:pt x="477" y="1892"/>
                  </a:lnTo>
                  <a:lnTo>
                    <a:pt x="666" y="1756"/>
                  </a:lnTo>
                  <a:lnTo>
                    <a:pt x="821" y="1522"/>
                  </a:lnTo>
                  <a:lnTo>
                    <a:pt x="821" y="1928"/>
                  </a:lnTo>
                  <a:lnTo>
                    <a:pt x="1002" y="1994"/>
                  </a:lnTo>
                  <a:lnTo>
                    <a:pt x="1112" y="1742"/>
                  </a:lnTo>
                  <a:lnTo>
                    <a:pt x="1205" y="1976"/>
                  </a:lnTo>
                  <a:lnTo>
                    <a:pt x="1280" y="1910"/>
                  </a:lnTo>
                  <a:lnTo>
                    <a:pt x="1316" y="1447"/>
                  </a:lnTo>
                  <a:lnTo>
                    <a:pt x="1540" y="1010"/>
                  </a:lnTo>
                  <a:lnTo>
                    <a:pt x="1488" y="758"/>
                  </a:lnTo>
                  <a:lnTo>
                    <a:pt x="1333" y="665"/>
                  </a:lnTo>
                  <a:lnTo>
                    <a:pt x="1166" y="679"/>
                  </a:lnTo>
                  <a:lnTo>
                    <a:pt x="1112" y="471"/>
                  </a:lnTo>
                  <a:lnTo>
                    <a:pt x="940" y="427"/>
                  </a:lnTo>
                  <a:lnTo>
                    <a:pt x="794" y="361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24680" y="1528920"/>
              <a:ext cx="165600" cy="348120"/>
            </a:xfrm>
            <a:custGeom>
              <a:avLst/>
              <a:gdLst/>
              <a:ahLst/>
              <a:rect l="0" t="0" r="r" b="b"/>
              <a:pathLst>
                <a:path w="460" h="967">
                  <a:moveTo>
                    <a:pt x="230" y="0"/>
                  </a:moveTo>
                  <a:lnTo>
                    <a:pt x="460" y="252"/>
                  </a:lnTo>
                  <a:lnTo>
                    <a:pt x="344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42" y="411"/>
                  </a:lnTo>
                  <a:lnTo>
                    <a:pt x="230" y="202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88480" y="1328760"/>
              <a:ext cx="408240" cy="314640"/>
            </a:xfrm>
            <a:custGeom>
              <a:avLst/>
              <a:gdLst/>
              <a:ahLst/>
              <a:rect l="0" t="0" r="r" b="b"/>
              <a:pathLst>
                <a:path w="1134" h="874">
                  <a:moveTo>
                    <a:pt x="467" y="0"/>
                  </a:moveTo>
                  <a:lnTo>
                    <a:pt x="467" y="141"/>
                  </a:lnTo>
                  <a:lnTo>
                    <a:pt x="507" y="264"/>
                  </a:lnTo>
                  <a:lnTo>
                    <a:pt x="728" y="472"/>
                  </a:lnTo>
                  <a:lnTo>
                    <a:pt x="1134" y="591"/>
                  </a:lnTo>
                  <a:lnTo>
                    <a:pt x="1076" y="856"/>
                  </a:lnTo>
                  <a:lnTo>
                    <a:pt x="728" y="874"/>
                  </a:lnTo>
                  <a:lnTo>
                    <a:pt x="216" y="684"/>
                  </a:lnTo>
                  <a:lnTo>
                    <a:pt x="0" y="348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51920" y="974880"/>
              <a:ext cx="572040" cy="690840"/>
            </a:xfrm>
            <a:custGeom>
              <a:avLst/>
              <a:gdLst/>
              <a:ahLst/>
              <a:rect l="0" t="0" r="r" b="b"/>
              <a:pathLst>
                <a:path w="1589" h="1919">
                  <a:moveTo>
                    <a:pt x="141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51" y="1407"/>
                  </a:lnTo>
                  <a:lnTo>
                    <a:pt x="268" y="1883"/>
                  </a:lnTo>
                  <a:lnTo>
                    <a:pt x="494" y="1883"/>
                  </a:lnTo>
                  <a:lnTo>
                    <a:pt x="477" y="1482"/>
                  </a:lnTo>
                  <a:lnTo>
                    <a:pt x="644" y="1901"/>
                  </a:lnTo>
                  <a:lnTo>
                    <a:pt x="755" y="1919"/>
                  </a:lnTo>
                  <a:lnTo>
                    <a:pt x="834" y="1778"/>
                  </a:lnTo>
                  <a:lnTo>
                    <a:pt x="852" y="1513"/>
                  </a:lnTo>
                  <a:lnTo>
                    <a:pt x="1094" y="1760"/>
                  </a:lnTo>
                  <a:lnTo>
                    <a:pt x="1191" y="1742"/>
                  </a:lnTo>
                  <a:lnTo>
                    <a:pt x="1169" y="1570"/>
                  </a:lnTo>
                  <a:lnTo>
                    <a:pt x="1076" y="1328"/>
                  </a:lnTo>
                  <a:lnTo>
                    <a:pt x="979" y="1169"/>
                  </a:lnTo>
                  <a:lnTo>
                    <a:pt x="1015" y="1059"/>
                  </a:lnTo>
                  <a:lnTo>
                    <a:pt x="1076" y="1076"/>
                  </a:lnTo>
                  <a:lnTo>
                    <a:pt x="1298" y="1328"/>
                  </a:lnTo>
                  <a:lnTo>
                    <a:pt x="1536" y="1390"/>
                  </a:lnTo>
                  <a:lnTo>
                    <a:pt x="1589" y="1310"/>
                  </a:lnTo>
                  <a:lnTo>
                    <a:pt x="1554" y="1182"/>
                  </a:lnTo>
                  <a:lnTo>
                    <a:pt x="1112" y="798"/>
                  </a:lnTo>
                  <a:lnTo>
                    <a:pt x="755" y="679"/>
                  </a:lnTo>
                  <a:lnTo>
                    <a:pt x="710" y="463"/>
                  </a:lnTo>
                  <a:lnTo>
                    <a:pt x="834" y="268"/>
                  </a:lnTo>
                  <a:lnTo>
                    <a:pt x="834" y="61"/>
                  </a:lnTo>
                  <a:lnTo>
                    <a:pt x="733" y="0"/>
                  </a:lnTo>
                  <a:lnTo>
                    <a:pt x="477" y="520"/>
                  </a:lnTo>
                  <a:lnTo>
                    <a:pt x="251" y="599"/>
                  </a:lnTo>
                  <a:lnTo>
                    <a:pt x="194" y="740"/>
                  </a:lnTo>
                  <a:lnTo>
                    <a:pt x="141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13760" y="374760"/>
              <a:ext cx="624240" cy="883080"/>
            </a:xfrm>
            <a:custGeom>
              <a:avLst/>
              <a:gdLst/>
              <a:ahLst/>
              <a:rect l="0" t="0" r="r" b="b"/>
              <a:pathLst>
                <a:path w="1734" h="2453">
                  <a:moveTo>
                    <a:pt x="432" y="339"/>
                  </a:moveTo>
                  <a:lnTo>
                    <a:pt x="304" y="812"/>
                  </a:lnTo>
                  <a:lnTo>
                    <a:pt x="17" y="904"/>
                  </a:lnTo>
                  <a:lnTo>
                    <a:pt x="97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41" y="1469"/>
                  </a:lnTo>
                  <a:lnTo>
                    <a:pt x="268" y="1469"/>
                  </a:lnTo>
                  <a:lnTo>
                    <a:pt x="361" y="2017"/>
                  </a:lnTo>
                  <a:lnTo>
                    <a:pt x="467" y="2250"/>
                  </a:lnTo>
                  <a:lnTo>
                    <a:pt x="824" y="2453"/>
                  </a:lnTo>
                  <a:lnTo>
                    <a:pt x="1178" y="2422"/>
                  </a:lnTo>
                  <a:lnTo>
                    <a:pt x="1345" y="2017"/>
                  </a:lnTo>
                  <a:lnTo>
                    <a:pt x="1385" y="1394"/>
                  </a:lnTo>
                  <a:lnTo>
                    <a:pt x="1734" y="1090"/>
                  </a:lnTo>
                  <a:lnTo>
                    <a:pt x="1716" y="966"/>
                  </a:lnTo>
                  <a:lnTo>
                    <a:pt x="1676" y="904"/>
                  </a:lnTo>
                  <a:lnTo>
                    <a:pt x="1495" y="891"/>
                  </a:lnTo>
                  <a:lnTo>
                    <a:pt x="1553" y="733"/>
                  </a:lnTo>
                  <a:lnTo>
                    <a:pt x="1368" y="622"/>
                  </a:lnTo>
                  <a:lnTo>
                    <a:pt x="1293" y="268"/>
                  </a:lnTo>
                  <a:lnTo>
                    <a:pt x="749" y="0"/>
                  </a:lnTo>
                  <a:lnTo>
                    <a:pt x="467" y="251"/>
                  </a:lnTo>
                  <a:lnTo>
                    <a:pt x="43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59480" y="1112760"/>
              <a:ext cx="572040" cy="1054440"/>
            </a:xfrm>
            <a:custGeom>
              <a:avLst/>
              <a:gdLst/>
              <a:ahLst/>
              <a:rect l="0" t="0" r="r" b="b"/>
              <a:pathLst>
                <a:path w="1589" h="2929">
                  <a:moveTo>
                    <a:pt x="326" y="154"/>
                  </a:moveTo>
                  <a:lnTo>
                    <a:pt x="552" y="295"/>
                  </a:lnTo>
                  <a:lnTo>
                    <a:pt x="662" y="449"/>
                  </a:lnTo>
                  <a:lnTo>
                    <a:pt x="1298" y="0"/>
                  </a:lnTo>
                  <a:lnTo>
                    <a:pt x="1496" y="92"/>
                  </a:lnTo>
                  <a:lnTo>
                    <a:pt x="1589" y="555"/>
                  </a:lnTo>
                  <a:lnTo>
                    <a:pt x="1129" y="1901"/>
                  </a:lnTo>
                  <a:lnTo>
                    <a:pt x="1276" y="2646"/>
                  </a:lnTo>
                  <a:lnTo>
                    <a:pt x="675" y="2929"/>
                  </a:lnTo>
                  <a:lnTo>
                    <a:pt x="211" y="2770"/>
                  </a:lnTo>
                  <a:lnTo>
                    <a:pt x="211" y="1980"/>
                  </a:lnTo>
                  <a:lnTo>
                    <a:pt x="0" y="1217"/>
                  </a:lnTo>
                  <a:lnTo>
                    <a:pt x="211" y="295"/>
                  </a:lnTo>
                  <a:lnTo>
                    <a:pt x="326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85040" y="257040"/>
              <a:ext cx="532080" cy="279720"/>
            </a:xfrm>
            <a:custGeom>
              <a:avLst/>
              <a:gdLst/>
              <a:ahLst/>
              <a:rect l="0" t="0" r="r" b="b"/>
              <a:pathLst>
                <a:path w="1478" h="777">
                  <a:moveTo>
                    <a:pt x="180" y="741"/>
                  </a:moveTo>
                  <a:lnTo>
                    <a:pt x="396" y="534"/>
                  </a:lnTo>
                  <a:lnTo>
                    <a:pt x="537" y="503"/>
                  </a:lnTo>
                  <a:lnTo>
                    <a:pt x="537" y="521"/>
                  </a:lnTo>
                  <a:lnTo>
                    <a:pt x="608" y="503"/>
                  </a:lnTo>
                  <a:lnTo>
                    <a:pt x="696" y="565"/>
                  </a:lnTo>
                  <a:lnTo>
                    <a:pt x="869" y="596"/>
                  </a:lnTo>
                  <a:lnTo>
                    <a:pt x="1015" y="777"/>
                  </a:lnTo>
                  <a:lnTo>
                    <a:pt x="1244" y="697"/>
                  </a:lnTo>
                  <a:lnTo>
                    <a:pt x="1244" y="613"/>
                  </a:lnTo>
                  <a:lnTo>
                    <a:pt x="1478" y="521"/>
                  </a:lnTo>
                  <a:lnTo>
                    <a:pt x="1407" y="374"/>
                  </a:lnTo>
                  <a:lnTo>
                    <a:pt x="1187" y="361"/>
                  </a:lnTo>
                  <a:lnTo>
                    <a:pt x="1222" y="202"/>
                  </a:lnTo>
                  <a:lnTo>
                    <a:pt x="1037" y="220"/>
                  </a:lnTo>
                  <a:lnTo>
                    <a:pt x="1002" y="110"/>
                  </a:lnTo>
                  <a:lnTo>
                    <a:pt x="869" y="110"/>
                  </a:lnTo>
                  <a:lnTo>
                    <a:pt x="781" y="171"/>
                  </a:lnTo>
                  <a:lnTo>
                    <a:pt x="696" y="171"/>
                  </a:lnTo>
                  <a:lnTo>
                    <a:pt x="714" y="0"/>
                  </a:lnTo>
                  <a:lnTo>
                    <a:pt x="537" y="79"/>
                  </a:lnTo>
                  <a:lnTo>
                    <a:pt x="291" y="361"/>
                  </a:lnTo>
                  <a:lnTo>
                    <a:pt x="277" y="171"/>
                  </a:lnTo>
                  <a:lnTo>
                    <a:pt x="145" y="264"/>
                  </a:lnTo>
                  <a:lnTo>
                    <a:pt x="114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80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27960" y="1306440"/>
              <a:ext cx="170280" cy="798840"/>
            </a:xfrm>
            <a:custGeom>
              <a:avLst/>
              <a:gdLst/>
              <a:ahLst/>
              <a:rect l="0" t="0" r="r" b="b"/>
              <a:pathLst>
                <a:path w="473" h="2219">
                  <a:moveTo>
                    <a:pt x="243" y="13"/>
                  </a:moveTo>
                  <a:lnTo>
                    <a:pt x="83" y="110"/>
                  </a:lnTo>
                  <a:lnTo>
                    <a:pt x="83" y="295"/>
                  </a:lnTo>
                  <a:lnTo>
                    <a:pt x="195" y="357"/>
                  </a:lnTo>
                  <a:lnTo>
                    <a:pt x="44" y="652"/>
                  </a:lnTo>
                  <a:lnTo>
                    <a:pt x="0" y="1040"/>
                  </a:lnTo>
                  <a:lnTo>
                    <a:pt x="120" y="1553"/>
                  </a:lnTo>
                  <a:lnTo>
                    <a:pt x="120" y="1769"/>
                  </a:lnTo>
                  <a:lnTo>
                    <a:pt x="57" y="1932"/>
                  </a:lnTo>
                  <a:lnTo>
                    <a:pt x="300" y="2219"/>
                  </a:lnTo>
                  <a:lnTo>
                    <a:pt x="456" y="1786"/>
                  </a:lnTo>
                  <a:lnTo>
                    <a:pt x="456" y="1491"/>
                  </a:lnTo>
                  <a:lnTo>
                    <a:pt x="340" y="1213"/>
                  </a:lnTo>
                  <a:lnTo>
                    <a:pt x="283" y="837"/>
                  </a:lnTo>
                  <a:lnTo>
                    <a:pt x="398" y="471"/>
                  </a:lnTo>
                  <a:lnTo>
                    <a:pt x="359" y="326"/>
                  </a:lnTo>
                  <a:lnTo>
                    <a:pt x="473" y="251"/>
                  </a:lnTo>
                  <a:lnTo>
                    <a:pt x="456" y="154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21480" y="1039680"/>
              <a:ext cx="138600" cy="73440"/>
            </a:xfrm>
            <a:custGeom>
              <a:avLst/>
              <a:gdLst/>
              <a:ahLst/>
              <a:rect l="0" t="0" r="r" b="b"/>
              <a:pathLst>
                <a:path w="385" h="204">
                  <a:moveTo>
                    <a:pt x="0" y="62"/>
                  </a:moveTo>
                  <a:lnTo>
                    <a:pt x="155" y="204"/>
                  </a:lnTo>
                  <a:lnTo>
                    <a:pt x="306" y="187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72440" y="671400"/>
              <a:ext cx="170280" cy="155880"/>
            </a:xfrm>
            <a:custGeom>
              <a:avLst/>
              <a:gdLst/>
              <a:ahLst/>
              <a:rect l="0" t="0" r="r" b="b"/>
              <a:pathLst>
                <a:path w="473" h="433">
                  <a:moveTo>
                    <a:pt x="0" y="48"/>
                  </a:moveTo>
                  <a:lnTo>
                    <a:pt x="327" y="433"/>
                  </a:lnTo>
                  <a:lnTo>
                    <a:pt x="473" y="402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72320" y="638280"/>
              <a:ext cx="146520" cy="155880"/>
            </a:xfrm>
            <a:custGeom>
              <a:avLst/>
              <a:gdLst/>
              <a:ahLst/>
              <a:rect l="0" t="0" r="r" b="b"/>
              <a:pathLst>
                <a:path w="407" h="433">
                  <a:moveTo>
                    <a:pt x="0" y="61"/>
                  </a:moveTo>
                  <a:lnTo>
                    <a:pt x="283" y="433"/>
                  </a:lnTo>
                  <a:lnTo>
                    <a:pt x="407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08720" y="436680"/>
              <a:ext cx="595800" cy="390960"/>
            </a:xfrm>
            <a:custGeom>
              <a:avLst/>
              <a:gdLst/>
              <a:ahLst/>
              <a:rect l="0" t="0" r="r" b="b"/>
              <a:pathLst>
                <a:path w="1655" h="1086">
                  <a:moveTo>
                    <a:pt x="759" y="644"/>
                  </a:moveTo>
                  <a:lnTo>
                    <a:pt x="609" y="605"/>
                  </a:lnTo>
                  <a:lnTo>
                    <a:pt x="737" y="508"/>
                  </a:lnTo>
                  <a:lnTo>
                    <a:pt x="693" y="455"/>
                  </a:lnTo>
                  <a:lnTo>
                    <a:pt x="521" y="583"/>
                  </a:lnTo>
                  <a:lnTo>
                    <a:pt x="207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8" y="1077"/>
                  </a:lnTo>
                  <a:lnTo>
                    <a:pt x="246" y="1086"/>
                  </a:lnTo>
                  <a:lnTo>
                    <a:pt x="70" y="750"/>
                  </a:lnTo>
                  <a:lnTo>
                    <a:pt x="343" y="644"/>
                  </a:lnTo>
                  <a:lnTo>
                    <a:pt x="521" y="644"/>
                  </a:lnTo>
                  <a:lnTo>
                    <a:pt x="658" y="710"/>
                  </a:lnTo>
                  <a:lnTo>
                    <a:pt x="693" y="803"/>
                  </a:lnTo>
                  <a:lnTo>
                    <a:pt x="693" y="1011"/>
                  </a:lnTo>
                  <a:lnTo>
                    <a:pt x="693" y="1077"/>
                  </a:lnTo>
                  <a:lnTo>
                    <a:pt x="768" y="980"/>
                  </a:lnTo>
                  <a:lnTo>
                    <a:pt x="768" y="763"/>
                  </a:lnTo>
                  <a:lnTo>
                    <a:pt x="887" y="763"/>
                  </a:lnTo>
                  <a:lnTo>
                    <a:pt x="944" y="1011"/>
                  </a:lnTo>
                  <a:lnTo>
                    <a:pt x="1006" y="1033"/>
                  </a:lnTo>
                  <a:lnTo>
                    <a:pt x="1209" y="1033"/>
                  </a:lnTo>
                  <a:lnTo>
                    <a:pt x="1413" y="989"/>
                  </a:lnTo>
                  <a:lnTo>
                    <a:pt x="1554" y="897"/>
                  </a:lnTo>
                  <a:lnTo>
                    <a:pt x="1576" y="675"/>
                  </a:lnTo>
                  <a:lnTo>
                    <a:pt x="1655" y="583"/>
                  </a:lnTo>
                  <a:lnTo>
                    <a:pt x="1607" y="525"/>
                  </a:lnTo>
                  <a:lnTo>
                    <a:pt x="1426" y="464"/>
                  </a:lnTo>
                  <a:lnTo>
                    <a:pt x="1395" y="242"/>
                  </a:lnTo>
                  <a:lnTo>
                    <a:pt x="1222" y="242"/>
                  </a:lnTo>
                  <a:lnTo>
                    <a:pt x="1015" y="0"/>
                  </a:lnTo>
                  <a:lnTo>
                    <a:pt x="1204" y="268"/>
                  </a:lnTo>
                  <a:lnTo>
                    <a:pt x="1263" y="268"/>
                  </a:lnTo>
                  <a:lnTo>
                    <a:pt x="1302" y="455"/>
                  </a:lnTo>
                  <a:lnTo>
                    <a:pt x="1068" y="525"/>
                  </a:lnTo>
                  <a:lnTo>
                    <a:pt x="900" y="472"/>
                  </a:lnTo>
                  <a:lnTo>
                    <a:pt x="874" y="525"/>
                  </a:lnTo>
                  <a:lnTo>
                    <a:pt x="966" y="583"/>
                  </a:lnTo>
                  <a:lnTo>
                    <a:pt x="966" y="636"/>
                  </a:lnTo>
                  <a:lnTo>
                    <a:pt x="1165" y="552"/>
                  </a:lnTo>
                  <a:lnTo>
                    <a:pt x="1329" y="538"/>
                  </a:lnTo>
                  <a:lnTo>
                    <a:pt x="1518" y="561"/>
                  </a:lnTo>
                  <a:lnTo>
                    <a:pt x="1518" y="591"/>
                  </a:lnTo>
                  <a:lnTo>
                    <a:pt x="1430" y="666"/>
                  </a:lnTo>
                  <a:lnTo>
                    <a:pt x="1395" y="763"/>
                  </a:lnTo>
                  <a:lnTo>
                    <a:pt x="1386" y="897"/>
                  </a:lnTo>
                  <a:lnTo>
                    <a:pt x="1276" y="950"/>
                  </a:lnTo>
                  <a:lnTo>
                    <a:pt x="1116" y="967"/>
                  </a:lnTo>
                  <a:lnTo>
                    <a:pt x="1006" y="967"/>
                  </a:lnTo>
                  <a:lnTo>
                    <a:pt x="966" y="928"/>
                  </a:lnTo>
                  <a:lnTo>
                    <a:pt x="944" y="675"/>
                  </a:lnTo>
                  <a:lnTo>
                    <a:pt x="768" y="675"/>
                  </a:lnTo>
                  <a:lnTo>
                    <a:pt x="75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13560" y="887400"/>
              <a:ext cx="192600" cy="79560"/>
            </a:xfrm>
            <a:custGeom>
              <a:avLst/>
              <a:gdLst/>
              <a:ahLst/>
              <a:rect l="0" t="0" r="r" b="b"/>
              <a:pathLst>
                <a:path w="535" h="221">
                  <a:moveTo>
                    <a:pt x="0" y="0"/>
                  </a:moveTo>
                  <a:lnTo>
                    <a:pt x="88" y="101"/>
                  </a:lnTo>
                  <a:lnTo>
                    <a:pt x="318" y="101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66"/>
                  </a:lnTo>
                  <a:lnTo>
                    <a:pt x="513" y="101"/>
                  </a:lnTo>
                  <a:lnTo>
                    <a:pt x="296" y="221"/>
                  </a:lnTo>
                  <a:lnTo>
                    <a:pt x="177" y="221"/>
                  </a:lnTo>
                  <a:lnTo>
                    <a:pt x="114" y="177"/>
                  </a:lnTo>
                  <a:lnTo>
                    <a:pt x="4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9360" y="758880"/>
              <a:ext cx="292320" cy="421200"/>
            </a:xfrm>
            <a:custGeom>
              <a:avLst/>
              <a:gdLst/>
              <a:ahLst/>
              <a:rect l="0" t="0" r="r" b="b"/>
              <a:pathLst>
                <a:path w="812" h="1170">
                  <a:moveTo>
                    <a:pt x="812" y="83"/>
                  </a:moveTo>
                  <a:lnTo>
                    <a:pt x="812" y="101"/>
                  </a:lnTo>
                  <a:lnTo>
                    <a:pt x="666" y="220"/>
                  </a:lnTo>
                  <a:lnTo>
                    <a:pt x="552" y="242"/>
                  </a:lnTo>
                  <a:lnTo>
                    <a:pt x="321" y="211"/>
                  </a:lnTo>
                  <a:lnTo>
                    <a:pt x="366" y="631"/>
                  </a:lnTo>
                  <a:lnTo>
                    <a:pt x="419" y="980"/>
                  </a:lnTo>
                  <a:lnTo>
                    <a:pt x="516" y="1170"/>
                  </a:lnTo>
                  <a:lnTo>
                    <a:pt x="419" y="1033"/>
                  </a:lnTo>
                  <a:lnTo>
                    <a:pt x="379" y="888"/>
                  </a:lnTo>
                  <a:lnTo>
                    <a:pt x="313" y="494"/>
                  </a:lnTo>
                  <a:lnTo>
                    <a:pt x="246" y="516"/>
                  </a:lnTo>
                  <a:lnTo>
                    <a:pt x="171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1"/>
                  </a:lnTo>
                  <a:lnTo>
                    <a:pt x="57" y="251"/>
                  </a:lnTo>
                  <a:lnTo>
                    <a:pt x="163" y="349"/>
                  </a:lnTo>
                  <a:lnTo>
                    <a:pt x="207" y="327"/>
                  </a:lnTo>
                  <a:lnTo>
                    <a:pt x="207" y="114"/>
                  </a:lnTo>
                  <a:lnTo>
                    <a:pt x="304" y="158"/>
                  </a:lnTo>
                  <a:lnTo>
                    <a:pt x="455" y="189"/>
                  </a:lnTo>
                  <a:lnTo>
                    <a:pt x="591" y="180"/>
                  </a:lnTo>
                  <a:lnTo>
                    <a:pt x="719" y="114"/>
                  </a:lnTo>
                  <a:lnTo>
                    <a:pt x="81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78560" y="425520"/>
              <a:ext cx="87840" cy="224280"/>
            </a:xfrm>
            <a:custGeom>
              <a:avLst/>
              <a:gdLst/>
              <a:ahLst/>
              <a:rect l="0" t="0" r="r" b="b"/>
              <a:pathLst>
                <a:path w="244" h="623">
                  <a:moveTo>
                    <a:pt x="124" y="623"/>
                  </a:moveTo>
                  <a:lnTo>
                    <a:pt x="244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9" y="212"/>
                  </a:lnTo>
                  <a:lnTo>
                    <a:pt x="98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75680" y="228600"/>
              <a:ext cx="652680" cy="295560"/>
            </a:xfrm>
            <a:custGeom>
              <a:avLst/>
              <a:gdLst/>
              <a:ahLst/>
              <a:rect l="0" t="0" r="r" b="b"/>
              <a:pathLst>
                <a:path w="1813" h="821">
                  <a:moveTo>
                    <a:pt x="17" y="556"/>
                  </a:moveTo>
                  <a:lnTo>
                    <a:pt x="171" y="640"/>
                  </a:lnTo>
                  <a:lnTo>
                    <a:pt x="154" y="534"/>
                  </a:lnTo>
                  <a:lnTo>
                    <a:pt x="185" y="348"/>
                  </a:lnTo>
                  <a:lnTo>
                    <a:pt x="291" y="308"/>
                  </a:lnTo>
                  <a:lnTo>
                    <a:pt x="304" y="508"/>
                  </a:lnTo>
                  <a:lnTo>
                    <a:pt x="608" y="158"/>
                  </a:lnTo>
                  <a:lnTo>
                    <a:pt x="679" y="136"/>
                  </a:lnTo>
                  <a:lnTo>
                    <a:pt x="626" y="273"/>
                  </a:lnTo>
                  <a:lnTo>
                    <a:pt x="815" y="339"/>
                  </a:lnTo>
                  <a:lnTo>
                    <a:pt x="953" y="202"/>
                  </a:lnTo>
                  <a:lnTo>
                    <a:pt x="1028" y="242"/>
                  </a:lnTo>
                  <a:lnTo>
                    <a:pt x="962" y="361"/>
                  </a:lnTo>
                  <a:lnTo>
                    <a:pt x="1054" y="295"/>
                  </a:lnTo>
                  <a:lnTo>
                    <a:pt x="1187" y="348"/>
                  </a:lnTo>
                  <a:lnTo>
                    <a:pt x="1081" y="446"/>
                  </a:lnTo>
                  <a:lnTo>
                    <a:pt x="1451" y="508"/>
                  </a:lnTo>
                  <a:lnTo>
                    <a:pt x="1200" y="578"/>
                  </a:lnTo>
                  <a:lnTo>
                    <a:pt x="1513" y="618"/>
                  </a:lnTo>
                  <a:lnTo>
                    <a:pt x="1147" y="697"/>
                  </a:lnTo>
                  <a:lnTo>
                    <a:pt x="1222" y="759"/>
                  </a:lnTo>
                  <a:lnTo>
                    <a:pt x="1116" y="821"/>
                  </a:lnTo>
                  <a:lnTo>
                    <a:pt x="1306" y="821"/>
                  </a:lnTo>
                  <a:lnTo>
                    <a:pt x="1288" y="772"/>
                  </a:lnTo>
                  <a:lnTo>
                    <a:pt x="1482" y="816"/>
                  </a:lnTo>
                  <a:lnTo>
                    <a:pt x="1451" y="684"/>
                  </a:lnTo>
                  <a:lnTo>
                    <a:pt x="1637" y="627"/>
                  </a:lnTo>
                  <a:lnTo>
                    <a:pt x="1504" y="565"/>
                  </a:lnTo>
                  <a:lnTo>
                    <a:pt x="1813" y="547"/>
                  </a:lnTo>
                  <a:lnTo>
                    <a:pt x="1548" y="415"/>
                  </a:lnTo>
                  <a:lnTo>
                    <a:pt x="1244" y="383"/>
                  </a:lnTo>
                  <a:lnTo>
                    <a:pt x="1482" y="251"/>
                  </a:lnTo>
                  <a:lnTo>
                    <a:pt x="1054" y="251"/>
                  </a:lnTo>
                  <a:lnTo>
                    <a:pt x="1257" y="123"/>
                  </a:lnTo>
                  <a:lnTo>
                    <a:pt x="944" y="158"/>
                  </a:lnTo>
                  <a:lnTo>
                    <a:pt x="798" y="220"/>
                  </a:lnTo>
                  <a:lnTo>
                    <a:pt x="922" y="0"/>
                  </a:lnTo>
                  <a:lnTo>
                    <a:pt x="546" y="123"/>
                  </a:lnTo>
                  <a:lnTo>
                    <a:pt x="339" y="392"/>
                  </a:lnTo>
                  <a:lnTo>
                    <a:pt x="304" y="242"/>
                  </a:lnTo>
                  <a:lnTo>
                    <a:pt x="132" y="348"/>
                  </a:lnTo>
                  <a:lnTo>
                    <a:pt x="114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6800" y="38592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248"/>
                  </a:moveTo>
                  <a:lnTo>
                    <a:pt x="190" y="0"/>
                  </a:lnTo>
                  <a:lnTo>
                    <a:pt x="190" y="164"/>
                  </a:lnTo>
                  <a:lnTo>
                    <a:pt x="261" y="98"/>
                  </a:lnTo>
                  <a:lnTo>
                    <a:pt x="322" y="191"/>
                  </a:lnTo>
                  <a:lnTo>
                    <a:pt x="513" y="235"/>
                  </a:lnTo>
                  <a:lnTo>
                    <a:pt x="309" y="204"/>
                  </a:lnTo>
                  <a:lnTo>
                    <a:pt x="247" y="142"/>
                  </a:lnTo>
                  <a:lnTo>
                    <a:pt x="159" y="204"/>
                  </a:lnTo>
                  <a:lnTo>
                    <a:pt x="15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99520" y="990720"/>
              <a:ext cx="222480" cy="132120"/>
            </a:xfrm>
            <a:custGeom>
              <a:avLst/>
              <a:gdLst/>
              <a:ahLst/>
              <a:rect l="0" t="0" r="r" b="b"/>
              <a:pathLst>
                <a:path w="618" h="367">
                  <a:moveTo>
                    <a:pt x="119" y="127"/>
                  </a:moveTo>
                  <a:lnTo>
                    <a:pt x="371" y="110"/>
                  </a:lnTo>
                  <a:lnTo>
                    <a:pt x="490" y="136"/>
                  </a:lnTo>
                  <a:lnTo>
                    <a:pt x="552" y="83"/>
                  </a:lnTo>
                  <a:lnTo>
                    <a:pt x="618" y="203"/>
                  </a:lnTo>
                  <a:lnTo>
                    <a:pt x="574" y="225"/>
                  </a:lnTo>
                  <a:lnTo>
                    <a:pt x="521" y="180"/>
                  </a:lnTo>
                  <a:lnTo>
                    <a:pt x="441" y="265"/>
                  </a:lnTo>
                  <a:lnTo>
                    <a:pt x="286" y="367"/>
                  </a:lnTo>
                  <a:lnTo>
                    <a:pt x="216" y="367"/>
                  </a:lnTo>
                  <a:lnTo>
                    <a:pt x="119" y="314"/>
                  </a:lnTo>
                  <a:lnTo>
                    <a:pt x="229" y="358"/>
                  </a:lnTo>
                  <a:lnTo>
                    <a:pt x="273" y="358"/>
                  </a:lnTo>
                  <a:lnTo>
                    <a:pt x="371" y="292"/>
                  </a:lnTo>
                  <a:lnTo>
                    <a:pt x="437" y="167"/>
                  </a:lnTo>
                  <a:lnTo>
                    <a:pt x="336" y="149"/>
                  </a:lnTo>
                  <a:lnTo>
                    <a:pt x="268" y="136"/>
                  </a:lnTo>
                  <a:lnTo>
                    <a:pt x="105" y="158"/>
                  </a:lnTo>
                  <a:lnTo>
                    <a:pt x="101" y="256"/>
                  </a:lnTo>
                  <a:lnTo>
                    <a:pt x="48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6" y="0"/>
                  </a:lnTo>
                  <a:lnTo>
                    <a:pt x="119" y="97"/>
                  </a:lnTo>
                  <a:lnTo>
                    <a:pt x="119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2520" y="703440"/>
              <a:ext cx="475200" cy="609840"/>
            </a:xfrm>
            <a:custGeom>
              <a:avLst/>
              <a:gdLst/>
              <a:ahLst/>
              <a:rect l="0" t="0" r="r" b="b"/>
              <a:pathLst>
                <a:path w="1320" h="1694">
                  <a:moveTo>
                    <a:pt x="1113" y="0"/>
                  </a:moveTo>
                  <a:lnTo>
                    <a:pt x="1241" y="0"/>
                  </a:lnTo>
                  <a:lnTo>
                    <a:pt x="1320" y="83"/>
                  </a:lnTo>
                  <a:lnTo>
                    <a:pt x="1320" y="176"/>
                  </a:lnTo>
                  <a:lnTo>
                    <a:pt x="1210" y="440"/>
                  </a:lnTo>
                  <a:lnTo>
                    <a:pt x="1104" y="568"/>
                  </a:lnTo>
                  <a:lnTo>
                    <a:pt x="988" y="586"/>
                  </a:lnTo>
                  <a:lnTo>
                    <a:pt x="957" y="586"/>
                  </a:lnTo>
                  <a:lnTo>
                    <a:pt x="957" y="918"/>
                  </a:lnTo>
                  <a:lnTo>
                    <a:pt x="1011" y="1160"/>
                  </a:lnTo>
                  <a:lnTo>
                    <a:pt x="1011" y="1359"/>
                  </a:lnTo>
                  <a:lnTo>
                    <a:pt x="812" y="1557"/>
                  </a:lnTo>
                  <a:lnTo>
                    <a:pt x="538" y="1694"/>
                  </a:lnTo>
                  <a:lnTo>
                    <a:pt x="367" y="1694"/>
                  </a:lnTo>
                  <a:lnTo>
                    <a:pt x="277" y="1654"/>
                  </a:lnTo>
                  <a:lnTo>
                    <a:pt x="154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5" y="1359"/>
                  </a:lnTo>
                  <a:lnTo>
                    <a:pt x="255" y="1442"/>
                  </a:lnTo>
                  <a:lnTo>
                    <a:pt x="464" y="1456"/>
                  </a:lnTo>
                  <a:lnTo>
                    <a:pt x="658" y="1372"/>
                  </a:lnTo>
                  <a:lnTo>
                    <a:pt x="755" y="1275"/>
                  </a:lnTo>
                  <a:lnTo>
                    <a:pt x="865" y="1103"/>
                  </a:lnTo>
                  <a:lnTo>
                    <a:pt x="882" y="900"/>
                  </a:lnTo>
                  <a:lnTo>
                    <a:pt x="922" y="251"/>
                  </a:lnTo>
                  <a:lnTo>
                    <a:pt x="966" y="343"/>
                  </a:lnTo>
                  <a:lnTo>
                    <a:pt x="1100" y="224"/>
                  </a:lnTo>
                  <a:lnTo>
                    <a:pt x="1232" y="176"/>
                  </a:lnTo>
                  <a:lnTo>
                    <a:pt x="1267" y="105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35600" y="1230480"/>
              <a:ext cx="383040" cy="563760"/>
            </a:xfrm>
            <a:custGeom>
              <a:avLst/>
              <a:gdLst/>
              <a:ahLst/>
              <a:rect l="0" t="0" r="r" b="b"/>
              <a:pathLst>
                <a:path w="1064" h="1566">
                  <a:moveTo>
                    <a:pt x="132" y="0"/>
                  </a:moveTo>
                  <a:lnTo>
                    <a:pt x="255" y="70"/>
                  </a:lnTo>
                  <a:lnTo>
                    <a:pt x="349" y="392"/>
                  </a:lnTo>
                  <a:lnTo>
                    <a:pt x="622" y="463"/>
                  </a:lnTo>
                  <a:lnTo>
                    <a:pt x="697" y="546"/>
                  </a:lnTo>
                  <a:lnTo>
                    <a:pt x="710" y="665"/>
                  </a:lnTo>
                  <a:lnTo>
                    <a:pt x="848" y="648"/>
                  </a:lnTo>
                  <a:lnTo>
                    <a:pt x="1011" y="749"/>
                  </a:lnTo>
                  <a:lnTo>
                    <a:pt x="1064" y="874"/>
                  </a:lnTo>
                  <a:lnTo>
                    <a:pt x="1064" y="1094"/>
                  </a:lnTo>
                  <a:lnTo>
                    <a:pt x="848" y="1429"/>
                  </a:lnTo>
                  <a:lnTo>
                    <a:pt x="772" y="1566"/>
                  </a:lnTo>
                  <a:lnTo>
                    <a:pt x="813" y="1385"/>
                  </a:lnTo>
                  <a:lnTo>
                    <a:pt x="772" y="1315"/>
                  </a:lnTo>
                  <a:lnTo>
                    <a:pt x="644" y="1200"/>
                  </a:lnTo>
                  <a:lnTo>
                    <a:pt x="433" y="1063"/>
                  </a:lnTo>
                  <a:lnTo>
                    <a:pt x="684" y="1143"/>
                  </a:lnTo>
                  <a:lnTo>
                    <a:pt x="835" y="1244"/>
                  </a:lnTo>
                  <a:lnTo>
                    <a:pt x="910" y="1231"/>
                  </a:lnTo>
                  <a:lnTo>
                    <a:pt x="954" y="1173"/>
                  </a:lnTo>
                  <a:lnTo>
                    <a:pt x="1011" y="1015"/>
                  </a:lnTo>
                  <a:lnTo>
                    <a:pt x="994" y="860"/>
                  </a:lnTo>
                  <a:lnTo>
                    <a:pt x="919" y="776"/>
                  </a:lnTo>
                  <a:lnTo>
                    <a:pt x="785" y="749"/>
                  </a:lnTo>
                  <a:lnTo>
                    <a:pt x="644" y="749"/>
                  </a:lnTo>
                  <a:lnTo>
                    <a:pt x="596" y="515"/>
                  </a:lnTo>
                  <a:lnTo>
                    <a:pt x="362" y="436"/>
                  </a:lnTo>
                  <a:lnTo>
                    <a:pt x="362" y="502"/>
                  </a:lnTo>
                  <a:lnTo>
                    <a:pt x="255" y="335"/>
                  </a:lnTo>
                  <a:lnTo>
                    <a:pt x="194" y="70"/>
                  </a:lnTo>
                  <a:lnTo>
                    <a:pt x="105" y="44"/>
                  </a:lnTo>
                  <a:lnTo>
                    <a:pt x="52" y="123"/>
                  </a:lnTo>
                  <a:lnTo>
                    <a:pt x="52" y="304"/>
                  </a:lnTo>
                  <a:lnTo>
                    <a:pt x="97" y="502"/>
                  </a:lnTo>
                  <a:lnTo>
                    <a:pt x="220" y="665"/>
                  </a:lnTo>
                  <a:lnTo>
                    <a:pt x="83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53080" y="1477800"/>
              <a:ext cx="252720" cy="452880"/>
            </a:xfrm>
            <a:custGeom>
              <a:avLst/>
              <a:gdLst/>
              <a:ahLst/>
              <a:rect l="0" t="0" r="r" b="b"/>
              <a:pathLst>
                <a:path w="702" h="1258">
                  <a:moveTo>
                    <a:pt x="702" y="0"/>
                  </a:moveTo>
                  <a:lnTo>
                    <a:pt x="556" y="83"/>
                  </a:lnTo>
                  <a:lnTo>
                    <a:pt x="384" y="389"/>
                  </a:lnTo>
                  <a:lnTo>
                    <a:pt x="220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6" y="1060"/>
                  </a:lnTo>
                  <a:lnTo>
                    <a:pt x="268" y="950"/>
                  </a:lnTo>
                  <a:lnTo>
                    <a:pt x="371" y="724"/>
                  </a:lnTo>
                  <a:lnTo>
                    <a:pt x="516" y="587"/>
                  </a:lnTo>
                  <a:lnTo>
                    <a:pt x="516" y="768"/>
                  </a:lnTo>
                  <a:lnTo>
                    <a:pt x="494" y="935"/>
                  </a:lnTo>
                  <a:lnTo>
                    <a:pt x="343" y="1157"/>
                  </a:lnTo>
                  <a:lnTo>
                    <a:pt x="343" y="1227"/>
                  </a:lnTo>
                  <a:lnTo>
                    <a:pt x="494" y="1258"/>
                  </a:lnTo>
                  <a:lnTo>
                    <a:pt x="384" y="1197"/>
                  </a:lnTo>
                  <a:lnTo>
                    <a:pt x="402" y="1157"/>
                  </a:lnTo>
                  <a:lnTo>
                    <a:pt x="508" y="994"/>
                  </a:lnTo>
                  <a:lnTo>
                    <a:pt x="583" y="697"/>
                  </a:lnTo>
                  <a:lnTo>
                    <a:pt x="530" y="530"/>
                  </a:lnTo>
                  <a:lnTo>
                    <a:pt x="415" y="627"/>
                  </a:lnTo>
                  <a:lnTo>
                    <a:pt x="163" y="1003"/>
                  </a:lnTo>
                  <a:lnTo>
                    <a:pt x="101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6" y="710"/>
                  </a:lnTo>
                  <a:lnTo>
                    <a:pt x="415" y="406"/>
                  </a:lnTo>
                  <a:lnTo>
                    <a:pt x="583" y="11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40640" y="1733400"/>
              <a:ext cx="157680" cy="217800"/>
            </a:xfrm>
            <a:custGeom>
              <a:avLst/>
              <a:gdLst/>
              <a:ahLst/>
              <a:rect l="0" t="0" r="r" b="b"/>
              <a:pathLst>
                <a:path w="438" h="605">
                  <a:moveTo>
                    <a:pt x="0" y="534"/>
                  </a:moveTo>
                  <a:lnTo>
                    <a:pt x="146" y="380"/>
                  </a:lnTo>
                  <a:lnTo>
                    <a:pt x="172" y="224"/>
                  </a:lnTo>
                  <a:lnTo>
                    <a:pt x="337" y="0"/>
                  </a:lnTo>
                  <a:lnTo>
                    <a:pt x="372" y="149"/>
                  </a:lnTo>
                  <a:lnTo>
                    <a:pt x="350" y="547"/>
                  </a:lnTo>
                  <a:lnTo>
                    <a:pt x="438" y="605"/>
                  </a:lnTo>
                  <a:lnTo>
                    <a:pt x="309" y="561"/>
                  </a:lnTo>
                  <a:lnTo>
                    <a:pt x="243" y="336"/>
                  </a:lnTo>
                  <a:lnTo>
                    <a:pt x="146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32520" y="1744560"/>
              <a:ext cx="103680" cy="195480"/>
            </a:xfrm>
            <a:custGeom>
              <a:avLst/>
              <a:gdLst/>
              <a:ahLst/>
              <a:rect l="0" t="0" r="r" b="b"/>
              <a:pathLst>
                <a:path w="288" h="543">
                  <a:moveTo>
                    <a:pt x="0" y="406"/>
                  </a:moveTo>
                  <a:lnTo>
                    <a:pt x="13" y="207"/>
                  </a:lnTo>
                  <a:lnTo>
                    <a:pt x="75" y="88"/>
                  </a:lnTo>
                  <a:lnTo>
                    <a:pt x="142" y="516"/>
                  </a:lnTo>
                  <a:lnTo>
                    <a:pt x="226" y="516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53"/>
                  </a:lnTo>
                  <a:lnTo>
                    <a:pt x="226" y="543"/>
                  </a:lnTo>
                  <a:lnTo>
                    <a:pt x="115" y="543"/>
                  </a:lnTo>
                  <a:lnTo>
                    <a:pt x="66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979560"/>
              <a:ext cx="249480" cy="519480"/>
            </a:xfrm>
            <a:custGeom>
              <a:avLst/>
              <a:gdLst/>
              <a:ahLst/>
              <a:rect l="0" t="0" r="r" b="b"/>
              <a:pathLst>
                <a:path w="693" h="1443">
                  <a:moveTo>
                    <a:pt x="180" y="781"/>
                  </a:moveTo>
                  <a:lnTo>
                    <a:pt x="233" y="556"/>
                  </a:lnTo>
                  <a:lnTo>
                    <a:pt x="468" y="499"/>
                  </a:lnTo>
                  <a:lnTo>
                    <a:pt x="693" y="0"/>
                  </a:lnTo>
                  <a:lnTo>
                    <a:pt x="693" y="145"/>
                  </a:lnTo>
                  <a:lnTo>
                    <a:pt x="503" y="530"/>
                  </a:lnTo>
                  <a:lnTo>
                    <a:pt x="255" y="600"/>
                  </a:lnTo>
                  <a:lnTo>
                    <a:pt x="220" y="781"/>
                  </a:lnTo>
                  <a:lnTo>
                    <a:pt x="308" y="781"/>
                  </a:lnTo>
                  <a:lnTo>
                    <a:pt x="92" y="860"/>
                  </a:lnTo>
                  <a:lnTo>
                    <a:pt x="39" y="1015"/>
                  </a:lnTo>
                  <a:lnTo>
                    <a:pt x="52" y="1214"/>
                  </a:lnTo>
                  <a:lnTo>
                    <a:pt x="282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5" y="785"/>
                  </a:lnTo>
                  <a:lnTo>
                    <a:pt x="180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18600" y="979560"/>
              <a:ext cx="419400" cy="503640"/>
            </a:xfrm>
            <a:custGeom>
              <a:avLst/>
              <a:gdLst/>
              <a:ahLst/>
              <a:rect l="0" t="0" r="r" b="b"/>
              <a:pathLst>
                <a:path w="1165" h="1399">
                  <a:moveTo>
                    <a:pt x="321" y="0"/>
                  </a:moveTo>
                  <a:lnTo>
                    <a:pt x="392" y="44"/>
                  </a:lnTo>
                  <a:lnTo>
                    <a:pt x="414" y="163"/>
                  </a:lnTo>
                  <a:lnTo>
                    <a:pt x="414" y="273"/>
                  </a:lnTo>
                  <a:lnTo>
                    <a:pt x="282" y="477"/>
                  </a:lnTo>
                  <a:lnTo>
                    <a:pt x="308" y="627"/>
                  </a:lnTo>
                  <a:lnTo>
                    <a:pt x="702" y="785"/>
                  </a:lnTo>
                  <a:lnTo>
                    <a:pt x="1156" y="1227"/>
                  </a:lnTo>
                  <a:lnTo>
                    <a:pt x="1165" y="1346"/>
                  </a:lnTo>
                  <a:lnTo>
                    <a:pt x="1138" y="1399"/>
                  </a:lnTo>
                  <a:lnTo>
                    <a:pt x="971" y="1399"/>
                  </a:lnTo>
                  <a:lnTo>
                    <a:pt x="816" y="1316"/>
                  </a:lnTo>
                  <a:lnTo>
                    <a:pt x="693" y="1170"/>
                  </a:lnTo>
                  <a:lnTo>
                    <a:pt x="622" y="1086"/>
                  </a:lnTo>
                  <a:lnTo>
                    <a:pt x="537" y="1073"/>
                  </a:lnTo>
                  <a:lnTo>
                    <a:pt x="640" y="1073"/>
                  </a:lnTo>
                  <a:lnTo>
                    <a:pt x="830" y="1302"/>
                  </a:lnTo>
                  <a:lnTo>
                    <a:pt x="1072" y="1369"/>
                  </a:lnTo>
                  <a:lnTo>
                    <a:pt x="1125" y="1302"/>
                  </a:lnTo>
                  <a:lnTo>
                    <a:pt x="1099" y="1197"/>
                  </a:lnTo>
                  <a:lnTo>
                    <a:pt x="675" y="878"/>
                  </a:lnTo>
                  <a:lnTo>
                    <a:pt x="613" y="785"/>
                  </a:lnTo>
                  <a:lnTo>
                    <a:pt x="282" y="706"/>
                  </a:lnTo>
                  <a:lnTo>
                    <a:pt x="224" y="785"/>
                  </a:lnTo>
                  <a:lnTo>
                    <a:pt x="0" y="918"/>
                  </a:lnTo>
                  <a:lnTo>
                    <a:pt x="211" y="763"/>
                  </a:lnTo>
                  <a:lnTo>
                    <a:pt x="224" y="671"/>
                  </a:lnTo>
                  <a:lnTo>
                    <a:pt x="224" y="446"/>
                  </a:lnTo>
                  <a:lnTo>
                    <a:pt x="374" y="273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42280" y="1374840"/>
              <a:ext cx="356040" cy="298800"/>
            </a:xfrm>
            <a:custGeom>
              <a:avLst/>
              <a:gdLst/>
              <a:ahLst/>
              <a:rect l="0" t="0" r="r" b="b"/>
              <a:pathLst>
                <a:path w="989" h="830">
                  <a:moveTo>
                    <a:pt x="741" y="0"/>
                  </a:moveTo>
                  <a:lnTo>
                    <a:pt x="715" y="70"/>
                  </a:lnTo>
                  <a:lnTo>
                    <a:pt x="866" y="343"/>
                  </a:lnTo>
                  <a:lnTo>
                    <a:pt x="936" y="627"/>
                  </a:lnTo>
                  <a:lnTo>
                    <a:pt x="853" y="627"/>
                  </a:lnTo>
                  <a:lnTo>
                    <a:pt x="702" y="503"/>
                  </a:lnTo>
                  <a:lnTo>
                    <a:pt x="569" y="242"/>
                  </a:lnTo>
                  <a:lnTo>
                    <a:pt x="464" y="202"/>
                  </a:lnTo>
                  <a:lnTo>
                    <a:pt x="481" y="343"/>
                  </a:lnTo>
                  <a:lnTo>
                    <a:pt x="578" y="446"/>
                  </a:lnTo>
                  <a:lnTo>
                    <a:pt x="578" y="644"/>
                  </a:lnTo>
                  <a:lnTo>
                    <a:pt x="508" y="790"/>
                  </a:lnTo>
                  <a:lnTo>
                    <a:pt x="415" y="733"/>
                  </a:lnTo>
                  <a:lnTo>
                    <a:pt x="305" y="503"/>
                  </a:lnTo>
                  <a:lnTo>
                    <a:pt x="278" y="343"/>
                  </a:lnTo>
                  <a:lnTo>
                    <a:pt x="211" y="299"/>
                  </a:lnTo>
                  <a:lnTo>
                    <a:pt x="194" y="702"/>
                  </a:lnTo>
                  <a:lnTo>
                    <a:pt x="105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6" y="816"/>
                  </a:lnTo>
                  <a:lnTo>
                    <a:pt x="194" y="816"/>
                  </a:lnTo>
                  <a:lnTo>
                    <a:pt x="238" y="719"/>
                  </a:lnTo>
                  <a:lnTo>
                    <a:pt x="265" y="405"/>
                  </a:lnTo>
                  <a:lnTo>
                    <a:pt x="287" y="530"/>
                  </a:lnTo>
                  <a:lnTo>
                    <a:pt x="397" y="799"/>
                  </a:lnTo>
                  <a:lnTo>
                    <a:pt x="521" y="830"/>
                  </a:lnTo>
                  <a:lnTo>
                    <a:pt x="613" y="719"/>
                  </a:lnTo>
                  <a:lnTo>
                    <a:pt x="613" y="459"/>
                  </a:lnTo>
                  <a:lnTo>
                    <a:pt x="853" y="675"/>
                  </a:lnTo>
                  <a:lnTo>
                    <a:pt x="976" y="675"/>
                  </a:lnTo>
                  <a:lnTo>
                    <a:pt x="989" y="530"/>
                  </a:lnTo>
                  <a:lnTo>
                    <a:pt x="897" y="26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02280" y="1066680"/>
              <a:ext cx="1586160" cy="1217880"/>
            </a:xfrm>
            <a:custGeom>
              <a:avLst/>
              <a:gdLst/>
              <a:ahLst/>
              <a:rect l="0" t="0" r="r" b="b"/>
              <a:pathLst>
                <a:path w="4406" h="3383">
                  <a:moveTo>
                    <a:pt x="1587" y="286"/>
                  </a:moveTo>
                  <a:lnTo>
                    <a:pt x="1503" y="299"/>
                  </a:lnTo>
                  <a:lnTo>
                    <a:pt x="1380" y="467"/>
                  </a:lnTo>
                  <a:lnTo>
                    <a:pt x="1336" y="343"/>
                  </a:lnTo>
                  <a:lnTo>
                    <a:pt x="1195" y="273"/>
                  </a:lnTo>
                  <a:lnTo>
                    <a:pt x="1089" y="326"/>
                  </a:lnTo>
                  <a:lnTo>
                    <a:pt x="1045" y="546"/>
                  </a:lnTo>
                  <a:lnTo>
                    <a:pt x="652" y="815"/>
                  </a:lnTo>
                  <a:lnTo>
                    <a:pt x="679" y="930"/>
                  </a:lnTo>
                  <a:lnTo>
                    <a:pt x="582" y="1031"/>
                  </a:lnTo>
                  <a:lnTo>
                    <a:pt x="582" y="1120"/>
                  </a:lnTo>
                  <a:lnTo>
                    <a:pt x="696" y="1375"/>
                  </a:lnTo>
                  <a:lnTo>
                    <a:pt x="705" y="1688"/>
                  </a:lnTo>
                  <a:lnTo>
                    <a:pt x="630" y="1980"/>
                  </a:lnTo>
                  <a:lnTo>
                    <a:pt x="348" y="2157"/>
                  </a:lnTo>
                  <a:lnTo>
                    <a:pt x="308" y="2399"/>
                  </a:lnTo>
                  <a:lnTo>
                    <a:pt x="220" y="2399"/>
                  </a:lnTo>
                  <a:lnTo>
                    <a:pt x="176" y="2201"/>
                  </a:lnTo>
                  <a:lnTo>
                    <a:pt x="92" y="2201"/>
                  </a:lnTo>
                  <a:lnTo>
                    <a:pt x="52" y="2413"/>
                  </a:lnTo>
                  <a:lnTo>
                    <a:pt x="0" y="2470"/>
                  </a:lnTo>
                  <a:lnTo>
                    <a:pt x="194" y="2761"/>
                  </a:lnTo>
                  <a:lnTo>
                    <a:pt x="335" y="2774"/>
                  </a:lnTo>
                  <a:lnTo>
                    <a:pt x="582" y="2990"/>
                  </a:lnTo>
                  <a:lnTo>
                    <a:pt x="806" y="3017"/>
                  </a:lnTo>
                  <a:lnTo>
                    <a:pt x="934" y="2902"/>
                  </a:lnTo>
                  <a:lnTo>
                    <a:pt x="1239" y="2483"/>
                  </a:lnTo>
                  <a:lnTo>
                    <a:pt x="1265" y="3048"/>
                  </a:lnTo>
                  <a:lnTo>
                    <a:pt x="1239" y="3383"/>
                  </a:lnTo>
                  <a:lnTo>
                    <a:pt x="3784" y="3383"/>
                  </a:lnTo>
                  <a:lnTo>
                    <a:pt x="3599" y="3017"/>
                  </a:lnTo>
                  <a:lnTo>
                    <a:pt x="3506" y="2704"/>
                  </a:lnTo>
                  <a:lnTo>
                    <a:pt x="3484" y="2236"/>
                  </a:lnTo>
                  <a:lnTo>
                    <a:pt x="3634" y="2342"/>
                  </a:lnTo>
                  <a:lnTo>
                    <a:pt x="3784" y="2342"/>
                  </a:lnTo>
                  <a:lnTo>
                    <a:pt x="3991" y="2219"/>
                  </a:lnTo>
                  <a:lnTo>
                    <a:pt x="4132" y="2201"/>
                  </a:lnTo>
                  <a:lnTo>
                    <a:pt x="4221" y="2077"/>
                  </a:lnTo>
                  <a:lnTo>
                    <a:pt x="4278" y="1756"/>
                  </a:lnTo>
                  <a:lnTo>
                    <a:pt x="4406" y="1631"/>
                  </a:lnTo>
                  <a:lnTo>
                    <a:pt x="4340" y="1534"/>
                  </a:lnTo>
                  <a:lnTo>
                    <a:pt x="4247" y="1534"/>
                  </a:lnTo>
                  <a:lnTo>
                    <a:pt x="4172" y="1600"/>
                  </a:lnTo>
                  <a:lnTo>
                    <a:pt x="4097" y="1618"/>
                  </a:lnTo>
                  <a:lnTo>
                    <a:pt x="4005" y="1534"/>
                  </a:lnTo>
                  <a:lnTo>
                    <a:pt x="3899" y="1521"/>
                  </a:lnTo>
                  <a:lnTo>
                    <a:pt x="3696" y="1402"/>
                  </a:lnTo>
                  <a:lnTo>
                    <a:pt x="3572" y="1274"/>
                  </a:lnTo>
                  <a:lnTo>
                    <a:pt x="3550" y="1120"/>
                  </a:lnTo>
                  <a:lnTo>
                    <a:pt x="3572" y="970"/>
                  </a:lnTo>
                  <a:lnTo>
                    <a:pt x="3656" y="846"/>
                  </a:lnTo>
                  <a:lnTo>
                    <a:pt x="3762" y="736"/>
                  </a:lnTo>
                  <a:lnTo>
                    <a:pt x="3753" y="542"/>
                  </a:lnTo>
                  <a:lnTo>
                    <a:pt x="3753" y="401"/>
                  </a:lnTo>
                  <a:lnTo>
                    <a:pt x="3696" y="299"/>
                  </a:lnTo>
                  <a:lnTo>
                    <a:pt x="3550" y="255"/>
                  </a:lnTo>
                  <a:lnTo>
                    <a:pt x="3497" y="229"/>
                  </a:lnTo>
                  <a:lnTo>
                    <a:pt x="3392" y="61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19"/>
                  </a:lnTo>
                  <a:lnTo>
                    <a:pt x="2977" y="171"/>
                  </a:lnTo>
                  <a:lnTo>
                    <a:pt x="2867" y="189"/>
                  </a:lnTo>
                  <a:lnTo>
                    <a:pt x="2748" y="189"/>
                  </a:lnTo>
                  <a:lnTo>
                    <a:pt x="2770" y="357"/>
                  </a:lnTo>
                  <a:lnTo>
                    <a:pt x="2770" y="564"/>
                  </a:lnTo>
                  <a:lnTo>
                    <a:pt x="2748" y="705"/>
                  </a:lnTo>
                  <a:lnTo>
                    <a:pt x="2638" y="873"/>
                  </a:lnTo>
                  <a:lnTo>
                    <a:pt x="2501" y="1128"/>
                  </a:lnTo>
                  <a:lnTo>
                    <a:pt x="2391" y="1433"/>
                  </a:lnTo>
                  <a:lnTo>
                    <a:pt x="2382" y="1618"/>
                  </a:lnTo>
                  <a:lnTo>
                    <a:pt x="2329" y="1769"/>
                  </a:lnTo>
                  <a:lnTo>
                    <a:pt x="2263" y="1923"/>
                  </a:lnTo>
                  <a:lnTo>
                    <a:pt x="2232" y="2170"/>
                  </a:lnTo>
                  <a:lnTo>
                    <a:pt x="2249" y="2373"/>
                  </a:lnTo>
                  <a:lnTo>
                    <a:pt x="2329" y="2611"/>
                  </a:lnTo>
                  <a:lnTo>
                    <a:pt x="2382" y="2704"/>
                  </a:lnTo>
                  <a:lnTo>
                    <a:pt x="2232" y="2792"/>
                  </a:lnTo>
                  <a:lnTo>
                    <a:pt x="2054" y="2845"/>
                  </a:lnTo>
                  <a:lnTo>
                    <a:pt x="1860" y="2862"/>
                  </a:lnTo>
                  <a:lnTo>
                    <a:pt x="1737" y="2862"/>
                  </a:lnTo>
                  <a:lnTo>
                    <a:pt x="1658" y="2832"/>
                  </a:lnTo>
                  <a:lnTo>
                    <a:pt x="1658" y="2629"/>
                  </a:lnTo>
                  <a:lnTo>
                    <a:pt x="1658" y="2329"/>
                  </a:lnTo>
                  <a:lnTo>
                    <a:pt x="1613" y="2033"/>
                  </a:lnTo>
                  <a:lnTo>
                    <a:pt x="1534" y="1769"/>
                  </a:lnTo>
                  <a:lnTo>
                    <a:pt x="1494" y="1561"/>
                  </a:lnTo>
                  <a:lnTo>
                    <a:pt x="1481" y="1261"/>
                  </a:lnTo>
                  <a:lnTo>
                    <a:pt x="1534" y="1001"/>
                  </a:lnTo>
                  <a:lnTo>
                    <a:pt x="1613" y="789"/>
                  </a:lnTo>
                  <a:lnTo>
                    <a:pt x="1618" y="665"/>
                  </a:lnTo>
                  <a:lnTo>
                    <a:pt x="1587" y="485"/>
                  </a:lnTo>
                  <a:lnTo>
                    <a:pt x="1587" y="343"/>
                  </a:lnTo>
                  <a:lnTo>
                    <a:pt x="1613" y="299"/>
                  </a:lnTo>
                  <a:lnTo>
                    <a:pt x="158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20040" y="1309680"/>
              <a:ext cx="200520" cy="792360"/>
            </a:xfrm>
            <a:custGeom>
              <a:avLst/>
              <a:gdLst/>
              <a:ahLst/>
              <a:rect l="0" t="0" r="r" b="b"/>
              <a:pathLst>
                <a:path w="557" h="2201">
                  <a:moveTo>
                    <a:pt x="221" y="26"/>
                  </a:moveTo>
                  <a:lnTo>
                    <a:pt x="74" y="97"/>
                  </a:lnTo>
                  <a:lnTo>
                    <a:pt x="88" y="308"/>
                  </a:lnTo>
                  <a:lnTo>
                    <a:pt x="195" y="370"/>
                  </a:lnTo>
                  <a:lnTo>
                    <a:pt x="66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6" y="1319"/>
                  </a:lnTo>
                  <a:lnTo>
                    <a:pt x="119" y="1588"/>
                  </a:lnTo>
                  <a:lnTo>
                    <a:pt x="119" y="1742"/>
                  </a:lnTo>
                  <a:lnTo>
                    <a:pt x="66" y="1932"/>
                  </a:lnTo>
                  <a:lnTo>
                    <a:pt x="287" y="2201"/>
                  </a:lnTo>
                  <a:lnTo>
                    <a:pt x="384" y="2157"/>
                  </a:lnTo>
                  <a:lnTo>
                    <a:pt x="442" y="1972"/>
                  </a:lnTo>
                  <a:lnTo>
                    <a:pt x="548" y="1729"/>
                  </a:lnTo>
                  <a:lnTo>
                    <a:pt x="557" y="1601"/>
                  </a:lnTo>
                  <a:lnTo>
                    <a:pt x="469" y="1359"/>
                  </a:lnTo>
                  <a:lnTo>
                    <a:pt x="367" y="1125"/>
                  </a:lnTo>
                  <a:lnTo>
                    <a:pt x="327" y="956"/>
                  </a:lnTo>
                  <a:lnTo>
                    <a:pt x="327" y="798"/>
                  </a:lnTo>
                  <a:lnTo>
                    <a:pt x="367" y="657"/>
                  </a:lnTo>
                  <a:lnTo>
                    <a:pt x="442" y="480"/>
                  </a:lnTo>
                  <a:lnTo>
                    <a:pt x="442" y="410"/>
                  </a:lnTo>
                  <a:lnTo>
                    <a:pt x="406" y="339"/>
                  </a:lnTo>
                  <a:lnTo>
                    <a:pt x="509" y="251"/>
                  </a:lnTo>
                  <a:lnTo>
                    <a:pt x="509" y="167"/>
                  </a:lnTo>
                  <a:lnTo>
                    <a:pt x="367" y="0"/>
                  </a:lnTo>
                  <a:lnTo>
                    <a:pt x="482" y="167"/>
                  </a:lnTo>
                  <a:lnTo>
                    <a:pt x="482" y="238"/>
                  </a:lnTo>
                  <a:lnTo>
                    <a:pt x="380" y="308"/>
                  </a:lnTo>
                  <a:lnTo>
                    <a:pt x="420" y="410"/>
                  </a:lnTo>
                  <a:lnTo>
                    <a:pt x="406" y="480"/>
                  </a:lnTo>
                  <a:lnTo>
                    <a:pt x="300" y="683"/>
                  </a:lnTo>
                  <a:lnTo>
                    <a:pt x="287" y="881"/>
                  </a:lnTo>
                  <a:lnTo>
                    <a:pt x="314" y="1067"/>
                  </a:lnTo>
                  <a:lnTo>
                    <a:pt x="384" y="1332"/>
                  </a:lnTo>
                  <a:lnTo>
                    <a:pt x="469" y="1544"/>
                  </a:lnTo>
                  <a:lnTo>
                    <a:pt x="469" y="1716"/>
                  </a:lnTo>
                  <a:lnTo>
                    <a:pt x="420" y="1932"/>
                  </a:lnTo>
                  <a:lnTo>
                    <a:pt x="314" y="2157"/>
                  </a:lnTo>
                  <a:lnTo>
                    <a:pt x="181" y="2033"/>
                  </a:lnTo>
                  <a:lnTo>
                    <a:pt x="132" y="1932"/>
                  </a:lnTo>
                  <a:lnTo>
                    <a:pt x="142" y="1716"/>
                  </a:lnTo>
                  <a:lnTo>
                    <a:pt x="132" y="1500"/>
                  </a:lnTo>
                  <a:lnTo>
                    <a:pt x="66" y="1209"/>
                  </a:lnTo>
                  <a:lnTo>
                    <a:pt x="39" y="1009"/>
                  </a:lnTo>
                  <a:lnTo>
                    <a:pt x="66" y="784"/>
                  </a:lnTo>
                  <a:lnTo>
                    <a:pt x="119" y="568"/>
                  </a:lnTo>
                  <a:lnTo>
                    <a:pt x="234" y="352"/>
                  </a:lnTo>
                  <a:lnTo>
                    <a:pt x="132" y="264"/>
                  </a:lnTo>
                  <a:lnTo>
                    <a:pt x="119" y="110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91360" y="385920"/>
              <a:ext cx="314640" cy="386280"/>
            </a:xfrm>
            <a:custGeom>
              <a:avLst/>
              <a:gdLst/>
              <a:ahLst/>
              <a:rect l="0" t="0" r="r" b="b"/>
              <a:pathLst>
                <a:path w="874" h="1073">
                  <a:moveTo>
                    <a:pt x="145" y="274"/>
                  </a:moveTo>
                  <a:lnTo>
                    <a:pt x="273" y="251"/>
                  </a:lnTo>
                  <a:lnTo>
                    <a:pt x="396" y="260"/>
                  </a:lnTo>
                  <a:lnTo>
                    <a:pt x="503" y="305"/>
                  </a:lnTo>
                  <a:lnTo>
                    <a:pt x="556" y="362"/>
                  </a:lnTo>
                  <a:lnTo>
                    <a:pt x="583" y="419"/>
                  </a:lnTo>
                  <a:lnTo>
                    <a:pt x="583" y="472"/>
                  </a:lnTo>
                  <a:lnTo>
                    <a:pt x="552" y="508"/>
                  </a:lnTo>
                  <a:lnTo>
                    <a:pt x="499" y="534"/>
                  </a:lnTo>
                  <a:lnTo>
                    <a:pt x="432" y="538"/>
                  </a:lnTo>
                  <a:lnTo>
                    <a:pt x="352" y="521"/>
                  </a:lnTo>
                  <a:lnTo>
                    <a:pt x="277" y="477"/>
                  </a:lnTo>
                  <a:lnTo>
                    <a:pt x="220" y="437"/>
                  </a:lnTo>
                  <a:lnTo>
                    <a:pt x="194" y="574"/>
                  </a:lnTo>
                  <a:lnTo>
                    <a:pt x="145" y="671"/>
                  </a:lnTo>
                  <a:lnTo>
                    <a:pt x="0" y="897"/>
                  </a:lnTo>
                  <a:lnTo>
                    <a:pt x="211" y="1073"/>
                  </a:lnTo>
                  <a:lnTo>
                    <a:pt x="370" y="781"/>
                  </a:lnTo>
                  <a:lnTo>
                    <a:pt x="552" y="808"/>
                  </a:lnTo>
                  <a:lnTo>
                    <a:pt x="666" y="785"/>
                  </a:lnTo>
                  <a:lnTo>
                    <a:pt x="772" y="719"/>
                  </a:lnTo>
                  <a:lnTo>
                    <a:pt x="838" y="636"/>
                  </a:lnTo>
                  <a:lnTo>
                    <a:pt x="874" y="525"/>
                  </a:lnTo>
                  <a:lnTo>
                    <a:pt x="874" y="411"/>
                  </a:lnTo>
                  <a:lnTo>
                    <a:pt x="838" y="287"/>
                  </a:lnTo>
                  <a:lnTo>
                    <a:pt x="768" y="163"/>
                  </a:lnTo>
                  <a:lnTo>
                    <a:pt x="680" y="74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34480" y="760320"/>
              <a:ext cx="114840" cy="76680"/>
            </a:xfrm>
            <a:custGeom>
              <a:avLst/>
              <a:gdLst/>
              <a:ahLst/>
              <a:rect l="0" t="0" r="r" b="b"/>
              <a:pathLst>
                <a:path w="319" h="213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6" y="182"/>
                  </a:lnTo>
                  <a:lnTo>
                    <a:pt x="190" y="213"/>
                  </a:lnTo>
                  <a:lnTo>
                    <a:pt x="288" y="209"/>
                  </a:lnTo>
                  <a:lnTo>
                    <a:pt x="319" y="159"/>
                  </a:lnTo>
                  <a:lnTo>
                    <a:pt x="301" y="115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228600"/>
            <a:ext cx="8686800" cy="6070320"/>
            <a:chOff x="228600" y="228600"/>
            <a:chExt cx="8686800" cy="6070320"/>
          </a:xfrm>
        </p:grpSpPr>
        <p:sp>
          <p:nvSpPr>
            <p:cNvPr id="63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31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4880" y="3986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0040" y="44766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42840" y="40608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0120" y="4773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22320" y="47466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3560" y="34797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50840" y="35812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03440" y="36241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040" y="15382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54200" y="1824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4920" y="18525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05000" y="17668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19240" y="18874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1320" y="1754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25560" y="18874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58960" y="19065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25680" y="1816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8880" y="2144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81360" y="16160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54120" y="16779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11240" y="1758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97240" y="2544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78160" y="2664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25520" y="1812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53920" y="19033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04880" y="13953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01920" y="519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5680" y="1084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176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70040" y="1065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9000" y="10857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01800" y="1305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24040" y="1308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14560" y="1327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3640" y="14572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87400" y="15382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98760" y="1146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54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9920" y="990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8880" y="9889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880" y="1114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98480" y="109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336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0808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92320" y="111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300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2396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71800" y="1336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11280" y="4539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12800" y="10238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952640" y="1046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4880" y="11048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3880" y="1028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243160" y="96192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90760" y="2381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8112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71840" y="25192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71920" y="24955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32040" y="24224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62120" y="2013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95760" y="22320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4152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4280" y="2155680"/>
              <a:ext cx="6235560" cy="41432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38560" y="1974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74800" y="21715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50960" y="2146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46200" y="2152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12960" y="20620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behavio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specific types of variable and fixed cost behavior, and define and discuss the relationships of operating capacity and relevant range to cost behavior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 txBox="1"/>
            <p:nvPr/>
          </p:nvSpPr>
          <p:spPr>
            <a:xfrm>
              <a:off x="3200400" y="45720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380880" y="380880"/>
            <a:ext cx="8521560" cy="6094440"/>
            <a:chOff x="380880" y="380880"/>
            <a:chExt cx="8521560" cy="6094440"/>
          </a:xfrm>
        </p:grpSpPr>
        <p:sp>
          <p:nvSpPr>
            <p:cNvPr id="73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395440" y="1346040"/>
              <a:ext cx="0" cy="217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3111480" y="2666880"/>
              <a:ext cx="571500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2196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 txBox="1"/>
            <p:nvPr/>
          </p:nvSpPr>
          <p:spPr>
            <a:xfrm>
              <a:off x="3505320" y="53352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304920" y="533520"/>
            <a:ext cx="8218080" cy="5940360"/>
            <a:chOff x="304920" y="533520"/>
            <a:chExt cx="8218080" cy="5940360"/>
          </a:xfrm>
        </p:grpSpPr>
        <p:sp>
          <p:nvSpPr>
            <p:cNvPr id="833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244600" y="149544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2739960"/>
              <a:ext cx="5842080" cy="2720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 txBox="1"/>
            <p:nvPr/>
          </p:nvSpPr>
          <p:spPr>
            <a:xfrm>
              <a:off x="3733920" y="7621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 of Cost Behavio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920" cy="438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5960" y="5711760"/>
            <a:ext cx="36640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3121200"/>
            <a:ext cx="28256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3808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9320" y="129528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refers to how costs change in relation to volume 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ir knowledge of cost behavior to estimate future costs and impact of operational changes on future profi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assumptions about cost behavior in almost every decision they m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must understand cost behavior patterns to anticipate cost ramifications of alternatives in order to decide cor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39625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9528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05720" y="228600"/>
            <a:ext cx="2208240" cy="2208600"/>
            <a:chOff x="6705720" y="228600"/>
            <a:chExt cx="2208240" cy="2208600"/>
          </a:xfrm>
        </p:grpSpPr>
        <p:sp>
          <p:nvSpPr>
            <p:cNvPr id="71" name=""/>
            <p:cNvSpPr/>
            <p:nvPr/>
          </p:nvSpPr>
          <p:spPr>
            <a:xfrm>
              <a:off x="6711840" y="131292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1120" y="162576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88200" y="141120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102888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40480" y="38592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5120" y="117792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8880" y="25884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48560" y="138744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2080" y="109872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7720" y="70344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86800" y="66816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37600" y="45252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5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34160" y="93492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27880" y="79704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02400" y="43956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9520" y="22860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7400" y="39672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560" y="104616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3120" y="73836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81760" y="130320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157176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86440" y="184644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72200" y="185724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520" y="103500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08960" y="103500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34440" y="146052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3760" y="112860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0640" y="139068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91440" y="39672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37440" y="80028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1066680" y="22096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extremes concerning cost behavior discussed in this chap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