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8229600" y="6324480"/>
            <a:ext cx="762120" cy="4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cffd8"/>
                </a:solidFill>
                <a:latin typeface="Arial"/>
                <a:ea typeface="Arial"/>
              </a:rPr>
              <a:t>21-</a:t>
            </a:r>
            <a:fld id="{0FFAA290-6A01-400A-8E4D-CA734AD9CF25}" type="slidenum">
              <a:rPr b="0" lang="en-US" sz="1600" spc="-1" strike="noStrike">
                <a:solidFill>
                  <a:srgbClr val="fcffd8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3276720" y="6629400"/>
            <a:ext cx="2895480" cy="25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ffcc66"/>
                </a:solidFill>
                <a:latin typeface="Arial"/>
                <a:ea typeface="Arial"/>
              </a:rPr>
              <a:t>Copyright</a:t>
            </a:r>
            <a:r>
              <a:rPr b="0" lang="en-US" sz="900" spc="-1" strike="noStrike">
                <a:solidFill>
                  <a:srgbClr val="ffcc66"/>
                </a:solidFill>
                <a:latin typeface="Symbol"/>
                <a:ea typeface="Symbol"/>
              </a:rPr>
              <a:t> ©</a:t>
            </a:r>
            <a:r>
              <a:rPr b="0" lang="en-US" sz="900" spc="-1" strike="noStrike">
                <a:solidFill>
                  <a:srgbClr val="ffcc66"/>
                </a:solidFill>
                <a:latin typeface="Arial"/>
                <a:ea typeface="Arial"/>
              </a:rPr>
              <a:t> Houghton Mifflin Company. 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74760" y="146160"/>
            <a:ext cx="8623440" cy="6489720"/>
          </a:xfrm>
          <a:prstGeom prst="rect">
            <a:avLst/>
          </a:prstGeom>
          <a:noFill/>
          <a:ln w="12600">
            <a:solidFill>
              <a:srgbClr val="3333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-6480" y="-6480"/>
            <a:ext cx="622440" cy="687060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3333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762120" y="380880"/>
            <a:ext cx="8153280" cy="232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hapter 21</a:t>
            </a:r>
            <a:br>
              <a:rPr sz="44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Operating Costs and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Cost Allocation, Including Activity-Based Co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57800" y="2895480"/>
            <a:ext cx="3416400" cy="3137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838080" y="2743200"/>
            <a:ext cx="42670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Belverd E. Needles, J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Marian Pow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Sherry K. M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Henry R. Ander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bc3700"/>
                </a:solidFill>
                <a:latin typeface="Arial"/>
                <a:ea typeface="Arial"/>
              </a:rPr>
              <a:t>- - - - - - - - - - 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Multimedia Slides b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Dr. Paul J. Robert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cffd8"/>
                </a:solidFill>
                <a:latin typeface="Arial"/>
                <a:ea typeface="Arial"/>
              </a:rPr>
              <a:t>New Mexico State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Steve Leas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cffd8"/>
                </a:solidFill>
                <a:latin typeface="Arial"/>
                <a:ea typeface="Arial"/>
              </a:rPr>
              <a:t>New Mexico State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066680" y="228600"/>
            <a:ext cx="76201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Reporting S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838080" y="1371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ses of operating cost information and product costs in the reporting st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762120" y="2666880"/>
            <a:ext cx="784872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45720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eport actual results of operating activities on the income stat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14400" indent="-45720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eport the value of inventory on the balance she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14400" indent="-45720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eport performance related to products or servi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9907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Examples of Types and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 Uses of Operating Cost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71480" y="1917720"/>
            <a:ext cx="81313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762120" y="1295280"/>
            <a:ext cx="8153280" cy="5196600"/>
            <a:chOff x="762120" y="1295280"/>
            <a:chExt cx="8153280" cy="5196600"/>
          </a:xfrm>
        </p:grpSpPr>
        <p:sp>
          <p:nvSpPr>
            <p:cNvPr id="78" name=""/>
            <p:cNvSpPr/>
            <p:nvPr/>
          </p:nvSpPr>
          <p:spPr>
            <a:xfrm>
              <a:off x="762120" y="1295280"/>
              <a:ext cx="8140680" cy="4986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 txBox="1"/>
            <p:nvPr/>
          </p:nvSpPr>
          <p:spPr>
            <a:xfrm>
              <a:off x="5286240" y="1341360"/>
              <a:ext cx="2146320" cy="25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Type of Organization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 txBox="1"/>
            <p:nvPr/>
          </p:nvSpPr>
          <p:spPr>
            <a:xfrm>
              <a:off x="4010040" y="1652760"/>
              <a:ext cx="1487520" cy="48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ufacturing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 txBox="1"/>
            <p:nvPr/>
          </p:nvSpPr>
          <p:spPr>
            <a:xfrm>
              <a:off x="6137280" y="1652760"/>
              <a:ext cx="587520" cy="48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tail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 txBox="1"/>
            <p:nvPr/>
          </p:nvSpPr>
          <p:spPr>
            <a:xfrm>
              <a:off x="7675560" y="1652760"/>
              <a:ext cx="768240" cy="48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ice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 txBox="1"/>
            <p:nvPr/>
          </p:nvSpPr>
          <p:spPr>
            <a:xfrm>
              <a:off x="809640" y="2274840"/>
              <a:ext cx="2770200" cy="48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ng cost information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 txBox="1"/>
            <p:nvPr/>
          </p:nvSpPr>
          <p:spPr>
            <a:xfrm>
              <a:off x="4416480" y="2274840"/>
              <a:ext cx="743040" cy="48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st to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 txBox="1"/>
            <p:nvPr/>
          </p:nvSpPr>
          <p:spPr>
            <a:xfrm>
              <a:off x="6049800" y="2274840"/>
              <a:ext cx="743040" cy="48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st to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 txBox="1"/>
            <p:nvPr/>
          </p:nvSpPr>
          <p:spPr>
            <a:xfrm>
              <a:off x="7684920" y="2274840"/>
              <a:ext cx="743040" cy="48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st to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 txBox="1"/>
            <p:nvPr/>
          </p:nvSpPr>
          <p:spPr>
            <a:xfrm>
              <a:off x="809640" y="2585880"/>
              <a:ext cx="2459160" cy="48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eded by management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 txBox="1"/>
            <p:nvPr/>
          </p:nvSpPr>
          <p:spPr>
            <a:xfrm>
              <a:off x="4087800" y="2585880"/>
              <a:ext cx="1355760" cy="25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ufacture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 txBox="1"/>
            <p:nvPr/>
          </p:nvSpPr>
          <p:spPr>
            <a:xfrm>
              <a:off x="5905440" y="2585880"/>
              <a:ext cx="1019160" cy="25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purchase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 txBox="1"/>
            <p:nvPr/>
          </p:nvSpPr>
          <p:spPr>
            <a:xfrm>
              <a:off x="7664400" y="2585880"/>
              <a:ext cx="779400" cy="48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vide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 txBox="1"/>
            <p:nvPr/>
          </p:nvSpPr>
          <p:spPr>
            <a:xfrm>
              <a:off x="4175280" y="2895480"/>
              <a:ext cx="1187280" cy="48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product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5808600" y="2895480"/>
              <a:ext cx="1187280" cy="48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product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481880" y="2895480"/>
              <a:ext cx="1128600" cy="48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service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809640" y="3206880"/>
              <a:ext cx="2603520" cy="48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s of cost information: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 txBox="1"/>
            <p:nvPr/>
          </p:nvSpPr>
          <p:spPr>
            <a:xfrm>
              <a:off x="809640" y="3517920"/>
              <a:ext cx="2747880" cy="25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measure historical or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 txBox="1"/>
            <p:nvPr/>
          </p:nvSpPr>
          <p:spPr>
            <a:xfrm>
              <a:off x="809640" y="3828960"/>
              <a:ext cx="1582560" cy="25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ture profits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 txBox="1"/>
            <p:nvPr/>
          </p:nvSpPr>
          <p:spPr>
            <a:xfrm>
              <a:off x="4619520" y="3828960"/>
              <a:ext cx="384120" cy="25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Yes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 txBox="1"/>
            <p:nvPr/>
          </p:nvSpPr>
          <p:spPr>
            <a:xfrm>
              <a:off x="6253200" y="3828960"/>
              <a:ext cx="384120" cy="25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Yes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 txBox="1"/>
            <p:nvPr/>
          </p:nvSpPr>
          <p:spPr>
            <a:xfrm>
              <a:off x="7888320" y="3828960"/>
              <a:ext cx="384120" cy="25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Yes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 txBox="1"/>
            <p:nvPr/>
          </p:nvSpPr>
          <p:spPr>
            <a:xfrm>
              <a:off x="809640" y="4451400"/>
              <a:ext cx="2951280" cy="25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decide the selling price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 txBox="1"/>
            <p:nvPr/>
          </p:nvSpPr>
          <p:spPr>
            <a:xfrm>
              <a:off x="809640" y="4762440"/>
              <a:ext cx="3048120" cy="25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regular or special sales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 txBox="1"/>
            <p:nvPr/>
          </p:nvSpPr>
          <p:spPr>
            <a:xfrm>
              <a:off x="809640" y="5073480"/>
              <a:ext cx="2352600" cy="25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 services provided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 txBox="1"/>
            <p:nvPr/>
          </p:nvSpPr>
          <p:spPr>
            <a:xfrm>
              <a:off x="4619520" y="5073480"/>
              <a:ext cx="384120" cy="25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Yes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 txBox="1"/>
            <p:nvPr/>
          </p:nvSpPr>
          <p:spPr>
            <a:xfrm>
              <a:off x="6253200" y="5073480"/>
              <a:ext cx="384120" cy="25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Yes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>
              <a:off x="7888320" y="5073480"/>
              <a:ext cx="384120" cy="25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Yes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>
              <a:off x="809640" y="5695920"/>
              <a:ext cx="2927520" cy="25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value finished goods o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 txBox="1"/>
            <p:nvPr/>
          </p:nvSpPr>
          <p:spPr>
            <a:xfrm>
              <a:off x="809640" y="6006960"/>
              <a:ext cx="2784600" cy="25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rchandise inventories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>
              <a:off x="4619520" y="6006960"/>
              <a:ext cx="384120" cy="25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Yes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>
              <a:off x="6253200" y="6006960"/>
              <a:ext cx="384120" cy="25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Yes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>
              <a:off x="7888320" y="6006960"/>
              <a:ext cx="371520" cy="48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N/A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62120" y="1300320"/>
              <a:ext cx="1440" cy="4981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62120" y="1295280"/>
              <a:ext cx="9360" cy="498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893080" y="1309680"/>
              <a:ext cx="1800" cy="4971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893080" y="1305000"/>
              <a:ext cx="9360" cy="4976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76160" y="1295280"/>
              <a:ext cx="8139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71480" y="1295280"/>
              <a:ext cx="81313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995640" y="1606680"/>
              <a:ext cx="490716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990960" y="1606680"/>
              <a:ext cx="49118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76160" y="1917720"/>
              <a:ext cx="812664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76160" y="6272280"/>
              <a:ext cx="812664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771480" y="6272280"/>
            <a:ext cx="81313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8080" y="251460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are three uses of operating cost information and product costs in the planning stag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 Develop budg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 Determine selling prices or fe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 Plan human resource ne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295280" y="114300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629400" y="228600"/>
            <a:ext cx="2208240" cy="2132280"/>
            <a:chOff x="6629400" y="228600"/>
            <a:chExt cx="2208240" cy="2132280"/>
          </a:xfrm>
        </p:grpSpPr>
        <p:sp>
          <p:nvSpPr>
            <p:cNvPr id="125" name=""/>
            <p:cNvSpPr/>
            <p:nvPr/>
          </p:nvSpPr>
          <p:spPr>
            <a:xfrm>
              <a:off x="6635880" y="1274760"/>
              <a:ext cx="536760" cy="744840"/>
            </a:xfrm>
            <a:custGeom>
              <a:avLst/>
              <a:gdLst/>
              <a:ahLst/>
              <a:rect l="0" t="0" r="r" b="b"/>
              <a:pathLst>
                <a:path w="1491" h="2069">
                  <a:moveTo>
                    <a:pt x="595" y="0"/>
                  </a:moveTo>
                  <a:lnTo>
                    <a:pt x="515" y="92"/>
                  </a:lnTo>
                  <a:lnTo>
                    <a:pt x="515" y="361"/>
                  </a:lnTo>
                  <a:lnTo>
                    <a:pt x="595" y="555"/>
                  </a:lnTo>
                  <a:lnTo>
                    <a:pt x="683" y="652"/>
                  </a:lnTo>
                  <a:lnTo>
                    <a:pt x="551" y="784"/>
                  </a:lnTo>
                  <a:lnTo>
                    <a:pt x="374" y="1085"/>
                  </a:lnTo>
                  <a:lnTo>
                    <a:pt x="30" y="1562"/>
                  </a:lnTo>
                  <a:lnTo>
                    <a:pt x="0" y="1676"/>
                  </a:lnTo>
                  <a:lnTo>
                    <a:pt x="30" y="1773"/>
                  </a:lnTo>
                  <a:lnTo>
                    <a:pt x="136" y="1773"/>
                  </a:lnTo>
                  <a:lnTo>
                    <a:pt x="224" y="1663"/>
                  </a:lnTo>
                  <a:lnTo>
                    <a:pt x="374" y="1394"/>
                  </a:lnTo>
                  <a:lnTo>
                    <a:pt x="463" y="1279"/>
                  </a:lnTo>
                  <a:lnTo>
                    <a:pt x="515" y="1456"/>
                  </a:lnTo>
                  <a:lnTo>
                    <a:pt x="480" y="1645"/>
                  </a:lnTo>
                  <a:lnTo>
                    <a:pt x="330" y="1919"/>
                  </a:lnTo>
                  <a:lnTo>
                    <a:pt x="374" y="1980"/>
                  </a:lnTo>
                  <a:lnTo>
                    <a:pt x="463" y="1963"/>
                  </a:lnTo>
                  <a:lnTo>
                    <a:pt x="648" y="1822"/>
                  </a:lnTo>
                  <a:lnTo>
                    <a:pt x="794" y="1579"/>
                  </a:lnTo>
                  <a:lnTo>
                    <a:pt x="794" y="1998"/>
                  </a:lnTo>
                  <a:lnTo>
                    <a:pt x="971" y="2069"/>
                  </a:lnTo>
                  <a:lnTo>
                    <a:pt x="1076" y="1808"/>
                  </a:lnTo>
                  <a:lnTo>
                    <a:pt x="1169" y="2051"/>
                  </a:lnTo>
                  <a:lnTo>
                    <a:pt x="1240" y="1980"/>
                  </a:lnTo>
                  <a:lnTo>
                    <a:pt x="1275" y="1504"/>
                  </a:lnTo>
                  <a:lnTo>
                    <a:pt x="1491" y="1050"/>
                  </a:lnTo>
                  <a:lnTo>
                    <a:pt x="1442" y="784"/>
                  </a:lnTo>
                  <a:lnTo>
                    <a:pt x="1288" y="687"/>
                  </a:lnTo>
                  <a:lnTo>
                    <a:pt x="1129" y="701"/>
                  </a:lnTo>
                  <a:lnTo>
                    <a:pt x="1076" y="489"/>
                  </a:lnTo>
                  <a:lnTo>
                    <a:pt x="913" y="440"/>
                  </a:lnTo>
                  <a:lnTo>
                    <a:pt x="768" y="374"/>
                  </a:lnTo>
                  <a:lnTo>
                    <a:pt x="683" y="44"/>
                  </a:lnTo>
                  <a:lnTo>
                    <a:pt x="595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085160" y="1577880"/>
              <a:ext cx="159120" cy="360720"/>
            </a:xfrm>
            <a:custGeom>
              <a:avLst/>
              <a:gdLst/>
              <a:ahLst/>
              <a:rect l="0" t="0" r="r" b="b"/>
              <a:pathLst>
                <a:path w="442" h="1002">
                  <a:moveTo>
                    <a:pt x="221" y="0"/>
                  </a:moveTo>
                  <a:lnTo>
                    <a:pt x="442" y="260"/>
                  </a:lnTo>
                  <a:lnTo>
                    <a:pt x="332" y="825"/>
                  </a:lnTo>
                  <a:lnTo>
                    <a:pt x="0" y="1002"/>
                  </a:lnTo>
                  <a:lnTo>
                    <a:pt x="0" y="719"/>
                  </a:lnTo>
                  <a:lnTo>
                    <a:pt x="133" y="423"/>
                  </a:lnTo>
                  <a:lnTo>
                    <a:pt x="221" y="211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112240" y="1370160"/>
              <a:ext cx="397080" cy="325800"/>
            </a:xfrm>
            <a:custGeom>
              <a:avLst/>
              <a:gdLst/>
              <a:ahLst/>
              <a:rect l="0" t="0" r="r" b="b"/>
              <a:pathLst>
                <a:path w="1103" h="905">
                  <a:moveTo>
                    <a:pt x="454" y="0"/>
                  </a:moveTo>
                  <a:lnTo>
                    <a:pt x="454" y="145"/>
                  </a:lnTo>
                  <a:lnTo>
                    <a:pt x="493" y="274"/>
                  </a:lnTo>
                  <a:lnTo>
                    <a:pt x="706" y="490"/>
                  </a:lnTo>
                  <a:lnTo>
                    <a:pt x="1103" y="613"/>
                  </a:lnTo>
                  <a:lnTo>
                    <a:pt x="1050" y="888"/>
                  </a:lnTo>
                  <a:lnTo>
                    <a:pt x="706" y="905"/>
                  </a:lnTo>
                  <a:lnTo>
                    <a:pt x="211" y="707"/>
                  </a:lnTo>
                  <a:lnTo>
                    <a:pt x="0" y="362"/>
                  </a:lnTo>
                  <a:lnTo>
                    <a:pt x="246" y="17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271000" y="1001880"/>
              <a:ext cx="552960" cy="717840"/>
            </a:xfrm>
            <a:custGeom>
              <a:avLst/>
              <a:gdLst/>
              <a:ahLst/>
              <a:rect l="0" t="0" r="r" b="b"/>
              <a:pathLst>
                <a:path w="1536" h="1994">
                  <a:moveTo>
                    <a:pt x="136" y="846"/>
                  </a:moveTo>
                  <a:lnTo>
                    <a:pt x="0" y="987"/>
                  </a:lnTo>
                  <a:lnTo>
                    <a:pt x="30" y="1315"/>
                  </a:lnTo>
                  <a:lnTo>
                    <a:pt x="242" y="1465"/>
                  </a:lnTo>
                  <a:lnTo>
                    <a:pt x="260" y="1958"/>
                  </a:lnTo>
                  <a:lnTo>
                    <a:pt x="477" y="1958"/>
                  </a:lnTo>
                  <a:lnTo>
                    <a:pt x="464" y="1539"/>
                  </a:lnTo>
                  <a:lnTo>
                    <a:pt x="622" y="1976"/>
                  </a:lnTo>
                  <a:lnTo>
                    <a:pt x="728" y="1994"/>
                  </a:lnTo>
                  <a:lnTo>
                    <a:pt x="807" y="1848"/>
                  </a:lnTo>
                  <a:lnTo>
                    <a:pt x="821" y="1575"/>
                  </a:lnTo>
                  <a:lnTo>
                    <a:pt x="1059" y="1831"/>
                  </a:lnTo>
                  <a:lnTo>
                    <a:pt x="1151" y="1808"/>
                  </a:lnTo>
                  <a:lnTo>
                    <a:pt x="1129" y="1632"/>
                  </a:lnTo>
                  <a:lnTo>
                    <a:pt x="1041" y="1381"/>
                  </a:lnTo>
                  <a:lnTo>
                    <a:pt x="949" y="1218"/>
                  </a:lnTo>
                  <a:lnTo>
                    <a:pt x="984" y="1103"/>
                  </a:lnTo>
                  <a:lnTo>
                    <a:pt x="1041" y="1121"/>
                  </a:lnTo>
                  <a:lnTo>
                    <a:pt x="1254" y="1381"/>
                  </a:lnTo>
                  <a:lnTo>
                    <a:pt x="1488" y="1447"/>
                  </a:lnTo>
                  <a:lnTo>
                    <a:pt x="1536" y="1363"/>
                  </a:lnTo>
                  <a:lnTo>
                    <a:pt x="1501" y="1231"/>
                  </a:lnTo>
                  <a:lnTo>
                    <a:pt x="1072" y="829"/>
                  </a:lnTo>
                  <a:lnTo>
                    <a:pt x="728" y="705"/>
                  </a:lnTo>
                  <a:lnTo>
                    <a:pt x="688" y="480"/>
                  </a:lnTo>
                  <a:lnTo>
                    <a:pt x="807" y="277"/>
                  </a:lnTo>
                  <a:lnTo>
                    <a:pt x="807" y="66"/>
                  </a:lnTo>
                  <a:lnTo>
                    <a:pt x="710" y="0"/>
                  </a:lnTo>
                  <a:lnTo>
                    <a:pt x="464" y="537"/>
                  </a:lnTo>
                  <a:lnTo>
                    <a:pt x="242" y="621"/>
                  </a:lnTo>
                  <a:lnTo>
                    <a:pt x="189" y="767"/>
                  </a:lnTo>
                  <a:lnTo>
                    <a:pt x="136" y="84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64520" y="379440"/>
              <a:ext cx="603720" cy="918000"/>
            </a:xfrm>
            <a:custGeom>
              <a:avLst/>
              <a:gdLst/>
              <a:ahLst/>
              <a:rect l="0" t="0" r="r" b="b"/>
              <a:pathLst>
                <a:path w="1677" h="2550">
                  <a:moveTo>
                    <a:pt x="418" y="352"/>
                  </a:moveTo>
                  <a:lnTo>
                    <a:pt x="295" y="843"/>
                  </a:lnTo>
                  <a:lnTo>
                    <a:pt x="17" y="940"/>
                  </a:lnTo>
                  <a:lnTo>
                    <a:pt x="92" y="1094"/>
                  </a:lnTo>
                  <a:lnTo>
                    <a:pt x="0" y="1191"/>
                  </a:lnTo>
                  <a:lnTo>
                    <a:pt x="0" y="1368"/>
                  </a:lnTo>
                  <a:lnTo>
                    <a:pt x="132" y="1531"/>
                  </a:lnTo>
                  <a:lnTo>
                    <a:pt x="260" y="1531"/>
                  </a:lnTo>
                  <a:lnTo>
                    <a:pt x="348" y="2096"/>
                  </a:lnTo>
                  <a:lnTo>
                    <a:pt x="455" y="2339"/>
                  </a:lnTo>
                  <a:lnTo>
                    <a:pt x="799" y="2550"/>
                  </a:lnTo>
                  <a:lnTo>
                    <a:pt x="1138" y="2519"/>
                  </a:lnTo>
                  <a:lnTo>
                    <a:pt x="1302" y="2096"/>
                  </a:lnTo>
                  <a:lnTo>
                    <a:pt x="1342" y="1451"/>
                  </a:lnTo>
                  <a:lnTo>
                    <a:pt x="1677" y="1129"/>
                  </a:lnTo>
                  <a:lnTo>
                    <a:pt x="1660" y="1002"/>
                  </a:lnTo>
                  <a:lnTo>
                    <a:pt x="1624" y="940"/>
                  </a:lnTo>
                  <a:lnTo>
                    <a:pt x="1448" y="927"/>
                  </a:lnTo>
                  <a:lnTo>
                    <a:pt x="1501" y="759"/>
                  </a:lnTo>
                  <a:lnTo>
                    <a:pt x="1324" y="644"/>
                  </a:lnTo>
                  <a:lnTo>
                    <a:pt x="1248" y="277"/>
                  </a:lnTo>
                  <a:lnTo>
                    <a:pt x="728" y="0"/>
                  </a:lnTo>
                  <a:lnTo>
                    <a:pt x="455" y="260"/>
                  </a:lnTo>
                  <a:lnTo>
                    <a:pt x="418" y="352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08800" y="1144440"/>
              <a:ext cx="552960" cy="1094040"/>
            </a:xfrm>
            <a:custGeom>
              <a:avLst/>
              <a:gdLst/>
              <a:ahLst/>
              <a:rect l="0" t="0" r="r" b="b"/>
              <a:pathLst>
                <a:path w="1536" h="3039">
                  <a:moveTo>
                    <a:pt x="313" y="158"/>
                  </a:moveTo>
                  <a:lnTo>
                    <a:pt x="534" y="304"/>
                  </a:lnTo>
                  <a:lnTo>
                    <a:pt x="640" y="467"/>
                  </a:lnTo>
                  <a:lnTo>
                    <a:pt x="1254" y="0"/>
                  </a:lnTo>
                  <a:lnTo>
                    <a:pt x="1448" y="97"/>
                  </a:lnTo>
                  <a:lnTo>
                    <a:pt x="1536" y="577"/>
                  </a:lnTo>
                  <a:lnTo>
                    <a:pt x="1090" y="1976"/>
                  </a:lnTo>
                  <a:lnTo>
                    <a:pt x="1236" y="2748"/>
                  </a:lnTo>
                  <a:lnTo>
                    <a:pt x="653" y="3039"/>
                  </a:lnTo>
                  <a:lnTo>
                    <a:pt x="207" y="2876"/>
                  </a:lnTo>
                  <a:lnTo>
                    <a:pt x="207" y="2055"/>
                  </a:lnTo>
                  <a:lnTo>
                    <a:pt x="0" y="1261"/>
                  </a:lnTo>
                  <a:lnTo>
                    <a:pt x="207" y="304"/>
                  </a:lnTo>
                  <a:lnTo>
                    <a:pt x="313" y="158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432560" y="258840"/>
              <a:ext cx="516240" cy="289440"/>
            </a:xfrm>
            <a:custGeom>
              <a:avLst/>
              <a:gdLst/>
              <a:ahLst/>
              <a:rect l="0" t="0" r="r" b="b"/>
              <a:pathLst>
                <a:path w="1434" h="804">
                  <a:moveTo>
                    <a:pt x="176" y="769"/>
                  </a:moveTo>
                  <a:lnTo>
                    <a:pt x="388" y="552"/>
                  </a:lnTo>
                  <a:lnTo>
                    <a:pt x="520" y="521"/>
                  </a:lnTo>
                  <a:lnTo>
                    <a:pt x="520" y="538"/>
                  </a:lnTo>
                  <a:lnTo>
                    <a:pt x="586" y="521"/>
                  </a:lnTo>
                  <a:lnTo>
                    <a:pt x="674" y="583"/>
                  </a:lnTo>
                  <a:lnTo>
                    <a:pt x="847" y="619"/>
                  </a:lnTo>
                  <a:lnTo>
                    <a:pt x="984" y="804"/>
                  </a:lnTo>
                  <a:lnTo>
                    <a:pt x="1209" y="720"/>
                  </a:lnTo>
                  <a:lnTo>
                    <a:pt x="1209" y="637"/>
                  </a:lnTo>
                  <a:lnTo>
                    <a:pt x="1434" y="538"/>
                  </a:lnTo>
                  <a:lnTo>
                    <a:pt x="1368" y="389"/>
                  </a:lnTo>
                  <a:lnTo>
                    <a:pt x="1151" y="375"/>
                  </a:lnTo>
                  <a:lnTo>
                    <a:pt x="1187" y="212"/>
                  </a:lnTo>
                  <a:lnTo>
                    <a:pt x="1006" y="230"/>
                  </a:lnTo>
                  <a:lnTo>
                    <a:pt x="971" y="114"/>
                  </a:lnTo>
                  <a:lnTo>
                    <a:pt x="847" y="114"/>
                  </a:lnTo>
                  <a:lnTo>
                    <a:pt x="759" y="176"/>
                  </a:lnTo>
                  <a:lnTo>
                    <a:pt x="674" y="176"/>
                  </a:lnTo>
                  <a:lnTo>
                    <a:pt x="692" y="0"/>
                  </a:lnTo>
                  <a:lnTo>
                    <a:pt x="520" y="83"/>
                  </a:lnTo>
                  <a:lnTo>
                    <a:pt x="282" y="375"/>
                  </a:lnTo>
                  <a:lnTo>
                    <a:pt x="268" y="176"/>
                  </a:lnTo>
                  <a:lnTo>
                    <a:pt x="141" y="274"/>
                  </a:lnTo>
                  <a:lnTo>
                    <a:pt x="110" y="521"/>
                  </a:lnTo>
                  <a:lnTo>
                    <a:pt x="0" y="477"/>
                  </a:lnTo>
                  <a:lnTo>
                    <a:pt x="17" y="637"/>
                  </a:lnTo>
                  <a:lnTo>
                    <a:pt x="176" y="76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72240" y="1347840"/>
              <a:ext cx="163800" cy="827280"/>
            </a:xfrm>
            <a:custGeom>
              <a:avLst/>
              <a:gdLst/>
              <a:ahLst/>
              <a:rect l="0" t="0" r="r" b="b"/>
              <a:pathLst>
                <a:path w="455" h="2298">
                  <a:moveTo>
                    <a:pt x="234" y="13"/>
                  </a:moveTo>
                  <a:lnTo>
                    <a:pt x="79" y="114"/>
                  </a:lnTo>
                  <a:lnTo>
                    <a:pt x="79" y="304"/>
                  </a:lnTo>
                  <a:lnTo>
                    <a:pt x="189" y="370"/>
                  </a:lnTo>
                  <a:lnTo>
                    <a:pt x="39" y="674"/>
                  </a:lnTo>
                  <a:lnTo>
                    <a:pt x="0" y="1075"/>
                  </a:lnTo>
                  <a:lnTo>
                    <a:pt x="114" y="1610"/>
                  </a:lnTo>
                  <a:lnTo>
                    <a:pt x="114" y="1831"/>
                  </a:lnTo>
                  <a:lnTo>
                    <a:pt x="52" y="2003"/>
                  </a:lnTo>
                  <a:lnTo>
                    <a:pt x="287" y="2298"/>
                  </a:lnTo>
                  <a:lnTo>
                    <a:pt x="437" y="1848"/>
                  </a:lnTo>
                  <a:lnTo>
                    <a:pt x="437" y="1544"/>
                  </a:lnTo>
                  <a:lnTo>
                    <a:pt x="327" y="1257"/>
                  </a:lnTo>
                  <a:lnTo>
                    <a:pt x="269" y="868"/>
                  </a:lnTo>
                  <a:lnTo>
                    <a:pt x="384" y="489"/>
                  </a:lnTo>
                  <a:lnTo>
                    <a:pt x="344" y="339"/>
                  </a:lnTo>
                  <a:lnTo>
                    <a:pt x="455" y="260"/>
                  </a:lnTo>
                  <a:lnTo>
                    <a:pt x="437" y="158"/>
                  </a:lnTo>
                  <a:lnTo>
                    <a:pt x="305" y="0"/>
                  </a:lnTo>
                  <a:lnTo>
                    <a:pt x="234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566120" y="1069920"/>
              <a:ext cx="133560" cy="74880"/>
            </a:xfrm>
            <a:custGeom>
              <a:avLst/>
              <a:gdLst/>
              <a:ahLst/>
              <a:rect l="0" t="0" r="r" b="b"/>
              <a:pathLst>
                <a:path w="371" h="208">
                  <a:moveTo>
                    <a:pt x="0" y="61"/>
                  </a:moveTo>
                  <a:lnTo>
                    <a:pt x="145" y="208"/>
                  </a:lnTo>
                  <a:lnTo>
                    <a:pt x="296" y="190"/>
                  </a:lnTo>
                  <a:lnTo>
                    <a:pt x="371" y="17"/>
                  </a:lnTo>
                  <a:lnTo>
                    <a:pt x="208" y="0"/>
                  </a:lnTo>
                  <a:lnTo>
                    <a:pt x="39" y="17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421400" y="687240"/>
              <a:ext cx="163800" cy="162360"/>
            </a:xfrm>
            <a:custGeom>
              <a:avLst/>
              <a:gdLst/>
              <a:ahLst/>
              <a:rect l="0" t="0" r="r" b="b"/>
              <a:pathLst>
                <a:path w="455" h="451">
                  <a:moveTo>
                    <a:pt x="0" y="48"/>
                  </a:moveTo>
                  <a:lnTo>
                    <a:pt x="314" y="451"/>
                  </a:lnTo>
                  <a:lnTo>
                    <a:pt x="455" y="420"/>
                  </a:lnTo>
                  <a:lnTo>
                    <a:pt x="123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710480" y="652320"/>
              <a:ext cx="143280" cy="162360"/>
            </a:xfrm>
            <a:custGeom>
              <a:avLst/>
              <a:gdLst/>
              <a:ahLst/>
              <a:rect l="0" t="0" r="r" b="b"/>
              <a:pathLst>
                <a:path w="398" h="451">
                  <a:moveTo>
                    <a:pt x="0" y="66"/>
                  </a:moveTo>
                  <a:lnTo>
                    <a:pt x="274" y="451"/>
                  </a:lnTo>
                  <a:lnTo>
                    <a:pt x="398" y="350"/>
                  </a:lnTo>
                  <a:lnTo>
                    <a:pt x="111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361280" y="444600"/>
              <a:ext cx="574920" cy="405000"/>
            </a:xfrm>
            <a:custGeom>
              <a:avLst/>
              <a:gdLst/>
              <a:ahLst/>
              <a:rect l="0" t="0" r="r" b="b"/>
              <a:pathLst>
                <a:path w="1597" h="1125">
                  <a:moveTo>
                    <a:pt x="732" y="666"/>
                  </a:moveTo>
                  <a:lnTo>
                    <a:pt x="586" y="627"/>
                  </a:lnTo>
                  <a:lnTo>
                    <a:pt x="714" y="524"/>
                  </a:lnTo>
                  <a:lnTo>
                    <a:pt x="665" y="471"/>
                  </a:lnTo>
                  <a:lnTo>
                    <a:pt x="502" y="605"/>
                  </a:lnTo>
                  <a:lnTo>
                    <a:pt x="202" y="636"/>
                  </a:lnTo>
                  <a:lnTo>
                    <a:pt x="0" y="644"/>
                  </a:lnTo>
                  <a:lnTo>
                    <a:pt x="0" y="799"/>
                  </a:lnTo>
                  <a:lnTo>
                    <a:pt x="194" y="1116"/>
                  </a:lnTo>
                  <a:lnTo>
                    <a:pt x="238" y="1125"/>
                  </a:lnTo>
                  <a:lnTo>
                    <a:pt x="66" y="777"/>
                  </a:lnTo>
                  <a:lnTo>
                    <a:pt x="330" y="666"/>
                  </a:lnTo>
                  <a:lnTo>
                    <a:pt x="502" y="666"/>
                  </a:lnTo>
                  <a:lnTo>
                    <a:pt x="630" y="737"/>
                  </a:lnTo>
                  <a:lnTo>
                    <a:pt x="665" y="834"/>
                  </a:lnTo>
                  <a:lnTo>
                    <a:pt x="665" y="1046"/>
                  </a:lnTo>
                  <a:lnTo>
                    <a:pt x="665" y="1116"/>
                  </a:lnTo>
                  <a:lnTo>
                    <a:pt x="740" y="1015"/>
                  </a:lnTo>
                  <a:lnTo>
                    <a:pt x="740" y="790"/>
                  </a:lnTo>
                  <a:lnTo>
                    <a:pt x="856" y="790"/>
                  </a:lnTo>
                  <a:lnTo>
                    <a:pt x="909" y="1046"/>
                  </a:lnTo>
                  <a:lnTo>
                    <a:pt x="971" y="1072"/>
                  </a:lnTo>
                  <a:lnTo>
                    <a:pt x="1165" y="1072"/>
                  </a:lnTo>
                  <a:lnTo>
                    <a:pt x="1363" y="1024"/>
                  </a:lnTo>
                  <a:lnTo>
                    <a:pt x="1500" y="927"/>
                  </a:lnTo>
                  <a:lnTo>
                    <a:pt x="1522" y="702"/>
                  </a:lnTo>
                  <a:lnTo>
                    <a:pt x="1597" y="605"/>
                  </a:lnTo>
                  <a:lnTo>
                    <a:pt x="1553" y="542"/>
                  </a:lnTo>
                  <a:lnTo>
                    <a:pt x="1376" y="480"/>
                  </a:lnTo>
                  <a:lnTo>
                    <a:pt x="1345" y="251"/>
                  </a:lnTo>
                  <a:lnTo>
                    <a:pt x="1178" y="251"/>
                  </a:lnTo>
                  <a:lnTo>
                    <a:pt x="979" y="0"/>
                  </a:lnTo>
                  <a:lnTo>
                    <a:pt x="1160" y="277"/>
                  </a:lnTo>
                  <a:lnTo>
                    <a:pt x="1222" y="277"/>
                  </a:lnTo>
                  <a:lnTo>
                    <a:pt x="1257" y="471"/>
                  </a:lnTo>
                  <a:lnTo>
                    <a:pt x="1032" y="542"/>
                  </a:lnTo>
                  <a:lnTo>
                    <a:pt x="869" y="489"/>
                  </a:lnTo>
                  <a:lnTo>
                    <a:pt x="843" y="542"/>
                  </a:lnTo>
                  <a:lnTo>
                    <a:pt x="931" y="605"/>
                  </a:lnTo>
                  <a:lnTo>
                    <a:pt x="931" y="658"/>
                  </a:lnTo>
                  <a:lnTo>
                    <a:pt x="1125" y="574"/>
                  </a:lnTo>
                  <a:lnTo>
                    <a:pt x="1284" y="555"/>
                  </a:lnTo>
                  <a:lnTo>
                    <a:pt x="1465" y="583"/>
                  </a:lnTo>
                  <a:lnTo>
                    <a:pt x="1465" y="613"/>
                  </a:lnTo>
                  <a:lnTo>
                    <a:pt x="1381" y="693"/>
                  </a:lnTo>
                  <a:lnTo>
                    <a:pt x="1345" y="790"/>
                  </a:lnTo>
                  <a:lnTo>
                    <a:pt x="1337" y="927"/>
                  </a:lnTo>
                  <a:lnTo>
                    <a:pt x="1231" y="984"/>
                  </a:lnTo>
                  <a:lnTo>
                    <a:pt x="1076" y="1002"/>
                  </a:lnTo>
                  <a:lnTo>
                    <a:pt x="971" y="1002"/>
                  </a:lnTo>
                  <a:lnTo>
                    <a:pt x="935" y="962"/>
                  </a:lnTo>
                  <a:lnTo>
                    <a:pt x="909" y="702"/>
                  </a:lnTo>
                  <a:lnTo>
                    <a:pt x="740" y="702"/>
                  </a:lnTo>
                  <a:lnTo>
                    <a:pt x="732" y="6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558200" y="911160"/>
              <a:ext cx="186120" cy="82800"/>
            </a:xfrm>
            <a:custGeom>
              <a:avLst/>
              <a:gdLst/>
              <a:ahLst/>
              <a:rect l="0" t="0" r="r" b="b"/>
              <a:pathLst>
                <a:path w="517" h="230">
                  <a:moveTo>
                    <a:pt x="0" y="0"/>
                  </a:moveTo>
                  <a:lnTo>
                    <a:pt x="83" y="105"/>
                  </a:lnTo>
                  <a:lnTo>
                    <a:pt x="305" y="105"/>
                  </a:lnTo>
                  <a:lnTo>
                    <a:pt x="398" y="30"/>
                  </a:lnTo>
                  <a:lnTo>
                    <a:pt x="517" y="30"/>
                  </a:lnTo>
                  <a:lnTo>
                    <a:pt x="495" y="70"/>
                  </a:lnTo>
                  <a:lnTo>
                    <a:pt x="495" y="105"/>
                  </a:lnTo>
                  <a:lnTo>
                    <a:pt x="287" y="230"/>
                  </a:lnTo>
                  <a:lnTo>
                    <a:pt x="172" y="230"/>
                  </a:lnTo>
                  <a:lnTo>
                    <a:pt x="110" y="186"/>
                  </a:lnTo>
                  <a:lnTo>
                    <a:pt x="44" y="1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1560" y="777960"/>
              <a:ext cx="281520" cy="437040"/>
            </a:xfrm>
            <a:custGeom>
              <a:avLst/>
              <a:gdLst/>
              <a:ahLst/>
              <a:rect l="0" t="0" r="r" b="b"/>
              <a:pathLst>
                <a:path w="782" h="1214">
                  <a:moveTo>
                    <a:pt x="782" y="88"/>
                  </a:moveTo>
                  <a:lnTo>
                    <a:pt x="782" y="105"/>
                  </a:lnTo>
                  <a:lnTo>
                    <a:pt x="645" y="229"/>
                  </a:lnTo>
                  <a:lnTo>
                    <a:pt x="530" y="251"/>
                  </a:lnTo>
                  <a:lnTo>
                    <a:pt x="309" y="220"/>
                  </a:lnTo>
                  <a:lnTo>
                    <a:pt x="353" y="653"/>
                  </a:lnTo>
                  <a:lnTo>
                    <a:pt x="402" y="1016"/>
                  </a:lnTo>
                  <a:lnTo>
                    <a:pt x="494" y="1214"/>
                  </a:lnTo>
                  <a:lnTo>
                    <a:pt x="402" y="1073"/>
                  </a:lnTo>
                  <a:lnTo>
                    <a:pt x="367" y="923"/>
                  </a:lnTo>
                  <a:lnTo>
                    <a:pt x="305" y="512"/>
                  </a:lnTo>
                  <a:lnTo>
                    <a:pt x="239" y="534"/>
                  </a:lnTo>
                  <a:lnTo>
                    <a:pt x="163" y="490"/>
                  </a:lnTo>
                  <a:lnTo>
                    <a:pt x="17" y="273"/>
                  </a:lnTo>
                  <a:lnTo>
                    <a:pt x="0" y="154"/>
                  </a:lnTo>
                  <a:lnTo>
                    <a:pt x="0" y="74"/>
                  </a:lnTo>
                  <a:lnTo>
                    <a:pt x="35" y="22"/>
                  </a:lnTo>
                  <a:lnTo>
                    <a:pt x="123" y="0"/>
                  </a:lnTo>
                  <a:lnTo>
                    <a:pt x="132" y="30"/>
                  </a:lnTo>
                  <a:lnTo>
                    <a:pt x="61" y="52"/>
                  </a:lnTo>
                  <a:lnTo>
                    <a:pt x="44" y="145"/>
                  </a:lnTo>
                  <a:lnTo>
                    <a:pt x="52" y="260"/>
                  </a:lnTo>
                  <a:lnTo>
                    <a:pt x="154" y="362"/>
                  </a:lnTo>
                  <a:lnTo>
                    <a:pt x="203" y="340"/>
                  </a:lnTo>
                  <a:lnTo>
                    <a:pt x="203" y="119"/>
                  </a:lnTo>
                  <a:lnTo>
                    <a:pt x="296" y="163"/>
                  </a:lnTo>
                  <a:lnTo>
                    <a:pt x="437" y="198"/>
                  </a:lnTo>
                  <a:lnTo>
                    <a:pt x="569" y="189"/>
                  </a:lnTo>
                  <a:lnTo>
                    <a:pt x="694" y="119"/>
                  </a:lnTo>
                  <a:lnTo>
                    <a:pt x="782" y="8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6440" y="431640"/>
              <a:ext cx="86040" cy="233640"/>
            </a:xfrm>
            <a:custGeom>
              <a:avLst/>
              <a:gdLst/>
              <a:ahLst/>
              <a:rect l="0" t="0" r="r" b="b"/>
              <a:pathLst>
                <a:path w="239" h="649">
                  <a:moveTo>
                    <a:pt x="124" y="649"/>
                  </a:moveTo>
                  <a:lnTo>
                    <a:pt x="239" y="264"/>
                  </a:lnTo>
                  <a:lnTo>
                    <a:pt x="30" y="127"/>
                  </a:lnTo>
                  <a:lnTo>
                    <a:pt x="0" y="0"/>
                  </a:lnTo>
                  <a:lnTo>
                    <a:pt x="17" y="154"/>
                  </a:lnTo>
                  <a:lnTo>
                    <a:pt x="83" y="220"/>
                  </a:lnTo>
                  <a:lnTo>
                    <a:pt x="92" y="415"/>
                  </a:lnTo>
                  <a:lnTo>
                    <a:pt x="146" y="494"/>
                  </a:lnTo>
                  <a:lnTo>
                    <a:pt x="124" y="64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23200" y="228600"/>
              <a:ext cx="632160" cy="306720"/>
            </a:xfrm>
            <a:custGeom>
              <a:avLst/>
              <a:gdLst/>
              <a:ahLst/>
              <a:rect l="0" t="0" r="r" b="b"/>
              <a:pathLst>
                <a:path w="1756" h="852">
                  <a:moveTo>
                    <a:pt x="17" y="578"/>
                  </a:moveTo>
                  <a:lnTo>
                    <a:pt x="167" y="662"/>
                  </a:lnTo>
                  <a:lnTo>
                    <a:pt x="149" y="556"/>
                  </a:lnTo>
                  <a:lnTo>
                    <a:pt x="180" y="361"/>
                  </a:lnTo>
                  <a:lnTo>
                    <a:pt x="282" y="321"/>
                  </a:lnTo>
                  <a:lnTo>
                    <a:pt x="295" y="525"/>
                  </a:lnTo>
                  <a:lnTo>
                    <a:pt x="586" y="163"/>
                  </a:lnTo>
                  <a:lnTo>
                    <a:pt x="661" y="141"/>
                  </a:lnTo>
                  <a:lnTo>
                    <a:pt x="604" y="282"/>
                  </a:lnTo>
                  <a:lnTo>
                    <a:pt x="789" y="352"/>
                  </a:lnTo>
                  <a:lnTo>
                    <a:pt x="922" y="211"/>
                  </a:lnTo>
                  <a:lnTo>
                    <a:pt x="997" y="251"/>
                  </a:lnTo>
                  <a:lnTo>
                    <a:pt x="931" y="374"/>
                  </a:lnTo>
                  <a:lnTo>
                    <a:pt x="1019" y="308"/>
                  </a:lnTo>
                  <a:lnTo>
                    <a:pt x="1151" y="361"/>
                  </a:lnTo>
                  <a:lnTo>
                    <a:pt x="1046" y="464"/>
                  </a:lnTo>
                  <a:lnTo>
                    <a:pt x="1407" y="525"/>
                  </a:lnTo>
                  <a:lnTo>
                    <a:pt x="1165" y="600"/>
                  </a:lnTo>
                  <a:lnTo>
                    <a:pt x="1465" y="640"/>
                  </a:lnTo>
                  <a:lnTo>
                    <a:pt x="1107" y="724"/>
                  </a:lnTo>
                  <a:lnTo>
                    <a:pt x="1187" y="785"/>
                  </a:lnTo>
                  <a:lnTo>
                    <a:pt x="1081" y="852"/>
                  </a:lnTo>
                  <a:lnTo>
                    <a:pt x="1266" y="852"/>
                  </a:lnTo>
                  <a:lnTo>
                    <a:pt x="1248" y="803"/>
                  </a:lnTo>
                  <a:lnTo>
                    <a:pt x="1438" y="847"/>
                  </a:lnTo>
                  <a:lnTo>
                    <a:pt x="1407" y="710"/>
                  </a:lnTo>
                  <a:lnTo>
                    <a:pt x="1584" y="649"/>
                  </a:lnTo>
                  <a:lnTo>
                    <a:pt x="1456" y="587"/>
                  </a:lnTo>
                  <a:lnTo>
                    <a:pt x="1756" y="569"/>
                  </a:lnTo>
                  <a:lnTo>
                    <a:pt x="1500" y="433"/>
                  </a:lnTo>
                  <a:lnTo>
                    <a:pt x="1204" y="396"/>
                  </a:lnTo>
                  <a:lnTo>
                    <a:pt x="1438" y="260"/>
                  </a:lnTo>
                  <a:lnTo>
                    <a:pt x="1019" y="260"/>
                  </a:lnTo>
                  <a:lnTo>
                    <a:pt x="1218" y="127"/>
                  </a:lnTo>
                  <a:lnTo>
                    <a:pt x="918" y="163"/>
                  </a:lnTo>
                  <a:lnTo>
                    <a:pt x="771" y="229"/>
                  </a:lnTo>
                  <a:lnTo>
                    <a:pt x="896" y="0"/>
                  </a:lnTo>
                  <a:lnTo>
                    <a:pt x="529" y="127"/>
                  </a:lnTo>
                  <a:lnTo>
                    <a:pt x="326" y="405"/>
                  </a:lnTo>
                  <a:lnTo>
                    <a:pt x="295" y="251"/>
                  </a:lnTo>
                  <a:lnTo>
                    <a:pt x="132" y="361"/>
                  </a:lnTo>
                  <a:lnTo>
                    <a:pt x="110" y="569"/>
                  </a:lnTo>
                  <a:lnTo>
                    <a:pt x="0" y="525"/>
                  </a:lnTo>
                  <a:lnTo>
                    <a:pt x="39" y="710"/>
                  </a:lnTo>
                  <a:lnTo>
                    <a:pt x="17" y="57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1440" y="392040"/>
              <a:ext cx="178200" cy="92520"/>
            </a:xfrm>
            <a:custGeom>
              <a:avLst/>
              <a:gdLst/>
              <a:ahLst/>
              <a:rect l="0" t="0" r="r" b="b"/>
              <a:pathLst>
                <a:path w="495" h="257">
                  <a:moveTo>
                    <a:pt x="0" y="257"/>
                  </a:moveTo>
                  <a:lnTo>
                    <a:pt x="186" y="0"/>
                  </a:lnTo>
                  <a:lnTo>
                    <a:pt x="186" y="168"/>
                  </a:lnTo>
                  <a:lnTo>
                    <a:pt x="252" y="102"/>
                  </a:lnTo>
                  <a:lnTo>
                    <a:pt x="309" y="200"/>
                  </a:lnTo>
                  <a:lnTo>
                    <a:pt x="495" y="244"/>
                  </a:lnTo>
                  <a:lnTo>
                    <a:pt x="296" y="213"/>
                  </a:lnTo>
                  <a:lnTo>
                    <a:pt x="239" y="146"/>
                  </a:lnTo>
                  <a:lnTo>
                    <a:pt x="155" y="213"/>
                  </a:lnTo>
                  <a:lnTo>
                    <a:pt x="155" y="133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45240" y="1017720"/>
              <a:ext cx="214560" cy="136800"/>
            </a:xfrm>
            <a:custGeom>
              <a:avLst/>
              <a:gdLst/>
              <a:ahLst/>
              <a:rect l="0" t="0" r="r" b="b"/>
              <a:pathLst>
                <a:path w="596" h="380">
                  <a:moveTo>
                    <a:pt x="114" y="132"/>
                  </a:moveTo>
                  <a:lnTo>
                    <a:pt x="358" y="114"/>
                  </a:lnTo>
                  <a:lnTo>
                    <a:pt x="472" y="141"/>
                  </a:lnTo>
                  <a:lnTo>
                    <a:pt x="534" y="88"/>
                  </a:lnTo>
                  <a:lnTo>
                    <a:pt x="596" y="212"/>
                  </a:lnTo>
                  <a:lnTo>
                    <a:pt x="556" y="234"/>
                  </a:lnTo>
                  <a:lnTo>
                    <a:pt x="503" y="185"/>
                  </a:lnTo>
                  <a:lnTo>
                    <a:pt x="424" y="274"/>
                  </a:lnTo>
                  <a:lnTo>
                    <a:pt x="277" y="380"/>
                  </a:lnTo>
                  <a:lnTo>
                    <a:pt x="211" y="380"/>
                  </a:lnTo>
                  <a:lnTo>
                    <a:pt x="114" y="327"/>
                  </a:lnTo>
                  <a:lnTo>
                    <a:pt x="220" y="371"/>
                  </a:lnTo>
                  <a:lnTo>
                    <a:pt x="264" y="371"/>
                  </a:lnTo>
                  <a:lnTo>
                    <a:pt x="358" y="300"/>
                  </a:lnTo>
                  <a:lnTo>
                    <a:pt x="419" y="171"/>
                  </a:lnTo>
                  <a:lnTo>
                    <a:pt x="322" y="154"/>
                  </a:lnTo>
                  <a:lnTo>
                    <a:pt x="260" y="141"/>
                  </a:lnTo>
                  <a:lnTo>
                    <a:pt x="101" y="163"/>
                  </a:lnTo>
                  <a:lnTo>
                    <a:pt x="97" y="265"/>
                  </a:lnTo>
                  <a:lnTo>
                    <a:pt x="44" y="203"/>
                  </a:lnTo>
                  <a:lnTo>
                    <a:pt x="0" y="287"/>
                  </a:lnTo>
                  <a:lnTo>
                    <a:pt x="4" y="101"/>
                  </a:lnTo>
                  <a:lnTo>
                    <a:pt x="61" y="0"/>
                  </a:lnTo>
                  <a:lnTo>
                    <a:pt x="114" y="101"/>
                  </a:lnTo>
                  <a:lnTo>
                    <a:pt x="114" y="13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16800" y="720720"/>
              <a:ext cx="460800" cy="633600"/>
            </a:xfrm>
            <a:custGeom>
              <a:avLst/>
              <a:gdLst/>
              <a:ahLst/>
              <a:rect l="0" t="0" r="r" b="b"/>
              <a:pathLst>
                <a:path w="1280" h="1760">
                  <a:moveTo>
                    <a:pt x="1077" y="0"/>
                  </a:moveTo>
                  <a:lnTo>
                    <a:pt x="1205" y="0"/>
                  </a:lnTo>
                  <a:lnTo>
                    <a:pt x="1280" y="88"/>
                  </a:lnTo>
                  <a:lnTo>
                    <a:pt x="1280" y="180"/>
                  </a:lnTo>
                  <a:lnTo>
                    <a:pt x="1174" y="458"/>
                  </a:lnTo>
                  <a:lnTo>
                    <a:pt x="1069" y="590"/>
                  </a:lnTo>
                  <a:lnTo>
                    <a:pt x="963" y="608"/>
                  </a:lnTo>
                  <a:lnTo>
                    <a:pt x="931" y="608"/>
                  </a:lnTo>
                  <a:lnTo>
                    <a:pt x="931" y="957"/>
                  </a:lnTo>
                  <a:lnTo>
                    <a:pt x="980" y="1209"/>
                  </a:lnTo>
                  <a:lnTo>
                    <a:pt x="980" y="1412"/>
                  </a:lnTo>
                  <a:lnTo>
                    <a:pt x="785" y="1619"/>
                  </a:lnTo>
                  <a:lnTo>
                    <a:pt x="521" y="1760"/>
                  </a:lnTo>
                  <a:lnTo>
                    <a:pt x="353" y="1760"/>
                  </a:lnTo>
                  <a:lnTo>
                    <a:pt x="268" y="1720"/>
                  </a:lnTo>
                  <a:lnTo>
                    <a:pt x="149" y="1478"/>
                  </a:lnTo>
                  <a:lnTo>
                    <a:pt x="44" y="1390"/>
                  </a:lnTo>
                  <a:lnTo>
                    <a:pt x="0" y="1328"/>
                  </a:lnTo>
                  <a:lnTo>
                    <a:pt x="141" y="1412"/>
                  </a:lnTo>
                  <a:lnTo>
                    <a:pt x="246" y="1500"/>
                  </a:lnTo>
                  <a:lnTo>
                    <a:pt x="450" y="1513"/>
                  </a:lnTo>
                  <a:lnTo>
                    <a:pt x="636" y="1425"/>
                  </a:lnTo>
                  <a:lnTo>
                    <a:pt x="733" y="1328"/>
                  </a:lnTo>
                  <a:lnTo>
                    <a:pt x="838" y="1147"/>
                  </a:lnTo>
                  <a:lnTo>
                    <a:pt x="856" y="935"/>
                  </a:lnTo>
                  <a:lnTo>
                    <a:pt x="891" y="260"/>
                  </a:lnTo>
                  <a:lnTo>
                    <a:pt x="940" y="357"/>
                  </a:lnTo>
                  <a:lnTo>
                    <a:pt x="1064" y="233"/>
                  </a:lnTo>
                  <a:lnTo>
                    <a:pt x="1197" y="180"/>
                  </a:lnTo>
                  <a:lnTo>
                    <a:pt x="1232" y="110"/>
                  </a:lnTo>
                  <a:lnTo>
                    <a:pt x="1214" y="39"/>
                  </a:lnTo>
                  <a:lnTo>
                    <a:pt x="1157" y="8"/>
                  </a:lnTo>
                  <a:lnTo>
                    <a:pt x="107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805440" y="1266840"/>
              <a:ext cx="370080" cy="586080"/>
            </a:xfrm>
            <a:custGeom>
              <a:avLst/>
              <a:gdLst/>
              <a:ahLst/>
              <a:rect l="0" t="0" r="r" b="b"/>
              <a:pathLst>
                <a:path w="1028" h="1628">
                  <a:moveTo>
                    <a:pt x="127" y="0"/>
                  </a:moveTo>
                  <a:lnTo>
                    <a:pt x="246" y="74"/>
                  </a:lnTo>
                  <a:lnTo>
                    <a:pt x="335" y="405"/>
                  </a:lnTo>
                  <a:lnTo>
                    <a:pt x="600" y="480"/>
                  </a:lnTo>
                  <a:lnTo>
                    <a:pt x="675" y="568"/>
                  </a:lnTo>
                  <a:lnTo>
                    <a:pt x="688" y="687"/>
                  </a:lnTo>
                  <a:lnTo>
                    <a:pt x="816" y="670"/>
                  </a:lnTo>
                  <a:lnTo>
                    <a:pt x="979" y="776"/>
                  </a:lnTo>
                  <a:lnTo>
                    <a:pt x="1028" y="909"/>
                  </a:lnTo>
                  <a:lnTo>
                    <a:pt x="1028" y="1138"/>
                  </a:lnTo>
                  <a:lnTo>
                    <a:pt x="816" y="1487"/>
                  </a:lnTo>
                  <a:lnTo>
                    <a:pt x="746" y="1628"/>
                  </a:lnTo>
                  <a:lnTo>
                    <a:pt x="785" y="1438"/>
                  </a:lnTo>
                  <a:lnTo>
                    <a:pt x="746" y="1368"/>
                  </a:lnTo>
                  <a:lnTo>
                    <a:pt x="622" y="1248"/>
                  </a:lnTo>
                  <a:lnTo>
                    <a:pt x="418" y="1107"/>
                  </a:lnTo>
                  <a:lnTo>
                    <a:pt x="662" y="1187"/>
                  </a:lnTo>
                  <a:lnTo>
                    <a:pt x="807" y="1293"/>
                  </a:lnTo>
                  <a:lnTo>
                    <a:pt x="878" y="1279"/>
                  </a:lnTo>
                  <a:lnTo>
                    <a:pt x="922" y="1222"/>
                  </a:lnTo>
                  <a:lnTo>
                    <a:pt x="979" y="1054"/>
                  </a:lnTo>
                  <a:lnTo>
                    <a:pt x="962" y="896"/>
                  </a:lnTo>
                  <a:lnTo>
                    <a:pt x="887" y="802"/>
                  </a:lnTo>
                  <a:lnTo>
                    <a:pt x="759" y="776"/>
                  </a:lnTo>
                  <a:lnTo>
                    <a:pt x="622" y="776"/>
                  </a:lnTo>
                  <a:lnTo>
                    <a:pt x="574" y="533"/>
                  </a:lnTo>
                  <a:lnTo>
                    <a:pt x="348" y="454"/>
                  </a:lnTo>
                  <a:lnTo>
                    <a:pt x="348" y="520"/>
                  </a:lnTo>
                  <a:lnTo>
                    <a:pt x="246" y="348"/>
                  </a:lnTo>
                  <a:lnTo>
                    <a:pt x="189" y="74"/>
                  </a:lnTo>
                  <a:lnTo>
                    <a:pt x="101" y="44"/>
                  </a:lnTo>
                  <a:lnTo>
                    <a:pt x="48" y="127"/>
                  </a:lnTo>
                  <a:lnTo>
                    <a:pt x="48" y="317"/>
                  </a:lnTo>
                  <a:lnTo>
                    <a:pt x="92" y="520"/>
                  </a:lnTo>
                  <a:lnTo>
                    <a:pt x="216" y="687"/>
                  </a:lnTo>
                  <a:lnTo>
                    <a:pt x="79" y="586"/>
                  </a:lnTo>
                  <a:lnTo>
                    <a:pt x="13" y="405"/>
                  </a:lnTo>
                  <a:lnTo>
                    <a:pt x="0" y="171"/>
                  </a:lnTo>
                  <a:lnTo>
                    <a:pt x="48" y="44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629400" y="1525680"/>
              <a:ext cx="244800" cy="468720"/>
            </a:xfrm>
            <a:custGeom>
              <a:avLst/>
              <a:gdLst/>
              <a:ahLst/>
              <a:rect l="0" t="0" r="r" b="b"/>
              <a:pathLst>
                <a:path w="680" h="1302">
                  <a:moveTo>
                    <a:pt x="680" y="0"/>
                  </a:moveTo>
                  <a:lnTo>
                    <a:pt x="538" y="88"/>
                  </a:lnTo>
                  <a:lnTo>
                    <a:pt x="375" y="402"/>
                  </a:lnTo>
                  <a:lnTo>
                    <a:pt x="211" y="609"/>
                  </a:lnTo>
                  <a:lnTo>
                    <a:pt x="17" y="856"/>
                  </a:lnTo>
                  <a:lnTo>
                    <a:pt x="0" y="985"/>
                  </a:lnTo>
                  <a:lnTo>
                    <a:pt x="39" y="1095"/>
                  </a:lnTo>
                  <a:lnTo>
                    <a:pt x="132" y="1095"/>
                  </a:lnTo>
                  <a:lnTo>
                    <a:pt x="260" y="985"/>
                  </a:lnTo>
                  <a:lnTo>
                    <a:pt x="362" y="750"/>
                  </a:lnTo>
                  <a:lnTo>
                    <a:pt x="499" y="609"/>
                  </a:lnTo>
                  <a:lnTo>
                    <a:pt x="499" y="794"/>
                  </a:lnTo>
                  <a:lnTo>
                    <a:pt x="477" y="966"/>
                  </a:lnTo>
                  <a:lnTo>
                    <a:pt x="330" y="1197"/>
                  </a:lnTo>
                  <a:lnTo>
                    <a:pt x="330" y="1272"/>
                  </a:lnTo>
                  <a:lnTo>
                    <a:pt x="477" y="1302"/>
                  </a:lnTo>
                  <a:lnTo>
                    <a:pt x="375" y="1236"/>
                  </a:lnTo>
                  <a:lnTo>
                    <a:pt x="389" y="1197"/>
                  </a:lnTo>
                  <a:lnTo>
                    <a:pt x="490" y="1029"/>
                  </a:lnTo>
                  <a:lnTo>
                    <a:pt x="561" y="724"/>
                  </a:lnTo>
                  <a:lnTo>
                    <a:pt x="512" y="547"/>
                  </a:lnTo>
                  <a:lnTo>
                    <a:pt x="402" y="649"/>
                  </a:lnTo>
                  <a:lnTo>
                    <a:pt x="158" y="1038"/>
                  </a:lnTo>
                  <a:lnTo>
                    <a:pt x="97" y="1051"/>
                  </a:lnTo>
                  <a:lnTo>
                    <a:pt x="39" y="1011"/>
                  </a:lnTo>
                  <a:lnTo>
                    <a:pt x="39" y="891"/>
                  </a:lnTo>
                  <a:lnTo>
                    <a:pt x="132" y="737"/>
                  </a:lnTo>
                  <a:lnTo>
                    <a:pt x="402" y="419"/>
                  </a:lnTo>
                  <a:lnTo>
                    <a:pt x="561" y="119"/>
                  </a:lnTo>
                  <a:lnTo>
                    <a:pt x="68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810480" y="1789200"/>
              <a:ext cx="151200" cy="225720"/>
            </a:xfrm>
            <a:custGeom>
              <a:avLst/>
              <a:gdLst/>
              <a:ahLst/>
              <a:rect l="0" t="0" r="r" b="b"/>
              <a:pathLst>
                <a:path w="420" h="627">
                  <a:moveTo>
                    <a:pt x="0" y="552"/>
                  </a:moveTo>
                  <a:lnTo>
                    <a:pt x="137" y="393"/>
                  </a:lnTo>
                  <a:lnTo>
                    <a:pt x="164" y="233"/>
                  </a:lnTo>
                  <a:lnTo>
                    <a:pt x="323" y="0"/>
                  </a:lnTo>
                  <a:lnTo>
                    <a:pt x="359" y="154"/>
                  </a:lnTo>
                  <a:lnTo>
                    <a:pt x="337" y="565"/>
                  </a:lnTo>
                  <a:lnTo>
                    <a:pt x="420" y="627"/>
                  </a:lnTo>
                  <a:lnTo>
                    <a:pt x="296" y="583"/>
                  </a:lnTo>
                  <a:lnTo>
                    <a:pt x="234" y="349"/>
                  </a:lnTo>
                  <a:lnTo>
                    <a:pt x="137" y="464"/>
                  </a:lnTo>
                  <a:lnTo>
                    <a:pt x="0" y="55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96240" y="1801800"/>
              <a:ext cx="100440" cy="201960"/>
            </a:xfrm>
            <a:custGeom>
              <a:avLst/>
              <a:gdLst/>
              <a:ahLst/>
              <a:rect l="0" t="0" r="r" b="b"/>
              <a:pathLst>
                <a:path w="279" h="561">
                  <a:moveTo>
                    <a:pt x="0" y="419"/>
                  </a:moveTo>
                  <a:lnTo>
                    <a:pt x="13" y="216"/>
                  </a:lnTo>
                  <a:lnTo>
                    <a:pt x="71" y="92"/>
                  </a:lnTo>
                  <a:lnTo>
                    <a:pt x="137" y="534"/>
                  </a:lnTo>
                  <a:lnTo>
                    <a:pt x="222" y="534"/>
                  </a:lnTo>
                  <a:lnTo>
                    <a:pt x="257" y="61"/>
                  </a:lnTo>
                  <a:lnTo>
                    <a:pt x="279" y="0"/>
                  </a:lnTo>
                  <a:lnTo>
                    <a:pt x="257" y="367"/>
                  </a:lnTo>
                  <a:lnTo>
                    <a:pt x="222" y="561"/>
                  </a:lnTo>
                  <a:lnTo>
                    <a:pt x="111" y="561"/>
                  </a:lnTo>
                  <a:lnTo>
                    <a:pt x="61" y="171"/>
                  </a:lnTo>
                  <a:lnTo>
                    <a:pt x="35" y="229"/>
                  </a:lnTo>
                  <a:lnTo>
                    <a:pt x="0" y="41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269200" y="1006560"/>
              <a:ext cx="241560" cy="540000"/>
            </a:xfrm>
            <a:custGeom>
              <a:avLst/>
              <a:gdLst/>
              <a:ahLst/>
              <a:rect l="0" t="0" r="r" b="b"/>
              <a:pathLst>
                <a:path w="671" h="1500">
                  <a:moveTo>
                    <a:pt x="176" y="812"/>
                  </a:moveTo>
                  <a:lnTo>
                    <a:pt x="224" y="577"/>
                  </a:lnTo>
                  <a:lnTo>
                    <a:pt x="455" y="515"/>
                  </a:lnTo>
                  <a:lnTo>
                    <a:pt x="671" y="0"/>
                  </a:lnTo>
                  <a:lnTo>
                    <a:pt x="671" y="149"/>
                  </a:lnTo>
                  <a:lnTo>
                    <a:pt x="486" y="546"/>
                  </a:lnTo>
                  <a:lnTo>
                    <a:pt x="246" y="621"/>
                  </a:lnTo>
                  <a:lnTo>
                    <a:pt x="211" y="812"/>
                  </a:lnTo>
                  <a:lnTo>
                    <a:pt x="295" y="812"/>
                  </a:lnTo>
                  <a:lnTo>
                    <a:pt x="88" y="896"/>
                  </a:lnTo>
                  <a:lnTo>
                    <a:pt x="39" y="1054"/>
                  </a:lnTo>
                  <a:lnTo>
                    <a:pt x="48" y="1262"/>
                  </a:lnTo>
                  <a:lnTo>
                    <a:pt x="273" y="1500"/>
                  </a:lnTo>
                  <a:lnTo>
                    <a:pt x="39" y="1288"/>
                  </a:lnTo>
                  <a:lnTo>
                    <a:pt x="0" y="1116"/>
                  </a:lnTo>
                  <a:lnTo>
                    <a:pt x="17" y="944"/>
                  </a:lnTo>
                  <a:lnTo>
                    <a:pt x="101" y="821"/>
                  </a:lnTo>
                  <a:lnTo>
                    <a:pt x="176" y="81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432640" y="1006560"/>
              <a:ext cx="405000" cy="524160"/>
            </a:xfrm>
            <a:custGeom>
              <a:avLst/>
              <a:gdLst/>
              <a:ahLst/>
              <a:rect l="0" t="0" r="r" b="b"/>
              <a:pathLst>
                <a:path w="1125" h="1456">
                  <a:moveTo>
                    <a:pt x="308" y="0"/>
                  </a:moveTo>
                  <a:lnTo>
                    <a:pt x="379" y="44"/>
                  </a:lnTo>
                  <a:lnTo>
                    <a:pt x="396" y="167"/>
                  </a:lnTo>
                  <a:lnTo>
                    <a:pt x="396" y="282"/>
                  </a:lnTo>
                  <a:lnTo>
                    <a:pt x="273" y="493"/>
                  </a:lnTo>
                  <a:lnTo>
                    <a:pt x="299" y="648"/>
                  </a:lnTo>
                  <a:lnTo>
                    <a:pt x="675" y="821"/>
                  </a:lnTo>
                  <a:lnTo>
                    <a:pt x="1116" y="1275"/>
                  </a:lnTo>
                  <a:lnTo>
                    <a:pt x="1125" y="1403"/>
                  </a:lnTo>
                  <a:lnTo>
                    <a:pt x="1099" y="1456"/>
                  </a:lnTo>
                  <a:lnTo>
                    <a:pt x="935" y="1456"/>
                  </a:lnTo>
                  <a:lnTo>
                    <a:pt x="790" y="1368"/>
                  </a:lnTo>
                  <a:lnTo>
                    <a:pt x="666" y="1218"/>
                  </a:lnTo>
                  <a:lnTo>
                    <a:pt x="600" y="1129"/>
                  </a:lnTo>
                  <a:lnTo>
                    <a:pt x="520" y="1116"/>
                  </a:lnTo>
                  <a:lnTo>
                    <a:pt x="618" y="1116"/>
                  </a:lnTo>
                  <a:lnTo>
                    <a:pt x="803" y="1354"/>
                  </a:lnTo>
                  <a:lnTo>
                    <a:pt x="1037" y="1425"/>
                  </a:lnTo>
                  <a:lnTo>
                    <a:pt x="1085" y="1354"/>
                  </a:lnTo>
                  <a:lnTo>
                    <a:pt x="1063" y="1244"/>
                  </a:lnTo>
                  <a:lnTo>
                    <a:pt x="653" y="918"/>
                  </a:lnTo>
                  <a:lnTo>
                    <a:pt x="591" y="821"/>
                  </a:lnTo>
                  <a:lnTo>
                    <a:pt x="273" y="737"/>
                  </a:lnTo>
                  <a:lnTo>
                    <a:pt x="216" y="821"/>
                  </a:lnTo>
                  <a:lnTo>
                    <a:pt x="0" y="957"/>
                  </a:lnTo>
                  <a:lnTo>
                    <a:pt x="207" y="799"/>
                  </a:lnTo>
                  <a:lnTo>
                    <a:pt x="216" y="696"/>
                  </a:lnTo>
                  <a:lnTo>
                    <a:pt x="216" y="463"/>
                  </a:lnTo>
                  <a:lnTo>
                    <a:pt x="361" y="282"/>
                  </a:lnTo>
                  <a:lnTo>
                    <a:pt x="361" y="57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358120" y="1417680"/>
              <a:ext cx="344880" cy="309960"/>
            </a:xfrm>
            <a:custGeom>
              <a:avLst/>
              <a:gdLst/>
              <a:ahLst/>
              <a:rect l="0" t="0" r="r" b="b"/>
              <a:pathLst>
                <a:path w="958" h="861">
                  <a:moveTo>
                    <a:pt x="720" y="0"/>
                  </a:moveTo>
                  <a:lnTo>
                    <a:pt x="693" y="74"/>
                  </a:lnTo>
                  <a:lnTo>
                    <a:pt x="835" y="358"/>
                  </a:lnTo>
                  <a:lnTo>
                    <a:pt x="910" y="650"/>
                  </a:lnTo>
                  <a:lnTo>
                    <a:pt x="826" y="650"/>
                  </a:lnTo>
                  <a:lnTo>
                    <a:pt x="680" y="521"/>
                  </a:lnTo>
                  <a:lnTo>
                    <a:pt x="552" y="252"/>
                  </a:lnTo>
                  <a:lnTo>
                    <a:pt x="450" y="211"/>
                  </a:lnTo>
                  <a:lnTo>
                    <a:pt x="468" y="358"/>
                  </a:lnTo>
                  <a:lnTo>
                    <a:pt x="561" y="464"/>
                  </a:lnTo>
                  <a:lnTo>
                    <a:pt x="561" y="667"/>
                  </a:lnTo>
                  <a:lnTo>
                    <a:pt x="490" y="822"/>
                  </a:lnTo>
                  <a:lnTo>
                    <a:pt x="402" y="760"/>
                  </a:lnTo>
                  <a:lnTo>
                    <a:pt x="296" y="521"/>
                  </a:lnTo>
                  <a:lnTo>
                    <a:pt x="269" y="358"/>
                  </a:lnTo>
                  <a:lnTo>
                    <a:pt x="207" y="314"/>
                  </a:lnTo>
                  <a:lnTo>
                    <a:pt x="189" y="729"/>
                  </a:lnTo>
                  <a:lnTo>
                    <a:pt x="101" y="786"/>
                  </a:lnTo>
                  <a:lnTo>
                    <a:pt x="26" y="729"/>
                  </a:lnTo>
                  <a:lnTo>
                    <a:pt x="13" y="371"/>
                  </a:lnTo>
                  <a:lnTo>
                    <a:pt x="0" y="720"/>
                  </a:lnTo>
                  <a:lnTo>
                    <a:pt x="61" y="848"/>
                  </a:lnTo>
                  <a:lnTo>
                    <a:pt x="189" y="848"/>
                  </a:lnTo>
                  <a:lnTo>
                    <a:pt x="229" y="747"/>
                  </a:lnTo>
                  <a:lnTo>
                    <a:pt x="256" y="419"/>
                  </a:lnTo>
                  <a:lnTo>
                    <a:pt x="278" y="547"/>
                  </a:lnTo>
                  <a:lnTo>
                    <a:pt x="389" y="831"/>
                  </a:lnTo>
                  <a:lnTo>
                    <a:pt x="503" y="861"/>
                  </a:lnTo>
                  <a:lnTo>
                    <a:pt x="591" y="747"/>
                  </a:lnTo>
                  <a:lnTo>
                    <a:pt x="591" y="477"/>
                  </a:lnTo>
                  <a:lnTo>
                    <a:pt x="826" y="703"/>
                  </a:lnTo>
                  <a:lnTo>
                    <a:pt x="945" y="703"/>
                  </a:lnTo>
                  <a:lnTo>
                    <a:pt x="958" y="547"/>
                  </a:lnTo>
                  <a:lnTo>
                    <a:pt x="870" y="278"/>
                  </a:lnTo>
                  <a:lnTo>
                    <a:pt x="720" y="57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967440" y="1096920"/>
              <a:ext cx="1532160" cy="1263960"/>
            </a:xfrm>
            <a:custGeom>
              <a:avLst/>
              <a:gdLst/>
              <a:ahLst/>
              <a:rect l="0" t="0" r="r" b="b"/>
              <a:pathLst>
                <a:path w="4256" h="3511">
                  <a:moveTo>
                    <a:pt x="1530" y="295"/>
                  </a:moveTo>
                  <a:lnTo>
                    <a:pt x="1450" y="308"/>
                  </a:lnTo>
                  <a:lnTo>
                    <a:pt x="1336" y="485"/>
                  </a:lnTo>
                  <a:lnTo>
                    <a:pt x="1292" y="357"/>
                  </a:lnTo>
                  <a:lnTo>
                    <a:pt x="1155" y="282"/>
                  </a:lnTo>
                  <a:lnTo>
                    <a:pt x="1053" y="339"/>
                  </a:lnTo>
                  <a:lnTo>
                    <a:pt x="1009" y="568"/>
                  </a:lnTo>
                  <a:lnTo>
                    <a:pt x="630" y="846"/>
                  </a:lnTo>
                  <a:lnTo>
                    <a:pt x="652" y="965"/>
                  </a:lnTo>
                  <a:lnTo>
                    <a:pt x="564" y="1071"/>
                  </a:lnTo>
                  <a:lnTo>
                    <a:pt x="564" y="1159"/>
                  </a:lnTo>
                  <a:lnTo>
                    <a:pt x="670" y="1424"/>
                  </a:lnTo>
                  <a:lnTo>
                    <a:pt x="679" y="1750"/>
                  </a:lnTo>
                  <a:lnTo>
                    <a:pt x="608" y="2055"/>
                  </a:lnTo>
                  <a:lnTo>
                    <a:pt x="335" y="2241"/>
                  </a:lnTo>
                  <a:lnTo>
                    <a:pt x="299" y="2492"/>
                  </a:lnTo>
                  <a:lnTo>
                    <a:pt x="216" y="2492"/>
                  </a:lnTo>
                  <a:lnTo>
                    <a:pt x="171" y="2285"/>
                  </a:lnTo>
                  <a:lnTo>
                    <a:pt x="88" y="2285"/>
                  </a:lnTo>
                  <a:lnTo>
                    <a:pt x="48" y="2505"/>
                  </a:lnTo>
                  <a:lnTo>
                    <a:pt x="0" y="2563"/>
                  </a:lnTo>
                  <a:lnTo>
                    <a:pt x="189" y="2867"/>
                  </a:lnTo>
                  <a:lnTo>
                    <a:pt x="321" y="2880"/>
                  </a:lnTo>
                  <a:lnTo>
                    <a:pt x="564" y="3105"/>
                  </a:lnTo>
                  <a:lnTo>
                    <a:pt x="780" y="3131"/>
                  </a:lnTo>
                  <a:lnTo>
                    <a:pt x="903" y="3012"/>
                  </a:lnTo>
                  <a:lnTo>
                    <a:pt x="1195" y="2580"/>
                  </a:lnTo>
                  <a:lnTo>
                    <a:pt x="1221" y="3162"/>
                  </a:lnTo>
                  <a:lnTo>
                    <a:pt x="1195" y="3511"/>
                  </a:lnTo>
                  <a:lnTo>
                    <a:pt x="3656" y="3511"/>
                  </a:lnTo>
                  <a:lnTo>
                    <a:pt x="3475" y="3131"/>
                  </a:lnTo>
                  <a:lnTo>
                    <a:pt x="3387" y="2805"/>
                  </a:lnTo>
                  <a:lnTo>
                    <a:pt x="3365" y="2320"/>
                  </a:lnTo>
                  <a:lnTo>
                    <a:pt x="3511" y="2430"/>
                  </a:lnTo>
                  <a:lnTo>
                    <a:pt x="3656" y="2430"/>
                  </a:lnTo>
                  <a:lnTo>
                    <a:pt x="3859" y="2302"/>
                  </a:lnTo>
                  <a:lnTo>
                    <a:pt x="3991" y="2285"/>
                  </a:lnTo>
                  <a:lnTo>
                    <a:pt x="4075" y="2157"/>
                  </a:lnTo>
                  <a:lnTo>
                    <a:pt x="4132" y="1826"/>
                  </a:lnTo>
                  <a:lnTo>
                    <a:pt x="4256" y="1688"/>
                  </a:lnTo>
                  <a:lnTo>
                    <a:pt x="4194" y="1591"/>
                  </a:lnTo>
                  <a:lnTo>
                    <a:pt x="4102" y="1591"/>
                  </a:lnTo>
                  <a:lnTo>
                    <a:pt x="4031" y="1658"/>
                  </a:lnTo>
                  <a:lnTo>
                    <a:pt x="3956" y="1675"/>
                  </a:lnTo>
                  <a:lnTo>
                    <a:pt x="3868" y="1591"/>
                  </a:lnTo>
                  <a:lnTo>
                    <a:pt x="3766" y="1578"/>
                  </a:lnTo>
                  <a:lnTo>
                    <a:pt x="3572" y="1455"/>
                  </a:lnTo>
                  <a:lnTo>
                    <a:pt x="3449" y="1322"/>
                  </a:lnTo>
                  <a:lnTo>
                    <a:pt x="3431" y="1159"/>
                  </a:lnTo>
                  <a:lnTo>
                    <a:pt x="3449" y="1005"/>
                  </a:lnTo>
                  <a:lnTo>
                    <a:pt x="3528" y="877"/>
                  </a:lnTo>
                  <a:lnTo>
                    <a:pt x="3634" y="762"/>
                  </a:lnTo>
                  <a:lnTo>
                    <a:pt x="3625" y="560"/>
                  </a:lnTo>
                  <a:lnTo>
                    <a:pt x="3625" y="414"/>
                  </a:lnTo>
                  <a:lnTo>
                    <a:pt x="3572" y="308"/>
                  </a:lnTo>
                  <a:lnTo>
                    <a:pt x="3431" y="264"/>
                  </a:lnTo>
                  <a:lnTo>
                    <a:pt x="3378" y="238"/>
                  </a:lnTo>
                  <a:lnTo>
                    <a:pt x="3277" y="66"/>
                  </a:lnTo>
                  <a:lnTo>
                    <a:pt x="3193" y="13"/>
                  </a:lnTo>
                  <a:lnTo>
                    <a:pt x="3105" y="0"/>
                  </a:lnTo>
                  <a:lnTo>
                    <a:pt x="3030" y="30"/>
                  </a:lnTo>
                  <a:lnTo>
                    <a:pt x="2968" y="123"/>
                  </a:lnTo>
                  <a:lnTo>
                    <a:pt x="2876" y="176"/>
                  </a:lnTo>
                  <a:lnTo>
                    <a:pt x="2770" y="198"/>
                  </a:lnTo>
                  <a:lnTo>
                    <a:pt x="2651" y="198"/>
                  </a:lnTo>
                  <a:lnTo>
                    <a:pt x="2673" y="370"/>
                  </a:lnTo>
                  <a:lnTo>
                    <a:pt x="2673" y="586"/>
                  </a:lnTo>
                  <a:lnTo>
                    <a:pt x="2651" y="732"/>
                  </a:lnTo>
                  <a:lnTo>
                    <a:pt x="2549" y="903"/>
                  </a:lnTo>
                  <a:lnTo>
                    <a:pt x="2413" y="1168"/>
                  </a:lnTo>
                  <a:lnTo>
                    <a:pt x="2307" y="1486"/>
                  </a:lnTo>
                  <a:lnTo>
                    <a:pt x="2302" y="1675"/>
                  </a:lnTo>
                  <a:lnTo>
                    <a:pt x="2249" y="1839"/>
                  </a:lnTo>
                  <a:lnTo>
                    <a:pt x="2188" y="1998"/>
                  </a:lnTo>
                  <a:lnTo>
                    <a:pt x="2157" y="2254"/>
                  </a:lnTo>
                  <a:lnTo>
                    <a:pt x="2174" y="2466"/>
                  </a:lnTo>
                  <a:lnTo>
                    <a:pt x="2249" y="2712"/>
                  </a:lnTo>
                  <a:lnTo>
                    <a:pt x="2302" y="2805"/>
                  </a:lnTo>
                  <a:lnTo>
                    <a:pt x="2157" y="2898"/>
                  </a:lnTo>
                  <a:lnTo>
                    <a:pt x="1984" y="2955"/>
                  </a:lnTo>
                  <a:lnTo>
                    <a:pt x="1794" y="2973"/>
                  </a:lnTo>
                  <a:lnTo>
                    <a:pt x="1680" y="2973"/>
                  </a:lnTo>
                  <a:lnTo>
                    <a:pt x="1605" y="2937"/>
                  </a:lnTo>
                  <a:lnTo>
                    <a:pt x="1605" y="2730"/>
                  </a:lnTo>
                  <a:lnTo>
                    <a:pt x="1605" y="2417"/>
                  </a:lnTo>
                  <a:lnTo>
                    <a:pt x="1556" y="2113"/>
                  </a:lnTo>
                  <a:lnTo>
                    <a:pt x="1481" y="1839"/>
                  </a:lnTo>
                  <a:lnTo>
                    <a:pt x="1441" y="1618"/>
                  </a:lnTo>
                  <a:lnTo>
                    <a:pt x="1433" y="1305"/>
                  </a:lnTo>
                  <a:lnTo>
                    <a:pt x="1481" y="1036"/>
                  </a:lnTo>
                  <a:lnTo>
                    <a:pt x="1556" y="820"/>
                  </a:lnTo>
                  <a:lnTo>
                    <a:pt x="1565" y="687"/>
                  </a:lnTo>
                  <a:lnTo>
                    <a:pt x="1530" y="502"/>
                  </a:lnTo>
                  <a:lnTo>
                    <a:pt x="1530" y="357"/>
                  </a:lnTo>
                  <a:lnTo>
                    <a:pt x="1556" y="308"/>
                  </a:lnTo>
                  <a:lnTo>
                    <a:pt x="1530" y="29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564320" y="1351080"/>
              <a:ext cx="194040" cy="821160"/>
            </a:xfrm>
            <a:custGeom>
              <a:avLst/>
              <a:gdLst/>
              <a:ahLst/>
              <a:rect l="0" t="0" r="r" b="b"/>
              <a:pathLst>
                <a:path w="539" h="2281">
                  <a:moveTo>
                    <a:pt x="217" y="26"/>
                  </a:moveTo>
                  <a:lnTo>
                    <a:pt x="70" y="101"/>
                  </a:lnTo>
                  <a:lnTo>
                    <a:pt x="83" y="321"/>
                  </a:lnTo>
                  <a:lnTo>
                    <a:pt x="190" y="383"/>
                  </a:lnTo>
                  <a:lnTo>
                    <a:pt x="61" y="622"/>
                  </a:lnTo>
                  <a:lnTo>
                    <a:pt x="0" y="887"/>
                  </a:lnTo>
                  <a:lnTo>
                    <a:pt x="0" y="1138"/>
                  </a:lnTo>
                  <a:lnTo>
                    <a:pt x="61" y="1368"/>
                  </a:lnTo>
                  <a:lnTo>
                    <a:pt x="114" y="1645"/>
                  </a:lnTo>
                  <a:lnTo>
                    <a:pt x="114" y="1805"/>
                  </a:lnTo>
                  <a:lnTo>
                    <a:pt x="61" y="2004"/>
                  </a:lnTo>
                  <a:lnTo>
                    <a:pt x="278" y="2281"/>
                  </a:lnTo>
                  <a:lnTo>
                    <a:pt x="371" y="2237"/>
                  </a:lnTo>
                  <a:lnTo>
                    <a:pt x="429" y="2043"/>
                  </a:lnTo>
                  <a:lnTo>
                    <a:pt x="531" y="1792"/>
                  </a:lnTo>
                  <a:lnTo>
                    <a:pt x="539" y="1659"/>
                  </a:lnTo>
                  <a:lnTo>
                    <a:pt x="456" y="1407"/>
                  </a:lnTo>
                  <a:lnTo>
                    <a:pt x="353" y="1165"/>
                  </a:lnTo>
                  <a:lnTo>
                    <a:pt x="318" y="993"/>
                  </a:lnTo>
                  <a:lnTo>
                    <a:pt x="318" y="830"/>
                  </a:lnTo>
                  <a:lnTo>
                    <a:pt x="353" y="680"/>
                  </a:lnTo>
                  <a:lnTo>
                    <a:pt x="429" y="498"/>
                  </a:lnTo>
                  <a:lnTo>
                    <a:pt x="429" y="423"/>
                  </a:lnTo>
                  <a:lnTo>
                    <a:pt x="393" y="352"/>
                  </a:lnTo>
                  <a:lnTo>
                    <a:pt x="495" y="260"/>
                  </a:lnTo>
                  <a:lnTo>
                    <a:pt x="495" y="171"/>
                  </a:lnTo>
                  <a:lnTo>
                    <a:pt x="353" y="0"/>
                  </a:lnTo>
                  <a:lnTo>
                    <a:pt x="469" y="171"/>
                  </a:lnTo>
                  <a:lnTo>
                    <a:pt x="469" y="246"/>
                  </a:lnTo>
                  <a:lnTo>
                    <a:pt x="367" y="321"/>
                  </a:lnTo>
                  <a:lnTo>
                    <a:pt x="407" y="423"/>
                  </a:lnTo>
                  <a:lnTo>
                    <a:pt x="393" y="498"/>
                  </a:lnTo>
                  <a:lnTo>
                    <a:pt x="292" y="710"/>
                  </a:lnTo>
                  <a:lnTo>
                    <a:pt x="278" y="913"/>
                  </a:lnTo>
                  <a:lnTo>
                    <a:pt x="305" y="1107"/>
                  </a:lnTo>
                  <a:lnTo>
                    <a:pt x="371" y="1381"/>
                  </a:lnTo>
                  <a:lnTo>
                    <a:pt x="456" y="1601"/>
                  </a:lnTo>
                  <a:lnTo>
                    <a:pt x="456" y="1779"/>
                  </a:lnTo>
                  <a:lnTo>
                    <a:pt x="407" y="2004"/>
                  </a:lnTo>
                  <a:lnTo>
                    <a:pt x="305" y="2237"/>
                  </a:lnTo>
                  <a:lnTo>
                    <a:pt x="177" y="2109"/>
                  </a:lnTo>
                  <a:lnTo>
                    <a:pt x="127" y="2004"/>
                  </a:lnTo>
                  <a:lnTo>
                    <a:pt x="137" y="1779"/>
                  </a:lnTo>
                  <a:lnTo>
                    <a:pt x="127" y="1553"/>
                  </a:lnTo>
                  <a:lnTo>
                    <a:pt x="61" y="1253"/>
                  </a:lnTo>
                  <a:lnTo>
                    <a:pt x="39" y="1046"/>
                  </a:lnTo>
                  <a:lnTo>
                    <a:pt x="61" y="812"/>
                  </a:lnTo>
                  <a:lnTo>
                    <a:pt x="114" y="591"/>
                  </a:lnTo>
                  <a:lnTo>
                    <a:pt x="225" y="366"/>
                  </a:lnTo>
                  <a:lnTo>
                    <a:pt x="127" y="273"/>
                  </a:lnTo>
                  <a:lnTo>
                    <a:pt x="114" y="114"/>
                  </a:lnTo>
                  <a:lnTo>
                    <a:pt x="217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115480" y="392040"/>
              <a:ext cx="305280" cy="398880"/>
            </a:xfrm>
            <a:custGeom>
              <a:avLst/>
              <a:gdLst/>
              <a:ahLst/>
              <a:rect l="0" t="0" r="r" b="b"/>
              <a:pathLst>
                <a:path w="848" h="1108">
                  <a:moveTo>
                    <a:pt x="141" y="283"/>
                  </a:moveTo>
                  <a:lnTo>
                    <a:pt x="265" y="260"/>
                  </a:lnTo>
                  <a:lnTo>
                    <a:pt x="384" y="268"/>
                  </a:lnTo>
                  <a:lnTo>
                    <a:pt x="486" y="314"/>
                  </a:lnTo>
                  <a:lnTo>
                    <a:pt x="543" y="375"/>
                  </a:lnTo>
                  <a:lnTo>
                    <a:pt x="565" y="433"/>
                  </a:lnTo>
                  <a:lnTo>
                    <a:pt x="565" y="490"/>
                  </a:lnTo>
                  <a:lnTo>
                    <a:pt x="538" y="525"/>
                  </a:lnTo>
                  <a:lnTo>
                    <a:pt x="481" y="552"/>
                  </a:lnTo>
                  <a:lnTo>
                    <a:pt x="419" y="556"/>
                  </a:lnTo>
                  <a:lnTo>
                    <a:pt x="344" y="538"/>
                  </a:lnTo>
                  <a:lnTo>
                    <a:pt x="269" y="494"/>
                  </a:lnTo>
                  <a:lnTo>
                    <a:pt x="211" y="450"/>
                  </a:lnTo>
                  <a:lnTo>
                    <a:pt x="189" y="591"/>
                  </a:lnTo>
                  <a:lnTo>
                    <a:pt x="141" y="693"/>
                  </a:lnTo>
                  <a:lnTo>
                    <a:pt x="0" y="928"/>
                  </a:lnTo>
                  <a:lnTo>
                    <a:pt x="207" y="1108"/>
                  </a:lnTo>
                  <a:lnTo>
                    <a:pt x="362" y="807"/>
                  </a:lnTo>
                  <a:lnTo>
                    <a:pt x="538" y="835"/>
                  </a:lnTo>
                  <a:lnTo>
                    <a:pt x="645" y="812"/>
                  </a:lnTo>
                  <a:lnTo>
                    <a:pt x="751" y="741"/>
                  </a:lnTo>
                  <a:lnTo>
                    <a:pt x="813" y="658"/>
                  </a:lnTo>
                  <a:lnTo>
                    <a:pt x="848" y="543"/>
                  </a:lnTo>
                  <a:lnTo>
                    <a:pt x="848" y="424"/>
                  </a:lnTo>
                  <a:lnTo>
                    <a:pt x="813" y="296"/>
                  </a:lnTo>
                  <a:lnTo>
                    <a:pt x="747" y="167"/>
                  </a:lnTo>
                  <a:lnTo>
                    <a:pt x="659" y="79"/>
                  </a:lnTo>
                  <a:lnTo>
                    <a:pt x="552" y="26"/>
                  </a:lnTo>
                  <a:lnTo>
                    <a:pt x="433" y="0"/>
                  </a:lnTo>
                  <a:lnTo>
                    <a:pt x="283" y="0"/>
                  </a:lnTo>
                  <a:lnTo>
                    <a:pt x="114" y="30"/>
                  </a:lnTo>
                  <a:lnTo>
                    <a:pt x="141" y="283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061480" y="779400"/>
              <a:ext cx="109800" cy="79560"/>
            </a:xfrm>
            <a:custGeom>
              <a:avLst/>
              <a:gdLst/>
              <a:ahLst/>
              <a:rect l="0" t="0" r="r" b="b"/>
              <a:pathLst>
                <a:path w="305" h="221">
                  <a:moveTo>
                    <a:pt x="119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11"/>
                  </a:lnTo>
                  <a:lnTo>
                    <a:pt x="61" y="190"/>
                  </a:lnTo>
                  <a:lnTo>
                    <a:pt x="186" y="221"/>
                  </a:lnTo>
                  <a:lnTo>
                    <a:pt x="274" y="217"/>
                  </a:lnTo>
                  <a:lnTo>
                    <a:pt x="305" y="164"/>
                  </a:lnTo>
                  <a:lnTo>
                    <a:pt x="287" y="120"/>
                  </a:lnTo>
                  <a:lnTo>
                    <a:pt x="247" y="52"/>
                  </a:lnTo>
                  <a:lnTo>
                    <a:pt x="172" y="8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914400" y="68580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Management Cyc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95280" y="2133720"/>
            <a:ext cx="73152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fine and give examples of the three elements of product cost and compute a product’s unit cost for a manufacturing organiz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69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1066680" y="2286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lements of Product Cos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62120" y="990720"/>
            <a:ext cx="8077320" cy="49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re are three types of manufacturing cos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57160" indent="-399960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 Direct materials can be conveniently and economically traced to specific units of produ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7160" indent="-399960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 Direct labor can be conveniently and economically traced to specific units of produ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7160" indent="-399960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3. Manufacturing overhead includes all manufacturing costs that are not direct materials or direct labor cos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066680" y="304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nufacturing Overh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219320" y="144792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following are examples of manufacturing overhea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direct materia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direct lab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preciation associated with manufacturing oper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achinery and tool mainten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1066680" y="45720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roduct Unit Cos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914400" y="175248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product’s unit cost equal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914400" y="2743200"/>
            <a:ext cx="7848720" cy="1844640"/>
            <a:chOff x="914400" y="2743200"/>
            <a:chExt cx="7848720" cy="1844640"/>
          </a:xfrm>
        </p:grpSpPr>
        <p:sp>
          <p:nvSpPr>
            <p:cNvPr id="165" name=""/>
            <p:cNvSpPr/>
            <p:nvPr/>
          </p:nvSpPr>
          <p:spPr>
            <a:xfrm>
              <a:off x="1076400" y="3962520"/>
              <a:ext cx="753408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914400" y="2743200"/>
              <a:ext cx="7848720" cy="1844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2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  <a:ea typeface="Arial"/>
                </a:rPr>
                <a:t>Total Direct Materials + Direct Labor +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  <a:ea typeface="Arial"/>
                </a:rPr>
                <a:t>Manufacturing Overhead for Units Produce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  <a:ea typeface="Arial"/>
                </a:rPr>
                <a:t>Total Units Produce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066680" y="45720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tual Costing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066680" y="167652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actual costing method uses the actual cost information from the past to calculate the unit cost of a produ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t the end of an accounting period, 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t the end of a job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1066680" y="533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Normal Costing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14300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normal costing method combines the actual direct materials and direct labor costs with the estimated manufacturing overhead costs to determine product cos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1066680" y="3808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tandard Costing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91440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standard costing method uses estimated product cost information that is us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s a benchmark or target for evaluating subsequent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For budgeting purpo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066680" y="99072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tate how managers use operating cost information and product costs in the management cycle.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fine and give examples of the three elements of product cost and compute a product’s unit cost for a manufacturing organiz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scribe the flow of product-related activities, documents, and costs through the Materials Inventory, Work in Process Inventory, and Finished Goods Inventory accou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907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69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914400" y="304920"/>
            <a:ext cx="792468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Summary of the Use of Actual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 or Estimated Costs in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Three Cost-Measurement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1828800"/>
            <a:ext cx="9360" cy="4478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95160" y="1828800"/>
            <a:ext cx="8207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685800" y="1828800"/>
            <a:ext cx="8217000" cy="4478400"/>
            <a:chOff x="685800" y="1828800"/>
            <a:chExt cx="8217000" cy="4478400"/>
          </a:xfrm>
        </p:grpSpPr>
        <p:sp>
          <p:nvSpPr>
            <p:cNvPr id="177" name=""/>
            <p:cNvSpPr/>
            <p:nvPr/>
          </p:nvSpPr>
          <p:spPr>
            <a:xfrm>
              <a:off x="685800" y="1828800"/>
              <a:ext cx="8217000" cy="4478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914400" y="1893960"/>
              <a:ext cx="191304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duct Cos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lemen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 txBox="1"/>
            <p:nvPr/>
          </p:nvSpPr>
          <p:spPr>
            <a:xfrm>
              <a:off x="3522600" y="1893960"/>
              <a:ext cx="113508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cc0099"/>
                  </a:solidFill>
                  <a:latin typeface="Arial"/>
                  <a:ea typeface="Arial"/>
                </a:rPr>
                <a:t>Actua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cc0099"/>
                  </a:solidFill>
                  <a:latin typeface="Arial"/>
                  <a:ea typeface="Arial"/>
                </a:rPr>
                <a:t>Costing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5396040" y="1893960"/>
              <a:ext cx="113508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cc0099"/>
                  </a:solidFill>
                  <a:latin typeface="Arial"/>
                  <a:ea typeface="Arial"/>
                </a:rPr>
                <a:t>Norma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cc0099"/>
                  </a:solidFill>
                  <a:latin typeface="Arial"/>
                  <a:ea typeface="Arial"/>
                </a:rPr>
                <a:t>Costing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 txBox="1"/>
            <p:nvPr/>
          </p:nvSpPr>
          <p:spPr>
            <a:xfrm>
              <a:off x="7162920" y="1893960"/>
              <a:ext cx="132084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cc0099"/>
                  </a:solidFill>
                  <a:latin typeface="Arial"/>
                  <a:ea typeface="Arial"/>
                </a:rPr>
                <a:t>Standar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cc0099"/>
                  </a:solidFill>
                  <a:latin typeface="Arial"/>
                  <a:ea typeface="Arial"/>
                </a:rPr>
                <a:t>Costing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 txBox="1"/>
            <p:nvPr/>
          </p:nvSpPr>
          <p:spPr>
            <a:xfrm>
              <a:off x="1220760" y="2971800"/>
              <a:ext cx="1338120" cy="101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rec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terial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>
              <a:off x="3657600" y="2971800"/>
              <a:ext cx="93204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tua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s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 txBox="1"/>
            <p:nvPr/>
          </p:nvSpPr>
          <p:spPr>
            <a:xfrm>
              <a:off x="5519880" y="2971800"/>
              <a:ext cx="93204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tua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s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 txBox="1"/>
            <p:nvPr/>
          </p:nvSpPr>
          <p:spPr>
            <a:xfrm>
              <a:off x="7124760" y="2971800"/>
              <a:ext cx="145728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timate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s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 txBox="1"/>
            <p:nvPr/>
          </p:nvSpPr>
          <p:spPr>
            <a:xfrm>
              <a:off x="1041480" y="4038480"/>
              <a:ext cx="1693800" cy="680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rect lab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 txBox="1"/>
            <p:nvPr/>
          </p:nvSpPr>
          <p:spPr>
            <a:xfrm>
              <a:off x="3657600" y="4038480"/>
              <a:ext cx="93204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tua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s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 txBox="1"/>
            <p:nvPr/>
          </p:nvSpPr>
          <p:spPr>
            <a:xfrm>
              <a:off x="5519880" y="4038480"/>
              <a:ext cx="93204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tua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s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>
              <a:off x="839880" y="5105520"/>
              <a:ext cx="2100240" cy="101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ufacturing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verhea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 txBox="1"/>
            <p:nvPr/>
          </p:nvSpPr>
          <p:spPr>
            <a:xfrm>
              <a:off x="3657600" y="5105520"/>
              <a:ext cx="93204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tua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s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 txBox="1"/>
            <p:nvPr/>
          </p:nvSpPr>
          <p:spPr>
            <a:xfrm>
              <a:off x="5257800" y="5105520"/>
              <a:ext cx="145728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timate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s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85800" y="1830240"/>
              <a:ext cx="1440" cy="4476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893080" y="1843200"/>
              <a:ext cx="1800" cy="4464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893080" y="1841400"/>
              <a:ext cx="9360" cy="446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96960" y="1828800"/>
              <a:ext cx="820584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96960" y="2722680"/>
              <a:ext cx="820584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95160" y="2722680"/>
              <a:ext cx="820728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96960" y="6294600"/>
              <a:ext cx="820584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95160" y="6294600"/>
              <a:ext cx="820728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 txBox="1"/>
            <p:nvPr/>
          </p:nvSpPr>
          <p:spPr>
            <a:xfrm>
              <a:off x="7124760" y="4038480"/>
              <a:ext cx="145728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timate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s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 txBox="1"/>
            <p:nvPr/>
          </p:nvSpPr>
          <p:spPr>
            <a:xfrm>
              <a:off x="7124760" y="5105520"/>
              <a:ext cx="145728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timate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s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1066680" y="236232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are the three elements of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duct cos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752480" y="990720"/>
            <a:ext cx="52578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705720" y="228600"/>
            <a:ext cx="2132280" cy="2055960"/>
            <a:chOff x="6705720" y="228600"/>
            <a:chExt cx="2132280" cy="2055960"/>
          </a:xfrm>
        </p:grpSpPr>
        <p:sp>
          <p:nvSpPr>
            <p:cNvPr id="205" name=""/>
            <p:cNvSpPr/>
            <p:nvPr/>
          </p:nvSpPr>
          <p:spPr>
            <a:xfrm>
              <a:off x="6711840" y="1238400"/>
              <a:ext cx="518040" cy="717840"/>
            </a:xfrm>
            <a:custGeom>
              <a:avLst/>
              <a:gdLst/>
              <a:ahLst/>
              <a:rect l="0" t="0" r="r" b="b"/>
              <a:pathLst>
                <a:path w="1439" h="1994">
                  <a:moveTo>
                    <a:pt x="574" y="0"/>
                  </a:moveTo>
                  <a:lnTo>
                    <a:pt x="499" y="88"/>
                  </a:lnTo>
                  <a:lnTo>
                    <a:pt x="499" y="348"/>
                  </a:lnTo>
                  <a:lnTo>
                    <a:pt x="574" y="537"/>
                  </a:lnTo>
                  <a:lnTo>
                    <a:pt x="662" y="630"/>
                  </a:lnTo>
                  <a:lnTo>
                    <a:pt x="530" y="758"/>
                  </a:lnTo>
                  <a:lnTo>
                    <a:pt x="362" y="1046"/>
                  </a:lnTo>
                  <a:lnTo>
                    <a:pt x="26" y="1504"/>
                  </a:lnTo>
                  <a:lnTo>
                    <a:pt x="0" y="1614"/>
                  </a:lnTo>
                  <a:lnTo>
                    <a:pt x="26" y="1707"/>
                  </a:lnTo>
                  <a:lnTo>
                    <a:pt x="132" y="1707"/>
                  </a:lnTo>
                  <a:lnTo>
                    <a:pt x="220" y="1601"/>
                  </a:lnTo>
                  <a:lnTo>
                    <a:pt x="362" y="1341"/>
                  </a:lnTo>
                  <a:lnTo>
                    <a:pt x="446" y="1231"/>
                  </a:lnTo>
                  <a:lnTo>
                    <a:pt x="499" y="1403"/>
                  </a:lnTo>
                  <a:lnTo>
                    <a:pt x="464" y="1584"/>
                  </a:lnTo>
                  <a:lnTo>
                    <a:pt x="321" y="1848"/>
                  </a:lnTo>
                  <a:lnTo>
                    <a:pt x="362" y="1910"/>
                  </a:lnTo>
                  <a:lnTo>
                    <a:pt x="446" y="1892"/>
                  </a:lnTo>
                  <a:lnTo>
                    <a:pt x="622" y="1756"/>
                  </a:lnTo>
                  <a:lnTo>
                    <a:pt x="768" y="1522"/>
                  </a:lnTo>
                  <a:lnTo>
                    <a:pt x="768" y="1928"/>
                  </a:lnTo>
                  <a:lnTo>
                    <a:pt x="935" y="1994"/>
                  </a:lnTo>
                  <a:lnTo>
                    <a:pt x="1037" y="1742"/>
                  </a:lnTo>
                  <a:lnTo>
                    <a:pt x="1126" y="1976"/>
                  </a:lnTo>
                  <a:lnTo>
                    <a:pt x="1197" y="1910"/>
                  </a:lnTo>
                  <a:lnTo>
                    <a:pt x="1227" y="1447"/>
                  </a:lnTo>
                  <a:lnTo>
                    <a:pt x="1439" y="1010"/>
                  </a:lnTo>
                  <a:lnTo>
                    <a:pt x="1391" y="758"/>
                  </a:lnTo>
                  <a:lnTo>
                    <a:pt x="1245" y="665"/>
                  </a:lnTo>
                  <a:lnTo>
                    <a:pt x="1091" y="679"/>
                  </a:lnTo>
                  <a:lnTo>
                    <a:pt x="1037" y="471"/>
                  </a:lnTo>
                  <a:lnTo>
                    <a:pt x="878" y="427"/>
                  </a:lnTo>
                  <a:lnTo>
                    <a:pt x="741" y="361"/>
                  </a:lnTo>
                  <a:lnTo>
                    <a:pt x="662" y="44"/>
                  </a:lnTo>
                  <a:lnTo>
                    <a:pt x="574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145280" y="1528920"/>
              <a:ext cx="154440" cy="348120"/>
            </a:xfrm>
            <a:custGeom>
              <a:avLst/>
              <a:gdLst/>
              <a:ahLst/>
              <a:rect l="0" t="0" r="r" b="b"/>
              <a:pathLst>
                <a:path w="429" h="967">
                  <a:moveTo>
                    <a:pt x="217" y="0"/>
                  </a:moveTo>
                  <a:lnTo>
                    <a:pt x="429" y="252"/>
                  </a:lnTo>
                  <a:lnTo>
                    <a:pt x="323" y="795"/>
                  </a:lnTo>
                  <a:lnTo>
                    <a:pt x="0" y="967"/>
                  </a:lnTo>
                  <a:lnTo>
                    <a:pt x="0" y="693"/>
                  </a:lnTo>
                  <a:lnTo>
                    <a:pt x="133" y="411"/>
                  </a:lnTo>
                  <a:lnTo>
                    <a:pt x="217" y="202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37440" y="1328760"/>
              <a:ext cx="383040" cy="314640"/>
            </a:xfrm>
            <a:custGeom>
              <a:avLst/>
              <a:gdLst/>
              <a:ahLst/>
              <a:rect l="0" t="0" r="r" b="b"/>
              <a:pathLst>
                <a:path w="1064" h="874">
                  <a:moveTo>
                    <a:pt x="437" y="0"/>
                  </a:moveTo>
                  <a:lnTo>
                    <a:pt x="437" y="141"/>
                  </a:lnTo>
                  <a:lnTo>
                    <a:pt x="477" y="264"/>
                  </a:lnTo>
                  <a:lnTo>
                    <a:pt x="684" y="472"/>
                  </a:lnTo>
                  <a:lnTo>
                    <a:pt x="1064" y="591"/>
                  </a:lnTo>
                  <a:lnTo>
                    <a:pt x="1011" y="856"/>
                  </a:lnTo>
                  <a:lnTo>
                    <a:pt x="684" y="874"/>
                  </a:lnTo>
                  <a:lnTo>
                    <a:pt x="202" y="684"/>
                  </a:lnTo>
                  <a:lnTo>
                    <a:pt x="0" y="348"/>
                  </a:lnTo>
                  <a:lnTo>
                    <a:pt x="238" y="17"/>
                  </a:lnTo>
                  <a:lnTo>
                    <a:pt x="43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291520" y="974880"/>
              <a:ext cx="533880" cy="690840"/>
            </a:xfrm>
            <a:custGeom>
              <a:avLst/>
              <a:gdLst/>
              <a:ahLst/>
              <a:rect l="0" t="0" r="r" b="b"/>
              <a:pathLst>
                <a:path w="1483" h="1919">
                  <a:moveTo>
                    <a:pt x="132" y="815"/>
                  </a:moveTo>
                  <a:lnTo>
                    <a:pt x="0" y="952"/>
                  </a:lnTo>
                  <a:lnTo>
                    <a:pt x="26" y="1262"/>
                  </a:lnTo>
                  <a:lnTo>
                    <a:pt x="233" y="1407"/>
                  </a:lnTo>
                  <a:lnTo>
                    <a:pt x="251" y="1883"/>
                  </a:lnTo>
                  <a:lnTo>
                    <a:pt x="464" y="1883"/>
                  </a:lnTo>
                  <a:lnTo>
                    <a:pt x="446" y="1482"/>
                  </a:lnTo>
                  <a:lnTo>
                    <a:pt x="600" y="1901"/>
                  </a:lnTo>
                  <a:lnTo>
                    <a:pt x="706" y="1919"/>
                  </a:lnTo>
                  <a:lnTo>
                    <a:pt x="777" y="1778"/>
                  </a:lnTo>
                  <a:lnTo>
                    <a:pt x="794" y="1513"/>
                  </a:lnTo>
                  <a:lnTo>
                    <a:pt x="1019" y="1760"/>
                  </a:lnTo>
                  <a:lnTo>
                    <a:pt x="1113" y="1742"/>
                  </a:lnTo>
                  <a:lnTo>
                    <a:pt x="1090" y="1570"/>
                  </a:lnTo>
                  <a:lnTo>
                    <a:pt x="1006" y="1328"/>
                  </a:lnTo>
                  <a:lnTo>
                    <a:pt x="918" y="1169"/>
                  </a:lnTo>
                  <a:lnTo>
                    <a:pt x="949" y="1059"/>
                  </a:lnTo>
                  <a:lnTo>
                    <a:pt x="1006" y="1076"/>
                  </a:lnTo>
                  <a:lnTo>
                    <a:pt x="1214" y="1328"/>
                  </a:lnTo>
                  <a:lnTo>
                    <a:pt x="1435" y="1390"/>
                  </a:lnTo>
                  <a:lnTo>
                    <a:pt x="1483" y="1310"/>
                  </a:lnTo>
                  <a:lnTo>
                    <a:pt x="1452" y="1182"/>
                  </a:lnTo>
                  <a:lnTo>
                    <a:pt x="1037" y="798"/>
                  </a:lnTo>
                  <a:lnTo>
                    <a:pt x="706" y="679"/>
                  </a:lnTo>
                  <a:lnTo>
                    <a:pt x="666" y="463"/>
                  </a:lnTo>
                  <a:lnTo>
                    <a:pt x="777" y="268"/>
                  </a:lnTo>
                  <a:lnTo>
                    <a:pt x="777" y="61"/>
                  </a:lnTo>
                  <a:lnTo>
                    <a:pt x="684" y="0"/>
                  </a:lnTo>
                  <a:lnTo>
                    <a:pt x="446" y="520"/>
                  </a:lnTo>
                  <a:lnTo>
                    <a:pt x="233" y="599"/>
                  </a:lnTo>
                  <a:lnTo>
                    <a:pt x="180" y="740"/>
                  </a:lnTo>
                  <a:lnTo>
                    <a:pt x="132" y="815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415280" y="374760"/>
              <a:ext cx="582840" cy="883080"/>
            </a:xfrm>
            <a:custGeom>
              <a:avLst/>
              <a:gdLst/>
              <a:ahLst/>
              <a:rect l="0" t="0" r="r" b="b"/>
              <a:pathLst>
                <a:path w="1619" h="2453">
                  <a:moveTo>
                    <a:pt x="405" y="339"/>
                  </a:moveTo>
                  <a:lnTo>
                    <a:pt x="282" y="812"/>
                  </a:lnTo>
                  <a:lnTo>
                    <a:pt x="17" y="904"/>
                  </a:lnTo>
                  <a:lnTo>
                    <a:pt x="88" y="1054"/>
                  </a:lnTo>
                  <a:lnTo>
                    <a:pt x="0" y="1147"/>
                  </a:lnTo>
                  <a:lnTo>
                    <a:pt x="0" y="1315"/>
                  </a:lnTo>
                  <a:lnTo>
                    <a:pt x="127" y="1469"/>
                  </a:lnTo>
                  <a:lnTo>
                    <a:pt x="251" y="1469"/>
                  </a:lnTo>
                  <a:lnTo>
                    <a:pt x="335" y="2017"/>
                  </a:lnTo>
                  <a:lnTo>
                    <a:pt x="436" y="2250"/>
                  </a:lnTo>
                  <a:lnTo>
                    <a:pt x="771" y="2453"/>
                  </a:lnTo>
                  <a:lnTo>
                    <a:pt x="1099" y="2422"/>
                  </a:lnTo>
                  <a:lnTo>
                    <a:pt x="1257" y="2017"/>
                  </a:lnTo>
                  <a:lnTo>
                    <a:pt x="1293" y="1394"/>
                  </a:lnTo>
                  <a:lnTo>
                    <a:pt x="1619" y="1090"/>
                  </a:lnTo>
                  <a:lnTo>
                    <a:pt x="1601" y="966"/>
                  </a:lnTo>
                  <a:lnTo>
                    <a:pt x="1566" y="904"/>
                  </a:lnTo>
                  <a:lnTo>
                    <a:pt x="1394" y="891"/>
                  </a:lnTo>
                  <a:lnTo>
                    <a:pt x="1447" y="733"/>
                  </a:lnTo>
                  <a:lnTo>
                    <a:pt x="1279" y="622"/>
                  </a:lnTo>
                  <a:lnTo>
                    <a:pt x="1204" y="268"/>
                  </a:lnTo>
                  <a:lnTo>
                    <a:pt x="701" y="0"/>
                  </a:lnTo>
                  <a:lnTo>
                    <a:pt x="436" y="251"/>
                  </a:lnTo>
                  <a:lnTo>
                    <a:pt x="405" y="339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8120" y="1112760"/>
              <a:ext cx="533880" cy="1054440"/>
            </a:xfrm>
            <a:custGeom>
              <a:avLst/>
              <a:gdLst/>
              <a:ahLst/>
              <a:rect l="0" t="0" r="r" b="b"/>
              <a:pathLst>
                <a:path w="1483" h="2929">
                  <a:moveTo>
                    <a:pt x="304" y="154"/>
                  </a:moveTo>
                  <a:lnTo>
                    <a:pt x="516" y="295"/>
                  </a:lnTo>
                  <a:lnTo>
                    <a:pt x="618" y="449"/>
                  </a:lnTo>
                  <a:lnTo>
                    <a:pt x="1214" y="0"/>
                  </a:lnTo>
                  <a:lnTo>
                    <a:pt x="1399" y="92"/>
                  </a:lnTo>
                  <a:lnTo>
                    <a:pt x="1483" y="555"/>
                  </a:lnTo>
                  <a:lnTo>
                    <a:pt x="1054" y="1901"/>
                  </a:lnTo>
                  <a:lnTo>
                    <a:pt x="1192" y="2646"/>
                  </a:lnTo>
                  <a:lnTo>
                    <a:pt x="631" y="2929"/>
                  </a:lnTo>
                  <a:lnTo>
                    <a:pt x="198" y="2770"/>
                  </a:lnTo>
                  <a:lnTo>
                    <a:pt x="198" y="1980"/>
                  </a:lnTo>
                  <a:lnTo>
                    <a:pt x="0" y="1217"/>
                  </a:lnTo>
                  <a:lnTo>
                    <a:pt x="198" y="295"/>
                  </a:lnTo>
                  <a:lnTo>
                    <a:pt x="304" y="154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81880" y="257040"/>
              <a:ext cx="497160" cy="279720"/>
            </a:xfrm>
            <a:custGeom>
              <a:avLst/>
              <a:gdLst/>
              <a:ahLst/>
              <a:rect l="0" t="0" r="r" b="b"/>
              <a:pathLst>
                <a:path w="1381" h="777">
                  <a:moveTo>
                    <a:pt x="171" y="741"/>
                  </a:moveTo>
                  <a:lnTo>
                    <a:pt x="370" y="534"/>
                  </a:lnTo>
                  <a:lnTo>
                    <a:pt x="502" y="503"/>
                  </a:lnTo>
                  <a:lnTo>
                    <a:pt x="502" y="521"/>
                  </a:lnTo>
                  <a:lnTo>
                    <a:pt x="568" y="503"/>
                  </a:lnTo>
                  <a:lnTo>
                    <a:pt x="652" y="565"/>
                  </a:lnTo>
                  <a:lnTo>
                    <a:pt x="816" y="596"/>
                  </a:lnTo>
                  <a:lnTo>
                    <a:pt x="949" y="777"/>
                  </a:lnTo>
                  <a:lnTo>
                    <a:pt x="1165" y="697"/>
                  </a:lnTo>
                  <a:lnTo>
                    <a:pt x="1165" y="613"/>
                  </a:lnTo>
                  <a:lnTo>
                    <a:pt x="1381" y="521"/>
                  </a:lnTo>
                  <a:lnTo>
                    <a:pt x="1315" y="374"/>
                  </a:lnTo>
                  <a:lnTo>
                    <a:pt x="1112" y="361"/>
                  </a:lnTo>
                  <a:lnTo>
                    <a:pt x="1143" y="202"/>
                  </a:lnTo>
                  <a:lnTo>
                    <a:pt x="966" y="220"/>
                  </a:lnTo>
                  <a:lnTo>
                    <a:pt x="935" y="110"/>
                  </a:lnTo>
                  <a:lnTo>
                    <a:pt x="816" y="110"/>
                  </a:lnTo>
                  <a:lnTo>
                    <a:pt x="728" y="171"/>
                  </a:lnTo>
                  <a:lnTo>
                    <a:pt x="652" y="171"/>
                  </a:lnTo>
                  <a:lnTo>
                    <a:pt x="665" y="0"/>
                  </a:lnTo>
                  <a:lnTo>
                    <a:pt x="502" y="79"/>
                  </a:lnTo>
                  <a:lnTo>
                    <a:pt x="273" y="361"/>
                  </a:lnTo>
                  <a:lnTo>
                    <a:pt x="260" y="171"/>
                  </a:lnTo>
                  <a:lnTo>
                    <a:pt x="136" y="264"/>
                  </a:lnTo>
                  <a:lnTo>
                    <a:pt x="105" y="503"/>
                  </a:lnTo>
                  <a:lnTo>
                    <a:pt x="0" y="459"/>
                  </a:lnTo>
                  <a:lnTo>
                    <a:pt x="17" y="613"/>
                  </a:lnTo>
                  <a:lnTo>
                    <a:pt x="171" y="741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615080" y="1306440"/>
              <a:ext cx="159120" cy="798840"/>
            </a:xfrm>
            <a:custGeom>
              <a:avLst/>
              <a:gdLst/>
              <a:ahLst/>
              <a:rect l="0" t="0" r="r" b="b"/>
              <a:pathLst>
                <a:path w="442" h="2219">
                  <a:moveTo>
                    <a:pt x="225" y="13"/>
                  </a:moveTo>
                  <a:lnTo>
                    <a:pt x="74" y="110"/>
                  </a:lnTo>
                  <a:lnTo>
                    <a:pt x="74" y="295"/>
                  </a:lnTo>
                  <a:lnTo>
                    <a:pt x="181" y="357"/>
                  </a:lnTo>
                  <a:lnTo>
                    <a:pt x="39" y="652"/>
                  </a:lnTo>
                  <a:lnTo>
                    <a:pt x="0" y="1040"/>
                  </a:lnTo>
                  <a:lnTo>
                    <a:pt x="111" y="1553"/>
                  </a:lnTo>
                  <a:lnTo>
                    <a:pt x="111" y="1769"/>
                  </a:lnTo>
                  <a:lnTo>
                    <a:pt x="52" y="1932"/>
                  </a:lnTo>
                  <a:lnTo>
                    <a:pt x="278" y="2219"/>
                  </a:lnTo>
                  <a:lnTo>
                    <a:pt x="425" y="1786"/>
                  </a:lnTo>
                  <a:lnTo>
                    <a:pt x="425" y="1491"/>
                  </a:lnTo>
                  <a:lnTo>
                    <a:pt x="318" y="1213"/>
                  </a:lnTo>
                  <a:lnTo>
                    <a:pt x="265" y="837"/>
                  </a:lnTo>
                  <a:lnTo>
                    <a:pt x="372" y="471"/>
                  </a:lnTo>
                  <a:lnTo>
                    <a:pt x="337" y="326"/>
                  </a:lnTo>
                  <a:lnTo>
                    <a:pt x="442" y="251"/>
                  </a:lnTo>
                  <a:lnTo>
                    <a:pt x="425" y="154"/>
                  </a:lnTo>
                  <a:lnTo>
                    <a:pt x="296" y="0"/>
                  </a:lnTo>
                  <a:lnTo>
                    <a:pt x="225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10400" y="1039680"/>
              <a:ext cx="127440" cy="73440"/>
            </a:xfrm>
            <a:custGeom>
              <a:avLst/>
              <a:gdLst/>
              <a:ahLst/>
              <a:rect l="0" t="0" r="r" b="b"/>
              <a:pathLst>
                <a:path w="354" h="204">
                  <a:moveTo>
                    <a:pt x="0" y="62"/>
                  </a:moveTo>
                  <a:lnTo>
                    <a:pt x="142" y="204"/>
                  </a:lnTo>
                  <a:lnTo>
                    <a:pt x="284" y="187"/>
                  </a:lnTo>
                  <a:lnTo>
                    <a:pt x="354" y="17"/>
                  </a:lnTo>
                  <a:lnTo>
                    <a:pt x="199" y="0"/>
                  </a:lnTo>
                  <a:lnTo>
                    <a:pt x="35" y="17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9280" y="671400"/>
              <a:ext cx="159120" cy="155880"/>
            </a:xfrm>
            <a:custGeom>
              <a:avLst/>
              <a:gdLst/>
              <a:ahLst/>
              <a:rect l="0" t="0" r="r" b="b"/>
              <a:pathLst>
                <a:path w="442" h="433">
                  <a:moveTo>
                    <a:pt x="0" y="48"/>
                  </a:moveTo>
                  <a:lnTo>
                    <a:pt x="305" y="433"/>
                  </a:lnTo>
                  <a:lnTo>
                    <a:pt x="442" y="402"/>
                  </a:lnTo>
                  <a:lnTo>
                    <a:pt x="124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750080" y="638280"/>
              <a:ext cx="136800" cy="155880"/>
            </a:xfrm>
            <a:custGeom>
              <a:avLst/>
              <a:gdLst/>
              <a:ahLst/>
              <a:rect l="0" t="0" r="r" b="b"/>
              <a:pathLst>
                <a:path w="380" h="433">
                  <a:moveTo>
                    <a:pt x="0" y="61"/>
                  </a:moveTo>
                  <a:lnTo>
                    <a:pt x="265" y="433"/>
                  </a:lnTo>
                  <a:lnTo>
                    <a:pt x="380" y="336"/>
                  </a:lnTo>
                  <a:lnTo>
                    <a:pt x="105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412040" y="436680"/>
              <a:ext cx="555840" cy="390960"/>
            </a:xfrm>
            <a:custGeom>
              <a:avLst/>
              <a:gdLst/>
              <a:ahLst/>
              <a:rect l="0" t="0" r="r" b="b"/>
              <a:pathLst>
                <a:path w="1544" h="1086">
                  <a:moveTo>
                    <a:pt x="709" y="644"/>
                  </a:moveTo>
                  <a:lnTo>
                    <a:pt x="568" y="605"/>
                  </a:lnTo>
                  <a:lnTo>
                    <a:pt x="687" y="508"/>
                  </a:lnTo>
                  <a:lnTo>
                    <a:pt x="643" y="455"/>
                  </a:lnTo>
                  <a:lnTo>
                    <a:pt x="485" y="583"/>
                  </a:lnTo>
                  <a:lnTo>
                    <a:pt x="194" y="613"/>
                  </a:lnTo>
                  <a:lnTo>
                    <a:pt x="0" y="622"/>
                  </a:lnTo>
                  <a:lnTo>
                    <a:pt x="0" y="772"/>
                  </a:lnTo>
                  <a:lnTo>
                    <a:pt x="185" y="1077"/>
                  </a:lnTo>
                  <a:lnTo>
                    <a:pt x="229" y="1086"/>
                  </a:lnTo>
                  <a:lnTo>
                    <a:pt x="66" y="750"/>
                  </a:lnTo>
                  <a:lnTo>
                    <a:pt x="321" y="644"/>
                  </a:lnTo>
                  <a:lnTo>
                    <a:pt x="485" y="644"/>
                  </a:lnTo>
                  <a:lnTo>
                    <a:pt x="612" y="710"/>
                  </a:lnTo>
                  <a:lnTo>
                    <a:pt x="643" y="803"/>
                  </a:lnTo>
                  <a:lnTo>
                    <a:pt x="643" y="1011"/>
                  </a:lnTo>
                  <a:lnTo>
                    <a:pt x="643" y="1077"/>
                  </a:lnTo>
                  <a:lnTo>
                    <a:pt x="718" y="980"/>
                  </a:lnTo>
                  <a:lnTo>
                    <a:pt x="718" y="763"/>
                  </a:lnTo>
                  <a:lnTo>
                    <a:pt x="825" y="763"/>
                  </a:lnTo>
                  <a:lnTo>
                    <a:pt x="878" y="1011"/>
                  </a:lnTo>
                  <a:lnTo>
                    <a:pt x="940" y="1033"/>
                  </a:lnTo>
                  <a:lnTo>
                    <a:pt x="1125" y="1033"/>
                  </a:lnTo>
                  <a:lnTo>
                    <a:pt x="1319" y="989"/>
                  </a:lnTo>
                  <a:lnTo>
                    <a:pt x="1451" y="897"/>
                  </a:lnTo>
                  <a:lnTo>
                    <a:pt x="1473" y="675"/>
                  </a:lnTo>
                  <a:lnTo>
                    <a:pt x="1544" y="583"/>
                  </a:lnTo>
                  <a:lnTo>
                    <a:pt x="1500" y="525"/>
                  </a:lnTo>
                  <a:lnTo>
                    <a:pt x="1328" y="464"/>
                  </a:lnTo>
                  <a:lnTo>
                    <a:pt x="1301" y="242"/>
                  </a:lnTo>
                  <a:lnTo>
                    <a:pt x="1138" y="242"/>
                  </a:lnTo>
                  <a:lnTo>
                    <a:pt x="949" y="0"/>
                  </a:lnTo>
                  <a:lnTo>
                    <a:pt x="1125" y="268"/>
                  </a:lnTo>
                  <a:lnTo>
                    <a:pt x="1178" y="268"/>
                  </a:lnTo>
                  <a:lnTo>
                    <a:pt x="1218" y="455"/>
                  </a:lnTo>
                  <a:lnTo>
                    <a:pt x="997" y="525"/>
                  </a:lnTo>
                  <a:lnTo>
                    <a:pt x="838" y="472"/>
                  </a:lnTo>
                  <a:lnTo>
                    <a:pt x="816" y="525"/>
                  </a:lnTo>
                  <a:lnTo>
                    <a:pt x="900" y="583"/>
                  </a:lnTo>
                  <a:lnTo>
                    <a:pt x="900" y="636"/>
                  </a:lnTo>
                  <a:lnTo>
                    <a:pt x="1085" y="552"/>
                  </a:lnTo>
                  <a:lnTo>
                    <a:pt x="1240" y="538"/>
                  </a:lnTo>
                  <a:lnTo>
                    <a:pt x="1416" y="561"/>
                  </a:lnTo>
                  <a:lnTo>
                    <a:pt x="1416" y="591"/>
                  </a:lnTo>
                  <a:lnTo>
                    <a:pt x="1332" y="666"/>
                  </a:lnTo>
                  <a:lnTo>
                    <a:pt x="1301" y="763"/>
                  </a:lnTo>
                  <a:lnTo>
                    <a:pt x="1293" y="897"/>
                  </a:lnTo>
                  <a:lnTo>
                    <a:pt x="1191" y="950"/>
                  </a:lnTo>
                  <a:lnTo>
                    <a:pt x="1041" y="967"/>
                  </a:lnTo>
                  <a:lnTo>
                    <a:pt x="940" y="967"/>
                  </a:lnTo>
                  <a:lnTo>
                    <a:pt x="904" y="928"/>
                  </a:lnTo>
                  <a:lnTo>
                    <a:pt x="878" y="675"/>
                  </a:lnTo>
                  <a:lnTo>
                    <a:pt x="718" y="675"/>
                  </a:lnTo>
                  <a:lnTo>
                    <a:pt x="709" y="64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602480" y="887400"/>
              <a:ext cx="179640" cy="79560"/>
            </a:xfrm>
            <a:custGeom>
              <a:avLst/>
              <a:gdLst/>
              <a:ahLst/>
              <a:rect l="0" t="0" r="r" b="b"/>
              <a:pathLst>
                <a:path w="499" h="221">
                  <a:moveTo>
                    <a:pt x="0" y="0"/>
                  </a:moveTo>
                  <a:lnTo>
                    <a:pt x="79" y="101"/>
                  </a:lnTo>
                  <a:lnTo>
                    <a:pt x="296" y="101"/>
                  </a:lnTo>
                  <a:lnTo>
                    <a:pt x="384" y="30"/>
                  </a:lnTo>
                  <a:lnTo>
                    <a:pt x="499" y="30"/>
                  </a:lnTo>
                  <a:lnTo>
                    <a:pt x="477" y="66"/>
                  </a:lnTo>
                  <a:lnTo>
                    <a:pt x="477" y="101"/>
                  </a:lnTo>
                  <a:lnTo>
                    <a:pt x="278" y="221"/>
                  </a:lnTo>
                  <a:lnTo>
                    <a:pt x="167" y="221"/>
                  </a:lnTo>
                  <a:lnTo>
                    <a:pt x="105" y="177"/>
                  </a:lnTo>
                  <a:lnTo>
                    <a:pt x="44" y="1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402680" y="758880"/>
              <a:ext cx="271800" cy="421200"/>
            </a:xfrm>
            <a:custGeom>
              <a:avLst/>
              <a:gdLst/>
              <a:ahLst/>
              <a:rect l="0" t="0" r="r" b="b"/>
              <a:pathLst>
                <a:path w="755" h="1170">
                  <a:moveTo>
                    <a:pt x="755" y="83"/>
                  </a:moveTo>
                  <a:lnTo>
                    <a:pt x="755" y="101"/>
                  </a:lnTo>
                  <a:lnTo>
                    <a:pt x="622" y="220"/>
                  </a:lnTo>
                  <a:lnTo>
                    <a:pt x="512" y="242"/>
                  </a:lnTo>
                  <a:lnTo>
                    <a:pt x="299" y="211"/>
                  </a:lnTo>
                  <a:lnTo>
                    <a:pt x="339" y="631"/>
                  </a:lnTo>
                  <a:lnTo>
                    <a:pt x="389" y="980"/>
                  </a:lnTo>
                  <a:lnTo>
                    <a:pt x="481" y="1170"/>
                  </a:lnTo>
                  <a:lnTo>
                    <a:pt x="389" y="1033"/>
                  </a:lnTo>
                  <a:lnTo>
                    <a:pt x="352" y="888"/>
                  </a:lnTo>
                  <a:lnTo>
                    <a:pt x="291" y="494"/>
                  </a:lnTo>
                  <a:lnTo>
                    <a:pt x="229" y="516"/>
                  </a:lnTo>
                  <a:lnTo>
                    <a:pt x="158" y="472"/>
                  </a:lnTo>
                  <a:lnTo>
                    <a:pt x="17" y="264"/>
                  </a:lnTo>
                  <a:lnTo>
                    <a:pt x="0" y="149"/>
                  </a:lnTo>
                  <a:lnTo>
                    <a:pt x="0" y="70"/>
                  </a:lnTo>
                  <a:lnTo>
                    <a:pt x="30" y="22"/>
                  </a:lnTo>
                  <a:lnTo>
                    <a:pt x="119" y="0"/>
                  </a:lnTo>
                  <a:lnTo>
                    <a:pt x="127" y="30"/>
                  </a:lnTo>
                  <a:lnTo>
                    <a:pt x="61" y="52"/>
                  </a:lnTo>
                  <a:lnTo>
                    <a:pt x="44" y="141"/>
                  </a:lnTo>
                  <a:lnTo>
                    <a:pt x="52" y="251"/>
                  </a:lnTo>
                  <a:lnTo>
                    <a:pt x="149" y="349"/>
                  </a:lnTo>
                  <a:lnTo>
                    <a:pt x="194" y="327"/>
                  </a:lnTo>
                  <a:lnTo>
                    <a:pt x="194" y="114"/>
                  </a:lnTo>
                  <a:lnTo>
                    <a:pt x="282" y="158"/>
                  </a:lnTo>
                  <a:lnTo>
                    <a:pt x="424" y="189"/>
                  </a:lnTo>
                  <a:lnTo>
                    <a:pt x="547" y="180"/>
                  </a:lnTo>
                  <a:lnTo>
                    <a:pt x="671" y="114"/>
                  </a:lnTo>
                  <a:lnTo>
                    <a:pt x="755" y="8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475400" y="425520"/>
              <a:ext cx="81360" cy="224280"/>
            </a:xfrm>
            <a:custGeom>
              <a:avLst/>
              <a:gdLst/>
              <a:ahLst/>
              <a:rect l="0" t="0" r="r" b="b"/>
              <a:pathLst>
                <a:path w="226" h="623">
                  <a:moveTo>
                    <a:pt x="115" y="623"/>
                  </a:moveTo>
                  <a:lnTo>
                    <a:pt x="226" y="256"/>
                  </a:lnTo>
                  <a:lnTo>
                    <a:pt x="26" y="123"/>
                  </a:lnTo>
                  <a:lnTo>
                    <a:pt x="0" y="0"/>
                  </a:lnTo>
                  <a:lnTo>
                    <a:pt x="17" y="149"/>
                  </a:lnTo>
                  <a:lnTo>
                    <a:pt x="80" y="212"/>
                  </a:lnTo>
                  <a:lnTo>
                    <a:pt x="89" y="397"/>
                  </a:lnTo>
                  <a:lnTo>
                    <a:pt x="137" y="473"/>
                  </a:lnTo>
                  <a:lnTo>
                    <a:pt x="115" y="62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472520" y="228600"/>
              <a:ext cx="609840" cy="295560"/>
            </a:xfrm>
            <a:custGeom>
              <a:avLst/>
              <a:gdLst/>
              <a:ahLst/>
              <a:rect l="0" t="0" r="r" b="b"/>
              <a:pathLst>
                <a:path w="1694" h="821">
                  <a:moveTo>
                    <a:pt x="17" y="556"/>
                  </a:moveTo>
                  <a:lnTo>
                    <a:pt x="163" y="640"/>
                  </a:lnTo>
                  <a:lnTo>
                    <a:pt x="145" y="534"/>
                  </a:lnTo>
                  <a:lnTo>
                    <a:pt x="176" y="348"/>
                  </a:lnTo>
                  <a:lnTo>
                    <a:pt x="273" y="308"/>
                  </a:lnTo>
                  <a:lnTo>
                    <a:pt x="282" y="508"/>
                  </a:lnTo>
                  <a:lnTo>
                    <a:pt x="568" y="158"/>
                  </a:lnTo>
                  <a:lnTo>
                    <a:pt x="635" y="136"/>
                  </a:lnTo>
                  <a:lnTo>
                    <a:pt x="582" y="273"/>
                  </a:lnTo>
                  <a:lnTo>
                    <a:pt x="762" y="339"/>
                  </a:lnTo>
                  <a:lnTo>
                    <a:pt x="891" y="202"/>
                  </a:lnTo>
                  <a:lnTo>
                    <a:pt x="962" y="242"/>
                  </a:lnTo>
                  <a:lnTo>
                    <a:pt x="900" y="361"/>
                  </a:lnTo>
                  <a:lnTo>
                    <a:pt x="984" y="295"/>
                  </a:lnTo>
                  <a:lnTo>
                    <a:pt x="1112" y="348"/>
                  </a:lnTo>
                  <a:lnTo>
                    <a:pt x="1010" y="446"/>
                  </a:lnTo>
                  <a:lnTo>
                    <a:pt x="1359" y="508"/>
                  </a:lnTo>
                  <a:lnTo>
                    <a:pt x="1125" y="578"/>
                  </a:lnTo>
                  <a:lnTo>
                    <a:pt x="1416" y="618"/>
                  </a:lnTo>
                  <a:lnTo>
                    <a:pt x="1072" y="697"/>
                  </a:lnTo>
                  <a:lnTo>
                    <a:pt x="1143" y="759"/>
                  </a:lnTo>
                  <a:lnTo>
                    <a:pt x="1041" y="821"/>
                  </a:lnTo>
                  <a:lnTo>
                    <a:pt x="1222" y="821"/>
                  </a:lnTo>
                  <a:lnTo>
                    <a:pt x="1204" y="772"/>
                  </a:lnTo>
                  <a:lnTo>
                    <a:pt x="1385" y="816"/>
                  </a:lnTo>
                  <a:lnTo>
                    <a:pt x="1359" y="684"/>
                  </a:lnTo>
                  <a:lnTo>
                    <a:pt x="1526" y="627"/>
                  </a:lnTo>
                  <a:lnTo>
                    <a:pt x="1407" y="565"/>
                  </a:lnTo>
                  <a:lnTo>
                    <a:pt x="1694" y="547"/>
                  </a:lnTo>
                  <a:lnTo>
                    <a:pt x="1447" y="415"/>
                  </a:lnTo>
                  <a:lnTo>
                    <a:pt x="1165" y="383"/>
                  </a:lnTo>
                  <a:lnTo>
                    <a:pt x="1385" y="251"/>
                  </a:lnTo>
                  <a:lnTo>
                    <a:pt x="984" y="251"/>
                  </a:lnTo>
                  <a:lnTo>
                    <a:pt x="1173" y="123"/>
                  </a:lnTo>
                  <a:lnTo>
                    <a:pt x="882" y="158"/>
                  </a:lnTo>
                  <a:lnTo>
                    <a:pt x="745" y="220"/>
                  </a:lnTo>
                  <a:lnTo>
                    <a:pt x="865" y="0"/>
                  </a:lnTo>
                  <a:lnTo>
                    <a:pt x="511" y="123"/>
                  </a:lnTo>
                  <a:lnTo>
                    <a:pt x="317" y="392"/>
                  </a:lnTo>
                  <a:lnTo>
                    <a:pt x="282" y="242"/>
                  </a:lnTo>
                  <a:lnTo>
                    <a:pt x="123" y="348"/>
                  </a:lnTo>
                  <a:lnTo>
                    <a:pt x="105" y="547"/>
                  </a:lnTo>
                  <a:lnTo>
                    <a:pt x="0" y="508"/>
                  </a:lnTo>
                  <a:lnTo>
                    <a:pt x="35" y="684"/>
                  </a:lnTo>
                  <a:lnTo>
                    <a:pt x="17" y="55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605720" y="385920"/>
              <a:ext cx="171720" cy="89280"/>
            </a:xfrm>
            <a:custGeom>
              <a:avLst/>
              <a:gdLst/>
              <a:ahLst/>
              <a:rect l="0" t="0" r="r" b="b"/>
              <a:pathLst>
                <a:path w="477" h="248">
                  <a:moveTo>
                    <a:pt x="0" y="248"/>
                  </a:moveTo>
                  <a:lnTo>
                    <a:pt x="176" y="0"/>
                  </a:lnTo>
                  <a:lnTo>
                    <a:pt x="176" y="164"/>
                  </a:lnTo>
                  <a:lnTo>
                    <a:pt x="243" y="98"/>
                  </a:lnTo>
                  <a:lnTo>
                    <a:pt x="300" y="191"/>
                  </a:lnTo>
                  <a:lnTo>
                    <a:pt x="477" y="235"/>
                  </a:lnTo>
                  <a:lnTo>
                    <a:pt x="287" y="204"/>
                  </a:lnTo>
                  <a:lnTo>
                    <a:pt x="229" y="142"/>
                  </a:lnTo>
                  <a:lnTo>
                    <a:pt x="149" y="204"/>
                  </a:lnTo>
                  <a:lnTo>
                    <a:pt x="149" y="128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589880" y="990720"/>
              <a:ext cx="206640" cy="132120"/>
            </a:xfrm>
            <a:custGeom>
              <a:avLst/>
              <a:gdLst/>
              <a:ahLst/>
              <a:rect l="0" t="0" r="r" b="b"/>
              <a:pathLst>
                <a:path w="574" h="367">
                  <a:moveTo>
                    <a:pt x="110" y="127"/>
                  </a:moveTo>
                  <a:lnTo>
                    <a:pt x="344" y="110"/>
                  </a:lnTo>
                  <a:lnTo>
                    <a:pt x="459" y="136"/>
                  </a:lnTo>
                  <a:lnTo>
                    <a:pt x="512" y="83"/>
                  </a:lnTo>
                  <a:lnTo>
                    <a:pt x="574" y="203"/>
                  </a:lnTo>
                  <a:lnTo>
                    <a:pt x="534" y="225"/>
                  </a:lnTo>
                  <a:lnTo>
                    <a:pt x="486" y="180"/>
                  </a:lnTo>
                  <a:lnTo>
                    <a:pt x="411" y="265"/>
                  </a:lnTo>
                  <a:lnTo>
                    <a:pt x="264" y="367"/>
                  </a:lnTo>
                  <a:lnTo>
                    <a:pt x="202" y="367"/>
                  </a:lnTo>
                  <a:lnTo>
                    <a:pt x="110" y="314"/>
                  </a:lnTo>
                  <a:lnTo>
                    <a:pt x="216" y="358"/>
                  </a:lnTo>
                  <a:lnTo>
                    <a:pt x="255" y="358"/>
                  </a:lnTo>
                  <a:lnTo>
                    <a:pt x="344" y="292"/>
                  </a:lnTo>
                  <a:lnTo>
                    <a:pt x="406" y="167"/>
                  </a:lnTo>
                  <a:lnTo>
                    <a:pt x="314" y="149"/>
                  </a:lnTo>
                  <a:lnTo>
                    <a:pt x="251" y="136"/>
                  </a:lnTo>
                  <a:lnTo>
                    <a:pt x="97" y="158"/>
                  </a:lnTo>
                  <a:lnTo>
                    <a:pt x="92" y="256"/>
                  </a:lnTo>
                  <a:lnTo>
                    <a:pt x="44" y="195"/>
                  </a:lnTo>
                  <a:lnTo>
                    <a:pt x="0" y="278"/>
                  </a:lnTo>
                  <a:lnTo>
                    <a:pt x="4" y="97"/>
                  </a:lnTo>
                  <a:lnTo>
                    <a:pt x="61" y="0"/>
                  </a:lnTo>
                  <a:lnTo>
                    <a:pt x="110" y="97"/>
                  </a:lnTo>
                  <a:lnTo>
                    <a:pt x="110" y="1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62880" y="703440"/>
              <a:ext cx="443160" cy="609840"/>
            </a:xfrm>
            <a:custGeom>
              <a:avLst/>
              <a:gdLst/>
              <a:ahLst/>
              <a:rect l="0" t="0" r="r" b="b"/>
              <a:pathLst>
                <a:path w="1231" h="1694">
                  <a:moveTo>
                    <a:pt x="1037" y="0"/>
                  </a:moveTo>
                  <a:lnTo>
                    <a:pt x="1160" y="0"/>
                  </a:lnTo>
                  <a:lnTo>
                    <a:pt x="1231" y="83"/>
                  </a:lnTo>
                  <a:lnTo>
                    <a:pt x="1231" y="176"/>
                  </a:lnTo>
                  <a:lnTo>
                    <a:pt x="1129" y="440"/>
                  </a:lnTo>
                  <a:lnTo>
                    <a:pt x="1028" y="568"/>
                  </a:lnTo>
                  <a:lnTo>
                    <a:pt x="922" y="586"/>
                  </a:lnTo>
                  <a:lnTo>
                    <a:pt x="896" y="586"/>
                  </a:lnTo>
                  <a:lnTo>
                    <a:pt x="896" y="918"/>
                  </a:lnTo>
                  <a:lnTo>
                    <a:pt x="944" y="1160"/>
                  </a:lnTo>
                  <a:lnTo>
                    <a:pt x="944" y="1359"/>
                  </a:lnTo>
                  <a:lnTo>
                    <a:pt x="759" y="1557"/>
                  </a:lnTo>
                  <a:lnTo>
                    <a:pt x="502" y="1694"/>
                  </a:lnTo>
                  <a:lnTo>
                    <a:pt x="339" y="1694"/>
                  </a:lnTo>
                  <a:lnTo>
                    <a:pt x="260" y="1654"/>
                  </a:lnTo>
                  <a:lnTo>
                    <a:pt x="145" y="1420"/>
                  </a:lnTo>
                  <a:lnTo>
                    <a:pt x="39" y="1337"/>
                  </a:lnTo>
                  <a:lnTo>
                    <a:pt x="0" y="1275"/>
                  </a:lnTo>
                  <a:lnTo>
                    <a:pt x="136" y="1359"/>
                  </a:lnTo>
                  <a:lnTo>
                    <a:pt x="238" y="1442"/>
                  </a:lnTo>
                  <a:lnTo>
                    <a:pt x="432" y="1456"/>
                  </a:lnTo>
                  <a:lnTo>
                    <a:pt x="612" y="1372"/>
                  </a:lnTo>
                  <a:lnTo>
                    <a:pt x="706" y="1275"/>
                  </a:lnTo>
                  <a:lnTo>
                    <a:pt x="807" y="1103"/>
                  </a:lnTo>
                  <a:lnTo>
                    <a:pt x="821" y="900"/>
                  </a:lnTo>
                  <a:lnTo>
                    <a:pt x="860" y="251"/>
                  </a:lnTo>
                  <a:lnTo>
                    <a:pt x="904" y="343"/>
                  </a:lnTo>
                  <a:lnTo>
                    <a:pt x="1024" y="224"/>
                  </a:lnTo>
                  <a:lnTo>
                    <a:pt x="1151" y="176"/>
                  </a:lnTo>
                  <a:lnTo>
                    <a:pt x="1182" y="105"/>
                  </a:lnTo>
                  <a:lnTo>
                    <a:pt x="1165" y="39"/>
                  </a:lnTo>
                  <a:lnTo>
                    <a:pt x="1112" y="8"/>
                  </a:lnTo>
                  <a:lnTo>
                    <a:pt x="103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75640" y="1230480"/>
              <a:ext cx="357480" cy="563760"/>
            </a:xfrm>
            <a:custGeom>
              <a:avLst/>
              <a:gdLst/>
              <a:ahLst/>
              <a:rect l="0" t="0" r="r" b="b"/>
              <a:pathLst>
                <a:path w="993" h="1566">
                  <a:moveTo>
                    <a:pt x="123" y="0"/>
                  </a:moveTo>
                  <a:lnTo>
                    <a:pt x="238" y="70"/>
                  </a:lnTo>
                  <a:lnTo>
                    <a:pt x="321" y="392"/>
                  </a:lnTo>
                  <a:lnTo>
                    <a:pt x="578" y="463"/>
                  </a:lnTo>
                  <a:lnTo>
                    <a:pt x="653" y="546"/>
                  </a:lnTo>
                  <a:lnTo>
                    <a:pt x="666" y="665"/>
                  </a:lnTo>
                  <a:lnTo>
                    <a:pt x="790" y="648"/>
                  </a:lnTo>
                  <a:lnTo>
                    <a:pt x="944" y="749"/>
                  </a:lnTo>
                  <a:lnTo>
                    <a:pt x="993" y="874"/>
                  </a:lnTo>
                  <a:lnTo>
                    <a:pt x="993" y="1094"/>
                  </a:lnTo>
                  <a:lnTo>
                    <a:pt x="790" y="1429"/>
                  </a:lnTo>
                  <a:lnTo>
                    <a:pt x="724" y="1566"/>
                  </a:lnTo>
                  <a:lnTo>
                    <a:pt x="759" y="1385"/>
                  </a:lnTo>
                  <a:lnTo>
                    <a:pt x="724" y="1315"/>
                  </a:lnTo>
                  <a:lnTo>
                    <a:pt x="600" y="1200"/>
                  </a:lnTo>
                  <a:lnTo>
                    <a:pt x="405" y="1063"/>
                  </a:lnTo>
                  <a:lnTo>
                    <a:pt x="640" y="1143"/>
                  </a:lnTo>
                  <a:lnTo>
                    <a:pt x="777" y="1244"/>
                  </a:lnTo>
                  <a:lnTo>
                    <a:pt x="847" y="1231"/>
                  </a:lnTo>
                  <a:lnTo>
                    <a:pt x="891" y="1173"/>
                  </a:lnTo>
                  <a:lnTo>
                    <a:pt x="944" y="1015"/>
                  </a:lnTo>
                  <a:lnTo>
                    <a:pt x="927" y="860"/>
                  </a:lnTo>
                  <a:lnTo>
                    <a:pt x="856" y="776"/>
                  </a:lnTo>
                  <a:lnTo>
                    <a:pt x="733" y="749"/>
                  </a:lnTo>
                  <a:lnTo>
                    <a:pt x="600" y="749"/>
                  </a:lnTo>
                  <a:lnTo>
                    <a:pt x="556" y="515"/>
                  </a:lnTo>
                  <a:lnTo>
                    <a:pt x="335" y="436"/>
                  </a:lnTo>
                  <a:lnTo>
                    <a:pt x="335" y="502"/>
                  </a:lnTo>
                  <a:lnTo>
                    <a:pt x="238" y="335"/>
                  </a:lnTo>
                  <a:lnTo>
                    <a:pt x="180" y="70"/>
                  </a:lnTo>
                  <a:lnTo>
                    <a:pt x="97" y="44"/>
                  </a:lnTo>
                  <a:lnTo>
                    <a:pt x="48" y="123"/>
                  </a:lnTo>
                  <a:lnTo>
                    <a:pt x="48" y="304"/>
                  </a:lnTo>
                  <a:lnTo>
                    <a:pt x="88" y="502"/>
                  </a:lnTo>
                  <a:lnTo>
                    <a:pt x="207" y="665"/>
                  </a:lnTo>
                  <a:lnTo>
                    <a:pt x="74" y="564"/>
                  </a:lnTo>
                  <a:lnTo>
                    <a:pt x="13" y="392"/>
                  </a:lnTo>
                  <a:lnTo>
                    <a:pt x="0" y="167"/>
                  </a:lnTo>
                  <a:lnTo>
                    <a:pt x="48" y="44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705720" y="1477800"/>
              <a:ext cx="236880" cy="452880"/>
            </a:xfrm>
            <a:custGeom>
              <a:avLst/>
              <a:gdLst/>
              <a:ahLst/>
              <a:rect l="0" t="0" r="r" b="b"/>
              <a:pathLst>
                <a:path w="658" h="1258">
                  <a:moveTo>
                    <a:pt x="658" y="0"/>
                  </a:moveTo>
                  <a:lnTo>
                    <a:pt x="521" y="83"/>
                  </a:lnTo>
                  <a:lnTo>
                    <a:pt x="362" y="389"/>
                  </a:lnTo>
                  <a:lnTo>
                    <a:pt x="207" y="587"/>
                  </a:lnTo>
                  <a:lnTo>
                    <a:pt x="17" y="825"/>
                  </a:lnTo>
                  <a:lnTo>
                    <a:pt x="0" y="950"/>
                  </a:lnTo>
                  <a:lnTo>
                    <a:pt x="35" y="1060"/>
                  </a:lnTo>
                  <a:lnTo>
                    <a:pt x="127" y="1060"/>
                  </a:lnTo>
                  <a:lnTo>
                    <a:pt x="251" y="950"/>
                  </a:lnTo>
                  <a:lnTo>
                    <a:pt x="349" y="724"/>
                  </a:lnTo>
                  <a:lnTo>
                    <a:pt x="486" y="587"/>
                  </a:lnTo>
                  <a:lnTo>
                    <a:pt x="486" y="768"/>
                  </a:lnTo>
                  <a:lnTo>
                    <a:pt x="464" y="935"/>
                  </a:lnTo>
                  <a:lnTo>
                    <a:pt x="321" y="1157"/>
                  </a:lnTo>
                  <a:lnTo>
                    <a:pt x="321" y="1227"/>
                  </a:lnTo>
                  <a:lnTo>
                    <a:pt x="464" y="1258"/>
                  </a:lnTo>
                  <a:lnTo>
                    <a:pt x="362" y="1197"/>
                  </a:lnTo>
                  <a:lnTo>
                    <a:pt x="380" y="1157"/>
                  </a:lnTo>
                  <a:lnTo>
                    <a:pt x="477" y="994"/>
                  </a:lnTo>
                  <a:lnTo>
                    <a:pt x="543" y="697"/>
                  </a:lnTo>
                  <a:lnTo>
                    <a:pt x="494" y="530"/>
                  </a:lnTo>
                  <a:lnTo>
                    <a:pt x="389" y="627"/>
                  </a:lnTo>
                  <a:lnTo>
                    <a:pt x="154" y="1003"/>
                  </a:lnTo>
                  <a:lnTo>
                    <a:pt x="92" y="1016"/>
                  </a:lnTo>
                  <a:lnTo>
                    <a:pt x="35" y="976"/>
                  </a:lnTo>
                  <a:lnTo>
                    <a:pt x="35" y="860"/>
                  </a:lnTo>
                  <a:lnTo>
                    <a:pt x="127" y="710"/>
                  </a:lnTo>
                  <a:lnTo>
                    <a:pt x="389" y="406"/>
                  </a:lnTo>
                  <a:lnTo>
                    <a:pt x="543" y="114"/>
                  </a:lnTo>
                  <a:lnTo>
                    <a:pt x="65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880320" y="1733400"/>
              <a:ext cx="146520" cy="217800"/>
            </a:xfrm>
            <a:custGeom>
              <a:avLst/>
              <a:gdLst/>
              <a:ahLst/>
              <a:rect l="0" t="0" r="r" b="b"/>
              <a:pathLst>
                <a:path w="407" h="605">
                  <a:moveTo>
                    <a:pt x="0" y="534"/>
                  </a:moveTo>
                  <a:lnTo>
                    <a:pt x="133" y="380"/>
                  </a:lnTo>
                  <a:lnTo>
                    <a:pt x="159" y="224"/>
                  </a:lnTo>
                  <a:lnTo>
                    <a:pt x="315" y="0"/>
                  </a:lnTo>
                  <a:lnTo>
                    <a:pt x="345" y="149"/>
                  </a:lnTo>
                  <a:lnTo>
                    <a:pt x="328" y="547"/>
                  </a:lnTo>
                  <a:lnTo>
                    <a:pt x="407" y="605"/>
                  </a:lnTo>
                  <a:lnTo>
                    <a:pt x="287" y="561"/>
                  </a:lnTo>
                  <a:lnTo>
                    <a:pt x="230" y="336"/>
                  </a:lnTo>
                  <a:lnTo>
                    <a:pt x="133" y="446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059600" y="1744560"/>
              <a:ext cx="97200" cy="195480"/>
            </a:xfrm>
            <a:custGeom>
              <a:avLst/>
              <a:gdLst/>
              <a:ahLst/>
              <a:rect l="0" t="0" r="r" b="b"/>
              <a:pathLst>
                <a:path w="270" h="543">
                  <a:moveTo>
                    <a:pt x="0" y="406"/>
                  </a:moveTo>
                  <a:lnTo>
                    <a:pt x="13" y="207"/>
                  </a:lnTo>
                  <a:lnTo>
                    <a:pt x="71" y="88"/>
                  </a:lnTo>
                  <a:lnTo>
                    <a:pt x="133" y="516"/>
                  </a:lnTo>
                  <a:lnTo>
                    <a:pt x="213" y="516"/>
                  </a:lnTo>
                  <a:lnTo>
                    <a:pt x="248" y="61"/>
                  </a:lnTo>
                  <a:lnTo>
                    <a:pt x="270" y="0"/>
                  </a:lnTo>
                  <a:lnTo>
                    <a:pt x="248" y="353"/>
                  </a:lnTo>
                  <a:lnTo>
                    <a:pt x="213" y="543"/>
                  </a:lnTo>
                  <a:lnTo>
                    <a:pt x="106" y="543"/>
                  </a:lnTo>
                  <a:lnTo>
                    <a:pt x="61" y="167"/>
                  </a:lnTo>
                  <a:lnTo>
                    <a:pt x="30" y="220"/>
                  </a:lnTo>
                  <a:lnTo>
                    <a:pt x="0" y="40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290080" y="979560"/>
              <a:ext cx="233640" cy="519480"/>
            </a:xfrm>
            <a:custGeom>
              <a:avLst/>
              <a:gdLst/>
              <a:ahLst/>
              <a:rect l="0" t="0" r="r" b="b"/>
              <a:pathLst>
                <a:path w="649" h="1443">
                  <a:moveTo>
                    <a:pt x="171" y="781"/>
                  </a:moveTo>
                  <a:lnTo>
                    <a:pt x="220" y="556"/>
                  </a:lnTo>
                  <a:lnTo>
                    <a:pt x="437" y="499"/>
                  </a:lnTo>
                  <a:lnTo>
                    <a:pt x="649" y="0"/>
                  </a:lnTo>
                  <a:lnTo>
                    <a:pt x="649" y="145"/>
                  </a:lnTo>
                  <a:lnTo>
                    <a:pt x="472" y="530"/>
                  </a:lnTo>
                  <a:lnTo>
                    <a:pt x="238" y="600"/>
                  </a:lnTo>
                  <a:lnTo>
                    <a:pt x="207" y="781"/>
                  </a:lnTo>
                  <a:lnTo>
                    <a:pt x="286" y="781"/>
                  </a:lnTo>
                  <a:lnTo>
                    <a:pt x="83" y="860"/>
                  </a:lnTo>
                  <a:lnTo>
                    <a:pt x="35" y="1015"/>
                  </a:lnTo>
                  <a:lnTo>
                    <a:pt x="48" y="1214"/>
                  </a:lnTo>
                  <a:lnTo>
                    <a:pt x="264" y="1443"/>
                  </a:lnTo>
                  <a:lnTo>
                    <a:pt x="35" y="1241"/>
                  </a:lnTo>
                  <a:lnTo>
                    <a:pt x="0" y="1072"/>
                  </a:lnTo>
                  <a:lnTo>
                    <a:pt x="17" y="904"/>
                  </a:lnTo>
                  <a:lnTo>
                    <a:pt x="97" y="785"/>
                  </a:lnTo>
                  <a:lnTo>
                    <a:pt x="171" y="78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447040" y="979560"/>
              <a:ext cx="390960" cy="503640"/>
            </a:xfrm>
            <a:custGeom>
              <a:avLst/>
              <a:gdLst/>
              <a:ahLst/>
              <a:rect l="0" t="0" r="r" b="b"/>
              <a:pathLst>
                <a:path w="1086" h="1399">
                  <a:moveTo>
                    <a:pt x="300" y="0"/>
                  </a:moveTo>
                  <a:lnTo>
                    <a:pt x="367" y="44"/>
                  </a:lnTo>
                  <a:lnTo>
                    <a:pt x="384" y="163"/>
                  </a:lnTo>
                  <a:lnTo>
                    <a:pt x="384" y="273"/>
                  </a:lnTo>
                  <a:lnTo>
                    <a:pt x="264" y="477"/>
                  </a:lnTo>
                  <a:lnTo>
                    <a:pt x="287" y="627"/>
                  </a:lnTo>
                  <a:lnTo>
                    <a:pt x="653" y="785"/>
                  </a:lnTo>
                  <a:lnTo>
                    <a:pt x="1077" y="1227"/>
                  </a:lnTo>
                  <a:lnTo>
                    <a:pt x="1086" y="1346"/>
                  </a:lnTo>
                  <a:lnTo>
                    <a:pt x="1064" y="1399"/>
                  </a:lnTo>
                  <a:lnTo>
                    <a:pt x="905" y="1399"/>
                  </a:lnTo>
                  <a:lnTo>
                    <a:pt x="763" y="1316"/>
                  </a:lnTo>
                  <a:lnTo>
                    <a:pt x="644" y="1170"/>
                  </a:lnTo>
                  <a:lnTo>
                    <a:pt x="578" y="1086"/>
                  </a:lnTo>
                  <a:lnTo>
                    <a:pt x="503" y="1073"/>
                  </a:lnTo>
                  <a:lnTo>
                    <a:pt x="596" y="1073"/>
                  </a:lnTo>
                  <a:lnTo>
                    <a:pt x="772" y="1302"/>
                  </a:lnTo>
                  <a:lnTo>
                    <a:pt x="1003" y="1369"/>
                  </a:lnTo>
                  <a:lnTo>
                    <a:pt x="1051" y="1302"/>
                  </a:lnTo>
                  <a:lnTo>
                    <a:pt x="1025" y="1197"/>
                  </a:lnTo>
                  <a:lnTo>
                    <a:pt x="627" y="878"/>
                  </a:lnTo>
                  <a:lnTo>
                    <a:pt x="569" y="785"/>
                  </a:lnTo>
                  <a:lnTo>
                    <a:pt x="264" y="706"/>
                  </a:lnTo>
                  <a:lnTo>
                    <a:pt x="211" y="785"/>
                  </a:lnTo>
                  <a:lnTo>
                    <a:pt x="0" y="918"/>
                  </a:lnTo>
                  <a:lnTo>
                    <a:pt x="198" y="763"/>
                  </a:lnTo>
                  <a:lnTo>
                    <a:pt x="211" y="671"/>
                  </a:lnTo>
                  <a:lnTo>
                    <a:pt x="211" y="446"/>
                  </a:lnTo>
                  <a:lnTo>
                    <a:pt x="349" y="273"/>
                  </a:lnTo>
                  <a:lnTo>
                    <a:pt x="349" y="57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375760" y="1374840"/>
              <a:ext cx="332280" cy="298800"/>
            </a:xfrm>
            <a:custGeom>
              <a:avLst/>
              <a:gdLst/>
              <a:ahLst/>
              <a:rect l="0" t="0" r="r" b="b"/>
              <a:pathLst>
                <a:path w="923" h="830">
                  <a:moveTo>
                    <a:pt x="694" y="0"/>
                  </a:moveTo>
                  <a:lnTo>
                    <a:pt x="666" y="70"/>
                  </a:lnTo>
                  <a:lnTo>
                    <a:pt x="804" y="343"/>
                  </a:lnTo>
                  <a:lnTo>
                    <a:pt x="875" y="627"/>
                  </a:lnTo>
                  <a:lnTo>
                    <a:pt x="795" y="627"/>
                  </a:lnTo>
                  <a:lnTo>
                    <a:pt x="658" y="503"/>
                  </a:lnTo>
                  <a:lnTo>
                    <a:pt x="530" y="242"/>
                  </a:lnTo>
                  <a:lnTo>
                    <a:pt x="433" y="202"/>
                  </a:lnTo>
                  <a:lnTo>
                    <a:pt x="450" y="343"/>
                  </a:lnTo>
                  <a:lnTo>
                    <a:pt x="538" y="446"/>
                  </a:lnTo>
                  <a:lnTo>
                    <a:pt x="538" y="644"/>
                  </a:lnTo>
                  <a:lnTo>
                    <a:pt x="472" y="790"/>
                  </a:lnTo>
                  <a:lnTo>
                    <a:pt x="389" y="733"/>
                  </a:lnTo>
                  <a:lnTo>
                    <a:pt x="283" y="503"/>
                  </a:lnTo>
                  <a:lnTo>
                    <a:pt x="261" y="343"/>
                  </a:lnTo>
                  <a:lnTo>
                    <a:pt x="198" y="299"/>
                  </a:lnTo>
                  <a:lnTo>
                    <a:pt x="180" y="702"/>
                  </a:lnTo>
                  <a:lnTo>
                    <a:pt x="97" y="759"/>
                  </a:lnTo>
                  <a:lnTo>
                    <a:pt x="26" y="702"/>
                  </a:lnTo>
                  <a:lnTo>
                    <a:pt x="13" y="357"/>
                  </a:lnTo>
                  <a:lnTo>
                    <a:pt x="0" y="693"/>
                  </a:lnTo>
                  <a:lnTo>
                    <a:pt x="61" y="816"/>
                  </a:lnTo>
                  <a:lnTo>
                    <a:pt x="180" y="816"/>
                  </a:lnTo>
                  <a:lnTo>
                    <a:pt x="220" y="719"/>
                  </a:lnTo>
                  <a:lnTo>
                    <a:pt x="247" y="405"/>
                  </a:lnTo>
                  <a:lnTo>
                    <a:pt x="269" y="530"/>
                  </a:lnTo>
                  <a:lnTo>
                    <a:pt x="371" y="799"/>
                  </a:lnTo>
                  <a:lnTo>
                    <a:pt x="486" y="830"/>
                  </a:lnTo>
                  <a:lnTo>
                    <a:pt x="569" y="719"/>
                  </a:lnTo>
                  <a:lnTo>
                    <a:pt x="569" y="459"/>
                  </a:lnTo>
                  <a:lnTo>
                    <a:pt x="795" y="675"/>
                  </a:lnTo>
                  <a:lnTo>
                    <a:pt x="910" y="675"/>
                  </a:lnTo>
                  <a:lnTo>
                    <a:pt x="923" y="530"/>
                  </a:lnTo>
                  <a:lnTo>
                    <a:pt x="839" y="268"/>
                  </a:lnTo>
                  <a:lnTo>
                    <a:pt x="694" y="57"/>
                  </a:lnTo>
                  <a:lnTo>
                    <a:pt x="69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032600" y="1066680"/>
              <a:ext cx="1478160" cy="1217880"/>
            </a:xfrm>
            <a:custGeom>
              <a:avLst/>
              <a:gdLst/>
              <a:ahLst/>
              <a:rect l="0" t="0" r="r" b="b"/>
              <a:pathLst>
                <a:path w="4106" h="3383">
                  <a:moveTo>
                    <a:pt x="1477" y="286"/>
                  </a:moveTo>
                  <a:lnTo>
                    <a:pt x="1402" y="299"/>
                  </a:lnTo>
                  <a:lnTo>
                    <a:pt x="1287" y="467"/>
                  </a:lnTo>
                  <a:lnTo>
                    <a:pt x="1247" y="343"/>
                  </a:lnTo>
                  <a:lnTo>
                    <a:pt x="1115" y="273"/>
                  </a:lnTo>
                  <a:lnTo>
                    <a:pt x="1014" y="326"/>
                  </a:lnTo>
                  <a:lnTo>
                    <a:pt x="974" y="546"/>
                  </a:lnTo>
                  <a:lnTo>
                    <a:pt x="608" y="815"/>
                  </a:lnTo>
                  <a:lnTo>
                    <a:pt x="630" y="930"/>
                  </a:lnTo>
                  <a:lnTo>
                    <a:pt x="542" y="1031"/>
                  </a:lnTo>
                  <a:lnTo>
                    <a:pt x="542" y="1120"/>
                  </a:lnTo>
                  <a:lnTo>
                    <a:pt x="648" y="1375"/>
                  </a:lnTo>
                  <a:lnTo>
                    <a:pt x="657" y="1688"/>
                  </a:lnTo>
                  <a:lnTo>
                    <a:pt x="586" y="1980"/>
                  </a:lnTo>
                  <a:lnTo>
                    <a:pt x="321" y="2157"/>
                  </a:lnTo>
                  <a:lnTo>
                    <a:pt x="286" y="2399"/>
                  </a:lnTo>
                  <a:lnTo>
                    <a:pt x="207" y="2399"/>
                  </a:lnTo>
                  <a:lnTo>
                    <a:pt x="167" y="2201"/>
                  </a:lnTo>
                  <a:lnTo>
                    <a:pt x="83" y="2201"/>
                  </a:lnTo>
                  <a:lnTo>
                    <a:pt x="48" y="2413"/>
                  </a:lnTo>
                  <a:lnTo>
                    <a:pt x="0" y="2470"/>
                  </a:lnTo>
                  <a:lnTo>
                    <a:pt x="180" y="2761"/>
                  </a:lnTo>
                  <a:lnTo>
                    <a:pt x="313" y="2774"/>
                  </a:lnTo>
                  <a:lnTo>
                    <a:pt x="542" y="2990"/>
                  </a:lnTo>
                  <a:lnTo>
                    <a:pt x="754" y="3017"/>
                  </a:lnTo>
                  <a:lnTo>
                    <a:pt x="868" y="2902"/>
                  </a:lnTo>
                  <a:lnTo>
                    <a:pt x="1155" y="2483"/>
                  </a:lnTo>
                  <a:lnTo>
                    <a:pt x="1177" y="3048"/>
                  </a:lnTo>
                  <a:lnTo>
                    <a:pt x="1155" y="3383"/>
                  </a:lnTo>
                  <a:lnTo>
                    <a:pt x="3528" y="3383"/>
                  </a:lnTo>
                  <a:lnTo>
                    <a:pt x="3352" y="3017"/>
                  </a:lnTo>
                  <a:lnTo>
                    <a:pt x="3268" y="2704"/>
                  </a:lnTo>
                  <a:lnTo>
                    <a:pt x="3246" y="2236"/>
                  </a:lnTo>
                  <a:lnTo>
                    <a:pt x="3387" y="2342"/>
                  </a:lnTo>
                  <a:lnTo>
                    <a:pt x="3528" y="2342"/>
                  </a:lnTo>
                  <a:lnTo>
                    <a:pt x="3722" y="2219"/>
                  </a:lnTo>
                  <a:lnTo>
                    <a:pt x="3850" y="2201"/>
                  </a:lnTo>
                  <a:lnTo>
                    <a:pt x="3934" y="2077"/>
                  </a:lnTo>
                  <a:lnTo>
                    <a:pt x="3987" y="1756"/>
                  </a:lnTo>
                  <a:lnTo>
                    <a:pt x="4106" y="1631"/>
                  </a:lnTo>
                  <a:lnTo>
                    <a:pt x="4044" y="1534"/>
                  </a:lnTo>
                  <a:lnTo>
                    <a:pt x="3956" y="1534"/>
                  </a:lnTo>
                  <a:lnTo>
                    <a:pt x="3885" y="1600"/>
                  </a:lnTo>
                  <a:lnTo>
                    <a:pt x="3819" y="1618"/>
                  </a:lnTo>
                  <a:lnTo>
                    <a:pt x="3736" y="1534"/>
                  </a:lnTo>
                  <a:lnTo>
                    <a:pt x="3634" y="1521"/>
                  </a:lnTo>
                  <a:lnTo>
                    <a:pt x="3444" y="1402"/>
                  </a:lnTo>
                  <a:lnTo>
                    <a:pt x="3330" y="1274"/>
                  </a:lnTo>
                  <a:lnTo>
                    <a:pt x="3308" y="1120"/>
                  </a:lnTo>
                  <a:lnTo>
                    <a:pt x="3330" y="970"/>
                  </a:lnTo>
                  <a:lnTo>
                    <a:pt x="3405" y="846"/>
                  </a:lnTo>
                  <a:lnTo>
                    <a:pt x="3506" y="736"/>
                  </a:lnTo>
                  <a:lnTo>
                    <a:pt x="3497" y="542"/>
                  </a:lnTo>
                  <a:lnTo>
                    <a:pt x="3497" y="401"/>
                  </a:lnTo>
                  <a:lnTo>
                    <a:pt x="3444" y="299"/>
                  </a:lnTo>
                  <a:lnTo>
                    <a:pt x="3308" y="255"/>
                  </a:lnTo>
                  <a:lnTo>
                    <a:pt x="3259" y="229"/>
                  </a:lnTo>
                  <a:lnTo>
                    <a:pt x="3162" y="61"/>
                  </a:lnTo>
                  <a:lnTo>
                    <a:pt x="3083" y="13"/>
                  </a:lnTo>
                  <a:lnTo>
                    <a:pt x="2995" y="0"/>
                  </a:lnTo>
                  <a:lnTo>
                    <a:pt x="2924" y="30"/>
                  </a:lnTo>
                  <a:lnTo>
                    <a:pt x="2862" y="119"/>
                  </a:lnTo>
                  <a:lnTo>
                    <a:pt x="2774" y="171"/>
                  </a:lnTo>
                  <a:lnTo>
                    <a:pt x="2673" y="189"/>
                  </a:lnTo>
                  <a:lnTo>
                    <a:pt x="2558" y="189"/>
                  </a:lnTo>
                  <a:lnTo>
                    <a:pt x="2580" y="357"/>
                  </a:lnTo>
                  <a:lnTo>
                    <a:pt x="2580" y="564"/>
                  </a:lnTo>
                  <a:lnTo>
                    <a:pt x="2558" y="705"/>
                  </a:lnTo>
                  <a:lnTo>
                    <a:pt x="2457" y="873"/>
                  </a:lnTo>
                  <a:lnTo>
                    <a:pt x="2329" y="1128"/>
                  </a:lnTo>
                  <a:lnTo>
                    <a:pt x="2227" y="1433"/>
                  </a:lnTo>
                  <a:lnTo>
                    <a:pt x="2219" y="1618"/>
                  </a:lnTo>
                  <a:lnTo>
                    <a:pt x="2170" y="1769"/>
                  </a:lnTo>
                  <a:lnTo>
                    <a:pt x="2108" y="1923"/>
                  </a:lnTo>
                  <a:lnTo>
                    <a:pt x="2082" y="2170"/>
                  </a:lnTo>
                  <a:lnTo>
                    <a:pt x="2100" y="2373"/>
                  </a:lnTo>
                  <a:lnTo>
                    <a:pt x="2170" y="2611"/>
                  </a:lnTo>
                  <a:lnTo>
                    <a:pt x="2219" y="2704"/>
                  </a:lnTo>
                  <a:lnTo>
                    <a:pt x="2082" y="2792"/>
                  </a:lnTo>
                  <a:lnTo>
                    <a:pt x="1913" y="2845"/>
                  </a:lnTo>
                  <a:lnTo>
                    <a:pt x="1733" y="2862"/>
                  </a:lnTo>
                  <a:lnTo>
                    <a:pt x="1618" y="2862"/>
                  </a:lnTo>
                  <a:lnTo>
                    <a:pt x="1547" y="2832"/>
                  </a:lnTo>
                  <a:lnTo>
                    <a:pt x="1547" y="2629"/>
                  </a:lnTo>
                  <a:lnTo>
                    <a:pt x="1547" y="2329"/>
                  </a:lnTo>
                  <a:lnTo>
                    <a:pt x="1503" y="2033"/>
                  </a:lnTo>
                  <a:lnTo>
                    <a:pt x="1428" y="1769"/>
                  </a:lnTo>
                  <a:lnTo>
                    <a:pt x="1393" y="1561"/>
                  </a:lnTo>
                  <a:lnTo>
                    <a:pt x="1380" y="1261"/>
                  </a:lnTo>
                  <a:lnTo>
                    <a:pt x="1428" y="1001"/>
                  </a:lnTo>
                  <a:lnTo>
                    <a:pt x="1503" y="789"/>
                  </a:lnTo>
                  <a:lnTo>
                    <a:pt x="1508" y="665"/>
                  </a:lnTo>
                  <a:lnTo>
                    <a:pt x="1477" y="485"/>
                  </a:lnTo>
                  <a:lnTo>
                    <a:pt x="1477" y="343"/>
                  </a:lnTo>
                  <a:lnTo>
                    <a:pt x="1503" y="299"/>
                  </a:lnTo>
                  <a:lnTo>
                    <a:pt x="1477" y="28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608960" y="1309680"/>
              <a:ext cx="186120" cy="792360"/>
            </a:xfrm>
            <a:custGeom>
              <a:avLst/>
              <a:gdLst/>
              <a:ahLst/>
              <a:rect l="0" t="0" r="r" b="b"/>
              <a:pathLst>
                <a:path w="517" h="2201">
                  <a:moveTo>
                    <a:pt x="208" y="26"/>
                  </a:moveTo>
                  <a:lnTo>
                    <a:pt x="70" y="97"/>
                  </a:lnTo>
                  <a:lnTo>
                    <a:pt x="79" y="308"/>
                  </a:lnTo>
                  <a:lnTo>
                    <a:pt x="181" y="370"/>
                  </a:lnTo>
                  <a:lnTo>
                    <a:pt x="61" y="599"/>
                  </a:lnTo>
                  <a:lnTo>
                    <a:pt x="0" y="855"/>
                  </a:lnTo>
                  <a:lnTo>
                    <a:pt x="0" y="1098"/>
                  </a:lnTo>
                  <a:lnTo>
                    <a:pt x="61" y="1319"/>
                  </a:lnTo>
                  <a:lnTo>
                    <a:pt x="110" y="1588"/>
                  </a:lnTo>
                  <a:lnTo>
                    <a:pt x="110" y="1742"/>
                  </a:lnTo>
                  <a:lnTo>
                    <a:pt x="61" y="1932"/>
                  </a:lnTo>
                  <a:lnTo>
                    <a:pt x="265" y="2201"/>
                  </a:lnTo>
                  <a:lnTo>
                    <a:pt x="353" y="2157"/>
                  </a:lnTo>
                  <a:lnTo>
                    <a:pt x="412" y="1972"/>
                  </a:lnTo>
                  <a:lnTo>
                    <a:pt x="509" y="1729"/>
                  </a:lnTo>
                  <a:lnTo>
                    <a:pt x="517" y="1601"/>
                  </a:lnTo>
                  <a:lnTo>
                    <a:pt x="438" y="1359"/>
                  </a:lnTo>
                  <a:lnTo>
                    <a:pt x="340" y="1125"/>
                  </a:lnTo>
                  <a:lnTo>
                    <a:pt x="305" y="956"/>
                  </a:lnTo>
                  <a:lnTo>
                    <a:pt x="305" y="798"/>
                  </a:lnTo>
                  <a:lnTo>
                    <a:pt x="340" y="657"/>
                  </a:lnTo>
                  <a:lnTo>
                    <a:pt x="412" y="480"/>
                  </a:lnTo>
                  <a:lnTo>
                    <a:pt x="412" y="410"/>
                  </a:lnTo>
                  <a:lnTo>
                    <a:pt x="375" y="339"/>
                  </a:lnTo>
                  <a:lnTo>
                    <a:pt x="473" y="251"/>
                  </a:lnTo>
                  <a:lnTo>
                    <a:pt x="473" y="167"/>
                  </a:lnTo>
                  <a:lnTo>
                    <a:pt x="340" y="0"/>
                  </a:lnTo>
                  <a:lnTo>
                    <a:pt x="451" y="167"/>
                  </a:lnTo>
                  <a:lnTo>
                    <a:pt x="451" y="238"/>
                  </a:lnTo>
                  <a:lnTo>
                    <a:pt x="353" y="308"/>
                  </a:lnTo>
                  <a:lnTo>
                    <a:pt x="390" y="410"/>
                  </a:lnTo>
                  <a:lnTo>
                    <a:pt x="375" y="480"/>
                  </a:lnTo>
                  <a:lnTo>
                    <a:pt x="278" y="683"/>
                  </a:lnTo>
                  <a:lnTo>
                    <a:pt x="265" y="881"/>
                  </a:lnTo>
                  <a:lnTo>
                    <a:pt x="292" y="1067"/>
                  </a:lnTo>
                  <a:lnTo>
                    <a:pt x="353" y="1332"/>
                  </a:lnTo>
                  <a:lnTo>
                    <a:pt x="438" y="1544"/>
                  </a:lnTo>
                  <a:lnTo>
                    <a:pt x="438" y="1716"/>
                  </a:lnTo>
                  <a:lnTo>
                    <a:pt x="390" y="1932"/>
                  </a:lnTo>
                  <a:lnTo>
                    <a:pt x="292" y="2157"/>
                  </a:lnTo>
                  <a:lnTo>
                    <a:pt x="168" y="2033"/>
                  </a:lnTo>
                  <a:lnTo>
                    <a:pt x="119" y="1932"/>
                  </a:lnTo>
                  <a:lnTo>
                    <a:pt x="133" y="1716"/>
                  </a:lnTo>
                  <a:lnTo>
                    <a:pt x="119" y="1500"/>
                  </a:lnTo>
                  <a:lnTo>
                    <a:pt x="61" y="1209"/>
                  </a:lnTo>
                  <a:lnTo>
                    <a:pt x="35" y="1009"/>
                  </a:lnTo>
                  <a:lnTo>
                    <a:pt x="61" y="784"/>
                  </a:lnTo>
                  <a:lnTo>
                    <a:pt x="110" y="568"/>
                  </a:lnTo>
                  <a:lnTo>
                    <a:pt x="217" y="352"/>
                  </a:lnTo>
                  <a:lnTo>
                    <a:pt x="119" y="264"/>
                  </a:lnTo>
                  <a:lnTo>
                    <a:pt x="110" y="110"/>
                  </a:lnTo>
                  <a:lnTo>
                    <a:pt x="208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140680" y="385920"/>
              <a:ext cx="294120" cy="386280"/>
            </a:xfrm>
            <a:custGeom>
              <a:avLst/>
              <a:gdLst/>
              <a:ahLst/>
              <a:rect l="0" t="0" r="r" b="b"/>
              <a:pathLst>
                <a:path w="817" h="1073">
                  <a:moveTo>
                    <a:pt x="136" y="274"/>
                  </a:moveTo>
                  <a:lnTo>
                    <a:pt x="256" y="251"/>
                  </a:lnTo>
                  <a:lnTo>
                    <a:pt x="371" y="260"/>
                  </a:lnTo>
                  <a:lnTo>
                    <a:pt x="468" y="305"/>
                  </a:lnTo>
                  <a:lnTo>
                    <a:pt x="521" y="362"/>
                  </a:lnTo>
                  <a:lnTo>
                    <a:pt x="547" y="419"/>
                  </a:lnTo>
                  <a:lnTo>
                    <a:pt x="547" y="472"/>
                  </a:lnTo>
                  <a:lnTo>
                    <a:pt x="516" y="508"/>
                  </a:lnTo>
                  <a:lnTo>
                    <a:pt x="464" y="534"/>
                  </a:lnTo>
                  <a:lnTo>
                    <a:pt x="406" y="538"/>
                  </a:lnTo>
                  <a:lnTo>
                    <a:pt x="331" y="521"/>
                  </a:lnTo>
                  <a:lnTo>
                    <a:pt x="261" y="477"/>
                  </a:lnTo>
                  <a:lnTo>
                    <a:pt x="208" y="437"/>
                  </a:lnTo>
                  <a:lnTo>
                    <a:pt x="180" y="574"/>
                  </a:lnTo>
                  <a:lnTo>
                    <a:pt x="136" y="671"/>
                  </a:lnTo>
                  <a:lnTo>
                    <a:pt x="0" y="897"/>
                  </a:lnTo>
                  <a:lnTo>
                    <a:pt x="198" y="1073"/>
                  </a:lnTo>
                  <a:lnTo>
                    <a:pt x="349" y="781"/>
                  </a:lnTo>
                  <a:lnTo>
                    <a:pt x="516" y="808"/>
                  </a:lnTo>
                  <a:lnTo>
                    <a:pt x="623" y="785"/>
                  </a:lnTo>
                  <a:lnTo>
                    <a:pt x="725" y="719"/>
                  </a:lnTo>
                  <a:lnTo>
                    <a:pt x="786" y="636"/>
                  </a:lnTo>
                  <a:lnTo>
                    <a:pt x="817" y="525"/>
                  </a:lnTo>
                  <a:lnTo>
                    <a:pt x="817" y="411"/>
                  </a:lnTo>
                  <a:lnTo>
                    <a:pt x="786" y="287"/>
                  </a:lnTo>
                  <a:lnTo>
                    <a:pt x="720" y="163"/>
                  </a:lnTo>
                  <a:lnTo>
                    <a:pt x="637" y="74"/>
                  </a:lnTo>
                  <a:lnTo>
                    <a:pt x="534" y="26"/>
                  </a:lnTo>
                  <a:lnTo>
                    <a:pt x="415" y="0"/>
                  </a:lnTo>
                  <a:lnTo>
                    <a:pt x="269" y="0"/>
                  </a:lnTo>
                  <a:lnTo>
                    <a:pt x="110" y="30"/>
                  </a:lnTo>
                  <a:lnTo>
                    <a:pt x="136" y="274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088480" y="760320"/>
              <a:ext cx="106560" cy="76680"/>
            </a:xfrm>
            <a:custGeom>
              <a:avLst/>
              <a:gdLst/>
              <a:ahLst/>
              <a:rect l="0" t="0" r="r" b="b"/>
              <a:pathLst>
                <a:path w="296" h="213">
                  <a:moveTo>
                    <a:pt x="119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06"/>
                  </a:lnTo>
                  <a:lnTo>
                    <a:pt x="61" y="182"/>
                  </a:lnTo>
                  <a:lnTo>
                    <a:pt x="177" y="213"/>
                  </a:lnTo>
                  <a:lnTo>
                    <a:pt x="269" y="209"/>
                  </a:lnTo>
                  <a:lnTo>
                    <a:pt x="296" y="159"/>
                  </a:lnTo>
                  <a:lnTo>
                    <a:pt x="278" y="115"/>
                  </a:lnTo>
                  <a:lnTo>
                    <a:pt x="239" y="52"/>
                  </a:lnTo>
                  <a:lnTo>
                    <a:pt x="168" y="8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"/>
          <p:cNvSpPr txBox="1"/>
          <p:nvPr/>
        </p:nvSpPr>
        <p:spPr>
          <a:xfrm>
            <a:off x="1066680" y="3733920"/>
            <a:ext cx="75438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 Direct materials cos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 Direct labor cost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 Manufacturing overhead cos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990720" y="45720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nufacturing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ventory Accou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990720" y="205740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scribe the flow of product-related activities, documents, and costs through the Materials Inventory, Work in Process Inventory, and Finished Goods Inventory accou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69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99072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roduct-Related Activ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914400" y="16002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flow of product-related activities relates 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-45720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Bringing materials into the organiz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14400" indent="-45720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nverting raw materials into a finished produ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14400" indent="-45720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ransferring completed products to finished goods stor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106668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ocument Flo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990720" y="12193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ocuments used to track the flow of activities and costs include the follow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ales order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urchase reque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eceiving repo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Vendor’s invo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hipping docu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990720" y="38088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 Flo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066680" y="1447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anufacturing cost flow begins as direct materials, labor, and overhead are accumulated in the Work in Process Inventory accou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hen goods are completed the costs are transferred to Finished Goods Invento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hen the goods are sold, the costs are transferred to Cost of Goods So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914400" y="304920"/>
            <a:ext cx="7924680" cy="11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Manufacturing Cost Flow: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An Examp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831960" y="1670040"/>
            <a:ext cx="3746520" cy="3898800"/>
            <a:chOff x="831960" y="1670040"/>
            <a:chExt cx="3746520" cy="3898800"/>
          </a:xfrm>
        </p:grpSpPr>
        <p:grpSp>
          <p:nvGrpSpPr>
            <p:cNvPr id="247" name=""/>
            <p:cNvGrpSpPr/>
            <p:nvPr/>
          </p:nvGrpSpPr>
          <p:grpSpPr>
            <a:xfrm>
              <a:off x="831960" y="1670040"/>
              <a:ext cx="3746520" cy="3898800"/>
              <a:chOff x="831960" y="1670040"/>
              <a:chExt cx="3746520" cy="3898800"/>
            </a:xfrm>
          </p:grpSpPr>
          <p:grpSp>
            <p:nvGrpSpPr>
              <p:cNvPr id="248" name=""/>
              <p:cNvGrpSpPr/>
              <p:nvPr/>
            </p:nvGrpSpPr>
            <p:grpSpPr>
              <a:xfrm>
                <a:off x="831960" y="1670040"/>
                <a:ext cx="3746520" cy="3898800"/>
                <a:chOff x="831960" y="1670040"/>
                <a:chExt cx="3746520" cy="389880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831960" y="1670040"/>
                  <a:ext cx="3746520" cy="3898800"/>
                </a:xfrm>
                <a:prstGeom prst="rect">
                  <a:avLst/>
                </a:prstGeom>
                <a:solidFill>
                  <a:srgbClr val="fcffd8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 txBox="1"/>
                <p:nvPr/>
              </p:nvSpPr>
              <p:spPr>
                <a:xfrm>
                  <a:off x="928800" y="1676520"/>
                  <a:ext cx="32878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20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Direct Materials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Inventory Account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849240" y="2436840"/>
                  <a:ext cx="3722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"/>
              <p:cNvSpPr txBox="1"/>
              <p:nvPr/>
            </p:nvSpPr>
            <p:spPr>
              <a:xfrm>
                <a:off x="898560" y="2587680"/>
                <a:ext cx="3662280" cy="2781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alance 1/1/00: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Used during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$10,000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00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otal direct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$25,00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terial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urchase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uring 2000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,00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alanc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/31/00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$  5,00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2666880" y="2448000"/>
              <a:ext cx="0" cy="3114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4114800" y="1670040"/>
            <a:ext cx="4768920" cy="4594320"/>
            <a:chOff x="4114800" y="1670040"/>
            <a:chExt cx="4768920" cy="4594320"/>
          </a:xfrm>
        </p:grpSpPr>
        <p:grpSp>
          <p:nvGrpSpPr>
            <p:cNvPr id="255" name=""/>
            <p:cNvGrpSpPr/>
            <p:nvPr/>
          </p:nvGrpSpPr>
          <p:grpSpPr>
            <a:xfrm>
              <a:off x="4114800" y="1670040"/>
              <a:ext cx="4768920" cy="4594320"/>
              <a:chOff x="4114800" y="1670040"/>
              <a:chExt cx="4768920" cy="4594320"/>
            </a:xfrm>
          </p:grpSpPr>
          <p:grpSp>
            <p:nvGrpSpPr>
              <p:cNvPr id="256" name=""/>
              <p:cNvGrpSpPr/>
              <p:nvPr/>
            </p:nvGrpSpPr>
            <p:grpSpPr>
              <a:xfrm>
                <a:off x="5099040" y="1670040"/>
                <a:ext cx="3784680" cy="4594320"/>
                <a:chOff x="5099040" y="1670040"/>
                <a:chExt cx="3784680" cy="4594320"/>
              </a:xfrm>
            </p:grpSpPr>
            <p:grpSp>
              <p:nvGrpSpPr>
                <p:cNvPr id="257" name=""/>
                <p:cNvGrpSpPr/>
                <p:nvPr/>
              </p:nvGrpSpPr>
              <p:grpSpPr>
                <a:xfrm>
                  <a:off x="5099040" y="1670040"/>
                  <a:ext cx="3746520" cy="4587840"/>
                  <a:chOff x="5099040" y="1670040"/>
                  <a:chExt cx="3746520" cy="4587840"/>
                </a:xfrm>
              </p:grpSpPr>
              <p:sp>
                <p:nvSpPr>
                  <p:cNvPr id="258" name=""/>
                  <p:cNvSpPr/>
                  <p:nvPr/>
                </p:nvSpPr>
                <p:spPr>
                  <a:xfrm>
                    <a:off x="5099040" y="1670040"/>
                    <a:ext cx="3746520" cy="4587840"/>
                  </a:xfrm>
                  <a:prstGeom prst="rect">
                    <a:avLst/>
                  </a:prstGeom>
                  <a:solidFill>
                    <a:srgbClr val="fcffd8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 txBox="1"/>
                  <p:nvPr/>
                </p:nvSpPr>
                <p:spPr>
                  <a:xfrm>
                    <a:off x="5195880" y="1676520"/>
                    <a:ext cx="3287880" cy="70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Work in Process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Inventory Account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5116680" y="2571840"/>
                    <a:ext cx="3722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"/>
                <p:cNvSpPr txBox="1"/>
                <p:nvPr/>
              </p:nvSpPr>
              <p:spPr>
                <a:xfrm>
                  <a:off x="5165640" y="2749680"/>
                  <a:ext cx="3718080" cy="351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Balance 1/1/00: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Completed 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$  2,000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uring 2000: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$30,000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Direct materials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used during 2000: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5,000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irect labor 2000: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 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2,000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anufacturing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verhead 2000: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   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,000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Balance 12/31/00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$ 15,000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4114800" y="3516480"/>
                <a:ext cx="2057400" cy="598320"/>
                <a:chOff x="4114800" y="3516480"/>
                <a:chExt cx="2057400" cy="59832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4114800" y="3516480"/>
                  <a:ext cx="0" cy="598320"/>
                </a:xfrm>
                <a:prstGeom prst="line">
                  <a:avLst/>
                </a:prstGeom>
                <a:ln w="25560">
                  <a:solidFill>
                    <a:srgbClr val="fc012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4125960" y="4114800"/>
                  <a:ext cx="2046240" cy="0"/>
                </a:xfrm>
                <a:prstGeom prst="line">
                  <a:avLst/>
                </a:prstGeom>
                <a:ln w="25560">
                  <a:solidFill>
                    <a:srgbClr val="fc0128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7010280" y="2602080"/>
              <a:ext cx="0" cy="364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990720" y="304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Manufacturing Cost Flow: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An Examp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831960" y="1670040"/>
            <a:ext cx="3746520" cy="3898800"/>
            <a:chOff x="831960" y="1670040"/>
            <a:chExt cx="3746520" cy="3898800"/>
          </a:xfrm>
        </p:grpSpPr>
        <p:grpSp>
          <p:nvGrpSpPr>
            <p:cNvPr id="268" name=""/>
            <p:cNvGrpSpPr/>
            <p:nvPr/>
          </p:nvGrpSpPr>
          <p:grpSpPr>
            <a:xfrm>
              <a:off x="831960" y="1670040"/>
              <a:ext cx="3746520" cy="3898800"/>
              <a:chOff x="831960" y="1670040"/>
              <a:chExt cx="3746520" cy="3898800"/>
            </a:xfrm>
          </p:grpSpPr>
          <p:grpSp>
            <p:nvGrpSpPr>
              <p:cNvPr id="269" name=""/>
              <p:cNvGrpSpPr/>
              <p:nvPr/>
            </p:nvGrpSpPr>
            <p:grpSpPr>
              <a:xfrm>
                <a:off x="831960" y="1670040"/>
                <a:ext cx="3746520" cy="3898800"/>
                <a:chOff x="831960" y="1670040"/>
                <a:chExt cx="3746520" cy="389880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831960" y="1670040"/>
                  <a:ext cx="3746520" cy="3898800"/>
                </a:xfrm>
                <a:prstGeom prst="rect">
                  <a:avLst/>
                </a:prstGeom>
                <a:solidFill>
                  <a:srgbClr val="fcffd8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 txBox="1"/>
                <p:nvPr/>
              </p:nvSpPr>
              <p:spPr>
                <a:xfrm>
                  <a:off x="928800" y="1676520"/>
                  <a:ext cx="32878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20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Factory Payroll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ccount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849240" y="2436840"/>
                  <a:ext cx="3722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3" name=""/>
              <p:cNvSpPr txBox="1"/>
              <p:nvPr/>
            </p:nvSpPr>
            <p:spPr>
              <a:xfrm>
                <a:off x="898560" y="2587680"/>
                <a:ext cx="3662280" cy="2781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irect labor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00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arned during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$12,00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00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$12,00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alanc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/31/00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$ 0 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2666880" y="2448000"/>
              <a:ext cx="0" cy="3114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4038480" y="1670040"/>
            <a:ext cx="4845240" cy="4594320"/>
            <a:chOff x="4038480" y="1670040"/>
            <a:chExt cx="4845240" cy="4594320"/>
          </a:xfrm>
        </p:grpSpPr>
        <p:sp>
          <p:nvSpPr>
            <p:cNvPr id="276" name=""/>
            <p:cNvSpPr/>
            <p:nvPr/>
          </p:nvSpPr>
          <p:spPr>
            <a:xfrm>
              <a:off x="4038480" y="3287880"/>
              <a:ext cx="0" cy="136044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4049640" y="1670040"/>
              <a:ext cx="4834080" cy="4594320"/>
              <a:chOff x="4049640" y="1670040"/>
              <a:chExt cx="4834080" cy="4594320"/>
            </a:xfrm>
          </p:grpSpPr>
          <p:grpSp>
            <p:nvGrpSpPr>
              <p:cNvPr id="278" name=""/>
              <p:cNvGrpSpPr/>
              <p:nvPr/>
            </p:nvGrpSpPr>
            <p:grpSpPr>
              <a:xfrm>
                <a:off x="5099040" y="1670040"/>
                <a:ext cx="3784680" cy="4594320"/>
                <a:chOff x="5099040" y="1670040"/>
                <a:chExt cx="3784680" cy="4594320"/>
              </a:xfrm>
            </p:grpSpPr>
            <p:grpSp>
              <p:nvGrpSpPr>
                <p:cNvPr id="279" name=""/>
                <p:cNvGrpSpPr/>
                <p:nvPr/>
              </p:nvGrpSpPr>
              <p:grpSpPr>
                <a:xfrm>
                  <a:off x="5099040" y="1670040"/>
                  <a:ext cx="3746520" cy="4587840"/>
                  <a:chOff x="5099040" y="1670040"/>
                  <a:chExt cx="3746520" cy="4587840"/>
                </a:xfrm>
              </p:grpSpPr>
              <p:sp>
                <p:nvSpPr>
                  <p:cNvPr id="280" name=""/>
                  <p:cNvSpPr/>
                  <p:nvPr/>
                </p:nvSpPr>
                <p:spPr>
                  <a:xfrm>
                    <a:off x="5099040" y="1670040"/>
                    <a:ext cx="3746520" cy="4587840"/>
                  </a:xfrm>
                  <a:prstGeom prst="rect">
                    <a:avLst/>
                  </a:prstGeom>
                  <a:solidFill>
                    <a:srgbClr val="fcffd8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"/>
                  <p:cNvSpPr txBox="1"/>
                  <p:nvPr/>
                </p:nvSpPr>
                <p:spPr>
                  <a:xfrm>
                    <a:off x="5195880" y="1676520"/>
                    <a:ext cx="3287880" cy="70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Work in Process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Inventory Account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5116680" y="2571840"/>
                    <a:ext cx="3722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3" name=""/>
                <p:cNvSpPr txBox="1"/>
                <p:nvPr/>
              </p:nvSpPr>
              <p:spPr>
                <a:xfrm>
                  <a:off x="5165640" y="2749680"/>
                  <a:ext cx="3718080" cy="351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Balance 1/1/00: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Completed 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$  2,000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uring 2000: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$30,000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irect materials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used during 2000: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5,000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Direct labor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2000: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 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2,000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anufacturing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verhead 2000: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   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,000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Balance 12/31/00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$ 15,000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4" name=""/>
              <p:cNvSpPr/>
              <p:nvPr/>
            </p:nvSpPr>
            <p:spPr>
              <a:xfrm>
                <a:off x="7010280" y="2602080"/>
                <a:ext cx="0" cy="364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049640" y="4648320"/>
                <a:ext cx="2046240" cy="0"/>
              </a:xfrm>
              <a:prstGeom prst="line">
                <a:avLst/>
              </a:prstGeom>
              <a:ln w="25560">
                <a:solidFill>
                  <a:srgbClr val="fc0128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99072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Manufacturing Cost Flow: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An Examp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831960" y="1670040"/>
            <a:ext cx="3746520" cy="3898800"/>
            <a:chOff x="831960" y="1670040"/>
            <a:chExt cx="3746520" cy="3898800"/>
          </a:xfrm>
        </p:grpSpPr>
        <p:grpSp>
          <p:nvGrpSpPr>
            <p:cNvPr id="288" name=""/>
            <p:cNvGrpSpPr/>
            <p:nvPr/>
          </p:nvGrpSpPr>
          <p:grpSpPr>
            <a:xfrm>
              <a:off x="831960" y="1670040"/>
              <a:ext cx="3746520" cy="3898800"/>
              <a:chOff x="831960" y="1670040"/>
              <a:chExt cx="3746520" cy="3898800"/>
            </a:xfrm>
          </p:grpSpPr>
          <p:grpSp>
            <p:nvGrpSpPr>
              <p:cNvPr id="289" name=""/>
              <p:cNvGrpSpPr/>
              <p:nvPr/>
            </p:nvGrpSpPr>
            <p:grpSpPr>
              <a:xfrm>
                <a:off x="831960" y="1670040"/>
                <a:ext cx="3746520" cy="3898800"/>
                <a:chOff x="831960" y="1670040"/>
                <a:chExt cx="3746520" cy="389880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831960" y="1670040"/>
                  <a:ext cx="3746520" cy="3898800"/>
                </a:xfrm>
                <a:prstGeom prst="rect">
                  <a:avLst/>
                </a:prstGeom>
                <a:solidFill>
                  <a:srgbClr val="fcffd8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 txBox="1"/>
                <p:nvPr/>
              </p:nvSpPr>
              <p:spPr>
                <a:xfrm>
                  <a:off x="928800" y="1676520"/>
                  <a:ext cx="32878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20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Manufacturing Overhead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Control Account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49240" y="2436840"/>
                  <a:ext cx="3722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"/>
              <p:cNvSpPr txBox="1"/>
              <p:nvPr/>
            </p:nvSpPr>
            <p:spPr>
              <a:xfrm>
                <a:off x="898560" y="2587680"/>
                <a:ext cx="3605040" cy="2781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otal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00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facturing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$ 6,00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verhea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curred during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00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$ 6,00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alanc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/31/00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$ 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2666880" y="2448000"/>
              <a:ext cx="0" cy="3114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4191120" y="1670040"/>
            <a:ext cx="4692600" cy="4594320"/>
            <a:chOff x="4191120" y="1670040"/>
            <a:chExt cx="4692600" cy="4594320"/>
          </a:xfrm>
        </p:grpSpPr>
        <p:grpSp>
          <p:nvGrpSpPr>
            <p:cNvPr id="296" name=""/>
            <p:cNvGrpSpPr/>
            <p:nvPr/>
          </p:nvGrpSpPr>
          <p:grpSpPr>
            <a:xfrm>
              <a:off x="5099040" y="1670040"/>
              <a:ext cx="3784680" cy="4594320"/>
              <a:chOff x="5099040" y="1670040"/>
              <a:chExt cx="3784680" cy="4594320"/>
            </a:xfrm>
          </p:grpSpPr>
          <p:grpSp>
            <p:nvGrpSpPr>
              <p:cNvPr id="297" name=""/>
              <p:cNvGrpSpPr/>
              <p:nvPr/>
            </p:nvGrpSpPr>
            <p:grpSpPr>
              <a:xfrm>
                <a:off x="5099040" y="1670040"/>
                <a:ext cx="3746520" cy="4587840"/>
                <a:chOff x="5099040" y="1670040"/>
                <a:chExt cx="3746520" cy="458784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5099040" y="1670040"/>
                  <a:ext cx="3746520" cy="4587840"/>
                </a:xfrm>
                <a:prstGeom prst="rect">
                  <a:avLst/>
                </a:prstGeom>
                <a:solidFill>
                  <a:srgbClr val="fcffd8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 txBox="1"/>
                <p:nvPr/>
              </p:nvSpPr>
              <p:spPr>
                <a:xfrm>
                  <a:off x="5195880" y="1676520"/>
                  <a:ext cx="32878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Work in Process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Inventory Account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5116680" y="2571840"/>
                  <a:ext cx="3722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"/>
              <p:cNvSpPr txBox="1"/>
              <p:nvPr/>
            </p:nvSpPr>
            <p:spPr>
              <a:xfrm>
                <a:off x="5165640" y="2749680"/>
                <a:ext cx="3718080" cy="351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alance 1/1/00: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mpleted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$  2,000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uring 2000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$30,00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irect materials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used during 2000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5,00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irect labor 2000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,00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Manufacturing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overhead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2000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,00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alance 12/31/0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$ 15,00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2" name=""/>
            <p:cNvSpPr/>
            <p:nvPr/>
          </p:nvSpPr>
          <p:spPr>
            <a:xfrm>
              <a:off x="7010280" y="2602080"/>
              <a:ext cx="0" cy="364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4191120" y="3211560"/>
              <a:ext cx="2057400" cy="2198520"/>
              <a:chOff x="4191120" y="3211560"/>
              <a:chExt cx="2057400" cy="2198520"/>
            </a:xfrm>
          </p:grpSpPr>
          <p:sp>
            <p:nvSpPr>
              <p:cNvPr id="304" name=""/>
              <p:cNvSpPr/>
              <p:nvPr/>
            </p:nvSpPr>
            <p:spPr>
              <a:xfrm>
                <a:off x="4191120" y="3211560"/>
                <a:ext cx="0" cy="2198520"/>
              </a:xfrm>
              <a:prstGeom prst="line">
                <a:avLst/>
              </a:prstGeom>
              <a:ln w="255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202280" y="5410080"/>
                <a:ext cx="2046240" cy="0"/>
              </a:xfrm>
              <a:prstGeom prst="line">
                <a:avLst/>
              </a:prstGeom>
              <a:ln w="25560">
                <a:solidFill>
                  <a:srgbClr val="fc0128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1066680" y="304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Manufacturing Cost Flow: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An Examp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907920" y="1746360"/>
            <a:ext cx="3785040" cy="4593960"/>
            <a:chOff x="907920" y="1746360"/>
            <a:chExt cx="3785040" cy="4593960"/>
          </a:xfrm>
        </p:grpSpPr>
        <p:grpSp>
          <p:nvGrpSpPr>
            <p:cNvPr id="308" name=""/>
            <p:cNvGrpSpPr/>
            <p:nvPr/>
          </p:nvGrpSpPr>
          <p:grpSpPr>
            <a:xfrm>
              <a:off x="907920" y="1746360"/>
              <a:ext cx="3746520" cy="4587840"/>
              <a:chOff x="907920" y="1746360"/>
              <a:chExt cx="3746520" cy="4587840"/>
            </a:xfrm>
          </p:grpSpPr>
          <p:sp>
            <p:nvSpPr>
              <p:cNvPr id="309" name=""/>
              <p:cNvSpPr/>
              <p:nvPr/>
            </p:nvSpPr>
            <p:spPr>
              <a:xfrm>
                <a:off x="907920" y="1746360"/>
                <a:ext cx="3746520" cy="4587840"/>
              </a:xfrm>
              <a:prstGeom prst="rect">
                <a:avLst/>
              </a:prstGeom>
              <a:solidFill>
                <a:srgbClr val="fcffd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 txBox="1"/>
              <p:nvPr/>
            </p:nvSpPr>
            <p:spPr>
              <a:xfrm>
                <a:off x="1004760" y="1752480"/>
                <a:ext cx="3287880" cy="701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ork in Process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ventory Accoun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925560" y="2647800"/>
                <a:ext cx="3722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2" name=""/>
            <p:cNvSpPr txBox="1"/>
            <p:nvPr/>
          </p:nvSpPr>
          <p:spPr>
            <a:xfrm>
              <a:off x="974880" y="2825640"/>
              <a:ext cx="3718080" cy="351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alance 1/1/00: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leted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2,000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uring 2000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$30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rect materials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d during 2000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rect labor 2000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ufacturin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verhead 2000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6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alance 12/31/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15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2819520" y="2678040"/>
            <a:ext cx="0" cy="3646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4114800" y="2050920"/>
            <a:ext cx="4768920" cy="3898800"/>
            <a:chOff x="4114800" y="2050920"/>
            <a:chExt cx="4768920" cy="3898800"/>
          </a:xfrm>
        </p:grpSpPr>
        <p:grpSp>
          <p:nvGrpSpPr>
            <p:cNvPr id="315" name=""/>
            <p:cNvGrpSpPr/>
            <p:nvPr/>
          </p:nvGrpSpPr>
          <p:grpSpPr>
            <a:xfrm>
              <a:off x="5099040" y="2050920"/>
              <a:ext cx="3784680" cy="3898800"/>
              <a:chOff x="5099040" y="2050920"/>
              <a:chExt cx="3784680" cy="3898800"/>
            </a:xfrm>
          </p:grpSpPr>
          <p:grpSp>
            <p:nvGrpSpPr>
              <p:cNvPr id="316" name=""/>
              <p:cNvGrpSpPr/>
              <p:nvPr/>
            </p:nvGrpSpPr>
            <p:grpSpPr>
              <a:xfrm>
                <a:off x="5099040" y="2050920"/>
                <a:ext cx="3784680" cy="3898800"/>
                <a:chOff x="5099040" y="2050920"/>
                <a:chExt cx="3784680" cy="3898800"/>
              </a:xfrm>
            </p:grpSpPr>
            <p:grpSp>
              <p:nvGrpSpPr>
                <p:cNvPr id="317" name=""/>
                <p:cNvGrpSpPr/>
                <p:nvPr/>
              </p:nvGrpSpPr>
              <p:grpSpPr>
                <a:xfrm>
                  <a:off x="5099040" y="2050920"/>
                  <a:ext cx="3746520" cy="3898800"/>
                  <a:chOff x="5099040" y="2050920"/>
                  <a:chExt cx="3746520" cy="3898800"/>
                </a:xfrm>
              </p:grpSpPr>
              <p:sp>
                <p:nvSpPr>
                  <p:cNvPr id="318" name=""/>
                  <p:cNvSpPr/>
                  <p:nvPr/>
                </p:nvSpPr>
                <p:spPr>
                  <a:xfrm>
                    <a:off x="5099040" y="2050920"/>
                    <a:ext cx="3746520" cy="3898800"/>
                  </a:xfrm>
                  <a:prstGeom prst="rect">
                    <a:avLst/>
                  </a:prstGeom>
                  <a:solidFill>
                    <a:srgbClr val="fcffd8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 txBox="1"/>
                  <p:nvPr/>
                </p:nvSpPr>
                <p:spPr>
                  <a:xfrm>
                    <a:off x="5195880" y="2057400"/>
                    <a:ext cx="3287880" cy="70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r>
                      <a:rPr b="1" lang="en-US" sz="2000" spc="-1" strike="noStrike">
                        <a:solidFill>
                          <a:srgbClr val="0000ff"/>
                        </a:solidFill>
                        <a:latin typeface="Arial"/>
                        <a:ea typeface="Arial"/>
                      </a:rPr>
                      <a:t>Finished Goods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Inventory Account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5116680" y="2817720"/>
                    <a:ext cx="3722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1" name=""/>
                <p:cNvSpPr txBox="1"/>
                <p:nvPr/>
              </p:nvSpPr>
              <p:spPr>
                <a:xfrm>
                  <a:off x="5165640" y="2968560"/>
                  <a:ext cx="3718080" cy="278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Balance 1/1/00: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old during 2000: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$ 6,000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$24,000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Completed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uring 2000: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0,000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Balance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2/31/00: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$12,000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2" name=""/>
              <p:cNvSpPr/>
              <p:nvPr/>
            </p:nvSpPr>
            <p:spPr>
              <a:xfrm>
                <a:off x="6934320" y="2828880"/>
                <a:ext cx="0" cy="311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4114800" y="3745080"/>
              <a:ext cx="2057400" cy="598320"/>
              <a:chOff x="4114800" y="3745080"/>
              <a:chExt cx="2057400" cy="598320"/>
            </a:xfrm>
          </p:grpSpPr>
          <p:sp>
            <p:nvSpPr>
              <p:cNvPr id="324" name=""/>
              <p:cNvSpPr/>
              <p:nvPr/>
            </p:nvSpPr>
            <p:spPr>
              <a:xfrm>
                <a:off x="4114800" y="3745080"/>
                <a:ext cx="0" cy="598320"/>
              </a:xfrm>
              <a:prstGeom prst="line">
                <a:avLst/>
              </a:prstGeom>
              <a:ln w="255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125960" y="4343400"/>
                <a:ext cx="2046240" cy="0"/>
              </a:xfrm>
              <a:prstGeom prst="line">
                <a:avLst/>
              </a:prstGeom>
              <a:ln w="25560">
                <a:solidFill>
                  <a:srgbClr val="fc0128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066680" y="121932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4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repare a statement of cost of goods manufactured and an income statement for a manufacturing organization.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5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st allocation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and explain the process of manufactured overhead allocation using cost objects, cost pools, and cost driv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6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lculate product unit cost using the traditional allocation of manufacturing overhead cos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400" y="2286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69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914400" y="38088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Manufacturing Cost Flow: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An Examp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831960" y="1974960"/>
            <a:ext cx="3784680" cy="3898800"/>
            <a:chOff x="831960" y="1974960"/>
            <a:chExt cx="3784680" cy="3898800"/>
          </a:xfrm>
        </p:grpSpPr>
        <p:grpSp>
          <p:nvGrpSpPr>
            <p:cNvPr id="328" name=""/>
            <p:cNvGrpSpPr/>
            <p:nvPr/>
          </p:nvGrpSpPr>
          <p:grpSpPr>
            <a:xfrm>
              <a:off x="831960" y="1974960"/>
              <a:ext cx="3784680" cy="3898800"/>
              <a:chOff x="831960" y="1974960"/>
              <a:chExt cx="3784680" cy="3898800"/>
            </a:xfrm>
          </p:grpSpPr>
          <p:grpSp>
            <p:nvGrpSpPr>
              <p:cNvPr id="329" name=""/>
              <p:cNvGrpSpPr/>
              <p:nvPr/>
            </p:nvGrpSpPr>
            <p:grpSpPr>
              <a:xfrm>
                <a:off x="831960" y="1974960"/>
                <a:ext cx="3746520" cy="3898800"/>
                <a:chOff x="831960" y="1974960"/>
                <a:chExt cx="3746520" cy="389880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831960" y="1974960"/>
                  <a:ext cx="3746520" cy="3898800"/>
                </a:xfrm>
                <a:prstGeom prst="rect">
                  <a:avLst/>
                </a:prstGeom>
                <a:solidFill>
                  <a:srgbClr val="fcffd8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 txBox="1"/>
                <p:nvPr/>
              </p:nvSpPr>
              <p:spPr>
                <a:xfrm>
                  <a:off x="928800" y="1981080"/>
                  <a:ext cx="32878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inished Goods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Inventory Account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849240" y="2741760"/>
                  <a:ext cx="3722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3" name=""/>
              <p:cNvSpPr txBox="1"/>
              <p:nvPr/>
            </p:nvSpPr>
            <p:spPr>
              <a:xfrm>
                <a:off x="898560" y="2892600"/>
                <a:ext cx="3718080" cy="2781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alance 1/1/00: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old during 2000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$ 6,000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$24,00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mplete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uring 2000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0,00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alanc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/31/00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$12,00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4" name=""/>
            <p:cNvSpPr/>
            <p:nvPr/>
          </p:nvSpPr>
          <p:spPr>
            <a:xfrm>
              <a:off x="2666880" y="2752560"/>
              <a:ext cx="0" cy="3114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4038480" y="1974960"/>
            <a:ext cx="4654800" cy="3898800"/>
            <a:chOff x="4038480" y="1974960"/>
            <a:chExt cx="4654800" cy="3898800"/>
          </a:xfrm>
        </p:grpSpPr>
        <p:grpSp>
          <p:nvGrpSpPr>
            <p:cNvPr id="336" name=""/>
            <p:cNvGrpSpPr/>
            <p:nvPr/>
          </p:nvGrpSpPr>
          <p:grpSpPr>
            <a:xfrm>
              <a:off x="4946760" y="1974960"/>
              <a:ext cx="3746520" cy="3898800"/>
              <a:chOff x="4946760" y="1974960"/>
              <a:chExt cx="3746520" cy="3898800"/>
            </a:xfrm>
          </p:grpSpPr>
          <p:grpSp>
            <p:nvGrpSpPr>
              <p:cNvPr id="337" name=""/>
              <p:cNvGrpSpPr/>
              <p:nvPr/>
            </p:nvGrpSpPr>
            <p:grpSpPr>
              <a:xfrm>
                <a:off x="4946760" y="1974960"/>
                <a:ext cx="3746520" cy="3898800"/>
                <a:chOff x="4946760" y="1974960"/>
                <a:chExt cx="3746520" cy="3898800"/>
              </a:xfrm>
            </p:grpSpPr>
            <p:grpSp>
              <p:nvGrpSpPr>
                <p:cNvPr id="338" name=""/>
                <p:cNvGrpSpPr/>
                <p:nvPr/>
              </p:nvGrpSpPr>
              <p:grpSpPr>
                <a:xfrm>
                  <a:off x="4946760" y="1974960"/>
                  <a:ext cx="3746520" cy="3898800"/>
                  <a:chOff x="4946760" y="1974960"/>
                  <a:chExt cx="3746520" cy="389880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4946760" y="1974960"/>
                    <a:ext cx="3746520" cy="3898800"/>
                  </a:xfrm>
                  <a:prstGeom prst="rect">
                    <a:avLst/>
                  </a:prstGeom>
                  <a:solidFill>
                    <a:srgbClr val="fcffd8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 txBox="1"/>
                  <p:nvPr/>
                </p:nvSpPr>
                <p:spPr>
                  <a:xfrm>
                    <a:off x="5043600" y="1981080"/>
                    <a:ext cx="3287880" cy="70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r>
                      <a:rPr b="1" lang="en-US" sz="2000" spc="-1" strike="noStrike">
                        <a:solidFill>
                          <a:srgbClr val="0000ff"/>
                        </a:solidFill>
                        <a:latin typeface="Arial"/>
                        <a:ea typeface="Arial"/>
                      </a:rPr>
                      <a:t>Cost of Good Sold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Account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4964040" y="2741760"/>
                    <a:ext cx="3722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2" name=""/>
                <p:cNvSpPr txBox="1"/>
                <p:nvPr/>
              </p:nvSpPr>
              <p:spPr>
                <a:xfrm>
                  <a:off x="5013360" y="2892600"/>
                  <a:ext cx="1833480" cy="10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old during 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000: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$24,000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	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3" name=""/>
              <p:cNvSpPr/>
              <p:nvPr/>
            </p:nvSpPr>
            <p:spPr>
              <a:xfrm>
                <a:off x="6781680" y="2752560"/>
                <a:ext cx="0" cy="311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4" name=""/>
            <p:cNvSpPr/>
            <p:nvPr/>
          </p:nvSpPr>
          <p:spPr>
            <a:xfrm>
              <a:off x="4038480" y="3440160"/>
              <a:ext cx="0" cy="14112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049640" y="3581280"/>
              <a:ext cx="1893960" cy="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990720" y="251460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are the three manufacturing inventory accou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219320" y="106668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6553080" y="228600"/>
            <a:ext cx="2208600" cy="2132280"/>
            <a:chOff x="6553080" y="228600"/>
            <a:chExt cx="2208600" cy="2132280"/>
          </a:xfrm>
        </p:grpSpPr>
        <p:sp>
          <p:nvSpPr>
            <p:cNvPr id="349" name=""/>
            <p:cNvSpPr/>
            <p:nvPr/>
          </p:nvSpPr>
          <p:spPr>
            <a:xfrm>
              <a:off x="6559560" y="1274760"/>
              <a:ext cx="536760" cy="744840"/>
            </a:xfrm>
            <a:custGeom>
              <a:avLst/>
              <a:gdLst/>
              <a:ahLst/>
              <a:rect l="0" t="0" r="r" b="b"/>
              <a:pathLst>
                <a:path w="1491" h="2069">
                  <a:moveTo>
                    <a:pt x="595" y="0"/>
                  </a:moveTo>
                  <a:lnTo>
                    <a:pt x="515" y="92"/>
                  </a:lnTo>
                  <a:lnTo>
                    <a:pt x="515" y="361"/>
                  </a:lnTo>
                  <a:lnTo>
                    <a:pt x="595" y="555"/>
                  </a:lnTo>
                  <a:lnTo>
                    <a:pt x="683" y="652"/>
                  </a:lnTo>
                  <a:lnTo>
                    <a:pt x="551" y="784"/>
                  </a:lnTo>
                  <a:lnTo>
                    <a:pt x="374" y="1085"/>
                  </a:lnTo>
                  <a:lnTo>
                    <a:pt x="30" y="1562"/>
                  </a:lnTo>
                  <a:lnTo>
                    <a:pt x="0" y="1676"/>
                  </a:lnTo>
                  <a:lnTo>
                    <a:pt x="30" y="1773"/>
                  </a:lnTo>
                  <a:lnTo>
                    <a:pt x="136" y="1773"/>
                  </a:lnTo>
                  <a:lnTo>
                    <a:pt x="224" y="1663"/>
                  </a:lnTo>
                  <a:lnTo>
                    <a:pt x="374" y="1394"/>
                  </a:lnTo>
                  <a:lnTo>
                    <a:pt x="463" y="1279"/>
                  </a:lnTo>
                  <a:lnTo>
                    <a:pt x="515" y="1456"/>
                  </a:lnTo>
                  <a:lnTo>
                    <a:pt x="480" y="1645"/>
                  </a:lnTo>
                  <a:lnTo>
                    <a:pt x="330" y="1919"/>
                  </a:lnTo>
                  <a:lnTo>
                    <a:pt x="374" y="1980"/>
                  </a:lnTo>
                  <a:lnTo>
                    <a:pt x="463" y="1963"/>
                  </a:lnTo>
                  <a:lnTo>
                    <a:pt x="648" y="1822"/>
                  </a:lnTo>
                  <a:lnTo>
                    <a:pt x="794" y="1579"/>
                  </a:lnTo>
                  <a:lnTo>
                    <a:pt x="794" y="1998"/>
                  </a:lnTo>
                  <a:lnTo>
                    <a:pt x="971" y="2069"/>
                  </a:lnTo>
                  <a:lnTo>
                    <a:pt x="1076" y="1808"/>
                  </a:lnTo>
                  <a:lnTo>
                    <a:pt x="1169" y="2051"/>
                  </a:lnTo>
                  <a:lnTo>
                    <a:pt x="1240" y="1980"/>
                  </a:lnTo>
                  <a:lnTo>
                    <a:pt x="1275" y="1504"/>
                  </a:lnTo>
                  <a:lnTo>
                    <a:pt x="1491" y="1050"/>
                  </a:lnTo>
                  <a:lnTo>
                    <a:pt x="1442" y="784"/>
                  </a:lnTo>
                  <a:lnTo>
                    <a:pt x="1288" y="687"/>
                  </a:lnTo>
                  <a:lnTo>
                    <a:pt x="1129" y="701"/>
                  </a:lnTo>
                  <a:lnTo>
                    <a:pt x="1076" y="489"/>
                  </a:lnTo>
                  <a:lnTo>
                    <a:pt x="913" y="440"/>
                  </a:lnTo>
                  <a:lnTo>
                    <a:pt x="768" y="374"/>
                  </a:lnTo>
                  <a:lnTo>
                    <a:pt x="683" y="44"/>
                  </a:lnTo>
                  <a:lnTo>
                    <a:pt x="595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008840" y="1577880"/>
              <a:ext cx="159120" cy="360720"/>
            </a:xfrm>
            <a:custGeom>
              <a:avLst/>
              <a:gdLst/>
              <a:ahLst/>
              <a:rect l="0" t="0" r="r" b="b"/>
              <a:pathLst>
                <a:path w="442" h="1002">
                  <a:moveTo>
                    <a:pt x="221" y="0"/>
                  </a:moveTo>
                  <a:lnTo>
                    <a:pt x="442" y="260"/>
                  </a:lnTo>
                  <a:lnTo>
                    <a:pt x="332" y="825"/>
                  </a:lnTo>
                  <a:lnTo>
                    <a:pt x="0" y="1002"/>
                  </a:lnTo>
                  <a:lnTo>
                    <a:pt x="0" y="719"/>
                  </a:lnTo>
                  <a:lnTo>
                    <a:pt x="133" y="423"/>
                  </a:lnTo>
                  <a:lnTo>
                    <a:pt x="221" y="211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035920" y="1370160"/>
              <a:ext cx="397080" cy="325800"/>
            </a:xfrm>
            <a:custGeom>
              <a:avLst/>
              <a:gdLst/>
              <a:ahLst/>
              <a:rect l="0" t="0" r="r" b="b"/>
              <a:pathLst>
                <a:path w="1103" h="905">
                  <a:moveTo>
                    <a:pt x="454" y="0"/>
                  </a:moveTo>
                  <a:lnTo>
                    <a:pt x="454" y="145"/>
                  </a:lnTo>
                  <a:lnTo>
                    <a:pt x="493" y="274"/>
                  </a:lnTo>
                  <a:lnTo>
                    <a:pt x="706" y="490"/>
                  </a:lnTo>
                  <a:lnTo>
                    <a:pt x="1103" y="613"/>
                  </a:lnTo>
                  <a:lnTo>
                    <a:pt x="1050" y="888"/>
                  </a:lnTo>
                  <a:lnTo>
                    <a:pt x="706" y="905"/>
                  </a:lnTo>
                  <a:lnTo>
                    <a:pt x="211" y="707"/>
                  </a:lnTo>
                  <a:lnTo>
                    <a:pt x="0" y="362"/>
                  </a:lnTo>
                  <a:lnTo>
                    <a:pt x="246" y="17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194680" y="1001880"/>
              <a:ext cx="552960" cy="717840"/>
            </a:xfrm>
            <a:custGeom>
              <a:avLst/>
              <a:gdLst/>
              <a:ahLst/>
              <a:rect l="0" t="0" r="r" b="b"/>
              <a:pathLst>
                <a:path w="1536" h="1994">
                  <a:moveTo>
                    <a:pt x="136" y="846"/>
                  </a:moveTo>
                  <a:lnTo>
                    <a:pt x="0" y="987"/>
                  </a:lnTo>
                  <a:lnTo>
                    <a:pt x="30" y="1315"/>
                  </a:lnTo>
                  <a:lnTo>
                    <a:pt x="242" y="1465"/>
                  </a:lnTo>
                  <a:lnTo>
                    <a:pt x="260" y="1958"/>
                  </a:lnTo>
                  <a:lnTo>
                    <a:pt x="477" y="1958"/>
                  </a:lnTo>
                  <a:lnTo>
                    <a:pt x="464" y="1539"/>
                  </a:lnTo>
                  <a:lnTo>
                    <a:pt x="622" y="1976"/>
                  </a:lnTo>
                  <a:lnTo>
                    <a:pt x="728" y="1994"/>
                  </a:lnTo>
                  <a:lnTo>
                    <a:pt x="807" y="1848"/>
                  </a:lnTo>
                  <a:lnTo>
                    <a:pt x="821" y="1575"/>
                  </a:lnTo>
                  <a:lnTo>
                    <a:pt x="1059" y="1831"/>
                  </a:lnTo>
                  <a:lnTo>
                    <a:pt x="1151" y="1808"/>
                  </a:lnTo>
                  <a:lnTo>
                    <a:pt x="1129" y="1632"/>
                  </a:lnTo>
                  <a:lnTo>
                    <a:pt x="1041" y="1381"/>
                  </a:lnTo>
                  <a:lnTo>
                    <a:pt x="949" y="1218"/>
                  </a:lnTo>
                  <a:lnTo>
                    <a:pt x="984" y="1103"/>
                  </a:lnTo>
                  <a:lnTo>
                    <a:pt x="1041" y="1121"/>
                  </a:lnTo>
                  <a:lnTo>
                    <a:pt x="1254" y="1381"/>
                  </a:lnTo>
                  <a:lnTo>
                    <a:pt x="1488" y="1447"/>
                  </a:lnTo>
                  <a:lnTo>
                    <a:pt x="1536" y="1363"/>
                  </a:lnTo>
                  <a:lnTo>
                    <a:pt x="1501" y="1231"/>
                  </a:lnTo>
                  <a:lnTo>
                    <a:pt x="1072" y="829"/>
                  </a:lnTo>
                  <a:lnTo>
                    <a:pt x="728" y="705"/>
                  </a:lnTo>
                  <a:lnTo>
                    <a:pt x="688" y="480"/>
                  </a:lnTo>
                  <a:lnTo>
                    <a:pt x="807" y="277"/>
                  </a:lnTo>
                  <a:lnTo>
                    <a:pt x="807" y="66"/>
                  </a:lnTo>
                  <a:lnTo>
                    <a:pt x="710" y="0"/>
                  </a:lnTo>
                  <a:lnTo>
                    <a:pt x="464" y="537"/>
                  </a:lnTo>
                  <a:lnTo>
                    <a:pt x="242" y="621"/>
                  </a:lnTo>
                  <a:lnTo>
                    <a:pt x="189" y="767"/>
                  </a:lnTo>
                  <a:lnTo>
                    <a:pt x="136" y="84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288200" y="379440"/>
              <a:ext cx="603720" cy="918000"/>
            </a:xfrm>
            <a:custGeom>
              <a:avLst/>
              <a:gdLst/>
              <a:ahLst/>
              <a:rect l="0" t="0" r="r" b="b"/>
              <a:pathLst>
                <a:path w="1677" h="2550">
                  <a:moveTo>
                    <a:pt x="418" y="352"/>
                  </a:moveTo>
                  <a:lnTo>
                    <a:pt x="295" y="843"/>
                  </a:lnTo>
                  <a:lnTo>
                    <a:pt x="17" y="940"/>
                  </a:lnTo>
                  <a:lnTo>
                    <a:pt x="92" y="1094"/>
                  </a:lnTo>
                  <a:lnTo>
                    <a:pt x="0" y="1191"/>
                  </a:lnTo>
                  <a:lnTo>
                    <a:pt x="0" y="1368"/>
                  </a:lnTo>
                  <a:lnTo>
                    <a:pt x="132" y="1531"/>
                  </a:lnTo>
                  <a:lnTo>
                    <a:pt x="260" y="1531"/>
                  </a:lnTo>
                  <a:lnTo>
                    <a:pt x="348" y="2096"/>
                  </a:lnTo>
                  <a:lnTo>
                    <a:pt x="455" y="2339"/>
                  </a:lnTo>
                  <a:lnTo>
                    <a:pt x="799" y="2550"/>
                  </a:lnTo>
                  <a:lnTo>
                    <a:pt x="1138" y="2519"/>
                  </a:lnTo>
                  <a:lnTo>
                    <a:pt x="1302" y="2096"/>
                  </a:lnTo>
                  <a:lnTo>
                    <a:pt x="1342" y="1451"/>
                  </a:lnTo>
                  <a:lnTo>
                    <a:pt x="1677" y="1129"/>
                  </a:lnTo>
                  <a:lnTo>
                    <a:pt x="1660" y="1002"/>
                  </a:lnTo>
                  <a:lnTo>
                    <a:pt x="1624" y="940"/>
                  </a:lnTo>
                  <a:lnTo>
                    <a:pt x="1448" y="927"/>
                  </a:lnTo>
                  <a:lnTo>
                    <a:pt x="1501" y="759"/>
                  </a:lnTo>
                  <a:lnTo>
                    <a:pt x="1324" y="644"/>
                  </a:lnTo>
                  <a:lnTo>
                    <a:pt x="1248" y="277"/>
                  </a:lnTo>
                  <a:lnTo>
                    <a:pt x="728" y="0"/>
                  </a:lnTo>
                  <a:lnTo>
                    <a:pt x="455" y="260"/>
                  </a:lnTo>
                  <a:lnTo>
                    <a:pt x="418" y="352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32840" y="1144440"/>
              <a:ext cx="552960" cy="1094040"/>
            </a:xfrm>
            <a:custGeom>
              <a:avLst/>
              <a:gdLst/>
              <a:ahLst/>
              <a:rect l="0" t="0" r="r" b="b"/>
              <a:pathLst>
                <a:path w="1536" h="3039">
                  <a:moveTo>
                    <a:pt x="313" y="158"/>
                  </a:moveTo>
                  <a:lnTo>
                    <a:pt x="534" y="304"/>
                  </a:lnTo>
                  <a:lnTo>
                    <a:pt x="640" y="467"/>
                  </a:lnTo>
                  <a:lnTo>
                    <a:pt x="1254" y="0"/>
                  </a:lnTo>
                  <a:lnTo>
                    <a:pt x="1448" y="97"/>
                  </a:lnTo>
                  <a:lnTo>
                    <a:pt x="1536" y="577"/>
                  </a:lnTo>
                  <a:lnTo>
                    <a:pt x="1090" y="1976"/>
                  </a:lnTo>
                  <a:lnTo>
                    <a:pt x="1236" y="2748"/>
                  </a:lnTo>
                  <a:lnTo>
                    <a:pt x="653" y="3039"/>
                  </a:lnTo>
                  <a:lnTo>
                    <a:pt x="207" y="2876"/>
                  </a:lnTo>
                  <a:lnTo>
                    <a:pt x="207" y="2055"/>
                  </a:lnTo>
                  <a:lnTo>
                    <a:pt x="0" y="1261"/>
                  </a:lnTo>
                  <a:lnTo>
                    <a:pt x="207" y="304"/>
                  </a:lnTo>
                  <a:lnTo>
                    <a:pt x="313" y="158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356600" y="258840"/>
              <a:ext cx="516240" cy="289440"/>
            </a:xfrm>
            <a:custGeom>
              <a:avLst/>
              <a:gdLst/>
              <a:ahLst/>
              <a:rect l="0" t="0" r="r" b="b"/>
              <a:pathLst>
                <a:path w="1434" h="804">
                  <a:moveTo>
                    <a:pt x="176" y="769"/>
                  </a:moveTo>
                  <a:lnTo>
                    <a:pt x="388" y="552"/>
                  </a:lnTo>
                  <a:lnTo>
                    <a:pt x="520" y="521"/>
                  </a:lnTo>
                  <a:lnTo>
                    <a:pt x="520" y="538"/>
                  </a:lnTo>
                  <a:lnTo>
                    <a:pt x="586" y="521"/>
                  </a:lnTo>
                  <a:lnTo>
                    <a:pt x="674" y="583"/>
                  </a:lnTo>
                  <a:lnTo>
                    <a:pt x="847" y="619"/>
                  </a:lnTo>
                  <a:lnTo>
                    <a:pt x="984" y="804"/>
                  </a:lnTo>
                  <a:lnTo>
                    <a:pt x="1209" y="720"/>
                  </a:lnTo>
                  <a:lnTo>
                    <a:pt x="1209" y="637"/>
                  </a:lnTo>
                  <a:lnTo>
                    <a:pt x="1434" y="538"/>
                  </a:lnTo>
                  <a:lnTo>
                    <a:pt x="1368" y="389"/>
                  </a:lnTo>
                  <a:lnTo>
                    <a:pt x="1151" y="375"/>
                  </a:lnTo>
                  <a:lnTo>
                    <a:pt x="1187" y="212"/>
                  </a:lnTo>
                  <a:lnTo>
                    <a:pt x="1006" y="230"/>
                  </a:lnTo>
                  <a:lnTo>
                    <a:pt x="971" y="114"/>
                  </a:lnTo>
                  <a:lnTo>
                    <a:pt x="847" y="114"/>
                  </a:lnTo>
                  <a:lnTo>
                    <a:pt x="759" y="176"/>
                  </a:lnTo>
                  <a:lnTo>
                    <a:pt x="674" y="176"/>
                  </a:lnTo>
                  <a:lnTo>
                    <a:pt x="692" y="0"/>
                  </a:lnTo>
                  <a:lnTo>
                    <a:pt x="520" y="83"/>
                  </a:lnTo>
                  <a:lnTo>
                    <a:pt x="282" y="375"/>
                  </a:lnTo>
                  <a:lnTo>
                    <a:pt x="268" y="176"/>
                  </a:lnTo>
                  <a:lnTo>
                    <a:pt x="141" y="274"/>
                  </a:lnTo>
                  <a:lnTo>
                    <a:pt x="110" y="521"/>
                  </a:lnTo>
                  <a:lnTo>
                    <a:pt x="0" y="477"/>
                  </a:lnTo>
                  <a:lnTo>
                    <a:pt x="17" y="637"/>
                  </a:lnTo>
                  <a:lnTo>
                    <a:pt x="176" y="76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496280" y="1347840"/>
              <a:ext cx="163800" cy="827280"/>
            </a:xfrm>
            <a:custGeom>
              <a:avLst/>
              <a:gdLst/>
              <a:ahLst/>
              <a:rect l="0" t="0" r="r" b="b"/>
              <a:pathLst>
                <a:path w="455" h="2298">
                  <a:moveTo>
                    <a:pt x="234" y="13"/>
                  </a:moveTo>
                  <a:lnTo>
                    <a:pt x="79" y="114"/>
                  </a:lnTo>
                  <a:lnTo>
                    <a:pt x="79" y="304"/>
                  </a:lnTo>
                  <a:lnTo>
                    <a:pt x="189" y="370"/>
                  </a:lnTo>
                  <a:lnTo>
                    <a:pt x="39" y="674"/>
                  </a:lnTo>
                  <a:lnTo>
                    <a:pt x="0" y="1075"/>
                  </a:lnTo>
                  <a:lnTo>
                    <a:pt x="114" y="1610"/>
                  </a:lnTo>
                  <a:lnTo>
                    <a:pt x="114" y="1831"/>
                  </a:lnTo>
                  <a:lnTo>
                    <a:pt x="52" y="2003"/>
                  </a:lnTo>
                  <a:lnTo>
                    <a:pt x="287" y="2298"/>
                  </a:lnTo>
                  <a:lnTo>
                    <a:pt x="437" y="1848"/>
                  </a:lnTo>
                  <a:lnTo>
                    <a:pt x="437" y="1544"/>
                  </a:lnTo>
                  <a:lnTo>
                    <a:pt x="327" y="1257"/>
                  </a:lnTo>
                  <a:lnTo>
                    <a:pt x="269" y="868"/>
                  </a:lnTo>
                  <a:lnTo>
                    <a:pt x="384" y="489"/>
                  </a:lnTo>
                  <a:lnTo>
                    <a:pt x="344" y="339"/>
                  </a:lnTo>
                  <a:lnTo>
                    <a:pt x="455" y="260"/>
                  </a:lnTo>
                  <a:lnTo>
                    <a:pt x="437" y="158"/>
                  </a:lnTo>
                  <a:lnTo>
                    <a:pt x="305" y="0"/>
                  </a:lnTo>
                  <a:lnTo>
                    <a:pt x="234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489800" y="1069920"/>
              <a:ext cx="133560" cy="74880"/>
            </a:xfrm>
            <a:custGeom>
              <a:avLst/>
              <a:gdLst/>
              <a:ahLst/>
              <a:rect l="0" t="0" r="r" b="b"/>
              <a:pathLst>
                <a:path w="371" h="208">
                  <a:moveTo>
                    <a:pt x="0" y="61"/>
                  </a:moveTo>
                  <a:lnTo>
                    <a:pt x="145" y="208"/>
                  </a:lnTo>
                  <a:lnTo>
                    <a:pt x="296" y="190"/>
                  </a:lnTo>
                  <a:lnTo>
                    <a:pt x="371" y="17"/>
                  </a:lnTo>
                  <a:lnTo>
                    <a:pt x="208" y="0"/>
                  </a:lnTo>
                  <a:lnTo>
                    <a:pt x="39" y="17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5440" y="687240"/>
              <a:ext cx="163800" cy="162360"/>
            </a:xfrm>
            <a:custGeom>
              <a:avLst/>
              <a:gdLst/>
              <a:ahLst/>
              <a:rect l="0" t="0" r="r" b="b"/>
              <a:pathLst>
                <a:path w="455" h="451">
                  <a:moveTo>
                    <a:pt x="0" y="48"/>
                  </a:moveTo>
                  <a:lnTo>
                    <a:pt x="314" y="451"/>
                  </a:lnTo>
                  <a:lnTo>
                    <a:pt x="455" y="420"/>
                  </a:lnTo>
                  <a:lnTo>
                    <a:pt x="123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634160" y="652320"/>
              <a:ext cx="143280" cy="162360"/>
            </a:xfrm>
            <a:custGeom>
              <a:avLst/>
              <a:gdLst/>
              <a:ahLst/>
              <a:rect l="0" t="0" r="r" b="b"/>
              <a:pathLst>
                <a:path w="398" h="451">
                  <a:moveTo>
                    <a:pt x="0" y="66"/>
                  </a:moveTo>
                  <a:lnTo>
                    <a:pt x="274" y="451"/>
                  </a:lnTo>
                  <a:lnTo>
                    <a:pt x="398" y="350"/>
                  </a:lnTo>
                  <a:lnTo>
                    <a:pt x="111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284960" y="444600"/>
              <a:ext cx="574920" cy="405000"/>
            </a:xfrm>
            <a:custGeom>
              <a:avLst/>
              <a:gdLst/>
              <a:ahLst/>
              <a:rect l="0" t="0" r="r" b="b"/>
              <a:pathLst>
                <a:path w="1597" h="1125">
                  <a:moveTo>
                    <a:pt x="732" y="666"/>
                  </a:moveTo>
                  <a:lnTo>
                    <a:pt x="586" y="627"/>
                  </a:lnTo>
                  <a:lnTo>
                    <a:pt x="714" y="524"/>
                  </a:lnTo>
                  <a:lnTo>
                    <a:pt x="665" y="471"/>
                  </a:lnTo>
                  <a:lnTo>
                    <a:pt x="502" y="605"/>
                  </a:lnTo>
                  <a:lnTo>
                    <a:pt x="202" y="636"/>
                  </a:lnTo>
                  <a:lnTo>
                    <a:pt x="0" y="644"/>
                  </a:lnTo>
                  <a:lnTo>
                    <a:pt x="0" y="799"/>
                  </a:lnTo>
                  <a:lnTo>
                    <a:pt x="194" y="1116"/>
                  </a:lnTo>
                  <a:lnTo>
                    <a:pt x="238" y="1125"/>
                  </a:lnTo>
                  <a:lnTo>
                    <a:pt x="66" y="777"/>
                  </a:lnTo>
                  <a:lnTo>
                    <a:pt x="330" y="666"/>
                  </a:lnTo>
                  <a:lnTo>
                    <a:pt x="502" y="666"/>
                  </a:lnTo>
                  <a:lnTo>
                    <a:pt x="630" y="737"/>
                  </a:lnTo>
                  <a:lnTo>
                    <a:pt x="665" y="834"/>
                  </a:lnTo>
                  <a:lnTo>
                    <a:pt x="665" y="1046"/>
                  </a:lnTo>
                  <a:lnTo>
                    <a:pt x="665" y="1116"/>
                  </a:lnTo>
                  <a:lnTo>
                    <a:pt x="740" y="1015"/>
                  </a:lnTo>
                  <a:lnTo>
                    <a:pt x="740" y="790"/>
                  </a:lnTo>
                  <a:lnTo>
                    <a:pt x="856" y="790"/>
                  </a:lnTo>
                  <a:lnTo>
                    <a:pt x="909" y="1046"/>
                  </a:lnTo>
                  <a:lnTo>
                    <a:pt x="971" y="1072"/>
                  </a:lnTo>
                  <a:lnTo>
                    <a:pt x="1165" y="1072"/>
                  </a:lnTo>
                  <a:lnTo>
                    <a:pt x="1363" y="1024"/>
                  </a:lnTo>
                  <a:lnTo>
                    <a:pt x="1500" y="927"/>
                  </a:lnTo>
                  <a:lnTo>
                    <a:pt x="1522" y="702"/>
                  </a:lnTo>
                  <a:lnTo>
                    <a:pt x="1597" y="605"/>
                  </a:lnTo>
                  <a:lnTo>
                    <a:pt x="1553" y="542"/>
                  </a:lnTo>
                  <a:lnTo>
                    <a:pt x="1376" y="480"/>
                  </a:lnTo>
                  <a:lnTo>
                    <a:pt x="1345" y="251"/>
                  </a:lnTo>
                  <a:lnTo>
                    <a:pt x="1178" y="251"/>
                  </a:lnTo>
                  <a:lnTo>
                    <a:pt x="979" y="0"/>
                  </a:lnTo>
                  <a:lnTo>
                    <a:pt x="1160" y="277"/>
                  </a:lnTo>
                  <a:lnTo>
                    <a:pt x="1222" y="277"/>
                  </a:lnTo>
                  <a:lnTo>
                    <a:pt x="1257" y="471"/>
                  </a:lnTo>
                  <a:lnTo>
                    <a:pt x="1032" y="542"/>
                  </a:lnTo>
                  <a:lnTo>
                    <a:pt x="869" y="489"/>
                  </a:lnTo>
                  <a:lnTo>
                    <a:pt x="843" y="542"/>
                  </a:lnTo>
                  <a:lnTo>
                    <a:pt x="931" y="605"/>
                  </a:lnTo>
                  <a:lnTo>
                    <a:pt x="931" y="658"/>
                  </a:lnTo>
                  <a:lnTo>
                    <a:pt x="1125" y="574"/>
                  </a:lnTo>
                  <a:lnTo>
                    <a:pt x="1284" y="555"/>
                  </a:lnTo>
                  <a:lnTo>
                    <a:pt x="1465" y="583"/>
                  </a:lnTo>
                  <a:lnTo>
                    <a:pt x="1465" y="613"/>
                  </a:lnTo>
                  <a:lnTo>
                    <a:pt x="1381" y="693"/>
                  </a:lnTo>
                  <a:lnTo>
                    <a:pt x="1345" y="790"/>
                  </a:lnTo>
                  <a:lnTo>
                    <a:pt x="1337" y="927"/>
                  </a:lnTo>
                  <a:lnTo>
                    <a:pt x="1231" y="984"/>
                  </a:lnTo>
                  <a:lnTo>
                    <a:pt x="1076" y="1002"/>
                  </a:lnTo>
                  <a:lnTo>
                    <a:pt x="971" y="1002"/>
                  </a:lnTo>
                  <a:lnTo>
                    <a:pt x="935" y="962"/>
                  </a:lnTo>
                  <a:lnTo>
                    <a:pt x="909" y="702"/>
                  </a:lnTo>
                  <a:lnTo>
                    <a:pt x="740" y="702"/>
                  </a:lnTo>
                  <a:lnTo>
                    <a:pt x="732" y="6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481880" y="911160"/>
              <a:ext cx="186120" cy="82800"/>
            </a:xfrm>
            <a:custGeom>
              <a:avLst/>
              <a:gdLst/>
              <a:ahLst/>
              <a:rect l="0" t="0" r="r" b="b"/>
              <a:pathLst>
                <a:path w="517" h="230">
                  <a:moveTo>
                    <a:pt x="0" y="0"/>
                  </a:moveTo>
                  <a:lnTo>
                    <a:pt x="83" y="105"/>
                  </a:lnTo>
                  <a:lnTo>
                    <a:pt x="305" y="105"/>
                  </a:lnTo>
                  <a:lnTo>
                    <a:pt x="398" y="30"/>
                  </a:lnTo>
                  <a:lnTo>
                    <a:pt x="517" y="30"/>
                  </a:lnTo>
                  <a:lnTo>
                    <a:pt x="495" y="70"/>
                  </a:lnTo>
                  <a:lnTo>
                    <a:pt x="495" y="105"/>
                  </a:lnTo>
                  <a:lnTo>
                    <a:pt x="287" y="230"/>
                  </a:lnTo>
                  <a:lnTo>
                    <a:pt x="172" y="230"/>
                  </a:lnTo>
                  <a:lnTo>
                    <a:pt x="110" y="186"/>
                  </a:lnTo>
                  <a:lnTo>
                    <a:pt x="44" y="1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275600" y="777960"/>
              <a:ext cx="281520" cy="437040"/>
            </a:xfrm>
            <a:custGeom>
              <a:avLst/>
              <a:gdLst/>
              <a:ahLst/>
              <a:rect l="0" t="0" r="r" b="b"/>
              <a:pathLst>
                <a:path w="782" h="1214">
                  <a:moveTo>
                    <a:pt x="782" y="88"/>
                  </a:moveTo>
                  <a:lnTo>
                    <a:pt x="782" y="105"/>
                  </a:lnTo>
                  <a:lnTo>
                    <a:pt x="645" y="229"/>
                  </a:lnTo>
                  <a:lnTo>
                    <a:pt x="530" y="251"/>
                  </a:lnTo>
                  <a:lnTo>
                    <a:pt x="309" y="220"/>
                  </a:lnTo>
                  <a:lnTo>
                    <a:pt x="353" y="653"/>
                  </a:lnTo>
                  <a:lnTo>
                    <a:pt x="402" y="1016"/>
                  </a:lnTo>
                  <a:lnTo>
                    <a:pt x="494" y="1214"/>
                  </a:lnTo>
                  <a:lnTo>
                    <a:pt x="402" y="1073"/>
                  </a:lnTo>
                  <a:lnTo>
                    <a:pt x="367" y="923"/>
                  </a:lnTo>
                  <a:lnTo>
                    <a:pt x="305" y="512"/>
                  </a:lnTo>
                  <a:lnTo>
                    <a:pt x="239" y="534"/>
                  </a:lnTo>
                  <a:lnTo>
                    <a:pt x="163" y="490"/>
                  </a:lnTo>
                  <a:lnTo>
                    <a:pt x="17" y="273"/>
                  </a:lnTo>
                  <a:lnTo>
                    <a:pt x="0" y="154"/>
                  </a:lnTo>
                  <a:lnTo>
                    <a:pt x="0" y="74"/>
                  </a:lnTo>
                  <a:lnTo>
                    <a:pt x="35" y="22"/>
                  </a:lnTo>
                  <a:lnTo>
                    <a:pt x="123" y="0"/>
                  </a:lnTo>
                  <a:lnTo>
                    <a:pt x="132" y="30"/>
                  </a:lnTo>
                  <a:lnTo>
                    <a:pt x="61" y="52"/>
                  </a:lnTo>
                  <a:lnTo>
                    <a:pt x="44" y="145"/>
                  </a:lnTo>
                  <a:lnTo>
                    <a:pt x="52" y="260"/>
                  </a:lnTo>
                  <a:lnTo>
                    <a:pt x="154" y="362"/>
                  </a:lnTo>
                  <a:lnTo>
                    <a:pt x="203" y="340"/>
                  </a:lnTo>
                  <a:lnTo>
                    <a:pt x="203" y="119"/>
                  </a:lnTo>
                  <a:lnTo>
                    <a:pt x="296" y="163"/>
                  </a:lnTo>
                  <a:lnTo>
                    <a:pt x="437" y="198"/>
                  </a:lnTo>
                  <a:lnTo>
                    <a:pt x="569" y="189"/>
                  </a:lnTo>
                  <a:lnTo>
                    <a:pt x="694" y="119"/>
                  </a:lnTo>
                  <a:lnTo>
                    <a:pt x="782" y="8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350120" y="431640"/>
              <a:ext cx="86040" cy="233640"/>
            </a:xfrm>
            <a:custGeom>
              <a:avLst/>
              <a:gdLst/>
              <a:ahLst/>
              <a:rect l="0" t="0" r="r" b="b"/>
              <a:pathLst>
                <a:path w="239" h="649">
                  <a:moveTo>
                    <a:pt x="124" y="649"/>
                  </a:moveTo>
                  <a:lnTo>
                    <a:pt x="239" y="264"/>
                  </a:lnTo>
                  <a:lnTo>
                    <a:pt x="30" y="127"/>
                  </a:lnTo>
                  <a:lnTo>
                    <a:pt x="0" y="0"/>
                  </a:lnTo>
                  <a:lnTo>
                    <a:pt x="17" y="154"/>
                  </a:lnTo>
                  <a:lnTo>
                    <a:pt x="83" y="220"/>
                  </a:lnTo>
                  <a:lnTo>
                    <a:pt x="92" y="415"/>
                  </a:lnTo>
                  <a:lnTo>
                    <a:pt x="146" y="494"/>
                  </a:lnTo>
                  <a:lnTo>
                    <a:pt x="124" y="64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346880" y="228600"/>
              <a:ext cx="632160" cy="306720"/>
            </a:xfrm>
            <a:custGeom>
              <a:avLst/>
              <a:gdLst/>
              <a:ahLst/>
              <a:rect l="0" t="0" r="r" b="b"/>
              <a:pathLst>
                <a:path w="1756" h="852">
                  <a:moveTo>
                    <a:pt x="17" y="578"/>
                  </a:moveTo>
                  <a:lnTo>
                    <a:pt x="167" y="662"/>
                  </a:lnTo>
                  <a:lnTo>
                    <a:pt x="149" y="556"/>
                  </a:lnTo>
                  <a:lnTo>
                    <a:pt x="180" y="361"/>
                  </a:lnTo>
                  <a:lnTo>
                    <a:pt x="282" y="321"/>
                  </a:lnTo>
                  <a:lnTo>
                    <a:pt x="295" y="525"/>
                  </a:lnTo>
                  <a:lnTo>
                    <a:pt x="586" y="163"/>
                  </a:lnTo>
                  <a:lnTo>
                    <a:pt x="661" y="141"/>
                  </a:lnTo>
                  <a:lnTo>
                    <a:pt x="604" y="282"/>
                  </a:lnTo>
                  <a:lnTo>
                    <a:pt x="789" y="352"/>
                  </a:lnTo>
                  <a:lnTo>
                    <a:pt x="922" y="211"/>
                  </a:lnTo>
                  <a:lnTo>
                    <a:pt x="997" y="251"/>
                  </a:lnTo>
                  <a:lnTo>
                    <a:pt x="931" y="374"/>
                  </a:lnTo>
                  <a:lnTo>
                    <a:pt x="1019" y="308"/>
                  </a:lnTo>
                  <a:lnTo>
                    <a:pt x="1151" y="361"/>
                  </a:lnTo>
                  <a:lnTo>
                    <a:pt x="1046" y="464"/>
                  </a:lnTo>
                  <a:lnTo>
                    <a:pt x="1407" y="525"/>
                  </a:lnTo>
                  <a:lnTo>
                    <a:pt x="1165" y="600"/>
                  </a:lnTo>
                  <a:lnTo>
                    <a:pt x="1465" y="640"/>
                  </a:lnTo>
                  <a:lnTo>
                    <a:pt x="1107" y="724"/>
                  </a:lnTo>
                  <a:lnTo>
                    <a:pt x="1187" y="785"/>
                  </a:lnTo>
                  <a:lnTo>
                    <a:pt x="1081" y="852"/>
                  </a:lnTo>
                  <a:lnTo>
                    <a:pt x="1266" y="852"/>
                  </a:lnTo>
                  <a:lnTo>
                    <a:pt x="1248" y="803"/>
                  </a:lnTo>
                  <a:lnTo>
                    <a:pt x="1438" y="847"/>
                  </a:lnTo>
                  <a:lnTo>
                    <a:pt x="1407" y="710"/>
                  </a:lnTo>
                  <a:lnTo>
                    <a:pt x="1584" y="649"/>
                  </a:lnTo>
                  <a:lnTo>
                    <a:pt x="1456" y="587"/>
                  </a:lnTo>
                  <a:lnTo>
                    <a:pt x="1756" y="569"/>
                  </a:lnTo>
                  <a:lnTo>
                    <a:pt x="1500" y="433"/>
                  </a:lnTo>
                  <a:lnTo>
                    <a:pt x="1204" y="396"/>
                  </a:lnTo>
                  <a:lnTo>
                    <a:pt x="1438" y="260"/>
                  </a:lnTo>
                  <a:lnTo>
                    <a:pt x="1019" y="260"/>
                  </a:lnTo>
                  <a:lnTo>
                    <a:pt x="1218" y="127"/>
                  </a:lnTo>
                  <a:lnTo>
                    <a:pt x="918" y="163"/>
                  </a:lnTo>
                  <a:lnTo>
                    <a:pt x="771" y="229"/>
                  </a:lnTo>
                  <a:lnTo>
                    <a:pt x="896" y="0"/>
                  </a:lnTo>
                  <a:lnTo>
                    <a:pt x="529" y="127"/>
                  </a:lnTo>
                  <a:lnTo>
                    <a:pt x="326" y="405"/>
                  </a:lnTo>
                  <a:lnTo>
                    <a:pt x="295" y="251"/>
                  </a:lnTo>
                  <a:lnTo>
                    <a:pt x="132" y="361"/>
                  </a:lnTo>
                  <a:lnTo>
                    <a:pt x="110" y="569"/>
                  </a:lnTo>
                  <a:lnTo>
                    <a:pt x="0" y="525"/>
                  </a:lnTo>
                  <a:lnTo>
                    <a:pt x="39" y="710"/>
                  </a:lnTo>
                  <a:lnTo>
                    <a:pt x="17" y="57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485120" y="392040"/>
              <a:ext cx="178200" cy="92520"/>
            </a:xfrm>
            <a:custGeom>
              <a:avLst/>
              <a:gdLst/>
              <a:ahLst/>
              <a:rect l="0" t="0" r="r" b="b"/>
              <a:pathLst>
                <a:path w="495" h="257">
                  <a:moveTo>
                    <a:pt x="0" y="257"/>
                  </a:moveTo>
                  <a:lnTo>
                    <a:pt x="186" y="0"/>
                  </a:lnTo>
                  <a:lnTo>
                    <a:pt x="186" y="168"/>
                  </a:lnTo>
                  <a:lnTo>
                    <a:pt x="252" y="102"/>
                  </a:lnTo>
                  <a:lnTo>
                    <a:pt x="309" y="200"/>
                  </a:lnTo>
                  <a:lnTo>
                    <a:pt x="495" y="244"/>
                  </a:lnTo>
                  <a:lnTo>
                    <a:pt x="296" y="213"/>
                  </a:lnTo>
                  <a:lnTo>
                    <a:pt x="239" y="146"/>
                  </a:lnTo>
                  <a:lnTo>
                    <a:pt x="155" y="213"/>
                  </a:lnTo>
                  <a:lnTo>
                    <a:pt x="155" y="133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469280" y="1017720"/>
              <a:ext cx="214560" cy="136800"/>
            </a:xfrm>
            <a:custGeom>
              <a:avLst/>
              <a:gdLst/>
              <a:ahLst/>
              <a:rect l="0" t="0" r="r" b="b"/>
              <a:pathLst>
                <a:path w="596" h="380">
                  <a:moveTo>
                    <a:pt x="114" y="132"/>
                  </a:moveTo>
                  <a:lnTo>
                    <a:pt x="358" y="114"/>
                  </a:lnTo>
                  <a:lnTo>
                    <a:pt x="472" y="141"/>
                  </a:lnTo>
                  <a:lnTo>
                    <a:pt x="534" y="88"/>
                  </a:lnTo>
                  <a:lnTo>
                    <a:pt x="596" y="212"/>
                  </a:lnTo>
                  <a:lnTo>
                    <a:pt x="556" y="234"/>
                  </a:lnTo>
                  <a:lnTo>
                    <a:pt x="503" y="185"/>
                  </a:lnTo>
                  <a:lnTo>
                    <a:pt x="424" y="274"/>
                  </a:lnTo>
                  <a:lnTo>
                    <a:pt x="277" y="380"/>
                  </a:lnTo>
                  <a:lnTo>
                    <a:pt x="211" y="380"/>
                  </a:lnTo>
                  <a:lnTo>
                    <a:pt x="114" y="327"/>
                  </a:lnTo>
                  <a:lnTo>
                    <a:pt x="220" y="371"/>
                  </a:lnTo>
                  <a:lnTo>
                    <a:pt x="264" y="371"/>
                  </a:lnTo>
                  <a:lnTo>
                    <a:pt x="358" y="300"/>
                  </a:lnTo>
                  <a:lnTo>
                    <a:pt x="419" y="171"/>
                  </a:lnTo>
                  <a:lnTo>
                    <a:pt x="322" y="154"/>
                  </a:lnTo>
                  <a:lnTo>
                    <a:pt x="260" y="141"/>
                  </a:lnTo>
                  <a:lnTo>
                    <a:pt x="101" y="163"/>
                  </a:lnTo>
                  <a:lnTo>
                    <a:pt x="97" y="265"/>
                  </a:lnTo>
                  <a:lnTo>
                    <a:pt x="44" y="203"/>
                  </a:lnTo>
                  <a:lnTo>
                    <a:pt x="0" y="287"/>
                  </a:lnTo>
                  <a:lnTo>
                    <a:pt x="4" y="101"/>
                  </a:lnTo>
                  <a:lnTo>
                    <a:pt x="61" y="0"/>
                  </a:lnTo>
                  <a:lnTo>
                    <a:pt x="114" y="101"/>
                  </a:lnTo>
                  <a:lnTo>
                    <a:pt x="114" y="13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40480" y="720720"/>
              <a:ext cx="460800" cy="633600"/>
            </a:xfrm>
            <a:custGeom>
              <a:avLst/>
              <a:gdLst/>
              <a:ahLst/>
              <a:rect l="0" t="0" r="r" b="b"/>
              <a:pathLst>
                <a:path w="1280" h="1760">
                  <a:moveTo>
                    <a:pt x="1077" y="0"/>
                  </a:moveTo>
                  <a:lnTo>
                    <a:pt x="1205" y="0"/>
                  </a:lnTo>
                  <a:lnTo>
                    <a:pt x="1280" y="88"/>
                  </a:lnTo>
                  <a:lnTo>
                    <a:pt x="1280" y="180"/>
                  </a:lnTo>
                  <a:lnTo>
                    <a:pt x="1174" y="458"/>
                  </a:lnTo>
                  <a:lnTo>
                    <a:pt x="1069" y="590"/>
                  </a:lnTo>
                  <a:lnTo>
                    <a:pt x="963" y="608"/>
                  </a:lnTo>
                  <a:lnTo>
                    <a:pt x="931" y="608"/>
                  </a:lnTo>
                  <a:lnTo>
                    <a:pt x="931" y="957"/>
                  </a:lnTo>
                  <a:lnTo>
                    <a:pt x="980" y="1209"/>
                  </a:lnTo>
                  <a:lnTo>
                    <a:pt x="980" y="1412"/>
                  </a:lnTo>
                  <a:lnTo>
                    <a:pt x="785" y="1619"/>
                  </a:lnTo>
                  <a:lnTo>
                    <a:pt x="521" y="1760"/>
                  </a:lnTo>
                  <a:lnTo>
                    <a:pt x="353" y="1760"/>
                  </a:lnTo>
                  <a:lnTo>
                    <a:pt x="268" y="1720"/>
                  </a:lnTo>
                  <a:lnTo>
                    <a:pt x="149" y="1478"/>
                  </a:lnTo>
                  <a:lnTo>
                    <a:pt x="44" y="1390"/>
                  </a:lnTo>
                  <a:lnTo>
                    <a:pt x="0" y="1328"/>
                  </a:lnTo>
                  <a:lnTo>
                    <a:pt x="141" y="1412"/>
                  </a:lnTo>
                  <a:lnTo>
                    <a:pt x="246" y="1500"/>
                  </a:lnTo>
                  <a:lnTo>
                    <a:pt x="450" y="1513"/>
                  </a:lnTo>
                  <a:lnTo>
                    <a:pt x="636" y="1425"/>
                  </a:lnTo>
                  <a:lnTo>
                    <a:pt x="733" y="1328"/>
                  </a:lnTo>
                  <a:lnTo>
                    <a:pt x="838" y="1147"/>
                  </a:lnTo>
                  <a:lnTo>
                    <a:pt x="856" y="935"/>
                  </a:lnTo>
                  <a:lnTo>
                    <a:pt x="891" y="260"/>
                  </a:lnTo>
                  <a:lnTo>
                    <a:pt x="940" y="357"/>
                  </a:lnTo>
                  <a:lnTo>
                    <a:pt x="1064" y="233"/>
                  </a:lnTo>
                  <a:lnTo>
                    <a:pt x="1197" y="180"/>
                  </a:lnTo>
                  <a:lnTo>
                    <a:pt x="1232" y="110"/>
                  </a:lnTo>
                  <a:lnTo>
                    <a:pt x="1214" y="39"/>
                  </a:lnTo>
                  <a:lnTo>
                    <a:pt x="1157" y="8"/>
                  </a:lnTo>
                  <a:lnTo>
                    <a:pt x="107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729480" y="1266840"/>
              <a:ext cx="370080" cy="586080"/>
            </a:xfrm>
            <a:custGeom>
              <a:avLst/>
              <a:gdLst/>
              <a:ahLst/>
              <a:rect l="0" t="0" r="r" b="b"/>
              <a:pathLst>
                <a:path w="1028" h="1628">
                  <a:moveTo>
                    <a:pt x="127" y="0"/>
                  </a:moveTo>
                  <a:lnTo>
                    <a:pt x="246" y="74"/>
                  </a:lnTo>
                  <a:lnTo>
                    <a:pt x="335" y="405"/>
                  </a:lnTo>
                  <a:lnTo>
                    <a:pt x="600" y="480"/>
                  </a:lnTo>
                  <a:lnTo>
                    <a:pt x="675" y="568"/>
                  </a:lnTo>
                  <a:lnTo>
                    <a:pt x="688" y="687"/>
                  </a:lnTo>
                  <a:lnTo>
                    <a:pt x="816" y="670"/>
                  </a:lnTo>
                  <a:lnTo>
                    <a:pt x="979" y="776"/>
                  </a:lnTo>
                  <a:lnTo>
                    <a:pt x="1028" y="909"/>
                  </a:lnTo>
                  <a:lnTo>
                    <a:pt x="1028" y="1138"/>
                  </a:lnTo>
                  <a:lnTo>
                    <a:pt x="816" y="1487"/>
                  </a:lnTo>
                  <a:lnTo>
                    <a:pt x="746" y="1628"/>
                  </a:lnTo>
                  <a:lnTo>
                    <a:pt x="785" y="1438"/>
                  </a:lnTo>
                  <a:lnTo>
                    <a:pt x="746" y="1368"/>
                  </a:lnTo>
                  <a:lnTo>
                    <a:pt x="622" y="1248"/>
                  </a:lnTo>
                  <a:lnTo>
                    <a:pt x="418" y="1107"/>
                  </a:lnTo>
                  <a:lnTo>
                    <a:pt x="662" y="1187"/>
                  </a:lnTo>
                  <a:lnTo>
                    <a:pt x="807" y="1293"/>
                  </a:lnTo>
                  <a:lnTo>
                    <a:pt x="878" y="1279"/>
                  </a:lnTo>
                  <a:lnTo>
                    <a:pt x="922" y="1222"/>
                  </a:lnTo>
                  <a:lnTo>
                    <a:pt x="979" y="1054"/>
                  </a:lnTo>
                  <a:lnTo>
                    <a:pt x="962" y="896"/>
                  </a:lnTo>
                  <a:lnTo>
                    <a:pt x="887" y="802"/>
                  </a:lnTo>
                  <a:lnTo>
                    <a:pt x="759" y="776"/>
                  </a:lnTo>
                  <a:lnTo>
                    <a:pt x="622" y="776"/>
                  </a:lnTo>
                  <a:lnTo>
                    <a:pt x="574" y="533"/>
                  </a:lnTo>
                  <a:lnTo>
                    <a:pt x="348" y="454"/>
                  </a:lnTo>
                  <a:lnTo>
                    <a:pt x="348" y="520"/>
                  </a:lnTo>
                  <a:lnTo>
                    <a:pt x="246" y="348"/>
                  </a:lnTo>
                  <a:lnTo>
                    <a:pt x="189" y="74"/>
                  </a:lnTo>
                  <a:lnTo>
                    <a:pt x="101" y="44"/>
                  </a:lnTo>
                  <a:lnTo>
                    <a:pt x="48" y="127"/>
                  </a:lnTo>
                  <a:lnTo>
                    <a:pt x="48" y="317"/>
                  </a:lnTo>
                  <a:lnTo>
                    <a:pt x="92" y="520"/>
                  </a:lnTo>
                  <a:lnTo>
                    <a:pt x="216" y="687"/>
                  </a:lnTo>
                  <a:lnTo>
                    <a:pt x="79" y="586"/>
                  </a:lnTo>
                  <a:lnTo>
                    <a:pt x="13" y="405"/>
                  </a:lnTo>
                  <a:lnTo>
                    <a:pt x="0" y="171"/>
                  </a:lnTo>
                  <a:lnTo>
                    <a:pt x="48" y="44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553080" y="1525680"/>
              <a:ext cx="244800" cy="468720"/>
            </a:xfrm>
            <a:custGeom>
              <a:avLst/>
              <a:gdLst/>
              <a:ahLst/>
              <a:rect l="0" t="0" r="r" b="b"/>
              <a:pathLst>
                <a:path w="680" h="1302">
                  <a:moveTo>
                    <a:pt x="680" y="0"/>
                  </a:moveTo>
                  <a:lnTo>
                    <a:pt x="538" y="88"/>
                  </a:lnTo>
                  <a:lnTo>
                    <a:pt x="375" y="402"/>
                  </a:lnTo>
                  <a:lnTo>
                    <a:pt x="211" y="609"/>
                  </a:lnTo>
                  <a:lnTo>
                    <a:pt x="17" y="856"/>
                  </a:lnTo>
                  <a:lnTo>
                    <a:pt x="0" y="985"/>
                  </a:lnTo>
                  <a:lnTo>
                    <a:pt x="39" y="1095"/>
                  </a:lnTo>
                  <a:lnTo>
                    <a:pt x="132" y="1095"/>
                  </a:lnTo>
                  <a:lnTo>
                    <a:pt x="260" y="985"/>
                  </a:lnTo>
                  <a:lnTo>
                    <a:pt x="362" y="750"/>
                  </a:lnTo>
                  <a:lnTo>
                    <a:pt x="499" y="609"/>
                  </a:lnTo>
                  <a:lnTo>
                    <a:pt x="499" y="794"/>
                  </a:lnTo>
                  <a:lnTo>
                    <a:pt x="477" y="966"/>
                  </a:lnTo>
                  <a:lnTo>
                    <a:pt x="330" y="1197"/>
                  </a:lnTo>
                  <a:lnTo>
                    <a:pt x="330" y="1272"/>
                  </a:lnTo>
                  <a:lnTo>
                    <a:pt x="477" y="1302"/>
                  </a:lnTo>
                  <a:lnTo>
                    <a:pt x="375" y="1236"/>
                  </a:lnTo>
                  <a:lnTo>
                    <a:pt x="389" y="1197"/>
                  </a:lnTo>
                  <a:lnTo>
                    <a:pt x="490" y="1029"/>
                  </a:lnTo>
                  <a:lnTo>
                    <a:pt x="561" y="724"/>
                  </a:lnTo>
                  <a:lnTo>
                    <a:pt x="512" y="547"/>
                  </a:lnTo>
                  <a:lnTo>
                    <a:pt x="402" y="649"/>
                  </a:lnTo>
                  <a:lnTo>
                    <a:pt x="158" y="1038"/>
                  </a:lnTo>
                  <a:lnTo>
                    <a:pt x="97" y="1051"/>
                  </a:lnTo>
                  <a:lnTo>
                    <a:pt x="39" y="1011"/>
                  </a:lnTo>
                  <a:lnTo>
                    <a:pt x="39" y="891"/>
                  </a:lnTo>
                  <a:lnTo>
                    <a:pt x="132" y="737"/>
                  </a:lnTo>
                  <a:lnTo>
                    <a:pt x="402" y="419"/>
                  </a:lnTo>
                  <a:lnTo>
                    <a:pt x="561" y="119"/>
                  </a:lnTo>
                  <a:lnTo>
                    <a:pt x="68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734160" y="1789200"/>
              <a:ext cx="151200" cy="225720"/>
            </a:xfrm>
            <a:custGeom>
              <a:avLst/>
              <a:gdLst/>
              <a:ahLst/>
              <a:rect l="0" t="0" r="r" b="b"/>
              <a:pathLst>
                <a:path w="420" h="627">
                  <a:moveTo>
                    <a:pt x="0" y="552"/>
                  </a:moveTo>
                  <a:lnTo>
                    <a:pt x="137" y="393"/>
                  </a:lnTo>
                  <a:lnTo>
                    <a:pt x="164" y="233"/>
                  </a:lnTo>
                  <a:lnTo>
                    <a:pt x="323" y="0"/>
                  </a:lnTo>
                  <a:lnTo>
                    <a:pt x="359" y="154"/>
                  </a:lnTo>
                  <a:lnTo>
                    <a:pt x="337" y="565"/>
                  </a:lnTo>
                  <a:lnTo>
                    <a:pt x="420" y="627"/>
                  </a:lnTo>
                  <a:lnTo>
                    <a:pt x="296" y="583"/>
                  </a:lnTo>
                  <a:lnTo>
                    <a:pt x="234" y="349"/>
                  </a:lnTo>
                  <a:lnTo>
                    <a:pt x="137" y="464"/>
                  </a:lnTo>
                  <a:lnTo>
                    <a:pt x="0" y="55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919920" y="1801800"/>
              <a:ext cx="100440" cy="201960"/>
            </a:xfrm>
            <a:custGeom>
              <a:avLst/>
              <a:gdLst/>
              <a:ahLst/>
              <a:rect l="0" t="0" r="r" b="b"/>
              <a:pathLst>
                <a:path w="279" h="561">
                  <a:moveTo>
                    <a:pt x="0" y="419"/>
                  </a:moveTo>
                  <a:lnTo>
                    <a:pt x="13" y="216"/>
                  </a:lnTo>
                  <a:lnTo>
                    <a:pt x="71" y="92"/>
                  </a:lnTo>
                  <a:lnTo>
                    <a:pt x="137" y="534"/>
                  </a:lnTo>
                  <a:lnTo>
                    <a:pt x="222" y="534"/>
                  </a:lnTo>
                  <a:lnTo>
                    <a:pt x="257" y="61"/>
                  </a:lnTo>
                  <a:lnTo>
                    <a:pt x="279" y="0"/>
                  </a:lnTo>
                  <a:lnTo>
                    <a:pt x="257" y="367"/>
                  </a:lnTo>
                  <a:lnTo>
                    <a:pt x="222" y="561"/>
                  </a:lnTo>
                  <a:lnTo>
                    <a:pt x="111" y="561"/>
                  </a:lnTo>
                  <a:lnTo>
                    <a:pt x="61" y="171"/>
                  </a:lnTo>
                  <a:lnTo>
                    <a:pt x="35" y="229"/>
                  </a:lnTo>
                  <a:lnTo>
                    <a:pt x="0" y="41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193240" y="1006560"/>
              <a:ext cx="241560" cy="540000"/>
            </a:xfrm>
            <a:custGeom>
              <a:avLst/>
              <a:gdLst/>
              <a:ahLst/>
              <a:rect l="0" t="0" r="r" b="b"/>
              <a:pathLst>
                <a:path w="671" h="1500">
                  <a:moveTo>
                    <a:pt x="176" y="812"/>
                  </a:moveTo>
                  <a:lnTo>
                    <a:pt x="224" y="577"/>
                  </a:lnTo>
                  <a:lnTo>
                    <a:pt x="455" y="515"/>
                  </a:lnTo>
                  <a:lnTo>
                    <a:pt x="671" y="0"/>
                  </a:lnTo>
                  <a:lnTo>
                    <a:pt x="671" y="149"/>
                  </a:lnTo>
                  <a:lnTo>
                    <a:pt x="486" y="546"/>
                  </a:lnTo>
                  <a:lnTo>
                    <a:pt x="246" y="621"/>
                  </a:lnTo>
                  <a:lnTo>
                    <a:pt x="211" y="812"/>
                  </a:lnTo>
                  <a:lnTo>
                    <a:pt x="295" y="812"/>
                  </a:lnTo>
                  <a:lnTo>
                    <a:pt x="88" y="896"/>
                  </a:lnTo>
                  <a:lnTo>
                    <a:pt x="39" y="1054"/>
                  </a:lnTo>
                  <a:lnTo>
                    <a:pt x="48" y="1262"/>
                  </a:lnTo>
                  <a:lnTo>
                    <a:pt x="273" y="1500"/>
                  </a:lnTo>
                  <a:lnTo>
                    <a:pt x="39" y="1288"/>
                  </a:lnTo>
                  <a:lnTo>
                    <a:pt x="0" y="1116"/>
                  </a:lnTo>
                  <a:lnTo>
                    <a:pt x="17" y="944"/>
                  </a:lnTo>
                  <a:lnTo>
                    <a:pt x="101" y="821"/>
                  </a:lnTo>
                  <a:lnTo>
                    <a:pt x="176" y="81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356680" y="1006560"/>
              <a:ext cx="405000" cy="524160"/>
            </a:xfrm>
            <a:custGeom>
              <a:avLst/>
              <a:gdLst/>
              <a:ahLst/>
              <a:rect l="0" t="0" r="r" b="b"/>
              <a:pathLst>
                <a:path w="1125" h="1456">
                  <a:moveTo>
                    <a:pt x="308" y="0"/>
                  </a:moveTo>
                  <a:lnTo>
                    <a:pt x="379" y="44"/>
                  </a:lnTo>
                  <a:lnTo>
                    <a:pt x="396" y="167"/>
                  </a:lnTo>
                  <a:lnTo>
                    <a:pt x="396" y="282"/>
                  </a:lnTo>
                  <a:lnTo>
                    <a:pt x="273" y="493"/>
                  </a:lnTo>
                  <a:lnTo>
                    <a:pt x="299" y="648"/>
                  </a:lnTo>
                  <a:lnTo>
                    <a:pt x="675" y="821"/>
                  </a:lnTo>
                  <a:lnTo>
                    <a:pt x="1116" y="1275"/>
                  </a:lnTo>
                  <a:lnTo>
                    <a:pt x="1125" y="1403"/>
                  </a:lnTo>
                  <a:lnTo>
                    <a:pt x="1099" y="1456"/>
                  </a:lnTo>
                  <a:lnTo>
                    <a:pt x="935" y="1456"/>
                  </a:lnTo>
                  <a:lnTo>
                    <a:pt x="790" y="1368"/>
                  </a:lnTo>
                  <a:lnTo>
                    <a:pt x="666" y="1218"/>
                  </a:lnTo>
                  <a:lnTo>
                    <a:pt x="600" y="1129"/>
                  </a:lnTo>
                  <a:lnTo>
                    <a:pt x="520" y="1116"/>
                  </a:lnTo>
                  <a:lnTo>
                    <a:pt x="618" y="1116"/>
                  </a:lnTo>
                  <a:lnTo>
                    <a:pt x="803" y="1354"/>
                  </a:lnTo>
                  <a:lnTo>
                    <a:pt x="1037" y="1425"/>
                  </a:lnTo>
                  <a:lnTo>
                    <a:pt x="1085" y="1354"/>
                  </a:lnTo>
                  <a:lnTo>
                    <a:pt x="1063" y="1244"/>
                  </a:lnTo>
                  <a:lnTo>
                    <a:pt x="653" y="918"/>
                  </a:lnTo>
                  <a:lnTo>
                    <a:pt x="591" y="821"/>
                  </a:lnTo>
                  <a:lnTo>
                    <a:pt x="273" y="737"/>
                  </a:lnTo>
                  <a:lnTo>
                    <a:pt x="216" y="821"/>
                  </a:lnTo>
                  <a:lnTo>
                    <a:pt x="0" y="957"/>
                  </a:lnTo>
                  <a:lnTo>
                    <a:pt x="207" y="799"/>
                  </a:lnTo>
                  <a:lnTo>
                    <a:pt x="216" y="696"/>
                  </a:lnTo>
                  <a:lnTo>
                    <a:pt x="216" y="463"/>
                  </a:lnTo>
                  <a:lnTo>
                    <a:pt x="361" y="282"/>
                  </a:lnTo>
                  <a:lnTo>
                    <a:pt x="361" y="57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282160" y="1417680"/>
              <a:ext cx="344880" cy="309960"/>
            </a:xfrm>
            <a:custGeom>
              <a:avLst/>
              <a:gdLst/>
              <a:ahLst/>
              <a:rect l="0" t="0" r="r" b="b"/>
              <a:pathLst>
                <a:path w="958" h="861">
                  <a:moveTo>
                    <a:pt x="720" y="0"/>
                  </a:moveTo>
                  <a:lnTo>
                    <a:pt x="693" y="74"/>
                  </a:lnTo>
                  <a:lnTo>
                    <a:pt x="835" y="358"/>
                  </a:lnTo>
                  <a:lnTo>
                    <a:pt x="910" y="650"/>
                  </a:lnTo>
                  <a:lnTo>
                    <a:pt x="826" y="650"/>
                  </a:lnTo>
                  <a:lnTo>
                    <a:pt x="680" y="521"/>
                  </a:lnTo>
                  <a:lnTo>
                    <a:pt x="552" y="252"/>
                  </a:lnTo>
                  <a:lnTo>
                    <a:pt x="450" y="211"/>
                  </a:lnTo>
                  <a:lnTo>
                    <a:pt x="468" y="358"/>
                  </a:lnTo>
                  <a:lnTo>
                    <a:pt x="561" y="464"/>
                  </a:lnTo>
                  <a:lnTo>
                    <a:pt x="561" y="667"/>
                  </a:lnTo>
                  <a:lnTo>
                    <a:pt x="490" y="822"/>
                  </a:lnTo>
                  <a:lnTo>
                    <a:pt x="402" y="760"/>
                  </a:lnTo>
                  <a:lnTo>
                    <a:pt x="296" y="521"/>
                  </a:lnTo>
                  <a:lnTo>
                    <a:pt x="269" y="358"/>
                  </a:lnTo>
                  <a:lnTo>
                    <a:pt x="207" y="314"/>
                  </a:lnTo>
                  <a:lnTo>
                    <a:pt x="189" y="729"/>
                  </a:lnTo>
                  <a:lnTo>
                    <a:pt x="101" y="786"/>
                  </a:lnTo>
                  <a:lnTo>
                    <a:pt x="26" y="729"/>
                  </a:lnTo>
                  <a:lnTo>
                    <a:pt x="13" y="371"/>
                  </a:lnTo>
                  <a:lnTo>
                    <a:pt x="0" y="720"/>
                  </a:lnTo>
                  <a:lnTo>
                    <a:pt x="61" y="848"/>
                  </a:lnTo>
                  <a:lnTo>
                    <a:pt x="189" y="848"/>
                  </a:lnTo>
                  <a:lnTo>
                    <a:pt x="229" y="747"/>
                  </a:lnTo>
                  <a:lnTo>
                    <a:pt x="256" y="419"/>
                  </a:lnTo>
                  <a:lnTo>
                    <a:pt x="278" y="547"/>
                  </a:lnTo>
                  <a:lnTo>
                    <a:pt x="389" y="831"/>
                  </a:lnTo>
                  <a:lnTo>
                    <a:pt x="503" y="861"/>
                  </a:lnTo>
                  <a:lnTo>
                    <a:pt x="591" y="747"/>
                  </a:lnTo>
                  <a:lnTo>
                    <a:pt x="591" y="477"/>
                  </a:lnTo>
                  <a:lnTo>
                    <a:pt x="826" y="703"/>
                  </a:lnTo>
                  <a:lnTo>
                    <a:pt x="945" y="703"/>
                  </a:lnTo>
                  <a:lnTo>
                    <a:pt x="958" y="547"/>
                  </a:lnTo>
                  <a:lnTo>
                    <a:pt x="870" y="278"/>
                  </a:lnTo>
                  <a:lnTo>
                    <a:pt x="720" y="57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891480" y="1096920"/>
              <a:ext cx="1532160" cy="1263960"/>
            </a:xfrm>
            <a:custGeom>
              <a:avLst/>
              <a:gdLst/>
              <a:ahLst/>
              <a:rect l="0" t="0" r="r" b="b"/>
              <a:pathLst>
                <a:path w="4256" h="3511">
                  <a:moveTo>
                    <a:pt x="1530" y="295"/>
                  </a:moveTo>
                  <a:lnTo>
                    <a:pt x="1450" y="308"/>
                  </a:lnTo>
                  <a:lnTo>
                    <a:pt x="1336" y="485"/>
                  </a:lnTo>
                  <a:lnTo>
                    <a:pt x="1292" y="357"/>
                  </a:lnTo>
                  <a:lnTo>
                    <a:pt x="1155" y="282"/>
                  </a:lnTo>
                  <a:lnTo>
                    <a:pt x="1053" y="339"/>
                  </a:lnTo>
                  <a:lnTo>
                    <a:pt x="1009" y="568"/>
                  </a:lnTo>
                  <a:lnTo>
                    <a:pt x="630" y="846"/>
                  </a:lnTo>
                  <a:lnTo>
                    <a:pt x="652" y="965"/>
                  </a:lnTo>
                  <a:lnTo>
                    <a:pt x="564" y="1071"/>
                  </a:lnTo>
                  <a:lnTo>
                    <a:pt x="564" y="1159"/>
                  </a:lnTo>
                  <a:lnTo>
                    <a:pt x="670" y="1424"/>
                  </a:lnTo>
                  <a:lnTo>
                    <a:pt x="679" y="1750"/>
                  </a:lnTo>
                  <a:lnTo>
                    <a:pt x="608" y="2055"/>
                  </a:lnTo>
                  <a:lnTo>
                    <a:pt x="335" y="2241"/>
                  </a:lnTo>
                  <a:lnTo>
                    <a:pt x="299" y="2492"/>
                  </a:lnTo>
                  <a:lnTo>
                    <a:pt x="216" y="2492"/>
                  </a:lnTo>
                  <a:lnTo>
                    <a:pt x="171" y="2285"/>
                  </a:lnTo>
                  <a:lnTo>
                    <a:pt x="88" y="2285"/>
                  </a:lnTo>
                  <a:lnTo>
                    <a:pt x="48" y="2505"/>
                  </a:lnTo>
                  <a:lnTo>
                    <a:pt x="0" y="2563"/>
                  </a:lnTo>
                  <a:lnTo>
                    <a:pt x="189" y="2867"/>
                  </a:lnTo>
                  <a:lnTo>
                    <a:pt x="321" y="2880"/>
                  </a:lnTo>
                  <a:lnTo>
                    <a:pt x="564" y="3105"/>
                  </a:lnTo>
                  <a:lnTo>
                    <a:pt x="780" y="3131"/>
                  </a:lnTo>
                  <a:lnTo>
                    <a:pt x="903" y="3012"/>
                  </a:lnTo>
                  <a:lnTo>
                    <a:pt x="1195" y="2580"/>
                  </a:lnTo>
                  <a:lnTo>
                    <a:pt x="1221" y="3162"/>
                  </a:lnTo>
                  <a:lnTo>
                    <a:pt x="1195" y="3511"/>
                  </a:lnTo>
                  <a:lnTo>
                    <a:pt x="3656" y="3511"/>
                  </a:lnTo>
                  <a:lnTo>
                    <a:pt x="3475" y="3131"/>
                  </a:lnTo>
                  <a:lnTo>
                    <a:pt x="3387" y="2805"/>
                  </a:lnTo>
                  <a:lnTo>
                    <a:pt x="3365" y="2320"/>
                  </a:lnTo>
                  <a:lnTo>
                    <a:pt x="3511" y="2430"/>
                  </a:lnTo>
                  <a:lnTo>
                    <a:pt x="3656" y="2430"/>
                  </a:lnTo>
                  <a:lnTo>
                    <a:pt x="3859" y="2302"/>
                  </a:lnTo>
                  <a:lnTo>
                    <a:pt x="3991" y="2285"/>
                  </a:lnTo>
                  <a:lnTo>
                    <a:pt x="4075" y="2157"/>
                  </a:lnTo>
                  <a:lnTo>
                    <a:pt x="4132" y="1826"/>
                  </a:lnTo>
                  <a:lnTo>
                    <a:pt x="4256" y="1688"/>
                  </a:lnTo>
                  <a:lnTo>
                    <a:pt x="4194" y="1591"/>
                  </a:lnTo>
                  <a:lnTo>
                    <a:pt x="4102" y="1591"/>
                  </a:lnTo>
                  <a:lnTo>
                    <a:pt x="4031" y="1658"/>
                  </a:lnTo>
                  <a:lnTo>
                    <a:pt x="3956" y="1675"/>
                  </a:lnTo>
                  <a:lnTo>
                    <a:pt x="3868" y="1591"/>
                  </a:lnTo>
                  <a:lnTo>
                    <a:pt x="3766" y="1578"/>
                  </a:lnTo>
                  <a:lnTo>
                    <a:pt x="3572" y="1455"/>
                  </a:lnTo>
                  <a:lnTo>
                    <a:pt x="3449" y="1322"/>
                  </a:lnTo>
                  <a:lnTo>
                    <a:pt x="3431" y="1159"/>
                  </a:lnTo>
                  <a:lnTo>
                    <a:pt x="3449" y="1005"/>
                  </a:lnTo>
                  <a:lnTo>
                    <a:pt x="3528" y="877"/>
                  </a:lnTo>
                  <a:lnTo>
                    <a:pt x="3634" y="762"/>
                  </a:lnTo>
                  <a:lnTo>
                    <a:pt x="3625" y="560"/>
                  </a:lnTo>
                  <a:lnTo>
                    <a:pt x="3625" y="414"/>
                  </a:lnTo>
                  <a:lnTo>
                    <a:pt x="3572" y="308"/>
                  </a:lnTo>
                  <a:lnTo>
                    <a:pt x="3431" y="264"/>
                  </a:lnTo>
                  <a:lnTo>
                    <a:pt x="3378" y="238"/>
                  </a:lnTo>
                  <a:lnTo>
                    <a:pt x="3277" y="66"/>
                  </a:lnTo>
                  <a:lnTo>
                    <a:pt x="3193" y="13"/>
                  </a:lnTo>
                  <a:lnTo>
                    <a:pt x="3105" y="0"/>
                  </a:lnTo>
                  <a:lnTo>
                    <a:pt x="3030" y="30"/>
                  </a:lnTo>
                  <a:lnTo>
                    <a:pt x="2968" y="123"/>
                  </a:lnTo>
                  <a:lnTo>
                    <a:pt x="2876" y="176"/>
                  </a:lnTo>
                  <a:lnTo>
                    <a:pt x="2770" y="198"/>
                  </a:lnTo>
                  <a:lnTo>
                    <a:pt x="2651" y="198"/>
                  </a:lnTo>
                  <a:lnTo>
                    <a:pt x="2673" y="370"/>
                  </a:lnTo>
                  <a:lnTo>
                    <a:pt x="2673" y="586"/>
                  </a:lnTo>
                  <a:lnTo>
                    <a:pt x="2651" y="732"/>
                  </a:lnTo>
                  <a:lnTo>
                    <a:pt x="2549" y="903"/>
                  </a:lnTo>
                  <a:lnTo>
                    <a:pt x="2413" y="1168"/>
                  </a:lnTo>
                  <a:lnTo>
                    <a:pt x="2307" y="1486"/>
                  </a:lnTo>
                  <a:lnTo>
                    <a:pt x="2302" y="1675"/>
                  </a:lnTo>
                  <a:lnTo>
                    <a:pt x="2249" y="1839"/>
                  </a:lnTo>
                  <a:lnTo>
                    <a:pt x="2188" y="1998"/>
                  </a:lnTo>
                  <a:lnTo>
                    <a:pt x="2157" y="2254"/>
                  </a:lnTo>
                  <a:lnTo>
                    <a:pt x="2174" y="2466"/>
                  </a:lnTo>
                  <a:lnTo>
                    <a:pt x="2249" y="2712"/>
                  </a:lnTo>
                  <a:lnTo>
                    <a:pt x="2302" y="2805"/>
                  </a:lnTo>
                  <a:lnTo>
                    <a:pt x="2157" y="2898"/>
                  </a:lnTo>
                  <a:lnTo>
                    <a:pt x="1984" y="2955"/>
                  </a:lnTo>
                  <a:lnTo>
                    <a:pt x="1794" y="2973"/>
                  </a:lnTo>
                  <a:lnTo>
                    <a:pt x="1680" y="2973"/>
                  </a:lnTo>
                  <a:lnTo>
                    <a:pt x="1605" y="2937"/>
                  </a:lnTo>
                  <a:lnTo>
                    <a:pt x="1605" y="2730"/>
                  </a:lnTo>
                  <a:lnTo>
                    <a:pt x="1605" y="2417"/>
                  </a:lnTo>
                  <a:lnTo>
                    <a:pt x="1556" y="2113"/>
                  </a:lnTo>
                  <a:lnTo>
                    <a:pt x="1481" y="1839"/>
                  </a:lnTo>
                  <a:lnTo>
                    <a:pt x="1441" y="1618"/>
                  </a:lnTo>
                  <a:lnTo>
                    <a:pt x="1433" y="1305"/>
                  </a:lnTo>
                  <a:lnTo>
                    <a:pt x="1481" y="1036"/>
                  </a:lnTo>
                  <a:lnTo>
                    <a:pt x="1556" y="820"/>
                  </a:lnTo>
                  <a:lnTo>
                    <a:pt x="1565" y="687"/>
                  </a:lnTo>
                  <a:lnTo>
                    <a:pt x="1530" y="502"/>
                  </a:lnTo>
                  <a:lnTo>
                    <a:pt x="1530" y="357"/>
                  </a:lnTo>
                  <a:lnTo>
                    <a:pt x="1556" y="308"/>
                  </a:lnTo>
                  <a:lnTo>
                    <a:pt x="1530" y="29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488360" y="1351080"/>
              <a:ext cx="194040" cy="821160"/>
            </a:xfrm>
            <a:custGeom>
              <a:avLst/>
              <a:gdLst/>
              <a:ahLst/>
              <a:rect l="0" t="0" r="r" b="b"/>
              <a:pathLst>
                <a:path w="539" h="2281">
                  <a:moveTo>
                    <a:pt x="217" y="26"/>
                  </a:moveTo>
                  <a:lnTo>
                    <a:pt x="70" y="101"/>
                  </a:lnTo>
                  <a:lnTo>
                    <a:pt x="83" y="321"/>
                  </a:lnTo>
                  <a:lnTo>
                    <a:pt x="190" y="383"/>
                  </a:lnTo>
                  <a:lnTo>
                    <a:pt x="61" y="622"/>
                  </a:lnTo>
                  <a:lnTo>
                    <a:pt x="0" y="887"/>
                  </a:lnTo>
                  <a:lnTo>
                    <a:pt x="0" y="1138"/>
                  </a:lnTo>
                  <a:lnTo>
                    <a:pt x="61" y="1368"/>
                  </a:lnTo>
                  <a:lnTo>
                    <a:pt x="114" y="1645"/>
                  </a:lnTo>
                  <a:lnTo>
                    <a:pt x="114" y="1805"/>
                  </a:lnTo>
                  <a:lnTo>
                    <a:pt x="61" y="2004"/>
                  </a:lnTo>
                  <a:lnTo>
                    <a:pt x="278" y="2281"/>
                  </a:lnTo>
                  <a:lnTo>
                    <a:pt x="371" y="2237"/>
                  </a:lnTo>
                  <a:lnTo>
                    <a:pt x="429" y="2043"/>
                  </a:lnTo>
                  <a:lnTo>
                    <a:pt x="531" y="1792"/>
                  </a:lnTo>
                  <a:lnTo>
                    <a:pt x="539" y="1659"/>
                  </a:lnTo>
                  <a:lnTo>
                    <a:pt x="456" y="1407"/>
                  </a:lnTo>
                  <a:lnTo>
                    <a:pt x="353" y="1165"/>
                  </a:lnTo>
                  <a:lnTo>
                    <a:pt x="318" y="993"/>
                  </a:lnTo>
                  <a:lnTo>
                    <a:pt x="318" y="830"/>
                  </a:lnTo>
                  <a:lnTo>
                    <a:pt x="353" y="680"/>
                  </a:lnTo>
                  <a:lnTo>
                    <a:pt x="429" y="498"/>
                  </a:lnTo>
                  <a:lnTo>
                    <a:pt x="429" y="423"/>
                  </a:lnTo>
                  <a:lnTo>
                    <a:pt x="393" y="352"/>
                  </a:lnTo>
                  <a:lnTo>
                    <a:pt x="495" y="260"/>
                  </a:lnTo>
                  <a:lnTo>
                    <a:pt x="495" y="171"/>
                  </a:lnTo>
                  <a:lnTo>
                    <a:pt x="353" y="0"/>
                  </a:lnTo>
                  <a:lnTo>
                    <a:pt x="469" y="171"/>
                  </a:lnTo>
                  <a:lnTo>
                    <a:pt x="469" y="246"/>
                  </a:lnTo>
                  <a:lnTo>
                    <a:pt x="367" y="321"/>
                  </a:lnTo>
                  <a:lnTo>
                    <a:pt x="407" y="423"/>
                  </a:lnTo>
                  <a:lnTo>
                    <a:pt x="393" y="498"/>
                  </a:lnTo>
                  <a:lnTo>
                    <a:pt x="292" y="710"/>
                  </a:lnTo>
                  <a:lnTo>
                    <a:pt x="278" y="913"/>
                  </a:lnTo>
                  <a:lnTo>
                    <a:pt x="305" y="1107"/>
                  </a:lnTo>
                  <a:lnTo>
                    <a:pt x="371" y="1381"/>
                  </a:lnTo>
                  <a:lnTo>
                    <a:pt x="456" y="1601"/>
                  </a:lnTo>
                  <a:lnTo>
                    <a:pt x="456" y="1779"/>
                  </a:lnTo>
                  <a:lnTo>
                    <a:pt x="407" y="2004"/>
                  </a:lnTo>
                  <a:lnTo>
                    <a:pt x="305" y="2237"/>
                  </a:lnTo>
                  <a:lnTo>
                    <a:pt x="177" y="2109"/>
                  </a:lnTo>
                  <a:lnTo>
                    <a:pt x="127" y="2004"/>
                  </a:lnTo>
                  <a:lnTo>
                    <a:pt x="137" y="1779"/>
                  </a:lnTo>
                  <a:lnTo>
                    <a:pt x="127" y="1553"/>
                  </a:lnTo>
                  <a:lnTo>
                    <a:pt x="61" y="1253"/>
                  </a:lnTo>
                  <a:lnTo>
                    <a:pt x="39" y="1046"/>
                  </a:lnTo>
                  <a:lnTo>
                    <a:pt x="61" y="812"/>
                  </a:lnTo>
                  <a:lnTo>
                    <a:pt x="114" y="591"/>
                  </a:lnTo>
                  <a:lnTo>
                    <a:pt x="225" y="366"/>
                  </a:lnTo>
                  <a:lnTo>
                    <a:pt x="127" y="273"/>
                  </a:lnTo>
                  <a:lnTo>
                    <a:pt x="114" y="114"/>
                  </a:lnTo>
                  <a:lnTo>
                    <a:pt x="217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039160" y="392040"/>
              <a:ext cx="305280" cy="398880"/>
            </a:xfrm>
            <a:custGeom>
              <a:avLst/>
              <a:gdLst/>
              <a:ahLst/>
              <a:rect l="0" t="0" r="r" b="b"/>
              <a:pathLst>
                <a:path w="848" h="1108">
                  <a:moveTo>
                    <a:pt x="141" y="283"/>
                  </a:moveTo>
                  <a:lnTo>
                    <a:pt x="265" y="260"/>
                  </a:lnTo>
                  <a:lnTo>
                    <a:pt x="384" y="268"/>
                  </a:lnTo>
                  <a:lnTo>
                    <a:pt x="486" y="314"/>
                  </a:lnTo>
                  <a:lnTo>
                    <a:pt x="543" y="375"/>
                  </a:lnTo>
                  <a:lnTo>
                    <a:pt x="565" y="433"/>
                  </a:lnTo>
                  <a:lnTo>
                    <a:pt x="565" y="490"/>
                  </a:lnTo>
                  <a:lnTo>
                    <a:pt x="538" y="525"/>
                  </a:lnTo>
                  <a:lnTo>
                    <a:pt x="481" y="552"/>
                  </a:lnTo>
                  <a:lnTo>
                    <a:pt x="419" y="556"/>
                  </a:lnTo>
                  <a:lnTo>
                    <a:pt x="344" y="538"/>
                  </a:lnTo>
                  <a:lnTo>
                    <a:pt x="269" y="494"/>
                  </a:lnTo>
                  <a:lnTo>
                    <a:pt x="211" y="450"/>
                  </a:lnTo>
                  <a:lnTo>
                    <a:pt x="189" y="591"/>
                  </a:lnTo>
                  <a:lnTo>
                    <a:pt x="141" y="693"/>
                  </a:lnTo>
                  <a:lnTo>
                    <a:pt x="0" y="928"/>
                  </a:lnTo>
                  <a:lnTo>
                    <a:pt x="207" y="1108"/>
                  </a:lnTo>
                  <a:lnTo>
                    <a:pt x="362" y="807"/>
                  </a:lnTo>
                  <a:lnTo>
                    <a:pt x="538" y="835"/>
                  </a:lnTo>
                  <a:lnTo>
                    <a:pt x="645" y="812"/>
                  </a:lnTo>
                  <a:lnTo>
                    <a:pt x="751" y="741"/>
                  </a:lnTo>
                  <a:lnTo>
                    <a:pt x="813" y="658"/>
                  </a:lnTo>
                  <a:lnTo>
                    <a:pt x="848" y="543"/>
                  </a:lnTo>
                  <a:lnTo>
                    <a:pt x="848" y="424"/>
                  </a:lnTo>
                  <a:lnTo>
                    <a:pt x="813" y="296"/>
                  </a:lnTo>
                  <a:lnTo>
                    <a:pt x="747" y="167"/>
                  </a:lnTo>
                  <a:lnTo>
                    <a:pt x="659" y="79"/>
                  </a:lnTo>
                  <a:lnTo>
                    <a:pt x="552" y="26"/>
                  </a:lnTo>
                  <a:lnTo>
                    <a:pt x="433" y="0"/>
                  </a:lnTo>
                  <a:lnTo>
                    <a:pt x="283" y="0"/>
                  </a:lnTo>
                  <a:lnTo>
                    <a:pt x="114" y="30"/>
                  </a:lnTo>
                  <a:lnTo>
                    <a:pt x="141" y="283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985160" y="779400"/>
              <a:ext cx="109800" cy="79560"/>
            </a:xfrm>
            <a:custGeom>
              <a:avLst/>
              <a:gdLst/>
              <a:ahLst/>
              <a:rect l="0" t="0" r="r" b="b"/>
              <a:pathLst>
                <a:path w="305" h="221">
                  <a:moveTo>
                    <a:pt x="119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11"/>
                  </a:lnTo>
                  <a:lnTo>
                    <a:pt x="61" y="190"/>
                  </a:lnTo>
                  <a:lnTo>
                    <a:pt x="186" y="221"/>
                  </a:lnTo>
                  <a:lnTo>
                    <a:pt x="274" y="217"/>
                  </a:lnTo>
                  <a:lnTo>
                    <a:pt x="305" y="164"/>
                  </a:lnTo>
                  <a:lnTo>
                    <a:pt x="287" y="120"/>
                  </a:lnTo>
                  <a:lnTo>
                    <a:pt x="247" y="52"/>
                  </a:lnTo>
                  <a:lnTo>
                    <a:pt x="172" y="8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"/>
          <p:cNvSpPr txBox="1"/>
          <p:nvPr/>
        </p:nvSpPr>
        <p:spPr>
          <a:xfrm>
            <a:off x="990720" y="3962520"/>
            <a:ext cx="69022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 Materials Invento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 Work in Process Inventor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 Finished Goods Invento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838080" y="76212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nufacturing and Repor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1752480" y="2286000"/>
            <a:ext cx="6629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epare a statement of cost of goods manufactured and an income statement for a manufacturing organiz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69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91440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 of Goods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nufactur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295280" y="2133720"/>
            <a:ext cx="72388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st of goods manufactured is a key component of the income statement for a manufacturing compan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1066680" y="304920"/>
            <a:ext cx="76201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 of Goods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nufactur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85800" y="16765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termining the cost of goods involves three step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mputing the cost of materials us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mputing total manufacturing costs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for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peri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mputing cost of goods manufactured,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djusting for beginning and ending work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 proc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1066680" y="609480"/>
            <a:ext cx="76201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 of Goods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nufactur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1143000" y="220968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cost of goods manufactured is used on the income statement to compute the cost of goods so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907920" y="2965320"/>
            <a:ext cx="7937640" cy="313704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85800" y="30492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Statement of 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Cost of Goods Manufactured: Step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909720" y="1595520"/>
            <a:ext cx="7934400" cy="140652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gelo’s Rolling Suitcases, Inc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ement of Cost of Goods Manufactu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the Year Ended December 31, 20xx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775040" y="5603760"/>
            <a:ext cx="20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914400" y="2971800"/>
            <a:ext cx="792468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6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rect Materials Use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6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rect Materials Inventory, 1/1/x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6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rect Materials Purchas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2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6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of Direct Materials Available for U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6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ss Direct Materials Inventory, 12/31/xx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5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6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Cost of Direct Materials Use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    $25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0"/>
              </a:spcBef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907920" y="2965320"/>
            <a:ext cx="7937640" cy="328932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685800" y="304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Statement of 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Cost of Goods Manufactured: Step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909720" y="1595520"/>
            <a:ext cx="7934400" cy="140652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gelo’s Rolling Suitcases, Inc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ement of Cost of Goods Manufactu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the Year Ended December 31, 20xx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775040" y="5603760"/>
            <a:ext cx="20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990720" y="3276720"/>
            <a:ext cx="762012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of Direct Materials Us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5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rect Lab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12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ufacturing Overhea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6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Total Manufacturing Cost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$43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907920" y="2965320"/>
            <a:ext cx="7937640" cy="306072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762120" y="30492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Statement of 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Cost of Goods Manufactured: Step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909720" y="1595520"/>
            <a:ext cx="7934400" cy="140652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gelo’s Rolling Suitcases, Inc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ement of Cost of Goods Manufactu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the Year Ended December 31, 20xx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775040" y="5603760"/>
            <a:ext cx="20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914400" y="2971800"/>
            <a:ext cx="7924680" cy="3276720"/>
            <a:chOff x="914400" y="2971800"/>
            <a:chExt cx="7924680" cy="3276720"/>
          </a:xfrm>
        </p:grpSpPr>
        <p:sp>
          <p:nvSpPr>
            <p:cNvPr id="404" name=""/>
            <p:cNvSpPr txBox="1"/>
            <p:nvPr/>
          </p:nvSpPr>
          <p:spPr>
            <a:xfrm>
              <a:off x="914400" y="2971800"/>
              <a:ext cx="7924680" cy="327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tal Manufacturing Cost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43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Work in Process Inventory, 1/1/x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2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tal Cost of Work in Process During the Year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45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ss Work in Process Inventory, 12/31/x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15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Cost of Goods Manufactured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$30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79"/>
                </a:spcBef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402680" y="5486400"/>
              <a:ext cx="90324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907920" y="2584440"/>
            <a:ext cx="7937640" cy="367020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1066680" y="2286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come Stat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909720" y="1214280"/>
            <a:ext cx="7934400" cy="140652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gelo’s Rolling Suitcases, Inc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come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the Year Ended December 31, 20xx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775040" y="5603760"/>
            <a:ext cx="20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914400" y="2590920"/>
            <a:ext cx="7924680" cy="3657600"/>
            <a:chOff x="914400" y="2590920"/>
            <a:chExt cx="7924680" cy="3657600"/>
          </a:xfrm>
        </p:grpSpPr>
        <p:sp>
          <p:nvSpPr>
            <p:cNvPr id="411" name=""/>
            <p:cNvSpPr txBox="1"/>
            <p:nvPr/>
          </p:nvSpPr>
          <p:spPr>
            <a:xfrm>
              <a:off x="914400" y="2590920"/>
              <a:ext cx="7924680" cy="3657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le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50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st of Goods Sold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nished Goods Inventory, 1/1/x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6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Cost of Goods Manufactured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 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  </a:t>
              </a:r>
              <a:r>
                <a:rPr b="1" lang="en-US" sz="1800" spc="-1" strike="noStrike" u="sng">
                  <a:solidFill>
                    <a:srgbClr val="0000ff"/>
                  </a:solidFill>
                  <a:uFillTx/>
                  <a:latin typeface="Arial"/>
                  <a:ea typeface="Arial"/>
                </a:rPr>
                <a:t>30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tal Cost of Finished Good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vailable for Sale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36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ss Finished Goods Inventory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/31/ x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12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st of Goods Sold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24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Gross Margi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26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lling &amp; Administrative Expense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16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t Income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10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478640" y="6095880"/>
              <a:ext cx="7509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990720" y="129528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7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fine and explain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ctivity-based costing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8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lculate product unit cost using activity-based costing to assign manufacturing overhead cos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9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pply costing concepts to a service organiz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90720" y="3049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69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762120" y="198108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28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hat are the three steps needed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o determine the cost of good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1828800" y="762120"/>
            <a:ext cx="53341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6934320" y="228600"/>
            <a:ext cx="1827360" cy="1827360"/>
            <a:chOff x="6934320" y="228600"/>
            <a:chExt cx="1827360" cy="1827360"/>
          </a:xfrm>
        </p:grpSpPr>
        <p:sp>
          <p:nvSpPr>
            <p:cNvPr id="416" name=""/>
            <p:cNvSpPr/>
            <p:nvPr/>
          </p:nvSpPr>
          <p:spPr>
            <a:xfrm>
              <a:off x="6939000" y="1125360"/>
              <a:ext cx="443160" cy="638640"/>
            </a:xfrm>
            <a:custGeom>
              <a:avLst/>
              <a:gdLst/>
              <a:ahLst/>
              <a:rect l="0" t="0" r="r" b="b"/>
              <a:pathLst>
                <a:path w="1231" h="1774">
                  <a:moveTo>
                    <a:pt x="493" y="0"/>
                  </a:moveTo>
                  <a:lnTo>
                    <a:pt x="427" y="79"/>
                  </a:lnTo>
                  <a:lnTo>
                    <a:pt x="427" y="308"/>
                  </a:lnTo>
                  <a:lnTo>
                    <a:pt x="493" y="477"/>
                  </a:lnTo>
                  <a:lnTo>
                    <a:pt x="564" y="561"/>
                  </a:lnTo>
                  <a:lnTo>
                    <a:pt x="454" y="675"/>
                  </a:lnTo>
                  <a:lnTo>
                    <a:pt x="308" y="931"/>
                  </a:lnTo>
                  <a:lnTo>
                    <a:pt x="26" y="1342"/>
                  </a:lnTo>
                  <a:lnTo>
                    <a:pt x="0" y="1439"/>
                  </a:lnTo>
                  <a:lnTo>
                    <a:pt x="26" y="1518"/>
                  </a:lnTo>
                  <a:lnTo>
                    <a:pt x="114" y="1518"/>
                  </a:lnTo>
                  <a:lnTo>
                    <a:pt x="185" y="1426"/>
                  </a:lnTo>
                  <a:lnTo>
                    <a:pt x="308" y="1196"/>
                  </a:lnTo>
                  <a:lnTo>
                    <a:pt x="383" y="1099"/>
                  </a:lnTo>
                  <a:lnTo>
                    <a:pt x="427" y="1248"/>
                  </a:lnTo>
                  <a:lnTo>
                    <a:pt x="396" y="1413"/>
                  </a:lnTo>
                  <a:lnTo>
                    <a:pt x="273" y="1646"/>
                  </a:lnTo>
                  <a:lnTo>
                    <a:pt x="308" y="1699"/>
                  </a:lnTo>
                  <a:lnTo>
                    <a:pt x="383" y="1686"/>
                  </a:lnTo>
                  <a:lnTo>
                    <a:pt x="533" y="1563"/>
                  </a:lnTo>
                  <a:lnTo>
                    <a:pt x="658" y="1355"/>
                  </a:lnTo>
                  <a:lnTo>
                    <a:pt x="658" y="1717"/>
                  </a:lnTo>
                  <a:lnTo>
                    <a:pt x="803" y="1774"/>
                  </a:lnTo>
                  <a:lnTo>
                    <a:pt x="887" y="1554"/>
                  </a:lnTo>
                  <a:lnTo>
                    <a:pt x="966" y="1761"/>
                  </a:lnTo>
                  <a:lnTo>
                    <a:pt x="1024" y="1699"/>
                  </a:lnTo>
                  <a:lnTo>
                    <a:pt x="1050" y="1288"/>
                  </a:lnTo>
                  <a:lnTo>
                    <a:pt x="1231" y="900"/>
                  </a:lnTo>
                  <a:lnTo>
                    <a:pt x="1191" y="675"/>
                  </a:lnTo>
                  <a:lnTo>
                    <a:pt x="1063" y="591"/>
                  </a:lnTo>
                  <a:lnTo>
                    <a:pt x="935" y="605"/>
                  </a:lnTo>
                  <a:lnTo>
                    <a:pt x="887" y="418"/>
                  </a:lnTo>
                  <a:lnTo>
                    <a:pt x="755" y="379"/>
                  </a:lnTo>
                  <a:lnTo>
                    <a:pt x="636" y="321"/>
                  </a:lnTo>
                  <a:lnTo>
                    <a:pt x="564" y="39"/>
                  </a:lnTo>
                  <a:lnTo>
                    <a:pt x="493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311960" y="1384200"/>
              <a:ext cx="130680" cy="309960"/>
            </a:xfrm>
            <a:custGeom>
              <a:avLst/>
              <a:gdLst/>
              <a:ahLst/>
              <a:rect l="0" t="0" r="r" b="b"/>
              <a:pathLst>
                <a:path w="363" h="861">
                  <a:moveTo>
                    <a:pt x="181" y="0"/>
                  </a:moveTo>
                  <a:lnTo>
                    <a:pt x="363" y="225"/>
                  </a:lnTo>
                  <a:lnTo>
                    <a:pt x="275" y="707"/>
                  </a:lnTo>
                  <a:lnTo>
                    <a:pt x="0" y="861"/>
                  </a:lnTo>
                  <a:lnTo>
                    <a:pt x="0" y="618"/>
                  </a:lnTo>
                  <a:lnTo>
                    <a:pt x="111" y="367"/>
                  </a:lnTo>
                  <a:lnTo>
                    <a:pt x="181" y="18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161200" y="1206360"/>
              <a:ext cx="327240" cy="279720"/>
            </a:xfrm>
            <a:custGeom>
              <a:avLst/>
              <a:gdLst/>
              <a:ahLst/>
              <a:rect l="0" t="0" r="r" b="b"/>
              <a:pathLst>
                <a:path w="909" h="777">
                  <a:moveTo>
                    <a:pt x="374" y="0"/>
                  </a:moveTo>
                  <a:lnTo>
                    <a:pt x="374" y="123"/>
                  </a:lnTo>
                  <a:lnTo>
                    <a:pt x="405" y="233"/>
                  </a:lnTo>
                  <a:lnTo>
                    <a:pt x="583" y="419"/>
                  </a:lnTo>
                  <a:lnTo>
                    <a:pt x="909" y="525"/>
                  </a:lnTo>
                  <a:lnTo>
                    <a:pt x="865" y="763"/>
                  </a:lnTo>
                  <a:lnTo>
                    <a:pt x="583" y="777"/>
                  </a:lnTo>
                  <a:lnTo>
                    <a:pt x="171" y="609"/>
                  </a:lnTo>
                  <a:lnTo>
                    <a:pt x="0" y="308"/>
                  </a:lnTo>
                  <a:lnTo>
                    <a:pt x="202" y="17"/>
                  </a:lnTo>
                  <a:lnTo>
                    <a:pt x="374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292960" y="890640"/>
              <a:ext cx="457560" cy="616320"/>
            </a:xfrm>
            <a:custGeom>
              <a:avLst/>
              <a:gdLst/>
              <a:ahLst/>
              <a:rect l="0" t="0" r="r" b="b"/>
              <a:pathLst>
                <a:path w="1271" h="1712">
                  <a:moveTo>
                    <a:pt x="114" y="728"/>
                  </a:moveTo>
                  <a:lnTo>
                    <a:pt x="0" y="847"/>
                  </a:lnTo>
                  <a:lnTo>
                    <a:pt x="26" y="1125"/>
                  </a:lnTo>
                  <a:lnTo>
                    <a:pt x="202" y="1257"/>
                  </a:lnTo>
                  <a:lnTo>
                    <a:pt x="216" y="1682"/>
                  </a:lnTo>
                  <a:lnTo>
                    <a:pt x="396" y="1682"/>
                  </a:lnTo>
                  <a:lnTo>
                    <a:pt x="383" y="1324"/>
                  </a:lnTo>
                  <a:lnTo>
                    <a:pt x="515" y="1699"/>
                  </a:lnTo>
                  <a:lnTo>
                    <a:pt x="604" y="1712"/>
                  </a:lnTo>
                  <a:lnTo>
                    <a:pt x="666" y="1589"/>
                  </a:lnTo>
                  <a:lnTo>
                    <a:pt x="680" y="1351"/>
                  </a:lnTo>
                  <a:lnTo>
                    <a:pt x="874" y="1571"/>
                  </a:lnTo>
                  <a:lnTo>
                    <a:pt x="953" y="1558"/>
                  </a:lnTo>
                  <a:lnTo>
                    <a:pt x="935" y="1404"/>
                  </a:lnTo>
                  <a:lnTo>
                    <a:pt x="860" y="1187"/>
                  </a:lnTo>
                  <a:lnTo>
                    <a:pt x="785" y="1046"/>
                  </a:lnTo>
                  <a:lnTo>
                    <a:pt x="812" y="949"/>
                  </a:lnTo>
                  <a:lnTo>
                    <a:pt x="860" y="962"/>
                  </a:lnTo>
                  <a:lnTo>
                    <a:pt x="1037" y="1187"/>
                  </a:lnTo>
                  <a:lnTo>
                    <a:pt x="1231" y="1240"/>
                  </a:lnTo>
                  <a:lnTo>
                    <a:pt x="1271" y="1169"/>
                  </a:lnTo>
                  <a:lnTo>
                    <a:pt x="1244" y="1054"/>
                  </a:lnTo>
                  <a:lnTo>
                    <a:pt x="891" y="710"/>
                  </a:lnTo>
                  <a:lnTo>
                    <a:pt x="604" y="605"/>
                  </a:lnTo>
                  <a:lnTo>
                    <a:pt x="568" y="410"/>
                  </a:lnTo>
                  <a:lnTo>
                    <a:pt x="666" y="238"/>
                  </a:lnTo>
                  <a:lnTo>
                    <a:pt x="666" y="52"/>
                  </a:lnTo>
                  <a:lnTo>
                    <a:pt x="586" y="0"/>
                  </a:lnTo>
                  <a:lnTo>
                    <a:pt x="383" y="464"/>
                  </a:lnTo>
                  <a:lnTo>
                    <a:pt x="202" y="534"/>
                  </a:lnTo>
                  <a:lnTo>
                    <a:pt x="154" y="662"/>
                  </a:lnTo>
                  <a:lnTo>
                    <a:pt x="114" y="728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542360" y="358920"/>
              <a:ext cx="498960" cy="784440"/>
            </a:xfrm>
            <a:custGeom>
              <a:avLst/>
              <a:gdLst/>
              <a:ahLst/>
              <a:rect l="0" t="0" r="r" b="b"/>
              <a:pathLst>
                <a:path w="1386" h="2179">
                  <a:moveTo>
                    <a:pt x="349" y="299"/>
                  </a:moveTo>
                  <a:lnTo>
                    <a:pt x="242" y="718"/>
                  </a:lnTo>
                  <a:lnTo>
                    <a:pt x="13" y="802"/>
                  </a:lnTo>
                  <a:lnTo>
                    <a:pt x="74" y="934"/>
                  </a:lnTo>
                  <a:lnTo>
                    <a:pt x="0" y="1018"/>
                  </a:lnTo>
                  <a:lnTo>
                    <a:pt x="0" y="1169"/>
                  </a:lnTo>
                  <a:lnTo>
                    <a:pt x="110" y="1306"/>
                  </a:lnTo>
                  <a:lnTo>
                    <a:pt x="216" y="1306"/>
                  </a:lnTo>
                  <a:lnTo>
                    <a:pt x="286" y="1791"/>
                  </a:lnTo>
                  <a:lnTo>
                    <a:pt x="375" y="1998"/>
                  </a:lnTo>
                  <a:lnTo>
                    <a:pt x="662" y="2179"/>
                  </a:lnTo>
                  <a:lnTo>
                    <a:pt x="940" y="2152"/>
                  </a:lnTo>
                  <a:lnTo>
                    <a:pt x="1077" y="1791"/>
                  </a:lnTo>
                  <a:lnTo>
                    <a:pt x="1108" y="1240"/>
                  </a:lnTo>
                  <a:lnTo>
                    <a:pt x="1386" y="965"/>
                  </a:lnTo>
                  <a:lnTo>
                    <a:pt x="1373" y="855"/>
                  </a:lnTo>
                  <a:lnTo>
                    <a:pt x="1342" y="802"/>
                  </a:lnTo>
                  <a:lnTo>
                    <a:pt x="1197" y="789"/>
                  </a:lnTo>
                  <a:lnTo>
                    <a:pt x="1241" y="648"/>
                  </a:lnTo>
                  <a:lnTo>
                    <a:pt x="1095" y="551"/>
                  </a:lnTo>
                  <a:lnTo>
                    <a:pt x="1032" y="238"/>
                  </a:lnTo>
                  <a:lnTo>
                    <a:pt x="600" y="0"/>
                  </a:lnTo>
                  <a:lnTo>
                    <a:pt x="375" y="224"/>
                  </a:lnTo>
                  <a:lnTo>
                    <a:pt x="349" y="299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578720" y="1014480"/>
              <a:ext cx="457560" cy="937080"/>
            </a:xfrm>
            <a:custGeom>
              <a:avLst/>
              <a:gdLst/>
              <a:ahLst/>
              <a:rect l="0" t="0" r="r" b="b"/>
              <a:pathLst>
                <a:path w="1271" h="2603">
                  <a:moveTo>
                    <a:pt x="260" y="136"/>
                  </a:moveTo>
                  <a:lnTo>
                    <a:pt x="440" y="260"/>
                  </a:lnTo>
                  <a:lnTo>
                    <a:pt x="529" y="401"/>
                  </a:lnTo>
                  <a:lnTo>
                    <a:pt x="1037" y="0"/>
                  </a:lnTo>
                  <a:lnTo>
                    <a:pt x="1200" y="83"/>
                  </a:lnTo>
                  <a:lnTo>
                    <a:pt x="1271" y="493"/>
                  </a:lnTo>
                  <a:lnTo>
                    <a:pt x="904" y="1689"/>
                  </a:lnTo>
                  <a:lnTo>
                    <a:pt x="1024" y="2352"/>
                  </a:lnTo>
                  <a:lnTo>
                    <a:pt x="542" y="2603"/>
                  </a:lnTo>
                  <a:lnTo>
                    <a:pt x="171" y="2462"/>
                  </a:lnTo>
                  <a:lnTo>
                    <a:pt x="171" y="1760"/>
                  </a:lnTo>
                  <a:lnTo>
                    <a:pt x="0" y="1081"/>
                  </a:lnTo>
                  <a:lnTo>
                    <a:pt x="171" y="260"/>
                  </a:lnTo>
                  <a:lnTo>
                    <a:pt x="260" y="136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599240" y="254160"/>
              <a:ext cx="425880" cy="248040"/>
            </a:xfrm>
            <a:custGeom>
              <a:avLst/>
              <a:gdLst/>
              <a:ahLst/>
              <a:rect l="0" t="0" r="r" b="b"/>
              <a:pathLst>
                <a:path w="1183" h="689">
                  <a:moveTo>
                    <a:pt x="145" y="659"/>
                  </a:moveTo>
                  <a:lnTo>
                    <a:pt x="318" y="472"/>
                  </a:lnTo>
                  <a:lnTo>
                    <a:pt x="433" y="446"/>
                  </a:lnTo>
                  <a:lnTo>
                    <a:pt x="433" y="464"/>
                  </a:lnTo>
                  <a:lnTo>
                    <a:pt x="486" y="446"/>
                  </a:lnTo>
                  <a:lnTo>
                    <a:pt x="561" y="503"/>
                  </a:lnTo>
                  <a:lnTo>
                    <a:pt x="697" y="531"/>
                  </a:lnTo>
                  <a:lnTo>
                    <a:pt x="812" y="689"/>
                  </a:lnTo>
                  <a:lnTo>
                    <a:pt x="998" y="619"/>
                  </a:lnTo>
                  <a:lnTo>
                    <a:pt x="998" y="544"/>
                  </a:lnTo>
                  <a:lnTo>
                    <a:pt x="1183" y="464"/>
                  </a:lnTo>
                  <a:lnTo>
                    <a:pt x="1130" y="331"/>
                  </a:lnTo>
                  <a:lnTo>
                    <a:pt x="954" y="322"/>
                  </a:lnTo>
                  <a:lnTo>
                    <a:pt x="980" y="181"/>
                  </a:lnTo>
                  <a:lnTo>
                    <a:pt x="830" y="195"/>
                  </a:lnTo>
                  <a:lnTo>
                    <a:pt x="803" y="97"/>
                  </a:lnTo>
                  <a:lnTo>
                    <a:pt x="697" y="97"/>
                  </a:lnTo>
                  <a:lnTo>
                    <a:pt x="627" y="154"/>
                  </a:lnTo>
                  <a:lnTo>
                    <a:pt x="561" y="154"/>
                  </a:lnTo>
                  <a:lnTo>
                    <a:pt x="574" y="0"/>
                  </a:lnTo>
                  <a:lnTo>
                    <a:pt x="433" y="70"/>
                  </a:lnTo>
                  <a:lnTo>
                    <a:pt x="233" y="322"/>
                  </a:lnTo>
                  <a:lnTo>
                    <a:pt x="220" y="154"/>
                  </a:lnTo>
                  <a:lnTo>
                    <a:pt x="119" y="234"/>
                  </a:lnTo>
                  <a:lnTo>
                    <a:pt x="88" y="446"/>
                  </a:lnTo>
                  <a:lnTo>
                    <a:pt x="0" y="406"/>
                  </a:lnTo>
                  <a:lnTo>
                    <a:pt x="13" y="544"/>
                  </a:lnTo>
                  <a:lnTo>
                    <a:pt x="145" y="65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713720" y="1187280"/>
              <a:ext cx="136800" cy="709920"/>
            </a:xfrm>
            <a:custGeom>
              <a:avLst/>
              <a:gdLst/>
              <a:ahLst/>
              <a:rect l="0" t="0" r="r" b="b"/>
              <a:pathLst>
                <a:path w="380" h="1972">
                  <a:moveTo>
                    <a:pt x="195" y="13"/>
                  </a:moveTo>
                  <a:lnTo>
                    <a:pt x="66" y="97"/>
                  </a:lnTo>
                  <a:lnTo>
                    <a:pt x="66" y="264"/>
                  </a:lnTo>
                  <a:lnTo>
                    <a:pt x="158" y="317"/>
                  </a:lnTo>
                  <a:lnTo>
                    <a:pt x="35" y="582"/>
                  </a:lnTo>
                  <a:lnTo>
                    <a:pt x="0" y="926"/>
                  </a:lnTo>
                  <a:lnTo>
                    <a:pt x="92" y="1381"/>
                  </a:lnTo>
                  <a:lnTo>
                    <a:pt x="92" y="1570"/>
                  </a:lnTo>
                  <a:lnTo>
                    <a:pt x="44" y="1716"/>
                  </a:lnTo>
                  <a:lnTo>
                    <a:pt x="243" y="1972"/>
                  </a:lnTo>
                  <a:lnTo>
                    <a:pt x="367" y="1588"/>
                  </a:lnTo>
                  <a:lnTo>
                    <a:pt x="367" y="1323"/>
                  </a:lnTo>
                  <a:lnTo>
                    <a:pt x="274" y="1076"/>
                  </a:lnTo>
                  <a:lnTo>
                    <a:pt x="225" y="745"/>
                  </a:lnTo>
                  <a:lnTo>
                    <a:pt x="322" y="418"/>
                  </a:lnTo>
                  <a:lnTo>
                    <a:pt x="292" y="291"/>
                  </a:lnTo>
                  <a:lnTo>
                    <a:pt x="380" y="224"/>
                  </a:lnTo>
                  <a:lnTo>
                    <a:pt x="367" y="136"/>
                  </a:lnTo>
                  <a:lnTo>
                    <a:pt x="256" y="0"/>
                  </a:lnTo>
                  <a:lnTo>
                    <a:pt x="195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709040" y="949320"/>
              <a:ext cx="109800" cy="65520"/>
            </a:xfrm>
            <a:custGeom>
              <a:avLst/>
              <a:gdLst/>
              <a:ahLst/>
              <a:rect l="0" t="0" r="r" b="b"/>
              <a:pathLst>
                <a:path w="305" h="182">
                  <a:moveTo>
                    <a:pt x="0" y="58"/>
                  </a:moveTo>
                  <a:lnTo>
                    <a:pt x="123" y="182"/>
                  </a:lnTo>
                  <a:lnTo>
                    <a:pt x="243" y="169"/>
                  </a:lnTo>
                  <a:lnTo>
                    <a:pt x="305" y="17"/>
                  </a:lnTo>
                  <a:lnTo>
                    <a:pt x="172" y="0"/>
                  </a:lnTo>
                  <a:lnTo>
                    <a:pt x="30" y="17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589880" y="622440"/>
              <a:ext cx="135360" cy="138600"/>
            </a:xfrm>
            <a:custGeom>
              <a:avLst/>
              <a:gdLst/>
              <a:ahLst/>
              <a:rect l="0" t="0" r="r" b="b"/>
              <a:pathLst>
                <a:path w="376" h="385">
                  <a:moveTo>
                    <a:pt x="0" y="44"/>
                  </a:moveTo>
                  <a:lnTo>
                    <a:pt x="261" y="385"/>
                  </a:lnTo>
                  <a:lnTo>
                    <a:pt x="376" y="359"/>
                  </a:lnTo>
                  <a:lnTo>
                    <a:pt x="102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829640" y="592200"/>
              <a:ext cx="117720" cy="138600"/>
            </a:xfrm>
            <a:custGeom>
              <a:avLst/>
              <a:gdLst/>
              <a:ahLst/>
              <a:rect l="0" t="0" r="r" b="b"/>
              <a:pathLst>
                <a:path w="327" h="385">
                  <a:moveTo>
                    <a:pt x="0" y="52"/>
                  </a:moveTo>
                  <a:lnTo>
                    <a:pt x="225" y="385"/>
                  </a:lnTo>
                  <a:lnTo>
                    <a:pt x="327" y="301"/>
                  </a:lnTo>
                  <a:lnTo>
                    <a:pt x="92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539120" y="412920"/>
              <a:ext cx="476640" cy="348120"/>
            </a:xfrm>
            <a:custGeom>
              <a:avLst/>
              <a:gdLst/>
              <a:ahLst/>
              <a:rect l="0" t="0" r="r" b="b"/>
              <a:pathLst>
                <a:path w="1324" h="967">
                  <a:moveTo>
                    <a:pt x="609" y="574"/>
                  </a:moveTo>
                  <a:lnTo>
                    <a:pt x="486" y="538"/>
                  </a:lnTo>
                  <a:lnTo>
                    <a:pt x="591" y="450"/>
                  </a:lnTo>
                  <a:lnTo>
                    <a:pt x="552" y="406"/>
                  </a:lnTo>
                  <a:lnTo>
                    <a:pt x="419" y="521"/>
                  </a:lnTo>
                  <a:lnTo>
                    <a:pt x="167" y="547"/>
                  </a:lnTo>
                  <a:lnTo>
                    <a:pt x="0" y="556"/>
                  </a:lnTo>
                  <a:lnTo>
                    <a:pt x="0" y="688"/>
                  </a:lnTo>
                  <a:lnTo>
                    <a:pt x="158" y="958"/>
                  </a:lnTo>
                  <a:lnTo>
                    <a:pt x="198" y="967"/>
                  </a:lnTo>
                  <a:lnTo>
                    <a:pt x="57" y="666"/>
                  </a:lnTo>
                  <a:lnTo>
                    <a:pt x="273" y="574"/>
                  </a:lnTo>
                  <a:lnTo>
                    <a:pt x="419" y="574"/>
                  </a:lnTo>
                  <a:lnTo>
                    <a:pt x="525" y="631"/>
                  </a:lnTo>
                  <a:lnTo>
                    <a:pt x="552" y="715"/>
                  </a:lnTo>
                  <a:lnTo>
                    <a:pt x="552" y="901"/>
                  </a:lnTo>
                  <a:lnTo>
                    <a:pt x="552" y="958"/>
                  </a:lnTo>
                  <a:lnTo>
                    <a:pt x="613" y="875"/>
                  </a:lnTo>
                  <a:lnTo>
                    <a:pt x="613" y="680"/>
                  </a:lnTo>
                  <a:lnTo>
                    <a:pt x="710" y="680"/>
                  </a:lnTo>
                  <a:lnTo>
                    <a:pt x="755" y="901"/>
                  </a:lnTo>
                  <a:lnTo>
                    <a:pt x="807" y="919"/>
                  </a:lnTo>
                  <a:lnTo>
                    <a:pt x="966" y="919"/>
                  </a:lnTo>
                  <a:lnTo>
                    <a:pt x="1130" y="883"/>
                  </a:lnTo>
                  <a:lnTo>
                    <a:pt x="1245" y="800"/>
                  </a:lnTo>
                  <a:lnTo>
                    <a:pt x="1263" y="600"/>
                  </a:lnTo>
                  <a:lnTo>
                    <a:pt x="1324" y="521"/>
                  </a:lnTo>
                  <a:lnTo>
                    <a:pt x="1289" y="468"/>
                  </a:lnTo>
                  <a:lnTo>
                    <a:pt x="1139" y="415"/>
                  </a:lnTo>
                  <a:lnTo>
                    <a:pt x="1117" y="216"/>
                  </a:lnTo>
                  <a:lnTo>
                    <a:pt x="975" y="216"/>
                  </a:lnTo>
                  <a:lnTo>
                    <a:pt x="812" y="0"/>
                  </a:lnTo>
                  <a:lnTo>
                    <a:pt x="962" y="238"/>
                  </a:lnTo>
                  <a:lnTo>
                    <a:pt x="1011" y="238"/>
                  </a:lnTo>
                  <a:lnTo>
                    <a:pt x="1042" y="406"/>
                  </a:lnTo>
                  <a:lnTo>
                    <a:pt x="856" y="468"/>
                  </a:lnTo>
                  <a:lnTo>
                    <a:pt x="719" y="419"/>
                  </a:lnTo>
                  <a:lnTo>
                    <a:pt x="697" y="468"/>
                  </a:lnTo>
                  <a:lnTo>
                    <a:pt x="772" y="521"/>
                  </a:lnTo>
                  <a:lnTo>
                    <a:pt x="772" y="565"/>
                  </a:lnTo>
                  <a:lnTo>
                    <a:pt x="931" y="490"/>
                  </a:lnTo>
                  <a:lnTo>
                    <a:pt x="1064" y="481"/>
                  </a:lnTo>
                  <a:lnTo>
                    <a:pt x="1214" y="499"/>
                  </a:lnTo>
                  <a:lnTo>
                    <a:pt x="1214" y="525"/>
                  </a:lnTo>
                  <a:lnTo>
                    <a:pt x="1144" y="591"/>
                  </a:lnTo>
                  <a:lnTo>
                    <a:pt x="1117" y="680"/>
                  </a:lnTo>
                  <a:lnTo>
                    <a:pt x="1108" y="800"/>
                  </a:lnTo>
                  <a:lnTo>
                    <a:pt x="1025" y="844"/>
                  </a:lnTo>
                  <a:lnTo>
                    <a:pt x="896" y="861"/>
                  </a:lnTo>
                  <a:lnTo>
                    <a:pt x="807" y="861"/>
                  </a:lnTo>
                  <a:lnTo>
                    <a:pt x="777" y="826"/>
                  </a:lnTo>
                  <a:lnTo>
                    <a:pt x="755" y="600"/>
                  </a:lnTo>
                  <a:lnTo>
                    <a:pt x="613" y="600"/>
                  </a:lnTo>
                  <a:lnTo>
                    <a:pt x="609" y="5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702560" y="814320"/>
              <a:ext cx="154440" cy="70200"/>
            </a:xfrm>
            <a:custGeom>
              <a:avLst/>
              <a:gdLst/>
              <a:ahLst/>
              <a:rect l="0" t="0" r="r" b="b"/>
              <a:pathLst>
                <a:path w="429" h="195">
                  <a:moveTo>
                    <a:pt x="0" y="0"/>
                  </a:moveTo>
                  <a:lnTo>
                    <a:pt x="70" y="88"/>
                  </a:lnTo>
                  <a:lnTo>
                    <a:pt x="256" y="88"/>
                  </a:lnTo>
                  <a:lnTo>
                    <a:pt x="332" y="26"/>
                  </a:lnTo>
                  <a:lnTo>
                    <a:pt x="429" y="26"/>
                  </a:lnTo>
                  <a:lnTo>
                    <a:pt x="412" y="57"/>
                  </a:lnTo>
                  <a:lnTo>
                    <a:pt x="412" y="88"/>
                  </a:lnTo>
                  <a:lnTo>
                    <a:pt x="239" y="195"/>
                  </a:lnTo>
                  <a:lnTo>
                    <a:pt x="142" y="195"/>
                  </a:lnTo>
                  <a:lnTo>
                    <a:pt x="92" y="155"/>
                  </a:lnTo>
                  <a:lnTo>
                    <a:pt x="39" y="1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531200" y="700200"/>
              <a:ext cx="233640" cy="373320"/>
            </a:xfrm>
            <a:custGeom>
              <a:avLst/>
              <a:gdLst/>
              <a:ahLst/>
              <a:rect l="0" t="0" r="r" b="b"/>
              <a:pathLst>
                <a:path w="649" h="1037">
                  <a:moveTo>
                    <a:pt x="649" y="74"/>
                  </a:moveTo>
                  <a:lnTo>
                    <a:pt x="649" y="88"/>
                  </a:lnTo>
                  <a:lnTo>
                    <a:pt x="534" y="194"/>
                  </a:lnTo>
                  <a:lnTo>
                    <a:pt x="441" y="216"/>
                  </a:lnTo>
                  <a:lnTo>
                    <a:pt x="260" y="189"/>
                  </a:lnTo>
                  <a:lnTo>
                    <a:pt x="291" y="561"/>
                  </a:lnTo>
                  <a:lnTo>
                    <a:pt x="336" y="869"/>
                  </a:lnTo>
                  <a:lnTo>
                    <a:pt x="411" y="1037"/>
                  </a:lnTo>
                  <a:lnTo>
                    <a:pt x="336" y="918"/>
                  </a:lnTo>
                  <a:lnTo>
                    <a:pt x="304" y="785"/>
                  </a:lnTo>
                  <a:lnTo>
                    <a:pt x="251" y="436"/>
                  </a:lnTo>
                  <a:lnTo>
                    <a:pt x="198" y="458"/>
                  </a:lnTo>
                  <a:lnTo>
                    <a:pt x="136" y="418"/>
                  </a:lnTo>
                  <a:lnTo>
                    <a:pt x="13" y="233"/>
                  </a:lnTo>
                  <a:lnTo>
                    <a:pt x="0" y="132"/>
                  </a:lnTo>
                  <a:lnTo>
                    <a:pt x="0" y="61"/>
                  </a:lnTo>
                  <a:lnTo>
                    <a:pt x="26" y="17"/>
                  </a:lnTo>
                  <a:lnTo>
                    <a:pt x="101" y="0"/>
                  </a:lnTo>
                  <a:lnTo>
                    <a:pt x="110" y="26"/>
                  </a:lnTo>
                  <a:lnTo>
                    <a:pt x="52" y="48"/>
                  </a:lnTo>
                  <a:lnTo>
                    <a:pt x="39" y="123"/>
                  </a:lnTo>
                  <a:lnTo>
                    <a:pt x="44" y="224"/>
                  </a:lnTo>
                  <a:lnTo>
                    <a:pt x="127" y="308"/>
                  </a:lnTo>
                  <a:lnTo>
                    <a:pt x="167" y="291"/>
                  </a:lnTo>
                  <a:lnTo>
                    <a:pt x="167" y="101"/>
                  </a:lnTo>
                  <a:lnTo>
                    <a:pt x="242" y="141"/>
                  </a:lnTo>
                  <a:lnTo>
                    <a:pt x="362" y="167"/>
                  </a:lnTo>
                  <a:lnTo>
                    <a:pt x="472" y="158"/>
                  </a:lnTo>
                  <a:lnTo>
                    <a:pt x="578" y="101"/>
                  </a:lnTo>
                  <a:lnTo>
                    <a:pt x="649" y="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594560" y="403200"/>
              <a:ext cx="70200" cy="198720"/>
            </a:xfrm>
            <a:custGeom>
              <a:avLst/>
              <a:gdLst/>
              <a:ahLst/>
              <a:rect l="0" t="0" r="r" b="b"/>
              <a:pathLst>
                <a:path w="195" h="552">
                  <a:moveTo>
                    <a:pt x="102" y="552"/>
                  </a:moveTo>
                  <a:lnTo>
                    <a:pt x="195" y="224"/>
                  </a:lnTo>
                  <a:lnTo>
                    <a:pt x="26" y="110"/>
                  </a:lnTo>
                  <a:lnTo>
                    <a:pt x="0" y="0"/>
                  </a:lnTo>
                  <a:lnTo>
                    <a:pt x="13" y="132"/>
                  </a:lnTo>
                  <a:lnTo>
                    <a:pt x="70" y="189"/>
                  </a:lnTo>
                  <a:lnTo>
                    <a:pt x="74" y="353"/>
                  </a:lnTo>
                  <a:lnTo>
                    <a:pt x="120" y="419"/>
                  </a:lnTo>
                  <a:lnTo>
                    <a:pt x="102" y="55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591320" y="228600"/>
              <a:ext cx="522720" cy="262440"/>
            </a:xfrm>
            <a:custGeom>
              <a:avLst/>
              <a:gdLst/>
              <a:ahLst/>
              <a:rect l="0" t="0" r="r" b="b"/>
              <a:pathLst>
                <a:path w="1452" h="729">
                  <a:moveTo>
                    <a:pt x="13" y="494"/>
                  </a:moveTo>
                  <a:lnTo>
                    <a:pt x="141" y="570"/>
                  </a:lnTo>
                  <a:lnTo>
                    <a:pt x="123" y="472"/>
                  </a:lnTo>
                  <a:lnTo>
                    <a:pt x="149" y="309"/>
                  </a:lnTo>
                  <a:lnTo>
                    <a:pt x="233" y="274"/>
                  </a:lnTo>
                  <a:lnTo>
                    <a:pt x="242" y="450"/>
                  </a:lnTo>
                  <a:lnTo>
                    <a:pt x="486" y="141"/>
                  </a:lnTo>
                  <a:lnTo>
                    <a:pt x="547" y="123"/>
                  </a:lnTo>
                  <a:lnTo>
                    <a:pt x="499" y="243"/>
                  </a:lnTo>
                  <a:lnTo>
                    <a:pt x="653" y="300"/>
                  </a:lnTo>
                  <a:lnTo>
                    <a:pt x="763" y="180"/>
                  </a:lnTo>
                  <a:lnTo>
                    <a:pt x="825" y="217"/>
                  </a:lnTo>
                  <a:lnTo>
                    <a:pt x="772" y="322"/>
                  </a:lnTo>
                  <a:lnTo>
                    <a:pt x="843" y="261"/>
                  </a:lnTo>
                  <a:lnTo>
                    <a:pt x="953" y="309"/>
                  </a:lnTo>
                  <a:lnTo>
                    <a:pt x="865" y="397"/>
                  </a:lnTo>
                  <a:lnTo>
                    <a:pt x="1166" y="450"/>
                  </a:lnTo>
                  <a:lnTo>
                    <a:pt x="962" y="512"/>
                  </a:lnTo>
                  <a:lnTo>
                    <a:pt x="1214" y="548"/>
                  </a:lnTo>
                  <a:lnTo>
                    <a:pt x="918" y="619"/>
                  </a:lnTo>
                  <a:lnTo>
                    <a:pt x="979" y="676"/>
                  </a:lnTo>
                  <a:lnTo>
                    <a:pt x="891" y="729"/>
                  </a:lnTo>
                  <a:lnTo>
                    <a:pt x="1046" y="729"/>
                  </a:lnTo>
                  <a:lnTo>
                    <a:pt x="1032" y="685"/>
                  </a:lnTo>
                  <a:lnTo>
                    <a:pt x="1188" y="725"/>
                  </a:lnTo>
                  <a:lnTo>
                    <a:pt x="1166" y="610"/>
                  </a:lnTo>
                  <a:lnTo>
                    <a:pt x="1311" y="557"/>
                  </a:lnTo>
                  <a:lnTo>
                    <a:pt x="1205" y="503"/>
                  </a:lnTo>
                  <a:lnTo>
                    <a:pt x="1452" y="486"/>
                  </a:lnTo>
                  <a:lnTo>
                    <a:pt x="1241" y="367"/>
                  </a:lnTo>
                  <a:lnTo>
                    <a:pt x="997" y="340"/>
                  </a:lnTo>
                  <a:lnTo>
                    <a:pt x="1188" y="225"/>
                  </a:lnTo>
                  <a:lnTo>
                    <a:pt x="843" y="225"/>
                  </a:lnTo>
                  <a:lnTo>
                    <a:pt x="1006" y="110"/>
                  </a:lnTo>
                  <a:lnTo>
                    <a:pt x="759" y="141"/>
                  </a:lnTo>
                  <a:lnTo>
                    <a:pt x="640" y="195"/>
                  </a:lnTo>
                  <a:lnTo>
                    <a:pt x="741" y="0"/>
                  </a:lnTo>
                  <a:lnTo>
                    <a:pt x="437" y="110"/>
                  </a:lnTo>
                  <a:lnTo>
                    <a:pt x="268" y="349"/>
                  </a:lnTo>
                  <a:lnTo>
                    <a:pt x="242" y="217"/>
                  </a:lnTo>
                  <a:lnTo>
                    <a:pt x="105" y="309"/>
                  </a:lnTo>
                  <a:lnTo>
                    <a:pt x="88" y="486"/>
                  </a:lnTo>
                  <a:lnTo>
                    <a:pt x="0" y="450"/>
                  </a:lnTo>
                  <a:lnTo>
                    <a:pt x="30" y="610"/>
                  </a:lnTo>
                  <a:lnTo>
                    <a:pt x="13" y="49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705800" y="368280"/>
              <a:ext cx="147960" cy="79560"/>
            </a:xfrm>
            <a:custGeom>
              <a:avLst/>
              <a:gdLst/>
              <a:ahLst/>
              <a:rect l="0" t="0" r="r" b="b"/>
              <a:pathLst>
                <a:path w="411" h="221">
                  <a:moveTo>
                    <a:pt x="0" y="221"/>
                  </a:moveTo>
                  <a:lnTo>
                    <a:pt x="154" y="0"/>
                  </a:lnTo>
                  <a:lnTo>
                    <a:pt x="154" y="146"/>
                  </a:lnTo>
                  <a:lnTo>
                    <a:pt x="208" y="88"/>
                  </a:lnTo>
                  <a:lnTo>
                    <a:pt x="256" y="168"/>
                  </a:lnTo>
                  <a:lnTo>
                    <a:pt x="411" y="208"/>
                  </a:lnTo>
                  <a:lnTo>
                    <a:pt x="247" y="181"/>
                  </a:lnTo>
                  <a:lnTo>
                    <a:pt x="198" y="128"/>
                  </a:lnTo>
                  <a:lnTo>
                    <a:pt x="127" y="181"/>
                  </a:lnTo>
                  <a:lnTo>
                    <a:pt x="127" y="115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91400" y="905040"/>
              <a:ext cx="178200" cy="117720"/>
            </a:xfrm>
            <a:custGeom>
              <a:avLst/>
              <a:gdLst/>
              <a:ahLst/>
              <a:rect l="0" t="0" r="r" b="b"/>
              <a:pathLst>
                <a:path w="495" h="327">
                  <a:moveTo>
                    <a:pt x="92" y="114"/>
                  </a:moveTo>
                  <a:lnTo>
                    <a:pt x="296" y="97"/>
                  </a:lnTo>
                  <a:lnTo>
                    <a:pt x="394" y="123"/>
                  </a:lnTo>
                  <a:lnTo>
                    <a:pt x="442" y="74"/>
                  </a:lnTo>
                  <a:lnTo>
                    <a:pt x="495" y="181"/>
                  </a:lnTo>
                  <a:lnTo>
                    <a:pt x="460" y="203"/>
                  </a:lnTo>
                  <a:lnTo>
                    <a:pt x="420" y="164"/>
                  </a:lnTo>
                  <a:lnTo>
                    <a:pt x="353" y="239"/>
                  </a:lnTo>
                  <a:lnTo>
                    <a:pt x="230" y="327"/>
                  </a:lnTo>
                  <a:lnTo>
                    <a:pt x="177" y="327"/>
                  </a:lnTo>
                  <a:lnTo>
                    <a:pt x="92" y="278"/>
                  </a:lnTo>
                  <a:lnTo>
                    <a:pt x="186" y="318"/>
                  </a:lnTo>
                  <a:lnTo>
                    <a:pt x="221" y="318"/>
                  </a:lnTo>
                  <a:lnTo>
                    <a:pt x="296" y="261"/>
                  </a:lnTo>
                  <a:lnTo>
                    <a:pt x="349" y="149"/>
                  </a:lnTo>
                  <a:lnTo>
                    <a:pt x="269" y="132"/>
                  </a:lnTo>
                  <a:lnTo>
                    <a:pt x="217" y="123"/>
                  </a:lnTo>
                  <a:lnTo>
                    <a:pt x="83" y="141"/>
                  </a:lnTo>
                  <a:lnTo>
                    <a:pt x="79" y="230"/>
                  </a:lnTo>
                  <a:lnTo>
                    <a:pt x="39" y="172"/>
                  </a:lnTo>
                  <a:lnTo>
                    <a:pt x="0" y="247"/>
                  </a:lnTo>
                  <a:lnTo>
                    <a:pt x="4" y="88"/>
                  </a:lnTo>
                  <a:lnTo>
                    <a:pt x="52" y="0"/>
                  </a:lnTo>
                  <a:lnTo>
                    <a:pt x="92" y="88"/>
                  </a:lnTo>
                  <a:lnTo>
                    <a:pt x="92" y="11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69080" y="650880"/>
              <a:ext cx="379800" cy="541800"/>
            </a:xfrm>
            <a:custGeom>
              <a:avLst/>
              <a:gdLst/>
              <a:ahLst/>
              <a:rect l="0" t="0" r="r" b="b"/>
              <a:pathLst>
                <a:path w="1055" h="1505">
                  <a:moveTo>
                    <a:pt x="888" y="0"/>
                  </a:moveTo>
                  <a:lnTo>
                    <a:pt x="994" y="0"/>
                  </a:lnTo>
                  <a:lnTo>
                    <a:pt x="1055" y="74"/>
                  </a:lnTo>
                  <a:lnTo>
                    <a:pt x="1055" y="154"/>
                  </a:lnTo>
                  <a:lnTo>
                    <a:pt x="972" y="393"/>
                  </a:lnTo>
                  <a:lnTo>
                    <a:pt x="883" y="503"/>
                  </a:lnTo>
                  <a:lnTo>
                    <a:pt x="790" y="521"/>
                  </a:lnTo>
                  <a:lnTo>
                    <a:pt x="768" y="521"/>
                  </a:lnTo>
                  <a:lnTo>
                    <a:pt x="768" y="816"/>
                  </a:lnTo>
                  <a:lnTo>
                    <a:pt x="808" y="1032"/>
                  </a:lnTo>
                  <a:lnTo>
                    <a:pt x="808" y="1210"/>
                  </a:lnTo>
                  <a:lnTo>
                    <a:pt x="649" y="1386"/>
                  </a:lnTo>
                  <a:lnTo>
                    <a:pt x="433" y="1505"/>
                  </a:lnTo>
                  <a:lnTo>
                    <a:pt x="292" y="1505"/>
                  </a:lnTo>
                  <a:lnTo>
                    <a:pt x="220" y="1470"/>
                  </a:lnTo>
                  <a:lnTo>
                    <a:pt x="123" y="1263"/>
                  </a:lnTo>
                  <a:lnTo>
                    <a:pt x="35" y="1188"/>
                  </a:lnTo>
                  <a:lnTo>
                    <a:pt x="0" y="1135"/>
                  </a:lnTo>
                  <a:lnTo>
                    <a:pt x="119" y="1210"/>
                  </a:lnTo>
                  <a:lnTo>
                    <a:pt x="202" y="1285"/>
                  </a:lnTo>
                  <a:lnTo>
                    <a:pt x="371" y="1294"/>
                  </a:lnTo>
                  <a:lnTo>
                    <a:pt x="525" y="1219"/>
                  </a:lnTo>
                  <a:lnTo>
                    <a:pt x="605" y="1135"/>
                  </a:lnTo>
                  <a:lnTo>
                    <a:pt x="693" y="979"/>
                  </a:lnTo>
                  <a:lnTo>
                    <a:pt x="706" y="803"/>
                  </a:lnTo>
                  <a:lnTo>
                    <a:pt x="737" y="224"/>
                  </a:lnTo>
                  <a:lnTo>
                    <a:pt x="772" y="304"/>
                  </a:lnTo>
                  <a:lnTo>
                    <a:pt x="879" y="198"/>
                  </a:lnTo>
                  <a:lnTo>
                    <a:pt x="985" y="154"/>
                  </a:lnTo>
                  <a:lnTo>
                    <a:pt x="1016" y="92"/>
                  </a:lnTo>
                  <a:lnTo>
                    <a:pt x="1003" y="35"/>
                  </a:lnTo>
                  <a:lnTo>
                    <a:pt x="954" y="8"/>
                  </a:lnTo>
                  <a:lnTo>
                    <a:pt x="88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080120" y="1117440"/>
              <a:ext cx="306720" cy="503640"/>
            </a:xfrm>
            <a:custGeom>
              <a:avLst/>
              <a:gdLst/>
              <a:ahLst/>
              <a:rect l="0" t="0" r="r" b="b"/>
              <a:pathLst>
                <a:path w="852" h="1399">
                  <a:moveTo>
                    <a:pt x="105" y="0"/>
                  </a:moveTo>
                  <a:lnTo>
                    <a:pt x="207" y="61"/>
                  </a:lnTo>
                  <a:lnTo>
                    <a:pt x="277" y="348"/>
                  </a:lnTo>
                  <a:lnTo>
                    <a:pt x="499" y="415"/>
                  </a:lnTo>
                  <a:lnTo>
                    <a:pt x="561" y="486"/>
                  </a:lnTo>
                  <a:lnTo>
                    <a:pt x="569" y="596"/>
                  </a:lnTo>
                  <a:lnTo>
                    <a:pt x="680" y="578"/>
                  </a:lnTo>
                  <a:lnTo>
                    <a:pt x="812" y="666"/>
                  </a:lnTo>
                  <a:lnTo>
                    <a:pt x="852" y="781"/>
                  </a:lnTo>
                  <a:lnTo>
                    <a:pt x="852" y="979"/>
                  </a:lnTo>
                  <a:lnTo>
                    <a:pt x="680" y="1276"/>
                  </a:lnTo>
                  <a:lnTo>
                    <a:pt x="618" y="1399"/>
                  </a:lnTo>
                  <a:lnTo>
                    <a:pt x="649" y="1241"/>
                  </a:lnTo>
                  <a:lnTo>
                    <a:pt x="618" y="1174"/>
                  </a:lnTo>
                  <a:lnTo>
                    <a:pt x="516" y="1073"/>
                  </a:lnTo>
                  <a:lnTo>
                    <a:pt x="348" y="953"/>
                  </a:lnTo>
                  <a:lnTo>
                    <a:pt x="552" y="1024"/>
                  </a:lnTo>
                  <a:lnTo>
                    <a:pt x="666" y="1113"/>
                  </a:lnTo>
                  <a:lnTo>
                    <a:pt x="728" y="1100"/>
                  </a:lnTo>
                  <a:lnTo>
                    <a:pt x="763" y="1051"/>
                  </a:lnTo>
                  <a:lnTo>
                    <a:pt x="812" y="909"/>
                  </a:lnTo>
                  <a:lnTo>
                    <a:pt x="799" y="772"/>
                  </a:lnTo>
                  <a:lnTo>
                    <a:pt x="733" y="693"/>
                  </a:lnTo>
                  <a:lnTo>
                    <a:pt x="631" y="666"/>
                  </a:lnTo>
                  <a:lnTo>
                    <a:pt x="516" y="666"/>
                  </a:lnTo>
                  <a:lnTo>
                    <a:pt x="477" y="459"/>
                  </a:lnTo>
                  <a:lnTo>
                    <a:pt x="286" y="389"/>
                  </a:lnTo>
                  <a:lnTo>
                    <a:pt x="286" y="450"/>
                  </a:lnTo>
                  <a:lnTo>
                    <a:pt x="207" y="299"/>
                  </a:lnTo>
                  <a:lnTo>
                    <a:pt x="154" y="61"/>
                  </a:lnTo>
                  <a:lnTo>
                    <a:pt x="83" y="39"/>
                  </a:lnTo>
                  <a:lnTo>
                    <a:pt x="39" y="110"/>
                  </a:lnTo>
                  <a:lnTo>
                    <a:pt x="39" y="268"/>
                  </a:lnTo>
                  <a:lnTo>
                    <a:pt x="74" y="450"/>
                  </a:lnTo>
                  <a:lnTo>
                    <a:pt x="176" y="596"/>
                  </a:lnTo>
                  <a:lnTo>
                    <a:pt x="66" y="503"/>
                  </a:lnTo>
                  <a:lnTo>
                    <a:pt x="8" y="348"/>
                  </a:lnTo>
                  <a:lnTo>
                    <a:pt x="0" y="149"/>
                  </a:lnTo>
                  <a:lnTo>
                    <a:pt x="39" y="39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934320" y="1339920"/>
              <a:ext cx="201960" cy="402120"/>
            </a:xfrm>
            <a:custGeom>
              <a:avLst/>
              <a:gdLst/>
              <a:ahLst/>
              <a:rect l="0" t="0" r="r" b="b"/>
              <a:pathLst>
                <a:path w="561" h="1117">
                  <a:moveTo>
                    <a:pt x="561" y="0"/>
                  </a:moveTo>
                  <a:lnTo>
                    <a:pt x="446" y="74"/>
                  </a:lnTo>
                  <a:lnTo>
                    <a:pt x="309" y="344"/>
                  </a:lnTo>
                  <a:lnTo>
                    <a:pt x="176" y="521"/>
                  </a:lnTo>
                  <a:lnTo>
                    <a:pt x="13" y="733"/>
                  </a:lnTo>
                  <a:lnTo>
                    <a:pt x="0" y="844"/>
                  </a:lnTo>
                  <a:lnTo>
                    <a:pt x="30" y="941"/>
                  </a:lnTo>
                  <a:lnTo>
                    <a:pt x="110" y="941"/>
                  </a:lnTo>
                  <a:lnTo>
                    <a:pt x="216" y="844"/>
                  </a:lnTo>
                  <a:lnTo>
                    <a:pt x="300" y="644"/>
                  </a:lnTo>
                  <a:lnTo>
                    <a:pt x="411" y="521"/>
                  </a:lnTo>
                  <a:lnTo>
                    <a:pt x="411" y="684"/>
                  </a:lnTo>
                  <a:lnTo>
                    <a:pt x="397" y="830"/>
                  </a:lnTo>
                  <a:lnTo>
                    <a:pt x="273" y="1029"/>
                  </a:lnTo>
                  <a:lnTo>
                    <a:pt x="273" y="1091"/>
                  </a:lnTo>
                  <a:lnTo>
                    <a:pt x="397" y="1117"/>
                  </a:lnTo>
                  <a:lnTo>
                    <a:pt x="309" y="1064"/>
                  </a:lnTo>
                  <a:lnTo>
                    <a:pt x="322" y="1029"/>
                  </a:lnTo>
                  <a:lnTo>
                    <a:pt x="406" y="883"/>
                  </a:lnTo>
                  <a:lnTo>
                    <a:pt x="464" y="618"/>
                  </a:lnTo>
                  <a:lnTo>
                    <a:pt x="424" y="472"/>
                  </a:lnTo>
                  <a:lnTo>
                    <a:pt x="331" y="556"/>
                  </a:lnTo>
                  <a:lnTo>
                    <a:pt x="132" y="892"/>
                  </a:lnTo>
                  <a:lnTo>
                    <a:pt x="79" y="901"/>
                  </a:lnTo>
                  <a:lnTo>
                    <a:pt x="30" y="866"/>
                  </a:lnTo>
                  <a:lnTo>
                    <a:pt x="30" y="763"/>
                  </a:lnTo>
                  <a:lnTo>
                    <a:pt x="110" y="631"/>
                  </a:lnTo>
                  <a:lnTo>
                    <a:pt x="331" y="362"/>
                  </a:lnTo>
                  <a:lnTo>
                    <a:pt x="464" y="101"/>
                  </a:lnTo>
                  <a:lnTo>
                    <a:pt x="56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083360" y="1566720"/>
              <a:ext cx="125640" cy="192600"/>
            </a:xfrm>
            <a:custGeom>
              <a:avLst/>
              <a:gdLst/>
              <a:ahLst/>
              <a:rect l="0" t="0" r="r" b="b"/>
              <a:pathLst>
                <a:path w="349" h="535">
                  <a:moveTo>
                    <a:pt x="0" y="473"/>
                  </a:moveTo>
                  <a:lnTo>
                    <a:pt x="114" y="336"/>
                  </a:lnTo>
                  <a:lnTo>
                    <a:pt x="136" y="199"/>
                  </a:lnTo>
                  <a:lnTo>
                    <a:pt x="269" y="0"/>
                  </a:lnTo>
                  <a:lnTo>
                    <a:pt x="296" y="132"/>
                  </a:lnTo>
                  <a:lnTo>
                    <a:pt x="278" y="487"/>
                  </a:lnTo>
                  <a:lnTo>
                    <a:pt x="349" y="535"/>
                  </a:lnTo>
                  <a:lnTo>
                    <a:pt x="247" y="495"/>
                  </a:lnTo>
                  <a:lnTo>
                    <a:pt x="195" y="296"/>
                  </a:lnTo>
                  <a:lnTo>
                    <a:pt x="114" y="393"/>
                  </a:lnTo>
                  <a:lnTo>
                    <a:pt x="0" y="47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237440" y="1576440"/>
              <a:ext cx="82800" cy="173520"/>
            </a:xfrm>
            <a:custGeom>
              <a:avLst/>
              <a:gdLst/>
              <a:ahLst/>
              <a:rect l="0" t="0" r="r" b="b"/>
              <a:pathLst>
                <a:path w="230" h="482">
                  <a:moveTo>
                    <a:pt x="0" y="363"/>
                  </a:moveTo>
                  <a:lnTo>
                    <a:pt x="8" y="186"/>
                  </a:lnTo>
                  <a:lnTo>
                    <a:pt x="57" y="79"/>
                  </a:lnTo>
                  <a:lnTo>
                    <a:pt x="110" y="460"/>
                  </a:lnTo>
                  <a:lnTo>
                    <a:pt x="181" y="460"/>
                  </a:lnTo>
                  <a:lnTo>
                    <a:pt x="212" y="52"/>
                  </a:lnTo>
                  <a:lnTo>
                    <a:pt x="230" y="0"/>
                  </a:lnTo>
                  <a:lnTo>
                    <a:pt x="212" y="314"/>
                  </a:lnTo>
                  <a:lnTo>
                    <a:pt x="181" y="482"/>
                  </a:lnTo>
                  <a:lnTo>
                    <a:pt x="92" y="482"/>
                  </a:lnTo>
                  <a:lnTo>
                    <a:pt x="52" y="150"/>
                  </a:lnTo>
                  <a:lnTo>
                    <a:pt x="26" y="195"/>
                  </a:lnTo>
                  <a:lnTo>
                    <a:pt x="0" y="36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291520" y="895320"/>
              <a:ext cx="200520" cy="462240"/>
            </a:xfrm>
            <a:custGeom>
              <a:avLst/>
              <a:gdLst/>
              <a:ahLst/>
              <a:rect l="0" t="0" r="r" b="b"/>
              <a:pathLst>
                <a:path w="557" h="1284">
                  <a:moveTo>
                    <a:pt x="146" y="697"/>
                  </a:moveTo>
                  <a:lnTo>
                    <a:pt x="190" y="493"/>
                  </a:lnTo>
                  <a:lnTo>
                    <a:pt x="375" y="440"/>
                  </a:lnTo>
                  <a:lnTo>
                    <a:pt x="557" y="0"/>
                  </a:lnTo>
                  <a:lnTo>
                    <a:pt x="557" y="127"/>
                  </a:lnTo>
                  <a:lnTo>
                    <a:pt x="406" y="471"/>
                  </a:lnTo>
                  <a:lnTo>
                    <a:pt x="208" y="533"/>
                  </a:lnTo>
                  <a:lnTo>
                    <a:pt x="177" y="697"/>
                  </a:lnTo>
                  <a:lnTo>
                    <a:pt x="247" y="697"/>
                  </a:lnTo>
                  <a:lnTo>
                    <a:pt x="74" y="768"/>
                  </a:lnTo>
                  <a:lnTo>
                    <a:pt x="30" y="904"/>
                  </a:lnTo>
                  <a:lnTo>
                    <a:pt x="39" y="1081"/>
                  </a:lnTo>
                  <a:lnTo>
                    <a:pt x="225" y="1284"/>
                  </a:lnTo>
                  <a:lnTo>
                    <a:pt x="30" y="1103"/>
                  </a:lnTo>
                  <a:lnTo>
                    <a:pt x="0" y="957"/>
                  </a:lnTo>
                  <a:lnTo>
                    <a:pt x="13" y="807"/>
                  </a:lnTo>
                  <a:lnTo>
                    <a:pt x="83" y="702"/>
                  </a:lnTo>
                  <a:lnTo>
                    <a:pt x="146" y="69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26520" y="895320"/>
              <a:ext cx="335160" cy="448200"/>
            </a:xfrm>
            <a:custGeom>
              <a:avLst/>
              <a:gdLst/>
              <a:ahLst/>
              <a:rect l="0" t="0" r="r" b="b"/>
              <a:pathLst>
                <a:path w="931" h="1245">
                  <a:moveTo>
                    <a:pt x="255" y="0"/>
                  </a:moveTo>
                  <a:lnTo>
                    <a:pt x="313" y="39"/>
                  </a:lnTo>
                  <a:lnTo>
                    <a:pt x="330" y="145"/>
                  </a:lnTo>
                  <a:lnTo>
                    <a:pt x="330" y="242"/>
                  </a:lnTo>
                  <a:lnTo>
                    <a:pt x="224" y="424"/>
                  </a:lnTo>
                  <a:lnTo>
                    <a:pt x="246" y="556"/>
                  </a:lnTo>
                  <a:lnTo>
                    <a:pt x="561" y="702"/>
                  </a:lnTo>
                  <a:lnTo>
                    <a:pt x="927" y="1095"/>
                  </a:lnTo>
                  <a:lnTo>
                    <a:pt x="931" y="1197"/>
                  </a:lnTo>
                  <a:lnTo>
                    <a:pt x="909" y="1245"/>
                  </a:lnTo>
                  <a:lnTo>
                    <a:pt x="777" y="1245"/>
                  </a:lnTo>
                  <a:lnTo>
                    <a:pt x="653" y="1170"/>
                  </a:lnTo>
                  <a:lnTo>
                    <a:pt x="552" y="1042"/>
                  </a:lnTo>
                  <a:lnTo>
                    <a:pt x="499" y="967"/>
                  </a:lnTo>
                  <a:lnTo>
                    <a:pt x="432" y="954"/>
                  </a:lnTo>
                  <a:lnTo>
                    <a:pt x="512" y="954"/>
                  </a:lnTo>
                  <a:lnTo>
                    <a:pt x="666" y="1161"/>
                  </a:lnTo>
                  <a:lnTo>
                    <a:pt x="860" y="1219"/>
                  </a:lnTo>
                  <a:lnTo>
                    <a:pt x="900" y="1161"/>
                  </a:lnTo>
                  <a:lnTo>
                    <a:pt x="878" y="1064"/>
                  </a:lnTo>
                  <a:lnTo>
                    <a:pt x="538" y="781"/>
                  </a:lnTo>
                  <a:lnTo>
                    <a:pt x="490" y="702"/>
                  </a:lnTo>
                  <a:lnTo>
                    <a:pt x="224" y="631"/>
                  </a:lnTo>
                  <a:lnTo>
                    <a:pt x="180" y="702"/>
                  </a:lnTo>
                  <a:lnTo>
                    <a:pt x="0" y="816"/>
                  </a:lnTo>
                  <a:lnTo>
                    <a:pt x="171" y="680"/>
                  </a:lnTo>
                  <a:lnTo>
                    <a:pt x="180" y="596"/>
                  </a:lnTo>
                  <a:lnTo>
                    <a:pt x="180" y="397"/>
                  </a:lnTo>
                  <a:lnTo>
                    <a:pt x="299" y="242"/>
                  </a:lnTo>
                  <a:lnTo>
                    <a:pt x="299" y="52"/>
                  </a:lnTo>
                  <a:lnTo>
                    <a:pt x="25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366040" y="1247760"/>
              <a:ext cx="284400" cy="265320"/>
            </a:xfrm>
            <a:custGeom>
              <a:avLst/>
              <a:gdLst/>
              <a:ahLst/>
              <a:rect l="0" t="0" r="r" b="b"/>
              <a:pathLst>
                <a:path w="790" h="737">
                  <a:moveTo>
                    <a:pt x="591" y="0"/>
                  </a:moveTo>
                  <a:lnTo>
                    <a:pt x="574" y="61"/>
                  </a:lnTo>
                  <a:lnTo>
                    <a:pt x="688" y="304"/>
                  </a:lnTo>
                  <a:lnTo>
                    <a:pt x="750" y="556"/>
                  </a:lnTo>
                  <a:lnTo>
                    <a:pt x="680" y="556"/>
                  </a:lnTo>
                  <a:lnTo>
                    <a:pt x="561" y="446"/>
                  </a:lnTo>
                  <a:lnTo>
                    <a:pt x="455" y="216"/>
                  </a:lnTo>
                  <a:lnTo>
                    <a:pt x="370" y="180"/>
                  </a:lnTo>
                  <a:lnTo>
                    <a:pt x="383" y="304"/>
                  </a:lnTo>
                  <a:lnTo>
                    <a:pt x="464" y="397"/>
                  </a:lnTo>
                  <a:lnTo>
                    <a:pt x="464" y="574"/>
                  </a:lnTo>
                  <a:lnTo>
                    <a:pt x="406" y="702"/>
                  </a:lnTo>
                  <a:lnTo>
                    <a:pt x="330" y="653"/>
                  </a:lnTo>
                  <a:lnTo>
                    <a:pt x="242" y="446"/>
                  </a:lnTo>
                  <a:lnTo>
                    <a:pt x="220" y="304"/>
                  </a:lnTo>
                  <a:lnTo>
                    <a:pt x="171" y="264"/>
                  </a:lnTo>
                  <a:lnTo>
                    <a:pt x="154" y="622"/>
                  </a:lnTo>
                  <a:lnTo>
                    <a:pt x="83" y="675"/>
                  </a:lnTo>
                  <a:lnTo>
                    <a:pt x="22" y="622"/>
                  </a:lnTo>
                  <a:lnTo>
                    <a:pt x="8" y="317"/>
                  </a:lnTo>
                  <a:lnTo>
                    <a:pt x="0" y="618"/>
                  </a:lnTo>
                  <a:lnTo>
                    <a:pt x="52" y="724"/>
                  </a:lnTo>
                  <a:lnTo>
                    <a:pt x="154" y="724"/>
                  </a:lnTo>
                  <a:lnTo>
                    <a:pt x="189" y="640"/>
                  </a:lnTo>
                  <a:lnTo>
                    <a:pt x="211" y="361"/>
                  </a:lnTo>
                  <a:lnTo>
                    <a:pt x="229" y="472"/>
                  </a:lnTo>
                  <a:lnTo>
                    <a:pt x="317" y="710"/>
                  </a:lnTo>
                  <a:lnTo>
                    <a:pt x="415" y="737"/>
                  </a:lnTo>
                  <a:lnTo>
                    <a:pt x="490" y="640"/>
                  </a:lnTo>
                  <a:lnTo>
                    <a:pt x="490" y="406"/>
                  </a:lnTo>
                  <a:lnTo>
                    <a:pt x="680" y="600"/>
                  </a:lnTo>
                  <a:lnTo>
                    <a:pt x="781" y="600"/>
                  </a:lnTo>
                  <a:lnTo>
                    <a:pt x="790" y="472"/>
                  </a:lnTo>
                  <a:lnTo>
                    <a:pt x="719" y="238"/>
                  </a:lnTo>
                  <a:lnTo>
                    <a:pt x="591" y="52"/>
                  </a:lnTo>
                  <a:lnTo>
                    <a:pt x="59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213680" y="973080"/>
              <a:ext cx="1268640" cy="1082880"/>
            </a:xfrm>
            <a:custGeom>
              <a:avLst/>
              <a:gdLst/>
              <a:ahLst/>
              <a:rect l="0" t="0" r="r" b="b"/>
              <a:pathLst>
                <a:path w="3524" h="3008">
                  <a:moveTo>
                    <a:pt x="1270" y="255"/>
                  </a:moveTo>
                  <a:lnTo>
                    <a:pt x="1203" y="264"/>
                  </a:lnTo>
                  <a:lnTo>
                    <a:pt x="1106" y="414"/>
                  </a:lnTo>
                  <a:lnTo>
                    <a:pt x="1071" y="304"/>
                  </a:lnTo>
                  <a:lnTo>
                    <a:pt x="956" y="242"/>
                  </a:lnTo>
                  <a:lnTo>
                    <a:pt x="873" y="291"/>
                  </a:lnTo>
                  <a:lnTo>
                    <a:pt x="837" y="485"/>
                  </a:lnTo>
                  <a:lnTo>
                    <a:pt x="520" y="723"/>
                  </a:lnTo>
                  <a:lnTo>
                    <a:pt x="542" y="824"/>
                  </a:lnTo>
                  <a:lnTo>
                    <a:pt x="467" y="917"/>
                  </a:lnTo>
                  <a:lnTo>
                    <a:pt x="467" y="996"/>
                  </a:lnTo>
                  <a:lnTo>
                    <a:pt x="555" y="1221"/>
                  </a:lnTo>
                  <a:lnTo>
                    <a:pt x="564" y="1499"/>
                  </a:lnTo>
                  <a:lnTo>
                    <a:pt x="502" y="1764"/>
                  </a:lnTo>
                  <a:lnTo>
                    <a:pt x="277" y="1919"/>
                  </a:lnTo>
                  <a:lnTo>
                    <a:pt x="246" y="2135"/>
                  </a:lnTo>
                  <a:lnTo>
                    <a:pt x="176" y="2135"/>
                  </a:lnTo>
                  <a:lnTo>
                    <a:pt x="141" y="1958"/>
                  </a:lnTo>
                  <a:lnTo>
                    <a:pt x="74" y="1958"/>
                  </a:lnTo>
                  <a:lnTo>
                    <a:pt x="39" y="2148"/>
                  </a:lnTo>
                  <a:lnTo>
                    <a:pt x="0" y="2197"/>
                  </a:lnTo>
                  <a:lnTo>
                    <a:pt x="154" y="2457"/>
                  </a:lnTo>
                  <a:lnTo>
                    <a:pt x="268" y="2470"/>
                  </a:lnTo>
                  <a:lnTo>
                    <a:pt x="467" y="2660"/>
                  </a:lnTo>
                  <a:lnTo>
                    <a:pt x="648" y="2682"/>
                  </a:lnTo>
                  <a:lnTo>
                    <a:pt x="745" y="2580"/>
                  </a:lnTo>
                  <a:lnTo>
                    <a:pt x="992" y="2210"/>
                  </a:lnTo>
                  <a:lnTo>
                    <a:pt x="1009" y="2712"/>
                  </a:lnTo>
                  <a:lnTo>
                    <a:pt x="992" y="3008"/>
                  </a:lnTo>
                  <a:lnTo>
                    <a:pt x="3030" y="3008"/>
                  </a:lnTo>
                  <a:lnTo>
                    <a:pt x="2880" y="2682"/>
                  </a:lnTo>
                  <a:lnTo>
                    <a:pt x="2805" y="2404"/>
                  </a:lnTo>
                  <a:lnTo>
                    <a:pt x="2787" y="1989"/>
                  </a:lnTo>
                  <a:lnTo>
                    <a:pt x="2907" y="2086"/>
                  </a:lnTo>
                  <a:lnTo>
                    <a:pt x="3030" y="2086"/>
                  </a:lnTo>
                  <a:lnTo>
                    <a:pt x="3193" y="1976"/>
                  </a:lnTo>
                  <a:lnTo>
                    <a:pt x="3308" y="1958"/>
                  </a:lnTo>
                  <a:lnTo>
                    <a:pt x="3374" y="1848"/>
                  </a:lnTo>
                  <a:lnTo>
                    <a:pt x="3422" y="1562"/>
                  </a:lnTo>
                  <a:lnTo>
                    <a:pt x="3524" y="1450"/>
                  </a:lnTo>
                  <a:lnTo>
                    <a:pt x="3471" y="1362"/>
                  </a:lnTo>
                  <a:lnTo>
                    <a:pt x="3396" y="1362"/>
                  </a:lnTo>
                  <a:lnTo>
                    <a:pt x="3339" y="1419"/>
                  </a:lnTo>
                  <a:lnTo>
                    <a:pt x="3277" y="1437"/>
                  </a:lnTo>
                  <a:lnTo>
                    <a:pt x="3206" y="1362"/>
                  </a:lnTo>
                  <a:lnTo>
                    <a:pt x="3118" y="1349"/>
                  </a:lnTo>
                  <a:lnTo>
                    <a:pt x="2959" y="1243"/>
                  </a:lnTo>
                  <a:lnTo>
                    <a:pt x="2858" y="1133"/>
                  </a:lnTo>
                  <a:lnTo>
                    <a:pt x="2840" y="996"/>
                  </a:lnTo>
                  <a:lnTo>
                    <a:pt x="2858" y="859"/>
                  </a:lnTo>
                  <a:lnTo>
                    <a:pt x="2924" y="754"/>
                  </a:lnTo>
                  <a:lnTo>
                    <a:pt x="3012" y="652"/>
                  </a:lnTo>
                  <a:lnTo>
                    <a:pt x="3004" y="480"/>
                  </a:lnTo>
                  <a:lnTo>
                    <a:pt x="3004" y="357"/>
                  </a:lnTo>
                  <a:lnTo>
                    <a:pt x="2959" y="264"/>
                  </a:lnTo>
                  <a:lnTo>
                    <a:pt x="2840" y="229"/>
                  </a:lnTo>
                  <a:lnTo>
                    <a:pt x="2796" y="202"/>
                  </a:lnTo>
                  <a:lnTo>
                    <a:pt x="2717" y="52"/>
                  </a:lnTo>
                  <a:lnTo>
                    <a:pt x="2646" y="13"/>
                  </a:lnTo>
                  <a:lnTo>
                    <a:pt x="2571" y="0"/>
                  </a:lnTo>
                  <a:lnTo>
                    <a:pt x="2510" y="26"/>
                  </a:lnTo>
                  <a:lnTo>
                    <a:pt x="2457" y="105"/>
                  </a:lnTo>
                  <a:lnTo>
                    <a:pt x="2382" y="154"/>
                  </a:lnTo>
                  <a:lnTo>
                    <a:pt x="2294" y="167"/>
                  </a:lnTo>
                  <a:lnTo>
                    <a:pt x="2197" y="167"/>
                  </a:lnTo>
                  <a:lnTo>
                    <a:pt x="2214" y="317"/>
                  </a:lnTo>
                  <a:lnTo>
                    <a:pt x="2214" y="502"/>
                  </a:lnTo>
                  <a:lnTo>
                    <a:pt x="2197" y="626"/>
                  </a:lnTo>
                  <a:lnTo>
                    <a:pt x="2108" y="776"/>
                  </a:lnTo>
                  <a:lnTo>
                    <a:pt x="1998" y="1001"/>
                  </a:lnTo>
                  <a:lnTo>
                    <a:pt x="1910" y="1274"/>
                  </a:lnTo>
                  <a:lnTo>
                    <a:pt x="1906" y="1437"/>
                  </a:lnTo>
                  <a:lnTo>
                    <a:pt x="1861" y="1575"/>
                  </a:lnTo>
                  <a:lnTo>
                    <a:pt x="1813" y="1711"/>
                  </a:lnTo>
                  <a:lnTo>
                    <a:pt x="1786" y="1932"/>
                  </a:lnTo>
                  <a:lnTo>
                    <a:pt x="1800" y="2113"/>
                  </a:lnTo>
                  <a:lnTo>
                    <a:pt x="1861" y="2324"/>
                  </a:lnTo>
                  <a:lnTo>
                    <a:pt x="1906" y="2404"/>
                  </a:lnTo>
                  <a:lnTo>
                    <a:pt x="1786" y="2483"/>
                  </a:lnTo>
                  <a:lnTo>
                    <a:pt x="1644" y="2532"/>
                  </a:lnTo>
                  <a:lnTo>
                    <a:pt x="1486" y="2545"/>
                  </a:lnTo>
                  <a:lnTo>
                    <a:pt x="1389" y="2545"/>
                  </a:lnTo>
                  <a:lnTo>
                    <a:pt x="1327" y="2518"/>
                  </a:lnTo>
                  <a:lnTo>
                    <a:pt x="1327" y="2338"/>
                  </a:lnTo>
                  <a:lnTo>
                    <a:pt x="1327" y="2073"/>
                  </a:lnTo>
                  <a:lnTo>
                    <a:pt x="1287" y="1808"/>
                  </a:lnTo>
                  <a:lnTo>
                    <a:pt x="1225" y="1575"/>
                  </a:lnTo>
                  <a:lnTo>
                    <a:pt x="1195" y="1384"/>
                  </a:lnTo>
                  <a:lnTo>
                    <a:pt x="1186" y="1120"/>
                  </a:lnTo>
                  <a:lnTo>
                    <a:pt x="1225" y="890"/>
                  </a:lnTo>
                  <a:lnTo>
                    <a:pt x="1287" y="701"/>
                  </a:lnTo>
                  <a:lnTo>
                    <a:pt x="1296" y="590"/>
                  </a:lnTo>
                  <a:lnTo>
                    <a:pt x="1270" y="432"/>
                  </a:lnTo>
                  <a:lnTo>
                    <a:pt x="1270" y="304"/>
                  </a:lnTo>
                  <a:lnTo>
                    <a:pt x="1287" y="264"/>
                  </a:lnTo>
                  <a:lnTo>
                    <a:pt x="1270" y="25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707240" y="1190520"/>
              <a:ext cx="160560" cy="703800"/>
            </a:xfrm>
            <a:custGeom>
              <a:avLst/>
              <a:gdLst/>
              <a:ahLst/>
              <a:rect l="0" t="0" r="r" b="b"/>
              <a:pathLst>
                <a:path w="446" h="1955">
                  <a:moveTo>
                    <a:pt x="176" y="22"/>
                  </a:moveTo>
                  <a:lnTo>
                    <a:pt x="57" y="88"/>
                  </a:lnTo>
                  <a:lnTo>
                    <a:pt x="70" y="273"/>
                  </a:lnTo>
                  <a:lnTo>
                    <a:pt x="158" y="330"/>
                  </a:lnTo>
                  <a:lnTo>
                    <a:pt x="52" y="534"/>
                  </a:lnTo>
                  <a:lnTo>
                    <a:pt x="0" y="759"/>
                  </a:lnTo>
                  <a:lnTo>
                    <a:pt x="0" y="975"/>
                  </a:lnTo>
                  <a:lnTo>
                    <a:pt x="52" y="1173"/>
                  </a:lnTo>
                  <a:lnTo>
                    <a:pt x="92" y="1412"/>
                  </a:lnTo>
                  <a:lnTo>
                    <a:pt x="92" y="1549"/>
                  </a:lnTo>
                  <a:lnTo>
                    <a:pt x="52" y="1717"/>
                  </a:lnTo>
                  <a:lnTo>
                    <a:pt x="230" y="1955"/>
                  </a:lnTo>
                  <a:lnTo>
                    <a:pt x="309" y="1915"/>
                  </a:lnTo>
                  <a:lnTo>
                    <a:pt x="358" y="1752"/>
                  </a:lnTo>
                  <a:lnTo>
                    <a:pt x="441" y="1536"/>
                  </a:lnTo>
                  <a:lnTo>
                    <a:pt x="446" y="1420"/>
                  </a:lnTo>
                  <a:lnTo>
                    <a:pt x="375" y="1209"/>
                  </a:lnTo>
                  <a:lnTo>
                    <a:pt x="292" y="997"/>
                  </a:lnTo>
                  <a:lnTo>
                    <a:pt x="261" y="852"/>
                  </a:lnTo>
                  <a:lnTo>
                    <a:pt x="261" y="710"/>
                  </a:lnTo>
                  <a:lnTo>
                    <a:pt x="292" y="583"/>
                  </a:lnTo>
                  <a:lnTo>
                    <a:pt x="358" y="427"/>
                  </a:lnTo>
                  <a:lnTo>
                    <a:pt x="358" y="366"/>
                  </a:lnTo>
                  <a:lnTo>
                    <a:pt x="327" y="299"/>
                  </a:lnTo>
                  <a:lnTo>
                    <a:pt x="411" y="224"/>
                  </a:lnTo>
                  <a:lnTo>
                    <a:pt x="411" y="149"/>
                  </a:lnTo>
                  <a:lnTo>
                    <a:pt x="292" y="0"/>
                  </a:lnTo>
                  <a:lnTo>
                    <a:pt x="389" y="149"/>
                  </a:lnTo>
                  <a:lnTo>
                    <a:pt x="389" y="211"/>
                  </a:lnTo>
                  <a:lnTo>
                    <a:pt x="305" y="273"/>
                  </a:lnTo>
                  <a:lnTo>
                    <a:pt x="336" y="366"/>
                  </a:lnTo>
                  <a:lnTo>
                    <a:pt x="327" y="427"/>
                  </a:lnTo>
                  <a:lnTo>
                    <a:pt x="243" y="609"/>
                  </a:lnTo>
                  <a:lnTo>
                    <a:pt x="230" y="785"/>
                  </a:lnTo>
                  <a:lnTo>
                    <a:pt x="252" y="949"/>
                  </a:lnTo>
                  <a:lnTo>
                    <a:pt x="309" y="1182"/>
                  </a:lnTo>
                  <a:lnTo>
                    <a:pt x="375" y="1372"/>
                  </a:lnTo>
                  <a:lnTo>
                    <a:pt x="375" y="1523"/>
                  </a:lnTo>
                  <a:lnTo>
                    <a:pt x="336" y="1717"/>
                  </a:lnTo>
                  <a:lnTo>
                    <a:pt x="252" y="1915"/>
                  </a:lnTo>
                  <a:lnTo>
                    <a:pt x="145" y="1805"/>
                  </a:lnTo>
                  <a:lnTo>
                    <a:pt x="105" y="1717"/>
                  </a:lnTo>
                  <a:lnTo>
                    <a:pt x="114" y="1523"/>
                  </a:lnTo>
                  <a:lnTo>
                    <a:pt x="105" y="1332"/>
                  </a:lnTo>
                  <a:lnTo>
                    <a:pt x="52" y="1072"/>
                  </a:lnTo>
                  <a:lnTo>
                    <a:pt x="30" y="896"/>
                  </a:lnTo>
                  <a:lnTo>
                    <a:pt x="52" y="697"/>
                  </a:lnTo>
                  <a:lnTo>
                    <a:pt x="92" y="508"/>
                  </a:lnTo>
                  <a:lnTo>
                    <a:pt x="189" y="313"/>
                  </a:lnTo>
                  <a:lnTo>
                    <a:pt x="105" y="233"/>
                  </a:lnTo>
                  <a:lnTo>
                    <a:pt x="92" y="97"/>
                  </a:lnTo>
                  <a:lnTo>
                    <a:pt x="176" y="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164440" y="368280"/>
              <a:ext cx="252720" cy="343440"/>
            </a:xfrm>
            <a:custGeom>
              <a:avLst/>
              <a:gdLst/>
              <a:ahLst/>
              <a:rect l="0" t="0" r="r" b="b"/>
              <a:pathLst>
                <a:path w="702" h="954">
                  <a:moveTo>
                    <a:pt x="119" y="243"/>
                  </a:moveTo>
                  <a:lnTo>
                    <a:pt x="220" y="224"/>
                  </a:lnTo>
                  <a:lnTo>
                    <a:pt x="321" y="229"/>
                  </a:lnTo>
                  <a:lnTo>
                    <a:pt x="402" y="269"/>
                  </a:lnTo>
                  <a:lnTo>
                    <a:pt x="450" y="322"/>
                  </a:lnTo>
                  <a:lnTo>
                    <a:pt x="468" y="371"/>
                  </a:lnTo>
                  <a:lnTo>
                    <a:pt x="468" y="419"/>
                  </a:lnTo>
                  <a:lnTo>
                    <a:pt x="446" y="450"/>
                  </a:lnTo>
                  <a:lnTo>
                    <a:pt x="402" y="477"/>
                  </a:lnTo>
                  <a:lnTo>
                    <a:pt x="348" y="477"/>
                  </a:lnTo>
                  <a:lnTo>
                    <a:pt x="286" y="464"/>
                  </a:lnTo>
                  <a:lnTo>
                    <a:pt x="220" y="424"/>
                  </a:lnTo>
                  <a:lnTo>
                    <a:pt x="176" y="389"/>
                  </a:lnTo>
                  <a:lnTo>
                    <a:pt x="154" y="512"/>
                  </a:lnTo>
                  <a:lnTo>
                    <a:pt x="119" y="596"/>
                  </a:lnTo>
                  <a:lnTo>
                    <a:pt x="0" y="800"/>
                  </a:lnTo>
                  <a:lnTo>
                    <a:pt x="171" y="954"/>
                  </a:lnTo>
                  <a:lnTo>
                    <a:pt x="299" y="693"/>
                  </a:lnTo>
                  <a:lnTo>
                    <a:pt x="446" y="720"/>
                  </a:lnTo>
                  <a:lnTo>
                    <a:pt x="534" y="697"/>
                  </a:lnTo>
                  <a:lnTo>
                    <a:pt x="622" y="640"/>
                  </a:lnTo>
                  <a:lnTo>
                    <a:pt x="675" y="565"/>
                  </a:lnTo>
                  <a:lnTo>
                    <a:pt x="702" y="468"/>
                  </a:lnTo>
                  <a:lnTo>
                    <a:pt x="702" y="367"/>
                  </a:lnTo>
                  <a:lnTo>
                    <a:pt x="675" y="256"/>
                  </a:lnTo>
                  <a:lnTo>
                    <a:pt x="618" y="145"/>
                  </a:lnTo>
                  <a:lnTo>
                    <a:pt x="547" y="66"/>
                  </a:lnTo>
                  <a:lnTo>
                    <a:pt x="459" y="22"/>
                  </a:lnTo>
                  <a:lnTo>
                    <a:pt x="358" y="0"/>
                  </a:lnTo>
                  <a:lnTo>
                    <a:pt x="233" y="0"/>
                  </a:lnTo>
                  <a:lnTo>
                    <a:pt x="92" y="26"/>
                  </a:lnTo>
                  <a:lnTo>
                    <a:pt x="119" y="243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118360" y="701640"/>
              <a:ext cx="92520" cy="66960"/>
            </a:xfrm>
            <a:custGeom>
              <a:avLst/>
              <a:gdLst/>
              <a:ahLst/>
              <a:rect l="0" t="0" r="r" b="b"/>
              <a:pathLst>
                <a:path w="257" h="186">
                  <a:moveTo>
                    <a:pt x="102" y="0"/>
                  </a:moveTo>
                  <a:lnTo>
                    <a:pt x="35" y="0"/>
                  </a:lnTo>
                  <a:lnTo>
                    <a:pt x="0" y="26"/>
                  </a:lnTo>
                  <a:lnTo>
                    <a:pt x="0" y="92"/>
                  </a:lnTo>
                  <a:lnTo>
                    <a:pt x="52" y="159"/>
                  </a:lnTo>
                  <a:lnTo>
                    <a:pt x="155" y="186"/>
                  </a:lnTo>
                  <a:lnTo>
                    <a:pt x="235" y="181"/>
                  </a:lnTo>
                  <a:lnTo>
                    <a:pt x="257" y="142"/>
                  </a:lnTo>
                  <a:lnTo>
                    <a:pt x="244" y="102"/>
                  </a:lnTo>
                  <a:lnTo>
                    <a:pt x="209" y="48"/>
                  </a:lnTo>
                  <a:lnTo>
                    <a:pt x="146" y="8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"/>
          <p:cNvSpPr txBox="1"/>
          <p:nvPr/>
        </p:nvSpPr>
        <p:spPr>
          <a:xfrm>
            <a:off x="762120" y="3124080"/>
            <a:ext cx="830592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28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mpute the cost of materials us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mpute total manufacturing costs for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peri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mpute cost of goods manufactured,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djusting for beginning and ending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ork in proc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990720" y="83808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 Allo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1371600" y="205740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st allocation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and explain the process of manufacturing overhead allocation using cost objects, cost pools, and cost driv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69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 Allo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1295280" y="15238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cost object is a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du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par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at the organization wishes to co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914400" y="53352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 Allo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1295280" y="1676520"/>
            <a:ext cx="746748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st allocation is the process of assigning pooled indirect costs to specific cost objects using an allocation base that represents a major function of a busi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914400" y="304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llocation of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nufacturing Overh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1066680" y="2895480"/>
            <a:ext cx="75438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pooling of manufacturing overhead costs that are affected by a common activ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selection of a cost driver whose activity level causes a change in the cost po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990720" y="175248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100000"/>
              </a:lnSpc>
              <a:buClr>
                <a:srgbClr val="ffcc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allocation of manufacturing overhead requires the follow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990720" y="45720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 Allo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1143000" y="1676520"/>
            <a:ext cx="762012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cost pool is a pool of overhead costs related to a cost obje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cost driver is an activity that causes the cost pool to increase in amount as the cost driver increa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914400" y="30492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nufacturing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Overhead Allocat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1219320" y="175248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process of manufacturing overhead allocation includes four step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 Plann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 Applic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3. Recording actual cos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4. Reconcili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907920" y="2127240"/>
            <a:ext cx="7937640" cy="344160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1066680" y="2286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The Manufacturing 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Overhead Allocation Proc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775040" y="5603760"/>
            <a:ext cx="20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914400" y="21337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lculate a predetermined manufactur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verhead r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en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fore accounting perio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cedur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vide the cost pool of total estimat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verhead costs by the total estimat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st driver leve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ournal entry?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898560" y="1508040"/>
            <a:ext cx="7956720" cy="63648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ep 1: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907920" y="1974960"/>
            <a:ext cx="7937640" cy="435600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106668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The Manufacturing 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Overhead Allocation Proc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775040" y="5603760"/>
            <a:ext cx="20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914400" y="198108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ply manufacturing overhead cos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produc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en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uring accounting period as units 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duc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cedur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ultiply the predetermined overhea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ate for each cost pool by the actu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st driver leve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ournal entry?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crease Work in Process Invento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cou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rease Manufacturing Overhea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rol Accou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898560" y="1355760"/>
            <a:ext cx="7956720" cy="63648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ep 2: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907920" y="2127240"/>
            <a:ext cx="7937640" cy="420372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106668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The Manufacturing 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Overhead Allocation Proc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775040" y="5603760"/>
            <a:ext cx="20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914400" y="213372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ord actual manufacturing overhea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s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en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uring accounting period as co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re incurr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cedur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ord actual manufacturing overhea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sts when incurr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ournal entry?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crease Manufacturing Overhea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rol Accou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rease asset accou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crease contra-assets or liabilit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cou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898560" y="1508040"/>
            <a:ext cx="7956720" cy="63648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ep 3: Recording Actual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990720" y="68580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Operating Costs and the Management Cyc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371600" y="2438280"/>
            <a:ext cx="72388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tate how managers use operating cost information and product costs in the management cyc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69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831960" y="2127240"/>
            <a:ext cx="8013600" cy="367020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1066680" y="2286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The Manufacturing 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Overhead Allocation Proc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775040" y="5603760"/>
            <a:ext cx="20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838080" y="21337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lculate the difference between appli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d actual manufacturing overhead cos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en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 the end of the accounting perio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cedur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lculate and record the differ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tween the actual and applie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nufacturing overhead cos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ournal entry?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822240" y="1508040"/>
            <a:ext cx="8032680" cy="63648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ep 4: Reconcil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831960" y="2127240"/>
            <a:ext cx="8013600" cy="397512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1066680" y="22860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The Manufacturing 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Overhead Allocation Proc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775040" y="5603760"/>
            <a:ext cx="20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838080" y="21337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ournal entry?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 applied &gt; actual, then increa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nufacturing Overhead Contro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cou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rease Cost of Goods Sold Accou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 applied &lt; actual, then increase Cos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 Goods Sold Accou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rease Manufacturing Overhea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rol Accou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822240" y="1508040"/>
            <a:ext cx="8032680" cy="63648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ep 4: Reconcil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990720" y="228600"/>
            <a:ext cx="777240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The Manufacturing 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Overhead Allocation Proc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679320" y="1289160"/>
            <a:ext cx="8242200" cy="5041800"/>
            <a:chOff x="679320" y="1289160"/>
            <a:chExt cx="8242200" cy="5041800"/>
          </a:xfrm>
        </p:grpSpPr>
        <p:sp>
          <p:nvSpPr>
            <p:cNvPr id="488" name=""/>
            <p:cNvSpPr/>
            <p:nvPr/>
          </p:nvSpPr>
          <p:spPr>
            <a:xfrm>
              <a:off x="4813200" y="5592600"/>
              <a:ext cx="209520" cy="520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79320" y="1289160"/>
              <a:ext cx="8242200" cy="5041800"/>
            </a:xfrm>
            <a:prstGeom prst="rect">
              <a:avLst/>
            </a:prstGeom>
            <a:solidFill>
              <a:srgbClr val="fcffd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0" name=""/>
            <p:cNvGrpSpPr/>
            <p:nvPr/>
          </p:nvGrpSpPr>
          <p:grpSpPr>
            <a:xfrm>
              <a:off x="762120" y="1814400"/>
              <a:ext cx="8113680" cy="1347840"/>
              <a:chOff x="762120" y="1814400"/>
              <a:chExt cx="8113680" cy="1347840"/>
            </a:xfrm>
          </p:grpSpPr>
          <p:sp>
            <p:nvSpPr>
              <p:cNvPr id="491" name=""/>
              <p:cNvSpPr txBox="1"/>
              <p:nvPr/>
            </p:nvSpPr>
            <p:spPr>
              <a:xfrm>
                <a:off x="762120" y="1814400"/>
                <a:ext cx="743040" cy="641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ear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0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 txBox="1"/>
              <p:nvPr/>
            </p:nvSpPr>
            <p:spPr>
              <a:xfrm>
                <a:off x="8132760" y="1871640"/>
                <a:ext cx="743040" cy="641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ear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0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 txBox="1"/>
              <p:nvPr/>
            </p:nvSpPr>
            <p:spPr>
              <a:xfrm>
                <a:off x="4133880" y="1959120"/>
                <a:ext cx="131616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ear  200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165320" y="2739960"/>
                <a:ext cx="73594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722680" y="2664000"/>
                <a:ext cx="0" cy="16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799320" y="2664000"/>
                <a:ext cx="0" cy="16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761000" y="2664000"/>
                <a:ext cx="0" cy="16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154160" y="2664000"/>
                <a:ext cx="0" cy="16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 txBox="1"/>
              <p:nvPr/>
            </p:nvSpPr>
            <p:spPr>
              <a:xfrm>
                <a:off x="2095560" y="2825640"/>
                <a:ext cx="1133640" cy="33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January 1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 txBox="1"/>
              <p:nvPr/>
            </p:nvSpPr>
            <p:spPr>
              <a:xfrm>
                <a:off x="5937120" y="2825640"/>
                <a:ext cx="1449360" cy="33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cember 31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1" name=""/>
            <p:cNvSpPr/>
            <p:nvPr/>
          </p:nvSpPr>
          <p:spPr>
            <a:xfrm>
              <a:off x="1382760" y="3543480"/>
              <a:ext cx="1209600" cy="7570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 txBox="1"/>
            <p:nvPr/>
          </p:nvSpPr>
          <p:spPr>
            <a:xfrm>
              <a:off x="1413000" y="3610080"/>
              <a:ext cx="114948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ep 1: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lannin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792840" y="3543480"/>
              <a:ext cx="1824120" cy="7570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 txBox="1"/>
            <p:nvPr/>
          </p:nvSpPr>
          <p:spPr>
            <a:xfrm>
              <a:off x="6831000" y="3610080"/>
              <a:ext cx="174636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ep 4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oncili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5" name=""/>
            <p:cNvGrpSpPr/>
            <p:nvPr/>
          </p:nvGrpSpPr>
          <p:grpSpPr>
            <a:xfrm>
              <a:off x="2813040" y="4151160"/>
              <a:ext cx="4065480" cy="757080"/>
              <a:chOff x="2813040" y="4151160"/>
              <a:chExt cx="4065480" cy="757080"/>
            </a:xfrm>
          </p:grpSpPr>
          <p:sp>
            <p:nvSpPr>
              <p:cNvPr id="506" name=""/>
              <p:cNvSpPr/>
              <p:nvPr/>
            </p:nvSpPr>
            <p:spPr>
              <a:xfrm>
                <a:off x="4049640" y="4151160"/>
                <a:ext cx="1495440" cy="75708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084560" y="4219560"/>
                <a:ext cx="1428840" cy="6415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 txBox="1"/>
              <p:nvPr/>
            </p:nvSpPr>
            <p:spPr>
              <a:xfrm>
                <a:off x="4084560" y="4219560"/>
                <a:ext cx="1428840" cy="641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tep 2:</a:t>
                </a:r>
                <a:br>
                  <a:rPr sz="1800"/>
                </a:b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plication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557680" y="4505400"/>
                <a:ext cx="1320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H="1">
                <a:off x="2813040" y="4505400"/>
                <a:ext cx="1243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2813040" y="5192640"/>
              <a:ext cx="4065480" cy="757080"/>
              <a:chOff x="2813040" y="5192640"/>
              <a:chExt cx="4065480" cy="757080"/>
            </a:xfrm>
          </p:grpSpPr>
          <p:sp>
            <p:nvSpPr>
              <p:cNvPr id="512" name=""/>
              <p:cNvSpPr/>
              <p:nvPr/>
            </p:nvSpPr>
            <p:spPr>
              <a:xfrm>
                <a:off x="3357720" y="5192640"/>
                <a:ext cx="2881440" cy="75708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411360" y="5261040"/>
                <a:ext cx="2774880" cy="6415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 txBox="1"/>
              <p:nvPr/>
            </p:nvSpPr>
            <p:spPr>
              <a:xfrm>
                <a:off x="3411360" y="5261040"/>
                <a:ext cx="2774880" cy="641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tep 3:</a:t>
                </a:r>
                <a:br>
                  <a:rPr sz="1800"/>
                </a:b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ording Actual Costs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262560" y="5632560"/>
                <a:ext cx="615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H="1">
                <a:off x="2813040" y="5632560"/>
                <a:ext cx="538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990720" y="380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llocation of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nufacturing Overh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1219320" y="18288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successful allocation of manufacturing overhead costs depends on two factor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 careful estimate of total manufacturing overhead cos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 good forecast of the activity used as the cost driv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1219320" y="4114800"/>
            <a:ext cx="67057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60000"/>
              </a:lnSpc>
              <a:spcBef>
                <a:spcPts val="1800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 Plann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800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 Applic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800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 Recording actual cos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800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4. Reconcili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2057400" y="83808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6705720" y="228600"/>
            <a:ext cx="2132280" cy="1980000"/>
            <a:chOff x="6705720" y="228600"/>
            <a:chExt cx="2132280" cy="1980000"/>
          </a:xfrm>
        </p:grpSpPr>
        <p:sp>
          <p:nvSpPr>
            <p:cNvPr id="522" name=""/>
            <p:cNvSpPr/>
            <p:nvPr/>
          </p:nvSpPr>
          <p:spPr>
            <a:xfrm>
              <a:off x="6711840" y="1200240"/>
              <a:ext cx="518040" cy="692640"/>
            </a:xfrm>
            <a:custGeom>
              <a:avLst/>
              <a:gdLst/>
              <a:ahLst/>
              <a:rect l="0" t="0" r="r" b="b"/>
              <a:pathLst>
                <a:path w="1439" h="1924">
                  <a:moveTo>
                    <a:pt x="574" y="0"/>
                  </a:moveTo>
                  <a:lnTo>
                    <a:pt x="499" y="83"/>
                  </a:lnTo>
                  <a:lnTo>
                    <a:pt x="499" y="335"/>
                  </a:lnTo>
                  <a:lnTo>
                    <a:pt x="574" y="516"/>
                  </a:lnTo>
                  <a:lnTo>
                    <a:pt x="662" y="609"/>
                  </a:lnTo>
                  <a:lnTo>
                    <a:pt x="530" y="733"/>
                  </a:lnTo>
                  <a:lnTo>
                    <a:pt x="362" y="1010"/>
                  </a:lnTo>
                  <a:lnTo>
                    <a:pt x="26" y="1452"/>
                  </a:lnTo>
                  <a:lnTo>
                    <a:pt x="0" y="1558"/>
                  </a:lnTo>
                  <a:lnTo>
                    <a:pt x="26" y="1646"/>
                  </a:lnTo>
                  <a:lnTo>
                    <a:pt x="132" y="1646"/>
                  </a:lnTo>
                  <a:lnTo>
                    <a:pt x="220" y="1545"/>
                  </a:lnTo>
                  <a:lnTo>
                    <a:pt x="362" y="1297"/>
                  </a:lnTo>
                  <a:lnTo>
                    <a:pt x="446" y="1191"/>
                  </a:lnTo>
                  <a:lnTo>
                    <a:pt x="499" y="1354"/>
                  </a:lnTo>
                  <a:lnTo>
                    <a:pt x="464" y="1532"/>
                  </a:lnTo>
                  <a:lnTo>
                    <a:pt x="321" y="1783"/>
                  </a:lnTo>
                  <a:lnTo>
                    <a:pt x="362" y="1845"/>
                  </a:lnTo>
                  <a:lnTo>
                    <a:pt x="446" y="1827"/>
                  </a:lnTo>
                  <a:lnTo>
                    <a:pt x="622" y="1695"/>
                  </a:lnTo>
                  <a:lnTo>
                    <a:pt x="768" y="1470"/>
                  </a:lnTo>
                  <a:lnTo>
                    <a:pt x="768" y="1862"/>
                  </a:lnTo>
                  <a:lnTo>
                    <a:pt x="935" y="1924"/>
                  </a:lnTo>
                  <a:lnTo>
                    <a:pt x="1037" y="1682"/>
                  </a:lnTo>
                  <a:lnTo>
                    <a:pt x="1126" y="1907"/>
                  </a:lnTo>
                  <a:lnTo>
                    <a:pt x="1197" y="1845"/>
                  </a:lnTo>
                  <a:lnTo>
                    <a:pt x="1227" y="1398"/>
                  </a:lnTo>
                  <a:lnTo>
                    <a:pt x="1439" y="975"/>
                  </a:lnTo>
                  <a:lnTo>
                    <a:pt x="1391" y="733"/>
                  </a:lnTo>
                  <a:lnTo>
                    <a:pt x="1245" y="640"/>
                  </a:lnTo>
                  <a:lnTo>
                    <a:pt x="1091" y="653"/>
                  </a:lnTo>
                  <a:lnTo>
                    <a:pt x="1037" y="454"/>
                  </a:lnTo>
                  <a:lnTo>
                    <a:pt x="878" y="410"/>
                  </a:lnTo>
                  <a:lnTo>
                    <a:pt x="741" y="348"/>
                  </a:lnTo>
                  <a:lnTo>
                    <a:pt x="662" y="44"/>
                  </a:lnTo>
                  <a:lnTo>
                    <a:pt x="574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145280" y="1481040"/>
              <a:ext cx="154440" cy="335160"/>
            </a:xfrm>
            <a:custGeom>
              <a:avLst/>
              <a:gdLst/>
              <a:ahLst/>
              <a:rect l="0" t="0" r="r" b="b"/>
              <a:pathLst>
                <a:path w="429" h="931">
                  <a:moveTo>
                    <a:pt x="217" y="0"/>
                  </a:moveTo>
                  <a:lnTo>
                    <a:pt x="429" y="242"/>
                  </a:lnTo>
                  <a:lnTo>
                    <a:pt x="323" y="763"/>
                  </a:lnTo>
                  <a:lnTo>
                    <a:pt x="0" y="931"/>
                  </a:lnTo>
                  <a:lnTo>
                    <a:pt x="0" y="666"/>
                  </a:lnTo>
                  <a:lnTo>
                    <a:pt x="133" y="396"/>
                  </a:lnTo>
                  <a:lnTo>
                    <a:pt x="217" y="194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137440" y="1289160"/>
              <a:ext cx="383040" cy="302040"/>
            </a:xfrm>
            <a:custGeom>
              <a:avLst/>
              <a:gdLst/>
              <a:ahLst/>
              <a:rect l="0" t="0" r="r" b="b"/>
              <a:pathLst>
                <a:path w="1064" h="839">
                  <a:moveTo>
                    <a:pt x="437" y="0"/>
                  </a:moveTo>
                  <a:lnTo>
                    <a:pt x="437" y="136"/>
                  </a:lnTo>
                  <a:lnTo>
                    <a:pt x="477" y="256"/>
                  </a:lnTo>
                  <a:lnTo>
                    <a:pt x="684" y="455"/>
                  </a:lnTo>
                  <a:lnTo>
                    <a:pt x="1064" y="569"/>
                  </a:lnTo>
                  <a:lnTo>
                    <a:pt x="1011" y="822"/>
                  </a:lnTo>
                  <a:lnTo>
                    <a:pt x="684" y="839"/>
                  </a:lnTo>
                  <a:lnTo>
                    <a:pt x="202" y="659"/>
                  </a:lnTo>
                  <a:lnTo>
                    <a:pt x="0" y="336"/>
                  </a:lnTo>
                  <a:lnTo>
                    <a:pt x="238" y="17"/>
                  </a:lnTo>
                  <a:lnTo>
                    <a:pt x="43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291520" y="946080"/>
              <a:ext cx="533880" cy="667080"/>
            </a:xfrm>
            <a:custGeom>
              <a:avLst/>
              <a:gdLst/>
              <a:ahLst/>
              <a:rect l="0" t="0" r="r" b="b"/>
              <a:pathLst>
                <a:path w="1483" h="1853">
                  <a:moveTo>
                    <a:pt x="132" y="784"/>
                  </a:moveTo>
                  <a:lnTo>
                    <a:pt x="0" y="917"/>
                  </a:lnTo>
                  <a:lnTo>
                    <a:pt x="26" y="1218"/>
                  </a:lnTo>
                  <a:lnTo>
                    <a:pt x="233" y="1359"/>
                  </a:lnTo>
                  <a:lnTo>
                    <a:pt x="251" y="1817"/>
                  </a:lnTo>
                  <a:lnTo>
                    <a:pt x="464" y="1817"/>
                  </a:lnTo>
                  <a:lnTo>
                    <a:pt x="446" y="1434"/>
                  </a:lnTo>
                  <a:lnTo>
                    <a:pt x="600" y="1835"/>
                  </a:lnTo>
                  <a:lnTo>
                    <a:pt x="706" y="1853"/>
                  </a:lnTo>
                  <a:lnTo>
                    <a:pt x="777" y="1716"/>
                  </a:lnTo>
                  <a:lnTo>
                    <a:pt x="794" y="1460"/>
                  </a:lnTo>
                  <a:lnTo>
                    <a:pt x="1019" y="1698"/>
                  </a:lnTo>
                  <a:lnTo>
                    <a:pt x="1113" y="1685"/>
                  </a:lnTo>
                  <a:lnTo>
                    <a:pt x="1090" y="1517"/>
                  </a:lnTo>
                  <a:lnTo>
                    <a:pt x="1006" y="1284"/>
                  </a:lnTo>
                  <a:lnTo>
                    <a:pt x="918" y="1129"/>
                  </a:lnTo>
                  <a:lnTo>
                    <a:pt x="949" y="1024"/>
                  </a:lnTo>
                  <a:lnTo>
                    <a:pt x="1006" y="1041"/>
                  </a:lnTo>
                  <a:lnTo>
                    <a:pt x="1214" y="1284"/>
                  </a:lnTo>
                  <a:lnTo>
                    <a:pt x="1435" y="1341"/>
                  </a:lnTo>
                  <a:lnTo>
                    <a:pt x="1483" y="1266"/>
                  </a:lnTo>
                  <a:lnTo>
                    <a:pt x="1452" y="1143"/>
                  </a:lnTo>
                  <a:lnTo>
                    <a:pt x="1037" y="767"/>
                  </a:lnTo>
                  <a:lnTo>
                    <a:pt x="706" y="652"/>
                  </a:lnTo>
                  <a:lnTo>
                    <a:pt x="666" y="445"/>
                  </a:lnTo>
                  <a:lnTo>
                    <a:pt x="777" y="260"/>
                  </a:lnTo>
                  <a:lnTo>
                    <a:pt x="777" y="57"/>
                  </a:lnTo>
                  <a:lnTo>
                    <a:pt x="684" y="0"/>
                  </a:lnTo>
                  <a:lnTo>
                    <a:pt x="446" y="502"/>
                  </a:lnTo>
                  <a:lnTo>
                    <a:pt x="233" y="577"/>
                  </a:lnTo>
                  <a:lnTo>
                    <a:pt x="180" y="714"/>
                  </a:lnTo>
                  <a:lnTo>
                    <a:pt x="132" y="784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415280" y="369720"/>
              <a:ext cx="582840" cy="849600"/>
            </a:xfrm>
            <a:custGeom>
              <a:avLst/>
              <a:gdLst/>
              <a:ahLst/>
              <a:rect l="0" t="0" r="r" b="b"/>
              <a:pathLst>
                <a:path w="1619" h="2360">
                  <a:moveTo>
                    <a:pt x="405" y="326"/>
                  </a:moveTo>
                  <a:lnTo>
                    <a:pt x="282" y="780"/>
                  </a:lnTo>
                  <a:lnTo>
                    <a:pt x="17" y="868"/>
                  </a:lnTo>
                  <a:lnTo>
                    <a:pt x="88" y="1014"/>
                  </a:lnTo>
                  <a:lnTo>
                    <a:pt x="0" y="1102"/>
                  </a:lnTo>
                  <a:lnTo>
                    <a:pt x="0" y="1266"/>
                  </a:lnTo>
                  <a:lnTo>
                    <a:pt x="127" y="1416"/>
                  </a:lnTo>
                  <a:lnTo>
                    <a:pt x="251" y="1416"/>
                  </a:lnTo>
                  <a:lnTo>
                    <a:pt x="335" y="1941"/>
                  </a:lnTo>
                  <a:lnTo>
                    <a:pt x="436" y="2166"/>
                  </a:lnTo>
                  <a:lnTo>
                    <a:pt x="771" y="2360"/>
                  </a:lnTo>
                  <a:lnTo>
                    <a:pt x="1099" y="2329"/>
                  </a:lnTo>
                  <a:lnTo>
                    <a:pt x="1257" y="1941"/>
                  </a:lnTo>
                  <a:lnTo>
                    <a:pt x="1293" y="1345"/>
                  </a:lnTo>
                  <a:lnTo>
                    <a:pt x="1619" y="1045"/>
                  </a:lnTo>
                  <a:lnTo>
                    <a:pt x="1601" y="926"/>
                  </a:lnTo>
                  <a:lnTo>
                    <a:pt x="1566" y="868"/>
                  </a:lnTo>
                  <a:lnTo>
                    <a:pt x="1394" y="855"/>
                  </a:lnTo>
                  <a:lnTo>
                    <a:pt x="1447" y="701"/>
                  </a:lnTo>
                  <a:lnTo>
                    <a:pt x="1279" y="595"/>
                  </a:lnTo>
                  <a:lnTo>
                    <a:pt x="1204" y="260"/>
                  </a:lnTo>
                  <a:lnTo>
                    <a:pt x="701" y="0"/>
                  </a:lnTo>
                  <a:lnTo>
                    <a:pt x="436" y="242"/>
                  </a:lnTo>
                  <a:lnTo>
                    <a:pt x="405" y="32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458120" y="1079640"/>
              <a:ext cx="533880" cy="1016280"/>
            </a:xfrm>
            <a:custGeom>
              <a:avLst/>
              <a:gdLst/>
              <a:ahLst/>
              <a:rect l="0" t="0" r="r" b="b"/>
              <a:pathLst>
                <a:path w="1483" h="2823">
                  <a:moveTo>
                    <a:pt x="304" y="149"/>
                  </a:moveTo>
                  <a:lnTo>
                    <a:pt x="516" y="282"/>
                  </a:lnTo>
                  <a:lnTo>
                    <a:pt x="618" y="432"/>
                  </a:lnTo>
                  <a:lnTo>
                    <a:pt x="1214" y="0"/>
                  </a:lnTo>
                  <a:lnTo>
                    <a:pt x="1399" y="88"/>
                  </a:lnTo>
                  <a:lnTo>
                    <a:pt x="1483" y="533"/>
                  </a:lnTo>
                  <a:lnTo>
                    <a:pt x="1054" y="1835"/>
                  </a:lnTo>
                  <a:lnTo>
                    <a:pt x="1192" y="2549"/>
                  </a:lnTo>
                  <a:lnTo>
                    <a:pt x="631" y="2823"/>
                  </a:lnTo>
                  <a:lnTo>
                    <a:pt x="198" y="2668"/>
                  </a:lnTo>
                  <a:lnTo>
                    <a:pt x="198" y="1910"/>
                  </a:lnTo>
                  <a:lnTo>
                    <a:pt x="0" y="1172"/>
                  </a:lnTo>
                  <a:lnTo>
                    <a:pt x="198" y="282"/>
                  </a:lnTo>
                  <a:lnTo>
                    <a:pt x="304" y="149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481880" y="255600"/>
              <a:ext cx="497160" cy="270360"/>
            </a:xfrm>
            <a:custGeom>
              <a:avLst/>
              <a:gdLst/>
              <a:ahLst/>
              <a:rect l="0" t="0" r="r" b="b"/>
              <a:pathLst>
                <a:path w="1381" h="751">
                  <a:moveTo>
                    <a:pt x="171" y="716"/>
                  </a:moveTo>
                  <a:lnTo>
                    <a:pt x="370" y="516"/>
                  </a:lnTo>
                  <a:lnTo>
                    <a:pt x="502" y="486"/>
                  </a:lnTo>
                  <a:lnTo>
                    <a:pt x="502" y="503"/>
                  </a:lnTo>
                  <a:lnTo>
                    <a:pt x="568" y="486"/>
                  </a:lnTo>
                  <a:lnTo>
                    <a:pt x="652" y="547"/>
                  </a:lnTo>
                  <a:lnTo>
                    <a:pt x="816" y="575"/>
                  </a:lnTo>
                  <a:lnTo>
                    <a:pt x="949" y="751"/>
                  </a:lnTo>
                  <a:lnTo>
                    <a:pt x="1165" y="676"/>
                  </a:lnTo>
                  <a:lnTo>
                    <a:pt x="1165" y="592"/>
                  </a:lnTo>
                  <a:lnTo>
                    <a:pt x="1381" y="503"/>
                  </a:lnTo>
                  <a:lnTo>
                    <a:pt x="1315" y="362"/>
                  </a:lnTo>
                  <a:lnTo>
                    <a:pt x="1112" y="349"/>
                  </a:lnTo>
                  <a:lnTo>
                    <a:pt x="1143" y="195"/>
                  </a:lnTo>
                  <a:lnTo>
                    <a:pt x="966" y="212"/>
                  </a:lnTo>
                  <a:lnTo>
                    <a:pt x="935" y="105"/>
                  </a:lnTo>
                  <a:lnTo>
                    <a:pt x="816" y="105"/>
                  </a:lnTo>
                  <a:lnTo>
                    <a:pt x="728" y="167"/>
                  </a:lnTo>
                  <a:lnTo>
                    <a:pt x="652" y="167"/>
                  </a:lnTo>
                  <a:lnTo>
                    <a:pt x="665" y="0"/>
                  </a:lnTo>
                  <a:lnTo>
                    <a:pt x="502" y="74"/>
                  </a:lnTo>
                  <a:lnTo>
                    <a:pt x="273" y="349"/>
                  </a:lnTo>
                  <a:lnTo>
                    <a:pt x="260" y="167"/>
                  </a:lnTo>
                  <a:lnTo>
                    <a:pt x="136" y="256"/>
                  </a:lnTo>
                  <a:lnTo>
                    <a:pt x="105" y="486"/>
                  </a:lnTo>
                  <a:lnTo>
                    <a:pt x="0" y="441"/>
                  </a:lnTo>
                  <a:lnTo>
                    <a:pt x="17" y="592"/>
                  </a:lnTo>
                  <a:lnTo>
                    <a:pt x="171" y="716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615080" y="1266840"/>
              <a:ext cx="159120" cy="768600"/>
            </a:xfrm>
            <a:custGeom>
              <a:avLst/>
              <a:gdLst/>
              <a:ahLst/>
              <a:rect l="0" t="0" r="r" b="b"/>
              <a:pathLst>
                <a:path w="442" h="2135">
                  <a:moveTo>
                    <a:pt x="225" y="13"/>
                  </a:moveTo>
                  <a:lnTo>
                    <a:pt x="74" y="105"/>
                  </a:lnTo>
                  <a:lnTo>
                    <a:pt x="74" y="282"/>
                  </a:lnTo>
                  <a:lnTo>
                    <a:pt x="181" y="343"/>
                  </a:lnTo>
                  <a:lnTo>
                    <a:pt x="39" y="626"/>
                  </a:lnTo>
                  <a:lnTo>
                    <a:pt x="0" y="1001"/>
                  </a:lnTo>
                  <a:lnTo>
                    <a:pt x="111" y="1495"/>
                  </a:lnTo>
                  <a:lnTo>
                    <a:pt x="111" y="1703"/>
                  </a:lnTo>
                  <a:lnTo>
                    <a:pt x="52" y="1857"/>
                  </a:lnTo>
                  <a:lnTo>
                    <a:pt x="278" y="2135"/>
                  </a:lnTo>
                  <a:lnTo>
                    <a:pt x="425" y="1720"/>
                  </a:lnTo>
                  <a:lnTo>
                    <a:pt x="425" y="1434"/>
                  </a:lnTo>
                  <a:lnTo>
                    <a:pt x="318" y="1169"/>
                  </a:lnTo>
                  <a:lnTo>
                    <a:pt x="265" y="806"/>
                  </a:lnTo>
                  <a:lnTo>
                    <a:pt x="372" y="454"/>
                  </a:lnTo>
                  <a:lnTo>
                    <a:pt x="337" y="313"/>
                  </a:lnTo>
                  <a:lnTo>
                    <a:pt x="442" y="242"/>
                  </a:lnTo>
                  <a:lnTo>
                    <a:pt x="425" y="149"/>
                  </a:lnTo>
                  <a:lnTo>
                    <a:pt x="296" y="0"/>
                  </a:lnTo>
                  <a:lnTo>
                    <a:pt x="225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610400" y="1009800"/>
              <a:ext cx="127440" cy="70200"/>
            </a:xfrm>
            <a:custGeom>
              <a:avLst/>
              <a:gdLst/>
              <a:ahLst/>
              <a:rect l="0" t="0" r="r" b="b"/>
              <a:pathLst>
                <a:path w="354" h="195">
                  <a:moveTo>
                    <a:pt x="0" y="57"/>
                  </a:moveTo>
                  <a:lnTo>
                    <a:pt x="142" y="195"/>
                  </a:lnTo>
                  <a:lnTo>
                    <a:pt x="284" y="177"/>
                  </a:lnTo>
                  <a:lnTo>
                    <a:pt x="354" y="17"/>
                  </a:lnTo>
                  <a:lnTo>
                    <a:pt x="199" y="0"/>
                  </a:lnTo>
                  <a:lnTo>
                    <a:pt x="35" y="1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469280" y="654120"/>
              <a:ext cx="159120" cy="151200"/>
            </a:xfrm>
            <a:custGeom>
              <a:avLst/>
              <a:gdLst/>
              <a:ahLst/>
              <a:rect l="0" t="0" r="r" b="b"/>
              <a:pathLst>
                <a:path w="442" h="420">
                  <a:moveTo>
                    <a:pt x="0" y="48"/>
                  </a:moveTo>
                  <a:lnTo>
                    <a:pt x="305" y="420"/>
                  </a:lnTo>
                  <a:lnTo>
                    <a:pt x="442" y="390"/>
                  </a:lnTo>
                  <a:lnTo>
                    <a:pt x="124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750080" y="622440"/>
              <a:ext cx="136800" cy="151200"/>
            </a:xfrm>
            <a:custGeom>
              <a:avLst/>
              <a:gdLst/>
              <a:ahLst/>
              <a:rect l="0" t="0" r="r" b="b"/>
              <a:pathLst>
                <a:path w="380" h="420">
                  <a:moveTo>
                    <a:pt x="0" y="61"/>
                  </a:moveTo>
                  <a:lnTo>
                    <a:pt x="265" y="420"/>
                  </a:lnTo>
                  <a:lnTo>
                    <a:pt x="380" y="328"/>
                  </a:lnTo>
                  <a:lnTo>
                    <a:pt x="105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412040" y="428760"/>
              <a:ext cx="555840" cy="376560"/>
            </a:xfrm>
            <a:custGeom>
              <a:avLst/>
              <a:gdLst/>
              <a:ahLst/>
              <a:rect l="0" t="0" r="r" b="b"/>
              <a:pathLst>
                <a:path w="1544" h="1046">
                  <a:moveTo>
                    <a:pt x="709" y="622"/>
                  </a:moveTo>
                  <a:lnTo>
                    <a:pt x="568" y="583"/>
                  </a:lnTo>
                  <a:lnTo>
                    <a:pt x="687" y="489"/>
                  </a:lnTo>
                  <a:lnTo>
                    <a:pt x="643" y="436"/>
                  </a:lnTo>
                  <a:lnTo>
                    <a:pt x="485" y="561"/>
                  </a:lnTo>
                  <a:lnTo>
                    <a:pt x="194" y="591"/>
                  </a:lnTo>
                  <a:lnTo>
                    <a:pt x="0" y="600"/>
                  </a:lnTo>
                  <a:lnTo>
                    <a:pt x="0" y="746"/>
                  </a:lnTo>
                  <a:lnTo>
                    <a:pt x="185" y="1037"/>
                  </a:lnTo>
                  <a:lnTo>
                    <a:pt x="229" y="1046"/>
                  </a:lnTo>
                  <a:lnTo>
                    <a:pt x="66" y="724"/>
                  </a:lnTo>
                  <a:lnTo>
                    <a:pt x="321" y="622"/>
                  </a:lnTo>
                  <a:lnTo>
                    <a:pt x="485" y="622"/>
                  </a:lnTo>
                  <a:lnTo>
                    <a:pt x="612" y="684"/>
                  </a:lnTo>
                  <a:lnTo>
                    <a:pt x="643" y="772"/>
                  </a:lnTo>
                  <a:lnTo>
                    <a:pt x="643" y="975"/>
                  </a:lnTo>
                  <a:lnTo>
                    <a:pt x="643" y="1037"/>
                  </a:lnTo>
                  <a:lnTo>
                    <a:pt x="718" y="944"/>
                  </a:lnTo>
                  <a:lnTo>
                    <a:pt x="718" y="737"/>
                  </a:lnTo>
                  <a:lnTo>
                    <a:pt x="825" y="737"/>
                  </a:lnTo>
                  <a:lnTo>
                    <a:pt x="878" y="975"/>
                  </a:lnTo>
                  <a:lnTo>
                    <a:pt x="940" y="993"/>
                  </a:lnTo>
                  <a:lnTo>
                    <a:pt x="1125" y="993"/>
                  </a:lnTo>
                  <a:lnTo>
                    <a:pt x="1319" y="953"/>
                  </a:lnTo>
                  <a:lnTo>
                    <a:pt x="1451" y="865"/>
                  </a:lnTo>
                  <a:lnTo>
                    <a:pt x="1473" y="649"/>
                  </a:lnTo>
                  <a:lnTo>
                    <a:pt x="1544" y="561"/>
                  </a:lnTo>
                  <a:lnTo>
                    <a:pt x="1500" y="507"/>
                  </a:lnTo>
                  <a:lnTo>
                    <a:pt x="1328" y="445"/>
                  </a:lnTo>
                  <a:lnTo>
                    <a:pt x="1301" y="233"/>
                  </a:lnTo>
                  <a:lnTo>
                    <a:pt x="1138" y="233"/>
                  </a:lnTo>
                  <a:lnTo>
                    <a:pt x="949" y="0"/>
                  </a:lnTo>
                  <a:lnTo>
                    <a:pt x="1125" y="260"/>
                  </a:lnTo>
                  <a:lnTo>
                    <a:pt x="1178" y="260"/>
                  </a:lnTo>
                  <a:lnTo>
                    <a:pt x="1218" y="436"/>
                  </a:lnTo>
                  <a:lnTo>
                    <a:pt x="997" y="507"/>
                  </a:lnTo>
                  <a:lnTo>
                    <a:pt x="838" y="454"/>
                  </a:lnTo>
                  <a:lnTo>
                    <a:pt x="816" y="507"/>
                  </a:lnTo>
                  <a:lnTo>
                    <a:pt x="900" y="561"/>
                  </a:lnTo>
                  <a:lnTo>
                    <a:pt x="900" y="613"/>
                  </a:lnTo>
                  <a:lnTo>
                    <a:pt x="1085" y="530"/>
                  </a:lnTo>
                  <a:lnTo>
                    <a:pt x="1240" y="520"/>
                  </a:lnTo>
                  <a:lnTo>
                    <a:pt x="1416" y="538"/>
                  </a:lnTo>
                  <a:lnTo>
                    <a:pt x="1416" y="569"/>
                  </a:lnTo>
                  <a:lnTo>
                    <a:pt x="1332" y="640"/>
                  </a:lnTo>
                  <a:lnTo>
                    <a:pt x="1301" y="737"/>
                  </a:lnTo>
                  <a:lnTo>
                    <a:pt x="1293" y="865"/>
                  </a:lnTo>
                  <a:lnTo>
                    <a:pt x="1191" y="913"/>
                  </a:lnTo>
                  <a:lnTo>
                    <a:pt x="1041" y="931"/>
                  </a:lnTo>
                  <a:lnTo>
                    <a:pt x="940" y="931"/>
                  </a:lnTo>
                  <a:lnTo>
                    <a:pt x="904" y="891"/>
                  </a:lnTo>
                  <a:lnTo>
                    <a:pt x="878" y="649"/>
                  </a:lnTo>
                  <a:lnTo>
                    <a:pt x="718" y="649"/>
                  </a:lnTo>
                  <a:lnTo>
                    <a:pt x="709" y="6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602480" y="861840"/>
              <a:ext cx="179640" cy="76680"/>
            </a:xfrm>
            <a:custGeom>
              <a:avLst/>
              <a:gdLst/>
              <a:ahLst/>
              <a:rect l="0" t="0" r="r" b="b"/>
              <a:pathLst>
                <a:path w="499" h="213">
                  <a:moveTo>
                    <a:pt x="0" y="0"/>
                  </a:moveTo>
                  <a:lnTo>
                    <a:pt x="79" y="98"/>
                  </a:lnTo>
                  <a:lnTo>
                    <a:pt x="296" y="98"/>
                  </a:lnTo>
                  <a:lnTo>
                    <a:pt x="384" y="30"/>
                  </a:lnTo>
                  <a:lnTo>
                    <a:pt x="499" y="30"/>
                  </a:lnTo>
                  <a:lnTo>
                    <a:pt x="477" y="62"/>
                  </a:lnTo>
                  <a:lnTo>
                    <a:pt x="477" y="98"/>
                  </a:lnTo>
                  <a:lnTo>
                    <a:pt x="278" y="213"/>
                  </a:lnTo>
                  <a:lnTo>
                    <a:pt x="167" y="213"/>
                  </a:lnTo>
                  <a:lnTo>
                    <a:pt x="105" y="169"/>
                  </a:lnTo>
                  <a:lnTo>
                    <a:pt x="44" y="1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402680" y="738360"/>
              <a:ext cx="271800" cy="405000"/>
            </a:xfrm>
            <a:custGeom>
              <a:avLst/>
              <a:gdLst/>
              <a:ahLst/>
              <a:rect l="0" t="0" r="r" b="b"/>
              <a:pathLst>
                <a:path w="755" h="1125">
                  <a:moveTo>
                    <a:pt x="755" y="79"/>
                  </a:moveTo>
                  <a:lnTo>
                    <a:pt x="755" y="97"/>
                  </a:lnTo>
                  <a:lnTo>
                    <a:pt x="622" y="211"/>
                  </a:lnTo>
                  <a:lnTo>
                    <a:pt x="512" y="233"/>
                  </a:lnTo>
                  <a:lnTo>
                    <a:pt x="299" y="202"/>
                  </a:lnTo>
                  <a:lnTo>
                    <a:pt x="339" y="609"/>
                  </a:lnTo>
                  <a:lnTo>
                    <a:pt x="389" y="944"/>
                  </a:lnTo>
                  <a:lnTo>
                    <a:pt x="481" y="1125"/>
                  </a:lnTo>
                  <a:lnTo>
                    <a:pt x="389" y="993"/>
                  </a:lnTo>
                  <a:lnTo>
                    <a:pt x="352" y="852"/>
                  </a:lnTo>
                  <a:lnTo>
                    <a:pt x="291" y="476"/>
                  </a:lnTo>
                  <a:lnTo>
                    <a:pt x="229" y="498"/>
                  </a:lnTo>
                  <a:lnTo>
                    <a:pt x="158" y="454"/>
                  </a:lnTo>
                  <a:lnTo>
                    <a:pt x="17" y="255"/>
                  </a:lnTo>
                  <a:lnTo>
                    <a:pt x="0" y="145"/>
                  </a:lnTo>
                  <a:lnTo>
                    <a:pt x="0" y="66"/>
                  </a:lnTo>
                  <a:lnTo>
                    <a:pt x="30" y="22"/>
                  </a:lnTo>
                  <a:lnTo>
                    <a:pt x="119" y="0"/>
                  </a:lnTo>
                  <a:lnTo>
                    <a:pt x="127" y="30"/>
                  </a:lnTo>
                  <a:lnTo>
                    <a:pt x="61" y="52"/>
                  </a:lnTo>
                  <a:lnTo>
                    <a:pt x="44" y="136"/>
                  </a:lnTo>
                  <a:lnTo>
                    <a:pt x="52" y="242"/>
                  </a:lnTo>
                  <a:lnTo>
                    <a:pt x="149" y="335"/>
                  </a:lnTo>
                  <a:lnTo>
                    <a:pt x="194" y="313"/>
                  </a:lnTo>
                  <a:lnTo>
                    <a:pt x="194" y="110"/>
                  </a:lnTo>
                  <a:lnTo>
                    <a:pt x="282" y="154"/>
                  </a:lnTo>
                  <a:lnTo>
                    <a:pt x="424" y="180"/>
                  </a:lnTo>
                  <a:lnTo>
                    <a:pt x="547" y="171"/>
                  </a:lnTo>
                  <a:lnTo>
                    <a:pt x="671" y="110"/>
                  </a:lnTo>
                  <a:lnTo>
                    <a:pt x="755" y="7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475400" y="417600"/>
              <a:ext cx="81360" cy="216360"/>
            </a:xfrm>
            <a:custGeom>
              <a:avLst/>
              <a:gdLst/>
              <a:ahLst/>
              <a:rect l="0" t="0" r="r" b="b"/>
              <a:pathLst>
                <a:path w="226" h="601">
                  <a:moveTo>
                    <a:pt x="115" y="601"/>
                  </a:moveTo>
                  <a:lnTo>
                    <a:pt x="226" y="247"/>
                  </a:lnTo>
                  <a:lnTo>
                    <a:pt x="26" y="119"/>
                  </a:lnTo>
                  <a:lnTo>
                    <a:pt x="0" y="0"/>
                  </a:lnTo>
                  <a:lnTo>
                    <a:pt x="17" y="145"/>
                  </a:lnTo>
                  <a:lnTo>
                    <a:pt x="80" y="203"/>
                  </a:lnTo>
                  <a:lnTo>
                    <a:pt x="89" y="384"/>
                  </a:lnTo>
                  <a:lnTo>
                    <a:pt x="137" y="456"/>
                  </a:lnTo>
                  <a:lnTo>
                    <a:pt x="115" y="60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472520" y="228600"/>
              <a:ext cx="609840" cy="284400"/>
            </a:xfrm>
            <a:custGeom>
              <a:avLst/>
              <a:gdLst/>
              <a:ahLst/>
              <a:rect l="0" t="0" r="r" b="b"/>
              <a:pathLst>
                <a:path w="1694" h="790">
                  <a:moveTo>
                    <a:pt x="17" y="534"/>
                  </a:moveTo>
                  <a:lnTo>
                    <a:pt x="163" y="618"/>
                  </a:lnTo>
                  <a:lnTo>
                    <a:pt x="145" y="512"/>
                  </a:lnTo>
                  <a:lnTo>
                    <a:pt x="176" y="335"/>
                  </a:lnTo>
                  <a:lnTo>
                    <a:pt x="273" y="295"/>
                  </a:lnTo>
                  <a:lnTo>
                    <a:pt x="282" y="490"/>
                  </a:lnTo>
                  <a:lnTo>
                    <a:pt x="568" y="154"/>
                  </a:lnTo>
                  <a:lnTo>
                    <a:pt x="635" y="132"/>
                  </a:lnTo>
                  <a:lnTo>
                    <a:pt x="582" y="264"/>
                  </a:lnTo>
                  <a:lnTo>
                    <a:pt x="762" y="326"/>
                  </a:lnTo>
                  <a:lnTo>
                    <a:pt x="891" y="194"/>
                  </a:lnTo>
                  <a:lnTo>
                    <a:pt x="962" y="233"/>
                  </a:lnTo>
                  <a:lnTo>
                    <a:pt x="900" y="348"/>
                  </a:lnTo>
                  <a:lnTo>
                    <a:pt x="984" y="282"/>
                  </a:lnTo>
                  <a:lnTo>
                    <a:pt x="1112" y="335"/>
                  </a:lnTo>
                  <a:lnTo>
                    <a:pt x="1010" y="428"/>
                  </a:lnTo>
                  <a:lnTo>
                    <a:pt x="1359" y="490"/>
                  </a:lnTo>
                  <a:lnTo>
                    <a:pt x="1125" y="556"/>
                  </a:lnTo>
                  <a:lnTo>
                    <a:pt x="1416" y="596"/>
                  </a:lnTo>
                  <a:lnTo>
                    <a:pt x="1072" y="671"/>
                  </a:lnTo>
                  <a:lnTo>
                    <a:pt x="1143" y="733"/>
                  </a:lnTo>
                  <a:lnTo>
                    <a:pt x="1041" y="790"/>
                  </a:lnTo>
                  <a:lnTo>
                    <a:pt x="1222" y="790"/>
                  </a:lnTo>
                  <a:lnTo>
                    <a:pt x="1204" y="741"/>
                  </a:lnTo>
                  <a:lnTo>
                    <a:pt x="1385" y="785"/>
                  </a:lnTo>
                  <a:lnTo>
                    <a:pt x="1359" y="658"/>
                  </a:lnTo>
                  <a:lnTo>
                    <a:pt x="1526" y="605"/>
                  </a:lnTo>
                  <a:lnTo>
                    <a:pt x="1407" y="543"/>
                  </a:lnTo>
                  <a:lnTo>
                    <a:pt x="1694" y="525"/>
                  </a:lnTo>
                  <a:lnTo>
                    <a:pt x="1447" y="397"/>
                  </a:lnTo>
                  <a:lnTo>
                    <a:pt x="1165" y="370"/>
                  </a:lnTo>
                  <a:lnTo>
                    <a:pt x="1385" y="242"/>
                  </a:lnTo>
                  <a:lnTo>
                    <a:pt x="984" y="242"/>
                  </a:lnTo>
                  <a:lnTo>
                    <a:pt x="1173" y="119"/>
                  </a:lnTo>
                  <a:lnTo>
                    <a:pt x="882" y="154"/>
                  </a:lnTo>
                  <a:lnTo>
                    <a:pt x="745" y="211"/>
                  </a:lnTo>
                  <a:lnTo>
                    <a:pt x="865" y="0"/>
                  </a:lnTo>
                  <a:lnTo>
                    <a:pt x="511" y="119"/>
                  </a:lnTo>
                  <a:lnTo>
                    <a:pt x="317" y="379"/>
                  </a:lnTo>
                  <a:lnTo>
                    <a:pt x="282" y="233"/>
                  </a:lnTo>
                  <a:lnTo>
                    <a:pt x="123" y="335"/>
                  </a:lnTo>
                  <a:lnTo>
                    <a:pt x="105" y="525"/>
                  </a:lnTo>
                  <a:lnTo>
                    <a:pt x="0" y="490"/>
                  </a:lnTo>
                  <a:lnTo>
                    <a:pt x="35" y="658"/>
                  </a:lnTo>
                  <a:lnTo>
                    <a:pt x="17" y="5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605720" y="379440"/>
              <a:ext cx="171720" cy="86040"/>
            </a:xfrm>
            <a:custGeom>
              <a:avLst/>
              <a:gdLst/>
              <a:ahLst/>
              <a:rect l="0" t="0" r="r" b="b"/>
              <a:pathLst>
                <a:path w="477" h="239">
                  <a:moveTo>
                    <a:pt x="0" y="239"/>
                  </a:moveTo>
                  <a:lnTo>
                    <a:pt x="176" y="0"/>
                  </a:lnTo>
                  <a:lnTo>
                    <a:pt x="176" y="159"/>
                  </a:lnTo>
                  <a:lnTo>
                    <a:pt x="243" y="92"/>
                  </a:lnTo>
                  <a:lnTo>
                    <a:pt x="300" y="181"/>
                  </a:lnTo>
                  <a:lnTo>
                    <a:pt x="477" y="225"/>
                  </a:lnTo>
                  <a:lnTo>
                    <a:pt x="287" y="195"/>
                  </a:lnTo>
                  <a:lnTo>
                    <a:pt x="229" y="137"/>
                  </a:lnTo>
                  <a:lnTo>
                    <a:pt x="149" y="195"/>
                  </a:lnTo>
                  <a:lnTo>
                    <a:pt x="149" y="124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589880" y="961920"/>
              <a:ext cx="206640" cy="127440"/>
            </a:xfrm>
            <a:custGeom>
              <a:avLst/>
              <a:gdLst/>
              <a:ahLst/>
              <a:rect l="0" t="0" r="r" b="b"/>
              <a:pathLst>
                <a:path w="574" h="354">
                  <a:moveTo>
                    <a:pt x="110" y="124"/>
                  </a:moveTo>
                  <a:lnTo>
                    <a:pt x="344" y="106"/>
                  </a:lnTo>
                  <a:lnTo>
                    <a:pt x="459" y="133"/>
                  </a:lnTo>
                  <a:lnTo>
                    <a:pt x="512" y="79"/>
                  </a:lnTo>
                  <a:lnTo>
                    <a:pt x="574" y="195"/>
                  </a:lnTo>
                  <a:lnTo>
                    <a:pt x="534" y="217"/>
                  </a:lnTo>
                  <a:lnTo>
                    <a:pt x="486" y="177"/>
                  </a:lnTo>
                  <a:lnTo>
                    <a:pt x="411" y="256"/>
                  </a:lnTo>
                  <a:lnTo>
                    <a:pt x="264" y="354"/>
                  </a:lnTo>
                  <a:lnTo>
                    <a:pt x="202" y="354"/>
                  </a:lnTo>
                  <a:lnTo>
                    <a:pt x="110" y="301"/>
                  </a:lnTo>
                  <a:lnTo>
                    <a:pt x="216" y="345"/>
                  </a:lnTo>
                  <a:lnTo>
                    <a:pt x="255" y="345"/>
                  </a:lnTo>
                  <a:lnTo>
                    <a:pt x="344" y="284"/>
                  </a:lnTo>
                  <a:lnTo>
                    <a:pt x="406" y="164"/>
                  </a:lnTo>
                  <a:lnTo>
                    <a:pt x="314" y="146"/>
                  </a:lnTo>
                  <a:lnTo>
                    <a:pt x="251" y="133"/>
                  </a:lnTo>
                  <a:lnTo>
                    <a:pt x="97" y="155"/>
                  </a:lnTo>
                  <a:lnTo>
                    <a:pt x="92" y="247"/>
                  </a:lnTo>
                  <a:lnTo>
                    <a:pt x="44" y="186"/>
                  </a:lnTo>
                  <a:lnTo>
                    <a:pt x="0" y="270"/>
                  </a:lnTo>
                  <a:lnTo>
                    <a:pt x="4" y="93"/>
                  </a:lnTo>
                  <a:lnTo>
                    <a:pt x="61" y="0"/>
                  </a:lnTo>
                  <a:lnTo>
                    <a:pt x="110" y="93"/>
                  </a:lnTo>
                  <a:lnTo>
                    <a:pt x="110" y="12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562880" y="685800"/>
              <a:ext cx="443160" cy="587880"/>
            </a:xfrm>
            <a:custGeom>
              <a:avLst/>
              <a:gdLst/>
              <a:ahLst/>
              <a:rect l="0" t="0" r="r" b="b"/>
              <a:pathLst>
                <a:path w="1231" h="1633">
                  <a:moveTo>
                    <a:pt x="1037" y="0"/>
                  </a:moveTo>
                  <a:lnTo>
                    <a:pt x="1160" y="0"/>
                  </a:lnTo>
                  <a:lnTo>
                    <a:pt x="1231" y="79"/>
                  </a:lnTo>
                  <a:lnTo>
                    <a:pt x="1231" y="167"/>
                  </a:lnTo>
                  <a:lnTo>
                    <a:pt x="1129" y="424"/>
                  </a:lnTo>
                  <a:lnTo>
                    <a:pt x="1028" y="547"/>
                  </a:lnTo>
                  <a:lnTo>
                    <a:pt x="922" y="565"/>
                  </a:lnTo>
                  <a:lnTo>
                    <a:pt x="896" y="565"/>
                  </a:lnTo>
                  <a:lnTo>
                    <a:pt x="896" y="887"/>
                  </a:lnTo>
                  <a:lnTo>
                    <a:pt x="944" y="1121"/>
                  </a:lnTo>
                  <a:lnTo>
                    <a:pt x="944" y="1311"/>
                  </a:lnTo>
                  <a:lnTo>
                    <a:pt x="759" y="1501"/>
                  </a:lnTo>
                  <a:lnTo>
                    <a:pt x="502" y="1633"/>
                  </a:lnTo>
                  <a:lnTo>
                    <a:pt x="339" y="1633"/>
                  </a:lnTo>
                  <a:lnTo>
                    <a:pt x="260" y="1593"/>
                  </a:lnTo>
                  <a:lnTo>
                    <a:pt x="145" y="1369"/>
                  </a:lnTo>
                  <a:lnTo>
                    <a:pt x="39" y="1289"/>
                  </a:lnTo>
                  <a:lnTo>
                    <a:pt x="0" y="1232"/>
                  </a:lnTo>
                  <a:lnTo>
                    <a:pt x="136" y="1311"/>
                  </a:lnTo>
                  <a:lnTo>
                    <a:pt x="238" y="1391"/>
                  </a:lnTo>
                  <a:lnTo>
                    <a:pt x="432" y="1404"/>
                  </a:lnTo>
                  <a:lnTo>
                    <a:pt x="612" y="1324"/>
                  </a:lnTo>
                  <a:lnTo>
                    <a:pt x="706" y="1232"/>
                  </a:lnTo>
                  <a:lnTo>
                    <a:pt x="807" y="1063"/>
                  </a:lnTo>
                  <a:lnTo>
                    <a:pt x="821" y="869"/>
                  </a:lnTo>
                  <a:lnTo>
                    <a:pt x="860" y="242"/>
                  </a:lnTo>
                  <a:lnTo>
                    <a:pt x="904" y="330"/>
                  </a:lnTo>
                  <a:lnTo>
                    <a:pt x="1024" y="216"/>
                  </a:lnTo>
                  <a:lnTo>
                    <a:pt x="1151" y="167"/>
                  </a:lnTo>
                  <a:lnTo>
                    <a:pt x="1182" y="101"/>
                  </a:lnTo>
                  <a:lnTo>
                    <a:pt x="1165" y="39"/>
                  </a:lnTo>
                  <a:lnTo>
                    <a:pt x="1112" y="8"/>
                  </a:lnTo>
                  <a:lnTo>
                    <a:pt x="103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875640" y="1192320"/>
              <a:ext cx="357480" cy="545040"/>
            </a:xfrm>
            <a:custGeom>
              <a:avLst/>
              <a:gdLst/>
              <a:ahLst/>
              <a:rect l="0" t="0" r="r" b="b"/>
              <a:pathLst>
                <a:path w="993" h="1514">
                  <a:moveTo>
                    <a:pt x="123" y="0"/>
                  </a:moveTo>
                  <a:lnTo>
                    <a:pt x="238" y="66"/>
                  </a:lnTo>
                  <a:lnTo>
                    <a:pt x="321" y="380"/>
                  </a:lnTo>
                  <a:lnTo>
                    <a:pt x="578" y="446"/>
                  </a:lnTo>
                  <a:lnTo>
                    <a:pt x="653" y="525"/>
                  </a:lnTo>
                  <a:lnTo>
                    <a:pt x="666" y="644"/>
                  </a:lnTo>
                  <a:lnTo>
                    <a:pt x="790" y="627"/>
                  </a:lnTo>
                  <a:lnTo>
                    <a:pt x="944" y="724"/>
                  </a:lnTo>
                  <a:lnTo>
                    <a:pt x="993" y="847"/>
                  </a:lnTo>
                  <a:lnTo>
                    <a:pt x="993" y="1059"/>
                  </a:lnTo>
                  <a:lnTo>
                    <a:pt x="790" y="1382"/>
                  </a:lnTo>
                  <a:lnTo>
                    <a:pt x="724" y="1514"/>
                  </a:lnTo>
                  <a:lnTo>
                    <a:pt x="759" y="1342"/>
                  </a:lnTo>
                  <a:lnTo>
                    <a:pt x="724" y="1272"/>
                  </a:lnTo>
                  <a:lnTo>
                    <a:pt x="600" y="1161"/>
                  </a:lnTo>
                  <a:lnTo>
                    <a:pt x="405" y="1028"/>
                  </a:lnTo>
                  <a:lnTo>
                    <a:pt x="640" y="1107"/>
                  </a:lnTo>
                  <a:lnTo>
                    <a:pt x="777" y="1205"/>
                  </a:lnTo>
                  <a:lnTo>
                    <a:pt x="847" y="1192"/>
                  </a:lnTo>
                  <a:lnTo>
                    <a:pt x="891" y="1134"/>
                  </a:lnTo>
                  <a:lnTo>
                    <a:pt x="944" y="984"/>
                  </a:lnTo>
                  <a:lnTo>
                    <a:pt x="927" y="834"/>
                  </a:lnTo>
                  <a:lnTo>
                    <a:pt x="856" y="750"/>
                  </a:lnTo>
                  <a:lnTo>
                    <a:pt x="733" y="724"/>
                  </a:lnTo>
                  <a:lnTo>
                    <a:pt x="600" y="724"/>
                  </a:lnTo>
                  <a:lnTo>
                    <a:pt x="556" y="499"/>
                  </a:lnTo>
                  <a:lnTo>
                    <a:pt x="335" y="419"/>
                  </a:lnTo>
                  <a:lnTo>
                    <a:pt x="335" y="486"/>
                  </a:lnTo>
                  <a:lnTo>
                    <a:pt x="238" y="321"/>
                  </a:lnTo>
                  <a:lnTo>
                    <a:pt x="180" y="66"/>
                  </a:lnTo>
                  <a:lnTo>
                    <a:pt x="97" y="44"/>
                  </a:lnTo>
                  <a:lnTo>
                    <a:pt x="48" y="119"/>
                  </a:lnTo>
                  <a:lnTo>
                    <a:pt x="48" y="291"/>
                  </a:lnTo>
                  <a:lnTo>
                    <a:pt x="88" y="486"/>
                  </a:lnTo>
                  <a:lnTo>
                    <a:pt x="207" y="644"/>
                  </a:lnTo>
                  <a:lnTo>
                    <a:pt x="74" y="543"/>
                  </a:lnTo>
                  <a:lnTo>
                    <a:pt x="13" y="380"/>
                  </a:lnTo>
                  <a:lnTo>
                    <a:pt x="0" y="163"/>
                  </a:lnTo>
                  <a:lnTo>
                    <a:pt x="48" y="44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705720" y="1432080"/>
              <a:ext cx="236880" cy="435240"/>
            </a:xfrm>
            <a:custGeom>
              <a:avLst/>
              <a:gdLst/>
              <a:ahLst/>
              <a:rect l="0" t="0" r="r" b="b"/>
              <a:pathLst>
                <a:path w="658" h="1209">
                  <a:moveTo>
                    <a:pt x="658" y="0"/>
                  </a:moveTo>
                  <a:lnTo>
                    <a:pt x="521" y="79"/>
                  </a:lnTo>
                  <a:lnTo>
                    <a:pt x="362" y="374"/>
                  </a:lnTo>
                  <a:lnTo>
                    <a:pt x="207" y="564"/>
                  </a:lnTo>
                  <a:lnTo>
                    <a:pt x="17" y="794"/>
                  </a:lnTo>
                  <a:lnTo>
                    <a:pt x="0" y="913"/>
                  </a:lnTo>
                  <a:lnTo>
                    <a:pt x="35" y="1019"/>
                  </a:lnTo>
                  <a:lnTo>
                    <a:pt x="127" y="1019"/>
                  </a:lnTo>
                  <a:lnTo>
                    <a:pt x="251" y="913"/>
                  </a:lnTo>
                  <a:lnTo>
                    <a:pt x="349" y="697"/>
                  </a:lnTo>
                  <a:lnTo>
                    <a:pt x="486" y="564"/>
                  </a:lnTo>
                  <a:lnTo>
                    <a:pt x="486" y="737"/>
                  </a:lnTo>
                  <a:lnTo>
                    <a:pt x="464" y="900"/>
                  </a:lnTo>
                  <a:lnTo>
                    <a:pt x="321" y="1112"/>
                  </a:lnTo>
                  <a:lnTo>
                    <a:pt x="321" y="1178"/>
                  </a:lnTo>
                  <a:lnTo>
                    <a:pt x="464" y="1209"/>
                  </a:lnTo>
                  <a:lnTo>
                    <a:pt x="362" y="1151"/>
                  </a:lnTo>
                  <a:lnTo>
                    <a:pt x="380" y="1112"/>
                  </a:lnTo>
                  <a:lnTo>
                    <a:pt x="477" y="953"/>
                  </a:lnTo>
                  <a:lnTo>
                    <a:pt x="543" y="671"/>
                  </a:lnTo>
                  <a:lnTo>
                    <a:pt x="494" y="507"/>
                  </a:lnTo>
                  <a:lnTo>
                    <a:pt x="389" y="605"/>
                  </a:lnTo>
                  <a:lnTo>
                    <a:pt x="154" y="962"/>
                  </a:lnTo>
                  <a:lnTo>
                    <a:pt x="92" y="975"/>
                  </a:lnTo>
                  <a:lnTo>
                    <a:pt x="35" y="935"/>
                  </a:lnTo>
                  <a:lnTo>
                    <a:pt x="35" y="825"/>
                  </a:lnTo>
                  <a:lnTo>
                    <a:pt x="127" y="684"/>
                  </a:lnTo>
                  <a:lnTo>
                    <a:pt x="389" y="388"/>
                  </a:lnTo>
                  <a:lnTo>
                    <a:pt x="543" y="110"/>
                  </a:lnTo>
                  <a:lnTo>
                    <a:pt x="65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880320" y="1677960"/>
              <a:ext cx="146520" cy="209880"/>
            </a:xfrm>
            <a:custGeom>
              <a:avLst/>
              <a:gdLst/>
              <a:ahLst/>
              <a:rect l="0" t="0" r="r" b="b"/>
              <a:pathLst>
                <a:path w="407" h="583">
                  <a:moveTo>
                    <a:pt x="0" y="516"/>
                  </a:moveTo>
                  <a:lnTo>
                    <a:pt x="133" y="367"/>
                  </a:lnTo>
                  <a:lnTo>
                    <a:pt x="159" y="216"/>
                  </a:lnTo>
                  <a:lnTo>
                    <a:pt x="315" y="0"/>
                  </a:lnTo>
                  <a:lnTo>
                    <a:pt x="345" y="145"/>
                  </a:lnTo>
                  <a:lnTo>
                    <a:pt x="328" y="530"/>
                  </a:lnTo>
                  <a:lnTo>
                    <a:pt x="407" y="583"/>
                  </a:lnTo>
                  <a:lnTo>
                    <a:pt x="287" y="538"/>
                  </a:lnTo>
                  <a:lnTo>
                    <a:pt x="230" y="322"/>
                  </a:lnTo>
                  <a:lnTo>
                    <a:pt x="133" y="428"/>
                  </a:lnTo>
                  <a:lnTo>
                    <a:pt x="0" y="51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059600" y="1689120"/>
              <a:ext cx="97200" cy="187560"/>
            </a:xfrm>
            <a:custGeom>
              <a:avLst/>
              <a:gdLst/>
              <a:ahLst/>
              <a:rect l="0" t="0" r="r" b="b"/>
              <a:pathLst>
                <a:path w="270" h="521">
                  <a:moveTo>
                    <a:pt x="0" y="389"/>
                  </a:moveTo>
                  <a:lnTo>
                    <a:pt x="13" y="198"/>
                  </a:lnTo>
                  <a:lnTo>
                    <a:pt x="71" y="83"/>
                  </a:lnTo>
                  <a:lnTo>
                    <a:pt x="133" y="494"/>
                  </a:lnTo>
                  <a:lnTo>
                    <a:pt x="213" y="494"/>
                  </a:lnTo>
                  <a:lnTo>
                    <a:pt x="248" y="57"/>
                  </a:lnTo>
                  <a:lnTo>
                    <a:pt x="270" y="0"/>
                  </a:lnTo>
                  <a:lnTo>
                    <a:pt x="248" y="340"/>
                  </a:lnTo>
                  <a:lnTo>
                    <a:pt x="213" y="521"/>
                  </a:lnTo>
                  <a:lnTo>
                    <a:pt x="106" y="521"/>
                  </a:lnTo>
                  <a:lnTo>
                    <a:pt x="61" y="158"/>
                  </a:lnTo>
                  <a:lnTo>
                    <a:pt x="30" y="211"/>
                  </a:lnTo>
                  <a:lnTo>
                    <a:pt x="0" y="38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8290080" y="950760"/>
              <a:ext cx="233640" cy="501840"/>
            </a:xfrm>
            <a:custGeom>
              <a:avLst/>
              <a:gdLst/>
              <a:ahLst/>
              <a:rect l="0" t="0" r="r" b="b"/>
              <a:pathLst>
                <a:path w="649" h="1394">
                  <a:moveTo>
                    <a:pt x="171" y="759"/>
                  </a:moveTo>
                  <a:lnTo>
                    <a:pt x="220" y="533"/>
                  </a:lnTo>
                  <a:lnTo>
                    <a:pt x="437" y="480"/>
                  </a:lnTo>
                  <a:lnTo>
                    <a:pt x="649" y="0"/>
                  </a:lnTo>
                  <a:lnTo>
                    <a:pt x="649" y="141"/>
                  </a:lnTo>
                  <a:lnTo>
                    <a:pt x="472" y="511"/>
                  </a:lnTo>
                  <a:lnTo>
                    <a:pt x="238" y="577"/>
                  </a:lnTo>
                  <a:lnTo>
                    <a:pt x="207" y="759"/>
                  </a:lnTo>
                  <a:lnTo>
                    <a:pt x="286" y="759"/>
                  </a:lnTo>
                  <a:lnTo>
                    <a:pt x="83" y="834"/>
                  </a:lnTo>
                  <a:lnTo>
                    <a:pt x="35" y="984"/>
                  </a:lnTo>
                  <a:lnTo>
                    <a:pt x="48" y="1173"/>
                  </a:lnTo>
                  <a:lnTo>
                    <a:pt x="264" y="1394"/>
                  </a:lnTo>
                  <a:lnTo>
                    <a:pt x="35" y="1200"/>
                  </a:lnTo>
                  <a:lnTo>
                    <a:pt x="0" y="1037"/>
                  </a:lnTo>
                  <a:lnTo>
                    <a:pt x="17" y="874"/>
                  </a:lnTo>
                  <a:lnTo>
                    <a:pt x="97" y="759"/>
                  </a:lnTo>
                  <a:lnTo>
                    <a:pt x="171" y="75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8447040" y="950760"/>
              <a:ext cx="390960" cy="486000"/>
            </a:xfrm>
            <a:custGeom>
              <a:avLst/>
              <a:gdLst/>
              <a:ahLst/>
              <a:rect l="0" t="0" r="r" b="b"/>
              <a:pathLst>
                <a:path w="1086" h="1350">
                  <a:moveTo>
                    <a:pt x="300" y="0"/>
                  </a:moveTo>
                  <a:lnTo>
                    <a:pt x="367" y="44"/>
                  </a:lnTo>
                  <a:lnTo>
                    <a:pt x="384" y="158"/>
                  </a:lnTo>
                  <a:lnTo>
                    <a:pt x="384" y="264"/>
                  </a:lnTo>
                  <a:lnTo>
                    <a:pt x="264" y="458"/>
                  </a:lnTo>
                  <a:lnTo>
                    <a:pt x="287" y="604"/>
                  </a:lnTo>
                  <a:lnTo>
                    <a:pt x="653" y="759"/>
                  </a:lnTo>
                  <a:lnTo>
                    <a:pt x="1077" y="1187"/>
                  </a:lnTo>
                  <a:lnTo>
                    <a:pt x="1086" y="1297"/>
                  </a:lnTo>
                  <a:lnTo>
                    <a:pt x="1064" y="1350"/>
                  </a:lnTo>
                  <a:lnTo>
                    <a:pt x="905" y="1350"/>
                  </a:lnTo>
                  <a:lnTo>
                    <a:pt x="763" y="1271"/>
                  </a:lnTo>
                  <a:lnTo>
                    <a:pt x="644" y="1129"/>
                  </a:lnTo>
                  <a:lnTo>
                    <a:pt x="578" y="1050"/>
                  </a:lnTo>
                  <a:lnTo>
                    <a:pt x="503" y="1037"/>
                  </a:lnTo>
                  <a:lnTo>
                    <a:pt x="596" y="1037"/>
                  </a:lnTo>
                  <a:lnTo>
                    <a:pt x="772" y="1257"/>
                  </a:lnTo>
                  <a:lnTo>
                    <a:pt x="1003" y="1319"/>
                  </a:lnTo>
                  <a:lnTo>
                    <a:pt x="1051" y="1257"/>
                  </a:lnTo>
                  <a:lnTo>
                    <a:pt x="1025" y="1156"/>
                  </a:lnTo>
                  <a:lnTo>
                    <a:pt x="627" y="847"/>
                  </a:lnTo>
                  <a:lnTo>
                    <a:pt x="569" y="759"/>
                  </a:lnTo>
                  <a:lnTo>
                    <a:pt x="264" y="684"/>
                  </a:lnTo>
                  <a:lnTo>
                    <a:pt x="211" y="759"/>
                  </a:lnTo>
                  <a:lnTo>
                    <a:pt x="0" y="887"/>
                  </a:lnTo>
                  <a:lnTo>
                    <a:pt x="198" y="737"/>
                  </a:lnTo>
                  <a:lnTo>
                    <a:pt x="211" y="643"/>
                  </a:lnTo>
                  <a:lnTo>
                    <a:pt x="211" y="427"/>
                  </a:lnTo>
                  <a:lnTo>
                    <a:pt x="349" y="264"/>
                  </a:lnTo>
                  <a:lnTo>
                    <a:pt x="349" y="57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375760" y="1333440"/>
              <a:ext cx="332280" cy="287640"/>
            </a:xfrm>
            <a:custGeom>
              <a:avLst/>
              <a:gdLst/>
              <a:ahLst/>
              <a:rect l="0" t="0" r="r" b="b"/>
              <a:pathLst>
                <a:path w="923" h="799">
                  <a:moveTo>
                    <a:pt x="694" y="0"/>
                  </a:moveTo>
                  <a:lnTo>
                    <a:pt x="666" y="66"/>
                  </a:lnTo>
                  <a:lnTo>
                    <a:pt x="804" y="330"/>
                  </a:lnTo>
                  <a:lnTo>
                    <a:pt x="875" y="605"/>
                  </a:lnTo>
                  <a:lnTo>
                    <a:pt x="795" y="605"/>
                  </a:lnTo>
                  <a:lnTo>
                    <a:pt x="658" y="486"/>
                  </a:lnTo>
                  <a:lnTo>
                    <a:pt x="530" y="233"/>
                  </a:lnTo>
                  <a:lnTo>
                    <a:pt x="433" y="194"/>
                  </a:lnTo>
                  <a:lnTo>
                    <a:pt x="450" y="330"/>
                  </a:lnTo>
                  <a:lnTo>
                    <a:pt x="538" y="428"/>
                  </a:lnTo>
                  <a:lnTo>
                    <a:pt x="538" y="622"/>
                  </a:lnTo>
                  <a:lnTo>
                    <a:pt x="472" y="759"/>
                  </a:lnTo>
                  <a:lnTo>
                    <a:pt x="389" y="706"/>
                  </a:lnTo>
                  <a:lnTo>
                    <a:pt x="283" y="486"/>
                  </a:lnTo>
                  <a:lnTo>
                    <a:pt x="261" y="330"/>
                  </a:lnTo>
                  <a:lnTo>
                    <a:pt x="198" y="286"/>
                  </a:lnTo>
                  <a:lnTo>
                    <a:pt x="180" y="675"/>
                  </a:lnTo>
                  <a:lnTo>
                    <a:pt x="97" y="733"/>
                  </a:lnTo>
                  <a:lnTo>
                    <a:pt x="26" y="675"/>
                  </a:lnTo>
                  <a:lnTo>
                    <a:pt x="13" y="343"/>
                  </a:lnTo>
                  <a:lnTo>
                    <a:pt x="0" y="666"/>
                  </a:lnTo>
                  <a:lnTo>
                    <a:pt x="61" y="785"/>
                  </a:lnTo>
                  <a:lnTo>
                    <a:pt x="180" y="785"/>
                  </a:lnTo>
                  <a:lnTo>
                    <a:pt x="220" y="693"/>
                  </a:lnTo>
                  <a:lnTo>
                    <a:pt x="247" y="392"/>
                  </a:lnTo>
                  <a:lnTo>
                    <a:pt x="269" y="512"/>
                  </a:lnTo>
                  <a:lnTo>
                    <a:pt x="371" y="768"/>
                  </a:lnTo>
                  <a:lnTo>
                    <a:pt x="486" y="799"/>
                  </a:lnTo>
                  <a:lnTo>
                    <a:pt x="569" y="693"/>
                  </a:lnTo>
                  <a:lnTo>
                    <a:pt x="569" y="441"/>
                  </a:lnTo>
                  <a:lnTo>
                    <a:pt x="795" y="649"/>
                  </a:lnTo>
                  <a:lnTo>
                    <a:pt x="910" y="649"/>
                  </a:lnTo>
                  <a:lnTo>
                    <a:pt x="923" y="512"/>
                  </a:lnTo>
                  <a:lnTo>
                    <a:pt x="839" y="260"/>
                  </a:lnTo>
                  <a:lnTo>
                    <a:pt x="694" y="57"/>
                  </a:lnTo>
                  <a:lnTo>
                    <a:pt x="69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032600" y="1035000"/>
              <a:ext cx="1478160" cy="1173600"/>
            </a:xfrm>
            <a:custGeom>
              <a:avLst/>
              <a:gdLst/>
              <a:ahLst/>
              <a:rect l="0" t="0" r="r" b="b"/>
              <a:pathLst>
                <a:path w="4106" h="3260">
                  <a:moveTo>
                    <a:pt x="1477" y="277"/>
                  </a:moveTo>
                  <a:lnTo>
                    <a:pt x="1402" y="286"/>
                  </a:lnTo>
                  <a:lnTo>
                    <a:pt x="1287" y="449"/>
                  </a:lnTo>
                  <a:lnTo>
                    <a:pt x="1247" y="330"/>
                  </a:lnTo>
                  <a:lnTo>
                    <a:pt x="1115" y="264"/>
                  </a:lnTo>
                  <a:lnTo>
                    <a:pt x="1014" y="313"/>
                  </a:lnTo>
                  <a:lnTo>
                    <a:pt x="974" y="524"/>
                  </a:lnTo>
                  <a:lnTo>
                    <a:pt x="608" y="784"/>
                  </a:lnTo>
                  <a:lnTo>
                    <a:pt x="630" y="896"/>
                  </a:lnTo>
                  <a:lnTo>
                    <a:pt x="542" y="993"/>
                  </a:lnTo>
                  <a:lnTo>
                    <a:pt x="542" y="1076"/>
                  </a:lnTo>
                  <a:lnTo>
                    <a:pt x="648" y="1323"/>
                  </a:lnTo>
                  <a:lnTo>
                    <a:pt x="657" y="1628"/>
                  </a:lnTo>
                  <a:lnTo>
                    <a:pt x="586" y="1910"/>
                  </a:lnTo>
                  <a:lnTo>
                    <a:pt x="321" y="2082"/>
                  </a:lnTo>
                  <a:lnTo>
                    <a:pt x="286" y="2311"/>
                  </a:lnTo>
                  <a:lnTo>
                    <a:pt x="207" y="2311"/>
                  </a:lnTo>
                  <a:lnTo>
                    <a:pt x="167" y="2122"/>
                  </a:lnTo>
                  <a:lnTo>
                    <a:pt x="83" y="2122"/>
                  </a:lnTo>
                  <a:lnTo>
                    <a:pt x="48" y="2324"/>
                  </a:lnTo>
                  <a:lnTo>
                    <a:pt x="0" y="2382"/>
                  </a:lnTo>
                  <a:lnTo>
                    <a:pt x="180" y="2661"/>
                  </a:lnTo>
                  <a:lnTo>
                    <a:pt x="313" y="2674"/>
                  </a:lnTo>
                  <a:lnTo>
                    <a:pt x="542" y="2881"/>
                  </a:lnTo>
                  <a:lnTo>
                    <a:pt x="754" y="2908"/>
                  </a:lnTo>
                  <a:lnTo>
                    <a:pt x="868" y="2797"/>
                  </a:lnTo>
                  <a:lnTo>
                    <a:pt x="1155" y="2395"/>
                  </a:lnTo>
                  <a:lnTo>
                    <a:pt x="1177" y="2938"/>
                  </a:lnTo>
                  <a:lnTo>
                    <a:pt x="1155" y="3260"/>
                  </a:lnTo>
                  <a:lnTo>
                    <a:pt x="3528" y="3260"/>
                  </a:lnTo>
                  <a:lnTo>
                    <a:pt x="3352" y="2908"/>
                  </a:lnTo>
                  <a:lnTo>
                    <a:pt x="3268" y="2608"/>
                  </a:lnTo>
                  <a:lnTo>
                    <a:pt x="3246" y="2157"/>
                  </a:lnTo>
                  <a:lnTo>
                    <a:pt x="3387" y="2258"/>
                  </a:lnTo>
                  <a:lnTo>
                    <a:pt x="3528" y="2258"/>
                  </a:lnTo>
                  <a:lnTo>
                    <a:pt x="3722" y="2139"/>
                  </a:lnTo>
                  <a:lnTo>
                    <a:pt x="3850" y="2122"/>
                  </a:lnTo>
                  <a:lnTo>
                    <a:pt x="3934" y="2003"/>
                  </a:lnTo>
                  <a:lnTo>
                    <a:pt x="3987" y="1694"/>
                  </a:lnTo>
                  <a:lnTo>
                    <a:pt x="4106" y="1570"/>
                  </a:lnTo>
                  <a:lnTo>
                    <a:pt x="4044" y="1478"/>
                  </a:lnTo>
                  <a:lnTo>
                    <a:pt x="3956" y="1478"/>
                  </a:lnTo>
                  <a:lnTo>
                    <a:pt x="3885" y="1539"/>
                  </a:lnTo>
                  <a:lnTo>
                    <a:pt x="3819" y="1557"/>
                  </a:lnTo>
                  <a:lnTo>
                    <a:pt x="3736" y="1478"/>
                  </a:lnTo>
                  <a:lnTo>
                    <a:pt x="3634" y="1465"/>
                  </a:lnTo>
                  <a:lnTo>
                    <a:pt x="3444" y="1350"/>
                  </a:lnTo>
                  <a:lnTo>
                    <a:pt x="3330" y="1226"/>
                  </a:lnTo>
                  <a:lnTo>
                    <a:pt x="3308" y="1076"/>
                  </a:lnTo>
                  <a:lnTo>
                    <a:pt x="3330" y="935"/>
                  </a:lnTo>
                  <a:lnTo>
                    <a:pt x="3405" y="816"/>
                  </a:lnTo>
                  <a:lnTo>
                    <a:pt x="3506" y="709"/>
                  </a:lnTo>
                  <a:lnTo>
                    <a:pt x="3497" y="520"/>
                  </a:lnTo>
                  <a:lnTo>
                    <a:pt x="3497" y="388"/>
                  </a:lnTo>
                  <a:lnTo>
                    <a:pt x="3444" y="286"/>
                  </a:lnTo>
                  <a:lnTo>
                    <a:pt x="3308" y="246"/>
                  </a:lnTo>
                  <a:lnTo>
                    <a:pt x="3259" y="220"/>
                  </a:lnTo>
                  <a:lnTo>
                    <a:pt x="3162" y="57"/>
                  </a:lnTo>
                  <a:lnTo>
                    <a:pt x="3083" y="13"/>
                  </a:lnTo>
                  <a:lnTo>
                    <a:pt x="2995" y="0"/>
                  </a:lnTo>
                  <a:lnTo>
                    <a:pt x="2924" y="30"/>
                  </a:lnTo>
                  <a:lnTo>
                    <a:pt x="2862" y="114"/>
                  </a:lnTo>
                  <a:lnTo>
                    <a:pt x="2774" y="167"/>
                  </a:lnTo>
                  <a:lnTo>
                    <a:pt x="2673" y="180"/>
                  </a:lnTo>
                  <a:lnTo>
                    <a:pt x="2558" y="180"/>
                  </a:lnTo>
                  <a:lnTo>
                    <a:pt x="2580" y="343"/>
                  </a:lnTo>
                  <a:lnTo>
                    <a:pt x="2580" y="542"/>
                  </a:lnTo>
                  <a:lnTo>
                    <a:pt x="2558" y="679"/>
                  </a:lnTo>
                  <a:lnTo>
                    <a:pt x="2457" y="843"/>
                  </a:lnTo>
                  <a:lnTo>
                    <a:pt x="2329" y="1085"/>
                  </a:lnTo>
                  <a:lnTo>
                    <a:pt x="2227" y="1381"/>
                  </a:lnTo>
                  <a:lnTo>
                    <a:pt x="2219" y="1557"/>
                  </a:lnTo>
                  <a:lnTo>
                    <a:pt x="2170" y="1707"/>
                  </a:lnTo>
                  <a:lnTo>
                    <a:pt x="2108" y="1857"/>
                  </a:lnTo>
                  <a:lnTo>
                    <a:pt x="2082" y="2091"/>
                  </a:lnTo>
                  <a:lnTo>
                    <a:pt x="2100" y="2289"/>
                  </a:lnTo>
                  <a:lnTo>
                    <a:pt x="2170" y="2519"/>
                  </a:lnTo>
                  <a:lnTo>
                    <a:pt x="2219" y="2608"/>
                  </a:lnTo>
                  <a:lnTo>
                    <a:pt x="2082" y="2691"/>
                  </a:lnTo>
                  <a:lnTo>
                    <a:pt x="1913" y="2744"/>
                  </a:lnTo>
                  <a:lnTo>
                    <a:pt x="1733" y="2758"/>
                  </a:lnTo>
                  <a:lnTo>
                    <a:pt x="1618" y="2758"/>
                  </a:lnTo>
                  <a:lnTo>
                    <a:pt x="1547" y="2731"/>
                  </a:lnTo>
                  <a:lnTo>
                    <a:pt x="1547" y="2533"/>
                  </a:lnTo>
                  <a:lnTo>
                    <a:pt x="1547" y="2245"/>
                  </a:lnTo>
                  <a:lnTo>
                    <a:pt x="1503" y="1963"/>
                  </a:lnTo>
                  <a:lnTo>
                    <a:pt x="1428" y="1707"/>
                  </a:lnTo>
                  <a:lnTo>
                    <a:pt x="1393" y="1504"/>
                  </a:lnTo>
                  <a:lnTo>
                    <a:pt x="1380" y="1213"/>
                  </a:lnTo>
                  <a:lnTo>
                    <a:pt x="1428" y="962"/>
                  </a:lnTo>
                  <a:lnTo>
                    <a:pt x="1503" y="758"/>
                  </a:lnTo>
                  <a:lnTo>
                    <a:pt x="1508" y="639"/>
                  </a:lnTo>
                  <a:lnTo>
                    <a:pt x="1477" y="467"/>
                  </a:lnTo>
                  <a:lnTo>
                    <a:pt x="1477" y="330"/>
                  </a:lnTo>
                  <a:lnTo>
                    <a:pt x="1503" y="286"/>
                  </a:lnTo>
                  <a:lnTo>
                    <a:pt x="1477" y="27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608960" y="1270080"/>
              <a:ext cx="186120" cy="762480"/>
            </a:xfrm>
            <a:custGeom>
              <a:avLst/>
              <a:gdLst/>
              <a:ahLst/>
              <a:rect l="0" t="0" r="r" b="b"/>
              <a:pathLst>
                <a:path w="517" h="2118">
                  <a:moveTo>
                    <a:pt x="208" y="26"/>
                  </a:moveTo>
                  <a:lnTo>
                    <a:pt x="70" y="92"/>
                  </a:lnTo>
                  <a:lnTo>
                    <a:pt x="79" y="295"/>
                  </a:lnTo>
                  <a:lnTo>
                    <a:pt x="181" y="357"/>
                  </a:lnTo>
                  <a:lnTo>
                    <a:pt x="61" y="578"/>
                  </a:lnTo>
                  <a:lnTo>
                    <a:pt x="0" y="825"/>
                  </a:lnTo>
                  <a:lnTo>
                    <a:pt x="0" y="1059"/>
                  </a:lnTo>
                  <a:lnTo>
                    <a:pt x="61" y="1271"/>
                  </a:lnTo>
                  <a:lnTo>
                    <a:pt x="110" y="1526"/>
                  </a:lnTo>
                  <a:lnTo>
                    <a:pt x="110" y="1677"/>
                  </a:lnTo>
                  <a:lnTo>
                    <a:pt x="61" y="1858"/>
                  </a:lnTo>
                  <a:lnTo>
                    <a:pt x="265" y="2118"/>
                  </a:lnTo>
                  <a:lnTo>
                    <a:pt x="353" y="2074"/>
                  </a:lnTo>
                  <a:lnTo>
                    <a:pt x="412" y="1898"/>
                  </a:lnTo>
                  <a:lnTo>
                    <a:pt x="509" y="1664"/>
                  </a:lnTo>
                  <a:lnTo>
                    <a:pt x="517" y="1539"/>
                  </a:lnTo>
                  <a:lnTo>
                    <a:pt x="438" y="1306"/>
                  </a:lnTo>
                  <a:lnTo>
                    <a:pt x="340" y="1081"/>
                  </a:lnTo>
                  <a:lnTo>
                    <a:pt x="305" y="922"/>
                  </a:lnTo>
                  <a:lnTo>
                    <a:pt x="305" y="768"/>
                  </a:lnTo>
                  <a:lnTo>
                    <a:pt x="340" y="631"/>
                  </a:lnTo>
                  <a:lnTo>
                    <a:pt x="412" y="463"/>
                  </a:lnTo>
                  <a:lnTo>
                    <a:pt x="412" y="392"/>
                  </a:lnTo>
                  <a:lnTo>
                    <a:pt x="375" y="326"/>
                  </a:lnTo>
                  <a:lnTo>
                    <a:pt x="473" y="242"/>
                  </a:lnTo>
                  <a:lnTo>
                    <a:pt x="473" y="163"/>
                  </a:lnTo>
                  <a:lnTo>
                    <a:pt x="340" y="0"/>
                  </a:lnTo>
                  <a:lnTo>
                    <a:pt x="451" y="163"/>
                  </a:lnTo>
                  <a:lnTo>
                    <a:pt x="451" y="229"/>
                  </a:lnTo>
                  <a:lnTo>
                    <a:pt x="353" y="295"/>
                  </a:lnTo>
                  <a:lnTo>
                    <a:pt x="390" y="392"/>
                  </a:lnTo>
                  <a:lnTo>
                    <a:pt x="375" y="463"/>
                  </a:lnTo>
                  <a:lnTo>
                    <a:pt x="278" y="658"/>
                  </a:lnTo>
                  <a:lnTo>
                    <a:pt x="265" y="847"/>
                  </a:lnTo>
                  <a:lnTo>
                    <a:pt x="292" y="1028"/>
                  </a:lnTo>
                  <a:lnTo>
                    <a:pt x="353" y="1284"/>
                  </a:lnTo>
                  <a:lnTo>
                    <a:pt x="438" y="1487"/>
                  </a:lnTo>
                  <a:lnTo>
                    <a:pt x="438" y="1651"/>
                  </a:lnTo>
                  <a:lnTo>
                    <a:pt x="390" y="1858"/>
                  </a:lnTo>
                  <a:lnTo>
                    <a:pt x="292" y="2074"/>
                  </a:lnTo>
                  <a:lnTo>
                    <a:pt x="168" y="1955"/>
                  </a:lnTo>
                  <a:lnTo>
                    <a:pt x="119" y="1858"/>
                  </a:lnTo>
                  <a:lnTo>
                    <a:pt x="133" y="1651"/>
                  </a:lnTo>
                  <a:lnTo>
                    <a:pt x="119" y="1442"/>
                  </a:lnTo>
                  <a:lnTo>
                    <a:pt x="61" y="1165"/>
                  </a:lnTo>
                  <a:lnTo>
                    <a:pt x="35" y="971"/>
                  </a:lnTo>
                  <a:lnTo>
                    <a:pt x="61" y="755"/>
                  </a:lnTo>
                  <a:lnTo>
                    <a:pt x="110" y="547"/>
                  </a:lnTo>
                  <a:lnTo>
                    <a:pt x="217" y="339"/>
                  </a:lnTo>
                  <a:lnTo>
                    <a:pt x="119" y="255"/>
                  </a:lnTo>
                  <a:lnTo>
                    <a:pt x="110" y="105"/>
                  </a:lnTo>
                  <a:lnTo>
                    <a:pt x="208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140680" y="379440"/>
              <a:ext cx="294120" cy="371880"/>
            </a:xfrm>
            <a:custGeom>
              <a:avLst/>
              <a:gdLst/>
              <a:ahLst/>
              <a:rect l="0" t="0" r="r" b="b"/>
              <a:pathLst>
                <a:path w="817" h="1033">
                  <a:moveTo>
                    <a:pt x="136" y="265"/>
                  </a:moveTo>
                  <a:lnTo>
                    <a:pt x="256" y="242"/>
                  </a:lnTo>
                  <a:lnTo>
                    <a:pt x="371" y="251"/>
                  </a:lnTo>
                  <a:lnTo>
                    <a:pt x="468" y="292"/>
                  </a:lnTo>
                  <a:lnTo>
                    <a:pt x="521" y="349"/>
                  </a:lnTo>
                  <a:lnTo>
                    <a:pt x="547" y="402"/>
                  </a:lnTo>
                  <a:lnTo>
                    <a:pt x="547" y="455"/>
                  </a:lnTo>
                  <a:lnTo>
                    <a:pt x="516" y="490"/>
                  </a:lnTo>
                  <a:lnTo>
                    <a:pt x="464" y="516"/>
                  </a:lnTo>
                  <a:lnTo>
                    <a:pt x="406" y="516"/>
                  </a:lnTo>
                  <a:lnTo>
                    <a:pt x="331" y="503"/>
                  </a:lnTo>
                  <a:lnTo>
                    <a:pt x="261" y="459"/>
                  </a:lnTo>
                  <a:lnTo>
                    <a:pt x="208" y="419"/>
                  </a:lnTo>
                  <a:lnTo>
                    <a:pt x="180" y="552"/>
                  </a:lnTo>
                  <a:lnTo>
                    <a:pt x="136" y="644"/>
                  </a:lnTo>
                  <a:lnTo>
                    <a:pt x="0" y="866"/>
                  </a:lnTo>
                  <a:lnTo>
                    <a:pt x="198" y="1033"/>
                  </a:lnTo>
                  <a:lnTo>
                    <a:pt x="349" y="750"/>
                  </a:lnTo>
                  <a:lnTo>
                    <a:pt x="516" y="778"/>
                  </a:lnTo>
                  <a:lnTo>
                    <a:pt x="623" y="755"/>
                  </a:lnTo>
                  <a:lnTo>
                    <a:pt x="725" y="693"/>
                  </a:lnTo>
                  <a:lnTo>
                    <a:pt x="786" y="613"/>
                  </a:lnTo>
                  <a:lnTo>
                    <a:pt x="817" y="508"/>
                  </a:lnTo>
                  <a:lnTo>
                    <a:pt x="817" y="397"/>
                  </a:lnTo>
                  <a:lnTo>
                    <a:pt x="786" y="278"/>
                  </a:lnTo>
                  <a:lnTo>
                    <a:pt x="720" y="158"/>
                  </a:lnTo>
                  <a:lnTo>
                    <a:pt x="637" y="70"/>
                  </a:lnTo>
                  <a:lnTo>
                    <a:pt x="534" y="26"/>
                  </a:lnTo>
                  <a:lnTo>
                    <a:pt x="415" y="0"/>
                  </a:lnTo>
                  <a:lnTo>
                    <a:pt x="269" y="0"/>
                  </a:lnTo>
                  <a:lnTo>
                    <a:pt x="110" y="30"/>
                  </a:lnTo>
                  <a:lnTo>
                    <a:pt x="136" y="265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088480" y="739800"/>
              <a:ext cx="106560" cy="73440"/>
            </a:xfrm>
            <a:custGeom>
              <a:avLst/>
              <a:gdLst/>
              <a:ahLst/>
              <a:rect l="0" t="0" r="r" b="b"/>
              <a:pathLst>
                <a:path w="296" h="204">
                  <a:moveTo>
                    <a:pt x="119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02"/>
                  </a:lnTo>
                  <a:lnTo>
                    <a:pt x="61" y="173"/>
                  </a:lnTo>
                  <a:lnTo>
                    <a:pt x="177" y="204"/>
                  </a:lnTo>
                  <a:lnTo>
                    <a:pt x="269" y="200"/>
                  </a:lnTo>
                  <a:lnTo>
                    <a:pt x="296" y="156"/>
                  </a:lnTo>
                  <a:lnTo>
                    <a:pt x="278" y="111"/>
                  </a:lnTo>
                  <a:lnTo>
                    <a:pt x="239" y="53"/>
                  </a:lnTo>
                  <a:lnTo>
                    <a:pt x="168" y="8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"/>
          <p:cNvSpPr txBox="1"/>
          <p:nvPr/>
        </p:nvSpPr>
        <p:spPr>
          <a:xfrm>
            <a:off x="1219320" y="2209680"/>
            <a:ext cx="76960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are the four steps in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anufacturing overhead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llocation proces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838080" y="609480"/>
            <a:ext cx="80010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nufacturing Overhead Allocation Using the Traditional Approa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1447920" y="2971800"/>
            <a:ext cx="701028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lculate product unit cost using the traditional allocation of manufacturing overhead cos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69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228600" y="30492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redetermined Overhead R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914400" y="114300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use of one predetermined overhead rate to apply manufacturing overhead to a product is appropriate if organiza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57160" indent="-39996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anufacture only one product, 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7160" indent="-39996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anufacture a few very similar products that require the same production processes and production-related activi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 txBox="1"/>
          <p:nvPr/>
        </p:nvSpPr>
        <p:spPr>
          <a:xfrm>
            <a:off x="762120" y="533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Normal Costing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914400" y="152388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normal costing method applies manufacturing overhead costs to a product’s cost b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stimating a predetermined manufacturing overhead rate, 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ultiplying that rate by the actual level of the cost driver consumed by that produ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762120" y="45720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raditional Activity B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1371600" y="16002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raditional activity bases are volume-related bases such 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irect labor hou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irect labor cos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achine hou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Units of produ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 txBox="1"/>
          <p:nvPr/>
        </p:nvSpPr>
        <p:spPr>
          <a:xfrm>
            <a:off x="838080" y="4572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roduct Unit Cos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1143000" y="144792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total manufacturing overhead cost is added to the actual costs of direct materials and direct labor in order to determine the total product co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product unit cost is calculated by dividing total product cost by total units produc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066680" y="2286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Operating Costs 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and the Management Cyc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90920" y="1676520"/>
            <a:ext cx="4813200" cy="43178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3197160" y="1368360"/>
            <a:ext cx="3511440" cy="47628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pare budgets of estimated dire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amp; indirect operating co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58880" y="5788080"/>
            <a:ext cx="3740040" cy="65880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lculate variances between estimated and actual costs of products of manufactured products, purchased merchandise, or rendered serv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254560" y="5788080"/>
            <a:ext cx="3511440" cy="47628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stimate income &amp; make decisions about prices and/or volume of sales or services render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483160" y="3197160"/>
            <a:ext cx="3359160" cy="65880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port actual results of operating activities on the income statement &amp; the value of Inventory on the balance sheet; report per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907920" y="1898640"/>
            <a:ext cx="7937640" cy="435600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762120" y="304920"/>
            <a:ext cx="8077320" cy="153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Assignment of Manufacturing Overhead Costs: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Traditional Approa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4267080" y="4876920"/>
            <a:ext cx="3886560" cy="946080"/>
            <a:chOff x="4267080" y="4876920"/>
            <a:chExt cx="3886560" cy="946080"/>
          </a:xfrm>
        </p:grpSpPr>
        <p:sp>
          <p:nvSpPr>
            <p:cNvPr id="567" name=""/>
            <p:cNvSpPr txBox="1"/>
            <p:nvPr/>
          </p:nvSpPr>
          <p:spPr>
            <a:xfrm>
              <a:off x="4267080" y="4952880"/>
              <a:ext cx="782640" cy="76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 txBox="1"/>
            <p:nvPr/>
          </p:nvSpPr>
          <p:spPr>
            <a:xfrm>
              <a:off x="5562720" y="4876920"/>
              <a:ext cx="2590920" cy="946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5 per Direct Labor Hour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1143000" y="3124080"/>
            <a:ext cx="3830760" cy="946080"/>
            <a:chOff x="1143000" y="3124080"/>
            <a:chExt cx="3830760" cy="946080"/>
          </a:xfrm>
        </p:grpSpPr>
        <p:sp>
          <p:nvSpPr>
            <p:cNvPr id="570" name=""/>
            <p:cNvSpPr txBox="1"/>
            <p:nvPr/>
          </p:nvSpPr>
          <p:spPr>
            <a:xfrm>
              <a:off x="1143000" y="3124080"/>
              <a:ext cx="2743200" cy="946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edetermined Overhead Rat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 txBox="1"/>
            <p:nvPr/>
          </p:nvSpPr>
          <p:spPr>
            <a:xfrm>
              <a:off x="4191120" y="3200400"/>
              <a:ext cx="782640" cy="76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5562720" y="3048120"/>
            <a:ext cx="2590920" cy="1479600"/>
            <a:chOff x="5562720" y="3048120"/>
            <a:chExt cx="2590920" cy="1479600"/>
          </a:xfrm>
        </p:grpSpPr>
        <p:grpSp>
          <p:nvGrpSpPr>
            <p:cNvPr id="573" name=""/>
            <p:cNvGrpSpPr/>
            <p:nvPr/>
          </p:nvGrpSpPr>
          <p:grpSpPr>
            <a:xfrm>
              <a:off x="5562720" y="3048120"/>
              <a:ext cx="2590920" cy="1479600"/>
              <a:chOff x="5562720" y="3048120"/>
              <a:chExt cx="2590920" cy="1479600"/>
            </a:xfrm>
          </p:grpSpPr>
          <p:sp>
            <p:nvSpPr>
              <p:cNvPr id="574" name=""/>
              <p:cNvSpPr txBox="1"/>
              <p:nvPr/>
            </p:nvSpPr>
            <p:spPr>
              <a:xfrm>
                <a:off x="5562720" y="3048120"/>
                <a:ext cx="2590920" cy="1479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$200,000</a:t>
                </a:r>
                <a:r>
                  <a:rPr b="1" lang="en-US" sz="2800" spc="-1" strike="noStrike" u="sng">
                    <a:solidFill>
                      <a:srgbClr val="000000"/>
                    </a:solidFill>
                    <a:uFillTx/>
                    <a:latin typeface="Arial"/>
                    <a:ea typeface="Arial"/>
                  </a:rPr>
                  <a:t>  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0,000 Direct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abor Hours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573880" y="3581280"/>
                <a:ext cx="23508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6" name=""/>
            <p:cNvSpPr/>
            <p:nvPr/>
          </p:nvSpPr>
          <p:spPr>
            <a:xfrm>
              <a:off x="5573880" y="3581280"/>
              <a:ext cx="23508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7" name=""/>
          <p:cNvSpPr txBox="1"/>
          <p:nvPr/>
        </p:nvSpPr>
        <p:spPr>
          <a:xfrm>
            <a:off x="911160" y="1901880"/>
            <a:ext cx="7931160" cy="9651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ep 1: Calculate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edetermined overhead r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907920" y="1898640"/>
            <a:ext cx="7937640" cy="435600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762120" y="304920"/>
            <a:ext cx="8077320" cy="153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Assignment of Manufacturing Overhead Costs: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Traditional Approa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911160" y="1901880"/>
            <a:ext cx="7931160" cy="9651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ep 2: Apply manufactur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verhead costs to prod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6194520" y="2963880"/>
            <a:ext cx="94608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gul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4654440" y="3532320"/>
            <a:ext cx="208908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st Driver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7085160" y="3532320"/>
            <a:ext cx="1566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st Appli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1224000" y="4033800"/>
            <a:ext cx="294948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verhead costs applie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1224000" y="4489560"/>
            <a:ext cx="303372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nufacturing overhea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2743200" y="4800600"/>
            <a:ext cx="134136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$5 per DL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4894200" y="4489560"/>
            <a:ext cx="160956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 25,000 DL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7335720" y="4489560"/>
            <a:ext cx="105876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$125,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7338960" y="5103720"/>
            <a:ext cx="139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7480440" y="5103720"/>
            <a:ext cx="917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,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1224000" y="5103720"/>
            <a:ext cx="194796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umber of un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7340760" y="5486400"/>
            <a:ext cx="105876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$    12.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925560" y="3886200"/>
            <a:ext cx="7913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583160" y="3352680"/>
            <a:ext cx="4255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7319880" y="5410080"/>
            <a:ext cx="1138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7319880" y="5791320"/>
            <a:ext cx="1138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7319880" y="5867280"/>
            <a:ext cx="1138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1219320" y="5486400"/>
            <a:ext cx="2949480" cy="85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nufacturing overh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st per un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907920" y="1898640"/>
            <a:ext cx="7937640" cy="428004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762120" y="304920"/>
            <a:ext cx="8077320" cy="153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Assignment of Manufacturing Overhead Costs: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Traditional Approa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911160" y="1901880"/>
            <a:ext cx="7931160" cy="9651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ep 2: Apply manufactur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verhead costs to prod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6249960" y="2963880"/>
            <a:ext cx="83340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lux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4654440" y="3533760"/>
            <a:ext cx="208908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st Driver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7085160" y="3533760"/>
            <a:ext cx="1566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st Appli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1224000" y="4037040"/>
            <a:ext cx="294948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verhead costs applie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1224000" y="4492800"/>
            <a:ext cx="303372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nufacturing overhea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2743200" y="4800600"/>
            <a:ext cx="134136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$5 per DL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4894200" y="4492800"/>
            <a:ext cx="160956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 15,000 DL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7335720" y="4492800"/>
            <a:ext cx="105876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$  75,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7338960" y="5105520"/>
            <a:ext cx="139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7480440" y="5105520"/>
            <a:ext cx="917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5,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1219320" y="5105520"/>
            <a:ext cx="194796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umber of un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7338960" y="5486400"/>
            <a:ext cx="105876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$    15.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925560" y="3886200"/>
            <a:ext cx="7913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583160" y="3352680"/>
            <a:ext cx="4255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7319880" y="5410080"/>
            <a:ext cx="1138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319880" y="5791320"/>
            <a:ext cx="1138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7319880" y="5867280"/>
            <a:ext cx="1138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1219320" y="5486400"/>
            <a:ext cx="2949480" cy="85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nufacturing overh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st per un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907920" y="1898640"/>
            <a:ext cx="7937640" cy="412740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762120" y="304920"/>
            <a:ext cx="80773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Product Unit Cost: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 Traditional Approac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911160" y="1901880"/>
            <a:ext cx="7931160" cy="5382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ep 3: Product Unit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5013360" y="2666880"/>
            <a:ext cx="94608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gul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4497480" y="2959200"/>
            <a:ext cx="197640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ing Suitc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7323120" y="2666880"/>
            <a:ext cx="83340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lux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6751800" y="2959200"/>
            <a:ext cx="197640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ing Suitc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1155600" y="3406680"/>
            <a:ext cx="277956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duct costs per uni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1155600" y="3863880"/>
            <a:ext cx="190656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rect materi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5095800" y="3863880"/>
            <a:ext cx="77616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$40.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7421400" y="3863880"/>
            <a:ext cx="77616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$42.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1155600" y="4327560"/>
            <a:ext cx="141120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rect lab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5095800" y="4327560"/>
            <a:ext cx="77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7.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7421400" y="4327560"/>
            <a:ext cx="77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5.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1155600" y="4772160"/>
            <a:ext cx="294948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nufacturing overh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5095800" y="4724280"/>
            <a:ext cx="77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2.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7391520" y="4724280"/>
            <a:ext cx="77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1155600" y="5229360"/>
            <a:ext cx="208908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duct unit c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5095800" y="5229360"/>
            <a:ext cx="77616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$90.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7280280" y="5229360"/>
            <a:ext cx="91764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$102.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925560" y="3352680"/>
            <a:ext cx="7913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033880" y="5638680"/>
            <a:ext cx="83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033880" y="5562720"/>
            <a:ext cx="83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7243920" y="5638680"/>
            <a:ext cx="985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7243920" y="5562720"/>
            <a:ext cx="985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110200" y="5029200"/>
            <a:ext cx="757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7396200" y="5029200"/>
            <a:ext cx="833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 txBox="1"/>
          <p:nvPr/>
        </p:nvSpPr>
        <p:spPr>
          <a:xfrm>
            <a:off x="990720" y="236232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are some traditional activity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as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2133720" y="9907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6705720" y="228600"/>
            <a:ext cx="2208240" cy="2055960"/>
            <a:chOff x="6705720" y="228600"/>
            <a:chExt cx="2208240" cy="2055960"/>
          </a:xfrm>
        </p:grpSpPr>
        <p:sp>
          <p:nvSpPr>
            <p:cNvPr id="650" name=""/>
            <p:cNvSpPr/>
            <p:nvPr/>
          </p:nvSpPr>
          <p:spPr>
            <a:xfrm>
              <a:off x="6711840" y="1238400"/>
              <a:ext cx="536760" cy="717840"/>
            </a:xfrm>
            <a:custGeom>
              <a:avLst/>
              <a:gdLst/>
              <a:ahLst/>
              <a:rect l="0" t="0" r="r" b="b"/>
              <a:pathLst>
                <a:path w="1491" h="1994">
                  <a:moveTo>
                    <a:pt x="595" y="0"/>
                  </a:moveTo>
                  <a:lnTo>
                    <a:pt x="515" y="88"/>
                  </a:lnTo>
                  <a:lnTo>
                    <a:pt x="515" y="348"/>
                  </a:lnTo>
                  <a:lnTo>
                    <a:pt x="595" y="537"/>
                  </a:lnTo>
                  <a:lnTo>
                    <a:pt x="683" y="630"/>
                  </a:lnTo>
                  <a:lnTo>
                    <a:pt x="551" y="758"/>
                  </a:lnTo>
                  <a:lnTo>
                    <a:pt x="374" y="1046"/>
                  </a:lnTo>
                  <a:lnTo>
                    <a:pt x="30" y="1504"/>
                  </a:lnTo>
                  <a:lnTo>
                    <a:pt x="0" y="1614"/>
                  </a:lnTo>
                  <a:lnTo>
                    <a:pt x="30" y="1707"/>
                  </a:lnTo>
                  <a:lnTo>
                    <a:pt x="136" y="1707"/>
                  </a:lnTo>
                  <a:lnTo>
                    <a:pt x="224" y="1601"/>
                  </a:lnTo>
                  <a:lnTo>
                    <a:pt x="374" y="1341"/>
                  </a:lnTo>
                  <a:lnTo>
                    <a:pt x="463" y="1231"/>
                  </a:lnTo>
                  <a:lnTo>
                    <a:pt x="515" y="1403"/>
                  </a:lnTo>
                  <a:lnTo>
                    <a:pt x="480" y="1584"/>
                  </a:lnTo>
                  <a:lnTo>
                    <a:pt x="330" y="1848"/>
                  </a:lnTo>
                  <a:lnTo>
                    <a:pt x="374" y="1910"/>
                  </a:lnTo>
                  <a:lnTo>
                    <a:pt x="463" y="1892"/>
                  </a:lnTo>
                  <a:lnTo>
                    <a:pt x="648" y="1756"/>
                  </a:lnTo>
                  <a:lnTo>
                    <a:pt x="794" y="1522"/>
                  </a:lnTo>
                  <a:lnTo>
                    <a:pt x="794" y="1928"/>
                  </a:lnTo>
                  <a:lnTo>
                    <a:pt x="971" y="1994"/>
                  </a:lnTo>
                  <a:lnTo>
                    <a:pt x="1076" y="1742"/>
                  </a:lnTo>
                  <a:lnTo>
                    <a:pt x="1169" y="1976"/>
                  </a:lnTo>
                  <a:lnTo>
                    <a:pt x="1240" y="1910"/>
                  </a:lnTo>
                  <a:lnTo>
                    <a:pt x="1275" y="1447"/>
                  </a:lnTo>
                  <a:lnTo>
                    <a:pt x="1491" y="1010"/>
                  </a:lnTo>
                  <a:lnTo>
                    <a:pt x="1442" y="758"/>
                  </a:lnTo>
                  <a:lnTo>
                    <a:pt x="1288" y="665"/>
                  </a:lnTo>
                  <a:lnTo>
                    <a:pt x="1129" y="679"/>
                  </a:lnTo>
                  <a:lnTo>
                    <a:pt x="1076" y="471"/>
                  </a:lnTo>
                  <a:lnTo>
                    <a:pt x="913" y="427"/>
                  </a:lnTo>
                  <a:lnTo>
                    <a:pt x="768" y="361"/>
                  </a:lnTo>
                  <a:lnTo>
                    <a:pt x="683" y="44"/>
                  </a:lnTo>
                  <a:lnTo>
                    <a:pt x="595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161120" y="1528920"/>
              <a:ext cx="159120" cy="348120"/>
            </a:xfrm>
            <a:custGeom>
              <a:avLst/>
              <a:gdLst/>
              <a:ahLst/>
              <a:rect l="0" t="0" r="r" b="b"/>
              <a:pathLst>
                <a:path w="442" h="967">
                  <a:moveTo>
                    <a:pt x="221" y="0"/>
                  </a:moveTo>
                  <a:lnTo>
                    <a:pt x="442" y="252"/>
                  </a:lnTo>
                  <a:lnTo>
                    <a:pt x="332" y="795"/>
                  </a:lnTo>
                  <a:lnTo>
                    <a:pt x="0" y="967"/>
                  </a:lnTo>
                  <a:lnTo>
                    <a:pt x="0" y="693"/>
                  </a:lnTo>
                  <a:lnTo>
                    <a:pt x="133" y="411"/>
                  </a:lnTo>
                  <a:lnTo>
                    <a:pt x="221" y="202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188200" y="1328760"/>
              <a:ext cx="397080" cy="314640"/>
            </a:xfrm>
            <a:custGeom>
              <a:avLst/>
              <a:gdLst/>
              <a:ahLst/>
              <a:rect l="0" t="0" r="r" b="b"/>
              <a:pathLst>
                <a:path w="1103" h="874">
                  <a:moveTo>
                    <a:pt x="454" y="0"/>
                  </a:moveTo>
                  <a:lnTo>
                    <a:pt x="454" y="141"/>
                  </a:lnTo>
                  <a:lnTo>
                    <a:pt x="493" y="264"/>
                  </a:lnTo>
                  <a:lnTo>
                    <a:pt x="706" y="472"/>
                  </a:lnTo>
                  <a:lnTo>
                    <a:pt x="1103" y="591"/>
                  </a:lnTo>
                  <a:lnTo>
                    <a:pt x="1050" y="856"/>
                  </a:lnTo>
                  <a:lnTo>
                    <a:pt x="706" y="874"/>
                  </a:lnTo>
                  <a:lnTo>
                    <a:pt x="211" y="684"/>
                  </a:lnTo>
                  <a:lnTo>
                    <a:pt x="0" y="348"/>
                  </a:lnTo>
                  <a:lnTo>
                    <a:pt x="246" y="17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346960" y="974880"/>
              <a:ext cx="552960" cy="690840"/>
            </a:xfrm>
            <a:custGeom>
              <a:avLst/>
              <a:gdLst/>
              <a:ahLst/>
              <a:rect l="0" t="0" r="r" b="b"/>
              <a:pathLst>
                <a:path w="1536" h="1919">
                  <a:moveTo>
                    <a:pt x="136" y="815"/>
                  </a:moveTo>
                  <a:lnTo>
                    <a:pt x="0" y="952"/>
                  </a:lnTo>
                  <a:lnTo>
                    <a:pt x="30" y="1262"/>
                  </a:lnTo>
                  <a:lnTo>
                    <a:pt x="242" y="1407"/>
                  </a:lnTo>
                  <a:lnTo>
                    <a:pt x="260" y="1883"/>
                  </a:lnTo>
                  <a:lnTo>
                    <a:pt x="477" y="1883"/>
                  </a:lnTo>
                  <a:lnTo>
                    <a:pt x="464" y="1482"/>
                  </a:lnTo>
                  <a:lnTo>
                    <a:pt x="622" y="1901"/>
                  </a:lnTo>
                  <a:lnTo>
                    <a:pt x="728" y="1919"/>
                  </a:lnTo>
                  <a:lnTo>
                    <a:pt x="807" y="1778"/>
                  </a:lnTo>
                  <a:lnTo>
                    <a:pt x="821" y="1513"/>
                  </a:lnTo>
                  <a:lnTo>
                    <a:pt x="1059" y="1760"/>
                  </a:lnTo>
                  <a:lnTo>
                    <a:pt x="1151" y="1742"/>
                  </a:lnTo>
                  <a:lnTo>
                    <a:pt x="1129" y="1570"/>
                  </a:lnTo>
                  <a:lnTo>
                    <a:pt x="1041" y="1328"/>
                  </a:lnTo>
                  <a:lnTo>
                    <a:pt x="949" y="1169"/>
                  </a:lnTo>
                  <a:lnTo>
                    <a:pt x="984" y="1059"/>
                  </a:lnTo>
                  <a:lnTo>
                    <a:pt x="1041" y="1076"/>
                  </a:lnTo>
                  <a:lnTo>
                    <a:pt x="1254" y="1328"/>
                  </a:lnTo>
                  <a:lnTo>
                    <a:pt x="1488" y="1390"/>
                  </a:lnTo>
                  <a:lnTo>
                    <a:pt x="1536" y="1310"/>
                  </a:lnTo>
                  <a:lnTo>
                    <a:pt x="1501" y="1182"/>
                  </a:lnTo>
                  <a:lnTo>
                    <a:pt x="1072" y="798"/>
                  </a:lnTo>
                  <a:lnTo>
                    <a:pt x="728" y="679"/>
                  </a:lnTo>
                  <a:lnTo>
                    <a:pt x="688" y="463"/>
                  </a:lnTo>
                  <a:lnTo>
                    <a:pt x="807" y="268"/>
                  </a:lnTo>
                  <a:lnTo>
                    <a:pt x="807" y="61"/>
                  </a:lnTo>
                  <a:lnTo>
                    <a:pt x="710" y="0"/>
                  </a:lnTo>
                  <a:lnTo>
                    <a:pt x="464" y="520"/>
                  </a:lnTo>
                  <a:lnTo>
                    <a:pt x="242" y="599"/>
                  </a:lnTo>
                  <a:lnTo>
                    <a:pt x="189" y="740"/>
                  </a:lnTo>
                  <a:lnTo>
                    <a:pt x="136" y="815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440480" y="374760"/>
              <a:ext cx="603720" cy="883080"/>
            </a:xfrm>
            <a:custGeom>
              <a:avLst/>
              <a:gdLst/>
              <a:ahLst/>
              <a:rect l="0" t="0" r="r" b="b"/>
              <a:pathLst>
                <a:path w="1677" h="2453">
                  <a:moveTo>
                    <a:pt x="418" y="339"/>
                  </a:moveTo>
                  <a:lnTo>
                    <a:pt x="295" y="812"/>
                  </a:lnTo>
                  <a:lnTo>
                    <a:pt x="17" y="904"/>
                  </a:lnTo>
                  <a:lnTo>
                    <a:pt x="92" y="1054"/>
                  </a:lnTo>
                  <a:lnTo>
                    <a:pt x="0" y="1147"/>
                  </a:lnTo>
                  <a:lnTo>
                    <a:pt x="0" y="1315"/>
                  </a:lnTo>
                  <a:lnTo>
                    <a:pt x="132" y="1469"/>
                  </a:lnTo>
                  <a:lnTo>
                    <a:pt x="260" y="1469"/>
                  </a:lnTo>
                  <a:lnTo>
                    <a:pt x="348" y="2017"/>
                  </a:lnTo>
                  <a:lnTo>
                    <a:pt x="455" y="2250"/>
                  </a:lnTo>
                  <a:lnTo>
                    <a:pt x="799" y="2453"/>
                  </a:lnTo>
                  <a:lnTo>
                    <a:pt x="1138" y="2422"/>
                  </a:lnTo>
                  <a:lnTo>
                    <a:pt x="1302" y="2017"/>
                  </a:lnTo>
                  <a:lnTo>
                    <a:pt x="1342" y="1394"/>
                  </a:lnTo>
                  <a:lnTo>
                    <a:pt x="1677" y="1090"/>
                  </a:lnTo>
                  <a:lnTo>
                    <a:pt x="1660" y="966"/>
                  </a:lnTo>
                  <a:lnTo>
                    <a:pt x="1624" y="904"/>
                  </a:lnTo>
                  <a:lnTo>
                    <a:pt x="1448" y="891"/>
                  </a:lnTo>
                  <a:lnTo>
                    <a:pt x="1501" y="733"/>
                  </a:lnTo>
                  <a:lnTo>
                    <a:pt x="1324" y="622"/>
                  </a:lnTo>
                  <a:lnTo>
                    <a:pt x="1248" y="268"/>
                  </a:lnTo>
                  <a:lnTo>
                    <a:pt x="728" y="0"/>
                  </a:lnTo>
                  <a:lnTo>
                    <a:pt x="455" y="251"/>
                  </a:lnTo>
                  <a:lnTo>
                    <a:pt x="418" y="339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485120" y="1112760"/>
              <a:ext cx="552960" cy="1054440"/>
            </a:xfrm>
            <a:custGeom>
              <a:avLst/>
              <a:gdLst/>
              <a:ahLst/>
              <a:rect l="0" t="0" r="r" b="b"/>
              <a:pathLst>
                <a:path w="1536" h="2929">
                  <a:moveTo>
                    <a:pt x="313" y="154"/>
                  </a:moveTo>
                  <a:lnTo>
                    <a:pt x="534" y="295"/>
                  </a:lnTo>
                  <a:lnTo>
                    <a:pt x="640" y="449"/>
                  </a:lnTo>
                  <a:lnTo>
                    <a:pt x="1254" y="0"/>
                  </a:lnTo>
                  <a:lnTo>
                    <a:pt x="1448" y="92"/>
                  </a:lnTo>
                  <a:lnTo>
                    <a:pt x="1536" y="555"/>
                  </a:lnTo>
                  <a:lnTo>
                    <a:pt x="1090" y="1901"/>
                  </a:lnTo>
                  <a:lnTo>
                    <a:pt x="1236" y="2646"/>
                  </a:lnTo>
                  <a:lnTo>
                    <a:pt x="653" y="2929"/>
                  </a:lnTo>
                  <a:lnTo>
                    <a:pt x="207" y="2770"/>
                  </a:lnTo>
                  <a:lnTo>
                    <a:pt x="207" y="1980"/>
                  </a:lnTo>
                  <a:lnTo>
                    <a:pt x="0" y="1217"/>
                  </a:lnTo>
                  <a:lnTo>
                    <a:pt x="207" y="295"/>
                  </a:lnTo>
                  <a:lnTo>
                    <a:pt x="313" y="154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508880" y="257040"/>
              <a:ext cx="516240" cy="279720"/>
            </a:xfrm>
            <a:custGeom>
              <a:avLst/>
              <a:gdLst/>
              <a:ahLst/>
              <a:rect l="0" t="0" r="r" b="b"/>
              <a:pathLst>
                <a:path w="1434" h="777">
                  <a:moveTo>
                    <a:pt x="176" y="741"/>
                  </a:moveTo>
                  <a:lnTo>
                    <a:pt x="388" y="534"/>
                  </a:lnTo>
                  <a:lnTo>
                    <a:pt x="520" y="503"/>
                  </a:lnTo>
                  <a:lnTo>
                    <a:pt x="520" y="521"/>
                  </a:lnTo>
                  <a:lnTo>
                    <a:pt x="586" y="503"/>
                  </a:lnTo>
                  <a:lnTo>
                    <a:pt x="674" y="565"/>
                  </a:lnTo>
                  <a:lnTo>
                    <a:pt x="847" y="596"/>
                  </a:lnTo>
                  <a:lnTo>
                    <a:pt x="984" y="777"/>
                  </a:lnTo>
                  <a:lnTo>
                    <a:pt x="1209" y="697"/>
                  </a:lnTo>
                  <a:lnTo>
                    <a:pt x="1209" y="613"/>
                  </a:lnTo>
                  <a:lnTo>
                    <a:pt x="1434" y="521"/>
                  </a:lnTo>
                  <a:lnTo>
                    <a:pt x="1368" y="374"/>
                  </a:lnTo>
                  <a:lnTo>
                    <a:pt x="1151" y="361"/>
                  </a:lnTo>
                  <a:lnTo>
                    <a:pt x="1187" y="202"/>
                  </a:lnTo>
                  <a:lnTo>
                    <a:pt x="1006" y="220"/>
                  </a:lnTo>
                  <a:lnTo>
                    <a:pt x="971" y="110"/>
                  </a:lnTo>
                  <a:lnTo>
                    <a:pt x="847" y="110"/>
                  </a:lnTo>
                  <a:lnTo>
                    <a:pt x="759" y="171"/>
                  </a:lnTo>
                  <a:lnTo>
                    <a:pt x="674" y="171"/>
                  </a:lnTo>
                  <a:lnTo>
                    <a:pt x="692" y="0"/>
                  </a:lnTo>
                  <a:lnTo>
                    <a:pt x="520" y="79"/>
                  </a:lnTo>
                  <a:lnTo>
                    <a:pt x="282" y="361"/>
                  </a:lnTo>
                  <a:lnTo>
                    <a:pt x="268" y="171"/>
                  </a:lnTo>
                  <a:lnTo>
                    <a:pt x="141" y="264"/>
                  </a:lnTo>
                  <a:lnTo>
                    <a:pt x="110" y="503"/>
                  </a:lnTo>
                  <a:lnTo>
                    <a:pt x="0" y="459"/>
                  </a:lnTo>
                  <a:lnTo>
                    <a:pt x="17" y="613"/>
                  </a:lnTo>
                  <a:lnTo>
                    <a:pt x="176" y="741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648560" y="1306440"/>
              <a:ext cx="163800" cy="798840"/>
            </a:xfrm>
            <a:custGeom>
              <a:avLst/>
              <a:gdLst/>
              <a:ahLst/>
              <a:rect l="0" t="0" r="r" b="b"/>
              <a:pathLst>
                <a:path w="455" h="2219">
                  <a:moveTo>
                    <a:pt x="234" y="13"/>
                  </a:moveTo>
                  <a:lnTo>
                    <a:pt x="79" y="110"/>
                  </a:lnTo>
                  <a:lnTo>
                    <a:pt x="79" y="295"/>
                  </a:lnTo>
                  <a:lnTo>
                    <a:pt x="189" y="357"/>
                  </a:lnTo>
                  <a:lnTo>
                    <a:pt x="39" y="652"/>
                  </a:lnTo>
                  <a:lnTo>
                    <a:pt x="0" y="1040"/>
                  </a:lnTo>
                  <a:lnTo>
                    <a:pt x="114" y="1553"/>
                  </a:lnTo>
                  <a:lnTo>
                    <a:pt x="114" y="1769"/>
                  </a:lnTo>
                  <a:lnTo>
                    <a:pt x="52" y="1932"/>
                  </a:lnTo>
                  <a:lnTo>
                    <a:pt x="287" y="2219"/>
                  </a:lnTo>
                  <a:lnTo>
                    <a:pt x="437" y="1786"/>
                  </a:lnTo>
                  <a:lnTo>
                    <a:pt x="437" y="1491"/>
                  </a:lnTo>
                  <a:lnTo>
                    <a:pt x="327" y="1213"/>
                  </a:lnTo>
                  <a:lnTo>
                    <a:pt x="269" y="837"/>
                  </a:lnTo>
                  <a:lnTo>
                    <a:pt x="384" y="471"/>
                  </a:lnTo>
                  <a:lnTo>
                    <a:pt x="344" y="326"/>
                  </a:lnTo>
                  <a:lnTo>
                    <a:pt x="455" y="251"/>
                  </a:lnTo>
                  <a:lnTo>
                    <a:pt x="437" y="154"/>
                  </a:lnTo>
                  <a:lnTo>
                    <a:pt x="305" y="0"/>
                  </a:lnTo>
                  <a:lnTo>
                    <a:pt x="234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642080" y="1039680"/>
              <a:ext cx="133560" cy="73440"/>
            </a:xfrm>
            <a:custGeom>
              <a:avLst/>
              <a:gdLst/>
              <a:ahLst/>
              <a:rect l="0" t="0" r="r" b="b"/>
              <a:pathLst>
                <a:path w="371" h="204">
                  <a:moveTo>
                    <a:pt x="0" y="62"/>
                  </a:moveTo>
                  <a:lnTo>
                    <a:pt x="145" y="204"/>
                  </a:lnTo>
                  <a:lnTo>
                    <a:pt x="296" y="187"/>
                  </a:lnTo>
                  <a:lnTo>
                    <a:pt x="371" y="17"/>
                  </a:lnTo>
                  <a:lnTo>
                    <a:pt x="208" y="0"/>
                  </a:lnTo>
                  <a:lnTo>
                    <a:pt x="39" y="17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497720" y="671400"/>
              <a:ext cx="163800" cy="155880"/>
            </a:xfrm>
            <a:custGeom>
              <a:avLst/>
              <a:gdLst/>
              <a:ahLst/>
              <a:rect l="0" t="0" r="r" b="b"/>
              <a:pathLst>
                <a:path w="455" h="433">
                  <a:moveTo>
                    <a:pt x="0" y="48"/>
                  </a:moveTo>
                  <a:lnTo>
                    <a:pt x="314" y="433"/>
                  </a:lnTo>
                  <a:lnTo>
                    <a:pt x="455" y="402"/>
                  </a:lnTo>
                  <a:lnTo>
                    <a:pt x="123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786800" y="638280"/>
              <a:ext cx="143280" cy="155880"/>
            </a:xfrm>
            <a:custGeom>
              <a:avLst/>
              <a:gdLst/>
              <a:ahLst/>
              <a:rect l="0" t="0" r="r" b="b"/>
              <a:pathLst>
                <a:path w="398" h="433">
                  <a:moveTo>
                    <a:pt x="0" y="61"/>
                  </a:moveTo>
                  <a:lnTo>
                    <a:pt x="274" y="433"/>
                  </a:lnTo>
                  <a:lnTo>
                    <a:pt x="398" y="336"/>
                  </a:lnTo>
                  <a:lnTo>
                    <a:pt x="111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437600" y="436680"/>
              <a:ext cx="574920" cy="390960"/>
            </a:xfrm>
            <a:custGeom>
              <a:avLst/>
              <a:gdLst/>
              <a:ahLst/>
              <a:rect l="0" t="0" r="r" b="b"/>
              <a:pathLst>
                <a:path w="1597" h="1086">
                  <a:moveTo>
                    <a:pt x="732" y="644"/>
                  </a:moveTo>
                  <a:lnTo>
                    <a:pt x="586" y="605"/>
                  </a:lnTo>
                  <a:lnTo>
                    <a:pt x="714" y="508"/>
                  </a:lnTo>
                  <a:lnTo>
                    <a:pt x="665" y="455"/>
                  </a:lnTo>
                  <a:lnTo>
                    <a:pt x="502" y="583"/>
                  </a:lnTo>
                  <a:lnTo>
                    <a:pt x="202" y="613"/>
                  </a:lnTo>
                  <a:lnTo>
                    <a:pt x="0" y="622"/>
                  </a:lnTo>
                  <a:lnTo>
                    <a:pt x="0" y="772"/>
                  </a:lnTo>
                  <a:lnTo>
                    <a:pt x="194" y="1077"/>
                  </a:lnTo>
                  <a:lnTo>
                    <a:pt x="238" y="1086"/>
                  </a:lnTo>
                  <a:lnTo>
                    <a:pt x="66" y="750"/>
                  </a:lnTo>
                  <a:lnTo>
                    <a:pt x="330" y="644"/>
                  </a:lnTo>
                  <a:lnTo>
                    <a:pt x="502" y="644"/>
                  </a:lnTo>
                  <a:lnTo>
                    <a:pt x="630" y="710"/>
                  </a:lnTo>
                  <a:lnTo>
                    <a:pt x="665" y="803"/>
                  </a:lnTo>
                  <a:lnTo>
                    <a:pt x="665" y="1011"/>
                  </a:lnTo>
                  <a:lnTo>
                    <a:pt x="665" y="1077"/>
                  </a:lnTo>
                  <a:lnTo>
                    <a:pt x="740" y="980"/>
                  </a:lnTo>
                  <a:lnTo>
                    <a:pt x="740" y="763"/>
                  </a:lnTo>
                  <a:lnTo>
                    <a:pt x="856" y="763"/>
                  </a:lnTo>
                  <a:lnTo>
                    <a:pt x="909" y="1011"/>
                  </a:lnTo>
                  <a:lnTo>
                    <a:pt x="971" y="1033"/>
                  </a:lnTo>
                  <a:lnTo>
                    <a:pt x="1165" y="1033"/>
                  </a:lnTo>
                  <a:lnTo>
                    <a:pt x="1363" y="989"/>
                  </a:lnTo>
                  <a:lnTo>
                    <a:pt x="1500" y="897"/>
                  </a:lnTo>
                  <a:lnTo>
                    <a:pt x="1522" y="675"/>
                  </a:lnTo>
                  <a:lnTo>
                    <a:pt x="1597" y="583"/>
                  </a:lnTo>
                  <a:lnTo>
                    <a:pt x="1553" y="525"/>
                  </a:lnTo>
                  <a:lnTo>
                    <a:pt x="1376" y="464"/>
                  </a:lnTo>
                  <a:lnTo>
                    <a:pt x="1345" y="242"/>
                  </a:lnTo>
                  <a:lnTo>
                    <a:pt x="1178" y="242"/>
                  </a:lnTo>
                  <a:lnTo>
                    <a:pt x="979" y="0"/>
                  </a:lnTo>
                  <a:lnTo>
                    <a:pt x="1160" y="268"/>
                  </a:lnTo>
                  <a:lnTo>
                    <a:pt x="1222" y="268"/>
                  </a:lnTo>
                  <a:lnTo>
                    <a:pt x="1257" y="455"/>
                  </a:lnTo>
                  <a:lnTo>
                    <a:pt x="1032" y="525"/>
                  </a:lnTo>
                  <a:lnTo>
                    <a:pt x="869" y="472"/>
                  </a:lnTo>
                  <a:lnTo>
                    <a:pt x="843" y="525"/>
                  </a:lnTo>
                  <a:lnTo>
                    <a:pt x="931" y="583"/>
                  </a:lnTo>
                  <a:lnTo>
                    <a:pt x="931" y="636"/>
                  </a:lnTo>
                  <a:lnTo>
                    <a:pt x="1125" y="552"/>
                  </a:lnTo>
                  <a:lnTo>
                    <a:pt x="1284" y="538"/>
                  </a:lnTo>
                  <a:lnTo>
                    <a:pt x="1465" y="561"/>
                  </a:lnTo>
                  <a:lnTo>
                    <a:pt x="1465" y="591"/>
                  </a:lnTo>
                  <a:lnTo>
                    <a:pt x="1381" y="666"/>
                  </a:lnTo>
                  <a:lnTo>
                    <a:pt x="1345" y="763"/>
                  </a:lnTo>
                  <a:lnTo>
                    <a:pt x="1337" y="897"/>
                  </a:lnTo>
                  <a:lnTo>
                    <a:pt x="1231" y="950"/>
                  </a:lnTo>
                  <a:lnTo>
                    <a:pt x="1076" y="967"/>
                  </a:lnTo>
                  <a:lnTo>
                    <a:pt x="971" y="967"/>
                  </a:lnTo>
                  <a:lnTo>
                    <a:pt x="935" y="928"/>
                  </a:lnTo>
                  <a:lnTo>
                    <a:pt x="909" y="675"/>
                  </a:lnTo>
                  <a:lnTo>
                    <a:pt x="740" y="675"/>
                  </a:lnTo>
                  <a:lnTo>
                    <a:pt x="732" y="64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634160" y="887400"/>
              <a:ext cx="186120" cy="79560"/>
            </a:xfrm>
            <a:custGeom>
              <a:avLst/>
              <a:gdLst/>
              <a:ahLst/>
              <a:rect l="0" t="0" r="r" b="b"/>
              <a:pathLst>
                <a:path w="517" h="221">
                  <a:moveTo>
                    <a:pt x="0" y="0"/>
                  </a:moveTo>
                  <a:lnTo>
                    <a:pt x="83" y="101"/>
                  </a:lnTo>
                  <a:lnTo>
                    <a:pt x="305" y="101"/>
                  </a:lnTo>
                  <a:lnTo>
                    <a:pt x="398" y="30"/>
                  </a:lnTo>
                  <a:lnTo>
                    <a:pt x="517" y="30"/>
                  </a:lnTo>
                  <a:lnTo>
                    <a:pt x="495" y="66"/>
                  </a:lnTo>
                  <a:lnTo>
                    <a:pt x="495" y="101"/>
                  </a:lnTo>
                  <a:lnTo>
                    <a:pt x="287" y="221"/>
                  </a:lnTo>
                  <a:lnTo>
                    <a:pt x="172" y="221"/>
                  </a:lnTo>
                  <a:lnTo>
                    <a:pt x="110" y="177"/>
                  </a:lnTo>
                  <a:lnTo>
                    <a:pt x="44" y="1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427880" y="758880"/>
              <a:ext cx="281520" cy="421200"/>
            </a:xfrm>
            <a:custGeom>
              <a:avLst/>
              <a:gdLst/>
              <a:ahLst/>
              <a:rect l="0" t="0" r="r" b="b"/>
              <a:pathLst>
                <a:path w="782" h="1170">
                  <a:moveTo>
                    <a:pt x="782" y="83"/>
                  </a:moveTo>
                  <a:lnTo>
                    <a:pt x="782" y="101"/>
                  </a:lnTo>
                  <a:lnTo>
                    <a:pt x="645" y="220"/>
                  </a:lnTo>
                  <a:lnTo>
                    <a:pt x="530" y="242"/>
                  </a:lnTo>
                  <a:lnTo>
                    <a:pt x="309" y="211"/>
                  </a:lnTo>
                  <a:lnTo>
                    <a:pt x="353" y="631"/>
                  </a:lnTo>
                  <a:lnTo>
                    <a:pt x="402" y="980"/>
                  </a:lnTo>
                  <a:lnTo>
                    <a:pt x="494" y="1170"/>
                  </a:lnTo>
                  <a:lnTo>
                    <a:pt x="402" y="1033"/>
                  </a:lnTo>
                  <a:lnTo>
                    <a:pt x="367" y="888"/>
                  </a:lnTo>
                  <a:lnTo>
                    <a:pt x="305" y="494"/>
                  </a:lnTo>
                  <a:lnTo>
                    <a:pt x="239" y="516"/>
                  </a:lnTo>
                  <a:lnTo>
                    <a:pt x="163" y="472"/>
                  </a:lnTo>
                  <a:lnTo>
                    <a:pt x="17" y="264"/>
                  </a:lnTo>
                  <a:lnTo>
                    <a:pt x="0" y="149"/>
                  </a:lnTo>
                  <a:lnTo>
                    <a:pt x="0" y="70"/>
                  </a:lnTo>
                  <a:lnTo>
                    <a:pt x="35" y="22"/>
                  </a:lnTo>
                  <a:lnTo>
                    <a:pt x="123" y="0"/>
                  </a:lnTo>
                  <a:lnTo>
                    <a:pt x="132" y="30"/>
                  </a:lnTo>
                  <a:lnTo>
                    <a:pt x="61" y="52"/>
                  </a:lnTo>
                  <a:lnTo>
                    <a:pt x="44" y="141"/>
                  </a:lnTo>
                  <a:lnTo>
                    <a:pt x="52" y="251"/>
                  </a:lnTo>
                  <a:lnTo>
                    <a:pt x="154" y="349"/>
                  </a:lnTo>
                  <a:lnTo>
                    <a:pt x="203" y="327"/>
                  </a:lnTo>
                  <a:lnTo>
                    <a:pt x="203" y="114"/>
                  </a:lnTo>
                  <a:lnTo>
                    <a:pt x="296" y="158"/>
                  </a:lnTo>
                  <a:lnTo>
                    <a:pt x="437" y="189"/>
                  </a:lnTo>
                  <a:lnTo>
                    <a:pt x="569" y="180"/>
                  </a:lnTo>
                  <a:lnTo>
                    <a:pt x="694" y="114"/>
                  </a:lnTo>
                  <a:lnTo>
                    <a:pt x="782" y="8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502400" y="425520"/>
              <a:ext cx="86040" cy="224280"/>
            </a:xfrm>
            <a:custGeom>
              <a:avLst/>
              <a:gdLst/>
              <a:ahLst/>
              <a:rect l="0" t="0" r="r" b="b"/>
              <a:pathLst>
                <a:path w="239" h="623">
                  <a:moveTo>
                    <a:pt x="124" y="623"/>
                  </a:moveTo>
                  <a:lnTo>
                    <a:pt x="239" y="256"/>
                  </a:lnTo>
                  <a:lnTo>
                    <a:pt x="30" y="123"/>
                  </a:lnTo>
                  <a:lnTo>
                    <a:pt x="0" y="0"/>
                  </a:lnTo>
                  <a:lnTo>
                    <a:pt x="17" y="149"/>
                  </a:lnTo>
                  <a:lnTo>
                    <a:pt x="83" y="212"/>
                  </a:lnTo>
                  <a:lnTo>
                    <a:pt x="92" y="397"/>
                  </a:lnTo>
                  <a:lnTo>
                    <a:pt x="146" y="473"/>
                  </a:lnTo>
                  <a:lnTo>
                    <a:pt x="124" y="62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499520" y="228600"/>
              <a:ext cx="632160" cy="295560"/>
            </a:xfrm>
            <a:custGeom>
              <a:avLst/>
              <a:gdLst/>
              <a:ahLst/>
              <a:rect l="0" t="0" r="r" b="b"/>
              <a:pathLst>
                <a:path w="1756" h="821">
                  <a:moveTo>
                    <a:pt x="17" y="556"/>
                  </a:moveTo>
                  <a:lnTo>
                    <a:pt x="167" y="640"/>
                  </a:lnTo>
                  <a:lnTo>
                    <a:pt x="149" y="534"/>
                  </a:lnTo>
                  <a:lnTo>
                    <a:pt x="180" y="348"/>
                  </a:lnTo>
                  <a:lnTo>
                    <a:pt x="282" y="308"/>
                  </a:lnTo>
                  <a:lnTo>
                    <a:pt x="295" y="508"/>
                  </a:lnTo>
                  <a:lnTo>
                    <a:pt x="586" y="158"/>
                  </a:lnTo>
                  <a:lnTo>
                    <a:pt x="661" y="136"/>
                  </a:lnTo>
                  <a:lnTo>
                    <a:pt x="604" y="273"/>
                  </a:lnTo>
                  <a:lnTo>
                    <a:pt x="789" y="339"/>
                  </a:lnTo>
                  <a:lnTo>
                    <a:pt x="922" y="202"/>
                  </a:lnTo>
                  <a:lnTo>
                    <a:pt x="997" y="242"/>
                  </a:lnTo>
                  <a:lnTo>
                    <a:pt x="931" y="361"/>
                  </a:lnTo>
                  <a:lnTo>
                    <a:pt x="1019" y="295"/>
                  </a:lnTo>
                  <a:lnTo>
                    <a:pt x="1151" y="348"/>
                  </a:lnTo>
                  <a:lnTo>
                    <a:pt x="1046" y="446"/>
                  </a:lnTo>
                  <a:lnTo>
                    <a:pt x="1407" y="508"/>
                  </a:lnTo>
                  <a:lnTo>
                    <a:pt x="1165" y="578"/>
                  </a:lnTo>
                  <a:lnTo>
                    <a:pt x="1465" y="618"/>
                  </a:lnTo>
                  <a:lnTo>
                    <a:pt x="1107" y="697"/>
                  </a:lnTo>
                  <a:lnTo>
                    <a:pt x="1187" y="759"/>
                  </a:lnTo>
                  <a:lnTo>
                    <a:pt x="1081" y="821"/>
                  </a:lnTo>
                  <a:lnTo>
                    <a:pt x="1266" y="821"/>
                  </a:lnTo>
                  <a:lnTo>
                    <a:pt x="1248" y="772"/>
                  </a:lnTo>
                  <a:lnTo>
                    <a:pt x="1438" y="816"/>
                  </a:lnTo>
                  <a:lnTo>
                    <a:pt x="1407" y="684"/>
                  </a:lnTo>
                  <a:lnTo>
                    <a:pt x="1584" y="627"/>
                  </a:lnTo>
                  <a:lnTo>
                    <a:pt x="1456" y="565"/>
                  </a:lnTo>
                  <a:lnTo>
                    <a:pt x="1756" y="547"/>
                  </a:lnTo>
                  <a:lnTo>
                    <a:pt x="1500" y="415"/>
                  </a:lnTo>
                  <a:lnTo>
                    <a:pt x="1204" y="383"/>
                  </a:lnTo>
                  <a:lnTo>
                    <a:pt x="1438" y="251"/>
                  </a:lnTo>
                  <a:lnTo>
                    <a:pt x="1019" y="251"/>
                  </a:lnTo>
                  <a:lnTo>
                    <a:pt x="1218" y="123"/>
                  </a:lnTo>
                  <a:lnTo>
                    <a:pt x="918" y="158"/>
                  </a:lnTo>
                  <a:lnTo>
                    <a:pt x="771" y="220"/>
                  </a:lnTo>
                  <a:lnTo>
                    <a:pt x="896" y="0"/>
                  </a:lnTo>
                  <a:lnTo>
                    <a:pt x="529" y="123"/>
                  </a:lnTo>
                  <a:lnTo>
                    <a:pt x="326" y="392"/>
                  </a:lnTo>
                  <a:lnTo>
                    <a:pt x="295" y="242"/>
                  </a:lnTo>
                  <a:lnTo>
                    <a:pt x="132" y="348"/>
                  </a:lnTo>
                  <a:lnTo>
                    <a:pt x="110" y="547"/>
                  </a:lnTo>
                  <a:lnTo>
                    <a:pt x="0" y="508"/>
                  </a:lnTo>
                  <a:lnTo>
                    <a:pt x="39" y="684"/>
                  </a:lnTo>
                  <a:lnTo>
                    <a:pt x="17" y="55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637400" y="385920"/>
              <a:ext cx="178200" cy="89280"/>
            </a:xfrm>
            <a:custGeom>
              <a:avLst/>
              <a:gdLst/>
              <a:ahLst/>
              <a:rect l="0" t="0" r="r" b="b"/>
              <a:pathLst>
                <a:path w="495" h="248">
                  <a:moveTo>
                    <a:pt x="0" y="248"/>
                  </a:moveTo>
                  <a:lnTo>
                    <a:pt x="186" y="0"/>
                  </a:lnTo>
                  <a:lnTo>
                    <a:pt x="186" y="164"/>
                  </a:lnTo>
                  <a:lnTo>
                    <a:pt x="252" y="98"/>
                  </a:lnTo>
                  <a:lnTo>
                    <a:pt x="309" y="191"/>
                  </a:lnTo>
                  <a:lnTo>
                    <a:pt x="495" y="235"/>
                  </a:lnTo>
                  <a:lnTo>
                    <a:pt x="296" y="204"/>
                  </a:lnTo>
                  <a:lnTo>
                    <a:pt x="239" y="142"/>
                  </a:lnTo>
                  <a:lnTo>
                    <a:pt x="155" y="204"/>
                  </a:lnTo>
                  <a:lnTo>
                    <a:pt x="155" y="128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1560" y="990720"/>
              <a:ext cx="214560" cy="132120"/>
            </a:xfrm>
            <a:custGeom>
              <a:avLst/>
              <a:gdLst/>
              <a:ahLst/>
              <a:rect l="0" t="0" r="r" b="b"/>
              <a:pathLst>
                <a:path w="596" h="367">
                  <a:moveTo>
                    <a:pt x="114" y="127"/>
                  </a:moveTo>
                  <a:lnTo>
                    <a:pt x="358" y="110"/>
                  </a:lnTo>
                  <a:lnTo>
                    <a:pt x="472" y="136"/>
                  </a:lnTo>
                  <a:lnTo>
                    <a:pt x="534" y="83"/>
                  </a:lnTo>
                  <a:lnTo>
                    <a:pt x="596" y="203"/>
                  </a:lnTo>
                  <a:lnTo>
                    <a:pt x="556" y="225"/>
                  </a:lnTo>
                  <a:lnTo>
                    <a:pt x="503" y="180"/>
                  </a:lnTo>
                  <a:lnTo>
                    <a:pt x="424" y="265"/>
                  </a:lnTo>
                  <a:lnTo>
                    <a:pt x="277" y="367"/>
                  </a:lnTo>
                  <a:lnTo>
                    <a:pt x="211" y="367"/>
                  </a:lnTo>
                  <a:lnTo>
                    <a:pt x="114" y="314"/>
                  </a:lnTo>
                  <a:lnTo>
                    <a:pt x="220" y="358"/>
                  </a:lnTo>
                  <a:lnTo>
                    <a:pt x="264" y="358"/>
                  </a:lnTo>
                  <a:lnTo>
                    <a:pt x="358" y="292"/>
                  </a:lnTo>
                  <a:lnTo>
                    <a:pt x="419" y="167"/>
                  </a:lnTo>
                  <a:lnTo>
                    <a:pt x="322" y="149"/>
                  </a:lnTo>
                  <a:lnTo>
                    <a:pt x="260" y="136"/>
                  </a:lnTo>
                  <a:lnTo>
                    <a:pt x="101" y="158"/>
                  </a:lnTo>
                  <a:lnTo>
                    <a:pt x="97" y="256"/>
                  </a:lnTo>
                  <a:lnTo>
                    <a:pt x="44" y="195"/>
                  </a:lnTo>
                  <a:lnTo>
                    <a:pt x="0" y="278"/>
                  </a:lnTo>
                  <a:lnTo>
                    <a:pt x="4" y="97"/>
                  </a:lnTo>
                  <a:lnTo>
                    <a:pt x="61" y="0"/>
                  </a:lnTo>
                  <a:lnTo>
                    <a:pt x="114" y="97"/>
                  </a:lnTo>
                  <a:lnTo>
                    <a:pt x="114" y="1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593120" y="703440"/>
              <a:ext cx="460800" cy="609840"/>
            </a:xfrm>
            <a:custGeom>
              <a:avLst/>
              <a:gdLst/>
              <a:ahLst/>
              <a:rect l="0" t="0" r="r" b="b"/>
              <a:pathLst>
                <a:path w="1280" h="1694">
                  <a:moveTo>
                    <a:pt x="1077" y="0"/>
                  </a:moveTo>
                  <a:lnTo>
                    <a:pt x="1205" y="0"/>
                  </a:lnTo>
                  <a:lnTo>
                    <a:pt x="1280" y="83"/>
                  </a:lnTo>
                  <a:lnTo>
                    <a:pt x="1280" y="176"/>
                  </a:lnTo>
                  <a:lnTo>
                    <a:pt x="1174" y="440"/>
                  </a:lnTo>
                  <a:lnTo>
                    <a:pt x="1069" y="568"/>
                  </a:lnTo>
                  <a:lnTo>
                    <a:pt x="963" y="586"/>
                  </a:lnTo>
                  <a:lnTo>
                    <a:pt x="931" y="586"/>
                  </a:lnTo>
                  <a:lnTo>
                    <a:pt x="931" y="918"/>
                  </a:lnTo>
                  <a:lnTo>
                    <a:pt x="980" y="1160"/>
                  </a:lnTo>
                  <a:lnTo>
                    <a:pt x="980" y="1359"/>
                  </a:lnTo>
                  <a:lnTo>
                    <a:pt x="785" y="1557"/>
                  </a:lnTo>
                  <a:lnTo>
                    <a:pt x="521" y="1694"/>
                  </a:lnTo>
                  <a:lnTo>
                    <a:pt x="353" y="1694"/>
                  </a:lnTo>
                  <a:lnTo>
                    <a:pt x="268" y="1654"/>
                  </a:lnTo>
                  <a:lnTo>
                    <a:pt x="149" y="1420"/>
                  </a:lnTo>
                  <a:lnTo>
                    <a:pt x="44" y="1337"/>
                  </a:lnTo>
                  <a:lnTo>
                    <a:pt x="0" y="1275"/>
                  </a:lnTo>
                  <a:lnTo>
                    <a:pt x="141" y="1359"/>
                  </a:lnTo>
                  <a:lnTo>
                    <a:pt x="246" y="1442"/>
                  </a:lnTo>
                  <a:lnTo>
                    <a:pt x="450" y="1456"/>
                  </a:lnTo>
                  <a:lnTo>
                    <a:pt x="636" y="1372"/>
                  </a:lnTo>
                  <a:lnTo>
                    <a:pt x="733" y="1275"/>
                  </a:lnTo>
                  <a:lnTo>
                    <a:pt x="838" y="1103"/>
                  </a:lnTo>
                  <a:lnTo>
                    <a:pt x="856" y="900"/>
                  </a:lnTo>
                  <a:lnTo>
                    <a:pt x="891" y="251"/>
                  </a:lnTo>
                  <a:lnTo>
                    <a:pt x="940" y="343"/>
                  </a:lnTo>
                  <a:lnTo>
                    <a:pt x="1064" y="224"/>
                  </a:lnTo>
                  <a:lnTo>
                    <a:pt x="1197" y="176"/>
                  </a:lnTo>
                  <a:lnTo>
                    <a:pt x="1232" y="105"/>
                  </a:lnTo>
                  <a:lnTo>
                    <a:pt x="1214" y="39"/>
                  </a:lnTo>
                  <a:lnTo>
                    <a:pt x="1157" y="8"/>
                  </a:lnTo>
                  <a:lnTo>
                    <a:pt x="107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881760" y="1230480"/>
              <a:ext cx="370080" cy="563760"/>
            </a:xfrm>
            <a:custGeom>
              <a:avLst/>
              <a:gdLst/>
              <a:ahLst/>
              <a:rect l="0" t="0" r="r" b="b"/>
              <a:pathLst>
                <a:path w="1028" h="1566">
                  <a:moveTo>
                    <a:pt x="127" y="0"/>
                  </a:moveTo>
                  <a:lnTo>
                    <a:pt x="246" y="70"/>
                  </a:lnTo>
                  <a:lnTo>
                    <a:pt x="335" y="392"/>
                  </a:lnTo>
                  <a:lnTo>
                    <a:pt x="600" y="463"/>
                  </a:lnTo>
                  <a:lnTo>
                    <a:pt x="675" y="546"/>
                  </a:lnTo>
                  <a:lnTo>
                    <a:pt x="688" y="665"/>
                  </a:lnTo>
                  <a:lnTo>
                    <a:pt x="816" y="648"/>
                  </a:lnTo>
                  <a:lnTo>
                    <a:pt x="979" y="749"/>
                  </a:lnTo>
                  <a:lnTo>
                    <a:pt x="1028" y="874"/>
                  </a:lnTo>
                  <a:lnTo>
                    <a:pt x="1028" y="1094"/>
                  </a:lnTo>
                  <a:lnTo>
                    <a:pt x="816" y="1429"/>
                  </a:lnTo>
                  <a:lnTo>
                    <a:pt x="746" y="1566"/>
                  </a:lnTo>
                  <a:lnTo>
                    <a:pt x="785" y="1385"/>
                  </a:lnTo>
                  <a:lnTo>
                    <a:pt x="746" y="1315"/>
                  </a:lnTo>
                  <a:lnTo>
                    <a:pt x="622" y="1200"/>
                  </a:lnTo>
                  <a:lnTo>
                    <a:pt x="418" y="1063"/>
                  </a:lnTo>
                  <a:lnTo>
                    <a:pt x="662" y="1143"/>
                  </a:lnTo>
                  <a:lnTo>
                    <a:pt x="807" y="1244"/>
                  </a:lnTo>
                  <a:lnTo>
                    <a:pt x="878" y="1231"/>
                  </a:lnTo>
                  <a:lnTo>
                    <a:pt x="922" y="1173"/>
                  </a:lnTo>
                  <a:lnTo>
                    <a:pt x="979" y="1015"/>
                  </a:lnTo>
                  <a:lnTo>
                    <a:pt x="962" y="860"/>
                  </a:lnTo>
                  <a:lnTo>
                    <a:pt x="887" y="776"/>
                  </a:lnTo>
                  <a:lnTo>
                    <a:pt x="759" y="749"/>
                  </a:lnTo>
                  <a:lnTo>
                    <a:pt x="622" y="749"/>
                  </a:lnTo>
                  <a:lnTo>
                    <a:pt x="574" y="515"/>
                  </a:lnTo>
                  <a:lnTo>
                    <a:pt x="348" y="436"/>
                  </a:lnTo>
                  <a:lnTo>
                    <a:pt x="348" y="502"/>
                  </a:lnTo>
                  <a:lnTo>
                    <a:pt x="246" y="335"/>
                  </a:lnTo>
                  <a:lnTo>
                    <a:pt x="189" y="70"/>
                  </a:lnTo>
                  <a:lnTo>
                    <a:pt x="101" y="44"/>
                  </a:lnTo>
                  <a:lnTo>
                    <a:pt x="48" y="123"/>
                  </a:lnTo>
                  <a:lnTo>
                    <a:pt x="48" y="304"/>
                  </a:lnTo>
                  <a:lnTo>
                    <a:pt x="92" y="502"/>
                  </a:lnTo>
                  <a:lnTo>
                    <a:pt x="216" y="665"/>
                  </a:lnTo>
                  <a:lnTo>
                    <a:pt x="79" y="564"/>
                  </a:lnTo>
                  <a:lnTo>
                    <a:pt x="13" y="392"/>
                  </a:lnTo>
                  <a:lnTo>
                    <a:pt x="0" y="167"/>
                  </a:lnTo>
                  <a:lnTo>
                    <a:pt x="48" y="44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705720" y="1477800"/>
              <a:ext cx="244800" cy="452880"/>
            </a:xfrm>
            <a:custGeom>
              <a:avLst/>
              <a:gdLst/>
              <a:ahLst/>
              <a:rect l="0" t="0" r="r" b="b"/>
              <a:pathLst>
                <a:path w="680" h="1258">
                  <a:moveTo>
                    <a:pt x="680" y="0"/>
                  </a:moveTo>
                  <a:lnTo>
                    <a:pt x="538" y="83"/>
                  </a:lnTo>
                  <a:lnTo>
                    <a:pt x="375" y="389"/>
                  </a:lnTo>
                  <a:lnTo>
                    <a:pt x="211" y="587"/>
                  </a:lnTo>
                  <a:lnTo>
                    <a:pt x="17" y="825"/>
                  </a:lnTo>
                  <a:lnTo>
                    <a:pt x="0" y="950"/>
                  </a:lnTo>
                  <a:lnTo>
                    <a:pt x="39" y="1060"/>
                  </a:lnTo>
                  <a:lnTo>
                    <a:pt x="132" y="1060"/>
                  </a:lnTo>
                  <a:lnTo>
                    <a:pt x="260" y="950"/>
                  </a:lnTo>
                  <a:lnTo>
                    <a:pt x="362" y="724"/>
                  </a:lnTo>
                  <a:lnTo>
                    <a:pt x="499" y="587"/>
                  </a:lnTo>
                  <a:lnTo>
                    <a:pt x="499" y="768"/>
                  </a:lnTo>
                  <a:lnTo>
                    <a:pt x="477" y="935"/>
                  </a:lnTo>
                  <a:lnTo>
                    <a:pt x="330" y="1157"/>
                  </a:lnTo>
                  <a:lnTo>
                    <a:pt x="330" y="1227"/>
                  </a:lnTo>
                  <a:lnTo>
                    <a:pt x="477" y="1258"/>
                  </a:lnTo>
                  <a:lnTo>
                    <a:pt x="375" y="1197"/>
                  </a:lnTo>
                  <a:lnTo>
                    <a:pt x="389" y="1157"/>
                  </a:lnTo>
                  <a:lnTo>
                    <a:pt x="490" y="994"/>
                  </a:lnTo>
                  <a:lnTo>
                    <a:pt x="561" y="697"/>
                  </a:lnTo>
                  <a:lnTo>
                    <a:pt x="512" y="530"/>
                  </a:lnTo>
                  <a:lnTo>
                    <a:pt x="402" y="627"/>
                  </a:lnTo>
                  <a:lnTo>
                    <a:pt x="158" y="1003"/>
                  </a:lnTo>
                  <a:lnTo>
                    <a:pt x="97" y="1016"/>
                  </a:lnTo>
                  <a:lnTo>
                    <a:pt x="39" y="976"/>
                  </a:lnTo>
                  <a:lnTo>
                    <a:pt x="39" y="860"/>
                  </a:lnTo>
                  <a:lnTo>
                    <a:pt x="132" y="710"/>
                  </a:lnTo>
                  <a:lnTo>
                    <a:pt x="402" y="406"/>
                  </a:lnTo>
                  <a:lnTo>
                    <a:pt x="561" y="114"/>
                  </a:lnTo>
                  <a:lnTo>
                    <a:pt x="68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886440" y="1733400"/>
              <a:ext cx="151200" cy="217800"/>
            </a:xfrm>
            <a:custGeom>
              <a:avLst/>
              <a:gdLst/>
              <a:ahLst/>
              <a:rect l="0" t="0" r="r" b="b"/>
              <a:pathLst>
                <a:path w="420" h="605">
                  <a:moveTo>
                    <a:pt x="0" y="534"/>
                  </a:moveTo>
                  <a:lnTo>
                    <a:pt x="137" y="380"/>
                  </a:lnTo>
                  <a:lnTo>
                    <a:pt x="164" y="224"/>
                  </a:lnTo>
                  <a:lnTo>
                    <a:pt x="323" y="0"/>
                  </a:lnTo>
                  <a:lnTo>
                    <a:pt x="359" y="149"/>
                  </a:lnTo>
                  <a:lnTo>
                    <a:pt x="337" y="547"/>
                  </a:lnTo>
                  <a:lnTo>
                    <a:pt x="420" y="605"/>
                  </a:lnTo>
                  <a:lnTo>
                    <a:pt x="296" y="561"/>
                  </a:lnTo>
                  <a:lnTo>
                    <a:pt x="234" y="336"/>
                  </a:lnTo>
                  <a:lnTo>
                    <a:pt x="137" y="446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072200" y="1744560"/>
              <a:ext cx="100440" cy="195480"/>
            </a:xfrm>
            <a:custGeom>
              <a:avLst/>
              <a:gdLst/>
              <a:ahLst/>
              <a:rect l="0" t="0" r="r" b="b"/>
              <a:pathLst>
                <a:path w="279" h="543">
                  <a:moveTo>
                    <a:pt x="0" y="406"/>
                  </a:moveTo>
                  <a:lnTo>
                    <a:pt x="13" y="207"/>
                  </a:lnTo>
                  <a:lnTo>
                    <a:pt x="71" y="88"/>
                  </a:lnTo>
                  <a:lnTo>
                    <a:pt x="137" y="516"/>
                  </a:lnTo>
                  <a:lnTo>
                    <a:pt x="222" y="516"/>
                  </a:lnTo>
                  <a:lnTo>
                    <a:pt x="257" y="61"/>
                  </a:lnTo>
                  <a:lnTo>
                    <a:pt x="279" y="0"/>
                  </a:lnTo>
                  <a:lnTo>
                    <a:pt x="257" y="353"/>
                  </a:lnTo>
                  <a:lnTo>
                    <a:pt x="222" y="543"/>
                  </a:lnTo>
                  <a:lnTo>
                    <a:pt x="111" y="543"/>
                  </a:lnTo>
                  <a:lnTo>
                    <a:pt x="61" y="167"/>
                  </a:lnTo>
                  <a:lnTo>
                    <a:pt x="35" y="220"/>
                  </a:lnTo>
                  <a:lnTo>
                    <a:pt x="0" y="40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8345520" y="979560"/>
              <a:ext cx="241560" cy="519480"/>
            </a:xfrm>
            <a:custGeom>
              <a:avLst/>
              <a:gdLst/>
              <a:ahLst/>
              <a:rect l="0" t="0" r="r" b="b"/>
              <a:pathLst>
                <a:path w="671" h="1443">
                  <a:moveTo>
                    <a:pt x="176" y="781"/>
                  </a:moveTo>
                  <a:lnTo>
                    <a:pt x="224" y="556"/>
                  </a:lnTo>
                  <a:lnTo>
                    <a:pt x="455" y="499"/>
                  </a:lnTo>
                  <a:lnTo>
                    <a:pt x="671" y="0"/>
                  </a:lnTo>
                  <a:lnTo>
                    <a:pt x="671" y="145"/>
                  </a:lnTo>
                  <a:lnTo>
                    <a:pt x="486" y="530"/>
                  </a:lnTo>
                  <a:lnTo>
                    <a:pt x="246" y="600"/>
                  </a:lnTo>
                  <a:lnTo>
                    <a:pt x="211" y="781"/>
                  </a:lnTo>
                  <a:lnTo>
                    <a:pt x="295" y="781"/>
                  </a:lnTo>
                  <a:lnTo>
                    <a:pt x="88" y="860"/>
                  </a:lnTo>
                  <a:lnTo>
                    <a:pt x="39" y="1015"/>
                  </a:lnTo>
                  <a:lnTo>
                    <a:pt x="48" y="1214"/>
                  </a:lnTo>
                  <a:lnTo>
                    <a:pt x="273" y="1443"/>
                  </a:lnTo>
                  <a:lnTo>
                    <a:pt x="39" y="1241"/>
                  </a:lnTo>
                  <a:lnTo>
                    <a:pt x="0" y="1072"/>
                  </a:lnTo>
                  <a:lnTo>
                    <a:pt x="17" y="904"/>
                  </a:lnTo>
                  <a:lnTo>
                    <a:pt x="101" y="785"/>
                  </a:lnTo>
                  <a:lnTo>
                    <a:pt x="176" y="78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8508960" y="979560"/>
              <a:ext cx="405000" cy="503640"/>
            </a:xfrm>
            <a:custGeom>
              <a:avLst/>
              <a:gdLst/>
              <a:ahLst/>
              <a:rect l="0" t="0" r="r" b="b"/>
              <a:pathLst>
                <a:path w="1125" h="1399">
                  <a:moveTo>
                    <a:pt x="308" y="0"/>
                  </a:moveTo>
                  <a:lnTo>
                    <a:pt x="379" y="44"/>
                  </a:lnTo>
                  <a:lnTo>
                    <a:pt x="396" y="163"/>
                  </a:lnTo>
                  <a:lnTo>
                    <a:pt x="396" y="273"/>
                  </a:lnTo>
                  <a:lnTo>
                    <a:pt x="273" y="477"/>
                  </a:lnTo>
                  <a:lnTo>
                    <a:pt x="299" y="627"/>
                  </a:lnTo>
                  <a:lnTo>
                    <a:pt x="675" y="785"/>
                  </a:lnTo>
                  <a:lnTo>
                    <a:pt x="1116" y="1227"/>
                  </a:lnTo>
                  <a:lnTo>
                    <a:pt x="1125" y="1346"/>
                  </a:lnTo>
                  <a:lnTo>
                    <a:pt x="1099" y="1399"/>
                  </a:lnTo>
                  <a:lnTo>
                    <a:pt x="935" y="1399"/>
                  </a:lnTo>
                  <a:lnTo>
                    <a:pt x="790" y="1316"/>
                  </a:lnTo>
                  <a:lnTo>
                    <a:pt x="666" y="1170"/>
                  </a:lnTo>
                  <a:lnTo>
                    <a:pt x="600" y="1086"/>
                  </a:lnTo>
                  <a:lnTo>
                    <a:pt x="520" y="1073"/>
                  </a:lnTo>
                  <a:lnTo>
                    <a:pt x="618" y="1073"/>
                  </a:lnTo>
                  <a:lnTo>
                    <a:pt x="803" y="1302"/>
                  </a:lnTo>
                  <a:lnTo>
                    <a:pt x="1037" y="1369"/>
                  </a:lnTo>
                  <a:lnTo>
                    <a:pt x="1085" y="1302"/>
                  </a:lnTo>
                  <a:lnTo>
                    <a:pt x="1063" y="1197"/>
                  </a:lnTo>
                  <a:lnTo>
                    <a:pt x="653" y="878"/>
                  </a:lnTo>
                  <a:lnTo>
                    <a:pt x="591" y="785"/>
                  </a:lnTo>
                  <a:lnTo>
                    <a:pt x="273" y="706"/>
                  </a:lnTo>
                  <a:lnTo>
                    <a:pt x="216" y="785"/>
                  </a:lnTo>
                  <a:lnTo>
                    <a:pt x="0" y="918"/>
                  </a:lnTo>
                  <a:lnTo>
                    <a:pt x="207" y="763"/>
                  </a:lnTo>
                  <a:lnTo>
                    <a:pt x="216" y="671"/>
                  </a:lnTo>
                  <a:lnTo>
                    <a:pt x="216" y="446"/>
                  </a:lnTo>
                  <a:lnTo>
                    <a:pt x="361" y="273"/>
                  </a:lnTo>
                  <a:lnTo>
                    <a:pt x="361" y="57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434440" y="1374840"/>
              <a:ext cx="344880" cy="298800"/>
            </a:xfrm>
            <a:custGeom>
              <a:avLst/>
              <a:gdLst/>
              <a:ahLst/>
              <a:rect l="0" t="0" r="r" b="b"/>
              <a:pathLst>
                <a:path w="958" h="830">
                  <a:moveTo>
                    <a:pt x="720" y="0"/>
                  </a:moveTo>
                  <a:lnTo>
                    <a:pt x="693" y="70"/>
                  </a:lnTo>
                  <a:lnTo>
                    <a:pt x="835" y="343"/>
                  </a:lnTo>
                  <a:lnTo>
                    <a:pt x="910" y="627"/>
                  </a:lnTo>
                  <a:lnTo>
                    <a:pt x="826" y="627"/>
                  </a:lnTo>
                  <a:lnTo>
                    <a:pt x="680" y="503"/>
                  </a:lnTo>
                  <a:lnTo>
                    <a:pt x="552" y="242"/>
                  </a:lnTo>
                  <a:lnTo>
                    <a:pt x="450" y="202"/>
                  </a:lnTo>
                  <a:lnTo>
                    <a:pt x="468" y="343"/>
                  </a:lnTo>
                  <a:lnTo>
                    <a:pt x="561" y="446"/>
                  </a:lnTo>
                  <a:lnTo>
                    <a:pt x="561" y="644"/>
                  </a:lnTo>
                  <a:lnTo>
                    <a:pt x="490" y="790"/>
                  </a:lnTo>
                  <a:lnTo>
                    <a:pt x="402" y="733"/>
                  </a:lnTo>
                  <a:lnTo>
                    <a:pt x="296" y="503"/>
                  </a:lnTo>
                  <a:lnTo>
                    <a:pt x="269" y="343"/>
                  </a:lnTo>
                  <a:lnTo>
                    <a:pt x="207" y="299"/>
                  </a:lnTo>
                  <a:lnTo>
                    <a:pt x="189" y="702"/>
                  </a:lnTo>
                  <a:lnTo>
                    <a:pt x="101" y="759"/>
                  </a:lnTo>
                  <a:lnTo>
                    <a:pt x="26" y="702"/>
                  </a:lnTo>
                  <a:lnTo>
                    <a:pt x="13" y="357"/>
                  </a:lnTo>
                  <a:lnTo>
                    <a:pt x="0" y="693"/>
                  </a:lnTo>
                  <a:lnTo>
                    <a:pt x="61" y="816"/>
                  </a:lnTo>
                  <a:lnTo>
                    <a:pt x="189" y="816"/>
                  </a:lnTo>
                  <a:lnTo>
                    <a:pt x="229" y="719"/>
                  </a:lnTo>
                  <a:lnTo>
                    <a:pt x="256" y="405"/>
                  </a:lnTo>
                  <a:lnTo>
                    <a:pt x="278" y="530"/>
                  </a:lnTo>
                  <a:lnTo>
                    <a:pt x="389" y="799"/>
                  </a:lnTo>
                  <a:lnTo>
                    <a:pt x="503" y="830"/>
                  </a:lnTo>
                  <a:lnTo>
                    <a:pt x="591" y="719"/>
                  </a:lnTo>
                  <a:lnTo>
                    <a:pt x="591" y="459"/>
                  </a:lnTo>
                  <a:lnTo>
                    <a:pt x="826" y="675"/>
                  </a:lnTo>
                  <a:lnTo>
                    <a:pt x="945" y="675"/>
                  </a:lnTo>
                  <a:lnTo>
                    <a:pt x="958" y="530"/>
                  </a:lnTo>
                  <a:lnTo>
                    <a:pt x="870" y="268"/>
                  </a:lnTo>
                  <a:lnTo>
                    <a:pt x="720" y="57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043760" y="1066680"/>
              <a:ext cx="1532160" cy="1217880"/>
            </a:xfrm>
            <a:custGeom>
              <a:avLst/>
              <a:gdLst/>
              <a:ahLst/>
              <a:rect l="0" t="0" r="r" b="b"/>
              <a:pathLst>
                <a:path w="4256" h="3383">
                  <a:moveTo>
                    <a:pt x="1530" y="286"/>
                  </a:moveTo>
                  <a:lnTo>
                    <a:pt x="1450" y="299"/>
                  </a:lnTo>
                  <a:lnTo>
                    <a:pt x="1336" y="467"/>
                  </a:lnTo>
                  <a:lnTo>
                    <a:pt x="1292" y="343"/>
                  </a:lnTo>
                  <a:lnTo>
                    <a:pt x="1155" y="273"/>
                  </a:lnTo>
                  <a:lnTo>
                    <a:pt x="1053" y="326"/>
                  </a:lnTo>
                  <a:lnTo>
                    <a:pt x="1009" y="546"/>
                  </a:lnTo>
                  <a:lnTo>
                    <a:pt x="630" y="815"/>
                  </a:lnTo>
                  <a:lnTo>
                    <a:pt x="652" y="930"/>
                  </a:lnTo>
                  <a:lnTo>
                    <a:pt x="564" y="1031"/>
                  </a:lnTo>
                  <a:lnTo>
                    <a:pt x="564" y="1120"/>
                  </a:lnTo>
                  <a:lnTo>
                    <a:pt x="670" y="1375"/>
                  </a:lnTo>
                  <a:lnTo>
                    <a:pt x="679" y="1688"/>
                  </a:lnTo>
                  <a:lnTo>
                    <a:pt x="608" y="1980"/>
                  </a:lnTo>
                  <a:lnTo>
                    <a:pt x="335" y="2157"/>
                  </a:lnTo>
                  <a:lnTo>
                    <a:pt x="299" y="2399"/>
                  </a:lnTo>
                  <a:lnTo>
                    <a:pt x="216" y="2399"/>
                  </a:lnTo>
                  <a:lnTo>
                    <a:pt x="171" y="2201"/>
                  </a:lnTo>
                  <a:lnTo>
                    <a:pt x="88" y="2201"/>
                  </a:lnTo>
                  <a:lnTo>
                    <a:pt x="48" y="2413"/>
                  </a:lnTo>
                  <a:lnTo>
                    <a:pt x="0" y="2470"/>
                  </a:lnTo>
                  <a:lnTo>
                    <a:pt x="189" y="2761"/>
                  </a:lnTo>
                  <a:lnTo>
                    <a:pt x="321" y="2774"/>
                  </a:lnTo>
                  <a:lnTo>
                    <a:pt x="564" y="2990"/>
                  </a:lnTo>
                  <a:lnTo>
                    <a:pt x="780" y="3017"/>
                  </a:lnTo>
                  <a:lnTo>
                    <a:pt x="903" y="2902"/>
                  </a:lnTo>
                  <a:lnTo>
                    <a:pt x="1195" y="2483"/>
                  </a:lnTo>
                  <a:lnTo>
                    <a:pt x="1221" y="3048"/>
                  </a:lnTo>
                  <a:lnTo>
                    <a:pt x="1195" y="3383"/>
                  </a:lnTo>
                  <a:lnTo>
                    <a:pt x="3656" y="3383"/>
                  </a:lnTo>
                  <a:lnTo>
                    <a:pt x="3475" y="3017"/>
                  </a:lnTo>
                  <a:lnTo>
                    <a:pt x="3387" y="2704"/>
                  </a:lnTo>
                  <a:lnTo>
                    <a:pt x="3365" y="2236"/>
                  </a:lnTo>
                  <a:lnTo>
                    <a:pt x="3511" y="2342"/>
                  </a:lnTo>
                  <a:lnTo>
                    <a:pt x="3656" y="2342"/>
                  </a:lnTo>
                  <a:lnTo>
                    <a:pt x="3859" y="2219"/>
                  </a:lnTo>
                  <a:lnTo>
                    <a:pt x="3991" y="2201"/>
                  </a:lnTo>
                  <a:lnTo>
                    <a:pt x="4075" y="2077"/>
                  </a:lnTo>
                  <a:lnTo>
                    <a:pt x="4132" y="1756"/>
                  </a:lnTo>
                  <a:lnTo>
                    <a:pt x="4256" y="1631"/>
                  </a:lnTo>
                  <a:lnTo>
                    <a:pt x="4194" y="1534"/>
                  </a:lnTo>
                  <a:lnTo>
                    <a:pt x="4102" y="1534"/>
                  </a:lnTo>
                  <a:lnTo>
                    <a:pt x="4031" y="1600"/>
                  </a:lnTo>
                  <a:lnTo>
                    <a:pt x="3956" y="1618"/>
                  </a:lnTo>
                  <a:lnTo>
                    <a:pt x="3868" y="1534"/>
                  </a:lnTo>
                  <a:lnTo>
                    <a:pt x="3766" y="1521"/>
                  </a:lnTo>
                  <a:lnTo>
                    <a:pt x="3572" y="1402"/>
                  </a:lnTo>
                  <a:lnTo>
                    <a:pt x="3449" y="1274"/>
                  </a:lnTo>
                  <a:lnTo>
                    <a:pt x="3431" y="1120"/>
                  </a:lnTo>
                  <a:lnTo>
                    <a:pt x="3449" y="970"/>
                  </a:lnTo>
                  <a:lnTo>
                    <a:pt x="3528" y="846"/>
                  </a:lnTo>
                  <a:lnTo>
                    <a:pt x="3634" y="736"/>
                  </a:lnTo>
                  <a:lnTo>
                    <a:pt x="3625" y="542"/>
                  </a:lnTo>
                  <a:lnTo>
                    <a:pt x="3625" y="401"/>
                  </a:lnTo>
                  <a:lnTo>
                    <a:pt x="3572" y="299"/>
                  </a:lnTo>
                  <a:lnTo>
                    <a:pt x="3431" y="255"/>
                  </a:lnTo>
                  <a:lnTo>
                    <a:pt x="3378" y="229"/>
                  </a:lnTo>
                  <a:lnTo>
                    <a:pt x="3277" y="61"/>
                  </a:lnTo>
                  <a:lnTo>
                    <a:pt x="3193" y="13"/>
                  </a:lnTo>
                  <a:lnTo>
                    <a:pt x="3105" y="0"/>
                  </a:lnTo>
                  <a:lnTo>
                    <a:pt x="3030" y="30"/>
                  </a:lnTo>
                  <a:lnTo>
                    <a:pt x="2968" y="119"/>
                  </a:lnTo>
                  <a:lnTo>
                    <a:pt x="2876" y="171"/>
                  </a:lnTo>
                  <a:lnTo>
                    <a:pt x="2770" y="189"/>
                  </a:lnTo>
                  <a:lnTo>
                    <a:pt x="2651" y="189"/>
                  </a:lnTo>
                  <a:lnTo>
                    <a:pt x="2673" y="357"/>
                  </a:lnTo>
                  <a:lnTo>
                    <a:pt x="2673" y="564"/>
                  </a:lnTo>
                  <a:lnTo>
                    <a:pt x="2651" y="705"/>
                  </a:lnTo>
                  <a:lnTo>
                    <a:pt x="2549" y="873"/>
                  </a:lnTo>
                  <a:lnTo>
                    <a:pt x="2413" y="1128"/>
                  </a:lnTo>
                  <a:lnTo>
                    <a:pt x="2307" y="1433"/>
                  </a:lnTo>
                  <a:lnTo>
                    <a:pt x="2302" y="1618"/>
                  </a:lnTo>
                  <a:lnTo>
                    <a:pt x="2249" y="1769"/>
                  </a:lnTo>
                  <a:lnTo>
                    <a:pt x="2188" y="1923"/>
                  </a:lnTo>
                  <a:lnTo>
                    <a:pt x="2157" y="2170"/>
                  </a:lnTo>
                  <a:lnTo>
                    <a:pt x="2174" y="2373"/>
                  </a:lnTo>
                  <a:lnTo>
                    <a:pt x="2249" y="2611"/>
                  </a:lnTo>
                  <a:lnTo>
                    <a:pt x="2302" y="2704"/>
                  </a:lnTo>
                  <a:lnTo>
                    <a:pt x="2157" y="2792"/>
                  </a:lnTo>
                  <a:lnTo>
                    <a:pt x="1984" y="2845"/>
                  </a:lnTo>
                  <a:lnTo>
                    <a:pt x="1794" y="2862"/>
                  </a:lnTo>
                  <a:lnTo>
                    <a:pt x="1680" y="2862"/>
                  </a:lnTo>
                  <a:lnTo>
                    <a:pt x="1605" y="2832"/>
                  </a:lnTo>
                  <a:lnTo>
                    <a:pt x="1605" y="2629"/>
                  </a:lnTo>
                  <a:lnTo>
                    <a:pt x="1605" y="2329"/>
                  </a:lnTo>
                  <a:lnTo>
                    <a:pt x="1556" y="2033"/>
                  </a:lnTo>
                  <a:lnTo>
                    <a:pt x="1481" y="1769"/>
                  </a:lnTo>
                  <a:lnTo>
                    <a:pt x="1441" y="1561"/>
                  </a:lnTo>
                  <a:lnTo>
                    <a:pt x="1433" y="1261"/>
                  </a:lnTo>
                  <a:lnTo>
                    <a:pt x="1481" y="1001"/>
                  </a:lnTo>
                  <a:lnTo>
                    <a:pt x="1556" y="789"/>
                  </a:lnTo>
                  <a:lnTo>
                    <a:pt x="1565" y="665"/>
                  </a:lnTo>
                  <a:lnTo>
                    <a:pt x="1530" y="485"/>
                  </a:lnTo>
                  <a:lnTo>
                    <a:pt x="1530" y="343"/>
                  </a:lnTo>
                  <a:lnTo>
                    <a:pt x="1556" y="299"/>
                  </a:lnTo>
                  <a:lnTo>
                    <a:pt x="1530" y="28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640640" y="1309680"/>
              <a:ext cx="194040" cy="792360"/>
            </a:xfrm>
            <a:custGeom>
              <a:avLst/>
              <a:gdLst/>
              <a:ahLst/>
              <a:rect l="0" t="0" r="r" b="b"/>
              <a:pathLst>
                <a:path w="539" h="2201">
                  <a:moveTo>
                    <a:pt x="217" y="26"/>
                  </a:moveTo>
                  <a:lnTo>
                    <a:pt x="70" y="97"/>
                  </a:lnTo>
                  <a:lnTo>
                    <a:pt x="83" y="308"/>
                  </a:lnTo>
                  <a:lnTo>
                    <a:pt x="190" y="370"/>
                  </a:lnTo>
                  <a:lnTo>
                    <a:pt x="61" y="599"/>
                  </a:lnTo>
                  <a:lnTo>
                    <a:pt x="0" y="855"/>
                  </a:lnTo>
                  <a:lnTo>
                    <a:pt x="0" y="1098"/>
                  </a:lnTo>
                  <a:lnTo>
                    <a:pt x="61" y="1319"/>
                  </a:lnTo>
                  <a:lnTo>
                    <a:pt x="114" y="1588"/>
                  </a:lnTo>
                  <a:lnTo>
                    <a:pt x="114" y="1742"/>
                  </a:lnTo>
                  <a:lnTo>
                    <a:pt x="61" y="1932"/>
                  </a:lnTo>
                  <a:lnTo>
                    <a:pt x="278" y="2201"/>
                  </a:lnTo>
                  <a:lnTo>
                    <a:pt x="371" y="2157"/>
                  </a:lnTo>
                  <a:lnTo>
                    <a:pt x="429" y="1972"/>
                  </a:lnTo>
                  <a:lnTo>
                    <a:pt x="531" y="1729"/>
                  </a:lnTo>
                  <a:lnTo>
                    <a:pt x="539" y="1601"/>
                  </a:lnTo>
                  <a:lnTo>
                    <a:pt x="456" y="1359"/>
                  </a:lnTo>
                  <a:lnTo>
                    <a:pt x="353" y="1125"/>
                  </a:lnTo>
                  <a:lnTo>
                    <a:pt x="318" y="956"/>
                  </a:lnTo>
                  <a:lnTo>
                    <a:pt x="318" y="798"/>
                  </a:lnTo>
                  <a:lnTo>
                    <a:pt x="353" y="657"/>
                  </a:lnTo>
                  <a:lnTo>
                    <a:pt x="429" y="480"/>
                  </a:lnTo>
                  <a:lnTo>
                    <a:pt x="429" y="410"/>
                  </a:lnTo>
                  <a:lnTo>
                    <a:pt x="393" y="339"/>
                  </a:lnTo>
                  <a:lnTo>
                    <a:pt x="495" y="251"/>
                  </a:lnTo>
                  <a:lnTo>
                    <a:pt x="495" y="167"/>
                  </a:lnTo>
                  <a:lnTo>
                    <a:pt x="353" y="0"/>
                  </a:lnTo>
                  <a:lnTo>
                    <a:pt x="469" y="167"/>
                  </a:lnTo>
                  <a:lnTo>
                    <a:pt x="469" y="238"/>
                  </a:lnTo>
                  <a:lnTo>
                    <a:pt x="367" y="308"/>
                  </a:lnTo>
                  <a:lnTo>
                    <a:pt x="407" y="410"/>
                  </a:lnTo>
                  <a:lnTo>
                    <a:pt x="393" y="480"/>
                  </a:lnTo>
                  <a:lnTo>
                    <a:pt x="292" y="683"/>
                  </a:lnTo>
                  <a:lnTo>
                    <a:pt x="278" y="881"/>
                  </a:lnTo>
                  <a:lnTo>
                    <a:pt x="305" y="1067"/>
                  </a:lnTo>
                  <a:lnTo>
                    <a:pt x="371" y="1332"/>
                  </a:lnTo>
                  <a:lnTo>
                    <a:pt x="456" y="1544"/>
                  </a:lnTo>
                  <a:lnTo>
                    <a:pt x="456" y="1716"/>
                  </a:lnTo>
                  <a:lnTo>
                    <a:pt x="407" y="1932"/>
                  </a:lnTo>
                  <a:lnTo>
                    <a:pt x="305" y="2157"/>
                  </a:lnTo>
                  <a:lnTo>
                    <a:pt x="177" y="2033"/>
                  </a:lnTo>
                  <a:lnTo>
                    <a:pt x="127" y="1932"/>
                  </a:lnTo>
                  <a:lnTo>
                    <a:pt x="137" y="1716"/>
                  </a:lnTo>
                  <a:lnTo>
                    <a:pt x="127" y="1500"/>
                  </a:lnTo>
                  <a:lnTo>
                    <a:pt x="61" y="1209"/>
                  </a:lnTo>
                  <a:lnTo>
                    <a:pt x="39" y="1009"/>
                  </a:lnTo>
                  <a:lnTo>
                    <a:pt x="61" y="784"/>
                  </a:lnTo>
                  <a:lnTo>
                    <a:pt x="114" y="568"/>
                  </a:lnTo>
                  <a:lnTo>
                    <a:pt x="225" y="352"/>
                  </a:lnTo>
                  <a:lnTo>
                    <a:pt x="127" y="264"/>
                  </a:lnTo>
                  <a:lnTo>
                    <a:pt x="114" y="110"/>
                  </a:lnTo>
                  <a:lnTo>
                    <a:pt x="217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8191440" y="385920"/>
              <a:ext cx="305280" cy="386280"/>
            </a:xfrm>
            <a:custGeom>
              <a:avLst/>
              <a:gdLst/>
              <a:ahLst/>
              <a:rect l="0" t="0" r="r" b="b"/>
              <a:pathLst>
                <a:path w="848" h="1073">
                  <a:moveTo>
                    <a:pt x="141" y="274"/>
                  </a:moveTo>
                  <a:lnTo>
                    <a:pt x="265" y="251"/>
                  </a:lnTo>
                  <a:lnTo>
                    <a:pt x="384" y="260"/>
                  </a:lnTo>
                  <a:lnTo>
                    <a:pt x="486" y="305"/>
                  </a:lnTo>
                  <a:lnTo>
                    <a:pt x="543" y="362"/>
                  </a:lnTo>
                  <a:lnTo>
                    <a:pt x="565" y="419"/>
                  </a:lnTo>
                  <a:lnTo>
                    <a:pt x="565" y="472"/>
                  </a:lnTo>
                  <a:lnTo>
                    <a:pt x="538" y="508"/>
                  </a:lnTo>
                  <a:lnTo>
                    <a:pt x="481" y="534"/>
                  </a:lnTo>
                  <a:lnTo>
                    <a:pt x="419" y="538"/>
                  </a:lnTo>
                  <a:lnTo>
                    <a:pt x="344" y="521"/>
                  </a:lnTo>
                  <a:lnTo>
                    <a:pt x="269" y="477"/>
                  </a:lnTo>
                  <a:lnTo>
                    <a:pt x="211" y="437"/>
                  </a:lnTo>
                  <a:lnTo>
                    <a:pt x="189" y="574"/>
                  </a:lnTo>
                  <a:lnTo>
                    <a:pt x="141" y="671"/>
                  </a:lnTo>
                  <a:lnTo>
                    <a:pt x="0" y="897"/>
                  </a:lnTo>
                  <a:lnTo>
                    <a:pt x="207" y="1073"/>
                  </a:lnTo>
                  <a:lnTo>
                    <a:pt x="362" y="781"/>
                  </a:lnTo>
                  <a:lnTo>
                    <a:pt x="538" y="808"/>
                  </a:lnTo>
                  <a:lnTo>
                    <a:pt x="645" y="785"/>
                  </a:lnTo>
                  <a:lnTo>
                    <a:pt x="751" y="719"/>
                  </a:lnTo>
                  <a:lnTo>
                    <a:pt x="813" y="636"/>
                  </a:lnTo>
                  <a:lnTo>
                    <a:pt x="848" y="525"/>
                  </a:lnTo>
                  <a:lnTo>
                    <a:pt x="848" y="411"/>
                  </a:lnTo>
                  <a:lnTo>
                    <a:pt x="813" y="287"/>
                  </a:lnTo>
                  <a:lnTo>
                    <a:pt x="747" y="163"/>
                  </a:lnTo>
                  <a:lnTo>
                    <a:pt x="659" y="74"/>
                  </a:lnTo>
                  <a:lnTo>
                    <a:pt x="552" y="26"/>
                  </a:lnTo>
                  <a:lnTo>
                    <a:pt x="433" y="0"/>
                  </a:lnTo>
                  <a:lnTo>
                    <a:pt x="283" y="0"/>
                  </a:lnTo>
                  <a:lnTo>
                    <a:pt x="114" y="30"/>
                  </a:lnTo>
                  <a:lnTo>
                    <a:pt x="141" y="274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137440" y="760320"/>
              <a:ext cx="109800" cy="76680"/>
            </a:xfrm>
            <a:custGeom>
              <a:avLst/>
              <a:gdLst/>
              <a:ahLst/>
              <a:rect l="0" t="0" r="r" b="b"/>
              <a:pathLst>
                <a:path w="305" h="213">
                  <a:moveTo>
                    <a:pt x="119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06"/>
                  </a:lnTo>
                  <a:lnTo>
                    <a:pt x="61" y="182"/>
                  </a:lnTo>
                  <a:lnTo>
                    <a:pt x="186" y="213"/>
                  </a:lnTo>
                  <a:lnTo>
                    <a:pt x="274" y="209"/>
                  </a:lnTo>
                  <a:lnTo>
                    <a:pt x="305" y="159"/>
                  </a:lnTo>
                  <a:lnTo>
                    <a:pt x="287" y="115"/>
                  </a:lnTo>
                  <a:lnTo>
                    <a:pt x="247" y="52"/>
                  </a:lnTo>
                  <a:lnTo>
                    <a:pt x="172" y="8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"/>
          <p:cNvSpPr txBox="1"/>
          <p:nvPr/>
        </p:nvSpPr>
        <p:spPr>
          <a:xfrm>
            <a:off x="990720" y="3581280"/>
            <a:ext cx="64771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 Direct labor co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800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 Direct labor hou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800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 Machine hou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800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4. Units of produ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 txBox="1"/>
          <p:nvPr/>
        </p:nvSpPr>
        <p:spPr>
          <a:xfrm>
            <a:off x="838080" y="83808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tivity-Based Cos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2438280" y="2438280"/>
            <a:ext cx="533412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fine and explain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tivity-based cos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702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 txBox="1"/>
          <p:nvPr/>
        </p:nvSpPr>
        <p:spPr>
          <a:xfrm>
            <a:off x="1066680" y="2286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roduct Costing Syst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914400" y="106668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creased competition from foreign companies identified a weakness in the product costing systems of many U.S. organiz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roduct costing systems did not accurately assign manufacturing overhead costs to product li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se inaccurate product unit costs led to poor decisions and lost market sha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 txBox="1"/>
          <p:nvPr/>
        </p:nvSpPr>
        <p:spPr>
          <a:xfrm>
            <a:off x="990720" y="6858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tivity-Based Costing (ABC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1066680" y="23623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 the search for more accurate product costing, many organizations embraced activity-based cos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 txBox="1"/>
          <p:nvPr/>
        </p:nvSpPr>
        <p:spPr>
          <a:xfrm>
            <a:off x="990720" y="38088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BC Cost Assign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1143000" y="144792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BC is an approach to cost assignment tha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tegorizes all indirect costs by identifying activity cost poo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races costs to those activity poo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ssigns activity costs to products using a cost driver that is related to the cause of the co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 txBox="1"/>
          <p:nvPr/>
        </p:nvSpPr>
        <p:spPr>
          <a:xfrm>
            <a:off x="1066680" y="38088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tivity-Based Cos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1066680" y="15238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BC is particularly useful for organizations that hav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roduct divers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roducts that vary in the amounts of production-related activities or complexity required in their manufacture, store, move, package, or shi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lanning S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143000" y="1447920"/>
            <a:ext cx="7620120" cy="15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ses of operating cost information and product costs in the planning st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143000" y="3200400"/>
            <a:ext cx="731520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velop budge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termine selling prices or fees for services and sa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lan human resource nee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 txBox="1"/>
          <p:nvPr/>
        </p:nvSpPr>
        <p:spPr>
          <a:xfrm>
            <a:off x="1066680" y="243828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was a weakness in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duct costing systems of many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.S. organiza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1905120" y="1143000"/>
            <a:ext cx="53341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6705720" y="304920"/>
            <a:ext cx="2132280" cy="2132280"/>
            <a:chOff x="6705720" y="304920"/>
            <a:chExt cx="2132280" cy="2132280"/>
          </a:xfrm>
        </p:grpSpPr>
        <p:sp>
          <p:nvSpPr>
            <p:cNvPr id="695" name=""/>
            <p:cNvSpPr/>
            <p:nvPr/>
          </p:nvSpPr>
          <p:spPr>
            <a:xfrm>
              <a:off x="6711840" y="1351080"/>
              <a:ext cx="518040" cy="744840"/>
            </a:xfrm>
            <a:custGeom>
              <a:avLst/>
              <a:gdLst/>
              <a:ahLst/>
              <a:rect l="0" t="0" r="r" b="b"/>
              <a:pathLst>
                <a:path w="1439" h="2069">
                  <a:moveTo>
                    <a:pt x="574" y="0"/>
                  </a:moveTo>
                  <a:lnTo>
                    <a:pt x="499" y="92"/>
                  </a:lnTo>
                  <a:lnTo>
                    <a:pt x="499" y="361"/>
                  </a:lnTo>
                  <a:lnTo>
                    <a:pt x="574" y="555"/>
                  </a:lnTo>
                  <a:lnTo>
                    <a:pt x="662" y="652"/>
                  </a:lnTo>
                  <a:lnTo>
                    <a:pt x="530" y="784"/>
                  </a:lnTo>
                  <a:lnTo>
                    <a:pt x="362" y="1085"/>
                  </a:lnTo>
                  <a:lnTo>
                    <a:pt x="26" y="1562"/>
                  </a:lnTo>
                  <a:lnTo>
                    <a:pt x="0" y="1676"/>
                  </a:lnTo>
                  <a:lnTo>
                    <a:pt x="26" y="1773"/>
                  </a:lnTo>
                  <a:lnTo>
                    <a:pt x="132" y="1773"/>
                  </a:lnTo>
                  <a:lnTo>
                    <a:pt x="220" y="1663"/>
                  </a:lnTo>
                  <a:lnTo>
                    <a:pt x="362" y="1394"/>
                  </a:lnTo>
                  <a:lnTo>
                    <a:pt x="446" y="1279"/>
                  </a:lnTo>
                  <a:lnTo>
                    <a:pt x="499" y="1456"/>
                  </a:lnTo>
                  <a:lnTo>
                    <a:pt x="464" y="1645"/>
                  </a:lnTo>
                  <a:lnTo>
                    <a:pt x="321" y="1919"/>
                  </a:lnTo>
                  <a:lnTo>
                    <a:pt x="362" y="1980"/>
                  </a:lnTo>
                  <a:lnTo>
                    <a:pt x="446" y="1963"/>
                  </a:lnTo>
                  <a:lnTo>
                    <a:pt x="622" y="1822"/>
                  </a:lnTo>
                  <a:lnTo>
                    <a:pt x="768" y="1579"/>
                  </a:lnTo>
                  <a:lnTo>
                    <a:pt x="768" y="1998"/>
                  </a:lnTo>
                  <a:lnTo>
                    <a:pt x="935" y="2069"/>
                  </a:lnTo>
                  <a:lnTo>
                    <a:pt x="1037" y="1808"/>
                  </a:lnTo>
                  <a:lnTo>
                    <a:pt x="1126" y="2051"/>
                  </a:lnTo>
                  <a:lnTo>
                    <a:pt x="1197" y="1980"/>
                  </a:lnTo>
                  <a:lnTo>
                    <a:pt x="1227" y="1504"/>
                  </a:lnTo>
                  <a:lnTo>
                    <a:pt x="1439" y="1050"/>
                  </a:lnTo>
                  <a:lnTo>
                    <a:pt x="1391" y="784"/>
                  </a:lnTo>
                  <a:lnTo>
                    <a:pt x="1245" y="687"/>
                  </a:lnTo>
                  <a:lnTo>
                    <a:pt x="1091" y="701"/>
                  </a:lnTo>
                  <a:lnTo>
                    <a:pt x="1037" y="489"/>
                  </a:lnTo>
                  <a:lnTo>
                    <a:pt x="878" y="440"/>
                  </a:lnTo>
                  <a:lnTo>
                    <a:pt x="741" y="374"/>
                  </a:lnTo>
                  <a:lnTo>
                    <a:pt x="662" y="44"/>
                  </a:lnTo>
                  <a:lnTo>
                    <a:pt x="574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145280" y="1654200"/>
              <a:ext cx="154440" cy="360720"/>
            </a:xfrm>
            <a:custGeom>
              <a:avLst/>
              <a:gdLst/>
              <a:ahLst/>
              <a:rect l="0" t="0" r="r" b="b"/>
              <a:pathLst>
                <a:path w="429" h="1002">
                  <a:moveTo>
                    <a:pt x="217" y="0"/>
                  </a:moveTo>
                  <a:lnTo>
                    <a:pt x="429" y="260"/>
                  </a:lnTo>
                  <a:lnTo>
                    <a:pt x="323" y="825"/>
                  </a:lnTo>
                  <a:lnTo>
                    <a:pt x="0" y="1002"/>
                  </a:lnTo>
                  <a:lnTo>
                    <a:pt x="0" y="719"/>
                  </a:lnTo>
                  <a:lnTo>
                    <a:pt x="133" y="423"/>
                  </a:lnTo>
                  <a:lnTo>
                    <a:pt x="217" y="211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8137440" y="1446120"/>
              <a:ext cx="383040" cy="325800"/>
            </a:xfrm>
            <a:custGeom>
              <a:avLst/>
              <a:gdLst/>
              <a:ahLst/>
              <a:rect l="0" t="0" r="r" b="b"/>
              <a:pathLst>
                <a:path w="1064" h="905">
                  <a:moveTo>
                    <a:pt x="437" y="0"/>
                  </a:moveTo>
                  <a:lnTo>
                    <a:pt x="437" y="145"/>
                  </a:lnTo>
                  <a:lnTo>
                    <a:pt x="477" y="274"/>
                  </a:lnTo>
                  <a:lnTo>
                    <a:pt x="684" y="490"/>
                  </a:lnTo>
                  <a:lnTo>
                    <a:pt x="1064" y="613"/>
                  </a:lnTo>
                  <a:lnTo>
                    <a:pt x="1011" y="888"/>
                  </a:lnTo>
                  <a:lnTo>
                    <a:pt x="684" y="905"/>
                  </a:lnTo>
                  <a:lnTo>
                    <a:pt x="202" y="707"/>
                  </a:lnTo>
                  <a:lnTo>
                    <a:pt x="0" y="362"/>
                  </a:lnTo>
                  <a:lnTo>
                    <a:pt x="238" y="17"/>
                  </a:lnTo>
                  <a:lnTo>
                    <a:pt x="43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291520" y="1077840"/>
              <a:ext cx="533880" cy="717840"/>
            </a:xfrm>
            <a:custGeom>
              <a:avLst/>
              <a:gdLst/>
              <a:ahLst/>
              <a:rect l="0" t="0" r="r" b="b"/>
              <a:pathLst>
                <a:path w="1483" h="1994">
                  <a:moveTo>
                    <a:pt x="132" y="846"/>
                  </a:moveTo>
                  <a:lnTo>
                    <a:pt x="0" y="987"/>
                  </a:lnTo>
                  <a:lnTo>
                    <a:pt x="26" y="1315"/>
                  </a:lnTo>
                  <a:lnTo>
                    <a:pt x="233" y="1465"/>
                  </a:lnTo>
                  <a:lnTo>
                    <a:pt x="251" y="1958"/>
                  </a:lnTo>
                  <a:lnTo>
                    <a:pt x="464" y="1958"/>
                  </a:lnTo>
                  <a:lnTo>
                    <a:pt x="446" y="1539"/>
                  </a:lnTo>
                  <a:lnTo>
                    <a:pt x="600" y="1976"/>
                  </a:lnTo>
                  <a:lnTo>
                    <a:pt x="706" y="1994"/>
                  </a:lnTo>
                  <a:lnTo>
                    <a:pt x="777" y="1848"/>
                  </a:lnTo>
                  <a:lnTo>
                    <a:pt x="794" y="1575"/>
                  </a:lnTo>
                  <a:lnTo>
                    <a:pt x="1019" y="1831"/>
                  </a:lnTo>
                  <a:lnTo>
                    <a:pt x="1113" y="1808"/>
                  </a:lnTo>
                  <a:lnTo>
                    <a:pt x="1090" y="1632"/>
                  </a:lnTo>
                  <a:lnTo>
                    <a:pt x="1006" y="1381"/>
                  </a:lnTo>
                  <a:lnTo>
                    <a:pt x="918" y="1218"/>
                  </a:lnTo>
                  <a:lnTo>
                    <a:pt x="949" y="1103"/>
                  </a:lnTo>
                  <a:lnTo>
                    <a:pt x="1006" y="1121"/>
                  </a:lnTo>
                  <a:lnTo>
                    <a:pt x="1214" y="1381"/>
                  </a:lnTo>
                  <a:lnTo>
                    <a:pt x="1435" y="1447"/>
                  </a:lnTo>
                  <a:lnTo>
                    <a:pt x="1483" y="1363"/>
                  </a:lnTo>
                  <a:lnTo>
                    <a:pt x="1452" y="1231"/>
                  </a:lnTo>
                  <a:lnTo>
                    <a:pt x="1037" y="829"/>
                  </a:lnTo>
                  <a:lnTo>
                    <a:pt x="706" y="705"/>
                  </a:lnTo>
                  <a:lnTo>
                    <a:pt x="666" y="480"/>
                  </a:lnTo>
                  <a:lnTo>
                    <a:pt x="777" y="277"/>
                  </a:lnTo>
                  <a:lnTo>
                    <a:pt x="777" y="66"/>
                  </a:lnTo>
                  <a:lnTo>
                    <a:pt x="684" y="0"/>
                  </a:lnTo>
                  <a:lnTo>
                    <a:pt x="446" y="537"/>
                  </a:lnTo>
                  <a:lnTo>
                    <a:pt x="233" y="621"/>
                  </a:lnTo>
                  <a:lnTo>
                    <a:pt x="180" y="767"/>
                  </a:lnTo>
                  <a:lnTo>
                    <a:pt x="132" y="84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415280" y="455760"/>
              <a:ext cx="582840" cy="918000"/>
            </a:xfrm>
            <a:custGeom>
              <a:avLst/>
              <a:gdLst/>
              <a:ahLst/>
              <a:rect l="0" t="0" r="r" b="b"/>
              <a:pathLst>
                <a:path w="1619" h="2550">
                  <a:moveTo>
                    <a:pt x="405" y="352"/>
                  </a:moveTo>
                  <a:lnTo>
                    <a:pt x="282" y="843"/>
                  </a:lnTo>
                  <a:lnTo>
                    <a:pt x="17" y="940"/>
                  </a:lnTo>
                  <a:lnTo>
                    <a:pt x="88" y="1094"/>
                  </a:lnTo>
                  <a:lnTo>
                    <a:pt x="0" y="1191"/>
                  </a:lnTo>
                  <a:lnTo>
                    <a:pt x="0" y="1368"/>
                  </a:lnTo>
                  <a:lnTo>
                    <a:pt x="127" y="1531"/>
                  </a:lnTo>
                  <a:lnTo>
                    <a:pt x="251" y="1531"/>
                  </a:lnTo>
                  <a:lnTo>
                    <a:pt x="335" y="2096"/>
                  </a:lnTo>
                  <a:lnTo>
                    <a:pt x="436" y="2339"/>
                  </a:lnTo>
                  <a:lnTo>
                    <a:pt x="771" y="2550"/>
                  </a:lnTo>
                  <a:lnTo>
                    <a:pt x="1099" y="2519"/>
                  </a:lnTo>
                  <a:lnTo>
                    <a:pt x="1257" y="2096"/>
                  </a:lnTo>
                  <a:lnTo>
                    <a:pt x="1293" y="1451"/>
                  </a:lnTo>
                  <a:lnTo>
                    <a:pt x="1619" y="1129"/>
                  </a:lnTo>
                  <a:lnTo>
                    <a:pt x="1601" y="1002"/>
                  </a:lnTo>
                  <a:lnTo>
                    <a:pt x="1566" y="940"/>
                  </a:lnTo>
                  <a:lnTo>
                    <a:pt x="1394" y="927"/>
                  </a:lnTo>
                  <a:lnTo>
                    <a:pt x="1447" y="759"/>
                  </a:lnTo>
                  <a:lnTo>
                    <a:pt x="1279" y="644"/>
                  </a:lnTo>
                  <a:lnTo>
                    <a:pt x="1204" y="277"/>
                  </a:lnTo>
                  <a:lnTo>
                    <a:pt x="701" y="0"/>
                  </a:lnTo>
                  <a:lnTo>
                    <a:pt x="436" y="260"/>
                  </a:lnTo>
                  <a:lnTo>
                    <a:pt x="405" y="352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458120" y="1220760"/>
              <a:ext cx="533880" cy="1094040"/>
            </a:xfrm>
            <a:custGeom>
              <a:avLst/>
              <a:gdLst/>
              <a:ahLst/>
              <a:rect l="0" t="0" r="r" b="b"/>
              <a:pathLst>
                <a:path w="1483" h="3039">
                  <a:moveTo>
                    <a:pt x="304" y="158"/>
                  </a:moveTo>
                  <a:lnTo>
                    <a:pt x="516" y="304"/>
                  </a:lnTo>
                  <a:lnTo>
                    <a:pt x="618" y="467"/>
                  </a:lnTo>
                  <a:lnTo>
                    <a:pt x="1214" y="0"/>
                  </a:lnTo>
                  <a:lnTo>
                    <a:pt x="1399" y="97"/>
                  </a:lnTo>
                  <a:lnTo>
                    <a:pt x="1483" y="577"/>
                  </a:lnTo>
                  <a:lnTo>
                    <a:pt x="1054" y="1976"/>
                  </a:lnTo>
                  <a:lnTo>
                    <a:pt x="1192" y="2748"/>
                  </a:lnTo>
                  <a:lnTo>
                    <a:pt x="631" y="3039"/>
                  </a:lnTo>
                  <a:lnTo>
                    <a:pt x="198" y="2876"/>
                  </a:lnTo>
                  <a:lnTo>
                    <a:pt x="198" y="2055"/>
                  </a:lnTo>
                  <a:lnTo>
                    <a:pt x="0" y="1261"/>
                  </a:lnTo>
                  <a:lnTo>
                    <a:pt x="198" y="304"/>
                  </a:lnTo>
                  <a:lnTo>
                    <a:pt x="304" y="158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481880" y="334800"/>
              <a:ext cx="497160" cy="289440"/>
            </a:xfrm>
            <a:custGeom>
              <a:avLst/>
              <a:gdLst/>
              <a:ahLst/>
              <a:rect l="0" t="0" r="r" b="b"/>
              <a:pathLst>
                <a:path w="1381" h="804">
                  <a:moveTo>
                    <a:pt x="171" y="769"/>
                  </a:moveTo>
                  <a:lnTo>
                    <a:pt x="370" y="552"/>
                  </a:lnTo>
                  <a:lnTo>
                    <a:pt x="502" y="521"/>
                  </a:lnTo>
                  <a:lnTo>
                    <a:pt x="502" y="538"/>
                  </a:lnTo>
                  <a:lnTo>
                    <a:pt x="568" y="521"/>
                  </a:lnTo>
                  <a:lnTo>
                    <a:pt x="652" y="583"/>
                  </a:lnTo>
                  <a:lnTo>
                    <a:pt x="816" y="619"/>
                  </a:lnTo>
                  <a:lnTo>
                    <a:pt x="949" y="804"/>
                  </a:lnTo>
                  <a:lnTo>
                    <a:pt x="1165" y="720"/>
                  </a:lnTo>
                  <a:lnTo>
                    <a:pt x="1165" y="637"/>
                  </a:lnTo>
                  <a:lnTo>
                    <a:pt x="1381" y="538"/>
                  </a:lnTo>
                  <a:lnTo>
                    <a:pt x="1315" y="389"/>
                  </a:lnTo>
                  <a:lnTo>
                    <a:pt x="1112" y="375"/>
                  </a:lnTo>
                  <a:lnTo>
                    <a:pt x="1143" y="212"/>
                  </a:lnTo>
                  <a:lnTo>
                    <a:pt x="966" y="230"/>
                  </a:lnTo>
                  <a:lnTo>
                    <a:pt x="935" y="114"/>
                  </a:lnTo>
                  <a:lnTo>
                    <a:pt x="816" y="114"/>
                  </a:lnTo>
                  <a:lnTo>
                    <a:pt x="728" y="176"/>
                  </a:lnTo>
                  <a:lnTo>
                    <a:pt x="652" y="176"/>
                  </a:lnTo>
                  <a:lnTo>
                    <a:pt x="665" y="0"/>
                  </a:lnTo>
                  <a:lnTo>
                    <a:pt x="502" y="83"/>
                  </a:lnTo>
                  <a:lnTo>
                    <a:pt x="273" y="375"/>
                  </a:lnTo>
                  <a:lnTo>
                    <a:pt x="260" y="176"/>
                  </a:lnTo>
                  <a:lnTo>
                    <a:pt x="136" y="274"/>
                  </a:lnTo>
                  <a:lnTo>
                    <a:pt x="105" y="521"/>
                  </a:lnTo>
                  <a:lnTo>
                    <a:pt x="0" y="477"/>
                  </a:lnTo>
                  <a:lnTo>
                    <a:pt x="17" y="637"/>
                  </a:lnTo>
                  <a:lnTo>
                    <a:pt x="171" y="76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615080" y="1424160"/>
              <a:ext cx="159120" cy="827280"/>
            </a:xfrm>
            <a:custGeom>
              <a:avLst/>
              <a:gdLst/>
              <a:ahLst/>
              <a:rect l="0" t="0" r="r" b="b"/>
              <a:pathLst>
                <a:path w="442" h="2298">
                  <a:moveTo>
                    <a:pt x="225" y="13"/>
                  </a:moveTo>
                  <a:lnTo>
                    <a:pt x="74" y="114"/>
                  </a:lnTo>
                  <a:lnTo>
                    <a:pt x="74" y="304"/>
                  </a:lnTo>
                  <a:lnTo>
                    <a:pt x="181" y="370"/>
                  </a:lnTo>
                  <a:lnTo>
                    <a:pt x="39" y="674"/>
                  </a:lnTo>
                  <a:lnTo>
                    <a:pt x="0" y="1075"/>
                  </a:lnTo>
                  <a:lnTo>
                    <a:pt x="111" y="1610"/>
                  </a:lnTo>
                  <a:lnTo>
                    <a:pt x="111" y="1831"/>
                  </a:lnTo>
                  <a:lnTo>
                    <a:pt x="52" y="2003"/>
                  </a:lnTo>
                  <a:lnTo>
                    <a:pt x="278" y="2298"/>
                  </a:lnTo>
                  <a:lnTo>
                    <a:pt x="425" y="1848"/>
                  </a:lnTo>
                  <a:lnTo>
                    <a:pt x="425" y="1544"/>
                  </a:lnTo>
                  <a:lnTo>
                    <a:pt x="318" y="1257"/>
                  </a:lnTo>
                  <a:lnTo>
                    <a:pt x="265" y="868"/>
                  </a:lnTo>
                  <a:lnTo>
                    <a:pt x="372" y="489"/>
                  </a:lnTo>
                  <a:lnTo>
                    <a:pt x="337" y="339"/>
                  </a:lnTo>
                  <a:lnTo>
                    <a:pt x="442" y="260"/>
                  </a:lnTo>
                  <a:lnTo>
                    <a:pt x="425" y="158"/>
                  </a:lnTo>
                  <a:lnTo>
                    <a:pt x="296" y="0"/>
                  </a:lnTo>
                  <a:lnTo>
                    <a:pt x="225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610400" y="1146240"/>
              <a:ext cx="127440" cy="74880"/>
            </a:xfrm>
            <a:custGeom>
              <a:avLst/>
              <a:gdLst/>
              <a:ahLst/>
              <a:rect l="0" t="0" r="r" b="b"/>
              <a:pathLst>
                <a:path w="354" h="208">
                  <a:moveTo>
                    <a:pt x="0" y="61"/>
                  </a:moveTo>
                  <a:lnTo>
                    <a:pt x="142" y="208"/>
                  </a:lnTo>
                  <a:lnTo>
                    <a:pt x="284" y="190"/>
                  </a:lnTo>
                  <a:lnTo>
                    <a:pt x="354" y="17"/>
                  </a:lnTo>
                  <a:lnTo>
                    <a:pt x="199" y="0"/>
                  </a:lnTo>
                  <a:lnTo>
                    <a:pt x="35" y="17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469280" y="763560"/>
              <a:ext cx="159120" cy="162360"/>
            </a:xfrm>
            <a:custGeom>
              <a:avLst/>
              <a:gdLst/>
              <a:ahLst/>
              <a:rect l="0" t="0" r="r" b="b"/>
              <a:pathLst>
                <a:path w="442" h="451">
                  <a:moveTo>
                    <a:pt x="0" y="48"/>
                  </a:moveTo>
                  <a:lnTo>
                    <a:pt x="305" y="451"/>
                  </a:lnTo>
                  <a:lnTo>
                    <a:pt x="442" y="420"/>
                  </a:lnTo>
                  <a:lnTo>
                    <a:pt x="124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750080" y="728640"/>
              <a:ext cx="136800" cy="162360"/>
            </a:xfrm>
            <a:custGeom>
              <a:avLst/>
              <a:gdLst/>
              <a:ahLst/>
              <a:rect l="0" t="0" r="r" b="b"/>
              <a:pathLst>
                <a:path w="380" h="451">
                  <a:moveTo>
                    <a:pt x="0" y="66"/>
                  </a:moveTo>
                  <a:lnTo>
                    <a:pt x="265" y="451"/>
                  </a:lnTo>
                  <a:lnTo>
                    <a:pt x="380" y="350"/>
                  </a:lnTo>
                  <a:lnTo>
                    <a:pt x="105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412040" y="520560"/>
              <a:ext cx="555840" cy="405000"/>
            </a:xfrm>
            <a:custGeom>
              <a:avLst/>
              <a:gdLst/>
              <a:ahLst/>
              <a:rect l="0" t="0" r="r" b="b"/>
              <a:pathLst>
                <a:path w="1544" h="1125">
                  <a:moveTo>
                    <a:pt x="709" y="666"/>
                  </a:moveTo>
                  <a:lnTo>
                    <a:pt x="568" y="627"/>
                  </a:lnTo>
                  <a:lnTo>
                    <a:pt x="687" y="524"/>
                  </a:lnTo>
                  <a:lnTo>
                    <a:pt x="643" y="471"/>
                  </a:lnTo>
                  <a:lnTo>
                    <a:pt x="485" y="605"/>
                  </a:lnTo>
                  <a:lnTo>
                    <a:pt x="194" y="636"/>
                  </a:lnTo>
                  <a:lnTo>
                    <a:pt x="0" y="644"/>
                  </a:lnTo>
                  <a:lnTo>
                    <a:pt x="0" y="799"/>
                  </a:lnTo>
                  <a:lnTo>
                    <a:pt x="185" y="1116"/>
                  </a:lnTo>
                  <a:lnTo>
                    <a:pt x="229" y="1125"/>
                  </a:lnTo>
                  <a:lnTo>
                    <a:pt x="66" y="777"/>
                  </a:lnTo>
                  <a:lnTo>
                    <a:pt x="321" y="666"/>
                  </a:lnTo>
                  <a:lnTo>
                    <a:pt x="485" y="666"/>
                  </a:lnTo>
                  <a:lnTo>
                    <a:pt x="612" y="737"/>
                  </a:lnTo>
                  <a:lnTo>
                    <a:pt x="643" y="834"/>
                  </a:lnTo>
                  <a:lnTo>
                    <a:pt x="643" y="1046"/>
                  </a:lnTo>
                  <a:lnTo>
                    <a:pt x="643" y="1116"/>
                  </a:lnTo>
                  <a:lnTo>
                    <a:pt x="718" y="1015"/>
                  </a:lnTo>
                  <a:lnTo>
                    <a:pt x="718" y="790"/>
                  </a:lnTo>
                  <a:lnTo>
                    <a:pt x="825" y="790"/>
                  </a:lnTo>
                  <a:lnTo>
                    <a:pt x="878" y="1046"/>
                  </a:lnTo>
                  <a:lnTo>
                    <a:pt x="940" y="1072"/>
                  </a:lnTo>
                  <a:lnTo>
                    <a:pt x="1125" y="1072"/>
                  </a:lnTo>
                  <a:lnTo>
                    <a:pt x="1319" y="1024"/>
                  </a:lnTo>
                  <a:lnTo>
                    <a:pt x="1451" y="927"/>
                  </a:lnTo>
                  <a:lnTo>
                    <a:pt x="1473" y="702"/>
                  </a:lnTo>
                  <a:lnTo>
                    <a:pt x="1544" y="605"/>
                  </a:lnTo>
                  <a:lnTo>
                    <a:pt x="1500" y="542"/>
                  </a:lnTo>
                  <a:lnTo>
                    <a:pt x="1328" y="480"/>
                  </a:lnTo>
                  <a:lnTo>
                    <a:pt x="1301" y="251"/>
                  </a:lnTo>
                  <a:lnTo>
                    <a:pt x="1138" y="251"/>
                  </a:lnTo>
                  <a:lnTo>
                    <a:pt x="949" y="0"/>
                  </a:lnTo>
                  <a:lnTo>
                    <a:pt x="1125" y="277"/>
                  </a:lnTo>
                  <a:lnTo>
                    <a:pt x="1178" y="277"/>
                  </a:lnTo>
                  <a:lnTo>
                    <a:pt x="1218" y="471"/>
                  </a:lnTo>
                  <a:lnTo>
                    <a:pt x="997" y="542"/>
                  </a:lnTo>
                  <a:lnTo>
                    <a:pt x="838" y="489"/>
                  </a:lnTo>
                  <a:lnTo>
                    <a:pt x="816" y="542"/>
                  </a:lnTo>
                  <a:lnTo>
                    <a:pt x="900" y="605"/>
                  </a:lnTo>
                  <a:lnTo>
                    <a:pt x="900" y="658"/>
                  </a:lnTo>
                  <a:lnTo>
                    <a:pt x="1085" y="574"/>
                  </a:lnTo>
                  <a:lnTo>
                    <a:pt x="1240" y="555"/>
                  </a:lnTo>
                  <a:lnTo>
                    <a:pt x="1416" y="583"/>
                  </a:lnTo>
                  <a:lnTo>
                    <a:pt x="1416" y="613"/>
                  </a:lnTo>
                  <a:lnTo>
                    <a:pt x="1332" y="693"/>
                  </a:lnTo>
                  <a:lnTo>
                    <a:pt x="1301" y="790"/>
                  </a:lnTo>
                  <a:lnTo>
                    <a:pt x="1293" y="927"/>
                  </a:lnTo>
                  <a:lnTo>
                    <a:pt x="1191" y="984"/>
                  </a:lnTo>
                  <a:lnTo>
                    <a:pt x="1041" y="1002"/>
                  </a:lnTo>
                  <a:lnTo>
                    <a:pt x="940" y="1002"/>
                  </a:lnTo>
                  <a:lnTo>
                    <a:pt x="904" y="962"/>
                  </a:lnTo>
                  <a:lnTo>
                    <a:pt x="878" y="702"/>
                  </a:lnTo>
                  <a:lnTo>
                    <a:pt x="718" y="702"/>
                  </a:lnTo>
                  <a:lnTo>
                    <a:pt x="709" y="6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602480" y="987480"/>
              <a:ext cx="179640" cy="82800"/>
            </a:xfrm>
            <a:custGeom>
              <a:avLst/>
              <a:gdLst/>
              <a:ahLst/>
              <a:rect l="0" t="0" r="r" b="b"/>
              <a:pathLst>
                <a:path w="499" h="230">
                  <a:moveTo>
                    <a:pt x="0" y="0"/>
                  </a:moveTo>
                  <a:lnTo>
                    <a:pt x="79" y="105"/>
                  </a:lnTo>
                  <a:lnTo>
                    <a:pt x="296" y="105"/>
                  </a:lnTo>
                  <a:lnTo>
                    <a:pt x="384" y="30"/>
                  </a:lnTo>
                  <a:lnTo>
                    <a:pt x="499" y="30"/>
                  </a:lnTo>
                  <a:lnTo>
                    <a:pt x="477" y="70"/>
                  </a:lnTo>
                  <a:lnTo>
                    <a:pt x="477" y="105"/>
                  </a:lnTo>
                  <a:lnTo>
                    <a:pt x="278" y="230"/>
                  </a:lnTo>
                  <a:lnTo>
                    <a:pt x="167" y="230"/>
                  </a:lnTo>
                  <a:lnTo>
                    <a:pt x="105" y="186"/>
                  </a:lnTo>
                  <a:lnTo>
                    <a:pt x="44" y="1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402680" y="853920"/>
              <a:ext cx="271800" cy="437040"/>
            </a:xfrm>
            <a:custGeom>
              <a:avLst/>
              <a:gdLst/>
              <a:ahLst/>
              <a:rect l="0" t="0" r="r" b="b"/>
              <a:pathLst>
                <a:path w="755" h="1214">
                  <a:moveTo>
                    <a:pt x="755" y="88"/>
                  </a:moveTo>
                  <a:lnTo>
                    <a:pt x="755" y="105"/>
                  </a:lnTo>
                  <a:lnTo>
                    <a:pt x="622" y="229"/>
                  </a:lnTo>
                  <a:lnTo>
                    <a:pt x="512" y="251"/>
                  </a:lnTo>
                  <a:lnTo>
                    <a:pt x="299" y="220"/>
                  </a:lnTo>
                  <a:lnTo>
                    <a:pt x="339" y="653"/>
                  </a:lnTo>
                  <a:lnTo>
                    <a:pt x="389" y="1016"/>
                  </a:lnTo>
                  <a:lnTo>
                    <a:pt x="481" y="1214"/>
                  </a:lnTo>
                  <a:lnTo>
                    <a:pt x="389" y="1073"/>
                  </a:lnTo>
                  <a:lnTo>
                    <a:pt x="352" y="923"/>
                  </a:lnTo>
                  <a:lnTo>
                    <a:pt x="291" y="512"/>
                  </a:lnTo>
                  <a:lnTo>
                    <a:pt x="229" y="534"/>
                  </a:lnTo>
                  <a:lnTo>
                    <a:pt x="158" y="490"/>
                  </a:lnTo>
                  <a:lnTo>
                    <a:pt x="17" y="273"/>
                  </a:lnTo>
                  <a:lnTo>
                    <a:pt x="0" y="154"/>
                  </a:lnTo>
                  <a:lnTo>
                    <a:pt x="0" y="74"/>
                  </a:lnTo>
                  <a:lnTo>
                    <a:pt x="30" y="22"/>
                  </a:lnTo>
                  <a:lnTo>
                    <a:pt x="119" y="0"/>
                  </a:lnTo>
                  <a:lnTo>
                    <a:pt x="127" y="30"/>
                  </a:lnTo>
                  <a:lnTo>
                    <a:pt x="61" y="52"/>
                  </a:lnTo>
                  <a:lnTo>
                    <a:pt x="44" y="145"/>
                  </a:lnTo>
                  <a:lnTo>
                    <a:pt x="52" y="260"/>
                  </a:lnTo>
                  <a:lnTo>
                    <a:pt x="149" y="362"/>
                  </a:lnTo>
                  <a:lnTo>
                    <a:pt x="194" y="340"/>
                  </a:lnTo>
                  <a:lnTo>
                    <a:pt x="194" y="119"/>
                  </a:lnTo>
                  <a:lnTo>
                    <a:pt x="282" y="163"/>
                  </a:lnTo>
                  <a:lnTo>
                    <a:pt x="424" y="198"/>
                  </a:lnTo>
                  <a:lnTo>
                    <a:pt x="547" y="189"/>
                  </a:lnTo>
                  <a:lnTo>
                    <a:pt x="671" y="119"/>
                  </a:lnTo>
                  <a:lnTo>
                    <a:pt x="755" y="8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475400" y="507960"/>
              <a:ext cx="81360" cy="233640"/>
            </a:xfrm>
            <a:custGeom>
              <a:avLst/>
              <a:gdLst/>
              <a:ahLst/>
              <a:rect l="0" t="0" r="r" b="b"/>
              <a:pathLst>
                <a:path w="226" h="649">
                  <a:moveTo>
                    <a:pt x="115" y="649"/>
                  </a:moveTo>
                  <a:lnTo>
                    <a:pt x="226" y="264"/>
                  </a:lnTo>
                  <a:lnTo>
                    <a:pt x="26" y="127"/>
                  </a:lnTo>
                  <a:lnTo>
                    <a:pt x="0" y="0"/>
                  </a:lnTo>
                  <a:lnTo>
                    <a:pt x="17" y="154"/>
                  </a:lnTo>
                  <a:lnTo>
                    <a:pt x="80" y="220"/>
                  </a:lnTo>
                  <a:lnTo>
                    <a:pt x="89" y="415"/>
                  </a:lnTo>
                  <a:lnTo>
                    <a:pt x="137" y="494"/>
                  </a:lnTo>
                  <a:lnTo>
                    <a:pt x="115" y="64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472520" y="304920"/>
              <a:ext cx="609840" cy="306720"/>
            </a:xfrm>
            <a:custGeom>
              <a:avLst/>
              <a:gdLst/>
              <a:ahLst/>
              <a:rect l="0" t="0" r="r" b="b"/>
              <a:pathLst>
                <a:path w="1694" h="852">
                  <a:moveTo>
                    <a:pt x="17" y="578"/>
                  </a:moveTo>
                  <a:lnTo>
                    <a:pt x="163" y="662"/>
                  </a:lnTo>
                  <a:lnTo>
                    <a:pt x="145" y="556"/>
                  </a:lnTo>
                  <a:lnTo>
                    <a:pt x="176" y="361"/>
                  </a:lnTo>
                  <a:lnTo>
                    <a:pt x="273" y="321"/>
                  </a:lnTo>
                  <a:lnTo>
                    <a:pt x="282" y="525"/>
                  </a:lnTo>
                  <a:lnTo>
                    <a:pt x="568" y="163"/>
                  </a:lnTo>
                  <a:lnTo>
                    <a:pt x="635" y="141"/>
                  </a:lnTo>
                  <a:lnTo>
                    <a:pt x="582" y="282"/>
                  </a:lnTo>
                  <a:lnTo>
                    <a:pt x="762" y="352"/>
                  </a:lnTo>
                  <a:lnTo>
                    <a:pt x="891" y="211"/>
                  </a:lnTo>
                  <a:lnTo>
                    <a:pt x="962" y="251"/>
                  </a:lnTo>
                  <a:lnTo>
                    <a:pt x="900" y="374"/>
                  </a:lnTo>
                  <a:lnTo>
                    <a:pt x="984" y="308"/>
                  </a:lnTo>
                  <a:lnTo>
                    <a:pt x="1112" y="361"/>
                  </a:lnTo>
                  <a:lnTo>
                    <a:pt x="1010" y="464"/>
                  </a:lnTo>
                  <a:lnTo>
                    <a:pt x="1359" y="525"/>
                  </a:lnTo>
                  <a:lnTo>
                    <a:pt x="1125" y="600"/>
                  </a:lnTo>
                  <a:lnTo>
                    <a:pt x="1416" y="640"/>
                  </a:lnTo>
                  <a:lnTo>
                    <a:pt x="1072" y="724"/>
                  </a:lnTo>
                  <a:lnTo>
                    <a:pt x="1143" y="785"/>
                  </a:lnTo>
                  <a:lnTo>
                    <a:pt x="1041" y="852"/>
                  </a:lnTo>
                  <a:lnTo>
                    <a:pt x="1222" y="852"/>
                  </a:lnTo>
                  <a:lnTo>
                    <a:pt x="1204" y="803"/>
                  </a:lnTo>
                  <a:lnTo>
                    <a:pt x="1385" y="847"/>
                  </a:lnTo>
                  <a:lnTo>
                    <a:pt x="1359" y="710"/>
                  </a:lnTo>
                  <a:lnTo>
                    <a:pt x="1526" y="649"/>
                  </a:lnTo>
                  <a:lnTo>
                    <a:pt x="1407" y="587"/>
                  </a:lnTo>
                  <a:lnTo>
                    <a:pt x="1694" y="569"/>
                  </a:lnTo>
                  <a:lnTo>
                    <a:pt x="1447" y="433"/>
                  </a:lnTo>
                  <a:lnTo>
                    <a:pt x="1165" y="396"/>
                  </a:lnTo>
                  <a:lnTo>
                    <a:pt x="1385" y="260"/>
                  </a:lnTo>
                  <a:lnTo>
                    <a:pt x="984" y="260"/>
                  </a:lnTo>
                  <a:lnTo>
                    <a:pt x="1173" y="127"/>
                  </a:lnTo>
                  <a:lnTo>
                    <a:pt x="882" y="163"/>
                  </a:lnTo>
                  <a:lnTo>
                    <a:pt x="745" y="229"/>
                  </a:lnTo>
                  <a:lnTo>
                    <a:pt x="865" y="0"/>
                  </a:lnTo>
                  <a:lnTo>
                    <a:pt x="511" y="127"/>
                  </a:lnTo>
                  <a:lnTo>
                    <a:pt x="317" y="405"/>
                  </a:lnTo>
                  <a:lnTo>
                    <a:pt x="282" y="251"/>
                  </a:lnTo>
                  <a:lnTo>
                    <a:pt x="123" y="361"/>
                  </a:lnTo>
                  <a:lnTo>
                    <a:pt x="105" y="569"/>
                  </a:lnTo>
                  <a:lnTo>
                    <a:pt x="0" y="525"/>
                  </a:lnTo>
                  <a:lnTo>
                    <a:pt x="35" y="710"/>
                  </a:lnTo>
                  <a:lnTo>
                    <a:pt x="17" y="57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605720" y="468360"/>
              <a:ext cx="171720" cy="92520"/>
            </a:xfrm>
            <a:custGeom>
              <a:avLst/>
              <a:gdLst/>
              <a:ahLst/>
              <a:rect l="0" t="0" r="r" b="b"/>
              <a:pathLst>
                <a:path w="477" h="257">
                  <a:moveTo>
                    <a:pt x="0" y="257"/>
                  </a:moveTo>
                  <a:lnTo>
                    <a:pt x="176" y="0"/>
                  </a:lnTo>
                  <a:lnTo>
                    <a:pt x="176" y="168"/>
                  </a:lnTo>
                  <a:lnTo>
                    <a:pt x="243" y="102"/>
                  </a:lnTo>
                  <a:lnTo>
                    <a:pt x="300" y="200"/>
                  </a:lnTo>
                  <a:lnTo>
                    <a:pt x="477" y="244"/>
                  </a:lnTo>
                  <a:lnTo>
                    <a:pt x="287" y="213"/>
                  </a:lnTo>
                  <a:lnTo>
                    <a:pt x="229" y="146"/>
                  </a:lnTo>
                  <a:lnTo>
                    <a:pt x="149" y="213"/>
                  </a:lnTo>
                  <a:lnTo>
                    <a:pt x="149" y="133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589880" y="1093680"/>
              <a:ext cx="206640" cy="136800"/>
            </a:xfrm>
            <a:custGeom>
              <a:avLst/>
              <a:gdLst/>
              <a:ahLst/>
              <a:rect l="0" t="0" r="r" b="b"/>
              <a:pathLst>
                <a:path w="574" h="380">
                  <a:moveTo>
                    <a:pt x="110" y="132"/>
                  </a:moveTo>
                  <a:lnTo>
                    <a:pt x="344" y="114"/>
                  </a:lnTo>
                  <a:lnTo>
                    <a:pt x="459" y="141"/>
                  </a:lnTo>
                  <a:lnTo>
                    <a:pt x="512" y="88"/>
                  </a:lnTo>
                  <a:lnTo>
                    <a:pt x="574" y="212"/>
                  </a:lnTo>
                  <a:lnTo>
                    <a:pt x="534" y="234"/>
                  </a:lnTo>
                  <a:lnTo>
                    <a:pt x="486" y="185"/>
                  </a:lnTo>
                  <a:lnTo>
                    <a:pt x="411" y="274"/>
                  </a:lnTo>
                  <a:lnTo>
                    <a:pt x="264" y="380"/>
                  </a:lnTo>
                  <a:lnTo>
                    <a:pt x="202" y="380"/>
                  </a:lnTo>
                  <a:lnTo>
                    <a:pt x="110" y="327"/>
                  </a:lnTo>
                  <a:lnTo>
                    <a:pt x="216" y="371"/>
                  </a:lnTo>
                  <a:lnTo>
                    <a:pt x="255" y="371"/>
                  </a:lnTo>
                  <a:lnTo>
                    <a:pt x="344" y="300"/>
                  </a:lnTo>
                  <a:lnTo>
                    <a:pt x="406" y="171"/>
                  </a:lnTo>
                  <a:lnTo>
                    <a:pt x="314" y="154"/>
                  </a:lnTo>
                  <a:lnTo>
                    <a:pt x="251" y="141"/>
                  </a:lnTo>
                  <a:lnTo>
                    <a:pt x="97" y="163"/>
                  </a:lnTo>
                  <a:lnTo>
                    <a:pt x="92" y="265"/>
                  </a:lnTo>
                  <a:lnTo>
                    <a:pt x="44" y="203"/>
                  </a:lnTo>
                  <a:lnTo>
                    <a:pt x="0" y="287"/>
                  </a:lnTo>
                  <a:lnTo>
                    <a:pt x="4" y="101"/>
                  </a:lnTo>
                  <a:lnTo>
                    <a:pt x="61" y="0"/>
                  </a:lnTo>
                  <a:lnTo>
                    <a:pt x="110" y="101"/>
                  </a:lnTo>
                  <a:lnTo>
                    <a:pt x="110" y="13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562880" y="797040"/>
              <a:ext cx="443160" cy="633600"/>
            </a:xfrm>
            <a:custGeom>
              <a:avLst/>
              <a:gdLst/>
              <a:ahLst/>
              <a:rect l="0" t="0" r="r" b="b"/>
              <a:pathLst>
                <a:path w="1231" h="1760">
                  <a:moveTo>
                    <a:pt x="1037" y="0"/>
                  </a:moveTo>
                  <a:lnTo>
                    <a:pt x="1160" y="0"/>
                  </a:lnTo>
                  <a:lnTo>
                    <a:pt x="1231" y="88"/>
                  </a:lnTo>
                  <a:lnTo>
                    <a:pt x="1231" y="180"/>
                  </a:lnTo>
                  <a:lnTo>
                    <a:pt x="1129" y="458"/>
                  </a:lnTo>
                  <a:lnTo>
                    <a:pt x="1028" y="590"/>
                  </a:lnTo>
                  <a:lnTo>
                    <a:pt x="922" y="608"/>
                  </a:lnTo>
                  <a:lnTo>
                    <a:pt x="896" y="608"/>
                  </a:lnTo>
                  <a:lnTo>
                    <a:pt x="896" y="957"/>
                  </a:lnTo>
                  <a:lnTo>
                    <a:pt x="944" y="1209"/>
                  </a:lnTo>
                  <a:lnTo>
                    <a:pt x="944" y="1412"/>
                  </a:lnTo>
                  <a:lnTo>
                    <a:pt x="759" y="1619"/>
                  </a:lnTo>
                  <a:lnTo>
                    <a:pt x="502" y="1760"/>
                  </a:lnTo>
                  <a:lnTo>
                    <a:pt x="339" y="1760"/>
                  </a:lnTo>
                  <a:lnTo>
                    <a:pt x="260" y="1720"/>
                  </a:lnTo>
                  <a:lnTo>
                    <a:pt x="145" y="1478"/>
                  </a:lnTo>
                  <a:lnTo>
                    <a:pt x="39" y="1390"/>
                  </a:lnTo>
                  <a:lnTo>
                    <a:pt x="0" y="1328"/>
                  </a:lnTo>
                  <a:lnTo>
                    <a:pt x="136" y="1412"/>
                  </a:lnTo>
                  <a:lnTo>
                    <a:pt x="238" y="1500"/>
                  </a:lnTo>
                  <a:lnTo>
                    <a:pt x="432" y="1513"/>
                  </a:lnTo>
                  <a:lnTo>
                    <a:pt x="612" y="1425"/>
                  </a:lnTo>
                  <a:lnTo>
                    <a:pt x="706" y="1328"/>
                  </a:lnTo>
                  <a:lnTo>
                    <a:pt x="807" y="1147"/>
                  </a:lnTo>
                  <a:lnTo>
                    <a:pt x="821" y="935"/>
                  </a:lnTo>
                  <a:lnTo>
                    <a:pt x="860" y="260"/>
                  </a:lnTo>
                  <a:lnTo>
                    <a:pt x="904" y="357"/>
                  </a:lnTo>
                  <a:lnTo>
                    <a:pt x="1024" y="233"/>
                  </a:lnTo>
                  <a:lnTo>
                    <a:pt x="1151" y="180"/>
                  </a:lnTo>
                  <a:lnTo>
                    <a:pt x="1182" y="110"/>
                  </a:lnTo>
                  <a:lnTo>
                    <a:pt x="1165" y="39"/>
                  </a:lnTo>
                  <a:lnTo>
                    <a:pt x="1112" y="8"/>
                  </a:lnTo>
                  <a:lnTo>
                    <a:pt x="103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875640" y="1343160"/>
              <a:ext cx="357480" cy="586080"/>
            </a:xfrm>
            <a:custGeom>
              <a:avLst/>
              <a:gdLst/>
              <a:ahLst/>
              <a:rect l="0" t="0" r="r" b="b"/>
              <a:pathLst>
                <a:path w="993" h="1628">
                  <a:moveTo>
                    <a:pt x="123" y="0"/>
                  </a:moveTo>
                  <a:lnTo>
                    <a:pt x="238" y="74"/>
                  </a:lnTo>
                  <a:lnTo>
                    <a:pt x="321" y="405"/>
                  </a:lnTo>
                  <a:lnTo>
                    <a:pt x="578" y="480"/>
                  </a:lnTo>
                  <a:lnTo>
                    <a:pt x="653" y="568"/>
                  </a:lnTo>
                  <a:lnTo>
                    <a:pt x="666" y="687"/>
                  </a:lnTo>
                  <a:lnTo>
                    <a:pt x="790" y="670"/>
                  </a:lnTo>
                  <a:lnTo>
                    <a:pt x="944" y="776"/>
                  </a:lnTo>
                  <a:lnTo>
                    <a:pt x="993" y="909"/>
                  </a:lnTo>
                  <a:lnTo>
                    <a:pt x="993" y="1138"/>
                  </a:lnTo>
                  <a:lnTo>
                    <a:pt x="790" y="1487"/>
                  </a:lnTo>
                  <a:lnTo>
                    <a:pt x="724" y="1628"/>
                  </a:lnTo>
                  <a:lnTo>
                    <a:pt x="759" y="1438"/>
                  </a:lnTo>
                  <a:lnTo>
                    <a:pt x="724" y="1368"/>
                  </a:lnTo>
                  <a:lnTo>
                    <a:pt x="600" y="1248"/>
                  </a:lnTo>
                  <a:lnTo>
                    <a:pt x="405" y="1107"/>
                  </a:lnTo>
                  <a:lnTo>
                    <a:pt x="640" y="1187"/>
                  </a:lnTo>
                  <a:lnTo>
                    <a:pt x="777" y="1293"/>
                  </a:lnTo>
                  <a:lnTo>
                    <a:pt x="847" y="1279"/>
                  </a:lnTo>
                  <a:lnTo>
                    <a:pt x="891" y="1222"/>
                  </a:lnTo>
                  <a:lnTo>
                    <a:pt x="944" y="1054"/>
                  </a:lnTo>
                  <a:lnTo>
                    <a:pt x="927" y="896"/>
                  </a:lnTo>
                  <a:lnTo>
                    <a:pt x="856" y="802"/>
                  </a:lnTo>
                  <a:lnTo>
                    <a:pt x="733" y="776"/>
                  </a:lnTo>
                  <a:lnTo>
                    <a:pt x="600" y="776"/>
                  </a:lnTo>
                  <a:lnTo>
                    <a:pt x="556" y="533"/>
                  </a:lnTo>
                  <a:lnTo>
                    <a:pt x="335" y="454"/>
                  </a:lnTo>
                  <a:lnTo>
                    <a:pt x="335" y="520"/>
                  </a:lnTo>
                  <a:lnTo>
                    <a:pt x="238" y="348"/>
                  </a:lnTo>
                  <a:lnTo>
                    <a:pt x="180" y="74"/>
                  </a:lnTo>
                  <a:lnTo>
                    <a:pt x="97" y="44"/>
                  </a:lnTo>
                  <a:lnTo>
                    <a:pt x="48" y="127"/>
                  </a:lnTo>
                  <a:lnTo>
                    <a:pt x="48" y="317"/>
                  </a:lnTo>
                  <a:lnTo>
                    <a:pt x="88" y="520"/>
                  </a:lnTo>
                  <a:lnTo>
                    <a:pt x="207" y="687"/>
                  </a:lnTo>
                  <a:lnTo>
                    <a:pt x="74" y="586"/>
                  </a:lnTo>
                  <a:lnTo>
                    <a:pt x="13" y="405"/>
                  </a:lnTo>
                  <a:lnTo>
                    <a:pt x="0" y="171"/>
                  </a:lnTo>
                  <a:lnTo>
                    <a:pt x="48" y="44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705720" y="1601640"/>
              <a:ext cx="236880" cy="468720"/>
            </a:xfrm>
            <a:custGeom>
              <a:avLst/>
              <a:gdLst/>
              <a:ahLst/>
              <a:rect l="0" t="0" r="r" b="b"/>
              <a:pathLst>
                <a:path w="658" h="1302">
                  <a:moveTo>
                    <a:pt x="658" y="0"/>
                  </a:moveTo>
                  <a:lnTo>
                    <a:pt x="521" y="88"/>
                  </a:lnTo>
                  <a:lnTo>
                    <a:pt x="362" y="402"/>
                  </a:lnTo>
                  <a:lnTo>
                    <a:pt x="207" y="609"/>
                  </a:lnTo>
                  <a:lnTo>
                    <a:pt x="17" y="856"/>
                  </a:lnTo>
                  <a:lnTo>
                    <a:pt x="0" y="985"/>
                  </a:lnTo>
                  <a:lnTo>
                    <a:pt x="35" y="1095"/>
                  </a:lnTo>
                  <a:lnTo>
                    <a:pt x="127" y="1095"/>
                  </a:lnTo>
                  <a:lnTo>
                    <a:pt x="251" y="985"/>
                  </a:lnTo>
                  <a:lnTo>
                    <a:pt x="349" y="750"/>
                  </a:lnTo>
                  <a:lnTo>
                    <a:pt x="486" y="609"/>
                  </a:lnTo>
                  <a:lnTo>
                    <a:pt x="486" y="794"/>
                  </a:lnTo>
                  <a:lnTo>
                    <a:pt x="464" y="966"/>
                  </a:lnTo>
                  <a:lnTo>
                    <a:pt x="321" y="1197"/>
                  </a:lnTo>
                  <a:lnTo>
                    <a:pt x="321" y="1272"/>
                  </a:lnTo>
                  <a:lnTo>
                    <a:pt x="464" y="1302"/>
                  </a:lnTo>
                  <a:lnTo>
                    <a:pt x="362" y="1236"/>
                  </a:lnTo>
                  <a:lnTo>
                    <a:pt x="380" y="1197"/>
                  </a:lnTo>
                  <a:lnTo>
                    <a:pt x="477" y="1029"/>
                  </a:lnTo>
                  <a:lnTo>
                    <a:pt x="543" y="724"/>
                  </a:lnTo>
                  <a:lnTo>
                    <a:pt x="494" y="547"/>
                  </a:lnTo>
                  <a:lnTo>
                    <a:pt x="389" y="649"/>
                  </a:lnTo>
                  <a:lnTo>
                    <a:pt x="154" y="1038"/>
                  </a:lnTo>
                  <a:lnTo>
                    <a:pt x="92" y="1051"/>
                  </a:lnTo>
                  <a:lnTo>
                    <a:pt x="35" y="1011"/>
                  </a:lnTo>
                  <a:lnTo>
                    <a:pt x="35" y="891"/>
                  </a:lnTo>
                  <a:lnTo>
                    <a:pt x="127" y="737"/>
                  </a:lnTo>
                  <a:lnTo>
                    <a:pt x="389" y="419"/>
                  </a:lnTo>
                  <a:lnTo>
                    <a:pt x="543" y="119"/>
                  </a:lnTo>
                  <a:lnTo>
                    <a:pt x="65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880320" y="1865160"/>
              <a:ext cx="146520" cy="225720"/>
            </a:xfrm>
            <a:custGeom>
              <a:avLst/>
              <a:gdLst/>
              <a:ahLst/>
              <a:rect l="0" t="0" r="r" b="b"/>
              <a:pathLst>
                <a:path w="407" h="627">
                  <a:moveTo>
                    <a:pt x="0" y="552"/>
                  </a:moveTo>
                  <a:lnTo>
                    <a:pt x="133" y="393"/>
                  </a:lnTo>
                  <a:lnTo>
                    <a:pt x="159" y="233"/>
                  </a:lnTo>
                  <a:lnTo>
                    <a:pt x="315" y="0"/>
                  </a:lnTo>
                  <a:lnTo>
                    <a:pt x="345" y="154"/>
                  </a:lnTo>
                  <a:lnTo>
                    <a:pt x="328" y="565"/>
                  </a:lnTo>
                  <a:lnTo>
                    <a:pt x="407" y="627"/>
                  </a:lnTo>
                  <a:lnTo>
                    <a:pt x="287" y="583"/>
                  </a:lnTo>
                  <a:lnTo>
                    <a:pt x="230" y="349"/>
                  </a:lnTo>
                  <a:lnTo>
                    <a:pt x="133" y="464"/>
                  </a:lnTo>
                  <a:lnTo>
                    <a:pt x="0" y="55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059600" y="1878120"/>
              <a:ext cx="97200" cy="201960"/>
            </a:xfrm>
            <a:custGeom>
              <a:avLst/>
              <a:gdLst/>
              <a:ahLst/>
              <a:rect l="0" t="0" r="r" b="b"/>
              <a:pathLst>
                <a:path w="270" h="561">
                  <a:moveTo>
                    <a:pt x="0" y="419"/>
                  </a:moveTo>
                  <a:lnTo>
                    <a:pt x="13" y="216"/>
                  </a:lnTo>
                  <a:lnTo>
                    <a:pt x="71" y="92"/>
                  </a:lnTo>
                  <a:lnTo>
                    <a:pt x="133" y="534"/>
                  </a:lnTo>
                  <a:lnTo>
                    <a:pt x="213" y="534"/>
                  </a:lnTo>
                  <a:lnTo>
                    <a:pt x="248" y="61"/>
                  </a:lnTo>
                  <a:lnTo>
                    <a:pt x="270" y="0"/>
                  </a:lnTo>
                  <a:lnTo>
                    <a:pt x="248" y="367"/>
                  </a:lnTo>
                  <a:lnTo>
                    <a:pt x="213" y="561"/>
                  </a:lnTo>
                  <a:lnTo>
                    <a:pt x="106" y="561"/>
                  </a:lnTo>
                  <a:lnTo>
                    <a:pt x="61" y="171"/>
                  </a:lnTo>
                  <a:lnTo>
                    <a:pt x="30" y="229"/>
                  </a:lnTo>
                  <a:lnTo>
                    <a:pt x="0" y="41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8290080" y="1082520"/>
              <a:ext cx="233640" cy="540000"/>
            </a:xfrm>
            <a:custGeom>
              <a:avLst/>
              <a:gdLst/>
              <a:ahLst/>
              <a:rect l="0" t="0" r="r" b="b"/>
              <a:pathLst>
                <a:path w="649" h="1500">
                  <a:moveTo>
                    <a:pt x="171" y="812"/>
                  </a:moveTo>
                  <a:lnTo>
                    <a:pt x="220" y="577"/>
                  </a:lnTo>
                  <a:lnTo>
                    <a:pt x="437" y="515"/>
                  </a:lnTo>
                  <a:lnTo>
                    <a:pt x="649" y="0"/>
                  </a:lnTo>
                  <a:lnTo>
                    <a:pt x="649" y="149"/>
                  </a:lnTo>
                  <a:lnTo>
                    <a:pt x="472" y="546"/>
                  </a:lnTo>
                  <a:lnTo>
                    <a:pt x="238" y="621"/>
                  </a:lnTo>
                  <a:lnTo>
                    <a:pt x="207" y="812"/>
                  </a:lnTo>
                  <a:lnTo>
                    <a:pt x="286" y="812"/>
                  </a:lnTo>
                  <a:lnTo>
                    <a:pt x="83" y="896"/>
                  </a:lnTo>
                  <a:lnTo>
                    <a:pt x="35" y="1054"/>
                  </a:lnTo>
                  <a:lnTo>
                    <a:pt x="48" y="1262"/>
                  </a:lnTo>
                  <a:lnTo>
                    <a:pt x="264" y="1500"/>
                  </a:lnTo>
                  <a:lnTo>
                    <a:pt x="35" y="1288"/>
                  </a:lnTo>
                  <a:lnTo>
                    <a:pt x="0" y="1116"/>
                  </a:lnTo>
                  <a:lnTo>
                    <a:pt x="17" y="944"/>
                  </a:lnTo>
                  <a:lnTo>
                    <a:pt x="97" y="821"/>
                  </a:lnTo>
                  <a:lnTo>
                    <a:pt x="171" y="81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8447040" y="1082520"/>
              <a:ext cx="390960" cy="524160"/>
            </a:xfrm>
            <a:custGeom>
              <a:avLst/>
              <a:gdLst/>
              <a:ahLst/>
              <a:rect l="0" t="0" r="r" b="b"/>
              <a:pathLst>
                <a:path w="1086" h="1456">
                  <a:moveTo>
                    <a:pt x="300" y="0"/>
                  </a:moveTo>
                  <a:lnTo>
                    <a:pt x="367" y="44"/>
                  </a:lnTo>
                  <a:lnTo>
                    <a:pt x="384" y="167"/>
                  </a:lnTo>
                  <a:lnTo>
                    <a:pt x="384" y="282"/>
                  </a:lnTo>
                  <a:lnTo>
                    <a:pt x="264" y="493"/>
                  </a:lnTo>
                  <a:lnTo>
                    <a:pt x="287" y="648"/>
                  </a:lnTo>
                  <a:lnTo>
                    <a:pt x="653" y="821"/>
                  </a:lnTo>
                  <a:lnTo>
                    <a:pt x="1077" y="1275"/>
                  </a:lnTo>
                  <a:lnTo>
                    <a:pt x="1086" y="1403"/>
                  </a:lnTo>
                  <a:lnTo>
                    <a:pt x="1064" y="1456"/>
                  </a:lnTo>
                  <a:lnTo>
                    <a:pt x="905" y="1456"/>
                  </a:lnTo>
                  <a:lnTo>
                    <a:pt x="763" y="1368"/>
                  </a:lnTo>
                  <a:lnTo>
                    <a:pt x="644" y="1218"/>
                  </a:lnTo>
                  <a:lnTo>
                    <a:pt x="578" y="1129"/>
                  </a:lnTo>
                  <a:lnTo>
                    <a:pt x="503" y="1116"/>
                  </a:lnTo>
                  <a:lnTo>
                    <a:pt x="596" y="1116"/>
                  </a:lnTo>
                  <a:lnTo>
                    <a:pt x="772" y="1354"/>
                  </a:lnTo>
                  <a:lnTo>
                    <a:pt x="1003" y="1425"/>
                  </a:lnTo>
                  <a:lnTo>
                    <a:pt x="1051" y="1354"/>
                  </a:lnTo>
                  <a:lnTo>
                    <a:pt x="1025" y="1244"/>
                  </a:lnTo>
                  <a:lnTo>
                    <a:pt x="627" y="918"/>
                  </a:lnTo>
                  <a:lnTo>
                    <a:pt x="569" y="821"/>
                  </a:lnTo>
                  <a:lnTo>
                    <a:pt x="264" y="737"/>
                  </a:lnTo>
                  <a:lnTo>
                    <a:pt x="211" y="821"/>
                  </a:lnTo>
                  <a:lnTo>
                    <a:pt x="0" y="957"/>
                  </a:lnTo>
                  <a:lnTo>
                    <a:pt x="198" y="799"/>
                  </a:lnTo>
                  <a:lnTo>
                    <a:pt x="211" y="696"/>
                  </a:lnTo>
                  <a:lnTo>
                    <a:pt x="211" y="463"/>
                  </a:lnTo>
                  <a:lnTo>
                    <a:pt x="349" y="282"/>
                  </a:lnTo>
                  <a:lnTo>
                    <a:pt x="349" y="57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8375760" y="1494000"/>
              <a:ext cx="332280" cy="309960"/>
            </a:xfrm>
            <a:custGeom>
              <a:avLst/>
              <a:gdLst/>
              <a:ahLst/>
              <a:rect l="0" t="0" r="r" b="b"/>
              <a:pathLst>
                <a:path w="923" h="861">
                  <a:moveTo>
                    <a:pt x="694" y="0"/>
                  </a:moveTo>
                  <a:lnTo>
                    <a:pt x="666" y="74"/>
                  </a:lnTo>
                  <a:lnTo>
                    <a:pt x="804" y="358"/>
                  </a:lnTo>
                  <a:lnTo>
                    <a:pt x="875" y="650"/>
                  </a:lnTo>
                  <a:lnTo>
                    <a:pt x="795" y="650"/>
                  </a:lnTo>
                  <a:lnTo>
                    <a:pt x="658" y="521"/>
                  </a:lnTo>
                  <a:lnTo>
                    <a:pt x="530" y="252"/>
                  </a:lnTo>
                  <a:lnTo>
                    <a:pt x="433" y="211"/>
                  </a:lnTo>
                  <a:lnTo>
                    <a:pt x="450" y="358"/>
                  </a:lnTo>
                  <a:lnTo>
                    <a:pt x="538" y="464"/>
                  </a:lnTo>
                  <a:lnTo>
                    <a:pt x="538" y="667"/>
                  </a:lnTo>
                  <a:lnTo>
                    <a:pt x="472" y="822"/>
                  </a:lnTo>
                  <a:lnTo>
                    <a:pt x="389" y="760"/>
                  </a:lnTo>
                  <a:lnTo>
                    <a:pt x="283" y="521"/>
                  </a:lnTo>
                  <a:lnTo>
                    <a:pt x="261" y="358"/>
                  </a:lnTo>
                  <a:lnTo>
                    <a:pt x="198" y="314"/>
                  </a:lnTo>
                  <a:lnTo>
                    <a:pt x="180" y="729"/>
                  </a:lnTo>
                  <a:lnTo>
                    <a:pt x="97" y="786"/>
                  </a:lnTo>
                  <a:lnTo>
                    <a:pt x="26" y="729"/>
                  </a:lnTo>
                  <a:lnTo>
                    <a:pt x="13" y="371"/>
                  </a:lnTo>
                  <a:lnTo>
                    <a:pt x="0" y="720"/>
                  </a:lnTo>
                  <a:lnTo>
                    <a:pt x="61" y="848"/>
                  </a:lnTo>
                  <a:lnTo>
                    <a:pt x="180" y="848"/>
                  </a:lnTo>
                  <a:lnTo>
                    <a:pt x="220" y="747"/>
                  </a:lnTo>
                  <a:lnTo>
                    <a:pt x="247" y="419"/>
                  </a:lnTo>
                  <a:lnTo>
                    <a:pt x="269" y="547"/>
                  </a:lnTo>
                  <a:lnTo>
                    <a:pt x="371" y="831"/>
                  </a:lnTo>
                  <a:lnTo>
                    <a:pt x="486" y="861"/>
                  </a:lnTo>
                  <a:lnTo>
                    <a:pt x="569" y="747"/>
                  </a:lnTo>
                  <a:lnTo>
                    <a:pt x="569" y="477"/>
                  </a:lnTo>
                  <a:lnTo>
                    <a:pt x="795" y="703"/>
                  </a:lnTo>
                  <a:lnTo>
                    <a:pt x="910" y="703"/>
                  </a:lnTo>
                  <a:lnTo>
                    <a:pt x="923" y="547"/>
                  </a:lnTo>
                  <a:lnTo>
                    <a:pt x="839" y="278"/>
                  </a:lnTo>
                  <a:lnTo>
                    <a:pt x="694" y="57"/>
                  </a:lnTo>
                  <a:lnTo>
                    <a:pt x="69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032600" y="1173240"/>
              <a:ext cx="1478160" cy="1263960"/>
            </a:xfrm>
            <a:custGeom>
              <a:avLst/>
              <a:gdLst/>
              <a:ahLst/>
              <a:rect l="0" t="0" r="r" b="b"/>
              <a:pathLst>
                <a:path w="4106" h="3511">
                  <a:moveTo>
                    <a:pt x="1477" y="295"/>
                  </a:moveTo>
                  <a:lnTo>
                    <a:pt x="1402" y="308"/>
                  </a:lnTo>
                  <a:lnTo>
                    <a:pt x="1287" y="485"/>
                  </a:lnTo>
                  <a:lnTo>
                    <a:pt x="1247" y="357"/>
                  </a:lnTo>
                  <a:lnTo>
                    <a:pt x="1115" y="282"/>
                  </a:lnTo>
                  <a:lnTo>
                    <a:pt x="1014" y="339"/>
                  </a:lnTo>
                  <a:lnTo>
                    <a:pt x="974" y="568"/>
                  </a:lnTo>
                  <a:lnTo>
                    <a:pt x="608" y="846"/>
                  </a:lnTo>
                  <a:lnTo>
                    <a:pt x="630" y="965"/>
                  </a:lnTo>
                  <a:lnTo>
                    <a:pt x="542" y="1071"/>
                  </a:lnTo>
                  <a:lnTo>
                    <a:pt x="542" y="1159"/>
                  </a:lnTo>
                  <a:lnTo>
                    <a:pt x="648" y="1424"/>
                  </a:lnTo>
                  <a:lnTo>
                    <a:pt x="657" y="1750"/>
                  </a:lnTo>
                  <a:lnTo>
                    <a:pt x="586" y="2055"/>
                  </a:lnTo>
                  <a:lnTo>
                    <a:pt x="321" y="2241"/>
                  </a:lnTo>
                  <a:lnTo>
                    <a:pt x="286" y="2492"/>
                  </a:lnTo>
                  <a:lnTo>
                    <a:pt x="207" y="2492"/>
                  </a:lnTo>
                  <a:lnTo>
                    <a:pt x="167" y="2285"/>
                  </a:lnTo>
                  <a:lnTo>
                    <a:pt x="83" y="2285"/>
                  </a:lnTo>
                  <a:lnTo>
                    <a:pt x="48" y="2505"/>
                  </a:lnTo>
                  <a:lnTo>
                    <a:pt x="0" y="2563"/>
                  </a:lnTo>
                  <a:lnTo>
                    <a:pt x="180" y="2867"/>
                  </a:lnTo>
                  <a:lnTo>
                    <a:pt x="313" y="2880"/>
                  </a:lnTo>
                  <a:lnTo>
                    <a:pt x="542" y="3105"/>
                  </a:lnTo>
                  <a:lnTo>
                    <a:pt x="754" y="3131"/>
                  </a:lnTo>
                  <a:lnTo>
                    <a:pt x="868" y="3012"/>
                  </a:lnTo>
                  <a:lnTo>
                    <a:pt x="1155" y="2580"/>
                  </a:lnTo>
                  <a:lnTo>
                    <a:pt x="1177" y="3162"/>
                  </a:lnTo>
                  <a:lnTo>
                    <a:pt x="1155" y="3511"/>
                  </a:lnTo>
                  <a:lnTo>
                    <a:pt x="3528" y="3511"/>
                  </a:lnTo>
                  <a:lnTo>
                    <a:pt x="3352" y="3131"/>
                  </a:lnTo>
                  <a:lnTo>
                    <a:pt x="3268" y="2805"/>
                  </a:lnTo>
                  <a:lnTo>
                    <a:pt x="3246" y="2320"/>
                  </a:lnTo>
                  <a:lnTo>
                    <a:pt x="3387" y="2430"/>
                  </a:lnTo>
                  <a:lnTo>
                    <a:pt x="3528" y="2430"/>
                  </a:lnTo>
                  <a:lnTo>
                    <a:pt x="3722" y="2302"/>
                  </a:lnTo>
                  <a:lnTo>
                    <a:pt x="3850" y="2285"/>
                  </a:lnTo>
                  <a:lnTo>
                    <a:pt x="3934" y="2157"/>
                  </a:lnTo>
                  <a:lnTo>
                    <a:pt x="3987" y="1826"/>
                  </a:lnTo>
                  <a:lnTo>
                    <a:pt x="4106" y="1688"/>
                  </a:lnTo>
                  <a:lnTo>
                    <a:pt x="4044" y="1591"/>
                  </a:lnTo>
                  <a:lnTo>
                    <a:pt x="3956" y="1591"/>
                  </a:lnTo>
                  <a:lnTo>
                    <a:pt x="3885" y="1658"/>
                  </a:lnTo>
                  <a:lnTo>
                    <a:pt x="3819" y="1675"/>
                  </a:lnTo>
                  <a:lnTo>
                    <a:pt x="3736" y="1591"/>
                  </a:lnTo>
                  <a:lnTo>
                    <a:pt x="3634" y="1578"/>
                  </a:lnTo>
                  <a:lnTo>
                    <a:pt x="3444" y="1455"/>
                  </a:lnTo>
                  <a:lnTo>
                    <a:pt x="3330" y="1322"/>
                  </a:lnTo>
                  <a:lnTo>
                    <a:pt x="3308" y="1159"/>
                  </a:lnTo>
                  <a:lnTo>
                    <a:pt x="3330" y="1005"/>
                  </a:lnTo>
                  <a:lnTo>
                    <a:pt x="3405" y="877"/>
                  </a:lnTo>
                  <a:lnTo>
                    <a:pt x="3506" y="762"/>
                  </a:lnTo>
                  <a:lnTo>
                    <a:pt x="3497" y="560"/>
                  </a:lnTo>
                  <a:lnTo>
                    <a:pt x="3497" y="414"/>
                  </a:lnTo>
                  <a:lnTo>
                    <a:pt x="3444" y="308"/>
                  </a:lnTo>
                  <a:lnTo>
                    <a:pt x="3308" y="264"/>
                  </a:lnTo>
                  <a:lnTo>
                    <a:pt x="3259" y="238"/>
                  </a:lnTo>
                  <a:lnTo>
                    <a:pt x="3162" y="66"/>
                  </a:lnTo>
                  <a:lnTo>
                    <a:pt x="3083" y="13"/>
                  </a:lnTo>
                  <a:lnTo>
                    <a:pt x="2995" y="0"/>
                  </a:lnTo>
                  <a:lnTo>
                    <a:pt x="2924" y="30"/>
                  </a:lnTo>
                  <a:lnTo>
                    <a:pt x="2862" y="123"/>
                  </a:lnTo>
                  <a:lnTo>
                    <a:pt x="2774" y="176"/>
                  </a:lnTo>
                  <a:lnTo>
                    <a:pt x="2673" y="198"/>
                  </a:lnTo>
                  <a:lnTo>
                    <a:pt x="2558" y="198"/>
                  </a:lnTo>
                  <a:lnTo>
                    <a:pt x="2580" y="370"/>
                  </a:lnTo>
                  <a:lnTo>
                    <a:pt x="2580" y="586"/>
                  </a:lnTo>
                  <a:lnTo>
                    <a:pt x="2558" y="732"/>
                  </a:lnTo>
                  <a:lnTo>
                    <a:pt x="2457" y="903"/>
                  </a:lnTo>
                  <a:lnTo>
                    <a:pt x="2329" y="1168"/>
                  </a:lnTo>
                  <a:lnTo>
                    <a:pt x="2227" y="1486"/>
                  </a:lnTo>
                  <a:lnTo>
                    <a:pt x="2219" y="1675"/>
                  </a:lnTo>
                  <a:lnTo>
                    <a:pt x="2170" y="1839"/>
                  </a:lnTo>
                  <a:lnTo>
                    <a:pt x="2108" y="1998"/>
                  </a:lnTo>
                  <a:lnTo>
                    <a:pt x="2082" y="2254"/>
                  </a:lnTo>
                  <a:lnTo>
                    <a:pt x="2100" y="2466"/>
                  </a:lnTo>
                  <a:lnTo>
                    <a:pt x="2170" y="2712"/>
                  </a:lnTo>
                  <a:lnTo>
                    <a:pt x="2219" y="2805"/>
                  </a:lnTo>
                  <a:lnTo>
                    <a:pt x="2082" y="2898"/>
                  </a:lnTo>
                  <a:lnTo>
                    <a:pt x="1913" y="2955"/>
                  </a:lnTo>
                  <a:lnTo>
                    <a:pt x="1733" y="2973"/>
                  </a:lnTo>
                  <a:lnTo>
                    <a:pt x="1618" y="2973"/>
                  </a:lnTo>
                  <a:lnTo>
                    <a:pt x="1547" y="2937"/>
                  </a:lnTo>
                  <a:lnTo>
                    <a:pt x="1547" y="2730"/>
                  </a:lnTo>
                  <a:lnTo>
                    <a:pt x="1547" y="2417"/>
                  </a:lnTo>
                  <a:lnTo>
                    <a:pt x="1503" y="2113"/>
                  </a:lnTo>
                  <a:lnTo>
                    <a:pt x="1428" y="1839"/>
                  </a:lnTo>
                  <a:lnTo>
                    <a:pt x="1393" y="1618"/>
                  </a:lnTo>
                  <a:lnTo>
                    <a:pt x="1380" y="1305"/>
                  </a:lnTo>
                  <a:lnTo>
                    <a:pt x="1428" y="1036"/>
                  </a:lnTo>
                  <a:lnTo>
                    <a:pt x="1503" y="820"/>
                  </a:lnTo>
                  <a:lnTo>
                    <a:pt x="1508" y="687"/>
                  </a:lnTo>
                  <a:lnTo>
                    <a:pt x="1477" y="502"/>
                  </a:lnTo>
                  <a:lnTo>
                    <a:pt x="1477" y="357"/>
                  </a:lnTo>
                  <a:lnTo>
                    <a:pt x="1503" y="308"/>
                  </a:lnTo>
                  <a:lnTo>
                    <a:pt x="1477" y="29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608960" y="1427040"/>
              <a:ext cx="186120" cy="821160"/>
            </a:xfrm>
            <a:custGeom>
              <a:avLst/>
              <a:gdLst/>
              <a:ahLst/>
              <a:rect l="0" t="0" r="r" b="b"/>
              <a:pathLst>
                <a:path w="517" h="2281">
                  <a:moveTo>
                    <a:pt x="208" y="26"/>
                  </a:moveTo>
                  <a:lnTo>
                    <a:pt x="70" y="101"/>
                  </a:lnTo>
                  <a:lnTo>
                    <a:pt x="79" y="321"/>
                  </a:lnTo>
                  <a:lnTo>
                    <a:pt x="181" y="383"/>
                  </a:lnTo>
                  <a:lnTo>
                    <a:pt x="61" y="622"/>
                  </a:lnTo>
                  <a:lnTo>
                    <a:pt x="0" y="887"/>
                  </a:lnTo>
                  <a:lnTo>
                    <a:pt x="0" y="1138"/>
                  </a:lnTo>
                  <a:lnTo>
                    <a:pt x="61" y="1368"/>
                  </a:lnTo>
                  <a:lnTo>
                    <a:pt x="110" y="1645"/>
                  </a:lnTo>
                  <a:lnTo>
                    <a:pt x="110" y="1805"/>
                  </a:lnTo>
                  <a:lnTo>
                    <a:pt x="61" y="2004"/>
                  </a:lnTo>
                  <a:lnTo>
                    <a:pt x="265" y="2281"/>
                  </a:lnTo>
                  <a:lnTo>
                    <a:pt x="353" y="2237"/>
                  </a:lnTo>
                  <a:lnTo>
                    <a:pt x="412" y="2043"/>
                  </a:lnTo>
                  <a:lnTo>
                    <a:pt x="509" y="1792"/>
                  </a:lnTo>
                  <a:lnTo>
                    <a:pt x="517" y="1659"/>
                  </a:lnTo>
                  <a:lnTo>
                    <a:pt x="438" y="1407"/>
                  </a:lnTo>
                  <a:lnTo>
                    <a:pt x="340" y="1165"/>
                  </a:lnTo>
                  <a:lnTo>
                    <a:pt x="305" y="993"/>
                  </a:lnTo>
                  <a:lnTo>
                    <a:pt x="305" y="830"/>
                  </a:lnTo>
                  <a:lnTo>
                    <a:pt x="340" y="680"/>
                  </a:lnTo>
                  <a:lnTo>
                    <a:pt x="412" y="498"/>
                  </a:lnTo>
                  <a:lnTo>
                    <a:pt x="412" y="423"/>
                  </a:lnTo>
                  <a:lnTo>
                    <a:pt x="375" y="352"/>
                  </a:lnTo>
                  <a:lnTo>
                    <a:pt x="473" y="260"/>
                  </a:lnTo>
                  <a:lnTo>
                    <a:pt x="473" y="171"/>
                  </a:lnTo>
                  <a:lnTo>
                    <a:pt x="340" y="0"/>
                  </a:lnTo>
                  <a:lnTo>
                    <a:pt x="451" y="171"/>
                  </a:lnTo>
                  <a:lnTo>
                    <a:pt x="451" y="246"/>
                  </a:lnTo>
                  <a:lnTo>
                    <a:pt x="353" y="321"/>
                  </a:lnTo>
                  <a:lnTo>
                    <a:pt x="390" y="423"/>
                  </a:lnTo>
                  <a:lnTo>
                    <a:pt x="375" y="498"/>
                  </a:lnTo>
                  <a:lnTo>
                    <a:pt x="278" y="710"/>
                  </a:lnTo>
                  <a:lnTo>
                    <a:pt x="265" y="913"/>
                  </a:lnTo>
                  <a:lnTo>
                    <a:pt x="292" y="1107"/>
                  </a:lnTo>
                  <a:lnTo>
                    <a:pt x="353" y="1381"/>
                  </a:lnTo>
                  <a:lnTo>
                    <a:pt x="438" y="1601"/>
                  </a:lnTo>
                  <a:lnTo>
                    <a:pt x="438" y="1779"/>
                  </a:lnTo>
                  <a:lnTo>
                    <a:pt x="390" y="2004"/>
                  </a:lnTo>
                  <a:lnTo>
                    <a:pt x="292" y="2237"/>
                  </a:lnTo>
                  <a:lnTo>
                    <a:pt x="168" y="2109"/>
                  </a:lnTo>
                  <a:lnTo>
                    <a:pt x="119" y="2004"/>
                  </a:lnTo>
                  <a:lnTo>
                    <a:pt x="133" y="1779"/>
                  </a:lnTo>
                  <a:lnTo>
                    <a:pt x="119" y="1553"/>
                  </a:lnTo>
                  <a:lnTo>
                    <a:pt x="61" y="1253"/>
                  </a:lnTo>
                  <a:lnTo>
                    <a:pt x="35" y="1046"/>
                  </a:lnTo>
                  <a:lnTo>
                    <a:pt x="61" y="812"/>
                  </a:lnTo>
                  <a:lnTo>
                    <a:pt x="110" y="591"/>
                  </a:lnTo>
                  <a:lnTo>
                    <a:pt x="217" y="366"/>
                  </a:lnTo>
                  <a:lnTo>
                    <a:pt x="119" y="273"/>
                  </a:lnTo>
                  <a:lnTo>
                    <a:pt x="110" y="114"/>
                  </a:lnTo>
                  <a:lnTo>
                    <a:pt x="208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140680" y="468360"/>
              <a:ext cx="294120" cy="398880"/>
            </a:xfrm>
            <a:custGeom>
              <a:avLst/>
              <a:gdLst/>
              <a:ahLst/>
              <a:rect l="0" t="0" r="r" b="b"/>
              <a:pathLst>
                <a:path w="817" h="1108">
                  <a:moveTo>
                    <a:pt x="136" y="283"/>
                  </a:moveTo>
                  <a:lnTo>
                    <a:pt x="256" y="260"/>
                  </a:lnTo>
                  <a:lnTo>
                    <a:pt x="371" y="268"/>
                  </a:lnTo>
                  <a:lnTo>
                    <a:pt x="468" y="314"/>
                  </a:lnTo>
                  <a:lnTo>
                    <a:pt x="521" y="375"/>
                  </a:lnTo>
                  <a:lnTo>
                    <a:pt x="547" y="433"/>
                  </a:lnTo>
                  <a:lnTo>
                    <a:pt x="547" y="490"/>
                  </a:lnTo>
                  <a:lnTo>
                    <a:pt x="516" y="525"/>
                  </a:lnTo>
                  <a:lnTo>
                    <a:pt x="464" y="552"/>
                  </a:lnTo>
                  <a:lnTo>
                    <a:pt x="406" y="556"/>
                  </a:lnTo>
                  <a:lnTo>
                    <a:pt x="331" y="538"/>
                  </a:lnTo>
                  <a:lnTo>
                    <a:pt x="261" y="494"/>
                  </a:lnTo>
                  <a:lnTo>
                    <a:pt x="208" y="450"/>
                  </a:lnTo>
                  <a:lnTo>
                    <a:pt x="180" y="591"/>
                  </a:lnTo>
                  <a:lnTo>
                    <a:pt x="136" y="693"/>
                  </a:lnTo>
                  <a:lnTo>
                    <a:pt x="0" y="928"/>
                  </a:lnTo>
                  <a:lnTo>
                    <a:pt x="198" y="1108"/>
                  </a:lnTo>
                  <a:lnTo>
                    <a:pt x="349" y="807"/>
                  </a:lnTo>
                  <a:lnTo>
                    <a:pt x="516" y="835"/>
                  </a:lnTo>
                  <a:lnTo>
                    <a:pt x="623" y="812"/>
                  </a:lnTo>
                  <a:lnTo>
                    <a:pt x="725" y="741"/>
                  </a:lnTo>
                  <a:lnTo>
                    <a:pt x="786" y="658"/>
                  </a:lnTo>
                  <a:lnTo>
                    <a:pt x="817" y="543"/>
                  </a:lnTo>
                  <a:lnTo>
                    <a:pt x="817" y="424"/>
                  </a:lnTo>
                  <a:lnTo>
                    <a:pt x="786" y="296"/>
                  </a:lnTo>
                  <a:lnTo>
                    <a:pt x="720" y="167"/>
                  </a:lnTo>
                  <a:lnTo>
                    <a:pt x="637" y="79"/>
                  </a:lnTo>
                  <a:lnTo>
                    <a:pt x="534" y="26"/>
                  </a:lnTo>
                  <a:lnTo>
                    <a:pt x="415" y="0"/>
                  </a:lnTo>
                  <a:lnTo>
                    <a:pt x="269" y="0"/>
                  </a:lnTo>
                  <a:lnTo>
                    <a:pt x="110" y="30"/>
                  </a:lnTo>
                  <a:lnTo>
                    <a:pt x="136" y="283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088480" y="855720"/>
              <a:ext cx="106560" cy="79560"/>
            </a:xfrm>
            <a:custGeom>
              <a:avLst/>
              <a:gdLst/>
              <a:ahLst/>
              <a:rect l="0" t="0" r="r" b="b"/>
              <a:pathLst>
                <a:path w="296" h="221">
                  <a:moveTo>
                    <a:pt x="119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11"/>
                  </a:lnTo>
                  <a:lnTo>
                    <a:pt x="61" y="190"/>
                  </a:lnTo>
                  <a:lnTo>
                    <a:pt x="177" y="221"/>
                  </a:lnTo>
                  <a:lnTo>
                    <a:pt x="269" y="217"/>
                  </a:lnTo>
                  <a:lnTo>
                    <a:pt x="296" y="164"/>
                  </a:lnTo>
                  <a:lnTo>
                    <a:pt x="278" y="120"/>
                  </a:lnTo>
                  <a:lnTo>
                    <a:pt x="239" y="52"/>
                  </a:lnTo>
                  <a:lnTo>
                    <a:pt x="168" y="8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5" name=""/>
          <p:cNvSpPr txBox="1"/>
          <p:nvPr/>
        </p:nvSpPr>
        <p:spPr>
          <a:xfrm>
            <a:off x="1066680" y="4267080"/>
            <a:ext cx="769608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duct costing systems did not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urately assign manufacturing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overhead costs to product li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 txBox="1"/>
          <p:nvPr/>
        </p:nvSpPr>
        <p:spPr>
          <a:xfrm>
            <a:off x="838080" y="83808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nufacturing Overhead Allocation Using AB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1371600" y="2590920"/>
            <a:ext cx="708660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lculate product unit cost using activity-based costing to assign manufacturing overhead cos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69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 txBox="1"/>
          <p:nvPr/>
        </p:nvSpPr>
        <p:spPr>
          <a:xfrm>
            <a:off x="1066680" y="609480"/>
            <a:ext cx="76201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BC Approa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1219320" y="2057400"/>
            <a:ext cx="746748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en ABC is used, manufacturing costs are grouped into smaller activity cost poo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 txBox="1"/>
          <p:nvPr/>
        </p:nvSpPr>
        <p:spPr>
          <a:xfrm>
            <a:off x="1066680" y="22860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BC Approa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838080" y="10666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sts from activity cost pools are assigned to cost objects using cost driv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st drivers are identified and cost driver levels are estimated for each cost po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ach cost pool rate is calculated by dividing the estimated cost amount by the cost driver lev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anufacturing overhead is applied to the product’s cost by multiplying the cost pool rate by the actual cost driver amou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 txBox="1"/>
          <p:nvPr/>
        </p:nvSpPr>
        <p:spPr>
          <a:xfrm>
            <a:off x="1066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BC Syst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914400" y="106668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BC systems assign costs to cost objects based on each cost object’s consumption of activ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total applied manufacturing overhead cost is added to the cost of direct materials and direct labor to determine the total product co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product unit cost is the total product cost divided by the total units produc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 txBox="1"/>
          <p:nvPr/>
        </p:nvSpPr>
        <p:spPr>
          <a:xfrm>
            <a:off x="99072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BC Costing Syst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914400" y="1219320"/>
            <a:ext cx="78487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blems with product costs produced by traditional volume-based costing systems inclu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raditional volume-based system, low-volume products are undercosted and high-volume products are overcos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Organizations face greater risk of making poor decisions when significant product cost distortions exi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 txBox="1"/>
          <p:nvPr/>
        </p:nvSpPr>
        <p:spPr>
          <a:xfrm>
            <a:off x="99072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 Driver Lev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784080" y="1517760"/>
            <a:ext cx="8061480" cy="4181400"/>
            <a:chOff x="784080" y="1517760"/>
            <a:chExt cx="8061480" cy="4181400"/>
          </a:xfrm>
        </p:grpSpPr>
        <p:sp>
          <p:nvSpPr>
            <p:cNvPr id="739" name=""/>
            <p:cNvSpPr/>
            <p:nvPr/>
          </p:nvSpPr>
          <p:spPr>
            <a:xfrm>
              <a:off x="784080" y="1517760"/>
              <a:ext cx="8061480" cy="4181400"/>
            </a:xfrm>
            <a:prstGeom prst="rect">
              <a:avLst/>
            </a:prstGeom>
            <a:solidFill>
              <a:srgbClr val="fcffd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 txBox="1"/>
            <p:nvPr/>
          </p:nvSpPr>
          <p:spPr>
            <a:xfrm>
              <a:off x="4621320" y="1795320"/>
              <a:ext cx="3879720" cy="65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timated Cost Driver Level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 txBox="1"/>
            <p:nvPr/>
          </p:nvSpPr>
          <p:spPr>
            <a:xfrm>
              <a:off x="1054080" y="2386080"/>
              <a:ext cx="1574640" cy="65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st Driver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 txBox="1"/>
            <p:nvPr/>
          </p:nvSpPr>
          <p:spPr>
            <a:xfrm>
              <a:off x="4383000" y="2386080"/>
              <a:ext cx="1087560" cy="65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gular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 txBox="1"/>
            <p:nvPr/>
          </p:nvSpPr>
          <p:spPr>
            <a:xfrm>
              <a:off x="6039000" y="2386080"/>
              <a:ext cx="957240" cy="65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luxe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 txBox="1"/>
            <p:nvPr/>
          </p:nvSpPr>
          <p:spPr>
            <a:xfrm>
              <a:off x="7812000" y="2386080"/>
              <a:ext cx="698400" cy="351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tal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 txBox="1"/>
            <p:nvPr/>
          </p:nvSpPr>
          <p:spPr>
            <a:xfrm>
              <a:off x="1054080" y="3052800"/>
              <a:ext cx="2482920" cy="65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Number of setups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 txBox="1"/>
            <p:nvPr/>
          </p:nvSpPr>
          <p:spPr>
            <a:xfrm>
              <a:off x="4900680" y="3052800"/>
              <a:ext cx="487440" cy="65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0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 txBox="1"/>
            <p:nvPr/>
          </p:nvSpPr>
          <p:spPr>
            <a:xfrm>
              <a:off x="6445080" y="3052800"/>
              <a:ext cx="487440" cy="65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0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 txBox="1"/>
            <p:nvPr/>
          </p:nvSpPr>
          <p:spPr>
            <a:xfrm>
              <a:off x="7991640" y="3052800"/>
              <a:ext cx="487440" cy="65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700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 txBox="1"/>
            <p:nvPr/>
          </p:nvSpPr>
          <p:spPr>
            <a:xfrm>
              <a:off x="1054080" y="3703680"/>
              <a:ext cx="3165480" cy="65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Number of inspections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 txBox="1"/>
            <p:nvPr/>
          </p:nvSpPr>
          <p:spPr>
            <a:xfrm>
              <a:off x="4900680" y="3703680"/>
              <a:ext cx="487440" cy="65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0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 txBox="1"/>
            <p:nvPr/>
          </p:nvSpPr>
          <p:spPr>
            <a:xfrm>
              <a:off x="6445080" y="3703680"/>
              <a:ext cx="487440" cy="65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0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 txBox="1"/>
            <p:nvPr/>
          </p:nvSpPr>
          <p:spPr>
            <a:xfrm>
              <a:off x="7991640" y="3703680"/>
              <a:ext cx="487440" cy="65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0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 txBox="1"/>
            <p:nvPr/>
          </p:nvSpPr>
          <p:spPr>
            <a:xfrm>
              <a:off x="1054080" y="4343400"/>
              <a:ext cx="2354400" cy="65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ckaging hours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 txBox="1"/>
            <p:nvPr/>
          </p:nvSpPr>
          <p:spPr>
            <a:xfrm>
              <a:off x="4900680" y="4343400"/>
              <a:ext cx="487440" cy="65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600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 txBox="1"/>
            <p:nvPr/>
          </p:nvSpPr>
          <p:spPr>
            <a:xfrm>
              <a:off x="6237360" y="4343400"/>
              <a:ext cx="730080" cy="65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400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 txBox="1"/>
            <p:nvPr/>
          </p:nvSpPr>
          <p:spPr>
            <a:xfrm>
              <a:off x="7781760" y="4343400"/>
              <a:ext cx="730080" cy="65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000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 txBox="1"/>
            <p:nvPr/>
          </p:nvSpPr>
          <p:spPr>
            <a:xfrm>
              <a:off x="1054080" y="4950000"/>
              <a:ext cx="2060640" cy="65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chine hours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 txBox="1"/>
            <p:nvPr/>
          </p:nvSpPr>
          <p:spPr>
            <a:xfrm>
              <a:off x="4691160" y="4950000"/>
              <a:ext cx="730080" cy="65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000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 txBox="1"/>
            <p:nvPr/>
          </p:nvSpPr>
          <p:spPr>
            <a:xfrm>
              <a:off x="6237360" y="4950000"/>
              <a:ext cx="730080" cy="65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6,000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 txBox="1"/>
            <p:nvPr/>
          </p:nvSpPr>
          <p:spPr>
            <a:xfrm>
              <a:off x="7640640" y="4950000"/>
              <a:ext cx="893880" cy="65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,000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801720" y="2882880"/>
              <a:ext cx="8037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240080" y="2249640"/>
              <a:ext cx="4599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984240" y="1822320"/>
            <a:ext cx="7861320" cy="450864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914400" y="228600"/>
            <a:ext cx="7924680" cy="153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Using ABC to Allocate Manufacturing Overhead Cost to Prod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5" name=""/>
          <p:cNvGrpSpPr/>
          <p:nvPr/>
        </p:nvGrpSpPr>
        <p:grpSpPr>
          <a:xfrm>
            <a:off x="1217520" y="2055960"/>
            <a:ext cx="1920960" cy="1351080"/>
            <a:chOff x="1217520" y="2055960"/>
            <a:chExt cx="1920960" cy="1351080"/>
          </a:xfrm>
        </p:grpSpPr>
        <p:pic>
          <p:nvPicPr>
            <p:cNvPr id="766" name="" descr=""/>
            <p:cNvPicPr/>
            <p:nvPr/>
          </p:nvPicPr>
          <p:blipFill>
            <a:blip r:embed="rId1"/>
            <a:stretch/>
          </p:blipFill>
          <p:spPr>
            <a:xfrm>
              <a:off x="1217520" y="2055960"/>
              <a:ext cx="1920960" cy="135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7" name=""/>
            <p:cNvSpPr txBox="1"/>
            <p:nvPr/>
          </p:nvSpPr>
          <p:spPr>
            <a:xfrm>
              <a:off x="1557360" y="2262240"/>
              <a:ext cx="1152360" cy="733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tu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$70,00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68" name=""/>
          <p:cNvGrpSpPr/>
          <p:nvPr/>
        </p:nvGrpSpPr>
        <p:grpSpPr>
          <a:xfrm>
            <a:off x="3274920" y="2208240"/>
            <a:ext cx="1920960" cy="1198440"/>
            <a:chOff x="3274920" y="2208240"/>
            <a:chExt cx="1920960" cy="1198440"/>
          </a:xfrm>
        </p:grpSpPr>
        <p:pic>
          <p:nvPicPr>
            <p:cNvPr id="769" name="" descr=""/>
            <p:cNvPicPr/>
            <p:nvPr/>
          </p:nvPicPr>
          <p:blipFill>
            <a:blip r:embed="rId2"/>
            <a:stretch/>
          </p:blipFill>
          <p:spPr>
            <a:xfrm>
              <a:off x="3274920" y="2208240"/>
              <a:ext cx="1920960" cy="11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 txBox="1"/>
            <p:nvPr/>
          </p:nvSpPr>
          <p:spPr>
            <a:xfrm>
              <a:off x="3614760" y="2392200"/>
              <a:ext cx="1152360" cy="850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spec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$60,00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1" name=""/>
          <p:cNvGrpSpPr/>
          <p:nvPr/>
        </p:nvGrpSpPr>
        <p:grpSpPr>
          <a:xfrm>
            <a:off x="5408640" y="2284560"/>
            <a:ext cx="1616040" cy="1122480"/>
            <a:chOff x="5408640" y="2284560"/>
            <a:chExt cx="1616040" cy="1122480"/>
          </a:xfrm>
        </p:grpSpPr>
        <p:pic>
          <p:nvPicPr>
            <p:cNvPr id="772" name="" descr=""/>
            <p:cNvPicPr/>
            <p:nvPr/>
          </p:nvPicPr>
          <p:blipFill>
            <a:blip r:embed="rId3"/>
            <a:stretch/>
          </p:blipFill>
          <p:spPr>
            <a:xfrm>
              <a:off x="5408640" y="2284560"/>
              <a:ext cx="1616040" cy="11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 txBox="1"/>
            <p:nvPr/>
          </p:nvSpPr>
          <p:spPr>
            <a:xfrm>
              <a:off x="5703840" y="2457360"/>
              <a:ext cx="936720" cy="850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ckagin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$50,00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7237440" y="2284560"/>
            <a:ext cx="1463760" cy="1295280"/>
            <a:chOff x="7237440" y="2284560"/>
            <a:chExt cx="1463760" cy="1295280"/>
          </a:xfrm>
        </p:grpSpPr>
        <p:pic>
          <p:nvPicPr>
            <p:cNvPr id="775" name="" descr=""/>
            <p:cNvPicPr/>
            <p:nvPr/>
          </p:nvPicPr>
          <p:blipFill>
            <a:blip r:embed="rId4"/>
            <a:stretch/>
          </p:blipFill>
          <p:spPr>
            <a:xfrm>
              <a:off x="7237440" y="2284560"/>
              <a:ext cx="1463760" cy="104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6" name=""/>
            <p:cNvSpPr txBox="1"/>
            <p:nvPr/>
          </p:nvSpPr>
          <p:spPr>
            <a:xfrm>
              <a:off x="7510320" y="2446200"/>
              <a:ext cx="828720" cy="1133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ildin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$20,00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7" name=""/>
          <p:cNvGrpSpPr/>
          <p:nvPr/>
        </p:nvGrpSpPr>
        <p:grpSpPr>
          <a:xfrm>
            <a:off x="1600200" y="3211560"/>
            <a:ext cx="6297480" cy="3036960"/>
            <a:chOff x="1600200" y="3211560"/>
            <a:chExt cx="6297480" cy="3036960"/>
          </a:xfrm>
        </p:grpSpPr>
        <p:grpSp>
          <p:nvGrpSpPr>
            <p:cNvPr id="778" name=""/>
            <p:cNvGrpSpPr/>
            <p:nvPr/>
          </p:nvGrpSpPr>
          <p:grpSpPr>
            <a:xfrm>
              <a:off x="1600200" y="3211560"/>
              <a:ext cx="6297480" cy="2843280"/>
              <a:chOff x="1600200" y="3211560"/>
              <a:chExt cx="6297480" cy="2843280"/>
            </a:xfrm>
          </p:grpSpPr>
          <p:pic>
            <p:nvPicPr>
              <p:cNvPr id="77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600200" y="4648320"/>
                <a:ext cx="2603520" cy="1406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0" name=""/>
              <p:cNvSpPr/>
              <p:nvPr/>
            </p:nvSpPr>
            <p:spPr>
              <a:xfrm>
                <a:off x="2124000" y="3287880"/>
                <a:ext cx="390600" cy="1436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flipH="1">
                <a:off x="3059280" y="3211560"/>
                <a:ext cx="4838400" cy="1512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flipH="1">
                <a:off x="2982960" y="3287880"/>
                <a:ext cx="3112920" cy="1360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flipH="1">
                <a:off x="2754360" y="3287880"/>
                <a:ext cx="1360440" cy="1360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4" name=""/>
            <p:cNvSpPr txBox="1"/>
            <p:nvPr/>
          </p:nvSpPr>
          <p:spPr>
            <a:xfrm>
              <a:off x="2133720" y="5791320"/>
              <a:ext cx="13190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gula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2297160" y="3211560"/>
            <a:ext cx="6173640" cy="3112920"/>
            <a:chOff x="2297160" y="3211560"/>
            <a:chExt cx="6173640" cy="3112920"/>
          </a:xfrm>
        </p:grpSpPr>
        <p:grpSp>
          <p:nvGrpSpPr>
            <p:cNvPr id="786" name=""/>
            <p:cNvGrpSpPr/>
            <p:nvPr/>
          </p:nvGrpSpPr>
          <p:grpSpPr>
            <a:xfrm>
              <a:off x="2297160" y="3211560"/>
              <a:ext cx="6173640" cy="2957400"/>
              <a:chOff x="2297160" y="3211560"/>
              <a:chExt cx="6173640" cy="2957400"/>
            </a:xfrm>
          </p:grpSpPr>
          <p:pic>
            <p:nvPicPr>
              <p:cNvPr id="787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410080" y="4343400"/>
                <a:ext cx="3060720" cy="1825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8" name=""/>
              <p:cNvSpPr/>
              <p:nvPr/>
            </p:nvSpPr>
            <p:spPr>
              <a:xfrm>
                <a:off x="2297160" y="3287880"/>
                <a:ext cx="4103640" cy="1131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4202280" y="3287880"/>
                <a:ext cx="2350800" cy="1055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6259680" y="3287880"/>
                <a:ext cx="522000" cy="1055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flipH="1">
                <a:off x="7021440" y="3211560"/>
                <a:ext cx="1055880" cy="1131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92" name=""/>
            <p:cNvSpPr txBox="1"/>
            <p:nvPr/>
          </p:nvSpPr>
          <p:spPr>
            <a:xfrm>
              <a:off x="6172200" y="5867280"/>
              <a:ext cx="11844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lux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"/>
          <p:cNvSpPr txBox="1"/>
          <p:nvPr/>
        </p:nvSpPr>
        <p:spPr>
          <a:xfrm>
            <a:off x="914400" y="220968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are two problems with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raditional volume-based costing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ystem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1981080" y="990720"/>
            <a:ext cx="49528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5" name=""/>
          <p:cNvGrpSpPr/>
          <p:nvPr/>
        </p:nvGrpSpPr>
        <p:grpSpPr>
          <a:xfrm>
            <a:off x="6858000" y="304920"/>
            <a:ext cx="1980000" cy="1980000"/>
            <a:chOff x="6858000" y="304920"/>
            <a:chExt cx="1980000" cy="1980000"/>
          </a:xfrm>
        </p:grpSpPr>
        <p:sp>
          <p:nvSpPr>
            <p:cNvPr id="796" name=""/>
            <p:cNvSpPr/>
            <p:nvPr/>
          </p:nvSpPr>
          <p:spPr>
            <a:xfrm>
              <a:off x="6862680" y="1276200"/>
              <a:ext cx="481320" cy="692640"/>
            </a:xfrm>
            <a:custGeom>
              <a:avLst/>
              <a:gdLst/>
              <a:ahLst/>
              <a:rect l="0" t="0" r="r" b="b"/>
              <a:pathLst>
                <a:path w="1337" h="1924">
                  <a:moveTo>
                    <a:pt x="533" y="0"/>
                  </a:moveTo>
                  <a:lnTo>
                    <a:pt x="463" y="83"/>
                  </a:lnTo>
                  <a:lnTo>
                    <a:pt x="463" y="335"/>
                  </a:lnTo>
                  <a:lnTo>
                    <a:pt x="533" y="516"/>
                  </a:lnTo>
                  <a:lnTo>
                    <a:pt x="612" y="609"/>
                  </a:lnTo>
                  <a:lnTo>
                    <a:pt x="493" y="733"/>
                  </a:lnTo>
                  <a:lnTo>
                    <a:pt x="335" y="1010"/>
                  </a:lnTo>
                  <a:lnTo>
                    <a:pt x="26" y="1452"/>
                  </a:lnTo>
                  <a:lnTo>
                    <a:pt x="0" y="1558"/>
                  </a:lnTo>
                  <a:lnTo>
                    <a:pt x="26" y="1646"/>
                  </a:lnTo>
                  <a:lnTo>
                    <a:pt x="123" y="1646"/>
                  </a:lnTo>
                  <a:lnTo>
                    <a:pt x="202" y="1545"/>
                  </a:lnTo>
                  <a:lnTo>
                    <a:pt x="335" y="1297"/>
                  </a:lnTo>
                  <a:lnTo>
                    <a:pt x="414" y="1191"/>
                  </a:lnTo>
                  <a:lnTo>
                    <a:pt x="463" y="1354"/>
                  </a:lnTo>
                  <a:lnTo>
                    <a:pt x="427" y="1532"/>
                  </a:lnTo>
                  <a:lnTo>
                    <a:pt x="295" y="1783"/>
                  </a:lnTo>
                  <a:lnTo>
                    <a:pt x="335" y="1845"/>
                  </a:lnTo>
                  <a:lnTo>
                    <a:pt x="414" y="1827"/>
                  </a:lnTo>
                  <a:lnTo>
                    <a:pt x="582" y="1695"/>
                  </a:lnTo>
                  <a:lnTo>
                    <a:pt x="710" y="1470"/>
                  </a:lnTo>
                  <a:lnTo>
                    <a:pt x="710" y="1862"/>
                  </a:lnTo>
                  <a:lnTo>
                    <a:pt x="869" y="1924"/>
                  </a:lnTo>
                  <a:lnTo>
                    <a:pt x="966" y="1682"/>
                  </a:lnTo>
                  <a:lnTo>
                    <a:pt x="1046" y="1907"/>
                  </a:lnTo>
                  <a:lnTo>
                    <a:pt x="1112" y="1845"/>
                  </a:lnTo>
                  <a:lnTo>
                    <a:pt x="1143" y="1398"/>
                  </a:lnTo>
                  <a:lnTo>
                    <a:pt x="1337" y="975"/>
                  </a:lnTo>
                  <a:lnTo>
                    <a:pt x="1293" y="733"/>
                  </a:lnTo>
                  <a:lnTo>
                    <a:pt x="1156" y="640"/>
                  </a:lnTo>
                  <a:lnTo>
                    <a:pt x="1015" y="653"/>
                  </a:lnTo>
                  <a:lnTo>
                    <a:pt x="966" y="454"/>
                  </a:lnTo>
                  <a:lnTo>
                    <a:pt x="816" y="410"/>
                  </a:lnTo>
                  <a:lnTo>
                    <a:pt x="688" y="348"/>
                  </a:lnTo>
                  <a:lnTo>
                    <a:pt x="612" y="44"/>
                  </a:lnTo>
                  <a:lnTo>
                    <a:pt x="533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267680" y="1557360"/>
              <a:ext cx="141480" cy="335160"/>
            </a:xfrm>
            <a:custGeom>
              <a:avLst/>
              <a:gdLst/>
              <a:ahLst/>
              <a:rect l="0" t="0" r="r" b="b"/>
              <a:pathLst>
                <a:path w="393" h="931">
                  <a:moveTo>
                    <a:pt x="199" y="0"/>
                  </a:moveTo>
                  <a:lnTo>
                    <a:pt x="393" y="242"/>
                  </a:lnTo>
                  <a:lnTo>
                    <a:pt x="296" y="763"/>
                  </a:lnTo>
                  <a:lnTo>
                    <a:pt x="0" y="931"/>
                  </a:lnTo>
                  <a:lnTo>
                    <a:pt x="0" y="666"/>
                  </a:lnTo>
                  <a:lnTo>
                    <a:pt x="119" y="396"/>
                  </a:lnTo>
                  <a:lnTo>
                    <a:pt x="199" y="194"/>
                  </a:lnTo>
                  <a:lnTo>
                    <a:pt x="199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8188200" y="1365120"/>
              <a:ext cx="354240" cy="302040"/>
            </a:xfrm>
            <a:custGeom>
              <a:avLst/>
              <a:gdLst/>
              <a:ahLst/>
              <a:rect l="0" t="0" r="r" b="b"/>
              <a:pathLst>
                <a:path w="984" h="839">
                  <a:moveTo>
                    <a:pt x="405" y="0"/>
                  </a:moveTo>
                  <a:lnTo>
                    <a:pt x="405" y="136"/>
                  </a:lnTo>
                  <a:lnTo>
                    <a:pt x="440" y="256"/>
                  </a:lnTo>
                  <a:lnTo>
                    <a:pt x="631" y="455"/>
                  </a:lnTo>
                  <a:lnTo>
                    <a:pt x="984" y="569"/>
                  </a:lnTo>
                  <a:lnTo>
                    <a:pt x="935" y="822"/>
                  </a:lnTo>
                  <a:lnTo>
                    <a:pt x="631" y="839"/>
                  </a:lnTo>
                  <a:lnTo>
                    <a:pt x="189" y="659"/>
                  </a:lnTo>
                  <a:lnTo>
                    <a:pt x="0" y="336"/>
                  </a:lnTo>
                  <a:lnTo>
                    <a:pt x="220" y="17"/>
                  </a:lnTo>
                  <a:lnTo>
                    <a:pt x="405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8329680" y="1022400"/>
              <a:ext cx="495720" cy="667080"/>
            </a:xfrm>
            <a:custGeom>
              <a:avLst/>
              <a:gdLst/>
              <a:ahLst/>
              <a:rect l="0" t="0" r="r" b="b"/>
              <a:pathLst>
                <a:path w="1377" h="1853">
                  <a:moveTo>
                    <a:pt x="123" y="784"/>
                  </a:moveTo>
                  <a:lnTo>
                    <a:pt x="0" y="917"/>
                  </a:lnTo>
                  <a:lnTo>
                    <a:pt x="26" y="1218"/>
                  </a:lnTo>
                  <a:lnTo>
                    <a:pt x="216" y="1359"/>
                  </a:lnTo>
                  <a:lnTo>
                    <a:pt x="233" y="1817"/>
                  </a:lnTo>
                  <a:lnTo>
                    <a:pt x="428" y="1817"/>
                  </a:lnTo>
                  <a:lnTo>
                    <a:pt x="415" y="1434"/>
                  </a:lnTo>
                  <a:lnTo>
                    <a:pt x="556" y="1835"/>
                  </a:lnTo>
                  <a:lnTo>
                    <a:pt x="653" y="1853"/>
                  </a:lnTo>
                  <a:lnTo>
                    <a:pt x="724" y="1716"/>
                  </a:lnTo>
                  <a:lnTo>
                    <a:pt x="737" y="1460"/>
                  </a:lnTo>
                  <a:lnTo>
                    <a:pt x="949" y="1698"/>
                  </a:lnTo>
                  <a:lnTo>
                    <a:pt x="1032" y="1685"/>
                  </a:lnTo>
                  <a:lnTo>
                    <a:pt x="1010" y="1517"/>
                  </a:lnTo>
                  <a:lnTo>
                    <a:pt x="935" y="1284"/>
                  </a:lnTo>
                  <a:lnTo>
                    <a:pt x="852" y="1129"/>
                  </a:lnTo>
                  <a:lnTo>
                    <a:pt x="882" y="1024"/>
                  </a:lnTo>
                  <a:lnTo>
                    <a:pt x="935" y="1041"/>
                  </a:lnTo>
                  <a:lnTo>
                    <a:pt x="1126" y="1284"/>
                  </a:lnTo>
                  <a:lnTo>
                    <a:pt x="1333" y="1341"/>
                  </a:lnTo>
                  <a:lnTo>
                    <a:pt x="1377" y="1266"/>
                  </a:lnTo>
                  <a:lnTo>
                    <a:pt x="1346" y="1143"/>
                  </a:lnTo>
                  <a:lnTo>
                    <a:pt x="962" y="767"/>
                  </a:lnTo>
                  <a:lnTo>
                    <a:pt x="653" y="652"/>
                  </a:lnTo>
                  <a:lnTo>
                    <a:pt x="618" y="445"/>
                  </a:lnTo>
                  <a:lnTo>
                    <a:pt x="724" y="260"/>
                  </a:lnTo>
                  <a:lnTo>
                    <a:pt x="724" y="57"/>
                  </a:lnTo>
                  <a:lnTo>
                    <a:pt x="636" y="0"/>
                  </a:lnTo>
                  <a:lnTo>
                    <a:pt x="415" y="502"/>
                  </a:lnTo>
                  <a:lnTo>
                    <a:pt x="216" y="577"/>
                  </a:lnTo>
                  <a:lnTo>
                    <a:pt x="167" y="714"/>
                  </a:lnTo>
                  <a:lnTo>
                    <a:pt x="123" y="784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516800" y="446040"/>
              <a:ext cx="541800" cy="849600"/>
            </a:xfrm>
            <a:custGeom>
              <a:avLst/>
              <a:gdLst/>
              <a:ahLst/>
              <a:rect l="0" t="0" r="r" b="b"/>
              <a:pathLst>
                <a:path w="1505" h="2360">
                  <a:moveTo>
                    <a:pt x="374" y="326"/>
                  </a:moveTo>
                  <a:lnTo>
                    <a:pt x="264" y="780"/>
                  </a:lnTo>
                  <a:lnTo>
                    <a:pt x="13" y="868"/>
                  </a:lnTo>
                  <a:lnTo>
                    <a:pt x="83" y="1014"/>
                  </a:lnTo>
                  <a:lnTo>
                    <a:pt x="0" y="1102"/>
                  </a:lnTo>
                  <a:lnTo>
                    <a:pt x="0" y="1266"/>
                  </a:lnTo>
                  <a:lnTo>
                    <a:pt x="119" y="1416"/>
                  </a:lnTo>
                  <a:lnTo>
                    <a:pt x="233" y="1416"/>
                  </a:lnTo>
                  <a:lnTo>
                    <a:pt x="313" y="1941"/>
                  </a:lnTo>
                  <a:lnTo>
                    <a:pt x="406" y="2166"/>
                  </a:lnTo>
                  <a:lnTo>
                    <a:pt x="715" y="2360"/>
                  </a:lnTo>
                  <a:lnTo>
                    <a:pt x="1024" y="2329"/>
                  </a:lnTo>
                  <a:lnTo>
                    <a:pt x="1170" y="1941"/>
                  </a:lnTo>
                  <a:lnTo>
                    <a:pt x="1205" y="1345"/>
                  </a:lnTo>
                  <a:lnTo>
                    <a:pt x="1505" y="1045"/>
                  </a:lnTo>
                  <a:lnTo>
                    <a:pt x="1492" y="926"/>
                  </a:lnTo>
                  <a:lnTo>
                    <a:pt x="1457" y="868"/>
                  </a:lnTo>
                  <a:lnTo>
                    <a:pt x="1298" y="855"/>
                  </a:lnTo>
                  <a:lnTo>
                    <a:pt x="1346" y="701"/>
                  </a:lnTo>
                  <a:lnTo>
                    <a:pt x="1188" y="595"/>
                  </a:lnTo>
                  <a:lnTo>
                    <a:pt x="1121" y="260"/>
                  </a:lnTo>
                  <a:lnTo>
                    <a:pt x="653" y="0"/>
                  </a:lnTo>
                  <a:lnTo>
                    <a:pt x="406" y="242"/>
                  </a:lnTo>
                  <a:lnTo>
                    <a:pt x="374" y="32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556400" y="1155600"/>
              <a:ext cx="495720" cy="1016280"/>
            </a:xfrm>
            <a:custGeom>
              <a:avLst/>
              <a:gdLst/>
              <a:ahLst/>
              <a:rect l="0" t="0" r="r" b="b"/>
              <a:pathLst>
                <a:path w="1377" h="2823">
                  <a:moveTo>
                    <a:pt x="282" y="149"/>
                  </a:moveTo>
                  <a:lnTo>
                    <a:pt x="477" y="282"/>
                  </a:lnTo>
                  <a:lnTo>
                    <a:pt x="574" y="432"/>
                  </a:lnTo>
                  <a:lnTo>
                    <a:pt x="1126" y="0"/>
                  </a:lnTo>
                  <a:lnTo>
                    <a:pt x="1298" y="88"/>
                  </a:lnTo>
                  <a:lnTo>
                    <a:pt x="1377" y="533"/>
                  </a:lnTo>
                  <a:lnTo>
                    <a:pt x="979" y="1835"/>
                  </a:lnTo>
                  <a:lnTo>
                    <a:pt x="1108" y="2549"/>
                  </a:lnTo>
                  <a:lnTo>
                    <a:pt x="587" y="2823"/>
                  </a:lnTo>
                  <a:lnTo>
                    <a:pt x="185" y="2668"/>
                  </a:lnTo>
                  <a:lnTo>
                    <a:pt x="185" y="1910"/>
                  </a:lnTo>
                  <a:lnTo>
                    <a:pt x="0" y="1172"/>
                  </a:lnTo>
                  <a:lnTo>
                    <a:pt x="185" y="282"/>
                  </a:lnTo>
                  <a:lnTo>
                    <a:pt x="282" y="149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578720" y="331920"/>
              <a:ext cx="462240" cy="270360"/>
            </a:xfrm>
            <a:custGeom>
              <a:avLst/>
              <a:gdLst/>
              <a:ahLst/>
              <a:rect l="0" t="0" r="r" b="b"/>
              <a:pathLst>
                <a:path w="1284" h="751">
                  <a:moveTo>
                    <a:pt x="158" y="716"/>
                  </a:moveTo>
                  <a:lnTo>
                    <a:pt x="348" y="516"/>
                  </a:lnTo>
                  <a:lnTo>
                    <a:pt x="467" y="486"/>
                  </a:lnTo>
                  <a:lnTo>
                    <a:pt x="467" y="503"/>
                  </a:lnTo>
                  <a:lnTo>
                    <a:pt x="529" y="486"/>
                  </a:lnTo>
                  <a:lnTo>
                    <a:pt x="604" y="547"/>
                  </a:lnTo>
                  <a:lnTo>
                    <a:pt x="759" y="575"/>
                  </a:lnTo>
                  <a:lnTo>
                    <a:pt x="882" y="751"/>
                  </a:lnTo>
                  <a:lnTo>
                    <a:pt x="1081" y="676"/>
                  </a:lnTo>
                  <a:lnTo>
                    <a:pt x="1081" y="592"/>
                  </a:lnTo>
                  <a:lnTo>
                    <a:pt x="1284" y="503"/>
                  </a:lnTo>
                  <a:lnTo>
                    <a:pt x="1222" y="362"/>
                  </a:lnTo>
                  <a:lnTo>
                    <a:pt x="1032" y="349"/>
                  </a:lnTo>
                  <a:lnTo>
                    <a:pt x="1063" y="195"/>
                  </a:lnTo>
                  <a:lnTo>
                    <a:pt x="900" y="212"/>
                  </a:lnTo>
                  <a:lnTo>
                    <a:pt x="869" y="105"/>
                  </a:lnTo>
                  <a:lnTo>
                    <a:pt x="759" y="105"/>
                  </a:lnTo>
                  <a:lnTo>
                    <a:pt x="680" y="167"/>
                  </a:lnTo>
                  <a:lnTo>
                    <a:pt x="604" y="167"/>
                  </a:lnTo>
                  <a:lnTo>
                    <a:pt x="621" y="0"/>
                  </a:lnTo>
                  <a:lnTo>
                    <a:pt x="467" y="74"/>
                  </a:lnTo>
                  <a:lnTo>
                    <a:pt x="251" y="349"/>
                  </a:lnTo>
                  <a:lnTo>
                    <a:pt x="242" y="167"/>
                  </a:lnTo>
                  <a:lnTo>
                    <a:pt x="127" y="256"/>
                  </a:lnTo>
                  <a:lnTo>
                    <a:pt x="97" y="486"/>
                  </a:lnTo>
                  <a:lnTo>
                    <a:pt x="0" y="441"/>
                  </a:lnTo>
                  <a:lnTo>
                    <a:pt x="13" y="592"/>
                  </a:lnTo>
                  <a:lnTo>
                    <a:pt x="158" y="716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702560" y="1343160"/>
              <a:ext cx="147960" cy="768600"/>
            </a:xfrm>
            <a:custGeom>
              <a:avLst/>
              <a:gdLst/>
              <a:ahLst/>
              <a:rect l="0" t="0" r="r" b="b"/>
              <a:pathLst>
                <a:path w="411" h="2135">
                  <a:moveTo>
                    <a:pt x="212" y="13"/>
                  </a:moveTo>
                  <a:lnTo>
                    <a:pt x="70" y="105"/>
                  </a:lnTo>
                  <a:lnTo>
                    <a:pt x="70" y="282"/>
                  </a:lnTo>
                  <a:lnTo>
                    <a:pt x="167" y="343"/>
                  </a:lnTo>
                  <a:lnTo>
                    <a:pt x="39" y="626"/>
                  </a:lnTo>
                  <a:lnTo>
                    <a:pt x="0" y="1001"/>
                  </a:lnTo>
                  <a:lnTo>
                    <a:pt x="101" y="1495"/>
                  </a:lnTo>
                  <a:lnTo>
                    <a:pt x="101" y="1703"/>
                  </a:lnTo>
                  <a:lnTo>
                    <a:pt x="48" y="1857"/>
                  </a:lnTo>
                  <a:lnTo>
                    <a:pt x="261" y="2135"/>
                  </a:lnTo>
                  <a:lnTo>
                    <a:pt x="397" y="1720"/>
                  </a:lnTo>
                  <a:lnTo>
                    <a:pt x="397" y="1434"/>
                  </a:lnTo>
                  <a:lnTo>
                    <a:pt x="296" y="1169"/>
                  </a:lnTo>
                  <a:lnTo>
                    <a:pt x="247" y="806"/>
                  </a:lnTo>
                  <a:lnTo>
                    <a:pt x="349" y="454"/>
                  </a:lnTo>
                  <a:lnTo>
                    <a:pt x="314" y="313"/>
                  </a:lnTo>
                  <a:lnTo>
                    <a:pt x="411" y="242"/>
                  </a:lnTo>
                  <a:lnTo>
                    <a:pt x="397" y="149"/>
                  </a:lnTo>
                  <a:lnTo>
                    <a:pt x="274" y="0"/>
                  </a:lnTo>
                  <a:lnTo>
                    <a:pt x="212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697880" y="1085760"/>
              <a:ext cx="119520" cy="70200"/>
            </a:xfrm>
            <a:custGeom>
              <a:avLst/>
              <a:gdLst/>
              <a:ahLst/>
              <a:rect l="0" t="0" r="r" b="b"/>
              <a:pathLst>
                <a:path w="332" h="195">
                  <a:moveTo>
                    <a:pt x="0" y="57"/>
                  </a:moveTo>
                  <a:lnTo>
                    <a:pt x="133" y="195"/>
                  </a:lnTo>
                  <a:lnTo>
                    <a:pt x="266" y="177"/>
                  </a:lnTo>
                  <a:lnTo>
                    <a:pt x="332" y="17"/>
                  </a:lnTo>
                  <a:lnTo>
                    <a:pt x="186" y="0"/>
                  </a:lnTo>
                  <a:lnTo>
                    <a:pt x="35" y="1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567560" y="730080"/>
              <a:ext cx="147960" cy="151200"/>
            </a:xfrm>
            <a:custGeom>
              <a:avLst/>
              <a:gdLst/>
              <a:ahLst/>
              <a:rect l="0" t="0" r="r" b="b"/>
              <a:pathLst>
                <a:path w="411" h="420">
                  <a:moveTo>
                    <a:pt x="0" y="48"/>
                  </a:moveTo>
                  <a:lnTo>
                    <a:pt x="283" y="420"/>
                  </a:lnTo>
                  <a:lnTo>
                    <a:pt x="411" y="390"/>
                  </a:lnTo>
                  <a:lnTo>
                    <a:pt x="114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827840" y="698400"/>
              <a:ext cx="127440" cy="151200"/>
            </a:xfrm>
            <a:custGeom>
              <a:avLst/>
              <a:gdLst/>
              <a:ahLst/>
              <a:rect l="0" t="0" r="r" b="b"/>
              <a:pathLst>
                <a:path w="354" h="420">
                  <a:moveTo>
                    <a:pt x="0" y="61"/>
                  </a:moveTo>
                  <a:lnTo>
                    <a:pt x="243" y="420"/>
                  </a:lnTo>
                  <a:lnTo>
                    <a:pt x="354" y="328"/>
                  </a:lnTo>
                  <a:lnTo>
                    <a:pt x="98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513560" y="504720"/>
              <a:ext cx="516240" cy="376560"/>
            </a:xfrm>
            <a:custGeom>
              <a:avLst/>
              <a:gdLst/>
              <a:ahLst/>
              <a:rect l="0" t="0" r="r" b="b"/>
              <a:pathLst>
                <a:path w="1434" h="1046">
                  <a:moveTo>
                    <a:pt x="657" y="622"/>
                  </a:moveTo>
                  <a:lnTo>
                    <a:pt x="524" y="583"/>
                  </a:lnTo>
                  <a:lnTo>
                    <a:pt x="639" y="489"/>
                  </a:lnTo>
                  <a:lnTo>
                    <a:pt x="599" y="436"/>
                  </a:lnTo>
                  <a:lnTo>
                    <a:pt x="449" y="561"/>
                  </a:lnTo>
                  <a:lnTo>
                    <a:pt x="180" y="591"/>
                  </a:lnTo>
                  <a:lnTo>
                    <a:pt x="0" y="600"/>
                  </a:lnTo>
                  <a:lnTo>
                    <a:pt x="0" y="746"/>
                  </a:lnTo>
                  <a:lnTo>
                    <a:pt x="171" y="1037"/>
                  </a:lnTo>
                  <a:lnTo>
                    <a:pt x="216" y="1046"/>
                  </a:lnTo>
                  <a:lnTo>
                    <a:pt x="61" y="724"/>
                  </a:lnTo>
                  <a:lnTo>
                    <a:pt x="295" y="622"/>
                  </a:lnTo>
                  <a:lnTo>
                    <a:pt x="449" y="622"/>
                  </a:lnTo>
                  <a:lnTo>
                    <a:pt x="568" y="684"/>
                  </a:lnTo>
                  <a:lnTo>
                    <a:pt x="599" y="772"/>
                  </a:lnTo>
                  <a:lnTo>
                    <a:pt x="599" y="975"/>
                  </a:lnTo>
                  <a:lnTo>
                    <a:pt x="599" y="1037"/>
                  </a:lnTo>
                  <a:lnTo>
                    <a:pt x="665" y="944"/>
                  </a:lnTo>
                  <a:lnTo>
                    <a:pt x="665" y="737"/>
                  </a:lnTo>
                  <a:lnTo>
                    <a:pt x="768" y="737"/>
                  </a:lnTo>
                  <a:lnTo>
                    <a:pt x="816" y="975"/>
                  </a:lnTo>
                  <a:lnTo>
                    <a:pt x="874" y="993"/>
                  </a:lnTo>
                  <a:lnTo>
                    <a:pt x="1046" y="993"/>
                  </a:lnTo>
                  <a:lnTo>
                    <a:pt x="1222" y="953"/>
                  </a:lnTo>
                  <a:lnTo>
                    <a:pt x="1350" y="865"/>
                  </a:lnTo>
                  <a:lnTo>
                    <a:pt x="1368" y="649"/>
                  </a:lnTo>
                  <a:lnTo>
                    <a:pt x="1434" y="561"/>
                  </a:lnTo>
                  <a:lnTo>
                    <a:pt x="1394" y="507"/>
                  </a:lnTo>
                  <a:lnTo>
                    <a:pt x="1235" y="445"/>
                  </a:lnTo>
                  <a:lnTo>
                    <a:pt x="1209" y="233"/>
                  </a:lnTo>
                  <a:lnTo>
                    <a:pt x="1059" y="233"/>
                  </a:lnTo>
                  <a:lnTo>
                    <a:pt x="882" y="0"/>
                  </a:lnTo>
                  <a:lnTo>
                    <a:pt x="1041" y="260"/>
                  </a:lnTo>
                  <a:lnTo>
                    <a:pt x="1094" y="260"/>
                  </a:lnTo>
                  <a:lnTo>
                    <a:pt x="1129" y="436"/>
                  </a:lnTo>
                  <a:lnTo>
                    <a:pt x="927" y="507"/>
                  </a:lnTo>
                  <a:lnTo>
                    <a:pt x="781" y="454"/>
                  </a:lnTo>
                  <a:lnTo>
                    <a:pt x="759" y="507"/>
                  </a:lnTo>
                  <a:lnTo>
                    <a:pt x="834" y="561"/>
                  </a:lnTo>
                  <a:lnTo>
                    <a:pt x="834" y="613"/>
                  </a:lnTo>
                  <a:lnTo>
                    <a:pt x="1010" y="530"/>
                  </a:lnTo>
                  <a:lnTo>
                    <a:pt x="1151" y="520"/>
                  </a:lnTo>
                  <a:lnTo>
                    <a:pt x="1315" y="538"/>
                  </a:lnTo>
                  <a:lnTo>
                    <a:pt x="1315" y="569"/>
                  </a:lnTo>
                  <a:lnTo>
                    <a:pt x="1240" y="640"/>
                  </a:lnTo>
                  <a:lnTo>
                    <a:pt x="1209" y="737"/>
                  </a:lnTo>
                  <a:lnTo>
                    <a:pt x="1200" y="865"/>
                  </a:lnTo>
                  <a:lnTo>
                    <a:pt x="1107" y="913"/>
                  </a:lnTo>
                  <a:lnTo>
                    <a:pt x="966" y="931"/>
                  </a:lnTo>
                  <a:lnTo>
                    <a:pt x="874" y="931"/>
                  </a:lnTo>
                  <a:lnTo>
                    <a:pt x="838" y="891"/>
                  </a:lnTo>
                  <a:lnTo>
                    <a:pt x="816" y="649"/>
                  </a:lnTo>
                  <a:lnTo>
                    <a:pt x="665" y="649"/>
                  </a:lnTo>
                  <a:lnTo>
                    <a:pt x="657" y="6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691400" y="938160"/>
              <a:ext cx="165600" cy="76680"/>
            </a:xfrm>
            <a:custGeom>
              <a:avLst/>
              <a:gdLst/>
              <a:ahLst/>
              <a:rect l="0" t="0" r="r" b="b"/>
              <a:pathLst>
                <a:path w="460" h="213">
                  <a:moveTo>
                    <a:pt x="0" y="0"/>
                  </a:moveTo>
                  <a:lnTo>
                    <a:pt x="74" y="98"/>
                  </a:lnTo>
                  <a:lnTo>
                    <a:pt x="274" y="98"/>
                  </a:lnTo>
                  <a:lnTo>
                    <a:pt x="354" y="30"/>
                  </a:lnTo>
                  <a:lnTo>
                    <a:pt x="460" y="30"/>
                  </a:lnTo>
                  <a:lnTo>
                    <a:pt x="442" y="62"/>
                  </a:lnTo>
                  <a:lnTo>
                    <a:pt x="442" y="98"/>
                  </a:lnTo>
                  <a:lnTo>
                    <a:pt x="256" y="213"/>
                  </a:lnTo>
                  <a:lnTo>
                    <a:pt x="155" y="213"/>
                  </a:lnTo>
                  <a:lnTo>
                    <a:pt x="97" y="169"/>
                  </a:lnTo>
                  <a:lnTo>
                    <a:pt x="39" y="1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505640" y="814320"/>
              <a:ext cx="251280" cy="405000"/>
            </a:xfrm>
            <a:custGeom>
              <a:avLst/>
              <a:gdLst/>
              <a:ahLst/>
              <a:rect l="0" t="0" r="r" b="b"/>
              <a:pathLst>
                <a:path w="698" h="1125">
                  <a:moveTo>
                    <a:pt x="698" y="79"/>
                  </a:moveTo>
                  <a:lnTo>
                    <a:pt x="698" y="97"/>
                  </a:lnTo>
                  <a:lnTo>
                    <a:pt x="575" y="211"/>
                  </a:lnTo>
                  <a:lnTo>
                    <a:pt x="472" y="233"/>
                  </a:lnTo>
                  <a:lnTo>
                    <a:pt x="278" y="202"/>
                  </a:lnTo>
                  <a:lnTo>
                    <a:pt x="314" y="609"/>
                  </a:lnTo>
                  <a:lnTo>
                    <a:pt x="362" y="944"/>
                  </a:lnTo>
                  <a:lnTo>
                    <a:pt x="441" y="1125"/>
                  </a:lnTo>
                  <a:lnTo>
                    <a:pt x="362" y="993"/>
                  </a:lnTo>
                  <a:lnTo>
                    <a:pt x="327" y="852"/>
                  </a:lnTo>
                  <a:lnTo>
                    <a:pt x="269" y="476"/>
                  </a:lnTo>
                  <a:lnTo>
                    <a:pt x="212" y="498"/>
                  </a:lnTo>
                  <a:lnTo>
                    <a:pt x="145" y="454"/>
                  </a:lnTo>
                  <a:lnTo>
                    <a:pt x="13" y="255"/>
                  </a:lnTo>
                  <a:lnTo>
                    <a:pt x="0" y="145"/>
                  </a:lnTo>
                  <a:lnTo>
                    <a:pt x="0" y="66"/>
                  </a:lnTo>
                  <a:lnTo>
                    <a:pt x="30" y="22"/>
                  </a:lnTo>
                  <a:lnTo>
                    <a:pt x="110" y="0"/>
                  </a:lnTo>
                  <a:lnTo>
                    <a:pt x="119" y="30"/>
                  </a:lnTo>
                  <a:lnTo>
                    <a:pt x="57" y="52"/>
                  </a:lnTo>
                  <a:lnTo>
                    <a:pt x="39" y="136"/>
                  </a:lnTo>
                  <a:lnTo>
                    <a:pt x="48" y="242"/>
                  </a:lnTo>
                  <a:lnTo>
                    <a:pt x="136" y="335"/>
                  </a:lnTo>
                  <a:lnTo>
                    <a:pt x="181" y="313"/>
                  </a:lnTo>
                  <a:lnTo>
                    <a:pt x="181" y="110"/>
                  </a:lnTo>
                  <a:lnTo>
                    <a:pt x="265" y="154"/>
                  </a:lnTo>
                  <a:lnTo>
                    <a:pt x="389" y="180"/>
                  </a:lnTo>
                  <a:lnTo>
                    <a:pt x="508" y="171"/>
                  </a:lnTo>
                  <a:lnTo>
                    <a:pt x="619" y="110"/>
                  </a:lnTo>
                  <a:lnTo>
                    <a:pt x="698" y="7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572240" y="493560"/>
              <a:ext cx="76680" cy="216360"/>
            </a:xfrm>
            <a:custGeom>
              <a:avLst/>
              <a:gdLst/>
              <a:ahLst/>
              <a:rect l="0" t="0" r="r" b="b"/>
              <a:pathLst>
                <a:path w="213" h="601">
                  <a:moveTo>
                    <a:pt x="111" y="601"/>
                  </a:moveTo>
                  <a:lnTo>
                    <a:pt x="213" y="247"/>
                  </a:lnTo>
                  <a:lnTo>
                    <a:pt x="26" y="119"/>
                  </a:lnTo>
                  <a:lnTo>
                    <a:pt x="0" y="0"/>
                  </a:lnTo>
                  <a:lnTo>
                    <a:pt x="13" y="145"/>
                  </a:lnTo>
                  <a:lnTo>
                    <a:pt x="75" y="203"/>
                  </a:lnTo>
                  <a:lnTo>
                    <a:pt x="84" y="384"/>
                  </a:lnTo>
                  <a:lnTo>
                    <a:pt x="128" y="456"/>
                  </a:lnTo>
                  <a:lnTo>
                    <a:pt x="111" y="60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570800" y="304920"/>
              <a:ext cx="565560" cy="284400"/>
            </a:xfrm>
            <a:custGeom>
              <a:avLst/>
              <a:gdLst/>
              <a:ahLst/>
              <a:rect l="0" t="0" r="r" b="b"/>
              <a:pathLst>
                <a:path w="1571" h="790">
                  <a:moveTo>
                    <a:pt x="13" y="534"/>
                  </a:moveTo>
                  <a:lnTo>
                    <a:pt x="149" y="618"/>
                  </a:lnTo>
                  <a:lnTo>
                    <a:pt x="136" y="512"/>
                  </a:lnTo>
                  <a:lnTo>
                    <a:pt x="163" y="335"/>
                  </a:lnTo>
                  <a:lnTo>
                    <a:pt x="251" y="295"/>
                  </a:lnTo>
                  <a:lnTo>
                    <a:pt x="264" y="490"/>
                  </a:lnTo>
                  <a:lnTo>
                    <a:pt x="525" y="154"/>
                  </a:lnTo>
                  <a:lnTo>
                    <a:pt x="591" y="132"/>
                  </a:lnTo>
                  <a:lnTo>
                    <a:pt x="543" y="264"/>
                  </a:lnTo>
                  <a:lnTo>
                    <a:pt x="706" y="326"/>
                  </a:lnTo>
                  <a:lnTo>
                    <a:pt x="825" y="194"/>
                  </a:lnTo>
                  <a:lnTo>
                    <a:pt x="891" y="233"/>
                  </a:lnTo>
                  <a:lnTo>
                    <a:pt x="834" y="348"/>
                  </a:lnTo>
                  <a:lnTo>
                    <a:pt x="913" y="282"/>
                  </a:lnTo>
                  <a:lnTo>
                    <a:pt x="1028" y="335"/>
                  </a:lnTo>
                  <a:lnTo>
                    <a:pt x="935" y="428"/>
                  </a:lnTo>
                  <a:lnTo>
                    <a:pt x="1258" y="490"/>
                  </a:lnTo>
                  <a:lnTo>
                    <a:pt x="1041" y="556"/>
                  </a:lnTo>
                  <a:lnTo>
                    <a:pt x="1311" y="596"/>
                  </a:lnTo>
                  <a:lnTo>
                    <a:pt x="993" y="671"/>
                  </a:lnTo>
                  <a:lnTo>
                    <a:pt x="1059" y="733"/>
                  </a:lnTo>
                  <a:lnTo>
                    <a:pt x="966" y="790"/>
                  </a:lnTo>
                  <a:lnTo>
                    <a:pt x="1129" y="790"/>
                  </a:lnTo>
                  <a:lnTo>
                    <a:pt x="1116" y="741"/>
                  </a:lnTo>
                  <a:lnTo>
                    <a:pt x="1285" y="785"/>
                  </a:lnTo>
                  <a:lnTo>
                    <a:pt x="1258" y="658"/>
                  </a:lnTo>
                  <a:lnTo>
                    <a:pt x="1417" y="605"/>
                  </a:lnTo>
                  <a:lnTo>
                    <a:pt x="1307" y="543"/>
                  </a:lnTo>
                  <a:lnTo>
                    <a:pt x="1571" y="525"/>
                  </a:lnTo>
                  <a:lnTo>
                    <a:pt x="1342" y="397"/>
                  </a:lnTo>
                  <a:lnTo>
                    <a:pt x="1081" y="370"/>
                  </a:lnTo>
                  <a:lnTo>
                    <a:pt x="1285" y="242"/>
                  </a:lnTo>
                  <a:lnTo>
                    <a:pt x="913" y="242"/>
                  </a:lnTo>
                  <a:lnTo>
                    <a:pt x="1090" y="119"/>
                  </a:lnTo>
                  <a:lnTo>
                    <a:pt x="821" y="154"/>
                  </a:lnTo>
                  <a:lnTo>
                    <a:pt x="693" y="211"/>
                  </a:lnTo>
                  <a:lnTo>
                    <a:pt x="799" y="0"/>
                  </a:lnTo>
                  <a:lnTo>
                    <a:pt x="472" y="119"/>
                  </a:lnTo>
                  <a:lnTo>
                    <a:pt x="291" y="379"/>
                  </a:lnTo>
                  <a:lnTo>
                    <a:pt x="264" y="233"/>
                  </a:lnTo>
                  <a:lnTo>
                    <a:pt x="114" y="335"/>
                  </a:lnTo>
                  <a:lnTo>
                    <a:pt x="97" y="525"/>
                  </a:lnTo>
                  <a:lnTo>
                    <a:pt x="0" y="490"/>
                  </a:lnTo>
                  <a:lnTo>
                    <a:pt x="35" y="658"/>
                  </a:lnTo>
                  <a:lnTo>
                    <a:pt x="13" y="5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693200" y="455760"/>
              <a:ext cx="160560" cy="86040"/>
            </a:xfrm>
            <a:custGeom>
              <a:avLst/>
              <a:gdLst/>
              <a:ahLst/>
              <a:rect l="0" t="0" r="r" b="b"/>
              <a:pathLst>
                <a:path w="446" h="239">
                  <a:moveTo>
                    <a:pt x="0" y="239"/>
                  </a:moveTo>
                  <a:lnTo>
                    <a:pt x="167" y="0"/>
                  </a:lnTo>
                  <a:lnTo>
                    <a:pt x="167" y="159"/>
                  </a:lnTo>
                  <a:lnTo>
                    <a:pt x="225" y="92"/>
                  </a:lnTo>
                  <a:lnTo>
                    <a:pt x="278" y="181"/>
                  </a:lnTo>
                  <a:lnTo>
                    <a:pt x="446" y="225"/>
                  </a:lnTo>
                  <a:lnTo>
                    <a:pt x="269" y="195"/>
                  </a:lnTo>
                  <a:lnTo>
                    <a:pt x="216" y="137"/>
                  </a:lnTo>
                  <a:lnTo>
                    <a:pt x="141" y="195"/>
                  </a:lnTo>
                  <a:lnTo>
                    <a:pt x="141" y="124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678800" y="1038240"/>
              <a:ext cx="192600" cy="127440"/>
            </a:xfrm>
            <a:custGeom>
              <a:avLst/>
              <a:gdLst/>
              <a:ahLst/>
              <a:rect l="0" t="0" r="r" b="b"/>
              <a:pathLst>
                <a:path w="535" h="354">
                  <a:moveTo>
                    <a:pt x="101" y="124"/>
                  </a:moveTo>
                  <a:lnTo>
                    <a:pt x="322" y="106"/>
                  </a:lnTo>
                  <a:lnTo>
                    <a:pt x="425" y="133"/>
                  </a:lnTo>
                  <a:lnTo>
                    <a:pt x="478" y="79"/>
                  </a:lnTo>
                  <a:lnTo>
                    <a:pt x="535" y="195"/>
                  </a:lnTo>
                  <a:lnTo>
                    <a:pt x="500" y="217"/>
                  </a:lnTo>
                  <a:lnTo>
                    <a:pt x="451" y="177"/>
                  </a:lnTo>
                  <a:lnTo>
                    <a:pt x="380" y="256"/>
                  </a:lnTo>
                  <a:lnTo>
                    <a:pt x="247" y="354"/>
                  </a:lnTo>
                  <a:lnTo>
                    <a:pt x="190" y="354"/>
                  </a:lnTo>
                  <a:lnTo>
                    <a:pt x="101" y="301"/>
                  </a:lnTo>
                  <a:lnTo>
                    <a:pt x="199" y="345"/>
                  </a:lnTo>
                  <a:lnTo>
                    <a:pt x="239" y="345"/>
                  </a:lnTo>
                  <a:lnTo>
                    <a:pt x="322" y="284"/>
                  </a:lnTo>
                  <a:lnTo>
                    <a:pt x="375" y="164"/>
                  </a:lnTo>
                  <a:lnTo>
                    <a:pt x="292" y="146"/>
                  </a:lnTo>
                  <a:lnTo>
                    <a:pt x="234" y="133"/>
                  </a:lnTo>
                  <a:lnTo>
                    <a:pt x="88" y="155"/>
                  </a:lnTo>
                  <a:lnTo>
                    <a:pt x="88" y="247"/>
                  </a:lnTo>
                  <a:lnTo>
                    <a:pt x="39" y="186"/>
                  </a:lnTo>
                  <a:lnTo>
                    <a:pt x="0" y="270"/>
                  </a:lnTo>
                  <a:lnTo>
                    <a:pt x="4" y="93"/>
                  </a:lnTo>
                  <a:lnTo>
                    <a:pt x="57" y="0"/>
                  </a:lnTo>
                  <a:lnTo>
                    <a:pt x="101" y="93"/>
                  </a:lnTo>
                  <a:lnTo>
                    <a:pt x="101" y="12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655040" y="762120"/>
              <a:ext cx="411480" cy="587880"/>
            </a:xfrm>
            <a:custGeom>
              <a:avLst/>
              <a:gdLst/>
              <a:ahLst/>
              <a:rect l="0" t="0" r="r" b="b"/>
              <a:pathLst>
                <a:path w="1143" h="1633">
                  <a:moveTo>
                    <a:pt x="962" y="0"/>
                  </a:moveTo>
                  <a:lnTo>
                    <a:pt x="1076" y="0"/>
                  </a:lnTo>
                  <a:lnTo>
                    <a:pt x="1143" y="79"/>
                  </a:lnTo>
                  <a:lnTo>
                    <a:pt x="1143" y="167"/>
                  </a:lnTo>
                  <a:lnTo>
                    <a:pt x="1050" y="424"/>
                  </a:lnTo>
                  <a:lnTo>
                    <a:pt x="957" y="547"/>
                  </a:lnTo>
                  <a:lnTo>
                    <a:pt x="856" y="565"/>
                  </a:lnTo>
                  <a:lnTo>
                    <a:pt x="830" y="565"/>
                  </a:lnTo>
                  <a:lnTo>
                    <a:pt x="830" y="887"/>
                  </a:lnTo>
                  <a:lnTo>
                    <a:pt x="878" y="1121"/>
                  </a:lnTo>
                  <a:lnTo>
                    <a:pt x="878" y="1311"/>
                  </a:lnTo>
                  <a:lnTo>
                    <a:pt x="702" y="1501"/>
                  </a:lnTo>
                  <a:lnTo>
                    <a:pt x="467" y="1633"/>
                  </a:lnTo>
                  <a:lnTo>
                    <a:pt x="317" y="1633"/>
                  </a:lnTo>
                  <a:lnTo>
                    <a:pt x="242" y="1593"/>
                  </a:lnTo>
                  <a:lnTo>
                    <a:pt x="136" y="1369"/>
                  </a:lnTo>
                  <a:lnTo>
                    <a:pt x="39" y="1289"/>
                  </a:lnTo>
                  <a:lnTo>
                    <a:pt x="0" y="1232"/>
                  </a:lnTo>
                  <a:lnTo>
                    <a:pt x="127" y="1311"/>
                  </a:lnTo>
                  <a:lnTo>
                    <a:pt x="220" y="1391"/>
                  </a:lnTo>
                  <a:lnTo>
                    <a:pt x="401" y="1404"/>
                  </a:lnTo>
                  <a:lnTo>
                    <a:pt x="568" y="1324"/>
                  </a:lnTo>
                  <a:lnTo>
                    <a:pt x="653" y="1232"/>
                  </a:lnTo>
                  <a:lnTo>
                    <a:pt x="750" y="1063"/>
                  </a:lnTo>
                  <a:lnTo>
                    <a:pt x="763" y="869"/>
                  </a:lnTo>
                  <a:lnTo>
                    <a:pt x="799" y="242"/>
                  </a:lnTo>
                  <a:lnTo>
                    <a:pt x="838" y="330"/>
                  </a:lnTo>
                  <a:lnTo>
                    <a:pt x="953" y="216"/>
                  </a:lnTo>
                  <a:lnTo>
                    <a:pt x="1068" y="167"/>
                  </a:lnTo>
                  <a:lnTo>
                    <a:pt x="1099" y="101"/>
                  </a:lnTo>
                  <a:lnTo>
                    <a:pt x="1085" y="39"/>
                  </a:lnTo>
                  <a:lnTo>
                    <a:pt x="1032" y="8"/>
                  </a:lnTo>
                  <a:lnTo>
                    <a:pt x="96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16760" y="1268280"/>
              <a:ext cx="332280" cy="545040"/>
            </a:xfrm>
            <a:custGeom>
              <a:avLst/>
              <a:gdLst/>
              <a:ahLst/>
              <a:rect l="0" t="0" r="r" b="b"/>
              <a:pathLst>
                <a:path w="923" h="1514">
                  <a:moveTo>
                    <a:pt x="114" y="0"/>
                  </a:moveTo>
                  <a:lnTo>
                    <a:pt x="220" y="66"/>
                  </a:lnTo>
                  <a:lnTo>
                    <a:pt x="300" y="380"/>
                  </a:lnTo>
                  <a:lnTo>
                    <a:pt x="538" y="446"/>
                  </a:lnTo>
                  <a:lnTo>
                    <a:pt x="605" y="525"/>
                  </a:lnTo>
                  <a:lnTo>
                    <a:pt x="618" y="644"/>
                  </a:lnTo>
                  <a:lnTo>
                    <a:pt x="734" y="627"/>
                  </a:lnTo>
                  <a:lnTo>
                    <a:pt x="879" y="724"/>
                  </a:lnTo>
                  <a:lnTo>
                    <a:pt x="923" y="847"/>
                  </a:lnTo>
                  <a:lnTo>
                    <a:pt x="923" y="1059"/>
                  </a:lnTo>
                  <a:lnTo>
                    <a:pt x="734" y="1382"/>
                  </a:lnTo>
                  <a:lnTo>
                    <a:pt x="671" y="1514"/>
                  </a:lnTo>
                  <a:lnTo>
                    <a:pt x="707" y="1342"/>
                  </a:lnTo>
                  <a:lnTo>
                    <a:pt x="671" y="1272"/>
                  </a:lnTo>
                  <a:lnTo>
                    <a:pt x="556" y="1161"/>
                  </a:lnTo>
                  <a:lnTo>
                    <a:pt x="375" y="1028"/>
                  </a:lnTo>
                  <a:lnTo>
                    <a:pt x="596" y="1107"/>
                  </a:lnTo>
                  <a:lnTo>
                    <a:pt x="725" y="1205"/>
                  </a:lnTo>
                  <a:lnTo>
                    <a:pt x="786" y="1192"/>
                  </a:lnTo>
                  <a:lnTo>
                    <a:pt x="831" y="1134"/>
                  </a:lnTo>
                  <a:lnTo>
                    <a:pt x="879" y="984"/>
                  </a:lnTo>
                  <a:lnTo>
                    <a:pt x="861" y="834"/>
                  </a:lnTo>
                  <a:lnTo>
                    <a:pt x="795" y="750"/>
                  </a:lnTo>
                  <a:lnTo>
                    <a:pt x="684" y="724"/>
                  </a:lnTo>
                  <a:lnTo>
                    <a:pt x="556" y="724"/>
                  </a:lnTo>
                  <a:lnTo>
                    <a:pt x="516" y="499"/>
                  </a:lnTo>
                  <a:lnTo>
                    <a:pt x="314" y="419"/>
                  </a:lnTo>
                  <a:lnTo>
                    <a:pt x="314" y="486"/>
                  </a:lnTo>
                  <a:lnTo>
                    <a:pt x="220" y="321"/>
                  </a:lnTo>
                  <a:lnTo>
                    <a:pt x="167" y="66"/>
                  </a:lnTo>
                  <a:lnTo>
                    <a:pt x="88" y="44"/>
                  </a:lnTo>
                  <a:lnTo>
                    <a:pt x="44" y="119"/>
                  </a:lnTo>
                  <a:lnTo>
                    <a:pt x="44" y="291"/>
                  </a:lnTo>
                  <a:lnTo>
                    <a:pt x="83" y="486"/>
                  </a:lnTo>
                  <a:lnTo>
                    <a:pt x="194" y="644"/>
                  </a:lnTo>
                  <a:lnTo>
                    <a:pt x="70" y="543"/>
                  </a:lnTo>
                  <a:lnTo>
                    <a:pt x="13" y="380"/>
                  </a:lnTo>
                  <a:lnTo>
                    <a:pt x="0" y="163"/>
                  </a:lnTo>
                  <a:lnTo>
                    <a:pt x="44" y="44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858000" y="1508040"/>
              <a:ext cx="219600" cy="435240"/>
            </a:xfrm>
            <a:custGeom>
              <a:avLst/>
              <a:gdLst/>
              <a:ahLst/>
              <a:rect l="0" t="0" r="r" b="b"/>
              <a:pathLst>
                <a:path w="610" h="1209">
                  <a:moveTo>
                    <a:pt x="610" y="0"/>
                  </a:moveTo>
                  <a:lnTo>
                    <a:pt x="482" y="79"/>
                  </a:lnTo>
                  <a:lnTo>
                    <a:pt x="336" y="374"/>
                  </a:lnTo>
                  <a:lnTo>
                    <a:pt x="190" y="564"/>
                  </a:lnTo>
                  <a:lnTo>
                    <a:pt x="13" y="794"/>
                  </a:lnTo>
                  <a:lnTo>
                    <a:pt x="0" y="913"/>
                  </a:lnTo>
                  <a:lnTo>
                    <a:pt x="35" y="1019"/>
                  </a:lnTo>
                  <a:lnTo>
                    <a:pt x="119" y="1019"/>
                  </a:lnTo>
                  <a:lnTo>
                    <a:pt x="234" y="913"/>
                  </a:lnTo>
                  <a:lnTo>
                    <a:pt x="322" y="697"/>
                  </a:lnTo>
                  <a:lnTo>
                    <a:pt x="446" y="564"/>
                  </a:lnTo>
                  <a:lnTo>
                    <a:pt x="446" y="737"/>
                  </a:lnTo>
                  <a:lnTo>
                    <a:pt x="428" y="900"/>
                  </a:lnTo>
                  <a:lnTo>
                    <a:pt x="296" y="1112"/>
                  </a:lnTo>
                  <a:lnTo>
                    <a:pt x="296" y="1178"/>
                  </a:lnTo>
                  <a:lnTo>
                    <a:pt x="428" y="1209"/>
                  </a:lnTo>
                  <a:lnTo>
                    <a:pt x="336" y="1151"/>
                  </a:lnTo>
                  <a:lnTo>
                    <a:pt x="349" y="1112"/>
                  </a:lnTo>
                  <a:lnTo>
                    <a:pt x="441" y="953"/>
                  </a:lnTo>
                  <a:lnTo>
                    <a:pt x="504" y="671"/>
                  </a:lnTo>
                  <a:lnTo>
                    <a:pt x="460" y="507"/>
                  </a:lnTo>
                  <a:lnTo>
                    <a:pt x="362" y="605"/>
                  </a:lnTo>
                  <a:lnTo>
                    <a:pt x="141" y="962"/>
                  </a:lnTo>
                  <a:lnTo>
                    <a:pt x="88" y="975"/>
                  </a:lnTo>
                  <a:lnTo>
                    <a:pt x="35" y="935"/>
                  </a:lnTo>
                  <a:lnTo>
                    <a:pt x="35" y="825"/>
                  </a:lnTo>
                  <a:lnTo>
                    <a:pt x="119" y="684"/>
                  </a:lnTo>
                  <a:lnTo>
                    <a:pt x="362" y="388"/>
                  </a:lnTo>
                  <a:lnTo>
                    <a:pt x="504" y="110"/>
                  </a:lnTo>
                  <a:lnTo>
                    <a:pt x="61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020000" y="1754280"/>
              <a:ext cx="136800" cy="209880"/>
            </a:xfrm>
            <a:custGeom>
              <a:avLst/>
              <a:gdLst/>
              <a:ahLst/>
              <a:rect l="0" t="0" r="r" b="b"/>
              <a:pathLst>
                <a:path w="380" h="583">
                  <a:moveTo>
                    <a:pt x="0" y="516"/>
                  </a:moveTo>
                  <a:lnTo>
                    <a:pt x="123" y="367"/>
                  </a:lnTo>
                  <a:lnTo>
                    <a:pt x="149" y="216"/>
                  </a:lnTo>
                  <a:lnTo>
                    <a:pt x="292" y="0"/>
                  </a:lnTo>
                  <a:lnTo>
                    <a:pt x="322" y="145"/>
                  </a:lnTo>
                  <a:lnTo>
                    <a:pt x="305" y="530"/>
                  </a:lnTo>
                  <a:lnTo>
                    <a:pt x="380" y="583"/>
                  </a:lnTo>
                  <a:lnTo>
                    <a:pt x="269" y="538"/>
                  </a:lnTo>
                  <a:lnTo>
                    <a:pt x="212" y="322"/>
                  </a:lnTo>
                  <a:lnTo>
                    <a:pt x="123" y="428"/>
                  </a:lnTo>
                  <a:lnTo>
                    <a:pt x="0" y="51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186680" y="1765440"/>
              <a:ext cx="89280" cy="187560"/>
            </a:xfrm>
            <a:custGeom>
              <a:avLst/>
              <a:gdLst/>
              <a:ahLst/>
              <a:rect l="0" t="0" r="r" b="b"/>
              <a:pathLst>
                <a:path w="248" h="521">
                  <a:moveTo>
                    <a:pt x="0" y="389"/>
                  </a:moveTo>
                  <a:lnTo>
                    <a:pt x="13" y="198"/>
                  </a:lnTo>
                  <a:lnTo>
                    <a:pt x="61" y="83"/>
                  </a:lnTo>
                  <a:lnTo>
                    <a:pt x="120" y="494"/>
                  </a:lnTo>
                  <a:lnTo>
                    <a:pt x="196" y="494"/>
                  </a:lnTo>
                  <a:lnTo>
                    <a:pt x="231" y="57"/>
                  </a:lnTo>
                  <a:lnTo>
                    <a:pt x="248" y="0"/>
                  </a:lnTo>
                  <a:lnTo>
                    <a:pt x="231" y="340"/>
                  </a:lnTo>
                  <a:lnTo>
                    <a:pt x="196" y="521"/>
                  </a:lnTo>
                  <a:lnTo>
                    <a:pt x="98" y="521"/>
                  </a:lnTo>
                  <a:lnTo>
                    <a:pt x="57" y="158"/>
                  </a:lnTo>
                  <a:lnTo>
                    <a:pt x="30" y="211"/>
                  </a:lnTo>
                  <a:lnTo>
                    <a:pt x="0" y="38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8327880" y="1027080"/>
              <a:ext cx="217800" cy="501840"/>
            </a:xfrm>
            <a:custGeom>
              <a:avLst/>
              <a:gdLst/>
              <a:ahLst/>
              <a:rect l="0" t="0" r="r" b="b"/>
              <a:pathLst>
                <a:path w="605" h="1394">
                  <a:moveTo>
                    <a:pt x="158" y="759"/>
                  </a:moveTo>
                  <a:lnTo>
                    <a:pt x="202" y="533"/>
                  </a:lnTo>
                  <a:lnTo>
                    <a:pt x="411" y="480"/>
                  </a:lnTo>
                  <a:lnTo>
                    <a:pt x="605" y="0"/>
                  </a:lnTo>
                  <a:lnTo>
                    <a:pt x="605" y="141"/>
                  </a:lnTo>
                  <a:lnTo>
                    <a:pt x="437" y="511"/>
                  </a:lnTo>
                  <a:lnTo>
                    <a:pt x="224" y="577"/>
                  </a:lnTo>
                  <a:lnTo>
                    <a:pt x="194" y="759"/>
                  </a:lnTo>
                  <a:lnTo>
                    <a:pt x="268" y="759"/>
                  </a:lnTo>
                  <a:lnTo>
                    <a:pt x="79" y="834"/>
                  </a:lnTo>
                  <a:lnTo>
                    <a:pt x="35" y="984"/>
                  </a:lnTo>
                  <a:lnTo>
                    <a:pt x="44" y="1173"/>
                  </a:lnTo>
                  <a:lnTo>
                    <a:pt x="246" y="1394"/>
                  </a:lnTo>
                  <a:lnTo>
                    <a:pt x="35" y="1200"/>
                  </a:lnTo>
                  <a:lnTo>
                    <a:pt x="0" y="1037"/>
                  </a:lnTo>
                  <a:lnTo>
                    <a:pt x="13" y="874"/>
                  </a:lnTo>
                  <a:lnTo>
                    <a:pt x="92" y="759"/>
                  </a:lnTo>
                  <a:lnTo>
                    <a:pt x="158" y="75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8475840" y="1027080"/>
              <a:ext cx="362160" cy="486000"/>
            </a:xfrm>
            <a:custGeom>
              <a:avLst/>
              <a:gdLst/>
              <a:ahLst/>
              <a:rect l="0" t="0" r="r" b="b"/>
              <a:pathLst>
                <a:path w="1006" h="1350">
                  <a:moveTo>
                    <a:pt x="277" y="0"/>
                  </a:moveTo>
                  <a:lnTo>
                    <a:pt x="339" y="44"/>
                  </a:lnTo>
                  <a:lnTo>
                    <a:pt x="357" y="158"/>
                  </a:lnTo>
                  <a:lnTo>
                    <a:pt x="357" y="264"/>
                  </a:lnTo>
                  <a:lnTo>
                    <a:pt x="242" y="458"/>
                  </a:lnTo>
                  <a:lnTo>
                    <a:pt x="264" y="604"/>
                  </a:lnTo>
                  <a:lnTo>
                    <a:pt x="605" y="759"/>
                  </a:lnTo>
                  <a:lnTo>
                    <a:pt x="997" y="1187"/>
                  </a:lnTo>
                  <a:lnTo>
                    <a:pt x="1006" y="1297"/>
                  </a:lnTo>
                  <a:lnTo>
                    <a:pt x="984" y="1350"/>
                  </a:lnTo>
                  <a:lnTo>
                    <a:pt x="838" y="1350"/>
                  </a:lnTo>
                  <a:lnTo>
                    <a:pt x="706" y="1271"/>
                  </a:lnTo>
                  <a:lnTo>
                    <a:pt x="596" y="1129"/>
                  </a:lnTo>
                  <a:lnTo>
                    <a:pt x="538" y="1050"/>
                  </a:lnTo>
                  <a:lnTo>
                    <a:pt x="467" y="1037"/>
                  </a:lnTo>
                  <a:lnTo>
                    <a:pt x="552" y="1037"/>
                  </a:lnTo>
                  <a:lnTo>
                    <a:pt x="719" y="1257"/>
                  </a:lnTo>
                  <a:lnTo>
                    <a:pt x="927" y="1319"/>
                  </a:lnTo>
                  <a:lnTo>
                    <a:pt x="971" y="1257"/>
                  </a:lnTo>
                  <a:lnTo>
                    <a:pt x="949" y="1156"/>
                  </a:lnTo>
                  <a:lnTo>
                    <a:pt x="583" y="847"/>
                  </a:lnTo>
                  <a:lnTo>
                    <a:pt x="530" y="759"/>
                  </a:lnTo>
                  <a:lnTo>
                    <a:pt x="242" y="684"/>
                  </a:lnTo>
                  <a:lnTo>
                    <a:pt x="194" y="759"/>
                  </a:lnTo>
                  <a:lnTo>
                    <a:pt x="0" y="887"/>
                  </a:lnTo>
                  <a:lnTo>
                    <a:pt x="185" y="737"/>
                  </a:lnTo>
                  <a:lnTo>
                    <a:pt x="194" y="643"/>
                  </a:lnTo>
                  <a:lnTo>
                    <a:pt x="194" y="427"/>
                  </a:lnTo>
                  <a:lnTo>
                    <a:pt x="321" y="264"/>
                  </a:lnTo>
                  <a:lnTo>
                    <a:pt x="321" y="57"/>
                  </a:lnTo>
                  <a:lnTo>
                    <a:pt x="27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8408880" y="1409760"/>
              <a:ext cx="308160" cy="287640"/>
            </a:xfrm>
            <a:custGeom>
              <a:avLst/>
              <a:gdLst/>
              <a:ahLst/>
              <a:rect l="0" t="0" r="r" b="b"/>
              <a:pathLst>
                <a:path w="856" h="799">
                  <a:moveTo>
                    <a:pt x="644" y="0"/>
                  </a:moveTo>
                  <a:lnTo>
                    <a:pt x="622" y="66"/>
                  </a:lnTo>
                  <a:lnTo>
                    <a:pt x="746" y="330"/>
                  </a:lnTo>
                  <a:lnTo>
                    <a:pt x="812" y="605"/>
                  </a:lnTo>
                  <a:lnTo>
                    <a:pt x="737" y="605"/>
                  </a:lnTo>
                  <a:lnTo>
                    <a:pt x="609" y="486"/>
                  </a:lnTo>
                  <a:lnTo>
                    <a:pt x="494" y="233"/>
                  </a:lnTo>
                  <a:lnTo>
                    <a:pt x="401" y="194"/>
                  </a:lnTo>
                  <a:lnTo>
                    <a:pt x="418" y="330"/>
                  </a:lnTo>
                  <a:lnTo>
                    <a:pt x="499" y="428"/>
                  </a:lnTo>
                  <a:lnTo>
                    <a:pt x="499" y="622"/>
                  </a:lnTo>
                  <a:lnTo>
                    <a:pt x="441" y="759"/>
                  </a:lnTo>
                  <a:lnTo>
                    <a:pt x="361" y="706"/>
                  </a:lnTo>
                  <a:lnTo>
                    <a:pt x="264" y="486"/>
                  </a:lnTo>
                  <a:lnTo>
                    <a:pt x="238" y="330"/>
                  </a:lnTo>
                  <a:lnTo>
                    <a:pt x="185" y="286"/>
                  </a:lnTo>
                  <a:lnTo>
                    <a:pt x="167" y="675"/>
                  </a:lnTo>
                  <a:lnTo>
                    <a:pt x="88" y="733"/>
                  </a:lnTo>
                  <a:lnTo>
                    <a:pt x="22" y="675"/>
                  </a:lnTo>
                  <a:lnTo>
                    <a:pt x="13" y="343"/>
                  </a:lnTo>
                  <a:lnTo>
                    <a:pt x="0" y="666"/>
                  </a:lnTo>
                  <a:lnTo>
                    <a:pt x="57" y="785"/>
                  </a:lnTo>
                  <a:lnTo>
                    <a:pt x="167" y="785"/>
                  </a:lnTo>
                  <a:lnTo>
                    <a:pt x="207" y="693"/>
                  </a:lnTo>
                  <a:lnTo>
                    <a:pt x="229" y="392"/>
                  </a:lnTo>
                  <a:lnTo>
                    <a:pt x="246" y="512"/>
                  </a:lnTo>
                  <a:lnTo>
                    <a:pt x="343" y="768"/>
                  </a:lnTo>
                  <a:lnTo>
                    <a:pt x="450" y="799"/>
                  </a:lnTo>
                  <a:lnTo>
                    <a:pt x="530" y="693"/>
                  </a:lnTo>
                  <a:lnTo>
                    <a:pt x="530" y="441"/>
                  </a:lnTo>
                  <a:lnTo>
                    <a:pt x="737" y="649"/>
                  </a:lnTo>
                  <a:lnTo>
                    <a:pt x="847" y="649"/>
                  </a:lnTo>
                  <a:lnTo>
                    <a:pt x="856" y="512"/>
                  </a:lnTo>
                  <a:lnTo>
                    <a:pt x="777" y="260"/>
                  </a:lnTo>
                  <a:lnTo>
                    <a:pt x="644" y="57"/>
                  </a:lnTo>
                  <a:lnTo>
                    <a:pt x="64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161120" y="1111320"/>
              <a:ext cx="1373400" cy="1173600"/>
            </a:xfrm>
            <a:custGeom>
              <a:avLst/>
              <a:gdLst/>
              <a:ahLst/>
              <a:rect l="0" t="0" r="r" b="b"/>
              <a:pathLst>
                <a:path w="3815" h="3260">
                  <a:moveTo>
                    <a:pt x="1371" y="277"/>
                  </a:moveTo>
                  <a:lnTo>
                    <a:pt x="1300" y="286"/>
                  </a:lnTo>
                  <a:lnTo>
                    <a:pt x="1195" y="449"/>
                  </a:lnTo>
                  <a:lnTo>
                    <a:pt x="1159" y="330"/>
                  </a:lnTo>
                  <a:lnTo>
                    <a:pt x="1036" y="264"/>
                  </a:lnTo>
                  <a:lnTo>
                    <a:pt x="943" y="313"/>
                  </a:lnTo>
                  <a:lnTo>
                    <a:pt x="908" y="524"/>
                  </a:lnTo>
                  <a:lnTo>
                    <a:pt x="564" y="784"/>
                  </a:lnTo>
                  <a:lnTo>
                    <a:pt x="586" y="896"/>
                  </a:lnTo>
                  <a:lnTo>
                    <a:pt x="502" y="993"/>
                  </a:lnTo>
                  <a:lnTo>
                    <a:pt x="502" y="1076"/>
                  </a:lnTo>
                  <a:lnTo>
                    <a:pt x="604" y="1323"/>
                  </a:lnTo>
                  <a:lnTo>
                    <a:pt x="608" y="1628"/>
                  </a:lnTo>
                  <a:lnTo>
                    <a:pt x="546" y="1910"/>
                  </a:lnTo>
                  <a:lnTo>
                    <a:pt x="299" y="2082"/>
                  </a:lnTo>
                  <a:lnTo>
                    <a:pt x="268" y="2311"/>
                  </a:lnTo>
                  <a:lnTo>
                    <a:pt x="194" y="2311"/>
                  </a:lnTo>
                  <a:lnTo>
                    <a:pt x="154" y="2122"/>
                  </a:lnTo>
                  <a:lnTo>
                    <a:pt x="79" y="2122"/>
                  </a:lnTo>
                  <a:lnTo>
                    <a:pt x="44" y="2324"/>
                  </a:lnTo>
                  <a:lnTo>
                    <a:pt x="0" y="2382"/>
                  </a:lnTo>
                  <a:lnTo>
                    <a:pt x="167" y="2661"/>
                  </a:lnTo>
                  <a:lnTo>
                    <a:pt x="291" y="2674"/>
                  </a:lnTo>
                  <a:lnTo>
                    <a:pt x="502" y="2881"/>
                  </a:lnTo>
                  <a:lnTo>
                    <a:pt x="701" y="2908"/>
                  </a:lnTo>
                  <a:lnTo>
                    <a:pt x="806" y="2797"/>
                  </a:lnTo>
                  <a:lnTo>
                    <a:pt x="1071" y="2395"/>
                  </a:lnTo>
                  <a:lnTo>
                    <a:pt x="1093" y="2938"/>
                  </a:lnTo>
                  <a:lnTo>
                    <a:pt x="1071" y="3260"/>
                  </a:lnTo>
                  <a:lnTo>
                    <a:pt x="3277" y="3260"/>
                  </a:lnTo>
                  <a:lnTo>
                    <a:pt x="3114" y="2908"/>
                  </a:lnTo>
                  <a:lnTo>
                    <a:pt x="3039" y="2608"/>
                  </a:lnTo>
                  <a:lnTo>
                    <a:pt x="3017" y="2157"/>
                  </a:lnTo>
                  <a:lnTo>
                    <a:pt x="3145" y="2258"/>
                  </a:lnTo>
                  <a:lnTo>
                    <a:pt x="3277" y="2258"/>
                  </a:lnTo>
                  <a:lnTo>
                    <a:pt x="3458" y="2139"/>
                  </a:lnTo>
                  <a:lnTo>
                    <a:pt x="3577" y="2122"/>
                  </a:lnTo>
                  <a:lnTo>
                    <a:pt x="3652" y="2003"/>
                  </a:lnTo>
                  <a:lnTo>
                    <a:pt x="3705" y="1694"/>
                  </a:lnTo>
                  <a:lnTo>
                    <a:pt x="3815" y="1570"/>
                  </a:lnTo>
                  <a:lnTo>
                    <a:pt x="3758" y="1478"/>
                  </a:lnTo>
                  <a:lnTo>
                    <a:pt x="3678" y="1478"/>
                  </a:lnTo>
                  <a:lnTo>
                    <a:pt x="3612" y="1539"/>
                  </a:lnTo>
                  <a:lnTo>
                    <a:pt x="3550" y="1557"/>
                  </a:lnTo>
                  <a:lnTo>
                    <a:pt x="3471" y="1478"/>
                  </a:lnTo>
                  <a:lnTo>
                    <a:pt x="3374" y="1465"/>
                  </a:lnTo>
                  <a:lnTo>
                    <a:pt x="3202" y="1350"/>
                  </a:lnTo>
                  <a:lnTo>
                    <a:pt x="3092" y="1226"/>
                  </a:lnTo>
                  <a:lnTo>
                    <a:pt x="3074" y="1076"/>
                  </a:lnTo>
                  <a:lnTo>
                    <a:pt x="3092" y="935"/>
                  </a:lnTo>
                  <a:lnTo>
                    <a:pt x="3167" y="816"/>
                  </a:lnTo>
                  <a:lnTo>
                    <a:pt x="3259" y="709"/>
                  </a:lnTo>
                  <a:lnTo>
                    <a:pt x="3250" y="520"/>
                  </a:lnTo>
                  <a:lnTo>
                    <a:pt x="3250" y="388"/>
                  </a:lnTo>
                  <a:lnTo>
                    <a:pt x="3202" y="286"/>
                  </a:lnTo>
                  <a:lnTo>
                    <a:pt x="3074" y="246"/>
                  </a:lnTo>
                  <a:lnTo>
                    <a:pt x="3030" y="220"/>
                  </a:lnTo>
                  <a:lnTo>
                    <a:pt x="2937" y="57"/>
                  </a:lnTo>
                  <a:lnTo>
                    <a:pt x="2862" y="13"/>
                  </a:lnTo>
                  <a:lnTo>
                    <a:pt x="2783" y="0"/>
                  </a:lnTo>
                  <a:lnTo>
                    <a:pt x="2717" y="30"/>
                  </a:lnTo>
                  <a:lnTo>
                    <a:pt x="2660" y="114"/>
                  </a:lnTo>
                  <a:lnTo>
                    <a:pt x="2576" y="167"/>
                  </a:lnTo>
                  <a:lnTo>
                    <a:pt x="2483" y="180"/>
                  </a:lnTo>
                  <a:lnTo>
                    <a:pt x="2377" y="180"/>
                  </a:lnTo>
                  <a:lnTo>
                    <a:pt x="2395" y="343"/>
                  </a:lnTo>
                  <a:lnTo>
                    <a:pt x="2395" y="542"/>
                  </a:lnTo>
                  <a:lnTo>
                    <a:pt x="2377" y="679"/>
                  </a:lnTo>
                  <a:lnTo>
                    <a:pt x="2285" y="843"/>
                  </a:lnTo>
                  <a:lnTo>
                    <a:pt x="2166" y="1085"/>
                  </a:lnTo>
                  <a:lnTo>
                    <a:pt x="2069" y="1381"/>
                  </a:lnTo>
                  <a:lnTo>
                    <a:pt x="2064" y="1557"/>
                  </a:lnTo>
                  <a:lnTo>
                    <a:pt x="2016" y="1707"/>
                  </a:lnTo>
                  <a:lnTo>
                    <a:pt x="1963" y="1857"/>
                  </a:lnTo>
                  <a:lnTo>
                    <a:pt x="1936" y="2091"/>
                  </a:lnTo>
                  <a:lnTo>
                    <a:pt x="1950" y="2289"/>
                  </a:lnTo>
                  <a:lnTo>
                    <a:pt x="2016" y="2519"/>
                  </a:lnTo>
                  <a:lnTo>
                    <a:pt x="2064" y="2608"/>
                  </a:lnTo>
                  <a:lnTo>
                    <a:pt x="1936" y="2691"/>
                  </a:lnTo>
                  <a:lnTo>
                    <a:pt x="1781" y="2744"/>
                  </a:lnTo>
                  <a:lnTo>
                    <a:pt x="1609" y="2758"/>
                  </a:lnTo>
                  <a:lnTo>
                    <a:pt x="1503" y="2758"/>
                  </a:lnTo>
                  <a:lnTo>
                    <a:pt x="1437" y="2731"/>
                  </a:lnTo>
                  <a:lnTo>
                    <a:pt x="1437" y="2533"/>
                  </a:lnTo>
                  <a:lnTo>
                    <a:pt x="1437" y="2245"/>
                  </a:lnTo>
                  <a:lnTo>
                    <a:pt x="1397" y="1963"/>
                  </a:lnTo>
                  <a:lnTo>
                    <a:pt x="1327" y="1707"/>
                  </a:lnTo>
                  <a:lnTo>
                    <a:pt x="1296" y="1504"/>
                  </a:lnTo>
                  <a:lnTo>
                    <a:pt x="1283" y="1213"/>
                  </a:lnTo>
                  <a:lnTo>
                    <a:pt x="1327" y="962"/>
                  </a:lnTo>
                  <a:lnTo>
                    <a:pt x="1397" y="758"/>
                  </a:lnTo>
                  <a:lnTo>
                    <a:pt x="1402" y="639"/>
                  </a:lnTo>
                  <a:lnTo>
                    <a:pt x="1371" y="467"/>
                  </a:lnTo>
                  <a:lnTo>
                    <a:pt x="1371" y="330"/>
                  </a:lnTo>
                  <a:lnTo>
                    <a:pt x="1397" y="286"/>
                  </a:lnTo>
                  <a:lnTo>
                    <a:pt x="1371" y="27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696080" y="1346040"/>
              <a:ext cx="173520" cy="762480"/>
            </a:xfrm>
            <a:custGeom>
              <a:avLst/>
              <a:gdLst/>
              <a:ahLst/>
              <a:rect l="0" t="0" r="r" b="b"/>
              <a:pathLst>
                <a:path w="482" h="2118">
                  <a:moveTo>
                    <a:pt x="190" y="26"/>
                  </a:moveTo>
                  <a:lnTo>
                    <a:pt x="61" y="92"/>
                  </a:lnTo>
                  <a:lnTo>
                    <a:pt x="74" y="295"/>
                  </a:lnTo>
                  <a:lnTo>
                    <a:pt x="168" y="357"/>
                  </a:lnTo>
                  <a:lnTo>
                    <a:pt x="57" y="578"/>
                  </a:lnTo>
                  <a:lnTo>
                    <a:pt x="0" y="825"/>
                  </a:lnTo>
                  <a:lnTo>
                    <a:pt x="0" y="1059"/>
                  </a:lnTo>
                  <a:lnTo>
                    <a:pt x="57" y="1271"/>
                  </a:lnTo>
                  <a:lnTo>
                    <a:pt x="101" y="1526"/>
                  </a:lnTo>
                  <a:lnTo>
                    <a:pt x="101" y="1677"/>
                  </a:lnTo>
                  <a:lnTo>
                    <a:pt x="57" y="1858"/>
                  </a:lnTo>
                  <a:lnTo>
                    <a:pt x="247" y="2118"/>
                  </a:lnTo>
                  <a:lnTo>
                    <a:pt x="331" y="2074"/>
                  </a:lnTo>
                  <a:lnTo>
                    <a:pt x="385" y="1898"/>
                  </a:lnTo>
                  <a:lnTo>
                    <a:pt x="473" y="1664"/>
                  </a:lnTo>
                  <a:lnTo>
                    <a:pt x="482" y="1539"/>
                  </a:lnTo>
                  <a:lnTo>
                    <a:pt x="407" y="1306"/>
                  </a:lnTo>
                  <a:lnTo>
                    <a:pt x="318" y="1081"/>
                  </a:lnTo>
                  <a:lnTo>
                    <a:pt x="283" y="922"/>
                  </a:lnTo>
                  <a:lnTo>
                    <a:pt x="283" y="768"/>
                  </a:lnTo>
                  <a:lnTo>
                    <a:pt x="318" y="631"/>
                  </a:lnTo>
                  <a:lnTo>
                    <a:pt x="385" y="463"/>
                  </a:lnTo>
                  <a:lnTo>
                    <a:pt x="385" y="392"/>
                  </a:lnTo>
                  <a:lnTo>
                    <a:pt x="349" y="326"/>
                  </a:lnTo>
                  <a:lnTo>
                    <a:pt x="442" y="242"/>
                  </a:lnTo>
                  <a:lnTo>
                    <a:pt x="442" y="163"/>
                  </a:lnTo>
                  <a:lnTo>
                    <a:pt x="318" y="0"/>
                  </a:lnTo>
                  <a:lnTo>
                    <a:pt x="420" y="163"/>
                  </a:lnTo>
                  <a:lnTo>
                    <a:pt x="420" y="229"/>
                  </a:lnTo>
                  <a:lnTo>
                    <a:pt x="327" y="295"/>
                  </a:lnTo>
                  <a:lnTo>
                    <a:pt x="363" y="392"/>
                  </a:lnTo>
                  <a:lnTo>
                    <a:pt x="349" y="463"/>
                  </a:lnTo>
                  <a:lnTo>
                    <a:pt x="261" y="658"/>
                  </a:lnTo>
                  <a:lnTo>
                    <a:pt x="247" y="847"/>
                  </a:lnTo>
                  <a:lnTo>
                    <a:pt x="269" y="1028"/>
                  </a:lnTo>
                  <a:lnTo>
                    <a:pt x="331" y="1284"/>
                  </a:lnTo>
                  <a:lnTo>
                    <a:pt x="407" y="1487"/>
                  </a:lnTo>
                  <a:lnTo>
                    <a:pt x="407" y="1651"/>
                  </a:lnTo>
                  <a:lnTo>
                    <a:pt x="363" y="1858"/>
                  </a:lnTo>
                  <a:lnTo>
                    <a:pt x="269" y="2074"/>
                  </a:lnTo>
                  <a:lnTo>
                    <a:pt x="159" y="1955"/>
                  </a:lnTo>
                  <a:lnTo>
                    <a:pt x="114" y="1858"/>
                  </a:lnTo>
                  <a:lnTo>
                    <a:pt x="124" y="1651"/>
                  </a:lnTo>
                  <a:lnTo>
                    <a:pt x="114" y="1442"/>
                  </a:lnTo>
                  <a:lnTo>
                    <a:pt x="57" y="1165"/>
                  </a:lnTo>
                  <a:lnTo>
                    <a:pt x="35" y="971"/>
                  </a:lnTo>
                  <a:lnTo>
                    <a:pt x="57" y="755"/>
                  </a:lnTo>
                  <a:lnTo>
                    <a:pt x="101" y="547"/>
                  </a:lnTo>
                  <a:lnTo>
                    <a:pt x="203" y="339"/>
                  </a:lnTo>
                  <a:lnTo>
                    <a:pt x="114" y="255"/>
                  </a:lnTo>
                  <a:lnTo>
                    <a:pt x="101" y="105"/>
                  </a:lnTo>
                  <a:lnTo>
                    <a:pt x="190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8190000" y="455760"/>
              <a:ext cx="275040" cy="371880"/>
            </a:xfrm>
            <a:custGeom>
              <a:avLst/>
              <a:gdLst/>
              <a:ahLst/>
              <a:rect l="0" t="0" r="r" b="b"/>
              <a:pathLst>
                <a:path w="764" h="1033">
                  <a:moveTo>
                    <a:pt x="127" y="265"/>
                  </a:moveTo>
                  <a:lnTo>
                    <a:pt x="239" y="242"/>
                  </a:lnTo>
                  <a:lnTo>
                    <a:pt x="349" y="251"/>
                  </a:lnTo>
                  <a:lnTo>
                    <a:pt x="437" y="292"/>
                  </a:lnTo>
                  <a:lnTo>
                    <a:pt x="490" y="349"/>
                  </a:lnTo>
                  <a:lnTo>
                    <a:pt x="512" y="402"/>
                  </a:lnTo>
                  <a:lnTo>
                    <a:pt x="512" y="455"/>
                  </a:lnTo>
                  <a:lnTo>
                    <a:pt x="486" y="490"/>
                  </a:lnTo>
                  <a:lnTo>
                    <a:pt x="437" y="516"/>
                  </a:lnTo>
                  <a:lnTo>
                    <a:pt x="380" y="516"/>
                  </a:lnTo>
                  <a:lnTo>
                    <a:pt x="309" y="503"/>
                  </a:lnTo>
                  <a:lnTo>
                    <a:pt x="243" y="459"/>
                  </a:lnTo>
                  <a:lnTo>
                    <a:pt x="195" y="419"/>
                  </a:lnTo>
                  <a:lnTo>
                    <a:pt x="171" y="552"/>
                  </a:lnTo>
                  <a:lnTo>
                    <a:pt x="127" y="644"/>
                  </a:lnTo>
                  <a:lnTo>
                    <a:pt x="0" y="866"/>
                  </a:lnTo>
                  <a:lnTo>
                    <a:pt x="185" y="1033"/>
                  </a:lnTo>
                  <a:lnTo>
                    <a:pt x="327" y="750"/>
                  </a:lnTo>
                  <a:lnTo>
                    <a:pt x="486" y="778"/>
                  </a:lnTo>
                  <a:lnTo>
                    <a:pt x="584" y="755"/>
                  </a:lnTo>
                  <a:lnTo>
                    <a:pt x="676" y="693"/>
                  </a:lnTo>
                  <a:lnTo>
                    <a:pt x="734" y="613"/>
                  </a:lnTo>
                  <a:lnTo>
                    <a:pt x="764" y="508"/>
                  </a:lnTo>
                  <a:lnTo>
                    <a:pt x="764" y="397"/>
                  </a:lnTo>
                  <a:lnTo>
                    <a:pt x="734" y="278"/>
                  </a:lnTo>
                  <a:lnTo>
                    <a:pt x="676" y="158"/>
                  </a:lnTo>
                  <a:lnTo>
                    <a:pt x="597" y="70"/>
                  </a:lnTo>
                  <a:lnTo>
                    <a:pt x="499" y="26"/>
                  </a:lnTo>
                  <a:lnTo>
                    <a:pt x="389" y="0"/>
                  </a:lnTo>
                  <a:lnTo>
                    <a:pt x="252" y="0"/>
                  </a:lnTo>
                  <a:lnTo>
                    <a:pt x="101" y="30"/>
                  </a:lnTo>
                  <a:lnTo>
                    <a:pt x="127" y="265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8142120" y="816120"/>
              <a:ext cx="98640" cy="73440"/>
            </a:xfrm>
            <a:custGeom>
              <a:avLst/>
              <a:gdLst/>
              <a:ahLst/>
              <a:rect l="0" t="0" r="r" b="b"/>
              <a:pathLst>
                <a:path w="274" h="204">
                  <a:moveTo>
                    <a:pt x="110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02"/>
                  </a:lnTo>
                  <a:lnTo>
                    <a:pt x="57" y="173"/>
                  </a:lnTo>
                  <a:lnTo>
                    <a:pt x="164" y="204"/>
                  </a:lnTo>
                  <a:lnTo>
                    <a:pt x="247" y="200"/>
                  </a:lnTo>
                  <a:lnTo>
                    <a:pt x="274" y="156"/>
                  </a:lnTo>
                  <a:lnTo>
                    <a:pt x="261" y="111"/>
                  </a:lnTo>
                  <a:lnTo>
                    <a:pt x="221" y="53"/>
                  </a:lnTo>
                  <a:lnTo>
                    <a:pt x="155" y="8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"/>
          <p:cNvSpPr txBox="1"/>
          <p:nvPr/>
        </p:nvSpPr>
        <p:spPr>
          <a:xfrm>
            <a:off x="914400" y="3733920"/>
            <a:ext cx="7924680" cy="27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ow-volume products ar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ndercosted and high-volum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ducts are overcos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Greater risk of making poor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cis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 txBox="1"/>
          <p:nvPr/>
        </p:nvSpPr>
        <p:spPr>
          <a:xfrm>
            <a:off x="838080" y="83808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 Allocation in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ervice Organiz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1981080" y="2590920"/>
            <a:ext cx="624852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pply costing concepts to a service organiz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69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xecuting S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90720" y="3124080"/>
            <a:ext cx="792468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71640" indent="-51444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ake decisions about dropping a product line or seg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71640" indent="-51444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valuate outsourcing opportuni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71640" indent="-51444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termine whether to lower selling prices or fees for larger volume ord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990720" y="1447920"/>
            <a:ext cx="7848720" cy="15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10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ses of operating cost information </a:t>
            </a:r>
            <a:br>
              <a:rPr sz="3200"/>
            </a:b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nd product costs in the executing st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 txBox="1"/>
          <p:nvPr/>
        </p:nvSpPr>
        <p:spPr>
          <a:xfrm>
            <a:off x="1066680" y="533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ervice Organiz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"/>
          <p:cNvSpPr txBox="1"/>
          <p:nvPr/>
        </p:nvSpPr>
        <p:spPr>
          <a:xfrm>
            <a:off x="1447920" y="1600200"/>
            <a:ext cx="7086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service organization does not have a physical product that can b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ssembl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to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Valu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 txBox="1"/>
          <p:nvPr/>
        </p:nvSpPr>
        <p:spPr>
          <a:xfrm>
            <a:off x="914400" y="53352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ervice Organiz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"/>
          <p:cNvSpPr txBox="1"/>
          <p:nvPr/>
        </p:nvSpPr>
        <p:spPr>
          <a:xfrm>
            <a:off x="1066680" y="1600200"/>
            <a:ext cx="76201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most important cost in a service organization is the professional labor co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ervice-related overhead is the other principal component of the cost of services rende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1066680" y="289548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8002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is the most important cost in a service organiz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0280" indent="-8002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fessional labor co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1828800" y="1447920"/>
            <a:ext cx="53341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6553080" y="457200"/>
            <a:ext cx="2284920" cy="2132280"/>
            <a:chOff x="6553080" y="457200"/>
            <a:chExt cx="2284920" cy="2132280"/>
          </a:xfrm>
        </p:grpSpPr>
        <p:sp>
          <p:nvSpPr>
            <p:cNvPr id="837" name=""/>
            <p:cNvSpPr/>
            <p:nvPr/>
          </p:nvSpPr>
          <p:spPr>
            <a:xfrm>
              <a:off x="6559560" y="1503360"/>
              <a:ext cx="554400" cy="744840"/>
            </a:xfrm>
            <a:custGeom>
              <a:avLst/>
              <a:gdLst/>
              <a:ahLst/>
              <a:rect l="0" t="0" r="r" b="b"/>
              <a:pathLst>
                <a:path w="1540" h="2069">
                  <a:moveTo>
                    <a:pt x="618" y="0"/>
                  </a:moveTo>
                  <a:lnTo>
                    <a:pt x="534" y="92"/>
                  </a:lnTo>
                  <a:lnTo>
                    <a:pt x="534" y="361"/>
                  </a:lnTo>
                  <a:lnTo>
                    <a:pt x="618" y="555"/>
                  </a:lnTo>
                  <a:lnTo>
                    <a:pt x="706" y="652"/>
                  </a:lnTo>
                  <a:lnTo>
                    <a:pt x="569" y="784"/>
                  </a:lnTo>
                  <a:lnTo>
                    <a:pt x="383" y="1085"/>
                  </a:lnTo>
                  <a:lnTo>
                    <a:pt x="30" y="1562"/>
                  </a:lnTo>
                  <a:lnTo>
                    <a:pt x="0" y="1676"/>
                  </a:lnTo>
                  <a:lnTo>
                    <a:pt x="30" y="1773"/>
                  </a:lnTo>
                  <a:lnTo>
                    <a:pt x="141" y="1773"/>
                  </a:lnTo>
                  <a:lnTo>
                    <a:pt x="233" y="1663"/>
                  </a:lnTo>
                  <a:lnTo>
                    <a:pt x="383" y="1394"/>
                  </a:lnTo>
                  <a:lnTo>
                    <a:pt x="477" y="1279"/>
                  </a:lnTo>
                  <a:lnTo>
                    <a:pt x="534" y="1456"/>
                  </a:lnTo>
                  <a:lnTo>
                    <a:pt x="494" y="1645"/>
                  </a:lnTo>
                  <a:lnTo>
                    <a:pt x="343" y="1919"/>
                  </a:lnTo>
                  <a:lnTo>
                    <a:pt x="383" y="1980"/>
                  </a:lnTo>
                  <a:lnTo>
                    <a:pt x="477" y="1963"/>
                  </a:lnTo>
                  <a:lnTo>
                    <a:pt x="666" y="1822"/>
                  </a:lnTo>
                  <a:lnTo>
                    <a:pt x="821" y="1579"/>
                  </a:lnTo>
                  <a:lnTo>
                    <a:pt x="821" y="1998"/>
                  </a:lnTo>
                  <a:lnTo>
                    <a:pt x="1002" y="2069"/>
                  </a:lnTo>
                  <a:lnTo>
                    <a:pt x="1112" y="1808"/>
                  </a:lnTo>
                  <a:lnTo>
                    <a:pt x="1205" y="2051"/>
                  </a:lnTo>
                  <a:lnTo>
                    <a:pt x="1280" y="1980"/>
                  </a:lnTo>
                  <a:lnTo>
                    <a:pt x="1316" y="1504"/>
                  </a:lnTo>
                  <a:lnTo>
                    <a:pt x="1540" y="1050"/>
                  </a:lnTo>
                  <a:lnTo>
                    <a:pt x="1488" y="784"/>
                  </a:lnTo>
                  <a:lnTo>
                    <a:pt x="1333" y="687"/>
                  </a:lnTo>
                  <a:lnTo>
                    <a:pt x="1166" y="701"/>
                  </a:lnTo>
                  <a:lnTo>
                    <a:pt x="1112" y="489"/>
                  </a:lnTo>
                  <a:lnTo>
                    <a:pt x="940" y="440"/>
                  </a:lnTo>
                  <a:lnTo>
                    <a:pt x="794" y="374"/>
                  </a:lnTo>
                  <a:lnTo>
                    <a:pt x="706" y="44"/>
                  </a:lnTo>
                  <a:lnTo>
                    <a:pt x="618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024680" y="1806480"/>
              <a:ext cx="165600" cy="360720"/>
            </a:xfrm>
            <a:custGeom>
              <a:avLst/>
              <a:gdLst/>
              <a:ahLst/>
              <a:rect l="0" t="0" r="r" b="b"/>
              <a:pathLst>
                <a:path w="460" h="1002">
                  <a:moveTo>
                    <a:pt x="230" y="0"/>
                  </a:moveTo>
                  <a:lnTo>
                    <a:pt x="460" y="260"/>
                  </a:lnTo>
                  <a:lnTo>
                    <a:pt x="344" y="825"/>
                  </a:lnTo>
                  <a:lnTo>
                    <a:pt x="0" y="1002"/>
                  </a:lnTo>
                  <a:lnTo>
                    <a:pt x="0" y="719"/>
                  </a:lnTo>
                  <a:lnTo>
                    <a:pt x="142" y="423"/>
                  </a:lnTo>
                  <a:lnTo>
                    <a:pt x="230" y="211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8088480" y="1598760"/>
              <a:ext cx="408240" cy="325800"/>
            </a:xfrm>
            <a:custGeom>
              <a:avLst/>
              <a:gdLst/>
              <a:ahLst/>
              <a:rect l="0" t="0" r="r" b="b"/>
              <a:pathLst>
                <a:path w="1134" h="905">
                  <a:moveTo>
                    <a:pt x="467" y="0"/>
                  </a:moveTo>
                  <a:lnTo>
                    <a:pt x="467" y="145"/>
                  </a:lnTo>
                  <a:lnTo>
                    <a:pt x="507" y="274"/>
                  </a:lnTo>
                  <a:lnTo>
                    <a:pt x="728" y="490"/>
                  </a:lnTo>
                  <a:lnTo>
                    <a:pt x="1134" y="613"/>
                  </a:lnTo>
                  <a:lnTo>
                    <a:pt x="1076" y="888"/>
                  </a:lnTo>
                  <a:lnTo>
                    <a:pt x="728" y="905"/>
                  </a:lnTo>
                  <a:lnTo>
                    <a:pt x="216" y="707"/>
                  </a:lnTo>
                  <a:lnTo>
                    <a:pt x="0" y="362"/>
                  </a:lnTo>
                  <a:lnTo>
                    <a:pt x="255" y="17"/>
                  </a:lnTo>
                  <a:lnTo>
                    <a:pt x="46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8251920" y="1230480"/>
              <a:ext cx="572040" cy="717840"/>
            </a:xfrm>
            <a:custGeom>
              <a:avLst/>
              <a:gdLst/>
              <a:ahLst/>
              <a:rect l="0" t="0" r="r" b="b"/>
              <a:pathLst>
                <a:path w="1589" h="1994">
                  <a:moveTo>
                    <a:pt x="141" y="846"/>
                  </a:moveTo>
                  <a:lnTo>
                    <a:pt x="0" y="987"/>
                  </a:lnTo>
                  <a:lnTo>
                    <a:pt x="30" y="1315"/>
                  </a:lnTo>
                  <a:lnTo>
                    <a:pt x="251" y="1465"/>
                  </a:lnTo>
                  <a:lnTo>
                    <a:pt x="268" y="1958"/>
                  </a:lnTo>
                  <a:lnTo>
                    <a:pt x="494" y="1958"/>
                  </a:lnTo>
                  <a:lnTo>
                    <a:pt x="477" y="1539"/>
                  </a:lnTo>
                  <a:lnTo>
                    <a:pt x="644" y="1976"/>
                  </a:lnTo>
                  <a:lnTo>
                    <a:pt x="755" y="1994"/>
                  </a:lnTo>
                  <a:lnTo>
                    <a:pt x="834" y="1848"/>
                  </a:lnTo>
                  <a:lnTo>
                    <a:pt x="852" y="1575"/>
                  </a:lnTo>
                  <a:lnTo>
                    <a:pt x="1094" y="1831"/>
                  </a:lnTo>
                  <a:lnTo>
                    <a:pt x="1191" y="1808"/>
                  </a:lnTo>
                  <a:lnTo>
                    <a:pt x="1169" y="1632"/>
                  </a:lnTo>
                  <a:lnTo>
                    <a:pt x="1076" y="1381"/>
                  </a:lnTo>
                  <a:lnTo>
                    <a:pt x="979" y="1218"/>
                  </a:lnTo>
                  <a:lnTo>
                    <a:pt x="1015" y="1103"/>
                  </a:lnTo>
                  <a:lnTo>
                    <a:pt x="1076" y="1121"/>
                  </a:lnTo>
                  <a:lnTo>
                    <a:pt x="1298" y="1381"/>
                  </a:lnTo>
                  <a:lnTo>
                    <a:pt x="1536" y="1447"/>
                  </a:lnTo>
                  <a:lnTo>
                    <a:pt x="1589" y="1363"/>
                  </a:lnTo>
                  <a:lnTo>
                    <a:pt x="1554" y="1231"/>
                  </a:lnTo>
                  <a:lnTo>
                    <a:pt x="1112" y="829"/>
                  </a:lnTo>
                  <a:lnTo>
                    <a:pt x="755" y="705"/>
                  </a:lnTo>
                  <a:lnTo>
                    <a:pt x="710" y="480"/>
                  </a:lnTo>
                  <a:lnTo>
                    <a:pt x="834" y="277"/>
                  </a:lnTo>
                  <a:lnTo>
                    <a:pt x="834" y="66"/>
                  </a:lnTo>
                  <a:lnTo>
                    <a:pt x="733" y="0"/>
                  </a:lnTo>
                  <a:lnTo>
                    <a:pt x="477" y="537"/>
                  </a:lnTo>
                  <a:lnTo>
                    <a:pt x="251" y="621"/>
                  </a:lnTo>
                  <a:lnTo>
                    <a:pt x="194" y="767"/>
                  </a:lnTo>
                  <a:lnTo>
                    <a:pt x="141" y="84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313760" y="608040"/>
              <a:ext cx="624240" cy="918000"/>
            </a:xfrm>
            <a:custGeom>
              <a:avLst/>
              <a:gdLst/>
              <a:ahLst/>
              <a:rect l="0" t="0" r="r" b="b"/>
              <a:pathLst>
                <a:path w="1734" h="2550">
                  <a:moveTo>
                    <a:pt x="432" y="352"/>
                  </a:moveTo>
                  <a:lnTo>
                    <a:pt x="304" y="843"/>
                  </a:lnTo>
                  <a:lnTo>
                    <a:pt x="17" y="940"/>
                  </a:lnTo>
                  <a:lnTo>
                    <a:pt x="97" y="1094"/>
                  </a:lnTo>
                  <a:lnTo>
                    <a:pt x="0" y="1191"/>
                  </a:lnTo>
                  <a:lnTo>
                    <a:pt x="0" y="1368"/>
                  </a:lnTo>
                  <a:lnTo>
                    <a:pt x="141" y="1531"/>
                  </a:lnTo>
                  <a:lnTo>
                    <a:pt x="268" y="1531"/>
                  </a:lnTo>
                  <a:lnTo>
                    <a:pt x="361" y="2096"/>
                  </a:lnTo>
                  <a:lnTo>
                    <a:pt x="467" y="2339"/>
                  </a:lnTo>
                  <a:lnTo>
                    <a:pt x="824" y="2550"/>
                  </a:lnTo>
                  <a:lnTo>
                    <a:pt x="1178" y="2519"/>
                  </a:lnTo>
                  <a:lnTo>
                    <a:pt x="1345" y="2096"/>
                  </a:lnTo>
                  <a:lnTo>
                    <a:pt x="1385" y="1451"/>
                  </a:lnTo>
                  <a:lnTo>
                    <a:pt x="1734" y="1129"/>
                  </a:lnTo>
                  <a:lnTo>
                    <a:pt x="1716" y="1002"/>
                  </a:lnTo>
                  <a:lnTo>
                    <a:pt x="1676" y="940"/>
                  </a:lnTo>
                  <a:lnTo>
                    <a:pt x="1495" y="927"/>
                  </a:lnTo>
                  <a:lnTo>
                    <a:pt x="1553" y="759"/>
                  </a:lnTo>
                  <a:lnTo>
                    <a:pt x="1368" y="644"/>
                  </a:lnTo>
                  <a:lnTo>
                    <a:pt x="1293" y="277"/>
                  </a:lnTo>
                  <a:lnTo>
                    <a:pt x="749" y="0"/>
                  </a:lnTo>
                  <a:lnTo>
                    <a:pt x="467" y="260"/>
                  </a:lnTo>
                  <a:lnTo>
                    <a:pt x="432" y="352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359480" y="1373040"/>
              <a:ext cx="572040" cy="1094040"/>
            </a:xfrm>
            <a:custGeom>
              <a:avLst/>
              <a:gdLst/>
              <a:ahLst/>
              <a:rect l="0" t="0" r="r" b="b"/>
              <a:pathLst>
                <a:path w="1589" h="3039">
                  <a:moveTo>
                    <a:pt x="326" y="158"/>
                  </a:moveTo>
                  <a:lnTo>
                    <a:pt x="552" y="304"/>
                  </a:lnTo>
                  <a:lnTo>
                    <a:pt x="662" y="467"/>
                  </a:lnTo>
                  <a:lnTo>
                    <a:pt x="1298" y="0"/>
                  </a:lnTo>
                  <a:lnTo>
                    <a:pt x="1496" y="97"/>
                  </a:lnTo>
                  <a:lnTo>
                    <a:pt x="1589" y="577"/>
                  </a:lnTo>
                  <a:lnTo>
                    <a:pt x="1129" y="1976"/>
                  </a:lnTo>
                  <a:lnTo>
                    <a:pt x="1276" y="2748"/>
                  </a:lnTo>
                  <a:lnTo>
                    <a:pt x="675" y="3039"/>
                  </a:lnTo>
                  <a:lnTo>
                    <a:pt x="211" y="2876"/>
                  </a:lnTo>
                  <a:lnTo>
                    <a:pt x="211" y="2055"/>
                  </a:lnTo>
                  <a:lnTo>
                    <a:pt x="0" y="1261"/>
                  </a:lnTo>
                  <a:lnTo>
                    <a:pt x="211" y="304"/>
                  </a:lnTo>
                  <a:lnTo>
                    <a:pt x="326" y="158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385040" y="487440"/>
              <a:ext cx="532080" cy="289440"/>
            </a:xfrm>
            <a:custGeom>
              <a:avLst/>
              <a:gdLst/>
              <a:ahLst/>
              <a:rect l="0" t="0" r="r" b="b"/>
              <a:pathLst>
                <a:path w="1478" h="804">
                  <a:moveTo>
                    <a:pt x="180" y="769"/>
                  </a:moveTo>
                  <a:lnTo>
                    <a:pt x="396" y="552"/>
                  </a:lnTo>
                  <a:lnTo>
                    <a:pt x="537" y="521"/>
                  </a:lnTo>
                  <a:lnTo>
                    <a:pt x="537" y="538"/>
                  </a:lnTo>
                  <a:lnTo>
                    <a:pt x="608" y="521"/>
                  </a:lnTo>
                  <a:lnTo>
                    <a:pt x="696" y="583"/>
                  </a:lnTo>
                  <a:lnTo>
                    <a:pt x="869" y="619"/>
                  </a:lnTo>
                  <a:lnTo>
                    <a:pt x="1015" y="804"/>
                  </a:lnTo>
                  <a:lnTo>
                    <a:pt x="1244" y="720"/>
                  </a:lnTo>
                  <a:lnTo>
                    <a:pt x="1244" y="637"/>
                  </a:lnTo>
                  <a:lnTo>
                    <a:pt x="1478" y="538"/>
                  </a:lnTo>
                  <a:lnTo>
                    <a:pt x="1407" y="389"/>
                  </a:lnTo>
                  <a:lnTo>
                    <a:pt x="1187" y="375"/>
                  </a:lnTo>
                  <a:lnTo>
                    <a:pt x="1222" y="212"/>
                  </a:lnTo>
                  <a:lnTo>
                    <a:pt x="1037" y="230"/>
                  </a:lnTo>
                  <a:lnTo>
                    <a:pt x="1002" y="114"/>
                  </a:lnTo>
                  <a:lnTo>
                    <a:pt x="869" y="114"/>
                  </a:lnTo>
                  <a:lnTo>
                    <a:pt x="781" y="176"/>
                  </a:lnTo>
                  <a:lnTo>
                    <a:pt x="696" y="176"/>
                  </a:lnTo>
                  <a:lnTo>
                    <a:pt x="714" y="0"/>
                  </a:lnTo>
                  <a:lnTo>
                    <a:pt x="537" y="83"/>
                  </a:lnTo>
                  <a:lnTo>
                    <a:pt x="291" y="375"/>
                  </a:lnTo>
                  <a:lnTo>
                    <a:pt x="277" y="176"/>
                  </a:lnTo>
                  <a:lnTo>
                    <a:pt x="145" y="274"/>
                  </a:lnTo>
                  <a:lnTo>
                    <a:pt x="114" y="521"/>
                  </a:lnTo>
                  <a:lnTo>
                    <a:pt x="0" y="477"/>
                  </a:lnTo>
                  <a:lnTo>
                    <a:pt x="17" y="637"/>
                  </a:lnTo>
                  <a:lnTo>
                    <a:pt x="180" y="76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527960" y="1576440"/>
              <a:ext cx="170280" cy="827280"/>
            </a:xfrm>
            <a:custGeom>
              <a:avLst/>
              <a:gdLst/>
              <a:ahLst/>
              <a:rect l="0" t="0" r="r" b="b"/>
              <a:pathLst>
                <a:path w="473" h="2298">
                  <a:moveTo>
                    <a:pt x="243" y="13"/>
                  </a:moveTo>
                  <a:lnTo>
                    <a:pt x="83" y="114"/>
                  </a:lnTo>
                  <a:lnTo>
                    <a:pt x="83" y="304"/>
                  </a:lnTo>
                  <a:lnTo>
                    <a:pt x="195" y="370"/>
                  </a:lnTo>
                  <a:lnTo>
                    <a:pt x="44" y="674"/>
                  </a:lnTo>
                  <a:lnTo>
                    <a:pt x="0" y="1075"/>
                  </a:lnTo>
                  <a:lnTo>
                    <a:pt x="120" y="1610"/>
                  </a:lnTo>
                  <a:lnTo>
                    <a:pt x="120" y="1831"/>
                  </a:lnTo>
                  <a:lnTo>
                    <a:pt x="57" y="2003"/>
                  </a:lnTo>
                  <a:lnTo>
                    <a:pt x="300" y="2298"/>
                  </a:lnTo>
                  <a:lnTo>
                    <a:pt x="456" y="1848"/>
                  </a:lnTo>
                  <a:lnTo>
                    <a:pt x="456" y="1544"/>
                  </a:lnTo>
                  <a:lnTo>
                    <a:pt x="340" y="1257"/>
                  </a:lnTo>
                  <a:lnTo>
                    <a:pt x="283" y="868"/>
                  </a:lnTo>
                  <a:lnTo>
                    <a:pt x="398" y="489"/>
                  </a:lnTo>
                  <a:lnTo>
                    <a:pt x="359" y="339"/>
                  </a:lnTo>
                  <a:lnTo>
                    <a:pt x="473" y="260"/>
                  </a:lnTo>
                  <a:lnTo>
                    <a:pt x="456" y="158"/>
                  </a:lnTo>
                  <a:lnTo>
                    <a:pt x="318" y="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521480" y="1298520"/>
              <a:ext cx="138600" cy="74880"/>
            </a:xfrm>
            <a:custGeom>
              <a:avLst/>
              <a:gdLst/>
              <a:ahLst/>
              <a:rect l="0" t="0" r="r" b="b"/>
              <a:pathLst>
                <a:path w="385" h="208">
                  <a:moveTo>
                    <a:pt x="0" y="61"/>
                  </a:moveTo>
                  <a:lnTo>
                    <a:pt x="155" y="208"/>
                  </a:lnTo>
                  <a:lnTo>
                    <a:pt x="306" y="190"/>
                  </a:lnTo>
                  <a:lnTo>
                    <a:pt x="385" y="17"/>
                  </a:lnTo>
                  <a:lnTo>
                    <a:pt x="212" y="0"/>
                  </a:lnTo>
                  <a:lnTo>
                    <a:pt x="39" y="17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372440" y="915840"/>
              <a:ext cx="170280" cy="162360"/>
            </a:xfrm>
            <a:custGeom>
              <a:avLst/>
              <a:gdLst/>
              <a:ahLst/>
              <a:rect l="0" t="0" r="r" b="b"/>
              <a:pathLst>
                <a:path w="473" h="451">
                  <a:moveTo>
                    <a:pt x="0" y="48"/>
                  </a:moveTo>
                  <a:lnTo>
                    <a:pt x="327" y="451"/>
                  </a:lnTo>
                  <a:lnTo>
                    <a:pt x="473" y="420"/>
                  </a:lnTo>
                  <a:lnTo>
                    <a:pt x="128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672320" y="880920"/>
              <a:ext cx="146520" cy="162360"/>
            </a:xfrm>
            <a:custGeom>
              <a:avLst/>
              <a:gdLst/>
              <a:ahLst/>
              <a:rect l="0" t="0" r="r" b="b"/>
              <a:pathLst>
                <a:path w="407" h="451">
                  <a:moveTo>
                    <a:pt x="0" y="66"/>
                  </a:moveTo>
                  <a:lnTo>
                    <a:pt x="283" y="451"/>
                  </a:lnTo>
                  <a:lnTo>
                    <a:pt x="407" y="350"/>
                  </a:lnTo>
                  <a:lnTo>
                    <a:pt x="111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08720" y="673200"/>
              <a:ext cx="595800" cy="405000"/>
            </a:xfrm>
            <a:custGeom>
              <a:avLst/>
              <a:gdLst/>
              <a:ahLst/>
              <a:rect l="0" t="0" r="r" b="b"/>
              <a:pathLst>
                <a:path w="1655" h="1125">
                  <a:moveTo>
                    <a:pt x="759" y="666"/>
                  </a:moveTo>
                  <a:lnTo>
                    <a:pt x="609" y="627"/>
                  </a:lnTo>
                  <a:lnTo>
                    <a:pt x="737" y="524"/>
                  </a:lnTo>
                  <a:lnTo>
                    <a:pt x="693" y="471"/>
                  </a:lnTo>
                  <a:lnTo>
                    <a:pt x="521" y="605"/>
                  </a:lnTo>
                  <a:lnTo>
                    <a:pt x="207" y="636"/>
                  </a:lnTo>
                  <a:lnTo>
                    <a:pt x="0" y="644"/>
                  </a:lnTo>
                  <a:lnTo>
                    <a:pt x="0" y="799"/>
                  </a:lnTo>
                  <a:lnTo>
                    <a:pt x="198" y="1116"/>
                  </a:lnTo>
                  <a:lnTo>
                    <a:pt x="246" y="1125"/>
                  </a:lnTo>
                  <a:lnTo>
                    <a:pt x="70" y="777"/>
                  </a:lnTo>
                  <a:lnTo>
                    <a:pt x="343" y="666"/>
                  </a:lnTo>
                  <a:lnTo>
                    <a:pt x="521" y="666"/>
                  </a:lnTo>
                  <a:lnTo>
                    <a:pt x="658" y="737"/>
                  </a:lnTo>
                  <a:lnTo>
                    <a:pt x="693" y="834"/>
                  </a:lnTo>
                  <a:lnTo>
                    <a:pt x="693" y="1046"/>
                  </a:lnTo>
                  <a:lnTo>
                    <a:pt x="693" y="1116"/>
                  </a:lnTo>
                  <a:lnTo>
                    <a:pt x="768" y="1015"/>
                  </a:lnTo>
                  <a:lnTo>
                    <a:pt x="768" y="790"/>
                  </a:lnTo>
                  <a:lnTo>
                    <a:pt x="887" y="790"/>
                  </a:lnTo>
                  <a:lnTo>
                    <a:pt x="944" y="1046"/>
                  </a:lnTo>
                  <a:lnTo>
                    <a:pt x="1006" y="1072"/>
                  </a:lnTo>
                  <a:lnTo>
                    <a:pt x="1209" y="1072"/>
                  </a:lnTo>
                  <a:lnTo>
                    <a:pt x="1413" y="1024"/>
                  </a:lnTo>
                  <a:lnTo>
                    <a:pt x="1554" y="927"/>
                  </a:lnTo>
                  <a:lnTo>
                    <a:pt x="1576" y="702"/>
                  </a:lnTo>
                  <a:lnTo>
                    <a:pt x="1655" y="605"/>
                  </a:lnTo>
                  <a:lnTo>
                    <a:pt x="1607" y="542"/>
                  </a:lnTo>
                  <a:lnTo>
                    <a:pt x="1426" y="480"/>
                  </a:lnTo>
                  <a:lnTo>
                    <a:pt x="1395" y="251"/>
                  </a:lnTo>
                  <a:lnTo>
                    <a:pt x="1222" y="251"/>
                  </a:lnTo>
                  <a:lnTo>
                    <a:pt x="1015" y="0"/>
                  </a:lnTo>
                  <a:lnTo>
                    <a:pt x="1204" y="277"/>
                  </a:lnTo>
                  <a:lnTo>
                    <a:pt x="1263" y="277"/>
                  </a:lnTo>
                  <a:lnTo>
                    <a:pt x="1302" y="471"/>
                  </a:lnTo>
                  <a:lnTo>
                    <a:pt x="1068" y="542"/>
                  </a:lnTo>
                  <a:lnTo>
                    <a:pt x="900" y="489"/>
                  </a:lnTo>
                  <a:lnTo>
                    <a:pt x="874" y="542"/>
                  </a:lnTo>
                  <a:lnTo>
                    <a:pt x="966" y="605"/>
                  </a:lnTo>
                  <a:lnTo>
                    <a:pt x="966" y="658"/>
                  </a:lnTo>
                  <a:lnTo>
                    <a:pt x="1165" y="574"/>
                  </a:lnTo>
                  <a:lnTo>
                    <a:pt x="1329" y="555"/>
                  </a:lnTo>
                  <a:lnTo>
                    <a:pt x="1518" y="583"/>
                  </a:lnTo>
                  <a:lnTo>
                    <a:pt x="1518" y="613"/>
                  </a:lnTo>
                  <a:lnTo>
                    <a:pt x="1430" y="693"/>
                  </a:lnTo>
                  <a:lnTo>
                    <a:pt x="1395" y="790"/>
                  </a:lnTo>
                  <a:lnTo>
                    <a:pt x="1386" y="927"/>
                  </a:lnTo>
                  <a:lnTo>
                    <a:pt x="1276" y="984"/>
                  </a:lnTo>
                  <a:lnTo>
                    <a:pt x="1116" y="1002"/>
                  </a:lnTo>
                  <a:lnTo>
                    <a:pt x="1006" y="1002"/>
                  </a:lnTo>
                  <a:lnTo>
                    <a:pt x="966" y="962"/>
                  </a:lnTo>
                  <a:lnTo>
                    <a:pt x="944" y="702"/>
                  </a:lnTo>
                  <a:lnTo>
                    <a:pt x="768" y="702"/>
                  </a:lnTo>
                  <a:lnTo>
                    <a:pt x="759" y="6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513560" y="1139760"/>
              <a:ext cx="192600" cy="82800"/>
            </a:xfrm>
            <a:custGeom>
              <a:avLst/>
              <a:gdLst/>
              <a:ahLst/>
              <a:rect l="0" t="0" r="r" b="b"/>
              <a:pathLst>
                <a:path w="535" h="230">
                  <a:moveTo>
                    <a:pt x="0" y="0"/>
                  </a:moveTo>
                  <a:lnTo>
                    <a:pt x="88" y="105"/>
                  </a:lnTo>
                  <a:lnTo>
                    <a:pt x="318" y="105"/>
                  </a:lnTo>
                  <a:lnTo>
                    <a:pt x="412" y="30"/>
                  </a:lnTo>
                  <a:lnTo>
                    <a:pt x="535" y="30"/>
                  </a:lnTo>
                  <a:lnTo>
                    <a:pt x="513" y="70"/>
                  </a:lnTo>
                  <a:lnTo>
                    <a:pt x="513" y="105"/>
                  </a:lnTo>
                  <a:lnTo>
                    <a:pt x="296" y="230"/>
                  </a:lnTo>
                  <a:lnTo>
                    <a:pt x="177" y="230"/>
                  </a:lnTo>
                  <a:lnTo>
                    <a:pt x="114" y="186"/>
                  </a:lnTo>
                  <a:lnTo>
                    <a:pt x="48" y="1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299360" y="1006560"/>
              <a:ext cx="292320" cy="437040"/>
            </a:xfrm>
            <a:custGeom>
              <a:avLst/>
              <a:gdLst/>
              <a:ahLst/>
              <a:rect l="0" t="0" r="r" b="b"/>
              <a:pathLst>
                <a:path w="812" h="1214">
                  <a:moveTo>
                    <a:pt x="812" y="88"/>
                  </a:moveTo>
                  <a:lnTo>
                    <a:pt x="812" y="105"/>
                  </a:lnTo>
                  <a:lnTo>
                    <a:pt x="666" y="229"/>
                  </a:lnTo>
                  <a:lnTo>
                    <a:pt x="552" y="251"/>
                  </a:lnTo>
                  <a:lnTo>
                    <a:pt x="321" y="220"/>
                  </a:lnTo>
                  <a:lnTo>
                    <a:pt x="366" y="653"/>
                  </a:lnTo>
                  <a:lnTo>
                    <a:pt x="419" y="1016"/>
                  </a:lnTo>
                  <a:lnTo>
                    <a:pt x="516" y="1214"/>
                  </a:lnTo>
                  <a:lnTo>
                    <a:pt x="419" y="1073"/>
                  </a:lnTo>
                  <a:lnTo>
                    <a:pt x="379" y="923"/>
                  </a:lnTo>
                  <a:lnTo>
                    <a:pt x="313" y="512"/>
                  </a:lnTo>
                  <a:lnTo>
                    <a:pt x="246" y="534"/>
                  </a:lnTo>
                  <a:lnTo>
                    <a:pt x="171" y="490"/>
                  </a:lnTo>
                  <a:lnTo>
                    <a:pt x="17" y="273"/>
                  </a:lnTo>
                  <a:lnTo>
                    <a:pt x="0" y="154"/>
                  </a:lnTo>
                  <a:lnTo>
                    <a:pt x="0" y="74"/>
                  </a:lnTo>
                  <a:lnTo>
                    <a:pt x="35" y="22"/>
                  </a:lnTo>
                  <a:lnTo>
                    <a:pt x="127" y="0"/>
                  </a:lnTo>
                  <a:lnTo>
                    <a:pt x="141" y="30"/>
                  </a:lnTo>
                  <a:lnTo>
                    <a:pt x="66" y="52"/>
                  </a:lnTo>
                  <a:lnTo>
                    <a:pt x="48" y="145"/>
                  </a:lnTo>
                  <a:lnTo>
                    <a:pt x="57" y="260"/>
                  </a:lnTo>
                  <a:lnTo>
                    <a:pt x="163" y="362"/>
                  </a:lnTo>
                  <a:lnTo>
                    <a:pt x="207" y="340"/>
                  </a:lnTo>
                  <a:lnTo>
                    <a:pt x="207" y="119"/>
                  </a:lnTo>
                  <a:lnTo>
                    <a:pt x="304" y="163"/>
                  </a:lnTo>
                  <a:lnTo>
                    <a:pt x="455" y="198"/>
                  </a:lnTo>
                  <a:lnTo>
                    <a:pt x="591" y="189"/>
                  </a:lnTo>
                  <a:lnTo>
                    <a:pt x="719" y="119"/>
                  </a:lnTo>
                  <a:lnTo>
                    <a:pt x="812" y="8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378560" y="660240"/>
              <a:ext cx="87840" cy="233640"/>
            </a:xfrm>
            <a:custGeom>
              <a:avLst/>
              <a:gdLst/>
              <a:ahLst/>
              <a:rect l="0" t="0" r="r" b="b"/>
              <a:pathLst>
                <a:path w="244" h="649">
                  <a:moveTo>
                    <a:pt x="124" y="649"/>
                  </a:moveTo>
                  <a:lnTo>
                    <a:pt x="244" y="264"/>
                  </a:lnTo>
                  <a:lnTo>
                    <a:pt x="30" y="127"/>
                  </a:lnTo>
                  <a:lnTo>
                    <a:pt x="0" y="0"/>
                  </a:lnTo>
                  <a:lnTo>
                    <a:pt x="17" y="154"/>
                  </a:lnTo>
                  <a:lnTo>
                    <a:pt x="89" y="220"/>
                  </a:lnTo>
                  <a:lnTo>
                    <a:pt x="98" y="415"/>
                  </a:lnTo>
                  <a:lnTo>
                    <a:pt x="146" y="494"/>
                  </a:lnTo>
                  <a:lnTo>
                    <a:pt x="124" y="64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375680" y="457200"/>
              <a:ext cx="652680" cy="306720"/>
            </a:xfrm>
            <a:custGeom>
              <a:avLst/>
              <a:gdLst/>
              <a:ahLst/>
              <a:rect l="0" t="0" r="r" b="b"/>
              <a:pathLst>
                <a:path w="1813" h="852">
                  <a:moveTo>
                    <a:pt x="17" y="578"/>
                  </a:moveTo>
                  <a:lnTo>
                    <a:pt x="171" y="662"/>
                  </a:lnTo>
                  <a:lnTo>
                    <a:pt x="154" y="556"/>
                  </a:lnTo>
                  <a:lnTo>
                    <a:pt x="185" y="361"/>
                  </a:lnTo>
                  <a:lnTo>
                    <a:pt x="291" y="321"/>
                  </a:lnTo>
                  <a:lnTo>
                    <a:pt x="304" y="525"/>
                  </a:lnTo>
                  <a:lnTo>
                    <a:pt x="608" y="163"/>
                  </a:lnTo>
                  <a:lnTo>
                    <a:pt x="679" y="141"/>
                  </a:lnTo>
                  <a:lnTo>
                    <a:pt x="626" y="282"/>
                  </a:lnTo>
                  <a:lnTo>
                    <a:pt x="815" y="352"/>
                  </a:lnTo>
                  <a:lnTo>
                    <a:pt x="953" y="211"/>
                  </a:lnTo>
                  <a:lnTo>
                    <a:pt x="1028" y="251"/>
                  </a:lnTo>
                  <a:lnTo>
                    <a:pt x="962" y="374"/>
                  </a:lnTo>
                  <a:lnTo>
                    <a:pt x="1054" y="308"/>
                  </a:lnTo>
                  <a:lnTo>
                    <a:pt x="1187" y="361"/>
                  </a:lnTo>
                  <a:lnTo>
                    <a:pt x="1081" y="464"/>
                  </a:lnTo>
                  <a:lnTo>
                    <a:pt x="1451" y="525"/>
                  </a:lnTo>
                  <a:lnTo>
                    <a:pt x="1200" y="600"/>
                  </a:lnTo>
                  <a:lnTo>
                    <a:pt x="1513" y="640"/>
                  </a:lnTo>
                  <a:lnTo>
                    <a:pt x="1147" y="724"/>
                  </a:lnTo>
                  <a:lnTo>
                    <a:pt x="1222" y="785"/>
                  </a:lnTo>
                  <a:lnTo>
                    <a:pt x="1116" y="852"/>
                  </a:lnTo>
                  <a:lnTo>
                    <a:pt x="1306" y="852"/>
                  </a:lnTo>
                  <a:lnTo>
                    <a:pt x="1288" y="803"/>
                  </a:lnTo>
                  <a:lnTo>
                    <a:pt x="1482" y="847"/>
                  </a:lnTo>
                  <a:lnTo>
                    <a:pt x="1451" y="710"/>
                  </a:lnTo>
                  <a:lnTo>
                    <a:pt x="1637" y="649"/>
                  </a:lnTo>
                  <a:lnTo>
                    <a:pt x="1504" y="587"/>
                  </a:lnTo>
                  <a:lnTo>
                    <a:pt x="1813" y="569"/>
                  </a:lnTo>
                  <a:lnTo>
                    <a:pt x="1548" y="433"/>
                  </a:lnTo>
                  <a:lnTo>
                    <a:pt x="1244" y="396"/>
                  </a:lnTo>
                  <a:lnTo>
                    <a:pt x="1482" y="260"/>
                  </a:lnTo>
                  <a:lnTo>
                    <a:pt x="1054" y="260"/>
                  </a:lnTo>
                  <a:lnTo>
                    <a:pt x="1257" y="127"/>
                  </a:lnTo>
                  <a:lnTo>
                    <a:pt x="944" y="163"/>
                  </a:lnTo>
                  <a:lnTo>
                    <a:pt x="798" y="229"/>
                  </a:lnTo>
                  <a:lnTo>
                    <a:pt x="922" y="0"/>
                  </a:lnTo>
                  <a:lnTo>
                    <a:pt x="546" y="127"/>
                  </a:lnTo>
                  <a:lnTo>
                    <a:pt x="339" y="405"/>
                  </a:lnTo>
                  <a:lnTo>
                    <a:pt x="304" y="251"/>
                  </a:lnTo>
                  <a:lnTo>
                    <a:pt x="132" y="361"/>
                  </a:lnTo>
                  <a:lnTo>
                    <a:pt x="114" y="569"/>
                  </a:lnTo>
                  <a:lnTo>
                    <a:pt x="0" y="525"/>
                  </a:lnTo>
                  <a:lnTo>
                    <a:pt x="39" y="710"/>
                  </a:lnTo>
                  <a:lnTo>
                    <a:pt x="17" y="57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516800" y="620640"/>
              <a:ext cx="184680" cy="92520"/>
            </a:xfrm>
            <a:custGeom>
              <a:avLst/>
              <a:gdLst/>
              <a:ahLst/>
              <a:rect l="0" t="0" r="r" b="b"/>
              <a:pathLst>
                <a:path w="513" h="257">
                  <a:moveTo>
                    <a:pt x="0" y="257"/>
                  </a:moveTo>
                  <a:lnTo>
                    <a:pt x="190" y="0"/>
                  </a:lnTo>
                  <a:lnTo>
                    <a:pt x="190" y="168"/>
                  </a:lnTo>
                  <a:lnTo>
                    <a:pt x="261" y="102"/>
                  </a:lnTo>
                  <a:lnTo>
                    <a:pt x="322" y="200"/>
                  </a:lnTo>
                  <a:lnTo>
                    <a:pt x="513" y="244"/>
                  </a:lnTo>
                  <a:lnTo>
                    <a:pt x="309" y="213"/>
                  </a:lnTo>
                  <a:lnTo>
                    <a:pt x="247" y="146"/>
                  </a:lnTo>
                  <a:lnTo>
                    <a:pt x="159" y="213"/>
                  </a:lnTo>
                  <a:lnTo>
                    <a:pt x="159" y="133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499520" y="1246320"/>
              <a:ext cx="222480" cy="136800"/>
            </a:xfrm>
            <a:custGeom>
              <a:avLst/>
              <a:gdLst/>
              <a:ahLst/>
              <a:rect l="0" t="0" r="r" b="b"/>
              <a:pathLst>
                <a:path w="618" h="380">
                  <a:moveTo>
                    <a:pt x="119" y="132"/>
                  </a:moveTo>
                  <a:lnTo>
                    <a:pt x="371" y="114"/>
                  </a:lnTo>
                  <a:lnTo>
                    <a:pt x="490" y="141"/>
                  </a:lnTo>
                  <a:lnTo>
                    <a:pt x="552" y="88"/>
                  </a:lnTo>
                  <a:lnTo>
                    <a:pt x="618" y="212"/>
                  </a:lnTo>
                  <a:lnTo>
                    <a:pt x="574" y="234"/>
                  </a:lnTo>
                  <a:lnTo>
                    <a:pt x="521" y="185"/>
                  </a:lnTo>
                  <a:lnTo>
                    <a:pt x="441" y="274"/>
                  </a:lnTo>
                  <a:lnTo>
                    <a:pt x="286" y="380"/>
                  </a:lnTo>
                  <a:lnTo>
                    <a:pt x="216" y="380"/>
                  </a:lnTo>
                  <a:lnTo>
                    <a:pt x="119" y="327"/>
                  </a:lnTo>
                  <a:lnTo>
                    <a:pt x="229" y="371"/>
                  </a:lnTo>
                  <a:lnTo>
                    <a:pt x="273" y="371"/>
                  </a:lnTo>
                  <a:lnTo>
                    <a:pt x="371" y="300"/>
                  </a:lnTo>
                  <a:lnTo>
                    <a:pt x="437" y="171"/>
                  </a:lnTo>
                  <a:lnTo>
                    <a:pt x="336" y="154"/>
                  </a:lnTo>
                  <a:lnTo>
                    <a:pt x="268" y="141"/>
                  </a:lnTo>
                  <a:lnTo>
                    <a:pt x="105" y="163"/>
                  </a:lnTo>
                  <a:lnTo>
                    <a:pt x="101" y="265"/>
                  </a:lnTo>
                  <a:lnTo>
                    <a:pt x="48" y="203"/>
                  </a:lnTo>
                  <a:lnTo>
                    <a:pt x="0" y="287"/>
                  </a:lnTo>
                  <a:lnTo>
                    <a:pt x="4" y="101"/>
                  </a:lnTo>
                  <a:lnTo>
                    <a:pt x="66" y="0"/>
                  </a:lnTo>
                  <a:lnTo>
                    <a:pt x="119" y="101"/>
                  </a:lnTo>
                  <a:lnTo>
                    <a:pt x="119" y="13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472520" y="949320"/>
              <a:ext cx="475200" cy="633600"/>
            </a:xfrm>
            <a:custGeom>
              <a:avLst/>
              <a:gdLst/>
              <a:ahLst/>
              <a:rect l="0" t="0" r="r" b="b"/>
              <a:pathLst>
                <a:path w="1320" h="1760">
                  <a:moveTo>
                    <a:pt x="1113" y="0"/>
                  </a:moveTo>
                  <a:lnTo>
                    <a:pt x="1241" y="0"/>
                  </a:lnTo>
                  <a:lnTo>
                    <a:pt x="1320" y="88"/>
                  </a:lnTo>
                  <a:lnTo>
                    <a:pt x="1320" y="180"/>
                  </a:lnTo>
                  <a:lnTo>
                    <a:pt x="1210" y="458"/>
                  </a:lnTo>
                  <a:lnTo>
                    <a:pt x="1104" y="590"/>
                  </a:lnTo>
                  <a:lnTo>
                    <a:pt x="988" y="608"/>
                  </a:lnTo>
                  <a:lnTo>
                    <a:pt x="957" y="608"/>
                  </a:lnTo>
                  <a:lnTo>
                    <a:pt x="957" y="957"/>
                  </a:lnTo>
                  <a:lnTo>
                    <a:pt x="1011" y="1209"/>
                  </a:lnTo>
                  <a:lnTo>
                    <a:pt x="1011" y="1412"/>
                  </a:lnTo>
                  <a:lnTo>
                    <a:pt x="812" y="1619"/>
                  </a:lnTo>
                  <a:lnTo>
                    <a:pt x="538" y="1760"/>
                  </a:lnTo>
                  <a:lnTo>
                    <a:pt x="367" y="1760"/>
                  </a:lnTo>
                  <a:lnTo>
                    <a:pt x="277" y="1720"/>
                  </a:lnTo>
                  <a:lnTo>
                    <a:pt x="154" y="1478"/>
                  </a:lnTo>
                  <a:lnTo>
                    <a:pt x="44" y="1390"/>
                  </a:lnTo>
                  <a:lnTo>
                    <a:pt x="0" y="1328"/>
                  </a:lnTo>
                  <a:lnTo>
                    <a:pt x="145" y="1412"/>
                  </a:lnTo>
                  <a:lnTo>
                    <a:pt x="255" y="1500"/>
                  </a:lnTo>
                  <a:lnTo>
                    <a:pt x="464" y="1513"/>
                  </a:lnTo>
                  <a:lnTo>
                    <a:pt x="658" y="1425"/>
                  </a:lnTo>
                  <a:lnTo>
                    <a:pt x="755" y="1328"/>
                  </a:lnTo>
                  <a:lnTo>
                    <a:pt x="865" y="1147"/>
                  </a:lnTo>
                  <a:lnTo>
                    <a:pt x="882" y="935"/>
                  </a:lnTo>
                  <a:lnTo>
                    <a:pt x="922" y="260"/>
                  </a:lnTo>
                  <a:lnTo>
                    <a:pt x="966" y="357"/>
                  </a:lnTo>
                  <a:lnTo>
                    <a:pt x="1100" y="233"/>
                  </a:lnTo>
                  <a:lnTo>
                    <a:pt x="1232" y="180"/>
                  </a:lnTo>
                  <a:lnTo>
                    <a:pt x="1267" y="110"/>
                  </a:lnTo>
                  <a:lnTo>
                    <a:pt x="1249" y="39"/>
                  </a:lnTo>
                  <a:lnTo>
                    <a:pt x="1192" y="8"/>
                  </a:lnTo>
                  <a:lnTo>
                    <a:pt x="11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735600" y="1495440"/>
              <a:ext cx="383040" cy="586080"/>
            </a:xfrm>
            <a:custGeom>
              <a:avLst/>
              <a:gdLst/>
              <a:ahLst/>
              <a:rect l="0" t="0" r="r" b="b"/>
              <a:pathLst>
                <a:path w="1064" h="1628">
                  <a:moveTo>
                    <a:pt x="132" y="0"/>
                  </a:moveTo>
                  <a:lnTo>
                    <a:pt x="255" y="74"/>
                  </a:lnTo>
                  <a:lnTo>
                    <a:pt x="349" y="405"/>
                  </a:lnTo>
                  <a:lnTo>
                    <a:pt x="622" y="480"/>
                  </a:lnTo>
                  <a:lnTo>
                    <a:pt x="697" y="568"/>
                  </a:lnTo>
                  <a:lnTo>
                    <a:pt x="710" y="687"/>
                  </a:lnTo>
                  <a:lnTo>
                    <a:pt x="848" y="670"/>
                  </a:lnTo>
                  <a:lnTo>
                    <a:pt x="1011" y="776"/>
                  </a:lnTo>
                  <a:lnTo>
                    <a:pt x="1064" y="909"/>
                  </a:lnTo>
                  <a:lnTo>
                    <a:pt x="1064" y="1138"/>
                  </a:lnTo>
                  <a:lnTo>
                    <a:pt x="848" y="1487"/>
                  </a:lnTo>
                  <a:lnTo>
                    <a:pt x="772" y="1628"/>
                  </a:lnTo>
                  <a:lnTo>
                    <a:pt x="813" y="1438"/>
                  </a:lnTo>
                  <a:lnTo>
                    <a:pt x="772" y="1368"/>
                  </a:lnTo>
                  <a:lnTo>
                    <a:pt x="644" y="1248"/>
                  </a:lnTo>
                  <a:lnTo>
                    <a:pt x="433" y="1107"/>
                  </a:lnTo>
                  <a:lnTo>
                    <a:pt x="684" y="1187"/>
                  </a:lnTo>
                  <a:lnTo>
                    <a:pt x="835" y="1293"/>
                  </a:lnTo>
                  <a:lnTo>
                    <a:pt x="910" y="1279"/>
                  </a:lnTo>
                  <a:lnTo>
                    <a:pt x="954" y="1222"/>
                  </a:lnTo>
                  <a:lnTo>
                    <a:pt x="1011" y="1054"/>
                  </a:lnTo>
                  <a:lnTo>
                    <a:pt x="994" y="896"/>
                  </a:lnTo>
                  <a:lnTo>
                    <a:pt x="919" y="802"/>
                  </a:lnTo>
                  <a:lnTo>
                    <a:pt x="785" y="776"/>
                  </a:lnTo>
                  <a:lnTo>
                    <a:pt x="644" y="776"/>
                  </a:lnTo>
                  <a:lnTo>
                    <a:pt x="596" y="533"/>
                  </a:lnTo>
                  <a:lnTo>
                    <a:pt x="362" y="454"/>
                  </a:lnTo>
                  <a:lnTo>
                    <a:pt x="362" y="520"/>
                  </a:lnTo>
                  <a:lnTo>
                    <a:pt x="255" y="348"/>
                  </a:lnTo>
                  <a:lnTo>
                    <a:pt x="194" y="74"/>
                  </a:lnTo>
                  <a:lnTo>
                    <a:pt x="105" y="44"/>
                  </a:lnTo>
                  <a:lnTo>
                    <a:pt x="52" y="127"/>
                  </a:lnTo>
                  <a:lnTo>
                    <a:pt x="52" y="317"/>
                  </a:lnTo>
                  <a:lnTo>
                    <a:pt x="97" y="520"/>
                  </a:lnTo>
                  <a:lnTo>
                    <a:pt x="220" y="687"/>
                  </a:lnTo>
                  <a:lnTo>
                    <a:pt x="83" y="586"/>
                  </a:lnTo>
                  <a:lnTo>
                    <a:pt x="13" y="405"/>
                  </a:lnTo>
                  <a:lnTo>
                    <a:pt x="0" y="171"/>
                  </a:lnTo>
                  <a:lnTo>
                    <a:pt x="52" y="44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553080" y="1754280"/>
              <a:ext cx="252720" cy="468720"/>
            </a:xfrm>
            <a:custGeom>
              <a:avLst/>
              <a:gdLst/>
              <a:ahLst/>
              <a:rect l="0" t="0" r="r" b="b"/>
              <a:pathLst>
                <a:path w="702" h="1302">
                  <a:moveTo>
                    <a:pt x="702" y="0"/>
                  </a:moveTo>
                  <a:lnTo>
                    <a:pt x="556" y="88"/>
                  </a:lnTo>
                  <a:lnTo>
                    <a:pt x="384" y="402"/>
                  </a:lnTo>
                  <a:lnTo>
                    <a:pt x="220" y="609"/>
                  </a:lnTo>
                  <a:lnTo>
                    <a:pt x="17" y="856"/>
                  </a:lnTo>
                  <a:lnTo>
                    <a:pt x="0" y="985"/>
                  </a:lnTo>
                  <a:lnTo>
                    <a:pt x="39" y="1095"/>
                  </a:lnTo>
                  <a:lnTo>
                    <a:pt x="136" y="1095"/>
                  </a:lnTo>
                  <a:lnTo>
                    <a:pt x="268" y="985"/>
                  </a:lnTo>
                  <a:lnTo>
                    <a:pt x="371" y="750"/>
                  </a:lnTo>
                  <a:lnTo>
                    <a:pt x="516" y="609"/>
                  </a:lnTo>
                  <a:lnTo>
                    <a:pt x="516" y="794"/>
                  </a:lnTo>
                  <a:lnTo>
                    <a:pt x="494" y="966"/>
                  </a:lnTo>
                  <a:lnTo>
                    <a:pt x="343" y="1197"/>
                  </a:lnTo>
                  <a:lnTo>
                    <a:pt x="343" y="1272"/>
                  </a:lnTo>
                  <a:lnTo>
                    <a:pt x="494" y="1302"/>
                  </a:lnTo>
                  <a:lnTo>
                    <a:pt x="384" y="1236"/>
                  </a:lnTo>
                  <a:lnTo>
                    <a:pt x="402" y="1197"/>
                  </a:lnTo>
                  <a:lnTo>
                    <a:pt x="508" y="1029"/>
                  </a:lnTo>
                  <a:lnTo>
                    <a:pt x="583" y="724"/>
                  </a:lnTo>
                  <a:lnTo>
                    <a:pt x="530" y="547"/>
                  </a:lnTo>
                  <a:lnTo>
                    <a:pt x="415" y="649"/>
                  </a:lnTo>
                  <a:lnTo>
                    <a:pt x="163" y="1038"/>
                  </a:lnTo>
                  <a:lnTo>
                    <a:pt x="101" y="1051"/>
                  </a:lnTo>
                  <a:lnTo>
                    <a:pt x="39" y="1011"/>
                  </a:lnTo>
                  <a:lnTo>
                    <a:pt x="39" y="891"/>
                  </a:lnTo>
                  <a:lnTo>
                    <a:pt x="136" y="737"/>
                  </a:lnTo>
                  <a:lnTo>
                    <a:pt x="415" y="419"/>
                  </a:lnTo>
                  <a:lnTo>
                    <a:pt x="583" y="119"/>
                  </a:lnTo>
                  <a:lnTo>
                    <a:pt x="70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740640" y="2017800"/>
              <a:ext cx="157680" cy="225720"/>
            </a:xfrm>
            <a:custGeom>
              <a:avLst/>
              <a:gdLst/>
              <a:ahLst/>
              <a:rect l="0" t="0" r="r" b="b"/>
              <a:pathLst>
                <a:path w="438" h="627">
                  <a:moveTo>
                    <a:pt x="0" y="552"/>
                  </a:moveTo>
                  <a:lnTo>
                    <a:pt x="146" y="393"/>
                  </a:lnTo>
                  <a:lnTo>
                    <a:pt x="172" y="233"/>
                  </a:lnTo>
                  <a:lnTo>
                    <a:pt x="337" y="0"/>
                  </a:lnTo>
                  <a:lnTo>
                    <a:pt x="372" y="154"/>
                  </a:lnTo>
                  <a:lnTo>
                    <a:pt x="350" y="565"/>
                  </a:lnTo>
                  <a:lnTo>
                    <a:pt x="438" y="627"/>
                  </a:lnTo>
                  <a:lnTo>
                    <a:pt x="309" y="583"/>
                  </a:lnTo>
                  <a:lnTo>
                    <a:pt x="243" y="349"/>
                  </a:lnTo>
                  <a:lnTo>
                    <a:pt x="146" y="464"/>
                  </a:lnTo>
                  <a:lnTo>
                    <a:pt x="0" y="55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932520" y="2030400"/>
              <a:ext cx="103680" cy="201960"/>
            </a:xfrm>
            <a:custGeom>
              <a:avLst/>
              <a:gdLst/>
              <a:ahLst/>
              <a:rect l="0" t="0" r="r" b="b"/>
              <a:pathLst>
                <a:path w="288" h="561">
                  <a:moveTo>
                    <a:pt x="0" y="419"/>
                  </a:moveTo>
                  <a:lnTo>
                    <a:pt x="13" y="216"/>
                  </a:lnTo>
                  <a:lnTo>
                    <a:pt x="75" y="92"/>
                  </a:lnTo>
                  <a:lnTo>
                    <a:pt x="142" y="534"/>
                  </a:lnTo>
                  <a:lnTo>
                    <a:pt x="226" y="534"/>
                  </a:lnTo>
                  <a:lnTo>
                    <a:pt x="266" y="61"/>
                  </a:lnTo>
                  <a:lnTo>
                    <a:pt x="288" y="0"/>
                  </a:lnTo>
                  <a:lnTo>
                    <a:pt x="266" y="367"/>
                  </a:lnTo>
                  <a:lnTo>
                    <a:pt x="226" y="561"/>
                  </a:lnTo>
                  <a:lnTo>
                    <a:pt x="115" y="561"/>
                  </a:lnTo>
                  <a:lnTo>
                    <a:pt x="66" y="171"/>
                  </a:lnTo>
                  <a:lnTo>
                    <a:pt x="35" y="229"/>
                  </a:lnTo>
                  <a:lnTo>
                    <a:pt x="0" y="41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250120" y="1235160"/>
              <a:ext cx="249480" cy="540000"/>
            </a:xfrm>
            <a:custGeom>
              <a:avLst/>
              <a:gdLst/>
              <a:ahLst/>
              <a:rect l="0" t="0" r="r" b="b"/>
              <a:pathLst>
                <a:path w="693" h="1500">
                  <a:moveTo>
                    <a:pt x="180" y="812"/>
                  </a:moveTo>
                  <a:lnTo>
                    <a:pt x="233" y="577"/>
                  </a:lnTo>
                  <a:lnTo>
                    <a:pt x="468" y="515"/>
                  </a:lnTo>
                  <a:lnTo>
                    <a:pt x="693" y="0"/>
                  </a:lnTo>
                  <a:lnTo>
                    <a:pt x="693" y="149"/>
                  </a:lnTo>
                  <a:lnTo>
                    <a:pt x="503" y="546"/>
                  </a:lnTo>
                  <a:lnTo>
                    <a:pt x="255" y="621"/>
                  </a:lnTo>
                  <a:lnTo>
                    <a:pt x="220" y="812"/>
                  </a:lnTo>
                  <a:lnTo>
                    <a:pt x="308" y="812"/>
                  </a:lnTo>
                  <a:lnTo>
                    <a:pt x="92" y="896"/>
                  </a:lnTo>
                  <a:lnTo>
                    <a:pt x="39" y="1054"/>
                  </a:lnTo>
                  <a:lnTo>
                    <a:pt x="52" y="1262"/>
                  </a:lnTo>
                  <a:lnTo>
                    <a:pt x="282" y="1500"/>
                  </a:lnTo>
                  <a:lnTo>
                    <a:pt x="39" y="1288"/>
                  </a:lnTo>
                  <a:lnTo>
                    <a:pt x="0" y="1116"/>
                  </a:lnTo>
                  <a:lnTo>
                    <a:pt x="17" y="944"/>
                  </a:lnTo>
                  <a:lnTo>
                    <a:pt x="105" y="821"/>
                  </a:lnTo>
                  <a:lnTo>
                    <a:pt x="180" y="81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418600" y="1235160"/>
              <a:ext cx="419400" cy="524160"/>
            </a:xfrm>
            <a:custGeom>
              <a:avLst/>
              <a:gdLst/>
              <a:ahLst/>
              <a:rect l="0" t="0" r="r" b="b"/>
              <a:pathLst>
                <a:path w="1165" h="1456">
                  <a:moveTo>
                    <a:pt x="321" y="0"/>
                  </a:moveTo>
                  <a:lnTo>
                    <a:pt x="392" y="44"/>
                  </a:lnTo>
                  <a:lnTo>
                    <a:pt x="414" y="167"/>
                  </a:lnTo>
                  <a:lnTo>
                    <a:pt x="414" y="282"/>
                  </a:lnTo>
                  <a:lnTo>
                    <a:pt x="282" y="493"/>
                  </a:lnTo>
                  <a:lnTo>
                    <a:pt x="308" y="648"/>
                  </a:lnTo>
                  <a:lnTo>
                    <a:pt x="702" y="821"/>
                  </a:lnTo>
                  <a:lnTo>
                    <a:pt x="1156" y="1275"/>
                  </a:lnTo>
                  <a:lnTo>
                    <a:pt x="1165" y="1403"/>
                  </a:lnTo>
                  <a:lnTo>
                    <a:pt x="1138" y="1456"/>
                  </a:lnTo>
                  <a:lnTo>
                    <a:pt x="971" y="1456"/>
                  </a:lnTo>
                  <a:lnTo>
                    <a:pt x="816" y="1368"/>
                  </a:lnTo>
                  <a:lnTo>
                    <a:pt x="693" y="1218"/>
                  </a:lnTo>
                  <a:lnTo>
                    <a:pt x="622" y="1129"/>
                  </a:lnTo>
                  <a:lnTo>
                    <a:pt x="537" y="1116"/>
                  </a:lnTo>
                  <a:lnTo>
                    <a:pt x="640" y="1116"/>
                  </a:lnTo>
                  <a:lnTo>
                    <a:pt x="830" y="1354"/>
                  </a:lnTo>
                  <a:lnTo>
                    <a:pt x="1072" y="1425"/>
                  </a:lnTo>
                  <a:lnTo>
                    <a:pt x="1125" y="1354"/>
                  </a:lnTo>
                  <a:lnTo>
                    <a:pt x="1099" y="1244"/>
                  </a:lnTo>
                  <a:lnTo>
                    <a:pt x="675" y="918"/>
                  </a:lnTo>
                  <a:lnTo>
                    <a:pt x="613" y="821"/>
                  </a:lnTo>
                  <a:lnTo>
                    <a:pt x="282" y="737"/>
                  </a:lnTo>
                  <a:lnTo>
                    <a:pt x="224" y="821"/>
                  </a:lnTo>
                  <a:lnTo>
                    <a:pt x="0" y="957"/>
                  </a:lnTo>
                  <a:lnTo>
                    <a:pt x="211" y="799"/>
                  </a:lnTo>
                  <a:lnTo>
                    <a:pt x="224" y="696"/>
                  </a:lnTo>
                  <a:lnTo>
                    <a:pt x="224" y="463"/>
                  </a:lnTo>
                  <a:lnTo>
                    <a:pt x="374" y="282"/>
                  </a:lnTo>
                  <a:lnTo>
                    <a:pt x="374" y="57"/>
                  </a:lnTo>
                  <a:lnTo>
                    <a:pt x="32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342280" y="1646280"/>
              <a:ext cx="356040" cy="309960"/>
            </a:xfrm>
            <a:custGeom>
              <a:avLst/>
              <a:gdLst/>
              <a:ahLst/>
              <a:rect l="0" t="0" r="r" b="b"/>
              <a:pathLst>
                <a:path w="989" h="861">
                  <a:moveTo>
                    <a:pt x="741" y="0"/>
                  </a:moveTo>
                  <a:lnTo>
                    <a:pt x="715" y="74"/>
                  </a:lnTo>
                  <a:lnTo>
                    <a:pt x="866" y="358"/>
                  </a:lnTo>
                  <a:lnTo>
                    <a:pt x="936" y="650"/>
                  </a:lnTo>
                  <a:lnTo>
                    <a:pt x="853" y="650"/>
                  </a:lnTo>
                  <a:lnTo>
                    <a:pt x="702" y="521"/>
                  </a:lnTo>
                  <a:lnTo>
                    <a:pt x="569" y="252"/>
                  </a:lnTo>
                  <a:lnTo>
                    <a:pt x="464" y="211"/>
                  </a:lnTo>
                  <a:lnTo>
                    <a:pt x="481" y="358"/>
                  </a:lnTo>
                  <a:lnTo>
                    <a:pt x="578" y="464"/>
                  </a:lnTo>
                  <a:lnTo>
                    <a:pt x="578" y="667"/>
                  </a:lnTo>
                  <a:lnTo>
                    <a:pt x="508" y="822"/>
                  </a:lnTo>
                  <a:lnTo>
                    <a:pt x="415" y="760"/>
                  </a:lnTo>
                  <a:lnTo>
                    <a:pt x="305" y="521"/>
                  </a:lnTo>
                  <a:lnTo>
                    <a:pt x="278" y="358"/>
                  </a:lnTo>
                  <a:lnTo>
                    <a:pt x="211" y="314"/>
                  </a:lnTo>
                  <a:lnTo>
                    <a:pt x="194" y="729"/>
                  </a:lnTo>
                  <a:lnTo>
                    <a:pt x="105" y="786"/>
                  </a:lnTo>
                  <a:lnTo>
                    <a:pt x="26" y="729"/>
                  </a:lnTo>
                  <a:lnTo>
                    <a:pt x="13" y="371"/>
                  </a:lnTo>
                  <a:lnTo>
                    <a:pt x="0" y="720"/>
                  </a:lnTo>
                  <a:lnTo>
                    <a:pt x="66" y="848"/>
                  </a:lnTo>
                  <a:lnTo>
                    <a:pt x="194" y="848"/>
                  </a:lnTo>
                  <a:lnTo>
                    <a:pt x="238" y="747"/>
                  </a:lnTo>
                  <a:lnTo>
                    <a:pt x="265" y="419"/>
                  </a:lnTo>
                  <a:lnTo>
                    <a:pt x="287" y="547"/>
                  </a:lnTo>
                  <a:lnTo>
                    <a:pt x="397" y="831"/>
                  </a:lnTo>
                  <a:lnTo>
                    <a:pt x="521" y="861"/>
                  </a:lnTo>
                  <a:lnTo>
                    <a:pt x="613" y="747"/>
                  </a:lnTo>
                  <a:lnTo>
                    <a:pt x="613" y="477"/>
                  </a:lnTo>
                  <a:lnTo>
                    <a:pt x="853" y="703"/>
                  </a:lnTo>
                  <a:lnTo>
                    <a:pt x="976" y="703"/>
                  </a:lnTo>
                  <a:lnTo>
                    <a:pt x="989" y="547"/>
                  </a:lnTo>
                  <a:lnTo>
                    <a:pt x="897" y="278"/>
                  </a:lnTo>
                  <a:lnTo>
                    <a:pt x="741" y="57"/>
                  </a:lnTo>
                  <a:lnTo>
                    <a:pt x="74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902280" y="1325520"/>
              <a:ext cx="1586160" cy="1263960"/>
            </a:xfrm>
            <a:custGeom>
              <a:avLst/>
              <a:gdLst/>
              <a:ahLst/>
              <a:rect l="0" t="0" r="r" b="b"/>
              <a:pathLst>
                <a:path w="4406" h="3511">
                  <a:moveTo>
                    <a:pt x="1587" y="295"/>
                  </a:moveTo>
                  <a:lnTo>
                    <a:pt x="1503" y="308"/>
                  </a:lnTo>
                  <a:lnTo>
                    <a:pt x="1380" y="485"/>
                  </a:lnTo>
                  <a:lnTo>
                    <a:pt x="1336" y="357"/>
                  </a:lnTo>
                  <a:lnTo>
                    <a:pt x="1195" y="282"/>
                  </a:lnTo>
                  <a:lnTo>
                    <a:pt x="1089" y="339"/>
                  </a:lnTo>
                  <a:lnTo>
                    <a:pt x="1045" y="568"/>
                  </a:lnTo>
                  <a:lnTo>
                    <a:pt x="652" y="846"/>
                  </a:lnTo>
                  <a:lnTo>
                    <a:pt x="679" y="965"/>
                  </a:lnTo>
                  <a:lnTo>
                    <a:pt x="582" y="1071"/>
                  </a:lnTo>
                  <a:lnTo>
                    <a:pt x="582" y="1159"/>
                  </a:lnTo>
                  <a:lnTo>
                    <a:pt x="696" y="1424"/>
                  </a:lnTo>
                  <a:lnTo>
                    <a:pt x="705" y="1750"/>
                  </a:lnTo>
                  <a:lnTo>
                    <a:pt x="630" y="2055"/>
                  </a:lnTo>
                  <a:lnTo>
                    <a:pt x="348" y="2241"/>
                  </a:lnTo>
                  <a:lnTo>
                    <a:pt x="308" y="2492"/>
                  </a:lnTo>
                  <a:lnTo>
                    <a:pt x="220" y="2492"/>
                  </a:lnTo>
                  <a:lnTo>
                    <a:pt x="176" y="2285"/>
                  </a:lnTo>
                  <a:lnTo>
                    <a:pt x="92" y="2285"/>
                  </a:lnTo>
                  <a:lnTo>
                    <a:pt x="52" y="2505"/>
                  </a:lnTo>
                  <a:lnTo>
                    <a:pt x="0" y="2563"/>
                  </a:lnTo>
                  <a:lnTo>
                    <a:pt x="194" y="2867"/>
                  </a:lnTo>
                  <a:lnTo>
                    <a:pt x="335" y="2880"/>
                  </a:lnTo>
                  <a:lnTo>
                    <a:pt x="582" y="3105"/>
                  </a:lnTo>
                  <a:lnTo>
                    <a:pt x="806" y="3131"/>
                  </a:lnTo>
                  <a:lnTo>
                    <a:pt x="934" y="3012"/>
                  </a:lnTo>
                  <a:lnTo>
                    <a:pt x="1239" y="2580"/>
                  </a:lnTo>
                  <a:lnTo>
                    <a:pt x="1265" y="3162"/>
                  </a:lnTo>
                  <a:lnTo>
                    <a:pt x="1239" y="3511"/>
                  </a:lnTo>
                  <a:lnTo>
                    <a:pt x="3784" y="3511"/>
                  </a:lnTo>
                  <a:lnTo>
                    <a:pt x="3599" y="3131"/>
                  </a:lnTo>
                  <a:lnTo>
                    <a:pt x="3506" y="2805"/>
                  </a:lnTo>
                  <a:lnTo>
                    <a:pt x="3484" y="2320"/>
                  </a:lnTo>
                  <a:lnTo>
                    <a:pt x="3634" y="2430"/>
                  </a:lnTo>
                  <a:lnTo>
                    <a:pt x="3784" y="2430"/>
                  </a:lnTo>
                  <a:lnTo>
                    <a:pt x="3991" y="2302"/>
                  </a:lnTo>
                  <a:lnTo>
                    <a:pt x="4132" y="2285"/>
                  </a:lnTo>
                  <a:lnTo>
                    <a:pt x="4221" y="2157"/>
                  </a:lnTo>
                  <a:lnTo>
                    <a:pt x="4278" y="1826"/>
                  </a:lnTo>
                  <a:lnTo>
                    <a:pt x="4406" y="1688"/>
                  </a:lnTo>
                  <a:lnTo>
                    <a:pt x="4340" y="1591"/>
                  </a:lnTo>
                  <a:lnTo>
                    <a:pt x="4247" y="1591"/>
                  </a:lnTo>
                  <a:lnTo>
                    <a:pt x="4172" y="1658"/>
                  </a:lnTo>
                  <a:lnTo>
                    <a:pt x="4097" y="1675"/>
                  </a:lnTo>
                  <a:lnTo>
                    <a:pt x="4005" y="1591"/>
                  </a:lnTo>
                  <a:lnTo>
                    <a:pt x="3899" y="1578"/>
                  </a:lnTo>
                  <a:lnTo>
                    <a:pt x="3696" y="1455"/>
                  </a:lnTo>
                  <a:lnTo>
                    <a:pt x="3572" y="1322"/>
                  </a:lnTo>
                  <a:lnTo>
                    <a:pt x="3550" y="1159"/>
                  </a:lnTo>
                  <a:lnTo>
                    <a:pt x="3572" y="1005"/>
                  </a:lnTo>
                  <a:lnTo>
                    <a:pt x="3656" y="877"/>
                  </a:lnTo>
                  <a:lnTo>
                    <a:pt x="3762" y="762"/>
                  </a:lnTo>
                  <a:lnTo>
                    <a:pt x="3753" y="560"/>
                  </a:lnTo>
                  <a:lnTo>
                    <a:pt x="3753" y="414"/>
                  </a:lnTo>
                  <a:lnTo>
                    <a:pt x="3696" y="308"/>
                  </a:lnTo>
                  <a:lnTo>
                    <a:pt x="3550" y="264"/>
                  </a:lnTo>
                  <a:lnTo>
                    <a:pt x="3497" y="238"/>
                  </a:lnTo>
                  <a:lnTo>
                    <a:pt x="3392" y="66"/>
                  </a:lnTo>
                  <a:lnTo>
                    <a:pt x="3308" y="13"/>
                  </a:lnTo>
                  <a:lnTo>
                    <a:pt x="3215" y="0"/>
                  </a:lnTo>
                  <a:lnTo>
                    <a:pt x="3136" y="30"/>
                  </a:lnTo>
                  <a:lnTo>
                    <a:pt x="3074" y="123"/>
                  </a:lnTo>
                  <a:lnTo>
                    <a:pt x="2977" y="176"/>
                  </a:lnTo>
                  <a:lnTo>
                    <a:pt x="2867" y="198"/>
                  </a:lnTo>
                  <a:lnTo>
                    <a:pt x="2748" y="198"/>
                  </a:lnTo>
                  <a:lnTo>
                    <a:pt x="2770" y="370"/>
                  </a:lnTo>
                  <a:lnTo>
                    <a:pt x="2770" y="586"/>
                  </a:lnTo>
                  <a:lnTo>
                    <a:pt x="2748" y="732"/>
                  </a:lnTo>
                  <a:lnTo>
                    <a:pt x="2638" y="903"/>
                  </a:lnTo>
                  <a:lnTo>
                    <a:pt x="2501" y="1168"/>
                  </a:lnTo>
                  <a:lnTo>
                    <a:pt x="2391" y="1486"/>
                  </a:lnTo>
                  <a:lnTo>
                    <a:pt x="2382" y="1675"/>
                  </a:lnTo>
                  <a:lnTo>
                    <a:pt x="2329" y="1839"/>
                  </a:lnTo>
                  <a:lnTo>
                    <a:pt x="2263" y="1998"/>
                  </a:lnTo>
                  <a:lnTo>
                    <a:pt x="2232" y="2254"/>
                  </a:lnTo>
                  <a:lnTo>
                    <a:pt x="2249" y="2466"/>
                  </a:lnTo>
                  <a:lnTo>
                    <a:pt x="2329" y="2712"/>
                  </a:lnTo>
                  <a:lnTo>
                    <a:pt x="2382" y="2805"/>
                  </a:lnTo>
                  <a:lnTo>
                    <a:pt x="2232" y="2898"/>
                  </a:lnTo>
                  <a:lnTo>
                    <a:pt x="2054" y="2955"/>
                  </a:lnTo>
                  <a:lnTo>
                    <a:pt x="1860" y="2973"/>
                  </a:lnTo>
                  <a:lnTo>
                    <a:pt x="1737" y="2973"/>
                  </a:lnTo>
                  <a:lnTo>
                    <a:pt x="1658" y="2937"/>
                  </a:lnTo>
                  <a:lnTo>
                    <a:pt x="1658" y="2730"/>
                  </a:lnTo>
                  <a:lnTo>
                    <a:pt x="1658" y="2417"/>
                  </a:lnTo>
                  <a:lnTo>
                    <a:pt x="1613" y="2113"/>
                  </a:lnTo>
                  <a:lnTo>
                    <a:pt x="1534" y="1839"/>
                  </a:lnTo>
                  <a:lnTo>
                    <a:pt x="1494" y="1618"/>
                  </a:lnTo>
                  <a:lnTo>
                    <a:pt x="1481" y="1305"/>
                  </a:lnTo>
                  <a:lnTo>
                    <a:pt x="1534" y="1036"/>
                  </a:lnTo>
                  <a:lnTo>
                    <a:pt x="1613" y="820"/>
                  </a:lnTo>
                  <a:lnTo>
                    <a:pt x="1618" y="687"/>
                  </a:lnTo>
                  <a:lnTo>
                    <a:pt x="1587" y="502"/>
                  </a:lnTo>
                  <a:lnTo>
                    <a:pt x="1587" y="357"/>
                  </a:lnTo>
                  <a:lnTo>
                    <a:pt x="1613" y="308"/>
                  </a:lnTo>
                  <a:lnTo>
                    <a:pt x="1587" y="29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520040" y="1579680"/>
              <a:ext cx="200520" cy="821160"/>
            </a:xfrm>
            <a:custGeom>
              <a:avLst/>
              <a:gdLst/>
              <a:ahLst/>
              <a:rect l="0" t="0" r="r" b="b"/>
              <a:pathLst>
                <a:path w="557" h="2281">
                  <a:moveTo>
                    <a:pt x="221" y="26"/>
                  </a:moveTo>
                  <a:lnTo>
                    <a:pt x="74" y="101"/>
                  </a:lnTo>
                  <a:lnTo>
                    <a:pt x="88" y="321"/>
                  </a:lnTo>
                  <a:lnTo>
                    <a:pt x="195" y="383"/>
                  </a:lnTo>
                  <a:lnTo>
                    <a:pt x="66" y="622"/>
                  </a:lnTo>
                  <a:lnTo>
                    <a:pt x="0" y="887"/>
                  </a:lnTo>
                  <a:lnTo>
                    <a:pt x="0" y="1138"/>
                  </a:lnTo>
                  <a:lnTo>
                    <a:pt x="66" y="1368"/>
                  </a:lnTo>
                  <a:lnTo>
                    <a:pt x="119" y="1645"/>
                  </a:lnTo>
                  <a:lnTo>
                    <a:pt x="119" y="1805"/>
                  </a:lnTo>
                  <a:lnTo>
                    <a:pt x="66" y="2004"/>
                  </a:lnTo>
                  <a:lnTo>
                    <a:pt x="287" y="2281"/>
                  </a:lnTo>
                  <a:lnTo>
                    <a:pt x="384" y="2237"/>
                  </a:lnTo>
                  <a:lnTo>
                    <a:pt x="442" y="2043"/>
                  </a:lnTo>
                  <a:lnTo>
                    <a:pt x="548" y="1792"/>
                  </a:lnTo>
                  <a:lnTo>
                    <a:pt x="557" y="1659"/>
                  </a:lnTo>
                  <a:lnTo>
                    <a:pt x="469" y="1407"/>
                  </a:lnTo>
                  <a:lnTo>
                    <a:pt x="367" y="1165"/>
                  </a:lnTo>
                  <a:lnTo>
                    <a:pt x="327" y="993"/>
                  </a:lnTo>
                  <a:lnTo>
                    <a:pt x="327" y="830"/>
                  </a:lnTo>
                  <a:lnTo>
                    <a:pt x="367" y="680"/>
                  </a:lnTo>
                  <a:lnTo>
                    <a:pt x="442" y="498"/>
                  </a:lnTo>
                  <a:lnTo>
                    <a:pt x="442" y="423"/>
                  </a:lnTo>
                  <a:lnTo>
                    <a:pt x="406" y="352"/>
                  </a:lnTo>
                  <a:lnTo>
                    <a:pt x="509" y="260"/>
                  </a:lnTo>
                  <a:lnTo>
                    <a:pt x="509" y="171"/>
                  </a:lnTo>
                  <a:lnTo>
                    <a:pt x="367" y="0"/>
                  </a:lnTo>
                  <a:lnTo>
                    <a:pt x="482" y="171"/>
                  </a:lnTo>
                  <a:lnTo>
                    <a:pt x="482" y="246"/>
                  </a:lnTo>
                  <a:lnTo>
                    <a:pt x="380" y="321"/>
                  </a:lnTo>
                  <a:lnTo>
                    <a:pt x="420" y="423"/>
                  </a:lnTo>
                  <a:lnTo>
                    <a:pt x="406" y="498"/>
                  </a:lnTo>
                  <a:lnTo>
                    <a:pt x="300" y="710"/>
                  </a:lnTo>
                  <a:lnTo>
                    <a:pt x="287" y="913"/>
                  </a:lnTo>
                  <a:lnTo>
                    <a:pt x="314" y="1107"/>
                  </a:lnTo>
                  <a:lnTo>
                    <a:pt x="384" y="1381"/>
                  </a:lnTo>
                  <a:lnTo>
                    <a:pt x="469" y="1601"/>
                  </a:lnTo>
                  <a:lnTo>
                    <a:pt x="469" y="1779"/>
                  </a:lnTo>
                  <a:lnTo>
                    <a:pt x="420" y="2004"/>
                  </a:lnTo>
                  <a:lnTo>
                    <a:pt x="314" y="2237"/>
                  </a:lnTo>
                  <a:lnTo>
                    <a:pt x="181" y="2109"/>
                  </a:lnTo>
                  <a:lnTo>
                    <a:pt x="132" y="2004"/>
                  </a:lnTo>
                  <a:lnTo>
                    <a:pt x="142" y="1779"/>
                  </a:lnTo>
                  <a:lnTo>
                    <a:pt x="132" y="1553"/>
                  </a:lnTo>
                  <a:lnTo>
                    <a:pt x="66" y="1253"/>
                  </a:lnTo>
                  <a:lnTo>
                    <a:pt x="39" y="1046"/>
                  </a:lnTo>
                  <a:lnTo>
                    <a:pt x="66" y="812"/>
                  </a:lnTo>
                  <a:lnTo>
                    <a:pt x="119" y="591"/>
                  </a:lnTo>
                  <a:lnTo>
                    <a:pt x="234" y="366"/>
                  </a:lnTo>
                  <a:lnTo>
                    <a:pt x="132" y="273"/>
                  </a:lnTo>
                  <a:lnTo>
                    <a:pt x="119" y="114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8091360" y="620640"/>
              <a:ext cx="314640" cy="398880"/>
            </a:xfrm>
            <a:custGeom>
              <a:avLst/>
              <a:gdLst/>
              <a:ahLst/>
              <a:rect l="0" t="0" r="r" b="b"/>
              <a:pathLst>
                <a:path w="874" h="1108">
                  <a:moveTo>
                    <a:pt x="145" y="283"/>
                  </a:moveTo>
                  <a:lnTo>
                    <a:pt x="273" y="260"/>
                  </a:lnTo>
                  <a:lnTo>
                    <a:pt x="396" y="268"/>
                  </a:lnTo>
                  <a:lnTo>
                    <a:pt x="503" y="314"/>
                  </a:lnTo>
                  <a:lnTo>
                    <a:pt x="556" y="375"/>
                  </a:lnTo>
                  <a:lnTo>
                    <a:pt x="583" y="433"/>
                  </a:lnTo>
                  <a:lnTo>
                    <a:pt x="583" y="490"/>
                  </a:lnTo>
                  <a:lnTo>
                    <a:pt x="552" y="525"/>
                  </a:lnTo>
                  <a:lnTo>
                    <a:pt x="499" y="552"/>
                  </a:lnTo>
                  <a:lnTo>
                    <a:pt x="432" y="556"/>
                  </a:lnTo>
                  <a:lnTo>
                    <a:pt x="352" y="538"/>
                  </a:lnTo>
                  <a:lnTo>
                    <a:pt x="277" y="494"/>
                  </a:lnTo>
                  <a:lnTo>
                    <a:pt x="220" y="450"/>
                  </a:lnTo>
                  <a:lnTo>
                    <a:pt x="194" y="591"/>
                  </a:lnTo>
                  <a:lnTo>
                    <a:pt x="145" y="693"/>
                  </a:lnTo>
                  <a:lnTo>
                    <a:pt x="0" y="928"/>
                  </a:lnTo>
                  <a:lnTo>
                    <a:pt x="211" y="1108"/>
                  </a:lnTo>
                  <a:lnTo>
                    <a:pt x="370" y="807"/>
                  </a:lnTo>
                  <a:lnTo>
                    <a:pt x="552" y="835"/>
                  </a:lnTo>
                  <a:lnTo>
                    <a:pt x="666" y="812"/>
                  </a:lnTo>
                  <a:lnTo>
                    <a:pt x="772" y="741"/>
                  </a:lnTo>
                  <a:lnTo>
                    <a:pt x="838" y="658"/>
                  </a:lnTo>
                  <a:lnTo>
                    <a:pt x="874" y="543"/>
                  </a:lnTo>
                  <a:lnTo>
                    <a:pt x="874" y="424"/>
                  </a:lnTo>
                  <a:lnTo>
                    <a:pt x="838" y="296"/>
                  </a:lnTo>
                  <a:lnTo>
                    <a:pt x="768" y="167"/>
                  </a:lnTo>
                  <a:lnTo>
                    <a:pt x="680" y="79"/>
                  </a:lnTo>
                  <a:lnTo>
                    <a:pt x="569" y="26"/>
                  </a:lnTo>
                  <a:lnTo>
                    <a:pt x="446" y="0"/>
                  </a:lnTo>
                  <a:lnTo>
                    <a:pt x="291" y="0"/>
                  </a:lnTo>
                  <a:lnTo>
                    <a:pt x="114" y="30"/>
                  </a:lnTo>
                  <a:lnTo>
                    <a:pt x="145" y="283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8034480" y="1008000"/>
              <a:ext cx="114840" cy="79560"/>
            </a:xfrm>
            <a:custGeom>
              <a:avLst/>
              <a:gdLst/>
              <a:ahLst/>
              <a:rect l="0" t="0" r="r" b="b"/>
              <a:pathLst>
                <a:path w="319" h="221">
                  <a:moveTo>
                    <a:pt x="128" y="0"/>
                  </a:moveTo>
                  <a:lnTo>
                    <a:pt x="44" y="0"/>
                  </a:lnTo>
                  <a:lnTo>
                    <a:pt x="0" y="30"/>
                  </a:lnTo>
                  <a:lnTo>
                    <a:pt x="0" y="111"/>
                  </a:lnTo>
                  <a:lnTo>
                    <a:pt x="66" y="190"/>
                  </a:lnTo>
                  <a:lnTo>
                    <a:pt x="190" y="221"/>
                  </a:lnTo>
                  <a:lnTo>
                    <a:pt x="288" y="217"/>
                  </a:lnTo>
                  <a:lnTo>
                    <a:pt x="319" y="164"/>
                  </a:lnTo>
                  <a:lnTo>
                    <a:pt x="301" y="120"/>
                  </a:lnTo>
                  <a:lnTo>
                    <a:pt x="257" y="52"/>
                  </a:lnTo>
                  <a:lnTo>
                    <a:pt x="177" y="8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7" name=""/>
          <p:cNvSpPr/>
          <p:nvPr/>
        </p:nvSpPr>
        <p:spPr>
          <a:xfrm>
            <a:off x="1143000" y="419112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8" name=""/>
          <p:cNvGrpSpPr/>
          <p:nvPr/>
        </p:nvGrpSpPr>
        <p:grpSpPr>
          <a:xfrm>
            <a:off x="76320" y="304920"/>
            <a:ext cx="8989920" cy="5842080"/>
            <a:chOff x="76320" y="304920"/>
            <a:chExt cx="8989920" cy="5842080"/>
          </a:xfrm>
        </p:grpSpPr>
        <p:sp>
          <p:nvSpPr>
            <p:cNvPr id="869" name=""/>
            <p:cNvSpPr/>
            <p:nvPr/>
          </p:nvSpPr>
          <p:spPr>
            <a:xfrm>
              <a:off x="612720" y="54831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122640" y="54831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12720" y="54831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122640" y="54831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12720" y="54831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122640" y="54831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12720" y="54831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122640" y="54831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12720" y="54831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122640" y="54831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12720" y="54831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12720" y="54831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12720" y="54831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122640" y="54831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12720" y="54831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122640" y="54831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12720" y="54831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122640" y="54831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12720" y="54831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122640" y="54831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12720" y="54831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52280" y="5634000"/>
              <a:ext cx="29811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12720" y="54831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12720" y="54831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122640" y="54831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12720" y="54831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6320" y="563400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66640" y="3986280"/>
              <a:ext cx="437040" cy="1016280"/>
            </a:xfrm>
            <a:custGeom>
              <a:avLst/>
              <a:gdLst/>
              <a:ahLst/>
              <a:rect l="0" t="0" r="r" b="b"/>
              <a:pathLst>
                <a:path w="1214" h="2823">
                  <a:moveTo>
                    <a:pt x="569" y="0"/>
                  </a:moveTo>
                  <a:lnTo>
                    <a:pt x="419" y="449"/>
                  </a:lnTo>
                  <a:lnTo>
                    <a:pt x="309" y="714"/>
                  </a:lnTo>
                  <a:lnTo>
                    <a:pt x="119" y="1062"/>
                  </a:lnTo>
                  <a:lnTo>
                    <a:pt x="35" y="1168"/>
                  </a:lnTo>
                  <a:lnTo>
                    <a:pt x="8" y="1270"/>
                  </a:lnTo>
                  <a:lnTo>
                    <a:pt x="0" y="1367"/>
                  </a:lnTo>
                  <a:lnTo>
                    <a:pt x="48" y="1495"/>
                  </a:lnTo>
                  <a:lnTo>
                    <a:pt x="48" y="1791"/>
                  </a:lnTo>
                  <a:lnTo>
                    <a:pt x="22" y="1963"/>
                  </a:lnTo>
                  <a:lnTo>
                    <a:pt x="22" y="2073"/>
                  </a:lnTo>
                  <a:lnTo>
                    <a:pt x="92" y="2197"/>
                  </a:lnTo>
                  <a:lnTo>
                    <a:pt x="189" y="2439"/>
                  </a:lnTo>
                  <a:lnTo>
                    <a:pt x="198" y="2571"/>
                  </a:lnTo>
                  <a:lnTo>
                    <a:pt x="255" y="2770"/>
                  </a:lnTo>
                  <a:lnTo>
                    <a:pt x="309" y="2823"/>
                  </a:lnTo>
                  <a:lnTo>
                    <a:pt x="367" y="2796"/>
                  </a:lnTo>
                  <a:lnTo>
                    <a:pt x="437" y="2823"/>
                  </a:lnTo>
                  <a:lnTo>
                    <a:pt x="499" y="2787"/>
                  </a:lnTo>
                  <a:lnTo>
                    <a:pt x="543" y="2704"/>
                  </a:lnTo>
                  <a:lnTo>
                    <a:pt x="600" y="2651"/>
                  </a:lnTo>
                  <a:lnTo>
                    <a:pt x="627" y="2558"/>
                  </a:lnTo>
                  <a:lnTo>
                    <a:pt x="609" y="2461"/>
                  </a:lnTo>
                  <a:lnTo>
                    <a:pt x="662" y="2492"/>
                  </a:lnTo>
                  <a:lnTo>
                    <a:pt x="710" y="2443"/>
                  </a:lnTo>
                  <a:lnTo>
                    <a:pt x="746" y="2338"/>
                  </a:lnTo>
                  <a:lnTo>
                    <a:pt x="785" y="2280"/>
                  </a:lnTo>
                  <a:lnTo>
                    <a:pt x="785" y="2205"/>
                  </a:lnTo>
                  <a:lnTo>
                    <a:pt x="706" y="2095"/>
                  </a:lnTo>
                  <a:lnTo>
                    <a:pt x="759" y="1910"/>
                  </a:lnTo>
                  <a:lnTo>
                    <a:pt x="941" y="1672"/>
                  </a:lnTo>
                  <a:lnTo>
                    <a:pt x="1157" y="1018"/>
                  </a:lnTo>
                  <a:lnTo>
                    <a:pt x="1183" y="436"/>
                  </a:lnTo>
                  <a:lnTo>
                    <a:pt x="1214" y="66"/>
                  </a:lnTo>
                  <a:lnTo>
                    <a:pt x="569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33240" y="4476600"/>
              <a:ext cx="149760" cy="511560"/>
            </a:xfrm>
            <a:custGeom>
              <a:avLst/>
              <a:gdLst/>
              <a:ahLst/>
              <a:rect l="0" t="0" r="r" b="b"/>
              <a:pathLst>
                <a:path w="416" h="1421">
                  <a:moveTo>
                    <a:pt x="177" y="0"/>
                  </a:moveTo>
                  <a:lnTo>
                    <a:pt x="190" y="105"/>
                  </a:lnTo>
                  <a:lnTo>
                    <a:pt x="234" y="194"/>
                  </a:lnTo>
                  <a:lnTo>
                    <a:pt x="190" y="428"/>
                  </a:lnTo>
                  <a:lnTo>
                    <a:pt x="155" y="561"/>
                  </a:lnTo>
                  <a:lnTo>
                    <a:pt x="168" y="693"/>
                  </a:lnTo>
                  <a:lnTo>
                    <a:pt x="203" y="763"/>
                  </a:lnTo>
                  <a:lnTo>
                    <a:pt x="243" y="869"/>
                  </a:lnTo>
                  <a:lnTo>
                    <a:pt x="243" y="975"/>
                  </a:lnTo>
                  <a:lnTo>
                    <a:pt x="296" y="1077"/>
                  </a:lnTo>
                  <a:lnTo>
                    <a:pt x="398" y="1082"/>
                  </a:lnTo>
                  <a:lnTo>
                    <a:pt x="416" y="1227"/>
                  </a:lnTo>
                  <a:lnTo>
                    <a:pt x="345" y="1302"/>
                  </a:lnTo>
                  <a:lnTo>
                    <a:pt x="256" y="1421"/>
                  </a:lnTo>
                  <a:lnTo>
                    <a:pt x="190" y="1408"/>
                  </a:lnTo>
                  <a:lnTo>
                    <a:pt x="128" y="1404"/>
                  </a:lnTo>
                  <a:lnTo>
                    <a:pt x="172" y="1188"/>
                  </a:lnTo>
                  <a:lnTo>
                    <a:pt x="168" y="1069"/>
                  </a:lnTo>
                  <a:lnTo>
                    <a:pt x="106" y="1024"/>
                  </a:lnTo>
                  <a:lnTo>
                    <a:pt x="155" y="1019"/>
                  </a:lnTo>
                  <a:lnTo>
                    <a:pt x="115" y="843"/>
                  </a:lnTo>
                  <a:lnTo>
                    <a:pt x="30" y="772"/>
                  </a:lnTo>
                  <a:lnTo>
                    <a:pt x="79" y="737"/>
                  </a:lnTo>
                  <a:lnTo>
                    <a:pt x="0" y="662"/>
                  </a:lnTo>
                  <a:lnTo>
                    <a:pt x="39" y="666"/>
                  </a:lnTo>
                  <a:lnTo>
                    <a:pt x="92" y="494"/>
                  </a:lnTo>
                  <a:lnTo>
                    <a:pt x="142" y="317"/>
                  </a:lnTo>
                  <a:lnTo>
                    <a:pt x="79" y="264"/>
                  </a:lnTo>
                  <a:lnTo>
                    <a:pt x="142" y="277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811080" y="4060800"/>
              <a:ext cx="179640" cy="652680"/>
            </a:xfrm>
            <a:custGeom>
              <a:avLst/>
              <a:gdLst/>
              <a:ahLst/>
              <a:rect l="0" t="0" r="r" b="b"/>
              <a:pathLst>
                <a:path w="499" h="1813">
                  <a:moveTo>
                    <a:pt x="8" y="1813"/>
                  </a:moveTo>
                  <a:lnTo>
                    <a:pt x="0" y="1663"/>
                  </a:lnTo>
                  <a:lnTo>
                    <a:pt x="57" y="1487"/>
                  </a:lnTo>
                  <a:lnTo>
                    <a:pt x="211" y="1262"/>
                  </a:lnTo>
                  <a:lnTo>
                    <a:pt x="256" y="1068"/>
                  </a:lnTo>
                  <a:lnTo>
                    <a:pt x="238" y="881"/>
                  </a:lnTo>
                  <a:lnTo>
                    <a:pt x="167" y="745"/>
                  </a:lnTo>
                  <a:lnTo>
                    <a:pt x="35" y="639"/>
                  </a:lnTo>
                  <a:lnTo>
                    <a:pt x="167" y="701"/>
                  </a:lnTo>
                  <a:lnTo>
                    <a:pt x="127" y="573"/>
                  </a:lnTo>
                  <a:lnTo>
                    <a:pt x="207" y="635"/>
                  </a:lnTo>
                  <a:lnTo>
                    <a:pt x="163" y="410"/>
                  </a:lnTo>
                  <a:lnTo>
                    <a:pt x="261" y="13"/>
                  </a:lnTo>
                  <a:lnTo>
                    <a:pt x="499" y="0"/>
                  </a:lnTo>
                  <a:lnTo>
                    <a:pt x="477" y="260"/>
                  </a:lnTo>
                  <a:lnTo>
                    <a:pt x="450" y="811"/>
                  </a:lnTo>
                  <a:lnTo>
                    <a:pt x="274" y="1403"/>
                  </a:lnTo>
                  <a:lnTo>
                    <a:pt x="194" y="1522"/>
                  </a:lnTo>
                  <a:lnTo>
                    <a:pt x="101" y="1663"/>
                  </a:lnTo>
                  <a:lnTo>
                    <a:pt x="8" y="18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36560" y="4773600"/>
              <a:ext cx="49680" cy="25920"/>
            </a:xfrm>
            <a:custGeom>
              <a:avLst/>
              <a:gdLst/>
              <a:ahLst/>
              <a:rect l="0" t="0" r="r" b="b"/>
              <a:pathLst>
                <a:path w="138" h="72">
                  <a:moveTo>
                    <a:pt x="0" y="40"/>
                  </a:moveTo>
                  <a:lnTo>
                    <a:pt x="22" y="8"/>
                  </a:lnTo>
                  <a:lnTo>
                    <a:pt x="93" y="0"/>
                  </a:lnTo>
                  <a:lnTo>
                    <a:pt x="129" y="27"/>
                  </a:lnTo>
                  <a:lnTo>
                    <a:pt x="138" y="72"/>
                  </a:lnTo>
                  <a:lnTo>
                    <a:pt x="93" y="3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90560" y="4746600"/>
              <a:ext cx="51120" cy="122760"/>
            </a:xfrm>
            <a:custGeom>
              <a:avLst/>
              <a:gdLst/>
              <a:ahLst/>
              <a:rect l="0" t="0" r="r" b="b"/>
              <a:pathLst>
                <a:path w="142" h="341">
                  <a:moveTo>
                    <a:pt x="66" y="0"/>
                  </a:moveTo>
                  <a:lnTo>
                    <a:pt x="66" y="93"/>
                  </a:lnTo>
                  <a:lnTo>
                    <a:pt x="57" y="217"/>
                  </a:lnTo>
                  <a:lnTo>
                    <a:pt x="0" y="319"/>
                  </a:lnTo>
                  <a:lnTo>
                    <a:pt x="35" y="341"/>
                  </a:lnTo>
                  <a:lnTo>
                    <a:pt x="57" y="328"/>
                  </a:lnTo>
                  <a:lnTo>
                    <a:pt x="70" y="297"/>
                  </a:lnTo>
                  <a:lnTo>
                    <a:pt x="93" y="247"/>
                  </a:lnTo>
                  <a:lnTo>
                    <a:pt x="93" y="230"/>
                  </a:lnTo>
                  <a:lnTo>
                    <a:pt x="128" y="186"/>
                  </a:lnTo>
                  <a:lnTo>
                    <a:pt x="137" y="155"/>
                  </a:lnTo>
                  <a:lnTo>
                    <a:pt x="142" y="106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905040" y="3479760"/>
              <a:ext cx="1676880" cy="1211760"/>
            </a:xfrm>
            <a:custGeom>
              <a:avLst/>
              <a:gdLst/>
              <a:ahLst/>
              <a:rect l="0" t="0" r="r" b="b"/>
              <a:pathLst>
                <a:path w="4658" h="3366">
                  <a:moveTo>
                    <a:pt x="652" y="198"/>
                  </a:moveTo>
                  <a:lnTo>
                    <a:pt x="463" y="1301"/>
                  </a:lnTo>
                  <a:lnTo>
                    <a:pt x="189" y="2122"/>
                  </a:lnTo>
                  <a:lnTo>
                    <a:pt x="0" y="3366"/>
                  </a:lnTo>
                  <a:lnTo>
                    <a:pt x="4469" y="3366"/>
                  </a:lnTo>
                  <a:lnTo>
                    <a:pt x="4658" y="1950"/>
                  </a:lnTo>
                  <a:lnTo>
                    <a:pt x="4658" y="904"/>
                  </a:lnTo>
                  <a:lnTo>
                    <a:pt x="4521" y="0"/>
                  </a:lnTo>
                  <a:lnTo>
                    <a:pt x="652" y="198"/>
                  </a:lnTo>
                  <a:close/>
                </a:path>
              </a:pathLst>
            </a:custGeom>
            <a:solidFill>
              <a:srgbClr val="201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922320" y="3581280"/>
              <a:ext cx="1603800" cy="1010160"/>
            </a:xfrm>
            <a:custGeom>
              <a:avLst/>
              <a:gdLst/>
              <a:ahLst/>
              <a:rect l="0" t="0" r="r" b="b"/>
              <a:pathLst>
                <a:path w="4455" h="2806">
                  <a:moveTo>
                    <a:pt x="687" y="79"/>
                  </a:moveTo>
                  <a:lnTo>
                    <a:pt x="1031" y="260"/>
                  </a:lnTo>
                  <a:lnTo>
                    <a:pt x="974" y="485"/>
                  </a:lnTo>
                  <a:lnTo>
                    <a:pt x="1058" y="537"/>
                  </a:lnTo>
                  <a:lnTo>
                    <a:pt x="1147" y="299"/>
                  </a:lnTo>
                  <a:lnTo>
                    <a:pt x="1465" y="392"/>
                  </a:lnTo>
                  <a:lnTo>
                    <a:pt x="1950" y="432"/>
                  </a:lnTo>
                  <a:lnTo>
                    <a:pt x="2329" y="944"/>
                  </a:lnTo>
                  <a:lnTo>
                    <a:pt x="2505" y="418"/>
                  </a:lnTo>
                  <a:lnTo>
                    <a:pt x="3264" y="418"/>
                  </a:lnTo>
                  <a:lnTo>
                    <a:pt x="3250" y="683"/>
                  </a:lnTo>
                  <a:lnTo>
                    <a:pt x="3357" y="670"/>
                  </a:lnTo>
                  <a:lnTo>
                    <a:pt x="3384" y="418"/>
                  </a:lnTo>
                  <a:lnTo>
                    <a:pt x="3794" y="379"/>
                  </a:lnTo>
                  <a:lnTo>
                    <a:pt x="4169" y="233"/>
                  </a:lnTo>
                  <a:lnTo>
                    <a:pt x="4402" y="0"/>
                  </a:lnTo>
                  <a:lnTo>
                    <a:pt x="4239" y="485"/>
                  </a:lnTo>
                  <a:lnTo>
                    <a:pt x="4089" y="838"/>
                  </a:lnTo>
                  <a:lnTo>
                    <a:pt x="3913" y="719"/>
                  </a:lnTo>
                  <a:lnTo>
                    <a:pt x="4129" y="1169"/>
                  </a:lnTo>
                  <a:lnTo>
                    <a:pt x="4416" y="1416"/>
                  </a:lnTo>
                  <a:lnTo>
                    <a:pt x="4455" y="1954"/>
                  </a:lnTo>
                  <a:lnTo>
                    <a:pt x="4279" y="2806"/>
                  </a:lnTo>
                  <a:lnTo>
                    <a:pt x="2355" y="2766"/>
                  </a:lnTo>
                  <a:lnTo>
                    <a:pt x="3061" y="2559"/>
                  </a:lnTo>
                  <a:lnTo>
                    <a:pt x="3211" y="2202"/>
                  </a:lnTo>
                  <a:lnTo>
                    <a:pt x="2937" y="2506"/>
                  </a:lnTo>
                  <a:lnTo>
                    <a:pt x="2316" y="2806"/>
                  </a:lnTo>
                  <a:lnTo>
                    <a:pt x="2179" y="2295"/>
                  </a:lnTo>
                  <a:lnTo>
                    <a:pt x="2342" y="1742"/>
                  </a:lnTo>
                  <a:lnTo>
                    <a:pt x="2369" y="1337"/>
                  </a:lnTo>
                  <a:lnTo>
                    <a:pt x="2289" y="1350"/>
                  </a:lnTo>
                  <a:lnTo>
                    <a:pt x="2166" y="2281"/>
                  </a:lnTo>
                  <a:lnTo>
                    <a:pt x="2316" y="2766"/>
                  </a:lnTo>
                  <a:lnTo>
                    <a:pt x="1936" y="2793"/>
                  </a:lnTo>
                  <a:lnTo>
                    <a:pt x="1628" y="2727"/>
                  </a:lnTo>
                  <a:lnTo>
                    <a:pt x="1257" y="2334"/>
                  </a:lnTo>
                  <a:lnTo>
                    <a:pt x="1084" y="2162"/>
                  </a:lnTo>
                  <a:lnTo>
                    <a:pt x="1058" y="2308"/>
                  </a:lnTo>
                  <a:lnTo>
                    <a:pt x="1557" y="2766"/>
                  </a:lnTo>
                  <a:lnTo>
                    <a:pt x="1018" y="2780"/>
                  </a:lnTo>
                  <a:lnTo>
                    <a:pt x="0" y="2780"/>
                  </a:lnTo>
                  <a:lnTo>
                    <a:pt x="163" y="2295"/>
                  </a:lnTo>
                  <a:lnTo>
                    <a:pt x="189" y="1729"/>
                  </a:lnTo>
                  <a:lnTo>
                    <a:pt x="498" y="1689"/>
                  </a:lnTo>
                  <a:lnTo>
                    <a:pt x="868" y="1310"/>
                  </a:lnTo>
                  <a:lnTo>
                    <a:pt x="798" y="746"/>
                  </a:lnTo>
                  <a:lnTo>
                    <a:pt x="661" y="657"/>
                  </a:lnTo>
                  <a:lnTo>
                    <a:pt x="687" y="785"/>
                  </a:lnTo>
                  <a:lnTo>
                    <a:pt x="798" y="1169"/>
                  </a:lnTo>
                  <a:lnTo>
                    <a:pt x="674" y="1390"/>
                  </a:lnTo>
                  <a:lnTo>
                    <a:pt x="432" y="1628"/>
                  </a:lnTo>
                  <a:lnTo>
                    <a:pt x="286" y="1637"/>
                  </a:lnTo>
                  <a:lnTo>
                    <a:pt x="445" y="1116"/>
                  </a:lnTo>
                  <a:lnTo>
                    <a:pt x="511" y="746"/>
                  </a:lnTo>
                  <a:lnTo>
                    <a:pt x="687" y="79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417760" y="3624120"/>
              <a:ext cx="127440" cy="438480"/>
            </a:xfrm>
            <a:custGeom>
              <a:avLst/>
              <a:gdLst/>
              <a:ahLst/>
              <a:rect l="0" t="0" r="r" b="b"/>
              <a:pathLst>
                <a:path w="354" h="1218">
                  <a:moveTo>
                    <a:pt x="0" y="790"/>
                  </a:moveTo>
                  <a:lnTo>
                    <a:pt x="177" y="1076"/>
                  </a:lnTo>
                  <a:lnTo>
                    <a:pt x="319" y="1218"/>
                  </a:lnTo>
                  <a:lnTo>
                    <a:pt x="354" y="957"/>
                  </a:lnTo>
                  <a:lnTo>
                    <a:pt x="328" y="542"/>
                  </a:lnTo>
                  <a:lnTo>
                    <a:pt x="293" y="0"/>
                  </a:lnTo>
                  <a:lnTo>
                    <a:pt x="142" y="568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89040" y="1538280"/>
              <a:ext cx="3243600" cy="2583360"/>
            </a:xfrm>
            <a:custGeom>
              <a:avLst/>
              <a:gdLst/>
              <a:ahLst/>
              <a:rect l="0" t="0" r="r" b="b"/>
              <a:pathLst>
                <a:path w="9010" h="7176">
                  <a:moveTo>
                    <a:pt x="2204" y="343"/>
                  </a:moveTo>
                  <a:lnTo>
                    <a:pt x="2041" y="661"/>
                  </a:lnTo>
                  <a:lnTo>
                    <a:pt x="1468" y="926"/>
                  </a:lnTo>
                  <a:lnTo>
                    <a:pt x="978" y="1031"/>
                  </a:lnTo>
                  <a:lnTo>
                    <a:pt x="736" y="1217"/>
                  </a:lnTo>
                  <a:lnTo>
                    <a:pt x="515" y="1613"/>
                  </a:lnTo>
                  <a:lnTo>
                    <a:pt x="410" y="2223"/>
                  </a:lnTo>
                  <a:lnTo>
                    <a:pt x="326" y="3070"/>
                  </a:lnTo>
                  <a:lnTo>
                    <a:pt x="52" y="4150"/>
                  </a:lnTo>
                  <a:lnTo>
                    <a:pt x="0" y="5791"/>
                  </a:lnTo>
                  <a:lnTo>
                    <a:pt x="189" y="6453"/>
                  </a:lnTo>
                  <a:lnTo>
                    <a:pt x="132" y="6973"/>
                  </a:lnTo>
                  <a:lnTo>
                    <a:pt x="242" y="7079"/>
                  </a:lnTo>
                  <a:lnTo>
                    <a:pt x="617" y="7176"/>
                  </a:lnTo>
                  <a:lnTo>
                    <a:pt x="890" y="7136"/>
                  </a:lnTo>
                  <a:lnTo>
                    <a:pt x="1027" y="6726"/>
                  </a:lnTo>
                  <a:lnTo>
                    <a:pt x="1252" y="5606"/>
                  </a:lnTo>
                  <a:lnTo>
                    <a:pt x="2341" y="6003"/>
                  </a:lnTo>
                  <a:lnTo>
                    <a:pt x="3593" y="6030"/>
                  </a:lnTo>
                  <a:lnTo>
                    <a:pt x="4573" y="5924"/>
                  </a:lnTo>
                  <a:lnTo>
                    <a:pt x="4767" y="5686"/>
                  </a:lnTo>
                  <a:lnTo>
                    <a:pt x="5094" y="5421"/>
                  </a:lnTo>
                  <a:lnTo>
                    <a:pt x="5257" y="4997"/>
                  </a:lnTo>
                  <a:lnTo>
                    <a:pt x="5394" y="4547"/>
                  </a:lnTo>
                  <a:lnTo>
                    <a:pt x="5499" y="3833"/>
                  </a:lnTo>
                  <a:lnTo>
                    <a:pt x="5610" y="2964"/>
                  </a:lnTo>
                  <a:lnTo>
                    <a:pt x="6584" y="2382"/>
                  </a:lnTo>
                  <a:lnTo>
                    <a:pt x="7894" y="2197"/>
                  </a:lnTo>
                  <a:lnTo>
                    <a:pt x="8763" y="1879"/>
                  </a:lnTo>
                  <a:lnTo>
                    <a:pt x="9010" y="1322"/>
                  </a:lnTo>
                  <a:lnTo>
                    <a:pt x="8820" y="873"/>
                  </a:lnTo>
                  <a:lnTo>
                    <a:pt x="8084" y="529"/>
                  </a:lnTo>
                  <a:lnTo>
                    <a:pt x="7510" y="529"/>
                  </a:lnTo>
                  <a:lnTo>
                    <a:pt x="6994" y="608"/>
                  </a:lnTo>
                  <a:lnTo>
                    <a:pt x="6642" y="846"/>
                  </a:lnTo>
                  <a:lnTo>
                    <a:pt x="6042" y="978"/>
                  </a:lnTo>
                  <a:lnTo>
                    <a:pt x="5530" y="926"/>
                  </a:lnTo>
                  <a:lnTo>
                    <a:pt x="5283" y="793"/>
                  </a:lnTo>
                  <a:lnTo>
                    <a:pt x="4957" y="714"/>
                  </a:lnTo>
                  <a:lnTo>
                    <a:pt x="4493" y="687"/>
                  </a:lnTo>
                  <a:lnTo>
                    <a:pt x="4004" y="529"/>
                  </a:lnTo>
                  <a:lnTo>
                    <a:pt x="3783" y="79"/>
                  </a:lnTo>
                  <a:lnTo>
                    <a:pt x="2725" y="0"/>
                  </a:lnTo>
                  <a:lnTo>
                    <a:pt x="2204" y="343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542960" y="1824120"/>
              <a:ext cx="332280" cy="2037240"/>
            </a:xfrm>
            <a:custGeom>
              <a:avLst/>
              <a:gdLst/>
              <a:ahLst/>
              <a:rect l="0" t="0" r="r" b="b"/>
              <a:pathLst>
                <a:path w="923" h="5659">
                  <a:moveTo>
                    <a:pt x="309" y="74"/>
                  </a:moveTo>
                  <a:lnTo>
                    <a:pt x="499" y="0"/>
                  </a:lnTo>
                  <a:lnTo>
                    <a:pt x="773" y="35"/>
                  </a:lnTo>
                  <a:lnTo>
                    <a:pt x="791" y="291"/>
                  </a:lnTo>
                  <a:lnTo>
                    <a:pt x="658" y="498"/>
                  </a:lnTo>
                  <a:lnTo>
                    <a:pt x="844" y="2474"/>
                  </a:lnTo>
                  <a:lnTo>
                    <a:pt x="923" y="3683"/>
                  </a:lnTo>
                  <a:lnTo>
                    <a:pt x="870" y="4896"/>
                  </a:lnTo>
                  <a:lnTo>
                    <a:pt x="578" y="5659"/>
                  </a:lnTo>
                  <a:lnTo>
                    <a:pt x="39" y="4874"/>
                  </a:lnTo>
                  <a:lnTo>
                    <a:pt x="0" y="3952"/>
                  </a:lnTo>
                  <a:lnTo>
                    <a:pt x="39" y="3123"/>
                  </a:lnTo>
                  <a:lnTo>
                    <a:pt x="105" y="2126"/>
                  </a:lnTo>
                  <a:lnTo>
                    <a:pt x="239" y="1217"/>
                  </a:lnTo>
                  <a:lnTo>
                    <a:pt x="367" y="604"/>
                  </a:lnTo>
                  <a:lnTo>
                    <a:pt x="283" y="238"/>
                  </a:lnTo>
                  <a:lnTo>
                    <a:pt x="309" y="74"/>
                  </a:lnTo>
                  <a:close/>
                </a:path>
              </a:pathLst>
            </a:custGeom>
            <a:solidFill>
              <a:srgbClr val="6600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081080" y="1852560"/>
              <a:ext cx="255960" cy="1719720"/>
            </a:xfrm>
            <a:custGeom>
              <a:avLst/>
              <a:gdLst/>
              <a:ahLst/>
              <a:rect l="0" t="0" r="r" b="b"/>
              <a:pathLst>
                <a:path w="711" h="4777">
                  <a:moveTo>
                    <a:pt x="371" y="158"/>
                  </a:moveTo>
                  <a:lnTo>
                    <a:pt x="711" y="0"/>
                  </a:lnTo>
                  <a:lnTo>
                    <a:pt x="553" y="948"/>
                  </a:lnTo>
                  <a:lnTo>
                    <a:pt x="340" y="1632"/>
                  </a:lnTo>
                  <a:lnTo>
                    <a:pt x="292" y="2395"/>
                  </a:lnTo>
                  <a:lnTo>
                    <a:pt x="397" y="3127"/>
                  </a:lnTo>
                  <a:lnTo>
                    <a:pt x="371" y="4076"/>
                  </a:lnTo>
                  <a:lnTo>
                    <a:pt x="508" y="4777"/>
                  </a:lnTo>
                  <a:lnTo>
                    <a:pt x="186" y="4658"/>
                  </a:lnTo>
                  <a:lnTo>
                    <a:pt x="110" y="4107"/>
                  </a:lnTo>
                  <a:lnTo>
                    <a:pt x="105" y="3418"/>
                  </a:lnTo>
                  <a:lnTo>
                    <a:pt x="0" y="2342"/>
                  </a:lnTo>
                  <a:lnTo>
                    <a:pt x="79" y="1791"/>
                  </a:lnTo>
                  <a:lnTo>
                    <a:pt x="292" y="1027"/>
                  </a:lnTo>
                  <a:lnTo>
                    <a:pt x="371" y="15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111400" y="1766880"/>
              <a:ext cx="216360" cy="1894320"/>
            </a:xfrm>
            <a:custGeom>
              <a:avLst/>
              <a:gdLst/>
              <a:ahLst/>
              <a:rect l="0" t="0" r="r" b="b"/>
              <a:pathLst>
                <a:path w="601" h="5262">
                  <a:moveTo>
                    <a:pt x="155" y="0"/>
                  </a:moveTo>
                  <a:lnTo>
                    <a:pt x="208" y="577"/>
                  </a:lnTo>
                  <a:lnTo>
                    <a:pt x="208" y="1341"/>
                  </a:lnTo>
                  <a:lnTo>
                    <a:pt x="208" y="2188"/>
                  </a:lnTo>
                  <a:lnTo>
                    <a:pt x="208" y="3392"/>
                  </a:lnTo>
                  <a:lnTo>
                    <a:pt x="105" y="4579"/>
                  </a:lnTo>
                  <a:lnTo>
                    <a:pt x="0" y="5262"/>
                  </a:lnTo>
                  <a:lnTo>
                    <a:pt x="393" y="5201"/>
                  </a:lnTo>
                  <a:lnTo>
                    <a:pt x="553" y="4160"/>
                  </a:lnTo>
                  <a:lnTo>
                    <a:pt x="601" y="3043"/>
                  </a:lnTo>
                  <a:lnTo>
                    <a:pt x="597" y="1844"/>
                  </a:lnTo>
                  <a:lnTo>
                    <a:pt x="570" y="630"/>
                  </a:lnTo>
                  <a:lnTo>
                    <a:pt x="522" y="158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846520" y="1887480"/>
              <a:ext cx="392400" cy="343440"/>
            </a:xfrm>
            <a:custGeom>
              <a:avLst/>
              <a:gdLst/>
              <a:ahLst/>
              <a:rect l="0" t="0" r="r" b="b"/>
              <a:pathLst>
                <a:path w="1090" h="954">
                  <a:moveTo>
                    <a:pt x="0" y="194"/>
                  </a:moveTo>
                  <a:lnTo>
                    <a:pt x="105" y="194"/>
                  </a:lnTo>
                  <a:lnTo>
                    <a:pt x="242" y="256"/>
                  </a:lnTo>
                  <a:lnTo>
                    <a:pt x="317" y="424"/>
                  </a:lnTo>
                  <a:lnTo>
                    <a:pt x="427" y="710"/>
                  </a:lnTo>
                  <a:lnTo>
                    <a:pt x="414" y="901"/>
                  </a:lnTo>
                  <a:lnTo>
                    <a:pt x="343" y="954"/>
                  </a:lnTo>
                  <a:lnTo>
                    <a:pt x="1037" y="875"/>
                  </a:lnTo>
                  <a:lnTo>
                    <a:pt x="1090" y="747"/>
                  </a:lnTo>
                  <a:lnTo>
                    <a:pt x="1024" y="411"/>
                  </a:lnTo>
                  <a:lnTo>
                    <a:pt x="865" y="114"/>
                  </a:lnTo>
                  <a:lnTo>
                    <a:pt x="636" y="0"/>
                  </a:lnTo>
                  <a:lnTo>
                    <a:pt x="454" y="39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116160" y="1754280"/>
              <a:ext cx="768600" cy="457560"/>
            </a:xfrm>
            <a:custGeom>
              <a:avLst/>
              <a:gdLst/>
              <a:ahLst/>
              <a:rect l="0" t="0" r="r" b="b"/>
              <a:pathLst>
                <a:path w="2135" h="1271">
                  <a:moveTo>
                    <a:pt x="0" y="335"/>
                  </a:moveTo>
                  <a:lnTo>
                    <a:pt x="211" y="427"/>
                  </a:lnTo>
                  <a:lnTo>
                    <a:pt x="388" y="728"/>
                  </a:lnTo>
                  <a:lnTo>
                    <a:pt x="418" y="1116"/>
                  </a:lnTo>
                  <a:lnTo>
                    <a:pt x="401" y="1271"/>
                  </a:lnTo>
                  <a:lnTo>
                    <a:pt x="1045" y="1178"/>
                  </a:lnTo>
                  <a:lnTo>
                    <a:pt x="1438" y="1116"/>
                  </a:lnTo>
                  <a:lnTo>
                    <a:pt x="1703" y="688"/>
                  </a:lnTo>
                  <a:lnTo>
                    <a:pt x="1676" y="480"/>
                  </a:lnTo>
                  <a:lnTo>
                    <a:pt x="1786" y="702"/>
                  </a:lnTo>
                  <a:lnTo>
                    <a:pt x="1676" y="909"/>
                  </a:lnTo>
                  <a:lnTo>
                    <a:pt x="1575" y="1063"/>
                  </a:lnTo>
                  <a:lnTo>
                    <a:pt x="1826" y="882"/>
                  </a:lnTo>
                  <a:lnTo>
                    <a:pt x="1897" y="728"/>
                  </a:lnTo>
                  <a:lnTo>
                    <a:pt x="1910" y="520"/>
                  </a:lnTo>
                  <a:lnTo>
                    <a:pt x="1950" y="702"/>
                  </a:lnTo>
                  <a:lnTo>
                    <a:pt x="1923" y="896"/>
                  </a:lnTo>
                  <a:lnTo>
                    <a:pt x="1866" y="1050"/>
                  </a:lnTo>
                  <a:lnTo>
                    <a:pt x="2051" y="922"/>
                  </a:lnTo>
                  <a:lnTo>
                    <a:pt x="2135" y="621"/>
                  </a:lnTo>
                  <a:lnTo>
                    <a:pt x="2011" y="374"/>
                  </a:lnTo>
                  <a:lnTo>
                    <a:pt x="1786" y="233"/>
                  </a:lnTo>
                  <a:lnTo>
                    <a:pt x="1465" y="79"/>
                  </a:lnTo>
                  <a:lnTo>
                    <a:pt x="1196" y="0"/>
                  </a:lnTo>
                  <a:lnTo>
                    <a:pt x="952" y="0"/>
                  </a:lnTo>
                  <a:lnTo>
                    <a:pt x="604" y="13"/>
                  </a:lnTo>
                  <a:lnTo>
                    <a:pt x="198" y="114"/>
                  </a:lnTo>
                  <a:lnTo>
                    <a:pt x="511" y="92"/>
                  </a:lnTo>
                  <a:lnTo>
                    <a:pt x="709" y="79"/>
                  </a:lnTo>
                  <a:lnTo>
                    <a:pt x="895" y="105"/>
                  </a:lnTo>
                  <a:lnTo>
                    <a:pt x="617" y="127"/>
                  </a:lnTo>
                  <a:lnTo>
                    <a:pt x="335" y="127"/>
                  </a:lnTo>
                  <a:lnTo>
                    <a:pt x="149" y="194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646360" y="1887480"/>
              <a:ext cx="346320" cy="109800"/>
            </a:xfrm>
            <a:custGeom>
              <a:avLst/>
              <a:gdLst/>
              <a:ahLst/>
              <a:rect l="0" t="0" r="r" b="b"/>
              <a:pathLst>
                <a:path w="962" h="305">
                  <a:moveTo>
                    <a:pt x="962" y="0"/>
                  </a:moveTo>
                  <a:lnTo>
                    <a:pt x="710" y="83"/>
                  </a:lnTo>
                  <a:lnTo>
                    <a:pt x="471" y="172"/>
                  </a:lnTo>
                  <a:lnTo>
                    <a:pt x="220" y="256"/>
                  </a:lnTo>
                  <a:lnTo>
                    <a:pt x="0" y="305"/>
                  </a:lnTo>
                  <a:lnTo>
                    <a:pt x="185" y="159"/>
                  </a:lnTo>
                  <a:lnTo>
                    <a:pt x="392" y="48"/>
                  </a:lnTo>
                  <a:lnTo>
                    <a:pt x="486" y="74"/>
                  </a:lnTo>
                  <a:lnTo>
                    <a:pt x="96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577960" y="1906560"/>
              <a:ext cx="165600" cy="81360"/>
            </a:xfrm>
            <a:custGeom>
              <a:avLst/>
              <a:gdLst/>
              <a:ahLst/>
              <a:rect l="0" t="0" r="r" b="b"/>
              <a:pathLst>
                <a:path w="460" h="226">
                  <a:moveTo>
                    <a:pt x="460" y="0"/>
                  </a:moveTo>
                  <a:lnTo>
                    <a:pt x="261" y="93"/>
                  </a:lnTo>
                  <a:lnTo>
                    <a:pt x="142" y="226"/>
                  </a:lnTo>
                  <a:lnTo>
                    <a:pt x="0" y="178"/>
                  </a:lnTo>
                  <a:lnTo>
                    <a:pt x="190" y="48"/>
                  </a:lnTo>
                  <a:lnTo>
                    <a:pt x="283" y="0"/>
                  </a:lnTo>
                  <a:lnTo>
                    <a:pt x="460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338560" y="1816200"/>
              <a:ext cx="284400" cy="209880"/>
            </a:xfrm>
            <a:custGeom>
              <a:avLst/>
              <a:gdLst/>
              <a:ahLst/>
              <a:rect l="0" t="0" r="r" b="b"/>
              <a:pathLst>
                <a:path w="790" h="583">
                  <a:moveTo>
                    <a:pt x="790" y="189"/>
                  </a:moveTo>
                  <a:lnTo>
                    <a:pt x="631" y="353"/>
                  </a:lnTo>
                  <a:lnTo>
                    <a:pt x="538" y="433"/>
                  </a:lnTo>
                  <a:lnTo>
                    <a:pt x="450" y="455"/>
                  </a:lnTo>
                  <a:lnTo>
                    <a:pt x="352" y="433"/>
                  </a:lnTo>
                  <a:lnTo>
                    <a:pt x="251" y="433"/>
                  </a:lnTo>
                  <a:lnTo>
                    <a:pt x="145" y="481"/>
                  </a:lnTo>
                  <a:lnTo>
                    <a:pt x="26" y="583"/>
                  </a:lnTo>
                  <a:lnTo>
                    <a:pt x="39" y="305"/>
                  </a:lnTo>
                  <a:lnTo>
                    <a:pt x="0" y="74"/>
                  </a:lnTo>
                  <a:lnTo>
                    <a:pt x="0" y="0"/>
                  </a:lnTo>
                  <a:lnTo>
                    <a:pt x="207" y="13"/>
                  </a:lnTo>
                  <a:lnTo>
                    <a:pt x="379" y="26"/>
                  </a:lnTo>
                  <a:lnTo>
                    <a:pt x="569" y="61"/>
                  </a:lnTo>
                  <a:lnTo>
                    <a:pt x="790" y="18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475000" y="2144880"/>
              <a:ext cx="1337040" cy="903600"/>
            </a:xfrm>
            <a:custGeom>
              <a:avLst/>
              <a:gdLst/>
              <a:ahLst/>
              <a:rect l="0" t="0" r="r" b="b"/>
              <a:pathLst>
                <a:path w="3714" h="2510">
                  <a:moveTo>
                    <a:pt x="1266" y="299"/>
                  </a:moveTo>
                  <a:lnTo>
                    <a:pt x="1090" y="313"/>
                  </a:lnTo>
                  <a:lnTo>
                    <a:pt x="953" y="405"/>
                  </a:lnTo>
                  <a:lnTo>
                    <a:pt x="754" y="485"/>
                  </a:lnTo>
                  <a:lnTo>
                    <a:pt x="767" y="652"/>
                  </a:lnTo>
                  <a:lnTo>
                    <a:pt x="767" y="824"/>
                  </a:lnTo>
                  <a:lnTo>
                    <a:pt x="727" y="970"/>
                  </a:lnTo>
                  <a:lnTo>
                    <a:pt x="595" y="1009"/>
                  </a:lnTo>
                  <a:lnTo>
                    <a:pt x="568" y="1150"/>
                  </a:lnTo>
                  <a:lnTo>
                    <a:pt x="432" y="1297"/>
                  </a:lnTo>
                  <a:lnTo>
                    <a:pt x="136" y="1897"/>
                  </a:lnTo>
                  <a:lnTo>
                    <a:pt x="0" y="2510"/>
                  </a:lnTo>
                  <a:lnTo>
                    <a:pt x="216" y="2038"/>
                  </a:lnTo>
                  <a:lnTo>
                    <a:pt x="361" y="1637"/>
                  </a:lnTo>
                  <a:lnTo>
                    <a:pt x="555" y="1310"/>
                  </a:lnTo>
                  <a:lnTo>
                    <a:pt x="661" y="1150"/>
                  </a:lnTo>
                  <a:lnTo>
                    <a:pt x="1024" y="956"/>
                  </a:lnTo>
                  <a:lnTo>
                    <a:pt x="1376" y="745"/>
                  </a:lnTo>
                  <a:lnTo>
                    <a:pt x="1588" y="626"/>
                  </a:lnTo>
                  <a:lnTo>
                    <a:pt x="1972" y="564"/>
                  </a:lnTo>
                  <a:lnTo>
                    <a:pt x="2593" y="511"/>
                  </a:lnTo>
                  <a:lnTo>
                    <a:pt x="2943" y="445"/>
                  </a:lnTo>
                  <a:lnTo>
                    <a:pt x="3322" y="299"/>
                  </a:lnTo>
                  <a:lnTo>
                    <a:pt x="3675" y="171"/>
                  </a:lnTo>
                  <a:lnTo>
                    <a:pt x="3714" y="0"/>
                  </a:lnTo>
                  <a:lnTo>
                    <a:pt x="3538" y="105"/>
                  </a:lnTo>
                  <a:lnTo>
                    <a:pt x="3203" y="326"/>
                  </a:lnTo>
                  <a:lnTo>
                    <a:pt x="3379" y="92"/>
                  </a:lnTo>
                  <a:lnTo>
                    <a:pt x="3093" y="313"/>
                  </a:lnTo>
                  <a:lnTo>
                    <a:pt x="2877" y="339"/>
                  </a:lnTo>
                  <a:lnTo>
                    <a:pt x="3106" y="145"/>
                  </a:lnTo>
                  <a:lnTo>
                    <a:pt x="2523" y="260"/>
                  </a:lnTo>
                  <a:lnTo>
                    <a:pt x="2025" y="299"/>
                  </a:lnTo>
                  <a:lnTo>
                    <a:pt x="1266" y="29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778040" y="1616040"/>
              <a:ext cx="319320" cy="381240"/>
            </a:xfrm>
            <a:custGeom>
              <a:avLst/>
              <a:gdLst/>
              <a:ahLst/>
              <a:rect l="0" t="0" r="r" b="b"/>
              <a:pathLst>
                <a:path w="887" h="1059">
                  <a:moveTo>
                    <a:pt x="189" y="449"/>
                  </a:moveTo>
                  <a:lnTo>
                    <a:pt x="0" y="534"/>
                  </a:lnTo>
                  <a:lnTo>
                    <a:pt x="145" y="565"/>
                  </a:lnTo>
                  <a:lnTo>
                    <a:pt x="216" y="684"/>
                  </a:lnTo>
                  <a:lnTo>
                    <a:pt x="216" y="931"/>
                  </a:lnTo>
                  <a:lnTo>
                    <a:pt x="136" y="1059"/>
                  </a:lnTo>
                  <a:lnTo>
                    <a:pt x="436" y="852"/>
                  </a:lnTo>
                  <a:lnTo>
                    <a:pt x="675" y="569"/>
                  </a:lnTo>
                  <a:lnTo>
                    <a:pt x="887" y="335"/>
                  </a:lnTo>
                  <a:lnTo>
                    <a:pt x="755" y="0"/>
                  </a:lnTo>
                  <a:lnTo>
                    <a:pt x="666" y="198"/>
                  </a:lnTo>
                  <a:lnTo>
                    <a:pt x="481" y="321"/>
                  </a:lnTo>
                  <a:lnTo>
                    <a:pt x="189" y="44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440000" y="1677960"/>
              <a:ext cx="244800" cy="314640"/>
            </a:xfrm>
            <a:custGeom>
              <a:avLst/>
              <a:gdLst/>
              <a:ahLst/>
              <a:rect l="0" t="0" r="r" b="b"/>
              <a:pathLst>
                <a:path w="680" h="874">
                  <a:moveTo>
                    <a:pt x="158" y="0"/>
                  </a:moveTo>
                  <a:lnTo>
                    <a:pt x="238" y="154"/>
                  </a:lnTo>
                  <a:lnTo>
                    <a:pt x="397" y="229"/>
                  </a:lnTo>
                  <a:lnTo>
                    <a:pt x="472" y="295"/>
                  </a:lnTo>
                  <a:lnTo>
                    <a:pt x="680" y="374"/>
                  </a:lnTo>
                  <a:lnTo>
                    <a:pt x="556" y="455"/>
                  </a:lnTo>
                  <a:lnTo>
                    <a:pt x="503" y="578"/>
                  </a:lnTo>
                  <a:lnTo>
                    <a:pt x="552" y="874"/>
                  </a:lnTo>
                  <a:lnTo>
                    <a:pt x="459" y="847"/>
                  </a:lnTo>
                  <a:lnTo>
                    <a:pt x="238" y="693"/>
                  </a:lnTo>
                  <a:lnTo>
                    <a:pt x="79" y="525"/>
                  </a:lnTo>
                  <a:lnTo>
                    <a:pt x="0" y="321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808280" y="1758960"/>
              <a:ext cx="348120" cy="1922760"/>
            </a:xfrm>
            <a:custGeom>
              <a:avLst/>
              <a:gdLst/>
              <a:ahLst/>
              <a:rect l="0" t="0" r="r" b="b"/>
              <a:pathLst>
                <a:path w="967" h="5341">
                  <a:moveTo>
                    <a:pt x="835" y="0"/>
                  </a:moveTo>
                  <a:lnTo>
                    <a:pt x="675" y="211"/>
                  </a:lnTo>
                  <a:lnTo>
                    <a:pt x="450" y="445"/>
                  </a:lnTo>
                  <a:lnTo>
                    <a:pt x="265" y="617"/>
                  </a:lnTo>
                  <a:lnTo>
                    <a:pt x="66" y="736"/>
                  </a:lnTo>
                  <a:lnTo>
                    <a:pt x="0" y="789"/>
                  </a:lnTo>
                  <a:lnTo>
                    <a:pt x="105" y="1578"/>
                  </a:lnTo>
                  <a:lnTo>
                    <a:pt x="198" y="2579"/>
                  </a:lnTo>
                  <a:lnTo>
                    <a:pt x="252" y="3392"/>
                  </a:lnTo>
                  <a:lnTo>
                    <a:pt x="265" y="4049"/>
                  </a:lnTo>
                  <a:lnTo>
                    <a:pt x="224" y="4931"/>
                  </a:lnTo>
                  <a:lnTo>
                    <a:pt x="119" y="5327"/>
                  </a:lnTo>
                  <a:lnTo>
                    <a:pt x="437" y="5341"/>
                  </a:lnTo>
                  <a:lnTo>
                    <a:pt x="756" y="5301"/>
                  </a:lnTo>
                  <a:lnTo>
                    <a:pt x="848" y="4723"/>
                  </a:lnTo>
                  <a:lnTo>
                    <a:pt x="914" y="4128"/>
                  </a:lnTo>
                  <a:lnTo>
                    <a:pt x="967" y="3484"/>
                  </a:lnTo>
                  <a:lnTo>
                    <a:pt x="954" y="2473"/>
                  </a:lnTo>
                  <a:lnTo>
                    <a:pt x="967" y="1512"/>
                  </a:lnTo>
                  <a:lnTo>
                    <a:pt x="967" y="881"/>
                  </a:lnTo>
                  <a:lnTo>
                    <a:pt x="941" y="52"/>
                  </a:lnTo>
                  <a:lnTo>
                    <a:pt x="835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308320" y="2544840"/>
              <a:ext cx="279720" cy="851400"/>
            </a:xfrm>
            <a:custGeom>
              <a:avLst/>
              <a:gdLst/>
              <a:ahLst/>
              <a:rect l="0" t="0" r="r" b="b"/>
              <a:pathLst>
                <a:path w="777" h="2365">
                  <a:moveTo>
                    <a:pt x="132" y="0"/>
                  </a:moveTo>
                  <a:lnTo>
                    <a:pt x="264" y="92"/>
                  </a:lnTo>
                  <a:lnTo>
                    <a:pt x="397" y="105"/>
                  </a:lnTo>
                  <a:lnTo>
                    <a:pt x="556" y="198"/>
                  </a:lnTo>
                  <a:lnTo>
                    <a:pt x="644" y="198"/>
                  </a:lnTo>
                  <a:lnTo>
                    <a:pt x="777" y="145"/>
                  </a:lnTo>
                  <a:lnTo>
                    <a:pt x="591" y="498"/>
                  </a:lnTo>
                  <a:lnTo>
                    <a:pt x="437" y="887"/>
                  </a:lnTo>
                  <a:lnTo>
                    <a:pt x="291" y="1359"/>
                  </a:lnTo>
                  <a:lnTo>
                    <a:pt x="194" y="1738"/>
                  </a:lnTo>
                  <a:lnTo>
                    <a:pt x="92" y="2105"/>
                  </a:lnTo>
                  <a:lnTo>
                    <a:pt x="0" y="2365"/>
                  </a:lnTo>
                  <a:lnTo>
                    <a:pt x="92" y="1773"/>
                  </a:lnTo>
                  <a:lnTo>
                    <a:pt x="119" y="1293"/>
                  </a:lnTo>
                  <a:lnTo>
                    <a:pt x="171" y="733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289240" y="2664000"/>
              <a:ext cx="383040" cy="989280"/>
            </a:xfrm>
            <a:custGeom>
              <a:avLst/>
              <a:gdLst/>
              <a:ahLst/>
              <a:rect l="0" t="0" r="r" b="b"/>
              <a:pathLst>
                <a:path w="1064" h="2748">
                  <a:moveTo>
                    <a:pt x="92" y="2748"/>
                  </a:moveTo>
                  <a:lnTo>
                    <a:pt x="0" y="2735"/>
                  </a:lnTo>
                  <a:lnTo>
                    <a:pt x="39" y="2395"/>
                  </a:lnTo>
                  <a:lnTo>
                    <a:pt x="132" y="2016"/>
                  </a:lnTo>
                  <a:lnTo>
                    <a:pt x="278" y="1465"/>
                  </a:lnTo>
                  <a:lnTo>
                    <a:pt x="441" y="978"/>
                  </a:lnTo>
                  <a:lnTo>
                    <a:pt x="389" y="1425"/>
                  </a:lnTo>
                  <a:lnTo>
                    <a:pt x="269" y="1923"/>
                  </a:lnTo>
                  <a:lnTo>
                    <a:pt x="198" y="2342"/>
                  </a:lnTo>
                  <a:lnTo>
                    <a:pt x="371" y="1751"/>
                  </a:lnTo>
                  <a:lnTo>
                    <a:pt x="561" y="1212"/>
                  </a:lnTo>
                  <a:lnTo>
                    <a:pt x="662" y="899"/>
                  </a:lnTo>
                  <a:lnTo>
                    <a:pt x="822" y="524"/>
                  </a:lnTo>
                  <a:lnTo>
                    <a:pt x="1064" y="0"/>
                  </a:lnTo>
                  <a:lnTo>
                    <a:pt x="980" y="652"/>
                  </a:lnTo>
                  <a:lnTo>
                    <a:pt x="892" y="1278"/>
                  </a:lnTo>
                  <a:lnTo>
                    <a:pt x="746" y="1659"/>
                  </a:lnTo>
                  <a:lnTo>
                    <a:pt x="574" y="2210"/>
                  </a:lnTo>
                  <a:lnTo>
                    <a:pt x="318" y="2435"/>
                  </a:lnTo>
                  <a:lnTo>
                    <a:pt x="92" y="2748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204920" y="1812960"/>
              <a:ext cx="437040" cy="1856160"/>
            </a:xfrm>
            <a:custGeom>
              <a:avLst/>
              <a:gdLst/>
              <a:ahLst/>
              <a:rect l="0" t="0" r="r" b="b"/>
              <a:pathLst>
                <a:path w="1214" h="5156">
                  <a:moveTo>
                    <a:pt x="415" y="79"/>
                  </a:moveTo>
                  <a:lnTo>
                    <a:pt x="587" y="0"/>
                  </a:lnTo>
                  <a:lnTo>
                    <a:pt x="640" y="171"/>
                  </a:lnTo>
                  <a:lnTo>
                    <a:pt x="733" y="304"/>
                  </a:lnTo>
                  <a:lnTo>
                    <a:pt x="932" y="471"/>
                  </a:lnTo>
                  <a:lnTo>
                    <a:pt x="1174" y="604"/>
                  </a:lnTo>
                  <a:lnTo>
                    <a:pt x="1214" y="617"/>
                  </a:lnTo>
                  <a:lnTo>
                    <a:pt x="1082" y="1212"/>
                  </a:lnTo>
                  <a:lnTo>
                    <a:pt x="958" y="2016"/>
                  </a:lnTo>
                  <a:lnTo>
                    <a:pt x="932" y="2620"/>
                  </a:lnTo>
                  <a:lnTo>
                    <a:pt x="896" y="3286"/>
                  </a:lnTo>
                  <a:lnTo>
                    <a:pt x="843" y="3931"/>
                  </a:lnTo>
                  <a:lnTo>
                    <a:pt x="825" y="4129"/>
                  </a:lnTo>
                  <a:lnTo>
                    <a:pt x="882" y="4826"/>
                  </a:lnTo>
                  <a:lnTo>
                    <a:pt x="1069" y="5156"/>
                  </a:lnTo>
                  <a:lnTo>
                    <a:pt x="869" y="5143"/>
                  </a:lnTo>
                  <a:lnTo>
                    <a:pt x="242" y="4905"/>
                  </a:lnTo>
                  <a:lnTo>
                    <a:pt x="97" y="4142"/>
                  </a:lnTo>
                  <a:lnTo>
                    <a:pt x="97" y="3736"/>
                  </a:lnTo>
                  <a:lnTo>
                    <a:pt x="132" y="3352"/>
                  </a:lnTo>
                  <a:lnTo>
                    <a:pt x="105" y="2999"/>
                  </a:lnTo>
                  <a:lnTo>
                    <a:pt x="0" y="2607"/>
                  </a:lnTo>
                  <a:lnTo>
                    <a:pt x="0" y="2355"/>
                  </a:lnTo>
                  <a:lnTo>
                    <a:pt x="105" y="2699"/>
                  </a:lnTo>
                  <a:lnTo>
                    <a:pt x="268" y="2999"/>
                  </a:lnTo>
                  <a:lnTo>
                    <a:pt x="158" y="2607"/>
                  </a:lnTo>
                  <a:lnTo>
                    <a:pt x="66" y="2276"/>
                  </a:lnTo>
                  <a:lnTo>
                    <a:pt x="26" y="1950"/>
                  </a:lnTo>
                  <a:lnTo>
                    <a:pt x="83" y="1698"/>
                  </a:lnTo>
                  <a:lnTo>
                    <a:pt x="185" y="1278"/>
                  </a:lnTo>
                  <a:lnTo>
                    <a:pt x="318" y="961"/>
                  </a:lnTo>
                  <a:lnTo>
                    <a:pt x="371" y="551"/>
                  </a:lnTo>
                  <a:lnTo>
                    <a:pt x="428" y="304"/>
                  </a:lnTo>
                  <a:lnTo>
                    <a:pt x="415" y="7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20720" y="1903320"/>
              <a:ext cx="465480" cy="2180160"/>
            </a:xfrm>
            <a:custGeom>
              <a:avLst/>
              <a:gdLst/>
              <a:ahLst/>
              <a:rect l="0" t="0" r="r" b="b"/>
              <a:pathLst>
                <a:path w="1293" h="6056">
                  <a:moveTo>
                    <a:pt x="1293" y="0"/>
                  </a:moveTo>
                  <a:lnTo>
                    <a:pt x="1253" y="251"/>
                  </a:lnTo>
                  <a:lnTo>
                    <a:pt x="1226" y="551"/>
                  </a:lnTo>
                  <a:lnTo>
                    <a:pt x="1196" y="908"/>
                  </a:lnTo>
                  <a:lnTo>
                    <a:pt x="1182" y="736"/>
                  </a:lnTo>
                  <a:lnTo>
                    <a:pt x="1160" y="317"/>
                  </a:lnTo>
                  <a:lnTo>
                    <a:pt x="1160" y="185"/>
                  </a:lnTo>
                  <a:lnTo>
                    <a:pt x="1121" y="396"/>
                  </a:lnTo>
                  <a:lnTo>
                    <a:pt x="1094" y="855"/>
                  </a:lnTo>
                  <a:lnTo>
                    <a:pt x="1121" y="1212"/>
                  </a:lnTo>
                  <a:lnTo>
                    <a:pt x="1037" y="1490"/>
                  </a:lnTo>
                  <a:lnTo>
                    <a:pt x="962" y="1817"/>
                  </a:lnTo>
                  <a:lnTo>
                    <a:pt x="922" y="2108"/>
                  </a:lnTo>
                  <a:lnTo>
                    <a:pt x="825" y="1923"/>
                  </a:lnTo>
                  <a:lnTo>
                    <a:pt x="706" y="1539"/>
                  </a:lnTo>
                  <a:lnTo>
                    <a:pt x="680" y="1159"/>
                  </a:lnTo>
                  <a:lnTo>
                    <a:pt x="653" y="1503"/>
                  </a:lnTo>
                  <a:lnTo>
                    <a:pt x="750" y="2003"/>
                  </a:lnTo>
                  <a:lnTo>
                    <a:pt x="812" y="2188"/>
                  </a:lnTo>
                  <a:lnTo>
                    <a:pt x="878" y="2360"/>
                  </a:lnTo>
                  <a:lnTo>
                    <a:pt x="971" y="2708"/>
                  </a:lnTo>
                  <a:lnTo>
                    <a:pt x="1010" y="3290"/>
                  </a:lnTo>
                  <a:lnTo>
                    <a:pt x="1010" y="3775"/>
                  </a:lnTo>
                  <a:lnTo>
                    <a:pt x="878" y="3934"/>
                  </a:lnTo>
                  <a:lnTo>
                    <a:pt x="653" y="4119"/>
                  </a:lnTo>
                  <a:lnTo>
                    <a:pt x="984" y="3987"/>
                  </a:lnTo>
                  <a:lnTo>
                    <a:pt x="984" y="4199"/>
                  </a:lnTo>
                  <a:lnTo>
                    <a:pt x="1050" y="4490"/>
                  </a:lnTo>
                  <a:lnTo>
                    <a:pt x="984" y="4989"/>
                  </a:lnTo>
                  <a:lnTo>
                    <a:pt x="812" y="4949"/>
                  </a:lnTo>
                  <a:lnTo>
                    <a:pt x="507" y="4685"/>
                  </a:lnTo>
                  <a:lnTo>
                    <a:pt x="719" y="4989"/>
                  </a:lnTo>
                  <a:lnTo>
                    <a:pt x="935" y="5082"/>
                  </a:lnTo>
                  <a:lnTo>
                    <a:pt x="878" y="5439"/>
                  </a:lnTo>
                  <a:lnTo>
                    <a:pt x="737" y="6003"/>
                  </a:lnTo>
                  <a:lnTo>
                    <a:pt x="573" y="6056"/>
                  </a:lnTo>
                  <a:lnTo>
                    <a:pt x="313" y="6012"/>
                  </a:lnTo>
                  <a:lnTo>
                    <a:pt x="101" y="5933"/>
                  </a:lnTo>
                  <a:lnTo>
                    <a:pt x="171" y="5531"/>
                  </a:lnTo>
                  <a:lnTo>
                    <a:pt x="440" y="5553"/>
                  </a:lnTo>
                  <a:lnTo>
                    <a:pt x="719" y="5545"/>
                  </a:lnTo>
                  <a:lnTo>
                    <a:pt x="308" y="5478"/>
                  </a:lnTo>
                  <a:lnTo>
                    <a:pt x="171" y="5386"/>
                  </a:lnTo>
                  <a:lnTo>
                    <a:pt x="0" y="4804"/>
                  </a:lnTo>
                  <a:lnTo>
                    <a:pt x="26" y="4344"/>
                  </a:lnTo>
                  <a:lnTo>
                    <a:pt x="52" y="4066"/>
                  </a:lnTo>
                  <a:lnTo>
                    <a:pt x="39" y="3802"/>
                  </a:lnTo>
                  <a:lnTo>
                    <a:pt x="39" y="3277"/>
                  </a:lnTo>
                  <a:lnTo>
                    <a:pt x="66" y="3078"/>
                  </a:lnTo>
                  <a:lnTo>
                    <a:pt x="198" y="3422"/>
                  </a:lnTo>
                  <a:lnTo>
                    <a:pt x="268" y="3696"/>
                  </a:lnTo>
                  <a:lnTo>
                    <a:pt x="370" y="3802"/>
                  </a:lnTo>
                  <a:lnTo>
                    <a:pt x="493" y="3881"/>
                  </a:lnTo>
                  <a:lnTo>
                    <a:pt x="357" y="3643"/>
                  </a:lnTo>
                  <a:lnTo>
                    <a:pt x="255" y="3330"/>
                  </a:lnTo>
                  <a:lnTo>
                    <a:pt x="158" y="3012"/>
                  </a:lnTo>
                  <a:lnTo>
                    <a:pt x="145" y="2801"/>
                  </a:lnTo>
                  <a:lnTo>
                    <a:pt x="198" y="2505"/>
                  </a:lnTo>
                  <a:lnTo>
                    <a:pt x="295" y="2161"/>
                  </a:lnTo>
                  <a:lnTo>
                    <a:pt x="396" y="2439"/>
                  </a:lnTo>
                  <a:lnTo>
                    <a:pt x="573" y="2682"/>
                  </a:lnTo>
                  <a:lnTo>
                    <a:pt x="719" y="2748"/>
                  </a:lnTo>
                  <a:lnTo>
                    <a:pt x="493" y="2413"/>
                  </a:lnTo>
                  <a:lnTo>
                    <a:pt x="383" y="2201"/>
                  </a:lnTo>
                  <a:lnTo>
                    <a:pt x="330" y="1963"/>
                  </a:lnTo>
                  <a:lnTo>
                    <a:pt x="357" y="1553"/>
                  </a:lnTo>
                  <a:lnTo>
                    <a:pt x="414" y="1040"/>
                  </a:lnTo>
                  <a:lnTo>
                    <a:pt x="480" y="709"/>
                  </a:lnTo>
                  <a:lnTo>
                    <a:pt x="586" y="511"/>
                  </a:lnTo>
                  <a:lnTo>
                    <a:pt x="737" y="211"/>
                  </a:lnTo>
                  <a:lnTo>
                    <a:pt x="962" y="92"/>
                  </a:lnTo>
                  <a:lnTo>
                    <a:pt x="1293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492200" y="1395360"/>
              <a:ext cx="552960" cy="410040"/>
            </a:xfrm>
            <a:custGeom>
              <a:avLst/>
              <a:gdLst/>
              <a:ahLst/>
              <a:rect l="0" t="0" r="r" b="b"/>
              <a:pathLst>
                <a:path w="1536" h="1139">
                  <a:moveTo>
                    <a:pt x="26" y="397"/>
                  </a:moveTo>
                  <a:lnTo>
                    <a:pt x="83" y="807"/>
                  </a:lnTo>
                  <a:lnTo>
                    <a:pt x="145" y="914"/>
                  </a:lnTo>
                  <a:lnTo>
                    <a:pt x="313" y="1020"/>
                  </a:lnTo>
                  <a:lnTo>
                    <a:pt x="516" y="1108"/>
                  </a:lnTo>
                  <a:lnTo>
                    <a:pt x="710" y="1139"/>
                  </a:lnTo>
                  <a:lnTo>
                    <a:pt x="966" y="1055"/>
                  </a:lnTo>
                  <a:lnTo>
                    <a:pt x="1201" y="928"/>
                  </a:lnTo>
                  <a:lnTo>
                    <a:pt x="1404" y="790"/>
                  </a:lnTo>
                  <a:lnTo>
                    <a:pt x="1536" y="609"/>
                  </a:lnTo>
                  <a:lnTo>
                    <a:pt x="1501" y="530"/>
                  </a:lnTo>
                  <a:lnTo>
                    <a:pt x="1501" y="26"/>
                  </a:lnTo>
                  <a:lnTo>
                    <a:pt x="0" y="0"/>
                  </a:lnTo>
                  <a:lnTo>
                    <a:pt x="26" y="397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387440" y="519120"/>
              <a:ext cx="819360" cy="1175040"/>
            </a:xfrm>
            <a:custGeom>
              <a:avLst/>
              <a:gdLst/>
              <a:ahLst/>
              <a:rect l="0" t="0" r="r" b="b"/>
              <a:pathLst>
                <a:path w="2276" h="3264">
                  <a:moveTo>
                    <a:pt x="485" y="2884"/>
                  </a:moveTo>
                  <a:lnTo>
                    <a:pt x="612" y="3008"/>
                  </a:lnTo>
                  <a:lnTo>
                    <a:pt x="837" y="3202"/>
                  </a:lnTo>
                  <a:lnTo>
                    <a:pt x="992" y="3264"/>
                  </a:lnTo>
                  <a:lnTo>
                    <a:pt x="1133" y="3264"/>
                  </a:lnTo>
                  <a:lnTo>
                    <a:pt x="1271" y="3255"/>
                  </a:lnTo>
                  <a:lnTo>
                    <a:pt x="1390" y="3215"/>
                  </a:lnTo>
                  <a:lnTo>
                    <a:pt x="1522" y="3114"/>
                  </a:lnTo>
                  <a:lnTo>
                    <a:pt x="1791" y="2858"/>
                  </a:lnTo>
                  <a:lnTo>
                    <a:pt x="1906" y="2611"/>
                  </a:lnTo>
                  <a:lnTo>
                    <a:pt x="1972" y="2386"/>
                  </a:lnTo>
                  <a:lnTo>
                    <a:pt x="2033" y="2170"/>
                  </a:lnTo>
                  <a:lnTo>
                    <a:pt x="2144" y="2064"/>
                  </a:lnTo>
                  <a:lnTo>
                    <a:pt x="2219" y="1844"/>
                  </a:lnTo>
                  <a:lnTo>
                    <a:pt x="2245" y="1659"/>
                  </a:lnTo>
                  <a:lnTo>
                    <a:pt x="2227" y="1481"/>
                  </a:lnTo>
                  <a:lnTo>
                    <a:pt x="2197" y="1402"/>
                  </a:lnTo>
                  <a:lnTo>
                    <a:pt x="2263" y="1177"/>
                  </a:lnTo>
                  <a:lnTo>
                    <a:pt x="2276" y="749"/>
                  </a:lnTo>
                  <a:lnTo>
                    <a:pt x="2197" y="524"/>
                  </a:lnTo>
                  <a:lnTo>
                    <a:pt x="2086" y="291"/>
                  </a:lnTo>
                  <a:lnTo>
                    <a:pt x="1936" y="185"/>
                  </a:lnTo>
                  <a:lnTo>
                    <a:pt x="1725" y="101"/>
                  </a:lnTo>
                  <a:lnTo>
                    <a:pt x="1513" y="26"/>
                  </a:lnTo>
                  <a:lnTo>
                    <a:pt x="1301" y="0"/>
                  </a:lnTo>
                  <a:lnTo>
                    <a:pt x="1027" y="0"/>
                  </a:lnTo>
                  <a:lnTo>
                    <a:pt x="780" y="35"/>
                  </a:lnTo>
                  <a:lnTo>
                    <a:pt x="577" y="105"/>
                  </a:lnTo>
                  <a:lnTo>
                    <a:pt x="321" y="224"/>
                  </a:lnTo>
                  <a:lnTo>
                    <a:pt x="145" y="582"/>
                  </a:lnTo>
                  <a:lnTo>
                    <a:pt x="114" y="1027"/>
                  </a:lnTo>
                  <a:lnTo>
                    <a:pt x="132" y="1402"/>
                  </a:lnTo>
                  <a:lnTo>
                    <a:pt x="13" y="1486"/>
                  </a:lnTo>
                  <a:lnTo>
                    <a:pt x="0" y="1725"/>
                  </a:lnTo>
                  <a:lnTo>
                    <a:pt x="52" y="1950"/>
                  </a:lnTo>
                  <a:lnTo>
                    <a:pt x="163" y="2003"/>
                  </a:lnTo>
                  <a:lnTo>
                    <a:pt x="176" y="2174"/>
                  </a:lnTo>
                  <a:lnTo>
                    <a:pt x="202" y="2413"/>
                  </a:lnTo>
                  <a:lnTo>
                    <a:pt x="286" y="2558"/>
                  </a:lnTo>
                  <a:lnTo>
                    <a:pt x="485" y="2884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411200" y="1084320"/>
              <a:ext cx="46440" cy="120960"/>
            </a:xfrm>
            <a:custGeom>
              <a:avLst/>
              <a:gdLst/>
              <a:ahLst/>
              <a:rect l="0" t="0" r="r" b="b"/>
              <a:pathLst>
                <a:path w="129" h="336">
                  <a:moveTo>
                    <a:pt x="0" y="0"/>
                  </a:moveTo>
                  <a:lnTo>
                    <a:pt x="80" y="61"/>
                  </a:lnTo>
                  <a:lnTo>
                    <a:pt x="80" y="114"/>
                  </a:lnTo>
                  <a:lnTo>
                    <a:pt x="45" y="149"/>
                  </a:lnTo>
                  <a:lnTo>
                    <a:pt x="71" y="269"/>
                  </a:lnTo>
                  <a:lnTo>
                    <a:pt x="129" y="336"/>
                  </a:lnTo>
                  <a:lnTo>
                    <a:pt x="45" y="309"/>
                  </a:lnTo>
                  <a:lnTo>
                    <a:pt x="4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124000" y="1103400"/>
              <a:ext cx="36720" cy="138600"/>
            </a:xfrm>
            <a:custGeom>
              <a:avLst/>
              <a:gdLst/>
              <a:ahLst/>
              <a:rect l="0" t="0" r="r" b="b"/>
              <a:pathLst>
                <a:path w="102" h="385">
                  <a:moveTo>
                    <a:pt x="102" y="0"/>
                  </a:moveTo>
                  <a:lnTo>
                    <a:pt x="48" y="61"/>
                  </a:lnTo>
                  <a:lnTo>
                    <a:pt x="58" y="150"/>
                  </a:lnTo>
                  <a:lnTo>
                    <a:pt x="71" y="225"/>
                  </a:lnTo>
                  <a:lnTo>
                    <a:pt x="30" y="337"/>
                  </a:lnTo>
                  <a:lnTo>
                    <a:pt x="0" y="385"/>
                  </a:lnTo>
                  <a:lnTo>
                    <a:pt x="53" y="354"/>
                  </a:lnTo>
                  <a:lnTo>
                    <a:pt x="93" y="217"/>
                  </a:lnTo>
                  <a:lnTo>
                    <a:pt x="80" y="102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560600" y="1065240"/>
              <a:ext cx="160560" cy="62280"/>
            </a:xfrm>
            <a:custGeom>
              <a:avLst/>
              <a:gdLst/>
              <a:ahLst/>
              <a:rect l="0" t="0" r="r" b="b"/>
              <a:pathLst>
                <a:path w="446" h="173">
                  <a:moveTo>
                    <a:pt x="35" y="13"/>
                  </a:moveTo>
                  <a:lnTo>
                    <a:pt x="176" y="0"/>
                  </a:lnTo>
                  <a:lnTo>
                    <a:pt x="318" y="35"/>
                  </a:lnTo>
                  <a:lnTo>
                    <a:pt x="446" y="71"/>
                  </a:lnTo>
                  <a:lnTo>
                    <a:pt x="371" y="98"/>
                  </a:lnTo>
                  <a:lnTo>
                    <a:pt x="344" y="151"/>
                  </a:lnTo>
                  <a:lnTo>
                    <a:pt x="256" y="173"/>
                  </a:lnTo>
                  <a:lnTo>
                    <a:pt x="141" y="160"/>
                  </a:lnTo>
                  <a:lnTo>
                    <a:pt x="88" y="98"/>
                  </a:lnTo>
                  <a:lnTo>
                    <a:pt x="0" y="71"/>
                  </a:lnTo>
                  <a:lnTo>
                    <a:pt x="35" y="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889280" y="1085760"/>
              <a:ext cx="155880" cy="95760"/>
            </a:xfrm>
            <a:custGeom>
              <a:avLst/>
              <a:gdLst/>
              <a:ahLst/>
              <a:rect l="0" t="0" r="r" b="b"/>
              <a:pathLst>
                <a:path w="433" h="266">
                  <a:moveTo>
                    <a:pt x="0" y="61"/>
                  </a:moveTo>
                  <a:lnTo>
                    <a:pt x="66" y="13"/>
                  </a:lnTo>
                  <a:lnTo>
                    <a:pt x="217" y="0"/>
                  </a:lnTo>
                  <a:lnTo>
                    <a:pt x="336" y="17"/>
                  </a:lnTo>
                  <a:lnTo>
                    <a:pt x="433" y="75"/>
                  </a:lnTo>
                  <a:lnTo>
                    <a:pt x="349" y="75"/>
                  </a:lnTo>
                  <a:lnTo>
                    <a:pt x="322" y="150"/>
                  </a:lnTo>
                  <a:lnTo>
                    <a:pt x="243" y="181"/>
                  </a:lnTo>
                  <a:lnTo>
                    <a:pt x="52" y="137"/>
                  </a:lnTo>
                  <a:lnTo>
                    <a:pt x="39" y="195"/>
                  </a:lnTo>
                  <a:lnTo>
                    <a:pt x="79" y="266"/>
                  </a:lnTo>
                  <a:lnTo>
                    <a:pt x="0" y="172"/>
                  </a:lnTo>
                  <a:lnTo>
                    <a:pt x="4" y="124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695600" y="1305000"/>
              <a:ext cx="187560" cy="97200"/>
            </a:xfrm>
            <a:custGeom>
              <a:avLst/>
              <a:gdLst/>
              <a:ahLst/>
              <a:rect l="0" t="0" r="r" b="b"/>
              <a:pathLst>
                <a:path w="521" h="270">
                  <a:moveTo>
                    <a:pt x="327" y="213"/>
                  </a:moveTo>
                  <a:lnTo>
                    <a:pt x="233" y="209"/>
                  </a:lnTo>
                  <a:lnTo>
                    <a:pt x="145" y="172"/>
                  </a:lnTo>
                  <a:lnTo>
                    <a:pt x="105" y="124"/>
                  </a:lnTo>
                  <a:lnTo>
                    <a:pt x="48" y="98"/>
                  </a:lnTo>
                  <a:lnTo>
                    <a:pt x="30" y="52"/>
                  </a:lnTo>
                  <a:lnTo>
                    <a:pt x="48" y="0"/>
                  </a:lnTo>
                  <a:lnTo>
                    <a:pt x="0" y="35"/>
                  </a:lnTo>
                  <a:lnTo>
                    <a:pt x="4" y="111"/>
                  </a:lnTo>
                  <a:lnTo>
                    <a:pt x="44" y="137"/>
                  </a:lnTo>
                  <a:lnTo>
                    <a:pt x="92" y="172"/>
                  </a:lnTo>
                  <a:lnTo>
                    <a:pt x="154" y="240"/>
                  </a:lnTo>
                  <a:lnTo>
                    <a:pt x="242" y="270"/>
                  </a:lnTo>
                  <a:lnTo>
                    <a:pt x="340" y="270"/>
                  </a:lnTo>
                  <a:lnTo>
                    <a:pt x="415" y="235"/>
                  </a:lnTo>
                  <a:lnTo>
                    <a:pt x="477" y="172"/>
                  </a:lnTo>
                  <a:lnTo>
                    <a:pt x="516" y="124"/>
                  </a:lnTo>
                  <a:lnTo>
                    <a:pt x="521" y="71"/>
                  </a:lnTo>
                  <a:lnTo>
                    <a:pt x="481" y="22"/>
                  </a:lnTo>
                  <a:lnTo>
                    <a:pt x="468" y="146"/>
                  </a:lnTo>
                  <a:lnTo>
                    <a:pt x="424" y="186"/>
                  </a:lnTo>
                  <a:lnTo>
                    <a:pt x="327" y="2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616040" y="1308240"/>
              <a:ext cx="54360" cy="138600"/>
            </a:xfrm>
            <a:custGeom>
              <a:avLst/>
              <a:gdLst/>
              <a:ahLst/>
              <a:rect l="0" t="0" r="r" b="b"/>
              <a:pathLst>
                <a:path w="151" h="385">
                  <a:moveTo>
                    <a:pt x="151" y="0"/>
                  </a:moveTo>
                  <a:lnTo>
                    <a:pt x="67" y="61"/>
                  </a:lnTo>
                  <a:lnTo>
                    <a:pt x="40" y="142"/>
                  </a:lnTo>
                  <a:lnTo>
                    <a:pt x="17" y="265"/>
                  </a:lnTo>
                  <a:lnTo>
                    <a:pt x="0" y="385"/>
                  </a:lnTo>
                  <a:lnTo>
                    <a:pt x="0" y="239"/>
                  </a:lnTo>
                  <a:lnTo>
                    <a:pt x="17" y="98"/>
                  </a:lnTo>
                  <a:lnTo>
                    <a:pt x="45" y="48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914480" y="1327320"/>
              <a:ext cx="33840" cy="122760"/>
            </a:xfrm>
            <a:custGeom>
              <a:avLst/>
              <a:gdLst/>
              <a:ahLst/>
              <a:rect l="0" t="0" r="r" b="b"/>
              <a:pathLst>
                <a:path w="94" h="341">
                  <a:moveTo>
                    <a:pt x="0" y="0"/>
                  </a:moveTo>
                  <a:lnTo>
                    <a:pt x="31" y="70"/>
                  </a:lnTo>
                  <a:lnTo>
                    <a:pt x="62" y="186"/>
                  </a:lnTo>
                  <a:lnTo>
                    <a:pt x="58" y="257"/>
                  </a:lnTo>
                  <a:lnTo>
                    <a:pt x="40" y="341"/>
                  </a:lnTo>
                  <a:lnTo>
                    <a:pt x="94" y="195"/>
                  </a:lnTo>
                  <a:lnTo>
                    <a:pt x="85" y="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655640" y="1457280"/>
              <a:ext cx="263880" cy="55800"/>
            </a:xfrm>
            <a:custGeom>
              <a:avLst/>
              <a:gdLst/>
              <a:ahLst/>
              <a:rect l="0" t="0" r="r" b="b"/>
              <a:pathLst>
                <a:path w="733" h="155">
                  <a:moveTo>
                    <a:pt x="0" y="0"/>
                  </a:moveTo>
                  <a:lnTo>
                    <a:pt x="110" y="66"/>
                  </a:lnTo>
                  <a:lnTo>
                    <a:pt x="251" y="102"/>
                  </a:lnTo>
                  <a:lnTo>
                    <a:pt x="428" y="111"/>
                  </a:lnTo>
                  <a:lnTo>
                    <a:pt x="565" y="89"/>
                  </a:lnTo>
                  <a:lnTo>
                    <a:pt x="710" y="39"/>
                  </a:lnTo>
                  <a:lnTo>
                    <a:pt x="733" y="98"/>
                  </a:lnTo>
                  <a:lnTo>
                    <a:pt x="680" y="74"/>
                  </a:lnTo>
                  <a:lnTo>
                    <a:pt x="556" y="133"/>
                  </a:lnTo>
                  <a:lnTo>
                    <a:pt x="415" y="155"/>
                  </a:lnTo>
                  <a:lnTo>
                    <a:pt x="295" y="146"/>
                  </a:lnTo>
                  <a:lnTo>
                    <a:pt x="163" y="115"/>
                  </a:lnTo>
                  <a:lnTo>
                    <a:pt x="79" y="74"/>
                  </a:lnTo>
                  <a:lnTo>
                    <a:pt x="17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681200" y="1538280"/>
              <a:ext cx="201960" cy="27360"/>
            </a:xfrm>
            <a:custGeom>
              <a:avLst/>
              <a:gdLst/>
              <a:ahLst/>
              <a:rect l="0" t="0" r="r" b="b"/>
              <a:pathLst>
                <a:path w="561" h="76">
                  <a:moveTo>
                    <a:pt x="0" y="17"/>
                  </a:moveTo>
                  <a:lnTo>
                    <a:pt x="17" y="0"/>
                  </a:lnTo>
                  <a:lnTo>
                    <a:pt x="61" y="8"/>
                  </a:lnTo>
                  <a:lnTo>
                    <a:pt x="167" y="31"/>
                  </a:lnTo>
                  <a:lnTo>
                    <a:pt x="380" y="40"/>
                  </a:lnTo>
                  <a:lnTo>
                    <a:pt x="521" y="17"/>
                  </a:lnTo>
                  <a:lnTo>
                    <a:pt x="561" y="0"/>
                  </a:lnTo>
                  <a:lnTo>
                    <a:pt x="561" y="31"/>
                  </a:lnTo>
                  <a:lnTo>
                    <a:pt x="494" y="40"/>
                  </a:lnTo>
                  <a:lnTo>
                    <a:pt x="367" y="68"/>
                  </a:lnTo>
                  <a:lnTo>
                    <a:pt x="268" y="76"/>
                  </a:lnTo>
                  <a:lnTo>
                    <a:pt x="154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486080" y="1146240"/>
              <a:ext cx="44640" cy="109800"/>
            </a:xfrm>
            <a:custGeom>
              <a:avLst/>
              <a:gdLst/>
              <a:ahLst/>
              <a:rect l="0" t="0" r="r" b="b"/>
              <a:pathLst>
                <a:path w="124" h="305">
                  <a:moveTo>
                    <a:pt x="124" y="0"/>
                  </a:moveTo>
                  <a:lnTo>
                    <a:pt x="44" y="97"/>
                  </a:lnTo>
                  <a:lnTo>
                    <a:pt x="22" y="181"/>
                  </a:lnTo>
                  <a:lnTo>
                    <a:pt x="17" y="305"/>
                  </a:lnTo>
                  <a:lnTo>
                    <a:pt x="0" y="172"/>
                  </a:lnTo>
                  <a:lnTo>
                    <a:pt x="22" y="8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070000" y="1155600"/>
              <a:ext cx="25920" cy="135360"/>
            </a:xfrm>
            <a:custGeom>
              <a:avLst/>
              <a:gdLst/>
              <a:ahLst/>
              <a:rect l="0" t="0" r="r" b="b"/>
              <a:pathLst>
                <a:path w="72" h="376">
                  <a:moveTo>
                    <a:pt x="0" y="0"/>
                  </a:moveTo>
                  <a:lnTo>
                    <a:pt x="36" y="66"/>
                  </a:lnTo>
                  <a:lnTo>
                    <a:pt x="53" y="217"/>
                  </a:lnTo>
                  <a:lnTo>
                    <a:pt x="36" y="376"/>
                  </a:lnTo>
                  <a:lnTo>
                    <a:pt x="72" y="212"/>
                  </a:lnTo>
                  <a:lnTo>
                    <a:pt x="63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868400" y="990720"/>
              <a:ext cx="211320" cy="60840"/>
            </a:xfrm>
            <a:custGeom>
              <a:avLst/>
              <a:gdLst/>
              <a:ahLst/>
              <a:rect l="0" t="0" r="r" b="b"/>
              <a:pathLst>
                <a:path w="587" h="169">
                  <a:moveTo>
                    <a:pt x="0" y="53"/>
                  </a:moveTo>
                  <a:lnTo>
                    <a:pt x="22" y="115"/>
                  </a:lnTo>
                  <a:lnTo>
                    <a:pt x="233" y="93"/>
                  </a:lnTo>
                  <a:lnTo>
                    <a:pt x="389" y="98"/>
                  </a:lnTo>
                  <a:lnTo>
                    <a:pt x="490" y="124"/>
                  </a:lnTo>
                  <a:lnTo>
                    <a:pt x="587" y="169"/>
                  </a:lnTo>
                  <a:lnTo>
                    <a:pt x="468" y="53"/>
                  </a:lnTo>
                  <a:lnTo>
                    <a:pt x="246" y="13"/>
                  </a:lnTo>
                  <a:lnTo>
                    <a:pt x="273" y="35"/>
                  </a:lnTo>
                  <a:lnTo>
                    <a:pt x="132" y="45"/>
                  </a:lnTo>
                  <a:lnTo>
                    <a:pt x="141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547640" y="988920"/>
              <a:ext cx="187560" cy="49680"/>
            </a:xfrm>
            <a:custGeom>
              <a:avLst/>
              <a:gdLst/>
              <a:ahLst/>
              <a:rect l="0" t="0" r="r" b="b"/>
              <a:pathLst>
                <a:path w="521" h="138">
                  <a:moveTo>
                    <a:pt x="521" y="138"/>
                  </a:moveTo>
                  <a:lnTo>
                    <a:pt x="428" y="80"/>
                  </a:lnTo>
                  <a:lnTo>
                    <a:pt x="265" y="67"/>
                  </a:lnTo>
                  <a:lnTo>
                    <a:pt x="97" y="80"/>
                  </a:lnTo>
                  <a:lnTo>
                    <a:pt x="0" y="125"/>
                  </a:lnTo>
                  <a:lnTo>
                    <a:pt x="83" y="58"/>
                  </a:lnTo>
                  <a:lnTo>
                    <a:pt x="44" y="49"/>
                  </a:lnTo>
                  <a:lnTo>
                    <a:pt x="220" y="45"/>
                  </a:lnTo>
                  <a:lnTo>
                    <a:pt x="83" y="26"/>
                  </a:lnTo>
                  <a:lnTo>
                    <a:pt x="278" y="26"/>
                  </a:lnTo>
                  <a:lnTo>
                    <a:pt x="238" y="4"/>
                  </a:lnTo>
                  <a:lnTo>
                    <a:pt x="371" y="22"/>
                  </a:lnTo>
                  <a:lnTo>
                    <a:pt x="441" y="36"/>
                  </a:lnTo>
                  <a:lnTo>
                    <a:pt x="441" y="0"/>
                  </a:lnTo>
                  <a:lnTo>
                    <a:pt x="499" y="45"/>
                  </a:lnTo>
                  <a:lnTo>
                    <a:pt x="521" y="13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603440" y="1114560"/>
              <a:ext cx="100440" cy="43200"/>
            </a:xfrm>
            <a:custGeom>
              <a:avLst/>
              <a:gdLst/>
              <a:ahLst/>
              <a:rect l="0" t="0" r="r" b="b"/>
              <a:pathLst>
                <a:path w="279" h="120">
                  <a:moveTo>
                    <a:pt x="279" y="0"/>
                  </a:moveTo>
                  <a:lnTo>
                    <a:pt x="240" y="44"/>
                  </a:lnTo>
                  <a:lnTo>
                    <a:pt x="142" y="98"/>
                  </a:lnTo>
                  <a:lnTo>
                    <a:pt x="0" y="111"/>
                  </a:lnTo>
                  <a:lnTo>
                    <a:pt x="190" y="120"/>
                  </a:lnTo>
                  <a:lnTo>
                    <a:pt x="244" y="89"/>
                  </a:lnTo>
                  <a:lnTo>
                    <a:pt x="279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589040" y="109368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0" y="0"/>
                  </a:moveTo>
                  <a:lnTo>
                    <a:pt x="53" y="53"/>
                  </a:lnTo>
                  <a:lnTo>
                    <a:pt x="63" y="72"/>
                  </a:lnTo>
                  <a:lnTo>
                    <a:pt x="63" y="27"/>
                  </a:lnTo>
                  <a:lnTo>
                    <a:pt x="7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666800" y="11001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17"/>
                  </a:lnTo>
                  <a:lnTo>
                    <a:pt x="0" y="72"/>
                  </a:lnTo>
                  <a:lnTo>
                    <a:pt x="72" y="63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908000" y="110952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0" y="17"/>
                  </a:moveTo>
                  <a:lnTo>
                    <a:pt x="4" y="40"/>
                  </a:lnTo>
                  <a:lnTo>
                    <a:pt x="17" y="49"/>
                  </a:lnTo>
                  <a:lnTo>
                    <a:pt x="89" y="72"/>
                  </a:lnTo>
                  <a:lnTo>
                    <a:pt x="53" y="49"/>
                  </a:lnTo>
                  <a:lnTo>
                    <a:pt x="53" y="27"/>
                  </a:lnTo>
                  <a:lnTo>
                    <a:pt x="71" y="0"/>
                  </a:lnTo>
                  <a:lnTo>
                    <a:pt x="39" y="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994040" y="111600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13" y="0"/>
                  </a:moveTo>
                  <a:lnTo>
                    <a:pt x="27" y="27"/>
                  </a:lnTo>
                  <a:lnTo>
                    <a:pt x="0" y="72"/>
                  </a:lnTo>
                  <a:lnTo>
                    <a:pt x="76" y="40"/>
                  </a:lnTo>
                  <a:lnTo>
                    <a:pt x="76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628640" y="110484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944720" y="112248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512720" y="1285920"/>
              <a:ext cx="28800" cy="184680"/>
            </a:xfrm>
            <a:custGeom>
              <a:avLst/>
              <a:gdLst/>
              <a:ahLst/>
              <a:rect l="0" t="0" r="r" b="b"/>
              <a:pathLst>
                <a:path w="80" h="513">
                  <a:moveTo>
                    <a:pt x="30" y="0"/>
                  </a:moveTo>
                  <a:lnTo>
                    <a:pt x="0" y="164"/>
                  </a:lnTo>
                  <a:lnTo>
                    <a:pt x="8" y="300"/>
                  </a:lnTo>
                  <a:lnTo>
                    <a:pt x="80" y="513"/>
                  </a:lnTo>
                  <a:lnTo>
                    <a:pt x="35" y="309"/>
                  </a:lnTo>
                  <a:lnTo>
                    <a:pt x="30" y="21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973160" y="1336680"/>
              <a:ext cx="68760" cy="171720"/>
            </a:xfrm>
            <a:custGeom>
              <a:avLst/>
              <a:gdLst/>
              <a:ahLst/>
              <a:rect l="0" t="0" r="r" b="b"/>
              <a:pathLst>
                <a:path w="191" h="477">
                  <a:moveTo>
                    <a:pt x="191" y="0"/>
                  </a:moveTo>
                  <a:lnTo>
                    <a:pt x="156" y="189"/>
                  </a:lnTo>
                  <a:lnTo>
                    <a:pt x="89" y="344"/>
                  </a:lnTo>
                  <a:lnTo>
                    <a:pt x="0" y="477"/>
                  </a:lnTo>
                  <a:lnTo>
                    <a:pt x="142" y="318"/>
                  </a:lnTo>
                  <a:lnTo>
                    <a:pt x="178" y="211"/>
                  </a:lnTo>
                  <a:lnTo>
                    <a:pt x="19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397160" y="453960"/>
              <a:ext cx="813240" cy="609840"/>
            </a:xfrm>
            <a:custGeom>
              <a:avLst/>
              <a:gdLst/>
              <a:ahLst/>
              <a:rect l="0" t="0" r="r" b="b"/>
              <a:pathLst>
                <a:path w="2259" h="1694">
                  <a:moveTo>
                    <a:pt x="436" y="348"/>
                  </a:moveTo>
                  <a:lnTo>
                    <a:pt x="697" y="405"/>
                  </a:lnTo>
                  <a:lnTo>
                    <a:pt x="1116" y="454"/>
                  </a:lnTo>
                  <a:lnTo>
                    <a:pt x="1517" y="366"/>
                  </a:lnTo>
                  <a:lnTo>
                    <a:pt x="1774" y="295"/>
                  </a:lnTo>
                  <a:lnTo>
                    <a:pt x="1924" y="313"/>
                  </a:lnTo>
                  <a:lnTo>
                    <a:pt x="2136" y="555"/>
                  </a:lnTo>
                  <a:lnTo>
                    <a:pt x="2153" y="687"/>
                  </a:lnTo>
                  <a:lnTo>
                    <a:pt x="2136" y="860"/>
                  </a:lnTo>
                  <a:lnTo>
                    <a:pt x="2083" y="1028"/>
                  </a:lnTo>
                  <a:lnTo>
                    <a:pt x="2074" y="1196"/>
                  </a:lnTo>
                  <a:lnTo>
                    <a:pt x="2065" y="1297"/>
                  </a:lnTo>
                  <a:lnTo>
                    <a:pt x="2065" y="1407"/>
                  </a:lnTo>
                  <a:lnTo>
                    <a:pt x="2052" y="1482"/>
                  </a:lnTo>
                  <a:lnTo>
                    <a:pt x="2004" y="1654"/>
                  </a:lnTo>
                  <a:lnTo>
                    <a:pt x="2074" y="1628"/>
                  </a:lnTo>
                  <a:lnTo>
                    <a:pt x="2140" y="1500"/>
                  </a:lnTo>
                  <a:lnTo>
                    <a:pt x="2198" y="1442"/>
                  </a:lnTo>
                  <a:lnTo>
                    <a:pt x="2259" y="1200"/>
                  </a:lnTo>
                  <a:lnTo>
                    <a:pt x="2259" y="940"/>
                  </a:lnTo>
                  <a:lnTo>
                    <a:pt x="2224" y="705"/>
                  </a:lnTo>
                  <a:lnTo>
                    <a:pt x="2193" y="595"/>
                  </a:lnTo>
                  <a:lnTo>
                    <a:pt x="2074" y="405"/>
                  </a:lnTo>
                  <a:lnTo>
                    <a:pt x="1977" y="273"/>
                  </a:lnTo>
                  <a:lnTo>
                    <a:pt x="1832" y="154"/>
                  </a:lnTo>
                  <a:lnTo>
                    <a:pt x="1619" y="92"/>
                  </a:lnTo>
                  <a:lnTo>
                    <a:pt x="1368" y="26"/>
                  </a:lnTo>
                  <a:lnTo>
                    <a:pt x="1063" y="0"/>
                  </a:lnTo>
                  <a:lnTo>
                    <a:pt x="768" y="8"/>
                  </a:lnTo>
                  <a:lnTo>
                    <a:pt x="511" y="114"/>
                  </a:lnTo>
                  <a:lnTo>
                    <a:pt x="348" y="242"/>
                  </a:lnTo>
                  <a:lnTo>
                    <a:pt x="176" y="313"/>
                  </a:lnTo>
                  <a:lnTo>
                    <a:pt x="97" y="436"/>
                  </a:lnTo>
                  <a:lnTo>
                    <a:pt x="0" y="665"/>
                  </a:lnTo>
                  <a:lnTo>
                    <a:pt x="0" y="935"/>
                  </a:lnTo>
                  <a:lnTo>
                    <a:pt x="39" y="1196"/>
                  </a:lnTo>
                  <a:lnTo>
                    <a:pt x="52" y="1416"/>
                  </a:lnTo>
                  <a:lnTo>
                    <a:pt x="83" y="1500"/>
                  </a:lnTo>
                  <a:lnTo>
                    <a:pt x="149" y="1597"/>
                  </a:lnTo>
                  <a:lnTo>
                    <a:pt x="167" y="1694"/>
                  </a:lnTo>
                  <a:lnTo>
                    <a:pt x="189" y="1654"/>
                  </a:lnTo>
                  <a:lnTo>
                    <a:pt x="202" y="1495"/>
                  </a:lnTo>
                  <a:lnTo>
                    <a:pt x="136" y="1284"/>
                  </a:lnTo>
                  <a:lnTo>
                    <a:pt x="123" y="1063"/>
                  </a:lnTo>
                  <a:lnTo>
                    <a:pt x="176" y="860"/>
                  </a:lnTo>
                  <a:lnTo>
                    <a:pt x="189" y="652"/>
                  </a:lnTo>
                  <a:lnTo>
                    <a:pt x="216" y="493"/>
                  </a:lnTo>
                  <a:lnTo>
                    <a:pt x="282" y="423"/>
                  </a:lnTo>
                  <a:lnTo>
                    <a:pt x="436" y="34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501920" y="1023840"/>
              <a:ext cx="265320" cy="194040"/>
            </a:xfrm>
            <a:custGeom>
              <a:avLst/>
              <a:gdLst/>
              <a:ahLst/>
              <a:rect l="0" t="0" r="r" b="b"/>
              <a:pathLst>
                <a:path fill="none" w="737" h="539">
                  <a:moveTo>
                    <a:pt x="697" y="52"/>
                  </a:moveTo>
                  <a:lnTo>
                    <a:pt x="737" y="181"/>
                  </a:lnTo>
                  <a:lnTo>
                    <a:pt x="684" y="447"/>
                  </a:lnTo>
                  <a:lnTo>
                    <a:pt x="516" y="539"/>
                  </a:lnTo>
                  <a:lnTo>
                    <a:pt x="97" y="513"/>
                  </a:lnTo>
                  <a:lnTo>
                    <a:pt x="0" y="367"/>
                  </a:lnTo>
                  <a:lnTo>
                    <a:pt x="39" y="88"/>
                  </a:lnTo>
                  <a:lnTo>
                    <a:pt x="114" y="0"/>
                  </a:lnTo>
                  <a:lnTo>
                    <a:pt x="697" y="5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851120" y="1046160"/>
              <a:ext cx="259200" cy="201960"/>
            </a:xfrm>
            <a:custGeom>
              <a:avLst/>
              <a:gdLst/>
              <a:ahLst/>
              <a:rect l="0" t="0" r="r" b="b"/>
              <a:pathLst>
                <a:path fill="none" w="720" h="561">
                  <a:moveTo>
                    <a:pt x="26" y="119"/>
                  </a:moveTo>
                  <a:lnTo>
                    <a:pt x="0" y="415"/>
                  </a:lnTo>
                  <a:lnTo>
                    <a:pt x="119" y="516"/>
                  </a:lnTo>
                  <a:lnTo>
                    <a:pt x="588" y="561"/>
                  </a:lnTo>
                  <a:lnTo>
                    <a:pt x="685" y="464"/>
                  </a:lnTo>
                  <a:lnTo>
                    <a:pt x="720" y="149"/>
                  </a:lnTo>
                  <a:lnTo>
                    <a:pt x="667" y="30"/>
                  </a:lnTo>
                  <a:lnTo>
                    <a:pt x="119" y="0"/>
                  </a:lnTo>
                  <a:lnTo>
                    <a:pt x="26" y="119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1770120" y="1104840"/>
              <a:ext cx="89280" cy="25920"/>
            </a:xfrm>
            <a:custGeom>
              <a:avLst/>
              <a:gdLst/>
              <a:ahLst/>
              <a:rect l="0" t="0" r="r" b="b"/>
              <a:pathLst>
                <a:path fill="none" w="248" h="72">
                  <a:moveTo>
                    <a:pt x="0" y="63"/>
                  </a:moveTo>
                  <a:lnTo>
                    <a:pt x="111" y="0"/>
                  </a:lnTo>
                  <a:lnTo>
                    <a:pt x="248" y="7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822320" y="1046160"/>
              <a:ext cx="1800" cy="144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409760" y="1028880"/>
              <a:ext cx="101880" cy="33840"/>
            </a:xfrm>
            <a:custGeom>
              <a:avLst/>
              <a:gdLst/>
              <a:ahLst/>
              <a:rect l="0" t="0" r="r" b="b"/>
              <a:pathLst>
                <a:path fill="none" w="283" h="94">
                  <a:moveTo>
                    <a:pt x="283" y="94"/>
                  </a:moveTo>
                  <a:lnTo>
                    <a:pt x="105" y="4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 flipV="1">
              <a:off x="2149560" y="958680"/>
              <a:ext cx="0" cy="22392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301840" y="2381400"/>
              <a:ext cx="62280" cy="117720"/>
            </a:xfrm>
            <a:custGeom>
              <a:avLst/>
              <a:gdLst/>
              <a:ahLst/>
              <a:rect l="0" t="0" r="r" b="b"/>
              <a:pathLst>
                <a:path w="173" h="327">
                  <a:moveTo>
                    <a:pt x="173" y="318"/>
                  </a:moveTo>
                  <a:lnTo>
                    <a:pt x="17" y="0"/>
                  </a:lnTo>
                  <a:lnTo>
                    <a:pt x="0" y="57"/>
                  </a:lnTo>
                  <a:lnTo>
                    <a:pt x="53" y="208"/>
                  </a:lnTo>
                  <a:lnTo>
                    <a:pt x="67" y="327"/>
                  </a:lnTo>
                  <a:lnTo>
                    <a:pt x="173" y="31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395440" y="250344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27" y="0"/>
                  </a:moveTo>
                  <a:lnTo>
                    <a:pt x="68" y="23"/>
                  </a:lnTo>
                  <a:lnTo>
                    <a:pt x="76" y="72"/>
                  </a:lnTo>
                  <a:lnTo>
                    <a:pt x="0" y="2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87600" y="2519280"/>
              <a:ext cx="43200" cy="25920"/>
            </a:xfrm>
            <a:custGeom>
              <a:avLst/>
              <a:gdLst/>
              <a:ahLst/>
              <a:rect l="0" t="0" r="r" b="b"/>
              <a:pathLst>
                <a:path w="120" h="72">
                  <a:moveTo>
                    <a:pt x="0" y="31"/>
                  </a:moveTo>
                  <a:lnTo>
                    <a:pt x="0" y="8"/>
                  </a:lnTo>
                  <a:lnTo>
                    <a:pt x="75" y="0"/>
                  </a:lnTo>
                  <a:lnTo>
                    <a:pt x="120" y="7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590920" y="2495520"/>
              <a:ext cx="38520" cy="25920"/>
            </a:xfrm>
            <a:custGeom>
              <a:avLst/>
              <a:gdLst/>
              <a:ahLst/>
              <a:rect l="0" t="0" r="r" b="b"/>
              <a:pathLst>
                <a:path w="107" h="72">
                  <a:moveTo>
                    <a:pt x="0" y="27"/>
                  </a:moveTo>
                  <a:lnTo>
                    <a:pt x="67" y="0"/>
                  </a:lnTo>
                  <a:lnTo>
                    <a:pt x="90" y="27"/>
                  </a:lnTo>
                  <a:lnTo>
                    <a:pt x="107" y="72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652840" y="2422440"/>
              <a:ext cx="46440" cy="25920"/>
            </a:xfrm>
            <a:custGeom>
              <a:avLst/>
              <a:gdLst/>
              <a:ahLst/>
              <a:rect l="0" t="0" r="r" b="b"/>
              <a:pathLst>
                <a:path w="129" h="72">
                  <a:moveTo>
                    <a:pt x="22" y="72"/>
                  </a:moveTo>
                  <a:lnTo>
                    <a:pt x="0" y="17"/>
                  </a:lnTo>
                  <a:lnTo>
                    <a:pt x="36" y="0"/>
                  </a:lnTo>
                  <a:lnTo>
                    <a:pt x="129" y="17"/>
                  </a:lnTo>
                  <a:lnTo>
                    <a:pt x="22" y="7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478240" y="2013120"/>
              <a:ext cx="28800" cy="52920"/>
            </a:xfrm>
            <a:custGeom>
              <a:avLst/>
              <a:gdLst/>
              <a:ahLst/>
              <a:rect l="0" t="0" r="r" b="b"/>
              <a:pathLst>
                <a:path w="80" h="147">
                  <a:moveTo>
                    <a:pt x="0" y="0"/>
                  </a:moveTo>
                  <a:lnTo>
                    <a:pt x="17" y="84"/>
                  </a:lnTo>
                  <a:lnTo>
                    <a:pt x="17" y="147"/>
                  </a:lnTo>
                  <a:lnTo>
                    <a:pt x="80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717640" y="2232000"/>
              <a:ext cx="90720" cy="39960"/>
            </a:xfrm>
            <a:custGeom>
              <a:avLst/>
              <a:gdLst/>
              <a:ahLst/>
              <a:rect l="0" t="0" r="r" b="b"/>
              <a:pathLst>
                <a:path w="252" h="111">
                  <a:moveTo>
                    <a:pt x="0" y="106"/>
                  </a:moveTo>
                  <a:lnTo>
                    <a:pt x="39" y="67"/>
                  </a:lnTo>
                  <a:lnTo>
                    <a:pt x="70" y="0"/>
                  </a:lnTo>
                  <a:lnTo>
                    <a:pt x="114" y="44"/>
                  </a:lnTo>
                  <a:lnTo>
                    <a:pt x="252" y="52"/>
                  </a:lnTo>
                  <a:lnTo>
                    <a:pt x="177" y="80"/>
                  </a:lnTo>
                  <a:lnTo>
                    <a:pt x="17" y="111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354400" y="207180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72" y="0"/>
                  </a:moveTo>
                  <a:lnTo>
                    <a:pt x="53" y="107"/>
                  </a:lnTo>
                  <a:lnTo>
                    <a:pt x="0" y="99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463840" y="2082960"/>
              <a:ext cx="6502320" cy="4064040"/>
            </a:xfrm>
            <a:prstGeom prst="rect">
              <a:avLst/>
            </a:prstGeom>
            <a:solidFill>
              <a:srgbClr val="ffffff"/>
            </a:solidFill>
            <a:ln w="152280">
              <a:solidFill>
                <a:srgbClr val="996633"/>
              </a:solidFill>
              <a:round/>
            </a:ln>
          </p:spPr>
          <p:txBody>
            <a:bodyPr lIns="165960" rIns="165960" tIns="120960" bIns="12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247840" y="1974960"/>
              <a:ext cx="717840" cy="605160"/>
            </a:xfrm>
            <a:custGeom>
              <a:avLst/>
              <a:gdLst/>
              <a:ahLst/>
              <a:rect l="0" t="0" r="r" b="b"/>
              <a:pathLst>
                <a:path w="1994" h="1681">
                  <a:moveTo>
                    <a:pt x="1711" y="0"/>
                  </a:moveTo>
                  <a:lnTo>
                    <a:pt x="1808" y="70"/>
                  </a:lnTo>
                  <a:lnTo>
                    <a:pt x="1875" y="171"/>
                  </a:lnTo>
                  <a:lnTo>
                    <a:pt x="1954" y="317"/>
                  </a:lnTo>
                  <a:lnTo>
                    <a:pt x="1994" y="480"/>
                  </a:lnTo>
                  <a:lnTo>
                    <a:pt x="1985" y="621"/>
                  </a:lnTo>
                  <a:lnTo>
                    <a:pt x="1659" y="687"/>
                  </a:lnTo>
                  <a:lnTo>
                    <a:pt x="1588" y="767"/>
                  </a:lnTo>
                  <a:lnTo>
                    <a:pt x="1482" y="811"/>
                  </a:lnTo>
                  <a:lnTo>
                    <a:pt x="1310" y="865"/>
                  </a:lnTo>
                  <a:lnTo>
                    <a:pt x="1293" y="1085"/>
                  </a:lnTo>
                  <a:lnTo>
                    <a:pt x="1341" y="1257"/>
                  </a:lnTo>
                  <a:lnTo>
                    <a:pt x="1293" y="1376"/>
                  </a:lnTo>
                  <a:lnTo>
                    <a:pt x="1173" y="1390"/>
                  </a:lnTo>
                  <a:lnTo>
                    <a:pt x="1099" y="1275"/>
                  </a:lnTo>
                  <a:lnTo>
                    <a:pt x="1103" y="1350"/>
                  </a:lnTo>
                  <a:lnTo>
                    <a:pt x="1160" y="1526"/>
                  </a:lnTo>
                  <a:lnTo>
                    <a:pt x="1085" y="1632"/>
                  </a:lnTo>
                  <a:lnTo>
                    <a:pt x="1006" y="1645"/>
                  </a:lnTo>
                  <a:lnTo>
                    <a:pt x="934" y="1588"/>
                  </a:lnTo>
                  <a:lnTo>
                    <a:pt x="842" y="1442"/>
                  </a:lnTo>
                  <a:lnTo>
                    <a:pt x="868" y="1628"/>
                  </a:lnTo>
                  <a:lnTo>
                    <a:pt x="789" y="1681"/>
                  </a:lnTo>
                  <a:lnTo>
                    <a:pt x="696" y="1645"/>
                  </a:lnTo>
                  <a:lnTo>
                    <a:pt x="608" y="1553"/>
                  </a:lnTo>
                  <a:lnTo>
                    <a:pt x="582" y="1601"/>
                  </a:lnTo>
                  <a:lnTo>
                    <a:pt x="502" y="1601"/>
                  </a:lnTo>
                  <a:lnTo>
                    <a:pt x="432" y="1562"/>
                  </a:lnTo>
                  <a:lnTo>
                    <a:pt x="339" y="1482"/>
                  </a:lnTo>
                  <a:lnTo>
                    <a:pt x="176" y="1500"/>
                  </a:lnTo>
                  <a:lnTo>
                    <a:pt x="83" y="1495"/>
                  </a:lnTo>
                  <a:lnTo>
                    <a:pt x="35" y="1447"/>
                  </a:lnTo>
                  <a:lnTo>
                    <a:pt x="0" y="1376"/>
                  </a:lnTo>
                  <a:lnTo>
                    <a:pt x="35" y="1310"/>
                  </a:lnTo>
                  <a:lnTo>
                    <a:pt x="171" y="1165"/>
                  </a:lnTo>
                  <a:lnTo>
                    <a:pt x="66" y="1046"/>
                  </a:lnTo>
                  <a:lnTo>
                    <a:pt x="52" y="927"/>
                  </a:lnTo>
                  <a:lnTo>
                    <a:pt x="92" y="837"/>
                  </a:lnTo>
                  <a:lnTo>
                    <a:pt x="145" y="529"/>
                  </a:lnTo>
                  <a:lnTo>
                    <a:pt x="123" y="396"/>
                  </a:lnTo>
                  <a:lnTo>
                    <a:pt x="158" y="277"/>
                  </a:lnTo>
                  <a:lnTo>
                    <a:pt x="295" y="238"/>
                  </a:lnTo>
                  <a:lnTo>
                    <a:pt x="366" y="185"/>
                  </a:lnTo>
                  <a:lnTo>
                    <a:pt x="432" y="97"/>
                  </a:lnTo>
                  <a:lnTo>
                    <a:pt x="524" y="52"/>
                  </a:lnTo>
                  <a:lnTo>
                    <a:pt x="635" y="66"/>
                  </a:lnTo>
                  <a:lnTo>
                    <a:pt x="732" y="92"/>
                  </a:lnTo>
                  <a:lnTo>
                    <a:pt x="881" y="70"/>
                  </a:lnTo>
                  <a:lnTo>
                    <a:pt x="965" y="105"/>
                  </a:lnTo>
                  <a:lnTo>
                    <a:pt x="1160" y="132"/>
                  </a:lnTo>
                  <a:lnTo>
                    <a:pt x="1354" y="92"/>
                  </a:lnTo>
                  <a:lnTo>
                    <a:pt x="1711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593800" y="2171520"/>
              <a:ext cx="60840" cy="275040"/>
            </a:xfrm>
            <a:custGeom>
              <a:avLst/>
              <a:gdLst/>
              <a:ahLst/>
              <a:rect l="0" t="0" r="r" b="b"/>
              <a:pathLst>
                <a:path w="169" h="764">
                  <a:moveTo>
                    <a:pt x="120" y="703"/>
                  </a:moveTo>
                  <a:lnTo>
                    <a:pt x="67" y="534"/>
                  </a:lnTo>
                  <a:lnTo>
                    <a:pt x="35" y="384"/>
                  </a:lnTo>
                  <a:lnTo>
                    <a:pt x="62" y="230"/>
                  </a:lnTo>
                  <a:lnTo>
                    <a:pt x="67" y="101"/>
                  </a:lnTo>
                  <a:lnTo>
                    <a:pt x="169" y="0"/>
                  </a:lnTo>
                  <a:lnTo>
                    <a:pt x="71" y="52"/>
                  </a:lnTo>
                  <a:lnTo>
                    <a:pt x="45" y="35"/>
                  </a:lnTo>
                  <a:lnTo>
                    <a:pt x="45" y="141"/>
                  </a:lnTo>
                  <a:lnTo>
                    <a:pt x="13" y="384"/>
                  </a:lnTo>
                  <a:lnTo>
                    <a:pt x="0" y="433"/>
                  </a:lnTo>
                  <a:lnTo>
                    <a:pt x="106" y="764"/>
                  </a:lnTo>
                  <a:lnTo>
                    <a:pt x="120" y="70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467080" y="2146320"/>
              <a:ext cx="89280" cy="383040"/>
            </a:xfrm>
            <a:custGeom>
              <a:avLst/>
              <a:gdLst/>
              <a:ahLst/>
              <a:rect l="0" t="0" r="r" b="b"/>
              <a:pathLst>
                <a:path w="248" h="1064">
                  <a:moveTo>
                    <a:pt x="248" y="963"/>
                  </a:moveTo>
                  <a:lnTo>
                    <a:pt x="187" y="857"/>
                  </a:lnTo>
                  <a:lnTo>
                    <a:pt x="124" y="697"/>
                  </a:lnTo>
                  <a:lnTo>
                    <a:pt x="67" y="600"/>
                  </a:lnTo>
                  <a:lnTo>
                    <a:pt x="67" y="503"/>
                  </a:lnTo>
                  <a:lnTo>
                    <a:pt x="48" y="441"/>
                  </a:lnTo>
                  <a:lnTo>
                    <a:pt x="67" y="353"/>
                  </a:lnTo>
                  <a:lnTo>
                    <a:pt x="111" y="180"/>
                  </a:lnTo>
                  <a:lnTo>
                    <a:pt x="128" y="66"/>
                  </a:lnTo>
                  <a:lnTo>
                    <a:pt x="75" y="0"/>
                  </a:lnTo>
                  <a:lnTo>
                    <a:pt x="102" y="70"/>
                  </a:lnTo>
                  <a:lnTo>
                    <a:pt x="48" y="314"/>
                  </a:lnTo>
                  <a:lnTo>
                    <a:pt x="4" y="450"/>
                  </a:lnTo>
                  <a:lnTo>
                    <a:pt x="0" y="516"/>
                  </a:lnTo>
                  <a:lnTo>
                    <a:pt x="22" y="613"/>
                  </a:lnTo>
                  <a:lnTo>
                    <a:pt x="89" y="710"/>
                  </a:lnTo>
                  <a:lnTo>
                    <a:pt x="159" y="853"/>
                  </a:lnTo>
                  <a:lnTo>
                    <a:pt x="231" y="1064"/>
                  </a:lnTo>
                  <a:lnTo>
                    <a:pt x="248" y="96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359080" y="2152800"/>
              <a:ext cx="103680" cy="375120"/>
            </a:xfrm>
            <a:custGeom>
              <a:avLst/>
              <a:gdLst/>
              <a:ahLst/>
              <a:rect l="0" t="0" r="r" b="b"/>
              <a:pathLst>
                <a:path w="288" h="1042">
                  <a:moveTo>
                    <a:pt x="253" y="1042"/>
                  </a:moveTo>
                  <a:lnTo>
                    <a:pt x="288" y="1029"/>
                  </a:lnTo>
                  <a:lnTo>
                    <a:pt x="212" y="861"/>
                  </a:lnTo>
                  <a:lnTo>
                    <a:pt x="89" y="666"/>
                  </a:lnTo>
                  <a:lnTo>
                    <a:pt x="35" y="569"/>
                  </a:lnTo>
                  <a:lnTo>
                    <a:pt x="35" y="486"/>
                  </a:lnTo>
                  <a:lnTo>
                    <a:pt x="61" y="397"/>
                  </a:lnTo>
                  <a:lnTo>
                    <a:pt x="61" y="233"/>
                  </a:lnTo>
                  <a:lnTo>
                    <a:pt x="70" y="123"/>
                  </a:lnTo>
                  <a:lnTo>
                    <a:pt x="48" y="39"/>
                  </a:lnTo>
                  <a:lnTo>
                    <a:pt x="4" y="0"/>
                  </a:lnTo>
                  <a:lnTo>
                    <a:pt x="35" y="97"/>
                  </a:lnTo>
                  <a:lnTo>
                    <a:pt x="39" y="194"/>
                  </a:lnTo>
                  <a:lnTo>
                    <a:pt x="35" y="384"/>
                  </a:lnTo>
                  <a:lnTo>
                    <a:pt x="13" y="464"/>
                  </a:lnTo>
                  <a:lnTo>
                    <a:pt x="0" y="556"/>
                  </a:lnTo>
                  <a:lnTo>
                    <a:pt x="66" y="706"/>
                  </a:lnTo>
                  <a:lnTo>
                    <a:pt x="115" y="763"/>
                  </a:lnTo>
                  <a:lnTo>
                    <a:pt x="253" y="104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633760" y="2062080"/>
              <a:ext cx="73440" cy="60840"/>
            </a:xfrm>
            <a:custGeom>
              <a:avLst/>
              <a:gdLst/>
              <a:ahLst/>
              <a:rect l="0" t="0" r="r" b="b"/>
              <a:pathLst>
                <a:path w="204" h="169">
                  <a:moveTo>
                    <a:pt x="0" y="0"/>
                  </a:moveTo>
                  <a:lnTo>
                    <a:pt x="22" y="35"/>
                  </a:lnTo>
                  <a:lnTo>
                    <a:pt x="146" y="45"/>
                  </a:lnTo>
                  <a:lnTo>
                    <a:pt x="169" y="89"/>
                  </a:lnTo>
                  <a:lnTo>
                    <a:pt x="204" y="169"/>
                  </a:lnTo>
                  <a:lnTo>
                    <a:pt x="191" y="45"/>
                  </a:lnTo>
                  <a:lnTo>
                    <a:pt x="156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"/>
            <p:cNvSpPr txBox="1"/>
            <p:nvPr/>
          </p:nvSpPr>
          <p:spPr>
            <a:xfrm>
              <a:off x="2743200" y="2133720"/>
              <a:ext cx="6323040" cy="396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1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State how managers use operating cost  information and product costs in the management cycle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2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Define and give examples of the three elements of product cost and compute a product’s unit cost for a manufacturing organization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3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Describe the flow of product-related activities, documents, and costs through the Materials Inventory, Work in Process Inventory, and Finished Goods Inventory account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67" name="" descr=""/>
            <p:cNvPicPr/>
            <p:nvPr/>
          </p:nvPicPr>
          <p:blipFill>
            <a:blip r:embed="rId1"/>
            <a:stretch/>
          </p:blipFill>
          <p:spPr>
            <a:xfrm>
              <a:off x="2362320" y="304920"/>
              <a:ext cx="5780160" cy="163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8" name=""/>
            <p:cNvSpPr txBox="1"/>
            <p:nvPr/>
          </p:nvSpPr>
          <p:spPr>
            <a:xfrm>
              <a:off x="3124080" y="533520"/>
              <a:ext cx="401328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K, LET’S REVIEW . . 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"/>
          <p:cNvGrpSpPr/>
          <p:nvPr/>
        </p:nvGrpSpPr>
        <p:grpSpPr>
          <a:xfrm>
            <a:off x="228600" y="228600"/>
            <a:ext cx="8737560" cy="6091200"/>
            <a:chOff x="228600" y="228600"/>
            <a:chExt cx="8737560" cy="6091200"/>
          </a:xfrm>
        </p:grpSpPr>
        <p:sp>
          <p:nvSpPr>
            <p:cNvPr id="970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274920" y="57117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274920" y="57117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274920" y="57117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274920" y="57117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274920" y="57117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274920" y="57117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274920" y="57117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274920" y="57117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274920" y="57117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04920" y="5862600"/>
              <a:ext cx="29811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274920" y="57117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28600" y="586260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19280" y="4214880"/>
              <a:ext cx="437040" cy="1016280"/>
            </a:xfrm>
            <a:custGeom>
              <a:avLst/>
              <a:gdLst/>
              <a:ahLst/>
              <a:rect l="0" t="0" r="r" b="b"/>
              <a:pathLst>
                <a:path w="1214" h="2823">
                  <a:moveTo>
                    <a:pt x="569" y="0"/>
                  </a:moveTo>
                  <a:lnTo>
                    <a:pt x="419" y="449"/>
                  </a:lnTo>
                  <a:lnTo>
                    <a:pt x="309" y="714"/>
                  </a:lnTo>
                  <a:lnTo>
                    <a:pt x="119" y="1062"/>
                  </a:lnTo>
                  <a:lnTo>
                    <a:pt x="35" y="1168"/>
                  </a:lnTo>
                  <a:lnTo>
                    <a:pt x="8" y="1270"/>
                  </a:lnTo>
                  <a:lnTo>
                    <a:pt x="0" y="1367"/>
                  </a:lnTo>
                  <a:lnTo>
                    <a:pt x="48" y="1495"/>
                  </a:lnTo>
                  <a:lnTo>
                    <a:pt x="48" y="1791"/>
                  </a:lnTo>
                  <a:lnTo>
                    <a:pt x="22" y="1963"/>
                  </a:lnTo>
                  <a:lnTo>
                    <a:pt x="22" y="2073"/>
                  </a:lnTo>
                  <a:lnTo>
                    <a:pt x="92" y="2197"/>
                  </a:lnTo>
                  <a:lnTo>
                    <a:pt x="189" y="2439"/>
                  </a:lnTo>
                  <a:lnTo>
                    <a:pt x="198" y="2571"/>
                  </a:lnTo>
                  <a:lnTo>
                    <a:pt x="255" y="2770"/>
                  </a:lnTo>
                  <a:lnTo>
                    <a:pt x="309" y="2823"/>
                  </a:lnTo>
                  <a:lnTo>
                    <a:pt x="367" y="2796"/>
                  </a:lnTo>
                  <a:lnTo>
                    <a:pt x="437" y="2823"/>
                  </a:lnTo>
                  <a:lnTo>
                    <a:pt x="499" y="2787"/>
                  </a:lnTo>
                  <a:lnTo>
                    <a:pt x="543" y="2704"/>
                  </a:lnTo>
                  <a:lnTo>
                    <a:pt x="600" y="2651"/>
                  </a:lnTo>
                  <a:lnTo>
                    <a:pt x="627" y="2558"/>
                  </a:lnTo>
                  <a:lnTo>
                    <a:pt x="609" y="2461"/>
                  </a:lnTo>
                  <a:lnTo>
                    <a:pt x="662" y="2492"/>
                  </a:lnTo>
                  <a:lnTo>
                    <a:pt x="710" y="2443"/>
                  </a:lnTo>
                  <a:lnTo>
                    <a:pt x="746" y="2338"/>
                  </a:lnTo>
                  <a:lnTo>
                    <a:pt x="785" y="2280"/>
                  </a:lnTo>
                  <a:lnTo>
                    <a:pt x="785" y="2205"/>
                  </a:lnTo>
                  <a:lnTo>
                    <a:pt x="706" y="2095"/>
                  </a:lnTo>
                  <a:lnTo>
                    <a:pt x="759" y="1910"/>
                  </a:lnTo>
                  <a:lnTo>
                    <a:pt x="941" y="1672"/>
                  </a:lnTo>
                  <a:lnTo>
                    <a:pt x="1157" y="1018"/>
                  </a:lnTo>
                  <a:lnTo>
                    <a:pt x="1183" y="436"/>
                  </a:lnTo>
                  <a:lnTo>
                    <a:pt x="1214" y="66"/>
                  </a:lnTo>
                  <a:lnTo>
                    <a:pt x="569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85880" y="4705200"/>
              <a:ext cx="149760" cy="511560"/>
            </a:xfrm>
            <a:custGeom>
              <a:avLst/>
              <a:gdLst/>
              <a:ahLst/>
              <a:rect l="0" t="0" r="r" b="b"/>
              <a:pathLst>
                <a:path w="416" h="1421">
                  <a:moveTo>
                    <a:pt x="177" y="0"/>
                  </a:moveTo>
                  <a:lnTo>
                    <a:pt x="190" y="105"/>
                  </a:lnTo>
                  <a:lnTo>
                    <a:pt x="234" y="194"/>
                  </a:lnTo>
                  <a:lnTo>
                    <a:pt x="190" y="428"/>
                  </a:lnTo>
                  <a:lnTo>
                    <a:pt x="155" y="561"/>
                  </a:lnTo>
                  <a:lnTo>
                    <a:pt x="168" y="693"/>
                  </a:lnTo>
                  <a:lnTo>
                    <a:pt x="203" y="763"/>
                  </a:lnTo>
                  <a:lnTo>
                    <a:pt x="243" y="869"/>
                  </a:lnTo>
                  <a:lnTo>
                    <a:pt x="243" y="975"/>
                  </a:lnTo>
                  <a:lnTo>
                    <a:pt x="296" y="1077"/>
                  </a:lnTo>
                  <a:lnTo>
                    <a:pt x="398" y="1082"/>
                  </a:lnTo>
                  <a:lnTo>
                    <a:pt x="416" y="1227"/>
                  </a:lnTo>
                  <a:lnTo>
                    <a:pt x="345" y="1302"/>
                  </a:lnTo>
                  <a:lnTo>
                    <a:pt x="256" y="1421"/>
                  </a:lnTo>
                  <a:lnTo>
                    <a:pt x="190" y="1408"/>
                  </a:lnTo>
                  <a:lnTo>
                    <a:pt x="128" y="1404"/>
                  </a:lnTo>
                  <a:lnTo>
                    <a:pt x="172" y="1188"/>
                  </a:lnTo>
                  <a:lnTo>
                    <a:pt x="168" y="1069"/>
                  </a:lnTo>
                  <a:lnTo>
                    <a:pt x="106" y="1024"/>
                  </a:lnTo>
                  <a:lnTo>
                    <a:pt x="155" y="1019"/>
                  </a:lnTo>
                  <a:lnTo>
                    <a:pt x="115" y="843"/>
                  </a:lnTo>
                  <a:lnTo>
                    <a:pt x="30" y="772"/>
                  </a:lnTo>
                  <a:lnTo>
                    <a:pt x="79" y="737"/>
                  </a:lnTo>
                  <a:lnTo>
                    <a:pt x="0" y="662"/>
                  </a:lnTo>
                  <a:lnTo>
                    <a:pt x="39" y="666"/>
                  </a:lnTo>
                  <a:lnTo>
                    <a:pt x="92" y="494"/>
                  </a:lnTo>
                  <a:lnTo>
                    <a:pt x="142" y="317"/>
                  </a:lnTo>
                  <a:lnTo>
                    <a:pt x="79" y="264"/>
                  </a:lnTo>
                  <a:lnTo>
                    <a:pt x="142" y="277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963720" y="4289400"/>
              <a:ext cx="179640" cy="652680"/>
            </a:xfrm>
            <a:custGeom>
              <a:avLst/>
              <a:gdLst/>
              <a:ahLst/>
              <a:rect l="0" t="0" r="r" b="b"/>
              <a:pathLst>
                <a:path w="499" h="1813">
                  <a:moveTo>
                    <a:pt x="8" y="1813"/>
                  </a:moveTo>
                  <a:lnTo>
                    <a:pt x="0" y="1663"/>
                  </a:lnTo>
                  <a:lnTo>
                    <a:pt x="57" y="1487"/>
                  </a:lnTo>
                  <a:lnTo>
                    <a:pt x="211" y="1262"/>
                  </a:lnTo>
                  <a:lnTo>
                    <a:pt x="256" y="1068"/>
                  </a:lnTo>
                  <a:lnTo>
                    <a:pt x="238" y="881"/>
                  </a:lnTo>
                  <a:lnTo>
                    <a:pt x="167" y="745"/>
                  </a:lnTo>
                  <a:lnTo>
                    <a:pt x="35" y="639"/>
                  </a:lnTo>
                  <a:lnTo>
                    <a:pt x="167" y="701"/>
                  </a:lnTo>
                  <a:lnTo>
                    <a:pt x="127" y="573"/>
                  </a:lnTo>
                  <a:lnTo>
                    <a:pt x="207" y="635"/>
                  </a:lnTo>
                  <a:lnTo>
                    <a:pt x="163" y="410"/>
                  </a:lnTo>
                  <a:lnTo>
                    <a:pt x="261" y="13"/>
                  </a:lnTo>
                  <a:lnTo>
                    <a:pt x="499" y="0"/>
                  </a:lnTo>
                  <a:lnTo>
                    <a:pt x="477" y="260"/>
                  </a:lnTo>
                  <a:lnTo>
                    <a:pt x="450" y="811"/>
                  </a:lnTo>
                  <a:lnTo>
                    <a:pt x="274" y="1403"/>
                  </a:lnTo>
                  <a:lnTo>
                    <a:pt x="194" y="1522"/>
                  </a:lnTo>
                  <a:lnTo>
                    <a:pt x="101" y="1663"/>
                  </a:lnTo>
                  <a:lnTo>
                    <a:pt x="8" y="18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888840" y="5002200"/>
              <a:ext cx="49680" cy="25920"/>
            </a:xfrm>
            <a:custGeom>
              <a:avLst/>
              <a:gdLst/>
              <a:ahLst/>
              <a:rect l="0" t="0" r="r" b="b"/>
              <a:pathLst>
                <a:path w="138" h="72">
                  <a:moveTo>
                    <a:pt x="0" y="40"/>
                  </a:moveTo>
                  <a:lnTo>
                    <a:pt x="22" y="8"/>
                  </a:lnTo>
                  <a:lnTo>
                    <a:pt x="93" y="0"/>
                  </a:lnTo>
                  <a:lnTo>
                    <a:pt x="129" y="27"/>
                  </a:lnTo>
                  <a:lnTo>
                    <a:pt x="138" y="72"/>
                  </a:lnTo>
                  <a:lnTo>
                    <a:pt x="93" y="3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942840" y="4975200"/>
              <a:ext cx="51120" cy="122760"/>
            </a:xfrm>
            <a:custGeom>
              <a:avLst/>
              <a:gdLst/>
              <a:ahLst/>
              <a:rect l="0" t="0" r="r" b="b"/>
              <a:pathLst>
                <a:path w="142" h="341">
                  <a:moveTo>
                    <a:pt x="66" y="0"/>
                  </a:moveTo>
                  <a:lnTo>
                    <a:pt x="66" y="93"/>
                  </a:lnTo>
                  <a:lnTo>
                    <a:pt x="57" y="217"/>
                  </a:lnTo>
                  <a:lnTo>
                    <a:pt x="0" y="319"/>
                  </a:lnTo>
                  <a:lnTo>
                    <a:pt x="35" y="341"/>
                  </a:lnTo>
                  <a:lnTo>
                    <a:pt x="57" y="328"/>
                  </a:lnTo>
                  <a:lnTo>
                    <a:pt x="70" y="297"/>
                  </a:lnTo>
                  <a:lnTo>
                    <a:pt x="93" y="247"/>
                  </a:lnTo>
                  <a:lnTo>
                    <a:pt x="93" y="230"/>
                  </a:lnTo>
                  <a:lnTo>
                    <a:pt x="128" y="186"/>
                  </a:lnTo>
                  <a:lnTo>
                    <a:pt x="137" y="155"/>
                  </a:lnTo>
                  <a:lnTo>
                    <a:pt x="142" y="106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057320" y="3708360"/>
              <a:ext cx="1676880" cy="1211760"/>
            </a:xfrm>
            <a:custGeom>
              <a:avLst/>
              <a:gdLst/>
              <a:ahLst/>
              <a:rect l="0" t="0" r="r" b="b"/>
              <a:pathLst>
                <a:path w="4658" h="3366">
                  <a:moveTo>
                    <a:pt x="652" y="198"/>
                  </a:moveTo>
                  <a:lnTo>
                    <a:pt x="463" y="1301"/>
                  </a:lnTo>
                  <a:lnTo>
                    <a:pt x="189" y="2122"/>
                  </a:lnTo>
                  <a:lnTo>
                    <a:pt x="0" y="3366"/>
                  </a:lnTo>
                  <a:lnTo>
                    <a:pt x="4469" y="3366"/>
                  </a:lnTo>
                  <a:lnTo>
                    <a:pt x="4658" y="1950"/>
                  </a:lnTo>
                  <a:lnTo>
                    <a:pt x="4658" y="904"/>
                  </a:lnTo>
                  <a:lnTo>
                    <a:pt x="4521" y="0"/>
                  </a:lnTo>
                  <a:lnTo>
                    <a:pt x="652" y="198"/>
                  </a:lnTo>
                  <a:close/>
                </a:path>
              </a:pathLst>
            </a:custGeom>
            <a:solidFill>
              <a:srgbClr val="201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074600" y="3809880"/>
              <a:ext cx="1603800" cy="1010160"/>
            </a:xfrm>
            <a:custGeom>
              <a:avLst/>
              <a:gdLst/>
              <a:ahLst/>
              <a:rect l="0" t="0" r="r" b="b"/>
              <a:pathLst>
                <a:path w="4455" h="2806">
                  <a:moveTo>
                    <a:pt x="687" y="79"/>
                  </a:moveTo>
                  <a:lnTo>
                    <a:pt x="1031" y="260"/>
                  </a:lnTo>
                  <a:lnTo>
                    <a:pt x="974" y="485"/>
                  </a:lnTo>
                  <a:lnTo>
                    <a:pt x="1058" y="537"/>
                  </a:lnTo>
                  <a:lnTo>
                    <a:pt x="1147" y="299"/>
                  </a:lnTo>
                  <a:lnTo>
                    <a:pt x="1465" y="392"/>
                  </a:lnTo>
                  <a:lnTo>
                    <a:pt x="1950" y="432"/>
                  </a:lnTo>
                  <a:lnTo>
                    <a:pt x="2329" y="944"/>
                  </a:lnTo>
                  <a:lnTo>
                    <a:pt x="2505" y="418"/>
                  </a:lnTo>
                  <a:lnTo>
                    <a:pt x="3264" y="418"/>
                  </a:lnTo>
                  <a:lnTo>
                    <a:pt x="3250" y="683"/>
                  </a:lnTo>
                  <a:lnTo>
                    <a:pt x="3357" y="670"/>
                  </a:lnTo>
                  <a:lnTo>
                    <a:pt x="3384" y="418"/>
                  </a:lnTo>
                  <a:lnTo>
                    <a:pt x="3794" y="379"/>
                  </a:lnTo>
                  <a:lnTo>
                    <a:pt x="4169" y="233"/>
                  </a:lnTo>
                  <a:lnTo>
                    <a:pt x="4402" y="0"/>
                  </a:lnTo>
                  <a:lnTo>
                    <a:pt x="4239" y="485"/>
                  </a:lnTo>
                  <a:lnTo>
                    <a:pt x="4089" y="838"/>
                  </a:lnTo>
                  <a:lnTo>
                    <a:pt x="3913" y="719"/>
                  </a:lnTo>
                  <a:lnTo>
                    <a:pt x="4129" y="1169"/>
                  </a:lnTo>
                  <a:lnTo>
                    <a:pt x="4416" y="1416"/>
                  </a:lnTo>
                  <a:lnTo>
                    <a:pt x="4455" y="1954"/>
                  </a:lnTo>
                  <a:lnTo>
                    <a:pt x="4279" y="2806"/>
                  </a:lnTo>
                  <a:lnTo>
                    <a:pt x="2355" y="2766"/>
                  </a:lnTo>
                  <a:lnTo>
                    <a:pt x="3061" y="2559"/>
                  </a:lnTo>
                  <a:lnTo>
                    <a:pt x="3211" y="2202"/>
                  </a:lnTo>
                  <a:lnTo>
                    <a:pt x="2937" y="2506"/>
                  </a:lnTo>
                  <a:lnTo>
                    <a:pt x="2316" y="2806"/>
                  </a:lnTo>
                  <a:lnTo>
                    <a:pt x="2179" y="2295"/>
                  </a:lnTo>
                  <a:lnTo>
                    <a:pt x="2342" y="1742"/>
                  </a:lnTo>
                  <a:lnTo>
                    <a:pt x="2369" y="1337"/>
                  </a:lnTo>
                  <a:lnTo>
                    <a:pt x="2289" y="1350"/>
                  </a:lnTo>
                  <a:lnTo>
                    <a:pt x="2166" y="2281"/>
                  </a:lnTo>
                  <a:lnTo>
                    <a:pt x="2316" y="2766"/>
                  </a:lnTo>
                  <a:lnTo>
                    <a:pt x="1936" y="2793"/>
                  </a:lnTo>
                  <a:lnTo>
                    <a:pt x="1628" y="2727"/>
                  </a:lnTo>
                  <a:lnTo>
                    <a:pt x="1257" y="2334"/>
                  </a:lnTo>
                  <a:lnTo>
                    <a:pt x="1084" y="2162"/>
                  </a:lnTo>
                  <a:lnTo>
                    <a:pt x="1058" y="2308"/>
                  </a:lnTo>
                  <a:lnTo>
                    <a:pt x="1557" y="2766"/>
                  </a:lnTo>
                  <a:lnTo>
                    <a:pt x="1018" y="2780"/>
                  </a:lnTo>
                  <a:lnTo>
                    <a:pt x="0" y="2780"/>
                  </a:lnTo>
                  <a:lnTo>
                    <a:pt x="163" y="2295"/>
                  </a:lnTo>
                  <a:lnTo>
                    <a:pt x="189" y="1729"/>
                  </a:lnTo>
                  <a:lnTo>
                    <a:pt x="498" y="1689"/>
                  </a:lnTo>
                  <a:lnTo>
                    <a:pt x="868" y="1310"/>
                  </a:lnTo>
                  <a:lnTo>
                    <a:pt x="798" y="746"/>
                  </a:lnTo>
                  <a:lnTo>
                    <a:pt x="661" y="657"/>
                  </a:lnTo>
                  <a:lnTo>
                    <a:pt x="687" y="785"/>
                  </a:lnTo>
                  <a:lnTo>
                    <a:pt x="798" y="1169"/>
                  </a:lnTo>
                  <a:lnTo>
                    <a:pt x="674" y="1390"/>
                  </a:lnTo>
                  <a:lnTo>
                    <a:pt x="432" y="1628"/>
                  </a:lnTo>
                  <a:lnTo>
                    <a:pt x="286" y="1637"/>
                  </a:lnTo>
                  <a:lnTo>
                    <a:pt x="445" y="1116"/>
                  </a:lnTo>
                  <a:lnTo>
                    <a:pt x="511" y="746"/>
                  </a:lnTo>
                  <a:lnTo>
                    <a:pt x="687" y="79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570040" y="3852720"/>
              <a:ext cx="127440" cy="438480"/>
            </a:xfrm>
            <a:custGeom>
              <a:avLst/>
              <a:gdLst/>
              <a:ahLst/>
              <a:rect l="0" t="0" r="r" b="b"/>
              <a:pathLst>
                <a:path w="354" h="1218">
                  <a:moveTo>
                    <a:pt x="0" y="790"/>
                  </a:moveTo>
                  <a:lnTo>
                    <a:pt x="177" y="1076"/>
                  </a:lnTo>
                  <a:lnTo>
                    <a:pt x="319" y="1218"/>
                  </a:lnTo>
                  <a:lnTo>
                    <a:pt x="354" y="957"/>
                  </a:lnTo>
                  <a:lnTo>
                    <a:pt x="328" y="542"/>
                  </a:lnTo>
                  <a:lnTo>
                    <a:pt x="293" y="0"/>
                  </a:lnTo>
                  <a:lnTo>
                    <a:pt x="142" y="568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841320" y="1766880"/>
              <a:ext cx="3243600" cy="2583360"/>
            </a:xfrm>
            <a:custGeom>
              <a:avLst/>
              <a:gdLst/>
              <a:ahLst/>
              <a:rect l="0" t="0" r="r" b="b"/>
              <a:pathLst>
                <a:path w="9010" h="7176">
                  <a:moveTo>
                    <a:pt x="2204" y="343"/>
                  </a:moveTo>
                  <a:lnTo>
                    <a:pt x="2041" y="661"/>
                  </a:lnTo>
                  <a:lnTo>
                    <a:pt x="1468" y="926"/>
                  </a:lnTo>
                  <a:lnTo>
                    <a:pt x="978" y="1031"/>
                  </a:lnTo>
                  <a:lnTo>
                    <a:pt x="736" y="1217"/>
                  </a:lnTo>
                  <a:lnTo>
                    <a:pt x="515" y="1613"/>
                  </a:lnTo>
                  <a:lnTo>
                    <a:pt x="410" y="2223"/>
                  </a:lnTo>
                  <a:lnTo>
                    <a:pt x="326" y="3070"/>
                  </a:lnTo>
                  <a:lnTo>
                    <a:pt x="52" y="4150"/>
                  </a:lnTo>
                  <a:lnTo>
                    <a:pt x="0" y="5791"/>
                  </a:lnTo>
                  <a:lnTo>
                    <a:pt x="189" y="6453"/>
                  </a:lnTo>
                  <a:lnTo>
                    <a:pt x="132" y="6973"/>
                  </a:lnTo>
                  <a:lnTo>
                    <a:pt x="242" y="7079"/>
                  </a:lnTo>
                  <a:lnTo>
                    <a:pt x="617" y="7176"/>
                  </a:lnTo>
                  <a:lnTo>
                    <a:pt x="890" y="7136"/>
                  </a:lnTo>
                  <a:lnTo>
                    <a:pt x="1027" y="6726"/>
                  </a:lnTo>
                  <a:lnTo>
                    <a:pt x="1252" y="5606"/>
                  </a:lnTo>
                  <a:lnTo>
                    <a:pt x="2341" y="6003"/>
                  </a:lnTo>
                  <a:lnTo>
                    <a:pt x="3593" y="6030"/>
                  </a:lnTo>
                  <a:lnTo>
                    <a:pt x="4573" y="5924"/>
                  </a:lnTo>
                  <a:lnTo>
                    <a:pt x="4767" y="5686"/>
                  </a:lnTo>
                  <a:lnTo>
                    <a:pt x="5094" y="5421"/>
                  </a:lnTo>
                  <a:lnTo>
                    <a:pt x="5257" y="4997"/>
                  </a:lnTo>
                  <a:lnTo>
                    <a:pt x="5394" y="4547"/>
                  </a:lnTo>
                  <a:lnTo>
                    <a:pt x="5499" y="3833"/>
                  </a:lnTo>
                  <a:lnTo>
                    <a:pt x="5610" y="2964"/>
                  </a:lnTo>
                  <a:lnTo>
                    <a:pt x="6584" y="2382"/>
                  </a:lnTo>
                  <a:lnTo>
                    <a:pt x="7894" y="2197"/>
                  </a:lnTo>
                  <a:lnTo>
                    <a:pt x="8763" y="1879"/>
                  </a:lnTo>
                  <a:lnTo>
                    <a:pt x="9010" y="1322"/>
                  </a:lnTo>
                  <a:lnTo>
                    <a:pt x="8820" y="873"/>
                  </a:lnTo>
                  <a:lnTo>
                    <a:pt x="8084" y="529"/>
                  </a:lnTo>
                  <a:lnTo>
                    <a:pt x="7510" y="529"/>
                  </a:lnTo>
                  <a:lnTo>
                    <a:pt x="6994" y="608"/>
                  </a:lnTo>
                  <a:lnTo>
                    <a:pt x="6642" y="846"/>
                  </a:lnTo>
                  <a:lnTo>
                    <a:pt x="6042" y="978"/>
                  </a:lnTo>
                  <a:lnTo>
                    <a:pt x="5530" y="926"/>
                  </a:lnTo>
                  <a:lnTo>
                    <a:pt x="5283" y="793"/>
                  </a:lnTo>
                  <a:lnTo>
                    <a:pt x="4957" y="714"/>
                  </a:lnTo>
                  <a:lnTo>
                    <a:pt x="4493" y="687"/>
                  </a:lnTo>
                  <a:lnTo>
                    <a:pt x="4004" y="529"/>
                  </a:lnTo>
                  <a:lnTo>
                    <a:pt x="3783" y="79"/>
                  </a:lnTo>
                  <a:lnTo>
                    <a:pt x="2725" y="0"/>
                  </a:lnTo>
                  <a:lnTo>
                    <a:pt x="2204" y="343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695600" y="2052720"/>
              <a:ext cx="332280" cy="2037240"/>
            </a:xfrm>
            <a:custGeom>
              <a:avLst/>
              <a:gdLst/>
              <a:ahLst/>
              <a:rect l="0" t="0" r="r" b="b"/>
              <a:pathLst>
                <a:path w="923" h="5659">
                  <a:moveTo>
                    <a:pt x="309" y="74"/>
                  </a:moveTo>
                  <a:lnTo>
                    <a:pt x="499" y="0"/>
                  </a:lnTo>
                  <a:lnTo>
                    <a:pt x="773" y="35"/>
                  </a:lnTo>
                  <a:lnTo>
                    <a:pt x="791" y="291"/>
                  </a:lnTo>
                  <a:lnTo>
                    <a:pt x="658" y="498"/>
                  </a:lnTo>
                  <a:lnTo>
                    <a:pt x="844" y="2474"/>
                  </a:lnTo>
                  <a:lnTo>
                    <a:pt x="923" y="3683"/>
                  </a:lnTo>
                  <a:lnTo>
                    <a:pt x="870" y="4896"/>
                  </a:lnTo>
                  <a:lnTo>
                    <a:pt x="578" y="5659"/>
                  </a:lnTo>
                  <a:lnTo>
                    <a:pt x="39" y="4874"/>
                  </a:lnTo>
                  <a:lnTo>
                    <a:pt x="0" y="3952"/>
                  </a:lnTo>
                  <a:lnTo>
                    <a:pt x="39" y="3123"/>
                  </a:lnTo>
                  <a:lnTo>
                    <a:pt x="105" y="2126"/>
                  </a:lnTo>
                  <a:lnTo>
                    <a:pt x="239" y="1217"/>
                  </a:lnTo>
                  <a:lnTo>
                    <a:pt x="367" y="604"/>
                  </a:lnTo>
                  <a:lnTo>
                    <a:pt x="283" y="238"/>
                  </a:lnTo>
                  <a:lnTo>
                    <a:pt x="309" y="74"/>
                  </a:lnTo>
                  <a:close/>
                </a:path>
              </a:pathLst>
            </a:custGeom>
            <a:solidFill>
              <a:srgbClr val="6600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233360" y="2081160"/>
              <a:ext cx="255960" cy="1719720"/>
            </a:xfrm>
            <a:custGeom>
              <a:avLst/>
              <a:gdLst/>
              <a:ahLst/>
              <a:rect l="0" t="0" r="r" b="b"/>
              <a:pathLst>
                <a:path w="711" h="4777">
                  <a:moveTo>
                    <a:pt x="371" y="158"/>
                  </a:moveTo>
                  <a:lnTo>
                    <a:pt x="711" y="0"/>
                  </a:lnTo>
                  <a:lnTo>
                    <a:pt x="553" y="948"/>
                  </a:lnTo>
                  <a:lnTo>
                    <a:pt x="340" y="1632"/>
                  </a:lnTo>
                  <a:lnTo>
                    <a:pt x="292" y="2395"/>
                  </a:lnTo>
                  <a:lnTo>
                    <a:pt x="397" y="3127"/>
                  </a:lnTo>
                  <a:lnTo>
                    <a:pt x="371" y="4076"/>
                  </a:lnTo>
                  <a:lnTo>
                    <a:pt x="508" y="4777"/>
                  </a:lnTo>
                  <a:lnTo>
                    <a:pt x="186" y="4658"/>
                  </a:lnTo>
                  <a:lnTo>
                    <a:pt x="110" y="4107"/>
                  </a:lnTo>
                  <a:lnTo>
                    <a:pt x="105" y="3418"/>
                  </a:lnTo>
                  <a:lnTo>
                    <a:pt x="0" y="2342"/>
                  </a:lnTo>
                  <a:lnTo>
                    <a:pt x="79" y="1791"/>
                  </a:lnTo>
                  <a:lnTo>
                    <a:pt x="292" y="1027"/>
                  </a:lnTo>
                  <a:lnTo>
                    <a:pt x="371" y="15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263680" y="1995480"/>
              <a:ext cx="216360" cy="1894320"/>
            </a:xfrm>
            <a:custGeom>
              <a:avLst/>
              <a:gdLst/>
              <a:ahLst/>
              <a:rect l="0" t="0" r="r" b="b"/>
              <a:pathLst>
                <a:path w="601" h="5262">
                  <a:moveTo>
                    <a:pt x="155" y="0"/>
                  </a:moveTo>
                  <a:lnTo>
                    <a:pt x="208" y="577"/>
                  </a:lnTo>
                  <a:lnTo>
                    <a:pt x="208" y="1341"/>
                  </a:lnTo>
                  <a:lnTo>
                    <a:pt x="208" y="2188"/>
                  </a:lnTo>
                  <a:lnTo>
                    <a:pt x="208" y="3392"/>
                  </a:lnTo>
                  <a:lnTo>
                    <a:pt x="105" y="4579"/>
                  </a:lnTo>
                  <a:lnTo>
                    <a:pt x="0" y="5262"/>
                  </a:lnTo>
                  <a:lnTo>
                    <a:pt x="393" y="5201"/>
                  </a:lnTo>
                  <a:lnTo>
                    <a:pt x="553" y="4160"/>
                  </a:lnTo>
                  <a:lnTo>
                    <a:pt x="601" y="3043"/>
                  </a:lnTo>
                  <a:lnTo>
                    <a:pt x="597" y="1844"/>
                  </a:lnTo>
                  <a:lnTo>
                    <a:pt x="570" y="630"/>
                  </a:lnTo>
                  <a:lnTo>
                    <a:pt x="522" y="158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998800" y="2116080"/>
              <a:ext cx="392400" cy="343440"/>
            </a:xfrm>
            <a:custGeom>
              <a:avLst/>
              <a:gdLst/>
              <a:ahLst/>
              <a:rect l="0" t="0" r="r" b="b"/>
              <a:pathLst>
                <a:path w="1090" h="954">
                  <a:moveTo>
                    <a:pt x="0" y="194"/>
                  </a:moveTo>
                  <a:lnTo>
                    <a:pt x="105" y="194"/>
                  </a:lnTo>
                  <a:lnTo>
                    <a:pt x="242" y="256"/>
                  </a:lnTo>
                  <a:lnTo>
                    <a:pt x="317" y="424"/>
                  </a:lnTo>
                  <a:lnTo>
                    <a:pt x="427" y="710"/>
                  </a:lnTo>
                  <a:lnTo>
                    <a:pt x="414" y="901"/>
                  </a:lnTo>
                  <a:lnTo>
                    <a:pt x="343" y="954"/>
                  </a:lnTo>
                  <a:lnTo>
                    <a:pt x="1037" y="875"/>
                  </a:lnTo>
                  <a:lnTo>
                    <a:pt x="1090" y="747"/>
                  </a:lnTo>
                  <a:lnTo>
                    <a:pt x="1024" y="411"/>
                  </a:lnTo>
                  <a:lnTo>
                    <a:pt x="865" y="114"/>
                  </a:lnTo>
                  <a:lnTo>
                    <a:pt x="636" y="0"/>
                  </a:lnTo>
                  <a:lnTo>
                    <a:pt x="454" y="39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268800" y="1982880"/>
              <a:ext cx="768600" cy="457560"/>
            </a:xfrm>
            <a:custGeom>
              <a:avLst/>
              <a:gdLst/>
              <a:ahLst/>
              <a:rect l="0" t="0" r="r" b="b"/>
              <a:pathLst>
                <a:path w="2135" h="1271">
                  <a:moveTo>
                    <a:pt x="0" y="335"/>
                  </a:moveTo>
                  <a:lnTo>
                    <a:pt x="211" y="427"/>
                  </a:lnTo>
                  <a:lnTo>
                    <a:pt x="388" y="728"/>
                  </a:lnTo>
                  <a:lnTo>
                    <a:pt x="418" y="1116"/>
                  </a:lnTo>
                  <a:lnTo>
                    <a:pt x="401" y="1271"/>
                  </a:lnTo>
                  <a:lnTo>
                    <a:pt x="1045" y="1178"/>
                  </a:lnTo>
                  <a:lnTo>
                    <a:pt x="1438" y="1116"/>
                  </a:lnTo>
                  <a:lnTo>
                    <a:pt x="1703" y="688"/>
                  </a:lnTo>
                  <a:lnTo>
                    <a:pt x="1676" y="480"/>
                  </a:lnTo>
                  <a:lnTo>
                    <a:pt x="1786" y="702"/>
                  </a:lnTo>
                  <a:lnTo>
                    <a:pt x="1676" y="909"/>
                  </a:lnTo>
                  <a:lnTo>
                    <a:pt x="1575" y="1063"/>
                  </a:lnTo>
                  <a:lnTo>
                    <a:pt x="1826" y="882"/>
                  </a:lnTo>
                  <a:lnTo>
                    <a:pt x="1897" y="728"/>
                  </a:lnTo>
                  <a:lnTo>
                    <a:pt x="1910" y="520"/>
                  </a:lnTo>
                  <a:lnTo>
                    <a:pt x="1950" y="702"/>
                  </a:lnTo>
                  <a:lnTo>
                    <a:pt x="1923" y="896"/>
                  </a:lnTo>
                  <a:lnTo>
                    <a:pt x="1866" y="1050"/>
                  </a:lnTo>
                  <a:lnTo>
                    <a:pt x="2051" y="922"/>
                  </a:lnTo>
                  <a:lnTo>
                    <a:pt x="2135" y="621"/>
                  </a:lnTo>
                  <a:lnTo>
                    <a:pt x="2011" y="374"/>
                  </a:lnTo>
                  <a:lnTo>
                    <a:pt x="1786" y="233"/>
                  </a:lnTo>
                  <a:lnTo>
                    <a:pt x="1465" y="79"/>
                  </a:lnTo>
                  <a:lnTo>
                    <a:pt x="1196" y="0"/>
                  </a:lnTo>
                  <a:lnTo>
                    <a:pt x="952" y="0"/>
                  </a:lnTo>
                  <a:lnTo>
                    <a:pt x="604" y="13"/>
                  </a:lnTo>
                  <a:lnTo>
                    <a:pt x="198" y="114"/>
                  </a:lnTo>
                  <a:lnTo>
                    <a:pt x="511" y="92"/>
                  </a:lnTo>
                  <a:lnTo>
                    <a:pt x="709" y="79"/>
                  </a:lnTo>
                  <a:lnTo>
                    <a:pt x="895" y="105"/>
                  </a:lnTo>
                  <a:lnTo>
                    <a:pt x="617" y="127"/>
                  </a:lnTo>
                  <a:lnTo>
                    <a:pt x="335" y="127"/>
                  </a:lnTo>
                  <a:lnTo>
                    <a:pt x="149" y="194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798640" y="2116080"/>
              <a:ext cx="346320" cy="109800"/>
            </a:xfrm>
            <a:custGeom>
              <a:avLst/>
              <a:gdLst/>
              <a:ahLst/>
              <a:rect l="0" t="0" r="r" b="b"/>
              <a:pathLst>
                <a:path w="962" h="305">
                  <a:moveTo>
                    <a:pt x="962" y="0"/>
                  </a:moveTo>
                  <a:lnTo>
                    <a:pt x="710" y="83"/>
                  </a:lnTo>
                  <a:lnTo>
                    <a:pt x="471" y="172"/>
                  </a:lnTo>
                  <a:lnTo>
                    <a:pt x="220" y="256"/>
                  </a:lnTo>
                  <a:lnTo>
                    <a:pt x="0" y="305"/>
                  </a:lnTo>
                  <a:lnTo>
                    <a:pt x="185" y="159"/>
                  </a:lnTo>
                  <a:lnTo>
                    <a:pt x="392" y="48"/>
                  </a:lnTo>
                  <a:lnTo>
                    <a:pt x="486" y="74"/>
                  </a:lnTo>
                  <a:lnTo>
                    <a:pt x="96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730600" y="2135160"/>
              <a:ext cx="165600" cy="81360"/>
            </a:xfrm>
            <a:custGeom>
              <a:avLst/>
              <a:gdLst/>
              <a:ahLst/>
              <a:rect l="0" t="0" r="r" b="b"/>
              <a:pathLst>
                <a:path w="460" h="226">
                  <a:moveTo>
                    <a:pt x="460" y="0"/>
                  </a:moveTo>
                  <a:lnTo>
                    <a:pt x="261" y="93"/>
                  </a:lnTo>
                  <a:lnTo>
                    <a:pt x="142" y="226"/>
                  </a:lnTo>
                  <a:lnTo>
                    <a:pt x="0" y="178"/>
                  </a:lnTo>
                  <a:lnTo>
                    <a:pt x="190" y="48"/>
                  </a:lnTo>
                  <a:lnTo>
                    <a:pt x="283" y="0"/>
                  </a:lnTo>
                  <a:lnTo>
                    <a:pt x="460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490840" y="2044800"/>
              <a:ext cx="284400" cy="209880"/>
            </a:xfrm>
            <a:custGeom>
              <a:avLst/>
              <a:gdLst/>
              <a:ahLst/>
              <a:rect l="0" t="0" r="r" b="b"/>
              <a:pathLst>
                <a:path w="790" h="583">
                  <a:moveTo>
                    <a:pt x="790" y="189"/>
                  </a:moveTo>
                  <a:lnTo>
                    <a:pt x="631" y="353"/>
                  </a:lnTo>
                  <a:lnTo>
                    <a:pt x="538" y="433"/>
                  </a:lnTo>
                  <a:lnTo>
                    <a:pt x="450" y="455"/>
                  </a:lnTo>
                  <a:lnTo>
                    <a:pt x="352" y="433"/>
                  </a:lnTo>
                  <a:lnTo>
                    <a:pt x="251" y="433"/>
                  </a:lnTo>
                  <a:lnTo>
                    <a:pt x="145" y="481"/>
                  </a:lnTo>
                  <a:lnTo>
                    <a:pt x="26" y="583"/>
                  </a:lnTo>
                  <a:lnTo>
                    <a:pt x="39" y="305"/>
                  </a:lnTo>
                  <a:lnTo>
                    <a:pt x="0" y="74"/>
                  </a:lnTo>
                  <a:lnTo>
                    <a:pt x="0" y="0"/>
                  </a:lnTo>
                  <a:lnTo>
                    <a:pt x="207" y="13"/>
                  </a:lnTo>
                  <a:lnTo>
                    <a:pt x="379" y="26"/>
                  </a:lnTo>
                  <a:lnTo>
                    <a:pt x="569" y="61"/>
                  </a:lnTo>
                  <a:lnTo>
                    <a:pt x="790" y="18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627280" y="2373480"/>
              <a:ext cx="1337040" cy="903600"/>
            </a:xfrm>
            <a:custGeom>
              <a:avLst/>
              <a:gdLst/>
              <a:ahLst/>
              <a:rect l="0" t="0" r="r" b="b"/>
              <a:pathLst>
                <a:path w="3714" h="2510">
                  <a:moveTo>
                    <a:pt x="1266" y="299"/>
                  </a:moveTo>
                  <a:lnTo>
                    <a:pt x="1090" y="313"/>
                  </a:lnTo>
                  <a:lnTo>
                    <a:pt x="953" y="405"/>
                  </a:lnTo>
                  <a:lnTo>
                    <a:pt x="754" y="485"/>
                  </a:lnTo>
                  <a:lnTo>
                    <a:pt x="767" y="652"/>
                  </a:lnTo>
                  <a:lnTo>
                    <a:pt x="767" y="824"/>
                  </a:lnTo>
                  <a:lnTo>
                    <a:pt x="727" y="970"/>
                  </a:lnTo>
                  <a:lnTo>
                    <a:pt x="595" y="1009"/>
                  </a:lnTo>
                  <a:lnTo>
                    <a:pt x="568" y="1150"/>
                  </a:lnTo>
                  <a:lnTo>
                    <a:pt x="432" y="1297"/>
                  </a:lnTo>
                  <a:lnTo>
                    <a:pt x="136" y="1897"/>
                  </a:lnTo>
                  <a:lnTo>
                    <a:pt x="0" y="2510"/>
                  </a:lnTo>
                  <a:lnTo>
                    <a:pt x="216" y="2038"/>
                  </a:lnTo>
                  <a:lnTo>
                    <a:pt x="361" y="1637"/>
                  </a:lnTo>
                  <a:lnTo>
                    <a:pt x="555" y="1310"/>
                  </a:lnTo>
                  <a:lnTo>
                    <a:pt x="661" y="1150"/>
                  </a:lnTo>
                  <a:lnTo>
                    <a:pt x="1024" y="956"/>
                  </a:lnTo>
                  <a:lnTo>
                    <a:pt x="1376" y="745"/>
                  </a:lnTo>
                  <a:lnTo>
                    <a:pt x="1588" y="626"/>
                  </a:lnTo>
                  <a:lnTo>
                    <a:pt x="1972" y="564"/>
                  </a:lnTo>
                  <a:lnTo>
                    <a:pt x="2593" y="511"/>
                  </a:lnTo>
                  <a:lnTo>
                    <a:pt x="2943" y="445"/>
                  </a:lnTo>
                  <a:lnTo>
                    <a:pt x="3322" y="299"/>
                  </a:lnTo>
                  <a:lnTo>
                    <a:pt x="3675" y="171"/>
                  </a:lnTo>
                  <a:lnTo>
                    <a:pt x="3714" y="0"/>
                  </a:lnTo>
                  <a:lnTo>
                    <a:pt x="3538" y="105"/>
                  </a:lnTo>
                  <a:lnTo>
                    <a:pt x="3203" y="326"/>
                  </a:lnTo>
                  <a:lnTo>
                    <a:pt x="3379" y="92"/>
                  </a:lnTo>
                  <a:lnTo>
                    <a:pt x="3093" y="313"/>
                  </a:lnTo>
                  <a:lnTo>
                    <a:pt x="2877" y="339"/>
                  </a:lnTo>
                  <a:lnTo>
                    <a:pt x="3106" y="145"/>
                  </a:lnTo>
                  <a:lnTo>
                    <a:pt x="2523" y="260"/>
                  </a:lnTo>
                  <a:lnTo>
                    <a:pt x="2025" y="299"/>
                  </a:lnTo>
                  <a:lnTo>
                    <a:pt x="1266" y="29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930320" y="1844640"/>
              <a:ext cx="319320" cy="381240"/>
            </a:xfrm>
            <a:custGeom>
              <a:avLst/>
              <a:gdLst/>
              <a:ahLst/>
              <a:rect l="0" t="0" r="r" b="b"/>
              <a:pathLst>
                <a:path w="887" h="1059">
                  <a:moveTo>
                    <a:pt x="189" y="449"/>
                  </a:moveTo>
                  <a:lnTo>
                    <a:pt x="0" y="534"/>
                  </a:lnTo>
                  <a:lnTo>
                    <a:pt x="145" y="565"/>
                  </a:lnTo>
                  <a:lnTo>
                    <a:pt x="216" y="684"/>
                  </a:lnTo>
                  <a:lnTo>
                    <a:pt x="216" y="931"/>
                  </a:lnTo>
                  <a:lnTo>
                    <a:pt x="136" y="1059"/>
                  </a:lnTo>
                  <a:lnTo>
                    <a:pt x="436" y="852"/>
                  </a:lnTo>
                  <a:lnTo>
                    <a:pt x="675" y="569"/>
                  </a:lnTo>
                  <a:lnTo>
                    <a:pt x="887" y="335"/>
                  </a:lnTo>
                  <a:lnTo>
                    <a:pt x="755" y="0"/>
                  </a:lnTo>
                  <a:lnTo>
                    <a:pt x="666" y="198"/>
                  </a:lnTo>
                  <a:lnTo>
                    <a:pt x="481" y="321"/>
                  </a:lnTo>
                  <a:lnTo>
                    <a:pt x="189" y="44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592280" y="1906560"/>
              <a:ext cx="244800" cy="314640"/>
            </a:xfrm>
            <a:custGeom>
              <a:avLst/>
              <a:gdLst/>
              <a:ahLst/>
              <a:rect l="0" t="0" r="r" b="b"/>
              <a:pathLst>
                <a:path w="680" h="874">
                  <a:moveTo>
                    <a:pt x="158" y="0"/>
                  </a:moveTo>
                  <a:lnTo>
                    <a:pt x="238" y="154"/>
                  </a:lnTo>
                  <a:lnTo>
                    <a:pt x="397" y="229"/>
                  </a:lnTo>
                  <a:lnTo>
                    <a:pt x="472" y="295"/>
                  </a:lnTo>
                  <a:lnTo>
                    <a:pt x="680" y="374"/>
                  </a:lnTo>
                  <a:lnTo>
                    <a:pt x="556" y="455"/>
                  </a:lnTo>
                  <a:lnTo>
                    <a:pt x="503" y="578"/>
                  </a:lnTo>
                  <a:lnTo>
                    <a:pt x="552" y="874"/>
                  </a:lnTo>
                  <a:lnTo>
                    <a:pt x="459" y="847"/>
                  </a:lnTo>
                  <a:lnTo>
                    <a:pt x="238" y="693"/>
                  </a:lnTo>
                  <a:lnTo>
                    <a:pt x="79" y="525"/>
                  </a:lnTo>
                  <a:lnTo>
                    <a:pt x="0" y="321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960560" y="1987560"/>
              <a:ext cx="348120" cy="1922760"/>
            </a:xfrm>
            <a:custGeom>
              <a:avLst/>
              <a:gdLst/>
              <a:ahLst/>
              <a:rect l="0" t="0" r="r" b="b"/>
              <a:pathLst>
                <a:path w="967" h="5341">
                  <a:moveTo>
                    <a:pt x="835" y="0"/>
                  </a:moveTo>
                  <a:lnTo>
                    <a:pt x="675" y="211"/>
                  </a:lnTo>
                  <a:lnTo>
                    <a:pt x="450" y="445"/>
                  </a:lnTo>
                  <a:lnTo>
                    <a:pt x="265" y="617"/>
                  </a:lnTo>
                  <a:lnTo>
                    <a:pt x="66" y="736"/>
                  </a:lnTo>
                  <a:lnTo>
                    <a:pt x="0" y="789"/>
                  </a:lnTo>
                  <a:lnTo>
                    <a:pt x="105" y="1578"/>
                  </a:lnTo>
                  <a:lnTo>
                    <a:pt x="198" y="2579"/>
                  </a:lnTo>
                  <a:lnTo>
                    <a:pt x="252" y="3392"/>
                  </a:lnTo>
                  <a:lnTo>
                    <a:pt x="265" y="4049"/>
                  </a:lnTo>
                  <a:lnTo>
                    <a:pt x="224" y="4931"/>
                  </a:lnTo>
                  <a:lnTo>
                    <a:pt x="119" y="5327"/>
                  </a:lnTo>
                  <a:lnTo>
                    <a:pt x="437" y="5341"/>
                  </a:lnTo>
                  <a:lnTo>
                    <a:pt x="756" y="5301"/>
                  </a:lnTo>
                  <a:lnTo>
                    <a:pt x="848" y="4723"/>
                  </a:lnTo>
                  <a:lnTo>
                    <a:pt x="914" y="4128"/>
                  </a:lnTo>
                  <a:lnTo>
                    <a:pt x="967" y="3484"/>
                  </a:lnTo>
                  <a:lnTo>
                    <a:pt x="954" y="2473"/>
                  </a:lnTo>
                  <a:lnTo>
                    <a:pt x="967" y="1512"/>
                  </a:lnTo>
                  <a:lnTo>
                    <a:pt x="967" y="881"/>
                  </a:lnTo>
                  <a:lnTo>
                    <a:pt x="941" y="52"/>
                  </a:lnTo>
                  <a:lnTo>
                    <a:pt x="835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460600" y="2773440"/>
              <a:ext cx="279720" cy="851400"/>
            </a:xfrm>
            <a:custGeom>
              <a:avLst/>
              <a:gdLst/>
              <a:ahLst/>
              <a:rect l="0" t="0" r="r" b="b"/>
              <a:pathLst>
                <a:path w="777" h="2365">
                  <a:moveTo>
                    <a:pt x="132" y="0"/>
                  </a:moveTo>
                  <a:lnTo>
                    <a:pt x="264" y="92"/>
                  </a:lnTo>
                  <a:lnTo>
                    <a:pt x="397" y="105"/>
                  </a:lnTo>
                  <a:lnTo>
                    <a:pt x="556" y="198"/>
                  </a:lnTo>
                  <a:lnTo>
                    <a:pt x="644" y="198"/>
                  </a:lnTo>
                  <a:lnTo>
                    <a:pt x="777" y="145"/>
                  </a:lnTo>
                  <a:lnTo>
                    <a:pt x="591" y="498"/>
                  </a:lnTo>
                  <a:lnTo>
                    <a:pt x="437" y="887"/>
                  </a:lnTo>
                  <a:lnTo>
                    <a:pt x="291" y="1359"/>
                  </a:lnTo>
                  <a:lnTo>
                    <a:pt x="194" y="1738"/>
                  </a:lnTo>
                  <a:lnTo>
                    <a:pt x="92" y="2105"/>
                  </a:lnTo>
                  <a:lnTo>
                    <a:pt x="0" y="2365"/>
                  </a:lnTo>
                  <a:lnTo>
                    <a:pt x="92" y="1773"/>
                  </a:lnTo>
                  <a:lnTo>
                    <a:pt x="119" y="1293"/>
                  </a:lnTo>
                  <a:lnTo>
                    <a:pt x="171" y="733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441520" y="2892600"/>
              <a:ext cx="383040" cy="989280"/>
            </a:xfrm>
            <a:custGeom>
              <a:avLst/>
              <a:gdLst/>
              <a:ahLst/>
              <a:rect l="0" t="0" r="r" b="b"/>
              <a:pathLst>
                <a:path w="1064" h="2748">
                  <a:moveTo>
                    <a:pt x="92" y="2748"/>
                  </a:moveTo>
                  <a:lnTo>
                    <a:pt x="0" y="2735"/>
                  </a:lnTo>
                  <a:lnTo>
                    <a:pt x="39" y="2395"/>
                  </a:lnTo>
                  <a:lnTo>
                    <a:pt x="132" y="2016"/>
                  </a:lnTo>
                  <a:lnTo>
                    <a:pt x="278" y="1465"/>
                  </a:lnTo>
                  <a:lnTo>
                    <a:pt x="441" y="978"/>
                  </a:lnTo>
                  <a:lnTo>
                    <a:pt x="389" y="1425"/>
                  </a:lnTo>
                  <a:lnTo>
                    <a:pt x="269" y="1923"/>
                  </a:lnTo>
                  <a:lnTo>
                    <a:pt x="198" y="2342"/>
                  </a:lnTo>
                  <a:lnTo>
                    <a:pt x="371" y="1751"/>
                  </a:lnTo>
                  <a:lnTo>
                    <a:pt x="561" y="1212"/>
                  </a:lnTo>
                  <a:lnTo>
                    <a:pt x="662" y="899"/>
                  </a:lnTo>
                  <a:lnTo>
                    <a:pt x="822" y="524"/>
                  </a:lnTo>
                  <a:lnTo>
                    <a:pt x="1064" y="0"/>
                  </a:lnTo>
                  <a:lnTo>
                    <a:pt x="980" y="652"/>
                  </a:lnTo>
                  <a:lnTo>
                    <a:pt x="892" y="1278"/>
                  </a:lnTo>
                  <a:lnTo>
                    <a:pt x="746" y="1659"/>
                  </a:lnTo>
                  <a:lnTo>
                    <a:pt x="574" y="2210"/>
                  </a:lnTo>
                  <a:lnTo>
                    <a:pt x="318" y="2435"/>
                  </a:lnTo>
                  <a:lnTo>
                    <a:pt x="92" y="2748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357200" y="2041560"/>
              <a:ext cx="437040" cy="1856160"/>
            </a:xfrm>
            <a:custGeom>
              <a:avLst/>
              <a:gdLst/>
              <a:ahLst/>
              <a:rect l="0" t="0" r="r" b="b"/>
              <a:pathLst>
                <a:path w="1214" h="5156">
                  <a:moveTo>
                    <a:pt x="415" y="79"/>
                  </a:moveTo>
                  <a:lnTo>
                    <a:pt x="587" y="0"/>
                  </a:lnTo>
                  <a:lnTo>
                    <a:pt x="640" y="171"/>
                  </a:lnTo>
                  <a:lnTo>
                    <a:pt x="733" y="304"/>
                  </a:lnTo>
                  <a:lnTo>
                    <a:pt x="932" y="471"/>
                  </a:lnTo>
                  <a:lnTo>
                    <a:pt x="1174" y="604"/>
                  </a:lnTo>
                  <a:lnTo>
                    <a:pt x="1214" y="617"/>
                  </a:lnTo>
                  <a:lnTo>
                    <a:pt x="1082" y="1212"/>
                  </a:lnTo>
                  <a:lnTo>
                    <a:pt x="958" y="2016"/>
                  </a:lnTo>
                  <a:lnTo>
                    <a:pt x="932" y="2620"/>
                  </a:lnTo>
                  <a:lnTo>
                    <a:pt x="896" y="3286"/>
                  </a:lnTo>
                  <a:lnTo>
                    <a:pt x="843" y="3931"/>
                  </a:lnTo>
                  <a:lnTo>
                    <a:pt x="825" y="4129"/>
                  </a:lnTo>
                  <a:lnTo>
                    <a:pt x="882" y="4826"/>
                  </a:lnTo>
                  <a:lnTo>
                    <a:pt x="1069" y="5156"/>
                  </a:lnTo>
                  <a:lnTo>
                    <a:pt x="869" y="5143"/>
                  </a:lnTo>
                  <a:lnTo>
                    <a:pt x="242" y="4905"/>
                  </a:lnTo>
                  <a:lnTo>
                    <a:pt x="97" y="4142"/>
                  </a:lnTo>
                  <a:lnTo>
                    <a:pt x="97" y="3736"/>
                  </a:lnTo>
                  <a:lnTo>
                    <a:pt x="132" y="3352"/>
                  </a:lnTo>
                  <a:lnTo>
                    <a:pt x="105" y="2999"/>
                  </a:lnTo>
                  <a:lnTo>
                    <a:pt x="0" y="2607"/>
                  </a:lnTo>
                  <a:lnTo>
                    <a:pt x="0" y="2355"/>
                  </a:lnTo>
                  <a:lnTo>
                    <a:pt x="105" y="2699"/>
                  </a:lnTo>
                  <a:lnTo>
                    <a:pt x="268" y="2999"/>
                  </a:lnTo>
                  <a:lnTo>
                    <a:pt x="158" y="2607"/>
                  </a:lnTo>
                  <a:lnTo>
                    <a:pt x="66" y="2276"/>
                  </a:lnTo>
                  <a:lnTo>
                    <a:pt x="26" y="1950"/>
                  </a:lnTo>
                  <a:lnTo>
                    <a:pt x="83" y="1698"/>
                  </a:lnTo>
                  <a:lnTo>
                    <a:pt x="185" y="1278"/>
                  </a:lnTo>
                  <a:lnTo>
                    <a:pt x="318" y="961"/>
                  </a:lnTo>
                  <a:lnTo>
                    <a:pt x="371" y="551"/>
                  </a:lnTo>
                  <a:lnTo>
                    <a:pt x="428" y="304"/>
                  </a:lnTo>
                  <a:lnTo>
                    <a:pt x="415" y="7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873000" y="2131920"/>
              <a:ext cx="465480" cy="2180160"/>
            </a:xfrm>
            <a:custGeom>
              <a:avLst/>
              <a:gdLst/>
              <a:ahLst/>
              <a:rect l="0" t="0" r="r" b="b"/>
              <a:pathLst>
                <a:path w="1293" h="6056">
                  <a:moveTo>
                    <a:pt x="1293" y="0"/>
                  </a:moveTo>
                  <a:lnTo>
                    <a:pt x="1253" y="251"/>
                  </a:lnTo>
                  <a:lnTo>
                    <a:pt x="1226" y="551"/>
                  </a:lnTo>
                  <a:lnTo>
                    <a:pt x="1196" y="908"/>
                  </a:lnTo>
                  <a:lnTo>
                    <a:pt x="1182" y="736"/>
                  </a:lnTo>
                  <a:lnTo>
                    <a:pt x="1160" y="317"/>
                  </a:lnTo>
                  <a:lnTo>
                    <a:pt x="1160" y="185"/>
                  </a:lnTo>
                  <a:lnTo>
                    <a:pt x="1121" y="396"/>
                  </a:lnTo>
                  <a:lnTo>
                    <a:pt x="1094" y="855"/>
                  </a:lnTo>
                  <a:lnTo>
                    <a:pt x="1121" y="1212"/>
                  </a:lnTo>
                  <a:lnTo>
                    <a:pt x="1037" y="1490"/>
                  </a:lnTo>
                  <a:lnTo>
                    <a:pt x="962" y="1817"/>
                  </a:lnTo>
                  <a:lnTo>
                    <a:pt x="922" y="2108"/>
                  </a:lnTo>
                  <a:lnTo>
                    <a:pt x="825" y="1923"/>
                  </a:lnTo>
                  <a:lnTo>
                    <a:pt x="706" y="1539"/>
                  </a:lnTo>
                  <a:lnTo>
                    <a:pt x="680" y="1159"/>
                  </a:lnTo>
                  <a:lnTo>
                    <a:pt x="653" y="1503"/>
                  </a:lnTo>
                  <a:lnTo>
                    <a:pt x="750" y="2003"/>
                  </a:lnTo>
                  <a:lnTo>
                    <a:pt x="812" y="2188"/>
                  </a:lnTo>
                  <a:lnTo>
                    <a:pt x="878" y="2360"/>
                  </a:lnTo>
                  <a:lnTo>
                    <a:pt x="971" y="2708"/>
                  </a:lnTo>
                  <a:lnTo>
                    <a:pt x="1010" y="3290"/>
                  </a:lnTo>
                  <a:lnTo>
                    <a:pt x="1010" y="3775"/>
                  </a:lnTo>
                  <a:lnTo>
                    <a:pt x="878" y="3934"/>
                  </a:lnTo>
                  <a:lnTo>
                    <a:pt x="653" y="4119"/>
                  </a:lnTo>
                  <a:lnTo>
                    <a:pt x="984" y="3987"/>
                  </a:lnTo>
                  <a:lnTo>
                    <a:pt x="984" y="4199"/>
                  </a:lnTo>
                  <a:lnTo>
                    <a:pt x="1050" y="4490"/>
                  </a:lnTo>
                  <a:lnTo>
                    <a:pt x="984" y="4989"/>
                  </a:lnTo>
                  <a:lnTo>
                    <a:pt x="812" y="4949"/>
                  </a:lnTo>
                  <a:lnTo>
                    <a:pt x="507" y="4685"/>
                  </a:lnTo>
                  <a:lnTo>
                    <a:pt x="719" y="4989"/>
                  </a:lnTo>
                  <a:lnTo>
                    <a:pt x="935" y="5082"/>
                  </a:lnTo>
                  <a:lnTo>
                    <a:pt x="878" y="5439"/>
                  </a:lnTo>
                  <a:lnTo>
                    <a:pt x="737" y="6003"/>
                  </a:lnTo>
                  <a:lnTo>
                    <a:pt x="573" y="6056"/>
                  </a:lnTo>
                  <a:lnTo>
                    <a:pt x="313" y="6012"/>
                  </a:lnTo>
                  <a:lnTo>
                    <a:pt x="101" y="5933"/>
                  </a:lnTo>
                  <a:lnTo>
                    <a:pt x="171" y="5531"/>
                  </a:lnTo>
                  <a:lnTo>
                    <a:pt x="440" y="5553"/>
                  </a:lnTo>
                  <a:lnTo>
                    <a:pt x="719" y="5545"/>
                  </a:lnTo>
                  <a:lnTo>
                    <a:pt x="308" y="5478"/>
                  </a:lnTo>
                  <a:lnTo>
                    <a:pt x="171" y="5386"/>
                  </a:lnTo>
                  <a:lnTo>
                    <a:pt x="0" y="4804"/>
                  </a:lnTo>
                  <a:lnTo>
                    <a:pt x="26" y="4344"/>
                  </a:lnTo>
                  <a:lnTo>
                    <a:pt x="52" y="4066"/>
                  </a:lnTo>
                  <a:lnTo>
                    <a:pt x="39" y="3802"/>
                  </a:lnTo>
                  <a:lnTo>
                    <a:pt x="39" y="3277"/>
                  </a:lnTo>
                  <a:lnTo>
                    <a:pt x="66" y="3078"/>
                  </a:lnTo>
                  <a:lnTo>
                    <a:pt x="198" y="3422"/>
                  </a:lnTo>
                  <a:lnTo>
                    <a:pt x="268" y="3696"/>
                  </a:lnTo>
                  <a:lnTo>
                    <a:pt x="370" y="3802"/>
                  </a:lnTo>
                  <a:lnTo>
                    <a:pt x="493" y="3881"/>
                  </a:lnTo>
                  <a:lnTo>
                    <a:pt x="357" y="3643"/>
                  </a:lnTo>
                  <a:lnTo>
                    <a:pt x="255" y="3330"/>
                  </a:lnTo>
                  <a:lnTo>
                    <a:pt x="158" y="3012"/>
                  </a:lnTo>
                  <a:lnTo>
                    <a:pt x="145" y="2801"/>
                  </a:lnTo>
                  <a:lnTo>
                    <a:pt x="198" y="2505"/>
                  </a:lnTo>
                  <a:lnTo>
                    <a:pt x="295" y="2161"/>
                  </a:lnTo>
                  <a:lnTo>
                    <a:pt x="396" y="2439"/>
                  </a:lnTo>
                  <a:lnTo>
                    <a:pt x="573" y="2682"/>
                  </a:lnTo>
                  <a:lnTo>
                    <a:pt x="719" y="2748"/>
                  </a:lnTo>
                  <a:lnTo>
                    <a:pt x="493" y="2413"/>
                  </a:lnTo>
                  <a:lnTo>
                    <a:pt x="383" y="2201"/>
                  </a:lnTo>
                  <a:lnTo>
                    <a:pt x="330" y="1963"/>
                  </a:lnTo>
                  <a:lnTo>
                    <a:pt x="357" y="1553"/>
                  </a:lnTo>
                  <a:lnTo>
                    <a:pt x="414" y="1040"/>
                  </a:lnTo>
                  <a:lnTo>
                    <a:pt x="480" y="709"/>
                  </a:lnTo>
                  <a:lnTo>
                    <a:pt x="586" y="511"/>
                  </a:lnTo>
                  <a:lnTo>
                    <a:pt x="737" y="211"/>
                  </a:lnTo>
                  <a:lnTo>
                    <a:pt x="962" y="92"/>
                  </a:lnTo>
                  <a:lnTo>
                    <a:pt x="1293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644480" y="1623960"/>
              <a:ext cx="552960" cy="410040"/>
            </a:xfrm>
            <a:custGeom>
              <a:avLst/>
              <a:gdLst/>
              <a:ahLst/>
              <a:rect l="0" t="0" r="r" b="b"/>
              <a:pathLst>
                <a:path w="1536" h="1139">
                  <a:moveTo>
                    <a:pt x="26" y="397"/>
                  </a:moveTo>
                  <a:lnTo>
                    <a:pt x="83" y="807"/>
                  </a:lnTo>
                  <a:lnTo>
                    <a:pt x="145" y="914"/>
                  </a:lnTo>
                  <a:lnTo>
                    <a:pt x="313" y="1020"/>
                  </a:lnTo>
                  <a:lnTo>
                    <a:pt x="516" y="1108"/>
                  </a:lnTo>
                  <a:lnTo>
                    <a:pt x="710" y="1139"/>
                  </a:lnTo>
                  <a:lnTo>
                    <a:pt x="966" y="1055"/>
                  </a:lnTo>
                  <a:lnTo>
                    <a:pt x="1201" y="928"/>
                  </a:lnTo>
                  <a:lnTo>
                    <a:pt x="1404" y="790"/>
                  </a:lnTo>
                  <a:lnTo>
                    <a:pt x="1536" y="609"/>
                  </a:lnTo>
                  <a:lnTo>
                    <a:pt x="1501" y="530"/>
                  </a:lnTo>
                  <a:lnTo>
                    <a:pt x="1501" y="26"/>
                  </a:lnTo>
                  <a:lnTo>
                    <a:pt x="0" y="0"/>
                  </a:lnTo>
                  <a:lnTo>
                    <a:pt x="26" y="397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539720" y="747720"/>
              <a:ext cx="819360" cy="1175040"/>
            </a:xfrm>
            <a:custGeom>
              <a:avLst/>
              <a:gdLst/>
              <a:ahLst/>
              <a:rect l="0" t="0" r="r" b="b"/>
              <a:pathLst>
                <a:path w="2276" h="3264">
                  <a:moveTo>
                    <a:pt x="485" y="2884"/>
                  </a:moveTo>
                  <a:lnTo>
                    <a:pt x="612" y="3008"/>
                  </a:lnTo>
                  <a:lnTo>
                    <a:pt x="837" y="3202"/>
                  </a:lnTo>
                  <a:lnTo>
                    <a:pt x="992" y="3264"/>
                  </a:lnTo>
                  <a:lnTo>
                    <a:pt x="1133" y="3264"/>
                  </a:lnTo>
                  <a:lnTo>
                    <a:pt x="1271" y="3255"/>
                  </a:lnTo>
                  <a:lnTo>
                    <a:pt x="1390" y="3215"/>
                  </a:lnTo>
                  <a:lnTo>
                    <a:pt x="1522" y="3114"/>
                  </a:lnTo>
                  <a:lnTo>
                    <a:pt x="1791" y="2858"/>
                  </a:lnTo>
                  <a:lnTo>
                    <a:pt x="1906" y="2611"/>
                  </a:lnTo>
                  <a:lnTo>
                    <a:pt x="1972" y="2386"/>
                  </a:lnTo>
                  <a:lnTo>
                    <a:pt x="2033" y="2170"/>
                  </a:lnTo>
                  <a:lnTo>
                    <a:pt x="2144" y="2064"/>
                  </a:lnTo>
                  <a:lnTo>
                    <a:pt x="2219" y="1844"/>
                  </a:lnTo>
                  <a:lnTo>
                    <a:pt x="2245" y="1659"/>
                  </a:lnTo>
                  <a:lnTo>
                    <a:pt x="2227" y="1481"/>
                  </a:lnTo>
                  <a:lnTo>
                    <a:pt x="2197" y="1402"/>
                  </a:lnTo>
                  <a:lnTo>
                    <a:pt x="2263" y="1177"/>
                  </a:lnTo>
                  <a:lnTo>
                    <a:pt x="2276" y="749"/>
                  </a:lnTo>
                  <a:lnTo>
                    <a:pt x="2197" y="524"/>
                  </a:lnTo>
                  <a:lnTo>
                    <a:pt x="2086" y="291"/>
                  </a:lnTo>
                  <a:lnTo>
                    <a:pt x="1936" y="185"/>
                  </a:lnTo>
                  <a:lnTo>
                    <a:pt x="1725" y="101"/>
                  </a:lnTo>
                  <a:lnTo>
                    <a:pt x="1513" y="26"/>
                  </a:lnTo>
                  <a:lnTo>
                    <a:pt x="1301" y="0"/>
                  </a:lnTo>
                  <a:lnTo>
                    <a:pt x="1027" y="0"/>
                  </a:lnTo>
                  <a:lnTo>
                    <a:pt x="780" y="35"/>
                  </a:lnTo>
                  <a:lnTo>
                    <a:pt x="577" y="105"/>
                  </a:lnTo>
                  <a:lnTo>
                    <a:pt x="321" y="224"/>
                  </a:lnTo>
                  <a:lnTo>
                    <a:pt x="145" y="582"/>
                  </a:lnTo>
                  <a:lnTo>
                    <a:pt x="114" y="1027"/>
                  </a:lnTo>
                  <a:lnTo>
                    <a:pt x="132" y="1402"/>
                  </a:lnTo>
                  <a:lnTo>
                    <a:pt x="13" y="1486"/>
                  </a:lnTo>
                  <a:lnTo>
                    <a:pt x="0" y="1725"/>
                  </a:lnTo>
                  <a:lnTo>
                    <a:pt x="52" y="1950"/>
                  </a:lnTo>
                  <a:lnTo>
                    <a:pt x="163" y="2003"/>
                  </a:lnTo>
                  <a:lnTo>
                    <a:pt x="176" y="2174"/>
                  </a:lnTo>
                  <a:lnTo>
                    <a:pt x="202" y="2413"/>
                  </a:lnTo>
                  <a:lnTo>
                    <a:pt x="286" y="2558"/>
                  </a:lnTo>
                  <a:lnTo>
                    <a:pt x="485" y="2884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563840" y="1312920"/>
              <a:ext cx="46440" cy="120960"/>
            </a:xfrm>
            <a:custGeom>
              <a:avLst/>
              <a:gdLst/>
              <a:ahLst/>
              <a:rect l="0" t="0" r="r" b="b"/>
              <a:pathLst>
                <a:path w="129" h="336">
                  <a:moveTo>
                    <a:pt x="0" y="0"/>
                  </a:moveTo>
                  <a:lnTo>
                    <a:pt x="80" y="61"/>
                  </a:lnTo>
                  <a:lnTo>
                    <a:pt x="80" y="114"/>
                  </a:lnTo>
                  <a:lnTo>
                    <a:pt x="45" y="149"/>
                  </a:lnTo>
                  <a:lnTo>
                    <a:pt x="71" y="269"/>
                  </a:lnTo>
                  <a:lnTo>
                    <a:pt x="129" y="336"/>
                  </a:lnTo>
                  <a:lnTo>
                    <a:pt x="45" y="309"/>
                  </a:lnTo>
                  <a:lnTo>
                    <a:pt x="4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276640" y="1332000"/>
              <a:ext cx="36720" cy="138600"/>
            </a:xfrm>
            <a:custGeom>
              <a:avLst/>
              <a:gdLst/>
              <a:ahLst/>
              <a:rect l="0" t="0" r="r" b="b"/>
              <a:pathLst>
                <a:path w="102" h="385">
                  <a:moveTo>
                    <a:pt x="102" y="0"/>
                  </a:moveTo>
                  <a:lnTo>
                    <a:pt x="48" y="61"/>
                  </a:lnTo>
                  <a:lnTo>
                    <a:pt x="58" y="150"/>
                  </a:lnTo>
                  <a:lnTo>
                    <a:pt x="71" y="225"/>
                  </a:lnTo>
                  <a:lnTo>
                    <a:pt x="30" y="337"/>
                  </a:lnTo>
                  <a:lnTo>
                    <a:pt x="0" y="385"/>
                  </a:lnTo>
                  <a:lnTo>
                    <a:pt x="53" y="354"/>
                  </a:lnTo>
                  <a:lnTo>
                    <a:pt x="93" y="217"/>
                  </a:lnTo>
                  <a:lnTo>
                    <a:pt x="80" y="102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712880" y="1293840"/>
              <a:ext cx="160560" cy="62280"/>
            </a:xfrm>
            <a:custGeom>
              <a:avLst/>
              <a:gdLst/>
              <a:ahLst/>
              <a:rect l="0" t="0" r="r" b="b"/>
              <a:pathLst>
                <a:path w="446" h="173">
                  <a:moveTo>
                    <a:pt x="35" y="13"/>
                  </a:moveTo>
                  <a:lnTo>
                    <a:pt x="176" y="0"/>
                  </a:lnTo>
                  <a:lnTo>
                    <a:pt x="318" y="35"/>
                  </a:lnTo>
                  <a:lnTo>
                    <a:pt x="446" y="71"/>
                  </a:lnTo>
                  <a:lnTo>
                    <a:pt x="371" y="98"/>
                  </a:lnTo>
                  <a:lnTo>
                    <a:pt x="344" y="151"/>
                  </a:lnTo>
                  <a:lnTo>
                    <a:pt x="256" y="173"/>
                  </a:lnTo>
                  <a:lnTo>
                    <a:pt x="141" y="160"/>
                  </a:lnTo>
                  <a:lnTo>
                    <a:pt x="88" y="98"/>
                  </a:lnTo>
                  <a:lnTo>
                    <a:pt x="0" y="71"/>
                  </a:lnTo>
                  <a:lnTo>
                    <a:pt x="35" y="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041560" y="1314360"/>
              <a:ext cx="155880" cy="95760"/>
            </a:xfrm>
            <a:custGeom>
              <a:avLst/>
              <a:gdLst/>
              <a:ahLst/>
              <a:rect l="0" t="0" r="r" b="b"/>
              <a:pathLst>
                <a:path w="433" h="266">
                  <a:moveTo>
                    <a:pt x="0" y="61"/>
                  </a:moveTo>
                  <a:lnTo>
                    <a:pt x="66" y="13"/>
                  </a:lnTo>
                  <a:lnTo>
                    <a:pt x="217" y="0"/>
                  </a:lnTo>
                  <a:lnTo>
                    <a:pt x="336" y="17"/>
                  </a:lnTo>
                  <a:lnTo>
                    <a:pt x="433" y="75"/>
                  </a:lnTo>
                  <a:lnTo>
                    <a:pt x="349" y="75"/>
                  </a:lnTo>
                  <a:lnTo>
                    <a:pt x="322" y="150"/>
                  </a:lnTo>
                  <a:lnTo>
                    <a:pt x="243" y="181"/>
                  </a:lnTo>
                  <a:lnTo>
                    <a:pt x="52" y="137"/>
                  </a:lnTo>
                  <a:lnTo>
                    <a:pt x="39" y="195"/>
                  </a:lnTo>
                  <a:lnTo>
                    <a:pt x="79" y="266"/>
                  </a:lnTo>
                  <a:lnTo>
                    <a:pt x="0" y="172"/>
                  </a:lnTo>
                  <a:lnTo>
                    <a:pt x="4" y="124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847880" y="1533600"/>
              <a:ext cx="187560" cy="97200"/>
            </a:xfrm>
            <a:custGeom>
              <a:avLst/>
              <a:gdLst/>
              <a:ahLst/>
              <a:rect l="0" t="0" r="r" b="b"/>
              <a:pathLst>
                <a:path w="521" h="270">
                  <a:moveTo>
                    <a:pt x="327" y="213"/>
                  </a:moveTo>
                  <a:lnTo>
                    <a:pt x="233" y="209"/>
                  </a:lnTo>
                  <a:lnTo>
                    <a:pt x="145" y="172"/>
                  </a:lnTo>
                  <a:lnTo>
                    <a:pt x="105" y="124"/>
                  </a:lnTo>
                  <a:lnTo>
                    <a:pt x="48" y="98"/>
                  </a:lnTo>
                  <a:lnTo>
                    <a:pt x="30" y="52"/>
                  </a:lnTo>
                  <a:lnTo>
                    <a:pt x="48" y="0"/>
                  </a:lnTo>
                  <a:lnTo>
                    <a:pt x="0" y="35"/>
                  </a:lnTo>
                  <a:lnTo>
                    <a:pt x="4" y="111"/>
                  </a:lnTo>
                  <a:lnTo>
                    <a:pt x="44" y="137"/>
                  </a:lnTo>
                  <a:lnTo>
                    <a:pt x="92" y="172"/>
                  </a:lnTo>
                  <a:lnTo>
                    <a:pt x="154" y="240"/>
                  </a:lnTo>
                  <a:lnTo>
                    <a:pt x="242" y="270"/>
                  </a:lnTo>
                  <a:lnTo>
                    <a:pt x="340" y="270"/>
                  </a:lnTo>
                  <a:lnTo>
                    <a:pt x="415" y="235"/>
                  </a:lnTo>
                  <a:lnTo>
                    <a:pt x="477" y="172"/>
                  </a:lnTo>
                  <a:lnTo>
                    <a:pt x="516" y="124"/>
                  </a:lnTo>
                  <a:lnTo>
                    <a:pt x="521" y="71"/>
                  </a:lnTo>
                  <a:lnTo>
                    <a:pt x="481" y="22"/>
                  </a:lnTo>
                  <a:lnTo>
                    <a:pt x="468" y="146"/>
                  </a:lnTo>
                  <a:lnTo>
                    <a:pt x="424" y="186"/>
                  </a:lnTo>
                  <a:lnTo>
                    <a:pt x="327" y="2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768320" y="1536840"/>
              <a:ext cx="54360" cy="138600"/>
            </a:xfrm>
            <a:custGeom>
              <a:avLst/>
              <a:gdLst/>
              <a:ahLst/>
              <a:rect l="0" t="0" r="r" b="b"/>
              <a:pathLst>
                <a:path w="151" h="385">
                  <a:moveTo>
                    <a:pt x="151" y="0"/>
                  </a:moveTo>
                  <a:lnTo>
                    <a:pt x="67" y="61"/>
                  </a:lnTo>
                  <a:lnTo>
                    <a:pt x="40" y="142"/>
                  </a:lnTo>
                  <a:lnTo>
                    <a:pt x="17" y="265"/>
                  </a:lnTo>
                  <a:lnTo>
                    <a:pt x="0" y="385"/>
                  </a:lnTo>
                  <a:lnTo>
                    <a:pt x="0" y="239"/>
                  </a:lnTo>
                  <a:lnTo>
                    <a:pt x="17" y="98"/>
                  </a:lnTo>
                  <a:lnTo>
                    <a:pt x="45" y="48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066760" y="1555920"/>
              <a:ext cx="33840" cy="122760"/>
            </a:xfrm>
            <a:custGeom>
              <a:avLst/>
              <a:gdLst/>
              <a:ahLst/>
              <a:rect l="0" t="0" r="r" b="b"/>
              <a:pathLst>
                <a:path w="94" h="341">
                  <a:moveTo>
                    <a:pt x="0" y="0"/>
                  </a:moveTo>
                  <a:lnTo>
                    <a:pt x="31" y="70"/>
                  </a:lnTo>
                  <a:lnTo>
                    <a:pt x="62" y="186"/>
                  </a:lnTo>
                  <a:lnTo>
                    <a:pt x="58" y="257"/>
                  </a:lnTo>
                  <a:lnTo>
                    <a:pt x="40" y="341"/>
                  </a:lnTo>
                  <a:lnTo>
                    <a:pt x="94" y="195"/>
                  </a:lnTo>
                  <a:lnTo>
                    <a:pt x="85" y="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808280" y="1685880"/>
              <a:ext cx="263880" cy="55800"/>
            </a:xfrm>
            <a:custGeom>
              <a:avLst/>
              <a:gdLst/>
              <a:ahLst/>
              <a:rect l="0" t="0" r="r" b="b"/>
              <a:pathLst>
                <a:path w="733" h="155">
                  <a:moveTo>
                    <a:pt x="0" y="0"/>
                  </a:moveTo>
                  <a:lnTo>
                    <a:pt x="110" y="66"/>
                  </a:lnTo>
                  <a:lnTo>
                    <a:pt x="251" y="102"/>
                  </a:lnTo>
                  <a:lnTo>
                    <a:pt x="428" y="111"/>
                  </a:lnTo>
                  <a:lnTo>
                    <a:pt x="565" y="89"/>
                  </a:lnTo>
                  <a:lnTo>
                    <a:pt x="710" y="39"/>
                  </a:lnTo>
                  <a:lnTo>
                    <a:pt x="733" y="98"/>
                  </a:lnTo>
                  <a:lnTo>
                    <a:pt x="680" y="74"/>
                  </a:lnTo>
                  <a:lnTo>
                    <a:pt x="556" y="133"/>
                  </a:lnTo>
                  <a:lnTo>
                    <a:pt x="415" y="155"/>
                  </a:lnTo>
                  <a:lnTo>
                    <a:pt x="295" y="146"/>
                  </a:lnTo>
                  <a:lnTo>
                    <a:pt x="163" y="115"/>
                  </a:lnTo>
                  <a:lnTo>
                    <a:pt x="79" y="74"/>
                  </a:lnTo>
                  <a:lnTo>
                    <a:pt x="17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833480" y="1766880"/>
              <a:ext cx="201960" cy="27360"/>
            </a:xfrm>
            <a:custGeom>
              <a:avLst/>
              <a:gdLst/>
              <a:ahLst/>
              <a:rect l="0" t="0" r="r" b="b"/>
              <a:pathLst>
                <a:path w="561" h="76">
                  <a:moveTo>
                    <a:pt x="0" y="17"/>
                  </a:moveTo>
                  <a:lnTo>
                    <a:pt x="17" y="0"/>
                  </a:lnTo>
                  <a:lnTo>
                    <a:pt x="61" y="8"/>
                  </a:lnTo>
                  <a:lnTo>
                    <a:pt x="167" y="31"/>
                  </a:lnTo>
                  <a:lnTo>
                    <a:pt x="380" y="40"/>
                  </a:lnTo>
                  <a:lnTo>
                    <a:pt x="521" y="17"/>
                  </a:lnTo>
                  <a:lnTo>
                    <a:pt x="561" y="0"/>
                  </a:lnTo>
                  <a:lnTo>
                    <a:pt x="561" y="31"/>
                  </a:lnTo>
                  <a:lnTo>
                    <a:pt x="494" y="40"/>
                  </a:lnTo>
                  <a:lnTo>
                    <a:pt x="367" y="68"/>
                  </a:lnTo>
                  <a:lnTo>
                    <a:pt x="268" y="76"/>
                  </a:lnTo>
                  <a:lnTo>
                    <a:pt x="154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638360" y="1374840"/>
              <a:ext cx="44640" cy="109800"/>
            </a:xfrm>
            <a:custGeom>
              <a:avLst/>
              <a:gdLst/>
              <a:ahLst/>
              <a:rect l="0" t="0" r="r" b="b"/>
              <a:pathLst>
                <a:path w="124" h="305">
                  <a:moveTo>
                    <a:pt x="124" y="0"/>
                  </a:moveTo>
                  <a:lnTo>
                    <a:pt x="44" y="97"/>
                  </a:lnTo>
                  <a:lnTo>
                    <a:pt x="22" y="181"/>
                  </a:lnTo>
                  <a:lnTo>
                    <a:pt x="17" y="305"/>
                  </a:lnTo>
                  <a:lnTo>
                    <a:pt x="0" y="172"/>
                  </a:lnTo>
                  <a:lnTo>
                    <a:pt x="22" y="8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222640" y="1384200"/>
              <a:ext cx="25920" cy="135360"/>
            </a:xfrm>
            <a:custGeom>
              <a:avLst/>
              <a:gdLst/>
              <a:ahLst/>
              <a:rect l="0" t="0" r="r" b="b"/>
              <a:pathLst>
                <a:path w="72" h="376">
                  <a:moveTo>
                    <a:pt x="0" y="0"/>
                  </a:moveTo>
                  <a:lnTo>
                    <a:pt x="36" y="66"/>
                  </a:lnTo>
                  <a:lnTo>
                    <a:pt x="53" y="217"/>
                  </a:lnTo>
                  <a:lnTo>
                    <a:pt x="36" y="376"/>
                  </a:lnTo>
                  <a:lnTo>
                    <a:pt x="72" y="212"/>
                  </a:lnTo>
                  <a:lnTo>
                    <a:pt x="63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021040" y="1219320"/>
              <a:ext cx="211320" cy="60840"/>
            </a:xfrm>
            <a:custGeom>
              <a:avLst/>
              <a:gdLst/>
              <a:ahLst/>
              <a:rect l="0" t="0" r="r" b="b"/>
              <a:pathLst>
                <a:path w="587" h="169">
                  <a:moveTo>
                    <a:pt x="0" y="53"/>
                  </a:moveTo>
                  <a:lnTo>
                    <a:pt x="22" y="115"/>
                  </a:lnTo>
                  <a:lnTo>
                    <a:pt x="233" y="93"/>
                  </a:lnTo>
                  <a:lnTo>
                    <a:pt x="389" y="98"/>
                  </a:lnTo>
                  <a:lnTo>
                    <a:pt x="490" y="124"/>
                  </a:lnTo>
                  <a:lnTo>
                    <a:pt x="587" y="169"/>
                  </a:lnTo>
                  <a:lnTo>
                    <a:pt x="468" y="53"/>
                  </a:lnTo>
                  <a:lnTo>
                    <a:pt x="246" y="13"/>
                  </a:lnTo>
                  <a:lnTo>
                    <a:pt x="273" y="35"/>
                  </a:lnTo>
                  <a:lnTo>
                    <a:pt x="132" y="45"/>
                  </a:lnTo>
                  <a:lnTo>
                    <a:pt x="141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700280" y="1217520"/>
              <a:ext cx="187560" cy="49680"/>
            </a:xfrm>
            <a:custGeom>
              <a:avLst/>
              <a:gdLst/>
              <a:ahLst/>
              <a:rect l="0" t="0" r="r" b="b"/>
              <a:pathLst>
                <a:path w="521" h="138">
                  <a:moveTo>
                    <a:pt x="521" y="138"/>
                  </a:moveTo>
                  <a:lnTo>
                    <a:pt x="428" y="80"/>
                  </a:lnTo>
                  <a:lnTo>
                    <a:pt x="265" y="67"/>
                  </a:lnTo>
                  <a:lnTo>
                    <a:pt x="97" y="80"/>
                  </a:lnTo>
                  <a:lnTo>
                    <a:pt x="0" y="125"/>
                  </a:lnTo>
                  <a:lnTo>
                    <a:pt x="83" y="58"/>
                  </a:lnTo>
                  <a:lnTo>
                    <a:pt x="44" y="49"/>
                  </a:lnTo>
                  <a:lnTo>
                    <a:pt x="220" y="45"/>
                  </a:lnTo>
                  <a:lnTo>
                    <a:pt x="83" y="26"/>
                  </a:lnTo>
                  <a:lnTo>
                    <a:pt x="278" y="26"/>
                  </a:lnTo>
                  <a:lnTo>
                    <a:pt x="238" y="4"/>
                  </a:lnTo>
                  <a:lnTo>
                    <a:pt x="371" y="22"/>
                  </a:lnTo>
                  <a:lnTo>
                    <a:pt x="441" y="36"/>
                  </a:lnTo>
                  <a:lnTo>
                    <a:pt x="441" y="0"/>
                  </a:lnTo>
                  <a:lnTo>
                    <a:pt x="499" y="45"/>
                  </a:lnTo>
                  <a:lnTo>
                    <a:pt x="521" y="13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755720" y="1343160"/>
              <a:ext cx="100440" cy="43200"/>
            </a:xfrm>
            <a:custGeom>
              <a:avLst/>
              <a:gdLst/>
              <a:ahLst/>
              <a:rect l="0" t="0" r="r" b="b"/>
              <a:pathLst>
                <a:path w="279" h="120">
                  <a:moveTo>
                    <a:pt x="279" y="0"/>
                  </a:moveTo>
                  <a:lnTo>
                    <a:pt x="240" y="44"/>
                  </a:lnTo>
                  <a:lnTo>
                    <a:pt x="142" y="98"/>
                  </a:lnTo>
                  <a:lnTo>
                    <a:pt x="0" y="111"/>
                  </a:lnTo>
                  <a:lnTo>
                    <a:pt x="190" y="120"/>
                  </a:lnTo>
                  <a:lnTo>
                    <a:pt x="244" y="89"/>
                  </a:lnTo>
                  <a:lnTo>
                    <a:pt x="279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741320" y="132228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0" y="0"/>
                  </a:moveTo>
                  <a:lnTo>
                    <a:pt x="53" y="53"/>
                  </a:lnTo>
                  <a:lnTo>
                    <a:pt x="63" y="72"/>
                  </a:lnTo>
                  <a:lnTo>
                    <a:pt x="63" y="27"/>
                  </a:lnTo>
                  <a:lnTo>
                    <a:pt x="7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819440" y="13287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17"/>
                  </a:lnTo>
                  <a:lnTo>
                    <a:pt x="0" y="72"/>
                  </a:lnTo>
                  <a:lnTo>
                    <a:pt x="72" y="63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060640" y="133812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0" y="17"/>
                  </a:moveTo>
                  <a:lnTo>
                    <a:pt x="4" y="40"/>
                  </a:lnTo>
                  <a:lnTo>
                    <a:pt x="17" y="49"/>
                  </a:lnTo>
                  <a:lnTo>
                    <a:pt x="89" y="72"/>
                  </a:lnTo>
                  <a:lnTo>
                    <a:pt x="53" y="49"/>
                  </a:lnTo>
                  <a:lnTo>
                    <a:pt x="53" y="27"/>
                  </a:lnTo>
                  <a:lnTo>
                    <a:pt x="71" y="0"/>
                  </a:lnTo>
                  <a:lnTo>
                    <a:pt x="39" y="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146320" y="134460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13" y="0"/>
                  </a:moveTo>
                  <a:lnTo>
                    <a:pt x="27" y="27"/>
                  </a:lnTo>
                  <a:lnTo>
                    <a:pt x="0" y="72"/>
                  </a:lnTo>
                  <a:lnTo>
                    <a:pt x="76" y="40"/>
                  </a:lnTo>
                  <a:lnTo>
                    <a:pt x="76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781280" y="133344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097000" y="135108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665360" y="1514520"/>
              <a:ext cx="28800" cy="184680"/>
            </a:xfrm>
            <a:custGeom>
              <a:avLst/>
              <a:gdLst/>
              <a:ahLst/>
              <a:rect l="0" t="0" r="r" b="b"/>
              <a:pathLst>
                <a:path w="80" h="513">
                  <a:moveTo>
                    <a:pt x="30" y="0"/>
                  </a:moveTo>
                  <a:lnTo>
                    <a:pt x="0" y="164"/>
                  </a:lnTo>
                  <a:lnTo>
                    <a:pt x="8" y="300"/>
                  </a:lnTo>
                  <a:lnTo>
                    <a:pt x="80" y="513"/>
                  </a:lnTo>
                  <a:lnTo>
                    <a:pt x="35" y="309"/>
                  </a:lnTo>
                  <a:lnTo>
                    <a:pt x="30" y="21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125800" y="1565280"/>
              <a:ext cx="68760" cy="171720"/>
            </a:xfrm>
            <a:custGeom>
              <a:avLst/>
              <a:gdLst/>
              <a:ahLst/>
              <a:rect l="0" t="0" r="r" b="b"/>
              <a:pathLst>
                <a:path w="191" h="477">
                  <a:moveTo>
                    <a:pt x="191" y="0"/>
                  </a:moveTo>
                  <a:lnTo>
                    <a:pt x="156" y="189"/>
                  </a:lnTo>
                  <a:lnTo>
                    <a:pt x="89" y="344"/>
                  </a:lnTo>
                  <a:lnTo>
                    <a:pt x="0" y="477"/>
                  </a:lnTo>
                  <a:lnTo>
                    <a:pt x="142" y="318"/>
                  </a:lnTo>
                  <a:lnTo>
                    <a:pt x="178" y="211"/>
                  </a:lnTo>
                  <a:lnTo>
                    <a:pt x="19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549440" y="682560"/>
              <a:ext cx="813240" cy="609840"/>
            </a:xfrm>
            <a:custGeom>
              <a:avLst/>
              <a:gdLst/>
              <a:ahLst/>
              <a:rect l="0" t="0" r="r" b="b"/>
              <a:pathLst>
                <a:path w="2259" h="1694">
                  <a:moveTo>
                    <a:pt x="436" y="348"/>
                  </a:moveTo>
                  <a:lnTo>
                    <a:pt x="697" y="405"/>
                  </a:lnTo>
                  <a:lnTo>
                    <a:pt x="1116" y="454"/>
                  </a:lnTo>
                  <a:lnTo>
                    <a:pt x="1517" y="366"/>
                  </a:lnTo>
                  <a:lnTo>
                    <a:pt x="1774" y="295"/>
                  </a:lnTo>
                  <a:lnTo>
                    <a:pt x="1924" y="313"/>
                  </a:lnTo>
                  <a:lnTo>
                    <a:pt x="2136" y="555"/>
                  </a:lnTo>
                  <a:lnTo>
                    <a:pt x="2153" y="687"/>
                  </a:lnTo>
                  <a:lnTo>
                    <a:pt x="2136" y="860"/>
                  </a:lnTo>
                  <a:lnTo>
                    <a:pt x="2083" y="1028"/>
                  </a:lnTo>
                  <a:lnTo>
                    <a:pt x="2074" y="1196"/>
                  </a:lnTo>
                  <a:lnTo>
                    <a:pt x="2065" y="1297"/>
                  </a:lnTo>
                  <a:lnTo>
                    <a:pt x="2065" y="1407"/>
                  </a:lnTo>
                  <a:lnTo>
                    <a:pt x="2052" y="1482"/>
                  </a:lnTo>
                  <a:lnTo>
                    <a:pt x="2004" y="1654"/>
                  </a:lnTo>
                  <a:lnTo>
                    <a:pt x="2074" y="1628"/>
                  </a:lnTo>
                  <a:lnTo>
                    <a:pt x="2140" y="1500"/>
                  </a:lnTo>
                  <a:lnTo>
                    <a:pt x="2198" y="1442"/>
                  </a:lnTo>
                  <a:lnTo>
                    <a:pt x="2259" y="1200"/>
                  </a:lnTo>
                  <a:lnTo>
                    <a:pt x="2259" y="940"/>
                  </a:lnTo>
                  <a:lnTo>
                    <a:pt x="2224" y="705"/>
                  </a:lnTo>
                  <a:lnTo>
                    <a:pt x="2193" y="595"/>
                  </a:lnTo>
                  <a:lnTo>
                    <a:pt x="2074" y="405"/>
                  </a:lnTo>
                  <a:lnTo>
                    <a:pt x="1977" y="273"/>
                  </a:lnTo>
                  <a:lnTo>
                    <a:pt x="1832" y="154"/>
                  </a:lnTo>
                  <a:lnTo>
                    <a:pt x="1619" y="92"/>
                  </a:lnTo>
                  <a:lnTo>
                    <a:pt x="1368" y="26"/>
                  </a:lnTo>
                  <a:lnTo>
                    <a:pt x="1063" y="0"/>
                  </a:lnTo>
                  <a:lnTo>
                    <a:pt x="768" y="8"/>
                  </a:lnTo>
                  <a:lnTo>
                    <a:pt x="511" y="114"/>
                  </a:lnTo>
                  <a:lnTo>
                    <a:pt x="348" y="242"/>
                  </a:lnTo>
                  <a:lnTo>
                    <a:pt x="176" y="313"/>
                  </a:lnTo>
                  <a:lnTo>
                    <a:pt x="97" y="436"/>
                  </a:lnTo>
                  <a:lnTo>
                    <a:pt x="0" y="665"/>
                  </a:lnTo>
                  <a:lnTo>
                    <a:pt x="0" y="935"/>
                  </a:lnTo>
                  <a:lnTo>
                    <a:pt x="39" y="1196"/>
                  </a:lnTo>
                  <a:lnTo>
                    <a:pt x="52" y="1416"/>
                  </a:lnTo>
                  <a:lnTo>
                    <a:pt x="83" y="1500"/>
                  </a:lnTo>
                  <a:lnTo>
                    <a:pt x="149" y="1597"/>
                  </a:lnTo>
                  <a:lnTo>
                    <a:pt x="167" y="1694"/>
                  </a:lnTo>
                  <a:lnTo>
                    <a:pt x="189" y="1654"/>
                  </a:lnTo>
                  <a:lnTo>
                    <a:pt x="202" y="1495"/>
                  </a:lnTo>
                  <a:lnTo>
                    <a:pt x="136" y="1284"/>
                  </a:lnTo>
                  <a:lnTo>
                    <a:pt x="123" y="1063"/>
                  </a:lnTo>
                  <a:lnTo>
                    <a:pt x="176" y="860"/>
                  </a:lnTo>
                  <a:lnTo>
                    <a:pt x="189" y="652"/>
                  </a:lnTo>
                  <a:lnTo>
                    <a:pt x="216" y="493"/>
                  </a:lnTo>
                  <a:lnTo>
                    <a:pt x="282" y="423"/>
                  </a:lnTo>
                  <a:lnTo>
                    <a:pt x="436" y="34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654200" y="1252440"/>
              <a:ext cx="265320" cy="194040"/>
            </a:xfrm>
            <a:custGeom>
              <a:avLst/>
              <a:gdLst/>
              <a:ahLst/>
              <a:rect l="0" t="0" r="r" b="b"/>
              <a:pathLst>
                <a:path fill="none" w="737" h="539">
                  <a:moveTo>
                    <a:pt x="697" y="52"/>
                  </a:moveTo>
                  <a:lnTo>
                    <a:pt x="737" y="181"/>
                  </a:lnTo>
                  <a:lnTo>
                    <a:pt x="684" y="447"/>
                  </a:lnTo>
                  <a:lnTo>
                    <a:pt x="516" y="539"/>
                  </a:lnTo>
                  <a:lnTo>
                    <a:pt x="97" y="513"/>
                  </a:lnTo>
                  <a:lnTo>
                    <a:pt x="0" y="367"/>
                  </a:lnTo>
                  <a:lnTo>
                    <a:pt x="39" y="88"/>
                  </a:lnTo>
                  <a:lnTo>
                    <a:pt x="114" y="0"/>
                  </a:lnTo>
                  <a:lnTo>
                    <a:pt x="697" y="5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003400" y="1274760"/>
              <a:ext cx="259200" cy="201960"/>
            </a:xfrm>
            <a:custGeom>
              <a:avLst/>
              <a:gdLst/>
              <a:ahLst/>
              <a:rect l="0" t="0" r="r" b="b"/>
              <a:pathLst>
                <a:path fill="none" w="720" h="561">
                  <a:moveTo>
                    <a:pt x="26" y="119"/>
                  </a:moveTo>
                  <a:lnTo>
                    <a:pt x="0" y="415"/>
                  </a:lnTo>
                  <a:lnTo>
                    <a:pt x="119" y="516"/>
                  </a:lnTo>
                  <a:lnTo>
                    <a:pt x="588" y="561"/>
                  </a:lnTo>
                  <a:lnTo>
                    <a:pt x="685" y="464"/>
                  </a:lnTo>
                  <a:lnTo>
                    <a:pt x="720" y="149"/>
                  </a:lnTo>
                  <a:lnTo>
                    <a:pt x="667" y="30"/>
                  </a:lnTo>
                  <a:lnTo>
                    <a:pt x="119" y="0"/>
                  </a:lnTo>
                  <a:lnTo>
                    <a:pt x="26" y="119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1922400" y="1333440"/>
              <a:ext cx="89280" cy="25920"/>
            </a:xfrm>
            <a:custGeom>
              <a:avLst/>
              <a:gdLst/>
              <a:ahLst/>
              <a:rect l="0" t="0" r="r" b="b"/>
              <a:pathLst>
                <a:path fill="none" w="248" h="72">
                  <a:moveTo>
                    <a:pt x="0" y="63"/>
                  </a:moveTo>
                  <a:lnTo>
                    <a:pt x="111" y="0"/>
                  </a:lnTo>
                  <a:lnTo>
                    <a:pt x="248" y="7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974960" y="1274760"/>
              <a:ext cx="1440" cy="144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562040" y="1257480"/>
              <a:ext cx="101880" cy="33840"/>
            </a:xfrm>
            <a:custGeom>
              <a:avLst/>
              <a:gdLst/>
              <a:ahLst/>
              <a:rect l="0" t="0" r="r" b="b"/>
              <a:pathLst>
                <a:path fill="none" w="283" h="94">
                  <a:moveTo>
                    <a:pt x="283" y="94"/>
                  </a:moveTo>
                  <a:lnTo>
                    <a:pt x="105" y="4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V="1">
              <a:off x="2301840" y="1187280"/>
              <a:ext cx="0" cy="22392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454120" y="2610000"/>
              <a:ext cx="62280" cy="117720"/>
            </a:xfrm>
            <a:custGeom>
              <a:avLst/>
              <a:gdLst/>
              <a:ahLst/>
              <a:rect l="0" t="0" r="r" b="b"/>
              <a:pathLst>
                <a:path w="173" h="327">
                  <a:moveTo>
                    <a:pt x="173" y="318"/>
                  </a:moveTo>
                  <a:lnTo>
                    <a:pt x="17" y="0"/>
                  </a:lnTo>
                  <a:lnTo>
                    <a:pt x="0" y="57"/>
                  </a:lnTo>
                  <a:lnTo>
                    <a:pt x="53" y="208"/>
                  </a:lnTo>
                  <a:lnTo>
                    <a:pt x="67" y="327"/>
                  </a:lnTo>
                  <a:lnTo>
                    <a:pt x="173" y="31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548080" y="273204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27" y="0"/>
                  </a:moveTo>
                  <a:lnTo>
                    <a:pt x="68" y="23"/>
                  </a:lnTo>
                  <a:lnTo>
                    <a:pt x="76" y="72"/>
                  </a:lnTo>
                  <a:lnTo>
                    <a:pt x="0" y="2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639880" y="2747880"/>
              <a:ext cx="43200" cy="25920"/>
            </a:xfrm>
            <a:custGeom>
              <a:avLst/>
              <a:gdLst/>
              <a:ahLst/>
              <a:rect l="0" t="0" r="r" b="b"/>
              <a:pathLst>
                <a:path w="120" h="72">
                  <a:moveTo>
                    <a:pt x="0" y="31"/>
                  </a:moveTo>
                  <a:lnTo>
                    <a:pt x="0" y="8"/>
                  </a:lnTo>
                  <a:lnTo>
                    <a:pt x="75" y="0"/>
                  </a:lnTo>
                  <a:lnTo>
                    <a:pt x="120" y="7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743200" y="2724120"/>
              <a:ext cx="38520" cy="25920"/>
            </a:xfrm>
            <a:custGeom>
              <a:avLst/>
              <a:gdLst/>
              <a:ahLst/>
              <a:rect l="0" t="0" r="r" b="b"/>
              <a:pathLst>
                <a:path w="107" h="72">
                  <a:moveTo>
                    <a:pt x="0" y="27"/>
                  </a:moveTo>
                  <a:lnTo>
                    <a:pt x="67" y="0"/>
                  </a:lnTo>
                  <a:lnTo>
                    <a:pt x="90" y="27"/>
                  </a:lnTo>
                  <a:lnTo>
                    <a:pt x="107" y="72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805120" y="2651040"/>
              <a:ext cx="46440" cy="25920"/>
            </a:xfrm>
            <a:custGeom>
              <a:avLst/>
              <a:gdLst/>
              <a:ahLst/>
              <a:rect l="0" t="0" r="r" b="b"/>
              <a:pathLst>
                <a:path w="129" h="72">
                  <a:moveTo>
                    <a:pt x="22" y="72"/>
                  </a:moveTo>
                  <a:lnTo>
                    <a:pt x="0" y="17"/>
                  </a:lnTo>
                  <a:lnTo>
                    <a:pt x="36" y="0"/>
                  </a:lnTo>
                  <a:lnTo>
                    <a:pt x="129" y="17"/>
                  </a:lnTo>
                  <a:lnTo>
                    <a:pt x="22" y="7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630520" y="2241720"/>
              <a:ext cx="28800" cy="52920"/>
            </a:xfrm>
            <a:custGeom>
              <a:avLst/>
              <a:gdLst/>
              <a:ahLst/>
              <a:rect l="0" t="0" r="r" b="b"/>
              <a:pathLst>
                <a:path w="80" h="147">
                  <a:moveTo>
                    <a:pt x="0" y="0"/>
                  </a:moveTo>
                  <a:lnTo>
                    <a:pt x="17" y="84"/>
                  </a:lnTo>
                  <a:lnTo>
                    <a:pt x="17" y="147"/>
                  </a:lnTo>
                  <a:lnTo>
                    <a:pt x="80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870280" y="2460600"/>
              <a:ext cx="90720" cy="39960"/>
            </a:xfrm>
            <a:custGeom>
              <a:avLst/>
              <a:gdLst/>
              <a:ahLst/>
              <a:rect l="0" t="0" r="r" b="b"/>
              <a:pathLst>
                <a:path w="252" h="111">
                  <a:moveTo>
                    <a:pt x="0" y="106"/>
                  </a:moveTo>
                  <a:lnTo>
                    <a:pt x="39" y="67"/>
                  </a:lnTo>
                  <a:lnTo>
                    <a:pt x="70" y="0"/>
                  </a:lnTo>
                  <a:lnTo>
                    <a:pt x="114" y="44"/>
                  </a:lnTo>
                  <a:lnTo>
                    <a:pt x="252" y="52"/>
                  </a:lnTo>
                  <a:lnTo>
                    <a:pt x="177" y="80"/>
                  </a:lnTo>
                  <a:lnTo>
                    <a:pt x="17" y="111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506680" y="230040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72" y="0"/>
                  </a:moveTo>
                  <a:lnTo>
                    <a:pt x="53" y="107"/>
                  </a:lnTo>
                  <a:lnTo>
                    <a:pt x="0" y="99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765520" y="2311560"/>
              <a:ext cx="6200640" cy="3987720"/>
            </a:xfrm>
            <a:prstGeom prst="rect">
              <a:avLst/>
            </a:prstGeom>
            <a:solidFill>
              <a:srgbClr val="ffffff"/>
            </a:solidFill>
            <a:ln w="152280">
              <a:solidFill>
                <a:srgbClr val="996633"/>
              </a:solidFill>
              <a:round/>
            </a:ln>
          </p:spPr>
          <p:txBody>
            <a:bodyPr lIns="165960" rIns="165960" tIns="120960" bIns="12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400480" y="2203560"/>
              <a:ext cx="717840" cy="605160"/>
            </a:xfrm>
            <a:custGeom>
              <a:avLst/>
              <a:gdLst/>
              <a:ahLst/>
              <a:rect l="0" t="0" r="r" b="b"/>
              <a:pathLst>
                <a:path w="1994" h="1681">
                  <a:moveTo>
                    <a:pt x="1711" y="0"/>
                  </a:moveTo>
                  <a:lnTo>
                    <a:pt x="1808" y="70"/>
                  </a:lnTo>
                  <a:lnTo>
                    <a:pt x="1875" y="171"/>
                  </a:lnTo>
                  <a:lnTo>
                    <a:pt x="1954" y="317"/>
                  </a:lnTo>
                  <a:lnTo>
                    <a:pt x="1994" y="480"/>
                  </a:lnTo>
                  <a:lnTo>
                    <a:pt x="1985" y="621"/>
                  </a:lnTo>
                  <a:lnTo>
                    <a:pt x="1659" y="687"/>
                  </a:lnTo>
                  <a:lnTo>
                    <a:pt x="1588" y="767"/>
                  </a:lnTo>
                  <a:lnTo>
                    <a:pt x="1482" y="811"/>
                  </a:lnTo>
                  <a:lnTo>
                    <a:pt x="1310" y="865"/>
                  </a:lnTo>
                  <a:lnTo>
                    <a:pt x="1293" y="1085"/>
                  </a:lnTo>
                  <a:lnTo>
                    <a:pt x="1341" y="1257"/>
                  </a:lnTo>
                  <a:lnTo>
                    <a:pt x="1293" y="1376"/>
                  </a:lnTo>
                  <a:lnTo>
                    <a:pt x="1173" y="1390"/>
                  </a:lnTo>
                  <a:lnTo>
                    <a:pt x="1099" y="1275"/>
                  </a:lnTo>
                  <a:lnTo>
                    <a:pt x="1103" y="1350"/>
                  </a:lnTo>
                  <a:lnTo>
                    <a:pt x="1160" y="1526"/>
                  </a:lnTo>
                  <a:lnTo>
                    <a:pt x="1085" y="1632"/>
                  </a:lnTo>
                  <a:lnTo>
                    <a:pt x="1006" y="1645"/>
                  </a:lnTo>
                  <a:lnTo>
                    <a:pt x="934" y="1588"/>
                  </a:lnTo>
                  <a:lnTo>
                    <a:pt x="842" y="1442"/>
                  </a:lnTo>
                  <a:lnTo>
                    <a:pt x="868" y="1628"/>
                  </a:lnTo>
                  <a:lnTo>
                    <a:pt x="789" y="1681"/>
                  </a:lnTo>
                  <a:lnTo>
                    <a:pt x="696" y="1645"/>
                  </a:lnTo>
                  <a:lnTo>
                    <a:pt x="608" y="1553"/>
                  </a:lnTo>
                  <a:lnTo>
                    <a:pt x="582" y="1601"/>
                  </a:lnTo>
                  <a:lnTo>
                    <a:pt x="502" y="1601"/>
                  </a:lnTo>
                  <a:lnTo>
                    <a:pt x="432" y="1562"/>
                  </a:lnTo>
                  <a:lnTo>
                    <a:pt x="339" y="1482"/>
                  </a:lnTo>
                  <a:lnTo>
                    <a:pt x="176" y="1500"/>
                  </a:lnTo>
                  <a:lnTo>
                    <a:pt x="83" y="1495"/>
                  </a:lnTo>
                  <a:lnTo>
                    <a:pt x="35" y="1447"/>
                  </a:lnTo>
                  <a:lnTo>
                    <a:pt x="0" y="1376"/>
                  </a:lnTo>
                  <a:lnTo>
                    <a:pt x="35" y="1310"/>
                  </a:lnTo>
                  <a:lnTo>
                    <a:pt x="171" y="1165"/>
                  </a:lnTo>
                  <a:lnTo>
                    <a:pt x="66" y="1046"/>
                  </a:lnTo>
                  <a:lnTo>
                    <a:pt x="52" y="927"/>
                  </a:lnTo>
                  <a:lnTo>
                    <a:pt x="92" y="837"/>
                  </a:lnTo>
                  <a:lnTo>
                    <a:pt x="145" y="529"/>
                  </a:lnTo>
                  <a:lnTo>
                    <a:pt x="123" y="396"/>
                  </a:lnTo>
                  <a:lnTo>
                    <a:pt x="158" y="277"/>
                  </a:lnTo>
                  <a:lnTo>
                    <a:pt x="295" y="238"/>
                  </a:lnTo>
                  <a:lnTo>
                    <a:pt x="366" y="185"/>
                  </a:lnTo>
                  <a:lnTo>
                    <a:pt x="432" y="97"/>
                  </a:lnTo>
                  <a:lnTo>
                    <a:pt x="524" y="52"/>
                  </a:lnTo>
                  <a:lnTo>
                    <a:pt x="635" y="66"/>
                  </a:lnTo>
                  <a:lnTo>
                    <a:pt x="732" y="92"/>
                  </a:lnTo>
                  <a:lnTo>
                    <a:pt x="881" y="70"/>
                  </a:lnTo>
                  <a:lnTo>
                    <a:pt x="965" y="105"/>
                  </a:lnTo>
                  <a:lnTo>
                    <a:pt x="1160" y="132"/>
                  </a:lnTo>
                  <a:lnTo>
                    <a:pt x="1354" y="92"/>
                  </a:lnTo>
                  <a:lnTo>
                    <a:pt x="1711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746440" y="2400480"/>
              <a:ext cx="60840" cy="275040"/>
            </a:xfrm>
            <a:custGeom>
              <a:avLst/>
              <a:gdLst/>
              <a:ahLst/>
              <a:rect l="0" t="0" r="r" b="b"/>
              <a:pathLst>
                <a:path w="169" h="764">
                  <a:moveTo>
                    <a:pt x="120" y="703"/>
                  </a:moveTo>
                  <a:lnTo>
                    <a:pt x="67" y="534"/>
                  </a:lnTo>
                  <a:lnTo>
                    <a:pt x="35" y="384"/>
                  </a:lnTo>
                  <a:lnTo>
                    <a:pt x="62" y="230"/>
                  </a:lnTo>
                  <a:lnTo>
                    <a:pt x="67" y="101"/>
                  </a:lnTo>
                  <a:lnTo>
                    <a:pt x="169" y="0"/>
                  </a:lnTo>
                  <a:lnTo>
                    <a:pt x="71" y="52"/>
                  </a:lnTo>
                  <a:lnTo>
                    <a:pt x="45" y="35"/>
                  </a:lnTo>
                  <a:lnTo>
                    <a:pt x="45" y="141"/>
                  </a:lnTo>
                  <a:lnTo>
                    <a:pt x="13" y="384"/>
                  </a:lnTo>
                  <a:lnTo>
                    <a:pt x="0" y="433"/>
                  </a:lnTo>
                  <a:lnTo>
                    <a:pt x="106" y="764"/>
                  </a:lnTo>
                  <a:lnTo>
                    <a:pt x="120" y="70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619360" y="2374920"/>
              <a:ext cx="89280" cy="383040"/>
            </a:xfrm>
            <a:custGeom>
              <a:avLst/>
              <a:gdLst/>
              <a:ahLst/>
              <a:rect l="0" t="0" r="r" b="b"/>
              <a:pathLst>
                <a:path w="248" h="1064">
                  <a:moveTo>
                    <a:pt x="248" y="963"/>
                  </a:moveTo>
                  <a:lnTo>
                    <a:pt x="187" y="857"/>
                  </a:lnTo>
                  <a:lnTo>
                    <a:pt x="124" y="697"/>
                  </a:lnTo>
                  <a:lnTo>
                    <a:pt x="67" y="600"/>
                  </a:lnTo>
                  <a:lnTo>
                    <a:pt x="67" y="503"/>
                  </a:lnTo>
                  <a:lnTo>
                    <a:pt x="48" y="441"/>
                  </a:lnTo>
                  <a:lnTo>
                    <a:pt x="67" y="353"/>
                  </a:lnTo>
                  <a:lnTo>
                    <a:pt x="111" y="180"/>
                  </a:lnTo>
                  <a:lnTo>
                    <a:pt x="128" y="66"/>
                  </a:lnTo>
                  <a:lnTo>
                    <a:pt x="75" y="0"/>
                  </a:lnTo>
                  <a:lnTo>
                    <a:pt x="102" y="70"/>
                  </a:lnTo>
                  <a:lnTo>
                    <a:pt x="48" y="314"/>
                  </a:lnTo>
                  <a:lnTo>
                    <a:pt x="4" y="450"/>
                  </a:lnTo>
                  <a:lnTo>
                    <a:pt x="0" y="516"/>
                  </a:lnTo>
                  <a:lnTo>
                    <a:pt x="22" y="613"/>
                  </a:lnTo>
                  <a:lnTo>
                    <a:pt x="89" y="710"/>
                  </a:lnTo>
                  <a:lnTo>
                    <a:pt x="159" y="853"/>
                  </a:lnTo>
                  <a:lnTo>
                    <a:pt x="231" y="1064"/>
                  </a:lnTo>
                  <a:lnTo>
                    <a:pt x="248" y="96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511360" y="2381400"/>
              <a:ext cx="103680" cy="375120"/>
            </a:xfrm>
            <a:custGeom>
              <a:avLst/>
              <a:gdLst/>
              <a:ahLst/>
              <a:rect l="0" t="0" r="r" b="b"/>
              <a:pathLst>
                <a:path w="288" h="1042">
                  <a:moveTo>
                    <a:pt x="253" y="1042"/>
                  </a:moveTo>
                  <a:lnTo>
                    <a:pt x="288" y="1029"/>
                  </a:lnTo>
                  <a:lnTo>
                    <a:pt x="212" y="861"/>
                  </a:lnTo>
                  <a:lnTo>
                    <a:pt x="89" y="666"/>
                  </a:lnTo>
                  <a:lnTo>
                    <a:pt x="35" y="569"/>
                  </a:lnTo>
                  <a:lnTo>
                    <a:pt x="35" y="486"/>
                  </a:lnTo>
                  <a:lnTo>
                    <a:pt x="61" y="397"/>
                  </a:lnTo>
                  <a:lnTo>
                    <a:pt x="61" y="233"/>
                  </a:lnTo>
                  <a:lnTo>
                    <a:pt x="70" y="123"/>
                  </a:lnTo>
                  <a:lnTo>
                    <a:pt x="48" y="39"/>
                  </a:lnTo>
                  <a:lnTo>
                    <a:pt x="4" y="0"/>
                  </a:lnTo>
                  <a:lnTo>
                    <a:pt x="35" y="97"/>
                  </a:lnTo>
                  <a:lnTo>
                    <a:pt x="39" y="194"/>
                  </a:lnTo>
                  <a:lnTo>
                    <a:pt x="35" y="384"/>
                  </a:lnTo>
                  <a:lnTo>
                    <a:pt x="13" y="464"/>
                  </a:lnTo>
                  <a:lnTo>
                    <a:pt x="0" y="556"/>
                  </a:lnTo>
                  <a:lnTo>
                    <a:pt x="66" y="706"/>
                  </a:lnTo>
                  <a:lnTo>
                    <a:pt x="115" y="763"/>
                  </a:lnTo>
                  <a:lnTo>
                    <a:pt x="253" y="104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786040" y="2290680"/>
              <a:ext cx="73440" cy="60840"/>
            </a:xfrm>
            <a:custGeom>
              <a:avLst/>
              <a:gdLst/>
              <a:ahLst/>
              <a:rect l="0" t="0" r="r" b="b"/>
              <a:pathLst>
                <a:path w="204" h="169">
                  <a:moveTo>
                    <a:pt x="0" y="0"/>
                  </a:moveTo>
                  <a:lnTo>
                    <a:pt x="22" y="35"/>
                  </a:lnTo>
                  <a:lnTo>
                    <a:pt x="146" y="45"/>
                  </a:lnTo>
                  <a:lnTo>
                    <a:pt x="169" y="89"/>
                  </a:lnTo>
                  <a:lnTo>
                    <a:pt x="204" y="169"/>
                  </a:lnTo>
                  <a:lnTo>
                    <a:pt x="191" y="45"/>
                  </a:lnTo>
                  <a:lnTo>
                    <a:pt x="156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"/>
            <p:cNvSpPr txBox="1"/>
            <p:nvPr/>
          </p:nvSpPr>
          <p:spPr>
            <a:xfrm>
              <a:off x="2895480" y="2438280"/>
              <a:ext cx="6040440" cy="3736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4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Prepare a statement of cost of goods manufactured and an income statement for a manufacturing organization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61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5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Defin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cost alloca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 and explain the process of manufacturing overhead allocation using cost objects, cost pools, and cost driver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61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6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Calculate product unit cost using the traditional allocation of manufacturing overhead cost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68" name="" descr=""/>
            <p:cNvPicPr/>
            <p:nvPr/>
          </p:nvPicPr>
          <p:blipFill>
            <a:blip r:embed="rId1"/>
            <a:stretch/>
          </p:blipFill>
          <p:spPr>
            <a:xfrm>
              <a:off x="2803680" y="228600"/>
              <a:ext cx="5780160" cy="163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9" name=""/>
            <p:cNvSpPr txBox="1"/>
            <p:nvPr/>
          </p:nvSpPr>
          <p:spPr>
            <a:xfrm>
              <a:off x="3381480" y="469800"/>
              <a:ext cx="429084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LSO COVERED . . 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0" name=""/>
          <p:cNvGrpSpPr/>
          <p:nvPr/>
        </p:nvGrpSpPr>
        <p:grpSpPr>
          <a:xfrm>
            <a:off x="228600" y="304920"/>
            <a:ext cx="8661600" cy="6014880"/>
            <a:chOff x="228600" y="304920"/>
            <a:chExt cx="8661600" cy="6014880"/>
          </a:xfrm>
        </p:grpSpPr>
        <p:sp>
          <p:nvSpPr>
            <p:cNvPr id="1071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274920" y="57117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274920" y="57117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274920" y="57117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274920" y="57117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274920" y="57117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274920" y="57117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274920" y="57117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274920" y="57117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274920" y="57117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04920" y="5862600"/>
              <a:ext cx="29811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274920" y="571176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765000" y="5711760"/>
              <a:ext cx="1960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28600" y="5862600"/>
              <a:ext cx="297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19280" y="4214880"/>
              <a:ext cx="437040" cy="1016280"/>
            </a:xfrm>
            <a:custGeom>
              <a:avLst/>
              <a:gdLst/>
              <a:ahLst/>
              <a:rect l="0" t="0" r="r" b="b"/>
              <a:pathLst>
                <a:path w="1214" h="2823">
                  <a:moveTo>
                    <a:pt x="569" y="0"/>
                  </a:moveTo>
                  <a:lnTo>
                    <a:pt x="419" y="449"/>
                  </a:lnTo>
                  <a:lnTo>
                    <a:pt x="309" y="714"/>
                  </a:lnTo>
                  <a:lnTo>
                    <a:pt x="119" y="1062"/>
                  </a:lnTo>
                  <a:lnTo>
                    <a:pt x="35" y="1168"/>
                  </a:lnTo>
                  <a:lnTo>
                    <a:pt x="8" y="1270"/>
                  </a:lnTo>
                  <a:lnTo>
                    <a:pt x="0" y="1367"/>
                  </a:lnTo>
                  <a:lnTo>
                    <a:pt x="48" y="1495"/>
                  </a:lnTo>
                  <a:lnTo>
                    <a:pt x="48" y="1791"/>
                  </a:lnTo>
                  <a:lnTo>
                    <a:pt x="22" y="1963"/>
                  </a:lnTo>
                  <a:lnTo>
                    <a:pt x="22" y="2073"/>
                  </a:lnTo>
                  <a:lnTo>
                    <a:pt x="92" y="2197"/>
                  </a:lnTo>
                  <a:lnTo>
                    <a:pt x="189" y="2439"/>
                  </a:lnTo>
                  <a:lnTo>
                    <a:pt x="198" y="2571"/>
                  </a:lnTo>
                  <a:lnTo>
                    <a:pt x="255" y="2770"/>
                  </a:lnTo>
                  <a:lnTo>
                    <a:pt x="309" y="2823"/>
                  </a:lnTo>
                  <a:lnTo>
                    <a:pt x="367" y="2796"/>
                  </a:lnTo>
                  <a:lnTo>
                    <a:pt x="437" y="2823"/>
                  </a:lnTo>
                  <a:lnTo>
                    <a:pt x="499" y="2787"/>
                  </a:lnTo>
                  <a:lnTo>
                    <a:pt x="543" y="2704"/>
                  </a:lnTo>
                  <a:lnTo>
                    <a:pt x="600" y="2651"/>
                  </a:lnTo>
                  <a:lnTo>
                    <a:pt x="627" y="2558"/>
                  </a:lnTo>
                  <a:lnTo>
                    <a:pt x="609" y="2461"/>
                  </a:lnTo>
                  <a:lnTo>
                    <a:pt x="662" y="2492"/>
                  </a:lnTo>
                  <a:lnTo>
                    <a:pt x="710" y="2443"/>
                  </a:lnTo>
                  <a:lnTo>
                    <a:pt x="746" y="2338"/>
                  </a:lnTo>
                  <a:lnTo>
                    <a:pt x="785" y="2280"/>
                  </a:lnTo>
                  <a:lnTo>
                    <a:pt x="785" y="2205"/>
                  </a:lnTo>
                  <a:lnTo>
                    <a:pt x="706" y="2095"/>
                  </a:lnTo>
                  <a:lnTo>
                    <a:pt x="759" y="1910"/>
                  </a:lnTo>
                  <a:lnTo>
                    <a:pt x="941" y="1672"/>
                  </a:lnTo>
                  <a:lnTo>
                    <a:pt x="1157" y="1018"/>
                  </a:lnTo>
                  <a:lnTo>
                    <a:pt x="1183" y="436"/>
                  </a:lnTo>
                  <a:lnTo>
                    <a:pt x="1214" y="66"/>
                  </a:lnTo>
                  <a:lnTo>
                    <a:pt x="569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85880" y="4705200"/>
              <a:ext cx="149760" cy="511560"/>
            </a:xfrm>
            <a:custGeom>
              <a:avLst/>
              <a:gdLst/>
              <a:ahLst/>
              <a:rect l="0" t="0" r="r" b="b"/>
              <a:pathLst>
                <a:path w="416" h="1421">
                  <a:moveTo>
                    <a:pt x="177" y="0"/>
                  </a:moveTo>
                  <a:lnTo>
                    <a:pt x="190" y="105"/>
                  </a:lnTo>
                  <a:lnTo>
                    <a:pt x="234" y="194"/>
                  </a:lnTo>
                  <a:lnTo>
                    <a:pt x="190" y="428"/>
                  </a:lnTo>
                  <a:lnTo>
                    <a:pt x="155" y="561"/>
                  </a:lnTo>
                  <a:lnTo>
                    <a:pt x="168" y="693"/>
                  </a:lnTo>
                  <a:lnTo>
                    <a:pt x="203" y="763"/>
                  </a:lnTo>
                  <a:lnTo>
                    <a:pt x="243" y="869"/>
                  </a:lnTo>
                  <a:lnTo>
                    <a:pt x="243" y="975"/>
                  </a:lnTo>
                  <a:lnTo>
                    <a:pt x="296" y="1077"/>
                  </a:lnTo>
                  <a:lnTo>
                    <a:pt x="398" y="1082"/>
                  </a:lnTo>
                  <a:lnTo>
                    <a:pt x="416" y="1227"/>
                  </a:lnTo>
                  <a:lnTo>
                    <a:pt x="345" y="1302"/>
                  </a:lnTo>
                  <a:lnTo>
                    <a:pt x="256" y="1421"/>
                  </a:lnTo>
                  <a:lnTo>
                    <a:pt x="190" y="1408"/>
                  </a:lnTo>
                  <a:lnTo>
                    <a:pt x="128" y="1404"/>
                  </a:lnTo>
                  <a:lnTo>
                    <a:pt x="172" y="1188"/>
                  </a:lnTo>
                  <a:lnTo>
                    <a:pt x="168" y="1069"/>
                  </a:lnTo>
                  <a:lnTo>
                    <a:pt x="106" y="1024"/>
                  </a:lnTo>
                  <a:lnTo>
                    <a:pt x="155" y="1019"/>
                  </a:lnTo>
                  <a:lnTo>
                    <a:pt x="115" y="843"/>
                  </a:lnTo>
                  <a:lnTo>
                    <a:pt x="30" y="772"/>
                  </a:lnTo>
                  <a:lnTo>
                    <a:pt x="79" y="737"/>
                  </a:lnTo>
                  <a:lnTo>
                    <a:pt x="0" y="662"/>
                  </a:lnTo>
                  <a:lnTo>
                    <a:pt x="39" y="666"/>
                  </a:lnTo>
                  <a:lnTo>
                    <a:pt x="92" y="494"/>
                  </a:lnTo>
                  <a:lnTo>
                    <a:pt x="142" y="317"/>
                  </a:lnTo>
                  <a:lnTo>
                    <a:pt x="79" y="264"/>
                  </a:lnTo>
                  <a:lnTo>
                    <a:pt x="142" y="277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963720" y="4289400"/>
              <a:ext cx="179640" cy="652680"/>
            </a:xfrm>
            <a:custGeom>
              <a:avLst/>
              <a:gdLst/>
              <a:ahLst/>
              <a:rect l="0" t="0" r="r" b="b"/>
              <a:pathLst>
                <a:path w="499" h="1813">
                  <a:moveTo>
                    <a:pt x="8" y="1813"/>
                  </a:moveTo>
                  <a:lnTo>
                    <a:pt x="0" y="1663"/>
                  </a:lnTo>
                  <a:lnTo>
                    <a:pt x="57" y="1487"/>
                  </a:lnTo>
                  <a:lnTo>
                    <a:pt x="211" y="1262"/>
                  </a:lnTo>
                  <a:lnTo>
                    <a:pt x="256" y="1068"/>
                  </a:lnTo>
                  <a:lnTo>
                    <a:pt x="238" y="881"/>
                  </a:lnTo>
                  <a:lnTo>
                    <a:pt x="167" y="745"/>
                  </a:lnTo>
                  <a:lnTo>
                    <a:pt x="35" y="639"/>
                  </a:lnTo>
                  <a:lnTo>
                    <a:pt x="167" y="701"/>
                  </a:lnTo>
                  <a:lnTo>
                    <a:pt x="127" y="573"/>
                  </a:lnTo>
                  <a:lnTo>
                    <a:pt x="207" y="635"/>
                  </a:lnTo>
                  <a:lnTo>
                    <a:pt x="163" y="410"/>
                  </a:lnTo>
                  <a:lnTo>
                    <a:pt x="261" y="13"/>
                  </a:lnTo>
                  <a:lnTo>
                    <a:pt x="499" y="0"/>
                  </a:lnTo>
                  <a:lnTo>
                    <a:pt x="477" y="260"/>
                  </a:lnTo>
                  <a:lnTo>
                    <a:pt x="450" y="811"/>
                  </a:lnTo>
                  <a:lnTo>
                    <a:pt x="274" y="1403"/>
                  </a:lnTo>
                  <a:lnTo>
                    <a:pt x="194" y="1522"/>
                  </a:lnTo>
                  <a:lnTo>
                    <a:pt x="101" y="1663"/>
                  </a:lnTo>
                  <a:lnTo>
                    <a:pt x="8" y="18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888840" y="5002200"/>
              <a:ext cx="49680" cy="25920"/>
            </a:xfrm>
            <a:custGeom>
              <a:avLst/>
              <a:gdLst/>
              <a:ahLst/>
              <a:rect l="0" t="0" r="r" b="b"/>
              <a:pathLst>
                <a:path w="138" h="72">
                  <a:moveTo>
                    <a:pt x="0" y="40"/>
                  </a:moveTo>
                  <a:lnTo>
                    <a:pt x="22" y="8"/>
                  </a:lnTo>
                  <a:lnTo>
                    <a:pt x="93" y="0"/>
                  </a:lnTo>
                  <a:lnTo>
                    <a:pt x="129" y="27"/>
                  </a:lnTo>
                  <a:lnTo>
                    <a:pt x="138" y="72"/>
                  </a:lnTo>
                  <a:lnTo>
                    <a:pt x="93" y="3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942840" y="4975200"/>
              <a:ext cx="51120" cy="122760"/>
            </a:xfrm>
            <a:custGeom>
              <a:avLst/>
              <a:gdLst/>
              <a:ahLst/>
              <a:rect l="0" t="0" r="r" b="b"/>
              <a:pathLst>
                <a:path w="142" h="341">
                  <a:moveTo>
                    <a:pt x="66" y="0"/>
                  </a:moveTo>
                  <a:lnTo>
                    <a:pt x="66" y="93"/>
                  </a:lnTo>
                  <a:lnTo>
                    <a:pt x="57" y="217"/>
                  </a:lnTo>
                  <a:lnTo>
                    <a:pt x="0" y="319"/>
                  </a:lnTo>
                  <a:lnTo>
                    <a:pt x="35" y="341"/>
                  </a:lnTo>
                  <a:lnTo>
                    <a:pt x="57" y="328"/>
                  </a:lnTo>
                  <a:lnTo>
                    <a:pt x="70" y="297"/>
                  </a:lnTo>
                  <a:lnTo>
                    <a:pt x="93" y="247"/>
                  </a:lnTo>
                  <a:lnTo>
                    <a:pt x="93" y="230"/>
                  </a:lnTo>
                  <a:lnTo>
                    <a:pt x="128" y="186"/>
                  </a:lnTo>
                  <a:lnTo>
                    <a:pt x="137" y="155"/>
                  </a:lnTo>
                  <a:lnTo>
                    <a:pt x="142" y="106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057320" y="3708360"/>
              <a:ext cx="1676880" cy="1211760"/>
            </a:xfrm>
            <a:custGeom>
              <a:avLst/>
              <a:gdLst/>
              <a:ahLst/>
              <a:rect l="0" t="0" r="r" b="b"/>
              <a:pathLst>
                <a:path w="4658" h="3366">
                  <a:moveTo>
                    <a:pt x="652" y="198"/>
                  </a:moveTo>
                  <a:lnTo>
                    <a:pt x="463" y="1301"/>
                  </a:lnTo>
                  <a:lnTo>
                    <a:pt x="189" y="2122"/>
                  </a:lnTo>
                  <a:lnTo>
                    <a:pt x="0" y="3366"/>
                  </a:lnTo>
                  <a:lnTo>
                    <a:pt x="4469" y="3366"/>
                  </a:lnTo>
                  <a:lnTo>
                    <a:pt x="4658" y="1950"/>
                  </a:lnTo>
                  <a:lnTo>
                    <a:pt x="4658" y="904"/>
                  </a:lnTo>
                  <a:lnTo>
                    <a:pt x="4521" y="0"/>
                  </a:lnTo>
                  <a:lnTo>
                    <a:pt x="652" y="198"/>
                  </a:lnTo>
                  <a:close/>
                </a:path>
              </a:pathLst>
            </a:custGeom>
            <a:solidFill>
              <a:srgbClr val="201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074600" y="3809880"/>
              <a:ext cx="1603800" cy="1010160"/>
            </a:xfrm>
            <a:custGeom>
              <a:avLst/>
              <a:gdLst/>
              <a:ahLst/>
              <a:rect l="0" t="0" r="r" b="b"/>
              <a:pathLst>
                <a:path w="4455" h="2806">
                  <a:moveTo>
                    <a:pt x="687" y="79"/>
                  </a:moveTo>
                  <a:lnTo>
                    <a:pt x="1031" y="260"/>
                  </a:lnTo>
                  <a:lnTo>
                    <a:pt x="974" y="485"/>
                  </a:lnTo>
                  <a:lnTo>
                    <a:pt x="1058" y="537"/>
                  </a:lnTo>
                  <a:lnTo>
                    <a:pt x="1147" y="299"/>
                  </a:lnTo>
                  <a:lnTo>
                    <a:pt x="1465" y="392"/>
                  </a:lnTo>
                  <a:lnTo>
                    <a:pt x="1950" y="432"/>
                  </a:lnTo>
                  <a:lnTo>
                    <a:pt x="2329" y="944"/>
                  </a:lnTo>
                  <a:lnTo>
                    <a:pt x="2505" y="418"/>
                  </a:lnTo>
                  <a:lnTo>
                    <a:pt x="3264" y="418"/>
                  </a:lnTo>
                  <a:lnTo>
                    <a:pt x="3250" y="683"/>
                  </a:lnTo>
                  <a:lnTo>
                    <a:pt x="3357" y="670"/>
                  </a:lnTo>
                  <a:lnTo>
                    <a:pt x="3384" y="418"/>
                  </a:lnTo>
                  <a:lnTo>
                    <a:pt x="3794" y="379"/>
                  </a:lnTo>
                  <a:lnTo>
                    <a:pt x="4169" y="233"/>
                  </a:lnTo>
                  <a:lnTo>
                    <a:pt x="4402" y="0"/>
                  </a:lnTo>
                  <a:lnTo>
                    <a:pt x="4239" y="485"/>
                  </a:lnTo>
                  <a:lnTo>
                    <a:pt x="4089" y="838"/>
                  </a:lnTo>
                  <a:lnTo>
                    <a:pt x="3913" y="719"/>
                  </a:lnTo>
                  <a:lnTo>
                    <a:pt x="4129" y="1169"/>
                  </a:lnTo>
                  <a:lnTo>
                    <a:pt x="4416" y="1416"/>
                  </a:lnTo>
                  <a:lnTo>
                    <a:pt x="4455" y="1954"/>
                  </a:lnTo>
                  <a:lnTo>
                    <a:pt x="4279" y="2806"/>
                  </a:lnTo>
                  <a:lnTo>
                    <a:pt x="2355" y="2766"/>
                  </a:lnTo>
                  <a:lnTo>
                    <a:pt x="3061" y="2559"/>
                  </a:lnTo>
                  <a:lnTo>
                    <a:pt x="3211" y="2202"/>
                  </a:lnTo>
                  <a:lnTo>
                    <a:pt x="2937" y="2506"/>
                  </a:lnTo>
                  <a:lnTo>
                    <a:pt x="2316" y="2806"/>
                  </a:lnTo>
                  <a:lnTo>
                    <a:pt x="2179" y="2295"/>
                  </a:lnTo>
                  <a:lnTo>
                    <a:pt x="2342" y="1742"/>
                  </a:lnTo>
                  <a:lnTo>
                    <a:pt x="2369" y="1337"/>
                  </a:lnTo>
                  <a:lnTo>
                    <a:pt x="2289" y="1350"/>
                  </a:lnTo>
                  <a:lnTo>
                    <a:pt x="2166" y="2281"/>
                  </a:lnTo>
                  <a:lnTo>
                    <a:pt x="2316" y="2766"/>
                  </a:lnTo>
                  <a:lnTo>
                    <a:pt x="1936" y="2793"/>
                  </a:lnTo>
                  <a:lnTo>
                    <a:pt x="1628" y="2727"/>
                  </a:lnTo>
                  <a:lnTo>
                    <a:pt x="1257" y="2334"/>
                  </a:lnTo>
                  <a:lnTo>
                    <a:pt x="1084" y="2162"/>
                  </a:lnTo>
                  <a:lnTo>
                    <a:pt x="1058" y="2308"/>
                  </a:lnTo>
                  <a:lnTo>
                    <a:pt x="1557" y="2766"/>
                  </a:lnTo>
                  <a:lnTo>
                    <a:pt x="1018" y="2780"/>
                  </a:lnTo>
                  <a:lnTo>
                    <a:pt x="0" y="2780"/>
                  </a:lnTo>
                  <a:lnTo>
                    <a:pt x="163" y="2295"/>
                  </a:lnTo>
                  <a:lnTo>
                    <a:pt x="189" y="1729"/>
                  </a:lnTo>
                  <a:lnTo>
                    <a:pt x="498" y="1689"/>
                  </a:lnTo>
                  <a:lnTo>
                    <a:pt x="868" y="1310"/>
                  </a:lnTo>
                  <a:lnTo>
                    <a:pt x="798" y="746"/>
                  </a:lnTo>
                  <a:lnTo>
                    <a:pt x="661" y="657"/>
                  </a:lnTo>
                  <a:lnTo>
                    <a:pt x="687" y="785"/>
                  </a:lnTo>
                  <a:lnTo>
                    <a:pt x="798" y="1169"/>
                  </a:lnTo>
                  <a:lnTo>
                    <a:pt x="674" y="1390"/>
                  </a:lnTo>
                  <a:lnTo>
                    <a:pt x="432" y="1628"/>
                  </a:lnTo>
                  <a:lnTo>
                    <a:pt x="286" y="1637"/>
                  </a:lnTo>
                  <a:lnTo>
                    <a:pt x="445" y="1116"/>
                  </a:lnTo>
                  <a:lnTo>
                    <a:pt x="511" y="746"/>
                  </a:lnTo>
                  <a:lnTo>
                    <a:pt x="687" y="79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570040" y="3852720"/>
              <a:ext cx="127440" cy="438480"/>
            </a:xfrm>
            <a:custGeom>
              <a:avLst/>
              <a:gdLst/>
              <a:ahLst/>
              <a:rect l="0" t="0" r="r" b="b"/>
              <a:pathLst>
                <a:path w="354" h="1218">
                  <a:moveTo>
                    <a:pt x="0" y="790"/>
                  </a:moveTo>
                  <a:lnTo>
                    <a:pt x="177" y="1076"/>
                  </a:lnTo>
                  <a:lnTo>
                    <a:pt x="319" y="1218"/>
                  </a:lnTo>
                  <a:lnTo>
                    <a:pt x="354" y="957"/>
                  </a:lnTo>
                  <a:lnTo>
                    <a:pt x="328" y="542"/>
                  </a:lnTo>
                  <a:lnTo>
                    <a:pt x="293" y="0"/>
                  </a:lnTo>
                  <a:lnTo>
                    <a:pt x="142" y="568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841320" y="1766880"/>
              <a:ext cx="3243600" cy="2583360"/>
            </a:xfrm>
            <a:custGeom>
              <a:avLst/>
              <a:gdLst/>
              <a:ahLst/>
              <a:rect l="0" t="0" r="r" b="b"/>
              <a:pathLst>
                <a:path w="9010" h="7176">
                  <a:moveTo>
                    <a:pt x="2204" y="343"/>
                  </a:moveTo>
                  <a:lnTo>
                    <a:pt x="2041" y="661"/>
                  </a:lnTo>
                  <a:lnTo>
                    <a:pt x="1468" y="926"/>
                  </a:lnTo>
                  <a:lnTo>
                    <a:pt x="978" y="1031"/>
                  </a:lnTo>
                  <a:lnTo>
                    <a:pt x="736" y="1217"/>
                  </a:lnTo>
                  <a:lnTo>
                    <a:pt x="515" y="1613"/>
                  </a:lnTo>
                  <a:lnTo>
                    <a:pt x="410" y="2223"/>
                  </a:lnTo>
                  <a:lnTo>
                    <a:pt x="326" y="3070"/>
                  </a:lnTo>
                  <a:lnTo>
                    <a:pt x="52" y="4150"/>
                  </a:lnTo>
                  <a:lnTo>
                    <a:pt x="0" y="5791"/>
                  </a:lnTo>
                  <a:lnTo>
                    <a:pt x="189" y="6453"/>
                  </a:lnTo>
                  <a:lnTo>
                    <a:pt x="132" y="6973"/>
                  </a:lnTo>
                  <a:lnTo>
                    <a:pt x="242" y="7079"/>
                  </a:lnTo>
                  <a:lnTo>
                    <a:pt x="617" y="7176"/>
                  </a:lnTo>
                  <a:lnTo>
                    <a:pt x="890" y="7136"/>
                  </a:lnTo>
                  <a:lnTo>
                    <a:pt x="1027" y="6726"/>
                  </a:lnTo>
                  <a:lnTo>
                    <a:pt x="1252" y="5606"/>
                  </a:lnTo>
                  <a:lnTo>
                    <a:pt x="2341" y="6003"/>
                  </a:lnTo>
                  <a:lnTo>
                    <a:pt x="3593" y="6030"/>
                  </a:lnTo>
                  <a:lnTo>
                    <a:pt x="4573" y="5924"/>
                  </a:lnTo>
                  <a:lnTo>
                    <a:pt x="4767" y="5686"/>
                  </a:lnTo>
                  <a:lnTo>
                    <a:pt x="5094" y="5421"/>
                  </a:lnTo>
                  <a:lnTo>
                    <a:pt x="5257" y="4997"/>
                  </a:lnTo>
                  <a:lnTo>
                    <a:pt x="5394" y="4547"/>
                  </a:lnTo>
                  <a:lnTo>
                    <a:pt x="5499" y="3833"/>
                  </a:lnTo>
                  <a:lnTo>
                    <a:pt x="5610" y="2964"/>
                  </a:lnTo>
                  <a:lnTo>
                    <a:pt x="6584" y="2382"/>
                  </a:lnTo>
                  <a:lnTo>
                    <a:pt x="7894" y="2197"/>
                  </a:lnTo>
                  <a:lnTo>
                    <a:pt x="8763" y="1879"/>
                  </a:lnTo>
                  <a:lnTo>
                    <a:pt x="9010" y="1322"/>
                  </a:lnTo>
                  <a:lnTo>
                    <a:pt x="8820" y="873"/>
                  </a:lnTo>
                  <a:lnTo>
                    <a:pt x="8084" y="529"/>
                  </a:lnTo>
                  <a:lnTo>
                    <a:pt x="7510" y="529"/>
                  </a:lnTo>
                  <a:lnTo>
                    <a:pt x="6994" y="608"/>
                  </a:lnTo>
                  <a:lnTo>
                    <a:pt x="6642" y="846"/>
                  </a:lnTo>
                  <a:lnTo>
                    <a:pt x="6042" y="978"/>
                  </a:lnTo>
                  <a:lnTo>
                    <a:pt x="5530" y="926"/>
                  </a:lnTo>
                  <a:lnTo>
                    <a:pt x="5283" y="793"/>
                  </a:lnTo>
                  <a:lnTo>
                    <a:pt x="4957" y="714"/>
                  </a:lnTo>
                  <a:lnTo>
                    <a:pt x="4493" y="687"/>
                  </a:lnTo>
                  <a:lnTo>
                    <a:pt x="4004" y="529"/>
                  </a:lnTo>
                  <a:lnTo>
                    <a:pt x="3783" y="79"/>
                  </a:lnTo>
                  <a:lnTo>
                    <a:pt x="2725" y="0"/>
                  </a:lnTo>
                  <a:lnTo>
                    <a:pt x="2204" y="343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695600" y="2052720"/>
              <a:ext cx="332280" cy="2037240"/>
            </a:xfrm>
            <a:custGeom>
              <a:avLst/>
              <a:gdLst/>
              <a:ahLst/>
              <a:rect l="0" t="0" r="r" b="b"/>
              <a:pathLst>
                <a:path w="923" h="5659">
                  <a:moveTo>
                    <a:pt x="309" y="74"/>
                  </a:moveTo>
                  <a:lnTo>
                    <a:pt x="499" y="0"/>
                  </a:lnTo>
                  <a:lnTo>
                    <a:pt x="773" y="35"/>
                  </a:lnTo>
                  <a:lnTo>
                    <a:pt x="791" y="291"/>
                  </a:lnTo>
                  <a:lnTo>
                    <a:pt x="658" y="498"/>
                  </a:lnTo>
                  <a:lnTo>
                    <a:pt x="844" y="2474"/>
                  </a:lnTo>
                  <a:lnTo>
                    <a:pt x="923" y="3683"/>
                  </a:lnTo>
                  <a:lnTo>
                    <a:pt x="870" y="4896"/>
                  </a:lnTo>
                  <a:lnTo>
                    <a:pt x="578" y="5659"/>
                  </a:lnTo>
                  <a:lnTo>
                    <a:pt x="39" y="4874"/>
                  </a:lnTo>
                  <a:lnTo>
                    <a:pt x="0" y="3952"/>
                  </a:lnTo>
                  <a:lnTo>
                    <a:pt x="39" y="3123"/>
                  </a:lnTo>
                  <a:lnTo>
                    <a:pt x="105" y="2126"/>
                  </a:lnTo>
                  <a:lnTo>
                    <a:pt x="239" y="1217"/>
                  </a:lnTo>
                  <a:lnTo>
                    <a:pt x="367" y="604"/>
                  </a:lnTo>
                  <a:lnTo>
                    <a:pt x="283" y="238"/>
                  </a:lnTo>
                  <a:lnTo>
                    <a:pt x="309" y="74"/>
                  </a:lnTo>
                  <a:close/>
                </a:path>
              </a:pathLst>
            </a:custGeom>
            <a:solidFill>
              <a:srgbClr val="6600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233360" y="2081160"/>
              <a:ext cx="255960" cy="1719720"/>
            </a:xfrm>
            <a:custGeom>
              <a:avLst/>
              <a:gdLst/>
              <a:ahLst/>
              <a:rect l="0" t="0" r="r" b="b"/>
              <a:pathLst>
                <a:path w="711" h="4777">
                  <a:moveTo>
                    <a:pt x="371" y="158"/>
                  </a:moveTo>
                  <a:lnTo>
                    <a:pt x="711" y="0"/>
                  </a:lnTo>
                  <a:lnTo>
                    <a:pt x="553" y="948"/>
                  </a:lnTo>
                  <a:lnTo>
                    <a:pt x="340" y="1632"/>
                  </a:lnTo>
                  <a:lnTo>
                    <a:pt x="292" y="2395"/>
                  </a:lnTo>
                  <a:lnTo>
                    <a:pt x="397" y="3127"/>
                  </a:lnTo>
                  <a:lnTo>
                    <a:pt x="371" y="4076"/>
                  </a:lnTo>
                  <a:lnTo>
                    <a:pt x="508" y="4777"/>
                  </a:lnTo>
                  <a:lnTo>
                    <a:pt x="186" y="4658"/>
                  </a:lnTo>
                  <a:lnTo>
                    <a:pt x="110" y="4107"/>
                  </a:lnTo>
                  <a:lnTo>
                    <a:pt x="105" y="3418"/>
                  </a:lnTo>
                  <a:lnTo>
                    <a:pt x="0" y="2342"/>
                  </a:lnTo>
                  <a:lnTo>
                    <a:pt x="79" y="1791"/>
                  </a:lnTo>
                  <a:lnTo>
                    <a:pt x="292" y="1027"/>
                  </a:lnTo>
                  <a:lnTo>
                    <a:pt x="371" y="15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2263680" y="1995480"/>
              <a:ext cx="216360" cy="1894320"/>
            </a:xfrm>
            <a:custGeom>
              <a:avLst/>
              <a:gdLst/>
              <a:ahLst/>
              <a:rect l="0" t="0" r="r" b="b"/>
              <a:pathLst>
                <a:path w="601" h="5262">
                  <a:moveTo>
                    <a:pt x="155" y="0"/>
                  </a:moveTo>
                  <a:lnTo>
                    <a:pt x="208" y="577"/>
                  </a:lnTo>
                  <a:lnTo>
                    <a:pt x="208" y="1341"/>
                  </a:lnTo>
                  <a:lnTo>
                    <a:pt x="208" y="2188"/>
                  </a:lnTo>
                  <a:lnTo>
                    <a:pt x="208" y="3392"/>
                  </a:lnTo>
                  <a:lnTo>
                    <a:pt x="105" y="4579"/>
                  </a:lnTo>
                  <a:lnTo>
                    <a:pt x="0" y="5262"/>
                  </a:lnTo>
                  <a:lnTo>
                    <a:pt x="393" y="5201"/>
                  </a:lnTo>
                  <a:lnTo>
                    <a:pt x="553" y="4160"/>
                  </a:lnTo>
                  <a:lnTo>
                    <a:pt x="601" y="3043"/>
                  </a:lnTo>
                  <a:lnTo>
                    <a:pt x="597" y="1844"/>
                  </a:lnTo>
                  <a:lnTo>
                    <a:pt x="570" y="630"/>
                  </a:lnTo>
                  <a:lnTo>
                    <a:pt x="522" y="158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998800" y="2116080"/>
              <a:ext cx="392400" cy="343440"/>
            </a:xfrm>
            <a:custGeom>
              <a:avLst/>
              <a:gdLst/>
              <a:ahLst/>
              <a:rect l="0" t="0" r="r" b="b"/>
              <a:pathLst>
                <a:path w="1090" h="954">
                  <a:moveTo>
                    <a:pt x="0" y="194"/>
                  </a:moveTo>
                  <a:lnTo>
                    <a:pt x="105" y="194"/>
                  </a:lnTo>
                  <a:lnTo>
                    <a:pt x="242" y="256"/>
                  </a:lnTo>
                  <a:lnTo>
                    <a:pt x="317" y="424"/>
                  </a:lnTo>
                  <a:lnTo>
                    <a:pt x="427" y="710"/>
                  </a:lnTo>
                  <a:lnTo>
                    <a:pt x="414" y="901"/>
                  </a:lnTo>
                  <a:lnTo>
                    <a:pt x="343" y="954"/>
                  </a:lnTo>
                  <a:lnTo>
                    <a:pt x="1037" y="875"/>
                  </a:lnTo>
                  <a:lnTo>
                    <a:pt x="1090" y="747"/>
                  </a:lnTo>
                  <a:lnTo>
                    <a:pt x="1024" y="411"/>
                  </a:lnTo>
                  <a:lnTo>
                    <a:pt x="865" y="114"/>
                  </a:lnTo>
                  <a:lnTo>
                    <a:pt x="636" y="0"/>
                  </a:lnTo>
                  <a:lnTo>
                    <a:pt x="454" y="39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268800" y="1982880"/>
              <a:ext cx="768600" cy="457560"/>
            </a:xfrm>
            <a:custGeom>
              <a:avLst/>
              <a:gdLst/>
              <a:ahLst/>
              <a:rect l="0" t="0" r="r" b="b"/>
              <a:pathLst>
                <a:path w="2135" h="1271">
                  <a:moveTo>
                    <a:pt x="0" y="335"/>
                  </a:moveTo>
                  <a:lnTo>
                    <a:pt x="211" y="427"/>
                  </a:lnTo>
                  <a:lnTo>
                    <a:pt x="388" y="728"/>
                  </a:lnTo>
                  <a:lnTo>
                    <a:pt x="418" y="1116"/>
                  </a:lnTo>
                  <a:lnTo>
                    <a:pt x="401" y="1271"/>
                  </a:lnTo>
                  <a:lnTo>
                    <a:pt x="1045" y="1178"/>
                  </a:lnTo>
                  <a:lnTo>
                    <a:pt x="1438" y="1116"/>
                  </a:lnTo>
                  <a:lnTo>
                    <a:pt x="1703" y="688"/>
                  </a:lnTo>
                  <a:lnTo>
                    <a:pt x="1676" y="480"/>
                  </a:lnTo>
                  <a:lnTo>
                    <a:pt x="1786" y="702"/>
                  </a:lnTo>
                  <a:lnTo>
                    <a:pt x="1676" y="909"/>
                  </a:lnTo>
                  <a:lnTo>
                    <a:pt x="1575" y="1063"/>
                  </a:lnTo>
                  <a:lnTo>
                    <a:pt x="1826" y="882"/>
                  </a:lnTo>
                  <a:lnTo>
                    <a:pt x="1897" y="728"/>
                  </a:lnTo>
                  <a:lnTo>
                    <a:pt x="1910" y="520"/>
                  </a:lnTo>
                  <a:lnTo>
                    <a:pt x="1950" y="702"/>
                  </a:lnTo>
                  <a:lnTo>
                    <a:pt x="1923" y="896"/>
                  </a:lnTo>
                  <a:lnTo>
                    <a:pt x="1866" y="1050"/>
                  </a:lnTo>
                  <a:lnTo>
                    <a:pt x="2051" y="922"/>
                  </a:lnTo>
                  <a:lnTo>
                    <a:pt x="2135" y="621"/>
                  </a:lnTo>
                  <a:lnTo>
                    <a:pt x="2011" y="374"/>
                  </a:lnTo>
                  <a:lnTo>
                    <a:pt x="1786" y="233"/>
                  </a:lnTo>
                  <a:lnTo>
                    <a:pt x="1465" y="79"/>
                  </a:lnTo>
                  <a:lnTo>
                    <a:pt x="1196" y="0"/>
                  </a:lnTo>
                  <a:lnTo>
                    <a:pt x="952" y="0"/>
                  </a:lnTo>
                  <a:lnTo>
                    <a:pt x="604" y="13"/>
                  </a:lnTo>
                  <a:lnTo>
                    <a:pt x="198" y="114"/>
                  </a:lnTo>
                  <a:lnTo>
                    <a:pt x="511" y="92"/>
                  </a:lnTo>
                  <a:lnTo>
                    <a:pt x="709" y="79"/>
                  </a:lnTo>
                  <a:lnTo>
                    <a:pt x="895" y="105"/>
                  </a:lnTo>
                  <a:lnTo>
                    <a:pt x="617" y="127"/>
                  </a:lnTo>
                  <a:lnTo>
                    <a:pt x="335" y="127"/>
                  </a:lnTo>
                  <a:lnTo>
                    <a:pt x="149" y="194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798640" y="2116080"/>
              <a:ext cx="346320" cy="109800"/>
            </a:xfrm>
            <a:custGeom>
              <a:avLst/>
              <a:gdLst/>
              <a:ahLst/>
              <a:rect l="0" t="0" r="r" b="b"/>
              <a:pathLst>
                <a:path w="962" h="305">
                  <a:moveTo>
                    <a:pt x="962" y="0"/>
                  </a:moveTo>
                  <a:lnTo>
                    <a:pt x="710" y="83"/>
                  </a:lnTo>
                  <a:lnTo>
                    <a:pt x="471" y="172"/>
                  </a:lnTo>
                  <a:lnTo>
                    <a:pt x="220" y="256"/>
                  </a:lnTo>
                  <a:lnTo>
                    <a:pt x="0" y="305"/>
                  </a:lnTo>
                  <a:lnTo>
                    <a:pt x="185" y="159"/>
                  </a:lnTo>
                  <a:lnTo>
                    <a:pt x="392" y="48"/>
                  </a:lnTo>
                  <a:lnTo>
                    <a:pt x="486" y="74"/>
                  </a:lnTo>
                  <a:lnTo>
                    <a:pt x="96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730600" y="2135160"/>
              <a:ext cx="165600" cy="81360"/>
            </a:xfrm>
            <a:custGeom>
              <a:avLst/>
              <a:gdLst/>
              <a:ahLst/>
              <a:rect l="0" t="0" r="r" b="b"/>
              <a:pathLst>
                <a:path w="460" h="226">
                  <a:moveTo>
                    <a:pt x="460" y="0"/>
                  </a:moveTo>
                  <a:lnTo>
                    <a:pt x="261" y="93"/>
                  </a:lnTo>
                  <a:lnTo>
                    <a:pt x="142" y="226"/>
                  </a:lnTo>
                  <a:lnTo>
                    <a:pt x="0" y="178"/>
                  </a:lnTo>
                  <a:lnTo>
                    <a:pt x="190" y="48"/>
                  </a:lnTo>
                  <a:lnTo>
                    <a:pt x="283" y="0"/>
                  </a:lnTo>
                  <a:lnTo>
                    <a:pt x="460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2490840" y="2044800"/>
              <a:ext cx="284400" cy="209880"/>
            </a:xfrm>
            <a:custGeom>
              <a:avLst/>
              <a:gdLst/>
              <a:ahLst/>
              <a:rect l="0" t="0" r="r" b="b"/>
              <a:pathLst>
                <a:path w="790" h="583">
                  <a:moveTo>
                    <a:pt x="790" y="189"/>
                  </a:moveTo>
                  <a:lnTo>
                    <a:pt x="631" y="353"/>
                  </a:lnTo>
                  <a:lnTo>
                    <a:pt x="538" y="433"/>
                  </a:lnTo>
                  <a:lnTo>
                    <a:pt x="450" y="455"/>
                  </a:lnTo>
                  <a:lnTo>
                    <a:pt x="352" y="433"/>
                  </a:lnTo>
                  <a:lnTo>
                    <a:pt x="251" y="433"/>
                  </a:lnTo>
                  <a:lnTo>
                    <a:pt x="145" y="481"/>
                  </a:lnTo>
                  <a:lnTo>
                    <a:pt x="26" y="583"/>
                  </a:lnTo>
                  <a:lnTo>
                    <a:pt x="39" y="305"/>
                  </a:lnTo>
                  <a:lnTo>
                    <a:pt x="0" y="74"/>
                  </a:lnTo>
                  <a:lnTo>
                    <a:pt x="0" y="0"/>
                  </a:lnTo>
                  <a:lnTo>
                    <a:pt x="207" y="13"/>
                  </a:lnTo>
                  <a:lnTo>
                    <a:pt x="379" y="26"/>
                  </a:lnTo>
                  <a:lnTo>
                    <a:pt x="569" y="61"/>
                  </a:lnTo>
                  <a:lnTo>
                    <a:pt x="790" y="18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627280" y="2373480"/>
              <a:ext cx="1337040" cy="903600"/>
            </a:xfrm>
            <a:custGeom>
              <a:avLst/>
              <a:gdLst/>
              <a:ahLst/>
              <a:rect l="0" t="0" r="r" b="b"/>
              <a:pathLst>
                <a:path w="3714" h="2510">
                  <a:moveTo>
                    <a:pt x="1266" y="299"/>
                  </a:moveTo>
                  <a:lnTo>
                    <a:pt x="1090" y="313"/>
                  </a:lnTo>
                  <a:lnTo>
                    <a:pt x="953" y="405"/>
                  </a:lnTo>
                  <a:lnTo>
                    <a:pt x="754" y="485"/>
                  </a:lnTo>
                  <a:lnTo>
                    <a:pt x="767" y="652"/>
                  </a:lnTo>
                  <a:lnTo>
                    <a:pt x="767" y="824"/>
                  </a:lnTo>
                  <a:lnTo>
                    <a:pt x="727" y="970"/>
                  </a:lnTo>
                  <a:lnTo>
                    <a:pt x="595" y="1009"/>
                  </a:lnTo>
                  <a:lnTo>
                    <a:pt x="568" y="1150"/>
                  </a:lnTo>
                  <a:lnTo>
                    <a:pt x="432" y="1297"/>
                  </a:lnTo>
                  <a:lnTo>
                    <a:pt x="136" y="1897"/>
                  </a:lnTo>
                  <a:lnTo>
                    <a:pt x="0" y="2510"/>
                  </a:lnTo>
                  <a:lnTo>
                    <a:pt x="216" y="2038"/>
                  </a:lnTo>
                  <a:lnTo>
                    <a:pt x="361" y="1637"/>
                  </a:lnTo>
                  <a:lnTo>
                    <a:pt x="555" y="1310"/>
                  </a:lnTo>
                  <a:lnTo>
                    <a:pt x="661" y="1150"/>
                  </a:lnTo>
                  <a:lnTo>
                    <a:pt x="1024" y="956"/>
                  </a:lnTo>
                  <a:lnTo>
                    <a:pt x="1376" y="745"/>
                  </a:lnTo>
                  <a:lnTo>
                    <a:pt x="1588" y="626"/>
                  </a:lnTo>
                  <a:lnTo>
                    <a:pt x="1972" y="564"/>
                  </a:lnTo>
                  <a:lnTo>
                    <a:pt x="2593" y="511"/>
                  </a:lnTo>
                  <a:lnTo>
                    <a:pt x="2943" y="445"/>
                  </a:lnTo>
                  <a:lnTo>
                    <a:pt x="3322" y="299"/>
                  </a:lnTo>
                  <a:lnTo>
                    <a:pt x="3675" y="171"/>
                  </a:lnTo>
                  <a:lnTo>
                    <a:pt x="3714" y="0"/>
                  </a:lnTo>
                  <a:lnTo>
                    <a:pt x="3538" y="105"/>
                  </a:lnTo>
                  <a:lnTo>
                    <a:pt x="3203" y="326"/>
                  </a:lnTo>
                  <a:lnTo>
                    <a:pt x="3379" y="92"/>
                  </a:lnTo>
                  <a:lnTo>
                    <a:pt x="3093" y="313"/>
                  </a:lnTo>
                  <a:lnTo>
                    <a:pt x="2877" y="339"/>
                  </a:lnTo>
                  <a:lnTo>
                    <a:pt x="3106" y="145"/>
                  </a:lnTo>
                  <a:lnTo>
                    <a:pt x="2523" y="260"/>
                  </a:lnTo>
                  <a:lnTo>
                    <a:pt x="2025" y="299"/>
                  </a:lnTo>
                  <a:lnTo>
                    <a:pt x="1266" y="29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930320" y="1844640"/>
              <a:ext cx="319320" cy="381240"/>
            </a:xfrm>
            <a:custGeom>
              <a:avLst/>
              <a:gdLst/>
              <a:ahLst/>
              <a:rect l="0" t="0" r="r" b="b"/>
              <a:pathLst>
                <a:path w="887" h="1059">
                  <a:moveTo>
                    <a:pt x="189" y="449"/>
                  </a:moveTo>
                  <a:lnTo>
                    <a:pt x="0" y="534"/>
                  </a:lnTo>
                  <a:lnTo>
                    <a:pt x="145" y="565"/>
                  </a:lnTo>
                  <a:lnTo>
                    <a:pt x="216" y="684"/>
                  </a:lnTo>
                  <a:lnTo>
                    <a:pt x="216" y="931"/>
                  </a:lnTo>
                  <a:lnTo>
                    <a:pt x="136" y="1059"/>
                  </a:lnTo>
                  <a:lnTo>
                    <a:pt x="436" y="852"/>
                  </a:lnTo>
                  <a:lnTo>
                    <a:pt x="675" y="569"/>
                  </a:lnTo>
                  <a:lnTo>
                    <a:pt x="887" y="335"/>
                  </a:lnTo>
                  <a:lnTo>
                    <a:pt x="755" y="0"/>
                  </a:lnTo>
                  <a:lnTo>
                    <a:pt x="666" y="198"/>
                  </a:lnTo>
                  <a:lnTo>
                    <a:pt x="481" y="321"/>
                  </a:lnTo>
                  <a:lnTo>
                    <a:pt x="189" y="44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592280" y="1906560"/>
              <a:ext cx="244800" cy="314640"/>
            </a:xfrm>
            <a:custGeom>
              <a:avLst/>
              <a:gdLst/>
              <a:ahLst/>
              <a:rect l="0" t="0" r="r" b="b"/>
              <a:pathLst>
                <a:path w="680" h="874">
                  <a:moveTo>
                    <a:pt x="158" y="0"/>
                  </a:moveTo>
                  <a:lnTo>
                    <a:pt x="238" y="154"/>
                  </a:lnTo>
                  <a:lnTo>
                    <a:pt x="397" y="229"/>
                  </a:lnTo>
                  <a:lnTo>
                    <a:pt x="472" y="295"/>
                  </a:lnTo>
                  <a:lnTo>
                    <a:pt x="680" y="374"/>
                  </a:lnTo>
                  <a:lnTo>
                    <a:pt x="556" y="455"/>
                  </a:lnTo>
                  <a:lnTo>
                    <a:pt x="503" y="578"/>
                  </a:lnTo>
                  <a:lnTo>
                    <a:pt x="552" y="874"/>
                  </a:lnTo>
                  <a:lnTo>
                    <a:pt x="459" y="847"/>
                  </a:lnTo>
                  <a:lnTo>
                    <a:pt x="238" y="693"/>
                  </a:lnTo>
                  <a:lnTo>
                    <a:pt x="79" y="525"/>
                  </a:lnTo>
                  <a:lnTo>
                    <a:pt x="0" y="321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960560" y="1987560"/>
              <a:ext cx="348120" cy="1922760"/>
            </a:xfrm>
            <a:custGeom>
              <a:avLst/>
              <a:gdLst/>
              <a:ahLst/>
              <a:rect l="0" t="0" r="r" b="b"/>
              <a:pathLst>
                <a:path w="967" h="5341">
                  <a:moveTo>
                    <a:pt x="835" y="0"/>
                  </a:moveTo>
                  <a:lnTo>
                    <a:pt x="675" y="211"/>
                  </a:lnTo>
                  <a:lnTo>
                    <a:pt x="450" y="445"/>
                  </a:lnTo>
                  <a:lnTo>
                    <a:pt x="265" y="617"/>
                  </a:lnTo>
                  <a:lnTo>
                    <a:pt x="66" y="736"/>
                  </a:lnTo>
                  <a:lnTo>
                    <a:pt x="0" y="789"/>
                  </a:lnTo>
                  <a:lnTo>
                    <a:pt x="105" y="1578"/>
                  </a:lnTo>
                  <a:lnTo>
                    <a:pt x="198" y="2579"/>
                  </a:lnTo>
                  <a:lnTo>
                    <a:pt x="252" y="3392"/>
                  </a:lnTo>
                  <a:lnTo>
                    <a:pt x="265" y="4049"/>
                  </a:lnTo>
                  <a:lnTo>
                    <a:pt x="224" y="4931"/>
                  </a:lnTo>
                  <a:lnTo>
                    <a:pt x="119" y="5327"/>
                  </a:lnTo>
                  <a:lnTo>
                    <a:pt x="437" y="5341"/>
                  </a:lnTo>
                  <a:lnTo>
                    <a:pt x="756" y="5301"/>
                  </a:lnTo>
                  <a:lnTo>
                    <a:pt x="848" y="4723"/>
                  </a:lnTo>
                  <a:lnTo>
                    <a:pt x="914" y="4128"/>
                  </a:lnTo>
                  <a:lnTo>
                    <a:pt x="967" y="3484"/>
                  </a:lnTo>
                  <a:lnTo>
                    <a:pt x="954" y="2473"/>
                  </a:lnTo>
                  <a:lnTo>
                    <a:pt x="967" y="1512"/>
                  </a:lnTo>
                  <a:lnTo>
                    <a:pt x="967" y="881"/>
                  </a:lnTo>
                  <a:lnTo>
                    <a:pt x="941" y="52"/>
                  </a:lnTo>
                  <a:lnTo>
                    <a:pt x="835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460600" y="2773440"/>
              <a:ext cx="279720" cy="851400"/>
            </a:xfrm>
            <a:custGeom>
              <a:avLst/>
              <a:gdLst/>
              <a:ahLst/>
              <a:rect l="0" t="0" r="r" b="b"/>
              <a:pathLst>
                <a:path w="777" h="2365">
                  <a:moveTo>
                    <a:pt x="132" y="0"/>
                  </a:moveTo>
                  <a:lnTo>
                    <a:pt x="264" y="92"/>
                  </a:lnTo>
                  <a:lnTo>
                    <a:pt x="397" y="105"/>
                  </a:lnTo>
                  <a:lnTo>
                    <a:pt x="556" y="198"/>
                  </a:lnTo>
                  <a:lnTo>
                    <a:pt x="644" y="198"/>
                  </a:lnTo>
                  <a:lnTo>
                    <a:pt x="777" y="145"/>
                  </a:lnTo>
                  <a:lnTo>
                    <a:pt x="591" y="498"/>
                  </a:lnTo>
                  <a:lnTo>
                    <a:pt x="437" y="887"/>
                  </a:lnTo>
                  <a:lnTo>
                    <a:pt x="291" y="1359"/>
                  </a:lnTo>
                  <a:lnTo>
                    <a:pt x="194" y="1738"/>
                  </a:lnTo>
                  <a:lnTo>
                    <a:pt x="92" y="2105"/>
                  </a:lnTo>
                  <a:lnTo>
                    <a:pt x="0" y="2365"/>
                  </a:lnTo>
                  <a:lnTo>
                    <a:pt x="92" y="1773"/>
                  </a:lnTo>
                  <a:lnTo>
                    <a:pt x="119" y="1293"/>
                  </a:lnTo>
                  <a:lnTo>
                    <a:pt x="171" y="733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441520" y="2892600"/>
              <a:ext cx="383040" cy="989280"/>
            </a:xfrm>
            <a:custGeom>
              <a:avLst/>
              <a:gdLst/>
              <a:ahLst/>
              <a:rect l="0" t="0" r="r" b="b"/>
              <a:pathLst>
                <a:path w="1064" h="2748">
                  <a:moveTo>
                    <a:pt x="92" y="2748"/>
                  </a:moveTo>
                  <a:lnTo>
                    <a:pt x="0" y="2735"/>
                  </a:lnTo>
                  <a:lnTo>
                    <a:pt x="39" y="2395"/>
                  </a:lnTo>
                  <a:lnTo>
                    <a:pt x="132" y="2016"/>
                  </a:lnTo>
                  <a:lnTo>
                    <a:pt x="278" y="1465"/>
                  </a:lnTo>
                  <a:lnTo>
                    <a:pt x="441" y="978"/>
                  </a:lnTo>
                  <a:lnTo>
                    <a:pt x="389" y="1425"/>
                  </a:lnTo>
                  <a:lnTo>
                    <a:pt x="269" y="1923"/>
                  </a:lnTo>
                  <a:lnTo>
                    <a:pt x="198" y="2342"/>
                  </a:lnTo>
                  <a:lnTo>
                    <a:pt x="371" y="1751"/>
                  </a:lnTo>
                  <a:lnTo>
                    <a:pt x="561" y="1212"/>
                  </a:lnTo>
                  <a:lnTo>
                    <a:pt x="662" y="899"/>
                  </a:lnTo>
                  <a:lnTo>
                    <a:pt x="822" y="524"/>
                  </a:lnTo>
                  <a:lnTo>
                    <a:pt x="1064" y="0"/>
                  </a:lnTo>
                  <a:lnTo>
                    <a:pt x="980" y="652"/>
                  </a:lnTo>
                  <a:lnTo>
                    <a:pt x="892" y="1278"/>
                  </a:lnTo>
                  <a:lnTo>
                    <a:pt x="746" y="1659"/>
                  </a:lnTo>
                  <a:lnTo>
                    <a:pt x="574" y="2210"/>
                  </a:lnTo>
                  <a:lnTo>
                    <a:pt x="318" y="2435"/>
                  </a:lnTo>
                  <a:lnTo>
                    <a:pt x="92" y="2748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357200" y="2041560"/>
              <a:ext cx="437040" cy="1856160"/>
            </a:xfrm>
            <a:custGeom>
              <a:avLst/>
              <a:gdLst/>
              <a:ahLst/>
              <a:rect l="0" t="0" r="r" b="b"/>
              <a:pathLst>
                <a:path w="1214" h="5156">
                  <a:moveTo>
                    <a:pt x="415" y="79"/>
                  </a:moveTo>
                  <a:lnTo>
                    <a:pt x="587" y="0"/>
                  </a:lnTo>
                  <a:lnTo>
                    <a:pt x="640" y="171"/>
                  </a:lnTo>
                  <a:lnTo>
                    <a:pt x="733" y="304"/>
                  </a:lnTo>
                  <a:lnTo>
                    <a:pt x="932" y="471"/>
                  </a:lnTo>
                  <a:lnTo>
                    <a:pt x="1174" y="604"/>
                  </a:lnTo>
                  <a:lnTo>
                    <a:pt x="1214" y="617"/>
                  </a:lnTo>
                  <a:lnTo>
                    <a:pt x="1082" y="1212"/>
                  </a:lnTo>
                  <a:lnTo>
                    <a:pt x="958" y="2016"/>
                  </a:lnTo>
                  <a:lnTo>
                    <a:pt x="932" y="2620"/>
                  </a:lnTo>
                  <a:lnTo>
                    <a:pt x="896" y="3286"/>
                  </a:lnTo>
                  <a:lnTo>
                    <a:pt x="843" y="3931"/>
                  </a:lnTo>
                  <a:lnTo>
                    <a:pt x="825" y="4129"/>
                  </a:lnTo>
                  <a:lnTo>
                    <a:pt x="882" y="4826"/>
                  </a:lnTo>
                  <a:lnTo>
                    <a:pt x="1069" y="5156"/>
                  </a:lnTo>
                  <a:lnTo>
                    <a:pt x="869" y="5143"/>
                  </a:lnTo>
                  <a:lnTo>
                    <a:pt x="242" y="4905"/>
                  </a:lnTo>
                  <a:lnTo>
                    <a:pt x="97" y="4142"/>
                  </a:lnTo>
                  <a:lnTo>
                    <a:pt x="97" y="3736"/>
                  </a:lnTo>
                  <a:lnTo>
                    <a:pt x="132" y="3352"/>
                  </a:lnTo>
                  <a:lnTo>
                    <a:pt x="105" y="2999"/>
                  </a:lnTo>
                  <a:lnTo>
                    <a:pt x="0" y="2607"/>
                  </a:lnTo>
                  <a:lnTo>
                    <a:pt x="0" y="2355"/>
                  </a:lnTo>
                  <a:lnTo>
                    <a:pt x="105" y="2699"/>
                  </a:lnTo>
                  <a:lnTo>
                    <a:pt x="268" y="2999"/>
                  </a:lnTo>
                  <a:lnTo>
                    <a:pt x="158" y="2607"/>
                  </a:lnTo>
                  <a:lnTo>
                    <a:pt x="66" y="2276"/>
                  </a:lnTo>
                  <a:lnTo>
                    <a:pt x="26" y="1950"/>
                  </a:lnTo>
                  <a:lnTo>
                    <a:pt x="83" y="1698"/>
                  </a:lnTo>
                  <a:lnTo>
                    <a:pt x="185" y="1278"/>
                  </a:lnTo>
                  <a:lnTo>
                    <a:pt x="318" y="961"/>
                  </a:lnTo>
                  <a:lnTo>
                    <a:pt x="371" y="551"/>
                  </a:lnTo>
                  <a:lnTo>
                    <a:pt x="428" y="304"/>
                  </a:lnTo>
                  <a:lnTo>
                    <a:pt x="415" y="7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873000" y="2131920"/>
              <a:ext cx="465480" cy="2180160"/>
            </a:xfrm>
            <a:custGeom>
              <a:avLst/>
              <a:gdLst/>
              <a:ahLst/>
              <a:rect l="0" t="0" r="r" b="b"/>
              <a:pathLst>
                <a:path w="1293" h="6056">
                  <a:moveTo>
                    <a:pt x="1293" y="0"/>
                  </a:moveTo>
                  <a:lnTo>
                    <a:pt x="1253" y="251"/>
                  </a:lnTo>
                  <a:lnTo>
                    <a:pt x="1226" y="551"/>
                  </a:lnTo>
                  <a:lnTo>
                    <a:pt x="1196" y="908"/>
                  </a:lnTo>
                  <a:lnTo>
                    <a:pt x="1182" y="736"/>
                  </a:lnTo>
                  <a:lnTo>
                    <a:pt x="1160" y="317"/>
                  </a:lnTo>
                  <a:lnTo>
                    <a:pt x="1160" y="185"/>
                  </a:lnTo>
                  <a:lnTo>
                    <a:pt x="1121" y="396"/>
                  </a:lnTo>
                  <a:lnTo>
                    <a:pt x="1094" y="855"/>
                  </a:lnTo>
                  <a:lnTo>
                    <a:pt x="1121" y="1212"/>
                  </a:lnTo>
                  <a:lnTo>
                    <a:pt x="1037" y="1490"/>
                  </a:lnTo>
                  <a:lnTo>
                    <a:pt x="962" y="1817"/>
                  </a:lnTo>
                  <a:lnTo>
                    <a:pt x="922" y="2108"/>
                  </a:lnTo>
                  <a:lnTo>
                    <a:pt x="825" y="1923"/>
                  </a:lnTo>
                  <a:lnTo>
                    <a:pt x="706" y="1539"/>
                  </a:lnTo>
                  <a:lnTo>
                    <a:pt x="680" y="1159"/>
                  </a:lnTo>
                  <a:lnTo>
                    <a:pt x="653" y="1503"/>
                  </a:lnTo>
                  <a:lnTo>
                    <a:pt x="750" y="2003"/>
                  </a:lnTo>
                  <a:lnTo>
                    <a:pt x="812" y="2188"/>
                  </a:lnTo>
                  <a:lnTo>
                    <a:pt x="878" y="2360"/>
                  </a:lnTo>
                  <a:lnTo>
                    <a:pt x="971" y="2708"/>
                  </a:lnTo>
                  <a:lnTo>
                    <a:pt x="1010" y="3290"/>
                  </a:lnTo>
                  <a:lnTo>
                    <a:pt x="1010" y="3775"/>
                  </a:lnTo>
                  <a:lnTo>
                    <a:pt x="878" y="3934"/>
                  </a:lnTo>
                  <a:lnTo>
                    <a:pt x="653" y="4119"/>
                  </a:lnTo>
                  <a:lnTo>
                    <a:pt x="984" y="3987"/>
                  </a:lnTo>
                  <a:lnTo>
                    <a:pt x="984" y="4199"/>
                  </a:lnTo>
                  <a:lnTo>
                    <a:pt x="1050" y="4490"/>
                  </a:lnTo>
                  <a:lnTo>
                    <a:pt x="984" y="4989"/>
                  </a:lnTo>
                  <a:lnTo>
                    <a:pt x="812" y="4949"/>
                  </a:lnTo>
                  <a:lnTo>
                    <a:pt x="507" y="4685"/>
                  </a:lnTo>
                  <a:lnTo>
                    <a:pt x="719" y="4989"/>
                  </a:lnTo>
                  <a:lnTo>
                    <a:pt x="935" y="5082"/>
                  </a:lnTo>
                  <a:lnTo>
                    <a:pt x="878" y="5439"/>
                  </a:lnTo>
                  <a:lnTo>
                    <a:pt x="737" y="6003"/>
                  </a:lnTo>
                  <a:lnTo>
                    <a:pt x="573" y="6056"/>
                  </a:lnTo>
                  <a:lnTo>
                    <a:pt x="313" y="6012"/>
                  </a:lnTo>
                  <a:lnTo>
                    <a:pt x="101" y="5933"/>
                  </a:lnTo>
                  <a:lnTo>
                    <a:pt x="171" y="5531"/>
                  </a:lnTo>
                  <a:lnTo>
                    <a:pt x="440" y="5553"/>
                  </a:lnTo>
                  <a:lnTo>
                    <a:pt x="719" y="5545"/>
                  </a:lnTo>
                  <a:lnTo>
                    <a:pt x="308" y="5478"/>
                  </a:lnTo>
                  <a:lnTo>
                    <a:pt x="171" y="5386"/>
                  </a:lnTo>
                  <a:lnTo>
                    <a:pt x="0" y="4804"/>
                  </a:lnTo>
                  <a:lnTo>
                    <a:pt x="26" y="4344"/>
                  </a:lnTo>
                  <a:lnTo>
                    <a:pt x="52" y="4066"/>
                  </a:lnTo>
                  <a:lnTo>
                    <a:pt x="39" y="3802"/>
                  </a:lnTo>
                  <a:lnTo>
                    <a:pt x="39" y="3277"/>
                  </a:lnTo>
                  <a:lnTo>
                    <a:pt x="66" y="3078"/>
                  </a:lnTo>
                  <a:lnTo>
                    <a:pt x="198" y="3422"/>
                  </a:lnTo>
                  <a:lnTo>
                    <a:pt x="268" y="3696"/>
                  </a:lnTo>
                  <a:lnTo>
                    <a:pt x="370" y="3802"/>
                  </a:lnTo>
                  <a:lnTo>
                    <a:pt x="493" y="3881"/>
                  </a:lnTo>
                  <a:lnTo>
                    <a:pt x="357" y="3643"/>
                  </a:lnTo>
                  <a:lnTo>
                    <a:pt x="255" y="3330"/>
                  </a:lnTo>
                  <a:lnTo>
                    <a:pt x="158" y="3012"/>
                  </a:lnTo>
                  <a:lnTo>
                    <a:pt x="145" y="2801"/>
                  </a:lnTo>
                  <a:lnTo>
                    <a:pt x="198" y="2505"/>
                  </a:lnTo>
                  <a:lnTo>
                    <a:pt x="295" y="2161"/>
                  </a:lnTo>
                  <a:lnTo>
                    <a:pt x="396" y="2439"/>
                  </a:lnTo>
                  <a:lnTo>
                    <a:pt x="573" y="2682"/>
                  </a:lnTo>
                  <a:lnTo>
                    <a:pt x="719" y="2748"/>
                  </a:lnTo>
                  <a:lnTo>
                    <a:pt x="493" y="2413"/>
                  </a:lnTo>
                  <a:lnTo>
                    <a:pt x="383" y="2201"/>
                  </a:lnTo>
                  <a:lnTo>
                    <a:pt x="330" y="1963"/>
                  </a:lnTo>
                  <a:lnTo>
                    <a:pt x="357" y="1553"/>
                  </a:lnTo>
                  <a:lnTo>
                    <a:pt x="414" y="1040"/>
                  </a:lnTo>
                  <a:lnTo>
                    <a:pt x="480" y="709"/>
                  </a:lnTo>
                  <a:lnTo>
                    <a:pt x="586" y="511"/>
                  </a:lnTo>
                  <a:lnTo>
                    <a:pt x="737" y="211"/>
                  </a:lnTo>
                  <a:lnTo>
                    <a:pt x="962" y="92"/>
                  </a:lnTo>
                  <a:lnTo>
                    <a:pt x="1293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1644480" y="1623960"/>
              <a:ext cx="552960" cy="410040"/>
            </a:xfrm>
            <a:custGeom>
              <a:avLst/>
              <a:gdLst/>
              <a:ahLst/>
              <a:rect l="0" t="0" r="r" b="b"/>
              <a:pathLst>
                <a:path w="1536" h="1139">
                  <a:moveTo>
                    <a:pt x="26" y="397"/>
                  </a:moveTo>
                  <a:lnTo>
                    <a:pt x="83" y="807"/>
                  </a:lnTo>
                  <a:lnTo>
                    <a:pt x="145" y="914"/>
                  </a:lnTo>
                  <a:lnTo>
                    <a:pt x="313" y="1020"/>
                  </a:lnTo>
                  <a:lnTo>
                    <a:pt x="516" y="1108"/>
                  </a:lnTo>
                  <a:lnTo>
                    <a:pt x="710" y="1139"/>
                  </a:lnTo>
                  <a:lnTo>
                    <a:pt x="966" y="1055"/>
                  </a:lnTo>
                  <a:lnTo>
                    <a:pt x="1201" y="928"/>
                  </a:lnTo>
                  <a:lnTo>
                    <a:pt x="1404" y="790"/>
                  </a:lnTo>
                  <a:lnTo>
                    <a:pt x="1536" y="609"/>
                  </a:lnTo>
                  <a:lnTo>
                    <a:pt x="1501" y="530"/>
                  </a:lnTo>
                  <a:lnTo>
                    <a:pt x="1501" y="26"/>
                  </a:lnTo>
                  <a:lnTo>
                    <a:pt x="0" y="0"/>
                  </a:lnTo>
                  <a:lnTo>
                    <a:pt x="26" y="397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539720" y="747720"/>
              <a:ext cx="819360" cy="1175040"/>
            </a:xfrm>
            <a:custGeom>
              <a:avLst/>
              <a:gdLst/>
              <a:ahLst/>
              <a:rect l="0" t="0" r="r" b="b"/>
              <a:pathLst>
                <a:path w="2276" h="3264">
                  <a:moveTo>
                    <a:pt x="485" y="2884"/>
                  </a:moveTo>
                  <a:lnTo>
                    <a:pt x="612" y="3008"/>
                  </a:lnTo>
                  <a:lnTo>
                    <a:pt x="837" y="3202"/>
                  </a:lnTo>
                  <a:lnTo>
                    <a:pt x="992" y="3264"/>
                  </a:lnTo>
                  <a:lnTo>
                    <a:pt x="1133" y="3264"/>
                  </a:lnTo>
                  <a:lnTo>
                    <a:pt x="1271" y="3255"/>
                  </a:lnTo>
                  <a:lnTo>
                    <a:pt x="1390" y="3215"/>
                  </a:lnTo>
                  <a:lnTo>
                    <a:pt x="1522" y="3114"/>
                  </a:lnTo>
                  <a:lnTo>
                    <a:pt x="1791" y="2858"/>
                  </a:lnTo>
                  <a:lnTo>
                    <a:pt x="1906" y="2611"/>
                  </a:lnTo>
                  <a:lnTo>
                    <a:pt x="1972" y="2386"/>
                  </a:lnTo>
                  <a:lnTo>
                    <a:pt x="2033" y="2170"/>
                  </a:lnTo>
                  <a:lnTo>
                    <a:pt x="2144" y="2064"/>
                  </a:lnTo>
                  <a:lnTo>
                    <a:pt x="2219" y="1844"/>
                  </a:lnTo>
                  <a:lnTo>
                    <a:pt x="2245" y="1659"/>
                  </a:lnTo>
                  <a:lnTo>
                    <a:pt x="2227" y="1481"/>
                  </a:lnTo>
                  <a:lnTo>
                    <a:pt x="2197" y="1402"/>
                  </a:lnTo>
                  <a:lnTo>
                    <a:pt x="2263" y="1177"/>
                  </a:lnTo>
                  <a:lnTo>
                    <a:pt x="2276" y="749"/>
                  </a:lnTo>
                  <a:lnTo>
                    <a:pt x="2197" y="524"/>
                  </a:lnTo>
                  <a:lnTo>
                    <a:pt x="2086" y="291"/>
                  </a:lnTo>
                  <a:lnTo>
                    <a:pt x="1936" y="185"/>
                  </a:lnTo>
                  <a:lnTo>
                    <a:pt x="1725" y="101"/>
                  </a:lnTo>
                  <a:lnTo>
                    <a:pt x="1513" y="26"/>
                  </a:lnTo>
                  <a:lnTo>
                    <a:pt x="1301" y="0"/>
                  </a:lnTo>
                  <a:lnTo>
                    <a:pt x="1027" y="0"/>
                  </a:lnTo>
                  <a:lnTo>
                    <a:pt x="780" y="35"/>
                  </a:lnTo>
                  <a:lnTo>
                    <a:pt x="577" y="105"/>
                  </a:lnTo>
                  <a:lnTo>
                    <a:pt x="321" y="224"/>
                  </a:lnTo>
                  <a:lnTo>
                    <a:pt x="145" y="582"/>
                  </a:lnTo>
                  <a:lnTo>
                    <a:pt x="114" y="1027"/>
                  </a:lnTo>
                  <a:lnTo>
                    <a:pt x="132" y="1402"/>
                  </a:lnTo>
                  <a:lnTo>
                    <a:pt x="13" y="1486"/>
                  </a:lnTo>
                  <a:lnTo>
                    <a:pt x="0" y="1725"/>
                  </a:lnTo>
                  <a:lnTo>
                    <a:pt x="52" y="1950"/>
                  </a:lnTo>
                  <a:lnTo>
                    <a:pt x="163" y="2003"/>
                  </a:lnTo>
                  <a:lnTo>
                    <a:pt x="176" y="2174"/>
                  </a:lnTo>
                  <a:lnTo>
                    <a:pt x="202" y="2413"/>
                  </a:lnTo>
                  <a:lnTo>
                    <a:pt x="286" y="2558"/>
                  </a:lnTo>
                  <a:lnTo>
                    <a:pt x="485" y="2884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1563840" y="1312920"/>
              <a:ext cx="46440" cy="120960"/>
            </a:xfrm>
            <a:custGeom>
              <a:avLst/>
              <a:gdLst/>
              <a:ahLst/>
              <a:rect l="0" t="0" r="r" b="b"/>
              <a:pathLst>
                <a:path w="129" h="336">
                  <a:moveTo>
                    <a:pt x="0" y="0"/>
                  </a:moveTo>
                  <a:lnTo>
                    <a:pt x="80" y="61"/>
                  </a:lnTo>
                  <a:lnTo>
                    <a:pt x="80" y="114"/>
                  </a:lnTo>
                  <a:lnTo>
                    <a:pt x="45" y="149"/>
                  </a:lnTo>
                  <a:lnTo>
                    <a:pt x="71" y="269"/>
                  </a:lnTo>
                  <a:lnTo>
                    <a:pt x="129" y="336"/>
                  </a:lnTo>
                  <a:lnTo>
                    <a:pt x="45" y="309"/>
                  </a:lnTo>
                  <a:lnTo>
                    <a:pt x="4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276640" y="1332000"/>
              <a:ext cx="36720" cy="138600"/>
            </a:xfrm>
            <a:custGeom>
              <a:avLst/>
              <a:gdLst/>
              <a:ahLst/>
              <a:rect l="0" t="0" r="r" b="b"/>
              <a:pathLst>
                <a:path w="102" h="385">
                  <a:moveTo>
                    <a:pt x="102" y="0"/>
                  </a:moveTo>
                  <a:lnTo>
                    <a:pt x="48" y="61"/>
                  </a:lnTo>
                  <a:lnTo>
                    <a:pt x="58" y="150"/>
                  </a:lnTo>
                  <a:lnTo>
                    <a:pt x="71" y="225"/>
                  </a:lnTo>
                  <a:lnTo>
                    <a:pt x="30" y="337"/>
                  </a:lnTo>
                  <a:lnTo>
                    <a:pt x="0" y="385"/>
                  </a:lnTo>
                  <a:lnTo>
                    <a:pt x="53" y="354"/>
                  </a:lnTo>
                  <a:lnTo>
                    <a:pt x="93" y="217"/>
                  </a:lnTo>
                  <a:lnTo>
                    <a:pt x="80" y="102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712880" y="1293840"/>
              <a:ext cx="160560" cy="62280"/>
            </a:xfrm>
            <a:custGeom>
              <a:avLst/>
              <a:gdLst/>
              <a:ahLst/>
              <a:rect l="0" t="0" r="r" b="b"/>
              <a:pathLst>
                <a:path w="446" h="173">
                  <a:moveTo>
                    <a:pt x="35" y="13"/>
                  </a:moveTo>
                  <a:lnTo>
                    <a:pt x="176" y="0"/>
                  </a:lnTo>
                  <a:lnTo>
                    <a:pt x="318" y="35"/>
                  </a:lnTo>
                  <a:lnTo>
                    <a:pt x="446" y="71"/>
                  </a:lnTo>
                  <a:lnTo>
                    <a:pt x="371" y="98"/>
                  </a:lnTo>
                  <a:lnTo>
                    <a:pt x="344" y="151"/>
                  </a:lnTo>
                  <a:lnTo>
                    <a:pt x="256" y="173"/>
                  </a:lnTo>
                  <a:lnTo>
                    <a:pt x="141" y="160"/>
                  </a:lnTo>
                  <a:lnTo>
                    <a:pt x="88" y="98"/>
                  </a:lnTo>
                  <a:lnTo>
                    <a:pt x="0" y="71"/>
                  </a:lnTo>
                  <a:lnTo>
                    <a:pt x="35" y="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041560" y="1314360"/>
              <a:ext cx="155880" cy="95760"/>
            </a:xfrm>
            <a:custGeom>
              <a:avLst/>
              <a:gdLst/>
              <a:ahLst/>
              <a:rect l="0" t="0" r="r" b="b"/>
              <a:pathLst>
                <a:path w="433" h="266">
                  <a:moveTo>
                    <a:pt x="0" y="61"/>
                  </a:moveTo>
                  <a:lnTo>
                    <a:pt x="66" y="13"/>
                  </a:lnTo>
                  <a:lnTo>
                    <a:pt x="217" y="0"/>
                  </a:lnTo>
                  <a:lnTo>
                    <a:pt x="336" y="17"/>
                  </a:lnTo>
                  <a:lnTo>
                    <a:pt x="433" y="75"/>
                  </a:lnTo>
                  <a:lnTo>
                    <a:pt x="349" y="75"/>
                  </a:lnTo>
                  <a:lnTo>
                    <a:pt x="322" y="150"/>
                  </a:lnTo>
                  <a:lnTo>
                    <a:pt x="243" y="181"/>
                  </a:lnTo>
                  <a:lnTo>
                    <a:pt x="52" y="137"/>
                  </a:lnTo>
                  <a:lnTo>
                    <a:pt x="39" y="195"/>
                  </a:lnTo>
                  <a:lnTo>
                    <a:pt x="79" y="266"/>
                  </a:lnTo>
                  <a:lnTo>
                    <a:pt x="0" y="172"/>
                  </a:lnTo>
                  <a:lnTo>
                    <a:pt x="4" y="124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1847880" y="1533600"/>
              <a:ext cx="187560" cy="97200"/>
            </a:xfrm>
            <a:custGeom>
              <a:avLst/>
              <a:gdLst/>
              <a:ahLst/>
              <a:rect l="0" t="0" r="r" b="b"/>
              <a:pathLst>
                <a:path w="521" h="270">
                  <a:moveTo>
                    <a:pt x="327" y="213"/>
                  </a:moveTo>
                  <a:lnTo>
                    <a:pt x="233" y="209"/>
                  </a:lnTo>
                  <a:lnTo>
                    <a:pt x="145" y="172"/>
                  </a:lnTo>
                  <a:lnTo>
                    <a:pt x="105" y="124"/>
                  </a:lnTo>
                  <a:lnTo>
                    <a:pt x="48" y="98"/>
                  </a:lnTo>
                  <a:lnTo>
                    <a:pt x="30" y="52"/>
                  </a:lnTo>
                  <a:lnTo>
                    <a:pt x="48" y="0"/>
                  </a:lnTo>
                  <a:lnTo>
                    <a:pt x="0" y="35"/>
                  </a:lnTo>
                  <a:lnTo>
                    <a:pt x="4" y="111"/>
                  </a:lnTo>
                  <a:lnTo>
                    <a:pt x="44" y="137"/>
                  </a:lnTo>
                  <a:lnTo>
                    <a:pt x="92" y="172"/>
                  </a:lnTo>
                  <a:lnTo>
                    <a:pt x="154" y="240"/>
                  </a:lnTo>
                  <a:lnTo>
                    <a:pt x="242" y="270"/>
                  </a:lnTo>
                  <a:lnTo>
                    <a:pt x="340" y="270"/>
                  </a:lnTo>
                  <a:lnTo>
                    <a:pt x="415" y="235"/>
                  </a:lnTo>
                  <a:lnTo>
                    <a:pt x="477" y="172"/>
                  </a:lnTo>
                  <a:lnTo>
                    <a:pt x="516" y="124"/>
                  </a:lnTo>
                  <a:lnTo>
                    <a:pt x="521" y="71"/>
                  </a:lnTo>
                  <a:lnTo>
                    <a:pt x="481" y="22"/>
                  </a:lnTo>
                  <a:lnTo>
                    <a:pt x="468" y="146"/>
                  </a:lnTo>
                  <a:lnTo>
                    <a:pt x="424" y="186"/>
                  </a:lnTo>
                  <a:lnTo>
                    <a:pt x="327" y="2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1768320" y="1536840"/>
              <a:ext cx="54360" cy="138600"/>
            </a:xfrm>
            <a:custGeom>
              <a:avLst/>
              <a:gdLst/>
              <a:ahLst/>
              <a:rect l="0" t="0" r="r" b="b"/>
              <a:pathLst>
                <a:path w="151" h="385">
                  <a:moveTo>
                    <a:pt x="151" y="0"/>
                  </a:moveTo>
                  <a:lnTo>
                    <a:pt x="67" y="61"/>
                  </a:lnTo>
                  <a:lnTo>
                    <a:pt x="40" y="142"/>
                  </a:lnTo>
                  <a:lnTo>
                    <a:pt x="17" y="265"/>
                  </a:lnTo>
                  <a:lnTo>
                    <a:pt x="0" y="385"/>
                  </a:lnTo>
                  <a:lnTo>
                    <a:pt x="0" y="239"/>
                  </a:lnTo>
                  <a:lnTo>
                    <a:pt x="17" y="98"/>
                  </a:lnTo>
                  <a:lnTo>
                    <a:pt x="45" y="48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2066760" y="1555920"/>
              <a:ext cx="33840" cy="122760"/>
            </a:xfrm>
            <a:custGeom>
              <a:avLst/>
              <a:gdLst/>
              <a:ahLst/>
              <a:rect l="0" t="0" r="r" b="b"/>
              <a:pathLst>
                <a:path w="94" h="341">
                  <a:moveTo>
                    <a:pt x="0" y="0"/>
                  </a:moveTo>
                  <a:lnTo>
                    <a:pt x="31" y="70"/>
                  </a:lnTo>
                  <a:lnTo>
                    <a:pt x="62" y="186"/>
                  </a:lnTo>
                  <a:lnTo>
                    <a:pt x="58" y="257"/>
                  </a:lnTo>
                  <a:lnTo>
                    <a:pt x="40" y="341"/>
                  </a:lnTo>
                  <a:lnTo>
                    <a:pt x="94" y="195"/>
                  </a:lnTo>
                  <a:lnTo>
                    <a:pt x="85" y="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808280" y="1685880"/>
              <a:ext cx="263880" cy="55800"/>
            </a:xfrm>
            <a:custGeom>
              <a:avLst/>
              <a:gdLst/>
              <a:ahLst/>
              <a:rect l="0" t="0" r="r" b="b"/>
              <a:pathLst>
                <a:path w="733" h="155">
                  <a:moveTo>
                    <a:pt x="0" y="0"/>
                  </a:moveTo>
                  <a:lnTo>
                    <a:pt x="110" y="66"/>
                  </a:lnTo>
                  <a:lnTo>
                    <a:pt x="251" y="102"/>
                  </a:lnTo>
                  <a:lnTo>
                    <a:pt x="428" y="111"/>
                  </a:lnTo>
                  <a:lnTo>
                    <a:pt x="565" y="89"/>
                  </a:lnTo>
                  <a:lnTo>
                    <a:pt x="710" y="39"/>
                  </a:lnTo>
                  <a:lnTo>
                    <a:pt x="733" y="98"/>
                  </a:lnTo>
                  <a:lnTo>
                    <a:pt x="680" y="74"/>
                  </a:lnTo>
                  <a:lnTo>
                    <a:pt x="556" y="133"/>
                  </a:lnTo>
                  <a:lnTo>
                    <a:pt x="415" y="155"/>
                  </a:lnTo>
                  <a:lnTo>
                    <a:pt x="295" y="146"/>
                  </a:lnTo>
                  <a:lnTo>
                    <a:pt x="163" y="115"/>
                  </a:lnTo>
                  <a:lnTo>
                    <a:pt x="79" y="74"/>
                  </a:lnTo>
                  <a:lnTo>
                    <a:pt x="17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1833480" y="1766880"/>
              <a:ext cx="201960" cy="27360"/>
            </a:xfrm>
            <a:custGeom>
              <a:avLst/>
              <a:gdLst/>
              <a:ahLst/>
              <a:rect l="0" t="0" r="r" b="b"/>
              <a:pathLst>
                <a:path w="561" h="76">
                  <a:moveTo>
                    <a:pt x="0" y="17"/>
                  </a:moveTo>
                  <a:lnTo>
                    <a:pt x="17" y="0"/>
                  </a:lnTo>
                  <a:lnTo>
                    <a:pt x="61" y="8"/>
                  </a:lnTo>
                  <a:lnTo>
                    <a:pt x="167" y="31"/>
                  </a:lnTo>
                  <a:lnTo>
                    <a:pt x="380" y="40"/>
                  </a:lnTo>
                  <a:lnTo>
                    <a:pt x="521" y="17"/>
                  </a:lnTo>
                  <a:lnTo>
                    <a:pt x="561" y="0"/>
                  </a:lnTo>
                  <a:lnTo>
                    <a:pt x="561" y="31"/>
                  </a:lnTo>
                  <a:lnTo>
                    <a:pt x="494" y="40"/>
                  </a:lnTo>
                  <a:lnTo>
                    <a:pt x="367" y="68"/>
                  </a:lnTo>
                  <a:lnTo>
                    <a:pt x="268" y="76"/>
                  </a:lnTo>
                  <a:lnTo>
                    <a:pt x="154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638360" y="1374840"/>
              <a:ext cx="44640" cy="109800"/>
            </a:xfrm>
            <a:custGeom>
              <a:avLst/>
              <a:gdLst/>
              <a:ahLst/>
              <a:rect l="0" t="0" r="r" b="b"/>
              <a:pathLst>
                <a:path w="124" h="305">
                  <a:moveTo>
                    <a:pt x="124" y="0"/>
                  </a:moveTo>
                  <a:lnTo>
                    <a:pt x="44" y="97"/>
                  </a:lnTo>
                  <a:lnTo>
                    <a:pt x="22" y="181"/>
                  </a:lnTo>
                  <a:lnTo>
                    <a:pt x="17" y="305"/>
                  </a:lnTo>
                  <a:lnTo>
                    <a:pt x="0" y="172"/>
                  </a:lnTo>
                  <a:lnTo>
                    <a:pt x="22" y="8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2222640" y="1384200"/>
              <a:ext cx="25920" cy="135360"/>
            </a:xfrm>
            <a:custGeom>
              <a:avLst/>
              <a:gdLst/>
              <a:ahLst/>
              <a:rect l="0" t="0" r="r" b="b"/>
              <a:pathLst>
                <a:path w="72" h="376">
                  <a:moveTo>
                    <a:pt x="0" y="0"/>
                  </a:moveTo>
                  <a:lnTo>
                    <a:pt x="36" y="66"/>
                  </a:lnTo>
                  <a:lnTo>
                    <a:pt x="53" y="217"/>
                  </a:lnTo>
                  <a:lnTo>
                    <a:pt x="36" y="376"/>
                  </a:lnTo>
                  <a:lnTo>
                    <a:pt x="72" y="212"/>
                  </a:lnTo>
                  <a:lnTo>
                    <a:pt x="63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021040" y="1219320"/>
              <a:ext cx="211320" cy="60840"/>
            </a:xfrm>
            <a:custGeom>
              <a:avLst/>
              <a:gdLst/>
              <a:ahLst/>
              <a:rect l="0" t="0" r="r" b="b"/>
              <a:pathLst>
                <a:path w="587" h="169">
                  <a:moveTo>
                    <a:pt x="0" y="53"/>
                  </a:moveTo>
                  <a:lnTo>
                    <a:pt x="22" y="115"/>
                  </a:lnTo>
                  <a:lnTo>
                    <a:pt x="233" y="93"/>
                  </a:lnTo>
                  <a:lnTo>
                    <a:pt x="389" y="98"/>
                  </a:lnTo>
                  <a:lnTo>
                    <a:pt x="490" y="124"/>
                  </a:lnTo>
                  <a:lnTo>
                    <a:pt x="587" y="169"/>
                  </a:lnTo>
                  <a:lnTo>
                    <a:pt x="468" y="53"/>
                  </a:lnTo>
                  <a:lnTo>
                    <a:pt x="246" y="13"/>
                  </a:lnTo>
                  <a:lnTo>
                    <a:pt x="273" y="35"/>
                  </a:lnTo>
                  <a:lnTo>
                    <a:pt x="132" y="45"/>
                  </a:lnTo>
                  <a:lnTo>
                    <a:pt x="141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700280" y="1217520"/>
              <a:ext cx="187560" cy="49680"/>
            </a:xfrm>
            <a:custGeom>
              <a:avLst/>
              <a:gdLst/>
              <a:ahLst/>
              <a:rect l="0" t="0" r="r" b="b"/>
              <a:pathLst>
                <a:path w="521" h="138">
                  <a:moveTo>
                    <a:pt x="521" y="138"/>
                  </a:moveTo>
                  <a:lnTo>
                    <a:pt x="428" y="80"/>
                  </a:lnTo>
                  <a:lnTo>
                    <a:pt x="265" y="67"/>
                  </a:lnTo>
                  <a:lnTo>
                    <a:pt x="97" y="80"/>
                  </a:lnTo>
                  <a:lnTo>
                    <a:pt x="0" y="125"/>
                  </a:lnTo>
                  <a:lnTo>
                    <a:pt x="83" y="58"/>
                  </a:lnTo>
                  <a:lnTo>
                    <a:pt x="44" y="49"/>
                  </a:lnTo>
                  <a:lnTo>
                    <a:pt x="220" y="45"/>
                  </a:lnTo>
                  <a:lnTo>
                    <a:pt x="83" y="26"/>
                  </a:lnTo>
                  <a:lnTo>
                    <a:pt x="278" y="26"/>
                  </a:lnTo>
                  <a:lnTo>
                    <a:pt x="238" y="4"/>
                  </a:lnTo>
                  <a:lnTo>
                    <a:pt x="371" y="22"/>
                  </a:lnTo>
                  <a:lnTo>
                    <a:pt x="441" y="36"/>
                  </a:lnTo>
                  <a:lnTo>
                    <a:pt x="441" y="0"/>
                  </a:lnTo>
                  <a:lnTo>
                    <a:pt x="499" y="45"/>
                  </a:lnTo>
                  <a:lnTo>
                    <a:pt x="521" y="13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1755720" y="1343160"/>
              <a:ext cx="100440" cy="43200"/>
            </a:xfrm>
            <a:custGeom>
              <a:avLst/>
              <a:gdLst/>
              <a:ahLst/>
              <a:rect l="0" t="0" r="r" b="b"/>
              <a:pathLst>
                <a:path w="279" h="120">
                  <a:moveTo>
                    <a:pt x="279" y="0"/>
                  </a:moveTo>
                  <a:lnTo>
                    <a:pt x="240" y="44"/>
                  </a:lnTo>
                  <a:lnTo>
                    <a:pt x="142" y="98"/>
                  </a:lnTo>
                  <a:lnTo>
                    <a:pt x="0" y="111"/>
                  </a:lnTo>
                  <a:lnTo>
                    <a:pt x="190" y="120"/>
                  </a:lnTo>
                  <a:lnTo>
                    <a:pt x="244" y="89"/>
                  </a:lnTo>
                  <a:lnTo>
                    <a:pt x="279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741320" y="132228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0" y="0"/>
                  </a:moveTo>
                  <a:lnTo>
                    <a:pt x="53" y="53"/>
                  </a:lnTo>
                  <a:lnTo>
                    <a:pt x="63" y="72"/>
                  </a:lnTo>
                  <a:lnTo>
                    <a:pt x="63" y="27"/>
                  </a:lnTo>
                  <a:lnTo>
                    <a:pt x="7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1819440" y="13287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17"/>
                  </a:lnTo>
                  <a:lnTo>
                    <a:pt x="0" y="72"/>
                  </a:lnTo>
                  <a:lnTo>
                    <a:pt x="72" y="63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060640" y="133812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0" y="17"/>
                  </a:moveTo>
                  <a:lnTo>
                    <a:pt x="4" y="40"/>
                  </a:lnTo>
                  <a:lnTo>
                    <a:pt x="17" y="49"/>
                  </a:lnTo>
                  <a:lnTo>
                    <a:pt x="89" y="72"/>
                  </a:lnTo>
                  <a:lnTo>
                    <a:pt x="53" y="49"/>
                  </a:lnTo>
                  <a:lnTo>
                    <a:pt x="53" y="27"/>
                  </a:lnTo>
                  <a:lnTo>
                    <a:pt x="71" y="0"/>
                  </a:lnTo>
                  <a:lnTo>
                    <a:pt x="39" y="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146320" y="134460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13" y="0"/>
                  </a:moveTo>
                  <a:lnTo>
                    <a:pt x="27" y="27"/>
                  </a:lnTo>
                  <a:lnTo>
                    <a:pt x="0" y="72"/>
                  </a:lnTo>
                  <a:lnTo>
                    <a:pt x="76" y="40"/>
                  </a:lnTo>
                  <a:lnTo>
                    <a:pt x="76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781280" y="133344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2097000" y="135108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665360" y="1514520"/>
              <a:ext cx="28800" cy="184680"/>
            </a:xfrm>
            <a:custGeom>
              <a:avLst/>
              <a:gdLst/>
              <a:ahLst/>
              <a:rect l="0" t="0" r="r" b="b"/>
              <a:pathLst>
                <a:path w="80" h="513">
                  <a:moveTo>
                    <a:pt x="30" y="0"/>
                  </a:moveTo>
                  <a:lnTo>
                    <a:pt x="0" y="164"/>
                  </a:lnTo>
                  <a:lnTo>
                    <a:pt x="8" y="300"/>
                  </a:lnTo>
                  <a:lnTo>
                    <a:pt x="80" y="513"/>
                  </a:lnTo>
                  <a:lnTo>
                    <a:pt x="35" y="309"/>
                  </a:lnTo>
                  <a:lnTo>
                    <a:pt x="30" y="21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125800" y="1565280"/>
              <a:ext cx="68760" cy="171720"/>
            </a:xfrm>
            <a:custGeom>
              <a:avLst/>
              <a:gdLst/>
              <a:ahLst/>
              <a:rect l="0" t="0" r="r" b="b"/>
              <a:pathLst>
                <a:path w="191" h="477">
                  <a:moveTo>
                    <a:pt x="191" y="0"/>
                  </a:moveTo>
                  <a:lnTo>
                    <a:pt x="156" y="189"/>
                  </a:lnTo>
                  <a:lnTo>
                    <a:pt x="89" y="344"/>
                  </a:lnTo>
                  <a:lnTo>
                    <a:pt x="0" y="477"/>
                  </a:lnTo>
                  <a:lnTo>
                    <a:pt x="142" y="318"/>
                  </a:lnTo>
                  <a:lnTo>
                    <a:pt x="178" y="211"/>
                  </a:lnTo>
                  <a:lnTo>
                    <a:pt x="19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549440" y="682560"/>
              <a:ext cx="813240" cy="609840"/>
            </a:xfrm>
            <a:custGeom>
              <a:avLst/>
              <a:gdLst/>
              <a:ahLst/>
              <a:rect l="0" t="0" r="r" b="b"/>
              <a:pathLst>
                <a:path w="2259" h="1694">
                  <a:moveTo>
                    <a:pt x="436" y="348"/>
                  </a:moveTo>
                  <a:lnTo>
                    <a:pt x="697" y="405"/>
                  </a:lnTo>
                  <a:lnTo>
                    <a:pt x="1116" y="454"/>
                  </a:lnTo>
                  <a:lnTo>
                    <a:pt x="1517" y="366"/>
                  </a:lnTo>
                  <a:lnTo>
                    <a:pt x="1774" y="295"/>
                  </a:lnTo>
                  <a:lnTo>
                    <a:pt x="1924" y="313"/>
                  </a:lnTo>
                  <a:lnTo>
                    <a:pt x="2136" y="555"/>
                  </a:lnTo>
                  <a:lnTo>
                    <a:pt x="2153" y="687"/>
                  </a:lnTo>
                  <a:lnTo>
                    <a:pt x="2136" y="860"/>
                  </a:lnTo>
                  <a:lnTo>
                    <a:pt x="2083" y="1028"/>
                  </a:lnTo>
                  <a:lnTo>
                    <a:pt x="2074" y="1196"/>
                  </a:lnTo>
                  <a:lnTo>
                    <a:pt x="2065" y="1297"/>
                  </a:lnTo>
                  <a:lnTo>
                    <a:pt x="2065" y="1407"/>
                  </a:lnTo>
                  <a:lnTo>
                    <a:pt x="2052" y="1482"/>
                  </a:lnTo>
                  <a:lnTo>
                    <a:pt x="2004" y="1654"/>
                  </a:lnTo>
                  <a:lnTo>
                    <a:pt x="2074" y="1628"/>
                  </a:lnTo>
                  <a:lnTo>
                    <a:pt x="2140" y="1500"/>
                  </a:lnTo>
                  <a:lnTo>
                    <a:pt x="2198" y="1442"/>
                  </a:lnTo>
                  <a:lnTo>
                    <a:pt x="2259" y="1200"/>
                  </a:lnTo>
                  <a:lnTo>
                    <a:pt x="2259" y="940"/>
                  </a:lnTo>
                  <a:lnTo>
                    <a:pt x="2224" y="705"/>
                  </a:lnTo>
                  <a:lnTo>
                    <a:pt x="2193" y="595"/>
                  </a:lnTo>
                  <a:lnTo>
                    <a:pt x="2074" y="405"/>
                  </a:lnTo>
                  <a:lnTo>
                    <a:pt x="1977" y="273"/>
                  </a:lnTo>
                  <a:lnTo>
                    <a:pt x="1832" y="154"/>
                  </a:lnTo>
                  <a:lnTo>
                    <a:pt x="1619" y="92"/>
                  </a:lnTo>
                  <a:lnTo>
                    <a:pt x="1368" y="26"/>
                  </a:lnTo>
                  <a:lnTo>
                    <a:pt x="1063" y="0"/>
                  </a:lnTo>
                  <a:lnTo>
                    <a:pt x="768" y="8"/>
                  </a:lnTo>
                  <a:lnTo>
                    <a:pt x="511" y="114"/>
                  </a:lnTo>
                  <a:lnTo>
                    <a:pt x="348" y="242"/>
                  </a:lnTo>
                  <a:lnTo>
                    <a:pt x="176" y="313"/>
                  </a:lnTo>
                  <a:lnTo>
                    <a:pt x="97" y="436"/>
                  </a:lnTo>
                  <a:lnTo>
                    <a:pt x="0" y="665"/>
                  </a:lnTo>
                  <a:lnTo>
                    <a:pt x="0" y="935"/>
                  </a:lnTo>
                  <a:lnTo>
                    <a:pt x="39" y="1196"/>
                  </a:lnTo>
                  <a:lnTo>
                    <a:pt x="52" y="1416"/>
                  </a:lnTo>
                  <a:lnTo>
                    <a:pt x="83" y="1500"/>
                  </a:lnTo>
                  <a:lnTo>
                    <a:pt x="149" y="1597"/>
                  </a:lnTo>
                  <a:lnTo>
                    <a:pt x="167" y="1694"/>
                  </a:lnTo>
                  <a:lnTo>
                    <a:pt x="189" y="1654"/>
                  </a:lnTo>
                  <a:lnTo>
                    <a:pt x="202" y="1495"/>
                  </a:lnTo>
                  <a:lnTo>
                    <a:pt x="136" y="1284"/>
                  </a:lnTo>
                  <a:lnTo>
                    <a:pt x="123" y="1063"/>
                  </a:lnTo>
                  <a:lnTo>
                    <a:pt x="176" y="860"/>
                  </a:lnTo>
                  <a:lnTo>
                    <a:pt x="189" y="652"/>
                  </a:lnTo>
                  <a:lnTo>
                    <a:pt x="216" y="493"/>
                  </a:lnTo>
                  <a:lnTo>
                    <a:pt x="282" y="423"/>
                  </a:lnTo>
                  <a:lnTo>
                    <a:pt x="436" y="34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1654200" y="1252440"/>
              <a:ext cx="265320" cy="194040"/>
            </a:xfrm>
            <a:custGeom>
              <a:avLst/>
              <a:gdLst/>
              <a:ahLst/>
              <a:rect l="0" t="0" r="r" b="b"/>
              <a:pathLst>
                <a:path fill="none" w="737" h="539">
                  <a:moveTo>
                    <a:pt x="697" y="52"/>
                  </a:moveTo>
                  <a:lnTo>
                    <a:pt x="737" y="181"/>
                  </a:lnTo>
                  <a:lnTo>
                    <a:pt x="684" y="447"/>
                  </a:lnTo>
                  <a:lnTo>
                    <a:pt x="516" y="539"/>
                  </a:lnTo>
                  <a:lnTo>
                    <a:pt x="97" y="513"/>
                  </a:lnTo>
                  <a:lnTo>
                    <a:pt x="0" y="367"/>
                  </a:lnTo>
                  <a:lnTo>
                    <a:pt x="39" y="88"/>
                  </a:lnTo>
                  <a:lnTo>
                    <a:pt x="114" y="0"/>
                  </a:lnTo>
                  <a:lnTo>
                    <a:pt x="697" y="5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2003400" y="1274760"/>
              <a:ext cx="259200" cy="201960"/>
            </a:xfrm>
            <a:custGeom>
              <a:avLst/>
              <a:gdLst/>
              <a:ahLst/>
              <a:rect l="0" t="0" r="r" b="b"/>
              <a:pathLst>
                <a:path fill="none" w="720" h="561">
                  <a:moveTo>
                    <a:pt x="26" y="119"/>
                  </a:moveTo>
                  <a:lnTo>
                    <a:pt x="0" y="415"/>
                  </a:lnTo>
                  <a:lnTo>
                    <a:pt x="119" y="516"/>
                  </a:lnTo>
                  <a:lnTo>
                    <a:pt x="588" y="561"/>
                  </a:lnTo>
                  <a:lnTo>
                    <a:pt x="685" y="464"/>
                  </a:lnTo>
                  <a:lnTo>
                    <a:pt x="720" y="149"/>
                  </a:lnTo>
                  <a:lnTo>
                    <a:pt x="667" y="30"/>
                  </a:lnTo>
                  <a:lnTo>
                    <a:pt x="119" y="0"/>
                  </a:lnTo>
                  <a:lnTo>
                    <a:pt x="26" y="119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1922400" y="1333440"/>
              <a:ext cx="89280" cy="25920"/>
            </a:xfrm>
            <a:custGeom>
              <a:avLst/>
              <a:gdLst/>
              <a:ahLst/>
              <a:rect l="0" t="0" r="r" b="b"/>
              <a:pathLst>
                <a:path fill="none" w="248" h="72">
                  <a:moveTo>
                    <a:pt x="0" y="63"/>
                  </a:moveTo>
                  <a:lnTo>
                    <a:pt x="111" y="0"/>
                  </a:lnTo>
                  <a:lnTo>
                    <a:pt x="248" y="7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974960" y="1274760"/>
              <a:ext cx="1440" cy="144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1562040" y="1257480"/>
              <a:ext cx="101880" cy="33840"/>
            </a:xfrm>
            <a:custGeom>
              <a:avLst/>
              <a:gdLst/>
              <a:ahLst/>
              <a:rect l="0" t="0" r="r" b="b"/>
              <a:pathLst>
                <a:path fill="none" w="283" h="94">
                  <a:moveTo>
                    <a:pt x="283" y="94"/>
                  </a:moveTo>
                  <a:lnTo>
                    <a:pt x="105" y="4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V="1">
              <a:off x="2301840" y="1187280"/>
              <a:ext cx="0" cy="22392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2454120" y="2610000"/>
              <a:ext cx="62280" cy="117720"/>
            </a:xfrm>
            <a:custGeom>
              <a:avLst/>
              <a:gdLst/>
              <a:ahLst/>
              <a:rect l="0" t="0" r="r" b="b"/>
              <a:pathLst>
                <a:path w="173" h="327">
                  <a:moveTo>
                    <a:pt x="173" y="318"/>
                  </a:moveTo>
                  <a:lnTo>
                    <a:pt x="17" y="0"/>
                  </a:lnTo>
                  <a:lnTo>
                    <a:pt x="0" y="57"/>
                  </a:lnTo>
                  <a:lnTo>
                    <a:pt x="53" y="208"/>
                  </a:lnTo>
                  <a:lnTo>
                    <a:pt x="67" y="327"/>
                  </a:lnTo>
                  <a:lnTo>
                    <a:pt x="173" y="31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2548080" y="273204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27" y="0"/>
                  </a:moveTo>
                  <a:lnTo>
                    <a:pt x="68" y="23"/>
                  </a:lnTo>
                  <a:lnTo>
                    <a:pt x="76" y="72"/>
                  </a:lnTo>
                  <a:lnTo>
                    <a:pt x="0" y="2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2639880" y="2747880"/>
              <a:ext cx="43200" cy="25920"/>
            </a:xfrm>
            <a:custGeom>
              <a:avLst/>
              <a:gdLst/>
              <a:ahLst/>
              <a:rect l="0" t="0" r="r" b="b"/>
              <a:pathLst>
                <a:path w="120" h="72">
                  <a:moveTo>
                    <a:pt x="0" y="31"/>
                  </a:moveTo>
                  <a:lnTo>
                    <a:pt x="0" y="8"/>
                  </a:lnTo>
                  <a:lnTo>
                    <a:pt x="75" y="0"/>
                  </a:lnTo>
                  <a:lnTo>
                    <a:pt x="120" y="7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2743200" y="2724120"/>
              <a:ext cx="38520" cy="25920"/>
            </a:xfrm>
            <a:custGeom>
              <a:avLst/>
              <a:gdLst/>
              <a:ahLst/>
              <a:rect l="0" t="0" r="r" b="b"/>
              <a:pathLst>
                <a:path w="107" h="72">
                  <a:moveTo>
                    <a:pt x="0" y="27"/>
                  </a:moveTo>
                  <a:lnTo>
                    <a:pt x="67" y="0"/>
                  </a:lnTo>
                  <a:lnTo>
                    <a:pt x="90" y="27"/>
                  </a:lnTo>
                  <a:lnTo>
                    <a:pt x="107" y="72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2805120" y="2651040"/>
              <a:ext cx="46440" cy="25920"/>
            </a:xfrm>
            <a:custGeom>
              <a:avLst/>
              <a:gdLst/>
              <a:ahLst/>
              <a:rect l="0" t="0" r="r" b="b"/>
              <a:pathLst>
                <a:path w="129" h="72">
                  <a:moveTo>
                    <a:pt x="22" y="72"/>
                  </a:moveTo>
                  <a:lnTo>
                    <a:pt x="0" y="17"/>
                  </a:lnTo>
                  <a:lnTo>
                    <a:pt x="36" y="0"/>
                  </a:lnTo>
                  <a:lnTo>
                    <a:pt x="129" y="17"/>
                  </a:lnTo>
                  <a:lnTo>
                    <a:pt x="22" y="7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2630520" y="2241720"/>
              <a:ext cx="28800" cy="52920"/>
            </a:xfrm>
            <a:custGeom>
              <a:avLst/>
              <a:gdLst/>
              <a:ahLst/>
              <a:rect l="0" t="0" r="r" b="b"/>
              <a:pathLst>
                <a:path w="80" h="147">
                  <a:moveTo>
                    <a:pt x="0" y="0"/>
                  </a:moveTo>
                  <a:lnTo>
                    <a:pt x="17" y="84"/>
                  </a:lnTo>
                  <a:lnTo>
                    <a:pt x="17" y="147"/>
                  </a:lnTo>
                  <a:lnTo>
                    <a:pt x="80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870280" y="2460600"/>
              <a:ext cx="90720" cy="39960"/>
            </a:xfrm>
            <a:custGeom>
              <a:avLst/>
              <a:gdLst/>
              <a:ahLst/>
              <a:rect l="0" t="0" r="r" b="b"/>
              <a:pathLst>
                <a:path w="252" h="111">
                  <a:moveTo>
                    <a:pt x="0" y="106"/>
                  </a:moveTo>
                  <a:lnTo>
                    <a:pt x="39" y="67"/>
                  </a:lnTo>
                  <a:lnTo>
                    <a:pt x="70" y="0"/>
                  </a:lnTo>
                  <a:lnTo>
                    <a:pt x="114" y="44"/>
                  </a:lnTo>
                  <a:lnTo>
                    <a:pt x="252" y="52"/>
                  </a:lnTo>
                  <a:lnTo>
                    <a:pt x="177" y="80"/>
                  </a:lnTo>
                  <a:lnTo>
                    <a:pt x="17" y="111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506680" y="230040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72" y="0"/>
                  </a:moveTo>
                  <a:lnTo>
                    <a:pt x="53" y="107"/>
                  </a:lnTo>
                  <a:lnTo>
                    <a:pt x="0" y="99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765520" y="2311560"/>
              <a:ext cx="6124680" cy="3225960"/>
            </a:xfrm>
            <a:prstGeom prst="rect">
              <a:avLst/>
            </a:prstGeom>
            <a:solidFill>
              <a:srgbClr val="ffffff"/>
            </a:solidFill>
            <a:ln w="152280">
              <a:solidFill>
                <a:srgbClr val="996633"/>
              </a:solidFill>
              <a:round/>
            </a:ln>
          </p:spPr>
          <p:txBody>
            <a:bodyPr lIns="165960" rIns="165960" tIns="120960" bIns="12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2400480" y="2203560"/>
              <a:ext cx="717840" cy="605160"/>
            </a:xfrm>
            <a:custGeom>
              <a:avLst/>
              <a:gdLst/>
              <a:ahLst/>
              <a:rect l="0" t="0" r="r" b="b"/>
              <a:pathLst>
                <a:path w="1994" h="1681">
                  <a:moveTo>
                    <a:pt x="1711" y="0"/>
                  </a:moveTo>
                  <a:lnTo>
                    <a:pt x="1808" y="70"/>
                  </a:lnTo>
                  <a:lnTo>
                    <a:pt x="1875" y="171"/>
                  </a:lnTo>
                  <a:lnTo>
                    <a:pt x="1954" y="317"/>
                  </a:lnTo>
                  <a:lnTo>
                    <a:pt x="1994" y="480"/>
                  </a:lnTo>
                  <a:lnTo>
                    <a:pt x="1985" y="621"/>
                  </a:lnTo>
                  <a:lnTo>
                    <a:pt x="1659" y="687"/>
                  </a:lnTo>
                  <a:lnTo>
                    <a:pt x="1588" y="767"/>
                  </a:lnTo>
                  <a:lnTo>
                    <a:pt x="1482" y="811"/>
                  </a:lnTo>
                  <a:lnTo>
                    <a:pt x="1310" y="865"/>
                  </a:lnTo>
                  <a:lnTo>
                    <a:pt x="1293" y="1085"/>
                  </a:lnTo>
                  <a:lnTo>
                    <a:pt x="1341" y="1257"/>
                  </a:lnTo>
                  <a:lnTo>
                    <a:pt x="1293" y="1376"/>
                  </a:lnTo>
                  <a:lnTo>
                    <a:pt x="1173" y="1390"/>
                  </a:lnTo>
                  <a:lnTo>
                    <a:pt x="1099" y="1275"/>
                  </a:lnTo>
                  <a:lnTo>
                    <a:pt x="1103" y="1350"/>
                  </a:lnTo>
                  <a:lnTo>
                    <a:pt x="1160" y="1526"/>
                  </a:lnTo>
                  <a:lnTo>
                    <a:pt x="1085" y="1632"/>
                  </a:lnTo>
                  <a:lnTo>
                    <a:pt x="1006" y="1645"/>
                  </a:lnTo>
                  <a:lnTo>
                    <a:pt x="934" y="1588"/>
                  </a:lnTo>
                  <a:lnTo>
                    <a:pt x="842" y="1442"/>
                  </a:lnTo>
                  <a:lnTo>
                    <a:pt x="868" y="1628"/>
                  </a:lnTo>
                  <a:lnTo>
                    <a:pt x="789" y="1681"/>
                  </a:lnTo>
                  <a:lnTo>
                    <a:pt x="696" y="1645"/>
                  </a:lnTo>
                  <a:lnTo>
                    <a:pt x="608" y="1553"/>
                  </a:lnTo>
                  <a:lnTo>
                    <a:pt x="582" y="1601"/>
                  </a:lnTo>
                  <a:lnTo>
                    <a:pt x="502" y="1601"/>
                  </a:lnTo>
                  <a:lnTo>
                    <a:pt x="432" y="1562"/>
                  </a:lnTo>
                  <a:lnTo>
                    <a:pt x="339" y="1482"/>
                  </a:lnTo>
                  <a:lnTo>
                    <a:pt x="176" y="1500"/>
                  </a:lnTo>
                  <a:lnTo>
                    <a:pt x="83" y="1495"/>
                  </a:lnTo>
                  <a:lnTo>
                    <a:pt x="35" y="1447"/>
                  </a:lnTo>
                  <a:lnTo>
                    <a:pt x="0" y="1376"/>
                  </a:lnTo>
                  <a:lnTo>
                    <a:pt x="35" y="1310"/>
                  </a:lnTo>
                  <a:lnTo>
                    <a:pt x="171" y="1165"/>
                  </a:lnTo>
                  <a:lnTo>
                    <a:pt x="66" y="1046"/>
                  </a:lnTo>
                  <a:lnTo>
                    <a:pt x="52" y="927"/>
                  </a:lnTo>
                  <a:lnTo>
                    <a:pt x="92" y="837"/>
                  </a:lnTo>
                  <a:lnTo>
                    <a:pt x="145" y="529"/>
                  </a:lnTo>
                  <a:lnTo>
                    <a:pt x="123" y="396"/>
                  </a:lnTo>
                  <a:lnTo>
                    <a:pt x="158" y="277"/>
                  </a:lnTo>
                  <a:lnTo>
                    <a:pt x="295" y="238"/>
                  </a:lnTo>
                  <a:lnTo>
                    <a:pt x="366" y="185"/>
                  </a:lnTo>
                  <a:lnTo>
                    <a:pt x="432" y="97"/>
                  </a:lnTo>
                  <a:lnTo>
                    <a:pt x="524" y="52"/>
                  </a:lnTo>
                  <a:lnTo>
                    <a:pt x="635" y="66"/>
                  </a:lnTo>
                  <a:lnTo>
                    <a:pt x="732" y="92"/>
                  </a:lnTo>
                  <a:lnTo>
                    <a:pt x="881" y="70"/>
                  </a:lnTo>
                  <a:lnTo>
                    <a:pt x="965" y="105"/>
                  </a:lnTo>
                  <a:lnTo>
                    <a:pt x="1160" y="132"/>
                  </a:lnTo>
                  <a:lnTo>
                    <a:pt x="1354" y="92"/>
                  </a:lnTo>
                  <a:lnTo>
                    <a:pt x="1711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2746440" y="2400480"/>
              <a:ext cx="60840" cy="275040"/>
            </a:xfrm>
            <a:custGeom>
              <a:avLst/>
              <a:gdLst/>
              <a:ahLst/>
              <a:rect l="0" t="0" r="r" b="b"/>
              <a:pathLst>
                <a:path w="169" h="764">
                  <a:moveTo>
                    <a:pt x="120" y="703"/>
                  </a:moveTo>
                  <a:lnTo>
                    <a:pt x="67" y="534"/>
                  </a:lnTo>
                  <a:lnTo>
                    <a:pt x="35" y="384"/>
                  </a:lnTo>
                  <a:lnTo>
                    <a:pt x="62" y="230"/>
                  </a:lnTo>
                  <a:lnTo>
                    <a:pt x="67" y="101"/>
                  </a:lnTo>
                  <a:lnTo>
                    <a:pt x="169" y="0"/>
                  </a:lnTo>
                  <a:lnTo>
                    <a:pt x="71" y="52"/>
                  </a:lnTo>
                  <a:lnTo>
                    <a:pt x="45" y="35"/>
                  </a:lnTo>
                  <a:lnTo>
                    <a:pt x="45" y="141"/>
                  </a:lnTo>
                  <a:lnTo>
                    <a:pt x="13" y="384"/>
                  </a:lnTo>
                  <a:lnTo>
                    <a:pt x="0" y="433"/>
                  </a:lnTo>
                  <a:lnTo>
                    <a:pt x="106" y="764"/>
                  </a:lnTo>
                  <a:lnTo>
                    <a:pt x="120" y="70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619360" y="2374920"/>
              <a:ext cx="89280" cy="383040"/>
            </a:xfrm>
            <a:custGeom>
              <a:avLst/>
              <a:gdLst/>
              <a:ahLst/>
              <a:rect l="0" t="0" r="r" b="b"/>
              <a:pathLst>
                <a:path w="248" h="1064">
                  <a:moveTo>
                    <a:pt x="248" y="963"/>
                  </a:moveTo>
                  <a:lnTo>
                    <a:pt x="187" y="857"/>
                  </a:lnTo>
                  <a:lnTo>
                    <a:pt x="124" y="697"/>
                  </a:lnTo>
                  <a:lnTo>
                    <a:pt x="67" y="600"/>
                  </a:lnTo>
                  <a:lnTo>
                    <a:pt x="67" y="503"/>
                  </a:lnTo>
                  <a:lnTo>
                    <a:pt x="48" y="441"/>
                  </a:lnTo>
                  <a:lnTo>
                    <a:pt x="67" y="353"/>
                  </a:lnTo>
                  <a:lnTo>
                    <a:pt x="111" y="180"/>
                  </a:lnTo>
                  <a:lnTo>
                    <a:pt x="128" y="66"/>
                  </a:lnTo>
                  <a:lnTo>
                    <a:pt x="75" y="0"/>
                  </a:lnTo>
                  <a:lnTo>
                    <a:pt x="102" y="70"/>
                  </a:lnTo>
                  <a:lnTo>
                    <a:pt x="48" y="314"/>
                  </a:lnTo>
                  <a:lnTo>
                    <a:pt x="4" y="450"/>
                  </a:lnTo>
                  <a:lnTo>
                    <a:pt x="0" y="516"/>
                  </a:lnTo>
                  <a:lnTo>
                    <a:pt x="22" y="613"/>
                  </a:lnTo>
                  <a:lnTo>
                    <a:pt x="89" y="710"/>
                  </a:lnTo>
                  <a:lnTo>
                    <a:pt x="159" y="853"/>
                  </a:lnTo>
                  <a:lnTo>
                    <a:pt x="231" y="1064"/>
                  </a:lnTo>
                  <a:lnTo>
                    <a:pt x="248" y="96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511360" y="2381400"/>
              <a:ext cx="103680" cy="375120"/>
            </a:xfrm>
            <a:custGeom>
              <a:avLst/>
              <a:gdLst/>
              <a:ahLst/>
              <a:rect l="0" t="0" r="r" b="b"/>
              <a:pathLst>
                <a:path w="288" h="1042">
                  <a:moveTo>
                    <a:pt x="253" y="1042"/>
                  </a:moveTo>
                  <a:lnTo>
                    <a:pt x="288" y="1029"/>
                  </a:lnTo>
                  <a:lnTo>
                    <a:pt x="212" y="861"/>
                  </a:lnTo>
                  <a:lnTo>
                    <a:pt x="89" y="666"/>
                  </a:lnTo>
                  <a:lnTo>
                    <a:pt x="35" y="569"/>
                  </a:lnTo>
                  <a:lnTo>
                    <a:pt x="35" y="486"/>
                  </a:lnTo>
                  <a:lnTo>
                    <a:pt x="61" y="397"/>
                  </a:lnTo>
                  <a:lnTo>
                    <a:pt x="61" y="233"/>
                  </a:lnTo>
                  <a:lnTo>
                    <a:pt x="70" y="123"/>
                  </a:lnTo>
                  <a:lnTo>
                    <a:pt x="48" y="39"/>
                  </a:lnTo>
                  <a:lnTo>
                    <a:pt x="4" y="0"/>
                  </a:lnTo>
                  <a:lnTo>
                    <a:pt x="35" y="97"/>
                  </a:lnTo>
                  <a:lnTo>
                    <a:pt x="39" y="194"/>
                  </a:lnTo>
                  <a:lnTo>
                    <a:pt x="35" y="384"/>
                  </a:lnTo>
                  <a:lnTo>
                    <a:pt x="13" y="464"/>
                  </a:lnTo>
                  <a:lnTo>
                    <a:pt x="0" y="556"/>
                  </a:lnTo>
                  <a:lnTo>
                    <a:pt x="66" y="706"/>
                  </a:lnTo>
                  <a:lnTo>
                    <a:pt x="115" y="763"/>
                  </a:lnTo>
                  <a:lnTo>
                    <a:pt x="253" y="104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786040" y="2290680"/>
              <a:ext cx="73440" cy="60840"/>
            </a:xfrm>
            <a:custGeom>
              <a:avLst/>
              <a:gdLst/>
              <a:ahLst/>
              <a:rect l="0" t="0" r="r" b="b"/>
              <a:pathLst>
                <a:path w="204" h="169">
                  <a:moveTo>
                    <a:pt x="0" y="0"/>
                  </a:moveTo>
                  <a:lnTo>
                    <a:pt x="22" y="35"/>
                  </a:lnTo>
                  <a:lnTo>
                    <a:pt x="146" y="45"/>
                  </a:lnTo>
                  <a:lnTo>
                    <a:pt x="169" y="89"/>
                  </a:lnTo>
                  <a:lnTo>
                    <a:pt x="204" y="169"/>
                  </a:lnTo>
                  <a:lnTo>
                    <a:pt x="191" y="45"/>
                  </a:lnTo>
                  <a:lnTo>
                    <a:pt x="156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"/>
            <p:cNvSpPr txBox="1"/>
            <p:nvPr/>
          </p:nvSpPr>
          <p:spPr>
            <a:xfrm>
              <a:off x="2971800" y="2514600"/>
              <a:ext cx="5715000" cy="2895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7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Define and explain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activity-based costing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8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Calculate product unit cost using activity-based costing to assign manufacturing overhead cost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9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Apply costing concepts to a service organization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69" name="" descr=""/>
            <p:cNvPicPr/>
            <p:nvPr/>
          </p:nvPicPr>
          <p:blipFill>
            <a:blip r:embed="rId1"/>
            <a:stretch/>
          </p:blipFill>
          <p:spPr>
            <a:xfrm>
              <a:off x="2590920" y="304920"/>
              <a:ext cx="5549760" cy="158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0" name=""/>
            <p:cNvSpPr txBox="1"/>
            <p:nvPr/>
          </p:nvSpPr>
          <p:spPr>
            <a:xfrm>
              <a:off x="3733920" y="457200"/>
              <a:ext cx="314496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 FINALLY . . 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066680" y="228600"/>
            <a:ext cx="76201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Reviewing S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14400" y="1295280"/>
            <a:ext cx="7924680" cy="15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ses of operating cost information </a:t>
            </a:r>
            <a:br>
              <a:rPr sz="3200"/>
            </a:b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nd product costs in the reviewing st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838080" y="29718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lculate variances between estimated and actual cos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Help managers determine the causes of cost overruns and enable them to adjust future actions to reduce potential proble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eve Leask</dc:creator>
  <dc:description>chap 1 slides of financial acctg book</dc:description>
  <dc:language>en-US</dc:language>
  <cp:lastModifiedBy>HMCo User</cp:lastModifiedBy>
  <cp:revision>0</cp:revision>
  <dc:subject/>
  <dc:title>Chapter 21 Operating Costs and Activity-Based Costing</dc:title>
</cp:coreProperties>
</file>