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0592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5-</a:t>
            </a:r>
            <a:fld id="{78A97028-6B6A-4C2D-ACCF-5A1C0BB7818A}"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609480" y="533520"/>
            <a:ext cx="8534520" cy="2326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15</a:t>
            </a:r>
            <a:br>
              <a:rPr sz="4400"/>
            </a:br>
            <a:r>
              <a:rPr b="1" lang="en-US" sz="4000" spc="-1" strike="noStrike">
                <a:solidFill>
                  <a:srgbClr val="ffcc66"/>
                </a:solidFill>
                <a:latin typeface="Arial"/>
                <a:ea typeface="Arial"/>
              </a:rPr>
              <a:t>The Corporate Income Statement and the Statement of Stockholders’ Equity</a:t>
            </a:r>
            <a:endParaRPr b="0" lang="en-US" sz="4000" spc="-1" strike="noStrike">
              <a:solidFill>
                <a:srgbClr val="ffffff"/>
              </a:solidFill>
              <a:latin typeface="Arial"/>
            </a:endParaRPr>
          </a:p>
        </p:txBody>
      </p:sp>
      <p:pic>
        <p:nvPicPr>
          <p:cNvPr id="43" name="" descr=""/>
          <p:cNvPicPr/>
          <p:nvPr/>
        </p:nvPicPr>
        <p:blipFill>
          <a:blip r:embed="rId1"/>
          <a:stretch/>
        </p:blipFill>
        <p:spPr>
          <a:xfrm>
            <a:off x="5029200" y="3200400"/>
            <a:ext cx="3809880" cy="2890800"/>
          </a:xfrm>
          <a:prstGeom prst="rect">
            <a:avLst/>
          </a:prstGeom>
          <a:ln w="0">
            <a:noFill/>
          </a:ln>
        </p:spPr>
      </p:pic>
      <p:sp>
        <p:nvSpPr>
          <p:cNvPr id="44" name=""/>
          <p:cNvSpPr txBox="1"/>
          <p:nvPr/>
        </p:nvSpPr>
        <p:spPr>
          <a:xfrm>
            <a:off x="914400" y="2971800"/>
            <a:ext cx="4191120" cy="3657600"/>
          </a:xfrm>
          <a:prstGeom prst="rect">
            <a:avLst/>
          </a:prstGeom>
          <a:noFill/>
          <a:ln w="0">
            <a:noFill/>
          </a:ln>
        </p:spPr>
        <p:txBody>
          <a:bodyPr lIns="0" rIns="0" tIns="0" bIns="0" anchor="t">
            <a:noAutofit/>
          </a:bodyPr>
          <a:p>
            <a:pPr marL="343080" indent="-343080" algn="ctr">
              <a:lnSpc>
                <a:spcPct val="9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9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371600" y="457200"/>
            <a:ext cx="71294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6" name=""/>
          <p:cNvSpPr txBox="1"/>
          <p:nvPr/>
        </p:nvSpPr>
        <p:spPr>
          <a:xfrm>
            <a:off x="1066680" y="2057400"/>
            <a:ext cx="7620120" cy="2743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alternatives could cause problems in the interpretation of financial statements were it not for two con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
          <p:cNvSpPr txBox="1"/>
          <p:nvPr/>
        </p:nvSpPr>
        <p:spPr>
          <a:xfrm>
            <a:off x="1295280" y="304920"/>
            <a:ext cx="72057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8" name=""/>
          <p:cNvSpPr txBox="1"/>
          <p:nvPr/>
        </p:nvSpPr>
        <p:spPr>
          <a:xfrm>
            <a:off x="990720" y="1752480"/>
            <a:ext cx="7772400" cy="457200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  Full disclosure.</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management explain the significant accounting policies used in preparing the financial statements in a note to the statement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  Consistency.</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the same accounting procedures be followed from year to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
          <p:cNvSpPr txBox="1"/>
          <p:nvPr/>
        </p:nvSpPr>
        <p:spPr>
          <a:xfrm>
            <a:off x="762120" y="457200"/>
            <a:ext cx="8186760" cy="901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ature of Nonoperating Items</a:t>
            </a:r>
            <a:endParaRPr b="0" lang="en-US" sz="4400" spc="-1" strike="noStrike">
              <a:solidFill>
                <a:srgbClr val="ffffff"/>
              </a:solidFill>
              <a:latin typeface="Arial"/>
            </a:endParaRPr>
          </a:p>
        </p:txBody>
      </p:sp>
      <p:sp>
        <p:nvSpPr>
          <p:cNvPr id="70"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ower part of the corporate income statement can contain such nonoperating items as discontinued operations, extraordinary gains and losses, and effects of accounting chang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nalyzing financial statements, the analyst must be careful to look beyond a “bottom line” that may have been influenced by nonoperating items that are not expected to rec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
          <p:cNvSpPr txBox="1"/>
          <p:nvPr/>
        </p:nvSpPr>
        <p:spPr>
          <a:xfrm>
            <a:off x="2666880" y="1447920"/>
            <a:ext cx="45464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2" name=""/>
          <p:cNvSpPr txBox="1"/>
          <p:nvPr/>
        </p:nvSpPr>
        <p:spPr>
          <a:xfrm>
            <a:off x="914400" y="2743200"/>
            <a:ext cx="7848720" cy="312408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basis of the statement, “Accounting income is a useless measurement because it is based on so many arbitrary decisions”? Is the statement true?</a:t>
            </a:r>
            <a:endParaRPr b="0" lang="en-US" sz="3200" spc="-1" strike="noStrike">
              <a:solidFill>
                <a:srgbClr val="ffffff"/>
              </a:solidFill>
              <a:latin typeface="Arial"/>
            </a:endParaRPr>
          </a:p>
        </p:txBody>
      </p:sp>
      <p:grpSp>
        <p:nvGrpSpPr>
          <p:cNvPr id="73" name=""/>
          <p:cNvGrpSpPr/>
          <p:nvPr/>
        </p:nvGrpSpPr>
        <p:grpSpPr>
          <a:xfrm>
            <a:off x="685800" y="304920"/>
            <a:ext cx="2132280" cy="2208600"/>
            <a:chOff x="685800" y="304920"/>
            <a:chExt cx="2132280" cy="2208600"/>
          </a:xfrm>
        </p:grpSpPr>
        <p:sp>
          <p:nvSpPr>
            <p:cNvPr id="74" name=""/>
            <p:cNvSpPr/>
            <p:nvPr/>
          </p:nvSpPr>
          <p:spPr>
            <a:xfrm>
              <a:off x="69228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12536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11788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27160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139536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143820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146196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59552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159084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83" name=""/>
            <p:cNvSpPr/>
            <p:nvPr/>
          </p:nvSpPr>
          <p:spPr>
            <a:xfrm>
              <a:off x="144936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173052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39212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158256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87" name=""/>
            <p:cNvSpPr/>
            <p:nvPr/>
          </p:nvSpPr>
          <p:spPr>
            <a:xfrm>
              <a:off x="138276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145584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145260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0" name=""/>
            <p:cNvSpPr/>
            <p:nvPr/>
          </p:nvSpPr>
          <p:spPr>
            <a:xfrm>
              <a:off x="158580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91" name=""/>
            <p:cNvSpPr/>
            <p:nvPr/>
          </p:nvSpPr>
          <p:spPr>
            <a:xfrm>
              <a:off x="156996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154296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85572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68580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86040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103968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227016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242712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235584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101268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158904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12076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06856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
          <p:cNvSpPr txBox="1"/>
          <p:nvPr/>
        </p:nvSpPr>
        <p:spPr>
          <a:xfrm>
            <a:off x="2057400" y="304920"/>
            <a:ext cx="60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105" name=""/>
          <p:cNvSpPr txBox="1"/>
          <p:nvPr/>
        </p:nvSpPr>
        <p:spPr>
          <a:xfrm>
            <a:off x="2438280" y="304920"/>
            <a:ext cx="6400800" cy="57913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0" lang="en-US" sz="2400" spc="-1" strike="noStrike">
              <a:solidFill>
                <a:srgbClr val="ffffff"/>
              </a:solidFill>
              <a:latin typeface="Arial"/>
            </a:endParaRPr>
          </a:p>
        </p:txBody>
      </p:sp>
      <p:grpSp>
        <p:nvGrpSpPr>
          <p:cNvPr id="106" name=""/>
          <p:cNvGrpSpPr/>
          <p:nvPr/>
        </p:nvGrpSpPr>
        <p:grpSpPr>
          <a:xfrm>
            <a:off x="838080" y="4114800"/>
            <a:ext cx="1827720" cy="2283480"/>
            <a:chOff x="838080" y="4114800"/>
            <a:chExt cx="1827720" cy="2283480"/>
          </a:xfrm>
        </p:grpSpPr>
        <p:sp>
          <p:nvSpPr>
            <p:cNvPr id="107" name=""/>
            <p:cNvSpPr/>
            <p:nvPr/>
          </p:nvSpPr>
          <p:spPr>
            <a:xfrm>
              <a:off x="1241280" y="4292640"/>
              <a:ext cx="671760" cy="1047960"/>
            </a:xfrm>
            <a:custGeom>
              <a:avLst/>
              <a:gdLst/>
              <a:ahLst/>
              <a:rect l="0" t="0" r="r" b="b"/>
              <a:pathLst>
                <a:path w="1866" h="2911">
                  <a:moveTo>
                    <a:pt x="935" y="0"/>
                  </a:moveTo>
                  <a:lnTo>
                    <a:pt x="1147" y="635"/>
                  </a:lnTo>
                  <a:lnTo>
                    <a:pt x="1293" y="1084"/>
                  </a:lnTo>
                  <a:lnTo>
                    <a:pt x="1266" y="1146"/>
                  </a:lnTo>
                  <a:lnTo>
                    <a:pt x="1129" y="1526"/>
                  </a:lnTo>
                  <a:lnTo>
                    <a:pt x="1081" y="1597"/>
                  </a:lnTo>
                  <a:lnTo>
                    <a:pt x="1085" y="1729"/>
                  </a:lnTo>
                  <a:lnTo>
                    <a:pt x="984" y="1782"/>
                  </a:lnTo>
                  <a:lnTo>
                    <a:pt x="890" y="1782"/>
                  </a:lnTo>
                  <a:lnTo>
                    <a:pt x="736" y="1729"/>
                  </a:lnTo>
                  <a:lnTo>
                    <a:pt x="723" y="1888"/>
                  </a:lnTo>
                  <a:lnTo>
                    <a:pt x="1354" y="2055"/>
                  </a:lnTo>
                  <a:lnTo>
                    <a:pt x="1328" y="1897"/>
                  </a:lnTo>
                  <a:lnTo>
                    <a:pt x="1345" y="1729"/>
                  </a:lnTo>
                  <a:lnTo>
                    <a:pt x="1416" y="1614"/>
                  </a:lnTo>
                  <a:lnTo>
                    <a:pt x="1522" y="1614"/>
                  </a:lnTo>
                  <a:lnTo>
                    <a:pt x="1689" y="1676"/>
                  </a:lnTo>
                  <a:lnTo>
                    <a:pt x="1866" y="1782"/>
                  </a:lnTo>
                  <a:lnTo>
                    <a:pt x="1689" y="1967"/>
                  </a:lnTo>
                  <a:lnTo>
                    <a:pt x="1248" y="2911"/>
                  </a:lnTo>
                  <a:lnTo>
                    <a:pt x="696" y="2902"/>
                  </a:lnTo>
                  <a:lnTo>
                    <a:pt x="110" y="1243"/>
                  </a:lnTo>
                  <a:lnTo>
                    <a:pt x="0" y="943"/>
                  </a:lnTo>
                  <a:lnTo>
                    <a:pt x="0" y="776"/>
                  </a:lnTo>
                  <a:lnTo>
                    <a:pt x="194" y="0"/>
                  </a:lnTo>
                  <a:lnTo>
                    <a:pt x="635" y="26"/>
                  </a:lnTo>
                  <a:lnTo>
                    <a:pt x="93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306440" y="4749840"/>
              <a:ext cx="70200" cy="57600"/>
            </a:xfrm>
            <a:custGeom>
              <a:avLst/>
              <a:gdLst/>
              <a:ahLst/>
              <a:rect l="0" t="0" r="r" b="b"/>
              <a:pathLst>
                <a:path w="195" h="160">
                  <a:moveTo>
                    <a:pt x="66" y="0"/>
                  </a:moveTo>
                  <a:lnTo>
                    <a:pt x="133" y="8"/>
                  </a:lnTo>
                  <a:lnTo>
                    <a:pt x="195" y="143"/>
                  </a:lnTo>
                  <a:lnTo>
                    <a:pt x="35" y="160"/>
                  </a:lnTo>
                  <a:lnTo>
                    <a:pt x="0" y="35"/>
                  </a:lnTo>
                  <a:lnTo>
                    <a:pt x="66"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109" name=""/>
            <p:cNvSpPr/>
            <p:nvPr/>
          </p:nvSpPr>
          <p:spPr>
            <a:xfrm>
              <a:off x="1168560" y="4114800"/>
              <a:ext cx="495720" cy="492480"/>
            </a:xfrm>
            <a:custGeom>
              <a:avLst/>
              <a:gdLst/>
              <a:ahLst/>
              <a:rect l="0" t="0" r="r" b="b"/>
              <a:pathLst>
                <a:path w="1377" h="1368">
                  <a:moveTo>
                    <a:pt x="1377" y="149"/>
                  </a:moveTo>
                  <a:lnTo>
                    <a:pt x="1289" y="343"/>
                  </a:lnTo>
                  <a:lnTo>
                    <a:pt x="1219" y="423"/>
                  </a:lnTo>
                  <a:lnTo>
                    <a:pt x="1307" y="511"/>
                  </a:lnTo>
                  <a:lnTo>
                    <a:pt x="1369" y="1191"/>
                  </a:lnTo>
                  <a:lnTo>
                    <a:pt x="1197" y="688"/>
                  </a:lnTo>
                  <a:lnTo>
                    <a:pt x="1028" y="529"/>
                  </a:lnTo>
                  <a:lnTo>
                    <a:pt x="680" y="599"/>
                  </a:lnTo>
                  <a:lnTo>
                    <a:pt x="424" y="590"/>
                  </a:lnTo>
                  <a:lnTo>
                    <a:pt x="393" y="794"/>
                  </a:lnTo>
                  <a:lnTo>
                    <a:pt x="397" y="1147"/>
                  </a:lnTo>
                  <a:lnTo>
                    <a:pt x="375" y="1368"/>
                  </a:lnTo>
                  <a:lnTo>
                    <a:pt x="238" y="1315"/>
                  </a:lnTo>
                  <a:lnTo>
                    <a:pt x="0" y="670"/>
                  </a:lnTo>
                  <a:lnTo>
                    <a:pt x="61" y="546"/>
                  </a:lnTo>
                  <a:lnTo>
                    <a:pt x="163" y="405"/>
                  </a:lnTo>
                  <a:lnTo>
                    <a:pt x="268" y="361"/>
                  </a:lnTo>
                  <a:lnTo>
                    <a:pt x="286" y="220"/>
                  </a:lnTo>
                  <a:lnTo>
                    <a:pt x="397" y="79"/>
                  </a:lnTo>
                  <a:lnTo>
                    <a:pt x="530" y="26"/>
                  </a:lnTo>
                  <a:lnTo>
                    <a:pt x="697" y="8"/>
                  </a:lnTo>
                  <a:lnTo>
                    <a:pt x="865" y="26"/>
                  </a:lnTo>
                  <a:lnTo>
                    <a:pt x="1047" y="79"/>
                  </a:lnTo>
                  <a:lnTo>
                    <a:pt x="1028" y="194"/>
                  </a:lnTo>
                  <a:lnTo>
                    <a:pt x="1077" y="176"/>
                  </a:lnTo>
                  <a:lnTo>
                    <a:pt x="1104" y="0"/>
                  </a:lnTo>
                  <a:lnTo>
                    <a:pt x="1170" y="35"/>
                  </a:lnTo>
                  <a:lnTo>
                    <a:pt x="1113" y="264"/>
                  </a:lnTo>
                  <a:lnTo>
                    <a:pt x="1232" y="35"/>
                  </a:lnTo>
                  <a:lnTo>
                    <a:pt x="1170" y="291"/>
                  </a:lnTo>
                  <a:lnTo>
                    <a:pt x="1311" y="97"/>
                  </a:lnTo>
                  <a:lnTo>
                    <a:pt x="1201" y="343"/>
                  </a:lnTo>
                  <a:lnTo>
                    <a:pt x="1289" y="264"/>
                  </a:lnTo>
                  <a:lnTo>
                    <a:pt x="1324" y="167"/>
                  </a:lnTo>
                  <a:lnTo>
                    <a:pt x="1377" y="14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1627200" y="4346640"/>
              <a:ext cx="1032120" cy="1260720"/>
            </a:xfrm>
            <a:custGeom>
              <a:avLst/>
              <a:gdLst/>
              <a:ahLst/>
              <a:rect l="0" t="0" r="r" b="b"/>
              <a:pathLst>
                <a:path w="2867" h="3502">
                  <a:moveTo>
                    <a:pt x="2867" y="890"/>
                  </a:moveTo>
                  <a:lnTo>
                    <a:pt x="2210" y="714"/>
                  </a:lnTo>
                  <a:lnTo>
                    <a:pt x="1601" y="396"/>
                  </a:lnTo>
                  <a:lnTo>
                    <a:pt x="996" y="0"/>
                  </a:lnTo>
                  <a:lnTo>
                    <a:pt x="886" y="432"/>
                  </a:lnTo>
                  <a:lnTo>
                    <a:pt x="604" y="1278"/>
                  </a:lnTo>
                  <a:lnTo>
                    <a:pt x="502" y="1464"/>
                  </a:lnTo>
                  <a:lnTo>
                    <a:pt x="621" y="1543"/>
                  </a:lnTo>
                  <a:lnTo>
                    <a:pt x="696" y="1640"/>
                  </a:lnTo>
                  <a:lnTo>
                    <a:pt x="639" y="1710"/>
                  </a:lnTo>
                  <a:lnTo>
                    <a:pt x="449" y="1719"/>
                  </a:lnTo>
                  <a:lnTo>
                    <a:pt x="352" y="1932"/>
                  </a:lnTo>
                  <a:lnTo>
                    <a:pt x="136" y="2311"/>
                  </a:lnTo>
                  <a:lnTo>
                    <a:pt x="0" y="2435"/>
                  </a:lnTo>
                  <a:lnTo>
                    <a:pt x="542" y="2664"/>
                  </a:lnTo>
                  <a:lnTo>
                    <a:pt x="1014" y="3061"/>
                  </a:lnTo>
                  <a:lnTo>
                    <a:pt x="1482" y="3361"/>
                  </a:lnTo>
                  <a:lnTo>
                    <a:pt x="1681" y="3502"/>
                  </a:lnTo>
                  <a:lnTo>
                    <a:pt x="2029" y="2902"/>
                  </a:lnTo>
                  <a:lnTo>
                    <a:pt x="2342" y="2188"/>
                  </a:lnTo>
                  <a:lnTo>
                    <a:pt x="2598" y="1552"/>
                  </a:lnTo>
                  <a:lnTo>
                    <a:pt x="2783" y="1093"/>
                  </a:lnTo>
                  <a:lnTo>
                    <a:pt x="2867" y="8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149480" y="4956120"/>
              <a:ext cx="678240" cy="536760"/>
            </a:xfrm>
            <a:custGeom>
              <a:avLst/>
              <a:gdLst/>
              <a:ahLst/>
              <a:rect l="0" t="0" r="r" b="b"/>
              <a:pathLst>
                <a:path w="1884" h="1491">
                  <a:moveTo>
                    <a:pt x="1629" y="220"/>
                  </a:moveTo>
                  <a:lnTo>
                    <a:pt x="1452" y="61"/>
                  </a:lnTo>
                  <a:lnTo>
                    <a:pt x="1209" y="79"/>
                  </a:lnTo>
                  <a:lnTo>
                    <a:pt x="1099" y="0"/>
                  </a:lnTo>
                  <a:lnTo>
                    <a:pt x="1010" y="17"/>
                  </a:lnTo>
                  <a:lnTo>
                    <a:pt x="1028" y="79"/>
                  </a:lnTo>
                  <a:lnTo>
                    <a:pt x="1085" y="185"/>
                  </a:lnTo>
                  <a:lnTo>
                    <a:pt x="874" y="229"/>
                  </a:lnTo>
                  <a:lnTo>
                    <a:pt x="750" y="79"/>
                  </a:lnTo>
                  <a:lnTo>
                    <a:pt x="706" y="0"/>
                  </a:lnTo>
                  <a:lnTo>
                    <a:pt x="427" y="79"/>
                  </a:lnTo>
                  <a:lnTo>
                    <a:pt x="101" y="79"/>
                  </a:lnTo>
                  <a:lnTo>
                    <a:pt x="0" y="291"/>
                  </a:lnTo>
                  <a:lnTo>
                    <a:pt x="35" y="750"/>
                  </a:lnTo>
                  <a:lnTo>
                    <a:pt x="13" y="794"/>
                  </a:lnTo>
                  <a:lnTo>
                    <a:pt x="88" y="979"/>
                  </a:lnTo>
                  <a:lnTo>
                    <a:pt x="61" y="1041"/>
                  </a:lnTo>
                  <a:lnTo>
                    <a:pt x="224" y="1491"/>
                  </a:lnTo>
                  <a:lnTo>
                    <a:pt x="1884" y="1032"/>
                  </a:lnTo>
                  <a:lnTo>
                    <a:pt x="1545" y="838"/>
                  </a:lnTo>
                  <a:lnTo>
                    <a:pt x="1376" y="1032"/>
                  </a:lnTo>
                  <a:lnTo>
                    <a:pt x="984" y="1041"/>
                  </a:lnTo>
                  <a:lnTo>
                    <a:pt x="962" y="882"/>
                  </a:lnTo>
                  <a:lnTo>
                    <a:pt x="1209" y="777"/>
                  </a:lnTo>
                  <a:lnTo>
                    <a:pt x="1390" y="777"/>
                  </a:lnTo>
                  <a:lnTo>
                    <a:pt x="1315" y="740"/>
                  </a:lnTo>
                  <a:lnTo>
                    <a:pt x="1527" y="529"/>
                  </a:lnTo>
                  <a:lnTo>
                    <a:pt x="1638" y="264"/>
                  </a:lnTo>
                  <a:lnTo>
                    <a:pt x="1629" y="22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508040" y="5019840"/>
              <a:ext cx="106560" cy="235440"/>
            </a:xfrm>
            <a:custGeom>
              <a:avLst/>
              <a:gdLst/>
              <a:ahLst/>
              <a:rect l="0" t="0" r="r" b="b"/>
              <a:pathLst>
                <a:path w="296" h="654">
                  <a:moveTo>
                    <a:pt x="92" y="0"/>
                  </a:moveTo>
                  <a:lnTo>
                    <a:pt x="239" y="353"/>
                  </a:lnTo>
                  <a:lnTo>
                    <a:pt x="296" y="601"/>
                  </a:lnTo>
                  <a:lnTo>
                    <a:pt x="119" y="654"/>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420920" y="5261040"/>
              <a:ext cx="122760" cy="57600"/>
            </a:xfrm>
            <a:custGeom>
              <a:avLst/>
              <a:gdLst/>
              <a:ahLst/>
              <a:rect l="0" t="0" r="r" b="b"/>
              <a:pathLst>
                <a:path w="341" h="160">
                  <a:moveTo>
                    <a:pt x="0" y="98"/>
                  </a:moveTo>
                  <a:lnTo>
                    <a:pt x="252" y="0"/>
                  </a:lnTo>
                  <a:lnTo>
                    <a:pt x="341"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4" name=""/>
            <p:cNvSpPr/>
            <p:nvPr/>
          </p:nvSpPr>
          <p:spPr>
            <a:xfrm>
              <a:off x="1522440" y="4781520"/>
              <a:ext cx="119520" cy="54360"/>
            </a:xfrm>
            <a:custGeom>
              <a:avLst/>
              <a:gdLst/>
              <a:ahLst/>
              <a:rect l="0" t="0" r="r" b="b"/>
              <a:pathLst>
                <a:path w="332" h="151">
                  <a:moveTo>
                    <a:pt x="293" y="0"/>
                  </a:moveTo>
                  <a:lnTo>
                    <a:pt x="332" y="80"/>
                  </a:lnTo>
                  <a:lnTo>
                    <a:pt x="293" y="134"/>
                  </a:lnTo>
                  <a:lnTo>
                    <a:pt x="172" y="151"/>
                  </a:lnTo>
                  <a:lnTo>
                    <a:pt x="0" y="80"/>
                  </a:lnTo>
                  <a:lnTo>
                    <a:pt x="234" y="0"/>
                  </a:lnTo>
                  <a:lnTo>
                    <a:pt x="293"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5" name=""/>
            <p:cNvSpPr/>
            <p:nvPr/>
          </p:nvSpPr>
          <p:spPr>
            <a:xfrm>
              <a:off x="1457280" y="4753080"/>
              <a:ext cx="163800" cy="73440"/>
            </a:xfrm>
            <a:custGeom>
              <a:avLst/>
              <a:gdLst/>
              <a:ahLst/>
              <a:rect l="0" t="0" r="r" b="b"/>
              <a:pathLst>
                <a:path w="455" h="204">
                  <a:moveTo>
                    <a:pt x="455" y="0"/>
                  </a:moveTo>
                  <a:lnTo>
                    <a:pt x="309" y="26"/>
                  </a:lnTo>
                  <a:lnTo>
                    <a:pt x="180" y="44"/>
                  </a:lnTo>
                  <a:lnTo>
                    <a:pt x="0" y="17"/>
                  </a:lnTo>
                  <a:lnTo>
                    <a:pt x="110" y="169"/>
                  </a:lnTo>
                  <a:lnTo>
                    <a:pt x="327" y="204"/>
                  </a:lnTo>
                  <a:lnTo>
                    <a:pt x="455" y="150"/>
                  </a:lnTo>
                  <a:lnTo>
                    <a:pt x="424" y="124"/>
                  </a:lnTo>
                  <a:lnTo>
                    <a:pt x="446" y="71"/>
                  </a:lnTo>
                  <a:lnTo>
                    <a:pt x="455"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116" name=""/>
            <p:cNvSpPr/>
            <p:nvPr/>
          </p:nvSpPr>
          <p:spPr>
            <a:xfrm>
              <a:off x="1244520" y="5241960"/>
              <a:ext cx="795600" cy="292320"/>
            </a:xfrm>
            <a:custGeom>
              <a:avLst/>
              <a:gdLst/>
              <a:ahLst/>
              <a:rect l="0" t="0" r="r" b="b"/>
              <a:pathLst>
                <a:path w="2210" h="812">
                  <a:moveTo>
                    <a:pt x="1998" y="17"/>
                  </a:moveTo>
                  <a:lnTo>
                    <a:pt x="1619" y="52"/>
                  </a:lnTo>
                  <a:lnTo>
                    <a:pt x="1257" y="194"/>
                  </a:lnTo>
                  <a:lnTo>
                    <a:pt x="833" y="194"/>
                  </a:lnTo>
                  <a:lnTo>
                    <a:pt x="348" y="97"/>
                  </a:lnTo>
                  <a:lnTo>
                    <a:pt x="79" y="0"/>
                  </a:lnTo>
                  <a:lnTo>
                    <a:pt x="255" y="211"/>
                  </a:lnTo>
                  <a:lnTo>
                    <a:pt x="0" y="167"/>
                  </a:lnTo>
                  <a:lnTo>
                    <a:pt x="154" y="335"/>
                  </a:lnTo>
                  <a:lnTo>
                    <a:pt x="0" y="574"/>
                  </a:lnTo>
                  <a:lnTo>
                    <a:pt x="392" y="750"/>
                  </a:lnTo>
                  <a:lnTo>
                    <a:pt x="2077" y="812"/>
                  </a:lnTo>
                  <a:lnTo>
                    <a:pt x="2210" y="653"/>
                  </a:lnTo>
                  <a:lnTo>
                    <a:pt x="2016" y="494"/>
                  </a:lnTo>
                  <a:lnTo>
                    <a:pt x="2144" y="317"/>
                  </a:lnTo>
                  <a:lnTo>
                    <a:pt x="1936" y="282"/>
                  </a:lnTo>
                  <a:lnTo>
                    <a:pt x="2064" y="97"/>
                  </a:lnTo>
                  <a:lnTo>
                    <a:pt x="1936" y="141"/>
                  </a:lnTo>
                  <a:lnTo>
                    <a:pt x="1870" y="141"/>
                  </a:lnTo>
                  <a:lnTo>
                    <a:pt x="1998"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149560" y="6197760"/>
              <a:ext cx="452880" cy="174960"/>
            </a:xfrm>
            <a:custGeom>
              <a:avLst/>
              <a:gdLst/>
              <a:ahLst/>
              <a:rect l="0" t="0" r="r" b="b"/>
              <a:pathLst>
                <a:path w="1258" h="486">
                  <a:moveTo>
                    <a:pt x="1258" y="247"/>
                  </a:moveTo>
                  <a:lnTo>
                    <a:pt x="697" y="0"/>
                  </a:lnTo>
                  <a:lnTo>
                    <a:pt x="411" y="274"/>
                  </a:lnTo>
                  <a:lnTo>
                    <a:pt x="0" y="371"/>
                  </a:lnTo>
                  <a:lnTo>
                    <a:pt x="136" y="468"/>
                  </a:lnTo>
                  <a:lnTo>
                    <a:pt x="972" y="486"/>
                  </a:lnTo>
                  <a:lnTo>
                    <a:pt x="1258" y="24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311120" y="5508720"/>
              <a:ext cx="722520" cy="886320"/>
            </a:xfrm>
            <a:custGeom>
              <a:avLst/>
              <a:gdLst/>
              <a:ahLst/>
              <a:rect l="0" t="0" r="r" b="b"/>
              <a:pathLst>
                <a:path w="2007" h="2462">
                  <a:moveTo>
                    <a:pt x="1994" y="52"/>
                  </a:moveTo>
                  <a:lnTo>
                    <a:pt x="0" y="0"/>
                  </a:lnTo>
                  <a:lnTo>
                    <a:pt x="0" y="476"/>
                  </a:lnTo>
                  <a:lnTo>
                    <a:pt x="238" y="618"/>
                  </a:lnTo>
                  <a:lnTo>
                    <a:pt x="255" y="2109"/>
                  </a:lnTo>
                  <a:lnTo>
                    <a:pt x="471" y="2136"/>
                  </a:lnTo>
                  <a:lnTo>
                    <a:pt x="471" y="2418"/>
                  </a:lnTo>
                  <a:lnTo>
                    <a:pt x="1584" y="2462"/>
                  </a:lnTo>
                  <a:lnTo>
                    <a:pt x="1562" y="2092"/>
                  </a:lnTo>
                  <a:lnTo>
                    <a:pt x="1795" y="2092"/>
                  </a:lnTo>
                  <a:lnTo>
                    <a:pt x="1826" y="564"/>
                  </a:lnTo>
                  <a:lnTo>
                    <a:pt x="1980" y="423"/>
                  </a:lnTo>
                  <a:lnTo>
                    <a:pt x="2007" y="185"/>
                  </a:lnTo>
                  <a:lnTo>
                    <a:pt x="1994"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1830240" y="5302080"/>
              <a:ext cx="33840" cy="225720"/>
            </a:xfrm>
            <a:custGeom>
              <a:avLst/>
              <a:gdLst/>
              <a:ahLst/>
              <a:rect l="0" t="0" r="r" b="b"/>
              <a:pathLst>
                <a:path w="94" h="627">
                  <a:moveTo>
                    <a:pt x="94" y="149"/>
                  </a:moveTo>
                  <a:lnTo>
                    <a:pt x="94" y="627"/>
                  </a:lnTo>
                  <a:lnTo>
                    <a:pt x="17" y="609"/>
                  </a:lnTo>
                  <a:lnTo>
                    <a:pt x="0" y="0"/>
                  </a:lnTo>
                  <a:lnTo>
                    <a:pt x="94"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58960" y="6188040"/>
              <a:ext cx="533880" cy="155880"/>
            </a:xfrm>
            <a:custGeom>
              <a:avLst/>
              <a:gdLst/>
              <a:ahLst/>
              <a:rect l="0" t="0" r="r" b="b"/>
              <a:pathLst>
                <a:path w="1483" h="433">
                  <a:moveTo>
                    <a:pt x="1483" y="318"/>
                  </a:moveTo>
                  <a:lnTo>
                    <a:pt x="1094" y="318"/>
                  </a:lnTo>
                  <a:lnTo>
                    <a:pt x="777" y="70"/>
                  </a:lnTo>
                  <a:lnTo>
                    <a:pt x="411" y="70"/>
                  </a:lnTo>
                  <a:lnTo>
                    <a:pt x="0" y="0"/>
                  </a:lnTo>
                  <a:lnTo>
                    <a:pt x="304" y="221"/>
                  </a:lnTo>
                  <a:lnTo>
                    <a:pt x="794" y="397"/>
                  </a:lnTo>
                  <a:lnTo>
                    <a:pt x="1037" y="433"/>
                  </a:lnTo>
                  <a:lnTo>
                    <a:pt x="1483"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46240" y="6235560"/>
              <a:ext cx="276480" cy="117720"/>
            </a:xfrm>
            <a:custGeom>
              <a:avLst/>
              <a:gdLst/>
              <a:ahLst/>
              <a:rect l="0" t="0" r="r" b="b"/>
              <a:pathLst>
                <a:path w="768" h="327">
                  <a:moveTo>
                    <a:pt x="768" y="114"/>
                  </a:moveTo>
                  <a:lnTo>
                    <a:pt x="383" y="114"/>
                  </a:lnTo>
                  <a:lnTo>
                    <a:pt x="0" y="0"/>
                  </a:lnTo>
                  <a:lnTo>
                    <a:pt x="61" y="230"/>
                  </a:lnTo>
                  <a:lnTo>
                    <a:pt x="374" y="327"/>
                  </a:lnTo>
                  <a:lnTo>
                    <a:pt x="631" y="212"/>
                  </a:lnTo>
                  <a:lnTo>
                    <a:pt x="768" y="1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878120" y="6188040"/>
              <a:ext cx="144720" cy="149760"/>
            </a:xfrm>
            <a:custGeom>
              <a:avLst/>
              <a:gdLst/>
              <a:ahLst/>
              <a:rect l="0" t="0" r="r" b="b"/>
              <a:pathLst>
                <a:path w="402" h="416">
                  <a:moveTo>
                    <a:pt x="30" y="0"/>
                  </a:moveTo>
                  <a:lnTo>
                    <a:pt x="261" y="159"/>
                  </a:lnTo>
                  <a:lnTo>
                    <a:pt x="371" y="274"/>
                  </a:lnTo>
                  <a:lnTo>
                    <a:pt x="402" y="416"/>
                  </a:lnTo>
                  <a:lnTo>
                    <a:pt x="349" y="416"/>
                  </a:lnTo>
                  <a:lnTo>
                    <a:pt x="296" y="300"/>
                  </a:lnTo>
                  <a:lnTo>
                    <a:pt x="180" y="177"/>
                  </a:lnTo>
                  <a:lnTo>
                    <a:pt x="0" y="52"/>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560600" y="5826240"/>
              <a:ext cx="101880" cy="248040"/>
            </a:xfrm>
            <a:custGeom>
              <a:avLst/>
              <a:gdLst/>
              <a:ahLst/>
              <a:rect l="0" t="0" r="r" b="b"/>
              <a:pathLst>
                <a:path w="283" h="689">
                  <a:moveTo>
                    <a:pt x="101" y="70"/>
                  </a:moveTo>
                  <a:lnTo>
                    <a:pt x="132" y="371"/>
                  </a:lnTo>
                  <a:lnTo>
                    <a:pt x="283" y="628"/>
                  </a:lnTo>
                  <a:lnTo>
                    <a:pt x="261" y="689"/>
                  </a:lnTo>
                  <a:lnTo>
                    <a:pt x="101" y="494"/>
                  </a:lnTo>
                  <a:lnTo>
                    <a:pt x="0" y="186"/>
                  </a:lnTo>
                  <a:lnTo>
                    <a:pt x="30" y="0"/>
                  </a:lnTo>
                  <a:lnTo>
                    <a:pt x="101"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714680" y="5124600"/>
              <a:ext cx="233640" cy="536760"/>
            </a:xfrm>
            <a:custGeom>
              <a:avLst/>
              <a:gdLst/>
              <a:ahLst/>
              <a:rect l="0" t="0" r="r" b="b"/>
              <a:pathLst>
                <a:path w="649" h="1491">
                  <a:moveTo>
                    <a:pt x="561" y="1138"/>
                  </a:moveTo>
                  <a:lnTo>
                    <a:pt x="472" y="1323"/>
                  </a:lnTo>
                  <a:lnTo>
                    <a:pt x="0" y="1491"/>
                  </a:lnTo>
                  <a:lnTo>
                    <a:pt x="79" y="1376"/>
                  </a:lnTo>
                  <a:lnTo>
                    <a:pt x="503" y="1165"/>
                  </a:lnTo>
                  <a:lnTo>
                    <a:pt x="591" y="927"/>
                  </a:lnTo>
                  <a:lnTo>
                    <a:pt x="490" y="661"/>
                  </a:lnTo>
                  <a:lnTo>
                    <a:pt x="441" y="635"/>
                  </a:lnTo>
                  <a:lnTo>
                    <a:pt x="48" y="114"/>
                  </a:lnTo>
                  <a:lnTo>
                    <a:pt x="79" y="0"/>
                  </a:lnTo>
                  <a:lnTo>
                    <a:pt x="207" y="0"/>
                  </a:lnTo>
                  <a:lnTo>
                    <a:pt x="591" y="573"/>
                  </a:lnTo>
                  <a:lnTo>
                    <a:pt x="561" y="661"/>
                  </a:lnTo>
                  <a:lnTo>
                    <a:pt x="649" y="874"/>
                  </a:lnTo>
                  <a:lnTo>
                    <a:pt x="636" y="1050"/>
                  </a:lnTo>
                  <a:lnTo>
                    <a:pt x="561" y="113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735200" y="5114880"/>
              <a:ext cx="147960" cy="244800"/>
            </a:xfrm>
            <a:custGeom>
              <a:avLst/>
              <a:gdLst/>
              <a:ahLst/>
              <a:rect l="0" t="0" r="r" b="b"/>
              <a:pathLst>
                <a:path w="411" h="680">
                  <a:moveTo>
                    <a:pt x="88" y="0"/>
                  </a:moveTo>
                  <a:lnTo>
                    <a:pt x="30" y="26"/>
                  </a:lnTo>
                  <a:lnTo>
                    <a:pt x="17" y="70"/>
                  </a:lnTo>
                  <a:lnTo>
                    <a:pt x="0" y="114"/>
                  </a:lnTo>
                  <a:lnTo>
                    <a:pt x="30" y="194"/>
                  </a:lnTo>
                  <a:lnTo>
                    <a:pt x="384" y="680"/>
                  </a:lnTo>
                  <a:lnTo>
                    <a:pt x="367" y="609"/>
                  </a:lnTo>
                  <a:lnTo>
                    <a:pt x="384" y="565"/>
                  </a:lnTo>
                  <a:lnTo>
                    <a:pt x="411" y="538"/>
                  </a:lnTo>
                  <a:lnTo>
                    <a:pt x="353" y="450"/>
                  </a:lnTo>
                  <a:lnTo>
                    <a:pt x="305" y="494"/>
                  </a:lnTo>
                  <a:lnTo>
                    <a:pt x="88" y="194"/>
                  </a:lnTo>
                  <a:lnTo>
                    <a:pt x="88" y="114"/>
                  </a:lnTo>
                  <a:lnTo>
                    <a:pt x="123" y="97"/>
                  </a:lnTo>
                  <a:lnTo>
                    <a:pt x="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1268280" y="5226120"/>
              <a:ext cx="538560" cy="108360"/>
            </a:xfrm>
            <a:custGeom>
              <a:avLst/>
              <a:gdLst/>
              <a:ahLst/>
              <a:rect l="0" t="0" r="r" b="b"/>
              <a:pathLst>
                <a:path w="1496" h="301">
                  <a:moveTo>
                    <a:pt x="1496" y="168"/>
                  </a:moveTo>
                  <a:lnTo>
                    <a:pt x="1254" y="212"/>
                  </a:lnTo>
                  <a:lnTo>
                    <a:pt x="966" y="240"/>
                  </a:lnTo>
                  <a:lnTo>
                    <a:pt x="622" y="212"/>
                  </a:lnTo>
                  <a:lnTo>
                    <a:pt x="406" y="168"/>
                  </a:lnTo>
                  <a:lnTo>
                    <a:pt x="229" y="115"/>
                  </a:lnTo>
                  <a:lnTo>
                    <a:pt x="110" y="70"/>
                  </a:lnTo>
                  <a:lnTo>
                    <a:pt x="0" y="0"/>
                  </a:lnTo>
                  <a:lnTo>
                    <a:pt x="242" y="301"/>
                  </a:lnTo>
                  <a:lnTo>
                    <a:pt x="136" y="98"/>
                  </a:lnTo>
                  <a:lnTo>
                    <a:pt x="348" y="195"/>
                  </a:lnTo>
                  <a:lnTo>
                    <a:pt x="653" y="257"/>
                  </a:lnTo>
                  <a:lnTo>
                    <a:pt x="966" y="284"/>
                  </a:lnTo>
                  <a:lnTo>
                    <a:pt x="1254" y="240"/>
                  </a:lnTo>
                  <a:lnTo>
                    <a:pt x="1496"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208160" y="5362560"/>
              <a:ext cx="619560" cy="324360"/>
            </a:xfrm>
            <a:custGeom>
              <a:avLst/>
              <a:gdLst/>
              <a:ahLst/>
              <a:rect l="0" t="0" r="r" b="b"/>
              <a:pathLst>
                <a:path w="1721" h="901">
                  <a:moveTo>
                    <a:pt x="88" y="114"/>
                  </a:moveTo>
                  <a:lnTo>
                    <a:pt x="48" y="362"/>
                  </a:lnTo>
                  <a:lnTo>
                    <a:pt x="0" y="681"/>
                  </a:lnTo>
                  <a:lnTo>
                    <a:pt x="286" y="786"/>
                  </a:lnTo>
                  <a:lnTo>
                    <a:pt x="304" y="901"/>
                  </a:lnTo>
                  <a:lnTo>
                    <a:pt x="321" y="883"/>
                  </a:lnTo>
                  <a:lnTo>
                    <a:pt x="321" y="433"/>
                  </a:lnTo>
                  <a:lnTo>
                    <a:pt x="1721" y="433"/>
                  </a:lnTo>
                  <a:lnTo>
                    <a:pt x="1721" y="362"/>
                  </a:lnTo>
                  <a:lnTo>
                    <a:pt x="304" y="336"/>
                  </a:lnTo>
                  <a:lnTo>
                    <a:pt x="418" y="292"/>
                  </a:lnTo>
                  <a:lnTo>
                    <a:pt x="154" y="239"/>
                  </a:lnTo>
                  <a:lnTo>
                    <a:pt x="335" y="239"/>
                  </a:lnTo>
                  <a:lnTo>
                    <a:pt x="176" y="141"/>
                  </a:lnTo>
                  <a:lnTo>
                    <a:pt x="405" y="141"/>
                  </a:lnTo>
                  <a:lnTo>
                    <a:pt x="242" y="0"/>
                  </a:lnTo>
                  <a:lnTo>
                    <a:pt x="88"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1251000" y="5302080"/>
              <a:ext cx="592560" cy="86040"/>
            </a:xfrm>
            <a:custGeom>
              <a:avLst/>
              <a:gdLst/>
              <a:ahLst/>
              <a:rect l="0" t="0" r="r" b="b"/>
              <a:pathLst>
                <a:path w="1646" h="239">
                  <a:moveTo>
                    <a:pt x="1563" y="70"/>
                  </a:moveTo>
                  <a:lnTo>
                    <a:pt x="1032" y="124"/>
                  </a:lnTo>
                  <a:lnTo>
                    <a:pt x="640" y="124"/>
                  </a:lnTo>
                  <a:lnTo>
                    <a:pt x="374" y="97"/>
                  </a:lnTo>
                  <a:lnTo>
                    <a:pt x="101" y="26"/>
                  </a:lnTo>
                  <a:lnTo>
                    <a:pt x="0" y="0"/>
                  </a:lnTo>
                  <a:lnTo>
                    <a:pt x="101" y="70"/>
                  </a:lnTo>
                  <a:lnTo>
                    <a:pt x="455" y="150"/>
                  </a:lnTo>
                  <a:lnTo>
                    <a:pt x="922" y="168"/>
                  </a:lnTo>
                  <a:lnTo>
                    <a:pt x="167" y="168"/>
                  </a:lnTo>
                  <a:lnTo>
                    <a:pt x="865" y="221"/>
                  </a:lnTo>
                  <a:lnTo>
                    <a:pt x="1302" y="221"/>
                  </a:lnTo>
                  <a:lnTo>
                    <a:pt x="1646" y="239"/>
                  </a:lnTo>
                  <a:lnTo>
                    <a:pt x="1116" y="168"/>
                  </a:lnTo>
                  <a:lnTo>
                    <a:pt x="1563" y="7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1830240" y="5308560"/>
              <a:ext cx="25920" cy="219600"/>
            </a:xfrm>
            <a:custGeom>
              <a:avLst/>
              <a:gdLst/>
              <a:ahLst/>
              <a:rect l="0" t="0" r="r" b="b"/>
              <a:pathLst>
                <a:path w="72" h="610">
                  <a:moveTo>
                    <a:pt x="0" y="0"/>
                  </a:moveTo>
                  <a:lnTo>
                    <a:pt x="0" y="610"/>
                  </a:lnTo>
                  <a:lnTo>
                    <a:pt x="72" y="610"/>
                  </a:lnTo>
                  <a:lnTo>
                    <a:pt x="72" y="149"/>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1446120" y="5353200"/>
              <a:ext cx="587880" cy="1045080"/>
            </a:xfrm>
            <a:custGeom>
              <a:avLst/>
              <a:gdLst/>
              <a:ahLst/>
              <a:rect l="0" t="0" r="r" b="b"/>
              <a:pathLst>
                <a:path w="1633" h="2903">
                  <a:moveTo>
                    <a:pt x="1289" y="52"/>
                  </a:moveTo>
                  <a:lnTo>
                    <a:pt x="1395" y="211"/>
                  </a:lnTo>
                  <a:lnTo>
                    <a:pt x="1395" y="335"/>
                  </a:lnTo>
                  <a:lnTo>
                    <a:pt x="1364" y="458"/>
                  </a:lnTo>
                  <a:lnTo>
                    <a:pt x="1241" y="546"/>
                  </a:lnTo>
                  <a:lnTo>
                    <a:pt x="997" y="661"/>
                  </a:lnTo>
                  <a:lnTo>
                    <a:pt x="768" y="759"/>
                  </a:lnTo>
                  <a:lnTo>
                    <a:pt x="578" y="865"/>
                  </a:lnTo>
                  <a:lnTo>
                    <a:pt x="419" y="1024"/>
                  </a:lnTo>
                  <a:lnTo>
                    <a:pt x="321" y="1218"/>
                  </a:lnTo>
                  <a:lnTo>
                    <a:pt x="304" y="1385"/>
                  </a:lnTo>
                  <a:lnTo>
                    <a:pt x="348" y="1614"/>
                  </a:lnTo>
                  <a:lnTo>
                    <a:pt x="459" y="1861"/>
                  </a:lnTo>
                  <a:lnTo>
                    <a:pt x="556" y="2003"/>
                  </a:lnTo>
                  <a:lnTo>
                    <a:pt x="728" y="2144"/>
                  </a:lnTo>
                  <a:lnTo>
                    <a:pt x="940" y="2259"/>
                  </a:lnTo>
                  <a:lnTo>
                    <a:pt x="1107" y="2356"/>
                  </a:lnTo>
                  <a:lnTo>
                    <a:pt x="1272" y="2436"/>
                  </a:lnTo>
                  <a:lnTo>
                    <a:pt x="1421" y="2524"/>
                  </a:lnTo>
                  <a:lnTo>
                    <a:pt x="1518" y="2647"/>
                  </a:lnTo>
                  <a:lnTo>
                    <a:pt x="1532" y="2736"/>
                  </a:lnTo>
                  <a:lnTo>
                    <a:pt x="1466" y="2788"/>
                  </a:lnTo>
                  <a:lnTo>
                    <a:pt x="1364" y="2762"/>
                  </a:lnTo>
                  <a:lnTo>
                    <a:pt x="1272" y="2718"/>
                  </a:lnTo>
                  <a:lnTo>
                    <a:pt x="1209" y="2718"/>
                  </a:lnTo>
                  <a:lnTo>
                    <a:pt x="1241" y="2524"/>
                  </a:lnTo>
                  <a:lnTo>
                    <a:pt x="79" y="2524"/>
                  </a:lnTo>
                  <a:lnTo>
                    <a:pt x="79" y="2815"/>
                  </a:lnTo>
                  <a:lnTo>
                    <a:pt x="0" y="2859"/>
                  </a:lnTo>
                  <a:lnTo>
                    <a:pt x="30" y="2903"/>
                  </a:lnTo>
                  <a:lnTo>
                    <a:pt x="1254" y="2903"/>
                  </a:lnTo>
                  <a:lnTo>
                    <a:pt x="1178" y="2833"/>
                  </a:lnTo>
                  <a:lnTo>
                    <a:pt x="119" y="2815"/>
                  </a:lnTo>
                  <a:lnTo>
                    <a:pt x="119" y="2762"/>
                  </a:lnTo>
                  <a:lnTo>
                    <a:pt x="1209" y="2762"/>
                  </a:lnTo>
                  <a:lnTo>
                    <a:pt x="1307" y="2788"/>
                  </a:lnTo>
                  <a:lnTo>
                    <a:pt x="1452" y="2833"/>
                  </a:lnTo>
                  <a:lnTo>
                    <a:pt x="1518" y="2859"/>
                  </a:lnTo>
                  <a:lnTo>
                    <a:pt x="1607" y="2815"/>
                  </a:lnTo>
                  <a:lnTo>
                    <a:pt x="1633" y="2762"/>
                  </a:lnTo>
                  <a:lnTo>
                    <a:pt x="1624" y="2674"/>
                  </a:lnTo>
                  <a:lnTo>
                    <a:pt x="1567" y="2594"/>
                  </a:lnTo>
                  <a:lnTo>
                    <a:pt x="1518" y="2621"/>
                  </a:lnTo>
                  <a:lnTo>
                    <a:pt x="1382" y="2480"/>
                  </a:lnTo>
                  <a:lnTo>
                    <a:pt x="1254" y="2400"/>
                  </a:lnTo>
                  <a:lnTo>
                    <a:pt x="1272" y="2356"/>
                  </a:lnTo>
                  <a:lnTo>
                    <a:pt x="1452" y="2453"/>
                  </a:lnTo>
                  <a:lnTo>
                    <a:pt x="1241" y="2303"/>
                  </a:lnTo>
                  <a:lnTo>
                    <a:pt x="953" y="2189"/>
                  </a:lnTo>
                  <a:lnTo>
                    <a:pt x="710" y="2029"/>
                  </a:lnTo>
                  <a:lnTo>
                    <a:pt x="512" y="1782"/>
                  </a:lnTo>
                  <a:lnTo>
                    <a:pt x="578" y="1914"/>
                  </a:lnTo>
                  <a:lnTo>
                    <a:pt x="521" y="1914"/>
                  </a:lnTo>
                  <a:lnTo>
                    <a:pt x="366" y="1597"/>
                  </a:lnTo>
                  <a:lnTo>
                    <a:pt x="366" y="1403"/>
                  </a:lnTo>
                  <a:lnTo>
                    <a:pt x="396" y="1385"/>
                  </a:lnTo>
                  <a:lnTo>
                    <a:pt x="450" y="1597"/>
                  </a:lnTo>
                  <a:lnTo>
                    <a:pt x="419" y="1306"/>
                  </a:lnTo>
                  <a:lnTo>
                    <a:pt x="450" y="1173"/>
                  </a:lnTo>
                  <a:lnTo>
                    <a:pt x="490" y="1050"/>
                  </a:lnTo>
                  <a:lnTo>
                    <a:pt x="596" y="962"/>
                  </a:lnTo>
                  <a:lnTo>
                    <a:pt x="768" y="882"/>
                  </a:lnTo>
                  <a:lnTo>
                    <a:pt x="1187" y="705"/>
                  </a:lnTo>
                  <a:lnTo>
                    <a:pt x="816" y="865"/>
                  </a:lnTo>
                  <a:lnTo>
                    <a:pt x="869" y="759"/>
                  </a:lnTo>
                  <a:lnTo>
                    <a:pt x="1272" y="546"/>
                  </a:lnTo>
                  <a:lnTo>
                    <a:pt x="1289" y="617"/>
                  </a:lnTo>
                  <a:lnTo>
                    <a:pt x="1254" y="661"/>
                  </a:lnTo>
                  <a:lnTo>
                    <a:pt x="1364" y="529"/>
                  </a:lnTo>
                  <a:lnTo>
                    <a:pt x="1421" y="388"/>
                  </a:lnTo>
                  <a:lnTo>
                    <a:pt x="1430" y="238"/>
                  </a:lnTo>
                  <a:lnTo>
                    <a:pt x="1382" y="97"/>
                  </a:lnTo>
                  <a:lnTo>
                    <a:pt x="1289" y="0"/>
                  </a:lnTo>
                  <a:lnTo>
                    <a:pt x="1289"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11360" y="5680080"/>
              <a:ext cx="411480" cy="518040"/>
            </a:xfrm>
            <a:custGeom>
              <a:avLst/>
              <a:gdLst/>
              <a:ahLst/>
              <a:rect l="0" t="0" r="r" b="b"/>
              <a:pathLst>
                <a:path w="1143" h="1439">
                  <a:moveTo>
                    <a:pt x="1143" y="0"/>
                  </a:moveTo>
                  <a:lnTo>
                    <a:pt x="357" y="0"/>
                  </a:lnTo>
                  <a:lnTo>
                    <a:pt x="92" y="114"/>
                  </a:lnTo>
                  <a:lnTo>
                    <a:pt x="0" y="273"/>
                  </a:lnTo>
                  <a:lnTo>
                    <a:pt x="48" y="308"/>
                  </a:lnTo>
                  <a:lnTo>
                    <a:pt x="92" y="565"/>
                  </a:lnTo>
                  <a:lnTo>
                    <a:pt x="110" y="830"/>
                  </a:lnTo>
                  <a:lnTo>
                    <a:pt x="149" y="1050"/>
                  </a:lnTo>
                  <a:lnTo>
                    <a:pt x="167" y="874"/>
                  </a:lnTo>
                  <a:lnTo>
                    <a:pt x="149" y="636"/>
                  </a:lnTo>
                  <a:lnTo>
                    <a:pt x="136" y="450"/>
                  </a:lnTo>
                  <a:lnTo>
                    <a:pt x="110" y="308"/>
                  </a:lnTo>
                  <a:lnTo>
                    <a:pt x="110" y="238"/>
                  </a:lnTo>
                  <a:lnTo>
                    <a:pt x="180" y="194"/>
                  </a:lnTo>
                  <a:lnTo>
                    <a:pt x="216" y="264"/>
                  </a:lnTo>
                  <a:lnTo>
                    <a:pt x="251" y="618"/>
                  </a:lnTo>
                  <a:lnTo>
                    <a:pt x="251" y="1095"/>
                  </a:lnTo>
                  <a:lnTo>
                    <a:pt x="251" y="335"/>
                  </a:lnTo>
                  <a:lnTo>
                    <a:pt x="529" y="352"/>
                  </a:lnTo>
                  <a:lnTo>
                    <a:pt x="560" y="494"/>
                  </a:lnTo>
                  <a:lnTo>
                    <a:pt x="578" y="874"/>
                  </a:lnTo>
                  <a:lnTo>
                    <a:pt x="600" y="1298"/>
                  </a:lnTo>
                  <a:lnTo>
                    <a:pt x="618" y="618"/>
                  </a:lnTo>
                  <a:lnTo>
                    <a:pt x="618" y="352"/>
                  </a:lnTo>
                  <a:lnTo>
                    <a:pt x="600" y="238"/>
                  </a:lnTo>
                  <a:lnTo>
                    <a:pt x="666" y="194"/>
                  </a:lnTo>
                  <a:lnTo>
                    <a:pt x="715" y="238"/>
                  </a:lnTo>
                  <a:lnTo>
                    <a:pt x="715" y="335"/>
                  </a:lnTo>
                  <a:lnTo>
                    <a:pt x="680" y="1236"/>
                  </a:lnTo>
                  <a:lnTo>
                    <a:pt x="759" y="352"/>
                  </a:lnTo>
                  <a:lnTo>
                    <a:pt x="843" y="352"/>
                  </a:lnTo>
                  <a:lnTo>
                    <a:pt x="922" y="380"/>
                  </a:lnTo>
                  <a:lnTo>
                    <a:pt x="953" y="406"/>
                  </a:lnTo>
                  <a:lnTo>
                    <a:pt x="971" y="1439"/>
                  </a:lnTo>
                  <a:lnTo>
                    <a:pt x="1002" y="1439"/>
                  </a:lnTo>
                  <a:lnTo>
                    <a:pt x="1041" y="114"/>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317600" y="5673600"/>
              <a:ext cx="309960" cy="543240"/>
            </a:xfrm>
            <a:custGeom>
              <a:avLst/>
              <a:gdLst/>
              <a:ahLst/>
              <a:rect l="0" t="0" r="r" b="b"/>
              <a:pathLst>
                <a:path w="861" h="1509">
                  <a:moveTo>
                    <a:pt x="861" y="0"/>
                  </a:moveTo>
                  <a:lnTo>
                    <a:pt x="0" y="0"/>
                  </a:lnTo>
                  <a:lnTo>
                    <a:pt x="30" y="88"/>
                  </a:lnTo>
                  <a:lnTo>
                    <a:pt x="198" y="167"/>
                  </a:lnTo>
                  <a:lnTo>
                    <a:pt x="247" y="1509"/>
                  </a:lnTo>
                  <a:lnTo>
                    <a:pt x="247" y="396"/>
                  </a:lnTo>
                  <a:lnTo>
                    <a:pt x="318" y="370"/>
                  </a:lnTo>
                  <a:lnTo>
                    <a:pt x="424" y="396"/>
                  </a:lnTo>
                  <a:lnTo>
                    <a:pt x="512" y="1024"/>
                  </a:lnTo>
                  <a:lnTo>
                    <a:pt x="574" y="1447"/>
                  </a:lnTo>
                  <a:lnTo>
                    <a:pt x="490" y="211"/>
                  </a:lnTo>
                  <a:lnTo>
                    <a:pt x="521" y="167"/>
                  </a:lnTo>
                  <a:lnTo>
                    <a:pt x="591" y="211"/>
                  </a:lnTo>
                  <a:lnTo>
                    <a:pt x="640" y="1368"/>
                  </a:lnTo>
                  <a:lnTo>
                    <a:pt x="659" y="326"/>
                  </a:lnTo>
                  <a:lnTo>
                    <a:pt x="734" y="141"/>
                  </a:lnTo>
                  <a:lnTo>
                    <a:pt x="831" y="26"/>
                  </a:lnTo>
                  <a:lnTo>
                    <a:pt x="8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a:off x="1936800" y="5556240"/>
              <a:ext cx="60840" cy="86040"/>
            </a:xfrm>
            <a:custGeom>
              <a:avLst/>
              <a:gdLst/>
              <a:ahLst/>
              <a:rect l="0" t="0" r="r" b="b"/>
              <a:pathLst>
                <a:path w="169" h="239">
                  <a:moveTo>
                    <a:pt x="169" y="239"/>
                  </a:moveTo>
                  <a:lnTo>
                    <a:pt x="169" y="0"/>
                  </a:lnTo>
                  <a:lnTo>
                    <a:pt x="0" y="0"/>
                  </a:lnTo>
                  <a:lnTo>
                    <a:pt x="115" y="44"/>
                  </a:lnTo>
                  <a:lnTo>
                    <a:pt x="169"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34" name=""/>
            <p:cNvSpPr/>
            <p:nvPr/>
          </p:nvSpPr>
          <p:spPr>
            <a:xfrm>
              <a:off x="1365120" y="5549760"/>
              <a:ext cx="456120" cy="82800"/>
            </a:xfrm>
            <a:custGeom>
              <a:avLst/>
              <a:gdLst/>
              <a:ahLst/>
              <a:rect l="0" t="0" r="r" b="b"/>
              <a:pathLst>
                <a:path w="1267" h="230">
                  <a:moveTo>
                    <a:pt x="1267" y="0"/>
                  </a:moveTo>
                  <a:lnTo>
                    <a:pt x="0" y="0"/>
                  </a:lnTo>
                  <a:lnTo>
                    <a:pt x="0" y="230"/>
                  </a:lnTo>
                  <a:lnTo>
                    <a:pt x="30" y="44"/>
                  </a:lnTo>
                  <a:lnTo>
                    <a:pt x="1241" y="44"/>
                  </a:lnTo>
                  <a:lnTo>
                    <a:pt x="1267"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35" name=""/>
            <p:cNvSpPr/>
            <p:nvPr/>
          </p:nvSpPr>
          <p:spPr>
            <a:xfrm>
              <a:off x="1409760" y="6254640"/>
              <a:ext cx="43200" cy="22680"/>
            </a:xfrm>
            <a:custGeom>
              <a:avLst/>
              <a:gdLst/>
              <a:ahLst/>
              <a:rect l="0" t="0" r="r" b="b"/>
              <a:pathLst>
                <a:path w="120" h="63">
                  <a:moveTo>
                    <a:pt x="98" y="0"/>
                  </a:moveTo>
                  <a:lnTo>
                    <a:pt x="0" y="0"/>
                  </a:lnTo>
                  <a:lnTo>
                    <a:pt x="0" y="63"/>
                  </a:lnTo>
                  <a:lnTo>
                    <a:pt x="120" y="63"/>
                  </a:lnTo>
                  <a:lnTo>
                    <a:pt x="9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36" name=""/>
            <p:cNvSpPr/>
            <p:nvPr/>
          </p:nvSpPr>
          <p:spPr>
            <a:xfrm>
              <a:off x="838080" y="6175440"/>
              <a:ext cx="576720" cy="187560"/>
            </a:xfrm>
            <a:custGeom>
              <a:avLst/>
              <a:gdLst/>
              <a:ahLst/>
              <a:rect l="0" t="0" r="r" b="b"/>
              <a:pathLst>
                <a:path w="1602" h="521">
                  <a:moveTo>
                    <a:pt x="1580" y="362"/>
                  </a:moveTo>
                  <a:lnTo>
                    <a:pt x="1333" y="389"/>
                  </a:lnTo>
                  <a:lnTo>
                    <a:pt x="1147" y="336"/>
                  </a:lnTo>
                  <a:lnTo>
                    <a:pt x="984" y="238"/>
                  </a:lnTo>
                  <a:lnTo>
                    <a:pt x="896" y="167"/>
                  </a:lnTo>
                  <a:lnTo>
                    <a:pt x="865" y="114"/>
                  </a:lnTo>
                  <a:lnTo>
                    <a:pt x="913" y="97"/>
                  </a:lnTo>
                  <a:lnTo>
                    <a:pt x="865" y="70"/>
                  </a:lnTo>
                  <a:lnTo>
                    <a:pt x="710" y="97"/>
                  </a:lnTo>
                  <a:lnTo>
                    <a:pt x="455" y="70"/>
                  </a:lnTo>
                  <a:lnTo>
                    <a:pt x="242" y="52"/>
                  </a:lnTo>
                  <a:lnTo>
                    <a:pt x="136" y="26"/>
                  </a:lnTo>
                  <a:lnTo>
                    <a:pt x="48" y="0"/>
                  </a:lnTo>
                  <a:lnTo>
                    <a:pt x="0" y="0"/>
                  </a:lnTo>
                  <a:lnTo>
                    <a:pt x="48" y="114"/>
                  </a:lnTo>
                  <a:lnTo>
                    <a:pt x="185" y="238"/>
                  </a:lnTo>
                  <a:lnTo>
                    <a:pt x="286" y="309"/>
                  </a:lnTo>
                  <a:lnTo>
                    <a:pt x="70" y="362"/>
                  </a:lnTo>
                  <a:lnTo>
                    <a:pt x="136" y="406"/>
                  </a:lnTo>
                  <a:lnTo>
                    <a:pt x="255" y="406"/>
                  </a:lnTo>
                  <a:lnTo>
                    <a:pt x="343" y="450"/>
                  </a:lnTo>
                  <a:lnTo>
                    <a:pt x="666" y="477"/>
                  </a:lnTo>
                  <a:lnTo>
                    <a:pt x="1046" y="521"/>
                  </a:lnTo>
                  <a:lnTo>
                    <a:pt x="1125" y="521"/>
                  </a:lnTo>
                  <a:lnTo>
                    <a:pt x="1602" y="389"/>
                  </a:lnTo>
                  <a:lnTo>
                    <a:pt x="1090" y="477"/>
                  </a:lnTo>
                  <a:lnTo>
                    <a:pt x="746" y="406"/>
                  </a:lnTo>
                  <a:lnTo>
                    <a:pt x="516" y="336"/>
                  </a:lnTo>
                  <a:lnTo>
                    <a:pt x="321" y="238"/>
                  </a:lnTo>
                  <a:lnTo>
                    <a:pt x="185" y="149"/>
                  </a:lnTo>
                  <a:lnTo>
                    <a:pt x="136" y="70"/>
                  </a:lnTo>
                  <a:lnTo>
                    <a:pt x="352" y="114"/>
                  </a:lnTo>
                  <a:lnTo>
                    <a:pt x="640" y="149"/>
                  </a:lnTo>
                  <a:lnTo>
                    <a:pt x="865" y="149"/>
                  </a:lnTo>
                  <a:lnTo>
                    <a:pt x="984" y="220"/>
                  </a:lnTo>
                  <a:lnTo>
                    <a:pt x="1214" y="362"/>
                  </a:lnTo>
                  <a:lnTo>
                    <a:pt x="1580" y="3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2028960" y="6200640"/>
              <a:ext cx="587880" cy="197280"/>
            </a:xfrm>
            <a:custGeom>
              <a:avLst/>
              <a:gdLst/>
              <a:ahLst/>
              <a:rect l="0" t="0" r="r" b="b"/>
              <a:pathLst>
                <a:path w="1633" h="548">
                  <a:moveTo>
                    <a:pt x="0" y="44"/>
                  </a:moveTo>
                  <a:lnTo>
                    <a:pt x="61" y="195"/>
                  </a:lnTo>
                  <a:lnTo>
                    <a:pt x="48" y="221"/>
                  </a:lnTo>
                  <a:lnTo>
                    <a:pt x="136" y="380"/>
                  </a:lnTo>
                  <a:lnTo>
                    <a:pt x="216" y="406"/>
                  </a:lnTo>
                  <a:lnTo>
                    <a:pt x="238" y="460"/>
                  </a:lnTo>
                  <a:lnTo>
                    <a:pt x="1002" y="531"/>
                  </a:lnTo>
                  <a:lnTo>
                    <a:pt x="953" y="548"/>
                  </a:lnTo>
                  <a:lnTo>
                    <a:pt x="1200" y="531"/>
                  </a:lnTo>
                  <a:lnTo>
                    <a:pt x="1496" y="548"/>
                  </a:lnTo>
                  <a:lnTo>
                    <a:pt x="1413" y="434"/>
                  </a:lnTo>
                  <a:lnTo>
                    <a:pt x="1633" y="265"/>
                  </a:lnTo>
                  <a:lnTo>
                    <a:pt x="1019" y="0"/>
                  </a:lnTo>
                  <a:lnTo>
                    <a:pt x="1580" y="265"/>
                  </a:lnTo>
                  <a:lnTo>
                    <a:pt x="1324" y="406"/>
                  </a:lnTo>
                  <a:lnTo>
                    <a:pt x="1116" y="434"/>
                  </a:lnTo>
                  <a:lnTo>
                    <a:pt x="1125" y="380"/>
                  </a:lnTo>
                  <a:lnTo>
                    <a:pt x="1002" y="434"/>
                  </a:lnTo>
                  <a:lnTo>
                    <a:pt x="521" y="406"/>
                  </a:lnTo>
                  <a:lnTo>
                    <a:pt x="768" y="292"/>
                  </a:lnTo>
                  <a:lnTo>
                    <a:pt x="383" y="380"/>
                  </a:lnTo>
                  <a:lnTo>
                    <a:pt x="238" y="362"/>
                  </a:lnTo>
                  <a:lnTo>
                    <a:pt x="149" y="292"/>
                  </a:lnTo>
                  <a:lnTo>
                    <a:pt x="61" y="123"/>
                  </a:lnTo>
                  <a:lnTo>
                    <a:pt x="383" y="221"/>
                  </a:lnTo>
                  <a:lnTo>
                    <a:pt x="622" y="221"/>
                  </a:lnTo>
                  <a:lnTo>
                    <a:pt x="768" y="221"/>
                  </a:lnTo>
                  <a:lnTo>
                    <a:pt x="343" y="16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324160" y="6191280"/>
              <a:ext cx="101880" cy="95760"/>
            </a:xfrm>
            <a:custGeom>
              <a:avLst/>
              <a:gdLst/>
              <a:ahLst/>
              <a:rect l="0" t="0" r="r" b="b"/>
              <a:pathLst>
                <a:path w="283" h="266">
                  <a:moveTo>
                    <a:pt x="283" y="0"/>
                  </a:moveTo>
                  <a:lnTo>
                    <a:pt x="0" y="266"/>
                  </a:lnTo>
                  <a:lnTo>
                    <a:pt x="199" y="26"/>
                  </a:lnTo>
                  <a:lnTo>
                    <a:pt x="283" y="0"/>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39" name=""/>
            <p:cNvSpPr/>
            <p:nvPr/>
          </p:nvSpPr>
          <p:spPr>
            <a:xfrm>
              <a:off x="1871640" y="5400720"/>
              <a:ext cx="63720" cy="38520"/>
            </a:xfrm>
            <a:custGeom>
              <a:avLst/>
              <a:gdLst/>
              <a:ahLst/>
              <a:rect l="0" t="0" r="r" b="b"/>
              <a:pathLst>
                <a:path w="177" h="107">
                  <a:moveTo>
                    <a:pt x="177" y="107"/>
                  </a:moveTo>
                  <a:lnTo>
                    <a:pt x="74" y="90"/>
                  </a:lnTo>
                  <a:lnTo>
                    <a:pt x="0" y="90"/>
                  </a:lnTo>
                  <a:lnTo>
                    <a:pt x="13" y="0"/>
                  </a:lnTo>
                  <a:lnTo>
                    <a:pt x="30" y="53"/>
                  </a:lnTo>
                  <a:lnTo>
                    <a:pt x="17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140" name=""/>
            <p:cNvSpPr/>
            <p:nvPr/>
          </p:nvSpPr>
          <p:spPr>
            <a:xfrm>
              <a:off x="1353960" y="5397480"/>
              <a:ext cx="475200" cy="22680"/>
            </a:xfrm>
            <a:custGeom>
              <a:avLst/>
              <a:gdLst/>
              <a:ahLst/>
              <a:rect l="0" t="0" r="r" b="b"/>
              <a:pathLst>
                <a:path w="1320" h="63">
                  <a:moveTo>
                    <a:pt x="1320" y="63"/>
                  </a:moveTo>
                  <a:lnTo>
                    <a:pt x="882" y="36"/>
                  </a:lnTo>
                  <a:lnTo>
                    <a:pt x="596" y="54"/>
                  </a:lnTo>
                  <a:lnTo>
                    <a:pt x="26" y="54"/>
                  </a:lnTo>
                  <a:lnTo>
                    <a:pt x="0" y="0"/>
                  </a:lnTo>
                  <a:lnTo>
                    <a:pt x="949" y="18"/>
                  </a:lnTo>
                  <a:lnTo>
                    <a:pt x="1320"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1" name=""/>
            <p:cNvSpPr/>
            <p:nvPr/>
          </p:nvSpPr>
          <p:spPr>
            <a:xfrm>
              <a:off x="1344600" y="5438880"/>
              <a:ext cx="433800" cy="22680"/>
            </a:xfrm>
            <a:custGeom>
              <a:avLst/>
              <a:gdLst/>
              <a:ahLst/>
              <a:rect l="0" t="0" r="r" b="b"/>
              <a:pathLst>
                <a:path w="1205" h="63">
                  <a:moveTo>
                    <a:pt x="1205" y="18"/>
                  </a:moveTo>
                  <a:lnTo>
                    <a:pt x="741" y="36"/>
                  </a:lnTo>
                  <a:lnTo>
                    <a:pt x="305" y="63"/>
                  </a:lnTo>
                  <a:lnTo>
                    <a:pt x="0" y="18"/>
                  </a:lnTo>
                  <a:lnTo>
                    <a:pt x="224" y="18"/>
                  </a:lnTo>
                  <a:lnTo>
                    <a:pt x="494" y="18"/>
                  </a:lnTo>
                  <a:lnTo>
                    <a:pt x="1011" y="0"/>
                  </a:lnTo>
                  <a:lnTo>
                    <a:pt x="1205" y="18"/>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2" name=""/>
            <p:cNvSpPr/>
            <p:nvPr/>
          </p:nvSpPr>
          <p:spPr>
            <a:xfrm>
              <a:off x="1871640" y="5460840"/>
              <a:ext cx="65520" cy="16200"/>
            </a:xfrm>
            <a:custGeom>
              <a:avLst/>
              <a:gdLst/>
              <a:ahLst/>
              <a:rect l="0" t="0" r="r" b="b"/>
              <a:pathLst>
                <a:path w="182" h="45">
                  <a:moveTo>
                    <a:pt x="182" y="45"/>
                  </a:moveTo>
                  <a:lnTo>
                    <a:pt x="0" y="0"/>
                  </a:lnTo>
                  <a:lnTo>
                    <a:pt x="0" y="36"/>
                  </a:lnTo>
                  <a:lnTo>
                    <a:pt x="182"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43" name=""/>
            <p:cNvSpPr/>
            <p:nvPr/>
          </p:nvSpPr>
          <p:spPr>
            <a:xfrm>
              <a:off x="1262160" y="4124160"/>
              <a:ext cx="408240" cy="511560"/>
            </a:xfrm>
            <a:custGeom>
              <a:avLst/>
              <a:gdLst/>
              <a:ahLst/>
              <a:rect l="0" t="0" r="r" b="b"/>
              <a:pathLst>
                <a:path w="1134" h="1421">
                  <a:moveTo>
                    <a:pt x="185" y="441"/>
                  </a:moveTo>
                  <a:lnTo>
                    <a:pt x="304" y="486"/>
                  </a:lnTo>
                  <a:lnTo>
                    <a:pt x="449" y="494"/>
                  </a:lnTo>
                  <a:lnTo>
                    <a:pt x="591" y="459"/>
                  </a:lnTo>
                  <a:lnTo>
                    <a:pt x="671" y="424"/>
                  </a:lnTo>
                  <a:lnTo>
                    <a:pt x="658" y="389"/>
                  </a:lnTo>
                  <a:lnTo>
                    <a:pt x="759" y="352"/>
                  </a:lnTo>
                  <a:lnTo>
                    <a:pt x="878" y="238"/>
                  </a:lnTo>
                  <a:lnTo>
                    <a:pt x="927" y="132"/>
                  </a:lnTo>
                  <a:lnTo>
                    <a:pt x="957" y="26"/>
                  </a:lnTo>
                  <a:lnTo>
                    <a:pt x="997" y="0"/>
                  </a:lnTo>
                  <a:lnTo>
                    <a:pt x="957" y="167"/>
                  </a:lnTo>
                  <a:lnTo>
                    <a:pt x="891" y="264"/>
                  </a:lnTo>
                  <a:lnTo>
                    <a:pt x="777" y="389"/>
                  </a:lnTo>
                  <a:lnTo>
                    <a:pt x="913" y="282"/>
                  </a:lnTo>
                  <a:lnTo>
                    <a:pt x="984" y="167"/>
                  </a:lnTo>
                  <a:lnTo>
                    <a:pt x="1015" y="79"/>
                  </a:lnTo>
                  <a:lnTo>
                    <a:pt x="1063" y="79"/>
                  </a:lnTo>
                  <a:lnTo>
                    <a:pt x="984" y="202"/>
                  </a:lnTo>
                  <a:lnTo>
                    <a:pt x="900" y="317"/>
                  </a:lnTo>
                  <a:lnTo>
                    <a:pt x="790" y="424"/>
                  </a:lnTo>
                  <a:lnTo>
                    <a:pt x="927" y="371"/>
                  </a:lnTo>
                  <a:lnTo>
                    <a:pt x="1037" y="264"/>
                  </a:lnTo>
                  <a:lnTo>
                    <a:pt x="1081" y="185"/>
                  </a:lnTo>
                  <a:lnTo>
                    <a:pt x="1090" y="132"/>
                  </a:lnTo>
                  <a:lnTo>
                    <a:pt x="1134" y="149"/>
                  </a:lnTo>
                  <a:lnTo>
                    <a:pt x="1063" y="264"/>
                  </a:lnTo>
                  <a:lnTo>
                    <a:pt x="984" y="371"/>
                  </a:lnTo>
                  <a:lnTo>
                    <a:pt x="891" y="441"/>
                  </a:lnTo>
                  <a:lnTo>
                    <a:pt x="803" y="459"/>
                  </a:lnTo>
                  <a:lnTo>
                    <a:pt x="759" y="494"/>
                  </a:lnTo>
                  <a:lnTo>
                    <a:pt x="759" y="565"/>
                  </a:lnTo>
                  <a:lnTo>
                    <a:pt x="710" y="618"/>
                  </a:lnTo>
                  <a:lnTo>
                    <a:pt x="605" y="636"/>
                  </a:lnTo>
                  <a:lnTo>
                    <a:pt x="502" y="653"/>
                  </a:lnTo>
                  <a:lnTo>
                    <a:pt x="379" y="636"/>
                  </a:lnTo>
                  <a:lnTo>
                    <a:pt x="260" y="618"/>
                  </a:lnTo>
                  <a:lnTo>
                    <a:pt x="185" y="583"/>
                  </a:lnTo>
                  <a:lnTo>
                    <a:pt x="141" y="671"/>
                  </a:lnTo>
                  <a:lnTo>
                    <a:pt x="136" y="812"/>
                  </a:lnTo>
                  <a:lnTo>
                    <a:pt x="119" y="1015"/>
                  </a:lnTo>
                  <a:lnTo>
                    <a:pt x="136" y="1192"/>
                  </a:lnTo>
                  <a:lnTo>
                    <a:pt x="154" y="1272"/>
                  </a:lnTo>
                  <a:lnTo>
                    <a:pt x="154" y="1333"/>
                  </a:lnTo>
                  <a:lnTo>
                    <a:pt x="211" y="1386"/>
                  </a:lnTo>
                  <a:lnTo>
                    <a:pt x="211" y="1421"/>
                  </a:lnTo>
                  <a:lnTo>
                    <a:pt x="119" y="1351"/>
                  </a:lnTo>
                  <a:lnTo>
                    <a:pt x="0" y="1316"/>
                  </a:lnTo>
                  <a:lnTo>
                    <a:pt x="0" y="1289"/>
                  </a:lnTo>
                  <a:lnTo>
                    <a:pt x="79" y="1289"/>
                  </a:lnTo>
                  <a:lnTo>
                    <a:pt x="57" y="1059"/>
                  </a:lnTo>
                  <a:lnTo>
                    <a:pt x="44" y="847"/>
                  </a:lnTo>
                  <a:lnTo>
                    <a:pt x="61" y="812"/>
                  </a:lnTo>
                  <a:lnTo>
                    <a:pt x="79" y="653"/>
                  </a:lnTo>
                  <a:lnTo>
                    <a:pt x="119" y="547"/>
                  </a:lnTo>
                  <a:lnTo>
                    <a:pt x="185"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1560600" y="4114800"/>
              <a:ext cx="27360" cy="89280"/>
            </a:xfrm>
            <a:custGeom>
              <a:avLst/>
              <a:gdLst/>
              <a:ahLst/>
              <a:rect l="0" t="0" r="r" b="b"/>
              <a:pathLst>
                <a:path w="76" h="248">
                  <a:moveTo>
                    <a:pt x="76" y="8"/>
                  </a:moveTo>
                  <a:lnTo>
                    <a:pt x="49" y="124"/>
                  </a:lnTo>
                  <a:lnTo>
                    <a:pt x="0" y="248"/>
                  </a:lnTo>
                  <a:lnTo>
                    <a:pt x="17" y="80"/>
                  </a:lnTo>
                  <a:lnTo>
                    <a:pt x="0" y="0"/>
                  </a:lnTo>
                  <a:lnTo>
                    <a:pt x="76" y="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145" name=""/>
            <p:cNvSpPr/>
            <p:nvPr/>
          </p:nvSpPr>
          <p:spPr>
            <a:xfrm>
              <a:off x="1252440" y="4114800"/>
              <a:ext cx="292320" cy="174960"/>
            </a:xfrm>
            <a:custGeom>
              <a:avLst/>
              <a:gdLst/>
              <a:ahLst/>
              <a:rect l="0" t="0" r="r" b="b"/>
              <a:pathLst>
                <a:path w="812" h="486">
                  <a:moveTo>
                    <a:pt x="812" y="61"/>
                  </a:moveTo>
                  <a:lnTo>
                    <a:pt x="574" y="0"/>
                  </a:lnTo>
                  <a:lnTo>
                    <a:pt x="366" y="0"/>
                  </a:lnTo>
                  <a:lnTo>
                    <a:pt x="229" y="8"/>
                  </a:lnTo>
                  <a:lnTo>
                    <a:pt x="101" y="61"/>
                  </a:lnTo>
                  <a:lnTo>
                    <a:pt x="35" y="158"/>
                  </a:lnTo>
                  <a:lnTo>
                    <a:pt x="13" y="247"/>
                  </a:lnTo>
                  <a:lnTo>
                    <a:pt x="0" y="292"/>
                  </a:lnTo>
                  <a:lnTo>
                    <a:pt x="0" y="344"/>
                  </a:lnTo>
                  <a:lnTo>
                    <a:pt x="79" y="433"/>
                  </a:lnTo>
                  <a:lnTo>
                    <a:pt x="180" y="486"/>
                  </a:lnTo>
                  <a:lnTo>
                    <a:pt x="216" y="362"/>
                  </a:lnTo>
                  <a:lnTo>
                    <a:pt x="260" y="300"/>
                  </a:lnTo>
                  <a:lnTo>
                    <a:pt x="330" y="247"/>
                  </a:lnTo>
                  <a:lnTo>
                    <a:pt x="428" y="229"/>
                  </a:lnTo>
                  <a:lnTo>
                    <a:pt x="321" y="247"/>
                  </a:lnTo>
                  <a:lnTo>
                    <a:pt x="229" y="300"/>
                  </a:lnTo>
                  <a:lnTo>
                    <a:pt x="304" y="211"/>
                  </a:lnTo>
                  <a:lnTo>
                    <a:pt x="216" y="292"/>
                  </a:lnTo>
                  <a:lnTo>
                    <a:pt x="167" y="362"/>
                  </a:lnTo>
                  <a:lnTo>
                    <a:pt x="154" y="433"/>
                  </a:lnTo>
                  <a:lnTo>
                    <a:pt x="132" y="380"/>
                  </a:lnTo>
                  <a:lnTo>
                    <a:pt x="167" y="274"/>
                  </a:lnTo>
                  <a:lnTo>
                    <a:pt x="211" y="194"/>
                  </a:lnTo>
                  <a:lnTo>
                    <a:pt x="260" y="141"/>
                  </a:lnTo>
                  <a:lnTo>
                    <a:pt x="216" y="123"/>
                  </a:lnTo>
                  <a:lnTo>
                    <a:pt x="167" y="229"/>
                  </a:lnTo>
                  <a:lnTo>
                    <a:pt x="132" y="292"/>
                  </a:lnTo>
                  <a:lnTo>
                    <a:pt x="101" y="344"/>
                  </a:lnTo>
                  <a:lnTo>
                    <a:pt x="88" y="274"/>
                  </a:lnTo>
                  <a:lnTo>
                    <a:pt x="119" y="194"/>
                  </a:lnTo>
                  <a:lnTo>
                    <a:pt x="180" y="141"/>
                  </a:lnTo>
                  <a:lnTo>
                    <a:pt x="216" y="105"/>
                  </a:lnTo>
                  <a:lnTo>
                    <a:pt x="211" y="79"/>
                  </a:lnTo>
                  <a:lnTo>
                    <a:pt x="291" y="44"/>
                  </a:lnTo>
                  <a:lnTo>
                    <a:pt x="419" y="26"/>
                  </a:lnTo>
                  <a:lnTo>
                    <a:pt x="561" y="26"/>
                  </a:lnTo>
                  <a:lnTo>
                    <a:pt x="697" y="61"/>
                  </a:lnTo>
                  <a:lnTo>
                    <a:pt x="785" y="105"/>
                  </a:lnTo>
                  <a:lnTo>
                    <a:pt x="812"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1152360" y="4245120"/>
              <a:ext cx="462240" cy="736920"/>
            </a:xfrm>
            <a:custGeom>
              <a:avLst/>
              <a:gdLst/>
              <a:ahLst/>
              <a:rect l="0" t="0" r="r" b="b"/>
              <a:pathLst>
                <a:path w="1284" h="2047">
                  <a:moveTo>
                    <a:pt x="268" y="0"/>
                  </a:moveTo>
                  <a:lnTo>
                    <a:pt x="136" y="88"/>
                  </a:lnTo>
                  <a:lnTo>
                    <a:pt x="48" y="194"/>
                  </a:lnTo>
                  <a:lnTo>
                    <a:pt x="13" y="299"/>
                  </a:lnTo>
                  <a:lnTo>
                    <a:pt x="0" y="423"/>
                  </a:lnTo>
                  <a:lnTo>
                    <a:pt x="13" y="546"/>
                  </a:lnTo>
                  <a:lnTo>
                    <a:pt x="79" y="714"/>
                  </a:lnTo>
                  <a:lnTo>
                    <a:pt x="163" y="881"/>
                  </a:lnTo>
                  <a:lnTo>
                    <a:pt x="207" y="970"/>
                  </a:lnTo>
                  <a:lnTo>
                    <a:pt x="229" y="1103"/>
                  </a:lnTo>
                  <a:lnTo>
                    <a:pt x="268" y="1191"/>
                  </a:lnTo>
                  <a:lnTo>
                    <a:pt x="304" y="1288"/>
                  </a:lnTo>
                  <a:lnTo>
                    <a:pt x="330" y="1341"/>
                  </a:lnTo>
                  <a:lnTo>
                    <a:pt x="291" y="1473"/>
                  </a:lnTo>
                  <a:lnTo>
                    <a:pt x="268" y="1632"/>
                  </a:lnTo>
                  <a:lnTo>
                    <a:pt x="268" y="1756"/>
                  </a:lnTo>
                  <a:lnTo>
                    <a:pt x="260" y="1897"/>
                  </a:lnTo>
                  <a:lnTo>
                    <a:pt x="229" y="2003"/>
                  </a:lnTo>
                  <a:lnTo>
                    <a:pt x="194" y="2047"/>
                  </a:lnTo>
                  <a:lnTo>
                    <a:pt x="238" y="2047"/>
                  </a:lnTo>
                  <a:lnTo>
                    <a:pt x="268" y="1967"/>
                  </a:lnTo>
                  <a:lnTo>
                    <a:pt x="304" y="1844"/>
                  </a:lnTo>
                  <a:lnTo>
                    <a:pt x="321" y="1703"/>
                  </a:lnTo>
                  <a:lnTo>
                    <a:pt x="330" y="1861"/>
                  </a:lnTo>
                  <a:lnTo>
                    <a:pt x="321" y="1967"/>
                  </a:lnTo>
                  <a:lnTo>
                    <a:pt x="304" y="2020"/>
                  </a:lnTo>
                  <a:lnTo>
                    <a:pt x="277" y="2047"/>
                  </a:lnTo>
                  <a:lnTo>
                    <a:pt x="321" y="2047"/>
                  </a:lnTo>
                  <a:lnTo>
                    <a:pt x="361" y="1932"/>
                  </a:lnTo>
                  <a:lnTo>
                    <a:pt x="366" y="2047"/>
                  </a:lnTo>
                  <a:lnTo>
                    <a:pt x="449" y="2047"/>
                  </a:lnTo>
                  <a:lnTo>
                    <a:pt x="542" y="2029"/>
                  </a:lnTo>
                  <a:lnTo>
                    <a:pt x="662" y="2003"/>
                  </a:lnTo>
                  <a:lnTo>
                    <a:pt x="755" y="2003"/>
                  </a:lnTo>
                  <a:lnTo>
                    <a:pt x="755" y="1932"/>
                  </a:lnTo>
                  <a:lnTo>
                    <a:pt x="816" y="1914"/>
                  </a:lnTo>
                  <a:lnTo>
                    <a:pt x="904" y="1879"/>
                  </a:lnTo>
                  <a:lnTo>
                    <a:pt x="944" y="1861"/>
                  </a:lnTo>
                  <a:lnTo>
                    <a:pt x="1059" y="1914"/>
                  </a:lnTo>
                  <a:lnTo>
                    <a:pt x="1178" y="1932"/>
                  </a:lnTo>
                  <a:lnTo>
                    <a:pt x="1240" y="1932"/>
                  </a:lnTo>
                  <a:lnTo>
                    <a:pt x="1284" y="1897"/>
                  </a:lnTo>
                  <a:lnTo>
                    <a:pt x="1187" y="1914"/>
                  </a:lnTo>
                  <a:lnTo>
                    <a:pt x="1187" y="1932"/>
                  </a:lnTo>
                  <a:lnTo>
                    <a:pt x="1103" y="1914"/>
                  </a:lnTo>
                  <a:lnTo>
                    <a:pt x="1010" y="1861"/>
                  </a:lnTo>
                  <a:lnTo>
                    <a:pt x="882" y="1791"/>
                  </a:lnTo>
                  <a:lnTo>
                    <a:pt x="759" y="1667"/>
                  </a:lnTo>
                  <a:lnTo>
                    <a:pt x="684" y="1562"/>
                  </a:lnTo>
                  <a:lnTo>
                    <a:pt x="595" y="1482"/>
                  </a:lnTo>
                  <a:lnTo>
                    <a:pt x="573" y="1429"/>
                  </a:lnTo>
                  <a:lnTo>
                    <a:pt x="546" y="1429"/>
                  </a:lnTo>
                  <a:lnTo>
                    <a:pt x="573" y="1482"/>
                  </a:lnTo>
                  <a:lnTo>
                    <a:pt x="546" y="1517"/>
                  </a:lnTo>
                  <a:lnTo>
                    <a:pt x="502" y="1509"/>
                  </a:lnTo>
                  <a:lnTo>
                    <a:pt x="485" y="1473"/>
                  </a:lnTo>
                  <a:lnTo>
                    <a:pt x="502" y="1429"/>
                  </a:lnTo>
                  <a:lnTo>
                    <a:pt x="511" y="1412"/>
                  </a:lnTo>
                  <a:lnTo>
                    <a:pt x="423" y="1394"/>
                  </a:lnTo>
                  <a:lnTo>
                    <a:pt x="361" y="1323"/>
                  </a:lnTo>
                  <a:lnTo>
                    <a:pt x="321" y="1244"/>
                  </a:lnTo>
                  <a:lnTo>
                    <a:pt x="277" y="1156"/>
                  </a:lnTo>
                  <a:lnTo>
                    <a:pt x="260" y="1085"/>
                  </a:lnTo>
                  <a:lnTo>
                    <a:pt x="268" y="1024"/>
                  </a:lnTo>
                  <a:lnTo>
                    <a:pt x="348" y="1068"/>
                  </a:lnTo>
                  <a:lnTo>
                    <a:pt x="405" y="1138"/>
                  </a:lnTo>
                  <a:lnTo>
                    <a:pt x="436" y="1191"/>
                  </a:lnTo>
                  <a:lnTo>
                    <a:pt x="467" y="1244"/>
                  </a:lnTo>
                  <a:lnTo>
                    <a:pt x="502" y="1306"/>
                  </a:lnTo>
                  <a:lnTo>
                    <a:pt x="485" y="1191"/>
                  </a:lnTo>
                  <a:lnTo>
                    <a:pt x="529" y="1173"/>
                  </a:lnTo>
                  <a:lnTo>
                    <a:pt x="467" y="1085"/>
                  </a:lnTo>
                  <a:lnTo>
                    <a:pt x="361" y="1024"/>
                  </a:lnTo>
                  <a:lnTo>
                    <a:pt x="304" y="1005"/>
                  </a:lnTo>
                  <a:lnTo>
                    <a:pt x="304" y="970"/>
                  </a:lnTo>
                  <a:lnTo>
                    <a:pt x="366" y="987"/>
                  </a:lnTo>
                  <a:lnTo>
                    <a:pt x="330" y="881"/>
                  </a:lnTo>
                  <a:lnTo>
                    <a:pt x="321" y="740"/>
                  </a:lnTo>
                  <a:lnTo>
                    <a:pt x="291" y="564"/>
                  </a:lnTo>
                  <a:lnTo>
                    <a:pt x="304" y="423"/>
                  </a:lnTo>
                  <a:lnTo>
                    <a:pt x="330" y="317"/>
                  </a:lnTo>
                  <a:lnTo>
                    <a:pt x="361" y="238"/>
                  </a:lnTo>
                  <a:lnTo>
                    <a:pt x="291" y="458"/>
                  </a:lnTo>
                  <a:lnTo>
                    <a:pt x="321" y="211"/>
                  </a:lnTo>
                  <a:lnTo>
                    <a:pt x="229" y="582"/>
                  </a:lnTo>
                  <a:lnTo>
                    <a:pt x="260" y="229"/>
                  </a:lnTo>
                  <a:lnTo>
                    <a:pt x="194" y="476"/>
                  </a:lnTo>
                  <a:lnTo>
                    <a:pt x="194" y="264"/>
                  </a:lnTo>
                  <a:lnTo>
                    <a:pt x="136" y="423"/>
                  </a:lnTo>
                  <a:lnTo>
                    <a:pt x="123" y="273"/>
                  </a:lnTo>
                  <a:lnTo>
                    <a:pt x="79" y="388"/>
                  </a:lnTo>
                  <a:lnTo>
                    <a:pt x="92" y="238"/>
                  </a:lnTo>
                  <a:lnTo>
                    <a:pt x="136" y="167"/>
                  </a:lnTo>
                  <a:lnTo>
                    <a:pt x="207" y="105"/>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1544760" y="4248000"/>
              <a:ext cx="162360" cy="444960"/>
            </a:xfrm>
            <a:custGeom>
              <a:avLst/>
              <a:gdLst/>
              <a:ahLst/>
              <a:rect l="0" t="0" r="r" b="b"/>
              <a:pathLst>
                <a:path w="451" h="1236">
                  <a:moveTo>
                    <a:pt x="199" y="0"/>
                  </a:moveTo>
                  <a:lnTo>
                    <a:pt x="278" y="88"/>
                  </a:lnTo>
                  <a:lnTo>
                    <a:pt x="305" y="291"/>
                  </a:lnTo>
                  <a:lnTo>
                    <a:pt x="318" y="503"/>
                  </a:lnTo>
                  <a:lnTo>
                    <a:pt x="318" y="609"/>
                  </a:lnTo>
                  <a:lnTo>
                    <a:pt x="318" y="671"/>
                  </a:lnTo>
                  <a:lnTo>
                    <a:pt x="269" y="644"/>
                  </a:lnTo>
                  <a:lnTo>
                    <a:pt x="292" y="768"/>
                  </a:lnTo>
                  <a:lnTo>
                    <a:pt x="354" y="900"/>
                  </a:lnTo>
                  <a:lnTo>
                    <a:pt x="412" y="1060"/>
                  </a:lnTo>
                  <a:lnTo>
                    <a:pt x="451" y="1210"/>
                  </a:lnTo>
                  <a:lnTo>
                    <a:pt x="438" y="1236"/>
                  </a:lnTo>
                  <a:lnTo>
                    <a:pt x="398" y="1077"/>
                  </a:lnTo>
                  <a:lnTo>
                    <a:pt x="336" y="900"/>
                  </a:lnTo>
                  <a:lnTo>
                    <a:pt x="292" y="777"/>
                  </a:lnTo>
                  <a:lnTo>
                    <a:pt x="247" y="671"/>
                  </a:lnTo>
                  <a:lnTo>
                    <a:pt x="208" y="556"/>
                  </a:lnTo>
                  <a:lnTo>
                    <a:pt x="181" y="441"/>
                  </a:lnTo>
                  <a:lnTo>
                    <a:pt x="133" y="336"/>
                  </a:lnTo>
                  <a:lnTo>
                    <a:pt x="61" y="246"/>
                  </a:lnTo>
                  <a:lnTo>
                    <a:pt x="0" y="176"/>
                  </a:lnTo>
                  <a:lnTo>
                    <a:pt x="142" y="299"/>
                  </a:lnTo>
                  <a:lnTo>
                    <a:pt x="101" y="194"/>
                  </a:lnTo>
                  <a:lnTo>
                    <a:pt x="181" y="327"/>
                  </a:lnTo>
                  <a:lnTo>
                    <a:pt x="142" y="176"/>
                  </a:lnTo>
                  <a:lnTo>
                    <a:pt x="208" y="299"/>
                  </a:lnTo>
                  <a:lnTo>
                    <a:pt x="186" y="149"/>
                  </a:lnTo>
                  <a:lnTo>
                    <a:pt x="247" y="291"/>
                  </a:lnTo>
                  <a:lnTo>
                    <a:pt x="225" y="88"/>
                  </a:lnTo>
                  <a:lnTo>
                    <a:pt x="168" y="52"/>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1539720" y="4473720"/>
              <a:ext cx="81360" cy="19440"/>
            </a:xfrm>
            <a:custGeom>
              <a:avLst/>
              <a:gdLst/>
              <a:ahLst/>
              <a:rect l="0" t="0" r="r" b="b"/>
              <a:pathLst>
                <a:path w="226" h="54">
                  <a:moveTo>
                    <a:pt x="226" y="18"/>
                  </a:moveTo>
                  <a:lnTo>
                    <a:pt x="155" y="0"/>
                  </a:lnTo>
                  <a:lnTo>
                    <a:pt x="93" y="0"/>
                  </a:lnTo>
                  <a:lnTo>
                    <a:pt x="0" y="18"/>
                  </a:lnTo>
                  <a:lnTo>
                    <a:pt x="30" y="46"/>
                  </a:lnTo>
                  <a:lnTo>
                    <a:pt x="75" y="54"/>
                  </a:lnTo>
                  <a:lnTo>
                    <a:pt x="98" y="46"/>
                  </a:lnTo>
                  <a:lnTo>
                    <a:pt x="111" y="18"/>
                  </a:lnTo>
                  <a:lnTo>
                    <a:pt x="226"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49" name=""/>
            <p:cNvSpPr/>
            <p:nvPr/>
          </p:nvSpPr>
          <p:spPr>
            <a:xfrm>
              <a:off x="1393920" y="4479840"/>
              <a:ext cx="100440" cy="35280"/>
            </a:xfrm>
            <a:custGeom>
              <a:avLst/>
              <a:gdLst/>
              <a:ahLst/>
              <a:rect l="0" t="0" r="r" b="b"/>
              <a:pathLst>
                <a:path w="279" h="98">
                  <a:moveTo>
                    <a:pt x="279" y="0"/>
                  </a:moveTo>
                  <a:lnTo>
                    <a:pt x="168" y="0"/>
                  </a:lnTo>
                  <a:lnTo>
                    <a:pt x="106" y="26"/>
                  </a:lnTo>
                  <a:lnTo>
                    <a:pt x="26" y="35"/>
                  </a:lnTo>
                  <a:lnTo>
                    <a:pt x="0" y="80"/>
                  </a:lnTo>
                  <a:lnTo>
                    <a:pt x="26" y="62"/>
                  </a:lnTo>
                  <a:lnTo>
                    <a:pt x="71" y="98"/>
                  </a:lnTo>
                  <a:lnTo>
                    <a:pt x="120" y="98"/>
                  </a:lnTo>
                  <a:lnTo>
                    <a:pt x="146" y="80"/>
                  </a:lnTo>
                  <a:lnTo>
                    <a:pt x="159" y="35"/>
                  </a:lnTo>
                  <a:lnTo>
                    <a:pt x="168" y="26"/>
                  </a:lnTo>
                  <a:lnTo>
                    <a:pt x="279"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150" name=""/>
            <p:cNvSpPr/>
            <p:nvPr/>
          </p:nvSpPr>
          <p:spPr>
            <a:xfrm>
              <a:off x="1535040" y="4378320"/>
              <a:ext cx="41760" cy="19440"/>
            </a:xfrm>
            <a:custGeom>
              <a:avLst/>
              <a:gdLst/>
              <a:ahLst/>
              <a:rect l="0" t="0" r="r" b="b"/>
              <a:pathLst>
                <a:path w="116" h="54">
                  <a:moveTo>
                    <a:pt x="116" y="54"/>
                  </a:moveTo>
                  <a:lnTo>
                    <a:pt x="0" y="0"/>
                  </a:lnTo>
                  <a:lnTo>
                    <a:pt x="0" y="54"/>
                  </a:lnTo>
                  <a:lnTo>
                    <a:pt x="116"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51" name=""/>
            <p:cNvSpPr/>
            <p:nvPr/>
          </p:nvSpPr>
          <p:spPr>
            <a:xfrm>
              <a:off x="1398600" y="4378320"/>
              <a:ext cx="47880" cy="28800"/>
            </a:xfrm>
            <a:custGeom>
              <a:avLst/>
              <a:gdLst/>
              <a:ahLst/>
              <a:rect l="0" t="0" r="r" b="b"/>
              <a:pathLst>
                <a:path w="133" h="80">
                  <a:moveTo>
                    <a:pt x="133" y="0"/>
                  </a:moveTo>
                  <a:lnTo>
                    <a:pt x="0" y="80"/>
                  </a:lnTo>
                  <a:lnTo>
                    <a:pt x="93" y="80"/>
                  </a:lnTo>
                  <a:lnTo>
                    <a:pt x="133"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52" name=""/>
            <p:cNvSpPr/>
            <p:nvPr/>
          </p:nvSpPr>
          <p:spPr>
            <a:xfrm>
              <a:off x="1544760" y="4502160"/>
              <a:ext cx="128880" cy="206640"/>
            </a:xfrm>
            <a:custGeom>
              <a:avLst/>
              <a:gdLst/>
              <a:ahLst/>
              <a:rect l="0" t="0" r="r" b="b"/>
              <a:pathLst>
                <a:path w="358" h="574">
                  <a:moveTo>
                    <a:pt x="44" y="0"/>
                  </a:moveTo>
                  <a:lnTo>
                    <a:pt x="132" y="149"/>
                  </a:lnTo>
                  <a:lnTo>
                    <a:pt x="225" y="238"/>
                  </a:lnTo>
                  <a:lnTo>
                    <a:pt x="292" y="318"/>
                  </a:lnTo>
                  <a:lnTo>
                    <a:pt x="358" y="371"/>
                  </a:lnTo>
                  <a:lnTo>
                    <a:pt x="358" y="415"/>
                  </a:lnTo>
                  <a:lnTo>
                    <a:pt x="349" y="468"/>
                  </a:lnTo>
                  <a:lnTo>
                    <a:pt x="225" y="477"/>
                  </a:lnTo>
                  <a:lnTo>
                    <a:pt x="199" y="538"/>
                  </a:lnTo>
                  <a:lnTo>
                    <a:pt x="145" y="574"/>
                  </a:lnTo>
                  <a:lnTo>
                    <a:pt x="79" y="556"/>
                  </a:lnTo>
                  <a:lnTo>
                    <a:pt x="30" y="512"/>
                  </a:lnTo>
                  <a:lnTo>
                    <a:pt x="0" y="468"/>
                  </a:lnTo>
                  <a:lnTo>
                    <a:pt x="30" y="424"/>
                  </a:lnTo>
                  <a:lnTo>
                    <a:pt x="101" y="424"/>
                  </a:lnTo>
                  <a:lnTo>
                    <a:pt x="327" y="424"/>
                  </a:lnTo>
                  <a:lnTo>
                    <a:pt x="331" y="371"/>
                  </a:lnTo>
                  <a:lnTo>
                    <a:pt x="212" y="273"/>
                  </a:lnTo>
                  <a:lnTo>
                    <a:pt x="132" y="167"/>
                  </a:lnTo>
                  <a:lnTo>
                    <a:pt x="44" y="7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442880" y="4702320"/>
              <a:ext cx="211320" cy="143280"/>
            </a:xfrm>
            <a:custGeom>
              <a:avLst/>
              <a:gdLst/>
              <a:ahLst/>
              <a:rect l="0" t="0" r="r" b="b"/>
              <a:pathLst>
                <a:path w="587" h="398">
                  <a:moveTo>
                    <a:pt x="587" y="17"/>
                  </a:moveTo>
                  <a:lnTo>
                    <a:pt x="587" y="88"/>
                  </a:lnTo>
                  <a:lnTo>
                    <a:pt x="561" y="142"/>
                  </a:lnTo>
                  <a:lnTo>
                    <a:pt x="534" y="177"/>
                  </a:lnTo>
                  <a:lnTo>
                    <a:pt x="521" y="221"/>
                  </a:lnTo>
                  <a:lnTo>
                    <a:pt x="547" y="292"/>
                  </a:lnTo>
                  <a:lnTo>
                    <a:pt x="547" y="345"/>
                  </a:lnTo>
                  <a:lnTo>
                    <a:pt x="521" y="363"/>
                  </a:lnTo>
                  <a:lnTo>
                    <a:pt x="534" y="292"/>
                  </a:lnTo>
                  <a:lnTo>
                    <a:pt x="503" y="239"/>
                  </a:lnTo>
                  <a:lnTo>
                    <a:pt x="472" y="274"/>
                  </a:lnTo>
                  <a:lnTo>
                    <a:pt x="411" y="310"/>
                  </a:lnTo>
                  <a:lnTo>
                    <a:pt x="459" y="239"/>
                  </a:lnTo>
                  <a:lnTo>
                    <a:pt x="459" y="159"/>
                  </a:lnTo>
                  <a:lnTo>
                    <a:pt x="367" y="195"/>
                  </a:lnTo>
                  <a:lnTo>
                    <a:pt x="238" y="195"/>
                  </a:lnTo>
                  <a:lnTo>
                    <a:pt x="167" y="177"/>
                  </a:lnTo>
                  <a:lnTo>
                    <a:pt x="88" y="159"/>
                  </a:lnTo>
                  <a:lnTo>
                    <a:pt x="141" y="239"/>
                  </a:lnTo>
                  <a:lnTo>
                    <a:pt x="194" y="274"/>
                  </a:lnTo>
                  <a:lnTo>
                    <a:pt x="273" y="310"/>
                  </a:lnTo>
                  <a:lnTo>
                    <a:pt x="331" y="310"/>
                  </a:lnTo>
                  <a:lnTo>
                    <a:pt x="349" y="345"/>
                  </a:lnTo>
                  <a:lnTo>
                    <a:pt x="367" y="328"/>
                  </a:lnTo>
                  <a:lnTo>
                    <a:pt x="397" y="363"/>
                  </a:lnTo>
                  <a:lnTo>
                    <a:pt x="424" y="345"/>
                  </a:lnTo>
                  <a:lnTo>
                    <a:pt x="437" y="381"/>
                  </a:lnTo>
                  <a:lnTo>
                    <a:pt x="472" y="381"/>
                  </a:lnTo>
                  <a:lnTo>
                    <a:pt x="397" y="398"/>
                  </a:lnTo>
                  <a:lnTo>
                    <a:pt x="300" y="381"/>
                  </a:lnTo>
                  <a:lnTo>
                    <a:pt x="207" y="363"/>
                  </a:lnTo>
                  <a:lnTo>
                    <a:pt x="132" y="310"/>
                  </a:lnTo>
                  <a:lnTo>
                    <a:pt x="74" y="239"/>
                  </a:lnTo>
                  <a:lnTo>
                    <a:pt x="35" y="177"/>
                  </a:lnTo>
                  <a:lnTo>
                    <a:pt x="0" y="195"/>
                  </a:lnTo>
                  <a:lnTo>
                    <a:pt x="26" y="124"/>
                  </a:lnTo>
                  <a:lnTo>
                    <a:pt x="35" y="88"/>
                  </a:lnTo>
                  <a:lnTo>
                    <a:pt x="26" y="35"/>
                  </a:lnTo>
                  <a:lnTo>
                    <a:pt x="48" y="35"/>
                  </a:lnTo>
                  <a:lnTo>
                    <a:pt x="61" y="17"/>
                  </a:lnTo>
                  <a:lnTo>
                    <a:pt x="101" y="35"/>
                  </a:lnTo>
                  <a:lnTo>
                    <a:pt x="119" y="52"/>
                  </a:lnTo>
                  <a:lnTo>
                    <a:pt x="61" y="106"/>
                  </a:lnTo>
                  <a:lnTo>
                    <a:pt x="88" y="142"/>
                  </a:lnTo>
                  <a:lnTo>
                    <a:pt x="180" y="159"/>
                  </a:lnTo>
                  <a:lnTo>
                    <a:pt x="314" y="177"/>
                  </a:lnTo>
                  <a:lnTo>
                    <a:pt x="411" y="159"/>
                  </a:lnTo>
                  <a:lnTo>
                    <a:pt x="472" y="124"/>
                  </a:lnTo>
                  <a:lnTo>
                    <a:pt x="534" y="88"/>
                  </a:lnTo>
                  <a:lnTo>
                    <a:pt x="561" y="52"/>
                  </a:lnTo>
                  <a:lnTo>
                    <a:pt x="561" y="0"/>
                  </a:lnTo>
                  <a:lnTo>
                    <a:pt x="58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1631880" y="4721400"/>
              <a:ext cx="65520" cy="181440"/>
            </a:xfrm>
            <a:custGeom>
              <a:avLst/>
              <a:gdLst/>
              <a:ahLst/>
              <a:rect l="0" t="0" r="r" b="b"/>
              <a:pathLst>
                <a:path w="182" h="504">
                  <a:moveTo>
                    <a:pt x="182" y="0"/>
                  </a:moveTo>
                  <a:lnTo>
                    <a:pt x="143" y="133"/>
                  </a:lnTo>
                  <a:lnTo>
                    <a:pt x="93" y="256"/>
                  </a:lnTo>
                  <a:lnTo>
                    <a:pt x="35" y="362"/>
                  </a:lnTo>
                  <a:lnTo>
                    <a:pt x="13" y="442"/>
                  </a:lnTo>
                  <a:lnTo>
                    <a:pt x="13" y="504"/>
                  </a:lnTo>
                  <a:lnTo>
                    <a:pt x="0" y="398"/>
                  </a:lnTo>
                  <a:lnTo>
                    <a:pt x="35" y="274"/>
                  </a:lnTo>
                  <a:lnTo>
                    <a:pt x="93" y="133"/>
                  </a:lnTo>
                  <a:lnTo>
                    <a:pt x="143" y="0"/>
                  </a:lnTo>
                  <a:lnTo>
                    <a:pt x="18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1409760" y="4927680"/>
              <a:ext cx="200520" cy="333720"/>
            </a:xfrm>
            <a:custGeom>
              <a:avLst/>
              <a:gdLst/>
              <a:ahLst/>
              <a:rect l="0" t="0" r="r" b="b"/>
              <a:pathLst>
                <a:path w="557" h="927">
                  <a:moveTo>
                    <a:pt x="287" y="0"/>
                  </a:moveTo>
                  <a:lnTo>
                    <a:pt x="287" y="97"/>
                  </a:lnTo>
                  <a:lnTo>
                    <a:pt x="393" y="70"/>
                  </a:lnTo>
                  <a:lnTo>
                    <a:pt x="557" y="229"/>
                  </a:lnTo>
                  <a:lnTo>
                    <a:pt x="380" y="97"/>
                  </a:lnTo>
                  <a:lnTo>
                    <a:pt x="300" y="105"/>
                  </a:lnTo>
                  <a:lnTo>
                    <a:pt x="380" y="211"/>
                  </a:lnTo>
                  <a:lnTo>
                    <a:pt x="456" y="396"/>
                  </a:lnTo>
                  <a:lnTo>
                    <a:pt x="517" y="600"/>
                  </a:lnTo>
                  <a:lnTo>
                    <a:pt x="557" y="785"/>
                  </a:lnTo>
                  <a:lnTo>
                    <a:pt x="425" y="494"/>
                  </a:lnTo>
                  <a:lnTo>
                    <a:pt x="531" y="865"/>
                  </a:lnTo>
                  <a:lnTo>
                    <a:pt x="393" y="530"/>
                  </a:lnTo>
                  <a:lnTo>
                    <a:pt x="491" y="865"/>
                  </a:lnTo>
                  <a:lnTo>
                    <a:pt x="349" y="574"/>
                  </a:lnTo>
                  <a:lnTo>
                    <a:pt x="456" y="900"/>
                  </a:lnTo>
                  <a:lnTo>
                    <a:pt x="331" y="636"/>
                  </a:lnTo>
                  <a:lnTo>
                    <a:pt x="425" y="900"/>
                  </a:lnTo>
                  <a:lnTo>
                    <a:pt x="393" y="927"/>
                  </a:lnTo>
                  <a:lnTo>
                    <a:pt x="314" y="697"/>
                  </a:lnTo>
                  <a:lnTo>
                    <a:pt x="239" y="512"/>
                  </a:lnTo>
                  <a:lnTo>
                    <a:pt x="142" y="343"/>
                  </a:lnTo>
                  <a:lnTo>
                    <a:pt x="70" y="211"/>
                  </a:lnTo>
                  <a:lnTo>
                    <a:pt x="0" y="141"/>
                  </a:lnTo>
                  <a:lnTo>
                    <a:pt x="155" y="282"/>
                  </a:lnTo>
                  <a:lnTo>
                    <a:pt x="225" y="282"/>
                  </a:lnTo>
                  <a:lnTo>
                    <a:pt x="300" y="273"/>
                  </a:lnTo>
                  <a:lnTo>
                    <a:pt x="331" y="229"/>
                  </a:lnTo>
                  <a:lnTo>
                    <a:pt x="287" y="158"/>
                  </a:lnTo>
                  <a:lnTo>
                    <a:pt x="261" y="211"/>
                  </a:lnTo>
                  <a:lnTo>
                    <a:pt x="261" y="158"/>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1339920" y="4991040"/>
              <a:ext cx="81360" cy="120960"/>
            </a:xfrm>
            <a:custGeom>
              <a:avLst/>
              <a:gdLst/>
              <a:ahLst/>
              <a:rect l="0" t="0" r="r" b="b"/>
              <a:pathLst>
                <a:path w="226" h="336">
                  <a:moveTo>
                    <a:pt x="30" y="0"/>
                  </a:moveTo>
                  <a:lnTo>
                    <a:pt x="30" y="105"/>
                  </a:lnTo>
                  <a:lnTo>
                    <a:pt x="226" y="265"/>
                  </a:lnTo>
                  <a:lnTo>
                    <a:pt x="120" y="336"/>
                  </a:lnTo>
                  <a:lnTo>
                    <a:pt x="173" y="283"/>
                  </a:lnTo>
                  <a:lnTo>
                    <a:pt x="30" y="167"/>
                  </a:lnTo>
                  <a:lnTo>
                    <a:pt x="48" y="132"/>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1380960" y="5118120"/>
              <a:ext cx="113040" cy="105120"/>
            </a:xfrm>
            <a:custGeom>
              <a:avLst/>
              <a:gdLst/>
              <a:ahLst/>
              <a:rect l="0" t="0" r="r" b="b"/>
              <a:pathLst>
                <a:path w="314" h="292">
                  <a:moveTo>
                    <a:pt x="314" y="256"/>
                  </a:moveTo>
                  <a:lnTo>
                    <a:pt x="181" y="132"/>
                  </a:lnTo>
                  <a:lnTo>
                    <a:pt x="74" y="52"/>
                  </a:lnTo>
                  <a:lnTo>
                    <a:pt x="0" y="0"/>
                  </a:lnTo>
                  <a:lnTo>
                    <a:pt x="181" y="168"/>
                  </a:lnTo>
                  <a:lnTo>
                    <a:pt x="256" y="256"/>
                  </a:lnTo>
                  <a:lnTo>
                    <a:pt x="300" y="292"/>
                  </a:lnTo>
                  <a:lnTo>
                    <a:pt x="314" y="2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1144440" y="4984920"/>
              <a:ext cx="82800" cy="76680"/>
            </a:xfrm>
            <a:custGeom>
              <a:avLst/>
              <a:gdLst/>
              <a:ahLst/>
              <a:rect l="0" t="0" r="r" b="b"/>
              <a:pathLst>
                <a:path w="230" h="213">
                  <a:moveTo>
                    <a:pt x="230" y="0"/>
                  </a:moveTo>
                  <a:lnTo>
                    <a:pt x="83" y="0"/>
                  </a:lnTo>
                  <a:lnTo>
                    <a:pt x="30" y="124"/>
                  </a:lnTo>
                  <a:lnTo>
                    <a:pt x="0" y="213"/>
                  </a:lnTo>
                  <a:lnTo>
                    <a:pt x="57" y="213"/>
                  </a:lnTo>
                  <a:lnTo>
                    <a:pt x="70" y="124"/>
                  </a:lnTo>
                  <a:lnTo>
                    <a:pt x="105" y="35"/>
                  </a:lnTo>
                  <a:lnTo>
                    <a:pt x="23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9" name=""/>
            <p:cNvSpPr/>
            <p:nvPr/>
          </p:nvSpPr>
          <p:spPr>
            <a:xfrm>
              <a:off x="1190520" y="5016600"/>
              <a:ext cx="92520" cy="82800"/>
            </a:xfrm>
            <a:custGeom>
              <a:avLst/>
              <a:gdLst/>
              <a:ahLst/>
              <a:rect l="0" t="0" r="r" b="b"/>
              <a:pathLst>
                <a:path w="257" h="230">
                  <a:moveTo>
                    <a:pt x="257" y="230"/>
                  </a:moveTo>
                  <a:lnTo>
                    <a:pt x="98" y="70"/>
                  </a:lnTo>
                  <a:lnTo>
                    <a:pt x="0" y="0"/>
                  </a:lnTo>
                  <a:lnTo>
                    <a:pt x="0" y="61"/>
                  </a:lnTo>
                  <a:lnTo>
                    <a:pt x="257"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60" name=""/>
            <p:cNvSpPr/>
            <p:nvPr/>
          </p:nvSpPr>
          <p:spPr>
            <a:xfrm>
              <a:off x="1174680" y="5064120"/>
              <a:ext cx="103680" cy="60840"/>
            </a:xfrm>
            <a:custGeom>
              <a:avLst/>
              <a:gdLst/>
              <a:ahLst/>
              <a:rect l="0" t="0" r="r" b="b"/>
              <a:pathLst>
                <a:path w="288" h="169">
                  <a:moveTo>
                    <a:pt x="288" y="151"/>
                  </a:moveTo>
                  <a:lnTo>
                    <a:pt x="142" y="62"/>
                  </a:lnTo>
                  <a:lnTo>
                    <a:pt x="61" y="0"/>
                  </a:lnTo>
                  <a:lnTo>
                    <a:pt x="13" y="0"/>
                  </a:lnTo>
                  <a:lnTo>
                    <a:pt x="0" y="45"/>
                  </a:lnTo>
                  <a:lnTo>
                    <a:pt x="44" y="62"/>
                  </a:lnTo>
                  <a:lnTo>
                    <a:pt x="61" y="45"/>
                  </a:lnTo>
                  <a:lnTo>
                    <a:pt x="142" y="80"/>
                  </a:lnTo>
                  <a:lnTo>
                    <a:pt x="181" y="115"/>
                  </a:lnTo>
                  <a:lnTo>
                    <a:pt x="195" y="143"/>
                  </a:lnTo>
                  <a:lnTo>
                    <a:pt x="262" y="169"/>
                  </a:lnTo>
                  <a:lnTo>
                    <a:pt x="288"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61" name=""/>
            <p:cNvSpPr/>
            <p:nvPr/>
          </p:nvSpPr>
          <p:spPr>
            <a:xfrm>
              <a:off x="1143000" y="5111640"/>
              <a:ext cx="111600" cy="203400"/>
            </a:xfrm>
            <a:custGeom>
              <a:avLst/>
              <a:gdLst/>
              <a:ahLst/>
              <a:rect l="0" t="0" r="r" b="b"/>
              <a:pathLst>
                <a:path w="310" h="565">
                  <a:moveTo>
                    <a:pt x="106" y="17"/>
                  </a:moveTo>
                  <a:lnTo>
                    <a:pt x="106" y="149"/>
                  </a:lnTo>
                  <a:lnTo>
                    <a:pt x="106" y="220"/>
                  </a:lnTo>
                  <a:lnTo>
                    <a:pt x="115" y="309"/>
                  </a:lnTo>
                  <a:lnTo>
                    <a:pt x="221" y="220"/>
                  </a:lnTo>
                  <a:lnTo>
                    <a:pt x="310" y="105"/>
                  </a:lnTo>
                  <a:lnTo>
                    <a:pt x="164" y="309"/>
                  </a:lnTo>
                  <a:lnTo>
                    <a:pt x="74" y="371"/>
                  </a:lnTo>
                  <a:lnTo>
                    <a:pt x="150" y="512"/>
                  </a:lnTo>
                  <a:lnTo>
                    <a:pt x="106" y="565"/>
                  </a:lnTo>
                  <a:lnTo>
                    <a:pt x="44" y="477"/>
                  </a:lnTo>
                  <a:lnTo>
                    <a:pt x="26" y="415"/>
                  </a:lnTo>
                  <a:lnTo>
                    <a:pt x="0" y="389"/>
                  </a:lnTo>
                  <a:lnTo>
                    <a:pt x="48" y="327"/>
                  </a:lnTo>
                  <a:lnTo>
                    <a:pt x="26" y="220"/>
                  </a:lnTo>
                  <a:lnTo>
                    <a:pt x="26" y="149"/>
                  </a:lnTo>
                  <a:lnTo>
                    <a:pt x="13" y="35"/>
                  </a:lnTo>
                  <a:lnTo>
                    <a:pt x="26" y="0"/>
                  </a:lnTo>
                  <a:lnTo>
                    <a:pt x="48" y="22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1197000" y="5159520"/>
              <a:ext cx="113040" cy="206640"/>
            </a:xfrm>
            <a:custGeom>
              <a:avLst/>
              <a:gdLst/>
              <a:ahLst/>
              <a:rect l="0" t="0" r="r" b="b"/>
              <a:pathLst>
                <a:path w="314" h="574">
                  <a:moveTo>
                    <a:pt x="243" y="0"/>
                  </a:moveTo>
                  <a:lnTo>
                    <a:pt x="154" y="238"/>
                  </a:lnTo>
                  <a:lnTo>
                    <a:pt x="74" y="344"/>
                  </a:lnTo>
                  <a:lnTo>
                    <a:pt x="0" y="415"/>
                  </a:lnTo>
                  <a:lnTo>
                    <a:pt x="74" y="344"/>
                  </a:lnTo>
                  <a:lnTo>
                    <a:pt x="141" y="273"/>
                  </a:lnTo>
                  <a:lnTo>
                    <a:pt x="92" y="415"/>
                  </a:lnTo>
                  <a:lnTo>
                    <a:pt x="0" y="574"/>
                  </a:lnTo>
                  <a:lnTo>
                    <a:pt x="119" y="415"/>
                  </a:lnTo>
                  <a:lnTo>
                    <a:pt x="181" y="292"/>
                  </a:lnTo>
                  <a:lnTo>
                    <a:pt x="243" y="70"/>
                  </a:lnTo>
                  <a:lnTo>
                    <a:pt x="314" y="309"/>
                  </a:lnTo>
                  <a:lnTo>
                    <a:pt x="261" y="35"/>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168560" y="5327640"/>
              <a:ext cx="47880" cy="127440"/>
            </a:xfrm>
            <a:custGeom>
              <a:avLst/>
              <a:gdLst/>
              <a:ahLst/>
              <a:rect l="0" t="0" r="r" b="b"/>
              <a:pathLst>
                <a:path w="133" h="354">
                  <a:moveTo>
                    <a:pt x="48" y="0"/>
                  </a:moveTo>
                  <a:lnTo>
                    <a:pt x="80" y="106"/>
                  </a:lnTo>
                  <a:lnTo>
                    <a:pt x="35" y="106"/>
                  </a:lnTo>
                  <a:lnTo>
                    <a:pt x="133" y="354"/>
                  </a:lnTo>
                  <a:lnTo>
                    <a:pt x="0" y="35"/>
                  </a:lnTo>
                  <a:lnTo>
                    <a:pt x="35" y="0"/>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p:nvPr/>
          </p:nvSpPr>
          <p:spPr>
            <a:xfrm>
              <a:off x="1808280" y="4336920"/>
              <a:ext cx="857520" cy="1295640"/>
            </a:xfrm>
            <a:custGeom>
              <a:avLst/>
              <a:gdLst/>
              <a:ahLst/>
              <a:rect l="0" t="0" r="r" b="b"/>
              <a:pathLst>
                <a:path w="2382" h="3599">
                  <a:moveTo>
                    <a:pt x="30" y="1490"/>
                  </a:moveTo>
                  <a:lnTo>
                    <a:pt x="211" y="1014"/>
                  </a:lnTo>
                  <a:lnTo>
                    <a:pt x="366" y="582"/>
                  </a:lnTo>
                  <a:lnTo>
                    <a:pt x="454" y="264"/>
                  </a:lnTo>
                  <a:lnTo>
                    <a:pt x="502" y="52"/>
                  </a:lnTo>
                  <a:lnTo>
                    <a:pt x="886" y="317"/>
                  </a:lnTo>
                  <a:lnTo>
                    <a:pt x="1301" y="564"/>
                  </a:lnTo>
                  <a:lnTo>
                    <a:pt x="1831" y="784"/>
                  </a:lnTo>
                  <a:lnTo>
                    <a:pt x="2355" y="934"/>
                  </a:lnTo>
                  <a:lnTo>
                    <a:pt x="2082" y="1508"/>
                  </a:lnTo>
                  <a:lnTo>
                    <a:pt x="1826" y="2223"/>
                  </a:lnTo>
                  <a:lnTo>
                    <a:pt x="1557" y="2876"/>
                  </a:lnTo>
                  <a:lnTo>
                    <a:pt x="1266" y="3370"/>
                  </a:lnTo>
                  <a:lnTo>
                    <a:pt x="1146" y="3528"/>
                  </a:lnTo>
                  <a:lnTo>
                    <a:pt x="833" y="3246"/>
                  </a:lnTo>
                  <a:lnTo>
                    <a:pt x="573" y="3114"/>
                  </a:lnTo>
                  <a:lnTo>
                    <a:pt x="467" y="3052"/>
                  </a:lnTo>
                  <a:lnTo>
                    <a:pt x="471" y="3087"/>
                  </a:lnTo>
                  <a:lnTo>
                    <a:pt x="767" y="3290"/>
                  </a:lnTo>
                  <a:lnTo>
                    <a:pt x="939" y="3449"/>
                  </a:lnTo>
                  <a:lnTo>
                    <a:pt x="1027" y="3599"/>
                  </a:lnTo>
                  <a:lnTo>
                    <a:pt x="1067" y="3511"/>
                  </a:lnTo>
                  <a:lnTo>
                    <a:pt x="1177" y="3564"/>
                  </a:lnTo>
                  <a:lnTo>
                    <a:pt x="1341" y="3290"/>
                  </a:lnTo>
                  <a:lnTo>
                    <a:pt x="1539" y="2973"/>
                  </a:lnTo>
                  <a:lnTo>
                    <a:pt x="1778" y="2417"/>
                  </a:lnTo>
                  <a:lnTo>
                    <a:pt x="2025" y="1790"/>
                  </a:lnTo>
                  <a:lnTo>
                    <a:pt x="2188" y="1464"/>
                  </a:lnTo>
                  <a:lnTo>
                    <a:pt x="2355" y="1278"/>
                  </a:lnTo>
                  <a:lnTo>
                    <a:pt x="2249" y="1225"/>
                  </a:lnTo>
                  <a:lnTo>
                    <a:pt x="2382" y="917"/>
                  </a:lnTo>
                  <a:lnTo>
                    <a:pt x="1901" y="776"/>
                  </a:lnTo>
                  <a:lnTo>
                    <a:pt x="1495" y="608"/>
                  </a:lnTo>
                  <a:lnTo>
                    <a:pt x="1098" y="414"/>
                  </a:lnTo>
                  <a:lnTo>
                    <a:pt x="749" y="194"/>
                  </a:lnTo>
                  <a:lnTo>
                    <a:pt x="471" y="0"/>
                  </a:lnTo>
                  <a:lnTo>
                    <a:pt x="361" y="493"/>
                  </a:lnTo>
                  <a:lnTo>
                    <a:pt x="167" y="1093"/>
                  </a:lnTo>
                  <a:lnTo>
                    <a:pt x="0" y="1481"/>
                  </a:lnTo>
                  <a:lnTo>
                    <a:pt x="30" y="1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5" name=""/>
            <p:cNvSpPr/>
            <p:nvPr/>
          </p:nvSpPr>
          <p:spPr>
            <a:xfrm>
              <a:off x="1714680" y="4870440"/>
              <a:ext cx="168480" cy="206640"/>
            </a:xfrm>
            <a:custGeom>
              <a:avLst/>
              <a:gdLst/>
              <a:ahLst/>
              <a:rect l="0" t="0" r="r" b="b"/>
              <a:pathLst>
                <a:path w="468" h="574">
                  <a:moveTo>
                    <a:pt x="171" y="0"/>
                  </a:moveTo>
                  <a:lnTo>
                    <a:pt x="318" y="61"/>
                  </a:lnTo>
                  <a:lnTo>
                    <a:pt x="406" y="132"/>
                  </a:lnTo>
                  <a:lnTo>
                    <a:pt x="459" y="167"/>
                  </a:lnTo>
                  <a:lnTo>
                    <a:pt x="441" y="229"/>
                  </a:lnTo>
                  <a:lnTo>
                    <a:pt x="353" y="255"/>
                  </a:lnTo>
                  <a:lnTo>
                    <a:pt x="211" y="238"/>
                  </a:lnTo>
                  <a:lnTo>
                    <a:pt x="119" y="211"/>
                  </a:lnTo>
                  <a:lnTo>
                    <a:pt x="141" y="282"/>
                  </a:lnTo>
                  <a:lnTo>
                    <a:pt x="136" y="406"/>
                  </a:lnTo>
                  <a:lnTo>
                    <a:pt x="79" y="494"/>
                  </a:lnTo>
                  <a:lnTo>
                    <a:pt x="17" y="292"/>
                  </a:lnTo>
                  <a:lnTo>
                    <a:pt x="44" y="149"/>
                  </a:lnTo>
                  <a:lnTo>
                    <a:pt x="101" y="52"/>
                  </a:lnTo>
                  <a:lnTo>
                    <a:pt x="136" y="17"/>
                  </a:lnTo>
                  <a:lnTo>
                    <a:pt x="79" y="17"/>
                  </a:lnTo>
                  <a:lnTo>
                    <a:pt x="17" y="132"/>
                  </a:lnTo>
                  <a:lnTo>
                    <a:pt x="0" y="273"/>
                  </a:lnTo>
                  <a:lnTo>
                    <a:pt x="30" y="406"/>
                  </a:lnTo>
                  <a:lnTo>
                    <a:pt x="66" y="574"/>
                  </a:lnTo>
                  <a:lnTo>
                    <a:pt x="180" y="397"/>
                  </a:lnTo>
                  <a:lnTo>
                    <a:pt x="229" y="282"/>
                  </a:lnTo>
                  <a:lnTo>
                    <a:pt x="367" y="282"/>
                  </a:lnTo>
                  <a:lnTo>
                    <a:pt x="441" y="255"/>
                  </a:lnTo>
                  <a:lnTo>
                    <a:pt x="468" y="211"/>
                  </a:lnTo>
                  <a:lnTo>
                    <a:pt x="459" y="167"/>
                  </a:lnTo>
                  <a:lnTo>
                    <a:pt x="309" y="26"/>
                  </a:lnTo>
                  <a:lnTo>
                    <a:pt x="17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1454040" y="5238720"/>
              <a:ext cx="248040" cy="73440"/>
            </a:xfrm>
            <a:custGeom>
              <a:avLst/>
              <a:gdLst/>
              <a:ahLst/>
              <a:rect l="0" t="0" r="r" b="b"/>
              <a:pathLst>
                <a:path w="689" h="204">
                  <a:moveTo>
                    <a:pt x="17" y="124"/>
                  </a:moveTo>
                  <a:lnTo>
                    <a:pt x="292" y="44"/>
                  </a:lnTo>
                  <a:lnTo>
                    <a:pt x="450" y="17"/>
                  </a:lnTo>
                  <a:lnTo>
                    <a:pt x="592" y="26"/>
                  </a:lnTo>
                  <a:lnTo>
                    <a:pt x="663" y="89"/>
                  </a:lnTo>
                  <a:lnTo>
                    <a:pt x="606" y="142"/>
                  </a:lnTo>
                  <a:lnTo>
                    <a:pt x="544" y="150"/>
                  </a:lnTo>
                  <a:lnTo>
                    <a:pt x="512" y="204"/>
                  </a:lnTo>
                  <a:lnTo>
                    <a:pt x="623" y="178"/>
                  </a:lnTo>
                  <a:lnTo>
                    <a:pt x="663" y="124"/>
                  </a:lnTo>
                  <a:lnTo>
                    <a:pt x="689" y="89"/>
                  </a:lnTo>
                  <a:lnTo>
                    <a:pt x="663" y="26"/>
                  </a:lnTo>
                  <a:lnTo>
                    <a:pt x="548" y="0"/>
                  </a:lnTo>
                  <a:lnTo>
                    <a:pt x="437" y="0"/>
                  </a:lnTo>
                  <a:lnTo>
                    <a:pt x="145" y="71"/>
                  </a:lnTo>
                  <a:lnTo>
                    <a:pt x="0" y="115"/>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67" name=""/>
            <p:cNvSpPr/>
            <p:nvPr/>
          </p:nvSpPr>
          <p:spPr>
            <a:xfrm>
              <a:off x="1595520" y="5289480"/>
              <a:ext cx="46440" cy="9720"/>
            </a:xfrm>
            <a:custGeom>
              <a:avLst/>
              <a:gdLst/>
              <a:ahLst/>
              <a:rect l="0" t="0" r="r" b="b"/>
              <a:pathLst>
                <a:path w="129" h="27">
                  <a:moveTo>
                    <a:pt x="121" y="0"/>
                  </a:moveTo>
                  <a:lnTo>
                    <a:pt x="0" y="0"/>
                  </a:lnTo>
                  <a:lnTo>
                    <a:pt x="129" y="27"/>
                  </a:lnTo>
                  <a:lnTo>
                    <a:pt x="121"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68" name=""/>
            <p:cNvSpPr/>
            <p:nvPr/>
          </p:nvSpPr>
          <p:spPr>
            <a:xfrm>
              <a:off x="1770120" y="5105520"/>
              <a:ext cx="151200" cy="235440"/>
            </a:xfrm>
            <a:custGeom>
              <a:avLst/>
              <a:gdLst/>
              <a:ahLst/>
              <a:rect l="0" t="0" r="r" b="b"/>
              <a:pathLst>
                <a:path w="420" h="654">
                  <a:moveTo>
                    <a:pt x="35" y="0"/>
                  </a:moveTo>
                  <a:lnTo>
                    <a:pt x="412" y="575"/>
                  </a:lnTo>
                  <a:lnTo>
                    <a:pt x="420" y="654"/>
                  </a:lnTo>
                  <a:lnTo>
                    <a:pt x="363" y="619"/>
                  </a:lnTo>
                  <a:lnTo>
                    <a:pt x="363" y="575"/>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1670040" y="5191200"/>
              <a:ext cx="86040" cy="54360"/>
            </a:xfrm>
            <a:custGeom>
              <a:avLst/>
              <a:gdLst/>
              <a:ahLst/>
              <a:rect l="0" t="0" r="r" b="b"/>
              <a:pathLst>
                <a:path w="239" h="151">
                  <a:moveTo>
                    <a:pt x="17" y="116"/>
                  </a:moveTo>
                  <a:lnTo>
                    <a:pt x="208" y="0"/>
                  </a:lnTo>
                  <a:lnTo>
                    <a:pt x="239" y="53"/>
                  </a:lnTo>
                  <a:lnTo>
                    <a:pt x="57" y="151"/>
                  </a:lnTo>
                  <a:lnTo>
                    <a:pt x="0" y="143"/>
                  </a:lnTo>
                  <a:lnTo>
                    <a:pt x="17" y="116"/>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170" name=""/>
            <p:cNvSpPr/>
            <p:nvPr/>
          </p:nvSpPr>
          <p:spPr>
            <a:xfrm>
              <a:off x="1817640" y="4863960"/>
              <a:ext cx="417960" cy="298800"/>
            </a:xfrm>
            <a:custGeom>
              <a:avLst/>
              <a:gdLst/>
              <a:ahLst/>
              <a:rect l="0" t="0" r="r" b="b"/>
              <a:pathLst>
                <a:path w="1161" h="830">
                  <a:moveTo>
                    <a:pt x="0" y="777"/>
                  </a:moveTo>
                  <a:lnTo>
                    <a:pt x="1135" y="0"/>
                  </a:lnTo>
                  <a:lnTo>
                    <a:pt x="1161" y="26"/>
                  </a:lnTo>
                  <a:lnTo>
                    <a:pt x="1152" y="44"/>
                  </a:lnTo>
                  <a:lnTo>
                    <a:pt x="35" y="830"/>
                  </a:lnTo>
                  <a:lnTo>
                    <a:pt x="534" y="450"/>
                  </a:lnTo>
                  <a:lnTo>
                    <a:pt x="0"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1590840" y="4975200"/>
              <a:ext cx="194040" cy="311400"/>
            </a:xfrm>
            <a:custGeom>
              <a:avLst/>
              <a:gdLst/>
              <a:ahLst/>
              <a:rect l="0" t="0" r="r" b="b"/>
              <a:pathLst>
                <a:path w="539" h="865">
                  <a:moveTo>
                    <a:pt x="393" y="317"/>
                  </a:moveTo>
                  <a:lnTo>
                    <a:pt x="243" y="556"/>
                  </a:lnTo>
                  <a:lnTo>
                    <a:pt x="132" y="688"/>
                  </a:lnTo>
                  <a:lnTo>
                    <a:pt x="539" y="838"/>
                  </a:lnTo>
                  <a:lnTo>
                    <a:pt x="442" y="865"/>
                  </a:lnTo>
                  <a:lnTo>
                    <a:pt x="292" y="838"/>
                  </a:lnTo>
                  <a:lnTo>
                    <a:pt x="269" y="759"/>
                  </a:lnTo>
                  <a:lnTo>
                    <a:pt x="101" y="715"/>
                  </a:lnTo>
                  <a:lnTo>
                    <a:pt x="61" y="688"/>
                  </a:lnTo>
                  <a:lnTo>
                    <a:pt x="225" y="530"/>
                  </a:lnTo>
                  <a:lnTo>
                    <a:pt x="292" y="396"/>
                  </a:lnTo>
                  <a:lnTo>
                    <a:pt x="287" y="246"/>
                  </a:lnTo>
                  <a:lnTo>
                    <a:pt x="164" y="246"/>
                  </a:lnTo>
                  <a:lnTo>
                    <a:pt x="150" y="123"/>
                  </a:lnTo>
                  <a:lnTo>
                    <a:pt x="208" y="220"/>
                  </a:lnTo>
                  <a:lnTo>
                    <a:pt x="344" y="185"/>
                  </a:lnTo>
                  <a:lnTo>
                    <a:pt x="305" y="114"/>
                  </a:lnTo>
                  <a:lnTo>
                    <a:pt x="239" y="44"/>
                  </a:lnTo>
                  <a:lnTo>
                    <a:pt x="181" y="26"/>
                  </a:lnTo>
                  <a:lnTo>
                    <a:pt x="0" y="26"/>
                  </a:lnTo>
                  <a:lnTo>
                    <a:pt x="225" y="0"/>
                  </a:lnTo>
                  <a:lnTo>
                    <a:pt x="327" y="61"/>
                  </a:lnTo>
                  <a:lnTo>
                    <a:pt x="393" y="123"/>
                  </a:lnTo>
                  <a:lnTo>
                    <a:pt x="412" y="238"/>
                  </a:lnTo>
                  <a:lnTo>
                    <a:pt x="393"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a:off x="1895400" y="5245200"/>
              <a:ext cx="132120" cy="178200"/>
            </a:xfrm>
            <a:custGeom>
              <a:avLst/>
              <a:gdLst/>
              <a:ahLst/>
              <a:rect l="0" t="0" r="r" b="b"/>
              <a:pathLst>
                <a:path w="367" h="495">
                  <a:moveTo>
                    <a:pt x="0" y="44"/>
                  </a:moveTo>
                  <a:lnTo>
                    <a:pt x="203" y="0"/>
                  </a:lnTo>
                  <a:lnTo>
                    <a:pt x="114" y="133"/>
                  </a:lnTo>
                  <a:lnTo>
                    <a:pt x="269" y="97"/>
                  </a:lnTo>
                  <a:lnTo>
                    <a:pt x="145" y="274"/>
                  </a:lnTo>
                  <a:lnTo>
                    <a:pt x="367" y="309"/>
                  </a:lnTo>
                  <a:lnTo>
                    <a:pt x="195" y="495"/>
                  </a:lnTo>
                  <a:lnTo>
                    <a:pt x="145" y="344"/>
                  </a:lnTo>
                  <a:lnTo>
                    <a:pt x="322" y="309"/>
                  </a:lnTo>
                  <a:lnTo>
                    <a:pt x="88" y="274"/>
                  </a:lnTo>
                  <a:lnTo>
                    <a:pt x="203" y="133"/>
                  </a:lnTo>
                  <a:lnTo>
                    <a:pt x="48" y="150"/>
                  </a:lnTo>
                  <a:lnTo>
                    <a:pt x="114" y="52"/>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3" name=""/>
          <p:cNvSpPr txBox="1"/>
          <p:nvPr/>
        </p:nvSpPr>
        <p:spPr>
          <a:xfrm>
            <a:off x="2362320" y="2819520"/>
            <a:ext cx="5867280" cy="20574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Prepare a corporate income statement.</a:t>
            </a:r>
            <a:endParaRPr b="0" lang="en-US" sz="3200" spc="-1" strike="noStrike">
              <a:solidFill>
                <a:srgbClr val="ffffff"/>
              </a:solidFill>
              <a:latin typeface="Arial"/>
            </a:endParaRPr>
          </a:p>
        </p:txBody>
      </p:sp>
      <p:sp>
        <p:nvSpPr>
          <p:cNvPr id="174" name=""/>
          <p:cNvSpPr txBox="1"/>
          <p:nvPr/>
        </p:nvSpPr>
        <p:spPr>
          <a:xfrm>
            <a:off x="914400" y="838080"/>
            <a:ext cx="784872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Corporate Income Statement</a:t>
            </a:r>
            <a:endParaRPr b="0" lang="en-US" sz="4400" spc="-1" strike="noStrike">
              <a:solidFill>
                <a:srgbClr val="ffffff"/>
              </a:solidFill>
              <a:latin typeface="Arial"/>
            </a:endParaRPr>
          </a:p>
        </p:txBody>
      </p:sp>
      <p:pic>
        <p:nvPicPr>
          <p:cNvPr id="17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6" name=""/>
          <p:cNvSpPr txBox="1"/>
          <p:nvPr/>
        </p:nvSpPr>
        <p:spPr>
          <a:xfrm>
            <a:off x="1447920" y="380880"/>
            <a:ext cx="674064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7" name=""/>
          <p:cNvSpPr txBox="1"/>
          <p:nvPr/>
        </p:nvSpPr>
        <p:spPr>
          <a:xfrm>
            <a:off x="1295280" y="1905120"/>
            <a:ext cx="7445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ither single-step or multistep formats can be us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counting profession has taken the position that income for a period should be all-inclusive comprehensiv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8" name=""/>
          <p:cNvSpPr txBox="1"/>
          <p:nvPr/>
        </p:nvSpPr>
        <p:spPr>
          <a:xfrm>
            <a:off x="1447920" y="22860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9" name=""/>
          <p:cNvSpPr txBox="1"/>
          <p:nvPr/>
        </p:nvSpPr>
        <p:spPr>
          <a:xfrm>
            <a:off x="914400" y="1523880"/>
            <a:ext cx="790272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Comprehensive income</a:t>
            </a:r>
            <a:r>
              <a:rPr b="1" lang="en-US" sz="3200" spc="-1" strike="noStrike">
                <a:solidFill>
                  <a:srgbClr val="fcffd8"/>
                </a:solidFill>
                <a:latin typeface="Arial"/>
                <a:ea typeface="Arial"/>
              </a:rPr>
              <a:t> includes all revenues, expenses, gains, and losses over the period, except for prior period adjust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everal items must be added to the income statement: discontinued operations, extraordinary items, accounting changes, earnings per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0" name=""/>
          <p:cNvSpPr txBox="1"/>
          <p:nvPr/>
        </p:nvSpPr>
        <p:spPr>
          <a:xfrm>
            <a:off x="1752480" y="1143000"/>
            <a:ext cx="5257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81" name=""/>
          <p:cNvSpPr txBox="1"/>
          <p:nvPr/>
        </p:nvSpPr>
        <p:spPr>
          <a:xfrm>
            <a:off x="914400" y="2438280"/>
            <a:ext cx="7772400" cy="373392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efine the concept of comprehensive income.</a:t>
            </a:r>
            <a:endParaRPr b="0" lang="en-US" sz="3200" spc="-1" strike="noStrike">
              <a:solidFill>
                <a:srgbClr val="ffffff"/>
              </a:solidFill>
              <a:latin typeface="Arial"/>
            </a:endParaRPr>
          </a:p>
          <a:p>
            <a:pPr marL="793800" indent="-79380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concept of income or loss for a period that includes all revenues, expenses, gains, and losses, except prior period adjustments.</a:t>
            </a:r>
            <a:endParaRPr b="0" lang="en-US" sz="3200" spc="-1" strike="noStrike">
              <a:solidFill>
                <a:srgbClr val="ffffff"/>
              </a:solidFill>
              <a:latin typeface="Arial"/>
            </a:endParaRPr>
          </a:p>
        </p:txBody>
      </p:sp>
      <p:grpSp>
        <p:nvGrpSpPr>
          <p:cNvPr id="182" name=""/>
          <p:cNvGrpSpPr/>
          <p:nvPr/>
        </p:nvGrpSpPr>
        <p:grpSpPr>
          <a:xfrm>
            <a:off x="6629400" y="304920"/>
            <a:ext cx="2208240" cy="2284560"/>
            <a:chOff x="6629400" y="304920"/>
            <a:chExt cx="2208240" cy="2284560"/>
          </a:xfrm>
        </p:grpSpPr>
        <p:sp>
          <p:nvSpPr>
            <p:cNvPr id="183" name=""/>
            <p:cNvSpPr/>
            <p:nvPr/>
          </p:nvSpPr>
          <p:spPr>
            <a:xfrm>
              <a:off x="6635880" y="1425600"/>
              <a:ext cx="536760" cy="798840"/>
            </a:xfrm>
            <a:custGeom>
              <a:avLst/>
              <a:gdLst/>
              <a:ahLst/>
              <a:rect l="0" t="0" r="r" b="b"/>
              <a:pathLst>
                <a:path w="1491" h="2219">
                  <a:moveTo>
                    <a:pt x="595" y="0"/>
                  </a:moveTo>
                  <a:lnTo>
                    <a:pt x="515" y="97"/>
                  </a:lnTo>
                  <a:lnTo>
                    <a:pt x="515" y="388"/>
                  </a:lnTo>
                  <a:lnTo>
                    <a:pt x="595" y="595"/>
                  </a:lnTo>
                  <a:lnTo>
                    <a:pt x="683" y="701"/>
                  </a:lnTo>
                  <a:lnTo>
                    <a:pt x="551" y="842"/>
                  </a:lnTo>
                  <a:lnTo>
                    <a:pt x="374" y="1165"/>
                  </a:lnTo>
                  <a:lnTo>
                    <a:pt x="30" y="1676"/>
                  </a:lnTo>
                  <a:lnTo>
                    <a:pt x="0" y="1795"/>
                  </a:lnTo>
                  <a:lnTo>
                    <a:pt x="30" y="1901"/>
                  </a:lnTo>
                  <a:lnTo>
                    <a:pt x="136" y="1901"/>
                  </a:lnTo>
                  <a:lnTo>
                    <a:pt x="224" y="1782"/>
                  </a:lnTo>
                  <a:lnTo>
                    <a:pt x="374" y="1495"/>
                  </a:lnTo>
                  <a:lnTo>
                    <a:pt x="463" y="1372"/>
                  </a:lnTo>
                  <a:lnTo>
                    <a:pt x="515" y="1562"/>
                  </a:lnTo>
                  <a:lnTo>
                    <a:pt x="480" y="1764"/>
                  </a:lnTo>
                  <a:lnTo>
                    <a:pt x="330" y="2055"/>
                  </a:lnTo>
                  <a:lnTo>
                    <a:pt x="374" y="2126"/>
                  </a:lnTo>
                  <a:lnTo>
                    <a:pt x="463" y="2104"/>
                  </a:lnTo>
                  <a:lnTo>
                    <a:pt x="648" y="1954"/>
                  </a:lnTo>
                  <a:lnTo>
                    <a:pt x="794" y="1694"/>
                  </a:lnTo>
                  <a:lnTo>
                    <a:pt x="794" y="2144"/>
                  </a:lnTo>
                  <a:lnTo>
                    <a:pt x="971" y="2219"/>
                  </a:lnTo>
                  <a:lnTo>
                    <a:pt x="1076" y="1941"/>
                  </a:lnTo>
                  <a:lnTo>
                    <a:pt x="1169" y="2197"/>
                  </a:lnTo>
                  <a:lnTo>
                    <a:pt x="1240" y="2126"/>
                  </a:lnTo>
                  <a:lnTo>
                    <a:pt x="1275" y="1610"/>
                  </a:lnTo>
                  <a:lnTo>
                    <a:pt x="1491" y="1125"/>
                  </a:lnTo>
                  <a:lnTo>
                    <a:pt x="1442" y="842"/>
                  </a:lnTo>
                  <a:lnTo>
                    <a:pt x="1288" y="740"/>
                  </a:lnTo>
                  <a:lnTo>
                    <a:pt x="1129" y="754"/>
                  </a:lnTo>
                  <a:lnTo>
                    <a:pt x="1076" y="524"/>
                  </a:lnTo>
                  <a:lnTo>
                    <a:pt x="913" y="476"/>
                  </a:lnTo>
                  <a:lnTo>
                    <a:pt x="768" y="401"/>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85160" y="1749600"/>
              <a:ext cx="159120" cy="387720"/>
            </a:xfrm>
            <a:custGeom>
              <a:avLst/>
              <a:gdLst/>
              <a:ahLst/>
              <a:rect l="0" t="0" r="r" b="b"/>
              <a:pathLst>
                <a:path w="442" h="1077">
                  <a:moveTo>
                    <a:pt x="221" y="0"/>
                  </a:moveTo>
                  <a:lnTo>
                    <a:pt x="442" y="278"/>
                  </a:lnTo>
                  <a:lnTo>
                    <a:pt x="332" y="883"/>
                  </a:lnTo>
                  <a:lnTo>
                    <a:pt x="0" y="1077"/>
                  </a:lnTo>
                  <a:lnTo>
                    <a:pt x="0" y="772"/>
                  </a:lnTo>
                  <a:lnTo>
                    <a:pt x="133" y="459"/>
                  </a:lnTo>
                  <a:lnTo>
                    <a:pt x="221" y="224"/>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8112240" y="1528920"/>
              <a:ext cx="397080" cy="348120"/>
            </a:xfrm>
            <a:custGeom>
              <a:avLst/>
              <a:gdLst/>
              <a:ahLst/>
              <a:rect l="0" t="0" r="r" b="b"/>
              <a:pathLst>
                <a:path w="1103" h="967">
                  <a:moveTo>
                    <a:pt x="454" y="0"/>
                  </a:moveTo>
                  <a:lnTo>
                    <a:pt x="454" y="154"/>
                  </a:lnTo>
                  <a:lnTo>
                    <a:pt x="493" y="292"/>
                  </a:lnTo>
                  <a:lnTo>
                    <a:pt x="706" y="521"/>
                  </a:lnTo>
                  <a:lnTo>
                    <a:pt x="1103" y="653"/>
                  </a:lnTo>
                  <a:lnTo>
                    <a:pt x="1050" y="945"/>
                  </a:lnTo>
                  <a:lnTo>
                    <a:pt x="706" y="967"/>
                  </a:lnTo>
                  <a:lnTo>
                    <a:pt x="211" y="756"/>
                  </a:lnTo>
                  <a:lnTo>
                    <a:pt x="0" y="384"/>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8271000" y="1133640"/>
              <a:ext cx="552960" cy="768600"/>
            </a:xfrm>
            <a:custGeom>
              <a:avLst/>
              <a:gdLst/>
              <a:ahLst/>
              <a:rect l="0" t="0" r="r" b="b"/>
              <a:pathLst>
                <a:path w="1536" h="2135">
                  <a:moveTo>
                    <a:pt x="136" y="903"/>
                  </a:moveTo>
                  <a:lnTo>
                    <a:pt x="0" y="1058"/>
                  </a:lnTo>
                  <a:lnTo>
                    <a:pt x="30" y="1407"/>
                  </a:lnTo>
                  <a:lnTo>
                    <a:pt x="242" y="1566"/>
                  </a:lnTo>
                  <a:lnTo>
                    <a:pt x="260" y="2095"/>
                  </a:lnTo>
                  <a:lnTo>
                    <a:pt x="477" y="2095"/>
                  </a:lnTo>
                  <a:lnTo>
                    <a:pt x="464" y="1650"/>
                  </a:lnTo>
                  <a:lnTo>
                    <a:pt x="622" y="2113"/>
                  </a:lnTo>
                  <a:lnTo>
                    <a:pt x="728" y="2135"/>
                  </a:lnTo>
                  <a:lnTo>
                    <a:pt x="807" y="1976"/>
                  </a:lnTo>
                  <a:lnTo>
                    <a:pt x="821" y="1685"/>
                  </a:lnTo>
                  <a:lnTo>
                    <a:pt x="1059" y="1958"/>
                  </a:lnTo>
                  <a:lnTo>
                    <a:pt x="1151" y="1936"/>
                  </a:lnTo>
                  <a:lnTo>
                    <a:pt x="1129" y="1747"/>
                  </a:lnTo>
                  <a:lnTo>
                    <a:pt x="1041" y="1478"/>
                  </a:lnTo>
                  <a:lnTo>
                    <a:pt x="949" y="1301"/>
                  </a:lnTo>
                  <a:lnTo>
                    <a:pt x="984" y="1178"/>
                  </a:lnTo>
                  <a:lnTo>
                    <a:pt x="1041" y="1200"/>
                  </a:lnTo>
                  <a:lnTo>
                    <a:pt x="1254" y="1478"/>
                  </a:lnTo>
                  <a:lnTo>
                    <a:pt x="1488" y="1548"/>
                  </a:lnTo>
                  <a:lnTo>
                    <a:pt x="1536" y="1460"/>
                  </a:lnTo>
                  <a:lnTo>
                    <a:pt x="1501" y="1319"/>
                  </a:lnTo>
                  <a:lnTo>
                    <a:pt x="1072" y="886"/>
                  </a:lnTo>
                  <a:lnTo>
                    <a:pt x="728" y="754"/>
                  </a:lnTo>
                  <a:lnTo>
                    <a:pt x="688" y="515"/>
                  </a:lnTo>
                  <a:lnTo>
                    <a:pt x="807" y="299"/>
                  </a:lnTo>
                  <a:lnTo>
                    <a:pt x="807" y="70"/>
                  </a:lnTo>
                  <a:lnTo>
                    <a:pt x="710" y="0"/>
                  </a:lnTo>
                  <a:lnTo>
                    <a:pt x="464" y="577"/>
                  </a:lnTo>
                  <a:lnTo>
                    <a:pt x="242" y="665"/>
                  </a:lnTo>
                  <a:lnTo>
                    <a:pt x="189" y="820"/>
                  </a:lnTo>
                  <a:lnTo>
                    <a:pt x="136"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364520" y="466560"/>
              <a:ext cx="603720" cy="983160"/>
            </a:xfrm>
            <a:custGeom>
              <a:avLst/>
              <a:gdLst/>
              <a:ahLst/>
              <a:rect l="0" t="0" r="r" b="b"/>
              <a:pathLst>
                <a:path w="1677" h="2731">
                  <a:moveTo>
                    <a:pt x="418" y="379"/>
                  </a:moveTo>
                  <a:lnTo>
                    <a:pt x="295" y="900"/>
                  </a:lnTo>
                  <a:lnTo>
                    <a:pt x="17" y="1006"/>
                  </a:lnTo>
                  <a:lnTo>
                    <a:pt x="92" y="1173"/>
                  </a:lnTo>
                  <a:lnTo>
                    <a:pt x="0" y="1275"/>
                  </a:lnTo>
                  <a:lnTo>
                    <a:pt x="0" y="1465"/>
                  </a:lnTo>
                  <a:lnTo>
                    <a:pt x="132" y="1637"/>
                  </a:lnTo>
                  <a:lnTo>
                    <a:pt x="260" y="1637"/>
                  </a:lnTo>
                  <a:lnTo>
                    <a:pt x="348" y="2246"/>
                  </a:lnTo>
                  <a:lnTo>
                    <a:pt x="455" y="2506"/>
                  </a:lnTo>
                  <a:lnTo>
                    <a:pt x="799" y="2731"/>
                  </a:lnTo>
                  <a:lnTo>
                    <a:pt x="1138" y="2696"/>
                  </a:lnTo>
                  <a:lnTo>
                    <a:pt x="1302" y="2246"/>
                  </a:lnTo>
                  <a:lnTo>
                    <a:pt x="1342" y="1553"/>
                  </a:lnTo>
                  <a:lnTo>
                    <a:pt x="1677" y="1209"/>
                  </a:lnTo>
                  <a:lnTo>
                    <a:pt x="1660" y="1072"/>
                  </a:lnTo>
                  <a:lnTo>
                    <a:pt x="1624" y="1006"/>
                  </a:lnTo>
                  <a:lnTo>
                    <a:pt x="1448" y="988"/>
                  </a:lnTo>
                  <a:lnTo>
                    <a:pt x="1501" y="812"/>
                  </a:lnTo>
                  <a:lnTo>
                    <a:pt x="1324" y="693"/>
                  </a:lnTo>
                  <a:lnTo>
                    <a:pt x="1248" y="299"/>
                  </a:lnTo>
                  <a:lnTo>
                    <a:pt x="728" y="0"/>
                  </a:lnTo>
                  <a:lnTo>
                    <a:pt x="455" y="277"/>
                  </a:lnTo>
                  <a:lnTo>
                    <a:pt x="418"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408800" y="1285920"/>
              <a:ext cx="552960" cy="1173600"/>
            </a:xfrm>
            <a:custGeom>
              <a:avLst/>
              <a:gdLst/>
              <a:ahLst/>
              <a:rect l="0" t="0" r="r" b="b"/>
              <a:pathLst>
                <a:path w="1536" h="3260">
                  <a:moveTo>
                    <a:pt x="313" y="171"/>
                  </a:moveTo>
                  <a:lnTo>
                    <a:pt x="534" y="326"/>
                  </a:lnTo>
                  <a:lnTo>
                    <a:pt x="640" y="498"/>
                  </a:lnTo>
                  <a:lnTo>
                    <a:pt x="1254" y="0"/>
                  </a:lnTo>
                  <a:lnTo>
                    <a:pt x="1448" y="101"/>
                  </a:lnTo>
                  <a:lnTo>
                    <a:pt x="1536" y="617"/>
                  </a:lnTo>
                  <a:lnTo>
                    <a:pt x="1090" y="2117"/>
                  </a:lnTo>
                  <a:lnTo>
                    <a:pt x="1236" y="2947"/>
                  </a:lnTo>
                  <a:lnTo>
                    <a:pt x="653" y="3260"/>
                  </a:lnTo>
                  <a:lnTo>
                    <a:pt x="207" y="3084"/>
                  </a:lnTo>
                  <a:lnTo>
                    <a:pt x="207" y="2205"/>
                  </a:lnTo>
                  <a:lnTo>
                    <a:pt x="0" y="1354"/>
                  </a:lnTo>
                  <a:lnTo>
                    <a:pt x="207" y="326"/>
                  </a:lnTo>
                  <a:lnTo>
                    <a:pt x="313"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432560" y="336600"/>
              <a:ext cx="516240" cy="309960"/>
            </a:xfrm>
            <a:custGeom>
              <a:avLst/>
              <a:gdLst/>
              <a:ahLst/>
              <a:rect l="0" t="0" r="r" b="b"/>
              <a:pathLst>
                <a:path w="1434" h="861">
                  <a:moveTo>
                    <a:pt x="176" y="822"/>
                  </a:moveTo>
                  <a:lnTo>
                    <a:pt x="388" y="591"/>
                  </a:lnTo>
                  <a:lnTo>
                    <a:pt x="520" y="556"/>
                  </a:lnTo>
                  <a:lnTo>
                    <a:pt x="520" y="578"/>
                  </a:lnTo>
                  <a:lnTo>
                    <a:pt x="586" y="556"/>
                  </a:lnTo>
                  <a:lnTo>
                    <a:pt x="674" y="627"/>
                  </a:lnTo>
                  <a:lnTo>
                    <a:pt x="847" y="659"/>
                  </a:lnTo>
                  <a:lnTo>
                    <a:pt x="984" y="861"/>
                  </a:lnTo>
                  <a:lnTo>
                    <a:pt x="1209" y="773"/>
                  </a:lnTo>
                  <a:lnTo>
                    <a:pt x="1209" y="681"/>
                  </a:lnTo>
                  <a:lnTo>
                    <a:pt x="1434" y="578"/>
                  </a:lnTo>
                  <a:lnTo>
                    <a:pt x="1368" y="415"/>
                  </a:lnTo>
                  <a:lnTo>
                    <a:pt x="1151" y="402"/>
                  </a:lnTo>
                  <a:lnTo>
                    <a:pt x="1187" y="225"/>
                  </a:lnTo>
                  <a:lnTo>
                    <a:pt x="1006" y="243"/>
                  </a:lnTo>
                  <a:lnTo>
                    <a:pt x="971" y="123"/>
                  </a:lnTo>
                  <a:lnTo>
                    <a:pt x="847" y="123"/>
                  </a:lnTo>
                  <a:lnTo>
                    <a:pt x="759" y="189"/>
                  </a:lnTo>
                  <a:lnTo>
                    <a:pt x="674" y="189"/>
                  </a:lnTo>
                  <a:lnTo>
                    <a:pt x="692" y="0"/>
                  </a:lnTo>
                  <a:lnTo>
                    <a:pt x="520" y="88"/>
                  </a:lnTo>
                  <a:lnTo>
                    <a:pt x="282" y="402"/>
                  </a:lnTo>
                  <a:lnTo>
                    <a:pt x="268" y="189"/>
                  </a:lnTo>
                  <a:lnTo>
                    <a:pt x="141" y="292"/>
                  </a:lnTo>
                  <a:lnTo>
                    <a:pt x="110" y="556"/>
                  </a:lnTo>
                  <a:lnTo>
                    <a:pt x="0" y="508"/>
                  </a:lnTo>
                  <a:lnTo>
                    <a:pt x="17" y="681"/>
                  </a:lnTo>
                  <a:lnTo>
                    <a:pt x="176"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72240" y="1503360"/>
              <a:ext cx="163800" cy="887760"/>
            </a:xfrm>
            <a:custGeom>
              <a:avLst/>
              <a:gdLst/>
              <a:ahLst/>
              <a:rect l="0" t="0" r="r" b="b"/>
              <a:pathLst>
                <a:path w="455" h="2466">
                  <a:moveTo>
                    <a:pt x="234" y="13"/>
                  </a:moveTo>
                  <a:lnTo>
                    <a:pt x="79" y="123"/>
                  </a:lnTo>
                  <a:lnTo>
                    <a:pt x="79" y="326"/>
                  </a:lnTo>
                  <a:lnTo>
                    <a:pt x="189" y="396"/>
                  </a:lnTo>
                  <a:lnTo>
                    <a:pt x="39" y="723"/>
                  </a:lnTo>
                  <a:lnTo>
                    <a:pt x="0" y="1155"/>
                  </a:lnTo>
                  <a:lnTo>
                    <a:pt x="114" y="1725"/>
                  </a:lnTo>
                  <a:lnTo>
                    <a:pt x="114" y="1967"/>
                  </a:lnTo>
                  <a:lnTo>
                    <a:pt x="52" y="2148"/>
                  </a:lnTo>
                  <a:lnTo>
                    <a:pt x="287" y="2466"/>
                  </a:lnTo>
                  <a:lnTo>
                    <a:pt x="437" y="1985"/>
                  </a:lnTo>
                  <a:lnTo>
                    <a:pt x="437" y="1659"/>
                  </a:lnTo>
                  <a:lnTo>
                    <a:pt x="327" y="1350"/>
                  </a:lnTo>
                  <a:lnTo>
                    <a:pt x="269" y="930"/>
                  </a:lnTo>
                  <a:lnTo>
                    <a:pt x="384" y="524"/>
                  </a:lnTo>
                  <a:lnTo>
                    <a:pt x="344" y="361"/>
                  </a:lnTo>
                  <a:lnTo>
                    <a:pt x="455" y="277"/>
                  </a:lnTo>
                  <a:lnTo>
                    <a:pt x="437" y="171"/>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66120" y="1204920"/>
              <a:ext cx="133560" cy="82800"/>
            </a:xfrm>
            <a:custGeom>
              <a:avLst/>
              <a:gdLst/>
              <a:ahLst/>
              <a:rect l="0" t="0" r="r" b="b"/>
              <a:pathLst>
                <a:path w="371" h="230">
                  <a:moveTo>
                    <a:pt x="0" y="70"/>
                  </a:moveTo>
                  <a:lnTo>
                    <a:pt x="145" y="230"/>
                  </a:lnTo>
                  <a:lnTo>
                    <a:pt x="296" y="208"/>
                  </a:lnTo>
                  <a:lnTo>
                    <a:pt x="371" y="22"/>
                  </a:lnTo>
                  <a:lnTo>
                    <a:pt x="208"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192" name=""/>
            <p:cNvSpPr/>
            <p:nvPr/>
          </p:nvSpPr>
          <p:spPr>
            <a:xfrm>
              <a:off x="7421400" y="797040"/>
              <a:ext cx="163800" cy="173520"/>
            </a:xfrm>
            <a:custGeom>
              <a:avLst/>
              <a:gdLst/>
              <a:ahLst/>
              <a:rect l="0" t="0" r="r" b="b"/>
              <a:pathLst>
                <a:path w="455" h="482">
                  <a:moveTo>
                    <a:pt x="0" y="52"/>
                  </a:moveTo>
                  <a:lnTo>
                    <a:pt x="314" y="482"/>
                  </a:lnTo>
                  <a:lnTo>
                    <a:pt x="455" y="447"/>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10480" y="758880"/>
              <a:ext cx="143280" cy="173520"/>
            </a:xfrm>
            <a:custGeom>
              <a:avLst/>
              <a:gdLst/>
              <a:ahLst/>
              <a:rect l="0" t="0" r="r" b="b"/>
              <a:pathLst>
                <a:path w="398" h="482">
                  <a:moveTo>
                    <a:pt x="0" y="70"/>
                  </a:moveTo>
                  <a:lnTo>
                    <a:pt x="274" y="482"/>
                  </a:lnTo>
                  <a:lnTo>
                    <a:pt x="398"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361280" y="534960"/>
              <a:ext cx="574920" cy="435240"/>
            </a:xfrm>
            <a:custGeom>
              <a:avLst/>
              <a:gdLst/>
              <a:ahLst/>
              <a:rect l="0" t="0" r="r" b="b"/>
              <a:pathLst>
                <a:path w="1597" h="1209">
                  <a:moveTo>
                    <a:pt x="732" y="719"/>
                  </a:moveTo>
                  <a:lnTo>
                    <a:pt x="586" y="675"/>
                  </a:lnTo>
                  <a:lnTo>
                    <a:pt x="714" y="564"/>
                  </a:lnTo>
                  <a:lnTo>
                    <a:pt x="665" y="507"/>
                  </a:lnTo>
                  <a:lnTo>
                    <a:pt x="502" y="649"/>
                  </a:lnTo>
                  <a:lnTo>
                    <a:pt x="202" y="684"/>
                  </a:lnTo>
                  <a:lnTo>
                    <a:pt x="0" y="693"/>
                  </a:lnTo>
                  <a:lnTo>
                    <a:pt x="0" y="860"/>
                  </a:lnTo>
                  <a:lnTo>
                    <a:pt x="194" y="1200"/>
                  </a:lnTo>
                  <a:lnTo>
                    <a:pt x="238" y="1209"/>
                  </a:lnTo>
                  <a:lnTo>
                    <a:pt x="66" y="834"/>
                  </a:lnTo>
                  <a:lnTo>
                    <a:pt x="330" y="719"/>
                  </a:lnTo>
                  <a:lnTo>
                    <a:pt x="502" y="719"/>
                  </a:lnTo>
                  <a:lnTo>
                    <a:pt x="630" y="790"/>
                  </a:lnTo>
                  <a:lnTo>
                    <a:pt x="665" y="896"/>
                  </a:lnTo>
                  <a:lnTo>
                    <a:pt x="665" y="1125"/>
                  </a:lnTo>
                  <a:lnTo>
                    <a:pt x="665" y="1200"/>
                  </a:lnTo>
                  <a:lnTo>
                    <a:pt x="740" y="1090"/>
                  </a:lnTo>
                  <a:lnTo>
                    <a:pt x="740" y="852"/>
                  </a:lnTo>
                  <a:lnTo>
                    <a:pt x="856" y="852"/>
                  </a:lnTo>
                  <a:lnTo>
                    <a:pt x="909" y="1125"/>
                  </a:lnTo>
                  <a:lnTo>
                    <a:pt x="971" y="1151"/>
                  </a:lnTo>
                  <a:lnTo>
                    <a:pt x="1165" y="1151"/>
                  </a:lnTo>
                  <a:lnTo>
                    <a:pt x="1363" y="1099"/>
                  </a:lnTo>
                  <a:lnTo>
                    <a:pt x="1500" y="997"/>
                  </a:lnTo>
                  <a:lnTo>
                    <a:pt x="1522" y="750"/>
                  </a:lnTo>
                  <a:lnTo>
                    <a:pt x="1597" y="649"/>
                  </a:lnTo>
                  <a:lnTo>
                    <a:pt x="1553" y="582"/>
                  </a:lnTo>
                  <a:lnTo>
                    <a:pt x="1376" y="515"/>
                  </a:lnTo>
                  <a:lnTo>
                    <a:pt x="1345" y="268"/>
                  </a:lnTo>
                  <a:lnTo>
                    <a:pt x="1178" y="268"/>
                  </a:lnTo>
                  <a:lnTo>
                    <a:pt x="979" y="0"/>
                  </a:lnTo>
                  <a:lnTo>
                    <a:pt x="1160" y="299"/>
                  </a:lnTo>
                  <a:lnTo>
                    <a:pt x="1222" y="299"/>
                  </a:lnTo>
                  <a:lnTo>
                    <a:pt x="1257" y="507"/>
                  </a:lnTo>
                  <a:lnTo>
                    <a:pt x="1032" y="582"/>
                  </a:lnTo>
                  <a:lnTo>
                    <a:pt x="869" y="524"/>
                  </a:lnTo>
                  <a:lnTo>
                    <a:pt x="843" y="582"/>
                  </a:lnTo>
                  <a:lnTo>
                    <a:pt x="931" y="649"/>
                  </a:lnTo>
                  <a:lnTo>
                    <a:pt x="931" y="706"/>
                  </a:lnTo>
                  <a:lnTo>
                    <a:pt x="1125" y="613"/>
                  </a:lnTo>
                  <a:lnTo>
                    <a:pt x="1284" y="599"/>
                  </a:lnTo>
                  <a:lnTo>
                    <a:pt x="1465" y="622"/>
                  </a:lnTo>
                  <a:lnTo>
                    <a:pt x="1465" y="658"/>
                  </a:lnTo>
                  <a:lnTo>
                    <a:pt x="1381" y="741"/>
                  </a:lnTo>
                  <a:lnTo>
                    <a:pt x="1345" y="852"/>
                  </a:lnTo>
                  <a:lnTo>
                    <a:pt x="1337" y="997"/>
                  </a:lnTo>
                  <a:lnTo>
                    <a:pt x="1231" y="1054"/>
                  </a:lnTo>
                  <a:lnTo>
                    <a:pt x="1076" y="1076"/>
                  </a:lnTo>
                  <a:lnTo>
                    <a:pt x="971" y="1076"/>
                  </a:lnTo>
                  <a:lnTo>
                    <a:pt x="935" y="1032"/>
                  </a:lnTo>
                  <a:lnTo>
                    <a:pt x="909" y="750"/>
                  </a:lnTo>
                  <a:lnTo>
                    <a:pt x="740" y="750"/>
                  </a:lnTo>
                  <a:lnTo>
                    <a:pt x="732"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58200" y="1036800"/>
              <a:ext cx="186120" cy="87840"/>
            </a:xfrm>
            <a:custGeom>
              <a:avLst/>
              <a:gdLst/>
              <a:ahLst/>
              <a:rect l="0" t="0" r="r" b="b"/>
              <a:pathLst>
                <a:path w="517" h="244">
                  <a:moveTo>
                    <a:pt x="0" y="0"/>
                  </a:moveTo>
                  <a:lnTo>
                    <a:pt x="83" y="111"/>
                  </a:lnTo>
                  <a:lnTo>
                    <a:pt x="305" y="111"/>
                  </a:lnTo>
                  <a:lnTo>
                    <a:pt x="398" y="35"/>
                  </a:lnTo>
                  <a:lnTo>
                    <a:pt x="517" y="35"/>
                  </a:lnTo>
                  <a:lnTo>
                    <a:pt x="495" y="71"/>
                  </a:lnTo>
                  <a:lnTo>
                    <a:pt x="495" y="111"/>
                  </a:lnTo>
                  <a:lnTo>
                    <a:pt x="287" y="244"/>
                  </a:lnTo>
                  <a:lnTo>
                    <a:pt x="172" y="244"/>
                  </a:lnTo>
                  <a:lnTo>
                    <a:pt x="110" y="196"/>
                  </a:lnTo>
                  <a:lnTo>
                    <a:pt x="44"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196" name=""/>
            <p:cNvSpPr/>
            <p:nvPr/>
          </p:nvSpPr>
          <p:spPr>
            <a:xfrm>
              <a:off x="7351560" y="893880"/>
              <a:ext cx="281520" cy="466920"/>
            </a:xfrm>
            <a:custGeom>
              <a:avLst/>
              <a:gdLst/>
              <a:ahLst/>
              <a:rect l="0" t="0" r="r" b="b"/>
              <a:pathLst>
                <a:path w="782" h="1297">
                  <a:moveTo>
                    <a:pt x="782" y="92"/>
                  </a:moveTo>
                  <a:lnTo>
                    <a:pt x="782" y="114"/>
                  </a:lnTo>
                  <a:lnTo>
                    <a:pt x="645" y="242"/>
                  </a:lnTo>
                  <a:lnTo>
                    <a:pt x="530" y="268"/>
                  </a:lnTo>
                  <a:lnTo>
                    <a:pt x="309" y="233"/>
                  </a:lnTo>
                  <a:lnTo>
                    <a:pt x="353" y="702"/>
                  </a:lnTo>
                  <a:lnTo>
                    <a:pt x="402" y="1085"/>
                  </a:lnTo>
                  <a:lnTo>
                    <a:pt x="494" y="1297"/>
                  </a:lnTo>
                  <a:lnTo>
                    <a:pt x="402" y="1147"/>
                  </a:lnTo>
                  <a:lnTo>
                    <a:pt x="367" y="984"/>
                  </a:lnTo>
                  <a:lnTo>
                    <a:pt x="305" y="546"/>
                  </a:lnTo>
                  <a:lnTo>
                    <a:pt x="239" y="573"/>
                  </a:lnTo>
                  <a:lnTo>
                    <a:pt x="163" y="524"/>
                  </a:lnTo>
                  <a:lnTo>
                    <a:pt x="17" y="295"/>
                  </a:lnTo>
                  <a:lnTo>
                    <a:pt x="0" y="167"/>
                  </a:lnTo>
                  <a:lnTo>
                    <a:pt x="0" y="79"/>
                  </a:lnTo>
                  <a:lnTo>
                    <a:pt x="35" y="26"/>
                  </a:lnTo>
                  <a:lnTo>
                    <a:pt x="123" y="0"/>
                  </a:lnTo>
                  <a:lnTo>
                    <a:pt x="132" y="35"/>
                  </a:lnTo>
                  <a:lnTo>
                    <a:pt x="61" y="57"/>
                  </a:lnTo>
                  <a:lnTo>
                    <a:pt x="44" y="154"/>
                  </a:lnTo>
                  <a:lnTo>
                    <a:pt x="52" y="277"/>
                  </a:lnTo>
                  <a:lnTo>
                    <a:pt x="154" y="388"/>
                  </a:lnTo>
                  <a:lnTo>
                    <a:pt x="203" y="361"/>
                  </a:lnTo>
                  <a:lnTo>
                    <a:pt x="203" y="127"/>
                  </a:lnTo>
                  <a:lnTo>
                    <a:pt x="296" y="176"/>
                  </a:lnTo>
                  <a:lnTo>
                    <a:pt x="437" y="211"/>
                  </a:lnTo>
                  <a:lnTo>
                    <a:pt x="569" y="198"/>
                  </a:lnTo>
                  <a:lnTo>
                    <a:pt x="694" y="127"/>
                  </a:lnTo>
                  <a:lnTo>
                    <a:pt x="78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426440" y="523800"/>
              <a:ext cx="86040" cy="248040"/>
            </a:xfrm>
            <a:custGeom>
              <a:avLst/>
              <a:gdLst/>
              <a:ahLst/>
              <a:rect l="0" t="0" r="r" b="b"/>
              <a:pathLst>
                <a:path w="239" h="689">
                  <a:moveTo>
                    <a:pt x="124" y="689"/>
                  </a:moveTo>
                  <a:lnTo>
                    <a:pt x="239" y="283"/>
                  </a:lnTo>
                  <a:lnTo>
                    <a:pt x="30" y="136"/>
                  </a:lnTo>
                  <a:lnTo>
                    <a:pt x="0" y="0"/>
                  </a:lnTo>
                  <a:lnTo>
                    <a:pt x="17" y="167"/>
                  </a:lnTo>
                  <a:lnTo>
                    <a:pt x="83" y="234"/>
                  </a:lnTo>
                  <a:lnTo>
                    <a:pt x="92"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423200" y="304920"/>
              <a:ext cx="632160" cy="329040"/>
            </a:xfrm>
            <a:custGeom>
              <a:avLst/>
              <a:gdLst/>
              <a:ahLst/>
              <a:rect l="0" t="0" r="r" b="b"/>
              <a:pathLst>
                <a:path w="1756" h="914">
                  <a:moveTo>
                    <a:pt x="17" y="618"/>
                  </a:moveTo>
                  <a:lnTo>
                    <a:pt x="167" y="711"/>
                  </a:lnTo>
                  <a:lnTo>
                    <a:pt x="149" y="596"/>
                  </a:lnTo>
                  <a:lnTo>
                    <a:pt x="180" y="389"/>
                  </a:lnTo>
                  <a:lnTo>
                    <a:pt x="282" y="344"/>
                  </a:lnTo>
                  <a:lnTo>
                    <a:pt x="295" y="565"/>
                  </a:lnTo>
                  <a:lnTo>
                    <a:pt x="586" y="176"/>
                  </a:lnTo>
                  <a:lnTo>
                    <a:pt x="661" y="149"/>
                  </a:lnTo>
                  <a:lnTo>
                    <a:pt x="604" y="305"/>
                  </a:lnTo>
                  <a:lnTo>
                    <a:pt x="789" y="380"/>
                  </a:lnTo>
                  <a:lnTo>
                    <a:pt x="922" y="224"/>
                  </a:lnTo>
                  <a:lnTo>
                    <a:pt x="997" y="269"/>
                  </a:lnTo>
                  <a:lnTo>
                    <a:pt x="931" y="402"/>
                  </a:lnTo>
                  <a:lnTo>
                    <a:pt x="1019" y="331"/>
                  </a:lnTo>
                  <a:lnTo>
                    <a:pt x="1151" y="389"/>
                  </a:lnTo>
                  <a:lnTo>
                    <a:pt x="1046" y="494"/>
                  </a:lnTo>
                  <a:lnTo>
                    <a:pt x="1407" y="565"/>
                  </a:lnTo>
                  <a:lnTo>
                    <a:pt x="1165" y="644"/>
                  </a:lnTo>
                  <a:lnTo>
                    <a:pt x="1465" y="689"/>
                  </a:lnTo>
                  <a:lnTo>
                    <a:pt x="1107" y="778"/>
                  </a:lnTo>
                  <a:lnTo>
                    <a:pt x="1187" y="844"/>
                  </a:lnTo>
                  <a:lnTo>
                    <a:pt x="1081" y="914"/>
                  </a:lnTo>
                  <a:lnTo>
                    <a:pt x="1266" y="914"/>
                  </a:lnTo>
                  <a:lnTo>
                    <a:pt x="1248" y="861"/>
                  </a:lnTo>
                  <a:lnTo>
                    <a:pt x="1438" y="910"/>
                  </a:lnTo>
                  <a:lnTo>
                    <a:pt x="1407" y="760"/>
                  </a:lnTo>
                  <a:lnTo>
                    <a:pt x="1584" y="698"/>
                  </a:lnTo>
                  <a:lnTo>
                    <a:pt x="1456" y="627"/>
                  </a:lnTo>
                  <a:lnTo>
                    <a:pt x="1756" y="609"/>
                  </a:lnTo>
                  <a:lnTo>
                    <a:pt x="1500" y="464"/>
                  </a:lnTo>
                  <a:lnTo>
                    <a:pt x="1204" y="428"/>
                  </a:lnTo>
                  <a:lnTo>
                    <a:pt x="1438" y="278"/>
                  </a:lnTo>
                  <a:lnTo>
                    <a:pt x="1019" y="278"/>
                  </a:lnTo>
                  <a:lnTo>
                    <a:pt x="1218" y="136"/>
                  </a:lnTo>
                  <a:lnTo>
                    <a:pt x="918" y="176"/>
                  </a:lnTo>
                  <a:lnTo>
                    <a:pt x="771" y="247"/>
                  </a:lnTo>
                  <a:lnTo>
                    <a:pt x="896" y="0"/>
                  </a:lnTo>
                  <a:lnTo>
                    <a:pt x="529" y="136"/>
                  </a:lnTo>
                  <a:lnTo>
                    <a:pt x="326" y="437"/>
                  </a:lnTo>
                  <a:lnTo>
                    <a:pt x="295" y="269"/>
                  </a:lnTo>
                  <a:lnTo>
                    <a:pt x="132" y="389"/>
                  </a:lnTo>
                  <a:lnTo>
                    <a:pt x="110"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561440" y="479520"/>
              <a:ext cx="178200" cy="98640"/>
            </a:xfrm>
            <a:custGeom>
              <a:avLst/>
              <a:gdLst/>
              <a:ahLst/>
              <a:rect l="0" t="0" r="r" b="b"/>
              <a:pathLst>
                <a:path w="495" h="274">
                  <a:moveTo>
                    <a:pt x="0" y="274"/>
                  </a:moveTo>
                  <a:lnTo>
                    <a:pt x="186" y="0"/>
                  </a:lnTo>
                  <a:lnTo>
                    <a:pt x="186" y="181"/>
                  </a:lnTo>
                  <a:lnTo>
                    <a:pt x="252" y="105"/>
                  </a:lnTo>
                  <a:lnTo>
                    <a:pt x="309" y="212"/>
                  </a:lnTo>
                  <a:lnTo>
                    <a:pt x="495" y="261"/>
                  </a:lnTo>
                  <a:lnTo>
                    <a:pt x="296" y="225"/>
                  </a:lnTo>
                  <a:lnTo>
                    <a:pt x="239" y="155"/>
                  </a:lnTo>
                  <a:lnTo>
                    <a:pt x="155" y="225"/>
                  </a:lnTo>
                  <a:lnTo>
                    <a:pt x="155"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00" name=""/>
            <p:cNvSpPr/>
            <p:nvPr/>
          </p:nvSpPr>
          <p:spPr>
            <a:xfrm>
              <a:off x="7545240" y="1150920"/>
              <a:ext cx="214560" cy="146520"/>
            </a:xfrm>
            <a:custGeom>
              <a:avLst/>
              <a:gdLst/>
              <a:ahLst/>
              <a:rect l="0" t="0" r="r" b="b"/>
              <a:pathLst>
                <a:path w="596" h="407">
                  <a:moveTo>
                    <a:pt x="114" y="142"/>
                  </a:moveTo>
                  <a:lnTo>
                    <a:pt x="358" y="124"/>
                  </a:lnTo>
                  <a:lnTo>
                    <a:pt x="472" y="150"/>
                  </a:lnTo>
                  <a:lnTo>
                    <a:pt x="534" y="92"/>
                  </a:lnTo>
                  <a:lnTo>
                    <a:pt x="596" y="225"/>
                  </a:lnTo>
                  <a:lnTo>
                    <a:pt x="556" y="247"/>
                  </a:lnTo>
                  <a:lnTo>
                    <a:pt x="503" y="199"/>
                  </a:lnTo>
                  <a:lnTo>
                    <a:pt x="424" y="292"/>
                  </a:lnTo>
                  <a:lnTo>
                    <a:pt x="277" y="407"/>
                  </a:lnTo>
                  <a:lnTo>
                    <a:pt x="211" y="407"/>
                  </a:lnTo>
                  <a:lnTo>
                    <a:pt x="114" y="350"/>
                  </a:lnTo>
                  <a:lnTo>
                    <a:pt x="220" y="398"/>
                  </a:lnTo>
                  <a:lnTo>
                    <a:pt x="264" y="398"/>
                  </a:lnTo>
                  <a:lnTo>
                    <a:pt x="358" y="323"/>
                  </a:lnTo>
                  <a:lnTo>
                    <a:pt x="419" y="186"/>
                  </a:lnTo>
                  <a:lnTo>
                    <a:pt x="322" y="168"/>
                  </a:lnTo>
                  <a:lnTo>
                    <a:pt x="260" y="150"/>
                  </a:lnTo>
                  <a:lnTo>
                    <a:pt x="101" y="177"/>
                  </a:lnTo>
                  <a:lnTo>
                    <a:pt x="97" y="283"/>
                  </a:lnTo>
                  <a:lnTo>
                    <a:pt x="44" y="217"/>
                  </a:lnTo>
                  <a:lnTo>
                    <a:pt x="0" y="310"/>
                  </a:lnTo>
                  <a:lnTo>
                    <a:pt x="4" y="106"/>
                  </a:lnTo>
                  <a:lnTo>
                    <a:pt x="61" y="0"/>
                  </a:lnTo>
                  <a:lnTo>
                    <a:pt x="114" y="106"/>
                  </a:lnTo>
                  <a:lnTo>
                    <a:pt x="114"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16800" y="831960"/>
              <a:ext cx="460800" cy="679680"/>
            </a:xfrm>
            <a:custGeom>
              <a:avLst/>
              <a:gdLst/>
              <a:ahLst/>
              <a:rect l="0" t="0" r="r" b="b"/>
              <a:pathLst>
                <a:path w="1280" h="1888">
                  <a:moveTo>
                    <a:pt x="1077" y="0"/>
                  </a:moveTo>
                  <a:lnTo>
                    <a:pt x="1205" y="0"/>
                  </a:lnTo>
                  <a:lnTo>
                    <a:pt x="1280" y="92"/>
                  </a:lnTo>
                  <a:lnTo>
                    <a:pt x="1280" y="194"/>
                  </a:lnTo>
                  <a:lnTo>
                    <a:pt x="1174" y="489"/>
                  </a:lnTo>
                  <a:lnTo>
                    <a:pt x="1069" y="630"/>
                  </a:lnTo>
                  <a:lnTo>
                    <a:pt x="963" y="652"/>
                  </a:lnTo>
                  <a:lnTo>
                    <a:pt x="931" y="652"/>
                  </a:lnTo>
                  <a:lnTo>
                    <a:pt x="931" y="1024"/>
                  </a:lnTo>
                  <a:lnTo>
                    <a:pt x="980" y="1293"/>
                  </a:lnTo>
                  <a:lnTo>
                    <a:pt x="980" y="1513"/>
                  </a:lnTo>
                  <a:lnTo>
                    <a:pt x="785" y="1734"/>
                  </a:lnTo>
                  <a:lnTo>
                    <a:pt x="521" y="1888"/>
                  </a:lnTo>
                  <a:lnTo>
                    <a:pt x="353" y="1888"/>
                  </a:lnTo>
                  <a:lnTo>
                    <a:pt x="268" y="1844"/>
                  </a:lnTo>
                  <a:lnTo>
                    <a:pt x="149" y="1584"/>
                  </a:lnTo>
                  <a:lnTo>
                    <a:pt x="44" y="1491"/>
                  </a:lnTo>
                  <a:lnTo>
                    <a:pt x="0" y="1420"/>
                  </a:lnTo>
                  <a:lnTo>
                    <a:pt x="141" y="1513"/>
                  </a:lnTo>
                  <a:lnTo>
                    <a:pt x="246" y="1610"/>
                  </a:lnTo>
                  <a:lnTo>
                    <a:pt x="450" y="1623"/>
                  </a:lnTo>
                  <a:lnTo>
                    <a:pt x="636" y="1531"/>
                  </a:lnTo>
                  <a:lnTo>
                    <a:pt x="733" y="1420"/>
                  </a:lnTo>
                  <a:lnTo>
                    <a:pt x="838" y="1231"/>
                  </a:lnTo>
                  <a:lnTo>
                    <a:pt x="856" y="1006"/>
                  </a:lnTo>
                  <a:lnTo>
                    <a:pt x="891" y="277"/>
                  </a:lnTo>
                  <a:lnTo>
                    <a:pt x="940" y="383"/>
                  </a:lnTo>
                  <a:lnTo>
                    <a:pt x="1064" y="251"/>
                  </a:lnTo>
                  <a:lnTo>
                    <a:pt x="1197" y="194"/>
                  </a:lnTo>
                  <a:lnTo>
                    <a:pt x="1232" y="119"/>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05440" y="1417680"/>
              <a:ext cx="370080" cy="627480"/>
            </a:xfrm>
            <a:custGeom>
              <a:avLst/>
              <a:gdLst/>
              <a:ahLst/>
              <a:rect l="0" t="0" r="r" b="b"/>
              <a:pathLst>
                <a:path w="1028" h="1743">
                  <a:moveTo>
                    <a:pt x="127" y="0"/>
                  </a:moveTo>
                  <a:lnTo>
                    <a:pt x="246" y="79"/>
                  </a:lnTo>
                  <a:lnTo>
                    <a:pt x="335" y="437"/>
                  </a:lnTo>
                  <a:lnTo>
                    <a:pt x="600" y="512"/>
                  </a:lnTo>
                  <a:lnTo>
                    <a:pt x="675" y="609"/>
                  </a:lnTo>
                  <a:lnTo>
                    <a:pt x="688" y="737"/>
                  </a:lnTo>
                  <a:lnTo>
                    <a:pt x="816" y="719"/>
                  </a:lnTo>
                  <a:lnTo>
                    <a:pt x="979" y="834"/>
                  </a:lnTo>
                  <a:lnTo>
                    <a:pt x="1028" y="975"/>
                  </a:lnTo>
                  <a:lnTo>
                    <a:pt x="1028" y="1218"/>
                  </a:lnTo>
                  <a:lnTo>
                    <a:pt x="816" y="1593"/>
                  </a:lnTo>
                  <a:lnTo>
                    <a:pt x="746" y="1743"/>
                  </a:lnTo>
                  <a:lnTo>
                    <a:pt x="785" y="1540"/>
                  </a:lnTo>
                  <a:lnTo>
                    <a:pt x="746" y="1466"/>
                  </a:lnTo>
                  <a:lnTo>
                    <a:pt x="622" y="1338"/>
                  </a:lnTo>
                  <a:lnTo>
                    <a:pt x="418" y="1182"/>
                  </a:lnTo>
                  <a:lnTo>
                    <a:pt x="662" y="1271"/>
                  </a:lnTo>
                  <a:lnTo>
                    <a:pt x="807" y="1386"/>
                  </a:lnTo>
                  <a:lnTo>
                    <a:pt x="878" y="1373"/>
                  </a:lnTo>
                  <a:lnTo>
                    <a:pt x="922" y="1306"/>
                  </a:lnTo>
                  <a:lnTo>
                    <a:pt x="979" y="1129"/>
                  </a:lnTo>
                  <a:lnTo>
                    <a:pt x="962" y="957"/>
                  </a:lnTo>
                  <a:lnTo>
                    <a:pt x="887" y="860"/>
                  </a:lnTo>
                  <a:lnTo>
                    <a:pt x="759" y="834"/>
                  </a:lnTo>
                  <a:lnTo>
                    <a:pt x="622" y="834"/>
                  </a:lnTo>
                  <a:lnTo>
                    <a:pt x="574" y="574"/>
                  </a:lnTo>
                  <a:lnTo>
                    <a:pt x="348" y="486"/>
                  </a:lnTo>
                  <a:lnTo>
                    <a:pt x="348" y="556"/>
                  </a:lnTo>
                  <a:lnTo>
                    <a:pt x="246" y="370"/>
                  </a:lnTo>
                  <a:lnTo>
                    <a:pt x="189" y="79"/>
                  </a:lnTo>
                  <a:lnTo>
                    <a:pt x="101" y="48"/>
                  </a:lnTo>
                  <a:lnTo>
                    <a:pt x="48" y="136"/>
                  </a:lnTo>
                  <a:lnTo>
                    <a:pt x="48" y="339"/>
                  </a:lnTo>
                  <a:lnTo>
                    <a:pt x="92" y="556"/>
                  </a:lnTo>
                  <a:lnTo>
                    <a:pt x="216" y="737"/>
                  </a:lnTo>
                  <a:lnTo>
                    <a:pt x="79" y="627"/>
                  </a:lnTo>
                  <a:lnTo>
                    <a:pt x="13" y="437"/>
                  </a:lnTo>
                  <a:lnTo>
                    <a:pt x="0" y="185"/>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6629400" y="1693800"/>
              <a:ext cx="244800" cy="501840"/>
            </a:xfrm>
            <a:custGeom>
              <a:avLst/>
              <a:gdLst/>
              <a:ahLst/>
              <a:rect l="0" t="0" r="r" b="b"/>
              <a:pathLst>
                <a:path w="680" h="1394">
                  <a:moveTo>
                    <a:pt x="680" y="0"/>
                  </a:moveTo>
                  <a:lnTo>
                    <a:pt x="538" y="92"/>
                  </a:lnTo>
                  <a:lnTo>
                    <a:pt x="375" y="432"/>
                  </a:lnTo>
                  <a:lnTo>
                    <a:pt x="211" y="648"/>
                  </a:lnTo>
                  <a:lnTo>
                    <a:pt x="17" y="913"/>
                  </a:lnTo>
                  <a:lnTo>
                    <a:pt x="0" y="1050"/>
                  </a:lnTo>
                  <a:lnTo>
                    <a:pt x="39" y="1173"/>
                  </a:lnTo>
                  <a:lnTo>
                    <a:pt x="132" y="1173"/>
                  </a:lnTo>
                  <a:lnTo>
                    <a:pt x="260" y="1050"/>
                  </a:lnTo>
                  <a:lnTo>
                    <a:pt x="362" y="803"/>
                  </a:lnTo>
                  <a:lnTo>
                    <a:pt x="499" y="648"/>
                  </a:lnTo>
                  <a:lnTo>
                    <a:pt x="499" y="852"/>
                  </a:lnTo>
                  <a:lnTo>
                    <a:pt x="477" y="1037"/>
                  </a:lnTo>
                  <a:lnTo>
                    <a:pt x="330" y="1279"/>
                  </a:lnTo>
                  <a:lnTo>
                    <a:pt x="330" y="1359"/>
                  </a:lnTo>
                  <a:lnTo>
                    <a:pt x="477" y="1394"/>
                  </a:lnTo>
                  <a:lnTo>
                    <a:pt x="375" y="1323"/>
                  </a:lnTo>
                  <a:lnTo>
                    <a:pt x="389" y="1279"/>
                  </a:lnTo>
                  <a:lnTo>
                    <a:pt x="490" y="1099"/>
                  </a:lnTo>
                  <a:lnTo>
                    <a:pt x="561" y="772"/>
                  </a:lnTo>
                  <a:lnTo>
                    <a:pt x="512" y="586"/>
                  </a:lnTo>
                  <a:lnTo>
                    <a:pt x="402" y="692"/>
                  </a:lnTo>
                  <a:lnTo>
                    <a:pt x="158" y="1112"/>
                  </a:lnTo>
                  <a:lnTo>
                    <a:pt x="97" y="1125"/>
                  </a:lnTo>
                  <a:lnTo>
                    <a:pt x="39" y="1081"/>
                  </a:lnTo>
                  <a:lnTo>
                    <a:pt x="39" y="953"/>
                  </a:lnTo>
                  <a:lnTo>
                    <a:pt x="132" y="785"/>
                  </a:lnTo>
                  <a:lnTo>
                    <a:pt x="402" y="449"/>
                  </a:lnTo>
                  <a:lnTo>
                    <a:pt x="561" y="127"/>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6810480" y="1978200"/>
              <a:ext cx="151200" cy="241560"/>
            </a:xfrm>
            <a:custGeom>
              <a:avLst/>
              <a:gdLst/>
              <a:ahLst/>
              <a:rect l="0" t="0" r="r" b="b"/>
              <a:pathLst>
                <a:path w="420" h="671">
                  <a:moveTo>
                    <a:pt x="0" y="591"/>
                  </a:moveTo>
                  <a:lnTo>
                    <a:pt x="137" y="419"/>
                  </a:lnTo>
                  <a:lnTo>
                    <a:pt x="164" y="251"/>
                  </a:lnTo>
                  <a:lnTo>
                    <a:pt x="323" y="0"/>
                  </a:lnTo>
                  <a:lnTo>
                    <a:pt x="359" y="167"/>
                  </a:lnTo>
                  <a:lnTo>
                    <a:pt x="337" y="605"/>
                  </a:lnTo>
                  <a:lnTo>
                    <a:pt x="420" y="671"/>
                  </a:lnTo>
                  <a:lnTo>
                    <a:pt x="296" y="622"/>
                  </a:lnTo>
                  <a:lnTo>
                    <a:pt x="234" y="371"/>
                  </a:lnTo>
                  <a:lnTo>
                    <a:pt x="137"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996240" y="1989000"/>
              <a:ext cx="100440" cy="217800"/>
            </a:xfrm>
            <a:custGeom>
              <a:avLst/>
              <a:gdLst/>
              <a:ahLst/>
              <a:rect l="0" t="0" r="r" b="b"/>
              <a:pathLst>
                <a:path w="279" h="605">
                  <a:moveTo>
                    <a:pt x="0" y="450"/>
                  </a:moveTo>
                  <a:lnTo>
                    <a:pt x="13" y="229"/>
                  </a:lnTo>
                  <a:lnTo>
                    <a:pt x="71" y="97"/>
                  </a:lnTo>
                  <a:lnTo>
                    <a:pt x="137" y="574"/>
                  </a:lnTo>
                  <a:lnTo>
                    <a:pt x="222" y="574"/>
                  </a:lnTo>
                  <a:lnTo>
                    <a:pt x="257" y="70"/>
                  </a:lnTo>
                  <a:lnTo>
                    <a:pt x="279" y="0"/>
                  </a:lnTo>
                  <a:lnTo>
                    <a:pt x="257" y="393"/>
                  </a:lnTo>
                  <a:lnTo>
                    <a:pt x="222" y="605"/>
                  </a:lnTo>
                  <a:lnTo>
                    <a:pt x="111" y="605"/>
                  </a:lnTo>
                  <a:lnTo>
                    <a:pt x="61"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8269200" y="1138320"/>
              <a:ext cx="241560" cy="578160"/>
            </a:xfrm>
            <a:custGeom>
              <a:avLst/>
              <a:gdLst/>
              <a:ahLst/>
              <a:rect l="0" t="0" r="r" b="b"/>
              <a:pathLst>
                <a:path w="671" h="1606">
                  <a:moveTo>
                    <a:pt x="176" y="869"/>
                  </a:moveTo>
                  <a:lnTo>
                    <a:pt x="224" y="617"/>
                  </a:lnTo>
                  <a:lnTo>
                    <a:pt x="455" y="551"/>
                  </a:lnTo>
                  <a:lnTo>
                    <a:pt x="671" y="0"/>
                  </a:lnTo>
                  <a:lnTo>
                    <a:pt x="671" y="163"/>
                  </a:lnTo>
                  <a:lnTo>
                    <a:pt x="486" y="586"/>
                  </a:lnTo>
                  <a:lnTo>
                    <a:pt x="246" y="665"/>
                  </a:lnTo>
                  <a:lnTo>
                    <a:pt x="211" y="869"/>
                  </a:lnTo>
                  <a:lnTo>
                    <a:pt x="295" y="869"/>
                  </a:lnTo>
                  <a:lnTo>
                    <a:pt x="88" y="957"/>
                  </a:lnTo>
                  <a:lnTo>
                    <a:pt x="39" y="1129"/>
                  </a:lnTo>
                  <a:lnTo>
                    <a:pt x="48" y="1350"/>
                  </a:lnTo>
                  <a:lnTo>
                    <a:pt x="273" y="1606"/>
                  </a:lnTo>
                  <a:lnTo>
                    <a:pt x="39" y="1381"/>
                  </a:lnTo>
                  <a:lnTo>
                    <a:pt x="0" y="1196"/>
                  </a:lnTo>
                  <a:lnTo>
                    <a:pt x="17" y="1010"/>
                  </a:lnTo>
                  <a:lnTo>
                    <a:pt x="101" y="878"/>
                  </a:lnTo>
                  <a:lnTo>
                    <a:pt x="176"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8432640" y="1138320"/>
              <a:ext cx="405000" cy="560880"/>
            </a:xfrm>
            <a:custGeom>
              <a:avLst/>
              <a:gdLst/>
              <a:ahLst/>
              <a:rect l="0" t="0" r="r" b="b"/>
              <a:pathLst>
                <a:path w="1125" h="1558">
                  <a:moveTo>
                    <a:pt x="308" y="0"/>
                  </a:moveTo>
                  <a:lnTo>
                    <a:pt x="379" y="48"/>
                  </a:lnTo>
                  <a:lnTo>
                    <a:pt x="396" y="180"/>
                  </a:lnTo>
                  <a:lnTo>
                    <a:pt x="396" y="304"/>
                  </a:lnTo>
                  <a:lnTo>
                    <a:pt x="273" y="530"/>
                  </a:lnTo>
                  <a:lnTo>
                    <a:pt x="299" y="697"/>
                  </a:lnTo>
                  <a:lnTo>
                    <a:pt x="675" y="878"/>
                  </a:lnTo>
                  <a:lnTo>
                    <a:pt x="1116" y="1369"/>
                  </a:lnTo>
                  <a:lnTo>
                    <a:pt x="1125" y="1501"/>
                  </a:lnTo>
                  <a:lnTo>
                    <a:pt x="1099" y="1558"/>
                  </a:lnTo>
                  <a:lnTo>
                    <a:pt x="935" y="1558"/>
                  </a:lnTo>
                  <a:lnTo>
                    <a:pt x="790" y="1466"/>
                  </a:lnTo>
                  <a:lnTo>
                    <a:pt x="666" y="1302"/>
                  </a:lnTo>
                  <a:lnTo>
                    <a:pt x="600" y="1210"/>
                  </a:lnTo>
                  <a:lnTo>
                    <a:pt x="520" y="1197"/>
                  </a:lnTo>
                  <a:lnTo>
                    <a:pt x="618" y="1197"/>
                  </a:lnTo>
                  <a:lnTo>
                    <a:pt x="803" y="1448"/>
                  </a:lnTo>
                  <a:lnTo>
                    <a:pt x="1037" y="1523"/>
                  </a:lnTo>
                  <a:lnTo>
                    <a:pt x="1085" y="1448"/>
                  </a:lnTo>
                  <a:lnTo>
                    <a:pt x="1063" y="1333"/>
                  </a:lnTo>
                  <a:lnTo>
                    <a:pt x="653" y="979"/>
                  </a:lnTo>
                  <a:lnTo>
                    <a:pt x="591" y="878"/>
                  </a:lnTo>
                  <a:lnTo>
                    <a:pt x="273" y="790"/>
                  </a:lnTo>
                  <a:lnTo>
                    <a:pt x="216" y="878"/>
                  </a:lnTo>
                  <a:lnTo>
                    <a:pt x="0" y="1024"/>
                  </a:lnTo>
                  <a:lnTo>
                    <a:pt x="207" y="852"/>
                  </a:lnTo>
                  <a:lnTo>
                    <a:pt x="216" y="746"/>
                  </a:lnTo>
                  <a:lnTo>
                    <a:pt x="216" y="494"/>
                  </a:lnTo>
                  <a:lnTo>
                    <a:pt x="361" y="304"/>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8358120" y="1579680"/>
              <a:ext cx="344880" cy="332280"/>
            </a:xfrm>
            <a:custGeom>
              <a:avLst/>
              <a:gdLst/>
              <a:ahLst/>
              <a:rect l="0" t="0" r="r" b="b"/>
              <a:pathLst>
                <a:path w="958" h="923">
                  <a:moveTo>
                    <a:pt x="720" y="0"/>
                  </a:moveTo>
                  <a:lnTo>
                    <a:pt x="693" y="79"/>
                  </a:lnTo>
                  <a:lnTo>
                    <a:pt x="835" y="384"/>
                  </a:lnTo>
                  <a:lnTo>
                    <a:pt x="910" y="698"/>
                  </a:lnTo>
                  <a:lnTo>
                    <a:pt x="826" y="698"/>
                  </a:lnTo>
                  <a:lnTo>
                    <a:pt x="680" y="561"/>
                  </a:lnTo>
                  <a:lnTo>
                    <a:pt x="552" y="269"/>
                  </a:lnTo>
                  <a:lnTo>
                    <a:pt x="450" y="224"/>
                  </a:lnTo>
                  <a:lnTo>
                    <a:pt x="468" y="384"/>
                  </a:lnTo>
                  <a:lnTo>
                    <a:pt x="561" y="494"/>
                  </a:lnTo>
                  <a:lnTo>
                    <a:pt x="561" y="716"/>
                  </a:lnTo>
                  <a:lnTo>
                    <a:pt x="490" y="879"/>
                  </a:lnTo>
                  <a:lnTo>
                    <a:pt x="402" y="813"/>
                  </a:lnTo>
                  <a:lnTo>
                    <a:pt x="296" y="561"/>
                  </a:lnTo>
                  <a:lnTo>
                    <a:pt x="269" y="384"/>
                  </a:lnTo>
                  <a:lnTo>
                    <a:pt x="207" y="336"/>
                  </a:lnTo>
                  <a:lnTo>
                    <a:pt x="189" y="782"/>
                  </a:lnTo>
                  <a:lnTo>
                    <a:pt x="101" y="844"/>
                  </a:lnTo>
                  <a:lnTo>
                    <a:pt x="26" y="782"/>
                  </a:lnTo>
                  <a:lnTo>
                    <a:pt x="13" y="397"/>
                  </a:lnTo>
                  <a:lnTo>
                    <a:pt x="0" y="769"/>
                  </a:lnTo>
                  <a:lnTo>
                    <a:pt x="61" y="910"/>
                  </a:lnTo>
                  <a:lnTo>
                    <a:pt x="189" y="910"/>
                  </a:lnTo>
                  <a:lnTo>
                    <a:pt x="229" y="800"/>
                  </a:lnTo>
                  <a:lnTo>
                    <a:pt x="256" y="450"/>
                  </a:lnTo>
                  <a:lnTo>
                    <a:pt x="278" y="587"/>
                  </a:lnTo>
                  <a:lnTo>
                    <a:pt x="389" y="888"/>
                  </a:lnTo>
                  <a:lnTo>
                    <a:pt x="503" y="923"/>
                  </a:lnTo>
                  <a:lnTo>
                    <a:pt x="591" y="800"/>
                  </a:lnTo>
                  <a:lnTo>
                    <a:pt x="591" y="512"/>
                  </a:lnTo>
                  <a:lnTo>
                    <a:pt x="826" y="751"/>
                  </a:lnTo>
                  <a:lnTo>
                    <a:pt x="945" y="751"/>
                  </a:lnTo>
                  <a:lnTo>
                    <a:pt x="958" y="587"/>
                  </a:lnTo>
                  <a:lnTo>
                    <a:pt x="870" y="300"/>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6967440" y="1235160"/>
              <a:ext cx="1532160" cy="1354320"/>
            </a:xfrm>
            <a:custGeom>
              <a:avLst/>
              <a:gdLst/>
              <a:ahLst/>
              <a:rect l="0" t="0" r="r" b="b"/>
              <a:pathLst>
                <a:path w="4256" h="3762">
                  <a:moveTo>
                    <a:pt x="1530" y="317"/>
                  </a:moveTo>
                  <a:lnTo>
                    <a:pt x="1450" y="335"/>
                  </a:lnTo>
                  <a:lnTo>
                    <a:pt x="1336" y="520"/>
                  </a:lnTo>
                  <a:lnTo>
                    <a:pt x="1292" y="383"/>
                  </a:lnTo>
                  <a:lnTo>
                    <a:pt x="1155" y="304"/>
                  </a:lnTo>
                  <a:lnTo>
                    <a:pt x="1053" y="361"/>
                  </a:lnTo>
                  <a:lnTo>
                    <a:pt x="1009" y="608"/>
                  </a:lnTo>
                  <a:lnTo>
                    <a:pt x="630" y="903"/>
                  </a:lnTo>
                  <a:lnTo>
                    <a:pt x="652" y="1031"/>
                  </a:lnTo>
                  <a:lnTo>
                    <a:pt x="564" y="1146"/>
                  </a:lnTo>
                  <a:lnTo>
                    <a:pt x="564" y="1243"/>
                  </a:lnTo>
                  <a:lnTo>
                    <a:pt x="670" y="1525"/>
                  </a:lnTo>
                  <a:lnTo>
                    <a:pt x="679" y="1874"/>
                  </a:lnTo>
                  <a:lnTo>
                    <a:pt x="608" y="2205"/>
                  </a:lnTo>
                  <a:lnTo>
                    <a:pt x="335" y="2399"/>
                  </a:lnTo>
                  <a:lnTo>
                    <a:pt x="299" y="2668"/>
                  </a:lnTo>
                  <a:lnTo>
                    <a:pt x="216" y="2668"/>
                  </a:lnTo>
                  <a:lnTo>
                    <a:pt x="171" y="2448"/>
                  </a:lnTo>
                  <a:lnTo>
                    <a:pt x="88" y="2448"/>
                  </a:lnTo>
                  <a:lnTo>
                    <a:pt x="48" y="2686"/>
                  </a:lnTo>
                  <a:lnTo>
                    <a:pt x="0" y="2748"/>
                  </a:lnTo>
                  <a:lnTo>
                    <a:pt x="189" y="3070"/>
                  </a:lnTo>
                  <a:lnTo>
                    <a:pt x="321" y="3087"/>
                  </a:lnTo>
                  <a:lnTo>
                    <a:pt x="564" y="3325"/>
                  </a:lnTo>
                  <a:lnTo>
                    <a:pt x="780" y="3356"/>
                  </a:lnTo>
                  <a:lnTo>
                    <a:pt x="903" y="3228"/>
                  </a:lnTo>
                  <a:lnTo>
                    <a:pt x="1195" y="2761"/>
                  </a:lnTo>
                  <a:lnTo>
                    <a:pt x="1221" y="3387"/>
                  </a:lnTo>
                  <a:lnTo>
                    <a:pt x="1195" y="3762"/>
                  </a:lnTo>
                  <a:lnTo>
                    <a:pt x="3656" y="3762"/>
                  </a:lnTo>
                  <a:lnTo>
                    <a:pt x="3475" y="3356"/>
                  </a:lnTo>
                  <a:lnTo>
                    <a:pt x="3387" y="3008"/>
                  </a:lnTo>
                  <a:lnTo>
                    <a:pt x="3365" y="2488"/>
                  </a:lnTo>
                  <a:lnTo>
                    <a:pt x="3511" y="2607"/>
                  </a:lnTo>
                  <a:lnTo>
                    <a:pt x="3656" y="2607"/>
                  </a:lnTo>
                  <a:lnTo>
                    <a:pt x="3859" y="2470"/>
                  </a:lnTo>
                  <a:lnTo>
                    <a:pt x="3991" y="2448"/>
                  </a:lnTo>
                  <a:lnTo>
                    <a:pt x="4075" y="2311"/>
                  </a:lnTo>
                  <a:lnTo>
                    <a:pt x="4132" y="1954"/>
                  </a:lnTo>
                  <a:lnTo>
                    <a:pt x="4256" y="1812"/>
                  </a:lnTo>
                  <a:lnTo>
                    <a:pt x="4194" y="1702"/>
                  </a:lnTo>
                  <a:lnTo>
                    <a:pt x="4102" y="1702"/>
                  </a:lnTo>
                  <a:lnTo>
                    <a:pt x="4031" y="1777"/>
                  </a:lnTo>
                  <a:lnTo>
                    <a:pt x="3956" y="1799"/>
                  </a:lnTo>
                  <a:lnTo>
                    <a:pt x="3868" y="1702"/>
                  </a:lnTo>
                  <a:lnTo>
                    <a:pt x="3766" y="1688"/>
                  </a:lnTo>
                  <a:lnTo>
                    <a:pt x="3572" y="1556"/>
                  </a:lnTo>
                  <a:lnTo>
                    <a:pt x="3449" y="1415"/>
                  </a:lnTo>
                  <a:lnTo>
                    <a:pt x="3431" y="1243"/>
                  </a:lnTo>
                  <a:lnTo>
                    <a:pt x="3449" y="1075"/>
                  </a:lnTo>
                  <a:lnTo>
                    <a:pt x="3528" y="939"/>
                  </a:lnTo>
                  <a:lnTo>
                    <a:pt x="3634" y="815"/>
                  </a:lnTo>
                  <a:lnTo>
                    <a:pt x="3625" y="604"/>
                  </a:lnTo>
                  <a:lnTo>
                    <a:pt x="3625" y="445"/>
                  </a:lnTo>
                  <a:lnTo>
                    <a:pt x="3572" y="335"/>
                  </a:lnTo>
                  <a:lnTo>
                    <a:pt x="3431" y="282"/>
                  </a:lnTo>
                  <a:lnTo>
                    <a:pt x="3378" y="255"/>
                  </a:lnTo>
                  <a:lnTo>
                    <a:pt x="3277" y="70"/>
                  </a:lnTo>
                  <a:lnTo>
                    <a:pt x="3193" y="13"/>
                  </a:lnTo>
                  <a:lnTo>
                    <a:pt x="3105" y="0"/>
                  </a:lnTo>
                  <a:lnTo>
                    <a:pt x="3030" y="35"/>
                  </a:lnTo>
                  <a:lnTo>
                    <a:pt x="2968" y="132"/>
                  </a:lnTo>
                  <a:lnTo>
                    <a:pt x="2876" y="189"/>
                  </a:lnTo>
                  <a:lnTo>
                    <a:pt x="2770" y="211"/>
                  </a:lnTo>
                  <a:lnTo>
                    <a:pt x="2651" y="211"/>
                  </a:lnTo>
                  <a:lnTo>
                    <a:pt x="2673" y="396"/>
                  </a:lnTo>
                  <a:lnTo>
                    <a:pt x="2673" y="626"/>
                  </a:lnTo>
                  <a:lnTo>
                    <a:pt x="2651" y="784"/>
                  </a:lnTo>
                  <a:lnTo>
                    <a:pt x="2549" y="970"/>
                  </a:lnTo>
                  <a:lnTo>
                    <a:pt x="2413" y="1252"/>
                  </a:lnTo>
                  <a:lnTo>
                    <a:pt x="2307" y="1591"/>
                  </a:lnTo>
                  <a:lnTo>
                    <a:pt x="2302" y="1799"/>
                  </a:lnTo>
                  <a:lnTo>
                    <a:pt x="2249" y="1967"/>
                  </a:lnTo>
                  <a:lnTo>
                    <a:pt x="2188" y="2139"/>
                  </a:lnTo>
                  <a:lnTo>
                    <a:pt x="2157" y="2413"/>
                  </a:lnTo>
                  <a:lnTo>
                    <a:pt x="2174" y="2642"/>
                  </a:lnTo>
                  <a:lnTo>
                    <a:pt x="2249" y="2907"/>
                  </a:lnTo>
                  <a:lnTo>
                    <a:pt x="2302" y="3008"/>
                  </a:lnTo>
                  <a:lnTo>
                    <a:pt x="2157" y="3105"/>
                  </a:lnTo>
                  <a:lnTo>
                    <a:pt x="1984" y="3162"/>
                  </a:lnTo>
                  <a:lnTo>
                    <a:pt x="1794" y="3184"/>
                  </a:lnTo>
                  <a:lnTo>
                    <a:pt x="1680" y="3184"/>
                  </a:lnTo>
                  <a:lnTo>
                    <a:pt x="1605" y="3149"/>
                  </a:lnTo>
                  <a:lnTo>
                    <a:pt x="1605" y="2924"/>
                  </a:lnTo>
                  <a:lnTo>
                    <a:pt x="1605" y="2589"/>
                  </a:lnTo>
                  <a:lnTo>
                    <a:pt x="1556" y="2263"/>
                  </a:lnTo>
                  <a:lnTo>
                    <a:pt x="1481" y="1967"/>
                  </a:lnTo>
                  <a:lnTo>
                    <a:pt x="1441" y="1733"/>
                  </a:lnTo>
                  <a:lnTo>
                    <a:pt x="1433" y="1402"/>
                  </a:lnTo>
                  <a:lnTo>
                    <a:pt x="1481" y="1111"/>
                  </a:lnTo>
                  <a:lnTo>
                    <a:pt x="1556" y="877"/>
                  </a:lnTo>
                  <a:lnTo>
                    <a:pt x="1565" y="740"/>
                  </a:lnTo>
                  <a:lnTo>
                    <a:pt x="1530" y="537"/>
                  </a:lnTo>
                  <a:lnTo>
                    <a:pt x="1530" y="383"/>
                  </a:lnTo>
                  <a:lnTo>
                    <a:pt x="1556" y="335"/>
                  </a:lnTo>
                  <a:lnTo>
                    <a:pt x="1530"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7564320" y="1506600"/>
              <a:ext cx="194040" cy="879840"/>
            </a:xfrm>
            <a:custGeom>
              <a:avLst/>
              <a:gdLst/>
              <a:ahLst/>
              <a:rect l="0" t="0" r="r" b="b"/>
              <a:pathLst>
                <a:path w="539" h="2444">
                  <a:moveTo>
                    <a:pt x="217" y="30"/>
                  </a:moveTo>
                  <a:lnTo>
                    <a:pt x="70" y="105"/>
                  </a:lnTo>
                  <a:lnTo>
                    <a:pt x="83" y="343"/>
                  </a:lnTo>
                  <a:lnTo>
                    <a:pt x="190" y="410"/>
                  </a:lnTo>
                  <a:lnTo>
                    <a:pt x="61" y="666"/>
                  </a:lnTo>
                  <a:lnTo>
                    <a:pt x="0" y="949"/>
                  </a:lnTo>
                  <a:lnTo>
                    <a:pt x="0" y="1218"/>
                  </a:lnTo>
                  <a:lnTo>
                    <a:pt x="61" y="1465"/>
                  </a:lnTo>
                  <a:lnTo>
                    <a:pt x="114" y="1764"/>
                  </a:lnTo>
                  <a:lnTo>
                    <a:pt x="114" y="1933"/>
                  </a:lnTo>
                  <a:lnTo>
                    <a:pt x="61" y="2145"/>
                  </a:lnTo>
                  <a:lnTo>
                    <a:pt x="278" y="2444"/>
                  </a:lnTo>
                  <a:lnTo>
                    <a:pt x="371" y="2396"/>
                  </a:lnTo>
                  <a:lnTo>
                    <a:pt x="429" y="2189"/>
                  </a:lnTo>
                  <a:lnTo>
                    <a:pt x="531" y="1920"/>
                  </a:lnTo>
                  <a:lnTo>
                    <a:pt x="539" y="1778"/>
                  </a:lnTo>
                  <a:lnTo>
                    <a:pt x="456" y="1509"/>
                  </a:lnTo>
                  <a:lnTo>
                    <a:pt x="353" y="1248"/>
                  </a:lnTo>
                  <a:lnTo>
                    <a:pt x="318" y="1063"/>
                  </a:lnTo>
                  <a:lnTo>
                    <a:pt x="318" y="887"/>
                  </a:lnTo>
                  <a:lnTo>
                    <a:pt x="353" y="728"/>
                  </a:lnTo>
                  <a:lnTo>
                    <a:pt x="429" y="533"/>
                  </a:lnTo>
                  <a:lnTo>
                    <a:pt x="429" y="454"/>
                  </a:lnTo>
                  <a:lnTo>
                    <a:pt x="393" y="374"/>
                  </a:lnTo>
                  <a:lnTo>
                    <a:pt x="495" y="277"/>
                  </a:lnTo>
                  <a:lnTo>
                    <a:pt x="495" y="185"/>
                  </a:lnTo>
                  <a:lnTo>
                    <a:pt x="353" y="0"/>
                  </a:lnTo>
                  <a:lnTo>
                    <a:pt x="469" y="185"/>
                  </a:lnTo>
                  <a:lnTo>
                    <a:pt x="469" y="264"/>
                  </a:lnTo>
                  <a:lnTo>
                    <a:pt x="367" y="343"/>
                  </a:lnTo>
                  <a:lnTo>
                    <a:pt x="407" y="454"/>
                  </a:lnTo>
                  <a:lnTo>
                    <a:pt x="393" y="533"/>
                  </a:lnTo>
                  <a:lnTo>
                    <a:pt x="292" y="759"/>
                  </a:lnTo>
                  <a:lnTo>
                    <a:pt x="278" y="979"/>
                  </a:lnTo>
                  <a:lnTo>
                    <a:pt x="305" y="1187"/>
                  </a:lnTo>
                  <a:lnTo>
                    <a:pt x="371" y="1478"/>
                  </a:lnTo>
                  <a:lnTo>
                    <a:pt x="456" y="1711"/>
                  </a:lnTo>
                  <a:lnTo>
                    <a:pt x="456" y="1907"/>
                  </a:lnTo>
                  <a:lnTo>
                    <a:pt x="407" y="2145"/>
                  </a:lnTo>
                  <a:lnTo>
                    <a:pt x="305" y="2396"/>
                  </a:lnTo>
                  <a:lnTo>
                    <a:pt x="177" y="2259"/>
                  </a:lnTo>
                  <a:lnTo>
                    <a:pt x="127" y="2145"/>
                  </a:lnTo>
                  <a:lnTo>
                    <a:pt x="137" y="1907"/>
                  </a:lnTo>
                  <a:lnTo>
                    <a:pt x="127" y="1663"/>
                  </a:lnTo>
                  <a:lnTo>
                    <a:pt x="61" y="1341"/>
                  </a:lnTo>
                  <a:lnTo>
                    <a:pt x="39" y="1121"/>
                  </a:lnTo>
                  <a:lnTo>
                    <a:pt x="61" y="874"/>
                  </a:lnTo>
                  <a:lnTo>
                    <a:pt x="114" y="631"/>
                  </a:lnTo>
                  <a:lnTo>
                    <a:pt x="225" y="392"/>
                  </a:lnTo>
                  <a:lnTo>
                    <a:pt x="127" y="295"/>
                  </a:lnTo>
                  <a:lnTo>
                    <a:pt x="114" y="123"/>
                  </a:lnTo>
                  <a:lnTo>
                    <a:pt x="21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115480" y="479520"/>
              <a:ext cx="305280" cy="429120"/>
            </a:xfrm>
            <a:custGeom>
              <a:avLst/>
              <a:gdLst/>
              <a:ahLst/>
              <a:rect l="0" t="0" r="r" b="b"/>
              <a:pathLst>
                <a:path w="848" h="1192">
                  <a:moveTo>
                    <a:pt x="141" y="305"/>
                  </a:moveTo>
                  <a:lnTo>
                    <a:pt x="265" y="277"/>
                  </a:lnTo>
                  <a:lnTo>
                    <a:pt x="384" y="291"/>
                  </a:lnTo>
                  <a:lnTo>
                    <a:pt x="486" y="340"/>
                  </a:lnTo>
                  <a:lnTo>
                    <a:pt x="543" y="402"/>
                  </a:lnTo>
                  <a:lnTo>
                    <a:pt x="565" y="468"/>
                  </a:lnTo>
                  <a:lnTo>
                    <a:pt x="565" y="525"/>
                  </a:lnTo>
                  <a:lnTo>
                    <a:pt x="538" y="565"/>
                  </a:lnTo>
                  <a:lnTo>
                    <a:pt x="481" y="591"/>
                  </a:lnTo>
                  <a:lnTo>
                    <a:pt x="419" y="596"/>
                  </a:lnTo>
                  <a:lnTo>
                    <a:pt x="344" y="578"/>
                  </a:lnTo>
                  <a:lnTo>
                    <a:pt x="269" y="530"/>
                  </a:lnTo>
                  <a:lnTo>
                    <a:pt x="211" y="486"/>
                  </a:lnTo>
                  <a:lnTo>
                    <a:pt x="189" y="636"/>
                  </a:lnTo>
                  <a:lnTo>
                    <a:pt x="141" y="746"/>
                  </a:lnTo>
                  <a:lnTo>
                    <a:pt x="0" y="994"/>
                  </a:lnTo>
                  <a:lnTo>
                    <a:pt x="207" y="1192"/>
                  </a:lnTo>
                  <a:lnTo>
                    <a:pt x="362" y="869"/>
                  </a:lnTo>
                  <a:lnTo>
                    <a:pt x="538" y="897"/>
                  </a:lnTo>
                  <a:lnTo>
                    <a:pt x="645" y="874"/>
                  </a:lnTo>
                  <a:lnTo>
                    <a:pt x="751" y="799"/>
                  </a:lnTo>
                  <a:lnTo>
                    <a:pt x="813" y="706"/>
                  </a:lnTo>
                  <a:lnTo>
                    <a:pt x="848" y="583"/>
                  </a:lnTo>
                  <a:lnTo>
                    <a:pt x="848" y="455"/>
                  </a:lnTo>
                  <a:lnTo>
                    <a:pt x="813" y="318"/>
                  </a:lnTo>
                  <a:lnTo>
                    <a:pt x="747" y="180"/>
                  </a:lnTo>
                  <a:lnTo>
                    <a:pt x="659" y="83"/>
                  </a:lnTo>
                  <a:lnTo>
                    <a:pt x="552" y="30"/>
                  </a:lnTo>
                  <a:lnTo>
                    <a:pt x="433" y="0"/>
                  </a:lnTo>
                  <a:lnTo>
                    <a:pt x="283" y="0"/>
                  </a:lnTo>
                  <a:lnTo>
                    <a:pt x="114" y="35"/>
                  </a:lnTo>
                  <a:lnTo>
                    <a:pt x="141"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8061480" y="895320"/>
              <a:ext cx="109800" cy="84600"/>
            </a:xfrm>
            <a:custGeom>
              <a:avLst/>
              <a:gdLst/>
              <a:ahLst/>
              <a:rect l="0" t="0" r="r" b="b"/>
              <a:pathLst>
                <a:path w="305" h="235">
                  <a:moveTo>
                    <a:pt x="119" y="0"/>
                  </a:moveTo>
                  <a:lnTo>
                    <a:pt x="39" y="0"/>
                  </a:lnTo>
                  <a:lnTo>
                    <a:pt x="0" y="35"/>
                  </a:lnTo>
                  <a:lnTo>
                    <a:pt x="0" y="115"/>
                  </a:lnTo>
                  <a:lnTo>
                    <a:pt x="61" y="200"/>
                  </a:lnTo>
                  <a:lnTo>
                    <a:pt x="186" y="235"/>
                  </a:lnTo>
                  <a:lnTo>
                    <a:pt x="274" y="231"/>
                  </a:lnTo>
                  <a:lnTo>
                    <a:pt x="305" y="178"/>
                  </a:lnTo>
                  <a:lnTo>
                    <a:pt x="287" y="128"/>
                  </a:lnTo>
                  <a:lnTo>
                    <a:pt x="247" y="57"/>
                  </a:lnTo>
                  <a:lnTo>
                    <a:pt x="172" y="8"/>
                  </a:lnTo>
                  <a:lnTo>
                    <a:pt x="119"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1905120" y="2362320"/>
            <a:ext cx="6553080" cy="2976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Show the relationships among income taxes expense, deferred income taxes, and net of taxes.</a:t>
            </a:r>
            <a:endParaRPr b="0" lang="en-US" sz="3200" spc="-1" strike="noStrike">
              <a:solidFill>
                <a:srgbClr val="ffffff"/>
              </a:solidFill>
              <a:latin typeface="Arial"/>
            </a:endParaRPr>
          </a:p>
        </p:txBody>
      </p:sp>
      <p:sp>
        <p:nvSpPr>
          <p:cNvPr id="214" name=""/>
          <p:cNvSpPr txBox="1"/>
          <p:nvPr/>
        </p:nvSpPr>
        <p:spPr>
          <a:xfrm>
            <a:off x="99072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pic>
        <p:nvPicPr>
          <p:cNvPr id="21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
        <p:nvSpPr>
          <p:cNvPr id="46" name=""/>
          <p:cNvSpPr txBox="1"/>
          <p:nvPr/>
        </p:nvSpPr>
        <p:spPr>
          <a:xfrm>
            <a:off x="1066680" y="1143000"/>
            <a:ext cx="7696080" cy="510552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issues related to evaluating the quality of a company’s earning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corporate income statement.</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ow the relationships among income taxes expense, deferred income taxes, and net of taxe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the disclosure on the income statement of discontinued operations, extraordinary items, and accounting changes.</a:t>
            </a:r>
            <a:endParaRPr b="0" lang="en-US" sz="2800" spc="-1" strike="noStrike">
              <a:solidFill>
                <a:srgbClr val="ffffff"/>
              </a:solidFill>
              <a:latin typeface="Arial"/>
            </a:endParaRPr>
          </a:p>
        </p:txBody>
      </p:sp>
      <p:pic>
        <p:nvPicPr>
          <p:cNvPr id="47"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6" name=""/>
          <p:cNvSpPr txBox="1"/>
          <p:nvPr/>
        </p:nvSpPr>
        <p:spPr>
          <a:xfrm>
            <a:off x="1295280" y="457200"/>
            <a:ext cx="7037280" cy="849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7" name=""/>
          <p:cNvSpPr txBox="1"/>
          <p:nvPr/>
        </p:nvSpPr>
        <p:spPr>
          <a:xfrm>
            <a:off x="914400" y="1295280"/>
            <a:ext cx="78487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taxes expense is the expense recognized in the accounting records on an accrual basis that applies to income from continu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payable is determined from taxable income, measured according to the rules and regulations of the income tax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1371600" y="609480"/>
            <a:ext cx="6961320" cy="925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9" name=""/>
          <p:cNvSpPr txBox="1"/>
          <p:nvPr/>
        </p:nvSpPr>
        <p:spPr>
          <a:xfrm>
            <a:off x="922320" y="1523880"/>
            <a:ext cx="791676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or convenience, many small companies maintain their accounting records on a tax basi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pose of accounting is to determine net income in accordance with GAAP, not taxable income and tax l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0" name=""/>
          <p:cNvSpPr txBox="1"/>
          <p:nvPr/>
        </p:nvSpPr>
        <p:spPr>
          <a:xfrm>
            <a:off x="914400" y="228600"/>
            <a:ext cx="7839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21" name=""/>
          <p:cNvSpPr txBox="1"/>
          <p:nvPr/>
        </p:nvSpPr>
        <p:spPr>
          <a:xfrm>
            <a:off x="1066680" y="1066680"/>
            <a:ext cx="7772400" cy="51814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Management has an incentive to use methods that minimize the firm’s tax liability.</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re can be a material difference between accounting income and taxable incom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is discrepancy can result from differences in the timing of the recognition of revenues and expenses between GAAP and income tax accou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2" name=""/>
          <p:cNvSpPr txBox="1"/>
          <p:nvPr/>
        </p:nvSpPr>
        <p:spPr>
          <a:xfrm>
            <a:off x="914400" y="8380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3" name=""/>
          <p:cNvSpPr txBox="1"/>
          <p:nvPr/>
        </p:nvSpPr>
        <p:spPr>
          <a:xfrm>
            <a:off x="1066680" y="1828800"/>
            <a:ext cx="7391520" cy="2971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income taxes expense differs from income taxes payable is reconciled in an account called deferred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990720" y="30492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5" name=""/>
          <p:cNvSpPr txBox="1"/>
          <p:nvPr/>
        </p:nvSpPr>
        <p:spPr>
          <a:xfrm>
            <a:off x="762120" y="1066680"/>
            <a:ext cx="784872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2800" spc="-1" strike="noStrike">
                <a:solidFill>
                  <a:srgbClr val="fcffd8"/>
                </a:solidFill>
                <a:latin typeface="Arial"/>
                <a:ea typeface="Arial"/>
              </a:rPr>
              <a:t>Income tax allocation</a:t>
            </a:r>
            <a:r>
              <a:rPr b="1" lang="en-US" sz="2800" spc="-1" strike="noStrike">
                <a:solidFill>
                  <a:srgbClr val="fcffd8"/>
                </a:solidFill>
                <a:latin typeface="Arial"/>
                <a:ea typeface="Arial"/>
              </a:rPr>
              <a:t> is a technique used to account for the difference between income taxes expense based on accounting income and the actual income taxes payable based on taxable income.</a:t>
            </a:r>
            <a:endParaRPr b="0" lang="en-US" sz="2800" spc="-1" strike="noStrike">
              <a:solidFill>
                <a:srgbClr val="ffffff"/>
              </a:solidFill>
              <a:latin typeface="Arial"/>
            </a:endParaRPr>
          </a:p>
        </p:txBody>
      </p:sp>
      <p:sp>
        <p:nvSpPr>
          <p:cNvPr id="226" name=""/>
          <p:cNvSpPr txBox="1"/>
          <p:nvPr/>
        </p:nvSpPr>
        <p:spPr>
          <a:xfrm>
            <a:off x="838080" y="3581280"/>
            <a:ext cx="8305920" cy="2720880"/>
          </a:xfrm>
          <a:prstGeom prst="rect">
            <a:avLst/>
          </a:prstGeom>
          <a:noFill/>
          <a:ln w="0">
            <a:noFill/>
          </a:ln>
        </p:spPr>
        <p:txBody>
          <a:bodyPr lIns="0" rIns="0" tIns="0" bIns="0" anchor="t">
            <a:noAutofit/>
          </a:bodyPr>
          <a:p>
            <a:pPr>
              <a:lnSpc>
                <a:spcPct val="120000"/>
              </a:lnSpc>
            </a:pPr>
            <a:r>
              <a:rPr b="1" lang="en-US" sz="2400" spc="-1" strike="noStrike">
                <a:solidFill>
                  <a:srgbClr val="fcffd8"/>
                </a:solidFill>
                <a:latin typeface="Arial"/>
                <a:ea typeface="Arial"/>
              </a:rPr>
              <a:t>Dec. 31   Income Taxes Expen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44,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Income Taxes Pay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92,0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Deferred Income Taxe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2,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To record estimat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current and deferr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income 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7" name=""/>
          <p:cNvSpPr txBox="1"/>
          <p:nvPr/>
        </p:nvSpPr>
        <p:spPr>
          <a:xfrm>
            <a:off x="1371600" y="380880"/>
            <a:ext cx="6894360" cy="636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of Taxes</a:t>
            </a:r>
            <a:endParaRPr b="0" lang="en-US" sz="4400" spc="-1" strike="noStrike">
              <a:solidFill>
                <a:srgbClr val="ffffff"/>
              </a:solidFill>
              <a:latin typeface="Arial"/>
            </a:endParaRPr>
          </a:p>
        </p:txBody>
      </p:sp>
      <p:sp>
        <p:nvSpPr>
          <p:cNvPr id="228" name=""/>
          <p:cNvSpPr txBox="1"/>
          <p:nvPr/>
        </p:nvSpPr>
        <p:spPr>
          <a:xfrm>
            <a:off x="990720" y="1066680"/>
            <a:ext cx="7924680" cy="5257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Net of taxes means the effect of applicable taxes (usually income taxes) has been considered in determining the overall effect of an item on the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phrase is used when a company has items</a:t>
            </a:r>
            <a:r>
              <a:rPr b="1" lang="en-US" sz="3200" spc="-1" strike="noStrike">
                <a:solidFill>
                  <a:srgbClr val="618ffd"/>
                </a:solidFill>
                <a:latin typeface="Arial"/>
                <a:ea typeface="Arial"/>
              </a:rPr>
              <a:t> </a:t>
            </a:r>
            <a:r>
              <a:rPr b="1" lang="en-US" sz="3200" spc="-1" strike="noStrike">
                <a:solidFill>
                  <a:srgbClr val="fcffd8"/>
                </a:solidFill>
                <a:latin typeface="Arial"/>
                <a:ea typeface="Arial"/>
              </a:rPr>
              <a:t>that must be disclosed in a separate sectio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Each such item should be reported net of the applicabl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9" name=""/>
          <p:cNvSpPr txBox="1"/>
          <p:nvPr/>
        </p:nvSpPr>
        <p:spPr>
          <a:xfrm>
            <a:off x="2057400" y="1143000"/>
            <a:ext cx="5105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30" name=""/>
          <p:cNvSpPr txBox="1"/>
          <p:nvPr/>
        </p:nvSpPr>
        <p:spPr>
          <a:xfrm>
            <a:off x="914400" y="2362320"/>
            <a:ext cx="8001000" cy="3886200"/>
          </a:xfrm>
          <a:prstGeom prst="rect">
            <a:avLst/>
          </a:prstGeom>
          <a:noFill/>
          <a:ln w="0">
            <a:noFill/>
          </a:ln>
        </p:spPr>
        <p:txBody>
          <a:bodyPr lIns="0" rIns="0" tIns="0" bIns="0" anchor="t">
            <a:noAutofit/>
          </a:bodyPr>
          <a:p>
            <a:pPr marL="863640" indent="-8636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Accounting income should be geared to the concept of taxable income because the public understands that concept.” Comment on this statement, and tell why income tax allocation is necessary.</a:t>
            </a:r>
            <a:endParaRPr b="0" lang="en-US" sz="3200" spc="-1" strike="noStrike">
              <a:solidFill>
                <a:srgbClr val="ffffff"/>
              </a:solidFill>
              <a:latin typeface="Arial"/>
            </a:endParaRPr>
          </a:p>
        </p:txBody>
      </p:sp>
      <p:grpSp>
        <p:nvGrpSpPr>
          <p:cNvPr id="231" name=""/>
          <p:cNvGrpSpPr/>
          <p:nvPr/>
        </p:nvGrpSpPr>
        <p:grpSpPr>
          <a:xfrm>
            <a:off x="6705720" y="304920"/>
            <a:ext cx="2055960" cy="2055960"/>
            <a:chOff x="6705720" y="304920"/>
            <a:chExt cx="2055960" cy="2055960"/>
          </a:xfrm>
        </p:grpSpPr>
        <p:sp>
          <p:nvSpPr>
            <p:cNvPr id="232" name=""/>
            <p:cNvSpPr/>
            <p:nvPr/>
          </p:nvSpPr>
          <p:spPr>
            <a:xfrm>
              <a:off x="6711840" y="1314360"/>
              <a:ext cx="498960" cy="717840"/>
            </a:xfrm>
            <a:custGeom>
              <a:avLst/>
              <a:gdLst/>
              <a:ahLst/>
              <a:rect l="0" t="0" r="r" b="b"/>
              <a:pathLst>
                <a:path w="1386" h="1994">
                  <a:moveTo>
                    <a:pt x="556" y="0"/>
                  </a:moveTo>
                  <a:lnTo>
                    <a:pt x="481" y="88"/>
                  </a:lnTo>
                  <a:lnTo>
                    <a:pt x="481" y="348"/>
                  </a:lnTo>
                  <a:lnTo>
                    <a:pt x="556" y="537"/>
                  </a:lnTo>
                  <a:lnTo>
                    <a:pt x="636" y="630"/>
                  </a:lnTo>
                  <a:lnTo>
                    <a:pt x="512" y="758"/>
                  </a:lnTo>
                  <a:lnTo>
                    <a:pt x="349" y="1046"/>
                  </a:lnTo>
                  <a:lnTo>
                    <a:pt x="26" y="1504"/>
                  </a:lnTo>
                  <a:lnTo>
                    <a:pt x="0" y="1614"/>
                  </a:lnTo>
                  <a:lnTo>
                    <a:pt x="26" y="1707"/>
                  </a:lnTo>
                  <a:lnTo>
                    <a:pt x="127" y="1707"/>
                  </a:lnTo>
                  <a:lnTo>
                    <a:pt x="211" y="1601"/>
                  </a:lnTo>
                  <a:lnTo>
                    <a:pt x="349" y="1341"/>
                  </a:lnTo>
                  <a:lnTo>
                    <a:pt x="428" y="1231"/>
                  </a:lnTo>
                  <a:lnTo>
                    <a:pt x="481" y="1403"/>
                  </a:lnTo>
                  <a:lnTo>
                    <a:pt x="446" y="1584"/>
                  </a:lnTo>
                  <a:lnTo>
                    <a:pt x="308" y="1848"/>
                  </a:lnTo>
                  <a:lnTo>
                    <a:pt x="349" y="1910"/>
                  </a:lnTo>
                  <a:lnTo>
                    <a:pt x="428" y="1892"/>
                  </a:lnTo>
                  <a:lnTo>
                    <a:pt x="600" y="1756"/>
                  </a:lnTo>
                  <a:lnTo>
                    <a:pt x="737" y="1522"/>
                  </a:lnTo>
                  <a:lnTo>
                    <a:pt x="737" y="1928"/>
                  </a:lnTo>
                  <a:lnTo>
                    <a:pt x="900" y="1994"/>
                  </a:lnTo>
                  <a:lnTo>
                    <a:pt x="1002" y="1742"/>
                  </a:lnTo>
                  <a:lnTo>
                    <a:pt x="1086" y="1976"/>
                  </a:lnTo>
                  <a:lnTo>
                    <a:pt x="1152" y="1910"/>
                  </a:lnTo>
                  <a:lnTo>
                    <a:pt x="1183" y="1447"/>
                  </a:lnTo>
                  <a:lnTo>
                    <a:pt x="1386" y="1010"/>
                  </a:lnTo>
                  <a:lnTo>
                    <a:pt x="1338" y="758"/>
                  </a:lnTo>
                  <a:lnTo>
                    <a:pt x="1201" y="665"/>
                  </a:lnTo>
                  <a:lnTo>
                    <a:pt x="1051" y="679"/>
                  </a:lnTo>
                  <a:lnTo>
                    <a:pt x="1002" y="471"/>
                  </a:lnTo>
                  <a:lnTo>
                    <a:pt x="847" y="427"/>
                  </a:lnTo>
                  <a:lnTo>
                    <a:pt x="715" y="361"/>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130880" y="1604880"/>
              <a:ext cx="146520" cy="348120"/>
            </a:xfrm>
            <a:custGeom>
              <a:avLst/>
              <a:gdLst/>
              <a:ahLst/>
              <a:rect l="0" t="0" r="r" b="b"/>
              <a:pathLst>
                <a:path w="407" h="967">
                  <a:moveTo>
                    <a:pt x="203" y="0"/>
                  </a:moveTo>
                  <a:lnTo>
                    <a:pt x="407" y="252"/>
                  </a:lnTo>
                  <a:lnTo>
                    <a:pt x="306" y="795"/>
                  </a:lnTo>
                  <a:lnTo>
                    <a:pt x="0" y="967"/>
                  </a:lnTo>
                  <a:lnTo>
                    <a:pt x="0" y="693"/>
                  </a:lnTo>
                  <a:lnTo>
                    <a:pt x="124" y="411"/>
                  </a:lnTo>
                  <a:lnTo>
                    <a:pt x="203" y="202"/>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8086680" y="1405080"/>
              <a:ext cx="368640" cy="314640"/>
            </a:xfrm>
            <a:custGeom>
              <a:avLst/>
              <a:gdLst/>
              <a:ahLst/>
              <a:rect l="0" t="0" r="r" b="b"/>
              <a:pathLst>
                <a:path w="1024" h="874">
                  <a:moveTo>
                    <a:pt x="423" y="0"/>
                  </a:moveTo>
                  <a:lnTo>
                    <a:pt x="423" y="141"/>
                  </a:lnTo>
                  <a:lnTo>
                    <a:pt x="458" y="264"/>
                  </a:lnTo>
                  <a:lnTo>
                    <a:pt x="658" y="472"/>
                  </a:lnTo>
                  <a:lnTo>
                    <a:pt x="1024" y="591"/>
                  </a:lnTo>
                  <a:lnTo>
                    <a:pt x="975" y="856"/>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8234280" y="1050840"/>
              <a:ext cx="514800" cy="690840"/>
            </a:xfrm>
            <a:custGeom>
              <a:avLst/>
              <a:gdLst/>
              <a:ahLst/>
              <a:rect l="0" t="0" r="r" b="b"/>
              <a:pathLst>
                <a:path w="1430" h="1919">
                  <a:moveTo>
                    <a:pt x="127" y="815"/>
                  </a:moveTo>
                  <a:lnTo>
                    <a:pt x="0" y="952"/>
                  </a:lnTo>
                  <a:lnTo>
                    <a:pt x="26" y="1262"/>
                  </a:lnTo>
                  <a:lnTo>
                    <a:pt x="224" y="1407"/>
                  </a:lnTo>
                  <a:lnTo>
                    <a:pt x="242" y="1883"/>
                  </a:lnTo>
                  <a:lnTo>
                    <a:pt x="446" y="1883"/>
                  </a:lnTo>
                  <a:lnTo>
                    <a:pt x="428" y="1482"/>
                  </a:lnTo>
                  <a:lnTo>
                    <a:pt x="578" y="1901"/>
                  </a:lnTo>
                  <a:lnTo>
                    <a:pt x="680" y="1919"/>
                  </a:lnTo>
                  <a:lnTo>
                    <a:pt x="750" y="1778"/>
                  </a:lnTo>
                  <a:lnTo>
                    <a:pt x="768" y="1513"/>
                  </a:lnTo>
                  <a:lnTo>
                    <a:pt x="984" y="1760"/>
                  </a:lnTo>
                  <a:lnTo>
                    <a:pt x="1073" y="1742"/>
                  </a:lnTo>
                  <a:lnTo>
                    <a:pt x="1050" y="1570"/>
                  </a:lnTo>
                  <a:lnTo>
                    <a:pt x="971" y="1328"/>
                  </a:lnTo>
                  <a:lnTo>
                    <a:pt x="882" y="1169"/>
                  </a:lnTo>
                  <a:lnTo>
                    <a:pt x="913" y="1059"/>
                  </a:lnTo>
                  <a:lnTo>
                    <a:pt x="971" y="1076"/>
                  </a:lnTo>
                  <a:lnTo>
                    <a:pt x="1170" y="1328"/>
                  </a:lnTo>
                  <a:lnTo>
                    <a:pt x="1382" y="1390"/>
                  </a:lnTo>
                  <a:lnTo>
                    <a:pt x="1430" y="1310"/>
                  </a:lnTo>
                  <a:lnTo>
                    <a:pt x="1399" y="1182"/>
                  </a:lnTo>
                  <a:lnTo>
                    <a:pt x="1002" y="798"/>
                  </a:lnTo>
                  <a:lnTo>
                    <a:pt x="680" y="679"/>
                  </a:lnTo>
                  <a:lnTo>
                    <a:pt x="640" y="463"/>
                  </a:lnTo>
                  <a:lnTo>
                    <a:pt x="750" y="268"/>
                  </a:lnTo>
                  <a:lnTo>
                    <a:pt x="750" y="61"/>
                  </a:lnTo>
                  <a:lnTo>
                    <a:pt x="662" y="0"/>
                  </a:lnTo>
                  <a:lnTo>
                    <a:pt x="428" y="520"/>
                  </a:lnTo>
                  <a:lnTo>
                    <a:pt x="224" y="599"/>
                  </a:lnTo>
                  <a:lnTo>
                    <a:pt x="176" y="740"/>
                  </a:lnTo>
                  <a:lnTo>
                    <a:pt x="127"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389720" y="450720"/>
              <a:ext cx="562320" cy="883080"/>
            </a:xfrm>
            <a:custGeom>
              <a:avLst/>
              <a:gdLst/>
              <a:ahLst/>
              <a:rect l="0" t="0" r="r" b="b"/>
              <a:pathLst>
                <a:path w="1562" h="2453">
                  <a:moveTo>
                    <a:pt x="392" y="339"/>
                  </a:moveTo>
                  <a:lnTo>
                    <a:pt x="273" y="812"/>
                  </a:lnTo>
                  <a:lnTo>
                    <a:pt x="17" y="904"/>
                  </a:lnTo>
                  <a:lnTo>
                    <a:pt x="88" y="1054"/>
                  </a:lnTo>
                  <a:lnTo>
                    <a:pt x="0" y="1147"/>
                  </a:lnTo>
                  <a:lnTo>
                    <a:pt x="0" y="1315"/>
                  </a:lnTo>
                  <a:lnTo>
                    <a:pt x="123" y="1469"/>
                  </a:lnTo>
                  <a:lnTo>
                    <a:pt x="242" y="1469"/>
                  </a:lnTo>
                  <a:lnTo>
                    <a:pt x="326" y="2017"/>
                  </a:lnTo>
                  <a:lnTo>
                    <a:pt x="423" y="2250"/>
                  </a:lnTo>
                  <a:lnTo>
                    <a:pt x="745" y="2453"/>
                  </a:lnTo>
                  <a:lnTo>
                    <a:pt x="1063" y="2422"/>
                  </a:lnTo>
                  <a:lnTo>
                    <a:pt x="1213" y="2017"/>
                  </a:lnTo>
                  <a:lnTo>
                    <a:pt x="1248" y="1394"/>
                  </a:lnTo>
                  <a:lnTo>
                    <a:pt x="1562" y="1090"/>
                  </a:lnTo>
                  <a:lnTo>
                    <a:pt x="1548" y="966"/>
                  </a:lnTo>
                  <a:lnTo>
                    <a:pt x="1513" y="904"/>
                  </a:lnTo>
                  <a:lnTo>
                    <a:pt x="1345" y="891"/>
                  </a:lnTo>
                  <a:lnTo>
                    <a:pt x="1398" y="733"/>
                  </a:lnTo>
                  <a:lnTo>
                    <a:pt x="1235" y="622"/>
                  </a:lnTo>
                  <a:lnTo>
                    <a:pt x="1165" y="268"/>
                  </a:lnTo>
                  <a:lnTo>
                    <a:pt x="679" y="0"/>
                  </a:lnTo>
                  <a:lnTo>
                    <a:pt x="423" y="251"/>
                  </a:lnTo>
                  <a:lnTo>
                    <a:pt x="392"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31120" y="1189080"/>
              <a:ext cx="514800" cy="1054440"/>
            </a:xfrm>
            <a:custGeom>
              <a:avLst/>
              <a:gdLst/>
              <a:ahLst/>
              <a:rect l="0" t="0" r="r" b="b"/>
              <a:pathLst>
                <a:path w="1430" h="2929">
                  <a:moveTo>
                    <a:pt x="291" y="154"/>
                  </a:moveTo>
                  <a:lnTo>
                    <a:pt x="494" y="295"/>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5"/>
                  </a:lnTo>
                  <a:lnTo>
                    <a:pt x="291"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453440" y="333360"/>
              <a:ext cx="479880" cy="279720"/>
            </a:xfrm>
            <a:custGeom>
              <a:avLst/>
              <a:gdLst/>
              <a:ahLst/>
              <a:rect l="0" t="0" r="r" b="b"/>
              <a:pathLst>
                <a:path w="1333" h="777">
                  <a:moveTo>
                    <a:pt x="163" y="741"/>
                  </a:moveTo>
                  <a:lnTo>
                    <a:pt x="362" y="534"/>
                  </a:lnTo>
                  <a:lnTo>
                    <a:pt x="486" y="503"/>
                  </a:lnTo>
                  <a:lnTo>
                    <a:pt x="486" y="521"/>
                  </a:lnTo>
                  <a:lnTo>
                    <a:pt x="547" y="503"/>
                  </a:lnTo>
                  <a:lnTo>
                    <a:pt x="631" y="565"/>
                  </a:lnTo>
                  <a:lnTo>
                    <a:pt x="785" y="596"/>
                  </a:lnTo>
                  <a:lnTo>
                    <a:pt x="913" y="777"/>
                  </a:lnTo>
                  <a:lnTo>
                    <a:pt x="1122" y="697"/>
                  </a:lnTo>
                  <a:lnTo>
                    <a:pt x="1122" y="613"/>
                  </a:lnTo>
                  <a:lnTo>
                    <a:pt x="1333" y="521"/>
                  </a:lnTo>
                  <a:lnTo>
                    <a:pt x="1272" y="374"/>
                  </a:lnTo>
                  <a:lnTo>
                    <a:pt x="1073" y="361"/>
                  </a:lnTo>
                  <a:lnTo>
                    <a:pt x="1104" y="202"/>
                  </a:lnTo>
                  <a:lnTo>
                    <a:pt x="935" y="220"/>
                  </a:lnTo>
                  <a:lnTo>
                    <a:pt x="904" y="110"/>
                  </a:lnTo>
                  <a:lnTo>
                    <a:pt x="785" y="110"/>
                  </a:lnTo>
                  <a:lnTo>
                    <a:pt x="702" y="171"/>
                  </a:lnTo>
                  <a:lnTo>
                    <a:pt x="631" y="171"/>
                  </a:lnTo>
                  <a:lnTo>
                    <a:pt x="644" y="0"/>
                  </a:lnTo>
                  <a:lnTo>
                    <a:pt x="486" y="79"/>
                  </a:lnTo>
                  <a:lnTo>
                    <a:pt x="260" y="361"/>
                  </a:lnTo>
                  <a:lnTo>
                    <a:pt x="251" y="171"/>
                  </a:lnTo>
                  <a:lnTo>
                    <a:pt x="132" y="264"/>
                  </a:lnTo>
                  <a:lnTo>
                    <a:pt x="101" y="503"/>
                  </a:lnTo>
                  <a:lnTo>
                    <a:pt x="0" y="459"/>
                  </a:lnTo>
                  <a:lnTo>
                    <a:pt x="17" y="613"/>
                  </a:lnTo>
                  <a:lnTo>
                    <a:pt x="163"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7583400" y="1382760"/>
              <a:ext cx="152640" cy="798840"/>
            </a:xfrm>
            <a:custGeom>
              <a:avLst/>
              <a:gdLst/>
              <a:ahLst/>
              <a:rect l="0" t="0" r="r" b="b"/>
              <a:pathLst>
                <a:path w="424" h="2219">
                  <a:moveTo>
                    <a:pt x="217" y="13"/>
                  </a:moveTo>
                  <a:lnTo>
                    <a:pt x="74" y="110"/>
                  </a:lnTo>
                  <a:lnTo>
                    <a:pt x="74" y="295"/>
                  </a:lnTo>
                  <a:lnTo>
                    <a:pt x="176" y="357"/>
                  </a:lnTo>
                  <a:lnTo>
                    <a:pt x="39" y="652"/>
                  </a:lnTo>
                  <a:lnTo>
                    <a:pt x="0" y="1040"/>
                  </a:lnTo>
                  <a:lnTo>
                    <a:pt x="105" y="1553"/>
                  </a:lnTo>
                  <a:lnTo>
                    <a:pt x="105" y="1769"/>
                  </a:lnTo>
                  <a:lnTo>
                    <a:pt x="48" y="1932"/>
                  </a:lnTo>
                  <a:lnTo>
                    <a:pt x="269" y="2219"/>
                  </a:lnTo>
                  <a:lnTo>
                    <a:pt x="411" y="1786"/>
                  </a:lnTo>
                  <a:lnTo>
                    <a:pt x="411" y="1491"/>
                  </a:lnTo>
                  <a:lnTo>
                    <a:pt x="305" y="1213"/>
                  </a:lnTo>
                  <a:lnTo>
                    <a:pt x="252" y="837"/>
                  </a:lnTo>
                  <a:lnTo>
                    <a:pt x="358" y="471"/>
                  </a:lnTo>
                  <a:lnTo>
                    <a:pt x="322" y="326"/>
                  </a:lnTo>
                  <a:lnTo>
                    <a:pt x="424" y="251"/>
                  </a:lnTo>
                  <a:lnTo>
                    <a:pt x="411" y="154"/>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577280" y="1116000"/>
              <a:ext cx="124200" cy="73440"/>
            </a:xfrm>
            <a:custGeom>
              <a:avLst/>
              <a:gdLst/>
              <a:ahLst/>
              <a:rect l="0" t="0" r="r" b="b"/>
              <a:pathLst>
                <a:path w="345" h="204">
                  <a:moveTo>
                    <a:pt x="0" y="62"/>
                  </a:moveTo>
                  <a:lnTo>
                    <a:pt x="137" y="204"/>
                  </a:lnTo>
                  <a:lnTo>
                    <a:pt x="275" y="187"/>
                  </a:lnTo>
                  <a:lnTo>
                    <a:pt x="345" y="17"/>
                  </a:lnTo>
                  <a:lnTo>
                    <a:pt x="190"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41" name=""/>
            <p:cNvSpPr/>
            <p:nvPr/>
          </p:nvSpPr>
          <p:spPr>
            <a:xfrm>
              <a:off x="7442280" y="747720"/>
              <a:ext cx="154440" cy="155880"/>
            </a:xfrm>
            <a:custGeom>
              <a:avLst/>
              <a:gdLst/>
              <a:ahLst/>
              <a:rect l="0" t="0" r="r" b="b"/>
              <a:pathLst>
                <a:path w="429" h="433">
                  <a:moveTo>
                    <a:pt x="0" y="48"/>
                  </a:moveTo>
                  <a:lnTo>
                    <a:pt x="296"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711920" y="714240"/>
              <a:ext cx="132120" cy="155880"/>
            </a:xfrm>
            <a:custGeom>
              <a:avLst/>
              <a:gdLst/>
              <a:ahLst/>
              <a:rect l="0" t="0" r="r" b="b"/>
              <a:pathLst>
                <a:path w="367" h="433">
                  <a:moveTo>
                    <a:pt x="0" y="61"/>
                  </a:moveTo>
                  <a:lnTo>
                    <a:pt x="252" y="433"/>
                  </a:lnTo>
                  <a:lnTo>
                    <a:pt x="367" y="336"/>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386480" y="512640"/>
              <a:ext cx="535320" cy="390960"/>
            </a:xfrm>
            <a:custGeom>
              <a:avLst/>
              <a:gdLst/>
              <a:ahLst/>
              <a:rect l="0" t="0" r="r" b="b"/>
              <a:pathLst>
                <a:path w="1487" h="1086">
                  <a:moveTo>
                    <a:pt x="683" y="644"/>
                  </a:moveTo>
                  <a:lnTo>
                    <a:pt x="546" y="605"/>
                  </a:lnTo>
                  <a:lnTo>
                    <a:pt x="661" y="508"/>
                  </a:lnTo>
                  <a:lnTo>
                    <a:pt x="621" y="455"/>
                  </a:lnTo>
                  <a:lnTo>
                    <a:pt x="467" y="583"/>
                  </a:lnTo>
                  <a:lnTo>
                    <a:pt x="185" y="613"/>
                  </a:lnTo>
                  <a:lnTo>
                    <a:pt x="0" y="622"/>
                  </a:lnTo>
                  <a:lnTo>
                    <a:pt x="0" y="772"/>
                  </a:lnTo>
                  <a:lnTo>
                    <a:pt x="180" y="1077"/>
                  </a:lnTo>
                  <a:lnTo>
                    <a:pt x="220" y="1086"/>
                  </a:lnTo>
                  <a:lnTo>
                    <a:pt x="61" y="750"/>
                  </a:lnTo>
                  <a:lnTo>
                    <a:pt x="308" y="644"/>
                  </a:lnTo>
                  <a:lnTo>
                    <a:pt x="467" y="644"/>
                  </a:lnTo>
                  <a:lnTo>
                    <a:pt x="590" y="710"/>
                  </a:lnTo>
                  <a:lnTo>
                    <a:pt x="621" y="803"/>
                  </a:lnTo>
                  <a:lnTo>
                    <a:pt x="621" y="1011"/>
                  </a:lnTo>
                  <a:lnTo>
                    <a:pt x="621" y="1077"/>
                  </a:lnTo>
                  <a:lnTo>
                    <a:pt x="692" y="980"/>
                  </a:lnTo>
                  <a:lnTo>
                    <a:pt x="692" y="763"/>
                  </a:lnTo>
                  <a:lnTo>
                    <a:pt x="799" y="763"/>
                  </a:lnTo>
                  <a:lnTo>
                    <a:pt x="847" y="1011"/>
                  </a:lnTo>
                  <a:lnTo>
                    <a:pt x="904" y="1033"/>
                  </a:lnTo>
                  <a:lnTo>
                    <a:pt x="1085" y="1033"/>
                  </a:lnTo>
                  <a:lnTo>
                    <a:pt x="1271" y="989"/>
                  </a:lnTo>
                  <a:lnTo>
                    <a:pt x="1398" y="897"/>
                  </a:lnTo>
                  <a:lnTo>
                    <a:pt x="1416" y="675"/>
                  </a:lnTo>
                  <a:lnTo>
                    <a:pt x="1487" y="583"/>
                  </a:lnTo>
                  <a:lnTo>
                    <a:pt x="1442" y="525"/>
                  </a:lnTo>
                  <a:lnTo>
                    <a:pt x="1279" y="464"/>
                  </a:lnTo>
                  <a:lnTo>
                    <a:pt x="1253" y="242"/>
                  </a:lnTo>
                  <a:lnTo>
                    <a:pt x="1099" y="242"/>
                  </a:lnTo>
                  <a:lnTo>
                    <a:pt x="913" y="0"/>
                  </a:lnTo>
                  <a:lnTo>
                    <a:pt x="1081" y="268"/>
                  </a:lnTo>
                  <a:lnTo>
                    <a:pt x="1134" y="268"/>
                  </a:lnTo>
                  <a:lnTo>
                    <a:pt x="1169" y="455"/>
                  </a:lnTo>
                  <a:lnTo>
                    <a:pt x="962" y="525"/>
                  </a:lnTo>
                  <a:lnTo>
                    <a:pt x="807" y="472"/>
                  </a:lnTo>
                  <a:lnTo>
                    <a:pt x="785" y="525"/>
                  </a:lnTo>
                  <a:lnTo>
                    <a:pt x="865" y="583"/>
                  </a:lnTo>
                  <a:lnTo>
                    <a:pt x="865" y="636"/>
                  </a:lnTo>
                  <a:lnTo>
                    <a:pt x="1046" y="552"/>
                  </a:lnTo>
                  <a:lnTo>
                    <a:pt x="1196" y="538"/>
                  </a:lnTo>
                  <a:lnTo>
                    <a:pt x="1363" y="561"/>
                  </a:lnTo>
                  <a:lnTo>
                    <a:pt x="1363" y="591"/>
                  </a:lnTo>
                  <a:lnTo>
                    <a:pt x="1284" y="666"/>
                  </a:lnTo>
                  <a:lnTo>
                    <a:pt x="1253" y="763"/>
                  </a:lnTo>
                  <a:lnTo>
                    <a:pt x="1244" y="897"/>
                  </a:lnTo>
                  <a:lnTo>
                    <a:pt x="1147" y="950"/>
                  </a:lnTo>
                  <a:lnTo>
                    <a:pt x="1002" y="967"/>
                  </a:lnTo>
                  <a:lnTo>
                    <a:pt x="904" y="967"/>
                  </a:lnTo>
                  <a:lnTo>
                    <a:pt x="869" y="928"/>
                  </a:lnTo>
                  <a:lnTo>
                    <a:pt x="847" y="675"/>
                  </a:lnTo>
                  <a:lnTo>
                    <a:pt x="692" y="675"/>
                  </a:lnTo>
                  <a:lnTo>
                    <a:pt x="68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7570800" y="963720"/>
              <a:ext cx="173520" cy="79560"/>
            </a:xfrm>
            <a:custGeom>
              <a:avLst/>
              <a:gdLst/>
              <a:ahLst/>
              <a:rect l="0" t="0" r="r" b="b"/>
              <a:pathLst>
                <a:path w="482" h="221">
                  <a:moveTo>
                    <a:pt x="0" y="0"/>
                  </a:moveTo>
                  <a:lnTo>
                    <a:pt x="79" y="101"/>
                  </a:lnTo>
                  <a:lnTo>
                    <a:pt x="287" y="101"/>
                  </a:lnTo>
                  <a:lnTo>
                    <a:pt x="372" y="30"/>
                  </a:lnTo>
                  <a:lnTo>
                    <a:pt x="482" y="30"/>
                  </a:lnTo>
                  <a:lnTo>
                    <a:pt x="465" y="66"/>
                  </a:lnTo>
                  <a:lnTo>
                    <a:pt x="465" y="101"/>
                  </a:lnTo>
                  <a:lnTo>
                    <a:pt x="265" y="221"/>
                  </a:lnTo>
                  <a:lnTo>
                    <a:pt x="159"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45" name=""/>
            <p:cNvSpPr/>
            <p:nvPr/>
          </p:nvSpPr>
          <p:spPr>
            <a:xfrm>
              <a:off x="737712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75" y="980"/>
                  </a:lnTo>
                  <a:lnTo>
                    <a:pt x="464" y="1170"/>
                  </a:lnTo>
                  <a:lnTo>
                    <a:pt x="375" y="1033"/>
                  </a:lnTo>
                  <a:lnTo>
                    <a:pt x="340" y="888"/>
                  </a:lnTo>
                  <a:lnTo>
                    <a:pt x="283" y="494"/>
                  </a:lnTo>
                  <a:lnTo>
                    <a:pt x="225" y="516"/>
                  </a:lnTo>
                  <a:lnTo>
                    <a:pt x="154" y="472"/>
                  </a:lnTo>
                  <a:lnTo>
                    <a:pt x="17" y="264"/>
                  </a:lnTo>
                  <a:lnTo>
                    <a:pt x="0" y="149"/>
                  </a:lnTo>
                  <a:lnTo>
                    <a:pt x="0" y="70"/>
                  </a:lnTo>
                  <a:lnTo>
                    <a:pt x="30" y="22"/>
                  </a:lnTo>
                  <a:lnTo>
                    <a:pt x="114" y="0"/>
                  </a:lnTo>
                  <a:lnTo>
                    <a:pt x="123" y="30"/>
                  </a:lnTo>
                  <a:lnTo>
                    <a:pt x="57" y="52"/>
                  </a:lnTo>
                  <a:lnTo>
                    <a:pt x="44" y="141"/>
                  </a:lnTo>
                  <a:lnTo>
                    <a:pt x="52" y="251"/>
                  </a:lnTo>
                  <a:lnTo>
                    <a:pt x="145" y="349"/>
                  </a:lnTo>
                  <a:lnTo>
                    <a:pt x="190" y="327"/>
                  </a:lnTo>
                  <a:lnTo>
                    <a:pt x="190" y="114"/>
                  </a:lnTo>
                  <a:lnTo>
                    <a:pt x="274" y="158"/>
                  </a:lnTo>
                  <a:lnTo>
                    <a:pt x="406" y="189"/>
                  </a:lnTo>
                  <a:lnTo>
                    <a:pt x="530"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7448400" y="501480"/>
              <a:ext cx="78120" cy="224280"/>
            </a:xfrm>
            <a:custGeom>
              <a:avLst/>
              <a:gdLst/>
              <a:ahLst/>
              <a:rect l="0" t="0" r="r" b="b"/>
              <a:pathLst>
                <a:path w="217" h="623">
                  <a:moveTo>
                    <a:pt x="111" y="623"/>
                  </a:moveTo>
                  <a:lnTo>
                    <a:pt x="217" y="256"/>
                  </a:lnTo>
                  <a:lnTo>
                    <a:pt x="26" y="123"/>
                  </a:lnTo>
                  <a:lnTo>
                    <a:pt x="0" y="0"/>
                  </a:lnTo>
                  <a:lnTo>
                    <a:pt x="17" y="149"/>
                  </a:lnTo>
                  <a:lnTo>
                    <a:pt x="79" y="212"/>
                  </a:lnTo>
                  <a:lnTo>
                    <a:pt x="83" y="397"/>
                  </a:lnTo>
                  <a:lnTo>
                    <a:pt x="133"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7445520" y="304920"/>
              <a:ext cx="587880" cy="295560"/>
            </a:xfrm>
            <a:custGeom>
              <a:avLst/>
              <a:gdLst/>
              <a:ahLst/>
              <a:rect l="0" t="0" r="r" b="b"/>
              <a:pathLst>
                <a:path w="1633" h="821">
                  <a:moveTo>
                    <a:pt x="17" y="556"/>
                  </a:moveTo>
                  <a:lnTo>
                    <a:pt x="154" y="640"/>
                  </a:lnTo>
                  <a:lnTo>
                    <a:pt x="141" y="534"/>
                  </a:lnTo>
                  <a:lnTo>
                    <a:pt x="167" y="348"/>
                  </a:lnTo>
                  <a:lnTo>
                    <a:pt x="260" y="308"/>
                  </a:lnTo>
                  <a:lnTo>
                    <a:pt x="273" y="508"/>
                  </a:lnTo>
                  <a:lnTo>
                    <a:pt x="547" y="158"/>
                  </a:lnTo>
                  <a:lnTo>
                    <a:pt x="613" y="136"/>
                  </a:lnTo>
                  <a:lnTo>
                    <a:pt x="565" y="273"/>
                  </a:lnTo>
                  <a:lnTo>
                    <a:pt x="733" y="339"/>
                  </a:lnTo>
                  <a:lnTo>
                    <a:pt x="860" y="202"/>
                  </a:lnTo>
                  <a:lnTo>
                    <a:pt x="927" y="242"/>
                  </a:lnTo>
                  <a:lnTo>
                    <a:pt x="869" y="361"/>
                  </a:lnTo>
                  <a:lnTo>
                    <a:pt x="949" y="295"/>
                  </a:lnTo>
                  <a:lnTo>
                    <a:pt x="1072" y="348"/>
                  </a:lnTo>
                  <a:lnTo>
                    <a:pt x="971" y="446"/>
                  </a:lnTo>
                  <a:lnTo>
                    <a:pt x="1311" y="508"/>
                  </a:lnTo>
                  <a:lnTo>
                    <a:pt x="1081" y="578"/>
                  </a:lnTo>
                  <a:lnTo>
                    <a:pt x="1364" y="618"/>
                  </a:lnTo>
                  <a:lnTo>
                    <a:pt x="1032" y="697"/>
                  </a:lnTo>
                  <a:lnTo>
                    <a:pt x="1103" y="759"/>
                  </a:lnTo>
                  <a:lnTo>
                    <a:pt x="1006" y="821"/>
                  </a:lnTo>
                  <a:lnTo>
                    <a:pt x="1178" y="821"/>
                  </a:lnTo>
                  <a:lnTo>
                    <a:pt x="1160" y="772"/>
                  </a:lnTo>
                  <a:lnTo>
                    <a:pt x="1338" y="816"/>
                  </a:lnTo>
                  <a:lnTo>
                    <a:pt x="1311" y="684"/>
                  </a:lnTo>
                  <a:lnTo>
                    <a:pt x="1474" y="627"/>
                  </a:lnTo>
                  <a:lnTo>
                    <a:pt x="1355" y="565"/>
                  </a:lnTo>
                  <a:lnTo>
                    <a:pt x="1633" y="547"/>
                  </a:lnTo>
                  <a:lnTo>
                    <a:pt x="1395" y="415"/>
                  </a:lnTo>
                  <a:lnTo>
                    <a:pt x="1121" y="383"/>
                  </a:lnTo>
                  <a:lnTo>
                    <a:pt x="1338" y="251"/>
                  </a:lnTo>
                  <a:lnTo>
                    <a:pt x="949" y="251"/>
                  </a:lnTo>
                  <a:lnTo>
                    <a:pt x="1134" y="123"/>
                  </a:lnTo>
                  <a:lnTo>
                    <a:pt x="852" y="158"/>
                  </a:lnTo>
                  <a:lnTo>
                    <a:pt x="719" y="220"/>
                  </a:lnTo>
                  <a:lnTo>
                    <a:pt x="834" y="0"/>
                  </a:lnTo>
                  <a:lnTo>
                    <a:pt x="494" y="123"/>
                  </a:lnTo>
                  <a:lnTo>
                    <a:pt x="304" y="392"/>
                  </a:lnTo>
                  <a:lnTo>
                    <a:pt x="273" y="242"/>
                  </a:lnTo>
                  <a:lnTo>
                    <a:pt x="119" y="348"/>
                  </a:lnTo>
                  <a:lnTo>
                    <a:pt x="101"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7574040" y="461880"/>
              <a:ext cx="165600" cy="89280"/>
            </a:xfrm>
            <a:custGeom>
              <a:avLst/>
              <a:gdLst/>
              <a:ahLst/>
              <a:rect l="0" t="0" r="r" b="b"/>
              <a:pathLst>
                <a:path w="460" h="248">
                  <a:moveTo>
                    <a:pt x="0" y="248"/>
                  </a:moveTo>
                  <a:lnTo>
                    <a:pt x="172" y="0"/>
                  </a:lnTo>
                  <a:lnTo>
                    <a:pt x="172" y="164"/>
                  </a:lnTo>
                  <a:lnTo>
                    <a:pt x="234" y="98"/>
                  </a:lnTo>
                  <a:lnTo>
                    <a:pt x="287" y="191"/>
                  </a:lnTo>
                  <a:lnTo>
                    <a:pt x="460" y="235"/>
                  </a:lnTo>
                  <a:lnTo>
                    <a:pt x="278" y="204"/>
                  </a:lnTo>
                  <a:lnTo>
                    <a:pt x="221" y="142"/>
                  </a:lnTo>
                  <a:lnTo>
                    <a:pt x="146" y="204"/>
                  </a:lnTo>
                  <a:lnTo>
                    <a:pt x="146"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49" name=""/>
            <p:cNvSpPr/>
            <p:nvPr/>
          </p:nvSpPr>
          <p:spPr>
            <a:xfrm>
              <a:off x="7558200" y="1066680"/>
              <a:ext cx="200520" cy="132120"/>
            </a:xfrm>
            <a:custGeom>
              <a:avLst/>
              <a:gdLst/>
              <a:ahLst/>
              <a:rect l="0" t="0" r="r" b="b"/>
              <a:pathLst>
                <a:path w="557" h="367">
                  <a:moveTo>
                    <a:pt x="105" y="127"/>
                  </a:moveTo>
                  <a:lnTo>
                    <a:pt x="331" y="110"/>
                  </a:lnTo>
                  <a:lnTo>
                    <a:pt x="442" y="136"/>
                  </a:lnTo>
                  <a:lnTo>
                    <a:pt x="500" y="83"/>
                  </a:lnTo>
                  <a:lnTo>
                    <a:pt x="557" y="203"/>
                  </a:lnTo>
                  <a:lnTo>
                    <a:pt x="517" y="225"/>
                  </a:lnTo>
                  <a:lnTo>
                    <a:pt x="473" y="180"/>
                  </a:lnTo>
                  <a:lnTo>
                    <a:pt x="397" y="265"/>
                  </a:lnTo>
                  <a:lnTo>
                    <a:pt x="261" y="367"/>
                  </a:lnTo>
                  <a:lnTo>
                    <a:pt x="195" y="367"/>
                  </a:lnTo>
                  <a:lnTo>
                    <a:pt x="105" y="314"/>
                  </a:lnTo>
                  <a:lnTo>
                    <a:pt x="208" y="358"/>
                  </a:lnTo>
                  <a:lnTo>
                    <a:pt x="247" y="358"/>
                  </a:lnTo>
                  <a:lnTo>
                    <a:pt x="331" y="292"/>
                  </a:lnTo>
                  <a:lnTo>
                    <a:pt x="393" y="167"/>
                  </a:lnTo>
                  <a:lnTo>
                    <a:pt x="300" y="149"/>
                  </a:lnTo>
                  <a:lnTo>
                    <a:pt x="243" y="136"/>
                  </a:lnTo>
                  <a:lnTo>
                    <a:pt x="92" y="158"/>
                  </a:lnTo>
                  <a:lnTo>
                    <a:pt x="88" y="256"/>
                  </a:lnTo>
                  <a:lnTo>
                    <a:pt x="44" y="195"/>
                  </a:lnTo>
                  <a:lnTo>
                    <a:pt x="0" y="278"/>
                  </a:lnTo>
                  <a:lnTo>
                    <a:pt x="4" y="97"/>
                  </a:lnTo>
                  <a:lnTo>
                    <a:pt x="57" y="0"/>
                  </a:lnTo>
                  <a:lnTo>
                    <a:pt x="105" y="97"/>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7532640" y="779400"/>
              <a:ext cx="427320" cy="609840"/>
            </a:xfrm>
            <a:custGeom>
              <a:avLst/>
              <a:gdLst/>
              <a:ahLst/>
              <a:rect l="0" t="0" r="r" b="b"/>
              <a:pathLst>
                <a:path w="1187" h="1694">
                  <a:moveTo>
                    <a:pt x="1002" y="0"/>
                  </a:moveTo>
                  <a:lnTo>
                    <a:pt x="1116" y="0"/>
                  </a:lnTo>
                  <a:lnTo>
                    <a:pt x="1187" y="83"/>
                  </a:lnTo>
                  <a:lnTo>
                    <a:pt x="1187" y="176"/>
                  </a:lnTo>
                  <a:lnTo>
                    <a:pt x="1090" y="440"/>
                  </a:lnTo>
                  <a:lnTo>
                    <a:pt x="993" y="568"/>
                  </a:lnTo>
                  <a:lnTo>
                    <a:pt x="891" y="586"/>
                  </a:lnTo>
                  <a:lnTo>
                    <a:pt x="865" y="586"/>
                  </a:lnTo>
                  <a:lnTo>
                    <a:pt x="865" y="918"/>
                  </a:lnTo>
                  <a:lnTo>
                    <a:pt x="909" y="1160"/>
                  </a:lnTo>
                  <a:lnTo>
                    <a:pt x="909" y="1359"/>
                  </a:lnTo>
                  <a:lnTo>
                    <a:pt x="733" y="1557"/>
                  </a:lnTo>
                  <a:lnTo>
                    <a:pt x="485" y="1694"/>
                  </a:lnTo>
                  <a:lnTo>
                    <a:pt x="326" y="1694"/>
                  </a:lnTo>
                  <a:lnTo>
                    <a:pt x="251" y="1654"/>
                  </a:lnTo>
                  <a:lnTo>
                    <a:pt x="141" y="1420"/>
                  </a:lnTo>
                  <a:lnTo>
                    <a:pt x="39" y="1337"/>
                  </a:lnTo>
                  <a:lnTo>
                    <a:pt x="0" y="1275"/>
                  </a:lnTo>
                  <a:lnTo>
                    <a:pt x="132" y="1359"/>
                  </a:lnTo>
                  <a:lnTo>
                    <a:pt x="229" y="1442"/>
                  </a:lnTo>
                  <a:lnTo>
                    <a:pt x="418" y="1456"/>
                  </a:lnTo>
                  <a:lnTo>
                    <a:pt x="590" y="1372"/>
                  </a:lnTo>
                  <a:lnTo>
                    <a:pt x="680" y="1275"/>
                  </a:lnTo>
                  <a:lnTo>
                    <a:pt x="777" y="1103"/>
                  </a:lnTo>
                  <a:lnTo>
                    <a:pt x="794" y="900"/>
                  </a:lnTo>
                  <a:lnTo>
                    <a:pt x="830" y="251"/>
                  </a:lnTo>
                  <a:lnTo>
                    <a:pt x="869" y="343"/>
                  </a:lnTo>
                  <a:lnTo>
                    <a:pt x="988" y="224"/>
                  </a:lnTo>
                  <a:lnTo>
                    <a:pt x="1107" y="176"/>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6870600" y="1306440"/>
              <a:ext cx="344880" cy="563760"/>
            </a:xfrm>
            <a:custGeom>
              <a:avLst/>
              <a:gdLst/>
              <a:ahLst/>
              <a:rect l="0" t="0" r="r" b="b"/>
              <a:pathLst>
                <a:path w="958" h="1566">
                  <a:moveTo>
                    <a:pt x="119" y="0"/>
                  </a:moveTo>
                  <a:lnTo>
                    <a:pt x="229" y="70"/>
                  </a:lnTo>
                  <a:lnTo>
                    <a:pt x="314" y="392"/>
                  </a:lnTo>
                  <a:lnTo>
                    <a:pt x="561" y="463"/>
                  </a:lnTo>
                  <a:lnTo>
                    <a:pt x="631" y="546"/>
                  </a:lnTo>
                  <a:lnTo>
                    <a:pt x="640" y="665"/>
                  </a:lnTo>
                  <a:lnTo>
                    <a:pt x="764" y="648"/>
                  </a:lnTo>
                  <a:lnTo>
                    <a:pt x="910" y="749"/>
                  </a:lnTo>
                  <a:lnTo>
                    <a:pt x="958" y="874"/>
                  </a:lnTo>
                  <a:lnTo>
                    <a:pt x="958" y="1094"/>
                  </a:lnTo>
                  <a:lnTo>
                    <a:pt x="764" y="1429"/>
                  </a:lnTo>
                  <a:lnTo>
                    <a:pt x="697" y="1566"/>
                  </a:lnTo>
                  <a:lnTo>
                    <a:pt x="734" y="1385"/>
                  </a:lnTo>
                  <a:lnTo>
                    <a:pt x="697" y="1315"/>
                  </a:lnTo>
                  <a:lnTo>
                    <a:pt x="578" y="1200"/>
                  </a:lnTo>
                  <a:lnTo>
                    <a:pt x="393" y="1063"/>
                  </a:lnTo>
                  <a:lnTo>
                    <a:pt x="618" y="1143"/>
                  </a:lnTo>
                  <a:lnTo>
                    <a:pt x="751" y="1244"/>
                  </a:lnTo>
                  <a:lnTo>
                    <a:pt x="817" y="1231"/>
                  </a:lnTo>
                  <a:lnTo>
                    <a:pt x="861" y="1173"/>
                  </a:lnTo>
                  <a:lnTo>
                    <a:pt x="910" y="1015"/>
                  </a:lnTo>
                  <a:lnTo>
                    <a:pt x="897" y="860"/>
                  </a:lnTo>
                  <a:lnTo>
                    <a:pt x="826" y="776"/>
                  </a:lnTo>
                  <a:lnTo>
                    <a:pt x="706" y="749"/>
                  </a:lnTo>
                  <a:lnTo>
                    <a:pt x="578" y="749"/>
                  </a:lnTo>
                  <a:lnTo>
                    <a:pt x="534" y="515"/>
                  </a:lnTo>
                  <a:lnTo>
                    <a:pt x="327" y="436"/>
                  </a:lnTo>
                  <a:lnTo>
                    <a:pt x="327" y="502"/>
                  </a:lnTo>
                  <a:lnTo>
                    <a:pt x="229" y="335"/>
                  </a:lnTo>
                  <a:lnTo>
                    <a:pt x="176" y="70"/>
                  </a:lnTo>
                  <a:lnTo>
                    <a:pt x="92" y="44"/>
                  </a:lnTo>
                  <a:lnTo>
                    <a:pt x="48" y="123"/>
                  </a:lnTo>
                  <a:lnTo>
                    <a:pt x="48" y="304"/>
                  </a:lnTo>
                  <a:lnTo>
                    <a:pt x="83" y="502"/>
                  </a:lnTo>
                  <a:lnTo>
                    <a:pt x="198" y="665"/>
                  </a:lnTo>
                  <a:lnTo>
                    <a:pt x="74" y="564"/>
                  </a:lnTo>
                  <a:lnTo>
                    <a:pt x="13"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6705720" y="1554120"/>
              <a:ext cx="227520" cy="452880"/>
            </a:xfrm>
            <a:custGeom>
              <a:avLst/>
              <a:gdLst/>
              <a:ahLst/>
              <a:rect l="0" t="0" r="r" b="b"/>
              <a:pathLst>
                <a:path w="632" h="1258">
                  <a:moveTo>
                    <a:pt x="632" y="0"/>
                  </a:moveTo>
                  <a:lnTo>
                    <a:pt x="500" y="83"/>
                  </a:lnTo>
                  <a:lnTo>
                    <a:pt x="349" y="389"/>
                  </a:lnTo>
                  <a:lnTo>
                    <a:pt x="199" y="587"/>
                  </a:lnTo>
                  <a:lnTo>
                    <a:pt x="17" y="825"/>
                  </a:lnTo>
                  <a:lnTo>
                    <a:pt x="0" y="950"/>
                  </a:lnTo>
                  <a:lnTo>
                    <a:pt x="35" y="1060"/>
                  </a:lnTo>
                  <a:lnTo>
                    <a:pt x="123" y="1060"/>
                  </a:lnTo>
                  <a:lnTo>
                    <a:pt x="243" y="950"/>
                  </a:lnTo>
                  <a:lnTo>
                    <a:pt x="336" y="724"/>
                  </a:lnTo>
                  <a:lnTo>
                    <a:pt x="464" y="587"/>
                  </a:lnTo>
                  <a:lnTo>
                    <a:pt x="464" y="768"/>
                  </a:lnTo>
                  <a:lnTo>
                    <a:pt x="446" y="935"/>
                  </a:lnTo>
                  <a:lnTo>
                    <a:pt x="309" y="1157"/>
                  </a:lnTo>
                  <a:lnTo>
                    <a:pt x="309" y="1227"/>
                  </a:lnTo>
                  <a:lnTo>
                    <a:pt x="446" y="1258"/>
                  </a:lnTo>
                  <a:lnTo>
                    <a:pt x="349" y="1197"/>
                  </a:lnTo>
                  <a:lnTo>
                    <a:pt x="362" y="1157"/>
                  </a:lnTo>
                  <a:lnTo>
                    <a:pt x="455" y="994"/>
                  </a:lnTo>
                  <a:lnTo>
                    <a:pt x="522" y="697"/>
                  </a:lnTo>
                  <a:lnTo>
                    <a:pt x="478" y="530"/>
                  </a:lnTo>
                  <a:lnTo>
                    <a:pt x="375" y="627"/>
                  </a:lnTo>
                  <a:lnTo>
                    <a:pt x="149" y="1003"/>
                  </a:lnTo>
                  <a:lnTo>
                    <a:pt x="88" y="1016"/>
                  </a:lnTo>
                  <a:lnTo>
                    <a:pt x="35" y="976"/>
                  </a:lnTo>
                  <a:lnTo>
                    <a:pt x="35" y="860"/>
                  </a:lnTo>
                  <a:lnTo>
                    <a:pt x="123" y="710"/>
                  </a:lnTo>
                  <a:lnTo>
                    <a:pt x="375" y="406"/>
                  </a:lnTo>
                  <a:lnTo>
                    <a:pt x="522" y="114"/>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6873840" y="1809720"/>
              <a:ext cx="141480" cy="217800"/>
            </a:xfrm>
            <a:custGeom>
              <a:avLst/>
              <a:gdLst/>
              <a:ahLst/>
              <a:rect l="0" t="0" r="r" b="b"/>
              <a:pathLst>
                <a:path w="393" h="605">
                  <a:moveTo>
                    <a:pt x="0" y="534"/>
                  </a:moveTo>
                  <a:lnTo>
                    <a:pt x="127" y="380"/>
                  </a:lnTo>
                  <a:lnTo>
                    <a:pt x="154" y="224"/>
                  </a:lnTo>
                  <a:lnTo>
                    <a:pt x="305" y="0"/>
                  </a:lnTo>
                  <a:lnTo>
                    <a:pt x="336" y="149"/>
                  </a:lnTo>
                  <a:lnTo>
                    <a:pt x="314" y="547"/>
                  </a:lnTo>
                  <a:lnTo>
                    <a:pt x="393" y="605"/>
                  </a:lnTo>
                  <a:lnTo>
                    <a:pt x="278" y="561"/>
                  </a:lnTo>
                  <a:lnTo>
                    <a:pt x="221"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a:off x="7047000" y="1820880"/>
              <a:ext cx="93960" cy="195480"/>
            </a:xfrm>
            <a:custGeom>
              <a:avLst/>
              <a:gdLst/>
              <a:ahLst/>
              <a:rect l="0" t="0" r="r" b="b"/>
              <a:pathLst>
                <a:path w="261" h="543">
                  <a:moveTo>
                    <a:pt x="0" y="406"/>
                  </a:moveTo>
                  <a:lnTo>
                    <a:pt x="13" y="207"/>
                  </a:lnTo>
                  <a:lnTo>
                    <a:pt x="66" y="88"/>
                  </a:lnTo>
                  <a:lnTo>
                    <a:pt x="127" y="516"/>
                  </a:lnTo>
                  <a:lnTo>
                    <a:pt x="208" y="516"/>
                  </a:lnTo>
                  <a:lnTo>
                    <a:pt x="243" y="61"/>
                  </a:lnTo>
                  <a:lnTo>
                    <a:pt x="261" y="0"/>
                  </a:lnTo>
                  <a:lnTo>
                    <a:pt x="243" y="353"/>
                  </a:lnTo>
                  <a:lnTo>
                    <a:pt x="208" y="543"/>
                  </a:lnTo>
                  <a:lnTo>
                    <a:pt x="101"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8232840" y="1055520"/>
              <a:ext cx="225720" cy="519480"/>
            </a:xfrm>
            <a:custGeom>
              <a:avLst/>
              <a:gdLst/>
              <a:ahLst/>
              <a:rect l="0" t="0" r="r" b="b"/>
              <a:pathLst>
                <a:path w="627" h="1443">
                  <a:moveTo>
                    <a:pt x="163" y="781"/>
                  </a:moveTo>
                  <a:lnTo>
                    <a:pt x="211" y="556"/>
                  </a:lnTo>
                  <a:lnTo>
                    <a:pt x="424" y="499"/>
                  </a:lnTo>
                  <a:lnTo>
                    <a:pt x="627" y="0"/>
                  </a:lnTo>
                  <a:lnTo>
                    <a:pt x="627" y="145"/>
                  </a:lnTo>
                  <a:lnTo>
                    <a:pt x="455" y="530"/>
                  </a:lnTo>
                  <a:lnTo>
                    <a:pt x="229" y="600"/>
                  </a:lnTo>
                  <a:lnTo>
                    <a:pt x="198" y="781"/>
                  </a:lnTo>
                  <a:lnTo>
                    <a:pt x="277" y="781"/>
                  </a:lnTo>
                  <a:lnTo>
                    <a:pt x="83" y="860"/>
                  </a:lnTo>
                  <a:lnTo>
                    <a:pt x="35" y="1015"/>
                  </a:lnTo>
                  <a:lnTo>
                    <a:pt x="48" y="1214"/>
                  </a:lnTo>
                  <a:lnTo>
                    <a:pt x="255" y="1443"/>
                  </a:lnTo>
                  <a:lnTo>
                    <a:pt x="35" y="1241"/>
                  </a:lnTo>
                  <a:lnTo>
                    <a:pt x="0" y="1072"/>
                  </a:lnTo>
                  <a:lnTo>
                    <a:pt x="17" y="904"/>
                  </a:lnTo>
                  <a:lnTo>
                    <a:pt x="92" y="785"/>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8385120" y="1055520"/>
              <a:ext cx="376560" cy="503640"/>
            </a:xfrm>
            <a:custGeom>
              <a:avLst/>
              <a:gdLst/>
              <a:ahLst/>
              <a:rect l="0" t="0" r="r" b="b"/>
              <a:pathLst>
                <a:path w="1046" h="1399">
                  <a:moveTo>
                    <a:pt x="286" y="0"/>
                  </a:moveTo>
                  <a:lnTo>
                    <a:pt x="352" y="44"/>
                  </a:lnTo>
                  <a:lnTo>
                    <a:pt x="370" y="163"/>
                  </a:lnTo>
                  <a:lnTo>
                    <a:pt x="370" y="273"/>
                  </a:lnTo>
                  <a:lnTo>
                    <a:pt x="255" y="477"/>
                  </a:lnTo>
                  <a:lnTo>
                    <a:pt x="277" y="627"/>
                  </a:lnTo>
                  <a:lnTo>
                    <a:pt x="627" y="785"/>
                  </a:lnTo>
                  <a:lnTo>
                    <a:pt x="1037" y="1227"/>
                  </a:lnTo>
                  <a:lnTo>
                    <a:pt x="1046" y="1346"/>
                  </a:lnTo>
                  <a:lnTo>
                    <a:pt x="1024" y="1399"/>
                  </a:lnTo>
                  <a:lnTo>
                    <a:pt x="869" y="1399"/>
                  </a:lnTo>
                  <a:lnTo>
                    <a:pt x="733" y="1316"/>
                  </a:lnTo>
                  <a:lnTo>
                    <a:pt x="622" y="1170"/>
                  </a:lnTo>
                  <a:lnTo>
                    <a:pt x="561" y="1086"/>
                  </a:lnTo>
                  <a:lnTo>
                    <a:pt x="485" y="1073"/>
                  </a:lnTo>
                  <a:lnTo>
                    <a:pt x="574" y="1073"/>
                  </a:lnTo>
                  <a:lnTo>
                    <a:pt x="746" y="1302"/>
                  </a:lnTo>
                  <a:lnTo>
                    <a:pt x="966" y="1369"/>
                  </a:lnTo>
                  <a:lnTo>
                    <a:pt x="1010" y="1302"/>
                  </a:lnTo>
                  <a:lnTo>
                    <a:pt x="988" y="1197"/>
                  </a:lnTo>
                  <a:lnTo>
                    <a:pt x="605" y="878"/>
                  </a:lnTo>
                  <a:lnTo>
                    <a:pt x="552" y="785"/>
                  </a:lnTo>
                  <a:lnTo>
                    <a:pt x="255" y="706"/>
                  </a:lnTo>
                  <a:lnTo>
                    <a:pt x="202" y="785"/>
                  </a:lnTo>
                  <a:lnTo>
                    <a:pt x="0" y="918"/>
                  </a:lnTo>
                  <a:lnTo>
                    <a:pt x="189" y="763"/>
                  </a:lnTo>
                  <a:lnTo>
                    <a:pt x="202" y="671"/>
                  </a:lnTo>
                  <a:lnTo>
                    <a:pt x="202" y="446"/>
                  </a:lnTo>
                  <a:lnTo>
                    <a:pt x="335" y="273"/>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8315280" y="1450800"/>
              <a:ext cx="321120" cy="298800"/>
            </a:xfrm>
            <a:custGeom>
              <a:avLst/>
              <a:gdLst/>
              <a:ahLst/>
              <a:rect l="0" t="0" r="r" b="b"/>
              <a:pathLst>
                <a:path w="892" h="830">
                  <a:moveTo>
                    <a:pt x="672" y="0"/>
                  </a:moveTo>
                  <a:lnTo>
                    <a:pt x="644" y="70"/>
                  </a:lnTo>
                  <a:lnTo>
                    <a:pt x="778" y="343"/>
                  </a:lnTo>
                  <a:lnTo>
                    <a:pt x="844" y="627"/>
                  </a:lnTo>
                  <a:lnTo>
                    <a:pt x="769" y="627"/>
                  </a:lnTo>
                  <a:lnTo>
                    <a:pt x="636" y="503"/>
                  </a:lnTo>
                  <a:lnTo>
                    <a:pt x="512" y="242"/>
                  </a:lnTo>
                  <a:lnTo>
                    <a:pt x="419" y="202"/>
                  </a:lnTo>
                  <a:lnTo>
                    <a:pt x="433" y="343"/>
                  </a:lnTo>
                  <a:lnTo>
                    <a:pt x="521" y="446"/>
                  </a:lnTo>
                  <a:lnTo>
                    <a:pt x="521" y="644"/>
                  </a:lnTo>
                  <a:lnTo>
                    <a:pt x="459" y="790"/>
                  </a:lnTo>
                  <a:lnTo>
                    <a:pt x="375" y="733"/>
                  </a:lnTo>
                  <a:lnTo>
                    <a:pt x="274" y="503"/>
                  </a:lnTo>
                  <a:lnTo>
                    <a:pt x="252" y="343"/>
                  </a:lnTo>
                  <a:lnTo>
                    <a:pt x="189" y="299"/>
                  </a:lnTo>
                  <a:lnTo>
                    <a:pt x="176" y="702"/>
                  </a:lnTo>
                  <a:lnTo>
                    <a:pt x="92" y="759"/>
                  </a:lnTo>
                  <a:lnTo>
                    <a:pt x="22" y="702"/>
                  </a:lnTo>
                  <a:lnTo>
                    <a:pt x="13" y="357"/>
                  </a:lnTo>
                  <a:lnTo>
                    <a:pt x="0" y="693"/>
                  </a:lnTo>
                  <a:lnTo>
                    <a:pt x="57" y="816"/>
                  </a:lnTo>
                  <a:lnTo>
                    <a:pt x="176" y="816"/>
                  </a:lnTo>
                  <a:lnTo>
                    <a:pt x="216" y="719"/>
                  </a:lnTo>
                  <a:lnTo>
                    <a:pt x="239" y="405"/>
                  </a:lnTo>
                  <a:lnTo>
                    <a:pt x="261" y="530"/>
                  </a:lnTo>
                  <a:lnTo>
                    <a:pt x="362" y="799"/>
                  </a:lnTo>
                  <a:lnTo>
                    <a:pt x="468" y="830"/>
                  </a:lnTo>
                  <a:lnTo>
                    <a:pt x="552" y="719"/>
                  </a:lnTo>
                  <a:lnTo>
                    <a:pt x="552" y="459"/>
                  </a:lnTo>
                  <a:lnTo>
                    <a:pt x="769" y="675"/>
                  </a:lnTo>
                  <a:lnTo>
                    <a:pt x="879" y="675"/>
                  </a:lnTo>
                  <a:lnTo>
                    <a:pt x="892" y="530"/>
                  </a:lnTo>
                  <a:lnTo>
                    <a:pt x="808" y="268"/>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20000" y="1143000"/>
              <a:ext cx="1427400" cy="1217880"/>
            </a:xfrm>
            <a:custGeom>
              <a:avLst/>
              <a:gdLst/>
              <a:ahLst/>
              <a:rect l="0" t="0" r="r" b="b"/>
              <a:pathLst>
                <a:path w="3965" h="3383">
                  <a:moveTo>
                    <a:pt x="1428" y="286"/>
                  </a:moveTo>
                  <a:lnTo>
                    <a:pt x="1353" y="299"/>
                  </a:lnTo>
                  <a:lnTo>
                    <a:pt x="1243" y="467"/>
                  </a:lnTo>
                  <a:lnTo>
                    <a:pt x="1203" y="343"/>
                  </a:lnTo>
                  <a:lnTo>
                    <a:pt x="1075" y="273"/>
                  </a:lnTo>
                  <a:lnTo>
                    <a:pt x="983" y="326"/>
                  </a:lnTo>
                  <a:lnTo>
                    <a:pt x="943" y="546"/>
                  </a:lnTo>
                  <a:lnTo>
                    <a:pt x="586" y="815"/>
                  </a:lnTo>
                  <a:lnTo>
                    <a:pt x="608" y="930"/>
                  </a:lnTo>
                  <a:lnTo>
                    <a:pt x="524" y="1031"/>
                  </a:lnTo>
                  <a:lnTo>
                    <a:pt x="524" y="1120"/>
                  </a:lnTo>
                  <a:lnTo>
                    <a:pt x="626" y="1375"/>
                  </a:lnTo>
                  <a:lnTo>
                    <a:pt x="635" y="1688"/>
                  </a:lnTo>
                  <a:lnTo>
                    <a:pt x="568" y="1980"/>
                  </a:lnTo>
                  <a:lnTo>
                    <a:pt x="313" y="2157"/>
                  </a:lnTo>
                  <a:lnTo>
                    <a:pt x="277" y="2399"/>
                  </a:lnTo>
                  <a:lnTo>
                    <a:pt x="198" y="2399"/>
                  </a:lnTo>
                  <a:lnTo>
                    <a:pt x="158" y="2201"/>
                  </a:lnTo>
                  <a:lnTo>
                    <a:pt x="83" y="2201"/>
                  </a:lnTo>
                  <a:lnTo>
                    <a:pt x="48" y="2413"/>
                  </a:lnTo>
                  <a:lnTo>
                    <a:pt x="0" y="2470"/>
                  </a:lnTo>
                  <a:lnTo>
                    <a:pt x="176" y="2761"/>
                  </a:lnTo>
                  <a:lnTo>
                    <a:pt x="299" y="2774"/>
                  </a:lnTo>
                  <a:lnTo>
                    <a:pt x="524" y="2990"/>
                  </a:lnTo>
                  <a:lnTo>
                    <a:pt x="727" y="3017"/>
                  </a:lnTo>
                  <a:lnTo>
                    <a:pt x="842" y="2902"/>
                  </a:lnTo>
                  <a:lnTo>
                    <a:pt x="1115" y="2483"/>
                  </a:lnTo>
                  <a:lnTo>
                    <a:pt x="1137" y="3048"/>
                  </a:lnTo>
                  <a:lnTo>
                    <a:pt x="1115" y="3383"/>
                  </a:lnTo>
                  <a:lnTo>
                    <a:pt x="3405" y="3383"/>
                  </a:lnTo>
                  <a:lnTo>
                    <a:pt x="3237" y="3017"/>
                  </a:lnTo>
                  <a:lnTo>
                    <a:pt x="3158" y="2704"/>
                  </a:lnTo>
                  <a:lnTo>
                    <a:pt x="3136" y="2236"/>
                  </a:lnTo>
                  <a:lnTo>
                    <a:pt x="3268" y="2342"/>
                  </a:lnTo>
                  <a:lnTo>
                    <a:pt x="3405" y="2342"/>
                  </a:lnTo>
                  <a:lnTo>
                    <a:pt x="3594" y="2219"/>
                  </a:lnTo>
                  <a:lnTo>
                    <a:pt x="3718" y="2201"/>
                  </a:lnTo>
                  <a:lnTo>
                    <a:pt x="3797" y="2077"/>
                  </a:lnTo>
                  <a:lnTo>
                    <a:pt x="3850" y="1756"/>
                  </a:lnTo>
                  <a:lnTo>
                    <a:pt x="3965" y="1631"/>
                  </a:lnTo>
                  <a:lnTo>
                    <a:pt x="3908" y="1534"/>
                  </a:lnTo>
                  <a:lnTo>
                    <a:pt x="3819" y="1534"/>
                  </a:lnTo>
                  <a:lnTo>
                    <a:pt x="3753" y="1600"/>
                  </a:lnTo>
                  <a:lnTo>
                    <a:pt x="3687" y="1618"/>
                  </a:lnTo>
                  <a:lnTo>
                    <a:pt x="3608" y="1534"/>
                  </a:lnTo>
                  <a:lnTo>
                    <a:pt x="3506" y="1521"/>
                  </a:lnTo>
                  <a:lnTo>
                    <a:pt x="3330" y="1402"/>
                  </a:lnTo>
                  <a:lnTo>
                    <a:pt x="3215" y="1274"/>
                  </a:lnTo>
                  <a:lnTo>
                    <a:pt x="3193" y="1120"/>
                  </a:lnTo>
                  <a:lnTo>
                    <a:pt x="3215" y="970"/>
                  </a:lnTo>
                  <a:lnTo>
                    <a:pt x="3290" y="846"/>
                  </a:lnTo>
                  <a:lnTo>
                    <a:pt x="3387" y="736"/>
                  </a:lnTo>
                  <a:lnTo>
                    <a:pt x="3378" y="542"/>
                  </a:lnTo>
                  <a:lnTo>
                    <a:pt x="3378" y="401"/>
                  </a:lnTo>
                  <a:lnTo>
                    <a:pt x="3330" y="299"/>
                  </a:lnTo>
                  <a:lnTo>
                    <a:pt x="3193" y="255"/>
                  </a:lnTo>
                  <a:lnTo>
                    <a:pt x="3149" y="229"/>
                  </a:lnTo>
                  <a:lnTo>
                    <a:pt x="3056" y="61"/>
                  </a:lnTo>
                  <a:lnTo>
                    <a:pt x="2977" y="13"/>
                  </a:lnTo>
                  <a:lnTo>
                    <a:pt x="2893" y="0"/>
                  </a:lnTo>
                  <a:lnTo>
                    <a:pt x="2823" y="30"/>
                  </a:lnTo>
                  <a:lnTo>
                    <a:pt x="2765" y="119"/>
                  </a:lnTo>
                  <a:lnTo>
                    <a:pt x="2677" y="171"/>
                  </a:lnTo>
                  <a:lnTo>
                    <a:pt x="2580" y="189"/>
                  </a:lnTo>
                  <a:lnTo>
                    <a:pt x="2470" y="189"/>
                  </a:lnTo>
                  <a:lnTo>
                    <a:pt x="2492" y="357"/>
                  </a:lnTo>
                  <a:lnTo>
                    <a:pt x="2492" y="564"/>
                  </a:lnTo>
                  <a:lnTo>
                    <a:pt x="2470" y="705"/>
                  </a:lnTo>
                  <a:lnTo>
                    <a:pt x="2373" y="873"/>
                  </a:lnTo>
                  <a:lnTo>
                    <a:pt x="2249" y="1128"/>
                  </a:lnTo>
                  <a:lnTo>
                    <a:pt x="2152" y="1433"/>
                  </a:lnTo>
                  <a:lnTo>
                    <a:pt x="2144" y="1618"/>
                  </a:lnTo>
                  <a:lnTo>
                    <a:pt x="2095" y="1769"/>
                  </a:lnTo>
                  <a:lnTo>
                    <a:pt x="2038" y="1923"/>
                  </a:lnTo>
                  <a:lnTo>
                    <a:pt x="2011" y="2170"/>
                  </a:lnTo>
                  <a:lnTo>
                    <a:pt x="2025" y="2373"/>
                  </a:lnTo>
                  <a:lnTo>
                    <a:pt x="2095" y="2611"/>
                  </a:lnTo>
                  <a:lnTo>
                    <a:pt x="2144" y="2704"/>
                  </a:lnTo>
                  <a:lnTo>
                    <a:pt x="2011" y="2792"/>
                  </a:lnTo>
                  <a:lnTo>
                    <a:pt x="1847" y="2845"/>
                  </a:lnTo>
                  <a:lnTo>
                    <a:pt x="1675" y="2862"/>
                  </a:lnTo>
                  <a:lnTo>
                    <a:pt x="1565" y="2862"/>
                  </a:lnTo>
                  <a:lnTo>
                    <a:pt x="1494" y="2832"/>
                  </a:lnTo>
                  <a:lnTo>
                    <a:pt x="1494" y="2629"/>
                  </a:lnTo>
                  <a:lnTo>
                    <a:pt x="1494" y="2329"/>
                  </a:lnTo>
                  <a:lnTo>
                    <a:pt x="1450" y="2033"/>
                  </a:lnTo>
                  <a:lnTo>
                    <a:pt x="1380" y="1769"/>
                  </a:lnTo>
                  <a:lnTo>
                    <a:pt x="1344" y="1561"/>
                  </a:lnTo>
                  <a:lnTo>
                    <a:pt x="1331" y="1261"/>
                  </a:lnTo>
                  <a:lnTo>
                    <a:pt x="1380" y="1001"/>
                  </a:lnTo>
                  <a:lnTo>
                    <a:pt x="1450" y="789"/>
                  </a:lnTo>
                  <a:lnTo>
                    <a:pt x="1459" y="665"/>
                  </a:lnTo>
                  <a:lnTo>
                    <a:pt x="1428" y="485"/>
                  </a:lnTo>
                  <a:lnTo>
                    <a:pt x="1428" y="343"/>
                  </a:lnTo>
                  <a:lnTo>
                    <a:pt x="1450" y="299"/>
                  </a:lnTo>
                  <a:lnTo>
                    <a:pt x="1428"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7575480" y="1386000"/>
              <a:ext cx="181440" cy="792360"/>
            </a:xfrm>
            <a:custGeom>
              <a:avLst/>
              <a:gdLst/>
              <a:ahLst/>
              <a:rect l="0" t="0" r="r" b="b"/>
              <a:pathLst>
                <a:path w="504" h="2201">
                  <a:moveTo>
                    <a:pt x="199" y="26"/>
                  </a:moveTo>
                  <a:lnTo>
                    <a:pt x="66" y="97"/>
                  </a:lnTo>
                  <a:lnTo>
                    <a:pt x="79" y="308"/>
                  </a:lnTo>
                  <a:lnTo>
                    <a:pt x="177" y="370"/>
                  </a:lnTo>
                  <a:lnTo>
                    <a:pt x="57" y="599"/>
                  </a:lnTo>
                  <a:lnTo>
                    <a:pt x="0" y="855"/>
                  </a:lnTo>
                  <a:lnTo>
                    <a:pt x="0" y="1098"/>
                  </a:lnTo>
                  <a:lnTo>
                    <a:pt x="57" y="1319"/>
                  </a:lnTo>
                  <a:lnTo>
                    <a:pt x="105" y="1588"/>
                  </a:lnTo>
                  <a:lnTo>
                    <a:pt x="105" y="1742"/>
                  </a:lnTo>
                  <a:lnTo>
                    <a:pt x="57" y="1932"/>
                  </a:lnTo>
                  <a:lnTo>
                    <a:pt x="261" y="2201"/>
                  </a:lnTo>
                  <a:lnTo>
                    <a:pt x="344" y="2157"/>
                  </a:lnTo>
                  <a:lnTo>
                    <a:pt x="403" y="1972"/>
                  </a:lnTo>
                  <a:lnTo>
                    <a:pt x="495" y="1729"/>
                  </a:lnTo>
                  <a:lnTo>
                    <a:pt x="504" y="1601"/>
                  </a:lnTo>
                  <a:lnTo>
                    <a:pt x="425" y="1359"/>
                  </a:lnTo>
                  <a:lnTo>
                    <a:pt x="331" y="1125"/>
                  </a:lnTo>
                  <a:lnTo>
                    <a:pt x="296" y="956"/>
                  </a:lnTo>
                  <a:lnTo>
                    <a:pt x="296" y="798"/>
                  </a:lnTo>
                  <a:lnTo>
                    <a:pt x="331" y="657"/>
                  </a:lnTo>
                  <a:lnTo>
                    <a:pt x="403" y="480"/>
                  </a:lnTo>
                  <a:lnTo>
                    <a:pt x="403" y="410"/>
                  </a:lnTo>
                  <a:lnTo>
                    <a:pt x="367" y="339"/>
                  </a:lnTo>
                  <a:lnTo>
                    <a:pt x="460" y="251"/>
                  </a:lnTo>
                  <a:lnTo>
                    <a:pt x="460" y="167"/>
                  </a:lnTo>
                  <a:lnTo>
                    <a:pt x="331" y="0"/>
                  </a:lnTo>
                  <a:lnTo>
                    <a:pt x="438" y="167"/>
                  </a:lnTo>
                  <a:lnTo>
                    <a:pt x="438" y="238"/>
                  </a:lnTo>
                  <a:lnTo>
                    <a:pt x="344" y="308"/>
                  </a:lnTo>
                  <a:lnTo>
                    <a:pt x="381" y="410"/>
                  </a:lnTo>
                  <a:lnTo>
                    <a:pt x="367" y="480"/>
                  </a:lnTo>
                  <a:lnTo>
                    <a:pt x="274" y="683"/>
                  </a:lnTo>
                  <a:lnTo>
                    <a:pt x="261" y="881"/>
                  </a:lnTo>
                  <a:lnTo>
                    <a:pt x="283" y="1067"/>
                  </a:lnTo>
                  <a:lnTo>
                    <a:pt x="344" y="1332"/>
                  </a:lnTo>
                  <a:lnTo>
                    <a:pt x="425" y="1544"/>
                  </a:lnTo>
                  <a:lnTo>
                    <a:pt x="425" y="1716"/>
                  </a:lnTo>
                  <a:lnTo>
                    <a:pt x="381" y="1932"/>
                  </a:lnTo>
                  <a:lnTo>
                    <a:pt x="283" y="2157"/>
                  </a:lnTo>
                  <a:lnTo>
                    <a:pt x="164" y="2033"/>
                  </a:lnTo>
                  <a:lnTo>
                    <a:pt x="119" y="1932"/>
                  </a:lnTo>
                  <a:lnTo>
                    <a:pt x="128" y="1716"/>
                  </a:lnTo>
                  <a:lnTo>
                    <a:pt x="119" y="1500"/>
                  </a:lnTo>
                  <a:lnTo>
                    <a:pt x="57" y="1209"/>
                  </a:lnTo>
                  <a:lnTo>
                    <a:pt x="35" y="1009"/>
                  </a:lnTo>
                  <a:lnTo>
                    <a:pt x="57" y="784"/>
                  </a:lnTo>
                  <a:lnTo>
                    <a:pt x="105" y="568"/>
                  </a:lnTo>
                  <a:lnTo>
                    <a:pt x="212" y="352"/>
                  </a:lnTo>
                  <a:lnTo>
                    <a:pt x="119" y="264"/>
                  </a:lnTo>
                  <a:lnTo>
                    <a:pt x="105" y="110"/>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8089920" y="461880"/>
              <a:ext cx="284400" cy="386280"/>
            </a:xfrm>
            <a:custGeom>
              <a:avLst/>
              <a:gdLst/>
              <a:ahLst/>
              <a:rect l="0" t="0" r="r" b="b"/>
              <a:pathLst>
                <a:path w="790" h="1073">
                  <a:moveTo>
                    <a:pt x="132" y="274"/>
                  </a:moveTo>
                  <a:lnTo>
                    <a:pt x="246" y="251"/>
                  </a:lnTo>
                  <a:lnTo>
                    <a:pt x="361" y="260"/>
                  </a:lnTo>
                  <a:lnTo>
                    <a:pt x="455" y="305"/>
                  </a:lnTo>
                  <a:lnTo>
                    <a:pt x="503" y="362"/>
                  </a:lnTo>
                  <a:lnTo>
                    <a:pt x="530" y="419"/>
                  </a:lnTo>
                  <a:lnTo>
                    <a:pt x="530" y="472"/>
                  </a:lnTo>
                  <a:lnTo>
                    <a:pt x="499" y="508"/>
                  </a:lnTo>
                  <a:lnTo>
                    <a:pt x="450" y="534"/>
                  </a:lnTo>
                  <a:lnTo>
                    <a:pt x="392" y="538"/>
                  </a:lnTo>
                  <a:lnTo>
                    <a:pt x="321" y="521"/>
                  </a:lnTo>
                  <a:lnTo>
                    <a:pt x="251" y="477"/>
                  </a:lnTo>
                  <a:lnTo>
                    <a:pt x="198" y="437"/>
                  </a:lnTo>
                  <a:lnTo>
                    <a:pt x="176" y="574"/>
                  </a:lnTo>
                  <a:lnTo>
                    <a:pt x="132" y="671"/>
                  </a:lnTo>
                  <a:lnTo>
                    <a:pt x="0" y="897"/>
                  </a:lnTo>
                  <a:lnTo>
                    <a:pt x="189" y="1073"/>
                  </a:lnTo>
                  <a:lnTo>
                    <a:pt x="335" y="781"/>
                  </a:lnTo>
                  <a:lnTo>
                    <a:pt x="499" y="808"/>
                  </a:lnTo>
                  <a:lnTo>
                    <a:pt x="605" y="785"/>
                  </a:lnTo>
                  <a:lnTo>
                    <a:pt x="702" y="719"/>
                  </a:lnTo>
                  <a:lnTo>
                    <a:pt x="759" y="636"/>
                  </a:lnTo>
                  <a:lnTo>
                    <a:pt x="790" y="525"/>
                  </a:lnTo>
                  <a:lnTo>
                    <a:pt x="790" y="411"/>
                  </a:lnTo>
                  <a:lnTo>
                    <a:pt x="759" y="287"/>
                  </a:lnTo>
                  <a:lnTo>
                    <a:pt x="697" y="163"/>
                  </a:lnTo>
                  <a:lnTo>
                    <a:pt x="613" y="74"/>
                  </a:lnTo>
                  <a:lnTo>
                    <a:pt x="516" y="26"/>
                  </a:lnTo>
                  <a:lnTo>
                    <a:pt x="402"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8039160" y="836640"/>
              <a:ext cx="101880" cy="76680"/>
            </a:xfrm>
            <a:custGeom>
              <a:avLst/>
              <a:gdLst/>
              <a:ahLst/>
              <a:rect l="0" t="0" r="r" b="b"/>
              <a:pathLst>
                <a:path w="283" h="213">
                  <a:moveTo>
                    <a:pt x="110" y="0"/>
                  </a:moveTo>
                  <a:lnTo>
                    <a:pt x="39" y="0"/>
                  </a:lnTo>
                  <a:lnTo>
                    <a:pt x="0" y="30"/>
                  </a:lnTo>
                  <a:lnTo>
                    <a:pt x="0" y="106"/>
                  </a:lnTo>
                  <a:lnTo>
                    <a:pt x="57" y="182"/>
                  </a:lnTo>
                  <a:lnTo>
                    <a:pt x="172" y="213"/>
                  </a:lnTo>
                  <a:lnTo>
                    <a:pt x="256" y="209"/>
                  </a:lnTo>
                  <a:lnTo>
                    <a:pt x="283" y="159"/>
                  </a:lnTo>
                  <a:lnTo>
                    <a:pt x="269" y="115"/>
                  </a:lnTo>
                  <a:lnTo>
                    <a:pt x="230"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2" name=""/>
          <p:cNvSpPr txBox="1"/>
          <p:nvPr/>
        </p:nvSpPr>
        <p:spPr>
          <a:xfrm>
            <a:off x="1676520" y="457200"/>
            <a:ext cx="87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263" name=""/>
          <p:cNvSpPr txBox="1"/>
          <p:nvPr/>
        </p:nvSpPr>
        <p:spPr>
          <a:xfrm>
            <a:off x="2209680" y="457200"/>
            <a:ext cx="6711840" cy="60199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0" lang="en-US" sz="2400" spc="-1" strike="noStrike">
              <a:solidFill>
                <a:srgbClr val="ffffff"/>
              </a:solidFill>
              <a:latin typeface="Arial"/>
            </a:endParaRPr>
          </a:p>
        </p:txBody>
      </p:sp>
      <p:grpSp>
        <p:nvGrpSpPr>
          <p:cNvPr id="264" name=""/>
          <p:cNvGrpSpPr/>
          <p:nvPr/>
        </p:nvGrpSpPr>
        <p:grpSpPr>
          <a:xfrm>
            <a:off x="838080" y="4343400"/>
            <a:ext cx="1678320" cy="2210400"/>
            <a:chOff x="838080" y="4343400"/>
            <a:chExt cx="1678320" cy="2210400"/>
          </a:xfrm>
        </p:grpSpPr>
        <p:sp>
          <p:nvSpPr>
            <p:cNvPr id="265" name=""/>
            <p:cNvSpPr/>
            <p:nvPr/>
          </p:nvSpPr>
          <p:spPr>
            <a:xfrm>
              <a:off x="1209600" y="451656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4" y="1725"/>
                  </a:lnTo>
                  <a:lnTo>
                    <a:pt x="821" y="1725"/>
                  </a:lnTo>
                  <a:lnTo>
                    <a:pt x="675" y="1672"/>
                  </a:lnTo>
                  <a:lnTo>
                    <a:pt x="666" y="1822"/>
                  </a:lnTo>
                  <a:lnTo>
                    <a:pt x="1244" y="1989"/>
                  </a:lnTo>
                  <a:lnTo>
                    <a:pt x="1218" y="1831"/>
                  </a:lnTo>
                  <a:lnTo>
                    <a:pt x="1235" y="1672"/>
                  </a:lnTo>
                  <a:lnTo>
                    <a:pt x="1298" y="1557"/>
                  </a:lnTo>
                  <a:lnTo>
                    <a:pt x="1399" y="1557"/>
                  </a:lnTo>
                  <a:lnTo>
                    <a:pt x="1554" y="1619"/>
                  </a:lnTo>
                  <a:lnTo>
                    <a:pt x="1712" y="1725"/>
                  </a:lnTo>
                  <a:lnTo>
                    <a:pt x="1554" y="1906"/>
                  </a:lnTo>
                  <a:lnTo>
                    <a:pt x="1143" y="2819"/>
                  </a:lnTo>
                  <a:lnTo>
                    <a:pt x="640" y="2806"/>
                  </a:lnTo>
                  <a:lnTo>
                    <a:pt x="101" y="1204"/>
                  </a:lnTo>
                  <a:lnTo>
                    <a:pt x="0" y="909"/>
                  </a:lnTo>
                  <a:lnTo>
                    <a:pt x="0" y="750"/>
                  </a:lnTo>
                  <a:lnTo>
                    <a:pt x="176"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1268280" y="4956120"/>
              <a:ext cx="63720" cy="59040"/>
            </a:xfrm>
            <a:custGeom>
              <a:avLst/>
              <a:gdLst/>
              <a:ahLst/>
              <a:rect l="0" t="0" r="r" b="b"/>
              <a:pathLst>
                <a:path w="177" h="164">
                  <a:moveTo>
                    <a:pt x="61" y="0"/>
                  </a:moveTo>
                  <a:lnTo>
                    <a:pt x="120" y="13"/>
                  </a:lnTo>
                  <a:lnTo>
                    <a:pt x="177" y="146"/>
                  </a:lnTo>
                  <a:lnTo>
                    <a:pt x="35" y="164"/>
                  </a:lnTo>
                  <a:lnTo>
                    <a:pt x="0" y="39"/>
                  </a:lnTo>
                  <a:lnTo>
                    <a:pt x="6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267" name=""/>
            <p:cNvSpPr/>
            <p:nvPr/>
          </p:nvSpPr>
          <p:spPr>
            <a:xfrm>
              <a:off x="1141560" y="4343400"/>
              <a:ext cx="454320" cy="476640"/>
            </a:xfrm>
            <a:custGeom>
              <a:avLst/>
              <a:gdLst/>
              <a:ahLst/>
              <a:rect l="0" t="0" r="r" b="b"/>
              <a:pathLst>
                <a:path w="1262" h="1324">
                  <a:moveTo>
                    <a:pt x="1262" y="145"/>
                  </a:moveTo>
                  <a:lnTo>
                    <a:pt x="1178" y="336"/>
                  </a:lnTo>
                  <a:lnTo>
                    <a:pt x="1121" y="411"/>
                  </a:lnTo>
                  <a:lnTo>
                    <a:pt x="1200" y="494"/>
                  </a:lnTo>
                  <a:lnTo>
                    <a:pt x="1253" y="1148"/>
                  </a:lnTo>
                  <a:lnTo>
                    <a:pt x="1094" y="666"/>
                  </a:lnTo>
                  <a:lnTo>
                    <a:pt x="940" y="512"/>
                  </a:lnTo>
                  <a:lnTo>
                    <a:pt x="621" y="583"/>
                  </a:lnTo>
                  <a:lnTo>
                    <a:pt x="388" y="569"/>
                  </a:lnTo>
                  <a:lnTo>
                    <a:pt x="357" y="768"/>
                  </a:lnTo>
                  <a:lnTo>
                    <a:pt x="366" y="1108"/>
                  </a:lnTo>
                  <a:lnTo>
                    <a:pt x="343" y="1324"/>
                  </a:lnTo>
                  <a:lnTo>
                    <a:pt x="216" y="1272"/>
                  </a:lnTo>
                  <a:lnTo>
                    <a:pt x="0" y="649"/>
                  </a:lnTo>
                  <a:lnTo>
                    <a:pt x="57" y="530"/>
                  </a:lnTo>
                  <a:lnTo>
                    <a:pt x="145" y="389"/>
                  </a:lnTo>
                  <a:lnTo>
                    <a:pt x="242" y="349"/>
                  </a:lnTo>
                  <a:lnTo>
                    <a:pt x="264" y="211"/>
                  </a:lnTo>
                  <a:lnTo>
                    <a:pt x="366" y="74"/>
                  </a:lnTo>
                  <a:lnTo>
                    <a:pt x="485" y="22"/>
                  </a:lnTo>
                  <a:lnTo>
                    <a:pt x="640" y="8"/>
                  </a:lnTo>
                  <a:lnTo>
                    <a:pt x="794" y="22"/>
                  </a:lnTo>
                  <a:lnTo>
                    <a:pt x="957" y="74"/>
                  </a:lnTo>
                  <a:lnTo>
                    <a:pt x="940" y="185"/>
                  </a:lnTo>
                  <a:lnTo>
                    <a:pt x="988" y="171"/>
                  </a:lnTo>
                  <a:lnTo>
                    <a:pt x="1010" y="0"/>
                  </a:lnTo>
                  <a:lnTo>
                    <a:pt x="1072" y="35"/>
                  </a:lnTo>
                  <a:lnTo>
                    <a:pt x="1019" y="251"/>
                  </a:lnTo>
                  <a:lnTo>
                    <a:pt x="1129" y="35"/>
                  </a:lnTo>
                  <a:lnTo>
                    <a:pt x="1072" y="277"/>
                  </a:lnTo>
                  <a:lnTo>
                    <a:pt x="1204" y="92"/>
                  </a:lnTo>
                  <a:lnTo>
                    <a:pt x="1103" y="336"/>
                  </a:lnTo>
                  <a:lnTo>
                    <a:pt x="1178" y="251"/>
                  </a:lnTo>
                  <a:lnTo>
                    <a:pt x="1213" y="158"/>
                  </a:lnTo>
                  <a:lnTo>
                    <a:pt x="1262"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1562040" y="4568760"/>
              <a:ext cx="948240" cy="1221120"/>
            </a:xfrm>
            <a:custGeom>
              <a:avLst/>
              <a:gdLst/>
              <a:ahLst/>
              <a:rect l="0" t="0" r="r" b="b"/>
              <a:pathLst>
                <a:path w="2634" h="3392">
                  <a:moveTo>
                    <a:pt x="2634" y="859"/>
                  </a:moveTo>
                  <a:lnTo>
                    <a:pt x="2034" y="687"/>
                  </a:lnTo>
                  <a:lnTo>
                    <a:pt x="1473" y="383"/>
                  </a:lnTo>
                  <a:lnTo>
                    <a:pt x="913" y="0"/>
                  </a:lnTo>
                  <a:lnTo>
                    <a:pt x="812" y="414"/>
                  </a:lnTo>
                  <a:lnTo>
                    <a:pt x="555" y="1239"/>
                  </a:lnTo>
                  <a:lnTo>
                    <a:pt x="463" y="1415"/>
                  </a:lnTo>
                  <a:lnTo>
                    <a:pt x="573" y="1490"/>
                  </a:lnTo>
                  <a:lnTo>
                    <a:pt x="639" y="1583"/>
                  </a:lnTo>
                  <a:lnTo>
                    <a:pt x="590" y="1653"/>
                  </a:lnTo>
                  <a:lnTo>
                    <a:pt x="410" y="1662"/>
                  </a:lnTo>
                  <a:lnTo>
                    <a:pt x="326" y="1870"/>
                  </a:lnTo>
                  <a:lnTo>
                    <a:pt x="123" y="2232"/>
                  </a:lnTo>
                  <a:lnTo>
                    <a:pt x="0" y="2355"/>
                  </a:lnTo>
                  <a:lnTo>
                    <a:pt x="498" y="2580"/>
                  </a:lnTo>
                  <a:lnTo>
                    <a:pt x="931" y="2959"/>
                  </a:lnTo>
                  <a:lnTo>
                    <a:pt x="1363" y="3255"/>
                  </a:lnTo>
                  <a:lnTo>
                    <a:pt x="1544" y="3392"/>
                  </a:lnTo>
                  <a:lnTo>
                    <a:pt x="1866" y="2809"/>
                  </a:lnTo>
                  <a:lnTo>
                    <a:pt x="2153" y="2113"/>
                  </a:lnTo>
                  <a:lnTo>
                    <a:pt x="2387" y="1499"/>
                  </a:lnTo>
                  <a:lnTo>
                    <a:pt x="2559" y="1053"/>
                  </a:lnTo>
                  <a:lnTo>
                    <a:pt x="2634" y="85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123920" y="5157720"/>
              <a:ext cx="622800" cy="520920"/>
            </a:xfrm>
            <a:custGeom>
              <a:avLst/>
              <a:gdLst/>
              <a:ahLst/>
              <a:rect l="0" t="0" r="r" b="b"/>
              <a:pathLst>
                <a:path w="1730" h="1447">
                  <a:moveTo>
                    <a:pt x="1496" y="211"/>
                  </a:moveTo>
                  <a:lnTo>
                    <a:pt x="1333" y="61"/>
                  </a:lnTo>
                  <a:lnTo>
                    <a:pt x="1107" y="74"/>
                  </a:lnTo>
                  <a:lnTo>
                    <a:pt x="1006" y="0"/>
                  </a:lnTo>
                  <a:lnTo>
                    <a:pt x="927" y="17"/>
                  </a:lnTo>
                  <a:lnTo>
                    <a:pt x="944" y="74"/>
                  </a:lnTo>
                  <a:lnTo>
                    <a:pt x="997" y="180"/>
                  </a:lnTo>
                  <a:lnTo>
                    <a:pt x="803" y="220"/>
                  </a:lnTo>
                  <a:lnTo>
                    <a:pt x="684" y="74"/>
                  </a:lnTo>
                  <a:lnTo>
                    <a:pt x="649" y="0"/>
                  </a:lnTo>
                  <a:lnTo>
                    <a:pt x="392" y="74"/>
                  </a:lnTo>
                  <a:lnTo>
                    <a:pt x="92" y="74"/>
                  </a:lnTo>
                  <a:lnTo>
                    <a:pt x="0" y="277"/>
                  </a:lnTo>
                  <a:lnTo>
                    <a:pt x="35" y="728"/>
                  </a:lnTo>
                  <a:lnTo>
                    <a:pt x="8" y="768"/>
                  </a:lnTo>
                  <a:lnTo>
                    <a:pt x="79" y="944"/>
                  </a:lnTo>
                  <a:lnTo>
                    <a:pt x="57" y="1010"/>
                  </a:lnTo>
                  <a:lnTo>
                    <a:pt x="207" y="1447"/>
                  </a:lnTo>
                  <a:lnTo>
                    <a:pt x="1730" y="997"/>
                  </a:lnTo>
                  <a:lnTo>
                    <a:pt x="1421" y="807"/>
                  </a:lnTo>
                  <a:lnTo>
                    <a:pt x="1262" y="997"/>
                  </a:lnTo>
                  <a:lnTo>
                    <a:pt x="904" y="1010"/>
                  </a:lnTo>
                  <a:lnTo>
                    <a:pt x="882" y="852"/>
                  </a:lnTo>
                  <a:lnTo>
                    <a:pt x="1107" y="755"/>
                  </a:lnTo>
                  <a:lnTo>
                    <a:pt x="1275" y="755"/>
                  </a:lnTo>
                  <a:lnTo>
                    <a:pt x="1209" y="714"/>
                  </a:lnTo>
                  <a:lnTo>
                    <a:pt x="1404" y="511"/>
                  </a:lnTo>
                  <a:lnTo>
                    <a:pt x="1505" y="260"/>
                  </a:lnTo>
                  <a:lnTo>
                    <a:pt x="1496"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454040" y="5218200"/>
              <a:ext cx="97200" cy="230400"/>
            </a:xfrm>
            <a:custGeom>
              <a:avLst/>
              <a:gdLst/>
              <a:ahLst/>
              <a:rect l="0" t="0" r="r" b="b"/>
              <a:pathLst>
                <a:path w="270" h="640">
                  <a:moveTo>
                    <a:pt x="89" y="0"/>
                  </a:moveTo>
                  <a:lnTo>
                    <a:pt x="218" y="344"/>
                  </a:lnTo>
                  <a:lnTo>
                    <a:pt x="270" y="587"/>
                  </a:lnTo>
                  <a:lnTo>
                    <a:pt x="106" y="640"/>
                  </a:lnTo>
                  <a:lnTo>
                    <a:pt x="0" y="277"/>
                  </a:lnTo>
                  <a:lnTo>
                    <a:pt x="89"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373040" y="5452920"/>
              <a:ext cx="113040" cy="57600"/>
            </a:xfrm>
            <a:custGeom>
              <a:avLst/>
              <a:gdLst/>
              <a:ahLst/>
              <a:rect l="0" t="0" r="r" b="b"/>
              <a:pathLst>
                <a:path w="314" h="160">
                  <a:moveTo>
                    <a:pt x="0" y="98"/>
                  </a:moveTo>
                  <a:lnTo>
                    <a:pt x="234"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72" name=""/>
            <p:cNvSpPr/>
            <p:nvPr/>
          </p:nvSpPr>
          <p:spPr>
            <a:xfrm>
              <a:off x="1467000" y="4989600"/>
              <a:ext cx="108360" cy="54360"/>
            </a:xfrm>
            <a:custGeom>
              <a:avLst/>
              <a:gdLst/>
              <a:ahLst/>
              <a:rect l="0" t="0" r="r" b="b"/>
              <a:pathLst>
                <a:path w="301" h="151">
                  <a:moveTo>
                    <a:pt x="266" y="0"/>
                  </a:moveTo>
                  <a:lnTo>
                    <a:pt x="301" y="80"/>
                  </a:lnTo>
                  <a:lnTo>
                    <a:pt x="266" y="134"/>
                  </a:lnTo>
                  <a:lnTo>
                    <a:pt x="159" y="151"/>
                  </a:lnTo>
                  <a:lnTo>
                    <a:pt x="0" y="80"/>
                  </a:lnTo>
                  <a:lnTo>
                    <a:pt x="217" y="0"/>
                  </a:lnTo>
                  <a:lnTo>
                    <a:pt x="266"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273" name=""/>
            <p:cNvSpPr/>
            <p:nvPr/>
          </p:nvSpPr>
          <p:spPr>
            <a:xfrm>
              <a:off x="1406520" y="4960800"/>
              <a:ext cx="151200" cy="73440"/>
            </a:xfrm>
            <a:custGeom>
              <a:avLst/>
              <a:gdLst/>
              <a:ahLst/>
              <a:rect l="0" t="0" r="r" b="b"/>
              <a:pathLst>
                <a:path w="420" h="204">
                  <a:moveTo>
                    <a:pt x="420" y="0"/>
                  </a:moveTo>
                  <a:lnTo>
                    <a:pt x="287" y="26"/>
                  </a:lnTo>
                  <a:lnTo>
                    <a:pt x="168" y="39"/>
                  </a:lnTo>
                  <a:lnTo>
                    <a:pt x="0" y="17"/>
                  </a:lnTo>
                  <a:lnTo>
                    <a:pt x="101" y="165"/>
                  </a:lnTo>
                  <a:lnTo>
                    <a:pt x="305" y="204"/>
                  </a:lnTo>
                  <a:lnTo>
                    <a:pt x="420" y="150"/>
                  </a:lnTo>
                  <a:lnTo>
                    <a:pt x="390" y="124"/>
                  </a:lnTo>
                  <a:lnTo>
                    <a:pt x="412" y="67"/>
                  </a:lnTo>
                  <a:lnTo>
                    <a:pt x="42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74" name=""/>
            <p:cNvSpPr/>
            <p:nvPr/>
          </p:nvSpPr>
          <p:spPr>
            <a:xfrm>
              <a:off x="1211400" y="5433840"/>
              <a:ext cx="730440" cy="282960"/>
            </a:xfrm>
            <a:custGeom>
              <a:avLst/>
              <a:gdLst/>
              <a:ahLst/>
              <a:rect l="0" t="0" r="r" b="b"/>
              <a:pathLst>
                <a:path w="2029" h="786">
                  <a:moveTo>
                    <a:pt x="1835" y="17"/>
                  </a:moveTo>
                  <a:lnTo>
                    <a:pt x="1487" y="48"/>
                  </a:lnTo>
                  <a:lnTo>
                    <a:pt x="1151" y="185"/>
                  </a:lnTo>
                  <a:lnTo>
                    <a:pt x="762" y="185"/>
                  </a:lnTo>
                  <a:lnTo>
                    <a:pt x="321" y="92"/>
                  </a:lnTo>
                  <a:lnTo>
                    <a:pt x="74" y="0"/>
                  </a:lnTo>
                  <a:lnTo>
                    <a:pt x="233" y="208"/>
                  </a:lnTo>
                  <a:lnTo>
                    <a:pt x="0" y="158"/>
                  </a:lnTo>
                  <a:lnTo>
                    <a:pt x="141" y="322"/>
                  </a:lnTo>
                  <a:lnTo>
                    <a:pt x="0" y="552"/>
                  </a:lnTo>
                  <a:lnTo>
                    <a:pt x="357" y="720"/>
                  </a:lnTo>
                  <a:lnTo>
                    <a:pt x="1906" y="786"/>
                  </a:lnTo>
                  <a:lnTo>
                    <a:pt x="2029" y="628"/>
                  </a:lnTo>
                  <a:lnTo>
                    <a:pt x="1853" y="472"/>
                  </a:lnTo>
                  <a:lnTo>
                    <a:pt x="1972" y="309"/>
                  </a:lnTo>
                  <a:lnTo>
                    <a:pt x="1778" y="269"/>
                  </a:lnTo>
                  <a:lnTo>
                    <a:pt x="1897" y="97"/>
                  </a:lnTo>
                  <a:lnTo>
                    <a:pt x="1778" y="136"/>
                  </a:lnTo>
                  <a:lnTo>
                    <a:pt x="1720" y="136"/>
                  </a:lnTo>
                  <a:lnTo>
                    <a:pt x="183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041560" y="6359400"/>
              <a:ext cx="417960" cy="168480"/>
            </a:xfrm>
            <a:custGeom>
              <a:avLst/>
              <a:gdLst/>
              <a:ahLst/>
              <a:rect l="0" t="0" r="r" b="b"/>
              <a:pathLst>
                <a:path w="1161" h="468">
                  <a:moveTo>
                    <a:pt x="1161" y="233"/>
                  </a:moveTo>
                  <a:lnTo>
                    <a:pt x="644" y="0"/>
                  </a:lnTo>
                  <a:lnTo>
                    <a:pt x="380" y="261"/>
                  </a:lnTo>
                  <a:lnTo>
                    <a:pt x="0" y="358"/>
                  </a:lnTo>
                  <a:lnTo>
                    <a:pt x="123" y="446"/>
                  </a:lnTo>
                  <a:lnTo>
                    <a:pt x="897" y="468"/>
                  </a:lnTo>
                  <a:lnTo>
                    <a:pt x="1161"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271520" y="5691240"/>
              <a:ext cx="663840" cy="860760"/>
            </a:xfrm>
            <a:custGeom>
              <a:avLst/>
              <a:gdLst/>
              <a:ahLst/>
              <a:rect l="0" t="0" r="r" b="b"/>
              <a:pathLst>
                <a:path w="1844" h="2391">
                  <a:moveTo>
                    <a:pt x="1831" y="48"/>
                  </a:moveTo>
                  <a:lnTo>
                    <a:pt x="0" y="0"/>
                  </a:lnTo>
                  <a:lnTo>
                    <a:pt x="0" y="458"/>
                  </a:lnTo>
                  <a:lnTo>
                    <a:pt x="216" y="595"/>
                  </a:lnTo>
                  <a:lnTo>
                    <a:pt x="233" y="2047"/>
                  </a:lnTo>
                  <a:lnTo>
                    <a:pt x="436" y="2073"/>
                  </a:lnTo>
                  <a:lnTo>
                    <a:pt x="436" y="2346"/>
                  </a:lnTo>
                  <a:lnTo>
                    <a:pt x="1451" y="2391"/>
                  </a:lnTo>
                  <a:lnTo>
                    <a:pt x="1438" y="2025"/>
                  </a:lnTo>
                  <a:lnTo>
                    <a:pt x="1645" y="2025"/>
                  </a:lnTo>
                  <a:lnTo>
                    <a:pt x="1676" y="551"/>
                  </a:lnTo>
                  <a:lnTo>
                    <a:pt x="1817" y="410"/>
                  </a:lnTo>
                  <a:lnTo>
                    <a:pt x="1844" y="176"/>
                  </a:lnTo>
                  <a:lnTo>
                    <a:pt x="1831"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1751040" y="5491080"/>
              <a:ext cx="28800" cy="219600"/>
            </a:xfrm>
            <a:custGeom>
              <a:avLst/>
              <a:gdLst/>
              <a:ahLst/>
              <a:rect l="0" t="0" r="r" b="b"/>
              <a:pathLst>
                <a:path w="80" h="610">
                  <a:moveTo>
                    <a:pt x="80" y="141"/>
                  </a:moveTo>
                  <a:lnTo>
                    <a:pt x="80" y="610"/>
                  </a:lnTo>
                  <a:lnTo>
                    <a:pt x="17" y="588"/>
                  </a:lnTo>
                  <a:lnTo>
                    <a:pt x="0" y="0"/>
                  </a:lnTo>
                  <a:lnTo>
                    <a:pt x="8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857160" y="6350040"/>
              <a:ext cx="489240" cy="152640"/>
            </a:xfrm>
            <a:custGeom>
              <a:avLst/>
              <a:gdLst/>
              <a:ahLst/>
              <a:rect l="0" t="0" r="r" b="b"/>
              <a:pathLst>
                <a:path w="1359" h="424">
                  <a:moveTo>
                    <a:pt x="1359" y="309"/>
                  </a:moveTo>
                  <a:lnTo>
                    <a:pt x="1002" y="309"/>
                  </a:lnTo>
                  <a:lnTo>
                    <a:pt x="715" y="70"/>
                  </a:lnTo>
                  <a:lnTo>
                    <a:pt x="374" y="70"/>
                  </a:lnTo>
                  <a:lnTo>
                    <a:pt x="0" y="0"/>
                  </a:lnTo>
                  <a:lnTo>
                    <a:pt x="277" y="217"/>
                  </a:lnTo>
                  <a:lnTo>
                    <a:pt x="728" y="384"/>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947960" y="6394320"/>
              <a:ext cx="254520" cy="116280"/>
            </a:xfrm>
            <a:custGeom>
              <a:avLst/>
              <a:gdLst/>
              <a:ahLst/>
              <a:rect l="0" t="0" r="r" b="b"/>
              <a:pathLst>
                <a:path w="707" h="323">
                  <a:moveTo>
                    <a:pt x="707" y="115"/>
                  </a:moveTo>
                  <a:lnTo>
                    <a:pt x="358" y="115"/>
                  </a:lnTo>
                  <a:lnTo>
                    <a:pt x="0" y="0"/>
                  </a:lnTo>
                  <a:lnTo>
                    <a:pt x="57" y="225"/>
                  </a:lnTo>
                  <a:lnTo>
                    <a:pt x="344" y="323"/>
                  </a:lnTo>
                  <a:lnTo>
                    <a:pt x="579" y="208"/>
                  </a:lnTo>
                  <a:lnTo>
                    <a:pt x="707"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792440" y="6350040"/>
              <a:ext cx="133560" cy="144720"/>
            </a:xfrm>
            <a:custGeom>
              <a:avLst/>
              <a:gdLst/>
              <a:ahLst/>
              <a:rect l="0" t="0" r="r" b="b"/>
              <a:pathLst>
                <a:path w="371" h="402">
                  <a:moveTo>
                    <a:pt x="30" y="0"/>
                  </a:moveTo>
                  <a:lnTo>
                    <a:pt x="243" y="149"/>
                  </a:lnTo>
                  <a:lnTo>
                    <a:pt x="340" y="261"/>
                  </a:lnTo>
                  <a:lnTo>
                    <a:pt x="371" y="402"/>
                  </a:lnTo>
                  <a:lnTo>
                    <a:pt x="322" y="402"/>
                  </a:lnTo>
                  <a:lnTo>
                    <a:pt x="274" y="287"/>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501920" y="5997600"/>
              <a:ext cx="92520" cy="241560"/>
            </a:xfrm>
            <a:custGeom>
              <a:avLst/>
              <a:gdLst/>
              <a:ahLst/>
              <a:rect l="0" t="0" r="r" b="b"/>
              <a:pathLst>
                <a:path w="257" h="671">
                  <a:moveTo>
                    <a:pt x="89" y="66"/>
                  </a:moveTo>
                  <a:lnTo>
                    <a:pt x="120" y="362"/>
                  </a:lnTo>
                  <a:lnTo>
                    <a:pt x="257" y="605"/>
                  </a:lnTo>
                  <a:lnTo>
                    <a:pt x="240" y="671"/>
                  </a:lnTo>
                  <a:lnTo>
                    <a:pt x="89" y="481"/>
                  </a:lnTo>
                  <a:lnTo>
                    <a:pt x="0" y="180"/>
                  </a:lnTo>
                  <a:lnTo>
                    <a:pt x="26"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643040" y="5319720"/>
              <a:ext cx="214560" cy="520920"/>
            </a:xfrm>
            <a:custGeom>
              <a:avLst/>
              <a:gdLst/>
              <a:ahLst/>
              <a:rect l="0" t="0" r="r" b="b"/>
              <a:pathLst>
                <a:path w="596" h="1447">
                  <a:moveTo>
                    <a:pt x="512" y="1103"/>
                  </a:moveTo>
                  <a:lnTo>
                    <a:pt x="433" y="1279"/>
                  </a:lnTo>
                  <a:lnTo>
                    <a:pt x="0" y="1447"/>
                  </a:lnTo>
                  <a:lnTo>
                    <a:pt x="74" y="1328"/>
                  </a:lnTo>
                  <a:lnTo>
                    <a:pt x="464" y="1129"/>
                  </a:lnTo>
                  <a:lnTo>
                    <a:pt x="543" y="896"/>
                  </a:lnTo>
                  <a:lnTo>
                    <a:pt x="450" y="639"/>
                  </a:lnTo>
                  <a:lnTo>
                    <a:pt x="406" y="617"/>
                  </a:lnTo>
                  <a:lnTo>
                    <a:pt x="44" y="114"/>
                  </a:lnTo>
                  <a:lnTo>
                    <a:pt x="74" y="0"/>
                  </a:lnTo>
                  <a:lnTo>
                    <a:pt x="189" y="0"/>
                  </a:lnTo>
                  <a:lnTo>
                    <a:pt x="543" y="551"/>
                  </a:lnTo>
                  <a:lnTo>
                    <a:pt x="512" y="639"/>
                  </a:lnTo>
                  <a:lnTo>
                    <a:pt x="596" y="847"/>
                  </a:lnTo>
                  <a:lnTo>
                    <a:pt x="583" y="1015"/>
                  </a:lnTo>
                  <a:lnTo>
                    <a:pt x="512"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660680" y="5310360"/>
              <a:ext cx="138600" cy="240120"/>
            </a:xfrm>
            <a:custGeom>
              <a:avLst/>
              <a:gdLst/>
              <a:ahLst/>
              <a:rect l="0" t="0" r="r" b="b"/>
              <a:pathLst>
                <a:path w="385" h="667">
                  <a:moveTo>
                    <a:pt x="83" y="0"/>
                  </a:moveTo>
                  <a:lnTo>
                    <a:pt x="30" y="22"/>
                  </a:lnTo>
                  <a:lnTo>
                    <a:pt x="17" y="70"/>
                  </a:lnTo>
                  <a:lnTo>
                    <a:pt x="0" y="114"/>
                  </a:lnTo>
                  <a:lnTo>
                    <a:pt x="30" y="186"/>
                  </a:lnTo>
                  <a:lnTo>
                    <a:pt x="359" y="667"/>
                  </a:lnTo>
                  <a:lnTo>
                    <a:pt x="345" y="597"/>
                  </a:lnTo>
                  <a:lnTo>
                    <a:pt x="359" y="553"/>
                  </a:lnTo>
                  <a:lnTo>
                    <a:pt x="385" y="526"/>
                  </a:lnTo>
                  <a:lnTo>
                    <a:pt x="332" y="437"/>
                  </a:lnTo>
                  <a:lnTo>
                    <a:pt x="283" y="481"/>
                  </a:lnTo>
                  <a:lnTo>
                    <a:pt x="83" y="186"/>
                  </a:lnTo>
                  <a:lnTo>
                    <a:pt x="83" y="114"/>
                  </a:lnTo>
                  <a:lnTo>
                    <a:pt x="115"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233360" y="5418000"/>
              <a:ext cx="495720" cy="106560"/>
            </a:xfrm>
            <a:custGeom>
              <a:avLst/>
              <a:gdLst/>
              <a:ahLst/>
              <a:rect l="0" t="0" r="r" b="b"/>
              <a:pathLst>
                <a:path w="1377" h="296">
                  <a:moveTo>
                    <a:pt x="1377" y="159"/>
                  </a:moveTo>
                  <a:lnTo>
                    <a:pt x="1152" y="203"/>
                  </a:lnTo>
                  <a:lnTo>
                    <a:pt x="887" y="230"/>
                  </a:lnTo>
                  <a:lnTo>
                    <a:pt x="574" y="203"/>
                  </a:lnTo>
                  <a:lnTo>
                    <a:pt x="375" y="159"/>
                  </a:lnTo>
                  <a:lnTo>
                    <a:pt x="211" y="114"/>
                  </a:lnTo>
                  <a:lnTo>
                    <a:pt x="105" y="66"/>
                  </a:lnTo>
                  <a:lnTo>
                    <a:pt x="0" y="0"/>
                  </a:lnTo>
                  <a:lnTo>
                    <a:pt x="224" y="296"/>
                  </a:lnTo>
                  <a:lnTo>
                    <a:pt x="123" y="92"/>
                  </a:lnTo>
                  <a:lnTo>
                    <a:pt x="321" y="186"/>
                  </a:lnTo>
                  <a:lnTo>
                    <a:pt x="605" y="252"/>
                  </a:lnTo>
                  <a:lnTo>
                    <a:pt x="887" y="274"/>
                  </a:lnTo>
                  <a:lnTo>
                    <a:pt x="1152" y="230"/>
                  </a:lnTo>
                  <a:lnTo>
                    <a:pt x="1377"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1177920" y="5549760"/>
              <a:ext cx="568800" cy="316440"/>
            </a:xfrm>
            <a:custGeom>
              <a:avLst/>
              <a:gdLst/>
              <a:ahLst/>
              <a:rect l="0" t="0" r="r" b="b"/>
              <a:pathLst>
                <a:path w="1580" h="879">
                  <a:moveTo>
                    <a:pt x="79" y="114"/>
                  </a:moveTo>
                  <a:lnTo>
                    <a:pt x="48" y="353"/>
                  </a:lnTo>
                  <a:lnTo>
                    <a:pt x="0" y="663"/>
                  </a:lnTo>
                  <a:lnTo>
                    <a:pt x="264" y="760"/>
                  </a:lnTo>
                  <a:lnTo>
                    <a:pt x="282" y="879"/>
                  </a:lnTo>
                  <a:lnTo>
                    <a:pt x="295" y="857"/>
                  </a:lnTo>
                  <a:lnTo>
                    <a:pt x="295" y="419"/>
                  </a:lnTo>
                  <a:lnTo>
                    <a:pt x="1580" y="419"/>
                  </a:lnTo>
                  <a:lnTo>
                    <a:pt x="1580" y="353"/>
                  </a:lnTo>
                  <a:lnTo>
                    <a:pt x="282" y="327"/>
                  </a:lnTo>
                  <a:lnTo>
                    <a:pt x="383" y="283"/>
                  </a:lnTo>
                  <a:lnTo>
                    <a:pt x="141" y="230"/>
                  </a:lnTo>
                  <a:lnTo>
                    <a:pt x="308" y="230"/>
                  </a:lnTo>
                  <a:lnTo>
                    <a:pt x="158" y="136"/>
                  </a:lnTo>
                  <a:lnTo>
                    <a:pt x="370" y="136"/>
                  </a:lnTo>
                  <a:lnTo>
                    <a:pt x="220" y="0"/>
                  </a:lnTo>
                  <a:lnTo>
                    <a:pt x="79"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1216080" y="5491080"/>
              <a:ext cx="545040" cy="84600"/>
            </a:xfrm>
            <a:custGeom>
              <a:avLst/>
              <a:gdLst/>
              <a:ahLst/>
              <a:rect l="0" t="0" r="r" b="b"/>
              <a:pathLst>
                <a:path w="1514" h="235">
                  <a:moveTo>
                    <a:pt x="1439" y="71"/>
                  </a:moveTo>
                  <a:lnTo>
                    <a:pt x="949" y="120"/>
                  </a:lnTo>
                  <a:lnTo>
                    <a:pt x="591" y="120"/>
                  </a:lnTo>
                  <a:lnTo>
                    <a:pt x="343" y="93"/>
                  </a:lnTo>
                  <a:lnTo>
                    <a:pt x="92" y="22"/>
                  </a:lnTo>
                  <a:lnTo>
                    <a:pt x="0" y="0"/>
                  </a:lnTo>
                  <a:lnTo>
                    <a:pt x="92" y="71"/>
                  </a:lnTo>
                  <a:lnTo>
                    <a:pt x="419" y="142"/>
                  </a:lnTo>
                  <a:lnTo>
                    <a:pt x="847" y="164"/>
                  </a:lnTo>
                  <a:lnTo>
                    <a:pt x="154" y="164"/>
                  </a:lnTo>
                  <a:lnTo>
                    <a:pt x="799" y="213"/>
                  </a:lnTo>
                  <a:lnTo>
                    <a:pt x="1197" y="213"/>
                  </a:lnTo>
                  <a:lnTo>
                    <a:pt x="1514" y="235"/>
                  </a:lnTo>
                  <a:lnTo>
                    <a:pt x="1028" y="164"/>
                  </a:lnTo>
                  <a:lnTo>
                    <a:pt x="1439" y="71"/>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7" name=""/>
            <p:cNvSpPr/>
            <p:nvPr/>
          </p:nvSpPr>
          <p:spPr>
            <a:xfrm>
              <a:off x="1751040" y="549900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395360" y="5541840"/>
              <a:ext cx="540000" cy="1011600"/>
            </a:xfrm>
            <a:custGeom>
              <a:avLst/>
              <a:gdLst/>
              <a:ahLst/>
              <a:rect l="0" t="0" r="r" b="b"/>
              <a:pathLst>
                <a:path w="1500" h="2810">
                  <a:moveTo>
                    <a:pt x="1182" y="48"/>
                  </a:moveTo>
                  <a:lnTo>
                    <a:pt x="1284" y="202"/>
                  </a:lnTo>
                  <a:lnTo>
                    <a:pt x="1284" y="326"/>
                  </a:lnTo>
                  <a:lnTo>
                    <a:pt x="1253" y="440"/>
                  </a:lnTo>
                  <a:lnTo>
                    <a:pt x="1138" y="529"/>
                  </a:lnTo>
                  <a:lnTo>
                    <a:pt x="913" y="639"/>
                  </a:lnTo>
                  <a:lnTo>
                    <a:pt x="701" y="733"/>
                  </a:lnTo>
                  <a:lnTo>
                    <a:pt x="529" y="834"/>
                  </a:lnTo>
                  <a:lnTo>
                    <a:pt x="383" y="993"/>
                  </a:lnTo>
                  <a:lnTo>
                    <a:pt x="299" y="1178"/>
                  </a:lnTo>
                  <a:lnTo>
                    <a:pt x="282" y="1337"/>
                  </a:lnTo>
                  <a:lnTo>
                    <a:pt x="321" y="1562"/>
                  </a:lnTo>
                  <a:lnTo>
                    <a:pt x="423" y="1795"/>
                  </a:lnTo>
                  <a:lnTo>
                    <a:pt x="511" y="1936"/>
                  </a:lnTo>
                  <a:lnTo>
                    <a:pt x="670" y="2073"/>
                  </a:lnTo>
                  <a:lnTo>
                    <a:pt x="865" y="2184"/>
                  </a:lnTo>
                  <a:lnTo>
                    <a:pt x="1019" y="2277"/>
                  </a:lnTo>
                  <a:lnTo>
                    <a:pt x="1165" y="2352"/>
                  </a:lnTo>
                  <a:lnTo>
                    <a:pt x="1301" y="2440"/>
                  </a:lnTo>
                  <a:lnTo>
                    <a:pt x="1394" y="2559"/>
                  </a:lnTo>
                  <a:lnTo>
                    <a:pt x="1407" y="2647"/>
                  </a:lnTo>
                  <a:lnTo>
                    <a:pt x="1345" y="2696"/>
                  </a:lnTo>
                  <a:lnTo>
                    <a:pt x="1253" y="2669"/>
                  </a:lnTo>
                  <a:lnTo>
                    <a:pt x="1165" y="2625"/>
                  </a:lnTo>
                  <a:lnTo>
                    <a:pt x="1107" y="2625"/>
                  </a:lnTo>
                  <a:lnTo>
                    <a:pt x="1138" y="2440"/>
                  </a:lnTo>
                  <a:lnTo>
                    <a:pt x="74" y="2440"/>
                  </a:lnTo>
                  <a:lnTo>
                    <a:pt x="74" y="2718"/>
                  </a:lnTo>
                  <a:lnTo>
                    <a:pt x="0" y="2762"/>
                  </a:lnTo>
                  <a:lnTo>
                    <a:pt x="30" y="2810"/>
                  </a:lnTo>
                  <a:lnTo>
                    <a:pt x="1151" y="2810"/>
                  </a:lnTo>
                  <a:lnTo>
                    <a:pt x="1081" y="2740"/>
                  </a:lnTo>
                  <a:lnTo>
                    <a:pt x="110" y="2718"/>
                  </a:lnTo>
                  <a:lnTo>
                    <a:pt x="110" y="2669"/>
                  </a:lnTo>
                  <a:lnTo>
                    <a:pt x="1107" y="2669"/>
                  </a:lnTo>
                  <a:lnTo>
                    <a:pt x="1200" y="2696"/>
                  </a:lnTo>
                  <a:lnTo>
                    <a:pt x="1332" y="2740"/>
                  </a:lnTo>
                  <a:lnTo>
                    <a:pt x="1394" y="2762"/>
                  </a:lnTo>
                  <a:lnTo>
                    <a:pt x="1473" y="2718"/>
                  </a:lnTo>
                  <a:lnTo>
                    <a:pt x="1500" y="2669"/>
                  </a:lnTo>
                  <a:lnTo>
                    <a:pt x="1491" y="2581"/>
                  </a:lnTo>
                  <a:lnTo>
                    <a:pt x="1442" y="2511"/>
                  </a:lnTo>
                  <a:lnTo>
                    <a:pt x="1394" y="2533"/>
                  </a:lnTo>
                  <a:lnTo>
                    <a:pt x="1270" y="2396"/>
                  </a:lnTo>
                  <a:lnTo>
                    <a:pt x="1151" y="2321"/>
                  </a:lnTo>
                  <a:lnTo>
                    <a:pt x="1165" y="2277"/>
                  </a:lnTo>
                  <a:lnTo>
                    <a:pt x="1332" y="2374"/>
                  </a:lnTo>
                  <a:lnTo>
                    <a:pt x="1138" y="2228"/>
                  </a:lnTo>
                  <a:lnTo>
                    <a:pt x="878" y="2114"/>
                  </a:lnTo>
                  <a:lnTo>
                    <a:pt x="652" y="1963"/>
                  </a:lnTo>
                  <a:lnTo>
                    <a:pt x="467" y="1725"/>
                  </a:lnTo>
                  <a:lnTo>
                    <a:pt x="529" y="1848"/>
                  </a:lnTo>
                  <a:lnTo>
                    <a:pt x="480" y="1848"/>
                  </a:lnTo>
                  <a:lnTo>
                    <a:pt x="335" y="1544"/>
                  </a:lnTo>
                  <a:lnTo>
                    <a:pt x="335" y="1359"/>
                  </a:lnTo>
                  <a:lnTo>
                    <a:pt x="366" y="1337"/>
                  </a:lnTo>
                  <a:lnTo>
                    <a:pt x="410" y="1544"/>
                  </a:lnTo>
                  <a:lnTo>
                    <a:pt x="383" y="1266"/>
                  </a:lnTo>
                  <a:lnTo>
                    <a:pt x="410" y="1134"/>
                  </a:lnTo>
                  <a:lnTo>
                    <a:pt x="454" y="1015"/>
                  </a:lnTo>
                  <a:lnTo>
                    <a:pt x="546" y="927"/>
                  </a:lnTo>
                  <a:lnTo>
                    <a:pt x="701" y="856"/>
                  </a:lnTo>
                  <a:lnTo>
                    <a:pt x="1094" y="683"/>
                  </a:lnTo>
                  <a:lnTo>
                    <a:pt x="749" y="834"/>
                  </a:lnTo>
                  <a:lnTo>
                    <a:pt x="803" y="733"/>
                  </a:lnTo>
                  <a:lnTo>
                    <a:pt x="1165" y="529"/>
                  </a:lnTo>
                  <a:lnTo>
                    <a:pt x="1182" y="595"/>
                  </a:lnTo>
                  <a:lnTo>
                    <a:pt x="1151" y="639"/>
                  </a:lnTo>
                  <a:lnTo>
                    <a:pt x="1253" y="511"/>
                  </a:lnTo>
                  <a:lnTo>
                    <a:pt x="1301" y="374"/>
                  </a:lnTo>
                  <a:lnTo>
                    <a:pt x="1315" y="229"/>
                  </a:lnTo>
                  <a:lnTo>
                    <a:pt x="1270" y="92"/>
                  </a:lnTo>
                  <a:lnTo>
                    <a:pt x="1182" y="0"/>
                  </a:lnTo>
                  <a:lnTo>
                    <a:pt x="1182"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1547640" y="5857920"/>
              <a:ext cx="378360" cy="503640"/>
            </a:xfrm>
            <a:custGeom>
              <a:avLst/>
              <a:gdLst/>
              <a:ahLst/>
              <a:rect l="0" t="0" r="r" b="b"/>
              <a:pathLst>
                <a:path w="1051" h="1399">
                  <a:moveTo>
                    <a:pt x="1051" y="0"/>
                  </a:moveTo>
                  <a:lnTo>
                    <a:pt x="327" y="0"/>
                  </a:lnTo>
                  <a:lnTo>
                    <a:pt x="88" y="114"/>
                  </a:lnTo>
                  <a:lnTo>
                    <a:pt x="0" y="268"/>
                  </a:lnTo>
                  <a:lnTo>
                    <a:pt x="44" y="299"/>
                  </a:lnTo>
                  <a:lnTo>
                    <a:pt x="88" y="552"/>
                  </a:lnTo>
                  <a:lnTo>
                    <a:pt x="105" y="803"/>
                  </a:lnTo>
                  <a:lnTo>
                    <a:pt x="136" y="1015"/>
                  </a:lnTo>
                  <a:lnTo>
                    <a:pt x="154" y="847"/>
                  </a:lnTo>
                  <a:lnTo>
                    <a:pt x="136" y="618"/>
                  </a:lnTo>
                  <a:lnTo>
                    <a:pt x="123" y="433"/>
                  </a:lnTo>
                  <a:lnTo>
                    <a:pt x="105" y="299"/>
                  </a:lnTo>
                  <a:lnTo>
                    <a:pt x="105" y="229"/>
                  </a:lnTo>
                  <a:lnTo>
                    <a:pt x="167" y="185"/>
                  </a:lnTo>
                  <a:lnTo>
                    <a:pt x="198" y="255"/>
                  </a:lnTo>
                  <a:lnTo>
                    <a:pt x="229" y="596"/>
                  </a:lnTo>
                  <a:lnTo>
                    <a:pt x="229" y="1060"/>
                  </a:lnTo>
                  <a:lnTo>
                    <a:pt x="229" y="321"/>
                  </a:lnTo>
                  <a:lnTo>
                    <a:pt x="490" y="343"/>
                  </a:lnTo>
                  <a:lnTo>
                    <a:pt x="516" y="481"/>
                  </a:lnTo>
                  <a:lnTo>
                    <a:pt x="534" y="847"/>
                  </a:lnTo>
                  <a:lnTo>
                    <a:pt x="552" y="1258"/>
                  </a:lnTo>
                  <a:lnTo>
                    <a:pt x="565" y="596"/>
                  </a:lnTo>
                  <a:lnTo>
                    <a:pt x="565" y="343"/>
                  </a:lnTo>
                  <a:lnTo>
                    <a:pt x="552" y="229"/>
                  </a:lnTo>
                  <a:lnTo>
                    <a:pt x="613" y="185"/>
                  </a:lnTo>
                  <a:lnTo>
                    <a:pt x="658" y="229"/>
                  </a:lnTo>
                  <a:lnTo>
                    <a:pt x="658" y="321"/>
                  </a:lnTo>
                  <a:lnTo>
                    <a:pt x="627" y="1197"/>
                  </a:lnTo>
                  <a:lnTo>
                    <a:pt x="702" y="343"/>
                  </a:lnTo>
                  <a:lnTo>
                    <a:pt x="777" y="343"/>
                  </a:lnTo>
                  <a:lnTo>
                    <a:pt x="848" y="367"/>
                  </a:lnTo>
                  <a:lnTo>
                    <a:pt x="879" y="393"/>
                  </a:lnTo>
                  <a:lnTo>
                    <a:pt x="892" y="1399"/>
                  </a:lnTo>
                  <a:lnTo>
                    <a:pt x="923" y="1399"/>
                  </a:lnTo>
                  <a:lnTo>
                    <a:pt x="958" y="114"/>
                  </a:lnTo>
                  <a:lnTo>
                    <a:pt x="105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1279440" y="5850000"/>
              <a:ext cx="284400" cy="527400"/>
            </a:xfrm>
            <a:custGeom>
              <a:avLst/>
              <a:gdLst/>
              <a:ahLst/>
              <a:rect l="0" t="0" r="r" b="b"/>
              <a:pathLst>
                <a:path w="790" h="1465">
                  <a:moveTo>
                    <a:pt x="790" y="0"/>
                  </a:moveTo>
                  <a:lnTo>
                    <a:pt x="0" y="0"/>
                  </a:lnTo>
                  <a:lnTo>
                    <a:pt x="26" y="88"/>
                  </a:lnTo>
                  <a:lnTo>
                    <a:pt x="185" y="158"/>
                  </a:lnTo>
                  <a:lnTo>
                    <a:pt x="229" y="1465"/>
                  </a:lnTo>
                  <a:lnTo>
                    <a:pt x="229" y="388"/>
                  </a:lnTo>
                  <a:lnTo>
                    <a:pt x="291" y="361"/>
                  </a:lnTo>
                  <a:lnTo>
                    <a:pt x="388" y="388"/>
                  </a:lnTo>
                  <a:lnTo>
                    <a:pt x="468" y="993"/>
                  </a:lnTo>
                  <a:lnTo>
                    <a:pt x="525" y="1398"/>
                  </a:lnTo>
                  <a:lnTo>
                    <a:pt x="450" y="202"/>
                  </a:lnTo>
                  <a:lnTo>
                    <a:pt x="481" y="158"/>
                  </a:lnTo>
                  <a:lnTo>
                    <a:pt x="543" y="202"/>
                  </a:lnTo>
                  <a:lnTo>
                    <a:pt x="587" y="1328"/>
                  </a:lnTo>
                  <a:lnTo>
                    <a:pt x="605" y="317"/>
                  </a:lnTo>
                  <a:lnTo>
                    <a:pt x="675" y="136"/>
                  </a:lnTo>
                  <a:lnTo>
                    <a:pt x="759" y="22"/>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1846440" y="5738760"/>
              <a:ext cx="55800" cy="82800"/>
            </a:xfrm>
            <a:custGeom>
              <a:avLst/>
              <a:gdLst/>
              <a:ahLst/>
              <a:rect l="0" t="0" r="r" b="b"/>
              <a:pathLst>
                <a:path w="155" h="230">
                  <a:moveTo>
                    <a:pt x="155" y="230"/>
                  </a:moveTo>
                  <a:lnTo>
                    <a:pt x="155" y="0"/>
                  </a:lnTo>
                  <a:lnTo>
                    <a:pt x="0" y="0"/>
                  </a:lnTo>
                  <a:lnTo>
                    <a:pt x="111" y="44"/>
                  </a:lnTo>
                  <a:lnTo>
                    <a:pt x="155"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292" name=""/>
            <p:cNvSpPr/>
            <p:nvPr/>
          </p:nvSpPr>
          <p:spPr>
            <a:xfrm>
              <a:off x="1322280" y="5732640"/>
              <a:ext cx="417960" cy="81360"/>
            </a:xfrm>
            <a:custGeom>
              <a:avLst/>
              <a:gdLst/>
              <a:ahLst/>
              <a:rect l="0" t="0" r="r" b="b"/>
              <a:pathLst>
                <a:path w="1161" h="226">
                  <a:moveTo>
                    <a:pt x="1161" y="0"/>
                  </a:moveTo>
                  <a:lnTo>
                    <a:pt x="0" y="0"/>
                  </a:lnTo>
                  <a:lnTo>
                    <a:pt x="0" y="226"/>
                  </a:lnTo>
                  <a:lnTo>
                    <a:pt x="30" y="44"/>
                  </a:lnTo>
                  <a:lnTo>
                    <a:pt x="1135" y="44"/>
                  </a:lnTo>
                  <a:lnTo>
                    <a:pt x="116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93" name=""/>
            <p:cNvSpPr/>
            <p:nvPr/>
          </p:nvSpPr>
          <p:spPr>
            <a:xfrm>
              <a:off x="1362240" y="6413400"/>
              <a:ext cx="39960" cy="24120"/>
            </a:xfrm>
            <a:custGeom>
              <a:avLst/>
              <a:gdLst/>
              <a:ahLst/>
              <a:rect l="0" t="0" r="r" b="b"/>
              <a:pathLst>
                <a:path w="111" h="67">
                  <a:moveTo>
                    <a:pt x="93" y="0"/>
                  </a:moveTo>
                  <a:lnTo>
                    <a:pt x="0" y="0"/>
                  </a:lnTo>
                  <a:lnTo>
                    <a:pt x="0" y="67"/>
                  </a:lnTo>
                  <a:lnTo>
                    <a:pt x="111" y="67"/>
                  </a:lnTo>
                  <a:lnTo>
                    <a:pt x="93"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294" name=""/>
            <p:cNvSpPr/>
            <p:nvPr/>
          </p:nvSpPr>
          <p:spPr>
            <a:xfrm>
              <a:off x="838080" y="6335640"/>
              <a:ext cx="528840" cy="184680"/>
            </a:xfrm>
            <a:custGeom>
              <a:avLst/>
              <a:gdLst/>
              <a:ahLst/>
              <a:rect l="0" t="0" r="r" b="b"/>
              <a:pathLst>
                <a:path w="1469" h="513">
                  <a:moveTo>
                    <a:pt x="1451" y="353"/>
                  </a:moveTo>
                  <a:lnTo>
                    <a:pt x="1222" y="375"/>
                  </a:lnTo>
                  <a:lnTo>
                    <a:pt x="1050" y="327"/>
                  </a:lnTo>
                  <a:lnTo>
                    <a:pt x="904" y="234"/>
                  </a:lnTo>
                  <a:lnTo>
                    <a:pt x="825" y="168"/>
                  </a:lnTo>
                  <a:lnTo>
                    <a:pt x="794" y="114"/>
                  </a:lnTo>
                  <a:lnTo>
                    <a:pt x="838" y="92"/>
                  </a:lnTo>
                  <a:lnTo>
                    <a:pt x="794" y="70"/>
                  </a:lnTo>
                  <a:lnTo>
                    <a:pt x="652" y="92"/>
                  </a:lnTo>
                  <a:lnTo>
                    <a:pt x="418" y="70"/>
                  </a:lnTo>
                  <a:lnTo>
                    <a:pt x="220" y="48"/>
                  </a:lnTo>
                  <a:lnTo>
                    <a:pt x="123" y="22"/>
                  </a:lnTo>
                  <a:lnTo>
                    <a:pt x="48" y="0"/>
                  </a:lnTo>
                  <a:lnTo>
                    <a:pt x="0" y="0"/>
                  </a:lnTo>
                  <a:lnTo>
                    <a:pt x="48" y="114"/>
                  </a:lnTo>
                  <a:lnTo>
                    <a:pt x="171" y="234"/>
                  </a:lnTo>
                  <a:lnTo>
                    <a:pt x="264" y="305"/>
                  </a:lnTo>
                  <a:lnTo>
                    <a:pt x="61" y="353"/>
                  </a:lnTo>
                  <a:lnTo>
                    <a:pt x="123" y="398"/>
                  </a:lnTo>
                  <a:lnTo>
                    <a:pt x="233" y="398"/>
                  </a:lnTo>
                  <a:lnTo>
                    <a:pt x="313" y="442"/>
                  </a:lnTo>
                  <a:lnTo>
                    <a:pt x="612" y="465"/>
                  </a:lnTo>
                  <a:lnTo>
                    <a:pt x="957" y="513"/>
                  </a:lnTo>
                  <a:lnTo>
                    <a:pt x="1032" y="513"/>
                  </a:lnTo>
                  <a:lnTo>
                    <a:pt x="1469" y="375"/>
                  </a:lnTo>
                  <a:lnTo>
                    <a:pt x="1002" y="465"/>
                  </a:lnTo>
                  <a:lnTo>
                    <a:pt x="683" y="398"/>
                  </a:lnTo>
                  <a:lnTo>
                    <a:pt x="471" y="327"/>
                  </a:lnTo>
                  <a:lnTo>
                    <a:pt x="295" y="234"/>
                  </a:lnTo>
                  <a:lnTo>
                    <a:pt x="171" y="146"/>
                  </a:lnTo>
                  <a:lnTo>
                    <a:pt x="123" y="70"/>
                  </a:lnTo>
                  <a:lnTo>
                    <a:pt x="326" y="114"/>
                  </a:lnTo>
                  <a:lnTo>
                    <a:pt x="586" y="146"/>
                  </a:lnTo>
                  <a:lnTo>
                    <a:pt x="794" y="146"/>
                  </a:lnTo>
                  <a:lnTo>
                    <a:pt x="904" y="217"/>
                  </a:lnTo>
                  <a:lnTo>
                    <a:pt x="1112" y="353"/>
                  </a:lnTo>
                  <a:lnTo>
                    <a:pt x="1451"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a:off x="1930320" y="6361200"/>
              <a:ext cx="541800" cy="192600"/>
            </a:xfrm>
            <a:custGeom>
              <a:avLst/>
              <a:gdLst/>
              <a:ahLst/>
              <a:rect l="0" t="0" r="r" b="b"/>
              <a:pathLst>
                <a:path w="1505" h="535">
                  <a:moveTo>
                    <a:pt x="0" y="44"/>
                  </a:moveTo>
                  <a:lnTo>
                    <a:pt x="57" y="186"/>
                  </a:lnTo>
                  <a:lnTo>
                    <a:pt x="44" y="212"/>
                  </a:lnTo>
                  <a:lnTo>
                    <a:pt x="123" y="371"/>
                  </a:lnTo>
                  <a:lnTo>
                    <a:pt x="198" y="393"/>
                  </a:lnTo>
                  <a:lnTo>
                    <a:pt x="216" y="442"/>
                  </a:lnTo>
                  <a:lnTo>
                    <a:pt x="922" y="513"/>
                  </a:lnTo>
                  <a:lnTo>
                    <a:pt x="878" y="535"/>
                  </a:lnTo>
                  <a:lnTo>
                    <a:pt x="1107" y="513"/>
                  </a:lnTo>
                  <a:lnTo>
                    <a:pt x="1377" y="535"/>
                  </a:lnTo>
                  <a:lnTo>
                    <a:pt x="1302" y="420"/>
                  </a:lnTo>
                  <a:lnTo>
                    <a:pt x="1505" y="256"/>
                  </a:lnTo>
                  <a:lnTo>
                    <a:pt x="940" y="0"/>
                  </a:lnTo>
                  <a:lnTo>
                    <a:pt x="1457" y="256"/>
                  </a:lnTo>
                  <a:lnTo>
                    <a:pt x="1223" y="393"/>
                  </a:lnTo>
                  <a:lnTo>
                    <a:pt x="1028" y="420"/>
                  </a:lnTo>
                  <a:lnTo>
                    <a:pt x="1041" y="371"/>
                  </a:lnTo>
                  <a:lnTo>
                    <a:pt x="922" y="420"/>
                  </a:lnTo>
                  <a:lnTo>
                    <a:pt x="481" y="393"/>
                  </a:lnTo>
                  <a:lnTo>
                    <a:pt x="706" y="283"/>
                  </a:lnTo>
                  <a:lnTo>
                    <a:pt x="357" y="371"/>
                  </a:lnTo>
                  <a:lnTo>
                    <a:pt x="216" y="349"/>
                  </a:lnTo>
                  <a:lnTo>
                    <a:pt x="136" y="283"/>
                  </a:lnTo>
                  <a:lnTo>
                    <a:pt x="57" y="119"/>
                  </a:lnTo>
                  <a:lnTo>
                    <a:pt x="357" y="212"/>
                  </a:lnTo>
                  <a:lnTo>
                    <a:pt x="574" y="212"/>
                  </a:lnTo>
                  <a:lnTo>
                    <a:pt x="706"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6" name=""/>
            <p:cNvSpPr/>
            <p:nvPr/>
          </p:nvSpPr>
          <p:spPr>
            <a:xfrm>
              <a:off x="2201760" y="6353280"/>
              <a:ext cx="93960" cy="93960"/>
            </a:xfrm>
            <a:custGeom>
              <a:avLst/>
              <a:gdLst/>
              <a:ahLst/>
              <a:rect l="0" t="0" r="r" b="b"/>
              <a:pathLst>
                <a:path w="261" h="261">
                  <a:moveTo>
                    <a:pt x="261" y="0"/>
                  </a:moveTo>
                  <a:lnTo>
                    <a:pt x="0" y="261"/>
                  </a:lnTo>
                  <a:lnTo>
                    <a:pt x="186" y="22"/>
                  </a:lnTo>
                  <a:lnTo>
                    <a:pt x="261"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97" name=""/>
            <p:cNvSpPr/>
            <p:nvPr/>
          </p:nvSpPr>
          <p:spPr>
            <a:xfrm>
              <a:off x="1787400" y="5587920"/>
              <a:ext cx="57600" cy="36720"/>
            </a:xfrm>
            <a:custGeom>
              <a:avLst/>
              <a:gdLst/>
              <a:ahLst/>
              <a:rect l="0" t="0" r="r" b="b"/>
              <a:pathLst>
                <a:path w="160" h="102">
                  <a:moveTo>
                    <a:pt x="160" y="102"/>
                  </a:moveTo>
                  <a:lnTo>
                    <a:pt x="67" y="84"/>
                  </a:lnTo>
                  <a:lnTo>
                    <a:pt x="0" y="84"/>
                  </a:lnTo>
                  <a:lnTo>
                    <a:pt x="8" y="0"/>
                  </a:lnTo>
                  <a:lnTo>
                    <a:pt x="30" y="53"/>
                  </a:lnTo>
                  <a:lnTo>
                    <a:pt x="160"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298" name=""/>
            <p:cNvSpPr/>
            <p:nvPr/>
          </p:nvSpPr>
          <p:spPr>
            <a:xfrm>
              <a:off x="1311120" y="5584680"/>
              <a:ext cx="437040" cy="22680"/>
            </a:xfrm>
            <a:custGeom>
              <a:avLst/>
              <a:gdLst/>
              <a:ahLst/>
              <a:rect l="0" t="0" r="r" b="b"/>
              <a:pathLst>
                <a:path w="1214" h="63">
                  <a:moveTo>
                    <a:pt x="1214" y="63"/>
                  </a:moveTo>
                  <a:lnTo>
                    <a:pt x="812" y="36"/>
                  </a:lnTo>
                  <a:lnTo>
                    <a:pt x="552" y="50"/>
                  </a:lnTo>
                  <a:lnTo>
                    <a:pt x="22" y="50"/>
                  </a:lnTo>
                  <a:lnTo>
                    <a:pt x="0" y="0"/>
                  </a:lnTo>
                  <a:lnTo>
                    <a:pt x="874" y="18"/>
                  </a:lnTo>
                  <a:lnTo>
                    <a:pt x="1214"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99" name=""/>
            <p:cNvSpPr/>
            <p:nvPr/>
          </p:nvSpPr>
          <p:spPr>
            <a:xfrm>
              <a:off x="1303200" y="5624640"/>
              <a:ext cx="398880" cy="22680"/>
            </a:xfrm>
            <a:custGeom>
              <a:avLst/>
              <a:gdLst/>
              <a:ahLst/>
              <a:rect l="0" t="0" r="r" b="b"/>
              <a:pathLst>
                <a:path w="1108" h="63">
                  <a:moveTo>
                    <a:pt x="1108" y="13"/>
                  </a:moveTo>
                  <a:lnTo>
                    <a:pt x="684" y="31"/>
                  </a:lnTo>
                  <a:lnTo>
                    <a:pt x="283" y="63"/>
                  </a:lnTo>
                  <a:lnTo>
                    <a:pt x="0" y="18"/>
                  </a:lnTo>
                  <a:lnTo>
                    <a:pt x="207" y="13"/>
                  </a:lnTo>
                  <a:lnTo>
                    <a:pt x="450" y="18"/>
                  </a:lnTo>
                  <a:lnTo>
                    <a:pt x="932"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00" name=""/>
            <p:cNvSpPr/>
            <p:nvPr/>
          </p:nvSpPr>
          <p:spPr>
            <a:xfrm>
              <a:off x="1787400" y="5646600"/>
              <a:ext cx="60840" cy="16200"/>
            </a:xfrm>
            <a:custGeom>
              <a:avLst/>
              <a:gdLst/>
              <a:ahLst/>
              <a:rect l="0" t="0" r="r" b="b"/>
              <a:pathLst>
                <a:path w="169" h="45">
                  <a:moveTo>
                    <a:pt x="169" y="45"/>
                  </a:moveTo>
                  <a:lnTo>
                    <a:pt x="0" y="0"/>
                  </a:lnTo>
                  <a:lnTo>
                    <a:pt x="0" y="36"/>
                  </a:lnTo>
                  <a:lnTo>
                    <a:pt x="169"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01" name=""/>
            <p:cNvSpPr/>
            <p:nvPr/>
          </p:nvSpPr>
          <p:spPr>
            <a:xfrm>
              <a:off x="1227240" y="4352760"/>
              <a:ext cx="375120" cy="495720"/>
            </a:xfrm>
            <a:custGeom>
              <a:avLst/>
              <a:gdLst/>
              <a:ahLst/>
              <a:rect l="0" t="0" r="r" b="b"/>
              <a:pathLst>
                <a:path w="1042" h="1377">
                  <a:moveTo>
                    <a:pt x="171" y="428"/>
                  </a:moveTo>
                  <a:lnTo>
                    <a:pt x="283" y="468"/>
                  </a:lnTo>
                  <a:lnTo>
                    <a:pt x="411" y="481"/>
                  </a:lnTo>
                  <a:lnTo>
                    <a:pt x="543" y="446"/>
                  </a:lnTo>
                  <a:lnTo>
                    <a:pt x="618" y="411"/>
                  </a:lnTo>
                  <a:lnTo>
                    <a:pt x="605" y="375"/>
                  </a:lnTo>
                  <a:lnTo>
                    <a:pt x="697" y="339"/>
                  </a:lnTo>
                  <a:lnTo>
                    <a:pt x="804" y="233"/>
                  </a:lnTo>
                  <a:lnTo>
                    <a:pt x="853" y="127"/>
                  </a:lnTo>
                  <a:lnTo>
                    <a:pt x="879" y="22"/>
                  </a:lnTo>
                  <a:lnTo>
                    <a:pt x="914" y="0"/>
                  </a:lnTo>
                  <a:lnTo>
                    <a:pt x="879" y="163"/>
                  </a:lnTo>
                  <a:lnTo>
                    <a:pt x="817" y="251"/>
                  </a:lnTo>
                  <a:lnTo>
                    <a:pt x="715" y="375"/>
                  </a:lnTo>
                  <a:lnTo>
                    <a:pt x="844" y="268"/>
                  </a:lnTo>
                  <a:lnTo>
                    <a:pt x="901" y="163"/>
                  </a:lnTo>
                  <a:lnTo>
                    <a:pt x="932" y="74"/>
                  </a:lnTo>
                  <a:lnTo>
                    <a:pt x="980" y="74"/>
                  </a:lnTo>
                  <a:lnTo>
                    <a:pt x="905" y="198"/>
                  </a:lnTo>
                  <a:lnTo>
                    <a:pt x="831" y="308"/>
                  </a:lnTo>
                  <a:lnTo>
                    <a:pt x="724" y="411"/>
                  </a:lnTo>
                  <a:lnTo>
                    <a:pt x="853" y="358"/>
                  </a:lnTo>
                  <a:lnTo>
                    <a:pt x="954" y="251"/>
                  </a:lnTo>
                  <a:lnTo>
                    <a:pt x="994" y="180"/>
                  </a:lnTo>
                  <a:lnTo>
                    <a:pt x="1003" y="127"/>
                  </a:lnTo>
                  <a:lnTo>
                    <a:pt x="1042" y="145"/>
                  </a:lnTo>
                  <a:lnTo>
                    <a:pt x="980" y="251"/>
                  </a:lnTo>
                  <a:lnTo>
                    <a:pt x="901" y="358"/>
                  </a:lnTo>
                  <a:lnTo>
                    <a:pt x="817" y="428"/>
                  </a:lnTo>
                  <a:lnTo>
                    <a:pt x="737" y="446"/>
                  </a:lnTo>
                  <a:lnTo>
                    <a:pt x="697" y="481"/>
                  </a:lnTo>
                  <a:lnTo>
                    <a:pt x="697" y="543"/>
                  </a:lnTo>
                  <a:lnTo>
                    <a:pt x="653" y="596"/>
                  </a:lnTo>
                  <a:lnTo>
                    <a:pt x="556" y="613"/>
                  </a:lnTo>
                  <a:lnTo>
                    <a:pt x="464" y="631"/>
                  </a:lnTo>
                  <a:lnTo>
                    <a:pt x="349" y="613"/>
                  </a:lnTo>
                  <a:lnTo>
                    <a:pt x="238" y="596"/>
                  </a:lnTo>
                  <a:lnTo>
                    <a:pt x="171" y="561"/>
                  </a:lnTo>
                  <a:lnTo>
                    <a:pt x="132" y="649"/>
                  </a:lnTo>
                  <a:lnTo>
                    <a:pt x="123" y="785"/>
                  </a:lnTo>
                  <a:lnTo>
                    <a:pt x="110" y="979"/>
                  </a:lnTo>
                  <a:lnTo>
                    <a:pt x="123" y="1148"/>
                  </a:lnTo>
                  <a:lnTo>
                    <a:pt x="145" y="1232"/>
                  </a:lnTo>
                  <a:lnTo>
                    <a:pt x="145" y="1285"/>
                  </a:lnTo>
                  <a:lnTo>
                    <a:pt x="194" y="1342"/>
                  </a:lnTo>
                  <a:lnTo>
                    <a:pt x="194" y="1377"/>
                  </a:lnTo>
                  <a:lnTo>
                    <a:pt x="110" y="1307"/>
                  </a:lnTo>
                  <a:lnTo>
                    <a:pt x="0" y="1272"/>
                  </a:lnTo>
                  <a:lnTo>
                    <a:pt x="0" y="1249"/>
                  </a:lnTo>
                  <a:lnTo>
                    <a:pt x="74" y="1249"/>
                  </a:lnTo>
                  <a:lnTo>
                    <a:pt x="52" y="1024"/>
                  </a:lnTo>
                  <a:lnTo>
                    <a:pt x="39" y="816"/>
                  </a:lnTo>
                  <a:lnTo>
                    <a:pt x="57" y="785"/>
                  </a:lnTo>
                  <a:lnTo>
                    <a:pt x="74" y="631"/>
                  </a:lnTo>
                  <a:lnTo>
                    <a:pt x="110"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1500120" y="4343400"/>
              <a:ext cx="25920" cy="87840"/>
            </a:xfrm>
            <a:custGeom>
              <a:avLst/>
              <a:gdLst/>
              <a:ahLst/>
              <a:rect l="0" t="0" r="r" b="b"/>
              <a:pathLst>
                <a:path w="72" h="244">
                  <a:moveTo>
                    <a:pt x="72" y="8"/>
                  </a:moveTo>
                  <a:lnTo>
                    <a:pt x="45" y="124"/>
                  </a:lnTo>
                  <a:lnTo>
                    <a:pt x="0" y="244"/>
                  </a:lnTo>
                  <a:lnTo>
                    <a:pt x="17" y="80"/>
                  </a:lnTo>
                  <a:lnTo>
                    <a:pt x="0" y="0"/>
                  </a:lnTo>
                  <a:lnTo>
                    <a:pt x="72" y="8"/>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3" name=""/>
            <p:cNvSpPr/>
            <p:nvPr/>
          </p:nvSpPr>
          <p:spPr>
            <a:xfrm>
              <a:off x="1219320" y="4343400"/>
              <a:ext cx="268560" cy="170280"/>
            </a:xfrm>
            <a:custGeom>
              <a:avLst/>
              <a:gdLst/>
              <a:ahLst/>
              <a:rect l="0" t="0" r="r" b="b"/>
              <a:pathLst>
                <a:path w="746" h="473">
                  <a:moveTo>
                    <a:pt x="746" y="61"/>
                  </a:moveTo>
                  <a:lnTo>
                    <a:pt x="530" y="0"/>
                  </a:lnTo>
                  <a:lnTo>
                    <a:pt x="335" y="0"/>
                  </a:lnTo>
                  <a:lnTo>
                    <a:pt x="211" y="8"/>
                  </a:lnTo>
                  <a:lnTo>
                    <a:pt x="92" y="61"/>
                  </a:lnTo>
                  <a:lnTo>
                    <a:pt x="35" y="150"/>
                  </a:lnTo>
                  <a:lnTo>
                    <a:pt x="8" y="239"/>
                  </a:lnTo>
                  <a:lnTo>
                    <a:pt x="0" y="278"/>
                  </a:lnTo>
                  <a:lnTo>
                    <a:pt x="0" y="331"/>
                  </a:lnTo>
                  <a:lnTo>
                    <a:pt x="74" y="416"/>
                  </a:lnTo>
                  <a:lnTo>
                    <a:pt x="167" y="473"/>
                  </a:lnTo>
                  <a:lnTo>
                    <a:pt x="202" y="349"/>
                  </a:lnTo>
                  <a:lnTo>
                    <a:pt x="238" y="292"/>
                  </a:lnTo>
                  <a:lnTo>
                    <a:pt x="304" y="239"/>
                  </a:lnTo>
                  <a:lnTo>
                    <a:pt x="397" y="225"/>
                  </a:lnTo>
                  <a:lnTo>
                    <a:pt x="295" y="239"/>
                  </a:lnTo>
                  <a:lnTo>
                    <a:pt x="211" y="292"/>
                  </a:lnTo>
                  <a:lnTo>
                    <a:pt x="282" y="203"/>
                  </a:lnTo>
                  <a:lnTo>
                    <a:pt x="202" y="278"/>
                  </a:lnTo>
                  <a:lnTo>
                    <a:pt x="154" y="349"/>
                  </a:lnTo>
                  <a:lnTo>
                    <a:pt x="145" y="416"/>
                  </a:lnTo>
                  <a:lnTo>
                    <a:pt x="119" y="368"/>
                  </a:lnTo>
                  <a:lnTo>
                    <a:pt x="154" y="261"/>
                  </a:lnTo>
                  <a:lnTo>
                    <a:pt x="194" y="190"/>
                  </a:lnTo>
                  <a:lnTo>
                    <a:pt x="238" y="137"/>
                  </a:lnTo>
                  <a:lnTo>
                    <a:pt x="202" y="120"/>
                  </a:lnTo>
                  <a:lnTo>
                    <a:pt x="154" y="225"/>
                  </a:lnTo>
                  <a:lnTo>
                    <a:pt x="119" y="278"/>
                  </a:lnTo>
                  <a:lnTo>
                    <a:pt x="92" y="331"/>
                  </a:lnTo>
                  <a:lnTo>
                    <a:pt x="79" y="261"/>
                  </a:lnTo>
                  <a:lnTo>
                    <a:pt x="110" y="190"/>
                  </a:lnTo>
                  <a:lnTo>
                    <a:pt x="167" y="137"/>
                  </a:lnTo>
                  <a:lnTo>
                    <a:pt x="202" y="101"/>
                  </a:lnTo>
                  <a:lnTo>
                    <a:pt x="194" y="79"/>
                  </a:lnTo>
                  <a:lnTo>
                    <a:pt x="268" y="44"/>
                  </a:lnTo>
                  <a:lnTo>
                    <a:pt x="384" y="22"/>
                  </a:lnTo>
                  <a:lnTo>
                    <a:pt x="516" y="22"/>
                  </a:lnTo>
                  <a:lnTo>
                    <a:pt x="640" y="61"/>
                  </a:lnTo>
                  <a:lnTo>
                    <a:pt x="719" y="101"/>
                  </a:lnTo>
                  <a:lnTo>
                    <a:pt x="746"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1125360" y="4468680"/>
              <a:ext cx="425880" cy="716400"/>
            </a:xfrm>
            <a:custGeom>
              <a:avLst/>
              <a:gdLst/>
              <a:ahLst/>
              <a:rect l="0" t="0" r="r" b="b"/>
              <a:pathLst>
                <a:path w="1183" h="1990">
                  <a:moveTo>
                    <a:pt x="246" y="0"/>
                  </a:moveTo>
                  <a:lnTo>
                    <a:pt x="127" y="88"/>
                  </a:lnTo>
                  <a:lnTo>
                    <a:pt x="48" y="185"/>
                  </a:lnTo>
                  <a:lnTo>
                    <a:pt x="13" y="291"/>
                  </a:lnTo>
                  <a:lnTo>
                    <a:pt x="0" y="410"/>
                  </a:lnTo>
                  <a:lnTo>
                    <a:pt x="13" y="530"/>
                  </a:lnTo>
                  <a:lnTo>
                    <a:pt x="74" y="697"/>
                  </a:lnTo>
                  <a:lnTo>
                    <a:pt x="149" y="856"/>
                  </a:lnTo>
                  <a:lnTo>
                    <a:pt x="189" y="944"/>
                  </a:lnTo>
                  <a:lnTo>
                    <a:pt x="211" y="1068"/>
                  </a:lnTo>
                  <a:lnTo>
                    <a:pt x="246" y="1156"/>
                  </a:lnTo>
                  <a:lnTo>
                    <a:pt x="282" y="1248"/>
                  </a:lnTo>
                  <a:lnTo>
                    <a:pt x="305" y="1301"/>
                  </a:lnTo>
                  <a:lnTo>
                    <a:pt x="268" y="1425"/>
                  </a:lnTo>
                  <a:lnTo>
                    <a:pt x="246" y="1585"/>
                  </a:lnTo>
                  <a:lnTo>
                    <a:pt x="246" y="1708"/>
                  </a:lnTo>
                  <a:lnTo>
                    <a:pt x="238" y="1840"/>
                  </a:lnTo>
                  <a:lnTo>
                    <a:pt x="211" y="1946"/>
                  </a:lnTo>
                  <a:lnTo>
                    <a:pt x="176" y="1990"/>
                  </a:lnTo>
                  <a:lnTo>
                    <a:pt x="220" y="1990"/>
                  </a:lnTo>
                  <a:lnTo>
                    <a:pt x="246" y="1911"/>
                  </a:lnTo>
                  <a:lnTo>
                    <a:pt x="282" y="1787"/>
                  </a:lnTo>
                  <a:lnTo>
                    <a:pt x="295" y="1651"/>
                  </a:lnTo>
                  <a:lnTo>
                    <a:pt x="305" y="1805"/>
                  </a:lnTo>
                  <a:lnTo>
                    <a:pt x="295" y="1911"/>
                  </a:lnTo>
                  <a:lnTo>
                    <a:pt x="282" y="1964"/>
                  </a:lnTo>
                  <a:lnTo>
                    <a:pt x="260" y="1990"/>
                  </a:lnTo>
                  <a:lnTo>
                    <a:pt x="295" y="1990"/>
                  </a:lnTo>
                  <a:lnTo>
                    <a:pt x="336" y="1876"/>
                  </a:lnTo>
                  <a:lnTo>
                    <a:pt x="340" y="1990"/>
                  </a:lnTo>
                  <a:lnTo>
                    <a:pt x="415" y="1990"/>
                  </a:lnTo>
                  <a:lnTo>
                    <a:pt x="499" y="1973"/>
                  </a:lnTo>
                  <a:lnTo>
                    <a:pt x="609" y="1946"/>
                  </a:lnTo>
                  <a:lnTo>
                    <a:pt x="693" y="1946"/>
                  </a:lnTo>
                  <a:lnTo>
                    <a:pt x="693" y="1876"/>
                  </a:lnTo>
                  <a:lnTo>
                    <a:pt x="750" y="1858"/>
                  </a:lnTo>
                  <a:lnTo>
                    <a:pt x="834" y="1823"/>
                  </a:lnTo>
                  <a:lnTo>
                    <a:pt x="874" y="1805"/>
                  </a:lnTo>
                  <a:lnTo>
                    <a:pt x="976" y="1858"/>
                  </a:lnTo>
                  <a:lnTo>
                    <a:pt x="1082" y="1876"/>
                  </a:lnTo>
                  <a:lnTo>
                    <a:pt x="1144" y="1876"/>
                  </a:lnTo>
                  <a:lnTo>
                    <a:pt x="1183" y="1840"/>
                  </a:lnTo>
                  <a:lnTo>
                    <a:pt x="1095" y="1858"/>
                  </a:lnTo>
                  <a:lnTo>
                    <a:pt x="1095" y="1876"/>
                  </a:lnTo>
                  <a:lnTo>
                    <a:pt x="1016" y="1858"/>
                  </a:lnTo>
                  <a:lnTo>
                    <a:pt x="932" y="1805"/>
                  </a:lnTo>
                  <a:lnTo>
                    <a:pt x="812" y="1735"/>
                  </a:lnTo>
                  <a:lnTo>
                    <a:pt x="702" y="1620"/>
                  </a:lnTo>
                  <a:lnTo>
                    <a:pt x="631" y="1514"/>
                  </a:lnTo>
                  <a:lnTo>
                    <a:pt x="552" y="1438"/>
                  </a:lnTo>
                  <a:lnTo>
                    <a:pt x="530" y="1390"/>
                  </a:lnTo>
                  <a:lnTo>
                    <a:pt x="508" y="1390"/>
                  </a:lnTo>
                  <a:lnTo>
                    <a:pt x="530" y="1438"/>
                  </a:lnTo>
                  <a:lnTo>
                    <a:pt x="508" y="1473"/>
                  </a:lnTo>
                  <a:lnTo>
                    <a:pt x="464" y="1460"/>
                  </a:lnTo>
                  <a:lnTo>
                    <a:pt x="450" y="1425"/>
                  </a:lnTo>
                  <a:lnTo>
                    <a:pt x="464" y="1390"/>
                  </a:lnTo>
                  <a:lnTo>
                    <a:pt x="472" y="1372"/>
                  </a:lnTo>
                  <a:lnTo>
                    <a:pt x="393" y="1350"/>
                  </a:lnTo>
                  <a:lnTo>
                    <a:pt x="336" y="1284"/>
                  </a:lnTo>
                  <a:lnTo>
                    <a:pt x="295" y="1209"/>
                  </a:lnTo>
                  <a:lnTo>
                    <a:pt x="260" y="1125"/>
                  </a:lnTo>
                  <a:lnTo>
                    <a:pt x="238" y="1054"/>
                  </a:lnTo>
                  <a:lnTo>
                    <a:pt x="246" y="997"/>
                  </a:lnTo>
                  <a:lnTo>
                    <a:pt x="322" y="1032"/>
                  </a:lnTo>
                  <a:lnTo>
                    <a:pt x="371" y="1103"/>
                  </a:lnTo>
                  <a:lnTo>
                    <a:pt x="402" y="1156"/>
                  </a:lnTo>
                  <a:lnTo>
                    <a:pt x="428" y="1209"/>
                  </a:lnTo>
                  <a:lnTo>
                    <a:pt x="464" y="1266"/>
                  </a:lnTo>
                  <a:lnTo>
                    <a:pt x="450" y="1156"/>
                  </a:lnTo>
                  <a:lnTo>
                    <a:pt x="486" y="1138"/>
                  </a:lnTo>
                  <a:lnTo>
                    <a:pt x="428" y="1054"/>
                  </a:lnTo>
                  <a:lnTo>
                    <a:pt x="336" y="997"/>
                  </a:lnTo>
                  <a:lnTo>
                    <a:pt x="282" y="979"/>
                  </a:lnTo>
                  <a:lnTo>
                    <a:pt x="282" y="944"/>
                  </a:lnTo>
                  <a:lnTo>
                    <a:pt x="340" y="962"/>
                  </a:lnTo>
                  <a:lnTo>
                    <a:pt x="305" y="856"/>
                  </a:lnTo>
                  <a:lnTo>
                    <a:pt x="295" y="719"/>
                  </a:lnTo>
                  <a:lnTo>
                    <a:pt x="268" y="552"/>
                  </a:lnTo>
                  <a:lnTo>
                    <a:pt x="282" y="410"/>
                  </a:lnTo>
                  <a:lnTo>
                    <a:pt x="305" y="308"/>
                  </a:lnTo>
                  <a:lnTo>
                    <a:pt x="336" y="233"/>
                  </a:lnTo>
                  <a:lnTo>
                    <a:pt x="268" y="440"/>
                  </a:lnTo>
                  <a:lnTo>
                    <a:pt x="295" y="202"/>
                  </a:lnTo>
                  <a:lnTo>
                    <a:pt x="211" y="565"/>
                  </a:lnTo>
                  <a:lnTo>
                    <a:pt x="238" y="220"/>
                  </a:lnTo>
                  <a:lnTo>
                    <a:pt x="176" y="463"/>
                  </a:lnTo>
                  <a:lnTo>
                    <a:pt x="176" y="255"/>
                  </a:lnTo>
                  <a:lnTo>
                    <a:pt x="127" y="410"/>
                  </a:lnTo>
                  <a:lnTo>
                    <a:pt x="114" y="268"/>
                  </a:lnTo>
                  <a:lnTo>
                    <a:pt x="74" y="379"/>
                  </a:lnTo>
                  <a:lnTo>
                    <a:pt x="83" y="233"/>
                  </a:lnTo>
                  <a:lnTo>
                    <a:pt x="127" y="158"/>
                  </a:lnTo>
                  <a:lnTo>
                    <a:pt x="189" y="101"/>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1487520" y="4473720"/>
              <a:ext cx="147960" cy="430560"/>
            </a:xfrm>
            <a:custGeom>
              <a:avLst/>
              <a:gdLst/>
              <a:ahLst/>
              <a:rect l="0" t="0" r="r" b="b"/>
              <a:pathLst>
                <a:path w="411" h="1196">
                  <a:moveTo>
                    <a:pt x="180" y="0"/>
                  </a:moveTo>
                  <a:lnTo>
                    <a:pt x="256" y="88"/>
                  </a:lnTo>
                  <a:lnTo>
                    <a:pt x="278" y="277"/>
                  </a:lnTo>
                  <a:lnTo>
                    <a:pt x="292" y="480"/>
                  </a:lnTo>
                  <a:lnTo>
                    <a:pt x="292" y="586"/>
                  </a:lnTo>
                  <a:lnTo>
                    <a:pt x="292" y="644"/>
                  </a:lnTo>
                  <a:lnTo>
                    <a:pt x="243" y="622"/>
                  </a:lnTo>
                  <a:lnTo>
                    <a:pt x="269" y="737"/>
                  </a:lnTo>
                  <a:lnTo>
                    <a:pt x="322" y="865"/>
                  </a:lnTo>
                  <a:lnTo>
                    <a:pt x="375" y="1019"/>
                  </a:lnTo>
                  <a:lnTo>
                    <a:pt x="411" y="1165"/>
                  </a:lnTo>
                  <a:lnTo>
                    <a:pt x="397" y="1196"/>
                  </a:lnTo>
                  <a:lnTo>
                    <a:pt x="362" y="1041"/>
                  </a:lnTo>
                  <a:lnTo>
                    <a:pt x="305" y="865"/>
                  </a:lnTo>
                  <a:lnTo>
                    <a:pt x="269" y="750"/>
                  </a:lnTo>
                  <a:lnTo>
                    <a:pt x="230" y="644"/>
                  </a:lnTo>
                  <a:lnTo>
                    <a:pt x="189" y="533"/>
                  </a:lnTo>
                  <a:lnTo>
                    <a:pt x="163" y="427"/>
                  </a:lnTo>
                  <a:lnTo>
                    <a:pt x="119" y="326"/>
                  </a:lnTo>
                  <a:lnTo>
                    <a:pt x="57" y="238"/>
                  </a:lnTo>
                  <a:lnTo>
                    <a:pt x="0" y="167"/>
                  </a:lnTo>
                  <a:lnTo>
                    <a:pt x="127" y="291"/>
                  </a:lnTo>
                  <a:lnTo>
                    <a:pt x="92" y="189"/>
                  </a:lnTo>
                  <a:lnTo>
                    <a:pt x="163" y="313"/>
                  </a:lnTo>
                  <a:lnTo>
                    <a:pt x="127" y="167"/>
                  </a:lnTo>
                  <a:lnTo>
                    <a:pt x="189" y="291"/>
                  </a:lnTo>
                  <a:lnTo>
                    <a:pt x="171" y="145"/>
                  </a:lnTo>
                  <a:lnTo>
                    <a:pt x="230" y="277"/>
                  </a:lnTo>
                  <a:lnTo>
                    <a:pt x="208" y="88"/>
                  </a:lnTo>
                  <a:lnTo>
                    <a:pt x="154" y="52"/>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1482840" y="4691160"/>
              <a:ext cx="74880" cy="19440"/>
            </a:xfrm>
            <a:custGeom>
              <a:avLst/>
              <a:gdLst/>
              <a:ahLst/>
              <a:rect l="0" t="0" r="r" b="b"/>
              <a:pathLst>
                <a:path w="208" h="54">
                  <a:moveTo>
                    <a:pt x="208" y="18"/>
                  </a:moveTo>
                  <a:lnTo>
                    <a:pt x="142" y="0"/>
                  </a:lnTo>
                  <a:lnTo>
                    <a:pt x="83" y="0"/>
                  </a:lnTo>
                  <a:lnTo>
                    <a:pt x="0" y="18"/>
                  </a:lnTo>
                  <a:lnTo>
                    <a:pt x="26" y="41"/>
                  </a:lnTo>
                  <a:lnTo>
                    <a:pt x="66" y="54"/>
                  </a:lnTo>
                  <a:lnTo>
                    <a:pt x="92" y="41"/>
                  </a:lnTo>
                  <a:lnTo>
                    <a:pt x="106" y="18"/>
                  </a:lnTo>
                  <a:lnTo>
                    <a:pt x="208"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7" name=""/>
            <p:cNvSpPr/>
            <p:nvPr/>
          </p:nvSpPr>
          <p:spPr>
            <a:xfrm>
              <a:off x="1349280" y="4697280"/>
              <a:ext cx="90720" cy="35280"/>
            </a:xfrm>
            <a:custGeom>
              <a:avLst/>
              <a:gdLst/>
              <a:ahLst/>
              <a:rect l="0" t="0" r="r" b="b"/>
              <a:pathLst>
                <a:path w="252" h="98">
                  <a:moveTo>
                    <a:pt x="252" y="0"/>
                  </a:moveTo>
                  <a:lnTo>
                    <a:pt x="155" y="0"/>
                  </a:lnTo>
                  <a:lnTo>
                    <a:pt x="97" y="22"/>
                  </a:lnTo>
                  <a:lnTo>
                    <a:pt x="22" y="35"/>
                  </a:lnTo>
                  <a:lnTo>
                    <a:pt x="0" y="80"/>
                  </a:lnTo>
                  <a:lnTo>
                    <a:pt x="22" y="62"/>
                  </a:lnTo>
                  <a:lnTo>
                    <a:pt x="61" y="98"/>
                  </a:lnTo>
                  <a:lnTo>
                    <a:pt x="105" y="98"/>
                  </a:lnTo>
                  <a:lnTo>
                    <a:pt x="133" y="80"/>
                  </a:lnTo>
                  <a:lnTo>
                    <a:pt x="142" y="35"/>
                  </a:lnTo>
                  <a:lnTo>
                    <a:pt x="155" y="22"/>
                  </a:lnTo>
                  <a:lnTo>
                    <a:pt x="252"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08" name=""/>
            <p:cNvSpPr/>
            <p:nvPr/>
          </p:nvSpPr>
          <p:spPr>
            <a:xfrm>
              <a:off x="1477800" y="4597560"/>
              <a:ext cx="38520" cy="19440"/>
            </a:xfrm>
            <a:custGeom>
              <a:avLst/>
              <a:gdLst/>
              <a:ahLst/>
              <a:rect l="0" t="0" r="r" b="b"/>
              <a:pathLst>
                <a:path w="107" h="54">
                  <a:moveTo>
                    <a:pt x="107" y="54"/>
                  </a:moveTo>
                  <a:lnTo>
                    <a:pt x="0" y="0"/>
                  </a:lnTo>
                  <a:lnTo>
                    <a:pt x="0" y="54"/>
                  </a:lnTo>
                  <a:lnTo>
                    <a:pt x="107"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9" name=""/>
            <p:cNvSpPr/>
            <p:nvPr/>
          </p:nvSpPr>
          <p:spPr>
            <a:xfrm>
              <a:off x="1352520" y="4597560"/>
              <a:ext cx="44640" cy="30600"/>
            </a:xfrm>
            <a:custGeom>
              <a:avLst/>
              <a:gdLst/>
              <a:ahLst/>
              <a:rect l="0" t="0" r="r" b="b"/>
              <a:pathLst>
                <a:path w="124" h="85">
                  <a:moveTo>
                    <a:pt x="124" y="0"/>
                  </a:moveTo>
                  <a:lnTo>
                    <a:pt x="0" y="85"/>
                  </a:lnTo>
                  <a:lnTo>
                    <a:pt x="89" y="85"/>
                  </a:lnTo>
                  <a:lnTo>
                    <a:pt x="124"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10" name=""/>
            <p:cNvSpPr/>
            <p:nvPr/>
          </p:nvSpPr>
          <p:spPr>
            <a:xfrm>
              <a:off x="1487520" y="4719600"/>
              <a:ext cx="116280" cy="198720"/>
            </a:xfrm>
            <a:custGeom>
              <a:avLst/>
              <a:gdLst/>
              <a:ahLst/>
              <a:rect l="0" t="0" r="r" b="b"/>
              <a:pathLst>
                <a:path w="323" h="552">
                  <a:moveTo>
                    <a:pt x="39" y="0"/>
                  </a:moveTo>
                  <a:lnTo>
                    <a:pt x="120" y="141"/>
                  </a:lnTo>
                  <a:lnTo>
                    <a:pt x="203" y="229"/>
                  </a:lnTo>
                  <a:lnTo>
                    <a:pt x="266" y="300"/>
                  </a:lnTo>
                  <a:lnTo>
                    <a:pt x="323" y="358"/>
                  </a:lnTo>
                  <a:lnTo>
                    <a:pt x="323" y="393"/>
                  </a:lnTo>
                  <a:lnTo>
                    <a:pt x="315" y="446"/>
                  </a:lnTo>
                  <a:lnTo>
                    <a:pt x="203" y="459"/>
                  </a:lnTo>
                  <a:lnTo>
                    <a:pt x="181" y="512"/>
                  </a:lnTo>
                  <a:lnTo>
                    <a:pt x="128" y="552"/>
                  </a:lnTo>
                  <a:lnTo>
                    <a:pt x="70" y="534"/>
                  </a:lnTo>
                  <a:lnTo>
                    <a:pt x="26" y="490"/>
                  </a:lnTo>
                  <a:lnTo>
                    <a:pt x="0" y="446"/>
                  </a:lnTo>
                  <a:lnTo>
                    <a:pt x="26" y="406"/>
                  </a:lnTo>
                  <a:lnTo>
                    <a:pt x="93" y="406"/>
                  </a:lnTo>
                  <a:lnTo>
                    <a:pt x="293" y="406"/>
                  </a:lnTo>
                  <a:lnTo>
                    <a:pt x="301" y="358"/>
                  </a:lnTo>
                  <a:lnTo>
                    <a:pt x="190" y="264"/>
                  </a:lnTo>
                  <a:lnTo>
                    <a:pt x="120"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1393920" y="4911840"/>
              <a:ext cx="194040" cy="138600"/>
            </a:xfrm>
            <a:custGeom>
              <a:avLst/>
              <a:gdLst/>
              <a:ahLst/>
              <a:rect l="0" t="0" r="r" b="b"/>
              <a:pathLst>
                <a:path w="539" h="385">
                  <a:moveTo>
                    <a:pt x="539" y="17"/>
                  </a:moveTo>
                  <a:lnTo>
                    <a:pt x="539" y="88"/>
                  </a:lnTo>
                  <a:lnTo>
                    <a:pt x="513" y="137"/>
                  </a:lnTo>
                  <a:lnTo>
                    <a:pt x="491" y="172"/>
                  </a:lnTo>
                  <a:lnTo>
                    <a:pt x="482" y="208"/>
                  </a:lnTo>
                  <a:lnTo>
                    <a:pt x="504" y="278"/>
                  </a:lnTo>
                  <a:lnTo>
                    <a:pt x="504" y="328"/>
                  </a:lnTo>
                  <a:lnTo>
                    <a:pt x="482" y="350"/>
                  </a:lnTo>
                  <a:lnTo>
                    <a:pt x="491" y="278"/>
                  </a:lnTo>
                  <a:lnTo>
                    <a:pt x="465" y="225"/>
                  </a:lnTo>
                  <a:lnTo>
                    <a:pt x="434" y="261"/>
                  </a:lnTo>
                  <a:lnTo>
                    <a:pt x="380" y="297"/>
                  </a:lnTo>
                  <a:lnTo>
                    <a:pt x="425" y="225"/>
                  </a:lnTo>
                  <a:lnTo>
                    <a:pt x="425" y="155"/>
                  </a:lnTo>
                  <a:lnTo>
                    <a:pt x="340" y="190"/>
                  </a:lnTo>
                  <a:lnTo>
                    <a:pt x="217" y="190"/>
                  </a:lnTo>
                  <a:lnTo>
                    <a:pt x="155" y="172"/>
                  </a:lnTo>
                  <a:lnTo>
                    <a:pt x="79" y="155"/>
                  </a:lnTo>
                  <a:lnTo>
                    <a:pt x="132" y="225"/>
                  </a:lnTo>
                  <a:lnTo>
                    <a:pt x="177" y="261"/>
                  </a:lnTo>
                  <a:lnTo>
                    <a:pt x="252" y="297"/>
                  </a:lnTo>
                  <a:lnTo>
                    <a:pt x="300" y="297"/>
                  </a:lnTo>
                  <a:lnTo>
                    <a:pt x="318" y="328"/>
                  </a:lnTo>
                  <a:lnTo>
                    <a:pt x="340" y="315"/>
                  </a:lnTo>
                  <a:lnTo>
                    <a:pt x="367" y="350"/>
                  </a:lnTo>
                  <a:lnTo>
                    <a:pt x="389" y="328"/>
                  </a:lnTo>
                  <a:lnTo>
                    <a:pt x="402" y="368"/>
                  </a:lnTo>
                  <a:lnTo>
                    <a:pt x="434" y="368"/>
                  </a:lnTo>
                  <a:lnTo>
                    <a:pt x="367" y="385"/>
                  </a:lnTo>
                  <a:lnTo>
                    <a:pt x="274" y="368"/>
                  </a:lnTo>
                  <a:lnTo>
                    <a:pt x="190" y="350"/>
                  </a:lnTo>
                  <a:lnTo>
                    <a:pt x="119" y="297"/>
                  </a:lnTo>
                  <a:lnTo>
                    <a:pt x="70" y="225"/>
                  </a:lnTo>
                  <a:lnTo>
                    <a:pt x="35" y="172"/>
                  </a:lnTo>
                  <a:lnTo>
                    <a:pt x="0" y="190"/>
                  </a:lnTo>
                  <a:lnTo>
                    <a:pt x="22" y="120"/>
                  </a:lnTo>
                  <a:lnTo>
                    <a:pt x="35" y="88"/>
                  </a:lnTo>
                  <a:lnTo>
                    <a:pt x="22" y="30"/>
                  </a:lnTo>
                  <a:lnTo>
                    <a:pt x="44" y="30"/>
                  </a:lnTo>
                  <a:lnTo>
                    <a:pt x="57" y="17"/>
                  </a:lnTo>
                  <a:lnTo>
                    <a:pt x="92" y="30"/>
                  </a:lnTo>
                  <a:lnTo>
                    <a:pt x="105" y="52"/>
                  </a:lnTo>
                  <a:lnTo>
                    <a:pt x="57" y="102"/>
                  </a:lnTo>
                  <a:lnTo>
                    <a:pt x="79" y="137"/>
                  </a:lnTo>
                  <a:lnTo>
                    <a:pt x="168" y="155"/>
                  </a:lnTo>
                  <a:lnTo>
                    <a:pt x="287" y="172"/>
                  </a:lnTo>
                  <a:lnTo>
                    <a:pt x="380" y="155"/>
                  </a:lnTo>
                  <a:lnTo>
                    <a:pt x="434" y="120"/>
                  </a:lnTo>
                  <a:lnTo>
                    <a:pt x="491" y="88"/>
                  </a:lnTo>
                  <a:lnTo>
                    <a:pt x="513" y="52"/>
                  </a:lnTo>
                  <a:lnTo>
                    <a:pt x="513" y="0"/>
                  </a:lnTo>
                  <a:lnTo>
                    <a:pt x="539"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1566720" y="4930920"/>
              <a:ext cx="60840" cy="174960"/>
            </a:xfrm>
            <a:custGeom>
              <a:avLst/>
              <a:gdLst/>
              <a:ahLst/>
              <a:rect l="0" t="0" r="r" b="b"/>
              <a:pathLst>
                <a:path w="169" h="486">
                  <a:moveTo>
                    <a:pt x="169" y="0"/>
                  </a:moveTo>
                  <a:lnTo>
                    <a:pt x="134" y="123"/>
                  </a:lnTo>
                  <a:lnTo>
                    <a:pt x="84" y="247"/>
                  </a:lnTo>
                  <a:lnTo>
                    <a:pt x="35" y="349"/>
                  </a:lnTo>
                  <a:lnTo>
                    <a:pt x="8" y="424"/>
                  </a:lnTo>
                  <a:lnTo>
                    <a:pt x="8" y="486"/>
                  </a:lnTo>
                  <a:lnTo>
                    <a:pt x="0" y="384"/>
                  </a:lnTo>
                  <a:lnTo>
                    <a:pt x="35" y="265"/>
                  </a:lnTo>
                  <a:lnTo>
                    <a:pt x="84" y="123"/>
                  </a:lnTo>
                  <a:lnTo>
                    <a:pt x="134" y="0"/>
                  </a:lnTo>
                  <a:lnTo>
                    <a:pt x="1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1362240" y="5129280"/>
              <a:ext cx="184680" cy="324360"/>
            </a:xfrm>
            <a:custGeom>
              <a:avLst/>
              <a:gdLst/>
              <a:ahLst/>
              <a:rect l="0" t="0" r="r" b="b"/>
              <a:pathLst>
                <a:path w="513" h="901">
                  <a:moveTo>
                    <a:pt x="265" y="0"/>
                  </a:moveTo>
                  <a:lnTo>
                    <a:pt x="265" y="92"/>
                  </a:lnTo>
                  <a:lnTo>
                    <a:pt x="362" y="70"/>
                  </a:lnTo>
                  <a:lnTo>
                    <a:pt x="513" y="224"/>
                  </a:lnTo>
                  <a:lnTo>
                    <a:pt x="349" y="92"/>
                  </a:lnTo>
                  <a:lnTo>
                    <a:pt x="278" y="105"/>
                  </a:lnTo>
                  <a:lnTo>
                    <a:pt x="349" y="202"/>
                  </a:lnTo>
                  <a:lnTo>
                    <a:pt x="420" y="384"/>
                  </a:lnTo>
                  <a:lnTo>
                    <a:pt x="478" y="583"/>
                  </a:lnTo>
                  <a:lnTo>
                    <a:pt x="513" y="760"/>
                  </a:lnTo>
                  <a:lnTo>
                    <a:pt x="390" y="477"/>
                  </a:lnTo>
                  <a:lnTo>
                    <a:pt x="487" y="835"/>
                  </a:lnTo>
                  <a:lnTo>
                    <a:pt x="362" y="512"/>
                  </a:lnTo>
                  <a:lnTo>
                    <a:pt x="456" y="835"/>
                  </a:lnTo>
                  <a:lnTo>
                    <a:pt x="322" y="552"/>
                  </a:lnTo>
                  <a:lnTo>
                    <a:pt x="420" y="870"/>
                  </a:lnTo>
                  <a:lnTo>
                    <a:pt x="305" y="618"/>
                  </a:lnTo>
                  <a:lnTo>
                    <a:pt x="390" y="870"/>
                  </a:lnTo>
                  <a:lnTo>
                    <a:pt x="362" y="901"/>
                  </a:lnTo>
                  <a:lnTo>
                    <a:pt x="287" y="675"/>
                  </a:lnTo>
                  <a:lnTo>
                    <a:pt x="221" y="499"/>
                  </a:lnTo>
                  <a:lnTo>
                    <a:pt x="133" y="331"/>
                  </a:lnTo>
                  <a:lnTo>
                    <a:pt x="61" y="202"/>
                  </a:lnTo>
                  <a:lnTo>
                    <a:pt x="0" y="136"/>
                  </a:lnTo>
                  <a:lnTo>
                    <a:pt x="146" y="274"/>
                  </a:lnTo>
                  <a:lnTo>
                    <a:pt x="208" y="274"/>
                  </a:lnTo>
                  <a:lnTo>
                    <a:pt x="278" y="261"/>
                  </a:lnTo>
                  <a:lnTo>
                    <a:pt x="305" y="224"/>
                  </a:lnTo>
                  <a:lnTo>
                    <a:pt x="265" y="149"/>
                  </a:lnTo>
                  <a:lnTo>
                    <a:pt x="243" y="202"/>
                  </a:lnTo>
                  <a:lnTo>
                    <a:pt x="243"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1300320" y="5191200"/>
              <a:ext cx="74880" cy="117720"/>
            </a:xfrm>
            <a:custGeom>
              <a:avLst/>
              <a:gdLst/>
              <a:ahLst/>
              <a:rect l="0" t="0" r="r" b="b"/>
              <a:pathLst>
                <a:path w="208" h="327">
                  <a:moveTo>
                    <a:pt x="30" y="0"/>
                  </a:moveTo>
                  <a:lnTo>
                    <a:pt x="30" y="105"/>
                  </a:lnTo>
                  <a:lnTo>
                    <a:pt x="208" y="256"/>
                  </a:lnTo>
                  <a:lnTo>
                    <a:pt x="111" y="327"/>
                  </a:lnTo>
                  <a:lnTo>
                    <a:pt x="159" y="274"/>
                  </a:lnTo>
                  <a:lnTo>
                    <a:pt x="30" y="164"/>
                  </a:lnTo>
                  <a:lnTo>
                    <a:pt x="44" y="127"/>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1336680" y="5315040"/>
              <a:ext cx="103680" cy="101880"/>
            </a:xfrm>
            <a:custGeom>
              <a:avLst/>
              <a:gdLst/>
              <a:ahLst/>
              <a:rect l="0" t="0" r="r" b="b"/>
              <a:pathLst>
                <a:path w="288" h="283">
                  <a:moveTo>
                    <a:pt x="288" y="247"/>
                  </a:moveTo>
                  <a:lnTo>
                    <a:pt x="168" y="123"/>
                  </a:lnTo>
                  <a:lnTo>
                    <a:pt x="70" y="52"/>
                  </a:lnTo>
                  <a:lnTo>
                    <a:pt x="0" y="0"/>
                  </a:lnTo>
                  <a:lnTo>
                    <a:pt x="168" y="159"/>
                  </a:lnTo>
                  <a:lnTo>
                    <a:pt x="235" y="247"/>
                  </a:lnTo>
                  <a:lnTo>
                    <a:pt x="275" y="283"/>
                  </a:lnTo>
                  <a:lnTo>
                    <a:pt x="288"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16" name=""/>
            <p:cNvSpPr/>
            <p:nvPr/>
          </p:nvSpPr>
          <p:spPr>
            <a:xfrm>
              <a:off x="1120680" y="5184720"/>
              <a:ext cx="73440" cy="76680"/>
            </a:xfrm>
            <a:custGeom>
              <a:avLst/>
              <a:gdLst/>
              <a:ahLst/>
              <a:rect l="0" t="0" r="r" b="b"/>
              <a:pathLst>
                <a:path w="204" h="213">
                  <a:moveTo>
                    <a:pt x="204" y="0"/>
                  </a:moveTo>
                  <a:lnTo>
                    <a:pt x="75" y="0"/>
                  </a:lnTo>
                  <a:lnTo>
                    <a:pt x="26" y="124"/>
                  </a:lnTo>
                  <a:lnTo>
                    <a:pt x="0" y="213"/>
                  </a:lnTo>
                  <a:lnTo>
                    <a:pt x="53" y="213"/>
                  </a:lnTo>
                  <a:lnTo>
                    <a:pt x="62" y="124"/>
                  </a:lnTo>
                  <a:lnTo>
                    <a:pt x="98" y="35"/>
                  </a:lnTo>
                  <a:lnTo>
                    <a:pt x="20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17" name=""/>
            <p:cNvSpPr/>
            <p:nvPr/>
          </p:nvSpPr>
          <p:spPr>
            <a:xfrm>
              <a:off x="1160640" y="5216400"/>
              <a:ext cx="86040" cy="79560"/>
            </a:xfrm>
            <a:custGeom>
              <a:avLst/>
              <a:gdLst/>
              <a:ahLst/>
              <a:rect l="0" t="0" r="r" b="b"/>
              <a:pathLst>
                <a:path w="239" h="221">
                  <a:moveTo>
                    <a:pt x="239" y="221"/>
                  </a:moveTo>
                  <a:lnTo>
                    <a:pt x="92" y="70"/>
                  </a:lnTo>
                  <a:lnTo>
                    <a:pt x="0" y="0"/>
                  </a:lnTo>
                  <a:lnTo>
                    <a:pt x="0" y="57"/>
                  </a:lnTo>
                  <a:lnTo>
                    <a:pt x="239"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18" name=""/>
            <p:cNvSpPr/>
            <p:nvPr/>
          </p:nvSpPr>
          <p:spPr>
            <a:xfrm>
              <a:off x="1147680" y="5261040"/>
              <a:ext cx="93960" cy="60840"/>
            </a:xfrm>
            <a:custGeom>
              <a:avLst/>
              <a:gdLst/>
              <a:ahLst/>
              <a:rect l="0" t="0" r="r" b="b"/>
              <a:pathLst>
                <a:path w="261" h="169">
                  <a:moveTo>
                    <a:pt x="261" y="151"/>
                  </a:moveTo>
                  <a:lnTo>
                    <a:pt x="127" y="62"/>
                  </a:lnTo>
                  <a:lnTo>
                    <a:pt x="57" y="0"/>
                  </a:lnTo>
                  <a:lnTo>
                    <a:pt x="13" y="0"/>
                  </a:lnTo>
                  <a:lnTo>
                    <a:pt x="0" y="45"/>
                  </a:lnTo>
                  <a:lnTo>
                    <a:pt x="39" y="62"/>
                  </a:lnTo>
                  <a:lnTo>
                    <a:pt x="57" y="45"/>
                  </a:lnTo>
                  <a:lnTo>
                    <a:pt x="127" y="80"/>
                  </a:lnTo>
                  <a:lnTo>
                    <a:pt x="164" y="115"/>
                  </a:lnTo>
                  <a:lnTo>
                    <a:pt x="177" y="138"/>
                  </a:lnTo>
                  <a:lnTo>
                    <a:pt x="234" y="169"/>
                  </a:lnTo>
                  <a:lnTo>
                    <a:pt x="261"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19" name=""/>
            <p:cNvSpPr/>
            <p:nvPr/>
          </p:nvSpPr>
          <p:spPr>
            <a:xfrm>
              <a:off x="1117440" y="5308560"/>
              <a:ext cx="101880" cy="197280"/>
            </a:xfrm>
            <a:custGeom>
              <a:avLst/>
              <a:gdLst/>
              <a:ahLst/>
              <a:rect l="0" t="0" r="r" b="b"/>
              <a:pathLst>
                <a:path w="283" h="548">
                  <a:moveTo>
                    <a:pt x="97" y="17"/>
                  </a:moveTo>
                  <a:lnTo>
                    <a:pt x="97" y="142"/>
                  </a:lnTo>
                  <a:lnTo>
                    <a:pt x="97" y="212"/>
                  </a:lnTo>
                  <a:lnTo>
                    <a:pt x="105" y="300"/>
                  </a:lnTo>
                  <a:lnTo>
                    <a:pt x="199" y="212"/>
                  </a:lnTo>
                  <a:lnTo>
                    <a:pt x="283" y="105"/>
                  </a:lnTo>
                  <a:lnTo>
                    <a:pt x="150" y="300"/>
                  </a:lnTo>
                  <a:lnTo>
                    <a:pt x="70" y="353"/>
                  </a:lnTo>
                  <a:lnTo>
                    <a:pt x="136" y="495"/>
                  </a:lnTo>
                  <a:lnTo>
                    <a:pt x="97" y="548"/>
                  </a:lnTo>
                  <a:lnTo>
                    <a:pt x="39" y="460"/>
                  </a:lnTo>
                  <a:lnTo>
                    <a:pt x="22" y="402"/>
                  </a:lnTo>
                  <a:lnTo>
                    <a:pt x="0" y="371"/>
                  </a:lnTo>
                  <a:lnTo>
                    <a:pt x="48" y="318"/>
                  </a:lnTo>
                  <a:lnTo>
                    <a:pt x="22" y="212"/>
                  </a:lnTo>
                  <a:lnTo>
                    <a:pt x="22" y="142"/>
                  </a:lnTo>
                  <a:lnTo>
                    <a:pt x="8" y="30"/>
                  </a:lnTo>
                  <a:lnTo>
                    <a:pt x="22" y="0"/>
                  </a:lnTo>
                  <a:lnTo>
                    <a:pt x="48" y="212"/>
                  </a:lnTo>
                  <a:lnTo>
                    <a:pt x="9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0" name=""/>
            <p:cNvSpPr/>
            <p:nvPr/>
          </p:nvSpPr>
          <p:spPr>
            <a:xfrm>
              <a:off x="1166760" y="5353200"/>
              <a:ext cx="103680" cy="203400"/>
            </a:xfrm>
            <a:custGeom>
              <a:avLst/>
              <a:gdLst/>
              <a:ahLst/>
              <a:rect l="0" t="0" r="r" b="b"/>
              <a:pathLst>
                <a:path w="288" h="565">
                  <a:moveTo>
                    <a:pt x="226" y="0"/>
                  </a:moveTo>
                  <a:lnTo>
                    <a:pt x="146" y="229"/>
                  </a:lnTo>
                  <a:lnTo>
                    <a:pt x="70" y="336"/>
                  </a:lnTo>
                  <a:lnTo>
                    <a:pt x="0" y="406"/>
                  </a:lnTo>
                  <a:lnTo>
                    <a:pt x="70" y="336"/>
                  </a:lnTo>
                  <a:lnTo>
                    <a:pt x="133" y="264"/>
                  </a:lnTo>
                  <a:lnTo>
                    <a:pt x="89" y="406"/>
                  </a:lnTo>
                  <a:lnTo>
                    <a:pt x="0" y="565"/>
                  </a:lnTo>
                  <a:lnTo>
                    <a:pt x="106" y="406"/>
                  </a:lnTo>
                  <a:lnTo>
                    <a:pt x="168" y="283"/>
                  </a:lnTo>
                  <a:lnTo>
                    <a:pt x="226" y="70"/>
                  </a:lnTo>
                  <a:lnTo>
                    <a:pt x="288" y="300"/>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1" name=""/>
            <p:cNvSpPr/>
            <p:nvPr/>
          </p:nvSpPr>
          <p:spPr>
            <a:xfrm>
              <a:off x="1139760" y="5518080"/>
              <a:ext cx="44640" cy="124200"/>
            </a:xfrm>
            <a:custGeom>
              <a:avLst/>
              <a:gdLst/>
              <a:ahLst/>
              <a:rect l="0" t="0" r="r" b="b"/>
              <a:pathLst>
                <a:path w="124" h="345">
                  <a:moveTo>
                    <a:pt x="44" y="0"/>
                  </a:moveTo>
                  <a:lnTo>
                    <a:pt x="75" y="106"/>
                  </a:lnTo>
                  <a:lnTo>
                    <a:pt x="35" y="106"/>
                  </a:lnTo>
                  <a:lnTo>
                    <a:pt x="124" y="345"/>
                  </a:lnTo>
                  <a:lnTo>
                    <a:pt x="0" y="35"/>
                  </a:lnTo>
                  <a:lnTo>
                    <a:pt x="35"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28720" y="4559400"/>
              <a:ext cx="787680" cy="1254600"/>
            </a:xfrm>
            <a:custGeom>
              <a:avLst/>
              <a:gdLst/>
              <a:ahLst/>
              <a:rect l="0" t="0" r="r" b="b"/>
              <a:pathLst>
                <a:path w="2188" h="3485">
                  <a:moveTo>
                    <a:pt x="26" y="1442"/>
                  </a:moveTo>
                  <a:lnTo>
                    <a:pt x="194" y="984"/>
                  </a:lnTo>
                  <a:lnTo>
                    <a:pt x="339" y="564"/>
                  </a:lnTo>
                  <a:lnTo>
                    <a:pt x="418" y="255"/>
                  </a:lnTo>
                  <a:lnTo>
                    <a:pt x="463" y="52"/>
                  </a:lnTo>
                  <a:lnTo>
                    <a:pt x="811" y="308"/>
                  </a:lnTo>
                  <a:lnTo>
                    <a:pt x="1196" y="542"/>
                  </a:lnTo>
                  <a:lnTo>
                    <a:pt x="1685" y="762"/>
                  </a:lnTo>
                  <a:lnTo>
                    <a:pt x="2166" y="904"/>
                  </a:lnTo>
                  <a:lnTo>
                    <a:pt x="1910" y="1460"/>
                  </a:lnTo>
                  <a:lnTo>
                    <a:pt x="1676" y="2148"/>
                  </a:lnTo>
                  <a:lnTo>
                    <a:pt x="1429" y="2780"/>
                  </a:lnTo>
                  <a:lnTo>
                    <a:pt x="1160" y="3256"/>
                  </a:lnTo>
                  <a:lnTo>
                    <a:pt x="1053" y="3410"/>
                  </a:lnTo>
                  <a:lnTo>
                    <a:pt x="767" y="3141"/>
                  </a:lnTo>
                  <a:lnTo>
                    <a:pt x="524" y="3009"/>
                  </a:lnTo>
                  <a:lnTo>
                    <a:pt x="427" y="2952"/>
                  </a:lnTo>
                  <a:lnTo>
                    <a:pt x="436" y="2987"/>
                  </a:lnTo>
                  <a:lnTo>
                    <a:pt x="705" y="3181"/>
                  </a:lnTo>
                  <a:lnTo>
                    <a:pt x="864" y="3340"/>
                  </a:lnTo>
                  <a:lnTo>
                    <a:pt x="943" y="3485"/>
                  </a:lnTo>
                  <a:lnTo>
                    <a:pt x="978" y="3393"/>
                  </a:lnTo>
                  <a:lnTo>
                    <a:pt x="1080" y="3445"/>
                  </a:lnTo>
                  <a:lnTo>
                    <a:pt x="1231" y="3181"/>
                  </a:lnTo>
                  <a:lnTo>
                    <a:pt x="1412" y="2872"/>
                  </a:lnTo>
                  <a:lnTo>
                    <a:pt x="1632" y="2333"/>
                  </a:lnTo>
                  <a:lnTo>
                    <a:pt x="1861" y="1734"/>
                  </a:lnTo>
                  <a:lnTo>
                    <a:pt x="2011" y="1420"/>
                  </a:lnTo>
                  <a:lnTo>
                    <a:pt x="2161" y="1235"/>
                  </a:lnTo>
                  <a:lnTo>
                    <a:pt x="2069" y="1182"/>
                  </a:lnTo>
                  <a:lnTo>
                    <a:pt x="2188" y="891"/>
                  </a:lnTo>
                  <a:lnTo>
                    <a:pt x="1747" y="749"/>
                  </a:lnTo>
                  <a:lnTo>
                    <a:pt x="1372" y="590"/>
                  </a:lnTo>
                  <a:lnTo>
                    <a:pt x="1009" y="396"/>
                  </a:lnTo>
                  <a:lnTo>
                    <a:pt x="687" y="189"/>
                  </a:lnTo>
                  <a:lnTo>
                    <a:pt x="436" y="0"/>
                  </a:lnTo>
                  <a:lnTo>
                    <a:pt x="330" y="476"/>
                  </a:lnTo>
                  <a:lnTo>
                    <a:pt x="154" y="1054"/>
                  </a:lnTo>
                  <a:lnTo>
                    <a:pt x="0" y="1429"/>
                  </a:lnTo>
                  <a:lnTo>
                    <a:pt x="26"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1643040" y="5075280"/>
              <a:ext cx="154440" cy="200520"/>
            </a:xfrm>
            <a:custGeom>
              <a:avLst/>
              <a:gdLst/>
              <a:ahLst/>
              <a:rect l="0" t="0" r="r" b="b"/>
              <a:pathLst>
                <a:path w="429" h="557">
                  <a:moveTo>
                    <a:pt x="159" y="0"/>
                  </a:moveTo>
                  <a:lnTo>
                    <a:pt x="292" y="61"/>
                  </a:lnTo>
                  <a:lnTo>
                    <a:pt x="372" y="127"/>
                  </a:lnTo>
                  <a:lnTo>
                    <a:pt x="420" y="164"/>
                  </a:lnTo>
                  <a:lnTo>
                    <a:pt x="407" y="221"/>
                  </a:lnTo>
                  <a:lnTo>
                    <a:pt x="323" y="247"/>
                  </a:lnTo>
                  <a:lnTo>
                    <a:pt x="195" y="230"/>
                  </a:lnTo>
                  <a:lnTo>
                    <a:pt x="105" y="208"/>
                  </a:lnTo>
                  <a:lnTo>
                    <a:pt x="133" y="269"/>
                  </a:lnTo>
                  <a:lnTo>
                    <a:pt x="124" y="393"/>
                  </a:lnTo>
                  <a:lnTo>
                    <a:pt x="74" y="473"/>
                  </a:lnTo>
                  <a:lnTo>
                    <a:pt x="17" y="283"/>
                  </a:lnTo>
                  <a:lnTo>
                    <a:pt x="39" y="142"/>
                  </a:lnTo>
                  <a:lnTo>
                    <a:pt x="88" y="48"/>
                  </a:lnTo>
                  <a:lnTo>
                    <a:pt x="124" y="13"/>
                  </a:lnTo>
                  <a:lnTo>
                    <a:pt x="74" y="13"/>
                  </a:lnTo>
                  <a:lnTo>
                    <a:pt x="17" y="127"/>
                  </a:lnTo>
                  <a:lnTo>
                    <a:pt x="0" y="261"/>
                  </a:lnTo>
                  <a:lnTo>
                    <a:pt x="26" y="393"/>
                  </a:lnTo>
                  <a:lnTo>
                    <a:pt x="61" y="557"/>
                  </a:lnTo>
                  <a:lnTo>
                    <a:pt x="168" y="380"/>
                  </a:lnTo>
                  <a:lnTo>
                    <a:pt x="212" y="269"/>
                  </a:lnTo>
                  <a:lnTo>
                    <a:pt x="337" y="269"/>
                  </a:lnTo>
                  <a:lnTo>
                    <a:pt x="407" y="247"/>
                  </a:lnTo>
                  <a:lnTo>
                    <a:pt x="429" y="208"/>
                  </a:lnTo>
                  <a:lnTo>
                    <a:pt x="420" y="16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1405080" y="5429160"/>
              <a:ext cx="225720" cy="73440"/>
            </a:xfrm>
            <a:custGeom>
              <a:avLst/>
              <a:gdLst/>
              <a:ahLst/>
              <a:rect l="0" t="0" r="r" b="b"/>
              <a:pathLst>
                <a:path w="627" h="204">
                  <a:moveTo>
                    <a:pt x="17" y="124"/>
                  </a:moveTo>
                  <a:lnTo>
                    <a:pt x="268" y="44"/>
                  </a:lnTo>
                  <a:lnTo>
                    <a:pt x="411" y="17"/>
                  </a:lnTo>
                  <a:lnTo>
                    <a:pt x="538" y="26"/>
                  </a:lnTo>
                  <a:lnTo>
                    <a:pt x="600" y="84"/>
                  </a:lnTo>
                  <a:lnTo>
                    <a:pt x="552" y="137"/>
                  </a:lnTo>
                  <a:lnTo>
                    <a:pt x="494" y="150"/>
                  </a:lnTo>
                  <a:lnTo>
                    <a:pt x="468" y="204"/>
                  </a:lnTo>
                  <a:lnTo>
                    <a:pt x="569" y="178"/>
                  </a:lnTo>
                  <a:lnTo>
                    <a:pt x="600" y="124"/>
                  </a:lnTo>
                  <a:lnTo>
                    <a:pt x="627" y="84"/>
                  </a:lnTo>
                  <a:lnTo>
                    <a:pt x="600" y="26"/>
                  </a:lnTo>
                  <a:lnTo>
                    <a:pt x="499" y="0"/>
                  </a:lnTo>
                  <a:lnTo>
                    <a:pt x="397" y="0"/>
                  </a:lnTo>
                  <a:lnTo>
                    <a:pt x="132" y="71"/>
                  </a:lnTo>
                  <a:lnTo>
                    <a:pt x="0" y="111"/>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25" name=""/>
            <p:cNvSpPr/>
            <p:nvPr/>
          </p:nvSpPr>
          <p:spPr>
            <a:xfrm>
              <a:off x="1533600" y="5478480"/>
              <a:ext cx="41760" cy="11520"/>
            </a:xfrm>
            <a:custGeom>
              <a:avLst/>
              <a:gdLst/>
              <a:ahLst/>
              <a:rect l="0" t="0" r="r" b="b"/>
              <a:pathLst>
                <a:path w="116" h="32">
                  <a:moveTo>
                    <a:pt x="107" y="0"/>
                  </a:moveTo>
                  <a:lnTo>
                    <a:pt x="0" y="0"/>
                  </a:lnTo>
                  <a:lnTo>
                    <a:pt x="116" y="32"/>
                  </a:lnTo>
                  <a:lnTo>
                    <a:pt x="107"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26" name=""/>
            <p:cNvSpPr/>
            <p:nvPr/>
          </p:nvSpPr>
          <p:spPr>
            <a:xfrm>
              <a:off x="1693800" y="5302080"/>
              <a:ext cx="138600" cy="227520"/>
            </a:xfrm>
            <a:custGeom>
              <a:avLst/>
              <a:gdLst/>
              <a:ahLst/>
              <a:rect l="0" t="0" r="r" b="b"/>
              <a:pathLst>
                <a:path w="385" h="632">
                  <a:moveTo>
                    <a:pt x="35" y="0"/>
                  </a:moveTo>
                  <a:lnTo>
                    <a:pt x="376" y="553"/>
                  </a:lnTo>
                  <a:lnTo>
                    <a:pt x="385" y="632"/>
                  </a:lnTo>
                  <a:lnTo>
                    <a:pt x="332" y="592"/>
                  </a:lnTo>
                  <a:lnTo>
                    <a:pt x="332" y="553"/>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1601640" y="5383080"/>
              <a:ext cx="78120" cy="55800"/>
            </a:xfrm>
            <a:custGeom>
              <a:avLst/>
              <a:gdLst/>
              <a:ahLst/>
              <a:rect l="0" t="0" r="r" b="b"/>
              <a:pathLst>
                <a:path w="217" h="155">
                  <a:moveTo>
                    <a:pt x="17" y="120"/>
                  </a:moveTo>
                  <a:lnTo>
                    <a:pt x="186" y="0"/>
                  </a:lnTo>
                  <a:lnTo>
                    <a:pt x="217" y="52"/>
                  </a:lnTo>
                  <a:lnTo>
                    <a:pt x="52" y="155"/>
                  </a:lnTo>
                  <a:lnTo>
                    <a:pt x="0" y="142"/>
                  </a:lnTo>
                  <a:lnTo>
                    <a:pt x="17"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28" name=""/>
            <p:cNvSpPr/>
            <p:nvPr/>
          </p:nvSpPr>
          <p:spPr>
            <a:xfrm>
              <a:off x="1738440" y="5068800"/>
              <a:ext cx="383040" cy="290880"/>
            </a:xfrm>
            <a:custGeom>
              <a:avLst/>
              <a:gdLst/>
              <a:ahLst/>
              <a:rect l="0" t="0" r="r" b="b"/>
              <a:pathLst>
                <a:path w="1064" h="808">
                  <a:moveTo>
                    <a:pt x="0" y="751"/>
                  </a:moveTo>
                  <a:lnTo>
                    <a:pt x="1038" y="0"/>
                  </a:lnTo>
                  <a:lnTo>
                    <a:pt x="1064" y="22"/>
                  </a:lnTo>
                  <a:lnTo>
                    <a:pt x="1055" y="39"/>
                  </a:lnTo>
                  <a:lnTo>
                    <a:pt x="35" y="808"/>
                  </a:lnTo>
                  <a:lnTo>
                    <a:pt x="490" y="433"/>
                  </a:lnTo>
                  <a:lnTo>
                    <a:pt x="0"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1530360" y="5175360"/>
              <a:ext cx="176400" cy="303480"/>
            </a:xfrm>
            <a:custGeom>
              <a:avLst/>
              <a:gdLst/>
              <a:ahLst/>
              <a:rect l="0" t="0" r="r" b="b"/>
              <a:pathLst>
                <a:path w="490" h="843">
                  <a:moveTo>
                    <a:pt x="358" y="304"/>
                  </a:moveTo>
                  <a:lnTo>
                    <a:pt x="220" y="538"/>
                  </a:lnTo>
                  <a:lnTo>
                    <a:pt x="119" y="671"/>
                  </a:lnTo>
                  <a:lnTo>
                    <a:pt x="490" y="816"/>
                  </a:lnTo>
                  <a:lnTo>
                    <a:pt x="402" y="843"/>
                  </a:lnTo>
                  <a:lnTo>
                    <a:pt x="269" y="816"/>
                  </a:lnTo>
                  <a:lnTo>
                    <a:pt x="242" y="737"/>
                  </a:lnTo>
                  <a:lnTo>
                    <a:pt x="88" y="697"/>
                  </a:lnTo>
                  <a:lnTo>
                    <a:pt x="57" y="671"/>
                  </a:lnTo>
                  <a:lnTo>
                    <a:pt x="202" y="516"/>
                  </a:lnTo>
                  <a:lnTo>
                    <a:pt x="269" y="383"/>
                  </a:lnTo>
                  <a:lnTo>
                    <a:pt x="261" y="242"/>
                  </a:lnTo>
                  <a:lnTo>
                    <a:pt x="145" y="242"/>
                  </a:lnTo>
                  <a:lnTo>
                    <a:pt x="136" y="123"/>
                  </a:lnTo>
                  <a:lnTo>
                    <a:pt x="189" y="216"/>
                  </a:lnTo>
                  <a:lnTo>
                    <a:pt x="314" y="176"/>
                  </a:lnTo>
                  <a:lnTo>
                    <a:pt x="278" y="110"/>
                  </a:lnTo>
                  <a:lnTo>
                    <a:pt x="216" y="44"/>
                  </a:lnTo>
                  <a:lnTo>
                    <a:pt x="163" y="22"/>
                  </a:lnTo>
                  <a:lnTo>
                    <a:pt x="0" y="22"/>
                  </a:lnTo>
                  <a:lnTo>
                    <a:pt x="202" y="0"/>
                  </a:lnTo>
                  <a:lnTo>
                    <a:pt x="296" y="61"/>
                  </a:lnTo>
                  <a:lnTo>
                    <a:pt x="358" y="123"/>
                  </a:lnTo>
                  <a:lnTo>
                    <a:pt x="375" y="229"/>
                  </a:lnTo>
                  <a:lnTo>
                    <a:pt x="358"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1809720" y="5435640"/>
              <a:ext cx="120960" cy="174960"/>
            </a:xfrm>
            <a:custGeom>
              <a:avLst/>
              <a:gdLst/>
              <a:ahLst/>
              <a:rect l="0" t="0" r="r" b="b"/>
              <a:pathLst>
                <a:path w="336" h="486">
                  <a:moveTo>
                    <a:pt x="0" y="39"/>
                  </a:moveTo>
                  <a:lnTo>
                    <a:pt x="186" y="0"/>
                  </a:lnTo>
                  <a:lnTo>
                    <a:pt x="105" y="132"/>
                  </a:lnTo>
                  <a:lnTo>
                    <a:pt x="247" y="92"/>
                  </a:lnTo>
                  <a:lnTo>
                    <a:pt x="132" y="265"/>
                  </a:lnTo>
                  <a:lnTo>
                    <a:pt x="336" y="305"/>
                  </a:lnTo>
                  <a:lnTo>
                    <a:pt x="177" y="486"/>
                  </a:lnTo>
                  <a:lnTo>
                    <a:pt x="132" y="331"/>
                  </a:lnTo>
                  <a:lnTo>
                    <a:pt x="292" y="305"/>
                  </a:lnTo>
                  <a:lnTo>
                    <a:pt x="79" y="265"/>
                  </a:lnTo>
                  <a:lnTo>
                    <a:pt x="186" y="132"/>
                  </a:lnTo>
                  <a:lnTo>
                    <a:pt x="44" y="145"/>
                  </a:lnTo>
                  <a:lnTo>
                    <a:pt x="105" y="52"/>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1" name=""/>
          <p:cNvSpPr txBox="1"/>
          <p:nvPr/>
        </p:nvSpPr>
        <p:spPr>
          <a:xfrm>
            <a:off x="1600200" y="2819520"/>
            <a:ext cx="6858000" cy="29718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Describe the disclosure on the income statement of discontinued operations, extraordinary items, and accounting changes.</a:t>
            </a:r>
            <a:endParaRPr b="0" lang="en-US" sz="3200" spc="-1" strike="noStrike">
              <a:solidFill>
                <a:srgbClr val="ffffff"/>
              </a:solidFill>
              <a:latin typeface="Arial"/>
            </a:endParaRPr>
          </a:p>
        </p:txBody>
      </p:sp>
      <p:sp>
        <p:nvSpPr>
          <p:cNvPr id="332" name=""/>
          <p:cNvSpPr txBox="1"/>
          <p:nvPr/>
        </p:nvSpPr>
        <p:spPr>
          <a:xfrm>
            <a:off x="990720" y="457200"/>
            <a:ext cx="7620120" cy="2286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 Extraordinary Items, and Accounting Changes</a:t>
            </a:r>
            <a:endParaRPr b="0" lang="en-US" sz="4400" spc="-1" strike="noStrike">
              <a:solidFill>
                <a:srgbClr val="ffffff"/>
              </a:solidFill>
              <a:latin typeface="Arial"/>
            </a:endParaRPr>
          </a:p>
        </p:txBody>
      </p:sp>
      <p:pic>
        <p:nvPicPr>
          <p:cNvPr id="33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4" name=""/>
          <p:cNvSpPr txBox="1"/>
          <p:nvPr/>
        </p:nvSpPr>
        <p:spPr>
          <a:xfrm>
            <a:off x="990720" y="609480"/>
            <a:ext cx="7772400" cy="68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a:t>
            </a:r>
            <a:endParaRPr b="0" lang="en-US" sz="4400" spc="-1" strike="noStrike">
              <a:solidFill>
                <a:srgbClr val="ffffff"/>
              </a:solidFill>
              <a:latin typeface="Arial"/>
            </a:endParaRPr>
          </a:p>
        </p:txBody>
      </p:sp>
      <p:sp>
        <p:nvSpPr>
          <p:cNvPr id="335" name=""/>
          <p:cNvSpPr txBox="1"/>
          <p:nvPr/>
        </p:nvSpPr>
        <p:spPr>
          <a:xfrm>
            <a:off x="1066680" y="1371600"/>
            <a:ext cx="769608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ontinued operations are segments of a business that are no longer part of its ongo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AAP require that gains or losses from discontinued operations be reported separately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447920"/>
            <a:ext cx="7391520" cy="4267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earnings per share.</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statement of stockholders’ equity.</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 for stock dividends and stock split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book value per share.</a:t>
            </a:r>
            <a:endParaRPr b="0" lang="en-US" sz="2800" spc="-1" strike="noStrike">
              <a:solidFill>
                <a:srgbClr val="ffffff"/>
              </a:solidFill>
              <a:latin typeface="Arial"/>
            </a:endParaRPr>
          </a:p>
        </p:txBody>
      </p:sp>
      <p:sp>
        <p:nvSpPr>
          <p:cNvPr id="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6" name=""/>
          <p:cNvSpPr txBox="1"/>
          <p:nvPr/>
        </p:nvSpPr>
        <p:spPr>
          <a:xfrm>
            <a:off x="1542960" y="380880"/>
            <a:ext cx="6686640" cy="784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7" name=""/>
          <p:cNvSpPr txBox="1"/>
          <p:nvPr/>
        </p:nvSpPr>
        <p:spPr>
          <a:xfrm>
            <a:off x="914400" y="1219320"/>
            <a:ext cx="784872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PB #30 defines extraordinary items as “events or transactions that are distinguished by their unusual nature and by the infrequency of their occurre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material items should be reported separately from continuing operation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8" name=""/>
          <p:cNvSpPr txBox="1"/>
          <p:nvPr/>
        </p:nvSpPr>
        <p:spPr>
          <a:xfrm>
            <a:off x="1523880" y="457200"/>
            <a:ext cx="6686640" cy="860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9" name=""/>
          <p:cNvSpPr txBox="1"/>
          <p:nvPr/>
        </p:nvSpPr>
        <p:spPr>
          <a:xfrm>
            <a:off x="838080" y="1295280"/>
            <a:ext cx="807732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items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n uninsured loss from flood, earthquake, fire, or thef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the passage of a new law.</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aking of property by a foreign governmen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an early retirement of deb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0" name=""/>
          <p:cNvSpPr txBox="1"/>
          <p:nvPr/>
        </p:nvSpPr>
        <p:spPr>
          <a:xfrm>
            <a:off x="1447920" y="533520"/>
            <a:ext cx="6797520" cy="717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1" name=""/>
          <p:cNvSpPr txBox="1"/>
          <p:nvPr/>
        </p:nvSpPr>
        <p:spPr>
          <a:xfrm>
            <a:off x="914400" y="1371600"/>
            <a:ext cx="76960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lthough a violation of the consistency principle, a company is allowed to make accounting changes if current procedures are incorrect or inappropriat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hange from LIFO to FIFO inventory method can be m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2" name=""/>
          <p:cNvSpPr txBox="1"/>
          <p:nvPr/>
        </p:nvSpPr>
        <p:spPr>
          <a:xfrm>
            <a:off x="1447920" y="304920"/>
            <a:ext cx="67215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3" name=""/>
          <p:cNvSpPr txBox="1"/>
          <p:nvPr/>
        </p:nvSpPr>
        <p:spPr>
          <a:xfrm>
            <a:off x="685800" y="1219320"/>
            <a:ext cx="80773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t>
            </a:r>
            <a:r>
              <a:rPr b="1" i="1" lang="en-US" sz="3200" spc="-1" strike="noStrike">
                <a:solidFill>
                  <a:srgbClr val="fcffd8"/>
                </a:solidFill>
                <a:latin typeface="Arial"/>
                <a:ea typeface="Arial"/>
              </a:rPr>
              <a:t>cumulative effect of an accounting change</a:t>
            </a:r>
            <a:r>
              <a:rPr b="1" lang="en-US" sz="3200" spc="-1" strike="noStrike">
                <a:solidFill>
                  <a:srgbClr val="fcffd8"/>
                </a:solidFill>
                <a:latin typeface="Arial"/>
                <a:ea typeface="Arial"/>
              </a:rPr>
              <a:t> is the effect that the new accounting principle would have had on net income in prior periods if it had been applied instead of the old princip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ing changes are shown on the income statement immediately after extraordinary i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4" name=""/>
          <p:cNvSpPr txBox="1"/>
          <p:nvPr/>
        </p:nvSpPr>
        <p:spPr>
          <a:xfrm>
            <a:off x="2438280" y="1295280"/>
            <a:ext cx="5410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45" name=""/>
          <p:cNvSpPr txBox="1"/>
          <p:nvPr/>
        </p:nvSpPr>
        <p:spPr>
          <a:xfrm>
            <a:off x="1295280" y="2743200"/>
            <a:ext cx="7315200" cy="274320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should a gain or loss on discontinued operations be disclosed separately on the </a:t>
            </a:r>
            <a:br>
              <a:rPr sz="3200"/>
            </a:br>
            <a:r>
              <a:rPr b="1" lang="en-US" sz="3200" spc="-1" strike="noStrike">
                <a:solidFill>
                  <a:srgbClr val="fcffd8"/>
                </a:solidFill>
                <a:latin typeface="Arial"/>
                <a:ea typeface="Arial"/>
              </a:rPr>
              <a:t>income statement?</a:t>
            </a:r>
            <a:endParaRPr b="0" lang="en-US" sz="3200" spc="-1" strike="noStrike">
              <a:solidFill>
                <a:srgbClr val="ffffff"/>
              </a:solidFill>
              <a:latin typeface="Arial"/>
            </a:endParaRPr>
          </a:p>
        </p:txBody>
      </p:sp>
      <p:grpSp>
        <p:nvGrpSpPr>
          <p:cNvPr id="346" name=""/>
          <p:cNvGrpSpPr/>
          <p:nvPr/>
        </p:nvGrpSpPr>
        <p:grpSpPr>
          <a:xfrm>
            <a:off x="762120" y="304920"/>
            <a:ext cx="2208240" cy="2208600"/>
            <a:chOff x="762120" y="304920"/>
            <a:chExt cx="2208240" cy="2208600"/>
          </a:xfrm>
        </p:grpSpPr>
        <p:sp>
          <p:nvSpPr>
            <p:cNvPr id="347" name=""/>
            <p:cNvSpPr/>
            <p:nvPr/>
          </p:nvSpPr>
          <p:spPr>
            <a:xfrm>
              <a:off x="768240" y="1389240"/>
              <a:ext cx="536760" cy="771840"/>
            </a:xfrm>
            <a:custGeom>
              <a:avLst/>
              <a:gdLst/>
              <a:ahLst/>
              <a:rect l="0" t="0" r="r" b="b"/>
              <a:pathLst>
                <a:path w="1491" h="2144">
                  <a:moveTo>
                    <a:pt x="595" y="0"/>
                  </a:moveTo>
                  <a:lnTo>
                    <a:pt x="515" y="92"/>
                  </a:lnTo>
                  <a:lnTo>
                    <a:pt x="515" y="374"/>
                  </a:lnTo>
                  <a:lnTo>
                    <a:pt x="595" y="577"/>
                  </a:lnTo>
                  <a:lnTo>
                    <a:pt x="683" y="674"/>
                  </a:lnTo>
                  <a:lnTo>
                    <a:pt x="551" y="815"/>
                  </a:lnTo>
                  <a:lnTo>
                    <a:pt x="374" y="1125"/>
                  </a:lnTo>
                  <a:lnTo>
                    <a:pt x="30" y="1619"/>
                  </a:lnTo>
                  <a:lnTo>
                    <a:pt x="0" y="1738"/>
                  </a:lnTo>
                  <a:lnTo>
                    <a:pt x="30" y="1835"/>
                  </a:lnTo>
                  <a:lnTo>
                    <a:pt x="136" y="1835"/>
                  </a:lnTo>
                  <a:lnTo>
                    <a:pt x="224" y="1720"/>
                  </a:lnTo>
                  <a:lnTo>
                    <a:pt x="374" y="1442"/>
                  </a:lnTo>
                  <a:lnTo>
                    <a:pt x="463" y="1323"/>
                  </a:lnTo>
                  <a:lnTo>
                    <a:pt x="515" y="1509"/>
                  </a:lnTo>
                  <a:lnTo>
                    <a:pt x="480" y="1703"/>
                  </a:lnTo>
                  <a:lnTo>
                    <a:pt x="330" y="1989"/>
                  </a:lnTo>
                  <a:lnTo>
                    <a:pt x="374" y="2055"/>
                  </a:lnTo>
                  <a:lnTo>
                    <a:pt x="463" y="2033"/>
                  </a:lnTo>
                  <a:lnTo>
                    <a:pt x="648" y="1888"/>
                  </a:lnTo>
                  <a:lnTo>
                    <a:pt x="794" y="1637"/>
                  </a:lnTo>
                  <a:lnTo>
                    <a:pt x="794" y="2073"/>
                  </a:lnTo>
                  <a:lnTo>
                    <a:pt x="971" y="2144"/>
                  </a:lnTo>
                  <a:lnTo>
                    <a:pt x="1076" y="1875"/>
                  </a:lnTo>
                  <a:lnTo>
                    <a:pt x="1169" y="2126"/>
                  </a:lnTo>
                  <a:lnTo>
                    <a:pt x="1240" y="2055"/>
                  </a:lnTo>
                  <a:lnTo>
                    <a:pt x="1275" y="1557"/>
                  </a:lnTo>
                  <a:lnTo>
                    <a:pt x="1491" y="1090"/>
                  </a:lnTo>
                  <a:lnTo>
                    <a:pt x="1442" y="815"/>
                  </a:lnTo>
                  <a:lnTo>
                    <a:pt x="1288" y="714"/>
                  </a:lnTo>
                  <a:lnTo>
                    <a:pt x="1129" y="727"/>
                  </a:lnTo>
                  <a:lnTo>
                    <a:pt x="1076" y="507"/>
                  </a:lnTo>
                  <a:lnTo>
                    <a:pt x="913" y="458"/>
                  </a:lnTo>
                  <a:lnTo>
                    <a:pt x="768" y="388"/>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1217520" y="1701720"/>
              <a:ext cx="159120" cy="373320"/>
            </a:xfrm>
            <a:custGeom>
              <a:avLst/>
              <a:gdLst/>
              <a:ahLst/>
              <a:rect l="0" t="0" r="r" b="b"/>
              <a:pathLst>
                <a:path w="442" h="1037">
                  <a:moveTo>
                    <a:pt x="221" y="0"/>
                  </a:moveTo>
                  <a:lnTo>
                    <a:pt x="442" y="268"/>
                  </a:lnTo>
                  <a:lnTo>
                    <a:pt x="332" y="852"/>
                  </a:lnTo>
                  <a:lnTo>
                    <a:pt x="0" y="1037"/>
                  </a:lnTo>
                  <a:lnTo>
                    <a:pt x="0" y="741"/>
                  </a:lnTo>
                  <a:lnTo>
                    <a:pt x="133" y="440"/>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244600" y="1487520"/>
              <a:ext cx="397080" cy="336960"/>
            </a:xfrm>
            <a:custGeom>
              <a:avLst/>
              <a:gdLst/>
              <a:ahLst/>
              <a:rect l="0" t="0" r="r" b="b"/>
              <a:pathLst>
                <a:path w="1103" h="936">
                  <a:moveTo>
                    <a:pt x="454" y="0"/>
                  </a:moveTo>
                  <a:lnTo>
                    <a:pt x="454" y="149"/>
                  </a:lnTo>
                  <a:lnTo>
                    <a:pt x="493" y="283"/>
                  </a:lnTo>
                  <a:lnTo>
                    <a:pt x="706" y="508"/>
                  </a:lnTo>
                  <a:lnTo>
                    <a:pt x="1103" y="631"/>
                  </a:lnTo>
                  <a:lnTo>
                    <a:pt x="1050" y="919"/>
                  </a:lnTo>
                  <a:lnTo>
                    <a:pt x="706" y="936"/>
                  </a:lnTo>
                  <a:lnTo>
                    <a:pt x="211" y="734"/>
                  </a:lnTo>
                  <a:lnTo>
                    <a:pt x="0" y="375"/>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403360" y="1104840"/>
              <a:ext cx="552960" cy="743400"/>
            </a:xfrm>
            <a:custGeom>
              <a:avLst/>
              <a:gdLst/>
              <a:ahLst/>
              <a:rect l="0" t="0" r="r" b="b"/>
              <a:pathLst>
                <a:path w="1536" h="2065">
                  <a:moveTo>
                    <a:pt x="136" y="878"/>
                  </a:moveTo>
                  <a:lnTo>
                    <a:pt x="0" y="1024"/>
                  </a:lnTo>
                  <a:lnTo>
                    <a:pt x="30" y="1359"/>
                  </a:lnTo>
                  <a:lnTo>
                    <a:pt x="242" y="1513"/>
                  </a:lnTo>
                  <a:lnTo>
                    <a:pt x="260" y="2026"/>
                  </a:lnTo>
                  <a:lnTo>
                    <a:pt x="477" y="2026"/>
                  </a:lnTo>
                  <a:lnTo>
                    <a:pt x="464" y="1598"/>
                  </a:lnTo>
                  <a:lnTo>
                    <a:pt x="622" y="2048"/>
                  </a:lnTo>
                  <a:lnTo>
                    <a:pt x="728" y="2065"/>
                  </a:lnTo>
                  <a:lnTo>
                    <a:pt x="807" y="1915"/>
                  </a:lnTo>
                  <a:lnTo>
                    <a:pt x="821" y="1629"/>
                  </a:lnTo>
                  <a:lnTo>
                    <a:pt x="1059" y="1893"/>
                  </a:lnTo>
                  <a:lnTo>
                    <a:pt x="1151" y="1876"/>
                  </a:lnTo>
                  <a:lnTo>
                    <a:pt x="1129" y="1690"/>
                  </a:lnTo>
                  <a:lnTo>
                    <a:pt x="1041" y="1429"/>
                  </a:lnTo>
                  <a:lnTo>
                    <a:pt x="949" y="1257"/>
                  </a:lnTo>
                  <a:lnTo>
                    <a:pt x="984" y="1143"/>
                  </a:lnTo>
                  <a:lnTo>
                    <a:pt x="1041" y="1160"/>
                  </a:lnTo>
                  <a:lnTo>
                    <a:pt x="1254" y="1429"/>
                  </a:lnTo>
                  <a:lnTo>
                    <a:pt x="1488" y="1495"/>
                  </a:lnTo>
                  <a:lnTo>
                    <a:pt x="1536" y="1412"/>
                  </a:lnTo>
                  <a:lnTo>
                    <a:pt x="1501" y="1275"/>
                  </a:lnTo>
                  <a:lnTo>
                    <a:pt x="1072" y="856"/>
                  </a:lnTo>
                  <a:lnTo>
                    <a:pt x="728" y="728"/>
                  </a:lnTo>
                  <a:lnTo>
                    <a:pt x="688" y="498"/>
                  </a:lnTo>
                  <a:lnTo>
                    <a:pt x="807" y="286"/>
                  </a:lnTo>
                  <a:lnTo>
                    <a:pt x="807" y="66"/>
                  </a:lnTo>
                  <a:lnTo>
                    <a:pt x="710" y="0"/>
                  </a:lnTo>
                  <a:lnTo>
                    <a:pt x="464" y="561"/>
                  </a:lnTo>
                  <a:lnTo>
                    <a:pt x="242" y="644"/>
                  </a:lnTo>
                  <a:lnTo>
                    <a:pt x="189" y="794"/>
                  </a:lnTo>
                  <a:lnTo>
                    <a:pt x="136"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496880" y="461880"/>
              <a:ext cx="603720" cy="949680"/>
            </a:xfrm>
            <a:custGeom>
              <a:avLst/>
              <a:gdLst/>
              <a:ahLst/>
              <a:rect l="0" t="0" r="r" b="b"/>
              <a:pathLst>
                <a:path w="1677" h="2638">
                  <a:moveTo>
                    <a:pt x="418" y="366"/>
                  </a:moveTo>
                  <a:lnTo>
                    <a:pt x="295" y="873"/>
                  </a:lnTo>
                  <a:lnTo>
                    <a:pt x="17" y="970"/>
                  </a:lnTo>
                  <a:lnTo>
                    <a:pt x="92" y="1133"/>
                  </a:lnTo>
                  <a:lnTo>
                    <a:pt x="0" y="1230"/>
                  </a:lnTo>
                  <a:lnTo>
                    <a:pt x="0" y="1416"/>
                  </a:lnTo>
                  <a:lnTo>
                    <a:pt x="132" y="1584"/>
                  </a:lnTo>
                  <a:lnTo>
                    <a:pt x="260" y="1584"/>
                  </a:lnTo>
                  <a:lnTo>
                    <a:pt x="348" y="2170"/>
                  </a:lnTo>
                  <a:lnTo>
                    <a:pt x="455" y="2421"/>
                  </a:lnTo>
                  <a:lnTo>
                    <a:pt x="799" y="2638"/>
                  </a:lnTo>
                  <a:lnTo>
                    <a:pt x="1138" y="2602"/>
                  </a:lnTo>
                  <a:lnTo>
                    <a:pt x="1302" y="2170"/>
                  </a:lnTo>
                  <a:lnTo>
                    <a:pt x="1342" y="1500"/>
                  </a:lnTo>
                  <a:lnTo>
                    <a:pt x="1677" y="1168"/>
                  </a:lnTo>
                  <a:lnTo>
                    <a:pt x="1660" y="1036"/>
                  </a:lnTo>
                  <a:lnTo>
                    <a:pt x="1624" y="970"/>
                  </a:lnTo>
                  <a:lnTo>
                    <a:pt x="1448" y="956"/>
                  </a:lnTo>
                  <a:lnTo>
                    <a:pt x="1501" y="784"/>
                  </a:lnTo>
                  <a:lnTo>
                    <a:pt x="1324" y="665"/>
                  </a:lnTo>
                  <a:lnTo>
                    <a:pt x="1248" y="286"/>
                  </a:lnTo>
                  <a:lnTo>
                    <a:pt x="728" y="0"/>
                  </a:lnTo>
                  <a:lnTo>
                    <a:pt x="455" y="268"/>
                  </a:lnTo>
                  <a:lnTo>
                    <a:pt x="418"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1541520" y="1254240"/>
              <a:ext cx="552960" cy="1134000"/>
            </a:xfrm>
            <a:custGeom>
              <a:avLst/>
              <a:gdLst/>
              <a:ahLst/>
              <a:rect l="0" t="0" r="r" b="b"/>
              <a:pathLst>
                <a:path w="1536" h="3150">
                  <a:moveTo>
                    <a:pt x="313" y="167"/>
                  </a:moveTo>
                  <a:lnTo>
                    <a:pt x="534" y="317"/>
                  </a:lnTo>
                  <a:lnTo>
                    <a:pt x="640" y="485"/>
                  </a:lnTo>
                  <a:lnTo>
                    <a:pt x="1254" y="0"/>
                  </a:lnTo>
                  <a:lnTo>
                    <a:pt x="1448" y="101"/>
                  </a:lnTo>
                  <a:lnTo>
                    <a:pt x="1536" y="595"/>
                  </a:lnTo>
                  <a:lnTo>
                    <a:pt x="1090" y="2047"/>
                  </a:lnTo>
                  <a:lnTo>
                    <a:pt x="1236" y="2846"/>
                  </a:lnTo>
                  <a:lnTo>
                    <a:pt x="653" y="3150"/>
                  </a:lnTo>
                  <a:lnTo>
                    <a:pt x="207" y="2978"/>
                  </a:lnTo>
                  <a:lnTo>
                    <a:pt x="207" y="2130"/>
                  </a:lnTo>
                  <a:lnTo>
                    <a:pt x="0" y="1306"/>
                  </a:lnTo>
                  <a:lnTo>
                    <a:pt x="207" y="317"/>
                  </a:lnTo>
                  <a:lnTo>
                    <a:pt x="313"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1565280" y="334800"/>
              <a:ext cx="516240" cy="300240"/>
            </a:xfrm>
            <a:custGeom>
              <a:avLst/>
              <a:gdLst/>
              <a:ahLst/>
              <a:rect l="0" t="0" r="r" b="b"/>
              <a:pathLst>
                <a:path w="1434" h="834">
                  <a:moveTo>
                    <a:pt x="176" y="794"/>
                  </a:moveTo>
                  <a:lnTo>
                    <a:pt x="388" y="574"/>
                  </a:lnTo>
                  <a:lnTo>
                    <a:pt x="520" y="538"/>
                  </a:lnTo>
                  <a:lnTo>
                    <a:pt x="520" y="561"/>
                  </a:lnTo>
                  <a:lnTo>
                    <a:pt x="586" y="538"/>
                  </a:lnTo>
                  <a:lnTo>
                    <a:pt x="674" y="605"/>
                  </a:lnTo>
                  <a:lnTo>
                    <a:pt x="847" y="640"/>
                  </a:lnTo>
                  <a:lnTo>
                    <a:pt x="984" y="834"/>
                  </a:lnTo>
                  <a:lnTo>
                    <a:pt x="1209" y="750"/>
                  </a:lnTo>
                  <a:lnTo>
                    <a:pt x="1209" y="658"/>
                  </a:lnTo>
                  <a:lnTo>
                    <a:pt x="1434" y="561"/>
                  </a:lnTo>
                  <a:lnTo>
                    <a:pt x="1368" y="401"/>
                  </a:lnTo>
                  <a:lnTo>
                    <a:pt x="1151" y="388"/>
                  </a:lnTo>
                  <a:lnTo>
                    <a:pt x="1187" y="216"/>
                  </a:lnTo>
                  <a:lnTo>
                    <a:pt x="1006" y="238"/>
                  </a:lnTo>
                  <a:lnTo>
                    <a:pt x="971" y="119"/>
                  </a:lnTo>
                  <a:lnTo>
                    <a:pt x="847" y="119"/>
                  </a:lnTo>
                  <a:lnTo>
                    <a:pt x="759" y="185"/>
                  </a:lnTo>
                  <a:lnTo>
                    <a:pt x="674" y="185"/>
                  </a:lnTo>
                  <a:lnTo>
                    <a:pt x="692" y="0"/>
                  </a:lnTo>
                  <a:lnTo>
                    <a:pt x="520" y="83"/>
                  </a:lnTo>
                  <a:lnTo>
                    <a:pt x="282" y="388"/>
                  </a:lnTo>
                  <a:lnTo>
                    <a:pt x="268" y="185"/>
                  </a:lnTo>
                  <a:lnTo>
                    <a:pt x="141" y="282"/>
                  </a:lnTo>
                  <a:lnTo>
                    <a:pt x="110" y="538"/>
                  </a:lnTo>
                  <a:lnTo>
                    <a:pt x="0" y="494"/>
                  </a:lnTo>
                  <a:lnTo>
                    <a:pt x="17" y="658"/>
                  </a:lnTo>
                  <a:lnTo>
                    <a:pt x="176"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704960" y="1463760"/>
              <a:ext cx="163800" cy="857520"/>
            </a:xfrm>
            <a:custGeom>
              <a:avLst/>
              <a:gdLst/>
              <a:ahLst/>
              <a:rect l="0" t="0" r="r" b="b"/>
              <a:pathLst>
                <a:path w="455" h="2382">
                  <a:moveTo>
                    <a:pt x="234" y="13"/>
                  </a:moveTo>
                  <a:lnTo>
                    <a:pt x="79" y="119"/>
                  </a:lnTo>
                  <a:lnTo>
                    <a:pt x="79" y="317"/>
                  </a:lnTo>
                  <a:lnTo>
                    <a:pt x="189" y="383"/>
                  </a:lnTo>
                  <a:lnTo>
                    <a:pt x="39" y="701"/>
                  </a:lnTo>
                  <a:lnTo>
                    <a:pt x="0" y="1115"/>
                  </a:lnTo>
                  <a:lnTo>
                    <a:pt x="114" y="1667"/>
                  </a:lnTo>
                  <a:lnTo>
                    <a:pt x="114" y="1897"/>
                  </a:lnTo>
                  <a:lnTo>
                    <a:pt x="52" y="2073"/>
                  </a:lnTo>
                  <a:lnTo>
                    <a:pt x="287" y="2382"/>
                  </a:lnTo>
                  <a:lnTo>
                    <a:pt x="437" y="1919"/>
                  </a:lnTo>
                  <a:lnTo>
                    <a:pt x="437" y="1601"/>
                  </a:lnTo>
                  <a:lnTo>
                    <a:pt x="327" y="1301"/>
                  </a:lnTo>
                  <a:lnTo>
                    <a:pt x="269" y="899"/>
                  </a:lnTo>
                  <a:lnTo>
                    <a:pt x="384" y="507"/>
                  </a:lnTo>
                  <a:lnTo>
                    <a:pt x="344" y="348"/>
                  </a:lnTo>
                  <a:lnTo>
                    <a:pt x="455" y="268"/>
                  </a:lnTo>
                  <a:lnTo>
                    <a:pt x="437" y="167"/>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1698480" y="1174680"/>
              <a:ext cx="133560" cy="79560"/>
            </a:xfrm>
            <a:custGeom>
              <a:avLst/>
              <a:gdLst/>
              <a:ahLst/>
              <a:rect l="0" t="0" r="r" b="b"/>
              <a:pathLst>
                <a:path w="371" h="221">
                  <a:moveTo>
                    <a:pt x="0" y="66"/>
                  </a:moveTo>
                  <a:lnTo>
                    <a:pt x="145" y="221"/>
                  </a:lnTo>
                  <a:lnTo>
                    <a:pt x="296" y="203"/>
                  </a:lnTo>
                  <a:lnTo>
                    <a:pt x="371" y="17"/>
                  </a:lnTo>
                  <a:lnTo>
                    <a:pt x="208"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356" name=""/>
            <p:cNvSpPr/>
            <p:nvPr/>
          </p:nvSpPr>
          <p:spPr>
            <a:xfrm>
              <a:off x="1554120" y="779400"/>
              <a:ext cx="163800" cy="168480"/>
            </a:xfrm>
            <a:custGeom>
              <a:avLst/>
              <a:gdLst/>
              <a:ahLst/>
              <a:rect l="0" t="0" r="r" b="b"/>
              <a:pathLst>
                <a:path w="455" h="468">
                  <a:moveTo>
                    <a:pt x="0" y="52"/>
                  </a:moveTo>
                  <a:lnTo>
                    <a:pt x="314" y="468"/>
                  </a:lnTo>
                  <a:lnTo>
                    <a:pt x="455" y="433"/>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843200" y="744480"/>
              <a:ext cx="143280" cy="167040"/>
            </a:xfrm>
            <a:custGeom>
              <a:avLst/>
              <a:gdLst/>
              <a:ahLst/>
              <a:rect l="0" t="0" r="r" b="b"/>
              <a:pathLst>
                <a:path w="398" h="464">
                  <a:moveTo>
                    <a:pt x="0" y="66"/>
                  </a:moveTo>
                  <a:lnTo>
                    <a:pt x="274" y="464"/>
                  </a:lnTo>
                  <a:lnTo>
                    <a:pt x="398" y="358"/>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1494000" y="528480"/>
              <a:ext cx="574920" cy="419400"/>
            </a:xfrm>
            <a:custGeom>
              <a:avLst/>
              <a:gdLst/>
              <a:ahLst/>
              <a:rect l="0" t="0" r="r" b="b"/>
              <a:pathLst>
                <a:path w="1597" h="1165">
                  <a:moveTo>
                    <a:pt x="732" y="693"/>
                  </a:moveTo>
                  <a:lnTo>
                    <a:pt x="586" y="649"/>
                  </a:lnTo>
                  <a:lnTo>
                    <a:pt x="714" y="542"/>
                  </a:lnTo>
                  <a:lnTo>
                    <a:pt x="665" y="489"/>
                  </a:lnTo>
                  <a:lnTo>
                    <a:pt x="502" y="627"/>
                  </a:lnTo>
                  <a:lnTo>
                    <a:pt x="202" y="658"/>
                  </a:lnTo>
                  <a:lnTo>
                    <a:pt x="0" y="666"/>
                  </a:lnTo>
                  <a:lnTo>
                    <a:pt x="0" y="830"/>
                  </a:lnTo>
                  <a:lnTo>
                    <a:pt x="194" y="1156"/>
                  </a:lnTo>
                  <a:lnTo>
                    <a:pt x="238" y="1165"/>
                  </a:lnTo>
                  <a:lnTo>
                    <a:pt x="66" y="803"/>
                  </a:lnTo>
                  <a:lnTo>
                    <a:pt x="330" y="693"/>
                  </a:lnTo>
                  <a:lnTo>
                    <a:pt x="502" y="693"/>
                  </a:lnTo>
                  <a:lnTo>
                    <a:pt x="630" y="763"/>
                  </a:lnTo>
                  <a:lnTo>
                    <a:pt x="665" y="860"/>
                  </a:lnTo>
                  <a:lnTo>
                    <a:pt x="665" y="1085"/>
                  </a:lnTo>
                  <a:lnTo>
                    <a:pt x="665" y="1156"/>
                  </a:lnTo>
                  <a:lnTo>
                    <a:pt x="740" y="1050"/>
                  </a:lnTo>
                  <a:lnTo>
                    <a:pt x="740" y="821"/>
                  </a:lnTo>
                  <a:lnTo>
                    <a:pt x="856" y="821"/>
                  </a:lnTo>
                  <a:lnTo>
                    <a:pt x="909" y="1085"/>
                  </a:lnTo>
                  <a:lnTo>
                    <a:pt x="971" y="1107"/>
                  </a:lnTo>
                  <a:lnTo>
                    <a:pt x="1165" y="1107"/>
                  </a:lnTo>
                  <a:lnTo>
                    <a:pt x="1363" y="1059"/>
                  </a:lnTo>
                  <a:lnTo>
                    <a:pt x="1500" y="962"/>
                  </a:lnTo>
                  <a:lnTo>
                    <a:pt x="1522" y="724"/>
                  </a:lnTo>
                  <a:lnTo>
                    <a:pt x="1597" y="627"/>
                  </a:lnTo>
                  <a:lnTo>
                    <a:pt x="1553" y="564"/>
                  </a:lnTo>
                  <a:lnTo>
                    <a:pt x="1376" y="498"/>
                  </a:lnTo>
                  <a:lnTo>
                    <a:pt x="1345" y="260"/>
                  </a:lnTo>
                  <a:lnTo>
                    <a:pt x="1178" y="260"/>
                  </a:lnTo>
                  <a:lnTo>
                    <a:pt x="979" y="0"/>
                  </a:lnTo>
                  <a:lnTo>
                    <a:pt x="1160" y="286"/>
                  </a:lnTo>
                  <a:lnTo>
                    <a:pt x="1222" y="286"/>
                  </a:lnTo>
                  <a:lnTo>
                    <a:pt x="1257" y="489"/>
                  </a:lnTo>
                  <a:lnTo>
                    <a:pt x="1032" y="564"/>
                  </a:lnTo>
                  <a:lnTo>
                    <a:pt x="869" y="507"/>
                  </a:lnTo>
                  <a:lnTo>
                    <a:pt x="843" y="564"/>
                  </a:lnTo>
                  <a:lnTo>
                    <a:pt x="931" y="627"/>
                  </a:lnTo>
                  <a:lnTo>
                    <a:pt x="931" y="680"/>
                  </a:lnTo>
                  <a:lnTo>
                    <a:pt x="1125" y="591"/>
                  </a:lnTo>
                  <a:lnTo>
                    <a:pt x="1284" y="577"/>
                  </a:lnTo>
                  <a:lnTo>
                    <a:pt x="1465" y="600"/>
                  </a:lnTo>
                  <a:lnTo>
                    <a:pt x="1465" y="636"/>
                  </a:lnTo>
                  <a:lnTo>
                    <a:pt x="1381" y="715"/>
                  </a:lnTo>
                  <a:lnTo>
                    <a:pt x="1345" y="821"/>
                  </a:lnTo>
                  <a:lnTo>
                    <a:pt x="1337" y="962"/>
                  </a:lnTo>
                  <a:lnTo>
                    <a:pt x="1231" y="1019"/>
                  </a:lnTo>
                  <a:lnTo>
                    <a:pt x="1076" y="1037"/>
                  </a:lnTo>
                  <a:lnTo>
                    <a:pt x="971" y="1037"/>
                  </a:lnTo>
                  <a:lnTo>
                    <a:pt x="935" y="993"/>
                  </a:lnTo>
                  <a:lnTo>
                    <a:pt x="909" y="724"/>
                  </a:lnTo>
                  <a:lnTo>
                    <a:pt x="740" y="724"/>
                  </a:lnTo>
                  <a:lnTo>
                    <a:pt x="732"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690560" y="1011240"/>
              <a:ext cx="186120" cy="86040"/>
            </a:xfrm>
            <a:custGeom>
              <a:avLst/>
              <a:gdLst/>
              <a:ahLst/>
              <a:rect l="0" t="0" r="r" b="b"/>
              <a:pathLst>
                <a:path w="517" h="239">
                  <a:moveTo>
                    <a:pt x="0" y="0"/>
                  </a:moveTo>
                  <a:lnTo>
                    <a:pt x="83" y="110"/>
                  </a:lnTo>
                  <a:lnTo>
                    <a:pt x="305" y="110"/>
                  </a:lnTo>
                  <a:lnTo>
                    <a:pt x="398" y="35"/>
                  </a:lnTo>
                  <a:lnTo>
                    <a:pt x="517" y="35"/>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60" name=""/>
            <p:cNvSpPr/>
            <p:nvPr/>
          </p:nvSpPr>
          <p:spPr>
            <a:xfrm>
              <a:off x="1484280" y="873000"/>
              <a:ext cx="281520" cy="452880"/>
            </a:xfrm>
            <a:custGeom>
              <a:avLst/>
              <a:gdLst/>
              <a:ahLst/>
              <a:rect l="0" t="0" r="r" b="b"/>
              <a:pathLst>
                <a:path w="782" h="1258">
                  <a:moveTo>
                    <a:pt x="782" y="88"/>
                  </a:moveTo>
                  <a:lnTo>
                    <a:pt x="782" y="110"/>
                  </a:lnTo>
                  <a:lnTo>
                    <a:pt x="645" y="238"/>
                  </a:lnTo>
                  <a:lnTo>
                    <a:pt x="530" y="260"/>
                  </a:lnTo>
                  <a:lnTo>
                    <a:pt x="309" y="229"/>
                  </a:lnTo>
                  <a:lnTo>
                    <a:pt x="353" y="680"/>
                  </a:lnTo>
                  <a:lnTo>
                    <a:pt x="402" y="1055"/>
                  </a:lnTo>
                  <a:lnTo>
                    <a:pt x="494" y="1258"/>
                  </a:lnTo>
                  <a:lnTo>
                    <a:pt x="402" y="1113"/>
                  </a:lnTo>
                  <a:lnTo>
                    <a:pt x="367" y="954"/>
                  </a:lnTo>
                  <a:lnTo>
                    <a:pt x="305" y="530"/>
                  </a:lnTo>
                  <a:lnTo>
                    <a:pt x="239" y="556"/>
                  </a:lnTo>
                  <a:lnTo>
                    <a:pt x="163" y="508"/>
                  </a:lnTo>
                  <a:lnTo>
                    <a:pt x="17" y="286"/>
                  </a:lnTo>
                  <a:lnTo>
                    <a:pt x="0" y="163"/>
                  </a:lnTo>
                  <a:lnTo>
                    <a:pt x="0" y="74"/>
                  </a:lnTo>
                  <a:lnTo>
                    <a:pt x="35" y="22"/>
                  </a:lnTo>
                  <a:lnTo>
                    <a:pt x="123" y="0"/>
                  </a:lnTo>
                  <a:lnTo>
                    <a:pt x="132" y="35"/>
                  </a:lnTo>
                  <a:lnTo>
                    <a:pt x="61" y="57"/>
                  </a:lnTo>
                  <a:lnTo>
                    <a:pt x="44" y="149"/>
                  </a:lnTo>
                  <a:lnTo>
                    <a:pt x="52" y="268"/>
                  </a:lnTo>
                  <a:lnTo>
                    <a:pt x="154" y="375"/>
                  </a:lnTo>
                  <a:lnTo>
                    <a:pt x="203" y="353"/>
                  </a:lnTo>
                  <a:lnTo>
                    <a:pt x="203" y="123"/>
                  </a:lnTo>
                  <a:lnTo>
                    <a:pt x="296" y="171"/>
                  </a:lnTo>
                  <a:lnTo>
                    <a:pt x="437" y="202"/>
                  </a:lnTo>
                  <a:lnTo>
                    <a:pt x="569" y="194"/>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558800" y="515880"/>
              <a:ext cx="86040" cy="240120"/>
            </a:xfrm>
            <a:custGeom>
              <a:avLst/>
              <a:gdLst/>
              <a:ahLst/>
              <a:rect l="0" t="0" r="r" b="b"/>
              <a:pathLst>
                <a:path w="239" h="667">
                  <a:moveTo>
                    <a:pt x="124" y="667"/>
                  </a:moveTo>
                  <a:lnTo>
                    <a:pt x="239" y="274"/>
                  </a:lnTo>
                  <a:lnTo>
                    <a:pt x="30" y="132"/>
                  </a:lnTo>
                  <a:lnTo>
                    <a:pt x="0" y="0"/>
                  </a:lnTo>
                  <a:lnTo>
                    <a:pt x="17" y="158"/>
                  </a:lnTo>
                  <a:lnTo>
                    <a:pt x="83" y="225"/>
                  </a:lnTo>
                  <a:lnTo>
                    <a:pt x="92" y="424"/>
                  </a:lnTo>
                  <a:lnTo>
                    <a:pt x="146" y="509"/>
                  </a:lnTo>
                  <a:lnTo>
                    <a:pt x="124"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555920" y="304920"/>
              <a:ext cx="632160" cy="317880"/>
            </a:xfrm>
            <a:custGeom>
              <a:avLst/>
              <a:gdLst/>
              <a:ahLst/>
              <a:rect l="0" t="0" r="r" b="b"/>
              <a:pathLst>
                <a:path w="1756" h="883">
                  <a:moveTo>
                    <a:pt x="17" y="596"/>
                  </a:moveTo>
                  <a:lnTo>
                    <a:pt x="167" y="689"/>
                  </a:lnTo>
                  <a:lnTo>
                    <a:pt x="149" y="574"/>
                  </a:lnTo>
                  <a:lnTo>
                    <a:pt x="180" y="375"/>
                  </a:lnTo>
                  <a:lnTo>
                    <a:pt x="282" y="331"/>
                  </a:lnTo>
                  <a:lnTo>
                    <a:pt x="295" y="547"/>
                  </a:lnTo>
                  <a:lnTo>
                    <a:pt x="586" y="171"/>
                  </a:lnTo>
                  <a:lnTo>
                    <a:pt x="661" y="145"/>
                  </a:lnTo>
                  <a:lnTo>
                    <a:pt x="604" y="296"/>
                  </a:lnTo>
                  <a:lnTo>
                    <a:pt x="789" y="367"/>
                  </a:lnTo>
                  <a:lnTo>
                    <a:pt x="922" y="216"/>
                  </a:lnTo>
                  <a:lnTo>
                    <a:pt x="997" y="261"/>
                  </a:lnTo>
                  <a:lnTo>
                    <a:pt x="931" y="389"/>
                  </a:lnTo>
                  <a:lnTo>
                    <a:pt x="1019" y="318"/>
                  </a:lnTo>
                  <a:lnTo>
                    <a:pt x="1151" y="375"/>
                  </a:lnTo>
                  <a:lnTo>
                    <a:pt x="1046" y="481"/>
                  </a:lnTo>
                  <a:lnTo>
                    <a:pt x="1407" y="547"/>
                  </a:lnTo>
                  <a:lnTo>
                    <a:pt x="1165" y="622"/>
                  </a:lnTo>
                  <a:lnTo>
                    <a:pt x="1465" y="663"/>
                  </a:lnTo>
                  <a:lnTo>
                    <a:pt x="1107" y="751"/>
                  </a:lnTo>
                  <a:lnTo>
                    <a:pt x="1187" y="817"/>
                  </a:lnTo>
                  <a:lnTo>
                    <a:pt x="1081" y="883"/>
                  </a:lnTo>
                  <a:lnTo>
                    <a:pt x="1266" y="883"/>
                  </a:lnTo>
                  <a:lnTo>
                    <a:pt x="1248" y="831"/>
                  </a:lnTo>
                  <a:lnTo>
                    <a:pt x="1438" y="879"/>
                  </a:lnTo>
                  <a:lnTo>
                    <a:pt x="1407" y="738"/>
                  </a:lnTo>
                  <a:lnTo>
                    <a:pt x="1584" y="676"/>
                  </a:lnTo>
                  <a:lnTo>
                    <a:pt x="1456" y="609"/>
                  </a:lnTo>
                  <a:lnTo>
                    <a:pt x="1756" y="587"/>
                  </a:lnTo>
                  <a:lnTo>
                    <a:pt x="1500" y="446"/>
                  </a:lnTo>
                  <a:lnTo>
                    <a:pt x="1204" y="415"/>
                  </a:lnTo>
                  <a:lnTo>
                    <a:pt x="1438" y="269"/>
                  </a:lnTo>
                  <a:lnTo>
                    <a:pt x="1019" y="269"/>
                  </a:lnTo>
                  <a:lnTo>
                    <a:pt x="1218" y="132"/>
                  </a:lnTo>
                  <a:lnTo>
                    <a:pt x="918" y="171"/>
                  </a:lnTo>
                  <a:lnTo>
                    <a:pt x="771" y="239"/>
                  </a:lnTo>
                  <a:lnTo>
                    <a:pt x="896" y="0"/>
                  </a:lnTo>
                  <a:lnTo>
                    <a:pt x="529" y="132"/>
                  </a:lnTo>
                  <a:lnTo>
                    <a:pt x="326" y="424"/>
                  </a:lnTo>
                  <a:lnTo>
                    <a:pt x="295" y="261"/>
                  </a:lnTo>
                  <a:lnTo>
                    <a:pt x="132" y="375"/>
                  </a:lnTo>
                  <a:lnTo>
                    <a:pt x="110"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693800" y="473040"/>
              <a:ext cx="178200" cy="95760"/>
            </a:xfrm>
            <a:custGeom>
              <a:avLst/>
              <a:gdLst/>
              <a:ahLst/>
              <a:rect l="0" t="0" r="r" b="b"/>
              <a:pathLst>
                <a:path w="495" h="266">
                  <a:moveTo>
                    <a:pt x="0" y="266"/>
                  </a:moveTo>
                  <a:lnTo>
                    <a:pt x="186" y="0"/>
                  </a:lnTo>
                  <a:lnTo>
                    <a:pt x="186" y="177"/>
                  </a:lnTo>
                  <a:lnTo>
                    <a:pt x="252" y="106"/>
                  </a:lnTo>
                  <a:lnTo>
                    <a:pt x="309" y="204"/>
                  </a:lnTo>
                  <a:lnTo>
                    <a:pt x="495" y="253"/>
                  </a:lnTo>
                  <a:lnTo>
                    <a:pt x="296" y="218"/>
                  </a:lnTo>
                  <a:lnTo>
                    <a:pt x="239" y="150"/>
                  </a:lnTo>
                  <a:lnTo>
                    <a:pt x="155" y="218"/>
                  </a:lnTo>
                  <a:lnTo>
                    <a:pt x="155"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64" name=""/>
            <p:cNvSpPr/>
            <p:nvPr/>
          </p:nvSpPr>
          <p:spPr>
            <a:xfrm>
              <a:off x="1677960" y="1122480"/>
              <a:ext cx="214560" cy="141480"/>
            </a:xfrm>
            <a:custGeom>
              <a:avLst/>
              <a:gdLst/>
              <a:ahLst/>
              <a:rect l="0" t="0" r="r" b="b"/>
              <a:pathLst>
                <a:path w="596" h="393">
                  <a:moveTo>
                    <a:pt x="114" y="136"/>
                  </a:moveTo>
                  <a:lnTo>
                    <a:pt x="358" y="119"/>
                  </a:lnTo>
                  <a:lnTo>
                    <a:pt x="472" y="145"/>
                  </a:lnTo>
                  <a:lnTo>
                    <a:pt x="534" y="88"/>
                  </a:lnTo>
                  <a:lnTo>
                    <a:pt x="596" y="217"/>
                  </a:lnTo>
                  <a:lnTo>
                    <a:pt x="556" y="243"/>
                  </a:lnTo>
                  <a:lnTo>
                    <a:pt x="503" y="194"/>
                  </a:lnTo>
                  <a:lnTo>
                    <a:pt x="424" y="283"/>
                  </a:lnTo>
                  <a:lnTo>
                    <a:pt x="277" y="393"/>
                  </a:lnTo>
                  <a:lnTo>
                    <a:pt x="211" y="393"/>
                  </a:lnTo>
                  <a:lnTo>
                    <a:pt x="114" y="336"/>
                  </a:lnTo>
                  <a:lnTo>
                    <a:pt x="220" y="384"/>
                  </a:lnTo>
                  <a:lnTo>
                    <a:pt x="264" y="384"/>
                  </a:lnTo>
                  <a:lnTo>
                    <a:pt x="358" y="314"/>
                  </a:lnTo>
                  <a:lnTo>
                    <a:pt x="419" y="180"/>
                  </a:lnTo>
                  <a:lnTo>
                    <a:pt x="322" y="158"/>
                  </a:lnTo>
                  <a:lnTo>
                    <a:pt x="260" y="145"/>
                  </a:lnTo>
                  <a:lnTo>
                    <a:pt x="101" y="171"/>
                  </a:lnTo>
                  <a:lnTo>
                    <a:pt x="97" y="274"/>
                  </a:lnTo>
                  <a:lnTo>
                    <a:pt x="44" y="208"/>
                  </a:lnTo>
                  <a:lnTo>
                    <a:pt x="0" y="296"/>
                  </a:lnTo>
                  <a:lnTo>
                    <a:pt x="4" y="105"/>
                  </a:lnTo>
                  <a:lnTo>
                    <a:pt x="61" y="0"/>
                  </a:lnTo>
                  <a:lnTo>
                    <a:pt x="114" y="105"/>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a:off x="1649520" y="814320"/>
              <a:ext cx="460800" cy="655920"/>
            </a:xfrm>
            <a:custGeom>
              <a:avLst/>
              <a:gdLst/>
              <a:ahLst/>
              <a:rect l="0" t="0" r="r" b="b"/>
              <a:pathLst>
                <a:path w="1280" h="1822">
                  <a:moveTo>
                    <a:pt x="1077" y="0"/>
                  </a:moveTo>
                  <a:lnTo>
                    <a:pt x="1205" y="0"/>
                  </a:lnTo>
                  <a:lnTo>
                    <a:pt x="1280" y="88"/>
                  </a:lnTo>
                  <a:lnTo>
                    <a:pt x="1280" y="189"/>
                  </a:lnTo>
                  <a:lnTo>
                    <a:pt x="1174" y="471"/>
                  </a:lnTo>
                  <a:lnTo>
                    <a:pt x="1069" y="608"/>
                  </a:lnTo>
                  <a:lnTo>
                    <a:pt x="963" y="630"/>
                  </a:lnTo>
                  <a:lnTo>
                    <a:pt x="931" y="630"/>
                  </a:lnTo>
                  <a:lnTo>
                    <a:pt x="931" y="988"/>
                  </a:lnTo>
                  <a:lnTo>
                    <a:pt x="980" y="1248"/>
                  </a:lnTo>
                  <a:lnTo>
                    <a:pt x="980" y="1460"/>
                  </a:lnTo>
                  <a:lnTo>
                    <a:pt x="785" y="1676"/>
                  </a:lnTo>
                  <a:lnTo>
                    <a:pt x="521" y="1822"/>
                  </a:lnTo>
                  <a:lnTo>
                    <a:pt x="353" y="1822"/>
                  </a:lnTo>
                  <a:lnTo>
                    <a:pt x="268" y="1778"/>
                  </a:lnTo>
                  <a:lnTo>
                    <a:pt x="149" y="1526"/>
                  </a:lnTo>
                  <a:lnTo>
                    <a:pt x="44" y="1438"/>
                  </a:lnTo>
                  <a:lnTo>
                    <a:pt x="0" y="1372"/>
                  </a:lnTo>
                  <a:lnTo>
                    <a:pt x="141" y="1460"/>
                  </a:lnTo>
                  <a:lnTo>
                    <a:pt x="246" y="1553"/>
                  </a:lnTo>
                  <a:lnTo>
                    <a:pt x="450" y="1566"/>
                  </a:lnTo>
                  <a:lnTo>
                    <a:pt x="636" y="1478"/>
                  </a:lnTo>
                  <a:lnTo>
                    <a:pt x="733" y="1372"/>
                  </a:lnTo>
                  <a:lnTo>
                    <a:pt x="838" y="1187"/>
                  </a:lnTo>
                  <a:lnTo>
                    <a:pt x="856" y="971"/>
                  </a:lnTo>
                  <a:lnTo>
                    <a:pt x="891" y="268"/>
                  </a:lnTo>
                  <a:lnTo>
                    <a:pt x="940" y="370"/>
                  </a:lnTo>
                  <a:lnTo>
                    <a:pt x="1064" y="242"/>
                  </a:lnTo>
                  <a:lnTo>
                    <a:pt x="1197" y="189"/>
                  </a:lnTo>
                  <a:lnTo>
                    <a:pt x="1232" y="114"/>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a:off x="938160" y="1379520"/>
              <a:ext cx="370080" cy="606960"/>
            </a:xfrm>
            <a:custGeom>
              <a:avLst/>
              <a:gdLst/>
              <a:ahLst/>
              <a:rect l="0" t="0" r="r" b="b"/>
              <a:pathLst>
                <a:path w="1028" h="1686">
                  <a:moveTo>
                    <a:pt x="127" y="0"/>
                  </a:moveTo>
                  <a:lnTo>
                    <a:pt x="246" y="74"/>
                  </a:lnTo>
                  <a:lnTo>
                    <a:pt x="335" y="418"/>
                  </a:lnTo>
                  <a:lnTo>
                    <a:pt x="600" y="499"/>
                  </a:lnTo>
                  <a:lnTo>
                    <a:pt x="675" y="587"/>
                  </a:lnTo>
                  <a:lnTo>
                    <a:pt x="688" y="715"/>
                  </a:lnTo>
                  <a:lnTo>
                    <a:pt x="816" y="697"/>
                  </a:lnTo>
                  <a:lnTo>
                    <a:pt x="979" y="803"/>
                  </a:lnTo>
                  <a:lnTo>
                    <a:pt x="1028" y="940"/>
                  </a:lnTo>
                  <a:lnTo>
                    <a:pt x="1028" y="1178"/>
                  </a:lnTo>
                  <a:lnTo>
                    <a:pt x="816" y="1540"/>
                  </a:lnTo>
                  <a:lnTo>
                    <a:pt x="746" y="1686"/>
                  </a:lnTo>
                  <a:lnTo>
                    <a:pt x="785" y="1492"/>
                  </a:lnTo>
                  <a:lnTo>
                    <a:pt x="746" y="1417"/>
                  </a:lnTo>
                  <a:lnTo>
                    <a:pt x="622" y="1294"/>
                  </a:lnTo>
                  <a:lnTo>
                    <a:pt x="418" y="1147"/>
                  </a:lnTo>
                  <a:lnTo>
                    <a:pt x="662" y="1231"/>
                  </a:lnTo>
                  <a:lnTo>
                    <a:pt x="807" y="1342"/>
                  </a:lnTo>
                  <a:lnTo>
                    <a:pt x="878" y="1324"/>
                  </a:lnTo>
                  <a:lnTo>
                    <a:pt x="922" y="1262"/>
                  </a:lnTo>
                  <a:lnTo>
                    <a:pt x="979" y="1094"/>
                  </a:lnTo>
                  <a:lnTo>
                    <a:pt x="962" y="927"/>
                  </a:lnTo>
                  <a:lnTo>
                    <a:pt x="887" y="834"/>
                  </a:lnTo>
                  <a:lnTo>
                    <a:pt x="759" y="803"/>
                  </a:lnTo>
                  <a:lnTo>
                    <a:pt x="622" y="803"/>
                  </a:lnTo>
                  <a:lnTo>
                    <a:pt x="574" y="556"/>
                  </a:lnTo>
                  <a:lnTo>
                    <a:pt x="348" y="468"/>
                  </a:lnTo>
                  <a:lnTo>
                    <a:pt x="348" y="538"/>
                  </a:lnTo>
                  <a:lnTo>
                    <a:pt x="246" y="361"/>
                  </a:lnTo>
                  <a:lnTo>
                    <a:pt x="189" y="74"/>
                  </a:lnTo>
                  <a:lnTo>
                    <a:pt x="101" y="48"/>
                  </a:lnTo>
                  <a:lnTo>
                    <a:pt x="48" y="132"/>
                  </a:lnTo>
                  <a:lnTo>
                    <a:pt x="48" y="326"/>
                  </a:lnTo>
                  <a:lnTo>
                    <a:pt x="92" y="538"/>
                  </a:lnTo>
                  <a:lnTo>
                    <a:pt x="216" y="715"/>
                  </a:lnTo>
                  <a:lnTo>
                    <a:pt x="79" y="605"/>
                  </a:lnTo>
                  <a:lnTo>
                    <a:pt x="13" y="418"/>
                  </a:lnTo>
                  <a:lnTo>
                    <a:pt x="0" y="180"/>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762120" y="1647720"/>
              <a:ext cx="244800" cy="486360"/>
            </a:xfrm>
            <a:custGeom>
              <a:avLst/>
              <a:gdLst/>
              <a:ahLst/>
              <a:rect l="0" t="0" r="r" b="b"/>
              <a:pathLst>
                <a:path w="680" h="1351">
                  <a:moveTo>
                    <a:pt x="680" y="0"/>
                  </a:moveTo>
                  <a:lnTo>
                    <a:pt x="538" y="88"/>
                  </a:lnTo>
                  <a:lnTo>
                    <a:pt x="375" y="415"/>
                  </a:lnTo>
                  <a:lnTo>
                    <a:pt x="211" y="631"/>
                  </a:lnTo>
                  <a:lnTo>
                    <a:pt x="17" y="887"/>
                  </a:lnTo>
                  <a:lnTo>
                    <a:pt x="0" y="1020"/>
                  </a:lnTo>
                  <a:lnTo>
                    <a:pt x="39" y="1139"/>
                  </a:lnTo>
                  <a:lnTo>
                    <a:pt x="132" y="1139"/>
                  </a:lnTo>
                  <a:lnTo>
                    <a:pt x="260" y="1020"/>
                  </a:lnTo>
                  <a:lnTo>
                    <a:pt x="362" y="777"/>
                  </a:lnTo>
                  <a:lnTo>
                    <a:pt x="499" y="631"/>
                  </a:lnTo>
                  <a:lnTo>
                    <a:pt x="499" y="825"/>
                  </a:lnTo>
                  <a:lnTo>
                    <a:pt x="477" y="1006"/>
                  </a:lnTo>
                  <a:lnTo>
                    <a:pt x="330" y="1241"/>
                  </a:lnTo>
                  <a:lnTo>
                    <a:pt x="330" y="1316"/>
                  </a:lnTo>
                  <a:lnTo>
                    <a:pt x="477" y="1351"/>
                  </a:lnTo>
                  <a:lnTo>
                    <a:pt x="375" y="1285"/>
                  </a:lnTo>
                  <a:lnTo>
                    <a:pt x="389" y="1241"/>
                  </a:lnTo>
                  <a:lnTo>
                    <a:pt x="490" y="1069"/>
                  </a:lnTo>
                  <a:lnTo>
                    <a:pt x="561" y="750"/>
                  </a:lnTo>
                  <a:lnTo>
                    <a:pt x="512" y="569"/>
                  </a:lnTo>
                  <a:lnTo>
                    <a:pt x="402" y="671"/>
                  </a:lnTo>
                  <a:lnTo>
                    <a:pt x="158" y="1077"/>
                  </a:lnTo>
                  <a:lnTo>
                    <a:pt x="97" y="1091"/>
                  </a:lnTo>
                  <a:lnTo>
                    <a:pt x="39" y="1047"/>
                  </a:lnTo>
                  <a:lnTo>
                    <a:pt x="39" y="922"/>
                  </a:lnTo>
                  <a:lnTo>
                    <a:pt x="132" y="763"/>
                  </a:lnTo>
                  <a:lnTo>
                    <a:pt x="402" y="437"/>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942840" y="1922400"/>
              <a:ext cx="151200" cy="233640"/>
            </a:xfrm>
            <a:custGeom>
              <a:avLst/>
              <a:gdLst/>
              <a:ahLst/>
              <a:rect l="0" t="0" r="r" b="b"/>
              <a:pathLst>
                <a:path w="420" h="649">
                  <a:moveTo>
                    <a:pt x="0" y="574"/>
                  </a:moveTo>
                  <a:lnTo>
                    <a:pt x="137" y="406"/>
                  </a:lnTo>
                  <a:lnTo>
                    <a:pt x="164" y="242"/>
                  </a:lnTo>
                  <a:lnTo>
                    <a:pt x="323" y="0"/>
                  </a:lnTo>
                  <a:lnTo>
                    <a:pt x="359" y="158"/>
                  </a:lnTo>
                  <a:lnTo>
                    <a:pt x="337" y="587"/>
                  </a:lnTo>
                  <a:lnTo>
                    <a:pt x="420" y="649"/>
                  </a:lnTo>
                  <a:lnTo>
                    <a:pt x="296" y="600"/>
                  </a:lnTo>
                  <a:lnTo>
                    <a:pt x="234" y="362"/>
                  </a:lnTo>
                  <a:lnTo>
                    <a:pt x="137"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128600" y="1933560"/>
              <a:ext cx="100440" cy="209880"/>
            </a:xfrm>
            <a:custGeom>
              <a:avLst/>
              <a:gdLst/>
              <a:ahLst/>
              <a:rect l="0" t="0" r="r" b="b"/>
              <a:pathLst>
                <a:path w="279" h="583">
                  <a:moveTo>
                    <a:pt x="0" y="437"/>
                  </a:moveTo>
                  <a:lnTo>
                    <a:pt x="13" y="220"/>
                  </a:lnTo>
                  <a:lnTo>
                    <a:pt x="71" y="92"/>
                  </a:lnTo>
                  <a:lnTo>
                    <a:pt x="137" y="552"/>
                  </a:lnTo>
                  <a:lnTo>
                    <a:pt x="222" y="552"/>
                  </a:lnTo>
                  <a:lnTo>
                    <a:pt x="257" y="66"/>
                  </a:lnTo>
                  <a:lnTo>
                    <a:pt x="279" y="0"/>
                  </a:lnTo>
                  <a:lnTo>
                    <a:pt x="257" y="380"/>
                  </a:lnTo>
                  <a:lnTo>
                    <a:pt x="222" y="583"/>
                  </a:lnTo>
                  <a:lnTo>
                    <a:pt x="111" y="583"/>
                  </a:lnTo>
                  <a:lnTo>
                    <a:pt x="61"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2401920" y="1111320"/>
              <a:ext cx="241560" cy="559080"/>
            </a:xfrm>
            <a:custGeom>
              <a:avLst/>
              <a:gdLst/>
              <a:ahLst/>
              <a:rect l="0" t="0" r="r" b="b"/>
              <a:pathLst>
                <a:path w="671" h="1553">
                  <a:moveTo>
                    <a:pt x="176" y="843"/>
                  </a:moveTo>
                  <a:lnTo>
                    <a:pt x="224" y="595"/>
                  </a:lnTo>
                  <a:lnTo>
                    <a:pt x="455" y="533"/>
                  </a:lnTo>
                  <a:lnTo>
                    <a:pt x="671" y="0"/>
                  </a:lnTo>
                  <a:lnTo>
                    <a:pt x="671" y="154"/>
                  </a:lnTo>
                  <a:lnTo>
                    <a:pt x="486" y="568"/>
                  </a:lnTo>
                  <a:lnTo>
                    <a:pt x="246" y="643"/>
                  </a:lnTo>
                  <a:lnTo>
                    <a:pt x="211" y="843"/>
                  </a:lnTo>
                  <a:lnTo>
                    <a:pt x="295" y="843"/>
                  </a:lnTo>
                  <a:lnTo>
                    <a:pt x="88" y="927"/>
                  </a:lnTo>
                  <a:lnTo>
                    <a:pt x="39" y="1094"/>
                  </a:lnTo>
                  <a:lnTo>
                    <a:pt x="48" y="1306"/>
                  </a:lnTo>
                  <a:lnTo>
                    <a:pt x="273" y="1553"/>
                  </a:lnTo>
                  <a:lnTo>
                    <a:pt x="39" y="1337"/>
                  </a:lnTo>
                  <a:lnTo>
                    <a:pt x="0" y="1156"/>
                  </a:lnTo>
                  <a:lnTo>
                    <a:pt x="17" y="975"/>
                  </a:lnTo>
                  <a:lnTo>
                    <a:pt x="101" y="847"/>
                  </a:lnTo>
                  <a:lnTo>
                    <a:pt x="176"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2565360" y="1111320"/>
              <a:ext cx="405000" cy="541800"/>
            </a:xfrm>
            <a:custGeom>
              <a:avLst/>
              <a:gdLst/>
              <a:ahLst/>
              <a:rect l="0" t="0" r="r" b="b"/>
              <a:pathLst>
                <a:path w="1125" h="1505">
                  <a:moveTo>
                    <a:pt x="308" y="0"/>
                  </a:moveTo>
                  <a:lnTo>
                    <a:pt x="379" y="48"/>
                  </a:lnTo>
                  <a:lnTo>
                    <a:pt x="396" y="176"/>
                  </a:lnTo>
                  <a:lnTo>
                    <a:pt x="396" y="291"/>
                  </a:lnTo>
                  <a:lnTo>
                    <a:pt x="273" y="512"/>
                  </a:lnTo>
                  <a:lnTo>
                    <a:pt x="299" y="671"/>
                  </a:lnTo>
                  <a:lnTo>
                    <a:pt x="675" y="847"/>
                  </a:lnTo>
                  <a:lnTo>
                    <a:pt x="1116" y="1320"/>
                  </a:lnTo>
                  <a:lnTo>
                    <a:pt x="1125" y="1448"/>
                  </a:lnTo>
                  <a:lnTo>
                    <a:pt x="1099" y="1505"/>
                  </a:lnTo>
                  <a:lnTo>
                    <a:pt x="935" y="1505"/>
                  </a:lnTo>
                  <a:lnTo>
                    <a:pt x="790" y="1417"/>
                  </a:lnTo>
                  <a:lnTo>
                    <a:pt x="666" y="1258"/>
                  </a:lnTo>
                  <a:lnTo>
                    <a:pt x="600" y="1170"/>
                  </a:lnTo>
                  <a:lnTo>
                    <a:pt x="520" y="1157"/>
                  </a:lnTo>
                  <a:lnTo>
                    <a:pt x="618" y="1157"/>
                  </a:lnTo>
                  <a:lnTo>
                    <a:pt x="803" y="1399"/>
                  </a:lnTo>
                  <a:lnTo>
                    <a:pt x="1037" y="1470"/>
                  </a:lnTo>
                  <a:lnTo>
                    <a:pt x="1085" y="1399"/>
                  </a:lnTo>
                  <a:lnTo>
                    <a:pt x="1063" y="1289"/>
                  </a:lnTo>
                  <a:lnTo>
                    <a:pt x="653" y="944"/>
                  </a:lnTo>
                  <a:lnTo>
                    <a:pt x="591" y="847"/>
                  </a:lnTo>
                  <a:lnTo>
                    <a:pt x="273" y="763"/>
                  </a:lnTo>
                  <a:lnTo>
                    <a:pt x="216" y="847"/>
                  </a:lnTo>
                  <a:lnTo>
                    <a:pt x="0" y="988"/>
                  </a:lnTo>
                  <a:lnTo>
                    <a:pt x="207" y="825"/>
                  </a:lnTo>
                  <a:lnTo>
                    <a:pt x="216" y="719"/>
                  </a:lnTo>
                  <a:lnTo>
                    <a:pt x="216" y="477"/>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2490840" y="1536840"/>
              <a:ext cx="344880" cy="321120"/>
            </a:xfrm>
            <a:custGeom>
              <a:avLst/>
              <a:gdLst/>
              <a:ahLst/>
              <a:rect l="0" t="0" r="r" b="b"/>
              <a:pathLst>
                <a:path w="958" h="892">
                  <a:moveTo>
                    <a:pt x="720" y="0"/>
                  </a:moveTo>
                  <a:lnTo>
                    <a:pt x="693" y="74"/>
                  </a:lnTo>
                  <a:lnTo>
                    <a:pt x="835" y="371"/>
                  </a:lnTo>
                  <a:lnTo>
                    <a:pt x="910" y="676"/>
                  </a:lnTo>
                  <a:lnTo>
                    <a:pt x="826" y="676"/>
                  </a:lnTo>
                  <a:lnTo>
                    <a:pt x="680" y="538"/>
                  </a:lnTo>
                  <a:lnTo>
                    <a:pt x="552" y="261"/>
                  </a:lnTo>
                  <a:lnTo>
                    <a:pt x="450" y="216"/>
                  </a:lnTo>
                  <a:lnTo>
                    <a:pt x="468" y="371"/>
                  </a:lnTo>
                  <a:lnTo>
                    <a:pt x="561" y="477"/>
                  </a:lnTo>
                  <a:lnTo>
                    <a:pt x="561" y="694"/>
                  </a:lnTo>
                  <a:lnTo>
                    <a:pt x="490" y="848"/>
                  </a:lnTo>
                  <a:lnTo>
                    <a:pt x="402" y="786"/>
                  </a:lnTo>
                  <a:lnTo>
                    <a:pt x="296" y="538"/>
                  </a:lnTo>
                  <a:lnTo>
                    <a:pt x="269" y="371"/>
                  </a:lnTo>
                  <a:lnTo>
                    <a:pt x="207" y="322"/>
                  </a:lnTo>
                  <a:lnTo>
                    <a:pt x="189" y="756"/>
                  </a:lnTo>
                  <a:lnTo>
                    <a:pt x="101" y="817"/>
                  </a:lnTo>
                  <a:lnTo>
                    <a:pt x="26" y="756"/>
                  </a:lnTo>
                  <a:lnTo>
                    <a:pt x="13" y="384"/>
                  </a:lnTo>
                  <a:lnTo>
                    <a:pt x="0" y="747"/>
                  </a:lnTo>
                  <a:lnTo>
                    <a:pt x="61" y="879"/>
                  </a:lnTo>
                  <a:lnTo>
                    <a:pt x="189" y="879"/>
                  </a:lnTo>
                  <a:lnTo>
                    <a:pt x="229" y="773"/>
                  </a:lnTo>
                  <a:lnTo>
                    <a:pt x="256" y="437"/>
                  </a:lnTo>
                  <a:lnTo>
                    <a:pt x="278" y="569"/>
                  </a:lnTo>
                  <a:lnTo>
                    <a:pt x="389" y="857"/>
                  </a:lnTo>
                  <a:lnTo>
                    <a:pt x="503" y="892"/>
                  </a:lnTo>
                  <a:lnTo>
                    <a:pt x="591" y="773"/>
                  </a:lnTo>
                  <a:lnTo>
                    <a:pt x="591" y="494"/>
                  </a:lnTo>
                  <a:lnTo>
                    <a:pt x="826" y="725"/>
                  </a:lnTo>
                  <a:lnTo>
                    <a:pt x="945" y="725"/>
                  </a:lnTo>
                  <a:lnTo>
                    <a:pt x="958" y="569"/>
                  </a:lnTo>
                  <a:lnTo>
                    <a:pt x="870" y="292"/>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1100160" y="1204920"/>
              <a:ext cx="1532160" cy="1308600"/>
            </a:xfrm>
            <a:custGeom>
              <a:avLst/>
              <a:gdLst/>
              <a:ahLst/>
              <a:rect l="0" t="0" r="r" b="b"/>
              <a:pathLst>
                <a:path w="4256" h="3635">
                  <a:moveTo>
                    <a:pt x="1530" y="308"/>
                  </a:moveTo>
                  <a:lnTo>
                    <a:pt x="1450" y="321"/>
                  </a:lnTo>
                  <a:lnTo>
                    <a:pt x="1336" y="502"/>
                  </a:lnTo>
                  <a:lnTo>
                    <a:pt x="1292" y="370"/>
                  </a:lnTo>
                  <a:lnTo>
                    <a:pt x="1155" y="295"/>
                  </a:lnTo>
                  <a:lnTo>
                    <a:pt x="1053" y="348"/>
                  </a:lnTo>
                  <a:lnTo>
                    <a:pt x="1009" y="586"/>
                  </a:lnTo>
                  <a:lnTo>
                    <a:pt x="630" y="873"/>
                  </a:lnTo>
                  <a:lnTo>
                    <a:pt x="652" y="997"/>
                  </a:lnTo>
                  <a:lnTo>
                    <a:pt x="564" y="1107"/>
                  </a:lnTo>
                  <a:lnTo>
                    <a:pt x="564" y="1200"/>
                  </a:lnTo>
                  <a:lnTo>
                    <a:pt x="670" y="1478"/>
                  </a:lnTo>
                  <a:lnTo>
                    <a:pt x="679" y="1813"/>
                  </a:lnTo>
                  <a:lnTo>
                    <a:pt x="608" y="2130"/>
                  </a:lnTo>
                  <a:lnTo>
                    <a:pt x="335" y="2320"/>
                  </a:lnTo>
                  <a:lnTo>
                    <a:pt x="299" y="2580"/>
                  </a:lnTo>
                  <a:lnTo>
                    <a:pt x="216" y="2580"/>
                  </a:lnTo>
                  <a:lnTo>
                    <a:pt x="171" y="2364"/>
                  </a:lnTo>
                  <a:lnTo>
                    <a:pt x="88" y="2364"/>
                  </a:lnTo>
                  <a:lnTo>
                    <a:pt x="48" y="2593"/>
                  </a:lnTo>
                  <a:lnTo>
                    <a:pt x="0" y="2655"/>
                  </a:lnTo>
                  <a:lnTo>
                    <a:pt x="189" y="2969"/>
                  </a:lnTo>
                  <a:lnTo>
                    <a:pt x="321" y="2982"/>
                  </a:lnTo>
                  <a:lnTo>
                    <a:pt x="564" y="3212"/>
                  </a:lnTo>
                  <a:lnTo>
                    <a:pt x="780" y="3243"/>
                  </a:lnTo>
                  <a:lnTo>
                    <a:pt x="903" y="3119"/>
                  </a:lnTo>
                  <a:lnTo>
                    <a:pt x="1195" y="2668"/>
                  </a:lnTo>
                  <a:lnTo>
                    <a:pt x="1221" y="3274"/>
                  </a:lnTo>
                  <a:lnTo>
                    <a:pt x="1195" y="3635"/>
                  </a:lnTo>
                  <a:lnTo>
                    <a:pt x="3656" y="3635"/>
                  </a:lnTo>
                  <a:lnTo>
                    <a:pt x="3475" y="3243"/>
                  </a:lnTo>
                  <a:lnTo>
                    <a:pt x="3387" y="2908"/>
                  </a:lnTo>
                  <a:lnTo>
                    <a:pt x="3365" y="2404"/>
                  </a:lnTo>
                  <a:lnTo>
                    <a:pt x="3511" y="2518"/>
                  </a:lnTo>
                  <a:lnTo>
                    <a:pt x="3656" y="2518"/>
                  </a:lnTo>
                  <a:lnTo>
                    <a:pt x="3859" y="2386"/>
                  </a:lnTo>
                  <a:lnTo>
                    <a:pt x="3991" y="2364"/>
                  </a:lnTo>
                  <a:lnTo>
                    <a:pt x="4075" y="2232"/>
                  </a:lnTo>
                  <a:lnTo>
                    <a:pt x="4132" y="1888"/>
                  </a:lnTo>
                  <a:lnTo>
                    <a:pt x="4256" y="1751"/>
                  </a:lnTo>
                  <a:lnTo>
                    <a:pt x="4194" y="1645"/>
                  </a:lnTo>
                  <a:lnTo>
                    <a:pt x="4102" y="1645"/>
                  </a:lnTo>
                  <a:lnTo>
                    <a:pt x="4031" y="1716"/>
                  </a:lnTo>
                  <a:lnTo>
                    <a:pt x="3956" y="1738"/>
                  </a:lnTo>
                  <a:lnTo>
                    <a:pt x="3868" y="1645"/>
                  </a:lnTo>
                  <a:lnTo>
                    <a:pt x="3766" y="1632"/>
                  </a:lnTo>
                  <a:lnTo>
                    <a:pt x="3572" y="1504"/>
                  </a:lnTo>
                  <a:lnTo>
                    <a:pt x="3449" y="1368"/>
                  </a:lnTo>
                  <a:lnTo>
                    <a:pt x="3431" y="1200"/>
                  </a:lnTo>
                  <a:lnTo>
                    <a:pt x="3449" y="1041"/>
                  </a:lnTo>
                  <a:lnTo>
                    <a:pt x="3528" y="908"/>
                  </a:lnTo>
                  <a:lnTo>
                    <a:pt x="3634" y="789"/>
                  </a:lnTo>
                  <a:lnTo>
                    <a:pt x="3625" y="582"/>
                  </a:lnTo>
                  <a:lnTo>
                    <a:pt x="3625" y="432"/>
                  </a:lnTo>
                  <a:lnTo>
                    <a:pt x="3572" y="321"/>
                  </a:lnTo>
                  <a:lnTo>
                    <a:pt x="3431" y="273"/>
                  </a:lnTo>
                  <a:lnTo>
                    <a:pt x="3378" y="246"/>
                  </a:lnTo>
                  <a:lnTo>
                    <a:pt x="3277" y="66"/>
                  </a:lnTo>
                  <a:lnTo>
                    <a:pt x="3193" y="13"/>
                  </a:lnTo>
                  <a:lnTo>
                    <a:pt x="3105" y="0"/>
                  </a:lnTo>
                  <a:lnTo>
                    <a:pt x="3030" y="35"/>
                  </a:lnTo>
                  <a:lnTo>
                    <a:pt x="2968" y="127"/>
                  </a:lnTo>
                  <a:lnTo>
                    <a:pt x="2876" y="185"/>
                  </a:lnTo>
                  <a:lnTo>
                    <a:pt x="2770" y="202"/>
                  </a:lnTo>
                  <a:lnTo>
                    <a:pt x="2651" y="202"/>
                  </a:lnTo>
                  <a:lnTo>
                    <a:pt x="2673" y="383"/>
                  </a:lnTo>
                  <a:lnTo>
                    <a:pt x="2673" y="604"/>
                  </a:lnTo>
                  <a:lnTo>
                    <a:pt x="2651" y="758"/>
                  </a:lnTo>
                  <a:lnTo>
                    <a:pt x="2549" y="935"/>
                  </a:lnTo>
                  <a:lnTo>
                    <a:pt x="2413" y="1213"/>
                  </a:lnTo>
                  <a:lnTo>
                    <a:pt x="2307" y="1539"/>
                  </a:lnTo>
                  <a:lnTo>
                    <a:pt x="2302" y="1738"/>
                  </a:lnTo>
                  <a:lnTo>
                    <a:pt x="2249" y="1901"/>
                  </a:lnTo>
                  <a:lnTo>
                    <a:pt x="2188" y="2069"/>
                  </a:lnTo>
                  <a:lnTo>
                    <a:pt x="2157" y="2333"/>
                  </a:lnTo>
                  <a:lnTo>
                    <a:pt x="2174" y="2549"/>
                  </a:lnTo>
                  <a:lnTo>
                    <a:pt x="2249" y="2806"/>
                  </a:lnTo>
                  <a:lnTo>
                    <a:pt x="2302" y="2908"/>
                  </a:lnTo>
                  <a:lnTo>
                    <a:pt x="2157" y="3000"/>
                  </a:lnTo>
                  <a:lnTo>
                    <a:pt x="1984" y="3057"/>
                  </a:lnTo>
                  <a:lnTo>
                    <a:pt x="1794" y="3075"/>
                  </a:lnTo>
                  <a:lnTo>
                    <a:pt x="1680" y="3075"/>
                  </a:lnTo>
                  <a:lnTo>
                    <a:pt x="1605" y="3044"/>
                  </a:lnTo>
                  <a:lnTo>
                    <a:pt x="1605" y="2824"/>
                  </a:lnTo>
                  <a:lnTo>
                    <a:pt x="1605" y="2505"/>
                  </a:lnTo>
                  <a:lnTo>
                    <a:pt x="1556" y="2188"/>
                  </a:lnTo>
                  <a:lnTo>
                    <a:pt x="1481" y="1901"/>
                  </a:lnTo>
                  <a:lnTo>
                    <a:pt x="1441" y="1676"/>
                  </a:lnTo>
                  <a:lnTo>
                    <a:pt x="1433" y="1354"/>
                  </a:lnTo>
                  <a:lnTo>
                    <a:pt x="1481" y="1076"/>
                  </a:lnTo>
                  <a:lnTo>
                    <a:pt x="1556" y="846"/>
                  </a:lnTo>
                  <a:lnTo>
                    <a:pt x="1565" y="714"/>
                  </a:lnTo>
                  <a:lnTo>
                    <a:pt x="1530" y="520"/>
                  </a:lnTo>
                  <a:lnTo>
                    <a:pt x="1530" y="370"/>
                  </a:lnTo>
                  <a:lnTo>
                    <a:pt x="1556" y="321"/>
                  </a:lnTo>
                  <a:lnTo>
                    <a:pt x="153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1697040" y="1467000"/>
              <a:ext cx="194040" cy="851400"/>
            </a:xfrm>
            <a:custGeom>
              <a:avLst/>
              <a:gdLst/>
              <a:ahLst/>
              <a:rect l="0" t="0" r="r" b="b"/>
              <a:pathLst>
                <a:path w="539" h="2365">
                  <a:moveTo>
                    <a:pt x="217" y="26"/>
                  </a:moveTo>
                  <a:lnTo>
                    <a:pt x="70" y="105"/>
                  </a:lnTo>
                  <a:lnTo>
                    <a:pt x="83" y="330"/>
                  </a:lnTo>
                  <a:lnTo>
                    <a:pt x="190" y="396"/>
                  </a:lnTo>
                  <a:lnTo>
                    <a:pt x="61" y="644"/>
                  </a:lnTo>
                  <a:lnTo>
                    <a:pt x="0" y="918"/>
                  </a:lnTo>
                  <a:lnTo>
                    <a:pt x="0" y="1178"/>
                  </a:lnTo>
                  <a:lnTo>
                    <a:pt x="61" y="1416"/>
                  </a:lnTo>
                  <a:lnTo>
                    <a:pt x="114" y="1707"/>
                  </a:lnTo>
                  <a:lnTo>
                    <a:pt x="114" y="1871"/>
                  </a:lnTo>
                  <a:lnTo>
                    <a:pt x="61" y="2074"/>
                  </a:lnTo>
                  <a:lnTo>
                    <a:pt x="278" y="2365"/>
                  </a:lnTo>
                  <a:lnTo>
                    <a:pt x="371" y="2317"/>
                  </a:lnTo>
                  <a:lnTo>
                    <a:pt x="429" y="2118"/>
                  </a:lnTo>
                  <a:lnTo>
                    <a:pt x="531" y="1858"/>
                  </a:lnTo>
                  <a:lnTo>
                    <a:pt x="539" y="1720"/>
                  </a:lnTo>
                  <a:lnTo>
                    <a:pt x="456" y="1460"/>
                  </a:lnTo>
                  <a:lnTo>
                    <a:pt x="353" y="1209"/>
                  </a:lnTo>
                  <a:lnTo>
                    <a:pt x="318" y="1028"/>
                  </a:lnTo>
                  <a:lnTo>
                    <a:pt x="318" y="856"/>
                  </a:lnTo>
                  <a:lnTo>
                    <a:pt x="353" y="706"/>
                  </a:lnTo>
                  <a:lnTo>
                    <a:pt x="429" y="515"/>
                  </a:lnTo>
                  <a:lnTo>
                    <a:pt x="429" y="440"/>
                  </a:lnTo>
                  <a:lnTo>
                    <a:pt x="393" y="366"/>
                  </a:lnTo>
                  <a:lnTo>
                    <a:pt x="495" y="268"/>
                  </a:lnTo>
                  <a:lnTo>
                    <a:pt x="495" y="180"/>
                  </a:lnTo>
                  <a:lnTo>
                    <a:pt x="353" y="0"/>
                  </a:lnTo>
                  <a:lnTo>
                    <a:pt x="469" y="180"/>
                  </a:lnTo>
                  <a:lnTo>
                    <a:pt x="469" y="255"/>
                  </a:lnTo>
                  <a:lnTo>
                    <a:pt x="367" y="330"/>
                  </a:lnTo>
                  <a:lnTo>
                    <a:pt x="407" y="440"/>
                  </a:lnTo>
                  <a:lnTo>
                    <a:pt x="393" y="515"/>
                  </a:lnTo>
                  <a:lnTo>
                    <a:pt x="292" y="733"/>
                  </a:lnTo>
                  <a:lnTo>
                    <a:pt x="278" y="949"/>
                  </a:lnTo>
                  <a:lnTo>
                    <a:pt x="305" y="1147"/>
                  </a:lnTo>
                  <a:lnTo>
                    <a:pt x="371" y="1429"/>
                  </a:lnTo>
                  <a:lnTo>
                    <a:pt x="456" y="1659"/>
                  </a:lnTo>
                  <a:lnTo>
                    <a:pt x="456" y="1845"/>
                  </a:lnTo>
                  <a:lnTo>
                    <a:pt x="407" y="2074"/>
                  </a:lnTo>
                  <a:lnTo>
                    <a:pt x="305" y="2317"/>
                  </a:lnTo>
                  <a:lnTo>
                    <a:pt x="177" y="2184"/>
                  </a:lnTo>
                  <a:lnTo>
                    <a:pt x="127" y="2074"/>
                  </a:lnTo>
                  <a:lnTo>
                    <a:pt x="137" y="1845"/>
                  </a:lnTo>
                  <a:lnTo>
                    <a:pt x="127" y="1610"/>
                  </a:lnTo>
                  <a:lnTo>
                    <a:pt x="61" y="1297"/>
                  </a:lnTo>
                  <a:lnTo>
                    <a:pt x="39" y="1085"/>
                  </a:lnTo>
                  <a:lnTo>
                    <a:pt x="61" y="843"/>
                  </a:lnTo>
                  <a:lnTo>
                    <a:pt x="114" y="613"/>
                  </a:lnTo>
                  <a:lnTo>
                    <a:pt x="225" y="379"/>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2247840" y="473040"/>
              <a:ext cx="305280" cy="414720"/>
            </a:xfrm>
            <a:custGeom>
              <a:avLst/>
              <a:gdLst/>
              <a:ahLst/>
              <a:rect l="0" t="0" r="r" b="b"/>
              <a:pathLst>
                <a:path w="848" h="1152">
                  <a:moveTo>
                    <a:pt x="141" y="296"/>
                  </a:moveTo>
                  <a:lnTo>
                    <a:pt x="265" y="268"/>
                  </a:lnTo>
                  <a:lnTo>
                    <a:pt x="384" y="277"/>
                  </a:lnTo>
                  <a:lnTo>
                    <a:pt x="486" y="327"/>
                  </a:lnTo>
                  <a:lnTo>
                    <a:pt x="543" y="389"/>
                  </a:lnTo>
                  <a:lnTo>
                    <a:pt x="565" y="450"/>
                  </a:lnTo>
                  <a:lnTo>
                    <a:pt x="565" y="508"/>
                  </a:lnTo>
                  <a:lnTo>
                    <a:pt x="538" y="543"/>
                  </a:lnTo>
                  <a:lnTo>
                    <a:pt x="481" y="574"/>
                  </a:lnTo>
                  <a:lnTo>
                    <a:pt x="419" y="578"/>
                  </a:lnTo>
                  <a:lnTo>
                    <a:pt x="344" y="561"/>
                  </a:lnTo>
                  <a:lnTo>
                    <a:pt x="269" y="512"/>
                  </a:lnTo>
                  <a:lnTo>
                    <a:pt x="211" y="468"/>
                  </a:lnTo>
                  <a:lnTo>
                    <a:pt x="189" y="618"/>
                  </a:lnTo>
                  <a:lnTo>
                    <a:pt x="141" y="719"/>
                  </a:lnTo>
                  <a:lnTo>
                    <a:pt x="0" y="963"/>
                  </a:lnTo>
                  <a:lnTo>
                    <a:pt x="207" y="1152"/>
                  </a:lnTo>
                  <a:lnTo>
                    <a:pt x="362" y="838"/>
                  </a:lnTo>
                  <a:lnTo>
                    <a:pt x="538" y="866"/>
                  </a:lnTo>
                  <a:lnTo>
                    <a:pt x="645" y="843"/>
                  </a:lnTo>
                  <a:lnTo>
                    <a:pt x="751" y="772"/>
                  </a:lnTo>
                  <a:lnTo>
                    <a:pt x="813" y="684"/>
                  </a:lnTo>
                  <a:lnTo>
                    <a:pt x="848" y="565"/>
                  </a:lnTo>
                  <a:lnTo>
                    <a:pt x="848" y="441"/>
                  </a:lnTo>
                  <a:lnTo>
                    <a:pt x="813" y="309"/>
                  </a:lnTo>
                  <a:lnTo>
                    <a:pt x="747" y="176"/>
                  </a:lnTo>
                  <a:lnTo>
                    <a:pt x="659" y="79"/>
                  </a:lnTo>
                  <a:lnTo>
                    <a:pt x="552" y="26"/>
                  </a:lnTo>
                  <a:lnTo>
                    <a:pt x="433" y="0"/>
                  </a:lnTo>
                  <a:lnTo>
                    <a:pt x="283" y="0"/>
                  </a:lnTo>
                  <a:lnTo>
                    <a:pt x="114" y="35"/>
                  </a:lnTo>
                  <a:lnTo>
                    <a:pt x="141"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2193840" y="876240"/>
              <a:ext cx="109800" cy="81360"/>
            </a:xfrm>
            <a:custGeom>
              <a:avLst/>
              <a:gdLst/>
              <a:ahLst/>
              <a:rect l="0" t="0" r="r" b="b"/>
              <a:pathLst>
                <a:path w="305" h="226">
                  <a:moveTo>
                    <a:pt x="119" y="0"/>
                  </a:moveTo>
                  <a:lnTo>
                    <a:pt x="39" y="0"/>
                  </a:lnTo>
                  <a:lnTo>
                    <a:pt x="0" y="30"/>
                  </a:lnTo>
                  <a:lnTo>
                    <a:pt x="0" y="111"/>
                  </a:lnTo>
                  <a:lnTo>
                    <a:pt x="61" y="196"/>
                  </a:lnTo>
                  <a:lnTo>
                    <a:pt x="186" y="226"/>
                  </a:lnTo>
                  <a:lnTo>
                    <a:pt x="274" y="222"/>
                  </a:lnTo>
                  <a:lnTo>
                    <a:pt x="305" y="168"/>
                  </a:lnTo>
                  <a:lnTo>
                    <a:pt x="287" y="124"/>
                  </a:lnTo>
                  <a:lnTo>
                    <a:pt x="247" y="58"/>
                  </a:lnTo>
                  <a:lnTo>
                    <a:pt x="172"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762120" y="228600"/>
            <a:ext cx="76212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378" name=""/>
          <p:cNvSpPr txBox="1"/>
          <p:nvPr/>
        </p:nvSpPr>
        <p:spPr>
          <a:xfrm>
            <a:off x="1143000" y="380880"/>
            <a:ext cx="6629400" cy="60199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0" lang="en-US" sz="2800" spc="-1" strike="noStrike">
              <a:solidFill>
                <a:srgbClr val="ffffff"/>
              </a:solidFill>
              <a:latin typeface="Arial"/>
            </a:endParaRPr>
          </a:p>
        </p:txBody>
      </p:sp>
      <p:grpSp>
        <p:nvGrpSpPr>
          <p:cNvPr id="379" name=""/>
          <p:cNvGrpSpPr/>
          <p:nvPr/>
        </p:nvGrpSpPr>
        <p:grpSpPr>
          <a:xfrm>
            <a:off x="7392960" y="3962520"/>
            <a:ext cx="1598760" cy="2208600"/>
            <a:chOff x="7392960" y="3962520"/>
            <a:chExt cx="1598760" cy="2208600"/>
          </a:xfrm>
        </p:grpSpPr>
        <p:sp>
          <p:nvSpPr>
            <p:cNvPr id="380" name=""/>
            <p:cNvSpPr/>
            <p:nvPr/>
          </p:nvSpPr>
          <p:spPr>
            <a:xfrm>
              <a:off x="8050320" y="4135320"/>
              <a:ext cx="587880" cy="1014840"/>
            </a:xfrm>
            <a:custGeom>
              <a:avLst/>
              <a:gdLst/>
              <a:ahLst/>
              <a:rect l="0" t="0" r="r" b="b"/>
              <a:pathLst>
                <a:path w="1633" h="2819">
                  <a:moveTo>
                    <a:pt x="816" y="0"/>
                  </a:moveTo>
                  <a:lnTo>
                    <a:pt x="627" y="612"/>
                  </a:lnTo>
                  <a:lnTo>
                    <a:pt x="503" y="1046"/>
                  </a:lnTo>
                  <a:lnTo>
                    <a:pt x="525" y="1112"/>
                  </a:lnTo>
                  <a:lnTo>
                    <a:pt x="644" y="1473"/>
                  </a:lnTo>
                  <a:lnTo>
                    <a:pt x="693" y="1544"/>
                  </a:lnTo>
                  <a:lnTo>
                    <a:pt x="680" y="1672"/>
                  </a:lnTo>
                  <a:lnTo>
                    <a:pt x="772" y="1725"/>
                  </a:lnTo>
                  <a:lnTo>
                    <a:pt x="852" y="1725"/>
                  </a:lnTo>
                  <a:lnTo>
                    <a:pt x="988" y="1672"/>
                  </a:lnTo>
                  <a:lnTo>
                    <a:pt x="997" y="1822"/>
                  </a:lnTo>
                  <a:lnTo>
                    <a:pt x="446" y="1989"/>
                  </a:lnTo>
                  <a:lnTo>
                    <a:pt x="472" y="1831"/>
                  </a:lnTo>
                  <a:lnTo>
                    <a:pt x="455" y="1672"/>
                  </a:lnTo>
                  <a:lnTo>
                    <a:pt x="392" y="1557"/>
                  </a:lnTo>
                  <a:lnTo>
                    <a:pt x="299" y="1557"/>
                  </a:lnTo>
                  <a:lnTo>
                    <a:pt x="149" y="1619"/>
                  </a:lnTo>
                  <a:lnTo>
                    <a:pt x="0" y="1725"/>
                  </a:lnTo>
                  <a:lnTo>
                    <a:pt x="149" y="1906"/>
                  </a:lnTo>
                  <a:lnTo>
                    <a:pt x="543" y="2819"/>
                  </a:lnTo>
                  <a:lnTo>
                    <a:pt x="1019" y="2806"/>
                  </a:lnTo>
                  <a:lnTo>
                    <a:pt x="1536" y="1204"/>
                  </a:lnTo>
                  <a:lnTo>
                    <a:pt x="1633" y="909"/>
                  </a:lnTo>
                  <a:lnTo>
                    <a:pt x="1633" y="750"/>
                  </a:lnTo>
                  <a:lnTo>
                    <a:pt x="1466" y="0"/>
                  </a:lnTo>
                  <a:lnTo>
                    <a:pt x="1076" y="26"/>
                  </a:lnTo>
                  <a:lnTo>
                    <a:pt x="8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8520120" y="4575240"/>
              <a:ext cx="62280" cy="59040"/>
            </a:xfrm>
            <a:custGeom>
              <a:avLst/>
              <a:gdLst/>
              <a:ahLst/>
              <a:rect l="0" t="0" r="r" b="b"/>
              <a:pathLst>
                <a:path w="173" h="164">
                  <a:moveTo>
                    <a:pt x="111" y="0"/>
                  </a:moveTo>
                  <a:lnTo>
                    <a:pt x="53" y="13"/>
                  </a:lnTo>
                  <a:lnTo>
                    <a:pt x="0" y="146"/>
                  </a:lnTo>
                  <a:lnTo>
                    <a:pt x="138" y="164"/>
                  </a:lnTo>
                  <a:lnTo>
                    <a:pt x="173" y="39"/>
                  </a:lnTo>
                  <a:lnTo>
                    <a:pt x="11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82" name=""/>
            <p:cNvSpPr/>
            <p:nvPr/>
          </p:nvSpPr>
          <p:spPr>
            <a:xfrm>
              <a:off x="8271000" y="3962520"/>
              <a:ext cx="432000" cy="476640"/>
            </a:xfrm>
            <a:custGeom>
              <a:avLst/>
              <a:gdLst/>
              <a:ahLst/>
              <a:rect l="0" t="0" r="r" b="b"/>
              <a:pathLst>
                <a:path w="1200" h="1324">
                  <a:moveTo>
                    <a:pt x="0" y="145"/>
                  </a:moveTo>
                  <a:lnTo>
                    <a:pt x="79" y="336"/>
                  </a:lnTo>
                  <a:lnTo>
                    <a:pt x="132" y="411"/>
                  </a:lnTo>
                  <a:lnTo>
                    <a:pt x="57" y="494"/>
                  </a:lnTo>
                  <a:lnTo>
                    <a:pt x="4" y="1148"/>
                  </a:lnTo>
                  <a:lnTo>
                    <a:pt x="158" y="666"/>
                  </a:lnTo>
                  <a:lnTo>
                    <a:pt x="304" y="512"/>
                  </a:lnTo>
                  <a:lnTo>
                    <a:pt x="609" y="583"/>
                  </a:lnTo>
                  <a:lnTo>
                    <a:pt x="830" y="569"/>
                  </a:lnTo>
                  <a:lnTo>
                    <a:pt x="860" y="768"/>
                  </a:lnTo>
                  <a:lnTo>
                    <a:pt x="852" y="1108"/>
                  </a:lnTo>
                  <a:lnTo>
                    <a:pt x="874" y="1324"/>
                  </a:lnTo>
                  <a:lnTo>
                    <a:pt x="993" y="1272"/>
                  </a:lnTo>
                  <a:lnTo>
                    <a:pt x="1200" y="649"/>
                  </a:lnTo>
                  <a:lnTo>
                    <a:pt x="1147" y="530"/>
                  </a:lnTo>
                  <a:lnTo>
                    <a:pt x="1059" y="389"/>
                  </a:lnTo>
                  <a:lnTo>
                    <a:pt x="966" y="349"/>
                  </a:lnTo>
                  <a:lnTo>
                    <a:pt x="949" y="211"/>
                  </a:lnTo>
                  <a:lnTo>
                    <a:pt x="852" y="74"/>
                  </a:lnTo>
                  <a:lnTo>
                    <a:pt x="737" y="22"/>
                  </a:lnTo>
                  <a:lnTo>
                    <a:pt x="590" y="8"/>
                  </a:lnTo>
                  <a:lnTo>
                    <a:pt x="445" y="22"/>
                  </a:lnTo>
                  <a:lnTo>
                    <a:pt x="286" y="74"/>
                  </a:lnTo>
                  <a:lnTo>
                    <a:pt x="304" y="185"/>
                  </a:lnTo>
                  <a:lnTo>
                    <a:pt x="260" y="171"/>
                  </a:lnTo>
                  <a:lnTo>
                    <a:pt x="238" y="0"/>
                  </a:lnTo>
                  <a:lnTo>
                    <a:pt x="176" y="35"/>
                  </a:lnTo>
                  <a:lnTo>
                    <a:pt x="229" y="251"/>
                  </a:lnTo>
                  <a:lnTo>
                    <a:pt x="123" y="35"/>
                  </a:lnTo>
                  <a:lnTo>
                    <a:pt x="176" y="277"/>
                  </a:lnTo>
                  <a:lnTo>
                    <a:pt x="52" y="92"/>
                  </a:lnTo>
                  <a:lnTo>
                    <a:pt x="149" y="336"/>
                  </a:lnTo>
                  <a:lnTo>
                    <a:pt x="79" y="251"/>
                  </a:lnTo>
                  <a:lnTo>
                    <a:pt x="44" y="158"/>
                  </a:lnTo>
                  <a:lnTo>
                    <a:pt x="0"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7399440" y="4187880"/>
              <a:ext cx="902160" cy="1219680"/>
            </a:xfrm>
            <a:custGeom>
              <a:avLst/>
              <a:gdLst/>
              <a:ahLst/>
              <a:rect l="0" t="0" r="r" b="b"/>
              <a:pathLst>
                <a:path w="2506" h="3388">
                  <a:moveTo>
                    <a:pt x="0" y="856"/>
                  </a:moveTo>
                  <a:lnTo>
                    <a:pt x="568" y="683"/>
                  </a:lnTo>
                  <a:lnTo>
                    <a:pt x="1103" y="383"/>
                  </a:lnTo>
                  <a:lnTo>
                    <a:pt x="1637" y="0"/>
                  </a:lnTo>
                  <a:lnTo>
                    <a:pt x="1734" y="414"/>
                  </a:lnTo>
                  <a:lnTo>
                    <a:pt x="1977" y="1240"/>
                  </a:lnTo>
                  <a:lnTo>
                    <a:pt x="2065" y="1416"/>
                  </a:lnTo>
                  <a:lnTo>
                    <a:pt x="1959" y="1491"/>
                  </a:lnTo>
                  <a:lnTo>
                    <a:pt x="1898" y="1584"/>
                  </a:lnTo>
                  <a:lnTo>
                    <a:pt x="1942" y="1650"/>
                  </a:lnTo>
                  <a:lnTo>
                    <a:pt x="2114" y="1663"/>
                  </a:lnTo>
                  <a:lnTo>
                    <a:pt x="2193" y="1870"/>
                  </a:lnTo>
                  <a:lnTo>
                    <a:pt x="2387" y="2227"/>
                  </a:lnTo>
                  <a:lnTo>
                    <a:pt x="2506" y="2351"/>
                  </a:lnTo>
                  <a:lnTo>
                    <a:pt x="2030" y="2581"/>
                  </a:lnTo>
                  <a:lnTo>
                    <a:pt x="1619" y="2960"/>
                  </a:lnTo>
                  <a:lnTo>
                    <a:pt x="1209" y="3251"/>
                  </a:lnTo>
                  <a:lnTo>
                    <a:pt x="1037" y="3388"/>
                  </a:lnTo>
                  <a:lnTo>
                    <a:pt x="728" y="2806"/>
                  </a:lnTo>
                  <a:lnTo>
                    <a:pt x="458" y="2108"/>
                  </a:lnTo>
                  <a:lnTo>
                    <a:pt x="233" y="1500"/>
                  </a:lnTo>
                  <a:lnTo>
                    <a:pt x="70" y="1054"/>
                  </a:lnTo>
                  <a:lnTo>
                    <a:pt x="0"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128080" y="4775040"/>
              <a:ext cx="590760" cy="522720"/>
            </a:xfrm>
            <a:custGeom>
              <a:avLst/>
              <a:gdLst/>
              <a:ahLst/>
              <a:rect l="0" t="0" r="r" b="b"/>
              <a:pathLst>
                <a:path w="1641" h="1452">
                  <a:moveTo>
                    <a:pt x="220" y="211"/>
                  </a:moveTo>
                  <a:lnTo>
                    <a:pt x="374" y="61"/>
                  </a:lnTo>
                  <a:lnTo>
                    <a:pt x="590" y="74"/>
                  </a:lnTo>
                  <a:lnTo>
                    <a:pt x="683" y="0"/>
                  </a:lnTo>
                  <a:lnTo>
                    <a:pt x="762" y="17"/>
                  </a:lnTo>
                  <a:lnTo>
                    <a:pt x="745" y="74"/>
                  </a:lnTo>
                  <a:lnTo>
                    <a:pt x="692" y="185"/>
                  </a:lnTo>
                  <a:lnTo>
                    <a:pt x="878" y="224"/>
                  </a:lnTo>
                  <a:lnTo>
                    <a:pt x="993" y="74"/>
                  </a:lnTo>
                  <a:lnTo>
                    <a:pt x="1028" y="0"/>
                  </a:lnTo>
                  <a:lnTo>
                    <a:pt x="1271" y="74"/>
                  </a:lnTo>
                  <a:lnTo>
                    <a:pt x="1553" y="74"/>
                  </a:lnTo>
                  <a:lnTo>
                    <a:pt x="1641" y="277"/>
                  </a:lnTo>
                  <a:lnTo>
                    <a:pt x="1606" y="728"/>
                  </a:lnTo>
                  <a:lnTo>
                    <a:pt x="1632" y="768"/>
                  </a:lnTo>
                  <a:lnTo>
                    <a:pt x="1566" y="944"/>
                  </a:lnTo>
                  <a:lnTo>
                    <a:pt x="1588" y="1015"/>
                  </a:lnTo>
                  <a:lnTo>
                    <a:pt x="1447" y="1452"/>
                  </a:lnTo>
                  <a:lnTo>
                    <a:pt x="0" y="1002"/>
                  </a:lnTo>
                  <a:lnTo>
                    <a:pt x="291" y="812"/>
                  </a:lnTo>
                  <a:lnTo>
                    <a:pt x="445" y="1002"/>
                  </a:lnTo>
                  <a:lnTo>
                    <a:pt x="780" y="1015"/>
                  </a:lnTo>
                  <a:lnTo>
                    <a:pt x="802" y="852"/>
                  </a:lnTo>
                  <a:lnTo>
                    <a:pt x="590" y="759"/>
                  </a:lnTo>
                  <a:lnTo>
                    <a:pt x="432" y="759"/>
                  </a:lnTo>
                  <a:lnTo>
                    <a:pt x="493" y="719"/>
                  </a:lnTo>
                  <a:lnTo>
                    <a:pt x="308" y="516"/>
                  </a:lnTo>
                  <a:lnTo>
                    <a:pt x="211" y="264"/>
                  </a:lnTo>
                  <a:lnTo>
                    <a:pt x="220"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312040" y="4835520"/>
              <a:ext cx="93960" cy="230400"/>
            </a:xfrm>
            <a:custGeom>
              <a:avLst/>
              <a:gdLst/>
              <a:ahLst/>
              <a:rect l="0" t="0" r="r" b="b"/>
              <a:pathLst>
                <a:path w="261" h="640">
                  <a:moveTo>
                    <a:pt x="177" y="0"/>
                  </a:moveTo>
                  <a:lnTo>
                    <a:pt x="52" y="344"/>
                  </a:lnTo>
                  <a:lnTo>
                    <a:pt x="0" y="587"/>
                  </a:lnTo>
                  <a:lnTo>
                    <a:pt x="159" y="640"/>
                  </a:lnTo>
                  <a:lnTo>
                    <a:pt x="261" y="277"/>
                  </a:lnTo>
                  <a:lnTo>
                    <a:pt x="177"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375760" y="5072040"/>
              <a:ext cx="105120" cy="57600"/>
            </a:xfrm>
            <a:custGeom>
              <a:avLst/>
              <a:gdLst/>
              <a:ahLst/>
              <a:rect l="0" t="0" r="r" b="b"/>
              <a:pathLst>
                <a:path w="292" h="160">
                  <a:moveTo>
                    <a:pt x="292" y="98"/>
                  </a:moveTo>
                  <a:lnTo>
                    <a:pt x="74" y="0"/>
                  </a:lnTo>
                  <a:lnTo>
                    <a:pt x="0" y="160"/>
                  </a:lnTo>
                  <a:lnTo>
                    <a:pt x="292"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87" name=""/>
            <p:cNvSpPr/>
            <p:nvPr/>
          </p:nvSpPr>
          <p:spPr>
            <a:xfrm>
              <a:off x="8290080" y="4608360"/>
              <a:ext cx="103680" cy="54360"/>
            </a:xfrm>
            <a:custGeom>
              <a:avLst/>
              <a:gdLst/>
              <a:ahLst/>
              <a:rect l="0" t="0" r="r" b="b"/>
              <a:pathLst>
                <a:path w="288" h="151">
                  <a:moveTo>
                    <a:pt x="30" y="0"/>
                  </a:moveTo>
                  <a:lnTo>
                    <a:pt x="0" y="80"/>
                  </a:lnTo>
                  <a:lnTo>
                    <a:pt x="30" y="134"/>
                  </a:lnTo>
                  <a:lnTo>
                    <a:pt x="133" y="151"/>
                  </a:lnTo>
                  <a:lnTo>
                    <a:pt x="288" y="80"/>
                  </a:lnTo>
                  <a:lnTo>
                    <a:pt x="80" y="0"/>
                  </a:lnTo>
                  <a:lnTo>
                    <a:pt x="30"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88" name=""/>
            <p:cNvSpPr/>
            <p:nvPr/>
          </p:nvSpPr>
          <p:spPr>
            <a:xfrm>
              <a:off x="8307360" y="4578480"/>
              <a:ext cx="143280" cy="73440"/>
            </a:xfrm>
            <a:custGeom>
              <a:avLst/>
              <a:gdLst/>
              <a:ahLst/>
              <a:rect l="0" t="0" r="r" b="b"/>
              <a:pathLst>
                <a:path w="398" h="204">
                  <a:moveTo>
                    <a:pt x="0" y="0"/>
                  </a:moveTo>
                  <a:lnTo>
                    <a:pt x="128" y="26"/>
                  </a:lnTo>
                  <a:lnTo>
                    <a:pt x="239" y="39"/>
                  </a:lnTo>
                  <a:lnTo>
                    <a:pt x="398" y="17"/>
                  </a:lnTo>
                  <a:lnTo>
                    <a:pt x="301" y="165"/>
                  </a:lnTo>
                  <a:lnTo>
                    <a:pt x="111" y="204"/>
                  </a:lnTo>
                  <a:lnTo>
                    <a:pt x="0" y="150"/>
                  </a:lnTo>
                  <a:lnTo>
                    <a:pt x="30" y="124"/>
                  </a:lnTo>
                  <a:lnTo>
                    <a:pt x="8" y="67"/>
                  </a:lnTo>
                  <a:lnTo>
                    <a:pt x="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389" name=""/>
            <p:cNvSpPr/>
            <p:nvPr/>
          </p:nvSpPr>
          <p:spPr>
            <a:xfrm>
              <a:off x="7940520" y="5052960"/>
              <a:ext cx="695520" cy="281520"/>
            </a:xfrm>
            <a:custGeom>
              <a:avLst/>
              <a:gdLst/>
              <a:ahLst/>
              <a:rect l="0" t="0" r="r" b="b"/>
              <a:pathLst>
                <a:path w="1932" h="782">
                  <a:moveTo>
                    <a:pt x="185" y="17"/>
                  </a:moveTo>
                  <a:lnTo>
                    <a:pt x="515" y="48"/>
                  </a:lnTo>
                  <a:lnTo>
                    <a:pt x="837" y="180"/>
                  </a:lnTo>
                  <a:lnTo>
                    <a:pt x="1204" y="180"/>
                  </a:lnTo>
                  <a:lnTo>
                    <a:pt x="1628" y="92"/>
                  </a:lnTo>
                  <a:lnTo>
                    <a:pt x="1857" y="0"/>
                  </a:lnTo>
                  <a:lnTo>
                    <a:pt x="1711" y="208"/>
                  </a:lnTo>
                  <a:lnTo>
                    <a:pt x="1932" y="158"/>
                  </a:lnTo>
                  <a:lnTo>
                    <a:pt x="1800" y="322"/>
                  </a:lnTo>
                  <a:lnTo>
                    <a:pt x="1932" y="547"/>
                  </a:lnTo>
                  <a:lnTo>
                    <a:pt x="1592" y="716"/>
                  </a:lnTo>
                  <a:lnTo>
                    <a:pt x="114" y="782"/>
                  </a:lnTo>
                  <a:lnTo>
                    <a:pt x="0" y="623"/>
                  </a:lnTo>
                  <a:lnTo>
                    <a:pt x="167" y="468"/>
                  </a:lnTo>
                  <a:lnTo>
                    <a:pt x="52" y="309"/>
                  </a:lnTo>
                  <a:lnTo>
                    <a:pt x="238" y="269"/>
                  </a:lnTo>
                  <a:lnTo>
                    <a:pt x="123" y="97"/>
                  </a:lnTo>
                  <a:lnTo>
                    <a:pt x="238" y="136"/>
                  </a:lnTo>
                  <a:lnTo>
                    <a:pt x="295" y="136"/>
                  </a:lnTo>
                  <a:lnTo>
                    <a:pt x="18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446960" y="5977080"/>
              <a:ext cx="397080" cy="168480"/>
            </a:xfrm>
            <a:custGeom>
              <a:avLst/>
              <a:gdLst/>
              <a:ahLst/>
              <a:rect l="0" t="0" r="r" b="b"/>
              <a:pathLst>
                <a:path w="1103" h="468">
                  <a:moveTo>
                    <a:pt x="0" y="233"/>
                  </a:moveTo>
                  <a:lnTo>
                    <a:pt x="489" y="0"/>
                  </a:lnTo>
                  <a:lnTo>
                    <a:pt x="746" y="261"/>
                  </a:lnTo>
                  <a:lnTo>
                    <a:pt x="1103" y="358"/>
                  </a:lnTo>
                  <a:lnTo>
                    <a:pt x="988" y="446"/>
                  </a:lnTo>
                  <a:lnTo>
                    <a:pt x="251" y="468"/>
                  </a:lnTo>
                  <a:lnTo>
                    <a:pt x="0"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947000" y="5310360"/>
              <a:ext cx="630720" cy="859320"/>
            </a:xfrm>
            <a:custGeom>
              <a:avLst/>
              <a:gdLst/>
              <a:ahLst/>
              <a:rect l="0" t="0" r="r" b="b"/>
              <a:pathLst>
                <a:path w="1752" h="2387">
                  <a:moveTo>
                    <a:pt x="13" y="48"/>
                  </a:moveTo>
                  <a:lnTo>
                    <a:pt x="1752" y="0"/>
                  </a:lnTo>
                  <a:lnTo>
                    <a:pt x="1752" y="458"/>
                  </a:lnTo>
                  <a:lnTo>
                    <a:pt x="1545" y="595"/>
                  </a:lnTo>
                  <a:lnTo>
                    <a:pt x="1532" y="2043"/>
                  </a:lnTo>
                  <a:lnTo>
                    <a:pt x="1338" y="2070"/>
                  </a:lnTo>
                  <a:lnTo>
                    <a:pt x="1338" y="2343"/>
                  </a:lnTo>
                  <a:lnTo>
                    <a:pt x="374" y="2387"/>
                  </a:lnTo>
                  <a:lnTo>
                    <a:pt x="383" y="2021"/>
                  </a:lnTo>
                  <a:lnTo>
                    <a:pt x="189" y="2021"/>
                  </a:lnTo>
                  <a:lnTo>
                    <a:pt x="158" y="551"/>
                  </a:lnTo>
                  <a:lnTo>
                    <a:pt x="26" y="410"/>
                  </a:lnTo>
                  <a:lnTo>
                    <a:pt x="0" y="176"/>
                  </a:lnTo>
                  <a:lnTo>
                    <a:pt x="13"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2" name=""/>
            <p:cNvSpPr/>
            <p:nvPr/>
          </p:nvSpPr>
          <p:spPr>
            <a:xfrm>
              <a:off x="8094600" y="5110200"/>
              <a:ext cx="27360" cy="217800"/>
            </a:xfrm>
            <a:custGeom>
              <a:avLst/>
              <a:gdLst/>
              <a:ahLst/>
              <a:rect l="0" t="0" r="r" b="b"/>
              <a:pathLst>
                <a:path w="76" h="605">
                  <a:moveTo>
                    <a:pt x="0" y="141"/>
                  </a:moveTo>
                  <a:lnTo>
                    <a:pt x="0" y="605"/>
                  </a:lnTo>
                  <a:lnTo>
                    <a:pt x="59" y="583"/>
                  </a:lnTo>
                  <a:lnTo>
                    <a:pt x="76" y="0"/>
                  </a:lnTo>
                  <a:lnTo>
                    <a:pt x="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8508960" y="5969160"/>
              <a:ext cx="465480" cy="149760"/>
            </a:xfrm>
            <a:custGeom>
              <a:avLst/>
              <a:gdLst/>
              <a:ahLst/>
              <a:rect l="0" t="0" r="r" b="b"/>
              <a:pathLst>
                <a:path w="1293" h="416">
                  <a:moveTo>
                    <a:pt x="0" y="305"/>
                  </a:moveTo>
                  <a:lnTo>
                    <a:pt x="339" y="305"/>
                  </a:lnTo>
                  <a:lnTo>
                    <a:pt x="612" y="70"/>
                  </a:lnTo>
                  <a:lnTo>
                    <a:pt x="940" y="70"/>
                  </a:lnTo>
                  <a:lnTo>
                    <a:pt x="1293" y="0"/>
                  </a:lnTo>
                  <a:lnTo>
                    <a:pt x="1028" y="212"/>
                  </a:lnTo>
                  <a:lnTo>
                    <a:pt x="599" y="376"/>
                  </a:lnTo>
                  <a:lnTo>
                    <a:pt x="383" y="416"/>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693200" y="6013440"/>
              <a:ext cx="241560" cy="116280"/>
            </a:xfrm>
            <a:custGeom>
              <a:avLst/>
              <a:gdLst/>
              <a:ahLst/>
              <a:rect l="0" t="0" r="r" b="b"/>
              <a:pathLst>
                <a:path w="671" h="323">
                  <a:moveTo>
                    <a:pt x="0" y="115"/>
                  </a:moveTo>
                  <a:lnTo>
                    <a:pt x="330" y="115"/>
                  </a:lnTo>
                  <a:lnTo>
                    <a:pt x="671" y="0"/>
                  </a:lnTo>
                  <a:lnTo>
                    <a:pt x="613" y="225"/>
                  </a:lnTo>
                  <a:lnTo>
                    <a:pt x="344" y="323"/>
                  </a:lnTo>
                  <a:lnTo>
                    <a:pt x="123" y="208"/>
                  </a:lnTo>
                  <a:lnTo>
                    <a:pt x="0"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956720" y="5969160"/>
              <a:ext cx="125640" cy="143280"/>
            </a:xfrm>
            <a:custGeom>
              <a:avLst/>
              <a:gdLst/>
              <a:ahLst/>
              <a:rect l="0" t="0" r="r" b="b"/>
              <a:pathLst>
                <a:path w="349" h="398">
                  <a:moveTo>
                    <a:pt x="318" y="0"/>
                  </a:moveTo>
                  <a:lnTo>
                    <a:pt x="119" y="146"/>
                  </a:lnTo>
                  <a:lnTo>
                    <a:pt x="30" y="261"/>
                  </a:lnTo>
                  <a:lnTo>
                    <a:pt x="0" y="398"/>
                  </a:lnTo>
                  <a:lnTo>
                    <a:pt x="44" y="398"/>
                  </a:lnTo>
                  <a:lnTo>
                    <a:pt x="88" y="283"/>
                  </a:lnTo>
                  <a:lnTo>
                    <a:pt x="195" y="172"/>
                  </a:lnTo>
                  <a:lnTo>
                    <a:pt x="349" y="48"/>
                  </a:lnTo>
                  <a:lnTo>
                    <a:pt x="31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8272440" y="5616720"/>
              <a:ext cx="86040" cy="240120"/>
            </a:xfrm>
            <a:custGeom>
              <a:avLst/>
              <a:gdLst/>
              <a:ahLst/>
              <a:rect l="0" t="0" r="r" b="b"/>
              <a:pathLst>
                <a:path w="239" h="667">
                  <a:moveTo>
                    <a:pt x="155" y="66"/>
                  </a:moveTo>
                  <a:lnTo>
                    <a:pt x="128" y="362"/>
                  </a:lnTo>
                  <a:lnTo>
                    <a:pt x="0" y="601"/>
                  </a:lnTo>
                  <a:lnTo>
                    <a:pt x="17" y="667"/>
                  </a:lnTo>
                  <a:lnTo>
                    <a:pt x="155" y="477"/>
                  </a:lnTo>
                  <a:lnTo>
                    <a:pt x="239" y="177"/>
                  </a:lnTo>
                  <a:lnTo>
                    <a:pt x="217" y="0"/>
                  </a:lnTo>
                  <a:lnTo>
                    <a:pt x="155"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8021520" y="4937040"/>
              <a:ext cx="203400" cy="520920"/>
            </a:xfrm>
            <a:custGeom>
              <a:avLst/>
              <a:gdLst/>
              <a:ahLst/>
              <a:rect l="0" t="0" r="r" b="b"/>
              <a:pathLst>
                <a:path w="565" h="1447">
                  <a:moveTo>
                    <a:pt x="79" y="1103"/>
                  </a:moveTo>
                  <a:lnTo>
                    <a:pt x="154" y="1279"/>
                  </a:lnTo>
                  <a:lnTo>
                    <a:pt x="565" y="1447"/>
                  </a:lnTo>
                  <a:lnTo>
                    <a:pt x="494" y="1328"/>
                  </a:lnTo>
                  <a:lnTo>
                    <a:pt x="123" y="1129"/>
                  </a:lnTo>
                  <a:lnTo>
                    <a:pt x="48" y="896"/>
                  </a:lnTo>
                  <a:lnTo>
                    <a:pt x="136" y="643"/>
                  </a:lnTo>
                  <a:lnTo>
                    <a:pt x="176" y="617"/>
                  </a:lnTo>
                  <a:lnTo>
                    <a:pt x="521" y="114"/>
                  </a:lnTo>
                  <a:lnTo>
                    <a:pt x="494" y="0"/>
                  </a:lnTo>
                  <a:lnTo>
                    <a:pt x="384" y="0"/>
                  </a:lnTo>
                  <a:lnTo>
                    <a:pt x="48" y="551"/>
                  </a:lnTo>
                  <a:lnTo>
                    <a:pt x="79" y="643"/>
                  </a:lnTo>
                  <a:lnTo>
                    <a:pt x="0" y="847"/>
                  </a:lnTo>
                  <a:lnTo>
                    <a:pt x="13" y="1015"/>
                  </a:lnTo>
                  <a:lnTo>
                    <a:pt x="79"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8075520" y="4929120"/>
              <a:ext cx="133560" cy="240120"/>
            </a:xfrm>
            <a:custGeom>
              <a:avLst/>
              <a:gdLst/>
              <a:ahLst/>
              <a:rect l="0" t="0" r="r" b="b"/>
              <a:pathLst>
                <a:path w="371" h="667">
                  <a:moveTo>
                    <a:pt x="292" y="0"/>
                  </a:moveTo>
                  <a:lnTo>
                    <a:pt x="340" y="22"/>
                  </a:lnTo>
                  <a:lnTo>
                    <a:pt x="353" y="70"/>
                  </a:lnTo>
                  <a:lnTo>
                    <a:pt x="371" y="114"/>
                  </a:lnTo>
                  <a:lnTo>
                    <a:pt x="340" y="186"/>
                  </a:lnTo>
                  <a:lnTo>
                    <a:pt x="26" y="667"/>
                  </a:lnTo>
                  <a:lnTo>
                    <a:pt x="39" y="597"/>
                  </a:lnTo>
                  <a:lnTo>
                    <a:pt x="26" y="553"/>
                  </a:lnTo>
                  <a:lnTo>
                    <a:pt x="0" y="526"/>
                  </a:lnTo>
                  <a:lnTo>
                    <a:pt x="52" y="441"/>
                  </a:lnTo>
                  <a:lnTo>
                    <a:pt x="97" y="481"/>
                  </a:lnTo>
                  <a:lnTo>
                    <a:pt x="292" y="186"/>
                  </a:lnTo>
                  <a:lnTo>
                    <a:pt x="292" y="114"/>
                  </a:lnTo>
                  <a:lnTo>
                    <a:pt x="261" y="92"/>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142120" y="5037120"/>
              <a:ext cx="473400" cy="105120"/>
            </a:xfrm>
            <a:custGeom>
              <a:avLst/>
              <a:gdLst/>
              <a:ahLst/>
              <a:rect l="0" t="0" r="r" b="b"/>
              <a:pathLst>
                <a:path w="1315" h="292">
                  <a:moveTo>
                    <a:pt x="0" y="159"/>
                  </a:moveTo>
                  <a:lnTo>
                    <a:pt x="216" y="203"/>
                  </a:lnTo>
                  <a:lnTo>
                    <a:pt x="467" y="225"/>
                  </a:lnTo>
                  <a:lnTo>
                    <a:pt x="763" y="203"/>
                  </a:lnTo>
                  <a:lnTo>
                    <a:pt x="957" y="159"/>
                  </a:lnTo>
                  <a:lnTo>
                    <a:pt x="1112" y="114"/>
                  </a:lnTo>
                  <a:lnTo>
                    <a:pt x="1213" y="66"/>
                  </a:lnTo>
                  <a:lnTo>
                    <a:pt x="1315" y="0"/>
                  </a:lnTo>
                  <a:lnTo>
                    <a:pt x="1099" y="292"/>
                  </a:lnTo>
                  <a:lnTo>
                    <a:pt x="1196" y="92"/>
                  </a:lnTo>
                  <a:lnTo>
                    <a:pt x="1006" y="181"/>
                  </a:lnTo>
                  <a:lnTo>
                    <a:pt x="737" y="247"/>
                  </a:lnTo>
                  <a:lnTo>
                    <a:pt x="467" y="274"/>
                  </a:lnTo>
                  <a:lnTo>
                    <a:pt x="216" y="225"/>
                  </a:lnTo>
                  <a:lnTo>
                    <a:pt x="0"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128080" y="5168880"/>
              <a:ext cx="541800" cy="314640"/>
            </a:xfrm>
            <a:custGeom>
              <a:avLst/>
              <a:gdLst/>
              <a:ahLst/>
              <a:rect l="0" t="0" r="r" b="b"/>
              <a:pathLst>
                <a:path w="1505" h="874">
                  <a:moveTo>
                    <a:pt x="1430" y="114"/>
                  </a:moveTo>
                  <a:lnTo>
                    <a:pt x="1457" y="348"/>
                  </a:lnTo>
                  <a:lnTo>
                    <a:pt x="1505" y="658"/>
                  </a:lnTo>
                  <a:lnTo>
                    <a:pt x="1254" y="755"/>
                  </a:lnTo>
                  <a:lnTo>
                    <a:pt x="1236" y="874"/>
                  </a:lnTo>
                  <a:lnTo>
                    <a:pt x="1223" y="852"/>
                  </a:lnTo>
                  <a:lnTo>
                    <a:pt x="1223" y="418"/>
                  </a:lnTo>
                  <a:lnTo>
                    <a:pt x="0" y="418"/>
                  </a:lnTo>
                  <a:lnTo>
                    <a:pt x="0" y="348"/>
                  </a:lnTo>
                  <a:lnTo>
                    <a:pt x="1236" y="326"/>
                  </a:lnTo>
                  <a:lnTo>
                    <a:pt x="1139" y="282"/>
                  </a:lnTo>
                  <a:lnTo>
                    <a:pt x="1373" y="224"/>
                  </a:lnTo>
                  <a:lnTo>
                    <a:pt x="1210" y="224"/>
                  </a:lnTo>
                  <a:lnTo>
                    <a:pt x="1355" y="136"/>
                  </a:lnTo>
                  <a:lnTo>
                    <a:pt x="1152" y="136"/>
                  </a:lnTo>
                  <a:lnTo>
                    <a:pt x="1298" y="0"/>
                  </a:lnTo>
                  <a:lnTo>
                    <a:pt x="143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8112240" y="5110200"/>
              <a:ext cx="519480" cy="82800"/>
            </a:xfrm>
            <a:custGeom>
              <a:avLst/>
              <a:gdLst/>
              <a:ahLst/>
              <a:rect l="0" t="0" r="r" b="b"/>
              <a:pathLst>
                <a:path w="1443" h="230">
                  <a:moveTo>
                    <a:pt x="70" y="70"/>
                  </a:moveTo>
                  <a:lnTo>
                    <a:pt x="538" y="114"/>
                  </a:lnTo>
                  <a:lnTo>
                    <a:pt x="878" y="114"/>
                  </a:lnTo>
                  <a:lnTo>
                    <a:pt x="1117" y="92"/>
                  </a:lnTo>
                  <a:lnTo>
                    <a:pt x="1355" y="22"/>
                  </a:lnTo>
                  <a:lnTo>
                    <a:pt x="1443" y="0"/>
                  </a:lnTo>
                  <a:lnTo>
                    <a:pt x="1355" y="70"/>
                  </a:lnTo>
                  <a:lnTo>
                    <a:pt x="1041" y="137"/>
                  </a:lnTo>
                  <a:lnTo>
                    <a:pt x="631" y="164"/>
                  </a:lnTo>
                  <a:lnTo>
                    <a:pt x="1294" y="164"/>
                  </a:lnTo>
                  <a:lnTo>
                    <a:pt x="684" y="208"/>
                  </a:lnTo>
                  <a:lnTo>
                    <a:pt x="299" y="208"/>
                  </a:lnTo>
                  <a:lnTo>
                    <a:pt x="0" y="230"/>
                  </a:lnTo>
                  <a:lnTo>
                    <a:pt x="464" y="164"/>
                  </a:lnTo>
                  <a:lnTo>
                    <a:pt x="70"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2" name=""/>
            <p:cNvSpPr/>
            <p:nvPr/>
          </p:nvSpPr>
          <p:spPr>
            <a:xfrm>
              <a:off x="8101080" y="5118120"/>
              <a:ext cx="20880" cy="209880"/>
            </a:xfrm>
            <a:custGeom>
              <a:avLst/>
              <a:gdLst/>
              <a:ahLst/>
              <a:rect l="0" t="0" r="r" b="b"/>
              <a:pathLst>
                <a:path w="58" h="583">
                  <a:moveTo>
                    <a:pt x="58" y="0"/>
                  </a:moveTo>
                  <a:lnTo>
                    <a:pt x="58" y="583"/>
                  </a:lnTo>
                  <a:lnTo>
                    <a:pt x="0" y="583"/>
                  </a:lnTo>
                  <a:lnTo>
                    <a:pt x="0" y="141"/>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7947000" y="5159520"/>
              <a:ext cx="514800" cy="1011600"/>
            </a:xfrm>
            <a:custGeom>
              <a:avLst/>
              <a:gdLst/>
              <a:ahLst/>
              <a:rect l="0" t="0" r="r" b="b"/>
              <a:pathLst>
                <a:path w="1430" h="2810">
                  <a:moveTo>
                    <a:pt x="299" y="48"/>
                  </a:moveTo>
                  <a:lnTo>
                    <a:pt x="207" y="202"/>
                  </a:lnTo>
                  <a:lnTo>
                    <a:pt x="207" y="326"/>
                  </a:lnTo>
                  <a:lnTo>
                    <a:pt x="233" y="440"/>
                  </a:lnTo>
                  <a:lnTo>
                    <a:pt x="343" y="529"/>
                  </a:lnTo>
                  <a:lnTo>
                    <a:pt x="556" y="639"/>
                  </a:lnTo>
                  <a:lnTo>
                    <a:pt x="759" y="733"/>
                  </a:lnTo>
                  <a:lnTo>
                    <a:pt x="922" y="834"/>
                  </a:lnTo>
                  <a:lnTo>
                    <a:pt x="1063" y="993"/>
                  </a:lnTo>
                  <a:lnTo>
                    <a:pt x="1144" y="1178"/>
                  </a:lnTo>
                  <a:lnTo>
                    <a:pt x="1161" y="1337"/>
                  </a:lnTo>
                  <a:lnTo>
                    <a:pt x="1126" y="1562"/>
                  </a:lnTo>
                  <a:lnTo>
                    <a:pt x="1024" y="1795"/>
                  </a:lnTo>
                  <a:lnTo>
                    <a:pt x="940" y="1936"/>
                  </a:lnTo>
                  <a:lnTo>
                    <a:pt x="790" y="2073"/>
                  </a:lnTo>
                  <a:lnTo>
                    <a:pt x="605" y="2184"/>
                  </a:lnTo>
                  <a:lnTo>
                    <a:pt x="459" y="2277"/>
                  </a:lnTo>
                  <a:lnTo>
                    <a:pt x="317" y="2352"/>
                  </a:lnTo>
                  <a:lnTo>
                    <a:pt x="189" y="2440"/>
                  </a:lnTo>
                  <a:lnTo>
                    <a:pt x="97" y="2559"/>
                  </a:lnTo>
                  <a:lnTo>
                    <a:pt x="83" y="2647"/>
                  </a:lnTo>
                  <a:lnTo>
                    <a:pt x="145" y="2696"/>
                  </a:lnTo>
                  <a:lnTo>
                    <a:pt x="233" y="2669"/>
                  </a:lnTo>
                  <a:lnTo>
                    <a:pt x="317" y="2630"/>
                  </a:lnTo>
                  <a:lnTo>
                    <a:pt x="375" y="2630"/>
                  </a:lnTo>
                  <a:lnTo>
                    <a:pt x="343" y="2440"/>
                  </a:lnTo>
                  <a:lnTo>
                    <a:pt x="1355" y="2440"/>
                  </a:lnTo>
                  <a:lnTo>
                    <a:pt x="1355" y="2718"/>
                  </a:lnTo>
                  <a:lnTo>
                    <a:pt x="1430" y="2762"/>
                  </a:lnTo>
                  <a:lnTo>
                    <a:pt x="1399" y="2810"/>
                  </a:lnTo>
                  <a:lnTo>
                    <a:pt x="330" y="2810"/>
                  </a:lnTo>
                  <a:lnTo>
                    <a:pt x="397" y="2740"/>
                  </a:lnTo>
                  <a:lnTo>
                    <a:pt x="1324" y="2718"/>
                  </a:lnTo>
                  <a:lnTo>
                    <a:pt x="1324" y="2669"/>
                  </a:lnTo>
                  <a:lnTo>
                    <a:pt x="375" y="2669"/>
                  </a:lnTo>
                  <a:lnTo>
                    <a:pt x="286" y="2696"/>
                  </a:lnTo>
                  <a:lnTo>
                    <a:pt x="158" y="2740"/>
                  </a:lnTo>
                  <a:lnTo>
                    <a:pt x="97" y="2762"/>
                  </a:lnTo>
                  <a:lnTo>
                    <a:pt x="26" y="2718"/>
                  </a:lnTo>
                  <a:lnTo>
                    <a:pt x="0" y="2669"/>
                  </a:lnTo>
                  <a:lnTo>
                    <a:pt x="8" y="2581"/>
                  </a:lnTo>
                  <a:lnTo>
                    <a:pt x="57" y="2511"/>
                  </a:lnTo>
                  <a:lnTo>
                    <a:pt x="97" y="2533"/>
                  </a:lnTo>
                  <a:lnTo>
                    <a:pt x="220" y="2396"/>
                  </a:lnTo>
                  <a:lnTo>
                    <a:pt x="330" y="2321"/>
                  </a:lnTo>
                  <a:lnTo>
                    <a:pt x="317" y="2277"/>
                  </a:lnTo>
                  <a:lnTo>
                    <a:pt x="158" y="2374"/>
                  </a:lnTo>
                  <a:lnTo>
                    <a:pt x="343" y="2228"/>
                  </a:lnTo>
                  <a:lnTo>
                    <a:pt x="591" y="2114"/>
                  </a:lnTo>
                  <a:lnTo>
                    <a:pt x="807" y="1963"/>
                  </a:lnTo>
                  <a:lnTo>
                    <a:pt x="984" y="1725"/>
                  </a:lnTo>
                  <a:lnTo>
                    <a:pt x="922" y="1848"/>
                  </a:lnTo>
                  <a:lnTo>
                    <a:pt x="971" y="1848"/>
                  </a:lnTo>
                  <a:lnTo>
                    <a:pt x="1113" y="1544"/>
                  </a:lnTo>
                  <a:lnTo>
                    <a:pt x="1113" y="1359"/>
                  </a:lnTo>
                  <a:lnTo>
                    <a:pt x="1082" y="1337"/>
                  </a:lnTo>
                  <a:lnTo>
                    <a:pt x="1037" y="1544"/>
                  </a:lnTo>
                  <a:lnTo>
                    <a:pt x="1063" y="1266"/>
                  </a:lnTo>
                  <a:lnTo>
                    <a:pt x="1037" y="1134"/>
                  </a:lnTo>
                  <a:lnTo>
                    <a:pt x="997" y="1015"/>
                  </a:lnTo>
                  <a:lnTo>
                    <a:pt x="909" y="927"/>
                  </a:lnTo>
                  <a:lnTo>
                    <a:pt x="759" y="856"/>
                  </a:lnTo>
                  <a:lnTo>
                    <a:pt x="384" y="683"/>
                  </a:lnTo>
                  <a:lnTo>
                    <a:pt x="715" y="834"/>
                  </a:lnTo>
                  <a:lnTo>
                    <a:pt x="666" y="733"/>
                  </a:lnTo>
                  <a:lnTo>
                    <a:pt x="317" y="529"/>
                  </a:lnTo>
                  <a:lnTo>
                    <a:pt x="299" y="595"/>
                  </a:lnTo>
                  <a:lnTo>
                    <a:pt x="330" y="639"/>
                  </a:lnTo>
                  <a:lnTo>
                    <a:pt x="233" y="511"/>
                  </a:lnTo>
                  <a:lnTo>
                    <a:pt x="189" y="374"/>
                  </a:lnTo>
                  <a:lnTo>
                    <a:pt x="176" y="229"/>
                  </a:lnTo>
                  <a:lnTo>
                    <a:pt x="220" y="92"/>
                  </a:lnTo>
                  <a:lnTo>
                    <a:pt x="299" y="0"/>
                  </a:lnTo>
                  <a:lnTo>
                    <a:pt x="299"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7956720" y="5475240"/>
              <a:ext cx="359280" cy="503640"/>
            </a:xfrm>
            <a:custGeom>
              <a:avLst/>
              <a:gdLst/>
              <a:ahLst/>
              <a:rect l="0" t="0" r="r" b="b"/>
              <a:pathLst>
                <a:path w="998" h="1399">
                  <a:moveTo>
                    <a:pt x="0" y="0"/>
                  </a:moveTo>
                  <a:lnTo>
                    <a:pt x="688" y="0"/>
                  </a:lnTo>
                  <a:lnTo>
                    <a:pt x="914" y="114"/>
                  </a:lnTo>
                  <a:lnTo>
                    <a:pt x="998" y="268"/>
                  </a:lnTo>
                  <a:lnTo>
                    <a:pt x="958" y="299"/>
                  </a:lnTo>
                  <a:lnTo>
                    <a:pt x="914" y="552"/>
                  </a:lnTo>
                  <a:lnTo>
                    <a:pt x="897" y="803"/>
                  </a:lnTo>
                  <a:lnTo>
                    <a:pt x="870" y="1015"/>
                  </a:lnTo>
                  <a:lnTo>
                    <a:pt x="853" y="847"/>
                  </a:lnTo>
                  <a:lnTo>
                    <a:pt x="870" y="618"/>
                  </a:lnTo>
                  <a:lnTo>
                    <a:pt x="883" y="433"/>
                  </a:lnTo>
                  <a:lnTo>
                    <a:pt x="897" y="299"/>
                  </a:lnTo>
                  <a:lnTo>
                    <a:pt x="897" y="229"/>
                  </a:lnTo>
                  <a:lnTo>
                    <a:pt x="839" y="185"/>
                  </a:lnTo>
                  <a:lnTo>
                    <a:pt x="808" y="255"/>
                  </a:lnTo>
                  <a:lnTo>
                    <a:pt x="782" y="600"/>
                  </a:lnTo>
                  <a:lnTo>
                    <a:pt x="782" y="1060"/>
                  </a:lnTo>
                  <a:lnTo>
                    <a:pt x="782" y="321"/>
                  </a:lnTo>
                  <a:lnTo>
                    <a:pt x="530" y="343"/>
                  </a:lnTo>
                  <a:lnTo>
                    <a:pt x="503" y="481"/>
                  </a:lnTo>
                  <a:lnTo>
                    <a:pt x="490" y="847"/>
                  </a:lnTo>
                  <a:lnTo>
                    <a:pt x="477" y="1258"/>
                  </a:lnTo>
                  <a:lnTo>
                    <a:pt x="464" y="600"/>
                  </a:lnTo>
                  <a:lnTo>
                    <a:pt x="464" y="343"/>
                  </a:lnTo>
                  <a:lnTo>
                    <a:pt x="477" y="229"/>
                  </a:lnTo>
                  <a:lnTo>
                    <a:pt x="415" y="185"/>
                  </a:lnTo>
                  <a:lnTo>
                    <a:pt x="371" y="229"/>
                  </a:lnTo>
                  <a:lnTo>
                    <a:pt x="371" y="321"/>
                  </a:lnTo>
                  <a:lnTo>
                    <a:pt x="402" y="1197"/>
                  </a:lnTo>
                  <a:lnTo>
                    <a:pt x="331" y="343"/>
                  </a:lnTo>
                  <a:lnTo>
                    <a:pt x="261" y="343"/>
                  </a:lnTo>
                  <a:lnTo>
                    <a:pt x="189" y="367"/>
                  </a:lnTo>
                  <a:lnTo>
                    <a:pt x="163" y="393"/>
                  </a:lnTo>
                  <a:lnTo>
                    <a:pt x="149" y="1399"/>
                  </a:lnTo>
                  <a:lnTo>
                    <a:pt x="119" y="1399"/>
                  </a:lnTo>
                  <a:lnTo>
                    <a:pt x="88" y="11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8300880" y="5467320"/>
              <a:ext cx="271800" cy="527400"/>
            </a:xfrm>
            <a:custGeom>
              <a:avLst/>
              <a:gdLst/>
              <a:ahLst/>
              <a:rect l="0" t="0" r="r" b="b"/>
              <a:pathLst>
                <a:path w="755" h="1465">
                  <a:moveTo>
                    <a:pt x="0" y="0"/>
                  </a:moveTo>
                  <a:lnTo>
                    <a:pt x="755" y="0"/>
                  </a:lnTo>
                  <a:lnTo>
                    <a:pt x="728" y="88"/>
                  </a:lnTo>
                  <a:lnTo>
                    <a:pt x="578" y="158"/>
                  </a:lnTo>
                  <a:lnTo>
                    <a:pt x="534" y="1465"/>
                  </a:lnTo>
                  <a:lnTo>
                    <a:pt x="534" y="388"/>
                  </a:lnTo>
                  <a:lnTo>
                    <a:pt x="477" y="361"/>
                  </a:lnTo>
                  <a:lnTo>
                    <a:pt x="384" y="388"/>
                  </a:lnTo>
                  <a:lnTo>
                    <a:pt x="308" y="993"/>
                  </a:lnTo>
                  <a:lnTo>
                    <a:pt x="251" y="1398"/>
                  </a:lnTo>
                  <a:lnTo>
                    <a:pt x="326" y="202"/>
                  </a:lnTo>
                  <a:lnTo>
                    <a:pt x="295" y="158"/>
                  </a:lnTo>
                  <a:lnTo>
                    <a:pt x="233" y="202"/>
                  </a:lnTo>
                  <a:lnTo>
                    <a:pt x="194" y="1328"/>
                  </a:lnTo>
                  <a:lnTo>
                    <a:pt x="176" y="317"/>
                  </a:lnTo>
                  <a:lnTo>
                    <a:pt x="110" y="13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7977240" y="5357880"/>
              <a:ext cx="54360" cy="82800"/>
            </a:xfrm>
            <a:custGeom>
              <a:avLst/>
              <a:gdLst/>
              <a:ahLst/>
              <a:rect l="0" t="0" r="r" b="b"/>
              <a:pathLst>
                <a:path w="151" h="230">
                  <a:moveTo>
                    <a:pt x="0" y="230"/>
                  </a:moveTo>
                  <a:lnTo>
                    <a:pt x="0" y="0"/>
                  </a:lnTo>
                  <a:lnTo>
                    <a:pt x="151" y="0"/>
                  </a:lnTo>
                  <a:lnTo>
                    <a:pt x="45" y="44"/>
                  </a:lnTo>
                  <a:lnTo>
                    <a:pt x="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7" name=""/>
            <p:cNvSpPr/>
            <p:nvPr/>
          </p:nvSpPr>
          <p:spPr>
            <a:xfrm>
              <a:off x="8132760" y="5349960"/>
              <a:ext cx="398880" cy="81360"/>
            </a:xfrm>
            <a:custGeom>
              <a:avLst/>
              <a:gdLst/>
              <a:ahLst/>
              <a:rect l="0" t="0" r="r" b="b"/>
              <a:pathLst>
                <a:path w="1108" h="226">
                  <a:moveTo>
                    <a:pt x="0" y="0"/>
                  </a:moveTo>
                  <a:lnTo>
                    <a:pt x="1108" y="0"/>
                  </a:lnTo>
                  <a:lnTo>
                    <a:pt x="1108" y="226"/>
                  </a:lnTo>
                  <a:lnTo>
                    <a:pt x="1077" y="44"/>
                  </a:lnTo>
                  <a:lnTo>
                    <a:pt x="26" y="44"/>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08" name=""/>
            <p:cNvSpPr/>
            <p:nvPr/>
          </p:nvSpPr>
          <p:spPr>
            <a:xfrm>
              <a:off x="8454960" y="6031080"/>
              <a:ext cx="38520" cy="24120"/>
            </a:xfrm>
            <a:custGeom>
              <a:avLst/>
              <a:gdLst/>
              <a:ahLst/>
              <a:rect l="0" t="0" r="r" b="b"/>
              <a:pathLst>
                <a:path w="107" h="67">
                  <a:moveTo>
                    <a:pt x="17" y="0"/>
                  </a:moveTo>
                  <a:lnTo>
                    <a:pt x="107" y="0"/>
                  </a:lnTo>
                  <a:lnTo>
                    <a:pt x="107" y="67"/>
                  </a:lnTo>
                  <a:lnTo>
                    <a:pt x="0" y="67"/>
                  </a:lnTo>
                  <a:lnTo>
                    <a:pt x="1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09" name=""/>
            <p:cNvSpPr/>
            <p:nvPr/>
          </p:nvSpPr>
          <p:spPr>
            <a:xfrm>
              <a:off x="8486640" y="5952960"/>
              <a:ext cx="505080" cy="184680"/>
            </a:xfrm>
            <a:custGeom>
              <a:avLst/>
              <a:gdLst/>
              <a:ahLst/>
              <a:rect l="0" t="0" r="r" b="b"/>
              <a:pathLst>
                <a:path w="1403" h="513">
                  <a:moveTo>
                    <a:pt x="17" y="353"/>
                  </a:moveTo>
                  <a:lnTo>
                    <a:pt x="233" y="375"/>
                  </a:lnTo>
                  <a:lnTo>
                    <a:pt x="401" y="327"/>
                  </a:lnTo>
                  <a:lnTo>
                    <a:pt x="537" y="234"/>
                  </a:lnTo>
                  <a:lnTo>
                    <a:pt x="612" y="168"/>
                  </a:lnTo>
                  <a:lnTo>
                    <a:pt x="643" y="114"/>
                  </a:lnTo>
                  <a:lnTo>
                    <a:pt x="599" y="92"/>
                  </a:lnTo>
                  <a:lnTo>
                    <a:pt x="643" y="70"/>
                  </a:lnTo>
                  <a:lnTo>
                    <a:pt x="777" y="92"/>
                  </a:lnTo>
                  <a:lnTo>
                    <a:pt x="1002" y="70"/>
                  </a:lnTo>
                  <a:lnTo>
                    <a:pt x="1191" y="48"/>
                  </a:lnTo>
                  <a:lnTo>
                    <a:pt x="1284" y="22"/>
                  </a:lnTo>
                  <a:lnTo>
                    <a:pt x="1354" y="0"/>
                  </a:lnTo>
                  <a:lnTo>
                    <a:pt x="1403" y="0"/>
                  </a:lnTo>
                  <a:lnTo>
                    <a:pt x="1354" y="114"/>
                  </a:lnTo>
                  <a:lnTo>
                    <a:pt x="1240" y="234"/>
                  </a:lnTo>
                  <a:lnTo>
                    <a:pt x="1151" y="305"/>
                  </a:lnTo>
                  <a:lnTo>
                    <a:pt x="1341" y="353"/>
                  </a:lnTo>
                  <a:lnTo>
                    <a:pt x="1284" y="398"/>
                  </a:lnTo>
                  <a:lnTo>
                    <a:pt x="1178" y="398"/>
                  </a:lnTo>
                  <a:lnTo>
                    <a:pt x="1103" y="442"/>
                  </a:lnTo>
                  <a:lnTo>
                    <a:pt x="816" y="465"/>
                  </a:lnTo>
                  <a:lnTo>
                    <a:pt x="489" y="513"/>
                  </a:lnTo>
                  <a:lnTo>
                    <a:pt x="414" y="513"/>
                  </a:lnTo>
                  <a:lnTo>
                    <a:pt x="0" y="375"/>
                  </a:lnTo>
                  <a:lnTo>
                    <a:pt x="445" y="465"/>
                  </a:lnTo>
                  <a:lnTo>
                    <a:pt x="750" y="398"/>
                  </a:lnTo>
                  <a:lnTo>
                    <a:pt x="949" y="327"/>
                  </a:lnTo>
                  <a:lnTo>
                    <a:pt x="1121" y="234"/>
                  </a:lnTo>
                  <a:lnTo>
                    <a:pt x="1240" y="146"/>
                  </a:lnTo>
                  <a:lnTo>
                    <a:pt x="1284" y="70"/>
                  </a:lnTo>
                  <a:lnTo>
                    <a:pt x="1090" y="114"/>
                  </a:lnTo>
                  <a:lnTo>
                    <a:pt x="843" y="146"/>
                  </a:lnTo>
                  <a:lnTo>
                    <a:pt x="643" y="146"/>
                  </a:lnTo>
                  <a:lnTo>
                    <a:pt x="537" y="217"/>
                  </a:lnTo>
                  <a:lnTo>
                    <a:pt x="339" y="353"/>
                  </a:lnTo>
                  <a:lnTo>
                    <a:pt x="17"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7435800" y="5978520"/>
              <a:ext cx="514800" cy="192600"/>
            </a:xfrm>
            <a:custGeom>
              <a:avLst/>
              <a:gdLst/>
              <a:ahLst/>
              <a:rect l="0" t="0" r="r" b="b"/>
              <a:pathLst>
                <a:path w="1430" h="535">
                  <a:moveTo>
                    <a:pt x="1430" y="44"/>
                  </a:moveTo>
                  <a:lnTo>
                    <a:pt x="1373" y="186"/>
                  </a:lnTo>
                  <a:lnTo>
                    <a:pt x="1386" y="212"/>
                  </a:lnTo>
                  <a:lnTo>
                    <a:pt x="1316" y="371"/>
                  </a:lnTo>
                  <a:lnTo>
                    <a:pt x="1241" y="393"/>
                  </a:lnTo>
                  <a:lnTo>
                    <a:pt x="1223" y="442"/>
                  </a:lnTo>
                  <a:lnTo>
                    <a:pt x="552" y="513"/>
                  </a:lnTo>
                  <a:lnTo>
                    <a:pt x="596" y="535"/>
                  </a:lnTo>
                  <a:lnTo>
                    <a:pt x="380" y="513"/>
                  </a:lnTo>
                  <a:lnTo>
                    <a:pt x="119" y="535"/>
                  </a:lnTo>
                  <a:lnTo>
                    <a:pt x="189" y="420"/>
                  </a:lnTo>
                  <a:lnTo>
                    <a:pt x="0" y="256"/>
                  </a:lnTo>
                  <a:lnTo>
                    <a:pt x="534" y="0"/>
                  </a:lnTo>
                  <a:lnTo>
                    <a:pt x="44" y="256"/>
                  </a:lnTo>
                  <a:lnTo>
                    <a:pt x="268" y="393"/>
                  </a:lnTo>
                  <a:lnTo>
                    <a:pt x="450" y="420"/>
                  </a:lnTo>
                  <a:lnTo>
                    <a:pt x="437" y="371"/>
                  </a:lnTo>
                  <a:lnTo>
                    <a:pt x="552" y="420"/>
                  </a:lnTo>
                  <a:lnTo>
                    <a:pt x="971" y="393"/>
                  </a:lnTo>
                  <a:lnTo>
                    <a:pt x="759" y="283"/>
                  </a:lnTo>
                  <a:lnTo>
                    <a:pt x="1091" y="371"/>
                  </a:lnTo>
                  <a:lnTo>
                    <a:pt x="1223" y="353"/>
                  </a:lnTo>
                  <a:lnTo>
                    <a:pt x="1302" y="283"/>
                  </a:lnTo>
                  <a:lnTo>
                    <a:pt x="1373" y="119"/>
                  </a:lnTo>
                  <a:lnTo>
                    <a:pt x="1091" y="212"/>
                  </a:lnTo>
                  <a:lnTo>
                    <a:pt x="882" y="212"/>
                  </a:lnTo>
                  <a:lnTo>
                    <a:pt x="759" y="212"/>
                  </a:lnTo>
                  <a:lnTo>
                    <a:pt x="1135" y="164"/>
                  </a:lnTo>
                  <a:lnTo>
                    <a:pt x="143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7604280" y="5970600"/>
              <a:ext cx="89280" cy="92520"/>
            </a:xfrm>
            <a:custGeom>
              <a:avLst/>
              <a:gdLst/>
              <a:ahLst/>
              <a:rect l="0" t="0" r="r" b="b"/>
              <a:pathLst>
                <a:path w="248" h="257">
                  <a:moveTo>
                    <a:pt x="0" y="0"/>
                  </a:moveTo>
                  <a:lnTo>
                    <a:pt x="248" y="257"/>
                  </a:lnTo>
                  <a:lnTo>
                    <a:pt x="71" y="22"/>
                  </a:lnTo>
                  <a:lnTo>
                    <a:pt x="0"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2" name=""/>
            <p:cNvSpPr/>
            <p:nvPr/>
          </p:nvSpPr>
          <p:spPr>
            <a:xfrm>
              <a:off x="8032680" y="5205240"/>
              <a:ext cx="54360" cy="38520"/>
            </a:xfrm>
            <a:custGeom>
              <a:avLst/>
              <a:gdLst/>
              <a:ahLst/>
              <a:rect l="0" t="0" r="r" b="b"/>
              <a:pathLst>
                <a:path w="151" h="107">
                  <a:moveTo>
                    <a:pt x="0" y="107"/>
                  </a:moveTo>
                  <a:lnTo>
                    <a:pt x="89" y="90"/>
                  </a:lnTo>
                  <a:lnTo>
                    <a:pt x="151" y="90"/>
                  </a:lnTo>
                  <a:lnTo>
                    <a:pt x="143" y="0"/>
                  </a:lnTo>
                  <a:lnTo>
                    <a:pt x="121" y="58"/>
                  </a:lnTo>
                  <a:lnTo>
                    <a:pt x="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13" name=""/>
            <p:cNvSpPr/>
            <p:nvPr/>
          </p:nvSpPr>
          <p:spPr>
            <a:xfrm>
              <a:off x="8124840" y="5202360"/>
              <a:ext cx="417960" cy="24120"/>
            </a:xfrm>
            <a:custGeom>
              <a:avLst/>
              <a:gdLst/>
              <a:ahLst/>
              <a:rect l="0" t="0" r="r" b="b"/>
              <a:pathLst>
                <a:path w="1161" h="67">
                  <a:moveTo>
                    <a:pt x="0" y="67"/>
                  </a:moveTo>
                  <a:lnTo>
                    <a:pt x="380" y="36"/>
                  </a:lnTo>
                  <a:lnTo>
                    <a:pt x="631" y="49"/>
                  </a:lnTo>
                  <a:lnTo>
                    <a:pt x="1139" y="49"/>
                  </a:lnTo>
                  <a:lnTo>
                    <a:pt x="1161" y="0"/>
                  </a:lnTo>
                  <a:lnTo>
                    <a:pt x="327" y="22"/>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14" name=""/>
            <p:cNvSpPr/>
            <p:nvPr/>
          </p:nvSpPr>
          <p:spPr>
            <a:xfrm>
              <a:off x="8169120" y="5243400"/>
              <a:ext cx="379800" cy="22680"/>
            </a:xfrm>
            <a:custGeom>
              <a:avLst/>
              <a:gdLst/>
              <a:ahLst/>
              <a:rect l="0" t="0" r="r" b="b"/>
              <a:pathLst>
                <a:path w="1055" h="63">
                  <a:moveTo>
                    <a:pt x="0" y="13"/>
                  </a:moveTo>
                  <a:lnTo>
                    <a:pt x="402" y="31"/>
                  </a:lnTo>
                  <a:lnTo>
                    <a:pt x="785" y="63"/>
                  </a:lnTo>
                  <a:lnTo>
                    <a:pt x="1055" y="18"/>
                  </a:lnTo>
                  <a:lnTo>
                    <a:pt x="857" y="13"/>
                  </a:lnTo>
                  <a:lnTo>
                    <a:pt x="627" y="18"/>
                  </a:lnTo>
                  <a:lnTo>
                    <a:pt x="163" y="0"/>
                  </a:lnTo>
                  <a:lnTo>
                    <a:pt x="0"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5" name=""/>
            <p:cNvSpPr/>
            <p:nvPr/>
          </p:nvSpPr>
          <p:spPr>
            <a:xfrm>
              <a:off x="8031240" y="5265720"/>
              <a:ext cx="55800" cy="14760"/>
            </a:xfrm>
            <a:custGeom>
              <a:avLst/>
              <a:gdLst/>
              <a:ahLst/>
              <a:rect l="0" t="0" r="r" b="b"/>
              <a:pathLst>
                <a:path w="155" h="41">
                  <a:moveTo>
                    <a:pt x="0" y="41"/>
                  </a:moveTo>
                  <a:lnTo>
                    <a:pt x="155" y="0"/>
                  </a:lnTo>
                  <a:lnTo>
                    <a:pt x="155" y="32"/>
                  </a:lnTo>
                  <a:lnTo>
                    <a:pt x="0"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16" name=""/>
            <p:cNvSpPr/>
            <p:nvPr/>
          </p:nvSpPr>
          <p:spPr>
            <a:xfrm>
              <a:off x="8264520" y="3970440"/>
              <a:ext cx="356040" cy="495720"/>
            </a:xfrm>
            <a:custGeom>
              <a:avLst/>
              <a:gdLst/>
              <a:ahLst/>
              <a:rect l="0" t="0" r="r" b="b"/>
              <a:pathLst>
                <a:path w="989" h="1377">
                  <a:moveTo>
                    <a:pt x="826" y="428"/>
                  </a:moveTo>
                  <a:lnTo>
                    <a:pt x="719" y="468"/>
                  </a:lnTo>
                  <a:lnTo>
                    <a:pt x="596" y="481"/>
                  </a:lnTo>
                  <a:lnTo>
                    <a:pt x="472" y="446"/>
                  </a:lnTo>
                  <a:lnTo>
                    <a:pt x="402" y="411"/>
                  </a:lnTo>
                  <a:lnTo>
                    <a:pt x="415" y="375"/>
                  </a:lnTo>
                  <a:lnTo>
                    <a:pt x="322" y="339"/>
                  </a:lnTo>
                  <a:lnTo>
                    <a:pt x="224" y="233"/>
                  </a:lnTo>
                  <a:lnTo>
                    <a:pt x="176" y="127"/>
                  </a:lnTo>
                  <a:lnTo>
                    <a:pt x="154" y="22"/>
                  </a:lnTo>
                  <a:lnTo>
                    <a:pt x="119" y="0"/>
                  </a:lnTo>
                  <a:lnTo>
                    <a:pt x="154" y="163"/>
                  </a:lnTo>
                  <a:lnTo>
                    <a:pt x="211" y="251"/>
                  </a:lnTo>
                  <a:lnTo>
                    <a:pt x="309" y="375"/>
                  </a:lnTo>
                  <a:lnTo>
                    <a:pt x="189" y="268"/>
                  </a:lnTo>
                  <a:lnTo>
                    <a:pt x="136" y="163"/>
                  </a:lnTo>
                  <a:lnTo>
                    <a:pt x="105" y="74"/>
                  </a:lnTo>
                  <a:lnTo>
                    <a:pt x="57" y="74"/>
                  </a:lnTo>
                  <a:lnTo>
                    <a:pt x="127" y="198"/>
                  </a:lnTo>
                  <a:lnTo>
                    <a:pt x="202" y="308"/>
                  </a:lnTo>
                  <a:lnTo>
                    <a:pt x="300" y="411"/>
                  </a:lnTo>
                  <a:lnTo>
                    <a:pt x="176" y="358"/>
                  </a:lnTo>
                  <a:lnTo>
                    <a:pt x="83" y="251"/>
                  </a:lnTo>
                  <a:lnTo>
                    <a:pt x="44" y="180"/>
                  </a:lnTo>
                  <a:lnTo>
                    <a:pt x="35" y="127"/>
                  </a:lnTo>
                  <a:lnTo>
                    <a:pt x="0" y="145"/>
                  </a:lnTo>
                  <a:lnTo>
                    <a:pt x="57" y="251"/>
                  </a:lnTo>
                  <a:lnTo>
                    <a:pt x="136" y="358"/>
                  </a:lnTo>
                  <a:lnTo>
                    <a:pt x="211" y="428"/>
                  </a:lnTo>
                  <a:lnTo>
                    <a:pt x="287" y="446"/>
                  </a:lnTo>
                  <a:lnTo>
                    <a:pt x="322" y="481"/>
                  </a:lnTo>
                  <a:lnTo>
                    <a:pt x="322" y="543"/>
                  </a:lnTo>
                  <a:lnTo>
                    <a:pt x="367" y="596"/>
                  </a:lnTo>
                  <a:lnTo>
                    <a:pt x="459" y="613"/>
                  </a:lnTo>
                  <a:lnTo>
                    <a:pt x="552" y="631"/>
                  </a:lnTo>
                  <a:lnTo>
                    <a:pt x="658" y="613"/>
                  </a:lnTo>
                  <a:lnTo>
                    <a:pt x="764" y="596"/>
                  </a:lnTo>
                  <a:lnTo>
                    <a:pt x="826" y="561"/>
                  </a:lnTo>
                  <a:lnTo>
                    <a:pt x="861" y="649"/>
                  </a:lnTo>
                  <a:lnTo>
                    <a:pt x="875" y="785"/>
                  </a:lnTo>
                  <a:lnTo>
                    <a:pt x="883" y="984"/>
                  </a:lnTo>
                  <a:lnTo>
                    <a:pt x="875" y="1148"/>
                  </a:lnTo>
                  <a:lnTo>
                    <a:pt x="848" y="1236"/>
                  </a:lnTo>
                  <a:lnTo>
                    <a:pt x="848" y="1285"/>
                  </a:lnTo>
                  <a:lnTo>
                    <a:pt x="808" y="1342"/>
                  </a:lnTo>
                  <a:lnTo>
                    <a:pt x="808" y="1377"/>
                  </a:lnTo>
                  <a:lnTo>
                    <a:pt x="883" y="1307"/>
                  </a:lnTo>
                  <a:lnTo>
                    <a:pt x="989" y="1272"/>
                  </a:lnTo>
                  <a:lnTo>
                    <a:pt x="989" y="1249"/>
                  </a:lnTo>
                  <a:lnTo>
                    <a:pt x="919" y="1249"/>
                  </a:lnTo>
                  <a:lnTo>
                    <a:pt x="941" y="1024"/>
                  </a:lnTo>
                  <a:lnTo>
                    <a:pt x="954" y="816"/>
                  </a:lnTo>
                  <a:lnTo>
                    <a:pt x="932" y="785"/>
                  </a:lnTo>
                  <a:lnTo>
                    <a:pt x="919" y="631"/>
                  </a:lnTo>
                  <a:lnTo>
                    <a:pt x="883" y="525"/>
                  </a:lnTo>
                  <a:lnTo>
                    <a:pt x="826"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8337600" y="3962520"/>
              <a:ext cx="22680" cy="86040"/>
            </a:xfrm>
            <a:custGeom>
              <a:avLst/>
              <a:gdLst/>
              <a:ahLst/>
              <a:rect l="0" t="0" r="r" b="b"/>
              <a:pathLst>
                <a:path w="63" h="239">
                  <a:moveTo>
                    <a:pt x="0" y="8"/>
                  </a:moveTo>
                  <a:lnTo>
                    <a:pt x="23" y="120"/>
                  </a:lnTo>
                  <a:lnTo>
                    <a:pt x="63" y="239"/>
                  </a:lnTo>
                  <a:lnTo>
                    <a:pt x="45" y="79"/>
                  </a:lnTo>
                  <a:lnTo>
                    <a:pt x="63" y="0"/>
                  </a:lnTo>
                  <a:lnTo>
                    <a:pt x="0"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8373960" y="3962520"/>
              <a:ext cx="254520" cy="168480"/>
            </a:xfrm>
            <a:custGeom>
              <a:avLst/>
              <a:gdLst/>
              <a:ahLst/>
              <a:rect l="0" t="0" r="r" b="b"/>
              <a:pathLst>
                <a:path w="707" h="468">
                  <a:moveTo>
                    <a:pt x="0" y="57"/>
                  </a:moveTo>
                  <a:lnTo>
                    <a:pt x="203" y="0"/>
                  </a:lnTo>
                  <a:lnTo>
                    <a:pt x="389" y="0"/>
                  </a:lnTo>
                  <a:lnTo>
                    <a:pt x="503" y="8"/>
                  </a:lnTo>
                  <a:lnTo>
                    <a:pt x="619" y="57"/>
                  </a:lnTo>
                  <a:lnTo>
                    <a:pt x="672" y="149"/>
                  </a:lnTo>
                  <a:lnTo>
                    <a:pt x="698" y="239"/>
                  </a:lnTo>
                  <a:lnTo>
                    <a:pt x="707" y="274"/>
                  </a:lnTo>
                  <a:lnTo>
                    <a:pt x="707" y="331"/>
                  </a:lnTo>
                  <a:lnTo>
                    <a:pt x="637" y="415"/>
                  </a:lnTo>
                  <a:lnTo>
                    <a:pt x="548" y="468"/>
                  </a:lnTo>
                  <a:lnTo>
                    <a:pt x="512" y="344"/>
                  </a:lnTo>
                  <a:lnTo>
                    <a:pt x="481" y="292"/>
                  </a:lnTo>
                  <a:lnTo>
                    <a:pt x="419" y="239"/>
                  </a:lnTo>
                  <a:lnTo>
                    <a:pt x="331" y="220"/>
                  </a:lnTo>
                  <a:lnTo>
                    <a:pt x="428" y="239"/>
                  </a:lnTo>
                  <a:lnTo>
                    <a:pt x="503" y="292"/>
                  </a:lnTo>
                  <a:lnTo>
                    <a:pt x="437" y="202"/>
                  </a:lnTo>
                  <a:lnTo>
                    <a:pt x="512" y="274"/>
                  </a:lnTo>
                  <a:lnTo>
                    <a:pt x="562" y="344"/>
                  </a:lnTo>
                  <a:lnTo>
                    <a:pt x="570" y="415"/>
                  </a:lnTo>
                  <a:lnTo>
                    <a:pt x="592" y="362"/>
                  </a:lnTo>
                  <a:lnTo>
                    <a:pt x="562" y="256"/>
                  </a:lnTo>
                  <a:lnTo>
                    <a:pt x="525" y="185"/>
                  </a:lnTo>
                  <a:lnTo>
                    <a:pt x="481" y="136"/>
                  </a:lnTo>
                  <a:lnTo>
                    <a:pt x="512" y="119"/>
                  </a:lnTo>
                  <a:lnTo>
                    <a:pt x="562" y="220"/>
                  </a:lnTo>
                  <a:lnTo>
                    <a:pt x="592" y="274"/>
                  </a:lnTo>
                  <a:lnTo>
                    <a:pt x="619" y="331"/>
                  </a:lnTo>
                  <a:lnTo>
                    <a:pt x="632" y="256"/>
                  </a:lnTo>
                  <a:lnTo>
                    <a:pt x="606" y="185"/>
                  </a:lnTo>
                  <a:lnTo>
                    <a:pt x="548" y="136"/>
                  </a:lnTo>
                  <a:lnTo>
                    <a:pt x="512" y="97"/>
                  </a:lnTo>
                  <a:lnTo>
                    <a:pt x="525" y="79"/>
                  </a:lnTo>
                  <a:lnTo>
                    <a:pt x="450" y="44"/>
                  </a:lnTo>
                  <a:lnTo>
                    <a:pt x="340" y="22"/>
                  </a:lnTo>
                  <a:lnTo>
                    <a:pt x="217" y="22"/>
                  </a:lnTo>
                  <a:lnTo>
                    <a:pt x="97" y="57"/>
                  </a:lnTo>
                  <a:lnTo>
                    <a:pt x="22" y="97"/>
                  </a:lnTo>
                  <a:lnTo>
                    <a:pt x="0"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8312040" y="4087800"/>
              <a:ext cx="405000" cy="714600"/>
            </a:xfrm>
            <a:custGeom>
              <a:avLst/>
              <a:gdLst/>
              <a:ahLst/>
              <a:rect l="0" t="0" r="r" b="b"/>
              <a:pathLst>
                <a:path w="1125" h="1985">
                  <a:moveTo>
                    <a:pt x="891" y="0"/>
                  </a:moveTo>
                  <a:lnTo>
                    <a:pt x="1002" y="88"/>
                  </a:lnTo>
                  <a:lnTo>
                    <a:pt x="1076" y="180"/>
                  </a:lnTo>
                  <a:lnTo>
                    <a:pt x="1112" y="291"/>
                  </a:lnTo>
                  <a:lnTo>
                    <a:pt x="1125" y="410"/>
                  </a:lnTo>
                  <a:lnTo>
                    <a:pt x="1112" y="529"/>
                  </a:lnTo>
                  <a:lnTo>
                    <a:pt x="1054" y="696"/>
                  </a:lnTo>
                  <a:lnTo>
                    <a:pt x="984" y="855"/>
                  </a:lnTo>
                  <a:lnTo>
                    <a:pt x="944" y="943"/>
                  </a:lnTo>
                  <a:lnTo>
                    <a:pt x="922" y="1068"/>
                  </a:lnTo>
                  <a:lnTo>
                    <a:pt x="891" y="1156"/>
                  </a:lnTo>
                  <a:lnTo>
                    <a:pt x="856" y="1244"/>
                  </a:lnTo>
                  <a:lnTo>
                    <a:pt x="834" y="1297"/>
                  </a:lnTo>
                  <a:lnTo>
                    <a:pt x="865" y="1420"/>
                  </a:lnTo>
                  <a:lnTo>
                    <a:pt x="891" y="1579"/>
                  </a:lnTo>
                  <a:lnTo>
                    <a:pt x="891" y="1703"/>
                  </a:lnTo>
                  <a:lnTo>
                    <a:pt x="900" y="1835"/>
                  </a:lnTo>
                  <a:lnTo>
                    <a:pt x="922" y="1941"/>
                  </a:lnTo>
                  <a:lnTo>
                    <a:pt x="957" y="1985"/>
                  </a:lnTo>
                  <a:lnTo>
                    <a:pt x="913" y="1985"/>
                  </a:lnTo>
                  <a:lnTo>
                    <a:pt x="891" y="1906"/>
                  </a:lnTo>
                  <a:lnTo>
                    <a:pt x="856" y="1782"/>
                  </a:lnTo>
                  <a:lnTo>
                    <a:pt x="843" y="1645"/>
                  </a:lnTo>
                  <a:lnTo>
                    <a:pt x="834" y="1800"/>
                  </a:lnTo>
                  <a:lnTo>
                    <a:pt x="843" y="1906"/>
                  </a:lnTo>
                  <a:lnTo>
                    <a:pt x="856" y="1958"/>
                  </a:lnTo>
                  <a:lnTo>
                    <a:pt x="878" y="1985"/>
                  </a:lnTo>
                  <a:lnTo>
                    <a:pt x="843" y="1985"/>
                  </a:lnTo>
                  <a:lnTo>
                    <a:pt x="807" y="1870"/>
                  </a:lnTo>
                  <a:lnTo>
                    <a:pt x="799" y="1985"/>
                  </a:lnTo>
                  <a:lnTo>
                    <a:pt x="733" y="1985"/>
                  </a:lnTo>
                  <a:lnTo>
                    <a:pt x="653" y="1967"/>
                  </a:lnTo>
                  <a:lnTo>
                    <a:pt x="546" y="1941"/>
                  </a:lnTo>
                  <a:lnTo>
                    <a:pt x="467" y="1941"/>
                  </a:lnTo>
                  <a:lnTo>
                    <a:pt x="467" y="1870"/>
                  </a:lnTo>
                  <a:lnTo>
                    <a:pt x="410" y="1853"/>
                  </a:lnTo>
                  <a:lnTo>
                    <a:pt x="330" y="1817"/>
                  </a:lnTo>
                  <a:lnTo>
                    <a:pt x="295" y="1800"/>
                  </a:lnTo>
                  <a:lnTo>
                    <a:pt x="194" y="1853"/>
                  </a:lnTo>
                  <a:lnTo>
                    <a:pt x="97" y="1870"/>
                  </a:lnTo>
                  <a:lnTo>
                    <a:pt x="39" y="1870"/>
                  </a:lnTo>
                  <a:lnTo>
                    <a:pt x="0" y="1835"/>
                  </a:lnTo>
                  <a:lnTo>
                    <a:pt x="83" y="1853"/>
                  </a:lnTo>
                  <a:lnTo>
                    <a:pt x="83" y="1870"/>
                  </a:lnTo>
                  <a:lnTo>
                    <a:pt x="158" y="1853"/>
                  </a:lnTo>
                  <a:lnTo>
                    <a:pt x="238" y="1800"/>
                  </a:lnTo>
                  <a:lnTo>
                    <a:pt x="352" y="1729"/>
                  </a:lnTo>
                  <a:lnTo>
                    <a:pt x="454" y="1614"/>
                  </a:lnTo>
                  <a:lnTo>
                    <a:pt x="524" y="1509"/>
                  </a:lnTo>
                  <a:lnTo>
                    <a:pt x="600" y="1438"/>
                  </a:lnTo>
                  <a:lnTo>
                    <a:pt x="622" y="1385"/>
                  </a:lnTo>
                  <a:lnTo>
                    <a:pt x="640" y="1385"/>
                  </a:lnTo>
                  <a:lnTo>
                    <a:pt x="622" y="1438"/>
                  </a:lnTo>
                  <a:lnTo>
                    <a:pt x="640" y="1473"/>
                  </a:lnTo>
                  <a:lnTo>
                    <a:pt x="684" y="1456"/>
                  </a:lnTo>
                  <a:lnTo>
                    <a:pt x="693" y="1420"/>
                  </a:lnTo>
                  <a:lnTo>
                    <a:pt x="684" y="1385"/>
                  </a:lnTo>
                  <a:lnTo>
                    <a:pt x="675" y="1368"/>
                  </a:lnTo>
                  <a:lnTo>
                    <a:pt x="750" y="1350"/>
                  </a:lnTo>
                  <a:lnTo>
                    <a:pt x="807" y="1279"/>
                  </a:lnTo>
                  <a:lnTo>
                    <a:pt x="843" y="1204"/>
                  </a:lnTo>
                  <a:lnTo>
                    <a:pt x="878" y="1121"/>
                  </a:lnTo>
                  <a:lnTo>
                    <a:pt x="900" y="1050"/>
                  </a:lnTo>
                  <a:lnTo>
                    <a:pt x="891" y="993"/>
                  </a:lnTo>
                  <a:lnTo>
                    <a:pt x="821" y="1032"/>
                  </a:lnTo>
                  <a:lnTo>
                    <a:pt x="772" y="1103"/>
                  </a:lnTo>
                  <a:lnTo>
                    <a:pt x="741" y="1156"/>
                  </a:lnTo>
                  <a:lnTo>
                    <a:pt x="719" y="1204"/>
                  </a:lnTo>
                  <a:lnTo>
                    <a:pt x="684" y="1262"/>
                  </a:lnTo>
                  <a:lnTo>
                    <a:pt x="693" y="1156"/>
                  </a:lnTo>
                  <a:lnTo>
                    <a:pt x="662" y="1138"/>
                  </a:lnTo>
                  <a:lnTo>
                    <a:pt x="719" y="1050"/>
                  </a:lnTo>
                  <a:lnTo>
                    <a:pt x="807" y="993"/>
                  </a:lnTo>
                  <a:lnTo>
                    <a:pt x="856" y="978"/>
                  </a:lnTo>
                  <a:lnTo>
                    <a:pt x="856" y="943"/>
                  </a:lnTo>
                  <a:lnTo>
                    <a:pt x="799" y="956"/>
                  </a:lnTo>
                  <a:lnTo>
                    <a:pt x="834" y="855"/>
                  </a:lnTo>
                  <a:lnTo>
                    <a:pt x="843" y="714"/>
                  </a:lnTo>
                  <a:lnTo>
                    <a:pt x="865" y="546"/>
                  </a:lnTo>
                  <a:lnTo>
                    <a:pt x="856" y="410"/>
                  </a:lnTo>
                  <a:lnTo>
                    <a:pt x="834" y="304"/>
                  </a:lnTo>
                  <a:lnTo>
                    <a:pt x="807" y="233"/>
                  </a:lnTo>
                  <a:lnTo>
                    <a:pt x="865" y="440"/>
                  </a:lnTo>
                  <a:lnTo>
                    <a:pt x="843" y="202"/>
                  </a:lnTo>
                  <a:lnTo>
                    <a:pt x="922" y="564"/>
                  </a:lnTo>
                  <a:lnTo>
                    <a:pt x="900" y="220"/>
                  </a:lnTo>
                  <a:lnTo>
                    <a:pt x="957" y="463"/>
                  </a:lnTo>
                  <a:lnTo>
                    <a:pt x="957" y="255"/>
                  </a:lnTo>
                  <a:lnTo>
                    <a:pt x="1002" y="410"/>
                  </a:lnTo>
                  <a:lnTo>
                    <a:pt x="1015" y="268"/>
                  </a:lnTo>
                  <a:lnTo>
                    <a:pt x="1054" y="379"/>
                  </a:lnTo>
                  <a:lnTo>
                    <a:pt x="1046" y="233"/>
                  </a:lnTo>
                  <a:lnTo>
                    <a:pt x="1002" y="158"/>
                  </a:lnTo>
                  <a:lnTo>
                    <a:pt x="944" y="101"/>
                  </a:lnTo>
                  <a:lnTo>
                    <a:pt x="8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8232840" y="4092480"/>
              <a:ext cx="141480" cy="429120"/>
            </a:xfrm>
            <a:custGeom>
              <a:avLst/>
              <a:gdLst/>
              <a:ahLst/>
              <a:rect l="0" t="0" r="r" b="b"/>
              <a:pathLst>
                <a:path w="393" h="1192">
                  <a:moveTo>
                    <a:pt x="221" y="0"/>
                  </a:moveTo>
                  <a:lnTo>
                    <a:pt x="149" y="88"/>
                  </a:lnTo>
                  <a:lnTo>
                    <a:pt x="123" y="273"/>
                  </a:lnTo>
                  <a:lnTo>
                    <a:pt x="110" y="477"/>
                  </a:lnTo>
                  <a:lnTo>
                    <a:pt x="110" y="587"/>
                  </a:lnTo>
                  <a:lnTo>
                    <a:pt x="110" y="640"/>
                  </a:lnTo>
                  <a:lnTo>
                    <a:pt x="158" y="622"/>
                  </a:lnTo>
                  <a:lnTo>
                    <a:pt x="136" y="733"/>
                  </a:lnTo>
                  <a:lnTo>
                    <a:pt x="83" y="860"/>
                  </a:lnTo>
                  <a:lnTo>
                    <a:pt x="30" y="1016"/>
                  </a:lnTo>
                  <a:lnTo>
                    <a:pt x="0" y="1161"/>
                  </a:lnTo>
                  <a:lnTo>
                    <a:pt x="13" y="1192"/>
                  </a:lnTo>
                  <a:lnTo>
                    <a:pt x="44" y="1038"/>
                  </a:lnTo>
                  <a:lnTo>
                    <a:pt x="101" y="860"/>
                  </a:lnTo>
                  <a:lnTo>
                    <a:pt x="136" y="750"/>
                  </a:lnTo>
                  <a:lnTo>
                    <a:pt x="171" y="640"/>
                  </a:lnTo>
                  <a:lnTo>
                    <a:pt x="208" y="534"/>
                  </a:lnTo>
                  <a:lnTo>
                    <a:pt x="234" y="428"/>
                  </a:lnTo>
                  <a:lnTo>
                    <a:pt x="278" y="327"/>
                  </a:lnTo>
                  <a:lnTo>
                    <a:pt x="340" y="238"/>
                  </a:lnTo>
                  <a:lnTo>
                    <a:pt x="393" y="167"/>
                  </a:lnTo>
                  <a:lnTo>
                    <a:pt x="269" y="291"/>
                  </a:lnTo>
                  <a:lnTo>
                    <a:pt x="305" y="185"/>
                  </a:lnTo>
                  <a:lnTo>
                    <a:pt x="234" y="309"/>
                  </a:lnTo>
                  <a:lnTo>
                    <a:pt x="269" y="167"/>
                  </a:lnTo>
                  <a:lnTo>
                    <a:pt x="208" y="291"/>
                  </a:lnTo>
                  <a:lnTo>
                    <a:pt x="225" y="145"/>
                  </a:lnTo>
                  <a:lnTo>
                    <a:pt x="171" y="273"/>
                  </a:lnTo>
                  <a:lnTo>
                    <a:pt x="194" y="88"/>
                  </a:lnTo>
                  <a:lnTo>
                    <a:pt x="247" y="52"/>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8307360" y="4309920"/>
              <a:ext cx="70200" cy="19440"/>
            </a:xfrm>
            <a:custGeom>
              <a:avLst/>
              <a:gdLst/>
              <a:ahLst/>
              <a:rect l="0" t="0" r="r" b="b"/>
              <a:pathLst>
                <a:path w="195" h="54">
                  <a:moveTo>
                    <a:pt x="0" y="18"/>
                  </a:moveTo>
                  <a:lnTo>
                    <a:pt x="57" y="0"/>
                  </a:lnTo>
                  <a:lnTo>
                    <a:pt x="115" y="0"/>
                  </a:lnTo>
                  <a:lnTo>
                    <a:pt x="195" y="18"/>
                  </a:lnTo>
                  <a:lnTo>
                    <a:pt x="172" y="41"/>
                  </a:lnTo>
                  <a:lnTo>
                    <a:pt x="133" y="54"/>
                  </a:lnTo>
                  <a:lnTo>
                    <a:pt x="106" y="41"/>
                  </a:lnTo>
                  <a:lnTo>
                    <a:pt x="92" y="18"/>
                  </a:lnTo>
                  <a:lnTo>
                    <a:pt x="0"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2" name=""/>
            <p:cNvSpPr/>
            <p:nvPr/>
          </p:nvSpPr>
          <p:spPr>
            <a:xfrm>
              <a:off x="8418600" y="4316400"/>
              <a:ext cx="86040" cy="35280"/>
            </a:xfrm>
            <a:custGeom>
              <a:avLst/>
              <a:gdLst/>
              <a:ahLst/>
              <a:rect l="0" t="0" r="r" b="b"/>
              <a:pathLst>
                <a:path w="239" h="98">
                  <a:moveTo>
                    <a:pt x="0" y="0"/>
                  </a:moveTo>
                  <a:lnTo>
                    <a:pt x="92" y="0"/>
                  </a:lnTo>
                  <a:lnTo>
                    <a:pt x="146" y="22"/>
                  </a:lnTo>
                  <a:lnTo>
                    <a:pt x="217" y="35"/>
                  </a:lnTo>
                  <a:lnTo>
                    <a:pt x="239" y="80"/>
                  </a:lnTo>
                  <a:lnTo>
                    <a:pt x="217" y="62"/>
                  </a:lnTo>
                  <a:lnTo>
                    <a:pt x="181" y="98"/>
                  </a:lnTo>
                  <a:lnTo>
                    <a:pt x="137" y="98"/>
                  </a:lnTo>
                  <a:lnTo>
                    <a:pt x="114" y="80"/>
                  </a:lnTo>
                  <a:lnTo>
                    <a:pt x="105" y="35"/>
                  </a:lnTo>
                  <a:lnTo>
                    <a:pt x="92"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23" name=""/>
            <p:cNvSpPr/>
            <p:nvPr/>
          </p:nvSpPr>
          <p:spPr>
            <a:xfrm>
              <a:off x="8345520" y="4216320"/>
              <a:ext cx="36720" cy="19440"/>
            </a:xfrm>
            <a:custGeom>
              <a:avLst/>
              <a:gdLst/>
              <a:ahLst/>
              <a:rect l="0" t="0" r="r" b="b"/>
              <a:pathLst>
                <a:path w="102" h="54">
                  <a:moveTo>
                    <a:pt x="0" y="54"/>
                  </a:moveTo>
                  <a:lnTo>
                    <a:pt x="102" y="0"/>
                  </a:lnTo>
                  <a:lnTo>
                    <a:pt x="102" y="54"/>
                  </a:lnTo>
                  <a:lnTo>
                    <a:pt x="0"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4" name=""/>
            <p:cNvSpPr/>
            <p:nvPr/>
          </p:nvSpPr>
          <p:spPr>
            <a:xfrm>
              <a:off x="8459640" y="4216320"/>
              <a:ext cx="41760" cy="30600"/>
            </a:xfrm>
            <a:custGeom>
              <a:avLst/>
              <a:gdLst/>
              <a:ahLst/>
              <a:rect l="0" t="0" r="r" b="b"/>
              <a:pathLst>
                <a:path w="116" h="85">
                  <a:moveTo>
                    <a:pt x="0" y="0"/>
                  </a:moveTo>
                  <a:lnTo>
                    <a:pt x="116" y="85"/>
                  </a:lnTo>
                  <a:lnTo>
                    <a:pt x="31" y="85"/>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25" name=""/>
            <p:cNvSpPr/>
            <p:nvPr/>
          </p:nvSpPr>
          <p:spPr>
            <a:xfrm>
              <a:off x="8263080" y="4338720"/>
              <a:ext cx="111600" cy="197280"/>
            </a:xfrm>
            <a:custGeom>
              <a:avLst/>
              <a:gdLst/>
              <a:ahLst/>
              <a:rect l="0" t="0" r="r" b="b"/>
              <a:pathLst>
                <a:path w="310" h="548">
                  <a:moveTo>
                    <a:pt x="275" y="0"/>
                  </a:moveTo>
                  <a:lnTo>
                    <a:pt x="195" y="136"/>
                  </a:lnTo>
                  <a:lnTo>
                    <a:pt x="111" y="225"/>
                  </a:lnTo>
                  <a:lnTo>
                    <a:pt x="52" y="296"/>
                  </a:lnTo>
                  <a:lnTo>
                    <a:pt x="0" y="353"/>
                  </a:lnTo>
                  <a:lnTo>
                    <a:pt x="0" y="389"/>
                  </a:lnTo>
                  <a:lnTo>
                    <a:pt x="4" y="442"/>
                  </a:lnTo>
                  <a:lnTo>
                    <a:pt x="111" y="456"/>
                  </a:lnTo>
                  <a:lnTo>
                    <a:pt x="137" y="509"/>
                  </a:lnTo>
                  <a:lnTo>
                    <a:pt x="186" y="548"/>
                  </a:lnTo>
                  <a:lnTo>
                    <a:pt x="244" y="535"/>
                  </a:lnTo>
                  <a:lnTo>
                    <a:pt x="284" y="491"/>
                  </a:lnTo>
                  <a:lnTo>
                    <a:pt x="310" y="442"/>
                  </a:lnTo>
                  <a:lnTo>
                    <a:pt x="284" y="406"/>
                  </a:lnTo>
                  <a:lnTo>
                    <a:pt x="221" y="406"/>
                  </a:lnTo>
                  <a:lnTo>
                    <a:pt x="30" y="406"/>
                  </a:lnTo>
                  <a:lnTo>
                    <a:pt x="17" y="353"/>
                  </a:lnTo>
                  <a:lnTo>
                    <a:pt x="124" y="261"/>
                  </a:lnTo>
                  <a:lnTo>
                    <a:pt x="195" y="159"/>
                  </a:lnTo>
                  <a:lnTo>
                    <a:pt x="275" y="66"/>
                  </a:lnTo>
                  <a:lnTo>
                    <a:pt x="2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277120" y="4530600"/>
              <a:ext cx="186120" cy="138600"/>
            </a:xfrm>
            <a:custGeom>
              <a:avLst/>
              <a:gdLst/>
              <a:ahLst/>
              <a:rect l="0" t="0" r="r" b="b"/>
              <a:pathLst>
                <a:path w="517" h="385">
                  <a:moveTo>
                    <a:pt x="0" y="17"/>
                  </a:moveTo>
                  <a:lnTo>
                    <a:pt x="0" y="88"/>
                  </a:lnTo>
                  <a:lnTo>
                    <a:pt x="22" y="137"/>
                  </a:lnTo>
                  <a:lnTo>
                    <a:pt x="44" y="177"/>
                  </a:lnTo>
                  <a:lnTo>
                    <a:pt x="57" y="208"/>
                  </a:lnTo>
                  <a:lnTo>
                    <a:pt x="30" y="278"/>
                  </a:lnTo>
                  <a:lnTo>
                    <a:pt x="30" y="332"/>
                  </a:lnTo>
                  <a:lnTo>
                    <a:pt x="57" y="350"/>
                  </a:lnTo>
                  <a:lnTo>
                    <a:pt x="44" y="278"/>
                  </a:lnTo>
                  <a:lnTo>
                    <a:pt x="70" y="225"/>
                  </a:lnTo>
                  <a:lnTo>
                    <a:pt x="97" y="261"/>
                  </a:lnTo>
                  <a:lnTo>
                    <a:pt x="155" y="297"/>
                  </a:lnTo>
                  <a:lnTo>
                    <a:pt x="110" y="225"/>
                  </a:lnTo>
                  <a:lnTo>
                    <a:pt x="110" y="155"/>
                  </a:lnTo>
                  <a:lnTo>
                    <a:pt x="190" y="190"/>
                  </a:lnTo>
                  <a:lnTo>
                    <a:pt x="309" y="190"/>
                  </a:lnTo>
                  <a:lnTo>
                    <a:pt x="367" y="177"/>
                  </a:lnTo>
                  <a:lnTo>
                    <a:pt x="442" y="155"/>
                  </a:lnTo>
                  <a:lnTo>
                    <a:pt x="390" y="225"/>
                  </a:lnTo>
                  <a:lnTo>
                    <a:pt x="344" y="261"/>
                  </a:lnTo>
                  <a:lnTo>
                    <a:pt x="278" y="297"/>
                  </a:lnTo>
                  <a:lnTo>
                    <a:pt x="230" y="297"/>
                  </a:lnTo>
                  <a:lnTo>
                    <a:pt x="212" y="332"/>
                  </a:lnTo>
                  <a:lnTo>
                    <a:pt x="190" y="315"/>
                  </a:lnTo>
                  <a:lnTo>
                    <a:pt x="168" y="350"/>
                  </a:lnTo>
                  <a:lnTo>
                    <a:pt x="142" y="332"/>
                  </a:lnTo>
                  <a:lnTo>
                    <a:pt x="133" y="368"/>
                  </a:lnTo>
                  <a:lnTo>
                    <a:pt x="97" y="368"/>
                  </a:lnTo>
                  <a:lnTo>
                    <a:pt x="168" y="385"/>
                  </a:lnTo>
                  <a:lnTo>
                    <a:pt x="252" y="368"/>
                  </a:lnTo>
                  <a:lnTo>
                    <a:pt x="331" y="350"/>
                  </a:lnTo>
                  <a:lnTo>
                    <a:pt x="403" y="297"/>
                  </a:lnTo>
                  <a:lnTo>
                    <a:pt x="451" y="225"/>
                  </a:lnTo>
                  <a:lnTo>
                    <a:pt x="482" y="177"/>
                  </a:lnTo>
                  <a:lnTo>
                    <a:pt x="517" y="190"/>
                  </a:lnTo>
                  <a:lnTo>
                    <a:pt x="495" y="120"/>
                  </a:lnTo>
                  <a:lnTo>
                    <a:pt x="482" y="88"/>
                  </a:lnTo>
                  <a:lnTo>
                    <a:pt x="495" y="30"/>
                  </a:lnTo>
                  <a:lnTo>
                    <a:pt x="473" y="30"/>
                  </a:lnTo>
                  <a:lnTo>
                    <a:pt x="460" y="17"/>
                  </a:lnTo>
                  <a:lnTo>
                    <a:pt x="429" y="30"/>
                  </a:lnTo>
                  <a:lnTo>
                    <a:pt x="416" y="52"/>
                  </a:lnTo>
                  <a:lnTo>
                    <a:pt x="460" y="102"/>
                  </a:lnTo>
                  <a:lnTo>
                    <a:pt x="442" y="137"/>
                  </a:lnTo>
                  <a:lnTo>
                    <a:pt x="358" y="155"/>
                  </a:lnTo>
                  <a:lnTo>
                    <a:pt x="239" y="177"/>
                  </a:lnTo>
                  <a:lnTo>
                    <a:pt x="155" y="155"/>
                  </a:lnTo>
                  <a:lnTo>
                    <a:pt x="97" y="120"/>
                  </a:lnTo>
                  <a:lnTo>
                    <a:pt x="44" y="88"/>
                  </a:lnTo>
                  <a:lnTo>
                    <a:pt x="22" y="52"/>
                  </a:lnTo>
                  <a:lnTo>
                    <a:pt x="22" y="0"/>
                  </a:lnTo>
                  <a:lnTo>
                    <a:pt x="0"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8240760" y="4548240"/>
              <a:ext cx="57600" cy="176400"/>
            </a:xfrm>
            <a:custGeom>
              <a:avLst/>
              <a:gdLst/>
              <a:ahLst/>
              <a:rect l="0" t="0" r="r" b="b"/>
              <a:pathLst>
                <a:path w="160" h="490">
                  <a:moveTo>
                    <a:pt x="0" y="0"/>
                  </a:moveTo>
                  <a:lnTo>
                    <a:pt x="30" y="123"/>
                  </a:lnTo>
                  <a:lnTo>
                    <a:pt x="80" y="247"/>
                  </a:lnTo>
                  <a:lnTo>
                    <a:pt x="125" y="353"/>
                  </a:lnTo>
                  <a:lnTo>
                    <a:pt x="151" y="428"/>
                  </a:lnTo>
                  <a:lnTo>
                    <a:pt x="151" y="490"/>
                  </a:lnTo>
                  <a:lnTo>
                    <a:pt x="160" y="389"/>
                  </a:lnTo>
                  <a:lnTo>
                    <a:pt x="125" y="265"/>
                  </a:lnTo>
                  <a:lnTo>
                    <a:pt x="80" y="123"/>
                  </a:lnTo>
                  <a:lnTo>
                    <a:pt x="3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8317080" y="4748040"/>
              <a:ext cx="176400" cy="324360"/>
            </a:xfrm>
            <a:custGeom>
              <a:avLst/>
              <a:gdLst/>
              <a:ahLst/>
              <a:rect l="0" t="0" r="r" b="b"/>
              <a:pathLst>
                <a:path w="490" h="901">
                  <a:moveTo>
                    <a:pt x="233" y="0"/>
                  </a:moveTo>
                  <a:lnTo>
                    <a:pt x="233" y="92"/>
                  </a:lnTo>
                  <a:lnTo>
                    <a:pt x="141" y="70"/>
                  </a:lnTo>
                  <a:lnTo>
                    <a:pt x="0" y="224"/>
                  </a:lnTo>
                  <a:lnTo>
                    <a:pt x="154" y="92"/>
                  </a:lnTo>
                  <a:lnTo>
                    <a:pt x="220" y="105"/>
                  </a:lnTo>
                  <a:lnTo>
                    <a:pt x="154" y="202"/>
                  </a:lnTo>
                  <a:lnTo>
                    <a:pt x="88" y="384"/>
                  </a:lnTo>
                  <a:lnTo>
                    <a:pt x="30" y="583"/>
                  </a:lnTo>
                  <a:lnTo>
                    <a:pt x="0" y="760"/>
                  </a:lnTo>
                  <a:lnTo>
                    <a:pt x="119" y="477"/>
                  </a:lnTo>
                  <a:lnTo>
                    <a:pt x="22" y="835"/>
                  </a:lnTo>
                  <a:lnTo>
                    <a:pt x="141" y="512"/>
                  </a:lnTo>
                  <a:lnTo>
                    <a:pt x="57" y="835"/>
                  </a:lnTo>
                  <a:lnTo>
                    <a:pt x="180" y="552"/>
                  </a:lnTo>
                  <a:lnTo>
                    <a:pt x="88" y="870"/>
                  </a:lnTo>
                  <a:lnTo>
                    <a:pt x="198" y="618"/>
                  </a:lnTo>
                  <a:lnTo>
                    <a:pt x="119" y="870"/>
                  </a:lnTo>
                  <a:lnTo>
                    <a:pt x="141" y="901"/>
                  </a:lnTo>
                  <a:lnTo>
                    <a:pt x="211" y="675"/>
                  </a:lnTo>
                  <a:lnTo>
                    <a:pt x="278" y="499"/>
                  </a:lnTo>
                  <a:lnTo>
                    <a:pt x="362" y="331"/>
                  </a:lnTo>
                  <a:lnTo>
                    <a:pt x="428" y="202"/>
                  </a:lnTo>
                  <a:lnTo>
                    <a:pt x="490" y="136"/>
                  </a:lnTo>
                  <a:lnTo>
                    <a:pt x="349" y="274"/>
                  </a:lnTo>
                  <a:lnTo>
                    <a:pt x="292" y="274"/>
                  </a:lnTo>
                  <a:lnTo>
                    <a:pt x="220" y="261"/>
                  </a:lnTo>
                  <a:lnTo>
                    <a:pt x="198" y="224"/>
                  </a:lnTo>
                  <a:lnTo>
                    <a:pt x="233" y="149"/>
                  </a:lnTo>
                  <a:lnTo>
                    <a:pt x="256" y="202"/>
                  </a:lnTo>
                  <a:lnTo>
                    <a:pt x="256" y="149"/>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480520" y="4808520"/>
              <a:ext cx="70200" cy="119520"/>
            </a:xfrm>
            <a:custGeom>
              <a:avLst/>
              <a:gdLst/>
              <a:ahLst/>
              <a:rect l="0" t="0" r="r" b="b"/>
              <a:pathLst>
                <a:path w="195" h="332">
                  <a:moveTo>
                    <a:pt x="164" y="0"/>
                  </a:moveTo>
                  <a:lnTo>
                    <a:pt x="164" y="106"/>
                  </a:lnTo>
                  <a:lnTo>
                    <a:pt x="0" y="262"/>
                  </a:lnTo>
                  <a:lnTo>
                    <a:pt x="92" y="332"/>
                  </a:lnTo>
                  <a:lnTo>
                    <a:pt x="44" y="275"/>
                  </a:lnTo>
                  <a:lnTo>
                    <a:pt x="164" y="164"/>
                  </a:lnTo>
                  <a:lnTo>
                    <a:pt x="155" y="128"/>
                  </a:lnTo>
                  <a:lnTo>
                    <a:pt x="195" y="7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8418600" y="4933800"/>
              <a:ext cx="98640" cy="101880"/>
            </a:xfrm>
            <a:custGeom>
              <a:avLst/>
              <a:gdLst/>
              <a:ahLst/>
              <a:rect l="0" t="0" r="r" b="b"/>
              <a:pathLst>
                <a:path w="274" h="283">
                  <a:moveTo>
                    <a:pt x="0" y="247"/>
                  </a:moveTo>
                  <a:lnTo>
                    <a:pt x="114" y="123"/>
                  </a:lnTo>
                  <a:lnTo>
                    <a:pt x="208" y="52"/>
                  </a:lnTo>
                  <a:lnTo>
                    <a:pt x="274" y="0"/>
                  </a:lnTo>
                  <a:lnTo>
                    <a:pt x="114" y="159"/>
                  </a:lnTo>
                  <a:lnTo>
                    <a:pt x="48" y="247"/>
                  </a:lnTo>
                  <a:lnTo>
                    <a:pt x="13" y="283"/>
                  </a:lnTo>
                  <a:lnTo>
                    <a:pt x="0"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431" name=""/>
            <p:cNvSpPr/>
            <p:nvPr/>
          </p:nvSpPr>
          <p:spPr>
            <a:xfrm>
              <a:off x="8653320" y="4802040"/>
              <a:ext cx="68760" cy="76680"/>
            </a:xfrm>
            <a:custGeom>
              <a:avLst/>
              <a:gdLst/>
              <a:ahLst/>
              <a:rect l="0" t="0" r="r" b="b"/>
              <a:pathLst>
                <a:path w="191" h="213">
                  <a:moveTo>
                    <a:pt x="0" y="0"/>
                  </a:moveTo>
                  <a:lnTo>
                    <a:pt x="120" y="0"/>
                  </a:lnTo>
                  <a:lnTo>
                    <a:pt x="165" y="124"/>
                  </a:lnTo>
                  <a:lnTo>
                    <a:pt x="191" y="213"/>
                  </a:lnTo>
                  <a:lnTo>
                    <a:pt x="142" y="213"/>
                  </a:lnTo>
                  <a:lnTo>
                    <a:pt x="133" y="124"/>
                  </a:lnTo>
                  <a:lnTo>
                    <a:pt x="98" y="35"/>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2" name=""/>
            <p:cNvSpPr/>
            <p:nvPr/>
          </p:nvSpPr>
          <p:spPr>
            <a:xfrm>
              <a:off x="8602560" y="4834080"/>
              <a:ext cx="81360" cy="81360"/>
            </a:xfrm>
            <a:custGeom>
              <a:avLst/>
              <a:gdLst/>
              <a:ahLst/>
              <a:rect l="0" t="0" r="r" b="b"/>
              <a:pathLst>
                <a:path w="226" h="226">
                  <a:moveTo>
                    <a:pt x="0" y="226"/>
                  </a:moveTo>
                  <a:lnTo>
                    <a:pt x="137" y="71"/>
                  </a:lnTo>
                  <a:lnTo>
                    <a:pt x="226" y="0"/>
                  </a:lnTo>
                  <a:lnTo>
                    <a:pt x="226" y="58"/>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33" name=""/>
            <p:cNvSpPr/>
            <p:nvPr/>
          </p:nvSpPr>
          <p:spPr>
            <a:xfrm>
              <a:off x="8607600" y="4878360"/>
              <a:ext cx="90720" cy="60840"/>
            </a:xfrm>
            <a:custGeom>
              <a:avLst/>
              <a:gdLst/>
              <a:ahLst/>
              <a:rect l="0" t="0" r="r" b="b"/>
              <a:pathLst>
                <a:path w="252" h="169">
                  <a:moveTo>
                    <a:pt x="0" y="151"/>
                  </a:moveTo>
                  <a:lnTo>
                    <a:pt x="128" y="67"/>
                  </a:lnTo>
                  <a:lnTo>
                    <a:pt x="199" y="0"/>
                  </a:lnTo>
                  <a:lnTo>
                    <a:pt x="239" y="0"/>
                  </a:lnTo>
                  <a:lnTo>
                    <a:pt x="252" y="45"/>
                  </a:lnTo>
                  <a:lnTo>
                    <a:pt x="217" y="67"/>
                  </a:lnTo>
                  <a:lnTo>
                    <a:pt x="199" y="45"/>
                  </a:lnTo>
                  <a:lnTo>
                    <a:pt x="128" y="80"/>
                  </a:lnTo>
                  <a:lnTo>
                    <a:pt x="92" y="115"/>
                  </a:lnTo>
                  <a:lnTo>
                    <a:pt x="79" y="138"/>
                  </a:lnTo>
                  <a:lnTo>
                    <a:pt x="22" y="169"/>
                  </a:lnTo>
                  <a:lnTo>
                    <a:pt x="0"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4" name=""/>
            <p:cNvSpPr/>
            <p:nvPr/>
          </p:nvSpPr>
          <p:spPr>
            <a:xfrm>
              <a:off x="8628120" y="4927680"/>
              <a:ext cx="98640" cy="197280"/>
            </a:xfrm>
            <a:custGeom>
              <a:avLst/>
              <a:gdLst/>
              <a:ahLst/>
              <a:rect l="0" t="0" r="r" b="b"/>
              <a:pathLst>
                <a:path w="274" h="548">
                  <a:moveTo>
                    <a:pt x="181" y="17"/>
                  </a:moveTo>
                  <a:lnTo>
                    <a:pt x="181" y="142"/>
                  </a:lnTo>
                  <a:lnTo>
                    <a:pt x="181" y="212"/>
                  </a:lnTo>
                  <a:lnTo>
                    <a:pt x="168" y="300"/>
                  </a:lnTo>
                  <a:lnTo>
                    <a:pt x="79" y="212"/>
                  </a:lnTo>
                  <a:lnTo>
                    <a:pt x="0" y="105"/>
                  </a:lnTo>
                  <a:lnTo>
                    <a:pt x="127" y="300"/>
                  </a:lnTo>
                  <a:lnTo>
                    <a:pt x="203" y="353"/>
                  </a:lnTo>
                  <a:lnTo>
                    <a:pt x="142" y="495"/>
                  </a:lnTo>
                  <a:lnTo>
                    <a:pt x="181" y="548"/>
                  </a:lnTo>
                  <a:lnTo>
                    <a:pt x="239" y="460"/>
                  </a:lnTo>
                  <a:lnTo>
                    <a:pt x="252" y="402"/>
                  </a:lnTo>
                  <a:lnTo>
                    <a:pt x="274" y="371"/>
                  </a:lnTo>
                  <a:lnTo>
                    <a:pt x="225" y="318"/>
                  </a:lnTo>
                  <a:lnTo>
                    <a:pt x="252" y="212"/>
                  </a:lnTo>
                  <a:lnTo>
                    <a:pt x="252" y="142"/>
                  </a:lnTo>
                  <a:lnTo>
                    <a:pt x="265" y="30"/>
                  </a:lnTo>
                  <a:lnTo>
                    <a:pt x="252" y="0"/>
                  </a:lnTo>
                  <a:lnTo>
                    <a:pt x="225" y="212"/>
                  </a:lnTo>
                  <a:lnTo>
                    <a:pt x="18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8578800" y="4970520"/>
              <a:ext cx="100440" cy="205200"/>
            </a:xfrm>
            <a:custGeom>
              <a:avLst/>
              <a:gdLst/>
              <a:ahLst/>
              <a:rect l="0" t="0" r="r" b="b"/>
              <a:pathLst>
                <a:path w="279" h="570">
                  <a:moveTo>
                    <a:pt x="57" y="0"/>
                  </a:moveTo>
                  <a:lnTo>
                    <a:pt x="137" y="230"/>
                  </a:lnTo>
                  <a:lnTo>
                    <a:pt x="208" y="340"/>
                  </a:lnTo>
                  <a:lnTo>
                    <a:pt x="279" y="411"/>
                  </a:lnTo>
                  <a:lnTo>
                    <a:pt x="208" y="340"/>
                  </a:lnTo>
                  <a:lnTo>
                    <a:pt x="150" y="265"/>
                  </a:lnTo>
                  <a:lnTo>
                    <a:pt x="195" y="411"/>
                  </a:lnTo>
                  <a:lnTo>
                    <a:pt x="279" y="570"/>
                  </a:lnTo>
                  <a:lnTo>
                    <a:pt x="172" y="411"/>
                  </a:lnTo>
                  <a:lnTo>
                    <a:pt x="115" y="283"/>
                  </a:lnTo>
                  <a:lnTo>
                    <a:pt x="57" y="70"/>
                  </a:lnTo>
                  <a:lnTo>
                    <a:pt x="0" y="305"/>
                  </a:lnTo>
                  <a:lnTo>
                    <a:pt x="44"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8661240" y="5137200"/>
              <a:ext cx="43200" cy="122760"/>
            </a:xfrm>
            <a:custGeom>
              <a:avLst/>
              <a:gdLst/>
              <a:ahLst/>
              <a:rect l="0" t="0" r="r" b="b"/>
              <a:pathLst>
                <a:path w="120" h="341">
                  <a:moveTo>
                    <a:pt x="75" y="0"/>
                  </a:moveTo>
                  <a:lnTo>
                    <a:pt x="44" y="106"/>
                  </a:lnTo>
                  <a:lnTo>
                    <a:pt x="84" y="106"/>
                  </a:lnTo>
                  <a:lnTo>
                    <a:pt x="0" y="341"/>
                  </a:lnTo>
                  <a:lnTo>
                    <a:pt x="120" y="35"/>
                  </a:lnTo>
                  <a:lnTo>
                    <a:pt x="84" y="0"/>
                  </a:lnTo>
                  <a:lnTo>
                    <a:pt x="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392960" y="4176720"/>
              <a:ext cx="749520" cy="1254600"/>
            </a:xfrm>
            <a:custGeom>
              <a:avLst/>
              <a:gdLst/>
              <a:ahLst/>
              <a:rect l="0" t="0" r="r" b="b"/>
              <a:pathLst>
                <a:path w="2082" h="3485">
                  <a:moveTo>
                    <a:pt x="2060" y="1442"/>
                  </a:moveTo>
                  <a:lnTo>
                    <a:pt x="1897" y="984"/>
                  </a:lnTo>
                  <a:lnTo>
                    <a:pt x="1760" y="564"/>
                  </a:lnTo>
                  <a:lnTo>
                    <a:pt x="1685" y="255"/>
                  </a:lnTo>
                  <a:lnTo>
                    <a:pt x="1641" y="52"/>
                  </a:lnTo>
                  <a:lnTo>
                    <a:pt x="1310" y="308"/>
                  </a:lnTo>
                  <a:lnTo>
                    <a:pt x="943" y="542"/>
                  </a:lnTo>
                  <a:lnTo>
                    <a:pt x="476" y="762"/>
                  </a:lnTo>
                  <a:lnTo>
                    <a:pt x="17" y="904"/>
                  </a:lnTo>
                  <a:lnTo>
                    <a:pt x="264" y="1460"/>
                  </a:lnTo>
                  <a:lnTo>
                    <a:pt x="485" y="2148"/>
                  </a:lnTo>
                  <a:lnTo>
                    <a:pt x="723" y="2780"/>
                  </a:lnTo>
                  <a:lnTo>
                    <a:pt x="974" y="3260"/>
                  </a:lnTo>
                  <a:lnTo>
                    <a:pt x="1081" y="3410"/>
                  </a:lnTo>
                  <a:lnTo>
                    <a:pt x="1350" y="3141"/>
                  </a:lnTo>
                  <a:lnTo>
                    <a:pt x="1579" y="3009"/>
                  </a:lnTo>
                  <a:lnTo>
                    <a:pt x="1672" y="2952"/>
                  </a:lnTo>
                  <a:lnTo>
                    <a:pt x="1667" y="2987"/>
                  </a:lnTo>
                  <a:lnTo>
                    <a:pt x="1412" y="3181"/>
                  </a:lnTo>
                  <a:lnTo>
                    <a:pt x="1257" y="3344"/>
                  </a:lnTo>
                  <a:lnTo>
                    <a:pt x="1182" y="3485"/>
                  </a:lnTo>
                  <a:lnTo>
                    <a:pt x="1147" y="3393"/>
                  </a:lnTo>
                  <a:lnTo>
                    <a:pt x="1054" y="3445"/>
                  </a:lnTo>
                  <a:lnTo>
                    <a:pt x="908" y="3181"/>
                  </a:lnTo>
                  <a:lnTo>
                    <a:pt x="740" y="2872"/>
                  </a:lnTo>
                  <a:lnTo>
                    <a:pt x="529" y="2333"/>
                  </a:lnTo>
                  <a:lnTo>
                    <a:pt x="313" y="1734"/>
                  </a:lnTo>
                  <a:lnTo>
                    <a:pt x="163" y="1420"/>
                  </a:lnTo>
                  <a:lnTo>
                    <a:pt x="26" y="1235"/>
                  </a:lnTo>
                  <a:lnTo>
                    <a:pt x="110" y="1182"/>
                  </a:lnTo>
                  <a:lnTo>
                    <a:pt x="0" y="891"/>
                  </a:lnTo>
                  <a:lnTo>
                    <a:pt x="418" y="749"/>
                  </a:lnTo>
                  <a:lnTo>
                    <a:pt x="776" y="590"/>
                  </a:lnTo>
                  <a:lnTo>
                    <a:pt x="1121" y="396"/>
                  </a:lnTo>
                  <a:lnTo>
                    <a:pt x="1429" y="189"/>
                  </a:lnTo>
                  <a:lnTo>
                    <a:pt x="1667" y="0"/>
                  </a:lnTo>
                  <a:lnTo>
                    <a:pt x="1764" y="476"/>
                  </a:lnTo>
                  <a:lnTo>
                    <a:pt x="1936" y="1054"/>
                  </a:lnTo>
                  <a:lnTo>
                    <a:pt x="2082" y="1434"/>
                  </a:lnTo>
                  <a:lnTo>
                    <a:pt x="2060"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078760" y="4692600"/>
              <a:ext cx="146520" cy="200520"/>
            </a:xfrm>
            <a:custGeom>
              <a:avLst/>
              <a:gdLst/>
              <a:ahLst/>
              <a:rect l="0" t="0" r="r" b="b"/>
              <a:pathLst>
                <a:path w="407" h="557">
                  <a:moveTo>
                    <a:pt x="256" y="0"/>
                  </a:moveTo>
                  <a:lnTo>
                    <a:pt x="128" y="61"/>
                  </a:lnTo>
                  <a:lnTo>
                    <a:pt x="52" y="127"/>
                  </a:lnTo>
                  <a:lnTo>
                    <a:pt x="8" y="164"/>
                  </a:lnTo>
                  <a:lnTo>
                    <a:pt x="17" y="221"/>
                  </a:lnTo>
                  <a:lnTo>
                    <a:pt x="101" y="247"/>
                  </a:lnTo>
                  <a:lnTo>
                    <a:pt x="221" y="230"/>
                  </a:lnTo>
                  <a:lnTo>
                    <a:pt x="310" y="208"/>
                  </a:lnTo>
                  <a:lnTo>
                    <a:pt x="283" y="269"/>
                  </a:lnTo>
                  <a:lnTo>
                    <a:pt x="292" y="393"/>
                  </a:lnTo>
                  <a:lnTo>
                    <a:pt x="337" y="473"/>
                  </a:lnTo>
                  <a:lnTo>
                    <a:pt x="390" y="283"/>
                  </a:lnTo>
                  <a:lnTo>
                    <a:pt x="372" y="142"/>
                  </a:lnTo>
                  <a:lnTo>
                    <a:pt x="323" y="48"/>
                  </a:lnTo>
                  <a:lnTo>
                    <a:pt x="292" y="13"/>
                  </a:lnTo>
                  <a:lnTo>
                    <a:pt x="337" y="13"/>
                  </a:lnTo>
                  <a:lnTo>
                    <a:pt x="390" y="127"/>
                  </a:lnTo>
                  <a:lnTo>
                    <a:pt x="407" y="261"/>
                  </a:lnTo>
                  <a:lnTo>
                    <a:pt x="381" y="393"/>
                  </a:lnTo>
                  <a:lnTo>
                    <a:pt x="350" y="557"/>
                  </a:lnTo>
                  <a:lnTo>
                    <a:pt x="247" y="380"/>
                  </a:lnTo>
                  <a:lnTo>
                    <a:pt x="203" y="269"/>
                  </a:lnTo>
                  <a:lnTo>
                    <a:pt x="83" y="269"/>
                  </a:lnTo>
                  <a:lnTo>
                    <a:pt x="17" y="247"/>
                  </a:lnTo>
                  <a:lnTo>
                    <a:pt x="0" y="208"/>
                  </a:lnTo>
                  <a:lnTo>
                    <a:pt x="8" y="164"/>
                  </a:lnTo>
                  <a:lnTo>
                    <a:pt x="137" y="26"/>
                  </a:lnTo>
                  <a:lnTo>
                    <a:pt x="25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8237520" y="5048280"/>
              <a:ext cx="213120" cy="71640"/>
            </a:xfrm>
            <a:custGeom>
              <a:avLst/>
              <a:gdLst/>
              <a:ahLst/>
              <a:rect l="0" t="0" r="r" b="b"/>
              <a:pathLst>
                <a:path w="592" h="199">
                  <a:moveTo>
                    <a:pt x="575" y="120"/>
                  </a:moveTo>
                  <a:lnTo>
                    <a:pt x="336" y="44"/>
                  </a:lnTo>
                  <a:lnTo>
                    <a:pt x="203" y="17"/>
                  </a:lnTo>
                  <a:lnTo>
                    <a:pt x="83" y="26"/>
                  </a:lnTo>
                  <a:lnTo>
                    <a:pt x="26" y="83"/>
                  </a:lnTo>
                  <a:lnTo>
                    <a:pt x="70" y="137"/>
                  </a:lnTo>
                  <a:lnTo>
                    <a:pt x="123" y="146"/>
                  </a:lnTo>
                  <a:lnTo>
                    <a:pt x="150" y="199"/>
                  </a:lnTo>
                  <a:lnTo>
                    <a:pt x="52" y="172"/>
                  </a:lnTo>
                  <a:lnTo>
                    <a:pt x="26" y="120"/>
                  </a:lnTo>
                  <a:lnTo>
                    <a:pt x="0" y="83"/>
                  </a:lnTo>
                  <a:lnTo>
                    <a:pt x="26" y="26"/>
                  </a:lnTo>
                  <a:lnTo>
                    <a:pt x="119" y="0"/>
                  </a:lnTo>
                  <a:lnTo>
                    <a:pt x="217" y="0"/>
                  </a:lnTo>
                  <a:lnTo>
                    <a:pt x="469" y="66"/>
                  </a:lnTo>
                  <a:lnTo>
                    <a:pt x="592" y="106"/>
                  </a:lnTo>
                  <a:lnTo>
                    <a:pt x="575" y="12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0" name=""/>
            <p:cNvSpPr/>
            <p:nvPr/>
          </p:nvSpPr>
          <p:spPr>
            <a:xfrm>
              <a:off x="8290080" y="5097600"/>
              <a:ext cx="39960" cy="9720"/>
            </a:xfrm>
            <a:custGeom>
              <a:avLst/>
              <a:gdLst/>
              <a:ahLst/>
              <a:rect l="0" t="0" r="r" b="b"/>
              <a:pathLst>
                <a:path w="111" h="27">
                  <a:moveTo>
                    <a:pt x="4" y="0"/>
                  </a:moveTo>
                  <a:lnTo>
                    <a:pt x="111" y="0"/>
                  </a:lnTo>
                  <a:lnTo>
                    <a:pt x="0" y="27"/>
                  </a:lnTo>
                  <a:lnTo>
                    <a:pt x="4"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41" name=""/>
            <p:cNvSpPr/>
            <p:nvPr/>
          </p:nvSpPr>
          <p:spPr>
            <a:xfrm>
              <a:off x="8045280" y="4921200"/>
              <a:ext cx="130680" cy="227520"/>
            </a:xfrm>
            <a:custGeom>
              <a:avLst/>
              <a:gdLst/>
              <a:ahLst/>
              <a:rect l="0" t="0" r="r" b="b"/>
              <a:pathLst>
                <a:path w="363" h="632">
                  <a:moveTo>
                    <a:pt x="332" y="0"/>
                  </a:moveTo>
                  <a:lnTo>
                    <a:pt x="4" y="553"/>
                  </a:lnTo>
                  <a:lnTo>
                    <a:pt x="0" y="632"/>
                  </a:lnTo>
                  <a:lnTo>
                    <a:pt x="48" y="592"/>
                  </a:lnTo>
                  <a:lnTo>
                    <a:pt x="48" y="553"/>
                  </a:lnTo>
                  <a:lnTo>
                    <a:pt x="363" y="0"/>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8190000" y="5002200"/>
              <a:ext cx="74880" cy="55800"/>
            </a:xfrm>
            <a:custGeom>
              <a:avLst/>
              <a:gdLst/>
              <a:ahLst/>
              <a:rect l="0" t="0" r="r" b="b"/>
              <a:pathLst>
                <a:path w="208" h="155">
                  <a:moveTo>
                    <a:pt x="190" y="120"/>
                  </a:moveTo>
                  <a:lnTo>
                    <a:pt x="30" y="0"/>
                  </a:lnTo>
                  <a:lnTo>
                    <a:pt x="0" y="52"/>
                  </a:lnTo>
                  <a:lnTo>
                    <a:pt x="159" y="155"/>
                  </a:lnTo>
                  <a:lnTo>
                    <a:pt x="208" y="142"/>
                  </a:lnTo>
                  <a:lnTo>
                    <a:pt x="190"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3" name=""/>
            <p:cNvSpPr/>
            <p:nvPr/>
          </p:nvSpPr>
          <p:spPr>
            <a:xfrm>
              <a:off x="7769160" y="4687920"/>
              <a:ext cx="365400" cy="290880"/>
            </a:xfrm>
            <a:custGeom>
              <a:avLst/>
              <a:gdLst/>
              <a:ahLst/>
              <a:rect l="0" t="0" r="r" b="b"/>
              <a:pathLst>
                <a:path w="1015" h="808">
                  <a:moveTo>
                    <a:pt x="1015" y="751"/>
                  </a:moveTo>
                  <a:lnTo>
                    <a:pt x="26" y="0"/>
                  </a:lnTo>
                  <a:lnTo>
                    <a:pt x="0" y="22"/>
                  </a:lnTo>
                  <a:lnTo>
                    <a:pt x="4" y="39"/>
                  </a:lnTo>
                  <a:lnTo>
                    <a:pt x="979" y="808"/>
                  </a:lnTo>
                  <a:lnTo>
                    <a:pt x="547" y="433"/>
                  </a:lnTo>
                  <a:lnTo>
                    <a:pt x="1015"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8164440" y="4794120"/>
              <a:ext cx="168480" cy="302040"/>
            </a:xfrm>
            <a:custGeom>
              <a:avLst/>
              <a:gdLst/>
              <a:ahLst/>
              <a:rect l="0" t="0" r="r" b="b"/>
              <a:pathLst>
                <a:path w="468" h="839">
                  <a:moveTo>
                    <a:pt x="123" y="300"/>
                  </a:moveTo>
                  <a:lnTo>
                    <a:pt x="256" y="538"/>
                  </a:lnTo>
                  <a:lnTo>
                    <a:pt x="353" y="667"/>
                  </a:lnTo>
                  <a:lnTo>
                    <a:pt x="0" y="813"/>
                  </a:lnTo>
                  <a:lnTo>
                    <a:pt x="83" y="839"/>
                  </a:lnTo>
                  <a:lnTo>
                    <a:pt x="211" y="813"/>
                  </a:lnTo>
                  <a:lnTo>
                    <a:pt x="233" y="734"/>
                  </a:lnTo>
                  <a:lnTo>
                    <a:pt x="380" y="698"/>
                  </a:lnTo>
                  <a:lnTo>
                    <a:pt x="411" y="667"/>
                  </a:lnTo>
                  <a:lnTo>
                    <a:pt x="274" y="512"/>
                  </a:lnTo>
                  <a:lnTo>
                    <a:pt x="211" y="380"/>
                  </a:lnTo>
                  <a:lnTo>
                    <a:pt x="216" y="243"/>
                  </a:lnTo>
                  <a:lnTo>
                    <a:pt x="327" y="243"/>
                  </a:lnTo>
                  <a:lnTo>
                    <a:pt x="340" y="123"/>
                  </a:lnTo>
                  <a:lnTo>
                    <a:pt x="287" y="217"/>
                  </a:lnTo>
                  <a:lnTo>
                    <a:pt x="167" y="176"/>
                  </a:lnTo>
                  <a:lnTo>
                    <a:pt x="202" y="110"/>
                  </a:lnTo>
                  <a:lnTo>
                    <a:pt x="261" y="44"/>
                  </a:lnTo>
                  <a:lnTo>
                    <a:pt x="314" y="22"/>
                  </a:lnTo>
                  <a:lnTo>
                    <a:pt x="468" y="22"/>
                  </a:lnTo>
                  <a:lnTo>
                    <a:pt x="274" y="0"/>
                  </a:lnTo>
                  <a:lnTo>
                    <a:pt x="185" y="61"/>
                  </a:lnTo>
                  <a:lnTo>
                    <a:pt x="123" y="123"/>
                  </a:lnTo>
                  <a:lnTo>
                    <a:pt x="110" y="225"/>
                  </a:lnTo>
                  <a:lnTo>
                    <a:pt x="123" y="30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7950240" y="5052960"/>
              <a:ext cx="116280" cy="176400"/>
            </a:xfrm>
            <a:custGeom>
              <a:avLst/>
              <a:gdLst/>
              <a:ahLst/>
              <a:rect l="0" t="0" r="r" b="b"/>
              <a:pathLst>
                <a:path w="323" h="490">
                  <a:moveTo>
                    <a:pt x="323" y="39"/>
                  </a:moveTo>
                  <a:lnTo>
                    <a:pt x="146" y="0"/>
                  </a:lnTo>
                  <a:lnTo>
                    <a:pt x="221" y="132"/>
                  </a:lnTo>
                  <a:lnTo>
                    <a:pt x="84" y="92"/>
                  </a:lnTo>
                  <a:lnTo>
                    <a:pt x="195" y="265"/>
                  </a:lnTo>
                  <a:lnTo>
                    <a:pt x="0" y="305"/>
                  </a:lnTo>
                  <a:lnTo>
                    <a:pt x="150" y="490"/>
                  </a:lnTo>
                  <a:lnTo>
                    <a:pt x="195" y="336"/>
                  </a:lnTo>
                  <a:lnTo>
                    <a:pt x="44" y="305"/>
                  </a:lnTo>
                  <a:lnTo>
                    <a:pt x="248" y="265"/>
                  </a:lnTo>
                  <a:lnTo>
                    <a:pt x="146" y="132"/>
                  </a:lnTo>
                  <a:lnTo>
                    <a:pt x="279" y="149"/>
                  </a:lnTo>
                  <a:lnTo>
                    <a:pt x="221" y="52"/>
                  </a:lnTo>
                  <a:lnTo>
                    <a:pt x="323"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6" name=""/>
          <p:cNvSpPr txBox="1"/>
          <p:nvPr/>
        </p:nvSpPr>
        <p:spPr>
          <a:xfrm>
            <a:off x="2209680" y="2590920"/>
            <a:ext cx="6172200" cy="1752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Compute earnings per share.</a:t>
            </a:r>
            <a:endParaRPr b="0" lang="en-US" sz="3200" spc="-1" strike="noStrike">
              <a:solidFill>
                <a:srgbClr val="ffffff"/>
              </a:solidFill>
              <a:latin typeface="Arial"/>
            </a:endParaRPr>
          </a:p>
        </p:txBody>
      </p:sp>
      <p:sp>
        <p:nvSpPr>
          <p:cNvPr id="447" name=""/>
          <p:cNvSpPr txBox="1"/>
          <p:nvPr/>
        </p:nvSpPr>
        <p:spPr>
          <a:xfrm>
            <a:off x="990720" y="12952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pic>
        <p:nvPicPr>
          <p:cNvPr id="448"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9" name=""/>
          <p:cNvSpPr txBox="1"/>
          <p:nvPr/>
        </p:nvSpPr>
        <p:spPr>
          <a:xfrm>
            <a:off x="1143000" y="1447920"/>
            <a:ext cx="762012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PB concluded that earnings per share of common stock should be presented on the fac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usually shown just below net income.</a:t>
            </a:r>
            <a:endParaRPr b="0" lang="en-US" sz="3200" spc="-1" strike="noStrike">
              <a:solidFill>
                <a:srgbClr val="ffffff"/>
              </a:solidFill>
              <a:latin typeface="Arial"/>
            </a:endParaRPr>
          </a:p>
        </p:txBody>
      </p:sp>
      <p:sp>
        <p:nvSpPr>
          <p:cNvPr id="450" name=""/>
          <p:cNvSpPr txBox="1"/>
          <p:nvPr/>
        </p:nvSpPr>
        <p:spPr>
          <a:xfrm>
            <a:off x="1447920" y="53352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1523880"/>
            <a:ext cx="76960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PS amount is always shown for:</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from continuing operation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before extraordinary items and the cumulative effect of accounting chang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Net incom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discontinued operations or extraordinary items.</a:t>
            </a:r>
            <a:endParaRPr b="0" lang="en-US" sz="2800" spc="-1" strike="noStrike">
              <a:solidFill>
                <a:srgbClr val="ffffff"/>
              </a:solidFill>
              <a:latin typeface="Arial"/>
            </a:endParaRPr>
          </a:p>
        </p:txBody>
      </p:sp>
      <p:sp>
        <p:nvSpPr>
          <p:cNvPr id="452" name=""/>
          <p:cNvSpPr txBox="1"/>
          <p:nvPr/>
        </p:nvSpPr>
        <p:spPr>
          <a:xfrm>
            <a:off x="1371600" y="6094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762120" y="2459160"/>
            <a:ext cx="8077320" cy="386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necessary to determine if the number of common shares changed, and if the company paid preferred stock dividends during the year.</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 company has only common stock and has the same number of shares outstanding throughout the year, the EPS calculation is simple.</a:t>
            </a:r>
            <a:endParaRPr b="0" lang="en-US" sz="2800" spc="-1" strike="noStrike">
              <a:solidFill>
                <a:srgbClr val="ffffff"/>
              </a:solidFill>
              <a:latin typeface="Arial"/>
            </a:endParaRPr>
          </a:p>
        </p:txBody>
      </p:sp>
      <p:grpSp>
        <p:nvGrpSpPr>
          <p:cNvPr id="454" name=""/>
          <p:cNvGrpSpPr/>
          <p:nvPr/>
        </p:nvGrpSpPr>
        <p:grpSpPr>
          <a:xfrm>
            <a:off x="990720" y="1066680"/>
            <a:ext cx="7748640" cy="1308240"/>
            <a:chOff x="990720" y="1066680"/>
            <a:chExt cx="7748640" cy="1308240"/>
          </a:xfrm>
        </p:grpSpPr>
        <p:sp>
          <p:nvSpPr>
            <p:cNvPr id="455" name=""/>
            <p:cNvSpPr txBox="1"/>
            <p:nvPr/>
          </p:nvSpPr>
          <p:spPr>
            <a:xfrm>
              <a:off x="990720" y="1219320"/>
              <a:ext cx="22464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Basic EPS =</a:t>
              </a:r>
              <a:endParaRPr b="0" lang="en-US" sz="2800" spc="-1" strike="noStrike">
                <a:solidFill>
                  <a:srgbClr val="ffffff"/>
                </a:solidFill>
                <a:latin typeface="Arial"/>
              </a:endParaRPr>
            </a:p>
          </p:txBody>
        </p:sp>
        <p:sp>
          <p:nvSpPr>
            <p:cNvPr id="456" name=""/>
            <p:cNvSpPr txBox="1"/>
            <p:nvPr/>
          </p:nvSpPr>
          <p:spPr>
            <a:xfrm>
              <a:off x="3276720" y="1066680"/>
              <a:ext cx="5462640" cy="13082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Net Income                 </a:t>
              </a:r>
              <a:endParaRPr b="0" lang="en-US" sz="2800" spc="-1" strike="noStrike">
                <a:solidFill>
                  <a:srgbClr val="ffffff"/>
                </a:solidFill>
                <a:latin typeface="Arial"/>
              </a:endParaRPr>
            </a:p>
            <a:p>
              <a:pPr>
                <a:lnSpc>
                  <a:spcPct val="100000"/>
                </a:lnSpc>
              </a:pPr>
              <a:r>
                <a:rPr b="1" lang="en-US" sz="2400" spc="-1" strike="noStrike">
                  <a:solidFill>
                    <a:srgbClr val="fcffd8"/>
                  </a:solidFill>
                  <a:latin typeface="Arial"/>
                  <a:ea typeface="Arial"/>
                </a:rPr>
                <a:t>Weighted-Average Common Shares</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Outstanding</a:t>
              </a:r>
              <a:endParaRPr b="0" lang="en-US" sz="2400" spc="-1" strike="noStrike">
                <a:solidFill>
                  <a:srgbClr val="ffffff"/>
                </a:solidFill>
                <a:latin typeface="Arial"/>
              </a:endParaRPr>
            </a:p>
          </p:txBody>
        </p:sp>
      </p:grpSp>
      <p:sp>
        <p:nvSpPr>
          <p:cNvPr id="457" name=""/>
          <p:cNvSpPr txBox="1"/>
          <p:nvPr/>
        </p:nvSpPr>
        <p:spPr>
          <a:xfrm>
            <a:off x="1295280" y="304920"/>
            <a:ext cx="6934320" cy="567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Earnings per Sha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2133720" y="2666880"/>
            <a:ext cx="6400800" cy="26668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Identify the issues related to evaluating the quality of a company’s earnings.</a:t>
            </a:r>
            <a:endParaRPr b="0" lang="en-US" sz="3200" spc="-1" strike="noStrike">
              <a:solidFill>
                <a:srgbClr val="ffffff"/>
              </a:solidFill>
              <a:latin typeface="Arial"/>
            </a:endParaRPr>
          </a:p>
        </p:txBody>
      </p:sp>
      <p:sp>
        <p:nvSpPr>
          <p:cNvPr id="52" name=""/>
          <p:cNvSpPr txBox="1"/>
          <p:nvPr/>
        </p:nvSpPr>
        <p:spPr>
          <a:xfrm>
            <a:off x="838080" y="838080"/>
            <a:ext cx="7924680" cy="175248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Performance Measurement:</a:t>
            </a:r>
            <a:br>
              <a:rPr sz="4400"/>
            </a:b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pic>
        <p:nvPicPr>
          <p:cNvPr id="5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8" name=""/>
          <p:cNvSpPr txBox="1"/>
          <p:nvPr/>
        </p:nvSpPr>
        <p:spPr>
          <a:xfrm>
            <a:off x="914400" y="990720"/>
            <a:ext cx="7924680" cy="5072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nonconvertible preferred stock outstanding, its dividend must be subtracted from net income before EPS for common stock is computed.</a:t>
            </a:r>
            <a:endParaRPr b="0" lang="en-US" sz="3200" spc="-1" strike="noStrike">
              <a:solidFill>
                <a:srgbClr val="ffffff"/>
              </a:solidFill>
              <a:latin typeface="Arial"/>
            </a:endParaRPr>
          </a:p>
        </p:txBody>
      </p:sp>
      <p:sp>
        <p:nvSpPr>
          <p:cNvPr id="459" name=""/>
          <p:cNvSpPr txBox="1"/>
          <p:nvPr/>
        </p:nvSpPr>
        <p:spPr>
          <a:xfrm>
            <a:off x="1371600" y="22860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0" name=""/>
          <p:cNvSpPr txBox="1"/>
          <p:nvPr/>
        </p:nvSpPr>
        <p:spPr>
          <a:xfrm>
            <a:off x="1066680" y="1523880"/>
            <a:ext cx="76122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me companies have a complex capital structure that may include exercisable stock options or convertible stocks and bond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convertible securities have the potential of diluting the EPS of common stock.</a:t>
            </a:r>
            <a:endParaRPr b="0" lang="en-US" sz="3200" spc="-1" strike="noStrike">
              <a:solidFill>
                <a:srgbClr val="ffffff"/>
              </a:solidFill>
              <a:latin typeface="Arial"/>
            </a:endParaRPr>
          </a:p>
        </p:txBody>
      </p:sp>
      <p:sp>
        <p:nvSpPr>
          <p:cNvPr id="461" name=""/>
          <p:cNvSpPr txBox="1"/>
          <p:nvPr/>
        </p:nvSpPr>
        <p:spPr>
          <a:xfrm>
            <a:off x="838080" y="533520"/>
            <a:ext cx="7931160" cy="1106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2" name=""/>
          <p:cNvSpPr txBox="1"/>
          <p:nvPr/>
        </p:nvSpPr>
        <p:spPr>
          <a:xfrm>
            <a:off x="1219320" y="1752480"/>
            <a:ext cx="73915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Potential dilution </a:t>
            </a:r>
            <a:r>
              <a:rPr b="1" lang="en-US" sz="3200" spc="-1" strike="noStrike">
                <a:solidFill>
                  <a:srgbClr val="fcffd8"/>
                </a:solidFill>
                <a:latin typeface="Arial"/>
                <a:ea typeface="Arial"/>
              </a:rPr>
              <a:t>means that a stockholder’s proportionate share of ownership in a company could be reduced by conversion, which would increase the total shares outstanding.</a:t>
            </a:r>
            <a:endParaRPr b="0" lang="en-US" sz="3200" spc="-1" strike="noStrike">
              <a:solidFill>
                <a:srgbClr val="ffffff"/>
              </a:solidFill>
              <a:latin typeface="Arial"/>
            </a:endParaRPr>
          </a:p>
        </p:txBody>
      </p:sp>
      <p:sp>
        <p:nvSpPr>
          <p:cNvPr id="463" name=""/>
          <p:cNvSpPr txBox="1"/>
          <p:nvPr/>
        </p:nvSpPr>
        <p:spPr>
          <a:xfrm>
            <a:off x="1066680" y="685800"/>
            <a:ext cx="7626240" cy="1030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4" name=""/>
          <p:cNvSpPr txBox="1"/>
          <p:nvPr/>
        </p:nvSpPr>
        <p:spPr>
          <a:xfrm>
            <a:off x="914400" y="1143000"/>
            <a:ext cx="784872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with a complex capital structure must report two earnings per shar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Basic earnings per shar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Diluted earnings per share.</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Diluted EPS</a:t>
            </a:r>
            <a:r>
              <a:rPr b="1" lang="en-US" sz="3200" spc="-1" strike="noStrike">
                <a:solidFill>
                  <a:srgbClr val="fcffd8"/>
                </a:solidFill>
                <a:latin typeface="Arial"/>
                <a:ea typeface="Arial"/>
              </a:rPr>
              <a:t> is calculated by adding all potentially dilutive securities to the denominator of the basic EPS calculation.</a:t>
            </a:r>
            <a:endParaRPr b="0" lang="en-US" sz="3200" spc="-1" strike="noStrike">
              <a:solidFill>
                <a:srgbClr val="ffffff"/>
              </a:solidFill>
              <a:latin typeface="Arial"/>
            </a:endParaRPr>
          </a:p>
        </p:txBody>
      </p:sp>
      <p:sp>
        <p:nvSpPr>
          <p:cNvPr id="465" name=""/>
          <p:cNvSpPr txBox="1"/>
          <p:nvPr/>
        </p:nvSpPr>
        <p:spPr>
          <a:xfrm>
            <a:off x="762120" y="304920"/>
            <a:ext cx="83390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6" name=""/>
          <p:cNvSpPr txBox="1"/>
          <p:nvPr/>
        </p:nvSpPr>
        <p:spPr>
          <a:xfrm>
            <a:off x="1600200" y="609480"/>
            <a:ext cx="6253200" cy="922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7" name=""/>
          <p:cNvSpPr txBox="1"/>
          <p:nvPr/>
        </p:nvSpPr>
        <p:spPr>
          <a:xfrm>
            <a:off x="914400" y="1676520"/>
            <a:ext cx="8001000" cy="4421160"/>
          </a:xfrm>
          <a:prstGeom prst="rect">
            <a:avLst/>
          </a:prstGeom>
          <a:noFill/>
          <a:ln w="0">
            <a:noFill/>
          </a:ln>
        </p:spPr>
        <p:txBody>
          <a:bodyPr lIns="0" rIns="0" tIns="0" bIns="0" anchor="t">
            <a:noAutofit/>
          </a:bodyPr>
          <a:p>
            <a:pPr marL="741240" indent="-74124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does a company have a simple capital structure? A complex capital structure?</a:t>
            </a:r>
            <a:endParaRPr b="0" lang="en-US" sz="2800" spc="-1" strike="noStrike">
              <a:solidFill>
                <a:srgbClr val="ffffff"/>
              </a:solidFill>
              <a:latin typeface="Arial"/>
            </a:endParaRPr>
          </a:p>
          <a:p>
            <a:pPr marL="741240" indent="-74124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0" lang="en-US" sz="2800" spc="-1" strike="noStrike">
              <a:solidFill>
                <a:srgbClr val="ffffff"/>
              </a:solidFill>
              <a:latin typeface="Arial"/>
            </a:endParaRPr>
          </a:p>
        </p:txBody>
      </p:sp>
      <p:grpSp>
        <p:nvGrpSpPr>
          <p:cNvPr id="468" name=""/>
          <p:cNvGrpSpPr/>
          <p:nvPr/>
        </p:nvGrpSpPr>
        <p:grpSpPr>
          <a:xfrm>
            <a:off x="7238880" y="228600"/>
            <a:ext cx="1599120" cy="1522800"/>
            <a:chOff x="7238880" y="228600"/>
            <a:chExt cx="1599120" cy="1522800"/>
          </a:xfrm>
        </p:grpSpPr>
        <p:sp>
          <p:nvSpPr>
            <p:cNvPr id="469" name=""/>
            <p:cNvSpPr/>
            <p:nvPr/>
          </p:nvSpPr>
          <p:spPr>
            <a:xfrm>
              <a:off x="7243920" y="974880"/>
              <a:ext cx="387720" cy="533880"/>
            </a:xfrm>
            <a:custGeom>
              <a:avLst/>
              <a:gdLst/>
              <a:ahLst/>
              <a:rect l="0" t="0" r="r" b="b"/>
              <a:pathLst>
                <a:path w="1077" h="1483">
                  <a:moveTo>
                    <a:pt x="433" y="0"/>
                  </a:moveTo>
                  <a:lnTo>
                    <a:pt x="375" y="66"/>
                  </a:lnTo>
                  <a:lnTo>
                    <a:pt x="375" y="260"/>
                  </a:lnTo>
                  <a:lnTo>
                    <a:pt x="433" y="402"/>
                  </a:lnTo>
                  <a:lnTo>
                    <a:pt x="494" y="468"/>
                  </a:lnTo>
                  <a:lnTo>
                    <a:pt x="397" y="561"/>
                  </a:lnTo>
                  <a:lnTo>
                    <a:pt x="268" y="781"/>
                  </a:lnTo>
                  <a:lnTo>
                    <a:pt x="22" y="1122"/>
                  </a:lnTo>
                  <a:lnTo>
                    <a:pt x="0" y="1201"/>
                  </a:lnTo>
                  <a:lnTo>
                    <a:pt x="22" y="1272"/>
                  </a:lnTo>
                  <a:lnTo>
                    <a:pt x="101" y="1272"/>
                  </a:lnTo>
                  <a:lnTo>
                    <a:pt x="163" y="1192"/>
                  </a:lnTo>
                  <a:lnTo>
                    <a:pt x="268" y="997"/>
                  </a:lnTo>
                  <a:lnTo>
                    <a:pt x="336" y="918"/>
                  </a:lnTo>
                  <a:lnTo>
                    <a:pt x="375" y="1046"/>
                  </a:lnTo>
                  <a:lnTo>
                    <a:pt x="344" y="1179"/>
                  </a:lnTo>
                  <a:lnTo>
                    <a:pt x="238" y="1373"/>
                  </a:lnTo>
                  <a:lnTo>
                    <a:pt x="268" y="1421"/>
                  </a:lnTo>
                  <a:lnTo>
                    <a:pt x="336" y="1413"/>
                  </a:lnTo>
                  <a:lnTo>
                    <a:pt x="468" y="1307"/>
                  </a:lnTo>
                  <a:lnTo>
                    <a:pt x="574" y="1130"/>
                  </a:lnTo>
                  <a:lnTo>
                    <a:pt x="574" y="1435"/>
                  </a:lnTo>
                  <a:lnTo>
                    <a:pt x="702" y="1483"/>
                  </a:lnTo>
                  <a:lnTo>
                    <a:pt x="777" y="1298"/>
                  </a:lnTo>
                  <a:lnTo>
                    <a:pt x="844" y="1470"/>
                  </a:lnTo>
                  <a:lnTo>
                    <a:pt x="897" y="1421"/>
                  </a:lnTo>
                  <a:lnTo>
                    <a:pt x="923" y="1081"/>
                  </a:lnTo>
                  <a:lnTo>
                    <a:pt x="1077" y="750"/>
                  </a:lnTo>
                  <a:lnTo>
                    <a:pt x="1042" y="561"/>
                  </a:lnTo>
                  <a:lnTo>
                    <a:pt x="932" y="494"/>
                  </a:lnTo>
                  <a:lnTo>
                    <a:pt x="817" y="503"/>
                  </a:lnTo>
                  <a:lnTo>
                    <a:pt x="777" y="352"/>
                  </a:lnTo>
                  <a:lnTo>
                    <a:pt x="658" y="317"/>
                  </a:lnTo>
                  <a:lnTo>
                    <a:pt x="556" y="264"/>
                  </a:lnTo>
                  <a:lnTo>
                    <a:pt x="494" y="30"/>
                  </a:lnTo>
                  <a:lnTo>
                    <a:pt x="4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7569360" y="1192320"/>
              <a:ext cx="114840" cy="257400"/>
            </a:xfrm>
            <a:custGeom>
              <a:avLst/>
              <a:gdLst/>
              <a:ahLst/>
              <a:rect l="0" t="0" r="r" b="b"/>
              <a:pathLst>
                <a:path w="319" h="715">
                  <a:moveTo>
                    <a:pt x="159" y="0"/>
                  </a:moveTo>
                  <a:lnTo>
                    <a:pt x="319" y="185"/>
                  </a:lnTo>
                  <a:lnTo>
                    <a:pt x="240" y="587"/>
                  </a:lnTo>
                  <a:lnTo>
                    <a:pt x="0" y="715"/>
                  </a:lnTo>
                  <a:lnTo>
                    <a:pt x="0" y="516"/>
                  </a:lnTo>
                  <a:lnTo>
                    <a:pt x="98" y="304"/>
                  </a:lnTo>
                  <a:lnTo>
                    <a:pt x="159" y="149"/>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8313840" y="1042920"/>
              <a:ext cx="286200" cy="233640"/>
            </a:xfrm>
            <a:custGeom>
              <a:avLst/>
              <a:gdLst/>
              <a:ahLst/>
              <a:rect l="0" t="0" r="r" b="b"/>
              <a:pathLst>
                <a:path w="795" h="649">
                  <a:moveTo>
                    <a:pt x="327" y="0"/>
                  </a:moveTo>
                  <a:lnTo>
                    <a:pt x="327" y="105"/>
                  </a:lnTo>
                  <a:lnTo>
                    <a:pt x="358" y="198"/>
                  </a:lnTo>
                  <a:lnTo>
                    <a:pt x="512" y="349"/>
                  </a:lnTo>
                  <a:lnTo>
                    <a:pt x="795" y="441"/>
                  </a:lnTo>
                  <a:lnTo>
                    <a:pt x="756" y="636"/>
                  </a:lnTo>
                  <a:lnTo>
                    <a:pt x="512" y="649"/>
                  </a:lnTo>
                  <a:lnTo>
                    <a:pt x="149" y="508"/>
                  </a:lnTo>
                  <a:lnTo>
                    <a:pt x="0" y="255"/>
                  </a:lnTo>
                  <a:lnTo>
                    <a:pt x="180"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8427960" y="781200"/>
              <a:ext cx="400320" cy="511560"/>
            </a:xfrm>
            <a:custGeom>
              <a:avLst/>
              <a:gdLst/>
              <a:ahLst/>
              <a:rect l="0" t="0" r="r" b="b"/>
              <a:pathLst>
                <a:path w="1112" h="1421">
                  <a:moveTo>
                    <a:pt x="101" y="605"/>
                  </a:moveTo>
                  <a:lnTo>
                    <a:pt x="0" y="706"/>
                  </a:lnTo>
                  <a:lnTo>
                    <a:pt x="22" y="935"/>
                  </a:lnTo>
                  <a:lnTo>
                    <a:pt x="176" y="1041"/>
                  </a:lnTo>
                  <a:lnTo>
                    <a:pt x="189" y="1399"/>
                  </a:lnTo>
                  <a:lnTo>
                    <a:pt x="348" y="1399"/>
                  </a:lnTo>
                  <a:lnTo>
                    <a:pt x="335" y="1100"/>
                  </a:lnTo>
                  <a:lnTo>
                    <a:pt x="449" y="1408"/>
                  </a:lnTo>
                  <a:lnTo>
                    <a:pt x="529" y="1421"/>
                  </a:lnTo>
                  <a:lnTo>
                    <a:pt x="583" y="1316"/>
                  </a:lnTo>
                  <a:lnTo>
                    <a:pt x="596" y="1126"/>
                  </a:lnTo>
                  <a:lnTo>
                    <a:pt x="768" y="1307"/>
                  </a:lnTo>
                  <a:lnTo>
                    <a:pt x="834" y="1294"/>
                  </a:lnTo>
                  <a:lnTo>
                    <a:pt x="816" y="1166"/>
                  </a:lnTo>
                  <a:lnTo>
                    <a:pt x="755" y="988"/>
                  </a:lnTo>
                  <a:lnTo>
                    <a:pt x="688" y="865"/>
                  </a:lnTo>
                  <a:lnTo>
                    <a:pt x="710" y="785"/>
                  </a:lnTo>
                  <a:lnTo>
                    <a:pt x="755" y="799"/>
                  </a:lnTo>
                  <a:lnTo>
                    <a:pt x="909" y="988"/>
                  </a:lnTo>
                  <a:lnTo>
                    <a:pt x="1076" y="1032"/>
                  </a:lnTo>
                  <a:lnTo>
                    <a:pt x="1112" y="971"/>
                  </a:lnTo>
                  <a:lnTo>
                    <a:pt x="1090" y="878"/>
                  </a:lnTo>
                  <a:lnTo>
                    <a:pt x="777" y="591"/>
                  </a:lnTo>
                  <a:lnTo>
                    <a:pt x="529" y="503"/>
                  </a:lnTo>
                  <a:lnTo>
                    <a:pt x="498" y="343"/>
                  </a:lnTo>
                  <a:lnTo>
                    <a:pt x="583" y="198"/>
                  </a:lnTo>
                  <a:lnTo>
                    <a:pt x="583" y="44"/>
                  </a:lnTo>
                  <a:lnTo>
                    <a:pt x="515" y="0"/>
                  </a:lnTo>
                  <a:lnTo>
                    <a:pt x="335" y="389"/>
                  </a:lnTo>
                  <a:lnTo>
                    <a:pt x="176" y="441"/>
                  </a:lnTo>
                  <a:lnTo>
                    <a:pt x="136" y="547"/>
                  </a:lnTo>
                  <a:lnTo>
                    <a:pt x="101" y="60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7772400" y="338040"/>
              <a:ext cx="435240" cy="652680"/>
            </a:xfrm>
            <a:custGeom>
              <a:avLst/>
              <a:gdLst/>
              <a:ahLst/>
              <a:rect l="0" t="0" r="r" b="b"/>
              <a:pathLst>
                <a:path w="1209" h="1813">
                  <a:moveTo>
                    <a:pt x="304" y="251"/>
                  </a:moveTo>
                  <a:lnTo>
                    <a:pt x="211" y="599"/>
                  </a:lnTo>
                  <a:lnTo>
                    <a:pt x="13" y="665"/>
                  </a:lnTo>
                  <a:lnTo>
                    <a:pt x="66" y="780"/>
                  </a:lnTo>
                  <a:lnTo>
                    <a:pt x="0" y="846"/>
                  </a:lnTo>
                  <a:lnTo>
                    <a:pt x="0" y="975"/>
                  </a:lnTo>
                  <a:lnTo>
                    <a:pt x="97" y="1090"/>
                  </a:lnTo>
                  <a:lnTo>
                    <a:pt x="189" y="1090"/>
                  </a:lnTo>
                  <a:lnTo>
                    <a:pt x="251" y="1491"/>
                  </a:lnTo>
                  <a:lnTo>
                    <a:pt x="326" y="1663"/>
                  </a:lnTo>
                  <a:lnTo>
                    <a:pt x="577" y="1813"/>
                  </a:lnTo>
                  <a:lnTo>
                    <a:pt x="821" y="1795"/>
                  </a:lnTo>
                  <a:lnTo>
                    <a:pt x="940" y="1491"/>
                  </a:lnTo>
                  <a:lnTo>
                    <a:pt x="966" y="1032"/>
                  </a:lnTo>
                  <a:lnTo>
                    <a:pt x="1209" y="802"/>
                  </a:lnTo>
                  <a:lnTo>
                    <a:pt x="1200" y="709"/>
                  </a:lnTo>
                  <a:lnTo>
                    <a:pt x="1169" y="665"/>
                  </a:lnTo>
                  <a:lnTo>
                    <a:pt x="1041" y="657"/>
                  </a:lnTo>
                  <a:lnTo>
                    <a:pt x="1081" y="537"/>
                  </a:lnTo>
                  <a:lnTo>
                    <a:pt x="957" y="458"/>
                  </a:lnTo>
                  <a:lnTo>
                    <a:pt x="900" y="198"/>
                  </a:lnTo>
                  <a:lnTo>
                    <a:pt x="524" y="0"/>
                  </a:lnTo>
                  <a:lnTo>
                    <a:pt x="326" y="185"/>
                  </a:lnTo>
                  <a:lnTo>
                    <a:pt x="304" y="2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7804080" y="882720"/>
              <a:ext cx="398880" cy="781560"/>
            </a:xfrm>
            <a:custGeom>
              <a:avLst/>
              <a:gdLst/>
              <a:ahLst/>
              <a:rect l="0" t="0" r="r" b="b"/>
              <a:pathLst>
                <a:path w="1108" h="2171">
                  <a:moveTo>
                    <a:pt x="224" y="114"/>
                  </a:moveTo>
                  <a:lnTo>
                    <a:pt x="384" y="216"/>
                  </a:lnTo>
                  <a:lnTo>
                    <a:pt x="464" y="335"/>
                  </a:lnTo>
                  <a:lnTo>
                    <a:pt x="905" y="0"/>
                  </a:lnTo>
                  <a:lnTo>
                    <a:pt x="1047" y="70"/>
                  </a:lnTo>
                  <a:lnTo>
                    <a:pt x="1108" y="410"/>
                  </a:lnTo>
                  <a:lnTo>
                    <a:pt x="790" y="1412"/>
                  </a:lnTo>
                  <a:lnTo>
                    <a:pt x="892" y="1964"/>
                  </a:lnTo>
                  <a:lnTo>
                    <a:pt x="472" y="2171"/>
                  </a:lnTo>
                  <a:lnTo>
                    <a:pt x="149" y="2056"/>
                  </a:lnTo>
                  <a:lnTo>
                    <a:pt x="149" y="1469"/>
                  </a:lnTo>
                  <a:lnTo>
                    <a:pt x="0" y="904"/>
                  </a:lnTo>
                  <a:lnTo>
                    <a:pt x="149" y="216"/>
                  </a:lnTo>
                  <a:lnTo>
                    <a:pt x="224"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821720" y="250920"/>
              <a:ext cx="371880" cy="205200"/>
            </a:xfrm>
            <a:custGeom>
              <a:avLst/>
              <a:gdLst/>
              <a:ahLst/>
              <a:rect l="0" t="0" r="r" b="b"/>
              <a:pathLst>
                <a:path w="1033" h="570">
                  <a:moveTo>
                    <a:pt x="127" y="548"/>
                  </a:moveTo>
                  <a:lnTo>
                    <a:pt x="278" y="393"/>
                  </a:lnTo>
                  <a:lnTo>
                    <a:pt x="375" y="371"/>
                  </a:lnTo>
                  <a:lnTo>
                    <a:pt x="375" y="380"/>
                  </a:lnTo>
                  <a:lnTo>
                    <a:pt x="424" y="371"/>
                  </a:lnTo>
                  <a:lnTo>
                    <a:pt x="490" y="415"/>
                  </a:lnTo>
                  <a:lnTo>
                    <a:pt x="609" y="438"/>
                  </a:lnTo>
                  <a:lnTo>
                    <a:pt x="710" y="570"/>
                  </a:lnTo>
                  <a:lnTo>
                    <a:pt x="870" y="513"/>
                  </a:lnTo>
                  <a:lnTo>
                    <a:pt x="870" y="451"/>
                  </a:lnTo>
                  <a:lnTo>
                    <a:pt x="1033" y="380"/>
                  </a:lnTo>
                  <a:lnTo>
                    <a:pt x="985" y="278"/>
                  </a:lnTo>
                  <a:lnTo>
                    <a:pt x="831" y="265"/>
                  </a:lnTo>
                  <a:lnTo>
                    <a:pt x="857" y="150"/>
                  </a:lnTo>
                  <a:lnTo>
                    <a:pt x="724" y="159"/>
                  </a:lnTo>
                  <a:lnTo>
                    <a:pt x="702" y="79"/>
                  </a:lnTo>
                  <a:lnTo>
                    <a:pt x="609" y="79"/>
                  </a:lnTo>
                  <a:lnTo>
                    <a:pt x="547" y="127"/>
                  </a:lnTo>
                  <a:lnTo>
                    <a:pt x="490" y="127"/>
                  </a:lnTo>
                  <a:lnTo>
                    <a:pt x="499" y="0"/>
                  </a:lnTo>
                  <a:lnTo>
                    <a:pt x="375" y="61"/>
                  </a:lnTo>
                  <a:lnTo>
                    <a:pt x="202" y="265"/>
                  </a:lnTo>
                  <a:lnTo>
                    <a:pt x="194" y="127"/>
                  </a:lnTo>
                  <a:lnTo>
                    <a:pt x="101" y="195"/>
                  </a:lnTo>
                  <a:lnTo>
                    <a:pt x="79" y="371"/>
                  </a:lnTo>
                  <a:lnTo>
                    <a:pt x="0" y="336"/>
                  </a:lnTo>
                  <a:lnTo>
                    <a:pt x="13" y="451"/>
                  </a:lnTo>
                  <a:lnTo>
                    <a:pt x="127" y="54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921800" y="1027080"/>
              <a:ext cx="119520" cy="590760"/>
            </a:xfrm>
            <a:custGeom>
              <a:avLst/>
              <a:gdLst/>
              <a:ahLst/>
              <a:rect l="0" t="0" r="r" b="b"/>
              <a:pathLst>
                <a:path w="332" h="1641">
                  <a:moveTo>
                    <a:pt x="172" y="8"/>
                  </a:moveTo>
                  <a:lnTo>
                    <a:pt x="57" y="79"/>
                  </a:lnTo>
                  <a:lnTo>
                    <a:pt x="57" y="216"/>
                  </a:lnTo>
                  <a:lnTo>
                    <a:pt x="137" y="264"/>
                  </a:lnTo>
                  <a:lnTo>
                    <a:pt x="30" y="485"/>
                  </a:lnTo>
                  <a:lnTo>
                    <a:pt x="0" y="771"/>
                  </a:lnTo>
                  <a:lnTo>
                    <a:pt x="84" y="1151"/>
                  </a:lnTo>
                  <a:lnTo>
                    <a:pt x="84" y="1310"/>
                  </a:lnTo>
                  <a:lnTo>
                    <a:pt x="39" y="1434"/>
                  </a:lnTo>
                  <a:lnTo>
                    <a:pt x="212" y="1641"/>
                  </a:lnTo>
                  <a:lnTo>
                    <a:pt x="323" y="1323"/>
                  </a:lnTo>
                  <a:lnTo>
                    <a:pt x="323" y="1103"/>
                  </a:lnTo>
                  <a:lnTo>
                    <a:pt x="239" y="900"/>
                  </a:lnTo>
                  <a:lnTo>
                    <a:pt x="199" y="621"/>
                  </a:lnTo>
                  <a:lnTo>
                    <a:pt x="284" y="352"/>
                  </a:lnTo>
                  <a:lnTo>
                    <a:pt x="253" y="242"/>
                  </a:lnTo>
                  <a:lnTo>
                    <a:pt x="332" y="185"/>
                  </a:lnTo>
                  <a:lnTo>
                    <a:pt x="323" y="114"/>
                  </a:lnTo>
                  <a:lnTo>
                    <a:pt x="221" y="0"/>
                  </a:lnTo>
                  <a:lnTo>
                    <a:pt x="17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7916760" y="828720"/>
              <a:ext cx="95760" cy="54360"/>
            </a:xfrm>
            <a:custGeom>
              <a:avLst/>
              <a:gdLst/>
              <a:ahLst/>
              <a:rect l="0" t="0" r="r" b="b"/>
              <a:pathLst>
                <a:path w="266" h="151">
                  <a:moveTo>
                    <a:pt x="0" y="45"/>
                  </a:moveTo>
                  <a:lnTo>
                    <a:pt x="106" y="151"/>
                  </a:lnTo>
                  <a:lnTo>
                    <a:pt x="213" y="138"/>
                  </a:lnTo>
                  <a:lnTo>
                    <a:pt x="266" y="13"/>
                  </a:lnTo>
                  <a:lnTo>
                    <a:pt x="150" y="0"/>
                  </a:lnTo>
                  <a:lnTo>
                    <a:pt x="26" y="13"/>
                  </a:lnTo>
                  <a:lnTo>
                    <a:pt x="0" y="45"/>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478" name=""/>
            <p:cNvSpPr/>
            <p:nvPr/>
          </p:nvSpPr>
          <p:spPr>
            <a:xfrm>
              <a:off x="7812000" y="555480"/>
              <a:ext cx="119520" cy="116280"/>
            </a:xfrm>
            <a:custGeom>
              <a:avLst/>
              <a:gdLst/>
              <a:ahLst/>
              <a:rect l="0" t="0" r="r" b="b"/>
              <a:pathLst>
                <a:path w="332" h="323">
                  <a:moveTo>
                    <a:pt x="0" y="35"/>
                  </a:moveTo>
                  <a:lnTo>
                    <a:pt x="230" y="323"/>
                  </a:lnTo>
                  <a:lnTo>
                    <a:pt x="332" y="301"/>
                  </a:lnTo>
                  <a:lnTo>
                    <a:pt x="93" y="0"/>
                  </a:lnTo>
                  <a:lnTo>
                    <a:pt x="0" y="3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8021520" y="531720"/>
              <a:ext cx="103680" cy="114840"/>
            </a:xfrm>
            <a:custGeom>
              <a:avLst/>
              <a:gdLst/>
              <a:ahLst/>
              <a:rect l="0" t="0" r="r" b="b"/>
              <a:pathLst>
                <a:path w="288" h="319">
                  <a:moveTo>
                    <a:pt x="0" y="44"/>
                  </a:moveTo>
                  <a:lnTo>
                    <a:pt x="199" y="319"/>
                  </a:lnTo>
                  <a:lnTo>
                    <a:pt x="288" y="248"/>
                  </a:lnTo>
                  <a:lnTo>
                    <a:pt x="8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767720" y="382680"/>
              <a:ext cx="417960" cy="289440"/>
            </a:xfrm>
            <a:custGeom>
              <a:avLst/>
              <a:gdLst/>
              <a:ahLst/>
              <a:rect l="0" t="0" r="r" b="b"/>
              <a:pathLst>
                <a:path w="1161" h="804">
                  <a:moveTo>
                    <a:pt x="534" y="477"/>
                  </a:moveTo>
                  <a:lnTo>
                    <a:pt x="428" y="450"/>
                  </a:lnTo>
                  <a:lnTo>
                    <a:pt x="516" y="375"/>
                  </a:lnTo>
                  <a:lnTo>
                    <a:pt x="486" y="336"/>
                  </a:lnTo>
                  <a:lnTo>
                    <a:pt x="367" y="433"/>
                  </a:lnTo>
                  <a:lnTo>
                    <a:pt x="145" y="455"/>
                  </a:lnTo>
                  <a:lnTo>
                    <a:pt x="0" y="459"/>
                  </a:lnTo>
                  <a:lnTo>
                    <a:pt x="0" y="574"/>
                  </a:lnTo>
                  <a:lnTo>
                    <a:pt x="141" y="800"/>
                  </a:lnTo>
                  <a:lnTo>
                    <a:pt x="171" y="804"/>
                  </a:lnTo>
                  <a:lnTo>
                    <a:pt x="48" y="556"/>
                  </a:lnTo>
                  <a:lnTo>
                    <a:pt x="242" y="477"/>
                  </a:lnTo>
                  <a:lnTo>
                    <a:pt x="367" y="477"/>
                  </a:lnTo>
                  <a:lnTo>
                    <a:pt x="459" y="525"/>
                  </a:lnTo>
                  <a:lnTo>
                    <a:pt x="486" y="596"/>
                  </a:lnTo>
                  <a:lnTo>
                    <a:pt x="486" y="747"/>
                  </a:lnTo>
                  <a:lnTo>
                    <a:pt x="486" y="800"/>
                  </a:lnTo>
                  <a:lnTo>
                    <a:pt x="538" y="729"/>
                  </a:lnTo>
                  <a:lnTo>
                    <a:pt x="538" y="565"/>
                  </a:lnTo>
                  <a:lnTo>
                    <a:pt x="622" y="565"/>
                  </a:lnTo>
                  <a:lnTo>
                    <a:pt x="662" y="747"/>
                  </a:lnTo>
                  <a:lnTo>
                    <a:pt x="706" y="764"/>
                  </a:lnTo>
                  <a:lnTo>
                    <a:pt x="847" y="764"/>
                  </a:lnTo>
                  <a:lnTo>
                    <a:pt x="994" y="734"/>
                  </a:lnTo>
                  <a:lnTo>
                    <a:pt x="1091" y="663"/>
                  </a:lnTo>
                  <a:lnTo>
                    <a:pt x="1108" y="499"/>
                  </a:lnTo>
                  <a:lnTo>
                    <a:pt x="1161" y="433"/>
                  </a:lnTo>
                  <a:lnTo>
                    <a:pt x="1130" y="389"/>
                  </a:lnTo>
                  <a:lnTo>
                    <a:pt x="1003" y="344"/>
                  </a:lnTo>
                  <a:lnTo>
                    <a:pt x="980" y="180"/>
                  </a:lnTo>
                  <a:lnTo>
                    <a:pt x="856" y="180"/>
                  </a:lnTo>
                  <a:lnTo>
                    <a:pt x="715" y="0"/>
                  </a:lnTo>
                  <a:lnTo>
                    <a:pt x="843" y="198"/>
                  </a:lnTo>
                  <a:lnTo>
                    <a:pt x="888" y="198"/>
                  </a:lnTo>
                  <a:lnTo>
                    <a:pt x="914" y="336"/>
                  </a:lnTo>
                  <a:lnTo>
                    <a:pt x="750" y="389"/>
                  </a:lnTo>
                  <a:lnTo>
                    <a:pt x="631" y="353"/>
                  </a:lnTo>
                  <a:lnTo>
                    <a:pt x="613" y="389"/>
                  </a:lnTo>
                  <a:lnTo>
                    <a:pt x="675" y="433"/>
                  </a:lnTo>
                  <a:lnTo>
                    <a:pt x="675" y="472"/>
                  </a:lnTo>
                  <a:lnTo>
                    <a:pt x="816" y="406"/>
                  </a:lnTo>
                  <a:lnTo>
                    <a:pt x="932" y="402"/>
                  </a:lnTo>
                  <a:lnTo>
                    <a:pt x="1064" y="415"/>
                  </a:lnTo>
                  <a:lnTo>
                    <a:pt x="1064" y="441"/>
                  </a:lnTo>
                  <a:lnTo>
                    <a:pt x="1003" y="494"/>
                  </a:lnTo>
                  <a:lnTo>
                    <a:pt x="980" y="565"/>
                  </a:lnTo>
                  <a:lnTo>
                    <a:pt x="972" y="663"/>
                  </a:lnTo>
                  <a:lnTo>
                    <a:pt x="897" y="703"/>
                  </a:lnTo>
                  <a:lnTo>
                    <a:pt x="785" y="716"/>
                  </a:lnTo>
                  <a:lnTo>
                    <a:pt x="706" y="716"/>
                  </a:lnTo>
                  <a:lnTo>
                    <a:pt x="680" y="689"/>
                  </a:lnTo>
                  <a:lnTo>
                    <a:pt x="662" y="499"/>
                  </a:lnTo>
                  <a:lnTo>
                    <a:pt x="538" y="499"/>
                  </a:lnTo>
                  <a:lnTo>
                    <a:pt x="534" y="4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7912080" y="716040"/>
              <a:ext cx="133560" cy="59040"/>
            </a:xfrm>
            <a:custGeom>
              <a:avLst/>
              <a:gdLst/>
              <a:ahLst/>
              <a:rect l="0" t="0" r="r" b="b"/>
              <a:pathLst>
                <a:path w="371" h="164">
                  <a:moveTo>
                    <a:pt x="0" y="0"/>
                  </a:moveTo>
                  <a:lnTo>
                    <a:pt x="61" y="74"/>
                  </a:lnTo>
                  <a:lnTo>
                    <a:pt x="221" y="74"/>
                  </a:lnTo>
                  <a:lnTo>
                    <a:pt x="287" y="22"/>
                  </a:lnTo>
                  <a:lnTo>
                    <a:pt x="371" y="22"/>
                  </a:lnTo>
                  <a:lnTo>
                    <a:pt x="358" y="48"/>
                  </a:lnTo>
                  <a:lnTo>
                    <a:pt x="358" y="74"/>
                  </a:lnTo>
                  <a:lnTo>
                    <a:pt x="208" y="164"/>
                  </a:lnTo>
                  <a:lnTo>
                    <a:pt x="123" y="164"/>
                  </a:lnTo>
                  <a:lnTo>
                    <a:pt x="79" y="133"/>
                  </a:lnTo>
                  <a:lnTo>
                    <a:pt x="35" y="133"/>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482" name=""/>
            <p:cNvSpPr/>
            <p:nvPr/>
          </p:nvSpPr>
          <p:spPr>
            <a:xfrm>
              <a:off x="7761240" y="622440"/>
              <a:ext cx="203400" cy="309960"/>
            </a:xfrm>
            <a:custGeom>
              <a:avLst/>
              <a:gdLst/>
              <a:ahLst/>
              <a:rect l="0" t="0" r="r" b="b"/>
              <a:pathLst>
                <a:path w="565" h="861">
                  <a:moveTo>
                    <a:pt x="565" y="61"/>
                  </a:moveTo>
                  <a:lnTo>
                    <a:pt x="565" y="74"/>
                  </a:lnTo>
                  <a:lnTo>
                    <a:pt x="468" y="158"/>
                  </a:lnTo>
                  <a:lnTo>
                    <a:pt x="384" y="176"/>
                  </a:lnTo>
                  <a:lnTo>
                    <a:pt x="224" y="158"/>
                  </a:lnTo>
                  <a:lnTo>
                    <a:pt x="255" y="468"/>
                  </a:lnTo>
                  <a:lnTo>
                    <a:pt x="292" y="720"/>
                  </a:lnTo>
                  <a:lnTo>
                    <a:pt x="358" y="861"/>
                  </a:lnTo>
                  <a:lnTo>
                    <a:pt x="292" y="760"/>
                  </a:lnTo>
                  <a:lnTo>
                    <a:pt x="264" y="654"/>
                  </a:lnTo>
                  <a:lnTo>
                    <a:pt x="220" y="367"/>
                  </a:lnTo>
                  <a:lnTo>
                    <a:pt x="171" y="384"/>
                  </a:lnTo>
                  <a:lnTo>
                    <a:pt x="119" y="344"/>
                  </a:lnTo>
                  <a:lnTo>
                    <a:pt x="13" y="194"/>
                  </a:lnTo>
                  <a:lnTo>
                    <a:pt x="0" y="110"/>
                  </a:lnTo>
                  <a:lnTo>
                    <a:pt x="0" y="52"/>
                  </a:lnTo>
                  <a:lnTo>
                    <a:pt x="26" y="17"/>
                  </a:lnTo>
                  <a:lnTo>
                    <a:pt x="88" y="0"/>
                  </a:lnTo>
                  <a:lnTo>
                    <a:pt x="97" y="22"/>
                  </a:lnTo>
                  <a:lnTo>
                    <a:pt x="44" y="39"/>
                  </a:lnTo>
                  <a:lnTo>
                    <a:pt x="35" y="105"/>
                  </a:lnTo>
                  <a:lnTo>
                    <a:pt x="39" y="185"/>
                  </a:lnTo>
                  <a:lnTo>
                    <a:pt x="114" y="256"/>
                  </a:lnTo>
                  <a:lnTo>
                    <a:pt x="145" y="243"/>
                  </a:lnTo>
                  <a:lnTo>
                    <a:pt x="145" y="83"/>
                  </a:lnTo>
                  <a:lnTo>
                    <a:pt x="211" y="114"/>
                  </a:lnTo>
                  <a:lnTo>
                    <a:pt x="318" y="141"/>
                  </a:lnTo>
                  <a:lnTo>
                    <a:pt x="411" y="132"/>
                  </a:lnTo>
                  <a:lnTo>
                    <a:pt x="503" y="83"/>
                  </a:lnTo>
                  <a:lnTo>
                    <a:pt x="565"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7816680" y="372960"/>
              <a:ext cx="60840" cy="167040"/>
            </a:xfrm>
            <a:custGeom>
              <a:avLst/>
              <a:gdLst/>
              <a:ahLst/>
              <a:rect l="0" t="0" r="r" b="b"/>
              <a:pathLst>
                <a:path w="169" h="464">
                  <a:moveTo>
                    <a:pt x="89" y="464"/>
                  </a:moveTo>
                  <a:lnTo>
                    <a:pt x="169" y="189"/>
                  </a:lnTo>
                  <a:lnTo>
                    <a:pt x="22" y="92"/>
                  </a:lnTo>
                  <a:lnTo>
                    <a:pt x="0" y="0"/>
                  </a:lnTo>
                  <a:lnTo>
                    <a:pt x="13" y="114"/>
                  </a:lnTo>
                  <a:lnTo>
                    <a:pt x="62" y="158"/>
                  </a:lnTo>
                  <a:lnTo>
                    <a:pt x="67" y="300"/>
                  </a:lnTo>
                  <a:lnTo>
                    <a:pt x="102" y="349"/>
                  </a:lnTo>
                  <a:lnTo>
                    <a:pt x="89" y="4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13800" y="228600"/>
              <a:ext cx="457560" cy="219600"/>
            </a:xfrm>
            <a:custGeom>
              <a:avLst/>
              <a:gdLst/>
              <a:ahLst/>
              <a:rect l="0" t="0" r="r" b="b"/>
              <a:pathLst>
                <a:path w="1271" h="610">
                  <a:moveTo>
                    <a:pt x="13" y="411"/>
                  </a:moveTo>
                  <a:lnTo>
                    <a:pt x="123" y="478"/>
                  </a:lnTo>
                  <a:lnTo>
                    <a:pt x="110" y="397"/>
                  </a:lnTo>
                  <a:lnTo>
                    <a:pt x="132" y="261"/>
                  </a:lnTo>
                  <a:lnTo>
                    <a:pt x="202" y="230"/>
                  </a:lnTo>
                  <a:lnTo>
                    <a:pt x="211" y="375"/>
                  </a:lnTo>
                  <a:lnTo>
                    <a:pt x="427" y="119"/>
                  </a:lnTo>
                  <a:lnTo>
                    <a:pt x="476" y="101"/>
                  </a:lnTo>
                  <a:lnTo>
                    <a:pt x="436" y="203"/>
                  </a:lnTo>
                  <a:lnTo>
                    <a:pt x="573" y="256"/>
                  </a:lnTo>
                  <a:lnTo>
                    <a:pt x="671" y="149"/>
                  </a:lnTo>
                  <a:lnTo>
                    <a:pt x="719" y="181"/>
                  </a:lnTo>
                  <a:lnTo>
                    <a:pt x="675" y="269"/>
                  </a:lnTo>
                  <a:lnTo>
                    <a:pt x="741" y="217"/>
                  </a:lnTo>
                  <a:lnTo>
                    <a:pt x="834" y="261"/>
                  </a:lnTo>
                  <a:lnTo>
                    <a:pt x="759" y="331"/>
                  </a:lnTo>
                  <a:lnTo>
                    <a:pt x="1019" y="375"/>
                  </a:lnTo>
                  <a:lnTo>
                    <a:pt x="843" y="428"/>
                  </a:lnTo>
                  <a:lnTo>
                    <a:pt x="1063" y="460"/>
                  </a:lnTo>
                  <a:lnTo>
                    <a:pt x="803" y="517"/>
                  </a:lnTo>
                  <a:lnTo>
                    <a:pt x="860" y="566"/>
                  </a:lnTo>
                  <a:lnTo>
                    <a:pt x="781" y="610"/>
                  </a:lnTo>
                  <a:lnTo>
                    <a:pt x="918" y="610"/>
                  </a:lnTo>
                  <a:lnTo>
                    <a:pt x="904" y="575"/>
                  </a:lnTo>
                  <a:lnTo>
                    <a:pt x="1041" y="606"/>
                  </a:lnTo>
                  <a:lnTo>
                    <a:pt x="1019" y="509"/>
                  </a:lnTo>
                  <a:lnTo>
                    <a:pt x="1147" y="465"/>
                  </a:lnTo>
                  <a:lnTo>
                    <a:pt x="1054" y="419"/>
                  </a:lnTo>
                  <a:lnTo>
                    <a:pt x="1271" y="406"/>
                  </a:lnTo>
                  <a:lnTo>
                    <a:pt x="1085" y="305"/>
                  </a:lnTo>
                  <a:lnTo>
                    <a:pt x="874" y="287"/>
                  </a:lnTo>
                  <a:lnTo>
                    <a:pt x="1041" y="186"/>
                  </a:lnTo>
                  <a:lnTo>
                    <a:pt x="741" y="186"/>
                  </a:lnTo>
                  <a:lnTo>
                    <a:pt x="882" y="92"/>
                  </a:lnTo>
                  <a:lnTo>
                    <a:pt x="662" y="119"/>
                  </a:lnTo>
                  <a:lnTo>
                    <a:pt x="560" y="164"/>
                  </a:lnTo>
                  <a:lnTo>
                    <a:pt x="649" y="0"/>
                  </a:lnTo>
                  <a:lnTo>
                    <a:pt x="383" y="92"/>
                  </a:lnTo>
                  <a:lnTo>
                    <a:pt x="238" y="292"/>
                  </a:lnTo>
                  <a:lnTo>
                    <a:pt x="211" y="181"/>
                  </a:lnTo>
                  <a:lnTo>
                    <a:pt x="92" y="261"/>
                  </a:lnTo>
                  <a:lnTo>
                    <a:pt x="79" y="406"/>
                  </a:lnTo>
                  <a:lnTo>
                    <a:pt x="0" y="375"/>
                  </a:lnTo>
                  <a:lnTo>
                    <a:pt x="26" y="509"/>
                  </a:lnTo>
                  <a:lnTo>
                    <a:pt x="13"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913520" y="344520"/>
              <a:ext cx="128880" cy="65520"/>
            </a:xfrm>
            <a:custGeom>
              <a:avLst/>
              <a:gdLst/>
              <a:ahLst/>
              <a:rect l="0" t="0" r="r" b="b"/>
              <a:pathLst>
                <a:path w="358" h="182">
                  <a:moveTo>
                    <a:pt x="0" y="182"/>
                  </a:moveTo>
                  <a:lnTo>
                    <a:pt x="132" y="0"/>
                  </a:lnTo>
                  <a:lnTo>
                    <a:pt x="132" y="120"/>
                  </a:lnTo>
                  <a:lnTo>
                    <a:pt x="181" y="71"/>
                  </a:lnTo>
                  <a:lnTo>
                    <a:pt x="225" y="143"/>
                  </a:lnTo>
                  <a:lnTo>
                    <a:pt x="358" y="173"/>
                  </a:lnTo>
                  <a:lnTo>
                    <a:pt x="217" y="151"/>
                  </a:lnTo>
                  <a:lnTo>
                    <a:pt x="171" y="106"/>
                  </a:lnTo>
                  <a:lnTo>
                    <a:pt x="110" y="151"/>
                  </a:lnTo>
                  <a:lnTo>
                    <a:pt x="110" y="93"/>
                  </a:lnTo>
                  <a:lnTo>
                    <a:pt x="0" y="18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6" name=""/>
            <p:cNvSpPr/>
            <p:nvPr/>
          </p:nvSpPr>
          <p:spPr>
            <a:xfrm>
              <a:off x="7902720" y="792000"/>
              <a:ext cx="154440" cy="97200"/>
            </a:xfrm>
            <a:custGeom>
              <a:avLst/>
              <a:gdLst/>
              <a:ahLst/>
              <a:rect l="0" t="0" r="r" b="b"/>
              <a:pathLst>
                <a:path w="429" h="270">
                  <a:moveTo>
                    <a:pt x="83" y="93"/>
                  </a:moveTo>
                  <a:lnTo>
                    <a:pt x="256" y="80"/>
                  </a:lnTo>
                  <a:lnTo>
                    <a:pt x="341" y="102"/>
                  </a:lnTo>
                  <a:lnTo>
                    <a:pt x="385" y="61"/>
                  </a:lnTo>
                  <a:lnTo>
                    <a:pt x="429" y="150"/>
                  </a:lnTo>
                  <a:lnTo>
                    <a:pt x="398" y="164"/>
                  </a:lnTo>
                  <a:lnTo>
                    <a:pt x="363" y="133"/>
                  </a:lnTo>
                  <a:lnTo>
                    <a:pt x="305" y="199"/>
                  </a:lnTo>
                  <a:lnTo>
                    <a:pt x="199" y="270"/>
                  </a:lnTo>
                  <a:lnTo>
                    <a:pt x="150" y="270"/>
                  </a:lnTo>
                  <a:lnTo>
                    <a:pt x="83" y="231"/>
                  </a:lnTo>
                  <a:lnTo>
                    <a:pt x="159" y="266"/>
                  </a:lnTo>
                  <a:lnTo>
                    <a:pt x="190" y="266"/>
                  </a:lnTo>
                  <a:lnTo>
                    <a:pt x="256" y="213"/>
                  </a:lnTo>
                  <a:lnTo>
                    <a:pt x="305" y="124"/>
                  </a:lnTo>
                  <a:lnTo>
                    <a:pt x="234" y="115"/>
                  </a:lnTo>
                  <a:lnTo>
                    <a:pt x="186" y="102"/>
                  </a:lnTo>
                  <a:lnTo>
                    <a:pt x="70" y="115"/>
                  </a:lnTo>
                  <a:lnTo>
                    <a:pt x="70" y="190"/>
                  </a:lnTo>
                  <a:lnTo>
                    <a:pt x="35" y="146"/>
                  </a:lnTo>
                  <a:lnTo>
                    <a:pt x="0" y="204"/>
                  </a:lnTo>
                  <a:lnTo>
                    <a:pt x="4" y="71"/>
                  </a:lnTo>
                  <a:lnTo>
                    <a:pt x="44" y="0"/>
                  </a:lnTo>
                  <a:lnTo>
                    <a:pt x="83" y="71"/>
                  </a:lnTo>
                  <a:lnTo>
                    <a:pt x="83" y="93"/>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87" name=""/>
            <p:cNvSpPr/>
            <p:nvPr/>
          </p:nvSpPr>
          <p:spPr>
            <a:xfrm>
              <a:off x="7881840" y="579600"/>
              <a:ext cx="332280" cy="452880"/>
            </a:xfrm>
            <a:custGeom>
              <a:avLst/>
              <a:gdLst/>
              <a:ahLst/>
              <a:rect l="0" t="0" r="r" b="b"/>
              <a:pathLst>
                <a:path w="923" h="1258">
                  <a:moveTo>
                    <a:pt x="778" y="0"/>
                  </a:moveTo>
                  <a:lnTo>
                    <a:pt x="870" y="0"/>
                  </a:lnTo>
                  <a:lnTo>
                    <a:pt x="923" y="61"/>
                  </a:lnTo>
                  <a:lnTo>
                    <a:pt x="923" y="127"/>
                  </a:lnTo>
                  <a:lnTo>
                    <a:pt x="848" y="327"/>
                  </a:lnTo>
                  <a:lnTo>
                    <a:pt x="773" y="424"/>
                  </a:lnTo>
                  <a:lnTo>
                    <a:pt x="694" y="437"/>
                  </a:lnTo>
                  <a:lnTo>
                    <a:pt x="671" y="437"/>
                  </a:lnTo>
                  <a:lnTo>
                    <a:pt x="671" y="680"/>
                  </a:lnTo>
                  <a:lnTo>
                    <a:pt x="707" y="865"/>
                  </a:lnTo>
                  <a:lnTo>
                    <a:pt x="707" y="1011"/>
                  </a:lnTo>
                  <a:lnTo>
                    <a:pt x="569" y="1157"/>
                  </a:lnTo>
                  <a:lnTo>
                    <a:pt x="375" y="1258"/>
                  </a:lnTo>
                  <a:lnTo>
                    <a:pt x="256" y="1258"/>
                  </a:lnTo>
                  <a:lnTo>
                    <a:pt x="194" y="1232"/>
                  </a:lnTo>
                  <a:lnTo>
                    <a:pt x="110" y="1055"/>
                  </a:lnTo>
                  <a:lnTo>
                    <a:pt x="30" y="998"/>
                  </a:lnTo>
                  <a:lnTo>
                    <a:pt x="0" y="950"/>
                  </a:lnTo>
                  <a:lnTo>
                    <a:pt x="101" y="1011"/>
                  </a:lnTo>
                  <a:lnTo>
                    <a:pt x="180" y="1073"/>
                  </a:lnTo>
                  <a:lnTo>
                    <a:pt x="327" y="1082"/>
                  </a:lnTo>
                  <a:lnTo>
                    <a:pt x="459" y="1020"/>
                  </a:lnTo>
                  <a:lnTo>
                    <a:pt x="530" y="950"/>
                  </a:lnTo>
                  <a:lnTo>
                    <a:pt x="605" y="821"/>
                  </a:lnTo>
                  <a:lnTo>
                    <a:pt x="618" y="671"/>
                  </a:lnTo>
                  <a:lnTo>
                    <a:pt x="644" y="185"/>
                  </a:lnTo>
                  <a:lnTo>
                    <a:pt x="680" y="255"/>
                  </a:lnTo>
                  <a:lnTo>
                    <a:pt x="769" y="163"/>
                  </a:lnTo>
                  <a:lnTo>
                    <a:pt x="866" y="127"/>
                  </a:lnTo>
                  <a:lnTo>
                    <a:pt x="888" y="74"/>
                  </a:lnTo>
                  <a:lnTo>
                    <a:pt x="875" y="26"/>
                  </a:lnTo>
                  <a:lnTo>
                    <a:pt x="835" y="8"/>
                  </a:lnTo>
                  <a:lnTo>
                    <a:pt x="7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367760" y="969840"/>
              <a:ext cx="267120" cy="419400"/>
            </a:xfrm>
            <a:custGeom>
              <a:avLst/>
              <a:gdLst/>
              <a:ahLst/>
              <a:rect l="0" t="0" r="r" b="b"/>
              <a:pathLst>
                <a:path w="742" h="1165">
                  <a:moveTo>
                    <a:pt x="92" y="0"/>
                  </a:moveTo>
                  <a:lnTo>
                    <a:pt x="180" y="52"/>
                  </a:lnTo>
                  <a:lnTo>
                    <a:pt x="243" y="291"/>
                  </a:lnTo>
                  <a:lnTo>
                    <a:pt x="433" y="343"/>
                  </a:lnTo>
                  <a:lnTo>
                    <a:pt x="490" y="405"/>
                  </a:lnTo>
                  <a:lnTo>
                    <a:pt x="499" y="493"/>
                  </a:lnTo>
                  <a:lnTo>
                    <a:pt x="592" y="480"/>
                  </a:lnTo>
                  <a:lnTo>
                    <a:pt x="707" y="555"/>
                  </a:lnTo>
                  <a:lnTo>
                    <a:pt x="742" y="653"/>
                  </a:lnTo>
                  <a:lnTo>
                    <a:pt x="742" y="816"/>
                  </a:lnTo>
                  <a:lnTo>
                    <a:pt x="592" y="1063"/>
                  </a:lnTo>
                  <a:lnTo>
                    <a:pt x="538" y="1165"/>
                  </a:lnTo>
                  <a:lnTo>
                    <a:pt x="566" y="1032"/>
                  </a:lnTo>
                  <a:lnTo>
                    <a:pt x="538" y="979"/>
                  </a:lnTo>
                  <a:lnTo>
                    <a:pt x="450" y="896"/>
                  </a:lnTo>
                  <a:lnTo>
                    <a:pt x="305" y="794"/>
                  </a:lnTo>
                  <a:lnTo>
                    <a:pt x="481" y="852"/>
                  </a:lnTo>
                  <a:lnTo>
                    <a:pt x="584" y="927"/>
                  </a:lnTo>
                  <a:lnTo>
                    <a:pt x="637" y="913"/>
                  </a:lnTo>
                  <a:lnTo>
                    <a:pt x="667" y="874"/>
                  </a:lnTo>
                  <a:lnTo>
                    <a:pt x="707" y="759"/>
                  </a:lnTo>
                  <a:lnTo>
                    <a:pt x="694" y="640"/>
                  </a:lnTo>
                  <a:lnTo>
                    <a:pt x="641" y="577"/>
                  </a:lnTo>
                  <a:lnTo>
                    <a:pt x="547" y="555"/>
                  </a:lnTo>
                  <a:lnTo>
                    <a:pt x="450" y="555"/>
                  </a:lnTo>
                  <a:lnTo>
                    <a:pt x="415" y="383"/>
                  </a:lnTo>
                  <a:lnTo>
                    <a:pt x="252" y="321"/>
                  </a:lnTo>
                  <a:lnTo>
                    <a:pt x="252" y="374"/>
                  </a:lnTo>
                  <a:lnTo>
                    <a:pt x="180" y="251"/>
                  </a:lnTo>
                  <a:lnTo>
                    <a:pt x="136" y="52"/>
                  </a:lnTo>
                  <a:lnTo>
                    <a:pt x="70" y="30"/>
                  </a:lnTo>
                  <a:lnTo>
                    <a:pt x="35" y="92"/>
                  </a:lnTo>
                  <a:lnTo>
                    <a:pt x="35" y="224"/>
                  </a:lnTo>
                  <a:lnTo>
                    <a:pt x="66" y="374"/>
                  </a:lnTo>
                  <a:lnTo>
                    <a:pt x="154" y="493"/>
                  </a:lnTo>
                  <a:lnTo>
                    <a:pt x="57" y="418"/>
                  </a:lnTo>
                  <a:lnTo>
                    <a:pt x="8" y="291"/>
                  </a:lnTo>
                  <a:lnTo>
                    <a:pt x="0" y="123"/>
                  </a:lnTo>
                  <a:lnTo>
                    <a:pt x="35" y="30"/>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238880" y="1155600"/>
              <a:ext cx="176400" cy="333720"/>
            </a:xfrm>
            <a:custGeom>
              <a:avLst/>
              <a:gdLst/>
              <a:ahLst/>
              <a:rect l="0" t="0" r="r" b="b"/>
              <a:pathLst>
                <a:path w="490" h="927">
                  <a:moveTo>
                    <a:pt x="490" y="0"/>
                  </a:moveTo>
                  <a:lnTo>
                    <a:pt x="389" y="61"/>
                  </a:lnTo>
                  <a:lnTo>
                    <a:pt x="269" y="286"/>
                  </a:lnTo>
                  <a:lnTo>
                    <a:pt x="154" y="432"/>
                  </a:lnTo>
                  <a:lnTo>
                    <a:pt x="13" y="609"/>
                  </a:lnTo>
                  <a:lnTo>
                    <a:pt x="0" y="702"/>
                  </a:lnTo>
                  <a:lnTo>
                    <a:pt x="26" y="781"/>
                  </a:lnTo>
                  <a:lnTo>
                    <a:pt x="97" y="781"/>
                  </a:lnTo>
                  <a:lnTo>
                    <a:pt x="189" y="702"/>
                  </a:lnTo>
                  <a:lnTo>
                    <a:pt x="261" y="534"/>
                  </a:lnTo>
                  <a:lnTo>
                    <a:pt x="362" y="432"/>
                  </a:lnTo>
                  <a:lnTo>
                    <a:pt x="362" y="569"/>
                  </a:lnTo>
                  <a:lnTo>
                    <a:pt x="344" y="688"/>
                  </a:lnTo>
                  <a:lnTo>
                    <a:pt x="238" y="856"/>
                  </a:lnTo>
                  <a:lnTo>
                    <a:pt x="238" y="909"/>
                  </a:lnTo>
                  <a:lnTo>
                    <a:pt x="344" y="927"/>
                  </a:lnTo>
                  <a:lnTo>
                    <a:pt x="269" y="882"/>
                  </a:lnTo>
                  <a:lnTo>
                    <a:pt x="283" y="856"/>
                  </a:lnTo>
                  <a:lnTo>
                    <a:pt x="353" y="733"/>
                  </a:lnTo>
                  <a:lnTo>
                    <a:pt x="406" y="516"/>
                  </a:lnTo>
                  <a:lnTo>
                    <a:pt x="371" y="392"/>
                  </a:lnTo>
                  <a:lnTo>
                    <a:pt x="292" y="464"/>
                  </a:lnTo>
                  <a:lnTo>
                    <a:pt x="114" y="737"/>
                  </a:lnTo>
                  <a:lnTo>
                    <a:pt x="70" y="750"/>
                  </a:lnTo>
                  <a:lnTo>
                    <a:pt x="26" y="719"/>
                  </a:lnTo>
                  <a:lnTo>
                    <a:pt x="26" y="631"/>
                  </a:lnTo>
                  <a:lnTo>
                    <a:pt x="97" y="525"/>
                  </a:lnTo>
                  <a:lnTo>
                    <a:pt x="292" y="299"/>
                  </a:lnTo>
                  <a:lnTo>
                    <a:pt x="406" y="83"/>
                  </a:lnTo>
                  <a:lnTo>
                    <a:pt x="4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370640" y="1343160"/>
              <a:ext cx="108360" cy="162360"/>
            </a:xfrm>
            <a:custGeom>
              <a:avLst/>
              <a:gdLst/>
              <a:ahLst/>
              <a:rect l="0" t="0" r="r" b="b"/>
              <a:pathLst>
                <a:path w="301" h="451">
                  <a:moveTo>
                    <a:pt x="0" y="398"/>
                  </a:moveTo>
                  <a:lnTo>
                    <a:pt x="102" y="283"/>
                  </a:lnTo>
                  <a:lnTo>
                    <a:pt x="120" y="168"/>
                  </a:lnTo>
                  <a:lnTo>
                    <a:pt x="235" y="0"/>
                  </a:lnTo>
                  <a:lnTo>
                    <a:pt x="257" y="115"/>
                  </a:lnTo>
                  <a:lnTo>
                    <a:pt x="244" y="412"/>
                  </a:lnTo>
                  <a:lnTo>
                    <a:pt x="301" y="451"/>
                  </a:lnTo>
                  <a:lnTo>
                    <a:pt x="217" y="420"/>
                  </a:lnTo>
                  <a:lnTo>
                    <a:pt x="168" y="252"/>
                  </a:lnTo>
                  <a:lnTo>
                    <a:pt x="102"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7504200" y="1352520"/>
              <a:ext cx="73440" cy="143280"/>
            </a:xfrm>
            <a:custGeom>
              <a:avLst/>
              <a:gdLst/>
              <a:ahLst/>
              <a:rect l="0" t="0" r="r" b="b"/>
              <a:pathLst>
                <a:path w="204" h="398">
                  <a:moveTo>
                    <a:pt x="0" y="296"/>
                  </a:moveTo>
                  <a:lnTo>
                    <a:pt x="8" y="155"/>
                  </a:lnTo>
                  <a:lnTo>
                    <a:pt x="53" y="66"/>
                  </a:lnTo>
                  <a:lnTo>
                    <a:pt x="98" y="381"/>
                  </a:lnTo>
                  <a:lnTo>
                    <a:pt x="160" y="381"/>
                  </a:lnTo>
                  <a:lnTo>
                    <a:pt x="191" y="44"/>
                  </a:lnTo>
                  <a:lnTo>
                    <a:pt x="204" y="0"/>
                  </a:lnTo>
                  <a:lnTo>
                    <a:pt x="191" y="261"/>
                  </a:lnTo>
                  <a:lnTo>
                    <a:pt x="160" y="398"/>
                  </a:lnTo>
                  <a:lnTo>
                    <a:pt x="80" y="398"/>
                  </a:lnTo>
                  <a:lnTo>
                    <a:pt x="48" y="124"/>
                  </a:lnTo>
                  <a:lnTo>
                    <a:pt x="26" y="159"/>
                  </a:lnTo>
                  <a:lnTo>
                    <a:pt x="0" y="2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8426520" y="784080"/>
              <a:ext cx="174960" cy="386280"/>
            </a:xfrm>
            <a:custGeom>
              <a:avLst/>
              <a:gdLst/>
              <a:ahLst/>
              <a:rect l="0" t="0" r="r" b="b"/>
              <a:pathLst>
                <a:path w="486" h="1073">
                  <a:moveTo>
                    <a:pt x="127" y="583"/>
                  </a:moveTo>
                  <a:lnTo>
                    <a:pt x="163" y="411"/>
                  </a:lnTo>
                  <a:lnTo>
                    <a:pt x="327" y="371"/>
                  </a:lnTo>
                  <a:lnTo>
                    <a:pt x="486" y="0"/>
                  </a:lnTo>
                  <a:lnTo>
                    <a:pt x="486" y="110"/>
                  </a:lnTo>
                  <a:lnTo>
                    <a:pt x="353" y="393"/>
                  </a:lnTo>
                  <a:lnTo>
                    <a:pt x="180" y="446"/>
                  </a:lnTo>
                  <a:lnTo>
                    <a:pt x="154" y="583"/>
                  </a:lnTo>
                  <a:lnTo>
                    <a:pt x="216" y="583"/>
                  </a:lnTo>
                  <a:lnTo>
                    <a:pt x="61" y="640"/>
                  </a:lnTo>
                  <a:lnTo>
                    <a:pt x="26" y="755"/>
                  </a:lnTo>
                  <a:lnTo>
                    <a:pt x="35" y="905"/>
                  </a:lnTo>
                  <a:lnTo>
                    <a:pt x="198" y="1073"/>
                  </a:lnTo>
                  <a:lnTo>
                    <a:pt x="26" y="923"/>
                  </a:lnTo>
                  <a:lnTo>
                    <a:pt x="0" y="799"/>
                  </a:lnTo>
                  <a:lnTo>
                    <a:pt x="13" y="675"/>
                  </a:lnTo>
                  <a:lnTo>
                    <a:pt x="74" y="587"/>
                  </a:lnTo>
                  <a:lnTo>
                    <a:pt x="127"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8545680" y="784080"/>
              <a:ext cx="292320" cy="373320"/>
            </a:xfrm>
            <a:custGeom>
              <a:avLst/>
              <a:gdLst/>
              <a:ahLst/>
              <a:rect l="0" t="0" r="r" b="b"/>
              <a:pathLst>
                <a:path w="812" h="1037">
                  <a:moveTo>
                    <a:pt x="224" y="0"/>
                  </a:moveTo>
                  <a:lnTo>
                    <a:pt x="273" y="30"/>
                  </a:lnTo>
                  <a:lnTo>
                    <a:pt x="286" y="119"/>
                  </a:lnTo>
                  <a:lnTo>
                    <a:pt x="286" y="202"/>
                  </a:lnTo>
                  <a:lnTo>
                    <a:pt x="198" y="352"/>
                  </a:lnTo>
                  <a:lnTo>
                    <a:pt x="216" y="463"/>
                  </a:lnTo>
                  <a:lnTo>
                    <a:pt x="490" y="583"/>
                  </a:lnTo>
                  <a:lnTo>
                    <a:pt x="807" y="913"/>
                  </a:lnTo>
                  <a:lnTo>
                    <a:pt x="812" y="997"/>
                  </a:lnTo>
                  <a:lnTo>
                    <a:pt x="794" y="1037"/>
                  </a:lnTo>
                  <a:lnTo>
                    <a:pt x="675" y="1037"/>
                  </a:lnTo>
                  <a:lnTo>
                    <a:pt x="569" y="975"/>
                  </a:lnTo>
                  <a:lnTo>
                    <a:pt x="481" y="869"/>
                  </a:lnTo>
                  <a:lnTo>
                    <a:pt x="433" y="807"/>
                  </a:lnTo>
                  <a:lnTo>
                    <a:pt x="374" y="794"/>
                  </a:lnTo>
                  <a:lnTo>
                    <a:pt x="446" y="794"/>
                  </a:lnTo>
                  <a:lnTo>
                    <a:pt x="578" y="966"/>
                  </a:lnTo>
                  <a:lnTo>
                    <a:pt x="750" y="1019"/>
                  </a:lnTo>
                  <a:lnTo>
                    <a:pt x="785" y="966"/>
                  </a:lnTo>
                  <a:lnTo>
                    <a:pt x="768" y="887"/>
                  </a:lnTo>
                  <a:lnTo>
                    <a:pt x="472" y="653"/>
                  </a:lnTo>
                  <a:lnTo>
                    <a:pt x="428" y="583"/>
                  </a:lnTo>
                  <a:lnTo>
                    <a:pt x="198" y="525"/>
                  </a:lnTo>
                  <a:lnTo>
                    <a:pt x="158" y="583"/>
                  </a:lnTo>
                  <a:lnTo>
                    <a:pt x="0" y="684"/>
                  </a:lnTo>
                  <a:lnTo>
                    <a:pt x="149" y="565"/>
                  </a:lnTo>
                  <a:lnTo>
                    <a:pt x="158" y="493"/>
                  </a:lnTo>
                  <a:lnTo>
                    <a:pt x="158" y="330"/>
                  </a:lnTo>
                  <a:lnTo>
                    <a:pt x="260" y="202"/>
                  </a:lnTo>
                  <a:lnTo>
                    <a:pt x="260" y="44"/>
                  </a:lnTo>
                  <a:lnTo>
                    <a:pt x="2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8491680" y="1077840"/>
              <a:ext cx="249480" cy="221040"/>
            </a:xfrm>
            <a:custGeom>
              <a:avLst/>
              <a:gdLst/>
              <a:ahLst/>
              <a:rect l="0" t="0" r="r" b="b"/>
              <a:pathLst>
                <a:path w="693" h="614">
                  <a:moveTo>
                    <a:pt x="521" y="0"/>
                  </a:moveTo>
                  <a:lnTo>
                    <a:pt x="503" y="52"/>
                  </a:lnTo>
                  <a:lnTo>
                    <a:pt x="605" y="256"/>
                  </a:lnTo>
                  <a:lnTo>
                    <a:pt x="658" y="465"/>
                  </a:lnTo>
                  <a:lnTo>
                    <a:pt x="596" y="465"/>
                  </a:lnTo>
                  <a:lnTo>
                    <a:pt x="494" y="371"/>
                  </a:lnTo>
                  <a:lnTo>
                    <a:pt x="397" y="181"/>
                  </a:lnTo>
                  <a:lnTo>
                    <a:pt x="326" y="149"/>
                  </a:lnTo>
                  <a:lnTo>
                    <a:pt x="339" y="256"/>
                  </a:lnTo>
                  <a:lnTo>
                    <a:pt x="406" y="331"/>
                  </a:lnTo>
                  <a:lnTo>
                    <a:pt x="406" y="478"/>
                  </a:lnTo>
                  <a:lnTo>
                    <a:pt x="358" y="588"/>
                  </a:lnTo>
                  <a:lnTo>
                    <a:pt x="291" y="544"/>
                  </a:lnTo>
                  <a:lnTo>
                    <a:pt x="211" y="371"/>
                  </a:lnTo>
                  <a:lnTo>
                    <a:pt x="194" y="256"/>
                  </a:lnTo>
                  <a:lnTo>
                    <a:pt x="149" y="221"/>
                  </a:lnTo>
                  <a:lnTo>
                    <a:pt x="136" y="522"/>
                  </a:lnTo>
                  <a:lnTo>
                    <a:pt x="74" y="562"/>
                  </a:lnTo>
                  <a:lnTo>
                    <a:pt x="17" y="522"/>
                  </a:lnTo>
                  <a:lnTo>
                    <a:pt x="8" y="265"/>
                  </a:lnTo>
                  <a:lnTo>
                    <a:pt x="0" y="513"/>
                  </a:lnTo>
                  <a:lnTo>
                    <a:pt x="44" y="606"/>
                  </a:lnTo>
                  <a:lnTo>
                    <a:pt x="136" y="606"/>
                  </a:lnTo>
                  <a:lnTo>
                    <a:pt x="167" y="535"/>
                  </a:lnTo>
                  <a:lnTo>
                    <a:pt x="185" y="300"/>
                  </a:lnTo>
                  <a:lnTo>
                    <a:pt x="202" y="393"/>
                  </a:lnTo>
                  <a:lnTo>
                    <a:pt x="277" y="597"/>
                  </a:lnTo>
                  <a:lnTo>
                    <a:pt x="367" y="614"/>
                  </a:lnTo>
                  <a:lnTo>
                    <a:pt x="428" y="535"/>
                  </a:lnTo>
                  <a:lnTo>
                    <a:pt x="428" y="340"/>
                  </a:lnTo>
                  <a:lnTo>
                    <a:pt x="596" y="500"/>
                  </a:lnTo>
                  <a:lnTo>
                    <a:pt x="684" y="500"/>
                  </a:lnTo>
                  <a:lnTo>
                    <a:pt x="693" y="393"/>
                  </a:lnTo>
                  <a:lnTo>
                    <a:pt x="631" y="199"/>
                  </a:lnTo>
                  <a:lnTo>
                    <a:pt x="521" y="44"/>
                  </a:lnTo>
                  <a:lnTo>
                    <a:pt x="5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7483320" y="849240"/>
              <a:ext cx="1109880" cy="902160"/>
            </a:xfrm>
            <a:custGeom>
              <a:avLst/>
              <a:gdLst/>
              <a:ahLst/>
              <a:rect l="0" t="0" r="r" b="b"/>
              <a:pathLst>
                <a:path w="3083" h="2506">
                  <a:moveTo>
                    <a:pt x="1111" y="211"/>
                  </a:moveTo>
                  <a:lnTo>
                    <a:pt x="1053" y="220"/>
                  </a:lnTo>
                  <a:lnTo>
                    <a:pt x="965" y="348"/>
                  </a:lnTo>
                  <a:lnTo>
                    <a:pt x="934" y="255"/>
                  </a:lnTo>
                  <a:lnTo>
                    <a:pt x="837" y="202"/>
                  </a:lnTo>
                  <a:lnTo>
                    <a:pt x="762" y="242"/>
                  </a:lnTo>
                  <a:lnTo>
                    <a:pt x="732" y="401"/>
                  </a:lnTo>
                  <a:lnTo>
                    <a:pt x="454" y="604"/>
                  </a:lnTo>
                  <a:lnTo>
                    <a:pt x="476" y="688"/>
                  </a:lnTo>
                  <a:lnTo>
                    <a:pt x="405" y="768"/>
                  </a:lnTo>
                  <a:lnTo>
                    <a:pt x="405" y="830"/>
                  </a:lnTo>
                  <a:lnTo>
                    <a:pt x="485" y="1019"/>
                  </a:lnTo>
                  <a:lnTo>
                    <a:pt x="493" y="1248"/>
                  </a:lnTo>
                  <a:lnTo>
                    <a:pt x="440" y="1469"/>
                  </a:lnTo>
                  <a:lnTo>
                    <a:pt x="242" y="1601"/>
                  </a:lnTo>
                  <a:lnTo>
                    <a:pt x="216" y="1782"/>
                  </a:lnTo>
                  <a:lnTo>
                    <a:pt x="154" y="1782"/>
                  </a:lnTo>
                  <a:lnTo>
                    <a:pt x="123" y="1632"/>
                  </a:lnTo>
                  <a:lnTo>
                    <a:pt x="61" y="1632"/>
                  </a:lnTo>
                  <a:lnTo>
                    <a:pt x="35" y="1791"/>
                  </a:lnTo>
                  <a:lnTo>
                    <a:pt x="0" y="1831"/>
                  </a:lnTo>
                  <a:lnTo>
                    <a:pt x="136" y="2048"/>
                  </a:lnTo>
                  <a:lnTo>
                    <a:pt x="233" y="2056"/>
                  </a:lnTo>
                  <a:lnTo>
                    <a:pt x="405" y="2215"/>
                  </a:lnTo>
                  <a:lnTo>
                    <a:pt x="564" y="2237"/>
                  </a:lnTo>
                  <a:lnTo>
                    <a:pt x="652" y="2153"/>
                  </a:lnTo>
                  <a:lnTo>
                    <a:pt x="868" y="1839"/>
                  </a:lnTo>
                  <a:lnTo>
                    <a:pt x="886" y="2259"/>
                  </a:lnTo>
                  <a:lnTo>
                    <a:pt x="868" y="2506"/>
                  </a:lnTo>
                  <a:lnTo>
                    <a:pt x="2651" y="2506"/>
                  </a:lnTo>
                  <a:lnTo>
                    <a:pt x="2518" y="2237"/>
                  </a:lnTo>
                  <a:lnTo>
                    <a:pt x="2457" y="2004"/>
                  </a:lnTo>
                  <a:lnTo>
                    <a:pt x="2439" y="1659"/>
                  </a:lnTo>
                  <a:lnTo>
                    <a:pt x="2545" y="1738"/>
                  </a:lnTo>
                  <a:lnTo>
                    <a:pt x="2651" y="1738"/>
                  </a:lnTo>
                  <a:lnTo>
                    <a:pt x="2796" y="1645"/>
                  </a:lnTo>
                  <a:lnTo>
                    <a:pt x="2893" y="1632"/>
                  </a:lnTo>
                  <a:lnTo>
                    <a:pt x="2955" y="1539"/>
                  </a:lnTo>
                  <a:lnTo>
                    <a:pt x="2995" y="1301"/>
                  </a:lnTo>
                  <a:lnTo>
                    <a:pt x="3083" y="1209"/>
                  </a:lnTo>
                  <a:lnTo>
                    <a:pt x="3039" y="1138"/>
                  </a:lnTo>
                  <a:lnTo>
                    <a:pt x="2973" y="1138"/>
                  </a:lnTo>
                  <a:lnTo>
                    <a:pt x="2920" y="1187"/>
                  </a:lnTo>
                  <a:lnTo>
                    <a:pt x="2867" y="1196"/>
                  </a:lnTo>
                  <a:lnTo>
                    <a:pt x="2805" y="1138"/>
                  </a:lnTo>
                  <a:lnTo>
                    <a:pt x="2730" y="1125"/>
                  </a:lnTo>
                  <a:lnTo>
                    <a:pt x="2589" y="1041"/>
                  </a:lnTo>
                  <a:lnTo>
                    <a:pt x="2501" y="944"/>
                  </a:lnTo>
                  <a:lnTo>
                    <a:pt x="2483" y="830"/>
                  </a:lnTo>
                  <a:lnTo>
                    <a:pt x="2501" y="719"/>
                  </a:lnTo>
                  <a:lnTo>
                    <a:pt x="2558" y="627"/>
                  </a:lnTo>
                  <a:lnTo>
                    <a:pt x="2633" y="542"/>
                  </a:lnTo>
                  <a:lnTo>
                    <a:pt x="2629" y="401"/>
                  </a:lnTo>
                  <a:lnTo>
                    <a:pt x="2629" y="299"/>
                  </a:lnTo>
                  <a:lnTo>
                    <a:pt x="2589" y="220"/>
                  </a:lnTo>
                  <a:lnTo>
                    <a:pt x="2483" y="189"/>
                  </a:lnTo>
                  <a:lnTo>
                    <a:pt x="2448" y="167"/>
                  </a:lnTo>
                  <a:lnTo>
                    <a:pt x="2377" y="44"/>
                  </a:lnTo>
                  <a:lnTo>
                    <a:pt x="2316" y="8"/>
                  </a:lnTo>
                  <a:lnTo>
                    <a:pt x="2249" y="0"/>
                  </a:lnTo>
                  <a:lnTo>
                    <a:pt x="2197" y="22"/>
                  </a:lnTo>
                  <a:lnTo>
                    <a:pt x="2152" y="88"/>
                  </a:lnTo>
                  <a:lnTo>
                    <a:pt x="2082" y="127"/>
                  </a:lnTo>
                  <a:lnTo>
                    <a:pt x="2007" y="141"/>
                  </a:lnTo>
                  <a:lnTo>
                    <a:pt x="1923" y="141"/>
                  </a:lnTo>
                  <a:lnTo>
                    <a:pt x="1936" y="264"/>
                  </a:lnTo>
                  <a:lnTo>
                    <a:pt x="1936" y="418"/>
                  </a:lnTo>
                  <a:lnTo>
                    <a:pt x="1923" y="524"/>
                  </a:lnTo>
                  <a:lnTo>
                    <a:pt x="1848" y="644"/>
                  </a:lnTo>
                  <a:lnTo>
                    <a:pt x="1751" y="834"/>
                  </a:lnTo>
                  <a:lnTo>
                    <a:pt x="1672" y="1059"/>
                  </a:lnTo>
                  <a:lnTo>
                    <a:pt x="1667" y="1196"/>
                  </a:lnTo>
                  <a:lnTo>
                    <a:pt x="1632" y="1315"/>
                  </a:lnTo>
                  <a:lnTo>
                    <a:pt x="1584" y="1425"/>
                  </a:lnTo>
                  <a:lnTo>
                    <a:pt x="1562" y="1606"/>
                  </a:lnTo>
                  <a:lnTo>
                    <a:pt x="1575" y="1760"/>
                  </a:lnTo>
                  <a:lnTo>
                    <a:pt x="1632" y="1933"/>
                  </a:lnTo>
                  <a:lnTo>
                    <a:pt x="1667" y="2004"/>
                  </a:lnTo>
                  <a:lnTo>
                    <a:pt x="1562" y="2070"/>
                  </a:lnTo>
                  <a:lnTo>
                    <a:pt x="1437" y="2109"/>
                  </a:lnTo>
                  <a:lnTo>
                    <a:pt x="1300" y="2123"/>
                  </a:lnTo>
                  <a:lnTo>
                    <a:pt x="1217" y="2123"/>
                  </a:lnTo>
                  <a:lnTo>
                    <a:pt x="1159" y="2101"/>
                  </a:lnTo>
                  <a:lnTo>
                    <a:pt x="1159" y="1951"/>
                  </a:lnTo>
                  <a:lnTo>
                    <a:pt x="1159" y="1729"/>
                  </a:lnTo>
                  <a:lnTo>
                    <a:pt x="1128" y="1509"/>
                  </a:lnTo>
                  <a:lnTo>
                    <a:pt x="1071" y="1315"/>
                  </a:lnTo>
                  <a:lnTo>
                    <a:pt x="1045" y="1156"/>
                  </a:lnTo>
                  <a:lnTo>
                    <a:pt x="1036" y="935"/>
                  </a:lnTo>
                  <a:lnTo>
                    <a:pt x="1071" y="741"/>
                  </a:lnTo>
                  <a:lnTo>
                    <a:pt x="1128" y="582"/>
                  </a:lnTo>
                  <a:lnTo>
                    <a:pt x="1133" y="489"/>
                  </a:lnTo>
                  <a:lnTo>
                    <a:pt x="1111" y="357"/>
                  </a:lnTo>
                  <a:lnTo>
                    <a:pt x="1111" y="255"/>
                  </a:lnTo>
                  <a:lnTo>
                    <a:pt x="1128" y="220"/>
                  </a:lnTo>
                  <a:lnTo>
                    <a:pt x="1111" y="2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7915320" y="1030320"/>
              <a:ext cx="140040" cy="586080"/>
            </a:xfrm>
            <a:custGeom>
              <a:avLst/>
              <a:gdLst/>
              <a:ahLst/>
              <a:rect l="0" t="0" r="r" b="b"/>
              <a:pathLst>
                <a:path w="389" h="1628">
                  <a:moveTo>
                    <a:pt x="154" y="22"/>
                  </a:moveTo>
                  <a:lnTo>
                    <a:pt x="52" y="70"/>
                  </a:lnTo>
                  <a:lnTo>
                    <a:pt x="61" y="229"/>
                  </a:lnTo>
                  <a:lnTo>
                    <a:pt x="136" y="273"/>
                  </a:lnTo>
                  <a:lnTo>
                    <a:pt x="44" y="440"/>
                  </a:lnTo>
                  <a:lnTo>
                    <a:pt x="0" y="630"/>
                  </a:lnTo>
                  <a:lnTo>
                    <a:pt x="0" y="816"/>
                  </a:lnTo>
                  <a:lnTo>
                    <a:pt x="44" y="975"/>
                  </a:lnTo>
                  <a:lnTo>
                    <a:pt x="83" y="1178"/>
                  </a:lnTo>
                  <a:lnTo>
                    <a:pt x="83" y="1288"/>
                  </a:lnTo>
                  <a:lnTo>
                    <a:pt x="44" y="1429"/>
                  </a:lnTo>
                  <a:lnTo>
                    <a:pt x="203" y="1628"/>
                  </a:lnTo>
                  <a:lnTo>
                    <a:pt x="269" y="1597"/>
                  </a:lnTo>
                  <a:lnTo>
                    <a:pt x="309" y="1460"/>
                  </a:lnTo>
                  <a:lnTo>
                    <a:pt x="384" y="1284"/>
                  </a:lnTo>
                  <a:lnTo>
                    <a:pt x="389" y="1187"/>
                  </a:lnTo>
                  <a:lnTo>
                    <a:pt x="331" y="1002"/>
                  </a:lnTo>
                  <a:lnTo>
                    <a:pt x="256" y="834"/>
                  </a:lnTo>
                  <a:lnTo>
                    <a:pt x="230" y="709"/>
                  </a:lnTo>
                  <a:lnTo>
                    <a:pt x="230" y="590"/>
                  </a:lnTo>
                  <a:lnTo>
                    <a:pt x="256" y="489"/>
                  </a:lnTo>
                  <a:lnTo>
                    <a:pt x="309" y="352"/>
                  </a:lnTo>
                  <a:lnTo>
                    <a:pt x="309" y="304"/>
                  </a:lnTo>
                  <a:lnTo>
                    <a:pt x="283" y="251"/>
                  </a:lnTo>
                  <a:lnTo>
                    <a:pt x="358" y="185"/>
                  </a:lnTo>
                  <a:lnTo>
                    <a:pt x="358" y="123"/>
                  </a:lnTo>
                  <a:lnTo>
                    <a:pt x="256" y="0"/>
                  </a:lnTo>
                  <a:lnTo>
                    <a:pt x="340" y="123"/>
                  </a:lnTo>
                  <a:lnTo>
                    <a:pt x="340" y="176"/>
                  </a:lnTo>
                  <a:lnTo>
                    <a:pt x="265" y="229"/>
                  </a:lnTo>
                  <a:lnTo>
                    <a:pt x="292" y="304"/>
                  </a:lnTo>
                  <a:lnTo>
                    <a:pt x="283" y="352"/>
                  </a:lnTo>
                  <a:lnTo>
                    <a:pt x="212" y="507"/>
                  </a:lnTo>
                  <a:lnTo>
                    <a:pt x="203" y="652"/>
                  </a:lnTo>
                  <a:lnTo>
                    <a:pt x="221" y="789"/>
                  </a:lnTo>
                  <a:lnTo>
                    <a:pt x="269" y="988"/>
                  </a:lnTo>
                  <a:lnTo>
                    <a:pt x="331" y="1143"/>
                  </a:lnTo>
                  <a:lnTo>
                    <a:pt x="331" y="1271"/>
                  </a:lnTo>
                  <a:lnTo>
                    <a:pt x="292" y="1429"/>
                  </a:lnTo>
                  <a:lnTo>
                    <a:pt x="221" y="1597"/>
                  </a:lnTo>
                  <a:lnTo>
                    <a:pt x="127" y="1504"/>
                  </a:lnTo>
                  <a:lnTo>
                    <a:pt x="92" y="1429"/>
                  </a:lnTo>
                  <a:lnTo>
                    <a:pt x="101" y="1271"/>
                  </a:lnTo>
                  <a:lnTo>
                    <a:pt x="92" y="1107"/>
                  </a:lnTo>
                  <a:lnTo>
                    <a:pt x="44" y="896"/>
                  </a:lnTo>
                  <a:lnTo>
                    <a:pt x="26" y="745"/>
                  </a:lnTo>
                  <a:lnTo>
                    <a:pt x="44" y="582"/>
                  </a:lnTo>
                  <a:lnTo>
                    <a:pt x="83" y="418"/>
                  </a:lnTo>
                  <a:lnTo>
                    <a:pt x="163" y="260"/>
                  </a:lnTo>
                  <a:lnTo>
                    <a:pt x="92" y="198"/>
                  </a:lnTo>
                  <a:lnTo>
                    <a:pt x="83" y="79"/>
                  </a:lnTo>
                  <a:lnTo>
                    <a:pt x="15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8315280" y="344520"/>
              <a:ext cx="221040" cy="286200"/>
            </a:xfrm>
            <a:custGeom>
              <a:avLst/>
              <a:gdLst/>
              <a:ahLst/>
              <a:rect l="0" t="0" r="r" b="b"/>
              <a:pathLst>
                <a:path w="614" h="795">
                  <a:moveTo>
                    <a:pt x="101" y="203"/>
                  </a:moveTo>
                  <a:lnTo>
                    <a:pt x="190" y="185"/>
                  </a:lnTo>
                  <a:lnTo>
                    <a:pt x="278" y="194"/>
                  </a:lnTo>
                  <a:lnTo>
                    <a:pt x="353" y="225"/>
                  </a:lnTo>
                  <a:lnTo>
                    <a:pt x="393" y="269"/>
                  </a:lnTo>
                  <a:lnTo>
                    <a:pt x="411" y="309"/>
                  </a:lnTo>
                  <a:lnTo>
                    <a:pt x="411" y="353"/>
                  </a:lnTo>
                  <a:lnTo>
                    <a:pt x="389" y="375"/>
                  </a:lnTo>
                  <a:lnTo>
                    <a:pt x="349" y="397"/>
                  </a:lnTo>
                  <a:lnTo>
                    <a:pt x="305" y="397"/>
                  </a:lnTo>
                  <a:lnTo>
                    <a:pt x="252" y="389"/>
                  </a:lnTo>
                  <a:lnTo>
                    <a:pt x="195" y="353"/>
                  </a:lnTo>
                  <a:lnTo>
                    <a:pt x="155" y="322"/>
                  </a:lnTo>
                  <a:lnTo>
                    <a:pt x="136" y="424"/>
                  </a:lnTo>
                  <a:lnTo>
                    <a:pt x="101" y="494"/>
                  </a:lnTo>
                  <a:lnTo>
                    <a:pt x="0" y="667"/>
                  </a:lnTo>
                  <a:lnTo>
                    <a:pt x="149" y="795"/>
                  </a:lnTo>
                  <a:lnTo>
                    <a:pt x="261" y="583"/>
                  </a:lnTo>
                  <a:lnTo>
                    <a:pt x="389" y="597"/>
                  </a:lnTo>
                  <a:lnTo>
                    <a:pt x="469" y="583"/>
                  </a:lnTo>
                  <a:lnTo>
                    <a:pt x="544" y="534"/>
                  </a:lnTo>
                  <a:lnTo>
                    <a:pt x="592" y="472"/>
                  </a:lnTo>
                  <a:lnTo>
                    <a:pt x="614" y="393"/>
                  </a:lnTo>
                  <a:lnTo>
                    <a:pt x="614" y="305"/>
                  </a:lnTo>
                  <a:lnTo>
                    <a:pt x="592" y="212"/>
                  </a:lnTo>
                  <a:lnTo>
                    <a:pt x="544" y="119"/>
                  </a:lnTo>
                  <a:lnTo>
                    <a:pt x="478" y="57"/>
                  </a:lnTo>
                  <a:lnTo>
                    <a:pt x="402" y="22"/>
                  </a:lnTo>
                  <a:lnTo>
                    <a:pt x="314" y="0"/>
                  </a:lnTo>
                  <a:lnTo>
                    <a:pt x="203" y="0"/>
                  </a:lnTo>
                  <a:lnTo>
                    <a:pt x="83" y="22"/>
                  </a:lnTo>
                  <a:lnTo>
                    <a:pt x="101"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8275680" y="622440"/>
              <a:ext cx="79560" cy="55800"/>
            </a:xfrm>
            <a:custGeom>
              <a:avLst/>
              <a:gdLst/>
              <a:ahLst/>
              <a:rect l="0" t="0" r="r" b="b"/>
              <a:pathLst>
                <a:path w="221" h="155">
                  <a:moveTo>
                    <a:pt x="88" y="0"/>
                  </a:moveTo>
                  <a:lnTo>
                    <a:pt x="30" y="0"/>
                  </a:lnTo>
                  <a:lnTo>
                    <a:pt x="0" y="22"/>
                  </a:lnTo>
                  <a:lnTo>
                    <a:pt x="0" y="80"/>
                  </a:lnTo>
                  <a:lnTo>
                    <a:pt x="44" y="133"/>
                  </a:lnTo>
                  <a:lnTo>
                    <a:pt x="133" y="155"/>
                  </a:lnTo>
                  <a:lnTo>
                    <a:pt x="199" y="150"/>
                  </a:lnTo>
                  <a:lnTo>
                    <a:pt x="221" y="115"/>
                  </a:lnTo>
                  <a:lnTo>
                    <a:pt x="212" y="84"/>
                  </a:lnTo>
                  <a:lnTo>
                    <a:pt x="181" y="39"/>
                  </a:lnTo>
                  <a:lnTo>
                    <a:pt x="124" y="8"/>
                  </a:lnTo>
                  <a:lnTo>
                    <a:pt x="88" y="0"/>
                  </a:lnTo>
                  <a:close/>
                </a:path>
              </a:pathLst>
            </a:custGeom>
            <a:solidFill>
              <a:srgbClr val="fc0128"/>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2514600" y="2666880"/>
            <a:ext cx="5715000" cy="20779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Prepare a statement of stockholders’ equity.</a:t>
            </a:r>
            <a:endParaRPr b="0" lang="en-US" sz="3200" spc="-1" strike="noStrike">
              <a:solidFill>
                <a:srgbClr val="ffffff"/>
              </a:solidFill>
              <a:latin typeface="Arial"/>
            </a:endParaRPr>
          </a:p>
        </p:txBody>
      </p:sp>
      <p:sp>
        <p:nvSpPr>
          <p:cNvPr id="500"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 </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pic>
        <p:nvPicPr>
          <p:cNvPr id="501"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838080" y="1600200"/>
            <a:ext cx="792468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statement of stockholders’ equity, also called the statement of changes in stockholders’ equity,</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ummarizes the changes in the components of the stockholders’ equity section of the balance sheet.</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used because it reveals much more about the year’s stockholders’ equity transactions than the statement of retained earnings.</a:t>
            </a:r>
            <a:endParaRPr b="0" lang="en-US" sz="2800" spc="-1" strike="noStrike">
              <a:solidFill>
                <a:srgbClr val="ffffff"/>
              </a:solidFill>
              <a:latin typeface="Arial"/>
            </a:endParaRPr>
          </a:p>
        </p:txBody>
      </p:sp>
      <p:sp>
        <p:nvSpPr>
          <p:cNvPr id="503" name=""/>
          <p:cNvSpPr txBox="1"/>
          <p:nvPr/>
        </p:nvSpPr>
        <p:spPr>
          <a:xfrm>
            <a:off x="838080" y="304920"/>
            <a:ext cx="7861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45720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5" name=""/>
          <p:cNvSpPr txBox="1"/>
          <p:nvPr/>
        </p:nvSpPr>
        <p:spPr>
          <a:xfrm>
            <a:off x="914400" y="1219320"/>
            <a:ext cx="79246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are the part of stockholders’ equity that represents claims to assets arising from the earnings of th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equal a company’s profits since the date of its inception, less any losses, dividends to stockholders, or transfers to contribu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1447920" y="5335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7" name=""/>
          <p:cNvSpPr txBox="1"/>
          <p:nvPr/>
        </p:nvSpPr>
        <p:spPr>
          <a:xfrm>
            <a:off x="990720" y="1447920"/>
            <a:ext cx="7772400" cy="4191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are not the assets themselv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retained earnings means that assets generated by profitable operations have been kept in the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8"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 Balances</a:t>
            </a:r>
            <a:endParaRPr b="0" lang="en-US" sz="4400" spc="-1" strike="noStrike">
              <a:solidFill>
                <a:srgbClr val="ffffff"/>
              </a:solidFill>
              <a:latin typeface="Arial"/>
            </a:endParaRPr>
          </a:p>
        </p:txBody>
      </p:sp>
      <p:sp>
        <p:nvSpPr>
          <p:cNvPr id="509" name=""/>
          <p:cNvSpPr txBox="1"/>
          <p:nvPr/>
        </p:nvSpPr>
        <p:spPr>
          <a:xfrm>
            <a:off x="914400" y="1600200"/>
            <a:ext cx="7696080" cy="3429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credit balance does not mean that cash or designated assets have been set asid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debit balance in retained earnings represents a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457200"/>
            <a:ext cx="7848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5" name=""/>
          <p:cNvSpPr txBox="1"/>
          <p:nvPr/>
        </p:nvSpPr>
        <p:spPr>
          <a:xfrm>
            <a:off x="990720" y="1371600"/>
            <a:ext cx="77724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nd expected earnings are an important factor to consider in evaluating a company’s performance and analyzing its prospec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ecause of the importance of net income (bottom line), there is significant interest in evaluating the quality of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1523880" y="380880"/>
            <a:ext cx="6629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1" name=""/>
          <p:cNvSpPr txBox="1"/>
          <p:nvPr/>
        </p:nvSpPr>
        <p:spPr>
          <a:xfrm>
            <a:off x="990720" y="1828800"/>
            <a:ext cx="777240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rporation may be required to or may want to restrict all or part of its retained earning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restriction means that dividends can be declared only to the extent of</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unrestricted 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2" name=""/>
          <p:cNvSpPr txBox="1"/>
          <p:nvPr/>
        </p:nvSpPr>
        <p:spPr>
          <a:xfrm>
            <a:off x="1523880" y="380880"/>
            <a:ext cx="6576840" cy="1555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3" name=""/>
          <p:cNvSpPr txBox="1"/>
          <p:nvPr/>
        </p:nvSpPr>
        <p:spPr>
          <a:xfrm>
            <a:off x="1143000" y="1905120"/>
            <a:ext cx="7696080" cy="3505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Reasons for restricting retained earnings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A contractual agreemen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te law.</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Voluntary action by the board of dire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4" name=""/>
          <p:cNvSpPr txBox="1"/>
          <p:nvPr/>
        </p:nvSpPr>
        <p:spPr>
          <a:xfrm>
            <a:off x="838080" y="1676520"/>
            <a:ext cx="800100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restriction does not change the total retained earnings or stockholders’ equity of the company.</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simply divides retained earnings into restricted and unrestricte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most common way to disclose restricted retained earnings is by reference to a note to the financial statements.</a:t>
            </a:r>
            <a:endParaRPr b="0" lang="en-US" sz="3200" spc="-1" strike="noStrike">
              <a:solidFill>
                <a:srgbClr val="ffffff"/>
              </a:solidFill>
              <a:latin typeface="Arial"/>
            </a:endParaRPr>
          </a:p>
        </p:txBody>
      </p:sp>
      <p:sp>
        <p:nvSpPr>
          <p:cNvPr id="515" name=""/>
          <p:cNvSpPr txBox="1"/>
          <p:nvPr/>
        </p:nvSpPr>
        <p:spPr>
          <a:xfrm>
            <a:off x="1676520" y="228600"/>
            <a:ext cx="61927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6" name=""/>
          <p:cNvSpPr txBox="1"/>
          <p:nvPr/>
        </p:nvSpPr>
        <p:spPr>
          <a:xfrm>
            <a:off x="2286000" y="1371600"/>
            <a:ext cx="5486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7" name=""/>
          <p:cNvSpPr txBox="1"/>
          <p:nvPr/>
        </p:nvSpPr>
        <p:spPr>
          <a:xfrm>
            <a:off x="1219320" y="2743200"/>
            <a:ext cx="7467480" cy="3124080"/>
          </a:xfrm>
          <a:prstGeom prst="rect">
            <a:avLst/>
          </a:prstGeom>
          <a:noFill/>
          <a:ln w="0">
            <a:noFill/>
          </a:ln>
        </p:spPr>
        <p:txBody>
          <a:bodyPr lIns="0" rIns="0" tIns="0" bIns="0" anchor="t">
            <a:noAutofit/>
          </a:bodyPr>
          <a:p>
            <a:pPr marL="741240" indent="-7412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the statement of stockholders’ equity and the stockholders’ equity section of the balance sheet?</a:t>
            </a:r>
            <a:endParaRPr b="0" lang="en-US" sz="3200" spc="-1" strike="noStrike">
              <a:solidFill>
                <a:srgbClr val="ffffff"/>
              </a:solidFill>
              <a:latin typeface="Arial"/>
            </a:endParaRPr>
          </a:p>
        </p:txBody>
      </p:sp>
      <p:grpSp>
        <p:nvGrpSpPr>
          <p:cNvPr id="518" name=""/>
          <p:cNvGrpSpPr/>
          <p:nvPr/>
        </p:nvGrpSpPr>
        <p:grpSpPr>
          <a:xfrm>
            <a:off x="762120" y="304920"/>
            <a:ext cx="2132280" cy="2208600"/>
            <a:chOff x="762120" y="304920"/>
            <a:chExt cx="2132280" cy="2208600"/>
          </a:xfrm>
        </p:grpSpPr>
        <p:sp>
          <p:nvSpPr>
            <p:cNvPr id="519" name=""/>
            <p:cNvSpPr/>
            <p:nvPr/>
          </p:nvSpPr>
          <p:spPr>
            <a:xfrm>
              <a:off x="76824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120168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19384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234792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7168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51452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53828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7148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166680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528" name=""/>
            <p:cNvSpPr/>
            <p:nvPr/>
          </p:nvSpPr>
          <p:spPr>
            <a:xfrm>
              <a:off x="152568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80648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46844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165888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32" name=""/>
            <p:cNvSpPr/>
            <p:nvPr/>
          </p:nvSpPr>
          <p:spPr>
            <a:xfrm>
              <a:off x="145908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53180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2892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a:off x="166212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536" name=""/>
            <p:cNvSpPr/>
            <p:nvPr/>
          </p:nvSpPr>
          <p:spPr>
            <a:xfrm>
              <a:off x="164628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161928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93204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76212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93672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111600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4648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50344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243216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08900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166536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p:nvPr/>
          </p:nvSpPr>
          <p:spPr>
            <a:xfrm>
              <a:off x="219708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214488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1523880" y="304920"/>
            <a:ext cx="609480" cy="8380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550" name=""/>
          <p:cNvSpPr txBox="1"/>
          <p:nvPr/>
        </p:nvSpPr>
        <p:spPr>
          <a:xfrm>
            <a:off x="2057400" y="457200"/>
            <a:ext cx="6858000" cy="5562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statement of stockholders’ equity is a financial statement that summarizes changes that occurred during the accounting period in components of the stockholders’ equity section of the balance sheet. The stockholders’ equity section of the balance sheet lists the items in contributed capital and retained earnings on the balance sheet date.</a:t>
            </a:r>
            <a:endParaRPr b="0" lang="en-US" sz="2800" spc="-1" strike="noStrike">
              <a:solidFill>
                <a:srgbClr val="ffffff"/>
              </a:solidFill>
              <a:latin typeface="Arial"/>
            </a:endParaRPr>
          </a:p>
        </p:txBody>
      </p:sp>
      <p:grpSp>
        <p:nvGrpSpPr>
          <p:cNvPr id="551" name=""/>
          <p:cNvGrpSpPr/>
          <p:nvPr/>
        </p:nvGrpSpPr>
        <p:grpSpPr>
          <a:xfrm>
            <a:off x="762120" y="4267080"/>
            <a:ext cx="1675080" cy="2208960"/>
            <a:chOff x="762120" y="4267080"/>
            <a:chExt cx="1675080" cy="2208960"/>
          </a:xfrm>
        </p:grpSpPr>
        <p:sp>
          <p:nvSpPr>
            <p:cNvPr id="552" name=""/>
            <p:cNvSpPr/>
            <p:nvPr/>
          </p:nvSpPr>
          <p:spPr>
            <a:xfrm>
              <a:off x="1131840" y="444024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9" y="1725"/>
                  </a:lnTo>
                  <a:lnTo>
                    <a:pt x="821" y="1725"/>
                  </a:lnTo>
                  <a:lnTo>
                    <a:pt x="675" y="1672"/>
                  </a:lnTo>
                  <a:lnTo>
                    <a:pt x="671" y="1822"/>
                  </a:lnTo>
                  <a:lnTo>
                    <a:pt x="1248" y="1989"/>
                  </a:lnTo>
                  <a:lnTo>
                    <a:pt x="1213" y="1831"/>
                  </a:lnTo>
                  <a:lnTo>
                    <a:pt x="1235" y="1672"/>
                  </a:lnTo>
                  <a:lnTo>
                    <a:pt x="1298" y="1557"/>
                  </a:lnTo>
                  <a:lnTo>
                    <a:pt x="1399" y="1557"/>
                  </a:lnTo>
                  <a:lnTo>
                    <a:pt x="1563" y="1619"/>
                  </a:lnTo>
                  <a:lnTo>
                    <a:pt x="1712" y="1725"/>
                  </a:lnTo>
                  <a:lnTo>
                    <a:pt x="1563" y="1906"/>
                  </a:lnTo>
                  <a:lnTo>
                    <a:pt x="1143" y="2819"/>
                  </a:lnTo>
                  <a:lnTo>
                    <a:pt x="644" y="2806"/>
                  </a:lnTo>
                  <a:lnTo>
                    <a:pt x="101" y="1204"/>
                  </a:lnTo>
                  <a:lnTo>
                    <a:pt x="0" y="909"/>
                  </a:lnTo>
                  <a:lnTo>
                    <a:pt x="0" y="750"/>
                  </a:lnTo>
                  <a:lnTo>
                    <a:pt x="171" y="0"/>
                  </a:lnTo>
                  <a:lnTo>
                    <a:pt x="583" y="30"/>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192320" y="4878360"/>
              <a:ext cx="63720" cy="62280"/>
            </a:xfrm>
            <a:custGeom>
              <a:avLst/>
              <a:gdLst/>
              <a:ahLst/>
              <a:rect l="0" t="0" r="r" b="b"/>
              <a:pathLst>
                <a:path w="177" h="173">
                  <a:moveTo>
                    <a:pt x="61" y="0"/>
                  </a:moveTo>
                  <a:lnTo>
                    <a:pt x="120" y="13"/>
                  </a:lnTo>
                  <a:lnTo>
                    <a:pt x="177" y="156"/>
                  </a:lnTo>
                  <a:lnTo>
                    <a:pt x="30" y="173"/>
                  </a:lnTo>
                  <a:lnTo>
                    <a:pt x="0" y="45"/>
                  </a:lnTo>
                  <a:lnTo>
                    <a:pt x="61" y="0"/>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4" name=""/>
            <p:cNvSpPr/>
            <p:nvPr/>
          </p:nvSpPr>
          <p:spPr>
            <a:xfrm>
              <a:off x="1065240" y="4267080"/>
              <a:ext cx="452880" cy="475200"/>
            </a:xfrm>
            <a:custGeom>
              <a:avLst/>
              <a:gdLst/>
              <a:ahLst/>
              <a:rect l="0" t="0" r="r" b="b"/>
              <a:pathLst>
                <a:path w="1258" h="1320">
                  <a:moveTo>
                    <a:pt x="1258" y="141"/>
                  </a:moveTo>
                  <a:lnTo>
                    <a:pt x="1174" y="331"/>
                  </a:lnTo>
                  <a:lnTo>
                    <a:pt x="1117" y="406"/>
                  </a:lnTo>
                  <a:lnTo>
                    <a:pt x="1197" y="490"/>
                  </a:lnTo>
                  <a:lnTo>
                    <a:pt x="1254" y="1144"/>
                  </a:lnTo>
                  <a:lnTo>
                    <a:pt x="1091" y="662"/>
                  </a:lnTo>
                  <a:lnTo>
                    <a:pt x="940" y="508"/>
                  </a:lnTo>
                  <a:lnTo>
                    <a:pt x="613" y="578"/>
                  </a:lnTo>
                  <a:lnTo>
                    <a:pt x="389" y="569"/>
                  </a:lnTo>
                  <a:lnTo>
                    <a:pt x="358" y="768"/>
                  </a:lnTo>
                  <a:lnTo>
                    <a:pt x="367" y="1104"/>
                  </a:lnTo>
                  <a:lnTo>
                    <a:pt x="344" y="1320"/>
                  </a:lnTo>
                  <a:lnTo>
                    <a:pt x="216" y="1272"/>
                  </a:lnTo>
                  <a:lnTo>
                    <a:pt x="0" y="649"/>
                  </a:lnTo>
                  <a:lnTo>
                    <a:pt x="52" y="530"/>
                  </a:lnTo>
                  <a:lnTo>
                    <a:pt x="145" y="389"/>
                  </a:lnTo>
                  <a:lnTo>
                    <a:pt x="242" y="344"/>
                  </a:lnTo>
                  <a:lnTo>
                    <a:pt x="264" y="211"/>
                  </a:lnTo>
                  <a:lnTo>
                    <a:pt x="367" y="74"/>
                  </a:lnTo>
                  <a:lnTo>
                    <a:pt x="481" y="26"/>
                  </a:lnTo>
                  <a:lnTo>
                    <a:pt x="636" y="8"/>
                  </a:lnTo>
                  <a:lnTo>
                    <a:pt x="794" y="26"/>
                  </a:lnTo>
                  <a:lnTo>
                    <a:pt x="954" y="74"/>
                  </a:lnTo>
                  <a:lnTo>
                    <a:pt x="940" y="185"/>
                  </a:lnTo>
                  <a:lnTo>
                    <a:pt x="980" y="171"/>
                  </a:lnTo>
                  <a:lnTo>
                    <a:pt x="1011" y="0"/>
                  </a:lnTo>
                  <a:lnTo>
                    <a:pt x="1073" y="39"/>
                  </a:lnTo>
                  <a:lnTo>
                    <a:pt x="1020" y="251"/>
                  </a:lnTo>
                  <a:lnTo>
                    <a:pt x="1126" y="39"/>
                  </a:lnTo>
                  <a:lnTo>
                    <a:pt x="1073" y="277"/>
                  </a:lnTo>
                  <a:lnTo>
                    <a:pt x="1205" y="92"/>
                  </a:lnTo>
                  <a:lnTo>
                    <a:pt x="1100" y="331"/>
                  </a:lnTo>
                  <a:lnTo>
                    <a:pt x="1174" y="251"/>
                  </a:lnTo>
                  <a:lnTo>
                    <a:pt x="1210" y="158"/>
                  </a:lnTo>
                  <a:lnTo>
                    <a:pt x="1258" y="14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5" name=""/>
            <p:cNvSpPr/>
            <p:nvPr/>
          </p:nvSpPr>
          <p:spPr>
            <a:xfrm>
              <a:off x="1486080" y="4492800"/>
              <a:ext cx="945000" cy="1216440"/>
            </a:xfrm>
            <a:custGeom>
              <a:avLst/>
              <a:gdLst/>
              <a:ahLst/>
              <a:rect l="0" t="0" r="r" b="b"/>
              <a:pathLst>
                <a:path w="2625" h="3379">
                  <a:moveTo>
                    <a:pt x="2625" y="856"/>
                  </a:moveTo>
                  <a:lnTo>
                    <a:pt x="2026" y="683"/>
                  </a:lnTo>
                  <a:lnTo>
                    <a:pt x="1465" y="383"/>
                  </a:lnTo>
                  <a:lnTo>
                    <a:pt x="909" y="0"/>
                  </a:lnTo>
                  <a:lnTo>
                    <a:pt x="807" y="410"/>
                  </a:lnTo>
                  <a:lnTo>
                    <a:pt x="555" y="1240"/>
                  </a:lnTo>
                  <a:lnTo>
                    <a:pt x="463" y="1412"/>
                  </a:lnTo>
                  <a:lnTo>
                    <a:pt x="577" y="1487"/>
                  </a:lnTo>
                  <a:lnTo>
                    <a:pt x="639" y="1579"/>
                  </a:lnTo>
                  <a:lnTo>
                    <a:pt x="586" y="1645"/>
                  </a:lnTo>
                  <a:lnTo>
                    <a:pt x="410" y="1659"/>
                  </a:lnTo>
                  <a:lnTo>
                    <a:pt x="321" y="1866"/>
                  </a:lnTo>
                  <a:lnTo>
                    <a:pt x="123" y="2219"/>
                  </a:lnTo>
                  <a:lnTo>
                    <a:pt x="0" y="2346"/>
                  </a:lnTo>
                  <a:lnTo>
                    <a:pt x="493" y="2572"/>
                  </a:lnTo>
                  <a:lnTo>
                    <a:pt x="927" y="2952"/>
                  </a:lnTo>
                  <a:lnTo>
                    <a:pt x="1363" y="3247"/>
                  </a:lnTo>
                  <a:lnTo>
                    <a:pt x="1539" y="3379"/>
                  </a:lnTo>
                  <a:lnTo>
                    <a:pt x="1857" y="2802"/>
                  </a:lnTo>
                  <a:lnTo>
                    <a:pt x="2145" y="2104"/>
                  </a:lnTo>
                  <a:lnTo>
                    <a:pt x="2378" y="1495"/>
                  </a:lnTo>
                  <a:lnTo>
                    <a:pt x="2555" y="1050"/>
                  </a:lnTo>
                  <a:lnTo>
                    <a:pt x="2625"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049400" y="5079960"/>
              <a:ext cx="617760" cy="522720"/>
            </a:xfrm>
            <a:custGeom>
              <a:avLst/>
              <a:gdLst/>
              <a:ahLst/>
              <a:rect l="0" t="0" r="r" b="b"/>
              <a:pathLst>
                <a:path w="1716" h="1452">
                  <a:moveTo>
                    <a:pt x="1482" y="211"/>
                  </a:moveTo>
                  <a:lnTo>
                    <a:pt x="1323" y="57"/>
                  </a:lnTo>
                  <a:lnTo>
                    <a:pt x="1099" y="74"/>
                  </a:lnTo>
                  <a:lnTo>
                    <a:pt x="997" y="0"/>
                  </a:lnTo>
                  <a:lnTo>
                    <a:pt x="922" y="17"/>
                  </a:lnTo>
                  <a:lnTo>
                    <a:pt x="940" y="74"/>
                  </a:lnTo>
                  <a:lnTo>
                    <a:pt x="993" y="185"/>
                  </a:lnTo>
                  <a:lnTo>
                    <a:pt x="798" y="224"/>
                  </a:lnTo>
                  <a:lnTo>
                    <a:pt x="679" y="74"/>
                  </a:lnTo>
                  <a:lnTo>
                    <a:pt x="639" y="0"/>
                  </a:lnTo>
                  <a:lnTo>
                    <a:pt x="388" y="74"/>
                  </a:lnTo>
                  <a:lnTo>
                    <a:pt x="92" y="74"/>
                  </a:lnTo>
                  <a:lnTo>
                    <a:pt x="0" y="277"/>
                  </a:lnTo>
                  <a:lnTo>
                    <a:pt x="30" y="728"/>
                  </a:lnTo>
                  <a:lnTo>
                    <a:pt x="4" y="772"/>
                  </a:lnTo>
                  <a:lnTo>
                    <a:pt x="79" y="949"/>
                  </a:lnTo>
                  <a:lnTo>
                    <a:pt x="52" y="1015"/>
                  </a:lnTo>
                  <a:lnTo>
                    <a:pt x="202" y="1452"/>
                  </a:lnTo>
                  <a:lnTo>
                    <a:pt x="1716" y="1002"/>
                  </a:lnTo>
                  <a:lnTo>
                    <a:pt x="1407" y="807"/>
                  </a:lnTo>
                  <a:lnTo>
                    <a:pt x="1253" y="1002"/>
                  </a:lnTo>
                  <a:lnTo>
                    <a:pt x="896" y="1015"/>
                  </a:lnTo>
                  <a:lnTo>
                    <a:pt x="874" y="856"/>
                  </a:lnTo>
                  <a:lnTo>
                    <a:pt x="1099" y="759"/>
                  </a:lnTo>
                  <a:lnTo>
                    <a:pt x="1266" y="759"/>
                  </a:lnTo>
                  <a:lnTo>
                    <a:pt x="1204" y="719"/>
                  </a:lnTo>
                  <a:lnTo>
                    <a:pt x="1390" y="512"/>
                  </a:lnTo>
                  <a:lnTo>
                    <a:pt x="1495" y="264"/>
                  </a:lnTo>
                  <a:lnTo>
                    <a:pt x="1482"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376280" y="5140440"/>
              <a:ext cx="98640" cy="232200"/>
            </a:xfrm>
            <a:custGeom>
              <a:avLst/>
              <a:gdLst/>
              <a:ahLst/>
              <a:rect l="0" t="0" r="r" b="b"/>
              <a:pathLst>
                <a:path w="274" h="645">
                  <a:moveTo>
                    <a:pt x="92" y="0"/>
                  </a:moveTo>
                  <a:lnTo>
                    <a:pt x="217" y="349"/>
                  </a:lnTo>
                  <a:lnTo>
                    <a:pt x="274" y="597"/>
                  </a:lnTo>
                  <a:lnTo>
                    <a:pt x="101" y="645"/>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295280" y="5376960"/>
              <a:ext cx="113040" cy="57600"/>
            </a:xfrm>
            <a:custGeom>
              <a:avLst/>
              <a:gdLst/>
              <a:ahLst/>
              <a:rect l="0" t="0" r="r" b="b"/>
              <a:pathLst>
                <a:path w="314" h="160">
                  <a:moveTo>
                    <a:pt x="0" y="98"/>
                  </a:moveTo>
                  <a:lnTo>
                    <a:pt x="230"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559" name=""/>
            <p:cNvSpPr/>
            <p:nvPr/>
          </p:nvSpPr>
          <p:spPr>
            <a:xfrm>
              <a:off x="1390680" y="4915080"/>
              <a:ext cx="106560" cy="52920"/>
            </a:xfrm>
            <a:custGeom>
              <a:avLst/>
              <a:gdLst/>
              <a:ahLst/>
              <a:rect l="0" t="0" r="r" b="b"/>
              <a:pathLst>
                <a:path w="296" h="147">
                  <a:moveTo>
                    <a:pt x="261" y="0"/>
                  </a:moveTo>
                  <a:lnTo>
                    <a:pt x="296" y="80"/>
                  </a:lnTo>
                  <a:lnTo>
                    <a:pt x="261" y="129"/>
                  </a:lnTo>
                  <a:lnTo>
                    <a:pt x="155" y="147"/>
                  </a:lnTo>
                  <a:lnTo>
                    <a:pt x="0" y="80"/>
                  </a:lnTo>
                  <a:lnTo>
                    <a:pt x="217" y="0"/>
                  </a:lnTo>
                  <a:lnTo>
                    <a:pt x="261" y="0"/>
                  </a:lnTo>
                  <a:close/>
                </a:path>
              </a:pathLst>
            </a:custGeom>
            <a:solidFill>
              <a:srgbClr val="ff0000"/>
            </a:solidFill>
            <a:ln w="12600">
              <a:solidFill>
                <a:srgbClr val="ff0000"/>
              </a:solidFill>
              <a:round/>
            </a:ln>
          </p:spPr>
          <p:txBody>
            <a:bodyPr lIns="96120" rIns="96120" tIns="1800" bIns="1800" anchor="t">
              <a:noAutofit/>
            </a:bodyPr>
            <a:p>
              <a:endParaRPr b="0" lang="en-US" sz="1800" spc="-1" strike="noStrike">
                <a:solidFill>
                  <a:srgbClr val="000000"/>
                </a:solidFill>
                <a:latin typeface="Arial"/>
              </a:endParaRPr>
            </a:p>
          </p:txBody>
        </p:sp>
        <p:sp>
          <p:nvSpPr>
            <p:cNvPr id="560" name=""/>
            <p:cNvSpPr/>
            <p:nvPr/>
          </p:nvSpPr>
          <p:spPr>
            <a:xfrm>
              <a:off x="1330200" y="4883040"/>
              <a:ext cx="147960" cy="74880"/>
            </a:xfrm>
            <a:custGeom>
              <a:avLst/>
              <a:gdLst/>
              <a:ahLst/>
              <a:rect l="0" t="0" r="r" b="b"/>
              <a:pathLst>
                <a:path w="411" h="208">
                  <a:moveTo>
                    <a:pt x="411" y="0"/>
                  </a:moveTo>
                  <a:lnTo>
                    <a:pt x="278" y="30"/>
                  </a:lnTo>
                  <a:lnTo>
                    <a:pt x="167" y="44"/>
                  </a:lnTo>
                  <a:lnTo>
                    <a:pt x="0" y="17"/>
                  </a:lnTo>
                  <a:lnTo>
                    <a:pt x="101" y="164"/>
                  </a:lnTo>
                  <a:lnTo>
                    <a:pt x="296" y="208"/>
                  </a:lnTo>
                  <a:lnTo>
                    <a:pt x="411" y="159"/>
                  </a:lnTo>
                  <a:lnTo>
                    <a:pt x="384" y="128"/>
                  </a:lnTo>
                  <a:lnTo>
                    <a:pt x="397" y="66"/>
                  </a:lnTo>
                  <a:lnTo>
                    <a:pt x="41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61" name=""/>
            <p:cNvSpPr/>
            <p:nvPr/>
          </p:nvSpPr>
          <p:spPr>
            <a:xfrm>
              <a:off x="1135080" y="5357880"/>
              <a:ext cx="729000" cy="281520"/>
            </a:xfrm>
            <a:custGeom>
              <a:avLst/>
              <a:gdLst/>
              <a:ahLst/>
              <a:rect l="0" t="0" r="r" b="b"/>
              <a:pathLst>
                <a:path w="2025" h="782">
                  <a:moveTo>
                    <a:pt x="1831" y="17"/>
                  </a:moveTo>
                  <a:lnTo>
                    <a:pt x="1482" y="44"/>
                  </a:lnTo>
                  <a:lnTo>
                    <a:pt x="1147" y="180"/>
                  </a:lnTo>
                  <a:lnTo>
                    <a:pt x="758" y="180"/>
                  </a:lnTo>
                  <a:lnTo>
                    <a:pt x="321" y="92"/>
                  </a:lnTo>
                  <a:lnTo>
                    <a:pt x="74" y="0"/>
                  </a:lnTo>
                  <a:lnTo>
                    <a:pt x="229" y="208"/>
                  </a:lnTo>
                  <a:lnTo>
                    <a:pt x="0" y="158"/>
                  </a:lnTo>
                  <a:lnTo>
                    <a:pt x="141" y="318"/>
                  </a:lnTo>
                  <a:lnTo>
                    <a:pt x="0" y="547"/>
                  </a:lnTo>
                  <a:lnTo>
                    <a:pt x="357" y="716"/>
                  </a:lnTo>
                  <a:lnTo>
                    <a:pt x="1906" y="782"/>
                  </a:lnTo>
                  <a:lnTo>
                    <a:pt x="2025" y="623"/>
                  </a:lnTo>
                  <a:lnTo>
                    <a:pt x="1848" y="468"/>
                  </a:lnTo>
                  <a:lnTo>
                    <a:pt x="1972" y="309"/>
                  </a:lnTo>
                  <a:lnTo>
                    <a:pt x="1769" y="269"/>
                  </a:lnTo>
                  <a:lnTo>
                    <a:pt x="1892" y="97"/>
                  </a:lnTo>
                  <a:lnTo>
                    <a:pt x="1769" y="132"/>
                  </a:lnTo>
                  <a:lnTo>
                    <a:pt x="1716" y="132"/>
                  </a:lnTo>
                  <a:lnTo>
                    <a:pt x="1831"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965240" y="6281640"/>
              <a:ext cx="413280" cy="168480"/>
            </a:xfrm>
            <a:custGeom>
              <a:avLst/>
              <a:gdLst/>
              <a:ahLst/>
              <a:rect l="0" t="0" r="r" b="b"/>
              <a:pathLst>
                <a:path w="1148" h="468">
                  <a:moveTo>
                    <a:pt x="1148" y="233"/>
                  </a:moveTo>
                  <a:lnTo>
                    <a:pt x="636" y="0"/>
                  </a:lnTo>
                  <a:lnTo>
                    <a:pt x="375" y="261"/>
                  </a:lnTo>
                  <a:lnTo>
                    <a:pt x="0" y="353"/>
                  </a:lnTo>
                  <a:lnTo>
                    <a:pt x="119" y="441"/>
                  </a:lnTo>
                  <a:lnTo>
                    <a:pt x="883" y="468"/>
                  </a:lnTo>
                  <a:lnTo>
                    <a:pt x="1148"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195560" y="5613480"/>
              <a:ext cx="662400" cy="860760"/>
            </a:xfrm>
            <a:custGeom>
              <a:avLst/>
              <a:gdLst/>
              <a:ahLst/>
              <a:rect l="0" t="0" r="r" b="b"/>
              <a:pathLst>
                <a:path w="1840" h="2391">
                  <a:moveTo>
                    <a:pt x="1823" y="44"/>
                  </a:moveTo>
                  <a:lnTo>
                    <a:pt x="0" y="0"/>
                  </a:lnTo>
                  <a:lnTo>
                    <a:pt x="0" y="458"/>
                  </a:lnTo>
                  <a:lnTo>
                    <a:pt x="216" y="595"/>
                  </a:lnTo>
                  <a:lnTo>
                    <a:pt x="233" y="2047"/>
                  </a:lnTo>
                  <a:lnTo>
                    <a:pt x="436" y="2073"/>
                  </a:lnTo>
                  <a:lnTo>
                    <a:pt x="436" y="2351"/>
                  </a:lnTo>
                  <a:lnTo>
                    <a:pt x="1448" y="2391"/>
                  </a:lnTo>
                  <a:lnTo>
                    <a:pt x="1435" y="2025"/>
                  </a:lnTo>
                  <a:lnTo>
                    <a:pt x="1642" y="2025"/>
                  </a:lnTo>
                  <a:lnTo>
                    <a:pt x="1673" y="551"/>
                  </a:lnTo>
                  <a:lnTo>
                    <a:pt x="1814" y="410"/>
                  </a:lnTo>
                  <a:lnTo>
                    <a:pt x="1840" y="176"/>
                  </a:lnTo>
                  <a:lnTo>
                    <a:pt x="1823"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1671480" y="5415120"/>
              <a:ext cx="30600" cy="217800"/>
            </a:xfrm>
            <a:custGeom>
              <a:avLst/>
              <a:gdLst/>
              <a:ahLst/>
              <a:rect l="0" t="0" r="r" b="b"/>
              <a:pathLst>
                <a:path w="85" h="605">
                  <a:moveTo>
                    <a:pt x="85" y="136"/>
                  </a:moveTo>
                  <a:lnTo>
                    <a:pt x="85" y="605"/>
                  </a:lnTo>
                  <a:lnTo>
                    <a:pt x="23" y="578"/>
                  </a:lnTo>
                  <a:lnTo>
                    <a:pt x="0" y="0"/>
                  </a:lnTo>
                  <a:lnTo>
                    <a:pt x="85" y="13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79400" y="6272280"/>
              <a:ext cx="489240" cy="152640"/>
            </a:xfrm>
            <a:custGeom>
              <a:avLst/>
              <a:gdLst/>
              <a:ahLst/>
              <a:rect l="0" t="0" r="r" b="b"/>
              <a:pathLst>
                <a:path w="1359" h="424">
                  <a:moveTo>
                    <a:pt x="1359" y="309"/>
                  </a:moveTo>
                  <a:lnTo>
                    <a:pt x="1002" y="309"/>
                  </a:lnTo>
                  <a:lnTo>
                    <a:pt x="715" y="70"/>
                  </a:lnTo>
                  <a:lnTo>
                    <a:pt x="370" y="70"/>
                  </a:lnTo>
                  <a:lnTo>
                    <a:pt x="0" y="0"/>
                  </a:lnTo>
                  <a:lnTo>
                    <a:pt x="282" y="217"/>
                  </a:lnTo>
                  <a:lnTo>
                    <a:pt x="733" y="380"/>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70200" y="6318360"/>
              <a:ext cx="254520" cy="116280"/>
            </a:xfrm>
            <a:custGeom>
              <a:avLst/>
              <a:gdLst/>
              <a:ahLst/>
              <a:rect l="0" t="0" r="r" b="b"/>
              <a:pathLst>
                <a:path w="707" h="323">
                  <a:moveTo>
                    <a:pt x="707" y="120"/>
                  </a:moveTo>
                  <a:lnTo>
                    <a:pt x="353" y="120"/>
                  </a:lnTo>
                  <a:lnTo>
                    <a:pt x="0" y="0"/>
                  </a:lnTo>
                  <a:lnTo>
                    <a:pt x="57" y="225"/>
                  </a:lnTo>
                  <a:lnTo>
                    <a:pt x="340" y="323"/>
                  </a:lnTo>
                  <a:lnTo>
                    <a:pt x="579" y="203"/>
                  </a:lnTo>
                  <a:lnTo>
                    <a:pt x="707" y="1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714680" y="6272280"/>
              <a:ext cx="132120" cy="144720"/>
            </a:xfrm>
            <a:custGeom>
              <a:avLst/>
              <a:gdLst/>
              <a:ahLst/>
              <a:rect l="0" t="0" r="r" b="b"/>
              <a:pathLst>
                <a:path w="367" h="402">
                  <a:moveTo>
                    <a:pt x="30" y="0"/>
                  </a:moveTo>
                  <a:lnTo>
                    <a:pt x="243" y="149"/>
                  </a:lnTo>
                  <a:lnTo>
                    <a:pt x="331" y="261"/>
                  </a:lnTo>
                  <a:lnTo>
                    <a:pt x="367" y="402"/>
                  </a:lnTo>
                  <a:lnTo>
                    <a:pt x="318" y="402"/>
                  </a:lnTo>
                  <a:lnTo>
                    <a:pt x="274" y="283"/>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425600" y="5921280"/>
              <a:ext cx="87840" cy="240120"/>
            </a:xfrm>
            <a:custGeom>
              <a:avLst/>
              <a:gdLst/>
              <a:ahLst/>
              <a:rect l="0" t="0" r="r" b="b"/>
              <a:pathLst>
                <a:path w="244" h="667">
                  <a:moveTo>
                    <a:pt x="84" y="66"/>
                  </a:moveTo>
                  <a:lnTo>
                    <a:pt x="115" y="362"/>
                  </a:lnTo>
                  <a:lnTo>
                    <a:pt x="244" y="601"/>
                  </a:lnTo>
                  <a:lnTo>
                    <a:pt x="226" y="667"/>
                  </a:lnTo>
                  <a:lnTo>
                    <a:pt x="84" y="477"/>
                  </a:lnTo>
                  <a:lnTo>
                    <a:pt x="0" y="181"/>
                  </a:lnTo>
                  <a:lnTo>
                    <a:pt x="22" y="0"/>
                  </a:lnTo>
                  <a:lnTo>
                    <a:pt x="84"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565280" y="5241960"/>
              <a:ext cx="214560" cy="522720"/>
            </a:xfrm>
            <a:custGeom>
              <a:avLst/>
              <a:gdLst/>
              <a:ahLst/>
              <a:rect l="0" t="0" r="r" b="b"/>
              <a:pathLst>
                <a:path w="596" h="1452">
                  <a:moveTo>
                    <a:pt x="512" y="1108"/>
                  </a:moveTo>
                  <a:lnTo>
                    <a:pt x="433" y="1285"/>
                  </a:lnTo>
                  <a:lnTo>
                    <a:pt x="0" y="1452"/>
                  </a:lnTo>
                  <a:lnTo>
                    <a:pt x="79" y="1329"/>
                  </a:lnTo>
                  <a:lnTo>
                    <a:pt x="464" y="1135"/>
                  </a:lnTo>
                  <a:lnTo>
                    <a:pt x="547" y="900"/>
                  </a:lnTo>
                  <a:lnTo>
                    <a:pt x="450" y="644"/>
                  </a:lnTo>
                  <a:lnTo>
                    <a:pt x="406" y="618"/>
                  </a:lnTo>
                  <a:lnTo>
                    <a:pt x="48" y="119"/>
                  </a:lnTo>
                  <a:lnTo>
                    <a:pt x="79" y="0"/>
                  </a:lnTo>
                  <a:lnTo>
                    <a:pt x="194" y="0"/>
                  </a:lnTo>
                  <a:lnTo>
                    <a:pt x="547" y="552"/>
                  </a:lnTo>
                  <a:lnTo>
                    <a:pt x="512" y="644"/>
                  </a:lnTo>
                  <a:lnTo>
                    <a:pt x="596" y="847"/>
                  </a:lnTo>
                  <a:lnTo>
                    <a:pt x="578" y="1019"/>
                  </a:lnTo>
                  <a:lnTo>
                    <a:pt x="512" y="110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581120" y="5232240"/>
              <a:ext cx="141480" cy="241560"/>
            </a:xfrm>
            <a:custGeom>
              <a:avLst/>
              <a:gdLst/>
              <a:ahLst/>
              <a:rect l="0" t="0" r="r" b="b"/>
              <a:pathLst>
                <a:path w="393" h="671">
                  <a:moveTo>
                    <a:pt x="83" y="0"/>
                  </a:moveTo>
                  <a:lnTo>
                    <a:pt x="30" y="26"/>
                  </a:lnTo>
                  <a:lnTo>
                    <a:pt x="22" y="70"/>
                  </a:lnTo>
                  <a:lnTo>
                    <a:pt x="0" y="119"/>
                  </a:lnTo>
                  <a:lnTo>
                    <a:pt x="30" y="185"/>
                  </a:lnTo>
                  <a:lnTo>
                    <a:pt x="367" y="671"/>
                  </a:lnTo>
                  <a:lnTo>
                    <a:pt x="349" y="600"/>
                  </a:lnTo>
                  <a:lnTo>
                    <a:pt x="367" y="552"/>
                  </a:lnTo>
                  <a:lnTo>
                    <a:pt x="393" y="530"/>
                  </a:lnTo>
                  <a:lnTo>
                    <a:pt x="340" y="441"/>
                  </a:lnTo>
                  <a:lnTo>
                    <a:pt x="292" y="486"/>
                  </a:lnTo>
                  <a:lnTo>
                    <a:pt x="83" y="185"/>
                  </a:lnTo>
                  <a:lnTo>
                    <a:pt x="83" y="119"/>
                  </a:lnTo>
                  <a:lnTo>
                    <a:pt x="119"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157400" y="5340240"/>
              <a:ext cx="493920" cy="109800"/>
            </a:xfrm>
            <a:custGeom>
              <a:avLst/>
              <a:gdLst/>
              <a:ahLst/>
              <a:rect l="0" t="0" r="r" b="b"/>
              <a:pathLst>
                <a:path w="1372" h="305">
                  <a:moveTo>
                    <a:pt x="1372" y="164"/>
                  </a:moveTo>
                  <a:lnTo>
                    <a:pt x="1143" y="212"/>
                  </a:lnTo>
                  <a:lnTo>
                    <a:pt x="887" y="234"/>
                  </a:lnTo>
                  <a:lnTo>
                    <a:pt x="573" y="212"/>
                  </a:lnTo>
                  <a:lnTo>
                    <a:pt x="370" y="164"/>
                  </a:lnTo>
                  <a:lnTo>
                    <a:pt x="216" y="119"/>
                  </a:lnTo>
                  <a:lnTo>
                    <a:pt x="105" y="70"/>
                  </a:lnTo>
                  <a:lnTo>
                    <a:pt x="0" y="0"/>
                  </a:lnTo>
                  <a:lnTo>
                    <a:pt x="224" y="305"/>
                  </a:lnTo>
                  <a:lnTo>
                    <a:pt x="123" y="92"/>
                  </a:lnTo>
                  <a:lnTo>
                    <a:pt x="321" y="190"/>
                  </a:lnTo>
                  <a:lnTo>
                    <a:pt x="604" y="256"/>
                  </a:lnTo>
                  <a:lnTo>
                    <a:pt x="887" y="283"/>
                  </a:lnTo>
                  <a:lnTo>
                    <a:pt x="1143" y="234"/>
                  </a:lnTo>
                  <a:lnTo>
                    <a:pt x="1372" y="1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100160" y="5473800"/>
              <a:ext cx="567000" cy="316440"/>
            </a:xfrm>
            <a:custGeom>
              <a:avLst/>
              <a:gdLst/>
              <a:ahLst/>
              <a:rect l="0" t="0" r="r" b="b"/>
              <a:pathLst>
                <a:path w="1575" h="879">
                  <a:moveTo>
                    <a:pt x="79" y="119"/>
                  </a:moveTo>
                  <a:lnTo>
                    <a:pt x="48" y="353"/>
                  </a:lnTo>
                  <a:lnTo>
                    <a:pt x="0" y="663"/>
                  </a:lnTo>
                  <a:lnTo>
                    <a:pt x="264" y="760"/>
                  </a:lnTo>
                  <a:lnTo>
                    <a:pt x="282" y="879"/>
                  </a:lnTo>
                  <a:lnTo>
                    <a:pt x="295" y="853"/>
                  </a:lnTo>
                  <a:lnTo>
                    <a:pt x="295" y="419"/>
                  </a:lnTo>
                  <a:lnTo>
                    <a:pt x="1575" y="419"/>
                  </a:lnTo>
                  <a:lnTo>
                    <a:pt x="1575" y="353"/>
                  </a:lnTo>
                  <a:lnTo>
                    <a:pt x="282" y="327"/>
                  </a:lnTo>
                  <a:lnTo>
                    <a:pt x="383" y="283"/>
                  </a:lnTo>
                  <a:lnTo>
                    <a:pt x="141" y="225"/>
                  </a:lnTo>
                  <a:lnTo>
                    <a:pt x="313" y="225"/>
                  </a:lnTo>
                  <a:lnTo>
                    <a:pt x="154" y="132"/>
                  </a:lnTo>
                  <a:lnTo>
                    <a:pt x="370" y="132"/>
                  </a:lnTo>
                  <a:lnTo>
                    <a:pt x="216" y="0"/>
                  </a:lnTo>
                  <a:lnTo>
                    <a:pt x="7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1139760" y="5415120"/>
              <a:ext cx="545040" cy="82800"/>
            </a:xfrm>
            <a:custGeom>
              <a:avLst/>
              <a:gdLst/>
              <a:ahLst/>
              <a:rect l="0" t="0" r="r" b="b"/>
              <a:pathLst>
                <a:path w="1514" h="230">
                  <a:moveTo>
                    <a:pt x="1439" y="70"/>
                  </a:moveTo>
                  <a:lnTo>
                    <a:pt x="949" y="114"/>
                  </a:lnTo>
                  <a:lnTo>
                    <a:pt x="587" y="114"/>
                  </a:lnTo>
                  <a:lnTo>
                    <a:pt x="343" y="92"/>
                  </a:lnTo>
                  <a:lnTo>
                    <a:pt x="92" y="26"/>
                  </a:lnTo>
                  <a:lnTo>
                    <a:pt x="0" y="0"/>
                  </a:lnTo>
                  <a:lnTo>
                    <a:pt x="92" y="70"/>
                  </a:lnTo>
                  <a:lnTo>
                    <a:pt x="419" y="137"/>
                  </a:lnTo>
                  <a:lnTo>
                    <a:pt x="847" y="164"/>
                  </a:lnTo>
                  <a:lnTo>
                    <a:pt x="158" y="164"/>
                  </a:lnTo>
                  <a:lnTo>
                    <a:pt x="794" y="203"/>
                  </a:lnTo>
                  <a:lnTo>
                    <a:pt x="1197" y="203"/>
                  </a:lnTo>
                  <a:lnTo>
                    <a:pt x="1514" y="230"/>
                  </a:lnTo>
                  <a:lnTo>
                    <a:pt x="1028" y="164"/>
                  </a:lnTo>
                  <a:lnTo>
                    <a:pt x="1439"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4" name=""/>
            <p:cNvSpPr/>
            <p:nvPr/>
          </p:nvSpPr>
          <p:spPr>
            <a:xfrm>
              <a:off x="1671480" y="542124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1319040" y="5464080"/>
              <a:ext cx="538560" cy="1011600"/>
            </a:xfrm>
            <a:custGeom>
              <a:avLst/>
              <a:gdLst/>
              <a:ahLst/>
              <a:rect l="0" t="0" r="r" b="b"/>
              <a:pathLst>
                <a:path w="1496" h="2810">
                  <a:moveTo>
                    <a:pt x="1183" y="44"/>
                  </a:moveTo>
                  <a:lnTo>
                    <a:pt x="1280" y="202"/>
                  </a:lnTo>
                  <a:lnTo>
                    <a:pt x="1280" y="326"/>
                  </a:lnTo>
                  <a:lnTo>
                    <a:pt x="1249" y="440"/>
                  </a:lnTo>
                  <a:lnTo>
                    <a:pt x="1135" y="529"/>
                  </a:lnTo>
                  <a:lnTo>
                    <a:pt x="913" y="643"/>
                  </a:lnTo>
                  <a:lnTo>
                    <a:pt x="702" y="737"/>
                  </a:lnTo>
                  <a:lnTo>
                    <a:pt x="530" y="834"/>
                  </a:lnTo>
                  <a:lnTo>
                    <a:pt x="384" y="993"/>
                  </a:lnTo>
                  <a:lnTo>
                    <a:pt x="295" y="1178"/>
                  </a:lnTo>
                  <a:lnTo>
                    <a:pt x="286" y="1337"/>
                  </a:lnTo>
                  <a:lnTo>
                    <a:pt x="317" y="1562"/>
                  </a:lnTo>
                  <a:lnTo>
                    <a:pt x="428" y="1795"/>
                  </a:lnTo>
                  <a:lnTo>
                    <a:pt x="512" y="1936"/>
                  </a:lnTo>
                  <a:lnTo>
                    <a:pt x="671" y="2069"/>
                  </a:lnTo>
                  <a:lnTo>
                    <a:pt x="865" y="2184"/>
                  </a:lnTo>
                  <a:lnTo>
                    <a:pt x="1015" y="2277"/>
                  </a:lnTo>
                  <a:lnTo>
                    <a:pt x="1161" y="2352"/>
                  </a:lnTo>
                  <a:lnTo>
                    <a:pt x="1302" y="2440"/>
                  </a:lnTo>
                  <a:lnTo>
                    <a:pt x="1395" y="2559"/>
                  </a:lnTo>
                  <a:lnTo>
                    <a:pt x="1408" y="2647"/>
                  </a:lnTo>
                  <a:lnTo>
                    <a:pt x="1346" y="2691"/>
                  </a:lnTo>
                  <a:lnTo>
                    <a:pt x="1249" y="2674"/>
                  </a:lnTo>
                  <a:lnTo>
                    <a:pt x="1161" y="2625"/>
                  </a:lnTo>
                  <a:lnTo>
                    <a:pt x="1107" y="2625"/>
                  </a:lnTo>
                  <a:lnTo>
                    <a:pt x="1135" y="2440"/>
                  </a:lnTo>
                  <a:lnTo>
                    <a:pt x="74" y="2440"/>
                  </a:lnTo>
                  <a:lnTo>
                    <a:pt x="74" y="2718"/>
                  </a:lnTo>
                  <a:lnTo>
                    <a:pt x="0" y="2766"/>
                  </a:lnTo>
                  <a:lnTo>
                    <a:pt x="30" y="2810"/>
                  </a:lnTo>
                  <a:lnTo>
                    <a:pt x="1144" y="2810"/>
                  </a:lnTo>
                  <a:lnTo>
                    <a:pt x="1081" y="2740"/>
                  </a:lnTo>
                  <a:lnTo>
                    <a:pt x="114" y="2718"/>
                  </a:lnTo>
                  <a:lnTo>
                    <a:pt x="114" y="2674"/>
                  </a:lnTo>
                  <a:lnTo>
                    <a:pt x="1107" y="2674"/>
                  </a:lnTo>
                  <a:lnTo>
                    <a:pt x="1201" y="2691"/>
                  </a:lnTo>
                  <a:lnTo>
                    <a:pt x="1329" y="2740"/>
                  </a:lnTo>
                  <a:lnTo>
                    <a:pt x="1395" y="2766"/>
                  </a:lnTo>
                  <a:lnTo>
                    <a:pt x="1470" y="2718"/>
                  </a:lnTo>
                  <a:lnTo>
                    <a:pt x="1496" y="2674"/>
                  </a:lnTo>
                  <a:lnTo>
                    <a:pt x="1483" y="2581"/>
                  </a:lnTo>
                  <a:lnTo>
                    <a:pt x="1435" y="2511"/>
                  </a:lnTo>
                  <a:lnTo>
                    <a:pt x="1395" y="2533"/>
                  </a:lnTo>
                  <a:lnTo>
                    <a:pt x="1267" y="2396"/>
                  </a:lnTo>
                  <a:lnTo>
                    <a:pt x="1144" y="2321"/>
                  </a:lnTo>
                  <a:lnTo>
                    <a:pt x="1161" y="2277"/>
                  </a:lnTo>
                  <a:lnTo>
                    <a:pt x="1329" y="2374"/>
                  </a:lnTo>
                  <a:lnTo>
                    <a:pt x="1135" y="2228"/>
                  </a:lnTo>
                  <a:lnTo>
                    <a:pt x="878" y="2114"/>
                  </a:lnTo>
                  <a:lnTo>
                    <a:pt x="649" y="1963"/>
                  </a:lnTo>
                  <a:lnTo>
                    <a:pt x="464" y="1725"/>
                  </a:lnTo>
                  <a:lnTo>
                    <a:pt x="530" y="1848"/>
                  </a:lnTo>
                  <a:lnTo>
                    <a:pt x="481" y="1848"/>
                  </a:lnTo>
                  <a:lnTo>
                    <a:pt x="335" y="1539"/>
                  </a:lnTo>
                  <a:lnTo>
                    <a:pt x="335" y="1363"/>
                  </a:lnTo>
                  <a:lnTo>
                    <a:pt x="366" y="1337"/>
                  </a:lnTo>
                  <a:lnTo>
                    <a:pt x="411" y="1539"/>
                  </a:lnTo>
                  <a:lnTo>
                    <a:pt x="384" y="1271"/>
                  </a:lnTo>
                  <a:lnTo>
                    <a:pt x="411" y="1129"/>
                  </a:lnTo>
                  <a:lnTo>
                    <a:pt x="455" y="1015"/>
                  </a:lnTo>
                  <a:lnTo>
                    <a:pt x="552" y="922"/>
                  </a:lnTo>
                  <a:lnTo>
                    <a:pt x="702" y="856"/>
                  </a:lnTo>
                  <a:lnTo>
                    <a:pt x="1090" y="683"/>
                  </a:lnTo>
                  <a:lnTo>
                    <a:pt x="750" y="834"/>
                  </a:lnTo>
                  <a:lnTo>
                    <a:pt x="799" y="737"/>
                  </a:lnTo>
                  <a:lnTo>
                    <a:pt x="1161" y="529"/>
                  </a:lnTo>
                  <a:lnTo>
                    <a:pt x="1183" y="590"/>
                  </a:lnTo>
                  <a:lnTo>
                    <a:pt x="1144" y="643"/>
                  </a:lnTo>
                  <a:lnTo>
                    <a:pt x="1249" y="507"/>
                  </a:lnTo>
                  <a:lnTo>
                    <a:pt x="1302" y="374"/>
                  </a:lnTo>
                  <a:lnTo>
                    <a:pt x="1311" y="229"/>
                  </a:lnTo>
                  <a:lnTo>
                    <a:pt x="1267" y="92"/>
                  </a:lnTo>
                  <a:lnTo>
                    <a:pt x="1183" y="0"/>
                  </a:lnTo>
                  <a:lnTo>
                    <a:pt x="1183"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1469880" y="5780160"/>
              <a:ext cx="376560" cy="503640"/>
            </a:xfrm>
            <a:custGeom>
              <a:avLst/>
              <a:gdLst/>
              <a:ahLst/>
              <a:rect l="0" t="0" r="r" b="b"/>
              <a:pathLst>
                <a:path w="1046" h="1399">
                  <a:moveTo>
                    <a:pt x="1046" y="0"/>
                  </a:moveTo>
                  <a:lnTo>
                    <a:pt x="321" y="0"/>
                  </a:lnTo>
                  <a:lnTo>
                    <a:pt x="88" y="119"/>
                  </a:lnTo>
                  <a:lnTo>
                    <a:pt x="0" y="273"/>
                  </a:lnTo>
                  <a:lnTo>
                    <a:pt x="44" y="299"/>
                  </a:lnTo>
                  <a:lnTo>
                    <a:pt x="88" y="552"/>
                  </a:lnTo>
                  <a:lnTo>
                    <a:pt x="101" y="803"/>
                  </a:lnTo>
                  <a:lnTo>
                    <a:pt x="136" y="1015"/>
                  </a:lnTo>
                  <a:lnTo>
                    <a:pt x="149" y="847"/>
                  </a:lnTo>
                  <a:lnTo>
                    <a:pt x="136" y="618"/>
                  </a:lnTo>
                  <a:lnTo>
                    <a:pt x="119" y="433"/>
                  </a:lnTo>
                  <a:lnTo>
                    <a:pt x="101" y="299"/>
                  </a:lnTo>
                  <a:lnTo>
                    <a:pt x="101" y="229"/>
                  </a:lnTo>
                  <a:lnTo>
                    <a:pt x="167" y="185"/>
                  </a:lnTo>
                  <a:lnTo>
                    <a:pt x="198" y="255"/>
                  </a:lnTo>
                  <a:lnTo>
                    <a:pt x="224" y="596"/>
                  </a:lnTo>
                  <a:lnTo>
                    <a:pt x="224" y="1060"/>
                  </a:lnTo>
                  <a:lnTo>
                    <a:pt x="224" y="321"/>
                  </a:lnTo>
                  <a:lnTo>
                    <a:pt x="489" y="343"/>
                  </a:lnTo>
                  <a:lnTo>
                    <a:pt x="515" y="481"/>
                  </a:lnTo>
                  <a:lnTo>
                    <a:pt x="530" y="847"/>
                  </a:lnTo>
                  <a:lnTo>
                    <a:pt x="547" y="1263"/>
                  </a:lnTo>
                  <a:lnTo>
                    <a:pt x="561" y="596"/>
                  </a:lnTo>
                  <a:lnTo>
                    <a:pt x="561" y="343"/>
                  </a:lnTo>
                  <a:lnTo>
                    <a:pt x="547" y="229"/>
                  </a:lnTo>
                  <a:lnTo>
                    <a:pt x="609" y="185"/>
                  </a:lnTo>
                  <a:lnTo>
                    <a:pt x="658" y="229"/>
                  </a:lnTo>
                  <a:lnTo>
                    <a:pt x="658" y="321"/>
                  </a:lnTo>
                  <a:lnTo>
                    <a:pt x="627" y="1197"/>
                  </a:lnTo>
                  <a:lnTo>
                    <a:pt x="693" y="343"/>
                  </a:lnTo>
                  <a:lnTo>
                    <a:pt x="777" y="343"/>
                  </a:lnTo>
                  <a:lnTo>
                    <a:pt x="847" y="367"/>
                  </a:lnTo>
                  <a:lnTo>
                    <a:pt x="874" y="393"/>
                  </a:lnTo>
                  <a:lnTo>
                    <a:pt x="887" y="1399"/>
                  </a:lnTo>
                  <a:lnTo>
                    <a:pt x="922" y="1399"/>
                  </a:lnTo>
                  <a:lnTo>
                    <a:pt x="953" y="119"/>
                  </a:lnTo>
                  <a:lnTo>
                    <a:pt x="10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1201680" y="5773680"/>
              <a:ext cx="282960" cy="525960"/>
            </a:xfrm>
            <a:custGeom>
              <a:avLst/>
              <a:gdLst/>
              <a:ahLst/>
              <a:rect l="0" t="0" r="r" b="b"/>
              <a:pathLst>
                <a:path w="786" h="1461">
                  <a:moveTo>
                    <a:pt x="786" y="0"/>
                  </a:moveTo>
                  <a:lnTo>
                    <a:pt x="0" y="0"/>
                  </a:lnTo>
                  <a:lnTo>
                    <a:pt x="26" y="88"/>
                  </a:lnTo>
                  <a:lnTo>
                    <a:pt x="185" y="158"/>
                  </a:lnTo>
                  <a:lnTo>
                    <a:pt x="225" y="1461"/>
                  </a:lnTo>
                  <a:lnTo>
                    <a:pt x="225" y="389"/>
                  </a:lnTo>
                  <a:lnTo>
                    <a:pt x="292" y="361"/>
                  </a:lnTo>
                  <a:lnTo>
                    <a:pt x="384" y="389"/>
                  </a:lnTo>
                  <a:lnTo>
                    <a:pt x="464" y="988"/>
                  </a:lnTo>
                  <a:lnTo>
                    <a:pt x="521" y="1395"/>
                  </a:lnTo>
                  <a:lnTo>
                    <a:pt x="450" y="202"/>
                  </a:lnTo>
                  <a:lnTo>
                    <a:pt x="477" y="158"/>
                  </a:lnTo>
                  <a:lnTo>
                    <a:pt x="543" y="202"/>
                  </a:lnTo>
                  <a:lnTo>
                    <a:pt x="583" y="1329"/>
                  </a:lnTo>
                  <a:lnTo>
                    <a:pt x="601" y="321"/>
                  </a:lnTo>
                  <a:lnTo>
                    <a:pt x="672" y="136"/>
                  </a:lnTo>
                  <a:lnTo>
                    <a:pt x="760" y="22"/>
                  </a:lnTo>
                  <a:lnTo>
                    <a:pt x="7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766880" y="5662440"/>
              <a:ext cx="57600" cy="82800"/>
            </a:xfrm>
            <a:custGeom>
              <a:avLst/>
              <a:gdLst/>
              <a:ahLst/>
              <a:rect l="0" t="0" r="r" b="b"/>
              <a:pathLst>
                <a:path w="160" h="230">
                  <a:moveTo>
                    <a:pt x="160" y="230"/>
                  </a:moveTo>
                  <a:lnTo>
                    <a:pt x="160" y="0"/>
                  </a:lnTo>
                  <a:lnTo>
                    <a:pt x="0" y="0"/>
                  </a:lnTo>
                  <a:lnTo>
                    <a:pt x="115" y="39"/>
                  </a:lnTo>
                  <a:lnTo>
                    <a:pt x="16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9" name=""/>
            <p:cNvSpPr/>
            <p:nvPr/>
          </p:nvSpPr>
          <p:spPr>
            <a:xfrm>
              <a:off x="1244520" y="5656320"/>
              <a:ext cx="416160" cy="79560"/>
            </a:xfrm>
            <a:custGeom>
              <a:avLst/>
              <a:gdLst/>
              <a:ahLst/>
              <a:rect l="0" t="0" r="r" b="b"/>
              <a:pathLst>
                <a:path w="1156" h="221">
                  <a:moveTo>
                    <a:pt x="1156" y="0"/>
                  </a:moveTo>
                  <a:lnTo>
                    <a:pt x="0" y="0"/>
                  </a:lnTo>
                  <a:lnTo>
                    <a:pt x="0" y="221"/>
                  </a:lnTo>
                  <a:lnTo>
                    <a:pt x="30" y="39"/>
                  </a:lnTo>
                  <a:lnTo>
                    <a:pt x="1129" y="39"/>
                  </a:lnTo>
                  <a:lnTo>
                    <a:pt x="1156"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0" name=""/>
            <p:cNvSpPr/>
            <p:nvPr/>
          </p:nvSpPr>
          <p:spPr>
            <a:xfrm>
              <a:off x="1285920" y="6335640"/>
              <a:ext cx="36720" cy="24120"/>
            </a:xfrm>
            <a:custGeom>
              <a:avLst/>
              <a:gdLst/>
              <a:ahLst/>
              <a:rect l="0" t="0" r="r" b="b"/>
              <a:pathLst>
                <a:path w="102" h="67">
                  <a:moveTo>
                    <a:pt x="89" y="0"/>
                  </a:moveTo>
                  <a:lnTo>
                    <a:pt x="0" y="0"/>
                  </a:lnTo>
                  <a:lnTo>
                    <a:pt x="0" y="67"/>
                  </a:lnTo>
                  <a:lnTo>
                    <a:pt x="102" y="67"/>
                  </a:lnTo>
                  <a:lnTo>
                    <a:pt x="89"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81" name=""/>
            <p:cNvSpPr/>
            <p:nvPr/>
          </p:nvSpPr>
          <p:spPr>
            <a:xfrm>
              <a:off x="762120" y="6256440"/>
              <a:ext cx="528840" cy="186120"/>
            </a:xfrm>
            <a:custGeom>
              <a:avLst/>
              <a:gdLst/>
              <a:ahLst/>
              <a:rect l="0" t="0" r="r" b="b"/>
              <a:pathLst>
                <a:path w="1469" h="517">
                  <a:moveTo>
                    <a:pt x="1451" y="358"/>
                  </a:moveTo>
                  <a:lnTo>
                    <a:pt x="1218" y="380"/>
                  </a:lnTo>
                  <a:lnTo>
                    <a:pt x="1046" y="327"/>
                  </a:lnTo>
                  <a:lnTo>
                    <a:pt x="909" y="234"/>
                  </a:lnTo>
                  <a:lnTo>
                    <a:pt x="825" y="168"/>
                  </a:lnTo>
                  <a:lnTo>
                    <a:pt x="794" y="119"/>
                  </a:lnTo>
                  <a:lnTo>
                    <a:pt x="843" y="92"/>
                  </a:lnTo>
                  <a:lnTo>
                    <a:pt x="794" y="70"/>
                  </a:lnTo>
                  <a:lnTo>
                    <a:pt x="652" y="92"/>
                  </a:lnTo>
                  <a:lnTo>
                    <a:pt x="418" y="70"/>
                  </a:lnTo>
                  <a:lnTo>
                    <a:pt x="216" y="44"/>
                  </a:lnTo>
                  <a:lnTo>
                    <a:pt x="123" y="26"/>
                  </a:lnTo>
                  <a:lnTo>
                    <a:pt x="48" y="0"/>
                  </a:lnTo>
                  <a:lnTo>
                    <a:pt x="0" y="0"/>
                  </a:lnTo>
                  <a:lnTo>
                    <a:pt x="48" y="119"/>
                  </a:lnTo>
                  <a:lnTo>
                    <a:pt x="171" y="234"/>
                  </a:lnTo>
                  <a:lnTo>
                    <a:pt x="264" y="305"/>
                  </a:lnTo>
                  <a:lnTo>
                    <a:pt x="66" y="358"/>
                  </a:lnTo>
                  <a:lnTo>
                    <a:pt x="123" y="398"/>
                  </a:lnTo>
                  <a:lnTo>
                    <a:pt x="233" y="398"/>
                  </a:lnTo>
                  <a:lnTo>
                    <a:pt x="313" y="447"/>
                  </a:lnTo>
                  <a:lnTo>
                    <a:pt x="612" y="473"/>
                  </a:lnTo>
                  <a:lnTo>
                    <a:pt x="957" y="517"/>
                  </a:lnTo>
                  <a:lnTo>
                    <a:pt x="1037" y="517"/>
                  </a:lnTo>
                  <a:lnTo>
                    <a:pt x="1469" y="380"/>
                  </a:lnTo>
                  <a:lnTo>
                    <a:pt x="1006" y="473"/>
                  </a:lnTo>
                  <a:lnTo>
                    <a:pt x="683" y="398"/>
                  </a:lnTo>
                  <a:lnTo>
                    <a:pt x="476" y="327"/>
                  </a:lnTo>
                  <a:lnTo>
                    <a:pt x="295" y="234"/>
                  </a:lnTo>
                  <a:lnTo>
                    <a:pt x="171" y="146"/>
                  </a:lnTo>
                  <a:lnTo>
                    <a:pt x="123" y="70"/>
                  </a:lnTo>
                  <a:lnTo>
                    <a:pt x="330" y="119"/>
                  </a:lnTo>
                  <a:lnTo>
                    <a:pt x="582" y="146"/>
                  </a:lnTo>
                  <a:lnTo>
                    <a:pt x="794" y="146"/>
                  </a:lnTo>
                  <a:lnTo>
                    <a:pt x="909" y="217"/>
                  </a:lnTo>
                  <a:lnTo>
                    <a:pt x="1112" y="358"/>
                  </a:lnTo>
                  <a:lnTo>
                    <a:pt x="1451" y="3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852560" y="6283440"/>
              <a:ext cx="540000" cy="192600"/>
            </a:xfrm>
            <a:custGeom>
              <a:avLst/>
              <a:gdLst/>
              <a:ahLst/>
              <a:rect l="0" t="0" r="r" b="b"/>
              <a:pathLst>
                <a:path w="1500" h="535">
                  <a:moveTo>
                    <a:pt x="0" y="44"/>
                  </a:moveTo>
                  <a:lnTo>
                    <a:pt x="57" y="190"/>
                  </a:lnTo>
                  <a:lnTo>
                    <a:pt x="48" y="212"/>
                  </a:lnTo>
                  <a:lnTo>
                    <a:pt x="119" y="371"/>
                  </a:lnTo>
                  <a:lnTo>
                    <a:pt x="198" y="397"/>
                  </a:lnTo>
                  <a:lnTo>
                    <a:pt x="216" y="442"/>
                  </a:lnTo>
                  <a:lnTo>
                    <a:pt x="922" y="509"/>
                  </a:lnTo>
                  <a:lnTo>
                    <a:pt x="874" y="535"/>
                  </a:lnTo>
                  <a:lnTo>
                    <a:pt x="1107" y="509"/>
                  </a:lnTo>
                  <a:lnTo>
                    <a:pt x="1376" y="535"/>
                  </a:lnTo>
                  <a:lnTo>
                    <a:pt x="1301" y="420"/>
                  </a:lnTo>
                  <a:lnTo>
                    <a:pt x="1500" y="256"/>
                  </a:lnTo>
                  <a:lnTo>
                    <a:pt x="940" y="0"/>
                  </a:lnTo>
                  <a:lnTo>
                    <a:pt x="1451" y="256"/>
                  </a:lnTo>
                  <a:lnTo>
                    <a:pt x="1218" y="397"/>
                  </a:lnTo>
                  <a:lnTo>
                    <a:pt x="1024" y="420"/>
                  </a:lnTo>
                  <a:lnTo>
                    <a:pt x="1041" y="371"/>
                  </a:lnTo>
                  <a:lnTo>
                    <a:pt x="922" y="420"/>
                  </a:lnTo>
                  <a:lnTo>
                    <a:pt x="480" y="397"/>
                  </a:lnTo>
                  <a:lnTo>
                    <a:pt x="701" y="283"/>
                  </a:lnTo>
                  <a:lnTo>
                    <a:pt x="357" y="371"/>
                  </a:lnTo>
                  <a:lnTo>
                    <a:pt x="216" y="349"/>
                  </a:lnTo>
                  <a:lnTo>
                    <a:pt x="136" y="283"/>
                  </a:lnTo>
                  <a:lnTo>
                    <a:pt x="57" y="119"/>
                  </a:lnTo>
                  <a:lnTo>
                    <a:pt x="357" y="212"/>
                  </a:lnTo>
                  <a:lnTo>
                    <a:pt x="573" y="212"/>
                  </a:lnTo>
                  <a:lnTo>
                    <a:pt x="701"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2124000" y="6273720"/>
              <a:ext cx="92520" cy="93960"/>
            </a:xfrm>
            <a:custGeom>
              <a:avLst/>
              <a:gdLst/>
              <a:ahLst/>
              <a:rect l="0" t="0" r="r" b="b"/>
              <a:pathLst>
                <a:path w="257" h="261">
                  <a:moveTo>
                    <a:pt x="257" y="0"/>
                  </a:moveTo>
                  <a:lnTo>
                    <a:pt x="0" y="261"/>
                  </a:lnTo>
                  <a:lnTo>
                    <a:pt x="186" y="26"/>
                  </a:lnTo>
                  <a:lnTo>
                    <a:pt x="257"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84" name=""/>
            <p:cNvSpPr/>
            <p:nvPr/>
          </p:nvSpPr>
          <p:spPr>
            <a:xfrm>
              <a:off x="1711440" y="5511960"/>
              <a:ext cx="55800" cy="36720"/>
            </a:xfrm>
            <a:custGeom>
              <a:avLst/>
              <a:gdLst/>
              <a:ahLst/>
              <a:rect l="0" t="0" r="r" b="b"/>
              <a:pathLst>
                <a:path w="155" h="102">
                  <a:moveTo>
                    <a:pt x="155" y="102"/>
                  </a:moveTo>
                  <a:lnTo>
                    <a:pt x="61" y="84"/>
                  </a:lnTo>
                  <a:lnTo>
                    <a:pt x="0" y="84"/>
                  </a:lnTo>
                  <a:lnTo>
                    <a:pt x="4" y="0"/>
                  </a:lnTo>
                  <a:lnTo>
                    <a:pt x="30" y="53"/>
                  </a:lnTo>
                  <a:lnTo>
                    <a:pt x="155"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85" name=""/>
            <p:cNvSpPr/>
            <p:nvPr/>
          </p:nvSpPr>
          <p:spPr>
            <a:xfrm>
              <a:off x="1233360" y="5508720"/>
              <a:ext cx="435240" cy="20880"/>
            </a:xfrm>
            <a:custGeom>
              <a:avLst/>
              <a:gdLst/>
              <a:ahLst/>
              <a:rect l="0" t="0" r="r" b="b"/>
              <a:pathLst>
                <a:path w="1209" h="58">
                  <a:moveTo>
                    <a:pt x="1209" y="58"/>
                  </a:moveTo>
                  <a:lnTo>
                    <a:pt x="807" y="31"/>
                  </a:lnTo>
                  <a:lnTo>
                    <a:pt x="551" y="45"/>
                  </a:lnTo>
                  <a:lnTo>
                    <a:pt x="22" y="45"/>
                  </a:lnTo>
                  <a:lnTo>
                    <a:pt x="0" y="0"/>
                  </a:lnTo>
                  <a:lnTo>
                    <a:pt x="869" y="17"/>
                  </a:lnTo>
                  <a:lnTo>
                    <a:pt x="1209"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86" name=""/>
            <p:cNvSpPr/>
            <p:nvPr/>
          </p:nvSpPr>
          <p:spPr>
            <a:xfrm>
              <a:off x="1225440" y="5548320"/>
              <a:ext cx="398880" cy="22680"/>
            </a:xfrm>
            <a:custGeom>
              <a:avLst/>
              <a:gdLst/>
              <a:ahLst/>
              <a:rect l="0" t="0" r="r" b="b"/>
              <a:pathLst>
                <a:path w="1108" h="63">
                  <a:moveTo>
                    <a:pt x="1108" y="13"/>
                  </a:moveTo>
                  <a:lnTo>
                    <a:pt x="684" y="31"/>
                  </a:lnTo>
                  <a:lnTo>
                    <a:pt x="287" y="63"/>
                  </a:lnTo>
                  <a:lnTo>
                    <a:pt x="0" y="18"/>
                  </a:lnTo>
                  <a:lnTo>
                    <a:pt x="202" y="13"/>
                  </a:lnTo>
                  <a:lnTo>
                    <a:pt x="455" y="18"/>
                  </a:lnTo>
                  <a:lnTo>
                    <a:pt x="936"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1708200" y="5570640"/>
              <a:ext cx="62280" cy="14760"/>
            </a:xfrm>
            <a:custGeom>
              <a:avLst/>
              <a:gdLst/>
              <a:ahLst/>
              <a:rect l="0" t="0" r="r" b="b"/>
              <a:pathLst>
                <a:path w="173" h="41">
                  <a:moveTo>
                    <a:pt x="173" y="41"/>
                  </a:moveTo>
                  <a:lnTo>
                    <a:pt x="0" y="0"/>
                  </a:lnTo>
                  <a:lnTo>
                    <a:pt x="0" y="32"/>
                  </a:lnTo>
                  <a:lnTo>
                    <a:pt x="173"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588" name=""/>
            <p:cNvSpPr/>
            <p:nvPr/>
          </p:nvSpPr>
          <p:spPr>
            <a:xfrm>
              <a:off x="1149480" y="4275000"/>
              <a:ext cx="373320" cy="495720"/>
            </a:xfrm>
            <a:custGeom>
              <a:avLst/>
              <a:gdLst/>
              <a:ahLst/>
              <a:rect l="0" t="0" r="r" b="b"/>
              <a:pathLst>
                <a:path w="1037" h="1377">
                  <a:moveTo>
                    <a:pt x="171" y="428"/>
                  </a:moveTo>
                  <a:lnTo>
                    <a:pt x="286" y="468"/>
                  </a:lnTo>
                  <a:lnTo>
                    <a:pt x="410" y="481"/>
                  </a:lnTo>
                  <a:lnTo>
                    <a:pt x="538" y="446"/>
                  </a:lnTo>
                  <a:lnTo>
                    <a:pt x="622" y="411"/>
                  </a:lnTo>
                  <a:lnTo>
                    <a:pt x="605" y="375"/>
                  </a:lnTo>
                  <a:lnTo>
                    <a:pt x="697" y="339"/>
                  </a:lnTo>
                  <a:lnTo>
                    <a:pt x="799" y="233"/>
                  </a:lnTo>
                  <a:lnTo>
                    <a:pt x="852" y="127"/>
                  </a:lnTo>
                  <a:lnTo>
                    <a:pt x="874" y="22"/>
                  </a:lnTo>
                  <a:lnTo>
                    <a:pt x="913" y="0"/>
                  </a:lnTo>
                  <a:lnTo>
                    <a:pt x="874" y="163"/>
                  </a:lnTo>
                  <a:lnTo>
                    <a:pt x="816" y="251"/>
                  </a:lnTo>
                  <a:lnTo>
                    <a:pt x="710" y="375"/>
                  </a:lnTo>
                  <a:lnTo>
                    <a:pt x="843" y="268"/>
                  </a:lnTo>
                  <a:lnTo>
                    <a:pt x="896" y="163"/>
                  </a:lnTo>
                  <a:lnTo>
                    <a:pt x="922" y="74"/>
                  </a:lnTo>
                  <a:lnTo>
                    <a:pt x="975" y="74"/>
                  </a:lnTo>
                  <a:lnTo>
                    <a:pt x="900" y="202"/>
                  </a:lnTo>
                  <a:lnTo>
                    <a:pt x="825" y="304"/>
                  </a:lnTo>
                  <a:lnTo>
                    <a:pt x="719" y="411"/>
                  </a:lnTo>
                  <a:lnTo>
                    <a:pt x="852" y="362"/>
                  </a:lnTo>
                  <a:lnTo>
                    <a:pt x="949" y="251"/>
                  </a:lnTo>
                  <a:lnTo>
                    <a:pt x="988" y="180"/>
                  </a:lnTo>
                  <a:lnTo>
                    <a:pt x="997" y="127"/>
                  </a:lnTo>
                  <a:lnTo>
                    <a:pt x="1037" y="141"/>
                  </a:lnTo>
                  <a:lnTo>
                    <a:pt x="975" y="251"/>
                  </a:lnTo>
                  <a:lnTo>
                    <a:pt x="896" y="362"/>
                  </a:lnTo>
                  <a:lnTo>
                    <a:pt x="816" y="428"/>
                  </a:lnTo>
                  <a:lnTo>
                    <a:pt x="733" y="446"/>
                  </a:lnTo>
                  <a:lnTo>
                    <a:pt x="697" y="481"/>
                  </a:lnTo>
                  <a:lnTo>
                    <a:pt x="697" y="543"/>
                  </a:lnTo>
                  <a:lnTo>
                    <a:pt x="653" y="596"/>
                  </a:lnTo>
                  <a:lnTo>
                    <a:pt x="552" y="613"/>
                  </a:lnTo>
                  <a:lnTo>
                    <a:pt x="458" y="631"/>
                  </a:lnTo>
                  <a:lnTo>
                    <a:pt x="348" y="613"/>
                  </a:lnTo>
                  <a:lnTo>
                    <a:pt x="238" y="596"/>
                  </a:lnTo>
                  <a:lnTo>
                    <a:pt x="171" y="561"/>
                  </a:lnTo>
                  <a:lnTo>
                    <a:pt x="127" y="649"/>
                  </a:lnTo>
                  <a:lnTo>
                    <a:pt x="119" y="785"/>
                  </a:lnTo>
                  <a:lnTo>
                    <a:pt x="114" y="984"/>
                  </a:lnTo>
                  <a:lnTo>
                    <a:pt x="119" y="1148"/>
                  </a:lnTo>
                  <a:lnTo>
                    <a:pt x="145" y="1236"/>
                  </a:lnTo>
                  <a:lnTo>
                    <a:pt x="145" y="1285"/>
                  </a:lnTo>
                  <a:lnTo>
                    <a:pt x="189" y="1338"/>
                  </a:lnTo>
                  <a:lnTo>
                    <a:pt x="189" y="1377"/>
                  </a:lnTo>
                  <a:lnTo>
                    <a:pt x="114" y="1307"/>
                  </a:lnTo>
                  <a:lnTo>
                    <a:pt x="0" y="1267"/>
                  </a:lnTo>
                  <a:lnTo>
                    <a:pt x="0" y="1254"/>
                  </a:lnTo>
                  <a:lnTo>
                    <a:pt x="74" y="1254"/>
                  </a:lnTo>
                  <a:lnTo>
                    <a:pt x="48" y="1019"/>
                  </a:lnTo>
                  <a:lnTo>
                    <a:pt x="39" y="821"/>
                  </a:lnTo>
                  <a:lnTo>
                    <a:pt x="57" y="785"/>
                  </a:lnTo>
                  <a:lnTo>
                    <a:pt x="74" y="631"/>
                  </a:lnTo>
                  <a:lnTo>
                    <a:pt x="114"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1424160" y="4267080"/>
              <a:ext cx="24120" cy="86040"/>
            </a:xfrm>
            <a:custGeom>
              <a:avLst/>
              <a:gdLst/>
              <a:ahLst/>
              <a:rect l="0" t="0" r="r" b="b"/>
              <a:pathLst>
                <a:path w="67" h="239">
                  <a:moveTo>
                    <a:pt x="67" y="8"/>
                  </a:moveTo>
                  <a:lnTo>
                    <a:pt x="45" y="120"/>
                  </a:lnTo>
                  <a:lnTo>
                    <a:pt x="0" y="239"/>
                  </a:lnTo>
                  <a:lnTo>
                    <a:pt x="17" y="79"/>
                  </a:lnTo>
                  <a:lnTo>
                    <a:pt x="0" y="0"/>
                  </a:lnTo>
                  <a:lnTo>
                    <a:pt x="6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90" name=""/>
            <p:cNvSpPr/>
            <p:nvPr/>
          </p:nvSpPr>
          <p:spPr>
            <a:xfrm>
              <a:off x="1143000" y="4267080"/>
              <a:ext cx="265320" cy="170280"/>
            </a:xfrm>
            <a:custGeom>
              <a:avLst/>
              <a:gdLst/>
              <a:ahLst/>
              <a:rect l="0" t="0" r="r" b="b"/>
              <a:pathLst>
                <a:path w="737" h="473">
                  <a:moveTo>
                    <a:pt x="737" y="57"/>
                  </a:moveTo>
                  <a:lnTo>
                    <a:pt x="521" y="0"/>
                  </a:lnTo>
                  <a:lnTo>
                    <a:pt x="330" y="0"/>
                  </a:lnTo>
                  <a:lnTo>
                    <a:pt x="216" y="8"/>
                  </a:lnTo>
                  <a:lnTo>
                    <a:pt x="92" y="57"/>
                  </a:lnTo>
                  <a:lnTo>
                    <a:pt x="30" y="150"/>
                  </a:lnTo>
                  <a:lnTo>
                    <a:pt x="8" y="239"/>
                  </a:lnTo>
                  <a:lnTo>
                    <a:pt x="0" y="274"/>
                  </a:lnTo>
                  <a:lnTo>
                    <a:pt x="0" y="336"/>
                  </a:lnTo>
                  <a:lnTo>
                    <a:pt x="74" y="420"/>
                  </a:lnTo>
                  <a:lnTo>
                    <a:pt x="167" y="473"/>
                  </a:lnTo>
                  <a:lnTo>
                    <a:pt x="198" y="349"/>
                  </a:lnTo>
                  <a:lnTo>
                    <a:pt x="238" y="292"/>
                  </a:lnTo>
                  <a:lnTo>
                    <a:pt x="299" y="239"/>
                  </a:lnTo>
                  <a:lnTo>
                    <a:pt x="393" y="225"/>
                  </a:lnTo>
                  <a:lnTo>
                    <a:pt x="291" y="239"/>
                  </a:lnTo>
                  <a:lnTo>
                    <a:pt x="216" y="292"/>
                  </a:lnTo>
                  <a:lnTo>
                    <a:pt x="277" y="203"/>
                  </a:lnTo>
                  <a:lnTo>
                    <a:pt x="198" y="274"/>
                  </a:lnTo>
                  <a:lnTo>
                    <a:pt x="149" y="349"/>
                  </a:lnTo>
                  <a:lnTo>
                    <a:pt x="145" y="420"/>
                  </a:lnTo>
                  <a:lnTo>
                    <a:pt x="119" y="363"/>
                  </a:lnTo>
                  <a:lnTo>
                    <a:pt x="149" y="261"/>
                  </a:lnTo>
                  <a:lnTo>
                    <a:pt x="189" y="190"/>
                  </a:lnTo>
                  <a:lnTo>
                    <a:pt x="238" y="137"/>
                  </a:lnTo>
                  <a:lnTo>
                    <a:pt x="198" y="120"/>
                  </a:lnTo>
                  <a:lnTo>
                    <a:pt x="149" y="225"/>
                  </a:lnTo>
                  <a:lnTo>
                    <a:pt x="119" y="274"/>
                  </a:lnTo>
                  <a:lnTo>
                    <a:pt x="92" y="336"/>
                  </a:lnTo>
                  <a:lnTo>
                    <a:pt x="79" y="261"/>
                  </a:lnTo>
                  <a:lnTo>
                    <a:pt x="105" y="190"/>
                  </a:lnTo>
                  <a:lnTo>
                    <a:pt x="167" y="137"/>
                  </a:lnTo>
                  <a:lnTo>
                    <a:pt x="198" y="101"/>
                  </a:lnTo>
                  <a:lnTo>
                    <a:pt x="189" y="79"/>
                  </a:lnTo>
                  <a:lnTo>
                    <a:pt x="268" y="44"/>
                  </a:lnTo>
                  <a:lnTo>
                    <a:pt x="380" y="26"/>
                  </a:lnTo>
                  <a:lnTo>
                    <a:pt x="516" y="26"/>
                  </a:lnTo>
                  <a:lnTo>
                    <a:pt x="636" y="57"/>
                  </a:lnTo>
                  <a:lnTo>
                    <a:pt x="715" y="101"/>
                  </a:lnTo>
                  <a:lnTo>
                    <a:pt x="737"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049400" y="4392720"/>
              <a:ext cx="425880" cy="713160"/>
            </a:xfrm>
            <a:custGeom>
              <a:avLst/>
              <a:gdLst/>
              <a:ahLst/>
              <a:rect l="0" t="0" r="r" b="b"/>
              <a:pathLst>
                <a:path w="1183" h="1981">
                  <a:moveTo>
                    <a:pt x="246" y="0"/>
                  </a:moveTo>
                  <a:lnTo>
                    <a:pt x="127" y="88"/>
                  </a:lnTo>
                  <a:lnTo>
                    <a:pt x="48" y="185"/>
                  </a:lnTo>
                  <a:lnTo>
                    <a:pt x="17" y="291"/>
                  </a:lnTo>
                  <a:lnTo>
                    <a:pt x="0" y="405"/>
                  </a:lnTo>
                  <a:lnTo>
                    <a:pt x="17" y="530"/>
                  </a:lnTo>
                  <a:lnTo>
                    <a:pt x="74" y="697"/>
                  </a:lnTo>
                  <a:lnTo>
                    <a:pt x="149" y="852"/>
                  </a:lnTo>
                  <a:lnTo>
                    <a:pt x="189" y="940"/>
                  </a:lnTo>
                  <a:lnTo>
                    <a:pt x="216" y="1063"/>
                  </a:lnTo>
                  <a:lnTo>
                    <a:pt x="246" y="1151"/>
                  </a:lnTo>
                  <a:lnTo>
                    <a:pt x="282" y="1244"/>
                  </a:lnTo>
                  <a:lnTo>
                    <a:pt x="309" y="1293"/>
                  </a:lnTo>
                  <a:lnTo>
                    <a:pt x="268" y="1420"/>
                  </a:lnTo>
                  <a:lnTo>
                    <a:pt x="246" y="1580"/>
                  </a:lnTo>
                  <a:lnTo>
                    <a:pt x="246" y="1699"/>
                  </a:lnTo>
                  <a:lnTo>
                    <a:pt x="238" y="1832"/>
                  </a:lnTo>
                  <a:lnTo>
                    <a:pt x="216" y="1942"/>
                  </a:lnTo>
                  <a:lnTo>
                    <a:pt x="176" y="1981"/>
                  </a:lnTo>
                  <a:lnTo>
                    <a:pt x="220" y="1981"/>
                  </a:lnTo>
                  <a:lnTo>
                    <a:pt x="246" y="1902"/>
                  </a:lnTo>
                  <a:lnTo>
                    <a:pt x="282" y="1779"/>
                  </a:lnTo>
                  <a:lnTo>
                    <a:pt x="295" y="1646"/>
                  </a:lnTo>
                  <a:lnTo>
                    <a:pt x="309" y="1796"/>
                  </a:lnTo>
                  <a:lnTo>
                    <a:pt x="295" y="1902"/>
                  </a:lnTo>
                  <a:lnTo>
                    <a:pt x="282" y="1951"/>
                  </a:lnTo>
                  <a:lnTo>
                    <a:pt x="260" y="1981"/>
                  </a:lnTo>
                  <a:lnTo>
                    <a:pt x="295" y="1981"/>
                  </a:lnTo>
                  <a:lnTo>
                    <a:pt x="336" y="1867"/>
                  </a:lnTo>
                  <a:lnTo>
                    <a:pt x="340" y="1981"/>
                  </a:lnTo>
                  <a:lnTo>
                    <a:pt x="415" y="1981"/>
                  </a:lnTo>
                  <a:lnTo>
                    <a:pt x="494" y="1964"/>
                  </a:lnTo>
                  <a:lnTo>
                    <a:pt x="609" y="1942"/>
                  </a:lnTo>
                  <a:lnTo>
                    <a:pt x="697" y="1942"/>
                  </a:lnTo>
                  <a:lnTo>
                    <a:pt x="697" y="1867"/>
                  </a:lnTo>
                  <a:lnTo>
                    <a:pt x="750" y="1854"/>
                  </a:lnTo>
                  <a:lnTo>
                    <a:pt x="838" y="1814"/>
                  </a:lnTo>
                  <a:lnTo>
                    <a:pt x="874" y="1796"/>
                  </a:lnTo>
                  <a:lnTo>
                    <a:pt x="976" y="1854"/>
                  </a:lnTo>
                  <a:lnTo>
                    <a:pt x="1086" y="1867"/>
                  </a:lnTo>
                  <a:lnTo>
                    <a:pt x="1139" y="1867"/>
                  </a:lnTo>
                  <a:lnTo>
                    <a:pt x="1183" y="1832"/>
                  </a:lnTo>
                  <a:lnTo>
                    <a:pt x="1095" y="1854"/>
                  </a:lnTo>
                  <a:lnTo>
                    <a:pt x="1095" y="1867"/>
                  </a:lnTo>
                  <a:lnTo>
                    <a:pt x="1016" y="1854"/>
                  </a:lnTo>
                  <a:lnTo>
                    <a:pt x="936" y="1796"/>
                  </a:lnTo>
                  <a:lnTo>
                    <a:pt x="807" y="1726"/>
                  </a:lnTo>
                  <a:lnTo>
                    <a:pt x="702" y="1611"/>
                  </a:lnTo>
                  <a:lnTo>
                    <a:pt x="627" y="1505"/>
                  </a:lnTo>
                  <a:lnTo>
                    <a:pt x="556" y="1429"/>
                  </a:lnTo>
                  <a:lnTo>
                    <a:pt x="530" y="1381"/>
                  </a:lnTo>
                  <a:lnTo>
                    <a:pt x="508" y="1381"/>
                  </a:lnTo>
                  <a:lnTo>
                    <a:pt x="530" y="1429"/>
                  </a:lnTo>
                  <a:lnTo>
                    <a:pt x="508" y="1469"/>
                  </a:lnTo>
                  <a:lnTo>
                    <a:pt x="464" y="1451"/>
                  </a:lnTo>
                  <a:lnTo>
                    <a:pt x="455" y="1420"/>
                  </a:lnTo>
                  <a:lnTo>
                    <a:pt x="464" y="1381"/>
                  </a:lnTo>
                  <a:lnTo>
                    <a:pt x="477" y="1363"/>
                  </a:lnTo>
                  <a:lnTo>
                    <a:pt x="393" y="1345"/>
                  </a:lnTo>
                  <a:lnTo>
                    <a:pt x="336" y="1279"/>
                  </a:lnTo>
                  <a:lnTo>
                    <a:pt x="295" y="1204"/>
                  </a:lnTo>
                  <a:lnTo>
                    <a:pt x="260" y="1121"/>
                  </a:lnTo>
                  <a:lnTo>
                    <a:pt x="238" y="1050"/>
                  </a:lnTo>
                  <a:lnTo>
                    <a:pt x="246" y="993"/>
                  </a:lnTo>
                  <a:lnTo>
                    <a:pt x="322" y="1028"/>
                  </a:lnTo>
                  <a:lnTo>
                    <a:pt x="367" y="1099"/>
                  </a:lnTo>
                  <a:lnTo>
                    <a:pt x="406" y="1151"/>
                  </a:lnTo>
                  <a:lnTo>
                    <a:pt x="428" y="1204"/>
                  </a:lnTo>
                  <a:lnTo>
                    <a:pt x="464" y="1257"/>
                  </a:lnTo>
                  <a:lnTo>
                    <a:pt x="455" y="1151"/>
                  </a:lnTo>
                  <a:lnTo>
                    <a:pt x="490" y="1138"/>
                  </a:lnTo>
                  <a:lnTo>
                    <a:pt x="428" y="1050"/>
                  </a:lnTo>
                  <a:lnTo>
                    <a:pt x="336" y="993"/>
                  </a:lnTo>
                  <a:lnTo>
                    <a:pt x="282" y="979"/>
                  </a:lnTo>
                  <a:lnTo>
                    <a:pt x="282" y="940"/>
                  </a:lnTo>
                  <a:lnTo>
                    <a:pt x="340" y="957"/>
                  </a:lnTo>
                  <a:lnTo>
                    <a:pt x="309" y="852"/>
                  </a:lnTo>
                  <a:lnTo>
                    <a:pt x="295" y="715"/>
                  </a:lnTo>
                  <a:lnTo>
                    <a:pt x="268" y="552"/>
                  </a:lnTo>
                  <a:lnTo>
                    <a:pt x="282" y="405"/>
                  </a:lnTo>
                  <a:lnTo>
                    <a:pt x="309" y="304"/>
                  </a:lnTo>
                  <a:lnTo>
                    <a:pt x="336" y="233"/>
                  </a:lnTo>
                  <a:lnTo>
                    <a:pt x="268" y="440"/>
                  </a:lnTo>
                  <a:lnTo>
                    <a:pt x="295" y="202"/>
                  </a:lnTo>
                  <a:lnTo>
                    <a:pt x="216" y="561"/>
                  </a:lnTo>
                  <a:lnTo>
                    <a:pt x="238" y="216"/>
                  </a:lnTo>
                  <a:lnTo>
                    <a:pt x="176" y="463"/>
                  </a:lnTo>
                  <a:lnTo>
                    <a:pt x="176" y="255"/>
                  </a:lnTo>
                  <a:lnTo>
                    <a:pt x="127" y="405"/>
                  </a:lnTo>
                  <a:lnTo>
                    <a:pt x="119" y="268"/>
                  </a:lnTo>
                  <a:lnTo>
                    <a:pt x="74" y="379"/>
                  </a:lnTo>
                  <a:lnTo>
                    <a:pt x="88" y="233"/>
                  </a:lnTo>
                  <a:lnTo>
                    <a:pt x="127" y="158"/>
                  </a:lnTo>
                  <a:lnTo>
                    <a:pt x="189" y="105"/>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1409760" y="4398840"/>
              <a:ext cx="147960" cy="427320"/>
            </a:xfrm>
            <a:custGeom>
              <a:avLst/>
              <a:gdLst/>
              <a:ahLst/>
              <a:rect l="0" t="0" r="r" b="b"/>
              <a:pathLst>
                <a:path w="411" h="1187">
                  <a:moveTo>
                    <a:pt x="185" y="0"/>
                  </a:moveTo>
                  <a:lnTo>
                    <a:pt x="252" y="88"/>
                  </a:lnTo>
                  <a:lnTo>
                    <a:pt x="278" y="273"/>
                  </a:lnTo>
                  <a:lnTo>
                    <a:pt x="292" y="476"/>
                  </a:lnTo>
                  <a:lnTo>
                    <a:pt x="292" y="582"/>
                  </a:lnTo>
                  <a:lnTo>
                    <a:pt x="292" y="640"/>
                  </a:lnTo>
                  <a:lnTo>
                    <a:pt x="243" y="622"/>
                  </a:lnTo>
                  <a:lnTo>
                    <a:pt x="269" y="728"/>
                  </a:lnTo>
                  <a:lnTo>
                    <a:pt x="322" y="856"/>
                  </a:lnTo>
                  <a:lnTo>
                    <a:pt x="375" y="1010"/>
                  </a:lnTo>
                  <a:lnTo>
                    <a:pt x="411" y="1151"/>
                  </a:lnTo>
                  <a:lnTo>
                    <a:pt x="393" y="1187"/>
                  </a:lnTo>
                  <a:lnTo>
                    <a:pt x="362" y="1032"/>
                  </a:lnTo>
                  <a:lnTo>
                    <a:pt x="300" y="856"/>
                  </a:lnTo>
                  <a:lnTo>
                    <a:pt x="269" y="746"/>
                  </a:lnTo>
                  <a:lnTo>
                    <a:pt x="225" y="640"/>
                  </a:lnTo>
                  <a:lnTo>
                    <a:pt x="189" y="533"/>
                  </a:lnTo>
                  <a:lnTo>
                    <a:pt x="163" y="423"/>
                  </a:lnTo>
                  <a:lnTo>
                    <a:pt x="119" y="326"/>
                  </a:lnTo>
                  <a:lnTo>
                    <a:pt x="52" y="238"/>
                  </a:lnTo>
                  <a:lnTo>
                    <a:pt x="0" y="167"/>
                  </a:lnTo>
                  <a:lnTo>
                    <a:pt x="127" y="291"/>
                  </a:lnTo>
                  <a:lnTo>
                    <a:pt x="92" y="185"/>
                  </a:lnTo>
                  <a:lnTo>
                    <a:pt x="163" y="308"/>
                  </a:lnTo>
                  <a:lnTo>
                    <a:pt x="127" y="167"/>
                  </a:lnTo>
                  <a:lnTo>
                    <a:pt x="189" y="291"/>
                  </a:lnTo>
                  <a:lnTo>
                    <a:pt x="171" y="141"/>
                  </a:lnTo>
                  <a:lnTo>
                    <a:pt x="225" y="273"/>
                  </a:lnTo>
                  <a:lnTo>
                    <a:pt x="202" y="88"/>
                  </a:lnTo>
                  <a:lnTo>
                    <a:pt x="154" y="48"/>
                  </a:lnTo>
                  <a:lnTo>
                    <a:pt x="18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1405080" y="4614840"/>
              <a:ext cx="73440" cy="18000"/>
            </a:xfrm>
            <a:custGeom>
              <a:avLst/>
              <a:gdLst/>
              <a:ahLst/>
              <a:rect l="0" t="0" r="r" b="b"/>
              <a:pathLst>
                <a:path w="204" h="50">
                  <a:moveTo>
                    <a:pt x="204" y="18"/>
                  </a:moveTo>
                  <a:lnTo>
                    <a:pt x="137" y="0"/>
                  </a:lnTo>
                  <a:lnTo>
                    <a:pt x="80" y="0"/>
                  </a:lnTo>
                  <a:lnTo>
                    <a:pt x="0" y="18"/>
                  </a:lnTo>
                  <a:lnTo>
                    <a:pt x="22" y="36"/>
                  </a:lnTo>
                  <a:lnTo>
                    <a:pt x="71" y="50"/>
                  </a:lnTo>
                  <a:lnTo>
                    <a:pt x="89" y="36"/>
                  </a:lnTo>
                  <a:lnTo>
                    <a:pt x="106" y="18"/>
                  </a:lnTo>
                  <a:lnTo>
                    <a:pt x="204"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4" name=""/>
            <p:cNvSpPr/>
            <p:nvPr/>
          </p:nvSpPr>
          <p:spPr>
            <a:xfrm>
              <a:off x="1271520" y="4622760"/>
              <a:ext cx="92520" cy="33840"/>
            </a:xfrm>
            <a:custGeom>
              <a:avLst/>
              <a:gdLst/>
              <a:ahLst/>
              <a:rect l="0" t="0" r="r" b="b"/>
              <a:pathLst>
                <a:path w="257" h="94">
                  <a:moveTo>
                    <a:pt x="257" y="0"/>
                  </a:moveTo>
                  <a:lnTo>
                    <a:pt x="159" y="0"/>
                  </a:lnTo>
                  <a:lnTo>
                    <a:pt x="98" y="22"/>
                  </a:lnTo>
                  <a:lnTo>
                    <a:pt x="22" y="36"/>
                  </a:lnTo>
                  <a:lnTo>
                    <a:pt x="0" y="76"/>
                  </a:lnTo>
                  <a:lnTo>
                    <a:pt x="22" y="58"/>
                  </a:lnTo>
                  <a:lnTo>
                    <a:pt x="67" y="94"/>
                  </a:lnTo>
                  <a:lnTo>
                    <a:pt x="111" y="94"/>
                  </a:lnTo>
                  <a:lnTo>
                    <a:pt x="137" y="76"/>
                  </a:lnTo>
                  <a:lnTo>
                    <a:pt x="146" y="36"/>
                  </a:lnTo>
                  <a:lnTo>
                    <a:pt x="159" y="22"/>
                  </a:lnTo>
                  <a:lnTo>
                    <a:pt x="257"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95" name=""/>
            <p:cNvSpPr/>
            <p:nvPr/>
          </p:nvSpPr>
          <p:spPr>
            <a:xfrm>
              <a:off x="1400040" y="4521240"/>
              <a:ext cx="38520" cy="18000"/>
            </a:xfrm>
            <a:custGeom>
              <a:avLst/>
              <a:gdLst/>
              <a:ahLst/>
              <a:rect l="0" t="0" r="r" b="b"/>
              <a:pathLst>
                <a:path w="107" h="50">
                  <a:moveTo>
                    <a:pt x="107" y="50"/>
                  </a:moveTo>
                  <a:lnTo>
                    <a:pt x="0" y="0"/>
                  </a:lnTo>
                  <a:lnTo>
                    <a:pt x="0" y="50"/>
                  </a:lnTo>
                  <a:lnTo>
                    <a:pt x="107"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6" name=""/>
            <p:cNvSpPr/>
            <p:nvPr/>
          </p:nvSpPr>
          <p:spPr>
            <a:xfrm>
              <a:off x="1276200" y="4521240"/>
              <a:ext cx="43200" cy="30600"/>
            </a:xfrm>
            <a:custGeom>
              <a:avLst/>
              <a:gdLst/>
              <a:ahLst/>
              <a:rect l="0" t="0" r="r" b="b"/>
              <a:pathLst>
                <a:path w="120" h="85">
                  <a:moveTo>
                    <a:pt x="120" y="0"/>
                  </a:moveTo>
                  <a:lnTo>
                    <a:pt x="0" y="85"/>
                  </a:lnTo>
                  <a:lnTo>
                    <a:pt x="84" y="85"/>
                  </a:lnTo>
                  <a:lnTo>
                    <a:pt x="12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597" name=""/>
            <p:cNvSpPr/>
            <p:nvPr/>
          </p:nvSpPr>
          <p:spPr>
            <a:xfrm>
              <a:off x="1409760" y="4641840"/>
              <a:ext cx="117720" cy="198720"/>
            </a:xfrm>
            <a:custGeom>
              <a:avLst/>
              <a:gdLst/>
              <a:ahLst/>
              <a:rect l="0" t="0" r="r" b="b"/>
              <a:pathLst>
                <a:path w="327" h="552">
                  <a:moveTo>
                    <a:pt x="39" y="0"/>
                  </a:moveTo>
                  <a:lnTo>
                    <a:pt x="119" y="136"/>
                  </a:lnTo>
                  <a:lnTo>
                    <a:pt x="208" y="229"/>
                  </a:lnTo>
                  <a:lnTo>
                    <a:pt x="269" y="300"/>
                  </a:lnTo>
                  <a:lnTo>
                    <a:pt x="327" y="353"/>
                  </a:lnTo>
                  <a:lnTo>
                    <a:pt x="327" y="393"/>
                  </a:lnTo>
                  <a:lnTo>
                    <a:pt x="322" y="441"/>
                  </a:lnTo>
                  <a:lnTo>
                    <a:pt x="208" y="459"/>
                  </a:lnTo>
                  <a:lnTo>
                    <a:pt x="186" y="512"/>
                  </a:lnTo>
                  <a:lnTo>
                    <a:pt x="132" y="552"/>
                  </a:lnTo>
                  <a:lnTo>
                    <a:pt x="70" y="534"/>
                  </a:lnTo>
                  <a:lnTo>
                    <a:pt x="26" y="494"/>
                  </a:lnTo>
                  <a:lnTo>
                    <a:pt x="0" y="441"/>
                  </a:lnTo>
                  <a:lnTo>
                    <a:pt x="26" y="411"/>
                  </a:lnTo>
                  <a:lnTo>
                    <a:pt x="92" y="411"/>
                  </a:lnTo>
                  <a:lnTo>
                    <a:pt x="300" y="411"/>
                  </a:lnTo>
                  <a:lnTo>
                    <a:pt x="309" y="353"/>
                  </a:lnTo>
                  <a:lnTo>
                    <a:pt x="195" y="264"/>
                  </a:lnTo>
                  <a:lnTo>
                    <a:pt x="119"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8" name=""/>
            <p:cNvSpPr/>
            <p:nvPr/>
          </p:nvSpPr>
          <p:spPr>
            <a:xfrm>
              <a:off x="1314360" y="4834080"/>
              <a:ext cx="195480" cy="140040"/>
            </a:xfrm>
            <a:custGeom>
              <a:avLst/>
              <a:gdLst/>
              <a:ahLst/>
              <a:rect l="0" t="0" r="r" b="b"/>
              <a:pathLst>
                <a:path w="543" h="389">
                  <a:moveTo>
                    <a:pt x="543" y="17"/>
                  </a:moveTo>
                  <a:lnTo>
                    <a:pt x="543" y="88"/>
                  </a:lnTo>
                  <a:lnTo>
                    <a:pt x="521" y="141"/>
                  </a:lnTo>
                  <a:lnTo>
                    <a:pt x="494" y="176"/>
                  </a:lnTo>
                  <a:lnTo>
                    <a:pt x="481" y="208"/>
                  </a:lnTo>
                  <a:lnTo>
                    <a:pt x="508" y="278"/>
                  </a:lnTo>
                  <a:lnTo>
                    <a:pt x="508" y="336"/>
                  </a:lnTo>
                  <a:lnTo>
                    <a:pt x="481" y="349"/>
                  </a:lnTo>
                  <a:lnTo>
                    <a:pt x="494" y="278"/>
                  </a:lnTo>
                  <a:lnTo>
                    <a:pt x="472" y="230"/>
                  </a:lnTo>
                  <a:lnTo>
                    <a:pt x="437" y="265"/>
                  </a:lnTo>
                  <a:lnTo>
                    <a:pt x="384" y="300"/>
                  </a:lnTo>
                  <a:lnTo>
                    <a:pt x="428" y="230"/>
                  </a:lnTo>
                  <a:lnTo>
                    <a:pt x="428" y="154"/>
                  </a:lnTo>
                  <a:lnTo>
                    <a:pt x="340" y="195"/>
                  </a:lnTo>
                  <a:lnTo>
                    <a:pt x="216" y="195"/>
                  </a:lnTo>
                  <a:lnTo>
                    <a:pt x="158" y="176"/>
                  </a:lnTo>
                  <a:lnTo>
                    <a:pt x="79" y="154"/>
                  </a:lnTo>
                  <a:lnTo>
                    <a:pt x="136" y="230"/>
                  </a:lnTo>
                  <a:lnTo>
                    <a:pt x="180" y="265"/>
                  </a:lnTo>
                  <a:lnTo>
                    <a:pt x="255" y="300"/>
                  </a:lnTo>
                  <a:lnTo>
                    <a:pt x="305" y="300"/>
                  </a:lnTo>
                  <a:lnTo>
                    <a:pt x="318" y="336"/>
                  </a:lnTo>
                  <a:lnTo>
                    <a:pt x="340" y="318"/>
                  </a:lnTo>
                  <a:lnTo>
                    <a:pt x="367" y="349"/>
                  </a:lnTo>
                  <a:lnTo>
                    <a:pt x="389" y="336"/>
                  </a:lnTo>
                  <a:lnTo>
                    <a:pt x="402" y="367"/>
                  </a:lnTo>
                  <a:lnTo>
                    <a:pt x="437" y="367"/>
                  </a:lnTo>
                  <a:lnTo>
                    <a:pt x="367" y="389"/>
                  </a:lnTo>
                  <a:lnTo>
                    <a:pt x="278" y="367"/>
                  </a:lnTo>
                  <a:lnTo>
                    <a:pt x="189" y="349"/>
                  </a:lnTo>
                  <a:lnTo>
                    <a:pt x="119" y="300"/>
                  </a:lnTo>
                  <a:lnTo>
                    <a:pt x="70" y="230"/>
                  </a:lnTo>
                  <a:lnTo>
                    <a:pt x="30" y="176"/>
                  </a:lnTo>
                  <a:lnTo>
                    <a:pt x="0" y="195"/>
                  </a:lnTo>
                  <a:lnTo>
                    <a:pt x="22" y="119"/>
                  </a:lnTo>
                  <a:lnTo>
                    <a:pt x="30" y="88"/>
                  </a:lnTo>
                  <a:lnTo>
                    <a:pt x="22" y="35"/>
                  </a:lnTo>
                  <a:lnTo>
                    <a:pt x="48" y="35"/>
                  </a:lnTo>
                  <a:lnTo>
                    <a:pt x="61" y="17"/>
                  </a:lnTo>
                  <a:lnTo>
                    <a:pt x="92" y="35"/>
                  </a:lnTo>
                  <a:lnTo>
                    <a:pt x="101" y="48"/>
                  </a:lnTo>
                  <a:lnTo>
                    <a:pt x="61" y="105"/>
                  </a:lnTo>
                  <a:lnTo>
                    <a:pt x="79" y="141"/>
                  </a:lnTo>
                  <a:lnTo>
                    <a:pt x="167" y="154"/>
                  </a:lnTo>
                  <a:lnTo>
                    <a:pt x="287" y="176"/>
                  </a:lnTo>
                  <a:lnTo>
                    <a:pt x="384" y="154"/>
                  </a:lnTo>
                  <a:lnTo>
                    <a:pt x="437" y="119"/>
                  </a:lnTo>
                  <a:lnTo>
                    <a:pt x="494" y="88"/>
                  </a:lnTo>
                  <a:lnTo>
                    <a:pt x="521" y="48"/>
                  </a:lnTo>
                  <a:lnTo>
                    <a:pt x="521" y="0"/>
                  </a:lnTo>
                  <a:lnTo>
                    <a:pt x="543"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9" name=""/>
            <p:cNvSpPr/>
            <p:nvPr/>
          </p:nvSpPr>
          <p:spPr>
            <a:xfrm>
              <a:off x="1488960" y="4853160"/>
              <a:ext cx="59040" cy="176400"/>
            </a:xfrm>
            <a:custGeom>
              <a:avLst/>
              <a:gdLst/>
              <a:ahLst/>
              <a:rect l="0" t="0" r="r" b="b"/>
              <a:pathLst>
                <a:path w="164" h="490">
                  <a:moveTo>
                    <a:pt x="164" y="0"/>
                  </a:moveTo>
                  <a:lnTo>
                    <a:pt x="128" y="123"/>
                  </a:lnTo>
                  <a:lnTo>
                    <a:pt x="79" y="247"/>
                  </a:lnTo>
                  <a:lnTo>
                    <a:pt x="30" y="353"/>
                  </a:lnTo>
                  <a:lnTo>
                    <a:pt x="8" y="428"/>
                  </a:lnTo>
                  <a:lnTo>
                    <a:pt x="8" y="490"/>
                  </a:lnTo>
                  <a:lnTo>
                    <a:pt x="0" y="389"/>
                  </a:lnTo>
                  <a:lnTo>
                    <a:pt x="30" y="265"/>
                  </a:lnTo>
                  <a:lnTo>
                    <a:pt x="79" y="123"/>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1285920" y="5052960"/>
              <a:ext cx="182880" cy="324360"/>
            </a:xfrm>
            <a:custGeom>
              <a:avLst/>
              <a:gdLst/>
              <a:ahLst/>
              <a:rect l="0" t="0" r="r" b="b"/>
              <a:pathLst>
                <a:path w="508" h="901">
                  <a:moveTo>
                    <a:pt x="265" y="0"/>
                  </a:moveTo>
                  <a:lnTo>
                    <a:pt x="265" y="92"/>
                  </a:lnTo>
                  <a:lnTo>
                    <a:pt x="362" y="70"/>
                  </a:lnTo>
                  <a:lnTo>
                    <a:pt x="508" y="224"/>
                  </a:lnTo>
                  <a:lnTo>
                    <a:pt x="344" y="92"/>
                  </a:lnTo>
                  <a:lnTo>
                    <a:pt x="274" y="110"/>
                  </a:lnTo>
                  <a:lnTo>
                    <a:pt x="344" y="202"/>
                  </a:lnTo>
                  <a:lnTo>
                    <a:pt x="415" y="384"/>
                  </a:lnTo>
                  <a:lnTo>
                    <a:pt x="472" y="583"/>
                  </a:lnTo>
                  <a:lnTo>
                    <a:pt x="508" y="764"/>
                  </a:lnTo>
                  <a:lnTo>
                    <a:pt x="384" y="481"/>
                  </a:lnTo>
                  <a:lnTo>
                    <a:pt x="486" y="835"/>
                  </a:lnTo>
                  <a:lnTo>
                    <a:pt x="362" y="512"/>
                  </a:lnTo>
                  <a:lnTo>
                    <a:pt x="446" y="835"/>
                  </a:lnTo>
                  <a:lnTo>
                    <a:pt x="322" y="552"/>
                  </a:lnTo>
                  <a:lnTo>
                    <a:pt x="415" y="866"/>
                  </a:lnTo>
                  <a:lnTo>
                    <a:pt x="300" y="618"/>
                  </a:lnTo>
                  <a:lnTo>
                    <a:pt x="384" y="866"/>
                  </a:lnTo>
                  <a:lnTo>
                    <a:pt x="362" y="901"/>
                  </a:lnTo>
                  <a:lnTo>
                    <a:pt x="287" y="675"/>
                  </a:lnTo>
                  <a:lnTo>
                    <a:pt x="216" y="499"/>
                  </a:lnTo>
                  <a:lnTo>
                    <a:pt x="127" y="331"/>
                  </a:lnTo>
                  <a:lnTo>
                    <a:pt x="66" y="202"/>
                  </a:lnTo>
                  <a:lnTo>
                    <a:pt x="0" y="136"/>
                  </a:lnTo>
                  <a:lnTo>
                    <a:pt x="145" y="274"/>
                  </a:lnTo>
                  <a:lnTo>
                    <a:pt x="202" y="274"/>
                  </a:lnTo>
                  <a:lnTo>
                    <a:pt x="274" y="261"/>
                  </a:lnTo>
                  <a:lnTo>
                    <a:pt x="300" y="224"/>
                  </a:lnTo>
                  <a:lnTo>
                    <a:pt x="265" y="149"/>
                  </a:lnTo>
                  <a:lnTo>
                    <a:pt x="242" y="202"/>
                  </a:lnTo>
                  <a:lnTo>
                    <a:pt x="242"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1" name=""/>
            <p:cNvSpPr/>
            <p:nvPr/>
          </p:nvSpPr>
          <p:spPr>
            <a:xfrm>
              <a:off x="1224000" y="5113440"/>
              <a:ext cx="74880" cy="117720"/>
            </a:xfrm>
            <a:custGeom>
              <a:avLst/>
              <a:gdLst/>
              <a:ahLst/>
              <a:rect l="0" t="0" r="r" b="b"/>
              <a:pathLst>
                <a:path w="208" h="327">
                  <a:moveTo>
                    <a:pt x="30" y="0"/>
                  </a:moveTo>
                  <a:lnTo>
                    <a:pt x="30" y="105"/>
                  </a:lnTo>
                  <a:lnTo>
                    <a:pt x="208" y="256"/>
                  </a:lnTo>
                  <a:lnTo>
                    <a:pt x="111" y="327"/>
                  </a:lnTo>
                  <a:lnTo>
                    <a:pt x="159" y="274"/>
                  </a:lnTo>
                  <a:lnTo>
                    <a:pt x="30" y="164"/>
                  </a:lnTo>
                  <a:lnTo>
                    <a:pt x="44" y="123"/>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1258920" y="5237280"/>
              <a:ext cx="105120" cy="101880"/>
            </a:xfrm>
            <a:custGeom>
              <a:avLst/>
              <a:gdLst/>
              <a:ahLst/>
              <a:rect l="0" t="0" r="r" b="b"/>
              <a:pathLst>
                <a:path w="292" h="283">
                  <a:moveTo>
                    <a:pt x="292" y="247"/>
                  </a:moveTo>
                  <a:lnTo>
                    <a:pt x="168" y="123"/>
                  </a:lnTo>
                  <a:lnTo>
                    <a:pt x="70" y="48"/>
                  </a:lnTo>
                  <a:lnTo>
                    <a:pt x="0" y="0"/>
                  </a:lnTo>
                  <a:lnTo>
                    <a:pt x="168" y="159"/>
                  </a:lnTo>
                  <a:lnTo>
                    <a:pt x="239" y="247"/>
                  </a:lnTo>
                  <a:lnTo>
                    <a:pt x="274" y="283"/>
                  </a:lnTo>
                  <a:lnTo>
                    <a:pt x="292"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603" name=""/>
            <p:cNvSpPr/>
            <p:nvPr/>
          </p:nvSpPr>
          <p:spPr>
            <a:xfrm>
              <a:off x="1044720" y="5105520"/>
              <a:ext cx="73440" cy="79560"/>
            </a:xfrm>
            <a:custGeom>
              <a:avLst/>
              <a:gdLst/>
              <a:ahLst/>
              <a:rect l="0" t="0" r="r" b="b"/>
              <a:pathLst>
                <a:path w="204" h="221">
                  <a:moveTo>
                    <a:pt x="204" y="0"/>
                  </a:moveTo>
                  <a:lnTo>
                    <a:pt x="75" y="0"/>
                  </a:lnTo>
                  <a:lnTo>
                    <a:pt x="26" y="128"/>
                  </a:lnTo>
                  <a:lnTo>
                    <a:pt x="0" y="221"/>
                  </a:lnTo>
                  <a:lnTo>
                    <a:pt x="48" y="221"/>
                  </a:lnTo>
                  <a:lnTo>
                    <a:pt x="62" y="128"/>
                  </a:lnTo>
                  <a:lnTo>
                    <a:pt x="98" y="39"/>
                  </a:lnTo>
                  <a:lnTo>
                    <a:pt x="204"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04" name=""/>
            <p:cNvSpPr/>
            <p:nvPr/>
          </p:nvSpPr>
          <p:spPr>
            <a:xfrm>
              <a:off x="1084320" y="5138640"/>
              <a:ext cx="84600" cy="81360"/>
            </a:xfrm>
            <a:custGeom>
              <a:avLst/>
              <a:gdLst/>
              <a:ahLst/>
              <a:rect l="0" t="0" r="r" b="b"/>
              <a:pathLst>
                <a:path w="235" h="226">
                  <a:moveTo>
                    <a:pt x="235" y="226"/>
                  </a:moveTo>
                  <a:lnTo>
                    <a:pt x="93" y="71"/>
                  </a:lnTo>
                  <a:lnTo>
                    <a:pt x="0" y="0"/>
                  </a:lnTo>
                  <a:lnTo>
                    <a:pt x="0" y="58"/>
                  </a:lnTo>
                  <a:lnTo>
                    <a:pt x="235"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05" name=""/>
            <p:cNvSpPr/>
            <p:nvPr/>
          </p:nvSpPr>
          <p:spPr>
            <a:xfrm>
              <a:off x="1069920" y="5184720"/>
              <a:ext cx="93960" cy="59040"/>
            </a:xfrm>
            <a:custGeom>
              <a:avLst/>
              <a:gdLst/>
              <a:ahLst/>
              <a:rect l="0" t="0" r="r" b="b"/>
              <a:pathLst>
                <a:path w="261" h="164">
                  <a:moveTo>
                    <a:pt x="261" y="146"/>
                  </a:moveTo>
                  <a:lnTo>
                    <a:pt x="127" y="61"/>
                  </a:lnTo>
                  <a:lnTo>
                    <a:pt x="57" y="0"/>
                  </a:lnTo>
                  <a:lnTo>
                    <a:pt x="17" y="0"/>
                  </a:lnTo>
                  <a:lnTo>
                    <a:pt x="0" y="39"/>
                  </a:lnTo>
                  <a:lnTo>
                    <a:pt x="39" y="61"/>
                  </a:lnTo>
                  <a:lnTo>
                    <a:pt x="57" y="39"/>
                  </a:lnTo>
                  <a:lnTo>
                    <a:pt x="127" y="79"/>
                  </a:lnTo>
                  <a:lnTo>
                    <a:pt x="168" y="115"/>
                  </a:lnTo>
                  <a:lnTo>
                    <a:pt x="177" y="133"/>
                  </a:lnTo>
                  <a:lnTo>
                    <a:pt x="239" y="164"/>
                  </a:lnTo>
                  <a:lnTo>
                    <a:pt x="261" y="146"/>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606" name=""/>
            <p:cNvSpPr/>
            <p:nvPr/>
          </p:nvSpPr>
          <p:spPr>
            <a:xfrm>
              <a:off x="1039680" y="5230800"/>
              <a:ext cx="103680" cy="198720"/>
            </a:xfrm>
            <a:custGeom>
              <a:avLst/>
              <a:gdLst/>
              <a:ahLst/>
              <a:rect l="0" t="0" r="r" b="b"/>
              <a:pathLst>
                <a:path w="288" h="552">
                  <a:moveTo>
                    <a:pt x="98" y="17"/>
                  </a:moveTo>
                  <a:lnTo>
                    <a:pt x="98" y="136"/>
                  </a:lnTo>
                  <a:lnTo>
                    <a:pt x="98" y="216"/>
                  </a:lnTo>
                  <a:lnTo>
                    <a:pt x="106" y="305"/>
                  </a:lnTo>
                  <a:lnTo>
                    <a:pt x="199" y="216"/>
                  </a:lnTo>
                  <a:lnTo>
                    <a:pt x="288" y="105"/>
                  </a:lnTo>
                  <a:lnTo>
                    <a:pt x="155" y="305"/>
                  </a:lnTo>
                  <a:lnTo>
                    <a:pt x="75" y="353"/>
                  </a:lnTo>
                  <a:lnTo>
                    <a:pt x="142" y="503"/>
                  </a:lnTo>
                  <a:lnTo>
                    <a:pt x="98" y="552"/>
                  </a:lnTo>
                  <a:lnTo>
                    <a:pt x="39" y="464"/>
                  </a:lnTo>
                  <a:lnTo>
                    <a:pt x="22" y="411"/>
                  </a:lnTo>
                  <a:lnTo>
                    <a:pt x="0" y="375"/>
                  </a:lnTo>
                  <a:lnTo>
                    <a:pt x="48" y="322"/>
                  </a:lnTo>
                  <a:lnTo>
                    <a:pt x="22" y="216"/>
                  </a:lnTo>
                  <a:lnTo>
                    <a:pt x="22" y="136"/>
                  </a:lnTo>
                  <a:lnTo>
                    <a:pt x="8" y="35"/>
                  </a:lnTo>
                  <a:lnTo>
                    <a:pt x="22" y="0"/>
                  </a:lnTo>
                  <a:lnTo>
                    <a:pt x="48" y="216"/>
                  </a:lnTo>
                  <a:lnTo>
                    <a:pt x="98"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7" name=""/>
            <p:cNvSpPr/>
            <p:nvPr/>
          </p:nvSpPr>
          <p:spPr>
            <a:xfrm>
              <a:off x="1090440" y="5275440"/>
              <a:ext cx="105120" cy="205200"/>
            </a:xfrm>
            <a:custGeom>
              <a:avLst/>
              <a:gdLst/>
              <a:ahLst/>
              <a:rect l="0" t="0" r="r" b="b"/>
              <a:pathLst>
                <a:path w="292" h="570">
                  <a:moveTo>
                    <a:pt x="230" y="0"/>
                  </a:moveTo>
                  <a:lnTo>
                    <a:pt x="145" y="234"/>
                  </a:lnTo>
                  <a:lnTo>
                    <a:pt x="74" y="336"/>
                  </a:lnTo>
                  <a:lnTo>
                    <a:pt x="0" y="411"/>
                  </a:lnTo>
                  <a:lnTo>
                    <a:pt x="74" y="336"/>
                  </a:lnTo>
                  <a:lnTo>
                    <a:pt x="132" y="265"/>
                  </a:lnTo>
                  <a:lnTo>
                    <a:pt x="92" y="411"/>
                  </a:lnTo>
                  <a:lnTo>
                    <a:pt x="0" y="570"/>
                  </a:lnTo>
                  <a:lnTo>
                    <a:pt x="105" y="411"/>
                  </a:lnTo>
                  <a:lnTo>
                    <a:pt x="168" y="283"/>
                  </a:lnTo>
                  <a:lnTo>
                    <a:pt x="230" y="70"/>
                  </a:lnTo>
                  <a:lnTo>
                    <a:pt x="292" y="305"/>
                  </a:lnTo>
                  <a:lnTo>
                    <a:pt x="243" y="35"/>
                  </a:lnTo>
                  <a:lnTo>
                    <a:pt x="2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8" name=""/>
            <p:cNvSpPr/>
            <p:nvPr/>
          </p:nvSpPr>
          <p:spPr>
            <a:xfrm>
              <a:off x="1062000" y="5442120"/>
              <a:ext cx="46440" cy="124200"/>
            </a:xfrm>
            <a:custGeom>
              <a:avLst/>
              <a:gdLst/>
              <a:ahLst/>
              <a:rect l="0" t="0" r="r" b="b"/>
              <a:pathLst>
                <a:path w="129" h="345">
                  <a:moveTo>
                    <a:pt x="49" y="0"/>
                  </a:moveTo>
                  <a:lnTo>
                    <a:pt x="84" y="111"/>
                  </a:lnTo>
                  <a:lnTo>
                    <a:pt x="40" y="111"/>
                  </a:lnTo>
                  <a:lnTo>
                    <a:pt x="129" y="345"/>
                  </a:lnTo>
                  <a:lnTo>
                    <a:pt x="0" y="39"/>
                  </a:lnTo>
                  <a:lnTo>
                    <a:pt x="40"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1650960" y="4481640"/>
              <a:ext cx="786240" cy="1254600"/>
            </a:xfrm>
            <a:custGeom>
              <a:avLst/>
              <a:gdLst/>
              <a:ahLst/>
              <a:rect l="0" t="0" r="r" b="b"/>
              <a:pathLst>
                <a:path w="2184" h="3485">
                  <a:moveTo>
                    <a:pt x="22" y="1442"/>
                  </a:moveTo>
                  <a:lnTo>
                    <a:pt x="194" y="988"/>
                  </a:lnTo>
                  <a:lnTo>
                    <a:pt x="339" y="568"/>
                  </a:lnTo>
                  <a:lnTo>
                    <a:pt x="418" y="255"/>
                  </a:lnTo>
                  <a:lnTo>
                    <a:pt x="463" y="48"/>
                  </a:lnTo>
                  <a:lnTo>
                    <a:pt x="807" y="304"/>
                  </a:lnTo>
                  <a:lnTo>
                    <a:pt x="1191" y="542"/>
                  </a:lnTo>
                  <a:lnTo>
                    <a:pt x="1682" y="758"/>
                  </a:lnTo>
                  <a:lnTo>
                    <a:pt x="2167" y="909"/>
                  </a:lnTo>
                  <a:lnTo>
                    <a:pt x="1902" y="1460"/>
                  </a:lnTo>
                  <a:lnTo>
                    <a:pt x="1673" y="2148"/>
                  </a:lnTo>
                  <a:lnTo>
                    <a:pt x="1429" y="2780"/>
                  </a:lnTo>
                  <a:lnTo>
                    <a:pt x="1160" y="3260"/>
                  </a:lnTo>
                  <a:lnTo>
                    <a:pt x="1050" y="3410"/>
                  </a:lnTo>
                  <a:lnTo>
                    <a:pt x="763" y="3141"/>
                  </a:lnTo>
                  <a:lnTo>
                    <a:pt x="524" y="3009"/>
                  </a:lnTo>
                  <a:lnTo>
                    <a:pt x="427" y="2952"/>
                  </a:lnTo>
                  <a:lnTo>
                    <a:pt x="436" y="2987"/>
                  </a:lnTo>
                  <a:lnTo>
                    <a:pt x="706" y="3185"/>
                  </a:lnTo>
                  <a:lnTo>
                    <a:pt x="860" y="3344"/>
                  </a:lnTo>
                  <a:lnTo>
                    <a:pt x="944" y="3485"/>
                  </a:lnTo>
                  <a:lnTo>
                    <a:pt x="979" y="3393"/>
                  </a:lnTo>
                  <a:lnTo>
                    <a:pt x="1076" y="3445"/>
                  </a:lnTo>
                  <a:lnTo>
                    <a:pt x="1231" y="3185"/>
                  </a:lnTo>
                  <a:lnTo>
                    <a:pt x="1407" y="2872"/>
                  </a:lnTo>
                  <a:lnTo>
                    <a:pt x="1628" y="2333"/>
                  </a:lnTo>
                  <a:lnTo>
                    <a:pt x="1858" y="1734"/>
                  </a:lnTo>
                  <a:lnTo>
                    <a:pt x="2012" y="1420"/>
                  </a:lnTo>
                  <a:lnTo>
                    <a:pt x="2158" y="1235"/>
                  </a:lnTo>
                  <a:lnTo>
                    <a:pt x="2070" y="1178"/>
                  </a:lnTo>
                  <a:lnTo>
                    <a:pt x="2184" y="896"/>
                  </a:lnTo>
                  <a:lnTo>
                    <a:pt x="1748" y="749"/>
                  </a:lnTo>
                  <a:lnTo>
                    <a:pt x="1368" y="590"/>
                  </a:lnTo>
                  <a:lnTo>
                    <a:pt x="1006" y="396"/>
                  </a:lnTo>
                  <a:lnTo>
                    <a:pt x="688" y="194"/>
                  </a:lnTo>
                  <a:lnTo>
                    <a:pt x="436" y="0"/>
                  </a:lnTo>
                  <a:lnTo>
                    <a:pt x="330" y="476"/>
                  </a:lnTo>
                  <a:lnTo>
                    <a:pt x="149" y="1054"/>
                  </a:lnTo>
                  <a:lnTo>
                    <a:pt x="0" y="1434"/>
                  </a:lnTo>
                  <a:lnTo>
                    <a:pt x="22"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0" name=""/>
            <p:cNvSpPr/>
            <p:nvPr/>
          </p:nvSpPr>
          <p:spPr>
            <a:xfrm>
              <a:off x="1565280" y="4997520"/>
              <a:ext cx="154440" cy="200520"/>
            </a:xfrm>
            <a:custGeom>
              <a:avLst/>
              <a:gdLst/>
              <a:ahLst/>
              <a:rect l="0" t="0" r="r" b="b"/>
              <a:pathLst>
                <a:path w="429" h="557">
                  <a:moveTo>
                    <a:pt x="164" y="0"/>
                  </a:moveTo>
                  <a:lnTo>
                    <a:pt x="292" y="57"/>
                  </a:lnTo>
                  <a:lnTo>
                    <a:pt x="376" y="127"/>
                  </a:lnTo>
                  <a:lnTo>
                    <a:pt x="416" y="164"/>
                  </a:lnTo>
                  <a:lnTo>
                    <a:pt x="412" y="221"/>
                  </a:lnTo>
                  <a:lnTo>
                    <a:pt x="318" y="243"/>
                  </a:lnTo>
                  <a:lnTo>
                    <a:pt x="195" y="234"/>
                  </a:lnTo>
                  <a:lnTo>
                    <a:pt x="101" y="208"/>
                  </a:lnTo>
                  <a:lnTo>
                    <a:pt x="137" y="269"/>
                  </a:lnTo>
                  <a:lnTo>
                    <a:pt x="120" y="393"/>
                  </a:lnTo>
                  <a:lnTo>
                    <a:pt x="74" y="473"/>
                  </a:lnTo>
                  <a:lnTo>
                    <a:pt x="17" y="283"/>
                  </a:lnTo>
                  <a:lnTo>
                    <a:pt x="39" y="142"/>
                  </a:lnTo>
                  <a:lnTo>
                    <a:pt x="88" y="48"/>
                  </a:lnTo>
                  <a:lnTo>
                    <a:pt x="120" y="13"/>
                  </a:lnTo>
                  <a:lnTo>
                    <a:pt x="74" y="13"/>
                  </a:lnTo>
                  <a:lnTo>
                    <a:pt x="17" y="127"/>
                  </a:lnTo>
                  <a:lnTo>
                    <a:pt x="0" y="256"/>
                  </a:lnTo>
                  <a:lnTo>
                    <a:pt x="26" y="393"/>
                  </a:lnTo>
                  <a:lnTo>
                    <a:pt x="66" y="557"/>
                  </a:lnTo>
                  <a:lnTo>
                    <a:pt x="168" y="384"/>
                  </a:lnTo>
                  <a:lnTo>
                    <a:pt x="217" y="269"/>
                  </a:lnTo>
                  <a:lnTo>
                    <a:pt x="341" y="269"/>
                  </a:lnTo>
                  <a:lnTo>
                    <a:pt x="412" y="243"/>
                  </a:lnTo>
                  <a:lnTo>
                    <a:pt x="429" y="208"/>
                  </a:lnTo>
                  <a:lnTo>
                    <a:pt x="416" y="164"/>
                  </a:lnTo>
                  <a:lnTo>
                    <a:pt x="287" y="3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1" name=""/>
            <p:cNvSpPr/>
            <p:nvPr/>
          </p:nvSpPr>
          <p:spPr>
            <a:xfrm>
              <a:off x="1328760" y="5354640"/>
              <a:ext cx="224280" cy="68760"/>
            </a:xfrm>
            <a:custGeom>
              <a:avLst/>
              <a:gdLst/>
              <a:ahLst/>
              <a:rect l="0" t="0" r="r" b="b"/>
              <a:pathLst>
                <a:path w="623" h="191">
                  <a:moveTo>
                    <a:pt x="17" y="115"/>
                  </a:moveTo>
                  <a:lnTo>
                    <a:pt x="269" y="39"/>
                  </a:lnTo>
                  <a:lnTo>
                    <a:pt x="411" y="17"/>
                  </a:lnTo>
                  <a:lnTo>
                    <a:pt x="535" y="26"/>
                  </a:lnTo>
                  <a:lnTo>
                    <a:pt x="597" y="80"/>
                  </a:lnTo>
                  <a:lnTo>
                    <a:pt x="553" y="128"/>
                  </a:lnTo>
                  <a:lnTo>
                    <a:pt x="491" y="142"/>
                  </a:lnTo>
                  <a:lnTo>
                    <a:pt x="464" y="191"/>
                  </a:lnTo>
                  <a:lnTo>
                    <a:pt x="570" y="165"/>
                  </a:lnTo>
                  <a:lnTo>
                    <a:pt x="597" y="115"/>
                  </a:lnTo>
                  <a:lnTo>
                    <a:pt x="623" y="80"/>
                  </a:lnTo>
                  <a:lnTo>
                    <a:pt x="597" y="26"/>
                  </a:lnTo>
                  <a:lnTo>
                    <a:pt x="500" y="0"/>
                  </a:lnTo>
                  <a:lnTo>
                    <a:pt x="393" y="0"/>
                  </a:lnTo>
                  <a:lnTo>
                    <a:pt x="127" y="67"/>
                  </a:lnTo>
                  <a:lnTo>
                    <a:pt x="0" y="102"/>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612" name=""/>
            <p:cNvSpPr/>
            <p:nvPr/>
          </p:nvSpPr>
          <p:spPr>
            <a:xfrm>
              <a:off x="1457280" y="5402160"/>
              <a:ext cx="39960" cy="11520"/>
            </a:xfrm>
            <a:custGeom>
              <a:avLst/>
              <a:gdLst/>
              <a:ahLst/>
              <a:rect l="0" t="0" r="r" b="b"/>
              <a:pathLst>
                <a:path w="111" h="32">
                  <a:moveTo>
                    <a:pt x="106" y="0"/>
                  </a:moveTo>
                  <a:lnTo>
                    <a:pt x="0" y="0"/>
                  </a:lnTo>
                  <a:lnTo>
                    <a:pt x="111" y="32"/>
                  </a:lnTo>
                  <a:lnTo>
                    <a:pt x="106"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613" name=""/>
            <p:cNvSpPr/>
            <p:nvPr/>
          </p:nvSpPr>
          <p:spPr>
            <a:xfrm>
              <a:off x="1616040" y="5227560"/>
              <a:ext cx="138600" cy="225720"/>
            </a:xfrm>
            <a:custGeom>
              <a:avLst/>
              <a:gdLst/>
              <a:ahLst/>
              <a:rect l="0" t="0" r="r" b="b"/>
              <a:pathLst>
                <a:path w="385" h="627">
                  <a:moveTo>
                    <a:pt x="30" y="0"/>
                  </a:moveTo>
                  <a:lnTo>
                    <a:pt x="381" y="547"/>
                  </a:lnTo>
                  <a:lnTo>
                    <a:pt x="385" y="627"/>
                  </a:lnTo>
                  <a:lnTo>
                    <a:pt x="337" y="591"/>
                  </a:lnTo>
                  <a:lnTo>
                    <a:pt x="337" y="547"/>
                  </a:lnTo>
                  <a:lnTo>
                    <a:pt x="0" y="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4" name=""/>
            <p:cNvSpPr/>
            <p:nvPr/>
          </p:nvSpPr>
          <p:spPr>
            <a:xfrm>
              <a:off x="1522440" y="5307120"/>
              <a:ext cx="82800" cy="55800"/>
            </a:xfrm>
            <a:custGeom>
              <a:avLst/>
              <a:gdLst/>
              <a:ahLst/>
              <a:rect l="0" t="0" r="r" b="b"/>
              <a:pathLst>
                <a:path w="230" h="155">
                  <a:moveTo>
                    <a:pt x="22" y="120"/>
                  </a:moveTo>
                  <a:lnTo>
                    <a:pt x="195" y="0"/>
                  </a:lnTo>
                  <a:lnTo>
                    <a:pt x="230" y="48"/>
                  </a:lnTo>
                  <a:lnTo>
                    <a:pt x="52" y="155"/>
                  </a:lnTo>
                  <a:lnTo>
                    <a:pt x="0" y="142"/>
                  </a:lnTo>
                  <a:lnTo>
                    <a:pt x="22"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15" name=""/>
            <p:cNvSpPr/>
            <p:nvPr/>
          </p:nvSpPr>
          <p:spPr>
            <a:xfrm>
              <a:off x="1660680" y="4992840"/>
              <a:ext cx="381240" cy="292320"/>
            </a:xfrm>
            <a:custGeom>
              <a:avLst/>
              <a:gdLst/>
              <a:ahLst/>
              <a:rect l="0" t="0" r="r" b="b"/>
              <a:pathLst>
                <a:path w="1059" h="812">
                  <a:moveTo>
                    <a:pt x="0" y="759"/>
                  </a:moveTo>
                  <a:lnTo>
                    <a:pt x="1032" y="0"/>
                  </a:lnTo>
                  <a:lnTo>
                    <a:pt x="1059" y="26"/>
                  </a:lnTo>
                  <a:lnTo>
                    <a:pt x="1054" y="44"/>
                  </a:lnTo>
                  <a:lnTo>
                    <a:pt x="30" y="812"/>
                  </a:lnTo>
                  <a:lnTo>
                    <a:pt x="489" y="437"/>
                  </a:lnTo>
                  <a:lnTo>
                    <a:pt x="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452600" y="5099040"/>
              <a:ext cx="174960" cy="303480"/>
            </a:xfrm>
            <a:custGeom>
              <a:avLst/>
              <a:gdLst/>
              <a:ahLst/>
              <a:rect l="0" t="0" r="r" b="b"/>
              <a:pathLst>
                <a:path w="486" h="843">
                  <a:moveTo>
                    <a:pt x="358" y="299"/>
                  </a:moveTo>
                  <a:lnTo>
                    <a:pt x="220" y="543"/>
                  </a:lnTo>
                  <a:lnTo>
                    <a:pt x="114" y="671"/>
                  </a:lnTo>
                  <a:lnTo>
                    <a:pt x="486" y="812"/>
                  </a:lnTo>
                  <a:lnTo>
                    <a:pt x="397" y="843"/>
                  </a:lnTo>
                  <a:lnTo>
                    <a:pt x="265" y="812"/>
                  </a:lnTo>
                  <a:lnTo>
                    <a:pt x="242" y="733"/>
                  </a:lnTo>
                  <a:lnTo>
                    <a:pt x="88" y="702"/>
                  </a:lnTo>
                  <a:lnTo>
                    <a:pt x="57" y="671"/>
                  </a:lnTo>
                  <a:lnTo>
                    <a:pt x="202" y="516"/>
                  </a:lnTo>
                  <a:lnTo>
                    <a:pt x="265" y="379"/>
                  </a:lnTo>
                  <a:lnTo>
                    <a:pt x="261" y="242"/>
                  </a:lnTo>
                  <a:lnTo>
                    <a:pt x="145" y="242"/>
                  </a:lnTo>
                  <a:lnTo>
                    <a:pt x="132" y="127"/>
                  </a:lnTo>
                  <a:lnTo>
                    <a:pt x="189" y="211"/>
                  </a:lnTo>
                  <a:lnTo>
                    <a:pt x="309" y="176"/>
                  </a:lnTo>
                  <a:lnTo>
                    <a:pt x="274" y="114"/>
                  </a:lnTo>
                  <a:lnTo>
                    <a:pt x="211" y="44"/>
                  </a:lnTo>
                  <a:lnTo>
                    <a:pt x="163" y="22"/>
                  </a:lnTo>
                  <a:lnTo>
                    <a:pt x="0" y="22"/>
                  </a:lnTo>
                  <a:lnTo>
                    <a:pt x="202" y="0"/>
                  </a:lnTo>
                  <a:lnTo>
                    <a:pt x="292" y="57"/>
                  </a:lnTo>
                  <a:lnTo>
                    <a:pt x="358" y="127"/>
                  </a:lnTo>
                  <a:lnTo>
                    <a:pt x="375" y="224"/>
                  </a:lnTo>
                  <a:lnTo>
                    <a:pt x="35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1730520" y="5357880"/>
              <a:ext cx="122760" cy="176400"/>
            </a:xfrm>
            <a:custGeom>
              <a:avLst/>
              <a:gdLst/>
              <a:ahLst/>
              <a:rect l="0" t="0" r="r" b="b"/>
              <a:pathLst>
                <a:path w="341" h="490">
                  <a:moveTo>
                    <a:pt x="0" y="44"/>
                  </a:moveTo>
                  <a:lnTo>
                    <a:pt x="190" y="0"/>
                  </a:lnTo>
                  <a:lnTo>
                    <a:pt x="106" y="132"/>
                  </a:lnTo>
                  <a:lnTo>
                    <a:pt x="252" y="92"/>
                  </a:lnTo>
                  <a:lnTo>
                    <a:pt x="133" y="265"/>
                  </a:lnTo>
                  <a:lnTo>
                    <a:pt x="341" y="305"/>
                  </a:lnTo>
                  <a:lnTo>
                    <a:pt x="177" y="490"/>
                  </a:lnTo>
                  <a:lnTo>
                    <a:pt x="133" y="336"/>
                  </a:lnTo>
                  <a:lnTo>
                    <a:pt x="297" y="305"/>
                  </a:lnTo>
                  <a:lnTo>
                    <a:pt x="79" y="265"/>
                  </a:lnTo>
                  <a:lnTo>
                    <a:pt x="190" y="132"/>
                  </a:lnTo>
                  <a:lnTo>
                    <a:pt x="48" y="149"/>
                  </a:lnTo>
                  <a:lnTo>
                    <a:pt x="106" y="4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8" name=""/>
          <p:cNvSpPr txBox="1"/>
          <p:nvPr/>
        </p:nvSpPr>
        <p:spPr>
          <a:xfrm>
            <a:off x="2362320" y="2743200"/>
            <a:ext cx="6248520" cy="21337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Account for stock dividends and stock splits.</a:t>
            </a:r>
            <a:endParaRPr b="0" lang="en-US" sz="3200" spc="-1" strike="noStrike">
              <a:solidFill>
                <a:srgbClr val="ffffff"/>
              </a:solidFill>
              <a:latin typeface="Arial"/>
            </a:endParaRPr>
          </a:p>
        </p:txBody>
      </p:sp>
      <p:sp>
        <p:nvSpPr>
          <p:cNvPr id="619" name=""/>
          <p:cNvSpPr txBox="1"/>
          <p:nvPr/>
        </p:nvSpPr>
        <p:spPr>
          <a:xfrm>
            <a:off x="1447920" y="990720"/>
            <a:ext cx="66294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 and</a:t>
            </a:r>
            <a:br>
              <a:rPr sz="4400"/>
            </a:b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pic>
        <p:nvPicPr>
          <p:cNvPr id="62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1" name=""/>
          <p:cNvSpPr txBox="1"/>
          <p:nvPr/>
        </p:nvSpPr>
        <p:spPr>
          <a:xfrm>
            <a:off x="914400" y="609480"/>
            <a:ext cx="784872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a:t>
            </a:r>
            <a:endParaRPr b="0" lang="en-US" sz="4400" spc="-1" strike="noStrike">
              <a:solidFill>
                <a:srgbClr val="ffffff"/>
              </a:solidFill>
              <a:latin typeface="Arial"/>
            </a:endParaRPr>
          </a:p>
        </p:txBody>
      </p:sp>
      <p:sp>
        <p:nvSpPr>
          <p:cNvPr id="622" name=""/>
          <p:cNvSpPr txBox="1"/>
          <p:nvPr/>
        </p:nvSpPr>
        <p:spPr>
          <a:xfrm>
            <a:off x="685800" y="1447920"/>
            <a:ext cx="82296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ock divide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s a proportional distribution of shares of a corporation’s stock to its shareholde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t represents no change in the firm’s assets and liabilities because no assets are distrib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3" name=""/>
          <p:cNvSpPr txBox="1"/>
          <p:nvPr/>
        </p:nvSpPr>
        <p:spPr>
          <a:xfrm>
            <a:off x="685800" y="304920"/>
            <a:ext cx="8077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easons for Declaring </a:t>
            </a:r>
            <a:br>
              <a:rPr sz="3600"/>
            </a:br>
            <a:r>
              <a:rPr b="1" lang="en-US" sz="3600" spc="-1" strike="noStrike">
                <a:solidFill>
                  <a:srgbClr val="ffcc66"/>
                </a:solidFill>
                <a:latin typeface="Arial"/>
                <a:ea typeface="Arial"/>
              </a:rPr>
              <a:t>a Stock Dividend</a:t>
            </a:r>
            <a:endParaRPr b="0" lang="en-US" sz="3600" spc="-1" strike="noStrike">
              <a:solidFill>
                <a:srgbClr val="ffffff"/>
              </a:solidFill>
              <a:latin typeface="Arial"/>
            </a:endParaRPr>
          </a:p>
        </p:txBody>
      </p:sp>
      <p:sp>
        <p:nvSpPr>
          <p:cNvPr id="624" name=""/>
          <p:cNvSpPr txBox="1"/>
          <p:nvPr/>
        </p:nvSpPr>
        <p:spPr>
          <a:xfrm>
            <a:off x="685800" y="1143000"/>
            <a:ext cx="8458200" cy="5105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 board of directors may declare a stock dividend for several reason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give stockholders some evidence of the company’s success without paying a cash dividend.</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reduce the stock’s market price by increasing the number of shares outstanding.</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make a nontaxable distribution to stockhold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increase the company’s permanent capi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5" name=""/>
          <p:cNvSpPr txBox="1"/>
          <p:nvPr/>
        </p:nvSpPr>
        <p:spPr>
          <a:xfrm>
            <a:off x="1981080" y="304920"/>
            <a:ext cx="56372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
        <p:nvSpPr>
          <p:cNvPr id="626"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ffect of a stock dividend is to transfer a dollar amount from retained earnings to the contributed capital section on the date of decla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transferred is FMV (usually market price) of the additional shares to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7" name=""/>
          <p:cNvSpPr txBox="1"/>
          <p:nvPr/>
        </p:nvSpPr>
        <p:spPr>
          <a:xfrm>
            <a:off x="685800" y="1676520"/>
            <a:ext cx="84582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Entries to record the declaration and distribution of the stock dividend are:</a:t>
            </a:r>
            <a:endParaRPr b="0" lang="en-US" sz="3200" spc="-1" strike="noStrike">
              <a:solidFill>
                <a:srgbClr val="ffffff"/>
              </a:solidFill>
              <a:latin typeface="Arial"/>
            </a:endParaRPr>
          </a:p>
          <a:p>
            <a:pPr marL="343080" indent="-343080">
              <a:lnSpc>
                <a:spcPct val="170000"/>
              </a:lnSpc>
              <a:spcBef>
                <a:spcPts val="479"/>
              </a:spcBef>
            </a:pPr>
            <a:r>
              <a:rPr b="1" lang="en-US" sz="2400" spc="-1" strike="noStrike">
                <a:solidFill>
                  <a:srgbClr val="fcffd8"/>
                </a:solidFill>
                <a:latin typeface="Arial"/>
                <a:ea typeface="Arial"/>
              </a:rPr>
              <a:t>Feb. 24   Stock Dividends Declar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0,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id-in Capital in Exces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r Value, Common</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eclared a 10%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n common stock</a:t>
            </a:r>
            <a:endParaRPr b="0" lang="en-US" sz="2400" spc="-1" strike="noStrike">
              <a:solidFill>
                <a:srgbClr val="ffffff"/>
              </a:solidFill>
              <a:latin typeface="Arial"/>
            </a:endParaRPr>
          </a:p>
        </p:txBody>
      </p:sp>
      <p:sp>
        <p:nvSpPr>
          <p:cNvPr id="628" name=""/>
          <p:cNvSpPr txBox="1"/>
          <p:nvPr/>
        </p:nvSpPr>
        <p:spPr>
          <a:xfrm>
            <a:off x="2209680" y="228600"/>
            <a:ext cx="52563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838080" y="457200"/>
            <a:ext cx="8001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7" name=""/>
          <p:cNvSpPr txBox="1"/>
          <p:nvPr/>
        </p:nvSpPr>
        <p:spPr>
          <a:xfrm>
            <a:off x="1066680" y="1447920"/>
            <a:ext cx="777240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y of earnings refers to the substance of earnings and their sustainability into future accounting periods and may be affected by:</a:t>
            </a:r>
            <a:endParaRPr b="0" lang="en-US" sz="3200" spc="-1" strike="noStrike">
              <a:solidFill>
                <a:srgbClr val="ffffff"/>
              </a:solidFill>
              <a:latin typeface="Arial"/>
            </a:endParaRPr>
          </a:p>
        </p:txBody>
      </p:sp>
      <p:sp>
        <p:nvSpPr>
          <p:cNvPr id="58" name=""/>
          <p:cNvSpPr txBox="1"/>
          <p:nvPr/>
        </p:nvSpPr>
        <p:spPr>
          <a:xfrm>
            <a:off x="990720" y="3733920"/>
            <a:ext cx="7010280" cy="2143080"/>
          </a:xfrm>
          <a:prstGeom prst="rect">
            <a:avLst/>
          </a:prstGeom>
          <a:noFill/>
          <a:ln w="0">
            <a:noFill/>
          </a:ln>
        </p:spPr>
        <p:txBody>
          <a:bodyPr lIns="0" rIns="0" tIns="0" bIns="0" anchor="t">
            <a:noAutofit/>
          </a:bodyPr>
          <a:p>
            <a:pPr lvl="1" marL="863640" indent="-406440">
              <a:lnSpc>
                <a:spcPct val="120000"/>
              </a:lnSpc>
              <a:buClr>
                <a:srgbClr val="ffcc66"/>
              </a:buClr>
              <a:buFont typeface="Symbol"/>
              <a:buChar char=""/>
            </a:pPr>
            <a:r>
              <a:rPr b="1" lang="en-US" sz="2800" spc="-1" strike="noStrike">
                <a:solidFill>
                  <a:srgbClr val="fcffd8"/>
                </a:solidFill>
                <a:latin typeface="Arial"/>
                <a:ea typeface="Arial"/>
              </a:rPr>
              <a:t>Accounting methods and estimates chosen by management.</a:t>
            </a:r>
            <a:endParaRPr b="0" lang="en-US" sz="2800" spc="-1" strike="noStrike">
              <a:solidFill>
                <a:srgbClr val="ffffff"/>
              </a:solidFill>
              <a:latin typeface="Arial"/>
            </a:endParaRPr>
          </a:p>
          <a:p>
            <a:pPr lvl="1" marL="863640" indent="-406440">
              <a:lnSpc>
                <a:spcPct val="120000"/>
              </a:lnSpc>
              <a:buClr>
                <a:srgbClr val="ffcc66"/>
              </a:buClr>
              <a:buFont typeface="Symbol"/>
              <a:buChar char=""/>
            </a:pPr>
            <a:r>
              <a:rPr b="1" lang="en-US" sz="2800" spc="-1" strike="noStrike">
                <a:solidFill>
                  <a:srgbClr val="fcffd8"/>
                </a:solidFill>
                <a:latin typeface="Arial"/>
                <a:ea typeface="Arial"/>
              </a:rPr>
              <a:t>The nature of nonoperating items in the income sta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9" name=""/>
          <p:cNvSpPr txBox="1"/>
          <p:nvPr/>
        </p:nvSpPr>
        <p:spPr>
          <a:xfrm>
            <a:off x="630360" y="2286000"/>
            <a:ext cx="8513640" cy="2790720"/>
          </a:xfrm>
          <a:prstGeom prst="rect">
            <a:avLst/>
          </a:prstGeom>
          <a:noFill/>
          <a:ln w="0">
            <a:noFill/>
          </a:ln>
        </p:spPr>
        <p:txBody>
          <a:bodyPr lIns="0" rIns="0" tIns="0" bIns="0" anchor="t">
            <a:noAutofit/>
          </a:bodyPr>
          <a:p>
            <a:pPr>
              <a:lnSpc>
                <a:spcPct val="130000"/>
              </a:lnSpc>
              <a:spcBef>
                <a:spcPts val="479"/>
              </a:spcBef>
            </a:pPr>
            <a:r>
              <a:rPr b="1" lang="en-US" sz="2400" spc="-1" strike="noStrike">
                <a:solidFill>
                  <a:srgbClr val="fcffd8"/>
                </a:solidFill>
                <a:latin typeface="Arial"/>
                <a:ea typeface="Arial"/>
              </a:rPr>
              <a:t>Mar. 15    Date of Record; no entry required. </a:t>
            </a:r>
            <a:endParaRPr b="0" lang="en-US" sz="2400" spc="-1" strike="noStrike">
              <a:solidFill>
                <a:srgbClr val="ffffff"/>
              </a:solidFill>
              <a:latin typeface="Arial"/>
            </a:endParaRPr>
          </a:p>
          <a:p>
            <a:pPr>
              <a:lnSpc>
                <a:spcPct val="160000"/>
              </a:lnSpc>
              <a:spcBef>
                <a:spcPts val="479"/>
              </a:spcBef>
            </a:pPr>
            <a:r>
              <a:rPr b="1" lang="en-US" sz="2400" spc="-1" strike="noStrike">
                <a:solidFill>
                  <a:srgbClr val="fcffd8"/>
                </a:solidFill>
                <a:latin typeface="Arial"/>
                <a:ea typeface="Arial"/>
              </a:rPr>
              <a:t>Mar. 31    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istribution of a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f 3,000 shares</a:t>
            </a:r>
            <a:endParaRPr b="0" lang="en-US" sz="2400" spc="-1" strike="noStrike">
              <a:solidFill>
                <a:srgbClr val="ffffff"/>
              </a:solidFill>
              <a:latin typeface="Arial"/>
            </a:endParaRPr>
          </a:p>
        </p:txBody>
      </p:sp>
      <p:sp>
        <p:nvSpPr>
          <p:cNvPr id="630" name=""/>
          <p:cNvSpPr txBox="1"/>
          <p:nvPr/>
        </p:nvSpPr>
        <p:spPr>
          <a:xfrm>
            <a:off x="1600200" y="533520"/>
            <a:ext cx="61722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1" name=""/>
          <p:cNvSpPr txBox="1"/>
          <p:nvPr/>
        </p:nvSpPr>
        <p:spPr>
          <a:xfrm>
            <a:off x="762120" y="1676520"/>
            <a:ext cx="807732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effect of the stock dividend is to:</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Permanently transfer the market value of the stock, $60,000, from retained earnings to contributed capit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rease the number of shares outstanding by 3,000.</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mmon Stock Distributable is not a liability account because there is no obligation to distribute assets.</a:t>
            </a:r>
            <a:endParaRPr b="0" lang="en-US" sz="2800" spc="-1" strike="noStrike">
              <a:solidFill>
                <a:srgbClr val="ffffff"/>
              </a:solidFill>
              <a:latin typeface="Arial"/>
            </a:endParaRPr>
          </a:p>
        </p:txBody>
      </p:sp>
      <p:sp>
        <p:nvSpPr>
          <p:cNvPr id="632" name=""/>
          <p:cNvSpPr txBox="1"/>
          <p:nvPr/>
        </p:nvSpPr>
        <p:spPr>
          <a:xfrm>
            <a:off x="2133720" y="152280"/>
            <a:ext cx="52578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3" name=""/>
          <p:cNvSpPr txBox="1"/>
          <p:nvPr/>
        </p:nvSpPr>
        <p:spPr>
          <a:xfrm>
            <a:off x="1371600" y="457200"/>
            <a:ext cx="6961320" cy="695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34" name=""/>
          <p:cNvSpPr txBox="1"/>
          <p:nvPr/>
        </p:nvSpPr>
        <p:spPr>
          <a:xfrm>
            <a:off x="990720" y="1219320"/>
            <a:ext cx="79246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a:t>
            </a:r>
            <a:r>
              <a:rPr b="1" i="1" lang="en-US" sz="2800" spc="-1" strike="noStrike">
                <a:solidFill>
                  <a:srgbClr val="fcffd8"/>
                </a:solidFill>
                <a:latin typeface="Arial"/>
                <a:ea typeface="Arial"/>
              </a:rPr>
              <a:t>stock split</a:t>
            </a:r>
            <a:r>
              <a:rPr b="1" lang="en-US" sz="2800" spc="-1" strike="noStrike">
                <a:solidFill>
                  <a:srgbClr val="fcffd8"/>
                </a:solidFill>
                <a:latin typeface="Arial"/>
                <a:ea typeface="Arial"/>
              </a:rPr>
              <a:t> occurs when a corporation increases the number of issued shares of stock and reduces the par or stated value proportionall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may be done when a company wants to lower the stock’s market value per share of stock and increase its liquidity, since a high market price hinders marketabilit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stock split does not increase the number of shares author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5" name=""/>
          <p:cNvSpPr txBox="1"/>
          <p:nvPr/>
        </p:nvSpPr>
        <p:spPr>
          <a:xfrm>
            <a:off x="685800" y="990720"/>
            <a:ext cx="8458200" cy="52578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5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36"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37" name=""/>
          <p:cNvSpPr txBox="1"/>
          <p:nvPr/>
        </p:nvSpPr>
        <p:spPr>
          <a:xfrm>
            <a:off x="1433520" y="299880"/>
            <a:ext cx="6894360" cy="752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efore Stock Split</a:t>
            </a:r>
            <a:endParaRPr b="0" lang="en-US" sz="4400" spc="-1" strike="noStrike">
              <a:solidFill>
                <a:srgbClr val="ffffff"/>
              </a:solidFill>
              <a:latin typeface="Arial"/>
            </a:endParaRPr>
          </a:p>
        </p:txBody>
      </p:sp>
      <p:sp>
        <p:nvSpPr>
          <p:cNvPr id="638" name=""/>
          <p:cNvSpPr/>
          <p:nvPr/>
        </p:nvSpPr>
        <p:spPr>
          <a:xfrm>
            <a:off x="7093080" y="624852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9" name=""/>
          <p:cNvSpPr txBox="1"/>
          <p:nvPr/>
        </p:nvSpPr>
        <p:spPr>
          <a:xfrm>
            <a:off x="685800" y="914400"/>
            <a:ext cx="8458200" cy="5334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2.50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6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40" name=""/>
          <p:cNvSpPr/>
          <p:nvPr/>
        </p:nvSpPr>
        <p:spPr>
          <a:xfrm>
            <a:off x="7093080" y="609588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txBox="1"/>
          <p:nvPr/>
        </p:nvSpPr>
        <p:spPr>
          <a:xfrm>
            <a:off x="914400" y="22860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fter Stock Split</a:t>
            </a:r>
            <a:endParaRPr b="0" lang="en-US" sz="4400" spc="-1" strike="noStrike">
              <a:solidFill>
                <a:srgbClr val="ffffff"/>
              </a:solidFill>
              <a:latin typeface="Arial"/>
            </a:endParaRPr>
          </a:p>
        </p:txBody>
      </p:sp>
      <p:sp>
        <p:nvSpPr>
          <p:cNvPr id="642"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838080" y="2286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44" name=""/>
          <p:cNvSpPr txBox="1"/>
          <p:nvPr/>
        </p:nvSpPr>
        <p:spPr>
          <a:xfrm>
            <a:off x="762120" y="1066680"/>
            <a:ext cx="800100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fter a stock split, equity per share is cut in half.</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However, the shareholders’ proportionate interest in the company remains the sa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the number of split shares exceeds the number of authorized shares, the board of directors must secure state and stockholders’ approval before additional shares can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1676520" y="1371600"/>
            <a:ext cx="5554800" cy="1244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46" name=""/>
          <p:cNvSpPr txBox="1"/>
          <p:nvPr/>
        </p:nvSpPr>
        <p:spPr>
          <a:xfrm>
            <a:off x="1066680" y="3048120"/>
            <a:ext cx="7543800" cy="1752480"/>
          </a:xfrm>
          <a:prstGeom prst="rect">
            <a:avLst/>
          </a:prstGeom>
          <a:noFill/>
          <a:ln w="0">
            <a:noFill/>
          </a:ln>
        </p:spPr>
        <p:txBody>
          <a:bodyPr lIns="0" rIns="0" tIns="0" bIns="0" anchor="t">
            <a:noAutofit/>
          </a:bodyPr>
          <a:p>
            <a:pPr marL="793800" indent="-79380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 stock dividend and a stock split?</a:t>
            </a:r>
            <a:endParaRPr b="0" lang="en-US" sz="3200" spc="-1" strike="noStrike">
              <a:solidFill>
                <a:srgbClr val="ffffff"/>
              </a:solidFill>
              <a:latin typeface="Arial"/>
            </a:endParaRPr>
          </a:p>
        </p:txBody>
      </p:sp>
      <p:grpSp>
        <p:nvGrpSpPr>
          <p:cNvPr id="647" name=""/>
          <p:cNvGrpSpPr/>
          <p:nvPr/>
        </p:nvGrpSpPr>
        <p:grpSpPr>
          <a:xfrm>
            <a:off x="6477120" y="457200"/>
            <a:ext cx="2284560" cy="2284560"/>
            <a:chOff x="6477120" y="457200"/>
            <a:chExt cx="2284560" cy="2284560"/>
          </a:xfrm>
        </p:grpSpPr>
        <p:sp>
          <p:nvSpPr>
            <p:cNvPr id="648" name=""/>
            <p:cNvSpPr/>
            <p:nvPr/>
          </p:nvSpPr>
          <p:spPr>
            <a:xfrm>
              <a:off x="6483240" y="1577880"/>
              <a:ext cx="554400" cy="798840"/>
            </a:xfrm>
            <a:custGeom>
              <a:avLst/>
              <a:gdLst/>
              <a:ahLst/>
              <a:rect l="0" t="0" r="r" b="b"/>
              <a:pathLst>
                <a:path w="1540" h="2219">
                  <a:moveTo>
                    <a:pt x="618" y="0"/>
                  </a:moveTo>
                  <a:lnTo>
                    <a:pt x="534" y="97"/>
                  </a:lnTo>
                  <a:lnTo>
                    <a:pt x="534" y="388"/>
                  </a:lnTo>
                  <a:lnTo>
                    <a:pt x="618" y="595"/>
                  </a:lnTo>
                  <a:lnTo>
                    <a:pt x="706" y="701"/>
                  </a:lnTo>
                  <a:lnTo>
                    <a:pt x="569" y="842"/>
                  </a:lnTo>
                  <a:lnTo>
                    <a:pt x="383" y="1165"/>
                  </a:lnTo>
                  <a:lnTo>
                    <a:pt x="30" y="1676"/>
                  </a:lnTo>
                  <a:lnTo>
                    <a:pt x="0" y="1795"/>
                  </a:lnTo>
                  <a:lnTo>
                    <a:pt x="30" y="1901"/>
                  </a:lnTo>
                  <a:lnTo>
                    <a:pt x="141" y="1901"/>
                  </a:lnTo>
                  <a:lnTo>
                    <a:pt x="233" y="1782"/>
                  </a:lnTo>
                  <a:lnTo>
                    <a:pt x="383" y="1495"/>
                  </a:lnTo>
                  <a:lnTo>
                    <a:pt x="477" y="1372"/>
                  </a:lnTo>
                  <a:lnTo>
                    <a:pt x="534" y="1562"/>
                  </a:lnTo>
                  <a:lnTo>
                    <a:pt x="494" y="1764"/>
                  </a:lnTo>
                  <a:lnTo>
                    <a:pt x="343" y="2055"/>
                  </a:lnTo>
                  <a:lnTo>
                    <a:pt x="383" y="2126"/>
                  </a:lnTo>
                  <a:lnTo>
                    <a:pt x="477" y="2104"/>
                  </a:lnTo>
                  <a:lnTo>
                    <a:pt x="666" y="1954"/>
                  </a:lnTo>
                  <a:lnTo>
                    <a:pt x="821" y="1694"/>
                  </a:lnTo>
                  <a:lnTo>
                    <a:pt x="821" y="2144"/>
                  </a:lnTo>
                  <a:lnTo>
                    <a:pt x="1002" y="2219"/>
                  </a:lnTo>
                  <a:lnTo>
                    <a:pt x="1112" y="1941"/>
                  </a:lnTo>
                  <a:lnTo>
                    <a:pt x="1205" y="2197"/>
                  </a:lnTo>
                  <a:lnTo>
                    <a:pt x="1280" y="2126"/>
                  </a:lnTo>
                  <a:lnTo>
                    <a:pt x="1316" y="1610"/>
                  </a:lnTo>
                  <a:lnTo>
                    <a:pt x="1540" y="1125"/>
                  </a:lnTo>
                  <a:lnTo>
                    <a:pt x="1488" y="842"/>
                  </a:lnTo>
                  <a:lnTo>
                    <a:pt x="1333" y="740"/>
                  </a:lnTo>
                  <a:lnTo>
                    <a:pt x="1166" y="754"/>
                  </a:lnTo>
                  <a:lnTo>
                    <a:pt x="1112" y="524"/>
                  </a:lnTo>
                  <a:lnTo>
                    <a:pt x="940" y="476"/>
                  </a:lnTo>
                  <a:lnTo>
                    <a:pt x="794" y="401"/>
                  </a:lnTo>
                  <a:lnTo>
                    <a:pt x="706" y="48"/>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948360" y="1901880"/>
              <a:ext cx="165600" cy="387720"/>
            </a:xfrm>
            <a:custGeom>
              <a:avLst/>
              <a:gdLst/>
              <a:ahLst/>
              <a:rect l="0" t="0" r="r" b="b"/>
              <a:pathLst>
                <a:path w="460" h="1077">
                  <a:moveTo>
                    <a:pt x="230" y="0"/>
                  </a:moveTo>
                  <a:lnTo>
                    <a:pt x="460" y="278"/>
                  </a:lnTo>
                  <a:lnTo>
                    <a:pt x="344" y="883"/>
                  </a:lnTo>
                  <a:lnTo>
                    <a:pt x="0" y="1077"/>
                  </a:lnTo>
                  <a:lnTo>
                    <a:pt x="0" y="772"/>
                  </a:lnTo>
                  <a:lnTo>
                    <a:pt x="142" y="459"/>
                  </a:lnTo>
                  <a:lnTo>
                    <a:pt x="230" y="224"/>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8012160" y="1681200"/>
              <a:ext cx="408240" cy="348120"/>
            </a:xfrm>
            <a:custGeom>
              <a:avLst/>
              <a:gdLst/>
              <a:ahLst/>
              <a:rect l="0" t="0" r="r" b="b"/>
              <a:pathLst>
                <a:path w="1134" h="967">
                  <a:moveTo>
                    <a:pt x="467" y="0"/>
                  </a:moveTo>
                  <a:lnTo>
                    <a:pt x="467" y="154"/>
                  </a:lnTo>
                  <a:lnTo>
                    <a:pt x="507" y="292"/>
                  </a:lnTo>
                  <a:lnTo>
                    <a:pt x="728" y="521"/>
                  </a:lnTo>
                  <a:lnTo>
                    <a:pt x="1134" y="653"/>
                  </a:lnTo>
                  <a:lnTo>
                    <a:pt x="1076" y="945"/>
                  </a:lnTo>
                  <a:lnTo>
                    <a:pt x="728" y="967"/>
                  </a:lnTo>
                  <a:lnTo>
                    <a:pt x="216" y="756"/>
                  </a:lnTo>
                  <a:lnTo>
                    <a:pt x="0" y="384"/>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8175600" y="1285920"/>
              <a:ext cx="572040" cy="768600"/>
            </a:xfrm>
            <a:custGeom>
              <a:avLst/>
              <a:gdLst/>
              <a:ahLst/>
              <a:rect l="0" t="0" r="r" b="b"/>
              <a:pathLst>
                <a:path w="1589" h="2135">
                  <a:moveTo>
                    <a:pt x="141" y="903"/>
                  </a:moveTo>
                  <a:lnTo>
                    <a:pt x="0" y="1058"/>
                  </a:lnTo>
                  <a:lnTo>
                    <a:pt x="30" y="1407"/>
                  </a:lnTo>
                  <a:lnTo>
                    <a:pt x="251" y="1566"/>
                  </a:lnTo>
                  <a:lnTo>
                    <a:pt x="268" y="2095"/>
                  </a:lnTo>
                  <a:lnTo>
                    <a:pt x="494" y="2095"/>
                  </a:lnTo>
                  <a:lnTo>
                    <a:pt x="477" y="1650"/>
                  </a:lnTo>
                  <a:lnTo>
                    <a:pt x="644" y="2113"/>
                  </a:lnTo>
                  <a:lnTo>
                    <a:pt x="755" y="2135"/>
                  </a:lnTo>
                  <a:lnTo>
                    <a:pt x="834" y="1976"/>
                  </a:lnTo>
                  <a:lnTo>
                    <a:pt x="852" y="1685"/>
                  </a:lnTo>
                  <a:lnTo>
                    <a:pt x="1094" y="1958"/>
                  </a:lnTo>
                  <a:lnTo>
                    <a:pt x="1191" y="1936"/>
                  </a:lnTo>
                  <a:lnTo>
                    <a:pt x="1169" y="1747"/>
                  </a:lnTo>
                  <a:lnTo>
                    <a:pt x="1076" y="1478"/>
                  </a:lnTo>
                  <a:lnTo>
                    <a:pt x="979" y="1301"/>
                  </a:lnTo>
                  <a:lnTo>
                    <a:pt x="1015" y="1178"/>
                  </a:lnTo>
                  <a:lnTo>
                    <a:pt x="1076" y="1200"/>
                  </a:lnTo>
                  <a:lnTo>
                    <a:pt x="1298" y="1478"/>
                  </a:lnTo>
                  <a:lnTo>
                    <a:pt x="1536" y="1548"/>
                  </a:lnTo>
                  <a:lnTo>
                    <a:pt x="1589" y="1460"/>
                  </a:lnTo>
                  <a:lnTo>
                    <a:pt x="1554" y="1319"/>
                  </a:lnTo>
                  <a:lnTo>
                    <a:pt x="1112" y="886"/>
                  </a:lnTo>
                  <a:lnTo>
                    <a:pt x="755" y="754"/>
                  </a:lnTo>
                  <a:lnTo>
                    <a:pt x="710" y="515"/>
                  </a:lnTo>
                  <a:lnTo>
                    <a:pt x="834" y="299"/>
                  </a:lnTo>
                  <a:lnTo>
                    <a:pt x="834" y="70"/>
                  </a:lnTo>
                  <a:lnTo>
                    <a:pt x="733" y="0"/>
                  </a:lnTo>
                  <a:lnTo>
                    <a:pt x="477" y="577"/>
                  </a:lnTo>
                  <a:lnTo>
                    <a:pt x="251" y="665"/>
                  </a:lnTo>
                  <a:lnTo>
                    <a:pt x="194" y="820"/>
                  </a:lnTo>
                  <a:lnTo>
                    <a:pt x="141"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237440" y="619200"/>
              <a:ext cx="624240" cy="983160"/>
            </a:xfrm>
            <a:custGeom>
              <a:avLst/>
              <a:gdLst/>
              <a:ahLst/>
              <a:rect l="0" t="0" r="r" b="b"/>
              <a:pathLst>
                <a:path w="1734" h="2731">
                  <a:moveTo>
                    <a:pt x="432" y="379"/>
                  </a:moveTo>
                  <a:lnTo>
                    <a:pt x="304" y="900"/>
                  </a:lnTo>
                  <a:lnTo>
                    <a:pt x="17" y="1006"/>
                  </a:lnTo>
                  <a:lnTo>
                    <a:pt x="97" y="1173"/>
                  </a:lnTo>
                  <a:lnTo>
                    <a:pt x="0" y="1275"/>
                  </a:lnTo>
                  <a:lnTo>
                    <a:pt x="0" y="1465"/>
                  </a:lnTo>
                  <a:lnTo>
                    <a:pt x="141" y="1637"/>
                  </a:lnTo>
                  <a:lnTo>
                    <a:pt x="268" y="1637"/>
                  </a:lnTo>
                  <a:lnTo>
                    <a:pt x="361" y="2246"/>
                  </a:lnTo>
                  <a:lnTo>
                    <a:pt x="467" y="2506"/>
                  </a:lnTo>
                  <a:lnTo>
                    <a:pt x="824" y="2731"/>
                  </a:lnTo>
                  <a:lnTo>
                    <a:pt x="1178" y="2696"/>
                  </a:lnTo>
                  <a:lnTo>
                    <a:pt x="1345" y="2246"/>
                  </a:lnTo>
                  <a:lnTo>
                    <a:pt x="1385" y="1553"/>
                  </a:lnTo>
                  <a:lnTo>
                    <a:pt x="1734" y="1209"/>
                  </a:lnTo>
                  <a:lnTo>
                    <a:pt x="1716" y="1072"/>
                  </a:lnTo>
                  <a:lnTo>
                    <a:pt x="1676" y="1006"/>
                  </a:lnTo>
                  <a:lnTo>
                    <a:pt x="1495" y="988"/>
                  </a:lnTo>
                  <a:lnTo>
                    <a:pt x="1553" y="812"/>
                  </a:lnTo>
                  <a:lnTo>
                    <a:pt x="1368" y="693"/>
                  </a:lnTo>
                  <a:lnTo>
                    <a:pt x="1293" y="299"/>
                  </a:lnTo>
                  <a:lnTo>
                    <a:pt x="749" y="0"/>
                  </a:lnTo>
                  <a:lnTo>
                    <a:pt x="467" y="277"/>
                  </a:lnTo>
                  <a:lnTo>
                    <a:pt x="432"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7283520" y="1438200"/>
              <a:ext cx="572040" cy="1173600"/>
            </a:xfrm>
            <a:custGeom>
              <a:avLst/>
              <a:gdLst/>
              <a:ahLst/>
              <a:rect l="0" t="0" r="r" b="b"/>
              <a:pathLst>
                <a:path w="1589" h="3260">
                  <a:moveTo>
                    <a:pt x="326" y="171"/>
                  </a:moveTo>
                  <a:lnTo>
                    <a:pt x="552" y="326"/>
                  </a:lnTo>
                  <a:lnTo>
                    <a:pt x="662" y="498"/>
                  </a:lnTo>
                  <a:lnTo>
                    <a:pt x="1298" y="0"/>
                  </a:lnTo>
                  <a:lnTo>
                    <a:pt x="1496" y="101"/>
                  </a:lnTo>
                  <a:lnTo>
                    <a:pt x="1589" y="617"/>
                  </a:lnTo>
                  <a:lnTo>
                    <a:pt x="1129" y="2117"/>
                  </a:lnTo>
                  <a:lnTo>
                    <a:pt x="1276" y="2947"/>
                  </a:lnTo>
                  <a:lnTo>
                    <a:pt x="675" y="3260"/>
                  </a:lnTo>
                  <a:lnTo>
                    <a:pt x="211" y="3084"/>
                  </a:lnTo>
                  <a:lnTo>
                    <a:pt x="211" y="2205"/>
                  </a:lnTo>
                  <a:lnTo>
                    <a:pt x="0" y="1354"/>
                  </a:lnTo>
                  <a:lnTo>
                    <a:pt x="211" y="326"/>
                  </a:lnTo>
                  <a:lnTo>
                    <a:pt x="326"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7308720" y="488880"/>
              <a:ext cx="532080" cy="309960"/>
            </a:xfrm>
            <a:custGeom>
              <a:avLst/>
              <a:gdLst/>
              <a:ahLst/>
              <a:rect l="0" t="0" r="r" b="b"/>
              <a:pathLst>
                <a:path w="1478" h="861">
                  <a:moveTo>
                    <a:pt x="180" y="822"/>
                  </a:moveTo>
                  <a:lnTo>
                    <a:pt x="396" y="591"/>
                  </a:lnTo>
                  <a:lnTo>
                    <a:pt x="537" y="556"/>
                  </a:lnTo>
                  <a:lnTo>
                    <a:pt x="537" y="578"/>
                  </a:lnTo>
                  <a:lnTo>
                    <a:pt x="608" y="556"/>
                  </a:lnTo>
                  <a:lnTo>
                    <a:pt x="696" y="627"/>
                  </a:lnTo>
                  <a:lnTo>
                    <a:pt x="869" y="659"/>
                  </a:lnTo>
                  <a:lnTo>
                    <a:pt x="1015" y="861"/>
                  </a:lnTo>
                  <a:lnTo>
                    <a:pt x="1244" y="773"/>
                  </a:lnTo>
                  <a:lnTo>
                    <a:pt x="1244" y="681"/>
                  </a:lnTo>
                  <a:lnTo>
                    <a:pt x="1478" y="578"/>
                  </a:lnTo>
                  <a:lnTo>
                    <a:pt x="1407" y="415"/>
                  </a:lnTo>
                  <a:lnTo>
                    <a:pt x="1187" y="402"/>
                  </a:lnTo>
                  <a:lnTo>
                    <a:pt x="1222" y="225"/>
                  </a:lnTo>
                  <a:lnTo>
                    <a:pt x="1037" y="243"/>
                  </a:lnTo>
                  <a:lnTo>
                    <a:pt x="1002" y="123"/>
                  </a:lnTo>
                  <a:lnTo>
                    <a:pt x="869" y="123"/>
                  </a:lnTo>
                  <a:lnTo>
                    <a:pt x="781" y="189"/>
                  </a:lnTo>
                  <a:lnTo>
                    <a:pt x="696" y="189"/>
                  </a:lnTo>
                  <a:lnTo>
                    <a:pt x="714" y="0"/>
                  </a:lnTo>
                  <a:lnTo>
                    <a:pt x="537" y="88"/>
                  </a:lnTo>
                  <a:lnTo>
                    <a:pt x="291" y="402"/>
                  </a:lnTo>
                  <a:lnTo>
                    <a:pt x="277" y="189"/>
                  </a:lnTo>
                  <a:lnTo>
                    <a:pt x="145" y="292"/>
                  </a:lnTo>
                  <a:lnTo>
                    <a:pt x="114" y="556"/>
                  </a:lnTo>
                  <a:lnTo>
                    <a:pt x="0" y="508"/>
                  </a:lnTo>
                  <a:lnTo>
                    <a:pt x="17" y="681"/>
                  </a:lnTo>
                  <a:lnTo>
                    <a:pt x="180"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7451640" y="1655640"/>
              <a:ext cx="170280" cy="887760"/>
            </a:xfrm>
            <a:custGeom>
              <a:avLst/>
              <a:gdLst/>
              <a:ahLst/>
              <a:rect l="0" t="0" r="r" b="b"/>
              <a:pathLst>
                <a:path w="473" h="2466">
                  <a:moveTo>
                    <a:pt x="243" y="13"/>
                  </a:moveTo>
                  <a:lnTo>
                    <a:pt x="83" y="123"/>
                  </a:lnTo>
                  <a:lnTo>
                    <a:pt x="83" y="326"/>
                  </a:lnTo>
                  <a:lnTo>
                    <a:pt x="195" y="396"/>
                  </a:lnTo>
                  <a:lnTo>
                    <a:pt x="44" y="723"/>
                  </a:lnTo>
                  <a:lnTo>
                    <a:pt x="0" y="1155"/>
                  </a:lnTo>
                  <a:lnTo>
                    <a:pt x="120" y="1725"/>
                  </a:lnTo>
                  <a:lnTo>
                    <a:pt x="120" y="1967"/>
                  </a:lnTo>
                  <a:lnTo>
                    <a:pt x="57" y="2148"/>
                  </a:lnTo>
                  <a:lnTo>
                    <a:pt x="300" y="2466"/>
                  </a:lnTo>
                  <a:lnTo>
                    <a:pt x="456" y="1985"/>
                  </a:lnTo>
                  <a:lnTo>
                    <a:pt x="456" y="1659"/>
                  </a:lnTo>
                  <a:lnTo>
                    <a:pt x="340" y="1350"/>
                  </a:lnTo>
                  <a:lnTo>
                    <a:pt x="283" y="930"/>
                  </a:lnTo>
                  <a:lnTo>
                    <a:pt x="398" y="524"/>
                  </a:lnTo>
                  <a:lnTo>
                    <a:pt x="359" y="361"/>
                  </a:lnTo>
                  <a:lnTo>
                    <a:pt x="473" y="277"/>
                  </a:lnTo>
                  <a:lnTo>
                    <a:pt x="456" y="171"/>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445520" y="1357200"/>
              <a:ext cx="138600" cy="82800"/>
            </a:xfrm>
            <a:custGeom>
              <a:avLst/>
              <a:gdLst/>
              <a:ahLst/>
              <a:rect l="0" t="0" r="r" b="b"/>
              <a:pathLst>
                <a:path w="385" h="230">
                  <a:moveTo>
                    <a:pt x="0" y="70"/>
                  </a:moveTo>
                  <a:lnTo>
                    <a:pt x="155" y="230"/>
                  </a:lnTo>
                  <a:lnTo>
                    <a:pt x="306" y="208"/>
                  </a:lnTo>
                  <a:lnTo>
                    <a:pt x="385" y="22"/>
                  </a:lnTo>
                  <a:lnTo>
                    <a:pt x="212"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657" name=""/>
            <p:cNvSpPr/>
            <p:nvPr/>
          </p:nvSpPr>
          <p:spPr>
            <a:xfrm>
              <a:off x="7296120" y="949320"/>
              <a:ext cx="170280" cy="173520"/>
            </a:xfrm>
            <a:custGeom>
              <a:avLst/>
              <a:gdLst/>
              <a:ahLst/>
              <a:rect l="0" t="0" r="r" b="b"/>
              <a:pathLst>
                <a:path w="473" h="482">
                  <a:moveTo>
                    <a:pt x="0" y="52"/>
                  </a:moveTo>
                  <a:lnTo>
                    <a:pt x="327" y="482"/>
                  </a:lnTo>
                  <a:lnTo>
                    <a:pt x="473" y="447"/>
                  </a:lnTo>
                  <a:lnTo>
                    <a:pt x="128"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7596360" y="911160"/>
              <a:ext cx="146520" cy="173520"/>
            </a:xfrm>
            <a:custGeom>
              <a:avLst/>
              <a:gdLst/>
              <a:ahLst/>
              <a:rect l="0" t="0" r="r" b="b"/>
              <a:pathLst>
                <a:path w="407" h="482">
                  <a:moveTo>
                    <a:pt x="0" y="70"/>
                  </a:moveTo>
                  <a:lnTo>
                    <a:pt x="283" y="482"/>
                  </a:lnTo>
                  <a:lnTo>
                    <a:pt x="407"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7232760" y="687240"/>
              <a:ext cx="595800" cy="435240"/>
            </a:xfrm>
            <a:custGeom>
              <a:avLst/>
              <a:gdLst/>
              <a:ahLst/>
              <a:rect l="0" t="0" r="r" b="b"/>
              <a:pathLst>
                <a:path w="1655" h="1209">
                  <a:moveTo>
                    <a:pt x="759" y="719"/>
                  </a:moveTo>
                  <a:lnTo>
                    <a:pt x="609" y="675"/>
                  </a:lnTo>
                  <a:lnTo>
                    <a:pt x="737" y="564"/>
                  </a:lnTo>
                  <a:lnTo>
                    <a:pt x="693" y="507"/>
                  </a:lnTo>
                  <a:lnTo>
                    <a:pt x="521" y="649"/>
                  </a:lnTo>
                  <a:lnTo>
                    <a:pt x="207" y="684"/>
                  </a:lnTo>
                  <a:lnTo>
                    <a:pt x="0" y="693"/>
                  </a:lnTo>
                  <a:lnTo>
                    <a:pt x="0" y="860"/>
                  </a:lnTo>
                  <a:lnTo>
                    <a:pt x="198" y="1200"/>
                  </a:lnTo>
                  <a:lnTo>
                    <a:pt x="246" y="1209"/>
                  </a:lnTo>
                  <a:lnTo>
                    <a:pt x="70" y="834"/>
                  </a:lnTo>
                  <a:lnTo>
                    <a:pt x="343" y="719"/>
                  </a:lnTo>
                  <a:lnTo>
                    <a:pt x="521" y="719"/>
                  </a:lnTo>
                  <a:lnTo>
                    <a:pt x="658" y="790"/>
                  </a:lnTo>
                  <a:lnTo>
                    <a:pt x="693" y="896"/>
                  </a:lnTo>
                  <a:lnTo>
                    <a:pt x="693" y="1125"/>
                  </a:lnTo>
                  <a:lnTo>
                    <a:pt x="693" y="1200"/>
                  </a:lnTo>
                  <a:lnTo>
                    <a:pt x="768" y="1090"/>
                  </a:lnTo>
                  <a:lnTo>
                    <a:pt x="768" y="852"/>
                  </a:lnTo>
                  <a:lnTo>
                    <a:pt x="887" y="852"/>
                  </a:lnTo>
                  <a:lnTo>
                    <a:pt x="944" y="1125"/>
                  </a:lnTo>
                  <a:lnTo>
                    <a:pt x="1006" y="1151"/>
                  </a:lnTo>
                  <a:lnTo>
                    <a:pt x="1209" y="1151"/>
                  </a:lnTo>
                  <a:lnTo>
                    <a:pt x="1413" y="1099"/>
                  </a:lnTo>
                  <a:lnTo>
                    <a:pt x="1554" y="997"/>
                  </a:lnTo>
                  <a:lnTo>
                    <a:pt x="1576" y="750"/>
                  </a:lnTo>
                  <a:lnTo>
                    <a:pt x="1655" y="649"/>
                  </a:lnTo>
                  <a:lnTo>
                    <a:pt x="1607" y="582"/>
                  </a:lnTo>
                  <a:lnTo>
                    <a:pt x="1426" y="515"/>
                  </a:lnTo>
                  <a:lnTo>
                    <a:pt x="1395" y="268"/>
                  </a:lnTo>
                  <a:lnTo>
                    <a:pt x="1222" y="268"/>
                  </a:lnTo>
                  <a:lnTo>
                    <a:pt x="1015" y="0"/>
                  </a:lnTo>
                  <a:lnTo>
                    <a:pt x="1204" y="299"/>
                  </a:lnTo>
                  <a:lnTo>
                    <a:pt x="1263" y="299"/>
                  </a:lnTo>
                  <a:lnTo>
                    <a:pt x="1302" y="507"/>
                  </a:lnTo>
                  <a:lnTo>
                    <a:pt x="1068" y="582"/>
                  </a:lnTo>
                  <a:lnTo>
                    <a:pt x="900" y="524"/>
                  </a:lnTo>
                  <a:lnTo>
                    <a:pt x="874" y="582"/>
                  </a:lnTo>
                  <a:lnTo>
                    <a:pt x="966" y="649"/>
                  </a:lnTo>
                  <a:lnTo>
                    <a:pt x="966" y="706"/>
                  </a:lnTo>
                  <a:lnTo>
                    <a:pt x="1165" y="613"/>
                  </a:lnTo>
                  <a:lnTo>
                    <a:pt x="1329" y="599"/>
                  </a:lnTo>
                  <a:lnTo>
                    <a:pt x="1518" y="622"/>
                  </a:lnTo>
                  <a:lnTo>
                    <a:pt x="1518" y="658"/>
                  </a:lnTo>
                  <a:lnTo>
                    <a:pt x="1430" y="741"/>
                  </a:lnTo>
                  <a:lnTo>
                    <a:pt x="1395" y="852"/>
                  </a:lnTo>
                  <a:lnTo>
                    <a:pt x="1386" y="997"/>
                  </a:lnTo>
                  <a:lnTo>
                    <a:pt x="1276" y="1054"/>
                  </a:lnTo>
                  <a:lnTo>
                    <a:pt x="1116" y="1076"/>
                  </a:lnTo>
                  <a:lnTo>
                    <a:pt x="1006" y="1076"/>
                  </a:lnTo>
                  <a:lnTo>
                    <a:pt x="966" y="1032"/>
                  </a:lnTo>
                  <a:lnTo>
                    <a:pt x="944" y="750"/>
                  </a:lnTo>
                  <a:lnTo>
                    <a:pt x="768" y="750"/>
                  </a:lnTo>
                  <a:lnTo>
                    <a:pt x="759"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7437600" y="1189080"/>
              <a:ext cx="192600" cy="87840"/>
            </a:xfrm>
            <a:custGeom>
              <a:avLst/>
              <a:gdLst/>
              <a:ahLst/>
              <a:rect l="0" t="0" r="r" b="b"/>
              <a:pathLst>
                <a:path w="535" h="244">
                  <a:moveTo>
                    <a:pt x="0" y="0"/>
                  </a:moveTo>
                  <a:lnTo>
                    <a:pt x="88" y="111"/>
                  </a:lnTo>
                  <a:lnTo>
                    <a:pt x="318" y="111"/>
                  </a:lnTo>
                  <a:lnTo>
                    <a:pt x="412" y="35"/>
                  </a:lnTo>
                  <a:lnTo>
                    <a:pt x="535" y="35"/>
                  </a:lnTo>
                  <a:lnTo>
                    <a:pt x="513" y="71"/>
                  </a:lnTo>
                  <a:lnTo>
                    <a:pt x="513" y="111"/>
                  </a:lnTo>
                  <a:lnTo>
                    <a:pt x="296" y="244"/>
                  </a:lnTo>
                  <a:lnTo>
                    <a:pt x="177"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61" name=""/>
            <p:cNvSpPr/>
            <p:nvPr/>
          </p:nvSpPr>
          <p:spPr>
            <a:xfrm>
              <a:off x="7223040" y="1046160"/>
              <a:ext cx="292320" cy="466920"/>
            </a:xfrm>
            <a:custGeom>
              <a:avLst/>
              <a:gdLst/>
              <a:ahLst/>
              <a:rect l="0" t="0" r="r" b="b"/>
              <a:pathLst>
                <a:path w="812" h="1297">
                  <a:moveTo>
                    <a:pt x="812" y="92"/>
                  </a:moveTo>
                  <a:lnTo>
                    <a:pt x="812" y="114"/>
                  </a:lnTo>
                  <a:lnTo>
                    <a:pt x="666" y="242"/>
                  </a:lnTo>
                  <a:lnTo>
                    <a:pt x="552" y="268"/>
                  </a:lnTo>
                  <a:lnTo>
                    <a:pt x="321" y="233"/>
                  </a:lnTo>
                  <a:lnTo>
                    <a:pt x="366" y="702"/>
                  </a:lnTo>
                  <a:lnTo>
                    <a:pt x="419" y="1085"/>
                  </a:lnTo>
                  <a:lnTo>
                    <a:pt x="516" y="1297"/>
                  </a:lnTo>
                  <a:lnTo>
                    <a:pt x="419" y="1147"/>
                  </a:lnTo>
                  <a:lnTo>
                    <a:pt x="379" y="984"/>
                  </a:lnTo>
                  <a:lnTo>
                    <a:pt x="313" y="546"/>
                  </a:lnTo>
                  <a:lnTo>
                    <a:pt x="246" y="573"/>
                  </a:lnTo>
                  <a:lnTo>
                    <a:pt x="171" y="524"/>
                  </a:lnTo>
                  <a:lnTo>
                    <a:pt x="17" y="295"/>
                  </a:lnTo>
                  <a:lnTo>
                    <a:pt x="0" y="167"/>
                  </a:lnTo>
                  <a:lnTo>
                    <a:pt x="0" y="79"/>
                  </a:lnTo>
                  <a:lnTo>
                    <a:pt x="35" y="26"/>
                  </a:lnTo>
                  <a:lnTo>
                    <a:pt x="127" y="0"/>
                  </a:lnTo>
                  <a:lnTo>
                    <a:pt x="141" y="35"/>
                  </a:lnTo>
                  <a:lnTo>
                    <a:pt x="66" y="57"/>
                  </a:lnTo>
                  <a:lnTo>
                    <a:pt x="48" y="154"/>
                  </a:lnTo>
                  <a:lnTo>
                    <a:pt x="57" y="277"/>
                  </a:lnTo>
                  <a:lnTo>
                    <a:pt x="163" y="388"/>
                  </a:lnTo>
                  <a:lnTo>
                    <a:pt x="207" y="361"/>
                  </a:lnTo>
                  <a:lnTo>
                    <a:pt x="207" y="127"/>
                  </a:lnTo>
                  <a:lnTo>
                    <a:pt x="304" y="176"/>
                  </a:lnTo>
                  <a:lnTo>
                    <a:pt x="455" y="211"/>
                  </a:lnTo>
                  <a:lnTo>
                    <a:pt x="591" y="198"/>
                  </a:lnTo>
                  <a:lnTo>
                    <a:pt x="719" y="127"/>
                  </a:lnTo>
                  <a:lnTo>
                    <a:pt x="81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7302600" y="676440"/>
              <a:ext cx="87840" cy="248040"/>
            </a:xfrm>
            <a:custGeom>
              <a:avLst/>
              <a:gdLst/>
              <a:ahLst/>
              <a:rect l="0" t="0" r="r" b="b"/>
              <a:pathLst>
                <a:path w="244" h="689">
                  <a:moveTo>
                    <a:pt x="124" y="689"/>
                  </a:moveTo>
                  <a:lnTo>
                    <a:pt x="244" y="283"/>
                  </a:lnTo>
                  <a:lnTo>
                    <a:pt x="30" y="136"/>
                  </a:lnTo>
                  <a:lnTo>
                    <a:pt x="0" y="0"/>
                  </a:lnTo>
                  <a:lnTo>
                    <a:pt x="17" y="167"/>
                  </a:lnTo>
                  <a:lnTo>
                    <a:pt x="89" y="234"/>
                  </a:lnTo>
                  <a:lnTo>
                    <a:pt x="98"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p:nvPr/>
          </p:nvSpPr>
          <p:spPr>
            <a:xfrm>
              <a:off x="7299360" y="457200"/>
              <a:ext cx="652680" cy="329040"/>
            </a:xfrm>
            <a:custGeom>
              <a:avLst/>
              <a:gdLst/>
              <a:ahLst/>
              <a:rect l="0" t="0" r="r" b="b"/>
              <a:pathLst>
                <a:path w="1813" h="914">
                  <a:moveTo>
                    <a:pt x="17" y="618"/>
                  </a:moveTo>
                  <a:lnTo>
                    <a:pt x="171" y="711"/>
                  </a:lnTo>
                  <a:lnTo>
                    <a:pt x="154" y="596"/>
                  </a:lnTo>
                  <a:lnTo>
                    <a:pt x="185" y="389"/>
                  </a:lnTo>
                  <a:lnTo>
                    <a:pt x="291" y="344"/>
                  </a:lnTo>
                  <a:lnTo>
                    <a:pt x="304" y="565"/>
                  </a:lnTo>
                  <a:lnTo>
                    <a:pt x="608" y="176"/>
                  </a:lnTo>
                  <a:lnTo>
                    <a:pt x="679" y="149"/>
                  </a:lnTo>
                  <a:lnTo>
                    <a:pt x="626" y="305"/>
                  </a:lnTo>
                  <a:lnTo>
                    <a:pt x="815" y="380"/>
                  </a:lnTo>
                  <a:lnTo>
                    <a:pt x="953" y="224"/>
                  </a:lnTo>
                  <a:lnTo>
                    <a:pt x="1028" y="269"/>
                  </a:lnTo>
                  <a:lnTo>
                    <a:pt x="962" y="402"/>
                  </a:lnTo>
                  <a:lnTo>
                    <a:pt x="1054" y="331"/>
                  </a:lnTo>
                  <a:lnTo>
                    <a:pt x="1187" y="389"/>
                  </a:lnTo>
                  <a:lnTo>
                    <a:pt x="1081" y="494"/>
                  </a:lnTo>
                  <a:lnTo>
                    <a:pt x="1451" y="565"/>
                  </a:lnTo>
                  <a:lnTo>
                    <a:pt x="1200" y="644"/>
                  </a:lnTo>
                  <a:lnTo>
                    <a:pt x="1513" y="689"/>
                  </a:lnTo>
                  <a:lnTo>
                    <a:pt x="1147" y="778"/>
                  </a:lnTo>
                  <a:lnTo>
                    <a:pt x="1222" y="844"/>
                  </a:lnTo>
                  <a:lnTo>
                    <a:pt x="1116" y="914"/>
                  </a:lnTo>
                  <a:lnTo>
                    <a:pt x="1306" y="914"/>
                  </a:lnTo>
                  <a:lnTo>
                    <a:pt x="1288" y="861"/>
                  </a:lnTo>
                  <a:lnTo>
                    <a:pt x="1482" y="910"/>
                  </a:lnTo>
                  <a:lnTo>
                    <a:pt x="1451" y="760"/>
                  </a:lnTo>
                  <a:lnTo>
                    <a:pt x="1637" y="698"/>
                  </a:lnTo>
                  <a:lnTo>
                    <a:pt x="1504" y="627"/>
                  </a:lnTo>
                  <a:lnTo>
                    <a:pt x="1813" y="609"/>
                  </a:lnTo>
                  <a:lnTo>
                    <a:pt x="1548" y="464"/>
                  </a:lnTo>
                  <a:lnTo>
                    <a:pt x="1244" y="428"/>
                  </a:lnTo>
                  <a:lnTo>
                    <a:pt x="1482" y="278"/>
                  </a:lnTo>
                  <a:lnTo>
                    <a:pt x="1054" y="278"/>
                  </a:lnTo>
                  <a:lnTo>
                    <a:pt x="1257" y="136"/>
                  </a:lnTo>
                  <a:lnTo>
                    <a:pt x="944" y="176"/>
                  </a:lnTo>
                  <a:lnTo>
                    <a:pt x="798" y="247"/>
                  </a:lnTo>
                  <a:lnTo>
                    <a:pt x="922" y="0"/>
                  </a:lnTo>
                  <a:lnTo>
                    <a:pt x="546" y="136"/>
                  </a:lnTo>
                  <a:lnTo>
                    <a:pt x="339" y="437"/>
                  </a:lnTo>
                  <a:lnTo>
                    <a:pt x="304" y="269"/>
                  </a:lnTo>
                  <a:lnTo>
                    <a:pt x="132"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4" name=""/>
            <p:cNvSpPr/>
            <p:nvPr/>
          </p:nvSpPr>
          <p:spPr>
            <a:xfrm>
              <a:off x="7440480" y="631800"/>
              <a:ext cx="184680" cy="98640"/>
            </a:xfrm>
            <a:custGeom>
              <a:avLst/>
              <a:gdLst/>
              <a:ahLst/>
              <a:rect l="0" t="0" r="r" b="b"/>
              <a:pathLst>
                <a:path w="513" h="274">
                  <a:moveTo>
                    <a:pt x="0" y="274"/>
                  </a:moveTo>
                  <a:lnTo>
                    <a:pt x="190" y="0"/>
                  </a:lnTo>
                  <a:lnTo>
                    <a:pt x="190" y="181"/>
                  </a:lnTo>
                  <a:lnTo>
                    <a:pt x="261" y="105"/>
                  </a:lnTo>
                  <a:lnTo>
                    <a:pt x="322" y="212"/>
                  </a:lnTo>
                  <a:lnTo>
                    <a:pt x="513" y="261"/>
                  </a:lnTo>
                  <a:lnTo>
                    <a:pt x="309" y="225"/>
                  </a:lnTo>
                  <a:lnTo>
                    <a:pt x="247" y="155"/>
                  </a:lnTo>
                  <a:lnTo>
                    <a:pt x="159" y="225"/>
                  </a:lnTo>
                  <a:lnTo>
                    <a:pt x="159"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665" name=""/>
            <p:cNvSpPr/>
            <p:nvPr/>
          </p:nvSpPr>
          <p:spPr>
            <a:xfrm>
              <a:off x="7423200" y="1303200"/>
              <a:ext cx="222480" cy="146520"/>
            </a:xfrm>
            <a:custGeom>
              <a:avLst/>
              <a:gdLst/>
              <a:ahLst/>
              <a:rect l="0" t="0" r="r" b="b"/>
              <a:pathLst>
                <a:path w="618" h="407">
                  <a:moveTo>
                    <a:pt x="119" y="142"/>
                  </a:moveTo>
                  <a:lnTo>
                    <a:pt x="371" y="124"/>
                  </a:lnTo>
                  <a:lnTo>
                    <a:pt x="490" y="150"/>
                  </a:lnTo>
                  <a:lnTo>
                    <a:pt x="552" y="92"/>
                  </a:lnTo>
                  <a:lnTo>
                    <a:pt x="618" y="225"/>
                  </a:lnTo>
                  <a:lnTo>
                    <a:pt x="574" y="247"/>
                  </a:lnTo>
                  <a:lnTo>
                    <a:pt x="521" y="199"/>
                  </a:lnTo>
                  <a:lnTo>
                    <a:pt x="441" y="292"/>
                  </a:lnTo>
                  <a:lnTo>
                    <a:pt x="286" y="407"/>
                  </a:lnTo>
                  <a:lnTo>
                    <a:pt x="216" y="407"/>
                  </a:lnTo>
                  <a:lnTo>
                    <a:pt x="119" y="350"/>
                  </a:lnTo>
                  <a:lnTo>
                    <a:pt x="229" y="398"/>
                  </a:lnTo>
                  <a:lnTo>
                    <a:pt x="273" y="398"/>
                  </a:lnTo>
                  <a:lnTo>
                    <a:pt x="371" y="323"/>
                  </a:lnTo>
                  <a:lnTo>
                    <a:pt x="437" y="186"/>
                  </a:lnTo>
                  <a:lnTo>
                    <a:pt x="336" y="168"/>
                  </a:lnTo>
                  <a:lnTo>
                    <a:pt x="268" y="150"/>
                  </a:lnTo>
                  <a:lnTo>
                    <a:pt x="105" y="177"/>
                  </a:lnTo>
                  <a:lnTo>
                    <a:pt x="101" y="283"/>
                  </a:lnTo>
                  <a:lnTo>
                    <a:pt x="48" y="217"/>
                  </a:lnTo>
                  <a:lnTo>
                    <a:pt x="0" y="310"/>
                  </a:lnTo>
                  <a:lnTo>
                    <a:pt x="4" y="106"/>
                  </a:lnTo>
                  <a:lnTo>
                    <a:pt x="66" y="0"/>
                  </a:lnTo>
                  <a:lnTo>
                    <a:pt x="119" y="106"/>
                  </a:lnTo>
                  <a:lnTo>
                    <a:pt x="119"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p:nvPr/>
          </p:nvSpPr>
          <p:spPr>
            <a:xfrm>
              <a:off x="7396200" y="984240"/>
              <a:ext cx="475200" cy="679680"/>
            </a:xfrm>
            <a:custGeom>
              <a:avLst/>
              <a:gdLst/>
              <a:ahLst/>
              <a:rect l="0" t="0" r="r" b="b"/>
              <a:pathLst>
                <a:path w="1320" h="1888">
                  <a:moveTo>
                    <a:pt x="1113" y="0"/>
                  </a:moveTo>
                  <a:lnTo>
                    <a:pt x="1241" y="0"/>
                  </a:lnTo>
                  <a:lnTo>
                    <a:pt x="1320" y="92"/>
                  </a:lnTo>
                  <a:lnTo>
                    <a:pt x="1320" y="194"/>
                  </a:lnTo>
                  <a:lnTo>
                    <a:pt x="1210" y="489"/>
                  </a:lnTo>
                  <a:lnTo>
                    <a:pt x="1104" y="630"/>
                  </a:lnTo>
                  <a:lnTo>
                    <a:pt x="988" y="652"/>
                  </a:lnTo>
                  <a:lnTo>
                    <a:pt x="957" y="652"/>
                  </a:lnTo>
                  <a:lnTo>
                    <a:pt x="957" y="1024"/>
                  </a:lnTo>
                  <a:lnTo>
                    <a:pt x="1011" y="1293"/>
                  </a:lnTo>
                  <a:lnTo>
                    <a:pt x="1011" y="1513"/>
                  </a:lnTo>
                  <a:lnTo>
                    <a:pt x="812" y="1734"/>
                  </a:lnTo>
                  <a:lnTo>
                    <a:pt x="538" y="1888"/>
                  </a:lnTo>
                  <a:lnTo>
                    <a:pt x="367" y="1888"/>
                  </a:lnTo>
                  <a:lnTo>
                    <a:pt x="277" y="1844"/>
                  </a:lnTo>
                  <a:lnTo>
                    <a:pt x="154" y="1584"/>
                  </a:lnTo>
                  <a:lnTo>
                    <a:pt x="44" y="1491"/>
                  </a:lnTo>
                  <a:lnTo>
                    <a:pt x="0" y="1420"/>
                  </a:lnTo>
                  <a:lnTo>
                    <a:pt x="145" y="1513"/>
                  </a:lnTo>
                  <a:lnTo>
                    <a:pt x="255" y="1610"/>
                  </a:lnTo>
                  <a:lnTo>
                    <a:pt x="464" y="1623"/>
                  </a:lnTo>
                  <a:lnTo>
                    <a:pt x="658" y="1531"/>
                  </a:lnTo>
                  <a:lnTo>
                    <a:pt x="755" y="1420"/>
                  </a:lnTo>
                  <a:lnTo>
                    <a:pt x="865" y="1231"/>
                  </a:lnTo>
                  <a:lnTo>
                    <a:pt x="882" y="1006"/>
                  </a:lnTo>
                  <a:lnTo>
                    <a:pt x="922" y="277"/>
                  </a:lnTo>
                  <a:lnTo>
                    <a:pt x="966" y="383"/>
                  </a:lnTo>
                  <a:lnTo>
                    <a:pt x="1100" y="251"/>
                  </a:lnTo>
                  <a:lnTo>
                    <a:pt x="1232" y="194"/>
                  </a:lnTo>
                  <a:lnTo>
                    <a:pt x="1267" y="119"/>
                  </a:lnTo>
                  <a:lnTo>
                    <a:pt x="1249" y="44"/>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6659640" y="1569960"/>
              <a:ext cx="383040" cy="627480"/>
            </a:xfrm>
            <a:custGeom>
              <a:avLst/>
              <a:gdLst/>
              <a:ahLst/>
              <a:rect l="0" t="0" r="r" b="b"/>
              <a:pathLst>
                <a:path w="1064" h="1743">
                  <a:moveTo>
                    <a:pt x="132" y="0"/>
                  </a:moveTo>
                  <a:lnTo>
                    <a:pt x="255" y="79"/>
                  </a:lnTo>
                  <a:lnTo>
                    <a:pt x="349" y="437"/>
                  </a:lnTo>
                  <a:lnTo>
                    <a:pt x="622" y="512"/>
                  </a:lnTo>
                  <a:lnTo>
                    <a:pt x="697" y="609"/>
                  </a:lnTo>
                  <a:lnTo>
                    <a:pt x="710" y="737"/>
                  </a:lnTo>
                  <a:lnTo>
                    <a:pt x="848" y="719"/>
                  </a:lnTo>
                  <a:lnTo>
                    <a:pt x="1011" y="834"/>
                  </a:lnTo>
                  <a:lnTo>
                    <a:pt x="1064" y="975"/>
                  </a:lnTo>
                  <a:lnTo>
                    <a:pt x="1064" y="1218"/>
                  </a:lnTo>
                  <a:lnTo>
                    <a:pt x="848" y="1593"/>
                  </a:lnTo>
                  <a:lnTo>
                    <a:pt x="772" y="1743"/>
                  </a:lnTo>
                  <a:lnTo>
                    <a:pt x="813" y="1540"/>
                  </a:lnTo>
                  <a:lnTo>
                    <a:pt x="772" y="1466"/>
                  </a:lnTo>
                  <a:lnTo>
                    <a:pt x="644" y="1338"/>
                  </a:lnTo>
                  <a:lnTo>
                    <a:pt x="433" y="1182"/>
                  </a:lnTo>
                  <a:lnTo>
                    <a:pt x="684" y="1271"/>
                  </a:lnTo>
                  <a:lnTo>
                    <a:pt x="835" y="1386"/>
                  </a:lnTo>
                  <a:lnTo>
                    <a:pt x="910" y="1373"/>
                  </a:lnTo>
                  <a:lnTo>
                    <a:pt x="954" y="1306"/>
                  </a:lnTo>
                  <a:lnTo>
                    <a:pt x="1011" y="1129"/>
                  </a:lnTo>
                  <a:lnTo>
                    <a:pt x="994" y="957"/>
                  </a:lnTo>
                  <a:lnTo>
                    <a:pt x="919" y="860"/>
                  </a:lnTo>
                  <a:lnTo>
                    <a:pt x="785" y="834"/>
                  </a:lnTo>
                  <a:lnTo>
                    <a:pt x="644" y="834"/>
                  </a:lnTo>
                  <a:lnTo>
                    <a:pt x="596" y="574"/>
                  </a:lnTo>
                  <a:lnTo>
                    <a:pt x="362" y="486"/>
                  </a:lnTo>
                  <a:lnTo>
                    <a:pt x="362" y="556"/>
                  </a:lnTo>
                  <a:lnTo>
                    <a:pt x="255" y="370"/>
                  </a:lnTo>
                  <a:lnTo>
                    <a:pt x="194" y="79"/>
                  </a:lnTo>
                  <a:lnTo>
                    <a:pt x="105" y="48"/>
                  </a:lnTo>
                  <a:lnTo>
                    <a:pt x="52" y="136"/>
                  </a:lnTo>
                  <a:lnTo>
                    <a:pt x="52" y="339"/>
                  </a:lnTo>
                  <a:lnTo>
                    <a:pt x="97" y="556"/>
                  </a:lnTo>
                  <a:lnTo>
                    <a:pt x="220" y="737"/>
                  </a:lnTo>
                  <a:lnTo>
                    <a:pt x="83" y="627"/>
                  </a:lnTo>
                  <a:lnTo>
                    <a:pt x="13" y="437"/>
                  </a:lnTo>
                  <a:lnTo>
                    <a:pt x="0" y="185"/>
                  </a:lnTo>
                  <a:lnTo>
                    <a:pt x="52" y="48"/>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6477120" y="1846440"/>
              <a:ext cx="252720" cy="501840"/>
            </a:xfrm>
            <a:custGeom>
              <a:avLst/>
              <a:gdLst/>
              <a:ahLst/>
              <a:rect l="0" t="0" r="r" b="b"/>
              <a:pathLst>
                <a:path w="702" h="1394">
                  <a:moveTo>
                    <a:pt x="702" y="0"/>
                  </a:moveTo>
                  <a:lnTo>
                    <a:pt x="556" y="92"/>
                  </a:lnTo>
                  <a:lnTo>
                    <a:pt x="384" y="432"/>
                  </a:lnTo>
                  <a:lnTo>
                    <a:pt x="220" y="648"/>
                  </a:lnTo>
                  <a:lnTo>
                    <a:pt x="17" y="913"/>
                  </a:lnTo>
                  <a:lnTo>
                    <a:pt x="0" y="1050"/>
                  </a:lnTo>
                  <a:lnTo>
                    <a:pt x="39" y="1173"/>
                  </a:lnTo>
                  <a:lnTo>
                    <a:pt x="136" y="1173"/>
                  </a:lnTo>
                  <a:lnTo>
                    <a:pt x="268" y="1050"/>
                  </a:lnTo>
                  <a:lnTo>
                    <a:pt x="371" y="803"/>
                  </a:lnTo>
                  <a:lnTo>
                    <a:pt x="516" y="648"/>
                  </a:lnTo>
                  <a:lnTo>
                    <a:pt x="516" y="852"/>
                  </a:lnTo>
                  <a:lnTo>
                    <a:pt x="494" y="1037"/>
                  </a:lnTo>
                  <a:lnTo>
                    <a:pt x="343" y="1279"/>
                  </a:lnTo>
                  <a:lnTo>
                    <a:pt x="343" y="1359"/>
                  </a:lnTo>
                  <a:lnTo>
                    <a:pt x="494" y="1394"/>
                  </a:lnTo>
                  <a:lnTo>
                    <a:pt x="384" y="1323"/>
                  </a:lnTo>
                  <a:lnTo>
                    <a:pt x="402" y="1279"/>
                  </a:lnTo>
                  <a:lnTo>
                    <a:pt x="508" y="1099"/>
                  </a:lnTo>
                  <a:lnTo>
                    <a:pt x="583" y="772"/>
                  </a:lnTo>
                  <a:lnTo>
                    <a:pt x="530" y="586"/>
                  </a:lnTo>
                  <a:lnTo>
                    <a:pt x="415" y="692"/>
                  </a:lnTo>
                  <a:lnTo>
                    <a:pt x="163" y="1112"/>
                  </a:lnTo>
                  <a:lnTo>
                    <a:pt x="101" y="1125"/>
                  </a:lnTo>
                  <a:lnTo>
                    <a:pt x="39" y="1081"/>
                  </a:lnTo>
                  <a:lnTo>
                    <a:pt x="39" y="953"/>
                  </a:lnTo>
                  <a:lnTo>
                    <a:pt x="136" y="785"/>
                  </a:lnTo>
                  <a:lnTo>
                    <a:pt x="415" y="449"/>
                  </a:lnTo>
                  <a:lnTo>
                    <a:pt x="583" y="127"/>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664320" y="2130480"/>
              <a:ext cx="157680" cy="241560"/>
            </a:xfrm>
            <a:custGeom>
              <a:avLst/>
              <a:gdLst/>
              <a:ahLst/>
              <a:rect l="0" t="0" r="r" b="b"/>
              <a:pathLst>
                <a:path w="438" h="671">
                  <a:moveTo>
                    <a:pt x="0" y="591"/>
                  </a:moveTo>
                  <a:lnTo>
                    <a:pt x="146" y="419"/>
                  </a:lnTo>
                  <a:lnTo>
                    <a:pt x="172" y="251"/>
                  </a:lnTo>
                  <a:lnTo>
                    <a:pt x="337" y="0"/>
                  </a:lnTo>
                  <a:lnTo>
                    <a:pt x="372" y="167"/>
                  </a:lnTo>
                  <a:lnTo>
                    <a:pt x="350" y="605"/>
                  </a:lnTo>
                  <a:lnTo>
                    <a:pt x="438" y="671"/>
                  </a:lnTo>
                  <a:lnTo>
                    <a:pt x="309" y="622"/>
                  </a:lnTo>
                  <a:lnTo>
                    <a:pt x="243" y="371"/>
                  </a:lnTo>
                  <a:lnTo>
                    <a:pt x="146"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6856560" y="2141640"/>
              <a:ext cx="103680" cy="217800"/>
            </a:xfrm>
            <a:custGeom>
              <a:avLst/>
              <a:gdLst/>
              <a:ahLst/>
              <a:rect l="0" t="0" r="r" b="b"/>
              <a:pathLst>
                <a:path w="288" h="605">
                  <a:moveTo>
                    <a:pt x="0" y="450"/>
                  </a:moveTo>
                  <a:lnTo>
                    <a:pt x="13" y="229"/>
                  </a:lnTo>
                  <a:lnTo>
                    <a:pt x="75" y="97"/>
                  </a:lnTo>
                  <a:lnTo>
                    <a:pt x="142" y="574"/>
                  </a:lnTo>
                  <a:lnTo>
                    <a:pt x="226" y="574"/>
                  </a:lnTo>
                  <a:lnTo>
                    <a:pt x="266" y="70"/>
                  </a:lnTo>
                  <a:lnTo>
                    <a:pt x="288" y="0"/>
                  </a:lnTo>
                  <a:lnTo>
                    <a:pt x="266" y="393"/>
                  </a:lnTo>
                  <a:lnTo>
                    <a:pt x="226" y="605"/>
                  </a:lnTo>
                  <a:lnTo>
                    <a:pt x="115"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8174160" y="1290600"/>
              <a:ext cx="249480" cy="578160"/>
            </a:xfrm>
            <a:custGeom>
              <a:avLst/>
              <a:gdLst/>
              <a:ahLst/>
              <a:rect l="0" t="0" r="r" b="b"/>
              <a:pathLst>
                <a:path w="693" h="1606">
                  <a:moveTo>
                    <a:pt x="180" y="869"/>
                  </a:moveTo>
                  <a:lnTo>
                    <a:pt x="233" y="617"/>
                  </a:lnTo>
                  <a:lnTo>
                    <a:pt x="468" y="551"/>
                  </a:lnTo>
                  <a:lnTo>
                    <a:pt x="693" y="0"/>
                  </a:lnTo>
                  <a:lnTo>
                    <a:pt x="693" y="163"/>
                  </a:lnTo>
                  <a:lnTo>
                    <a:pt x="503" y="586"/>
                  </a:lnTo>
                  <a:lnTo>
                    <a:pt x="255" y="665"/>
                  </a:lnTo>
                  <a:lnTo>
                    <a:pt x="220" y="869"/>
                  </a:lnTo>
                  <a:lnTo>
                    <a:pt x="308" y="869"/>
                  </a:lnTo>
                  <a:lnTo>
                    <a:pt x="92" y="957"/>
                  </a:lnTo>
                  <a:lnTo>
                    <a:pt x="39" y="1129"/>
                  </a:lnTo>
                  <a:lnTo>
                    <a:pt x="52" y="1350"/>
                  </a:lnTo>
                  <a:lnTo>
                    <a:pt x="282" y="1606"/>
                  </a:lnTo>
                  <a:lnTo>
                    <a:pt x="39" y="1381"/>
                  </a:lnTo>
                  <a:lnTo>
                    <a:pt x="0" y="1196"/>
                  </a:lnTo>
                  <a:lnTo>
                    <a:pt x="17" y="1010"/>
                  </a:lnTo>
                  <a:lnTo>
                    <a:pt x="105" y="878"/>
                  </a:lnTo>
                  <a:lnTo>
                    <a:pt x="180"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8342280" y="1290600"/>
              <a:ext cx="419400" cy="560880"/>
            </a:xfrm>
            <a:custGeom>
              <a:avLst/>
              <a:gdLst/>
              <a:ahLst/>
              <a:rect l="0" t="0" r="r" b="b"/>
              <a:pathLst>
                <a:path w="1165" h="1558">
                  <a:moveTo>
                    <a:pt x="321" y="0"/>
                  </a:moveTo>
                  <a:lnTo>
                    <a:pt x="392" y="48"/>
                  </a:lnTo>
                  <a:lnTo>
                    <a:pt x="414" y="180"/>
                  </a:lnTo>
                  <a:lnTo>
                    <a:pt x="414" y="304"/>
                  </a:lnTo>
                  <a:lnTo>
                    <a:pt x="282" y="530"/>
                  </a:lnTo>
                  <a:lnTo>
                    <a:pt x="308" y="697"/>
                  </a:lnTo>
                  <a:lnTo>
                    <a:pt x="702" y="878"/>
                  </a:lnTo>
                  <a:lnTo>
                    <a:pt x="1156" y="1369"/>
                  </a:lnTo>
                  <a:lnTo>
                    <a:pt x="1165" y="1501"/>
                  </a:lnTo>
                  <a:lnTo>
                    <a:pt x="1138" y="1558"/>
                  </a:lnTo>
                  <a:lnTo>
                    <a:pt x="971" y="1558"/>
                  </a:lnTo>
                  <a:lnTo>
                    <a:pt x="816" y="1466"/>
                  </a:lnTo>
                  <a:lnTo>
                    <a:pt x="693" y="1302"/>
                  </a:lnTo>
                  <a:lnTo>
                    <a:pt x="622" y="1210"/>
                  </a:lnTo>
                  <a:lnTo>
                    <a:pt x="537" y="1197"/>
                  </a:lnTo>
                  <a:lnTo>
                    <a:pt x="640" y="1197"/>
                  </a:lnTo>
                  <a:lnTo>
                    <a:pt x="830" y="1448"/>
                  </a:lnTo>
                  <a:lnTo>
                    <a:pt x="1072" y="1523"/>
                  </a:lnTo>
                  <a:lnTo>
                    <a:pt x="1125" y="1448"/>
                  </a:lnTo>
                  <a:lnTo>
                    <a:pt x="1099" y="1333"/>
                  </a:lnTo>
                  <a:lnTo>
                    <a:pt x="675" y="979"/>
                  </a:lnTo>
                  <a:lnTo>
                    <a:pt x="613" y="878"/>
                  </a:lnTo>
                  <a:lnTo>
                    <a:pt x="282" y="790"/>
                  </a:lnTo>
                  <a:lnTo>
                    <a:pt x="224" y="878"/>
                  </a:lnTo>
                  <a:lnTo>
                    <a:pt x="0" y="1024"/>
                  </a:lnTo>
                  <a:lnTo>
                    <a:pt x="211" y="852"/>
                  </a:lnTo>
                  <a:lnTo>
                    <a:pt x="224" y="746"/>
                  </a:lnTo>
                  <a:lnTo>
                    <a:pt x="224" y="494"/>
                  </a:lnTo>
                  <a:lnTo>
                    <a:pt x="374" y="304"/>
                  </a:lnTo>
                  <a:lnTo>
                    <a:pt x="374" y="61"/>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8265960" y="1731960"/>
              <a:ext cx="356040" cy="332280"/>
            </a:xfrm>
            <a:custGeom>
              <a:avLst/>
              <a:gdLst/>
              <a:ahLst/>
              <a:rect l="0" t="0" r="r" b="b"/>
              <a:pathLst>
                <a:path w="989" h="923">
                  <a:moveTo>
                    <a:pt x="741" y="0"/>
                  </a:moveTo>
                  <a:lnTo>
                    <a:pt x="715" y="79"/>
                  </a:lnTo>
                  <a:lnTo>
                    <a:pt x="866" y="384"/>
                  </a:lnTo>
                  <a:lnTo>
                    <a:pt x="936" y="698"/>
                  </a:lnTo>
                  <a:lnTo>
                    <a:pt x="853" y="698"/>
                  </a:lnTo>
                  <a:lnTo>
                    <a:pt x="702" y="561"/>
                  </a:lnTo>
                  <a:lnTo>
                    <a:pt x="569" y="269"/>
                  </a:lnTo>
                  <a:lnTo>
                    <a:pt x="464" y="224"/>
                  </a:lnTo>
                  <a:lnTo>
                    <a:pt x="481" y="384"/>
                  </a:lnTo>
                  <a:lnTo>
                    <a:pt x="578" y="494"/>
                  </a:lnTo>
                  <a:lnTo>
                    <a:pt x="578" y="716"/>
                  </a:lnTo>
                  <a:lnTo>
                    <a:pt x="508" y="879"/>
                  </a:lnTo>
                  <a:lnTo>
                    <a:pt x="415" y="813"/>
                  </a:lnTo>
                  <a:lnTo>
                    <a:pt x="305" y="561"/>
                  </a:lnTo>
                  <a:lnTo>
                    <a:pt x="278" y="384"/>
                  </a:lnTo>
                  <a:lnTo>
                    <a:pt x="211" y="336"/>
                  </a:lnTo>
                  <a:lnTo>
                    <a:pt x="194" y="782"/>
                  </a:lnTo>
                  <a:lnTo>
                    <a:pt x="105" y="844"/>
                  </a:lnTo>
                  <a:lnTo>
                    <a:pt x="26" y="782"/>
                  </a:lnTo>
                  <a:lnTo>
                    <a:pt x="13" y="397"/>
                  </a:lnTo>
                  <a:lnTo>
                    <a:pt x="0" y="769"/>
                  </a:lnTo>
                  <a:lnTo>
                    <a:pt x="66" y="910"/>
                  </a:lnTo>
                  <a:lnTo>
                    <a:pt x="194" y="910"/>
                  </a:lnTo>
                  <a:lnTo>
                    <a:pt x="238" y="800"/>
                  </a:lnTo>
                  <a:lnTo>
                    <a:pt x="265" y="450"/>
                  </a:lnTo>
                  <a:lnTo>
                    <a:pt x="287" y="587"/>
                  </a:lnTo>
                  <a:lnTo>
                    <a:pt x="397" y="888"/>
                  </a:lnTo>
                  <a:lnTo>
                    <a:pt x="521" y="923"/>
                  </a:lnTo>
                  <a:lnTo>
                    <a:pt x="613" y="800"/>
                  </a:lnTo>
                  <a:lnTo>
                    <a:pt x="613" y="512"/>
                  </a:lnTo>
                  <a:lnTo>
                    <a:pt x="853" y="751"/>
                  </a:lnTo>
                  <a:lnTo>
                    <a:pt x="976" y="751"/>
                  </a:lnTo>
                  <a:lnTo>
                    <a:pt x="989" y="587"/>
                  </a:lnTo>
                  <a:lnTo>
                    <a:pt x="897" y="300"/>
                  </a:lnTo>
                  <a:lnTo>
                    <a:pt x="741" y="61"/>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6826320" y="1387440"/>
              <a:ext cx="1586160" cy="1354320"/>
            </a:xfrm>
            <a:custGeom>
              <a:avLst/>
              <a:gdLst/>
              <a:ahLst/>
              <a:rect l="0" t="0" r="r" b="b"/>
              <a:pathLst>
                <a:path w="4406" h="3762">
                  <a:moveTo>
                    <a:pt x="1587" y="317"/>
                  </a:moveTo>
                  <a:lnTo>
                    <a:pt x="1503" y="335"/>
                  </a:lnTo>
                  <a:lnTo>
                    <a:pt x="1380" y="520"/>
                  </a:lnTo>
                  <a:lnTo>
                    <a:pt x="1336" y="383"/>
                  </a:lnTo>
                  <a:lnTo>
                    <a:pt x="1195" y="304"/>
                  </a:lnTo>
                  <a:lnTo>
                    <a:pt x="1089" y="361"/>
                  </a:lnTo>
                  <a:lnTo>
                    <a:pt x="1045" y="608"/>
                  </a:lnTo>
                  <a:lnTo>
                    <a:pt x="652" y="903"/>
                  </a:lnTo>
                  <a:lnTo>
                    <a:pt x="679" y="1031"/>
                  </a:lnTo>
                  <a:lnTo>
                    <a:pt x="582" y="1146"/>
                  </a:lnTo>
                  <a:lnTo>
                    <a:pt x="582" y="1243"/>
                  </a:lnTo>
                  <a:lnTo>
                    <a:pt x="696" y="1525"/>
                  </a:lnTo>
                  <a:lnTo>
                    <a:pt x="705" y="1874"/>
                  </a:lnTo>
                  <a:lnTo>
                    <a:pt x="630" y="2205"/>
                  </a:lnTo>
                  <a:lnTo>
                    <a:pt x="348" y="2399"/>
                  </a:lnTo>
                  <a:lnTo>
                    <a:pt x="308" y="2668"/>
                  </a:lnTo>
                  <a:lnTo>
                    <a:pt x="220" y="2668"/>
                  </a:lnTo>
                  <a:lnTo>
                    <a:pt x="176" y="2448"/>
                  </a:lnTo>
                  <a:lnTo>
                    <a:pt x="92" y="2448"/>
                  </a:lnTo>
                  <a:lnTo>
                    <a:pt x="52" y="2686"/>
                  </a:lnTo>
                  <a:lnTo>
                    <a:pt x="0" y="2748"/>
                  </a:lnTo>
                  <a:lnTo>
                    <a:pt x="194" y="3070"/>
                  </a:lnTo>
                  <a:lnTo>
                    <a:pt x="335" y="3087"/>
                  </a:lnTo>
                  <a:lnTo>
                    <a:pt x="582" y="3325"/>
                  </a:lnTo>
                  <a:lnTo>
                    <a:pt x="806" y="3356"/>
                  </a:lnTo>
                  <a:lnTo>
                    <a:pt x="934" y="3228"/>
                  </a:lnTo>
                  <a:lnTo>
                    <a:pt x="1239" y="2761"/>
                  </a:lnTo>
                  <a:lnTo>
                    <a:pt x="1265" y="3387"/>
                  </a:lnTo>
                  <a:lnTo>
                    <a:pt x="1239" y="3762"/>
                  </a:lnTo>
                  <a:lnTo>
                    <a:pt x="3784" y="3762"/>
                  </a:lnTo>
                  <a:lnTo>
                    <a:pt x="3599" y="3356"/>
                  </a:lnTo>
                  <a:lnTo>
                    <a:pt x="3506" y="3008"/>
                  </a:lnTo>
                  <a:lnTo>
                    <a:pt x="3484" y="2488"/>
                  </a:lnTo>
                  <a:lnTo>
                    <a:pt x="3634" y="2607"/>
                  </a:lnTo>
                  <a:lnTo>
                    <a:pt x="3784" y="2607"/>
                  </a:lnTo>
                  <a:lnTo>
                    <a:pt x="3991" y="2470"/>
                  </a:lnTo>
                  <a:lnTo>
                    <a:pt x="4132" y="2448"/>
                  </a:lnTo>
                  <a:lnTo>
                    <a:pt x="4221" y="2311"/>
                  </a:lnTo>
                  <a:lnTo>
                    <a:pt x="4278" y="1954"/>
                  </a:lnTo>
                  <a:lnTo>
                    <a:pt x="4406" y="1812"/>
                  </a:lnTo>
                  <a:lnTo>
                    <a:pt x="4340" y="1702"/>
                  </a:lnTo>
                  <a:lnTo>
                    <a:pt x="4247" y="1702"/>
                  </a:lnTo>
                  <a:lnTo>
                    <a:pt x="4172" y="1777"/>
                  </a:lnTo>
                  <a:lnTo>
                    <a:pt x="4097" y="1799"/>
                  </a:lnTo>
                  <a:lnTo>
                    <a:pt x="4005" y="1702"/>
                  </a:lnTo>
                  <a:lnTo>
                    <a:pt x="3899" y="1688"/>
                  </a:lnTo>
                  <a:lnTo>
                    <a:pt x="3696" y="1556"/>
                  </a:lnTo>
                  <a:lnTo>
                    <a:pt x="3572" y="1415"/>
                  </a:lnTo>
                  <a:lnTo>
                    <a:pt x="3550" y="1243"/>
                  </a:lnTo>
                  <a:lnTo>
                    <a:pt x="3572" y="1075"/>
                  </a:lnTo>
                  <a:lnTo>
                    <a:pt x="3656" y="939"/>
                  </a:lnTo>
                  <a:lnTo>
                    <a:pt x="3762" y="815"/>
                  </a:lnTo>
                  <a:lnTo>
                    <a:pt x="3753" y="604"/>
                  </a:lnTo>
                  <a:lnTo>
                    <a:pt x="3753" y="445"/>
                  </a:lnTo>
                  <a:lnTo>
                    <a:pt x="3696" y="335"/>
                  </a:lnTo>
                  <a:lnTo>
                    <a:pt x="3550" y="282"/>
                  </a:lnTo>
                  <a:lnTo>
                    <a:pt x="3497" y="255"/>
                  </a:lnTo>
                  <a:lnTo>
                    <a:pt x="3392" y="70"/>
                  </a:lnTo>
                  <a:lnTo>
                    <a:pt x="3308" y="13"/>
                  </a:lnTo>
                  <a:lnTo>
                    <a:pt x="3215" y="0"/>
                  </a:lnTo>
                  <a:lnTo>
                    <a:pt x="3136" y="35"/>
                  </a:lnTo>
                  <a:lnTo>
                    <a:pt x="3074" y="132"/>
                  </a:lnTo>
                  <a:lnTo>
                    <a:pt x="2977" y="189"/>
                  </a:lnTo>
                  <a:lnTo>
                    <a:pt x="2867" y="211"/>
                  </a:lnTo>
                  <a:lnTo>
                    <a:pt x="2748" y="211"/>
                  </a:lnTo>
                  <a:lnTo>
                    <a:pt x="2770" y="396"/>
                  </a:lnTo>
                  <a:lnTo>
                    <a:pt x="2770" y="626"/>
                  </a:lnTo>
                  <a:lnTo>
                    <a:pt x="2748" y="784"/>
                  </a:lnTo>
                  <a:lnTo>
                    <a:pt x="2638" y="970"/>
                  </a:lnTo>
                  <a:lnTo>
                    <a:pt x="2501" y="1252"/>
                  </a:lnTo>
                  <a:lnTo>
                    <a:pt x="2391" y="1591"/>
                  </a:lnTo>
                  <a:lnTo>
                    <a:pt x="2382" y="1799"/>
                  </a:lnTo>
                  <a:lnTo>
                    <a:pt x="2329" y="1967"/>
                  </a:lnTo>
                  <a:lnTo>
                    <a:pt x="2263" y="2139"/>
                  </a:lnTo>
                  <a:lnTo>
                    <a:pt x="2232" y="2413"/>
                  </a:lnTo>
                  <a:lnTo>
                    <a:pt x="2249" y="2642"/>
                  </a:lnTo>
                  <a:lnTo>
                    <a:pt x="2329" y="2907"/>
                  </a:lnTo>
                  <a:lnTo>
                    <a:pt x="2382" y="3008"/>
                  </a:lnTo>
                  <a:lnTo>
                    <a:pt x="2232" y="3105"/>
                  </a:lnTo>
                  <a:lnTo>
                    <a:pt x="2054" y="3162"/>
                  </a:lnTo>
                  <a:lnTo>
                    <a:pt x="1860" y="3184"/>
                  </a:lnTo>
                  <a:lnTo>
                    <a:pt x="1737" y="3184"/>
                  </a:lnTo>
                  <a:lnTo>
                    <a:pt x="1658" y="3149"/>
                  </a:lnTo>
                  <a:lnTo>
                    <a:pt x="1658" y="2924"/>
                  </a:lnTo>
                  <a:lnTo>
                    <a:pt x="1658" y="2589"/>
                  </a:lnTo>
                  <a:lnTo>
                    <a:pt x="1613" y="2263"/>
                  </a:lnTo>
                  <a:lnTo>
                    <a:pt x="1534" y="1967"/>
                  </a:lnTo>
                  <a:lnTo>
                    <a:pt x="1494" y="1733"/>
                  </a:lnTo>
                  <a:lnTo>
                    <a:pt x="1481" y="1402"/>
                  </a:lnTo>
                  <a:lnTo>
                    <a:pt x="1534" y="1111"/>
                  </a:lnTo>
                  <a:lnTo>
                    <a:pt x="1613" y="877"/>
                  </a:lnTo>
                  <a:lnTo>
                    <a:pt x="1618" y="740"/>
                  </a:lnTo>
                  <a:lnTo>
                    <a:pt x="1587" y="537"/>
                  </a:lnTo>
                  <a:lnTo>
                    <a:pt x="1587" y="383"/>
                  </a:lnTo>
                  <a:lnTo>
                    <a:pt x="1613" y="335"/>
                  </a:lnTo>
                  <a:lnTo>
                    <a:pt x="1587"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7443720" y="1658880"/>
              <a:ext cx="200520" cy="879840"/>
            </a:xfrm>
            <a:custGeom>
              <a:avLst/>
              <a:gdLst/>
              <a:ahLst/>
              <a:rect l="0" t="0" r="r" b="b"/>
              <a:pathLst>
                <a:path w="557" h="2444">
                  <a:moveTo>
                    <a:pt x="221" y="30"/>
                  </a:moveTo>
                  <a:lnTo>
                    <a:pt x="74" y="105"/>
                  </a:lnTo>
                  <a:lnTo>
                    <a:pt x="88" y="343"/>
                  </a:lnTo>
                  <a:lnTo>
                    <a:pt x="195" y="410"/>
                  </a:lnTo>
                  <a:lnTo>
                    <a:pt x="66" y="666"/>
                  </a:lnTo>
                  <a:lnTo>
                    <a:pt x="0" y="949"/>
                  </a:lnTo>
                  <a:lnTo>
                    <a:pt x="0" y="1218"/>
                  </a:lnTo>
                  <a:lnTo>
                    <a:pt x="66" y="1465"/>
                  </a:lnTo>
                  <a:lnTo>
                    <a:pt x="119" y="1764"/>
                  </a:lnTo>
                  <a:lnTo>
                    <a:pt x="119" y="1933"/>
                  </a:lnTo>
                  <a:lnTo>
                    <a:pt x="66" y="2145"/>
                  </a:lnTo>
                  <a:lnTo>
                    <a:pt x="287" y="2444"/>
                  </a:lnTo>
                  <a:lnTo>
                    <a:pt x="384" y="2396"/>
                  </a:lnTo>
                  <a:lnTo>
                    <a:pt x="442" y="2189"/>
                  </a:lnTo>
                  <a:lnTo>
                    <a:pt x="548" y="1920"/>
                  </a:lnTo>
                  <a:lnTo>
                    <a:pt x="557" y="1778"/>
                  </a:lnTo>
                  <a:lnTo>
                    <a:pt x="469" y="1509"/>
                  </a:lnTo>
                  <a:lnTo>
                    <a:pt x="367" y="1248"/>
                  </a:lnTo>
                  <a:lnTo>
                    <a:pt x="327" y="1063"/>
                  </a:lnTo>
                  <a:lnTo>
                    <a:pt x="327" y="887"/>
                  </a:lnTo>
                  <a:lnTo>
                    <a:pt x="367" y="728"/>
                  </a:lnTo>
                  <a:lnTo>
                    <a:pt x="442" y="533"/>
                  </a:lnTo>
                  <a:lnTo>
                    <a:pt x="442" y="454"/>
                  </a:lnTo>
                  <a:lnTo>
                    <a:pt x="406" y="374"/>
                  </a:lnTo>
                  <a:lnTo>
                    <a:pt x="509" y="277"/>
                  </a:lnTo>
                  <a:lnTo>
                    <a:pt x="509" y="185"/>
                  </a:lnTo>
                  <a:lnTo>
                    <a:pt x="367" y="0"/>
                  </a:lnTo>
                  <a:lnTo>
                    <a:pt x="482" y="185"/>
                  </a:lnTo>
                  <a:lnTo>
                    <a:pt x="482" y="264"/>
                  </a:lnTo>
                  <a:lnTo>
                    <a:pt x="380" y="343"/>
                  </a:lnTo>
                  <a:lnTo>
                    <a:pt x="420" y="454"/>
                  </a:lnTo>
                  <a:lnTo>
                    <a:pt x="406" y="533"/>
                  </a:lnTo>
                  <a:lnTo>
                    <a:pt x="300" y="759"/>
                  </a:lnTo>
                  <a:lnTo>
                    <a:pt x="287" y="979"/>
                  </a:lnTo>
                  <a:lnTo>
                    <a:pt x="314" y="1187"/>
                  </a:lnTo>
                  <a:lnTo>
                    <a:pt x="384" y="1478"/>
                  </a:lnTo>
                  <a:lnTo>
                    <a:pt x="469" y="1711"/>
                  </a:lnTo>
                  <a:lnTo>
                    <a:pt x="469" y="1907"/>
                  </a:lnTo>
                  <a:lnTo>
                    <a:pt x="420" y="2145"/>
                  </a:lnTo>
                  <a:lnTo>
                    <a:pt x="314" y="2396"/>
                  </a:lnTo>
                  <a:lnTo>
                    <a:pt x="181" y="2259"/>
                  </a:lnTo>
                  <a:lnTo>
                    <a:pt x="132" y="2145"/>
                  </a:lnTo>
                  <a:lnTo>
                    <a:pt x="142" y="1907"/>
                  </a:lnTo>
                  <a:lnTo>
                    <a:pt x="132" y="1663"/>
                  </a:lnTo>
                  <a:lnTo>
                    <a:pt x="66" y="1341"/>
                  </a:lnTo>
                  <a:lnTo>
                    <a:pt x="39" y="1121"/>
                  </a:lnTo>
                  <a:lnTo>
                    <a:pt x="66" y="874"/>
                  </a:lnTo>
                  <a:lnTo>
                    <a:pt x="119" y="631"/>
                  </a:lnTo>
                  <a:lnTo>
                    <a:pt x="234" y="392"/>
                  </a:lnTo>
                  <a:lnTo>
                    <a:pt x="132" y="295"/>
                  </a:lnTo>
                  <a:lnTo>
                    <a:pt x="119" y="123"/>
                  </a:lnTo>
                  <a:lnTo>
                    <a:pt x="221"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8015400" y="631800"/>
              <a:ext cx="314640" cy="429120"/>
            </a:xfrm>
            <a:custGeom>
              <a:avLst/>
              <a:gdLst/>
              <a:ahLst/>
              <a:rect l="0" t="0" r="r" b="b"/>
              <a:pathLst>
                <a:path w="874" h="1192">
                  <a:moveTo>
                    <a:pt x="145" y="305"/>
                  </a:moveTo>
                  <a:lnTo>
                    <a:pt x="273" y="277"/>
                  </a:lnTo>
                  <a:lnTo>
                    <a:pt x="396" y="291"/>
                  </a:lnTo>
                  <a:lnTo>
                    <a:pt x="503" y="340"/>
                  </a:lnTo>
                  <a:lnTo>
                    <a:pt x="556" y="402"/>
                  </a:lnTo>
                  <a:lnTo>
                    <a:pt x="583" y="468"/>
                  </a:lnTo>
                  <a:lnTo>
                    <a:pt x="583" y="525"/>
                  </a:lnTo>
                  <a:lnTo>
                    <a:pt x="552" y="565"/>
                  </a:lnTo>
                  <a:lnTo>
                    <a:pt x="499" y="591"/>
                  </a:lnTo>
                  <a:lnTo>
                    <a:pt x="432" y="596"/>
                  </a:lnTo>
                  <a:lnTo>
                    <a:pt x="352" y="578"/>
                  </a:lnTo>
                  <a:lnTo>
                    <a:pt x="277" y="530"/>
                  </a:lnTo>
                  <a:lnTo>
                    <a:pt x="220" y="486"/>
                  </a:lnTo>
                  <a:lnTo>
                    <a:pt x="194" y="636"/>
                  </a:lnTo>
                  <a:lnTo>
                    <a:pt x="145" y="746"/>
                  </a:lnTo>
                  <a:lnTo>
                    <a:pt x="0" y="994"/>
                  </a:lnTo>
                  <a:lnTo>
                    <a:pt x="211" y="1192"/>
                  </a:lnTo>
                  <a:lnTo>
                    <a:pt x="370" y="869"/>
                  </a:lnTo>
                  <a:lnTo>
                    <a:pt x="552" y="897"/>
                  </a:lnTo>
                  <a:lnTo>
                    <a:pt x="666" y="874"/>
                  </a:lnTo>
                  <a:lnTo>
                    <a:pt x="772" y="799"/>
                  </a:lnTo>
                  <a:lnTo>
                    <a:pt x="838" y="706"/>
                  </a:lnTo>
                  <a:lnTo>
                    <a:pt x="874" y="583"/>
                  </a:lnTo>
                  <a:lnTo>
                    <a:pt x="874" y="455"/>
                  </a:lnTo>
                  <a:lnTo>
                    <a:pt x="838" y="318"/>
                  </a:lnTo>
                  <a:lnTo>
                    <a:pt x="768" y="180"/>
                  </a:lnTo>
                  <a:lnTo>
                    <a:pt x="680" y="83"/>
                  </a:lnTo>
                  <a:lnTo>
                    <a:pt x="569" y="30"/>
                  </a:lnTo>
                  <a:lnTo>
                    <a:pt x="446" y="0"/>
                  </a:lnTo>
                  <a:lnTo>
                    <a:pt x="291" y="0"/>
                  </a:lnTo>
                  <a:lnTo>
                    <a:pt x="114" y="35"/>
                  </a:lnTo>
                  <a:lnTo>
                    <a:pt x="145"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7958160" y="1047600"/>
              <a:ext cx="114840" cy="84600"/>
            </a:xfrm>
            <a:custGeom>
              <a:avLst/>
              <a:gdLst/>
              <a:ahLst/>
              <a:rect l="0" t="0" r="r" b="b"/>
              <a:pathLst>
                <a:path w="319" h="235">
                  <a:moveTo>
                    <a:pt x="128" y="0"/>
                  </a:moveTo>
                  <a:lnTo>
                    <a:pt x="44" y="0"/>
                  </a:lnTo>
                  <a:lnTo>
                    <a:pt x="0" y="35"/>
                  </a:lnTo>
                  <a:lnTo>
                    <a:pt x="0" y="115"/>
                  </a:lnTo>
                  <a:lnTo>
                    <a:pt x="66" y="200"/>
                  </a:lnTo>
                  <a:lnTo>
                    <a:pt x="190" y="235"/>
                  </a:lnTo>
                  <a:lnTo>
                    <a:pt x="288" y="231"/>
                  </a:lnTo>
                  <a:lnTo>
                    <a:pt x="319" y="178"/>
                  </a:lnTo>
                  <a:lnTo>
                    <a:pt x="301" y="128"/>
                  </a:lnTo>
                  <a:lnTo>
                    <a:pt x="257" y="57"/>
                  </a:lnTo>
                  <a:lnTo>
                    <a:pt x="177" y="8"/>
                  </a:lnTo>
                  <a:lnTo>
                    <a:pt x="128"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8" name=""/>
          <p:cNvSpPr txBox="1"/>
          <p:nvPr/>
        </p:nvSpPr>
        <p:spPr>
          <a:xfrm>
            <a:off x="2362320" y="457200"/>
            <a:ext cx="83808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679" name=""/>
          <p:cNvSpPr txBox="1"/>
          <p:nvPr/>
        </p:nvSpPr>
        <p:spPr>
          <a:xfrm>
            <a:off x="2895480" y="533520"/>
            <a:ext cx="5943600" cy="54864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stock dividend is a distribution of shares to stockholders that involves a transfer from retained earnings to contributed capital. A stock split involves an increase in the number of shares outstanding and a proportional decrease in par or stated value, but it has no effect on the balances in the stockholders’ equity accounts.</a:t>
            </a:r>
            <a:endParaRPr b="0" lang="en-US" sz="2800" spc="-1" strike="noStrike">
              <a:solidFill>
                <a:srgbClr val="ffffff"/>
              </a:solidFill>
              <a:latin typeface="Arial"/>
            </a:endParaRPr>
          </a:p>
        </p:txBody>
      </p:sp>
      <p:grpSp>
        <p:nvGrpSpPr>
          <p:cNvPr id="680" name=""/>
          <p:cNvGrpSpPr/>
          <p:nvPr/>
        </p:nvGrpSpPr>
        <p:grpSpPr>
          <a:xfrm>
            <a:off x="990720" y="3733920"/>
            <a:ext cx="2122920" cy="2445120"/>
            <a:chOff x="990720" y="3733920"/>
            <a:chExt cx="2122920" cy="2445120"/>
          </a:xfrm>
        </p:grpSpPr>
        <p:sp>
          <p:nvSpPr>
            <p:cNvPr id="681" name=""/>
            <p:cNvSpPr/>
            <p:nvPr/>
          </p:nvSpPr>
          <p:spPr>
            <a:xfrm>
              <a:off x="1460520" y="3925800"/>
              <a:ext cx="779760" cy="1122840"/>
            </a:xfrm>
            <a:custGeom>
              <a:avLst/>
              <a:gdLst/>
              <a:ahLst/>
              <a:rect l="0" t="0" r="r" b="b"/>
              <a:pathLst>
                <a:path w="2166" h="3119">
                  <a:moveTo>
                    <a:pt x="1085" y="0"/>
                  </a:moveTo>
                  <a:lnTo>
                    <a:pt x="1332" y="679"/>
                  </a:lnTo>
                  <a:lnTo>
                    <a:pt x="1495" y="1156"/>
                  </a:lnTo>
                  <a:lnTo>
                    <a:pt x="1469" y="1231"/>
                  </a:lnTo>
                  <a:lnTo>
                    <a:pt x="1310" y="1632"/>
                  </a:lnTo>
                  <a:lnTo>
                    <a:pt x="1248" y="1707"/>
                  </a:lnTo>
                  <a:lnTo>
                    <a:pt x="1262" y="1848"/>
                  </a:lnTo>
                  <a:lnTo>
                    <a:pt x="1143" y="1910"/>
                  </a:lnTo>
                  <a:lnTo>
                    <a:pt x="1036" y="1910"/>
                  </a:lnTo>
                  <a:lnTo>
                    <a:pt x="855" y="1848"/>
                  </a:lnTo>
                  <a:lnTo>
                    <a:pt x="842" y="2016"/>
                  </a:lnTo>
                  <a:lnTo>
                    <a:pt x="1575" y="2201"/>
                  </a:lnTo>
                  <a:lnTo>
                    <a:pt x="1539" y="2025"/>
                  </a:lnTo>
                  <a:lnTo>
                    <a:pt x="1562" y="1848"/>
                  </a:lnTo>
                  <a:lnTo>
                    <a:pt x="1641" y="1725"/>
                  </a:lnTo>
                  <a:lnTo>
                    <a:pt x="1769" y="1725"/>
                  </a:lnTo>
                  <a:lnTo>
                    <a:pt x="1967" y="1791"/>
                  </a:lnTo>
                  <a:lnTo>
                    <a:pt x="2166" y="1910"/>
                  </a:lnTo>
                  <a:lnTo>
                    <a:pt x="1967" y="2108"/>
                  </a:lnTo>
                  <a:lnTo>
                    <a:pt x="1447" y="3119"/>
                  </a:lnTo>
                  <a:lnTo>
                    <a:pt x="811" y="3106"/>
                  </a:lnTo>
                  <a:lnTo>
                    <a:pt x="127" y="1332"/>
                  </a:lnTo>
                  <a:lnTo>
                    <a:pt x="0" y="1006"/>
                  </a:lnTo>
                  <a:lnTo>
                    <a:pt x="0" y="830"/>
                  </a:lnTo>
                  <a:lnTo>
                    <a:pt x="220" y="0"/>
                  </a:lnTo>
                  <a:lnTo>
                    <a:pt x="736" y="30"/>
                  </a:lnTo>
                  <a:lnTo>
                    <a:pt x="108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35040" y="4411800"/>
              <a:ext cx="81360" cy="65520"/>
            </a:xfrm>
            <a:custGeom>
              <a:avLst/>
              <a:gdLst/>
              <a:ahLst/>
              <a:rect l="0" t="0" r="r" b="b"/>
              <a:pathLst>
                <a:path w="226" h="182">
                  <a:moveTo>
                    <a:pt x="80" y="0"/>
                  </a:moveTo>
                  <a:lnTo>
                    <a:pt x="155" y="13"/>
                  </a:lnTo>
                  <a:lnTo>
                    <a:pt x="226" y="165"/>
                  </a:lnTo>
                  <a:lnTo>
                    <a:pt x="44" y="182"/>
                  </a:lnTo>
                  <a:lnTo>
                    <a:pt x="0" y="44"/>
                  </a:lnTo>
                  <a:lnTo>
                    <a:pt x="8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1373040" y="3733920"/>
              <a:ext cx="574920" cy="527400"/>
            </a:xfrm>
            <a:custGeom>
              <a:avLst/>
              <a:gdLst/>
              <a:ahLst/>
              <a:rect l="0" t="0" r="r" b="b"/>
              <a:pathLst>
                <a:path w="1597" h="1465">
                  <a:moveTo>
                    <a:pt x="1597" y="158"/>
                  </a:moveTo>
                  <a:lnTo>
                    <a:pt x="1491" y="370"/>
                  </a:lnTo>
                  <a:lnTo>
                    <a:pt x="1420" y="454"/>
                  </a:lnTo>
                  <a:lnTo>
                    <a:pt x="1517" y="546"/>
                  </a:lnTo>
                  <a:lnTo>
                    <a:pt x="1588" y="1271"/>
                  </a:lnTo>
                  <a:lnTo>
                    <a:pt x="1385" y="737"/>
                  </a:lnTo>
                  <a:lnTo>
                    <a:pt x="1191" y="564"/>
                  </a:lnTo>
                  <a:lnTo>
                    <a:pt x="784" y="643"/>
                  </a:lnTo>
                  <a:lnTo>
                    <a:pt x="493" y="630"/>
                  </a:lnTo>
                  <a:lnTo>
                    <a:pt x="449" y="852"/>
                  </a:lnTo>
                  <a:lnTo>
                    <a:pt x="463" y="1226"/>
                  </a:lnTo>
                  <a:lnTo>
                    <a:pt x="436" y="1465"/>
                  </a:lnTo>
                  <a:lnTo>
                    <a:pt x="273" y="1407"/>
                  </a:lnTo>
                  <a:lnTo>
                    <a:pt x="0" y="718"/>
                  </a:lnTo>
                  <a:lnTo>
                    <a:pt x="70" y="586"/>
                  </a:lnTo>
                  <a:lnTo>
                    <a:pt x="185" y="427"/>
                  </a:lnTo>
                  <a:lnTo>
                    <a:pt x="308" y="383"/>
                  </a:lnTo>
                  <a:lnTo>
                    <a:pt x="335" y="233"/>
                  </a:lnTo>
                  <a:lnTo>
                    <a:pt x="463" y="83"/>
                  </a:lnTo>
                  <a:lnTo>
                    <a:pt x="612" y="26"/>
                  </a:lnTo>
                  <a:lnTo>
                    <a:pt x="807" y="8"/>
                  </a:lnTo>
                  <a:lnTo>
                    <a:pt x="1006" y="26"/>
                  </a:lnTo>
                  <a:lnTo>
                    <a:pt x="1213" y="83"/>
                  </a:lnTo>
                  <a:lnTo>
                    <a:pt x="1191" y="207"/>
                  </a:lnTo>
                  <a:lnTo>
                    <a:pt x="1248" y="189"/>
                  </a:lnTo>
                  <a:lnTo>
                    <a:pt x="1279" y="0"/>
                  </a:lnTo>
                  <a:lnTo>
                    <a:pt x="1359" y="39"/>
                  </a:lnTo>
                  <a:lnTo>
                    <a:pt x="1293" y="277"/>
                  </a:lnTo>
                  <a:lnTo>
                    <a:pt x="1429" y="39"/>
                  </a:lnTo>
                  <a:lnTo>
                    <a:pt x="1359" y="308"/>
                  </a:lnTo>
                  <a:lnTo>
                    <a:pt x="1526" y="101"/>
                  </a:lnTo>
                  <a:lnTo>
                    <a:pt x="1398" y="370"/>
                  </a:lnTo>
                  <a:lnTo>
                    <a:pt x="1491" y="277"/>
                  </a:lnTo>
                  <a:lnTo>
                    <a:pt x="1535" y="176"/>
                  </a:lnTo>
                  <a:lnTo>
                    <a:pt x="1597" y="1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a:off x="1906560" y="3983040"/>
              <a:ext cx="1198800" cy="1349640"/>
            </a:xfrm>
            <a:custGeom>
              <a:avLst/>
              <a:gdLst/>
              <a:ahLst/>
              <a:rect l="0" t="0" r="r" b="b"/>
              <a:pathLst>
                <a:path w="3330" h="3749">
                  <a:moveTo>
                    <a:pt x="3330" y="948"/>
                  </a:moveTo>
                  <a:lnTo>
                    <a:pt x="2571" y="758"/>
                  </a:lnTo>
                  <a:lnTo>
                    <a:pt x="1861" y="423"/>
                  </a:lnTo>
                  <a:lnTo>
                    <a:pt x="1155" y="0"/>
                  </a:lnTo>
                  <a:lnTo>
                    <a:pt x="1027" y="458"/>
                  </a:lnTo>
                  <a:lnTo>
                    <a:pt x="701" y="1371"/>
                  </a:lnTo>
                  <a:lnTo>
                    <a:pt x="586" y="1565"/>
                  </a:lnTo>
                  <a:lnTo>
                    <a:pt x="727" y="1649"/>
                  </a:lnTo>
                  <a:lnTo>
                    <a:pt x="811" y="1750"/>
                  </a:lnTo>
                  <a:lnTo>
                    <a:pt x="749" y="1825"/>
                  </a:lnTo>
                  <a:lnTo>
                    <a:pt x="520" y="1838"/>
                  </a:lnTo>
                  <a:lnTo>
                    <a:pt x="414" y="2069"/>
                  </a:lnTo>
                  <a:lnTo>
                    <a:pt x="158" y="2466"/>
                  </a:lnTo>
                  <a:lnTo>
                    <a:pt x="0" y="2602"/>
                  </a:lnTo>
                  <a:lnTo>
                    <a:pt x="630" y="2854"/>
                  </a:lnTo>
                  <a:lnTo>
                    <a:pt x="1177" y="3273"/>
                  </a:lnTo>
                  <a:lnTo>
                    <a:pt x="1725" y="3599"/>
                  </a:lnTo>
                  <a:lnTo>
                    <a:pt x="1954" y="3749"/>
                  </a:lnTo>
                  <a:lnTo>
                    <a:pt x="2360" y="3105"/>
                  </a:lnTo>
                  <a:lnTo>
                    <a:pt x="2721" y="2333"/>
                  </a:lnTo>
                  <a:lnTo>
                    <a:pt x="3017" y="1658"/>
                  </a:lnTo>
                  <a:lnTo>
                    <a:pt x="3237" y="1164"/>
                  </a:lnTo>
                  <a:lnTo>
                    <a:pt x="3330" y="9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352520" y="4633920"/>
              <a:ext cx="786240" cy="578160"/>
            </a:xfrm>
            <a:custGeom>
              <a:avLst/>
              <a:gdLst/>
              <a:ahLst/>
              <a:rect l="0" t="0" r="r" b="b"/>
              <a:pathLst>
                <a:path w="2184" h="1606">
                  <a:moveTo>
                    <a:pt x="1889" y="233"/>
                  </a:moveTo>
                  <a:lnTo>
                    <a:pt x="1682" y="66"/>
                  </a:lnTo>
                  <a:lnTo>
                    <a:pt x="1398" y="83"/>
                  </a:lnTo>
                  <a:lnTo>
                    <a:pt x="1271" y="0"/>
                  </a:lnTo>
                  <a:lnTo>
                    <a:pt x="1169" y="17"/>
                  </a:lnTo>
                  <a:lnTo>
                    <a:pt x="1191" y="83"/>
                  </a:lnTo>
                  <a:lnTo>
                    <a:pt x="1262" y="202"/>
                  </a:lnTo>
                  <a:lnTo>
                    <a:pt x="1015" y="246"/>
                  </a:lnTo>
                  <a:lnTo>
                    <a:pt x="865" y="83"/>
                  </a:lnTo>
                  <a:lnTo>
                    <a:pt x="816" y="0"/>
                  </a:lnTo>
                  <a:lnTo>
                    <a:pt x="493" y="83"/>
                  </a:lnTo>
                  <a:lnTo>
                    <a:pt x="114" y="83"/>
                  </a:lnTo>
                  <a:lnTo>
                    <a:pt x="0" y="308"/>
                  </a:lnTo>
                  <a:lnTo>
                    <a:pt x="44" y="807"/>
                  </a:lnTo>
                  <a:lnTo>
                    <a:pt x="8" y="852"/>
                  </a:lnTo>
                  <a:lnTo>
                    <a:pt x="101" y="1046"/>
                  </a:lnTo>
                  <a:lnTo>
                    <a:pt x="70" y="1121"/>
                  </a:lnTo>
                  <a:lnTo>
                    <a:pt x="260" y="1606"/>
                  </a:lnTo>
                  <a:lnTo>
                    <a:pt x="2184" y="1107"/>
                  </a:lnTo>
                  <a:lnTo>
                    <a:pt x="1796" y="896"/>
                  </a:lnTo>
                  <a:lnTo>
                    <a:pt x="1592" y="1107"/>
                  </a:lnTo>
                  <a:lnTo>
                    <a:pt x="1143" y="1121"/>
                  </a:lnTo>
                  <a:lnTo>
                    <a:pt x="1112" y="944"/>
                  </a:lnTo>
                  <a:lnTo>
                    <a:pt x="1398" y="838"/>
                  </a:lnTo>
                  <a:lnTo>
                    <a:pt x="1610" y="838"/>
                  </a:lnTo>
                  <a:lnTo>
                    <a:pt x="1526" y="793"/>
                  </a:lnTo>
                  <a:lnTo>
                    <a:pt x="1770" y="568"/>
                  </a:lnTo>
                  <a:lnTo>
                    <a:pt x="1902" y="291"/>
                  </a:lnTo>
                  <a:lnTo>
                    <a:pt x="1889" y="2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1768320" y="4700520"/>
              <a:ext cx="125640" cy="255960"/>
            </a:xfrm>
            <a:custGeom>
              <a:avLst/>
              <a:gdLst/>
              <a:ahLst/>
              <a:rect l="0" t="0" r="r" b="b"/>
              <a:pathLst>
                <a:path w="349" h="711">
                  <a:moveTo>
                    <a:pt x="114" y="0"/>
                  </a:moveTo>
                  <a:lnTo>
                    <a:pt x="278" y="384"/>
                  </a:lnTo>
                  <a:lnTo>
                    <a:pt x="349" y="654"/>
                  </a:lnTo>
                  <a:lnTo>
                    <a:pt x="136" y="711"/>
                  </a:lnTo>
                  <a:lnTo>
                    <a:pt x="0" y="309"/>
                  </a:lnTo>
                  <a:lnTo>
                    <a:pt x="114"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668600" y="4962600"/>
              <a:ext cx="141480" cy="63720"/>
            </a:xfrm>
            <a:custGeom>
              <a:avLst/>
              <a:gdLst/>
              <a:ahLst/>
              <a:rect l="0" t="0" r="r" b="b"/>
              <a:pathLst>
                <a:path w="393" h="177">
                  <a:moveTo>
                    <a:pt x="0" y="106"/>
                  </a:moveTo>
                  <a:lnTo>
                    <a:pt x="292" y="0"/>
                  </a:lnTo>
                  <a:lnTo>
                    <a:pt x="393" y="177"/>
                  </a:lnTo>
                  <a:lnTo>
                    <a:pt x="0" y="106"/>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688" name=""/>
            <p:cNvSpPr/>
            <p:nvPr/>
          </p:nvSpPr>
          <p:spPr>
            <a:xfrm>
              <a:off x="1785960" y="4449600"/>
              <a:ext cx="136800" cy="59040"/>
            </a:xfrm>
            <a:custGeom>
              <a:avLst/>
              <a:gdLst/>
              <a:ahLst/>
              <a:rect l="0" t="0" r="r" b="b"/>
              <a:pathLst>
                <a:path w="380" h="164">
                  <a:moveTo>
                    <a:pt x="336" y="0"/>
                  </a:moveTo>
                  <a:lnTo>
                    <a:pt x="380" y="89"/>
                  </a:lnTo>
                  <a:lnTo>
                    <a:pt x="336" y="146"/>
                  </a:lnTo>
                  <a:lnTo>
                    <a:pt x="203" y="164"/>
                  </a:lnTo>
                  <a:lnTo>
                    <a:pt x="0" y="89"/>
                  </a:lnTo>
                  <a:lnTo>
                    <a:pt x="274" y="0"/>
                  </a:lnTo>
                  <a:lnTo>
                    <a:pt x="336"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89" name=""/>
            <p:cNvSpPr/>
            <p:nvPr/>
          </p:nvSpPr>
          <p:spPr>
            <a:xfrm>
              <a:off x="1709640" y="4416480"/>
              <a:ext cx="189360" cy="81360"/>
            </a:xfrm>
            <a:custGeom>
              <a:avLst/>
              <a:gdLst/>
              <a:ahLst/>
              <a:rect l="0" t="0" r="r" b="b"/>
              <a:pathLst>
                <a:path w="526" h="226">
                  <a:moveTo>
                    <a:pt x="526" y="0"/>
                  </a:moveTo>
                  <a:lnTo>
                    <a:pt x="358" y="30"/>
                  </a:lnTo>
                  <a:lnTo>
                    <a:pt x="212" y="44"/>
                  </a:lnTo>
                  <a:lnTo>
                    <a:pt x="0" y="17"/>
                  </a:lnTo>
                  <a:lnTo>
                    <a:pt x="127" y="182"/>
                  </a:lnTo>
                  <a:lnTo>
                    <a:pt x="380" y="226"/>
                  </a:lnTo>
                  <a:lnTo>
                    <a:pt x="526" y="168"/>
                  </a:lnTo>
                  <a:lnTo>
                    <a:pt x="487" y="137"/>
                  </a:lnTo>
                  <a:lnTo>
                    <a:pt x="513" y="75"/>
                  </a:lnTo>
                  <a:lnTo>
                    <a:pt x="526"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690" name=""/>
            <p:cNvSpPr/>
            <p:nvPr/>
          </p:nvSpPr>
          <p:spPr>
            <a:xfrm>
              <a:off x="1461960" y="4940280"/>
              <a:ext cx="924120" cy="313200"/>
            </a:xfrm>
            <a:custGeom>
              <a:avLst/>
              <a:gdLst/>
              <a:ahLst/>
              <a:rect l="0" t="0" r="r" b="b"/>
              <a:pathLst>
                <a:path w="2567" h="870">
                  <a:moveTo>
                    <a:pt x="2320" y="17"/>
                  </a:moveTo>
                  <a:lnTo>
                    <a:pt x="1879" y="52"/>
                  </a:lnTo>
                  <a:lnTo>
                    <a:pt x="1456" y="202"/>
                  </a:lnTo>
                  <a:lnTo>
                    <a:pt x="965" y="202"/>
                  </a:lnTo>
                  <a:lnTo>
                    <a:pt x="405" y="101"/>
                  </a:lnTo>
                  <a:lnTo>
                    <a:pt x="97" y="0"/>
                  </a:lnTo>
                  <a:lnTo>
                    <a:pt x="295" y="230"/>
                  </a:lnTo>
                  <a:lnTo>
                    <a:pt x="0" y="176"/>
                  </a:lnTo>
                  <a:lnTo>
                    <a:pt x="176" y="358"/>
                  </a:lnTo>
                  <a:lnTo>
                    <a:pt x="0" y="609"/>
                  </a:lnTo>
                  <a:lnTo>
                    <a:pt x="449" y="795"/>
                  </a:lnTo>
                  <a:lnTo>
                    <a:pt x="2413" y="870"/>
                  </a:lnTo>
                  <a:lnTo>
                    <a:pt x="2567" y="694"/>
                  </a:lnTo>
                  <a:lnTo>
                    <a:pt x="2342" y="521"/>
                  </a:lnTo>
                  <a:lnTo>
                    <a:pt x="2496" y="344"/>
                  </a:lnTo>
                  <a:lnTo>
                    <a:pt x="2249" y="300"/>
                  </a:lnTo>
                  <a:lnTo>
                    <a:pt x="2399" y="105"/>
                  </a:lnTo>
                  <a:lnTo>
                    <a:pt x="2249" y="149"/>
                  </a:lnTo>
                  <a:lnTo>
                    <a:pt x="2174" y="149"/>
                  </a:lnTo>
                  <a:lnTo>
                    <a:pt x="2320"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2514600" y="5964120"/>
              <a:ext cx="527400" cy="186120"/>
            </a:xfrm>
            <a:custGeom>
              <a:avLst/>
              <a:gdLst/>
              <a:ahLst/>
              <a:rect l="0" t="0" r="r" b="b"/>
              <a:pathLst>
                <a:path w="1465" h="517">
                  <a:moveTo>
                    <a:pt x="1465" y="261"/>
                  </a:moveTo>
                  <a:lnTo>
                    <a:pt x="812" y="0"/>
                  </a:lnTo>
                  <a:lnTo>
                    <a:pt x="476" y="287"/>
                  </a:lnTo>
                  <a:lnTo>
                    <a:pt x="0" y="394"/>
                  </a:lnTo>
                  <a:lnTo>
                    <a:pt x="154" y="491"/>
                  </a:lnTo>
                  <a:lnTo>
                    <a:pt x="1129" y="517"/>
                  </a:lnTo>
                  <a:lnTo>
                    <a:pt x="1465" y="26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1539720" y="5226120"/>
              <a:ext cx="838440" cy="951120"/>
            </a:xfrm>
            <a:custGeom>
              <a:avLst/>
              <a:gdLst/>
              <a:ahLst/>
              <a:rect l="0" t="0" r="r" b="b"/>
              <a:pathLst>
                <a:path w="2329" h="2642">
                  <a:moveTo>
                    <a:pt x="2311" y="52"/>
                  </a:moveTo>
                  <a:lnTo>
                    <a:pt x="0" y="0"/>
                  </a:lnTo>
                  <a:lnTo>
                    <a:pt x="0" y="507"/>
                  </a:lnTo>
                  <a:lnTo>
                    <a:pt x="273" y="657"/>
                  </a:lnTo>
                  <a:lnTo>
                    <a:pt x="295" y="2263"/>
                  </a:lnTo>
                  <a:lnTo>
                    <a:pt x="551" y="2289"/>
                  </a:lnTo>
                  <a:lnTo>
                    <a:pt x="551" y="2593"/>
                  </a:lnTo>
                  <a:lnTo>
                    <a:pt x="1831" y="2642"/>
                  </a:lnTo>
                  <a:lnTo>
                    <a:pt x="1817" y="2236"/>
                  </a:lnTo>
                  <a:lnTo>
                    <a:pt x="2077" y="2236"/>
                  </a:lnTo>
                  <a:lnTo>
                    <a:pt x="2117" y="608"/>
                  </a:lnTo>
                  <a:lnTo>
                    <a:pt x="2294" y="454"/>
                  </a:lnTo>
                  <a:lnTo>
                    <a:pt x="2329" y="194"/>
                  </a:lnTo>
                  <a:lnTo>
                    <a:pt x="2311"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2144880" y="5003640"/>
              <a:ext cx="36720" cy="241560"/>
            </a:xfrm>
            <a:custGeom>
              <a:avLst/>
              <a:gdLst/>
              <a:ahLst/>
              <a:rect l="0" t="0" r="r" b="b"/>
              <a:pathLst>
                <a:path w="102" h="671">
                  <a:moveTo>
                    <a:pt x="102" y="154"/>
                  </a:moveTo>
                  <a:lnTo>
                    <a:pt x="102" y="671"/>
                  </a:lnTo>
                  <a:lnTo>
                    <a:pt x="22" y="644"/>
                  </a:lnTo>
                  <a:lnTo>
                    <a:pt x="0" y="0"/>
                  </a:lnTo>
                  <a:lnTo>
                    <a:pt x="102" y="1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1012680" y="5954760"/>
              <a:ext cx="619560" cy="167040"/>
            </a:xfrm>
            <a:custGeom>
              <a:avLst/>
              <a:gdLst/>
              <a:ahLst/>
              <a:rect l="0" t="0" r="r" b="b"/>
              <a:pathLst>
                <a:path w="1721" h="464">
                  <a:moveTo>
                    <a:pt x="1721" y="340"/>
                  </a:moveTo>
                  <a:lnTo>
                    <a:pt x="1266" y="340"/>
                  </a:lnTo>
                  <a:lnTo>
                    <a:pt x="904" y="79"/>
                  </a:lnTo>
                  <a:lnTo>
                    <a:pt x="472" y="79"/>
                  </a:lnTo>
                  <a:lnTo>
                    <a:pt x="0" y="0"/>
                  </a:lnTo>
                  <a:lnTo>
                    <a:pt x="352" y="239"/>
                  </a:lnTo>
                  <a:lnTo>
                    <a:pt x="922" y="419"/>
                  </a:lnTo>
                  <a:lnTo>
                    <a:pt x="1209" y="464"/>
                  </a:lnTo>
                  <a:lnTo>
                    <a:pt x="1721" y="3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2394000" y="6004080"/>
              <a:ext cx="321120" cy="128880"/>
            </a:xfrm>
            <a:custGeom>
              <a:avLst/>
              <a:gdLst/>
              <a:ahLst/>
              <a:rect l="0" t="0" r="r" b="b"/>
              <a:pathLst>
                <a:path w="892" h="358">
                  <a:moveTo>
                    <a:pt x="892" y="127"/>
                  </a:moveTo>
                  <a:lnTo>
                    <a:pt x="450" y="127"/>
                  </a:lnTo>
                  <a:lnTo>
                    <a:pt x="0" y="0"/>
                  </a:lnTo>
                  <a:lnTo>
                    <a:pt x="74" y="252"/>
                  </a:lnTo>
                  <a:lnTo>
                    <a:pt x="433" y="358"/>
                  </a:lnTo>
                  <a:lnTo>
                    <a:pt x="729" y="230"/>
                  </a:lnTo>
                  <a:lnTo>
                    <a:pt x="892"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2198520" y="5954760"/>
              <a:ext cx="167040" cy="159120"/>
            </a:xfrm>
            <a:custGeom>
              <a:avLst/>
              <a:gdLst/>
              <a:ahLst/>
              <a:rect l="0" t="0" r="r" b="b"/>
              <a:pathLst>
                <a:path w="464" h="442">
                  <a:moveTo>
                    <a:pt x="39" y="0"/>
                  </a:moveTo>
                  <a:lnTo>
                    <a:pt x="305" y="164"/>
                  </a:lnTo>
                  <a:lnTo>
                    <a:pt x="424" y="287"/>
                  </a:lnTo>
                  <a:lnTo>
                    <a:pt x="464" y="442"/>
                  </a:lnTo>
                  <a:lnTo>
                    <a:pt x="402" y="442"/>
                  </a:lnTo>
                  <a:lnTo>
                    <a:pt x="344" y="314"/>
                  </a:lnTo>
                  <a:lnTo>
                    <a:pt x="207" y="190"/>
                  </a:lnTo>
                  <a:lnTo>
                    <a:pt x="0" y="52"/>
                  </a:lnTo>
                  <a:lnTo>
                    <a:pt x="3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830240" y="5564160"/>
              <a:ext cx="114840" cy="267120"/>
            </a:xfrm>
            <a:custGeom>
              <a:avLst/>
              <a:gdLst/>
              <a:ahLst/>
              <a:rect l="0" t="0" r="r" b="b"/>
              <a:pathLst>
                <a:path w="319" h="742">
                  <a:moveTo>
                    <a:pt x="111" y="74"/>
                  </a:moveTo>
                  <a:lnTo>
                    <a:pt x="146" y="402"/>
                  </a:lnTo>
                  <a:lnTo>
                    <a:pt x="319" y="667"/>
                  </a:lnTo>
                  <a:lnTo>
                    <a:pt x="297" y="742"/>
                  </a:lnTo>
                  <a:lnTo>
                    <a:pt x="111" y="530"/>
                  </a:lnTo>
                  <a:lnTo>
                    <a:pt x="0" y="199"/>
                  </a:lnTo>
                  <a:lnTo>
                    <a:pt x="30" y="0"/>
                  </a:lnTo>
                  <a:lnTo>
                    <a:pt x="111" y="7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2008080" y="4813200"/>
              <a:ext cx="271800" cy="576720"/>
            </a:xfrm>
            <a:custGeom>
              <a:avLst/>
              <a:gdLst/>
              <a:ahLst/>
              <a:rect l="0" t="0" r="r" b="b"/>
              <a:pathLst>
                <a:path w="755" h="1602">
                  <a:moveTo>
                    <a:pt x="649" y="1223"/>
                  </a:moveTo>
                  <a:lnTo>
                    <a:pt x="547" y="1417"/>
                  </a:lnTo>
                  <a:lnTo>
                    <a:pt x="0" y="1602"/>
                  </a:lnTo>
                  <a:lnTo>
                    <a:pt x="97" y="1470"/>
                  </a:lnTo>
                  <a:lnTo>
                    <a:pt x="587" y="1249"/>
                  </a:lnTo>
                  <a:lnTo>
                    <a:pt x="688" y="993"/>
                  </a:lnTo>
                  <a:lnTo>
                    <a:pt x="569" y="710"/>
                  </a:lnTo>
                  <a:lnTo>
                    <a:pt x="516" y="684"/>
                  </a:lnTo>
                  <a:lnTo>
                    <a:pt x="57" y="127"/>
                  </a:lnTo>
                  <a:lnTo>
                    <a:pt x="97" y="0"/>
                  </a:lnTo>
                  <a:lnTo>
                    <a:pt x="242" y="0"/>
                  </a:lnTo>
                  <a:lnTo>
                    <a:pt x="688" y="609"/>
                  </a:lnTo>
                  <a:lnTo>
                    <a:pt x="649" y="710"/>
                  </a:lnTo>
                  <a:lnTo>
                    <a:pt x="755" y="935"/>
                  </a:lnTo>
                  <a:lnTo>
                    <a:pt x="737" y="1125"/>
                  </a:lnTo>
                  <a:lnTo>
                    <a:pt x="649" y="12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028960" y="4803840"/>
              <a:ext cx="178200" cy="265320"/>
            </a:xfrm>
            <a:custGeom>
              <a:avLst/>
              <a:gdLst/>
              <a:ahLst/>
              <a:rect l="0" t="0" r="r" b="b"/>
              <a:pathLst>
                <a:path w="495" h="737">
                  <a:moveTo>
                    <a:pt x="105" y="0"/>
                  </a:moveTo>
                  <a:lnTo>
                    <a:pt x="39" y="26"/>
                  </a:lnTo>
                  <a:lnTo>
                    <a:pt x="22" y="79"/>
                  </a:lnTo>
                  <a:lnTo>
                    <a:pt x="0" y="127"/>
                  </a:lnTo>
                  <a:lnTo>
                    <a:pt x="39" y="202"/>
                  </a:lnTo>
                  <a:lnTo>
                    <a:pt x="460" y="737"/>
                  </a:lnTo>
                  <a:lnTo>
                    <a:pt x="442" y="658"/>
                  </a:lnTo>
                  <a:lnTo>
                    <a:pt x="460" y="609"/>
                  </a:lnTo>
                  <a:lnTo>
                    <a:pt x="495" y="583"/>
                  </a:lnTo>
                  <a:lnTo>
                    <a:pt x="425" y="486"/>
                  </a:lnTo>
                  <a:lnTo>
                    <a:pt x="362" y="534"/>
                  </a:lnTo>
                  <a:lnTo>
                    <a:pt x="105" y="202"/>
                  </a:lnTo>
                  <a:lnTo>
                    <a:pt x="105" y="127"/>
                  </a:lnTo>
                  <a:lnTo>
                    <a:pt x="146" y="101"/>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1490760" y="4923000"/>
              <a:ext cx="627480" cy="117720"/>
            </a:xfrm>
            <a:custGeom>
              <a:avLst/>
              <a:gdLst/>
              <a:ahLst/>
              <a:rect l="0" t="0" r="r" b="b"/>
              <a:pathLst>
                <a:path w="1743" h="327">
                  <a:moveTo>
                    <a:pt x="1743" y="177"/>
                  </a:moveTo>
                  <a:lnTo>
                    <a:pt x="1457" y="225"/>
                  </a:lnTo>
                  <a:lnTo>
                    <a:pt x="1121" y="252"/>
                  </a:lnTo>
                  <a:lnTo>
                    <a:pt x="728" y="225"/>
                  </a:lnTo>
                  <a:lnTo>
                    <a:pt x="472" y="177"/>
                  </a:lnTo>
                  <a:lnTo>
                    <a:pt x="268" y="127"/>
                  </a:lnTo>
                  <a:lnTo>
                    <a:pt x="136" y="74"/>
                  </a:lnTo>
                  <a:lnTo>
                    <a:pt x="0" y="0"/>
                  </a:lnTo>
                  <a:lnTo>
                    <a:pt x="286" y="327"/>
                  </a:lnTo>
                  <a:lnTo>
                    <a:pt x="158" y="101"/>
                  </a:lnTo>
                  <a:lnTo>
                    <a:pt x="410" y="203"/>
                  </a:lnTo>
                  <a:lnTo>
                    <a:pt x="768" y="278"/>
                  </a:lnTo>
                  <a:lnTo>
                    <a:pt x="1121" y="305"/>
                  </a:lnTo>
                  <a:lnTo>
                    <a:pt x="1457" y="252"/>
                  </a:lnTo>
                  <a:lnTo>
                    <a:pt x="1743" y="1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1419120" y="5068800"/>
              <a:ext cx="719640" cy="349560"/>
            </a:xfrm>
            <a:custGeom>
              <a:avLst/>
              <a:gdLst/>
              <a:ahLst/>
              <a:rect l="0" t="0" r="r" b="b"/>
              <a:pathLst>
                <a:path w="1999" h="971">
                  <a:moveTo>
                    <a:pt x="101" y="127"/>
                  </a:moveTo>
                  <a:lnTo>
                    <a:pt x="61" y="388"/>
                  </a:lnTo>
                  <a:lnTo>
                    <a:pt x="0" y="733"/>
                  </a:lnTo>
                  <a:lnTo>
                    <a:pt x="335" y="838"/>
                  </a:lnTo>
                  <a:lnTo>
                    <a:pt x="357" y="971"/>
                  </a:lnTo>
                  <a:lnTo>
                    <a:pt x="374" y="944"/>
                  </a:lnTo>
                  <a:lnTo>
                    <a:pt x="374" y="463"/>
                  </a:lnTo>
                  <a:lnTo>
                    <a:pt x="1999" y="463"/>
                  </a:lnTo>
                  <a:lnTo>
                    <a:pt x="1999" y="388"/>
                  </a:lnTo>
                  <a:lnTo>
                    <a:pt x="357" y="361"/>
                  </a:lnTo>
                  <a:lnTo>
                    <a:pt x="485" y="313"/>
                  </a:lnTo>
                  <a:lnTo>
                    <a:pt x="176" y="251"/>
                  </a:lnTo>
                  <a:lnTo>
                    <a:pt x="392" y="251"/>
                  </a:lnTo>
                  <a:lnTo>
                    <a:pt x="198" y="149"/>
                  </a:lnTo>
                  <a:lnTo>
                    <a:pt x="467" y="149"/>
                  </a:lnTo>
                  <a:lnTo>
                    <a:pt x="277" y="0"/>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1468440" y="5003640"/>
              <a:ext cx="690840" cy="92520"/>
            </a:xfrm>
            <a:custGeom>
              <a:avLst/>
              <a:gdLst/>
              <a:ahLst/>
              <a:rect l="0" t="0" r="r" b="b"/>
              <a:pathLst>
                <a:path w="1919" h="257">
                  <a:moveTo>
                    <a:pt x="1822" y="80"/>
                  </a:moveTo>
                  <a:lnTo>
                    <a:pt x="1204" y="128"/>
                  </a:lnTo>
                  <a:lnTo>
                    <a:pt x="749" y="128"/>
                  </a:lnTo>
                  <a:lnTo>
                    <a:pt x="436" y="102"/>
                  </a:lnTo>
                  <a:lnTo>
                    <a:pt x="119" y="26"/>
                  </a:lnTo>
                  <a:lnTo>
                    <a:pt x="0" y="0"/>
                  </a:lnTo>
                  <a:lnTo>
                    <a:pt x="119" y="80"/>
                  </a:lnTo>
                  <a:lnTo>
                    <a:pt x="533" y="155"/>
                  </a:lnTo>
                  <a:lnTo>
                    <a:pt x="1076" y="181"/>
                  </a:lnTo>
                  <a:lnTo>
                    <a:pt x="198" y="181"/>
                  </a:lnTo>
                  <a:lnTo>
                    <a:pt x="1010" y="231"/>
                  </a:lnTo>
                  <a:lnTo>
                    <a:pt x="1517" y="231"/>
                  </a:lnTo>
                  <a:lnTo>
                    <a:pt x="1919" y="257"/>
                  </a:lnTo>
                  <a:lnTo>
                    <a:pt x="1301" y="181"/>
                  </a:lnTo>
                  <a:lnTo>
                    <a:pt x="1822" y="8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3" name=""/>
            <p:cNvSpPr/>
            <p:nvPr/>
          </p:nvSpPr>
          <p:spPr>
            <a:xfrm>
              <a:off x="2144880" y="5013360"/>
              <a:ext cx="28800" cy="232200"/>
            </a:xfrm>
            <a:custGeom>
              <a:avLst/>
              <a:gdLst/>
              <a:ahLst/>
              <a:rect l="0" t="0" r="r" b="b"/>
              <a:pathLst>
                <a:path w="80" h="645">
                  <a:moveTo>
                    <a:pt x="0" y="0"/>
                  </a:moveTo>
                  <a:lnTo>
                    <a:pt x="0" y="645"/>
                  </a:lnTo>
                  <a:lnTo>
                    <a:pt x="80" y="645"/>
                  </a:lnTo>
                  <a:lnTo>
                    <a:pt x="80" y="15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95600" y="5059440"/>
              <a:ext cx="682920" cy="1119600"/>
            </a:xfrm>
            <a:custGeom>
              <a:avLst/>
              <a:gdLst/>
              <a:ahLst/>
              <a:rect l="0" t="0" r="r" b="b"/>
              <a:pathLst>
                <a:path w="1897" h="3110">
                  <a:moveTo>
                    <a:pt x="1495" y="52"/>
                  </a:moveTo>
                  <a:lnTo>
                    <a:pt x="1623" y="224"/>
                  </a:lnTo>
                  <a:lnTo>
                    <a:pt x="1623" y="361"/>
                  </a:lnTo>
                  <a:lnTo>
                    <a:pt x="1584" y="489"/>
                  </a:lnTo>
                  <a:lnTo>
                    <a:pt x="1438" y="586"/>
                  </a:lnTo>
                  <a:lnTo>
                    <a:pt x="1156" y="709"/>
                  </a:lnTo>
                  <a:lnTo>
                    <a:pt x="886" y="812"/>
                  </a:lnTo>
                  <a:lnTo>
                    <a:pt x="670" y="922"/>
                  </a:lnTo>
                  <a:lnTo>
                    <a:pt x="485" y="1099"/>
                  </a:lnTo>
                  <a:lnTo>
                    <a:pt x="379" y="1301"/>
                  </a:lnTo>
                  <a:lnTo>
                    <a:pt x="357" y="1478"/>
                  </a:lnTo>
                  <a:lnTo>
                    <a:pt x="405" y="1729"/>
                  </a:lnTo>
                  <a:lnTo>
                    <a:pt x="537" y="1985"/>
                  </a:lnTo>
                  <a:lnTo>
                    <a:pt x="648" y="2144"/>
                  </a:lnTo>
                  <a:lnTo>
                    <a:pt x="846" y="2294"/>
                  </a:lnTo>
                  <a:lnTo>
                    <a:pt x="1094" y="2418"/>
                  </a:lnTo>
                  <a:lnTo>
                    <a:pt x="1288" y="2519"/>
                  </a:lnTo>
                  <a:lnTo>
                    <a:pt x="1473" y="2603"/>
                  </a:lnTo>
                  <a:lnTo>
                    <a:pt x="1645" y="2700"/>
                  </a:lnTo>
                  <a:lnTo>
                    <a:pt x="1764" y="2833"/>
                  </a:lnTo>
                  <a:lnTo>
                    <a:pt x="1782" y="2930"/>
                  </a:lnTo>
                  <a:lnTo>
                    <a:pt x="1703" y="2982"/>
                  </a:lnTo>
                  <a:lnTo>
                    <a:pt x="1584" y="2956"/>
                  </a:lnTo>
                  <a:lnTo>
                    <a:pt x="1473" y="2908"/>
                  </a:lnTo>
                  <a:lnTo>
                    <a:pt x="1398" y="2908"/>
                  </a:lnTo>
                  <a:lnTo>
                    <a:pt x="1438" y="2700"/>
                  </a:lnTo>
                  <a:lnTo>
                    <a:pt x="97" y="2700"/>
                  </a:lnTo>
                  <a:lnTo>
                    <a:pt x="97" y="3009"/>
                  </a:lnTo>
                  <a:lnTo>
                    <a:pt x="0" y="3057"/>
                  </a:lnTo>
                  <a:lnTo>
                    <a:pt x="39" y="3110"/>
                  </a:lnTo>
                  <a:lnTo>
                    <a:pt x="1456" y="3110"/>
                  </a:lnTo>
                  <a:lnTo>
                    <a:pt x="1368" y="3031"/>
                  </a:lnTo>
                  <a:lnTo>
                    <a:pt x="141" y="3009"/>
                  </a:lnTo>
                  <a:lnTo>
                    <a:pt x="141" y="2956"/>
                  </a:lnTo>
                  <a:lnTo>
                    <a:pt x="1398" y="2956"/>
                  </a:lnTo>
                  <a:lnTo>
                    <a:pt x="1517" y="2982"/>
                  </a:lnTo>
                  <a:lnTo>
                    <a:pt x="1685" y="3031"/>
                  </a:lnTo>
                  <a:lnTo>
                    <a:pt x="1764" y="3057"/>
                  </a:lnTo>
                  <a:lnTo>
                    <a:pt x="1861" y="3009"/>
                  </a:lnTo>
                  <a:lnTo>
                    <a:pt x="1897" y="2956"/>
                  </a:lnTo>
                  <a:lnTo>
                    <a:pt x="1883" y="2855"/>
                  </a:lnTo>
                  <a:lnTo>
                    <a:pt x="1822" y="2780"/>
                  </a:lnTo>
                  <a:lnTo>
                    <a:pt x="1764" y="2802"/>
                  </a:lnTo>
                  <a:lnTo>
                    <a:pt x="1606" y="2652"/>
                  </a:lnTo>
                  <a:lnTo>
                    <a:pt x="1456" y="2568"/>
                  </a:lnTo>
                  <a:lnTo>
                    <a:pt x="1473" y="2519"/>
                  </a:lnTo>
                  <a:lnTo>
                    <a:pt x="1685" y="2625"/>
                  </a:lnTo>
                  <a:lnTo>
                    <a:pt x="1438" y="2467"/>
                  </a:lnTo>
                  <a:lnTo>
                    <a:pt x="1112" y="2339"/>
                  </a:lnTo>
                  <a:lnTo>
                    <a:pt x="824" y="2170"/>
                  </a:lnTo>
                  <a:lnTo>
                    <a:pt x="590" y="1910"/>
                  </a:lnTo>
                  <a:lnTo>
                    <a:pt x="670" y="2047"/>
                  </a:lnTo>
                  <a:lnTo>
                    <a:pt x="608" y="2047"/>
                  </a:lnTo>
                  <a:lnTo>
                    <a:pt x="423" y="1707"/>
                  </a:lnTo>
                  <a:lnTo>
                    <a:pt x="423" y="1504"/>
                  </a:lnTo>
                  <a:lnTo>
                    <a:pt x="463" y="1478"/>
                  </a:lnTo>
                  <a:lnTo>
                    <a:pt x="520" y="1707"/>
                  </a:lnTo>
                  <a:lnTo>
                    <a:pt x="485" y="1403"/>
                  </a:lnTo>
                  <a:lnTo>
                    <a:pt x="520" y="1253"/>
                  </a:lnTo>
                  <a:lnTo>
                    <a:pt x="573" y="1125"/>
                  </a:lnTo>
                  <a:lnTo>
                    <a:pt x="692" y="1024"/>
                  </a:lnTo>
                  <a:lnTo>
                    <a:pt x="886" y="949"/>
                  </a:lnTo>
                  <a:lnTo>
                    <a:pt x="1385" y="758"/>
                  </a:lnTo>
                  <a:lnTo>
                    <a:pt x="949" y="922"/>
                  </a:lnTo>
                  <a:lnTo>
                    <a:pt x="1015" y="812"/>
                  </a:lnTo>
                  <a:lnTo>
                    <a:pt x="1473" y="586"/>
                  </a:lnTo>
                  <a:lnTo>
                    <a:pt x="1495" y="657"/>
                  </a:lnTo>
                  <a:lnTo>
                    <a:pt x="1456" y="709"/>
                  </a:lnTo>
                  <a:lnTo>
                    <a:pt x="1584" y="564"/>
                  </a:lnTo>
                  <a:lnTo>
                    <a:pt x="1645" y="414"/>
                  </a:lnTo>
                  <a:lnTo>
                    <a:pt x="1663" y="255"/>
                  </a:lnTo>
                  <a:lnTo>
                    <a:pt x="1606" y="101"/>
                  </a:lnTo>
                  <a:lnTo>
                    <a:pt x="1495" y="0"/>
                  </a:lnTo>
                  <a:lnTo>
                    <a:pt x="1495"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1889280" y="5408640"/>
              <a:ext cx="476640" cy="557640"/>
            </a:xfrm>
            <a:custGeom>
              <a:avLst/>
              <a:gdLst/>
              <a:ahLst/>
              <a:rect l="0" t="0" r="r" b="b"/>
              <a:pathLst>
                <a:path w="1324" h="1549">
                  <a:moveTo>
                    <a:pt x="1324" y="0"/>
                  </a:moveTo>
                  <a:lnTo>
                    <a:pt x="411" y="0"/>
                  </a:lnTo>
                  <a:lnTo>
                    <a:pt x="110" y="127"/>
                  </a:lnTo>
                  <a:lnTo>
                    <a:pt x="0" y="299"/>
                  </a:lnTo>
                  <a:lnTo>
                    <a:pt x="52" y="330"/>
                  </a:lnTo>
                  <a:lnTo>
                    <a:pt x="110" y="609"/>
                  </a:lnTo>
                  <a:lnTo>
                    <a:pt x="132" y="887"/>
                  </a:lnTo>
                  <a:lnTo>
                    <a:pt x="171" y="1125"/>
                  </a:lnTo>
                  <a:lnTo>
                    <a:pt x="194" y="940"/>
                  </a:lnTo>
                  <a:lnTo>
                    <a:pt x="171" y="684"/>
                  </a:lnTo>
                  <a:lnTo>
                    <a:pt x="154" y="481"/>
                  </a:lnTo>
                  <a:lnTo>
                    <a:pt x="132" y="330"/>
                  </a:lnTo>
                  <a:lnTo>
                    <a:pt x="132" y="255"/>
                  </a:lnTo>
                  <a:lnTo>
                    <a:pt x="211" y="202"/>
                  </a:lnTo>
                  <a:lnTo>
                    <a:pt x="251" y="282"/>
                  </a:lnTo>
                  <a:lnTo>
                    <a:pt x="286" y="662"/>
                  </a:lnTo>
                  <a:lnTo>
                    <a:pt x="286" y="1174"/>
                  </a:lnTo>
                  <a:lnTo>
                    <a:pt x="286" y="357"/>
                  </a:lnTo>
                  <a:lnTo>
                    <a:pt x="618" y="379"/>
                  </a:lnTo>
                  <a:lnTo>
                    <a:pt x="653" y="534"/>
                  </a:lnTo>
                  <a:lnTo>
                    <a:pt x="671" y="940"/>
                  </a:lnTo>
                  <a:lnTo>
                    <a:pt x="693" y="1395"/>
                  </a:lnTo>
                  <a:lnTo>
                    <a:pt x="710" y="662"/>
                  </a:lnTo>
                  <a:lnTo>
                    <a:pt x="710" y="379"/>
                  </a:lnTo>
                  <a:lnTo>
                    <a:pt x="693" y="255"/>
                  </a:lnTo>
                  <a:lnTo>
                    <a:pt x="772" y="202"/>
                  </a:lnTo>
                  <a:lnTo>
                    <a:pt x="830" y="255"/>
                  </a:lnTo>
                  <a:lnTo>
                    <a:pt x="830" y="357"/>
                  </a:lnTo>
                  <a:lnTo>
                    <a:pt x="790" y="1324"/>
                  </a:lnTo>
                  <a:lnTo>
                    <a:pt x="882" y="379"/>
                  </a:lnTo>
                  <a:lnTo>
                    <a:pt x="979" y="379"/>
                  </a:lnTo>
                  <a:lnTo>
                    <a:pt x="1069" y="406"/>
                  </a:lnTo>
                  <a:lnTo>
                    <a:pt x="1108" y="433"/>
                  </a:lnTo>
                  <a:lnTo>
                    <a:pt x="1126" y="1549"/>
                  </a:lnTo>
                  <a:lnTo>
                    <a:pt x="1166" y="1549"/>
                  </a:lnTo>
                  <a:lnTo>
                    <a:pt x="1205" y="127"/>
                  </a:lnTo>
                  <a:lnTo>
                    <a:pt x="13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1547640" y="5400720"/>
              <a:ext cx="360720" cy="582840"/>
            </a:xfrm>
            <a:custGeom>
              <a:avLst/>
              <a:gdLst/>
              <a:ahLst/>
              <a:rect l="0" t="0" r="r" b="b"/>
              <a:pathLst>
                <a:path w="1002" h="1619">
                  <a:moveTo>
                    <a:pt x="1002" y="0"/>
                  </a:moveTo>
                  <a:lnTo>
                    <a:pt x="0" y="0"/>
                  </a:lnTo>
                  <a:lnTo>
                    <a:pt x="35" y="97"/>
                  </a:lnTo>
                  <a:lnTo>
                    <a:pt x="233" y="176"/>
                  </a:lnTo>
                  <a:lnTo>
                    <a:pt x="291" y="1619"/>
                  </a:lnTo>
                  <a:lnTo>
                    <a:pt x="291" y="427"/>
                  </a:lnTo>
                  <a:lnTo>
                    <a:pt x="370" y="401"/>
                  </a:lnTo>
                  <a:lnTo>
                    <a:pt x="489" y="427"/>
                  </a:lnTo>
                  <a:lnTo>
                    <a:pt x="591" y="1099"/>
                  </a:lnTo>
                  <a:lnTo>
                    <a:pt x="666" y="1544"/>
                  </a:lnTo>
                  <a:lnTo>
                    <a:pt x="569" y="224"/>
                  </a:lnTo>
                  <a:lnTo>
                    <a:pt x="609" y="176"/>
                  </a:lnTo>
                  <a:lnTo>
                    <a:pt x="688" y="224"/>
                  </a:lnTo>
                  <a:lnTo>
                    <a:pt x="746" y="1469"/>
                  </a:lnTo>
                  <a:lnTo>
                    <a:pt x="768" y="352"/>
                  </a:lnTo>
                  <a:lnTo>
                    <a:pt x="856" y="149"/>
                  </a:lnTo>
                  <a:lnTo>
                    <a:pt x="962" y="22"/>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a:off x="2265480" y="5278320"/>
              <a:ext cx="71640" cy="92520"/>
            </a:xfrm>
            <a:custGeom>
              <a:avLst/>
              <a:gdLst/>
              <a:ahLst/>
              <a:rect l="0" t="0" r="r" b="b"/>
              <a:pathLst>
                <a:path w="199" h="257">
                  <a:moveTo>
                    <a:pt x="199" y="257"/>
                  </a:moveTo>
                  <a:lnTo>
                    <a:pt x="199" y="0"/>
                  </a:lnTo>
                  <a:lnTo>
                    <a:pt x="0" y="0"/>
                  </a:lnTo>
                  <a:lnTo>
                    <a:pt x="142" y="48"/>
                  </a:lnTo>
                  <a:lnTo>
                    <a:pt x="199"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8" name=""/>
            <p:cNvSpPr/>
            <p:nvPr/>
          </p:nvSpPr>
          <p:spPr>
            <a:xfrm>
              <a:off x="1601640" y="5270400"/>
              <a:ext cx="528840" cy="89280"/>
            </a:xfrm>
            <a:custGeom>
              <a:avLst/>
              <a:gdLst/>
              <a:ahLst/>
              <a:rect l="0" t="0" r="r" b="b"/>
              <a:pathLst>
                <a:path w="1469" h="248">
                  <a:moveTo>
                    <a:pt x="1469" y="0"/>
                  </a:moveTo>
                  <a:lnTo>
                    <a:pt x="0" y="0"/>
                  </a:lnTo>
                  <a:lnTo>
                    <a:pt x="0" y="248"/>
                  </a:lnTo>
                  <a:lnTo>
                    <a:pt x="39" y="48"/>
                  </a:lnTo>
                  <a:lnTo>
                    <a:pt x="1434" y="48"/>
                  </a:lnTo>
                  <a:lnTo>
                    <a:pt x="1469"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09" name=""/>
            <p:cNvSpPr/>
            <p:nvPr/>
          </p:nvSpPr>
          <p:spPr>
            <a:xfrm>
              <a:off x="1652760" y="6024600"/>
              <a:ext cx="51120" cy="25920"/>
            </a:xfrm>
            <a:custGeom>
              <a:avLst/>
              <a:gdLst/>
              <a:ahLst/>
              <a:rect l="0" t="0" r="r" b="b"/>
              <a:pathLst>
                <a:path w="142" h="72">
                  <a:moveTo>
                    <a:pt x="120" y="0"/>
                  </a:moveTo>
                  <a:lnTo>
                    <a:pt x="0" y="0"/>
                  </a:lnTo>
                  <a:lnTo>
                    <a:pt x="0" y="72"/>
                  </a:lnTo>
                  <a:lnTo>
                    <a:pt x="142" y="72"/>
                  </a:lnTo>
                  <a:lnTo>
                    <a:pt x="12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0" name=""/>
            <p:cNvSpPr/>
            <p:nvPr/>
          </p:nvSpPr>
          <p:spPr>
            <a:xfrm>
              <a:off x="990720" y="5937120"/>
              <a:ext cx="670320" cy="205200"/>
            </a:xfrm>
            <a:custGeom>
              <a:avLst/>
              <a:gdLst/>
              <a:ahLst/>
              <a:rect l="0" t="0" r="r" b="b"/>
              <a:pathLst>
                <a:path w="1862" h="570">
                  <a:moveTo>
                    <a:pt x="1840" y="393"/>
                  </a:moveTo>
                  <a:lnTo>
                    <a:pt x="1549" y="415"/>
                  </a:lnTo>
                  <a:lnTo>
                    <a:pt x="1328" y="362"/>
                  </a:lnTo>
                  <a:lnTo>
                    <a:pt x="1147" y="261"/>
                  </a:lnTo>
                  <a:lnTo>
                    <a:pt x="1046" y="186"/>
                  </a:lnTo>
                  <a:lnTo>
                    <a:pt x="1006" y="127"/>
                  </a:lnTo>
                  <a:lnTo>
                    <a:pt x="1063" y="101"/>
                  </a:lnTo>
                  <a:lnTo>
                    <a:pt x="1006" y="79"/>
                  </a:lnTo>
                  <a:lnTo>
                    <a:pt x="830" y="101"/>
                  </a:lnTo>
                  <a:lnTo>
                    <a:pt x="534" y="79"/>
                  </a:lnTo>
                  <a:lnTo>
                    <a:pt x="277" y="52"/>
                  </a:lnTo>
                  <a:lnTo>
                    <a:pt x="158" y="26"/>
                  </a:lnTo>
                  <a:lnTo>
                    <a:pt x="61" y="0"/>
                  </a:lnTo>
                  <a:lnTo>
                    <a:pt x="0" y="0"/>
                  </a:lnTo>
                  <a:lnTo>
                    <a:pt x="61" y="127"/>
                  </a:lnTo>
                  <a:lnTo>
                    <a:pt x="216" y="261"/>
                  </a:lnTo>
                  <a:lnTo>
                    <a:pt x="335" y="340"/>
                  </a:lnTo>
                  <a:lnTo>
                    <a:pt x="79" y="393"/>
                  </a:lnTo>
                  <a:lnTo>
                    <a:pt x="158" y="442"/>
                  </a:lnTo>
                  <a:lnTo>
                    <a:pt x="295" y="442"/>
                  </a:lnTo>
                  <a:lnTo>
                    <a:pt x="396" y="491"/>
                  </a:lnTo>
                  <a:lnTo>
                    <a:pt x="777" y="517"/>
                  </a:lnTo>
                  <a:lnTo>
                    <a:pt x="1213" y="570"/>
                  </a:lnTo>
                  <a:lnTo>
                    <a:pt x="1310" y="570"/>
                  </a:lnTo>
                  <a:lnTo>
                    <a:pt x="1862" y="415"/>
                  </a:lnTo>
                  <a:lnTo>
                    <a:pt x="1271" y="517"/>
                  </a:lnTo>
                  <a:lnTo>
                    <a:pt x="865" y="442"/>
                  </a:lnTo>
                  <a:lnTo>
                    <a:pt x="600" y="362"/>
                  </a:lnTo>
                  <a:lnTo>
                    <a:pt x="374" y="261"/>
                  </a:lnTo>
                  <a:lnTo>
                    <a:pt x="216" y="164"/>
                  </a:lnTo>
                  <a:lnTo>
                    <a:pt x="158" y="79"/>
                  </a:lnTo>
                  <a:lnTo>
                    <a:pt x="414" y="127"/>
                  </a:lnTo>
                  <a:lnTo>
                    <a:pt x="741" y="164"/>
                  </a:lnTo>
                  <a:lnTo>
                    <a:pt x="1006" y="164"/>
                  </a:lnTo>
                  <a:lnTo>
                    <a:pt x="1147" y="243"/>
                  </a:lnTo>
                  <a:lnTo>
                    <a:pt x="1408" y="393"/>
                  </a:lnTo>
                  <a:lnTo>
                    <a:pt x="184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2373480" y="5965920"/>
              <a:ext cx="682920" cy="213120"/>
            </a:xfrm>
            <a:custGeom>
              <a:avLst/>
              <a:gdLst/>
              <a:ahLst/>
              <a:rect l="0" t="0" r="r" b="b"/>
              <a:pathLst>
                <a:path w="1897" h="592">
                  <a:moveTo>
                    <a:pt x="0" y="48"/>
                  </a:moveTo>
                  <a:lnTo>
                    <a:pt x="74" y="208"/>
                  </a:lnTo>
                  <a:lnTo>
                    <a:pt x="57" y="234"/>
                  </a:lnTo>
                  <a:lnTo>
                    <a:pt x="154" y="411"/>
                  </a:lnTo>
                  <a:lnTo>
                    <a:pt x="251" y="437"/>
                  </a:lnTo>
                  <a:lnTo>
                    <a:pt x="273" y="491"/>
                  </a:lnTo>
                  <a:lnTo>
                    <a:pt x="1165" y="566"/>
                  </a:lnTo>
                  <a:lnTo>
                    <a:pt x="1107" y="592"/>
                  </a:lnTo>
                  <a:lnTo>
                    <a:pt x="1394" y="566"/>
                  </a:lnTo>
                  <a:lnTo>
                    <a:pt x="1738" y="592"/>
                  </a:lnTo>
                  <a:lnTo>
                    <a:pt x="1641" y="465"/>
                  </a:lnTo>
                  <a:lnTo>
                    <a:pt x="1897" y="283"/>
                  </a:lnTo>
                  <a:lnTo>
                    <a:pt x="1187" y="0"/>
                  </a:lnTo>
                  <a:lnTo>
                    <a:pt x="1835" y="283"/>
                  </a:lnTo>
                  <a:lnTo>
                    <a:pt x="1539" y="437"/>
                  </a:lnTo>
                  <a:lnTo>
                    <a:pt x="1297" y="465"/>
                  </a:lnTo>
                  <a:lnTo>
                    <a:pt x="1315" y="411"/>
                  </a:lnTo>
                  <a:lnTo>
                    <a:pt x="1165" y="465"/>
                  </a:lnTo>
                  <a:lnTo>
                    <a:pt x="608" y="437"/>
                  </a:lnTo>
                  <a:lnTo>
                    <a:pt x="890" y="314"/>
                  </a:lnTo>
                  <a:lnTo>
                    <a:pt x="449" y="411"/>
                  </a:lnTo>
                  <a:lnTo>
                    <a:pt x="273" y="389"/>
                  </a:lnTo>
                  <a:lnTo>
                    <a:pt x="171" y="314"/>
                  </a:lnTo>
                  <a:lnTo>
                    <a:pt x="74" y="132"/>
                  </a:lnTo>
                  <a:lnTo>
                    <a:pt x="449" y="234"/>
                  </a:lnTo>
                  <a:lnTo>
                    <a:pt x="723" y="234"/>
                  </a:lnTo>
                  <a:lnTo>
                    <a:pt x="890" y="234"/>
                  </a:lnTo>
                  <a:lnTo>
                    <a:pt x="392" y="181"/>
                  </a:lnTo>
                  <a:lnTo>
                    <a:pt x="0"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2714760" y="5956200"/>
              <a:ext cx="119520" cy="103680"/>
            </a:xfrm>
            <a:custGeom>
              <a:avLst/>
              <a:gdLst/>
              <a:ahLst/>
              <a:rect l="0" t="0" r="r" b="b"/>
              <a:pathLst>
                <a:path w="332" h="288">
                  <a:moveTo>
                    <a:pt x="332" y="0"/>
                  </a:moveTo>
                  <a:lnTo>
                    <a:pt x="0" y="288"/>
                  </a:lnTo>
                  <a:lnTo>
                    <a:pt x="239" y="26"/>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2192400" y="5110200"/>
              <a:ext cx="71640" cy="41760"/>
            </a:xfrm>
            <a:custGeom>
              <a:avLst/>
              <a:gdLst/>
              <a:ahLst/>
              <a:rect l="0" t="0" r="r" b="b"/>
              <a:pathLst>
                <a:path w="199" h="116">
                  <a:moveTo>
                    <a:pt x="199" y="116"/>
                  </a:moveTo>
                  <a:lnTo>
                    <a:pt x="83" y="99"/>
                  </a:lnTo>
                  <a:lnTo>
                    <a:pt x="0" y="99"/>
                  </a:lnTo>
                  <a:lnTo>
                    <a:pt x="8" y="0"/>
                  </a:lnTo>
                  <a:lnTo>
                    <a:pt x="39" y="62"/>
                  </a:lnTo>
                  <a:lnTo>
                    <a:pt x="199"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714" name=""/>
            <p:cNvSpPr/>
            <p:nvPr/>
          </p:nvSpPr>
          <p:spPr>
            <a:xfrm>
              <a:off x="1587600" y="5106960"/>
              <a:ext cx="554400" cy="25920"/>
            </a:xfrm>
            <a:custGeom>
              <a:avLst/>
              <a:gdLst/>
              <a:ahLst/>
              <a:rect l="0" t="0" r="r" b="b"/>
              <a:pathLst>
                <a:path w="1540" h="72">
                  <a:moveTo>
                    <a:pt x="1540" y="72"/>
                  </a:moveTo>
                  <a:lnTo>
                    <a:pt x="1032" y="40"/>
                  </a:lnTo>
                  <a:lnTo>
                    <a:pt x="702" y="53"/>
                  </a:lnTo>
                  <a:lnTo>
                    <a:pt x="26" y="53"/>
                  </a:lnTo>
                  <a:lnTo>
                    <a:pt x="0" y="0"/>
                  </a:lnTo>
                  <a:lnTo>
                    <a:pt x="1107" y="23"/>
                  </a:lnTo>
                  <a:lnTo>
                    <a:pt x="154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5" name=""/>
            <p:cNvSpPr/>
            <p:nvPr/>
          </p:nvSpPr>
          <p:spPr>
            <a:xfrm>
              <a:off x="1579680" y="5151600"/>
              <a:ext cx="503640" cy="25920"/>
            </a:xfrm>
            <a:custGeom>
              <a:avLst/>
              <a:gdLst/>
              <a:ahLst/>
              <a:rect l="0" t="0" r="r" b="b"/>
              <a:pathLst>
                <a:path w="1399" h="72">
                  <a:moveTo>
                    <a:pt x="1399" y="13"/>
                  </a:moveTo>
                  <a:lnTo>
                    <a:pt x="865" y="36"/>
                  </a:lnTo>
                  <a:lnTo>
                    <a:pt x="358" y="72"/>
                  </a:lnTo>
                  <a:lnTo>
                    <a:pt x="0" y="23"/>
                  </a:lnTo>
                  <a:lnTo>
                    <a:pt x="260" y="13"/>
                  </a:lnTo>
                  <a:lnTo>
                    <a:pt x="569" y="23"/>
                  </a:lnTo>
                  <a:lnTo>
                    <a:pt x="1179" y="0"/>
                  </a:lnTo>
                  <a:lnTo>
                    <a:pt x="1399"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2190600" y="5176800"/>
              <a:ext cx="76680" cy="16200"/>
            </a:xfrm>
            <a:custGeom>
              <a:avLst/>
              <a:gdLst/>
              <a:ahLst/>
              <a:rect l="0" t="0" r="r" b="b"/>
              <a:pathLst>
                <a:path w="213" h="45">
                  <a:moveTo>
                    <a:pt x="213" y="45"/>
                  </a:moveTo>
                  <a:lnTo>
                    <a:pt x="0" y="0"/>
                  </a:lnTo>
                  <a:lnTo>
                    <a:pt x="0" y="36"/>
                  </a:lnTo>
                  <a:lnTo>
                    <a:pt x="213"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17" name=""/>
            <p:cNvSpPr/>
            <p:nvPr/>
          </p:nvSpPr>
          <p:spPr>
            <a:xfrm>
              <a:off x="1482840" y="3743280"/>
              <a:ext cx="473400" cy="547920"/>
            </a:xfrm>
            <a:custGeom>
              <a:avLst/>
              <a:gdLst/>
              <a:ahLst/>
              <a:rect l="0" t="0" r="r" b="b"/>
              <a:pathLst>
                <a:path w="1315" h="1522">
                  <a:moveTo>
                    <a:pt x="216" y="471"/>
                  </a:moveTo>
                  <a:lnTo>
                    <a:pt x="357" y="515"/>
                  </a:lnTo>
                  <a:lnTo>
                    <a:pt x="520" y="533"/>
                  </a:lnTo>
                  <a:lnTo>
                    <a:pt x="684" y="493"/>
                  </a:lnTo>
                  <a:lnTo>
                    <a:pt x="781" y="454"/>
                  </a:lnTo>
                  <a:lnTo>
                    <a:pt x="763" y="414"/>
                  </a:lnTo>
                  <a:lnTo>
                    <a:pt x="882" y="374"/>
                  </a:lnTo>
                  <a:lnTo>
                    <a:pt x="1015" y="260"/>
                  </a:lnTo>
                  <a:lnTo>
                    <a:pt x="1076" y="141"/>
                  </a:lnTo>
                  <a:lnTo>
                    <a:pt x="1107" y="22"/>
                  </a:lnTo>
                  <a:lnTo>
                    <a:pt x="1156" y="0"/>
                  </a:lnTo>
                  <a:lnTo>
                    <a:pt x="1107" y="180"/>
                  </a:lnTo>
                  <a:lnTo>
                    <a:pt x="1032" y="277"/>
                  </a:lnTo>
                  <a:lnTo>
                    <a:pt x="900" y="414"/>
                  </a:lnTo>
                  <a:lnTo>
                    <a:pt x="1063" y="295"/>
                  </a:lnTo>
                  <a:lnTo>
                    <a:pt x="1134" y="180"/>
                  </a:lnTo>
                  <a:lnTo>
                    <a:pt x="1173" y="83"/>
                  </a:lnTo>
                  <a:lnTo>
                    <a:pt x="1235" y="83"/>
                  </a:lnTo>
                  <a:lnTo>
                    <a:pt x="1143" y="220"/>
                  </a:lnTo>
                  <a:lnTo>
                    <a:pt x="1046" y="339"/>
                  </a:lnTo>
                  <a:lnTo>
                    <a:pt x="913" y="454"/>
                  </a:lnTo>
                  <a:lnTo>
                    <a:pt x="1076" y="396"/>
                  </a:lnTo>
                  <a:lnTo>
                    <a:pt x="1204" y="277"/>
                  </a:lnTo>
                  <a:lnTo>
                    <a:pt x="1253" y="198"/>
                  </a:lnTo>
                  <a:lnTo>
                    <a:pt x="1266" y="141"/>
                  </a:lnTo>
                  <a:lnTo>
                    <a:pt x="1315" y="158"/>
                  </a:lnTo>
                  <a:lnTo>
                    <a:pt x="1235" y="277"/>
                  </a:lnTo>
                  <a:lnTo>
                    <a:pt x="1134" y="396"/>
                  </a:lnTo>
                  <a:lnTo>
                    <a:pt x="1032" y="471"/>
                  </a:lnTo>
                  <a:lnTo>
                    <a:pt x="931" y="493"/>
                  </a:lnTo>
                  <a:lnTo>
                    <a:pt x="882" y="533"/>
                  </a:lnTo>
                  <a:lnTo>
                    <a:pt x="882" y="599"/>
                  </a:lnTo>
                  <a:lnTo>
                    <a:pt x="825" y="657"/>
                  </a:lnTo>
                  <a:lnTo>
                    <a:pt x="702" y="679"/>
                  </a:lnTo>
                  <a:lnTo>
                    <a:pt x="582" y="696"/>
                  </a:lnTo>
                  <a:lnTo>
                    <a:pt x="440" y="679"/>
                  </a:lnTo>
                  <a:lnTo>
                    <a:pt x="299" y="657"/>
                  </a:lnTo>
                  <a:lnTo>
                    <a:pt x="216" y="617"/>
                  </a:lnTo>
                  <a:lnTo>
                    <a:pt x="167" y="718"/>
                  </a:lnTo>
                  <a:lnTo>
                    <a:pt x="154" y="869"/>
                  </a:lnTo>
                  <a:lnTo>
                    <a:pt x="141" y="1085"/>
                  </a:lnTo>
                  <a:lnTo>
                    <a:pt x="154" y="1266"/>
                  </a:lnTo>
                  <a:lnTo>
                    <a:pt x="185" y="1363"/>
                  </a:lnTo>
                  <a:lnTo>
                    <a:pt x="185" y="1420"/>
                  </a:lnTo>
                  <a:lnTo>
                    <a:pt x="242" y="1482"/>
                  </a:lnTo>
                  <a:lnTo>
                    <a:pt x="242" y="1522"/>
                  </a:lnTo>
                  <a:lnTo>
                    <a:pt x="141" y="1442"/>
                  </a:lnTo>
                  <a:lnTo>
                    <a:pt x="0" y="1403"/>
                  </a:lnTo>
                  <a:lnTo>
                    <a:pt x="0" y="1381"/>
                  </a:lnTo>
                  <a:lnTo>
                    <a:pt x="92" y="1381"/>
                  </a:lnTo>
                  <a:lnTo>
                    <a:pt x="66" y="1129"/>
                  </a:lnTo>
                  <a:lnTo>
                    <a:pt x="48" y="904"/>
                  </a:lnTo>
                  <a:lnTo>
                    <a:pt x="74" y="869"/>
                  </a:lnTo>
                  <a:lnTo>
                    <a:pt x="92" y="696"/>
                  </a:lnTo>
                  <a:lnTo>
                    <a:pt x="141" y="582"/>
                  </a:lnTo>
                  <a:lnTo>
                    <a:pt x="216" y="4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1828800" y="3733920"/>
              <a:ext cx="30600" cy="95760"/>
            </a:xfrm>
            <a:custGeom>
              <a:avLst/>
              <a:gdLst/>
              <a:ahLst/>
              <a:rect l="0" t="0" r="r" b="b"/>
              <a:pathLst>
                <a:path w="85" h="266">
                  <a:moveTo>
                    <a:pt x="85" y="8"/>
                  </a:moveTo>
                  <a:lnTo>
                    <a:pt x="53" y="133"/>
                  </a:lnTo>
                  <a:lnTo>
                    <a:pt x="0" y="266"/>
                  </a:lnTo>
                  <a:lnTo>
                    <a:pt x="23" y="89"/>
                  </a:lnTo>
                  <a:lnTo>
                    <a:pt x="0" y="0"/>
                  </a:lnTo>
                  <a:lnTo>
                    <a:pt x="85"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719" name=""/>
            <p:cNvSpPr/>
            <p:nvPr/>
          </p:nvSpPr>
          <p:spPr>
            <a:xfrm>
              <a:off x="1473120" y="3733920"/>
              <a:ext cx="338400" cy="187560"/>
            </a:xfrm>
            <a:custGeom>
              <a:avLst/>
              <a:gdLst/>
              <a:ahLst/>
              <a:rect l="0" t="0" r="r" b="b"/>
              <a:pathLst>
                <a:path w="940" h="521">
                  <a:moveTo>
                    <a:pt x="940" y="66"/>
                  </a:moveTo>
                  <a:lnTo>
                    <a:pt x="666" y="0"/>
                  </a:lnTo>
                  <a:lnTo>
                    <a:pt x="423" y="0"/>
                  </a:lnTo>
                  <a:lnTo>
                    <a:pt x="268" y="8"/>
                  </a:lnTo>
                  <a:lnTo>
                    <a:pt x="119" y="66"/>
                  </a:lnTo>
                  <a:lnTo>
                    <a:pt x="44" y="167"/>
                  </a:lnTo>
                  <a:lnTo>
                    <a:pt x="13" y="265"/>
                  </a:lnTo>
                  <a:lnTo>
                    <a:pt x="0" y="305"/>
                  </a:lnTo>
                  <a:lnTo>
                    <a:pt x="0" y="367"/>
                  </a:lnTo>
                  <a:lnTo>
                    <a:pt x="92" y="459"/>
                  </a:lnTo>
                  <a:lnTo>
                    <a:pt x="211" y="521"/>
                  </a:lnTo>
                  <a:lnTo>
                    <a:pt x="255" y="384"/>
                  </a:lnTo>
                  <a:lnTo>
                    <a:pt x="299" y="322"/>
                  </a:lnTo>
                  <a:lnTo>
                    <a:pt x="383" y="265"/>
                  </a:lnTo>
                  <a:lnTo>
                    <a:pt x="499" y="246"/>
                  </a:lnTo>
                  <a:lnTo>
                    <a:pt x="370" y="265"/>
                  </a:lnTo>
                  <a:lnTo>
                    <a:pt x="268" y="322"/>
                  </a:lnTo>
                  <a:lnTo>
                    <a:pt x="357" y="224"/>
                  </a:lnTo>
                  <a:lnTo>
                    <a:pt x="255" y="305"/>
                  </a:lnTo>
                  <a:lnTo>
                    <a:pt x="194" y="384"/>
                  </a:lnTo>
                  <a:lnTo>
                    <a:pt x="180" y="459"/>
                  </a:lnTo>
                  <a:lnTo>
                    <a:pt x="149" y="402"/>
                  </a:lnTo>
                  <a:lnTo>
                    <a:pt x="194" y="287"/>
                  </a:lnTo>
                  <a:lnTo>
                    <a:pt x="242" y="207"/>
                  </a:lnTo>
                  <a:lnTo>
                    <a:pt x="299" y="149"/>
                  </a:lnTo>
                  <a:lnTo>
                    <a:pt x="255" y="132"/>
                  </a:lnTo>
                  <a:lnTo>
                    <a:pt x="194" y="246"/>
                  </a:lnTo>
                  <a:lnTo>
                    <a:pt x="149" y="305"/>
                  </a:lnTo>
                  <a:lnTo>
                    <a:pt x="119" y="367"/>
                  </a:lnTo>
                  <a:lnTo>
                    <a:pt x="101" y="287"/>
                  </a:lnTo>
                  <a:lnTo>
                    <a:pt x="136" y="207"/>
                  </a:lnTo>
                  <a:lnTo>
                    <a:pt x="211" y="149"/>
                  </a:lnTo>
                  <a:lnTo>
                    <a:pt x="255" y="110"/>
                  </a:lnTo>
                  <a:lnTo>
                    <a:pt x="242" y="88"/>
                  </a:lnTo>
                  <a:lnTo>
                    <a:pt x="339" y="48"/>
                  </a:lnTo>
                  <a:lnTo>
                    <a:pt x="486" y="26"/>
                  </a:lnTo>
                  <a:lnTo>
                    <a:pt x="653" y="26"/>
                  </a:lnTo>
                  <a:lnTo>
                    <a:pt x="807" y="66"/>
                  </a:lnTo>
                  <a:lnTo>
                    <a:pt x="909" y="110"/>
                  </a:lnTo>
                  <a:lnTo>
                    <a:pt x="94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1353960" y="3871800"/>
              <a:ext cx="540000" cy="792360"/>
            </a:xfrm>
            <a:custGeom>
              <a:avLst/>
              <a:gdLst/>
              <a:ahLst/>
              <a:rect l="0" t="0" r="r" b="b"/>
              <a:pathLst>
                <a:path w="1500" h="2201">
                  <a:moveTo>
                    <a:pt x="313" y="0"/>
                  </a:moveTo>
                  <a:lnTo>
                    <a:pt x="163" y="97"/>
                  </a:lnTo>
                  <a:lnTo>
                    <a:pt x="61" y="202"/>
                  </a:lnTo>
                  <a:lnTo>
                    <a:pt x="17" y="321"/>
                  </a:lnTo>
                  <a:lnTo>
                    <a:pt x="0" y="454"/>
                  </a:lnTo>
                  <a:lnTo>
                    <a:pt x="17" y="586"/>
                  </a:lnTo>
                  <a:lnTo>
                    <a:pt x="92" y="771"/>
                  </a:lnTo>
                  <a:lnTo>
                    <a:pt x="189" y="948"/>
                  </a:lnTo>
                  <a:lnTo>
                    <a:pt x="238" y="1045"/>
                  </a:lnTo>
                  <a:lnTo>
                    <a:pt x="268" y="1182"/>
                  </a:lnTo>
                  <a:lnTo>
                    <a:pt x="313" y="1279"/>
                  </a:lnTo>
                  <a:lnTo>
                    <a:pt x="357" y="1381"/>
                  </a:lnTo>
                  <a:lnTo>
                    <a:pt x="388" y="1438"/>
                  </a:lnTo>
                  <a:lnTo>
                    <a:pt x="343" y="1575"/>
                  </a:lnTo>
                  <a:lnTo>
                    <a:pt x="313" y="1751"/>
                  </a:lnTo>
                  <a:lnTo>
                    <a:pt x="313" y="1888"/>
                  </a:lnTo>
                  <a:lnTo>
                    <a:pt x="299" y="2033"/>
                  </a:lnTo>
                  <a:lnTo>
                    <a:pt x="268" y="2152"/>
                  </a:lnTo>
                  <a:lnTo>
                    <a:pt x="224" y="2201"/>
                  </a:lnTo>
                  <a:lnTo>
                    <a:pt x="282" y="2201"/>
                  </a:lnTo>
                  <a:lnTo>
                    <a:pt x="313" y="2113"/>
                  </a:lnTo>
                  <a:lnTo>
                    <a:pt x="357" y="1976"/>
                  </a:lnTo>
                  <a:lnTo>
                    <a:pt x="374" y="1826"/>
                  </a:lnTo>
                  <a:lnTo>
                    <a:pt x="388" y="1994"/>
                  </a:lnTo>
                  <a:lnTo>
                    <a:pt x="374" y="2113"/>
                  </a:lnTo>
                  <a:lnTo>
                    <a:pt x="357" y="2170"/>
                  </a:lnTo>
                  <a:lnTo>
                    <a:pt x="330" y="2201"/>
                  </a:lnTo>
                  <a:lnTo>
                    <a:pt x="374" y="2201"/>
                  </a:lnTo>
                  <a:lnTo>
                    <a:pt x="423" y="2073"/>
                  </a:lnTo>
                  <a:lnTo>
                    <a:pt x="432" y="2201"/>
                  </a:lnTo>
                  <a:lnTo>
                    <a:pt x="524" y="2201"/>
                  </a:lnTo>
                  <a:lnTo>
                    <a:pt x="630" y="2183"/>
                  </a:lnTo>
                  <a:lnTo>
                    <a:pt x="772" y="2152"/>
                  </a:lnTo>
                  <a:lnTo>
                    <a:pt x="878" y="2152"/>
                  </a:lnTo>
                  <a:lnTo>
                    <a:pt x="878" y="2073"/>
                  </a:lnTo>
                  <a:lnTo>
                    <a:pt x="953" y="2055"/>
                  </a:lnTo>
                  <a:lnTo>
                    <a:pt x="1059" y="2016"/>
                  </a:lnTo>
                  <a:lnTo>
                    <a:pt x="1107" y="1994"/>
                  </a:lnTo>
                  <a:lnTo>
                    <a:pt x="1240" y="2055"/>
                  </a:lnTo>
                  <a:lnTo>
                    <a:pt x="1372" y="2073"/>
                  </a:lnTo>
                  <a:lnTo>
                    <a:pt x="1447" y="2073"/>
                  </a:lnTo>
                  <a:lnTo>
                    <a:pt x="1500" y="2033"/>
                  </a:lnTo>
                  <a:lnTo>
                    <a:pt x="1390" y="2055"/>
                  </a:lnTo>
                  <a:lnTo>
                    <a:pt x="1390" y="2073"/>
                  </a:lnTo>
                  <a:lnTo>
                    <a:pt x="1288" y="2055"/>
                  </a:lnTo>
                  <a:lnTo>
                    <a:pt x="1182" y="1994"/>
                  </a:lnTo>
                  <a:lnTo>
                    <a:pt x="1028" y="1919"/>
                  </a:lnTo>
                  <a:lnTo>
                    <a:pt x="891" y="1791"/>
                  </a:lnTo>
                  <a:lnTo>
                    <a:pt x="799" y="1672"/>
                  </a:lnTo>
                  <a:lnTo>
                    <a:pt x="701" y="1592"/>
                  </a:lnTo>
                  <a:lnTo>
                    <a:pt x="670" y="1535"/>
                  </a:lnTo>
                  <a:lnTo>
                    <a:pt x="643" y="1535"/>
                  </a:lnTo>
                  <a:lnTo>
                    <a:pt x="670" y="1592"/>
                  </a:lnTo>
                  <a:lnTo>
                    <a:pt x="643" y="1632"/>
                  </a:lnTo>
                  <a:lnTo>
                    <a:pt x="586" y="1614"/>
                  </a:lnTo>
                  <a:lnTo>
                    <a:pt x="573" y="1575"/>
                  </a:lnTo>
                  <a:lnTo>
                    <a:pt x="586" y="1535"/>
                  </a:lnTo>
                  <a:lnTo>
                    <a:pt x="599" y="1517"/>
                  </a:lnTo>
                  <a:lnTo>
                    <a:pt x="498" y="1495"/>
                  </a:lnTo>
                  <a:lnTo>
                    <a:pt x="423" y="1420"/>
                  </a:lnTo>
                  <a:lnTo>
                    <a:pt x="374" y="1337"/>
                  </a:lnTo>
                  <a:lnTo>
                    <a:pt x="330" y="1244"/>
                  </a:lnTo>
                  <a:lnTo>
                    <a:pt x="299" y="1165"/>
                  </a:lnTo>
                  <a:lnTo>
                    <a:pt x="313" y="1103"/>
                  </a:lnTo>
                  <a:lnTo>
                    <a:pt x="405" y="1143"/>
                  </a:lnTo>
                  <a:lnTo>
                    <a:pt x="467" y="1222"/>
                  </a:lnTo>
                  <a:lnTo>
                    <a:pt x="511" y="1279"/>
                  </a:lnTo>
                  <a:lnTo>
                    <a:pt x="542" y="1337"/>
                  </a:lnTo>
                  <a:lnTo>
                    <a:pt x="586" y="1398"/>
                  </a:lnTo>
                  <a:lnTo>
                    <a:pt x="573" y="1279"/>
                  </a:lnTo>
                  <a:lnTo>
                    <a:pt x="617" y="1262"/>
                  </a:lnTo>
                  <a:lnTo>
                    <a:pt x="542" y="1165"/>
                  </a:lnTo>
                  <a:lnTo>
                    <a:pt x="423" y="1103"/>
                  </a:lnTo>
                  <a:lnTo>
                    <a:pt x="357" y="1084"/>
                  </a:lnTo>
                  <a:lnTo>
                    <a:pt x="357" y="1045"/>
                  </a:lnTo>
                  <a:lnTo>
                    <a:pt x="432" y="1062"/>
                  </a:lnTo>
                  <a:lnTo>
                    <a:pt x="388" y="948"/>
                  </a:lnTo>
                  <a:lnTo>
                    <a:pt x="374" y="793"/>
                  </a:lnTo>
                  <a:lnTo>
                    <a:pt x="343" y="608"/>
                  </a:lnTo>
                  <a:lnTo>
                    <a:pt x="357" y="454"/>
                  </a:lnTo>
                  <a:lnTo>
                    <a:pt x="388" y="339"/>
                  </a:lnTo>
                  <a:lnTo>
                    <a:pt x="423" y="260"/>
                  </a:lnTo>
                  <a:lnTo>
                    <a:pt x="343" y="489"/>
                  </a:lnTo>
                  <a:lnTo>
                    <a:pt x="374" y="224"/>
                  </a:lnTo>
                  <a:lnTo>
                    <a:pt x="268" y="626"/>
                  </a:lnTo>
                  <a:lnTo>
                    <a:pt x="299" y="242"/>
                  </a:lnTo>
                  <a:lnTo>
                    <a:pt x="224" y="511"/>
                  </a:lnTo>
                  <a:lnTo>
                    <a:pt x="224" y="282"/>
                  </a:lnTo>
                  <a:lnTo>
                    <a:pt x="163" y="454"/>
                  </a:lnTo>
                  <a:lnTo>
                    <a:pt x="145" y="299"/>
                  </a:lnTo>
                  <a:lnTo>
                    <a:pt x="92" y="418"/>
                  </a:lnTo>
                  <a:lnTo>
                    <a:pt x="105" y="260"/>
                  </a:lnTo>
                  <a:lnTo>
                    <a:pt x="163" y="176"/>
                  </a:lnTo>
                  <a:lnTo>
                    <a:pt x="238" y="114"/>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1811160" y="3878280"/>
              <a:ext cx="187560" cy="475200"/>
            </a:xfrm>
            <a:custGeom>
              <a:avLst/>
              <a:gdLst/>
              <a:ahLst/>
              <a:rect l="0" t="0" r="r" b="b"/>
              <a:pathLst>
                <a:path w="521" h="1320">
                  <a:moveTo>
                    <a:pt x="229" y="0"/>
                  </a:moveTo>
                  <a:lnTo>
                    <a:pt x="322" y="97"/>
                  </a:lnTo>
                  <a:lnTo>
                    <a:pt x="353" y="304"/>
                  </a:lnTo>
                  <a:lnTo>
                    <a:pt x="371" y="530"/>
                  </a:lnTo>
                  <a:lnTo>
                    <a:pt x="371" y="649"/>
                  </a:lnTo>
                  <a:lnTo>
                    <a:pt x="371" y="710"/>
                  </a:lnTo>
                  <a:lnTo>
                    <a:pt x="309" y="688"/>
                  </a:lnTo>
                  <a:lnTo>
                    <a:pt x="340" y="812"/>
                  </a:lnTo>
                  <a:lnTo>
                    <a:pt x="411" y="953"/>
                  </a:lnTo>
                  <a:lnTo>
                    <a:pt x="477" y="1126"/>
                  </a:lnTo>
                  <a:lnTo>
                    <a:pt x="521" y="1285"/>
                  </a:lnTo>
                  <a:lnTo>
                    <a:pt x="503" y="1320"/>
                  </a:lnTo>
                  <a:lnTo>
                    <a:pt x="459" y="1148"/>
                  </a:lnTo>
                  <a:lnTo>
                    <a:pt x="384" y="953"/>
                  </a:lnTo>
                  <a:lnTo>
                    <a:pt x="340" y="830"/>
                  </a:lnTo>
                  <a:lnTo>
                    <a:pt x="292" y="710"/>
                  </a:lnTo>
                  <a:lnTo>
                    <a:pt x="242" y="591"/>
                  </a:lnTo>
                  <a:lnTo>
                    <a:pt x="207" y="472"/>
                  </a:lnTo>
                  <a:lnTo>
                    <a:pt x="149" y="362"/>
                  </a:lnTo>
                  <a:lnTo>
                    <a:pt x="70" y="264"/>
                  </a:lnTo>
                  <a:lnTo>
                    <a:pt x="0" y="185"/>
                  </a:lnTo>
                  <a:lnTo>
                    <a:pt x="163" y="321"/>
                  </a:lnTo>
                  <a:lnTo>
                    <a:pt x="119" y="207"/>
                  </a:lnTo>
                  <a:lnTo>
                    <a:pt x="207" y="344"/>
                  </a:lnTo>
                  <a:lnTo>
                    <a:pt x="163" y="185"/>
                  </a:lnTo>
                  <a:lnTo>
                    <a:pt x="242" y="321"/>
                  </a:lnTo>
                  <a:lnTo>
                    <a:pt x="220" y="158"/>
                  </a:lnTo>
                  <a:lnTo>
                    <a:pt x="292" y="304"/>
                  </a:lnTo>
                  <a:lnTo>
                    <a:pt x="261" y="97"/>
                  </a:lnTo>
                  <a:lnTo>
                    <a:pt x="194" y="57"/>
                  </a:lnTo>
                  <a:lnTo>
                    <a:pt x="2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1806480" y="4118040"/>
              <a:ext cx="92520" cy="22680"/>
            </a:xfrm>
            <a:custGeom>
              <a:avLst/>
              <a:gdLst/>
              <a:ahLst/>
              <a:rect l="0" t="0" r="r" b="b"/>
              <a:pathLst>
                <a:path w="257" h="63">
                  <a:moveTo>
                    <a:pt x="257" y="23"/>
                  </a:moveTo>
                  <a:lnTo>
                    <a:pt x="177" y="0"/>
                  </a:lnTo>
                  <a:lnTo>
                    <a:pt x="102" y="0"/>
                  </a:lnTo>
                  <a:lnTo>
                    <a:pt x="0" y="23"/>
                  </a:lnTo>
                  <a:lnTo>
                    <a:pt x="30" y="45"/>
                  </a:lnTo>
                  <a:lnTo>
                    <a:pt x="84" y="63"/>
                  </a:lnTo>
                  <a:lnTo>
                    <a:pt x="115" y="45"/>
                  </a:lnTo>
                  <a:lnTo>
                    <a:pt x="133" y="23"/>
                  </a:lnTo>
                  <a:lnTo>
                    <a:pt x="257" y="2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23" name=""/>
            <p:cNvSpPr/>
            <p:nvPr/>
          </p:nvSpPr>
          <p:spPr>
            <a:xfrm>
              <a:off x="1636560" y="4125960"/>
              <a:ext cx="116280" cy="38520"/>
            </a:xfrm>
            <a:custGeom>
              <a:avLst/>
              <a:gdLst/>
              <a:ahLst/>
              <a:rect l="0" t="0" r="r" b="b"/>
              <a:pathLst>
                <a:path w="323" h="107">
                  <a:moveTo>
                    <a:pt x="323" y="0"/>
                  </a:moveTo>
                  <a:lnTo>
                    <a:pt x="199" y="0"/>
                  </a:lnTo>
                  <a:lnTo>
                    <a:pt x="124" y="22"/>
                  </a:lnTo>
                  <a:lnTo>
                    <a:pt x="30" y="40"/>
                  </a:lnTo>
                  <a:lnTo>
                    <a:pt x="0" y="90"/>
                  </a:lnTo>
                  <a:lnTo>
                    <a:pt x="30" y="67"/>
                  </a:lnTo>
                  <a:lnTo>
                    <a:pt x="79" y="107"/>
                  </a:lnTo>
                  <a:lnTo>
                    <a:pt x="137" y="107"/>
                  </a:lnTo>
                  <a:lnTo>
                    <a:pt x="168" y="90"/>
                  </a:lnTo>
                  <a:lnTo>
                    <a:pt x="181" y="40"/>
                  </a:lnTo>
                  <a:lnTo>
                    <a:pt x="199" y="22"/>
                  </a:lnTo>
                  <a:lnTo>
                    <a:pt x="323"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724" name=""/>
            <p:cNvSpPr/>
            <p:nvPr/>
          </p:nvSpPr>
          <p:spPr>
            <a:xfrm>
              <a:off x="1800360" y="4014720"/>
              <a:ext cx="47880" cy="20880"/>
            </a:xfrm>
            <a:custGeom>
              <a:avLst/>
              <a:gdLst/>
              <a:ahLst/>
              <a:rect l="0" t="0" r="r" b="b"/>
              <a:pathLst>
                <a:path w="133" h="58">
                  <a:moveTo>
                    <a:pt x="133" y="58"/>
                  </a:moveTo>
                  <a:lnTo>
                    <a:pt x="0" y="0"/>
                  </a:lnTo>
                  <a:lnTo>
                    <a:pt x="0" y="58"/>
                  </a:lnTo>
                  <a:lnTo>
                    <a:pt x="133"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725" name=""/>
            <p:cNvSpPr/>
            <p:nvPr/>
          </p:nvSpPr>
          <p:spPr>
            <a:xfrm>
              <a:off x="1641600" y="4014720"/>
              <a:ext cx="55800" cy="33840"/>
            </a:xfrm>
            <a:custGeom>
              <a:avLst/>
              <a:gdLst/>
              <a:ahLst/>
              <a:rect l="0" t="0" r="r" b="b"/>
              <a:pathLst>
                <a:path w="155" h="94">
                  <a:moveTo>
                    <a:pt x="155" y="0"/>
                  </a:moveTo>
                  <a:lnTo>
                    <a:pt x="0" y="94"/>
                  </a:lnTo>
                  <a:lnTo>
                    <a:pt x="111" y="94"/>
                  </a:lnTo>
                  <a:lnTo>
                    <a:pt x="155"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26" name=""/>
            <p:cNvSpPr/>
            <p:nvPr/>
          </p:nvSpPr>
          <p:spPr>
            <a:xfrm>
              <a:off x="1811160" y="4149720"/>
              <a:ext cx="147960" cy="219600"/>
            </a:xfrm>
            <a:custGeom>
              <a:avLst/>
              <a:gdLst/>
              <a:ahLst/>
              <a:rect l="0" t="0" r="r" b="b"/>
              <a:pathLst>
                <a:path w="411" h="610">
                  <a:moveTo>
                    <a:pt x="48" y="0"/>
                  </a:moveTo>
                  <a:lnTo>
                    <a:pt x="149" y="155"/>
                  </a:lnTo>
                  <a:lnTo>
                    <a:pt x="261" y="252"/>
                  </a:lnTo>
                  <a:lnTo>
                    <a:pt x="340" y="331"/>
                  </a:lnTo>
                  <a:lnTo>
                    <a:pt x="411" y="393"/>
                  </a:lnTo>
                  <a:lnTo>
                    <a:pt x="411" y="433"/>
                  </a:lnTo>
                  <a:lnTo>
                    <a:pt x="402" y="491"/>
                  </a:lnTo>
                  <a:lnTo>
                    <a:pt x="261" y="509"/>
                  </a:lnTo>
                  <a:lnTo>
                    <a:pt x="230" y="566"/>
                  </a:lnTo>
                  <a:lnTo>
                    <a:pt x="163" y="610"/>
                  </a:lnTo>
                  <a:lnTo>
                    <a:pt x="88" y="592"/>
                  </a:lnTo>
                  <a:lnTo>
                    <a:pt x="35" y="544"/>
                  </a:lnTo>
                  <a:lnTo>
                    <a:pt x="0" y="491"/>
                  </a:lnTo>
                  <a:lnTo>
                    <a:pt x="35" y="450"/>
                  </a:lnTo>
                  <a:lnTo>
                    <a:pt x="119" y="450"/>
                  </a:lnTo>
                  <a:lnTo>
                    <a:pt x="371" y="450"/>
                  </a:lnTo>
                  <a:lnTo>
                    <a:pt x="384" y="393"/>
                  </a:lnTo>
                  <a:lnTo>
                    <a:pt x="243" y="292"/>
                  </a:lnTo>
                  <a:lnTo>
                    <a:pt x="149" y="177"/>
                  </a:lnTo>
                  <a:lnTo>
                    <a:pt x="48" y="74"/>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92360" y="4362480"/>
              <a:ext cx="246600" cy="154440"/>
            </a:xfrm>
            <a:custGeom>
              <a:avLst/>
              <a:gdLst/>
              <a:ahLst/>
              <a:rect l="0" t="0" r="r" b="b"/>
              <a:pathLst>
                <a:path w="685" h="429">
                  <a:moveTo>
                    <a:pt x="685" y="17"/>
                  </a:moveTo>
                  <a:lnTo>
                    <a:pt x="685" y="97"/>
                  </a:lnTo>
                  <a:lnTo>
                    <a:pt x="654" y="155"/>
                  </a:lnTo>
                  <a:lnTo>
                    <a:pt x="623" y="195"/>
                  </a:lnTo>
                  <a:lnTo>
                    <a:pt x="610" y="230"/>
                  </a:lnTo>
                  <a:lnTo>
                    <a:pt x="641" y="309"/>
                  </a:lnTo>
                  <a:lnTo>
                    <a:pt x="641" y="368"/>
                  </a:lnTo>
                  <a:lnTo>
                    <a:pt x="610" y="390"/>
                  </a:lnTo>
                  <a:lnTo>
                    <a:pt x="623" y="309"/>
                  </a:lnTo>
                  <a:lnTo>
                    <a:pt x="592" y="252"/>
                  </a:lnTo>
                  <a:lnTo>
                    <a:pt x="553" y="292"/>
                  </a:lnTo>
                  <a:lnTo>
                    <a:pt x="481" y="332"/>
                  </a:lnTo>
                  <a:lnTo>
                    <a:pt x="539" y="252"/>
                  </a:lnTo>
                  <a:lnTo>
                    <a:pt x="539" y="172"/>
                  </a:lnTo>
                  <a:lnTo>
                    <a:pt x="433" y="212"/>
                  </a:lnTo>
                  <a:lnTo>
                    <a:pt x="274" y="212"/>
                  </a:lnTo>
                  <a:lnTo>
                    <a:pt x="199" y="195"/>
                  </a:lnTo>
                  <a:lnTo>
                    <a:pt x="101" y="172"/>
                  </a:lnTo>
                  <a:lnTo>
                    <a:pt x="167" y="252"/>
                  </a:lnTo>
                  <a:lnTo>
                    <a:pt x="225" y="292"/>
                  </a:lnTo>
                  <a:lnTo>
                    <a:pt x="318" y="332"/>
                  </a:lnTo>
                  <a:lnTo>
                    <a:pt x="380" y="332"/>
                  </a:lnTo>
                  <a:lnTo>
                    <a:pt x="402" y="368"/>
                  </a:lnTo>
                  <a:lnTo>
                    <a:pt x="433" y="350"/>
                  </a:lnTo>
                  <a:lnTo>
                    <a:pt x="464" y="390"/>
                  </a:lnTo>
                  <a:lnTo>
                    <a:pt x="494" y="368"/>
                  </a:lnTo>
                  <a:lnTo>
                    <a:pt x="508" y="407"/>
                  </a:lnTo>
                  <a:lnTo>
                    <a:pt x="553" y="407"/>
                  </a:lnTo>
                  <a:lnTo>
                    <a:pt x="464" y="429"/>
                  </a:lnTo>
                  <a:lnTo>
                    <a:pt x="349" y="407"/>
                  </a:lnTo>
                  <a:lnTo>
                    <a:pt x="243" y="390"/>
                  </a:lnTo>
                  <a:lnTo>
                    <a:pt x="149" y="332"/>
                  </a:lnTo>
                  <a:lnTo>
                    <a:pt x="88" y="252"/>
                  </a:lnTo>
                  <a:lnTo>
                    <a:pt x="44" y="195"/>
                  </a:lnTo>
                  <a:lnTo>
                    <a:pt x="0" y="212"/>
                  </a:lnTo>
                  <a:lnTo>
                    <a:pt x="26" y="133"/>
                  </a:lnTo>
                  <a:lnTo>
                    <a:pt x="44" y="97"/>
                  </a:lnTo>
                  <a:lnTo>
                    <a:pt x="26" y="35"/>
                  </a:lnTo>
                  <a:lnTo>
                    <a:pt x="57" y="35"/>
                  </a:lnTo>
                  <a:lnTo>
                    <a:pt x="74" y="17"/>
                  </a:lnTo>
                  <a:lnTo>
                    <a:pt x="119" y="35"/>
                  </a:lnTo>
                  <a:lnTo>
                    <a:pt x="132" y="57"/>
                  </a:lnTo>
                  <a:lnTo>
                    <a:pt x="74" y="115"/>
                  </a:lnTo>
                  <a:lnTo>
                    <a:pt x="101" y="155"/>
                  </a:lnTo>
                  <a:lnTo>
                    <a:pt x="212" y="172"/>
                  </a:lnTo>
                  <a:lnTo>
                    <a:pt x="367" y="195"/>
                  </a:lnTo>
                  <a:lnTo>
                    <a:pt x="481" y="172"/>
                  </a:lnTo>
                  <a:lnTo>
                    <a:pt x="553" y="133"/>
                  </a:lnTo>
                  <a:lnTo>
                    <a:pt x="623" y="97"/>
                  </a:lnTo>
                  <a:lnTo>
                    <a:pt x="654" y="57"/>
                  </a:lnTo>
                  <a:lnTo>
                    <a:pt x="654" y="0"/>
                  </a:lnTo>
                  <a:lnTo>
                    <a:pt x="685"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a:off x="1911240" y="4383000"/>
              <a:ext cx="76680" cy="194040"/>
            </a:xfrm>
            <a:custGeom>
              <a:avLst/>
              <a:gdLst/>
              <a:ahLst/>
              <a:rect l="0" t="0" r="r" b="b"/>
              <a:pathLst>
                <a:path w="213" h="539">
                  <a:moveTo>
                    <a:pt x="213" y="0"/>
                  </a:moveTo>
                  <a:lnTo>
                    <a:pt x="169" y="137"/>
                  </a:lnTo>
                  <a:lnTo>
                    <a:pt x="106" y="274"/>
                  </a:lnTo>
                  <a:lnTo>
                    <a:pt x="44" y="389"/>
                  </a:lnTo>
                  <a:lnTo>
                    <a:pt x="13" y="469"/>
                  </a:lnTo>
                  <a:lnTo>
                    <a:pt x="13" y="539"/>
                  </a:lnTo>
                  <a:lnTo>
                    <a:pt x="0" y="429"/>
                  </a:lnTo>
                  <a:lnTo>
                    <a:pt x="44" y="292"/>
                  </a:lnTo>
                  <a:lnTo>
                    <a:pt x="106" y="137"/>
                  </a:lnTo>
                  <a:lnTo>
                    <a:pt x="169" y="0"/>
                  </a:lnTo>
                  <a:lnTo>
                    <a:pt x="2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1652760" y="4603680"/>
              <a:ext cx="233640" cy="359280"/>
            </a:xfrm>
            <a:custGeom>
              <a:avLst/>
              <a:gdLst/>
              <a:ahLst/>
              <a:rect l="0" t="0" r="r" b="b"/>
              <a:pathLst>
                <a:path w="649" h="998">
                  <a:moveTo>
                    <a:pt x="336" y="0"/>
                  </a:moveTo>
                  <a:lnTo>
                    <a:pt x="336" y="101"/>
                  </a:lnTo>
                  <a:lnTo>
                    <a:pt x="459" y="79"/>
                  </a:lnTo>
                  <a:lnTo>
                    <a:pt x="649" y="246"/>
                  </a:lnTo>
                  <a:lnTo>
                    <a:pt x="441" y="101"/>
                  </a:lnTo>
                  <a:lnTo>
                    <a:pt x="353" y="119"/>
                  </a:lnTo>
                  <a:lnTo>
                    <a:pt x="441" y="224"/>
                  </a:lnTo>
                  <a:lnTo>
                    <a:pt x="530" y="424"/>
                  </a:lnTo>
                  <a:lnTo>
                    <a:pt x="605" y="644"/>
                  </a:lnTo>
                  <a:lnTo>
                    <a:pt x="649" y="844"/>
                  </a:lnTo>
                  <a:lnTo>
                    <a:pt x="490" y="530"/>
                  </a:lnTo>
                  <a:lnTo>
                    <a:pt x="618" y="923"/>
                  </a:lnTo>
                  <a:lnTo>
                    <a:pt x="459" y="569"/>
                  </a:lnTo>
                  <a:lnTo>
                    <a:pt x="574" y="923"/>
                  </a:lnTo>
                  <a:lnTo>
                    <a:pt x="411" y="609"/>
                  </a:lnTo>
                  <a:lnTo>
                    <a:pt x="530" y="963"/>
                  </a:lnTo>
                  <a:lnTo>
                    <a:pt x="384" y="684"/>
                  </a:lnTo>
                  <a:lnTo>
                    <a:pt x="490" y="963"/>
                  </a:lnTo>
                  <a:lnTo>
                    <a:pt x="459" y="998"/>
                  </a:lnTo>
                  <a:lnTo>
                    <a:pt x="367" y="746"/>
                  </a:lnTo>
                  <a:lnTo>
                    <a:pt x="277" y="552"/>
                  </a:lnTo>
                  <a:lnTo>
                    <a:pt x="167" y="367"/>
                  </a:lnTo>
                  <a:lnTo>
                    <a:pt x="79" y="224"/>
                  </a:lnTo>
                  <a:lnTo>
                    <a:pt x="0" y="149"/>
                  </a:lnTo>
                  <a:lnTo>
                    <a:pt x="185" y="305"/>
                  </a:lnTo>
                  <a:lnTo>
                    <a:pt x="260" y="305"/>
                  </a:lnTo>
                  <a:lnTo>
                    <a:pt x="353" y="287"/>
                  </a:lnTo>
                  <a:lnTo>
                    <a:pt x="384" y="246"/>
                  </a:lnTo>
                  <a:lnTo>
                    <a:pt x="336" y="167"/>
                  </a:lnTo>
                  <a:lnTo>
                    <a:pt x="308" y="224"/>
                  </a:lnTo>
                  <a:lnTo>
                    <a:pt x="308" y="167"/>
                  </a:lnTo>
                  <a:lnTo>
                    <a:pt x="3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1576440" y="4670280"/>
              <a:ext cx="93960" cy="132120"/>
            </a:xfrm>
            <a:custGeom>
              <a:avLst/>
              <a:gdLst/>
              <a:ahLst/>
              <a:rect l="0" t="0" r="r" b="b"/>
              <a:pathLst>
                <a:path w="261" h="367">
                  <a:moveTo>
                    <a:pt x="39" y="0"/>
                  </a:moveTo>
                  <a:lnTo>
                    <a:pt x="39" y="119"/>
                  </a:lnTo>
                  <a:lnTo>
                    <a:pt x="261" y="287"/>
                  </a:lnTo>
                  <a:lnTo>
                    <a:pt x="137" y="367"/>
                  </a:lnTo>
                  <a:lnTo>
                    <a:pt x="199" y="305"/>
                  </a:lnTo>
                  <a:lnTo>
                    <a:pt x="39" y="180"/>
                  </a:lnTo>
                  <a:lnTo>
                    <a:pt x="52" y="141"/>
                  </a:lnTo>
                  <a:lnTo>
                    <a:pt x="0" y="79"/>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1620720" y="4808520"/>
              <a:ext cx="132120" cy="113040"/>
            </a:xfrm>
            <a:custGeom>
              <a:avLst/>
              <a:gdLst/>
              <a:ahLst/>
              <a:rect l="0" t="0" r="r" b="b"/>
              <a:pathLst>
                <a:path w="367" h="314">
                  <a:moveTo>
                    <a:pt x="367" y="274"/>
                  </a:moveTo>
                  <a:lnTo>
                    <a:pt x="212" y="136"/>
                  </a:lnTo>
                  <a:lnTo>
                    <a:pt x="88" y="57"/>
                  </a:lnTo>
                  <a:lnTo>
                    <a:pt x="0" y="0"/>
                  </a:lnTo>
                  <a:lnTo>
                    <a:pt x="212" y="177"/>
                  </a:lnTo>
                  <a:lnTo>
                    <a:pt x="300" y="274"/>
                  </a:lnTo>
                  <a:lnTo>
                    <a:pt x="349" y="314"/>
                  </a:lnTo>
                  <a:lnTo>
                    <a:pt x="367" y="2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1347840" y="4664160"/>
              <a:ext cx="92520" cy="84600"/>
            </a:xfrm>
            <a:custGeom>
              <a:avLst/>
              <a:gdLst/>
              <a:ahLst/>
              <a:rect l="0" t="0" r="r" b="b"/>
              <a:pathLst>
                <a:path w="257" h="235">
                  <a:moveTo>
                    <a:pt x="257" y="0"/>
                  </a:moveTo>
                  <a:lnTo>
                    <a:pt x="93" y="0"/>
                  </a:lnTo>
                  <a:lnTo>
                    <a:pt x="35" y="137"/>
                  </a:lnTo>
                  <a:lnTo>
                    <a:pt x="0" y="235"/>
                  </a:lnTo>
                  <a:lnTo>
                    <a:pt x="67" y="235"/>
                  </a:lnTo>
                  <a:lnTo>
                    <a:pt x="80" y="137"/>
                  </a:lnTo>
                  <a:lnTo>
                    <a:pt x="124" y="39"/>
                  </a:lnTo>
                  <a:lnTo>
                    <a:pt x="25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33" name=""/>
            <p:cNvSpPr/>
            <p:nvPr/>
          </p:nvSpPr>
          <p:spPr>
            <a:xfrm>
              <a:off x="1398600" y="4699080"/>
              <a:ext cx="108360" cy="89280"/>
            </a:xfrm>
            <a:custGeom>
              <a:avLst/>
              <a:gdLst/>
              <a:ahLst/>
              <a:rect l="0" t="0" r="r" b="b"/>
              <a:pathLst>
                <a:path w="301" h="248">
                  <a:moveTo>
                    <a:pt x="301" y="248"/>
                  </a:moveTo>
                  <a:lnTo>
                    <a:pt x="115" y="80"/>
                  </a:lnTo>
                  <a:lnTo>
                    <a:pt x="0" y="0"/>
                  </a:lnTo>
                  <a:lnTo>
                    <a:pt x="0" y="61"/>
                  </a:lnTo>
                  <a:lnTo>
                    <a:pt x="301"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34" name=""/>
            <p:cNvSpPr/>
            <p:nvPr/>
          </p:nvSpPr>
          <p:spPr>
            <a:xfrm>
              <a:off x="1380960" y="4748040"/>
              <a:ext cx="119520" cy="66960"/>
            </a:xfrm>
            <a:custGeom>
              <a:avLst/>
              <a:gdLst/>
              <a:ahLst/>
              <a:rect l="0" t="0" r="r" b="b"/>
              <a:pathLst>
                <a:path w="332" h="186">
                  <a:moveTo>
                    <a:pt x="332" y="168"/>
                  </a:moveTo>
                  <a:lnTo>
                    <a:pt x="164" y="70"/>
                  </a:lnTo>
                  <a:lnTo>
                    <a:pt x="70" y="0"/>
                  </a:lnTo>
                  <a:lnTo>
                    <a:pt x="17" y="0"/>
                  </a:lnTo>
                  <a:lnTo>
                    <a:pt x="0" y="48"/>
                  </a:lnTo>
                  <a:lnTo>
                    <a:pt x="48" y="70"/>
                  </a:lnTo>
                  <a:lnTo>
                    <a:pt x="70" y="48"/>
                  </a:lnTo>
                  <a:lnTo>
                    <a:pt x="164" y="88"/>
                  </a:lnTo>
                  <a:lnTo>
                    <a:pt x="208" y="128"/>
                  </a:lnTo>
                  <a:lnTo>
                    <a:pt x="225" y="150"/>
                  </a:lnTo>
                  <a:lnTo>
                    <a:pt x="301" y="186"/>
                  </a:lnTo>
                  <a:lnTo>
                    <a:pt x="332" y="16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35" name=""/>
            <p:cNvSpPr/>
            <p:nvPr/>
          </p:nvSpPr>
          <p:spPr>
            <a:xfrm>
              <a:off x="1343160" y="4802040"/>
              <a:ext cx="130680" cy="217800"/>
            </a:xfrm>
            <a:custGeom>
              <a:avLst/>
              <a:gdLst/>
              <a:ahLst/>
              <a:rect l="0" t="0" r="r" b="b"/>
              <a:pathLst>
                <a:path w="363" h="605">
                  <a:moveTo>
                    <a:pt x="124" y="17"/>
                  </a:moveTo>
                  <a:lnTo>
                    <a:pt x="124" y="154"/>
                  </a:lnTo>
                  <a:lnTo>
                    <a:pt x="124" y="233"/>
                  </a:lnTo>
                  <a:lnTo>
                    <a:pt x="137" y="331"/>
                  </a:lnTo>
                  <a:lnTo>
                    <a:pt x="256" y="233"/>
                  </a:lnTo>
                  <a:lnTo>
                    <a:pt x="363" y="114"/>
                  </a:lnTo>
                  <a:lnTo>
                    <a:pt x="195" y="331"/>
                  </a:lnTo>
                  <a:lnTo>
                    <a:pt x="93" y="389"/>
                  </a:lnTo>
                  <a:lnTo>
                    <a:pt x="177" y="547"/>
                  </a:lnTo>
                  <a:lnTo>
                    <a:pt x="124" y="605"/>
                  </a:lnTo>
                  <a:lnTo>
                    <a:pt x="48" y="508"/>
                  </a:lnTo>
                  <a:lnTo>
                    <a:pt x="30" y="446"/>
                  </a:lnTo>
                  <a:lnTo>
                    <a:pt x="0" y="411"/>
                  </a:lnTo>
                  <a:lnTo>
                    <a:pt x="61" y="349"/>
                  </a:lnTo>
                  <a:lnTo>
                    <a:pt x="30" y="233"/>
                  </a:lnTo>
                  <a:lnTo>
                    <a:pt x="30" y="154"/>
                  </a:lnTo>
                  <a:lnTo>
                    <a:pt x="13" y="35"/>
                  </a:lnTo>
                  <a:lnTo>
                    <a:pt x="30" y="0"/>
                  </a:lnTo>
                  <a:lnTo>
                    <a:pt x="61" y="233"/>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6" name=""/>
            <p:cNvSpPr/>
            <p:nvPr/>
          </p:nvSpPr>
          <p:spPr>
            <a:xfrm>
              <a:off x="1406520" y="4849920"/>
              <a:ext cx="132120" cy="227520"/>
            </a:xfrm>
            <a:custGeom>
              <a:avLst/>
              <a:gdLst/>
              <a:ahLst/>
              <a:rect l="0" t="0" r="r" b="b"/>
              <a:pathLst>
                <a:path w="367" h="632">
                  <a:moveTo>
                    <a:pt x="287" y="0"/>
                  </a:moveTo>
                  <a:lnTo>
                    <a:pt x="186" y="256"/>
                  </a:lnTo>
                  <a:lnTo>
                    <a:pt x="92" y="375"/>
                  </a:lnTo>
                  <a:lnTo>
                    <a:pt x="0" y="455"/>
                  </a:lnTo>
                  <a:lnTo>
                    <a:pt x="92" y="375"/>
                  </a:lnTo>
                  <a:lnTo>
                    <a:pt x="167" y="296"/>
                  </a:lnTo>
                  <a:lnTo>
                    <a:pt x="110" y="455"/>
                  </a:lnTo>
                  <a:lnTo>
                    <a:pt x="0" y="632"/>
                  </a:lnTo>
                  <a:lnTo>
                    <a:pt x="136" y="455"/>
                  </a:lnTo>
                  <a:lnTo>
                    <a:pt x="212" y="314"/>
                  </a:lnTo>
                  <a:lnTo>
                    <a:pt x="287" y="79"/>
                  </a:lnTo>
                  <a:lnTo>
                    <a:pt x="367" y="336"/>
                  </a:lnTo>
                  <a:lnTo>
                    <a:pt x="305" y="39"/>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71600" y="5033880"/>
              <a:ext cx="57600" cy="136800"/>
            </a:xfrm>
            <a:custGeom>
              <a:avLst/>
              <a:gdLst/>
              <a:ahLst/>
              <a:rect l="0" t="0" r="r" b="b"/>
              <a:pathLst>
                <a:path w="160" h="380">
                  <a:moveTo>
                    <a:pt x="58" y="0"/>
                  </a:moveTo>
                  <a:lnTo>
                    <a:pt x="98" y="119"/>
                  </a:lnTo>
                  <a:lnTo>
                    <a:pt x="45" y="119"/>
                  </a:lnTo>
                  <a:lnTo>
                    <a:pt x="160" y="380"/>
                  </a:lnTo>
                  <a:lnTo>
                    <a:pt x="0" y="39"/>
                  </a:lnTo>
                  <a:lnTo>
                    <a:pt x="45" y="0"/>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8" name=""/>
            <p:cNvSpPr/>
            <p:nvPr/>
          </p:nvSpPr>
          <p:spPr>
            <a:xfrm>
              <a:off x="2117880" y="3971880"/>
              <a:ext cx="995760" cy="1387800"/>
            </a:xfrm>
            <a:custGeom>
              <a:avLst/>
              <a:gdLst/>
              <a:ahLst/>
              <a:rect l="0" t="0" r="r" b="b"/>
              <a:pathLst>
                <a:path w="2766" h="3855">
                  <a:moveTo>
                    <a:pt x="30" y="1596"/>
                  </a:moveTo>
                  <a:lnTo>
                    <a:pt x="246" y="1089"/>
                  </a:lnTo>
                  <a:lnTo>
                    <a:pt x="427" y="626"/>
                  </a:lnTo>
                  <a:lnTo>
                    <a:pt x="529" y="282"/>
                  </a:lnTo>
                  <a:lnTo>
                    <a:pt x="586" y="57"/>
                  </a:lnTo>
                  <a:lnTo>
                    <a:pt x="1024" y="339"/>
                  </a:lnTo>
                  <a:lnTo>
                    <a:pt x="1509" y="599"/>
                  </a:lnTo>
                  <a:lnTo>
                    <a:pt x="2131" y="842"/>
                  </a:lnTo>
                  <a:lnTo>
                    <a:pt x="2740" y="1001"/>
                  </a:lnTo>
                  <a:lnTo>
                    <a:pt x="2414" y="1613"/>
                  </a:lnTo>
                  <a:lnTo>
                    <a:pt x="2118" y="2377"/>
                  </a:lnTo>
                  <a:lnTo>
                    <a:pt x="1804" y="3074"/>
                  </a:lnTo>
                  <a:lnTo>
                    <a:pt x="1469" y="3603"/>
                  </a:lnTo>
                  <a:lnTo>
                    <a:pt x="1332" y="3771"/>
                  </a:lnTo>
                  <a:lnTo>
                    <a:pt x="971" y="3475"/>
                  </a:lnTo>
                  <a:lnTo>
                    <a:pt x="665" y="3325"/>
                  </a:lnTo>
                  <a:lnTo>
                    <a:pt x="542" y="3264"/>
                  </a:lnTo>
                  <a:lnTo>
                    <a:pt x="551" y="3303"/>
                  </a:lnTo>
                  <a:lnTo>
                    <a:pt x="891" y="3519"/>
                  </a:lnTo>
                  <a:lnTo>
                    <a:pt x="1094" y="3696"/>
                  </a:lnTo>
                  <a:lnTo>
                    <a:pt x="1196" y="3855"/>
                  </a:lnTo>
                  <a:lnTo>
                    <a:pt x="1240" y="3753"/>
                  </a:lnTo>
                  <a:lnTo>
                    <a:pt x="1368" y="3811"/>
                  </a:lnTo>
                  <a:lnTo>
                    <a:pt x="1557" y="3519"/>
                  </a:lnTo>
                  <a:lnTo>
                    <a:pt x="1782" y="3176"/>
                  </a:lnTo>
                  <a:lnTo>
                    <a:pt x="2064" y="2580"/>
                  </a:lnTo>
                  <a:lnTo>
                    <a:pt x="2352" y="1918"/>
                  </a:lnTo>
                  <a:lnTo>
                    <a:pt x="2546" y="1569"/>
                  </a:lnTo>
                  <a:lnTo>
                    <a:pt x="2731" y="1367"/>
                  </a:lnTo>
                  <a:lnTo>
                    <a:pt x="2616" y="1305"/>
                  </a:lnTo>
                  <a:lnTo>
                    <a:pt x="2766" y="987"/>
                  </a:lnTo>
                  <a:lnTo>
                    <a:pt x="2211" y="829"/>
                  </a:lnTo>
                  <a:lnTo>
                    <a:pt x="1734" y="652"/>
                  </a:lnTo>
                  <a:lnTo>
                    <a:pt x="1275" y="440"/>
                  </a:lnTo>
                  <a:lnTo>
                    <a:pt x="869" y="211"/>
                  </a:lnTo>
                  <a:lnTo>
                    <a:pt x="551" y="0"/>
                  </a:lnTo>
                  <a:lnTo>
                    <a:pt x="418" y="524"/>
                  </a:lnTo>
                  <a:lnTo>
                    <a:pt x="194" y="1164"/>
                  </a:lnTo>
                  <a:lnTo>
                    <a:pt x="0" y="1583"/>
                  </a:lnTo>
                  <a:lnTo>
                    <a:pt x="30" y="1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2008080" y="4541760"/>
              <a:ext cx="195480" cy="222480"/>
            </a:xfrm>
            <a:custGeom>
              <a:avLst/>
              <a:gdLst/>
              <a:ahLst/>
              <a:rect l="0" t="0" r="r" b="b"/>
              <a:pathLst>
                <a:path w="543" h="618">
                  <a:moveTo>
                    <a:pt x="202" y="0"/>
                  </a:moveTo>
                  <a:lnTo>
                    <a:pt x="371" y="66"/>
                  </a:lnTo>
                  <a:lnTo>
                    <a:pt x="472" y="141"/>
                  </a:lnTo>
                  <a:lnTo>
                    <a:pt x="530" y="180"/>
                  </a:lnTo>
                  <a:lnTo>
                    <a:pt x="516" y="242"/>
                  </a:lnTo>
                  <a:lnTo>
                    <a:pt x="406" y="273"/>
                  </a:lnTo>
                  <a:lnTo>
                    <a:pt x="246" y="255"/>
                  </a:lnTo>
                  <a:lnTo>
                    <a:pt x="132" y="229"/>
                  </a:lnTo>
                  <a:lnTo>
                    <a:pt x="167" y="299"/>
                  </a:lnTo>
                  <a:lnTo>
                    <a:pt x="154" y="437"/>
                  </a:lnTo>
                  <a:lnTo>
                    <a:pt x="92" y="525"/>
                  </a:lnTo>
                  <a:lnTo>
                    <a:pt x="22" y="314"/>
                  </a:lnTo>
                  <a:lnTo>
                    <a:pt x="48" y="154"/>
                  </a:lnTo>
                  <a:lnTo>
                    <a:pt x="110" y="52"/>
                  </a:lnTo>
                  <a:lnTo>
                    <a:pt x="154" y="13"/>
                  </a:lnTo>
                  <a:lnTo>
                    <a:pt x="92" y="13"/>
                  </a:lnTo>
                  <a:lnTo>
                    <a:pt x="22" y="141"/>
                  </a:lnTo>
                  <a:lnTo>
                    <a:pt x="0" y="286"/>
                  </a:lnTo>
                  <a:lnTo>
                    <a:pt x="35" y="437"/>
                  </a:lnTo>
                  <a:lnTo>
                    <a:pt x="79" y="618"/>
                  </a:lnTo>
                  <a:lnTo>
                    <a:pt x="211" y="424"/>
                  </a:lnTo>
                  <a:lnTo>
                    <a:pt x="268" y="299"/>
                  </a:lnTo>
                  <a:lnTo>
                    <a:pt x="428" y="299"/>
                  </a:lnTo>
                  <a:lnTo>
                    <a:pt x="516" y="273"/>
                  </a:lnTo>
                  <a:lnTo>
                    <a:pt x="543" y="229"/>
                  </a:lnTo>
                  <a:lnTo>
                    <a:pt x="530" y="180"/>
                  </a:lnTo>
                  <a:lnTo>
                    <a:pt x="362" y="30"/>
                  </a:lnTo>
                  <a:lnTo>
                    <a:pt x="2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1708200" y="4935600"/>
              <a:ext cx="284400" cy="79560"/>
            </a:xfrm>
            <a:custGeom>
              <a:avLst/>
              <a:gdLst/>
              <a:ahLst/>
              <a:rect l="0" t="0" r="r" b="b"/>
              <a:pathLst>
                <a:path w="790" h="221">
                  <a:moveTo>
                    <a:pt x="22" y="133"/>
                  </a:moveTo>
                  <a:lnTo>
                    <a:pt x="339" y="48"/>
                  </a:lnTo>
                  <a:lnTo>
                    <a:pt x="516" y="17"/>
                  </a:lnTo>
                  <a:lnTo>
                    <a:pt x="680" y="30"/>
                  </a:lnTo>
                  <a:lnTo>
                    <a:pt x="755" y="92"/>
                  </a:lnTo>
                  <a:lnTo>
                    <a:pt x="697" y="150"/>
                  </a:lnTo>
                  <a:lnTo>
                    <a:pt x="622" y="164"/>
                  </a:lnTo>
                  <a:lnTo>
                    <a:pt x="587" y="221"/>
                  </a:lnTo>
                  <a:lnTo>
                    <a:pt x="719" y="190"/>
                  </a:lnTo>
                  <a:lnTo>
                    <a:pt x="755" y="133"/>
                  </a:lnTo>
                  <a:lnTo>
                    <a:pt x="790" y="92"/>
                  </a:lnTo>
                  <a:lnTo>
                    <a:pt x="755" y="30"/>
                  </a:lnTo>
                  <a:lnTo>
                    <a:pt x="631" y="0"/>
                  </a:lnTo>
                  <a:lnTo>
                    <a:pt x="503" y="0"/>
                  </a:lnTo>
                  <a:lnTo>
                    <a:pt x="167" y="74"/>
                  </a:lnTo>
                  <a:lnTo>
                    <a:pt x="0" y="120"/>
                  </a:lnTo>
                  <a:lnTo>
                    <a:pt x="22" y="13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41" name=""/>
            <p:cNvSpPr/>
            <p:nvPr/>
          </p:nvSpPr>
          <p:spPr>
            <a:xfrm>
              <a:off x="1870200" y="4989600"/>
              <a:ext cx="52920" cy="11520"/>
            </a:xfrm>
            <a:custGeom>
              <a:avLst/>
              <a:gdLst/>
              <a:ahLst/>
              <a:rect l="0" t="0" r="r" b="b"/>
              <a:pathLst>
                <a:path w="147" h="32">
                  <a:moveTo>
                    <a:pt x="138" y="0"/>
                  </a:moveTo>
                  <a:lnTo>
                    <a:pt x="0" y="0"/>
                  </a:lnTo>
                  <a:lnTo>
                    <a:pt x="147" y="32"/>
                  </a:lnTo>
                  <a:lnTo>
                    <a:pt x="138"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42" name=""/>
            <p:cNvSpPr/>
            <p:nvPr/>
          </p:nvSpPr>
          <p:spPr>
            <a:xfrm>
              <a:off x="2073240" y="4795920"/>
              <a:ext cx="174960" cy="251280"/>
            </a:xfrm>
            <a:custGeom>
              <a:avLst/>
              <a:gdLst/>
              <a:ahLst/>
              <a:rect l="0" t="0" r="r" b="b"/>
              <a:pathLst>
                <a:path w="486" h="698">
                  <a:moveTo>
                    <a:pt x="44" y="0"/>
                  </a:moveTo>
                  <a:lnTo>
                    <a:pt x="477" y="610"/>
                  </a:lnTo>
                  <a:lnTo>
                    <a:pt x="486" y="698"/>
                  </a:lnTo>
                  <a:lnTo>
                    <a:pt x="419" y="654"/>
                  </a:lnTo>
                  <a:lnTo>
                    <a:pt x="419" y="610"/>
                  </a:lnTo>
                  <a:lnTo>
                    <a:pt x="0"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1955880" y="4884840"/>
              <a:ext cx="100440" cy="62280"/>
            </a:xfrm>
            <a:custGeom>
              <a:avLst/>
              <a:gdLst/>
              <a:ahLst/>
              <a:rect l="0" t="0" r="r" b="b"/>
              <a:pathLst>
                <a:path w="279" h="173">
                  <a:moveTo>
                    <a:pt x="22" y="134"/>
                  </a:moveTo>
                  <a:lnTo>
                    <a:pt x="240" y="0"/>
                  </a:lnTo>
                  <a:lnTo>
                    <a:pt x="279" y="58"/>
                  </a:lnTo>
                  <a:lnTo>
                    <a:pt x="66" y="173"/>
                  </a:lnTo>
                  <a:lnTo>
                    <a:pt x="0" y="160"/>
                  </a:lnTo>
                  <a:lnTo>
                    <a:pt x="22" y="134"/>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744" name=""/>
            <p:cNvSpPr/>
            <p:nvPr/>
          </p:nvSpPr>
          <p:spPr>
            <a:xfrm>
              <a:off x="2128680" y="4537080"/>
              <a:ext cx="484560" cy="322560"/>
            </a:xfrm>
            <a:custGeom>
              <a:avLst/>
              <a:gdLst/>
              <a:ahLst/>
              <a:rect l="0" t="0" r="r" b="b"/>
              <a:pathLst>
                <a:path w="1346" h="896">
                  <a:moveTo>
                    <a:pt x="0" y="834"/>
                  </a:moveTo>
                  <a:lnTo>
                    <a:pt x="1311" y="0"/>
                  </a:lnTo>
                  <a:lnTo>
                    <a:pt x="1346" y="26"/>
                  </a:lnTo>
                  <a:lnTo>
                    <a:pt x="1338" y="44"/>
                  </a:lnTo>
                  <a:lnTo>
                    <a:pt x="44" y="896"/>
                  </a:lnTo>
                  <a:lnTo>
                    <a:pt x="622" y="481"/>
                  </a:lnTo>
                  <a:lnTo>
                    <a:pt x="0" y="8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1865160" y="4654440"/>
              <a:ext cx="224280" cy="335160"/>
            </a:xfrm>
            <a:custGeom>
              <a:avLst/>
              <a:gdLst/>
              <a:ahLst/>
              <a:rect l="0" t="0" r="r" b="b"/>
              <a:pathLst>
                <a:path w="623" h="931">
                  <a:moveTo>
                    <a:pt x="455" y="335"/>
                  </a:moveTo>
                  <a:lnTo>
                    <a:pt x="283" y="596"/>
                  </a:lnTo>
                  <a:lnTo>
                    <a:pt x="149" y="741"/>
                  </a:lnTo>
                  <a:lnTo>
                    <a:pt x="623" y="900"/>
                  </a:lnTo>
                  <a:lnTo>
                    <a:pt x="509" y="931"/>
                  </a:lnTo>
                  <a:lnTo>
                    <a:pt x="340" y="900"/>
                  </a:lnTo>
                  <a:lnTo>
                    <a:pt x="309" y="812"/>
                  </a:lnTo>
                  <a:lnTo>
                    <a:pt x="114" y="772"/>
                  </a:lnTo>
                  <a:lnTo>
                    <a:pt x="74" y="741"/>
                  </a:lnTo>
                  <a:lnTo>
                    <a:pt x="261" y="569"/>
                  </a:lnTo>
                  <a:lnTo>
                    <a:pt x="340" y="423"/>
                  </a:lnTo>
                  <a:lnTo>
                    <a:pt x="331" y="268"/>
                  </a:lnTo>
                  <a:lnTo>
                    <a:pt x="186" y="268"/>
                  </a:lnTo>
                  <a:lnTo>
                    <a:pt x="172" y="136"/>
                  </a:lnTo>
                  <a:lnTo>
                    <a:pt x="243" y="238"/>
                  </a:lnTo>
                  <a:lnTo>
                    <a:pt x="397" y="194"/>
                  </a:lnTo>
                  <a:lnTo>
                    <a:pt x="353" y="123"/>
                  </a:lnTo>
                  <a:lnTo>
                    <a:pt x="274" y="48"/>
                  </a:lnTo>
                  <a:lnTo>
                    <a:pt x="208" y="22"/>
                  </a:lnTo>
                  <a:lnTo>
                    <a:pt x="0" y="22"/>
                  </a:lnTo>
                  <a:lnTo>
                    <a:pt x="261" y="0"/>
                  </a:lnTo>
                  <a:lnTo>
                    <a:pt x="375" y="66"/>
                  </a:lnTo>
                  <a:lnTo>
                    <a:pt x="455" y="136"/>
                  </a:lnTo>
                  <a:lnTo>
                    <a:pt x="478" y="251"/>
                  </a:lnTo>
                  <a:lnTo>
                    <a:pt x="455" y="33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2219400" y="4941720"/>
              <a:ext cx="154440" cy="194040"/>
            </a:xfrm>
            <a:custGeom>
              <a:avLst/>
              <a:gdLst/>
              <a:ahLst/>
              <a:rect l="0" t="0" r="r" b="b"/>
              <a:pathLst>
                <a:path w="429" h="539">
                  <a:moveTo>
                    <a:pt x="0" y="44"/>
                  </a:moveTo>
                  <a:lnTo>
                    <a:pt x="234" y="0"/>
                  </a:lnTo>
                  <a:lnTo>
                    <a:pt x="137" y="146"/>
                  </a:lnTo>
                  <a:lnTo>
                    <a:pt x="314" y="101"/>
                  </a:lnTo>
                  <a:lnTo>
                    <a:pt x="168" y="292"/>
                  </a:lnTo>
                  <a:lnTo>
                    <a:pt x="429" y="336"/>
                  </a:lnTo>
                  <a:lnTo>
                    <a:pt x="225" y="539"/>
                  </a:lnTo>
                  <a:lnTo>
                    <a:pt x="168" y="367"/>
                  </a:lnTo>
                  <a:lnTo>
                    <a:pt x="372" y="336"/>
                  </a:lnTo>
                  <a:lnTo>
                    <a:pt x="101" y="292"/>
                  </a:lnTo>
                  <a:lnTo>
                    <a:pt x="234" y="146"/>
                  </a:lnTo>
                  <a:lnTo>
                    <a:pt x="57" y="164"/>
                  </a:lnTo>
                  <a:lnTo>
                    <a:pt x="137" y="57"/>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7" name=""/>
          <p:cNvSpPr txBox="1"/>
          <p:nvPr/>
        </p:nvSpPr>
        <p:spPr>
          <a:xfrm>
            <a:off x="1981080" y="2590920"/>
            <a:ext cx="6781680" cy="205740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8</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Calculate book value per share.</a:t>
            </a:r>
            <a:endParaRPr b="0" lang="en-US" sz="3200" spc="-1" strike="noStrike">
              <a:solidFill>
                <a:srgbClr val="ffffff"/>
              </a:solidFill>
              <a:latin typeface="Arial"/>
            </a:endParaRPr>
          </a:p>
        </p:txBody>
      </p:sp>
      <p:sp>
        <p:nvSpPr>
          <p:cNvPr id="748" name=""/>
          <p:cNvSpPr txBox="1"/>
          <p:nvPr/>
        </p:nvSpPr>
        <p:spPr>
          <a:xfrm>
            <a:off x="1600200" y="1295280"/>
            <a:ext cx="6324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pic>
        <p:nvPicPr>
          <p:cNvPr id="749"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50" name=""/>
          <p:cNvSpPr txBox="1"/>
          <p:nvPr/>
        </p:nvSpPr>
        <p:spPr>
          <a:xfrm>
            <a:off x="838080" y="457200"/>
            <a:ext cx="7848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sp>
        <p:nvSpPr>
          <p:cNvPr id="751" name=""/>
          <p:cNvSpPr txBox="1"/>
          <p:nvPr/>
        </p:nvSpPr>
        <p:spPr>
          <a:xfrm>
            <a:off x="1219320" y="1523880"/>
            <a:ext cx="7051680" cy="2057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book value</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of a company’s stock represents the total assets of the company less its liabilities.</a:t>
            </a:r>
            <a:endParaRPr b="0" lang="en-US" sz="3200" spc="-1" strike="noStrike">
              <a:solidFill>
                <a:srgbClr val="ffffff"/>
              </a:solidFill>
              <a:latin typeface="Arial"/>
            </a:endParaRPr>
          </a:p>
        </p:txBody>
      </p:sp>
      <p:grpSp>
        <p:nvGrpSpPr>
          <p:cNvPr id="752" name=""/>
          <p:cNvGrpSpPr/>
          <p:nvPr/>
        </p:nvGrpSpPr>
        <p:grpSpPr>
          <a:xfrm>
            <a:off x="4800600" y="3886200"/>
            <a:ext cx="3708360" cy="2184480"/>
            <a:chOff x="4800600" y="3886200"/>
            <a:chExt cx="3708360" cy="2184480"/>
          </a:xfrm>
        </p:grpSpPr>
        <p:grpSp>
          <p:nvGrpSpPr>
            <p:cNvPr id="753" name=""/>
            <p:cNvGrpSpPr/>
            <p:nvPr/>
          </p:nvGrpSpPr>
          <p:grpSpPr>
            <a:xfrm>
              <a:off x="4800600" y="3886200"/>
              <a:ext cx="3358080" cy="2057760"/>
              <a:chOff x="4800600" y="3886200"/>
              <a:chExt cx="3358080" cy="2057760"/>
            </a:xfrm>
          </p:grpSpPr>
          <p:sp>
            <p:nvSpPr>
              <p:cNvPr id="754" name=""/>
              <p:cNvSpPr/>
              <p:nvPr/>
            </p:nvSpPr>
            <p:spPr>
              <a:xfrm>
                <a:off x="5108400" y="3895560"/>
                <a:ext cx="2948400" cy="1554480"/>
              </a:xfrm>
              <a:custGeom>
                <a:avLst/>
                <a:gdLst/>
                <a:ahLst/>
                <a:rect l="0" t="0" r="r" b="b"/>
                <a:pathLst>
                  <a:path w="8190" h="4318">
                    <a:moveTo>
                      <a:pt x="1971" y="612"/>
                    </a:moveTo>
                    <a:lnTo>
                      <a:pt x="3136" y="463"/>
                    </a:lnTo>
                    <a:lnTo>
                      <a:pt x="4097" y="97"/>
                    </a:lnTo>
                    <a:lnTo>
                      <a:pt x="4260" y="0"/>
                    </a:lnTo>
                    <a:lnTo>
                      <a:pt x="4520" y="145"/>
                    </a:lnTo>
                    <a:lnTo>
                      <a:pt x="5592" y="463"/>
                    </a:lnTo>
                    <a:lnTo>
                      <a:pt x="7957" y="582"/>
                    </a:lnTo>
                    <a:lnTo>
                      <a:pt x="7820" y="643"/>
                    </a:lnTo>
                    <a:lnTo>
                      <a:pt x="7957" y="732"/>
                    </a:lnTo>
                    <a:lnTo>
                      <a:pt x="7935" y="939"/>
                    </a:lnTo>
                    <a:lnTo>
                      <a:pt x="7904" y="1490"/>
                    </a:lnTo>
                    <a:lnTo>
                      <a:pt x="8190" y="1644"/>
                    </a:lnTo>
                    <a:lnTo>
                      <a:pt x="7992" y="2219"/>
                    </a:lnTo>
                    <a:lnTo>
                      <a:pt x="8023" y="2620"/>
                    </a:lnTo>
                    <a:lnTo>
                      <a:pt x="4520" y="4102"/>
                    </a:lnTo>
                    <a:lnTo>
                      <a:pt x="3506" y="4318"/>
                    </a:lnTo>
                    <a:lnTo>
                      <a:pt x="0" y="820"/>
                    </a:lnTo>
                    <a:lnTo>
                      <a:pt x="1971" y="61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5049720" y="4300560"/>
                <a:ext cx="1635480" cy="493920"/>
              </a:xfrm>
              <a:custGeom>
                <a:avLst/>
                <a:gdLst/>
                <a:ahLst/>
                <a:rect l="0" t="0" r="r" b="b"/>
                <a:pathLst>
                  <a:path w="4543" h="1372">
                    <a:moveTo>
                      <a:pt x="277" y="30"/>
                    </a:moveTo>
                    <a:lnTo>
                      <a:pt x="0" y="282"/>
                    </a:lnTo>
                    <a:lnTo>
                      <a:pt x="1640" y="674"/>
                    </a:lnTo>
                    <a:lnTo>
                      <a:pt x="3131" y="1372"/>
                    </a:lnTo>
                    <a:lnTo>
                      <a:pt x="3586" y="918"/>
                    </a:lnTo>
                    <a:lnTo>
                      <a:pt x="4543" y="427"/>
                    </a:lnTo>
                    <a:lnTo>
                      <a:pt x="3700" y="674"/>
                    </a:lnTo>
                    <a:lnTo>
                      <a:pt x="3184" y="1037"/>
                    </a:lnTo>
                    <a:lnTo>
                      <a:pt x="2452" y="733"/>
                    </a:lnTo>
                    <a:lnTo>
                      <a:pt x="1583" y="396"/>
                    </a:lnTo>
                    <a:lnTo>
                      <a:pt x="392" y="0"/>
                    </a:lnTo>
                    <a:lnTo>
                      <a:pt x="277" y="3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4987800" y="4116240"/>
                <a:ext cx="1362600" cy="446400"/>
              </a:xfrm>
              <a:custGeom>
                <a:avLst/>
                <a:gdLst/>
                <a:ahLst/>
                <a:rect l="0" t="0" r="r" b="b"/>
                <a:pathLst>
                  <a:path w="3785" h="1240">
                    <a:moveTo>
                      <a:pt x="401" y="0"/>
                    </a:moveTo>
                    <a:lnTo>
                      <a:pt x="2885" y="997"/>
                    </a:lnTo>
                    <a:lnTo>
                      <a:pt x="3785" y="944"/>
                    </a:lnTo>
                    <a:lnTo>
                      <a:pt x="2571" y="1240"/>
                    </a:lnTo>
                    <a:lnTo>
                      <a:pt x="1980" y="847"/>
                    </a:lnTo>
                    <a:lnTo>
                      <a:pt x="0" y="211"/>
                    </a:lnTo>
                    <a:lnTo>
                      <a:pt x="40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5149800" y="4203720"/>
                <a:ext cx="3000600" cy="886320"/>
              </a:xfrm>
              <a:custGeom>
                <a:avLst/>
                <a:gdLst/>
                <a:ahLst/>
                <a:rect l="0" t="0" r="r" b="b"/>
                <a:pathLst>
                  <a:path w="8335" h="2462">
                    <a:moveTo>
                      <a:pt x="171" y="878"/>
                    </a:moveTo>
                    <a:lnTo>
                      <a:pt x="0" y="1156"/>
                    </a:lnTo>
                    <a:lnTo>
                      <a:pt x="0" y="1429"/>
                    </a:lnTo>
                    <a:lnTo>
                      <a:pt x="260" y="1667"/>
                    </a:lnTo>
                    <a:lnTo>
                      <a:pt x="3536" y="2462"/>
                    </a:lnTo>
                    <a:lnTo>
                      <a:pt x="8335" y="1037"/>
                    </a:lnTo>
                    <a:lnTo>
                      <a:pt x="8335" y="821"/>
                    </a:lnTo>
                    <a:lnTo>
                      <a:pt x="8079" y="790"/>
                    </a:lnTo>
                    <a:lnTo>
                      <a:pt x="3646" y="2127"/>
                    </a:lnTo>
                    <a:lnTo>
                      <a:pt x="3620" y="1795"/>
                    </a:lnTo>
                    <a:lnTo>
                      <a:pt x="3761" y="1248"/>
                    </a:lnTo>
                    <a:lnTo>
                      <a:pt x="7881" y="0"/>
                    </a:lnTo>
                    <a:lnTo>
                      <a:pt x="6862" y="119"/>
                    </a:lnTo>
                    <a:lnTo>
                      <a:pt x="5310" y="485"/>
                    </a:lnTo>
                    <a:lnTo>
                      <a:pt x="4181" y="790"/>
                    </a:lnTo>
                    <a:lnTo>
                      <a:pt x="3333" y="1248"/>
                    </a:lnTo>
                    <a:lnTo>
                      <a:pt x="3051" y="1610"/>
                    </a:lnTo>
                    <a:lnTo>
                      <a:pt x="3025" y="1764"/>
                    </a:lnTo>
                    <a:lnTo>
                      <a:pt x="2262" y="1372"/>
                    </a:lnTo>
                    <a:lnTo>
                      <a:pt x="1075" y="971"/>
                    </a:lnTo>
                    <a:lnTo>
                      <a:pt x="485" y="878"/>
                    </a:lnTo>
                    <a:lnTo>
                      <a:pt x="171" y="878"/>
                    </a:lnTo>
                    <a:close/>
                  </a:path>
                </a:pathLst>
              </a:custGeom>
              <a:solidFill>
                <a:srgbClr val="004200"/>
              </a:solidFill>
              <a:ln w="12600">
                <a:solidFill>
                  <a:srgbClr val="0042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8" name=""/>
              <p:cNvSpPr/>
              <p:nvPr/>
            </p:nvSpPr>
            <p:spPr>
              <a:xfrm>
                <a:off x="5140440" y="4465800"/>
                <a:ext cx="1108440" cy="394200"/>
              </a:xfrm>
              <a:custGeom>
                <a:avLst/>
                <a:gdLst/>
                <a:ahLst/>
                <a:rect l="0" t="0" r="r" b="b"/>
                <a:pathLst>
                  <a:path w="3079" h="1095">
                    <a:moveTo>
                      <a:pt x="286" y="0"/>
                    </a:moveTo>
                    <a:lnTo>
                      <a:pt x="0" y="397"/>
                    </a:lnTo>
                    <a:lnTo>
                      <a:pt x="83" y="455"/>
                    </a:lnTo>
                    <a:lnTo>
                      <a:pt x="255" y="521"/>
                    </a:lnTo>
                    <a:lnTo>
                      <a:pt x="427" y="428"/>
                    </a:lnTo>
                    <a:lnTo>
                      <a:pt x="480" y="521"/>
                    </a:lnTo>
                    <a:lnTo>
                      <a:pt x="709" y="367"/>
                    </a:lnTo>
                    <a:lnTo>
                      <a:pt x="758" y="609"/>
                    </a:lnTo>
                    <a:lnTo>
                      <a:pt x="1019" y="486"/>
                    </a:lnTo>
                    <a:lnTo>
                      <a:pt x="1046" y="640"/>
                    </a:lnTo>
                    <a:lnTo>
                      <a:pt x="1244" y="547"/>
                    </a:lnTo>
                    <a:lnTo>
                      <a:pt x="1244" y="702"/>
                    </a:lnTo>
                    <a:lnTo>
                      <a:pt x="1473" y="640"/>
                    </a:lnTo>
                    <a:lnTo>
                      <a:pt x="1500" y="728"/>
                    </a:lnTo>
                    <a:lnTo>
                      <a:pt x="1751" y="609"/>
                    </a:lnTo>
                    <a:lnTo>
                      <a:pt x="1782" y="794"/>
                    </a:lnTo>
                    <a:lnTo>
                      <a:pt x="2003" y="702"/>
                    </a:lnTo>
                    <a:lnTo>
                      <a:pt x="2060" y="822"/>
                    </a:lnTo>
                    <a:lnTo>
                      <a:pt x="2236" y="794"/>
                    </a:lnTo>
                    <a:lnTo>
                      <a:pt x="2294" y="910"/>
                    </a:lnTo>
                    <a:lnTo>
                      <a:pt x="2515" y="941"/>
                    </a:lnTo>
                    <a:lnTo>
                      <a:pt x="2771" y="1095"/>
                    </a:lnTo>
                    <a:lnTo>
                      <a:pt x="3079" y="1095"/>
                    </a:lnTo>
                    <a:lnTo>
                      <a:pt x="2405" y="702"/>
                    </a:lnTo>
                    <a:lnTo>
                      <a:pt x="1332" y="273"/>
                    </a:lnTo>
                    <a:lnTo>
                      <a:pt x="652" y="61"/>
                    </a:lnTo>
                    <a:lnTo>
                      <a:pt x="286" y="0"/>
                    </a:lnTo>
                    <a:close/>
                  </a:path>
                </a:pathLst>
              </a:custGeom>
              <a:solidFill>
                <a:srgbClr val="00c200"/>
              </a:solidFill>
              <a:ln w="12600">
                <a:solidFill>
                  <a:srgbClr val="00c2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6186600" y="4608360"/>
                <a:ext cx="1862640" cy="910080"/>
              </a:xfrm>
              <a:custGeom>
                <a:avLst/>
                <a:gdLst/>
                <a:ahLst/>
                <a:rect l="0" t="0" r="r" b="b"/>
                <a:pathLst>
                  <a:path w="5174" h="2528">
                    <a:moveTo>
                      <a:pt x="427" y="1275"/>
                    </a:moveTo>
                    <a:lnTo>
                      <a:pt x="709" y="1275"/>
                    </a:lnTo>
                    <a:lnTo>
                      <a:pt x="5174" y="0"/>
                    </a:lnTo>
                    <a:lnTo>
                      <a:pt x="5117" y="180"/>
                    </a:lnTo>
                    <a:lnTo>
                      <a:pt x="4971" y="242"/>
                    </a:lnTo>
                    <a:lnTo>
                      <a:pt x="652" y="1465"/>
                    </a:lnTo>
                    <a:lnTo>
                      <a:pt x="480" y="1769"/>
                    </a:lnTo>
                    <a:lnTo>
                      <a:pt x="515" y="2193"/>
                    </a:lnTo>
                    <a:lnTo>
                      <a:pt x="564" y="2250"/>
                    </a:lnTo>
                    <a:lnTo>
                      <a:pt x="1778" y="1981"/>
                    </a:lnTo>
                    <a:lnTo>
                      <a:pt x="1778" y="2228"/>
                    </a:lnTo>
                    <a:lnTo>
                      <a:pt x="480" y="2528"/>
                    </a:lnTo>
                    <a:lnTo>
                      <a:pt x="224" y="2405"/>
                    </a:lnTo>
                    <a:lnTo>
                      <a:pt x="0" y="2193"/>
                    </a:lnTo>
                    <a:lnTo>
                      <a:pt x="83" y="1522"/>
                    </a:lnTo>
                    <a:lnTo>
                      <a:pt x="427" y="127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 name=""/>
              <p:cNvSpPr/>
              <p:nvPr/>
            </p:nvSpPr>
            <p:spPr>
              <a:xfrm>
                <a:off x="5091120" y="4805280"/>
                <a:ext cx="1281600" cy="700560"/>
              </a:xfrm>
              <a:custGeom>
                <a:avLst/>
                <a:gdLst/>
                <a:ahLst/>
                <a:rect l="0" t="0" r="r" b="b"/>
                <a:pathLst>
                  <a:path w="3560" h="1946">
                    <a:moveTo>
                      <a:pt x="418" y="30"/>
                    </a:moveTo>
                    <a:lnTo>
                      <a:pt x="132" y="251"/>
                    </a:lnTo>
                    <a:lnTo>
                      <a:pt x="0" y="463"/>
                    </a:lnTo>
                    <a:lnTo>
                      <a:pt x="0" y="759"/>
                    </a:lnTo>
                    <a:lnTo>
                      <a:pt x="304" y="1090"/>
                    </a:lnTo>
                    <a:lnTo>
                      <a:pt x="3529" y="1946"/>
                    </a:lnTo>
                    <a:lnTo>
                      <a:pt x="3216" y="1704"/>
                    </a:lnTo>
                    <a:lnTo>
                      <a:pt x="3247" y="1218"/>
                    </a:lnTo>
                    <a:lnTo>
                      <a:pt x="3357" y="913"/>
                    </a:lnTo>
                    <a:lnTo>
                      <a:pt x="3560" y="697"/>
                    </a:lnTo>
                    <a:lnTo>
                      <a:pt x="1694" y="277"/>
                    </a:lnTo>
                    <a:lnTo>
                      <a:pt x="652" y="0"/>
                    </a:lnTo>
                    <a:lnTo>
                      <a:pt x="418"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5688000" y="4916520"/>
                <a:ext cx="478080" cy="492480"/>
              </a:xfrm>
              <a:custGeom>
                <a:avLst/>
                <a:gdLst/>
                <a:ahLst/>
                <a:rect l="0" t="0" r="r" b="b"/>
                <a:pathLst>
                  <a:path w="1328" h="1368">
                    <a:moveTo>
                      <a:pt x="317" y="92"/>
                    </a:moveTo>
                    <a:lnTo>
                      <a:pt x="61" y="449"/>
                    </a:lnTo>
                    <a:lnTo>
                      <a:pt x="0" y="790"/>
                    </a:lnTo>
                    <a:lnTo>
                      <a:pt x="114" y="1182"/>
                    </a:lnTo>
                    <a:lnTo>
                      <a:pt x="1138" y="1368"/>
                    </a:lnTo>
                    <a:lnTo>
                      <a:pt x="909" y="878"/>
                    </a:lnTo>
                    <a:lnTo>
                      <a:pt x="1019" y="542"/>
                    </a:lnTo>
                    <a:lnTo>
                      <a:pt x="1328" y="273"/>
                    </a:lnTo>
                    <a:lnTo>
                      <a:pt x="392" y="0"/>
                    </a:lnTo>
                    <a:lnTo>
                      <a:pt x="317" y="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6332400" y="3984480"/>
                <a:ext cx="1716480" cy="470160"/>
              </a:xfrm>
              <a:custGeom>
                <a:avLst/>
                <a:gdLst/>
                <a:ahLst/>
                <a:rect l="0" t="0" r="r" b="b"/>
                <a:pathLst>
                  <a:path w="4768" h="1306">
                    <a:moveTo>
                      <a:pt x="4768" y="0"/>
                    </a:moveTo>
                    <a:lnTo>
                      <a:pt x="4204" y="145"/>
                    </a:lnTo>
                    <a:lnTo>
                      <a:pt x="3295" y="216"/>
                    </a:lnTo>
                    <a:lnTo>
                      <a:pt x="2029" y="92"/>
                    </a:lnTo>
                    <a:lnTo>
                      <a:pt x="1517" y="30"/>
                    </a:lnTo>
                    <a:lnTo>
                      <a:pt x="1040" y="92"/>
                    </a:lnTo>
                    <a:lnTo>
                      <a:pt x="1517" y="145"/>
                    </a:lnTo>
                    <a:lnTo>
                      <a:pt x="1067" y="242"/>
                    </a:lnTo>
                    <a:lnTo>
                      <a:pt x="1914" y="216"/>
                    </a:lnTo>
                    <a:lnTo>
                      <a:pt x="1124" y="335"/>
                    </a:lnTo>
                    <a:lnTo>
                      <a:pt x="2448" y="299"/>
                    </a:lnTo>
                    <a:lnTo>
                      <a:pt x="1098" y="454"/>
                    </a:lnTo>
                    <a:lnTo>
                      <a:pt x="2730" y="396"/>
                    </a:lnTo>
                    <a:lnTo>
                      <a:pt x="1098" y="608"/>
                    </a:lnTo>
                    <a:lnTo>
                      <a:pt x="3048" y="485"/>
                    </a:lnTo>
                    <a:lnTo>
                      <a:pt x="1040" y="785"/>
                    </a:lnTo>
                    <a:lnTo>
                      <a:pt x="3158" y="608"/>
                    </a:lnTo>
                    <a:lnTo>
                      <a:pt x="1040" y="940"/>
                    </a:lnTo>
                    <a:lnTo>
                      <a:pt x="2964" y="759"/>
                    </a:lnTo>
                    <a:lnTo>
                      <a:pt x="1009" y="1125"/>
                    </a:lnTo>
                    <a:lnTo>
                      <a:pt x="0" y="1306"/>
                    </a:lnTo>
                    <a:lnTo>
                      <a:pt x="1517" y="1213"/>
                    </a:lnTo>
                    <a:lnTo>
                      <a:pt x="3550" y="693"/>
                    </a:lnTo>
                    <a:lnTo>
                      <a:pt x="4288" y="335"/>
                    </a:lnTo>
                    <a:lnTo>
                      <a:pt x="4596" y="92"/>
                    </a:lnTo>
                    <a:lnTo>
                      <a:pt x="476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844880" y="4148280"/>
                <a:ext cx="1292760" cy="406800"/>
              </a:xfrm>
              <a:custGeom>
                <a:avLst/>
                <a:gdLst/>
                <a:ahLst/>
                <a:rect l="0" t="0" r="r" b="b"/>
                <a:pathLst>
                  <a:path w="3591" h="1130">
                    <a:moveTo>
                      <a:pt x="0" y="149"/>
                    </a:moveTo>
                    <a:lnTo>
                      <a:pt x="511" y="336"/>
                    </a:lnTo>
                    <a:lnTo>
                      <a:pt x="2148" y="710"/>
                    </a:lnTo>
                    <a:lnTo>
                      <a:pt x="2602" y="857"/>
                    </a:lnTo>
                    <a:lnTo>
                      <a:pt x="2916" y="1130"/>
                    </a:lnTo>
                    <a:lnTo>
                      <a:pt x="3591" y="950"/>
                    </a:lnTo>
                    <a:lnTo>
                      <a:pt x="3057" y="1007"/>
                    </a:lnTo>
                    <a:lnTo>
                      <a:pt x="3221" y="883"/>
                    </a:lnTo>
                    <a:lnTo>
                      <a:pt x="2916" y="883"/>
                    </a:lnTo>
                    <a:lnTo>
                      <a:pt x="2855" y="794"/>
                    </a:lnTo>
                    <a:lnTo>
                      <a:pt x="2518" y="640"/>
                    </a:lnTo>
                    <a:lnTo>
                      <a:pt x="2011" y="521"/>
                    </a:lnTo>
                    <a:lnTo>
                      <a:pt x="1165" y="336"/>
                    </a:lnTo>
                    <a:lnTo>
                      <a:pt x="458" y="119"/>
                    </a:lnTo>
                    <a:lnTo>
                      <a:pt x="798" y="66"/>
                    </a:lnTo>
                    <a:lnTo>
                      <a:pt x="683" y="0"/>
                    </a:lnTo>
                    <a:lnTo>
                      <a:pt x="202" y="66"/>
                    </a:lnTo>
                    <a:lnTo>
                      <a:pt x="0"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987800" y="4313160"/>
                <a:ext cx="1311480" cy="501840"/>
              </a:xfrm>
              <a:custGeom>
                <a:avLst/>
                <a:gdLst/>
                <a:ahLst/>
                <a:rect l="0" t="0" r="r" b="b"/>
                <a:pathLst>
                  <a:path w="3643" h="1394">
                    <a:moveTo>
                      <a:pt x="0" y="273"/>
                    </a:moveTo>
                    <a:lnTo>
                      <a:pt x="396" y="0"/>
                    </a:lnTo>
                    <a:lnTo>
                      <a:pt x="427" y="180"/>
                    </a:lnTo>
                    <a:lnTo>
                      <a:pt x="1472" y="392"/>
                    </a:lnTo>
                    <a:lnTo>
                      <a:pt x="3303" y="1151"/>
                    </a:lnTo>
                    <a:lnTo>
                      <a:pt x="3643" y="1059"/>
                    </a:lnTo>
                    <a:lnTo>
                      <a:pt x="3387" y="1394"/>
                    </a:lnTo>
                    <a:lnTo>
                      <a:pt x="2038" y="759"/>
                    </a:lnTo>
                    <a:lnTo>
                      <a:pt x="1045" y="485"/>
                    </a:lnTo>
                    <a:lnTo>
                      <a:pt x="370" y="335"/>
                    </a:lnTo>
                    <a:lnTo>
                      <a:pt x="0" y="335"/>
                    </a:lnTo>
                    <a:lnTo>
                      <a:pt x="0" y="2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202360" y="4859280"/>
                <a:ext cx="1097280" cy="273240"/>
              </a:xfrm>
              <a:custGeom>
                <a:avLst/>
                <a:gdLst/>
                <a:ahLst/>
                <a:rect l="0" t="0" r="r" b="b"/>
                <a:pathLst>
                  <a:path w="3048" h="759">
                    <a:moveTo>
                      <a:pt x="145" y="0"/>
                    </a:moveTo>
                    <a:lnTo>
                      <a:pt x="3048" y="605"/>
                    </a:lnTo>
                    <a:lnTo>
                      <a:pt x="2854" y="759"/>
                    </a:lnTo>
                    <a:lnTo>
                      <a:pt x="2792" y="666"/>
                    </a:lnTo>
                    <a:lnTo>
                      <a:pt x="2598" y="693"/>
                    </a:lnTo>
                    <a:lnTo>
                      <a:pt x="2461" y="640"/>
                    </a:lnTo>
                    <a:lnTo>
                      <a:pt x="2232" y="640"/>
                    </a:lnTo>
                    <a:lnTo>
                      <a:pt x="2122" y="543"/>
                    </a:lnTo>
                    <a:lnTo>
                      <a:pt x="1976" y="569"/>
                    </a:lnTo>
                    <a:lnTo>
                      <a:pt x="1835" y="486"/>
                    </a:lnTo>
                    <a:lnTo>
                      <a:pt x="1610" y="512"/>
                    </a:lnTo>
                    <a:lnTo>
                      <a:pt x="1441" y="393"/>
                    </a:lnTo>
                    <a:lnTo>
                      <a:pt x="1190" y="424"/>
                    </a:lnTo>
                    <a:lnTo>
                      <a:pt x="1102" y="335"/>
                    </a:lnTo>
                    <a:lnTo>
                      <a:pt x="758" y="335"/>
                    </a:lnTo>
                    <a:lnTo>
                      <a:pt x="674" y="273"/>
                    </a:lnTo>
                    <a:lnTo>
                      <a:pt x="480" y="273"/>
                    </a:lnTo>
                    <a:lnTo>
                      <a:pt x="396" y="149"/>
                    </a:lnTo>
                    <a:lnTo>
                      <a:pt x="224" y="149"/>
                    </a:lnTo>
                    <a:lnTo>
                      <a:pt x="145" y="97"/>
                    </a:lnTo>
                    <a:lnTo>
                      <a:pt x="0" y="149"/>
                    </a:lnTo>
                    <a:lnTo>
                      <a:pt x="14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906800" y="5178600"/>
                <a:ext cx="1981440" cy="690840"/>
              </a:xfrm>
              <a:custGeom>
                <a:avLst/>
                <a:gdLst/>
                <a:ahLst/>
                <a:rect l="0" t="0" r="r" b="b"/>
                <a:pathLst>
                  <a:path w="5504" h="1919">
                    <a:moveTo>
                      <a:pt x="339" y="542"/>
                    </a:moveTo>
                    <a:lnTo>
                      <a:pt x="0" y="423"/>
                    </a:lnTo>
                    <a:lnTo>
                      <a:pt x="370" y="335"/>
                    </a:lnTo>
                    <a:lnTo>
                      <a:pt x="145" y="145"/>
                    </a:lnTo>
                    <a:lnTo>
                      <a:pt x="705" y="0"/>
                    </a:lnTo>
                    <a:lnTo>
                      <a:pt x="956" y="119"/>
                    </a:lnTo>
                    <a:lnTo>
                      <a:pt x="4066" y="908"/>
                    </a:lnTo>
                    <a:lnTo>
                      <a:pt x="5301" y="573"/>
                    </a:lnTo>
                    <a:lnTo>
                      <a:pt x="5504" y="1187"/>
                    </a:lnTo>
                    <a:lnTo>
                      <a:pt x="4772" y="1372"/>
                    </a:lnTo>
                    <a:lnTo>
                      <a:pt x="3925" y="1919"/>
                    </a:lnTo>
                    <a:lnTo>
                      <a:pt x="3273" y="1734"/>
                    </a:lnTo>
                    <a:lnTo>
                      <a:pt x="2792" y="1548"/>
                    </a:lnTo>
                    <a:lnTo>
                      <a:pt x="1799" y="1006"/>
                    </a:lnTo>
                    <a:lnTo>
                      <a:pt x="537" y="639"/>
                    </a:lnTo>
                    <a:lnTo>
                      <a:pt x="339" y="5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857840" y="3886200"/>
                <a:ext cx="3221280" cy="995760"/>
              </a:xfrm>
              <a:custGeom>
                <a:avLst/>
                <a:gdLst/>
                <a:ahLst/>
                <a:rect l="0" t="0" r="r" b="b"/>
                <a:pathLst>
                  <a:path w="8948" h="2766">
                    <a:moveTo>
                      <a:pt x="0" y="268"/>
                    </a:moveTo>
                    <a:lnTo>
                      <a:pt x="758" y="511"/>
                    </a:lnTo>
                    <a:lnTo>
                      <a:pt x="1719" y="577"/>
                    </a:lnTo>
                    <a:lnTo>
                      <a:pt x="2628" y="608"/>
                    </a:lnTo>
                    <a:lnTo>
                      <a:pt x="3245" y="577"/>
                    </a:lnTo>
                    <a:lnTo>
                      <a:pt x="3814" y="454"/>
                    </a:lnTo>
                    <a:lnTo>
                      <a:pt x="4490" y="242"/>
                    </a:lnTo>
                    <a:lnTo>
                      <a:pt x="4741" y="145"/>
                    </a:lnTo>
                    <a:lnTo>
                      <a:pt x="4966" y="0"/>
                    </a:lnTo>
                    <a:lnTo>
                      <a:pt x="5473" y="268"/>
                    </a:lnTo>
                    <a:lnTo>
                      <a:pt x="6236" y="392"/>
                    </a:lnTo>
                    <a:lnTo>
                      <a:pt x="7144" y="418"/>
                    </a:lnTo>
                    <a:lnTo>
                      <a:pt x="7991" y="418"/>
                    </a:lnTo>
                    <a:lnTo>
                      <a:pt x="8551" y="330"/>
                    </a:lnTo>
                    <a:lnTo>
                      <a:pt x="8776" y="242"/>
                    </a:lnTo>
                    <a:lnTo>
                      <a:pt x="8948" y="207"/>
                    </a:lnTo>
                    <a:lnTo>
                      <a:pt x="8635" y="485"/>
                    </a:lnTo>
                    <a:lnTo>
                      <a:pt x="8216" y="755"/>
                    </a:lnTo>
                    <a:lnTo>
                      <a:pt x="7872" y="904"/>
                    </a:lnTo>
                    <a:lnTo>
                      <a:pt x="7338" y="1090"/>
                    </a:lnTo>
                    <a:lnTo>
                      <a:pt x="6862" y="1218"/>
                    </a:lnTo>
                    <a:lnTo>
                      <a:pt x="6236" y="1368"/>
                    </a:lnTo>
                    <a:lnTo>
                      <a:pt x="5614" y="1517"/>
                    </a:lnTo>
                    <a:lnTo>
                      <a:pt x="5076" y="1694"/>
                    </a:lnTo>
                    <a:lnTo>
                      <a:pt x="4600" y="1910"/>
                    </a:lnTo>
                    <a:lnTo>
                      <a:pt x="4228" y="2096"/>
                    </a:lnTo>
                    <a:lnTo>
                      <a:pt x="4030" y="2374"/>
                    </a:lnTo>
                    <a:lnTo>
                      <a:pt x="3946" y="2550"/>
                    </a:lnTo>
                    <a:lnTo>
                      <a:pt x="3946" y="2766"/>
                    </a:lnTo>
                    <a:lnTo>
                      <a:pt x="3505" y="2550"/>
                    </a:lnTo>
                    <a:lnTo>
                      <a:pt x="2928" y="2250"/>
                    </a:lnTo>
                    <a:lnTo>
                      <a:pt x="2456" y="2064"/>
                    </a:lnTo>
                    <a:lnTo>
                      <a:pt x="1887" y="1910"/>
                    </a:lnTo>
                    <a:lnTo>
                      <a:pt x="1472" y="1879"/>
                    </a:lnTo>
                    <a:lnTo>
                      <a:pt x="1186" y="1879"/>
                    </a:lnTo>
                    <a:lnTo>
                      <a:pt x="1045" y="1910"/>
                    </a:lnTo>
                    <a:lnTo>
                      <a:pt x="815" y="1972"/>
                    </a:lnTo>
                    <a:lnTo>
                      <a:pt x="868" y="1817"/>
                    </a:lnTo>
                    <a:lnTo>
                      <a:pt x="956" y="1694"/>
                    </a:lnTo>
                    <a:lnTo>
                      <a:pt x="1045" y="1610"/>
                    </a:lnTo>
                    <a:lnTo>
                      <a:pt x="652" y="1544"/>
                    </a:lnTo>
                    <a:lnTo>
                      <a:pt x="366" y="1517"/>
                    </a:lnTo>
                    <a:lnTo>
                      <a:pt x="136" y="1544"/>
                    </a:lnTo>
                    <a:lnTo>
                      <a:pt x="454" y="1368"/>
                    </a:lnTo>
                    <a:lnTo>
                      <a:pt x="758" y="1182"/>
                    </a:lnTo>
                    <a:lnTo>
                      <a:pt x="396" y="1460"/>
                    </a:lnTo>
                    <a:lnTo>
                      <a:pt x="930" y="1517"/>
                    </a:lnTo>
                    <a:lnTo>
                      <a:pt x="1358" y="1584"/>
                    </a:lnTo>
                    <a:lnTo>
                      <a:pt x="1777" y="1637"/>
                    </a:lnTo>
                    <a:lnTo>
                      <a:pt x="2231" y="1817"/>
                    </a:lnTo>
                    <a:lnTo>
                      <a:pt x="2570" y="1972"/>
                    </a:lnTo>
                    <a:lnTo>
                      <a:pt x="2928" y="2127"/>
                    </a:lnTo>
                    <a:lnTo>
                      <a:pt x="3355" y="2303"/>
                    </a:lnTo>
                    <a:lnTo>
                      <a:pt x="3726" y="2489"/>
                    </a:lnTo>
                    <a:lnTo>
                      <a:pt x="3946" y="2189"/>
                    </a:lnTo>
                    <a:lnTo>
                      <a:pt x="4206" y="2007"/>
                    </a:lnTo>
                    <a:lnTo>
                      <a:pt x="4512" y="1857"/>
                    </a:lnTo>
                    <a:lnTo>
                      <a:pt x="4882" y="1694"/>
                    </a:lnTo>
                    <a:lnTo>
                      <a:pt x="5248" y="1610"/>
                    </a:lnTo>
                    <a:lnTo>
                      <a:pt x="5843" y="1429"/>
                    </a:lnTo>
                    <a:lnTo>
                      <a:pt x="4290" y="1817"/>
                    </a:lnTo>
                    <a:lnTo>
                      <a:pt x="4065" y="1941"/>
                    </a:lnTo>
                    <a:lnTo>
                      <a:pt x="3840" y="2127"/>
                    </a:lnTo>
                    <a:lnTo>
                      <a:pt x="3699" y="2303"/>
                    </a:lnTo>
                    <a:lnTo>
                      <a:pt x="3135" y="2007"/>
                    </a:lnTo>
                    <a:lnTo>
                      <a:pt x="3073" y="1817"/>
                    </a:lnTo>
                    <a:lnTo>
                      <a:pt x="3611" y="2127"/>
                    </a:lnTo>
                    <a:lnTo>
                      <a:pt x="4114" y="1857"/>
                    </a:lnTo>
                    <a:lnTo>
                      <a:pt x="4569" y="1672"/>
                    </a:lnTo>
                    <a:lnTo>
                      <a:pt x="4939" y="1584"/>
                    </a:lnTo>
                    <a:lnTo>
                      <a:pt x="4176" y="1672"/>
                    </a:lnTo>
                    <a:lnTo>
                      <a:pt x="3726" y="1694"/>
                    </a:lnTo>
                    <a:lnTo>
                      <a:pt x="3417" y="1760"/>
                    </a:lnTo>
                    <a:lnTo>
                      <a:pt x="3272" y="1791"/>
                    </a:lnTo>
                    <a:lnTo>
                      <a:pt x="3668" y="1637"/>
                    </a:lnTo>
                    <a:lnTo>
                      <a:pt x="4290" y="1584"/>
                    </a:lnTo>
                    <a:lnTo>
                      <a:pt x="5283" y="1460"/>
                    </a:lnTo>
                    <a:lnTo>
                      <a:pt x="6209" y="1306"/>
                    </a:lnTo>
                    <a:lnTo>
                      <a:pt x="7144" y="1090"/>
                    </a:lnTo>
                    <a:lnTo>
                      <a:pt x="7872" y="847"/>
                    </a:lnTo>
                    <a:lnTo>
                      <a:pt x="8326" y="608"/>
                    </a:lnTo>
                    <a:lnTo>
                      <a:pt x="8661" y="392"/>
                    </a:lnTo>
                    <a:lnTo>
                      <a:pt x="8075" y="485"/>
                    </a:lnTo>
                    <a:lnTo>
                      <a:pt x="7281" y="485"/>
                    </a:lnTo>
                    <a:lnTo>
                      <a:pt x="6492" y="418"/>
                    </a:lnTo>
                    <a:lnTo>
                      <a:pt x="5724" y="361"/>
                    </a:lnTo>
                    <a:lnTo>
                      <a:pt x="5248" y="242"/>
                    </a:lnTo>
                    <a:lnTo>
                      <a:pt x="4966" y="88"/>
                    </a:lnTo>
                    <a:lnTo>
                      <a:pt x="4543" y="268"/>
                    </a:lnTo>
                    <a:lnTo>
                      <a:pt x="3867" y="485"/>
                    </a:lnTo>
                    <a:lnTo>
                      <a:pt x="3298" y="608"/>
                    </a:lnTo>
                    <a:lnTo>
                      <a:pt x="3977" y="577"/>
                    </a:lnTo>
                    <a:lnTo>
                      <a:pt x="2707" y="728"/>
                    </a:lnTo>
                    <a:lnTo>
                      <a:pt x="4176" y="635"/>
                    </a:lnTo>
                    <a:lnTo>
                      <a:pt x="2764" y="816"/>
                    </a:lnTo>
                    <a:lnTo>
                      <a:pt x="4374" y="755"/>
                    </a:lnTo>
                    <a:lnTo>
                      <a:pt x="2795" y="935"/>
                    </a:lnTo>
                    <a:lnTo>
                      <a:pt x="4490" y="882"/>
                    </a:lnTo>
                    <a:lnTo>
                      <a:pt x="2985" y="1032"/>
                    </a:lnTo>
                    <a:lnTo>
                      <a:pt x="4400" y="1002"/>
                    </a:lnTo>
                    <a:lnTo>
                      <a:pt x="3073" y="1121"/>
                    </a:lnTo>
                    <a:lnTo>
                      <a:pt x="4512" y="1121"/>
                    </a:lnTo>
                    <a:lnTo>
                      <a:pt x="3073" y="1248"/>
                    </a:lnTo>
                    <a:lnTo>
                      <a:pt x="4543" y="1275"/>
                    </a:lnTo>
                    <a:lnTo>
                      <a:pt x="3135" y="1368"/>
                    </a:lnTo>
                    <a:lnTo>
                      <a:pt x="4347" y="1398"/>
                    </a:lnTo>
                    <a:lnTo>
                      <a:pt x="3016" y="1487"/>
                    </a:lnTo>
                    <a:lnTo>
                      <a:pt x="2425" y="1275"/>
                    </a:lnTo>
                    <a:lnTo>
                      <a:pt x="1803" y="1059"/>
                    </a:lnTo>
                    <a:lnTo>
                      <a:pt x="1274" y="847"/>
                    </a:lnTo>
                    <a:lnTo>
                      <a:pt x="758" y="702"/>
                    </a:lnTo>
                    <a:lnTo>
                      <a:pt x="507" y="608"/>
                    </a:lnTo>
                    <a:lnTo>
                      <a:pt x="22" y="330"/>
                    </a:lnTo>
                    <a:lnTo>
                      <a:pt x="0"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8" name=""/>
              <p:cNvSpPr/>
              <p:nvPr/>
            </p:nvSpPr>
            <p:spPr>
              <a:xfrm>
                <a:off x="4800600" y="4148280"/>
                <a:ext cx="1197360" cy="449640"/>
              </a:xfrm>
              <a:custGeom>
                <a:avLst/>
                <a:gdLst/>
                <a:ahLst/>
                <a:rect l="0" t="0" r="r" b="b"/>
                <a:pathLst>
                  <a:path w="3326" h="1249">
                    <a:moveTo>
                      <a:pt x="555" y="0"/>
                    </a:moveTo>
                    <a:lnTo>
                      <a:pt x="211" y="66"/>
                    </a:lnTo>
                    <a:lnTo>
                      <a:pt x="97" y="114"/>
                    </a:lnTo>
                    <a:lnTo>
                      <a:pt x="0" y="149"/>
                    </a:lnTo>
                    <a:lnTo>
                      <a:pt x="524" y="367"/>
                    </a:lnTo>
                    <a:lnTo>
                      <a:pt x="1006" y="459"/>
                    </a:lnTo>
                    <a:lnTo>
                      <a:pt x="1601" y="583"/>
                    </a:lnTo>
                    <a:lnTo>
                      <a:pt x="2249" y="733"/>
                    </a:lnTo>
                    <a:lnTo>
                      <a:pt x="2616" y="856"/>
                    </a:lnTo>
                    <a:lnTo>
                      <a:pt x="3066" y="1249"/>
                    </a:lnTo>
                    <a:lnTo>
                      <a:pt x="3326" y="1069"/>
                    </a:lnTo>
                    <a:lnTo>
                      <a:pt x="3093" y="1130"/>
                    </a:lnTo>
                    <a:lnTo>
                      <a:pt x="2758" y="856"/>
                    </a:lnTo>
                    <a:lnTo>
                      <a:pt x="2333" y="706"/>
                    </a:lnTo>
                    <a:lnTo>
                      <a:pt x="1032" y="424"/>
                    </a:lnTo>
                    <a:lnTo>
                      <a:pt x="471" y="273"/>
                    </a:lnTo>
                    <a:lnTo>
                      <a:pt x="180" y="149"/>
                    </a:lnTo>
                    <a:lnTo>
                      <a:pt x="493" y="66"/>
                    </a:lnTo>
                    <a:lnTo>
                      <a:pt x="815" y="0"/>
                    </a:lnTo>
                    <a:lnTo>
                      <a:pt x="5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9" name=""/>
              <p:cNvSpPr/>
              <p:nvPr/>
            </p:nvSpPr>
            <p:spPr>
              <a:xfrm>
                <a:off x="5295960" y="4356000"/>
                <a:ext cx="546480" cy="186120"/>
              </a:xfrm>
              <a:custGeom>
                <a:avLst/>
                <a:gdLst/>
                <a:ahLst/>
                <a:rect l="0" t="0" r="r" b="b"/>
                <a:pathLst>
                  <a:path w="1518" h="517">
                    <a:moveTo>
                      <a:pt x="0" y="0"/>
                    </a:moveTo>
                    <a:lnTo>
                      <a:pt x="1518" y="517"/>
                    </a:lnTo>
                    <a:lnTo>
                      <a:pt x="1435" y="4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380280" y="4081320"/>
                <a:ext cx="1751400" cy="933840"/>
              </a:xfrm>
              <a:custGeom>
                <a:avLst/>
                <a:gdLst/>
                <a:ahLst/>
                <a:rect l="0" t="0" r="r" b="b"/>
                <a:pathLst>
                  <a:path w="4865" h="2594">
                    <a:moveTo>
                      <a:pt x="4297" y="30"/>
                    </a:moveTo>
                    <a:lnTo>
                      <a:pt x="4755" y="0"/>
                    </a:lnTo>
                    <a:lnTo>
                      <a:pt x="4433" y="123"/>
                    </a:lnTo>
                    <a:lnTo>
                      <a:pt x="4689" y="216"/>
                    </a:lnTo>
                    <a:lnTo>
                      <a:pt x="4380" y="299"/>
                    </a:lnTo>
                    <a:lnTo>
                      <a:pt x="4521" y="335"/>
                    </a:lnTo>
                    <a:lnTo>
                      <a:pt x="4495" y="423"/>
                    </a:lnTo>
                    <a:lnTo>
                      <a:pt x="4270" y="489"/>
                    </a:lnTo>
                    <a:lnTo>
                      <a:pt x="370" y="1650"/>
                    </a:lnTo>
                    <a:lnTo>
                      <a:pt x="339" y="1738"/>
                    </a:lnTo>
                    <a:lnTo>
                      <a:pt x="427" y="1888"/>
                    </a:lnTo>
                    <a:lnTo>
                      <a:pt x="427" y="2012"/>
                    </a:lnTo>
                    <a:lnTo>
                      <a:pt x="392" y="2171"/>
                    </a:lnTo>
                    <a:lnTo>
                      <a:pt x="282" y="2295"/>
                    </a:lnTo>
                    <a:lnTo>
                      <a:pt x="229" y="2347"/>
                    </a:lnTo>
                    <a:lnTo>
                      <a:pt x="427" y="2347"/>
                    </a:lnTo>
                    <a:lnTo>
                      <a:pt x="4605" y="1099"/>
                    </a:lnTo>
                    <a:lnTo>
                      <a:pt x="4495" y="1068"/>
                    </a:lnTo>
                    <a:lnTo>
                      <a:pt x="4495" y="1006"/>
                    </a:lnTo>
                    <a:lnTo>
                      <a:pt x="4865" y="1068"/>
                    </a:lnTo>
                    <a:lnTo>
                      <a:pt x="4865" y="1156"/>
                    </a:lnTo>
                    <a:lnTo>
                      <a:pt x="4804" y="1248"/>
                    </a:lnTo>
                    <a:lnTo>
                      <a:pt x="4605" y="1310"/>
                    </a:lnTo>
                    <a:lnTo>
                      <a:pt x="3732" y="1522"/>
                    </a:lnTo>
                    <a:lnTo>
                      <a:pt x="3590" y="1495"/>
                    </a:lnTo>
                    <a:lnTo>
                      <a:pt x="3303" y="1681"/>
                    </a:lnTo>
                    <a:lnTo>
                      <a:pt x="145" y="2594"/>
                    </a:lnTo>
                    <a:lnTo>
                      <a:pt x="61" y="2564"/>
                    </a:lnTo>
                    <a:lnTo>
                      <a:pt x="0" y="2471"/>
                    </a:lnTo>
                    <a:lnTo>
                      <a:pt x="0" y="2347"/>
                    </a:lnTo>
                    <a:lnTo>
                      <a:pt x="26" y="2105"/>
                    </a:lnTo>
                    <a:lnTo>
                      <a:pt x="145" y="1764"/>
                    </a:lnTo>
                    <a:lnTo>
                      <a:pt x="229" y="1619"/>
                    </a:lnTo>
                    <a:lnTo>
                      <a:pt x="339" y="1522"/>
                    </a:lnTo>
                    <a:lnTo>
                      <a:pt x="568" y="1403"/>
                    </a:lnTo>
                    <a:lnTo>
                      <a:pt x="4239" y="335"/>
                    </a:lnTo>
                    <a:lnTo>
                      <a:pt x="2629" y="671"/>
                    </a:lnTo>
                    <a:lnTo>
                      <a:pt x="4380" y="180"/>
                    </a:lnTo>
                    <a:lnTo>
                      <a:pt x="4182" y="66"/>
                    </a:lnTo>
                    <a:lnTo>
                      <a:pt x="429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665760" y="4257720"/>
                <a:ext cx="1352880" cy="557640"/>
              </a:xfrm>
              <a:custGeom>
                <a:avLst/>
                <a:gdLst/>
                <a:ahLst/>
                <a:rect l="0" t="0" r="r" b="b"/>
                <a:pathLst>
                  <a:path w="3758" h="1549">
                    <a:moveTo>
                      <a:pt x="3612" y="0"/>
                    </a:moveTo>
                    <a:lnTo>
                      <a:pt x="3643" y="92"/>
                    </a:lnTo>
                    <a:lnTo>
                      <a:pt x="3674" y="92"/>
                    </a:lnTo>
                    <a:lnTo>
                      <a:pt x="3612" y="119"/>
                    </a:lnTo>
                    <a:lnTo>
                      <a:pt x="3731" y="180"/>
                    </a:lnTo>
                    <a:lnTo>
                      <a:pt x="3643" y="277"/>
                    </a:lnTo>
                    <a:lnTo>
                      <a:pt x="3758" y="335"/>
                    </a:lnTo>
                    <a:lnTo>
                      <a:pt x="3612" y="424"/>
                    </a:lnTo>
                    <a:lnTo>
                      <a:pt x="3700" y="459"/>
                    </a:lnTo>
                    <a:lnTo>
                      <a:pt x="3674" y="512"/>
                    </a:lnTo>
                    <a:lnTo>
                      <a:pt x="145" y="1549"/>
                    </a:lnTo>
                    <a:lnTo>
                      <a:pt x="3643" y="459"/>
                    </a:lnTo>
                    <a:lnTo>
                      <a:pt x="114" y="1430"/>
                    </a:lnTo>
                    <a:lnTo>
                      <a:pt x="3674" y="366"/>
                    </a:lnTo>
                    <a:lnTo>
                      <a:pt x="61" y="1307"/>
                    </a:lnTo>
                    <a:lnTo>
                      <a:pt x="3612" y="277"/>
                    </a:lnTo>
                    <a:lnTo>
                      <a:pt x="0" y="1183"/>
                    </a:lnTo>
                    <a:lnTo>
                      <a:pt x="3643" y="145"/>
                    </a:lnTo>
                    <a:lnTo>
                      <a:pt x="30" y="1063"/>
                    </a:lnTo>
                    <a:lnTo>
                      <a:pt x="3559" y="57"/>
                    </a:lnTo>
                    <a:lnTo>
                      <a:pt x="36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2" name=""/>
              <p:cNvSpPr/>
              <p:nvPr/>
            </p:nvSpPr>
            <p:spPr>
              <a:xfrm>
                <a:off x="5130720" y="4476600"/>
                <a:ext cx="1221120" cy="568800"/>
              </a:xfrm>
              <a:custGeom>
                <a:avLst/>
                <a:gdLst/>
                <a:ahLst/>
                <a:rect l="0" t="0" r="r" b="b"/>
                <a:pathLst>
                  <a:path w="3392" h="1580">
                    <a:moveTo>
                      <a:pt x="3308" y="1580"/>
                    </a:moveTo>
                    <a:lnTo>
                      <a:pt x="224" y="944"/>
                    </a:lnTo>
                    <a:lnTo>
                      <a:pt x="57" y="763"/>
                    </a:lnTo>
                    <a:lnTo>
                      <a:pt x="0" y="578"/>
                    </a:lnTo>
                    <a:lnTo>
                      <a:pt x="22" y="397"/>
                    </a:lnTo>
                    <a:lnTo>
                      <a:pt x="83" y="216"/>
                    </a:lnTo>
                    <a:lnTo>
                      <a:pt x="171" y="97"/>
                    </a:lnTo>
                    <a:lnTo>
                      <a:pt x="224" y="0"/>
                    </a:lnTo>
                    <a:lnTo>
                      <a:pt x="145" y="246"/>
                    </a:lnTo>
                    <a:lnTo>
                      <a:pt x="83" y="455"/>
                    </a:lnTo>
                    <a:lnTo>
                      <a:pt x="83" y="613"/>
                    </a:lnTo>
                    <a:lnTo>
                      <a:pt x="171" y="821"/>
                    </a:lnTo>
                    <a:lnTo>
                      <a:pt x="198" y="644"/>
                    </a:lnTo>
                    <a:lnTo>
                      <a:pt x="339" y="821"/>
                    </a:lnTo>
                    <a:lnTo>
                      <a:pt x="370" y="644"/>
                    </a:lnTo>
                    <a:lnTo>
                      <a:pt x="511" y="882"/>
                    </a:lnTo>
                    <a:lnTo>
                      <a:pt x="542" y="737"/>
                    </a:lnTo>
                    <a:lnTo>
                      <a:pt x="652" y="882"/>
                    </a:lnTo>
                    <a:lnTo>
                      <a:pt x="709" y="737"/>
                    </a:lnTo>
                    <a:lnTo>
                      <a:pt x="820" y="944"/>
                    </a:lnTo>
                    <a:lnTo>
                      <a:pt x="903" y="763"/>
                    </a:lnTo>
                    <a:lnTo>
                      <a:pt x="1014" y="944"/>
                    </a:lnTo>
                    <a:lnTo>
                      <a:pt x="1071" y="821"/>
                    </a:lnTo>
                    <a:lnTo>
                      <a:pt x="1155" y="1037"/>
                    </a:lnTo>
                    <a:lnTo>
                      <a:pt x="1212" y="882"/>
                    </a:lnTo>
                    <a:lnTo>
                      <a:pt x="1243" y="852"/>
                    </a:lnTo>
                    <a:lnTo>
                      <a:pt x="1353" y="1037"/>
                    </a:lnTo>
                    <a:lnTo>
                      <a:pt x="1384" y="909"/>
                    </a:lnTo>
                    <a:lnTo>
                      <a:pt x="1499" y="1094"/>
                    </a:lnTo>
                    <a:lnTo>
                      <a:pt x="1583" y="909"/>
                    </a:lnTo>
                    <a:lnTo>
                      <a:pt x="1698" y="1125"/>
                    </a:lnTo>
                    <a:lnTo>
                      <a:pt x="1808" y="944"/>
                    </a:lnTo>
                    <a:lnTo>
                      <a:pt x="1870" y="1156"/>
                    </a:lnTo>
                    <a:lnTo>
                      <a:pt x="1976" y="1006"/>
                    </a:lnTo>
                    <a:lnTo>
                      <a:pt x="2091" y="1214"/>
                    </a:lnTo>
                    <a:lnTo>
                      <a:pt x="2148" y="1037"/>
                    </a:lnTo>
                    <a:lnTo>
                      <a:pt x="2294" y="1214"/>
                    </a:lnTo>
                    <a:lnTo>
                      <a:pt x="2351" y="1094"/>
                    </a:lnTo>
                    <a:lnTo>
                      <a:pt x="2488" y="1245"/>
                    </a:lnTo>
                    <a:lnTo>
                      <a:pt x="2571" y="1125"/>
                    </a:lnTo>
                    <a:lnTo>
                      <a:pt x="2682" y="1307"/>
                    </a:lnTo>
                    <a:lnTo>
                      <a:pt x="2801" y="1156"/>
                    </a:lnTo>
                    <a:lnTo>
                      <a:pt x="2911" y="1369"/>
                    </a:lnTo>
                    <a:lnTo>
                      <a:pt x="2964" y="1188"/>
                    </a:lnTo>
                    <a:lnTo>
                      <a:pt x="3083" y="1461"/>
                    </a:lnTo>
                    <a:lnTo>
                      <a:pt x="3167" y="1245"/>
                    </a:lnTo>
                    <a:lnTo>
                      <a:pt x="3220" y="1435"/>
                    </a:lnTo>
                    <a:lnTo>
                      <a:pt x="3392" y="1580"/>
                    </a:lnTo>
                    <a:lnTo>
                      <a:pt x="3308" y="15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3" name=""/>
              <p:cNvSpPr/>
              <p:nvPr/>
            </p:nvSpPr>
            <p:spPr>
              <a:xfrm>
                <a:off x="5079960" y="4838760"/>
                <a:ext cx="1738800" cy="679680"/>
              </a:xfrm>
              <a:custGeom>
                <a:avLst/>
                <a:gdLst/>
                <a:ahLst/>
                <a:rect l="0" t="0" r="r" b="b"/>
                <a:pathLst>
                  <a:path w="4830" h="1888">
                    <a:moveTo>
                      <a:pt x="313" y="0"/>
                    </a:moveTo>
                    <a:lnTo>
                      <a:pt x="145" y="123"/>
                    </a:lnTo>
                    <a:lnTo>
                      <a:pt x="35" y="277"/>
                    </a:lnTo>
                    <a:lnTo>
                      <a:pt x="0" y="463"/>
                    </a:lnTo>
                    <a:lnTo>
                      <a:pt x="0" y="608"/>
                    </a:lnTo>
                    <a:lnTo>
                      <a:pt x="88" y="789"/>
                    </a:lnTo>
                    <a:lnTo>
                      <a:pt x="198" y="908"/>
                    </a:lnTo>
                    <a:lnTo>
                      <a:pt x="396" y="1063"/>
                    </a:lnTo>
                    <a:lnTo>
                      <a:pt x="3559" y="1888"/>
                    </a:lnTo>
                    <a:lnTo>
                      <a:pt x="3847" y="1857"/>
                    </a:lnTo>
                    <a:lnTo>
                      <a:pt x="4830" y="1588"/>
                    </a:lnTo>
                    <a:lnTo>
                      <a:pt x="4830" y="1491"/>
                    </a:lnTo>
                    <a:lnTo>
                      <a:pt x="3616" y="1822"/>
                    </a:lnTo>
                    <a:lnTo>
                      <a:pt x="3502" y="1795"/>
                    </a:lnTo>
                    <a:lnTo>
                      <a:pt x="3334" y="1734"/>
                    </a:lnTo>
                    <a:lnTo>
                      <a:pt x="3277" y="1460"/>
                    </a:lnTo>
                    <a:lnTo>
                      <a:pt x="3162" y="1641"/>
                    </a:lnTo>
                    <a:lnTo>
                      <a:pt x="3105" y="1425"/>
                    </a:lnTo>
                    <a:lnTo>
                      <a:pt x="3026" y="1588"/>
                    </a:lnTo>
                    <a:lnTo>
                      <a:pt x="2911" y="1372"/>
                    </a:lnTo>
                    <a:lnTo>
                      <a:pt x="2858" y="1517"/>
                    </a:lnTo>
                    <a:lnTo>
                      <a:pt x="2801" y="1279"/>
                    </a:lnTo>
                    <a:lnTo>
                      <a:pt x="2827" y="1037"/>
                    </a:lnTo>
                    <a:lnTo>
                      <a:pt x="2858" y="824"/>
                    </a:lnTo>
                    <a:lnTo>
                      <a:pt x="2968" y="661"/>
                    </a:lnTo>
                    <a:lnTo>
                      <a:pt x="3078" y="577"/>
                    </a:lnTo>
                    <a:lnTo>
                      <a:pt x="2717" y="520"/>
                    </a:lnTo>
                    <a:lnTo>
                      <a:pt x="2518" y="732"/>
                    </a:lnTo>
                    <a:lnTo>
                      <a:pt x="2435" y="1037"/>
                    </a:lnTo>
                    <a:lnTo>
                      <a:pt x="2457" y="1248"/>
                    </a:lnTo>
                    <a:lnTo>
                      <a:pt x="2492" y="1425"/>
                    </a:lnTo>
                    <a:lnTo>
                      <a:pt x="2289" y="1187"/>
                    </a:lnTo>
                    <a:lnTo>
                      <a:pt x="2258" y="1398"/>
                    </a:lnTo>
                    <a:lnTo>
                      <a:pt x="2086" y="1187"/>
                    </a:lnTo>
                    <a:lnTo>
                      <a:pt x="2060" y="1398"/>
                    </a:lnTo>
                    <a:lnTo>
                      <a:pt x="1950" y="1063"/>
                    </a:lnTo>
                    <a:lnTo>
                      <a:pt x="1923" y="789"/>
                    </a:lnTo>
                    <a:lnTo>
                      <a:pt x="1950" y="608"/>
                    </a:lnTo>
                    <a:lnTo>
                      <a:pt x="2033" y="463"/>
                    </a:lnTo>
                    <a:lnTo>
                      <a:pt x="2174" y="396"/>
                    </a:lnTo>
                    <a:lnTo>
                      <a:pt x="1778" y="299"/>
                    </a:lnTo>
                    <a:lnTo>
                      <a:pt x="1645" y="520"/>
                    </a:lnTo>
                    <a:lnTo>
                      <a:pt x="1557" y="701"/>
                    </a:lnTo>
                    <a:lnTo>
                      <a:pt x="1557" y="881"/>
                    </a:lnTo>
                    <a:lnTo>
                      <a:pt x="1584" y="1094"/>
                    </a:lnTo>
                    <a:lnTo>
                      <a:pt x="1672" y="1222"/>
                    </a:lnTo>
                    <a:lnTo>
                      <a:pt x="1390" y="1037"/>
                    </a:lnTo>
                    <a:lnTo>
                      <a:pt x="1390" y="1187"/>
                    </a:lnTo>
                    <a:lnTo>
                      <a:pt x="1218" y="1006"/>
                    </a:lnTo>
                    <a:lnTo>
                      <a:pt x="1186" y="1129"/>
                    </a:lnTo>
                    <a:lnTo>
                      <a:pt x="1045" y="939"/>
                    </a:lnTo>
                    <a:lnTo>
                      <a:pt x="992" y="1094"/>
                    </a:lnTo>
                    <a:lnTo>
                      <a:pt x="877" y="939"/>
                    </a:lnTo>
                    <a:lnTo>
                      <a:pt x="851" y="1063"/>
                    </a:lnTo>
                    <a:lnTo>
                      <a:pt x="709" y="881"/>
                    </a:lnTo>
                    <a:lnTo>
                      <a:pt x="652" y="1037"/>
                    </a:lnTo>
                    <a:lnTo>
                      <a:pt x="507" y="851"/>
                    </a:lnTo>
                    <a:lnTo>
                      <a:pt x="480" y="1037"/>
                    </a:lnTo>
                    <a:lnTo>
                      <a:pt x="255" y="851"/>
                    </a:lnTo>
                    <a:lnTo>
                      <a:pt x="114" y="639"/>
                    </a:lnTo>
                    <a:lnTo>
                      <a:pt x="88" y="427"/>
                    </a:lnTo>
                    <a:lnTo>
                      <a:pt x="145" y="242"/>
                    </a:lnTo>
                    <a:lnTo>
                      <a:pt x="286" y="97"/>
                    </a:lnTo>
                    <a:lnTo>
                      <a:pt x="480" y="0"/>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6338880" y="4805280"/>
                <a:ext cx="1171800" cy="635400"/>
              </a:xfrm>
              <a:custGeom>
                <a:avLst/>
                <a:gdLst/>
                <a:ahLst/>
                <a:rect l="0" t="0" r="r" b="b"/>
                <a:pathLst>
                  <a:path w="3255" h="1765">
                    <a:moveTo>
                      <a:pt x="1190" y="1488"/>
                    </a:moveTo>
                    <a:lnTo>
                      <a:pt x="229" y="1765"/>
                    </a:lnTo>
                    <a:lnTo>
                      <a:pt x="61" y="1735"/>
                    </a:lnTo>
                    <a:lnTo>
                      <a:pt x="0" y="1518"/>
                    </a:lnTo>
                    <a:lnTo>
                      <a:pt x="30" y="1253"/>
                    </a:lnTo>
                    <a:lnTo>
                      <a:pt x="114" y="975"/>
                    </a:lnTo>
                    <a:lnTo>
                      <a:pt x="286" y="856"/>
                    </a:lnTo>
                    <a:lnTo>
                      <a:pt x="3255" y="0"/>
                    </a:lnTo>
                    <a:lnTo>
                      <a:pt x="3167" y="119"/>
                    </a:lnTo>
                    <a:lnTo>
                      <a:pt x="313" y="944"/>
                    </a:lnTo>
                    <a:lnTo>
                      <a:pt x="348" y="1156"/>
                    </a:lnTo>
                    <a:lnTo>
                      <a:pt x="348" y="1373"/>
                    </a:lnTo>
                    <a:lnTo>
                      <a:pt x="286" y="1549"/>
                    </a:lnTo>
                    <a:lnTo>
                      <a:pt x="229" y="1646"/>
                    </a:lnTo>
                    <a:lnTo>
                      <a:pt x="1358" y="1373"/>
                    </a:lnTo>
                    <a:lnTo>
                      <a:pt x="1190" y="14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5" name=""/>
              <p:cNvSpPr/>
              <p:nvPr/>
            </p:nvSpPr>
            <p:spPr>
              <a:xfrm>
                <a:off x="6411960" y="4716360"/>
                <a:ext cx="1168920" cy="360720"/>
              </a:xfrm>
              <a:custGeom>
                <a:avLst/>
                <a:gdLst/>
                <a:ahLst/>
                <a:rect l="0" t="0" r="r" b="b"/>
                <a:pathLst>
                  <a:path w="3247" h="1002">
                    <a:moveTo>
                      <a:pt x="30" y="1002"/>
                    </a:moveTo>
                    <a:lnTo>
                      <a:pt x="3190" y="97"/>
                    </a:lnTo>
                    <a:lnTo>
                      <a:pt x="3247" y="0"/>
                    </a:lnTo>
                    <a:lnTo>
                      <a:pt x="0" y="971"/>
                    </a:lnTo>
                    <a:lnTo>
                      <a:pt x="30" y="10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7775640" y="4497480"/>
                <a:ext cx="383040" cy="189360"/>
              </a:xfrm>
              <a:custGeom>
                <a:avLst/>
                <a:gdLst/>
                <a:ahLst/>
                <a:rect l="0" t="0" r="r" b="b"/>
                <a:pathLst>
                  <a:path w="1064" h="526">
                    <a:moveTo>
                      <a:pt x="0" y="465"/>
                    </a:moveTo>
                    <a:lnTo>
                      <a:pt x="1011" y="217"/>
                    </a:lnTo>
                    <a:lnTo>
                      <a:pt x="1011" y="0"/>
                    </a:lnTo>
                    <a:lnTo>
                      <a:pt x="1064" y="30"/>
                    </a:lnTo>
                    <a:lnTo>
                      <a:pt x="1064" y="247"/>
                    </a:lnTo>
                    <a:lnTo>
                      <a:pt x="22" y="526"/>
                    </a:lnTo>
                    <a:lnTo>
                      <a:pt x="0" y="46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7701120" y="4608360"/>
                <a:ext cx="367200" cy="174960"/>
              </a:xfrm>
              <a:custGeom>
                <a:avLst/>
                <a:gdLst/>
                <a:ahLst/>
                <a:rect l="0" t="0" r="r" b="b"/>
                <a:pathLst>
                  <a:path w="1020" h="486">
                    <a:moveTo>
                      <a:pt x="119" y="397"/>
                    </a:moveTo>
                    <a:lnTo>
                      <a:pt x="914" y="149"/>
                    </a:lnTo>
                    <a:lnTo>
                      <a:pt x="936" y="30"/>
                    </a:lnTo>
                    <a:lnTo>
                      <a:pt x="1020" y="0"/>
                    </a:lnTo>
                    <a:lnTo>
                      <a:pt x="967" y="216"/>
                    </a:lnTo>
                    <a:lnTo>
                      <a:pt x="0" y="486"/>
                    </a:lnTo>
                    <a:lnTo>
                      <a:pt x="119" y="3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7964640" y="4707000"/>
                <a:ext cx="33840" cy="87840"/>
              </a:xfrm>
              <a:custGeom>
                <a:avLst/>
                <a:gdLst/>
                <a:ahLst/>
                <a:rect l="0" t="0" r="r" b="b"/>
                <a:pathLst>
                  <a:path w="94" h="244">
                    <a:moveTo>
                      <a:pt x="94" y="0"/>
                    </a:moveTo>
                    <a:lnTo>
                      <a:pt x="94" y="244"/>
                    </a:lnTo>
                    <a:lnTo>
                      <a:pt x="27" y="213"/>
                    </a:lnTo>
                    <a:lnTo>
                      <a:pt x="0" y="0"/>
                    </a:lnTo>
                    <a:lnTo>
                      <a:pt x="94"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79" name=""/>
              <p:cNvSpPr/>
              <p:nvPr/>
            </p:nvSpPr>
            <p:spPr>
              <a:xfrm>
                <a:off x="6230880" y="5076720"/>
                <a:ext cx="108360" cy="263880"/>
              </a:xfrm>
              <a:custGeom>
                <a:avLst/>
                <a:gdLst/>
                <a:ahLst/>
                <a:rect l="0" t="0" r="r" b="b"/>
                <a:pathLst>
                  <a:path w="301" h="733">
                    <a:moveTo>
                      <a:pt x="301" y="66"/>
                    </a:moveTo>
                    <a:lnTo>
                      <a:pt x="137" y="335"/>
                    </a:lnTo>
                    <a:lnTo>
                      <a:pt x="84" y="521"/>
                    </a:lnTo>
                    <a:lnTo>
                      <a:pt x="84" y="733"/>
                    </a:lnTo>
                    <a:lnTo>
                      <a:pt x="26" y="618"/>
                    </a:lnTo>
                    <a:lnTo>
                      <a:pt x="0" y="433"/>
                    </a:lnTo>
                    <a:lnTo>
                      <a:pt x="84" y="246"/>
                    </a:lnTo>
                    <a:lnTo>
                      <a:pt x="195" y="92"/>
                    </a:lnTo>
                    <a:lnTo>
                      <a:pt x="279" y="0"/>
                    </a:lnTo>
                    <a:lnTo>
                      <a:pt x="301"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897440" y="5167440"/>
                <a:ext cx="1983240" cy="776520"/>
              </a:xfrm>
              <a:custGeom>
                <a:avLst/>
                <a:gdLst/>
                <a:ahLst/>
                <a:rect l="0" t="0" r="r" b="b"/>
                <a:pathLst>
                  <a:path w="5509" h="2157">
                    <a:moveTo>
                      <a:pt x="758" y="57"/>
                    </a:moveTo>
                    <a:lnTo>
                      <a:pt x="507" y="119"/>
                    </a:lnTo>
                    <a:lnTo>
                      <a:pt x="145" y="180"/>
                    </a:lnTo>
                    <a:lnTo>
                      <a:pt x="987" y="463"/>
                    </a:lnTo>
                    <a:lnTo>
                      <a:pt x="1756" y="820"/>
                    </a:lnTo>
                    <a:lnTo>
                      <a:pt x="2316" y="1187"/>
                    </a:lnTo>
                    <a:lnTo>
                      <a:pt x="2739" y="1491"/>
                    </a:lnTo>
                    <a:lnTo>
                      <a:pt x="3365" y="1764"/>
                    </a:lnTo>
                    <a:lnTo>
                      <a:pt x="3987" y="1888"/>
                    </a:lnTo>
                    <a:lnTo>
                      <a:pt x="4297" y="1645"/>
                    </a:lnTo>
                    <a:lnTo>
                      <a:pt x="4663" y="1429"/>
                    </a:lnTo>
                    <a:lnTo>
                      <a:pt x="5002" y="1306"/>
                    </a:lnTo>
                    <a:lnTo>
                      <a:pt x="5337" y="1187"/>
                    </a:lnTo>
                    <a:lnTo>
                      <a:pt x="5509" y="1156"/>
                    </a:lnTo>
                    <a:lnTo>
                      <a:pt x="5509" y="1222"/>
                    </a:lnTo>
                    <a:lnTo>
                      <a:pt x="5002" y="1403"/>
                    </a:lnTo>
                    <a:lnTo>
                      <a:pt x="4663" y="1548"/>
                    </a:lnTo>
                    <a:lnTo>
                      <a:pt x="4323" y="1826"/>
                    </a:lnTo>
                    <a:lnTo>
                      <a:pt x="4071" y="2011"/>
                    </a:lnTo>
                    <a:lnTo>
                      <a:pt x="3841" y="2157"/>
                    </a:lnTo>
                    <a:lnTo>
                      <a:pt x="3449" y="1914"/>
                    </a:lnTo>
                    <a:lnTo>
                      <a:pt x="2858" y="1614"/>
                    </a:lnTo>
                    <a:lnTo>
                      <a:pt x="2086" y="1222"/>
                    </a:lnTo>
                    <a:lnTo>
                      <a:pt x="1610" y="1036"/>
                    </a:lnTo>
                    <a:lnTo>
                      <a:pt x="987" y="851"/>
                    </a:lnTo>
                    <a:lnTo>
                      <a:pt x="568" y="758"/>
                    </a:lnTo>
                    <a:lnTo>
                      <a:pt x="145" y="670"/>
                    </a:lnTo>
                    <a:lnTo>
                      <a:pt x="370" y="577"/>
                    </a:lnTo>
                    <a:lnTo>
                      <a:pt x="1923" y="1036"/>
                    </a:lnTo>
                    <a:lnTo>
                      <a:pt x="26" y="366"/>
                    </a:lnTo>
                    <a:lnTo>
                      <a:pt x="286" y="299"/>
                    </a:lnTo>
                    <a:lnTo>
                      <a:pt x="0" y="180"/>
                    </a:lnTo>
                    <a:lnTo>
                      <a:pt x="705" y="0"/>
                    </a:lnTo>
                    <a:lnTo>
                      <a:pt x="75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6332400" y="5450040"/>
                <a:ext cx="527400" cy="354240"/>
              </a:xfrm>
              <a:custGeom>
                <a:avLst/>
                <a:gdLst/>
                <a:ahLst/>
                <a:rect l="0" t="0" r="r" b="b"/>
                <a:pathLst>
                  <a:path w="1465" h="984">
                    <a:moveTo>
                      <a:pt x="0" y="984"/>
                    </a:moveTo>
                    <a:lnTo>
                      <a:pt x="220" y="671"/>
                    </a:lnTo>
                    <a:lnTo>
                      <a:pt x="476" y="401"/>
                    </a:lnTo>
                    <a:lnTo>
                      <a:pt x="812" y="246"/>
                    </a:lnTo>
                    <a:lnTo>
                      <a:pt x="1156" y="97"/>
                    </a:lnTo>
                    <a:lnTo>
                      <a:pt x="1465" y="0"/>
                    </a:lnTo>
                    <a:lnTo>
                      <a:pt x="1376" y="97"/>
                    </a:lnTo>
                    <a:lnTo>
                      <a:pt x="812" y="339"/>
                    </a:lnTo>
                    <a:lnTo>
                      <a:pt x="449" y="489"/>
                    </a:lnTo>
                    <a:lnTo>
                      <a:pt x="255" y="737"/>
                    </a:lnTo>
                    <a:lnTo>
                      <a:pt x="590" y="489"/>
                    </a:lnTo>
                    <a:lnTo>
                      <a:pt x="1465" y="220"/>
                    </a:lnTo>
                    <a:lnTo>
                      <a:pt x="1438" y="277"/>
                    </a:lnTo>
                    <a:lnTo>
                      <a:pt x="617" y="547"/>
                    </a:lnTo>
                    <a:lnTo>
                      <a:pt x="198" y="834"/>
                    </a:lnTo>
                    <a:lnTo>
                      <a:pt x="0" y="9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6037200" y="5637240"/>
                <a:ext cx="90720" cy="76680"/>
              </a:xfrm>
              <a:custGeom>
                <a:avLst/>
                <a:gdLst/>
                <a:ahLst/>
                <a:rect l="0" t="0" r="r" b="b"/>
                <a:pathLst>
                  <a:path w="252" h="213">
                    <a:moveTo>
                      <a:pt x="0" y="120"/>
                    </a:moveTo>
                    <a:lnTo>
                      <a:pt x="26" y="0"/>
                    </a:lnTo>
                    <a:lnTo>
                      <a:pt x="142" y="0"/>
                    </a:lnTo>
                    <a:lnTo>
                      <a:pt x="252" y="62"/>
                    </a:lnTo>
                    <a:lnTo>
                      <a:pt x="252" y="146"/>
                    </a:lnTo>
                    <a:lnTo>
                      <a:pt x="110"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3" name=""/>
              <p:cNvSpPr/>
              <p:nvPr/>
            </p:nvSpPr>
            <p:spPr>
              <a:xfrm>
                <a:off x="5599080" y="5418000"/>
                <a:ext cx="92520" cy="76680"/>
              </a:xfrm>
              <a:custGeom>
                <a:avLst/>
                <a:gdLst/>
                <a:ahLst/>
                <a:rect l="0" t="0" r="r" b="b"/>
                <a:pathLst>
                  <a:path w="257" h="213">
                    <a:moveTo>
                      <a:pt x="0" y="115"/>
                    </a:moveTo>
                    <a:lnTo>
                      <a:pt x="30" y="0"/>
                    </a:lnTo>
                    <a:lnTo>
                      <a:pt x="146" y="0"/>
                    </a:lnTo>
                    <a:lnTo>
                      <a:pt x="257" y="58"/>
                    </a:lnTo>
                    <a:lnTo>
                      <a:pt x="257" y="146"/>
                    </a:lnTo>
                    <a:lnTo>
                      <a:pt x="115" y="213"/>
                    </a:lnTo>
                    <a:lnTo>
                      <a:pt x="30" y="182"/>
                    </a:lnTo>
                    <a:lnTo>
                      <a:pt x="0" y="115"/>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4" name=""/>
              <p:cNvSpPr/>
              <p:nvPr/>
            </p:nvSpPr>
            <p:spPr>
              <a:xfrm>
                <a:off x="5264280" y="5245200"/>
                <a:ext cx="93960" cy="76680"/>
              </a:xfrm>
              <a:custGeom>
                <a:avLst/>
                <a:gdLst/>
                <a:ahLst/>
                <a:rect l="0" t="0" r="r" b="b"/>
                <a:pathLst>
                  <a:path w="261" h="213">
                    <a:moveTo>
                      <a:pt x="0" y="120"/>
                    </a:moveTo>
                    <a:lnTo>
                      <a:pt x="26" y="0"/>
                    </a:lnTo>
                    <a:lnTo>
                      <a:pt x="146" y="0"/>
                    </a:lnTo>
                    <a:lnTo>
                      <a:pt x="261" y="62"/>
                    </a:lnTo>
                    <a:lnTo>
                      <a:pt x="261" y="155"/>
                    </a:lnTo>
                    <a:lnTo>
                      <a:pt x="114"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5" name=""/>
              <p:cNvSpPr/>
              <p:nvPr/>
            </p:nvSpPr>
            <p:spPr>
              <a:xfrm>
                <a:off x="6504120" y="5024520"/>
                <a:ext cx="508320" cy="327240"/>
              </a:xfrm>
              <a:custGeom>
                <a:avLst/>
                <a:gdLst/>
                <a:ahLst/>
                <a:rect l="0" t="0" r="r" b="b"/>
                <a:pathLst>
                  <a:path w="1412" h="909">
                    <a:moveTo>
                      <a:pt x="171" y="361"/>
                    </a:moveTo>
                    <a:lnTo>
                      <a:pt x="1412" y="0"/>
                    </a:lnTo>
                    <a:lnTo>
                      <a:pt x="1072" y="335"/>
                    </a:lnTo>
                    <a:lnTo>
                      <a:pt x="874" y="733"/>
                    </a:lnTo>
                    <a:lnTo>
                      <a:pt x="0" y="909"/>
                    </a:lnTo>
                    <a:lnTo>
                      <a:pt x="874" y="640"/>
                    </a:lnTo>
                    <a:lnTo>
                      <a:pt x="57" y="794"/>
                    </a:lnTo>
                    <a:lnTo>
                      <a:pt x="904" y="516"/>
                    </a:lnTo>
                    <a:lnTo>
                      <a:pt x="57" y="666"/>
                    </a:lnTo>
                    <a:lnTo>
                      <a:pt x="988" y="392"/>
                    </a:lnTo>
                    <a:lnTo>
                      <a:pt x="88" y="516"/>
                    </a:lnTo>
                    <a:lnTo>
                      <a:pt x="1103" y="242"/>
                    </a:lnTo>
                    <a:lnTo>
                      <a:pt x="171" y="3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786" name="" descr=""/>
            <p:cNvPicPr/>
            <p:nvPr/>
          </p:nvPicPr>
          <p:blipFill>
            <a:blip r:embed="rId1"/>
            <a:stretch/>
          </p:blipFill>
          <p:spPr>
            <a:xfrm>
              <a:off x="6738840" y="4122720"/>
              <a:ext cx="1770120" cy="194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
          <p:cNvSpPr txBox="1"/>
          <p:nvPr/>
        </p:nvSpPr>
        <p:spPr>
          <a:xfrm>
            <a:off x="1219320" y="533520"/>
            <a:ext cx="726444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0" name=""/>
          <p:cNvSpPr txBox="1"/>
          <p:nvPr/>
        </p:nvSpPr>
        <p:spPr>
          <a:xfrm>
            <a:off x="1015920" y="2036880"/>
            <a:ext cx="7696080" cy="3581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ices of accounting methods and estimates affect a firm’s operating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hoice of estimates affects both current and future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7"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88" name=""/>
          <p:cNvSpPr txBox="1"/>
          <p:nvPr/>
        </p:nvSpPr>
        <p:spPr>
          <a:xfrm>
            <a:off x="990720" y="1219320"/>
            <a:ext cx="781848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represents the equity of the owner of one share of stock in the net assets of the corpo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does not necessarily equal the amount the shareholder would receive if the company were sold or liquid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9"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90" name=""/>
          <p:cNvSpPr txBox="1"/>
          <p:nvPr/>
        </p:nvSpPr>
        <p:spPr>
          <a:xfrm>
            <a:off x="868320" y="1371600"/>
            <a:ext cx="797076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common stock only) equals:</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Total Stockholders’ Equity</a:t>
            </a:r>
            <a:br>
              <a:rPr sz="1800"/>
            </a:br>
            <a:r>
              <a:rPr b="1" lang="en-US" sz="2800" spc="-1" strike="noStrike">
                <a:solidFill>
                  <a:srgbClr val="fcffd8"/>
                </a:solidFill>
                <a:latin typeface="Arial"/>
                <a:ea typeface="Arial"/>
              </a:rPr>
              <a:t>	</a:t>
            </a:r>
            <a:r>
              <a:rPr b="1" lang="en-US" sz="2800" spc="-1" strike="noStrike">
                <a:solidFill>
                  <a:srgbClr val="fcffd8"/>
                </a:solidFill>
                <a:latin typeface="Arial"/>
                <a:ea typeface="Arial"/>
              </a:rPr>
              <a:t>     Shares Outstanding</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both preferred and common stock, the determination of book value per share is more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1" name=""/>
          <p:cNvSpPr txBox="1"/>
          <p:nvPr/>
        </p:nvSpPr>
        <p:spPr>
          <a:xfrm>
            <a:off x="1066680" y="114300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92" name=""/>
          <p:cNvSpPr txBox="1"/>
          <p:nvPr/>
        </p:nvSpPr>
        <p:spPr>
          <a:xfrm>
            <a:off x="914400" y="2286000"/>
            <a:ext cx="7759800" cy="4038480"/>
          </a:xfrm>
          <a:prstGeom prst="rect">
            <a:avLst/>
          </a:prstGeom>
          <a:noFill/>
          <a:ln w="0">
            <a:noFill/>
          </a:ln>
        </p:spPr>
        <p:txBody>
          <a:bodyPr lIns="0" rIns="0" tIns="0" bIns="0" anchor="t">
            <a:noAutofit/>
          </a:bodyPr>
          <a:p>
            <a:pPr marL="801720" indent="-80172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significance of book value per share of stock?</a:t>
            </a:r>
            <a:endParaRPr b="0" lang="en-US" sz="3200" spc="-1" strike="noStrike">
              <a:solidFill>
                <a:srgbClr val="ffffff"/>
              </a:solidFill>
              <a:latin typeface="Arial"/>
            </a:endParaRPr>
          </a:p>
          <a:p>
            <a:pPr marL="801720" indent="-80172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ea typeface="Arial"/>
              </a:rPr>
              <a:t>apply to both common and preferred stock.</a:t>
            </a:r>
            <a:endParaRPr b="0" lang="en-US" sz="3200" spc="-1" strike="noStrike">
              <a:solidFill>
                <a:srgbClr val="ffffff"/>
              </a:solidFill>
              <a:latin typeface="Arial"/>
            </a:endParaRPr>
          </a:p>
        </p:txBody>
      </p:sp>
      <p:grpSp>
        <p:nvGrpSpPr>
          <p:cNvPr id="793" name=""/>
          <p:cNvGrpSpPr/>
          <p:nvPr/>
        </p:nvGrpSpPr>
        <p:grpSpPr>
          <a:xfrm>
            <a:off x="6781680" y="304920"/>
            <a:ext cx="1980000" cy="1980000"/>
            <a:chOff x="6781680" y="304920"/>
            <a:chExt cx="1980000" cy="1980000"/>
          </a:xfrm>
        </p:grpSpPr>
        <p:sp>
          <p:nvSpPr>
            <p:cNvPr id="794" name=""/>
            <p:cNvSpPr/>
            <p:nvPr/>
          </p:nvSpPr>
          <p:spPr>
            <a:xfrm>
              <a:off x="6786720" y="1276200"/>
              <a:ext cx="481320" cy="690840"/>
            </a:xfrm>
            <a:custGeom>
              <a:avLst/>
              <a:gdLst/>
              <a:ahLst/>
              <a:rect l="0" t="0" r="r" b="b"/>
              <a:pathLst>
                <a:path w="1337" h="1919">
                  <a:moveTo>
                    <a:pt x="533" y="0"/>
                  </a:moveTo>
                  <a:lnTo>
                    <a:pt x="463" y="83"/>
                  </a:lnTo>
                  <a:lnTo>
                    <a:pt x="463" y="335"/>
                  </a:lnTo>
                  <a:lnTo>
                    <a:pt x="533" y="515"/>
                  </a:lnTo>
                  <a:lnTo>
                    <a:pt x="612" y="604"/>
                  </a:lnTo>
                  <a:lnTo>
                    <a:pt x="493" y="727"/>
                  </a:lnTo>
                  <a:lnTo>
                    <a:pt x="335" y="1006"/>
                  </a:lnTo>
                  <a:lnTo>
                    <a:pt x="26" y="1447"/>
                  </a:lnTo>
                  <a:lnTo>
                    <a:pt x="0" y="1553"/>
                  </a:lnTo>
                  <a:lnTo>
                    <a:pt x="26" y="1641"/>
                  </a:lnTo>
                  <a:lnTo>
                    <a:pt x="123" y="1641"/>
                  </a:lnTo>
                  <a:lnTo>
                    <a:pt x="202" y="1544"/>
                  </a:lnTo>
                  <a:lnTo>
                    <a:pt x="335" y="1293"/>
                  </a:lnTo>
                  <a:lnTo>
                    <a:pt x="414" y="1187"/>
                  </a:lnTo>
                  <a:lnTo>
                    <a:pt x="463" y="1350"/>
                  </a:lnTo>
                  <a:lnTo>
                    <a:pt x="427" y="1526"/>
                  </a:lnTo>
                  <a:lnTo>
                    <a:pt x="295" y="1778"/>
                  </a:lnTo>
                  <a:lnTo>
                    <a:pt x="335" y="1839"/>
                  </a:lnTo>
                  <a:lnTo>
                    <a:pt x="414" y="1817"/>
                  </a:lnTo>
                  <a:lnTo>
                    <a:pt x="582" y="1689"/>
                  </a:lnTo>
                  <a:lnTo>
                    <a:pt x="710" y="1465"/>
                  </a:lnTo>
                  <a:lnTo>
                    <a:pt x="710" y="1857"/>
                  </a:lnTo>
                  <a:lnTo>
                    <a:pt x="869" y="1919"/>
                  </a:lnTo>
                  <a:lnTo>
                    <a:pt x="966" y="1676"/>
                  </a:lnTo>
                  <a:lnTo>
                    <a:pt x="1046" y="1901"/>
                  </a:lnTo>
                  <a:lnTo>
                    <a:pt x="1112" y="1839"/>
                  </a:lnTo>
                  <a:lnTo>
                    <a:pt x="1143" y="1390"/>
                  </a:lnTo>
                  <a:lnTo>
                    <a:pt x="1337" y="975"/>
                  </a:lnTo>
                  <a:lnTo>
                    <a:pt x="1293" y="727"/>
                  </a:lnTo>
                  <a:lnTo>
                    <a:pt x="1156" y="639"/>
                  </a:lnTo>
                  <a:lnTo>
                    <a:pt x="1015" y="652"/>
                  </a:lnTo>
                  <a:lnTo>
                    <a:pt x="966" y="454"/>
                  </a:lnTo>
                  <a:lnTo>
                    <a:pt x="816" y="410"/>
                  </a:lnTo>
                  <a:lnTo>
                    <a:pt x="688" y="348"/>
                  </a:lnTo>
                  <a:lnTo>
                    <a:pt x="612" y="39"/>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7191360" y="1557360"/>
              <a:ext cx="141480" cy="335160"/>
            </a:xfrm>
            <a:custGeom>
              <a:avLst/>
              <a:gdLst/>
              <a:ahLst/>
              <a:rect l="0" t="0" r="r" b="b"/>
              <a:pathLst>
                <a:path w="393" h="931">
                  <a:moveTo>
                    <a:pt x="199" y="0"/>
                  </a:moveTo>
                  <a:lnTo>
                    <a:pt x="393" y="238"/>
                  </a:lnTo>
                  <a:lnTo>
                    <a:pt x="296" y="763"/>
                  </a:lnTo>
                  <a:lnTo>
                    <a:pt x="0" y="931"/>
                  </a:lnTo>
                  <a:lnTo>
                    <a:pt x="0" y="671"/>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8112240" y="136512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1"/>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253360" y="1023840"/>
              <a:ext cx="495720" cy="663840"/>
            </a:xfrm>
            <a:custGeom>
              <a:avLst/>
              <a:gdLst/>
              <a:ahLst/>
              <a:rect l="0" t="0" r="r" b="b"/>
              <a:pathLst>
                <a:path w="1377" h="1844">
                  <a:moveTo>
                    <a:pt x="123" y="780"/>
                  </a:moveTo>
                  <a:lnTo>
                    <a:pt x="0" y="912"/>
                  </a:lnTo>
                  <a:lnTo>
                    <a:pt x="26" y="1213"/>
                  </a:lnTo>
                  <a:lnTo>
                    <a:pt x="216" y="1354"/>
                  </a:lnTo>
                  <a:lnTo>
                    <a:pt x="233" y="1813"/>
                  </a:lnTo>
                  <a:lnTo>
                    <a:pt x="428" y="1813"/>
                  </a:lnTo>
                  <a:lnTo>
                    <a:pt x="415" y="1425"/>
                  </a:lnTo>
                  <a:lnTo>
                    <a:pt x="556" y="1826"/>
                  </a:lnTo>
                  <a:lnTo>
                    <a:pt x="653" y="1844"/>
                  </a:lnTo>
                  <a:lnTo>
                    <a:pt x="724" y="1707"/>
                  </a:lnTo>
                  <a:lnTo>
                    <a:pt x="737" y="1451"/>
                  </a:lnTo>
                  <a:lnTo>
                    <a:pt x="949" y="1694"/>
                  </a:lnTo>
                  <a:lnTo>
                    <a:pt x="1032" y="1676"/>
                  </a:lnTo>
                  <a:lnTo>
                    <a:pt x="1010" y="1509"/>
                  </a:lnTo>
                  <a:lnTo>
                    <a:pt x="935" y="1275"/>
                  </a:lnTo>
                  <a:lnTo>
                    <a:pt x="852" y="1125"/>
                  </a:lnTo>
                  <a:lnTo>
                    <a:pt x="882" y="1019"/>
                  </a:lnTo>
                  <a:lnTo>
                    <a:pt x="935" y="1037"/>
                  </a:lnTo>
                  <a:lnTo>
                    <a:pt x="1126" y="1275"/>
                  </a:lnTo>
                  <a:lnTo>
                    <a:pt x="1333" y="1337"/>
                  </a:lnTo>
                  <a:lnTo>
                    <a:pt x="1377" y="1262"/>
                  </a:lnTo>
                  <a:lnTo>
                    <a:pt x="1346" y="1138"/>
                  </a:lnTo>
                  <a:lnTo>
                    <a:pt x="962" y="767"/>
                  </a:lnTo>
                  <a:lnTo>
                    <a:pt x="653" y="652"/>
                  </a:lnTo>
                  <a:lnTo>
                    <a:pt x="618" y="440"/>
                  </a:lnTo>
                  <a:lnTo>
                    <a:pt x="724" y="260"/>
                  </a:lnTo>
                  <a:lnTo>
                    <a:pt x="724" y="57"/>
                  </a:lnTo>
                  <a:lnTo>
                    <a:pt x="636" y="0"/>
                  </a:lnTo>
                  <a:lnTo>
                    <a:pt x="415" y="498"/>
                  </a:lnTo>
                  <a:lnTo>
                    <a:pt x="216" y="573"/>
                  </a:lnTo>
                  <a:lnTo>
                    <a:pt x="167" y="709"/>
                  </a:lnTo>
                  <a:lnTo>
                    <a:pt x="123" y="78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7440480" y="446040"/>
              <a:ext cx="541800" cy="849600"/>
            </a:xfrm>
            <a:custGeom>
              <a:avLst/>
              <a:gdLst/>
              <a:ahLst/>
              <a:rect l="0" t="0" r="r" b="b"/>
              <a:pathLst>
                <a:path w="1505" h="2360">
                  <a:moveTo>
                    <a:pt x="374" y="326"/>
                  </a:moveTo>
                  <a:lnTo>
                    <a:pt x="264" y="780"/>
                  </a:lnTo>
                  <a:lnTo>
                    <a:pt x="13" y="868"/>
                  </a:lnTo>
                  <a:lnTo>
                    <a:pt x="83" y="1009"/>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9"/>
                  </a:lnTo>
                  <a:lnTo>
                    <a:pt x="1121" y="260"/>
                  </a:lnTo>
                  <a:lnTo>
                    <a:pt x="653" y="0"/>
                  </a:lnTo>
                  <a:lnTo>
                    <a:pt x="406" y="238"/>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7480440" y="1157400"/>
              <a:ext cx="495720" cy="1014840"/>
            </a:xfrm>
            <a:custGeom>
              <a:avLst/>
              <a:gdLst/>
              <a:ahLst/>
              <a:rect l="0" t="0" r="r" b="b"/>
              <a:pathLst>
                <a:path w="1377" h="2819">
                  <a:moveTo>
                    <a:pt x="282" y="145"/>
                  </a:moveTo>
                  <a:lnTo>
                    <a:pt x="477" y="286"/>
                  </a:lnTo>
                  <a:lnTo>
                    <a:pt x="574" y="432"/>
                  </a:lnTo>
                  <a:lnTo>
                    <a:pt x="1126" y="0"/>
                  </a:lnTo>
                  <a:lnTo>
                    <a:pt x="1298" y="88"/>
                  </a:lnTo>
                  <a:lnTo>
                    <a:pt x="1377" y="537"/>
                  </a:lnTo>
                  <a:lnTo>
                    <a:pt x="979" y="1835"/>
                  </a:lnTo>
                  <a:lnTo>
                    <a:pt x="1108" y="2546"/>
                  </a:lnTo>
                  <a:lnTo>
                    <a:pt x="587" y="2819"/>
                  </a:lnTo>
                  <a:lnTo>
                    <a:pt x="185" y="2669"/>
                  </a:lnTo>
                  <a:lnTo>
                    <a:pt x="185" y="1906"/>
                  </a:lnTo>
                  <a:lnTo>
                    <a:pt x="0" y="1173"/>
                  </a:lnTo>
                  <a:lnTo>
                    <a:pt x="185" y="286"/>
                  </a:lnTo>
                  <a:lnTo>
                    <a:pt x="282"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7502400" y="333360"/>
              <a:ext cx="462240" cy="268560"/>
            </a:xfrm>
            <a:custGeom>
              <a:avLst/>
              <a:gdLst/>
              <a:ahLst/>
              <a:rect l="0" t="0" r="r" b="b"/>
              <a:pathLst>
                <a:path w="1284" h="746">
                  <a:moveTo>
                    <a:pt x="158" y="715"/>
                  </a:moveTo>
                  <a:lnTo>
                    <a:pt x="348" y="512"/>
                  </a:lnTo>
                  <a:lnTo>
                    <a:pt x="467" y="486"/>
                  </a:lnTo>
                  <a:lnTo>
                    <a:pt x="467" y="499"/>
                  </a:lnTo>
                  <a:lnTo>
                    <a:pt x="529" y="486"/>
                  </a:lnTo>
                  <a:lnTo>
                    <a:pt x="604" y="543"/>
                  </a:lnTo>
                  <a:lnTo>
                    <a:pt x="759" y="574"/>
                  </a:lnTo>
                  <a:lnTo>
                    <a:pt x="882" y="746"/>
                  </a:lnTo>
                  <a:lnTo>
                    <a:pt x="1081" y="671"/>
                  </a:lnTo>
                  <a:lnTo>
                    <a:pt x="1081" y="587"/>
                  </a:lnTo>
                  <a:lnTo>
                    <a:pt x="1284" y="499"/>
                  </a:lnTo>
                  <a:lnTo>
                    <a:pt x="1222" y="357"/>
                  </a:lnTo>
                  <a:lnTo>
                    <a:pt x="1032" y="348"/>
                  </a:lnTo>
                  <a:lnTo>
                    <a:pt x="1063" y="194"/>
                  </a:lnTo>
                  <a:lnTo>
                    <a:pt x="900" y="211"/>
                  </a:lnTo>
                  <a:lnTo>
                    <a:pt x="869" y="105"/>
                  </a:lnTo>
                  <a:lnTo>
                    <a:pt x="759" y="105"/>
                  </a:lnTo>
                  <a:lnTo>
                    <a:pt x="680" y="167"/>
                  </a:lnTo>
                  <a:lnTo>
                    <a:pt x="604" y="167"/>
                  </a:lnTo>
                  <a:lnTo>
                    <a:pt x="621" y="0"/>
                  </a:lnTo>
                  <a:lnTo>
                    <a:pt x="467" y="79"/>
                  </a:lnTo>
                  <a:lnTo>
                    <a:pt x="251" y="348"/>
                  </a:lnTo>
                  <a:lnTo>
                    <a:pt x="242" y="167"/>
                  </a:lnTo>
                  <a:lnTo>
                    <a:pt x="127" y="255"/>
                  </a:lnTo>
                  <a:lnTo>
                    <a:pt x="97" y="486"/>
                  </a:lnTo>
                  <a:lnTo>
                    <a:pt x="0" y="441"/>
                  </a:lnTo>
                  <a:lnTo>
                    <a:pt x="13" y="587"/>
                  </a:lnTo>
                  <a:lnTo>
                    <a:pt x="158"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7626240" y="1344600"/>
              <a:ext cx="147960" cy="767160"/>
            </a:xfrm>
            <a:custGeom>
              <a:avLst/>
              <a:gdLst/>
              <a:ahLst/>
              <a:rect l="0" t="0" r="r" b="b"/>
              <a:pathLst>
                <a:path w="411" h="2131">
                  <a:moveTo>
                    <a:pt x="212" y="8"/>
                  </a:moveTo>
                  <a:lnTo>
                    <a:pt x="70" y="105"/>
                  </a:lnTo>
                  <a:lnTo>
                    <a:pt x="70" y="286"/>
                  </a:lnTo>
                  <a:lnTo>
                    <a:pt x="167" y="343"/>
                  </a:lnTo>
                  <a:lnTo>
                    <a:pt x="39" y="627"/>
                  </a:lnTo>
                  <a:lnTo>
                    <a:pt x="0" y="1002"/>
                  </a:lnTo>
                  <a:lnTo>
                    <a:pt x="101" y="1491"/>
                  </a:lnTo>
                  <a:lnTo>
                    <a:pt x="101" y="1699"/>
                  </a:lnTo>
                  <a:lnTo>
                    <a:pt x="48" y="1854"/>
                  </a:lnTo>
                  <a:lnTo>
                    <a:pt x="261" y="2131"/>
                  </a:lnTo>
                  <a:lnTo>
                    <a:pt x="397" y="1712"/>
                  </a:lnTo>
                  <a:lnTo>
                    <a:pt x="397" y="1434"/>
                  </a:lnTo>
                  <a:lnTo>
                    <a:pt x="296" y="1165"/>
                  </a:lnTo>
                  <a:lnTo>
                    <a:pt x="247" y="807"/>
                  </a:lnTo>
                  <a:lnTo>
                    <a:pt x="349" y="454"/>
                  </a:lnTo>
                  <a:lnTo>
                    <a:pt x="314" y="313"/>
                  </a:lnTo>
                  <a:lnTo>
                    <a:pt x="411" y="238"/>
                  </a:lnTo>
                  <a:lnTo>
                    <a:pt x="397" y="145"/>
                  </a:lnTo>
                  <a:lnTo>
                    <a:pt x="274" y="0"/>
                  </a:lnTo>
                  <a:lnTo>
                    <a:pt x="21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7621560" y="108576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803" name=""/>
            <p:cNvSpPr/>
            <p:nvPr/>
          </p:nvSpPr>
          <p:spPr>
            <a:xfrm>
              <a:off x="7491240" y="73008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7751880" y="698400"/>
              <a:ext cx="127440" cy="151200"/>
            </a:xfrm>
            <a:custGeom>
              <a:avLst/>
              <a:gdLst/>
              <a:ahLst/>
              <a:rect l="0" t="0" r="r" b="b"/>
              <a:pathLst>
                <a:path w="354" h="420">
                  <a:moveTo>
                    <a:pt x="0" y="57"/>
                  </a:moveTo>
                  <a:lnTo>
                    <a:pt x="243" y="420"/>
                  </a:lnTo>
                  <a:lnTo>
                    <a:pt x="354" y="323"/>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7437600" y="504720"/>
              <a:ext cx="516240" cy="376560"/>
            </a:xfrm>
            <a:custGeom>
              <a:avLst/>
              <a:gdLst/>
              <a:ahLst/>
              <a:rect l="0" t="0" r="r" b="b"/>
              <a:pathLst>
                <a:path w="1434" h="1046">
                  <a:moveTo>
                    <a:pt x="657" y="622"/>
                  </a:moveTo>
                  <a:lnTo>
                    <a:pt x="524" y="578"/>
                  </a:lnTo>
                  <a:lnTo>
                    <a:pt x="639" y="489"/>
                  </a:lnTo>
                  <a:lnTo>
                    <a:pt x="599" y="436"/>
                  </a:lnTo>
                  <a:lnTo>
                    <a:pt x="449" y="561"/>
                  </a:lnTo>
                  <a:lnTo>
                    <a:pt x="180" y="591"/>
                  </a:lnTo>
                  <a:lnTo>
                    <a:pt x="0" y="600"/>
                  </a:lnTo>
                  <a:lnTo>
                    <a:pt x="0" y="741"/>
                  </a:lnTo>
                  <a:lnTo>
                    <a:pt x="171" y="1041"/>
                  </a:lnTo>
                  <a:lnTo>
                    <a:pt x="216" y="1046"/>
                  </a:lnTo>
                  <a:lnTo>
                    <a:pt x="61" y="719"/>
                  </a:lnTo>
                  <a:lnTo>
                    <a:pt x="295" y="622"/>
                  </a:lnTo>
                  <a:lnTo>
                    <a:pt x="449" y="622"/>
                  </a:lnTo>
                  <a:lnTo>
                    <a:pt x="568" y="684"/>
                  </a:lnTo>
                  <a:lnTo>
                    <a:pt x="599" y="772"/>
                  </a:lnTo>
                  <a:lnTo>
                    <a:pt x="599" y="971"/>
                  </a:lnTo>
                  <a:lnTo>
                    <a:pt x="599" y="1041"/>
                  </a:lnTo>
                  <a:lnTo>
                    <a:pt x="665" y="944"/>
                  </a:lnTo>
                  <a:lnTo>
                    <a:pt x="665" y="737"/>
                  </a:lnTo>
                  <a:lnTo>
                    <a:pt x="768" y="737"/>
                  </a:lnTo>
                  <a:lnTo>
                    <a:pt x="816" y="971"/>
                  </a:lnTo>
                  <a:lnTo>
                    <a:pt x="874" y="993"/>
                  </a:lnTo>
                  <a:lnTo>
                    <a:pt x="1046" y="993"/>
                  </a:lnTo>
                  <a:lnTo>
                    <a:pt x="1222" y="953"/>
                  </a:lnTo>
                  <a:lnTo>
                    <a:pt x="1350" y="860"/>
                  </a:lnTo>
                  <a:lnTo>
                    <a:pt x="1368" y="653"/>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4"/>
                  </a:lnTo>
                  <a:lnTo>
                    <a:pt x="1151" y="515"/>
                  </a:lnTo>
                  <a:lnTo>
                    <a:pt x="1315" y="538"/>
                  </a:lnTo>
                  <a:lnTo>
                    <a:pt x="1315" y="569"/>
                  </a:lnTo>
                  <a:lnTo>
                    <a:pt x="1240" y="644"/>
                  </a:lnTo>
                  <a:lnTo>
                    <a:pt x="1209" y="737"/>
                  </a:lnTo>
                  <a:lnTo>
                    <a:pt x="1200" y="860"/>
                  </a:lnTo>
                  <a:lnTo>
                    <a:pt x="1107" y="913"/>
                  </a:lnTo>
                  <a:lnTo>
                    <a:pt x="966" y="931"/>
                  </a:lnTo>
                  <a:lnTo>
                    <a:pt x="874" y="931"/>
                  </a:lnTo>
                  <a:lnTo>
                    <a:pt x="838" y="891"/>
                  </a:lnTo>
                  <a:lnTo>
                    <a:pt x="816" y="653"/>
                  </a:lnTo>
                  <a:lnTo>
                    <a:pt x="665" y="653"/>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6" name=""/>
            <p:cNvSpPr/>
            <p:nvPr/>
          </p:nvSpPr>
          <p:spPr>
            <a:xfrm>
              <a:off x="7615080" y="93816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7" name=""/>
            <p:cNvSpPr/>
            <p:nvPr/>
          </p:nvSpPr>
          <p:spPr>
            <a:xfrm>
              <a:off x="7429680" y="814320"/>
              <a:ext cx="251280" cy="406800"/>
            </a:xfrm>
            <a:custGeom>
              <a:avLst/>
              <a:gdLst/>
              <a:ahLst/>
              <a:rect l="0" t="0" r="r" b="b"/>
              <a:pathLst>
                <a:path w="698" h="1130">
                  <a:moveTo>
                    <a:pt x="698" y="79"/>
                  </a:moveTo>
                  <a:lnTo>
                    <a:pt x="698" y="101"/>
                  </a:lnTo>
                  <a:lnTo>
                    <a:pt x="575" y="216"/>
                  </a:lnTo>
                  <a:lnTo>
                    <a:pt x="472" y="233"/>
                  </a:lnTo>
                  <a:lnTo>
                    <a:pt x="278" y="202"/>
                  </a:lnTo>
                  <a:lnTo>
                    <a:pt x="314" y="613"/>
                  </a:lnTo>
                  <a:lnTo>
                    <a:pt x="362" y="945"/>
                  </a:lnTo>
                  <a:lnTo>
                    <a:pt x="441" y="1130"/>
                  </a:lnTo>
                  <a:lnTo>
                    <a:pt x="362" y="998"/>
                  </a:lnTo>
                  <a:lnTo>
                    <a:pt x="327" y="857"/>
                  </a:lnTo>
                  <a:lnTo>
                    <a:pt x="269" y="477"/>
                  </a:lnTo>
                  <a:lnTo>
                    <a:pt x="212" y="499"/>
                  </a:lnTo>
                  <a:lnTo>
                    <a:pt x="145" y="455"/>
                  </a:lnTo>
                  <a:lnTo>
                    <a:pt x="13" y="255"/>
                  </a:lnTo>
                  <a:lnTo>
                    <a:pt x="0" y="145"/>
                  </a:lnTo>
                  <a:lnTo>
                    <a:pt x="0" y="66"/>
                  </a:lnTo>
                  <a:lnTo>
                    <a:pt x="30" y="22"/>
                  </a:lnTo>
                  <a:lnTo>
                    <a:pt x="110" y="0"/>
                  </a:lnTo>
                  <a:lnTo>
                    <a:pt x="119" y="30"/>
                  </a:lnTo>
                  <a:lnTo>
                    <a:pt x="57" y="52"/>
                  </a:lnTo>
                  <a:lnTo>
                    <a:pt x="39" y="136"/>
                  </a:lnTo>
                  <a:lnTo>
                    <a:pt x="48" y="238"/>
                  </a:lnTo>
                  <a:lnTo>
                    <a:pt x="136" y="336"/>
                  </a:lnTo>
                  <a:lnTo>
                    <a:pt x="181" y="314"/>
                  </a:lnTo>
                  <a:lnTo>
                    <a:pt x="181" y="110"/>
                  </a:lnTo>
                  <a:lnTo>
                    <a:pt x="265" y="149"/>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7496280" y="49356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a:off x="7494480" y="304920"/>
              <a:ext cx="565560" cy="284400"/>
            </a:xfrm>
            <a:custGeom>
              <a:avLst/>
              <a:gdLst/>
              <a:ahLst/>
              <a:rect l="0" t="0" r="r" b="b"/>
              <a:pathLst>
                <a:path w="1571" h="790">
                  <a:moveTo>
                    <a:pt x="13" y="534"/>
                  </a:moveTo>
                  <a:lnTo>
                    <a:pt x="149" y="618"/>
                  </a:lnTo>
                  <a:lnTo>
                    <a:pt x="136" y="512"/>
                  </a:lnTo>
                  <a:lnTo>
                    <a:pt x="163" y="335"/>
                  </a:lnTo>
                  <a:lnTo>
                    <a:pt x="251" y="295"/>
                  </a:lnTo>
                  <a:lnTo>
                    <a:pt x="264" y="486"/>
                  </a:lnTo>
                  <a:lnTo>
                    <a:pt x="525" y="149"/>
                  </a:lnTo>
                  <a:lnTo>
                    <a:pt x="591" y="132"/>
                  </a:lnTo>
                  <a:lnTo>
                    <a:pt x="543" y="260"/>
                  </a:lnTo>
                  <a:lnTo>
                    <a:pt x="706" y="330"/>
                  </a:lnTo>
                  <a:lnTo>
                    <a:pt x="825" y="194"/>
                  </a:lnTo>
                  <a:lnTo>
                    <a:pt x="891" y="233"/>
                  </a:lnTo>
                  <a:lnTo>
                    <a:pt x="834" y="348"/>
                  </a:lnTo>
                  <a:lnTo>
                    <a:pt x="913" y="282"/>
                  </a:lnTo>
                  <a:lnTo>
                    <a:pt x="1028" y="335"/>
                  </a:lnTo>
                  <a:lnTo>
                    <a:pt x="935" y="428"/>
                  </a:lnTo>
                  <a:lnTo>
                    <a:pt x="1258" y="486"/>
                  </a:lnTo>
                  <a:lnTo>
                    <a:pt x="1041" y="556"/>
                  </a:lnTo>
                  <a:lnTo>
                    <a:pt x="1311" y="596"/>
                  </a:lnTo>
                  <a:lnTo>
                    <a:pt x="993" y="671"/>
                  </a:lnTo>
                  <a:lnTo>
                    <a:pt x="1059" y="733"/>
                  </a:lnTo>
                  <a:lnTo>
                    <a:pt x="966" y="790"/>
                  </a:lnTo>
                  <a:lnTo>
                    <a:pt x="1129" y="790"/>
                  </a:lnTo>
                  <a:lnTo>
                    <a:pt x="1116" y="741"/>
                  </a:lnTo>
                  <a:lnTo>
                    <a:pt x="1285" y="785"/>
                  </a:lnTo>
                  <a:lnTo>
                    <a:pt x="1258" y="658"/>
                  </a:lnTo>
                  <a:lnTo>
                    <a:pt x="1417" y="600"/>
                  </a:lnTo>
                  <a:lnTo>
                    <a:pt x="1307" y="543"/>
                  </a:lnTo>
                  <a:lnTo>
                    <a:pt x="1571" y="530"/>
                  </a:lnTo>
                  <a:lnTo>
                    <a:pt x="1342" y="397"/>
                  </a:lnTo>
                  <a:lnTo>
                    <a:pt x="1081" y="370"/>
                  </a:lnTo>
                  <a:lnTo>
                    <a:pt x="1285" y="238"/>
                  </a:lnTo>
                  <a:lnTo>
                    <a:pt x="913" y="238"/>
                  </a:lnTo>
                  <a:lnTo>
                    <a:pt x="1090" y="119"/>
                  </a:lnTo>
                  <a:lnTo>
                    <a:pt x="821" y="149"/>
                  </a:lnTo>
                  <a:lnTo>
                    <a:pt x="693" y="216"/>
                  </a:lnTo>
                  <a:lnTo>
                    <a:pt x="799" y="0"/>
                  </a:lnTo>
                  <a:lnTo>
                    <a:pt x="472" y="119"/>
                  </a:lnTo>
                  <a:lnTo>
                    <a:pt x="291" y="374"/>
                  </a:lnTo>
                  <a:lnTo>
                    <a:pt x="264" y="233"/>
                  </a:lnTo>
                  <a:lnTo>
                    <a:pt x="114" y="335"/>
                  </a:lnTo>
                  <a:lnTo>
                    <a:pt x="97" y="530"/>
                  </a:lnTo>
                  <a:lnTo>
                    <a:pt x="0" y="486"/>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7616880" y="457200"/>
              <a:ext cx="160560" cy="84600"/>
            </a:xfrm>
            <a:custGeom>
              <a:avLst/>
              <a:gdLst/>
              <a:ahLst/>
              <a:rect l="0" t="0" r="r" b="b"/>
              <a:pathLst>
                <a:path w="446" h="235">
                  <a:moveTo>
                    <a:pt x="0" y="235"/>
                  </a:moveTo>
                  <a:lnTo>
                    <a:pt x="167" y="0"/>
                  </a:lnTo>
                  <a:lnTo>
                    <a:pt x="167" y="155"/>
                  </a:lnTo>
                  <a:lnTo>
                    <a:pt x="225" y="93"/>
                  </a:lnTo>
                  <a:lnTo>
                    <a:pt x="278" y="182"/>
                  </a:lnTo>
                  <a:lnTo>
                    <a:pt x="446" y="222"/>
                  </a:lnTo>
                  <a:lnTo>
                    <a:pt x="269" y="191"/>
                  </a:lnTo>
                  <a:lnTo>
                    <a:pt x="216" y="137"/>
                  </a:lnTo>
                  <a:lnTo>
                    <a:pt x="141" y="191"/>
                  </a:lnTo>
                  <a:lnTo>
                    <a:pt x="141" y="120"/>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811" name=""/>
            <p:cNvSpPr/>
            <p:nvPr/>
          </p:nvSpPr>
          <p:spPr>
            <a:xfrm>
              <a:off x="7602480" y="1038240"/>
              <a:ext cx="192600" cy="125640"/>
            </a:xfrm>
            <a:custGeom>
              <a:avLst/>
              <a:gdLst/>
              <a:ahLst/>
              <a:rect l="0" t="0" r="r" b="b"/>
              <a:pathLst>
                <a:path w="535" h="349">
                  <a:moveTo>
                    <a:pt x="101" y="119"/>
                  </a:moveTo>
                  <a:lnTo>
                    <a:pt x="322" y="105"/>
                  </a:lnTo>
                  <a:lnTo>
                    <a:pt x="425" y="127"/>
                  </a:lnTo>
                  <a:lnTo>
                    <a:pt x="478" y="79"/>
                  </a:lnTo>
                  <a:lnTo>
                    <a:pt x="535" y="195"/>
                  </a:lnTo>
                  <a:lnTo>
                    <a:pt x="500" y="212"/>
                  </a:lnTo>
                  <a:lnTo>
                    <a:pt x="451" y="171"/>
                  </a:lnTo>
                  <a:lnTo>
                    <a:pt x="380" y="256"/>
                  </a:lnTo>
                  <a:lnTo>
                    <a:pt x="247" y="349"/>
                  </a:lnTo>
                  <a:lnTo>
                    <a:pt x="190" y="349"/>
                  </a:lnTo>
                  <a:lnTo>
                    <a:pt x="101" y="296"/>
                  </a:lnTo>
                  <a:lnTo>
                    <a:pt x="199" y="344"/>
                  </a:lnTo>
                  <a:lnTo>
                    <a:pt x="239" y="344"/>
                  </a:lnTo>
                  <a:lnTo>
                    <a:pt x="322" y="274"/>
                  </a:lnTo>
                  <a:lnTo>
                    <a:pt x="375" y="158"/>
                  </a:lnTo>
                  <a:lnTo>
                    <a:pt x="292" y="145"/>
                  </a:lnTo>
                  <a:lnTo>
                    <a:pt x="234" y="127"/>
                  </a:lnTo>
                  <a:lnTo>
                    <a:pt x="88" y="149"/>
                  </a:lnTo>
                  <a:lnTo>
                    <a:pt x="88" y="243"/>
                  </a:lnTo>
                  <a:lnTo>
                    <a:pt x="39" y="186"/>
                  </a:lnTo>
                  <a:lnTo>
                    <a:pt x="0" y="265"/>
                  </a:lnTo>
                  <a:lnTo>
                    <a:pt x="4" y="92"/>
                  </a:lnTo>
                  <a:lnTo>
                    <a:pt x="57" y="0"/>
                  </a:lnTo>
                  <a:lnTo>
                    <a:pt x="101" y="92"/>
                  </a:lnTo>
                  <a:lnTo>
                    <a:pt x="101"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2" name=""/>
            <p:cNvSpPr/>
            <p:nvPr/>
          </p:nvSpPr>
          <p:spPr>
            <a:xfrm>
              <a:off x="7578720" y="760320"/>
              <a:ext cx="411480" cy="589320"/>
            </a:xfrm>
            <a:custGeom>
              <a:avLst/>
              <a:gdLst/>
              <a:ahLst/>
              <a:rect l="0" t="0" r="r" b="b"/>
              <a:pathLst>
                <a:path w="1143" h="1637">
                  <a:moveTo>
                    <a:pt x="962" y="0"/>
                  </a:moveTo>
                  <a:lnTo>
                    <a:pt x="1076" y="0"/>
                  </a:lnTo>
                  <a:lnTo>
                    <a:pt x="1143" y="83"/>
                  </a:lnTo>
                  <a:lnTo>
                    <a:pt x="1143" y="171"/>
                  </a:lnTo>
                  <a:lnTo>
                    <a:pt x="1050" y="427"/>
                  </a:lnTo>
                  <a:lnTo>
                    <a:pt x="957" y="546"/>
                  </a:lnTo>
                  <a:lnTo>
                    <a:pt x="856" y="568"/>
                  </a:lnTo>
                  <a:lnTo>
                    <a:pt x="830" y="568"/>
                  </a:lnTo>
                  <a:lnTo>
                    <a:pt x="830" y="891"/>
                  </a:lnTo>
                  <a:lnTo>
                    <a:pt x="878" y="1121"/>
                  </a:lnTo>
                  <a:lnTo>
                    <a:pt x="878" y="1315"/>
                  </a:lnTo>
                  <a:lnTo>
                    <a:pt x="702" y="1504"/>
                  </a:lnTo>
                  <a:lnTo>
                    <a:pt x="467" y="1637"/>
                  </a:lnTo>
                  <a:lnTo>
                    <a:pt x="317" y="1637"/>
                  </a:lnTo>
                  <a:lnTo>
                    <a:pt x="242" y="1601"/>
                  </a:lnTo>
                  <a:lnTo>
                    <a:pt x="136" y="1376"/>
                  </a:lnTo>
                  <a:lnTo>
                    <a:pt x="39" y="1293"/>
                  </a:lnTo>
                  <a:lnTo>
                    <a:pt x="0" y="1235"/>
                  </a:lnTo>
                  <a:lnTo>
                    <a:pt x="127" y="1315"/>
                  </a:lnTo>
                  <a:lnTo>
                    <a:pt x="220" y="1394"/>
                  </a:lnTo>
                  <a:lnTo>
                    <a:pt x="401" y="1407"/>
                  </a:lnTo>
                  <a:lnTo>
                    <a:pt x="568" y="1328"/>
                  </a:lnTo>
                  <a:lnTo>
                    <a:pt x="653" y="1235"/>
                  </a:lnTo>
                  <a:lnTo>
                    <a:pt x="750" y="1068"/>
                  </a:lnTo>
                  <a:lnTo>
                    <a:pt x="763" y="869"/>
                  </a:lnTo>
                  <a:lnTo>
                    <a:pt x="799" y="246"/>
                  </a:lnTo>
                  <a:lnTo>
                    <a:pt x="838" y="335"/>
                  </a:lnTo>
                  <a:lnTo>
                    <a:pt x="953" y="220"/>
                  </a:lnTo>
                  <a:lnTo>
                    <a:pt x="1068" y="171"/>
                  </a:lnTo>
                  <a:lnTo>
                    <a:pt x="1099" y="105"/>
                  </a:lnTo>
                  <a:lnTo>
                    <a:pt x="1085" y="35"/>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3" name=""/>
            <p:cNvSpPr/>
            <p:nvPr/>
          </p:nvSpPr>
          <p:spPr>
            <a:xfrm>
              <a:off x="6940440" y="1268280"/>
              <a:ext cx="332280" cy="543240"/>
            </a:xfrm>
            <a:custGeom>
              <a:avLst/>
              <a:gdLst/>
              <a:ahLst/>
              <a:rect l="0" t="0" r="r" b="b"/>
              <a:pathLst>
                <a:path w="923" h="1509">
                  <a:moveTo>
                    <a:pt x="114" y="0"/>
                  </a:moveTo>
                  <a:lnTo>
                    <a:pt x="220" y="66"/>
                  </a:lnTo>
                  <a:lnTo>
                    <a:pt x="300" y="374"/>
                  </a:lnTo>
                  <a:lnTo>
                    <a:pt x="538" y="445"/>
                  </a:lnTo>
                  <a:lnTo>
                    <a:pt x="605" y="524"/>
                  </a:lnTo>
                  <a:lnTo>
                    <a:pt x="618" y="639"/>
                  </a:lnTo>
                  <a:lnTo>
                    <a:pt x="734" y="621"/>
                  </a:lnTo>
                  <a:lnTo>
                    <a:pt x="879" y="718"/>
                  </a:lnTo>
                  <a:lnTo>
                    <a:pt x="923" y="847"/>
                  </a:lnTo>
                  <a:lnTo>
                    <a:pt x="923" y="1054"/>
                  </a:lnTo>
                  <a:lnTo>
                    <a:pt x="734" y="1376"/>
                  </a:lnTo>
                  <a:lnTo>
                    <a:pt x="671" y="1509"/>
                  </a:lnTo>
                  <a:lnTo>
                    <a:pt x="707" y="1337"/>
                  </a:lnTo>
                  <a:lnTo>
                    <a:pt x="671" y="1266"/>
                  </a:lnTo>
                  <a:lnTo>
                    <a:pt x="556" y="1160"/>
                  </a:lnTo>
                  <a:lnTo>
                    <a:pt x="375" y="1028"/>
                  </a:lnTo>
                  <a:lnTo>
                    <a:pt x="596" y="1103"/>
                  </a:lnTo>
                  <a:lnTo>
                    <a:pt x="725" y="1200"/>
                  </a:lnTo>
                  <a:lnTo>
                    <a:pt x="786" y="1182"/>
                  </a:lnTo>
                  <a:lnTo>
                    <a:pt x="831" y="1134"/>
                  </a:lnTo>
                  <a:lnTo>
                    <a:pt x="879" y="979"/>
                  </a:lnTo>
                  <a:lnTo>
                    <a:pt x="861" y="830"/>
                  </a:lnTo>
                  <a:lnTo>
                    <a:pt x="795" y="745"/>
                  </a:lnTo>
                  <a:lnTo>
                    <a:pt x="684" y="718"/>
                  </a:lnTo>
                  <a:lnTo>
                    <a:pt x="556" y="718"/>
                  </a:lnTo>
                  <a:lnTo>
                    <a:pt x="516" y="493"/>
                  </a:lnTo>
                  <a:lnTo>
                    <a:pt x="314" y="418"/>
                  </a:lnTo>
                  <a:lnTo>
                    <a:pt x="314" y="485"/>
                  </a:lnTo>
                  <a:lnTo>
                    <a:pt x="220" y="321"/>
                  </a:lnTo>
                  <a:lnTo>
                    <a:pt x="167" y="66"/>
                  </a:lnTo>
                  <a:lnTo>
                    <a:pt x="88" y="39"/>
                  </a:lnTo>
                  <a:lnTo>
                    <a:pt x="44" y="119"/>
                  </a:lnTo>
                  <a:lnTo>
                    <a:pt x="44" y="291"/>
                  </a:lnTo>
                  <a:lnTo>
                    <a:pt x="83" y="485"/>
                  </a:lnTo>
                  <a:lnTo>
                    <a:pt x="194" y="639"/>
                  </a:lnTo>
                  <a:lnTo>
                    <a:pt x="70" y="542"/>
                  </a:lnTo>
                  <a:lnTo>
                    <a:pt x="13" y="374"/>
                  </a:lnTo>
                  <a:lnTo>
                    <a:pt x="0" y="163"/>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4" name=""/>
            <p:cNvSpPr/>
            <p:nvPr/>
          </p:nvSpPr>
          <p:spPr>
            <a:xfrm>
              <a:off x="6781680" y="1509840"/>
              <a:ext cx="219600" cy="433800"/>
            </a:xfrm>
            <a:custGeom>
              <a:avLst/>
              <a:gdLst/>
              <a:ahLst/>
              <a:rect l="0" t="0" r="r" b="b"/>
              <a:pathLst>
                <a:path w="610" h="1205">
                  <a:moveTo>
                    <a:pt x="610" y="0"/>
                  </a:moveTo>
                  <a:lnTo>
                    <a:pt x="482" y="79"/>
                  </a:lnTo>
                  <a:lnTo>
                    <a:pt x="336" y="371"/>
                  </a:lnTo>
                  <a:lnTo>
                    <a:pt x="190" y="565"/>
                  </a:lnTo>
                  <a:lnTo>
                    <a:pt x="13" y="794"/>
                  </a:lnTo>
                  <a:lnTo>
                    <a:pt x="0" y="905"/>
                  </a:lnTo>
                  <a:lnTo>
                    <a:pt x="35" y="1016"/>
                  </a:lnTo>
                  <a:lnTo>
                    <a:pt x="119" y="1016"/>
                  </a:lnTo>
                  <a:lnTo>
                    <a:pt x="234" y="905"/>
                  </a:lnTo>
                  <a:lnTo>
                    <a:pt x="322" y="693"/>
                  </a:lnTo>
                  <a:lnTo>
                    <a:pt x="446" y="565"/>
                  </a:lnTo>
                  <a:lnTo>
                    <a:pt x="446" y="737"/>
                  </a:lnTo>
                  <a:lnTo>
                    <a:pt x="428" y="896"/>
                  </a:lnTo>
                  <a:lnTo>
                    <a:pt x="296" y="1113"/>
                  </a:lnTo>
                  <a:lnTo>
                    <a:pt x="296" y="1179"/>
                  </a:lnTo>
                  <a:lnTo>
                    <a:pt x="428" y="1205"/>
                  </a:lnTo>
                  <a:lnTo>
                    <a:pt x="336" y="1148"/>
                  </a:lnTo>
                  <a:lnTo>
                    <a:pt x="349" y="1113"/>
                  </a:lnTo>
                  <a:lnTo>
                    <a:pt x="441" y="954"/>
                  </a:lnTo>
                  <a:lnTo>
                    <a:pt x="504" y="666"/>
                  </a:lnTo>
                  <a:lnTo>
                    <a:pt x="460" y="508"/>
                  </a:lnTo>
                  <a:lnTo>
                    <a:pt x="362" y="600"/>
                  </a:lnTo>
                  <a:lnTo>
                    <a:pt x="141" y="958"/>
                  </a:lnTo>
                  <a:lnTo>
                    <a:pt x="88" y="976"/>
                  </a:lnTo>
                  <a:lnTo>
                    <a:pt x="35" y="932"/>
                  </a:lnTo>
                  <a:lnTo>
                    <a:pt x="35" y="825"/>
                  </a:lnTo>
                  <a:lnTo>
                    <a:pt x="119" y="684"/>
                  </a:lnTo>
                  <a:lnTo>
                    <a:pt x="362"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6943680" y="1755720"/>
              <a:ext cx="136800" cy="208440"/>
            </a:xfrm>
            <a:custGeom>
              <a:avLst/>
              <a:gdLst/>
              <a:ahLst/>
              <a:rect l="0" t="0" r="r" b="b"/>
              <a:pathLst>
                <a:path w="380" h="579">
                  <a:moveTo>
                    <a:pt x="0" y="509"/>
                  </a:moveTo>
                  <a:lnTo>
                    <a:pt x="123" y="362"/>
                  </a:lnTo>
                  <a:lnTo>
                    <a:pt x="149" y="212"/>
                  </a:lnTo>
                  <a:lnTo>
                    <a:pt x="292" y="0"/>
                  </a:lnTo>
                  <a:lnTo>
                    <a:pt x="322" y="146"/>
                  </a:lnTo>
                  <a:lnTo>
                    <a:pt x="305" y="526"/>
                  </a:lnTo>
                  <a:lnTo>
                    <a:pt x="380" y="579"/>
                  </a:lnTo>
                  <a:lnTo>
                    <a:pt x="269" y="535"/>
                  </a:lnTo>
                  <a:lnTo>
                    <a:pt x="212" y="322"/>
                  </a:lnTo>
                  <a:lnTo>
                    <a:pt x="123" y="428"/>
                  </a:lnTo>
                  <a:lnTo>
                    <a:pt x="0" y="5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7110360" y="1763640"/>
              <a:ext cx="89280" cy="189360"/>
            </a:xfrm>
            <a:custGeom>
              <a:avLst/>
              <a:gdLst/>
              <a:ahLst/>
              <a:rect l="0" t="0" r="r" b="b"/>
              <a:pathLst>
                <a:path w="248" h="526">
                  <a:moveTo>
                    <a:pt x="0" y="393"/>
                  </a:moveTo>
                  <a:lnTo>
                    <a:pt x="13" y="199"/>
                  </a:lnTo>
                  <a:lnTo>
                    <a:pt x="61" y="83"/>
                  </a:lnTo>
                  <a:lnTo>
                    <a:pt x="120" y="500"/>
                  </a:lnTo>
                  <a:lnTo>
                    <a:pt x="196" y="500"/>
                  </a:lnTo>
                  <a:lnTo>
                    <a:pt x="231" y="57"/>
                  </a:lnTo>
                  <a:lnTo>
                    <a:pt x="248" y="0"/>
                  </a:lnTo>
                  <a:lnTo>
                    <a:pt x="231" y="340"/>
                  </a:lnTo>
                  <a:lnTo>
                    <a:pt x="196" y="526"/>
                  </a:lnTo>
                  <a:lnTo>
                    <a:pt x="98" y="526"/>
                  </a:lnTo>
                  <a:lnTo>
                    <a:pt x="57" y="164"/>
                  </a:lnTo>
                  <a:lnTo>
                    <a:pt x="30" y="217"/>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7" name=""/>
            <p:cNvSpPr/>
            <p:nvPr/>
          </p:nvSpPr>
          <p:spPr>
            <a:xfrm>
              <a:off x="8251920" y="1027080"/>
              <a:ext cx="217800" cy="501840"/>
            </a:xfrm>
            <a:custGeom>
              <a:avLst/>
              <a:gdLst/>
              <a:ahLst/>
              <a:rect l="0" t="0" r="r" b="b"/>
              <a:pathLst>
                <a:path w="605" h="1394">
                  <a:moveTo>
                    <a:pt x="158" y="759"/>
                  </a:moveTo>
                  <a:lnTo>
                    <a:pt x="202" y="537"/>
                  </a:lnTo>
                  <a:lnTo>
                    <a:pt x="411" y="480"/>
                  </a:lnTo>
                  <a:lnTo>
                    <a:pt x="605" y="0"/>
                  </a:lnTo>
                  <a:lnTo>
                    <a:pt x="605" y="141"/>
                  </a:lnTo>
                  <a:lnTo>
                    <a:pt x="437" y="511"/>
                  </a:lnTo>
                  <a:lnTo>
                    <a:pt x="224" y="577"/>
                  </a:lnTo>
                  <a:lnTo>
                    <a:pt x="194" y="759"/>
                  </a:lnTo>
                  <a:lnTo>
                    <a:pt x="268" y="759"/>
                  </a:lnTo>
                  <a:lnTo>
                    <a:pt x="79" y="834"/>
                  </a:lnTo>
                  <a:lnTo>
                    <a:pt x="35" y="979"/>
                  </a:lnTo>
                  <a:lnTo>
                    <a:pt x="44" y="1173"/>
                  </a:lnTo>
                  <a:lnTo>
                    <a:pt x="246" y="1394"/>
                  </a:lnTo>
                  <a:lnTo>
                    <a:pt x="35" y="1200"/>
                  </a:lnTo>
                  <a:lnTo>
                    <a:pt x="0" y="1037"/>
                  </a:lnTo>
                  <a:lnTo>
                    <a:pt x="13" y="878"/>
                  </a:lnTo>
                  <a:lnTo>
                    <a:pt x="92" y="763"/>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8399520" y="1027080"/>
              <a:ext cx="362160" cy="486000"/>
            </a:xfrm>
            <a:custGeom>
              <a:avLst/>
              <a:gdLst/>
              <a:ahLst/>
              <a:rect l="0" t="0" r="r" b="b"/>
              <a:pathLst>
                <a:path w="1006" h="1350">
                  <a:moveTo>
                    <a:pt x="277" y="0"/>
                  </a:moveTo>
                  <a:lnTo>
                    <a:pt x="339" y="39"/>
                  </a:lnTo>
                  <a:lnTo>
                    <a:pt x="357" y="154"/>
                  </a:lnTo>
                  <a:lnTo>
                    <a:pt x="357" y="264"/>
                  </a:lnTo>
                  <a:lnTo>
                    <a:pt x="242" y="458"/>
                  </a:lnTo>
                  <a:lnTo>
                    <a:pt x="264" y="604"/>
                  </a:lnTo>
                  <a:lnTo>
                    <a:pt x="605" y="759"/>
                  </a:lnTo>
                  <a:lnTo>
                    <a:pt x="997" y="1182"/>
                  </a:lnTo>
                  <a:lnTo>
                    <a:pt x="1006" y="1297"/>
                  </a:lnTo>
                  <a:lnTo>
                    <a:pt x="984" y="1350"/>
                  </a:lnTo>
                  <a:lnTo>
                    <a:pt x="838" y="1350"/>
                  </a:lnTo>
                  <a:lnTo>
                    <a:pt x="706" y="1271"/>
                  </a:lnTo>
                  <a:lnTo>
                    <a:pt x="596" y="1129"/>
                  </a:lnTo>
                  <a:lnTo>
                    <a:pt x="538" y="1046"/>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41"/>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9" name=""/>
            <p:cNvSpPr/>
            <p:nvPr/>
          </p:nvSpPr>
          <p:spPr>
            <a:xfrm>
              <a:off x="8332920" y="1409760"/>
              <a:ext cx="308160" cy="287640"/>
            </a:xfrm>
            <a:custGeom>
              <a:avLst/>
              <a:gdLst/>
              <a:ahLst/>
              <a:rect l="0" t="0" r="r" b="b"/>
              <a:pathLst>
                <a:path w="856" h="799">
                  <a:moveTo>
                    <a:pt x="644" y="0"/>
                  </a:moveTo>
                  <a:lnTo>
                    <a:pt x="622" y="66"/>
                  </a:lnTo>
                  <a:lnTo>
                    <a:pt x="746" y="335"/>
                  </a:lnTo>
                  <a:lnTo>
                    <a:pt x="812" y="605"/>
                  </a:lnTo>
                  <a:lnTo>
                    <a:pt x="737" y="605"/>
                  </a:lnTo>
                  <a:lnTo>
                    <a:pt x="609" y="486"/>
                  </a:lnTo>
                  <a:lnTo>
                    <a:pt x="494" y="233"/>
                  </a:lnTo>
                  <a:lnTo>
                    <a:pt x="401" y="194"/>
                  </a:lnTo>
                  <a:lnTo>
                    <a:pt x="418" y="335"/>
                  </a:lnTo>
                  <a:lnTo>
                    <a:pt x="499" y="428"/>
                  </a:lnTo>
                  <a:lnTo>
                    <a:pt x="499" y="622"/>
                  </a:lnTo>
                  <a:lnTo>
                    <a:pt x="441" y="763"/>
                  </a:lnTo>
                  <a:lnTo>
                    <a:pt x="361" y="706"/>
                  </a:lnTo>
                  <a:lnTo>
                    <a:pt x="264" y="486"/>
                  </a:lnTo>
                  <a:lnTo>
                    <a:pt x="238" y="335"/>
                  </a:lnTo>
                  <a:lnTo>
                    <a:pt x="185" y="286"/>
                  </a:lnTo>
                  <a:lnTo>
                    <a:pt x="167" y="680"/>
                  </a:lnTo>
                  <a:lnTo>
                    <a:pt x="88" y="728"/>
                  </a:lnTo>
                  <a:lnTo>
                    <a:pt x="22" y="680"/>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53"/>
                  </a:lnTo>
                  <a:lnTo>
                    <a:pt x="847" y="653"/>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7085160" y="1111320"/>
              <a:ext cx="1373400" cy="1173600"/>
            </a:xfrm>
            <a:custGeom>
              <a:avLst/>
              <a:gdLst/>
              <a:ahLst/>
              <a:rect l="0" t="0" r="r" b="b"/>
              <a:pathLst>
                <a:path w="3815" h="3260">
                  <a:moveTo>
                    <a:pt x="1371" y="277"/>
                  </a:moveTo>
                  <a:lnTo>
                    <a:pt x="1300" y="286"/>
                  </a:lnTo>
                  <a:lnTo>
                    <a:pt x="1195" y="449"/>
                  </a:lnTo>
                  <a:lnTo>
                    <a:pt x="1159" y="326"/>
                  </a:lnTo>
                  <a:lnTo>
                    <a:pt x="1036" y="260"/>
                  </a:lnTo>
                  <a:lnTo>
                    <a:pt x="943" y="313"/>
                  </a:lnTo>
                  <a:lnTo>
                    <a:pt x="908" y="524"/>
                  </a:lnTo>
                  <a:lnTo>
                    <a:pt x="564" y="784"/>
                  </a:lnTo>
                  <a:lnTo>
                    <a:pt x="586" y="896"/>
                  </a:lnTo>
                  <a:lnTo>
                    <a:pt x="502" y="993"/>
                  </a:lnTo>
                  <a:lnTo>
                    <a:pt x="502" y="1081"/>
                  </a:lnTo>
                  <a:lnTo>
                    <a:pt x="604" y="1323"/>
                  </a:lnTo>
                  <a:lnTo>
                    <a:pt x="608" y="1628"/>
                  </a:lnTo>
                  <a:lnTo>
                    <a:pt x="546" y="1910"/>
                  </a:lnTo>
                  <a:lnTo>
                    <a:pt x="299" y="2082"/>
                  </a:lnTo>
                  <a:lnTo>
                    <a:pt x="268" y="2316"/>
                  </a:lnTo>
                  <a:lnTo>
                    <a:pt x="194" y="2316"/>
                  </a:lnTo>
                  <a:lnTo>
                    <a:pt x="154" y="2122"/>
                  </a:lnTo>
                  <a:lnTo>
                    <a:pt x="79" y="2122"/>
                  </a:lnTo>
                  <a:lnTo>
                    <a:pt x="44" y="2324"/>
                  </a:lnTo>
                  <a:lnTo>
                    <a:pt x="0" y="2382"/>
                  </a:lnTo>
                  <a:lnTo>
                    <a:pt x="167" y="2661"/>
                  </a:lnTo>
                  <a:lnTo>
                    <a:pt x="291" y="2674"/>
                  </a:lnTo>
                  <a:lnTo>
                    <a:pt x="502" y="2885"/>
                  </a:lnTo>
                  <a:lnTo>
                    <a:pt x="701" y="2912"/>
                  </a:lnTo>
                  <a:lnTo>
                    <a:pt x="806" y="2797"/>
                  </a:lnTo>
                  <a:lnTo>
                    <a:pt x="1071" y="2395"/>
                  </a:lnTo>
                  <a:lnTo>
                    <a:pt x="1093" y="2938"/>
                  </a:lnTo>
                  <a:lnTo>
                    <a:pt x="1071" y="3260"/>
                  </a:lnTo>
                  <a:lnTo>
                    <a:pt x="3277" y="3260"/>
                  </a:lnTo>
                  <a:lnTo>
                    <a:pt x="3114" y="2912"/>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81"/>
                  </a:lnTo>
                  <a:lnTo>
                    <a:pt x="3092" y="935"/>
                  </a:lnTo>
                  <a:lnTo>
                    <a:pt x="3167" y="811"/>
                  </a:lnTo>
                  <a:lnTo>
                    <a:pt x="3259" y="709"/>
                  </a:lnTo>
                  <a:lnTo>
                    <a:pt x="3250" y="520"/>
                  </a:lnTo>
                  <a:lnTo>
                    <a:pt x="3250" y="383"/>
                  </a:lnTo>
                  <a:lnTo>
                    <a:pt x="3202" y="286"/>
                  </a:lnTo>
                  <a:lnTo>
                    <a:pt x="3074" y="246"/>
                  </a:lnTo>
                  <a:lnTo>
                    <a:pt x="3030" y="220"/>
                  </a:lnTo>
                  <a:lnTo>
                    <a:pt x="2937" y="57"/>
                  </a:lnTo>
                  <a:lnTo>
                    <a:pt x="2862" y="8"/>
                  </a:lnTo>
                  <a:lnTo>
                    <a:pt x="2783" y="0"/>
                  </a:lnTo>
                  <a:lnTo>
                    <a:pt x="2717" y="30"/>
                  </a:lnTo>
                  <a:lnTo>
                    <a:pt x="2660" y="114"/>
                  </a:lnTo>
                  <a:lnTo>
                    <a:pt x="2576" y="167"/>
                  </a:lnTo>
                  <a:lnTo>
                    <a:pt x="2483" y="180"/>
                  </a:lnTo>
                  <a:lnTo>
                    <a:pt x="2377" y="180"/>
                  </a:lnTo>
                  <a:lnTo>
                    <a:pt x="2395" y="343"/>
                  </a:lnTo>
                  <a:lnTo>
                    <a:pt x="2395" y="542"/>
                  </a:lnTo>
                  <a:lnTo>
                    <a:pt x="2377" y="679"/>
                  </a:lnTo>
                  <a:lnTo>
                    <a:pt x="2285" y="838"/>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27"/>
                  </a:lnTo>
                  <a:lnTo>
                    <a:pt x="1437" y="2537"/>
                  </a:lnTo>
                  <a:lnTo>
                    <a:pt x="1437" y="2245"/>
                  </a:lnTo>
                  <a:lnTo>
                    <a:pt x="1397" y="1958"/>
                  </a:lnTo>
                  <a:lnTo>
                    <a:pt x="1327" y="1707"/>
                  </a:lnTo>
                  <a:lnTo>
                    <a:pt x="1296" y="1500"/>
                  </a:lnTo>
                  <a:lnTo>
                    <a:pt x="1283" y="1213"/>
                  </a:lnTo>
                  <a:lnTo>
                    <a:pt x="1327" y="966"/>
                  </a:lnTo>
                  <a:lnTo>
                    <a:pt x="1397" y="762"/>
                  </a:lnTo>
                  <a:lnTo>
                    <a:pt x="1402" y="639"/>
                  </a:lnTo>
                  <a:lnTo>
                    <a:pt x="1371" y="467"/>
                  </a:lnTo>
                  <a:lnTo>
                    <a:pt x="1371" y="326"/>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1" name=""/>
            <p:cNvSpPr/>
            <p:nvPr/>
          </p:nvSpPr>
          <p:spPr>
            <a:xfrm>
              <a:off x="7620120" y="1346040"/>
              <a:ext cx="173520" cy="762480"/>
            </a:xfrm>
            <a:custGeom>
              <a:avLst/>
              <a:gdLst/>
              <a:ahLst/>
              <a:rect l="0" t="0" r="r" b="b"/>
              <a:pathLst>
                <a:path w="482" h="2118">
                  <a:moveTo>
                    <a:pt x="190" y="26"/>
                  </a:moveTo>
                  <a:lnTo>
                    <a:pt x="61" y="92"/>
                  </a:lnTo>
                  <a:lnTo>
                    <a:pt x="74" y="295"/>
                  </a:lnTo>
                  <a:lnTo>
                    <a:pt x="168" y="352"/>
                  </a:lnTo>
                  <a:lnTo>
                    <a:pt x="57" y="578"/>
                  </a:lnTo>
                  <a:lnTo>
                    <a:pt x="0" y="825"/>
                  </a:lnTo>
                  <a:lnTo>
                    <a:pt x="0" y="1059"/>
                  </a:lnTo>
                  <a:lnTo>
                    <a:pt x="57" y="1266"/>
                  </a:lnTo>
                  <a:lnTo>
                    <a:pt x="101" y="1526"/>
                  </a:lnTo>
                  <a:lnTo>
                    <a:pt x="101" y="1682"/>
                  </a:lnTo>
                  <a:lnTo>
                    <a:pt x="57" y="1862"/>
                  </a:lnTo>
                  <a:lnTo>
                    <a:pt x="247" y="2118"/>
                  </a:lnTo>
                  <a:lnTo>
                    <a:pt x="331" y="2074"/>
                  </a:lnTo>
                  <a:lnTo>
                    <a:pt x="385" y="1898"/>
                  </a:lnTo>
                  <a:lnTo>
                    <a:pt x="473" y="1664"/>
                  </a:lnTo>
                  <a:lnTo>
                    <a:pt x="482" y="1539"/>
                  </a:lnTo>
                  <a:lnTo>
                    <a:pt x="407" y="1310"/>
                  </a:lnTo>
                  <a:lnTo>
                    <a:pt x="318" y="1085"/>
                  </a:lnTo>
                  <a:lnTo>
                    <a:pt x="283" y="922"/>
                  </a:lnTo>
                  <a:lnTo>
                    <a:pt x="283" y="768"/>
                  </a:lnTo>
                  <a:lnTo>
                    <a:pt x="318" y="631"/>
                  </a:lnTo>
                  <a:lnTo>
                    <a:pt x="385" y="463"/>
                  </a:lnTo>
                  <a:lnTo>
                    <a:pt x="385" y="396"/>
                  </a:lnTo>
                  <a:lnTo>
                    <a:pt x="349" y="326"/>
                  </a:lnTo>
                  <a:lnTo>
                    <a:pt x="442" y="238"/>
                  </a:lnTo>
                  <a:lnTo>
                    <a:pt x="442" y="163"/>
                  </a:lnTo>
                  <a:lnTo>
                    <a:pt x="318" y="0"/>
                  </a:lnTo>
                  <a:lnTo>
                    <a:pt x="420" y="163"/>
                  </a:lnTo>
                  <a:lnTo>
                    <a:pt x="420" y="229"/>
                  </a:lnTo>
                  <a:lnTo>
                    <a:pt x="327" y="295"/>
                  </a:lnTo>
                  <a:lnTo>
                    <a:pt x="363" y="396"/>
                  </a:lnTo>
                  <a:lnTo>
                    <a:pt x="349" y="463"/>
                  </a:lnTo>
                  <a:lnTo>
                    <a:pt x="261" y="658"/>
                  </a:lnTo>
                  <a:lnTo>
                    <a:pt x="247" y="852"/>
                  </a:lnTo>
                  <a:lnTo>
                    <a:pt x="269" y="1028"/>
                  </a:lnTo>
                  <a:lnTo>
                    <a:pt x="331" y="1284"/>
                  </a:lnTo>
                  <a:lnTo>
                    <a:pt x="407" y="1487"/>
                  </a:lnTo>
                  <a:lnTo>
                    <a:pt x="407" y="1655"/>
                  </a:lnTo>
                  <a:lnTo>
                    <a:pt x="363" y="1862"/>
                  </a:lnTo>
                  <a:lnTo>
                    <a:pt x="269" y="2074"/>
                  </a:lnTo>
                  <a:lnTo>
                    <a:pt x="159" y="1955"/>
                  </a:lnTo>
                  <a:lnTo>
                    <a:pt x="114" y="1862"/>
                  </a:lnTo>
                  <a:lnTo>
                    <a:pt x="124" y="1655"/>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8113680" y="457200"/>
              <a:ext cx="275040" cy="370080"/>
            </a:xfrm>
            <a:custGeom>
              <a:avLst/>
              <a:gdLst/>
              <a:ahLst/>
              <a:rect l="0" t="0" r="r" b="b"/>
              <a:pathLst>
                <a:path w="764" h="1028">
                  <a:moveTo>
                    <a:pt x="127" y="260"/>
                  </a:moveTo>
                  <a:lnTo>
                    <a:pt x="239" y="238"/>
                  </a:lnTo>
                  <a:lnTo>
                    <a:pt x="349" y="251"/>
                  </a:lnTo>
                  <a:lnTo>
                    <a:pt x="437" y="291"/>
                  </a:lnTo>
                  <a:lnTo>
                    <a:pt x="490" y="348"/>
                  </a:lnTo>
                  <a:lnTo>
                    <a:pt x="512" y="401"/>
                  </a:lnTo>
                  <a:lnTo>
                    <a:pt x="512" y="454"/>
                  </a:lnTo>
                  <a:lnTo>
                    <a:pt x="486" y="485"/>
                  </a:lnTo>
                  <a:lnTo>
                    <a:pt x="437" y="511"/>
                  </a:lnTo>
                  <a:lnTo>
                    <a:pt x="380" y="516"/>
                  </a:lnTo>
                  <a:lnTo>
                    <a:pt x="309" y="498"/>
                  </a:lnTo>
                  <a:lnTo>
                    <a:pt x="243" y="458"/>
                  </a:lnTo>
                  <a:lnTo>
                    <a:pt x="195" y="418"/>
                  </a:lnTo>
                  <a:lnTo>
                    <a:pt x="171" y="547"/>
                  </a:lnTo>
                  <a:lnTo>
                    <a:pt x="127" y="640"/>
                  </a:lnTo>
                  <a:lnTo>
                    <a:pt x="0" y="860"/>
                  </a:lnTo>
                  <a:lnTo>
                    <a:pt x="185" y="1028"/>
                  </a:lnTo>
                  <a:lnTo>
                    <a:pt x="327" y="750"/>
                  </a:lnTo>
                  <a:lnTo>
                    <a:pt x="486" y="772"/>
                  </a:lnTo>
                  <a:lnTo>
                    <a:pt x="584" y="750"/>
                  </a:lnTo>
                  <a:lnTo>
                    <a:pt x="676" y="688"/>
                  </a:lnTo>
                  <a:lnTo>
                    <a:pt x="734" y="609"/>
                  </a:lnTo>
                  <a:lnTo>
                    <a:pt x="764" y="507"/>
                  </a:lnTo>
                  <a:lnTo>
                    <a:pt x="764" y="392"/>
                  </a:lnTo>
                  <a:lnTo>
                    <a:pt x="734" y="277"/>
                  </a:lnTo>
                  <a:lnTo>
                    <a:pt x="676" y="154"/>
                  </a:lnTo>
                  <a:lnTo>
                    <a:pt x="597" y="74"/>
                  </a:lnTo>
                  <a:lnTo>
                    <a:pt x="499" y="26"/>
                  </a:lnTo>
                  <a:lnTo>
                    <a:pt x="389" y="0"/>
                  </a:lnTo>
                  <a:lnTo>
                    <a:pt x="252" y="0"/>
                  </a:lnTo>
                  <a:lnTo>
                    <a:pt x="101"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8066160" y="81756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0"/>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2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5"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5" name=""/>
          <p:cNvSpPr/>
          <p:nvPr/>
        </p:nvSpPr>
        <p:spPr>
          <a:xfrm>
            <a:off x="23976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0" name=""/>
          <p:cNvSpPr/>
          <p:nvPr/>
        </p:nvSpPr>
        <p:spPr>
          <a:xfrm>
            <a:off x="16524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41520" y="437040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706320" y="486108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3" name=""/>
          <p:cNvSpPr/>
          <p:nvPr/>
        </p:nvSpPr>
        <p:spPr>
          <a:xfrm>
            <a:off x="879480" y="44449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806400" y="51577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5" name=""/>
          <p:cNvSpPr/>
          <p:nvPr/>
        </p:nvSpPr>
        <p:spPr>
          <a:xfrm>
            <a:off x="858960" y="51307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6" name=""/>
          <p:cNvSpPr/>
          <p:nvPr/>
        </p:nvSpPr>
        <p:spPr>
          <a:xfrm>
            <a:off x="969840" y="386388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987480" y="39654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8" name=""/>
          <p:cNvSpPr/>
          <p:nvPr/>
        </p:nvSpPr>
        <p:spPr>
          <a:xfrm>
            <a:off x="2440080" y="400860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9" name=""/>
          <p:cNvSpPr/>
          <p:nvPr/>
        </p:nvSpPr>
        <p:spPr>
          <a:xfrm>
            <a:off x="760320" y="19224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590840" y="220824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1141560" y="22366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2" name=""/>
          <p:cNvSpPr/>
          <p:nvPr/>
        </p:nvSpPr>
        <p:spPr>
          <a:xfrm>
            <a:off x="2141640" y="21510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3" name=""/>
          <p:cNvSpPr/>
          <p:nvPr/>
        </p:nvSpPr>
        <p:spPr>
          <a:xfrm>
            <a:off x="2855880" y="22716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3117960" y="213840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662200" y="22716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595600" y="22906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867" name=""/>
          <p:cNvSpPr/>
          <p:nvPr/>
        </p:nvSpPr>
        <p:spPr>
          <a:xfrm>
            <a:off x="2362320" y="220032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2495520" y="252900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817640" y="20001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1490760" y="20620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1847880" y="21430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 name=""/>
          <p:cNvSpPr/>
          <p:nvPr/>
        </p:nvSpPr>
        <p:spPr>
          <a:xfrm>
            <a:off x="2333520" y="292896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314440" y="304812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1262160" y="21970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90560" y="22874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1"/>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1541520" y="17794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438200" y="9032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1461960" y="14684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9" name=""/>
          <p:cNvSpPr/>
          <p:nvPr/>
        </p:nvSpPr>
        <p:spPr>
          <a:xfrm>
            <a:off x="2154240" y="148752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1606680" y="14493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881" name=""/>
          <p:cNvSpPr/>
          <p:nvPr/>
        </p:nvSpPr>
        <p:spPr>
          <a:xfrm>
            <a:off x="1925640" y="14698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2" name=""/>
          <p:cNvSpPr/>
          <p:nvPr/>
        </p:nvSpPr>
        <p:spPr>
          <a:xfrm>
            <a:off x="1738440" y="168912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3" name=""/>
          <p:cNvSpPr/>
          <p:nvPr/>
        </p:nvSpPr>
        <p:spPr>
          <a:xfrm>
            <a:off x="1660680" y="169236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4" name=""/>
          <p:cNvSpPr/>
          <p:nvPr/>
        </p:nvSpPr>
        <p:spPr>
          <a:xfrm>
            <a:off x="1951200" y="171144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5" name=""/>
          <p:cNvSpPr/>
          <p:nvPr/>
        </p:nvSpPr>
        <p:spPr>
          <a:xfrm>
            <a:off x="1700280" y="18414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86" name=""/>
          <p:cNvSpPr/>
          <p:nvPr/>
        </p:nvSpPr>
        <p:spPr>
          <a:xfrm>
            <a:off x="1724040" y="19224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87" name=""/>
          <p:cNvSpPr/>
          <p:nvPr/>
        </p:nvSpPr>
        <p:spPr>
          <a:xfrm>
            <a:off x="1535040" y="153036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2101680" y="15397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1906560" y="137484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90" name=""/>
          <p:cNvSpPr/>
          <p:nvPr/>
        </p:nvSpPr>
        <p:spPr>
          <a:xfrm>
            <a:off x="1595520" y="13730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91" name=""/>
          <p:cNvSpPr/>
          <p:nvPr/>
        </p:nvSpPr>
        <p:spPr>
          <a:xfrm>
            <a:off x="1649520" y="149868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92" name=""/>
          <p:cNvSpPr/>
          <p:nvPr/>
        </p:nvSpPr>
        <p:spPr>
          <a:xfrm>
            <a:off x="1635120" y="14778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3" name=""/>
          <p:cNvSpPr/>
          <p:nvPr/>
        </p:nvSpPr>
        <p:spPr>
          <a:xfrm>
            <a:off x="1709640" y="14842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4" name=""/>
          <p:cNvSpPr/>
          <p:nvPr/>
        </p:nvSpPr>
        <p:spPr>
          <a:xfrm>
            <a:off x="1944720" y="149400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5" name=""/>
          <p:cNvSpPr/>
          <p:nvPr/>
        </p:nvSpPr>
        <p:spPr>
          <a:xfrm>
            <a:off x="2028960" y="15001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6" name=""/>
          <p:cNvSpPr/>
          <p:nvPr/>
        </p:nvSpPr>
        <p:spPr>
          <a:xfrm>
            <a:off x="1673280" y="14889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7" name=""/>
          <p:cNvSpPr/>
          <p:nvPr/>
        </p:nvSpPr>
        <p:spPr>
          <a:xfrm>
            <a:off x="1979640" y="15066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8" name=""/>
          <p:cNvSpPr/>
          <p:nvPr/>
        </p:nvSpPr>
        <p:spPr>
          <a:xfrm>
            <a:off x="1560600" y="16700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9" name=""/>
          <p:cNvSpPr/>
          <p:nvPr/>
        </p:nvSpPr>
        <p:spPr>
          <a:xfrm>
            <a:off x="2008080" y="17208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1447920" y="838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1" name=""/>
          <p:cNvSpPr/>
          <p:nvPr/>
        </p:nvSpPr>
        <p:spPr>
          <a:xfrm>
            <a:off x="1549440" y="14079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2" name=""/>
          <p:cNvSpPr/>
          <p:nvPr/>
        </p:nvSpPr>
        <p:spPr>
          <a:xfrm>
            <a:off x="1889280" y="14302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3" name=""/>
          <p:cNvSpPr/>
          <p:nvPr/>
        </p:nvSpPr>
        <p:spPr>
          <a:xfrm>
            <a:off x="1811160" y="14889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904" name=""/>
          <p:cNvSpPr/>
          <p:nvPr/>
        </p:nvSpPr>
        <p:spPr>
          <a:xfrm>
            <a:off x="1862280" y="143028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05" name=""/>
          <p:cNvSpPr/>
          <p:nvPr/>
        </p:nvSpPr>
        <p:spPr>
          <a:xfrm>
            <a:off x="1460520" y="141300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06" name=""/>
          <p:cNvSpPr/>
          <p:nvPr/>
        </p:nvSpPr>
        <p:spPr>
          <a:xfrm flipV="1">
            <a:off x="2179800" y="134604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7" name=""/>
          <p:cNvSpPr/>
          <p:nvPr/>
        </p:nvSpPr>
        <p:spPr>
          <a:xfrm>
            <a:off x="2327400" y="276552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2417760" y="28875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9" name=""/>
          <p:cNvSpPr/>
          <p:nvPr/>
        </p:nvSpPr>
        <p:spPr>
          <a:xfrm>
            <a:off x="2508120" y="29034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0" name=""/>
          <p:cNvSpPr/>
          <p:nvPr/>
        </p:nvSpPr>
        <p:spPr>
          <a:xfrm>
            <a:off x="2608200" y="28796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1" name=""/>
          <p:cNvSpPr/>
          <p:nvPr/>
        </p:nvSpPr>
        <p:spPr>
          <a:xfrm>
            <a:off x="2668680" y="28065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2" name=""/>
          <p:cNvSpPr/>
          <p:nvPr/>
        </p:nvSpPr>
        <p:spPr>
          <a:xfrm>
            <a:off x="2498760" y="239724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3" name=""/>
          <p:cNvSpPr/>
          <p:nvPr/>
        </p:nvSpPr>
        <p:spPr>
          <a:xfrm>
            <a:off x="2732040" y="26161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914" name=""/>
          <p:cNvSpPr/>
          <p:nvPr/>
        </p:nvSpPr>
        <p:spPr>
          <a:xfrm>
            <a:off x="2378160" y="245592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915" name=""/>
          <p:cNvSpPr/>
          <p:nvPr/>
        </p:nvSpPr>
        <p:spPr>
          <a:xfrm>
            <a:off x="2590920" y="2590920"/>
            <a:ext cx="6248520" cy="3505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16" name=""/>
          <p:cNvSpPr/>
          <p:nvPr/>
        </p:nvSpPr>
        <p:spPr>
          <a:xfrm>
            <a:off x="2274840" y="235908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611440" y="255600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2487600" y="25304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2382840" y="253692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2649600" y="24462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21" name=""/>
          <p:cNvSpPr txBox="1"/>
          <p:nvPr/>
        </p:nvSpPr>
        <p:spPr>
          <a:xfrm>
            <a:off x="3089160" y="2798640"/>
            <a:ext cx="5410080" cy="28407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Identify the issues related to evaluating the quality of a company’s earning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corporate income statemen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how the relationships among income taxes expense, deferred income taxes, and net of taxes.</a:t>
            </a:r>
            <a:endParaRPr b="0" lang="en-US" sz="2400" spc="-1" strike="noStrike">
              <a:solidFill>
                <a:srgbClr val="ffffff"/>
              </a:solidFill>
              <a:latin typeface="Arial"/>
            </a:endParaRPr>
          </a:p>
        </p:txBody>
      </p:sp>
      <p:pic>
        <p:nvPicPr>
          <p:cNvPr id="922" name="" descr=""/>
          <p:cNvPicPr/>
          <p:nvPr/>
        </p:nvPicPr>
        <p:blipFill>
          <a:blip r:embed="rId2"/>
          <a:stretch/>
        </p:blipFill>
        <p:spPr>
          <a:xfrm>
            <a:off x="2666880" y="384120"/>
            <a:ext cx="5580000" cy="1596960"/>
          </a:xfrm>
          <a:prstGeom prst="rect">
            <a:avLst/>
          </a:prstGeom>
          <a:ln w="0">
            <a:noFill/>
          </a:ln>
        </p:spPr>
      </p:pic>
      <p:sp>
        <p:nvSpPr>
          <p:cNvPr id="923" name=""/>
          <p:cNvSpPr txBox="1"/>
          <p:nvPr/>
        </p:nvSpPr>
        <p:spPr>
          <a:xfrm>
            <a:off x="3227400" y="6253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5" name=""/>
          <p:cNvSpPr/>
          <p:nvPr/>
        </p:nvSpPr>
        <p:spPr>
          <a:xfrm>
            <a:off x="23976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0" name=""/>
          <p:cNvSpPr/>
          <p:nvPr/>
        </p:nvSpPr>
        <p:spPr>
          <a:xfrm>
            <a:off x="16524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1" name=""/>
          <p:cNvSpPr/>
          <p:nvPr/>
        </p:nvSpPr>
        <p:spPr>
          <a:xfrm>
            <a:off x="641520" y="47512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706320" y="524196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879480" y="482616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06400" y="553896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5" name=""/>
          <p:cNvSpPr/>
          <p:nvPr/>
        </p:nvSpPr>
        <p:spPr>
          <a:xfrm>
            <a:off x="858960" y="551196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6" name=""/>
          <p:cNvSpPr/>
          <p:nvPr/>
        </p:nvSpPr>
        <p:spPr>
          <a:xfrm>
            <a:off x="969840" y="424512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7" name=""/>
          <p:cNvSpPr/>
          <p:nvPr/>
        </p:nvSpPr>
        <p:spPr>
          <a:xfrm>
            <a:off x="987480" y="434664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8" name=""/>
          <p:cNvSpPr/>
          <p:nvPr/>
        </p:nvSpPr>
        <p:spPr>
          <a:xfrm>
            <a:off x="2440080" y="438948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9" name=""/>
          <p:cNvSpPr/>
          <p:nvPr/>
        </p:nvSpPr>
        <p:spPr>
          <a:xfrm>
            <a:off x="760320" y="230364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590840" y="25891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1141560" y="261792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2" name=""/>
          <p:cNvSpPr/>
          <p:nvPr/>
        </p:nvSpPr>
        <p:spPr>
          <a:xfrm>
            <a:off x="2141640" y="253224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3" name=""/>
          <p:cNvSpPr/>
          <p:nvPr/>
        </p:nvSpPr>
        <p:spPr>
          <a:xfrm>
            <a:off x="2855880" y="265284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3117960" y="25192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2662200" y="265284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2595600" y="267192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67" name=""/>
          <p:cNvSpPr/>
          <p:nvPr/>
        </p:nvSpPr>
        <p:spPr>
          <a:xfrm>
            <a:off x="2362320" y="25812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2495520" y="290988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817640" y="238140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490760" y="244332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1847880" y="25239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2333520" y="33098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314440" y="342900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1262160" y="25779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790560" y="266868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1541520" y="216072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438200" y="12841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461960" y="18493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p:nvPr/>
        </p:nvSpPr>
        <p:spPr>
          <a:xfrm>
            <a:off x="2154240" y="18684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0" name=""/>
          <p:cNvSpPr/>
          <p:nvPr/>
        </p:nvSpPr>
        <p:spPr>
          <a:xfrm>
            <a:off x="1606680" y="18302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981" name=""/>
          <p:cNvSpPr/>
          <p:nvPr/>
        </p:nvSpPr>
        <p:spPr>
          <a:xfrm>
            <a:off x="1925640" y="185112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1738440" y="20700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1660680" y="20732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4" name=""/>
          <p:cNvSpPr/>
          <p:nvPr/>
        </p:nvSpPr>
        <p:spPr>
          <a:xfrm>
            <a:off x="1951200" y="209232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1700280" y="222264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86" name=""/>
          <p:cNvSpPr/>
          <p:nvPr/>
        </p:nvSpPr>
        <p:spPr>
          <a:xfrm>
            <a:off x="1724040" y="230364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87" name=""/>
          <p:cNvSpPr/>
          <p:nvPr/>
        </p:nvSpPr>
        <p:spPr>
          <a:xfrm>
            <a:off x="1535040" y="19112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101680" y="192096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1906560" y="17557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90" name=""/>
          <p:cNvSpPr/>
          <p:nvPr/>
        </p:nvSpPr>
        <p:spPr>
          <a:xfrm>
            <a:off x="1595520" y="175428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91" name=""/>
          <p:cNvSpPr/>
          <p:nvPr/>
        </p:nvSpPr>
        <p:spPr>
          <a:xfrm>
            <a:off x="1649520" y="18795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992" name=""/>
          <p:cNvSpPr/>
          <p:nvPr/>
        </p:nvSpPr>
        <p:spPr>
          <a:xfrm>
            <a:off x="1635120" y="185904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3" name=""/>
          <p:cNvSpPr/>
          <p:nvPr/>
        </p:nvSpPr>
        <p:spPr>
          <a:xfrm>
            <a:off x="1709640" y="18651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4" name=""/>
          <p:cNvSpPr/>
          <p:nvPr/>
        </p:nvSpPr>
        <p:spPr>
          <a:xfrm>
            <a:off x="1944720" y="187488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5" name=""/>
          <p:cNvSpPr/>
          <p:nvPr/>
        </p:nvSpPr>
        <p:spPr>
          <a:xfrm>
            <a:off x="2028960" y="188136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6" name=""/>
          <p:cNvSpPr/>
          <p:nvPr/>
        </p:nvSpPr>
        <p:spPr>
          <a:xfrm>
            <a:off x="1673280" y="18702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7" name=""/>
          <p:cNvSpPr/>
          <p:nvPr/>
        </p:nvSpPr>
        <p:spPr>
          <a:xfrm>
            <a:off x="1979640" y="18874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8" name=""/>
          <p:cNvSpPr/>
          <p:nvPr/>
        </p:nvSpPr>
        <p:spPr>
          <a:xfrm>
            <a:off x="1560600" y="20509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2008080" y="21016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454040" y="125100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1" name=""/>
          <p:cNvSpPr/>
          <p:nvPr/>
        </p:nvSpPr>
        <p:spPr>
          <a:xfrm>
            <a:off x="1549440" y="178920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2" name=""/>
          <p:cNvSpPr/>
          <p:nvPr/>
        </p:nvSpPr>
        <p:spPr>
          <a:xfrm>
            <a:off x="1889280" y="18111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p:nvPr/>
        </p:nvSpPr>
        <p:spPr>
          <a:xfrm>
            <a:off x="1811160" y="187020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04" name=""/>
          <p:cNvSpPr/>
          <p:nvPr/>
        </p:nvSpPr>
        <p:spPr>
          <a:xfrm>
            <a:off x="1862280" y="181116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05" name=""/>
          <p:cNvSpPr/>
          <p:nvPr/>
        </p:nvSpPr>
        <p:spPr>
          <a:xfrm>
            <a:off x="1460520" y="179388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06" name=""/>
          <p:cNvSpPr/>
          <p:nvPr/>
        </p:nvSpPr>
        <p:spPr>
          <a:xfrm flipV="1">
            <a:off x="2179800" y="172728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7" name=""/>
          <p:cNvSpPr/>
          <p:nvPr/>
        </p:nvSpPr>
        <p:spPr>
          <a:xfrm>
            <a:off x="2327400" y="314640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 name=""/>
          <p:cNvSpPr/>
          <p:nvPr/>
        </p:nvSpPr>
        <p:spPr>
          <a:xfrm>
            <a:off x="2417760" y="326880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9" name=""/>
          <p:cNvSpPr/>
          <p:nvPr/>
        </p:nvSpPr>
        <p:spPr>
          <a:xfrm>
            <a:off x="2508120" y="328464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0" name=""/>
          <p:cNvSpPr/>
          <p:nvPr/>
        </p:nvSpPr>
        <p:spPr>
          <a:xfrm>
            <a:off x="2608200" y="326088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1" name=""/>
          <p:cNvSpPr/>
          <p:nvPr/>
        </p:nvSpPr>
        <p:spPr>
          <a:xfrm>
            <a:off x="2668680" y="318780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2" name=""/>
          <p:cNvSpPr/>
          <p:nvPr/>
        </p:nvSpPr>
        <p:spPr>
          <a:xfrm>
            <a:off x="2498760" y="277812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13" name=""/>
          <p:cNvSpPr/>
          <p:nvPr/>
        </p:nvSpPr>
        <p:spPr>
          <a:xfrm>
            <a:off x="2732040" y="299736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014" name=""/>
          <p:cNvSpPr/>
          <p:nvPr/>
        </p:nvSpPr>
        <p:spPr>
          <a:xfrm>
            <a:off x="2378160" y="28368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15" name=""/>
          <p:cNvSpPr/>
          <p:nvPr/>
        </p:nvSpPr>
        <p:spPr>
          <a:xfrm>
            <a:off x="2602080" y="2971800"/>
            <a:ext cx="6084720" cy="32767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16" name=""/>
          <p:cNvSpPr/>
          <p:nvPr/>
        </p:nvSpPr>
        <p:spPr>
          <a:xfrm>
            <a:off x="2274840" y="27399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2611440" y="293688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8" name=""/>
          <p:cNvSpPr/>
          <p:nvPr/>
        </p:nvSpPr>
        <p:spPr>
          <a:xfrm>
            <a:off x="2487600" y="29113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2382840" y="291780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2649600" y="282744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21" name=""/>
          <p:cNvSpPr txBox="1"/>
          <p:nvPr/>
        </p:nvSpPr>
        <p:spPr>
          <a:xfrm>
            <a:off x="2895480" y="3179880"/>
            <a:ext cx="5715000" cy="250092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scribe the disclosure on the income statement of discontinued operations, extraordinary items, and accounting chang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ute earnings per shar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statement of stockholders’ equity.</a:t>
            </a:r>
            <a:endParaRPr b="0" lang="en-US" sz="2400" spc="-1" strike="noStrike">
              <a:solidFill>
                <a:srgbClr val="ffffff"/>
              </a:solidFill>
              <a:latin typeface="Arial"/>
            </a:endParaRPr>
          </a:p>
        </p:txBody>
      </p:sp>
      <p:pic>
        <p:nvPicPr>
          <p:cNvPr id="1022" name="" descr=""/>
          <p:cNvPicPr/>
          <p:nvPr/>
        </p:nvPicPr>
        <p:blipFill>
          <a:blip r:embed="rId2"/>
          <a:stretch/>
        </p:blipFill>
        <p:spPr>
          <a:xfrm>
            <a:off x="2666880" y="380880"/>
            <a:ext cx="5130720" cy="1981080"/>
          </a:xfrm>
          <a:prstGeom prst="rect">
            <a:avLst/>
          </a:prstGeom>
          <a:ln w="0">
            <a:noFill/>
          </a:ln>
        </p:spPr>
      </p:pic>
      <p:sp>
        <p:nvSpPr>
          <p:cNvPr id="1023" name=""/>
          <p:cNvSpPr txBox="1"/>
          <p:nvPr/>
        </p:nvSpPr>
        <p:spPr>
          <a:xfrm>
            <a:off x="3368520" y="54936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4" name=""/>
          <p:cNvSpPr/>
          <p:nvPr/>
        </p:nvSpPr>
        <p:spPr>
          <a:xfrm>
            <a:off x="762120" y="5410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 name=""/>
          <p:cNvSpPr/>
          <p:nvPr/>
        </p:nvSpPr>
        <p:spPr>
          <a:xfrm>
            <a:off x="316080" y="5560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2"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3"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4"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5"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5194440" y="1827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3" name=""/>
          <p:cNvSpPr/>
          <p:nvPr/>
        </p:nvSpPr>
        <p:spPr>
          <a:xfrm>
            <a:off x="717480" y="444672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82640" y="493704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5" name=""/>
          <p:cNvSpPr/>
          <p:nvPr/>
        </p:nvSpPr>
        <p:spPr>
          <a:xfrm>
            <a:off x="955800" y="452124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882720" y="523404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47" name=""/>
          <p:cNvSpPr/>
          <p:nvPr/>
        </p:nvSpPr>
        <p:spPr>
          <a:xfrm>
            <a:off x="934920" y="520704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1046160" y="394020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9" name=""/>
          <p:cNvSpPr/>
          <p:nvPr/>
        </p:nvSpPr>
        <p:spPr>
          <a:xfrm>
            <a:off x="1063800" y="404172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2516040" y="408456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836640" y="199872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5"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1666800" y="228456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217520" y="231300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2217600" y="222732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2932200" y="234792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93920" y="221472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738520" y="234792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2671920" y="236700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59" name=""/>
          <p:cNvSpPr/>
          <p:nvPr/>
        </p:nvSpPr>
        <p:spPr>
          <a:xfrm>
            <a:off x="2438280" y="227664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2571840" y="260496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1893960" y="207648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1566720" y="213840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1924200" y="221940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2409840" y="300528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2390760" y="312408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1338120" y="227340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866880" y="236376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6" y="1503"/>
                </a:lnTo>
                <a:lnTo>
                  <a:pt x="728" y="2003"/>
                </a:lnTo>
                <a:lnTo>
                  <a:pt x="790" y="2188"/>
                </a:lnTo>
                <a:lnTo>
                  <a:pt x="856" y="2360"/>
                </a:lnTo>
                <a:lnTo>
                  <a:pt x="945" y="2708"/>
                </a:lnTo>
                <a:lnTo>
                  <a:pt x="985" y="3290"/>
                </a:lnTo>
                <a:lnTo>
                  <a:pt x="985" y="3775"/>
                </a:lnTo>
                <a:lnTo>
                  <a:pt x="856" y="3934"/>
                </a:lnTo>
                <a:lnTo>
                  <a:pt x="636"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617840" y="185580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1514520" y="97956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1538280" y="154476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1" name=""/>
          <p:cNvSpPr/>
          <p:nvPr/>
        </p:nvSpPr>
        <p:spPr>
          <a:xfrm>
            <a:off x="2230560" y="156384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1682640" y="152568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73" name=""/>
          <p:cNvSpPr/>
          <p:nvPr/>
        </p:nvSpPr>
        <p:spPr>
          <a:xfrm>
            <a:off x="2001960" y="154620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1814400" y="176544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1736640" y="176832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 name=""/>
          <p:cNvSpPr/>
          <p:nvPr/>
        </p:nvSpPr>
        <p:spPr>
          <a:xfrm>
            <a:off x="2027160" y="178740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1776240" y="191772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078" name=""/>
          <p:cNvSpPr/>
          <p:nvPr/>
        </p:nvSpPr>
        <p:spPr>
          <a:xfrm>
            <a:off x="1800360" y="199872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79" name=""/>
          <p:cNvSpPr/>
          <p:nvPr/>
        </p:nvSpPr>
        <p:spPr>
          <a:xfrm>
            <a:off x="1611360" y="160668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2178000" y="161604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1" name=""/>
          <p:cNvSpPr/>
          <p:nvPr/>
        </p:nvSpPr>
        <p:spPr>
          <a:xfrm>
            <a:off x="1982880" y="145080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82" name=""/>
          <p:cNvSpPr/>
          <p:nvPr/>
        </p:nvSpPr>
        <p:spPr>
          <a:xfrm>
            <a:off x="1671480" y="144936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83" name=""/>
          <p:cNvSpPr/>
          <p:nvPr/>
        </p:nvSpPr>
        <p:spPr>
          <a:xfrm>
            <a:off x="1725480" y="157464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84" name=""/>
          <p:cNvSpPr/>
          <p:nvPr/>
        </p:nvSpPr>
        <p:spPr>
          <a:xfrm>
            <a:off x="1711440" y="155412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5" name=""/>
          <p:cNvSpPr/>
          <p:nvPr/>
        </p:nvSpPr>
        <p:spPr>
          <a:xfrm>
            <a:off x="1785960" y="156060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6" name=""/>
          <p:cNvSpPr/>
          <p:nvPr/>
        </p:nvSpPr>
        <p:spPr>
          <a:xfrm>
            <a:off x="2021040" y="156996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7" name=""/>
          <p:cNvSpPr/>
          <p:nvPr/>
        </p:nvSpPr>
        <p:spPr>
          <a:xfrm>
            <a:off x="2104920" y="157644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8" name=""/>
          <p:cNvSpPr/>
          <p:nvPr/>
        </p:nvSpPr>
        <p:spPr>
          <a:xfrm>
            <a:off x="1749600" y="1565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9" name=""/>
          <p:cNvSpPr/>
          <p:nvPr/>
        </p:nvSpPr>
        <p:spPr>
          <a:xfrm>
            <a:off x="2055960" y="15825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90" name=""/>
          <p:cNvSpPr/>
          <p:nvPr/>
        </p:nvSpPr>
        <p:spPr>
          <a:xfrm>
            <a:off x="1636560" y="174636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1" name=""/>
          <p:cNvSpPr/>
          <p:nvPr/>
        </p:nvSpPr>
        <p:spPr>
          <a:xfrm>
            <a:off x="2084400" y="179712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2" name=""/>
          <p:cNvSpPr/>
          <p:nvPr/>
        </p:nvSpPr>
        <p:spPr>
          <a:xfrm>
            <a:off x="1530360" y="946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1625760" y="148428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4" name=""/>
          <p:cNvSpPr/>
          <p:nvPr/>
        </p:nvSpPr>
        <p:spPr>
          <a:xfrm>
            <a:off x="1965240" y="150660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p:nvPr/>
        </p:nvSpPr>
        <p:spPr>
          <a:xfrm>
            <a:off x="1887480" y="156528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96" name=""/>
          <p:cNvSpPr/>
          <p:nvPr/>
        </p:nvSpPr>
        <p:spPr>
          <a:xfrm>
            <a:off x="1938240" y="1506600"/>
            <a:ext cx="180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97" name=""/>
          <p:cNvSpPr/>
          <p:nvPr/>
        </p:nvSpPr>
        <p:spPr>
          <a:xfrm>
            <a:off x="1536840" y="148896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98" name=""/>
          <p:cNvSpPr/>
          <p:nvPr/>
        </p:nvSpPr>
        <p:spPr>
          <a:xfrm flipV="1">
            <a:off x="2255760" y="142236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2403360" y="284148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0" name=""/>
          <p:cNvSpPr/>
          <p:nvPr/>
        </p:nvSpPr>
        <p:spPr>
          <a:xfrm>
            <a:off x="2494080" y="296388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1" name=""/>
          <p:cNvSpPr/>
          <p:nvPr/>
        </p:nvSpPr>
        <p:spPr>
          <a:xfrm>
            <a:off x="2584440" y="297972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2" name=""/>
          <p:cNvSpPr/>
          <p:nvPr/>
        </p:nvSpPr>
        <p:spPr>
          <a:xfrm>
            <a:off x="2684520" y="295596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3" name=""/>
          <p:cNvSpPr/>
          <p:nvPr/>
        </p:nvSpPr>
        <p:spPr>
          <a:xfrm>
            <a:off x="2744640" y="288288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2575080" y="247320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05" name=""/>
          <p:cNvSpPr/>
          <p:nvPr/>
        </p:nvSpPr>
        <p:spPr>
          <a:xfrm>
            <a:off x="2808360" y="269244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06" name=""/>
          <p:cNvSpPr/>
          <p:nvPr/>
        </p:nvSpPr>
        <p:spPr>
          <a:xfrm>
            <a:off x="2454120" y="253224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107" name=""/>
          <p:cNvSpPr/>
          <p:nvPr/>
        </p:nvSpPr>
        <p:spPr>
          <a:xfrm>
            <a:off x="2678040" y="2666880"/>
            <a:ext cx="5907240" cy="25653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108" name=""/>
          <p:cNvSpPr/>
          <p:nvPr/>
        </p:nvSpPr>
        <p:spPr>
          <a:xfrm>
            <a:off x="2351160" y="243540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2687760" y="263196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3920" y="260676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2459160" y="261288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2" name=""/>
          <p:cNvSpPr/>
          <p:nvPr/>
        </p:nvSpPr>
        <p:spPr>
          <a:xfrm>
            <a:off x="2725560" y="252252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txBox="1"/>
          <p:nvPr/>
        </p:nvSpPr>
        <p:spPr>
          <a:xfrm>
            <a:off x="2971800" y="2971800"/>
            <a:ext cx="5334120" cy="175248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ount for stock dividends and stock splits.</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000000"/>
                </a:solidFill>
                <a:latin typeface="Arial"/>
                <a:ea typeface="Arial"/>
              </a:rPr>
              <a:t>8.</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alculate book value per</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share.</a:t>
            </a:r>
            <a:endParaRPr b="0" lang="en-US" sz="2400" spc="-1" strike="noStrike">
              <a:solidFill>
                <a:srgbClr val="ffffff"/>
              </a:solidFill>
              <a:latin typeface="Arial"/>
            </a:endParaRPr>
          </a:p>
        </p:txBody>
      </p:sp>
      <p:pic>
        <p:nvPicPr>
          <p:cNvPr id="1114" name="" descr=""/>
          <p:cNvPicPr/>
          <p:nvPr/>
        </p:nvPicPr>
        <p:blipFill>
          <a:blip r:embed="rId2"/>
          <a:stretch/>
        </p:blipFill>
        <p:spPr>
          <a:xfrm>
            <a:off x="2819520" y="460440"/>
            <a:ext cx="5580000" cy="1596960"/>
          </a:xfrm>
          <a:prstGeom prst="rect">
            <a:avLst/>
          </a:prstGeom>
          <a:ln w="0">
            <a:noFill/>
          </a:ln>
        </p:spPr>
      </p:pic>
      <p:sp>
        <p:nvSpPr>
          <p:cNvPr id="1115" name=""/>
          <p:cNvSpPr txBox="1"/>
          <p:nvPr/>
        </p:nvSpPr>
        <p:spPr>
          <a:xfrm>
            <a:off x="3836880" y="70164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
          <p:cNvSpPr txBox="1"/>
          <p:nvPr/>
        </p:nvSpPr>
        <p:spPr>
          <a:xfrm>
            <a:off x="1219320" y="228600"/>
            <a:ext cx="734076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2" name=""/>
          <p:cNvSpPr txBox="1"/>
          <p:nvPr/>
        </p:nvSpPr>
        <p:spPr>
          <a:xfrm>
            <a:off x="990720" y="1600200"/>
            <a:ext cx="792468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ue to the considerable latitude in the choice of estimates, management and other financial statement users must be aware of the impact of accounting estimates on reported operating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relative importance of each estimate depends on the industry in which the firm ope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371600" y="609480"/>
            <a:ext cx="71629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4" name=""/>
          <p:cNvSpPr txBox="1"/>
          <p:nvPr/>
        </p:nvSpPr>
        <p:spPr>
          <a:xfrm>
            <a:off x="1066680" y="2209680"/>
            <a:ext cx="7696080" cy="2971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accounting method or estimate that results in lower current earnings produces a better quality of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