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0592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7-</a:t>
            </a:r>
            <a:fld id="{8FA3093A-3A78-433D-8D8D-F5E4BB1CA42A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80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7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22840" cy="29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304920"/>
            <a:ext cx="6912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52388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cash receipts and cash payments during an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operating, investing, and financing activities during the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 financial statements may also provide some of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5960" y="228600"/>
            <a:ext cx="686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4479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 uses the statement of cash flow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es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if short-term financing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dividend poli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cide whether to raise or 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the effects of decisio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olving investments a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for investing and financing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3400" y="304920"/>
            <a:ext cx="8109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76240" y="152388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ors and creditors use the statement of cash flows to assess a company’s ability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enerate positive futur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its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dividends and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 its need for additio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7400" y="609480"/>
            <a:ext cx="4770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purposes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is to provide inform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bout a company’s cash receipt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during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. A secondary purpose i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vide information about a company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perating, investing,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 during 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34320" y="228600"/>
            <a:ext cx="1751400" cy="1599120"/>
            <a:chOff x="6934320" y="228600"/>
            <a:chExt cx="1751400" cy="1599120"/>
          </a:xfrm>
        </p:grpSpPr>
        <p:sp>
          <p:nvSpPr>
            <p:cNvPr id="106" name=""/>
            <p:cNvSpPr/>
            <p:nvPr/>
          </p:nvSpPr>
          <p:spPr>
            <a:xfrm>
              <a:off x="6939000" y="1014480"/>
              <a:ext cx="425880" cy="557640"/>
            </a:xfrm>
            <a:custGeom>
              <a:avLst/>
              <a:gdLst/>
              <a:ahLst/>
              <a:rect l="0" t="0" r="r" b="b"/>
              <a:pathLst>
                <a:path w="1183" h="1549">
                  <a:moveTo>
                    <a:pt x="472" y="0"/>
                  </a:moveTo>
                  <a:lnTo>
                    <a:pt x="411" y="70"/>
                  </a:lnTo>
                  <a:lnTo>
                    <a:pt x="411" y="268"/>
                  </a:lnTo>
                  <a:lnTo>
                    <a:pt x="472" y="415"/>
                  </a:lnTo>
                  <a:lnTo>
                    <a:pt x="543" y="490"/>
                  </a:lnTo>
                  <a:lnTo>
                    <a:pt x="437" y="587"/>
                  </a:lnTo>
                  <a:lnTo>
                    <a:pt x="295" y="812"/>
                  </a:lnTo>
                  <a:lnTo>
                    <a:pt x="22" y="1170"/>
                  </a:lnTo>
                  <a:lnTo>
                    <a:pt x="0" y="1254"/>
                  </a:lnTo>
                  <a:lnTo>
                    <a:pt x="22" y="1329"/>
                  </a:lnTo>
                  <a:lnTo>
                    <a:pt x="110" y="1329"/>
                  </a:lnTo>
                  <a:lnTo>
                    <a:pt x="180" y="1249"/>
                  </a:lnTo>
                  <a:lnTo>
                    <a:pt x="295" y="1041"/>
                  </a:lnTo>
                  <a:lnTo>
                    <a:pt x="367" y="957"/>
                  </a:lnTo>
                  <a:lnTo>
                    <a:pt x="411" y="1090"/>
                  </a:lnTo>
                  <a:lnTo>
                    <a:pt x="380" y="1232"/>
                  </a:lnTo>
                  <a:lnTo>
                    <a:pt x="264" y="1439"/>
                  </a:lnTo>
                  <a:lnTo>
                    <a:pt x="295" y="1483"/>
                  </a:lnTo>
                  <a:lnTo>
                    <a:pt x="367" y="1470"/>
                  </a:lnTo>
                  <a:lnTo>
                    <a:pt x="512" y="1364"/>
                  </a:lnTo>
                  <a:lnTo>
                    <a:pt x="631" y="1188"/>
                  </a:lnTo>
                  <a:lnTo>
                    <a:pt x="631" y="1501"/>
                  </a:lnTo>
                  <a:lnTo>
                    <a:pt x="772" y="1549"/>
                  </a:lnTo>
                  <a:lnTo>
                    <a:pt x="852" y="1355"/>
                  </a:lnTo>
                  <a:lnTo>
                    <a:pt x="928" y="1536"/>
                  </a:lnTo>
                  <a:lnTo>
                    <a:pt x="985" y="1483"/>
                  </a:lnTo>
                  <a:lnTo>
                    <a:pt x="1011" y="1125"/>
                  </a:lnTo>
                  <a:lnTo>
                    <a:pt x="1183" y="790"/>
                  </a:lnTo>
                  <a:lnTo>
                    <a:pt x="1144" y="587"/>
                  </a:lnTo>
                  <a:lnTo>
                    <a:pt x="1025" y="516"/>
                  </a:lnTo>
                  <a:lnTo>
                    <a:pt x="897" y="525"/>
                  </a:lnTo>
                  <a:lnTo>
                    <a:pt x="852" y="366"/>
                  </a:lnTo>
                  <a:lnTo>
                    <a:pt x="724" y="330"/>
                  </a:lnTo>
                  <a:lnTo>
                    <a:pt x="609" y="282"/>
                  </a:lnTo>
                  <a:lnTo>
                    <a:pt x="543" y="3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96120" y="1239840"/>
              <a:ext cx="125640" cy="270360"/>
            </a:xfrm>
            <a:custGeom>
              <a:avLst/>
              <a:gdLst/>
              <a:ahLst/>
              <a:rect l="0" t="0" r="r" b="b"/>
              <a:pathLst>
                <a:path w="349" h="751">
                  <a:moveTo>
                    <a:pt x="177" y="0"/>
                  </a:moveTo>
                  <a:lnTo>
                    <a:pt x="349" y="199"/>
                  </a:lnTo>
                  <a:lnTo>
                    <a:pt x="265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5" y="318"/>
                  </a:lnTo>
                  <a:lnTo>
                    <a:pt x="177" y="15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10440" y="1084320"/>
              <a:ext cx="313200" cy="244800"/>
            </a:xfrm>
            <a:custGeom>
              <a:avLst/>
              <a:gdLst/>
              <a:ahLst/>
              <a:rect l="0" t="0" r="r" b="b"/>
              <a:pathLst>
                <a:path w="870" h="680">
                  <a:moveTo>
                    <a:pt x="358" y="0"/>
                  </a:moveTo>
                  <a:lnTo>
                    <a:pt x="358" y="110"/>
                  </a:lnTo>
                  <a:lnTo>
                    <a:pt x="389" y="202"/>
                  </a:lnTo>
                  <a:lnTo>
                    <a:pt x="556" y="371"/>
                  </a:lnTo>
                  <a:lnTo>
                    <a:pt x="870" y="459"/>
                  </a:lnTo>
                  <a:lnTo>
                    <a:pt x="826" y="666"/>
                  </a:lnTo>
                  <a:lnTo>
                    <a:pt x="556" y="680"/>
                  </a:lnTo>
                  <a:lnTo>
                    <a:pt x="167" y="534"/>
                  </a:lnTo>
                  <a:lnTo>
                    <a:pt x="0" y="268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36080" y="808200"/>
              <a:ext cx="438480" cy="538560"/>
            </a:xfrm>
            <a:custGeom>
              <a:avLst/>
              <a:gdLst/>
              <a:ahLst/>
              <a:rect l="0" t="0" r="r" b="b"/>
              <a:pathLst>
                <a:path w="1218" h="1496">
                  <a:moveTo>
                    <a:pt x="110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94" y="1099"/>
                  </a:lnTo>
                  <a:lnTo>
                    <a:pt x="207" y="1470"/>
                  </a:lnTo>
                  <a:lnTo>
                    <a:pt x="379" y="1470"/>
                  </a:lnTo>
                  <a:lnTo>
                    <a:pt x="366" y="1157"/>
                  </a:lnTo>
                  <a:lnTo>
                    <a:pt x="493" y="1483"/>
                  </a:lnTo>
                  <a:lnTo>
                    <a:pt x="577" y="1496"/>
                  </a:lnTo>
                  <a:lnTo>
                    <a:pt x="640" y="1386"/>
                  </a:lnTo>
                  <a:lnTo>
                    <a:pt x="653" y="1183"/>
                  </a:lnTo>
                  <a:lnTo>
                    <a:pt x="838" y="1373"/>
                  </a:lnTo>
                  <a:lnTo>
                    <a:pt x="913" y="1364"/>
                  </a:lnTo>
                  <a:lnTo>
                    <a:pt x="896" y="1227"/>
                  </a:lnTo>
                  <a:lnTo>
                    <a:pt x="825" y="1037"/>
                  </a:lnTo>
                  <a:lnTo>
                    <a:pt x="755" y="913"/>
                  </a:lnTo>
                  <a:lnTo>
                    <a:pt x="781" y="825"/>
                  </a:lnTo>
                  <a:lnTo>
                    <a:pt x="825" y="843"/>
                  </a:lnTo>
                  <a:lnTo>
                    <a:pt x="997" y="1037"/>
                  </a:lnTo>
                  <a:lnTo>
                    <a:pt x="1178" y="1085"/>
                  </a:lnTo>
                  <a:lnTo>
                    <a:pt x="1218" y="1024"/>
                  </a:lnTo>
                  <a:lnTo>
                    <a:pt x="1191" y="922"/>
                  </a:lnTo>
                  <a:lnTo>
                    <a:pt x="852" y="622"/>
                  </a:lnTo>
                  <a:lnTo>
                    <a:pt x="577" y="530"/>
                  </a:lnTo>
                  <a:lnTo>
                    <a:pt x="546" y="361"/>
                  </a:lnTo>
                  <a:lnTo>
                    <a:pt x="640" y="207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06"/>
                  </a:lnTo>
                  <a:lnTo>
                    <a:pt x="194" y="468"/>
                  </a:lnTo>
                  <a:lnTo>
                    <a:pt x="149" y="578"/>
                  </a:lnTo>
                  <a:lnTo>
                    <a:pt x="110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16800" y="341280"/>
              <a:ext cx="478080" cy="687600"/>
            </a:xfrm>
            <a:custGeom>
              <a:avLst/>
              <a:gdLst/>
              <a:ahLst/>
              <a:rect l="0" t="0" r="r" b="b"/>
              <a:pathLst>
                <a:path w="1328" h="1910">
                  <a:moveTo>
                    <a:pt x="330" y="264"/>
                  </a:moveTo>
                  <a:lnTo>
                    <a:pt x="233" y="630"/>
                  </a:lnTo>
                  <a:lnTo>
                    <a:pt x="13" y="705"/>
                  </a:lnTo>
                  <a:lnTo>
                    <a:pt x="74" y="815"/>
                  </a:lnTo>
                  <a:lnTo>
                    <a:pt x="0" y="890"/>
                  </a:lnTo>
                  <a:lnTo>
                    <a:pt x="0" y="1028"/>
                  </a:lnTo>
                  <a:lnTo>
                    <a:pt x="105" y="1147"/>
                  </a:lnTo>
                  <a:lnTo>
                    <a:pt x="207" y="1147"/>
                  </a:lnTo>
                  <a:lnTo>
                    <a:pt x="277" y="1570"/>
                  </a:lnTo>
                  <a:lnTo>
                    <a:pt x="361" y="1756"/>
                  </a:lnTo>
                  <a:lnTo>
                    <a:pt x="630" y="1910"/>
                  </a:lnTo>
                  <a:lnTo>
                    <a:pt x="904" y="1888"/>
                  </a:lnTo>
                  <a:lnTo>
                    <a:pt x="1032" y="1570"/>
                  </a:lnTo>
                  <a:lnTo>
                    <a:pt x="1063" y="1090"/>
                  </a:lnTo>
                  <a:lnTo>
                    <a:pt x="1328" y="846"/>
                  </a:lnTo>
                  <a:lnTo>
                    <a:pt x="1315" y="754"/>
                  </a:lnTo>
                  <a:lnTo>
                    <a:pt x="1284" y="705"/>
                  </a:lnTo>
                  <a:lnTo>
                    <a:pt x="1147" y="692"/>
                  </a:lnTo>
                  <a:lnTo>
                    <a:pt x="1191" y="568"/>
                  </a:lnTo>
                  <a:lnTo>
                    <a:pt x="1050" y="480"/>
                  </a:lnTo>
                  <a:lnTo>
                    <a:pt x="988" y="207"/>
                  </a:lnTo>
                  <a:lnTo>
                    <a:pt x="577" y="0"/>
                  </a:lnTo>
                  <a:lnTo>
                    <a:pt x="361" y="198"/>
                  </a:lnTo>
                  <a:lnTo>
                    <a:pt x="330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1720" y="915840"/>
              <a:ext cx="438480" cy="821160"/>
            </a:xfrm>
            <a:custGeom>
              <a:avLst/>
              <a:gdLst/>
              <a:ahLst/>
              <a:rect l="0" t="0" r="r" b="b"/>
              <a:pathLst>
                <a:path w="1218" h="2281">
                  <a:moveTo>
                    <a:pt x="251" y="119"/>
                  </a:moveTo>
                  <a:lnTo>
                    <a:pt x="423" y="229"/>
                  </a:lnTo>
                  <a:lnTo>
                    <a:pt x="507" y="352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32"/>
                  </a:lnTo>
                  <a:lnTo>
                    <a:pt x="865" y="1482"/>
                  </a:lnTo>
                  <a:lnTo>
                    <a:pt x="979" y="2061"/>
                  </a:lnTo>
                  <a:lnTo>
                    <a:pt x="520" y="2281"/>
                  </a:lnTo>
                  <a:lnTo>
                    <a:pt x="163" y="2158"/>
                  </a:lnTo>
                  <a:lnTo>
                    <a:pt x="163" y="1544"/>
                  </a:lnTo>
                  <a:lnTo>
                    <a:pt x="0" y="949"/>
                  </a:lnTo>
                  <a:lnTo>
                    <a:pt x="163" y="229"/>
                  </a:lnTo>
                  <a:lnTo>
                    <a:pt x="251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0" y="250920"/>
              <a:ext cx="410040" cy="217800"/>
            </a:xfrm>
            <a:custGeom>
              <a:avLst/>
              <a:gdLst/>
              <a:ahLst/>
              <a:rect l="0" t="0" r="r" b="b"/>
              <a:pathLst>
                <a:path w="1139" h="605">
                  <a:moveTo>
                    <a:pt x="141" y="578"/>
                  </a:moveTo>
                  <a:lnTo>
                    <a:pt x="309" y="415"/>
                  </a:lnTo>
                  <a:lnTo>
                    <a:pt x="415" y="393"/>
                  </a:lnTo>
                  <a:lnTo>
                    <a:pt x="415" y="406"/>
                  </a:lnTo>
                  <a:lnTo>
                    <a:pt x="468" y="393"/>
                  </a:lnTo>
                  <a:lnTo>
                    <a:pt x="538" y="441"/>
                  </a:lnTo>
                  <a:lnTo>
                    <a:pt x="671" y="468"/>
                  </a:lnTo>
                  <a:lnTo>
                    <a:pt x="781" y="605"/>
                  </a:lnTo>
                  <a:lnTo>
                    <a:pt x="958" y="543"/>
                  </a:lnTo>
                  <a:lnTo>
                    <a:pt x="958" y="477"/>
                  </a:lnTo>
                  <a:lnTo>
                    <a:pt x="1139" y="406"/>
                  </a:lnTo>
                  <a:lnTo>
                    <a:pt x="1086" y="295"/>
                  </a:lnTo>
                  <a:lnTo>
                    <a:pt x="919" y="282"/>
                  </a:lnTo>
                  <a:lnTo>
                    <a:pt x="945" y="158"/>
                  </a:lnTo>
                  <a:lnTo>
                    <a:pt x="799" y="171"/>
                  </a:lnTo>
                  <a:lnTo>
                    <a:pt x="772" y="83"/>
                  </a:lnTo>
                  <a:lnTo>
                    <a:pt x="671" y="83"/>
                  </a:lnTo>
                  <a:lnTo>
                    <a:pt x="600" y="136"/>
                  </a:lnTo>
                  <a:lnTo>
                    <a:pt x="538" y="136"/>
                  </a:lnTo>
                  <a:lnTo>
                    <a:pt x="552" y="0"/>
                  </a:lnTo>
                  <a:lnTo>
                    <a:pt x="415" y="61"/>
                  </a:lnTo>
                  <a:lnTo>
                    <a:pt x="224" y="282"/>
                  </a:lnTo>
                  <a:lnTo>
                    <a:pt x="211" y="136"/>
                  </a:lnTo>
                  <a:lnTo>
                    <a:pt x="114" y="207"/>
                  </a:lnTo>
                  <a:lnTo>
                    <a:pt x="88" y="393"/>
                  </a:lnTo>
                  <a:lnTo>
                    <a:pt x="0" y="362"/>
                  </a:lnTo>
                  <a:lnTo>
                    <a:pt x="13" y="477"/>
                  </a:lnTo>
                  <a:lnTo>
                    <a:pt x="141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2040" y="1066680"/>
              <a:ext cx="130680" cy="621000"/>
            </a:xfrm>
            <a:custGeom>
              <a:avLst/>
              <a:gdLst/>
              <a:ahLst/>
              <a:rect l="0" t="0" r="r" b="b"/>
              <a:pathLst>
                <a:path w="363" h="1725">
                  <a:moveTo>
                    <a:pt x="186" y="13"/>
                  </a:moveTo>
                  <a:lnTo>
                    <a:pt x="61" y="83"/>
                  </a:lnTo>
                  <a:lnTo>
                    <a:pt x="61" y="229"/>
                  </a:lnTo>
                  <a:lnTo>
                    <a:pt x="150" y="277"/>
                  </a:lnTo>
                  <a:lnTo>
                    <a:pt x="35" y="507"/>
                  </a:lnTo>
                  <a:lnTo>
                    <a:pt x="0" y="806"/>
                  </a:lnTo>
                  <a:lnTo>
                    <a:pt x="88" y="1204"/>
                  </a:lnTo>
                  <a:lnTo>
                    <a:pt x="88" y="1376"/>
                  </a:lnTo>
                  <a:lnTo>
                    <a:pt x="44" y="1504"/>
                  </a:lnTo>
                  <a:lnTo>
                    <a:pt x="230" y="1725"/>
                  </a:lnTo>
                  <a:lnTo>
                    <a:pt x="350" y="1390"/>
                  </a:lnTo>
                  <a:lnTo>
                    <a:pt x="350" y="1160"/>
                  </a:lnTo>
                  <a:lnTo>
                    <a:pt x="261" y="944"/>
                  </a:lnTo>
                  <a:lnTo>
                    <a:pt x="217" y="648"/>
                  </a:lnTo>
                  <a:lnTo>
                    <a:pt x="306" y="366"/>
                  </a:lnTo>
                  <a:lnTo>
                    <a:pt x="279" y="251"/>
                  </a:lnTo>
                  <a:lnTo>
                    <a:pt x="363" y="194"/>
                  </a:lnTo>
                  <a:lnTo>
                    <a:pt x="350" y="119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77000" y="85896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49"/>
                  </a:moveTo>
                  <a:lnTo>
                    <a:pt x="114" y="160"/>
                  </a:lnTo>
                  <a:lnTo>
                    <a:pt x="234" y="147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61440" y="573120"/>
              <a:ext cx="130680" cy="120960"/>
            </a:xfrm>
            <a:custGeom>
              <a:avLst/>
              <a:gdLst/>
              <a:ahLst/>
              <a:rect l="0" t="0" r="r" b="b"/>
              <a:pathLst>
                <a:path w="363" h="336">
                  <a:moveTo>
                    <a:pt x="0" y="35"/>
                  </a:moveTo>
                  <a:lnTo>
                    <a:pt x="252" y="336"/>
                  </a:lnTo>
                  <a:lnTo>
                    <a:pt x="363" y="314"/>
                  </a:lnTo>
                  <a:lnTo>
                    <a:pt x="10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546120"/>
              <a:ext cx="113040" cy="120960"/>
            </a:xfrm>
            <a:custGeom>
              <a:avLst/>
              <a:gdLst/>
              <a:ahLst/>
              <a:rect l="0" t="0" r="r" b="b"/>
              <a:pathLst>
                <a:path w="314" h="336">
                  <a:moveTo>
                    <a:pt x="0" y="48"/>
                  </a:moveTo>
                  <a:lnTo>
                    <a:pt x="217" y="336"/>
                  </a:lnTo>
                  <a:lnTo>
                    <a:pt x="314" y="261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390600"/>
              <a:ext cx="456120" cy="303480"/>
            </a:xfrm>
            <a:custGeom>
              <a:avLst/>
              <a:gdLst/>
              <a:ahLst/>
              <a:rect l="0" t="0" r="r" b="b"/>
              <a:pathLst>
                <a:path w="1267" h="843">
                  <a:moveTo>
                    <a:pt x="583" y="499"/>
                  </a:moveTo>
                  <a:lnTo>
                    <a:pt x="468" y="472"/>
                  </a:lnTo>
                  <a:lnTo>
                    <a:pt x="565" y="392"/>
                  </a:lnTo>
                  <a:lnTo>
                    <a:pt x="530" y="352"/>
                  </a:lnTo>
                  <a:lnTo>
                    <a:pt x="397" y="455"/>
                  </a:lnTo>
                  <a:lnTo>
                    <a:pt x="158" y="477"/>
                  </a:lnTo>
                  <a:lnTo>
                    <a:pt x="0" y="481"/>
                  </a:lnTo>
                  <a:lnTo>
                    <a:pt x="0" y="600"/>
                  </a:lnTo>
                  <a:lnTo>
                    <a:pt x="154" y="834"/>
                  </a:lnTo>
                  <a:lnTo>
                    <a:pt x="189" y="843"/>
                  </a:lnTo>
                  <a:lnTo>
                    <a:pt x="52" y="583"/>
                  </a:lnTo>
                  <a:lnTo>
                    <a:pt x="264" y="499"/>
                  </a:lnTo>
                  <a:lnTo>
                    <a:pt x="397" y="499"/>
                  </a:lnTo>
                  <a:lnTo>
                    <a:pt x="503" y="552"/>
                  </a:lnTo>
                  <a:lnTo>
                    <a:pt x="530" y="627"/>
                  </a:lnTo>
                  <a:lnTo>
                    <a:pt x="530" y="785"/>
                  </a:lnTo>
                  <a:lnTo>
                    <a:pt x="530" y="834"/>
                  </a:lnTo>
                  <a:lnTo>
                    <a:pt x="587" y="763"/>
                  </a:lnTo>
                  <a:lnTo>
                    <a:pt x="587" y="591"/>
                  </a:lnTo>
                  <a:lnTo>
                    <a:pt x="680" y="591"/>
                  </a:lnTo>
                  <a:lnTo>
                    <a:pt x="724" y="785"/>
                  </a:lnTo>
                  <a:lnTo>
                    <a:pt x="772" y="803"/>
                  </a:lnTo>
                  <a:lnTo>
                    <a:pt x="927" y="803"/>
                  </a:lnTo>
                  <a:lnTo>
                    <a:pt x="1082" y="768"/>
                  </a:lnTo>
                  <a:lnTo>
                    <a:pt x="1192" y="697"/>
                  </a:lnTo>
                  <a:lnTo>
                    <a:pt x="1210" y="525"/>
                  </a:lnTo>
                  <a:lnTo>
                    <a:pt x="1267" y="455"/>
                  </a:lnTo>
                  <a:lnTo>
                    <a:pt x="1232" y="410"/>
                  </a:lnTo>
                  <a:lnTo>
                    <a:pt x="1091" y="361"/>
                  </a:lnTo>
                  <a:lnTo>
                    <a:pt x="1069" y="189"/>
                  </a:lnTo>
                  <a:lnTo>
                    <a:pt x="935" y="189"/>
                  </a:lnTo>
                  <a:lnTo>
                    <a:pt x="777" y="0"/>
                  </a:lnTo>
                  <a:lnTo>
                    <a:pt x="922" y="207"/>
                  </a:lnTo>
                  <a:lnTo>
                    <a:pt x="967" y="207"/>
                  </a:lnTo>
                  <a:lnTo>
                    <a:pt x="998" y="352"/>
                  </a:lnTo>
                  <a:lnTo>
                    <a:pt x="816" y="410"/>
                  </a:lnTo>
                  <a:lnTo>
                    <a:pt x="688" y="366"/>
                  </a:lnTo>
                  <a:lnTo>
                    <a:pt x="671" y="410"/>
                  </a:lnTo>
                  <a:lnTo>
                    <a:pt x="737" y="455"/>
                  </a:lnTo>
                  <a:lnTo>
                    <a:pt x="737" y="494"/>
                  </a:lnTo>
                  <a:lnTo>
                    <a:pt x="891" y="428"/>
                  </a:lnTo>
                  <a:lnTo>
                    <a:pt x="1020" y="418"/>
                  </a:lnTo>
                  <a:lnTo>
                    <a:pt x="1161" y="433"/>
                  </a:lnTo>
                  <a:lnTo>
                    <a:pt x="1161" y="459"/>
                  </a:lnTo>
                  <a:lnTo>
                    <a:pt x="1095" y="521"/>
                  </a:lnTo>
                  <a:lnTo>
                    <a:pt x="1069" y="591"/>
                  </a:lnTo>
                  <a:lnTo>
                    <a:pt x="1064" y="697"/>
                  </a:lnTo>
                  <a:lnTo>
                    <a:pt x="980" y="737"/>
                  </a:lnTo>
                  <a:lnTo>
                    <a:pt x="856" y="755"/>
                  </a:lnTo>
                  <a:lnTo>
                    <a:pt x="772" y="755"/>
                  </a:lnTo>
                  <a:lnTo>
                    <a:pt x="741" y="719"/>
                  </a:lnTo>
                  <a:lnTo>
                    <a:pt x="724" y="525"/>
                  </a:lnTo>
                  <a:lnTo>
                    <a:pt x="587" y="525"/>
                  </a:lnTo>
                  <a:lnTo>
                    <a:pt x="583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0880" y="739800"/>
              <a:ext cx="147960" cy="62280"/>
            </a:xfrm>
            <a:custGeom>
              <a:avLst/>
              <a:gdLst/>
              <a:ahLst/>
              <a:rect l="0" t="0" r="r" b="b"/>
              <a:pathLst>
                <a:path w="411" h="173">
                  <a:moveTo>
                    <a:pt x="0" y="0"/>
                  </a:moveTo>
                  <a:lnTo>
                    <a:pt x="66" y="80"/>
                  </a:lnTo>
                  <a:lnTo>
                    <a:pt x="243" y="80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3"/>
                  </a:lnTo>
                  <a:lnTo>
                    <a:pt x="393" y="80"/>
                  </a:lnTo>
                  <a:lnTo>
                    <a:pt x="230" y="173"/>
                  </a:lnTo>
                  <a:lnTo>
                    <a:pt x="136" y="173"/>
                  </a:lnTo>
                  <a:lnTo>
                    <a:pt x="88" y="143"/>
                  </a:lnTo>
                  <a:lnTo>
                    <a:pt x="35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7440" y="639720"/>
              <a:ext cx="222480" cy="327240"/>
            </a:xfrm>
            <a:custGeom>
              <a:avLst/>
              <a:gdLst/>
              <a:ahLst/>
              <a:rect l="0" t="0" r="r" b="b"/>
              <a:pathLst>
                <a:path w="618" h="909">
                  <a:moveTo>
                    <a:pt x="618" y="66"/>
                  </a:moveTo>
                  <a:lnTo>
                    <a:pt x="618" y="79"/>
                  </a:lnTo>
                  <a:lnTo>
                    <a:pt x="508" y="171"/>
                  </a:lnTo>
                  <a:lnTo>
                    <a:pt x="419" y="189"/>
                  </a:lnTo>
                  <a:lnTo>
                    <a:pt x="246" y="163"/>
                  </a:lnTo>
                  <a:lnTo>
                    <a:pt x="277" y="490"/>
                  </a:lnTo>
                  <a:lnTo>
                    <a:pt x="318" y="763"/>
                  </a:lnTo>
                  <a:lnTo>
                    <a:pt x="393" y="909"/>
                  </a:lnTo>
                  <a:lnTo>
                    <a:pt x="318" y="803"/>
                  </a:lnTo>
                  <a:lnTo>
                    <a:pt x="291" y="693"/>
                  </a:lnTo>
                  <a:lnTo>
                    <a:pt x="238" y="383"/>
                  </a:lnTo>
                  <a:lnTo>
                    <a:pt x="189" y="401"/>
                  </a:lnTo>
                  <a:lnTo>
                    <a:pt x="127" y="370"/>
                  </a:lnTo>
                  <a:lnTo>
                    <a:pt x="13" y="202"/>
                  </a:lnTo>
                  <a:lnTo>
                    <a:pt x="0" y="119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44" y="198"/>
                  </a:lnTo>
                  <a:lnTo>
                    <a:pt x="123" y="268"/>
                  </a:lnTo>
                  <a:lnTo>
                    <a:pt x="158" y="255"/>
                  </a:lnTo>
                  <a:lnTo>
                    <a:pt x="158" y="88"/>
                  </a:lnTo>
                  <a:lnTo>
                    <a:pt x="233" y="123"/>
                  </a:lnTo>
                  <a:lnTo>
                    <a:pt x="344" y="145"/>
                  </a:lnTo>
                  <a:lnTo>
                    <a:pt x="450" y="141"/>
                  </a:lnTo>
                  <a:lnTo>
                    <a:pt x="547" y="88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6120" y="380880"/>
              <a:ext cx="66960" cy="174960"/>
            </a:xfrm>
            <a:custGeom>
              <a:avLst/>
              <a:gdLst/>
              <a:ahLst/>
              <a:rect l="0" t="0" r="r" b="b"/>
              <a:pathLst>
                <a:path w="186" h="486">
                  <a:moveTo>
                    <a:pt x="98" y="486"/>
                  </a:moveTo>
                  <a:lnTo>
                    <a:pt x="186" y="202"/>
                  </a:lnTo>
                  <a:lnTo>
                    <a:pt x="22" y="92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6" y="163"/>
                  </a:lnTo>
                  <a:lnTo>
                    <a:pt x="74" y="309"/>
                  </a:lnTo>
                  <a:lnTo>
                    <a:pt x="115" y="371"/>
                  </a:lnTo>
                  <a:lnTo>
                    <a:pt x="98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4320" y="228600"/>
              <a:ext cx="500400" cy="228960"/>
            </a:xfrm>
            <a:custGeom>
              <a:avLst/>
              <a:gdLst/>
              <a:ahLst/>
              <a:rect l="0" t="0" r="r" b="b"/>
              <a:pathLst>
                <a:path w="1390" h="636">
                  <a:moveTo>
                    <a:pt x="13" y="433"/>
                  </a:moveTo>
                  <a:lnTo>
                    <a:pt x="132" y="499"/>
                  </a:lnTo>
                  <a:lnTo>
                    <a:pt x="119" y="415"/>
                  </a:lnTo>
                  <a:lnTo>
                    <a:pt x="141" y="268"/>
                  </a:lnTo>
                  <a:lnTo>
                    <a:pt x="224" y="238"/>
                  </a:lnTo>
                  <a:lnTo>
                    <a:pt x="233" y="397"/>
                  </a:lnTo>
                  <a:lnTo>
                    <a:pt x="467" y="123"/>
                  </a:lnTo>
                  <a:lnTo>
                    <a:pt x="520" y="105"/>
                  </a:lnTo>
                  <a:lnTo>
                    <a:pt x="480" y="211"/>
                  </a:lnTo>
                  <a:lnTo>
                    <a:pt x="626" y="264"/>
                  </a:lnTo>
                  <a:lnTo>
                    <a:pt x="733" y="158"/>
                  </a:lnTo>
                  <a:lnTo>
                    <a:pt x="790" y="185"/>
                  </a:lnTo>
                  <a:lnTo>
                    <a:pt x="737" y="282"/>
                  </a:lnTo>
                  <a:lnTo>
                    <a:pt x="807" y="229"/>
                  </a:lnTo>
                  <a:lnTo>
                    <a:pt x="913" y="268"/>
                  </a:lnTo>
                  <a:lnTo>
                    <a:pt x="830" y="349"/>
                  </a:lnTo>
                  <a:lnTo>
                    <a:pt x="1116" y="397"/>
                  </a:lnTo>
                  <a:lnTo>
                    <a:pt x="922" y="450"/>
                  </a:lnTo>
                  <a:lnTo>
                    <a:pt x="1160" y="481"/>
                  </a:lnTo>
                  <a:lnTo>
                    <a:pt x="878" y="543"/>
                  </a:lnTo>
                  <a:lnTo>
                    <a:pt x="940" y="587"/>
                  </a:lnTo>
                  <a:lnTo>
                    <a:pt x="856" y="636"/>
                  </a:lnTo>
                  <a:lnTo>
                    <a:pt x="1002" y="636"/>
                  </a:lnTo>
                  <a:lnTo>
                    <a:pt x="988" y="600"/>
                  </a:lnTo>
                  <a:lnTo>
                    <a:pt x="1138" y="631"/>
                  </a:lnTo>
                  <a:lnTo>
                    <a:pt x="1116" y="530"/>
                  </a:lnTo>
                  <a:lnTo>
                    <a:pt x="1253" y="486"/>
                  </a:lnTo>
                  <a:lnTo>
                    <a:pt x="1156" y="437"/>
                  </a:lnTo>
                  <a:lnTo>
                    <a:pt x="1390" y="424"/>
                  </a:lnTo>
                  <a:lnTo>
                    <a:pt x="1187" y="322"/>
                  </a:lnTo>
                  <a:lnTo>
                    <a:pt x="953" y="295"/>
                  </a:lnTo>
                  <a:lnTo>
                    <a:pt x="1138" y="194"/>
                  </a:lnTo>
                  <a:lnTo>
                    <a:pt x="807" y="194"/>
                  </a:lnTo>
                  <a:lnTo>
                    <a:pt x="966" y="97"/>
                  </a:lnTo>
                  <a:lnTo>
                    <a:pt x="724" y="123"/>
                  </a:lnTo>
                  <a:lnTo>
                    <a:pt x="612" y="171"/>
                  </a:lnTo>
                  <a:lnTo>
                    <a:pt x="710" y="0"/>
                  </a:lnTo>
                  <a:lnTo>
                    <a:pt x="418" y="97"/>
                  </a:lnTo>
                  <a:lnTo>
                    <a:pt x="260" y="304"/>
                  </a:lnTo>
                  <a:lnTo>
                    <a:pt x="233" y="185"/>
                  </a:lnTo>
                  <a:lnTo>
                    <a:pt x="101" y="268"/>
                  </a:lnTo>
                  <a:lnTo>
                    <a:pt x="88" y="424"/>
                  </a:lnTo>
                  <a:lnTo>
                    <a:pt x="0" y="397"/>
                  </a:lnTo>
                  <a:lnTo>
                    <a:pt x="30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74120" y="351000"/>
              <a:ext cx="140040" cy="68760"/>
            </a:xfrm>
            <a:custGeom>
              <a:avLst/>
              <a:gdLst/>
              <a:ahLst/>
              <a:rect l="0" t="0" r="r" b="b"/>
              <a:pathLst>
                <a:path w="389" h="191">
                  <a:moveTo>
                    <a:pt x="0" y="191"/>
                  </a:moveTo>
                  <a:lnTo>
                    <a:pt x="145" y="0"/>
                  </a:lnTo>
                  <a:lnTo>
                    <a:pt x="145" y="124"/>
                  </a:lnTo>
                  <a:lnTo>
                    <a:pt x="199" y="75"/>
                  </a:lnTo>
                  <a:lnTo>
                    <a:pt x="243" y="147"/>
                  </a:lnTo>
                  <a:lnTo>
                    <a:pt x="389" y="182"/>
                  </a:lnTo>
                  <a:lnTo>
                    <a:pt x="234" y="160"/>
                  </a:lnTo>
                  <a:lnTo>
                    <a:pt x="189" y="111"/>
                  </a:lnTo>
                  <a:lnTo>
                    <a:pt x="123" y="160"/>
                  </a:lnTo>
                  <a:lnTo>
                    <a:pt x="123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9720" y="820800"/>
              <a:ext cx="170280" cy="101880"/>
            </a:xfrm>
            <a:custGeom>
              <a:avLst/>
              <a:gdLst/>
              <a:ahLst/>
              <a:rect l="0" t="0" r="r" b="b"/>
              <a:pathLst>
                <a:path w="473" h="283">
                  <a:moveTo>
                    <a:pt x="88" y="97"/>
                  </a:moveTo>
                  <a:lnTo>
                    <a:pt x="283" y="83"/>
                  </a:lnTo>
                  <a:lnTo>
                    <a:pt x="376" y="105"/>
                  </a:lnTo>
                  <a:lnTo>
                    <a:pt x="425" y="66"/>
                  </a:lnTo>
                  <a:lnTo>
                    <a:pt x="473" y="155"/>
                  </a:lnTo>
                  <a:lnTo>
                    <a:pt x="442" y="172"/>
                  </a:lnTo>
                  <a:lnTo>
                    <a:pt x="403" y="142"/>
                  </a:lnTo>
                  <a:lnTo>
                    <a:pt x="336" y="203"/>
                  </a:lnTo>
                  <a:lnTo>
                    <a:pt x="221" y="283"/>
                  </a:lnTo>
                  <a:lnTo>
                    <a:pt x="168" y="283"/>
                  </a:lnTo>
                  <a:lnTo>
                    <a:pt x="88" y="243"/>
                  </a:lnTo>
                  <a:lnTo>
                    <a:pt x="177" y="274"/>
                  </a:lnTo>
                  <a:lnTo>
                    <a:pt x="212" y="274"/>
                  </a:lnTo>
                  <a:lnTo>
                    <a:pt x="283" y="225"/>
                  </a:lnTo>
                  <a:lnTo>
                    <a:pt x="336" y="132"/>
                  </a:lnTo>
                  <a:lnTo>
                    <a:pt x="256" y="114"/>
                  </a:lnTo>
                  <a:lnTo>
                    <a:pt x="208" y="105"/>
                  </a:lnTo>
                  <a:lnTo>
                    <a:pt x="79" y="123"/>
                  </a:lnTo>
                  <a:lnTo>
                    <a:pt x="74" y="199"/>
                  </a:lnTo>
                  <a:lnTo>
                    <a:pt x="35" y="150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8" y="0"/>
                  </a:lnTo>
                  <a:lnTo>
                    <a:pt x="88" y="74"/>
                  </a:lnTo>
                  <a:lnTo>
                    <a:pt x="88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9200" y="598320"/>
              <a:ext cx="363960" cy="475200"/>
            </a:xfrm>
            <a:custGeom>
              <a:avLst/>
              <a:gdLst/>
              <a:ahLst/>
              <a:rect l="0" t="0" r="r" b="b"/>
              <a:pathLst>
                <a:path w="1011" h="1320">
                  <a:moveTo>
                    <a:pt x="853" y="0"/>
                  </a:moveTo>
                  <a:lnTo>
                    <a:pt x="954" y="0"/>
                  </a:lnTo>
                  <a:lnTo>
                    <a:pt x="1011" y="66"/>
                  </a:lnTo>
                  <a:lnTo>
                    <a:pt x="1011" y="136"/>
                  </a:lnTo>
                  <a:lnTo>
                    <a:pt x="928" y="344"/>
                  </a:lnTo>
                  <a:lnTo>
                    <a:pt x="848" y="441"/>
                  </a:lnTo>
                  <a:lnTo>
                    <a:pt x="760" y="459"/>
                  </a:lnTo>
                  <a:lnTo>
                    <a:pt x="737" y="459"/>
                  </a:lnTo>
                  <a:lnTo>
                    <a:pt x="737" y="715"/>
                  </a:lnTo>
                  <a:lnTo>
                    <a:pt x="778" y="909"/>
                  </a:lnTo>
                  <a:lnTo>
                    <a:pt x="778" y="1060"/>
                  </a:lnTo>
                  <a:lnTo>
                    <a:pt x="622" y="1214"/>
                  </a:lnTo>
                  <a:lnTo>
                    <a:pt x="415" y="1320"/>
                  </a:lnTo>
                  <a:lnTo>
                    <a:pt x="278" y="1320"/>
                  </a:lnTo>
                  <a:lnTo>
                    <a:pt x="211" y="1294"/>
                  </a:lnTo>
                  <a:lnTo>
                    <a:pt x="119" y="1108"/>
                  </a:lnTo>
                  <a:lnTo>
                    <a:pt x="35" y="1042"/>
                  </a:lnTo>
                  <a:lnTo>
                    <a:pt x="0" y="994"/>
                  </a:lnTo>
                  <a:lnTo>
                    <a:pt x="114" y="1060"/>
                  </a:lnTo>
                  <a:lnTo>
                    <a:pt x="194" y="1126"/>
                  </a:lnTo>
                  <a:lnTo>
                    <a:pt x="358" y="1135"/>
                  </a:lnTo>
                  <a:lnTo>
                    <a:pt x="503" y="1073"/>
                  </a:lnTo>
                  <a:lnTo>
                    <a:pt x="578" y="994"/>
                  </a:lnTo>
                  <a:lnTo>
                    <a:pt x="662" y="860"/>
                  </a:lnTo>
                  <a:lnTo>
                    <a:pt x="675" y="702"/>
                  </a:lnTo>
                  <a:lnTo>
                    <a:pt x="706" y="194"/>
                  </a:lnTo>
                  <a:lnTo>
                    <a:pt x="741" y="264"/>
                  </a:lnTo>
                  <a:lnTo>
                    <a:pt x="844" y="176"/>
                  </a:lnTo>
                  <a:lnTo>
                    <a:pt x="945" y="136"/>
                  </a:lnTo>
                  <a:lnTo>
                    <a:pt x="972" y="83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4000" y="1006560"/>
              <a:ext cx="294120" cy="439920"/>
            </a:xfrm>
            <a:custGeom>
              <a:avLst/>
              <a:gdLst/>
              <a:ahLst/>
              <a:rect l="0" t="0" r="r" b="b"/>
              <a:pathLst>
                <a:path w="817" h="1222">
                  <a:moveTo>
                    <a:pt x="101" y="0"/>
                  </a:moveTo>
                  <a:lnTo>
                    <a:pt x="198" y="52"/>
                  </a:lnTo>
                  <a:lnTo>
                    <a:pt x="265" y="304"/>
                  </a:lnTo>
                  <a:lnTo>
                    <a:pt x="477" y="361"/>
                  </a:lnTo>
                  <a:lnTo>
                    <a:pt x="538" y="423"/>
                  </a:lnTo>
                  <a:lnTo>
                    <a:pt x="547" y="520"/>
                  </a:lnTo>
                  <a:lnTo>
                    <a:pt x="650" y="507"/>
                  </a:lnTo>
                  <a:lnTo>
                    <a:pt x="778" y="586"/>
                  </a:lnTo>
                  <a:lnTo>
                    <a:pt x="817" y="684"/>
                  </a:lnTo>
                  <a:lnTo>
                    <a:pt x="817" y="856"/>
                  </a:lnTo>
                  <a:lnTo>
                    <a:pt x="650" y="1116"/>
                  </a:lnTo>
                  <a:lnTo>
                    <a:pt x="596" y="1222"/>
                  </a:lnTo>
                  <a:lnTo>
                    <a:pt x="623" y="1085"/>
                  </a:lnTo>
                  <a:lnTo>
                    <a:pt x="596" y="1028"/>
                  </a:lnTo>
                  <a:lnTo>
                    <a:pt x="494" y="935"/>
                  </a:lnTo>
                  <a:lnTo>
                    <a:pt x="336" y="830"/>
                  </a:lnTo>
                  <a:lnTo>
                    <a:pt x="525" y="891"/>
                  </a:lnTo>
                  <a:lnTo>
                    <a:pt x="641" y="975"/>
                  </a:lnTo>
                  <a:lnTo>
                    <a:pt x="698" y="962"/>
                  </a:lnTo>
                  <a:lnTo>
                    <a:pt x="734" y="918"/>
                  </a:lnTo>
                  <a:lnTo>
                    <a:pt x="778" y="794"/>
                  </a:lnTo>
                  <a:lnTo>
                    <a:pt x="764" y="675"/>
                  </a:lnTo>
                  <a:lnTo>
                    <a:pt x="707" y="604"/>
                  </a:lnTo>
                  <a:lnTo>
                    <a:pt x="605" y="586"/>
                  </a:lnTo>
                  <a:lnTo>
                    <a:pt x="494" y="586"/>
                  </a:lnTo>
                  <a:lnTo>
                    <a:pt x="459" y="401"/>
                  </a:lnTo>
                  <a:lnTo>
                    <a:pt x="278" y="339"/>
                  </a:lnTo>
                  <a:lnTo>
                    <a:pt x="278" y="392"/>
                  </a:lnTo>
                  <a:lnTo>
                    <a:pt x="198" y="260"/>
                  </a:lnTo>
                  <a:lnTo>
                    <a:pt x="149" y="52"/>
                  </a:lnTo>
                  <a:lnTo>
                    <a:pt x="79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74" y="392"/>
                  </a:lnTo>
                  <a:lnTo>
                    <a:pt x="171" y="520"/>
                  </a:lnTo>
                  <a:lnTo>
                    <a:pt x="61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9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1200240"/>
              <a:ext cx="194040" cy="352800"/>
            </a:xfrm>
            <a:custGeom>
              <a:avLst/>
              <a:gdLst/>
              <a:ahLst/>
              <a:rect l="0" t="0" r="r" b="b"/>
              <a:pathLst>
                <a:path w="539" h="980">
                  <a:moveTo>
                    <a:pt x="539" y="0"/>
                  </a:moveTo>
                  <a:lnTo>
                    <a:pt x="429" y="66"/>
                  </a:lnTo>
                  <a:lnTo>
                    <a:pt x="296" y="305"/>
                  </a:lnTo>
                  <a:lnTo>
                    <a:pt x="168" y="459"/>
                  </a:lnTo>
                  <a:lnTo>
                    <a:pt x="13" y="644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5" y="826"/>
                  </a:lnTo>
                  <a:lnTo>
                    <a:pt x="208" y="738"/>
                  </a:lnTo>
                  <a:lnTo>
                    <a:pt x="287" y="565"/>
                  </a:lnTo>
                  <a:lnTo>
                    <a:pt x="397" y="459"/>
                  </a:lnTo>
                  <a:lnTo>
                    <a:pt x="397" y="600"/>
                  </a:lnTo>
                  <a:lnTo>
                    <a:pt x="380" y="728"/>
                  </a:lnTo>
                  <a:lnTo>
                    <a:pt x="265" y="901"/>
                  </a:lnTo>
                  <a:lnTo>
                    <a:pt x="265" y="954"/>
                  </a:lnTo>
                  <a:lnTo>
                    <a:pt x="380" y="980"/>
                  </a:lnTo>
                  <a:lnTo>
                    <a:pt x="296" y="932"/>
                  </a:lnTo>
                  <a:lnTo>
                    <a:pt x="309" y="901"/>
                  </a:lnTo>
                  <a:lnTo>
                    <a:pt x="389" y="778"/>
                  </a:lnTo>
                  <a:lnTo>
                    <a:pt x="447" y="547"/>
                  </a:lnTo>
                  <a:lnTo>
                    <a:pt x="407" y="415"/>
                  </a:lnTo>
                  <a:lnTo>
                    <a:pt x="318" y="490"/>
                  </a:lnTo>
                  <a:lnTo>
                    <a:pt x="127" y="782"/>
                  </a:lnTo>
                  <a:lnTo>
                    <a:pt x="74" y="791"/>
                  </a:lnTo>
                  <a:lnTo>
                    <a:pt x="30" y="760"/>
                  </a:lnTo>
                  <a:lnTo>
                    <a:pt x="30" y="671"/>
                  </a:lnTo>
                  <a:lnTo>
                    <a:pt x="105" y="552"/>
                  </a:lnTo>
                  <a:lnTo>
                    <a:pt x="318" y="318"/>
                  </a:lnTo>
                  <a:lnTo>
                    <a:pt x="447" y="8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8680" y="1398600"/>
              <a:ext cx="119520" cy="170280"/>
            </a:xfrm>
            <a:custGeom>
              <a:avLst/>
              <a:gdLst/>
              <a:ahLst/>
              <a:rect l="0" t="0" r="r" b="b"/>
              <a:pathLst>
                <a:path w="332" h="473">
                  <a:moveTo>
                    <a:pt x="0" y="420"/>
                  </a:moveTo>
                  <a:lnTo>
                    <a:pt x="111" y="296"/>
                  </a:lnTo>
                  <a:lnTo>
                    <a:pt x="128" y="177"/>
                  </a:lnTo>
                  <a:lnTo>
                    <a:pt x="257" y="0"/>
                  </a:lnTo>
                  <a:lnTo>
                    <a:pt x="284" y="120"/>
                  </a:lnTo>
                  <a:lnTo>
                    <a:pt x="266" y="429"/>
                  </a:lnTo>
                  <a:lnTo>
                    <a:pt x="332" y="473"/>
                  </a:lnTo>
                  <a:lnTo>
                    <a:pt x="234" y="442"/>
                  </a:lnTo>
                  <a:lnTo>
                    <a:pt x="186" y="265"/>
                  </a:lnTo>
                  <a:lnTo>
                    <a:pt x="111" y="349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840" y="1407960"/>
              <a:ext cx="79560" cy="151200"/>
            </a:xfrm>
            <a:custGeom>
              <a:avLst/>
              <a:gdLst/>
              <a:ahLst/>
              <a:rect l="0" t="0" r="r" b="b"/>
              <a:pathLst>
                <a:path w="221" h="420">
                  <a:moveTo>
                    <a:pt x="0" y="314"/>
                  </a:moveTo>
                  <a:lnTo>
                    <a:pt x="8" y="159"/>
                  </a:lnTo>
                  <a:lnTo>
                    <a:pt x="57" y="70"/>
                  </a:lnTo>
                  <a:lnTo>
                    <a:pt x="105" y="398"/>
                  </a:lnTo>
                  <a:lnTo>
                    <a:pt x="177" y="39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74"/>
                  </a:lnTo>
                  <a:lnTo>
                    <a:pt x="177" y="420"/>
                  </a:lnTo>
                  <a:lnTo>
                    <a:pt x="88" y="420"/>
                  </a:lnTo>
                  <a:lnTo>
                    <a:pt x="48" y="133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6080" y="812880"/>
              <a:ext cx="190800" cy="405000"/>
            </a:xfrm>
            <a:custGeom>
              <a:avLst/>
              <a:gdLst/>
              <a:ahLst/>
              <a:rect l="0" t="0" r="r" b="b"/>
              <a:pathLst>
                <a:path w="530" h="1125">
                  <a:moveTo>
                    <a:pt x="141" y="609"/>
                  </a:moveTo>
                  <a:lnTo>
                    <a:pt x="180" y="432"/>
                  </a:lnTo>
                  <a:lnTo>
                    <a:pt x="358" y="388"/>
                  </a:lnTo>
                  <a:lnTo>
                    <a:pt x="530" y="0"/>
                  </a:lnTo>
                  <a:lnTo>
                    <a:pt x="530" y="114"/>
                  </a:lnTo>
                  <a:lnTo>
                    <a:pt x="384" y="414"/>
                  </a:lnTo>
                  <a:lnTo>
                    <a:pt x="194" y="467"/>
                  </a:lnTo>
                  <a:lnTo>
                    <a:pt x="167" y="609"/>
                  </a:lnTo>
                  <a:lnTo>
                    <a:pt x="233" y="609"/>
                  </a:lnTo>
                  <a:lnTo>
                    <a:pt x="70" y="671"/>
                  </a:lnTo>
                  <a:lnTo>
                    <a:pt x="30" y="794"/>
                  </a:lnTo>
                  <a:lnTo>
                    <a:pt x="39" y="949"/>
                  </a:lnTo>
                  <a:lnTo>
                    <a:pt x="216" y="1125"/>
                  </a:lnTo>
                  <a:lnTo>
                    <a:pt x="30" y="971"/>
                  </a:lnTo>
                  <a:lnTo>
                    <a:pt x="0" y="838"/>
                  </a:lnTo>
                  <a:lnTo>
                    <a:pt x="13" y="706"/>
                  </a:lnTo>
                  <a:lnTo>
                    <a:pt x="79" y="613"/>
                  </a:lnTo>
                  <a:lnTo>
                    <a:pt x="141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812880"/>
              <a:ext cx="321120" cy="390960"/>
            </a:xfrm>
            <a:custGeom>
              <a:avLst/>
              <a:gdLst/>
              <a:ahLst/>
              <a:rect l="0" t="0" r="r" b="b"/>
              <a:pathLst>
                <a:path w="892" h="1086">
                  <a:moveTo>
                    <a:pt x="247" y="0"/>
                  </a:moveTo>
                  <a:lnTo>
                    <a:pt x="300" y="30"/>
                  </a:lnTo>
                  <a:lnTo>
                    <a:pt x="318" y="127"/>
                  </a:lnTo>
                  <a:lnTo>
                    <a:pt x="318" y="211"/>
                  </a:lnTo>
                  <a:lnTo>
                    <a:pt x="216" y="367"/>
                  </a:lnTo>
                  <a:lnTo>
                    <a:pt x="239" y="486"/>
                  </a:lnTo>
                  <a:lnTo>
                    <a:pt x="534" y="613"/>
                  </a:lnTo>
                  <a:lnTo>
                    <a:pt x="888" y="954"/>
                  </a:lnTo>
                  <a:lnTo>
                    <a:pt x="892" y="1047"/>
                  </a:lnTo>
                  <a:lnTo>
                    <a:pt x="875" y="1086"/>
                  </a:lnTo>
                  <a:lnTo>
                    <a:pt x="742" y="1086"/>
                  </a:lnTo>
                  <a:lnTo>
                    <a:pt x="627" y="1020"/>
                  </a:lnTo>
                  <a:lnTo>
                    <a:pt x="530" y="910"/>
                  </a:lnTo>
                  <a:lnTo>
                    <a:pt x="477" y="844"/>
                  </a:lnTo>
                  <a:lnTo>
                    <a:pt x="415" y="835"/>
                  </a:lnTo>
                  <a:lnTo>
                    <a:pt x="490" y="835"/>
                  </a:lnTo>
                  <a:lnTo>
                    <a:pt x="636" y="1011"/>
                  </a:lnTo>
                  <a:lnTo>
                    <a:pt x="822" y="1064"/>
                  </a:lnTo>
                  <a:lnTo>
                    <a:pt x="861" y="1011"/>
                  </a:lnTo>
                  <a:lnTo>
                    <a:pt x="844" y="932"/>
                  </a:lnTo>
                  <a:lnTo>
                    <a:pt x="516" y="680"/>
                  </a:lnTo>
                  <a:lnTo>
                    <a:pt x="468" y="613"/>
                  </a:lnTo>
                  <a:lnTo>
                    <a:pt x="216" y="552"/>
                  </a:lnTo>
                  <a:lnTo>
                    <a:pt x="171" y="613"/>
                  </a:lnTo>
                  <a:lnTo>
                    <a:pt x="0" y="715"/>
                  </a:lnTo>
                  <a:lnTo>
                    <a:pt x="163" y="596"/>
                  </a:lnTo>
                  <a:lnTo>
                    <a:pt x="171" y="516"/>
                  </a:lnTo>
                  <a:lnTo>
                    <a:pt x="171" y="349"/>
                  </a:lnTo>
                  <a:lnTo>
                    <a:pt x="287" y="211"/>
                  </a:lnTo>
                  <a:lnTo>
                    <a:pt x="287" y="44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920" y="1119240"/>
              <a:ext cx="273240" cy="233640"/>
            </a:xfrm>
            <a:custGeom>
              <a:avLst/>
              <a:gdLst/>
              <a:ahLst/>
              <a:rect l="0" t="0" r="r" b="b"/>
              <a:pathLst>
                <a:path w="759" h="649">
                  <a:moveTo>
                    <a:pt x="569" y="0"/>
                  </a:moveTo>
                  <a:lnTo>
                    <a:pt x="552" y="52"/>
                  </a:lnTo>
                  <a:lnTo>
                    <a:pt x="662" y="268"/>
                  </a:lnTo>
                  <a:lnTo>
                    <a:pt x="719" y="490"/>
                  </a:lnTo>
                  <a:lnTo>
                    <a:pt x="653" y="490"/>
                  </a:lnTo>
                  <a:lnTo>
                    <a:pt x="538" y="393"/>
                  </a:lnTo>
                  <a:lnTo>
                    <a:pt x="437" y="189"/>
                  </a:lnTo>
                  <a:lnTo>
                    <a:pt x="357" y="158"/>
                  </a:lnTo>
                  <a:lnTo>
                    <a:pt x="370" y="268"/>
                  </a:lnTo>
                  <a:lnTo>
                    <a:pt x="441" y="349"/>
                  </a:lnTo>
                  <a:lnTo>
                    <a:pt x="441" y="503"/>
                  </a:lnTo>
                  <a:lnTo>
                    <a:pt x="389" y="622"/>
                  </a:lnTo>
                  <a:lnTo>
                    <a:pt x="321" y="574"/>
                  </a:lnTo>
                  <a:lnTo>
                    <a:pt x="233" y="393"/>
                  </a:lnTo>
                  <a:lnTo>
                    <a:pt x="211" y="268"/>
                  </a:lnTo>
                  <a:lnTo>
                    <a:pt x="163" y="233"/>
                  </a:lnTo>
                  <a:lnTo>
                    <a:pt x="149" y="552"/>
                  </a:lnTo>
                  <a:lnTo>
                    <a:pt x="79" y="596"/>
                  </a:lnTo>
                  <a:lnTo>
                    <a:pt x="22" y="552"/>
                  </a:lnTo>
                  <a:lnTo>
                    <a:pt x="8" y="277"/>
                  </a:lnTo>
                  <a:lnTo>
                    <a:pt x="0" y="543"/>
                  </a:lnTo>
                  <a:lnTo>
                    <a:pt x="48" y="640"/>
                  </a:lnTo>
                  <a:lnTo>
                    <a:pt x="149" y="640"/>
                  </a:lnTo>
                  <a:lnTo>
                    <a:pt x="185" y="565"/>
                  </a:lnTo>
                  <a:lnTo>
                    <a:pt x="202" y="317"/>
                  </a:lnTo>
                  <a:lnTo>
                    <a:pt x="220" y="415"/>
                  </a:lnTo>
                  <a:lnTo>
                    <a:pt x="308" y="622"/>
                  </a:lnTo>
                  <a:lnTo>
                    <a:pt x="402" y="649"/>
                  </a:lnTo>
                  <a:lnTo>
                    <a:pt x="472" y="565"/>
                  </a:lnTo>
                  <a:lnTo>
                    <a:pt x="472" y="358"/>
                  </a:lnTo>
                  <a:lnTo>
                    <a:pt x="653" y="530"/>
                  </a:lnTo>
                  <a:lnTo>
                    <a:pt x="750" y="530"/>
                  </a:lnTo>
                  <a:lnTo>
                    <a:pt x="759" y="415"/>
                  </a:lnTo>
                  <a:lnTo>
                    <a:pt x="688" y="207"/>
                  </a:lnTo>
                  <a:lnTo>
                    <a:pt x="569" y="44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2520" y="879480"/>
              <a:ext cx="1214640" cy="948240"/>
            </a:xfrm>
            <a:custGeom>
              <a:avLst/>
              <a:gdLst/>
              <a:ahLst/>
              <a:rect l="0" t="0" r="r" b="b"/>
              <a:pathLst>
                <a:path w="3374" h="2634">
                  <a:moveTo>
                    <a:pt x="1212" y="224"/>
                  </a:moveTo>
                  <a:lnTo>
                    <a:pt x="1150" y="233"/>
                  </a:lnTo>
                  <a:lnTo>
                    <a:pt x="1058" y="366"/>
                  </a:lnTo>
                  <a:lnTo>
                    <a:pt x="1023" y="264"/>
                  </a:lnTo>
                  <a:lnTo>
                    <a:pt x="917" y="211"/>
                  </a:lnTo>
                  <a:lnTo>
                    <a:pt x="833" y="251"/>
                  </a:lnTo>
                  <a:lnTo>
                    <a:pt x="802" y="423"/>
                  </a:lnTo>
                  <a:lnTo>
                    <a:pt x="498" y="635"/>
                  </a:lnTo>
                  <a:lnTo>
                    <a:pt x="520" y="724"/>
                  </a:lnTo>
                  <a:lnTo>
                    <a:pt x="445" y="803"/>
                  </a:lnTo>
                  <a:lnTo>
                    <a:pt x="445" y="869"/>
                  </a:lnTo>
                  <a:lnTo>
                    <a:pt x="533" y="1072"/>
                  </a:lnTo>
                  <a:lnTo>
                    <a:pt x="537" y="1315"/>
                  </a:lnTo>
                  <a:lnTo>
                    <a:pt x="480" y="1544"/>
                  </a:lnTo>
                  <a:lnTo>
                    <a:pt x="264" y="1681"/>
                  </a:lnTo>
                  <a:lnTo>
                    <a:pt x="238" y="1870"/>
                  </a:lnTo>
                  <a:lnTo>
                    <a:pt x="167" y="1870"/>
                  </a:lnTo>
                  <a:lnTo>
                    <a:pt x="136" y="1711"/>
                  </a:lnTo>
                  <a:lnTo>
                    <a:pt x="70" y="1711"/>
                  </a:lnTo>
                  <a:lnTo>
                    <a:pt x="39" y="1879"/>
                  </a:lnTo>
                  <a:lnTo>
                    <a:pt x="0" y="1928"/>
                  </a:lnTo>
                  <a:lnTo>
                    <a:pt x="149" y="2153"/>
                  </a:lnTo>
                  <a:lnTo>
                    <a:pt x="255" y="2162"/>
                  </a:lnTo>
                  <a:lnTo>
                    <a:pt x="445" y="2330"/>
                  </a:lnTo>
                  <a:lnTo>
                    <a:pt x="617" y="2352"/>
                  </a:lnTo>
                  <a:lnTo>
                    <a:pt x="714" y="2264"/>
                  </a:lnTo>
                  <a:lnTo>
                    <a:pt x="948" y="1936"/>
                  </a:lnTo>
                  <a:lnTo>
                    <a:pt x="970" y="2374"/>
                  </a:lnTo>
                  <a:lnTo>
                    <a:pt x="948" y="2634"/>
                  </a:lnTo>
                  <a:lnTo>
                    <a:pt x="2898" y="2634"/>
                  </a:lnTo>
                  <a:lnTo>
                    <a:pt x="2757" y="2352"/>
                  </a:lnTo>
                  <a:lnTo>
                    <a:pt x="2686" y="2105"/>
                  </a:lnTo>
                  <a:lnTo>
                    <a:pt x="2668" y="1742"/>
                  </a:lnTo>
                  <a:lnTo>
                    <a:pt x="2783" y="1826"/>
                  </a:lnTo>
                  <a:lnTo>
                    <a:pt x="2898" y="1826"/>
                  </a:lnTo>
                  <a:lnTo>
                    <a:pt x="3061" y="1729"/>
                  </a:lnTo>
                  <a:lnTo>
                    <a:pt x="3167" y="1711"/>
                  </a:lnTo>
                  <a:lnTo>
                    <a:pt x="3233" y="1619"/>
                  </a:lnTo>
                  <a:lnTo>
                    <a:pt x="3277" y="1372"/>
                  </a:lnTo>
                  <a:lnTo>
                    <a:pt x="3374" y="1266"/>
                  </a:lnTo>
                  <a:lnTo>
                    <a:pt x="3325" y="1196"/>
                  </a:lnTo>
                  <a:lnTo>
                    <a:pt x="3250" y="1196"/>
                  </a:lnTo>
                  <a:lnTo>
                    <a:pt x="3193" y="1244"/>
                  </a:lnTo>
                  <a:lnTo>
                    <a:pt x="3140" y="1262"/>
                  </a:lnTo>
                  <a:lnTo>
                    <a:pt x="3070" y="1196"/>
                  </a:lnTo>
                  <a:lnTo>
                    <a:pt x="2986" y="1182"/>
                  </a:lnTo>
                  <a:lnTo>
                    <a:pt x="2832" y="1094"/>
                  </a:lnTo>
                  <a:lnTo>
                    <a:pt x="2735" y="988"/>
                  </a:lnTo>
                  <a:lnTo>
                    <a:pt x="2721" y="869"/>
                  </a:lnTo>
                  <a:lnTo>
                    <a:pt x="2735" y="759"/>
                  </a:lnTo>
                  <a:lnTo>
                    <a:pt x="2801" y="657"/>
                  </a:lnTo>
                  <a:lnTo>
                    <a:pt x="2884" y="573"/>
                  </a:lnTo>
                  <a:lnTo>
                    <a:pt x="2876" y="418"/>
                  </a:lnTo>
                  <a:lnTo>
                    <a:pt x="2876" y="308"/>
                  </a:lnTo>
                  <a:lnTo>
                    <a:pt x="2832" y="233"/>
                  </a:lnTo>
                  <a:lnTo>
                    <a:pt x="2721" y="198"/>
                  </a:lnTo>
                  <a:lnTo>
                    <a:pt x="2682" y="180"/>
                  </a:lnTo>
                  <a:lnTo>
                    <a:pt x="2598" y="48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2"/>
                  </a:lnTo>
                  <a:lnTo>
                    <a:pt x="2280" y="136"/>
                  </a:lnTo>
                  <a:lnTo>
                    <a:pt x="2197" y="145"/>
                  </a:lnTo>
                  <a:lnTo>
                    <a:pt x="2104" y="145"/>
                  </a:lnTo>
                  <a:lnTo>
                    <a:pt x="2122" y="277"/>
                  </a:lnTo>
                  <a:lnTo>
                    <a:pt x="2122" y="436"/>
                  </a:lnTo>
                  <a:lnTo>
                    <a:pt x="2104" y="546"/>
                  </a:lnTo>
                  <a:lnTo>
                    <a:pt x="2020" y="680"/>
                  </a:lnTo>
                  <a:lnTo>
                    <a:pt x="1914" y="878"/>
                  </a:lnTo>
                  <a:lnTo>
                    <a:pt x="1831" y="1116"/>
                  </a:lnTo>
                  <a:lnTo>
                    <a:pt x="1826" y="1262"/>
                  </a:lnTo>
                  <a:lnTo>
                    <a:pt x="1786" y="1376"/>
                  </a:lnTo>
                  <a:lnTo>
                    <a:pt x="1734" y="1500"/>
                  </a:lnTo>
                  <a:lnTo>
                    <a:pt x="1711" y="1694"/>
                  </a:lnTo>
                  <a:lnTo>
                    <a:pt x="1725" y="1848"/>
                  </a:lnTo>
                  <a:lnTo>
                    <a:pt x="1786" y="2034"/>
                  </a:lnTo>
                  <a:lnTo>
                    <a:pt x="1826" y="2105"/>
                  </a:lnTo>
                  <a:lnTo>
                    <a:pt x="1711" y="2175"/>
                  </a:lnTo>
                  <a:lnTo>
                    <a:pt x="1574" y="2220"/>
                  </a:lnTo>
                  <a:lnTo>
                    <a:pt x="1424" y="2228"/>
                  </a:lnTo>
                  <a:lnTo>
                    <a:pt x="1331" y="2228"/>
                  </a:lnTo>
                  <a:lnTo>
                    <a:pt x="1270" y="2206"/>
                  </a:lnTo>
                  <a:lnTo>
                    <a:pt x="1270" y="2048"/>
                  </a:lnTo>
                  <a:lnTo>
                    <a:pt x="1270" y="1817"/>
                  </a:lnTo>
                  <a:lnTo>
                    <a:pt x="1234" y="1588"/>
                  </a:lnTo>
                  <a:lnTo>
                    <a:pt x="1172" y="1376"/>
                  </a:lnTo>
                  <a:lnTo>
                    <a:pt x="1146" y="1213"/>
                  </a:lnTo>
                  <a:lnTo>
                    <a:pt x="1133" y="984"/>
                  </a:lnTo>
                  <a:lnTo>
                    <a:pt x="1172" y="777"/>
                  </a:lnTo>
                  <a:lnTo>
                    <a:pt x="1234" y="612"/>
                  </a:lnTo>
                  <a:lnTo>
                    <a:pt x="1239" y="520"/>
                  </a:lnTo>
                  <a:lnTo>
                    <a:pt x="1212" y="374"/>
                  </a:lnTo>
                  <a:lnTo>
                    <a:pt x="1212" y="264"/>
                  </a:lnTo>
                  <a:lnTo>
                    <a:pt x="1234" y="233"/>
                  </a:lnTo>
                  <a:lnTo>
                    <a:pt x="1212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5560" y="1069920"/>
              <a:ext cx="152640" cy="616320"/>
            </a:xfrm>
            <a:custGeom>
              <a:avLst/>
              <a:gdLst/>
              <a:ahLst/>
              <a:rect l="0" t="0" r="r" b="b"/>
              <a:pathLst>
                <a:path w="424" h="1712">
                  <a:moveTo>
                    <a:pt x="167" y="22"/>
                  </a:moveTo>
                  <a:lnTo>
                    <a:pt x="57" y="74"/>
                  </a:lnTo>
                  <a:lnTo>
                    <a:pt x="66" y="242"/>
                  </a:lnTo>
                  <a:lnTo>
                    <a:pt x="149" y="291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4"/>
                  </a:lnTo>
                  <a:lnTo>
                    <a:pt x="88" y="1235"/>
                  </a:lnTo>
                  <a:lnTo>
                    <a:pt x="88" y="1355"/>
                  </a:lnTo>
                  <a:lnTo>
                    <a:pt x="48" y="1505"/>
                  </a:lnTo>
                  <a:lnTo>
                    <a:pt x="221" y="1712"/>
                  </a:lnTo>
                  <a:lnTo>
                    <a:pt x="292" y="1682"/>
                  </a:lnTo>
                  <a:lnTo>
                    <a:pt x="340" y="1532"/>
                  </a:lnTo>
                  <a:lnTo>
                    <a:pt x="419" y="1346"/>
                  </a:lnTo>
                  <a:lnTo>
                    <a:pt x="424" y="1244"/>
                  </a:lnTo>
                  <a:lnTo>
                    <a:pt x="358" y="1059"/>
                  </a:lnTo>
                  <a:lnTo>
                    <a:pt x="278" y="874"/>
                  </a:lnTo>
                  <a:lnTo>
                    <a:pt x="247" y="746"/>
                  </a:lnTo>
                  <a:lnTo>
                    <a:pt x="247" y="622"/>
                  </a:lnTo>
                  <a:lnTo>
                    <a:pt x="278" y="512"/>
                  </a:lnTo>
                  <a:lnTo>
                    <a:pt x="340" y="374"/>
                  </a:lnTo>
                  <a:lnTo>
                    <a:pt x="340" y="317"/>
                  </a:lnTo>
                  <a:lnTo>
                    <a:pt x="309" y="264"/>
                  </a:lnTo>
                  <a:lnTo>
                    <a:pt x="389" y="194"/>
                  </a:lnTo>
                  <a:lnTo>
                    <a:pt x="389" y="132"/>
                  </a:lnTo>
                  <a:lnTo>
                    <a:pt x="278" y="0"/>
                  </a:lnTo>
                  <a:lnTo>
                    <a:pt x="367" y="132"/>
                  </a:lnTo>
                  <a:lnTo>
                    <a:pt x="367" y="185"/>
                  </a:lnTo>
                  <a:lnTo>
                    <a:pt x="287" y="242"/>
                  </a:lnTo>
                  <a:lnTo>
                    <a:pt x="318" y="317"/>
                  </a:lnTo>
                  <a:lnTo>
                    <a:pt x="309" y="374"/>
                  </a:lnTo>
                  <a:lnTo>
                    <a:pt x="230" y="530"/>
                  </a:lnTo>
                  <a:lnTo>
                    <a:pt x="221" y="688"/>
                  </a:lnTo>
                  <a:lnTo>
                    <a:pt x="239" y="830"/>
                  </a:lnTo>
                  <a:lnTo>
                    <a:pt x="292" y="1037"/>
                  </a:lnTo>
                  <a:lnTo>
                    <a:pt x="358" y="1200"/>
                  </a:lnTo>
                  <a:lnTo>
                    <a:pt x="358" y="1338"/>
                  </a:lnTo>
                  <a:lnTo>
                    <a:pt x="318" y="1505"/>
                  </a:lnTo>
                  <a:lnTo>
                    <a:pt x="239" y="1682"/>
                  </a:lnTo>
                  <a:lnTo>
                    <a:pt x="141" y="1580"/>
                  </a:lnTo>
                  <a:lnTo>
                    <a:pt x="101" y="1505"/>
                  </a:lnTo>
                  <a:lnTo>
                    <a:pt x="110" y="1338"/>
                  </a:lnTo>
                  <a:lnTo>
                    <a:pt x="101" y="1169"/>
                  </a:lnTo>
                  <a:lnTo>
                    <a:pt x="48" y="940"/>
                  </a:lnTo>
                  <a:lnTo>
                    <a:pt x="30" y="785"/>
                  </a:lnTo>
                  <a:lnTo>
                    <a:pt x="48" y="613"/>
                  </a:lnTo>
                  <a:lnTo>
                    <a:pt x="88" y="441"/>
                  </a:lnTo>
                  <a:lnTo>
                    <a:pt x="180" y="273"/>
                  </a:lnTo>
                  <a:lnTo>
                    <a:pt x="101" y="202"/>
                  </a:lnTo>
                  <a:lnTo>
                    <a:pt x="88" y="83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13680" y="351000"/>
              <a:ext cx="241560" cy="300240"/>
            </a:xfrm>
            <a:custGeom>
              <a:avLst/>
              <a:gdLst/>
              <a:ahLst/>
              <a:rect l="0" t="0" r="r" b="b"/>
              <a:pathLst>
                <a:path w="671" h="834">
                  <a:moveTo>
                    <a:pt x="114" y="211"/>
                  </a:moveTo>
                  <a:lnTo>
                    <a:pt x="207" y="194"/>
                  </a:lnTo>
                  <a:lnTo>
                    <a:pt x="304" y="202"/>
                  </a:lnTo>
                  <a:lnTo>
                    <a:pt x="384" y="238"/>
                  </a:lnTo>
                  <a:lnTo>
                    <a:pt x="428" y="282"/>
                  </a:lnTo>
                  <a:lnTo>
                    <a:pt x="450" y="326"/>
                  </a:lnTo>
                  <a:lnTo>
                    <a:pt x="450" y="366"/>
                  </a:lnTo>
                  <a:lnTo>
                    <a:pt x="424" y="396"/>
                  </a:lnTo>
                  <a:lnTo>
                    <a:pt x="384" y="419"/>
                  </a:lnTo>
                  <a:lnTo>
                    <a:pt x="330" y="419"/>
                  </a:lnTo>
                  <a:lnTo>
                    <a:pt x="273" y="405"/>
                  </a:lnTo>
                  <a:lnTo>
                    <a:pt x="211" y="370"/>
                  </a:lnTo>
                  <a:lnTo>
                    <a:pt x="167" y="339"/>
                  </a:lnTo>
                  <a:lnTo>
                    <a:pt x="149" y="446"/>
                  </a:lnTo>
                  <a:lnTo>
                    <a:pt x="114" y="525"/>
                  </a:lnTo>
                  <a:lnTo>
                    <a:pt x="0" y="697"/>
                  </a:lnTo>
                  <a:lnTo>
                    <a:pt x="163" y="834"/>
                  </a:lnTo>
                  <a:lnTo>
                    <a:pt x="286" y="609"/>
                  </a:lnTo>
                  <a:lnTo>
                    <a:pt x="424" y="631"/>
                  </a:lnTo>
                  <a:lnTo>
                    <a:pt x="512" y="613"/>
                  </a:lnTo>
                  <a:lnTo>
                    <a:pt x="596" y="561"/>
                  </a:lnTo>
                  <a:lnTo>
                    <a:pt x="644" y="494"/>
                  </a:lnTo>
                  <a:lnTo>
                    <a:pt x="671" y="410"/>
                  </a:lnTo>
                  <a:lnTo>
                    <a:pt x="671" y="317"/>
                  </a:lnTo>
                  <a:lnTo>
                    <a:pt x="644" y="224"/>
                  </a:lnTo>
                  <a:lnTo>
                    <a:pt x="591" y="127"/>
                  </a:lnTo>
                  <a:lnTo>
                    <a:pt x="521" y="57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9400" y="641520"/>
              <a:ext cx="87840" cy="59040"/>
            </a:xfrm>
            <a:custGeom>
              <a:avLst/>
              <a:gdLst/>
              <a:ahLst/>
              <a:rect l="0" t="0" r="r" b="b"/>
              <a:pathLst>
                <a:path w="244" h="164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22" y="159"/>
                  </a:lnTo>
                  <a:lnTo>
                    <a:pt x="244" y="124"/>
                  </a:lnTo>
                  <a:lnTo>
                    <a:pt x="231" y="89"/>
                  </a:lnTo>
                  <a:lnTo>
                    <a:pt x="200" y="39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2362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762120"/>
            <a:ext cx="567684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2952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effects of transactions and other events that enter into the determination of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customers for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 on loans and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f trading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68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wages, goods and services, expenses, interest, taxes and purchases of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ffect, the income statement is changed from an accrual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81327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1440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ing and selling long-term assets, acquiring and selling marketable securities other than trading securities or cash equivalents, and making and collecting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elling long-term assets and marketable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llecting lo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175248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xpended for purchases of long-term assets and marketable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loaned to borr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609480"/>
            <a:ext cx="74041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or returning resources to owners and providing them with a return on their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creditors and repaying the amounts borrowed or otherwise settling the oblig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457200"/>
            <a:ext cx="7577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143000"/>
            <a:ext cx="807732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175248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issues of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short-term and long-term borr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52480" y="304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137160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 of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to owners (cash dividend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easury stock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s of accounts payable or accrued liabilities are classified under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97000" y="155520"/>
            <a:ext cx="7345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Inflows and Cash Out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5640" y="603360"/>
            <a:ext cx="8089920" cy="5727600"/>
            <a:chOff x="755640" y="603360"/>
            <a:chExt cx="8089920" cy="5727600"/>
          </a:xfrm>
        </p:grpSpPr>
        <p:sp>
          <p:nvSpPr>
            <p:cNvPr id="155" name=""/>
            <p:cNvSpPr/>
            <p:nvPr/>
          </p:nvSpPr>
          <p:spPr>
            <a:xfrm>
              <a:off x="755640" y="603360"/>
              <a:ext cx="8089920" cy="572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066680" y="685800"/>
              <a:ext cx="19461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IN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038480" y="685800"/>
              <a:ext cx="1438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553080" y="685800"/>
              <a:ext cx="2200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OUT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2760" y="4229280"/>
              <a:ext cx="4924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4560" y="2139840"/>
              <a:ext cx="542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5722920"/>
              <a:ext cx="20304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9360" y="1212840"/>
              <a:ext cx="0" cy="18050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9360" y="3693960"/>
              <a:ext cx="0" cy="100836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9360" y="5351400"/>
              <a:ext cx="0" cy="7034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8800" y="5721480"/>
              <a:ext cx="7156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8560" y="528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8560" y="60958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8560" y="362736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8560" y="30592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8560" y="267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8560" y="2292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8560" y="1914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87960" y="1533600"/>
              <a:ext cx="358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8560" y="114624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8560" y="47386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6080" y="4229280"/>
              <a:ext cx="69840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514840" y="2139840"/>
              <a:ext cx="677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040" y="5510160"/>
              <a:ext cx="309960" cy="433800"/>
            </a:xfrm>
            <a:custGeom>
              <a:avLst/>
              <a:gdLst/>
              <a:ahLst/>
              <a:rect l="0" t="0" r="r" b="b"/>
              <a:pathLst>
                <a:path fill="none" w="861" h="1205">
                  <a:moveTo>
                    <a:pt x="0" y="1205"/>
                  </a:moveTo>
                  <a:lnTo>
                    <a:pt x="861" y="1205"/>
                  </a:lnTo>
                  <a:lnTo>
                    <a:pt x="861" y="0"/>
                  </a:lnTo>
                  <a:lnTo>
                    <a:pt x="8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06800" y="3571920"/>
              <a:ext cx="313200" cy="1214640"/>
            </a:xfrm>
            <a:custGeom>
              <a:avLst/>
              <a:gdLst/>
              <a:ahLst/>
              <a:rect l="0" t="0" r="r" b="b"/>
              <a:pathLst>
                <a:path fill="none" w="870" h="3374">
                  <a:moveTo>
                    <a:pt x="8" y="3374"/>
                  </a:moveTo>
                  <a:lnTo>
                    <a:pt x="870" y="3374"/>
                  </a:lnTo>
                  <a:lnTo>
                    <a:pt x="870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1480" y="1569960"/>
              <a:ext cx="308160" cy="1108440"/>
            </a:xfrm>
            <a:custGeom>
              <a:avLst/>
              <a:gdLst/>
              <a:ahLst/>
              <a:rect l="0" t="0" r="r" b="b"/>
              <a:pathLst>
                <a:path fill="none" w="856" h="3079">
                  <a:moveTo>
                    <a:pt x="0" y="3079"/>
                  </a:moveTo>
                  <a:lnTo>
                    <a:pt x="856" y="3079"/>
                  </a:lnTo>
                  <a:lnTo>
                    <a:pt x="856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6440" y="1917720"/>
              <a:ext cx="1631880" cy="5256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1876320"/>
              <a:ext cx="1630440" cy="52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140360" y="191628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140360" y="211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447920"/>
              <a:ext cx="2203560" cy="369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138924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66680" y="1371600"/>
              <a:ext cx="1719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s of goods 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066680" y="1531800"/>
              <a:ext cx="1531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to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1905120"/>
              <a:ext cx="2238480" cy="54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5960" y="1865160"/>
              <a:ext cx="2236680" cy="54288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039680" y="1846440"/>
              <a:ext cx="1779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receipt of interest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039680" y="2009880"/>
              <a:ext cx="1501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nds on loans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039680" y="2168640"/>
              <a:ext cx="927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6000" y="2541600"/>
              <a:ext cx="2211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2960" y="250020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03240" y="255276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6000" y="3311640"/>
              <a:ext cx="2211480" cy="576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880" y="3270240"/>
              <a:ext cx="2209680" cy="558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68400" y="3289320"/>
              <a:ext cx="1927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968400" y="3452760"/>
              <a:ext cx="1735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968400" y="3613320"/>
              <a:ext cx="1555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ng-term 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3962520"/>
              <a:ext cx="2209680" cy="609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3921120"/>
              <a:ext cx="2236680" cy="600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73000" y="3984480"/>
              <a:ext cx="2106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long-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73000" y="414504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873000" y="430524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6000" y="4702320"/>
              <a:ext cx="2211480" cy="2840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3880" y="4660920"/>
              <a:ext cx="2209680" cy="28404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116000" y="4678200"/>
              <a:ext cx="1655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collection of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6000" y="5378400"/>
              <a:ext cx="2238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3880" y="5337000"/>
              <a:ext cx="2236680" cy="3841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079640" y="5319720"/>
              <a:ext cx="1725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079640" y="548172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6000" y="5850000"/>
              <a:ext cx="2211480" cy="2714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3880" y="5810400"/>
              <a:ext cx="2209680" cy="2700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165320" y="582768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issuance of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00600" y="5484960"/>
              <a:ext cx="162396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6680" y="5442120"/>
              <a:ext cx="1623960" cy="549360"/>
            </a:xfrm>
            <a:prstGeom prst="rect">
              <a:avLst/>
            </a:prstGeom>
            <a:solidFill>
              <a:srgbClr val="7fff7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157640" y="5483160"/>
              <a:ext cx="11685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157640" y="568152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3987720"/>
              <a:ext cx="1687680" cy="5572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6720" y="3946680"/>
              <a:ext cx="1685880" cy="5508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154400" y="3986280"/>
              <a:ext cx="1139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154400" y="418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7840" y="4160880"/>
              <a:ext cx="141480" cy="119520"/>
            </a:xfrm>
            <a:custGeom>
              <a:avLst/>
              <a:gdLst/>
              <a:ahLst/>
              <a:rect l="0" t="0" r="r" b="b"/>
              <a:pathLst>
                <a:path w="393" h="332">
                  <a:moveTo>
                    <a:pt x="39" y="172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6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93" y="172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32120" y="2073240"/>
              <a:ext cx="140040" cy="119520"/>
            </a:xfrm>
            <a:custGeom>
              <a:avLst/>
              <a:gdLst/>
              <a:ahLst/>
              <a:rect l="0" t="0" r="r" b="b"/>
              <a:pathLst>
                <a:path w="389" h="332">
                  <a:moveTo>
                    <a:pt x="39" y="164"/>
                  </a:moveTo>
                  <a:lnTo>
                    <a:pt x="39" y="190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9" y="164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1920" y="10382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8000" y="995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149960" y="1036800"/>
              <a:ext cx="1050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wag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1920" y="14288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13860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873840" y="142560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inventor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920" y="1803240"/>
              <a:ext cx="2238480" cy="2746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0" y="1760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7047000" y="1798560"/>
              <a:ext cx="1244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expen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41920" y="218592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14164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121520" y="2181240"/>
              <a:ext cx="1104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intere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41920" y="2565360"/>
              <a:ext cx="2238480" cy="277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8000" y="252396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188120" y="2562120"/>
              <a:ext cx="981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tax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1920" y="295416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88000" y="2913120"/>
              <a:ext cx="2238480" cy="2779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611760" y="295272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3352680"/>
              <a:ext cx="2133720" cy="585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8000" y="3346560"/>
              <a:ext cx="2181240" cy="546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6597720" y="3352680"/>
              <a:ext cx="1928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597720" y="3505320"/>
              <a:ext cx="2084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 long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597720" y="3657600"/>
              <a:ext cx="903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 asse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41920" y="4013280"/>
              <a:ext cx="216684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8000" y="3970440"/>
              <a:ext cx="2181240" cy="531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585120" y="3951360"/>
              <a:ext cx="2144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long- 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585120" y="411480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585120" y="427680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1920" y="4668840"/>
              <a:ext cx="2193840" cy="264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8000" y="4627440"/>
              <a:ext cx="2181240" cy="25560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129440" y="4646520"/>
              <a:ext cx="1096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ake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41920" y="5114880"/>
              <a:ext cx="2238480" cy="385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5072040"/>
              <a:ext cx="2238480" cy="385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858000" y="5105520"/>
              <a:ext cx="1608120" cy="42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cquire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858000" y="525780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1920" y="5621400"/>
              <a:ext cx="2238480" cy="249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8000" y="5578560"/>
              <a:ext cx="2238480" cy="250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155000" y="5597640"/>
              <a:ext cx="1042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pay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1920" y="5977080"/>
              <a:ext cx="2238480" cy="2952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88000" y="5935680"/>
              <a:ext cx="2238480" cy="29376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7051680" y="5954760"/>
              <a:ext cx="12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dividen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6520" y="566424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48"/>
                  </a:lnTo>
                  <a:lnTo>
                    <a:pt x="30" y="266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520" y="522144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5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62"/>
                  </a:lnTo>
                  <a:lnTo>
                    <a:pt x="26" y="270"/>
                  </a:lnTo>
                  <a:lnTo>
                    <a:pt x="17" y="279"/>
                  </a:lnTo>
                  <a:lnTo>
                    <a:pt x="13" y="293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4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380" y="15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02"/>
                  </a:lnTo>
                  <a:lnTo>
                    <a:pt x="39" y="128"/>
                  </a:lnTo>
                  <a:lnTo>
                    <a:pt x="39" y="15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520" y="603396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9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13" y="319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7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6520" y="416088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52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6520" y="3562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57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39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6520" y="298440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102"/>
                  </a:lnTo>
                  <a:lnTo>
                    <a:pt x="39" y="124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6520" y="2600280"/>
              <a:ext cx="136800" cy="120960"/>
            </a:xfrm>
            <a:custGeom>
              <a:avLst/>
              <a:gdLst/>
              <a:ahLst/>
              <a:rect l="0" t="0" r="r" b="b"/>
              <a:pathLst>
                <a:path w="380" h="336">
                  <a:moveTo>
                    <a:pt x="39" y="167"/>
                  </a:moveTo>
                  <a:lnTo>
                    <a:pt x="39" y="195"/>
                  </a:lnTo>
                  <a:lnTo>
                    <a:pt x="39" y="221"/>
                  </a:lnTo>
                  <a:lnTo>
                    <a:pt x="39" y="243"/>
                  </a:lnTo>
                  <a:lnTo>
                    <a:pt x="30" y="256"/>
                  </a:lnTo>
                  <a:lnTo>
                    <a:pt x="30" y="283"/>
                  </a:lnTo>
                  <a:lnTo>
                    <a:pt x="26" y="283"/>
                  </a:lnTo>
                  <a:lnTo>
                    <a:pt x="17" y="300"/>
                  </a:lnTo>
                  <a:lnTo>
                    <a:pt x="13" y="309"/>
                  </a:lnTo>
                  <a:lnTo>
                    <a:pt x="13" y="314"/>
                  </a:lnTo>
                  <a:lnTo>
                    <a:pt x="13" y="322"/>
                  </a:lnTo>
                  <a:lnTo>
                    <a:pt x="4" y="331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380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52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9"/>
                  </a:lnTo>
                  <a:lnTo>
                    <a:pt x="39" y="136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6520" y="2225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9"/>
                  </a:lnTo>
                  <a:lnTo>
                    <a:pt x="30" y="253"/>
                  </a:lnTo>
                  <a:lnTo>
                    <a:pt x="30" y="275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6520" y="184788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9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0"/>
                  </a:lnTo>
                  <a:lnTo>
                    <a:pt x="30" y="240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4" y="319"/>
                  </a:lnTo>
                  <a:lnTo>
                    <a:pt x="0" y="319"/>
                  </a:lnTo>
                  <a:lnTo>
                    <a:pt x="380" y="15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7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59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6520" y="1461960"/>
              <a:ext cx="136800" cy="117720"/>
            </a:xfrm>
            <a:custGeom>
              <a:avLst/>
              <a:gdLst/>
              <a:ahLst/>
              <a:rect l="0" t="0" r="r" b="b"/>
              <a:pathLst>
                <a:path w="380" h="327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2"/>
                  </a:lnTo>
                  <a:lnTo>
                    <a:pt x="30" y="274"/>
                  </a:lnTo>
                  <a:lnTo>
                    <a:pt x="26" y="283"/>
                  </a:lnTo>
                  <a:lnTo>
                    <a:pt x="17" y="292"/>
                  </a:lnTo>
                  <a:lnTo>
                    <a:pt x="13" y="305"/>
                  </a:lnTo>
                  <a:lnTo>
                    <a:pt x="13" y="318"/>
                  </a:lnTo>
                  <a:lnTo>
                    <a:pt x="4" y="318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4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520" y="1082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8"/>
                  </a:moveTo>
                  <a:lnTo>
                    <a:pt x="39" y="186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66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0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0" y="70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6520" y="467676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0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79"/>
                  </a:lnTo>
                  <a:lnTo>
                    <a:pt x="17" y="288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13" y="315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1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24200" y="5653080"/>
              <a:ext cx="140040" cy="122760"/>
            </a:xfrm>
            <a:custGeom>
              <a:avLst/>
              <a:gdLst/>
              <a:ahLst/>
              <a:rect l="0" t="0" r="r" b="b"/>
              <a:pathLst>
                <a:path w="389" h="341">
                  <a:moveTo>
                    <a:pt x="39" y="168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26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7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9" y="168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608120" y="401760"/>
            <a:ext cx="6757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transactions involve only long-term assets, long-term liabilities, or stockholders’ equity in significant investing and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not reflected on the statement of cash flows because they do not involve either cash inflows or 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71600" y="457200"/>
            <a:ext cx="70786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2133720"/>
            <a:ext cx="712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determined that they should be disclosed in a separate schedule as part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3880" y="838080"/>
            <a:ext cx="578628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noncash investing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do not produce cash flow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they be disclo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involve activiti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ght be important to the reader. Als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y noncash transactions involve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imultaneous inflow and outflow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and will require cash flows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10280" y="228600"/>
            <a:ext cx="1827360" cy="1827360"/>
            <a:chOff x="7010280" y="228600"/>
            <a:chExt cx="1827360" cy="1827360"/>
          </a:xfrm>
        </p:grpSpPr>
        <p:sp>
          <p:nvSpPr>
            <p:cNvPr id="288" name=""/>
            <p:cNvSpPr/>
            <p:nvPr/>
          </p:nvSpPr>
          <p:spPr>
            <a:xfrm>
              <a:off x="701532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1"/>
                  </a:lnTo>
                  <a:lnTo>
                    <a:pt x="308" y="931"/>
                  </a:lnTo>
                  <a:lnTo>
                    <a:pt x="26" y="1338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4"/>
                  </a:lnTo>
                  <a:lnTo>
                    <a:pt x="427" y="1248"/>
                  </a:lnTo>
                  <a:lnTo>
                    <a:pt x="396" y="1408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2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49"/>
                  </a:lnTo>
                  <a:lnTo>
                    <a:pt x="966" y="1757"/>
                  </a:lnTo>
                  <a:lnTo>
                    <a:pt x="1024" y="1699"/>
                  </a:lnTo>
                  <a:lnTo>
                    <a:pt x="1050" y="1284"/>
                  </a:lnTo>
                  <a:lnTo>
                    <a:pt x="1231" y="900"/>
                  </a:lnTo>
                  <a:lnTo>
                    <a:pt x="1191" y="671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5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8828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3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37520" y="1208160"/>
              <a:ext cx="327240" cy="278280"/>
            </a:xfrm>
            <a:custGeom>
              <a:avLst/>
              <a:gdLst/>
              <a:ahLst/>
              <a:rect l="0" t="0" r="r" b="b"/>
              <a:pathLst>
                <a:path w="909" h="773">
                  <a:moveTo>
                    <a:pt x="374" y="0"/>
                  </a:moveTo>
                  <a:lnTo>
                    <a:pt x="374" y="127"/>
                  </a:lnTo>
                  <a:lnTo>
                    <a:pt x="405" y="234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56"/>
                  </a:lnTo>
                  <a:lnTo>
                    <a:pt x="583" y="773"/>
                  </a:lnTo>
                  <a:lnTo>
                    <a:pt x="171" y="601"/>
                  </a:lnTo>
                  <a:lnTo>
                    <a:pt x="0" y="305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69280" y="892080"/>
              <a:ext cx="457560" cy="613080"/>
            </a:xfrm>
            <a:custGeom>
              <a:avLst/>
              <a:gdLst/>
              <a:ahLst/>
              <a:rect l="0" t="0" r="r" b="b"/>
              <a:pathLst>
                <a:path w="1271" h="1703">
                  <a:moveTo>
                    <a:pt x="114" y="723"/>
                  </a:moveTo>
                  <a:lnTo>
                    <a:pt x="0" y="846"/>
                  </a:lnTo>
                  <a:lnTo>
                    <a:pt x="26" y="1121"/>
                  </a:lnTo>
                  <a:lnTo>
                    <a:pt x="202" y="1253"/>
                  </a:lnTo>
                  <a:lnTo>
                    <a:pt x="216" y="1672"/>
                  </a:lnTo>
                  <a:lnTo>
                    <a:pt x="396" y="1672"/>
                  </a:lnTo>
                  <a:lnTo>
                    <a:pt x="383" y="1315"/>
                  </a:lnTo>
                  <a:lnTo>
                    <a:pt x="515" y="1685"/>
                  </a:lnTo>
                  <a:lnTo>
                    <a:pt x="604" y="1703"/>
                  </a:lnTo>
                  <a:lnTo>
                    <a:pt x="666" y="1579"/>
                  </a:lnTo>
                  <a:lnTo>
                    <a:pt x="680" y="1341"/>
                  </a:lnTo>
                  <a:lnTo>
                    <a:pt x="874" y="1566"/>
                  </a:lnTo>
                  <a:lnTo>
                    <a:pt x="953" y="1548"/>
                  </a:lnTo>
                  <a:lnTo>
                    <a:pt x="935" y="1394"/>
                  </a:lnTo>
                  <a:lnTo>
                    <a:pt x="860" y="1178"/>
                  </a:lnTo>
                  <a:lnTo>
                    <a:pt x="785" y="1041"/>
                  </a:lnTo>
                  <a:lnTo>
                    <a:pt x="812" y="940"/>
                  </a:lnTo>
                  <a:lnTo>
                    <a:pt x="860" y="957"/>
                  </a:lnTo>
                  <a:lnTo>
                    <a:pt x="1037" y="1178"/>
                  </a:lnTo>
                  <a:lnTo>
                    <a:pt x="1231" y="1235"/>
                  </a:lnTo>
                  <a:lnTo>
                    <a:pt x="1271" y="1165"/>
                  </a:lnTo>
                  <a:lnTo>
                    <a:pt x="1244" y="1050"/>
                  </a:lnTo>
                  <a:lnTo>
                    <a:pt x="891" y="709"/>
                  </a:lnTo>
                  <a:lnTo>
                    <a:pt x="604" y="604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58"/>
                  </a:lnTo>
                  <a:lnTo>
                    <a:pt x="202" y="533"/>
                  </a:lnTo>
                  <a:lnTo>
                    <a:pt x="154" y="657"/>
                  </a:lnTo>
                  <a:lnTo>
                    <a:pt x="114" y="72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83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4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4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0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55040" y="1012680"/>
              <a:ext cx="457560" cy="938520"/>
            </a:xfrm>
            <a:custGeom>
              <a:avLst/>
              <a:gdLst/>
              <a:ahLst/>
              <a:rect l="0" t="0" r="r" b="b"/>
              <a:pathLst>
                <a:path w="1271" h="2607">
                  <a:moveTo>
                    <a:pt x="260" y="136"/>
                  </a:moveTo>
                  <a:lnTo>
                    <a:pt x="440" y="264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94"/>
                  </a:lnTo>
                  <a:lnTo>
                    <a:pt x="1024" y="2355"/>
                  </a:lnTo>
                  <a:lnTo>
                    <a:pt x="542" y="2607"/>
                  </a:lnTo>
                  <a:lnTo>
                    <a:pt x="171" y="2470"/>
                  </a:lnTo>
                  <a:lnTo>
                    <a:pt x="171" y="1764"/>
                  </a:lnTo>
                  <a:lnTo>
                    <a:pt x="0" y="1080"/>
                  </a:lnTo>
                  <a:lnTo>
                    <a:pt x="171" y="264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556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7"/>
                  </a:lnTo>
                  <a:lnTo>
                    <a:pt x="433" y="446"/>
                  </a:lnTo>
                  <a:lnTo>
                    <a:pt x="433" y="459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59"/>
                  </a:lnTo>
                  <a:lnTo>
                    <a:pt x="1130" y="336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101"/>
                  </a:lnTo>
                  <a:lnTo>
                    <a:pt x="697" y="101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90040" y="1187280"/>
              <a:ext cx="136800" cy="708480"/>
            </a:xfrm>
            <a:custGeom>
              <a:avLst/>
              <a:gdLst/>
              <a:ahLst/>
              <a:rect l="0" t="0" r="r" b="b"/>
              <a:pathLst>
                <a:path w="380" h="1968">
                  <a:moveTo>
                    <a:pt x="195" y="8"/>
                  </a:moveTo>
                  <a:lnTo>
                    <a:pt x="66" y="101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27"/>
                  </a:lnTo>
                  <a:lnTo>
                    <a:pt x="92" y="1381"/>
                  </a:lnTo>
                  <a:lnTo>
                    <a:pt x="92" y="1571"/>
                  </a:lnTo>
                  <a:lnTo>
                    <a:pt x="44" y="1712"/>
                  </a:lnTo>
                  <a:lnTo>
                    <a:pt x="243" y="1968"/>
                  </a:lnTo>
                  <a:lnTo>
                    <a:pt x="367" y="1589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6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850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3"/>
                  </a:moveTo>
                  <a:lnTo>
                    <a:pt x="123" y="182"/>
                  </a:lnTo>
                  <a:lnTo>
                    <a:pt x="243" y="165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6620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08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43"/>
                  </a:lnTo>
                  <a:lnTo>
                    <a:pt x="591" y="450"/>
                  </a:lnTo>
                  <a:lnTo>
                    <a:pt x="552" y="402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58" y="963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63"/>
                  </a:lnTo>
                  <a:lnTo>
                    <a:pt x="613" y="870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795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2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9"/>
                  </a:lnTo>
                  <a:lnTo>
                    <a:pt x="931" y="494"/>
                  </a:lnTo>
                  <a:lnTo>
                    <a:pt x="1064" y="477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6"/>
                  </a:lnTo>
                  <a:lnTo>
                    <a:pt x="1117" y="680"/>
                  </a:lnTo>
                  <a:lnTo>
                    <a:pt x="1108" y="795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3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812880"/>
              <a:ext cx="154440" cy="71640"/>
            </a:xfrm>
            <a:custGeom>
              <a:avLst/>
              <a:gdLst/>
              <a:ahLst/>
              <a:rect l="0" t="0" r="r" b="b"/>
              <a:pathLst>
                <a:path w="429" h="199">
                  <a:moveTo>
                    <a:pt x="0" y="0"/>
                  </a:moveTo>
                  <a:lnTo>
                    <a:pt x="70" y="92"/>
                  </a:lnTo>
                  <a:lnTo>
                    <a:pt x="256" y="92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92"/>
                  </a:lnTo>
                  <a:lnTo>
                    <a:pt x="239" y="199"/>
                  </a:lnTo>
                  <a:lnTo>
                    <a:pt x="142" y="199"/>
                  </a:lnTo>
                  <a:lnTo>
                    <a:pt x="92" y="159"/>
                  </a:lnTo>
                  <a:lnTo>
                    <a:pt x="39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7160" y="698400"/>
              <a:ext cx="233640" cy="375120"/>
            </a:xfrm>
            <a:custGeom>
              <a:avLst/>
              <a:gdLst/>
              <a:ahLst/>
              <a:rect l="0" t="0" r="r" b="b"/>
              <a:pathLst>
                <a:path w="649" h="1042">
                  <a:moveTo>
                    <a:pt x="649" y="74"/>
                  </a:moveTo>
                  <a:lnTo>
                    <a:pt x="649" y="88"/>
                  </a:lnTo>
                  <a:lnTo>
                    <a:pt x="534" y="198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5"/>
                  </a:lnTo>
                  <a:lnTo>
                    <a:pt x="336" y="870"/>
                  </a:lnTo>
                  <a:lnTo>
                    <a:pt x="411" y="1042"/>
                  </a:lnTo>
                  <a:lnTo>
                    <a:pt x="336" y="919"/>
                  </a:lnTo>
                  <a:lnTo>
                    <a:pt x="304" y="791"/>
                  </a:lnTo>
                  <a:lnTo>
                    <a:pt x="251" y="441"/>
                  </a:lnTo>
                  <a:lnTo>
                    <a:pt x="198" y="464"/>
                  </a:lnTo>
                  <a:lnTo>
                    <a:pt x="136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22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24"/>
                  </a:lnTo>
                  <a:lnTo>
                    <a:pt x="127" y="314"/>
                  </a:lnTo>
                  <a:lnTo>
                    <a:pt x="167" y="292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088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9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5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6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8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9"/>
                  </a:lnTo>
                  <a:lnTo>
                    <a:pt x="1166" y="606"/>
                  </a:lnTo>
                  <a:lnTo>
                    <a:pt x="1311" y="557"/>
                  </a:lnTo>
                  <a:lnTo>
                    <a:pt x="1205" y="499"/>
                  </a:lnTo>
                  <a:lnTo>
                    <a:pt x="1452" y="490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90"/>
                  </a:lnTo>
                  <a:lnTo>
                    <a:pt x="0" y="450"/>
                  </a:lnTo>
                  <a:lnTo>
                    <a:pt x="30" y="606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1760" y="368280"/>
              <a:ext cx="147960" cy="78120"/>
            </a:xfrm>
            <a:custGeom>
              <a:avLst/>
              <a:gdLst/>
              <a:ahLst/>
              <a:rect l="0" t="0" r="r" b="b"/>
              <a:pathLst>
                <a:path w="411" h="217">
                  <a:moveTo>
                    <a:pt x="0" y="217"/>
                  </a:moveTo>
                  <a:lnTo>
                    <a:pt x="154" y="0"/>
                  </a:lnTo>
                  <a:lnTo>
                    <a:pt x="154" y="142"/>
                  </a:lnTo>
                  <a:lnTo>
                    <a:pt x="208" y="83"/>
                  </a:lnTo>
                  <a:lnTo>
                    <a:pt x="256" y="168"/>
                  </a:lnTo>
                  <a:lnTo>
                    <a:pt x="411" y="203"/>
                  </a:lnTo>
                  <a:lnTo>
                    <a:pt x="247" y="177"/>
                  </a:lnTo>
                  <a:lnTo>
                    <a:pt x="198" y="128"/>
                  </a:lnTo>
                  <a:lnTo>
                    <a:pt x="127" y="177"/>
                  </a:lnTo>
                  <a:lnTo>
                    <a:pt x="127" y="111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7720" y="90504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3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199"/>
                  </a:lnTo>
                  <a:lnTo>
                    <a:pt x="420" y="159"/>
                  </a:lnTo>
                  <a:lnTo>
                    <a:pt x="353" y="234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5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49" y="146"/>
                  </a:lnTo>
                  <a:lnTo>
                    <a:pt x="269" y="133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9" y="168"/>
                  </a:lnTo>
                  <a:lnTo>
                    <a:pt x="0" y="244"/>
                  </a:lnTo>
                  <a:lnTo>
                    <a:pt x="4" y="84"/>
                  </a:lnTo>
                  <a:lnTo>
                    <a:pt x="52" y="0"/>
                  </a:lnTo>
                  <a:lnTo>
                    <a:pt x="92" y="84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54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8"/>
                  </a:lnTo>
                  <a:lnTo>
                    <a:pt x="972" y="392"/>
                  </a:lnTo>
                  <a:lnTo>
                    <a:pt x="883" y="507"/>
                  </a:lnTo>
                  <a:lnTo>
                    <a:pt x="790" y="524"/>
                  </a:lnTo>
                  <a:lnTo>
                    <a:pt x="768" y="524"/>
                  </a:lnTo>
                  <a:lnTo>
                    <a:pt x="768" y="821"/>
                  </a:lnTo>
                  <a:lnTo>
                    <a:pt x="808" y="1037"/>
                  </a:lnTo>
                  <a:lnTo>
                    <a:pt x="808" y="1213"/>
                  </a:lnTo>
                  <a:lnTo>
                    <a:pt x="649" y="1385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8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8"/>
                  </a:lnTo>
                  <a:lnTo>
                    <a:pt x="119" y="1213"/>
                  </a:lnTo>
                  <a:lnTo>
                    <a:pt x="202" y="1284"/>
                  </a:lnTo>
                  <a:lnTo>
                    <a:pt x="371" y="1297"/>
                  </a:lnTo>
                  <a:lnTo>
                    <a:pt x="525" y="1222"/>
                  </a:lnTo>
                  <a:lnTo>
                    <a:pt x="605" y="1138"/>
                  </a:lnTo>
                  <a:lnTo>
                    <a:pt x="693" y="984"/>
                  </a:lnTo>
                  <a:lnTo>
                    <a:pt x="706" y="803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8"/>
                  </a:lnTo>
                  <a:lnTo>
                    <a:pt x="1016" y="97"/>
                  </a:lnTo>
                  <a:lnTo>
                    <a:pt x="1003" y="35"/>
                  </a:lnTo>
                  <a:lnTo>
                    <a:pt x="954" y="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6440" y="1117440"/>
              <a:ext cx="306720" cy="501840"/>
            </a:xfrm>
            <a:custGeom>
              <a:avLst/>
              <a:gdLst/>
              <a:ahLst/>
              <a:rect l="0" t="0" r="r" b="b"/>
              <a:pathLst>
                <a:path w="852" h="1394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4"/>
                  </a:lnTo>
                  <a:lnTo>
                    <a:pt x="561" y="485"/>
                  </a:lnTo>
                  <a:lnTo>
                    <a:pt x="569" y="590"/>
                  </a:lnTo>
                  <a:lnTo>
                    <a:pt x="680" y="577"/>
                  </a:lnTo>
                  <a:lnTo>
                    <a:pt x="812" y="665"/>
                  </a:lnTo>
                  <a:lnTo>
                    <a:pt x="852" y="781"/>
                  </a:lnTo>
                  <a:lnTo>
                    <a:pt x="852" y="975"/>
                  </a:lnTo>
                  <a:lnTo>
                    <a:pt x="680" y="1271"/>
                  </a:lnTo>
                  <a:lnTo>
                    <a:pt x="618" y="1394"/>
                  </a:lnTo>
                  <a:lnTo>
                    <a:pt x="649" y="1235"/>
                  </a:lnTo>
                  <a:lnTo>
                    <a:pt x="618" y="1169"/>
                  </a:lnTo>
                  <a:lnTo>
                    <a:pt x="516" y="1072"/>
                  </a:lnTo>
                  <a:lnTo>
                    <a:pt x="348" y="949"/>
                  </a:lnTo>
                  <a:lnTo>
                    <a:pt x="552" y="1019"/>
                  </a:lnTo>
                  <a:lnTo>
                    <a:pt x="666" y="1107"/>
                  </a:lnTo>
                  <a:lnTo>
                    <a:pt x="728" y="1099"/>
                  </a:lnTo>
                  <a:lnTo>
                    <a:pt x="763" y="1046"/>
                  </a:lnTo>
                  <a:lnTo>
                    <a:pt x="812" y="904"/>
                  </a:lnTo>
                  <a:lnTo>
                    <a:pt x="799" y="768"/>
                  </a:lnTo>
                  <a:lnTo>
                    <a:pt x="733" y="687"/>
                  </a:lnTo>
                  <a:lnTo>
                    <a:pt x="631" y="665"/>
                  </a:lnTo>
                  <a:lnTo>
                    <a:pt x="516" y="665"/>
                  </a:lnTo>
                  <a:lnTo>
                    <a:pt x="477" y="458"/>
                  </a:lnTo>
                  <a:lnTo>
                    <a:pt x="286" y="388"/>
                  </a:lnTo>
                  <a:lnTo>
                    <a:pt x="286" y="445"/>
                  </a:lnTo>
                  <a:lnTo>
                    <a:pt x="207" y="295"/>
                  </a:lnTo>
                  <a:lnTo>
                    <a:pt x="154" y="61"/>
                  </a:lnTo>
                  <a:lnTo>
                    <a:pt x="83" y="35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45"/>
                  </a:lnTo>
                  <a:lnTo>
                    <a:pt x="176" y="590"/>
                  </a:lnTo>
                  <a:lnTo>
                    <a:pt x="66" y="502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1028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5"/>
                  </a:lnTo>
                  <a:lnTo>
                    <a:pt x="13" y="737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39"/>
                  </a:lnTo>
                  <a:lnTo>
                    <a:pt x="300" y="644"/>
                  </a:lnTo>
                  <a:lnTo>
                    <a:pt x="411" y="525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5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5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88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8"/>
                  </a:lnTo>
                  <a:lnTo>
                    <a:pt x="110" y="631"/>
                  </a:lnTo>
                  <a:lnTo>
                    <a:pt x="331" y="358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59680" y="1565280"/>
              <a:ext cx="125640" cy="195480"/>
            </a:xfrm>
            <a:custGeom>
              <a:avLst/>
              <a:gdLst/>
              <a:ahLst/>
              <a:rect l="0" t="0" r="r" b="b"/>
              <a:pathLst>
                <a:path w="349" h="543">
                  <a:moveTo>
                    <a:pt x="0" y="477"/>
                  </a:moveTo>
                  <a:lnTo>
                    <a:pt x="114" y="340"/>
                  </a:lnTo>
                  <a:lnTo>
                    <a:pt x="136" y="202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94"/>
                  </a:lnTo>
                  <a:lnTo>
                    <a:pt x="349" y="543"/>
                  </a:lnTo>
                  <a:lnTo>
                    <a:pt x="247" y="503"/>
                  </a:lnTo>
                  <a:lnTo>
                    <a:pt x="195" y="305"/>
                  </a:lnTo>
                  <a:lnTo>
                    <a:pt x="114" y="39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3760" y="1577880"/>
              <a:ext cx="82800" cy="171720"/>
            </a:xfrm>
            <a:custGeom>
              <a:avLst/>
              <a:gdLst/>
              <a:ahLst/>
              <a:rect l="0" t="0" r="r" b="b"/>
              <a:pathLst>
                <a:path w="230" h="477">
                  <a:moveTo>
                    <a:pt x="0" y="358"/>
                  </a:moveTo>
                  <a:lnTo>
                    <a:pt x="8" y="180"/>
                  </a:lnTo>
                  <a:lnTo>
                    <a:pt x="57" y="79"/>
                  </a:lnTo>
                  <a:lnTo>
                    <a:pt x="110" y="455"/>
                  </a:lnTo>
                  <a:lnTo>
                    <a:pt x="181" y="455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77"/>
                  </a:lnTo>
                  <a:lnTo>
                    <a:pt x="92" y="477"/>
                  </a:lnTo>
                  <a:lnTo>
                    <a:pt x="52" y="149"/>
                  </a:lnTo>
                  <a:lnTo>
                    <a:pt x="26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67840" y="895320"/>
              <a:ext cx="200520" cy="464040"/>
            </a:xfrm>
            <a:custGeom>
              <a:avLst/>
              <a:gdLst/>
              <a:ahLst/>
              <a:rect l="0" t="0" r="r" b="b"/>
              <a:pathLst>
                <a:path w="557" h="1289">
                  <a:moveTo>
                    <a:pt x="146" y="702"/>
                  </a:moveTo>
                  <a:lnTo>
                    <a:pt x="190" y="494"/>
                  </a:lnTo>
                  <a:lnTo>
                    <a:pt x="375" y="446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2"/>
                  </a:lnTo>
                  <a:lnTo>
                    <a:pt x="208" y="534"/>
                  </a:lnTo>
                  <a:lnTo>
                    <a:pt x="177" y="702"/>
                  </a:lnTo>
                  <a:lnTo>
                    <a:pt x="247" y="702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6"/>
                  </a:lnTo>
                  <a:lnTo>
                    <a:pt x="225" y="1289"/>
                  </a:lnTo>
                  <a:lnTo>
                    <a:pt x="30" y="1108"/>
                  </a:lnTo>
                  <a:lnTo>
                    <a:pt x="0" y="957"/>
                  </a:lnTo>
                  <a:lnTo>
                    <a:pt x="13" y="812"/>
                  </a:lnTo>
                  <a:lnTo>
                    <a:pt x="83" y="706"/>
                  </a:lnTo>
                  <a:lnTo>
                    <a:pt x="146" y="7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0248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5"/>
                  </a:lnTo>
                  <a:lnTo>
                    <a:pt x="330" y="141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697"/>
                  </a:lnTo>
                  <a:lnTo>
                    <a:pt x="927" y="1091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8"/>
                  </a:lnTo>
                  <a:lnTo>
                    <a:pt x="512" y="958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21"/>
                  </a:lnTo>
                  <a:lnTo>
                    <a:pt x="171" y="684"/>
                  </a:lnTo>
                  <a:lnTo>
                    <a:pt x="180" y="591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4236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6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71" y="264"/>
                  </a:lnTo>
                  <a:lnTo>
                    <a:pt x="154" y="627"/>
                  </a:lnTo>
                  <a:lnTo>
                    <a:pt x="83" y="671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3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896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9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8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23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4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66"/>
                  </a:lnTo>
                  <a:lnTo>
                    <a:pt x="467" y="2660"/>
                  </a:lnTo>
                  <a:lnTo>
                    <a:pt x="648" y="2686"/>
                  </a:lnTo>
                  <a:lnTo>
                    <a:pt x="745" y="2585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6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58"/>
                  </a:lnTo>
                  <a:lnTo>
                    <a:pt x="3396" y="1358"/>
                  </a:lnTo>
                  <a:lnTo>
                    <a:pt x="3339" y="1424"/>
                  </a:lnTo>
                  <a:lnTo>
                    <a:pt x="3277" y="1437"/>
                  </a:lnTo>
                  <a:lnTo>
                    <a:pt x="3206" y="1358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64"/>
                  </a:lnTo>
                  <a:lnTo>
                    <a:pt x="2924" y="749"/>
                  </a:lnTo>
                  <a:lnTo>
                    <a:pt x="3012" y="657"/>
                  </a:lnTo>
                  <a:lnTo>
                    <a:pt x="3004" y="480"/>
                  </a:lnTo>
                  <a:lnTo>
                    <a:pt x="3004" y="352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8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0"/>
                  </a:lnTo>
                  <a:lnTo>
                    <a:pt x="1905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5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42"/>
                  </a:lnTo>
                  <a:lnTo>
                    <a:pt x="1327" y="2069"/>
                  </a:lnTo>
                  <a:lnTo>
                    <a:pt x="1287" y="1813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696"/>
                  </a:lnTo>
                  <a:lnTo>
                    <a:pt x="1296" y="590"/>
                  </a:lnTo>
                  <a:lnTo>
                    <a:pt x="1269" y="427"/>
                  </a:lnTo>
                  <a:lnTo>
                    <a:pt x="1269" y="308"/>
                  </a:lnTo>
                  <a:lnTo>
                    <a:pt x="1287" y="264"/>
                  </a:lnTo>
                  <a:lnTo>
                    <a:pt x="1269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356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3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4"/>
                  </a:lnTo>
                  <a:lnTo>
                    <a:pt x="0" y="763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2" y="1407"/>
                  </a:lnTo>
                  <a:lnTo>
                    <a:pt x="92" y="1545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5"/>
                  </a:lnTo>
                  <a:lnTo>
                    <a:pt x="375" y="1209"/>
                  </a:lnTo>
                  <a:lnTo>
                    <a:pt x="292" y="1002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7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7"/>
                  </a:lnTo>
                  <a:lnTo>
                    <a:pt x="105" y="1332"/>
                  </a:lnTo>
                  <a:lnTo>
                    <a:pt x="52" y="1076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3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407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0"/>
                  </a:lnTo>
                  <a:lnTo>
                    <a:pt x="321" y="233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8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08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1"/>
                  </a:lnTo>
                  <a:lnTo>
                    <a:pt x="547" y="70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468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6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90920" y="281952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43000" y="99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990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(CGE) is the ability of a company to generate cash from its current or continu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measures of C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3276720"/>
            <a:ext cx="7494480" cy="3030480"/>
            <a:chOff x="1066680" y="3276720"/>
            <a:chExt cx="7494480" cy="3030480"/>
          </a:xfrm>
        </p:grpSpPr>
        <p:sp>
          <p:nvSpPr>
            <p:cNvPr id="324" name=""/>
            <p:cNvSpPr txBox="1"/>
            <p:nvPr/>
          </p:nvSpPr>
          <p:spPr>
            <a:xfrm>
              <a:off x="1066680" y="3886200"/>
              <a:ext cx="3610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1. Cash Flow Yield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724280" y="3276720"/>
              <a:ext cx="38368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Inco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00600" y="4724280"/>
              <a:ext cx="9716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24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343400" y="5791320"/>
              <a:ext cx="21081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1.5 tim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43400" y="48769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35040" y="2193840"/>
            <a:ext cx="8277120" cy="3427560"/>
            <a:chOff x="635040" y="2193840"/>
            <a:chExt cx="8277120" cy="3427560"/>
          </a:xfrm>
        </p:grpSpPr>
        <p:sp>
          <p:nvSpPr>
            <p:cNvPr id="330" name=""/>
            <p:cNvSpPr txBox="1"/>
            <p:nvPr/>
          </p:nvSpPr>
          <p:spPr>
            <a:xfrm>
              <a:off x="635040" y="2743200"/>
              <a:ext cx="4321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2. Cash Flows to Sale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976640" y="2193840"/>
              <a:ext cx="39355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S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105520" y="3809880"/>
              <a:ext cx="12682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8,96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572000" y="5105520"/>
              <a:ext cx="1693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 4.1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572000" y="39625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685800" y="1752480"/>
            <a:ext cx="8140680" cy="3505320"/>
            <a:chOff x="685800" y="1752480"/>
            <a:chExt cx="8140680" cy="3505320"/>
          </a:xfrm>
        </p:grpSpPr>
        <p:sp>
          <p:nvSpPr>
            <p:cNvPr id="337" name=""/>
            <p:cNvSpPr txBox="1"/>
            <p:nvPr/>
          </p:nvSpPr>
          <p:spPr>
            <a:xfrm>
              <a:off x="685800" y="2438280"/>
              <a:ext cx="4724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3. Cash Flows to Asset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257800" y="1752480"/>
              <a:ext cx="3568680" cy="14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Average Total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5257800" y="3505320"/>
              <a:ext cx="35402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($4,018 + $3,207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4876920" y="4741920"/>
              <a:ext cx="1792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10.2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876920" y="365760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3716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(a) investing activities and (b)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CF) is the amount of cash that remains after deducting the funds the company must commit to continue operating at its planne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CF = Net Cash Flows from Operating Activities -  Dividends - Purchases of Plant Assets + Sales of Plant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69840" y="1295280"/>
            <a:ext cx="81741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positive, the company has met all of its planned cash commitments and has cash available to reduce debt or exp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negative, the company will have to sell investments, borrow money, or issue stock in the short term to continue at its planned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219320" y="762120"/>
            <a:ext cx="6485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1905120"/>
            <a:ext cx="8010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ratios that measure cash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enerating effici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is the abil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f a company to generate cash from 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rrent or continuing operations. Thre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 that measure cash-gen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fficiency are cash flow yield,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lows to sales, and cash flows to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34320" y="228600"/>
            <a:ext cx="1751400" cy="1675080"/>
            <a:chOff x="6934320" y="228600"/>
            <a:chExt cx="1751400" cy="1675080"/>
          </a:xfrm>
        </p:grpSpPr>
        <p:sp>
          <p:nvSpPr>
            <p:cNvPr id="350" name=""/>
            <p:cNvSpPr/>
            <p:nvPr/>
          </p:nvSpPr>
          <p:spPr>
            <a:xfrm>
              <a:off x="6939000" y="1050840"/>
              <a:ext cx="425880" cy="584640"/>
            </a:xfrm>
            <a:custGeom>
              <a:avLst/>
              <a:gdLst/>
              <a:ahLst/>
              <a:rect l="0" t="0" r="r" b="b"/>
              <a:pathLst>
                <a:path w="1183" h="1624">
                  <a:moveTo>
                    <a:pt x="472" y="0"/>
                  </a:moveTo>
                  <a:lnTo>
                    <a:pt x="411" y="70"/>
                  </a:lnTo>
                  <a:lnTo>
                    <a:pt x="411" y="282"/>
                  </a:lnTo>
                  <a:lnTo>
                    <a:pt x="472" y="437"/>
                  </a:lnTo>
                  <a:lnTo>
                    <a:pt x="543" y="512"/>
                  </a:lnTo>
                  <a:lnTo>
                    <a:pt x="437" y="618"/>
                  </a:lnTo>
                  <a:lnTo>
                    <a:pt x="295" y="852"/>
                  </a:lnTo>
                  <a:lnTo>
                    <a:pt x="22" y="1227"/>
                  </a:lnTo>
                  <a:lnTo>
                    <a:pt x="0" y="1316"/>
                  </a:lnTo>
                  <a:lnTo>
                    <a:pt x="22" y="1391"/>
                  </a:lnTo>
                  <a:lnTo>
                    <a:pt x="110" y="1391"/>
                  </a:lnTo>
                  <a:lnTo>
                    <a:pt x="180" y="1307"/>
                  </a:lnTo>
                  <a:lnTo>
                    <a:pt x="295" y="1094"/>
                  </a:lnTo>
                  <a:lnTo>
                    <a:pt x="367" y="1006"/>
                  </a:lnTo>
                  <a:lnTo>
                    <a:pt x="411" y="1143"/>
                  </a:lnTo>
                  <a:lnTo>
                    <a:pt x="380" y="1294"/>
                  </a:lnTo>
                  <a:lnTo>
                    <a:pt x="264" y="1505"/>
                  </a:lnTo>
                  <a:lnTo>
                    <a:pt x="295" y="1558"/>
                  </a:lnTo>
                  <a:lnTo>
                    <a:pt x="367" y="1540"/>
                  </a:lnTo>
                  <a:lnTo>
                    <a:pt x="512" y="1430"/>
                  </a:lnTo>
                  <a:lnTo>
                    <a:pt x="631" y="1241"/>
                  </a:lnTo>
                  <a:lnTo>
                    <a:pt x="631" y="1571"/>
                  </a:lnTo>
                  <a:lnTo>
                    <a:pt x="772" y="1624"/>
                  </a:lnTo>
                  <a:lnTo>
                    <a:pt x="852" y="1421"/>
                  </a:lnTo>
                  <a:lnTo>
                    <a:pt x="928" y="1611"/>
                  </a:lnTo>
                  <a:lnTo>
                    <a:pt x="985" y="1558"/>
                  </a:lnTo>
                  <a:lnTo>
                    <a:pt x="1011" y="1178"/>
                  </a:lnTo>
                  <a:lnTo>
                    <a:pt x="1183" y="825"/>
                  </a:lnTo>
                  <a:lnTo>
                    <a:pt x="1144" y="618"/>
                  </a:lnTo>
                  <a:lnTo>
                    <a:pt x="1025" y="543"/>
                  </a:lnTo>
                  <a:lnTo>
                    <a:pt x="897" y="552"/>
                  </a:lnTo>
                  <a:lnTo>
                    <a:pt x="852" y="383"/>
                  </a:lnTo>
                  <a:lnTo>
                    <a:pt x="724" y="348"/>
                  </a:lnTo>
                  <a:lnTo>
                    <a:pt x="609" y="295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6120" y="1289160"/>
              <a:ext cx="125640" cy="282960"/>
            </a:xfrm>
            <a:custGeom>
              <a:avLst/>
              <a:gdLst/>
              <a:ahLst/>
              <a:rect l="0" t="0" r="r" b="b"/>
              <a:pathLst>
                <a:path w="349" h="786">
                  <a:moveTo>
                    <a:pt x="177" y="0"/>
                  </a:moveTo>
                  <a:lnTo>
                    <a:pt x="349" y="203"/>
                  </a:lnTo>
                  <a:lnTo>
                    <a:pt x="265" y="645"/>
                  </a:lnTo>
                  <a:lnTo>
                    <a:pt x="0" y="786"/>
                  </a:lnTo>
                  <a:lnTo>
                    <a:pt x="0" y="565"/>
                  </a:lnTo>
                  <a:lnTo>
                    <a:pt x="105" y="336"/>
                  </a:lnTo>
                  <a:lnTo>
                    <a:pt x="177" y="16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0440" y="1125360"/>
              <a:ext cx="313200" cy="255960"/>
            </a:xfrm>
            <a:custGeom>
              <a:avLst/>
              <a:gdLst/>
              <a:ahLst/>
              <a:rect l="0" t="0" r="r" b="b"/>
              <a:pathLst>
                <a:path w="870" h="711">
                  <a:moveTo>
                    <a:pt x="358" y="0"/>
                  </a:moveTo>
                  <a:lnTo>
                    <a:pt x="358" y="114"/>
                  </a:lnTo>
                  <a:lnTo>
                    <a:pt x="389" y="217"/>
                  </a:lnTo>
                  <a:lnTo>
                    <a:pt x="556" y="384"/>
                  </a:lnTo>
                  <a:lnTo>
                    <a:pt x="870" y="481"/>
                  </a:lnTo>
                  <a:lnTo>
                    <a:pt x="826" y="698"/>
                  </a:lnTo>
                  <a:lnTo>
                    <a:pt x="556" y="711"/>
                  </a:lnTo>
                  <a:lnTo>
                    <a:pt x="167" y="557"/>
                  </a:lnTo>
                  <a:lnTo>
                    <a:pt x="0" y="283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6080" y="836640"/>
              <a:ext cx="438480" cy="562320"/>
            </a:xfrm>
            <a:custGeom>
              <a:avLst/>
              <a:gdLst/>
              <a:ahLst/>
              <a:rect l="0" t="0" r="r" b="b"/>
              <a:pathLst>
                <a:path w="1218" h="1562">
                  <a:moveTo>
                    <a:pt x="110" y="661"/>
                  </a:moveTo>
                  <a:lnTo>
                    <a:pt x="0" y="771"/>
                  </a:lnTo>
                  <a:lnTo>
                    <a:pt x="22" y="1028"/>
                  </a:lnTo>
                  <a:lnTo>
                    <a:pt x="194" y="1147"/>
                  </a:lnTo>
                  <a:lnTo>
                    <a:pt x="207" y="1535"/>
                  </a:lnTo>
                  <a:lnTo>
                    <a:pt x="379" y="1535"/>
                  </a:lnTo>
                  <a:lnTo>
                    <a:pt x="366" y="1209"/>
                  </a:lnTo>
                  <a:lnTo>
                    <a:pt x="493" y="1548"/>
                  </a:lnTo>
                  <a:lnTo>
                    <a:pt x="577" y="1562"/>
                  </a:lnTo>
                  <a:lnTo>
                    <a:pt x="640" y="1447"/>
                  </a:lnTo>
                  <a:lnTo>
                    <a:pt x="653" y="1231"/>
                  </a:lnTo>
                  <a:lnTo>
                    <a:pt x="838" y="1434"/>
                  </a:lnTo>
                  <a:lnTo>
                    <a:pt x="913" y="1420"/>
                  </a:lnTo>
                  <a:lnTo>
                    <a:pt x="896" y="1279"/>
                  </a:lnTo>
                  <a:lnTo>
                    <a:pt x="825" y="1081"/>
                  </a:lnTo>
                  <a:lnTo>
                    <a:pt x="755" y="953"/>
                  </a:lnTo>
                  <a:lnTo>
                    <a:pt x="781" y="865"/>
                  </a:lnTo>
                  <a:lnTo>
                    <a:pt x="825" y="878"/>
                  </a:lnTo>
                  <a:lnTo>
                    <a:pt x="997" y="1081"/>
                  </a:lnTo>
                  <a:lnTo>
                    <a:pt x="1178" y="1134"/>
                  </a:lnTo>
                  <a:lnTo>
                    <a:pt x="1218" y="1068"/>
                  </a:lnTo>
                  <a:lnTo>
                    <a:pt x="1191" y="966"/>
                  </a:lnTo>
                  <a:lnTo>
                    <a:pt x="852" y="648"/>
                  </a:lnTo>
                  <a:lnTo>
                    <a:pt x="577" y="551"/>
                  </a:lnTo>
                  <a:lnTo>
                    <a:pt x="546" y="374"/>
                  </a:lnTo>
                  <a:lnTo>
                    <a:pt x="640" y="220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23"/>
                  </a:lnTo>
                  <a:lnTo>
                    <a:pt x="194" y="485"/>
                  </a:lnTo>
                  <a:lnTo>
                    <a:pt x="149" y="599"/>
                  </a:lnTo>
                  <a:lnTo>
                    <a:pt x="110" y="66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16800" y="347760"/>
              <a:ext cx="478080" cy="719640"/>
            </a:xfrm>
            <a:custGeom>
              <a:avLst/>
              <a:gdLst/>
              <a:ahLst/>
              <a:rect l="0" t="0" r="r" b="b"/>
              <a:pathLst>
                <a:path w="1328" h="1999">
                  <a:moveTo>
                    <a:pt x="330" y="277"/>
                  </a:moveTo>
                  <a:lnTo>
                    <a:pt x="233" y="662"/>
                  </a:lnTo>
                  <a:lnTo>
                    <a:pt x="13" y="737"/>
                  </a:lnTo>
                  <a:lnTo>
                    <a:pt x="74" y="856"/>
                  </a:lnTo>
                  <a:lnTo>
                    <a:pt x="0" y="935"/>
                  </a:lnTo>
                  <a:lnTo>
                    <a:pt x="0" y="1072"/>
                  </a:lnTo>
                  <a:lnTo>
                    <a:pt x="105" y="1200"/>
                  </a:lnTo>
                  <a:lnTo>
                    <a:pt x="207" y="1200"/>
                  </a:lnTo>
                  <a:lnTo>
                    <a:pt x="277" y="1646"/>
                  </a:lnTo>
                  <a:lnTo>
                    <a:pt x="361" y="1836"/>
                  </a:lnTo>
                  <a:lnTo>
                    <a:pt x="630" y="1999"/>
                  </a:lnTo>
                  <a:lnTo>
                    <a:pt x="904" y="1973"/>
                  </a:lnTo>
                  <a:lnTo>
                    <a:pt x="1032" y="1646"/>
                  </a:lnTo>
                  <a:lnTo>
                    <a:pt x="1063" y="1138"/>
                  </a:lnTo>
                  <a:lnTo>
                    <a:pt x="1328" y="887"/>
                  </a:lnTo>
                  <a:lnTo>
                    <a:pt x="1315" y="785"/>
                  </a:lnTo>
                  <a:lnTo>
                    <a:pt x="1284" y="737"/>
                  </a:lnTo>
                  <a:lnTo>
                    <a:pt x="1147" y="724"/>
                  </a:lnTo>
                  <a:lnTo>
                    <a:pt x="1191" y="596"/>
                  </a:lnTo>
                  <a:lnTo>
                    <a:pt x="1050" y="508"/>
                  </a:lnTo>
                  <a:lnTo>
                    <a:pt x="988" y="220"/>
                  </a:lnTo>
                  <a:lnTo>
                    <a:pt x="577" y="0"/>
                  </a:lnTo>
                  <a:lnTo>
                    <a:pt x="361" y="202"/>
                  </a:lnTo>
                  <a:lnTo>
                    <a:pt x="330" y="2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51720" y="949320"/>
              <a:ext cx="438480" cy="859320"/>
            </a:xfrm>
            <a:custGeom>
              <a:avLst/>
              <a:gdLst/>
              <a:ahLst/>
              <a:rect l="0" t="0" r="r" b="b"/>
              <a:pathLst>
                <a:path w="1218" h="2387">
                  <a:moveTo>
                    <a:pt x="251" y="123"/>
                  </a:moveTo>
                  <a:lnTo>
                    <a:pt x="423" y="242"/>
                  </a:lnTo>
                  <a:lnTo>
                    <a:pt x="507" y="366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54"/>
                  </a:lnTo>
                  <a:lnTo>
                    <a:pt x="865" y="1553"/>
                  </a:lnTo>
                  <a:lnTo>
                    <a:pt x="979" y="2158"/>
                  </a:lnTo>
                  <a:lnTo>
                    <a:pt x="520" y="2387"/>
                  </a:lnTo>
                  <a:lnTo>
                    <a:pt x="163" y="2259"/>
                  </a:lnTo>
                  <a:lnTo>
                    <a:pt x="163" y="1614"/>
                  </a:lnTo>
                  <a:lnTo>
                    <a:pt x="0" y="993"/>
                  </a:lnTo>
                  <a:lnTo>
                    <a:pt x="163" y="242"/>
                  </a:lnTo>
                  <a:lnTo>
                    <a:pt x="251" y="12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0800" y="252360"/>
              <a:ext cx="410040" cy="227520"/>
            </a:xfrm>
            <a:custGeom>
              <a:avLst/>
              <a:gdLst/>
              <a:ahLst/>
              <a:rect l="0" t="0" r="r" b="b"/>
              <a:pathLst>
                <a:path w="1139" h="632">
                  <a:moveTo>
                    <a:pt x="141" y="606"/>
                  </a:moveTo>
                  <a:lnTo>
                    <a:pt x="309" y="433"/>
                  </a:lnTo>
                  <a:lnTo>
                    <a:pt x="415" y="411"/>
                  </a:lnTo>
                  <a:lnTo>
                    <a:pt x="415" y="424"/>
                  </a:lnTo>
                  <a:lnTo>
                    <a:pt x="468" y="411"/>
                  </a:lnTo>
                  <a:lnTo>
                    <a:pt x="538" y="459"/>
                  </a:lnTo>
                  <a:lnTo>
                    <a:pt x="671" y="487"/>
                  </a:lnTo>
                  <a:lnTo>
                    <a:pt x="781" y="632"/>
                  </a:lnTo>
                  <a:lnTo>
                    <a:pt x="958" y="570"/>
                  </a:lnTo>
                  <a:lnTo>
                    <a:pt x="958" y="500"/>
                  </a:lnTo>
                  <a:lnTo>
                    <a:pt x="1139" y="424"/>
                  </a:lnTo>
                  <a:lnTo>
                    <a:pt x="1086" y="305"/>
                  </a:lnTo>
                  <a:lnTo>
                    <a:pt x="919" y="296"/>
                  </a:lnTo>
                  <a:lnTo>
                    <a:pt x="945" y="164"/>
                  </a:lnTo>
                  <a:lnTo>
                    <a:pt x="799" y="181"/>
                  </a:lnTo>
                  <a:lnTo>
                    <a:pt x="772" y="88"/>
                  </a:lnTo>
                  <a:lnTo>
                    <a:pt x="671" y="88"/>
                  </a:lnTo>
                  <a:lnTo>
                    <a:pt x="600" y="141"/>
                  </a:lnTo>
                  <a:lnTo>
                    <a:pt x="538" y="141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296"/>
                  </a:lnTo>
                  <a:lnTo>
                    <a:pt x="211" y="141"/>
                  </a:lnTo>
                  <a:lnTo>
                    <a:pt x="114" y="217"/>
                  </a:lnTo>
                  <a:lnTo>
                    <a:pt x="88" y="411"/>
                  </a:lnTo>
                  <a:lnTo>
                    <a:pt x="0" y="375"/>
                  </a:lnTo>
                  <a:lnTo>
                    <a:pt x="13" y="500"/>
                  </a:lnTo>
                  <a:lnTo>
                    <a:pt x="141" y="60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82040" y="1108080"/>
              <a:ext cx="130680" cy="649800"/>
            </a:xfrm>
            <a:custGeom>
              <a:avLst/>
              <a:gdLst/>
              <a:ahLst/>
              <a:rect l="0" t="0" r="r" b="b"/>
              <a:pathLst>
                <a:path w="363" h="1805">
                  <a:moveTo>
                    <a:pt x="186" y="8"/>
                  </a:moveTo>
                  <a:lnTo>
                    <a:pt x="61" y="88"/>
                  </a:lnTo>
                  <a:lnTo>
                    <a:pt x="61" y="242"/>
                  </a:lnTo>
                  <a:lnTo>
                    <a:pt x="150" y="291"/>
                  </a:lnTo>
                  <a:lnTo>
                    <a:pt x="35" y="530"/>
                  </a:lnTo>
                  <a:lnTo>
                    <a:pt x="0" y="847"/>
                  </a:lnTo>
                  <a:lnTo>
                    <a:pt x="88" y="1262"/>
                  </a:lnTo>
                  <a:lnTo>
                    <a:pt x="88" y="1439"/>
                  </a:lnTo>
                  <a:lnTo>
                    <a:pt x="44" y="1571"/>
                  </a:lnTo>
                  <a:lnTo>
                    <a:pt x="230" y="1805"/>
                  </a:lnTo>
                  <a:lnTo>
                    <a:pt x="350" y="1452"/>
                  </a:lnTo>
                  <a:lnTo>
                    <a:pt x="350" y="1213"/>
                  </a:lnTo>
                  <a:lnTo>
                    <a:pt x="261" y="988"/>
                  </a:lnTo>
                  <a:lnTo>
                    <a:pt x="217" y="684"/>
                  </a:lnTo>
                  <a:lnTo>
                    <a:pt x="306" y="383"/>
                  </a:lnTo>
                  <a:lnTo>
                    <a:pt x="279" y="264"/>
                  </a:lnTo>
                  <a:lnTo>
                    <a:pt x="363" y="202"/>
                  </a:lnTo>
                  <a:lnTo>
                    <a:pt x="350" y="123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7000" y="888840"/>
              <a:ext cx="105120" cy="59040"/>
            </a:xfrm>
            <a:custGeom>
              <a:avLst/>
              <a:gdLst/>
              <a:ahLst/>
              <a:rect l="0" t="0" r="r" b="b"/>
              <a:pathLst>
                <a:path w="292" h="164">
                  <a:moveTo>
                    <a:pt x="0" y="48"/>
                  </a:moveTo>
                  <a:lnTo>
                    <a:pt x="114" y="164"/>
                  </a:lnTo>
                  <a:lnTo>
                    <a:pt x="234" y="15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588960"/>
              <a:ext cx="130680" cy="127440"/>
            </a:xfrm>
            <a:custGeom>
              <a:avLst/>
              <a:gdLst/>
              <a:ahLst/>
              <a:rect l="0" t="0" r="r" b="b"/>
              <a:pathLst>
                <a:path w="363" h="354">
                  <a:moveTo>
                    <a:pt x="0" y="39"/>
                  </a:moveTo>
                  <a:lnTo>
                    <a:pt x="252" y="354"/>
                  </a:lnTo>
                  <a:lnTo>
                    <a:pt x="363" y="328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1480" y="561960"/>
              <a:ext cx="113040" cy="127440"/>
            </a:xfrm>
            <a:custGeom>
              <a:avLst/>
              <a:gdLst/>
              <a:ahLst/>
              <a:rect l="0" t="0" r="r" b="b"/>
              <a:pathLst>
                <a:path w="314" h="354">
                  <a:moveTo>
                    <a:pt x="0" y="48"/>
                  </a:moveTo>
                  <a:lnTo>
                    <a:pt x="217" y="354"/>
                  </a:lnTo>
                  <a:lnTo>
                    <a:pt x="314" y="275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3560" y="398520"/>
              <a:ext cx="456120" cy="317880"/>
            </a:xfrm>
            <a:custGeom>
              <a:avLst/>
              <a:gdLst/>
              <a:ahLst/>
              <a:rect l="0" t="0" r="r" b="b"/>
              <a:pathLst>
                <a:path w="1267" h="883">
                  <a:moveTo>
                    <a:pt x="583" y="525"/>
                  </a:moveTo>
                  <a:lnTo>
                    <a:pt x="468" y="490"/>
                  </a:lnTo>
                  <a:lnTo>
                    <a:pt x="565" y="415"/>
                  </a:lnTo>
                  <a:lnTo>
                    <a:pt x="530" y="371"/>
                  </a:lnTo>
                  <a:lnTo>
                    <a:pt x="397" y="472"/>
                  </a:lnTo>
                  <a:lnTo>
                    <a:pt x="158" y="499"/>
                  </a:lnTo>
                  <a:lnTo>
                    <a:pt x="0" y="508"/>
                  </a:lnTo>
                  <a:lnTo>
                    <a:pt x="0" y="627"/>
                  </a:lnTo>
                  <a:lnTo>
                    <a:pt x="154" y="879"/>
                  </a:lnTo>
                  <a:lnTo>
                    <a:pt x="189" y="883"/>
                  </a:lnTo>
                  <a:lnTo>
                    <a:pt x="52" y="609"/>
                  </a:lnTo>
                  <a:lnTo>
                    <a:pt x="264" y="525"/>
                  </a:lnTo>
                  <a:lnTo>
                    <a:pt x="397" y="525"/>
                  </a:lnTo>
                  <a:lnTo>
                    <a:pt x="503" y="578"/>
                  </a:lnTo>
                  <a:lnTo>
                    <a:pt x="530" y="653"/>
                  </a:lnTo>
                  <a:lnTo>
                    <a:pt x="530" y="822"/>
                  </a:lnTo>
                  <a:lnTo>
                    <a:pt x="530" y="879"/>
                  </a:lnTo>
                  <a:lnTo>
                    <a:pt x="587" y="800"/>
                  </a:lnTo>
                  <a:lnTo>
                    <a:pt x="587" y="622"/>
                  </a:lnTo>
                  <a:lnTo>
                    <a:pt x="680" y="622"/>
                  </a:lnTo>
                  <a:lnTo>
                    <a:pt x="724" y="822"/>
                  </a:lnTo>
                  <a:lnTo>
                    <a:pt x="772" y="839"/>
                  </a:lnTo>
                  <a:lnTo>
                    <a:pt x="927" y="839"/>
                  </a:lnTo>
                  <a:lnTo>
                    <a:pt x="1082" y="804"/>
                  </a:lnTo>
                  <a:lnTo>
                    <a:pt x="1192" y="729"/>
                  </a:lnTo>
                  <a:lnTo>
                    <a:pt x="1210" y="552"/>
                  </a:lnTo>
                  <a:lnTo>
                    <a:pt x="1267" y="472"/>
                  </a:lnTo>
                  <a:lnTo>
                    <a:pt x="1232" y="428"/>
                  </a:lnTo>
                  <a:lnTo>
                    <a:pt x="1091" y="375"/>
                  </a:lnTo>
                  <a:lnTo>
                    <a:pt x="1069" y="198"/>
                  </a:lnTo>
                  <a:lnTo>
                    <a:pt x="935" y="198"/>
                  </a:lnTo>
                  <a:lnTo>
                    <a:pt x="777" y="0"/>
                  </a:lnTo>
                  <a:lnTo>
                    <a:pt x="922" y="220"/>
                  </a:lnTo>
                  <a:lnTo>
                    <a:pt x="967" y="220"/>
                  </a:lnTo>
                  <a:lnTo>
                    <a:pt x="998" y="371"/>
                  </a:lnTo>
                  <a:lnTo>
                    <a:pt x="816" y="428"/>
                  </a:lnTo>
                  <a:lnTo>
                    <a:pt x="688" y="384"/>
                  </a:lnTo>
                  <a:lnTo>
                    <a:pt x="671" y="428"/>
                  </a:lnTo>
                  <a:lnTo>
                    <a:pt x="737" y="472"/>
                  </a:lnTo>
                  <a:lnTo>
                    <a:pt x="737" y="516"/>
                  </a:lnTo>
                  <a:lnTo>
                    <a:pt x="891" y="450"/>
                  </a:lnTo>
                  <a:lnTo>
                    <a:pt x="1020" y="437"/>
                  </a:lnTo>
                  <a:lnTo>
                    <a:pt x="1161" y="455"/>
                  </a:lnTo>
                  <a:lnTo>
                    <a:pt x="1161" y="481"/>
                  </a:lnTo>
                  <a:lnTo>
                    <a:pt x="1095" y="543"/>
                  </a:lnTo>
                  <a:lnTo>
                    <a:pt x="1069" y="622"/>
                  </a:lnTo>
                  <a:lnTo>
                    <a:pt x="1064" y="729"/>
                  </a:lnTo>
                  <a:lnTo>
                    <a:pt x="980" y="773"/>
                  </a:lnTo>
                  <a:lnTo>
                    <a:pt x="856" y="786"/>
                  </a:lnTo>
                  <a:lnTo>
                    <a:pt x="772" y="786"/>
                  </a:lnTo>
                  <a:lnTo>
                    <a:pt x="741" y="756"/>
                  </a:lnTo>
                  <a:lnTo>
                    <a:pt x="724" y="552"/>
                  </a:lnTo>
                  <a:lnTo>
                    <a:pt x="587" y="552"/>
                  </a:lnTo>
                  <a:lnTo>
                    <a:pt x="583" y="5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0880" y="765000"/>
              <a:ext cx="147960" cy="63720"/>
            </a:xfrm>
            <a:custGeom>
              <a:avLst/>
              <a:gdLst/>
              <a:ahLst/>
              <a:rect l="0" t="0" r="r" b="b"/>
              <a:pathLst>
                <a:path w="411" h="177">
                  <a:moveTo>
                    <a:pt x="0" y="0"/>
                  </a:moveTo>
                  <a:lnTo>
                    <a:pt x="66" y="79"/>
                  </a:lnTo>
                  <a:lnTo>
                    <a:pt x="243" y="7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79"/>
                  </a:lnTo>
                  <a:lnTo>
                    <a:pt x="230" y="177"/>
                  </a:lnTo>
                  <a:lnTo>
                    <a:pt x="136" y="177"/>
                  </a:lnTo>
                  <a:lnTo>
                    <a:pt x="88" y="142"/>
                  </a:lnTo>
                  <a:lnTo>
                    <a:pt x="3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7440" y="660240"/>
              <a:ext cx="222480" cy="343440"/>
            </a:xfrm>
            <a:custGeom>
              <a:avLst/>
              <a:gdLst/>
              <a:ahLst/>
              <a:rect l="0" t="0" r="r" b="b"/>
              <a:pathLst>
                <a:path w="618" h="954">
                  <a:moveTo>
                    <a:pt x="618" y="66"/>
                  </a:moveTo>
                  <a:lnTo>
                    <a:pt x="618" y="83"/>
                  </a:lnTo>
                  <a:lnTo>
                    <a:pt x="508" y="180"/>
                  </a:lnTo>
                  <a:lnTo>
                    <a:pt x="419" y="198"/>
                  </a:lnTo>
                  <a:lnTo>
                    <a:pt x="246" y="171"/>
                  </a:lnTo>
                  <a:lnTo>
                    <a:pt x="277" y="516"/>
                  </a:lnTo>
                  <a:lnTo>
                    <a:pt x="318" y="800"/>
                  </a:lnTo>
                  <a:lnTo>
                    <a:pt x="393" y="954"/>
                  </a:lnTo>
                  <a:lnTo>
                    <a:pt x="318" y="844"/>
                  </a:lnTo>
                  <a:lnTo>
                    <a:pt x="291" y="725"/>
                  </a:lnTo>
                  <a:lnTo>
                    <a:pt x="238" y="402"/>
                  </a:lnTo>
                  <a:lnTo>
                    <a:pt x="189" y="419"/>
                  </a:lnTo>
                  <a:lnTo>
                    <a:pt x="127" y="384"/>
                  </a:lnTo>
                  <a:lnTo>
                    <a:pt x="13" y="216"/>
                  </a:lnTo>
                  <a:lnTo>
                    <a:pt x="0" y="123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4"/>
                  </a:lnTo>
                  <a:lnTo>
                    <a:pt x="44" y="202"/>
                  </a:lnTo>
                  <a:lnTo>
                    <a:pt x="123" y="283"/>
                  </a:lnTo>
                  <a:lnTo>
                    <a:pt x="158" y="265"/>
                  </a:lnTo>
                  <a:lnTo>
                    <a:pt x="158" y="92"/>
                  </a:lnTo>
                  <a:lnTo>
                    <a:pt x="233" y="127"/>
                  </a:lnTo>
                  <a:lnTo>
                    <a:pt x="344" y="154"/>
                  </a:lnTo>
                  <a:lnTo>
                    <a:pt x="450" y="145"/>
                  </a:lnTo>
                  <a:lnTo>
                    <a:pt x="547" y="92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6120" y="388800"/>
              <a:ext cx="66960" cy="182880"/>
            </a:xfrm>
            <a:custGeom>
              <a:avLst/>
              <a:gdLst/>
              <a:ahLst/>
              <a:rect l="0" t="0" r="r" b="b"/>
              <a:pathLst>
                <a:path w="186" h="508">
                  <a:moveTo>
                    <a:pt x="98" y="508"/>
                  </a:moveTo>
                  <a:lnTo>
                    <a:pt x="186" y="207"/>
                  </a:lnTo>
                  <a:lnTo>
                    <a:pt x="22" y="101"/>
                  </a:lnTo>
                  <a:lnTo>
                    <a:pt x="0" y="0"/>
                  </a:lnTo>
                  <a:lnTo>
                    <a:pt x="13" y="123"/>
                  </a:lnTo>
                  <a:lnTo>
                    <a:pt x="66" y="171"/>
                  </a:lnTo>
                  <a:lnTo>
                    <a:pt x="74" y="327"/>
                  </a:lnTo>
                  <a:lnTo>
                    <a:pt x="115" y="384"/>
                  </a:lnTo>
                  <a:lnTo>
                    <a:pt x="98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4320" y="228600"/>
              <a:ext cx="500400" cy="240120"/>
            </a:xfrm>
            <a:custGeom>
              <a:avLst/>
              <a:gdLst/>
              <a:ahLst/>
              <a:rect l="0" t="0" r="r" b="b"/>
              <a:pathLst>
                <a:path w="1390" h="667">
                  <a:moveTo>
                    <a:pt x="13" y="450"/>
                  </a:moveTo>
                  <a:lnTo>
                    <a:pt x="132" y="522"/>
                  </a:lnTo>
                  <a:lnTo>
                    <a:pt x="119" y="433"/>
                  </a:lnTo>
                  <a:lnTo>
                    <a:pt x="141" y="283"/>
                  </a:lnTo>
                  <a:lnTo>
                    <a:pt x="224" y="252"/>
                  </a:lnTo>
                  <a:lnTo>
                    <a:pt x="233" y="411"/>
                  </a:lnTo>
                  <a:lnTo>
                    <a:pt x="467" y="127"/>
                  </a:lnTo>
                  <a:lnTo>
                    <a:pt x="520" y="110"/>
                  </a:lnTo>
                  <a:lnTo>
                    <a:pt x="480" y="221"/>
                  </a:lnTo>
                  <a:lnTo>
                    <a:pt x="626" y="278"/>
                  </a:lnTo>
                  <a:lnTo>
                    <a:pt x="733" y="163"/>
                  </a:lnTo>
                  <a:lnTo>
                    <a:pt x="790" y="199"/>
                  </a:lnTo>
                  <a:lnTo>
                    <a:pt x="737" y="296"/>
                  </a:lnTo>
                  <a:lnTo>
                    <a:pt x="807" y="239"/>
                  </a:lnTo>
                  <a:lnTo>
                    <a:pt x="913" y="283"/>
                  </a:lnTo>
                  <a:lnTo>
                    <a:pt x="830" y="362"/>
                  </a:lnTo>
                  <a:lnTo>
                    <a:pt x="1116" y="411"/>
                  </a:lnTo>
                  <a:lnTo>
                    <a:pt x="922" y="468"/>
                  </a:lnTo>
                  <a:lnTo>
                    <a:pt x="1160" y="504"/>
                  </a:lnTo>
                  <a:lnTo>
                    <a:pt x="878" y="566"/>
                  </a:lnTo>
                  <a:lnTo>
                    <a:pt x="940" y="619"/>
                  </a:lnTo>
                  <a:lnTo>
                    <a:pt x="856" y="667"/>
                  </a:lnTo>
                  <a:lnTo>
                    <a:pt x="1002" y="667"/>
                  </a:lnTo>
                  <a:lnTo>
                    <a:pt x="988" y="628"/>
                  </a:lnTo>
                  <a:lnTo>
                    <a:pt x="1138" y="663"/>
                  </a:lnTo>
                  <a:lnTo>
                    <a:pt x="1116" y="557"/>
                  </a:lnTo>
                  <a:lnTo>
                    <a:pt x="1253" y="509"/>
                  </a:lnTo>
                  <a:lnTo>
                    <a:pt x="1156" y="459"/>
                  </a:lnTo>
                  <a:lnTo>
                    <a:pt x="1390" y="446"/>
                  </a:lnTo>
                  <a:lnTo>
                    <a:pt x="1187" y="336"/>
                  </a:lnTo>
                  <a:lnTo>
                    <a:pt x="953" y="314"/>
                  </a:lnTo>
                  <a:lnTo>
                    <a:pt x="1138" y="203"/>
                  </a:lnTo>
                  <a:lnTo>
                    <a:pt x="807" y="203"/>
                  </a:lnTo>
                  <a:lnTo>
                    <a:pt x="966" y="101"/>
                  </a:lnTo>
                  <a:lnTo>
                    <a:pt x="724" y="127"/>
                  </a:lnTo>
                  <a:lnTo>
                    <a:pt x="612" y="181"/>
                  </a:lnTo>
                  <a:lnTo>
                    <a:pt x="710" y="0"/>
                  </a:lnTo>
                  <a:lnTo>
                    <a:pt x="418" y="101"/>
                  </a:lnTo>
                  <a:lnTo>
                    <a:pt x="260" y="318"/>
                  </a:lnTo>
                  <a:lnTo>
                    <a:pt x="233" y="199"/>
                  </a:lnTo>
                  <a:lnTo>
                    <a:pt x="101" y="283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30" y="557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4120" y="357120"/>
              <a:ext cx="140040" cy="71640"/>
            </a:xfrm>
            <a:custGeom>
              <a:avLst/>
              <a:gdLst/>
              <a:ahLst/>
              <a:rect l="0" t="0" r="r" b="b"/>
              <a:pathLst>
                <a:path w="389" h="199">
                  <a:moveTo>
                    <a:pt x="0" y="199"/>
                  </a:moveTo>
                  <a:lnTo>
                    <a:pt x="145" y="0"/>
                  </a:lnTo>
                  <a:lnTo>
                    <a:pt x="145" y="133"/>
                  </a:lnTo>
                  <a:lnTo>
                    <a:pt x="199" y="79"/>
                  </a:lnTo>
                  <a:lnTo>
                    <a:pt x="243" y="155"/>
                  </a:lnTo>
                  <a:lnTo>
                    <a:pt x="389" y="190"/>
                  </a:lnTo>
                  <a:lnTo>
                    <a:pt x="234" y="164"/>
                  </a:lnTo>
                  <a:lnTo>
                    <a:pt x="189" y="115"/>
                  </a:lnTo>
                  <a:lnTo>
                    <a:pt x="123" y="164"/>
                  </a:lnTo>
                  <a:lnTo>
                    <a:pt x="123" y="1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59720" y="849240"/>
              <a:ext cx="170280" cy="106560"/>
            </a:xfrm>
            <a:custGeom>
              <a:avLst/>
              <a:gdLst/>
              <a:ahLst/>
              <a:rect l="0" t="0" r="r" b="b"/>
              <a:pathLst>
                <a:path w="473" h="296">
                  <a:moveTo>
                    <a:pt x="88" y="101"/>
                  </a:moveTo>
                  <a:lnTo>
                    <a:pt x="283" y="88"/>
                  </a:lnTo>
                  <a:lnTo>
                    <a:pt x="376" y="110"/>
                  </a:lnTo>
                  <a:lnTo>
                    <a:pt x="425" y="66"/>
                  </a:lnTo>
                  <a:lnTo>
                    <a:pt x="473" y="164"/>
                  </a:lnTo>
                  <a:lnTo>
                    <a:pt x="442" y="181"/>
                  </a:lnTo>
                  <a:lnTo>
                    <a:pt x="403" y="145"/>
                  </a:lnTo>
                  <a:lnTo>
                    <a:pt x="336" y="217"/>
                  </a:lnTo>
                  <a:lnTo>
                    <a:pt x="221" y="296"/>
                  </a:lnTo>
                  <a:lnTo>
                    <a:pt x="168" y="296"/>
                  </a:lnTo>
                  <a:lnTo>
                    <a:pt x="88" y="252"/>
                  </a:lnTo>
                  <a:lnTo>
                    <a:pt x="177" y="292"/>
                  </a:lnTo>
                  <a:lnTo>
                    <a:pt x="212" y="292"/>
                  </a:lnTo>
                  <a:lnTo>
                    <a:pt x="283" y="234"/>
                  </a:lnTo>
                  <a:lnTo>
                    <a:pt x="336" y="136"/>
                  </a:lnTo>
                  <a:lnTo>
                    <a:pt x="256" y="123"/>
                  </a:lnTo>
                  <a:lnTo>
                    <a:pt x="208" y="110"/>
                  </a:lnTo>
                  <a:lnTo>
                    <a:pt x="79" y="127"/>
                  </a:lnTo>
                  <a:lnTo>
                    <a:pt x="74" y="208"/>
                  </a:lnTo>
                  <a:lnTo>
                    <a:pt x="35" y="159"/>
                  </a:lnTo>
                  <a:lnTo>
                    <a:pt x="0" y="225"/>
                  </a:lnTo>
                  <a:lnTo>
                    <a:pt x="4" y="79"/>
                  </a:lnTo>
                  <a:lnTo>
                    <a:pt x="48" y="0"/>
                  </a:lnTo>
                  <a:lnTo>
                    <a:pt x="88" y="79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39200" y="614520"/>
              <a:ext cx="363960" cy="498960"/>
            </a:xfrm>
            <a:custGeom>
              <a:avLst/>
              <a:gdLst/>
              <a:ahLst/>
              <a:rect l="0" t="0" r="r" b="b"/>
              <a:pathLst>
                <a:path w="1011" h="1386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5"/>
                  </a:lnTo>
                  <a:lnTo>
                    <a:pt x="928" y="362"/>
                  </a:lnTo>
                  <a:lnTo>
                    <a:pt x="848" y="464"/>
                  </a:lnTo>
                  <a:lnTo>
                    <a:pt x="760" y="481"/>
                  </a:lnTo>
                  <a:lnTo>
                    <a:pt x="737" y="481"/>
                  </a:lnTo>
                  <a:lnTo>
                    <a:pt x="737" y="755"/>
                  </a:lnTo>
                  <a:lnTo>
                    <a:pt x="778" y="949"/>
                  </a:lnTo>
                  <a:lnTo>
                    <a:pt x="778" y="1113"/>
                  </a:lnTo>
                  <a:lnTo>
                    <a:pt x="622" y="1276"/>
                  </a:lnTo>
                  <a:lnTo>
                    <a:pt x="415" y="1386"/>
                  </a:lnTo>
                  <a:lnTo>
                    <a:pt x="278" y="1386"/>
                  </a:lnTo>
                  <a:lnTo>
                    <a:pt x="211" y="1355"/>
                  </a:lnTo>
                  <a:lnTo>
                    <a:pt x="119" y="1166"/>
                  </a:lnTo>
                  <a:lnTo>
                    <a:pt x="35" y="1095"/>
                  </a:lnTo>
                  <a:lnTo>
                    <a:pt x="0" y="1047"/>
                  </a:lnTo>
                  <a:lnTo>
                    <a:pt x="114" y="1113"/>
                  </a:lnTo>
                  <a:lnTo>
                    <a:pt x="194" y="1183"/>
                  </a:lnTo>
                  <a:lnTo>
                    <a:pt x="358" y="1192"/>
                  </a:lnTo>
                  <a:lnTo>
                    <a:pt x="503" y="1126"/>
                  </a:lnTo>
                  <a:lnTo>
                    <a:pt x="578" y="1047"/>
                  </a:lnTo>
                  <a:lnTo>
                    <a:pt x="662" y="904"/>
                  </a:lnTo>
                  <a:lnTo>
                    <a:pt x="675" y="737"/>
                  </a:lnTo>
                  <a:lnTo>
                    <a:pt x="706" y="207"/>
                  </a:lnTo>
                  <a:lnTo>
                    <a:pt x="741" y="282"/>
                  </a:lnTo>
                  <a:lnTo>
                    <a:pt x="844" y="185"/>
                  </a:lnTo>
                  <a:lnTo>
                    <a:pt x="945" y="145"/>
                  </a:lnTo>
                  <a:lnTo>
                    <a:pt x="972" y="88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4000" y="1044720"/>
              <a:ext cx="294120" cy="459000"/>
            </a:xfrm>
            <a:custGeom>
              <a:avLst/>
              <a:gdLst/>
              <a:ahLst/>
              <a:rect l="0" t="0" r="r" b="b"/>
              <a:pathLst>
                <a:path w="817" h="1275">
                  <a:moveTo>
                    <a:pt x="101" y="0"/>
                  </a:moveTo>
                  <a:lnTo>
                    <a:pt x="198" y="57"/>
                  </a:lnTo>
                  <a:lnTo>
                    <a:pt x="265" y="317"/>
                  </a:lnTo>
                  <a:lnTo>
                    <a:pt x="477" y="374"/>
                  </a:lnTo>
                  <a:lnTo>
                    <a:pt x="538" y="445"/>
                  </a:lnTo>
                  <a:lnTo>
                    <a:pt x="547" y="542"/>
                  </a:lnTo>
                  <a:lnTo>
                    <a:pt x="650" y="524"/>
                  </a:lnTo>
                  <a:lnTo>
                    <a:pt x="778" y="608"/>
                  </a:lnTo>
                  <a:lnTo>
                    <a:pt x="817" y="715"/>
                  </a:lnTo>
                  <a:lnTo>
                    <a:pt x="817" y="891"/>
                  </a:lnTo>
                  <a:lnTo>
                    <a:pt x="650" y="1165"/>
                  </a:lnTo>
                  <a:lnTo>
                    <a:pt x="596" y="1275"/>
                  </a:lnTo>
                  <a:lnTo>
                    <a:pt x="623" y="1129"/>
                  </a:lnTo>
                  <a:lnTo>
                    <a:pt x="596" y="1072"/>
                  </a:lnTo>
                  <a:lnTo>
                    <a:pt x="494" y="979"/>
                  </a:lnTo>
                  <a:lnTo>
                    <a:pt x="336" y="869"/>
                  </a:lnTo>
                  <a:lnTo>
                    <a:pt x="525" y="931"/>
                  </a:lnTo>
                  <a:lnTo>
                    <a:pt x="641" y="1015"/>
                  </a:lnTo>
                  <a:lnTo>
                    <a:pt x="698" y="1002"/>
                  </a:lnTo>
                  <a:lnTo>
                    <a:pt x="734" y="957"/>
                  </a:lnTo>
                  <a:lnTo>
                    <a:pt x="778" y="830"/>
                  </a:lnTo>
                  <a:lnTo>
                    <a:pt x="764" y="702"/>
                  </a:lnTo>
                  <a:lnTo>
                    <a:pt x="707" y="630"/>
                  </a:lnTo>
                  <a:lnTo>
                    <a:pt x="605" y="608"/>
                  </a:lnTo>
                  <a:lnTo>
                    <a:pt x="494" y="608"/>
                  </a:lnTo>
                  <a:lnTo>
                    <a:pt x="459" y="418"/>
                  </a:lnTo>
                  <a:lnTo>
                    <a:pt x="278" y="352"/>
                  </a:lnTo>
                  <a:lnTo>
                    <a:pt x="278" y="410"/>
                  </a:lnTo>
                  <a:lnTo>
                    <a:pt x="198" y="273"/>
                  </a:lnTo>
                  <a:lnTo>
                    <a:pt x="149" y="57"/>
                  </a:lnTo>
                  <a:lnTo>
                    <a:pt x="79" y="35"/>
                  </a:lnTo>
                  <a:lnTo>
                    <a:pt x="39" y="101"/>
                  </a:lnTo>
                  <a:lnTo>
                    <a:pt x="39" y="246"/>
                  </a:lnTo>
                  <a:lnTo>
                    <a:pt x="74" y="410"/>
                  </a:lnTo>
                  <a:lnTo>
                    <a:pt x="171" y="542"/>
                  </a:lnTo>
                  <a:lnTo>
                    <a:pt x="61" y="458"/>
                  </a:lnTo>
                  <a:lnTo>
                    <a:pt x="8" y="317"/>
                  </a:lnTo>
                  <a:lnTo>
                    <a:pt x="0" y="136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4320" y="1247760"/>
              <a:ext cx="194040" cy="367200"/>
            </a:xfrm>
            <a:custGeom>
              <a:avLst/>
              <a:gdLst/>
              <a:ahLst/>
              <a:rect l="0" t="0" r="r" b="b"/>
              <a:pathLst>
                <a:path w="539" h="1020">
                  <a:moveTo>
                    <a:pt x="539" y="0"/>
                  </a:moveTo>
                  <a:lnTo>
                    <a:pt x="429" y="66"/>
                  </a:lnTo>
                  <a:lnTo>
                    <a:pt x="296" y="314"/>
                  </a:lnTo>
                  <a:lnTo>
                    <a:pt x="168" y="477"/>
                  </a:lnTo>
                  <a:lnTo>
                    <a:pt x="13" y="671"/>
                  </a:lnTo>
                  <a:lnTo>
                    <a:pt x="0" y="769"/>
                  </a:lnTo>
                  <a:lnTo>
                    <a:pt x="30" y="861"/>
                  </a:lnTo>
                  <a:lnTo>
                    <a:pt x="105" y="861"/>
                  </a:lnTo>
                  <a:lnTo>
                    <a:pt x="208" y="769"/>
                  </a:lnTo>
                  <a:lnTo>
                    <a:pt x="287" y="587"/>
                  </a:lnTo>
                  <a:lnTo>
                    <a:pt x="397" y="477"/>
                  </a:lnTo>
                  <a:lnTo>
                    <a:pt x="397" y="622"/>
                  </a:lnTo>
                  <a:lnTo>
                    <a:pt x="380" y="759"/>
                  </a:lnTo>
                  <a:lnTo>
                    <a:pt x="265" y="941"/>
                  </a:lnTo>
                  <a:lnTo>
                    <a:pt x="265" y="998"/>
                  </a:lnTo>
                  <a:lnTo>
                    <a:pt x="380" y="1020"/>
                  </a:lnTo>
                  <a:lnTo>
                    <a:pt x="296" y="972"/>
                  </a:lnTo>
                  <a:lnTo>
                    <a:pt x="309" y="941"/>
                  </a:lnTo>
                  <a:lnTo>
                    <a:pt x="389" y="808"/>
                  </a:lnTo>
                  <a:lnTo>
                    <a:pt x="447" y="565"/>
                  </a:lnTo>
                  <a:lnTo>
                    <a:pt x="407" y="428"/>
                  </a:lnTo>
                  <a:lnTo>
                    <a:pt x="318" y="508"/>
                  </a:lnTo>
                  <a:lnTo>
                    <a:pt x="127" y="813"/>
                  </a:lnTo>
                  <a:lnTo>
                    <a:pt x="74" y="826"/>
                  </a:lnTo>
                  <a:lnTo>
                    <a:pt x="30" y="791"/>
                  </a:lnTo>
                  <a:lnTo>
                    <a:pt x="30" y="697"/>
                  </a:lnTo>
                  <a:lnTo>
                    <a:pt x="105" y="578"/>
                  </a:lnTo>
                  <a:lnTo>
                    <a:pt x="318" y="331"/>
                  </a:lnTo>
                  <a:lnTo>
                    <a:pt x="447" y="92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8680" y="1455840"/>
              <a:ext cx="119520" cy="176400"/>
            </a:xfrm>
            <a:custGeom>
              <a:avLst/>
              <a:gdLst/>
              <a:ahLst/>
              <a:rect l="0" t="0" r="r" b="b"/>
              <a:pathLst>
                <a:path w="332" h="490">
                  <a:moveTo>
                    <a:pt x="0" y="433"/>
                  </a:moveTo>
                  <a:lnTo>
                    <a:pt x="111" y="309"/>
                  </a:lnTo>
                  <a:lnTo>
                    <a:pt x="128" y="180"/>
                  </a:lnTo>
                  <a:lnTo>
                    <a:pt x="257" y="0"/>
                  </a:lnTo>
                  <a:lnTo>
                    <a:pt x="284" y="123"/>
                  </a:lnTo>
                  <a:lnTo>
                    <a:pt x="266" y="446"/>
                  </a:lnTo>
                  <a:lnTo>
                    <a:pt x="332" y="490"/>
                  </a:lnTo>
                  <a:lnTo>
                    <a:pt x="234" y="455"/>
                  </a:lnTo>
                  <a:lnTo>
                    <a:pt x="186" y="274"/>
                  </a:lnTo>
                  <a:lnTo>
                    <a:pt x="111" y="36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1463760"/>
              <a:ext cx="79560" cy="159120"/>
            </a:xfrm>
            <a:custGeom>
              <a:avLst/>
              <a:gdLst/>
              <a:ahLst/>
              <a:rect l="0" t="0" r="r" b="b"/>
              <a:pathLst>
                <a:path w="221" h="442">
                  <a:moveTo>
                    <a:pt x="0" y="332"/>
                  </a:moveTo>
                  <a:lnTo>
                    <a:pt x="8" y="168"/>
                  </a:lnTo>
                  <a:lnTo>
                    <a:pt x="57" y="70"/>
                  </a:lnTo>
                  <a:lnTo>
                    <a:pt x="105" y="420"/>
                  </a:lnTo>
                  <a:lnTo>
                    <a:pt x="177" y="420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87"/>
                  </a:lnTo>
                  <a:lnTo>
                    <a:pt x="177" y="442"/>
                  </a:lnTo>
                  <a:lnTo>
                    <a:pt x="88" y="442"/>
                  </a:lnTo>
                  <a:lnTo>
                    <a:pt x="48" y="137"/>
                  </a:lnTo>
                  <a:lnTo>
                    <a:pt x="26" y="181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6080" y="839880"/>
              <a:ext cx="190800" cy="424080"/>
            </a:xfrm>
            <a:custGeom>
              <a:avLst/>
              <a:gdLst/>
              <a:ahLst/>
              <a:rect l="0" t="0" r="r" b="b"/>
              <a:pathLst>
                <a:path w="530" h="1178">
                  <a:moveTo>
                    <a:pt x="141" y="640"/>
                  </a:moveTo>
                  <a:lnTo>
                    <a:pt x="180" y="454"/>
                  </a:lnTo>
                  <a:lnTo>
                    <a:pt x="358" y="405"/>
                  </a:lnTo>
                  <a:lnTo>
                    <a:pt x="530" y="0"/>
                  </a:lnTo>
                  <a:lnTo>
                    <a:pt x="530" y="119"/>
                  </a:lnTo>
                  <a:lnTo>
                    <a:pt x="384" y="432"/>
                  </a:lnTo>
                  <a:lnTo>
                    <a:pt x="194" y="489"/>
                  </a:lnTo>
                  <a:lnTo>
                    <a:pt x="167" y="640"/>
                  </a:lnTo>
                  <a:lnTo>
                    <a:pt x="233" y="640"/>
                  </a:lnTo>
                  <a:lnTo>
                    <a:pt x="70" y="706"/>
                  </a:lnTo>
                  <a:lnTo>
                    <a:pt x="30" y="830"/>
                  </a:lnTo>
                  <a:lnTo>
                    <a:pt x="39" y="993"/>
                  </a:lnTo>
                  <a:lnTo>
                    <a:pt x="216" y="1178"/>
                  </a:lnTo>
                  <a:lnTo>
                    <a:pt x="30" y="1015"/>
                  </a:lnTo>
                  <a:lnTo>
                    <a:pt x="0" y="878"/>
                  </a:lnTo>
                  <a:lnTo>
                    <a:pt x="13" y="741"/>
                  </a:lnTo>
                  <a:lnTo>
                    <a:pt x="79" y="644"/>
                  </a:lnTo>
                  <a:lnTo>
                    <a:pt x="141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64600" y="839880"/>
              <a:ext cx="321120" cy="411480"/>
            </a:xfrm>
            <a:custGeom>
              <a:avLst/>
              <a:gdLst/>
              <a:ahLst/>
              <a:rect l="0" t="0" r="r" b="b"/>
              <a:pathLst>
                <a:path w="892" h="1143">
                  <a:moveTo>
                    <a:pt x="247" y="0"/>
                  </a:moveTo>
                  <a:lnTo>
                    <a:pt x="300" y="35"/>
                  </a:lnTo>
                  <a:lnTo>
                    <a:pt x="318" y="132"/>
                  </a:lnTo>
                  <a:lnTo>
                    <a:pt x="318" y="224"/>
                  </a:lnTo>
                  <a:lnTo>
                    <a:pt x="216" y="388"/>
                  </a:lnTo>
                  <a:lnTo>
                    <a:pt x="239" y="511"/>
                  </a:lnTo>
                  <a:lnTo>
                    <a:pt x="534" y="644"/>
                  </a:lnTo>
                  <a:lnTo>
                    <a:pt x="888" y="1002"/>
                  </a:lnTo>
                  <a:lnTo>
                    <a:pt x="892" y="1099"/>
                  </a:lnTo>
                  <a:lnTo>
                    <a:pt x="875" y="1143"/>
                  </a:lnTo>
                  <a:lnTo>
                    <a:pt x="742" y="1143"/>
                  </a:lnTo>
                  <a:lnTo>
                    <a:pt x="627" y="1076"/>
                  </a:lnTo>
                  <a:lnTo>
                    <a:pt x="530" y="957"/>
                  </a:lnTo>
                  <a:lnTo>
                    <a:pt x="477" y="887"/>
                  </a:lnTo>
                  <a:lnTo>
                    <a:pt x="415" y="878"/>
                  </a:lnTo>
                  <a:lnTo>
                    <a:pt x="490" y="878"/>
                  </a:lnTo>
                  <a:lnTo>
                    <a:pt x="636" y="1063"/>
                  </a:lnTo>
                  <a:lnTo>
                    <a:pt x="822" y="1116"/>
                  </a:lnTo>
                  <a:lnTo>
                    <a:pt x="861" y="1063"/>
                  </a:lnTo>
                  <a:lnTo>
                    <a:pt x="844" y="979"/>
                  </a:lnTo>
                  <a:lnTo>
                    <a:pt x="516" y="719"/>
                  </a:lnTo>
                  <a:lnTo>
                    <a:pt x="468" y="644"/>
                  </a:lnTo>
                  <a:lnTo>
                    <a:pt x="216" y="578"/>
                  </a:lnTo>
                  <a:lnTo>
                    <a:pt x="171" y="644"/>
                  </a:lnTo>
                  <a:lnTo>
                    <a:pt x="0" y="750"/>
                  </a:lnTo>
                  <a:lnTo>
                    <a:pt x="163" y="627"/>
                  </a:lnTo>
                  <a:lnTo>
                    <a:pt x="171" y="546"/>
                  </a:lnTo>
                  <a:lnTo>
                    <a:pt x="171" y="361"/>
                  </a:lnTo>
                  <a:lnTo>
                    <a:pt x="287" y="224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05920" y="1163520"/>
              <a:ext cx="273240" cy="243360"/>
            </a:xfrm>
            <a:custGeom>
              <a:avLst/>
              <a:gdLst/>
              <a:ahLst/>
              <a:rect l="0" t="0" r="r" b="b"/>
              <a:pathLst>
                <a:path w="759" h="676">
                  <a:moveTo>
                    <a:pt x="569" y="0"/>
                  </a:moveTo>
                  <a:lnTo>
                    <a:pt x="552" y="57"/>
                  </a:lnTo>
                  <a:lnTo>
                    <a:pt x="662" y="283"/>
                  </a:lnTo>
                  <a:lnTo>
                    <a:pt x="719" y="513"/>
                  </a:lnTo>
                  <a:lnTo>
                    <a:pt x="653" y="513"/>
                  </a:lnTo>
                  <a:lnTo>
                    <a:pt x="538" y="411"/>
                  </a:lnTo>
                  <a:lnTo>
                    <a:pt x="437" y="199"/>
                  </a:lnTo>
                  <a:lnTo>
                    <a:pt x="357" y="163"/>
                  </a:lnTo>
                  <a:lnTo>
                    <a:pt x="370" y="283"/>
                  </a:lnTo>
                  <a:lnTo>
                    <a:pt x="441" y="362"/>
                  </a:lnTo>
                  <a:lnTo>
                    <a:pt x="441" y="526"/>
                  </a:lnTo>
                  <a:lnTo>
                    <a:pt x="389" y="645"/>
                  </a:lnTo>
                  <a:lnTo>
                    <a:pt x="321" y="597"/>
                  </a:lnTo>
                  <a:lnTo>
                    <a:pt x="233" y="411"/>
                  </a:lnTo>
                  <a:lnTo>
                    <a:pt x="211" y="283"/>
                  </a:lnTo>
                  <a:lnTo>
                    <a:pt x="163" y="243"/>
                  </a:lnTo>
                  <a:lnTo>
                    <a:pt x="149" y="575"/>
                  </a:lnTo>
                  <a:lnTo>
                    <a:pt x="79" y="619"/>
                  </a:lnTo>
                  <a:lnTo>
                    <a:pt x="22" y="575"/>
                  </a:lnTo>
                  <a:lnTo>
                    <a:pt x="8" y="292"/>
                  </a:lnTo>
                  <a:lnTo>
                    <a:pt x="0" y="566"/>
                  </a:lnTo>
                  <a:lnTo>
                    <a:pt x="48" y="667"/>
                  </a:lnTo>
                  <a:lnTo>
                    <a:pt x="149" y="667"/>
                  </a:lnTo>
                  <a:lnTo>
                    <a:pt x="185" y="588"/>
                  </a:lnTo>
                  <a:lnTo>
                    <a:pt x="202" y="331"/>
                  </a:lnTo>
                  <a:lnTo>
                    <a:pt x="220" y="433"/>
                  </a:lnTo>
                  <a:lnTo>
                    <a:pt x="308" y="650"/>
                  </a:lnTo>
                  <a:lnTo>
                    <a:pt x="402" y="676"/>
                  </a:lnTo>
                  <a:lnTo>
                    <a:pt x="472" y="588"/>
                  </a:lnTo>
                  <a:lnTo>
                    <a:pt x="472" y="375"/>
                  </a:lnTo>
                  <a:lnTo>
                    <a:pt x="653" y="553"/>
                  </a:lnTo>
                  <a:lnTo>
                    <a:pt x="750" y="553"/>
                  </a:lnTo>
                  <a:lnTo>
                    <a:pt x="759" y="433"/>
                  </a:lnTo>
                  <a:lnTo>
                    <a:pt x="688" y="221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911160"/>
              <a:ext cx="1214640" cy="992520"/>
            </a:xfrm>
            <a:custGeom>
              <a:avLst/>
              <a:gdLst/>
              <a:ahLst/>
              <a:rect l="0" t="0" r="r" b="b"/>
              <a:pathLst>
                <a:path w="3374" h="2757">
                  <a:moveTo>
                    <a:pt x="1212" y="233"/>
                  </a:moveTo>
                  <a:lnTo>
                    <a:pt x="1150" y="242"/>
                  </a:lnTo>
                  <a:lnTo>
                    <a:pt x="1058" y="379"/>
                  </a:lnTo>
                  <a:lnTo>
                    <a:pt x="1023" y="277"/>
                  </a:lnTo>
                  <a:lnTo>
                    <a:pt x="917" y="220"/>
                  </a:lnTo>
                  <a:lnTo>
                    <a:pt x="833" y="264"/>
                  </a:lnTo>
                  <a:lnTo>
                    <a:pt x="802" y="445"/>
                  </a:lnTo>
                  <a:lnTo>
                    <a:pt x="498" y="665"/>
                  </a:lnTo>
                  <a:lnTo>
                    <a:pt x="520" y="758"/>
                  </a:lnTo>
                  <a:lnTo>
                    <a:pt x="445" y="837"/>
                  </a:lnTo>
                  <a:lnTo>
                    <a:pt x="445" y="912"/>
                  </a:lnTo>
                  <a:lnTo>
                    <a:pt x="533" y="1120"/>
                  </a:lnTo>
                  <a:lnTo>
                    <a:pt x="537" y="1375"/>
                  </a:lnTo>
                  <a:lnTo>
                    <a:pt x="480" y="1614"/>
                  </a:lnTo>
                  <a:lnTo>
                    <a:pt x="264" y="1760"/>
                  </a:lnTo>
                  <a:lnTo>
                    <a:pt x="238" y="1958"/>
                  </a:lnTo>
                  <a:lnTo>
                    <a:pt x="167" y="1958"/>
                  </a:lnTo>
                  <a:lnTo>
                    <a:pt x="136" y="1795"/>
                  </a:lnTo>
                  <a:lnTo>
                    <a:pt x="70" y="1795"/>
                  </a:lnTo>
                  <a:lnTo>
                    <a:pt x="39" y="1967"/>
                  </a:lnTo>
                  <a:lnTo>
                    <a:pt x="0" y="2016"/>
                  </a:lnTo>
                  <a:lnTo>
                    <a:pt x="149" y="2249"/>
                  </a:lnTo>
                  <a:lnTo>
                    <a:pt x="255" y="2263"/>
                  </a:lnTo>
                  <a:lnTo>
                    <a:pt x="445" y="2439"/>
                  </a:lnTo>
                  <a:lnTo>
                    <a:pt x="617" y="2461"/>
                  </a:lnTo>
                  <a:lnTo>
                    <a:pt x="714" y="2364"/>
                  </a:lnTo>
                  <a:lnTo>
                    <a:pt x="948" y="2025"/>
                  </a:lnTo>
                  <a:lnTo>
                    <a:pt x="970" y="2483"/>
                  </a:lnTo>
                  <a:lnTo>
                    <a:pt x="948" y="2757"/>
                  </a:lnTo>
                  <a:lnTo>
                    <a:pt x="2898" y="2757"/>
                  </a:lnTo>
                  <a:lnTo>
                    <a:pt x="2757" y="2461"/>
                  </a:lnTo>
                  <a:lnTo>
                    <a:pt x="2686" y="2205"/>
                  </a:lnTo>
                  <a:lnTo>
                    <a:pt x="2668" y="1826"/>
                  </a:lnTo>
                  <a:lnTo>
                    <a:pt x="2783" y="1910"/>
                  </a:lnTo>
                  <a:lnTo>
                    <a:pt x="2898" y="1910"/>
                  </a:lnTo>
                  <a:lnTo>
                    <a:pt x="3061" y="1808"/>
                  </a:lnTo>
                  <a:lnTo>
                    <a:pt x="3167" y="1795"/>
                  </a:lnTo>
                  <a:lnTo>
                    <a:pt x="3233" y="1694"/>
                  </a:lnTo>
                  <a:lnTo>
                    <a:pt x="3277" y="1434"/>
                  </a:lnTo>
                  <a:lnTo>
                    <a:pt x="3374" y="1327"/>
                  </a:lnTo>
                  <a:lnTo>
                    <a:pt x="3325" y="1247"/>
                  </a:lnTo>
                  <a:lnTo>
                    <a:pt x="3250" y="1247"/>
                  </a:lnTo>
                  <a:lnTo>
                    <a:pt x="3193" y="1300"/>
                  </a:lnTo>
                  <a:lnTo>
                    <a:pt x="3140" y="1318"/>
                  </a:lnTo>
                  <a:lnTo>
                    <a:pt x="3070" y="1247"/>
                  </a:lnTo>
                  <a:lnTo>
                    <a:pt x="2986" y="1239"/>
                  </a:lnTo>
                  <a:lnTo>
                    <a:pt x="2832" y="1142"/>
                  </a:lnTo>
                  <a:lnTo>
                    <a:pt x="2735" y="1036"/>
                  </a:lnTo>
                  <a:lnTo>
                    <a:pt x="2721" y="912"/>
                  </a:lnTo>
                  <a:lnTo>
                    <a:pt x="2735" y="789"/>
                  </a:lnTo>
                  <a:lnTo>
                    <a:pt x="2801" y="687"/>
                  </a:lnTo>
                  <a:lnTo>
                    <a:pt x="2884" y="599"/>
                  </a:lnTo>
                  <a:lnTo>
                    <a:pt x="2876" y="440"/>
                  </a:lnTo>
                  <a:lnTo>
                    <a:pt x="2876" y="326"/>
                  </a:lnTo>
                  <a:lnTo>
                    <a:pt x="2832" y="242"/>
                  </a:lnTo>
                  <a:lnTo>
                    <a:pt x="2721" y="207"/>
                  </a:lnTo>
                  <a:lnTo>
                    <a:pt x="2682" y="185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7"/>
                  </a:lnTo>
                  <a:lnTo>
                    <a:pt x="2280" y="141"/>
                  </a:lnTo>
                  <a:lnTo>
                    <a:pt x="2197" y="154"/>
                  </a:lnTo>
                  <a:lnTo>
                    <a:pt x="2104" y="154"/>
                  </a:lnTo>
                  <a:lnTo>
                    <a:pt x="2122" y="291"/>
                  </a:lnTo>
                  <a:lnTo>
                    <a:pt x="2122" y="458"/>
                  </a:lnTo>
                  <a:lnTo>
                    <a:pt x="2104" y="573"/>
                  </a:lnTo>
                  <a:lnTo>
                    <a:pt x="2020" y="709"/>
                  </a:lnTo>
                  <a:lnTo>
                    <a:pt x="1914" y="917"/>
                  </a:lnTo>
                  <a:lnTo>
                    <a:pt x="1831" y="1168"/>
                  </a:lnTo>
                  <a:lnTo>
                    <a:pt x="1826" y="1318"/>
                  </a:lnTo>
                  <a:lnTo>
                    <a:pt x="1786" y="1442"/>
                  </a:lnTo>
                  <a:lnTo>
                    <a:pt x="1734" y="1570"/>
                  </a:lnTo>
                  <a:lnTo>
                    <a:pt x="1711" y="1769"/>
                  </a:lnTo>
                  <a:lnTo>
                    <a:pt x="1725" y="1936"/>
                  </a:lnTo>
                  <a:lnTo>
                    <a:pt x="1786" y="2130"/>
                  </a:lnTo>
                  <a:lnTo>
                    <a:pt x="1826" y="2205"/>
                  </a:lnTo>
                  <a:lnTo>
                    <a:pt x="1711" y="2276"/>
                  </a:lnTo>
                  <a:lnTo>
                    <a:pt x="1574" y="2320"/>
                  </a:lnTo>
                  <a:lnTo>
                    <a:pt x="1424" y="2333"/>
                  </a:lnTo>
                  <a:lnTo>
                    <a:pt x="1331" y="2333"/>
                  </a:lnTo>
                  <a:lnTo>
                    <a:pt x="1270" y="2307"/>
                  </a:lnTo>
                  <a:lnTo>
                    <a:pt x="1270" y="2144"/>
                  </a:lnTo>
                  <a:lnTo>
                    <a:pt x="1270" y="1901"/>
                  </a:lnTo>
                  <a:lnTo>
                    <a:pt x="1234" y="1659"/>
                  </a:lnTo>
                  <a:lnTo>
                    <a:pt x="1172" y="1442"/>
                  </a:lnTo>
                  <a:lnTo>
                    <a:pt x="1146" y="1269"/>
                  </a:lnTo>
                  <a:lnTo>
                    <a:pt x="1133" y="1027"/>
                  </a:lnTo>
                  <a:lnTo>
                    <a:pt x="1172" y="815"/>
                  </a:lnTo>
                  <a:lnTo>
                    <a:pt x="1234" y="643"/>
                  </a:lnTo>
                  <a:lnTo>
                    <a:pt x="1239" y="542"/>
                  </a:lnTo>
                  <a:lnTo>
                    <a:pt x="1212" y="396"/>
                  </a:lnTo>
                  <a:lnTo>
                    <a:pt x="1212" y="277"/>
                  </a:lnTo>
                  <a:lnTo>
                    <a:pt x="1234" y="242"/>
                  </a:lnTo>
                  <a:lnTo>
                    <a:pt x="1212" y="2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75560" y="1109520"/>
              <a:ext cx="152640" cy="644760"/>
            </a:xfrm>
            <a:custGeom>
              <a:avLst/>
              <a:gdLst/>
              <a:ahLst/>
              <a:rect l="0" t="0" r="r" b="b"/>
              <a:pathLst>
                <a:path w="424" h="1791">
                  <a:moveTo>
                    <a:pt x="167" y="22"/>
                  </a:moveTo>
                  <a:lnTo>
                    <a:pt x="57" y="79"/>
                  </a:lnTo>
                  <a:lnTo>
                    <a:pt x="66" y="251"/>
                  </a:lnTo>
                  <a:lnTo>
                    <a:pt x="149" y="299"/>
                  </a:lnTo>
                  <a:lnTo>
                    <a:pt x="48" y="489"/>
                  </a:lnTo>
                  <a:lnTo>
                    <a:pt x="0" y="696"/>
                  </a:lnTo>
                  <a:lnTo>
                    <a:pt x="0" y="895"/>
                  </a:lnTo>
                  <a:lnTo>
                    <a:pt x="48" y="1072"/>
                  </a:lnTo>
                  <a:lnTo>
                    <a:pt x="88" y="1293"/>
                  </a:lnTo>
                  <a:lnTo>
                    <a:pt x="88" y="1420"/>
                  </a:lnTo>
                  <a:lnTo>
                    <a:pt x="48" y="1575"/>
                  </a:lnTo>
                  <a:lnTo>
                    <a:pt x="221" y="1791"/>
                  </a:lnTo>
                  <a:lnTo>
                    <a:pt x="292" y="1756"/>
                  </a:lnTo>
                  <a:lnTo>
                    <a:pt x="340" y="1606"/>
                  </a:lnTo>
                  <a:lnTo>
                    <a:pt x="419" y="1407"/>
                  </a:lnTo>
                  <a:lnTo>
                    <a:pt x="424" y="1301"/>
                  </a:lnTo>
                  <a:lnTo>
                    <a:pt x="358" y="1107"/>
                  </a:lnTo>
                  <a:lnTo>
                    <a:pt x="278" y="918"/>
                  </a:lnTo>
                  <a:lnTo>
                    <a:pt x="247" y="780"/>
                  </a:lnTo>
                  <a:lnTo>
                    <a:pt x="247" y="648"/>
                  </a:lnTo>
                  <a:lnTo>
                    <a:pt x="278" y="533"/>
                  </a:lnTo>
                  <a:lnTo>
                    <a:pt x="340" y="392"/>
                  </a:lnTo>
                  <a:lnTo>
                    <a:pt x="340" y="335"/>
                  </a:lnTo>
                  <a:lnTo>
                    <a:pt x="309" y="277"/>
                  </a:lnTo>
                  <a:lnTo>
                    <a:pt x="389" y="202"/>
                  </a:lnTo>
                  <a:lnTo>
                    <a:pt x="389" y="136"/>
                  </a:lnTo>
                  <a:lnTo>
                    <a:pt x="278" y="0"/>
                  </a:lnTo>
                  <a:lnTo>
                    <a:pt x="367" y="136"/>
                  </a:lnTo>
                  <a:lnTo>
                    <a:pt x="367" y="194"/>
                  </a:lnTo>
                  <a:lnTo>
                    <a:pt x="287" y="251"/>
                  </a:lnTo>
                  <a:lnTo>
                    <a:pt x="318" y="335"/>
                  </a:lnTo>
                  <a:lnTo>
                    <a:pt x="309" y="392"/>
                  </a:lnTo>
                  <a:lnTo>
                    <a:pt x="230" y="555"/>
                  </a:lnTo>
                  <a:lnTo>
                    <a:pt x="221" y="718"/>
                  </a:lnTo>
                  <a:lnTo>
                    <a:pt x="239" y="868"/>
                  </a:lnTo>
                  <a:lnTo>
                    <a:pt x="292" y="1085"/>
                  </a:lnTo>
                  <a:lnTo>
                    <a:pt x="358" y="1257"/>
                  </a:lnTo>
                  <a:lnTo>
                    <a:pt x="358" y="1398"/>
                  </a:lnTo>
                  <a:lnTo>
                    <a:pt x="318" y="1575"/>
                  </a:lnTo>
                  <a:lnTo>
                    <a:pt x="239" y="1756"/>
                  </a:lnTo>
                  <a:lnTo>
                    <a:pt x="141" y="1654"/>
                  </a:lnTo>
                  <a:lnTo>
                    <a:pt x="101" y="1575"/>
                  </a:lnTo>
                  <a:lnTo>
                    <a:pt x="110" y="1398"/>
                  </a:lnTo>
                  <a:lnTo>
                    <a:pt x="101" y="1222"/>
                  </a:lnTo>
                  <a:lnTo>
                    <a:pt x="48" y="984"/>
                  </a:lnTo>
                  <a:lnTo>
                    <a:pt x="30" y="820"/>
                  </a:lnTo>
                  <a:lnTo>
                    <a:pt x="48" y="639"/>
                  </a:lnTo>
                  <a:lnTo>
                    <a:pt x="88" y="463"/>
                  </a:lnTo>
                  <a:lnTo>
                    <a:pt x="180" y="286"/>
                  </a:lnTo>
                  <a:lnTo>
                    <a:pt x="101" y="216"/>
                  </a:lnTo>
                  <a:lnTo>
                    <a:pt x="88" y="88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3680" y="357120"/>
              <a:ext cx="241560" cy="313200"/>
            </a:xfrm>
            <a:custGeom>
              <a:avLst/>
              <a:gdLst/>
              <a:ahLst/>
              <a:rect l="0" t="0" r="r" b="b"/>
              <a:pathLst>
                <a:path w="671" h="870">
                  <a:moveTo>
                    <a:pt x="114" y="221"/>
                  </a:moveTo>
                  <a:lnTo>
                    <a:pt x="207" y="202"/>
                  </a:lnTo>
                  <a:lnTo>
                    <a:pt x="304" y="211"/>
                  </a:lnTo>
                  <a:lnTo>
                    <a:pt x="384" y="247"/>
                  </a:lnTo>
                  <a:lnTo>
                    <a:pt x="428" y="296"/>
                  </a:lnTo>
                  <a:lnTo>
                    <a:pt x="450" y="340"/>
                  </a:lnTo>
                  <a:lnTo>
                    <a:pt x="450" y="384"/>
                  </a:lnTo>
                  <a:lnTo>
                    <a:pt x="424" y="411"/>
                  </a:lnTo>
                  <a:lnTo>
                    <a:pt x="384" y="433"/>
                  </a:lnTo>
                  <a:lnTo>
                    <a:pt x="330" y="437"/>
                  </a:lnTo>
                  <a:lnTo>
                    <a:pt x="273" y="424"/>
                  </a:lnTo>
                  <a:lnTo>
                    <a:pt x="211" y="389"/>
                  </a:lnTo>
                  <a:lnTo>
                    <a:pt x="167" y="353"/>
                  </a:lnTo>
                  <a:lnTo>
                    <a:pt x="149" y="464"/>
                  </a:lnTo>
                  <a:lnTo>
                    <a:pt x="114" y="543"/>
                  </a:lnTo>
                  <a:lnTo>
                    <a:pt x="0" y="729"/>
                  </a:lnTo>
                  <a:lnTo>
                    <a:pt x="163" y="870"/>
                  </a:lnTo>
                  <a:lnTo>
                    <a:pt x="286" y="636"/>
                  </a:lnTo>
                  <a:lnTo>
                    <a:pt x="424" y="654"/>
                  </a:lnTo>
                  <a:lnTo>
                    <a:pt x="512" y="636"/>
                  </a:lnTo>
                  <a:lnTo>
                    <a:pt x="596" y="583"/>
                  </a:lnTo>
                  <a:lnTo>
                    <a:pt x="644" y="516"/>
                  </a:lnTo>
                  <a:lnTo>
                    <a:pt x="671" y="428"/>
                  </a:lnTo>
                  <a:lnTo>
                    <a:pt x="671" y="331"/>
                  </a:lnTo>
                  <a:lnTo>
                    <a:pt x="644" y="234"/>
                  </a:lnTo>
                  <a:lnTo>
                    <a:pt x="591" y="132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9400" y="662040"/>
              <a:ext cx="87840" cy="62280"/>
            </a:xfrm>
            <a:custGeom>
              <a:avLst/>
              <a:gdLst/>
              <a:ahLst/>
              <a:rect l="0" t="0" r="r" b="b"/>
              <a:pathLst>
                <a:path w="244" h="173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47"/>
                  </a:lnTo>
                  <a:lnTo>
                    <a:pt x="146" y="173"/>
                  </a:lnTo>
                  <a:lnTo>
                    <a:pt x="222" y="169"/>
                  </a:lnTo>
                  <a:lnTo>
                    <a:pt x="244" y="128"/>
                  </a:lnTo>
                  <a:lnTo>
                    <a:pt x="231" y="93"/>
                  </a:lnTo>
                  <a:lnTo>
                    <a:pt x="200" y="45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362320" y="3124080"/>
            <a:ext cx="57913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838080"/>
            <a:ext cx="792972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676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four ste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op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obtained in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ree steps to compil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7920" y="380880"/>
            <a:ext cx="69897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98108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cash flows from operations, the figures on the income statement must be converted from an accrual basis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371600" y="304920"/>
            <a:ext cx="7027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47920"/>
            <a:ext cx="834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wo methods of converting the income statement from an accrual basis to a cash ba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s each item in the income statement from the accrual to the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sts only those adjustments necessary to convert net income to cash flows from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2286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1040" y="1066680"/>
            <a:ext cx="8217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Expen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Pay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36080" y="5410080"/>
            <a:ext cx="523800" cy="76320"/>
            <a:chOff x="8236080" y="5410080"/>
            <a:chExt cx="523800" cy="76320"/>
          </a:xfrm>
        </p:grpSpPr>
        <p:sp>
          <p:nvSpPr>
            <p:cNvPr id="392" name=""/>
            <p:cNvSpPr/>
            <p:nvPr/>
          </p:nvSpPr>
          <p:spPr>
            <a:xfrm>
              <a:off x="8236080" y="541008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548640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06600" y="5238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06480" y="167652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List of individual items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5280" y="519732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15280" y="527364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295280" y="228600"/>
            <a:ext cx="7162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lationship of Accrual and Cash Bases of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9320" y="1136520"/>
            <a:ext cx="8319960" cy="5194440"/>
            <a:chOff x="679320" y="1136520"/>
            <a:chExt cx="8319960" cy="5194440"/>
          </a:xfrm>
        </p:grpSpPr>
        <p:sp>
          <p:nvSpPr>
            <p:cNvPr id="400" name=""/>
            <p:cNvSpPr/>
            <p:nvPr/>
          </p:nvSpPr>
          <p:spPr>
            <a:xfrm>
              <a:off x="4916520" y="2975040"/>
              <a:ext cx="2387520" cy="1596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8440" y="2854440"/>
              <a:ext cx="2386080" cy="1660680"/>
            </a:xfrm>
            <a:prstGeom prst="rect">
              <a:avLst/>
            </a:prstGeom>
            <a:solidFill>
              <a:srgbClr val="9ff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320" y="1136520"/>
              <a:ext cx="824220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486400" y="2362320"/>
              <a:ext cx="320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14400" y="2362320"/>
              <a:ext cx="3635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RUAL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1164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48" y="149"/>
                  </a:moveTo>
                  <a:lnTo>
                    <a:pt x="48" y="177"/>
                  </a:lnTo>
                  <a:lnTo>
                    <a:pt x="48" y="199"/>
                  </a:lnTo>
                  <a:lnTo>
                    <a:pt x="39" y="217"/>
                  </a:lnTo>
                  <a:lnTo>
                    <a:pt x="39" y="230"/>
                  </a:lnTo>
                  <a:lnTo>
                    <a:pt x="35" y="252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26" y="39"/>
                  </a:lnTo>
                  <a:lnTo>
                    <a:pt x="35" y="61"/>
                  </a:lnTo>
                  <a:lnTo>
                    <a:pt x="39" y="79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0960" y="336564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19560" y="3300480"/>
              <a:ext cx="151200" cy="109800"/>
            </a:xfrm>
            <a:custGeom>
              <a:avLst/>
              <a:gdLst/>
              <a:ahLst/>
              <a:rect l="0" t="0" r="r" b="b"/>
              <a:pathLst>
                <a:path w="420" h="305">
                  <a:moveTo>
                    <a:pt x="48" y="149"/>
                  </a:moveTo>
                  <a:lnTo>
                    <a:pt x="48" y="177"/>
                  </a:lnTo>
                  <a:lnTo>
                    <a:pt x="48" y="203"/>
                  </a:lnTo>
                  <a:lnTo>
                    <a:pt x="39" y="221"/>
                  </a:lnTo>
                  <a:lnTo>
                    <a:pt x="39" y="230"/>
                  </a:lnTo>
                  <a:lnTo>
                    <a:pt x="35" y="239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20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26" y="39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3440" y="33656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13200" y="3300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203"/>
                  </a:lnTo>
                  <a:lnTo>
                    <a:pt x="35" y="221"/>
                  </a:lnTo>
                  <a:lnTo>
                    <a:pt x="35" y="230"/>
                  </a:lnTo>
                  <a:lnTo>
                    <a:pt x="30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0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3440" y="43718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00600" y="4308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199"/>
                  </a:lnTo>
                  <a:lnTo>
                    <a:pt x="35" y="217"/>
                  </a:lnTo>
                  <a:lnTo>
                    <a:pt x="35" y="230"/>
                  </a:lnTo>
                  <a:lnTo>
                    <a:pt x="30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9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4400" y="43718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56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199"/>
                  </a:lnTo>
                  <a:lnTo>
                    <a:pt x="39" y="217"/>
                  </a:lnTo>
                  <a:lnTo>
                    <a:pt x="35" y="230"/>
                  </a:lnTo>
                  <a:lnTo>
                    <a:pt x="35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13" y="305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9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4400" y="33656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21560" y="3300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203"/>
                  </a:lnTo>
                  <a:lnTo>
                    <a:pt x="39" y="221"/>
                  </a:lnTo>
                  <a:lnTo>
                    <a:pt x="35" y="230"/>
                  </a:lnTo>
                  <a:lnTo>
                    <a:pt x="35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0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38360" y="3017880"/>
              <a:ext cx="2262240" cy="822240"/>
              <a:chOff x="738360" y="3017880"/>
              <a:chExt cx="2262240" cy="822240"/>
            </a:xfrm>
          </p:grpSpPr>
          <p:sp>
            <p:nvSpPr>
              <p:cNvPr id="417" name=""/>
              <p:cNvSpPr/>
              <p:nvPr/>
            </p:nvSpPr>
            <p:spPr>
              <a:xfrm>
                <a:off x="738360" y="3071880"/>
                <a:ext cx="2206800" cy="768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3800" y="3017880"/>
                <a:ext cx="2206800" cy="76212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1069920" y="3197160"/>
                <a:ext cx="17049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REVENU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38360" y="4062240"/>
              <a:ext cx="2262240" cy="819000"/>
              <a:chOff x="738360" y="4062240"/>
              <a:chExt cx="2262240" cy="81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738360" y="4116240"/>
                <a:ext cx="2206800" cy="765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3800" y="4062240"/>
                <a:ext cx="2206800" cy="763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995400" y="4240080"/>
                <a:ext cx="18493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EXPENS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079800" y="436716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454560" y="3017880"/>
              <a:ext cx="1092240" cy="1805040"/>
              <a:chOff x="3454560" y="3017880"/>
              <a:chExt cx="1092240" cy="1805040"/>
            </a:xfrm>
          </p:grpSpPr>
          <p:sp>
            <p:nvSpPr>
              <p:cNvPr id="426" name=""/>
              <p:cNvSpPr/>
              <p:nvPr/>
            </p:nvSpPr>
            <p:spPr>
              <a:xfrm>
                <a:off x="34545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10000" y="3017880"/>
                <a:ext cx="10368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3795840" y="3598920"/>
                <a:ext cx="485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>
                <a:off x="3643200" y="3773520"/>
                <a:ext cx="790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110280" y="3475080"/>
              <a:ext cx="19044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7696080" y="3017880"/>
              <a:ext cx="1303200" cy="1805040"/>
              <a:chOff x="7696080" y="3017880"/>
              <a:chExt cx="1303200" cy="1805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7547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10560" y="3017880"/>
                <a:ext cx="10350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7731000" y="3225960"/>
                <a:ext cx="12049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H FLOW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8059680" y="3575160"/>
                <a:ext cx="671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7696080" y="3773520"/>
                <a:ext cx="13032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64560" y="3944880"/>
                <a:ext cx="2001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022720" y="2965320"/>
              <a:ext cx="2298600" cy="16128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c6b5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0080" y="3352680"/>
              <a:ext cx="14479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029200" y="3048120"/>
              <a:ext cx="2197080" cy="13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JUSTMENTS TO RECONC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CASH FLOW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OPERATING 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371600"/>
            <a:ext cx="74674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15238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amortization, and depletion expense are allocations of expense and do not invol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djustment is needed to increase net income by the amount of depreciation recor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4800" y="609480"/>
            <a:ext cx="8539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143000" y="609480"/>
            <a:ext cx="74041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s and Lo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6668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s and losses do not affect cash flows from operating activities and need to be removed from this s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sh receipts are shown with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219320" y="21337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have posi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have nega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609480"/>
            <a:ext cx="6940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066680" y="16002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received from sales was calculated as $706,000 - $698,000 = $8,000 more than sales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600200" y="304920"/>
            <a:ext cx="65595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79320" y="3193920"/>
            <a:ext cx="8242920" cy="2890800"/>
            <a:chOff x="679320" y="3193920"/>
            <a:chExt cx="8242920" cy="2890800"/>
          </a:xfrm>
        </p:grpSpPr>
        <p:sp>
          <p:nvSpPr>
            <p:cNvPr id="450" name=""/>
            <p:cNvSpPr/>
            <p:nvPr/>
          </p:nvSpPr>
          <p:spPr>
            <a:xfrm>
              <a:off x="2448000" y="4648320"/>
              <a:ext cx="4638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205080" y="4114800"/>
              <a:ext cx="3246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Receiv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2209680" y="4648320"/>
              <a:ext cx="28195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5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69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17760" y="5486400"/>
              <a:ext cx="47451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367000" y="5562720"/>
              <a:ext cx="2671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27840" y="3193920"/>
              <a:ext cx="1994400" cy="1537200"/>
            </a:xfrm>
            <a:custGeom>
              <a:avLst/>
              <a:gdLst/>
              <a:ahLst/>
              <a:rect l="0" t="0" r="r" b="b"/>
              <a:pathLst>
                <a:path fill="none" w="5540" h="4270">
                  <a:moveTo>
                    <a:pt x="0" y="426"/>
                  </a:moveTo>
                  <a:lnTo>
                    <a:pt x="0" y="3416"/>
                  </a:lnTo>
                  <a:lnTo>
                    <a:pt x="553" y="3843"/>
                  </a:lnTo>
                  <a:lnTo>
                    <a:pt x="1107" y="3843"/>
                  </a:lnTo>
                  <a:lnTo>
                    <a:pt x="553" y="4270"/>
                  </a:lnTo>
                  <a:lnTo>
                    <a:pt x="1662" y="3843"/>
                  </a:lnTo>
                  <a:lnTo>
                    <a:pt x="4986" y="3843"/>
                  </a:lnTo>
                  <a:lnTo>
                    <a:pt x="5540" y="3416"/>
                  </a:lnTo>
                  <a:lnTo>
                    <a:pt x="5540" y="426"/>
                  </a:lnTo>
                  <a:lnTo>
                    <a:pt x="4986" y="0"/>
                  </a:lnTo>
                  <a:lnTo>
                    <a:pt x="553" y="0"/>
                  </a:lnTo>
                  <a:lnTo>
                    <a:pt x="0" y="426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010280" y="3200400"/>
              <a:ext cx="1905120" cy="12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Receipts from          Customer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9320" y="3892680"/>
              <a:ext cx="1770480" cy="1295640"/>
            </a:xfrm>
            <a:custGeom>
              <a:avLst/>
              <a:gdLst/>
              <a:ahLst/>
              <a:rect l="0" t="0" r="r" b="b"/>
              <a:pathLst>
                <a:path fill="none" w="4918" h="3599">
                  <a:moveTo>
                    <a:pt x="4918" y="359"/>
                  </a:moveTo>
                  <a:lnTo>
                    <a:pt x="4918" y="2879"/>
                  </a:lnTo>
                  <a:lnTo>
                    <a:pt x="4427" y="3239"/>
                  </a:lnTo>
                  <a:lnTo>
                    <a:pt x="3935" y="3239"/>
                  </a:lnTo>
                  <a:lnTo>
                    <a:pt x="4427" y="3599"/>
                  </a:lnTo>
                  <a:lnTo>
                    <a:pt x="3442" y="3239"/>
                  </a:lnTo>
                  <a:lnTo>
                    <a:pt x="491" y="3239"/>
                  </a:lnTo>
                  <a:lnTo>
                    <a:pt x="0" y="2879"/>
                  </a:lnTo>
                  <a:lnTo>
                    <a:pt x="0" y="359"/>
                  </a:lnTo>
                  <a:lnTo>
                    <a:pt x="491" y="0"/>
                  </a:lnTo>
                  <a:lnTo>
                    <a:pt x="4427" y="0"/>
                  </a:lnTo>
                  <a:lnTo>
                    <a:pt x="4918" y="359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687240" y="3962520"/>
              <a:ext cx="17733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4657680"/>
              <a:ext cx="0" cy="14270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791320" y="4648320"/>
              <a:ext cx="128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70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447920" y="2209680"/>
            <a:ext cx="7002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are added to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are deducted from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609480"/>
            <a:ext cx="6948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066680" y="15238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paid for purchases was $7,000 less than what appears on the income statement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509840" y="417600"/>
            <a:ext cx="6892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84240" y="3651120"/>
            <a:ext cx="8007120" cy="2722680"/>
            <a:chOff x="984240" y="3651120"/>
            <a:chExt cx="8007120" cy="2722680"/>
          </a:xfrm>
        </p:grpSpPr>
        <p:sp>
          <p:nvSpPr>
            <p:cNvPr id="466" name=""/>
            <p:cNvSpPr/>
            <p:nvPr/>
          </p:nvSpPr>
          <p:spPr>
            <a:xfrm>
              <a:off x="4359240" y="4851360"/>
              <a:ext cx="0" cy="15224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048120" y="4267080"/>
              <a:ext cx="2916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809880" y="4800600"/>
              <a:ext cx="32767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4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5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343400" y="5638680"/>
              <a:ext cx="2895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3986280"/>
              <a:ext cx="1705320" cy="973440"/>
            </a:xfrm>
            <a:custGeom>
              <a:avLst/>
              <a:gdLst/>
              <a:ahLst/>
              <a:rect l="0" t="0" r="r" b="b"/>
              <a:pathLst>
                <a:path fill="none" w="4737" h="2704">
                  <a:moveTo>
                    <a:pt x="0" y="270"/>
                  </a:moveTo>
                  <a:lnTo>
                    <a:pt x="0" y="2163"/>
                  </a:lnTo>
                  <a:lnTo>
                    <a:pt x="473" y="2433"/>
                  </a:lnTo>
                  <a:lnTo>
                    <a:pt x="947" y="2433"/>
                  </a:lnTo>
                  <a:lnTo>
                    <a:pt x="473" y="2704"/>
                  </a:lnTo>
                  <a:lnTo>
                    <a:pt x="1420" y="2433"/>
                  </a:lnTo>
                  <a:lnTo>
                    <a:pt x="4263" y="2433"/>
                  </a:lnTo>
                  <a:lnTo>
                    <a:pt x="4737" y="2163"/>
                  </a:lnTo>
                  <a:lnTo>
                    <a:pt x="4737" y="270"/>
                  </a:lnTo>
                  <a:lnTo>
                    <a:pt x="4263" y="0"/>
                  </a:lnTo>
                  <a:lnTo>
                    <a:pt x="473" y="0"/>
                  </a:lnTo>
                  <a:lnTo>
                    <a:pt x="0" y="270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238880" y="4114800"/>
              <a:ext cx="1752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urchas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4240" y="3651120"/>
              <a:ext cx="1689480" cy="1460880"/>
            </a:xfrm>
            <a:custGeom>
              <a:avLst/>
              <a:gdLst/>
              <a:ahLst/>
              <a:rect l="0" t="0" r="r" b="b"/>
              <a:pathLst>
                <a:path fill="none" w="4693" h="4058">
                  <a:moveTo>
                    <a:pt x="4693" y="405"/>
                  </a:moveTo>
                  <a:lnTo>
                    <a:pt x="4693" y="3247"/>
                  </a:lnTo>
                  <a:lnTo>
                    <a:pt x="4224" y="3653"/>
                  </a:lnTo>
                  <a:lnTo>
                    <a:pt x="3755" y="3653"/>
                  </a:lnTo>
                  <a:lnTo>
                    <a:pt x="4224" y="4058"/>
                  </a:lnTo>
                  <a:lnTo>
                    <a:pt x="3285" y="3653"/>
                  </a:lnTo>
                  <a:lnTo>
                    <a:pt x="469" y="3653"/>
                  </a:lnTo>
                  <a:lnTo>
                    <a:pt x="0" y="3247"/>
                  </a:lnTo>
                  <a:lnTo>
                    <a:pt x="0" y="405"/>
                  </a:lnTo>
                  <a:lnTo>
                    <a:pt x="469" y="0"/>
                  </a:lnTo>
                  <a:lnTo>
                    <a:pt x="4224" y="0"/>
                  </a:lnTo>
                  <a:lnTo>
                    <a:pt x="4693" y="405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066680" y="3657600"/>
              <a:ext cx="16002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aid to Suppli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74800" y="4800600"/>
              <a:ext cx="44881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8120" y="4800600"/>
              <a:ext cx="1447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1120" y="5638680"/>
              <a:ext cx="4487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38080" y="457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ffects of Items on the Income Statement That Do Not Affect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2362320"/>
            <a:ext cx="79246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(Deduct from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ai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De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14400" y="533520"/>
            <a:ext cx="77994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2133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 (net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ntor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i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76212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ome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286000" y="121932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5909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essential differen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tween the direct method and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of determin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29400" y="304920"/>
            <a:ext cx="2132280" cy="2056320"/>
            <a:chOff x="6629400" y="304920"/>
            <a:chExt cx="2132280" cy="2056320"/>
          </a:xfrm>
        </p:grpSpPr>
        <p:sp>
          <p:nvSpPr>
            <p:cNvPr id="486" name=""/>
            <p:cNvSpPr/>
            <p:nvPr/>
          </p:nvSpPr>
          <p:spPr>
            <a:xfrm>
              <a:off x="663588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92"/>
                  </a:lnTo>
                  <a:lnTo>
                    <a:pt x="499" y="343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9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6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06"/>
                  </a:lnTo>
                  <a:lnTo>
                    <a:pt x="446" y="1897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06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68960" y="1606680"/>
              <a:ext cx="154440" cy="346320"/>
            </a:xfrm>
            <a:custGeom>
              <a:avLst/>
              <a:gdLst/>
              <a:ahLst/>
              <a:rect l="0" t="0" r="r" b="b"/>
              <a:pathLst>
                <a:path w="429" h="962">
                  <a:moveTo>
                    <a:pt x="217" y="0"/>
                  </a:moveTo>
                  <a:lnTo>
                    <a:pt x="429" y="246"/>
                  </a:lnTo>
                  <a:lnTo>
                    <a:pt x="323" y="790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33" y="410"/>
                  </a:lnTo>
                  <a:lnTo>
                    <a:pt x="217" y="198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5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15200" y="105084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48"/>
                  </a:lnTo>
                  <a:lnTo>
                    <a:pt x="26" y="1266"/>
                  </a:lnTo>
                  <a:lnTo>
                    <a:pt x="233" y="1407"/>
                  </a:lnTo>
                  <a:lnTo>
                    <a:pt x="251" y="1879"/>
                  </a:lnTo>
                  <a:lnTo>
                    <a:pt x="464" y="1879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32"/>
                  </a:lnTo>
                  <a:lnTo>
                    <a:pt x="918" y="1173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32"/>
                  </a:lnTo>
                  <a:lnTo>
                    <a:pt x="1435" y="1390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58"/>
                  </a:lnTo>
                  <a:lnTo>
                    <a:pt x="777" y="264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36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3896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0"/>
                  </a:lnTo>
                  <a:lnTo>
                    <a:pt x="88" y="1054"/>
                  </a:lnTo>
                  <a:lnTo>
                    <a:pt x="0" y="1143"/>
                  </a:lnTo>
                  <a:lnTo>
                    <a:pt x="0" y="1319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8"/>
                  </a:lnTo>
                  <a:lnTo>
                    <a:pt x="1619" y="1090"/>
                  </a:lnTo>
                  <a:lnTo>
                    <a:pt x="1601" y="962"/>
                  </a:lnTo>
                  <a:lnTo>
                    <a:pt x="1566" y="900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4"/>
                  </a:lnTo>
                  <a:lnTo>
                    <a:pt x="701" y="0"/>
                  </a:lnTo>
                  <a:lnTo>
                    <a:pt x="436" y="246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1800" y="1187280"/>
              <a:ext cx="533880" cy="1055880"/>
            </a:xfrm>
            <a:custGeom>
              <a:avLst/>
              <a:gdLst/>
              <a:ahLst/>
              <a:rect l="0" t="0" r="r" b="b"/>
              <a:pathLst>
                <a:path w="1483" h="2933">
                  <a:moveTo>
                    <a:pt x="304" y="149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10"/>
                  </a:lnTo>
                  <a:lnTo>
                    <a:pt x="1192" y="2651"/>
                  </a:lnTo>
                  <a:lnTo>
                    <a:pt x="631" y="2933"/>
                  </a:lnTo>
                  <a:lnTo>
                    <a:pt x="198" y="2774"/>
                  </a:lnTo>
                  <a:lnTo>
                    <a:pt x="198" y="1985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05560" y="33336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37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1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7"/>
                  </a:lnTo>
                  <a:lnTo>
                    <a:pt x="966" y="216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67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3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39120" y="1384200"/>
              <a:ext cx="159120" cy="797400"/>
            </a:xfrm>
            <a:custGeom>
              <a:avLst/>
              <a:gdLst/>
              <a:ahLst/>
              <a:rect l="0" t="0" r="r" b="b"/>
              <a:pathLst>
                <a:path w="442" h="2215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11" y="1548"/>
                  </a:lnTo>
                  <a:lnTo>
                    <a:pt x="111" y="1765"/>
                  </a:lnTo>
                  <a:lnTo>
                    <a:pt x="52" y="1929"/>
                  </a:lnTo>
                  <a:lnTo>
                    <a:pt x="278" y="2215"/>
                  </a:lnTo>
                  <a:lnTo>
                    <a:pt x="425" y="1783"/>
                  </a:lnTo>
                  <a:lnTo>
                    <a:pt x="425" y="1487"/>
                  </a:lnTo>
                  <a:lnTo>
                    <a:pt x="318" y="1209"/>
                  </a:lnTo>
                  <a:lnTo>
                    <a:pt x="265" y="834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5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34440" y="1116000"/>
              <a:ext cx="127440" cy="71640"/>
            </a:xfrm>
            <a:custGeom>
              <a:avLst/>
              <a:gdLst/>
              <a:ahLst/>
              <a:rect l="0" t="0" r="r" b="b"/>
              <a:pathLst>
                <a:path w="354" h="199">
                  <a:moveTo>
                    <a:pt x="0" y="61"/>
                  </a:moveTo>
                  <a:lnTo>
                    <a:pt x="142" y="199"/>
                  </a:lnTo>
                  <a:lnTo>
                    <a:pt x="284" y="181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2960" y="74772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74120" y="71424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35720" y="511200"/>
              <a:ext cx="555840" cy="392400"/>
            </a:xfrm>
            <a:custGeom>
              <a:avLst/>
              <a:gdLst/>
              <a:ahLst/>
              <a:rect l="0" t="0" r="r" b="b"/>
              <a:pathLst>
                <a:path w="1544" h="1090">
                  <a:moveTo>
                    <a:pt x="709" y="644"/>
                  </a:moveTo>
                  <a:lnTo>
                    <a:pt x="568" y="609"/>
                  </a:lnTo>
                  <a:lnTo>
                    <a:pt x="687" y="511"/>
                  </a:lnTo>
                  <a:lnTo>
                    <a:pt x="643" y="454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7"/>
                  </a:lnTo>
                  <a:lnTo>
                    <a:pt x="0" y="777"/>
                  </a:lnTo>
                  <a:lnTo>
                    <a:pt x="185" y="1081"/>
                  </a:lnTo>
                  <a:lnTo>
                    <a:pt x="229" y="1090"/>
                  </a:lnTo>
                  <a:lnTo>
                    <a:pt x="66" y="755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7"/>
                  </a:lnTo>
                  <a:lnTo>
                    <a:pt x="643" y="1015"/>
                  </a:lnTo>
                  <a:lnTo>
                    <a:pt x="643" y="1081"/>
                  </a:lnTo>
                  <a:lnTo>
                    <a:pt x="718" y="984"/>
                  </a:lnTo>
                  <a:lnTo>
                    <a:pt x="718" y="768"/>
                  </a:lnTo>
                  <a:lnTo>
                    <a:pt x="825" y="768"/>
                  </a:lnTo>
                  <a:lnTo>
                    <a:pt x="878" y="1015"/>
                  </a:lnTo>
                  <a:lnTo>
                    <a:pt x="940" y="1041"/>
                  </a:lnTo>
                  <a:lnTo>
                    <a:pt x="1125" y="1041"/>
                  </a:lnTo>
                  <a:lnTo>
                    <a:pt x="1319" y="993"/>
                  </a:lnTo>
                  <a:lnTo>
                    <a:pt x="1451" y="900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9"/>
                  </a:lnTo>
                  <a:lnTo>
                    <a:pt x="1328" y="467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4"/>
                  </a:lnTo>
                  <a:lnTo>
                    <a:pt x="997" y="529"/>
                  </a:lnTo>
                  <a:lnTo>
                    <a:pt x="838" y="471"/>
                  </a:lnTo>
                  <a:lnTo>
                    <a:pt x="816" y="529"/>
                  </a:lnTo>
                  <a:lnTo>
                    <a:pt x="900" y="583"/>
                  </a:lnTo>
                  <a:lnTo>
                    <a:pt x="900" y="640"/>
                  </a:lnTo>
                  <a:lnTo>
                    <a:pt x="1085" y="552"/>
                  </a:lnTo>
                  <a:lnTo>
                    <a:pt x="1240" y="542"/>
                  </a:lnTo>
                  <a:lnTo>
                    <a:pt x="1416" y="565"/>
                  </a:lnTo>
                  <a:lnTo>
                    <a:pt x="1416" y="596"/>
                  </a:lnTo>
                  <a:lnTo>
                    <a:pt x="1332" y="671"/>
                  </a:lnTo>
                  <a:lnTo>
                    <a:pt x="1301" y="768"/>
                  </a:lnTo>
                  <a:lnTo>
                    <a:pt x="1293" y="900"/>
                  </a:lnTo>
                  <a:lnTo>
                    <a:pt x="1191" y="953"/>
                  </a:lnTo>
                  <a:lnTo>
                    <a:pt x="1041" y="971"/>
                  </a:lnTo>
                  <a:lnTo>
                    <a:pt x="940" y="971"/>
                  </a:lnTo>
                  <a:lnTo>
                    <a:pt x="904" y="931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6160" y="963720"/>
              <a:ext cx="179640" cy="78120"/>
            </a:xfrm>
            <a:custGeom>
              <a:avLst/>
              <a:gdLst/>
              <a:ahLst/>
              <a:rect l="0" t="0" r="r" b="b"/>
              <a:pathLst>
                <a:path w="499" h="217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17"/>
                  </a:lnTo>
                  <a:lnTo>
                    <a:pt x="167" y="217"/>
                  </a:lnTo>
                  <a:lnTo>
                    <a:pt x="105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2636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16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92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5"/>
                  </a:lnTo>
                  <a:lnTo>
                    <a:pt x="149" y="353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944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69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620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36"/>
                  </a:lnTo>
                  <a:lnTo>
                    <a:pt x="145" y="534"/>
                  </a:lnTo>
                  <a:lnTo>
                    <a:pt x="176" y="343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198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3"/>
                  </a:lnTo>
                  <a:lnTo>
                    <a:pt x="1010" y="441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21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46"/>
                  </a:lnTo>
                  <a:lnTo>
                    <a:pt x="984" y="246"/>
                  </a:lnTo>
                  <a:lnTo>
                    <a:pt x="1173" y="119"/>
                  </a:lnTo>
                  <a:lnTo>
                    <a:pt x="882" y="158"/>
                  </a:lnTo>
                  <a:lnTo>
                    <a:pt x="745" y="216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3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29400" y="461880"/>
              <a:ext cx="171720" cy="90720"/>
            </a:xfrm>
            <a:custGeom>
              <a:avLst/>
              <a:gdLst/>
              <a:ahLst/>
              <a:rect l="0" t="0" r="r" b="b"/>
              <a:pathLst>
                <a:path w="477" h="252">
                  <a:moveTo>
                    <a:pt x="0" y="252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7"/>
                  </a:lnTo>
                  <a:lnTo>
                    <a:pt x="300" y="195"/>
                  </a:lnTo>
                  <a:lnTo>
                    <a:pt x="477" y="239"/>
                  </a:lnTo>
                  <a:lnTo>
                    <a:pt x="287" y="208"/>
                  </a:lnTo>
                  <a:lnTo>
                    <a:pt x="229" y="146"/>
                  </a:lnTo>
                  <a:lnTo>
                    <a:pt x="149" y="208"/>
                  </a:lnTo>
                  <a:lnTo>
                    <a:pt x="149" y="12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3560" y="106524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41"/>
                  </a:lnTo>
                  <a:lnTo>
                    <a:pt x="512" y="83"/>
                  </a:lnTo>
                  <a:lnTo>
                    <a:pt x="574" y="199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9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8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71"/>
                  </a:lnTo>
                  <a:lnTo>
                    <a:pt x="314" y="149"/>
                  </a:lnTo>
                  <a:lnTo>
                    <a:pt x="251" y="141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86560" y="779400"/>
              <a:ext cx="443160" cy="611640"/>
            </a:xfrm>
            <a:custGeom>
              <a:avLst/>
              <a:gdLst/>
              <a:ahLst/>
              <a:rect l="0" t="0" r="r" b="b"/>
              <a:pathLst>
                <a:path w="1231" h="1699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1"/>
                  </a:lnTo>
                  <a:lnTo>
                    <a:pt x="1028" y="569"/>
                  </a:lnTo>
                  <a:lnTo>
                    <a:pt x="922" y="587"/>
                  </a:lnTo>
                  <a:lnTo>
                    <a:pt x="896" y="587"/>
                  </a:lnTo>
                  <a:lnTo>
                    <a:pt x="896" y="922"/>
                  </a:lnTo>
                  <a:lnTo>
                    <a:pt x="944" y="1165"/>
                  </a:lnTo>
                  <a:lnTo>
                    <a:pt x="944" y="1364"/>
                  </a:lnTo>
                  <a:lnTo>
                    <a:pt x="759" y="1563"/>
                  </a:lnTo>
                  <a:lnTo>
                    <a:pt x="502" y="1699"/>
                  </a:lnTo>
                  <a:lnTo>
                    <a:pt x="339" y="1699"/>
                  </a:lnTo>
                  <a:lnTo>
                    <a:pt x="260" y="1660"/>
                  </a:lnTo>
                  <a:lnTo>
                    <a:pt x="145" y="1426"/>
                  </a:lnTo>
                  <a:lnTo>
                    <a:pt x="39" y="1342"/>
                  </a:lnTo>
                  <a:lnTo>
                    <a:pt x="0" y="1280"/>
                  </a:lnTo>
                  <a:lnTo>
                    <a:pt x="136" y="1364"/>
                  </a:lnTo>
                  <a:lnTo>
                    <a:pt x="238" y="1448"/>
                  </a:lnTo>
                  <a:lnTo>
                    <a:pt x="432" y="1461"/>
                  </a:lnTo>
                  <a:lnTo>
                    <a:pt x="612" y="1377"/>
                  </a:lnTo>
                  <a:lnTo>
                    <a:pt x="706" y="1280"/>
                  </a:lnTo>
                  <a:lnTo>
                    <a:pt x="807" y="1107"/>
                  </a:lnTo>
                  <a:lnTo>
                    <a:pt x="821" y="904"/>
                  </a:lnTo>
                  <a:lnTo>
                    <a:pt x="860" y="246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1"/>
                  </a:lnTo>
                  <a:lnTo>
                    <a:pt x="1165" y="44"/>
                  </a:lnTo>
                  <a:lnTo>
                    <a:pt x="1112" y="4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99320" y="1305000"/>
              <a:ext cx="357480" cy="565560"/>
            </a:xfrm>
            <a:custGeom>
              <a:avLst/>
              <a:gdLst/>
              <a:ahLst/>
              <a:rect l="0" t="0" r="r" b="b"/>
              <a:pathLst>
                <a:path w="993" h="1571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59"/>
                  </a:lnTo>
                  <a:lnTo>
                    <a:pt x="653" y="547"/>
                  </a:lnTo>
                  <a:lnTo>
                    <a:pt x="666" y="666"/>
                  </a:lnTo>
                  <a:lnTo>
                    <a:pt x="790" y="649"/>
                  </a:lnTo>
                  <a:lnTo>
                    <a:pt x="944" y="750"/>
                  </a:lnTo>
                  <a:lnTo>
                    <a:pt x="993" y="878"/>
                  </a:lnTo>
                  <a:lnTo>
                    <a:pt x="993" y="1099"/>
                  </a:lnTo>
                  <a:lnTo>
                    <a:pt x="790" y="1435"/>
                  </a:lnTo>
                  <a:lnTo>
                    <a:pt x="724" y="1571"/>
                  </a:lnTo>
                  <a:lnTo>
                    <a:pt x="759" y="1386"/>
                  </a:lnTo>
                  <a:lnTo>
                    <a:pt x="724" y="1320"/>
                  </a:lnTo>
                  <a:lnTo>
                    <a:pt x="600" y="1205"/>
                  </a:lnTo>
                  <a:lnTo>
                    <a:pt x="405" y="1068"/>
                  </a:lnTo>
                  <a:lnTo>
                    <a:pt x="640" y="1147"/>
                  </a:lnTo>
                  <a:lnTo>
                    <a:pt x="777" y="1249"/>
                  </a:lnTo>
                  <a:lnTo>
                    <a:pt x="847" y="1236"/>
                  </a:lnTo>
                  <a:lnTo>
                    <a:pt x="891" y="1173"/>
                  </a:lnTo>
                  <a:lnTo>
                    <a:pt x="944" y="1019"/>
                  </a:lnTo>
                  <a:lnTo>
                    <a:pt x="927" y="865"/>
                  </a:lnTo>
                  <a:lnTo>
                    <a:pt x="856" y="777"/>
                  </a:lnTo>
                  <a:lnTo>
                    <a:pt x="733" y="750"/>
                  </a:lnTo>
                  <a:lnTo>
                    <a:pt x="600" y="750"/>
                  </a:lnTo>
                  <a:lnTo>
                    <a:pt x="556" y="516"/>
                  </a:lnTo>
                  <a:lnTo>
                    <a:pt x="335" y="437"/>
                  </a:lnTo>
                  <a:lnTo>
                    <a:pt x="335" y="503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304"/>
                  </a:lnTo>
                  <a:lnTo>
                    <a:pt x="88" y="503"/>
                  </a:lnTo>
                  <a:lnTo>
                    <a:pt x="207" y="666"/>
                  </a:lnTo>
                  <a:lnTo>
                    <a:pt x="74" y="565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29400" y="155592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45"/>
                  </a:lnTo>
                  <a:lnTo>
                    <a:pt x="35" y="1064"/>
                  </a:lnTo>
                  <a:lnTo>
                    <a:pt x="127" y="1064"/>
                  </a:lnTo>
                  <a:lnTo>
                    <a:pt x="251" y="945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72"/>
                  </a:lnTo>
                  <a:lnTo>
                    <a:pt x="464" y="935"/>
                  </a:lnTo>
                  <a:lnTo>
                    <a:pt x="321" y="1161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61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04000" y="1811160"/>
              <a:ext cx="146520" cy="216360"/>
            </a:xfrm>
            <a:custGeom>
              <a:avLst/>
              <a:gdLst/>
              <a:ahLst/>
              <a:rect l="0" t="0" r="r" b="b"/>
              <a:pathLst>
                <a:path w="407" h="601">
                  <a:moveTo>
                    <a:pt x="0" y="535"/>
                  </a:moveTo>
                  <a:lnTo>
                    <a:pt x="133" y="375"/>
                  </a:lnTo>
                  <a:lnTo>
                    <a:pt x="159" y="225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4"/>
                  </a:lnTo>
                  <a:lnTo>
                    <a:pt x="407" y="601"/>
                  </a:lnTo>
                  <a:lnTo>
                    <a:pt x="287" y="557"/>
                  </a:lnTo>
                  <a:lnTo>
                    <a:pt x="230" y="331"/>
                  </a:lnTo>
                  <a:lnTo>
                    <a:pt x="133" y="44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83280" y="1822320"/>
              <a:ext cx="97200" cy="194040"/>
            </a:xfrm>
            <a:custGeom>
              <a:avLst/>
              <a:gdLst/>
              <a:ahLst/>
              <a:rect l="0" t="0" r="r" b="b"/>
              <a:pathLst>
                <a:path w="270" h="539">
                  <a:moveTo>
                    <a:pt x="0" y="407"/>
                  </a:moveTo>
                  <a:lnTo>
                    <a:pt x="13" y="203"/>
                  </a:lnTo>
                  <a:lnTo>
                    <a:pt x="71" y="88"/>
                  </a:lnTo>
                  <a:lnTo>
                    <a:pt x="133" y="513"/>
                  </a:lnTo>
                  <a:lnTo>
                    <a:pt x="213" y="513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49"/>
                  </a:lnTo>
                  <a:lnTo>
                    <a:pt x="213" y="539"/>
                  </a:lnTo>
                  <a:lnTo>
                    <a:pt x="106" y="539"/>
                  </a:lnTo>
                  <a:lnTo>
                    <a:pt x="61" y="168"/>
                  </a:lnTo>
                  <a:lnTo>
                    <a:pt x="30" y="21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13760" y="1054080"/>
              <a:ext cx="233640" cy="522720"/>
            </a:xfrm>
            <a:custGeom>
              <a:avLst/>
              <a:gdLst/>
              <a:ahLst/>
              <a:rect l="0" t="0" r="r" b="b"/>
              <a:pathLst>
                <a:path w="649" h="1452">
                  <a:moveTo>
                    <a:pt x="171" y="790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4"/>
                  </a:lnTo>
                  <a:lnTo>
                    <a:pt x="238" y="600"/>
                  </a:lnTo>
                  <a:lnTo>
                    <a:pt x="207" y="790"/>
                  </a:lnTo>
                  <a:lnTo>
                    <a:pt x="286" y="790"/>
                  </a:lnTo>
                  <a:lnTo>
                    <a:pt x="83" y="869"/>
                  </a:lnTo>
                  <a:lnTo>
                    <a:pt x="35" y="1024"/>
                  </a:lnTo>
                  <a:lnTo>
                    <a:pt x="48" y="1219"/>
                  </a:lnTo>
                  <a:lnTo>
                    <a:pt x="264" y="1452"/>
                  </a:lnTo>
                  <a:lnTo>
                    <a:pt x="35" y="1249"/>
                  </a:lnTo>
                  <a:lnTo>
                    <a:pt x="0" y="1081"/>
                  </a:lnTo>
                  <a:lnTo>
                    <a:pt x="17" y="909"/>
                  </a:lnTo>
                  <a:lnTo>
                    <a:pt x="97" y="794"/>
                  </a:lnTo>
                  <a:lnTo>
                    <a:pt x="171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70720" y="1054080"/>
              <a:ext cx="390960" cy="505080"/>
            </a:xfrm>
            <a:custGeom>
              <a:avLst/>
              <a:gdLst/>
              <a:ahLst/>
              <a:rect l="0" t="0" r="r" b="b"/>
              <a:pathLst>
                <a:path w="1086" h="1403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80"/>
                  </a:lnTo>
                  <a:lnTo>
                    <a:pt x="287" y="626"/>
                  </a:lnTo>
                  <a:lnTo>
                    <a:pt x="653" y="790"/>
                  </a:lnTo>
                  <a:lnTo>
                    <a:pt x="1077" y="1231"/>
                  </a:lnTo>
                  <a:lnTo>
                    <a:pt x="1086" y="1354"/>
                  </a:lnTo>
                  <a:lnTo>
                    <a:pt x="1064" y="1403"/>
                  </a:lnTo>
                  <a:lnTo>
                    <a:pt x="905" y="1403"/>
                  </a:lnTo>
                  <a:lnTo>
                    <a:pt x="763" y="1315"/>
                  </a:lnTo>
                  <a:lnTo>
                    <a:pt x="644" y="1169"/>
                  </a:lnTo>
                  <a:lnTo>
                    <a:pt x="578" y="1090"/>
                  </a:lnTo>
                  <a:lnTo>
                    <a:pt x="503" y="1072"/>
                  </a:lnTo>
                  <a:lnTo>
                    <a:pt x="596" y="1072"/>
                  </a:lnTo>
                  <a:lnTo>
                    <a:pt x="772" y="1306"/>
                  </a:lnTo>
                  <a:lnTo>
                    <a:pt x="1003" y="1372"/>
                  </a:lnTo>
                  <a:lnTo>
                    <a:pt x="1051" y="1306"/>
                  </a:lnTo>
                  <a:lnTo>
                    <a:pt x="1025" y="1200"/>
                  </a:lnTo>
                  <a:lnTo>
                    <a:pt x="627" y="878"/>
                  </a:lnTo>
                  <a:lnTo>
                    <a:pt x="569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22"/>
                  </a:lnTo>
                  <a:lnTo>
                    <a:pt x="198" y="772"/>
                  </a:lnTo>
                  <a:lnTo>
                    <a:pt x="211" y="674"/>
                  </a:lnTo>
                  <a:lnTo>
                    <a:pt x="211" y="440"/>
                  </a:lnTo>
                  <a:lnTo>
                    <a:pt x="349" y="273"/>
                  </a:lnTo>
                  <a:lnTo>
                    <a:pt x="349" y="5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99440" y="1450800"/>
              <a:ext cx="332280" cy="300240"/>
            </a:xfrm>
            <a:custGeom>
              <a:avLst/>
              <a:gdLst/>
              <a:ahLst/>
              <a:rect l="0" t="0" r="r" b="b"/>
              <a:pathLst>
                <a:path w="923" h="834">
                  <a:moveTo>
                    <a:pt x="694" y="0"/>
                  </a:moveTo>
                  <a:lnTo>
                    <a:pt x="666" y="74"/>
                  </a:lnTo>
                  <a:lnTo>
                    <a:pt x="804" y="343"/>
                  </a:lnTo>
                  <a:lnTo>
                    <a:pt x="875" y="631"/>
                  </a:lnTo>
                  <a:lnTo>
                    <a:pt x="795" y="631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7"/>
                  </a:lnTo>
                  <a:lnTo>
                    <a:pt x="450" y="343"/>
                  </a:lnTo>
                  <a:lnTo>
                    <a:pt x="538" y="450"/>
                  </a:lnTo>
                  <a:lnTo>
                    <a:pt x="538" y="649"/>
                  </a:lnTo>
                  <a:lnTo>
                    <a:pt x="472" y="794"/>
                  </a:lnTo>
                  <a:lnTo>
                    <a:pt x="389" y="737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304"/>
                  </a:lnTo>
                  <a:lnTo>
                    <a:pt x="180" y="706"/>
                  </a:lnTo>
                  <a:lnTo>
                    <a:pt x="97" y="763"/>
                  </a:lnTo>
                  <a:lnTo>
                    <a:pt x="26" y="706"/>
                  </a:lnTo>
                  <a:lnTo>
                    <a:pt x="13" y="357"/>
                  </a:lnTo>
                  <a:lnTo>
                    <a:pt x="0" y="697"/>
                  </a:lnTo>
                  <a:lnTo>
                    <a:pt x="61" y="821"/>
                  </a:lnTo>
                  <a:lnTo>
                    <a:pt x="180" y="821"/>
                  </a:lnTo>
                  <a:lnTo>
                    <a:pt x="220" y="724"/>
                  </a:lnTo>
                  <a:lnTo>
                    <a:pt x="247" y="405"/>
                  </a:lnTo>
                  <a:lnTo>
                    <a:pt x="269" y="534"/>
                  </a:lnTo>
                  <a:lnTo>
                    <a:pt x="371" y="803"/>
                  </a:lnTo>
                  <a:lnTo>
                    <a:pt x="486" y="834"/>
                  </a:lnTo>
                  <a:lnTo>
                    <a:pt x="569" y="724"/>
                  </a:lnTo>
                  <a:lnTo>
                    <a:pt x="569" y="464"/>
                  </a:lnTo>
                  <a:lnTo>
                    <a:pt x="795" y="680"/>
                  </a:lnTo>
                  <a:lnTo>
                    <a:pt x="910" y="680"/>
                  </a:lnTo>
                  <a:lnTo>
                    <a:pt x="923" y="534"/>
                  </a:lnTo>
                  <a:lnTo>
                    <a:pt x="839" y="273"/>
                  </a:lnTo>
                  <a:lnTo>
                    <a:pt x="694" y="5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56280" y="1141560"/>
              <a:ext cx="1478160" cy="1219680"/>
            </a:xfrm>
            <a:custGeom>
              <a:avLst/>
              <a:gdLst/>
              <a:ahLst/>
              <a:rect l="0" t="0" r="r" b="b"/>
              <a:pathLst>
                <a:path w="4106" h="3388">
                  <a:moveTo>
                    <a:pt x="1477" y="286"/>
                  </a:moveTo>
                  <a:lnTo>
                    <a:pt x="1402" y="304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1"/>
                  </a:lnTo>
                  <a:lnTo>
                    <a:pt x="542" y="1028"/>
                  </a:lnTo>
                  <a:lnTo>
                    <a:pt x="542" y="1121"/>
                  </a:lnTo>
                  <a:lnTo>
                    <a:pt x="648" y="1376"/>
                  </a:lnTo>
                  <a:lnTo>
                    <a:pt x="657" y="1689"/>
                  </a:lnTo>
                  <a:lnTo>
                    <a:pt x="586" y="1985"/>
                  </a:lnTo>
                  <a:lnTo>
                    <a:pt x="321" y="2161"/>
                  </a:lnTo>
                  <a:lnTo>
                    <a:pt x="286" y="2404"/>
                  </a:lnTo>
                  <a:lnTo>
                    <a:pt x="207" y="2404"/>
                  </a:lnTo>
                  <a:lnTo>
                    <a:pt x="167" y="2205"/>
                  </a:lnTo>
                  <a:lnTo>
                    <a:pt x="83" y="2205"/>
                  </a:lnTo>
                  <a:lnTo>
                    <a:pt x="48" y="2417"/>
                  </a:lnTo>
                  <a:lnTo>
                    <a:pt x="0" y="2479"/>
                  </a:lnTo>
                  <a:lnTo>
                    <a:pt x="180" y="2771"/>
                  </a:lnTo>
                  <a:lnTo>
                    <a:pt x="313" y="2780"/>
                  </a:lnTo>
                  <a:lnTo>
                    <a:pt x="542" y="2991"/>
                  </a:lnTo>
                  <a:lnTo>
                    <a:pt x="754" y="3022"/>
                  </a:lnTo>
                  <a:lnTo>
                    <a:pt x="868" y="2908"/>
                  </a:lnTo>
                  <a:lnTo>
                    <a:pt x="1155" y="2488"/>
                  </a:lnTo>
                  <a:lnTo>
                    <a:pt x="1177" y="3053"/>
                  </a:lnTo>
                  <a:lnTo>
                    <a:pt x="1155" y="3388"/>
                  </a:lnTo>
                  <a:lnTo>
                    <a:pt x="3528" y="3388"/>
                  </a:lnTo>
                  <a:lnTo>
                    <a:pt x="3352" y="3022"/>
                  </a:lnTo>
                  <a:lnTo>
                    <a:pt x="3268" y="2709"/>
                  </a:lnTo>
                  <a:lnTo>
                    <a:pt x="3246" y="2241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23"/>
                  </a:lnTo>
                  <a:lnTo>
                    <a:pt x="3850" y="2205"/>
                  </a:lnTo>
                  <a:lnTo>
                    <a:pt x="3934" y="2082"/>
                  </a:lnTo>
                  <a:lnTo>
                    <a:pt x="3987" y="1764"/>
                  </a:lnTo>
                  <a:lnTo>
                    <a:pt x="4106" y="1628"/>
                  </a:lnTo>
                  <a:lnTo>
                    <a:pt x="4044" y="1531"/>
                  </a:lnTo>
                  <a:lnTo>
                    <a:pt x="3956" y="1531"/>
                  </a:lnTo>
                  <a:lnTo>
                    <a:pt x="3885" y="1601"/>
                  </a:lnTo>
                  <a:lnTo>
                    <a:pt x="3819" y="1619"/>
                  </a:lnTo>
                  <a:lnTo>
                    <a:pt x="3736" y="1531"/>
                  </a:lnTo>
                  <a:lnTo>
                    <a:pt x="3634" y="1522"/>
                  </a:lnTo>
                  <a:lnTo>
                    <a:pt x="3444" y="1407"/>
                  </a:lnTo>
                  <a:lnTo>
                    <a:pt x="3330" y="1271"/>
                  </a:lnTo>
                  <a:lnTo>
                    <a:pt x="3308" y="1121"/>
                  </a:lnTo>
                  <a:lnTo>
                    <a:pt x="3330" y="971"/>
                  </a:lnTo>
                  <a:lnTo>
                    <a:pt x="3405" y="846"/>
                  </a:lnTo>
                  <a:lnTo>
                    <a:pt x="3506" y="740"/>
                  </a:lnTo>
                  <a:lnTo>
                    <a:pt x="3497" y="546"/>
                  </a:lnTo>
                  <a:lnTo>
                    <a:pt x="3497" y="401"/>
                  </a:lnTo>
                  <a:lnTo>
                    <a:pt x="3444" y="304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67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9"/>
                  </a:lnTo>
                  <a:lnTo>
                    <a:pt x="2457" y="874"/>
                  </a:lnTo>
                  <a:lnTo>
                    <a:pt x="2329" y="1125"/>
                  </a:lnTo>
                  <a:lnTo>
                    <a:pt x="2227" y="1434"/>
                  </a:lnTo>
                  <a:lnTo>
                    <a:pt x="2219" y="1619"/>
                  </a:lnTo>
                  <a:lnTo>
                    <a:pt x="2170" y="1773"/>
                  </a:lnTo>
                  <a:lnTo>
                    <a:pt x="2108" y="1928"/>
                  </a:lnTo>
                  <a:lnTo>
                    <a:pt x="2082" y="2174"/>
                  </a:lnTo>
                  <a:lnTo>
                    <a:pt x="2100" y="2382"/>
                  </a:lnTo>
                  <a:lnTo>
                    <a:pt x="2170" y="2616"/>
                  </a:lnTo>
                  <a:lnTo>
                    <a:pt x="2219" y="2709"/>
                  </a:lnTo>
                  <a:lnTo>
                    <a:pt x="2082" y="2797"/>
                  </a:lnTo>
                  <a:lnTo>
                    <a:pt x="1913" y="2846"/>
                  </a:lnTo>
                  <a:lnTo>
                    <a:pt x="1733" y="2868"/>
                  </a:lnTo>
                  <a:lnTo>
                    <a:pt x="1618" y="2868"/>
                  </a:lnTo>
                  <a:lnTo>
                    <a:pt x="1547" y="2837"/>
                  </a:lnTo>
                  <a:lnTo>
                    <a:pt x="1547" y="2634"/>
                  </a:lnTo>
                  <a:lnTo>
                    <a:pt x="1547" y="2333"/>
                  </a:lnTo>
                  <a:lnTo>
                    <a:pt x="1503" y="2033"/>
                  </a:lnTo>
                  <a:lnTo>
                    <a:pt x="1428" y="1773"/>
                  </a:lnTo>
                  <a:lnTo>
                    <a:pt x="1393" y="1562"/>
                  </a:lnTo>
                  <a:lnTo>
                    <a:pt x="1380" y="1262"/>
                  </a:lnTo>
                  <a:lnTo>
                    <a:pt x="1428" y="1002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304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32640" y="138600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2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7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67"/>
                  </a:lnTo>
                  <a:lnTo>
                    <a:pt x="509" y="1725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2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46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6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8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4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9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4360" y="46188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5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3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3"/>
                  </a:lnTo>
                  <a:lnTo>
                    <a:pt x="720" y="163"/>
                  </a:lnTo>
                  <a:lnTo>
                    <a:pt x="637" y="70"/>
                  </a:lnTo>
                  <a:lnTo>
                    <a:pt x="534" y="22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2160" y="836640"/>
              <a:ext cx="106560" cy="74880"/>
            </a:xfrm>
            <a:custGeom>
              <a:avLst/>
              <a:gdLst/>
              <a:ahLst/>
              <a:rect l="0" t="0" r="r" b="b"/>
              <a:pathLst>
                <a:path w="296" h="208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1"/>
                  </a:lnTo>
                  <a:lnTo>
                    <a:pt x="61" y="177"/>
                  </a:lnTo>
                  <a:lnTo>
                    <a:pt x="177" y="208"/>
                  </a:lnTo>
                  <a:lnTo>
                    <a:pt x="269" y="208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274320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91440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view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9072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the direct method,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vidually adjusted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al basis to a cash basis.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does not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vidual adjustment of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, bu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sts only the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convert net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362320" y="289548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9072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371600" y="380880"/>
            <a:ext cx="698832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9528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account that involves cash receipts and cash payments from investing activities is examined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hange in each account balance from one year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371600" y="380880"/>
            <a:ext cx="69120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3000" y="19051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cus is on long-term assets shown on the balance sheet and short-term investments from the current asset section of the balance sheet as well as investment gains and losses from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62120" y="106668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orporation’s change in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is done by analyzing the increases and decreases in the Investments account to determine the effects on the Cash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investments and sales decrease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676520" y="304920"/>
            <a:ext cx="67658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1676520" y="152280"/>
            <a:ext cx="65372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295280" y="3200400"/>
            <a:ext cx="739152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 of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10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investments for a 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257800" y="121932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03440" y="1676520"/>
            <a:ext cx="5327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429000" y="1676520"/>
            <a:ext cx="52484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eg. Bal.   127,000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ales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s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nd. Bal.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684440"/>
            <a:ext cx="0" cy="143964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27480" y="2590920"/>
            <a:ext cx="5435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141560" y="1978200"/>
            <a:ext cx="1928880" cy="83808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reas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83808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xplain changes in both the asset and related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plant assets and sales decrease plant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 is increased by the amount of depreciation expense and decreased by the removal of accumulated depreciation associated with plant assets that a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76520" y="228600"/>
            <a:ext cx="6413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lant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plant asse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at a los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ng Trans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90520" y="1676520"/>
            <a:ext cx="8588520" cy="2057400"/>
            <a:chOff x="290520" y="1676520"/>
            <a:chExt cx="8588520" cy="2057400"/>
          </a:xfrm>
        </p:grpSpPr>
        <p:sp>
          <p:nvSpPr>
            <p:cNvPr id="541" name=""/>
            <p:cNvSpPr txBox="1"/>
            <p:nvPr/>
          </p:nvSpPr>
          <p:spPr>
            <a:xfrm>
              <a:off x="3809880" y="1676520"/>
              <a:ext cx="2009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lant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960" y="2133720"/>
              <a:ext cx="6600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90520" y="2133720"/>
              <a:ext cx="4619520" cy="15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      50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urchase        12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Purchase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      7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2141640"/>
              <a:ext cx="0" cy="15922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040" y="3276720"/>
              <a:ext cx="6524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407360" y="1978200"/>
              <a:ext cx="147168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2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876920" y="2133720"/>
              <a:ext cx="19940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43000" y="4343400"/>
            <a:ext cx="7310520" cy="1828800"/>
            <a:chOff x="1143000" y="4343400"/>
            <a:chExt cx="7310520" cy="1828800"/>
          </a:xfrm>
        </p:grpSpPr>
        <p:sp>
          <p:nvSpPr>
            <p:cNvPr id="549" name=""/>
            <p:cNvSpPr/>
            <p:nvPr/>
          </p:nvSpPr>
          <p:spPr>
            <a:xfrm>
              <a:off x="1247760" y="4800600"/>
              <a:ext cx="5381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1280" y="4859280"/>
              <a:ext cx="0" cy="13129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905120" y="4343400"/>
              <a:ext cx="402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umulated Depreci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3429000" y="4724280"/>
              <a:ext cx="31240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6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ep. Exp.     3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10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240" y="5638680"/>
              <a:ext cx="54784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931080" y="4568760"/>
              <a:ext cx="152244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1143000" y="4800600"/>
              <a:ext cx="2514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        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0" y="27432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4479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how a company’s operating, investing, and financing activities have affected cash during an accounting perio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xplains the net increase (or decrease) in cash during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506600" y="304920"/>
            <a:ext cx="6892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is similar to that of investing activities, including treatment of related gains or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to be analyzed are short-term borrowings, long-term liabilities, and stockholders’ equit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from the statement of stockholders’ equity must also be consi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66680" y="380880"/>
            <a:ext cx="7543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4114800"/>
            <a:ext cx="807732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o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ayment of bonds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ace value at mat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7400" y="1828800"/>
            <a:ext cx="8240760" cy="1914480"/>
            <a:chOff x="617400" y="1828800"/>
            <a:chExt cx="8240760" cy="1914480"/>
          </a:xfrm>
        </p:grpSpPr>
        <p:sp>
          <p:nvSpPr>
            <p:cNvPr id="564" name=""/>
            <p:cNvSpPr txBox="1"/>
            <p:nvPr/>
          </p:nvSpPr>
          <p:spPr>
            <a:xfrm>
              <a:off x="2473200" y="1828800"/>
              <a:ext cx="23652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ond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400" y="2320920"/>
              <a:ext cx="66772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698920" y="2295360"/>
              <a:ext cx="457200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24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Issue 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29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3320" y="2379600"/>
              <a:ext cx="0" cy="13636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5160" y="3209760"/>
              <a:ext cx="6632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7421400" y="213984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641520" y="2371680"/>
              <a:ext cx="35575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payment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066680" y="6094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St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1905120"/>
            <a:ext cx="8354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on Stock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id-in Capital in Excess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Par Value, Comm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ssued 15,200 shares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$5 par value common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295280" y="304920"/>
            <a:ext cx="7242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227240" y="1752480"/>
            <a:ext cx="7472160" cy="1791000"/>
            <a:chOff x="1227240" y="1752480"/>
            <a:chExt cx="7472160" cy="1791000"/>
          </a:xfrm>
        </p:grpSpPr>
        <p:sp>
          <p:nvSpPr>
            <p:cNvPr id="575" name=""/>
            <p:cNvSpPr txBox="1"/>
            <p:nvPr/>
          </p:nvSpPr>
          <p:spPr>
            <a:xfrm>
              <a:off x="2616120" y="1752480"/>
              <a:ext cx="24163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373560" y="2209680"/>
              <a:ext cx="3433680" cy="12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2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2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83160" y="2268360"/>
              <a:ext cx="0" cy="12751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7262640" y="21304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7240" y="220968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27240" y="304812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7200" y="3886200"/>
            <a:ext cx="8217000" cy="2254320"/>
            <a:chOff x="457200" y="3886200"/>
            <a:chExt cx="8217000" cy="2254320"/>
          </a:xfrm>
        </p:grpSpPr>
        <p:sp>
          <p:nvSpPr>
            <p:cNvPr id="582" name=""/>
            <p:cNvSpPr/>
            <p:nvPr/>
          </p:nvSpPr>
          <p:spPr>
            <a:xfrm>
              <a:off x="1193760" y="472428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7600" y="4782960"/>
              <a:ext cx="0" cy="135756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598760" y="3886200"/>
              <a:ext cx="45687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aid-in Capital 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cess of Par Value, Comm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457200" y="4648320"/>
              <a:ext cx="63244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1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189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93760" y="556272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237440" y="46450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23880" y="533520"/>
            <a:ext cx="666288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ned Ear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90720" y="39625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tained Earning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ash dividends for 20x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1676520"/>
            <a:ext cx="7978680" cy="1860480"/>
            <a:chOff x="838080" y="1676520"/>
            <a:chExt cx="7978680" cy="1860480"/>
          </a:xfrm>
        </p:grpSpPr>
        <p:sp>
          <p:nvSpPr>
            <p:cNvPr id="591" name=""/>
            <p:cNvSpPr txBox="1"/>
            <p:nvPr/>
          </p:nvSpPr>
          <p:spPr>
            <a:xfrm>
              <a:off x="2438280" y="1676520"/>
              <a:ext cx="2857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tained Earni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276720" y="2133720"/>
              <a:ext cx="37846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132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      16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14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63800" y="221292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9080" y="30780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7311960" y="2282760"/>
              <a:ext cx="150480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$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19080" y="21636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838080" y="2209680"/>
              <a:ext cx="335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ividends      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514600" y="114300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38080" y="243828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proper treatment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 of cash flow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 in which a building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$50,000 with accumul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of $32,000 is sold for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 of $5,0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304920"/>
            <a:ext cx="2132280" cy="2132280"/>
            <a:chOff x="990720" y="304920"/>
            <a:chExt cx="2132280" cy="2132280"/>
          </a:xfrm>
        </p:grpSpPr>
        <p:sp>
          <p:nvSpPr>
            <p:cNvPr id="601" name=""/>
            <p:cNvSpPr/>
            <p:nvPr/>
          </p:nvSpPr>
          <p:spPr>
            <a:xfrm>
              <a:off x="996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16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59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7" y="1822"/>
                  </a:lnTo>
                  <a:lnTo>
                    <a:pt x="763" y="1579"/>
                  </a:lnTo>
                  <a:lnTo>
                    <a:pt x="763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32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0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22440" y="1446120"/>
              <a:ext cx="381240" cy="325800"/>
            </a:xfrm>
            <a:custGeom>
              <a:avLst/>
              <a:gdLst/>
              <a:ahLst/>
              <a:rect l="0" t="0" r="r" b="b"/>
              <a:pathLst>
                <a:path w="1059" h="905">
                  <a:moveTo>
                    <a:pt x="436" y="0"/>
                  </a:moveTo>
                  <a:lnTo>
                    <a:pt x="436" y="145"/>
                  </a:lnTo>
                  <a:lnTo>
                    <a:pt x="471" y="274"/>
                  </a:lnTo>
                  <a:lnTo>
                    <a:pt x="680" y="490"/>
                  </a:lnTo>
                  <a:lnTo>
                    <a:pt x="1059" y="613"/>
                  </a:lnTo>
                  <a:lnTo>
                    <a:pt x="1006" y="888"/>
                  </a:lnTo>
                  <a:lnTo>
                    <a:pt x="680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76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24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3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0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2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1720" y="455760"/>
              <a:ext cx="581400" cy="918000"/>
            </a:xfrm>
            <a:custGeom>
              <a:avLst/>
              <a:gdLst/>
              <a:ahLst/>
              <a:rect l="0" t="0" r="r" b="b"/>
              <a:pathLst>
                <a:path w="1615" h="2550">
                  <a:moveTo>
                    <a:pt x="406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7" y="2339"/>
                  </a:lnTo>
                  <a:lnTo>
                    <a:pt x="768" y="2550"/>
                  </a:lnTo>
                  <a:lnTo>
                    <a:pt x="1099" y="2519"/>
                  </a:lnTo>
                  <a:lnTo>
                    <a:pt x="1254" y="2096"/>
                  </a:lnTo>
                  <a:lnTo>
                    <a:pt x="1289" y="1451"/>
                  </a:lnTo>
                  <a:lnTo>
                    <a:pt x="1615" y="1129"/>
                  </a:lnTo>
                  <a:lnTo>
                    <a:pt x="1598" y="1002"/>
                  </a:lnTo>
                  <a:lnTo>
                    <a:pt x="1563" y="940"/>
                  </a:lnTo>
                  <a:lnTo>
                    <a:pt x="1395" y="927"/>
                  </a:lnTo>
                  <a:lnTo>
                    <a:pt x="1448" y="759"/>
                  </a:lnTo>
                  <a:lnTo>
                    <a:pt x="1276" y="644"/>
                  </a:lnTo>
                  <a:lnTo>
                    <a:pt x="1204" y="277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06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43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2" y="304"/>
                  </a:lnTo>
                  <a:lnTo>
                    <a:pt x="622" y="467"/>
                  </a:lnTo>
                  <a:lnTo>
                    <a:pt x="1214" y="0"/>
                  </a:lnTo>
                  <a:lnTo>
                    <a:pt x="1395" y="97"/>
                  </a:lnTo>
                  <a:lnTo>
                    <a:pt x="1483" y="577"/>
                  </a:lnTo>
                  <a:lnTo>
                    <a:pt x="1050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66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67" y="769"/>
                  </a:moveTo>
                  <a:lnTo>
                    <a:pt x="374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2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71" y="230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70" y="0"/>
                  </a:lnTo>
                  <a:lnTo>
                    <a:pt x="502" y="83"/>
                  </a:lnTo>
                  <a:lnTo>
                    <a:pt x="268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7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1880" y="1424160"/>
              <a:ext cx="157680" cy="827280"/>
            </a:xfrm>
            <a:custGeom>
              <a:avLst/>
              <a:gdLst/>
              <a:ahLst/>
              <a:rect l="0" t="0" r="r" b="b"/>
              <a:pathLst>
                <a:path w="438" h="2298">
                  <a:moveTo>
                    <a:pt x="225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0" y="1848"/>
                  </a:lnTo>
                  <a:lnTo>
                    <a:pt x="420" y="1544"/>
                  </a:lnTo>
                  <a:lnTo>
                    <a:pt x="314" y="1257"/>
                  </a:lnTo>
                  <a:lnTo>
                    <a:pt x="261" y="868"/>
                  </a:lnTo>
                  <a:lnTo>
                    <a:pt x="368" y="489"/>
                  </a:lnTo>
                  <a:lnTo>
                    <a:pt x="332" y="339"/>
                  </a:lnTo>
                  <a:lnTo>
                    <a:pt x="438" y="260"/>
                  </a:lnTo>
                  <a:lnTo>
                    <a:pt x="420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95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79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5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1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97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4" y="1015"/>
                  </a:lnTo>
                  <a:lnTo>
                    <a:pt x="714" y="790"/>
                  </a:lnTo>
                  <a:lnTo>
                    <a:pt x="830" y="790"/>
                  </a:lnTo>
                  <a:lnTo>
                    <a:pt x="882" y="1046"/>
                  </a:lnTo>
                  <a:lnTo>
                    <a:pt x="940" y="1072"/>
                  </a:lnTo>
                  <a:lnTo>
                    <a:pt x="1129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69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32" y="480"/>
                  </a:lnTo>
                  <a:lnTo>
                    <a:pt x="1301" y="251"/>
                  </a:lnTo>
                  <a:lnTo>
                    <a:pt x="1143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3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82" y="702"/>
                  </a:lnTo>
                  <a:lnTo>
                    <a:pt x="714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87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83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3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87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43" y="653"/>
                  </a:lnTo>
                  <a:lnTo>
                    <a:pt x="389" y="1016"/>
                  </a:lnTo>
                  <a:lnTo>
                    <a:pt x="477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6" y="163"/>
                  </a:lnTo>
                  <a:lnTo>
                    <a:pt x="419" y="198"/>
                  </a:lnTo>
                  <a:lnTo>
                    <a:pt x="547" y="189"/>
                  </a:lnTo>
                  <a:lnTo>
                    <a:pt x="666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0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7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58" y="662"/>
                  </a:lnTo>
                  <a:lnTo>
                    <a:pt x="145" y="556"/>
                  </a:lnTo>
                  <a:lnTo>
                    <a:pt x="171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9" y="141"/>
                  </a:lnTo>
                  <a:lnTo>
                    <a:pt x="582" y="282"/>
                  </a:lnTo>
                  <a:lnTo>
                    <a:pt x="758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8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59" y="525"/>
                  </a:lnTo>
                  <a:lnTo>
                    <a:pt x="1121" y="600"/>
                  </a:lnTo>
                  <a:lnTo>
                    <a:pt x="1416" y="640"/>
                  </a:lnTo>
                  <a:lnTo>
                    <a:pt x="1068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31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8" y="260"/>
                  </a:lnTo>
                  <a:lnTo>
                    <a:pt x="1178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7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90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4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5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7880" y="797040"/>
              <a:ext cx="444960" cy="633600"/>
            </a:xfrm>
            <a:custGeom>
              <a:avLst/>
              <a:gdLst/>
              <a:ahLst/>
              <a:rect l="0" t="0" r="r" b="b"/>
              <a:pathLst>
                <a:path w="1236" h="1760">
                  <a:moveTo>
                    <a:pt x="1042" y="0"/>
                  </a:moveTo>
                  <a:lnTo>
                    <a:pt x="1161" y="0"/>
                  </a:lnTo>
                  <a:lnTo>
                    <a:pt x="1236" y="88"/>
                  </a:lnTo>
                  <a:lnTo>
                    <a:pt x="1236" y="180"/>
                  </a:lnTo>
                  <a:lnTo>
                    <a:pt x="1135" y="458"/>
                  </a:lnTo>
                  <a:lnTo>
                    <a:pt x="1033" y="590"/>
                  </a:lnTo>
                  <a:lnTo>
                    <a:pt x="928" y="608"/>
                  </a:lnTo>
                  <a:lnTo>
                    <a:pt x="900" y="608"/>
                  </a:lnTo>
                  <a:lnTo>
                    <a:pt x="900" y="957"/>
                  </a:lnTo>
                  <a:lnTo>
                    <a:pt x="950" y="1209"/>
                  </a:lnTo>
                  <a:lnTo>
                    <a:pt x="950" y="1412"/>
                  </a:lnTo>
                  <a:lnTo>
                    <a:pt x="763" y="1619"/>
                  </a:lnTo>
                  <a:lnTo>
                    <a:pt x="503" y="1760"/>
                  </a:lnTo>
                  <a:lnTo>
                    <a:pt x="340" y="1760"/>
                  </a:lnTo>
                  <a:lnTo>
                    <a:pt x="260" y="1720"/>
                  </a:lnTo>
                  <a:lnTo>
                    <a:pt x="149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38" y="1500"/>
                  </a:lnTo>
                  <a:lnTo>
                    <a:pt x="437" y="1513"/>
                  </a:lnTo>
                  <a:lnTo>
                    <a:pt x="613" y="1425"/>
                  </a:lnTo>
                  <a:lnTo>
                    <a:pt x="710" y="1328"/>
                  </a:lnTo>
                  <a:lnTo>
                    <a:pt x="807" y="1147"/>
                  </a:lnTo>
                  <a:lnTo>
                    <a:pt x="825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9" y="233"/>
                  </a:lnTo>
                  <a:lnTo>
                    <a:pt x="1152" y="180"/>
                  </a:lnTo>
                  <a:lnTo>
                    <a:pt x="1188" y="110"/>
                  </a:lnTo>
                  <a:lnTo>
                    <a:pt x="1170" y="39"/>
                  </a:lnTo>
                  <a:lnTo>
                    <a:pt x="1117" y="8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60640" y="1343160"/>
              <a:ext cx="359280" cy="586080"/>
            </a:xfrm>
            <a:custGeom>
              <a:avLst/>
              <a:gdLst/>
              <a:ahLst/>
              <a:rect l="0" t="0" r="r" b="b"/>
              <a:pathLst>
                <a:path w="998" h="1628">
                  <a:moveTo>
                    <a:pt x="127" y="0"/>
                  </a:moveTo>
                  <a:lnTo>
                    <a:pt x="238" y="74"/>
                  </a:lnTo>
                  <a:lnTo>
                    <a:pt x="327" y="405"/>
                  </a:lnTo>
                  <a:lnTo>
                    <a:pt x="583" y="480"/>
                  </a:lnTo>
                  <a:lnTo>
                    <a:pt x="658" y="568"/>
                  </a:lnTo>
                  <a:lnTo>
                    <a:pt x="666" y="687"/>
                  </a:lnTo>
                  <a:lnTo>
                    <a:pt x="795" y="670"/>
                  </a:lnTo>
                  <a:lnTo>
                    <a:pt x="950" y="776"/>
                  </a:lnTo>
                  <a:lnTo>
                    <a:pt x="998" y="909"/>
                  </a:lnTo>
                  <a:lnTo>
                    <a:pt x="998" y="1138"/>
                  </a:lnTo>
                  <a:lnTo>
                    <a:pt x="795" y="1487"/>
                  </a:lnTo>
                  <a:lnTo>
                    <a:pt x="724" y="1628"/>
                  </a:lnTo>
                  <a:lnTo>
                    <a:pt x="764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6" y="1107"/>
                  </a:lnTo>
                  <a:lnTo>
                    <a:pt x="644" y="1187"/>
                  </a:lnTo>
                  <a:lnTo>
                    <a:pt x="786" y="1293"/>
                  </a:lnTo>
                  <a:lnTo>
                    <a:pt x="848" y="1279"/>
                  </a:lnTo>
                  <a:lnTo>
                    <a:pt x="897" y="1222"/>
                  </a:lnTo>
                  <a:lnTo>
                    <a:pt x="950" y="1054"/>
                  </a:lnTo>
                  <a:lnTo>
                    <a:pt x="932" y="896"/>
                  </a:lnTo>
                  <a:lnTo>
                    <a:pt x="857" y="802"/>
                  </a:lnTo>
                  <a:lnTo>
                    <a:pt x="737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40" y="454"/>
                  </a:lnTo>
                  <a:lnTo>
                    <a:pt x="340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07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0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16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32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93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32" y="737"/>
                  </a:lnTo>
                  <a:lnTo>
                    <a:pt x="393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5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7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3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25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44600" y="187812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09" y="534"/>
                  </a:lnTo>
                  <a:lnTo>
                    <a:pt x="244" y="61"/>
                  </a:lnTo>
                  <a:lnTo>
                    <a:pt x="266" y="0"/>
                  </a:lnTo>
                  <a:lnTo>
                    <a:pt x="244" y="367"/>
                  </a:lnTo>
                  <a:lnTo>
                    <a:pt x="209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5080" y="1082520"/>
              <a:ext cx="232200" cy="540000"/>
            </a:xfrm>
            <a:custGeom>
              <a:avLst/>
              <a:gdLst/>
              <a:ahLst/>
              <a:rect l="0" t="0" r="r" b="b"/>
              <a:pathLst>
                <a:path w="645" h="1500">
                  <a:moveTo>
                    <a:pt x="168" y="812"/>
                  </a:moveTo>
                  <a:lnTo>
                    <a:pt x="217" y="577"/>
                  </a:lnTo>
                  <a:lnTo>
                    <a:pt x="437" y="515"/>
                  </a:lnTo>
                  <a:lnTo>
                    <a:pt x="645" y="0"/>
                  </a:lnTo>
                  <a:lnTo>
                    <a:pt x="645" y="149"/>
                  </a:lnTo>
                  <a:lnTo>
                    <a:pt x="468" y="546"/>
                  </a:lnTo>
                  <a:lnTo>
                    <a:pt x="239" y="621"/>
                  </a:lnTo>
                  <a:lnTo>
                    <a:pt x="208" y="812"/>
                  </a:lnTo>
                  <a:lnTo>
                    <a:pt x="287" y="812"/>
                  </a:lnTo>
                  <a:lnTo>
                    <a:pt x="88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68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32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9" y="167"/>
                  </a:lnTo>
                  <a:lnTo>
                    <a:pt x="389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0" y="1456"/>
                  </a:lnTo>
                  <a:lnTo>
                    <a:pt x="905" y="1456"/>
                  </a:lnTo>
                  <a:lnTo>
                    <a:pt x="759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998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31" y="918"/>
                  </a:lnTo>
                  <a:lnTo>
                    <a:pt x="574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0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8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3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74" y="747"/>
                  </a:lnTo>
                  <a:lnTo>
                    <a:pt x="574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5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7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5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3" y="1424"/>
                  </a:lnTo>
                  <a:lnTo>
                    <a:pt x="652" y="1750"/>
                  </a:lnTo>
                  <a:lnTo>
                    <a:pt x="586" y="2055"/>
                  </a:lnTo>
                  <a:lnTo>
                    <a:pt x="326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3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73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60" y="1591"/>
                  </a:lnTo>
                  <a:lnTo>
                    <a:pt x="3890" y="1658"/>
                  </a:lnTo>
                  <a:lnTo>
                    <a:pt x="3819" y="1675"/>
                  </a:lnTo>
                  <a:lnTo>
                    <a:pt x="3731" y="1591"/>
                  </a:lnTo>
                  <a:lnTo>
                    <a:pt x="3634" y="1578"/>
                  </a:lnTo>
                  <a:lnTo>
                    <a:pt x="3449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9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4" y="1839"/>
                  </a:lnTo>
                  <a:lnTo>
                    <a:pt x="2113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4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8" y="2955"/>
                  </a:lnTo>
                  <a:lnTo>
                    <a:pt x="1733" y="2973"/>
                  </a:lnTo>
                  <a:lnTo>
                    <a:pt x="1622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3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3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8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4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47" y="171"/>
                  </a:lnTo>
                  <a:lnTo>
                    <a:pt x="447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8" y="1381"/>
                  </a:lnTo>
                  <a:lnTo>
                    <a:pt x="434" y="1601"/>
                  </a:lnTo>
                  <a:lnTo>
                    <a:pt x="434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23" y="2004"/>
                  </a:lnTo>
                  <a:lnTo>
                    <a:pt x="133" y="1779"/>
                  </a:lnTo>
                  <a:lnTo>
                    <a:pt x="123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25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5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2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73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4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30492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914400" y="3049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building that cost $50,000 with accumulated depreciation of $32,000 that is sold for a loss of $5,000 would result in cash flow of $13,000 (carrying value of $18,000 less loss of $5,000). The transaction should be shown as a sale of building for $13,000 in the investing activities section of the statement of cash flows. If the indirect method is used, the $5,000 loss should be added to net income to determine net cash flows from operating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7545240" y="4419720"/>
            <a:ext cx="1370520" cy="1827720"/>
            <a:chOff x="7545240" y="4419720"/>
            <a:chExt cx="1370520" cy="1827720"/>
          </a:xfrm>
        </p:grpSpPr>
        <p:sp>
          <p:nvSpPr>
            <p:cNvPr id="634" name=""/>
            <p:cNvSpPr/>
            <p:nvPr/>
          </p:nvSpPr>
          <p:spPr>
            <a:xfrm>
              <a:off x="8109000" y="4562640"/>
              <a:ext cx="503640" cy="838440"/>
            </a:xfrm>
            <a:custGeom>
              <a:avLst/>
              <a:gdLst/>
              <a:ahLst/>
              <a:rect l="0" t="0" r="r" b="b"/>
              <a:pathLst>
                <a:path w="1399" h="2329">
                  <a:moveTo>
                    <a:pt x="697" y="0"/>
                  </a:moveTo>
                  <a:lnTo>
                    <a:pt x="538" y="507"/>
                  </a:lnTo>
                  <a:lnTo>
                    <a:pt x="433" y="864"/>
                  </a:lnTo>
                  <a:lnTo>
                    <a:pt x="450" y="917"/>
                  </a:lnTo>
                  <a:lnTo>
                    <a:pt x="552" y="1218"/>
                  </a:lnTo>
                  <a:lnTo>
                    <a:pt x="591" y="1275"/>
                  </a:lnTo>
                  <a:lnTo>
                    <a:pt x="583" y="1381"/>
                  </a:lnTo>
                  <a:lnTo>
                    <a:pt x="658" y="1429"/>
                  </a:lnTo>
                  <a:lnTo>
                    <a:pt x="728" y="1429"/>
                  </a:lnTo>
                  <a:lnTo>
                    <a:pt x="847" y="1381"/>
                  </a:lnTo>
                  <a:lnTo>
                    <a:pt x="852" y="1509"/>
                  </a:lnTo>
                  <a:lnTo>
                    <a:pt x="380" y="1641"/>
                  </a:lnTo>
                  <a:lnTo>
                    <a:pt x="406" y="1513"/>
                  </a:lnTo>
                  <a:lnTo>
                    <a:pt x="389" y="1381"/>
                  </a:lnTo>
                  <a:lnTo>
                    <a:pt x="339" y="1288"/>
                  </a:lnTo>
                  <a:lnTo>
                    <a:pt x="255" y="1288"/>
                  </a:lnTo>
                  <a:lnTo>
                    <a:pt x="127" y="1337"/>
                  </a:lnTo>
                  <a:lnTo>
                    <a:pt x="0" y="1429"/>
                  </a:lnTo>
                  <a:lnTo>
                    <a:pt x="127" y="1575"/>
                  </a:lnTo>
                  <a:lnTo>
                    <a:pt x="464" y="2329"/>
                  </a:lnTo>
                  <a:lnTo>
                    <a:pt x="874" y="2320"/>
                  </a:lnTo>
                  <a:lnTo>
                    <a:pt x="1316" y="996"/>
                  </a:lnTo>
                  <a:lnTo>
                    <a:pt x="1399" y="749"/>
                  </a:lnTo>
                  <a:lnTo>
                    <a:pt x="1399" y="617"/>
                  </a:lnTo>
                  <a:lnTo>
                    <a:pt x="1254" y="0"/>
                  </a:lnTo>
                  <a:lnTo>
                    <a:pt x="922" y="22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12200" y="492588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93" y="0"/>
                  </a:moveTo>
                  <a:lnTo>
                    <a:pt x="39" y="13"/>
                  </a:lnTo>
                  <a:lnTo>
                    <a:pt x="0" y="125"/>
                  </a:lnTo>
                  <a:lnTo>
                    <a:pt x="115" y="138"/>
                  </a:lnTo>
                  <a:lnTo>
                    <a:pt x="142" y="3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98000" y="4419720"/>
              <a:ext cx="370080" cy="394200"/>
            </a:xfrm>
            <a:custGeom>
              <a:avLst/>
              <a:gdLst/>
              <a:ahLst/>
              <a:rect l="0" t="0" r="r" b="b"/>
              <a:pathLst>
                <a:path w="1028" h="1095">
                  <a:moveTo>
                    <a:pt x="0" y="119"/>
                  </a:moveTo>
                  <a:lnTo>
                    <a:pt x="66" y="273"/>
                  </a:lnTo>
                  <a:lnTo>
                    <a:pt x="110" y="340"/>
                  </a:lnTo>
                  <a:lnTo>
                    <a:pt x="48" y="406"/>
                  </a:lnTo>
                  <a:lnTo>
                    <a:pt x="4" y="954"/>
                  </a:lnTo>
                  <a:lnTo>
                    <a:pt x="136" y="552"/>
                  </a:lnTo>
                  <a:lnTo>
                    <a:pt x="264" y="424"/>
                  </a:lnTo>
                  <a:lnTo>
                    <a:pt x="521" y="486"/>
                  </a:lnTo>
                  <a:lnTo>
                    <a:pt x="706" y="472"/>
                  </a:lnTo>
                  <a:lnTo>
                    <a:pt x="737" y="640"/>
                  </a:lnTo>
                  <a:lnTo>
                    <a:pt x="733" y="919"/>
                  </a:lnTo>
                  <a:lnTo>
                    <a:pt x="746" y="1095"/>
                  </a:lnTo>
                  <a:lnTo>
                    <a:pt x="852" y="1055"/>
                  </a:lnTo>
                  <a:lnTo>
                    <a:pt x="1028" y="538"/>
                  </a:lnTo>
                  <a:lnTo>
                    <a:pt x="984" y="437"/>
                  </a:lnTo>
                  <a:lnTo>
                    <a:pt x="909" y="322"/>
                  </a:lnTo>
                  <a:lnTo>
                    <a:pt x="830" y="287"/>
                  </a:lnTo>
                  <a:lnTo>
                    <a:pt x="812" y="171"/>
                  </a:lnTo>
                  <a:lnTo>
                    <a:pt x="733" y="66"/>
                  </a:lnTo>
                  <a:lnTo>
                    <a:pt x="631" y="17"/>
                  </a:lnTo>
                  <a:lnTo>
                    <a:pt x="507" y="8"/>
                  </a:lnTo>
                  <a:lnTo>
                    <a:pt x="379" y="17"/>
                  </a:lnTo>
                  <a:lnTo>
                    <a:pt x="242" y="66"/>
                  </a:lnTo>
                  <a:lnTo>
                    <a:pt x="264" y="154"/>
                  </a:lnTo>
                  <a:lnTo>
                    <a:pt x="224" y="145"/>
                  </a:lnTo>
                  <a:lnTo>
                    <a:pt x="202" y="0"/>
                  </a:lnTo>
                  <a:lnTo>
                    <a:pt x="149" y="30"/>
                  </a:lnTo>
                  <a:lnTo>
                    <a:pt x="194" y="207"/>
                  </a:lnTo>
                  <a:lnTo>
                    <a:pt x="105" y="30"/>
                  </a:lnTo>
                  <a:lnTo>
                    <a:pt x="149" y="229"/>
                  </a:lnTo>
                  <a:lnTo>
                    <a:pt x="44" y="74"/>
                  </a:lnTo>
                  <a:lnTo>
                    <a:pt x="123" y="273"/>
                  </a:lnTo>
                  <a:lnTo>
                    <a:pt x="66" y="207"/>
                  </a:lnTo>
                  <a:lnTo>
                    <a:pt x="39" y="13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0280" y="4605480"/>
              <a:ext cx="773640" cy="1010160"/>
            </a:xfrm>
            <a:custGeom>
              <a:avLst/>
              <a:gdLst/>
              <a:ahLst/>
              <a:rect l="0" t="0" r="r" b="b"/>
              <a:pathLst>
                <a:path w="2149" h="2806">
                  <a:moveTo>
                    <a:pt x="0" y="710"/>
                  </a:moveTo>
                  <a:lnTo>
                    <a:pt x="485" y="568"/>
                  </a:lnTo>
                  <a:lnTo>
                    <a:pt x="949" y="317"/>
                  </a:lnTo>
                  <a:lnTo>
                    <a:pt x="1403" y="0"/>
                  </a:lnTo>
                  <a:lnTo>
                    <a:pt x="1482" y="343"/>
                  </a:lnTo>
                  <a:lnTo>
                    <a:pt x="1695" y="1024"/>
                  </a:lnTo>
                  <a:lnTo>
                    <a:pt x="1770" y="1173"/>
                  </a:lnTo>
                  <a:lnTo>
                    <a:pt x="1682" y="1231"/>
                  </a:lnTo>
                  <a:lnTo>
                    <a:pt x="1624" y="1310"/>
                  </a:lnTo>
                  <a:lnTo>
                    <a:pt x="1664" y="1363"/>
                  </a:lnTo>
                  <a:lnTo>
                    <a:pt x="1814" y="1376"/>
                  </a:lnTo>
                  <a:lnTo>
                    <a:pt x="1880" y="1548"/>
                  </a:lnTo>
                  <a:lnTo>
                    <a:pt x="2048" y="1844"/>
                  </a:lnTo>
                  <a:lnTo>
                    <a:pt x="2149" y="1950"/>
                  </a:lnTo>
                  <a:lnTo>
                    <a:pt x="1739" y="2136"/>
                  </a:lnTo>
                  <a:lnTo>
                    <a:pt x="1390" y="2453"/>
                  </a:lnTo>
                  <a:lnTo>
                    <a:pt x="1032" y="2691"/>
                  </a:lnTo>
                  <a:lnTo>
                    <a:pt x="887" y="2806"/>
                  </a:lnTo>
                  <a:lnTo>
                    <a:pt x="622" y="2325"/>
                  </a:lnTo>
                  <a:lnTo>
                    <a:pt x="392" y="1747"/>
                  </a:lnTo>
                  <a:lnTo>
                    <a:pt x="202" y="1240"/>
                  </a:lnTo>
                  <a:lnTo>
                    <a:pt x="61" y="869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75600" y="5092560"/>
              <a:ext cx="506880" cy="430560"/>
            </a:xfrm>
            <a:custGeom>
              <a:avLst/>
              <a:gdLst/>
              <a:ahLst/>
              <a:rect l="0" t="0" r="r" b="b"/>
              <a:pathLst>
                <a:path w="1408" h="1196">
                  <a:moveTo>
                    <a:pt x="189" y="171"/>
                  </a:moveTo>
                  <a:lnTo>
                    <a:pt x="321" y="48"/>
                  </a:lnTo>
                  <a:lnTo>
                    <a:pt x="503" y="66"/>
                  </a:lnTo>
                  <a:lnTo>
                    <a:pt x="587" y="0"/>
                  </a:lnTo>
                  <a:lnTo>
                    <a:pt x="653" y="13"/>
                  </a:lnTo>
                  <a:lnTo>
                    <a:pt x="640" y="66"/>
                  </a:lnTo>
                  <a:lnTo>
                    <a:pt x="591" y="149"/>
                  </a:lnTo>
                  <a:lnTo>
                    <a:pt x="755" y="185"/>
                  </a:lnTo>
                  <a:lnTo>
                    <a:pt x="847" y="66"/>
                  </a:lnTo>
                  <a:lnTo>
                    <a:pt x="882" y="0"/>
                  </a:lnTo>
                  <a:lnTo>
                    <a:pt x="1091" y="66"/>
                  </a:lnTo>
                  <a:lnTo>
                    <a:pt x="1338" y="66"/>
                  </a:lnTo>
                  <a:lnTo>
                    <a:pt x="1408" y="229"/>
                  </a:lnTo>
                  <a:lnTo>
                    <a:pt x="1377" y="600"/>
                  </a:lnTo>
                  <a:lnTo>
                    <a:pt x="1399" y="636"/>
                  </a:lnTo>
                  <a:lnTo>
                    <a:pt x="1342" y="777"/>
                  </a:lnTo>
                  <a:lnTo>
                    <a:pt x="1364" y="834"/>
                  </a:lnTo>
                  <a:lnTo>
                    <a:pt x="1241" y="1196"/>
                  </a:lnTo>
                  <a:lnTo>
                    <a:pt x="0" y="825"/>
                  </a:lnTo>
                  <a:lnTo>
                    <a:pt x="246" y="666"/>
                  </a:lnTo>
                  <a:lnTo>
                    <a:pt x="380" y="825"/>
                  </a:lnTo>
                  <a:lnTo>
                    <a:pt x="671" y="834"/>
                  </a:lnTo>
                  <a:lnTo>
                    <a:pt x="688" y="702"/>
                  </a:lnTo>
                  <a:lnTo>
                    <a:pt x="503" y="622"/>
                  </a:lnTo>
                  <a:lnTo>
                    <a:pt x="371" y="622"/>
                  </a:lnTo>
                  <a:lnTo>
                    <a:pt x="424" y="590"/>
                  </a:lnTo>
                  <a:lnTo>
                    <a:pt x="264" y="423"/>
                  </a:lnTo>
                  <a:lnTo>
                    <a:pt x="180" y="216"/>
                  </a:lnTo>
                  <a:lnTo>
                    <a:pt x="189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32920" y="5143320"/>
              <a:ext cx="79560" cy="189360"/>
            </a:xfrm>
            <a:custGeom>
              <a:avLst/>
              <a:gdLst/>
              <a:ahLst/>
              <a:rect l="0" t="0" r="r" b="b"/>
              <a:pathLst>
                <a:path w="221" h="526">
                  <a:moveTo>
                    <a:pt x="150" y="0"/>
                  </a:moveTo>
                  <a:lnTo>
                    <a:pt x="44" y="287"/>
                  </a:lnTo>
                  <a:lnTo>
                    <a:pt x="0" y="487"/>
                  </a:lnTo>
                  <a:lnTo>
                    <a:pt x="137" y="526"/>
                  </a:lnTo>
                  <a:lnTo>
                    <a:pt x="221" y="23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5120" y="53370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261" y="80"/>
                  </a:moveTo>
                  <a:lnTo>
                    <a:pt x="66" y="0"/>
                  </a:lnTo>
                  <a:lnTo>
                    <a:pt x="0" y="133"/>
                  </a:lnTo>
                  <a:lnTo>
                    <a:pt x="261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3840" y="495468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26" y="0"/>
                  </a:moveTo>
                  <a:lnTo>
                    <a:pt x="0" y="67"/>
                  </a:lnTo>
                  <a:lnTo>
                    <a:pt x="26" y="111"/>
                  </a:lnTo>
                  <a:lnTo>
                    <a:pt x="115" y="124"/>
                  </a:lnTo>
                  <a:lnTo>
                    <a:pt x="248" y="67"/>
                  </a:lnTo>
                  <a:lnTo>
                    <a:pt x="6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29680" y="4929120"/>
              <a:ext cx="120960" cy="62280"/>
            </a:xfrm>
            <a:custGeom>
              <a:avLst/>
              <a:gdLst/>
              <a:ahLst/>
              <a:rect l="0" t="0" r="r" b="b"/>
              <a:pathLst>
                <a:path w="336" h="173">
                  <a:moveTo>
                    <a:pt x="0" y="0"/>
                  </a:moveTo>
                  <a:lnTo>
                    <a:pt x="105" y="22"/>
                  </a:lnTo>
                  <a:lnTo>
                    <a:pt x="203" y="35"/>
                  </a:lnTo>
                  <a:lnTo>
                    <a:pt x="336" y="13"/>
                  </a:lnTo>
                  <a:lnTo>
                    <a:pt x="252" y="138"/>
                  </a:lnTo>
                  <a:lnTo>
                    <a:pt x="92" y="173"/>
                  </a:lnTo>
                  <a:lnTo>
                    <a:pt x="0" y="134"/>
                  </a:lnTo>
                  <a:lnTo>
                    <a:pt x="26" y="102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13600" y="5321160"/>
              <a:ext cx="597240" cy="235440"/>
            </a:xfrm>
            <a:custGeom>
              <a:avLst/>
              <a:gdLst/>
              <a:ahLst/>
              <a:rect l="0" t="0" r="r" b="b"/>
              <a:pathLst>
                <a:path w="1659" h="654">
                  <a:moveTo>
                    <a:pt x="158" y="13"/>
                  </a:moveTo>
                  <a:lnTo>
                    <a:pt x="445" y="39"/>
                  </a:lnTo>
                  <a:lnTo>
                    <a:pt x="714" y="149"/>
                  </a:lnTo>
                  <a:lnTo>
                    <a:pt x="1032" y="149"/>
                  </a:lnTo>
                  <a:lnTo>
                    <a:pt x="1394" y="74"/>
                  </a:lnTo>
                  <a:lnTo>
                    <a:pt x="1592" y="0"/>
                  </a:lnTo>
                  <a:lnTo>
                    <a:pt x="1469" y="172"/>
                  </a:lnTo>
                  <a:lnTo>
                    <a:pt x="1659" y="132"/>
                  </a:lnTo>
                  <a:lnTo>
                    <a:pt x="1544" y="269"/>
                  </a:lnTo>
                  <a:lnTo>
                    <a:pt x="1659" y="459"/>
                  </a:lnTo>
                  <a:lnTo>
                    <a:pt x="1368" y="597"/>
                  </a:lnTo>
                  <a:lnTo>
                    <a:pt x="97" y="654"/>
                  </a:lnTo>
                  <a:lnTo>
                    <a:pt x="0" y="522"/>
                  </a:lnTo>
                  <a:lnTo>
                    <a:pt x="145" y="393"/>
                  </a:lnTo>
                  <a:lnTo>
                    <a:pt x="44" y="256"/>
                  </a:lnTo>
                  <a:lnTo>
                    <a:pt x="207" y="225"/>
                  </a:lnTo>
                  <a:lnTo>
                    <a:pt x="105" y="79"/>
                  </a:lnTo>
                  <a:lnTo>
                    <a:pt x="207" y="114"/>
                  </a:lnTo>
                  <a:lnTo>
                    <a:pt x="251" y="114"/>
                  </a:lnTo>
                  <a:lnTo>
                    <a:pt x="158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1320" y="6086520"/>
              <a:ext cx="341640" cy="138600"/>
            </a:xfrm>
            <a:custGeom>
              <a:avLst/>
              <a:gdLst/>
              <a:ahLst/>
              <a:rect l="0" t="0" r="r" b="b"/>
              <a:pathLst>
                <a:path w="949" h="385">
                  <a:moveTo>
                    <a:pt x="0" y="195"/>
                  </a:moveTo>
                  <a:lnTo>
                    <a:pt x="423" y="0"/>
                  </a:lnTo>
                  <a:lnTo>
                    <a:pt x="640" y="217"/>
                  </a:lnTo>
                  <a:lnTo>
                    <a:pt x="949" y="297"/>
                  </a:lnTo>
                  <a:lnTo>
                    <a:pt x="852" y="368"/>
                  </a:lnTo>
                  <a:lnTo>
                    <a:pt x="216" y="38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20080" y="553392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8" y="39"/>
                  </a:moveTo>
                  <a:lnTo>
                    <a:pt x="1505" y="0"/>
                  </a:lnTo>
                  <a:lnTo>
                    <a:pt x="1505" y="379"/>
                  </a:lnTo>
                  <a:lnTo>
                    <a:pt x="1329" y="489"/>
                  </a:lnTo>
                  <a:lnTo>
                    <a:pt x="1316" y="1695"/>
                  </a:lnTo>
                  <a:lnTo>
                    <a:pt x="1148" y="1712"/>
                  </a:lnTo>
                  <a:lnTo>
                    <a:pt x="1148" y="1942"/>
                  </a:lnTo>
                  <a:lnTo>
                    <a:pt x="321" y="1977"/>
                  </a:lnTo>
                  <a:lnTo>
                    <a:pt x="326" y="1677"/>
                  </a:lnTo>
                  <a:lnTo>
                    <a:pt x="163" y="1677"/>
                  </a:lnTo>
                  <a:lnTo>
                    <a:pt x="136" y="454"/>
                  </a:lnTo>
                  <a:lnTo>
                    <a:pt x="22" y="339"/>
                  </a:lnTo>
                  <a:lnTo>
                    <a:pt x="0" y="145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47160" y="5369040"/>
              <a:ext cx="22680" cy="181440"/>
            </a:xfrm>
            <a:custGeom>
              <a:avLst/>
              <a:gdLst/>
              <a:ahLst/>
              <a:rect l="0" t="0" r="r" b="b"/>
              <a:pathLst>
                <a:path w="63" h="504">
                  <a:moveTo>
                    <a:pt x="0" y="119"/>
                  </a:moveTo>
                  <a:lnTo>
                    <a:pt x="0" y="504"/>
                  </a:lnTo>
                  <a:lnTo>
                    <a:pt x="50" y="487"/>
                  </a:lnTo>
                  <a:lnTo>
                    <a:pt x="63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01040" y="6080040"/>
              <a:ext cx="400320" cy="124200"/>
            </a:xfrm>
            <a:custGeom>
              <a:avLst/>
              <a:gdLst/>
              <a:ahLst/>
              <a:rect l="0" t="0" r="r" b="b"/>
              <a:pathLst>
                <a:path w="1112" h="345">
                  <a:moveTo>
                    <a:pt x="0" y="252"/>
                  </a:moveTo>
                  <a:lnTo>
                    <a:pt x="291" y="252"/>
                  </a:lnTo>
                  <a:lnTo>
                    <a:pt x="524" y="61"/>
                  </a:lnTo>
                  <a:lnTo>
                    <a:pt x="803" y="61"/>
                  </a:lnTo>
                  <a:lnTo>
                    <a:pt x="1112" y="0"/>
                  </a:lnTo>
                  <a:lnTo>
                    <a:pt x="882" y="177"/>
                  </a:lnTo>
                  <a:lnTo>
                    <a:pt x="511" y="315"/>
                  </a:lnTo>
                  <a:lnTo>
                    <a:pt x="326" y="34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02640" y="6116760"/>
              <a:ext cx="206640" cy="95760"/>
            </a:xfrm>
            <a:custGeom>
              <a:avLst/>
              <a:gdLst/>
              <a:ahLst/>
              <a:rect l="0" t="0" r="r" b="b"/>
              <a:pathLst>
                <a:path w="574" h="266">
                  <a:moveTo>
                    <a:pt x="0" y="93"/>
                  </a:moveTo>
                  <a:lnTo>
                    <a:pt x="282" y="93"/>
                  </a:lnTo>
                  <a:lnTo>
                    <a:pt x="574" y="0"/>
                  </a:lnTo>
                  <a:lnTo>
                    <a:pt x="525" y="186"/>
                  </a:lnTo>
                  <a:lnTo>
                    <a:pt x="296" y="266"/>
                  </a:lnTo>
                  <a:lnTo>
                    <a:pt x="105" y="17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28000" y="6080040"/>
              <a:ext cx="108360" cy="117720"/>
            </a:xfrm>
            <a:custGeom>
              <a:avLst/>
              <a:gdLst/>
              <a:ahLst/>
              <a:rect l="0" t="0" r="r" b="b"/>
              <a:pathLst>
                <a:path w="301" h="327">
                  <a:moveTo>
                    <a:pt x="275" y="0"/>
                  </a:moveTo>
                  <a:lnTo>
                    <a:pt x="106" y="119"/>
                  </a:lnTo>
                  <a:lnTo>
                    <a:pt x="26" y="217"/>
                  </a:lnTo>
                  <a:lnTo>
                    <a:pt x="0" y="327"/>
                  </a:lnTo>
                  <a:lnTo>
                    <a:pt x="39" y="327"/>
                  </a:lnTo>
                  <a:lnTo>
                    <a:pt x="74" y="234"/>
                  </a:lnTo>
                  <a:lnTo>
                    <a:pt x="164" y="141"/>
                  </a:lnTo>
                  <a:lnTo>
                    <a:pt x="301" y="39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99440" y="5788080"/>
              <a:ext cx="74880" cy="198720"/>
            </a:xfrm>
            <a:custGeom>
              <a:avLst/>
              <a:gdLst/>
              <a:ahLst/>
              <a:rect l="0" t="0" r="r" b="b"/>
              <a:pathLst>
                <a:path w="208" h="552">
                  <a:moveTo>
                    <a:pt x="133" y="57"/>
                  </a:moveTo>
                  <a:lnTo>
                    <a:pt x="111" y="300"/>
                  </a:lnTo>
                  <a:lnTo>
                    <a:pt x="0" y="494"/>
                  </a:lnTo>
                  <a:lnTo>
                    <a:pt x="13" y="552"/>
                  </a:lnTo>
                  <a:lnTo>
                    <a:pt x="133" y="393"/>
                  </a:lnTo>
                  <a:lnTo>
                    <a:pt x="208" y="145"/>
                  </a:lnTo>
                  <a:lnTo>
                    <a:pt x="190" y="0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3440" y="5227560"/>
              <a:ext cx="174960" cy="430560"/>
            </a:xfrm>
            <a:custGeom>
              <a:avLst/>
              <a:gdLst/>
              <a:ahLst/>
              <a:rect l="0" t="0" r="r" b="b"/>
              <a:pathLst>
                <a:path w="486" h="1196">
                  <a:moveTo>
                    <a:pt x="66" y="913"/>
                  </a:moveTo>
                  <a:lnTo>
                    <a:pt x="132" y="1054"/>
                  </a:lnTo>
                  <a:lnTo>
                    <a:pt x="486" y="1196"/>
                  </a:lnTo>
                  <a:lnTo>
                    <a:pt x="419" y="1099"/>
                  </a:lnTo>
                  <a:lnTo>
                    <a:pt x="105" y="931"/>
                  </a:lnTo>
                  <a:lnTo>
                    <a:pt x="44" y="741"/>
                  </a:lnTo>
                  <a:lnTo>
                    <a:pt x="119" y="533"/>
                  </a:lnTo>
                  <a:lnTo>
                    <a:pt x="154" y="507"/>
                  </a:lnTo>
                  <a:lnTo>
                    <a:pt x="446" y="92"/>
                  </a:lnTo>
                  <a:lnTo>
                    <a:pt x="419" y="0"/>
                  </a:lnTo>
                  <a:lnTo>
                    <a:pt x="327" y="0"/>
                  </a:lnTo>
                  <a:lnTo>
                    <a:pt x="44" y="454"/>
                  </a:lnTo>
                  <a:lnTo>
                    <a:pt x="66" y="533"/>
                  </a:lnTo>
                  <a:lnTo>
                    <a:pt x="0" y="697"/>
                  </a:lnTo>
                  <a:lnTo>
                    <a:pt x="8" y="843"/>
                  </a:lnTo>
                  <a:lnTo>
                    <a:pt x="66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31320" y="5219640"/>
              <a:ext cx="114840" cy="198720"/>
            </a:xfrm>
            <a:custGeom>
              <a:avLst/>
              <a:gdLst/>
              <a:ahLst/>
              <a:rect l="0" t="0" r="r" b="b"/>
              <a:pathLst>
                <a:path w="319" h="552">
                  <a:moveTo>
                    <a:pt x="248" y="0"/>
                  </a:moveTo>
                  <a:lnTo>
                    <a:pt x="293" y="17"/>
                  </a:lnTo>
                  <a:lnTo>
                    <a:pt x="306" y="61"/>
                  </a:lnTo>
                  <a:lnTo>
                    <a:pt x="319" y="92"/>
                  </a:lnTo>
                  <a:lnTo>
                    <a:pt x="293" y="149"/>
                  </a:lnTo>
                  <a:lnTo>
                    <a:pt x="22" y="552"/>
                  </a:lnTo>
                  <a:lnTo>
                    <a:pt x="30" y="490"/>
                  </a:lnTo>
                  <a:lnTo>
                    <a:pt x="22" y="459"/>
                  </a:lnTo>
                  <a:lnTo>
                    <a:pt x="0" y="437"/>
                  </a:lnTo>
                  <a:lnTo>
                    <a:pt x="44" y="362"/>
                  </a:lnTo>
                  <a:lnTo>
                    <a:pt x="84" y="402"/>
                  </a:lnTo>
                  <a:lnTo>
                    <a:pt x="248" y="149"/>
                  </a:lnTo>
                  <a:lnTo>
                    <a:pt x="248" y="92"/>
                  </a:lnTo>
                  <a:lnTo>
                    <a:pt x="225" y="74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88200" y="5308560"/>
              <a:ext cx="403560" cy="87840"/>
            </a:xfrm>
            <a:custGeom>
              <a:avLst/>
              <a:gdLst/>
              <a:ahLst/>
              <a:rect l="0" t="0" r="r" b="b"/>
              <a:pathLst>
                <a:path w="1121" h="244">
                  <a:moveTo>
                    <a:pt x="0" y="133"/>
                  </a:moveTo>
                  <a:lnTo>
                    <a:pt x="180" y="168"/>
                  </a:lnTo>
                  <a:lnTo>
                    <a:pt x="401" y="187"/>
                  </a:lnTo>
                  <a:lnTo>
                    <a:pt x="653" y="168"/>
                  </a:lnTo>
                  <a:lnTo>
                    <a:pt x="816" y="133"/>
                  </a:lnTo>
                  <a:lnTo>
                    <a:pt x="949" y="98"/>
                  </a:lnTo>
                  <a:lnTo>
                    <a:pt x="1032" y="57"/>
                  </a:lnTo>
                  <a:lnTo>
                    <a:pt x="1121" y="0"/>
                  </a:lnTo>
                  <a:lnTo>
                    <a:pt x="935" y="244"/>
                  </a:lnTo>
                  <a:lnTo>
                    <a:pt x="1019" y="75"/>
                  </a:lnTo>
                  <a:lnTo>
                    <a:pt x="856" y="150"/>
                  </a:lnTo>
                  <a:lnTo>
                    <a:pt x="627" y="209"/>
                  </a:lnTo>
                  <a:lnTo>
                    <a:pt x="401" y="231"/>
                  </a:lnTo>
                  <a:lnTo>
                    <a:pt x="180" y="18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5600" y="5418000"/>
              <a:ext cx="464040" cy="260640"/>
            </a:xfrm>
            <a:custGeom>
              <a:avLst/>
              <a:gdLst/>
              <a:ahLst/>
              <a:rect l="0" t="0" r="r" b="b"/>
              <a:pathLst>
                <a:path w="1289" h="724">
                  <a:moveTo>
                    <a:pt x="1223" y="92"/>
                  </a:moveTo>
                  <a:lnTo>
                    <a:pt x="1249" y="291"/>
                  </a:lnTo>
                  <a:lnTo>
                    <a:pt x="1289" y="547"/>
                  </a:lnTo>
                  <a:lnTo>
                    <a:pt x="1073" y="627"/>
                  </a:lnTo>
                  <a:lnTo>
                    <a:pt x="1060" y="724"/>
                  </a:lnTo>
                  <a:lnTo>
                    <a:pt x="1047" y="706"/>
                  </a:lnTo>
                  <a:lnTo>
                    <a:pt x="1047" y="348"/>
                  </a:lnTo>
                  <a:lnTo>
                    <a:pt x="0" y="348"/>
                  </a:lnTo>
                  <a:lnTo>
                    <a:pt x="0" y="291"/>
                  </a:lnTo>
                  <a:lnTo>
                    <a:pt x="1060" y="273"/>
                  </a:lnTo>
                  <a:lnTo>
                    <a:pt x="976" y="233"/>
                  </a:lnTo>
                  <a:lnTo>
                    <a:pt x="1174" y="189"/>
                  </a:lnTo>
                  <a:lnTo>
                    <a:pt x="1038" y="189"/>
                  </a:lnTo>
                  <a:lnTo>
                    <a:pt x="1161" y="114"/>
                  </a:lnTo>
                  <a:lnTo>
                    <a:pt x="985" y="114"/>
                  </a:lnTo>
                  <a:lnTo>
                    <a:pt x="1113" y="0"/>
                  </a:lnTo>
                  <a:lnTo>
                    <a:pt x="1223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61200" y="5369040"/>
              <a:ext cx="446400" cy="68760"/>
            </a:xfrm>
            <a:custGeom>
              <a:avLst/>
              <a:gdLst/>
              <a:ahLst/>
              <a:rect l="0" t="0" r="r" b="b"/>
              <a:pathLst>
                <a:path w="1240" h="191">
                  <a:moveTo>
                    <a:pt x="61" y="62"/>
                  </a:moveTo>
                  <a:lnTo>
                    <a:pt x="458" y="98"/>
                  </a:lnTo>
                  <a:lnTo>
                    <a:pt x="755" y="98"/>
                  </a:lnTo>
                  <a:lnTo>
                    <a:pt x="957" y="75"/>
                  </a:lnTo>
                  <a:lnTo>
                    <a:pt x="1165" y="17"/>
                  </a:lnTo>
                  <a:lnTo>
                    <a:pt x="1240" y="0"/>
                  </a:lnTo>
                  <a:lnTo>
                    <a:pt x="1165" y="62"/>
                  </a:lnTo>
                  <a:lnTo>
                    <a:pt x="896" y="115"/>
                  </a:lnTo>
                  <a:lnTo>
                    <a:pt x="542" y="133"/>
                  </a:lnTo>
                  <a:lnTo>
                    <a:pt x="1112" y="133"/>
                  </a:lnTo>
                  <a:lnTo>
                    <a:pt x="586" y="173"/>
                  </a:lnTo>
                  <a:lnTo>
                    <a:pt x="260" y="173"/>
                  </a:lnTo>
                  <a:lnTo>
                    <a:pt x="0" y="191"/>
                  </a:lnTo>
                  <a:lnTo>
                    <a:pt x="401" y="133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51840" y="5375160"/>
              <a:ext cx="18000" cy="174960"/>
            </a:xfrm>
            <a:custGeom>
              <a:avLst/>
              <a:gdLst/>
              <a:ahLst/>
              <a:rect l="0" t="0" r="r" b="b"/>
              <a:pathLst>
                <a:path w="50" h="486">
                  <a:moveTo>
                    <a:pt x="50" y="0"/>
                  </a:moveTo>
                  <a:lnTo>
                    <a:pt x="50" y="486"/>
                  </a:lnTo>
                  <a:lnTo>
                    <a:pt x="0" y="486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20080" y="5410080"/>
              <a:ext cx="439920" cy="837000"/>
            </a:xfrm>
            <a:custGeom>
              <a:avLst/>
              <a:gdLst/>
              <a:ahLst/>
              <a:rect l="0" t="0" r="r" b="b"/>
              <a:pathLst>
                <a:path w="1222" h="2325">
                  <a:moveTo>
                    <a:pt x="260" y="39"/>
                  </a:moveTo>
                  <a:lnTo>
                    <a:pt x="176" y="167"/>
                  </a:lnTo>
                  <a:lnTo>
                    <a:pt x="176" y="273"/>
                  </a:lnTo>
                  <a:lnTo>
                    <a:pt x="202" y="366"/>
                  </a:lnTo>
                  <a:lnTo>
                    <a:pt x="295" y="436"/>
                  </a:lnTo>
                  <a:lnTo>
                    <a:pt x="480" y="529"/>
                  </a:lnTo>
                  <a:lnTo>
                    <a:pt x="653" y="609"/>
                  </a:lnTo>
                  <a:lnTo>
                    <a:pt x="794" y="688"/>
                  </a:lnTo>
                  <a:lnTo>
                    <a:pt x="909" y="821"/>
                  </a:lnTo>
                  <a:lnTo>
                    <a:pt x="975" y="971"/>
                  </a:lnTo>
                  <a:lnTo>
                    <a:pt x="993" y="1103"/>
                  </a:lnTo>
                  <a:lnTo>
                    <a:pt x="957" y="1293"/>
                  </a:lnTo>
                  <a:lnTo>
                    <a:pt x="874" y="1487"/>
                  </a:lnTo>
                  <a:lnTo>
                    <a:pt x="803" y="1601"/>
                  </a:lnTo>
                  <a:lnTo>
                    <a:pt x="680" y="1716"/>
                  </a:lnTo>
                  <a:lnTo>
                    <a:pt x="515" y="1809"/>
                  </a:lnTo>
                  <a:lnTo>
                    <a:pt x="392" y="1884"/>
                  </a:lnTo>
                  <a:lnTo>
                    <a:pt x="268" y="1946"/>
                  </a:lnTo>
                  <a:lnTo>
                    <a:pt x="163" y="2021"/>
                  </a:lnTo>
                  <a:lnTo>
                    <a:pt x="83" y="2118"/>
                  </a:lnTo>
                  <a:lnTo>
                    <a:pt x="70" y="2189"/>
                  </a:lnTo>
                  <a:lnTo>
                    <a:pt x="123" y="2233"/>
                  </a:lnTo>
                  <a:lnTo>
                    <a:pt x="202" y="2211"/>
                  </a:lnTo>
                  <a:lnTo>
                    <a:pt x="268" y="2175"/>
                  </a:lnTo>
                  <a:lnTo>
                    <a:pt x="321" y="2175"/>
                  </a:lnTo>
                  <a:lnTo>
                    <a:pt x="295" y="2021"/>
                  </a:lnTo>
                  <a:lnTo>
                    <a:pt x="1156" y="2021"/>
                  </a:lnTo>
                  <a:lnTo>
                    <a:pt x="1156" y="2250"/>
                  </a:lnTo>
                  <a:lnTo>
                    <a:pt x="1222" y="2290"/>
                  </a:lnTo>
                  <a:lnTo>
                    <a:pt x="1196" y="2325"/>
                  </a:lnTo>
                  <a:lnTo>
                    <a:pt x="282" y="2325"/>
                  </a:lnTo>
                  <a:lnTo>
                    <a:pt x="339" y="2264"/>
                  </a:lnTo>
                  <a:lnTo>
                    <a:pt x="1134" y="2250"/>
                  </a:lnTo>
                  <a:lnTo>
                    <a:pt x="1134" y="2211"/>
                  </a:lnTo>
                  <a:lnTo>
                    <a:pt x="321" y="2211"/>
                  </a:lnTo>
                  <a:lnTo>
                    <a:pt x="242" y="2233"/>
                  </a:lnTo>
                  <a:lnTo>
                    <a:pt x="136" y="2264"/>
                  </a:lnTo>
                  <a:lnTo>
                    <a:pt x="83" y="2290"/>
                  </a:lnTo>
                  <a:lnTo>
                    <a:pt x="22" y="2250"/>
                  </a:lnTo>
                  <a:lnTo>
                    <a:pt x="0" y="2211"/>
                  </a:lnTo>
                  <a:lnTo>
                    <a:pt x="8" y="2131"/>
                  </a:lnTo>
                  <a:lnTo>
                    <a:pt x="44" y="2078"/>
                  </a:lnTo>
                  <a:lnTo>
                    <a:pt x="83" y="2096"/>
                  </a:lnTo>
                  <a:lnTo>
                    <a:pt x="185" y="1981"/>
                  </a:lnTo>
                  <a:lnTo>
                    <a:pt x="282" y="1920"/>
                  </a:lnTo>
                  <a:lnTo>
                    <a:pt x="268" y="1884"/>
                  </a:lnTo>
                  <a:lnTo>
                    <a:pt x="136" y="1964"/>
                  </a:lnTo>
                  <a:lnTo>
                    <a:pt x="295" y="1845"/>
                  </a:lnTo>
                  <a:lnTo>
                    <a:pt x="502" y="1748"/>
                  </a:lnTo>
                  <a:lnTo>
                    <a:pt x="688" y="1623"/>
                  </a:lnTo>
                  <a:lnTo>
                    <a:pt x="843" y="1429"/>
                  </a:lnTo>
                  <a:lnTo>
                    <a:pt x="794" y="1531"/>
                  </a:lnTo>
                  <a:lnTo>
                    <a:pt x="830" y="1531"/>
                  </a:lnTo>
                  <a:lnTo>
                    <a:pt x="949" y="1279"/>
                  </a:lnTo>
                  <a:lnTo>
                    <a:pt x="949" y="1125"/>
                  </a:lnTo>
                  <a:lnTo>
                    <a:pt x="922" y="1103"/>
                  </a:lnTo>
                  <a:lnTo>
                    <a:pt x="887" y="1279"/>
                  </a:lnTo>
                  <a:lnTo>
                    <a:pt x="909" y="1046"/>
                  </a:lnTo>
                  <a:lnTo>
                    <a:pt x="887" y="940"/>
                  </a:lnTo>
                  <a:lnTo>
                    <a:pt x="852" y="838"/>
                  </a:lnTo>
                  <a:lnTo>
                    <a:pt x="777" y="763"/>
                  </a:lnTo>
                  <a:lnTo>
                    <a:pt x="653" y="710"/>
                  </a:lnTo>
                  <a:lnTo>
                    <a:pt x="326" y="568"/>
                  </a:lnTo>
                  <a:lnTo>
                    <a:pt x="608" y="688"/>
                  </a:lnTo>
                  <a:lnTo>
                    <a:pt x="568" y="609"/>
                  </a:lnTo>
                  <a:lnTo>
                    <a:pt x="268" y="436"/>
                  </a:lnTo>
                  <a:lnTo>
                    <a:pt x="260" y="489"/>
                  </a:lnTo>
                  <a:lnTo>
                    <a:pt x="282" y="529"/>
                  </a:lnTo>
                  <a:lnTo>
                    <a:pt x="202" y="423"/>
                  </a:lnTo>
                  <a:lnTo>
                    <a:pt x="163" y="308"/>
                  </a:lnTo>
                  <a:lnTo>
                    <a:pt x="149" y="194"/>
                  </a:lnTo>
                  <a:lnTo>
                    <a:pt x="185" y="74"/>
                  </a:lnTo>
                  <a:lnTo>
                    <a:pt x="260" y="0"/>
                  </a:lnTo>
                  <a:lnTo>
                    <a:pt x="26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28000" y="5672160"/>
              <a:ext cx="308160" cy="417960"/>
            </a:xfrm>
            <a:custGeom>
              <a:avLst/>
              <a:gdLst/>
              <a:ahLst/>
              <a:rect l="0" t="0" r="r" b="b"/>
              <a:pathLst>
                <a:path w="856" h="1161">
                  <a:moveTo>
                    <a:pt x="0" y="0"/>
                  </a:moveTo>
                  <a:lnTo>
                    <a:pt x="587" y="0"/>
                  </a:lnTo>
                  <a:lnTo>
                    <a:pt x="785" y="92"/>
                  </a:lnTo>
                  <a:lnTo>
                    <a:pt x="856" y="224"/>
                  </a:lnTo>
                  <a:lnTo>
                    <a:pt x="821" y="251"/>
                  </a:lnTo>
                  <a:lnTo>
                    <a:pt x="785" y="459"/>
                  </a:lnTo>
                  <a:lnTo>
                    <a:pt x="768" y="666"/>
                  </a:lnTo>
                  <a:lnTo>
                    <a:pt x="746" y="843"/>
                  </a:lnTo>
                  <a:lnTo>
                    <a:pt x="728" y="702"/>
                  </a:lnTo>
                  <a:lnTo>
                    <a:pt x="746" y="516"/>
                  </a:lnTo>
                  <a:lnTo>
                    <a:pt x="755" y="358"/>
                  </a:lnTo>
                  <a:lnTo>
                    <a:pt x="768" y="251"/>
                  </a:lnTo>
                  <a:lnTo>
                    <a:pt x="768" y="194"/>
                  </a:lnTo>
                  <a:lnTo>
                    <a:pt x="719" y="149"/>
                  </a:lnTo>
                  <a:lnTo>
                    <a:pt x="693" y="211"/>
                  </a:lnTo>
                  <a:lnTo>
                    <a:pt x="666" y="494"/>
                  </a:lnTo>
                  <a:lnTo>
                    <a:pt x="666" y="883"/>
                  </a:lnTo>
                  <a:lnTo>
                    <a:pt x="666" y="268"/>
                  </a:lnTo>
                  <a:lnTo>
                    <a:pt x="455" y="282"/>
                  </a:lnTo>
                  <a:lnTo>
                    <a:pt x="433" y="402"/>
                  </a:lnTo>
                  <a:lnTo>
                    <a:pt x="423" y="702"/>
                  </a:lnTo>
                  <a:lnTo>
                    <a:pt x="405" y="1047"/>
                  </a:lnTo>
                  <a:lnTo>
                    <a:pt x="396" y="494"/>
                  </a:lnTo>
                  <a:lnTo>
                    <a:pt x="396" y="282"/>
                  </a:lnTo>
                  <a:lnTo>
                    <a:pt x="405" y="194"/>
                  </a:lnTo>
                  <a:lnTo>
                    <a:pt x="352" y="149"/>
                  </a:lnTo>
                  <a:lnTo>
                    <a:pt x="321" y="194"/>
                  </a:lnTo>
                  <a:lnTo>
                    <a:pt x="321" y="268"/>
                  </a:lnTo>
                  <a:lnTo>
                    <a:pt x="343" y="994"/>
                  </a:lnTo>
                  <a:lnTo>
                    <a:pt x="286" y="282"/>
                  </a:lnTo>
                  <a:lnTo>
                    <a:pt x="220" y="282"/>
                  </a:lnTo>
                  <a:lnTo>
                    <a:pt x="167" y="305"/>
                  </a:lnTo>
                  <a:lnTo>
                    <a:pt x="141" y="327"/>
                  </a:lnTo>
                  <a:lnTo>
                    <a:pt x="123" y="1161"/>
                  </a:lnTo>
                  <a:lnTo>
                    <a:pt x="101" y="1161"/>
                  </a:lnTo>
                  <a:lnTo>
                    <a:pt x="7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23200" y="5665680"/>
              <a:ext cx="232200" cy="433800"/>
            </a:xfrm>
            <a:custGeom>
              <a:avLst/>
              <a:gdLst/>
              <a:ahLst/>
              <a:rect l="0" t="0" r="r" b="b"/>
              <a:pathLst>
                <a:path w="645" h="1205">
                  <a:moveTo>
                    <a:pt x="0" y="0"/>
                  </a:moveTo>
                  <a:lnTo>
                    <a:pt x="645" y="0"/>
                  </a:lnTo>
                  <a:lnTo>
                    <a:pt x="623" y="70"/>
                  </a:lnTo>
                  <a:lnTo>
                    <a:pt x="495" y="132"/>
                  </a:lnTo>
                  <a:lnTo>
                    <a:pt x="459" y="1205"/>
                  </a:lnTo>
                  <a:lnTo>
                    <a:pt x="459" y="322"/>
                  </a:lnTo>
                  <a:lnTo>
                    <a:pt x="406" y="295"/>
                  </a:lnTo>
                  <a:lnTo>
                    <a:pt x="327" y="322"/>
                  </a:lnTo>
                  <a:lnTo>
                    <a:pt x="265" y="816"/>
                  </a:lnTo>
                  <a:lnTo>
                    <a:pt x="217" y="1148"/>
                  </a:lnTo>
                  <a:lnTo>
                    <a:pt x="278" y="167"/>
                  </a:lnTo>
                  <a:lnTo>
                    <a:pt x="252" y="132"/>
                  </a:lnTo>
                  <a:lnTo>
                    <a:pt x="203" y="167"/>
                  </a:lnTo>
                  <a:lnTo>
                    <a:pt x="164" y="1095"/>
                  </a:lnTo>
                  <a:lnTo>
                    <a:pt x="149" y="264"/>
                  </a:lnTo>
                  <a:lnTo>
                    <a:pt x="92" y="114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7080" y="5573880"/>
              <a:ext cx="46440" cy="68760"/>
            </a:xfrm>
            <a:custGeom>
              <a:avLst/>
              <a:gdLst/>
              <a:ahLst/>
              <a:rect l="0" t="0" r="r" b="b"/>
              <a:pathLst>
                <a:path w="129" h="191">
                  <a:moveTo>
                    <a:pt x="0" y="191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36" y="35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78840" y="5567400"/>
              <a:ext cx="343440" cy="68760"/>
            </a:xfrm>
            <a:custGeom>
              <a:avLst/>
              <a:gdLst/>
              <a:ahLst/>
              <a:rect l="0" t="0" r="r" b="b"/>
              <a:pathLst>
                <a:path w="954" h="191">
                  <a:moveTo>
                    <a:pt x="0" y="0"/>
                  </a:moveTo>
                  <a:lnTo>
                    <a:pt x="954" y="0"/>
                  </a:lnTo>
                  <a:lnTo>
                    <a:pt x="954" y="191"/>
                  </a:lnTo>
                  <a:lnTo>
                    <a:pt x="928" y="39"/>
                  </a:lnTo>
                  <a:lnTo>
                    <a:pt x="2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54960" y="6130800"/>
              <a:ext cx="33840" cy="19440"/>
            </a:xfrm>
            <a:custGeom>
              <a:avLst/>
              <a:gdLst/>
              <a:ahLst/>
              <a:rect l="0" t="0" r="r" b="b"/>
              <a:pathLst>
                <a:path w="94" h="54">
                  <a:moveTo>
                    <a:pt x="13" y="0"/>
                  </a:moveTo>
                  <a:lnTo>
                    <a:pt x="94" y="0"/>
                  </a:lnTo>
                  <a:lnTo>
                    <a:pt x="94" y="54"/>
                  </a:lnTo>
                  <a:lnTo>
                    <a:pt x="0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83760" y="6067440"/>
              <a:ext cx="432000" cy="152640"/>
            </a:xfrm>
            <a:custGeom>
              <a:avLst/>
              <a:gdLst/>
              <a:ahLst/>
              <a:rect l="0" t="0" r="r" b="b"/>
              <a:pathLst>
                <a:path w="1200" h="424">
                  <a:moveTo>
                    <a:pt x="8" y="292"/>
                  </a:moveTo>
                  <a:lnTo>
                    <a:pt x="202" y="309"/>
                  </a:lnTo>
                  <a:lnTo>
                    <a:pt x="343" y="269"/>
                  </a:lnTo>
                  <a:lnTo>
                    <a:pt x="458" y="194"/>
                  </a:lnTo>
                  <a:lnTo>
                    <a:pt x="524" y="136"/>
                  </a:lnTo>
                  <a:lnTo>
                    <a:pt x="551" y="92"/>
                  </a:lnTo>
                  <a:lnTo>
                    <a:pt x="515" y="74"/>
                  </a:lnTo>
                  <a:lnTo>
                    <a:pt x="551" y="61"/>
                  </a:lnTo>
                  <a:lnTo>
                    <a:pt x="662" y="74"/>
                  </a:lnTo>
                  <a:lnTo>
                    <a:pt x="856" y="61"/>
                  </a:lnTo>
                  <a:lnTo>
                    <a:pt x="1019" y="39"/>
                  </a:lnTo>
                  <a:lnTo>
                    <a:pt x="1099" y="17"/>
                  </a:lnTo>
                  <a:lnTo>
                    <a:pt x="1160" y="0"/>
                  </a:lnTo>
                  <a:lnTo>
                    <a:pt x="1200" y="0"/>
                  </a:lnTo>
                  <a:lnTo>
                    <a:pt x="1160" y="92"/>
                  </a:lnTo>
                  <a:lnTo>
                    <a:pt x="1059" y="194"/>
                  </a:lnTo>
                  <a:lnTo>
                    <a:pt x="984" y="256"/>
                  </a:lnTo>
                  <a:lnTo>
                    <a:pt x="1151" y="292"/>
                  </a:lnTo>
                  <a:lnTo>
                    <a:pt x="1099" y="331"/>
                  </a:lnTo>
                  <a:lnTo>
                    <a:pt x="1010" y="331"/>
                  </a:lnTo>
                  <a:lnTo>
                    <a:pt x="944" y="362"/>
                  </a:lnTo>
                  <a:lnTo>
                    <a:pt x="697" y="389"/>
                  </a:lnTo>
                  <a:lnTo>
                    <a:pt x="418" y="424"/>
                  </a:lnTo>
                  <a:lnTo>
                    <a:pt x="352" y="424"/>
                  </a:lnTo>
                  <a:lnTo>
                    <a:pt x="0" y="309"/>
                  </a:lnTo>
                  <a:lnTo>
                    <a:pt x="379" y="389"/>
                  </a:lnTo>
                  <a:lnTo>
                    <a:pt x="640" y="331"/>
                  </a:lnTo>
                  <a:lnTo>
                    <a:pt x="816" y="269"/>
                  </a:lnTo>
                  <a:lnTo>
                    <a:pt x="957" y="194"/>
                  </a:lnTo>
                  <a:lnTo>
                    <a:pt x="1059" y="119"/>
                  </a:lnTo>
                  <a:lnTo>
                    <a:pt x="1099" y="61"/>
                  </a:lnTo>
                  <a:lnTo>
                    <a:pt x="935" y="92"/>
                  </a:lnTo>
                  <a:lnTo>
                    <a:pt x="719" y="119"/>
                  </a:lnTo>
                  <a:lnTo>
                    <a:pt x="551" y="119"/>
                  </a:lnTo>
                  <a:lnTo>
                    <a:pt x="458" y="180"/>
                  </a:lnTo>
                  <a:lnTo>
                    <a:pt x="295" y="292"/>
                  </a:lnTo>
                  <a:lnTo>
                    <a:pt x="8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81960" y="6089760"/>
              <a:ext cx="441720" cy="157680"/>
            </a:xfrm>
            <a:custGeom>
              <a:avLst/>
              <a:gdLst/>
              <a:ahLst/>
              <a:rect l="0" t="0" r="r" b="b"/>
              <a:pathLst>
                <a:path w="1227" h="438">
                  <a:moveTo>
                    <a:pt x="1227" y="39"/>
                  </a:moveTo>
                  <a:lnTo>
                    <a:pt x="1179" y="155"/>
                  </a:lnTo>
                  <a:lnTo>
                    <a:pt x="1188" y="172"/>
                  </a:lnTo>
                  <a:lnTo>
                    <a:pt x="1126" y="305"/>
                  </a:lnTo>
                  <a:lnTo>
                    <a:pt x="1064" y="327"/>
                  </a:lnTo>
                  <a:lnTo>
                    <a:pt x="1051" y="363"/>
                  </a:lnTo>
                  <a:lnTo>
                    <a:pt x="472" y="420"/>
                  </a:lnTo>
                  <a:lnTo>
                    <a:pt x="508" y="438"/>
                  </a:lnTo>
                  <a:lnTo>
                    <a:pt x="322" y="420"/>
                  </a:lnTo>
                  <a:lnTo>
                    <a:pt x="101" y="438"/>
                  </a:lnTo>
                  <a:lnTo>
                    <a:pt x="163" y="345"/>
                  </a:lnTo>
                  <a:lnTo>
                    <a:pt x="0" y="208"/>
                  </a:lnTo>
                  <a:lnTo>
                    <a:pt x="459" y="0"/>
                  </a:lnTo>
                  <a:lnTo>
                    <a:pt x="39" y="208"/>
                  </a:lnTo>
                  <a:lnTo>
                    <a:pt x="229" y="327"/>
                  </a:lnTo>
                  <a:lnTo>
                    <a:pt x="384" y="345"/>
                  </a:lnTo>
                  <a:lnTo>
                    <a:pt x="375" y="305"/>
                  </a:lnTo>
                  <a:lnTo>
                    <a:pt x="472" y="345"/>
                  </a:lnTo>
                  <a:lnTo>
                    <a:pt x="834" y="327"/>
                  </a:lnTo>
                  <a:lnTo>
                    <a:pt x="649" y="230"/>
                  </a:lnTo>
                  <a:lnTo>
                    <a:pt x="936" y="305"/>
                  </a:lnTo>
                  <a:lnTo>
                    <a:pt x="1051" y="287"/>
                  </a:lnTo>
                  <a:lnTo>
                    <a:pt x="1117" y="230"/>
                  </a:lnTo>
                  <a:lnTo>
                    <a:pt x="1179" y="97"/>
                  </a:lnTo>
                  <a:lnTo>
                    <a:pt x="936" y="172"/>
                  </a:lnTo>
                  <a:lnTo>
                    <a:pt x="759" y="172"/>
                  </a:lnTo>
                  <a:lnTo>
                    <a:pt x="649" y="172"/>
                  </a:lnTo>
                  <a:lnTo>
                    <a:pt x="976" y="133"/>
                  </a:lnTo>
                  <a:lnTo>
                    <a:pt x="1227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26320" y="6081840"/>
              <a:ext cx="76680" cy="76680"/>
            </a:xfrm>
            <a:custGeom>
              <a:avLst/>
              <a:gdLst/>
              <a:ahLst/>
              <a:rect l="0" t="0" r="r" b="b"/>
              <a:pathLst>
                <a:path w="213" h="213">
                  <a:moveTo>
                    <a:pt x="0" y="0"/>
                  </a:moveTo>
                  <a:lnTo>
                    <a:pt x="213" y="213"/>
                  </a:lnTo>
                  <a:lnTo>
                    <a:pt x="6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94600" y="5448240"/>
              <a:ext cx="46440" cy="32040"/>
            </a:xfrm>
            <a:custGeom>
              <a:avLst/>
              <a:gdLst/>
              <a:ahLst/>
              <a:rect l="0" t="0" r="r" b="b"/>
              <a:pathLst>
                <a:path w="129" h="89">
                  <a:moveTo>
                    <a:pt x="0" y="89"/>
                  </a:moveTo>
                  <a:lnTo>
                    <a:pt x="71" y="75"/>
                  </a:lnTo>
                  <a:lnTo>
                    <a:pt x="129" y="75"/>
                  </a:lnTo>
                  <a:lnTo>
                    <a:pt x="121" y="0"/>
                  </a:lnTo>
                  <a:lnTo>
                    <a:pt x="103" y="4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72360" y="5446800"/>
              <a:ext cx="357480" cy="18000"/>
            </a:xfrm>
            <a:custGeom>
              <a:avLst/>
              <a:gdLst/>
              <a:ahLst/>
              <a:rect l="0" t="0" r="r" b="b"/>
              <a:pathLst>
                <a:path w="993" h="50">
                  <a:moveTo>
                    <a:pt x="0" y="50"/>
                  </a:moveTo>
                  <a:lnTo>
                    <a:pt x="326" y="27"/>
                  </a:lnTo>
                  <a:lnTo>
                    <a:pt x="538" y="41"/>
                  </a:lnTo>
                  <a:lnTo>
                    <a:pt x="979" y="41"/>
                  </a:lnTo>
                  <a:lnTo>
                    <a:pt x="993" y="0"/>
                  </a:lnTo>
                  <a:lnTo>
                    <a:pt x="277" y="1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10520" y="5479920"/>
              <a:ext cx="324360" cy="18000"/>
            </a:xfrm>
            <a:custGeom>
              <a:avLst/>
              <a:gdLst/>
              <a:ahLst/>
              <a:rect l="0" t="0" r="r" b="b"/>
              <a:pathLst>
                <a:path w="901" h="50">
                  <a:moveTo>
                    <a:pt x="0" y="8"/>
                  </a:moveTo>
                  <a:lnTo>
                    <a:pt x="344" y="27"/>
                  </a:lnTo>
                  <a:lnTo>
                    <a:pt x="671" y="50"/>
                  </a:lnTo>
                  <a:lnTo>
                    <a:pt x="901" y="14"/>
                  </a:lnTo>
                  <a:lnTo>
                    <a:pt x="734" y="8"/>
                  </a:lnTo>
                  <a:lnTo>
                    <a:pt x="534" y="14"/>
                  </a:lnTo>
                  <a:lnTo>
                    <a:pt x="1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1360" y="5497560"/>
              <a:ext cx="49680" cy="12960"/>
            </a:xfrm>
            <a:custGeom>
              <a:avLst/>
              <a:gdLst/>
              <a:ahLst/>
              <a:rect l="0" t="0" r="r" b="b"/>
              <a:pathLst>
                <a:path w="138" h="36">
                  <a:moveTo>
                    <a:pt x="0" y="36"/>
                  </a:moveTo>
                  <a:lnTo>
                    <a:pt x="138" y="0"/>
                  </a:lnTo>
                  <a:lnTo>
                    <a:pt x="138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91520" y="4427640"/>
              <a:ext cx="306720" cy="410040"/>
            </a:xfrm>
            <a:custGeom>
              <a:avLst/>
              <a:gdLst/>
              <a:ahLst/>
              <a:rect l="0" t="0" r="r" b="b"/>
              <a:pathLst>
                <a:path w="852" h="1139">
                  <a:moveTo>
                    <a:pt x="710" y="353"/>
                  </a:moveTo>
                  <a:lnTo>
                    <a:pt x="618" y="384"/>
                  </a:lnTo>
                  <a:lnTo>
                    <a:pt x="516" y="402"/>
                  </a:lnTo>
                  <a:lnTo>
                    <a:pt x="410" y="371"/>
                  </a:lnTo>
                  <a:lnTo>
                    <a:pt x="343" y="340"/>
                  </a:lnTo>
                  <a:lnTo>
                    <a:pt x="357" y="309"/>
                  </a:lnTo>
                  <a:lnTo>
                    <a:pt x="277" y="277"/>
                  </a:lnTo>
                  <a:lnTo>
                    <a:pt x="194" y="194"/>
                  </a:lnTo>
                  <a:lnTo>
                    <a:pt x="149" y="105"/>
                  </a:lnTo>
                  <a:lnTo>
                    <a:pt x="132" y="13"/>
                  </a:lnTo>
                  <a:lnTo>
                    <a:pt x="101" y="0"/>
                  </a:lnTo>
                  <a:lnTo>
                    <a:pt x="132" y="136"/>
                  </a:lnTo>
                  <a:lnTo>
                    <a:pt x="180" y="207"/>
                  </a:lnTo>
                  <a:lnTo>
                    <a:pt x="268" y="309"/>
                  </a:lnTo>
                  <a:lnTo>
                    <a:pt x="163" y="220"/>
                  </a:lnTo>
                  <a:lnTo>
                    <a:pt x="114" y="136"/>
                  </a:lnTo>
                  <a:lnTo>
                    <a:pt x="88" y="66"/>
                  </a:lnTo>
                  <a:lnTo>
                    <a:pt x="48" y="66"/>
                  </a:lnTo>
                  <a:lnTo>
                    <a:pt x="110" y="167"/>
                  </a:lnTo>
                  <a:lnTo>
                    <a:pt x="171" y="251"/>
                  </a:lnTo>
                  <a:lnTo>
                    <a:pt x="260" y="340"/>
                  </a:lnTo>
                  <a:lnTo>
                    <a:pt x="149" y="300"/>
                  </a:lnTo>
                  <a:lnTo>
                    <a:pt x="66" y="207"/>
                  </a:lnTo>
                  <a:lnTo>
                    <a:pt x="39" y="145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48" y="207"/>
                  </a:lnTo>
                  <a:lnTo>
                    <a:pt x="114" y="300"/>
                  </a:lnTo>
                  <a:lnTo>
                    <a:pt x="180" y="353"/>
                  </a:lnTo>
                  <a:lnTo>
                    <a:pt x="251" y="371"/>
                  </a:lnTo>
                  <a:lnTo>
                    <a:pt x="277" y="402"/>
                  </a:lnTo>
                  <a:lnTo>
                    <a:pt x="277" y="450"/>
                  </a:lnTo>
                  <a:lnTo>
                    <a:pt x="313" y="490"/>
                  </a:lnTo>
                  <a:lnTo>
                    <a:pt x="396" y="508"/>
                  </a:lnTo>
                  <a:lnTo>
                    <a:pt x="477" y="521"/>
                  </a:lnTo>
                  <a:lnTo>
                    <a:pt x="565" y="508"/>
                  </a:lnTo>
                  <a:lnTo>
                    <a:pt x="658" y="490"/>
                  </a:lnTo>
                  <a:lnTo>
                    <a:pt x="710" y="464"/>
                  </a:lnTo>
                  <a:lnTo>
                    <a:pt x="741" y="538"/>
                  </a:lnTo>
                  <a:lnTo>
                    <a:pt x="755" y="653"/>
                  </a:lnTo>
                  <a:lnTo>
                    <a:pt x="759" y="812"/>
                  </a:lnTo>
                  <a:lnTo>
                    <a:pt x="755" y="945"/>
                  </a:lnTo>
                  <a:lnTo>
                    <a:pt x="733" y="1025"/>
                  </a:lnTo>
                  <a:lnTo>
                    <a:pt x="733" y="1064"/>
                  </a:lnTo>
                  <a:lnTo>
                    <a:pt x="697" y="1108"/>
                  </a:lnTo>
                  <a:lnTo>
                    <a:pt x="697" y="1139"/>
                  </a:lnTo>
                  <a:lnTo>
                    <a:pt x="759" y="1077"/>
                  </a:lnTo>
                  <a:lnTo>
                    <a:pt x="852" y="1051"/>
                  </a:lnTo>
                  <a:lnTo>
                    <a:pt x="852" y="1033"/>
                  </a:lnTo>
                  <a:lnTo>
                    <a:pt x="790" y="1033"/>
                  </a:lnTo>
                  <a:lnTo>
                    <a:pt x="812" y="843"/>
                  </a:lnTo>
                  <a:lnTo>
                    <a:pt x="821" y="680"/>
                  </a:lnTo>
                  <a:lnTo>
                    <a:pt x="803" y="653"/>
                  </a:lnTo>
                  <a:lnTo>
                    <a:pt x="790" y="521"/>
                  </a:lnTo>
                  <a:lnTo>
                    <a:pt x="759" y="437"/>
                  </a:lnTo>
                  <a:lnTo>
                    <a:pt x="71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54880" y="441972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0" y="8"/>
                  </a:moveTo>
                  <a:lnTo>
                    <a:pt x="22" y="102"/>
                  </a:lnTo>
                  <a:lnTo>
                    <a:pt x="58" y="199"/>
                  </a:lnTo>
                  <a:lnTo>
                    <a:pt x="45" y="66"/>
                  </a:lnTo>
                  <a:lnTo>
                    <a:pt x="5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5120" y="4419720"/>
              <a:ext cx="219600" cy="140040"/>
            </a:xfrm>
            <a:custGeom>
              <a:avLst/>
              <a:gdLst/>
              <a:ahLst/>
              <a:rect l="0" t="0" r="r" b="b"/>
              <a:pathLst>
                <a:path w="610" h="389">
                  <a:moveTo>
                    <a:pt x="0" y="48"/>
                  </a:moveTo>
                  <a:lnTo>
                    <a:pt x="177" y="0"/>
                  </a:lnTo>
                  <a:lnTo>
                    <a:pt x="331" y="0"/>
                  </a:lnTo>
                  <a:lnTo>
                    <a:pt x="437" y="8"/>
                  </a:lnTo>
                  <a:lnTo>
                    <a:pt x="535" y="48"/>
                  </a:lnTo>
                  <a:lnTo>
                    <a:pt x="579" y="123"/>
                  </a:lnTo>
                  <a:lnTo>
                    <a:pt x="601" y="195"/>
                  </a:lnTo>
                  <a:lnTo>
                    <a:pt x="610" y="225"/>
                  </a:lnTo>
                  <a:lnTo>
                    <a:pt x="610" y="274"/>
                  </a:lnTo>
                  <a:lnTo>
                    <a:pt x="548" y="344"/>
                  </a:lnTo>
                  <a:lnTo>
                    <a:pt x="473" y="389"/>
                  </a:lnTo>
                  <a:lnTo>
                    <a:pt x="441" y="287"/>
                  </a:lnTo>
                  <a:lnTo>
                    <a:pt x="415" y="243"/>
                  </a:lnTo>
                  <a:lnTo>
                    <a:pt x="362" y="195"/>
                  </a:lnTo>
                  <a:lnTo>
                    <a:pt x="287" y="185"/>
                  </a:lnTo>
                  <a:lnTo>
                    <a:pt x="367" y="195"/>
                  </a:lnTo>
                  <a:lnTo>
                    <a:pt x="437" y="243"/>
                  </a:lnTo>
                  <a:lnTo>
                    <a:pt x="375" y="171"/>
                  </a:lnTo>
                  <a:lnTo>
                    <a:pt x="441" y="225"/>
                  </a:lnTo>
                  <a:lnTo>
                    <a:pt x="482" y="287"/>
                  </a:lnTo>
                  <a:lnTo>
                    <a:pt x="495" y="344"/>
                  </a:lnTo>
                  <a:lnTo>
                    <a:pt x="513" y="300"/>
                  </a:lnTo>
                  <a:lnTo>
                    <a:pt x="482" y="217"/>
                  </a:lnTo>
                  <a:lnTo>
                    <a:pt x="450" y="154"/>
                  </a:lnTo>
                  <a:lnTo>
                    <a:pt x="415" y="114"/>
                  </a:lnTo>
                  <a:lnTo>
                    <a:pt x="441" y="97"/>
                  </a:lnTo>
                  <a:lnTo>
                    <a:pt x="482" y="185"/>
                  </a:lnTo>
                  <a:lnTo>
                    <a:pt x="513" y="225"/>
                  </a:lnTo>
                  <a:lnTo>
                    <a:pt x="535" y="274"/>
                  </a:lnTo>
                  <a:lnTo>
                    <a:pt x="544" y="217"/>
                  </a:lnTo>
                  <a:lnTo>
                    <a:pt x="517" y="154"/>
                  </a:lnTo>
                  <a:lnTo>
                    <a:pt x="473" y="114"/>
                  </a:lnTo>
                  <a:lnTo>
                    <a:pt x="441" y="83"/>
                  </a:lnTo>
                  <a:lnTo>
                    <a:pt x="450" y="66"/>
                  </a:lnTo>
                  <a:lnTo>
                    <a:pt x="393" y="39"/>
                  </a:lnTo>
                  <a:lnTo>
                    <a:pt x="292" y="17"/>
                  </a:lnTo>
                  <a:lnTo>
                    <a:pt x="190" y="17"/>
                  </a:lnTo>
                  <a:lnTo>
                    <a:pt x="88" y="48"/>
                  </a:lnTo>
                  <a:lnTo>
                    <a:pt x="17" y="8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2920" y="4522680"/>
              <a:ext cx="348120" cy="592560"/>
            </a:xfrm>
            <a:custGeom>
              <a:avLst/>
              <a:gdLst/>
              <a:ahLst/>
              <a:rect l="0" t="0" r="r" b="b"/>
              <a:pathLst>
                <a:path w="967" h="1646">
                  <a:moveTo>
                    <a:pt x="764" y="0"/>
                  </a:moveTo>
                  <a:lnTo>
                    <a:pt x="861" y="70"/>
                  </a:lnTo>
                  <a:lnTo>
                    <a:pt x="928" y="149"/>
                  </a:lnTo>
                  <a:lnTo>
                    <a:pt x="954" y="242"/>
                  </a:lnTo>
                  <a:lnTo>
                    <a:pt x="967" y="339"/>
                  </a:lnTo>
                  <a:lnTo>
                    <a:pt x="954" y="437"/>
                  </a:lnTo>
                  <a:lnTo>
                    <a:pt x="905" y="578"/>
                  </a:lnTo>
                  <a:lnTo>
                    <a:pt x="844" y="710"/>
                  </a:lnTo>
                  <a:lnTo>
                    <a:pt x="817" y="781"/>
                  </a:lnTo>
                  <a:lnTo>
                    <a:pt x="795" y="882"/>
                  </a:lnTo>
                  <a:lnTo>
                    <a:pt x="764" y="957"/>
                  </a:lnTo>
                  <a:lnTo>
                    <a:pt x="738" y="1032"/>
                  </a:lnTo>
                  <a:lnTo>
                    <a:pt x="719" y="1076"/>
                  </a:lnTo>
                  <a:lnTo>
                    <a:pt x="742" y="1178"/>
                  </a:lnTo>
                  <a:lnTo>
                    <a:pt x="764" y="1311"/>
                  </a:lnTo>
                  <a:lnTo>
                    <a:pt x="764" y="1413"/>
                  </a:lnTo>
                  <a:lnTo>
                    <a:pt x="773" y="1523"/>
                  </a:lnTo>
                  <a:lnTo>
                    <a:pt x="795" y="1611"/>
                  </a:lnTo>
                  <a:lnTo>
                    <a:pt x="822" y="1646"/>
                  </a:lnTo>
                  <a:lnTo>
                    <a:pt x="786" y="1646"/>
                  </a:lnTo>
                  <a:lnTo>
                    <a:pt x="764" y="1585"/>
                  </a:lnTo>
                  <a:lnTo>
                    <a:pt x="738" y="1479"/>
                  </a:lnTo>
                  <a:lnTo>
                    <a:pt x="724" y="1369"/>
                  </a:lnTo>
                  <a:lnTo>
                    <a:pt x="719" y="1492"/>
                  </a:lnTo>
                  <a:lnTo>
                    <a:pt x="724" y="1585"/>
                  </a:lnTo>
                  <a:lnTo>
                    <a:pt x="738" y="1624"/>
                  </a:lnTo>
                  <a:lnTo>
                    <a:pt x="756" y="1646"/>
                  </a:lnTo>
                  <a:lnTo>
                    <a:pt x="724" y="1646"/>
                  </a:lnTo>
                  <a:lnTo>
                    <a:pt x="693" y="1554"/>
                  </a:lnTo>
                  <a:lnTo>
                    <a:pt x="688" y="1646"/>
                  </a:lnTo>
                  <a:lnTo>
                    <a:pt x="627" y="1646"/>
                  </a:lnTo>
                  <a:lnTo>
                    <a:pt x="561" y="1638"/>
                  </a:lnTo>
                  <a:lnTo>
                    <a:pt x="468" y="1611"/>
                  </a:lnTo>
                  <a:lnTo>
                    <a:pt x="402" y="1611"/>
                  </a:lnTo>
                  <a:lnTo>
                    <a:pt x="402" y="1554"/>
                  </a:lnTo>
                  <a:lnTo>
                    <a:pt x="349" y="1536"/>
                  </a:lnTo>
                  <a:lnTo>
                    <a:pt x="283" y="1505"/>
                  </a:lnTo>
                  <a:lnTo>
                    <a:pt x="252" y="1492"/>
                  </a:lnTo>
                  <a:lnTo>
                    <a:pt x="163" y="1536"/>
                  </a:lnTo>
                  <a:lnTo>
                    <a:pt x="83" y="1554"/>
                  </a:lnTo>
                  <a:lnTo>
                    <a:pt x="35" y="1554"/>
                  </a:lnTo>
                  <a:lnTo>
                    <a:pt x="0" y="1523"/>
                  </a:lnTo>
                  <a:lnTo>
                    <a:pt x="66" y="1536"/>
                  </a:lnTo>
                  <a:lnTo>
                    <a:pt x="66" y="1554"/>
                  </a:lnTo>
                  <a:lnTo>
                    <a:pt x="136" y="1536"/>
                  </a:lnTo>
                  <a:lnTo>
                    <a:pt x="202" y="1492"/>
                  </a:lnTo>
                  <a:lnTo>
                    <a:pt x="305" y="1435"/>
                  </a:lnTo>
                  <a:lnTo>
                    <a:pt x="393" y="1342"/>
                  </a:lnTo>
                  <a:lnTo>
                    <a:pt x="455" y="1249"/>
                  </a:lnTo>
                  <a:lnTo>
                    <a:pt x="512" y="1191"/>
                  </a:lnTo>
                  <a:lnTo>
                    <a:pt x="534" y="1147"/>
                  </a:lnTo>
                  <a:lnTo>
                    <a:pt x="552" y="1147"/>
                  </a:lnTo>
                  <a:lnTo>
                    <a:pt x="534" y="1191"/>
                  </a:lnTo>
                  <a:lnTo>
                    <a:pt x="552" y="1218"/>
                  </a:lnTo>
                  <a:lnTo>
                    <a:pt x="587" y="1209"/>
                  </a:lnTo>
                  <a:lnTo>
                    <a:pt x="596" y="1178"/>
                  </a:lnTo>
                  <a:lnTo>
                    <a:pt x="587" y="1147"/>
                  </a:lnTo>
                  <a:lnTo>
                    <a:pt x="578" y="1138"/>
                  </a:lnTo>
                  <a:lnTo>
                    <a:pt x="644" y="1116"/>
                  </a:lnTo>
                  <a:lnTo>
                    <a:pt x="693" y="1059"/>
                  </a:lnTo>
                  <a:lnTo>
                    <a:pt x="724" y="1002"/>
                  </a:lnTo>
                  <a:lnTo>
                    <a:pt x="756" y="931"/>
                  </a:lnTo>
                  <a:lnTo>
                    <a:pt x="773" y="874"/>
                  </a:lnTo>
                  <a:lnTo>
                    <a:pt x="764" y="825"/>
                  </a:lnTo>
                  <a:lnTo>
                    <a:pt x="702" y="852"/>
                  </a:lnTo>
                  <a:lnTo>
                    <a:pt x="662" y="913"/>
                  </a:lnTo>
                  <a:lnTo>
                    <a:pt x="640" y="957"/>
                  </a:lnTo>
                  <a:lnTo>
                    <a:pt x="618" y="1002"/>
                  </a:lnTo>
                  <a:lnTo>
                    <a:pt x="587" y="1046"/>
                  </a:lnTo>
                  <a:lnTo>
                    <a:pt x="596" y="957"/>
                  </a:lnTo>
                  <a:lnTo>
                    <a:pt x="565" y="944"/>
                  </a:lnTo>
                  <a:lnTo>
                    <a:pt x="618" y="874"/>
                  </a:lnTo>
                  <a:lnTo>
                    <a:pt x="693" y="825"/>
                  </a:lnTo>
                  <a:lnTo>
                    <a:pt x="738" y="812"/>
                  </a:lnTo>
                  <a:lnTo>
                    <a:pt x="738" y="781"/>
                  </a:lnTo>
                  <a:lnTo>
                    <a:pt x="688" y="799"/>
                  </a:lnTo>
                  <a:lnTo>
                    <a:pt x="719" y="710"/>
                  </a:lnTo>
                  <a:lnTo>
                    <a:pt x="724" y="591"/>
                  </a:lnTo>
                  <a:lnTo>
                    <a:pt x="742" y="459"/>
                  </a:lnTo>
                  <a:lnTo>
                    <a:pt x="738" y="339"/>
                  </a:lnTo>
                  <a:lnTo>
                    <a:pt x="719" y="251"/>
                  </a:lnTo>
                  <a:lnTo>
                    <a:pt x="693" y="198"/>
                  </a:lnTo>
                  <a:lnTo>
                    <a:pt x="742" y="366"/>
                  </a:lnTo>
                  <a:lnTo>
                    <a:pt x="724" y="171"/>
                  </a:lnTo>
                  <a:lnTo>
                    <a:pt x="795" y="468"/>
                  </a:lnTo>
                  <a:lnTo>
                    <a:pt x="773" y="180"/>
                  </a:lnTo>
                  <a:lnTo>
                    <a:pt x="822" y="379"/>
                  </a:lnTo>
                  <a:lnTo>
                    <a:pt x="822" y="211"/>
                  </a:lnTo>
                  <a:lnTo>
                    <a:pt x="861" y="339"/>
                  </a:lnTo>
                  <a:lnTo>
                    <a:pt x="875" y="220"/>
                  </a:lnTo>
                  <a:lnTo>
                    <a:pt x="905" y="313"/>
                  </a:lnTo>
                  <a:lnTo>
                    <a:pt x="897" y="198"/>
                  </a:lnTo>
                  <a:lnTo>
                    <a:pt x="861" y="132"/>
                  </a:lnTo>
                  <a:lnTo>
                    <a:pt x="817" y="88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64520" y="4529160"/>
              <a:ext cx="119520" cy="352800"/>
            </a:xfrm>
            <a:custGeom>
              <a:avLst/>
              <a:gdLst/>
              <a:ahLst/>
              <a:rect l="0" t="0" r="r" b="b"/>
              <a:pathLst>
                <a:path w="332" h="980">
                  <a:moveTo>
                    <a:pt x="186" y="0"/>
                  </a:moveTo>
                  <a:lnTo>
                    <a:pt x="124" y="70"/>
                  </a:lnTo>
                  <a:lnTo>
                    <a:pt x="106" y="224"/>
                  </a:lnTo>
                  <a:lnTo>
                    <a:pt x="93" y="393"/>
                  </a:lnTo>
                  <a:lnTo>
                    <a:pt x="93" y="481"/>
                  </a:lnTo>
                  <a:lnTo>
                    <a:pt x="93" y="530"/>
                  </a:lnTo>
                  <a:lnTo>
                    <a:pt x="137" y="512"/>
                  </a:lnTo>
                  <a:lnTo>
                    <a:pt x="111" y="605"/>
                  </a:lnTo>
                  <a:lnTo>
                    <a:pt x="66" y="710"/>
                  </a:lnTo>
                  <a:lnTo>
                    <a:pt x="26" y="839"/>
                  </a:lnTo>
                  <a:lnTo>
                    <a:pt x="0" y="954"/>
                  </a:lnTo>
                  <a:lnTo>
                    <a:pt x="8" y="980"/>
                  </a:lnTo>
                  <a:lnTo>
                    <a:pt x="35" y="853"/>
                  </a:lnTo>
                  <a:lnTo>
                    <a:pt x="84" y="710"/>
                  </a:lnTo>
                  <a:lnTo>
                    <a:pt x="111" y="613"/>
                  </a:lnTo>
                  <a:lnTo>
                    <a:pt x="146" y="530"/>
                  </a:lnTo>
                  <a:lnTo>
                    <a:pt x="177" y="441"/>
                  </a:lnTo>
                  <a:lnTo>
                    <a:pt x="199" y="349"/>
                  </a:lnTo>
                  <a:lnTo>
                    <a:pt x="239" y="269"/>
                  </a:lnTo>
                  <a:lnTo>
                    <a:pt x="288" y="194"/>
                  </a:lnTo>
                  <a:lnTo>
                    <a:pt x="332" y="141"/>
                  </a:lnTo>
                  <a:lnTo>
                    <a:pt x="225" y="238"/>
                  </a:lnTo>
                  <a:lnTo>
                    <a:pt x="257" y="154"/>
                  </a:lnTo>
                  <a:lnTo>
                    <a:pt x="199" y="256"/>
                  </a:lnTo>
                  <a:lnTo>
                    <a:pt x="225" y="141"/>
                  </a:lnTo>
                  <a:lnTo>
                    <a:pt x="177" y="238"/>
                  </a:lnTo>
                  <a:lnTo>
                    <a:pt x="190" y="114"/>
                  </a:lnTo>
                  <a:lnTo>
                    <a:pt x="146" y="224"/>
                  </a:lnTo>
                  <a:lnTo>
                    <a:pt x="164" y="70"/>
                  </a:lnTo>
                  <a:lnTo>
                    <a:pt x="208" y="3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29680" y="47084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0" y="14"/>
                  </a:moveTo>
                  <a:lnTo>
                    <a:pt x="48" y="0"/>
                  </a:lnTo>
                  <a:lnTo>
                    <a:pt x="98" y="0"/>
                  </a:lnTo>
                  <a:lnTo>
                    <a:pt x="164" y="14"/>
                  </a:lnTo>
                  <a:lnTo>
                    <a:pt x="146" y="32"/>
                  </a:lnTo>
                  <a:lnTo>
                    <a:pt x="111" y="41"/>
                  </a:lnTo>
                  <a:lnTo>
                    <a:pt x="89" y="32"/>
                  </a:lnTo>
                  <a:lnTo>
                    <a:pt x="7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23280" y="4711680"/>
              <a:ext cx="74880" cy="28800"/>
            </a:xfrm>
            <a:custGeom>
              <a:avLst/>
              <a:gdLst/>
              <a:ahLst/>
              <a:rect l="0" t="0" r="r" b="b"/>
              <a:pathLst>
                <a:path w="208" h="80">
                  <a:moveTo>
                    <a:pt x="0" y="0"/>
                  </a:moveTo>
                  <a:lnTo>
                    <a:pt x="79" y="0"/>
                  </a:lnTo>
                  <a:lnTo>
                    <a:pt x="128" y="13"/>
                  </a:lnTo>
                  <a:lnTo>
                    <a:pt x="190" y="30"/>
                  </a:lnTo>
                  <a:lnTo>
                    <a:pt x="208" y="71"/>
                  </a:lnTo>
                  <a:lnTo>
                    <a:pt x="190" y="49"/>
                  </a:lnTo>
                  <a:lnTo>
                    <a:pt x="155" y="80"/>
                  </a:lnTo>
                  <a:lnTo>
                    <a:pt x="120" y="80"/>
                  </a:lnTo>
                  <a:lnTo>
                    <a:pt x="101" y="71"/>
                  </a:lnTo>
                  <a:lnTo>
                    <a:pt x="92" y="30"/>
                  </a:lnTo>
                  <a:lnTo>
                    <a:pt x="7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62800" y="4630680"/>
              <a:ext cx="30600" cy="14760"/>
            </a:xfrm>
            <a:custGeom>
              <a:avLst/>
              <a:gdLst/>
              <a:ahLst/>
              <a:rect l="0" t="0" r="r" b="b"/>
              <a:pathLst>
                <a:path w="85" h="41">
                  <a:moveTo>
                    <a:pt x="0" y="41"/>
                  </a:moveTo>
                  <a:lnTo>
                    <a:pt x="85" y="0"/>
                  </a:lnTo>
                  <a:lnTo>
                    <a:pt x="85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59640" y="4630680"/>
              <a:ext cx="35280" cy="22680"/>
            </a:xfrm>
            <a:custGeom>
              <a:avLst/>
              <a:gdLst/>
              <a:ahLst/>
              <a:rect l="0" t="0" r="r" b="b"/>
              <a:pathLst>
                <a:path w="98" h="63">
                  <a:moveTo>
                    <a:pt x="0" y="0"/>
                  </a:moveTo>
                  <a:lnTo>
                    <a:pt x="98" y="63"/>
                  </a:lnTo>
                  <a:lnTo>
                    <a:pt x="2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91520" y="472932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226" y="0"/>
                  </a:moveTo>
                  <a:lnTo>
                    <a:pt x="164" y="120"/>
                  </a:lnTo>
                  <a:lnTo>
                    <a:pt x="93" y="190"/>
                  </a:lnTo>
                  <a:lnTo>
                    <a:pt x="44" y="252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4" y="368"/>
                  </a:lnTo>
                  <a:lnTo>
                    <a:pt x="93" y="385"/>
                  </a:lnTo>
                  <a:lnTo>
                    <a:pt x="115" y="425"/>
                  </a:lnTo>
                  <a:lnTo>
                    <a:pt x="155" y="460"/>
                  </a:lnTo>
                  <a:lnTo>
                    <a:pt x="200" y="447"/>
                  </a:lnTo>
                  <a:lnTo>
                    <a:pt x="235" y="412"/>
                  </a:lnTo>
                  <a:lnTo>
                    <a:pt x="257" y="368"/>
                  </a:lnTo>
                  <a:lnTo>
                    <a:pt x="235" y="340"/>
                  </a:lnTo>
                  <a:lnTo>
                    <a:pt x="181" y="340"/>
                  </a:lnTo>
                  <a:lnTo>
                    <a:pt x="22" y="340"/>
                  </a:lnTo>
                  <a:lnTo>
                    <a:pt x="13" y="296"/>
                  </a:lnTo>
                  <a:lnTo>
                    <a:pt x="102" y="221"/>
                  </a:lnTo>
                  <a:lnTo>
                    <a:pt x="164" y="133"/>
                  </a:lnTo>
                  <a:lnTo>
                    <a:pt x="226" y="5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04120" y="4889520"/>
              <a:ext cx="157680" cy="114840"/>
            </a:xfrm>
            <a:custGeom>
              <a:avLst/>
              <a:gdLst/>
              <a:ahLst/>
              <a:rect l="0" t="0" r="r" b="b"/>
              <a:pathLst>
                <a:path w="438" h="319">
                  <a:moveTo>
                    <a:pt x="0" y="13"/>
                  </a:moveTo>
                  <a:lnTo>
                    <a:pt x="0" y="70"/>
                  </a:lnTo>
                  <a:lnTo>
                    <a:pt x="17" y="115"/>
                  </a:lnTo>
                  <a:lnTo>
                    <a:pt x="39" y="146"/>
                  </a:lnTo>
                  <a:lnTo>
                    <a:pt x="44" y="172"/>
                  </a:lnTo>
                  <a:lnTo>
                    <a:pt x="26" y="230"/>
                  </a:lnTo>
                  <a:lnTo>
                    <a:pt x="26" y="275"/>
                  </a:lnTo>
                  <a:lnTo>
                    <a:pt x="44" y="288"/>
                  </a:lnTo>
                  <a:lnTo>
                    <a:pt x="39" y="230"/>
                  </a:lnTo>
                  <a:lnTo>
                    <a:pt x="61" y="186"/>
                  </a:lnTo>
                  <a:lnTo>
                    <a:pt x="83" y="217"/>
                  </a:lnTo>
                  <a:lnTo>
                    <a:pt x="128" y="248"/>
                  </a:lnTo>
                  <a:lnTo>
                    <a:pt x="92" y="186"/>
                  </a:lnTo>
                  <a:lnTo>
                    <a:pt x="92" y="128"/>
                  </a:lnTo>
                  <a:lnTo>
                    <a:pt x="159" y="159"/>
                  </a:lnTo>
                  <a:lnTo>
                    <a:pt x="261" y="159"/>
                  </a:lnTo>
                  <a:lnTo>
                    <a:pt x="314" y="146"/>
                  </a:lnTo>
                  <a:lnTo>
                    <a:pt x="372" y="128"/>
                  </a:lnTo>
                  <a:lnTo>
                    <a:pt x="332" y="186"/>
                  </a:lnTo>
                  <a:lnTo>
                    <a:pt x="292" y="217"/>
                  </a:lnTo>
                  <a:lnTo>
                    <a:pt x="234" y="248"/>
                  </a:lnTo>
                  <a:lnTo>
                    <a:pt x="195" y="248"/>
                  </a:lnTo>
                  <a:lnTo>
                    <a:pt x="177" y="275"/>
                  </a:lnTo>
                  <a:lnTo>
                    <a:pt x="159" y="257"/>
                  </a:lnTo>
                  <a:lnTo>
                    <a:pt x="142" y="288"/>
                  </a:lnTo>
                  <a:lnTo>
                    <a:pt x="120" y="275"/>
                  </a:lnTo>
                  <a:lnTo>
                    <a:pt x="115" y="306"/>
                  </a:lnTo>
                  <a:lnTo>
                    <a:pt x="83" y="306"/>
                  </a:lnTo>
                  <a:lnTo>
                    <a:pt x="142" y="319"/>
                  </a:lnTo>
                  <a:lnTo>
                    <a:pt x="217" y="306"/>
                  </a:lnTo>
                  <a:lnTo>
                    <a:pt x="283" y="288"/>
                  </a:lnTo>
                  <a:lnTo>
                    <a:pt x="345" y="248"/>
                  </a:lnTo>
                  <a:lnTo>
                    <a:pt x="381" y="186"/>
                  </a:lnTo>
                  <a:lnTo>
                    <a:pt x="407" y="146"/>
                  </a:lnTo>
                  <a:lnTo>
                    <a:pt x="438" y="159"/>
                  </a:lnTo>
                  <a:lnTo>
                    <a:pt x="425" y="98"/>
                  </a:lnTo>
                  <a:lnTo>
                    <a:pt x="407" y="70"/>
                  </a:lnTo>
                  <a:lnTo>
                    <a:pt x="425" y="26"/>
                  </a:lnTo>
                  <a:lnTo>
                    <a:pt x="398" y="26"/>
                  </a:lnTo>
                  <a:lnTo>
                    <a:pt x="390" y="13"/>
                  </a:lnTo>
                  <a:lnTo>
                    <a:pt x="363" y="26"/>
                  </a:lnTo>
                  <a:lnTo>
                    <a:pt x="350" y="39"/>
                  </a:lnTo>
                  <a:lnTo>
                    <a:pt x="390" y="89"/>
                  </a:lnTo>
                  <a:lnTo>
                    <a:pt x="372" y="115"/>
                  </a:lnTo>
                  <a:lnTo>
                    <a:pt x="300" y="128"/>
                  </a:lnTo>
                  <a:lnTo>
                    <a:pt x="203" y="146"/>
                  </a:lnTo>
                  <a:lnTo>
                    <a:pt x="128" y="128"/>
                  </a:lnTo>
                  <a:lnTo>
                    <a:pt x="83" y="98"/>
                  </a:lnTo>
                  <a:lnTo>
                    <a:pt x="39" y="70"/>
                  </a:lnTo>
                  <a:lnTo>
                    <a:pt x="17" y="39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2440" y="4905360"/>
              <a:ext cx="47880" cy="144720"/>
            </a:xfrm>
            <a:custGeom>
              <a:avLst/>
              <a:gdLst/>
              <a:ahLst/>
              <a:rect l="0" t="0" r="r" b="b"/>
              <a:pathLst>
                <a:path w="133" h="402">
                  <a:moveTo>
                    <a:pt x="0" y="0"/>
                  </a:moveTo>
                  <a:lnTo>
                    <a:pt x="26" y="101"/>
                  </a:lnTo>
                  <a:lnTo>
                    <a:pt x="61" y="203"/>
                  </a:lnTo>
                  <a:lnTo>
                    <a:pt x="102" y="292"/>
                  </a:lnTo>
                  <a:lnTo>
                    <a:pt x="124" y="349"/>
                  </a:lnTo>
                  <a:lnTo>
                    <a:pt x="124" y="402"/>
                  </a:lnTo>
                  <a:lnTo>
                    <a:pt x="133" y="318"/>
                  </a:lnTo>
                  <a:lnTo>
                    <a:pt x="102" y="217"/>
                  </a:lnTo>
                  <a:lnTo>
                    <a:pt x="61" y="10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7600" y="5068800"/>
              <a:ext cx="151200" cy="268560"/>
            </a:xfrm>
            <a:custGeom>
              <a:avLst/>
              <a:gdLst/>
              <a:ahLst/>
              <a:rect l="0" t="0" r="r" b="b"/>
              <a:pathLst>
                <a:path w="420" h="746">
                  <a:moveTo>
                    <a:pt x="203" y="0"/>
                  </a:moveTo>
                  <a:lnTo>
                    <a:pt x="203" y="74"/>
                  </a:lnTo>
                  <a:lnTo>
                    <a:pt x="124" y="61"/>
                  </a:lnTo>
                  <a:lnTo>
                    <a:pt x="0" y="185"/>
                  </a:lnTo>
                  <a:lnTo>
                    <a:pt x="133" y="74"/>
                  </a:lnTo>
                  <a:lnTo>
                    <a:pt x="190" y="92"/>
                  </a:lnTo>
                  <a:lnTo>
                    <a:pt x="133" y="167"/>
                  </a:lnTo>
                  <a:lnTo>
                    <a:pt x="74" y="317"/>
                  </a:lnTo>
                  <a:lnTo>
                    <a:pt x="26" y="481"/>
                  </a:lnTo>
                  <a:lnTo>
                    <a:pt x="0" y="631"/>
                  </a:lnTo>
                  <a:lnTo>
                    <a:pt x="101" y="397"/>
                  </a:lnTo>
                  <a:lnTo>
                    <a:pt x="17" y="688"/>
                  </a:lnTo>
                  <a:lnTo>
                    <a:pt x="124" y="424"/>
                  </a:lnTo>
                  <a:lnTo>
                    <a:pt x="44" y="688"/>
                  </a:lnTo>
                  <a:lnTo>
                    <a:pt x="150" y="455"/>
                  </a:lnTo>
                  <a:lnTo>
                    <a:pt x="74" y="719"/>
                  </a:lnTo>
                  <a:lnTo>
                    <a:pt x="168" y="512"/>
                  </a:lnTo>
                  <a:lnTo>
                    <a:pt x="101" y="719"/>
                  </a:lnTo>
                  <a:lnTo>
                    <a:pt x="124" y="746"/>
                  </a:lnTo>
                  <a:lnTo>
                    <a:pt x="181" y="556"/>
                  </a:lnTo>
                  <a:lnTo>
                    <a:pt x="239" y="415"/>
                  </a:lnTo>
                  <a:lnTo>
                    <a:pt x="309" y="273"/>
                  </a:lnTo>
                  <a:lnTo>
                    <a:pt x="372" y="167"/>
                  </a:lnTo>
                  <a:lnTo>
                    <a:pt x="420" y="114"/>
                  </a:lnTo>
                  <a:lnTo>
                    <a:pt x="300" y="229"/>
                  </a:lnTo>
                  <a:lnTo>
                    <a:pt x="247" y="229"/>
                  </a:lnTo>
                  <a:lnTo>
                    <a:pt x="190" y="216"/>
                  </a:lnTo>
                  <a:lnTo>
                    <a:pt x="168" y="185"/>
                  </a:lnTo>
                  <a:lnTo>
                    <a:pt x="203" y="123"/>
                  </a:lnTo>
                  <a:lnTo>
                    <a:pt x="221" y="167"/>
                  </a:lnTo>
                  <a:lnTo>
                    <a:pt x="221" y="12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77280" y="5119560"/>
              <a:ext cx="59040" cy="98640"/>
            </a:xfrm>
            <a:custGeom>
              <a:avLst/>
              <a:gdLst/>
              <a:ahLst/>
              <a:rect l="0" t="0" r="r" b="b"/>
              <a:pathLst>
                <a:path w="164" h="274">
                  <a:moveTo>
                    <a:pt x="137" y="0"/>
                  </a:moveTo>
                  <a:lnTo>
                    <a:pt x="137" y="88"/>
                  </a:lnTo>
                  <a:lnTo>
                    <a:pt x="0" y="212"/>
                  </a:lnTo>
                  <a:lnTo>
                    <a:pt x="79" y="274"/>
                  </a:lnTo>
                  <a:lnTo>
                    <a:pt x="35" y="230"/>
                  </a:lnTo>
                  <a:lnTo>
                    <a:pt x="137" y="136"/>
                  </a:lnTo>
                  <a:lnTo>
                    <a:pt x="128" y="105"/>
                  </a:lnTo>
                  <a:lnTo>
                    <a:pt x="164" y="6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3280" y="5222880"/>
              <a:ext cx="84600" cy="84600"/>
            </a:xfrm>
            <a:custGeom>
              <a:avLst/>
              <a:gdLst/>
              <a:ahLst/>
              <a:rect l="0" t="0" r="r" b="b"/>
              <a:pathLst>
                <a:path w="235" h="235">
                  <a:moveTo>
                    <a:pt x="0" y="204"/>
                  </a:moveTo>
                  <a:lnTo>
                    <a:pt x="102" y="102"/>
                  </a:lnTo>
                  <a:lnTo>
                    <a:pt x="178" y="39"/>
                  </a:lnTo>
                  <a:lnTo>
                    <a:pt x="235" y="0"/>
                  </a:lnTo>
                  <a:lnTo>
                    <a:pt x="102" y="133"/>
                  </a:lnTo>
                  <a:lnTo>
                    <a:pt x="44" y="204"/>
                  </a:lnTo>
                  <a:lnTo>
                    <a:pt x="8" y="235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24880" y="511668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0"/>
                  </a:moveTo>
                  <a:lnTo>
                    <a:pt x="106" y="0"/>
                  </a:lnTo>
                  <a:lnTo>
                    <a:pt x="147" y="102"/>
                  </a:lnTo>
                  <a:lnTo>
                    <a:pt x="169" y="173"/>
                  </a:lnTo>
                  <a:lnTo>
                    <a:pt x="124" y="173"/>
                  </a:lnTo>
                  <a:lnTo>
                    <a:pt x="120" y="102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83480" y="5141880"/>
              <a:ext cx="68760" cy="65520"/>
            </a:xfrm>
            <a:custGeom>
              <a:avLst/>
              <a:gdLst/>
              <a:ahLst/>
              <a:rect l="0" t="0" r="r" b="b"/>
              <a:pathLst>
                <a:path w="191" h="182">
                  <a:moveTo>
                    <a:pt x="0" y="182"/>
                  </a:moveTo>
                  <a:lnTo>
                    <a:pt x="120" y="58"/>
                  </a:lnTo>
                  <a:lnTo>
                    <a:pt x="191" y="0"/>
                  </a:lnTo>
                  <a:lnTo>
                    <a:pt x="191" y="4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86720" y="5178600"/>
              <a:ext cx="76680" cy="49680"/>
            </a:xfrm>
            <a:custGeom>
              <a:avLst/>
              <a:gdLst/>
              <a:ahLst/>
              <a:rect l="0" t="0" r="r" b="b"/>
              <a:pathLst>
                <a:path w="213" h="138">
                  <a:moveTo>
                    <a:pt x="0" y="125"/>
                  </a:moveTo>
                  <a:lnTo>
                    <a:pt x="106" y="53"/>
                  </a:lnTo>
                  <a:lnTo>
                    <a:pt x="169" y="0"/>
                  </a:lnTo>
                  <a:lnTo>
                    <a:pt x="200" y="0"/>
                  </a:lnTo>
                  <a:lnTo>
                    <a:pt x="213" y="36"/>
                  </a:lnTo>
                  <a:lnTo>
                    <a:pt x="182" y="53"/>
                  </a:lnTo>
                  <a:lnTo>
                    <a:pt x="169" y="36"/>
                  </a:lnTo>
                  <a:lnTo>
                    <a:pt x="106" y="67"/>
                  </a:lnTo>
                  <a:lnTo>
                    <a:pt x="80" y="98"/>
                  </a:lnTo>
                  <a:lnTo>
                    <a:pt x="67" y="112"/>
                  </a:lnTo>
                  <a:lnTo>
                    <a:pt x="17" y="13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04360" y="5218200"/>
              <a:ext cx="84600" cy="162360"/>
            </a:xfrm>
            <a:custGeom>
              <a:avLst/>
              <a:gdLst/>
              <a:ahLst/>
              <a:rect l="0" t="0" r="r" b="b"/>
              <a:pathLst>
                <a:path w="235" h="451">
                  <a:moveTo>
                    <a:pt x="155" y="13"/>
                  </a:moveTo>
                  <a:lnTo>
                    <a:pt x="155" y="115"/>
                  </a:lnTo>
                  <a:lnTo>
                    <a:pt x="155" y="172"/>
                  </a:lnTo>
                  <a:lnTo>
                    <a:pt x="146" y="247"/>
                  </a:lnTo>
                  <a:lnTo>
                    <a:pt x="67" y="172"/>
                  </a:lnTo>
                  <a:lnTo>
                    <a:pt x="0" y="88"/>
                  </a:lnTo>
                  <a:lnTo>
                    <a:pt x="106" y="247"/>
                  </a:lnTo>
                  <a:lnTo>
                    <a:pt x="172" y="292"/>
                  </a:lnTo>
                  <a:lnTo>
                    <a:pt x="120" y="412"/>
                  </a:lnTo>
                  <a:lnTo>
                    <a:pt x="155" y="451"/>
                  </a:lnTo>
                  <a:lnTo>
                    <a:pt x="204" y="381"/>
                  </a:lnTo>
                  <a:lnTo>
                    <a:pt x="218" y="331"/>
                  </a:lnTo>
                  <a:lnTo>
                    <a:pt x="235" y="305"/>
                  </a:lnTo>
                  <a:lnTo>
                    <a:pt x="196" y="261"/>
                  </a:lnTo>
                  <a:lnTo>
                    <a:pt x="218" y="172"/>
                  </a:lnTo>
                  <a:lnTo>
                    <a:pt x="218" y="115"/>
                  </a:lnTo>
                  <a:lnTo>
                    <a:pt x="226" y="26"/>
                  </a:lnTo>
                  <a:lnTo>
                    <a:pt x="218" y="0"/>
                  </a:lnTo>
                  <a:lnTo>
                    <a:pt x="196" y="172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62960" y="5254560"/>
              <a:ext cx="84600" cy="168480"/>
            </a:xfrm>
            <a:custGeom>
              <a:avLst/>
              <a:gdLst/>
              <a:ahLst/>
              <a:rect l="0" t="0" r="r" b="b"/>
              <a:pathLst>
                <a:path w="235" h="468">
                  <a:moveTo>
                    <a:pt x="48" y="0"/>
                  </a:moveTo>
                  <a:lnTo>
                    <a:pt x="115" y="189"/>
                  </a:lnTo>
                  <a:lnTo>
                    <a:pt x="172" y="278"/>
                  </a:lnTo>
                  <a:lnTo>
                    <a:pt x="235" y="336"/>
                  </a:lnTo>
                  <a:lnTo>
                    <a:pt x="172" y="278"/>
                  </a:lnTo>
                  <a:lnTo>
                    <a:pt x="128" y="220"/>
                  </a:lnTo>
                  <a:lnTo>
                    <a:pt x="164" y="336"/>
                  </a:lnTo>
                  <a:lnTo>
                    <a:pt x="235" y="468"/>
                  </a:lnTo>
                  <a:lnTo>
                    <a:pt x="146" y="336"/>
                  </a:lnTo>
                  <a:lnTo>
                    <a:pt x="98" y="233"/>
                  </a:lnTo>
                  <a:lnTo>
                    <a:pt x="48" y="61"/>
                  </a:lnTo>
                  <a:lnTo>
                    <a:pt x="0" y="247"/>
                  </a:lnTo>
                  <a:lnTo>
                    <a:pt x="39" y="3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32800" y="5391000"/>
              <a:ext cx="36720" cy="101880"/>
            </a:xfrm>
            <a:custGeom>
              <a:avLst/>
              <a:gdLst/>
              <a:ahLst/>
              <a:rect l="0" t="0" r="r" b="b"/>
              <a:pathLst>
                <a:path w="102" h="283">
                  <a:moveTo>
                    <a:pt x="62" y="0"/>
                  </a:moveTo>
                  <a:lnTo>
                    <a:pt x="35" y="92"/>
                  </a:lnTo>
                  <a:lnTo>
                    <a:pt x="71" y="92"/>
                  </a:lnTo>
                  <a:lnTo>
                    <a:pt x="0" y="283"/>
                  </a:lnTo>
                  <a:lnTo>
                    <a:pt x="102" y="30"/>
                  </a:lnTo>
                  <a:lnTo>
                    <a:pt x="71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5240" y="4597560"/>
              <a:ext cx="641880" cy="1038600"/>
            </a:xfrm>
            <a:custGeom>
              <a:avLst/>
              <a:gdLst/>
              <a:ahLst/>
              <a:rect l="0" t="0" r="r" b="b"/>
              <a:pathLst>
                <a:path w="1783" h="2885">
                  <a:moveTo>
                    <a:pt x="1765" y="1196"/>
                  </a:moveTo>
                  <a:lnTo>
                    <a:pt x="1624" y="816"/>
                  </a:lnTo>
                  <a:lnTo>
                    <a:pt x="1510" y="467"/>
                  </a:lnTo>
                  <a:lnTo>
                    <a:pt x="1439" y="211"/>
                  </a:lnTo>
                  <a:lnTo>
                    <a:pt x="1408" y="39"/>
                  </a:lnTo>
                  <a:lnTo>
                    <a:pt x="1121" y="251"/>
                  </a:lnTo>
                  <a:lnTo>
                    <a:pt x="812" y="449"/>
                  </a:lnTo>
                  <a:lnTo>
                    <a:pt x="405" y="630"/>
                  </a:lnTo>
                  <a:lnTo>
                    <a:pt x="13" y="750"/>
                  </a:lnTo>
                  <a:lnTo>
                    <a:pt x="224" y="1209"/>
                  </a:lnTo>
                  <a:lnTo>
                    <a:pt x="418" y="1782"/>
                  </a:lnTo>
                  <a:lnTo>
                    <a:pt x="622" y="2299"/>
                  </a:lnTo>
                  <a:lnTo>
                    <a:pt x="838" y="2696"/>
                  </a:lnTo>
                  <a:lnTo>
                    <a:pt x="922" y="2824"/>
                  </a:lnTo>
                  <a:lnTo>
                    <a:pt x="1156" y="2603"/>
                  </a:lnTo>
                  <a:lnTo>
                    <a:pt x="1355" y="2489"/>
                  </a:lnTo>
                  <a:lnTo>
                    <a:pt x="1435" y="2444"/>
                  </a:lnTo>
                  <a:lnTo>
                    <a:pt x="1430" y="2475"/>
                  </a:lnTo>
                  <a:lnTo>
                    <a:pt x="1209" y="2639"/>
                  </a:lnTo>
                  <a:lnTo>
                    <a:pt x="1076" y="2771"/>
                  </a:lnTo>
                  <a:lnTo>
                    <a:pt x="1015" y="2885"/>
                  </a:lnTo>
                  <a:lnTo>
                    <a:pt x="984" y="2810"/>
                  </a:lnTo>
                  <a:lnTo>
                    <a:pt x="900" y="2850"/>
                  </a:lnTo>
                  <a:lnTo>
                    <a:pt x="781" y="2639"/>
                  </a:lnTo>
                  <a:lnTo>
                    <a:pt x="631" y="2378"/>
                  </a:lnTo>
                  <a:lnTo>
                    <a:pt x="450" y="1932"/>
                  </a:lnTo>
                  <a:lnTo>
                    <a:pt x="264" y="1438"/>
                  </a:lnTo>
                  <a:lnTo>
                    <a:pt x="141" y="1178"/>
                  </a:lnTo>
                  <a:lnTo>
                    <a:pt x="22" y="1024"/>
                  </a:lnTo>
                  <a:lnTo>
                    <a:pt x="97" y="975"/>
                  </a:lnTo>
                  <a:lnTo>
                    <a:pt x="0" y="741"/>
                  </a:lnTo>
                  <a:lnTo>
                    <a:pt x="357" y="621"/>
                  </a:lnTo>
                  <a:lnTo>
                    <a:pt x="662" y="489"/>
                  </a:lnTo>
                  <a:lnTo>
                    <a:pt x="957" y="330"/>
                  </a:lnTo>
                  <a:lnTo>
                    <a:pt x="1222" y="158"/>
                  </a:lnTo>
                  <a:lnTo>
                    <a:pt x="1430" y="0"/>
                  </a:lnTo>
                  <a:lnTo>
                    <a:pt x="1514" y="392"/>
                  </a:lnTo>
                  <a:lnTo>
                    <a:pt x="1655" y="869"/>
                  </a:lnTo>
                  <a:lnTo>
                    <a:pt x="1783" y="1182"/>
                  </a:lnTo>
                  <a:lnTo>
                    <a:pt x="1765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32760" y="5024520"/>
              <a:ext cx="125640" cy="165600"/>
            </a:xfrm>
            <a:custGeom>
              <a:avLst/>
              <a:gdLst/>
              <a:ahLst/>
              <a:rect l="0" t="0" r="r" b="b"/>
              <a:pathLst>
                <a:path w="349" h="460">
                  <a:moveTo>
                    <a:pt x="221" y="0"/>
                  </a:moveTo>
                  <a:lnTo>
                    <a:pt x="110" y="48"/>
                  </a:lnTo>
                  <a:lnTo>
                    <a:pt x="44" y="105"/>
                  </a:lnTo>
                  <a:lnTo>
                    <a:pt x="8" y="137"/>
                  </a:lnTo>
                  <a:lnTo>
                    <a:pt x="13" y="181"/>
                  </a:lnTo>
                  <a:lnTo>
                    <a:pt x="88" y="203"/>
                  </a:lnTo>
                  <a:lnTo>
                    <a:pt x="190" y="195"/>
                  </a:lnTo>
                  <a:lnTo>
                    <a:pt x="261" y="168"/>
                  </a:lnTo>
                  <a:lnTo>
                    <a:pt x="243" y="221"/>
                  </a:lnTo>
                  <a:lnTo>
                    <a:pt x="252" y="322"/>
                  </a:lnTo>
                  <a:lnTo>
                    <a:pt x="287" y="394"/>
                  </a:lnTo>
                  <a:lnTo>
                    <a:pt x="336" y="234"/>
                  </a:lnTo>
                  <a:lnTo>
                    <a:pt x="318" y="114"/>
                  </a:lnTo>
                  <a:lnTo>
                    <a:pt x="278" y="39"/>
                  </a:lnTo>
                  <a:lnTo>
                    <a:pt x="252" y="13"/>
                  </a:lnTo>
                  <a:lnTo>
                    <a:pt x="287" y="13"/>
                  </a:lnTo>
                  <a:lnTo>
                    <a:pt x="336" y="105"/>
                  </a:lnTo>
                  <a:lnTo>
                    <a:pt x="349" y="217"/>
                  </a:lnTo>
                  <a:lnTo>
                    <a:pt x="327" y="322"/>
                  </a:lnTo>
                  <a:lnTo>
                    <a:pt x="300" y="460"/>
                  </a:lnTo>
                  <a:lnTo>
                    <a:pt x="212" y="318"/>
                  </a:lnTo>
                  <a:lnTo>
                    <a:pt x="171" y="221"/>
                  </a:lnTo>
                  <a:lnTo>
                    <a:pt x="70" y="221"/>
                  </a:lnTo>
                  <a:lnTo>
                    <a:pt x="13" y="203"/>
                  </a:lnTo>
                  <a:lnTo>
                    <a:pt x="0" y="168"/>
                  </a:lnTo>
                  <a:lnTo>
                    <a:pt x="8" y="137"/>
                  </a:lnTo>
                  <a:lnTo>
                    <a:pt x="119" y="2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69200" y="5318280"/>
              <a:ext cx="182880" cy="59040"/>
            </a:xfrm>
            <a:custGeom>
              <a:avLst/>
              <a:gdLst/>
              <a:ahLst/>
              <a:rect l="0" t="0" r="r" b="b"/>
              <a:pathLst>
                <a:path w="508" h="164">
                  <a:moveTo>
                    <a:pt x="494" y="98"/>
                  </a:moveTo>
                  <a:lnTo>
                    <a:pt x="292" y="35"/>
                  </a:lnTo>
                  <a:lnTo>
                    <a:pt x="176" y="13"/>
                  </a:lnTo>
                  <a:lnTo>
                    <a:pt x="66" y="22"/>
                  </a:lnTo>
                  <a:lnTo>
                    <a:pt x="22" y="70"/>
                  </a:lnTo>
                  <a:lnTo>
                    <a:pt x="61" y="111"/>
                  </a:lnTo>
                  <a:lnTo>
                    <a:pt x="105" y="124"/>
                  </a:lnTo>
                  <a:lnTo>
                    <a:pt x="127" y="164"/>
                  </a:lnTo>
                  <a:lnTo>
                    <a:pt x="44" y="142"/>
                  </a:lnTo>
                  <a:lnTo>
                    <a:pt x="22" y="98"/>
                  </a:lnTo>
                  <a:lnTo>
                    <a:pt x="0" y="70"/>
                  </a:lnTo>
                  <a:lnTo>
                    <a:pt x="22" y="22"/>
                  </a:lnTo>
                  <a:lnTo>
                    <a:pt x="101" y="0"/>
                  </a:lnTo>
                  <a:lnTo>
                    <a:pt x="180" y="0"/>
                  </a:lnTo>
                  <a:lnTo>
                    <a:pt x="397" y="57"/>
                  </a:lnTo>
                  <a:lnTo>
                    <a:pt x="508" y="89"/>
                  </a:lnTo>
                  <a:lnTo>
                    <a:pt x="494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13840" y="5357880"/>
              <a:ext cx="33840" cy="9720"/>
            </a:xfrm>
            <a:custGeom>
              <a:avLst/>
              <a:gdLst/>
              <a:ahLst/>
              <a:rect l="0" t="0" r="r" b="b"/>
              <a:pathLst>
                <a:path w="94" h="27">
                  <a:moveTo>
                    <a:pt x="4" y="0"/>
                  </a:moveTo>
                  <a:lnTo>
                    <a:pt x="94" y="0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4320" y="5213520"/>
              <a:ext cx="111600" cy="186120"/>
            </a:xfrm>
            <a:custGeom>
              <a:avLst/>
              <a:gdLst/>
              <a:ahLst/>
              <a:rect l="0" t="0" r="r" b="b"/>
              <a:pathLst>
                <a:path w="310" h="517">
                  <a:moveTo>
                    <a:pt x="279" y="0"/>
                  </a:moveTo>
                  <a:lnTo>
                    <a:pt x="4" y="456"/>
                  </a:lnTo>
                  <a:lnTo>
                    <a:pt x="0" y="517"/>
                  </a:lnTo>
                  <a:lnTo>
                    <a:pt x="39" y="482"/>
                  </a:lnTo>
                  <a:lnTo>
                    <a:pt x="39" y="456"/>
                  </a:lnTo>
                  <a:lnTo>
                    <a:pt x="310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8160" y="5280120"/>
              <a:ext cx="63720" cy="44640"/>
            </a:xfrm>
            <a:custGeom>
              <a:avLst/>
              <a:gdLst/>
              <a:ahLst/>
              <a:rect l="0" t="0" r="r" b="b"/>
              <a:pathLst>
                <a:path w="177" h="124">
                  <a:moveTo>
                    <a:pt x="164" y="93"/>
                  </a:moveTo>
                  <a:lnTo>
                    <a:pt x="22" y="0"/>
                  </a:lnTo>
                  <a:lnTo>
                    <a:pt x="0" y="39"/>
                  </a:lnTo>
                  <a:lnTo>
                    <a:pt x="133" y="124"/>
                  </a:lnTo>
                  <a:lnTo>
                    <a:pt x="177" y="115"/>
                  </a:lnTo>
                  <a:lnTo>
                    <a:pt x="16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69240" y="5019840"/>
              <a:ext cx="311400" cy="240120"/>
            </a:xfrm>
            <a:custGeom>
              <a:avLst/>
              <a:gdLst/>
              <a:ahLst/>
              <a:rect l="0" t="0" r="r" b="b"/>
              <a:pathLst>
                <a:path w="865" h="667">
                  <a:moveTo>
                    <a:pt x="865" y="623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4" y="35"/>
                  </a:lnTo>
                  <a:lnTo>
                    <a:pt x="834" y="667"/>
                  </a:lnTo>
                  <a:lnTo>
                    <a:pt x="464" y="358"/>
                  </a:lnTo>
                  <a:lnTo>
                    <a:pt x="86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07280" y="5106960"/>
              <a:ext cx="143280" cy="251280"/>
            </a:xfrm>
            <a:custGeom>
              <a:avLst/>
              <a:gdLst/>
              <a:ahLst/>
              <a:rect l="0" t="0" r="r" b="b"/>
              <a:pathLst>
                <a:path w="398" h="698">
                  <a:moveTo>
                    <a:pt x="106" y="252"/>
                  </a:moveTo>
                  <a:lnTo>
                    <a:pt x="217" y="446"/>
                  </a:lnTo>
                  <a:lnTo>
                    <a:pt x="306" y="557"/>
                  </a:lnTo>
                  <a:lnTo>
                    <a:pt x="0" y="676"/>
                  </a:lnTo>
                  <a:lnTo>
                    <a:pt x="70" y="698"/>
                  </a:lnTo>
                  <a:lnTo>
                    <a:pt x="181" y="676"/>
                  </a:lnTo>
                  <a:lnTo>
                    <a:pt x="199" y="610"/>
                  </a:lnTo>
                  <a:lnTo>
                    <a:pt x="328" y="579"/>
                  </a:lnTo>
                  <a:lnTo>
                    <a:pt x="350" y="557"/>
                  </a:lnTo>
                  <a:lnTo>
                    <a:pt x="230" y="424"/>
                  </a:lnTo>
                  <a:lnTo>
                    <a:pt x="181" y="318"/>
                  </a:lnTo>
                  <a:lnTo>
                    <a:pt x="186" y="203"/>
                  </a:lnTo>
                  <a:lnTo>
                    <a:pt x="278" y="203"/>
                  </a:lnTo>
                  <a:lnTo>
                    <a:pt x="287" y="101"/>
                  </a:lnTo>
                  <a:lnTo>
                    <a:pt x="243" y="177"/>
                  </a:lnTo>
                  <a:lnTo>
                    <a:pt x="146" y="145"/>
                  </a:lnTo>
                  <a:lnTo>
                    <a:pt x="172" y="92"/>
                  </a:lnTo>
                  <a:lnTo>
                    <a:pt x="225" y="39"/>
                  </a:lnTo>
                  <a:lnTo>
                    <a:pt x="265" y="13"/>
                  </a:lnTo>
                  <a:lnTo>
                    <a:pt x="398" y="13"/>
                  </a:lnTo>
                  <a:lnTo>
                    <a:pt x="230" y="0"/>
                  </a:lnTo>
                  <a:lnTo>
                    <a:pt x="159" y="48"/>
                  </a:lnTo>
                  <a:lnTo>
                    <a:pt x="106" y="101"/>
                  </a:lnTo>
                  <a:lnTo>
                    <a:pt x="88" y="190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23320" y="5322960"/>
              <a:ext cx="98640" cy="144720"/>
            </a:xfrm>
            <a:custGeom>
              <a:avLst/>
              <a:gdLst/>
              <a:ahLst/>
              <a:rect l="0" t="0" r="r" b="b"/>
              <a:pathLst>
                <a:path w="274" h="402">
                  <a:moveTo>
                    <a:pt x="274" y="35"/>
                  </a:moveTo>
                  <a:lnTo>
                    <a:pt x="123" y="0"/>
                  </a:lnTo>
                  <a:lnTo>
                    <a:pt x="186" y="110"/>
                  </a:lnTo>
                  <a:lnTo>
                    <a:pt x="70" y="74"/>
                  </a:lnTo>
                  <a:lnTo>
                    <a:pt x="164" y="217"/>
                  </a:lnTo>
                  <a:lnTo>
                    <a:pt x="0" y="252"/>
                  </a:lnTo>
                  <a:lnTo>
                    <a:pt x="127" y="402"/>
                  </a:lnTo>
                  <a:lnTo>
                    <a:pt x="164" y="274"/>
                  </a:lnTo>
                  <a:lnTo>
                    <a:pt x="35" y="252"/>
                  </a:lnTo>
                  <a:lnTo>
                    <a:pt x="208" y="217"/>
                  </a:lnTo>
                  <a:lnTo>
                    <a:pt x="123" y="110"/>
                  </a:lnTo>
                  <a:lnTo>
                    <a:pt x="239" y="119"/>
                  </a:lnTo>
                  <a:lnTo>
                    <a:pt x="186" y="39"/>
                  </a:lnTo>
                  <a:lnTo>
                    <a:pt x="274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752480" y="274320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66680" y="99072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71600" y="205740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nce all income statement and balance sheet items have been analyzed and explained, the statement of cash flows can 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1295280" y="1522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 (Indirect Metho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rganization of a statement of cash f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Inves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Financ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Increase (Decrease)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Beginning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End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chedule of Noncash Investing and Financing Tr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87520" y="380880"/>
            <a:ext cx="8404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clud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short-term, highly liquid investments, including money market accounts, commercial paper, and U.S. Treasury b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combined with the Cash account o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1905120" y="3049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29528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uming the indirect method is used to prepare the statement of cash flows, tell whether each of the following items would appear: (a) as cash flows from operating activities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(b) as cash flows from investing activities, (c) as cash flows from financing activities, (d) in the schedule of noncash investing and financing transactions, or (e) not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858000" y="228600"/>
            <a:ext cx="1904040" cy="1827360"/>
            <a:chOff x="6858000" y="228600"/>
            <a:chExt cx="1904040" cy="1827360"/>
          </a:xfrm>
        </p:grpSpPr>
        <p:sp>
          <p:nvSpPr>
            <p:cNvPr id="710" name=""/>
            <p:cNvSpPr/>
            <p:nvPr/>
          </p:nvSpPr>
          <p:spPr>
            <a:xfrm>
              <a:off x="6862680" y="1125360"/>
              <a:ext cx="464040" cy="638640"/>
            </a:xfrm>
            <a:custGeom>
              <a:avLst/>
              <a:gdLst/>
              <a:ahLst/>
              <a:rect l="0" t="0" r="r" b="b"/>
              <a:pathLst>
                <a:path w="1289" h="1774">
                  <a:moveTo>
                    <a:pt x="516" y="0"/>
                  </a:moveTo>
                  <a:lnTo>
                    <a:pt x="446" y="74"/>
                  </a:lnTo>
                  <a:lnTo>
                    <a:pt x="446" y="308"/>
                  </a:lnTo>
                  <a:lnTo>
                    <a:pt x="516" y="477"/>
                  </a:lnTo>
                  <a:lnTo>
                    <a:pt x="591" y="565"/>
                  </a:lnTo>
                  <a:lnTo>
                    <a:pt x="477" y="675"/>
                  </a:lnTo>
                  <a:lnTo>
                    <a:pt x="321" y="931"/>
                  </a:lnTo>
                  <a:lnTo>
                    <a:pt x="30" y="1342"/>
                  </a:lnTo>
                  <a:lnTo>
                    <a:pt x="0" y="1435"/>
                  </a:lnTo>
                  <a:lnTo>
                    <a:pt x="30" y="1518"/>
                  </a:lnTo>
                  <a:lnTo>
                    <a:pt x="119" y="1518"/>
                  </a:lnTo>
                  <a:lnTo>
                    <a:pt x="198" y="1421"/>
                  </a:lnTo>
                  <a:lnTo>
                    <a:pt x="321" y="1191"/>
                  </a:lnTo>
                  <a:lnTo>
                    <a:pt x="397" y="1099"/>
                  </a:lnTo>
                  <a:lnTo>
                    <a:pt x="446" y="1253"/>
                  </a:lnTo>
                  <a:lnTo>
                    <a:pt x="415" y="1408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397" y="1686"/>
                  </a:lnTo>
                  <a:lnTo>
                    <a:pt x="556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31" y="1554"/>
                  </a:lnTo>
                  <a:lnTo>
                    <a:pt x="1011" y="1761"/>
                  </a:lnTo>
                  <a:lnTo>
                    <a:pt x="1069" y="1704"/>
                  </a:lnTo>
                  <a:lnTo>
                    <a:pt x="1100" y="1288"/>
                  </a:lnTo>
                  <a:lnTo>
                    <a:pt x="1289" y="900"/>
                  </a:lnTo>
                  <a:lnTo>
                    <a:pt x="1245" y="675"/>
                  </a:lnTo>
                  <a:lnTo>
                    <a:pt x="1117" y="591"/>
                  </a:lnTo>
                  <a:lnTo>
                    <a:pt x="976" y="605"/>
                  </a:lnTo>
                  <a:lnTo>
                    <a:pt x="931" y="418"/>
                  </a:lnTo>
                  <a:lnTo>
                    <a:pt x="790" y="379"/>
                  </a:lnTo>
                  <a:lnTo>
                    <a:pt x="662" y="317"/>
                  </a:lnTo>
                  <a:lnTo>
                    <a:pt x="591" y="39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50040" y="1386000"/>
              <a:ext cx="138600" cy="306720"/>
            </a:xfrm>
            <a:custGeom>
              <a:avLst/>
              <a:gdLst/>
              <a:ahLst/>
              <a:rect l="0" t="0" r="r" b="b"/>
              <a:pathLst>
                <a:path w="385" h="852">
                  <a:moveTo>
                    <a:pt x="190" y="0"/>
                  </a:moveTo>
                  <a:lnTo>
                    <a:pt x="385" y="220"/>
                  </a:lnTo>
                  <a:lnTo>
                    <a:pt x="293" y="697"/>
                  </a:lnTo>
                  <a:lnTo>
                    <a:pt x="0" y="852"/>
                  </a:lnTo>
                  <a:lnTo>
                    <a:pt x="0" y="609"/>
                  </a:lnTo>
                  <a:lnTo>
                    <a:pt x="115" y="361"/>
                  </a:lnTo>
                  <a:lnTo>
                    <a:pt x="190" y="18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36000" y="1204920"/>
              <a:ext cx="341640" cy="282960"/>
            </a:xfrm>
            <a:custGeom>
              <a:avLst/>
              <a:gdLst/>
              <a:ahLst/>
              <a:rect l="0" t="0" r="r" b="b"/>
              <a:pathLst>
                <a:path w="949" h="786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5" y="424"/>
                  </a:lnTo>
                  <a:lnTo>
                    <a:pt x="949" y="534"/>
                  </a:lnTo>
                  <a:lnTo>
                    <a:pt x="900" y="773"/>
                  </a:lnTo>
                  <a:lnTo>
                    <a:pt x="605" y="786"/>
                  </a:lnTo>
                  <a:lnTo>
                    <a:pt x="176" y="614"/>
                  </a:lnTo>
                  <a:lnTo>
                    <a:pt x="0" y="314"/>
                  </a:lnTo>
                  <a:lnTo>
                    <a:pt x="216" y="13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73880" y="892080"/>
              <a:ext cx="475200" cy="614880"/>
            </a:xfrm>
            <a:custGeom>
              <a:avLst/>
              <a:gdLst/>
              <a:ahLst/>
              <a:rect l="0" t="0" r="r" b="b"/>
              <a:pathLst>
                <a:path w="1320" h="1708">
                  <a:moveTo>
                    <a:pt x="119" y="719"/>
                  </a:moveTo>
                  <a:lnTo>
                    <a:pt x="0" y="847"/>
                  </a:lnTo>
                  <a:lnTo>
                    <a:pt x="30" y="1121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0"/>
                  </a:lnTo>
                  <a:lnTo>
                    <a:pt x="534" y="1695"/>
                  </a:lnTo>
                  <a:lnTo>
                    <a:pt x="627" y="1708"/>
                  </a:lnTo>
                  <a:lnTo>
                    <a:pt x="697" y="1585"/>
                  </a:lnTo>
                  <a:lnTo>
                    <a:pt x="706" y="1346"/>
                  </a:lnTo>
                  <a:lnTo>
                    <a:pt x="904" y="1563"/>
                  </a:lnTo>
                  <a:lnTo>
                    <a:pt x="988" y="1549"/>
                  </a:lnTo>
                  <a:lnTo>
                    <a:pt x="971" y="1399"/>
                  </a:lnTo>
                  <a:lnTo>
                    <a:pt x="891" y="1182"/>
                  </a:lnTo>
                  <a:lnTo>
                    <a:pt x="816" y="1046"/>
                  </a:lnTo>
                  <a:lnTo>
                    <a:pt x="843" y="944"/>
                  </a:lnTo>
                  <a:lnTo>
                    <a:pt x="891" y="957"/>
                  </a:lnTo>
                  <a:lnTo>
                    <a:pt x="1082" y="1182"/>
                  </a:lnTo>
                  <a:lnTo>
                    <a:pt x="1276" y="1235"/>
                  </a:lnTo>
                  <a:lnTo>
                    <a:pt x="1320" y="1165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5"/>
                  </a:lnTo>
                  <a:lnTo>
                    <a:pt x="591" y="414"/>
                  </a:lnTo>
                  <a:lnTo>
                    <a:pt x="697" y="238"/>
                  </a:lnTo>
                  <a:lnTo>
                    <a:pt x="697" y="52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11" y="530"/>
                  </a:lnTo>
                  <a:lnTo>
                    <a:pt x="163" y="658"/>
                  </a:lnTo>
                  <a:lnTo>
                    <a:pt x="119" y="71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93040" y="360360"/>
              <a:ext cx="519480" cy="784440"/>
            </a:xfrm>
            <a:custGeom>
              <a:avLst/>
              <a:gdLst/>
              <a:ahLst/>
              <a:rect l="0" t="0" r="r" b="b"/>
              <a:pathLst>
                <a:path w="1443" h="2179">
                  <a:moveTo>
                    <a:pt x="357" y="299"/>
                  </a:moveTo>
                  <a:lnTo>
                    <a:pt x="255" y="714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0" y="1310"/>
                  </a:lnTo>
                  <a:lnTo>
                    <a:pt x="295" y="1791"/>
                  </a:lnTo>
                  <a:lnTo>
                    <a:pt x="393" y="1994"/>
                  </a:lnTo>
                  <a:lnTo>
                    <a:pt x="684" y="2179"/>
                  </a:lnTo>
                  <a:lnTo>
                    <a:pt x="979" y="2148"/>
                  </a:lnTo>
                  <a:lnTo>
                    <a:pt x="1122" y="1791"/>
                  </a:lnTo>
                  <a:lnTo>
                    <a:pt x="1157" y="1240"/>
                  </a:lnTo>
                  <a:lnTo>
                    <a:pt x="1443" y="961"/>
                  </a:lnTo>
                  <a:lnTo>
                    <a:pt x="1430" y="855"/>
                  </a:lnTo>
                  <a:lnTo>
                    <a:pt x="1395" y="802"/>
                  </a:lnTo>
                  <a:lnTo>
                    <a:pt x="1241" y="793"/>
                  </a:lnTo>
                  <a:lnTo>
                    <a:pt x="1289" y="648"/>
                  </a:lnTo>
                  <a:lnTo>
                    <a:pt x="1139" y="551"/>
                  </a:lnTo>
                  <a:lnTo>
                    <a:pt x="1072" y="242"/>
                  </a:lnTo>
                  <a:lnTo>
                    <a:pt x="622" y="0"/>
                  </a:lnTo>
                  <a:lnTo>
                    <a:pt x="393" y="220"/>
                  </a:lnTo>
                  <a:lnTo>
                    <a:pt x="357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29400" y="1014480"/>
              <a:ext cx="476640" cy="938520"/>
            </a:xfrm>
            <a:custGeom>
              <a:avLst/>
              <a:gdLst/>
              <a:ahLst/>
              <a:rect l="0" t="0" r="r" b="b"/>
              <a:pathLst>
                <a:path w="1324" h="2607">
                  <a:moveTo>
                    <a:pt x="273" y="141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6" y="0"/>
                  </a:lnTo>
                  <a:lnTo>
                    <a:pt x="1249" y="83"/>
                  </a:lnTo>
                  <a:lnTo>
                    <a:pt x="1324" y="489"/>
                  </a:lnTo>
                  <a:lnTo>
                    <a:pt x="940" y="1694"/>
                  </a:lnTo>
                  <a:lnTo>
                    <a:pt x="1064" y="2355"/>
                  </a:lnTo>
                  <a:lnTo>
                    <a:pt x="565" y="2607"/>
                  </a:lnTo>
                  <a:lnTo>
                    <a:pt x="176" y="2461"/>
                  </a:lnTo>
                  <a:lnTo>
                    <a:pt x="176" y="1764"/>
                  </a:lnTo>
                  <a:lnTo>
                    <a:pt x="0" y="1084"/>
                  </a:lnTo>
                  <a:lnTo>
                    <a:pt x="176" y="260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1720" y="254160"/>
              <a:ext cx="443160" cy="248040"/>
            </a:xfrm>
            <a:custGeom>
              <a:avLst/>
              <a:gdLst/>
              <a:ahLst/>
              <a:rect l="0" t="0" r="r" b="b"/>
              <a:pathLst>
                <a:path w="1231" h="689">
                  <a:moveTo>
                    <a:pt x="154" y="659"/>
                  </a:moveTo>
                  <a:lnTo>
                    <a:pt x="330" y="472"/>
                  </a:lnTo>
                  <a:lnTo>
                    <a:pt x="445" y="446"/>
                  </a:lnTo>
                  <a:lnTo>
                    <a:pt x="445" y="464"/>
                  </a:lnTo>
                  <a:lnTo>
                    <a:pt x="502" y="446"/>
                  </a:lnTo>
                  <a:lnTo>
                    <a:pt x="577" y="499"/>
                  </a:lnTo>
                  <a:lnTo>
                    <a:pt x="728" y="526"/>
                  </a:lnTo>
                  <a:lnTo>
                    <a:pt x="843" y="689"/>
                  </a:lnTo>
                  <a:lnTo>
                    <a:pt x="1032" y="623"/>
                  </a:lnTo>
                  <a:lnTo>
                    <a:pt x="1032" y="544"/>
                  </a:lnTo>
                  <a:lnTo>
                    <a:pt x="1231" y="464"/>
                  </a:lnTo>
                  <a:lnTo>
                    <a:pt x="1173" y="331"/>
                  </a:lnTo>
                  <a:lnTo>
                    <a:pt x="993" y="318"/>
                  </a:lnTo>
                  <a:lnTo>
                    <a:pt x="1015" y="181"/>
                  </a:lnTo>
                  <a:lnTo>
                    <a:pt x="860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77" y="154"/>
                  </a:lnTo>
                  <a:lnTo>
                    <a:pt x="599" y="0"/>
                  </a:lnTo>
                  <a:lnTo>
                    <a:pt x="445" y="66"/>
                  </a:lnTo>
                  <a:lnTo>
                    <a:pt x="238" y="318"/>
                  </a:lnTo>
                  <a:lnTo>
                    <a:pt x="229" y="154"/>
                  </a:lnTo>
                  <a:lnTo>
                    <a:pt x="123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0880" y="1187280"/>
              <a:ext cx="143280" cy="708480"/>
            </a:xfrm>
            <a:custGeom>
              <a:avLst/>
              <a:gdLst/>
              <a:ahLst/>
              <a:rect l="0" t="0" r="r" b="b"/>
              <a:pathLst>
                <a:path w="398" h="1968">
                  <a:moveTo>
                    <a:pt x="208" y="8"/>
                  </a:moveTo>
                  <a:lnTo>
                    <a:pt x="70" y="97"/>
                  </a:lnTo>
                  <a:lnTo>
                    <a:pt x="70" y="260"/>
                  </a:lnTo>
                  <a:lnTo>
                    <a:pt x="168" y="313"/>
                  </a:lnTo>
                  <a:lnTo>
                    <a:pt x="35" y="578"/>
                  </a:lnTo>
                  <a:lnTo>
                    <a:pt x="0" y="922"/>
                  </a:lnTo>
                  <a:lnTo>
                    <a:pt x="102" y="1372"/>
                  </a:lnTo>
                  <a:lnTo>
                    <a:pt x="102" y="1567"/>
                  </a:lnTo>
                  <a:lnTo>
                    <a:pt x="48" y="1712"/>
                  </a:lnTo>
                  <a:lnTo>
                    <a:pt x="247" y="1968"/>
                  </a:lnTo>
                  <a:lnTo>
                    <a:pt x="385" y="1580"/>
                  </a:lnTo>
                  <a:lnTo>
                    <a:pt x="385" y="1319"/>
                  </a:lnTo>
                  <a:lnTo>
                    <a:pt x="287" y="1076"/>
                  </a:lnTo>
                  <a:lnTo>
                    <a:pt x="234" y="741"/>
                  </a:lnTo>
                  <a:lnTo>
                    <a:pt x="337" y="418"/>
                  </a:lnTo>
                  <a:lnTo>
                    <a:pt x="301" y="291"/>
                  </a:lnTo>
                  <a:lnTo>
                    <a:pt x="398" y="220"/>
                  </a:lnTo>
                  <a:lnTo>
                    <a:pt x="385" y="141"/>
                  </a:lnTo>
                  <a:lnTo>
                    <a:pt x="269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64400" y="949320"/>
              <a:ext cx="116280" cy="65520"/>
            </a:xfrm>
            <a:custGeom>
              <a:avLst/>
              <a:gdLst/>
              <a:ahLst/>
              <a:rect l="0" t="0" r="r" b="b"/>
              <a:pathLst>
                <a:path w="323" h="182">
                  <a:moveTo>
                    <a:pt x="0" y="53"/>
                  </a:moveTo>
                  <a:lnTo>
                    <a:pt x="128" y="182"/>
                  </a:lnTo>
                  <a:lnTo>
                    <a:pt x="257" y="169"/>
                  </a:lnTo>
                  <a:lnTo>
                    <a:pt x="323" y="13"/>
                  </a:lnTo>
                  <a:lnTo>
                    <a:pt x="177" y="0"/>
                  </a:lnTo>
                  <a:lnTo>
                    <a:pt x="35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9120" y="622440"/>
              <a:ext cx="143280" cy="138600"/>
            </a:xfrm>
            <a:custGeom>
              <a:avLst/>
              <a:gdLst/>
              <a:ahLst/>
              <a:rect l="0" t="0" r="r" b="b"/>
              <a:pathLst>
                <a:path w="398" h="385">
                  <a:moveTo>
                    <a:pt x="0" y="44"/>
                  </a:moveTo>
                  <a:lnTo>
                    <a:pt x="269" y="385"/>
                  </a:lnTo>
                  <a:lnTo>
                    <a:pt x="398" y="354"/>
                  </a:ln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90040" y="59364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9" y="380"/>
                  </a:lnTo>
                  <a:lnTo>
                    <a:pt x="341" y="292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836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2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7" y="967"/>
                  </a:lnTo>
                  <a:lnTo>
                    <a:pt x="57" y="662"/>
                  </a:lnTo>
                  <a:lnTo>
                    <a:pt x="282" y="574"/>
                  </a:lnTo>
                  <a:lnTo>
                    <a:pt x="433" y="574"/>
                  </a:lnTo>
                  <a:lnTo>
                    <a:pt x="543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4" y="870"/>
                  </a:lnTo>
                  <a:lnTo>
                    <a:pt x="644" y="684"/>
                  </a:lnTo>
                  <a:lnTo>
                    <a:pt x="733" y="684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2" y="919"/>
                  </a:lnTo>
                  <a:lnTo>
                    <a:pt x="1174" y="879"/>
                  </a:lnTo>
                  <a:lnTo>
                    <a:pt x="1289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3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2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4" y="468"/>
                  </a:lnTo>
                  <a:lnTo>
                    <a:pt x="799" y="521"/>
                  </a:lnTo>
                  <a:lnTo>
                    <a:pt x="799" y="569"/>
                  </a:lnTo>
                  <a:lnTo>
                    <a:pt x="971" y="494"/>
                  </a:lnTo>
                  <a:lnTo>
                    <a:pt x="1104" y="477"/>
                  </a:lnTo>
                  <a:lnTo>
                    <a:pt x="1263" y="499"/>
                  </a:lnTo>
                  <a:lnTo>
                    <a:pt x="1263" y="530"/>
                  </a:lnTo>
                  <a:lnTo>
                    <a:pt x="1192" y="591"/>
                  </a:lnTo>
                  <a:lnTo>
                    <a:pt x="1161" y="684"/>
                  </a:lnTo>
                  <a:lnTo>
                    <a:pt x="1157" y="800"/>
                  </a:lnTo>
                  <a:lnTo>
                    <a:pt x="1060" y="844"/>
                  </a:lnTo>
                  <a:lnTo>
                    <a:pt x="927" y="857"/>
                  </a:lnTo>
                  <a:lnTo>
                    <a:pt x="838" y="857"/>
                  </a:lnTo>
                  <a:lnTo>
                    <a:pt x="807" y="822"/>
                  </a:lnTo>
                  <a:lnTo>
                    <a:pt x="785" y="600"/>
                  </a:lnTo>
                  <a:lnTo>
                    <a:pt x="644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58280" y="81288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0" y="0"/>
                  </a:moveTo>
                  <a:lnTo>
                    <a:pt x="70" y="83"/>
                  </a:lnTo>
                  <a:lnTo>
                    <a:pt x="265" y="83"/>
                  </a:lnTo>
                  <a:lnTo>
                    <a:pt x="350" y="26"/>
                  </a:lnTo>
                  <a:lnTo>
                    <a:pt x="451" y="26"/>
                  </a:lnTo>
                  <a:lnTo>
                    <a:pt x="434" y="57"/>
                  </a:lnTo>
                  <a:lnTo>
                    <a:pt x="434" y="83"/>
                  </a:lnTo>
                  <a:lnTo>
                    <a:pt x="247" y="195"/>
                  </a:lnTo>
                  <a:lnTo>
                    <a:pt x="150" y="195"/>
                  </a:lnTo>
                  <a:lnTo>
                    <a:pt x="97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80440" y="700200"/>
              <a:ext cx="244800" cy="376560"/>
            </a:xfrm>
            <a:custGeom>
              <a:avLst/>
              <a:gdLst/>
              <a:ahLst/>
              <a:rect l="0" t="0" r="r" b="b"/>
              <a:pathLst>
                <a:path w="680" h="1046">
                  <a:moveTo>
                    <a:pt x="680" y="70"/>
                  </a:moveTo>
                  <a:lnTo>
                    <a:pt x="680" y="88"/>
                  </a:lnTo>
                  <a:lnTo>
                    <a:pt x="561" y="198"/>
                  </a:lnTo>
                  <a:lnTo>
                    <a:pt x="459" y="216"/>
                  </a:lnTo>
                  <a:lnTo>
                    <a:pt x="268" y="189"/>
                  </a:lnTo>
                  <a:lnTo>
                    <a:pt x="308" y="565"/>
                  </a:lnTo>
                  <a:lnTo>
                    <a:pt x="353" y="878"/>
                  </a:lnTo>
                  <a:lnTo>
                    <a:pt x="433" y="1046"/>
                  </a:lnTo>
                  <a:lnTo>
                    <a:pt x="353" y="922"/>
                  </a:lnTo>
                  <a:lnTo>
                    <a:pt x="317" y="794"/>
                  </a:lnTo>
                  <a:lnTo>
                    <a:pt x="260" y="440"/>
                  </a:lnTo>
                  <a:lnTo>
                    <a:pt x="207" y="463"/>
                  </a:lnTo>
                  <a:lnTo>
                    <a:pt x="145" y="423"/>
                  </a:lnTo>
                  <a:lnTo>
                    <a:pt x="13" y="233"/>
                  </a:lnTo>
                  <a:lnTo>
                    <a:pt x="0" y="136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6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5" y="145"/>
                  </a:lnTo>
                  <a:lnTo>
                    <a:pt x="375" y="167"/>
                  </a:lnTo>
                  <a:lnTo>
                    <a:pt x="494" y="163"/>
                  </a:lnTo>
                  <a:lnTo>
                    <a:pt x="600" y="101"/>
                  </a:lnTo>
                  <a:lnTo>
                    <a:pt x="68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45240" y="401760"/>
              <a:ext cx="71640" cy="200520"/>
            </a:xfrm>
            <a:custGeom>
              <a:avLst/>
              <a:gdLst/>
              <a:ahLst/>
              <a:rect l="0" t="0" r="r" b="b"/>
              <a:pathLst>
                <a:path w="199" h="557">
                  <a:moveTo>
                    <a:pt x="97" y="557"/>
                  </a:moveTo>
                  <a:lnTo>
                    <a:pt x="199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0"/>
                  </a:lnTo>
                  <a:lnTo>
                    <a:pt x="79" y="353"/>
                  </a:lnTo>
                  <a:lnTo>
                    <a:pt x="120" y="420"/>
                  </a:lnTo>
                  <a:lnTo>
                    <a:pt x="97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228600"/>
              <a:ext cx="543240" cy="262440"/>
            </a:xfrm>
            <a:custGeom>
              <a:avLst/>
              <a:gdLst/>
              <a:ahLst/>
              <a:rect l="0" t="0" r="r" b="b"/>
              <a:pathLst>
                <a:path w="1509" h="729">
                  <a:moveTo>
                    <a:pt x="13" y="490"/>
                  </a:moveTo>
                  <a:lnTo>
                    <a:pt x="145" y="566"/>
                  </a:lnTo>
                  <a:lnTo>
                    <a:pt x="127" y="472"/>
                  </a:lnTo>
                  <a:lnTo>
                    <a:pt x="158" y="309"/>
                  </a:lnTo>
                  <a:lnTo>
                    <a:pt x="238" y="274"/>
                  </a:lnTo>
                  <a:lnTo>
                    <a:pt x="255" y="455"/>
                  </a:lnTo>
                  <a:lnTo>
                    <a:pt x="502" y="145"/>
                  </a:lnTo>
                  <a:lnTo>
                    <a:pt x="564" y="123"/>
                  </a:lnTo>
                  <a:lnTo>
                    <a:pt x="515" y="243"/>
                  </a:lnTo>
                  <a:lnTo>
                    <a:pt x="679" y="300"/>
                  </a:lnTo>
                  <a:lnTo>
                    <a:pt x="794" y="180"/>
                  </a:lnTo>
                  <a:lnTo>
                    <a:pt x="856" y="217"/>
                  </a:lnTo>
                  <a:lnTo>
                    <a:pt x="803" y="318"/>
                  </a:lnTo>
                  <a:lnTo>
                    <a:pt x="878" y="261"/>
                  </a:lnTo>
                  <a:lnTo>
                    <a:pt x="993" y="309"/>
                  </a:lnTo>
                  <a:lnTo>
                    <a:pt x="896" y="397"/>
                  </a:lnTo>
                  <a:lnTo>
                    <a:pt x="1213" y="455"/>
                  </a:lnTo>
                  <a:lnTo>
                    <a:pt x="1002" y="512"/>
                  </a:lnTo>
                  <a:lnTo>
                    <a:pt x="1257" y="543"/>
                  </a:lnTo>
                  <a:lnTo>
                    <a:pt x="953" y="623"/>
                  </a:lnTo>
                  <a:lnTo>
                    <a:pt x="1019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2" y="685"/>
                  </a:lnTo>
                  <a:lnTo>
                    <a:pt x="1235" y="725"/>
                  </a:lnTo>
                  <a:lnTo>
                    <a:pt x="1213" y="606"/>
                  </a:lnTo>
                  <a:lnTo>
                    <a:pt x="1359" y="557"/>
                  </a:lnTo>
                  <a:lnTo>
                    <a:pt x="1253" y="503"/>
                  </a:lnTo>
                  <a:lnTo>
                    <a:pt x="1509" y="486"/>
                  </a:lnTo>
                  <a:lnTo>
                    <a:pt x="1288" y="371"/>
                  </a:lnTo>
                  <a:lnTo>
                    <a:pt x="1032" y="336"/>
                  </a:lnTo>
                  <a:lnTo>
                    <a:pt x="1235" y="221"/>
                  </a:lnTo>
                  <a:lnTo>
                    <a:pt x="878" y="221"/>
                  </a:lnTo>
                  <a:lnTo>
                    <a:pt x="1046" y="105"/>
                  </a:lnTo>
                  <a:lnTo>
                    <a:pt x="785" y="145"/>
                  </a:lnTo>
                  <a:lnTo>
                    <a:pt x="665" y="199"/>
                  </a:lnTo>
                  <a:lnTo>
                    <a:pt x="768" y="0"/>
                  </a:lnTo>
                  <a:lnTo>
                    <a:pt x="454" y="105"/>
                  </a:lnTo>
                  <a:lnTo>
                    <a:pt x="282" y="349"/>
                  </a:lnTo>
                  <a:lnTo>
                    <a:pt x="255" y="217"/>
                  </a:lnTo>
                  <a:lnTo>
                    <a:pt x="110" y="309"/>
                  </a:lnTo>
                  <a:lnTo>
                    <a:pt x="97" y="486"/>
                  </a:lnTo>
                  <a:lnTo>
                    <a:pt x="0" y="455"/>
                  </a:lnTo>
                  <a:lnTo>
                    <a:pt x="35" y="606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59720" y="368280"/>
              <a:ext cx="155880" cy="79560"/>
            </a:xfrm>
            <a:custGeom>
              <a:avLst/>
              <a:gdLst/>
              <a:ahLst/>
              <a:rect l="0" t="0" r="r" b="b"/>
              <a:pathLst>
                <a:path w="433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1" y="83"/>
                  </a:lnTo>
                  <a:lnTo>
                    <a:pt x="269" y="172"/>
                  </a:lnTo>
                  <a:lnTo>
                    <a:pt x="433" y="212"/>
                  </a:lnTo>
                  <a:lnTo>
                    <a:pt x="261" y="181"/>
                  </a:lnTo>
                  <a:lnTo>
                    <a:pt x="207" y="128"/>
                  </a:lnTo>
                  <a:lnTo>
                    <a:pt x="132" y="181"/>
                  </a:lnTo>
                  <a:lnTo>
                    <a:pt x="132" y="12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47120" y="906480"/>
              <a:ext cx="184680" cy="116280"/>
            </a:xfrm>
            <a:custGeom>
              <a:avLst/>
              <a:gdLst/>
              <a:ahLst/>
              <a:rect l="0" t="0" r="r" b="b"/>
              <a:pathLst>
                <a:path w="513" h="323">
                  <a:moveTo>
                    <a:pt x="97" y="111"/>
                  </a:moveTo>
                  <a:lnTo>
                    <a:pt x="305" y="98"/>
                  </a:lnTo>
                  <a:lnTo>
                    <a:pt x="412" y="120"/>
                  </a:lnTo>
                  <a:lnTo>
                    <a:pt x="460" y="70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29" y="159"/>
                  </a:lnTo>
                  <a:lnTo>
                    <a:pt x="362" y="234"/>
                  </a:lnTo>
                  <a:lnTo>
                    <a:pt x="234" y="323"/>
                  </a:lnTo>
                  <a:lnTo>
                    <a:pt x="177" y="323"/>
                  </a:lnTo>
                  <a:lnTo>
                    <a:pt x="97" y="275"/>
                  </a:lnTo>
                  <a:lnTo>
                    <a:pt x="190" y="315"/>
                  </a:lnTo>
                  <a:lnTo>
                    <a:pt x="225" y="315"/>
                  </a:lnTo>
                  <a:lnTo>
                    <a:pt x="305" y="257"/>
                  </a:lnTo>
                  <a:lnTo>
                    <a:pt x="358" y="146"/>
                  </a:lnTo>
                  <a:lnTo>
                    <a:pt x="278" y="128"/>
                  </a:lnTo>
                  <a:lnTo>
                    <a:pt x="225" y="120"/>
                  </a:lnTo>
                  <a:lnTo>
                    <a:pt x="83" y="142"/>
                  </a:lnTo>
                  <a:lnTo>
                    <a:pt x="83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79"/>
                  </a:lnTo>
                  <a:lnTo>
                    <a:pt x="52" y="0"/>
                  </a:lnTo>
                  <a:lnTo>
                    <a:pt x="97" y="79"/>
                  </a:lnTo>
                  <a:lnTo>
                    <a:pt x="97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000" y="649440"/>
              <a:ext cx="397080" cy="543240"/>
            </a:xfrm>
            <a:custGeom>
              <a:avLst/>
              <a:gdLst/>
              <a:ahLst/>
              <a:rect l="0" t="0" r="r" b="b"/>
              <a:pathLst>
                <a:path w="1103" h="1509">
                  <a:moveTo>
                    <a:pt x="931" y="0"/>
                  </a:moveTo>
                  <a:lnTo>
                    <a:pt x="1037" y="0"/>
                  </a:lnTo>
                  <a:lnTo>
                    <a:pt x="1103" y="70"/>
                  </a:lnTo>
                  <a:lnTo>
                    <a:pt x="1103" y="158"/>
                  </a:lnTo>
                  <a:lnTo>
                    <a:pt x="1010" y="388"/>
                  </a:lnTo>
                  <a:lnTo>
                    <a:pt x="922" y="507"/>
                  </a:lnTo>
                  <a:lnTo>
                    <a:pt x="825" y="520"/>
                  </a:lnTo>
                  <a:lnTo>
                    <a:pt x="807" y="520"/>
                  </a:lnTo>
                  <a:lnTo>
                    <a:pt x="807" y="821"/>
                  </a:lnTo>
                  <a:lnTo>
                    <a:pt x="843" y="1037"/>
                  </a:lnTo>
                  <a:lnTo>
                    <a:pt x="843" y="1213"/>
                  </a:lnTo>
                  <a:lnTo>
                    <a:pt x="680" y="1385"/>
                  </a:lnTo>
                  <a:lnTo>
                    <a:pt x="449" y="1509"/>
                  </a:lnTo>
                  <a:lnTo>
                    <a:pt x="299" y="1509"/>
                  </a:lnTo>
                  <a:lnTo>
                    <a:pt x="229" y="1473"/>
                  </a:lnTo>
                  <a:lnTo>
                    <a:pt x="127" y="1266"/>
                  </a:lnTo>
                  <a:lnTo>
                    <a:pt x="35" y="1196"/>
                  </a:lnTo>
                  <a:lnTo>
                    <a:pt x="0" y="1134"/>
                  </a:lnTo>
                  <a:lnTo>
                    <a:pt x="123" y="1213"/>
                  </a:lnTo>
                  <a:lnTo>
                    <a:pt x="216" y="1288"/>
                  </a:lnTo>
                  <a:lnTo>
                    <a:pt x="388" y="1297"/>
                  </a:lnTo>
                  <a:lnTo>
                    <a:pt x="552" y="1222"/>
                  </a:lnTo>
                  <a:lnTo>
                    <a:pt x="627" y="1134"/>
                  </a:lnTo>
                  <a:lnTo>
                    <a:pt x="724" y="984"/>
                  </a:lnTo>
                  <a:lnTo>
                    <a:pt x="737" y="803"/>
                  </a:lnTo>
                  <a:lnTo>
                    <a:pt x="768" y="220"/>
                  </a:lnTo>
                  <a:lnTo>
                    <a:pt x="812" y="304"/>
                  </a:lnTo>
                  <a:lnTo>
                    <a:pt x="922" y="202"/>
                  </a:lnTo>
                  <a:lnTo>
                    <a:pt x="1032" y="158"/>
                  </a:lnTo>
                  <a:lnTo>
                    <a:pt x="1059" y="92"/>
                  </a:lnTo>
                  <a:lnTo>
                    <a:pt x="1046" y="35"/>
                  </a:lnTo>
                  <a:lnTo>
                    <a:pt x="997" y="8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1117440"/>
              <a:ext cx="321120" cy="503640"/>
            </a:xfrm>
            <a:custGeom>
              <a:avLst/>
              <a:gdLst/>
              <a:ahLst/>
              <a:rect l="0" t="0" r="r" b="b"/>
              <a:pathLst>
                <a:path w="892" h="1399">
                  <a:moveTo>
                    <a:pt x="110" y="0"/>
                  </a:moveTo>
                  <a:lnTo>
                    <a:pt x="216" y="61"/>
                  </a:lnTo>
                  <a:lnTo>
                    <a:pt x="292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1"/>
                  </a:lnTo>
                  <a:lnTo>
                    <a:pt x="711" y="578"/>
                  </a:lnTo>
                  <a:lnTo>
                    <a:pt x="848" y="666"/>
                  </a:lnTo>
                  <a:lnTo>
                    <a:pt x="892" y="785"/>
                  </a:lnTo>
                  <a:lnTo>
                    <a:pt x="892" y="979"/>
                  </a:lnTo>
                  <a:lnTo>
                    <a:pt x="711" y="1276"/>
                  </a:lnTo>
                  <a:lnTo>
                    <a:pt x="653" y="1399"/>
                  </a:lnTo>
                  <a:lnTo>
                    <a:pt x="681" y="1236"/>
                  </a:lnTo>
                  <a:lnTo>
                    <a:pt x="653" y="1179"/>
                  </a:lnTo>
                  <a:lnTo>
                    <a:pt x="538" y="1073"/>
                  </a:lnTo>
                  <a:lnTo>
                    <a:pt x="367" y="953"/>
                  </a:lnTo>
                  <a:lnTo>
                    <a:pt x="574" y="1019"/>
                  </a:lnTo>
                  <a:lnTo>
                    <a:pt x="698" y="1117"/>
                  </a:lnTo>
                  <a:lnTo>
                    <a:pt x="764" y="1095"/>
                  </a:lnTo>
                  <a:lnTo>
                    <a:pt x="800" y="1046"/>
                  </a:lnTo>
                  <a:lnTo>
                    <a:pt x="848" y="909"/>
                  </a:lnTo>
                  <a:lnTo>
                    <a:pt x="835" y="768"/>
                  </a:lnTo>
                  <a:lnTo>
                    <a:pt x="769" y="688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9" y="455"/>
                  </a:lnTo>
                  <a:lnTo>
                    <a:pt x="300" y="389"/>
                  </a:lnTo>
                  <a:lnTo>
                    <a:pt x="300" y="446"/>
                  </a:lnTo>
                  <a:lnTo>
                    <a:pt x="216" y="299"/>
                  </a:lnTo>
                  <a:lnTo>
                    <a:pt x="167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46"/>
                  </a:lnTo>
                  <a:lnTo>
                    <a:pt x="180" y="591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58000" y="1339920"/>
              <a:ext cx="211320" cy="400320"/>
            </a:xfrm>
            <a:custGeom>
              <a:avLst/>
              <a:gdLst/>
              <a:ahLst/>
              <a:rect l="0" t="0" r="r" b="b"/>
              <a:pathLst>
                <a:path w="587" h="1112">
                  <a:moveTo>
                    <a:pt x="587" y="0"/>
                  </a:moveTo>
                  <a:lnTo>
                    <a:pt x="468" y="70"/>
                  </a:lnTo>
                  <a:lnTo>
                    <a:pt x="322" y="348"/>
                  </a:lnTo>
                  <a:lnTo>
                    <a:pt x="180" y="515"/>
                  </a:lnTo>
                  <a:lnTo>
                    <a:pt x="13" y="728"/>
                  </a:lnTo>
                  <a:lnTo>
                    <a:pt x="0" y="838"/>
                  </a:lnTo>
                  <a:lnTo>
                    <a:pt x="35" y="935"/>
                  </a:lnTo>
                  <a:lnTo>
                    <a:pt x="114" y="935"/>
                  </a:lnTo>
                  <a:lnTo>
                    <a:pt x="224" y="838"/>
                  </a:lnTo>
                  <a:lnTo>
                    <a:pt x="314" y="640"/>
                  </a:lnTo>
                  <a:lnTo>
                    <a:pt x="428" y="515"/>
                  </a:lnTo>
                  <a:lnTo>
                    <a:pt x="428" y="680"/>
                  </a:lnTo>
                  <a:lnTo>
                    <a:pt x="415" y="830"/>
                  </a:lnTo>
                  <a:lnTo>
                    <a:pt x="286" y="1024"/>
                  </a:lnTo>
                  <a:lnTo>
                    <a:pt x="286" y="1081"/>
                  </a:lnTo>
                  <a:lnTo>
                    <a:pt x="415" y="1112"/>
                  </a:lnTo>
                  <a:lnTo>
                    <a:pt x="322" y="1059"/>
                  </a:lnTo>
                  <a:lnTo>
                    <a:pt x="336" y="1024"/>
                  </a:lnTo>
                  <a:lnTo>
                    <a:pt x="428" y="874"/>
                  </a:lnTo>
                  <a:lnTo>
                    <a:pt x="486" y="618"/>
                  </a:lnTo>
                  <a:lnTo>
                    <a:pt x="441" y="467"/>
                  </a:lnTo>
                  <a:lnTo>
                    <a:pt x="353" y="551"/>
                  </a:lnTo>
                  <a:lnTo>
                    <a:pt x="141" y="887"/>
                  </a:lnTo>
                  <a:lnTo>
                    <a:pt x="88" y="896"/>
                  </a:lnTo>
                  <a:lnTo>
                    <a:pt x="35" y="860"/>
                  </a:lnTo>
                  <a:lnTo>
                    <a:pt x="35" y="759"/>
                  </a:lnTo>
                  <a:lnTo>
                    <a:pt x="114" y="631"/>
                  </a:lnTo>
                  <a:lnTo>
                    <a:pt x="353" y="361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3520" y="1566720"/>
              <a:ext cx="132120" cy="192600"/>
            </a:xfrm>
            <a:custGeom>
              <a:avLst/>
              <a:gdLst/>
              <a:ahLst/>
              <a:rect l="0" t="0" r="r" b="b"/>
              <a:pathLst>
                <a:path w="367" h="535">
                  <a:moveTo>
                    <a:pt x="0" y="473"/>
                  </a:moveTo>
                  <a:lnTo>
                    <a:pt x="119" y="331"/>
                  </a:lnTo>
                  <a:lnTo>
                    <a:pt x="145" y="203"/>
                  </a:lnTo>
                  <a:lnTo>
                    <a:pt x="278" y="0"/>
                  </a:lnTo>
                  <a:lnTo>
                    <a:pt x="314" y="127"/>
                  </a:lnTo>
                  <a:lnTo>
                    <a:pt x="296" y="487"/>
                  </a:lnTo>
                  <a:lnTo>
                    <a:pt x="367" y="535"/>
                  </a:lnTo>
                  <a:lnTo>
                    <a:pt x="261" y="495"/>
                  </a:lnTo>
                  <a:lnTo>
                    <a:pt x="203" y="292"/>
                  </a:lnTo>
                  <a:lnTo>
                    <a:pt x="119" y="389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74080" y="1577880"/>
              <a:ext cx="87840" cy="171720"/>
            </a:xfrm>
            <a:custGeom>
              <a:avLst/>
              <a:gdLst/>
              <a:ahLst/>
              <a:rect l="0" t="0" r="r" b="b"/>
              <a:pathLst>
                <a:path w="244" h="477">
                  <a:moveTo>
                    <a:pt x="0" y="358"/>
                  </a:moveTo>
                  <a:lnTo>
                    <a:pt x="8" y="180"/>
                  </a:lnTo>
                  <a:lnTo>
                    <a:pt x="62" y="74"/>
                  </a:lnTo>
                  <a:lnTo>
                    <a:pt x="120" y="450"/>
                  </a:lnTo>
                  <a:lnTo>
                    <a:pt x="196" y="450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09"/>
                  </a:lnTo>
                  <a:lnTo>
                    <a:pt x="196" y="477"/>
                  </a:lnTo>
                  <a:lnTo>
                    <a:pt x="98" y="477"/>
                  </a:lnTo>
                  <a:lnTo>
                    <a:pt x="52" y="149"/>
                  </a:lnTo>
                  <a:lnTo>
                    <a:pt x="35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7244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7"/>
                  </a:moveTo>
                  <a:lnTo>
                    <a:pt x="199" y="489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7" y="529"/>
                  </a:lnTo>
                  <a:lnTo>
                    <a:pt x="181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5" y="904"/>
                  </a:lnTo>
                  <a:lnTo>
                    <a:pt x="44" y="1081"/>
                  </a:lnTo>
                  <a:lnTo>
                    <a:pt x="230" y="1284"/>
                  </a:lnTo>
                  <a:lnTo>
                    <a:pt x="35" y="1103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8" y="697"/>
                  </a:lnTo>
                  <a:lnTo>
                    <a:pt x="155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0680" y="895320"/>
              <a:ext cx="351360" cy="449640"/>
            </a:xfrm>
            <a:custGeom>
              <a:avLst/>
              <a:gdLst/>
              <a:ahLst/>
              <a:rect l="0" t="0" r="r" b="b"/>
              <a:pathLst>
                <a:path w="976" h="1249">
                  <a:moveTo>
                    <a:pt x="269" y="0"/>
                  </a:moveTo>
                  <a:lnTo>
                    <a:pt x="327" y="39"/>
                  </a:lnTo>
                  <a:lnTo>
                    <a:pt x="344" y="145"/>
                  </a:lnTo>
                  <a:lnTo>
                    <a:pt x="344" y="242"/>
                  </a:lnTo>
                  <a:lnTo>
                    <a:pt x="233" y="424"/>
                  </a:lnTo>
                  <a:lnTo>
                    <a:pt x="261" y="561"/>
                  </a:lnTo>
                  <a:lnTo>
                    <a:pt x="587" y="697"/>
                  </a:lnTo>
                  <a:lnTo>
                    <a:pt x="967" y="1095"/>
                  </a:lnTo>
                  <a:lnTo>
                    <a:pt x="976" y="1201"/>
                  </a:lnTo>
                  <a:lnTo>
                    <a:pt x="950" y="1249"/>
                  </a:lnTo>
                  <a:lnTo>
                    <a:pt x="813" y="1249"/>
                  </a:lnTo>
                  <a:lnTo>
                    <a:pt x="688" y="1179"/>
                  </a:lnTo>
                  <a:lnTo>
                    <a:pt x="578" y="1047"/>
                  </a:lnTo>
                  <a:lnTo>
                    <a:pt x="521" y="976"/>
                  </a:lnTo>
                  <a:lnTo>
                    <a:pt x="450" y="958"/>
                  </a:lnTo>
                  <a:lnTo>
                    <a:pt x="538" y="958"/>
                  </a:lnTo>
                  <a:lnTo>
                    <a:pt x="693" y="1161"/>
                  </a:lnTo>
                  <a:lnTo>
                    <a:pt x="897" y="1219"/>
                  </a:lnTo>
                  <a:lnTo>
                    <a:pt x="945" y="1161"/>
                  </a:lnTo>
                  <a:lnTo>
                    <a:pt x="923" y="1064"/>
                  </a:lnTo>
                  <a:lnTo>
                    <a:pt x="561" y="785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5" y="697"/>
                  </a:lnTo>
                  <a:lnTo>
                    <a:pt x="0" y="821"/>
                  </a:lnTo>
                  <a:lnTo>
                    <a:pt x="176" y="680"/>
                  </a:lnTo>
                  <a:lnTo>
                    <a:pt x="185" y="596"/>
                  </a:lnTo>
                  <a:lnTo>
                    <a:pt x="185" y="397"/>
                  </a:lnTo>
                  <a:lnTo>
                    <a:pt x="314" y="242"/>
                  </a:lnTo>
                  <a:lnTo>
                    <a:pt x="314" y="4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348760" y="1249200"/>
              <a:ext cx="298800" cy="262440"/>
            </a:xfrm>
            <a:custGeom>
              <a:avLst/>
              <a:gdLst/>
              <a:ahLst/>
              <a:rect l="0" t="0" r="r" b="b"/>
              <a:pathLst>
                <a:path w="830" h="729">
                  <a:moveTo>
                    <a:pt x="622" y="0"/>
                  </a:moveTo>
                  <a:lnTo>
                    <a:pt x="605" y="61"/>
                  </a:lnTo>
                  <a:lnTo>
                    <a:pt x="724" y="300"/>
                  </a:lnTo>
                  <a:lnTo>
                    <a:pt x="785" y="553"/>
                  </a:lnTo>
                  <a:lnTo>
                    <a:pt x="715" y="553"/>
                  </a:lnTo>
                  <a:lnTo>
                    <a:pt x="591" y="441"/>
                  </a:lnTo>
                  <a:lnTo>
                    <a:pt x="481" y="217"/>
                  </a:lnTo>
                  <a:lnTo>
                    <a:pt x="388" y="176"/>
                  </a:lnTo>
                  <a:lnTo>
                    <a:pt x="405" y="300"/>
                  </a:lnTo>
                  <a:lnTo>
                    <a:pt x="486" y="393"/>
                  </a:lnTo>
                  <a:lnTo>
                    <a:pt x="486" y="566"/>
                  </a:lnTo>
                  <a:lnTo>
                    <a:pt x="424" y="694"/>
                  </a:lnTo>
                  <a:lnTo>
                    <a:pt x="348" y="645"/>
                  </a:lnTo>
                  <a:lnTo>
                    <a:pt x="255" y="441"/>
                  </a:lnTo>
                  <a:lnTo>
                    <a:pt x="229" y="300"/>
                  </a:lnTo>
                  <a:lnTo>
                    <a:pt x="176" y="265"/>
                  </a:lnTo>
                  <a:lnTo>
                    <a:pt x="163" y="619"/>
                  </a:lnTo>
                  <a:lnTo>
                    <a:pt x="92" y="667"/>
                  </a:lnTo>
                  <a:lnTo>
                    <a:pt x="22" y="619"/>
                  </a:lnTo>
                  <a:lnTo>
                    <a:pt x="8" y="314"/>
                  </a:lnTo>
                  <a:lnTo>
                    <a:pt x="0" y="606"/>
                  </a:lnTo>
                  <a:lnTo>
                    <a:pt x="52" y="720"/>
                  </a:lnTo>
                  <a:lnTo>
                    <a:pt x="163" y="720"/>
                  </a:lnTo>
                  <a:lnTo>
                    <a:pt x="202" y="632"/>
                  </a:lnTo>
                  <a:lnTo>
                    <a:pt x="224" y="353"/>
                  </a:lnTo>
                  <a:lnTo>
                    <a:pt x="238" y="464"/>
                  </a:lnTo>
                  <a:lnTo>
                    <a:pt x="335" y="698"/>
                  </a:lnTo>
                  <a:lnTo>
                    <a:pt x="437" y="729"/>
                  </a:lnTo>
                  <a:lnTo>
                    <a:pt x="512" y="632"/>
                  </a:lnTo>
                  <a:lnTo>
                    <a:pt x="512" y="402"/>
                  </a:lnTo>
                  <a:lnTo>
                    <a:pt x="715" y="588"/>
                  </a:lnTo>
                  <a:lnTo>
                    <a:pt x="821" y="588"/>
                  </a:lnTo>
                  <a:lnTo>
                    <a:pt x="830" y="464"/>
                  </a:lnTo>
                  <a:lnTo>
                    <a:pt x="755" y="234"/>
                  </a:lnTo>
                  <a:lnTo>
                    <a:pt x="622" y="48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8520" y="97308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6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42"/>
                  </a:lnTo>
                  <a:lnTo>
                    <a:pt x="908" y="286"/>
                  </a:lnTo>
                  <a:lnTo>
                    <a:pt x="877" y="485"/>
                  </a:lnTo>
                  <a:lnTo>
                    <a:pt x="546" y="723"/>
                  </a:lnTo>
                  <a:lnTo>
                    <a:pt x="564" y="829"/>
                  </a:lnTo>
                  <a:lnTo>
                    <a:pt x="489" y="912"/>
                  </a:lnTo>
                  <a:lnTo>
                    <a:pt x="489" y="996"/>
                  </a:lnTo>
                  <a:lnTo>
                    <a:pt x="577" y="1221"/>
                  </a:lnTo>
                  <a:lnTo>
                    <a:pt x="582" y="1499"/>
                  </a:lnTo>
                  <a:lnTo>
                    <a:pt x="524" y="1760"/>
                  </a:lnTo>
                  <a:lnTo>
                    <a:pt x="291" y="1919"/>
                  </a:lnTo>
                  <a:lnTo>
                    <a:pt x="260" y="2135"/>
                  </a:lnTo>
                  <a:lnTo>
                    <a:pt x="180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2"/>
                  </a:lnTo>
                  <a:lnTo>
                    <a:pt x="277" y="2466"/>
                  </a:lnTo>
                  <a:lnTo>
                    <a:pt x="489" y="2655"/>
                  </a:lnTo>
                  <a:lnTo>
                    <a:pt x="674" y="2682"/>
                  </a:lnTo>
                  <a:lnTo>
                    <a:pt x="780" y="2580"/>
                  </a:lnTo>
                  <a:lnTo>
                    <a:pt x="1027" y="2210"/>
                  </a:lnTo>
                  <a:lnTo>
                    <a:pt x="1053" y="2712"/>
                  </a:lnTo>
                  <a:lnTo>
                    <a:pt x="1027" y="3008"/>
                  </a:lnTo>
                  <a:lnTo>
                    <a:pt x="3158" y="3008"/>
                  </a:lnTo>
                  <a:lnTo>
                    <a:pt x="2999" y="2682"/>
                  </a:lnTo>
                  <a:lnTo>
                    <a:pt x="2920" y="2399"/>
                  </a:lnTo>
                  <a:lnTo>
                    <a:pt x="2907" y="1989"/>
                  </a:lnTo>
                  <a:lnTo>
                    <a:pt x="3030" y="2082"/>
                  </a:lnTo>
                  <a:lnTo>
                    <a:pt x="3158" y="2082"/>
                  </a:lnTo>
                  <a:lnTo>
                    <a:pt x="3330" y="1972"/>
                  </a:lnTo>
                  <a:lnTo>
                    <a:pt x="3449" y="1958"/>
                  </a:lnTo>
                  <a:lnTo>
                    <a:pt x="3515" y="1853"/>
                  </a:lnTo>
                  <a:lnTo>
                    <a:pt x="3568" y="1562"/>
                  </a:lnTo>
                  <a:lnTo>
                    <a:pt x="3674" y="1446"/>
                  </a:lnTo>
                  <a:lnTo>
                    <a:pt x="3621" y="1362"/>
                  </a:lnTo>
                  <a:lnTo>
                    <a:pt x="3542" y="1362"/>
                  </a:lnTo>
                  <a:lnTo>
                    <a:pt x="3475" y="1424"/>
                  </a:lnTo>
                  <a:lnTo>
                    <a:pt x="3414" y="1437"/>
                  </a:lnTo>
                  <a:lnTo>
                    <a:pt x="3339" y="1362"/>
                  </a:lnTo>
                  <a:lnTo>
                    <a:pt x="3250" y="1344"/>
                  </a:lnTo>
                  <a:lnTo>
                    <a:pt x="3083" y="1247"/>
                  </a:lnTo>
                  <a:lnTo>
                    <a:pt x="2977" y="1128"/>
                  </a:lnTo>
                  <a:lnTo>
                    <a:pt x="2959" y="996"/>
                  </a:lnTo>
                  <a:lnTo>
                    <a:pt x="2977" y="859"/>
                  </a:lnTo>
                  <a:lnTo>
                    <a:pt x="3052" y="749"/>
                  </a:lnTo>
                  <a:lnTo>
                    <a:pt x="3136" y="652"/>
                  </a:lnTo>
                  <a:lnTo>
                    <a:pt x="3127" y="480"/>
                  </a:lnTo>
                  <a:lnTo>
                    <a:pt x="3127" y="357"/>
                  </a:lnTo>
                  <a:lnTo>
                    <a:pt x="3083" y="264"/>
                  </a:lnTo>
                  <a:lnTo>
                    <a:pt x="2959" y="224"/>
                  </a:lnTo>
                  <a:lnTo>
                    <a:pt x="2915" y="202"/>
                  </a:lnTo>
                  <a:lnTo>
                    <a:pt x="2832" y="52"/>
                  </a:lnTo>
                  <a:lnTo>
                    <a:pt x="2757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01"/>
                  </a:lnTo>
                  <a:lnTo>
                    <a:pt x="2483" y="154"/>
                  </a:lnTo>
                  <a:lnTo>
                    <a:pt x="2395" y="167"/>
                  </a:lnTo>
                  <a:lnTo>
                    <a:pt x="2289" y="167"/>
                  </a:lnTo>
                  <a:lnTo>
                    <a:pt x="2307" y="313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80"/>
                  </a:lnTo>
                  <a:lnTo>
                    <a:pt x="2082" y="1005"/>
                  </a:lnTo>
                  <a:lnTo>
                    <a:pt x="1994" y="1274"/>
                  </a:lnTo>
                  <a:lnTo>
                    <a:pt x="1989" y="1437"/>
                  </a:lnTo>
                  <a:lnTo>
                    <a:pt x="1941" y="1575"/>
                  </a:lnTo>
                  <a:lnTo>
                    <a:pt x="1888" y="1711"/>
                  </a:lnTo>
                  <a:lnTo>
                    <a:pt x="1861" y="1932"/>
                  </a:lnTo>
                  <a:lnTo>
                    <a:pt x="1875" y="2113"/>
                  </a:lnTo>
                  <a:lnTo>
                    <a:pt x="1941" y="2324"/>
                  </a:lnTo>
                  <a:lnTo>
                    <a:pt x="1989" y="2399"/>
                  </a:lnTo>
                  <a:lnTo>
                    <a:pt x="1861" y="2483"/>
                  </a:lnTo>
                  <a:lnTo>
                    <a:pt x="1715" y="2532"/>
                  </a:lnTo>
                  <a:lnTo>
                    <a:pt x="1547" y="2545"/>
                  </a:lnTo>
                  <a:lnTo>
                    <a:pt x="1450" y="2545"/>
                  </a:lnTo>
                  <a:lnTo>
                    <a:pt x="1384" y="2523"/>
                  </a:lnTo>
                  <a:lnTo>
                    <a:pt x="1384" y="2338"/>
                  </a:lnTo>
                  <a:lnTo>
                    <a:pt x="1384" y="2073"/>
                  </a:lnTo>
                  <a:lnTo>
                    <a:pt x="1344" y="1808"/>
                  </a:lnTo>
                  <a:lnTo>
                    <a:pt x="1278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49" y="590"/>
                  </a:lnTo>
                  <a:lnTo>
                    <a:pt x="1322" y="432"/>
                  </a:lnTo>
                  <a:lnTo>
                    <a:pt x="1322" y="304"/>
                  </a:lnTo>
                  <a:lnTo>
                    <a:pt x="1344" y="264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2960" y="118908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0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0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69"/>
                  </a:lnTo>
                  <a:lnTo>
                    <a:pt x="101" y="1407"/>
                  </a:lnTo>
                  <a:lnTo>
                    <a:pt x="101" y="1545"/>
                  </a:lnTo>
                  <a:lnTo>
                    <a:pt x="52" y="1712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67" y="1752"/>
                  </a:lnTo>
                  <a:lnTo>
                    <a:pt x="455" y="1536"/>
                  </a:lnTo>
                  <a:lnTo>
                    <a:pt x="464" y="1425"/>
                  </a:lnTo>
                  <a:lnTo>
                    <a:pt x="393" y="1209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06"/>
                  </a:lnTo>
                  <a:lnTo>
                    <a:pt x="300" y="587"/>
                  </a:lnTo>
                  <a:lnTo>
                    <a:pt x="367" y="427"/>
                  </a:lnTo>
                  <a:lnTo>
                    <a:pt x="367" y="366"/>
                  </a:lnTo>
                  <a:lnTo>
                    <a:pt x="340" y="299"/>
                  </a:lnTo>
                  <a:lnTo>
                    <a:pt x="424" y="220"/>
                  </a:lnTo>
                  <a:lnTo>
                    <a:pt x="424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40" y="427"/>
                  </a:lnTo>
                  <a:lnTo>
                    <a:pt x="247" y="605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68"/>
                  </a:lnTo>
                  <a:lnTo>
                    <a:pt x="393" y="1523"/>
                  </a:lnTo>
                  <a:lnTo>
                    <a:pt x="349" y="1712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05" y="1712"/>
                  </a:lnTo>
                  <a:lnTo>
                    <a:pt x="119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5" y="896"/>
                  </a:lnTo>
                  <a:lnTo>
                    <a:pt x="52" y="697"/>
                  </a:lnTo>
                  <a:lnTo>
                    <a:pt x="101" y="508"/>
                  </a:lnTo>
                  <a:lnTo>
                    <a:pt x="194" y="313"/>
                  </a:lnTo>
                  <a:lnTo>
                    <a:pt x="105" y="233"/>
                  </a:lnTo>
                  <a:lnTo>
                    <a:pt x="101" y="97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39240" y="368280"/>
              <a:ext cx="262440" cy="343440"/>
            </a:xfrm>
            <a:custGeom>
              <a:avLst/>
              <a:gdLst/>
              <a:ahLst/>
              <a:rect l="0" t="0" r="r" b="b"/>
              <a:pathLst>
                <a:path w="729" h="954">
                  <a:moveTo>
                    <a:pt x="123" y="243"/>
                  </a:moveTo>
                  <a:lnTo>
                    <a:pt x="225" y="224"/>
                  </a:lnTo>
                  <a:lnTo>
                    <a:pt x="336" y="229"/>
                  </a:lnTo>
                  <a:lnTo>
                    <a:pt x="415" y="269"/>
                  </a:lnTo>
                  <a:lnTo>
                    <a:pt x="464" y="318"/>
                  </a:lnTo>
                  <a:lnTo>
                    <a:pt x="490" y="375"/>
                  </a:lnTo>
                  <a:lnTo>
                    <a:pt x="490" y="419"/>
                  </a:lnTo>
                  <a:lnTo>
                    <a:pt x="459" y="455"/>
                  </a:lnTo>
                  <a:lnTo>
                    <a:pt x="411" y="477"/>
                  </a:lnTo>
                  <a:lnTo>
                    <a:pt x="358" y="477"/>
                  </a:lnTo>
                  <a:lnTo>
                    <a:pt x="296" y="464"/>
                  </a:lnTo>
                  <a:lnTo>
                    <a:pt x="230" y="424"/>
                  </a:lnTo>
                  <a:lnTo>
                    <a:pt x="180" y="389"/>
                  </a:lnTo>
                  <a:lnTo>
                    <a:pt x="163" y="512"/>
                  </a:lnTo>
                  <a:lnTo>
                    <a:pt x="123" y="591"/>
                  </a:lnTo>
                  <a:lnTo>
                    <a:pt x="0" y="795"/>
                  </a:lnTo>
                  <a:lnTo>
                    <a:pt x="176" y="954"/>
                  </a:lnTo>
                  <a:lnTo>
                    <a:pt x="314" y="693"/>
                  </a:lnTo>
                  <a:lnTo>
                    <a:pt x="459" y="716"/>
                  </a:lnTo>
                  <a:lnTo>
                    <a:pt x="557" y="697"/>
                  </a:lnTo>
                  <a:lnTo>
                    <a:pt x="641" y="640"/>
                  </a:lnTo>
                  <a:lnTo>
                    <a:pt x="703" y="565"/>
                  </a:lnTo>
                  <a:lnTo>
                    <a:pt x="729" y="468"/>
                  </a:lnTo>
                  <a:lnTo>
                    <a:pt x="729" y="367"/>
                  </a:lnTo>
                  <a:lnTo>
                    <a:pt x="703" y="256"/>
                  </a:lnTo>
                  <a:lnTo>
                    <a:pt x="641" y="149"/>
                  </a:lnTo>
                  <a:lnTo>
                    <a:pt x="566" y="66"/>
                  </a:lnTo>
                  <a:lnTo>
                    <a:pt x="472" y="22"/>
                  </a:lnTo>
                  <a:lnTo>
                    <a:pt x="375" y="0"/>
                  </a:lnTo>
                  <a:lnTo>
                    <a:pt x="239" y="0"/>
                  </a:lnTo>
                  <a:lnTo>
                    <a:pt x="97" y="30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1360" y="701640"/>
              <a:ext cx="95760" cy="70200"/>
            </a:xfrm>
            <a:custGeom>
              <a:avLst/>
              <a:gdLst/>
              <a:ahLst/>
              <a:rect l="0" t="0" r="r" b="b"/>
              <a:pathLst>
                <a:path w="266" h="195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35" y="190"/>
                  </a:lnTo>
                  <a:lnTo>
                    <a:pt x="266" y="146"/>
                  </a:lnTo>
                  <a:lnTo>
                    <a:pt x="253" y="106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403960" y="2203560"/>
            <a:ext cx="3441600" cy="359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506920" y="2260440"/>
            <a:ext cx="333216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1.  Dividends p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2.  Cash receipts from s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3.  Decrease in accounts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receiv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4.  Sale of plant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5.  Gain on sale of inves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6.  Issue of stock for plant 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7.  Issue of common 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8.  Net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432160" y="4641840"/>
            <a:ext cx="62294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590920" y="4648320"/>
            <a:ext cx="6075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: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opera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inves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c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financ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d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of noncash investing and financing transaction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t 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3960" y="831960"/>
            <a:ext cx="6002280" cy="336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523880" y="914400"/>
            <a:ext cx="673092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Dividends p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ash receipts from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Decrease in 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ale of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Gain on sale of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Issue of stock for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Issue of common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Net in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752480" y="304920"/>
            <a:ext cx="6010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31720" y="4067280"/>
            <a:ext cx="2122920" cy="2445120"/>
            <a:chOff x="531720" y="4067280"/>
            <a:chExt cx="2122920" cy="2445120"/>
          </a:xfrm>
        </p:grpSpPr>
        <p:sp>
          <p:nvSpPr>
            <p:cNvPr id="748" name=""/>
            <p:cNvSpPr/>
            <p:nvPr/>
          </p:nvSpPr>
          <p:spPr>
            <a:xfrm>
              <a:off x="1001880" y="4259160"/>
              <a:ext cx="779760" cy="1122840"/>
            </a:xfrm>
            <a:custGeom>
              <a:avLst/>
              <a:gdLst/>
              <a:ahLst/>
              <a:rect l="0" t="0" r="r" b="b"/>
              <a:pathLst>
                <a:path w="2166" h="3119">
                  <a:moveTo>
                    <a:pt x="1085" y="0"/>
                  </a:moveTo>
                  <a:lnTo>
                    <a:pt x="1332" y="679"/>
                  </a:lnTo>
                  <a:lnTo>
                    <a:pt x="1495" y="1156"/>
                  </a:lnTo>
                  <a:lnTo>
                    <a:pt x="1469" y="1231"/>
                  </a:lnTo>
                  <a:lnTo>
                    <a:pt x="1310" y="1632"/>
                  </a:lnTo>
                  <a:lnTo>
                    <a:pt x="1248" y="1707"/>
                  </a:lnTo>
                  <a:lnTo>
                    <a:pt x="1262" y="1848"/>
                  </a:lnTo>
                  <a:lnTo>
                    <a:pt x="1143" y="1910"/>
                  </a:lnTo>
                  <a:lnTo>
                    <a:pt x="1036" y="1910"/>
                  </a:lnTo>
                  <a:lnTo>
                    <a:pt x="855" y="1848"/>
                  </a:lnTo>
                  <a:lnTo>
                    <a:pt x="842" y="2016"/>
                  </a:lnTo>
                  <a:lnTo>
                    <a:pt x="1575" y="2201"/>
                  </a:lnTo>
                  <a:lnTo>
                    <a:pt x="1539" y="2025"/>
                  </a:lnTo>
                  <a:lnTo>
                    <a:pt x="1562" y="1848"/>
                  </a:lnTo>
                  <a:lnTo>
                    <a:pt x="1641" y="1725"/>
                  </a:lnTo>
                  <a:lnTo>
                    <a:pt x="1769" y="1725"/>
                  </a:lnTo>
                  <a:lnTo>
                    <a:pt x="1967" y="1791"/>
                  </a:lnTo>
                  <a:lnTo>
                    <a:pt x="2166" y="1910"/>
                  </a:lnTo>
                  <a:lnTo>
                    <a:pt x="1967" y="2108"/>
                  </a:lnTo>
                  <a:lnTo>
                    <a:pt x="1447" y="3119"/>
                  </a:lnTo>
                  <a:lnTo>
                    <a:pt x="811" y="3106"/>
                  </a:lnTo>
                  <a:lnTo>
                    <a:pt x="127" y="1332"/>
                  </a:lnTo>
                  <a:lnTo>
                    <a:pt x="0" y="1006"/>
                  </a:lnTo>
                  <a:lnTo>
                    <a:pt x="0" y="830"/>
                  </a:lnTo>
                  <a:lnTo>
                    <a:pt x="220" y="0"/>
                  </a:lnTo>
                  <a:lnTo>
                    <a:pt x="736" y="3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76400" y="4745160"/>
              <a:ext cx="81360" cy="65520"/>
            </a:xfrm>
            <a:custGeom>
              <a:avLst/>
              <a:gdLst/>
              <a:ahLst/>
              <a:rect l="0" t="0" r="r" b="b"/>
              <a:pathLst>
                <a:path w="226" h="182">
                  <a:moveTo>
                    <a:pt x="80" y="0"/>
                  </a:moveTo>
                  <a:lnTo>
                    <a:pt x="155" y="13"/>
                  </a:lnTo>
                  <a:lnTo>
                    <a:pt x="226" y="165"/>
                  </a:lnTo>
                  <a:lnTo>
                    <a:pt x="44" y="182"/>
                  </a:lnTo>
                  <a:lnTo>
                    <a:pt x="0" y="4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67280"/>
              <a:ext cx="574920" cy="527400"/>
            </a:xfrm>
            <a:custGeom>
              <a:avLst/>
              <a:gdLst/>
              <a:ahLst/>
              <a:rect l="0" t="0" r="r" b="b"/>
              <a:pathLst>
                <a:path w="1597" h="1465">
                  <a:moveTo>
                    <a:pt x="1597" y="158"/>
                  </a:moveTo>
                  <a:lnTo>
                    <a:pt x="1491" y="370"/>
                  </a:lnTo>
                  <a:lnTo>
                    <a:pt x="1420" y="454"/>
                  </a:lnTo>
                  <a:lnTo>
                    <a:pt x="1517" y="546"/>
                  </a:lnTo>
                  <a:lnTo>
                    <a:pt x="1588" y="1271"/>
                  </a:lnTo>
                  <a:lnTo>
                    <a:pt x="1385" y="737"/>
                  </a:lnTo>
                  <a:lnTo>
                    <a:pt x="1191" y="564"/>
                  </a:lnTo>
                  <a:lnTo>
                    <a:pt x="784" y="643"/>
                  </a:lnTo>
                  <a:lnTo>
                    <a:pt x="493" y="630"/>
                  </a:lnTo>
                  <a:lnTo>
                    <a:pt x="449" y="852"/>
                  </a:lnTo>
                  <a:lnTo>
                    <a:pt x="463" y="1226"/>
                  </a:lnTo>
                  <a:lnTo>
                    <a:pt x="436" y="1465"/>
                  </a:lnTo>
                  <a:lnTo>
                    <a:pt x="273" y="1407"/>
                  </a:lnTo>
                  <a:lnTo>
                    <a:pt x="0" y="718"/>
                  </a:lnTo>
                  <a:lnTo>
                    <a:pt x="70" y="586"/>
                  </a:lnTo>
                  <a:lnTo>
                    <a:pt x="185" y="427"/>
                  </a:lnTo>
                  <a:lnTo>
                    <a:pt x="308" y="383"/>
                  </a:lnTo>
                  <a:lnTo>
                    <a:pt x="335" y="233"/>
                  </a:lnTo>
                  <a:lnTo>
                    <a:pt x="463" y="83"/>
                  </a:lnTo>
                  <a:lnTo>
                    <a:pt x="612" y="26"/>
                  </a:lnTo>
                  <a:lnTo>
                    <a:pt x="807" y="8"/>
                  </a:lnTo>
                  <a:lnTo>
                    <a:pt x="1006" y="26"/>
                  </a:lnTo>
                  <a:lnTo>
                    <a:pt x="1213" y="83"/>
                  </a:lnTo>
                  <a:lnTo>
                    <a:pt x="1191" y="207"/>
                  </a:lnTo>
                  <a:lnTo>
                    <a:pt x="1248" y="189"/>
                  </a:lnTo>
                  <a:lnTo>
                    <a:pt x="1279" y="0"/>
                  </a:lnTo>
                  <a:lnTo>
                    <a:pt x="1359" y="39"/>
                  </a:lnTo>
                  <a:lnTo>
                    <a:pt x="1293" y="277"/>
                  </a:lnTo>
                  <a:lnTo>
                    <a:pt x="1429" y="39"/>
                  </a:lnTo>
                  <a:lnTo>
                    <a:pt x="1359" y="308"/>
                  </a:lnTo>
                  <a:lnTo>
                    <a:pt x="1526" y="101"/>
                  </a:lnTo>
                  <a:lnTo>
                    <a:pt x="1398" y="370"/>
                  </a:lnTo>
                  <a:lnTo>
                    <a:pt x="1491" y="277"/>
                  </a:lnTo>
                  <a:lnTo>
                    <a:pt x="1535" y="176"/>
                  </a:lnTo>
                  <a:lnTo>
                    <a:pt x="1597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7920" y="4316400"/>
              <a:ext cx="1198800" cy="1349640"/>
            </a:xfrm>
            <a:custGeom>
              <a:avLst/>
              <a:gdLst/>
              <a:ahLst/>
              <a:rect l="0" t="0" r="r" b="b"/>
              <a:pathLst>
                <a:path w="3330" h="3749">
                  <a:moveTo>
                    <a:pt x="3330" y="948"/>
                  </a:moveTo>
                  <a:lnTo>
                    <a:pt x="2571" y="758"/>
                  </a:lnTo>
                  <a:lnTo>
                    <a:pt x="1861" y="423"/>
                  </a:lnTo>
                  <a:lnTo>
                    <a:pt x="1155" y="0"/>
                  </a:lnTo>
                  <a:lnTo>
                    <a:pt x="1027" y="458"/>
                  </a:lnTo>
                  <a:lnTo>
                    <a:pt x="701" y="1371"/>
                  </a:lnTo>
                  <a:lnTo>
                    <a:pt x="586" y="1565"/>
                  </a:lnTo>
                  <a:lnTo>
                    <a:pt x="727" y="1649"/>
                  </a:lnTo>
                  <a:lnTo>
                    <a:pt x="811" y="1750"/>
                  </a:lnTo>
                  <a:lnTo>
                    <a:pt x="749" y="1825"/>
                  </a:lnTo>
                  <a:lnTo>
                    <a:pt x="520" y="1838"/>
                  </a:lnTo>
                  <a:lnTo>
                    <a:pt x="414" y="2069"/>
                  </a:lnTo>
                  <a:lnTo>
                    <a:pt x="158" y="2466"/>
                  </a:lnTo>
                  <a:lnTo>
                    <a:pt x="0" y="2602"/>
                  </a:lnTo>
                  <a:lnTo>
                    <a:pt x="630" y="2854"/>
                  </a:lnTo>
                  <a:lnTo>
                    <a:pt x="1177" y="3273"/>
                  </a:lnTo>
                  <a:lnTo>
                    <a:pt x="1725" y="3599"/>
                  </a:lnTo>
                  <a:lnTo>
                    <a:pt x="1954" y="3749"/>
                  </a:lnTo>
                  <a:lnTo>
                    <a:pt x="2360" y="3105"/>
                  </a:lnTo>
                  <a:lnTo>
                    <a:pt x="2721" y="2333"/>
                  </a:lnTo>
                  <a:lnTo>
                    <a:pt x="3017" y="1658"/>
                  </a:lnTo>
                  <a:lnTo>
                    <a:pt x="3237" y="1164"/>
                  </a:lnTo>
                  <a:lnTo>
                    <a:pt x="3330" y="9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3880" y="4967280"/>
              <a:ext cx="786240" cy="578160"/>
            </a:xfrm>
            <a:custGeom>
              <a:avLst/>
              <a:gdLst/>
              <a:ahLst/>
              <a:rect l="0" t="0" r="r" b="b"/>
              <a:pathLst>
                <a:path w="2184" h="1606">
                  <a:moveTo>
                    <a:pt x="1889" y="233"/>
                  </a:moveTo>
                  <a:lnTo>
                    <a:pt x="1682" y="66"/>
                  </a:lnTo>
                  <a:lnTo>
                    <a:pt x="1398" y="83"/>
                  </a:lnTo>
                  <a:lnTo>
                    <a:pt x="1271" y="0"/>
                  </a:lnTo>
                  <a:lnTo>
                    <a:pt x="1169" y="17"/>
                  </a:lnTo>
                  <a:lnTo>
                    <a:pt x="1191" y="83"/>
                  </a:lnTo>
                  <a:lnTo>
                    <a:pt x="1262" y="202"/>
                  </a:lnTo>
                  <a:lnTo>
                    <a:pt x="1015" y="246"/>
                  </a:lnTo>
                  <a:lnTo>
                    <a:pt x="865" y="83"/>
                  </a:lnTo>
                  <a:lnTo>
                    <a:pt x="816" y="0"/>
                  </a:lnTo>
                  <a:lnTo>
                    <a:pt x="493" y="83"/>
                  </a:lnTo>
                  <a:lnTo>
                    <a:pt x="114" y="83"/>
                  </a:lnTo>
                  <a:lnTo>
                    <a:pt x="0" y="308"/>
                  </a:lnTo>
                  <a:lnTo>
                    <a:pt x="44" y="807"/>
                  </a:lnTo>
                  <a:lnTo>
                    <a:pt x="8" y="852"/>
                  </a:lnTo>
                  <a:lnTo>
                    <a:pt x="101" y="1046"/>
                  </a:lnTo>
                  <a:lnTo>
                    <a:pt x="70" y="1121"/>
                  </a:lnTo>
                  <a:lnTo>
                    <a:pt x="260" y="1606"/>
                  </a:lnTo>
                  <a:lnTo>
                    <a:pt x="2184" y="1107"/>
                  </a:lnTo>
                  <a:lnTo>
                    <a:pt x="1796" y="896"/>
                  </a:lnTo>
                  <a:lnTo>
                    <a:pt x="1592" y="1107"/>
                  </a:lnTo>
                  <a:lnTo>
                    <a:pt x="1143" y="1121"/>
                  </a:lnTo>
                  <a:lnTo>
                    <a:pt x="1112" y="944"/>
                  </a:lnTo>
                  <a:lnTo>
                    <a:pt x="1398" y="838"/>
                  </a:lnTo>
                  <a:lnTo>
                    <a:pt x="1610" y="838"/>
                  </a:lnTo>
                  <a:lnTo>
                    <a:pt x="1526" y="793"/>
                  </a:lnTo>
                  <a:lnTo>
                    <a:pt x="1770" y="568"/>
                  </a:lnTo>
                  <a:lnTo>
                    <a:pt x="1902" y="291"/>
                  </a:lnTo>
                  <a:lnTo>
                    <a:pt x="1889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9680" y="5033880"/>
              <a:ext cx="125640" cy="255960"/>
            </a:xfrm>
            <a:custGeom>
              <a:avLst/>
              <a:gdLst/>
              <a:ahLst/>
              <a:rect l="0" t="0" r="r" b="b"/>
              <a:pathLst>
                <a:path w="349" h="711">
                  <a:moveTo>
                    <a:pt x="114" y="0"/>
                  </a:moveTo>
                  <a:lnTo>
                    <a:pt x="278" y="384"/>
                  </a:lnTo>
                  <a:lnTo>
                    <a:pt x="349" y="654"/>
                  </a:lnTo>
                  <a:lnTo>
                    <a:pt x="136" y="711"/>
                  </a:lnTo>
                  <a:lnTo>
                    <a:pt x="0" y="30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9600" y="5295960"/>
              <a:ext cx="141480" cy="63720"/>
            </a:xfrm>
            <a:custGeom>
              <a:avLst/>
              <a:gdLst/>
              <a:ahLst/>
              <a:rect l="0" t="0" r="r" b="b"/>
              <a:pathLst>
                <a:path w="393" h="177">
                  <a:moveTo>
                    <a:pt x="0" y="106"/>
                  </a:moveTo>
                  <a:lnTo>
                    <a:pt x="292" y="0"/>
                  </a:lnTo>
                  <a:lnTo>
                    <a:pt x="393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7320" y="4782960"/>
              <a:ext cx="136800" cy="59040"/>
            </a:xfrm>
            <a:custGeom>
              <a:avLst/>
              <a:gdLst/>
              <a:ahLst/>
              <a:rect l="0" t="0" r="r" b="b"/>
              <a:pathLst>
                <a:path w="380" h="164">
                  <a:moveTo>
                    <a:pt x="336" y="0"/>
                  </a:moveTo>
                  <a:lnTo>
                    <a:pt x="380" y="89"/>
                  </a:lnTo>
                  <a:lnTo>
                    <a:pt x="336" y="146"/>
                  </a:lnTo>
                  <a:lnTo>
                    <a:pt x="203" y="164"/>
                  </a:lnTo>
                  <a:lnTo>
                    <a:pt x="0" y="89"/>
                  </a:lnTo>
                  <a:lnTo>
                    <a:pt x="274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1000" y="474984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526" y="0"/>
                  </a:moveTo>
                  <a:lnTo>
                    <a:pt x="358" y="30"/>
                  </a:lnTo>
                  <a:lnTo>
                    <a:pt x="212" y="44"/>
                  </a:lnTo>
                  <a:lnTo>
                    <a:pt x="0" y="17"/>
                  </a:lnTo>
                  <a:lnTo>
                    <a:pt x="127" y="182"/>
                  </a:lnTo>
                  <a:lnTo>
                    <a:pt x="380" y="226"/>
                  </a:lnTo>
                  <a:lnTo>
                    <a:pt x="526" y="168"/>
                  </a:lnTo>
                  <a:lnTo>
                    <a:pt x="487" y="137"/>
                  </a:lnTo>
                  <a:lnTo>
                    <a:pt x="513" y="75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03320" y="5273640"/>
              <a:ext cx="924120" cy="313200"/>
            </a:xfrm>
            <a:custGeom>
              <a:avLst/>
              <a:gdLst/>
              <a:ahLst/>
              <a:rect l="0" t="0" r="r" b="b"/>
              <a:pathLst>
                <a:path w="2567" h="870">
                  <a:moveTo>
                    <a:pt x="2320" y="17"/>
                  </a:moveTo>
                  <a:lnTo>
                    <a:pt x="1879" y="52"/>
                  </a:lnTo>
                  <a:lnTo>
                    <a:pt x="1456" y="202"/>
                  </a:lnTo>
                  <a:lnTo>
                    <a:pt x="965" y="202"/>
                  </a:lnTo>
                  <a:lnTo>
                    <a:pt x="405" y="101"/>
                  </a:lnTo>
                  <a:lnTo>
                    <a:pt x="97" y="0"/>
                  </a:lnTo>
                  <a:lnTo>
                    <a:pt x="295" y="230"/>
                  </a:lnTo>
                  <a:lnTo>
                    <a:pt x="0" y="176"/>
                  </a:lnTo>
                  <a:lnTo>
                    <a:pt x="176" y="358"/>
                  </a:lnTo>
                  <a:lnTo>
                    <a:pt x="0" y="609"/>
                  </a:lnTo>
                  <a:lnTo>
                    <a:pt x="449" y="795"/>
                  </a:lnTo>
                  <a:lnTo>
                    <a:pt x="2413" y="870"/>
                  </a:lnTo>
                  <a:lnTo>
                    <a:pt x="2567" y="694"/>
                  </a:lnTo>
                  <a:lnTo>
                    <a:pt x="2342" y="521"/>
                  </a:lnTo>
                  <a:lnTo>
                    <a:pt x="2496" y="344"/>
                  </a:lnTo>
                  <a:lnTo>
                    <a:pt x="2249" y="300"/>
                  </a:lnTo>
                  <a:lnTo>
                    <a:pt x="2399" y="105"/>
                  </a:lnTo>
                  <a:lnTo>
                    <a:pt x="2249" y="149"/>
                  </a:lnTo>
                  <a:lnTo>
                    <a:pt x="2174" y="149"/>
                  </a:lnTo>
                  <a:lnTo>
                    <a:pt x="232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5960" y="6297480"/>
              <a:ext cx="527400" cy="186120"/>
            </a:xfrm>
            <a:custGeom>
              <a:avLst/>
              <a:gdLst/>
              <a:ahLst/>
              <a:rect l="0" t="0" r="r" b="b"/>
              <a:pathLst>
                <a:path w="1465" h="517">
                  <a:moveTo>
                    <a:pt x="1465" y="261"/>
                  </a:moveTo>
                  <a:lnTo>
                    <a:pt x="812" y="0"/>
                  </a:lnTo>
                  <a:lnTo>
                    <a:pt x="476" y="287"/>
                  </a:lnTo>
                  <a:lnTo>
                    <a:pt x="0" y="394"/>
                  </a:lnTo>
                  <a:lnTo>
                    <a:pt x="154" y="491"/>
                  </a:lnTo>
                  <a:lnTo>
                    <a:pt x="1129" y="517"/>
                  </a:lnTo>
                  <a:lnTo>
                    <a:pt x="146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81080" y="5559480"/>
              <a:ext cx="838440" cy="951120"/>
            </a:xfrm>
            <a:custGeom>
              <a:avLst/>
              <a:gdLst/>
              <a:ahLst/>
              <a:rect l="0" t="0" r="r" b="b"/>
              <a:pathLst>
                <a:path w="2329" h="2642">
                  <a:moveTo>
                    <a:pt x="2311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73" y="657"/>
                  </a:lnTo>
                  <a:lnTo>
                    <a:pt x="295" y="2263"/>
                  </a:lnTo>
                  <a:lnTo>
                    <a:pt x="551" y="2289"/>
                  </a:lnTo>
                  <a:lnTo>
                    <a:pt x="551" y="2593"/>
                  </a:lnTo>
                  <a:lnTo>
                    <a:pt x="1831" y="2642"/>
                  </a:lnTo>
                  <a:lnTo>
                    <a:pt x="1817" y="2236"/>
                  </a:lnTo>
                  <a:lnTo>
                    <a:pt x="2077" y="2236"/>
                  </a:lnTo>
                  <a:lnTo>
                    <a:pt x="2117" y="608"/>
                  </a:lnTo>
                  <a:lnTo>
                    <a:pt x="2294" y="454"/>
                  </a:lnTo>
                  <a:lnTo>
                    <a:pt x="2329" y="194"/>
                  </a:lnTo>
                  <a:lnTo>
                    <a:pt x="2311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5880" y="5337000"/>
              <a:ext cx="36720" cy="241560"/>
            </a:xfrm>
            <a:custGeom>
              <a:avLst/>
              <a:gdLst/>
              <a:ahLst/>
              <a:rect l="0" t="0" r="r" b="b"/>
              <a:pathLst>
                <a:path w="102" h="671">
                  <a:moveTo>
                    <a:pt x="102" y="154"/>
                  </a:moveTo>
                  <a:lnTo>
                    <a:pt x="102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10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6288120"/>
              <a:ext cx="619560" cy="167040"/>
            </a:xfrm>
            <a:custGeom>
              <a:avLst/>
              <a:gdLst/>
              <a:ahLst/>
              <a:rect l="0" t="0" r="r" b="b"/>
              <a:pathLst>
                <a:path w="1721" h="464">
                  <a:moveTo>
                    <a:pt x="1721" y="340"/>
                  </a:moveTo>
                  <a:lnTo>
                    <a:pt x="1266" y="340"/>
                  </a:lnTo>
                  <a:lnTo>
                    <a:pt x="904" y="79"/>
                  </a:lnTo>
                  <a:lnTo>
                    <a:pt x="472" y="79"/>
                  </a:lnTo>
                  <a:lnTo>
                    <a:pt x="0" y="0"/>
                  </a:lnTo>
                  <a:lnTo>
                    <a:pt x="352" y="239"/>
                  </a:lnTo>
                  <a:lnTo>
                    <a:pt x="922" y="419"/>
                  </a:lnTo>
                  <a:lnTo>
                    <a:pt x="1209" y="464"/>
                  </a:lnTo>
                  <a:lnTo>
                    <a:pt x="1721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935000" y="6337440"/>
              <a:ext cx="321120" cy="128880"/>
            </a:xfrm>
            <a:custGeom>
              <a:avLst/>
              <a:gdLst/>
              <a:ahLst/>
              <a:rect l="0" t="0" r="r" b="b"/>
              <a:pathLst>
                <a:path w="892" h="358">
                  <a:moveTo>
                    <a:pt x="892" y="127"/>
                  </a:moveTo>
                  <a:lnTo>
                    <a:pt x="450" y="127"/>
                  </a:lnTo>
                  <a:lnTo>
                    <a:pt x="0" y="0"/>
                  </a:lnTo>
                  <a:lnTo>
                    <a:pt x="74" y="252"/>
                  </a:lnTo>
                  <a:lnTo>
                    <a:pt x="433" y="358"/>
                  </a:lnTo>
                  <a:lnTo>
                    <a:pt x="729" y="230"/>
                  </a:lnTo>
                  <a:lnTo>
                    <a:pt x="892" y="1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39880" y="6288120"/>
              <a:ext cx="167040" cy="159120"/>
            </a:xfrm>
            <a:custGeom>
              <a:avLst/>
              <a:gdLst/>
              <a:ahLst/>
              <a:rect l="0" t="0" r="r" b="b"/>
              <a:pathLst>
                <a:path w="464" h="442">
                  <a:moveTo>
                    <a:pt x="39" y="0"/>
                  </a:moveTo>
                  <a:lnTo>
                    <a:pt x="305" y="164"/>
                  </a:lnTo>
                  <a:lnTo>
                    <a:pt x="424" y="287"/>
                  </a:lnTo>
                  <a:lnTo>
                    <a:pt x="464" y="442"/>
                  </a:lnTo>
                  <a:lnTo>
                    <a:pt x="402" y="442"/>
                  </a:lnTo>
                  <a:lnTo>
                    <a:pt x="344" y="314"/>
                  </a:lnTo>
                  <a:lnTo>
                    <a:pt x="207" y="190"/>
                  </a:lnTo>
                  <a:lnTo>
                    <a:pt x="0" y="5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1600" y="5897520"/>
              <a:ext cx="114840" cy="267120"/>
            </a:xfrm>
            <a:custGeom>
              <a:avLst/>
              <a:gdLst/>
              <a:ahLst/>
              <a:rect l="0" t="0" r="r" b="b"/>
              <a:pathLst>
                <a:path w="319" h="742">
                  <a:moveTo>
                    <a:pt x="111" y="74"/>
                  </a:moveTo>
                  <a:lnTo>
                    <a:pt x="146" y="402"/>
                  </a:lnTo>
                  <a:lnTo>
                    <a:pt x="319" y="667"/>
                  </a:lnTo>
                  <a:lnTo>
                    <a:pt x="297" y="742"/>
                  </a:lnTo>
                  <a:lnTo>
                    <a:pt x="111" y="530"/>
                  </a:lnTo>
                  <a:lnTo>
                    <a:pt x="0" y="199"/>
                  </a:lnTo>
                  <a:lnTo>
                    <a:pt x="30" y="0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49440" y="5146560"/>
              <a:ext cx="271800" cy="576720"/>
            </a:xfrm>
            <a:custGeom>
              <a:avLst/>
              <a:gdLst/>
              <a:ahLst/>
              <a:rect l="0" t="0" r="r" b="b"/>
              <a:pathLst>
                <a:path w="755" h="1602">
                  <a:moveTo>
                    <a:pt x="649" y="1223"/>
                  </a:moveTo>
                  <a:lnTo>
                    <a:pt x="547" y="1417"/>
                  </a:lnTo>
                  <a:lnTo>
                    <a:pt x="0" y="1602"/>
                  </a:lnTo>
                  <a:lnTo>
                    <a:pt x="97" y="1470"/>
                  </a:lnTo>
                  <a:lnTo>
                    <a:pt x="587" y="1249"/>
                  </a:lnTo>
                  <a:lnTo>
                    <a:pt x="688" y="993"/>
                  </a:lnTo>
                  <a:lnTo>
                    <a:pt x="569" y="710"/>
                  </a:lnTo>
                  <a:lnTo>
                    <a:pt x="516" y="684"/>
                  </a:lnTo>
                  <a:lnTo>
                    <a:pt x="57" y="127"/>
                  </a:lnTo>
                  <a:lnTo>
                    <a:pt x="97" y="0"/>
                  </a:lnTo>
                  <a:lnTo>
                    <a:pt x="242" y="0"/>
                  </a:lnTo>
                  <a:lnTo>
                    <a:pt x="688" y="609"/>
                  </a:lnTo>
                  <a:lnTo>
                    <a:pt x="649" y="710"/>
                  </a:lnTo>
                  <a:lnTo>
                    <a:pt x="755" y="935"/>
                  </a:lnTo>
                  <a:lnTo>
                    <a:pt x="737" y="1125"/>
                  </a:lnTo>
                  <a:lnTo>
                    <a:pt x="649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69960" y="5137200"/>
              <a:ext cx="178200" cy="265320"/>
            </a:xfrm>
            <a:custGeom>
              <a:avLst/>
              <a:gdLst/>
              <a:ahLst/>
              <a:rect l="0" t="0" r="r" b="b"/>
              <a:pathLst>
                <a:path w="495" h="737">
                  <a:moveTo>
                    <a:pt x="105" y="0"/>
                  </a:moveTo>
                  <a:lnTo>
                    <a:pt x="39" y="26"/>
                  </a:lnTo>
                  <a:lnTo>
                    <a:pt x="22" y="79"/>
                  </a:lnTo>
                  <a:lnTo>
                    <a:pt x="0" y="127"/>
                  </a:lnTo>
                  <a:lnTo>
                    <a:pt x="39" y="202"/>
                  </a:lnTo>
                  <a:lnTo>
                    <a:pt x="460" y="737"/>
                  </a:lnTo>
                  <a:lnTo>
                    <a:pt x="442" y="658"/>
                  </a:lnTo>
                  <a:lnTo>
                    <a:pt x="460" y="609"/>
                  </a:lnTo>
                  <a:lnTo>
                    <a:pt x="495" y="583"/>
                  </a:lnTo>
                  <a:lnTo>
                    <a:pt x="425" y="486"/>
                  </a:lnTo>
                  <a:lnTo>
                    <a:pt x="362" y="534"/>
                  </a:lnTo>
                  <a:lnTo>
                    <a:pt x="105" y="202"/>
                  </a:lnTo>
                  <a:lnTo>
                    <a:pt x="105" y="127"/>
                  </a:lnTo>
                  <a:lnTo>
                    <a:pt x="146" y="10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31760" y="5256360"/>
              <a:ext cx="627480" cy="117720"/>
            </a:xfrm>
            <a:custGeom>
              <a:avLst/>
              <a:gdLst/>
              <a:ahLst/>
              <a:rect l="0" t="0" r="r" b="b"/>
              <a:pathLst>
                <a:path w="1743" h="327">
                  <a:moveTo>
                    <a:pt x="1743" y="177"/>
                  </a:moveTo>
                  <a:lnTo>
                    <a:pt x="1457" y="225"/>
                  </a:lnTo>
                  <a:lnTo>
                    <a:pt x="1121" y="252"/>
                  </a:lnTo>
                  <a:lnTo>
                    <a:pt x="728" y="225"/>
                  </a:lnTo>
                  <a:lnTo>
                    <a:pt x="472" y="177"/>
                  </a:lnTo>
                  <a:lnTo>
                    <a:pt x="268" y="127"/>
                  </a:lnTo>
                  <a:lnTo>
                    <a:pt x="136" y="74"/>
                  </a:lnTo>
                  <a:lnTo>
                    <a:pt x="0" y="0"/>
                  </a:lnTo>
                  <a:lnTo>
                    <a:pt x="286" y="327"/>
                  </a:lnTo>
                  <a:lnTo>
                    <a:pt x="158" y="101"/>
                  </a:lnTo>
                  <a:lnTo>
                    <a:pt x="410" y="203"/>
                  </a:lnTo>
                  <a:lnTo>
                    <a:pt x="768" y="278"/>
                  </a:lnTo>
                  <a:lnTo>
                    <a:pt x="1121" y="305"/>
                  </a:lnTo>
                  <a:lnTo>
                    <a:pt x="1457" y="252"/>
                  </a:lnTo>
                  <a:lnTo>
                    <a:pt x="1743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60480" y="5402160"/>
              <a:ext cx="719640" cy="349560"/>
            </a:xfrm>
            <a:custGeom>
              <a:avLst/>
              <a:gdLst/>
              <a:ahLst/>
              <a:rect l="0" t="0" r="r" b="b"/>
              <a:pathLst>
                <a:path w="1999" h="971">
                  <a:moveTo>
                    <a:pt x="101" y="127"/>
                  </a:moveTo>
                  <a:lnTo>
                    <a:pt x="61" y="388"/>
                  </a:lnTo>
                  <a:lnTo>
                    <a:pt x="0" y="733"/>
                  </a:lnTo>
                  <a:lnTo>
                    <a:pt x="335" y="838"/>
                  </a:lnTo>
                  <a:lnTo>
                    <a:pt x="357" y="971"/>
                  </a:lnTo>
                  <a:lnTo>
                    <a:pt x="374" y="944"/>
                  </a:lnTo>
                  <a:lnTo>
                    <a:pt x="374" y="463"/>
                  </a:lnTo>
                  <a:lnTo>
                    <a:pt x="1999" y="463"/>
                  </a:lnTo>
                  <a:lnTo>
                    <a:pt x="1999" y="388"/>
                  </a:lnTo>
                  <a:lnTo>
                    <a:pt x="357" y="361"/>
                  </a:lnTo>
                  <a:lnTo>
                    <a:pt x="485" y="313"/>
                  </a:lnTo>
                  <a:lnTo>
                    <a:pt x="176" y="251"/>
                  </a:lnTo>
                  <a:lnTo>
                    <a:pt x="392" y="251"/>
                  </a:lnTo>
                  <a:lnTo>
                    <a:pt x="198" y="149"/>
                  </a:lnTo>
                  <a:lnTo>
                    <a:pt x="467" y="149"/>
                  </a:lnTo>
                  <a:lnTo>
                    <a:pt x="277" y="0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09800" y="5337000"/>
              <a:ext cx="690840" cy="92520"/>
            </a:xfrm>
            <a:custGeom>
              <a:avLst/>
              <a:gdLst/>
              <a:ahLst/>
              <a:rect l="0" t="0" r="r" b="b"/>
              <a:pathLst>
                <a:path w="1919" h="257">
                  <a:moveTo>
                    <a:pt x="1822" y="80"/>
                  </a:moveTo>
                  <a:lnTo>
                    <a:pt x="1204" y="128"/>
                  </a:lnTo>
                  <a:lnTo>
                    <a:pt x="749" y="128"/>
                  </a:lnTo>
                  <a:lnTo>
                    <a:pt x="436" y="102"/>
                  </a:lnTo>
                  <a:lnTo>
                    <a:pt x="119" y="26"/>
                  </a:lnTo>
                  <a:lnTo>
                    <a:pt x="0" y="0"/>
                  </a:lnTo>
                  <a:lnTo>
                    <a:pt x="119" y="80"/>
                  </a:lnTo>
                  <a:lnTo>
                    <a:pt x="533" y="155"/>
                  </a:lnTo>
                  <a:lnTo>
                    <a:pt x="1076" y="181"/>
                  </a:lnTo>
                  <a:lnTo>
                    <a:pt x="198" y="181"/>
                  </a:lnTo>
                  <a:lnTo>
                    <a:pt x="1010" y="231"/>
                  </a:lnTo>
                  <a:lnTo>
                    <a:pt x="1517" y="231"/>
                  </a:lnTo>
                  <a:lnTo>
                    <a:pt x="1919" y="257"/>
                  </a:lnTo>
                  <a:lnTo>
                    <a:pt x="1301" y="181"/>
                  </a:lnTo>
                  <a:lnTo>
                    <a:pt x="1822" y="8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85880" y="5346720"/>
              <a:ext cx="28800" cy="232200"/>
            </a:xfrm>
            <a:custGeom>
              <a:avLst/>
              <a:gdLst/>
              <a:ahLst/>
              <a:rect l="0" t="0" r="r" b="b"/>
              <a:pathLst>
                <a:path w="80" h="645">
                  <a:moveTo>
                    <a:pt x="0" y="0"/>
                  </a:moveTo>
                  <a:lnTo>
                    <a:pt x="0" y="645"/>
                  </a:lnTo>
                  <a:lnTo>
                    <a:pt x="80" y="645"/>
                  </a:lnTo>
                  <a:lnTo>
                    <a:pt x="8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36600" y="5392800"/>
              <a:ext cx="682920" cy="1119600"/>
            </a:xfrm>
            <a:custGeom>
              <a:avLst/>
              <a:gdLst/>
              <a:ahLst/>
              <a:rect l="0" t="0" r="r" b="b"/>
              <a:pathLst>
                <a:path w="1897" h="3110">
                  <a:moveTo>
                    <a:pt x="1495" y="52"/>
                  </a:moveTo>
                  <a:lnTo>
                    <a:pt x="1623" y="224"/>
                  </a:lnTo>
                  <a:lnTo>
                    <a:pt x="1623" y="361"/>
                  </a:lnTo>
                  <a:lnTo>
                    <a:pt x="1584" y="489"/>
                  </a:lnTo>
                  <a:lnTo>
                    <a:pt x="1438" y="586"/>
                  </a:lnTo>
                  <a:lnTo>
                    <a:pt x="1156" y="709"/>
                  </a:lnTo>
                  <a:lnTo>
                    <a:pt x="886" y="812"/>
                  </a:lnTo>
                  <a:lnTo>
                    <a:pt x="670" y="922"/>
                  </a:lnTo>
                  <a:lnTo>
                    <a:pt x="485" y="1099"/>
                  </a:lnTo>
                  <a:lnTo>
                    <a:pt x="379" y="1301"/>
                  </a:lnTo>
                  <a:lnTo>
                    <a:pt x="357" y="1478"/>
                  </a:lnTo>
                  <a:lnTo>
                    <a:pt x="405" y="1729"/>
                  </a:lnTo>
                  <a:lnTo>
                    <a:pt x="537" y="1985"/>
                  </a:lnTo>
                  <a:lnTo>
                    <a:pt x="648" y="2144"/>
                  </a:lnTo>
                  <a:lnTo>
                    <a:pt x="846" y="2294"/>
                  </a:lnTo>
                  <a:lnTo>
                    <a:pt x="1094" y="2418"/>
                  </a:lnTo>
                  <a:lnTo>
                    <a:pt x="1288" y="2519"/>
                  </a:lnTo>
                  <a:lnTo>
                    <a:pt x="1473" y="2603"/>
                  </a:lnTo>
                  <a:lnTo>
                    <a:pt x="1645" y="2700"/>
                  </a:lnTo>
                  <a:lnTo>
                    <a:pt x="1764" y="2833"/>
                  </a:lnTo>
                  <a:lnTo>
                    <a:pt x="1782" y="2930"/>
                  </a:lnTo>
                  <a:lnTo>
                    <a:pt x="1703" y="2982"/>
                  </a:lnTo>
                  <a:lnTo>
                    <a:pt x="1584" y="2956"/>
                  </a:lnTo>
                  <a:lnTo>
                    <a:pt x="1473" y="2908"/>
                  </a:lnTo>
                  <a:lnTo>
                    <a:pt x="1398" y="2908"/>
                  </a:lnTo>
                  <a:lnTo>
                    <a:pt x="1438" y="2700"/>
                  </a:lnTo>
                  <a:lnTo>
                    <a:pt x="97" y="2700"/>
                  </a:lnTo>
                  <a:lnTo>
                    <a:pt x="97" y="3009"/>
                  </a:lnTo>
                  <a:lnTo>
                    <a:pt x="0" y="3057"/>
                  </a:lnTo>
                  <a:lnTo>
                    <a:pt x="39" y="3110"/>
                  </a:lnTo>
                  <a:lnTo>
                    <a:pt x="1456" y="3110"/>
                  </a:lnTo>
                  <a:lnTo>
                    <a:pt x="1368" y="3031"/>
                  </a:lnTo>
                  <a:lnTo>
                    <a:pt x="141" y="3009"/>
                  </a:lnTo>
                  <a:lnTo>
                    <a:pt x="141" y="2956"/>
                  </a:lnTo>
                  <a:lnTo>
                    <a:pt x="1398" y="2956"/>
                  </a:lnTo>
                  <a:lnTo>
                    <a:pt x="1517" y="2982"/>
                  </a:lnTo>
                  <a:lnTo>
                    <a:pt x="1685" y="3031"/>
                  </a:lnTo>
                  <a:lnTo>
                    <a:pt x="1764" y="3057"/>
                  </a:lnTo>
                  <a:lnTo>
                    <a:pt x="1861" y="3009"/>
                  </a:lnTo>
                  <a:lnTo>
                    <a:pt x="1897" y="2956"/>
                  </a:lnTo>
                  <a:lnTo>
                    <a:pt x="1883" y="2855"/>
                  </a:lnTo>
                  <a:lnTo>
                    <a:pt x="1822" y="2780"/>
                  </a:lnTo>
                  <a:lnTo>
                    <a:pt x="1764" y="2802"/>
                  </a:lnTo>
                  <a:lnTo>
                    <a:pt x="1606" y="2652"/>
                  </a:lnTo>
                  <a:lnTo>
                    <a:pt x="1456" y="2568"/>
                  </a:lnTo>
                  <a:lnTo>
                    <a:pt x="1473" y="2519"/>
                  </a:lnTo>
                  <a:lnTo>
                    <a:pt x="1685" y="2625"/>
                  </a:lnTo>
                  <a:lnTo>
                    <a:pt x="1438" y="2467"/>
                  </a:lnTo>
                  <a:lnTo>
                    <a:pt x="1112" y="2339"/>
                  </a:lnTo>
                  <a:lnTo>
                    <a:pt x="824" y="2170"/>
                  </a:lnTo>
                  <a:lnTo>
                    <a:pt x="590" y="1910"/>
                  </a:lnTo>
                  <a:lnTo>
                    <a:pt x="670" y="2047"/>
                  </a:lnTo>
                  <a:lnTo>
                    <a:pt x="608" y="2047"/>
                  </a:lnTo>
                  <a:lnTo>
                    <a:pt x="423" y="1707"/>
                  </a:lnTo>
                  <a:lnTo>
                    <a:pt x="423" y="1504"/>
                  </a:lnTo>
                  <a:lnTo>
                    <a:pt x="463" y="1478"/>
                  </a:lnTo>
                  <a:lnTo>
                    <a:pt x="520" y="1707"/>
                  </a:lnTo>
                  <a:lnTo>
                    <a:pt x="485" y="1403"/>
                  </a:lnTo>
                  <a:lnTo>
                    <a:pt x="520" y="1253"/>
                  </a:lnTo>
                  <a:lnTo>
                    <a:pt x="573" y="1125"/>
                  </a:lnTo>
                  <a:lnTo>
                    <a:pt x="692" y="1024"/>
                  </a:lnTo>
                  <a:lnTo>
                    <a:pt x="886" y="949"/>
                  </a:lnTo>
                  <a:lnTo>
                    <a:pt x="1385" y="758"/>
                  </a:lnTo>
                  <a:lnTo>
                    <a:pt x="949" y="922"/>
                  </a:lnTo>
                  <a:lnTo>
                    <a:pt x="1015" y="812"/>
                  </a:lnTo>
                  <a:lnTo>
                    <a:pt x="1473" y="586"/>
                  </a:lnTo>
                  <a:lnTo>
                    <a:pt x="1495" y="657"/>
                  </a:lnTo>
                  <a:lnTo>
                    <a:pt x="1456" y="709"/>
                  </a:lnTo>
                  <a:lnTo>
                    <a:pt x="1584" y="564"/>
                  </a:lnTo>
                  <a:lnTo>
                    <a:pt x="1645" y="414"/>
                  </a:lnTo>
                  <a:lnTo>
                    <a:pt x="1663" y="255"/>
                  </a:lnTo>
                  <a:lnTo>
                    <a:pt x="1606" y="101"/>
                  </a:lnTo>
                  <a:lnTo>
                    <a:pt x="1495" y="0"/>
                  </a:lnTo>
                  <a:lnTo>
                    <a:pt x="1495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0280" y="5742000"/>
              <a:ext cx="476640" cy="557640"/>
            </a:xfrm>
            <a:custGeom>
              <a:avLst/>
              <a:gdLst/>
              <a:ahLst/>
              <a:rect l="0" t="0" r="r" b="b"/>
              <a:pathLst>
                <a:path w="1324" h="1549">
                  <a:moveTo>
                    <a:pt x="1324" y="0"/>
                  </a:moveTo>
                  <a:lnTo>
                    <a:pt x="411" y="0"/>
                  </a:lnTo>
                  <a:lnTo>
                    <a:pt x="110" y="127"/>
                  </a:lnTo>
                  <a:lnTo>
                    <a:pt x="0" y="299"/>
                  </a:lnTo>
                  <a:lnTo>
                    <a:pt x="52" y="330"/>
                  </a:lnTo>
                  <a:lnTo>
                    <a:pt x="110" y="609"/>
                  </a:lnTo>
                  <a:lnTo>
                    <a:pt x="132" y="887"/>
                  </a:lnTo>
                  <a:lnTo>
                    <a:pt x="171" y="1125"/>
                  </a:lnTo>
                  <a:lnTo>
                    <a:pt x="194" y="940"/>
                  </a:lnTo>
                  <a:lnTo>
                    <a:pt x="171" y="684"/>
                  </a:lnTo>
                  <a:lnTo>
                    <a:pt x="154" y="481"/>
                  </a:lnTo>
                  <a:lnTo>
                    <a:pt x="132" y="330"/>
                  </a:lnTo>
                  <a:lnTo>
                    <a:pt x="132" y="255"/>
                  </a:lnTo>
                  <a:lnTo>
                    <a:pt x="211" y="202"/>
                  </a:lnTo>
                  <a:lnTo>
                    <a:pt x="251" y="282"/>
                  </a:lnTo>
                  <a:lnTo>
                    <a:pt x="286" y="662"/>
                  </a:lnTo>
                  <a:lnTo>
                    <a:pt x="286" y="1174"/>
                  </a:lnTo>
                  <a:lnTo>
                    <a:pt x="286" y="357"/>
                  </a:lnTo>
                  <a:lnTo>
                    <a:pt x="618" y="379"/>
                  </a:lnTo>
                  <a:lnTo>
                    <a:pt x="653" y="534"/>
                  </a:lnTo>
                  <a:lnTo>
                    <a:pt x="671" y="940"/>
                  </a:lnTo>
                  <a:lnTo>
                    <a:pt x="693" y="1395"/>
                  </a:lnTo>
                  <a:lnTo>
                    <a:pt x="710" y="662"/>
                  </a:lnTo>
                  <a:lnTo>
                    <a:pt x="710" y="379"/>
                  </a:lnTo>
                  <a:lnTo>
                    <a:pt x="693" y="255"/>
                  </a:lnTo>
                  <a:lnTo>
                    <a:pt x="772" y="202"/>
                  </a:lnTo>
                  <a:lnTo>
                    <a:pt x="830" y="255"/>
                  </a:lnTo>
                  <a:lnTo>
                    <a:pt x="830" y="357"/>
                  </a:lnTo>
                  <a:lnTo>
                    <a:pt x="790" y="1324"/>
                  </a:lnTo>
                  <a:lnTo>
                    <a:pt x="882" y="379"/>
                  </a:lnTo>
                  <a:lnTo>
                    <a:pt x="979" y="379"/>
                  </a:lnTo>
                  <a:lnTo>
                    <a:pt x="1069" y="406"/>
                  </a:lnTo>
                  <a:lnTo>
                    <a:pt x="1108" y="433"/>
                  </a:lnTo>
                  <a:lnTo>
                    <a:pt x="1126" y="1549"/>
                  </a:lnTo>
                  <a:lnTo>
                    <a:pt x="1166" y="1549"/>
                  </a:lnTo>
                  <a:lnTo>
                    <a:pt x="1205" y="127"/>
                  </a:lnTo>
                  <a:lnTo>
                    <a:pt x="13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89000" y="5734080"/>
              <a:ext cx="360720" cy="582840"/>
            </a:xfrm>
            <a:custGeom>
              <a:avLst/>
              <a:gdLst/>
              <a:ahLst/>
              <a:rect l="0" t="0" r="r" b="b"/>
              <a:pathLst>
                <a:path w="1002" h="1619">
                  <a:moveTo>
                    <a:pt x="1002" y="0"/>
                  </a:moveTo>
                  <a:lnTo>
                    <a:pt x="0" y="0"/>
                  </a:lnTo>
                  <a:lnTo>
                    <a:pt x="35" y="97"/>
                  </a:lnTo>
                  <a:lnTo>
                    <a:pt x="233" y="176"/>
                  </a:lnTo>
                  <a:lnTo>
                    <a:pt x="291" y="1619"/>
                  </a:lnTo>
                  <a:lnTo>
                    <a:pt x="291" y="427"/>
                  </a:lnTo>
                  <a:lnTo>
                    <a:pt x="370" y="401"/>
                  </a:lnTo>
                  <a:lnTo>
                    <a:pt x="489" y="427"/>
                  </a:lnTo>
                  <a:lnTo>
                    <a:pt x="591" y="1099"/>
                  </a:lnTo>
                  <a:lnTo>
                    <a:pt x="666" y="1544"/>
                  </a:lnTo>
                  <a:lnTo>
                    <a:pt x="569" y="224"/>
                  </a:lnTo>
                  <a:lnTo>
                    <a:pt x="609" y="176"/>
                  </a:lnTo>
                  <a:lnTo>
                    <a:pt x="688" y="224"/>
                  </a:lnTo>
                  <a:lnTo>
                    <a:pt x="746" y="1469"/>
                  </a:lnTo>
                  <a:lnTo>
                    <a:pt x="768" y="352"/>
                  </a:lnTo>
                  <a:lnTo>
                    <a:pt x="856" y="149"/>
                  </a:lnTo>
                  <a:lnTo>
                    <a:pt x="962" y="22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06480" y="5611680"/>
              <a:ext cx="71640" cy="92520"/>
            </a:xfrm>
            <a:custGeom>
              <a:avLst/>
              <a:gdLst/>
              <a:ahLst/>
              <a:rect l="0" t="0" r="r" b="b"/>
              <a:pathLst>
                <a:path w="199" h="257">
                  <a:moveTo>
                    <a:pt x="199" y="257"/>
                  </a:moveTo>
                  <a:lnTo>
                    <a:pt x="199" y="0"/>
                  </a:lnTo>
                  <a:lnTo>
                    <a:pt x="0" y="0"/>
                  </a:lnTo>
                  <a:lnTo>
                    <a:pt x="142" y="48"/>
                  </a:lnTo>
                  <a:lnTo>
                    <a:pt x="199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5603760"/>
              <a:ext cx="528840" cy="89280"/>
            </a:xfrm>
            <a:custGeom>
              <a:avLst/>
              <a:gdLst/>
              <a:ahLst/>
              <a:rect l="0" t="0" r="r" b="b"/>
              <a:pathLst>
                <a:path w="1469" h="248">
                  <a:moveTo>
                    <a:pt x="1469" y="0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39" y="48"/>
                  </a:lnTo>
                  <a:lnTo>
                    <a:pt x="1434" y="48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93760" y="635796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20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720" y="6270480"/>
              <a:ext cx="670320" cy="205200"/>
            </a:xfrm>
            <a:custGeom>
              <a:avLst/>
              <a:gdLst/>
              <a:ahLst/>
              <a:rect l="0" t="0" r="r" b="b"/>
              <a:pathLst>
                <a:path w="1862" h="570">
                  <a:moveTo>
                    <a:pt x="1840" y="393"/>
                  </a:moveTo>
                  <a:lnTo>
                    <a:pt x="1549" y="415"/>
                  </a:lnTo>
                  <a:lnTo>
                    <a:pt x="1328" y="362"/>
                  </a:lnTo>
                  <a:lnTo>
                    <a:pt x="1147" y="261"/>
                  </a:lnTo>
                  <a:lnTo>
                    <a:pt x="1046" y="186"/>
                  </a:lnTo>
                  <a:lnTo>
                    <a:pt x="1006" y="127"/>
                  </a:lnTo>
                  <a:lnTo>
                    <a:pt x="1063" y="101"/>
                  </a:lnTo>
                  <a:lnTo>
                    <a:pt x="1006" y="79"/>
                  </a:lnTo>
                  <a:lnTo>
                    <a:pt x="830" y="101"/>
                  </a:lnTo>
                  <a:lnTo>
                    <a:pt x="534" y="79"/>
                  </a:lnTo>
                  <a:lnTo>
                    <a:pt x="277" y="52"/>
                  </a:lnTo>
                  <a:lnTo>
                    <a:pt x="158" y="2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61" y="127"/>
                  </a:lnTo>
                  <a:lnTo>
                    <a:pt x="216" y="261"/>
                  </a:lnTo>
                  <a:lnTo>
                    <a:pt x="335" y="340"/>
                  </a:lnTo>
                  <a:lnTo>
                    <a:pt x="79" y="393"/>
                  </a:lnTo>
                  <a:lnTo>
                    <a:pt x="158" y="442"/>
                  </a:lnTo>
                  <a:lnTo>
                    <a:pt x="295" y="442"/>
                  </a:lnTo>
                  <a:lnTo>
                    <a:pt x="396" y="491"/>
                  </a:lnTo>
                  <a:lnTo>
                    <a:pt x="777" y="517"/>
                  </a:lnTo>
                  <a:lnTo>
                    <a:pt x="1213" y="570"/>
                  </a:lnTo>
                  <a:lnTo>
                    <a:pt x="1310" y="570"/>
                  </a:lnTo>
                  <a:lnTo>
                    <a:pt x="1862" y="415"/>
                  </a:lnTo>
                  <a:lnTo>
                    <a:pt x="1271" y="517"/>
                  </a:lnTo>
                  <a:lnTo>
                    <a:pt x="865" y="442"/>
                  </a:lnTo>
                  <a:lnTo>
                    <a:pt x="600" y="362"/>
                  </a:lnTo>
                  <a:lnTo>
                    <a:pt x="374" y="261"/>
                  </a:lnTo>
                  <a:lnTo>
                    <a:pt x="216" y="164"/>
                  </a:lnTo>
                  <a:lnTo>
                    <a:pt x="158" y="79"/>
                  </a:lnTo>
                  <a:lnTo>
                    <a:pt x="414" y="127"/>
                  </a:lnTo>
                  <a:lnTo>
                    <a:pt x="741" y="164"/>
                  </a:lnTo>
                  <a:lnTo>
                    <a:pt x="1006" y="164"/>
                  </a:lnTo>
                  <a:lnTo>
                    <a:pt x="1147" y="243"/>
                  </a:lnTo>
                  <a:lnTo>
                    <a:pt x="1408" y="393"/>
                  </a:lnTo>
                  <a:lnTo>
                    <a:pt x="184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14480" y="6299280"/>
              <a:ext cx="682920" cy="213120"/>
            </a:xfrm>
            <a:custGeom>
              <a:avLst/>
              <a:gdLst/>
              <a:ahLst/>
              <a:rect l="0" t="0" r="r" b="b"/>
              <a:pathLst>
                <a:path w="1897" h="592">
                  <a:moveTo>
                    <a:pt x="0" y="48"/>
                  </a:moveTo>
                  <a:lnTo>
                    <a:pt x="74" y="208"/>
                  </a:lnTo>
                  <a:lnTo>
                    <a:pt x="57" y="234"/>
                  </a:lnTo>
                  <a:lnTo>
                    <a:pt x="154" y="411"/>
                  </a:lnTo>
                  <a:lnTo>
                    <a:pt x="251" y="437"/>
                  </a:lnTo>
                  <a:lnTo>
                    <a:pt x="273" y="491"/>
                  </a:lnTo>
                  <a:lnTo>
                    <a:pt x="1165" y="566"/>
                  </a:lnTo>
                  <a:lnTo>
                    <a:pt x="1107" y="592"/>
                  </a:lnTo>
                  <a:lnTo>
                    <a:pt x="1394" y="566"/>
                  </a:lnTo>
                  <a:lnTo>
                    <a:pt x="1738" y="592"/>
                  </a:lnTo>
                  <a:lnTo>
                    <a:pt x="1641" y="465"/>
                  </a:lnTo>
                  <a:lnTo>
                    <a:pt x="1897" y="283"/>
                  </a:lnTo>
                  <a:lnTo>
                    <a:pt x="1187" y="0"/>
                  </a:lnTo>
                  <a:lnTo>
                    <a:pt x="1835" y="283"/>
                  </a:lnTo>
                  <a:lnTo>
                    <a:pt x="1539" y="437"/>
                  </a:lnTo>
                  <a:lnTo>
                    <a:pt x="1297" y="465"/>
                  </a:lnTo>
                  <a:lnTo>
                    <a:pt x="1315" y="411"/>
                  </a:lnTo>
                  <a:lnTo>
                    <a:pt x="1165" y="465"/>
                  </a:lnTo>
                  <a:lnTo>
                    <a:pt x="608" y="437"/>
                  </a:lnTo>
                  <a:lnTo>
                    <a:pt x="890" y="314"/>
                  </a:lnTo>
                  <a:lnTo>
                    <a:pt x="449" y="411"/>
                  </a:lnTo>
                  <a:lnTo>
                    <a:pt x="273" y="389"/>
                  </a:lnTo>
                  <a:lnTo>
                    <a:pt x="171" y="314"/>
                  </a:lnTo>
                  <a:lnTo>
                    <a:pt x="74" y="132"/>
                  </a:lnTo>
                  <a:lnTo>
                    <a:pt x="449" y="234"/>
                  </a:lnTo>
                  <a:lnTo>
                    <a:pt x="723" y="234"/>
                  </a:lnTo>
                  <a:lnTo>
                    <a:pt x="890" y="234"/>
                  </a:lnTo>
                  <a:lnTo>
                    <a:pt x="392" y="1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55760" y="6289560"/>
              <a:ext cx="119520" cy="103680"/>
            </a:xfrm>
            <a:custGeom>
              <a:avLst/>
              <a:gdLst/>
              <a:ahLst/>
              <a:rect l="0" t="0" r="r" b="b"/>
              <a:pathLst>
                <a:path w="332" h="288">
                  <a:moveTo>
                    <a:pt x="332" y="0"/>
                  </a:moveTo>
                  <a:lnTo>
                    <a:pt x="0" y="288"/>
                  </a:lnTo>
                  <a:lnTo>
                    <a:pt x="239" y="2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5443560"/>
              <a:ext cx="71640" cy="41760"/>
            </a:xfrm>
            <a:custGeom>
              <a:avLst/>
              <a:gdLst/>
              <a:ahLst/>
              <a:rect l="0" t="0" r="r" b="b"/>
              <a:pathLst>
                <a:path w="199" h="116">
                  <a:moveTo>
                    <a:pt x="199" y="116"/>
                  </a:moveTo>
                  <a:lnTo>
                    <a:pt x="83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9" y="62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28600" y="5440320"/>
              <a:ext cx="554400" cy="25920"/>
            </a:xfrm>
            <a:custGeom>
              <a:avLst/>
              <a:gdLst/>
              <a:ahLst/>
              <a:rect l="0" t="0" r="r" b="b"/>
              <a:pathLst>
                <a:path w="1540" h="72">
                  <a:moveTo>
                    <a:pt x="1540" y="72"/>
                  </a:moveTo>
                  <a:lnTo>
                    <a:pt x="1032" y="40"/>
                  </a:lnTo>
                  <a:lnTo>
                    <a:pt x="702" y="53"/>
                  </a:lnTo>
                  <a:lnTo>
                    <a:pt x="26" y="53"/>
                  </a:lnTo>
                  <a:lnTo>
                    <a:pt x="0" y="0"/>
                  </a:lnTo>
                  <a:lnTo>
                    <a:pt x="1107" y="23"/>
                  </a:lnTo>
                  <a:lnTo>
                    <a:pt x="1540" y="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20680" y="5484960"/>
              <a:ext cx="503640" cy="25920"/>
            </a:xfrm>
            <a:custGeom>
              <a:avLst/>
              <a:gdLst/>
              <a:ahLst/>
              <a:rect l="0" t="0" r="r" b="b"/>
              <a:pathLst>
                <a:path w="1399" h="72">
                  <a:moveTo>
                    <a:pt x="1399" y="13"/>
                  </a:moveTo>
                  <a:lnTo>
                    <a:pt x="865" y="36"/>
                  </a:lnTo>
                  <a:lnTo>
                    <a:pt x="358" y="72"/>
                  </a:lnTo>
                  <a:lnTo>
                    <a:pt x="0" y="23"/>
                  </a:lnTo>
                  <a:lnTo>
                    <a:pt x="260" y="13"/>
                  </a:lnTo>
                  <a:lnTo>
                    <a:pt x="569" y="23"/>
                  </a:lnTo>
                  <a:lnTo>
                    <a:pt x="1179" y="0"/>
                  </a:lnTo>
                  <a:lnTo>
                    <a:pt x="139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31960" y="551016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213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213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3840" y="4076640"/>
              <a:ext cx="473400" cy="547920"/>
            </a:xfrm>
            <a:custGeom>
              <a:avLst/>
              <a:gdLst/>
              <a:ahLst/>
              <a:rect l="0" t="0" r="r" b="b"/>
              <a:pathLst>
                <a:path w="1315" h="1522">
                  <a:moveTo>
                    <a:pt x="216" y="471"/>
                  </a:moveTo>
                  <a:lnTo>
                    <a:pt x="357" y="515"/>
                  </a:lnTo>
                  <a:lnTo>
                    <a:pt x="520" y="533"/>
                  </a:lnTo>
                  <a:lnTo>
                    <a:pt x="684" y="493"/>
                  </a:lnTo>
                  <a:lnTo>
                    <a:pt x="781" y="454"/>
                  </a:lnTo>
                  <a:lnTo>
                    <a:pt x="763" y="414"/>
                  </a:lnTo>
                  <a:lnTo>
                    <a:pt x="882" y="374"/>
                  </a:lnTo>
                  <a:lnTo>
                    <a:pt x="1015" y="260"/>
                  </a:lnTo>
                  <a:lnTo>
                    <a:pt x="1076" y="141"/>
                  </a:lnTo>
                  <a:lnTo>
                    <a:pt x="1107" y="22"/>
                  </a:lnTo>
                  <a:lnTo>
                    <a:pt x="1156" y="0"/>
                  </a:lnTo>
                  <a:lnTo>
                    <a:pt x="1107" y="180"/>
                  </a:lnTo>
                  <a:lnTo>
                    <a:pt x="1032" y="277"/>
                  </a:lnTo>
                  <a:lnTo>
                    <a:pt x="900" y="414"/>
                  </a:lnTo>
                  <a:lnTo>
                    <a:pt x="1063" y="295"/>
                  </a:lnTo>
                  <a:lnTo>
                    <a:pt x="1134" y="180"/>
                  </a:lnTo>
                  <a:lnTo>
                    <a:pt x="1173" y="83"/>
                  </a:lnTo>
                  <a:lnTo>
                    <a:pt x="1235" y="83"/>
                  </a:lnTo>
                  <a:lnTo>
                    <a:pt x="1143" y="220"/>
                  </a:lnTo>
                  <a:lnTo>
                    <a:pt x="1046" y="339"/>
                  </a:lnTo>
                  <a:lnTo>
                    <a:pt x="913" y="454"/>
                  </a:lnTo>
                  <a:lnTo>
                    <a:pt x="1076" y="396"/>
                  </a:lnTo>
                  <a:lnTo>
                    <a:pt x="1204" y="277"/>
                  </a:lnTo>
                  <a:lnTo>
                    <a:pt x="1253" y="198"/>
                  </a:lnTo>
                  <a:lnTo>
                    <a:pt x="1266" y="141"/>
                  </a:lnTo>
                  <a:lnTo>
                    <a:pt x="1315" y="158"/>
                  </a:lnTo>
                  <a:lnTo>
                    <a:pt x="1235" y="277"/>
                  </a:lnTo>
                  <a:lnTo>
                    <a:pt x="1134" y="396"/>
                  </a:lnTo>
                  <a:lnTo>
                    <a:pt x="1032" y="471"/>
                  </a:lnTo>
                  <a:lnTo>
                    <a:pt x="931" y="493"/>
                  </a:lnTo>
                  <a:lnTo>
                    <a:pt x="882" y="533"/>
                  </a:lnTo>
                  <a:lnTo>
                    <a:pt x="882" y="599"/>
                  </a:lnTo>
                  <a:lnTo>
                    <a:pt x="825" y="657"/>
                  </a:lnTo>
                  <a:lnTo>
                    <a:pt x="702" y="679"/>
                  </a:lnTo>
                  <a:lnTo>
                    <a:pt x="582" y="696"/>
                  </a:lnTo>
                  <a:lnTo>
                    <a:pt x="440" y="679"/>
                  </a:lnTo>
                  <a:lnTo>
                    <a:pt x="299" y="657"/>
                  </a:lnTo>
                  <a:lnTo>
                    <a:pt x="216" y="617"/>
                  </a:lnTo>
                  <a:lnTo>
                    <a:pt x="167" y="718"/>
                  </a:lnTo>
                  <a:lnTo>
                    <a:pt x="154" y="869"/>
                  </a:lnTo>
                  <a:lnTo>
                    <a:pt x="141" y="1085"/>
                  </a:lnTo>
                  <a:lnTo>
                    <a:pt x="154" y="1266"/>
                  </a:lnTo>
                  <a:lnTo>
                    <a:pt x="185" y="1363"/>
                  </a:lnTo>
                  <a:lnTo>
                    <a:pt x="185" y="1420"/>
                  </a:lnTo>
                  <a:lnTo>
                    <a:pt x="242" y="1482"/>
                  </a:lnTo>
                  <a:lnTo>
                    <a:pt x="242" y="1522"/>
                  </a:lnTo>
                  <a:lnTo>
                    <a:pt x="141" y="1442"/>
                  </a:lnTo>
                  <a:lnTo>
                    <a:pt x="0" y="1403"/>
                  </a:lnTo>
                  <a:lnTo>
                    <a:pt x="0" y="1381"/>
                  </a:lnTo>
                  <a:lnTo>
                    <a:pt x="92" y="1381"/>
                  </a:lnTo>
                  <a:lnTo>
                    <a:pt x="66" y="1129"/>
                  </a:lnTo>
                  <a:lnTo>
                    <a:pt x="48" y="904"/>
                  </a:lnTo>
                  <a:lnTo>
                    <a:pt x="74" y="869"/>
                  </a:lnTo>
                  <a:lnTo>
                    <a:pt x="92" y="696"/>
                  </a:lnTo>
                  <a:lnTo>
                    <a:pt x="141" y="582"/>
                  </a:lnTo>
                  <a:lnTo>
                    <a:pt x="216" y="4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70160" y="406728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8"/>
                  </a:moveTo>
                  <a:lnTo>
                    <a:pt x="53" y="133"/>
                  </a:lnTo>
                  <a:lnTo>
                    <a:pt x="0" y="266"/>
                  </a:lnTo>
                  <a:lnTo>
                    <a:pt x="23" y="89"/>
                  </a:lnTo>
                  <a:lnTo>
                    <a:pt x="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14480" y="4067280"/>
              <a:ext cx="338400" cy="187560"/>
            </a:xfrm>
            <a:custGeom>
              <a:avLst/>
              <a:gdLst/>
              <a:ahLst/>
              <a:rect l="0" t="0" r="r" b="b"/>
              <a:pathLst>
                <a:path w="940" h="521">
                  <a:moveTo>
                    <a:pt x="940" y="66"/>
                  </a:moveTo>
                  <a:lnTo>
                    <a:pt x="666" y="0"/>
                  </a:lnTo>
                  <a:lnTo>
                    <a:pt x="423" y="0"/>
                  </a:lnTo>
                  <a:lnTo>
                    <a:pt x="268" y="8"/>
                  </a:lnTo>
                  <a:lnTo>
                    <a:pt x="119" y="66"/>
                  </a:lnTo>
                  <a:lnTo>
                    <a:pt x="44" y="167"/>
                  </a:lnTo>
                  <a:lnTo>
                    <a:pt x="13" y="265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92" y="459"/>
                  </a:lnTo>
                  <a:lnTo>
                    <a:pt x="211" y="521"/>
                  </a:lnTo>
                  <a:lnTo>
                    <a:pt x="255" y="384"/>
                  </a:lnTo>
                  <a:lnTo>
                    <a:pt x="299" y="322"/>
                  </a:lnTo>
                  <a:lnTo>
                    <a:pt x="383" y="265"/>
                  </a:lnTo>
                  <a:lnTo>
                    <a:pt x="499" y="246"/>
                  </a:lnTo>
                  <a:lnTo>
                    <a:pt x="370" y="265"/>
                  </a:lnTo>
                  <a:lnTo>
                    <a:pt x="268" y="322"/>
                  </a:lnTo>
                  <a:lnTo>
                    <a:pt x="357" y="224"/>
                  </a:lnTo>
                  <a:lnTo>
                    <a:pt x="255" y="305"/>
                  </a:lnTo>
                  <a:lnTo>
                    <a:pt x="194" y="384"/>
                  </a:lnTo>
                  <a:lnTo>
                    <a:pt x="180" y="459"/>
                  </a:lnTo>
                  <a:lnTo>
                    <a:pt x="149" y="402"/>
                  </a:lnTo>
                  <a:lnTo>
                    <a:pt x="194" y="287"/>
                  </a:lnTo>
                  <a:lnTo>
                    <a:pt x="242" y="207"/>
                  </a:lnTo>
                  <a:lnTo>
                    <a:pt x="299" y="149"/>
                  </a:lnTo>
                  <a:lnTo>
                    <a:pt x="255" y="132"/>
                  </a:lnTo>
                  <a:lnTo>
                    <a:pt x="194" y="246"/>
                  </a:lnTo>
                  <a:lnTo>
                    <a:pt x="149" y="305"/>
                  </a:lnTo>
                  <a:lnTo>
                    <a:pt x="119" y="367"/>
                  </a:lnTo>
                  <a:lnTo>
                    <a:pt x="101" y="287"/>
                  </a:lnTo>
                  <a:lnTo>
                    <a:pt x="136" y="207"/>
                  </a:lnTo>
                  <a:lnTo>
                    <a:pt x="211" y="149"/>
                  </a:lnTo>
                  <a:lnTo>
                    <a:pt x="255" y="110"/>
                  </a:lnTo>
                  <a:lnTo>
                    <a:pt x="242" y="88"/>
                  </a:lnTo>
                  <a:lnTo>
                    <a:pt x="339" y="48"/>
                  </a:lnTo>
                  <a:lnTo>
                    <a:pt x="486" y="26"/>
                  </a:lnTo>
                  <a:lnTo>
                    <a:pt x="653" y="26"/>
                  </a:lnTo>
                  <a:lnTo>
                    <a:pt x="807" y="66"/>
                  </a:lnTo>
                  <a:lnTo>
                    <a:pt x="909" y="110"/>
                  </a:lnTo>
                  <a:lnTo>
                    <a:pt x="94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4205160"/>
              <a:ext cx="540000" cy="792360"/>
            </a:xfrm>
            <a:custGeom>
              <a:avLst/>
              <a:gdLst/>
              <a:ahLst/>
              <a:rect l="0" t="0" r="r" b="b"/>
              <a:pathLst>
                <a:path w="1500" h="2201">
                  <a:moveTo>
                    <a:pt x="313" y="0"/>
                  </a:moveTo>
                  <a:lnTo>
                    <a:pt x="163" y="97"/>
                  </a:lnTo>
                  <a:lnTo>
                    <a:pt x="61" y="202"/>
                  </a:lnTo>
                  <a:lnTo>
                    <a:pt x="17" y="321"/>
                  </a:lnTo>
                  <a:lnTo>
                    <a:pt x="0" y="454"/>
                  </a:lnTo>
                  <a:lnTo>
                    <a:pt x="17" y="586"/>
                  </a:lnTo>
                  <a:lnTo>
                    <a:pt x="92" y="771"/>
                  </a:lnTo>
                  <a:lnTo>
                    <a:pt x="189" y="948"/>
                  </a:lnTo>
                  <a:lnTo>
                    <a:pt x="238" y="1045"/>
                  </a:lnTo>
                  <a:lnTo>
                    <a:pt x="268" y="1182"/>
                  </a:lnTo>
                  <a:lnTo>
                    <a:pt x="313" y="1279"/>
                  </a:lnTo>
                  <a:lnTo>
                    <a:pt x="357" y="1381"/>
                  </a:lnTo>
                  <a:lnTo>
                    <a:pt x="388" y="1438"/>
                  </a:lnTo>
                  <a:lnTo>
                    <a:pt x="343" y="1575"/>
                  </a:lnTo>
                  <a:lnTo>
                    <a:pt x="313" y="1751"/>
                  </a:lnTo>
                  <a:lnTo>
                    <a:pt x="313" y="1888"/>
                  </a:lnTo>
                  <a:lnTo>
                    <a:pt x="299" y="2033"/>
                  </a:lnTo>
                  <a:lnTo>
                    <a:pt x="268" y="2152"/>
                  </a:lnTo>
                  <a:lnTo>
                    <a:pt x="224" y="2201"/>
                  </a:lnTo>
                  <a:lnTo>
                    <a:pt x="282" y="2201"/>
                  </a:lnTo>
                  <a:lnTo>
                    <a:pt x="313" y="2113"/>
                  </a:lnTo>
                  <a:lnTo>
                    <a:pt x="357" y="1976"/>
                  </a:lnTo>
                  <a:lnTo>
                    <a:pt x="374" y="1826"/>
                  </a:lnTo>
                  <a:lnTo>
                    <a:pt x="388" y="1994"/>
                  </a:lnTo>
                  <a:lnTo>
                    <a:pt x="374" y="2113"/>
                  </a:lnTo>
                  <a:lnTo>
                    <a:pt x="357" y="2170"/>
                  </a:lnTo>
                  <a:lnTo>
                    <a:pt x="330" y="2201"/>
                  </a:lnTo>
                  <a:lnTo>
                    <a:pt x="374" y="2201"/>
                  </a:lnTo>
                  <a:lnTo>
                    <a:pt x="423" y="2073"/>
                  </a:lnTo>
                  <a:lnTo>
                    <a:pt x="432" y="2201"/>
                  </a:lnTo>
                  <a:lnTo>
                    <a:pt x="524" y="2201"/>
                  </a:lnTo>
                  <a:lnTo>
                    <a:pt x="630" y="2183"/>
                  </a:lnTo>
                  <a:lnTo>
                    <a:pt x="772" y="2152"/>
                  </a:lnTo>
                  <a:lnTo>
                    <a:pt x="878" y="2152"/>
                  </a:lnTo>
                  <a:lnTo>
                    <a:pt x="878" y="2073"/>
                  </a:lnTo>
                  <a:lnTo>
                    <a:pt x="953" y="2055"/>
                  </a:lnTo>
                  <a:lnTo>
                    <a:pt x="1059" y="2016"/>
                  </a:lnTo>
                  <a:lnTo>
                    <a:pt x="1107" y="1994"/>
                  </a:lnTo>
                  <a:lnTo>
                    <a:pt x="1240" y="2055"/>
                  </a:lnTo>
                  <a:lnTo>
                    <a:pt x="1372" y="2073"/>
                  </a:lnTo>
                  <a:lnTo>
                    <a:pt x="1447" y="2073"/>
                  </a:lnTo>
                  <a:lnTo>
                    <a:pt x="1500" y="2033"/>
                  </a:lnTo>
                  <a:lnTo>
                    <a:pt x="1390" y="2055"/>
                  </a:lnTo>
                  <a:lnTo>
                    <a:pt x="1390" y="2073"/>
                  </a:lnTo>
                  <a:lnTo>
                    <a:pt x="1288" y="2055"/>
                  </a:lnTo>
                  <a:lnTo>
                    <a:pt x="1182" y="1994"/>
                  </a:lnTo>
                  <a:lnTo>
                    <a:pt x="1028" y="1919"/>
                  </a:lnTo>
                  <a:lnTo>
                    <a:pt x="891" y="1791"/>
                  </a:lnTo>
                  <a:lnTo>
                    <a:pt x="799" y="1672"/>
                  </a:lnTo>
                  <a:lnTo>
                    <a:pt x="701" y="1592"/>
                  </a:lnTo>
                  <a:lnTo>
                    <a:pt x="670" y="1535"/>
                  </a:lnTo>
                  <a:lnTo>
                    <a:pt x="643" y="1535"/>
                  </a:lnTo>
                  <a:lnTo>
                    <a:pt x="670" y="1592"/>
                  </a:lnTo>
                  <a:lnTo>
                    <a:pt x="643" y="1632"/>
                  </a:lnTo>
                  <a:lnTo>
                    <a:pt x="586" y="1614"/>
                  </a:lnTo>
                  <a:lnTo>
                    <a:pt x="573" y="1575"/>
                  </a:lnTo>
                  <a:lnTo>
                    <a:pt x="586" y="1535"/>
                  </a:lnTo>
                  <a:lnTo>
                    <a:pt x="599" y="1517"/>
                  </a:lnTo>
                  <a:lnTo>
                    <a:pt x="498" y="1495"/>
                  </a:lnTo>
                  <a:lnTo>
                    <a:pt x="423" y="1420"/>
                  </a:lnTo>
                  <a:lnTo>
                    <a:pt x="374" y="1337"/>
                  </a:lnTo>
                  <a:lnTo>
                    <a:pt x="330" y="1244"/>
                  </a:lnTo>
                  <a:lnTo>
                    <a:pt x="299" y="1165"/>
                  </a:lnTo>
                  <a:lnTo>
                    <a:pt x="313" y="1103"/>
                  </a:lnTo>
                  <a:lnTo>
                    <a:pt x="405" y="1143"/>
                  </a:lnTo>
                  <a:lnTo>
                    <a:pt x="467" y="1222"/>
                  </a:lnTo>
                  <a:lnTo>
                    <a:pt x="511" y="1279"/>
                  </a:lnTo>
                  <a:lnTo>
                    <a:pt x="542" y="1337"/>
                  </a:lnTo>
                  <a:lnTo>
                    <a:pt x="586" y="1398"/>
                  </a:lnTo>
                  <a:lnTo>
                    <a:pt x="573" y="1279"/>
                  </a:lnTo>
                  <a:lnTo>
                    <a:pt x="617" y="1262"/>
                  </a:lnTo>
                  <a:lnTo>
                    <a:pt x="542" y="1165"/>
                  </a:lnTo>
                  <a:lnTo>
                    <a:pt x="423" y="1103"/>
                  </a:lnTo>
                  <a:lnTo>
                    <a:pt x="357" y="1084"/>
                  </a:lnTo>
                  <a:lnTo>
                    <a:pt x="357" y="1045"/>
                  </a:lnTo>
                  <a:lnTo>
                    <a:pt x="432" y="1062"/>
                  </a:lnTo>
                  <a:lnTo>
                    <a:pt x="388" y="948"/>
                  </a:lnTo>
                  <a:lnTo>
                    <a:pt x="374" y="793"/>
                  </a:lnTo>
                  <a:lnTo>
                    <a:pt x="343" y="608"/>
                  </a:lnTo>
                  <a:lnTo>
                    <a:pt x="357" y="454"/>
                  </a:lnTo>
                  <a:lnTo>
                    <a:pt x="388" y="339"/>
                  </a:lnTo>
                  <a:lnTo>
                    <a:pt x="423" y="260"/>
                  </a:lnTo>
                  <a:lnTo>
                    <a:pt x="343" y="489"/>
                  </a:lnTo>
                  <a:lnTo>
                    <a:pt x="374" y="224"/>
                  </a:lnTo>
                  <a:lnTo>
                    <a:pt x="268" y="626"/>
                  </a:lnTo>
                  <a:lnTo>
                    <a:pt x="299" y="242"/>
                  </a:lnTo>
                  <a:lnTo>
                    <a:pt x="224" y="511"/>
                  </a:lnTo>
                  <a:lnTo>
                    <a:pt x="224" y="282"/>
                  </a:lnTo>
                  <a:lnTo>
                    <a:pt x="163" y="454"/>
                  </a:lnTo>
                  <a:lnTo>
                    <a:pt x="145" y="299"/>
                  </a:lnTo>
                  <a:lnTo>
                    <a:pt x="92" y="418"/>
                  </a:lnTo>
                  <a:lnTo>
                    <a:pt x="105" y="260"/>
                  </a:lnTo>
                  <a:lnTo>
                    <a:pt x="163" y="176"/>
                  </a:lnTo>
                  <a:lnTo>
                    <a:pt x="238" y="11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2520" y="4211640"/>
              <a:ext cx="187560" cy="475200"/>
            </a:xfrm>
            <a:custGeom>
              <a:avLst/>
              <a:gdLst/>
              <a:ahLst/>
              <a:rect l="0" t="0" r="r" b="b"/>
              <a:pathLst>
                <a:path w="521" h="1320">
                  <a:moveTo>
                    <a:pt x="229" y="0"/>
                  </a:moveTo>
                  <a:lnTo>
                    <a:pt x="322" y="97"/>
                  </a:lnTo>
                  <a:lnTo>
                    <a:pt x="353" y="304"/>
                  </a:lnTo>
                  <a:lnTo>
                    <a:pt x="371" y="530"/>
                  </a:lnTo>
                  <a:lnTo>
                    <a:pt x="371" y="649"/>
                  </a:lnTo>
                  <a:lnTo>
                    <a:pt x="371" y="710"/>
                  </a:lnTo>
                  <a:lnTo>
                    <a:pt x="309" y="688"/>
                  </a:lnTo>
                  <a:lnTo>
                    <a:pt x="340" y="812"/>
                  </a:lnTo>
                  <a:lnTo>
                    <a:pt x="411" y="953"/>
                  </a:lnTo>
                  <a:lnTo>
                    <a:pt x="477" y="1126"/>
                  </a:lnTo>
                  <a:lnTo>
                    <a:pt x="521" y="1285"/>
                  </a:lnTo>
                  <a:lnTo>
                    <a:pt x="503" y="1320"/>
                  </a:lnTo>
                  <a:lnTo>
                    <a:pt x="459" y="1148"/>
                  </a:lnTo>
                  <a:lnTo>
                    <a:pt x="384" y="953"/>
                  </a:lnTo>
                  <a:lnTo>
                    <a:pt x="340" y="830"/>
                  </a:lnTo>
                  <a:lnTo>
                    <a:pt x="292" y="710"/>
                  </a:lnTo>
                  <a:lnTo>
                    <a:pt x="242" y="591"/>
                  </a:lnTo>
                  <a:lnTo>
                    <a:pt x="207" y="472"/>
                  </a:lnTo>
                  <a:lnTo>
                    <a:pt x="149" y="362"/>
                  </a:lnTo>
                  <a:lnTo>
                    <a:pt x="70" y="264"/>
                  </a:lnTo>
                  <a:lnTo>
                    <a:pt x="0" y="185"/>
                  </a:lnTo>
                  <a:lnTo>
                    <a:pt x="163" y="321"/>
                  </a:lnTo>
                  <a:lnTo>
                    <a:pt x="119" y="207"/>
                  </a:lnTo>
                  <a:lnTo>
                    <a:pt x="207" y="344"/>
                  </a:lnTo>
                  <a:lnTo>
                    <a:pt x="163" y="185"/>
                  </a:lnTo>
                  <a:lnTo>
                    <a:pt x="242" y="321"/>
                  </a:lnTo>
                  <a:lnTo>
                    <a:pt x="220" y="158"/>
                  </a:lnTo>
                  <a:lnTo>
                    <a:pt x="292" y="304"/>
                  </a:lnTo>
                  <a:lnTo>
                    <a:pt x="261" y="97"/>
                  </a:lnTo>
                  <a:lnTo>
                    <a:pt x="194" y="57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47840" y="4451400"/>
              <a:ext cx="92520" cy="22680"/>
            </a:xfrm>
            <a:custGeom>
              <a:avLst/>
              <a:gdLst/>
              <a:ahLst/>
              <a:rect l="0" t="0" r="r" b="b"/>
              <a:pathLst>
                <a:path w="257" h="63">
                  <a:moveTo>
                    <a:pt x="257" y="23"/>
                  </a:moveTo>
                  <a:lnTo>
                    <a:pt x="177" y="0"/>
                  </a:lnTo>
                  <a:lnTo>
                    <a:pt x="102" y="0"/>
                  </a:lnTo>
                  <a:lnTo>
                    <a:pt x="0" y="23"/>
                  </a:lnTo>
                  <a:lnTo>
                    <a:pt x="30" y="45"/>
                  </a:lnTo>
                  <a:lnTo>
                    <a:pt x="84" y="63"/>
                  </a:lnTo>
                  <a:lnTo>
                    <a:pt x="115" y="45"/>
                  </a:lnTo>
                  <a:lnTo>
                    <a:pt x="133" y="23"/>
                  </a:lnTo>
                  <a:lnTo>
                    <a:pt x="257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77920" y="4459320"/>
              <a:ext cx="116280" cy="38520"/>
            </a:xfrm>
            <a:custGeom>
              <a:avLst/>
              <a:gdLst/>
              <a:ahLst/>
              <a:rect l="0" t="0" r="r" b="b"/>
              <a:pathLst>
                <a:path w="323" h="107">
                  <a:moveTo>
                    <a:pt x="323" y="0"/>
                  </a:moveTo>
                  <a:lnTo>
                    <a:pt x="199" y="0"/>
                  </a:lnTo>
                  <a:lnTo>
                    <a:pt x="124" y="22"/>
                  </a:lnTo>
                  <a:lnTo>
                    <a:pt x="30" y="40"/>
                  </a:lnTo>
                  <a:lnTo>
                    <a:pt x="0" y="90"/>
                  </a:lnTo>
                  <a:lnTo>
                    <a:pt x="30" y="67"/>
                  </a:lnTo>
                  <a:lnTo>
                    <a:pt x="79" y="107"/>
                  </a:lnTo>
                  <a:lnTo>
                    <a:pt x="137" y="107"/>
                  </a:lnTo>
                  <a:lnTo>
                    <a:pt x="168" y="90"/>
                  </a:lnTo>
                  <a:lnTo>
                    <a:pt x="181" y="40"/>
                  </a:lnTo>
                  <a:lnTo>
                    <a:pt x="199" y="22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41360" y="434808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133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3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82600" y="4348080"/>
              <a:ext cx="55800" cy="33840"/>
            </a:xfrm>
            <a:custGeom>
              <a:avLst/>
              <a:gdLst/>
              <a:ahLst/>
              <a:rect l="0" t="0" r="r" b="b"/>
              <a:pathLst>
                <a:path w="155" h="94">
                  <a:moveTo>
                    <a:pt x="155" y="0"/>
                  </a:moveTo>
                  <a:lnTo>
                    <a:pt x="0" y="94"/>
                  </a:lnTo>
                  <a:lnTo>
                    <a:pt x="111" y="9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2520" y="4483080"/>
              <a:ext cx="147960" cy="219600"/>
            </a:xfrm>
            <a:custGeom>
              <a:avLst/>
              <a:gdLst/>
              <a:ahLst/>
              <a:rect l="0" t="0" r="r" b="b"/>
              <a:pathLst>
                <a:path w="411" h="610">
                  <a:moveTo>
                    <a:pt x="48" y="0"/>
                  </a:moveTo>
                  <a:lnTo>
                    <a:pt x="149" y="155"/>
                  </a:lnTo>
                  <a:lnTo>
                    <a:pt x="261" y="252"/>
                  </a:lnTo>
                  <a:lnTo>
                    <a:pt x="340" y="331"/>
                  </a:lnTo>
                  <a:lnTo>
                    <a:pt x="411" y="393"/>
                  </a:lnTo>
                  <a:lnTo>
                    <a:pt x="411" y="433"/>
                  </a:lnTo>
                  <a:lnTo>
                    <a:pt x="402" y="491"/>
                  </a:lnTo>
                  <a:lnTo>
                    <a:pt x="261" y="509"/>
                  </a:lnTo>
                  <a:lnTo>
                    <a:pt x="230" y="566"/>
                  </a:lnTo>
                  <a:lnTo>
                    <a:pt x="163" y="610"/>
                  </a:lnTo>
                  <a:lnTo>
                    <a:pt x="88" y="592"/>
                  </a:lnTo>
                  <a:lnTo>
                    <a:pt x="35" y="544"/>
                  </a:lnTo>
                  <a:lnTo>
                    <a:pt x="0" y="491"/>
                  </a:lnTo>
                  <a:lnTo>
                    <a:pt x="35" y="450"/>
                  </a:lnTo>
                  <a:lnTo>
                    <a:pt x="119" y="450"/>
                  </a:lnTo>
                  <a:lnTo>
                    <a:pt x="371" y="450"/>
                  </a:lnTo>
                  <a:lnTo>
                    <a:pt x="384" y="393"/>
                  </a:lnTo>
                  <a:lnTo>
                    <a:pt x="243" y="292"/>
                  </a:lnTo>
                  <a:lnTo>
                    <a:pt x="149" y="177"/>
                  </a:lnTo>
                  <a:lnTo>
                    <a:pt x="48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33360" y="4695840"/>
              <a:ext cx="246600" cy="154440"/>
            </a:xfrm>
            <a:custGeom>
              <a:avLst/>
              <a:gdLst/>
              <a:ahLst/>
              <a:rect l="0" t="0" r="r" b="b"/>
              <a:pathLst>
                <a:path w="685" h="429">
                  <a:moveTo>
                    <a:pt x="685" y="17"/>
                  </a:moveTo>
                  <a:lnTo>
                    <a:pt x="685" y="97"/>
                  </a:lnTo>
                  <a:lnTo>
                    <a:pt x="654" y="155"/>
                  </a:lnTo>
                  <a:lnTo>
                    <a:pt x="623" y="195"/>
                  </a:lnTo>
                  <a:lnTo>
                    <a:pt x="610" y="230"/>
                  </a:lnTo>
                  <a:lnTo>
                    <a:pt x="641" y="309"/>
                  </a:lnTo>
                  <a:lnTo>
                    <a:pt x="641" y="368"/>
                  </a:lnTo>
                  <a:lnTo>
                    <a:pt x="610" y="390"/>
                  </a:lnTo>
                  <a:lnTo>
                    <a:pt x="623" y="309"/>
                  </a:lnTo>
                  <a:lnTo>
                    <a:pt x="592" y="252"/>
                  </a:lnTo>
                  <a:lnTo>
                    <a:pt x="553" y="292"/>
                  </a:lnTo>
                  <a:lnTo>
                    <a:pt x="481" y="332"/>
                  </a:lnTo>
                  <a:lnTo>
                    <a:pt x="539" y="252"/>
                  </a:lnTo>
                  <a:lnTo>
                    <a:pt x="539" y="172"/>
                  </a:lnTo>
                  <a:lnTo>
                    <a:pt x="433" y="212"/>
                  </a:lnTo>
                  <a:lnTo>
                    <a:pt x="274" y="212"/>
                  </a:lnTo>
                  <a:lnTo>
                    <a:pt x="199" y="195"/>
                  </a:lnTo>
                  <a:lnTo>
                    <a:pt x="101" y="172"/>
                  </a:lnTo>
                  <a:lnTo>
                    <a:pt x="167" y="252"/>
                  </a:lnTo>
                  <a:lnTo>
                    <a:pt x="225" y="292"/>
                  </a:lnTo>
                  <a:lnTo>
                    <a:pt x="318" y="332"/>
                  </a:lnTo>
                  <a:lnTo>
                    <a:pt x="380" y="332"/>
                  </a:lnTo>
                  <a:lnTo>
                    <a:pt x="402" y="368"/>
                  </a:lnTo>
                  <a:lnTo>
                    <a:pt x="433" y="350"/>
                  </a:lnTo>
                  <a:lnTo>
                    <a:pt x="464" y="390"/>
                  </a:lnTo>
                  <a:lnTo>
                    <a:pt x="494" y="368"/>
                  </a:lnTo>
                  <a:lnTo>
                    <a:pt x="508" y="407"/>
                  </a:lnTo>
                  <a:lnTo>
                    <a:pt x="553" y="407"/>
                  </a:lnTo>
                  <a:lnTo>
                    <a:pt x="464" y="429"/>
                  </a:lnTo>
                  <a:lnTo>
                    <a:pt x="349" y="407"/>
                  </a:lnTo>
                  <a:lnTo>
                    <a:pt x="243" y="390"/>
                  </a:lnTo>
                  <a:lnTo>
                    <a:pt x="149" y="332"/>
                  </a:lnTo>
                  <a:lnTo>
                    <a:pt x="88" y="252"/>
                  </a:lnTo>
                  <a:lnTo>
                    <a:pt x="44" y="195"/>
                  </a:lnTo>
                  <a:lnTo>
                    <a:pt x="0" y="212"/>
                  </a:lnTo>
                  <a:lnTo>
                    <a:pt x="26" y="133"/>
                  </a:lnTo>
                  <a:lnTo>
                    <a:pt x="44" y="97"/>
                  </a:lnTo>
                  <a:lnTo>
                    <a:pt x="26" y="35"/>
                  </a:lnTo>
                  <a:lnTo>
                    <a:pt x="57" y="35"/>
                  </a:lnTo>
                  <a:lnTo>
                    <a:pt x="74" y="17"/>
                  </a:lnTo>
                  <a:lnTo>
                    <a:pt x="119" y="35"/>
                  </a:lnTo>
                  <a:lnTo>
                    <a:pt x="132" y="57"/>
                  </a:lnTo>
                  <a:lnTo>
                    <a:pt x="74" y="115"/>
                  </a:lnTo>
                  <a:lnTo>
                    <a:pt x="101" y="155"/>
                  </a:lnTo>
                  <a:lnTo>
                    <a:pt x="212" y="172"/>
                  </a:lnTo>
                  <a:lnTo>
                    <a:pt x="367" y="195"/>
                  </a:lnTo>
                  <a:lnTo>
                    <a:pt x="481" y="172"/>
                  </a:lnTo>
                  <a:lnTo>
                    <a:pt x="553" y="133"/>
                  </a:lnTo>
                  <a:lnTo>
                    <a:pt x="623" y="97"/>
                  </a:lnTo>
                  <a:lnTo>
                    <a:pt x="654" y="57"/>
                  </a:lnTo>
                  <a:lnTo>
                    <a:pt x="654" y="0"/>
                  </a:lnTo>
                  <a:lnTo>
                    <a:pt x="6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52600" y="4716360"/>
              <a:ext cx="76680" cy="194040"/>
            </a:xfrm>
            <a:custGeom>
              <a:avLst/>
              <a:gdLst/>
              <a:ahLst/>
              <a:rect l="0" t="0" r="r" b="b"/>
              <a:pathLst>
                <a:path w="213" h="539">
                  <a:moveTo>
                    <a:pt x="213" y="0"/>
                  </a:moveTo>
                  <a:lnTo>
                    <a:pt x="169" y="137"/>
                  </a:lnTo>
                  <a:lnTo>
                    <a:pt x="106" y="274"/>
                  </a:lnTo>
                  <a:lnTo>
                    <a:pt x="44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29"/>
                  </a:lnTo>
                  <a:lnTo>
                    <a:pt x="44" y="292"/>
                  </a:lnTo>
                  <a:lnTo>
                    <a:pt x="106" y="137"/>
                  </a:lnTo>
                  <a:lnTo>
                    <a:pt x="169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3760" y="4937040"/>
              <a:ext cx="233640" cy="359280"/>
            </a:xfrm>
            <a:custGeom>
              <a:avLst/>
              <a:gdLst/>
              <a:ahLst/>
              <a:rect l="0" t="0" r="r" b="b"/>
              <a:pathLst>
                <a:path w="649" h="998">
                  <a:moveTo>
                    <a:pt x="336" y="0"/>
                  </a:moveTo>
                  <a:lnTo>
                    <a:pt x="336" y="101"/>
                  </a:lnTo>
                  <a:lnTo>
                    <a:pt x="459" y="79"/>
                  </a:lnTo>
                  <a:lnTo>
                    <a:pt x="649" y="246"/>
                  </a:lnTo>
                  <a:lnTo>
                    <a:pt x="441" y="101"/>
                  </a:lnTo>
                  <a:lnTo>
                    <a:pt x="353" y="119"/>
                  </a:lnTo>
                  <a:lnTo>
                    <a:pt x="441" y="224"/>
                  </a:lnTo>
                  <a:lnTo>
                    <a:pt x="530" y="424"/>
                  </a:lnTo>
                  <a:lnTo>
                    <a:pt x="605" y="644"/>
                  </a:lnTo>
                  <a:lnTo>
                    <a:pt x="649" y="844"/>
                  </a:lnTo>
                  <a:lnTo>
                    <a:pt x="490" y="530"/>
                  </a:lnTo>
                  <a:lnTo>
                    <a:pt x="618" y="923"/>
                  </a:lnTo>
                  <a:lnTo>
                    <a:pt x="459" y="569"/>
                  </a:lnTo>
                  <a:lnTo>
                    <a:pt x="574" y="923"/>
                  </a:lnTo>
                  <a:lnTo>
                    <a:pt x="411" y="609"/>
                  </a:lnTo>
                  <a:lnTo>
                    <a:pt x="530" y="963"/>
                  </a:lnTo>
                  <a:lnTo>
                    <a:pt x="384" y="684"/>
                  </a:lnTo>
                  <a:lnTo>
                    <a:pt x="490" y="963"/>
                  </a:lnTo>
                  <a:lnTo>
                    <a:pt x="459" y="998"/>
                  </a:lnTo>
                  <a:lnTo>
                    <a:pt x="367" y="746"/>
                  </a:lnTo>
                  <a:lnTo>
                    <a:pt x="277" y="552"/>
                  </a:lnTo>
                  <a:lnTo>
                    <a:pt x="167" y="367"/>
                  </a:lnTo>
                  <a:lnTo>
                    <a:pt x="79" y="224"/>
                  </a:lnTo>
                  <a:lnTo>
                    <a:pt x="0" y="149"/>
                  </a:lnTo>
                  <a:lnTo>
                    <a:pt x="185" y="305"/>
                  </a:lnTo>
                  <a:lnTo>
                    <a:pt x="260" y="305"/>
                  </a:lnTo>
                  <a:lnTo>
                    <a:pt x="353" y="287"/>
                  </a:lnTo>
                  <a:lnTo>
                    <a:pt x="384" y="246"/>
                  </a:lnTo>
                  <a:lnTo>
                    <a:pt x="336" y="167"/>
                  </a:lnTo>
                  <a:lnTo>
                    <a:pt x="308" y="224"/>
                  </a:lnTo>
                  <a:lnTo>
                    <a:pt x="308" y="167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7440" y="5003640"/>
              <a:ext cx="93960" cy="132120"/>
            </a:xfrm>
            <a:custGeom>
              <a:avLst/>
              <a:gdLst/>
              <a:ahLst/>
              <a:rect l="0" t="0" r="r" b="b"/>
              <a:pathLst>
                <a:path w="261" h="367">
                  <a:moveTo>
                    <a:pt x="39" y="0"/>
                  </a:moveTo>
                  <a:lnTo>
                    <a:pt x="39" y="119"/>
                  </a:lnTo>
                  <a:lnTo>
                    <a:pt x="261" y="287"/>
                  </a:lnTo>
                  <a:lnTo>
                    <a:pt x="137" y="367"/>
                  </a:lnTo>
                  <a:lnTo>
                    <a:pt x="199" y="305"/>
                  </a:lnTo>
                  <a:lnTo>
                    <a:pt x="39" y="180"/>
                  </a:lnTo>
                  <a:lnTo>
                    <a:pt x="52" y="141"/>
                  </a:lnTo>
                  <a:lnTo>
                    <a:pt x="0" y="7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080" y="5141880"/>
              <a:ext cx="132120" cy="113040"/>
            </a:xfrm>
            <a:custGeom>
              <a:avLst/>
              <a:gdLst/>
              <a:ahLst/>
              <a:rect l="0" t="0" r="r" b="b"/>
              <a:pathLst>
                <a:path w="367" h="314">
                  <a:moveTo>
                    <a:pt x="367" y="274"/>
                  </a:moveTo>
                  <a:lnTo>
                    <a:pt x="212" y="136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212" y="177"/>
                  </a:lnTo>
                  <a:lnTo>
                    <a:pt x="300" y="274"/>
                  </a:lnTo>
                  <a:lnTo>
                    <a:pt x="349" y="314"/>
                  </a:lnTo>
                  <a:lnTo>
                    <a:pt x="36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88840" y="499752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257" y="0"/>
                  </a:moveTo>
                  <a:lnTo>
                    <a:pt x="93" y="0"/>
                  </a:lnTo>
                  <a:lnTo>
                    <a:pt x="35" y="137"/>
                  </a:lnTo>
                  <a:lnTo>
                    <a:pt x="0" y="235"/>
                  </a:lnTo>
                  <a:lnTo>
                    <a:pt x="67" y="235"/>
                  </a:lnTo>
                  <a:lnTo>
                    <a:pt x="80" y="137"/>
                  </a:lnTo>
                  <a:lnTo>
                    <a:pt x="124" y="39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39960" y="5032440"/>
              <a:ext cx="108360" cy="89280"/>
            </a:xfrm>
            <a:custGeom>
              <a:avLst/>
              <a:gdLst/>
              <a:ahLst/>
              <a:rect l="0" t="0" r="r" b="b"/>
              <a:pathLst>
                <a:path w="301" h="248">
                  <a:moveTo>
                    <a:pt x="301" y="248"/>
                  </a:moveTo>
                  <a:lnTo>
                    <a:pt x="115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01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22320" y="50817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332" y="168"/>
                  </a:moveTo>
                  <a:lnTo>
                    <a:pt x="164" y="70"/>
                  </a:lnTo>
                  <a:lnTo>
                    <a:pt x="70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8" y="70"/>
                  </a:lnTo>
                  <a:lnTo>
                    <a:pt x="70" y="48"/>
                  </a:lnTo>
                  <a:lnTo>
                    <a:pt x="164" y="88"/>
                  </a:lnTo>
                  <a:lnTo>
                    <a:pt x="208" y="128"/>
                  </a:lnTo>
                  <a:lnTo>
                    <a:pt x="225" y="150"/>
                  </a:lnTo>
                  <a:lnTo>
                    <a:pt x="301" y="186"/>
                  </a:lnTo>
                  <a:lnTo>
                    <a:pt x="332" y="1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84160" y="5135400"/>
              <a:ext cx="130680" cy="217800"/>
            </a:xfrm>
            <a:custGeom>
              <a:avLst/>
              <a:gdLst/>
              <a:ahLst/>
              <a:rect l="0" t="0" r="r" b="b"/>
              <a:pathLst>
                <a:path w="363" h="605">
                  <a:moveTo>
                    <a:pt x="124" y="17"/>
                  </a:moveTo>
                  <a:lnTo>
                    <a:pt x="124" y="154"/>
                  </a:lnTo>
                  <a:lnTo>
                    <a:pt x="124" y="233"/>
                  </a:lnTo>
                  <a:lnTo>
                    <a:pt x="137" y="331"/>
                  </a:lnTo>
                  <a:lnTo>
                    <a:pt x="256" y="233"/>
                  </a:lnTo>
                  <a:lnTo>
                    <a:pt x="363" y="114"/>
                  </a:lnTo>
                  <a:lnTo>
                    <a:pt x="195" y="331"/>
                  </a:lnTo>
                  <a:lnTo>
                    <a:pt x="93" y="389"/>
                  </a:lnTo>
                  <a:lnTo>
                    <a:pt x="177" y="547"/>
                  </a:lnTo>
                  <a:lnTo>
                    <a:pt x="124" y="605"/>
                  </a:lnTo>
                  <a:lnTo>
                    <a:pt x="48" y="508"/>
                  </a:lnTo>
                  <a:lnTo>
                    <a:pt x="30" y="446"/>
                  </a:lnTo>
                  <a:lnTo>
                    <a:pt x="0" y="411"/>
                  </a:lnTo>
                  <a:lnTo>
                    <a:pt x="61" y="349"/>
                  </a:lnTo>
                  <a:lnTo>
                    <a:pt x="30" y="233"/>
                  </a:lnTo>
                  <a:lnTo>
                    <a:pt x="30" y="154"/>
                  </a:lnTo>
                  <a:lnTo>
                    <a:pt x="13" y="35"/>
                  </a:lnTo>
                  <a:lnTo>
                    <a:pt x="30" y="0"/>
                  </a:lnTo>
                  <a:lnTo>
                    <a:pt x="61" y="233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47880" y="5183280"/>
              <a:ext cx="132120" cy="227520"/>
            </a:xfrm>
            <a:custGeom>
              <a:avLst/>
              <a:gdLst/>
              <a:ahLst/>
              <a:rect l="0" t="0" r="r" b="b"/>
              <a:pathLst>
                <a:path w="367" h="632">
                  <a:moveTo>
                    <a:pt x="287" y="0"/>
                  </a:moveTo>
                  <a:lnTo>
                    <a:pt x="186" y="256"/>
                  </a:lnTo>
                  <a:lnTo>
                    <a:pt x="92" y="375"/>
                  </a:lnTo>
                  <a:lnTo>
                    <a:pt x="0" y="455"/>
                  </a:lnTo>
                  <a:lnTo>
                    <a:pt x="92" y="375"/>
                  </a:lnTo>
                  <a:lnTo>
                    <a:pt x="167" y="296"/>
                  </a:lnTo>
                  <a:lnTo>
                    <a:pt x="110" y="455"/>
                  </a:lnTo>
                  <a:lnTo>
                    <a:pt x="0" y="632"/>
                  </a:lnTo>
                  <a:lnTo>
                    <a:pt x="136" y="455"/>
                  </a:lnTo>
                  <a:lnTo>
                    <a:pt x="212" y="314"/>
                  </a:lnTo>
                  <a:lnTo>
                    <a:pt x="287" y="79"/>
                  </a:lnTo>
                  <a:lnTo>
                    <a:pt x="367" y="336"/>
                  </a:lnTo>
                  <a:lnTo>
                    <a:pt x="305" y="39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2960" y="5367240"/>
              <a:ext cx="57600" cy="136800"/>
            </a:xfrm>
            <a:custGeom>
              <a:avLst/>
              <a:gdLst/>
              <a:ahLst/>
              <a:rect l="0" t="0" r="r" b="b"/>
              <a:pathLst>
                <a:path w="160" h="380">
                  <a:moveTo>
                    <a:pt x="58" y="0"/>
                  </a:moveTo>
                  <a:lnTo>
                    <a:pt x="98" y="119"/>
                  </a:lnTo>
                  <a:lnTo>
                    <a:pt x="45" y="119"/>
                  </a:lnTo>
                  <a:lnTo>
                    <a:pt x="160" y="380"/>
                  </a:lnTo>
                  <a:lnTo>
                    <a:pt x="0" y="39"/>
                  </a:lnTo>
                  <a:lnTo>
                    <a:pt x="45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8880" y="4305240"/>
              <a:ext cx="995760" cy="1387800"/>
            </a:xfrm>
            <a:custGeom>
              <a:avLst/>
              <a:gdLst/>
              <a:ahLst/>
              <a:rect l="0" t="0" r="r" b="b"/>
              <a:pathLst>
                <a:path w="2766" h="3855">
                  <a:moveTo>
                    <a:pt x="30" y="1596"/>
                  </a:moveTo>
                  <a:lnTo>
                    <a:pt x="246" y="1089"/>
                  </a:lnTo>
                  <a:lnTo>
                    <a:pt x="427" y="626"/>
                  </a:lnTo>
                  <a:lnTo>
                    <a:pt x="529" y="282"/>
                  </a:lnTo>
                  <a:lnTo>
                    <a:pt x="586" y="57"/>
                  </a:lnTo>
                  <a:lnTo>
                    <a:pt x="1024" y="339"/>
                  </a:lnTo>
                  <a:lnTo>
                    <a:pt x="1509" y="599"/>
                  </a:lnTo>
                  <a:lnTo>
                    <a:pt x="2131" y="842"/>
                  </a:lnTo>
                  <a:lnTo>
                    <a:pt x="2740" y="1001"/>
                  </a:lnTo>
                  <a:lnTo>
                    <a:pt x="2414" y="1613"/>
                  </a:lnTo>
                  <a:lnTo>
                    <a:pt x="2118" y="2377"/>
                  </a:lnTo>
                  <a:lnTo>
                    <a:pt x="1804" y="3074"/>
                  </a:lnTo>
                  <a:lnTo>
                    <a:pt x="1469" y="3603"/>
                  </a:lnTo>
                  <a:lnTo>
                    <a:pt x="1332" y="3771"/>
                  </a:lnTo>
                  <a:lnTo>
                    <a:pt x="971" y="3475"/>
                  </a:lnTo>
                  <a:lnTo>
                    <a:pt x="665" y="3325"/>
                  </a:lnTo>
                  <a:lnTo>
                    <a:pt x="542" y="3264"/>
                  </a:lnTo>
                  <a:lnTo>
                    <a:pt x="551" y="3303"/>
                  </a:lnTo>
                  <a:lnTo>
                    <a:pt x="891" y="3519"/>
                  </a:lnTo>
                  <a:lnTo>
                    <a:pt x="1094" y="3696"/>
                  </a:lnTo>
                  <a:lnTo>
                    <a:pt x="1196" y="3855"/>
                  </a:lnTo>
                  <a:lnTo>
                    <a:pt x="1240" y="3753"/>
                  </a:lnTo>
                  <a:lnTo>
                    <a:pt x="1368" y="3811"/>
                  </a:lnTo>
                  <a:lnTo>
                    <a:pt x="1557" y="3519"/>
                  </a:lnTo>
                  <a:lnTo>
                    <a:pt x="1782" y="3176"/>
                  </a:lnTo>
                  <a:lnTo>
                    <a:pt x="2064" y="2580"/>
                  </a:lnTo>
                  <a:lnTo>
                    <a:pt x="2352" y="1918"/>
                  </a:lnTo>
                  <a:lnTo>
                    <a:pt x="2546" y="1569"/>
                  </a:lnTo>
                  <a:lnTo>
                    <a:pt x="2731" y="1367"/>
                  </a:lnTo>
                  <a:lnTo>
                    <a:pt x="2616" y="1305"/>
                  </a:lnTo>
                  <a:lnTo>
                    <a:pt x="2766" y="987"/>
                  </a:lnTo>
                  <a:lnTo>
                    <a:pt x="2211" y="829"/>
                  </a:lnTo>
                  <a:lnTo>
                    <a:pt x="1734" y="652"/>
                  </a:lnTo>
                  <a:lnTo>
                    <a:pt x="1275" y="440"/>
                  </a:lnTo>
                  <a:lnTo>
                    <a:pt x="869" y="211"/>
                  </a:lnTo>
                  <a:lnTo>
                    <a:pt x="551" y="0"/>
                  </a:lnTo>
                  <a:lnTo>
                    <a:pt x="418" y="524"/>
                  </a:lnTo>
                  <a:lnTo>
                    <a:pt x="194" y="1164"/>
                  </a:lnTo>
                  <a:lnTo>
                    <a:pt x="0" y="1583"/>
                  </a:lnTo>
                  <a:lnTo>
                    <a:pt x="30" y="1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9440" y="4875120"/>
              <a:ext cx="195480" cy="222480"/>
            </a:xfrm>
            <a:custGeom>
              <a:avLst/>
              <a:gdLst/>
              <a:ahLst/>
              <a:rect l="0" t="0" r="r" b="b"/>
              <a:pathLst>
                <a:path w="543" h="618">
                  <a:moveTo>
                    <a:pt x="202" y="0"/>
                  </a:moveTo>
                  <a:lnTo>
                    <a:pt x="371" y="66"/>
                  </a:lnTo>
                  <a:lnTo>
                    <a:pt x="472" y="141"/>
                  </a:lnTo>
                  <a:lnTo>
                    <a:pt x="530" y="180"/>
                  </a:lnTo>
                  <a:lnTo>
                    <a:pt x="516" y="242"/>
                  </a:lnTo>
                  <a:lnTo>
                    <a:pt x="406" y="273"/>
                  </a:lnTo>
                  <a:lnTo>
                    <a:pt x="246" y="255"/>
                  </a:lnTo>
                  <a:lnTo>
                    <a:pt x="132" y="229"/>
                  </a:lnTo>
                  <a:lnTo>
                    <a:pt x="167" y="299"/>
                  </a:lnTo>
                  <a:lnTo>
                    <a:pt x="154" y="437"/>
                  </a:lnTo>
                  <a:lnTo>
                    <a:pt x="92" y="525"/>
                  </a:lnTo>
                  <a:lnTo>
                    <a:pt x="22" y="314"/>
                  </a:lnTo>
                  <a:lnTo>
                    <a:pt x="48" y="154"/>
                  </a:lnTo>
                  <a:lnTo>
                    <a:pt x="110" y="52"/>
                  </a:lnTo>
                  <a:lnTo>
                    <a:pt x="154" y="13"/>
                  </a:lnTo>
                  <a:lnTo>
                    <a:pt x="92" y="13"/>
                  </a:lnTo>
                  <a:lnTo>
                    <a:pt x="22" y="141"/>
                  </a:lnTo>
                  <a:lnTo>
                    <a:pt x="0" y="286"/>
                  </a:lnTo>
                  <a:lnTo>
                    <a:pt x="35" y="437"/>
                  </a:lnTo>
                  <a:lnTo>
                    <a:pt x="79" y="618"/>
                  </a:lnTo>
                  <a:lnTo>
                    <a:pt x="211" y="424"/>
                  </a:lnTo>
                  <a:lnTo>
                    <a:pt x="268" y="299"/>
                  </a:lnTo>
                  <a:lnTo>
                    <a:pt x="428" y="299"/>
                  </a:lnTo>
                  <a:lnTo>
                    <a:pt x="516" y="273"/>
                  </a:lnTo>
                  <a:lnTo>
                    <a:pt x="543" y="229"/>
                  </a:lnTo>
                  <a:lnTo>
                    <a:pt x="530" y="180"/>
                  </a:lnTo>
                  <a:lnTo>
                    <a:pt x="362" y="3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49200" y="5268960"/>
              <a:ext cx="284400" cy="79560"/>
            </a:xfrm>
            <a:custGeom>
              <a:avLst/>
              <a:gdLst/>
              <a:ahLst/>
              <a:rect l="0" t="0" r="r" b="b"/>
              <a:pathLst>
                <a:path w="790" h="221">
                  <a:moveTo>
                    <a:pt x="22" y="133"/>
                  </a:moveTo>
                  <a:lnTo>
                    <a:pt x="339" y="48"/>
                  </a:lnTo>
                  <a:lnTo>
                    <a:pt x="516" y="17"/>
                  </a:lnTo>
                  <a:lnTo>
                    <a:pt x="680" y="30"/>
                  </a:lnTo>
                  <a:lnTo>
                    <a:pt x="755" y="92"/>
                  </a:lnTo>
                  <a:lnTo>
                    <a:pt x="697" y="150"/>
                  </a:lnTo>
                  <a:lnTo>
                    <a:pt x="622" y="164"/>
                  </a:lnTo>
                  <a:lnTo>
                    <a:pt x="587" y="221"/>
                  </a:lnTo>
                  <a:lnTo>
                    <a:pt x="719" y="190"/>
                  </a:lnTo>
                  <a:lnTo>
                    <a:pt x="755" y="133"/>
                  </a:lnTo>
                  <a:lnTo>
                    <a:pt x="790" y="92"/>
                  </a:lnTo>
                  <a:lnTo>
                    <a:pt x="755" y="30"/>
                  </a:lnTo>
                  <a:lnTo>
                    <a:pt x="631" y="0"/>
                  </a:lnTo>
                  <a:lnTo>
                    <a:pt x="503" y="0"/>
                  </a:lnTo>
                  <a:lnTo>
                    <a:pt x="167" y="74"/>
                  </a:lnTo>
                  <a:lnTo>
                    <a:pt x="0" y="120"/>
                  </a:lnTo>
                  <a:lnTo>
                    <a:pt x="22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11200" y="532296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38" y="0"/>
                  </a:moveTo>
                  <a:lnTo>
                    <a:pt x="0" y="0"/>
                  </a:lnTo>
                  <a:lnTo>
                    <a:pt x="147" y="3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14600" y="512928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44" y="0"/>
                  </a:moveTo>
                  <a:lnTo>
                    <a:pt x="477" y="610"/>
                  </a:lnTo>
                  <a:lnTo>
                    <a:pt x="486" y="698"/>
                  </a:lnTo>
                  <a:lnTo>
                    <a:pt x="419" y="654"/>
                  </a:lnTo>
                  <a:lnTo>
                    <a:pt x="419" y="610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96880" y="5218200"/>
              <a:ext cx="100440" cy="62280"/>
            </a:xfrm>
            <a:custGeom>
              <a:avLst/>
              <a:gdLst/>
              <a:ahLst/>
              <a:rect l="0" t="0" r="r" b="b"/>
              <a:pathLst>
                <a:path w="279" h="173">
                  <a:moveTo>
                    <a:pt x="22" y="134"/>
                  </a:moveTo>
                  <a:lnTo>
                    <a:pt x="240" y="0"/>
                  </a:lnTo>
                  <a:lnTo>
                    <a:pt x="279" y="58"/>
                  </a:lnTo>
                  <a:lnTo>
                    <a:pt x="66" y="173"/>
                  </a:lnTo>
                  <a:lnTo>
                    <a:pt x="0" y="160"/>
                  </a:lnTo>
                  <a:lnTo>
                    <a:pt x="22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0040" y="4870440"/>
              <a:ext cx="484560" cy="322560"/>
            </a:xfrm>
            <a:custGeom>
              <a:avLst/>
              <a:gdLst/>
              <a:ahLst/>
              <a:rect l="0" t="0" r="r" b="b"/>
              <a:pathLst>
                <a:path w="1346" h="896">
                  <a:moveTo>
                    <a:pt x="0" y="834"/>
                  </a:moveTo>
                  <a:lnTo>
                    <a:pt x="1311" y="0"/>
                  </a:lnTo>
                  <a:lnTo>
                    <a:pt x="1346" y="26"/>
                  </a:lnTo>
                  <a:lnTo>
                    <a:pt x="1338" y="44"/>
                  </a:lnTo>
                  <a:lnTo>
                    <a:pt x="44" y="896"/>
                  </a:lnTo>
                  <a:lnTo>
                    <a:pt x="622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06520" y="4987800"/>
              <a:ext cx="224280" cy="335160"/>
            </a:xfrm>
            <a:custGeom>
              <a:avLst/>
              <a:gdLst/>
              <a:ahLst/>
              <a:rect l="0" t="0" r="r" b="b"/>
              <a:pathLst>
                <a:path w="623" h="931">
                  <a:moveTo>
                    <a:pt x="455" y="335"/>
                  </a:moveTo>
                  <a:lnTo>
                    <a:pt x="283" y="596"/>
                  </a:lnTo>
                  <a:lnTo>
                    <a:pt x="149" y="741"/>
                  </a:lnTo>
                  <a:lnTo>
                    <a:pt x="623" y="900"/>
                  </a:lnTo>
                  <a:lnTo>
                    <a:pt x="509" y="931"/>
                  </a:lnTo>
                  <a:lnTo>
                    <a:pt x="340" y="900"/>
                  </a:lnTo>
                  <a:lnTo>
                    <a:pt x="309" y="812"/>
                  </a:lnTo>
                  <a:lnTo>
                    <a:pt x="114" y="772"/>
                  </a:lnTo>
                  <a:lnTo>
                    <a:pt x="74" y="741"/>
                  </a:lnTo>
                  <a:lnTo>
                    <a:pt x="261" y="569"/>
                  </a:lnTo>
                  <a:lnTo>
                    <a:pt x="340" y="423"/>
                  </a:lnTo>
                  <a:lnTo>
                    <a:pt x="331" y="268"/>
                  </a:lnTo>
                  <a:lnTo>
                    <a:pt x="186" y="268"/>
                  </a:lnTo>
                  <a:lnTo>
                    <a:pt x="172" y="136"/>
                  </a:lnTo>
                  <a:lnTo>
                    <a:pt x="243" y="238"/>
                  </a:lnTo>
                  <a:lnTo>
                    <a:pt x="397" y="194"/>
                  </a:lnTo>
                  <a:lnTo>
                    <a:pt x="353" y="123"/>
                  </a:lnTo>
                  <a:lnTo>
                    <a:pt x="274" y="48"/>
                  </a:lnTo>
                  <a:lnTo>
                    <a:pt x="208" y="22"/>
                  </a:lnTo>
                  <a:lnTo>
                    <a:pt x="0" y="22"/>
                  </a:lnTo>
                  <a:lnTo>
                    <a:pt x="261" y="0"/>
                  </a:lnTo>
                  <a:lnTo>
                    <a:pt x="375" y="66"/>
                  </a:lnTo>
                  <a:lnTo>
                    <a:pt x="455" y="136"/>
                  </a:lnTo>
                  <a:lnTo>
                    <a:pt x="478" y="251"/>
                  </a:lnTo>
                  <a:lnTo>
                    <a:pt x="455" y="3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60400" y="5275440"/>
              <a:ext cx="154440" cy="194040"/>
            </a:xfrm>
            <a:custGeom>
              <a:avLst/>
              <a:gdLst/>
              <a:ahLst/>
              <a:rect l="0" t="0" r="r" b="b"/>
              <a:pathLst>
                <a:path w="429" h="539">
                  <a:moveTo>
                    <a:pt x="0" y="44"/>
                  </a:moveTo>
                  <a:lnTo>
                    <a:pt x="234" y="0"/>
                  </a:lnTo>
                  <a:lnTo>
                    <a:pt x="137" y="146"/>
                  </a:lnTo>
                  <a:lnTo>
                    <a:pt x="314" y="101"/>
                  </a:lnTo>
                  <a:lnTo>
                    <a:pt x="168" y="292"/>
                  </a:lnTo>
                  <a:lnTo>
                    <a:pt x="429" y="336"/>
                  </a:lnTo>
                  <a:lnTo>
                    <a:pt x="225" y="539"/>
                  </a:lnTo>
                  <a:lnTo>
                    <a:pt x="168" y="367"/>
                  </a:lnTo>
                  <a:lnTo>
                    <a:pt x="372" y="336"/>
                  </a:lnTo>
                  <a:lnTo>
                    <a:pt x="101" y="292"/>
                  </a:lnTo>
                  <a:lnTo>
                    <a:pt x="234" y="146"/>
                  </a:lnTo>
                  <a:lnTo>
                    <a:pt x="57" y="164"/>
                  </a:lnTo>
                  <a:lnTo>
                    <a:pt x="137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1371600" y="2514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99072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paring the Work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914400" y="152280"/>
            <a:ext cx="780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Work Sheet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838080" y="10666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used for complex compa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employs a special format that allows for the systematic analysis of all the changes in the balance sheet accounts to arrive at the statement of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of determining cash flows from operating activities is used because of its basis in changes in the balance sheet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914400" y="22860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Changes in Balance Sheet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91440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rd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changes in current assets an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about other transactions to account for changes in noncurren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lassify any other income and expense items not already dealt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2057400" y="1219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88840" y="2514600"/>
            <a:ext cx="79502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work sheet appro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dered more compatible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than with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ethod of determining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80880"/>
            <a:ext cx="1980000" cy="1980000"/>
            <a:chOff x="838080" y="380880"/>
            <a:chExt cx="1980000" cy="1980000"/>
          </a:xfrm>
        </p:grpSpPr>
        <p:sp>
          <p:nvSpPr>
            <p:cNvPr id="824" name=""/>
            <p:cNvSpPr/>
            <p:nvPr/>
          </p:nvSpPr>
          <p:spPr>
            <a:xfrm>
              <a:off x="844560" y="1353960"/>
              <a:ext cx="481320" cy="689400"/>
            </a:xfrm>
            <a:custGeom>
              <a:avLst/>
              <a:gdLst/>
              <a:ahLst/>
              <a:rect l="0" t="0" r="r" b="b"/>
              <a:pathLst>
                <a:path w="1337" h="1915">
                  <a:moveTo>
                    <a:pt x="533" y="0"/>
                  </a:moveTo>
                  <a:lnTo>
                    <a:pt x="463" y="88"/>
                  </a:lnTo>
                  <a:lnTo>
                    <a:pt x="463" y="330"/>
                  </a:lnTo>
                  <a:lnTo>
                    <a:pt x="533" y="516"/>
                  </a:lnTo>
                  <a:lnTo>
                    <a:pt x="612" y="605"/>
                  </a:lnTo>
                  <a:lnTo>
                    <a:pt x="493" y="724"/>
                  </a:lnTo>
                  <a:lnTo>
                    <a:pt x="335" y="1006"/>
                  </a:lnTo>
                  <a:lnTo>
                    <a:pt x="26" y="1448"/>
                  </a:lnTo>
                  <a:lnTo>
                    <a:pt x="0" y="1549"/>
                  </a:lnTo>
                  <a:lnTo>
                    <a:pt x="26" y="1642"/>
                  </a:lnTo>
                  <a:lnTo>
                    <a:pt x="123" y="1642"/>
                  </a:lnTo>
                  <a:lnTo>
                    <a:pt x="202" y="1536"/>
                  </a:lnTo>
                  <a:lnTo>
                    <a:pt x="335" y="1288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3"/>
                  </a:lnTo>
                  <a:lnTo>
                    <a:pt x="295" y="1774"/>
                  </a:lnTo>
                  <a:lnTo>
                    <a:pt x="335" y="1832"/>
                  </a:lnTo>
                  <a:lnTo>
                    <a:pt x="414" y="1818"/>
                  </a:lnTo>
                  <a:lnTo>
                    <a:pt x="582" y="1686"/>
                  </a:lnTo>
                  <a:lnTo>
                    <a:pt x="710" y="1466"/>
                  </a:lnTo>
                  <a:lnTo>
                    <a:pt x="710" y="1854"/>
                  </a:lnTo>
                  <a:lnTo>
                    <a:pt x="869" y="1915"/>
                  </a:lnTo>
                  <a:lnTo>
                    <a:pt x="966" y="1673"/>
                  </a:lnTo>
                  <a:lnTo>
                    <a:pt x="1050" y="1898"/>
                  </a:lnTo>
                  <a:lnTo>
                    <a:pt x="1112" y="1832"/>
                  </a:lnTo>
                  <a:lnTo>
                    <a:pt x="1143" y="1390"/>
                  </a:lnTo>
                  <a:lnTo>
                    <a:pt x="1337" y="971"/>
                  </a:lnTo>
                  <a:lnTo>
                    <a:pt x="1293" y="724"/>
                  </a:lnTo>
                  <a:lnTo>
                    <a:pt x="1156" y="640"/>
                  </a:lnTo>
                  <a:lnTo>
                    <a:pt x="1010" y="653"/>
                  </a:lnTo>
                  <a:lnTo>
                    <a:pt x="966" y="449"/>
                  </a:lnTo>
                  <a:lnTo>
                    <a:pt x="821" y="410"/>
                  </a:lnTo>
                  <a:lnTo>
                    <a:pt x="688" y="348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4520" y="1633680"/>
              <a:ext cx="144720" cy="335160"/>
            </a:xfrm>
            <a:custGeom>
              <a:avLst/>
              <a:gdLst/>
              <a:ahLst/>
              <a:rect l="0" t="0" r="r" b="b"/>
              <a:pathLst>
                <a:path w="402" h="931">
                  <a:moveTo>
                    <a:pt x="203" y="0"/>
                  </a:moveTo>
                  <a:lnTo>
                    <a:pt x="402" y="242"/>
                  </a:lnTo>
                  <a:lnTo>
                    <a:pt x="300" y="768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3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66840" y="1440000"/>
              <a:ext cx="356040" cy="305280"/>
            </a:xfrm>
            <a:custGeom>
              <a:avLst/>
              <a:gdLst/>
              <a:ahLst/>
              <a:rect l="0" t="0" r="r" b="b"/>
              <a:pathLst>
                <a:path w="989" h="848">
                  <a:moveTo>
                    <a:pt x="406" y="0"/>
                  </a:moveTo>
                  <a:lnTo>
                    <a:pt x="406" y="136"/>
                  </a:lnTo>
                  <a:lnTo>
                    <a:pt x="441" y="256"/>
                  </a:lnTo>
                  <a:lnTo>
                    <a:pt x="631" y="459"/>
                  </a:lnTo>
                  <a:lnTo>
                    <a:pt x="989" y="574"/>
                  </a:lnTo>
                  <a:lnTo>
                    <a:pt x="941" y="831"/>
                  </a:lnTo>
                  <a:lnTo>
                    <a:pt x="631" y="848"/>
                  </a:lnTo>
                  <a:lnTo>
                    <a:pt x="189" y="667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1560" y="1100160"/>
              <a:ext cx="492480" cy="667080"/>
            </a:xfrm>
            <a:custGeom>
              <a:avLst/>
              <a:gdLst/>
              <a:ahLst/>
              <a:rect l="0" t="0" r="r" b="b"/>
              <a:pathLst>
                <a:path w="1368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22"/>
                  </a:lnTo>
                  <a:lnTo>
                    <a:pt x="423" y="1822"/>
                  </a:lnTo>
                  <a:lnTo>
                    <a:pt x="414" y="1434"/>
                  </a:lnTo>
                  <a:lnTo>
                    <a:pt x="555" y="1835"/>
                  </a:lnTo>
                  <a:lnTo>
                    <a:pt x="648" y="1853"/>
                  </a:lnTo>
                  <a:lnTo>
                    <a:pt x="719" y="1716"/>
                  </a:lnTo>
                  <a:lnTo>
                    <a:pt x="733" y="1460"/>
                  </a:lnTo>
                  <a:lnTo>
                    <a:pt x="944" y="1698"/>
                  </a:lnTo>
                  <a:lnTo>
                    <a:pt x="1028" y="1685"/>
                  </a:lnTo>
                  <a:lnTo>
                    <a:pt x="1006" y="1513"/>
                  </a:lnTo>
                  <a:lnTo>
                    <a:pt x="927" y="1284"/>
                  </a:lnTo>
                  <a:lnTo>
                    <a:pt x="847" y="1134"/>
                  </a:lnTo>
                  <a:lnTo>
                    <a:pt x="878" y="1024"/>
                  </a:lnTo>
                  <a:lnTo>
                    <a:pt x="927" y="1041"/>
                  </a:lnTo>
                  <a:lnTo>
                    <a:pt x="1116" y="1284"/>
                  </a:lnTo>
                  <a:lnTo>
                    <a:pt x="1323" y="1341"/>
                  </a:lnTo>
                  <a:lnTo>
                    <a:pt x="1368" y="1266"/>
                  </a:lnTo>
                  <a:lnTo>
                    <a:pt x="1337" y="1143"/>
                  </a:lnTo>
                  <a:lnTo>
                    <a:pt x="953" y="771"/>
                  </a:lnTo>
                  <a:lnTo>
                    <a:pt x="648" y="652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0" y="0"/>
                  </a:lnTo>
                  <a:lnTo>
                    <a:pt x="414" y="502"/>
                  </a:lnTo>
                  <a:lnTo>
                    <a:pt x="216" y="577"/>
                  </a:lnTo>
                  <a:lnTo>
                    <a:pt x="167" y="709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96880" y="522360"/>
              <a:ext cx="543240" cy="852840"/>
            </a:xfrm>
            <a:custGeom>
              <a:avLst/>
              <a:gdLst/>
              <a:ahLst/>
              <a:rect l="0" t="0" r="r" b="b"/>
              <a:pathLst>
                <a:path w="1509" h="2369">
                  <a:moveTo>
                    <a:pt x="374" y="326"/>
                  </a:moveTo>
                  <a:lnTo>
                    <a:pt x="264" y="780"/>
                  </a:lnTo>
                  <a:lnTo>
                    <a:pt x="17" y="873"/>
                  </a:lnTo>
                  <a:lnTo>
                    <a:pt x="83" y="1018"/>
                  </a:lnTo>
                  <a:lnTo>
                    <a:pt x="0" y="1102"/>
                  </a:lnTo>
                  <a:lnTo>
                    <a:pt x="0" y="1275"/>
                  </a:lnTo>
                  <a:lnTo>
                    <a:pt x="119" y="1420"/>
                  </a:lnTo>
                  <a:lnTo>
                    <a:pt x="233" y="1420"/>
                  </a:lnTo>
                  <a:lnTo>
                    <a:pt x="313" y="1950"/>
                  </a:lnTo>
                  <a:lnTo>
                    <a:pt x="410" y="2170"/>
                  </a:lnTo>
                  <a:lnTo>
                    <a:pt x="718" y="2369"/>
                  </a:lnTo>
                  <a:lnTo>
                    <a:pt x="1024" y="2338"/>
                  </a:lnTo>
                  <a:lnTo>
                    <a:pt x="1169" y="1950"/>
                  </a:lnTo>
                  <a:lnTo>
                    <a:pt x="1209" y="1345"/>
                  </a:lnTo>
                  <a:lnTo>
                    <a:pt x="1509" y="1049"/>
                  </a:lnTo>
                  <a:lnTo>
                    <a:pt x="1491" y="930"/>
                  </a:lnTo>
                  <a:lnTo>
                    <a:pt x="1460" y="873"/>
                  </a:lnTo>
                  <a:lnTo>
                    <a:pt x="1301" y="859"/>
                  </a:lnTo>
                  <a:lnTo>
                    <a:pt x="1350" y="705"/>
                  </a:lnTo>
                  <a:lnTo>
                    <a:pt x="1191" y="599"/>
                  </a:lnTo>
                  <a:lnTo>
                    <a:pt x="1125" y="260"/>
                  </a:lnTo>
                  <a:lnTo>
                    <a:pt x="657" y="0"/>
                  </a:lnTo>
                  <a:lnTo>
                    <a:pt x="410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6840" y="123192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81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92"/>
                  </a:lnTo>
                  <a:lnTo>
                    <a:pt x="1377" y="533"/>
                  </a:lnTo>
                  <a:lnTo>
                    <a:pt x="975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8800" y="40968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8" y="715"/>
                  </a:moveTo>
                  <a:lnTo>
                    <a:pt x="348" y="512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4" y="481"/>
                  </a:lnTo>
                  <a:lnTo>
                    <a:pt x="604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1" y="666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57"/>
                  </a:lnTo>
                  <a:lnTo>
                    <a:pt x="1032" y="343"/>
                  </a:lnTo>
                  <a:lnTo>
                    <a:pt x="1063" y="194"/>
                  </a:lnTo>
                  <a:lnTo>
                    <a:pt x="900" y="211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3"/>
                  </a:lnTo>
                  <a:lnTo>
                    <a:pt x="604" y="163"/>
                  </a:lnTo>
                  <a:lnTo>
                    <a:pt x="621" y="0"/>
                  </a:lnTo>
                  <a:lnTo>
                    <a:pt x="467" y="79"/>
                  </a:lnTo>
                  <a:lnTo>
                    <a:pt x="251" y="343"/>
                  </a:lnTo>
                  <a:lnTo>
                    <a:pt x="242" y="163"/>
                  </a:lnTo>
                  <a:lnTo>
                    <a:pt x="127" y="255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82640" y="1420920"/>
              <a:ext cx="147960" cy="765360"/>
            </a:xfrm>
            <a:custGeom>
              <a:avLst/>
              <a:gdLst/>
              <a:ahLst/>
              <a:rect l="0" t="0" r="r" b="b"/>
              <a:pathLst>
                <a:path w="411" h="2126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1" y="339"/>
                  </a:lnTo>
                  <a:lnTo>
                    <a:pt x="35" y="621"/>
                  </a:lnTo>
                  <a:lnTo>
                    <a:pt x="0" y="996"/>
                  </a:lnTo>
                  <a:lnTo>
                    <a:pt x="101" y="1487"/>
                  </a:lnTo>
                  <a:lnTo>
                    <a:pt x="101" y="1694"/>
                  </a:lnTo>
                  <a:lnTo>
                    <a:pt x="48" y="1853"/>
                  </a:lnTo>
                  <a:lnTo>
                    <a:pt x="261" y="2126"/>
                  </a:lnTo>
                  <a:lnTo>
                    <a:pt x="393" y="1711"/>
                  </a:lnTo>
                  <a:lnTo>
                    <a:pt x="393" y="1429"/>
                  </a:lnTo>
                  <a:lnTo>
                    <a:pt x="296" y="1160"/>
                  </a:lnTo>
                  <a:lnTo>
                    <a:pt x="243" y="802"/>
                  </a:lnTo>
                  <a:lnTo>
                    <a:pt x="349" y="449"/>
                  </a:lnTo>
                  <a:lnTo>
                    <a:pt x="309" y="313"/>
                  </a:lnTo>
                  <a:lnTo>
                    <a:pt x="411" y="242"/>
                  </a:lnTo>
                  <a:lnTo>
                    <a:pt x="393" y="145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7960" y="116208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61"/>
                  </a:moveTo>
                  <a:lnTo>
                    <a:pt x="128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47640" y="80640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90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08280" y="776160"/>
              <a:ext cx="127440" cy="149760"/>
            </a:xfrm>
            <a:custGeom>
              <a:avLst/>
              <a:gdLst/>
              <a:ahLst/>
              <a:rect l="0" t="0" r="r" b="b"/>
              <a:pathLst>
                <a:path w="354" h="416">
                  <a:moveTo>
                    <a:pt x="0" y="57"/>
                  </a:moveTo>
                  <a:lnTo>
                    <a:pt x="243" y="416"/>
                  </a:lnTo>
                  <a:lnTo>
                    <a:pt x="354" y="323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0" y="57960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87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6" y="1037"/>
                  </a:lnTo>
                  <a:lnTo>
                    <a:pt x="211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1"/>
                  </a:lnTo>
                  <a:lnTo>
                    <a:pt x="869" y="997"/>
                  </a:lnTo>
                  <a:lnTo>
                    <a:pt x="1046" y="997"/>
                  </a:lnTo>
                  <a:lnTo>
                    <a:pt x="1222" y="953"/>
                  </a:lnTo>
                  <a:lnTo>
                    <a:pt x="1345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9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4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3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0040" y="101448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1" y="67"/>
                  </a:lnTo>
                  <a:lnTo>
                    <a:pt x="441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73"/>
                  </a:lnTo>
                  <a:lnTo>
                    <a:pt x="39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87520" y="89208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83"/>
                  </a:moveTo>
                  <a:lnTo>
                    <a:pt x="698" y="97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4" y="202"/>
                  </a:lnTo>
                  <a:lnTo>
                    <a:pt x="314" y="605"/>
                  </a:lnTo>
                  <a:lnTo>
                    <a:pt x="358" y="944"/>
                  </a:lnTo>
                  <a:lnTo>
                    <a:pt x="441" y="1125"/>
                  </a:lnTo>
                  <a:lnTo>
                    <a:pt x="358" y="993"/>
                  </a:lnTo>
                  <a:lnTo>
                    <a:pt x="327" y="852"/>
                  </a:lnTo>
                  <a:lnTo>
                    <a:pt x="274" y="471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48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52680" y="56988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5" y="202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49440" y="38088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7" y="534"/>
                  </a:moveTo>
                  <a:lnTo>
                    <a:pt x="149" y="618"/>
                  </a:lnTo>
                  <a:lnTo>
                    <a:pt x="132" y="516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4" y="149"/>
                  </a:lnTo>
                  <a:lnTo>
                    <a:pt x="590" y="132"/>
                  </a:lnTo>
                  <a:lnTo>
                    <a:pt x="542" y="264"/>
                  </a:lnTo>
                  <a:lnTo>
                    <a:pt x="709" y="326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32" y="335"/>
                  </a:lnTo>
                  <a:lnTo>
                    <a:pt x="940" y="428"/>
                  </a:lnTo>
                  <a:lnTo>
                    <a:pt x="1262" y="490"/>
                  </a:lnTo>
                  <a:lnTo>
                    <a:pt x="1046" y="556"/>
                  </a:lnTo>
                  <a:lnTo>
                    <a:pt x="1315" y="591"/>
                  </a:lnTo>
                  <a:lnTo>
                    <a:pt x="993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6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0" y="605"/>
                  </a:lnTo>
                  <a:lnTo>
                    <a:pt x="1306" y="543"/>
                  </a:lnTo>
                  <a:lnTo>
                    <a:pt x="1575" y="525"/>
                  </a:lnTo>
                  <a:lnTo>
                    <a:pt x="1345" y="397"/>
                  </a:lnTo>
                  <a:lnTo>
                    <a:pt x="1081" y="370"/>
                  </a:lnTo>
                  <a:lnTo>
                    <a:pt x="1288" y="242"/>
                  </a:lnTo>
                  <a:lnTo>
                    <a:pt x="913" y="242"/>
                  </a:lnTo>
                  <a:lnTo>
                    <a:pt x="1094" y="119"/>
                  </a:lnTo>
                  <a:lnTo>
                    <a:pt x="825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6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9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3280" y="53352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78" y="186"/>
                  </a:lnTo>
                  <a:lnTo>
                    <a:pt x="446" y="225"/>
                  </a:lnTo>
                  <a:lnTo>
                    <a:pt x="265" y="199"/>
                  </a:lnTo>
                  <a:lnTo>
                    <a:pt x="216" y="137"/>
                  </a:lnTo>
                  <a:lnTo>
                    <a:pt x="141" y="199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60680" y="1114560"/>
              <a:ext cx="190800" cy="125640"/>
            </a:xfrm>
            <a:custGeom>
              <a:avLst/>
              <a:gdLst/>
              <a:ahLst/>
              <a:rect l="0" t="0" r="r" b="b"/>
              <a:pathLst>
                <a:path w="530" h="349">
                  <a:moveTo>
                    <a:pt x="101" y="123"/>
                  </a:moveTo>
                  <a:lnTo>
                    <a:pt x="318" y="105"/>
                  </a:lnTo>
                  <a:lnTo>
                    <a:pt x="419" y="127"/>
                  </a:lnTo>
                  <a:lnTo>
                    <a:pt x="477" y="79"/>
                  </a:lnTo>
                  <a:lnTo>
                    <a:pt x="530" y="195"/>
                  </a:lnTo>
                  <a:lnTo>
                    <a:pt x="494" y="217"/>
                  </a:lnTo>
                  <a:lnTo>
                    <a:pt x="446" y="171"/>
                  </a:lnTo>
                  <a:lnTo>
                    <a:pt x="375" y="252"/>
                  </a:lnTo>
                  <a:lnTo>
                    <a:pt x="246" y="349"/>
                  </a:lnTo>
                  <a:lnTo>
                    <a:pt x="189" y="349"/>
                  </a:lnTo>
                  <a:lnTo>
                    <a:pt x="101" y="300"/>
                  </a:lnTo>
                  <a:lnTo>
                    <a:pt x="194" y="340"/>
                  </a:lnTo>
                  <a:lnTo>
                    <a:pt x="233" y="340"/>
                  </a:lnTo>
                  <a:lnTo>
                    <a:pt x="318" y="274"/>
                  </a:lnTo>
                  <a:lnTo>
                    <a:pt x="371" y="158"/>
                  </a:lnTo>
                  <a:lnTo>
                    <a:pt x="287" y="141"/>
                  </a:lnTo>
                  <a:lnTo>
                    <a:pt x="229" y="127"/>
                  </a:lnTo>
                  <a:lnTo>
                    <a:pt x="88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33680" y="83664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83"/>
                  </a:lnTo>
                  <a:lnTo>
                    <a:pt x="1148" y="167"/>
                  </a:lnTo>
                  <a:lnTo>
                    <a:pt x="1051" y="423"/>
                  </a:lnTo>
                  <a:lnTo>
                    <a:pt x="958" y="546"/>
                  </a:lnTo>
                  <a:lnTo>
                    <a:pt x="860" y="564"/>
                  </a:lnTo>
                  <a:lnTo>
                    <a:pt x="834" y="564"/>
                  </a:lnTo>
                  <a:lnTo>
                    <a:pt x="834" y="887"/>
                  </a:lnTo>
                  <a:lnTo>
                    <a:pt x="883" y="1121"/>
                  </a:lnTo>
                  <a:lnTo>
                    <a:pt x="883" y="1310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42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0"/>
                  </a:lnTo>
                  <a:lnTo>
                    <a:pt x="220" y="1394"/>
                  </a:lnTo>
                  <a:lnTo>
                    <a:pt x="406" y="1407"/>
                  </a:lnTo>
                  <a:lnTo>
                    <a:pt x="574" y="1328"/>
                  </a:lnTo>
                  <a:lnTo>
                    <a:pt x="653" y="1235"/>
                  </a:lnTo>
                  <a:lnTo>
                    <a:pt x="750" y="1063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5"/>
                  </a:lnTo>
                  <a:lnTo>
                    <a:pt x="958" y="216"/>
                  </a:lnTo>
                  <a:lnTo>
                    <a:pt x="1073" y="167"/>
                  </a:lnTo>
                  <a:lnTo>
                    <a:pt x="1104" y="101"/>
                  </a:lnTo>
                  <a:lnTo>
                    <a:pt x="1091" y="35"/>
                  </a:lnTo>
                  <a:lnTo>
                    <a:pt x="1038" y="8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95400" y="134460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30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61" y="1161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5"/>
                  </a:lnTo>
                  <a:lnTo>
                    <a:pt x="791" y="1192"/>
                  </a:lnTo>
                  <a:lnTo>
                    <a:pt x="826" y="1134"/>
                  </a:lnTo>
                  <a:lnTo>
                    <a:pt x="879" y="979"/>
                  </a:lnTo>
                  <a:lnTo>
                    <a:pt x="866" y="834"/>
                  </a:lnTo>
                  <a:lnTo>
                    <a:pt x="795" y="746"/>
                  </a:lnTo>
                  <a:lnTo>
                    <a:pt x="680" y="724"/>
                  </a:lnTo>
                  <a:lnTo>
                    <a:pt x="561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71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58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8080" y="1585800"/>
              <a:ext cx="217800" cy="435240"/>
            </a:xfrm>
            <a:custGeom>
              <a:avLst/>
              <a:gdLst/>
              <a:ahLst/>
              <a:rect l="0" t="0" r="r" b="b"/>
              <a:pathLst>
                <a:path w="605" h="1209">
                  <a:moveTo>
                    <a:pt x="605" y="0"/>
                  </a:moveTo>
                  <a:lnTo>
                    <a:pt x="481" y="83"/>
                  </a:lnTo>
                  <a:lnTo>
                    <a:pt x="336" y="374"/>
                  </a:lnTo>
                  <a:lnTo>
                    <a:pt x="18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29" y="913"/>
                  </a:lnTo>
                  <a:lnTo>
                    <a:pt x="322" y="693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4" y="900"/>
                  </a:lnTo>
                  <a:lnTo>
                    <a:pt x="295" y="1112"/>
                  </a:lnTo>
                  <a:lnTo>
                    <a:pt x="295" y="1178"/>
                  </a:lnTo>
                  <a:lnTo>
                    <a:pt x="424" y="1209"/>
                  </a:lnTo>
                  <a:lnTo>
                    <a:pt x="336" y="1151"/>
                  </a:lnTo>
                  <a:lnTo>
                    <a:pt x="344" y="1112"/>
                  </a:lnTo>
                  <a:lnTo>
                    <a:pt x="437" y="953"/>
                  </a:lnTo>
                  <a:lnTo>
                    <a:pt x="499" y="671"/>
                  </a:lnTo>
                  <a:lnTo>
                    <a:pt x="455" y="511"/>
                  </a:lnTo>
                  <a:lnTo>
                    <a:pt x="358" y="599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58" y="392"/>
                  </a:lnTo>
                  <a:lnTo>
                    <a:pt x="499" y="11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00080" y="1832040"/>
              <a:ext cx="135360" cy="206640"/>
            </a:xfrm>
            <a:custGeom>
              <a:avLst/>
              <a:gdLst/>
              <a:ahLst/>
              <a:rect l="0" t="0" r="r" b="b"/>
              <a:pathLst>
                <a:path w="376" h="574">
                  <a:moveTo>
                    <a:pt x="0" y="503"/>
                  </a:moveTo>
                  <a:lnTo>
                    <a:pt x="124" y="358"/>
                  </a:lnTo>
                  <a:lnTo>
                    <a:pt x="146" y="211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21"/>
                  </a:lnTo>
                  <a:lnTo>
                    <a:pt x="376" y="574"/>
                  </a:lnTo>
                  <a:lnTo>
                    <a:pt x="265" y="534"/>
                  </a:lnTo>
                  <a:lnTo>
                    <a:pt x="208" y="318"/>
                  </a:lnTo>
                  <a:lnTo>
                    <a:pt x="124" y="424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66760" y="1841400"/>
              <a:ext cx="90720" cy="186120"/>
            </a:xfrm>
            <a:custGeom>
              <a:avLst/>
              <a:gdLst/>
              <a:ahLst/>
              <a:rect l="0" t="0" r="r" b="b"/>
              <a:pathLst>
                <a:path w="252" h="517">
                  <a:moveTo>
                    <a:pt x="0" y="390"/>
                  </a:moveTo>
                  <a:lnTo>
                    <a:pt x="13" y="199"/>
                  </a:lnTo>
                  <a:lnTo>
                    <a:pt x="61" y="83"/>
                  </a:lnTo>
                  <a:lnTo>
                    <a:pt x="123" y="491"/>
                  </a:lnTo>
                  <a:lnTo>
                    <a:pt x="199" y="491"/>
                  </a:lnTo>
                  <a:lnTo>
                    <a:pt x="230" y="57"/>
                  </a:lnTo>
                  <a:lnTo>
                    <a:pt x="252" y="0"/>
                  </a:lnTo>
                  <a:lnTo>
                    <a:pt x="230" y="336"/>
                  </a:lnTo>
                  <a:lnTo>
                    <a:pt x="199" y="517"/>
                  </a:lnTo>
                  <a:lnTo>
                    <a:pt x="101" y="517"/>
                  </a:lnTo>
                  <a:lnTo>
                    <a:pt x="57" y="159"/>
                  </a:lnTo>
                  <a:lnTo>
                    <a:pt x="30" y="212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08320" y="110340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5"/>
                  </a:moveTo>
                  <a:lnTo>
                    <a:pt x="202" y="537"/>
                  </a:lnTo>
                  <a:lnTo>
                    <a:pt x="411" y="476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0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69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58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54120" y="110340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9" y="599"/>
                  </a:lnTo>
                  <a:lnTo>
                    <a:pt x="605" y="763"/>
                  </a:lnTo>
                  <a:lnTo>
                    <a:pt x="1003" y="1187"/>
                  </a:lnTo>
                  <a:lnTo>
                    <a:pt x="1011" y="1301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38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4" y="1156"/>
                  </a:lnTo>
                  <a:lnTo>
                    <a:pt x="587" y="847"/>
                  </a:lnTo>
                  <a:lnTo>
                    <a:pt x="530" y="763"/>
                  </a:lnTo>
                  <a:lnTo>
                    <a:pt x="246" y="684"/>
                  </a:lnTo>
                  <a:lnTo>
                    <a:pt x="194" y="763"/>
                  </a:lnTo>
                  <a:lnTo>
                    <a:pt x="0" y="891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7" y="264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87520" y="1486080"/>
              <a:ext cx="311400" cy="287640"/>
            </a:xfrm>
            <a:custGeom>
              <a:avLst/>
              <a:gdLst/>
              <a:ahLst/>
              <a:rect l="0" t="0" r="r" b="b"/>
              <a:pathLst>
                <a:path w="865" h="799">
                  <a:moveTo>
                    <a:pt x="649" y="0"/>
                  </a:moveTo>
                  <a:lnTo>
                    <a:pt x="627" y="70"/>
                  </a:lnTo>
                  <a:lnTo>
                    <a:pt x="755" y="330"/>
                  </a:lnTo>
                  <a:lnTo>
                    <a:pt x="821" y="600"/>
                  </a:lnTo>
                  <a:lnTo>
                    <a:pt x="746" y="600"/>
                  </a:lnTo>
                  <a:lnTo>
                    <a:pt x="613" y="486"/>
                  </a:lnTo>
                  <a:lnTo>
                    <a:pt x="499" y="233"/>
                  </a:lnTo>
                  <a:lnTo>
                    <a:pt x="405" y="194"/>
                  </a:lnTo>
                  <a:lnTo>
                    <a:pt x="423" y="330"/>
                  </a:lnTo>
                  <a:lnTo>
                    <a:pt x="508" y="428"/>
                  </a:lnTo>
                  <a:lnTo>
                    <a:pt x="508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8" y="486"/>
                  </a:lnTo>
                  <a:lnTo>
                    <a:pt x="242" y="330"/>
                  </a:lnTo>
                  <a:lnTo>
                    <a:pt x="185" y="286"/>
                  </a:lnTo>
                  <a:lnTo>
                    <a:pt x="171" y="675"/>
                  </a:lnTo>
                  <a:lnTo>
                    <a:pt x="92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1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51" y="512"/>
                  </a:lnTo>
                  <a:lnTo>
                    <a:pt x="352" y="768"/>
                  </a:lnTo>
                  <a:lnTo>
                    <a:pt x="455" y="799"/>
                  </a:lnTo>
                  <a:lnTo>
                    <a:pt x="534" y="693"/>
                  </a:lnTo>
                  <a:lnTo>
                    <a:pt x="534" y="441"/>
                  </a:lnTo>
                  <a:lnTo>
                    <a:pt x="746" y="649"/>
                  </a:lnTo>
                  <a:lnTo>
                    <a:pt x="852" y="649"/>
                  </a:lnTo>
                  <a:lnTo>
                    <a:pt x="865" y="512"/>
                  </a:lnTo>
                  <a:lnTo>
                    <a:pt x="785" y="260"/>
                  </a:lnTo>
                  <a:lnTo>
                    <a:pt x="649" y="52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1560" y="1189080"/>
              <a:ext cx="1373400" cy="1171800"/>
            </a:xfrm>
            <a:custGeom>
              <a:avLst/>
              <a:gdLst/>
              <a:ahLst/>
              <a:rect l="0" t="0" r="r" b="b"/>
              <a:pathLst>
                <a:path w="3815" h="3255">
                  <a:moveTo>
                    <a:pt x="1371" y="273"/>
                  </a:moveTo>
                  <a:lnTo>
                    <a:pt x="1300" y="286"/>
                  </a:lnTo>
                  <a:lnTo>
                    <a:pt x="1199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3" y="524"/>
                  </a:lnTo>
                  <a:lnTo>
                    <a:pt x="564" y="784"/>
                  </a:lnTo>
                  <a:lnTo>
                    <a:pt x="586" y="895"/>
                  </a:lnTo>
                  <a:lnTo>
                    <a:pt x="507" y="992"/>
                  </a:lnTo>
                  <a:lnTo>
                    <a:pt x="507" y="1075"/>
                  </a:lnTo>
                  <a:lnTo>
                    <a:pt x="599" y="1322"/>
                  </a:lnTo>
                  <a:lnTo>
                    <a:pt x="608" y="1622"/>
                  </a:lnTo>
                  <a:lnTo>
                    <a:pt x="546" y="1906"/>
                  </a:lnTo>
                  <a:lnTo>
                    <a:pt x="299" y="2077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0"/>
                  </a:lnTo>
                  <a:lnTo>
                    <a:pt x="0" y="2382"/>
                  </a:lnTo>
                  <a:lnTo>
                    <a:pt x="171" y="2660"/>
                  </a:lnTo>
                  <a:lnTo>
                    <a:pt x="286" y="2673"/>
                  </a:lnTo>
                  <a:lnTo>
                    <a:pt x="507" y="2876"/>
                  </a:lnTo>
                  <a:lnTo>
                    <a:pt x="701" y="2902"/>
                  </a:lnTo>
                  <a:lnTo>
                    <a:pt x="811" y="2796"/>
                  </a:lnTo>
                  <a:lnTo>
                    <a:pt x="1071" y="2391"/>
                  </a:lnTo>
                  <a:lnTo>
                    <a:pt x="1093" y="2933"/>
                  </a:lnTo>
                  <a:lnTo>
                    <a:pt x="1071" y="3255"/>
                  </a:lnTo>
                  <a:lnTo>
                    <a:pt x="3277" y="3255"/>
                  </a:lnTo>
                  <a:lnTo>
                    <a:pt x="3114" y="2902"/>
                  </a:lnTo>
                  <a:lnTo>
                    <a:pt x="3034" y="2602"/>
                  </a:lnTo>
                  <a:lnTo>
                    <a:pt x="3017" y="2152"/>
                  </a:lnTo>
                  <a:lnTo>
                    <a:pt x="3149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89"/>
                  </a:lnTo>
                  <a:lnTo>
                    <a:pt x="3815" y="1569"/>
                  </a:lnTo>
                  <a:lnTo>
                    <a:pt x="3758" y="1477"/>
                  </a:lnTo>
                  <a:lnTo>
                    <a:pt x="3678" y="1477"/>
                  </a:lnTo>
                  <a:lnTo>
                    <a:pt x="3612" y="1534"/>
                  </a:lnTo>
                  <a:lnTo>
                    <a:pt x="3546" y="1552"/>
                  </a:lnTo>
                  <a:lnTo>
                    <a:pt x="3467" y="1477"/>
                  </a:lnTo>
                  <a:lnTo>
                    <a:pt x="3378" y="1464"/>
                  </a:lnTo>
                  <a:lnTo>
                    <a:pt x="3202" y="1349"/>
                  </a:lnTo>
                  <a:lnTo>
                    <a:pt x="3092" y="1225"/>
                  </a:lnTo>
                  <a:lnTo>
                    <a:pt x="3074" y="1075"/>
                  </a:lnTo>
                  <a:lnTo>
                    <a:pt x="3092" y="934"/>
                  </a:lnTo>
                  <a:lnTo>
                    <a:pt x="3162" y="815"/>
                  </a:lnTo>
                  <a:lnTo>
                    <a:pt x="3259" y="705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3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7"/>
                  </a:lnTo>
                  <a:lnTo>
                    <a:pt x="2161" y="1084"/>
                  </a:lnTo>
                  <a:lnTo>
                    <a:pt x="2069" y="1375"/>
                  </a:lnTo>
                  <a:lnTo>
                    <a:pt x="2064" y="1552"/>
                  </a:lnTo>
                  <a:lnTo>
                    <a:pt x="2016" y="1707"/>
                  </a:lnTo>
                  <a:lnTo>
                    <a:pt x="1963" y="1853"/>
                  </a:lnTo>
                  <a:lnTo>
                    <a:pt x="1932" y="2086"/>
                  </a:lnTo>
                  <a:lnTo>
                    <a:pt x="1950" y="2285"/>
                  </a:lnTo>
                  <a:lnTo>
                    <a:pt x="2016" y="2510"/>
                  </a:lnTo>
                  <a:lnTo>
                    <a:pt x="2064" y="2602"/>
                  </a:lnTo>
                  <a:lnTo>
                    <a:pt x="1932" y="2686"/>
                  </a:lnTo>
                  <a:lnTo>
                    <a:pt x="1777" y="2739"/>
                  </a:lnTo>
                  <a:lnTo>
                    <a:pt x="1609" y="2752"/>
                  </a:lnTo>
                  <a:lnTo>
                    <a:pt x="1508" y="2752"/>
                  </a:lnTo>
                  <a:lnTo>
                    <a:pt x="1437" y="2726"/>
                  </a:lnTo>
                  <a:lnTo>
                    <a:pt x="1437" y="2532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2" y="1499"/>
                  </a:lnTo>
                  <a:lnTo>
                    <a:pt x="1283" y="1212"/>
                  </a:lnTo>
                  <a:lnTo>
                    <a:pt x="1327" y="961"/>
                  </a:lnTo>
                  <a:lnTo>
                    <a:pt x="1393" y="758"/>
                  </a:lnTo>
                  <a:lnTo>
                    <a:pt x="1402" y="639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3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6520" y="1422360"/>
              <a:ext cx="171720" cy="762480"/>
            </a:xfrm>
            <a:custGeom>
              <a:avLst/>
              <a:gdLst/>
              <a:ahLst/>
              <a:rect l="0" t="0" r="r" b="b"/>
              <a:pathLst>
                <a:path w="477" h="2118">
                  <a:moveTo>
                    <a:pt x="189" y="26"/>
                  </a:moveTo>
                  <a:lnTo>
                    <a:pt x="61" y="97"/>
                  </a:lnTo>
                  <a:lnTo>
                    <a:pt x="74" y="295"/>
                  </a:lnTo>
                  <a:lnTo>
                    <a:pt x="167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70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27" y="2078"/>
                  </a:lnTo>
                  <a:lnTo>
                    <a:pt x="380" y="1898"/>
                  </a:lnTo>
                  <a:lnTo>
                    <a:pt x="468" y="1664"/>
                  </a:lnTo>
                  <a:lnTo>
                    <a:pt x="477" y="1539"/>
                  </a:lnTo>
                  <a:lnTo>
                    <a:pt x="402" y="1306"/>
                  </a:lnTo>
                  <a:lnTo>
                    <a:pt x="314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4" y="631"/>
                  </a:lnTo>
                  <a:lnTo>
                    <a:pt x="380" y="463"/>
                  </a:lnTo>
                  <a:lnTo>
                    <a:pt x="380" y="396"/>
                  </a:lnTo>
                  <a:lnTo>
                    <a:pt x="349" y="326"/>
                  </a:lnTo>
                  <a:lnTo>
                    <a:pt x="437" y="242"/>
                  </a:lnTo>
                  <a:lnTo>
                    <a:pt x="437" y="158"/>
                  </a:lnTo>
                  <a:lnTo>
                    <a:pt x="314" y="0"/>
                  </a:lnTo>
                  <a:lnTo>
                    <a:pt x="415" y="158"/>
                  </a:lnTo>
                  <a:lnTo>
                    <a:pt x="415" y="229"/>
                  </a:lnTo>
                  <a:lnTo>
                    <a:pt x="322" y="295"/>
                  </a:lnTo>
                  <a:lnTo>
                    <a:pt x="362" y="396"/>
                  </a:lnTo>
                  <a:lnTo>
                    <a:pt x="349" y="463"/>
                  </a:lnTo>
                  <a:lnTo>
                    <a:pt x="256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27" y="1279"/>
                  </a:lnTo>
                  <a:lnTo>
                    <a:pt x="402" y="1482"/>
                  </a:lnTo>
                  <a:lnTo>
                    <a:pt x="402" y="1651"/>
                  </a:lnTo>
                  <a:lnTo>
                    <a:pt x="362" y="1858"/>
                  </a:lnTo>
                  <a:lnTo>
                    <a:pt x="269" y="2078"/>
                  </a:lnTo>
                  <a:lnTo>
                    <a:pt x="154" y="1959"/>
                  </a:lnTo>
                  <a:lnTo>
                    <a:pt x="114" y="1858"/>
                  </a:lnTo>
                  <a:lnTo>
                    <a:pt x="119" y="1651"/>
                  </a:lnTo>
                  <a:lnTo>
                    <a:pt x="114" y="1442"/>
                  </a:lnTo>
                  <a:lnTo>
                    <a:pt x="52" y="1160"/>
                  </a:lnTo>
                  <a:lnTo>
                    <a:pt x="35" y="971"/>
                  </a:lnTo>
                  <a:lnTo>
                    <a:pt x="52" y="755"/>
                  </a:lnTo>
                  <a:lnTo>
                    <a:pt x="101" y="547"/>
                  </a:lnTo>
                  <a:lnTo>
                    <a:pt x="198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8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8640" y="53352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4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08" y="402"/>
                  </a:lnTo>
                  <a:lnTo>
                    <a:pt x="508" y="459"/>
                  </a:lnTo>
                  <a:lnTo>
                    <a:pt x="486" y="490"/>
                  </a:lnTo>
                  <a:lnTo>
                    <a:pt x="433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89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5"/>
                  </a:lnTo>
                  <a:lnTo>
                    <a:pt x="486" y="778"/>
                  </a:lnTo>
                  <a:lnTo>
                    <a:pt x="584" y="759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3"/>
                  </a:lnTo>
                  <a:lnTo>
                    <a:pt x="734" y="274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6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22560" y="893880"/>
              <a:ext cx="95760" cy="73440"/>
            </a:xfrm>
            <a:custGeom>
              <a:avLst/>
              <a:gdLst/>
              <a:ahLst/>
              <a:rect l="0" t="0" r="r" b="b"/>
              <a:pathLst>
                <a:path w="266" h="204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0" y="200"/>
                  </a:lnTo>
                  <a:lnTo>
                    <a:pt x="266" y="156"/>
                  </a:lnTo>
                  <a:lnTo>
                    <a:pt x="248" y="111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838080" y="2133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m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tible with the indirect method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direct method because in bot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and the work she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roach, net income is adjusted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the balance sheet accoun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instead of each item i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 being adjusted individually, a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the direct metho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90720" y="228600"/>
            <a:ext cx="1522440" cy="1827720"/>
            <a:chOff x="990720" y="228600"/>
            <a:chExt cx="1522440" cy="1827720"/>
          </a:xfrm>
        </p:grpSpPr>
        <p:sp>
          <p:nvSpPr>
            <p:cNvPr id="856" name=""/>
            <p:cNvSpPr/>
            <p:nvPr/>
          </p:nvSpPr>
          <p:spPr>
            <a:xfrm>
              <a:off x="1327320" y="371520"/>
              <a:ext cx="559080" cy="840240"/>
            </a:xfrm>
            <a:custGeom>
              <a:avLst/>
              <a:gdLst/>
              <a:ahLst/>
              <a:rect l="0" t="0" r="r" b="b"/>
              <a:pathLst>
                <a:path w="1553" h="2334">
                  <a:moveTo>
                    <a:pt x="777" y="0"/>
                  </a:moveTo>
                  <a:lnTo>
                    <a:pt x="957" y="507"/>
                  </a:lnTo>
                  <a:lnTo>
                    <a:pt x="1072" y="865"/>
                  </a:lnTo>
                  <a:lnTo>
                    <a:pt x="1054" y="922"/>
                  </a:lnTo>
                  <a:lnTo>
                    <a:pt x="940" y="1222"/>
                  </a:lnTo>
                  <a:lnTo>
                    <a:pt x="896" y="1275"/>
                  </a:lnTo>
                  <a:lnTo>
                    <a:pt x="904" y="1381"/>
                  </a:lnTo>
                  <a:lnTo>
                    <a:pt x="821" y="1429"/>
                  </a:lnTo>
                  <a:lnTo>
                    <a:pt x="745" y="1429"/>
                  </a:lnTo>
                  <a:lnTo>
                    <a:pt x="612" y="1381"/>
                  </a:lnTo>
                  <a:lnTo>
                    <a:pt x="604" y="1509"/>
                  </a:lnTo>
                  <a:lnTo>
                    <a:pt x="1129" y="1650"/>
                  </a:lnTo>
                  <a:lnTo>
                    <a:pt x="1103" y="1517"/>
                  </a:lnTo>
                  <a:lnTo>
                    <a:pt x="1121" y="1381"/>
                  </a:lnTo>
                  <a:lnTo>
                    <a:pt x="1178" y="1288"/>
                  </a:lnTo>
                  <a:lnTo>
                    <a:pt x="1271" y="1288"/>
                  </a:lnTo>
                  <a:lnTo>
                    <a:pt x="1412" y="1341"/>
                  </a:lnTo>
                  <a:lnTo>
                    <a:pt x="1553" y="1429"/>
                  </a:lnTo>
                  <a:lnTo>
                    <a:pt x="1412" y="1575"/>
                  </a:lnTo>
                  <a:lnTo>
                    <a:pt x="1037" y="2334"/>
                  </a:lnTo>
                  <a:lnTo>
                    <a:pt x="582" y="2325"/>
                  </a:lnTo>
                  <a:lnTo>
                    <a:pt x="92" y="997"/>
                  </a:lnTo>
                  <a:lnTo>
                    <a:pt x="0" y="755"/>
                  </a:lnTo>
                  <a:lnTo>
                    <a:pt x="0" y="622"/>
                  </a:lnTo>
                  <a:lnTo>
                    <a:pt x="158" y="0"/>
                  </a:lnTo>
                  <a:lnTo>
                    <a:pt x="529" y="22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0960" y="735120"/>
              <a:ext cx="57600" cy="47880"/>
            </a:xfrm>
            <a:custGeom>
              <a:avLst/>
              <a:gdLst/>
              <a:ahLst/>
              <a:rect l="0" t="0" r="r" b="b"/>
              <a:pathLst>
                <a:path w="160" h="133">
                  <a:moveTo>
                    <a:pt x="58" y="0"/>
                  </a:moveTo>
                  <a:lnTo>
                    <a:pt x="111" y="8"/>
                  </a:lnTo>
                  <a:lnTo>
                    <a:pt x="160" y="120"/>
                  </a:lnTo>
                  <a:lnTo>
                    <a:pt x="30" y="133"/>
                  </a:lnTo>
                  <a:lnTo>
                    <a:pt x="0" y="3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65400" y="228600"/>
              <a:ext cx="411480" cy="394200"/>
            </a:xfrm>
            <a:custGeom>
              <a:avLst/>
              <a:gdLst/>
              <a:ahLst/>
              <a:rect l="0" t="0" r="r" b="b"/>
              <a:pathLst>
                <a:path w="1143" h="1095">
                  <a:moveTo>
                    <a:pt x="1143" y="119"/>
                  </a:moveTo>
                  <a:lnTo>
                    <a:pt x="1068" y="278"/>
                  </a:lnTo>
                  <a:lnTo>
                    <a:pt x="1019" y="340"/>
                  </a:lnTo>
                  <a:lnTo>
                    <a:pt x="1085" y="411"/>
                  </a:lnTo>
                  <a:lnTo>
                    <a:pt x="1138" y="950"/>
                  </a:lnTo>
                  <a:lnTo>
                    <a:pt x="993" y="547"/>
                  </a:lnTo>
                  <a:lnTo>
                    <a:pt x="852" y="424"/>
                  </a:lnTo>
                  <a:lnTo>
                    <a:pt x="560" y="481"/>
                  </a:lnTo>
                  <a:lnTo>
                    <a:pt x="352" y="472"/>
                  </a:lnTo>
                  <a:lnTo>
                    <a:pt x="321" y="640"/>
                  </a:lnTo>
                  <a:lnTo>
                    <a:pt x="330" y="919"/>
                  </a:lnTo>
                  <a:lnTo>
                    <a:pt x="313" y="1095"/>
                  </a:lnTo>
                  <a:lnTo>
                    <a:pt x="194" y="1051"/>
                  </a:lnTo>
                  <a:lnTo>
                    <a:pt x="0" y="538"/>
                  </a:lnTo>
                  <a:lnTo>
                    <a:pt x="48" y="441"/>
                  </a:lnTo>
                  <a:lnTo>
                    <a:pt x="132" y="322"/>
                  </a:lnTo>
                  <a:lnTo>
                    <a:pt x="220" y="287"/>
                  </a:lnTo>
                  <a:lnTo>
                    <a:pt x="238" y="171"/>
                  </a:lnTo>
                  <a:lnTo>
                    <a:pt x="330" y="61"/>
                  </a:lnTo>
                  <a:lnTo>
                    <a:pt x="440" y="22"/>
                  </a:lnTo>
                  <a:lnTo>
                    <a:pt x="578" y="8"/>
                  </a:lnTo>
                  <a:lnTo>
                    <a:pt x="719" y="22"/>
                  </a:lnTo>
                  <a:lnTo>
                    <a:pt x="869" y="61"/>
                  </a:lnTo>
                  <a:lnTo>
                    <a:pt x="852" y="154"/>
                  </a:lnTo>
                  <a:lnTo>
                    <a:pt x="896" y="145"/>
                  </a:lnTo>
                  <a:lnTo>
                    <a:pt x="918" y="0"/>
                  </a:lnTo>
                  <a:lnTo>
                    <a:pt x="975" y="30"/>
                  </a:lnTo>
                  <a:lnTo>
                    <a:pt x="927" y="207"/>
                  </a:lnTo>
                  <a:lnTo>
                    <a:pt x="1024" y="30"/>
                  </a:lnTo>
                  <a:lnTo>
                    <a:pt x="975" y="233"/>
                  </a:lnTo>
                  <a:lnTo>
                    <a:pt x="1094" y="74"/>
                  </a:lnTo>
                  <a:lnTo>
                    <a:pt x="1002" y="278"/>
                  </a:lnTo>
                  <a:lnTo>
                    <a:pt x="1068" y="207"/>
                  </a:lnTo>
                  <a:lnTo>
                    <a:pt x="1099" y="132"/>
                  </a:lnTo>
                  <a:lnTo>
                    <a:pt x="1143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7720" y="415800"/>
              <a:ext cx="859320" cy="1008360"/>
            </a:xfrm>
            <a:custGeom>
              <a:avLst/>
              <a:gdLst/>
              <a:ahLst/>
              <a:rect l="0" t="0" r="r" b="b"/>
              <a:pathLst>
                <a:path w="2387" h="2801">
                  <a:moveTo>
                    <a:pt x="2387" y="709"/>
                  </a:moveTo>
                  <a:lnTo>
                    <a:pt x="1845" y="564"/>
                  </a:lnTo>
                  <a:lnTo>
                    <a:pt x="1337" y="317"/>
                  </a:lnTo>
                  <a:lnTo>
                    <a:pt x="830" y="0"/>
                  </a:lnTo>
                  <a:lnTo>
                    <a:pt x="737" y="343"/>
                  </a:lnTo>
                  <a:lnTo>
                    <a:pt x="502" y="1027"/>
                  </a:lnTo>
                  <a:lnTo>
                    <a:pt x="418" y="1168"/>
                  </a:lnTo>
                  <a:lnTo>
                    <a:pt x="520" y="1234"/>
                  </a:lnTo>
                  <a:lnTo>
                    <a:pt x="582" y="1309"/>
                  </a:lnTo>
                  <a:lnTo>
                    <a:pt x="537" y="1362"/>
                  </a:lnTo>
                  <a:lnTo>
                    <a:pt x="374" y="1371"/>
                  </a:lnTo>
                  <a:lnTo>
                    <a:pt x="295" y="1548"/>
                  </a:lnTo>
                  <a:lnTo>
                    <a:pt x="114" y="1844"/>
                  </a:lnTo>
                  <a:lnTo>
                    <a:pt x="0" y="1945"/>
                  </a:lnTo>
                  <a:lnTo>
                    <a:pt x="454" y="2135"/>
                  </a:lnTo>
                  <a:lnTo>
                    <a:pt x="843" y="2448"/>
                  </a:lnTo>
                  <a:lnTo>
                    <a:pt x="1235" y="2690"/>
                  </a:lnTo>
                  <a:lnTo>
                    <a:pt x="1403" y="2801"/>
                  </a:lnTo>
                  <a:lnTo>
                    <a:pt x="1694" y="2320"/>
                  </a:lnTo>
                  <a:lnTo>
                    <a:pt x="1951" y="1747"/>
                  </a:lnTo>
                  <a:lnTo>
                    <a:pt x="2162" y="1239"/>
                  </a:lnTo>
                  <a:lnTo>
                    <a:pt x="2321" y="868"/>
                  </a:lnTo>
                  <a:lnTo>
                    <a:pt x="2387" y="70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1000" y="901800"/>
              <a:ext cx="562320" cy="432000"/>
            </a:xfrm>
            <a:custGeom>
              <a:avLst/>
              <a:gdLst/>
              <a:ahLst/>
              <a:rect l="0" t="0" r="r" b="b"/>
              <a:pathLst>
                <a:path w="1562" h="1200">
                  <a:moveTo>
                    <a:pt x="1350" y="171"/>
                  </a:moveTo>
                  <a:lnTo>
                    <a:pt x="1204" y="48"/>
                  </a:lnTo>
                  <a:lnTo>
                    <a:pt x="1002" y="61"/>
                  </a:lnTo>
                  <a:lnTo>
                    <a:pt x="909" y="0"/>
                  </a:lnTo>
                  <a:lnTo>
                    <a:pt x="838" y="13"/>
                  </a:lnTo>
                  <a:lnTo>
                    <a:pt x="852" y="61"/>
                  </a:lnTo>
                  <a:lnTo>
                    <a:pt x="904" y="149"/>
                  </a:lnTo>
                  <a:lnTo>
                    <a:pt x="727" y="185"/>
                  </a:lnTo>
                  <a:lnTo>
                    <a:pt x="617" y="61"/>
                  </a:lnTo>
                  <a:lnTo>
                    <a:pt x="582" y="0"/>
                  </a:lnTo>
                  <a:lnTo>
                    <a:pt x="352" y="61"/>
                  </a:lnTo>
                  <a:lnTo>
                    <a:pt x="83" y="61"/>
                  </a:lnTo>
                  <a:lnTo>
                    <a:pt x="0" y="233"/>
                  </a:lnTo>
                  <a:lnTo>
                    <a:pt x="30" y="605"/>
                  </a:lnTo>
                  <a:lnTo>
                    <a:pt x="4" y="640"/>
                  </a:lnTo>
                  <a:lnTo>
                    <a:pt x="70" y="781"/>
                  </a:lnTo>
                  <a:lnTo>
                    <a:pt x="48" y="838"/>
                  </a:lnTo>
                  <a:lnTo>
                    <a:pt x="185" y="1200"/>
                  </a:lnTo>
                  <a:lnTo>
                    <a:pt x="1562" y="830"/>
                  </a:lnTo>
                  <a:lnTo>
                    <a:pt x="1284" y="671"/>
                  </a:lnTo>
                  <a:lnTo>
                    <a:pt x="1138" y="830"/>
                  </a:lnTo>
                  <a:lnTo>
                    <a:pt x="816" y="838"/>
                  </a:lnTo>
                  <a:lnTo>
                    <a:pt x="794" y="706"/>
                  </a:lnTo>
                  <a:lnTo>
                    <a:pt x="1002" y="627"/>
                  </a:lnTo>
                  <a:lnTo>
                    <a:pt x="1151" y="627"/>
                  </a:lnTo>
                  <a:lnTo>
                    <a:pt x="1094" y="595"/>
                  </a:lnTo>
                  <a:lnTo>
                    <a:pt x="1266" y="427"/>
                  </a:lnTo>
                  <a:lnTo>
                    <a:pt x="1359" y="220"/>
                  </a:lnTo>
                  <a:lnTo>
                    <a:pt x="1350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9440" y="950760"/>
              <a:ext cx="89280" cy="190800"/>
            </a:xfrm>
            <a:custGeom>
              <a:avLst/>
              <a:gdLst/>
              <a:ahLst/>
              <a:rect l="0" t="0" r="r" b="b"/>
              <a:pathLst>
                <a:path w="248" h="530">
                  <a:moveTo>
                    <a:pt x="84" y="0"/>
                  </a:moveTo>
                  <a:lnTo>
                    <a:pt x="200" y="287"/>
                  </a:lnTo>
                  <a:lnTo>
                    <a:pt x="248" y="490"/>
                  </a:lnTo>
                  <a:lnTo>
                    <a:pt x="98" y="530"/>
                  </a:lnTo>
                  <a:lnTo>
                    <a:pt x="0" y="22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76360" y="11462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0" y="80"/>
                  </a:moveTo>
                  <a:lnTo>
                    <a:pt x="212" y="0"/>
                  </a:lnTo>
                  <a:lnTo>
                    <a:pt x="283" y="13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0600" y="7635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43" y="0"/>
                  </a:moveTo>
                  <a:lnTo>
                    <a:pt x="274" y="67"/>
                  </a:lnTo>
                  <a:lnTo>
                    <a:pt x="243" y="111"/>
                  </a:lnTo>
                  <a:lnTo>
                    <a:pt x="146" y="124"/>
                  </a:lnTo>
                  <a:lnTo>
                    <a:pt x="0" y="67"/>
                  </a:lnTo>
                  <a:lnTo>
                    <a:pt x="199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06600" y="739800"/>
              <a:ext cx="135360" cy="59040"/>
            </a:xfrm>
            <a:custGeom>
              <a:avLst/>
              <a:gdLst/>
              <a:ahLst/>
              <a:rect l="0" t="0" r="r" b="b"/>
              <a:pathLst>
                <a:path w="376" h="164">
                  <a:moveTo>
                    <a:pt x="376" y="0"/>
                  </a:moveTo>
                  <a:lnTo>
                    <a:pt x="256" y="22"/>
                  </a:lnTo>
                  <a:lnTo>
                    <a:pt x="150" y="35"/>
                  </a:lnTo>
                  <a:lnTo>
                    <a:pt x="0" y="13"/>
                  </a:lnTo>
                  <a:lnTo>
                    <a:pt x="92" y="133"/>
                  </a:lnTo>
                  <a:lnTo>
                    <a:pt x="274" y="164"/>
                  </a:lnTo>
                  <a:lnTo>
                    <a:pt x="376" y="124"/>
                  </a:lnTo>
                  <a:lnTo>
                    <a:pt x="350" y="102"/>
                  </a:lnTo>
                  <a:lnTo>
                    <a:pt x="368" y="5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28760" y="1130400"/>
              <a:ext cx="662400" cy="233640"/>
            </a:xfrm>
            <a:custGeom>
              <a:avLst/>
              <a:gdLst/>
              <a:ahLst/>
              <a:rect l="0" t="0" r="r" b="b"/>
              <a:pathLst>
                <a:path w="1840" h="649">
                  <a:moveTo>
                    <a:pt x="1664" y="13"/>
                  </a:moveTo>
                  <a:lnTo>
                    <a:pt x="1345" y="39"/>
                  </a:lnTo>
                  <a:lnTo>
                    <a:pt x="1046" y="149"/>
                  </a:lnTo>
                  <a:lnTo>
                    <a:pt x="693" y="149"/>
                  </a:lnTo>
                  <a:lnTo>
                    <a:pt x="291" y="74"/>
                  </a:lnTo>
                  <a:lnTo>
                    <a:pt x="70" y="0"/>
                  </a:lnTo>
                  <a:lnTo>
                    <a:pt x="211" y="171"/>
                  </a:lnTo>
                  <a:lnTo>
                    <a:pt x="0" y="132"/>
                  </a:lnTo>
                  <a:lnTo>
                    <a:pt x="127" y="264"/>
                  </a:lnTo>
                  <a:lnTo>
                    <a:pt x="0" y="455"/>
                  </a:lnTo>
                  <a:lnTo>
                    <a:pt x="321" y="596"/>
                  </a:lnTo>
                  <a:lnTo>
                    <a:pt x="1730" y="649"/>
                  </a:lnTo>
                  <a:lnTo>
                    <a:pt x="1840" y="516"/>
                  </a:lnTo>
                  <a:lnTo>
                    <a:pt x="1682" y="389"/>
                  </a:lnTo>
                  <a:lnTo>
                    <a:pt x="1792" y="255"/>
                  </a:lnTo>
                  <a:lnTo>
                    <a:pt x="1615" y="224"/>
                  </a:lnTo>
                  <a:lnTo>
                    <a:pt x="1721" y="79"/>
                  </a:lnTo>
                  <a:lnTo>
                    <a:pt x="1615" y="114"/>
                  </a:lnTo>
                  <a:lnTo>
                    <a:pt x="1558" y="114"/>
                  </a:lnTo>
                  <a:lnTo>
                    <a:pt x="1664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84400" y="1895400"/>
              <a:ext cx="378360" cy="140040"/>
            </a:xfrm>
            <a:custGeom>
              <a:avLst/>
              <a:gdLst/>
              <a:ahLst/>
              <a:rect l="0" t="0" r="r" b="b"/>
              <a:pathLst>
                <a:path w="1051" h="389">
                  <a:moveTo>
                    <a:pt x="1051" y="195"/>
                  </a:moveTo>
                  <a:lnTo>
                    <a:pt x="583" y="0"/>
                  </a:lnTo>
                  <a:lnTo>
                    <a:pt x="344" y="217"/>
                  </a:lnTo>
                  <a:lnTo>
                    <a:pt x="0" y="296"/>
                  </a:lnTo>
                  <a:lnTo>
                    <a:pt x="110" y="371"/>
                  </a:lnTo>
                  <a:lnTo>
                    <a:pt x="813" y="389"/>
                  </a:lnTo>
                  <a:lnTo>
                    <a:pt x="1051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4200" y="1344600"/>
              <a:ext cx="601920" cy="709920"/>
            </a:xfrm>
            <a:custGeom>
              <a:avLst/>
              <a:gdLst/>
              <a:ahLst/>
              <a:rect l="0" t="0" r="r" b="b"/>
              <a:pathLst>
                <a:path w="1672" h="1972">
                  <a:moveTo>
                    <a:pt x="1659" y="39"/>
                  </a:moveTo>
                  <a:lnTo>
                    <a:pt x="0" y="0"/>
                  </a:lnTo>
                  <a:lnTo>
                    <a:pt x="0" y="379"/>
                  </a:lnTo>
                  <a:lnTo>
                    <a:pt x="198" y="489"/>
                  </a:lnTo>
                  <a:lnTo>
                    <a:pt x="211" y="1689"/>
                  </a:lnTo>
                  <a:lnTo>
                    <a:pt x="396" y="1711"/>
                  </a:lnTo>
                  <a:lnTo>
                    <a:pt x="396" y="1936"/>
                  </a:lnTo>
                  <a:lnTo>
                    <a:pt x="1315" y="1972"/>
                  </a:lnTo>
                  <a:lnTo>
                    <a:pt x="1306" y="1667"/>
                  </a:lnTo>
                  <a:lnTo>
                    <a:pt x="1491" y="1667"/>
                  </a:lnTo>
                  <a:lnTo>
                    <a:pt x="1522" y="454"/>
                  </a:lnTo>
                  <a:lnTo>
                    <a:pt x="1650" y="339"/>
                  </a:lnTo>
                  <a:lnTo>
                    <a:pt x="1672" y="145"/>
                  </a:lnTo>
                  <a:lnTo>
                    <a:pt x="1659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19440" y="1179360"/>
              <a:ext cx="25920" cy="178200"/>
            </a:xfrm>
            <a:custGeom>
              <a:avLst/>
              <a:gdLst/>
              <a:ahLst/>
              <a:rect l="0" t="0" r="r" b="b"/>
              <a:pathLst>
                <a:path w="72" h="495">
                  <a:moveTo>
                    <a:pt x="72" y="114"/>
                  </a:moveTo>
                  <a:lnTo>
                    <a:pt x="72" y="495"/>
                  </a:lnTo>
                  <a:lnTo>
                    <a:pt x="17" y="478"/>
                  </a:lnTo>
                  <a:lnTo>
                    <a:pt x="0" y="0"/>
                  </a:lnTo>
                  <a:lnTo>
                    <a:pt x="72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06560" y="1889280"/>
              <a:ext cx="444960" cy="124200"/>
            </a:xfrm>
            <a:custGeom>
              <a:avLst/>
              <a:gdLst/>
              <a:ahLst/>
              <a:rect l="0" t="0" r="r" b="b"/>
              <a:pathLst>
                <a:path w="1236" h="345">
                  <a:moveTo>
                    <a:pt x="1236" y="252"/>
                  </a:moveTo>
                  <a:lnTo>
                    <a:pt x="909" y="252"/>
                  </a:lnTo>
                  <a:lnTo>
                    <a:pt x="649" y="57"/>
                  </a:lnTo>
                  <a:lnTo>
                    <a:pt x="340" y="57"/>
                  </a:lnTo>
                  <a:lnTo>
                    <a:pt x="0" y="0"/>
                  </a:lnTo>
                  <a:lnTo>
                    <a:pt x="251" y="177"/>
                  </a:lnTo>
                  <a:lnTo>
                    <a:pt x="662" y="310"/>
                  </a:lnTo>
                  <a:lnTo>
                    <a:pt x="869" y="345"/>
                  </a:lnTo>
                  <a:lnTo>
                    <a:pt x="1236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96920" y="1925640"/>
              <a:ext cx="230400" cy="95760"/>
            </a:xfrm>
            <a:custGeom>
              <a:avLst/>
              <a:gdLst/>
              <a:ahLst/>
              <a:rect l="0" t="0" r="r" b="b"/>
              <a:pathLst>
                <a:path w="640" h="266">
                  <a:moveTo>
                    <a:pt x="640" y="98"/>
                  </a:moveTo>
                  <a:lnTo>
                    <a:pt x="322" y="98"/>
                  </a:lnTo>
                  <a:lnTo>
                    <a:pt x="0" y="0"/>
                  </a:lnTo>
                  <a:lnTo>
                    <a:pt x="52" y="186"/>
                  </a:lnTo>
                  <a:lnTo>
                    <a:pt x="308" y="266"/>
                  </a:lnTo>
                  <a:lnTo>
                    <a:pt x="525" y="172"/>
                  </a:lnTo>
                  <a:lnTo>
                    <a:pt x="640" y="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57240" y="1889280"/>
              <a:ext cx="119520" cy="117720"/>
            </a:xfrm>
            <a:custGeom>
              <a:avLst/>
              <a:gdLst/>
              <a:ahLst/>
              <a:rect l="0" t="0" r="r" b="b"/>
              <a:pathLst>
                <a:path w="332" h="327">
                  <a:moveTo>
                    <a:pt x="26" y="0"/>
                  </a:moveTo>
                  <a:lnTo>
                    <a:pt x="217" y="123"/>
                  </a:lnTo>
                  <a:lnTo>
                    <a:pt x="306" y="212"/>
                  </a:lnTo>
                  <a:lnTo>
                    <a:pt x="332" y="327"/>
                  </a:lnTo>
                  <a:lnTo>
                    <a:pt x="288" y="327"/>
                  </a:lnTo>
                  <a:lnTo>
                    <a:pt x="247" y="234"/>
                  </a:lnTo>
                  <a:lnTo>
                    <a:pt x="150" y="141"/>
                  </a:lnTo>
                  <a:lnTo>
                    <a:pt x="0" y="3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93720" y="1596960"/>
              <a:ext cx="81360" cy="198720"/>
            </a:xfrm>
            <a:custGeom>
              <a:avLst/>
              <a:gdLst/>
              <a:ahLst/>
              <a:rect l="0" t="0" r="r" b="b"/>
              <a:pathLst>
                <a:path w="226" h="552">
                  <a:moveTo>
                    <a:pt x="80" y="52"/>
                  </a:moveTo>
                  <a:lnTo>
                    <a:pt x="106" y="300"/>
                  </a:lnTo>
                  <a:lnTo>
                    <a:pt x="226" y="499"/>
                  </a:lnTo>
                  <a:lnTo>
                    <a:pt x="213" y="552"/>
                  </a:lnTo>
                  <a:lnTo>
                    <a:pt x="80" y="397"/>
                  </a:lnTo>
                  <a:lnTo>
                    <a:pt x="0" y="145"/>
                  </a:lnTo>
                  <a:lnTo>
                    <a:pt x="22" y="0"/>
                  </a:lnTo>
                  <a:lnTo>
                    <a:pt x="8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20800" y="1035000"/>
              <a:ext cx="194040" cy="430560"/>
            </a:xfrm>
            <a:custGeom>
              <a:avLst/>
              <a:gdLst/>
              <a:ahLst/>
              <a:rect l="0" t="0" r="r" b="b"/>
              <a:pathLst>
                <a:path w="539" h="1196">
                  <a:moveTo>
                    <a:pt x="465" y="913"/>
                  </a:moveTo>
                  <a:lnTo>
                    <a:pt x="393" y="1054"/>
                  </a:lnTo>
                  <a:lnTo>
                    <a:pt x="0" y="1196"/>
                  </a:lnTo>
                  <a:lnTo>
                    <a:pt x="70" y="1099"/>
                  </a:lnTo>
                  <a:lnTo>
                    <a:pt x="420" y="935"/>
                  </a:lnTo>
                  <a:lnTo>
                    <a:pt x="495" y="746"/>
                  </a:lnTo>
                  <a:lnTo>
                    <a:pt x="407" y="533"/>
                  </a:lnTo>
                  <a:lnTo>
                    <a:pt x="371" y="511"/>
                  </a:lnTo>
                  <a:lnTo>
                    <a:pt x="39" y="97"/>
                  </a:lnTo>
                  <a:lnTo>
                    <a:pt x="70" y="0"/>
                  </a:lnTo>
                  <a:lnTo>
                    <a:pt x="172" y="0"/>
                  </a:lnTo>
                  <a:lnTo>
                    <a:pt x="495" y="454"/>
                  </a:lnTo>
                  <a:lnTo>
                    <a:pt x="465" y="533"/>
                  </a:lnTo>
                  <a:lnTo>
                    <a:pt x="539" y="697"/>
                  </a:lnTo>
                  <a:lnTo>
                    <a:pt x="526" y="843"/>
                  </a:lnTo>
                  <a:lnTo>
                    <a:pt x="465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35200" y="1028880"/>
              <a:ext cx="127440" cy="197280"/>
            </a:xfrm>
            <a:custGeom>
              <a:avLst/>
              <a:gdLst/>
              <a:ahLst/>
              <a:rect l="0" t="0" r="r" b="b"/>
              <a:pathLst>
                <a:path w="354" h="548">
                  <a:moveTo>
                    <a:pt x="74" y="0"/>
                  </a:moveTo>
                  <a:lnTo>
                    <a:pt x="26" y="22"/>
                  </a:lnTo>
                  <a:lnTo>
                    <a:pt x="17" y="57"/>
                  </a:lnTo>
                  <a:lnTo>
                    <a:pt x="0" y="97"/>
                  </a:lnTo>
                  <a:lnTo>
                    <a:pt x="26" y="150"/>
                  </a:lnTo>
                  <a:lnTo>
                    <a:pt x="332" y="548"/>
                  </a:lnTo>
                  <a:lnTo>
                    <a:pt x="319" y="491"/>
                  </a:lnTo>
                  <a:lnTo>
                    <a:pt x="332" y="456"/>
                  </a:lnTo>
                  <a:lnTo>
                    <a:pt x="354" y="434"/>
                  </a:lnTo>
                  <a:lnTo>
                    <a:pt x="306" y="362"/>
                  </a:lnTo>
                  <a:lnTo>
                    <a:pt x="261" y="397"/>
                  </a:lnTo>
                  <a:lnTo>
                    <a:pt x="74" y="150"/>
                  </a:lnTo>
                  <a:lnTo>
                    <a:pt x="74" y="97"/>
                  </a:lnTo>
                  <a:lnTo>
                    <a:pt x="106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49280" y="1117440"/>
              <a:ext cx="449640" cy="87840"/>
            </a:xfrm>
            <a:custGeom>
              <a:avLst/>
              <a:gdLst/>
              <a:ahLst/>
              <a:rect l="0" t="0" r="r" b="b"/>
              <a:pathLst>
                <a:path w="1249" h="244">
                  <a:moveTo>
                    <a:pt x="1249" y="133"/>
                  </a:moveTo>
                  <a:lnTo>
                    <a:pt x="1047" y="168"/>
                  </a:lnTo>
                  <a:lnTo>
                    <a:pt x="803" y="187"/>
                  </a:lnTo>
                  <a:lnTo>
                    <a:pt x="521" y="168"/>
                  </a:lnTo>
                  <a:lnTo>
                    <a:pt x="340" y="133"/>
                  </a:lnTo>
                  <a:lnTo>
                    <a:pt x="194" y="93"/>
                  </a:lnTo>
                  <a:lnTo>
                    <a:pt x="97" y="57"/>
                  </a:lnTo>
                  <a:lnTo>
                    <a:pt x="0" y="0"/>
                  </a:lnTo>
                  <a:lnTo>
                    <a:pt x="207" y="244"/>
                  </a:lnTo>
                  <a:lnTo>
                    <a:pt x="114" y="75"/>
                  </a:lnTo>
                  <a:lnTo>
                    <a:pt x="295" y="155"/>
                  </a:lnTo>
                  <a:lnTo>
                    <a:pt x="552" y="209"/>
                  </a:lnTo>
                  <a:lnTo>
                    <a:pt x="803" y="226"/>
                  </a:lnTo>
                  <a:lnTo>
                    <a:pt x="1047" y="187"/>
                  </a:lnTo>
                  <a:lnTo>
                    <a:pt x="1249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98520" y="1227240"/>
              <a:ext cx="514800" cy="260640"/>
            </a:xfrm>
            <a:custGeom>
              <a:avLst/>
              <a:gdLst/>
              <a:ahLst/>
              <a:rect l="0" t="0" r="r" b="b"/>
              <a:pathLst>
                <a:path w="1430" h="724">
                  <a:moveTo>
                    <a:pt x="70" y="97"/>
                  </a:moveTo>
                  <a:lnTo>
                    <a:pt x="44" y="286"/>
                  </a:lnTo>
                  <a:lnTo>
                    <a:pt x="0" y="547"/>
                  </a:lnTo>
                  <a:lnTo>
                    <a:pt x="238" y="627"/>
                  </a:lnTo>
                  <a:lnTo>
                    <a:pt x="255" y="724"/>
                  </a:lnTo>
                  <a:lnTo>
                    <a:pt x="268" y="706"/>
                  </a:lnTo>
                  <a:lnTo>
                    <a:pt x="268" y="348"/>
                  </a:lnTo>
                  <a:lnTo>
                    <a:pt x="1430" y="348"/>
                  </a:lnTo>
                  <a:lnTo>
                    <a:pt x="1430" y="286"/>
                  </a:lnTo>
                  <a:lnTo>
                    <a:pt x="255" y="268"/>
                  </a:lnTo>
                  <a:lnTo>
                    <a:pt x="348" y="233"/>
                  </a:lnTo>
                  <a:lnTo>
                    <a:pt x="127" y="185"/>
                  </a:lnTo>
                  <a:lnTo>
                    <a:pt x="282" y="185"/>
                  </a:lnTo>
                  <a:lnTo>
                    <a:pt x="141" y="110"/>
                  </a:lnTo>
                  <a:lnTo>
                    <a:pt x="335" y="110"/>
                  </a:lnTo>
                  <a:lnTo>
                    <a:pt x="198" y="0"/>
                  </a:lnTo>
                  <a:lnTo>
                    <a:pt x="70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33440" y="1179360"/>
              <a:ext cx="495720" cy="68760"/>
            </a:xfrm>
            <a:custGeom>
              <a:avLst/>
              <a:gdLst/>
              <a:ahLst/>
              <a:rect l="0" t="0" r="r" b="b"/>
              <a:pathLst>
                <a:path w="1377" h="191">
                  <a:moveTo>
                    <a:pt x="1307" y="58"/>
                  </a:moveTo>
                  <a:lnTo>
                    <a:pt x="865" y="98"/>
                  </a:lnTo>
                  <a:lnTo>
                    <a:pt x="538" y="98"/>
                  </a:lnTo>
                  <a:lnTo>
                    <a:pt x="313" y="75"/>
                  </a:lnTo>
                  <a:lnTo>
                    <a:pt x="83" y="22"/>
                  </a:lnTo>
                  <a:lnTo>
                    <a:pt x="0" y="0"/>
                  </a:lnTo>
                  <a:lnTo>
                    <a:pt x="83" y="58"/>
                  </a:lnTo>
                  <a:lnTo>
                    <a:pt x="384" y="115"/>
                  </a:lnTo>
                  <a:lnTo>
                    <a:pt x="772" y="137"/>
                  </a:lnTo>
                  <a:lnTo>
                    <a:pt x="141" y="137"/>
                  </a:lnTo>
                  <a:lnTo>
                    <a:pt x="724" y="173"/>
                  </a:lnTo>
                  <a:lnTo>
                    <a:pt x="1091" y="173"/>
                  </a:lnTo>
                  <a:lnTo>
                    <a:pt x="1377" y="191"/>
                  </a:lnTo>
                  <a:lnTo>
                    <a:pt x="935" y="137"/>
                  </a:lnTo>
                  <a:lnTo>
                    <a:pt x="1307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19440" y="1184400"/>
              <a:ext cx="19440" cy="173520"/>
            </a:xfrm>
            <a:custGeom>
              <a:avLst/>
              <a:gdLst/>
              <a:ahLst/>
              <a:rect l="0" t="0" r="r" b="b"/>
              <a:pathLst>
                <a:path w="54" h="482">
                  <a:moveTo>
                    <a:pt x="0" y="0"/>
                  </a:moveTo>
                  <a:lnTo>
                    <a:pt x="0" y="482"/>
                  </a:lnTo>
                  <a:lnTo>
                    <a:pt x="54" y="482"/>
                  </a:lnTo>
                  <a:lnTo>
                    <a:pt x="54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96880" y="1219320"/>
              <a:ext cx="489240" cy="837000"/>
            </a:xfrm>
            <a:custGeom>
              <a:avLst/>
              <a:gdLst/>
              <a:ahLst/>
              <a:rect l="0" t="0" r="r" b="b"/>
              <a:pathLst>
                <a:path w="1359" h="2325">
                  <a:moveTo>
                    <a:pt x="1072" y="39"/>
                  </a:moveTo>
                  <a:lnTo>
                    <a:pt x="1165" y="167"/>
                  </a:lnTo>
                  <a:lnTo>
                    <a:pt x="1165" y="268"/>
                  </a:lnTo>
                  <a:lnTo>
                    <a:pt x="1134" y="366"/>
                  </a:lnTo>
                  <a:lnTo>
                    <a:pt x="1032" y="440"/>
                  </a:lnTo>
                  <a:lnTo>
                    <a:pt x="830" y="533"/>
                  </a:lnTo>
                  <a:lnTo>
                    <a:pt x="635" y="609"/>
                  </a:lnTo>
                  <a:lnTo>
                    <a:pt x="480" y="688"/>
                  </a:lnTo>
                  <a:lnTo>
                    <a:pt x="348" y="821"/>
                  </a:lnTo>
                  <a:lnTo>
                    <a:pt x="273" y="971"/>
                  </a:lnTo>
                  <a:lnTo>
                    <a:pt x="255" y="1103"/>
                  </a:lnTo>
                  <a:lnTo>
                    <a:pt x="291" y="1293"/>
                  </a:lnTo>
                  <a:lnTo>
                    <a:pt x="383" y="1482"/>
                  </a:lnTo>
                  <a:lnTo>
                    <a:pt x="463" y="1601"/>
                  </a:lnTo>
                  <a:lnTo>
                    <a:pt x="608" y="1716"/>
                  </a:lnTo>
                  <a:lnTo>
                    <a:pt x="785" y="1809"/>
                  </a:lnTo>
                  <a:lnTo>
                    <a:pt x="922" y="1884"/>
                  </a:lnTo>
                  <a:lnTo>
                    <a:pt x="1054" y="1946"/>
                  </a:lnTo>
                  <a:lnTo>
                    <a:pt x="1178" y="2021"/>
                  </a:lnTo>
                  <a:lnTo>
                    <a:pt x="1266" y="2118"/>
                  </a:lnTo>
                  <a:lnTo>
                    <a:pt x="1279" y="2189"/>
                  </a:lnTo>
                  <a:lnTo>
                    <a:pt x="1222" y="2233"/>
                  </a:lnTo>
                  <a:lnTo>
                    <a:pt x="1134" y="2211"/>
                  </a:lnTo>
                  <a:lnTo>
                    <a:pt x="1054" y="2175"/>
                  </a:lnTo>
                  <a:lnTo>
                    <a:pt x="1002" y="2175"/>
                  </a:lnTo>
                  <a:lnTo>
                    <a:pt x="1032" y="2021"/>
                  </a:lnTo>
                  <a:lnTo>
                    <a:pt x="70" y="2021"/>
                  </a:lnTo>
                  <a:lnTo>
                    <a:pt x="70" y="2250"/>
                  </a:lnTo>
                  <a:lnTo>
                    <a:pt x="0" y="2286"/>
                  </a:lnTo>
                  <a:lnTo>
                    <a:pt x="26" y="2325"/>
                  </a:lnTo>
                  <a:lnTo>
                    <a:pt x="1046" y="2325"/>
                  </a:lnTo>
                  <a:lnTo>
                    <a:pt x="979" y="2268"/>
                  </a:lnTo>
                  <a:lnTo>
                    <a:pt x="101" y="2250"/>
                  </a:lnTo>
                  <a:lnTo>
                    <a:pt x="101" y="2211"/>
                  </a:lnTo>
                  <a:lnTo>
                    <a:pt x="1002" y="2211"/>
                  </a:lnTo>
                  <a:lnTo>
                    <a:pt x="1090" y="2233"/>
                  </a:lnTo>
                  <a:lnTo>
                    <a:pt x="1209" y="2268"/>
                  </a:lnTo>
                  <a:lnTo>
                    <a:pt x="1266" y="2286"/>
                  </a:lnTo>
                  <a:lnTo>
                    <a:pt x="1337" y="2250"/>
                  </a:lnTo>
                  <a:lnTo>
                    <a:pt x="1359" y="2211"/>
                  </a:lnTo>
                  <a:lnTo>
                    <a:pt x="1350" y="2136"/>
                  </a:lnTo>
                  <a:lnTo>
                    <a:pt x="1306" y="2078"/>
                  </a:lnTo>
                  <a:lnTo>
                    <a:pt x="1266" y="2096"/>
                  </a:lnTo>
                  <a:lnTo>
                    <a:pt x="1151" y="1981"/>
                  </a:lnTo>
                  <a:lnTo>
                    <a:pt x="1046" y="1920"/>
                  </a:lnTo>
                  <a:lnTo>
                    <a:pt x="1054" y="1884"/>
                  </a:lnTo>
                  <a:lnTo>
                    <a:pt x="1209" y="1964"/>
                  </a:lnTo>
                  <a:lnTo>
                    <a:pt x="1032" y="1845"/>
                  </a:lnTo>
                  <a:lnTo>
                    <a:pt x="799" y="1752"/>
                  </a:lnTo>
                  <a:lnTo>
                    <a:pt x="590" y="1623"/>
                  </a:lnTo>
                  <a:lnTo>
                    <a:pt x="423" y="1429"/>
                  </a:lnTo>
                  <a:lnTo>
                    <a:pt x="480" y="1531"/>
                  </a:lnTo>
                  <a:lnTo>
                    <a:pt x="436" y="1531"/>
                  </a:lnTo>
                  <a:lnTo>
                    <a:pt x="304" y="1275"/>
                  </a:lnTo>
                  <a:lnTo>
                    <a:pt x="304" y="1125"/>
                  </a:lnTo>
                  <a:lnTo>
                    <a:pt x="330" y="1103"/>
                  </a:lnTo>
                  <a:lnTo>
                    <a:pt x="374" y="1275"/>
                  </a:lnTo>
                  <a:lnTo>
                    <a:pt x="348" y="1050"/>
                  </a:lnTo>
                  <a:lnTo>
                    <a:pt x="374" y="940"/>
                  </a:lnTo>
                  <a:lnTo>
                    <a:pt x="410" y="843"/>
                  </a:lnTo>
                  <a:lnTo>
                    <a:pt x="498" y="763"/>
                  </a:lnTo>
                  <a:lnTo>
                    <a:pt x="635" y="710"/>
                  </a:lnTo>
                  <a:lnTo>
                    <a:pt x="993" y="564"/>
                  </a:lnTo>
                  <a:lnTo>
                    <a:pt x="680" y="688"/>
                  </a:lnTo>
                  <a:lnTo>
                    <a:pt x="728" y="609"/>
                  </a:lnTo>
                  <a:lnTo>
                    <a:pt x="1054" y="440"/>
                  </a:lnTo>
                  <a:lnTo>
                    <a:pt x="1072" y="489"/>
                  </a:lnTo>
                  <a:lnTo>
                    <a:pt x="1046" y="533"/>
                  </a:lnTo>
                  <a:lnTo>
                    <a:pt x="1134" y="423"/>
                  </a:lnTo>
                  <a:lnTo>
                    <a:pt x="1178" y="308"/>
                  </a:lnTo>
                  <a:lnTo>
                    <a:pt x="1191" y="189"/>
                  </a:lnTo>
                  <a:lnTo>
                    <a:pt x="1151" y="74"/>
                  </a:lnTo>
                  <a:lnTo>
                    <a:pt x="1072" y="0"/>
                  </a:lnTo>
                  <a:lnTo>
                    <a:pt x="1072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35120" y="1481040"/>
              <a:ext cx="341640" cy="414720"/>
            </a:xfrm>
            <a:custGeom>
              <a:avLst/>
              <a:gdLst/>
              <a:ahLst/>
              <a:rect l="0" t="0" r="r" b="b"/>
              <a:pathLst>
                <a:path w="949" h="1152">
                  <a:moveTo>
                    <a:pt x="949" y="0"/>
                  </a:moveTo>
                  <a:lnTo>
                    <a:pt x="295" y="0"/>
                  </a:lnTo>
                  <a:lnTo>
                    <a:pt x="79" y="97"/>
                  </a:lnTo>
                  <a:lnTo>
                    <a:pt x="0" y="224"/>
                  </a:lnTo>
                  <a:lnTo>
                    <a:pt x="39" y="242"/>
                  </a:lnTo>
                  <a:lnTo>
                    <a:pt x="79" y="450"/>
                  </a:lnTo>
                  <a:lnTo>
                    <a:pt x="97" y="658"/>
                  </a:lnTo>
                  <a:lnTo>
                    <a:pt x="123" y="834"/>
                  </a:lnTo>
                  <a:lnTo>
                    <a:pt x="141" y="702"/>
                  </a:lnTo>
                  <a:lnTo>
                    <a:pt x="123" y="512"/>
                  </a:lnTo>
                  <a:lnTo>
                    <a:pt x="110" y="358"/>
                  </a:lnTo>
                  <a:lnTo>
                    <a:pt x="97" y="242"/>
                  </a:lnTo>
                  <a:lnTo>
                    <a:pt x="97" y="189"/>
                  </a:lnTo>
                  <a:lnTo>
                    <a:pt x="149" y="149"/>
                  </a:lnTo>
                  <a:lnTo>
                    <a:pt x="180" y="211"/>
                  </a:lnTo>
                  <a:lnTo>
                    <a:pt x="207" y="494"/>
                  </a:lnTo>
                  <a:lnTo>
                    <a:pt x="207" y="875"/>
                  </a:lnTo>
                  <a:lnTo>
                    <a:pt x="207" y="264"/>
                  </a:lnTo>
                  <a:lnTo>
                    <a:pt x="440" y="282"/>
                  </a:lnTo>
                  <a:lnTo>
                    <a:pt x="467" y="397"/>
                  </a:lnTo>
                  <a:lnTo>
                    <a:pt x="481" y="702"/>
                  </a:lnTo>
                  <a:lnTo>
                    <a:pt x="499" y="1038"/>
                  </a:lnTo>
                  <a:lnTo>
                    <a:pt x="512" y="494"/>
                  </a:lnTo>
                  <a:lnTo>
                    <a:pt x="512" y="282"/>
                  </a:lnTo>
                  <a:lnTo>
                    <a:pt x="499" y="189"/>
                  </a:lnTo>
                  <a:lnTo>
                    <a:pt x="556" y="149"/>
                  </a:lnTo>
                  <a:lnTo>
                    <a:pt x="596" y="189"/>
                  </a:lnTo>
                  <a:lnTo>
                    <a:pt x="596" y="264"/>
                  </a:lnTo>
                  <a:lnTo>
                    <a:pt x="565" y="989"/>
                  </a:lnTo>
                  <a:lnTo>
                    <a:pt x="636" y="282"/>
                  </a:lnTo>
                  <a:lnTo>
                    <a:pt x="702" y="282"/>
                  </a:lnTo>
                  <a:lnTo>
                    <a:pt x="768" y="305"/>
                  </a:lnTo>
                  <a:lnTo>
                    <a:pt x="794" y="322"/>
                  </a:lnTo>
                  <a:lnTo>
                    <a:pt x="807" y="1152"/>
                  </a:lnTo>
                  <a:lnTo>
                    <a:pt x="834" y="1152"/>
                  </a:lnTo>
                  <a:lnTo>
                    <a:pt x="865" y="97"/>
                  </a:lnTo>
                  <a:lnTo>
                    <a:pt x="9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90680" y="1474920"/>
              <a:ext cx="257400" cy="435240"/>
            </a:xfrm>
            <a:custGeom>
              <a:avLst/>
              <a:gdLst/>
              <a:ahLst/>
              <a:rect l="0" t="0" r="r" b="b"/>
              <a:pathLst>
                <a:path w="715" h="1209">
                  <a:moveTo>
                    <a:pt x="715" y="0"/>
                  </a:moveTo>
                  <a:lnTo>
                    <a:pt x="0" y="0"/>
                  </a:lnTo>
                  <a:lnTo>
                    <a:pt x="26" y="70"/>
                  </a:lnTo>
                  <a:lnTo>
                    <a:pt x="167" y="132"/>
                  </a:lnTo>
                  <a:lnTo>
                    <a:pt x="207" y="1209"/>
                  </a:lnTo>
                  <a:lnTo>
                    <a:pt x="207" y="321"/>
                  </a:lnTo>
                  <a:lnTo>
                    <a:pt x="264" y="299"/>
                  </a:lnTo>
                  <a:lnTo>
                    <a:pt x="348" y="321"/>
                  </a:lnTo>
                  <a:lnTo>
                    <a:pt x="424" y="821"/>
                  </a:lnTo>
                  <a:lnTo>
                    <a:pt x="477" y="1156"/>
                  </a:lnTo>
                  <a:lnTo>
                    <a:pt x="406" y="167"/>
                  </a:lnTo>
                  <a:lnTo>
                    <a:pt x="437" y="132"/>
                  </a:lnTo>
                  <a:lnTo>
                    <a:pt x="494" y="167"/>
                  </a:lnTo>
                  <a:lnTo>
                    <a:pt x="534" y="1099"/>
                  </a:lnTo>
                  <a:lnTo>
                    <a:pt x="547" y="260"/>
                  </a:lnTo>
                  <a:lnTo>
                    <a:pt x="613" y="114"/>
                  </a:lnTo>
                  <a:lnTo>
                    <a:pt x="688" y="17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5120" y="1384200"/>
              <a:ext cx="51120" cy="68760"/>
            </a:xfrm>
            <a:custGeom>
              <a:avLst/>
              <a:gdLst/>
              <a:ahLst/>
              <a:rect l="0" t="0" r="r" b="b"/>
              <a:pathLst>
                <a:path w="142" h="191">
                  <a:moveTo>
                    <a:pt x="142" y="191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102" y="39"/>
                  </a:lnTo>
                  <a:lnTo>
                    <a:pt x="142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28840" y="1378080"/>
              <a:ext cx="379800" cy="65520"/>
            </a:xfrm>
            <a:custGeom>
              <a:avLst/>
              <a:gdLst/>
              <a:ahLst/>
              <a:rect l="0" t="0" r="r" b="b"/>
              <a:pathLst>
                <a:path w="1055" h="182">
                  <a:moveTo>
                    <a:pt x="105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26" y="35"/>
                  </a:lnTo>
                  <a:lnTo>
                    <a:pt x="1033" y="35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65200" y="1940040"/>
              <a:ext cx="36720" cy="20880"/>
            </a:xfrm>
            <a:custGeom>
              <a:avLst/>
              <a:gdLst/>
              <a:ahLst/>
              <a:rect l="0" t="0" r="r" b="b"/>
              <a:pathLst>
                <a:path w="102" h="58">
                  <a:moveTo>
                    <a:pt x="89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02" y="5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90720" y="1876320"/>
              <a:ext cx="479880" cy="152640"/>
            </a:xfrm>
            <a:custGeom>
              <a:avLst/>
              <a:gdLst/>
              <a:ahLst/>
              <a:rect l="0" t="0" r="r" b="b"/>
              <a:pathLst>
                <a:path w="1333" h="424">
                  <a:moveTo>
                    <a:pt x="1320" y="292"/>
                  </a:moveTo>
                  <a:lnTo>
                    <a:pt x="1108" y="309"/>
                  </a:lnTo>
                  <a:lnTo>
                    <a:pt x="953" y="269"/>
                  </a:lnTo>
                  <a:lnTo>
                    <a:pt x="821" y="194"/>
                  </a:lnTo>
                  <a:lnTo>
                    <a:pt x="750" y="141"/>
                  </a:lnTo>
                  <a:lnTo>
                    <a:pt x="719" y="97"/>
                  </a:lnTo>
                  <a:lnTo>
                    <a:pt x="763" y="74"/>
                  </a:lnTo>
                  <a:lnTo>
                    <a:pt x="719" y="57"/>
                  </a:lnTo>
                  <a:lnTo>
                    <a:pt x="596" y="74"/>
                  </a:lnTo>
                  <a:lnTo>
                    <a:pt x="384" y="57"/>
                  </a:lnTo>
                  <a:lnTo>
                    <a:pt x="198" y="39"/>
                  </a:lnTo>
                  <a:lnTo>
                    <a:pt x="114" y="2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44" y="97"/>
                  </a:lnTo>
                  <a:lnTo>
                    <a:pt x="154" y="194"/>
                  </a:lnTo>
                  <a:lnTo>
                    <a:pt x="238" y="256"/>
                  </a:lnTo>
                  <a:lnTo>
                    <a:pt x="57" y="292"/>
                  </a:lnTo>
                  <a:lnTo>
                    <a:pt x="114" y="331"/>
                  </a:lnTo>
                  <a:lnTo>
                    <a:pt x="211" y="331"/>
                  </a:lnTo>
                  <a:lnTo>
                    <a:pt x="282" y="367"/>
                  </a:lnTo>
                  <a:lnTo>
                    <a:pt x="556" y="384"/>
                  </a:lnTo>
                  <a:lnTo>
                    <a:pt x="869" y="424"/>
                  </a:lnTo>
                  <a:lnTo>
                    <a:pt x="940" y="424"/>
                  </a:lnTo>
                  <a:lnTo>
                    <a:pt x="1333" y="309"/>
                  </a:lnTo>
                  <a:lnTo>
                    <a:pt x="909" y="384"/>
                  </a:lnTo>
                  <a:lnTo>
                    <a:pt x="618" y="331"/>
                  </a:lnTo>
                  <a:lnTo>
                    <a:pt x="428" y="269"/>
                  </a:lnTo>
                  <a:lnTo>
                    <a:pt x="268" y="194"/>
                  </a:lnTo>
                  <a:lnTo>
                    <a:pt x="154" y="123"/>
                  </a:lnTo>
                  <a:lnTo>
                    <a:pt x="114" y="57"/>
                  </a:lnTo>
                  <a:lnTo>
                    <a:pt x="295" y="97"/>
                  </a:lnTo>
                  <a:lnTo>
                    <a:pt x="530" y="123"/>
                  </a:lnTo>
                  <a:lnTo>
                    <a:pt x="719" y="123"/>
                  </a:lnTo>
                  <a:lnTo>
                    <a:pt x="821" y="180"/>
                  </a:lnTo>
                  <a:lnTo>
                    <a:pt x="1011" y="292"/>
                  </a:lnTo>
                  <a:lnTo>
                    <a:pt x="1320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82880" y="1897200"/>
              <a:ext cx="489240" cy="159120"/>
            </a:xfrm>
            <a:custGeom>
              <a:avLst/>
              <a:gdLst/>
              <a:ahLst/>
              <a:rect l="0" t="0" r="r" b="b"/>
              <a:pathLst>
                <a:path w="1359" h="442">
                  <a:moveTo>
                    <a:pt x="0" y="39"/>
                  </a:moveTo>
                  <a:lnTo>
                    <a:pt x="52" y="159"/>
                  </a:lnTo>
                  <a:lnTo>
                    <a:pt x="39" y="172"/>
                  </a:lnTo>
                  <a:lnTo>
                    <a:pt x="110" y="305"/>
                  </a:lnTo>
                  <a:lnTo>
                    <a:pt x="180" y="327"/>
                  </a:lnTo>
                  <a:lnTo>
                    <a:pt x="194" y="368"/>
                  </a:lnTo>
                  <a:lnTo>
                    <a:pt x="834" y="425"/>
                  </a:lnTo>
                  <a:lnTo>
                    <a:pt x="794" y="442"/>
                  </a:lnTo>
                  <a:lnTo>
                    <a:pt x="1002" y="425"/>
                  </a:lnTo>
                  <a:lnTo>
                    <a:pt x="1244" y="442"/>
                  </a:lnTo>
                  <a:lnTo>
                    <a:pt x="1178" y="350"/>
                  </a:lnTo>
                  <a:lnTo>
                    <a:pt x="1359" y="212"/>
                  </a:lnTo>
                  <a:lnTo>
                    <a:pt x="852" y="0"/>
                  </a:lnTo>
                  <a:lnTo>
                    <a:pt x="1315" y="212"/>
                  </a:lnTo>
                  <a:lnTo>
                    <a:pt x="1103" y="327"/>
                  </a:lnTo>
                  <a:lnTo>
                    <a:pt x="931" y="350"/>
                  </a:lnTo>
                  <a:lnTo>
                    <a:pt x="944" y="305"/>
                  </a:lnTo>
                  <a:lnTo>
                    <a:pt x="834" y="350"/>
                  </a:lnTo>
                  <a:lnTo>
                    <a:pt x="436" y="327"/>
                  </a:lnTo>
                  <a:lnTo>
                    <a:pt x="639" y="234"/>
                  </a:lnTo>
                  <a:lnTo>
                    <a:pt x="321" y="305"/>
                  </a:lnTo>
                  <a:lnTo>
                    <a:pt x="194" y="287"/>
                  </a:lnTo>
                  <a:lnTo>
                    <a:pt x="123" y="234"/>
                  </a:lnTo>
                  <a:lnTo>
                    <a:pt x="52" y="97"/>
                  </a:lnTo>
                  <a:lnTo>
                    <a:pt x="321" y="172"/>
                  </a:lnTo>
                  <a:lnTo>
                    <a:pt x="520" y="172"/>
                  </a:lnTo>
                  <a:lnTo>
                    <a:pt x="639" y="172"/>
                  </a:lnTo>
                  <a:lnTo>
                    <a:pt x="282" y="1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27320" y="1890720"/>
              <a:ext cx="86040" cy="76680"/>
            </a:xfrm>
            <a:custGeom>
              <a:avLst/>
              <a:gdLst/>
              <a:ahLst/>
              <a:rect l="0" t="0" r="r" b="b"/>
              <a:pathLst>
                <a:path w="239" h="213">
                  <a:moveTo>
                    <a:pt x="239" y="0"/>
                  </a:moveTo>
                  <a:lnTo>
                    <a:pt x="0" y="213"/>
                  </a:lnTo>
                  <a:lnTo>
                    <a:pt x="172" y="2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1257480"/>
              <a:ext cx="51120" cy="30600"/>
            </a:xfrm>
            <a:custGeom>
              <a:avLst/>
              <a:gdLst/>
              <a:ahLst/>
              <a:rect l="0" t="0" r="r" b="b"/>
              <a:pathLst>
                <a:path w="142" h="85">
                  <a:moveTo>
                    <a:pt x="142" y="85"/>
                  </a:moveTo>
                  <a:lnTo>
                    <a:pt x="61" y="72"/>
                  </a:lnTo>
                  <a:lnTo>
                    <a:pt x="0" y="72"/>
                  </a:lnTo>
                  <a:lnTo>
                    <a:pt x="4" y="0"/>
                  </a:lnTo>
                  <a:lnTo>
                    <a:pt x="26" y="45"/>
                  </a:lnTo>
                  <a:lnTo>
                    <a:pt x="142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19120" y="1254240"/>
              <a:ext cx="397080" cy="20880"/>
            </a:xfrm>
            <a:custGeom>
              <a:avLst/>
              <a:gdLst/>
              <a:ahLst/>
              <a:rect l="0" t="0" r="r" b="b"/>
              <a:pathLst>
                <a:path w="1103" h="58">
                  <a:moveTo>
                    <a:pt x="1103" y="58"/>
                  </a:moveTo>
                  <a:lnTo>
                    <a:pt x="741" y="31"/>
                  </a:lnTo>
                  <a:lnTo>
                    <a:pt x="502" y="45"/>
                  </a:lnTo>
                  <a:lnTo>
                    <a:pt x="17" y="45"/>
                  </a:lnTo>
                  <a:lnTo>
                    <a:pt x="0" y="0"/>
                  </a:lnTo>
                  <a:lnTo>
                    <a:pt x="794" y="17"/>
                  </a:lnTo>
                  <a:lnTo>
                    <a:pt x="110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13000" y="1287360"/>
              <a:ext cx="360720" cy="19440"/>
            </a:xfrm>
            <a:custGeom>
              <a:avLst/>
              <a:gdLst/>
              <a:ahLst/>
              <a:rect l="0" t="0" r="r" b="b"/>
              <a:pathLst>
                <a:path w="1002" h="54">
                  <a:moveTo>
                    <a:pt x="1002" y="8"/>
                  </a:moveTo>
                  <a:lnTo>
                    <a:pt x="622" y="27"/>
                  </a:lnTo>
                  <a:lnTo>
                    <a:pt x="255" y="54"/>
                  </a:lnTo>
                  <a:lnTo>
                    <a:pt x="0" y="18"/>
                  </a:lnTo>
                  <a:lnTo>
                    <a:pt x="185" y="8"/>
                  </a:lnTo>
                  <a:lnTo>
                    <a:pt x="405" y="18"/>
                  </a:lnTo>
                  <a:lnTo>
                    <a:pt x="843" y="0"/>
                  </a:lnTo>
                  <a:lnTo>
                    <a:pt x="100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51120" y="1308240"/>
              <a:ext cx="55800" cy="11520"/>
            </a:xfrm>
            <a:custGeom>
              <a:avLst/>
              <a:gdLst/>
              <a:ahLst/>
              <a:rect l="0" t="0" r="r" b="b"/>
              <a:pathLst>
                <a:path w="155" h="32">
                  <a:moveTo>
                    <a:pt x="155" y="32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43160" y="236520"/>
              <a:ext cx="340200" cy="408240"/>
            </a:xfrm>
            <a:custGeom>
              <a:avLst/>
              <a:gdLst/>
              <a:ahLst/>
              <a:rect l="0" t="0" r="r" b="b"/>
              <a:pathLst>
                <a:path w="945" h="1134">
                  <a:moveTo>
                    <a:pt x="154" y="348"/>
                  </a:moveTo>
                  <a:lnTo>
                    <a:pt x="256" y="383"/>
                  </a:lnTo>
                  <a:lnTo>
                    <a:pt x="375" y="396"/>
                  </a:lnTo>
                  <a:lnTo>
                    <a:pt x="490" y="366"/>
                  </a:lnTo>
                  <a:lnTo>
                    <a:pt x="561" y="335"/>
                  </a:lnTo>
                  <a:lnTo>
                    <a:pt x="547" y="308"/>
                  </a:lnTo>
                  <a:lnTo>
                    <a:pt x="636" y="277"/>
                  </a:lnTo>
                  <a:lnTo>
                    <a:pt x="729" y="194"/>
                  </a:lnTo>
                  <a:lnTo>
                    <a:pt x="773" y="105"/>
                  </a:lnTo>
                  <a:lnTo>
                    <a:pt x="795" y="17"/>
                  </a:lnTo>
                  <a:lnTo>
                    <a:pt x="831" y="0"/>
                  </a:lnTo>
                  <a:lnTo>
                    <a:pt x="795" y="136"/>
                  </a:lnTo>
                  <a:lnTo>
                    <a:pt x="742" y="207"/>
                  </a:lnTo>
                  <a:lnTo>
                    <a:pt x="649" y="308"/>
                  </a:lnTo>
                  <a:lnTo>
                    <a:pt x="764" y="220"/>
                  </a:lnTo>
                  <a:lnTo>
                    <a:pt x="817" y="136"/>
                  </a:lnTo>
                  <a:lnTo>
                    <a:pt x="844" y="61"/>
                  </a:lnTo>
                  <a:lnTo>
                    <a:pt x="888" y="61"/>
                  </a:lnTo>
                  <a:lnTo>
                    <a:pt x="822" y="163"/>
                  </a:lnTo>
                  <a:lnTo>
                    <a:pt x="751" y="251"/>
                  </a:lnTo>
                  <a:lnTo>
                    <a:pt x="658" y="335"/>
                  </a:lnTo>
                  <a:lnTo>
                    <a:pt x="773" y="295"/>
                  </a:lnTo>
                  <a:lnTo>
                    <a:pt x="866" y="207"/>
                  </a:lnTo>
                  <a:lnTo>
                    <a:pt x="901" y="145"/>
                  </a:lnTo>
                  <a:lnTo>
                    <a:pt x="910" y="105"/>
                  </a:lnTo>
                  <a:lnTo>
                    <a:pt x="945" y="119"/>
                  </a:lnTo>
                  <a:lnTo>
                    <a:pt x="888" y="207"/>
                  </a:lnTo>
                  <a:lnTo>
                    <a:pt x="817" y="295"/>
                  </a:lnTo>
                  <a:lnTo>
                    <a:pt x="742" y="348"/>
                  </a:lnTo>
                  <a:lnTo>
                    <a:pt x="671" y="366"/>
                  </a:lnTo>
                  <a:lnTo>
                    <a:pt x="636" y="396"/>
                  </a:lnTo>
                  <a:lnTo>
                    <a:pt x="636" y="445"/>
                  </a:lnTo>
                  <a:lnTo>
                    <a:pt x="591" y="489"/>
                  </a:lnTo>
                  <a:lnTo>
                    <a:pt x="503" y="507"/>
                  </a:lnTo>
                  <a:lnTo>
                    <a:pt x="419" y="520"/>
                  </a:lnTo>
                  <a:lnTo>
                    <a:pt x="318" y="507"/>
                  </a:lnTo>
                  <a:lnTo>
                    <a:pt x="216" y="489"/>
                  </a:lnTo>
                  <a:lnTo>
                    <a:pt x="154" y="458"/>
                  </a:lnTo>
                  <a:lnTo>
                    <a:pt x="119" y="533"/>
                  </a:lnTo>
                  <a:lnTo>
                    <a:pt x="110" y="649"/>
                  </a:lnTo>
                  <a:lnTo>
                    <a:pt x="101" y="807"/>
                  </a:lnTo>
                  <a:lnTo>
                    <a:pt x="110" y="944"/>
                  </a:lnTo>
                  <a:lnTo>
                    <a:pt x="132" y="1015"/>
                  </a:lnTo>
                  <a:lnTo>
                    <a:pt x="132" y="1059"/>
                  </a:lnTo>
                  <a:lnTo>
                    <a:pt x="176" y="1103"/>
                  </a:lnTo>
                  <a:lnTo>
                    <a:pt x="176" y="1134"/>
                  </a:lnTo>
                  <a:lnTo>
                    <a:pt x="101" y="1076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66" y="1028"/>
                  </a:lnTo>
                  <a:lnTo>
                    <a:pt x="48" y="843"/>
                  </a:lnTo>
                  <a:lnTo>
                    <a:pt x="35" y="675"/>
                  </a:lnTo>
                  <a:lnTo>
                    <a:pt x="52" y="649"/>
                  </a:lnTo>
                  <a:lnTo>
                    <a:pt x="66" y="520"/>
                  </a:lnTo>
                  <a:lnTo>
                    <a:pt x="101" y="432"/>
                  </a:lnTo>
                  <a:lnTo>
                    <a:pt x="154" y="3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92280" y="22860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58" y="8"/>
                  </a:moveTo>
                  <a:lnTo>
                    <a:pt x="36" y="102"/>
                  </a:lnTo>
                  <a:lnTo>
                    <a:pt x="0" y="199"/>
                  </a:lnTo>
                  <a:lnTo>
                    <a:pt x="13" y="66"/>
                  </a:lnTo>
                  <a:lnTo>
                    <a:pt x="0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36680" y="22860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676" y="48"/>
                  </a:moveTo>
                  <a:lnTo>
                    <a:pt x="481" y="0"/>
                  </a:lnTo>
                  <a:lnTo>
                    <a:pt x="305" y="0"/>
                  </a:lnTo>
                  <a:lnTo>
                    <a:pt x="195" y="8"/>
                  </a:lnTo>
                  <a:lnTo>
                    <a:pt x="83" y="48"/>
                  </a:lnTo>
                  <a:lnTo>
                    <a:pt x="30" y="127"/>
                  </a:lnTo>
                  <a:lnTo>
                    <a:pt x="8" y="199"/>
                  </a:lnTo>
                  <a:lnTo>
                    <a:pt x="0" y="230"/>
                  </a:lnTo>
                  <a:lnTo>
                    <a:pt x="0" y="274"/>
                  </a:lnTo>
                  <a:lnTo>
                    <a:pt x="66" y="344"/>
                  </a:lnTo>
                  <a:lnTo>
                    <a:pt x="154" y="389"/>
                  </a:lnTo>
                  <a:lnTo>
                    <a:pt x="186" y="287"/>
                  </a:lnTo>
                  <a:lnTo>
                    <a:pt x="217" y="243"/>
                  </a:lnTo>
                  <a:lnTo>
                    <a:pt x="278" y="199"/>
                  </a:lnTo>
                  <a:lnTo>
                    <a:pt x="358" y="185"/>
                  </a:lnTo>
                  <a:lnTo>
                    <a:pt x="265" y="199"/>
                  </a:lnTo>
                  <a:lnTo>
                    <a:pt x="195" y="243"/>
                  </a:lnTo>
                  <a:lnTo>
                    <a:pt x="256" y="167"/>
                  </a:lnTo>
                  <a:lnTo>
                    <a:pt x="186" y="230"/>
                  </a:lnTo>
                  <a:lnTo>
                    <a:pt x="141" y="287"/>
                  </a:lnTo>
                  <a:lnTo>
                    <a:pt x="132" y="344"/>
                  </a:lnTo>
                  <a:lnTo>
                    <a:pt x="105" y="300"/>
                  </a:lnTo>
                  <a:lnTo>
                    <a:pt x="141" y="217"/>
                  </a:lnTo>
                  <a:lnTo>
                    <a:pt x="177" y="154"/>
                  </a:lnTo>
                  <a:lnTo>
                    <a:pt x="217" y="114"/>
                  </a:lnTo>
                  <a:lnTo>
                    <a:pt x="186" y="97"/>
                  </a:lnTo>
                  <a:lnTo>
                    <a:pt x="141" y="185"/>
                  </a:lnTo>
                  <a:lnTo>
                    <a:pt x="105" y="230"/>
                  </a:lnTo>
                  <a:lnTo>
                    <a:pt x="83" y="274"/>
                  </a:lnTo>
                  <a:lnTo>
                    <a:pt x="74" y="217"/>
                  </a:lnTo>
                  <a:lnTo>
                    <a:pt x="97" y="154"/>
                  </a:lnTo>
                  <a:lnTo>
                    <a:pt x="154" y="114"/>
                  </a:lnTo>
                  <a:lnTo>
                    <a:pt x="186" y="83"/>
                  </a:lnTo>
                  <a:lnTo>
                    <a:pt x="177" y="66"/>
                  </a:lnTo>
                  <a:lnTo>
                    <a:pt x="243" y="39"/>
                  </a:lnTo>
                  <a:lnTo>
                    <a:pt x="349" y="22"/>
                  </a:lnTo>
                  <a:lnTo>
                    <a:pt x="472" y="22"/>
                  </a:lnTo>
                  <a:lnTo>
                    <a:pt x="584" y="48"/>
                  </a:lnTo>
                  <a:lnTo>
                    <a:pt x="654" y="83"/>
                  </a:lnTo>
                  <a:lnTo>
                    <a:pt x="676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1000" y="331920"/>
              <a:ext cx="387720" cy="592560"/>
            </a:xfrm>
            <a:custGeom>
              <a:avLst/>
              <a:gdLst/>
              <a:ahLst/>
              <a:rect l="0" t="0" r="r" b="b"/>
              <a:pathLst>
                <a:path w="1077" h="1646">
                  <a:moveTo>
                    <a:pt x="224" y="0"/>
                  </a:moveTo>
                  <a:lnTo>
                    <a:pt x="119" y="70"/>
                  </a:lnTo>
                  <a:lnTo>
                    <a:pt x="44" y="154"/>
                  </a:lnTo>
                  <a:lnTo>
                    <a:pt x="13" y="242"/>
                  </a:lnTo>
                  <a:lnTo>
                    <a:pt x="0" y="339"/>
                  </a:lnTo>
                  <a:lnTo>
                    <a:pt x="13" y="441"/>
                  </a:lnTo>
                  <a:lnTo>
                    <a:pt x="66" y="574"/>
                  </a:lnTo>
                  <a:lnTo>
                    <a:pt x="136" y="710"/>
                  </a:lnTo>
                  <a:lnTo>
                    <a:pt x="171" y="781"/>
                  </a:lnTo>
                  <a:lnTo>
                    <a:pt x="194" y="882"/>
                  </a:lnTo>
                  <a:lnTo>
                    <a:pt x="224" y="957"/>
                  </a:lnTo>
                  <a:lnTo>
                    <a:pt x="255" y="1032"/>
                  </a:lnTo>
                  <a:lnTo>
                    <a:pt x="278" y="1076"/>
                  </a:lnTo>
                  <a:lnTo>
                    <a:pt x="246" y="1178"/>
                  </a:lnTo>
                  <a:lnTo>
                    <a:pt x="224" y="1311"/>
                  </a:lnTo>
                  <a:lnTo>
                    <a:pt x="224" y="1413"/>
                  </a:lnTo>
                  <a:lnTo>
                    <a:pt x="216" y="1523"/>
                  </a:lnTo>
                  <a:lnTo>
                    <a:pt x="194" y="1611"/>
                  </a:lnTo>
                  <a:lnTo>
                    <a:pt x="163" y="1646"/>
                  </a:lnTo>
                  <a:lnTo>
                    <a:pt x="202" y="1646"/>
                  </a:lnTo>
                  <a:lnTo>
                    <a:pt x="224" y="1585"/>
                  </a:lnTo>
                  <a:lnTo>
                    <a:pt x="255" y="1479"/>
                  </a:lnTo>
                  <a:lnTo>
                    <a:pt x="268" y="1369"/>
                  </a:lnTo>
                  <a:lnTo>
                    <a:pt x="278" y="1496"/>
                  </a:lnTo>
                  <a:lnTo>
                    <a:pt x="268" y="1585"/>
                  </a:lnTo>
                  <a:lnTo>
                    <a:pt x="255" y="1624"/>
                  </a:lnTo>
                  <a:lnTo>
                    <a:pt x="238" y="1646"/>
                  </a:lnTo>
                  <a:lnTo>
                    <a:pt x="268" y="1646"/>
                  </a:lnTo>
                  <a:lnTo>
                    <a:pt x="305" y="1554"/>
                  </a:lnTo>
                  <a:lnTo>
                    <a:pt x="309" y="1646"/>
                  </a:lnTo>
                  <a:lnTo>
                    <a:pt x="375" y="1646"/>
                  </a:lnTo>
                  <a:lnTo>
                    <a:pt x="455" y="1633"/>
                  </a:lnTo>
                  <a:lnTo>
                    <a:pt x="556" y="1611"/>
                  </a:lnTo>
                  <a:lnTo>
                    <a:pt x="631" y="1611"/>
                  </a:lnTo>
                  <a:lnTo>
                    <a:pt x="631" y="1554"/>
                  </a:lnTo>
                  <a:lnTo>
                    <a:pt x="684" y="1536"/>
                  </a:lnTo>
                  <a:lnTo>
                    <a:pt x="759" y="1505"/>
                  </a:lnTo>
                  <a:lnTo>
                    <a:pt x="794" y="1496"/>
                  </a:lnTo>
                  <a:lnTo>
                    <a:pt x="892" y="1536"/>
                  </a:lnTo>
                  <a:lnTo>
                    <a:pt x="985" y="1554"/>
                  </a:lnTo>
                  <a:lnTo>
                    <a:pt x="1042" y="1554"/>
                  </a:lnTo>
                  <a:lnTo>
                    <a:pt x="1077" y="1523"/>
                  </a:lnTo>
                  <a:lnTo>
                    <a:pt x="998" y="1536"/>
                  </a:lnTo>
                  <a:lnTo>
                    <a:pt x="998" y="1554"/>
                  </a:lnTo>
                  <a:lnTo>
                    <a:pt x="928" y="1536"/>
                  </a:lnTo>
                  <a:lnTo>
                    <a:pt x="853" y="1496"/>
                  </a:lnTo>
                  <a:lnTo>
                    <a:pt x="737" y="1435"/>
                  </a:lnTo>
                  <a:lnTo>
                    <a:pt x="640" y="1342"/>
                  </a:lnTo>
                  <a:lnTo>
                    <a:pt x="574" y="1254"/>
                  </a:lnTo>
                  <a:lnTo>
                    <a:pt x="503" y="1191"/>
                  </a:lnTo>
                  <a:lnTo>
                    <a:pt x="481" y="1147"/>
                  </a:lnTo>
                  <a:lnTo>
                    <a:pt x="464" y="1147"/>
                  </a:lnTo>
                  <a:lnTo>
                    <a:pt x="481" y="1191"/>
                  </a:lnTo>
                  <a:lnTo>
                    <a:pt x="464" y="1222"/>
                  </a:lnTo>
                  <a:lnTo>
                    <a:pt x="424" y="1204"/>
                  </a:lnTo>
                  <a:lnTo>
                    <a:pt x="411" y="1178"/>
                  </a:lnTo>
                  <a:lnTo>
                    <a:pt x="424" y="1147"/>
                  </a:lnTo>
                  <a:lnTo>
                    <a:pt x="433" y="1134"/>
                  </a:lnTo>
                  <a:lnTo>
                    <a:pt x="358" y="1116"/>
                  </a:lnTo>
                  <a:lnTo>
                    <a:pt x="305" y="1063"/>
                  </a:lnTo>
                  <a:lnTo>
                    <a:pt x="268" y="997"/>
                  </a:lnTo>
                  <a:lnTo>
                    <a:pt x="238" y="931"/>
                  </a:lnTo>
                  <a:lnTo>
                    <a:pt x="216" y="874"/>
                  </a:lnTo>
                  <a:lnTo>
                    <a:pt x="224" y="825"/>
                  </a:lnTo>
                  <a:lnTo>
                    <a:pt x="292" y="856"/>
                  </a:lnTo>
                  <a:lnTo>
                    <a:pt x="336" y="913"/>
                  </a:lnTo>
                  <a:lnTo>
                    <a:pt x="367" y="957"/>
                  </a:lnTo>
                  <a:lnTo>
                    <a:pt x="389" y="997"/>
                  </a:lnTo>
                  <a:lnTo>
                    <a:pt x="424" y="1046"/>
                  </a:lnTo>
                  <a:lnTo>
                    <a:pt x="411" y="957"/>
                  </a:lnTo>
                  <a:lnTo>
                    <a:pt x="446" y="944"/>
                  </a:lnTo>
                  <a:lnTo>
                    <a:pt x="389" y="874"/>
                  </a:lnTo>
                  <a:lnTo>
                    <a:pt x="305" y="825"/>
                  </a:lnTo>
                  <a:lnTo>
                    <a:pt x="255" y="812"/>
                  </a:lnTo>
                  <a:lnTo>
                    <a:pt x="255" y="781"/>
                  </a:lnTo>
                  <a:lnTo>
                    <a:pt x="309" y="794"/>
                  </a:lnTo>
                  <a:lnTo>
                    <a:pt x="278" y="710"/>
                  </a:lnTo>
                  <a:lnTo>
                    <a:pt x="268" y="591"/>
                  </a:lnTo>
                  <a:lnTo>
                    <a:pt x="246" y="459"/>
                  </a:lnTo>
                  <a:lnTo>
                    <a:pt x="255" y="339"/>
                  </a:lnTo>
                  <a:lnTo>
                    <a:pt x="278" y="255"/>
                  </a:lnTo>
                  <a:lnTo>
                    <a:pt x="305" y="194"/>
                  </a:lnTo>
                  <a:lnTo>
                    <a:pt x="246" y="366"/>
                  </a:lnTo>
                  <a:lnTo>
                    <a:pt x="268" y="167"/>
                  </a:lnTo>
                  <a:lnTo>
                    <a:pt x="194" y="468"/>
                  </a:lnTo>
                  <a:lnTo>
                    <a:pt x="216" y="180"/>
                  </a:lnTo>
                  <a:lnTo>
                    <a:pt x="163" y="379"/>
                  </a:lnTo>
                  <a:lnTo>
                    <a:pt x="163" y="211"/>
                  </a:lnTo>
                  <a:lnTo>
                    <a:pt x="119" y="339"/>
                  </a:lnTo>
                  <a:lnTo>
                    <a:pt x="105" y="224"/>
                  </a:lnTo>
                  <a:lnTo>
                    <a:pt x="66" y="313"/>
                  </a:lnTo>
                  <a:lnTo>
                    <a:pt x="74" y="194"/>
                  </a:lnTo>
                  <a:lnTo>
                    <a:pt x="119" y="132"/>
                  </a:lnTo>
                  <a:lnTo>
                    <a:pt x="171" y="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9680" y="336600"/>
              <a:ext cx="133560" cy="354240"/>
            </a:xfrm>
            <a:custGeom>
              <a:avLst/>
              <a:gdLst/>
              <a:ahLst/>
              <a:rect l="0" t="0" r="r" b="b"/>
              <a:pathLst>
                <a:path w="371" h="984">
                  <a:moveTo>
                    <a:pt x="163" y="0"/>
                  </a:moveTo>
                  <a:lnTo>
                    <a:pt x="230" y="70"/>
                  </a:lnTo>
                  <a:lnTo>
                    <a:pt x="252" y="229"/>
                  </a:lnTo>
                  <a:lnTo>
                    <a:pt x="265" y="396"/>
                  </a:lnTo>
                  <a:lnTo>
                    <a:pt x="265" y="485"/>
                  </a:lnTo>
                  <a:lnTo>
                    <a:pt x="265" y="534"/>
                  </a:lnTo>
                  <a:lnTo>
                    <a:pt x="221" y="516"/>
                  </a:lnTo>
                  <a:lnTo>
                    <a:pt x="243" y="609"/>
                  </a:lnTo>
                  <a:lnTo>
                    <a:pt x="292" y="710"/>
                  </a:lnTo>
                  <a:lnTo>
                    <a:pt x="340" y="838"/>
                  </a:lnTo>
                  <a:lnTo>
                    <a:pt x="371" y="957"/>
                  </a:lnTo>
                  <a:lnTo>
                    <a:pt x="358" y="984"/>
                  </a:lnTo>
                  <a:lnTo>
                    <a:pt x="327" y="856"/>
                  </a:lnTo>
                  <a:lnTo>
                    <a:pt x="274" y="710"/>
                  </a:lnTo>
                  <a:lnTo>
                    <a:pt x="243" y="622"/>
                  </a:lnTo>
                  <a:lnTo>
                    <a:pt x="208" y="534"/>
                  </a:lnTo>
                  <a:lnTo>
                    <a:pt x="171" y="445"/>
                  </a:lnTo>
                  <a:lnTo>
                    <a:pt x="149" y="348"/>
                  </a:lnTo>
                  <a:lnTo>
                    <a:pt x="105" y="268"/>
                  </a:lnTo>
                  <a:lnTo>
                    <a:pt x="48" y="198"/>
                  </a:lnTo>
                  <a:lnTo>
                    <a:pt x="0" y="141"/>
                  </a:lnTo>
                  <a:lnTo>
                    <a:pt x="114" y="242"/>
                  </a:lnTo>
                  <a:lnTo>
                    <a:pt x="83" y="154"/>
                  </a:lnTo>
                  <a:lnTo>
                    <a:pt x="149" y="255"/>
                  </a:lnTo>
                  <a:lnTo>
                    <a:pt x="114" y="141"/>
                  </a:lnTo>
                  <a:lnTo>
                    <a:pt x="171" y="242"/>
                  </a:lnTo>
                  <a:lnTo>
                    <a:pt x="158" y="119"/>
                  </a:lnTo>
                  <a:lnTo>
                    <a:pt x="208" y="229"/>
                  </a:lnTo>
                  <a:lnTo>
                    <a:pt x="186" y="70"/>
                  </a:lnTo>
                  <a:lnTo>
                    <a:pt x="136" y="4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6440" y="515880"/>
              <a:ext cx="65520" cy="16200"/>
            </a:xfrm>
            <a:custGeom>
              <a:avLst/>
              <a:gdLst/>
              <a:ahLst/>
              <a:rect l="0" t="0" r="r" b="b"/>
              <a:pathLst>
                <a:path w="182" h="45">
                  <a:moveTo>
                    <a:pt x="182" y="17"/>
                  </a:moveTo>
                  <a:lnTo>
                    <a:pt x="124" y="0"/>
                  </a:lnTo>
                  <a:lnTo>
                    <a:pt x="71" y="0"/>
                  </a:lnTo>
                  <a:lnTo>
                    <a:pt x="0" y="17"/>
                  </a:lnTo>
                  <a:lnTo>
                    <a:pt x="22" y="31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93" y="17"/>
                  </a:lnTo>
                  <a:lnTo>
                    <a:pt x="182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54040" y="522360"/>
              <a:ext cx="82800" cy="27360"/>
            </a:xfrm>
            <a:custGeom>
              <a:avLst/>
              <a:gdLst/>
              <a:ahLst/>
              <a:rect l="0" t="0" r="r" b="b"/>
              <a:pathLst>
                <a:path w="230" h="76">
                  <a:moveTo>
                    <a:pt x="230" y="0"/>
                  </a:moveTo>
                  <a:lnTo>
                    <a:pt x="142" y="0"/>
                  </a:lnTo>
                  <a:lnTo>
                    <a:pt x="88" y="17"/>
                  </a:lnTo>
                  <a:lnTo>
                    <a:pt x="22" y="31"/>
                  </a:lnTo>
                  <a:lnTo>
                    <a:pt x="0" y="63"/>
                  </a:lnTo>
                  <a:lnTo>
                    <a:pt x="22" y="45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120" y="63"/>
                  </a:lnTo>
                  <a:lnTo>
                    <a:pt x="128" y="31"/>
                  </a:lnTo>
                  <a:lnTo>
                    <a:pt x="142" y="1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571760" y="438120"/>
              <a:ext cx="33840" cy="16200"/>
            </a:xfrm>
            <a:custGeom>
              <a:avLst/>
              <a:gdLst/>
              <a:ahLst/>
              <a:rect l="0" t="0" r="r" b="b"/>
              <a:pathLst>
                <a:path w="94" h="45">
                  <a:moveTo>
                    <a:pt x="94" y="45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94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7280" y="438120"/>
              <a:ext cx="39960" cy="24120"/>
            </a:xfrm>
            <a:custGeom>
              <a:avLst/>
              <a:gdLst/>
              <a:ahLst/>
              <a:rect l="0" t="0" r="r" b="b"/>
              <a:pathLst>
                <a:path w="111" h="67">
                  <a:moveTo>
                    <a:pt x="111" y="0"/>
                  </a:moveTo>
                  <a:lnTo>
                    <a:pt x="0" y="67"/>
                  </a:lnTo>
                  <a:lnTo>
                    <a:pt x="80" y="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79680" y="539640"/>
              <a:ext cx="105120" cy="163800"/>
            </a:xfrm>
            <a:custGeom>
              <a:avLst/>
              <a:gdLst/>
              <a:ahLst/>
              <a:rect l="0" t="0" r="r" b="b"/>
              <a:pathLst>
                <a:path w="292" h="455">
                  <a:moveTo>
                    <a:pt x="35" y="0"/>
                  </a:moveTo>
                  <a:lnTo>
                    <a:pt x="105" y="114"/>
                  </a:lnTo>
                  <a:lnTo>
                    <a:pt x="186" y="185"/>
                  </a:lnTo>
                  <a:lnTo>
                    <a:pt x="243" y="247"/>
                  </a:lnTo>
                  <a:lnTo>
                    <a:pt x="292" y="292"/>
                  </a:lnTo>
                  <a:lnTo>
                    <a:pt x="292" y="322"/>
                  </a:lnTo>
                  <a:lnTo>
                    <a:pt x="287" y="367"/>
                  </a:lnTo>
                  <a:lnTo>
                    <a:pt x="186" y="380"/>
                  </a:lnTo>
                  <a:lnTo>
                    <a:pt x="164" y="419"/>
                  </a:lnTo>
                  <a:lnTo>
                    <a:pt x="114" y="455"/>
                  </a:lnTo>
                  <a:lnTo>
                    <a:pt x="61" y="441"/>
                  </a:lnTo>
                  <a:lnTo>
                    <a:pt x="26" y="406"/>
                  </a:lnTo>
                  <a:lnTo>
                    <a:pt x="0" y="367"/>
                  </a:lnTo>
                  <a:lnTo>
                    <a:pt x="26" y="336"/>
                  </a:lnTo>
                  <a:lnTo>
                    <a:pt x="83" y="336"/>
                  </a:lnTo>
                  <a:lnTo>
                    <a:pt x="265" y="336"/>
                  </a:lnTo>
                  <a:lnTo>
                    <a:pt x="274" y="292"/>
                  </a:lnTo>
                  <a:lnTo>
                    <a:pt x="172" y="216"/>
                  </a:lnTo>
                  <a:lnTo>
                    <a:pt x="105" y="132"/>
                  </a:lnTo>
                  <a:lnTo>
                    <a:pt x="35" y="5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4000" y="698400"/>
              <a:ext cx="176400" cy="116280"/>
            </a:xfrm>
            <a:custGeom>
              <a:avLst/>
              <a:gdLst/>
              <a:ahLst/>
              <a:rect l="0" t="0" r="r" b="b"/>
              <a:pathLst>
                <a:path w="490" h="323">
                  <a:moveTo>
                    <a:pt x="490" y="13"/>
                  </a:moveTo>
                  <a:lnTo>
                    <a:pt x="490" y="70"/>
                  </a:lnTo>
                  <a:lnTo>
                    <a:pt x="468" y="115"/>
                  </a:lnTo>
                  <a:lnTo>
                    <a:pt x="446" y="150"/>
                  </a:lnTo>
                  <a:lnTo>
                    <a:pt x="437" y="172"/>
                  </a:lnTo>
                  <a:lnTo>
                    <a:pt x="459" y="234"/>
                  </a:lnTo>
                  <a:lnTo>
                    <a:pt x="459" y="275"/>
                  </a:lnTo>
                  <a:lnTo>
                    <a:pt x="437" y="293"/>
                  </a:lnTo>
                  <a:lnTo>
                    <a:pt x="446" y="234"/>
                  </a:lnTo>
                  <a:lnTo>
                    <a:pt x="424" y="190"/>
                  </a:lnTo>
                  <a:lnTo>
                    <a:pt x="397" y="221"/>
                  </a:lnTo>
                  <a:lnTo>
                    <a:pt x="344" y="253"/>
                  </a:lnTo>
                  <a:lnTo>
                    <a:pt x="389" y="190"/>
                  </a:lnTo>
                  <a:lnTo>
                    <a:pt x="389" y="133"/>
                  </a:lnTo>
                  <a:lnTo>
                    <a:pt x="309" y="164"/>
                  </a:lnTo>
                  <a:lnTo>
                    <a:pt x="198" y="164"/>
                  </a:lnTo>
                  <a:lnTo>
                    <a:pt x="141" y="150"/>
                  </a:lnTo>
                  <a:lnTo>
                    <a:pt x="74" y="133"/>
                  </a:lnTo>
                  <a:lnTo>
                    <a:pt x="119" y="190"/>
                  </a:lnTo>
                  <a:lnTo>
                    <a:pt x="163" y="221"/>
                  </a:lnTo>
                  <a:lnTo>
                    <a:pt x="229" y="253"/>
                  </a:lnTo>
                  <a:lnTo>
                    <a:pt x="274" y="253"/>
                  </a:lnTo>
                  <a:lnTo>
                    <a:pt x="287" y="275"/>
                  </a:lnTo>
                  <a:lnTo>
                    <a:pt x="309" y="266"/>
                  </a:lnTo>
                  <a:lnTo>
                    <a:pt x="331" y="293"/>
                  </a:lnTo>
                  <a:lnTo>
                    <a:pt x="353" y="275"/>
                  </a:lnTo>
                  <a:lnTo>
                    <a:pt x="367" y="306"/>
                  </a:lnTo>
                  <a:lnTo>
                    <a:pt x="397" y="306"/>
                  </a:lnTo>
                  <a:lnTo>
                    <a:pt x="331" y="323"/>
                  </a:lnTo>
                  <a:lnTo>
                    <a:pt x="252" y="306"/>
                  </a:lnTo>
                  <a:lnTo>
                    <a:pt x="171" y="293"/>
                  </a:lnTo>
                  <a:lnTo>
                    <a:pt x="105" y="253"/>
                  </a:lnTo>
                  <a:lnTo>
                    <a:pt x="61" y="190"/>
                  </a:lnTo>
                  <a:lnTo>
                    <a:pt x="30" y="150"/>
                  </a:lnTo>
                  <a:lnTo>
                    <a:pt x="0" y="164"/>
                  </a:lnTo>
                  <a:lnTo>
                    <a:pt x="17" y="102"/>
                  </a:lnTo>
                  <a:lnTo>
                    <a:pt x="30" y="70"/>
                  </a:lnTo>
                  <a:lnTo>
                    <a:pt x="17" y="26"/>
                  </a:lnTo>
                  <a:lnTo>
                    <a:pt x="39" y="26"/>
                  </a:lnTo>
                  <a:lnTo>
                    <a:pt x="52" y="13"/>
                  </a:lnTo>
                  <a:lnTo>
                    <a:pt x="83" y="26"/>
                  </a:lnTo>
                  <a:lnTo>
                    <a:pt x="97" y="44"/>
                  </a:lnTo>
                  <a:lnTo>
                    <a:pt x="52" y="84"/>
                  </a:lnTo>
                  <a:lnTo>
                    <a:pt x="74" y="115"/>
                  </a:lnTo>
                  <a:lnTo>
                    <a:pt x="149" y="133"/>
                  </a:lnTo>
                  <a:lnTo>
                    <a:pt x="265" y="150"/>
                  </a:lnTo>
                  <a:lnTo>
                    <a:pt x="344" y="133"/>
                  </a:lnTo>
                  <a:lnTo>
                    <a:pt x="397" y="102"/>
                  </a:lnTo>
                  <a:lnTo>
                    <a:pt x="446" y="70"/>
                  </a:lnTo>
                  <a:lnTo>
                    <a:pt x="468" y="44"/>
                  </a:lnTo>
                  <a:lnTo>
                    <a:pt x="468" y="0"/>
                  </a:lnTo>
                  <a:lnTo>
                    <a:pt x="49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50960" y="712800"/>
              <a:ext cx="54360" cy="144720"/>
            </a:xfrm>
            <a:custGeom>
              <a:avLst/>
              <a:gdLst/>
              <a:ahLst/>
              <a:rect l="0" t="0" r="r" b="b"/>
              <a:pathLst>
                <a:path w="151" h="402">
                  <a:moveTo>
                    <a:pt x="151" y="0"/>
                  </a:moveTo>
                  <a:lnTo>
                    <a:pt x="121" y="101"/>
                  </a:lnTo>
                  <a:lnTo>
                    <a:pt x="75" y="203"/>
                  </a:lnTo>
                  <a:lnTo>
                    <a:pt x="30" y="292"/>
                  </a:lnTo>
                  <a:lnTo>
                    <a:pt x="8" y="353"/>
                  </a:lnTo>
                  <a:lnTo>
                    <a:pt x="8" y="402"/>
                  </a:lnTo>
                  <a:lnTo>
                    <a:pt x="0" y="322"/>
                  </a:lnTo>
                  <a:lnTo>
                    <a:pt x="30" y="221"/>
                  </a:lnTo>
                  <a:lnTo>
                    <a:pt x="75" y="101"/>
                  </a:lnTo>
                  <a:lnTo>
                    <a:pt x="12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879480"/>
              <a:ext cx="167040" cy="267120"/>
            </a:xfrm>
            <a:custGeom>
              <a:avLst/>
              <a:gdLst/>
              <a:ahLst/>
              <a:rect l="0" t="0" r="r" b="b"/>
              <a:pathLst>
                <a:path w="464" h="742">
                  <a:moveTo>
                    <a:pt x="239" y="0"/>
                  </a:moveTo>
                  <a:lnTo>
                    <a:pt x="239" y="74"/>
                  </a:lnTo>
                  <a:lnTo>
                    <a:pt x="327" y="57"/>
                  </a:lnTo>
                  <a:lnTo>
                    <a:pt x="464" y="186"/>
                  </a:lnTo>
                  <a:lnTo>
                    <a:pt x="318" y="74"/>
                  </a:lnTo>
                  <a:lnTo>
                    <a:pt x="252" y="88"/>
                  </a:lnTo>
                  <a:lnTo>
                    <a:pt x="318" y="167"/>
                  </a:lnTo>
                  <a:lnTo>
                    <a:pt x="380" y="318"/>
                  </a:lnTo>
                  <a:lnTo>
                    <a:pt x="433" y="481"/>
                  </a:lnTo>
                  <a:lnTo>
                    <a:pt x="464" y="628"/>
                  </a:lnTo>
                  <a:lnTo>
                    <a:pt x="349" y="397"/>
                  </a:lnTo>
                  <a:lnTo>
                    <a:pt x="441" y="689"/>
                  </a:lnTo>
                  <a:lnTo>
                    <a:pt x="327" y="424"/>
                  </a:lnTo>
                  <a:lnTo>
                    <a:pt x="411" y="689"/>
                  </a:lnTo>
                  <a:lnTo>
                    <a:pt x="296" y="455"/>
                  </a:lnTo>
                  <a:lnTo>
                    <a:pt x="380" y="716"/>
                  </a:lnTo>
                  <a:lnTo>
                    <a:pt x="274" y="512"/>
                  </a:lnTo>
                  <a:lnTo>
                    <a:pt x="349" y="716"/>
                  </a:lnTo>
                  <a:lnTo>
                    <a:pt x="327" y="742"/>
                  </a:lnTo>
                  <a:lnTo>
                    <a:pt x="261" y="557"/>
                  </a:lnTo>
                  <a:lnTo>
                    <a:pt x="198" y="411"/>
                  </a:lnTo>
                  <a:lnTo>
                    <a:pt x="119" y="274"/>
                  </a:lnTo>
                  <a:lnTo>
                    <a:pt x="57" y="167"/>
                  </a:lnTo>
                  <a:lnTo>
                    <a:pt x="0" y="114"/>
                  </a:lnTo>
                  <a:lnTo>
                    <a:pt x="132" y="230"/>
                  </a:lnTo>
                  <a:lnTo>
                    <a:pt x="185" y="230"/>
                  </a:lnTo>
                  <a:lnTo>
                    <a:pt x="252" y="217"/>
                  </a:lnTo>
                  <a:lnTo>
                    <a:pt x="274" y="186"/>
                  </a:lnTo>
                  <a:lnTo>
                    <a:pt x="239" y="127"/>
                  </a:lnTo>
                  <a:lnTo>
                    <a:pt x="220" y="167"/>
                  </a:lnTo>
                  <a:lnTo>
                    <a:pt x="220" y="127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11200" y="928800"/>
              <a:ext cx="66960" cy="98640"/>
            </a:xfrm>
            <a:custGeom>
              <a:avLst/>
              <a:gdLst/>
              <a:ahLst/>
              <a:rect l="0" t="0" r="r" b="b"/>
              <a:pathLst>
                <a:path w="186" h="274">
                  <a:moveTo>
                    <a:pt x="26" y="0"/>
                  </a:moveTo>
                  <a:lnTo>
                    <a:pt x="26" y="88"/>
                  </a:lnTo>
                  <a:lnTo>
                    <a:pt x="186" y="212"/>
                  </a:lnTo>
                  <a:lnTo>
                    <a:pt x="98" y="274"/>
                  </a:lnTo>
                  <a:lnTo>
                    <a:pt x="142" y="225"/>
                  </a:lnTo>
                  <a:lnTo>
                    <a:pt x="26" y="136"/>
                  </a:lnTo>
                  <a:lnTo>
                    <a:pt x="39" y="105"/>
                  </a:lnTo>
                  <a:lnTo>
                    <a:pt x="0" y="6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2880" y="1033560"/>
              <a:ext cx="93960" cy="82800"/>
            </a:xfrm>
            <a:custGeom>
              <a:avLst/>
              <a:gdLst/>
              <a:ahLst/>
              <a:rect l="0" t="0" r="r" b="b"/>
              <a:pathLst>
                <a:path w="261" h="230">
                  <a:moveTo>
                    <a:pt x="261" y="199"/>
                  </a:moveTo>
                  <a:lnTo>
                    <a:pt x="150" y="101"/>
                  </a:lnTo>
                  <a:lnTo>
                    <a:pt x="61" y="39"/>
                  </a:lnTo>
                  <a:lnTo>
                    <a:pt x="0" y="0"/>
                  </a:lnTo>
                  <a:lnTo>
                    <a:pt x="150" y="128"/>
                  </a:lnTo>
                  <a:lnTo>
                    <a:pt x="217" y="199"/>
                  </a:lnTo>
                  <a:lnTo>
                    <a:pt x="247" y="230"/>
                  </a:lnTo>
                  <a:lnTo>
                    <a:pt x="26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46320" y="92376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186" y="0"/>
                  </a:moveTo>
                  <a:lnTo>
                    <a:pt x="66" y="0"/>
                  </a:lnTo>
                  <a:lnTo>
                    <a:pt x="26" y="106"/>
                  </a:lnTo>
                  <a:lnTo>
                    <a:pt x="0" y="177"/>
                  </a:lnTo>
                  <a:lnTo>
                    <a:pt x="48" y="177"/>
                  </a:lnTo>
                  <a:lnTo>
                    <a:pt x="57" y="106"/>
                  </a:lnTo>
                  <a:lnTo>
                    <a:pt x="88" y="3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82680" y="95076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217" y="182"/>
                  </a:moveTo>
                  <a:lnTo>
                    <a:pt x="83" y="58"/>
                  </a:lnTo>
                  <a:lnTo>
                    <a:pt x="0" y="0"/>
                  </a:lnTo>
                  <a:lnTo>
                    <a:pt x="0" y="44"/>
                  </a:lnTo>
                  <a:lnTo>
                    <a:pt x="217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71520" y="987480"/>
              <a:ext cx="84600" cy="47880"/>
            </a:xfrm>
            <a:custGeom>
              <a:avLst/>
              <a:gdLst/>
              <a:ahLst/>
              <a:rect l="0" t="0" r="r" b="b"/>
              <a:pathLst>
                <a:path w="235" h="133">
                  <a:moveTo>
                    <a:pt x="235" y="120"/>
                  </a:moveTo>
                  <a:lnTo>
                    <a:pt x="115" y="48"/>
                  </a:lnTo>
                  <a:lnTo>
                    <a:pt x="48" y="0"/>
                  </a:lnTo>
                  <a:lnTo>
                    <a:pt x="13" y="0"/>
                  </a:lnTo>
                  <a:lnTo>
                    <a:pt x="0" y="35"/>
                  </a:lnTo>
                  <a:lnTo>
                    <a:pt x="35" y="48"/>
                  </a:lnTo>
                  <a:lnTo>
                    <a:pt x="48" y="35"/>
                  </a:lnTo>
                  <a:lnTo>
                    <a:pt x="115" y="61"/>
                  </a:lnTo>
                  <a:lnTo>
                    <a:pt x="146" y="93"/>
                  </a:lnTo>
                  <a:lnTo>
                    <a:pt x="159" y="106"/>
                  </a:lnTo>
                  <a:lnTo>
                    <a:pt x="213" y="133"/>
                  </a:lnTo>
                  <a:lnTo>
                    <a:pt x="235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43080" y="1027080"/>
              <a:ext cx="93960" cy="162360"/>
            </a:xfrm>
            <a:custGeom>
              <a:avLst/>
              <a:gdLst/>
              <a:ahLst/>
              <a:rect l="0" t="0" r="r" b="b"/>
              <a:pathLst>
                <a:path w="261" h="451">
                  <a:moveTo>
                    <a:pt x="88" y="13"/>
                  </a:moveTo>
                  <a:lnTo>
                    <a:pt x="88" y="115"/>
                  </a:lnTo>
                  <a:lnTo>
                    <a:pt x="88" y="172"/>
                  </a:lnTo>
                  <a:lnTo>
                    <a:pt x="97" y="247"/>
                  </a:lnTo>
                  <a:lnTo>
                    <a:pt x="186" y="172"/>
                  </a:lnTo>
                  <a:lnTo>
                    <a:pt x="261" y="83"/>
                  </a:lnTo>
                  <a:lnTo>
                    <a:pt x="142" y="247"/>
                  </a:lnTo>
                  <a:lnTo>
                    <a:pt x="66" y="292"/>
                  </a:lnTo>
                  <a:lnTo>
                    <a:pt x="127" y="412"/>
                  </a:lnTo>
                  <a:lnTo>
                    <a:pt x="88" y="451"/>
                  </a:lnTo>
                  <a:lnTo>
                    <a:pt x="35" y="381"/>
                  </a:lnTo>
                  <a:lnTo>
                    <a:pt x="22" y="331"/>
                  </a:lnTo>
                  <a:lnTo>
                    <a:pt x="0" y="309"/>
                  </a:lnTo>
                  <a:lnTo>
                    <a:pt x="44" y="261"/>
                  </a:lnTo>
                  <a:lnTo>
                    <a:pt x="22" y="172"/>
                  </a:lnTo>
                  <a:lnTo>
                    <a:pt x="22" y="115"/>
                  </a:lnTo>
                  <a:lnTo>
                    <a:pt x="8" y="26"/>
                  </a:lnTo>
                  <a:lnTo>
                    <a:pt x="22" y="0"/>
                  </a:lnTo>
                  <a:lnTo>
                    <a:pt x="44" y="172"/>
                  </a:lnTo>
                  <a:lnTo>
                    <a:pt x="8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89160" y="1063800"/>
              <a:ext cx="93960" cy="168480"/>
            </a:xfrm>
            <a:custGeom>
              <a:avLst/>
              <a:gdLst/>
              <a:ahLst/>
              <a:rect l="0" t="0" r="r" b="b"/>
              <a:pathLst>
                <a:path w="261" h="468">
                  <a:moveTo>
                    <a:pt x="203" y="0"/>
                  </a:moveTo>
                  <a:lnTo>
                    <a:pt x="133" y="189"/>
                  </a:lnTo>
                  <a:lnTo>
                    <a:pt x="66" y="278"/>
                  </a:lnTo>
                  <a:lnTo>
                    <a:pt x="0" y="336"/>
                  </a:lnTo>
                  <a:lnTo>
                    <a:pt x="66" y="278"/>
                  </a:lnTo>
                  <a:lnTo>
                    <a:pt x="119" y="220"/>
                  </a:lnTo>
                  <a:lnTo>
                    <a:pt x="79" y="336"/>
                  </a:lnTo>
                  <a:lnTo>
                    <a:pt x="0" y="468"/>
                  </a:lnTo>
                  <a:lnTo>
                    <a:pt x="97" y="336"/>
                  </a:lnTo>
                  <a:lnTo>
                    <a:pt x="150" y="233"/>
                  </a:lnTo>
                  <a:lnTo>
                    <a:pt x="203" y="57"/>
                  </a:lnTo>
                  <a:lnTo>
                    <a:pt x="261" y="247"/>
                  </a:lnTo>
                  <a:lnTo>
                    <a:pt x="217" y="3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3600" y="1200240"/>
              <a:ext cx="41760" cy="101880"/>
            </a:xfrm>
            <a:custGeom>
              <a:avLst/>
              <a:gdLst/>
              <a:ahLst/>
              <a:rect l="0" t="0" r="r" b="b"/>
              <a:pathLst>
                <a:path w="116" h="283">
                  <a:moveTo>
                    <a:pt x="40" y="0"/>
                  </a:moveTo>
                  <a:lnTo>
                    <a:pt x="71" y="88"/>
                  </a:lnTo>
                  <a:lnTo>
                    <a:pt x="31" y="88"/>
                  </a:lnTo>
                  <a:lnTo>
                    <a:pt x="116" y="283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98560" y="406440"/>
              <a:ext cx="714600" cy="1037160"/>
            </a:xfrm>
            <a:custGeom>
              <a:avLst/>
              <a:gdLst/>
              <a:ahLst/>
              <a:rect l="0" t="0" r="r" b="b"/>
              <a:pathLst>
                <a:path w="1985" h="2881">
                  <a:moveTo>
                    <a:pt x="22" y="1196"/>
                  </a:moveTo>
                  <a:lnTo>
                    <a:pt x="176" y="816"/>
                  </a:lnTo>
                  <a:lnTo>
                    <a:pt x="308" y="467"/>
                  </a:lnTo>
                  <a:lnTo>
                    <a:pt x="379" y="211"/>
                  </a:lnTo>
                  <a:lnTo>
                    <a:pt x="423" y="44"/>
                  </a:lnTo>
                  <a:lnTo>
                    <a:pt x="736" y="251"/>
                  </a:lnTo>
                  <a:lnTo>
                    <a:pt x="1085" y="445"/>
                  </a:lnTo>
                  <a:lnTo>
                    <a:pt x="1531" y="630"/>
                  </a:lnTo>
                  <a:lnTo>
                    <a:pt x="1967" y="746"/>
                  </a:lnTo>
                  <a:lnTo>
                    <a:pt x="1734" y="1209"/>
                  </a:lnTo>
                  <a:lnTo>
                    <a:pt x="1522" y="1778"/>
                  </a:lnTo>
                  <a:lnTo>
                    <a:pt x="1297" y="2299"/>
                  </a:lnTo>
                  <a:lnTo>
                    <a:pt x="1054" y="2696"/>
                  </a:lnTo>
                  <a:lnTo>
                    <a:pt x="956" y="2819"/>
                  </a:lnTo>
                  <a:lnTo>
                    <a:pt x="696" y="2599"/>
                  </a:lnTo>
                  <a:lnTo>
                    <a:pt x="476" y="2489"/>
                  </a:lnTo>
                  <a:lnTo>
                    <a:pt x="388" y="2440"/>
                  </a:lnTo>
                  <a:lnTo>
                    <a:pt x="396" y="2471"/>
                  </a:lnTo>
                  <a:lnTo>
                    <a:pt x="639" y="2634"/>
                  </a:lnTo>
                  <a:lnTo>
                    <a:pt x="784" y="2762"/>
                  </a:lnTo>
                  <a:lnTo>
                    <a:pt x="859" y="2881"/>
                  </a:lnTo>
                  <a:lnTo>
                    <a:pt x="890" y="2806"/>
                  </a:lnTo>
                  <a:lnTo>
                    <a:pt x="983" y="2846"/>
                  </a:lnTo>
                  <a:lnTo>
                    <a:pt x="1121" y="2634"/>
                  </a:lnTo>
                  <a:lnTo>
                    <a:pt x="1279" y="2374"/>
                  </a:lnTo>
                  <a:lnTo>
                    <a:pt x="1482" y="1932"/>
                  </a:lnTo>
                  <a:lnTo>
                    <a:pt x="1689" y="1438"/>
                  </a:lnTo>
                  <a:lnTo>
                    <a:pt x="1826" y="1173"/>
                  </a:lnTo>
                  <a:lnTo>
                    <a:pt x="1963" y="1024"/>
                  </a:lnTo>
                  <a:lnTo>
                    <a:pt x="1879" y="975"/>
                  </a:lnTo>
                  <a:lnTo>
                    <a:pt x="1985" y="741"/>
                  </a:lnTo>
                  <a:lnTo>
                    <a:pt x="1588" y="621"/>
                  </a:lnTo>
                  <a:lnTo>
                    <a:pt x="1244" y="489"/>
                  </a:lnTo>
                  <a:lnTo>
                    <a:pt x="917" y="330"/>
                  </a:lnTo>
                  <a:lnTo>
                    <a:pt x="621" y="154"/>
                  </a:lnTo>
                  <a:lnTo>
                    <a:pt x="396" y="0"/>
                  </a:lnTo>
                  <a:lnTo>
                    <a:pt x="299" y="392"/>
                  </a:lnTo>
                  <a:lnTo>
                    <a:pt x="141" y="869"/>
                  </a:lnTo>
                  <a:lnTo>
                    <a:pt x="0" y="1182"/>
                  </a:lnTo>
                  <a:lnTo>
                    <a:pt x="22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0800" y="831960"/>
              <a:ext cx="140040" cy="167040"/>
            </a:xfrm>
            <a:custGeom>
              <a:avLst/>
              <a:gdLst/>
              <a:ahLst/>
              <a:rect l="0" t="0" r="r" b="b"/>
              <a:pathLst>
                <a:path w="389" h="464">
                  <a:moveTo>
                    <a:pt x="145" y="0"/>
                  </a:moveTo>
                  <a:lnTo>
                    <a:pt x="265" y="52"/>
                  </a:lnTo>
                  <a:lnTo>
                    <a:pt x="340" y="105"/>
                  </a:lnTo>
                  <a:lnTo>
                    <a:pt x="380" y="136"/>
                  </a:lnTo>
                  <a:lnTo>
                    <a:pt x="371" y="180"/>
                  </a:lnTo>
                  <a:lnTo>
                    <a:pt x="292" y="202"/>
                  </a:lnTo>
                  <a:lnTo>
                    <a:pt x="176" y="189"/>
                  </a:lnTo>
                  <a:lnTo>
                    <a:pt x="97" y="176"/>
                  </a:lnTo>
                  <a:lnTo>
                    <a:pt x="119" y="224"/>
                  </a:lnTo>
                  <a:lnTo>
                    <a:pt x="110" y="327"/>
                  </a:lnTo>
                  <a:lnTo>
                    <a:pt x="66" y="397"/>
                  </a:lnTo>
                  <a:lnTo>
                    <a:pt x="17" y="234"/>
                  </a:lnTo>
                  <a:lnTo>
                    <a:pt x="35" y="114"/>
                  </a:lnTo>
                  <a:lnTo>
                    <a:pt x="79" y="39"/>
                  </a:lnTo>
                  <a:lnTo>
                    <a:pt x="110" y="8"/>
                  </a:lnTo>
                  <a:lnTo>
                    <a:pt x="66" y="8"/>
                  </a:lnTo>
                  <a:lnTo>
                    <a:pt x="17" y="105"/>
                  </a:lnTo>
                  <a:lnTo>
                    <a:pt x="0" y="216"/>
                  </a:lnTo>
                  <a:lnTo>
                    <a:pt x="26" y="327"/>
                  </a:lnTo>
                  <a:lnTo>
                    <a:pt x="57" y="464"/>
                  </a:lnTo>
                  <a:lnTo>
                    <a:pt x="149" y="318"/>
                  </a:lnTo>
                  <a:lnTo>
                    <a:pt x="195" y="224"/>
                  </a:lnTo>
                  <a:lnTo>
                    <a:pt x="309" y="224"/>
                  </a:lnTo>
                  <a:lnTo>
                    <a:pt x="371" y="202"/>
                  </a:lnTo>
                  <a:lnTo>
                    <a:pt x="389" y="176"/>
                  </a:lnTo>
                  <a:lnTo>
                    <a:pt x="380" y="136"/>
                  </a:lnTo>
                  <a:lnTo>
                    <a:pt x="261" y="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04800" y="1127160"/>
              <a:ext cx="203400" cy="59040"/>
            </a:xfrm>
            <a:custGeom>
              <a:avLst/>
              <a:gdLst/>
              <a:ahLst/>
              <a:rect l="0" t="0" r="r" b="b"/>
              <a:pathLst>
                <a:path w="565" h="164">
                  <a:moveTo>
                    <a:pt x="17" y="102"/>
                  </a:moveTo>
                  <a:lnTo>
                    <a:pt x="242" y="39"/>
                  </a:lnTo>
                  <a:lnTo>
                    <a:pt x="371" y="13"/>
                  </a:lnTo>
                  <a:lnTo>
                    <a:pt x="486" y="22"/>
                  </a:lnTo>
                  <a:lnTo>
                    <a:pt x="543" y="66"/>
                  </a:lnTo>
                  <a:lnTo>
                    <a:pt x="499" y="115"/>
                  </a:lnTo>
                  <a:lnTo>
                    <a:pt x="446" y="124"/>
                  </a:lnTo>
                  <a:lnTo>
                    <a:pt x="419" y="164"/>
                  </a:lnTo>
                  <a:lnTo>
                    <a:pt x="516" y="142"/>
                  </a:lnTo>
                  <a:lnTo>
                    <a:pt x="543" y="102"/>
                  </a:lnTo>
                  <a:lnTo>
                    <a:pt x="565" y="66"/>
                  </a:lnTo>
                  <a:lnTo>
                    <a:pt x="543" y="22"/>
                  </a:lnTo>
                  <a:lnTo>
                    <a:pt x="450" y="0"/>
                  </a:lnTo>
                  <a:lnTo>
                    <a:pt x="362" y="0"/>
                  </a:lnTo>
                  <a:lnTo>
                    <a:pt x="119" y="52"/>
                  </a:lnTo>
                  <a:lnTo>
                    <a:pt x="0" y="89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20720" y="116856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3" y="0"/>
                  </a:moveTo>
                  <a:lnTo>
                    <a:pt x="0" y="0"/>
                  </a:lnTo>
                  <a:lnTo>
                    <a:pt x="107" y="2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6880" y="1022400"/>
              <a:ext cx="125640" cy="187560"/>
            </a:xfrm>
            <a:custGeom>
              <a:avLst/>
              <a:gdLst/>
              <a:ahLst/>
              <a:rect l="0" t="0" r="r" b="b"/>
              <a:pathLst>
                <a:path w="349" h="521">
                  <a:moveTo>
                    <a:pt x="30" y="0"/>
                  </a:moveTo>
                  <a:lnTo>
                    <a:pt x="344" y="459"/>
                  </a:lnTo>
                  <a:lnTo>
                    <a:pt x="349" y="521"/>
                  </a:lnTo>
                  <a:lnTo>
                    <a:pt x="300" y="486"/>
                  </a:lnTo>
                  <a:lnTo>
                    <a:pt x="300" y="45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82640" y="1089000"/>
              <a:ext cx="71640" cy="46440"/>
            </a:xfrm>
            <a:custGeom>
              <a:avLst/>
              <a:gdLst/>
              <a:ahLst/>
              <a:rect l="0" t="0" r="r" b="b"/>
              <a:pathLst>
                <a:path w="199" h="129">
                  <a:moveTo>
                    <a:pt x="17" y="99"/>
                  </a:moveTo>
                  <a:lnTo>
                    <a:pt x="172" y="0"/>
                  </a:lnTo>
                  <a:lnTo>
                    <a:pt x="199" y="45"/>
                  </a:lnTo>
                  <a:lnTo>
                    <a:pt x="48" y="129"/>
                  </a:lnTo>
                  <a:lnTo>
                    <a:pt x="0" y="121"/>
                  </a:lnTo>
                  <a:lnTo>
                    <a:pt x="17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06480" y="828720"/>
              <a:ext cx="348120" cy="241560"/>
            </a:xfrm>
            <a:custGeom>
              <a:avLst/>
              <a:gdLst/>
              <a:ahLst/>
              <a:rect l="0" t="0" r="r" b="b"/>
              <a:pathLst>
                <a:path w="967" h="671">
                  <a:moveTo>
                    <a:pt x="0" y="622"/>
                  </a:moveTo>
                  <a:lnTo>
                    <a:pt x="945" y="0"/>
                  </a:lnTo>
                  <a:lnTo>
                    <a:pt x="967" y="22"/>
                  </a:lnTo>
                  <a:lnTo>
                    <a:pt x="963" y="35"/>
                  </a:lnTo>
                  <a:lnTo>
                    <a:pt x="30" y="671"/>
                  </a:lnTo>
                  <a:lnTo>
                    <a:pt x="446" y="362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17840" y="917640"/>
              <a:ext cx="160560" cy="249480"/>
            </a:xfrm>
            <a:custGeom>
              <a:avLst/>
              <a:gdLst/>
              <a:ahLst/>
              <a:rect l="0" t="0" r="r" b="b"/>
              <a:pathLst>
                <a:path w="446" h="693">
                  <a:moveTo>
                    <a:pt x="327" y="246"/>
                  </a:moveTo>
                  <a:lnTo>
                    <a:pt x="202" y="446"/>
                  </a:lnTo>
                  <a:lnTo>
                    <a:pt x="105" y="552"/>
                  </a:lnTo>
                  <a:lnTo>
                    <a:pt x="446" y="671"/>
                  </a:lnTo>
                  <a:lnTo>
                    <a:pt x="367" y="693"/>
                  </a:lnTo>
                  <a:lnTo>
                    <a:pt x="243" y="671"/>
                  </a:lnTo>
                  <a:lnTo>
                    <a:pt x="220" y="605"/>
                  </a:lnTo>
                  <a:lnTo>
                    <a:pt x="83" y="574"/>
                  </a:lnTo>
                  <a:lnTo>
                    <a:pt x="52" y="552"/>
                  </a:lnTo>
                  <a:lnTo>
                    <a:pt x="185" y="424"/>
                  </a:lnTo>
                  <a:lnTo>
                    <a:pt x="243" y="317"/>
                  </a:lnTo>
                  <a:lnTo>
                    <a:pt x="239" y="198"/>
                  </a:lnTo>
                  <a:lnTo>
                    <a:pt x="132" y="198"/>
                  </a:lnTo>
                  <a:lnTo>
                    <a:pt x="123" y="101"/>
                  </a:lnTo>
                  <a:lnTo>
                    <a:pt x="176" y="176"/>
                  </a:lnTo>
                  <a:lnTo>
                    <a:pt x="287" y="145"/>
                  </a:lnTo>
                  <a:lnTo>
                    <a:pt x="252" y="92"/>
                  </a:lnTo>
                  <a:lnTo>
                    <a:pt x="198" y="39"/>
                  </a:lnTo>
                  <a:lnTo>
                    <a:pt x="149" y="17"/>
                  </a:lnTo>
                  <a:lnTo>
                    <a:pt x="0" y="17"/>
                  </a:lnTo>
                  <a:lnTo>
                    <a:pt x="185" y="0"/>
                  </a:lnTo>
                  <a:lnTo>
                    <a:pt x="269" y="48"/>
                  </a:lnTo>
                  <a:lnTo>
                    <a:pt x="327" y="101"/>
                  </a:lnTo>
                  <a:lnTo>
                    <a:pt x="344" y="185"/>
                  </a:lnTo>
                  <a:lnTo>
                    <a:pt x="327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1640" y="1131840"/>
              <a:ext cx="111600" cy="144720"/>
            </a:xfrm>
            <a:custGeom>
              <a:avLst/>
              <a:gdLst/>
              <a:ahLst/>
              <a:rect l="0" t="0" r="r" b="b"/>
              <a:pathLst>
                <a:path w="310" h="402">
                  <a:moveTo>
                    <a:pt x="0" y="35"/>
                  </a:moveTo>
                  <a:lnTo>
                    <a:pt x="168" y="0"/>
                  </a:lnTo>
                  <a:lnTo>
                    <a:pt x="98" y="110"/>
                  </a:lnTo>
                  <a:lnTo>
                    <a:pt x="225" y="74"/>
                  </a:lnTo>
                  <a:lnTo>
                    <a:pt x="124" y="221"/>
                  </a:lnTo>
                  <a:lnTo>
                    <a:pt x="310" y="252"/>
                  </a:lnTo>
                  <a:lnTo>
                    <a:pt x="164" y="402"/>
                  </a:lnTo>
                  <a:lnTo>
                    <a:pt x="124" y="274"/>
                  </a:lnTo>
                  <a:lnTo>
                    <a:pt x="270" y="252"/>
                  </a:lnTo>
                  <a:lnTo>
                    <a:pt x="74" y="221"/>
                  </a:lnTo>
                  <a:lnTo>
                    <a:pt x="168" y="110"/>
                  </a:lnTo>
                  <a:lnTo>
                    <a:pt x="39" y="123"/>
                  </a:lnTo>
                  <a:lnTo>
                    <a:pt x="98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1143000" y="274320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838080" y="609480"/>
            <a:ext cx="79297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99072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 sales do not necessarily equal cash inflows because the collections of accounts receivable in any one accounting period are not likely to equal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914400" y="68580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Receipts from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143000" y="1676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A/R may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or period sales may be collected in the curren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eriod sales may be collected in the nex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7400" y="990720"/>
            <a:ext cx="5118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are money market accoun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(short-term notes)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Treasury bills considered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ival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are highly liquid, temporar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90 days or less) holding places for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at is not currently needed to operate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siness. They can be converted quick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o cash if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0" y="228600"/>
            <a:ext cx="1980000" cy="1903680"/>
            <a:chOff x="6858000" y="228600"/>
            <a:chExt cx="1980000" cy="1903680"/>
          </a:xfrm>
        </p:grpSpPr>
        <p:sp>
          <p:nvSpPr>
            <p:cNvPr id="64" name=""/>
            <p:cNvSpPr/>
            <p:nvPr/>
          </p:nvSpPr>
          <p:spPr>
            <a:xfrm>
              <a:off x="68626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7" y="583"/>
                  </a:lnTo>
                  <a:lnTo>
                    <a:pt x="489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32" y="1470"/>
                  </a:lnTo>
                  <a:lnTo>
                    <a:pt x="299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77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676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4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4" y="18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1247760"/>
              <a:ext cx="356040" cy="290880"/>
            </a:xfrm>
            <a:custGeom>
              <a:avLst/>
              <a:gdLst/>
              <a:ahLst/>
              <a:rect l="0" t="0" r="r" b="b"/>
              <a:pathLst>
                <a:path w="989" h="808">
                  <a:moveTo>
                    <a:pt x="411" y="0"/>
                  </a:moveTo>
                  <a:lnTo>
                    <a:pt x="411" y="132"/>
                  </a:lnTo>
                  <a:lnTo>
                    <a:pt x="441" y="243"/>
                  </a:lnTo>
                  <a:lnTo>
                    <a:pt x="636" y="437"/>
                  </a:lnTo>
                  <a:lnTo>
                    <a:pt x="989" y="547"/>
                  </a:lnTo>
                  <a:lnTo>
                    <a:pt x="945" y="791"/>
                  </a:lnTo>
                  <a:lnTo>
                    <a:pt x="636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3112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20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8" y="1778"/>
                  </a:lnTo>
                  <a:lnTo>
                    <a:pt x="719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5" y="1456"/>
                  </a:lnTo>
                  <a:lnTo>
                    <a:pt x="931" y="1231"/>
                  </a:lnTo>
                  <a:lnTo>
                    <a:pt x="847" y="1085"/>
                  </a:lnTo>
                  <a:lnTo>
                    <a:pt x="882" y="984"/>
                  </a:lnTo>
                  <a:lnTo>
                    <a:pt x="931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51" y="1099"/>
                  </a:lnTo>
                  <a:lnTo>
                    <a:pt x="962" y="736"/>
                  </a:lnTo>
                  <a:lnTo>
                    <a:pt x="658" y="626"/>
                  </a:lnTo>
                  <a:lnTo>
                    <a:pt x="618" y="427"/>
                  </a:lnTo>
                  <a:lnTo>
                    <a:pt x="719" y="246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80"/>
                  </a:lnTo>
                  <a:lnTo>
                    <a:pt x="220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168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11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1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51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11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564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5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7280" y="255600"/>
              <a:ext cx="464040" cy="257400"/>
            </a:xfrm>
            <a:custGeom>
              <a:avLst/>
              <a:gdLst/>
              <a:ahLst/>
              <a:rect l="0" t="0" r="r" b="b"/>
              <a:pathLst>
                <a:path w="1289" h="715">
                  <a:moveTo>
                    <a:pt x="158" y="684"/>
                  </a:moveTo>
                  <a:lnTo>
                    <a:pt x="349" y="490"/>
                  </a:lnTo>
                  <a:lnTo>
                    <a:pt x="468" y="464"/>
                  </a:lnTo>
                  <a:lnTo>
                    <a:pt x="468" y="481"/>
                  </a:lnTo>
                  <a:lnTo>
                    <a:pt x="530" y="464"/>
                  </a:lnTo>
                  <a:lnTo>
                    <a:pt x="609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6" y="644"/>
                  </a:lnTo>
                  <a:lnTo>
                    <a:pt x="1086" y="565"/>
                  </a:lnTo>
                  <a:lnTo>
                    <a:pt x="1289" y="481"/>
                  </a:lnTo>
                  <a:lnTo>
                    <a:pt x="1227" y="343"/>
                  </a:lnTo>
                  <a:lnTo>
                    <a:pt x="1038" y="335"/>
                  </a:lnTo>
                  <a:lnTo>
                    <a:pt x="1069" y="185"/>
                  </a:lnTo>
                  <a:lnTo>
                    <a:pt x="900" y="202"/>
                  </a:lnTo>
                  <a:lnTo>
                    <a:pt x="874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9" y="158"/>
                  </a:lnTo>
                  <a:lnTo>
                    <a:pt x="627" y="0"/>
                  </a:lnTo>
                  <a:lnTo>
                    <a:pt x="468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025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4" y="101"/>
                  </a:lnTo>
                  <a:lnTo>
                    <a:pt x="74" y="273"/>
                  </a:lnTo>
                  <a:lnTo>
                    <a:pt x="171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3" y="777"/>
                  </a:lnTo>
                  <a:lnTo>
                    <a:pt x="344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78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2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675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26400" y="608040"/>
              <a:ext cx="128880" cy="143280"/>
            </a:xfrm>
            <a:custGeom>
              <a:avLst/>
              <a:gdLst/>
              <a:ahLst/>
              <a:rect l="0" t="0" r="r" b="b"/>
              <a:pathLst>
                <a:path w="358" h="398">
                  <a:moveTo>
                    <a:pt x="0" y="57"/>
                  </a:moveTo>
                  <a:lnTo>
                    <a:pt x="247" y="398"/>
                  </a:lnTo>
                  <a:lnTo>
                    <a:pt x="358" y="310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13560" y="420840"/>
              <a:ext cx="514800" cy="362160"/>
            </a:xfrm>
            <a:custGeom>
              <a:avLst/>
              <a:gdLst/>
              <a:ahLst/>
              <a:rect l="0" t="0" r="r" b="b"/>
              <a:pathLst>
                <a:path w="1430" h="1006">
                  <a:moveTo>
                    <a:pt x="653" y="596"/>
                  </a:moveTo>
                  <a:lnTo>
                    <a:pt x="525" y="561"/>
                  </a:lnTo>
                  <a:lnTo>
                    <a:pt x="636" y="471"/>
                  </a:lnTo>
                  <a:lnTo>
                    <a:pt x="596" y="418"/>
                  </a:lnTo>
                  <a:lnTo>
                    <a:pt x="450" y="538"/>
                  </a:lnTo>
                  <a:lnTo>
                    <a:pt x="176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57" y="697"/>
                  </a:lnTo>
                  <a:lnTo>
                    <a:pt x="295" y="596"/>
                  </a:lnTo>
                  <a:lnTo>
                    <a:pt x="450" y="596"/>
                  </a:lnTo>
                  <a:lnTo>
                    <a:pt x="569" y="658"/>
                  </a:lnTo>
                  <a:lnTo>
                    <a:pt x="596" y="746"/>
                  </a:lnTo>
                  <a:lnTo>
                    <a:pt x="596" y="935"/>
                  </a:lnTo>
                  <a:lnTo>
                    <a:pt x="596" y="997"/>
                  </a:lnTo>
                  <a:lnTo>
                    <a:pt x="666" y="909"/>
                  </a:lnTo>
                  <a:lnTo>
                    <a:pt x="666" y="706"/>
                  </a:lnTo>
                  <a:lnTo>
                    <a:pt x="763" y="706"/>
                  </a:lnTo>
                  <a:lnTo>
                    <a:pt x="816" y="935"/>
                  </a:lnTo>
                  <a:lnTo>
                    <a:pt x="869" y="957"/>
                  </a:lnTo>
                  <a:lnTo>
                    <a:pt x="1046" y="957"/>
                  </a:lnTo>
                  <a:lnTo>
                    <a:pt x="1219" y="918"/>
                  </a:lnTo>
                  <a:lnTo>
                    <a:pt x="1342" y="830"/>
                  </a:lnTo>
                  <a:lnTo>
                    <a:pt x="1360" y="627"/>
                  </a:lnTo>
                  <a:lnTo>
                    <a:pt x="1430" y="538"/>
                  </a:lnTo>
                  <a:lnTo>
                    <a:pt x="1391" y="485"/>
                  </a:lnTo>
                  <a:lnTo>
                    <a:pt x="1232" y="427"/>
                  </a:lnTo>
                  <a:lnTo>
                    <a:pt x="1205" y="224"/>
                  </a:lnTo>
                  <a:lnTo>
                    <a:pt x="1054" y="224"/>
                  </a:lnTo>
                  <a:lnTo>
                    <a:pt x="878" y="0"/>
                  </a:lnTo>
                  <a:lnTo>
                    <a:pt x="1041" y="251"/>
                  </a:lnTo>
                  <a:lnTo>
                    <a:pt x="1091" y="251"/>
                  </a:lnTo>
                  <a:lnTo>
                    <a:pt x="1126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5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06" y="512"/>
                  </a:lnTo>
                  <a:lnTo>
                    <a:pt x="1152" y="498"/>
                  </a:lnTo>
                  <a:lnTo>
                    <a:pt x="1311" y="521"/>
                  </a:lnTo>
                  <a:lnTo>
                    <a:pt x="1311" y="547"/>
                  </a:lnTo>
                  <a:lnTo>
                    <a:pt x="1236" y="618"/>
                  </a:lnTo>
                  <a:lnTo>
                    <a:pt x="1205" y="706"/>
                  </a:lnTo>
                  <a:lnTo>
                    <a:pt x="1197" y="830"/>
                  </a:lnTo>
                  <a:lnTo>
                    <a:pt x="1104" y="878"/>
                  </a:lnTo>
                  <a:lnTo>
                    <a:pt x="966" y="896"/>
                  </a:lnTo>
                  <a:lnTo>
                    <a:pt x="869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6" y="627"/>
                  </a:lnTo>
                  <a:lnTo>
                    <a:pt x="653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8996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2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56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8" y="583"/>
                  </a:lnTo>
                  <a:lnTo>
                    <a:pt x="362" y="904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7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1" y="145"/>
                  </a:lnTo>
                  <a:lnTo>
                    <a:pt x="389" y="176"/>
                  </a:lnTo>
                  <a:lnTo>
                    <a:pt x="503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722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69360" y="228600"/>
              <a:ext cx="567000" cy="273240"/>
            </a:xfrm>
            <a:custGeom>
              <a:avLst/>
              <a:gdLst/>
              <a:ahLst/>
              <a:rect l="0" t="0" r="r" b="b"/>
              <a:pathLst>
                <a:path w="1575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58" y="321"/>
                  </a:lnTo>
                  <a:lnTo>
                    <a:pt x="251" y="286"/>
                  </a:lnTo>
                  <a:lnTo>
                    <a:pt x="260" y="468"/>
                  </a:lnTo>
                  <a:lnTo>
                    <a:pt x="529" y="145"/>
                  </a:lnTo>
                  <a:lnTo>
                    <a:pt x="590" y="127"/>
                  </a:lnTo>
                  <a:lnTo>
                    <a:pt x="542" y="251"/>
                  </a:lnTo>
                  <a:lnTo>
                    <a:pt x="705" y="313"/>
                  </a:lnTo>
                  <a:lnTo>
                    <a:pt x="830" y="189"/>
                  </a:lnTo>
                  <a:lnTo>
                    <a:pt x="896" y="224"/>
                  </a:lnTo>
                  <a:lnTo>
                    <a:pt x="834" y="335"/>
                  </a:lnTo>
                  <a:lnTo>
                    <a:pt x="918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2" y="468"/>
                  </a:lnTo>
                  <a:lnTo>
                    <a:pt x="1041" y="534"/>
                  </a:lnTo>
                  <a:lnTo>
                    <a:pt x="1319" y="574"/>
                  </a:lnTo>
                  <a:lnTo>
                    <a:pt x="997" y="644"/>
                  </a:lnTo>
                  <a:lnTo>
                    <a:pt x="1063" y="702"/>
                  </a:lnTo>
                  <a:lnTo>
                    <a:pt x="971" y="759"/>
                  </a:lnTo>
                  <a:lnTo>
                    <a:pt x="1134" y="759"/>
                  </a:lnTo>
                  <a:lnTo>
                    <a:pt x="1121" y="715"/>
                  </a:lnTo>
                  <a:lnTo>
                    <a:pt x="1288" y="755"/>
                  </a:lnTo>
                  <a:lnTo>
                    <a:pt x="1262" y="631"/>
                  </a:lnTo>
                  <a:lnTo>
                    <a:pt x="1425" y="578"/>
                  </a:lnTo>
                  <a:lnTo>
                    <a:pt x="1310" y="521"/>
                  </a:lnTo>
                  <a:lnTo>
                    <a:pt x="1575" y="508"/>
                  </a:lnTo>
                  <a:lnTo>
                    <a:pt x="1345" y="384"/>
                  </a:lnTo>
                  <a:lnTo>
                    <a:pt x="1085" y="352"/>
                  </a:lnTo>
                  <a:lnTo>
                    <a:pt x="1288" y="233"/>
                  </a:lnTo>
                  <a:lnTo>
                    <a:pt x="918" y="233"/>
                  </a:lnTo>
                  <a:lnTo>
                    <a:pt x="1094" y="114"/>
                  </a:lnTo>
                  <a:lnTo>
                    <a:pt x="821" y="145"/>
                  </a:lnTo>
                  <a:lnTo>
                    <a:pt x="692" y="202"/>
                  </a:lnTo>
                  <a:lnTo>
                    <a:pt x="803" y="0"/>
                  </a:lnTo>
                  <a:lnTo>
                    <a:pt x="471" y="114"/>
                  </a:lnTo>
                  <a:lnTo>
                    <a:pt x="295" y="361"/>
                  </a:lnTo>
                  <a:lnTo>
                    <a:pt x="260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32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3" y="0"/>
                  </a:lnTo>
                  <a:lnTo>
                    <a:pt x="163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5" y="187"/>
                  </a:lnTo>
                  <a:lnTo>
                    <a:pt x="216" y="128"/>
                  </a:lnTo>
                  <a:lnTo>
                    <a:pt x="136" y="187"/>
                  </a:lnTo>
                  <a:lnTo>
                    <a:pt x="136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788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4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80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92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532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2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3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38" y="1536"/>
                  </a:lnTo>
                  <a:lnTo>
                    <a:pt x="136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5" y="1351"/>
                  </a:lnTo>
                  <a:lnTo>
                    <a:pt x="568" y="1276"/>
                  </a:lnTo>
                  <a:lnTo>
                    <a:pt x="658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49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67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5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61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91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61" y="693"/>
                  </a:lnTo>
                  <a:lnTo>
                    <a:pt x="512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4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7" y="671"/>
                  </a:lnTo>
                  <a:lnTo>
                    <a:pt x="450" y="542"/>
                  </a:lnTo>
                  <a:lnTo>
                    <a:pt x="450" y="710"/>
                  </a:lnTo>
                  <a:lnTo>
                    <a:pt x="433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33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20000" y="1622520"/>
              <a:ext cx="135360" cy="201960"/>
            </a:xfrm>
            <a:custGeom>
              <a:avLst/>
              <a:gdLst/>
              <a:ahLst/>
              <a:rect l="0" t="0" r="r" b="b"/>
              <a:pathLst>
                <a:path w="376" h="561">
                  <a:moveTo>
                    <a:pt x="0" y="494"/>
                  </a:moveTo>
                  <a:lnTo>
                    <a:pt x="124" y="353"/>
                  </a:lnTo>
                  <a:lnTo>
                    <a:pt x="146" y="207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08"/>
                  </a:lnTo>
                  <a:lnTo>
                    <a:pt x="376" y="561"/>
                  </a:lnTo>
                  <a:lnTo>
                    <a:pt x="265" y="521"/>
                  </a:lnTo>
                  <a:lnTo>
                    <a:pt x="212" y="309"/>
                  </a:lnTo>
                  <a:lnTo>
                    <a:pt x="124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866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8" y="189"/>
                  </a:lnTo>
                  <a:lnTo>
                    <a:pt x="67" y="79"/>
                  </a:lnTo>
                  <a:lnTo>
                    <a:pt x="120" y="477"/>
                  </a:lnTo>
                  <a:lnTo>
                    <a:pt x="200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200" y="499"/>
                  </a:lnTo>
                  <a:lnTo>
                    <a:pt x="98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923760"/>
              <a:ext cx="216360" cy="481320"/>
            </a:xfrm>
            <a:custGeom>
              <a:avLst/>
              <a:gdLst/>
              <a:ahLst/>
              <a:rect l="0" t="0" r="r" b="b"/>
              <a:pathLst>
                <a:path w="601" h="1337">
                  <a:moveTo>
                    <a:pt x="155" y="724"/>
                  </a:moveTo>
                  <a:lnTo>
                    <a:pt x="203" y="511"/>
                  </a:lnTo>
                  <a:lnTo>
                    <a:pt x="406" y="458"/>
                  </a:lnTo>
                  <a:lnTo>
                    <a:pt x="601" y="0"/>
                  </a:lnTo>
                  <a:lnTo>
                    <a:pt x="601" y="132"/>
                  </a:lnTo>
                  <a:lnTo>
                    <a:pt x="437" y="489"/>
                  </a:lnTo>
                  <a:lnTo>
                    <a:pt x="221" y="555"/>
                  </a:lnTo>
                  <a:lnTo>
                    <a:pt x="195" y="724"/>
                  </a:lnTo>
                  <a:lnTo>
                    <a:pt x="265" y="724"/>
                  </a:lnTo>
                  <a:lnTo>
                    <a:pt x="79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43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5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040" y="923760"/>
              <a:ext cx="363960" cy="466920"/>
            </a:xfrm>
            <a:custGeom>
              <a:avLst/>
              <a:gdLst/>
              <a:ahLst/>
              <a:rect l="0" t="0" r="r" b="b"/>
              <a:pathLst>
                <a:path w="1011" h="1297">
                  <a:moveTo>
                    <a:pt x="278" y="0"/>
                  </a:moveTo>
                  <a:lnTo>
                    <a:pt x="340" y="39"/>
                  </a:lnTo>
                  <a:lnTo>
                    <a:pt x="358" y="149"/>
                  </a:lnTo>
                  <a:lnTo>
                    <a:pt x="358" y="251"/>
                  </a:lnTo>
                  <a:lnTo>
                    <a:pt x="242" y="440"/>
                  </a:lnTo>
                  <a:lnTo>
                    <a:pt x="265" y="577"/>
                  </a:lnTo>
                  <a:lnTo>
                    <a:pt x="605" y="733"/>
                  </a:lnTo>
                  <a:lnTo>
                    <a:pt x="1007" y="1138"/>
                  </a:lnTo>
                  <a:lnTo>
                    <a:pt x="1011" y="1248"/>
                  </a:lnTo>
                  <a:lnTo>
                    <a:pt x="989" y="1297"/>
                  </a:lnTo>
                  <a:lnTo>
                    <a:pt x="839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06"/>
                  </a:lnTo>
                  <a:lnTo>
                    <a:pt x="468" y="997"/>
                  </a:lnTo>
                  <a:lnTo>
                    <a:pt x="556" y="997"/>
                  </a:lnTo>
                  <a:lnTo>
                    <a:pt x="719" y="1209"/>
                  </a:lnTo>
                  <a:lnTo>
                    <a:pt x="932" y="1271"/>
                  </a:lnTo>
                  <a:lnTo>
                    <a:pt x="980" y="1209"/>
                  </a:lnTo>
                  <a:lnTo>
                    <a:pt x="954" y="1112"/>
                  </a:lnTo>
                  <a:lnTo>
                    <a:pt x="583" y="816"/>
                  </a:lnTo>
                  <a:lnTo>
                    <a:pt x="534" y="733"/>
                  </a:lnTo>
                  <a:lnTo>
                    <a:pt x="242" y="658"/>
                  </a:lnTo>
                  <a:lnTo>
                    <a:pt x="198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8" y="621"/>
                  </a:lnTo>
                  <a:lnTo>
                    <a:pt x="198" y="410"/>
                  </a:lnTo>
                  <a:lnTo>
                    <a:pt x="327" y="251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088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0" y="0"/>
                  </a:moveTo>
                  <a:lnTo>
                    <a:pt x="618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4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0" y="468"/>
                  </a:lnTo>
                  <a:lnTo>
                    <a:pt x="242" y="317"/>
                  </a:lnTo>
                  <a:lnTo>
                    <a:pt x="180" y="277"/>
                  </a:lnTo>
                  <a:lnTo>
                    <a:pt x="167" y="649"/>
                  </a:lnTo>
                  <a:lnTo>
                    <a:pt x="92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8" y="741"/>
                  </a:lnTo>
                  <a:lnTo>
                    <a:pt x="455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0" y="52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11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5" y="277"/>
                  </a:lnTo>
                  <a:lnTo>
                    <a:pt x="1199" y="432"/>
                  </a:lnTo>
                  <a:lnTo>
                    <a:pt x="1155" y="317"/>
                  </a:lnTo>
                  <a:lnTo>
                    <a:pt x="1031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599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304" y="1998"/>
                  </a:lnTo>
                  <a:lnTo>
                    <a:pt x="264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71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696" y="2793"/>
                  </a:lnTo>
                  <a:lnTo>
                    <a:pt x="806" y="2687"/>
                  </a:lnTo>
                  <a:lnTo>
                    <a:pt x="1075" y="2298"/>
                  </a:lnTo>
                  <a:lnTo>
                    <a:pt x="1098" y="2824"/>
                  </a:lnTo>
                  <a:lnTo>
                    <a:pt x="1075" y="3132"/>
                  </a:lnTo>
                  <a:lnTo>
                    <a:pt x="3277" y="3132"/>
                  </a:lnTo>
                  <a:lnTo>
                    <a:pt x="3118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81" y="2038"/>
                  </a:lnTo>
                  <a:lnTo>
                    <a:pt x="3656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6" y="1297"/>
                  </a:lnTo>
                  <a:lnTo>
                    <a:pt x="3096" y="1178"/>
                  </a:lnTo>
                  <a:lnTo>
                    <a:pt x="3074" y="1037"/>
                  </a:lnTo>
                  <a:lnTo>
                    <a:pt x="3096" y="896"/>
                  </a:lnTo>
                  <a:lnTo>
                    <a:pt x="3162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6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1" y="1046"/>
                  </a:lnTo>
                  <a:lnTo>
                    <a:pt x="2069" y="1323"/>
                  </a:lnTo>
                  <a:lnTo>
                    <a:pt x="2060" y="1495"/>
                  </a:lnTo>
                  <a:lnTo>
                    <a:pt x="2016" y="1641"/>
                  </a:lnTo>
                  <a:lnTo>
                    <a:pt x="1958" y="1782"/>
                  </a:lnTo>
                  <a:lnTo>
                    <a:pt x="1932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0" y="2506"/>
                  </a:lnTo>
                  <a:lnTo>
                    <a:pt x="1932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3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3" y="727"/>
                  </a:lnTo>
                  <a:lnTo>
                    <a:pt x="1406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3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1230480"/>
              <a:ext cx="174960" cy="733680"/>
            </a:xfrm>
            <a:custGeom>
              <a:avLst/>
              <a:gdLst/>
              <a:ahLst/>
              <a:rect l="0" t="0" r="r" b="b"/>
              <a:pathLst>
                <a:path w="486" h="2038">
                  <a:moveTo>
                    <a:pt x="194" y="26"/>
                  </a:moveTo>
                  <a:lnTo>
                    <a:pt x="66" y="88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52" y="2038"/>
                  </a:lnTo>
                  <a:lnTo>
                    <a:pt x="331" y="1998"/>
                  </a:lnTo>
                  <a:lnTo>
                    <a:pt x="389" y="1826"/>
                  </a:lnTo>
                  <a:lnTo>
                    <a:pt x="481" y="1601"/>
                  </a:lnTo>
                  <a:lnTo>
                    <a:pt x="486" y="1482"/>
                  </a:lnTo>
                  <a:lnTo>
                    <a:pt x="411" y="1257"/>
                  </a:lnTo>
                  <a:lnTo>
                    <a:pt x="318" y="1041"/>
                  </a:lnTo>
                  <a:lnTo>
                    <a:pt x="287" y="886"/>
                  </a:lnTo>
                  <a:lnTo>
                    <a:pt x="287" y="740"/>
                  </a:lnTo>
                  <a:lnTo>
                    <a:pt x="318" y="608"/>
                  </a:lnTo>
                  <a:lnTo>
                    <a:pt x="389" y="445"/>
                  </a:lnTo>
                  <a:lnTo>
                    <a:pt x="389" y="379"/>
                  </a:lnTo>
                  <a:lnTo>
                    <a:pt x="353" y="313"/>
                  </a:lnTo>
                  <a:lnTo>
                    <a:pt x="446" y="233"/>
                  </a:lnTo>
                  <a:lnTo>
                    <a:pt x="446" y="154"/>
                  </a:lnTo>
                  <a:lnTo>
                    <a:pt x="318" y="0"/>
                  </a:lnTo>
                  <a:lnTo>
                    <a:pt x="419" y="154"/>
                  </a:lnTo>
                  <a:lnTo>
                    <a:pt x="419" y="220"/>
                  </a:lnTo>
                  <a:lnTo>
                    <a:pt x="327" y="286"/>
                  </a:lnTo>
                  <a:lnTo>
                    <a:pt x="367" y="379"/>
                  </a:lnTo>
                  <a:lnTo>
                    <a:pt x="353" y="445"/>
                  </a:lnTo>
                  <a:lnTo>
                    <a:pt x="265" y="635"/>
                  </a:lnTo>
                  <a:lnTo>
                    <a:pt x="252" y="815"/>
                  </a:lnTo>
                  <a:lnTo>
                    <a:pt x="274" y="987"/>
                  </a:lnTo>
                  <a:lnTo>
                    <a:pt x="331" y="1235"/>
                  </a:lnTo>
                  <a:lnTo>
                    <a:pt x="411" y="1429"/>
                  </a:lnTo>
                  <a:lnTo>
                    <a:pt x="411" y="1588"/>
                  </a:lnTo>
                  <a:lnTo>
                    <a:pt x="367" y="1791"/>
                  </a:lnTo>
                  <a:lnTo>
                    <a:pt x="274" y="1998"/>
                  </a:lnTo>
                  <a:lnTo>
                    <a:pt x="163" y="1883"/>
                  </a:lnTo>
                  <a:lnTo>
                    <a:pt x="114" y="1791"/>
                  </a:lnTo>
                  <a:lnTo>
                    <a:pt x="123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0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2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00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86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1" y="468"/>
                  </a:lnTo>
                  <a:lnTo>
                    <a:pt x="437" y="494"/>
                  </a:lnTo>
                  <a:lnTo>
                    <a:pt x="375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1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8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8" y="265"/>
                  </a:lnTo>
                  <a:lnTo>
                    <a:pt x="672" y="149"/>
                  </a:lnTo>
                  <a:lnTo>
                    <a:pt x="592" y="70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21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8" y="195"/>
                  </a:lnTo>
                  <a:lnTo>
                    <a:pt x="252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066680" y="167652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in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l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de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g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1981080" y="21337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81080" y="2895480"/>
            <a:ext cx="6553080" cy="2362320"/>
            <a:chOff x="1981080" y="2895480"/>
            <a:chExt cx="6553080" cy="2362320"/>
          </a:xfrm>
        </p:grpSpPr>
        <p:sp>
          <p:nvSpPr>
            <p:cNvPr id="934" name=""/>
            <p:cNvSpPr txBox="1"/>
            <p:nvPr/>
          </p:nvSpPr>
          <p:spPr>
            <a:xfrm>
              <a:off x="1981080" y="3429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3581280" y="2971800"/>
              <a:ext cx="49528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+ De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- In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3429000" y="2895480"/>
              <a:ext cx="77004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96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two adju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ed for changes in invento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net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must be adjusted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ange in A/P to arrive at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fo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5256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400" y="19810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increase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&gt;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because net purchases &gt; dollar amount of the item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62120" y="45720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8580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decreased 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s &lt;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in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l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de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g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62120" y="3049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0880" y="2286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+ Increase in Inventory + De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- Decrease in Inventory -In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$547,000 = $520,000 + $34,000 - $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77880" y="304920"/>
            <a:ext cx="8466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ionships Between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1430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adjustments must be made to arrive at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prepaid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s that do not require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outlay of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219320" y="30492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1752480" y="3049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Prepaid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066680" y="19810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increase, more cash will have been paid out than appears on the income statement as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decrease, expenses shown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144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increase, operating expenses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decrease, operating expenses on the income statement will fall short of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676520" y="38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152388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depletion, and amortization expenses must be subtracted from operating expenses to arrive at cash out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219320" y="45720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ses That Do Not Require a Current Outlay of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5120" y="281952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143000"/>
            <a:ext cx="7259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762120" y="16765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+ Increase in PPE + Decrease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L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- Decrease in PPE -  Increase in 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103,000  = $147,000 - $4,000 - $3,000 - $3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here: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E  = Operating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PE = Prepaid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L = Accrued Liabilit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NCFE = Noncash Flow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743120" y="30492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Operating Expen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838080" y="167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es expense shown on the income statement rarely equals the amount of income taxes actually paid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determine cash payments for income taxes, income taxes (from the income statement) is adjusted by the change in Income Taxes Payable (IT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75248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990720" y="17524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increases, cash payments for income taxes will be less than the expense shown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decreases, cash payments for income taxes will exceed income taxes on the incom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1828800" y="380880"/>
            <a:ext cx="6037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1752480" y="457200"/>
            <a:ext cx="6141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838080" y="21337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+ Decrease in Income Taxes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 - Increase in Income Taxes Pay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9,000  = $7,000 + 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251460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09480" y="2057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depreciation, amortization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be subtracted from operating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s when computing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s for operating expen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hree expenses are legitimate accrual-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sed expenses, but they do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resent cash disbursements; they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rely paper allocations of cost. Th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st be eliminated in converting from 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al to a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964" name=""/>
            <p:cNvSpPr/>
            <p:nvPr/>
          </p:nvSpPr>
          <p:spPr>
            <a:xfrm>
              <a:off x="91908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56"/>
                  </a:lnTo>
                  <a:lnTo>
                    <a:pt x="110" y="1456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50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82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7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90880" y="1165320"/>
              <a:ext cx="313200" cy="268560"/>
            </a:xfrm>
            <a:custGeom>
              <a:avLst/>
              <a:gdLst/>
              <a:ahLst/>
              <a:rect l="0" t="0" r="r" b="b"/>
              <a:pathLst>
                <a:path w="870" h="746">
                  <a:moveTo>
                    <a:pt x="358" y="0"/>
                  </a:moveTo>
                  <a:lnTo>
                    <a:pt x="358" y="119"/>
                  </a:lnTo>
                  <a:lnTo>
                    <a:pt x="389" y="224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33"/>
                  </a:lnTo>
                  <a:lnTo>
                    <a:pt x="556" y="746"/>
                  </a:lnTo>
                  <a:lnTo>
                    <a:pt x="167" y="587"/>
                  </a:lnTo>
                  <a:lnTo>
                    <a:pt x="0" y="295"/>
                  </a:lnTo>
                  <a:lnTo>
                    <a:pt x="194" y="1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6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4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0"/>
                  </a:lnTo>
                  <a:lnTo>
                    <a:pt x="913" y="1491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1002"/>
                  </a:lnTo>
                  <a:lnTo>
                    <a:pt x="781" y="909"/>
                  </a:lnTo>
                  <a:lnTo>
                    <a:pt x="825" y="918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16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96880" y="353880"/>
              <a:ext cx="478080" cy="751320"/>
            </a:xfrm>
            <a:custGeom>
              <a:avLst/>
              <a:gdLst/>
              <a:ahLst/>
              <a:rect l="0" t="0" r="r" b="b"/>
              <a:pathLst>
                <a:path w="1328" h="2087">
                  <a:moveTo>
                    <a:pt x="330" y="286"/>
                  </a:moveTo>
                  <a:lnTo>
                    <a:pt x="233" y="688"/>
                  </a:lnTo>
                  <a:lnTo>
                    <a:pt x="13" y="768"/>
                  </a:lnTo>
                  <a:lnTo>
                    <a:pt x="74" y="896"/>
                  </a:lnTo>
                  <a:lnTo>
                    <a:pt x="0" y="975"/>
                  </a:lnTo>
                  <a:lnTo>
                    <a:pt x="0" y="1121"/>
                  </a:lnTo>
                  <a:lnTo>
                    <a:pt x="105" y="1248"/>
                  </a:lnTo>
                  <a:lnTo>
                    <a:pt x="207" y="1248"/>
                  </a:lnTo>
                  <a:lnTo>
                    <a:pt x="277" y="1717"/>
                  </a:lnTo>
                  <a:lnTo>
                    <a:pt x="361" y="1915"/>
                  </a:lnTo>
                  <a:lnTo>
                    <a:pt x="630" y="2087"/>
                  </a:lnTo>
                  <a:lnTo>
                    <a:pt x="904" y="2061"/>
                  </a:lnTo>
                  <a:lnTo>
                    <a:pt x="1032" y="1717"/>
                  </a:lnTo>
                  <a:lnTo>
                    <a:pt x="1063" y="1187"/>
                  </a:lnTo>
                  <a:lnTo>
                    <a:pt x="1328" y="927"/>
                  </a:lnTo>
                  <a:lnTo>
                    <a:pt x="1315" y="821"/>
                  </a:lnTo>
                  <a:lnTo>
                    <a:pt x="1284" y="768"/>
                  </a:lnTo>
                  <a:lnTo>
                    <a:pt x="1147" y="755"/>
                  </a:lnTo>
                  <a:lnTo>
                    <a:pt x="1191" y="622"/>
                  </a:lnTo>
                  <a:lnTo>
                    <a:pt x="1050" y="530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8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3180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19"/>
                  </a:lnTo>
                  <a:lnTo>
                    <a:pt x="979" y="2255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5088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6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1"/>
                  </a:lnTo>
                  <a:lnTo>
                    <a:pt x="1139" y="446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5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9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89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66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7"/>
                  </a:lnTo>
                  <a:lnTo>
                    <a:pt x="164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41520" y="606600"/>
              <a:ext cx="130680" cy="132120"/>
            </a:xfrm>
            <a:custGeom>
              <a:avLst/>
              <a:gdLst/>
              <a:ahLst/>
              <a:rect l="0" t="0" r="r" b="b"/>
              <a:pathLst>
                <a:path w="363" h="367">
                  <a:moveTo>
                    <a:pt x="0" y="44"/>
                  </a:moveTo>
                  <a:lnTo>
                    <a:pt x="252" y="367"/>
                  </a:lnTo>
                  <a:lnTo>
                    <a:pt x="363" y="340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71560" y="576360"/>
              <a:ext cx="113040" cy="133560"/>
            </a:xfrm>
            <a:custGeom>
              <a:avLst/>
              <a:gdLst/>
              <a:ahLst/>
              <a:rect l="0" t="0" r="r" b="b"/>
              <a:pathLst>
                <a:path w="314" h="371">
                  <a:moveTo>
                    <a:pt x="0" y="52"/>
                  </a:moveTo>
                  <a:lnTo>
                    <a:pt x="217" y="371"/>
                  </a:lnTo>
                  <a:lnTo>
                    <a:pt x="314" y="292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94000" y="404640"/>
              <a:ext cx="456120" cy="333720"/>
            </a:xfrm>
            <a:custGeom>
              <a:avLst/>
              <a:gdLst/>
              <a:ahLst/>
              <a:rect l="0" t="0" r="r" b="b"/>
              <a:pathLst>
                <a:path w="1267" h="927">
                  <a:moveTo>
                    <a:pt x="583" y="552"/>
                  </a:moveTo>
                  <a:lnTo>
                    <a:pt x="468" y="516"/>
                  </a:lnTo>
                  <a:lnTo>
                    <a:pt x="565" y="432"/>
                  </a:lnTo>
                  <a:lnTo>
                    <a:pt x="530" y="388"/>
                  </a:lnTo>
                  <a:lnTo>
                    <a:pt x="397" y="499"/>
                  </a:lnTo>
                  <a:lnTo>
                    <a:pt x="158" y="525"/>
                  </a:lnTo>
                  <a:lnTo>
                    <a:pt x="0" y="534"/>
                  </a:lnTo>
                  <a:lnTo>
                    <a:pt x="0" y="662"/>
                  </a:lnTo>
                  <a:lnTo>
                    <a:pt x="154" y="918"/>
                  </a:lnTo>
                  <a:lnTo>
                    <a:pt x="189" y="927"/>
                  </a:lnTo>
                  <a:lnTo>
                    <a:pt x="52" y="640"/>
                  </a:lnTo>
                  <a:lnTo>
                    <a:pt x="264" y="552"/>
                  </a:lnTo>
                  <a:lnTo>
                    <a:pt x="397" y="552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5"/>
                  </a:lnTo>
                  <a:lnTo>
                    <a:pt x="530" y="918"/>
                  </a:lnTo>
                  <a:lnTo>
                    <a:pt x="587" y="838"/>
                  </a:lnTo>
                  <a:lnTo>
                    <a:pt x="587" y="653"/>
                  </a:lnTo>
                  <a:lnTo>
                    <a:pt x="680" y="653"/>
                  </a:lnTo>
                  <a:lnTo>
                    <a:pt x="724" y="865"/>
                  </a:lnTo>
                  <a:lnTo>
                    <a:pt x="772" y="878"/>
                  </a:lnTo>
                  <a:lnTo>
                    <a:pt x="927" y="878"/>
                  </a:lnTo>
                  <a:lnTo>
                    <a:pt x="1082" y="847"/>
                  </a:lnTo>
                  <a:lnTo>
                    <a:pt x="1192" y="768"/>
                  </a:lnTo>
                  <a:lnTo>
                    <a:pt x="1210" y="574"/>
                  </a:lnTo>
                  <a:lnTo>
                    <a:pt x="1267" y="499"/>
                  </a:lnTo>
                  <a:lnTo>
                    <a:pt x="1232" y="449"/>
                  </a:lnTo>
                  <a:lnTo>
                    <a:pt x="1091" y="396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8"/>
                  </a:lnTo>
                  <a:lnTo>
                    <a:pt x="816" y="449"/>
                  </a:lnTo>
                  <a:lnTo>
                    <a:pt x="688" y="401"/>
                  </a:lnTo>
                  <a:lnTo>
                    <a:pt x="671" y="449"/>
                  </a:lnTo>
                  <a:lnTo>
                    <a:pt x="737" y="499"/>
                  </a:lnTo>
                  <a:lnTo>
                    <a:pt x="737" y="543"/>
                  </a:lnTo>
                  <a:lnTo>
                    <a:pt x="891" y="468"/>
                  </a:lnTo>
                  <a:lnTo>
                    <a:pt x="1020" y="464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53"/>
                  </a:lnTo>
                  <a:lnTo>
                    <a:pt x="1064" y="768"/>
                  </a:lnTo>
                  <a:lnTo>
                    <a:pt x="980" y="807"/>
                  </a:lnTo>
                  <a:lnTo>
                    <a:pt x="856" y="825"/>
                  </a:lnTo>
                  <a:lnTo>
                    <a:pt x="772" y="825"/>
                  </a:lnTo>
                  <a:lnTo>
                    <a:pt x="741" y="790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50960" y="79056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46"/>
                  </a:lnTo>
                  <a:lnTo>
                    <a:pt x="35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87520" y="681120"/>
              <a:ext cx="222480" cy="357480"/>
            </a:xfrm>
            <a:custGeom>
              <a:avLst/>
              <a:gdLst/>
              <a:ahLst/>
              <a:rect l="0" t="0" r="r" b="b"/>
              <a:pathLst>
                <a:path w="618" h="993">
                  <a:moveTo>
                    <a:pt x="618" y="70"/>
                  </a:moveTo>
                  <a:lnTo>
                    <a:pt x="618" y="83"/>
                  </a:lnTo>
                  <a:lnTo>
                    <a:pt x="508" y="185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4"/>
                  </a:lnTo>
                  <a:lnTo>
                    <a:pt x="393" y="993"/>
                  </a:lnTo>
                  <a:lnTo>
                    <a:pt x="318" y="878"/>
                  </a:lnTo>
                  <a:lnTo>
                    <a:pt x="291" y="750"/>
                  </a:lnTo>
                  <a:lnTo>
                    <a:pt x="238" y="418"/>
                  </a:lnTo>
                  <a:lnTo>
                    <a:pt x="189" y="440"/>
                  </a:lnTo>
                  <a:lnTo>
                    <a:pt x="127" y="401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5"/>
                  </a:lnTo>
                  <a:lnTo>
                    <a:pt x="158" y="277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58"/>
                  </a:lnTo>
                  <a:lnTo>
                    <a:pt x="450" y="149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46200" y="39528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8"/>
                  </a:lnTo>
                  <a:lnTo>
                    <a:pt x="119" y="450"/>
                  </a:lnTo>
                  <a:lnTo>
                    <a:pt x="141" y="296"/>
                  </a:lnTo>
                  <a:lnTo>
                    <a:pt x="224" y="261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9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50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4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7"/>
                  </a:lnTo>
                  <a:lnTo>
                    <a:pt x="807" y="217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86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5420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0"/>
                  </a:lnTo>
                  <a:lnTo>
                    <a:pt x="234" y="173"/>
                  </a:lnTo>
                  <a:lnTo>
                    <a:pt x="189" y="124"/>
                  </a:lnTo>
                  <a:lnTo>
                    <a:pt x="123" y="173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39800" y="876240"/>
              <a:ext cx="170280" cy="113040"/>
            </a:xfrm>
            <a:custGeom>
              <a:avLst/>
              <a:gdLst/>
              <a:ahLst/>
              <a:rect l="0" t="0" r="r" b="b"/>
              <a:pathLst>
                <a:path w="473" h="314">
                  <a:moveTo>
                    <a:pt x="88" y="110"/>
                  </a:moveTo>
                  <a:lnTo>
                    <a:pt x="283" y="92"/>
                  </a:lnTo>
                  <a:lnTo>
                    <a:pt x="376" y="119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5"/>
                  </a:lnTo>
                  <a:lnTo>
                    <a:pt x="403" y="159"/>
                  </a:lnTo>
                  <a:lnTo>
                    <a:pt x="336" y="230"/>
                  </a:lnTo>
                  <a:lnTo>
                    <a:pt x="221" y="314"/>
                  </a:lnTo>
                  <a:lnTo>
                    <a:pt x="168" y="314"/>
                  </a:lnTo>
                  <a:lnTo>
                    <a:pt x="88" y="265"/>
                  </a:lnTo>
                  <a:lnTo>
                    <a:pt x="177" y="305"/>
                  </a:lnTo>
                  <a:lnTo>
                    <a:pt x="212" y="305"/>
                  </a:lnTo>
                  <a:lnTo>
                    <a:pt x="283" y="252"/>
                  </a:lnTo>
                  <a:lnTo>
                    <a:pt x="336" y="145"/>
                  </a:lnTo>
                  <a:lnTo>
                    <a:pt x="256" y="127"/>
                  </a:lnTo>
                  <a:lnTo>
                    <a:pt x="208" y="119"/>
                  </a:lnTo>
                  <a:lnTo>
                    <a:pt x="79" y="136"/>
                  </a:lnTo>
                  <a:lnTo>
                    <a:pt x="74" y="221"/>
                  </a:lnTo>
                  <a:lnTo>
                    <a:pt x="35" y="164"/>
                  </a:lnTo>
                  <a:lnTo>
                    <a:pt x="0" y="239"/>
                  </a:lnTo>
                  <a:lnTo>
                    <a:pt x="4" y="83"/>
                  </a:lnTo>
                  <a:lnTo>
                    <a:pt x="48" y="0"/>
                  </a:lnTo>
                  <a:lnTo>
                    <a:pt x="88" y="83"/>
                  </a:lnTo>
                  <a:lnTo>
                    <a:pt x="88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1928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1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1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08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72"/>
                  </a:lnTo>
                  <a:lnTo>
                    <a:pt x="706" y="216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57"/>
                  </a:lnTo>
                  <a:lnTo>
                    <a:pt x="265" y="335"/>
                  </a:lnTo>
                  <a:lnTo>
                    <a:pt x="477" y="396"/>
                  </a:lnTo>
                  <a:lnTo>
                    <a:pt x="538" y="463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5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18"/>
                  </a:lnTo>
                  <a:lnTo>
                    <a:pt x="596" y="1337"/>
                  </a:lnTo>
                  <a:lnTo>
                    <a:pt x="623" y="1187"/>
                  </a:lnTo>
                  <a:lnTo>
                    <a:pt x="596" y="1121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9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6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5"/>
                  </a:lnTo>
                  <a:lnTo>
                    <a:pt x="494" y="635"/>
                  </a:lnTo>
                  <a:lnTo>
                    <a:pt x="459" y="436"/>
                  </a:lnTo>
                  <a:lnTo>
                    <a:pt x="278" y="370"/>
                  </a:lnTo>
                  <a:lnTo>
                    <a:pt x="278" y="432"/>
                  </a:lnTo>
                  <a:lnTo>
                    <a:pt x="198" y="286"/>
                  </a:lnTo>
                  <a:lnTo>
                    <a:pt x="149" y="57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55"/>
                  </a:lnTo>
                  <a:lnTo>
                    <a:pt x="74" y="432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5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8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9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3"/>
                  </a:lnTo>
                  <a:lnTo>
                    <a:pt x="186" y="283"/>
                  </a:lnTo>
                  <a:lnTo>
                    <a:pt x="111" y="375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0492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16160" y="868320"/>
              <a:ext cx="190800" cy="441720"/>
            </a:xfrm>
            <a:custGeom>
              <a:avLst/>
              <a:gdLst/>
              <a:ahLst/>
              <a:rect l="0" t="0" r="r" b="b"/>
              <a:pathLst>
                <a:path w="530" h="1227">
                  <a:moveTo>
                    <a:pt x="141" y="666"/>
                  </a:moveTo>
                  <a:lnTo>
                    <a:pt x="180" y="472"/>
                  </a:lnTo>
                  <a:lnTo>
                    <a:pt x="358" y="424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50"/>
                  </a:lnTo>
                  <a:lnTo>
                    <a:pt x="194" y="512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3"/>
                  </a:lnTo>
                  <a:lnTo>
                    <a:pt x="30" y="865"/>
                  </a:lnTo>
                  <a:lnTo>
                    <a:pt x="39" y="1033"/>
                  </a:lnTo>
                  <a:lnTo>
                    <a:pt x="216" y="1227"/>
                  </a:lnTo>
                  <a:lnTo>
                    <a:pt x="30" y="1055"/>
                  </a:lnTo>
                  <a:lnTo>
                    <a:pt x="0" y="913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9"/>
                  </a:lnTo>
                  <a:lnTo>
                    <a:pt x="318" y="141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12"/>
                  </a:lnTo>
                  <a:lnTo>
                    <a:pt x="822" y="1165"/>
                  </a:lnTo>
                  <a:lnTo>
                    <a:pt x="861" y="1112"/>
                  </a:lnTo>
                  <a:lnTo>
                    <a:pt x="844" y="1019"/>
                  </a:lnTo>
                  <a:lnTo>
                    <a:pt x="516" y="746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49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57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53"/>
                  </a:lnTo>
                  <a:lnTo>
                    <a:pt x="389" y="672"/>
                  </a:lnTo>
                  <a:lnTo>
                    <a:pt x="321" y="628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2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4"/>
                  </a:lnTo>
                  <a:lnTo>
                    <a:pt x="149" y="694"/>
                  </a:lnTo>
                  <a:lnTo>
                    <a:pt x="185" y="614"/>
                  </a:lnTo>
                  <a:lnTo>
                    <a:pt x="202" y="349"/>
                  </a:lnTo>
                  <a:lnTo>
                    <a:pt x="220" y="455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89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5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260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6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3"/>
                  </a:lnTo>
                  <a:lnTo>
                    <a:pt x="498" y="692"/>
                  </a:lnTo>
                  <a:lnTo>
                    <a:pt x="520" y="790"/>
                  </a:lnTo>
                  <a:lnTo>
                    <a:pt x="445" y="878"/>
                  </a:lnTo>
                  <a:lnTo>
                    <a:pt x="445" y="957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94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603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2003"/>
                  </a:lnTo>
                  <a:lnTo>
                    <a:pt x="2898" y="2003"/>
                  </a:lnTo>
                  <a:lnTo>
                    <a:pt x="3061" y="1897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495"/>
                  </a:lnTo>
                  <a:lnTo>
                    <a:pt x="3374" y="1394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3"/>
                  </a:lnTo>
                  <a:lnTo>
                    <a:pt x="2832" y="1191"/>
                  </a:lnTo>
                  <a:lnTo>
                    <a:pt x="2735" y="1085"/>
                  </a:lnTo>
                  <a:lnTo>
                    <a:pt x="2721" y="957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20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9"/>
                  </a:lnTo>
                  <a:lnTo>
                    <a:pt x="2197" y="158"/>
                  </a:lnTo>
                  <a:lnTo>
                    <a:pt x="2104" y="158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6"/>
                  </a:lnTo>
                  <a:lnTo>
                    <a:pt x="1172" y="856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5564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7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5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2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59"/>
                  </a:lnTo>
                  <a:lnTo>
                    <a:pt x="358" y="1156"/>
                  </a:lnTo>
                  <a:lnTo>
                    <a:pt x="278" y="953"/>
                  </a:lnTo>
                  <a:lnTo>
                    <a:pt x="247" y="816"/>
                  </a:lnTo>
                  <a:lnTo>
                    <a:pt x="247" y="680"/>
                  </a:lnTo>
                  <a:lnTo>
                    <a:pt x="278" y="556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6"/>
                  </a:lnTo>
                  <a:lnTo>
                    <a:pt x="389" y="145"/>
                  </a:lnTo>
                  <a:lnTo>
                    <a:pt x="278" y="0"/>
                  </a:lnTo>
                  <a:lnTo>
                    <a:pt x="367" y="145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57"/>
                  </a:lnTo>
                  <a:lnTo>
                    <a:pt x="318" y="1642"/>
                  </a:lnTo>
                  <a:lnTo>
                    <a:pt x="239" y="1832"/>
                  </a:lnTo>
                  <a:lnTo>
                    <a:pt x="141" y="1726"/>
                  </a:lnTo>
                  <a:lnTo>
                    <a:pt x="101" y="1642"/>
                  </a:lnTo>
                  <a:lnTo>
                    <a:pt x="110" y="1457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56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376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56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9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69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2"/>
                  </a:lnTo>
                  <a:lnTo>
                    <a:pt x="424" y="689"/>
                  </a:lnTo>
                  <a:lnTo>
                    <a:pt x="512" y="666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50"/>
                  </a:lnTo>
                  <a:lnTo>
                    <a:pt x="671" y="353"/>
                  </a:lnTo>
                  <a:lnTo>
                    <a:pt x="644" y="247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49480" y="682560"/>
              <a:ext cx="87840" cy="63720"/>
            </a:xfrm>
            <a:custGeom>
              <a:avLst/>
              <a:gdLst/>
              <a:ahLst/>
              <a:rect l="0" t="0" r="r" b="b"/>
              <a:pathLst>
                <a:path w="244" h="177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50"/>
                  </a:lnTo>
                  <a:lnTo>
                    <a:pt x="146" y="177"/>
                  </a:lnTo>
                  <a:lnTo>
                    <a:pt x="222" y="172"/>
                  </a:lnTo>
                  <a:lnTo>
                    <a:pt x="244" y="137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387520" y="1778040"/>
            <a:ext cx="6502320" cy="35305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590920" y="190512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equival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1855800" y="54936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999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000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7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4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045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0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1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311560" y="1778040"/>
            <a:ext cx="6197760" cy="33019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438280" y="1981080"/>
            <a:ext cx="601992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cash flows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nvesting activiti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financ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366920" y="304920"/>
            <a:ext cx="6723000" cy="13842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2530440" y="320760"/>
            <a:ext cx="34210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2560" y="1243080"/>
            <a:ext cx="1538280" cy="4901040"/>
            <a:chOff x="682560" y="1243080"/>
            <a:chExt cx="1538280" cy="4901040"/>
          </a:xfrm>
        </p:grpSpPr>
        <p:grpSp>
          <p:nvGrpSpPr>
            <p:cNvPr id="1097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1098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8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2" name=""/>
            <p:cNvGrpSpPr/>
            <p:nvPr/>
          </p:nvGrpSpPr>
          <p:grpSpPr>
            <a:xfrm>
              <a:off x="682560" y="1825560"/>
              <a:ext cx="1538280" cy="4318560"/>
              <a:chOff x="682560" y="1825560"/>
              <a:chExt cx="1538280" cy="4318560"/>
            </a:xfrm>
          </p:grpSpPr>
          <p:sp>
            <p:nvSpPr>
              <p:cNvPr id="1143" name=""/>
              <p:cNvSpPr/>
              <p:nvPr/>
            </p:nvSpPr>
            <p:spPr>
              <a:xfrm flipV="1">
                <a:off x="1366920" y="3225960"/>
                <a:ext cx="0" cy="70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8" name=""/>
                <p:cNvSpPr/>
                <p:nvPr/>
              </p:nvSpPr>
              <p:spPr>
                <a:xfrm>
                  <a:off x="1328760" y="4943520"/>
                  <a:ext cx="1440" cy="77796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819000" y="2484360"/>
                <a:ext cx="1401840" cy="775440"/>
                <a:chOff x="819000" y="2484360"/>
                <a:chExt cx="1401840" cy="77544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819000" y="2484360"/>
                  <a:ext cx="1401840" cy="732240"/>
                  <a:chOff x="819000" y="2484360"/>
                  <a:chExt cx="1401840" cy="732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1222200" y="2568600"/>
                    <a:ext cx="998640" cy="530280"/>
                    <a:chOff x="1222200" y="2568600"/>
                    <a:chExt cx="998640" cy="5302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222200" y="256860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1635120" y="2719440"/>
                      <a:ext cx="585720" cy="379440"/>
                      <a:chOff x="1635120" y="2719440"/>
                      <a:chExt cx="585720" cy="37944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 flipV="1">
                        <a:off x="1635120" y="278604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 flipV="1">
                        <a:off x="2131920" y="271944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0" name=""/>
                      <p:cNvSpPr/>
                      <p:nvPr/>
                    </p:nvSpPr>
                    <p:spPr>
                      <a:xfrm flipH="1">
                        <a:off x="1689120" y="2813040"/>
                        <a:ext cx="53172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990720" y="391788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"/>
          <p:cNvSpPr txBox="1"/>
          <p:nvPr/>
        </p:nvSpPr>
        <p:spPr>
          <a:xfrm>
            <a:off x="1981080" y="457200"/>
            <a:ext cx="5416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362320" y="1752480"/>
            <a:ext cx="6248520" cy="3505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90920" y="19810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308560" cy="1419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 txBox="1"/>
          <p:nvPr/>
        </p:nvSpPr>
        <p:spPr>
          <a:xfrm>
            <a:off x="2286000" y="45720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1196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4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1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242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1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252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57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6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277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8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