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4-</a:t>
            </a:r>
            <a:fld id="{40625357-B982-4085-9A3E-3D188A2CCA9D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517920" cy="328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1440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523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pertains especially to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289548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s are tied to long-range and short-range plans to meet success factors related to quality, cost,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3808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14400" y="16765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information is used to communicate responsibilities to individuals who are accountable for a particular segment of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are carefully selected to motivate individuals or teams to achieve targeted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152388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executing stage, managers use budget information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nchm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blem recogn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38080" y="3808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viewing stage, manag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view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17524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porting stage, budgets serve as a reference point for many reports, such as performance reports that support bonuses and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3949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57400" y="83808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228600"/>
            <a:ext cx="1903680" cy="1827360"/>
            <a:chOff x="6934320" y="228600"/>
            <a:chExt cx="1903680" cy="1827360"/>
          </a:xfrm>
        </p:grpSpPr>
        <p:sp>
          <p:nvSpPr>
            <p:cNvPr id="89" name=""/>
            <p:cNvSpPr/>
            <p:nvPr/>
          </p:nvSpPr>
          <p:spPr>
            <a:xfrm>
              <a:off x="6939000" y="112536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7"/>
                  </a:lnTo>
                  <a:lnTo>
                    <a:pt x="590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9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396" y="1099"/>
                  </a:lnTo>
                  <a:lnTo>
                    <a:pt x="445" y="1248"/>
                  </a:lnTo>
                  <a:lnTo>
                    <a:pt x="414" y="1413"/>
                  </a:lnTo>
                  <a:lnTo>
                    <a:pt x="286" y="1646"/>
                  </a:lnTo>
                  <a:lnTo>
                    <a:pt x="321" y="1699"/>
                  </a:lnTo>
                  <a:lnTo>
                    <a:pt x="396" y="1686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4" y="1774"/>
                  </a:lnTo>
                  <a:lnTo>
                    <a:pt x="927" y="1554"/>
                  </a:lnTo>
                  <a:lnTo>
                    <a:pt x="1006" y="1761"/>
                  </a:lnTo>
                  <a:lnTo>
                    <a:pt x="1068" y="1699"/>
                  </a:lnTo>
                  <a:lnTo>
                    <a:pt x="1099" y="1288"/>
                  </a:lnTo>
                  <a:lnTo>
                    <a:pt x="1284" y="900"/>
                  </a:lnTo>
                  <a:lnTo>
                    <a:pt x="1240" y="675"/>
                  </a:lnTo>
                  <a:lnTo>
                    <a:pt x="1112" y="591"/>
                  </a:lnTo>
                  <a:lnTo>
                    <a:pt x="975" y="605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7800" y="1384200"/>
              <a:ext cx="136800" cy="309960"/>
            </a:xfrm>
            <a:custGeom>
              <a:avLst/>
              <a:gdLst/>
              <a:ahLst/>
              <a:rect l="0" t="0" r="r" b="b"/>
              <a:pathLst>
                <a:path w="380" h="861">
                  <a:moveTo>
                    <a:pt x="189" y="0"/>
                  </a:moveTo>
                  <a:lnTo>
                    <a:pt x="380" y="225"/>
                  </a:lnTo>
                  <a:lnTo>
                    <a:pt x="287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4" y="367"/>
                  </a:lnTo>
                  <a:lnTo>
                    <a:pt x="189" y="18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11960" y="1206360"/>
              <a:ext cx="341640" cy="279720"/>
            </a:xfrm>
            <a:custGeom>
              <a:avLst/>
              <a:gdLst/>
              <a:ahLst/>
              <a:rect l="0" t="0" r="r" b="b"/>
              <a:pathLst>
                <a:path w="949" h="777">
                  <a:moveTo>
                    <a:pt x="392" y="0"/>
                  </a:moveTo>
                  <a:lnTo>
                    <a:pt x="392" y="123"/>
                  </a:lnTo>
                  <a:lnTo>
                    <a:pt x="423" y="233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4" y="763"/>
                  </a:lnTo>
                  <a:lnTo>
                    <a:pt x="609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5020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7"/>
                  </a:lnTo>
                  <a:lnTo>
                    <a:pt x="224" y="1682"/>
                  </a:lnTo>
                  <a:lnTo>
                    <a:pt x="411" y="1682"/>
                  </a:lnTo>
                  <a:lnTo>
                    <a:pt x="397" y="1324"/>
                  </a:lnTo>
                  <a:lnTo>
                    <a:pt x="534" y="1699"/>
                  </a:lnTo>
                  <a:lnTo>
                    <a:pt x="631" y="1712"/>
                  </a:lnTo>
                  <a:lnTo>
                    <a:pt x="693" y="1589"/>
                  </a:lnTo>
                  <a:lnTo>
                    <a:pt x="710" y="1351"/>
                  </a:lnTo>
                  <a:lnTo>
                    <a:pt x="913" y="1571"/>
                  </a:lnTo>
                  <a:lnTo>
                    <a:pt x="994" y="1558"/>
                  </a:lnTo>
                  <a:lnTo>
                    <a:pt x="975" y="1404"/>
                  </a:lnTo>
                  <a:lnTo>
                    <a:pt x="896" y="1187"/>
                  </a:lnTo>
                  <a:lnTo>
                    <a:pt x="816" y="1046"/>
                  </a:lnTo>
                  <a:lnTo>
                    <a:pt x="847" y="949"/>
                  </a:lnTo>
                  <a:lnTo>
                    <a:pt x="896" y="962"/>
                  </a:lnTo>
                  <a:lnTo>
                    <a:pt x="1082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2"/>
                  </a:lnTo>
                  <a:lnTo>
                    <a:pt x="613" y="0"/>
                  </a:lnTo>
                  <a:lnTo>
                    <a:pt x="397" y="464"/>
                  </a:lnTo>
                  <a:lnTo>
                    <a:pt x="211" y="534"/>
                  </a:lnTo>
                  <a:lnTo>
                    <a:pt x="163" y="662"/>
                  </a:lnTo>
                  <a:lnTo>
                    <a:pt x="119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7560" y="358920"/>
              <a:ext cx="520920" cy="784440"/>
            </a:xfrm>
            <a:custGeom>
              <a:avLst/>
              <a:gdLst/>
              <a:ahLst/>
              <a:rect l="0" t="0" r="r" b="b"/>
              <a:pathLst>
                <a:path w="1447" h="2179">
                  <a:moveTo>
                    <a:pt x="361" y="299"/>
                  </a:moveTo>
                  <a:lnTo>
                    <a:pt x="255" y="718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06"/>
                  </a:lnTo>
                  <a:lnTo>
                    <a:pt x="224" y="1306"/>
                  </a:lnTo>
                  <a:lnTo>
                    <a:pt x="299" y="1791"/>
                  </a:lnTo>
                  <a:lnTo>
                    <a:pt x="392" y="1998"/>
                  </a:lnTo>
                  <a:lnTo>
                    <a:pt x="687" y="2179"/>
                  </a:lnTo>
                  <a:lnTo>
                    <a:pt x="984" y="2152"/>
                  </a:lnTo>
                  <a:lnTo>
                    <a:pt x="1125" y="1791"/>
                  </a:lnTo>
                  <a:lnTo>
                    <a:pt x="1156" y="1240"/>
                  </a:lnTo>
                  <a:lnTo>
                    <a:pt x="1447" y="965"/>
                  </a:lnTo>
                  <a:lnTo>
                    <a:pt x="1434" y="855"/>
                  </a:lnTo>
                  <a:lnTo>
                    <a:pt x="1398" y="802"/>
                  </a:lnTo>
                  <a:lnTo>
                    <a:pt x="1248" y="789"/>
                  </a:lnTo>
                  <a:lnTo>
                    <a:pt x="1297" y="648"/>
                  </a:lnTo>
                  <a:lnTo>
                    <a:pt x="1143" y="551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0572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6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493"/>
                  </a:lnTo>
                  <a:lnTo>
                    <a:pt x="940" y="1689"/>
                  </a:lnTo>
                  <a:lnTo>
                    <a:pt x="1064" y="2352"/>
                  </a:lnTo>
                  <a:lnTo>
                    <a:pt x="565" y="2603"/>
                  </a:lnTo>
                  <a:lnTo>
                    <a:pt x="176" y="2462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25416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54" y="659"/>
                  </a:moveTo>
                  <a:lnTo>
                    <a:pt x="336" y="472"/>
                  </a:lnTo>
                  <a:lnTo>
                    <a:pt x="450" y="446"/>
                  </a:lnTo>
                  <a:lnTo>
                    <a:pt x="450" y="464"/>
                  </a:lnTo>
                  <a:lnTo>
                    <a:pt x="508" y="446"/>
                  </a:lnTo>
                  <a:lnTo>
                    <a:pt x="583" y="503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4"/>
                  </a:lnTo>
                  <a:lnTo>
                    <a:pt x="1179" y="331"/>
                  </a:lnTo>
                  <a:lnTo>
                    <a:pt x="994" y="322"/>
                  </a:lnTo>
                  <a:lnTo>
                    <a:pt x="1025" y="181"/>
                  </a:lnTo>
                  <a:lnTo>
                    <a:pt x="865" y="195"/>
                  </a:lnTo>
                  <a:lnTo>
                    <a:pt x="838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83" y="154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22"/>
                  </a:lnTo>
                  <a:lnTo>
                    <a:pt x="233" y="154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46840" y="1187280"/>
              <a:ext cx="141480" cy="709920"/>
            </a:xfrm>
            <a:custGeom>
              <a:avLst/>
              <a:gdLst/>
              <a:ahLst/>
              <a:rect l="0" t="0" r="r" b="b"/>
              <a:pathLst>
                <a:path w="393" h="1972">
                  <a:moveTo>
                    <a:pt x="203" y="13"/>
                  </a:moveTo>
                  <a:lnTo>
                    <a:pt x="70" y="97"/>
                  </a:lnTo>
                  <a:lnTo>
                    <a:pt x="70" y="264"/>
                  </a:lnTo>
                  <a:lnTo>
                    <a:pt x="163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7" y="1381"/>
                  </a:lnTo>
                  <a:lnTo>
                    <a:pt x="97" y="1570"/>
                  </a:lnTo>
                  <a:lnTo>
                    <a:pt x="48" y="1716"/>
                  </a:lnTo>
                  <a:lnTo>
                    <a:pt x="247" y="1972"/>
                  </a:lnTo>
                  <a:lnTo>
                    <a:pt x="380" y="1588"/>
                  </a:lnTo>
                  <a:lnTo>
                    <a:pt x="380" y="1323"/>
                  </a:lnTo>
                  <a:lnTo>
                    <a:pt x="283" y="1076"/>
                  </a:lnTo>
                  <a:lnTo>
                    <a:pt x="234" y="745"/>
                  </a:lnTo>
                  <a:lnTo>
                    <a:pt x="331" y="418"/>
                  </a:lnTo>
                  <a:lnTo>
                    <a:pt x="300" y="291"/>
                  </a:lnTo>
                  <a:lnTo>
                    <a:pt x="393" y="224"/>
                  </a:lnTo>
                  <a:lnTo>
                    <a:pt x="380" y="136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2160" y="94932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69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16880" y="62244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69" y="385"/>
                  </a:lnTo>
                  <a:lnTo>
                    <a:pt x="393" y="359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66000" y="592200"/>
              <a:ext cx="122760" cy="138600"/>
            </a:xfrm>
            <a:custGeom>
              <a:avLst/>
              <a:gdLst/>
              <a:ahLst/>
              <a:rect l="0" t="0" r="r" b="b"/>
              <a:pathLst>
                <a:path w="341" h="385">
                  <a:moveTo>
                    <a:pt x="0" y="52"/>
                  </a:moveTo>
                  <a:lnTo>
                    <a:pt x="234" y="385"/>
                  </a:lnTo>
                  <a:lnTo>
                    <a:pt x="341" y="301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6432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6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66"/>
                  </a:lnTo>
                  <a:lnTo>
                    <a:pt x="286" y="574"/>
                  </a:lnTo>
                  <a:lnTo>
                    <a:pt x="433" y="574"/>
                  </a:lnTo>
                  <a:lnTo>
                    <a:pt x="547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0" y="875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6" y="919"/>
                  </a:lnTo>
                  <a:lnTo>
                    <a:pt x="1174" y="883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8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6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8" y="468"/>
                  </a:lnTo>
                  <a:lnTo>
                    <a:pt x="803" y="521"/>
                  </a:lnTo>
                  <a:lnTo>
                    <a:pt x="803" y="565"/>
                  </a:lnTo>
                  <a:lnTo>
                    <a:pt x="971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92" y="591"/>
                  </a:lnTo>
                  <a:lnTo>
                    <a:pt x="1161" y="680"/>
                  </a:lnTo>
                  <a:lnTo>
                    <a:pt x="1152" y="800"/>
                  </a:lnTo>
                  <a:lnTo>
                    <a:pt x="1064" y="844"/>
                  </a:lnTo>
                  <a:lnTo>
                    <a:pt x="931" y="861"/>
                  </a:lnTo>
                  <a:lnTo>
                    <a:pt x="838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4240" y="814320"/>
              <a:ext cx="160560" cy="70200"/>
            </a:xfrm>
            <a:custGeom>
              <a:avLst/>
              <a:gdLst/>
              <a:ahLst/>
              <a:rect l="0" t="0" r="r" b="b"/>
              <a:pathLst>
                <a:path w="446" h="195">
                  <a:moveTo>
                    <a:pt x="0" y="0"/>
                  </a:moveTo>
                  <a:lnTo>
                    <a:pt x="70" y="88"/>
                  </a:lnTo>
                  <a:lnTo>
                    <a:pt x="265" y="88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57"/>
                  </a:lnTo>
                  <a:lnTo>
                    <a:pt x="428" y="88"/>
                  </a:lnTo>
                  <a:lnTo>
                    <a:pt x="247" y="195"/>
                  </a:lnTo>
                  <a:lnTo>
                    <a:pt x="149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56400" y="700200"/>
              <a:ext cx="241560" cy="373320"/>
            </a:xfrm>
            <a:custGeom>
              <a:avLst/>
              <a:gdLst/>
              <a:ahLst/>
              <a:rect l="0" t="0" r="r" b="b"/>
              <a:pathLst>
                <a:path w="671" h="1037">
                  <a:moveTo>
                    <a:pt x="671" y="74"/>
                  </a:moveTo>
                  <a:lnTo>
                    <a:pt x="671" y="88"/>
                  </a:lnTo>
                  <a:lnTo>
                    <a:pt x="552" y="194"/>
                  </a:lnTo>
                  <a:lnTo>
                    <a:pt x="455" y="216"/>
                  </a:lnTo>
                  <a:lnTo>
                    <a:pt x="268" y="189"/>
                  </a:lnTo>
                  <a:lnTo>
                    <a:pt x="304" y="561"/>
                  </a:lnTo>
                  <a:lnTo>
                    <a:pt x="349" y="869"/>
                  </a:lnTo>
                  <a:lnTo>
                    <a:pt x="428" y="1037"/>
                  </a:lnTo>
                  <a:lnTo>
                    <a:pt x="349" y="918"/>
                  </a:lnTo>
                  <a:lnTo>
                    <a:pt x="313" y="785"/>
                  </a:lnTo>
                  <a:lnTo>
                    <a:pt x="260" y="436"/>
                  </a:lnTo>
                  <a:lnTo>
                    <a:pt x="207" y="458"/>
                  </a:lnTo>
                  <a:lnTo>
                    <a:pt x="141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2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1" y="141"/>
                  </a:lnTo>
                  <a:lnTo>
                    <a:pt x="375" y="167"/>
                  </a:lnTo>
                  <a:lnTo>
                    <a:pt x="486" y="158"/>
                  </a:lnTo>
                  <a:lnTo>
                    <a:pt x="596" y="101"/>
                  </a:lnTo>
                  <a:lnTo>
                    <a:pt x="67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560" y="40320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106" y="552"/>
                  </a:moveTo>
                  <a:lnTo>
                    <a:pt x="204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1" y="189"/>
                  </a:lnTo>
                  <a:lnTo>
                    <a:pt x="80" y="353"/>
                  </a:lnTo>
                  <a:lnTo>
                    <a:pt x="124" y="419"/>
                  </a:lnTo>
                  <a:lnTo>
                    <a:pt x="106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1832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4"/>
                  </a:moveTo>
                  <a:lnTo>
                    <a:pt x="145" y="570"/>
                  </a:lnTo>
                  <a:lnTo>
                    <a:pt x="132" y="472"/>
                  </a:lnTo>
                  <a:lnTo>
                    <a:pt x="154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08" y="141"/>
                  </a:lnTo>
                  <a:lnTo>
                    <a:pt x="569" y="123"/>
                  </a:lnTo>
                  <a:lnTo>
                    <a:pt x="521" y="243"/>
                  </a:lnTo>
                  <a:lnTo>
                    <a:pt x="680" y="300"/>
                  </a:lnTo>
                  <a:lnTo>
                    <a:pt x="799" y="180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1"/>
                  </a:lnTo>
                  <a:lnTo>
                    <a:pt x="993" y="309"/>
                  </a:lnTo>
                  <a:lnTo>
                    <a:pt x="900" y="397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90" y="729"/>
                  </a:lnTo>
                  <a:lnTo>
                    <a:pt x="1076" y="685"/>
                  </a:lnTo>
                  <a:lnTo>
                    <a:pt x="1241" y="725"/>
                  </a:lnTo>
                  <a:lnTo>
                    <a:pt x="1214" y="610"/>
                  </a:lnTo>
                  <a:lnTo>
                    <a:pt x="1369" y="557"/>
                  </a:lnTo>
                  <a:lnTo>
                    <a:pt x="1258" y="503"/>
                  </a:lnTo>
                  <a:lnTo>
                    <a:pt x="1514" y="486"/>
                  </a:lnTo>
                  <a:lnTo>
                    <a:pt x="1294" y="367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82" y="225"/>
                  </a:lnTo>
                  <a:lnTo>
                    <a:pt x="1050" y="110"/>
                  </a:lnTo>
                  <a:lnTo>
                    <a:pt x="790" y="141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37480" y="368280"/>
              <a:ext cx="154440" cy="79560"/>
            </a:xfrm>
            <a:custGeom>
              <a:avLst/>
              <a:gdLst/>
              <a:ahLst/>
              <a:rect l="0" t="0" r="r" b="b"/>
              <a:pathLst>
                <a:path w="429" h="221">
                  <a:moveTo>
                    <a:pt x="0" y="221"/>
                  </a:moveTo>
                  <a:lnTo>
                    <a:pt x="159" y="0"/>
                  </a:lnTo>
                  <a:lnTo>
                    <a:pt x="159" y="146"/>
                  </a:lnTo>
                  <a:lnTo>
                    <a:pt x="217" y="88"/>
                  </a:lnTo>
                  <a:lnTo>
                    <a:pt x="269" y="168"/>
                  </a:lnTo>
                  <a:lnTo>
                    <a:pt x="429" y="208"/>
                  </a:lnTo>
                  <a:lnTo>
                    <a:pt x="256" y="181"/>
                  </a:lnTo>
                  <a:lnTo>
                    <a:pt x="208" y="128"/>
                  </a:lnTo>
                  <a:lnTo>
                    <a:pt x="133" y="181"/>
                  </a:lnTo>
                  <a:lnTo>
                    <a:pt x="133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2308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07" y="123"/>
                  </a:lnTo>
                  <a:lnTo>
                    <a:pt x="460" y="74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34" y="164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78"/>
                  </a:lnTo>
                  <a:lnTo>
                    <a:pt x="190" y="318"/>
                  </a:lnTo>
                  <a:lnTo>
                    <a:pt x="230" y="318"/>
                  </a:lnTo>
                  <a:lnTo>
                    <a:pt x="309" y="261"/>
                  </a:lnTo>
                  <a:lnTo>
                    <a:pt x="362" y="149"/>
                  </a:lnTo>
                  <a:lnTo>
                    <a:pt x="278" y="132"/>
                  </a:lnTo>
                  <a:lnTo>
                    <a:pt x="225" y="123"/>
                  </a:lnTo>
                  <a:lnTo>
                    <a:pt x="88" y="141"/>
                  </a:lnTo>
                  <a:lnTo>
                    <a:pt x="83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7" y="88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9932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75" y="1386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23" y="1210"/>
                  </a:lnTo>
                  <a:lnTo>
                    <a:pt x="211" y="1285"/>
                  </a:lnTo>
                  <a:lnTo>
                    <a:pt x="388" y="1294"/>
                  </a:lnTo>
                  <a:lnTo>
                    <a:pt x="546" y="1219"/>
                  </a:lnTo>
                  <a:lnTo>
                    <a:pt x="631" y="1135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111744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0" y="0"/>
                  </a:moveTo>
                  <a:lnTo>
                    <a:pt x="211" y="61"/>
                  </a:lnTo>
                  <a:lnTo>
                    <a:pt x="291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6"/>
                  </a:lnTo>
                  <a:lnTo>
                    <a:pt x="706" y="578"/>
                  </a:lnTo>
                  <a:lnTo>
                    <a:pt x="843" y="666"/>
                  </a:lnTo>
                  <a:lnTo>
                    <a:pt x="887" y="781"/>
                  </a:lnTo>
                  <a:lnTo>
                    <a:pt x="887" y="979"/>
                  </a:lnTo>
                  <a:lnTo>
                    <a:pt x="706" y="1276"/>
                  </a:lnTo>
                  <a:lnTo>
                    <a:pt x="644" y="1399"/>
                  </a:lnTo>
                  <a:lnTo>
                    <a:pt x="680" y="1241"/>
                  </a:lnTo>
                  <a:lnTo>
                    <a:pt x="644" y="1174"/>
                  </a:lnTo>
                  <a:lnTo>
                    <a:pt x="538" y="1073"/>
                  </a:lnTo>
                  <a:lnTo>
                    <a:pt x="361" y="953"/>
                  </a:lnTo>
                  <a:lnTo>
                    <a:pt x="574" y="1024"/>
                  </a:lnTo>
                  <a:lnTo>
                    <a:pt x="697" y="1113"/>
                  </a:lnTo>
                  <a:lnTo>
                    <a:pt x="759" y="1100"/>
                  </a:lnTo>
                  <a:lnTo>
                    <a:pt x="799" y="1051"/>
                  </a:lnTo>
                  <a:lnTo>
                    <a:pt x="843" y="909"/>
                  </a:lnTo>
                  <a:lnTo>
                    <a:pt x="830" y="772"/>
                  </a:lnTo>
                  <a:lnTo>
                    <a:pt x="763" y="693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4" y="459"/>
                  </a:lnTo>
                  <a:lnTo>
                    <a:pt x="299" y="389"/>
                  </a:lnTo>
                  <a:lnTo>
                    <a:pt x="299" y="450"/>
                  </a:lnTo>
                  <a:lnTo>
                    <a:pt x="211" y="299"/>
                  </a:lnTo>
                  <a:lnTo>
                    <a:pt x="163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50"/>
                  </a:lnTo>
                  <a:lnTo>
                    <a:pt x="185" y="596"/>
                  </a:lnTo>
                  <a:lnTo>
                    <a:pt x="70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4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14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1"/>
                  </a:lnTo>
                  <a:lnTo>
                    <a:pt x="415" y="1117"/>
                  </a:lnTo>
                  <a:lnTo>
                    <a:pt x="322" y="1064"/>
                  </a:lnTo>
                  <a:lnTo>
                    <a:pt x="336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9840" y="1566720"/>
              <a:ext cx="130680" cy="192600"/>
            </a:xfrm>
            <a:custGeom>
              <a:avLst/>
              <a:gdLst/>
              <a:ahLst/>
              <a:rect l="0" t="0" r="r" b="b"/>
              <a:pathLst>
                <a:path w="363" h="535">
                  <a:moveTo>
                    <a:pt x="0" y="473"/>
                  </a:moveTo>
                  <a:lnTo>
                    <a:pt x="120" y="336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5"/>
                  </a:lnTo>
                  <a:lnTo>
                    <a:pt x="256" y="495"/>
                  </a:lnTo>
                  <a:lnTo>
                    <a:pt x="203" y="296"/>
                  </a:lnTo>
                  <a:lnTo>
                    <a:pt x="120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5004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8" y="186"/>
                  </a:lnTo>
                  <a:lnTo>
                    <a:pt x="61" y="79"/>
                  </a:lnTo>
                  <a:lnTo>
                    <a:pt x="114" y="460"/>
                  </a:lnTo>
                  <a:lnTo>
                    <a:pt x="190" y="460"/>
                  </a:lnTo>
                  <a:lnTo>
                    <a:pt x="221" y="52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876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0" y="697"/>
                  </a:moveTo>
                  <a:lnTo>
                    <a:pt x="195" y="493"/>
                  </a:lnTo>
                  <a:lnTo>
                    <a:pt x="393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71"/>
                  </a:lnTo>
                  <a:lnTo>
                    <a:pt x="212" y="533"/>
                  </a:lnTo>
                  <a:lnTo>
                    <a:pt x="186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34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8" y="702"/>
                  </a:lnTo>
                  <a:lnTo>
                    <a:pt x="150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88440" y="895320"/>
              <a:ext cx="349560" cy="448200"/>
            </a:xfrm>
            <a:custGeom>
              <a:avLst/>
              <a:gdLst/>
              <a:ahLst/>
              <a:rect l="0" t="0" r="r" b="b"/>
              <a:pathLst>
                <a:path w="971" h="1245">
                  <a:moveTo>
                    <a:pt x="268" y="0"/>
                  </a:moveTo>
                  <a:lnTo>
                    <a:pt x="326" y="39"/>
                  </a:lnTo>
                  <a:lnTo>
                    <a:pt x="343" y="145"/>
                  </a:lnTo>
                  <a:lnTo>
                    <a:pt x="343" y="242"/>
                  </a:lnTo>
                  <a:lnTo>
                    <a:pt x="233" y="424"/>
                  </a:lnTo>
                  <a:lnTo>
                    <a:pt x="255" y="556"/>
                  </a:lnTo>
                  <a:lnTo>
                    <a:pt x="583" y="702"/>
                  </a:lnTo>
                  <a:lnTo>
                    <a:pt x="966" y="1095"/>
                  </a:lnTo>
                  <a:lnTo>
                    <a:pt x="971" y="1197"/>
                  </a:lnTo>
                  <a:lnTo>
                    <a:pt x="949" y="1245"/>
                  </a:lnTo>
                  <a:lnTo>
                    <a:pt x="807" y="1245"/>
                  </a:lnTo>
                  <a:lnTo>
                    <a:pt x="680" y="1170"/>
                  </a:lnTo>
                  <a:lnTo>
                    <a:pt x="578" y="1042"/>
                  </a:lnTo>
                  <a:lnTo>
                    <a:pt x="516" y="967"/>
                  </a:lnTo>
                  <a:lnTo>
                    <a:pt x="449" y="954"/>
                  </a:lnTo>
                  <a:lnTo>
                    <a:pt x="534" y="954"/>
                  </a:lnTo>
                  <a:lnTo>
                    <a:pt x="693" y="1161"/>
                  </a:lnTo>
                  <a:lnTo>
                    <a:pt x="896" y="1219"/>
                  </a:lnTo>
                  <a:lnTo>
                    <a:pt x="940" y="1161"/>
                  </a:lnTo>
                  <a:lnTo>
                    <a:pt x="918" y="1064"/>
                  </a:lnTo>
                  <a:lnTo>
                    <a:pt x="561" y="781"/>
                  </a:lnTo>
                  <a:lnTo>
                    <a:pt x="512" y="702"/>
                  </a:lnTo>
                  <a:lnTo>
                    <a:pt x="233" y="631"/>
                  </a:lnTo>
                  <a:lnTo>
                    <a:pt x="189" y="702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6"/>
                  </a:lnTo>
                  <a:lnTo>
                    <a:pt x="189" y="397"/>
                  </a:lnTo>
                  <a:lnTo>
                    <a:pt x="313" y="242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2472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18" y="0"/>
                  </a:moveTo>
                  <a:lnTo>
                    <a:pt x="596" y="61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46"/>
                  </a:lnTo>
                  <a:lnTo>
                    <a:pt x="477" y="216"/>
                  </a:lnTo>
                  <a:lnTo>
                    <a:pt x="389" y="180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74"/>
                  </a:lnTo>
                  <a:lnTo>
                    <a:pt x="424" y="702"/>
                  </a:lnTo>
                  <a:lnTo>
                    <a:pt x="349" y="653"/>
                  </a:lnTo>
                  <a:lnTo>
                    <a:pt x="252" y="446"/>
                  </a:lnTo>
                  <a:lnTo>
                    <a:pt x="234" y="304"/>
                  </a:lnTo>
                  <a:lnTo>
                    <a:pt x="176" y="264"/>
                  </a:lnTo>
                  <a:lnTo>
                    <a:pt x="163" y="622"/>
                  </a:lnTo>
                  <a:lnTo>
                    <a:pt x="88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61"/>
                  </a:lnTo>
                  <a:lnTo>
                    <a:pt x="239" y="472"/>
                  </a:lnTo>
                  <a:lnTo>
                    <a:pt x="336" y="710"/>
                  </a:lnTo>
                  <a:lnTo>
                    <a:pt x="437" y="737"/>
                  </a:lnTo>
                  <a:lnTo>
                    <a:pt x="512" y="640"/>
                  </a:lnTo>
                  <a:lnTo>
                    <a:pt x="512" y="406"/>
                  </a:lnTo>
                  <a:lnTo>
                    <a:pt x="711" y="600"/>
                  </a:lnTo>
                  <a:lnTo>
                    <a:pt x="817" y="600"/>
                  </a:lnTo>
                  <a:lnTo>
                    <a:pt x="826" y="472"/>
                  </a:lnTo>
                  <a:lnTo>
                    <a:pt x="751" y="238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6280" y="973080"/>
              <a:ext cx="1319400" cy="1082880"/>
            </a:xfrm>
            <a:custGeom>
              <a:avLst/>
              <a:gdLst/>
              <a:ahLst/>
              <a:rect l="0" t="0" r="r" b="b"/>
              <a:pathLst>
                <a:path w="3665" h="3008">
                  <a:moveTo>
                    <a:pt x="1318" y="255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1" y="304"/>
                  </a:lnTo>
                  <a:lnTo>
                    <a:pt x="992" y="242"/>
                  </a:lnTo>
                  <a:lnTo>
                    <a:pt x="908" y="291"/>
                  </a:lnTo>
                  <a:lnTo>
                    <a:pt x="873" y="485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6"/>
                  </a:lnTo>
                  <a:lnTo>
                    <a:pt x="577" y="1221"/>
                  </a:lnTo>
                  <a:lnTo>
                    <a:pt x="586" y="1499"/>
                  </a:lnTo>
                  <a:lnTo>
                    <a:pt x="524" y="1764"/>
                  </a:lnTo>
                  <a:lnTo>
                    <a:pt x="291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7"/>
                  </a:lnTo>
                  <a:lnTo>
                    <a:pt x="277" y="2470"/>
                  </a:lnTo>
                  <a:lnTo>
                    <a:pt x="485" y="2660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1" y="2210"/>
                  </a:lnTo>
                  <a:lnTo>
                    <a:pt x="1053" y="2712"/>
                  </a:lnTo>
                  <a:lnTo>
                    <a:pt x="1031" y="3008"/>
                  </a:lnTo>
                  <a:lnTo>
                    <a:pt x="3149" y="3008"/>
                  </a:lnTo>
                  <a:lnTo>
                    <a:pt x="2995" y="2682"/>
                  </a:lnTo>
                  <a:lnTo>
                    <a:pt x="2920" y="2404"/>
                  </a:lnTo>
                  <a:lnTo>
                    <a:pt x="2898" y="1989"/>
                  </a:lnTo>
                  <a:lnTo>
                    <a:pt x="3021" y="2086"/>
                  </a:lnTo>
                  <a:lnTo>
                    <a:pt x="3149" y="2086"/>
                  </a:lnTo>
                  <a:lnTo>
                    <a:pt x="3321" y="1976"/>
                  </a:lnTo>
                  <a:lnTo>
                    <a:pt x="3440" y="1958"/>
                  </a:lnTo>
                  <a:lnTo>
                    <a:pt x="3511" y="1848"/>
                  </a:lnTo>
                  <a:lnTo>
                    <a:pt x="3559" y="1562"/>
                  </a:lnTo>
                  <a:lnTo>
                    <a:pt x="3665" y="1450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71" y="1419"/>
                  </a:lnTo>
                  <a:lnTo>
                    <a:pt x="3409" y="1437"/>
                  </a:lnTo>
                  <a:lnTo>
                    <a:pt x="3334" y="1362"/>
                  </a:lnTo>
                  <a:lnTo>
                    <a:pt x="3242" y="1349"/>
                  </a:lnTo>
                  <a:lnTo>
                    <a:pt x="3078" y="1243"/>
                  </a:lnTo>
                  <a:lnTo>
                    <a:pt x="2973" y="1133"/>
                  </a:lnTo>
                  <a:lnTo>
                    <a:pt x="2955" y="996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7"/>
                  </a:lnTo>
                  <a:lnTo>
                    <a:pt x="3078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2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05"/>
                  </a:lnTo>
                  <a:lnTo>
                    <a:pt x="2474" y="154"/>
                  </a:lnTo>
                  <a:lnTo>
                    <a:pt x="2386" y="167"/>
                  </a:lnTo>
                  <a:lnTo>
                    <a:pt x="2285" y="167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7" y="776"/>
                  </a:lnTo>
                  <a:lnTo>
                    <a:pt x="2077" y="1001"/>
                  </a:lnTo>
                  <a:lnTo>
                    <a:pt x="1989" y="1274"/>
                  </a:lnTo>
                  <a:lnTo>
                    <a:pt x="1980" y="1437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32"/>
                  </a:lnTo>
                  <a:lnTo>
                    <a:pt x="1875" y="2113"/>
                  </a:lnTo>
                  <a:lnTo>
                    <a:pt x="1936" y="2324"/>
                  </a:lnTo>
                  <a:lnTo>
                    <a:pt x="1980" y="2404"/>
                  </a:lnTo>
                  <a:lnTo>
                    <a:pt x="1857" y="2483"/>
                  </a:lnTo>
                  <a:lnTo>
                    <a:pt x="1710" y="2532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8"/>
                  </a:lnTo>
                  <a:lnTo>
                    <a:pt x="1380" y="2338"/>
                  </a:lnTo>
                  <a:lnTo>
                    <a:pt x="1380" y="2073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4" y="890"/>
                  </a:lnTo>
                  <a:lnTo>
                    <a:pt x="1340" y="701"/>
                  </a:lnTo>
                  <a:lnTo>
                    <a:pt x="1349" y="590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40720" y="119052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5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71" y="1752"/>
                  </a:lnTo>
                  <a:lnTo>
                    <a:pt x="459" y="1536"/>
                  </a:lnTo>
                  <a:lnTo>
                    <a:pt x="464" y="1420"/>
                  </a:lnTo>
                  <a:lnTo>
                    <a:pt x="393" y="1209"/>
                  </a:lnTo>
                  <a:lnTo>
                    <a:pt x="305" y="997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5" y="583"/>
                  </a:lnTo>
                  <a:lnTo>
                    <a:pt x="371" y="427"/>
                  </a:lnTo>
                  <a:lnTo>
                    <a:pt x="371" y="366"/>
                  </a:lnTo>
                  <a:lnTo>
                    <a:pt x="336" y="299"/>
                  </a:lnTo>
                  <a:lnTo>
                    <a:pt x="424" y="224"/>
                  </a:lnTo>
                  <a:lnTo>
                    <a:pt x="424" y="149"/>
                  </a:lnTo>
                  <a:lnTo>
                    <a:pt x="305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36" y="427"/>
                  </a:lnTo>
                  <a:lnTo>
                    <a:pt x="252" y="609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82"/>
                  </a:lnTo>
                  <a:lnTo>
                    <a:pt x="393" y="1372"/>
                  </a:lnTo>
                  <a:lnTo>
                    <a:pt x="393" y="1523"/>
                  </a:lnTo>
                  <a:lnTo>
                    <a:pt x="349" y="1717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10" y="1717"/>
                  </a:lnTo>
                  <a:lnTo>
                    <a:pt x="119" y="1523"/>
                  </a:lnTo>
                  <a:lnTo>
                    <a:pt x="110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7" y="508"/>
                  </a:lnTo>
                  <a:lnTo>
                    <a:pt x="194" y="313"/>
                  </a:lnTo>
                  <a:lnTo>
                    <a:pt x="110" y="233"/>
                  </a:lnTo>
                  <a:lnTo>
                    <a:pt x="97" y="97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15200" y="368280"/>
              <a:ext cx="263880" cy="343440"/>
            </a:xfrm>
            <a:custGeom>
              <a:avLst/>
              <a:gdLst/>
              <a:ahLst/>
              <a:rect l="0" t="0" r="r" b="b"/>
              <a:pathLst>
                <a:path w="733" h="954">
                  <a:moveTo>
                    <a:pt x="123" y="243"/>
                  </a:moveTo>
                  <a:lnTo>
                    <a:pt x="229" y="224"/>
                  </a:lnTo>
                  <a:lnTo>
                    <a:pt x="335" y="229"/>
                  </a:lnTo>
                  <a:lnTo>
                    <a:pt x="419" y="269"/>
                  </a:lnTo>
                  <a:lnTo>
                    <a:pt x="468" y="322"/>
                  </a:lnTo>
                  <a:lnTo>
                    <a:pt x="490" y="371"/>
                  </a:lnTo>
                  <a:lnTo>
                    <a:pt x="490" y="419"/>
                  </a:lnTo>
                  <a:lnTo>
                    <a:pt x="464" y="450"/>
                  </a:lnTo>
                  <a:lnTo>
                    <a:pt x="419" y="477"/>
                  </a:lnTo>
                  <a:lnTo>
                    <a:pt x="361" y="477"/>
                  </a:lnTo>
                  <a:lnTo>
                    <a:pt x="295" y="464"/>
                  </a:lnTo>
                  <a:lnTo>
                    <a:pt x="233" y="424"/>
                  </a:lnTo>
                  <a:lnTo>
                    <a:pt x="185" y="389"/>
                  </a:lnTo>
                  <a:lnTo>
                    <a:pt x="163" y="512"/>
                  </a:lnTo>
                  <a:lnTo>
                    <a:pt x="123" y="596"/>
                  </a:lnTo>
                  <a:lnTo>
                    <a:pt x="0" y="800"/>
                  </a:lnTo>
                  <a:lnTo>
                    <a:pt x="176" y="954"/>
                  </a:lnTo>
                  <a:lnTo>
                    <a:pt x="313" y="693"/>
                  </a:lnTo>
                  <a:lnTo>
                    <a:pt x="464" y="720"/>
                  </a:lnTo>
                  <a:lnTo>
                    <a:pt x="561" y="697"/>
                  </a:lnTo>
                  <a:lnTo>
                    <a:pt x="649" y="640"/>
                  </a:lnTo>
                  <a:lnTo>
                    <a:pt x="706" y="565"/>
                  </a:lnTo>
                  <a:lnTo>
                    <a:pt x="733" y="468"/>
                  </a:lnTo>
                  <a:lnTo>
                    <a:pt x="733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69120" y="701640"/>
              <a:ext cx="93960" cy="66960"/>
            </a:xfrm>
            <a:custGeom>
              <a:avLst/>
              <a:gdLst/>
              <a:ahLst/>
              <a:rect l="0" t="0" r="r" b="b"/>
              <a:pathLst>
                <a:path w="261" h="186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9" y="186"/>
                  </a:lnTo>
                  <a:lnTo>
                    <a:pt x="239" y="181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914400" y="1981080"/>
            <a:ext cx="77724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some examples of ways that budgeting can help managers during the reviewing stage of the management 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Principles of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28800" y="266688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30492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inci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ffective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289548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Human responsibilities an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75248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nciples of effective budgeting can be grouped into fiv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680" y="35812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uman responsibilities &amp;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81680" y="304920"/>
            <a:ext cx="2056320" cy="2132280"/>
            <a:chOff x="6781680" y="304920"/>
            <a:chExt cx="2056320" cy="2132280"/>
          </a:xfrm>
        </p:grpSpPr>
        <p:sp>
          <p:nvSpPr>
            <p:cNvPr id="129" name=""/>
            <p:cNvSpPr/>
            <p:nvPr/>
          </p:nvSpPr>
          <p:spPr>
            <a:xfrm>
              <a:off x="6788160" y="135108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07200" y="165420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63000" y="144612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10600" y="107784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6040" y="45576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07440" y="122076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9400" y="33480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59720" y="142416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53240" y="114624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8240" y="76356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8240" y="72864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2800" y="52056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7120" y="98748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53440" y="85392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4720" y="50796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21480" y="30492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50000" y="46836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4160" y="109368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08960" y="79704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46920" y="134316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160164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0160" y="186516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2960" y="187812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08800" y="108252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61440" y="108252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1600" y="149400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5960" y="117324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4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51800" y="142704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66240" y="46836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15480" y="85572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35040" indent="-6350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five groups of effective budgeting princi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99072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228600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udge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explain its role in the management cycle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219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ster budget is a set of budgets that consolidate an organization’s financial information into budgeted financial statements for a future period of time. They includ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8080" y="411480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7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60020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cause of the different activities and information needs of managers in manufacturing, retail, and service organizations, the master budget process in those settings differs in the preparation of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8195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14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a manufacturing organization include budge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95280" y="28195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products to s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quantities to b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ing price for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6002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retail organizations must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430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29718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676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retail organization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4240" y="1289160"/>
            <a:ext cx="77850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Retai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60760" y="563256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0760" y="22795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chas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60760" y="144144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6607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60760" y="395604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660760" y="311796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88920" y="266688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38240" y="510552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861160" y="2736720"/>
            <a:ext cx="245124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8611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1992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830680"/>
            <a:ext cx="0" cy="293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66876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5068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5340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16680" y="5105520"/>
            <a:ext cx="750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16680" y="59436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162920" y="5340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16680" y="43434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435456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16680" y="41148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162920" y="36640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62920" y="1682640"/>
            <a:ext cx="0" cy="105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16680" y="167652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763640" y="144792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1459080"/>
            <a:ext cx="0" cy="128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63640" y="45720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44016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63640" y="472428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63640" y="61722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473544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5802480"/>
            <a:ext cx="0" cy="36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680" y="335268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to per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hour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vel of expertise of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3000" y="14479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service organizations must know the types and amount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reve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over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16002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service organization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Service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336920" y="15937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2960" y="251460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2960" y="502920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9924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156440" y="4565520"/>
            <a:ext cx="1536840" cy="851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3216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552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214488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11560" y="22860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11560" y="36576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60960" y="38037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60960" y="47181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60960" y="56325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430880"/>
            <a:ext cx="0" cy="2934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486400" y="5340240"/>
            <a:ext cx="0" cy="293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344016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92840" y="5029200"/>
            <a:ext cx="3700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92840" y="41148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92840" y="59436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41259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848720" y="5416560"/>
            <a:ext cx="0" cy="522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87680" y="46483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687680" y="62485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46594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57261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687680" y="44956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687680" y="15238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53504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36384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66680" y="25909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the budget is being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o will read and u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the information will be prese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re the informati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13716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improve the quality of the budgets, managers need to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43000" y="144792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8080" y="42670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66880" y="10666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2120" y="228600"/>
            <a:ext cx="2132280" cy="2132280"/>
            <a:chOff x="762120" y="228600"/>
            <a:chExt cx="2132280" cy="2132280"/>
          </a:xfrm>
        </p:grpSpPr>
        <p:sp>
          <p:nvSpPr>
            <p:cNvPr id="258" name=""/>
            <p:cNvSpPr/>
            <p:nvPr/>
          </p:nvSpPr>
          <p:spPr>
            <a:xfrm>
              <a:off x="76824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0168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9384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792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168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452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828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148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6680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568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6844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888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908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3180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892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6212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4628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1928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3204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3672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1600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648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344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3216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900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6536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9708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4488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838080" y="243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financial statements are included in the preparation of a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66680" y="106668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905120" y="236232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62120" y="45720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43000" y="2362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16765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master budget consists of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905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d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hour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295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907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07920" y="1441440"/>
            <a:ext cx="7937640" cy="4127400"/>
            <a:chOff x="907920" y="1441440"/>
            <a:chExt cx="7937640" cy="4127400"/>
          </a:xfrm>
        </p:grpSpPr>
        <p:sp>
          <p:nvSpPr>
            <p:cNvPr id="300" name=""/>
            <p:cNvSpPr/>
            <p:nvPr/>
          </p:nvSpPr>
          <p:spPr>
            <a:xfrm>
              <a:off x="907920" y="1441440"/>
              <a:ext cx="7937640" cy="4127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906720" y="167652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157640" y="1940040"/>
              <a:ext cx="14479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774880" y="220032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911840" y="275904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57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800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5943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086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8077320" y="321948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82520" y="378792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41964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5594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7006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684216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798192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82520" y="4175280"/>
              <a:ext cx="1562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Selling Pr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82520" y="4437000"/>
              <a:ext cx="863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22884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2884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37040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7040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51016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1016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65172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5172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779148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148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082520" y="4797360"/>
              <a:ext cx="1206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S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2884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30704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51016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58800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72812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87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2640" y="510552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7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83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560" y="266688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5560" y="36576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9600" y="3124080"/>
              <a:ext cx="426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ion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07920" y="1289160"/>
            <a:ext cx="8013600" cy="4965840"/>
            <a:chOff x="907920" y="1289160"/>
            <a:chExt cx="8013600" cy="4965840"/>
          </a:xfrm>
        </p:grpSpPr>
        <p:sp>
          <p:nvSpPr>
            <p:cNvPr id="344" name=""/>
            <p:cNvSpPr/>
            <p:nvPr/>
          </p:nvSpPr>
          <p:spPr>
            <a:xfrm>
              <a:off x="907920" y="1289160"/>
              <a:ext cx="801360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398160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3929040" y="1630440"/>
              <a:ext cx="205740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871720" y="188604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6386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72428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5619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51492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410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8101080" y="288936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1152360" y="344808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445284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534996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624528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714060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03592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1152360" y="3828960"/>
              <a:ext cx="309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Desired Units of En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152360" y="4087800"/>
              <a:ext cx="28195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457848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7848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47380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7380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36912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6912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726444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6444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815976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976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1152360" y="4440240"/>
              <a:ext cx="2082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red Total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45284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34996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624528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714060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803592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152360" y="4843440"/>
              <a:ext cx="2336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Desired Units 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1152360" y="5102280"/>
              <a:ext cx="2908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ginning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152360" y="5357880"/>
              <a:ext cx="102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57848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848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547380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7380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636912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6912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26444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6444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815976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976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152360" y="56721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45284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534996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24528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714060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803592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4240" y="601992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54560" y="2819520"/>
              <a:ext cx="364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514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658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70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6840" y="601992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926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4548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070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Labo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831960" y="1289160"/>
            <a:ext cx="8089920" cy="4965840"/>
            <a:chOff x="831960" y="1289160"/>
            <a:chExt cx="8089920" cy="4965840"/>
          </a:xfrm>
        </p:grpSpPr>
        <p:sp>
          <p:nvSpPr>
            <p:cNvPr id="410" name=""/>
            <p:cNvSpPr/>
            <p:nvPr/>
          </p:nvSpPr>
          <p:spPr>
            <a:xfrm>
              <a:off x="831960" y="128916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88764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763800" y="1635120"/>
              <a:ext cx="21970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755800" y="189720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54100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426708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52722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27696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728172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8074080" y="292104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003320" y="34923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40053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501012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01488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02000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80247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003320" y="3879720"/>
              <a:ext cx="2387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003320" y="414504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451152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51664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52140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52616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853128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003320" y="4565520"/>
              <a:ext cx="2679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41324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513720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614196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14708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7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81518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,0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1003320" y="4976640"/>
              <a:ext cx="2235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Co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1003320" y="524196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H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06872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6872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5073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73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607860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7860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708336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8088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88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1003320" y="559908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87828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88304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6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588816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89292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2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89768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4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5840" y="5943600"/>
              <a:ext cx="827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5400" y="2819520"/>
              <a:ext cx="3730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5476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4548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9800" y="5943600"/>
              <a:ext cx="911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9440" y="5943600"/>
              <a:ext cx="834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96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310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884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214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4036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8080" y="3886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676520" y="12952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629400" y="304920"/>
            <a:ext cx="2208240" cy="2208600"/>
            <a:chOff x="6629400" y="304920"/>
            <a:chExt cx="2208240" cy="2208600"/>
          </a:xfrm>
        </p:grpSpPr>
        <p:sp>
          <p:nvSpPr>
            <p:cNvPr id="473" name=""/>
            <p:cNvSpPr/>
            <p:nvPr/>
          </p:nvSpPr>
          <p:spPr>
            <a:xfrm>
              <a:off x="6635880" y="138924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085160" y="170172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12240" y="148752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71000" y="110484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64520" y="46188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08800" y="125424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32560" y="33480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2240" y="146376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66120" y="117468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21400" y="77940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10480" y="74448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61280" y="52848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58200" y="101124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1560" y="87300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26440" y="51588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23200" y="30492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1440" y="47304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45240" y="112248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16800" y="81432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05440" y="137952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9400" y="1647720"/>
              <a:ext cx="244800" cy="486360"/>
            </a:xfrm>
            <a:custGeom>
              <a:avLst/>
              <a:gdLst/>
              <a:ahLst/>
              <a:rect l="0" t="0" r="r" b="b"/>
              <a:pathLst>
                <a:path w="680" h="1351">
                  <a:moveTo>
                    <a:pt x="680" y="0"/>
                  </a:moveTo>
                  <a:lnTo>
                    <a:pt x="538" y="88"/>
                  </a:lnTo>
                  <a:lnTo>
                    <a:pt x="375" y="415"/>
                  </a:lnTo>
                  <a:lnTo>
                    <a:pt x="211" y="631"/>
                  </a:lnTo>
                  <a:lnTo>
                    <a:pt x="17" y="887"/>
                  </a:lnTo>
                  <a:lnTo>
                    <a:pt x="0" y="1020"/>
                  </a:lnTo>
                  <a:lnTo>
                    <a:pt x="39" y="1139"/>
                  </a:lnTo>
                  <a:lnTo>
                    <a:pt x="132" y="1139"/>
                  </a:lnTo>
                  <a:lnTo>
                    <a:pt x="260" y="1020"/>
                  </a:lnTo>
                  <a:lnTo>
                    <a:pt x="362" y="777"/>
                  </a:lnTo>
                  <a:lnTo>
                    <a:pt x="499" y="631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1"/>
                  </a:lnTo>
                  <a:lnTo>
                    <a:pt x="330" y="1316"/>
                  </a:lnTo>
                  <a:lnTo>
                    <a:pt x="477" y="1351"/>
                  </a:lnTo>
                  <a:lnTo>
                    <a:pt x="375" y="1285"/>
                  </a:lnTo>
                  <a:lnTo>
                    <a:pt x="389" y="1241"/>
                  </a:lnTo>
                  <a:lnTo>
                    <a:pt x="490" y="1069"/>
                  </a:lnTo>
                  <a:lnTo>
                    <a:pt x="561" y="750"/>
                  </a:lnTo>
                  <a:lnTo>
                    <a:pt x="512" y="569"/>
                  </a:lnTo>
                  <a:lnTo>
                    <a:pt x="402" y="671"/>
                  </a:lnTo>
                  <a:lnTo>
                    <a:pt x="158" y="1077"/>
                  </a:lnTo>
                  <a:lnTo>
                    <a:pt x="97" y="1091"/>
                  </a:lnTo>
                  <a:lnTo>
                    <a:pt x="39" y="1047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7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10480" y="192240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6240" y="193356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69200" y="111132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32640" y="111132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58120" y="153684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67440" y="120492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64320" y="146700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15480" y="47304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61480" y="87624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 txBox="1"/>
          <p:nvPr/>
        </p:nvSpPr>
        <p:spPr>
          <a:xfrm>
            <a:off x="8380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872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major sections of the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990720" y="1371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362320" y="266688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8080" y="38088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66680" y="281952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ginn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d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3000" y="1523880"/>
            <a:ext cx="7391520" cy="10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sh budget is a projection over a period of time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10666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3623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its role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8080" y="304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a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512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838080" y="1523880"/>
              <a:ext cx="1015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2133720" y="1523880"/>
              <a:ext cx="2209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Receipts 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5668920" y="1523880"/>
              <a:ext cx="2133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Payments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838080" y="205740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133720" y="2057400"/>
              <a:ext cx="1062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133720" y="2362320"/>
              <a:ext cx="19764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collections o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 car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668920" y="2057400"/>
              <a:ext cx="2835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5668920" y="2362320"/>
              <a:ext cx="3138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668920" y="2666880"/>
              <a:ext cx="1128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5668920" y="2971800"/>
              <a:ext cx="24163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5668920" y="3413160"/>
              <a:ext cx="1649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668920" y="3718080"/>
              <a:ext cx="2394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tive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838080" y="4105440"/>
              <a:ext cx="10033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2133720" y="410220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2133720" y="4384800"/>
              <a:ext cx="2349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133720" y="46641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income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2133720" y="49449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5668920" y="4102200"/>
              <a:ext cx="2405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668920" y="4384800"/>
              <a:ext cx="2846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838080" y="536904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2133720" y="5367240"/>
              <a:ext cx="1444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procee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2133720" y="5648400"/>
              <a:ext cx="2709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stoc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2133720" y="5927760"/>
              <a:ext cx="2789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bo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5668920" y="5367240"/>
              <a:ext cx="156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repay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5668920" y="5648400"/>
              <a:ext cx="1603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expen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5668920" y="5927760"/>
              <a:ext cx="3071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to stockhold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85800" y="1974960"/>
              <a:ext cx="82342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82880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304920"/>
            <a:ext cx="2056320" cy="2055960"/>
            <a:chOff x="838080" y="304920"/>
            <a:chExt cx="2056320" cy="2055960"/>
          </a:xfrm>
        </p:grpSpPr>
        <p:sp>
          <p:nvSpPr>
            <p:cNvPr id="543" name=""/>
            <p:cNvSpPr/>
            <p:nvPr/>
          </p:nvSpPr>
          <p:spPr>
            <a:xfrm>
              <a:off x="84456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6360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1940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6700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244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6384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580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1612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964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464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4464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1920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352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0984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112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9056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6536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332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0656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7936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6520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784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800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5236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820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2264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7152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jor activity classifications of a cash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99072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295280" y="251460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219320" y="1676520"/>
            <a:ext cx="769608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from all other elements of a master budget is used to 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219320" y="365760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dgeted balance sheet projects the financial position of an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066680" y="304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762120" y="243828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s: Communication of expectations and targets to all key people in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ort: Top management must appear willing to reward people for meeting the organization’s goals that are represented in th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19320"/>
            <a:ext cx="7924680" cy="10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success factors for implementing a budge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066680" y="4419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up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57400" y="114300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553080" y="228600"/>
            <a:ext cx="2284920" cy="2208600"/>
            <a:chOff x="6553080" y="228600"/>
            <a:chExt cx="2284920" cy="2208600"/>
          </a:xfrm>
        </p:grpSpPr>
        <p:sp>
          <p:nvSpPr>
            <p:cNvPr id="586" name=""/>
            <p:cNvSpPr/>
            <p:nvPr/>
          </p:nvSpPr>
          <p:spPr>
            <a:xfrm>
              <a:off x="6559560" y="1312920"/>
              <a:ext cx="554400" cy="771840"/>
            </a:xfrm>
            <a:custGeom>
              <a:avLst/>
              <a:gdLst/>
              <a:ahLst/>
              <a:rect l="0" t="0" r="r" b="b"/>
              <a:pathLst>
                <a:path w="1540" h="2144">
                  <a:moveTo>
                    <a:pt x="618" y="0"/>
                  </a:moveTo>
                  <a:lnTo>
                    <a:pt x="534" y="92"/>
                  </a:lnTo>
                  <a:lnTo>
                    <a:pt x="534" y="374"/>
                  </a:lnTo>
                  <a:lnTo>
                    <a:pt x="618" y="577"/>
                  </a:lnTo>
                  <a:lnTo>
                    <a:pt x="706" y="674"/>
                  </a:lnTo>
                  <a:lnTo>
                    <a:pt x="569" y="815"/>
                  </a:lnTo>
                  <a:lnTo>
                    <a:pt x="383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1" y="1835"/>
                  </a:lnTo>
                  <a:lnTo>
                    <a:pt x="233" y="1720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9"/>
                  </a:lnTo>
                  <a:lnTo>
                    <a:pt x="494" y="1703"/>
                  </a:lnTo>
                  <a:lnTo>
                    <a:pt x="343" y="1989"/>
                  </a:lnTo>
                  <a:lnTo>
                    <a:pt x="383" y="2055"/>
                  </a:lnTo>
                  <a:lnTo>
                    <a:pt x="477" y="2033"/>
                  </a:lnTo>
                  <a:lnTo>
                    <a:pt x="666" y="1888"/>
                  </a:lnTo>
                  <a:lnTo>
                    <a:pt x="821" y="1637"/>
                  </a:lnTo>
                  <a:lnTo>
                    <a:pt x="821" y="2073"/>
                  </a:lnTo>
                  <a:lnTo>
                    <a:pt x="1002" y="2144"/>
                  </a:lnTo>
                  <a:lnTo>
                    <a:pt x="1112" y="1875"/>
                  </a:lnTo>
                  <a:lnTo>
                    <a:pt x="1205" y="2126"/>
                  </a:lnTo>
                  <a:lnTo>
                    <a:pt x="1280" y="2055"/>
                  </a:lnTo>
                  <a:lnTo>
                    <a:pt x="1316" y="1557"/>
                  </a:lnTo>
                  <a:lnTo>
                    <a:pt x="1540" y="1090"/>
                  </a:lnTo>
                  <a:lnTo>
                    <a:pt x="1488" y="815"/>
                  </a:lnTo>
                  <a:lnTo>
                    <a:pt x="1333" y="714"/>
                  </a:lnTo>
                  <a:lnTo>
                    <a:pt x="1166" y="727"/>
                  </a:lnTo>
                  <a:lnTo>
                    <a:pt x="1112" y="507"/>
                  </a:lnTo>
                  <a:lnTo>
                    <a:pt x="940" y="458"/>
                  </a:lnTo>
                  <a:lnTo>
                    <a:pt x="794" y="388"/>
                  </a:lnTo>
                  <a:lnTo>
                    <a:pt x="706" y="48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24680" y="1625760"/>
              <a:ext cx="165600" cy="373320"/>
            </a:xfrm>
            <a:custGeom>
              <a:avLst/>
              <a:gdLst/>
              <a:ahLst/>
              <a:rect l="0" t="0" r="r" b="b"/>
              <a:pathLst>
                <a:path w="460" h="1037">
                  <a:moveTo>
                    <a:pt x="230" y="0"/>
                  </a:moveTo>
                  <a:lnTo>
                    <a:pt x="460" y="268"/>
                  </a:lnTo>
                  <a:lnTo>
                    <a:pt x="344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2" y="440"/>
                  </a:lnTo>
                  <a:lnTo>
                    <a:pt x="230" y="21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88480" y="141120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1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34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51920" y="1028880"/>
              <a:ext cx="572040" cy="743400"/>
            </a:xfrm>
            <a:custGeom>
              <a:avLst/>
              <a:gdLst/>
              <a:ahLst/>
              <a:rect l="0" t="0" r="r" b="b"/>
              <a:pathLst>
                <a:path w="1589" h="2065">
                  <a:moveTo>
                    <a:pt x="141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51" y="1513"/>
                  </a:lnTo>
                  <a:lnTo>
                    <a:pt x="268" y="2026"/>
                  </a:lnTo>
                  <a:lnTo>
                    <a:pt x="494" y="2026"/>
                  </a:lnTo>
                  <a:lnTo>
                    <a:pt x="477" y="1598"/>
                  </a:lnTo>
                  <a:lnTo>
                    <a:pt x="644" y="2048"/>
                  </a:lnTo>
                  <a:lnTo>
                    <a:pt x="755" y="2065"/>
                  </a:lnTo>
                  <a:lnTo>
                    <a:pt x="834" y="1915"/>
                  </a:lnTo>
                  <a:lnTo>
                    <a:pt x="852" y="1629"/>
                  </a:lnTo>
                  <a:lnTo>
                    <a:pt x="1094" y="1893"/>
                  </a:lnTo>
                  <a:lnTo>
                    <a:pt x="1191" y="1876"/>
                  </a:lnTo>
                  <a:lnTo>
                    <a:pt x="1169" y="1690"/>
                  </a:lnTo>
                  <a:lnTo>
                    <a:pt x="1076" y="1429"/>
                  </a:lnTo>
                  <a:lnTo>
                    <a:pt x="979" y="1257"/>
                  </a:lnTo>
                  <a:lnTo>
                    <a:pt x="1015" y="1143"/>
                  </a:lnTo>
                  <a:lnTo>
                    <a:pt x="1076" y="1160"/>
                  </a:lnTo>
                  <a:lnTo>
                    <a:pt x="1298" y="1429"/>
                  </a:lnTo>
                  <a:lnTo>
                    <a:pt x="1536" y="1495"/>
                  </a:lnTo>
                  <a:lnTo>
                    <a:pt x="1589" y="1412"/>
                  </a:lnTo>
                  <a:lnTo>
                    <a:pt x="1554" y="1275"/>
                  </a:lnTo>
                  <a:lnTo>
                    <a:pt x="1112" y="856"/>
                  </a:lnTo>
                  <a:lnTo>
                    <a:pt x="755" y="728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61"/>
                  </a:lnTo>
                  <a:lnTo>
                    <a:pt x="251" y="644"/>
                  </a:lnTo>
                  <a:lnTo>
                    <a:pt x="194" y="794"/>
                  </a:lnTo>
                  <a:lnTo>
                    <a:pt x="141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3760" y="385920"/>
              <a:ext cx="624240" cy="949680"/>
            </a:xfrm>
            <a:custGeom>
              <a:avLst/>
              <a:gdLst/>
              <a:ahLst/>
              <a:rect l="0" t="0" r="r" b="b"/>
              <a:pathLst>
                <a:path w="1734" h="2638">
                  <a:moveTo>
                    <a:pt x="432" y="366"/>
                  </a:moveTo>
                  <a:lnTo>
                    <a:pt x="304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1" y="1584"/>
                  </a:lnTo>
                  <a:lnTo>
                    <a:pt x="268" y="1584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38"/>
                  </a:lnTo>
                  <a:lnTo>
                    <a:pt x="1178" y="2602"/>
                  </a:lnTo>
                  <a:lnTo>
                    <a:pt x="1345" y="2170"/>
                  </a:lnTo>
                  <a:lnTo>
                    <a:pt x="1385" y="1500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0"/>
                  </a:lnTo>
                  <a:lnTo>
                    <a:pt x="1495" y="956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9480" y="1177920"/>
              <a:ext cx="572040" cy="1134000"/>
            </a:xfrm>
            <a:custGeom>
              <a:avLst/>
              <a:gdLst/>
              <a:ahLst/>
              <a:rect l="0" t="0" r="r" b="b"/>
              <a:pathLst>
                <a:path w="1589" h="3150">
                  <a:moveTo>
                    <a:pt x="326" y="167"/>
                  </a:moveTo>
                  <a:lnTo>
                    <a:pt x="552" y="317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5"/>
                  </a:lnTo>
                  <a:lnTo>
                    <a:pt x="1129" y="2047"/>
                  </a:lnTo>
                  <a:lnTo>
                    <a:pt x="1276" y="2846"/>
                  </a:lnTo>
                  <a:lnTo>
                    <a:pt x="675" y="3150"/>
                  </a:lnTo>
                  <a:lnTo>
                    <a:pt x="211" y="2978"/>
                  </a:lnTo>
                  <a:lnTo>
                    <a:pt x="211" y="2130"/>
                  </a:lnTo>
                  <a:lnTo>
                    <a:pt x="0" y="1306"/>
                  </a:lnTo>
                  <a:lnTo>
                    <a:pt x="211" y="317"/>
                  </a:lnTo>
                  <a:lnTo>
                    <a:pt x="326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5040" y="258840"/>
              <a:ext cx="532080" cy="300240"/>
            </a:xfrm>
            <a:custGeom>
              <a:avLst/>
              <a:gdLst/>
              <a:ahLst/>
              <a:rect l="0" t="0" r="r" b="b"/>
              <a:pathLst>
                <a:path w="1478" h="834">
                  <a:moveTo>
                    <a:pt x="180" y="794"/>
                  </a:moveTo>
                  <a:lnTo>
                    <a:pt x="396" y="574"/>
                  </a:lnTo>
                  <a:lnTo>
                    <a:pt x="537" y="538"/>
                  </a:lnTo>
                  <a:lnTo>
                    <a:pt x="537" y="561"/>
                  </a:lnTo>
                  <a:lnTo>
                    <a:pt x="608" y="538"/>
                  </a:lnTo>
                  <a:lnTo>
                    <a:pt x="696" y="605"/>
                  </a:lnTo>
                  <a:lnTo>
                    <a:pt x="869" y="640"/>
                  </a:lnTo>
                  <a:lnTo>
                    <a:pt x="1015" y="834"/>
                  </a:lnTo>
                  <a:lnTo>
                    <a:pt x="1244" y="750"/>
                  </a:lnTo>
                  <a:lnTo>
                    <a:pt x="1244" y="658"/>
                  </a:lnTo>
                  <a:lnTo>
                    <a:pt x="1478" y="561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16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5"/>
                  </a:lnTo>
                  <a:lnTo>
                    <a:pt x="696" y="185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88"/>
                  </a:lnTo>
                  <a:lnTo>
                    <a:pt x="277" y="185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27960" y="138744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3"/>
                  </a:lnTo>
                  <a:lnTo>
                    <a:pt x="300" y="2382"/>
                  </a:lnTo>
                  <a:lnTo>
                    <a:pt x="456" y="1919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48"/>
                  </a:lnTo>
                  <a:lnTo>
                    <a:pt x="473" y="268"/>
                  </a:lnTo>
                  <a:lnTo>
                    <a:pt x="456" y="167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21480" y="1098720"/>
              <a:ext cx="138600" cy="79560"/>
            </a:xfrm>
            <a:custGeom>
              <a:avLst/>
              <a:gdLst/>
              <a:ahLst/>
              <a:rect l="0" t="0" r="r" b="b"/>
              <a:pathLst>
                <a:path w="385" h="221">
                  <a:moveTo>
                    <a:pt x="0" y="66"/>
                  </a:moveTo>
                  <a:lnTo>
                    <a:pt x="155" y="221"/>
                  </a:lnTo>
                  <a:lnTo>
                    <a:pt x="306" y="203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2440" y="70344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52"/>
                  </a:moveTo>
                  <a:lnTo>
                    <a:pt x="327" y="468"/>
                  </a:lnTo>
                  <a:lnTo>
                    <a:pt x="473" y="433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72320" y="66816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08720" y="45252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93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93"/>
                  </a:lnTo>
                  <a:lnTo>
                    <a:pt x="521" y="693"/>
                  </a:lnTo>
                  <a:lnTo>
                    <a:pt x="658" y="763"/>
                  </a:lnTo>
                  <a:lnTo>
                    <a:pt x="693" y="860"/>
                  </a:lnTo>
                  <a:lnTo>
                    <a:pt x="693" y="1085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21"/>
                  </a:lnTo>
                  <a:lnTo>
                    <a:pt x="887" y="821"/>
                  </a:lnTo>
                  <a:lnTo>
                    <a:pt x="944" y="1085"/>
                  </a:lnTo>
                  <a:lnTo>
                    <a:pt x="1006" y="1107"/>
                  </a:lnTo>
                  <a:lnTo>
                    <a:pt x="1209" y="1107"/>
                  </a:lnTo>
                  <a:lnTo>
                    <a:pt x="1413" y="1059"/>
                  </a:lnTo>
                  <a:lnTo>
                    <a:pt x="1554" y="962"/>
                  </a:lnTo>
                  <a:lnTo>
                    <a:pt x="1576" y="724"/>
                  </a:lnTo>
                  <a:lnTo>
                    <a:pt x="1655" y="627"/>
                  </a:lnTo>
                  <a:lnTo>
                    <a:pt x="1607" y="564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4"/>
                  </a:lnTo>
                  <a:lnTo>
                    <a:pt x="900" y="507"/>
                  </a:lnTo>
                  <a:lnTo>
                    <a:pt x="874" y="564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1"/>
                  </a:lnTo>
                  <a:lnTo>
                    <a:pt x="1329" y="577"/>
                  </a:lnTo>
                  <a:lnTo>
                    <a:pt x="1518" y="600"/>
                  </a:lnTo>
                  <a:lnTo>
                    <a:pt x="1518" y="635"/>
                  </a:lnTo>
                  <a:lnTo>
                    <a:pt x="1430" y="715"/>
                  </a:lnTo>
                  <a:lnTo>
                    <a:pt x="1395" y="821"/>
                  </a:lnTo>
                  <a:lnTo>
                    <a:pt x="1386" y="962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3"/>
                  </a:lnTo>
                  <a:lnTo>
                    <a:pt x="944" y="724"/>
                  </a:lnTo>
                  <a:lnTo>
                    <a:pt x="768" y="724"/>
                  </a:lnTo>
                  <a:lnTo>
                    <a:pt x="759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13560" y="93492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5"/>
                  </a:lnTo>
                  <a:lnTo>
                    <a:pt x="535" y="35"/>
                  </a:lnTo>
                  <a:lnTo>
                    <a:pt x="513" y="70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99360" y="79704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88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80"/>
                  </a:lnTo>
                  <a:lnTo>
                    <a:pt x="419" y="1055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4"/>
                  </a:lnTo>
                  <a:lnTo>
                    <a:pt x="313" y="530"/>
                  </a:lnTo>
                  <a:lnTo>
                    <a:pt x="246" y="556"/>
                  </a:lnTo>
                  <a:lnTo>
                    <a:pt x="171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71"/>
                  </a:lnTo>
                  <a:lnTo>
                    <a:pt x="455" y="202"/>
                  </a:lnTo>
                  <a:lnTo>
                    <a:pt x="591" y="194"/>
                  </a:lnTo>
                  <a:lnTo>
                    <a:pt x="719" y="123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78560" y="439560"/>
              <a:ext cx="87840" cy="240120"/>
            </a:xfrm>
            <a:custGeom>
              <a:avLst/>
              <a:gdLst/>
              <a:ahLst/>
              <a:rect l="0" t="0" r="r" b="b"/>
              <a:pathLst>
                <a:path w="244" h="667">
                  <a:moveTo>
                    <a:pt x="124" y="667"/>
                  </a:moveTo>
                  <a:lnTo>
                    <a:pt x="244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5"/>
                  </a:lnTo>
                  <a:lnTo>
                    <a:pt x="98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5680" y="22860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596"/>
                  </a:moveTo>
                  <a:lnTo>
                    <a:pt x="171" y="689"/>
                  </a:lnTo>
                  <a:lnTo>
                    <a:pt x="154" y="574"/>
                  </a:lnTo>
                  <a:lnTo>
                    <a:pt x="185" y="375"/>
                  </a:lnTo>
                  <a:lnTo>
                    <a:pt x="291" y="331"/>
                  </a:lnTo>
                  <a:lnTo>
                    <a:pt x="304" y="547"/>
                  </a:lnTo>
                  <a:lnTo>
                    <a:pt x="608" y="171"/>
                  </a:lnTo>
                  <a:lnTo>
                    <a:pt x="679" y="145"/>
                  </a:lnTo>
                  <a:lnTo>
                    <a:pt x="626" y="296"/>
                  </a:lnTo>
                  <a:lnTo>
                    <a:pt x="815" y="367"/>
                  </a:lnTo>
                  <a:lnTo>
                    <a:pt x="953" y="216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18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7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7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1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6"/>
                  </a:lnTo>
                  <a:lnTo>
                    <a:pt x="1504" y="609"/>
                  </a:lnTo>
                  <a:lnTo>
                    <a:pt x="1813" y="587"/>
                  </a:lnTo>
                  <a:lnTo>
                    <a:pt x="1548" y="446"/>
                  </a:lnTo>
                  <a:lnTo>
                    <a:pt x="1244" y="415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71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24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39672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7"/>
                  </a:lnTo>
                  <a:lnTo>
                    <a:pt x="261" y="106"/>
                  </a:lnTo>
                  <a:lnTo>
                    <a:pt x="322" y="204"/>
                  </a:lnTo>
                  <a:lnTo>
                    <a:pt x="513" y="253"/>
                  </a:lnTo>
                  <a:lnTo>
                    <a:pt x="309" y="218"/>
                  </a:lnTo>
                  <a:lnTo>
                    <a:pt x="247" y="150"/>
                  </a:lnTo>
                  <a:lnTo>
                    <a:pt x="159" y="218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99520" y="104616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88"/>
                  </a:lnTo>
                  <a:lnTo>
                    <a:pt x="618" y="217"/>
                  </a:lnTo>
                  <a:lnTo>
                    <a:pt x="574" y="243"/>
                  </a:lnTo>
                  <a:lnTo>
                    <a:pt x="521" y="194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36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14"/>
                  </a:lnTo>
                  <a:lnTo>
                    <a:pt x="437" y="180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2520" y="73836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9"/>
                  </a:lnTo>
                  <a:lnTo>
                    <a:pt x="1210" y="471"/>
                  </a:lnTo>
                  <a:lnTo>
                    <a:pt x="1104" y="608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88"/>
                  </a:lnTo>
                  <a:lnTo>
                    <a:pt x="1011" y="1248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78"/>
                  </a:lnTo>
                  <a:lnTo>
                    <a:pt x="154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8"/>
                  </a:lnTo>
                  <a:lnTo>
                    <a:pt x="755" y="1372"/>
                  </a:lnTo>
                  <a:lnTo>
                    <a:pt x="865" y="1187"/>
                  </a:lnTo>
                  <a:lnTo>
                    <a:pt x="882" y="971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9"/>
                  </a:lnTo>
                  <a:lnTo>
                    <a:pt x="1267" y="114"/>
                  </a:lnTo>
                  <a:lnTo>
                    <a:pt x="1249" y="44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35600" y="1303200"/>
              <a:ext cx="383040" cy="606960"/>
            </a:xfrm>
            <a:custGeom>
              <a:avLst/>
              <a:gdLst/>
              <a:ahLst/>
              <a:rect l="0" t="0" r="r" b="b"/>
              <a:pathLst>
                <a:path w="1064" h="1686">
                  <a:moveTo>
                    <a:pt x="132" y="0"/>
                  </a:moveTo>
                  <a:lnTo>
                    <a:pt x="255" y="74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87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3"/>
                  </a:lnTo>
                  <a:lnTo>
                    <a:pt x="1064" y="940"/>
                  </a:lnTo>
                  <a:lnTo>
                    <a:pt x="1064" y="1178"/>
                  </a:lnTo>
                  <a:lnTo>
                    <a:pt x="848" y="1540"/>
                  </a:lnTo>
                  <a:lnTo>
                    <a:pt x="772" y="1686"/>
                  </a:lnTo>
                  <a:lnTo>
                    <a:pt x="813" y="1492"/>
                  </a:lnTo>
                  <a:lnTo>
                    <a:pt x="772" y="1417"/>
                  </a:lnTo>
                  <a:lnTo>
                    <a:pt x="644" y="1294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4"/>
                  </a:lnTo>
                  <a:lnTo>
                    <a:pt x="954" y="1262"/>
                  </a:lnTo>
                  <a:lnTo>
                    <a:pt x="1011" y="1094"/>
                  </a:lnTo>
                  <a:lnTo>
                    <a:pt x="994" y="927"/>
                  </a:lnTo>
                  <a:lnTo>
                    <a:pt x="919" y="834"/>
                  </a:lnTo>
                  <a:lnTo>
                    <a:pt x="785" y="803"/>
                  </a:lnTo>
                  <a:lnTo>
                    <a:pt x="644" y="803"/>
                  </a:lnTo>
                  <a:lnTo>
                    <a:pt x="596" y="556"/>
                  </a:lnTo>
                  <a:lnTo>
                    <a:pt x="362" y="468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53080" y="157176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88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6" y="1138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6"/>
                  </a:lnTo>
                  <a:lnTo>
                    <a:pt x="343" y="1240"/>
                  </a:lnTo>
                  <a:lnTo>
                    <a:pt x="343" y="1315"/>
                  </a:lnTo>
                  <a:lnTo>
                    <a:pt x="494" y="1350"/>
                  </a:lnTo>
                  <a:lnTo>
                    <a:pt x="384" y="1284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40640" y="184644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74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7"/>
                  </a:lnTo>
                  <a:lnTo>
                    <a:pt x="438" y="649"/>
                  </a:lnTo>
                  <a:lnTo>
                    <a:pt x="309" y="600"/>
                  </a:lnTo>
                  <a:lnTo>
                    <a:pt x="243" y="362"/>
                  </a:lnTo>
                  <a:lnTo>
                    <a:pt x="146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32520" y="185724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0"/>
                  </a:lnTo>
                  <a:lnTo>
                    <a:pt x="75" y="92"/>
                  </a:lnTo>
                  <a:lnTo>
                    <a:pt x="142" y="552"/>
                  </a:lnTo>
                  <a:lnTo>
                    <a:pt x="226" y="552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50120" y="103500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43"/>
                  </a:moveTo>
                  <a:lnTo>
                    <a:pt x="233" y="595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8"/>
                  </a:lnTo>
                  <a:lnTo>
                    <a:pt x="255" y="643"/>
                  </a:lnTo>
                  <a:lnTo>
                    <a:pt x="220" y="843"/>
                  </a:lnTo>
                  <a:lnTo>
                    <a:pt x="308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0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8600" y="10350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8"/>
                  </a:lnTo>
                  <a:lnTo>
                    <a:pt x="414" y="176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48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7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7"/>
                  </a:lnTo>
                  <a:lnTo>
                    <a:pt x="640" y="1157"/>
                  </a:lnTo>
                  <a:lnTo>
                    <a:pt x="830" y="1399"/>
                  </a:lnTo>
                  <a:lnTo>
                    <a:pt x="1072" y="1470"/>
                  </a:lnTo>
                  <a:lnTo>
                    <a:pt x="1125" y="1399"/>
                  </a:lnTo>
                  <a:lnTo>
                    <a:pt x="1099" y="1289"/>
                  </a:lnTo>
                  <a:lnTo>
                    <a:pt x="675" y="944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61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42280" y="146052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4"/>
                  </a:lnTo>
                  <a:lnTo>
                    <a:pt x="866" y="371"/>
                  </a:lnTo>
                  <a:lnTo>
                    <a:pt x="936" y="676"/>
                  </a:lnTo>
                  <a:lnTo>
                    <a:pt x="853" y="676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16"/>
                  </a:lnTo>
                  <a:lnTo>
                    <a:pt x="481" y="371"/>
                  </a:lnTo>
                  <a:lnTo>
                    <a:pt x="578" y="477"/>
                  </a:lnTo>
                  <a:lnTo>
                    <a:pt x="578" y="694"/>
                  </a:lnTo>
                  <a:lnTo>
                    <a:pt x="508" y="848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2"/>
                  </a:lnTo>
                  <a:lnTo>
                    <a:pt x="194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7"/>
                  </a:lnTo>
                  <a:lnTo>
                    <a:pt x="287" y="569"/>
                  </a:lnTo>
                  <a:lnTo>
                    <a:pt x="397" y="857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5"/>
                  </a:lnTo>
                  <a:lnTo>
                    <a:pt x="976" y="725"/>
                  </a:lnTo>
                  <a:lnTo>
                    <a:pt x="989" y="569"/>
                  </a:lnTo>
                  <a:lnTo>
                    <a:pt x="897" y="292"/>
                  </a:lnTo>
                  <a:lnTo>
                    <a:pt x="741" y="61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02280" y="112860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8"/>
                  </a:moveTo>
                  <a:lnTo>
                    <a:pt x="1503" y="321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5"/>
                  </a:lnTo>
                  <a:lnTo>
                    <a:pt x="1089" y="348"/>
                  </a:lnTo>
                  <a:lnTo>
                    <a:pt x="1045" y="586"/>
                  </a:lnTo>
                  <a:lnTo>
                    <a:pt x="652" y="873"/>
                  </a:lnTo>
                  <a:lnTo>
                    <a:pt x="679" y="997"/>
                  </a:lnTo>
                  <a:lnTo>
                    <a:pt x="582" y="1107"/>
                  </a:lnTo>
                  <a:lnTo>
                    <a:pt x="582" y="1200"/>
                  </a:lnTo>
                  <a:lnTo>
                    <a:pt x="696" y="1478"/>
                  </a:lnTo>
                  <a:lnTo>
                    <a:pt x="705" y="1813"/>
                  </a:lnTo>
                  <a:lnTo>
                    <a:pt x="630" y="2130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2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68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8"/>
                  </a:lnTo>
                  <a:lnTo>
                    <a:pt x="3484" y="2404"/>
                  </a:lnTo>
                  <a:lnTo>
                    <a:pt x="3634" y="2518"/>
                  </a:lnTo>
                  <a:lnTo>
                    <a:pt x="3784" y="2518"/>
                  </a:lnTo>
                  <a:lnTo>
                    <a:pt x="3991" y="2386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88"/>
                  </a:lnTo>
                  <a:lnTo>
                    <a:pt x="4406" y="1751"/>
                  </a:lnTo>
                  <a:lnTo>
                    <a:pt x="4340" y="1645"/>
                  </a:lnTo>
                  <a:lnTo>
                    <a:pt x="4247" y="1645"/>
                  </a:lnTo>
                  <a:lnTo>
                    <a:pt x="4172" y="1716"/>
                  </a:lnTo>
                  <a:lnTo>
                    <a:pt x="4097" y="1738"/>
                  </a:lnTo>
                  <a:lnTo>
                    <a:pt x="4005" y="1645"/>
                  </a:lnTo>
                  <a:lnTo>
                    <a:pt x="3899" y="1632"/>
                  </a:lnTo>
                  <a:lnTo>
                    <a:pt x="3696" y="1504"/>
                  </a:lnTo>
                  <a:lnTo>
                    <a:pt x="3572" y="1368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82"/>
                  </a:lnTo>
                  <a:lnTo>
                    <a:pt x="3753" y="432"/>
                  </a:lnTo>
                  <a:lnTo>
                    <a:pt x="3696" y="321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5"/>
                  </a:lnTo>
                  <a:lnTo>
                    <a:pt x="3074" y="127"/>
                  </a:lnTo>
                  <a:lnTo>
                    <a:pt x="2977" y="185"/>
                  </a:lnTo>
                  <a:lnTo>
                    <a:pt x="2867" y="202"/>
                  </a:lnTo>
                  <a:lnTo>
                    <a:pt x="2748" y="202"/>
                  </a:lnTo>
                  <a:lnTo>
                    <a:pt x="2770" y="383"/>
                  </a:lnTo>
                  <a:lnTo>
                    <a:pt x="2770" y="604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13"/>
                  </a:lnTo>
                  <a:lnTo>
                    <a:pt x="2391" y="1539"/>
                  </a:lnTo>
                  <a:lnTo>
                    <a:pt x="2382" y="1738"/>
                  </a:lnTo>
                  <a:lnTo>
                    <a:pt x="2329" y="1901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49"/>
                  </a:lnTo>
                  <a:lnTo>
                    <a:pt x="2329" y="2806"/>
                  </a:lnTo>
                  <a:lnTo>
                    <a:pt x="2382" y="2908"/>
                  </a:lnTo>
                  <a:lnTo>
                    <a:pt x="2232" y="3000"/>
                  </a:lnTo>
                  <a:lnTo>
                    <a:pt x="2054" y="3057"/>
                  </a:lnTo>
                  <a:lnTo>
                    <a:pt x="1860" y="3075"/>
                  </a:lnTo>
                  <a:lnTo>
                    <a:pt x="1737" y="3075"/>
                  </a:lnTo>
                  <a:lnTo>
                    <a:pt x="1658" y="3044"/>
                  </a:lnTo>
                  <a:lnTo>
                    <a:pt x="1658" y="2824"/>
                  </a:lnTo>
                  <a:lnTo>
                    <a:pt x="1658" y="2505"/>
                  </a:lnTo>
                  <a:lnTo>
                    <a:pt x="1613" y="2188"/>
                  </a:lnTo>
                  <a:lnTo>
                    <a:pt x="1534" y="1901"/>
                  </a:lnTo>
                  <a:lnTo>
                    <a:pt x="1494" y="1676"/>
                  </a:lnTo>
                  <a:lnTo>
                    <a:pt x="1481" y="1354"/>
                  </a:lnTo>
                  <a:lnTo>
                    <a:pt x="1534" y="1076"/>
                  </a:lnTo>
                  <a:lnTo>
                    <a:pt x="1613" y="846"/>
                  </a:lnTo>
                  <a:lnTo>
                    <a:pt x="1618" y="714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21"/>
                  </a:lnTo>
                  <a:lnTo>
                    <a:pt x="1587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20040" y="139068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84" y="2317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56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80"/>
                  </a:lnTo>
                  <a:lnTo>
                    <a:pt x="367" y="0"/>
                  </a:lnTo>
                  <a:lnTo>
                    <a:pt x="482" y="180"/>
                  </a:lnTo>
                  <a:lnTo>
                    <a:pt x="482" y="255"/>
                  </a:lnTo>
                  <a:lnTo>
                    <a:pt x="380" y="330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4"/>
                  </a:lnTo>
                  <a:lnTo>
                    <a:pt x="314" y="2317"/>
                  </a:lnTo>
                  <a:lnTo>
                    <a:pt x="181" y="2184"/>
                  </a:lnTo>
                  <a:lnTo>
                    <a:pt x="132" y="2074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91360" y="396720"/>
              <a:ext cx="314640" cy="414720"/>
            </a:xfrm>
            <a:custGeom>
              <a:avLst/>
              <a:gdLst/>
              <a:ahLst/>
              <a:rect l="0" t="0" r="r" b="b"/>
              <a:pathLst>
                <a:path w="874" h="1152">
                  <a:moveTo>
                    <a:pt x="145" y="296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50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74"/>
                  </a:lnTo>
                  <a:lnTo>
                    <a:pt x="432" y="578"/>
                  </a:lnTo>
                  <a:lnTo>
                    <a:pt x="352" y="561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8"/>
                  </a:lnTo>
                  <a:lnTo>
                    <a:pt x="145" y="719"/>
                  </a:lnTo>
                  <a:lnTo>
                    <a:pt x="0" y="963"/>
                  </a:lnTo>
                  <a:lnTo>
                    <a:pt x="211" y="1152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72"/>
                  </a:lnTo>
                  <a:lnTo>
                    <a:pt x="838" y="684"/>
                  </a:lnTo>
                  <a:lnTo>
                    <a:pt x="874" y="565"/>
                  </a:lnTo>
                  <a:lnTo>
                    <a:pt x="874" y="441"/>
                  </a:lnTo>
                  <a:lnTo>
                    <a:pt x="838" y="309"/>
                  </a:lnTo>
                  <a:lnTo>
                    <a:pt x="768" y="176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5"/>
                  </a:lnTo>
                  <a:lnTo>
                    <a:pt x="145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34480" y="800280"/>
              <a:ext cx="114840" cy="81360"/>
            </a:xfrm>
            <a:custGeom>
              <a:avLst/>
              <a:gdLst/>
              <a:ahLst/>
              <a:rect l="0" t="0" r="r" b="b"/>
              <a:pathLst>
                <a:path w="319" h="226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8" y="222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8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1066680" y="2438280"/>
            <a:ext cx="77724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wo factors are needed for the successful implementation of a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914400" y="10666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47920" y="228600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838080" y="53352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342900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9080" indent="-460440">
              <a:lnSpc>
                <a:spcPct val="13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assifies financial data according to areas of respons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9080" indent="-460440">
              <a:lnSpc>
                <a:spcPct val="13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s only controllable cost and revenue information for manag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90720" y="1447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is an information system that do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066680" y="152388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cent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2286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6668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focuses on the reporting, not on the recording,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1430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fit center is a responsibility center whose manager is responsible for both revenues and costs, and for the resulting prof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914400" y="342900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vestment center is a responsibility center whose manager is responsible for profit generation and makes significant decisions about the assets that the center 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29528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is the proces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19810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44197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nd nonfinancial information about an organization’s future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rganizational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914400" y="1676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rporate organization chart determines the flow of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1066680" y="434340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752480" y="106668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629400" y="380880"/>
            <a:ext cx="2208240" cy="2132280"/>
            <a:chOff x="6629400" y="380880"/>
            <a:chExt cx="2208240" cy="2132280"/>
          </a:xfrm>
        </p:grpSpPr>
        <p:sp>
          <p:nvSpPr>
            <p:cNvPr id="635" name=""/>
            <p:cNvSpPr/>
            <p:nvPr/>
          </p:nvSpPr>
          <p:spPr>
            <a:xfrm>
              <a:off x="6635880" y="142704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85160" y="173052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12240" y="152244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71000" y="115416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64520" y="53172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08800" y="129708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32560" y="41112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72240" y="150012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66120" y="122220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21400" y="83988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10480" y="80496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61280" y="59688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58200" y="106380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51560" y="93024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26440" y="58428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3200" y="38088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61440" y="54468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117000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6800" y="87300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05440" y="141912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29400" y="167796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0480" y="194148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6240" y="195408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69200" y="115884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32640" y="115884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8120" y="156996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67440" y="124920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64320" y="150336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15480" y="54468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1480" y="93204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 txBox="1"/>
          <p:nvPr/>
        </p:nvSpPr>
        <p:spPr>
          <a:xfrm>
            <a:off x="106668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different classifications of responsibility cen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66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2882880" y="2664000"/>
              <a:ext cx="586728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budge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its role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basic principles of budgeting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master budget process for different types of organizations, and list the guidelines for prepar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income statement and supporting operat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304920" y="533520"/>
            <a:ext cx="8314920" cy="5940360"/>
            <a:chOff x="304920" y="533520"/>
            <a:chExt cx="8314920" cy="5940360"/>
          </a:xfrm>
        </p:grpSpPr>
        <p:sp>
          <p:nvSpPr>
            <p:cNvPr id="768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244600" y="14922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6880" y="2739960"/>
              <a:ext cx="5952960" cy="2489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cash budg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balance she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sponsibility accoun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its relation to responsibility cent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 txBox="1"/>
            <p:nvPr/>
          </p:nvSpPr>
          <p:spPr>
            <a:xfrm>
              <a:off x="4038480" y="762120"/>
              <a:ext cx="263052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ALSO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342900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udgeting process provides managers with the opportunity to carefully match the goals of the organization with the resources necessary to accomplish those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s are updated to accommodate  management’s needs for performance evaluation in some settings such as JIT or TQM enviro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9160" y="755640"/>
            <a:ext cx="7023240" cy="58039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Bu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73184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66680" y="228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 budgeting process throughout the management cycle to hel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971800"/>
            <a:ext cx="3200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029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rganization’s financing, investing, and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Budgeting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6960" y="1292400"/>
            <a:ext cx="2673360" cy="12063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e the organization’s long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als to its short-term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e resources and work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ct performanc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 goals for bonuses and 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778800" y="5483160"/>
            <a:ext cx="22161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llenge &amp; motivate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z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0880" y="2968560"/>
            <a:ext cx="25970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budg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continuous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87480" y="5483160"/>
            <a:ext cx="2063880" cy="1024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aluat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im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e solutions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ous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