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239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4-</a:t>
            </a:r>
            <a:fld id="{33578E32-9C61-452F-B14A-9133FBB639C7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4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517920" cy="328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14400" y="38088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Plann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5238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ing pertains especially to the plann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289548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s are tied to long-range and short-range plans to meet success factors related to quality, cost,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38080" y="3808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Plann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14400" y="16765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 information is used to communicate responsibilities to individuals who are accountable for a particular segment of th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3886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formance measures are carefully selected to motivate individuals or teams to achieve targeted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83808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Execu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95280" y="152388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ring the executing stage, managers use budget information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un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nchmar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blem recogn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38080" y="3808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Review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4300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reviewing stage, manag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vari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view timel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reate solutions for continuous 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2120" y="457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Repor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43000" y="17524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reporting stage, budgets serve as a reference point for many reports, such as performance reports that support bonuses and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38080" y="3949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vari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timel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reate solutions for continuou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057400" y="83808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934320" y="228600"/>
            <a:ext cx="1903680" cy="1827360"/>
            <a:chOff x="6934320" y="228600"/>
            <a:chExt cx="1903680" cy="1827360"/>
          </a:xfrm>
        </p:grpSpPr>
        <p:sp>
          <p:nvSpPr>
            <p:cNvPr id="89" name=""/>
            <p:cNvSpPr/>
            <p:nvPr/>
          </p:nvSpPr>
          <p:spPr>
            <a:xfrm>
              <a:off x="6939000" y="1125360"/>
              <a:ext cx="462240" cy="638640"/>
            </a:xfrm>
            <a:custGeom>
              <a:avLst/>
              <a:gdLst/>
              <a:ahLst/>
              <a:rect l="0" t="0" r="r" b="b"/>
              <a:pathLst>
                <a:path w="1284" h="1774">
                  <a:moveTo>
                    <a:pt x="511" y="0"/>
                  </a:moveTo>
                  <a:lnTo>
                    <a:pt x="445" y="79"/>
                  </a:lnTo>
                  <a:lnTo>
                    <a:pt x="445" y="308"/>
                  </a:lnTo>
                  <a:lnTo>
                    <a:pt x="511" y="477"/>
                  </a:lnTo>
                  <a:lnTo>
                    <a:pt x="590" y="561"/>
                  </a:lnTo>
                  <a:lnTo>
                    <a:pt x="471" y="675"/>
                  </a:lnTo>
                  <a:lnTo>
                    <a:pt x="321" y="931"/>
                  </a:lnTo>
                  <a:lnTo>
                    <a:pt x="26" y="1342"/>
                  </a:lnTo>
                  <a:lnTo>
                    <a:pt x="0" y="1439"/>
                  </a:lnTo>
                  <a:lnTo>
                    <a:pt x="26" y="1518"/>
                  </a:lnTo>
                  <a:lnTo>
                    <a:pt x="119" y="1518"/>
                  </a:lnTo>
                  <a:lnTo>
                    <a:pt x="194" y="1426"/>
                  </a:lnTo>
                  <a:lnTo>
                    <a:pt x="321" y="1196"/>
                  </a:lnTo>
                  <a:lnTo>
                    <a:pt x="396" y="1099"/>
                  </a:lnTo>
                  <a:lnTo>
                    <a:pt x="445" y="1248"/>
                  </a:lnTo>
                  <a:lnTo>
                    <a:pt x="414" y="1413"/>
                  </a:lnTo>
                  <a:lnTo>
                    <a:pt x="286" y="1646"/>
                  </a:lnTo>
                  <a:lnTo>
                    <a:pt x="321" y="1699"/>
                  </a:lnTo>
                  <a:lnTo>
                    <a:pt x="396" y="1686"/>
                  </a:lnTo>
                  <a:lnTo>
                    <a:pt x="555" y="1563"/>
                  </a:lnTo>
                  <a:lnTo>
                    <a:pt x="684" y="1355"/>
                  </a:lnTo>
                  <a:lnTo>
                    <a:pt x="684" y="1717"/>
                  </a:lnTo>
                  <a:lnTo>
                    <a:pt x="834" y="1774"/>
                  </a:lnTo>
                  <a:lnTo>
                    <a:pt x="927" y="1554"/>
                  </a:lnTo>
                  <a:lnTo>
                    <a:pt x="1006" y="1761"/>
                  </a:lnTo>
                  <a:lnTo>
                    <a:pt x="1068" y="1699"/>
                  </a:lnTo>
                  <a:lnTo>
                    <a:pt x="1099" y="1288"/>
                  </a:lnTo>
                  <a:lnTo>
                    <a:pt x="1284" y="900"/>
                  </a:lnTo>
                  <a:lnTo>
                    <a:pt x="1240" y="675"/>
                  </a:lnTo>
                  <a:lnTo>
                    <a:pt x="1112" y="591"/>
                  </a:lnTo>
                  <a:lnTo>
                    <a:pt x="975" y="605"/>
                  </a:lnTo>
                  <a:lnTo>
                    <a:pt x="927" y="418"/>
                  </a:lnTo>
                  <a:lnTo>
                    <a:pt x="785" y="379"/>
                  </a:lnTo>
                  <a:lnTo>
                    <a:pt x="662" y="321"/>
                  </a:lnTo>
                  <a:lnTo>
                    <a:pt x="590" y="39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7800" y="1384200"/>
              <a:ext cx="136800" cy="309960"/>
            </a:xfrm>
            <a:custGeom>
              <a:avLst/>
              <a:gdLst/>
              <a:ahLst/>
              <a:rect l="0" t="0" r="r" b="b"/>
              <a:pathLst>
                <a:path w="380" h="861">
                  <a:moveTo>
                    <a:pt x="189" y="0"/>
                  </a:moveTo>
                  <a:lnTo>
                    <a:pt x="380" y="225"/>
                  </a:lnTo>
                  <a:lnTo>
                    <a:pt x="287" y="707"/>
                  </a:lnTo>
                  <a:lnTo>
                    <a:pt x="0" y="861"/>
                  </a:lnTo>
                  <a:lnTo>
                    <a:pt x="0" y="618"/>
                  </a:lnTo>
                  <a:lnTo>
                    <a:pt x="114" y="367"/>
                  </a:lnTo>
                  <a:lnTo>
                    <a:pt x="189" y="18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11960" y="1206360"/>
              <a:ext cx="341640" cy="279720"/>
            </a:xfrm>
            <a:custGeom>
              <a:avLst/>
              <a:gdLst/>
              <a:ahLst/>
              <a:rect l="0" t="0" r="r" b="b"/>
              <a:pathLst>
                <a:path w="949" h="777">
                  <a:moveTo>
                    <a:pt x="392" y="0"/>
                  </a:moveTo>
                  <a:lnTo>
                    <a:pt x="392" y="123"/>
                  </a:lnTo>
                  <a:lnTo>
                    <a:pt x="423" y="233"/>
                  </a:lnTo>
                  <a:lnTo>
                    <a:pt x="609" y="419"/>
                  </a:lnTo>
                  <a:lnTo>
                    <a:pt x="949" y="525"/>
                  </a:lnTo>
                  <a:lnTo>
                    <a:pt x="904" y="763"/>
                  </a:lnTo>
                  <a:lnTo>
                    <a:pt x="609" y="777"/>
                  </a:lnTo>
                  <a:lnTo>
                    <a:pt x="180" y="609"/>
                  </a:lnTo>
                  <a:lnTo>
                    <a:pt x="0" y="308"/>
                  </a:lnTo>
                  <a:lnTo>
                    <a:pt x="211" y="17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50200" y="890640"/>
              <a:ext cx="476640" cy="616320"/>
            </a:xfrm>
            <a:custGeom>
              <a:avLst/>
              <a:gdLst/>
              <a:ahLst/>
              <a:rect l="0" t="0" r="r" b="b"/>
              <a:pathLst>
                <a:path w="1324" h="1712">
                  <a:moveTo>
                    <a:pt x="119" y="728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11" y="1257"/>
                  </a:lnTo>
                  <a:lnTo>
                    <a:pt x="224" y="1682"/>
                  </a:lnTo>
                  <a:lnTo>
                    <a:pt x="411" y="1682"/>
                  </a:lnTo>
                  <a:lnTo>
                    <a:pt x="397" y="1324"/>
                  </a:lnTo>
                  <a:lnTo>
                    <a:pt x="534" y="1699"/>
                  </a:lnTo>
                  <a:lnTo>
                    <a:pt x="631" y="1712"/>
                  </a:lnTo>
                  <a:lnTo>
                    <a:pt x="693" y="1589"/>
                  </a:lnTo>
                  <a:lnTo>
                    <a:pt x="710" y="1351"/>
                  </a:lnTo>
                  <a:lnTo>
                    <a:pt x="913" y="1571"/>
                  </a:lnTo>
                  <a:lnTo>
                    <a:pt x="994" y="1558"/>
                  </a:lnTo>
                  <a:lnTo>
                    <a:pt x="975" y="1404"/>
                  </a:lnTo>
                  <a:lnTo>
                    <a:pt x="896" y="1187"/>
                  </a:lnTo>
                  <a:lnTo>
                    <a:pt x="816" y="1046"/>
                  </a:lnTo>
                  <a:lnTo>
                    <a:pt x="847" y="949"/>
                  </a:lnTo>
                  <a:lnTo>
                    <a:pt x="896" y="962"/>
                  </a:lnTo>
                  <a:lnTo>
                    <a:pt x="1082" y="1187"/>
                  </a:lnTo>
                  <a:lnTo>
                    <a:pt x="1280" y="1240"/>
                  </a:lnTo>
                  <a:lnTo>
                    <a:pt x="1324" y="1169"/>
                  </a:lnTo>
                  <a:lnTo>
                    <a:pt x="1298" y="1054"/>
                  </a:lnTo>
                  <a:lnTo>
                    <a:pt x="927" y="710"/>
                  </a:lnTo>
                  <a:lnTo>
                    <a:pt x="631" y="605"/>
                  </a:lnTo>
                  <a:lnTo>
                    <a:pt x="596" y="410"/>
                  </a:lnTo>
                  <a:lnTo>
                    <a:pt x="693" y="238"/>
                  </a:lnTo>
                  <a:lnTo>
                    <a:pt x="693" y="52"/>
                  </a:lnTo>
                  <a:lnTo>
                    <a:pt x="613" y="0"/>
                  </a:lnTo>
                  <a:lnTo>
                    <a:pt x="397" y="464"/>
                  </a:lnTo>
                  <a:lnTo>
                    <a:pt x="211" y="534"/>
                  </a:lnTo>
                  <a:lnTo>
                    <a:pt x="163" y="662"/>
                  </a:lnTo>
                  <a:lnTo>
                    <a:pt x="119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67560" y="358920"/>
              <a:ext cx="520920" cy="784440"/>
            </a:xfrm>
            <a:custGeom>
              <a:avLst/>
              <a:gdLst/>
              <a:ahLst/>
              <a:rect l="0" t="0" r="r" b="b"/>
              <a:pathLst>
                <a:path w="1447" h="2179">
                  <a:moveTo>
                    <a:pt x="361" y="299"/>
                  </a:moveTo>
                  <a:lnTo>
                    <a:pt x="255" y="718"/>
                  </a:lnTo>
                  <a:lnTo>
                    <a:pt x="13" y="802"/>
                  </a:lnTo>
                  <a:lnTo>
                    <a:pt x="79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4" y="1306"/>
                  </a:lnTo>
                  <a:lnTo>
                    <a:pt x="224" y="1306"/>
                  </a:lnTo>
                  <a:lnTo>
                    <a:pt x="299" y="1791"/>
                  </a:lnTo>
                  <a:lnTo>
                    <a:pt x="392" y="1998"/>
                  </a:lnTo>
                  <a:lnTo>
                    <a:pt x="687" y="2179"/>
                  </a:lnTo>
                  <a:lnTo>
                    <a:pt x="984" y="2152"/>
                  </a:lnTo>
                  <a:lnTo>
                    <a:pt x="1125" y="1791"/>
                  </a:lnTo>
                  <a:lnTo>
                    <a:pt x="1156" y="1240"/>
                  </a:lnTo>
                  <a:lnTo>
                    <a:pt x="1447" y="965"/>
                  </a:lnTo>
                  <a:lnTo>
                    <a:pt x="1434" y="855"/>
                  </a:lnTo>
                  <a:lnTo>
                    <a:pt x="1398" y="802"/>
                  </a:lnTo>
                  <a:lnTo>
                    <a:pt x="1248" y="789"/>
                  </a:lnTo>
                  <a:lnTo>
                    <a:pt x="1297" y="648"/>
                  </a:lnTo>
                  <a:lnTo>
                    <a:pt x="1143" y="551"/>
                  </a:lnTo>
                  <a:lnTo>
                    <a:pt x="1076" y="238"/>
                  </a:lnTo>
                  <a:lnTo>
                    <a:pt x="626" y="0"/>
                  </a:lnTo>
                  <a:lnTo>
                    <a:pt x="392" y="224"/>
                  </a:lnTo>
                  <a:lnTo>
                    <a:pt x="361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05720" y="1014480"/>
              <a:ext cx="476640" cy="937080"/>
            </a:xfrm>
            <a:custGeom>
              <a:avLst/>
              <a:gdLst/>
              <a:ahLst/>
              <a:rect l="0" t="0" r="r" b="b"/>
              <a:pathLst>
                <a:path w="1324" h="2603">
                  <a:moveTo>
                    <a:pt x="273" y="136"/>
                  </a:moveTo>
                  <a:lnTo>
                    <a:pt x="459" y="260"/>
                  </a:lnTo>
                  <a:lnTo>
                    <a:pt x="552" y="401"/>
                  </a:lnTo>
                  <a:lnTo>
                    <a:pt x="1082" y="0"/>
                  </a:lnTo>
                  <a:lnTo>
                    <a:pt x="1249" y="83"/>
                  </a:lnTo>
                  <a:lnTo>
                    <a:pt x="1324" y="493"/>
                  </a:lnTo>
                  <a:lnTo>
                    <a:pt x="940" y="1689"/>
                  </a:lnTo>
                  <a:lnTo>
                    <a:pt x="1064" y="2352"/>
                  </a:lnTo>
                  <a:lnTo>
                    <a:pt x="565" y="2603"/>
                  </a:lnTo>
                  <a:lnTo>
                    <a:pt x="176" y="2462"/>
                  </a:lnTo>
                  <a:lnTo>
                    <a:pt x="176" y="1760"/>
                  </a:lnTo>
                  <a:lnTo>
                    <a:pt x="0" y="1081"/>
                  </a:lnTo>
                  <a:lnTo>
                    <a:pt x="176" y="260"/>
                  </a:lnTo>
                  <a:lnTo>
                    <a:pt x="273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6240" y="254160"/>
              <a:ext cx="444960" cy="248040"/>
            </a:xfrm>
            <a:custGeom>
              <a:avLst/>
              <a:gdLst/>
              <a:ahLst/>
              <a:rect l="0" t="0" r="r" b="b"/>
              <a:pathLst>
                <a:path w="1236" h="689">
                  <a:moveTo>
                    <a:pt x="154" y="659"/>
                  </a:moveTo>
                  <a:lnTo>
                    <a:pt x="336" y="472"/>
                  </a:lnTo>
                  <a:lnTo>
                    <a:pt x="450" y="446"/>
                  </a:lnTo>
                  <a:lnTo>
                    <a:pt x="450" y="464"/>
                  </a:lnTo>
                  <a:lnTo>
                    <a:pt x="508" y="446"/>
                  </a:lnTo>
                  <a:lnTo>
                    <a:pt x="583" y="503"/>
                  </a:lnTo>
                  <a:lnTo>
                    <a:pt x="728" y="531"/>
                  </a:lnTo>
                  <a:lnTo>
                    <a:pt x="847" y="689"/>
                  </a:lnTo>
                  <a:lnTo>
                    <a:pt x="1042" y="619"/>
                  </a:lnTo>
                  <a:lnTo>
                    <a:pt x="1042" y="544"/>
                  </a:lnTo>
                  <a:lnTo>
                    <a:pt x="1236" y="464"/>
                  </a:lnTo>
                  <a:lnTo>
                    <a:pt x="1179" y="331"/>
                  </a:lnTo>
                  <a:lnTo>
                    <a:pt x="994" y="322"/>
                  </a:lnTo>
                  <a:lnTo>
                    <a:pt x="1025" y="181"/>
                  </a:lnTo>
                  <a:lnTo>
                    <a:pt x="865" y="195"/>
                  </a:lnTo>
                  <a:lnTo>
                    <a:pt x="838" y="97"/>
                  </a:lnTo>
                  <a:lnTo>
                    <a:pt x="728" y="97"/>
                  </a:lnTo>
                  <a:lnTo>
                    <a:pt x="653" y="154"/>
                  </a:lnTo>
                  <a:lnTo>
                    <a:pt x="583" y="154"/>
                  </a:lnTo>
                  <a:lnTo>
                    <a:pt x="600" y="0"/>
                  </a:lnTo>
                  <a:lnTo>
                    <a:pt x="450" y="70"/>
                  </a:lnTo>
                  <a:lnTo>
                    <a:pt x="242" y="322"/>
                  </a:lnTo>
                  <a:lnTo>
                    <a:pt x="233" y="154"/>
                  </a:lnTo>
                  <a:lnTo>
                    <a:pt x="123" y="234"/>
                  </a:lnTo>
                  <a:lnTo>
                    <a:pt x="92" y="446"/>
                  </a:lnTo>
                  <a:lnTo>
                    <a:pt x="0" y="406"/>
                  </a:lnTo>
                  <a:lnTo>
                    <a:pt x="13" y="544"/>
                  </a:lnTo>
                  <a:lnTo>
                    <a:pt x="154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46840" y="1187280"/>
              <a:ext cx="141480" cy="709920"/>
            </a:xfrm>
            <a:custGeom>
              <a:avLst/>
              <a:gdLst/>
              <a:ahLst/>
              <a:rect l="0" t="0" r="r" b="b"/>
              <a:pathLst>
                <a:path w="393" h="1972">
                  <a:moveTo>
                    <a:pt x="203" y="13"/>
                  </a:moveTo>
                  <a:lnTo>
                    <a:pt x="70" y="97"/>
                  </a:lnTo>
                  <a:lnTo>
                    <a:pt x="70" y="264"/>
                  </a:lnTo>
                  <a:lnTo>
                    <a:pt x="163" y="317"/>
                  </a:lnTo>
                  <a:lnTo>
                    <a:pt x="35" y="582"/>
                  </a:lnTo>
                  <a:lnTo>
                    <a:pt x="0" y="926"/>
                  </a:lnTo>
                  <a:lnTo>
                    <a:pt x="97" y="1381"/>
                  </a:lnTo>
                  <a:lnTo>
                    <a:pt x="97" y="1570"/>
                  </a:lnTo>
                  <a:lnTo>
                    <a:pt x="48" y="1716"/>
                  </a:lnTo>
                  <a:lnTo>
                    <a:pt x="247" y="1972"/>
                  </a:lnTo>
                  <a:lnTo>
                    <a:pt x="380" y="1588"/>
                  </a:lnTo>
                  <a:lnTo>
                    <a:pt x="380" y="1323"/>
                  </a:lnTo>
                  <a:lnTo>
                    <a:pt x="283" y="1076"/>
                  </a:lnTo>
                  <a:lnTo>
                    <a:pt x="234" y="745"/>
                  </a:lnTo>
                  <a:lnTo>
                    <a:pt x="331" y="418"/>
                  </a:lnTo>
                  <a:lnTo>
                    <a:pt x="300" y="291"/>
                  </a:lnTo>
                  <a:lnTo>
                    <a:pt x="393" y="224"/>
                  </a:lnTo>
                  <a:lnTo>
                    <a:pt x="380" y="136"/>
                  </a:lnTo>
                  <a:lnTo>
                    <a:pt x="265" y="0"/>
                  </a:lnTo>
                  <a:lnTo>
                    <a:pt x="20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42160" y="949320"/>
              <a:ext cx="114840" cy="65520"/>
            </a:xfrm>
            <a:custGeom>
              <a:avLst/>
              <a:gdLst/>
              <a:ahLst/>
              <a:rect l="0" t="0" r="r" b="b"/>
              <a:pathLst>
                <a:path w="319" h="182">
                  <a:moveTo>
                    <a:pt x="0" y="58"/>
                  </a:moveTo>
                  <a:lnTo>
                    <a:pt x="128" y="182"/>
                  </a:lnTo>
                  <a:lnTo>
                    <a:pt x="253" y="169"/>
                  </a:lnTo>
                  <a:lnTo>
                    <a:pt x="319" y="17"/>
                  </a:lnTo>
                  <a:lnTo>
                    <a:pt x="177" y="0"/>
                  </a:lnTo>
                  <a:lnTo>
                    <a:pt x="30" y="17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16880" y="622440"/>
              <a:ext cx="141480" cy="138600"/>
            </a:xfrm>
            <a:custGeom>
              <a:avLst/>
              <a:gdLst/>
              <a:ahLst/>
              <a:rect l="0" t="0" r="r" b="b"/>
              <a:pathLst>
                <a:path w="393" h="385">
                  <a:moveTo>
                    <a:pt x="0" y="44"/>
                  </a:moveTo>
                  <a:lnTo>
                    <a:pt x="269" y="385"/>
                  </a:lnTo>
                  <a:lnTo>
                    <a:pt x="393" y="359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66000" y="592200"/>
              <a:ext cx="122760" cy="138600"/>
            </a:xfrm>
            <a:custGeom>
              <a:avLst/>
              <a:gdLst/>
              <a:ahLst/>
              <a:rect l="0" t="0" r="r" b="b"/>
              <a:pathLst>
                <a:path w="341" h="385">
                  <a:moveTo>
                    <a:pt x="0" y="52"/>
                  </a:moveTo>
                  <a:lnTo>
                    <a:pt x="234" y="385"/>
                  </a:lnTo>
                  <a:lnTo>
                    <a:pt x="341" y="301"/>
                  </a:lnTo>
                  <a:lnTo>
                    <a:pt x="9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64320" y="412920"/>
              <a:ext cx="495720" cy="348120"/>
            </a:xfrm>
            <a:custGeom>
              <a:avLst/>
              <a:gdLst/>
              <a:ahLst/>
              <a:rect l="0" t="0" r="r" b="b"/>
              <a:pathLst>
                <a:path w="1377" h="967">
                  <a:moveTo>
                    <a:pt x="631" y="574"/>
                  </a:moveTo>
                  <a:lnTo>
                    <a:pt x="508" y="538"/>
                  </a:lnTo>
                  <a:lnTo>
                    <a:pt x="613" y="450"/>
                  </a:lnTo>
                  <a:lnTo>
                    <a:pt x="574" y="406"/>
                  </a:lnTo>
                  <a:lnTo>
                    <a:pt x="433" y="521"/>
                  </a:lnTo>
                  <a:lnTo>
                    <a:pt x="171" y="547"/>
                  </a:lnTo>
                  <a:lnTo>
                    <a:pt x="0" y="556"/>
                  </a:lnTo>
                  <a:lnTo>
                    <a:pt x="0" y="688"/>
                  </a:lnTo>
                  <a:lnTo>
                    <a:pt x="167" y="958"/>
                  </a:lnTo>
                  <a:lnTo>
                    <a:pt x="207" y="967"/>
                  </a:lnTo>
                  <a:lnTo>
                    <a:pt x="57" y="666"/>
                  </a:lnTo>
                  <a:lnTo>
                    <a:pt x="286" y="574"/>
                  </a:lnTo>
                  <a:lnTo>
                    <a:pt x="433" y="574"/>
                  </a:lnTo>
                  <a:lnTo>
                    <a:pt x="547" y="631"/>
                  </a:lnTo>
                  <a:lnTo>
                    <a:pt x="574" y="715"/>
                  </a:lnTo>
                  <a:lnTo>
                    <a:pt x="574" y="901"/>
                  </a:lnTo>
                  <a:lnTo>
                    <a:pt x="574" y="958"/>
                  </a:lnTo>
                  <a:lnTo>
                    <a:pt x="640" y="875"/>
                  </a:lnTo>
                  <a:lnTo>
                    <a:pt x="640" y="680"/>
                  </a:lnTo>
                  <a:lnTo>
                    <a:pt x="737" y="680"/>
                  </a:lnTo>
                  <a:lnTo>
                    <a:pt x="785" y="901"/>
                  </a:lnTo>
                  <a:lnTo>
                    <a:pt x="838" y="919"/>
                  </a:lnTo>
                  <a:lnTo>
                    <a:pt x="1006" y="919"/>
                  </a:lnTo>
                  <a:lnTo>
                    <a:pt x="1174" y="883"/>
                  </a:lnTo>
                  <a:lnTo>
                    <a:pt x="1294" y="800"/>
                  </a:lnTo>
                  <a:lnTo>
                    <a:pt x="1311" y="600"/>
                  </a:lnTo>
                  <a:lnTo>
                    <a:pt x="1377" y="521"/>
                  </a:lnTo>
                  <a:lnTo>
                    <a:pt x="1338" y="468"/>
                  </a:lnTo>
                  <a:lnTo>
                    <a:pt x="1188" y="415"/>
                  </a:lnTo>
                  <a:lnTo>
                    <a:pt x="1161" y="216"/>
                  </a:lnTo>
                  <a:lnTo>
                    <a:pt x="1015" y="216"/>
                  </a:lnTo>
                  <a:lnTo>
                    <a:pt x="847" y="0"/>
                  </a:lnTo>
                  <a:lnTo>
                    <a:pt x="1002" y="238"/>
                  </a:lnTo>
                  <a:lnTo>
                    <a:pt x="1051" y="238"/>
                  </a:lnTo>
                  <a:lnTo>
                    <a:pt x="1086" y="406"/>
                  </a:lnTo>
                  <a:lnTo>
                    <a:pt x="891" y="468"/>
                  </a:lnTo>
                  <a:lnTo>
                    <a:pt x="750" y="419"/>
                  </a:lnTo>
                  <a:lnTo>
                    <a:pt x="728" y="468"/>
                  </a:lnTo>
                  <a:lnTo>
                    <a:pt x="803" y="521"/>
                  </a:lnTo>
                  <a:lnTo>
                    <a:pt x="803" y="565"/>
                  </a:lnTo>
                  <a:lnTo>
                    <a:pt x="971" y="490"/>
                  </a:lnTo>
                  <a:lnTo>
                    <a:pt x="1108" y="481"/>
                  </a:lnTo>
                  <a:lnTo>
                    <a:pt x="1263" y="499"/>
                  </a:lnTo>
                  <a:lnTo>
                    <a:pt x="1263" y="525"/>
                  </a:lnTo>
                  <a:lnTo>
                    <a:pt x="1192" y="591"/>
                  </a:lnTo>
                  <a:lnTo>
                    <a:pt x="1161" y="680"/>
                  </a:lnTo>
                  <a:lnTo>
                    <a:pt x="1152" y="800"/>
                  </a:lnTo>
                  <a:lnTo>
                    <a:pt x="1064" y="844"/>
                  </a:lnTo>
                  <a:lnTo>
                    <a:pt x="931" y="861"/>
                  </a:lnTo>
                  <a:lnTo>
                    <a:pt x="838" y="861"/>
                  </a:lnTo>
                  <a:lnTo>
                    <a:pt x="807" y="826"/>
                  </a:lnTo>
                  <a:lnTo>
                    <a:pt x="785" y="600"/>
                  </a:lnTo>
                  <a:lnTo>
                    <a:pt x="640" y="600"/>
                  </a:lnTo>
                  <a:lnTo>
                    <a:pt x="63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34240" y="814320"/>
              <a:ext cx="160560" cy="70200"/>
            </a:xfrm>
            <a:custGeom>
              <a:avLst/>
              <a:gdLst/>
              <a:ahLst/>
              <a:rect l="0" t="0" r="r" b="b"/>
              <a:pathLst>
                <a:path w="446" h="195">
                  <a:moveTo>
                    <a:pt x="0" y="0"/>
                  </a:moveTo>
                  <a:lnTo>
                    <a:pt x="70" y="88"/>
                  </a:lnTo>
                  <a:lnTo>
                    <a:pt x="265" y="88"/>
                  </a:lnTo>
                  <a:lnTo>
                    <a:pt x="344" y="26"/>
                  </a:lnTo>
                  <a:lnTo>
                    <a:pt x="446" y="26"/>
                  </a:lnTo>
                  <a:lnTo>
                    <a:pt x="428" y="57"/>
                  </a:lnTo>
                  <a:lnTo>
                    <a:pt x="428" y="88"/>
                  </a:lnTo>
                  <a:lnTo>
                    <a:pt x="247" y="195"/>
                  </a:lnTo>
                  <a:lnTo>
                    <a:pt x="149" y="195"/>
                  </a:lnTo>
                  <a:lnTo>
                    <a:pt x="92" y="155"/>
                  </a:lnTo>
                  <a:lnTo>
                    <a:pt x="39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56400" y="700200"/>
              <a:ext cx="241560" cy="373320"/>
            </a:xfrm>
            <a:custGeom>
              <a:avLst/>
              <a:gdLst/>
              <a:ahLst/>
              <a:rect l="0" t="0" r="r" b="b"/>
              <a:pathLst>
                <a:path w="671" h="1037">
                  <a:moveTo>
                    <a:pt x="671" y="74"/>
                  </a:moveTo>
                  <a:lnTo>
                    <a:pt x="671" y="88"/>
                  </a:lnTo>
                  <a:lnTo>
                    <a:pt x="552" y="194"/>
                  </a:lnTo>
                  <a:lnTo>
                    <a:pt x="455" y="216"/>
                  </a:lnTo>
                  <a:lnTo>
                    <a:pt x="268" y="189"/>
                  </a:lnTo>
                  <a:lnTo>
                    <a:pt x="304" y="561"/>
                  </a:lnTo>
                  <a:lnTo>
                    <a:pt x="349" y="869"/>
                  </a:lnTo>
                  <a:lnTo>
                    <a:pt x="428" y="1037"/>
                  </a:lnTo>
                  <a:lnTo>
                    <a:pt x="349" y="918"/>
                  </a:lnTo>
                  <a:lnTo>
                    <a:pt x="313" y="785"/>
                  </a:lnTo>
                  <a:lnTo>
                    <a:pt x="260" y="436"/>
                  </a:lnTo>
                  <a:lnTo>
                    <a:pt x="207" y="458"/>
                  </a:lnTo>
                  <a:lnTo>
                    <a:pt x="141" y="418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1"/>
                  </a:lnTo>
                  <a:lnTo>
                    <a:pt x="30" y="17"/>
                  </a:lnTo>
                  <a:lnTo>
                    <a:pt x="105" y="0"/>
                  </a:lnTo>
                  <a:lnTo>
                    <a:pt x="114" y="26"/>
                  </a:lnTo>
                  <a:lnTo>
                    <a:pt x="52" y="48"/>
                  </a:lnTo>
                  <a:lnTo>
                    <a:pt x="39" y="123"/>
                  </a:lnTo>
                  <a:lnTo>
                    <a:pt x="48" y="224"/>
                  </a:lnTo>
                  <a:lnTo>
                    <a:pt x="132" y="308"/>
                  </a:lnTo>
                  <a:lnTo>
                    <a:pt x="171" y="291"/>
                  </a:lnTo>
                  <a:lnTo>
                    <a:pt x="171" y="101"/>
                  </a:lnTo>
                  <a:lnTo>
                    <a:pt x="251" y="141"/>
                  </a:lnTo>
                  <a:lnTo>
                    <a:pt x="375" y="167"/>
                  </a:lnTo>
                  <a:lnTo>
                    <a:pt x="486" y="158"/>
                  </a:lnTo>
                  <a:lnTo>
                    <a:pt x="596" y="101"/>
                  </a:lnTo>
                  <a:lnTo>
                    <a:pt x="671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560" y="403200"/>
              <a:ext cx="73440" cy="198720"/>
            </a:xfrm>
            <a:custGeom>
              <a:avLst/>
              <a:gdLst/>
              <a:ahLst/>
              <a:rect l="0" t="0" r="r" b="b"/>
              <a:pathLst>
                <a:path w="204" h="552">
                  <a:moveTo>
                    <a:pt x="106" y="552"/>
                  </a:moveTo>
                  <a:lnTo>
                    <a:pt x="204" y="224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1" y="189"/>
                  </a:lnTo>
                  <a:lnTo>
                    <a:pt x="80" y="353"/>
                  </a:lnTo>
                  <a:lnTo>
                    <a:pt x="124" y="419"/>
                  </a:lnTo>
                  <a:lnTo>
                    <a:pt x="106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18320" y="228600"/>
              <a:ext cx="545040" cy="262440"/>
            </a:xfrm>
            <a:custGeom>
              <a:avLst/>
              <a:gdLst/>
              <a:ahLst/>
              <a:rect l="0" t="0" r="r" b="b"/>
              <a:pathLst>
                <a:path w="1514" h="729">
                  <a:moveTo>
                    <a:pt x="13" y="494"/>
                  </a:moveTo>
                  <a:lnTo>
                    <a:pt x="145" y="570"/>
                  </a:lnTo>
                  <a:lnTo>
                    <a:pt x="132" y="472"/>
                  </a:lnTo>
                  <a:lnTo>
                    <a:pt x="154" y="309"/>
                  </a:lnTo>
                  <a:lnTo>
                    <a:pt x="242" y="274"/>
                  </a:lnTo>
                  <a:lnTo>
                    <a:pt x="251" y="450"/>
                  </a:lnTo>
                  <a:lnTo>
                    <a:pt x="508" y="141"/>
                  </a:lnTo>
                  <a:lnTo>
                    <a:pt x="569" y="123"/>
                  </a:lnTo>
                  <a:lnTo>
                    <a:pt x="521" y="243"/>
                  </a:lnTo>
                  <a:lnTo>
                    <a:pt x="680" y="300"/>
                  </a:lnTo>
                  <a:lnTo>
                    <a:pt x="799" y="180"/>
                  </a:lnTo>
                  <a:lnTo>
                    <a:pt x="860" y="217"/>
                  </a:lnTo>
                  <a:lnTo>
                    <a:pt x="803" y="322"/>
                  </a:lnTo>
                  <a:lnTo>
                    <a:pt x="882" y="261"/>
                  </a:lnTo>
                  <a:lnTo>
                    <a:pt x="993" y="309"/>
                  </a:lnTo>
                  <a:lnTo>
                    <a:pt x="900" y="397"/>
                  </a:lnTo>
                  <a:lnTo>
                    <a:pt x="1214" y="450"/>
                  </a:lnTo>
                  <a:lnTo>
                    <a:pt x="1002" y="512"/>
                  </a:lnTo>
                  <a:lnTo>
                    <a:pt x="1267" y="548"/>
                  </a:lnTo>
                  <a:lnTo>
                    <a:pt x="957" y="619"/>
                  </a:lnTo>
                  <a:lnTo>
                    <a:pt x="1024" y="676"/>
                  </a:lnTo>
                  <a:lnTo>
                    <a:pt x="931" y="729"/>
                  </a:lnTo>
                  <a:lnTo>
                    <a:pt x="1090" y="729"/>
                  </a:lnTo>
                  <a:lnTo>
                    <a:pt x="1076" y="685"/>
                  </a:lnTo>
                  <a:lnTo>
                    <a:pt x="1241" y="725"/>
                  </a:lnTo>
                  <a:lnTo>
                    <a:pt x="1214" y="610"/>
                  </a:lnTo>
                  <a:lnTo>
                    <a:pt x="1369" y="557"/>
                  </a:lnTo>
                  <a:lnTo>
                    <a:pt x="1258" y="503"/>
                  </a:lnTo>
                  <a:lnTo>
                    <a:pt x="1514" y="486"/>
                  </a:lnTo>
                  <a:lnTo>
                    <a:pt x="1294" y="367"/>
                  </a:lnTo>
                  <a:lnTo>
                    <a:pt x="1041" y="340"/>
                  </a:lnTo>
                  <a:lnTo>
                    <a:pt x="1241" y="225"/>
                  </a:lnTo>
                  <a:lnTo>
                    <a:pt x="882" y="225"/>
                  </a:lnTo>
                  <a:lnTo>
                    <a:pt x="1050" y="110"/>
                  </a:lnTo>
                  <a:lnTo>
                    <a:pt x="790" y="141"/>
                  </a:lnTo>
                  <a:lnTo>
                    <a:pt x="666" y="195"/>
                  </a:lnTo>
                  <a:lnTo>
                    <a:pt x="772" y="0"/>
                  </a:lnTo>
                  <a:lnTo>
                    <a:pt x="455" y="110"/>
                  </a:lnTo>
                  <a:lnTo>
                    <a:pt x="282" y="349"/>
                  </a:lnTo>
                  <a:lnTo>
                    <a:pt x="251" y="217"/>
                  </a:lnTo>
                  <a:lnTo>
                    <a:pt x="110" y="309"/>
                  </a:lnTo>
                  <a:lnTo>
                    <a:pt x="92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37480" y="368280"/>
              <a:ext cx="154440" cy="79560"/>
            </a:xfrm>
            <a:custGeom>
              <a:avLst/>
              <a:gdLst/>
              <a:ahLst/>
              <a:rect l="0" t="0" r="r" b="b"/>
              <a:pathLst>
                <a:path w="429" h="221">
                  <a:moveTo>
                    <a:pt x="0" y="221"/>
                  </a:moveTo>
                  <a:lnTo>
                    <a:pt x="159" y="0"/>
                  </a:lnTo>
                  <a:lnTo>
                    <a:pt x="159" y="146"/>
                  </a:lnTo>
                  <a:lnTo>
                    <a:pt x="217" y="88"/>
                  </a:lnTo>
                  <a:lnTo>
                    <a:pt x="269" y="168"/>
                  </a:lnTo>
                  <a:lnTo>
                    <a:pt x="429" y="208"/>
                  </a:lnTo>
                  <a:lnTo>
                    <a:pt x="256" y="181"/>
                  </a:lnTo>
                  <a:lnTo>
                    <a:pt x="208" y="128"/>
                  </a:lnTo>
                  <a:lnTo>
                    <a:pt x="133" y="181"/>
                  </a:lnTo>
                  <a:lnTo>
                    <a:pt x="133" y="115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23080" y="905040"/>
              <a:ext cx="184680" cy="117720"/>
            </a:xfrm>
            <a:custGeom>
              <a:avLst/>
              <a:gdLst/>
              <a:ahLst/>
              <a:rect l="0" t="0" r="r" b="b"/>
              <a:pathLst>
                <a:path w="513" h="327">
                  <a:moveTo>
                    <a:pt x="97" y="114"/>
                  </a:moveTo>
                  <a:lnTo>
                    <a:pt x="309" y="97"/>
                  </a:lnTo>
                  <a:lnTo>
                    <a:pt x="407" y="123"/>
                  </a:lnTo>
                  <a:lnTo>
                    <a:pt x="460" y="74"/>
                  </a:lnTo>
                  <a:lnTo>
                    <a:pt x="513" y="181"/>
                  </a:lnTo>
                  <a:lnTo>
                    <a:pt x="478" y="203"/>
                  </a:lnTo>
                  <a:lnTo>
                    <a:pt x="434" y="164"/>
                  </a:lnTo>
                  <a:lnTo>
                    <a:pt x="367" y="239"/>
                  </a:lnTo>
                  <a:lnTo>
                    <a:pt x="239" y="327"/>
                  </a:lnTo>
                  <a:lnTo>
                    <a:pt x="181" y="327"/>
                  </a:lnTo>
                  <a:lnTo>
                    <a:pt x="97" y="278"/>
                  </a:lnTo>
                  <a:lnTo>
                    <a:pt x="190" y="318"/>
                  </a:lnTo>
                  <a:lnTo>
                    <a:pt x="230" y="318"/>
                  </a:lnTo>
                  <a:lnTo>
                    <a:pt x="309" y="261"/>
                  </a:lnTo>
                  <a:lnTo>
                    <a:pt x="362" y="149"/>
                  </a:lnTo>
                  <a:lnTo>
                    <a:pt x="278" y="132"/>
                  </a:lnTo>
                  <a:lnTo>
                    <a:pt x="225" y="123"/>
                  </a:lnTo>
                  <a:lnTo>
                    <a:pt x="88" y="141"/>
                  </a:lnTo>
                  <a:lnTo>
                    <a:pt x="83" y="230"/>
                  </a:lnTo>
                  <a:lnTo>
                    <a:pt x="39" y="172"/>
                  </a:lnTo>
                  <a:lnTo>
                    <a:pt x="0" y="247"/>
                  </a:lnTo>
                  <a:lnTo>
                    <a:pt x="4" y="88"/>
                  </a:lnTo>
                  <a:lnTo>
                    <a:pt x="52" y="0"/>
                  </a:lnTo>
                  <a:lnTo>
                    <a:pt x="97" y="88"/>
                  </a:lnTo>
                  <a:lnTo>
                    <a:pt x="97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99320" y="650880"/>
              <a:ext cx="395640" cy="541800"/>
            </a:xfrm>
            <a:custGeom>
              <a:avLst/>
              <a:gdLst/>
              <a:ahLst/>
              <a:rect l="0" t="0" r="r" b="b"/>
              <a:pathLst>
                <a:path w="1099" h="1505">
                  <a:moveTo>
                    <a:pt x="927" y="0"/>
                  </a:moveTo>
                  <a:lnTo>
                    <a:pt x="1032" y="0"/>
                  </a:lnTo>
                  <a:lnTo>
                    <a:pt x="1099" y="74"/>
                  </a:lnTo>
                  <a:lnTo>
                    <a:pt x="1099" y="154"/>
                  </a:lnTo>
                  <a:lnTo>
                    <a:pt x="1010" y="393"/>
                  </a:lnTo>
                  <a:lnTo>
                    <a:pt x="918" y="503"/>
                  </a:lnTo>
                  <a:lnTo>
                    <a:pt x="825" y="521"/>
                  </a:lnTo>
                  <a:lnTo>
                    <a:pt x="799" y="521"/>
                  </a:lnTo>
                  <a:lnTo>
                    <a:pt x="799" y="816"/>
                  </a:lnTo>
                  <a:lnTo>
                    <a:pt x="843" y="1032"/>
                  </a:lnTo>
                  <a:lnTo>
                    <a:pt x="843" y="1210"/>
                  </a:lnTo>
                  <a:lnTo>
                    <a:pt x="675" y="1386"/>
                  </a:lnTo>
                  <a:lnTo>
                    <a:pt x="449" y="1505"/>
                  </a:lnTo>
                  <a:lnTo>
                    <a:pt x="304" y="1505"/>
                  </a:lnTo>
                  <a:lnTo>
                    <a:pt x="229" y="1470"/>
                  </a:lnTo>
                  <a:lnTo>
                    <a:pt x="132" y="1263"/>
                  </a:lnTo>
                  <a:lnTo>
                    <a:pt x="35" y="1188"/>
                  </a:lnTo>
                  <a:lnTo>
                    <a:pt x="0" y="1135"/>
                  </a:lnTo>
                  <a:lnTo>
                    <a:pt x="123" y="1210"/>
                  </a:lnTo>
                  <a:lnTo>
                    <a:pt x="211" y="1285"/>
                  </a:lnTo>
                  <a:lnTo>
                    <a:pt x="388" y="1294"/>
                  </a:lnTo>
                  <a:lnTo>
                    <a:pt x="546" y="1219"/>
                  </a:lnTo>
                  <a:lnTo>
                    <a:pt x="631" y="1135"/>
                  </a:lnTo>
                  <a:lnTo>
                    <a:pt x="719" y="979"/>
                  </a:lnTo>
                  <a:lnTo>
                    <a:pt x="733" y="803"/>
                  </a:lnTo>
                  <a:lnTo>
                    <a:pt x="768" y="224"/>
                  </a:lnTo>
                  <a:lnTo>
                    <a:pt x="807" y="304"/>
                  </a:lnTo>
                  <a:lnTo>
                    <a:pt x="913" y="198"/>
                  </a:lnTo>
                  <a:lnTo>
                    <a:pt x="1028" y="154"/>
                  </a:lnTo>
                  <a:lnTo>
                    <a:pt x="1054" y="92"/>
                  </a:lnTo>
                  <a:lnTo>
                    <a:pt x="1041" y="35"/>
                  </a:lnTo>
                  <a:lnTo>
                    <a:pt x="993" y="8"/>
                  </a:lnTo>
                  <a:lnTo>
                    <a:pt x="9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86600" y="1117440"/>
              <a:ext cx="319320" cy="503640"/>
            </a:xfrm>
            <a:custGeom>
              <a:avLst/>
              <a:gdLst/>
              <a:ahLst/>
              <a:rect l="0" t="0" r="r" b="b"/>
              <a:pathLst>
                <a:path w="887" h="1399">
                  <a:moveTo>
                    <a:pt x="110" y="0"/>
                  </a:moveTo>
                  <a:lnTo>
                    <a:pt x="211" y="61"/>
                  </a:lnTo>
                  <a:lnTo>
                    <a:pt x="291" y="348"/>
                  </a:lnTo>
                  <a:lnTo>
                    <a:pt x="516" y="415"/>
                  </a:lnTo>
                  <a:lnTo>
                    <a:pt x="583" y="486"/>
                  </a:lnTo>
                  <a:lnTo>
                    <a:pt x="596" y="596"/>
                  </a:lnTo>
                  <a:lnTo>
                    <a:pt x="706" y="578"/>
                  </a:lnTo>
                  <a:lnTo>
                    <a:pt x="843" y="666"/>
                  </a:lnTo>
                  <a:lnTo>
                    <a:pt x="887" y="781"/>
                  </a:lnTo>
                  <a:lnTo>
                    <a:pt x="887" y="979"/>
                  </a:lnTo>
                  <a:lnTo>
                    <a:pt x="706" y="1276"/>
                  </a:lnTo>
                  <a:lnTo>
                    <a:pt x="644" y="1399"/>
                  </a:lnTo>
                  <a:lnTo>
                    <a:pt x="680" y="1241"/>
                  </a:lnTo>
                  <a:lnTo>
                    <a:pt x="644" y="1174"/>
                  </a:lnTo>
                  <a:lnTo>
                    <a:pt x="538" y="1073"/>
                  </a:lnTo>
                  <a:lnTo>
                    <a:pt x="361" y="953"/>
                  </a:lnTo>
                  <a:lnTo>
                    <a:pt x="574" y="1024"/>
                  </a:lnTo>
                  <a:lnTo>
                    <a:pt x="697" y="1113"/>
                  </a:lnTo>
                  <a:lnTo>
                    <a:pt x="759" y="1100"/>
                  </a:lnTo>
                  <a:lnTo>
                    <a:pt x="799" y="1051"/>
                  </a:lnTo>
                  <a:lnTo>
                    <a:pt x="843" y="909"/>
                  </a:lnTo>
                  <a:lnTo>
                    <a:pt x="830" y="772"/>
                  </a:lnTo>
                  <a:lnTo>
                    <a:pt x="763" y="693"/>
                  </a:lnTo>
                  <a:lnTo>
                    <a:pt x="658" y="666"/>
                  </a:lnTo>
                  <a:lnTo>
                    <a:pt x="538" y="666"/>
                  </a:lnTo>
                  <a:lnTo>
                    <a:pt x="494" y="459"/>
                  </a:lnTo>
                  <a:lnTo>
                    <a:pt x="299" y="389"/>
                  </a:lnTo>
                  <a:lnTo>
                    <a:pt x="299" y="450"/>
                  </a:lnTo>
                  <a:lnTo>
                    <a:pt x="211" y="299"/>
                  </a:lnTo>
                  <a:lnTo>
                    <a:pt x="163" y="61"/>
                  </a:lnTo>
                  <a:lnTo>
                    <a:pt x="88" y="39"/>
                  </a:lnTo>
                  <a:lnTo>
                    <a:pt x="44" y="110"/>
                  </a:lnTo>
                  <a:lnTo>
                    <a:pt x="44" y="268"/>
                  </a:lnTo>
                  <a:lnTo>
                    <a:pt x="79" y="450"/>
                  </a:lnTo>
                  <a:lnTo>
                    <a:pt x="185" y="596"/>
                  </a:lnTo>
                  <a:lnTo>
                    <a:pt x="70" y="503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44" y="39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34320" y="1339920"/>
              <a:ext cx="211320" cy="402120"/>
            </a:xfrm>
            <a:custGeom>
              <a:avLst/>
              <a:gdLst/>
              <a:ahLst/>
              <a:rect l="0" t="0" r="r" b="b"/>
              <a:pathLst>
                <a:path w="587" h="1117">
                  <a:moveTo>
                    <a:pt x="587" y="0"/>
                  </a:moveTo>
                  <a:lnTo>
                    <a:pt x="464" y="74"/>
                  </a:lnTo>
                  <a:lnTo>
                    <a:pt x="322" y="344"/>
                  </a:lnTo>
                  <a:lnTo>
                    <a:pt x="185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4" y="941"/>
                  </a:lnTo>
                  <a:lnTo>
                    <a:pt x="224" y="844"/>
                  </a:lnTo>
                  <a:lnTo>
                    <a:pt x="314" y="644"/>
                  </a:lnTo>
                  <a:lnTo>
                    <a:pt x="433" y="521"/>
                  </a:lnTo>
                  <a:lnTo>
                    <a:pt x="433" y="684"/>
                  </a:lnTo>
                  <a:lnTo>
                    <a:pt x="415" y="830"/>
                  </a:lnTo>
                  <a:lnTo>
                    <a:pt x="286" y="1029"/>
                  </a:lnTo>
                  <a:lnTo>
                    <a:pt x="286" y="1091"/>
                  </a:lnTo>
                  <a:lnTo>
                    <a:pt x="415" y="1117"/>
                  </a:lnTo>
                  <a:lnTo>
                    <a:pt x="322" y="1064"/>
                  </a:lnTo>
                  <a:lnTo>
                    <a:pt x="336" y="1029"/>
                  </a:lnTo>
                  <a:lnTo>
                    <a:pt x="424" y="883"/>
                  </a:lnTo>
                  <a:lnTo>
                    <a:pt x="486" y="618"/>
                  </a:lnTo>
                  <a:lnTo>
                    <a:pt x="441" y="472"/>
                  </a:lnTo>
                  <a:lnTo>
                    <a:pt x="349" y="556"/>
                  </a:lnTo>
                  <a:lnTo>
                    <a:pt x="136" y="892"/>
                  </a:lnTo>
                  <a:lnTo>
                    <a:pt x="83" y="901"/>
                  </a:lnTo>
                  <a:lnTo>
                    <a:pt x="30" y="866"/>
                  </a:lnTo>
                  <a:lnTo>
                    <a:pt x="30" y="763"/>
                  </a:lnTo>
                  <a:lnTo>
                    <a:pt x="114" y="631"/>
                  </a:lnTo>
                  <a:lnTo>
                    <a:pt x="349" y="362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9840" y="1566720"/>
              <a:ext cx="130680" cy="192600"/>
            </a:xfrm>
            <a:custGeom>
              <a:avLst/>
              <a:gdLst/>
              <a:ahLst/>
              <a:rect l="0" t="0" r="r" b="b"/>
              <a:pathLst>
                <a:path w="363" h="535">
                  <a:moveTo>
                    <a:pt x="0" y="473"/>
                  </a:moveTo>
                  <a:lnTo>
                    <a:pt x="120" y="336"/>
                  </a:lnTo>
                  <a:lnTo>
                    <a:pt x="142" y="199"/>
                  </a:lnTo>
                  <a:lnTo>
                    <a:pt x="279" y="0"/>
                  </a:lnTo>
                  <a:lnTo>
                    <a:pt x="310" y="132"/>
                  </a:lnTo>
                  <a:lnTo>
                    <a:pt x="293" y="487"/>
                  </a:lnTo>
                  <a:lnTo>
                    <a:pt x="363" y="535"/>
                  </a:lnTo>
                  <a:lnTo>
                    <a:pt x="256" y="495"/>
                  </a:lnTo>
                  <a:lnTo>
                    <a:pt x="203" y="296"/>
                  </a:lnTo>
                  <a:lnTo>
                    <a:pt x="120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50040" y="1576440"/>
              <a:ext cx="86040" cy="173520"/>
            </a:xfrm>
            <a:custGeom>
              <a:avLst/>
              <a:gdLst/>
              <a:ahLst/>
              <a:rect l="0" t="0" r="r" b="b"/>
              <a:pathLst>
                <a:path w="239" h="482">
                  <a:moveTo>
                    <a:pt x="0" y="363"/>
                  </a:moveTo>
                  <a:lnTo>
                    <a:pt x="8" y="186"/>
                  </a:lnTo>
                  <a:lnTo>
                    <a:pt x="61" y="79"/>
                  </a:lnTo>
                  <a:lnTo>
                    <a:pt x="114" y="460"/>
                  </a:lnTo>
                  <a:lnTo>
                    <a:pt x="190" y="460"/>
                  </a:lnTo>
                  <a:lnTo>
                    <a:pt x="221" y="52"/>
                  </a:lnTo>
                  <a:lnTo>
                    <a:pt x="239" y="0"/>
                  </a:lnTo>
                  <a:lnTo>
                    <a:pt x="221" y="314"/>
                  </a:lnTo>
                  <a:lnTo>
                    <a:pt x="190" y="482"/>
                  </a:lnTo>
                  <a:lnTo>
                    <a:pt x="92" y="482"/>
                  </a:lnTo>
                  <a:lnTo>
                    <a:pt x="52" y="150"/>
                  </a:lnTo>
                  <a:lnTo>
                    <a:pt x="30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8760" y="895320"/>
              <a:ext cx="208440" cy="462240"/>
            </a:xfrm>
            <a:custGeom>
              <a:avLst/>
              <a:gdLst/>
              <a:ahLst/>
              <a:rect l="0" t="0" r="r" b="b"/>
              <a:pathLst>
                <a:path w="579" h="1284">
                  <a:moveTo>
                    <a:pt x="150" y="697"/>
                  </a:moveTo>
                  <a:lnTo>
                    <a:pt x="195" y="493"/>
                  </a:lnTo>
                  <a:lnTo>
                    <a:pt x="393" y="440"/>
                  </a:lnTo>
                  <a:lnTo>
                    <a:pt x="579" y="0"/>
                  </a:lnTo>
                  <a:lnTo>
                    <a:pt x="579" y="127"/>
                  </a:lnTo>
                  <a:lnTo>
                    <a:pt x="419" y="471"/>
                  </a:lnTo>
                  <a:lnTo>
                    <a:pt x="212" y="533"/>
                  </a:lnTo>
                  <a:lnTo>
                    <a:pt x="186" y="697"/>
                  </a:lnTo>
                  <a:lnTo>
                    <a:pt x="256" y="697"/>
                  </a:lnTo>
                  <a:lnTo>
                    <a:pt x="74" y="768"/>
                  </a:lnTo>
                  <a:lnTo>
                    <a:pt x="30" y="904"/>
                  </a:lnTo>
                  <a:lnTo>
                    <a:pt x="44" y="1081"/>
                  </a:lnTo>
                  <a:lnTo>
                    <a:pt x="234" y="1284"/>
                  </a:lnTo>
                  <a:lnTo>
                    <a:pt x="30" y="1103"/>
                  </a:lnTo>
                  <a:lnTo>
                    <a:pt x="0" y="957"/>
                  </a:lnTo>
                  <a:lnTo>
                    <a:pt x="13" y="807"/>
                  </a:lnTo>
                  <a:lnTo>
                    <a:pt x="88" y="702"/>
                  </a:lnTo>
                  <a:lnTo>
                    <a:pt x="150" y="6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88440" y="895320"/>
              <a:ext cx="349560" cy="448200"/>
            </a:xfrm>
            <a:custGeom>
              <a:avLst/>
              <a:gdLst/>
              <a:ahLst/>
              <a:rect l="0" t="0" r="r" b="b"/>
              <a:pathLst>
                <a:path w="971" h="1245">
                  <a:moveTo>
                    <a:pt x="268" y="0"/>
                  </a:moveTo>
                  <a:lnTo>
                    <a:pt x="326" y="39"/>
                  </a:lnTo>
                  <a:lnTo>
                    <a:pt x="343" y="145"/>
                  </a:lnTo>
                  <a:lnTo>
                    <a:pt x="343" y="242"/>
                  </a:lnTo>
                  <a:lnTo>
                    <a:pt x="233" y="424"/>
                  </a:lnTo>
                  <a:lnTo>
                    <a:pt x="255" y="556"/>
                  </a:lnTo>
                  <a:lnTo>
                    <a:pt x="583" y="702"/>
                  </a:lnTo>
                  <a:lnTo>
                    <a:pt x="966" y="1095"/>
                  </a:lnTo>
                  <a:lnTo>
                    <a:pt x="971" y="1197"/>
                  </a:lnTo>
                  <a:lnTo>
                    <a:pt x="949" y="1245"/>
                  </a:lnTo>
                  <a:lnTo>
                    <a:pt x="807" y="1245"/>
                  </a:lnTo>
                  <a:lnTo>
                    <a:pt x="680" y="1170"/>
                  </a:lnTo>
                  <a:lnTo>
                    <a:pt x="578" y="1042"/>
                  </a:lnTo>
                  <a:lnTo>
                    <a:pt x="516" y="967"/>
                  </a:lnTo>
                  <a:lnTo>
                    <a:pt x="449" y="954"/>
                  </a:lnTo>
                  <a:lnTo>
                    <a:pt x="534" y="954"/>
                  </a:lnTo>
                  <a:lnTo>
                    <a:pt x="693" y="1161"/>
                  </a:lnTo>
                  <a:lnTo>
                    <a:pt x="896" y="1219"/>
                  </a:lnTo>
                  <a:lnTo>
                    <a:pt x="940" y="1161"/>
                  </a:lnTo>
                  <a:lnTo>
                    <a:pt x="918" y="1064"/>
                  </a:lnTo>
                  <a:lnTo>
                    <a:pt x="561" y="781"/>
                  </a:lnTo>
                  <a:lnTo>
                    <a:pt x="512" y="702"/>
                  </a:lnTo>
                  <a:lnTo>
                    <a:pt x="233" y="631"/>
                  </a:lnTo>
                  <a:lnTo>
                    <a:pt x="189" y="702"/>
                  </a:lnTo>
                  <a:lnTo>
                    <a:pt x="0" y="816"/>
                  </a:lnTo>
                  <a:lnTo>
                    <a:pt x="176" y="680"/>
                  </a:lnTo>
                  <a:lnTo>
                    <a:pt x="189" y="596"/>
                  </a:lnTo>
                  <a:lnTo>
                    <a:pt x="189" y="397"/>
                  </a:lnTo>
                  <a:lnTo>
                    <a:pt x="313" y="242"/>
                  </a:lnTo>
                  <a:lnTo>
                    <a:pt x="313" y="5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24720" y="1247760"/>
              <a:ext cx="297360" cy="265320"/>
            </a:xfrm>
            <a:custGeom>
              <a:avLst/>
              <a:gdLst/>
              <a:ahLst/>
              <a:rect l="0" t="0" r="r" b="b"/>
              <a:pathLst>
                <a:path w="826" h="737">
                  <a:moveTo>
                    <a:pt x="618" y="0"/>
                  </a:moveTo>
                  <a:lnTo>
                    <a:pt x="596" y="61"/>
                  </a:lnTo>
                  <a:lnTo>
                    <a:pt x="720" y="304"/>
                  </a:lnTo>
                  <a:lnTo>
                    <a:pt x="782" y="556"/>
                  </a:lnTo>
                  <a:lnTo>
                    <a:pt x="711" y="556"/>
                  </a:lnTo>
                  <a:lnTo>
                    <a:pt x="587" y="446"/>
                  </a:lnTo>
                  <a:lnTo>
                    <a:pt x="477" y="216"/>
                  </a:lnTo>
                  <a:lnTo>
                    <a:pt x="389" y="180"/>
                  </a:lnTo>
                  <a:lnTo>
                    <a:pt x="402" y="304"/>
                  </a:lnTo>
                  <a:lnTo>
                    <a:pt x="481" y="397"/>
                  </a:lnTo>
                  <a:lnTo>
                    <a:pt x="481" y="574"/>
                  </a:lnTo>
                  <a:lnTo>
                    <a:pt x="424" y="702"/>
                  </a:lnTo>
                  <a:lnTo>
                    <a:pt x="349" y="653"/>
                  </a:lnTo>
                  <a:lnTo>
                    <a:pt x="252" y="446"/>
                  </a:lnTo>
                  <a:lnTo>
                    <a:pt x="234" y="304"/>
                  </a:lnTo>
                  <a:lnTo>
                    <a:pt x="176" y="264"/>
                  </a:lnTo>
                  <a:lnTo>
                    <a:pt x="163" y="622"/>
                  </a:lnTo>
                  <a:lnTo>
                    <a:pt x="88" y="675"/>
                  </a:lnTo>
                  <a:lnTo>
                    <a:pt x="22" y="622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52" y="724"/>
                  </a:lnTo>
                  <a:lnTo>
                    <a:pt x="163" y="724"/>
                  </a:lnTo>
                  <a:lnTo>
                    <a:pt x="198" y="640"/>
                  </a:lnTo>
                  <a:lnTo>
                    <a:pt x="221" y="361"/>
                  </a:lnTo>
                  <a:lnTo>
                    <a:pt x="239" y="472"/>
                  </a:lnTo>
                  <a:lnTo>
                    <a:pt x="336" y="710"/>
                  </a:lnTo>
                  <a:lnTo>
                    <a:pt x="437" y="737"/>
                  </a:lnTo>
                  <a:lnTo>
                    <a:pt x="512" y="640"/>
                  </a:lnTo>
                  <a:lnTo>
                    <a:pt x="512" y="406"/>
                  </a:lnTo>
                  <a:lnTo>
                    <a:pt x="711" y="600"/>
                  </a:lnTo>
                  <a:lnTo>
                    <a:pt x="817" y="600"/>
                  </a:lnTo>
                  <a:lnTo>
                    <a:pt x="826" y="472"/>
                  </a:lnTo>
                  <a:lnTo>
                    <a:pt x="751" y="238"/>
                  </a:lnTo>
                  <a:lnTo>
                    <a:pt x="618" y="5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26280" y="973080"/>
              <a:ext cx="1319400" cy="1082880"/>
            </a:xfrm>
            <a:custGeom>
              <a:avLst/>
              <a:gdLst/>
              <a:ahLst/>
              <a:rect l="0" t="0" r="r" b="b"/>
              <a:pathLst>
                <a:path w="3665" h="3008">
                  <a:moveTo>
                    <a:pt x="1318" y="255"/>
                  </a:moveTo>
                  <a:lnTo>
                    <a:pt x="1252" y="264"/>
                  </a:lnTo>
                  <a:lnTo>
                    <a:pt x="1150" y="414"/>
                  </a:lnTo>
                  <a:lnTo>
                    <a:pt x="1111" y="304"/>
                  </a:lnTo>
                  <a:lnTo>
                    <a:pt x="992" y="242"/>
                  </a:lnTo>
                  <a:lnTo>
                    <a:pt x="908" y="291"/>
                  </a:lnTo>
                  <a:lnTo>
                    <a:pt x="873" y="485"/>
                  </a:lnTo>
                  <a:lnTo>
                    <a:pt x="542" y="723"/>
                  </a:lnTo>
                  <a:lnTo>
                    <a:pt x="564" y="824"/>
                  </a:lnTo>
                  <a:lnTo>
                    <a:pt x="485" y="917"/>
                  </a:lnTo>
                  <a:lnTo>
                    <a:pt x="485" y="996"/>
                  </a:lnTo>
                  <a:lnTo>
                    <a:pt x="577" y="1221"/>
                  </a:lnTo>
                  <a:lnTo>
                    <a:pt x="586" y="1499"/>
                  </a:lnTo>
                  <a:lnTo>
                    <a:pt x="524" y="1764"/>
                  </a:lnTo>
                  <a:lnTo>
                    <a:pt x="291" y="1919"/>
                  </a:lnTo>
                  <a:lnTo>
                    <a:pt x="255" y="2135"/>
                  </a:lnTo>
                  <a:lnTo>
                    <a:pt x="185" y="2135"/>
                  </a:lnTo>
                  <a:lnTo>
                    <a:pt x="149" y="1958"/>
                  </a:lnTo>
                  <a:lnTo>
                    <a:pt x="74" y="1958"/>
                  </a:lnTo>
                  <a:lnTo>
                    <a:pt x="44" y="2148"/>
                  </a:lnTo>
                  <a:lnTo>
                    <a:pt x="0" y="2197"/>
                  </a:lnTo>
                  <a:lnTo>
                    <a:pt x="163" y="2457"/>
                  </a:lnTo>
                  <a:lnTo>
                    <a:pt x="277" y="2470"/>
                  </a:lnTo>
                  <a:lnTo>
                    <a:pt x="485" y="2660"/>
                  </a:lnTo>
                  <a:lnTo>
                    <a:pt x="670" y="2682"/>
                  </a:lnTo>
                  <a:lnTo>
                    <a:pt x="776" y="2580"/>
                  </a:lnTo>
                  <a:lnTo>
                    <a:pt x="1031" y="2210"/>
                  </a:lnTo>
                  <a:lnTo>
                    <a:pt x="1053" y="2712"/>
                  </a:lnTo>
                  <a:lnTo>
                    <a:pt x="1031" y="3008"/>
                  </a:lnTo>
                  <a:lnTo>
                    <a:pt x="3149" y="3008"/>
                  </a:lnTo>
                  <a:lnTo>
                    <a:pt x="2995" y="2682"/>
                  </a:lnTo>
                  <a:lnTo>
                    <a:pt x="2920" y="2404"/>
                  </a:lnTo>
                  <a:lnTo>
                    <a:pt x="2898" y="1989"/>
                  </a:lnTo>
                  <a:lnTo>
                    <a:pt x="3021" y="2086"/>
                  </a:lnTo>
                  <a:lnTo>
                    <a:pt x="3149" y="2086"/>
                  </a:lnTo>
                  <a:lnTo>
                    <a:pt x="3321" y="1976"/>
                  </a:lnTo>
                  <a:lnTo>
                    <a:pt x="3440" y="1958"/>
                  </a:lnTo>
                  <a:lnTo>
                    <a:pt x="3511" y="1848"/>
                  </a:lnTo>
                  <a:lnTo>
                    <a:pt x="3559" y="1562"/>
                  </a:lnTo>
                  <a:lnTo>
                    <a:pt x="3665" y="1450"/>
                  </a:lnTo>
                  <a:lnTo>
                    <a:pt x="3612" y="1362"/>
                  </a:lnTo>
                  <a:lnTo>
                    <a:pt x="3533" y="1362"/>
                  </a:lnTo>
                  <a:lnTo>
                    <a:pt x="3471" y="1419"/>
                  </a:lnTo>
                  <a:lnTo>
                    <a:pt x="3409" y="1437"/>
                  </a:lnTo>
                  <a:lnTo>
                    <a:pt x="3334" y="1362"/>
                  </a:lnTo>
                  <a:lnTo>
                    <a:pt x="3242" y="1349"/>
                  </a:lnTo>
                  <a:lnTo>
                    <a:pt x="3078" y="1243"/>
                  </a:lnTo>
                  <a:lnTo>
                    <a:pt x="2973" y="1133"/>
                  </a:lnTo>
                  <a:lnTo>
                    <a:pt x="2955" y="996"/>
                  </a:lnTo>
                  <a:lnTo>
                    <a:pt x="2973" y="859"/>
                  </a:lnTo>
                  <a:lnTo>
                    <a:pt x="3039" y="754"/>
                  </a:lnTo>
                  <a:lnTo>
                    <a:pt x="3131" y="652"/>
                  </a:lnTo>
                  <a:lnTo>
                    <a:pt x="3123" y="480"/>
                  </a:lnTo>
                  <a:lnTo>
                    <a:pt x="3123" y="357"/>
                  </a:lnTo>
                  <a:lnTo>
                    <a:pt x="3078" y="264"/>
                  </a:lnTo>
                  <a:lnTo>
                    <a:pt x="2955" y="229"/>
                  </a:lnTo>
                  <a:lnTo>
                    <a:pt x="2911" y="202"/>
                  </a:lnTo>
                  <a:lnTo>
                    <a:pt x="2823" y="52"/>
                  </a:lnTo>
                  <a:lnTo>
                    <a:pt x="2752" y="13"/>
                  </a:lnTo>
                  <a:lnTo>
                    <a:pt x="2677" y="0"/>
                  </a:lnTo>
                  <a:lnTo>
                    <a:pt x="2611" y="26"/>
                  </a:lnTo>
                  <a:lnTo>
                    <a:pt x="2558" y="105"/>
                  </a:lnTo>
                  <a:lnTo>
                    <a:pt x="2474" y="154"/>
                  </a:lnTo>
                  <a:lnTo>
                    <a:pt x="2386" y="167"/>
                  </a:lnTo>
                  <a:lnTo>
                    <a:pt x="2285" y="167"/>
                  </a:lnTo>
                  <a:lnTo>
                    <a:pt x="2302" y="317"/>
                  </a:lnTo>
                  <a:lnTo>
                    <a:pt x="2302" y="502"/>
                  </a:lnTo>
                  <a:lnTo>
                    <a:pt x="2285" y="626"/>
                  </a:lnTo>
                  <a:lnTo>
                    <a:pt x="2197" y="776"/>
                  </a:lnTo>
                  <a:lnTo>
                    <a:pt x="2077" y="1001"/>
                  </a:lnTo>
                  <a:lnTo>
                    <a:pt x="1989" y="1274"/>
                  </a:lnTo>
                  <a:lnTo>
                    <a:pt x="1980" y="1437"/>
                  </a:lnTo>
                  <a:lnTo>
                    <a:pt x="1936" y="1575"/>
                  </a:lnTo>
                  <a:lnTo>
                    <a:pt x="1883" y="1711"/>
                  </a:lnTo>
                  <a:lnTo>
                    <a:pt x="1857" y="1932"/>
                  </a:lnTo>
                  <a:lnTo>
                    <a:pt x="1875" y="2113"/>
                  </a:lnTo>
                  <a:lnTo>
                    <a:pt x="1936" y="2324"/>
                  </a:lnTo>
                  <a:lnTo>
                    <a:pt x="1980" y="2404"/>
                  </a:lnTo>
                  <a:lnTo>
                    <a:pt x="1857" y="2483"/>
                  </a:lnTo>
                  <a:lnTo>
                    <a:pt x="1710" y="2532"/>
                  </a:lnTo>
                  <a:lnTo>
                    <a:pt x="1547" y="2545"/>
                  </a:lnTo>
                  <a:lnTo>
                    <a:pt x="1446" y="2545"/>
                  </a:lnTo>
                  <a:lnTo>
                    <a:pt x="1380" y="2518"/>
                  </a:lnTo>
                  <a:lnTo>
                    <a:pt x="1380" y="2338"/>
                  </a:lnTo>
                  <a:lnTo>
                    <a:pt x="1380" y="2073"/>
                  </a:lnTo>
                  <a:lnTo>
                    <a:pt x="1340" y="1808"/>
                  </a:lnTo>
                  <a:lnTo>
                    <a:pt x="1274" y="1575"/>
                  </a:lnTo>
                  <a:lnTo>
                    <a:pt x="1243" y="1384"/>
                  </a:lnTo>
                  <a:lnTo>
                    <a:pt x="1234" y="1120"/>
                  </a:lnTo>
                  <a:lnTo>
                    <a:pt x="1274" y="890"/>
                  </a:lnTo>
                  <a:lnTo>
                    <a:pt x="1340" y="701"/>
                  </a:lnTo>
                  <a:lnTo>
                    <a:pt x="1349" y="590"/>
                  </a:lnTo>
                  <a:lnTo>
                    <a:pt x="1318" y="432"/>
                  </a:lnTo>
                  <a:lnTo>
                    <a:pt x="1318" y="304"/>
                  </a:lnTo>
                  <a:lnTo>
                    <a:pt x="1340" y="264"/>
                  </a:lnTo>
                  <a:lnTo>
                    <a:pt x="1318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40720" y="1190520"/>
              <a:ext cx="167040" cy="703800"/>
            </a:xfrm>
            <a:custGeom>
              <a:avLst/>
              <a:gdLst/>
              <a:ahLst/>
              <a:rect l="0" t="0" r="r" b="b"/>
              <a:pathLst>
                <a:path w="464" h="1955">
                  <a:moveTo>
                    <a:pt x="185" y="22"/>
                  </a:moveTo>
                  <a:lnTo>
                    <a:pt x="61" y="88"/>
                  </a:lnTo>
                  <a:lnTo>
                    <a:pt x="70" y="273"/>
                  </a:lnTo>
                  <a:lnTo>
                    <a:pt x="163" y="330"/>
                  </a:lnTo>
                  <a:lnTo>
                    <a:pt x="52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2" y="1173"/>
                  </a:lnTo>
                  <a:lnTo>
                    <a:pt x="97" y="1412"/>
                  </a:lnTo>
                  <a:lnTo>
                    <a:pt x="97" y="1549"/>
                  </a:lnTo>
                  <a:lnTo>
                    <a:pt x="52" y="1717"/>
                  </a:lnTo>
                  <a:lnTo>
                    <a:pt x="239" y="1955"/>
                  </a:lnTo>
                  <a:lnTo>
                    <a:pt x="318" y="1915"/>
                  </a:lnTo>
                  <a:lnTo>
                    <a:pt x="371" y="1752"/>
                  </a:lnTo>
                  <a:lnTo>
                    <a:pt x="459" y="1536"/>
                  </a:lnTo>
                  <a:lnTo>
                    <a:pt x="464" y="1420"/>
                  </a:lnTo>
                  <a:lnTo>
                    <a:pt x="393" y="1209"/>
                  </a:lnTo>
                  <a:lnTo>
                    <a:pt x="305" y="997"/>
                  </a:lnTo>
                  <a:lnTo>
                    <a:pt x="274" y="852"/>
                  </a:lnTo>
                  <a:lnTo>
                    <a:pt x="274" y="710"/>
                  </a:lnTo>
                  <a:lnTo>
                    <a:pt x="305" y="583"/>
                  </a:lnTo>
                  <a:lnTo>
                    <a:pt x="371" y="427"/>
                  </a:lnTo>
                  <a:lnTo>
                    <a:pt x="371" y="366"/>
                  </a:lnTo>
                  <a:lnTo>
                    <a:pt x="336" y="299"/>
                  </a:lnTo>
                  <a:lnTo>
                    <a:pt x="424" y="224"/>
                  </a:lnTo>
                  <a:lnTo>
                    <a:pt x="424" y="149"/>
                  </a:lnTo>
                  <a:lnTo>
                    <a:pt x="305" y="0"/>
                  </a:lnTo>
                  <a:lnTo>
                    <a:pt x="402" y="149"/>
                  </a:lnTo>
                  <a:lnTo>
                    <a:pt x="402" y="211"/>
                  </a:lnTo>
                  <a:lnTo>
                    <a:pt x="314" y="273"/>
                  </a:lnTo>
                  <a:lnTo>
                    <a:pt x="349" y="366"/>
                  </a:lnTo>
                  <a:lnTo>
                    <a:pt x="336" y="427"/>
                  </a:lnTo>
                  <a:lnTo>
                    <a:pt x="252" y="609"/>
                  </a:lnTo>
                  <a:lnTo>
                    <a:pt x="239" y="785"/>
                  </a:lnTo>
                  <a:lnTo>
                    <a:pt x="261" y="949"/>
                  </a:lnTo>
                  <a:lnTo>
                    <a:pt x="318" y="1182"/>
                  </a:lnTo>
                  <a:lnTo>
                    <a:pt x="393" y="1372"/>
                  </a:lnTo>
                  <a:lnTo>
                    <a:pt x="393" y="1523"/>
                  </a:lnTo>
                  <a:lnTo>
                    <a:pt x="349" y="1717"/>
                  </a:lnTo>
                  <a:lnTo>
                    <a:pt x="261" y="1915"/>
                  </a:lnTo>
                  <a:lnTo>
                    <a:pt x="154" y="1805"/>
                  </a:lnTo>
                  <a:lnTo>
                    <a:pt x="110" y="1717"/>
                  </a:lnTo>
                  <a:lnTo>
                    <a:pt x="119" y="1523"/>
                  </a:lnTo>
                  <a:lnTo>
                    <a:pt x="110" y="1332"/>
                  </a:lnTo>
                  <a:lnTo>
                    <a:pt x="52" y="1072"/>
                  </a:lnTo>
                  <a:lnTo>
                    <a:pt x="30" y="896"/>
                  </a:lnTo>
                  <a:lnTo>
                    <a:pt x="52" y="697"/>
                  </a:lnTo>
                  <a:lnTo>
                    <a:pt x="97" y="508"/>
                  </a:lnTo>
                  <a:lnTo>
                    <a:pt x="194" y="313"/>
                  </a:lnTo>
                  <a:lnTo>
                    <a:pt x="110" y="233"/>
                  </a:lnTo>
                  <a:lnTo>
                    <a:pt x="97" y="97"/>
                  </a:lnTo>
                  <a:lnTo>
                    <a:pt x="185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15200" y="368280"/>
              <a:ext cx="263880" cy="343440"/>
            </a:xfrm>
            <a:custGeom>
              <a:avLst/>
              <a:gdLst/>
              <a:ahLst/>
              <a:rect l="0" t="0" r="r" b="b"/>
              <a:pathLst>
                <a:path w="733" h="954">
                  <a:moveTo>
                    <a:pt x="123" y="243"/>
                  </a:moveTo>
                  <a:lnTo>
                    <a:pt x="229" y="224"/>
                  </a:lnTo>
                  <a:lnTo>
                    <a:pt x="335" y="229"/>
                  </a:lnTo>
                  <a:lnTo>
                    <a:pt x="419" y="269"/>
                  </a:lnTo>
                  <a:lnTo>
                    <a:pt x="468" y="322"/>
                  </a:lnTo>
                  <a:lnTo>
                    <a:pt x="490" y="371"/>
                  </a:lnTo>
                  <a:lnTo>
                    <a:pt x="490" y="419"/>
                  </a:lnTo>
                  <a:lnTo>
                    <a:pt x="464" y="450"/>
                  </a:lnTo>
                  <a:lnTo>
                    <a:pt x="419" y="477"/>
                  </a:lnTo>
                  <a:lnTo>
                    <a:pt x="361" y="477"/>
                  </a:lnTo>
                  <a:lnTo>
                    <a:pt x="295" y="464"/>
                  </a:lnTo>
                  <a:lnTo>
                    <a:pt x="233" y="424"/>
                  </a:lnTo>
                  <a:lnTo>
                    <a:pt x="185" y="389"/>
                  </a:lnTo>
                  <a:lnTo>
                    <a:pt x="163" y="512"/>
                  </a:lnTo>
                  <a:lnTo>
                    <a:pt x="123" y="596"/>
                  </a:lnTo>
                  <a:lnTo>
                    <a:pt x="0" y="800"/>
                  </a:lnTo>
                  <a:lnTo>
                    <a:pt x="176" y="954"/>
                  </a:lnTo>
                  <a:lnTo>
                    <a:pt x="313" y="693"/>
                  </a:lnTo>
                  <a:lnTo>
                    <a:pt x="464" y="720"/>
                  </a:lnTo>
                  <a:lnTo>
                    <a:pt x="561" y="697"/>
                  </a:lnTo>
                  <a:lnTo>
                    <a:pt x="649" y="640"/>
                  </a:lnTo>
                  <a:lnTo>
                    <a:pt x="706" y="565"/>
                  </a:lnTo>
                  <a:lnTo>
                    <a:pt x="733" y="468"/>
                  </a:lnTo>
                  <a:lnTo>
                    <a:pt x="733" y="367"/>
                  </a:lnTo>
                  <a:lnTo>
                    <a:pt x="706" y="256"/>
                  </a:lnTo>
                  <a:lnTo>
                    <a:pt x="644" y="145"/>
                  </a:lnTo>
                  <a:lnTo>
                    <a:pt x="569" y="66"/>
                  </a:lnTo>
                  <a:lnTo>
                    <a:pt x="481" y="22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26"/>
                  </a:lnTo>
                  <a:lnTo>
                    <a:pt x="123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69120" y="701640"/>
              <a:ext cx="93960" cy="66960"/>
            </a:xfrm>
            <a:custGeom>
              <a:avLst/>
              <a:gdLst/>
              <a:ahLst/>
              <a:rect l="0" t="0" r="r" b="b"/>
              <a:pathLst>
                <a:path w="261" h="186">
                  <a:moveTo>
                    <a:pt x="105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2"/>
                  </a:lnTo>
                  <a:lnTo>
                    <a:pt x="52" y="159"/>
                  </a:lnTo>
                  <a:lnTo>
                    <a:pt x="159" y="186"/>
                  </a:lnTo>
                  <a:lnTo>
                    <a:pt x="239" y="181"/>
                  </a:lnTo>
                  <a:lnTo>
                    <a:pt x="261" y="142"/>
                  </a:lnTo>
                  <a:lnTo>
                    <a:pt x="247" y="102"/>
                  </a:lnTo>
                  <a:lnTo>
                    <a:pt x="212" y="48"/>
                  </a:lnTo>
                  <a:lnTo>
                    <a:pt x="146" y="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914400" y="1981080"/>
            <a:ext cx="77724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some examples of ways that budgeting can help managers during the reviewing stage of the management cyc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14400" y="83808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ic Principles of Budg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828800" y="266688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the basic principles of budg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62120" y="30492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inciple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ffective Budg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289548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Long-range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Short-range goals and strateg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Human responsibilities and inte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Budget housekee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 Budget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75248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inciples of effective budgeting can be grouped into five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66680" y="35812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ong-range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ort-range goals and strateg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uman responsibilities &amp; inte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 housekee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99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781680" y="304920"/>
            <a:ext cx="2056320" cy="2132280"/>
            <a:chOff x="6781680" y="304920"/>
            <a:chExt cx="2056320" cy="2132280"/>
          </a:xfrm>
        </p:grpSpPr>
        <p:sp>
          <p:nvSpPr>
            <p:cNvPr id="129" name=""/>
            <p:cNvSpPr/>
            <p:nvPr/>
          </p:nvSpPr>
          <p:spPr>
            <a:xfrm>
              <a:off x="6788160" y="1351080"/>
              <a:ext cx="498960" cy="744840"/>
            </a:xfrm>
            <a:custGeom>
              <a:avLst/>
              <a:gdLst/>
              <a:ahLst/>
              <a:rect l="0" t="0" r="r" b="b"/>
              <a:pathLst>
                <a:path w="1386" h="2069">
                  <a:moveTo>
                    <a:pt x="556" y="0"/>
                  </a:moveTo>
                  <a:lnTo>
                    <a:pt x="481" y="92"/>
                  </a:lnTo>
                  <a:lnTo>
                    <a:pt x="481" y="361"/>
                  </a:lnTo>
                  <a:lnTo>
                    <a:pt x="556" y="555"/>
                  </a:lnTo>
                  <a:lnTo>
                    <a:pt x="636" y="652"/>
                  </a:lnTo>
                  <a:lnTo>
                    <a:pt x="512" y="784"/>
                  </a:lnTo>
                  <a:lnTo>
                    <a:pt x="349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27" y="1773"/>
                  </a:lnTo>
                  <a:lnTo>
                    <a:pt x="211" y="1663"/>
                  </a:lnTo>
                  <a:lnTo>
                    <a:pt x="349" y="1394"/>
                  </a:lnTo>
                  <a:lnTo>
                    <a:pt x="428" y="1279"/>
                  </a:lnTo>
                  <a:lnTo>
                    <a:pt x="481" y="1456"/>
                  </a:lnTo>
                  <a:lnTo>
                    <a:pt x="446" y="1645"/>
                  </a:lnTo>
                  <a:lnTo>
                    <a:pt x="308" y="1919"/>
                  </a:lnTo>
                  <a:lnTo>
                    <a:pt x="349" y="1980"/>
                  </a:lnTo>
                  <a:lnTo>
                    <a:pt x="428" y="1963"/>
                  </a:lnTo>
                  <a:lnTo>
                    <a:pt x="600" y="1822"/>
                  </a:lnTo>
                  <a:lnTo>
                    <a:pt x="737" y="1579"/>
                  </a:lnTo>
                  <a:lnTo>
                    <a:pt x="737" y="1998"/>
                  </a:lnTo>
                  <a:lnTo>
                    <a:pt x="900" y="2069"/>
                  </a:lnTo>
                  <a:lnTo>
                    <a:pt x="1002" y="1808"/>
                  </a:lnTo>
                  <a:lnTo>
                    <a:pt x="1086" y="2051"/>
                  </a:lnTo>
                  <a:lnTo>
                    <a:pt x="1152" y="1980"/>
                  </a:lnTo>
                  <a:lnTo>
                    <a:pt x="1183" y="1504"/>
                  </a:lnTo>
                  <a:lnTo>
                    <a:pt x="1386" y="1050"/>
                  </a:lnTo>
                  <a:lnTo>
                    <a:pt x="1338" y="784"/>
                  </a:lnTo>
                  <a:lnTo>
                    <a:pt x="1201" y="687"/>
                  </a:lnTo>
                  <a:lnTo>
                    <a:pt x="1051" y="701"/>
                  </a:lnTo>
                  <a:lnTo>
                    <a:pt x="1002" y="489"/>
                  </a:lnTo>
                  <a:lnTo>
                    <a:pt x="847" y="440"/>
                  </a:lnTo>
                  <a:lnTo>
                    <a:pt x="715" y="374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07200" y="1654200"/>
              <a:ext cx="146520" cy="360720"/>
            </a:xfrm>
            <a:custGeom>
              <a:avLst/>
              <a:gdLst/>
              <a:ahLst/>
              <a:rect l="0" t="0" r="r" b="b"/>
              <a:pathLst>
                <a:path w="407" h="1002">
                  <a:moveTo>
                    <a:pt x="203" y="0"/>
                  </a:moveTo>
                  <a:lnTo>
                    <a:pt x="407" y="260"/>
                  </a:lnTo>
                  <a:lnTo>
                    <a:pt x="306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24" y="423"/>
                  </a:lnTo>
                  <a:lnTo>
                    <a:pt x="203" y="21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63000" y="1446120"/>
              <a:ext cx="368640" cy="325800"/>
            </a:xfrm>
            <a:custGeom>
              <a:avLst/>
              <a:gdLst/>
              <a:ahLst/>
              <a:rect l="0" t="0" r="r" b="b"/>
              <a:pathLst>
                <a:path w="1024" h="905">
                  <a:moveTo>
                    <a:pt x="423" y="0"/>
                  </a:moveTo>
                  <a:lnTo>
                    <a:pt x="423" y="145"/>
                  </a:lnTo>
                  <a:lnTo>
                    <a:pt x="458" y="274"/>
                  </a:lnTo>
                  <a:lnTo>
                    <a:pt x="658" y="490"/>
                  </a:lnTo>
                  <a:lnTo>
                    <a:pt x="1024" y="613"/>
                  </a:lnTo>
                  <a:lnTo>
                    <a:pt x="975" y="888"/>
                  </a:lnTo>
                  <a:lnTo>
                    <a:pt x="658" y="905"/>
                  </a:lnTo>
                  <a:lnTo>
                    <a:pt x="194" y="707"/>
                  </a:lnTo>
                  <a:lnTo>
                    <a:pt x="0" y="362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10600" y="1077840"/>
              <a:ext cx="514800" cy="717840"/>
            </a:xfrm>
            <a:custGeom>
              <a:avLst/>
              <a:gdLst/>
              <a:ahLst/>
              <a:rect l="0" t="0" r="r" b="b"/>
              <a:pathLst>
                <a:path w="1430" h="1994">
                  <a:moveTo>
                    <a:pt x="127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24" y="1465"/>
                  </a:lnTo>
                  <a:lnTo>
                    <a:pt x="242" y="1958"/>
                  </a:lnTo>
                  <a:lnTo>
                    <a:pt x="446" y="1958"/>
                  </a:lnTo>
                  <a:lnTo>
                    <a:pt x="428" y="1539"/>
                  </a:lnTo>
                  <a:lnTo>
                    <a:pt x="578" y="1976"/>
                  </a:lnTo>
                  <a:lnTo>
                    <a:pt x="680" y="1994"/>
                  </a:lnTo>
                  <a:lnTo>
                    <a:pt x="750" y="1848"/>
                  </a:lnTo>
                  <a:lnTo>
                    <a:pt x="768" y="1575"/>
                  </a:lnTo>
                  <a:lnTo>
                    <a:pt x="984" y="1831"/>
                  </a:lnTo>
                  <a:lnTo>
                    <a:pt x="1073" y="1808"/>
                  </a:lnTo>
                  <a:lnTo>
                    <a:pt x="1050" y="1632"/>
                  </a:lnTo>
                  <a:lnTo>
                    <a:pt x="971" y="1381"/>
                  </a:lnTo>
                  <a:lnTo>
                    <a:pt x="882" y="1218"/>
                  </a:lnTo>
                  <a:lnTo>
                    <a:pt x="913" y="1103"/>
                  </a:lnTo>
                  <a:lnTo>
                    <a:pt x="971" y="1121"/>
                  </a:lnTo>
                  <a:lnTo>
                    <a:pt x="1170" y="1381"/>
                  </a:lnTo>
                  <a:lnTo>
                    <a:pt x="1382" y="1447"/>
                  </a:lnTo>
                  <a:lnTo>
                    <a:pt x="1430" y="1363"/>
                  </a:lnTo>
                  <a:lnTo>
                    <a:pt x="1399" y="1231"/>
                  </a:lnTo>
                  <a:lnTo>
                    <a:pt x="1002" y="829"/>
                  </a:lnTo>
                  <a:lnTo>
                    <a:pt x="680" y="705"/>
                  </a:lnTo>
                  <a:lnTo>
                    <a:pt x="640" y="480"/>
                  </a:lnTo>
                  <a:lnTo>
                    <a:pt x="750" y="277"/>
                  </a:lnTo>
                  <a:lnTo>
                    <a:pt x="750" y="66"/>
                  </a:lnTo>
                  <a:lnTo>
                    <a:pt x="662" y="0"/>
                  </a:lnTo>
                  <a:lnTo>
                    <a:pt x="428" y="537"/>
                  </a:lnTo>
                  <a:lnTo>
                    <a:pt x="224" y="621"/>
                  </a:lnTo>
                  <a:lnTo>
                    <a:pt x="176" y="767"/>
                  </a:lnTo>
                  <a:lnTo>
                    <a:pt x="127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6040" y="455760"/>
              <a:ext cx="562320" cy="918000"/>
            </a:xfrm>
            <a:custGeom>
              <a:avLst/>
              <a:gdLst/>
              <a:ahLst/>
              <a:rect l="0" t="0" r="r" b="b"/>
              <a:pathLst>
                <a:path w="1562" h="2550">
                  <a:moveTo>
                    <a:pt x="392" y="352"/>
                  </a:moveTo>
                  <a:lnTo>
                    <a:pt x="273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3" y="1531"/>
                  </a:lnTo>
                  <a:lnTo>
                    <a:pt x="242" y="1531"/>
                  </a:lnTo>
                  <a:lnTo>
                    <a:pt x="326" y="2096"/>
                  </a:lnTo>
                  <a:lnTo>
                    <a:pt x="423" y="2339"/>
                  </a:lnTo>
                  <a:lnTo>
                    <a:pt x="745" y="2550"/>
                  </a:lnTo>
                  <a:lnTo>
                    <a:pt x="1063" y="2519"/>
                  </a:lnTo>
                  <a:lnTo>
                    <a:pt x="1213" y="2096"/>
                  </a:lnTo>
                  <a:lnTo>
                    <a:pt x="1248" y="1451"/>
                  </a:lnTo>
                  <a:lnTo>
                    <a:pt x="1562" y="1129"/>
                  </a:lnTo>
                  <a:lnTo>
                    <a:pt x="1548" y="1002"/>
                  </a:lnTo>
                  <a:lnTo>
                    <a:pt x="1513" y="940"/>
                  </a:lnTo>
                  <a:lnTo>
                    <a:pt x="1345" y="927"/>
                  </a:lnTo>
                  <a:lnTo>
                    <a:pt x="1398" y="759"/>
                  </a:lnTo>
                  <a:lnTo>
                    <a:pt x="1235" y="644"/>
                  </a:lnTo>
                  <a:lnTo>
                    <a:pt x="1165" y="277"/>
                  </a:lnTo>
                  <a:lnTo>
                    <a:pt x="679" y="0"/>
                  </a:lnTo>
                  <a:lnTo>
                    <a:pt x="423" y="260"/>
                  </a:lnTo>
                  <a:lnTo>
                    <a:pt x="392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07440" y="1220760"/>
              <a:ext cx="514800" cy="1094040"/>
            </a:xfrm>
            <a:custGeom>
              <a:avLst/>
              <a:gdLst/>
              <a:ahLst/>
              <a:rect l="0" t="0" r="r" b="b"/>
              <a:pathLst>
                <a:path w="1430" h="3039">
                  <a:moveTo>
                    <a:pt x="291" y="158"/>
                  </a:moveTo>
                  <a:lnTo>
                    <a:pt x="494" y="304"/>
                  </a:lnTo>
                  <a:lnTo>
                    <a:pt x="596" y="467"/>
                  </a:lnTo>
                  <a:lnTo>
                    <a:pt x="1170" y="0"/>
                  </a:lnTo>
                  <a:lnTo>
                    <a:pt x="1351" y="97"/>
                  </a:lnTo>
                  <a:lnTo>
                    <a:pt x="1430" y="577"/>
                  </a:lnTo>
                  <a:lnTo>
                    <a:pt x="1015" y="1976"/>
                  </a:lnTo>
                  <a:lnTo>
                    <a:pt x="1148" y="2748"/>
                  </a:lnTo>
                  <a:lnTo>
                    <a:pt x="609" y="3039"/>
                  </a:lnTo>
                  <a:lnTo>
                    <a:pt x="189" y="2876"/>
                  </a:lnTo>
                  <a:lnTo>
                    <a:pt x="189" y="2055"/>
                  </a:lnTo>
                  <a:lnTo>
                    <a:pt x="0" y="1261"/>
                  </a:lnTo>
                  <a:lnTo>
                    <a:pt x="189" y="304"/>
                  </a:lnTo>
                  <a:lnTo>
                    <a:pt x="291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29400" y="334800"/>
              <a:ext cx="479880" cy="289440"/>
            </a:xfrm>
            <a:custGeom>
              <a:avLst/>
              <a:gdLst/>
              <a:ahLst/>
              <a:rect l="0" t="0" r="r" b="b"/>
              <a:pathLst>
                <a:path w="1333" h="804">
                  <a:moveTo>
                    <a:pt x="163" y="769"/>
                  </a:moveTo>
                  <a:lnTo>
                    <a:pt x="362" y="552"/>
                  </a:lnTo>
                  <a:lnTo>
                    <a:pt x="486" y="521"/>
                  </a:lnTo>
                  <a:lnTo>
                    <a:pt x="486" y="538"/>
                  </a:lnTo>
                  <a:lnTo>
                    <a:pt x="547" y="521"/>
                  </a:lnTo>
                  <a:lnTo>
                    <a:pt x="631" y="583"/>
                  </a:lnTo>
                  <a:lnTo>
                    <a:pt x="785" y="619"/>
                  </a:lnTo>
                  <a:lnTo>
                    <a:pt x="913" y="804"/>
                  </a:lnTo>
                  <a:lnTo>
                    <a:pt x="1122" y="720"/>
                  </a:lnTo>
                  <a:lnTo>
                    <a:pt x="1122" y="637"/>
                  </a:lnTo>
                  <a:lnTo>
                    <a:pt x="1333" y="538"/>
                  </a:lnTo>
                  <a:lnTo>
                    <a:pt x="1272" y="389"/>
                  </a:lnTo>
                  <a:lnTo>
                    <a:pt x="1073" y="375"/>
                  </a:lnTo>
                  <a:lnTo>
                    <a:pt x="1104" y="212"/>
                  </a:lnTo>
                  <a:lnTo>
                    <a:pt x="935" y="230"/>
                  </a:lnTo>
                  <a:lnTo>
                    <a:pt x="904" y="114"/>
                  </a:lnTo>
                  <a:lnTo>
                    <a:pt x="785" y="114"/>
                  </a:lnTo>
                  <a:lnTo>
                    <a:pt x="702" y="176"/>
                  </a:lnTo>
                  <a:lnTo>
                    <a:pt x="631" y="176"/>
                  </a:lnTo>
                  <a:lnTo>
                    <a:pt x="644" y="0"/>
                  </a:lnTo>
                  <a:lnTo>
                    <a:pt x="486" y="83"/>
                  </a:lnTo>
                  <a:lnTo>
                    <a:pt x="260" y="375"/>
                  </a:lnTo>
                  <a:lnTo>
                    <a:pt x="251" y="176"/>
                  </a:lnTo>
                  <a:lnTo>
                    <a:pt x="132" y="274"/>
                  </a:lnTo>
                  <a:lnTo>
                    <a:pt x="101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63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59720" y="1424160"/>
              <a:ext cx="152640" cy="827280"/>
            </a:xfrm>
            <a:custGeom>
              <a:avLst/>
              <a:gdLst/>
              <a:ahLst/>
              <a:rect l="0" t="0" r="r" b="b"/>
              <a:pathLst>
                <a:path w="424" h="2298">
                  <a:moveTo>
                    <a:pt x="217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76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05" y="1610"/>
                  </a:lnTo>
                  <a:lnTo>
                    <a:pt x="105" y="1831"/>
                  </a:lnTo>
                  <a:lnTo>
                    <a:pt x="48" y="2003"/>
                  </a:lnTo>
                  <a:lnTo>
                    <a:pt x="269" y="2298"/>
                  </a:lnTo>
                  <a:lnTo>
                    <a:pt x="411" y="1848"/>
                  </a:lnTo>
                  <a:lnTo>
                    <a:pt x="411" y="1544"/>
                  </a:lnTo>
                  <a:lnTo>
                    <a:pt x="305" y="1257"/>
                  </a:lnTo>
                  <a:lnTo>
                    <a:pt x="252" y="868"/>
                  </a:lnTo>
                  <a:lnTo>
                    <a:pt x="358" y="489"/>
                  </a:lnTo>
                  <a:lnTo>
                    <a:pt x="322" y="339"/>
                  </a:lnTo>
                  <a:lnTo>
                    <a:pt x="424" y="260"/>
                  </a:lnTo>
                  <a:lnTo>
                    <a:pt x="411" y="158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53240" y="1146240"/>
              <a:ext cx="124200" cy="74880"/>
            </a:xfrm>
            <a:custGeom>
              <a:avLst/>
              <a:gdLst/>
              <a:ahLst/>
              <a:rect l="0" t="0" r="r" b="b"/>
              <a:pathLst>
                <a:path w="345" h="208">
                  <a:moveTo>
                    <a:pt x="0" y="61"/>
                  </a:moveTo>
                  <a:lnTo>
                    <a:pt x="137" y="208"/>
                  </a:lnTo>
                  <a:lnTo>
                    <a:pt x="275" y="190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18240" y="763560"/>
              <a:ext cx="154440" cy="162360"/>
            </a:xfrm>
            <a:custGeom>
              <a:avLst/>
              <a:gdLst/>
              <a:ahLst/>
              <a:rect l="0" t="0" r="r" b="b"/>
              <a:pathLst>
                <a:path w="429" h="451">
                  <a:moveTo>
                    <a:pt x="0" y="48"/>
                  </a:moveTo>
                  <a:lnTo>
                    <a:pt x="296" y="451"/>
                  </a:lnTo>
                  <a:lnTo>
                    <a:pt x="429" y="42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88240" y="728640"/>
              <a:ext cx="132120" cy="162360"/>
            </a:xfrm>
            <a:custGeom>
              <a:avLst/>
              <a:gdLst/>
              <a:ahLst/>
              <a:rect l="0" t="0" r="r" b="b"/>
              <a:pathLst>
                <a:path w="367" h="451">
                  <a:moveTo>
                    <a:pt x="0" y="66"/>
                  </a:moveTo>
                  <a:lnTo>
                    <a:pt x="252" y="451"/>
                  </a:lnTo>
                  <a:lnTo>
                    <a:pt x="367" y="350"/>
                  </a:lnTo>
                  <a:lnTo>
                    <a:pt x="10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62800" y="520560"/>
              <a:ext cx="535320" cy="405000"/>
            </a:xfrm>
            <a:custGeom>
              <a:avLst/>
              <a:gdLst/>
              <a:ahLst/>
              <a:rect l="0" t="0" r="r" b="b"/>
              <a:pathLst>
                <a:path w="1487" h="1125">
                  <a:moveTo>
                    <a:pt x="683" y="666"/>
                  </a:moveTo>
                  <a:lnTo>
                    <a:pt x="546" y="627"/>
                  </a:lnTo>
                  <a:lnTo>
                    <a:pt x="661" y="524"/>
                  </a:lnTo>
                  <a:lnTo>
                    <a:pt x="621" y="471"/>
                  </a:lnTo>
                  <a:lnTo>
                    <a:pt x="467" y="605"/>
                  </a:lnTo>
                  <a:lnTo>
                    <a:pt x="185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0" y="1116"/>
                  </a:lnTo>
                  <a:lnTo>
                    <a:pt x="220" y="1125"/>
                  </a:lnTo>
                  <a:lnTo>
                    <a:pt x="61" y="777"/>
                  </a:lnTo>
                  <a:lnTo>
                    <a:pt x="308" y="666"/>
                  </a:lnTo>
                  <a:lnTo>
                    <a:pt x="467" y="666"/>
                  </a:lnTo>
                  <a:lnTo>
                    <a:pt x="590" y="737"/>
                  </a:lnTo>
                  <a:lnTo>
                    <a:pt x="621" y="834"/>
                  </a:lnTo>
                  <a:lnTo>
                    <a:pt x="621" y="1046"/>
                  </a:lnTo>
                  <a:lnTo>
                    <a:pt x="621" y="1116"/>
                  </a:lnTo>
                  <a:lnTo>
                    <a:pt x="692" y="1015"/>
                  </a:lnTo>
                  <a:lnTo>
                    <a:pt x="692" y="790"/>
                  </a:lnTo>
                  <a:lnTo>
                    <a:pt x="799" y="790"/>
                  </a:lnTo>
                  <a:lnTo>
                    <a:pt x="847" y="1046"/>
                  </a:lnTo>
                  <a:lnTo>
                    <a:pt x="904" y="1072"/>
                  </a:lnTo>
                  <a:lnTo>
                    <a:pt x="1085" y="1072"/>
                  </a:lnTo>
                  <a:lnTo>
                    <a:pt x="1271" y="1024"/>
                  </a:lnTo>
                  <a:lnTo>
                    <a:pt x="1398" y="927"/>
                  </a:lnTo>
                  <a:lnTo>
                    <a:pt x="1416" y="702"/>
                  </a:lnTo>
                  <a:lnTo>
                    <a:pt x="1487" y="605"/>
                  </a:lnTo>
                  <a:lnTo>
                    <a:pt x="1442" y="542"/>
                  </a:lnTo>
                  <a:lnTo>
                    <a:pt x="1279" y="480"/>
                  </a:lnTo>
                  <a:lnTo>
                    <a:pt x="1253" y="251"/>
                  </a:lnTo>
                  <a:lnTo>
                    <a:pt x="1099" y="251"/>
                  </a:lnTo>
                  <a:lnTo>
                    <a:pt x="913" y="0"/>
                  </a:lnTo>
                  <a:lnTo>
                    <a:pt x="1081" y="277"/>
                  </a:lnTo>
                  <a:lnTo>
                    <a:pt x="1134" y="277"/>
                  </a:lnTo>
                  <a:lnTo>
                    <a:pt x="1169" y="471"/>
                  </a:lnTo>
                  <a:lnTo>
                    <a:pt x="962" y="542"/>
                  </a:lnTo>
                  <a:lnTo>
                    <a:pt x="807" y="489"/>
                  </a:lnTo>
                  <a:lnTo>
                    <a:pt x="785" y="542"/>
                  </a:lnTo>
                  <a:lnTo>
                    <a:pt x="865" y="605"/>
                  </a:lnTo>
                  <a:lnTo>
                    <a:pt x="865" y="658"/>
                  </a:lnTo>
                  <a:lnTo>
                    <a:pt x="1046" y="574"/>
                  </a:lnTo>
                  <a:lnTo>
                    <a:pt x="1196" y="555"/>
                  </a:lnTo>
                  <a:lnTo>
                    <a:pt x="1363" y="583"/>
                  </a:lnTo>
                  <a:lnTo>
                    <a:pt x="1363" y="613"/>
                  </a:lnTo>
                  <a:lnTo>
                    <a:pt x="1284" y="693"/>
                  </a:lnTo>
                  <a:lnTo>
                    <a:pt x="1253" y="790"/>
                  </a:lnTo>
                  <a:lnTo>
                    <a:pt x="1244" y="927"/>
                  </a:lnTo>
                  <a:lnTo>
                    <a:pt x="1147" y="984"/>
                  </a:lnTo>
                  <a:lnTo>
                    <a:pt x="1002" y="1002"/>
                  </a:lnTo>
                  <a:lnTo>
                    <a:pt x="904" y="1002"/>
                  </a:lnTo>
                  <a:lnTo>
                    <a:pt x="869" y="962"/>
                  </a:lnTo>
                  <a:lnTo>
                    <a:pt x="847" y="702"/>
                  </a:lnTo>
                  <a:lnTo>
                    <a:pt x="692" y="702"/>
                  </a:lnTo>
                  <a:lnTo>
                    <a:pt x="683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47120" y="987480"/>
              <a:ext cx="173520" cy="82800"/>
            </a:xfrm>
            <a:custGeom>
              <a:avLst/>
              <a:gdLst/>
              <a:ahLst/>
              <a:rect l="0" t="0" r="r" b="b"/>
              <a:pathLst>
                <a:path w="482" h="230">
                  <a:moveTo>
                    <a:pt x="0" y="0"/>
                  </a:moveTo>
                  <a:lnTo>
                    <a:pt x="79" y="105"/>
                  </a:lnTo>
                  <a:lnTo>
                    <a:pt x="287" y="105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70"/>
                  </a:lnTo>
                  <a:lnTo>
                    <a:pt x="465" y="105"/>
                  </a:lnTo>
                  <a:lnTo>
                    <a:pt x="265" y="230"/>
                  </a:lnTo>
                  <a:lnTo>
                    <a:pt x="159" y="230"/>
                  </a:lnTo>
                  <a:lnTo>
                    <a:pt x="101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53440" y="853920"/>
              <a:ext cx="262440" cy="437040"/>
            </a:xfrm>
            <a:custGeom>
              <a:avLst/>
              <a:gdLst/>
              <a:ahLst/>
              <a:rect l="0" t="0" r="r" b="b"/>
              <a:pathLst>
                <a:path w="729" h="1214">
                  <a:moveTo>
                    <a:pt x="729" y="88"/>
                  </a:moveTo>
                  <a:lnTo>
                    <a:pt x="729" y="105"/>
                  </a:lnTo>
                  <a:lnTo>
                    <a:pt x="601" y="229"/>
                  </a:lnTo>
                  <a:lnTo>
                    <a:pt x="494" y="251"/>
                  </a:lnTo>
                  <a:lnTo>
                    <a:pt x="292" y="220"/>
                  </a:lnTo>
                  <a:lnTo>
                    <a:pt x="331" y="653"/>
                  </a:lnTo>
                  <a:lnTo>
                    <a:pt x="375" y="1016"/>
                  </a:lnTo>
                  <a:lnTo>
                    <a:pt x="464" y="1214"/>
                  </a:lnTo>
                  <a:lnTo>
                    <a:pt x="375" y="1073"/>
                  </a:lnTo>
                  <a:lnTo>
                    <a:pt x="340" y="923"/>
                  </a:lnTo>
                  <a:lnTo>
                    <a:pt x="283" y="512"/>
                  </a:lnTo>
                  <a:lnTo>
                    <a:pt x="225" y="534"/>
                  </a:lnTo>
                  <a:lnTo>
                    <a:pt x="154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5" y="362"/>
                  </a:lnTo>
                  <a:lnTo>
                    <a:pt x="190" y="340"/>
                  </a:lnTo>
                  <a:lnTo>
                    <a:pt x="190" y="119"/>
                  </a:lnTo>
                  <a:lnTo>
                    <a:pt x="274" y="163"/>
                  </a:lnTo>
                  <a:lnTo>
                    <a:pt x="406" y="198"/>
                  </a:lnTo>
                  <a:lnTo>
                    <a:pt x="530" y="189"/>
                  </a:lnTo>
                  <a:lnTo>
                    <a:pt x="645" y="119"/>
                  </a:lnTo>
                  <a:lnTo>
                    <a:pt x="729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24720" y="507960"/>
              <a:ext cx="78120" cy="233640"/>
            </a:xfrm>
            <a:custGeom>
              <a:avLst/>
              <a:gdLst/>
              <a:ahLst/>
              <a:rect l="0" t="0" r="r" b="b"/>
              <a:pathLst>
                <a:path w="217" h="649">
                  <a:moveTo>
                    <a:pt x="111" y="649"/>
                  </a:moveTo>
                  <a:lnTo>
                    <a:pt x="217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79" y="220"/>
                  </a:lnTo>
                  <a:lnTo>
                    <a:pt x="83" y="415"/>
                  </a:lnTo>
                  <a:lnTo>
                    <a:pt x="133" y="494"/>
                  </a:lnTo>
                  <a:lnTo>
                    <a:pt x="111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21480" y="304920"/>
              <a:ext cx="587880" cy="306720"/>
            </a:xfrm>
            <a:custGeom>
              <a:avLst/>
              <a:gdLst/>
              <a:ahLst/>
              <a:rect l="0" t="0" r="r" b="b"/>
              <a:pathLst>
                <a:path w="1633" h="852">
                  <a:moveTo>
                    <a:pt x="17" y="578"/>
                  </a:moveTo>
                  <a:lnTo>
                    <a:pt x="154" y="662"/>
                  </a:lnTo>
                  <a:lnTo>
                    <a:pt x="141" y="556"/>
                  </a:lnTo>
                  <a:lnTo>
                    <a:pt x="167" y="361"/>
                  </a:lnTo>
                  <a:lnTo>
                    <a:pt x="260" y="321"/>
                  </a:lnTo>
                  <a:lnTo>
                    <a:pt x="273" y="525"/>
                  </a:lnTo>
                  <a:lnTo>
                    <a:pt x="547" y="163"/>
                  </a:lnTo>
                  <a:lnTo>
                    <a:pt x="613" y="141"/>
                  </a:lnTo>
                  <a:lnTo>
                    <a:pt x="565" y="282"/>
                  </a:lnTo>
                  <a:lnTo>
                    <a:pt x="733" y="352"/>
                  </a:lnTo>
                  <a:lnTo>
                    <a:pt x="860" y="211"/>
                  </a:lnTo>
                  <a:lnTo>
                    <a:pt x="927" y="251"/>
                  </a:lnTo>
                  <a:lnTo>
                    <a:pt x="869" y="374"/>
                  </a:lnTo>
                  <a:lnTo>
                    <a:pt x="949" y="308"/>
                  </a:lnTo>
                  <a:lnTo>
                    <a:pt x="1072" y="361"/>
                  </a:lnTo>
                  <a:lnTo>
                    <a:pt x="971" y="464"/>
                  </a:lnTo>
                  <a:lnTo>
                    <a:pt x="1311" y="525"/>
                  </a:lnTo>
                  <a:lnTo>
                    <a:pt x="1081" y="600"/>
                  </a:lnTo>
                  <a:lnTo>
                    <a:pt x="1364" y="640"/>
                  </a:lnTo>
                  <a:lnTo>
                    <a:pt x="1032" y="724"/>
                  </a:lnTo>
                  <a:lnTo>
                    <a:pt x="1103" y="785"/>
                  </a:lnTo>
                  <a:lnTo>
                    <a:pt x="1006" y="852"/>
                  </a:lnTo>
                  <a:lnTo>
                    <a:pt x="1178" y="852"/>
                  </a:lnTo>
                  <a:lnTo>
                    <a:pt x="1160" y="803"/>
                  </a:lnTo>
                  <a:lnTo>
                    <a:pt x="1338" y="847"/>
                  </a:lnTo>
                  <a:lnTo>
                    <a:pt x="1311" y="710"/>
                  </a:lnTo>
                  <a:lnTo>
                    <a:pt x="1474" y="649"/>
                  </a:lnTo>
                  <a:lnTo>
                    <a:pt x="1355" y="587"/>
                  </a:lnTo>
                  <a:lnTo>
                    <a:pt x="1633" y="569"/>
                  </a:lnTo>
                  <a:lnTo>
                    <a:pt x="1395" y="433"/>
                  </a:lnTo>
                  <a:lnTo>
                    <a:pt x="1121" y="396"/>
                  </a:lnTo>
                  <a:lnTo>
                    <a:pt x="1338" y="260"/>
                  </a:lnTo>
                  <a:lnTo>
                    <a:pt x="949" y="260"/>
                  </a:lnTo>
                  <a:lnTo>
                    <a:pt x="1134" y="127"/>
                  </a:lnTo>
                  <a:lnTo>
                    <a:pt x="852" y="163"/>
                  </a:lnTo>
                  <a:lnTo>
                    <a:pt x="719" y="229"/>
                  </a:lnTo>
                  <a:lnTo>
                    <a:pt x="834" y="0"/>
                  </a:lnTo>
                  <a:lnTo>
                    <a:pt x="494" y="127"/>
                  </a:lnTo>
                  <a:lnTo>
                    <a:pt x="304" y="405"/>
                  </a:lnTo>
                  <a:lnTo>
                    <a:pt x="273" y="251"/>
                  </a:lnTo>
                  <a:lnTo>
                    <a:pt x="119" y="361"/>
                  </a:lnTo>
                  <a:lnTo>
                    <a:pt x="101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50000" y="468360"/>
              <a:ext cx="165600" cy="92520"/>
            </a:xfrm>
            <a:custGeom>
              <a:avLst/>
              <a:gdLst/>
              <a:ahLst/>
              <a:rect l="0" t="0" r="r" b="b"/>
              <a:pathLst>
                <a:path w="460" h="257">
                  <a:moveTo>
                    <a:pt x="0" y="257"/>
                  </a:moveTo>
                  <a:lnTo>
                    <a:pt x="172" y="0"/>
                  </a:lnTo>
                  <a:lnTo>
                    <a:pt x="172" y="168"/>
                  </a:lnTo>
                  <a:lnTo>
                    <a:pt x="234" y="102"/>
                  </a:lnTo>
                  <a:lnTo>
                    <a:pt x="287" y="200"/>
                  </a:lnTo>
                  <a:lnTo>
                    <a:pt x="460" y="244"/>
                  </a:lnTo>
                  <a:lnTo>
                    <a:pt x="278" y="213"/>
                  </a:lnTo>
                  <a:lnTo>
                    <a:pt x="221" y="146"/>
                  </a:lnTo>
                  <a:lnTo>
                    <a:pt x="146" y="213"/>
                  </a:lnTo>
                  <a:lnTo>
                    <a:pt x="146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4160" y="1093680"/>
              <a:ext cx="200520" cy="136800"/>
            </a:xfrm>
            <a:custGeom>
              <a:avLst/>
              <a:gdLst/>
              <a:ahLst/>
              <a:rect l="0" t="0" r="r" b="b"/>
              <a:pathLst>
                <a:path w="557" h="380">
                  <a:moveTo>
                    <a:pt x="105" y="132"/>
                  </a:moveTo>
                  <a:lnTo>
                    <a:pt x="331" y="114"/>
                  </a:lnTo>
                  <a:lnTo>
                    <a:pt x="442" y="141"/>
                  </a:lnTo>
                  <a:lnTo>
                    <a:pt x="500" y="88"/>
                  </a:lnTo>
                  <a:lnTo>
                    <a:pt x="557" y="212"/>
                  </a:lnTo>
                  <a:lnTo>
                    <a:pt x="517" y="234"/>
                  </a:lnTo>
                  <a:lnTo>
                    <a:pt x="473" y="185"/>
                  </a:lnTo>
                  <a:lnTo>
                    <a:pt x="397" y="274"/>
                  </a:lnTo>
                  <a:lnTo>
                    <a:pt x="261" y="380"/>
                  </a:lnTo>
                  <a:lnTo>
                    <a:pt x="195" y="380"/>
                  </a:lnTo>
                  <a:lnTo>
                    <a:pt x="105" y="327"/>
                  </a:lnTo>
                  <a:lnTo>
                    <a:pt x="208" y="371"/>
                  </a:lnTo>
                  <a:lnTo>
                    <a:pt x="247" y="371"/>
                  </a:lnTo>
                  <a:lnTo>
                    <a:pt x="331" y="300"/>
                  </a:lnTo>
                  <a:lnTo>
                    <a:pt x="393" y="171"/>
                  </a:lnTo>
                  <a:lnTo>
                    <a:pt x="300" y="154"/>
                  </a:lnTo>
                  <a:lnTo>
                    <a:pt x="243" y="141"/>
                  </a:lnTo>
                  <a:lnTo>
                    <a:pt x="92" y="163"/>
                  </a:lnTo>
                  <a:lnTo>
                    <a:pt x="88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57" y="0"/>
                  </a:lnTo>
                  <a:lnTo>
                    <a:pt x="105" y="101"/>
                  </a:lnTo>
                  <a:lnTo>
                    <a:pt x="105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08960" y="797040"/>
              <a:ext cx="427320" cy="633600"/>
            </a:xfrm>
            <a:custGeom>
              <a:avLst/>
              <a:gdLst/>
              <a:ahLst/>
              <a:rect l="0" t="0" r="r" b="b"/>
              <a:pathLst>
                <a:path w="1187" h="1760">
                  <a:moveTo>
                    <a:pt x="1002" y="0"/>
                  </a:moveTo>
                  <a:lnTo>
                    <a:pt x="1116" y="0"/>
                  </a:lnTo>
                  <a:lnTo>
                    <a:pt x="1187" y="88"/>
                  </a:lnTo>
                  <a:lnTo>
                    <a:pt x="1187" y="180"/>
                  </a:lnTo>
                  <a:lnTo>
                    <a:pt x="1090" y="458"/>
                  </a:lnTo>
                  <a:lnTo>
                    <a:pt x="993" y="590"/>
                  </a:lnTo>
                  <a:lnTo>
                    <a:pt x="891" y="608"/>
                  </a:lnTo>
                  <a:lnTo>
                    <a:pt x="865" y="608"/>
                  </a:lnTo>
                  <a:lnTo>
                    <a:pt x="865" y="957"/>
                  </a:lnTo>
                  <a:lnTo>
                    <a:pt x="909" y="1209"/>
                  </a:lnTo>
                  <a:lnTo>
                    <a:pt x="909" y="1412"/>
                  </a:lnTo>
                  <a:lnTo>
                    <a:pt x="733" y="1619"/>
                  </a:lnTo>
                  <a:lnTo>
                    <a:pt x="485" y="1760"/>
                  </a:lnTo>
                  <a:lnTo>
                    <a:pt x="326" y="1760"/>
                  </a:lnTo>
                  <a:lnTo>
                    <a:pt x="251" y="1720"/>
                  </a:lnTo>
                  <a:lnTo>
                    <a:pt x="141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2" y="1412"/>
                  </a:lnTo>
                  <a:lnTo>
                    <a:pt x="229" y="1500"/>
                  </a:lnTo>
                  <a:lnTo>
                    <a:pt x="418" y="1513"/>
                  </a:lnTo>
                  <a:lnTo>
                    <a:pt x="590" y="1425"/>
                  </a:lnTo>
                  <a:lnTo>
                    <a:pt x="680" y="1328"/>
                  </a:lnTo>
                  <a:lnTo>
                    <a:pt x="777" y="1147"/>
                  </a:lnTo>
                  <a:lnTo>
                    <a:pt x="794" y="935"/>
                  </a:lnTo>
                  <a:lnTo>
                    <a:pt x="830" y="260"/>
                  </a:lnTo>
                  <a:lnTo>
                    <a:pt x="869" y="357"/>
                  </a:lnTo>
                  <a:lnTo>
                    <a:pt x="988" y="233"/>
                  </a:lnTo>
                  <a:lnTo>
                    <a:pt x="1107" y="180"/>
                  </a:lnTo>
                  <a:lnTo>
                    <a:pt x="1138" y="110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46920" y="1343160"/>
              <a:ext cx="344880" cy="586080"/>
            </a:xfrm>
            <a:custGeom>
              <a:avLst/>
              <a:gdLst/>
              <a:ahLst/>
              <a:rect l="0" t="0" r="r" b="b"/>
              <a:pathLst>
                <a:path w="958" h="1628">
                  <a:moveTo>
                    <a:pt x="119" y="0"/>
                  </a:moveTo>
                  <a:lnTo>
                    <a:pt x="229" y="74"/>
                  </a:lnTo>
                  <a:lnTo>
                    <a:pt x="314" y="405"/>
                  </a:lnTo>
                  <a:lnTo>
                    <a:pt x="561" y="480"/>
                  </a:lnTo>
                  <a:lnTo>
                    <a:pt x="631" y="568"/>
                  </a:lnTo>
                  <a:lnTo>
                    <a:pt x="640" y="687"/>
                  </a:lnTo>
                  <a:lnTo>
                    <a:pt x="764" y="670"/>
                  </a:lnTo>
                  <a:lnTo>
                    <a:pt x="910" y="776"/>
                  </a:lnTo>
                  <a:lnTo>
                    <a:pt x="958" y="909"/>
                  </a:lnTo>
                  <a:lnTo>
                    <a:pt x="958" y="1138"/>
                  </a:lnTo>
                  <a:lnTo>
                    <a:pt x="764" y="1487"/>
                  </a:lnTo>
                  <a:lnTo>
                    <a:pt x="697" y="1628"/>
                  </a:lnTo>
                  <a:lnTo>
                    <a:pt x="734" y="1438"/>
                  </a:lnTo>
                  <a:lnTo>
                    <a:pt x="697" y="1368"/>
                  </a:lnTo>
                  <a:lnTo>
                    <a:pt x="578" y="1248"/>
                  </a:lnTo>
                  <a:lnTo>
                    <a:pt x="393" y="1107"/>
                  </a:lnTo>
                  <a:lnTo>
                    <a:pt x="618" y="1187"/>
                  </a:lnTo>
                  <a:lnTo>
                    <a:pt x="751" y="1293"/>
                  </a:lnTo>
                  <a:lnTo>
                    <a:pt x="817" y="1279"/>
                  </a:lnTo>
                  <a:lnTo>
                    <a:pt x="861" y="1222"/>
                  </a:lnTo>
                  <a:lnTo>
                    <a:pt x="910" y="1054"/>
                  </a:lnTo>
                  <a:lnTo>
                    <a:pt x="897" y="896"/>
                  </a:lnTo>
                  <a:lnTo>
                    <a:pt x="826" y="802"/>
                  </a:lnTo>
                  <a:lnTo>
                    <a:pt x="706" y="776"/>
                  </a:lnTo>
                  <a:lnTo>
                    <a:pt x="578" y="776"/>
                  </a:lnTo>
                  <a:lnTo>
                    <a:pt x="534" y="533"/>
                  </a:lnTo>
                  <a:lnTo>
                    <a:pt x="327" y="454"/>
                  </a:lnTo>
                  <a:lnTo>
                    <a:pt x="327" y="520"/>
                  </a:lnTo>
                  <a:lnTo>
                    <a:pt x="229" y="348"/>
                  </a:lnTo>
                  <a:lnTo>
                    <a:pt x="176" y="74"/>
                  </a:lnTo>
                  <a:lnTo>
                    <a:pt x="92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3" y="520"/>
                  </a:lnTo>
                  <a:lnTo>
                    <a:pt x="198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81680" y="1601640"/>
              <a:ext cx="227520" cy="468720"/>
            </a:xfrm>
            <a:custGeom>
              <a:avLst/>
              <a:gdLst/>
              <a:ahLst/>
              <a:rect l="0" t="0" r="r" b="b"/>
              <a:pathLst>
                <a:path w="632" h="1302">
                  <a:moveTo>
                    <a:pt x="632" y="0"/>
                  </a:moveTo>
                  <a:lnTo>
                    <a:pt x="500" y="88"/>
                  </a:lnTo>
                  <a:lnTo>
                    <a:pt x="349" y="402"/>
                  </a:lnTo>
                  <a:lnTo>
                    <a:pt x="199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3" y="1095"/>
                  </a:lnTo>
                  <a:lnTo>
                    <a:pt x="243" y="985"/>
                  </a:lnTo>
                  <a:lnTo>
                    <a:pt x="336" y="750"/>
                  </a:lnTo>
                  <a:lnTo>
                    <a:pt x="464" y="609"/>
                  </a:lnTo>
                  <a:lnTo>
                    <a:pt x="464" y="794"/>
                  </a:lnTo>
                  <a:lnTo>
                    <a:pt x="446" y="966"/>
                  </a:lnTo>
                  <a:lnTo>
                    <a:pt x="309" y="1197"/>
                  </a:lnTo>
                  <a:lnTo>
                    <a:pt x="309" y="1272"/>
                  </a:lnTo>
                  <a:lnTo>
                    <a:pt x="446" y="1302"/>
                  </a:lnTo>
                  <a:lnTo>
                    <a:pt x="349" y="1236"/>
                  </a:lnTo>
                  <a:lnTo>
                    <a:pt x="362" y="1197"/>
                  </a:lnTo>
                  <a:lnTo>
                    <a:pt x="455" y="1029"/>
                  </a:lnTo>
                  <a:lnTo>
                    <a:pt x="522" y="724"/>
                  </a:lnTo>
                  <a:lnTo>
                    <a:pt x="478" y="547"/>
                  </a:lnTo>
                  <a:lnTo>
                    <a:pt x="375" y="649"/>
                  </a:lnTo>
                  <a:lnTo>
                    <a:pt x="149" y="1038"/>
                  </a:lnTo>
                  <a:lnTo>
                    <a:pt x="88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3" y="737"/>
                  </a:lnTo>
                  <a:lnTo>
                    <a:pt x="375" y="419"/>
                  </a:lnTo>
                  <a:lnTo>
                    <a:pt x="522" y="119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0160" y="1865160"/>
              <a:ext cx="141480" cy="225720"/>
            </a:xfrm>
            <a:custGeom>
              <a:avLst/>
              <a:gdLst/>
              <a:ahLst/>
              <a:rect l="0" t="0" r="r" b="b"/>
              <a:pathLst>
                <a:path w="393" h="627">
                  <a:moveTo>
                    <a:pt x="0" y="552"/>
                  </a:moveTo>
                  <a:lnTo>
                    <a:pt x="127" y="393"/>
                  </a:lnTo>
                  <a:lnTo>
                    <a:pt x="154" y="233"/>
                  </a:lnTo>
                  <a:lnTo>
                    <a:pt x="305" y="0"/>
                  </a:lnTo>
                  <a:lnTo>
                    <a:pt x="336" y="154"/>
                  </a:lnTo>
                  <a:lnTo>
                    <a:pt x="314" y="565"/>
                  </a:lnTo>
                  <a:lnTo>
                    <a:pt x="393" y="627"/>
                  </a:lnTo>
                  <a:lnTo>
                    <a:pt x="278" y="583"/>
                  </a:lnTo>
                  <a:lnTo>
                    <a:pt x="221" y="349"/>
                  </a:lnTo>
                  <a:lnTo>
                    <a:pt x="12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22960" y="1878120"/>
              <a:ext cx="93960" cy="201960"/>
            </a:xfrm>
            <a:custGeom>
              <a:avLst/>
              <a:gdLst/>
              <a:ahLst/>
              <a:rect l="0" t="0" r="r" b="b"/>
              <a:pathLst>
                <a:path w="261" h="561">
                  <a:moveTo>
                    <a:pt x="0" y="419"/>
                  </a:moveTo>
                  <a:lnTo>
                    <a:pt x="13" y="216"/>
                  </a:lnTo>
                  <a:lnTo>
                    <a:pt x="66" y="92"/>
                  </a:lnTo>
                  <a:lnTo>
                    <a:pt x="127" y="534"/>
                  </a:lnTo>
                  <a:lnTo>
                    <a:pt x="208" y="534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67"/>
                  </a:lnTo>
                  <a:lnTo>
                    <a:pt x="208" y="561"/>
                  </a:lnTo>
                  <a:lnTo>
                    <a:pt x="101" y="561"/>
                  </a:lnTo>
                  <a:lnTo>
                    <a:pt x="57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08800" y="1082520"/>
              <a:ext cx="225720" cy="540000"/>
            </a:xfrm>
            <a:custGeom>
              <a:avLst/>
              <a:gdLst/>
              <a:ahLst/>
              <a:rect l="0" t="0" r="r" b="b"/>
              <a:pathLst>
                <a:path w="627" h="1500">
                  <a:moveTo>
                    <a:pt x="163" y="812"/>
                  </a:moveTo>
                  <a:lnTo>
                    <a:pt x="211" y="577"/>
                  </a:lnTo>
                  <a:lnTo>
                    <a:pt x="424" y="515"/>
                  </a:lnTo>
                  <a:lnTo>
                    <a:pt x="627" y="0"/>
                  </a:lnTo>
                  <a:lnTo>
                    <a:pt x="627" y="149"/>
                  </a:lnTo>
                  <a:lnTo>
                    <a:pt x="455" y="546"/>
                  </a:lnTo>
                  <a:lnTo>
                    <a:pt x="229" y="621"/>
                  </a:lnTo>
                  <a:lnTo>
                    <a:pt x="198" y="812"/>
                  </a:lnTo>
                  <a:lnTo>
                    <a:pt x="277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55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2" y="821"/>
                  </a:lnTo>
                  <a:lnTo>
                    <a:pt x="163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61440" y="1082520"/>
              <a:ext cx="376560" cy="524160"/>
            </a:xfrm>
            <a:custGeom>
              <a:avLst/>
              <a:gdLst/>
              <a:ahLst/>
              <a:rect l="0" t="0" r="r" b="b"/>
              <a:pathLst>
                <a:path w="1046" h="1456">
                  <a:moveTo>
                    <a:pt x="286" y="0"/>
                  </a:moveTo>
                  <a:lnTo>
                    <a:pt x="352" y="44"/>
                  </a:lnTo>
                  <a:lnTo>
                    <a:pt x="370" y="167"/>
                  </a:lnTo>
                  <a:lnTo>
                    <a:pt x="370" y="282"/>
                  </a:lnTo>
                  <a:lnTo>
                    <a:pt x="255" y="493"/>
                  </a:lnTo>
                  <a:lnTo>
                    <a:pt x="277" y="648"/>
                  </a:lnTo>
                  <a:lnTo>
                    <a:pt x="627" y="821"/>
                  </a:lnTo>
                  <a:lnTo>
                    <a:pt x="1037" y="1275"/>
                  </a:lnTo>
                  <a:lnTo>
                    <a:pt x="1046" y="1403"/>
                  </a:lnTo>
                  <a:lnTo>
                    <a:pt x="1024" y="1456"/>
                  </a:lnTo>
                  <a:lnTo>
                    <a:pt x="869" y="1456"/>
                  </a:lnTo>
                  <a:lnTo>
                    <a:pt x="733" y="1368"/>
                  </a:lnTo>
                  <a:lnTo>
                    <a:pt x="622" y="1218"/>
                  </a:lnTo>
                  <a:lnTo>
                    <a:pt x="561" y="1129"/>
                  </a:lnTo>
                  <a:lnTo>
                    <a:pt x="485" y="1116"/>
                  </a:lnTo>
                  <a:lnTo>
                    <a:pt x="574" y="1116"/>
                  </a:lnTo>
                  <a:lnTo>
                    <a:pt x="746" y="1354"/>
                  </a:lnTo>
                  <a:lnTo>
                    <a:pt x="966" y="1425"/>
                  </a:lnTo>
                  <a:lnTo>
                    <a:pt x="1010" y="1354"/>
                  </a:lnTo>
                  <a:lnTo>
                    <a:pt x="988" y="1244"/>
                  </a:lnTo>
                  <a:lnTo>
                    <a:pt x="605" y="918"/>
                  </a:lnTo>
                  <a:lnTo>
                    <a:pt x="552" y="821"/>
                  </a:lnTo>
                  <a:lnTo>
                    <a:pt x="255" y="737"/>
                  </a:lnTo>
                  <a:lnTo>
                    <a:pt x="202" y="821"/>
                  </a:lnTo>
                  <a:lnTo>
                    <a:pt x="0" y="957"/>
                  </a:lnTo>
                  <a:lnTo>
                    <a:pt x="189" y="799"/>
                  </a:lnTo>
                  <a:lnTo>
                    <a:pt x="202" y="696"/>
                  </a:lnTo>
                  <a:lnTo>
                    <a:pt x="202" y="463"/>
                  </a:lnTo>
                  <a:lnTo>
                    <a:pt x="335" y="282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91600" y="1494000"/>
              <a:ext cx="321120" cy="309960"/>
            </a:xfrm>
            <a:custGeom>
              <a:avLst/>
              <a:gdLst/>
              <a:ahLst/>
              <a:rect l="0" t="0" r="r" b="b"/>
              <a:pathLst>
                <a:path w="892" h="861">
                  <a:moveTo>
                    <a:pt x="672" y="0"/>
                  </a:moveTo>
                  <a:lnTo>
                    <a:pt x="644" y="74"/>
                  </a:lnTo>
                  <a:lnTo>
                    <a:pt x="778" y="358"/>
                  </a:lnTo>
                  <a:lnTo>
                    <a:pt x="844" y="650"/>
                  </a:lnTo>
                  <a:lnTo>
                    <a:pt x="769" y="650"/>
                  </a:lnTo>
                  <a:lnTo>
                    <a:pt x="636" y="521"/>
                  </a:lnTo>
                  <a:lnTo>
                    <a:pt x="512" y="252"/>
                  </a:lnTo>
                  <a:lnTo>
                    <a:pt x="419" y="211"/>
                  </a:lnTo>
                  <a:lnTo>
                    <a:pt x="433" y="358"/>
                  </a:lnTo>
                  <a:lnTo>
                    <a:pt x="521" y="464"/>
                  </a:lnTo>
                  <a:lnTo>
                    <a:pt x="521" y="667"/>
                  </a:lnTo>
                  <a:lnTo>
                    <a:pt x="459" y="822"/>
                  </a:lnTo>
                  <a:lnTo>
                    <a:pt x="375" y="760"/>
                  </a:lnTo>
                  <a:lnTo>
                    <a:pt x="274" y="521"/>
                  </a:lnTo>
                  <a:lnTo>
                    <a:pt x="252" y="358"/>
                  </a:lnTo>
                  <a:lnTo>
                    <a:pt x="189" y="314"/>
                  </a:lnTo>
                  <a:lnTo>
                    <a:pt x="176" y="729"/>
                  </a:lnTo>
                  <a:lnTo>
                    <a:pt x="92" y="786"/>
                  </a:lnTo>
                  <a:lnTo>
                    <a:pt x="22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57" y="848"/>
                  </a:lnTo>
                  <a:lnTo>
                    <a:pt x="176" y="848"/>
                  </a:lnTo>
                  <a:lnTo>
                    <a:pt x="216" y="747"/>
                  </a:lnTo>
                  <a:lnTo>
                    <a:pt x="239" y="419"/>
                  </a:lnTo>
                  <a:lnTo>
                    <a:pt x="261" y="547"/>
                  </a:lnTo>
                  <a:lnTo>
                    <a:pt x="362" y="831"/>
                  </a:lnTo>
                  <a:lnTo>
                    <a:pt x="468" y="861"/>
                  </a:lnTo>
                  <a:lnTo>
                    <a:pt x="552" y="747"/>
                  </a:lnTo>
                  <a:lnTo>
                    <a:pt x="552" y="477"/>
                  </a:lnTo>
                  <a:lnTo>
                    <a:pt x="769" y="703"/>
                  </a:lnTo>
                  <a:lnTo>
                    <a:pt x="879" y="703"/>
                  </a:lnTo>
                  <a:lnTo>
                    <a:pt x="892" y="547"/>
                  </a:lnTo>
                  <a:lnTo>
                    <a:pt x="808" y="27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95960" y="1173240"/>
              <a:ext cx="1427400" cy="1263960"/>
            </a:xfrm>
            <a:custGeom>
              <a:avLst/>
              <a:gdLst/>
              <a:ahLst/>
              <a:rect l="0" t="0" r="r" b="b"/>
              <a:pathLst>
                <a:path w="3965" h="3511">
                  <a:moveTo>
                    <a:pt x="1428" y="295"/>
                  </a:moveTo>
                  <a:lnTo>
                    <a:pt x="1353" y="308"/>
                  </a:lnTo>
                  <a:lnTo>
                    <a:pt x="1243" y="485"/>
                  </a:lnTo>
                  <a:lnTo>
                    <a:pt x="1203" y="357"/>
                  </a:lnTo>
                  <a:lnTo>
                    <a:pt x="1075" y="282"/>
                  </a:lnTo>
                  <a:lnTo>
                    <a:pt x="983" y="339"/>
                  </a:lnTo>
                  <a:lnTo>
                    <a:pt x="943" y="568"/>
                  </a:lnTo>
                  <a:lnTo>
                    <a:pt x="586" y="846"/>
                  </a:lnTo>
                  <a:lnTo>
                    <a:pt x="608" y="965"/>
                  </a:lnTo>
                  <a:lnTo>
                    <a:pt x="524" y="1071"/>
                  </a:lnTo>
                  <a:lnTo>
                    <a:pt x="524" y="1159"/>
                  </a:lnTo>
                  <a:lnTo>
                    <a:pt x="626" y="1424"/>
                  </a:lnTo>
                  <a:lnTo>
                    <a:pt x="634" y="1750"/>
                  </a:lnTo>
                  <a:lnTo>
                    <a:pt x="568" y="2055"/>
                  </a:lnTo>
                  <a:lnTo>
                    <a:pt x="313" y="2241"/>
                  </a:lnTo>
                  <a:lnTo>
                    <a:pt x="277" y="2492"/>
                  </a:lnTo>
                  <a:lnTo>
                    <a:pt x="198" y="2492"/>
                  </a:lnTo>
                  <a:lnTo>
                    <a:pt x="158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76" y="2867"/>
                  </a:lnTo>
                  <a:lnTo>
                    <a:pt x="299" y="2880"/>
                  </a:lnTo>
                  <a:lnTo>
                    <a:pt x="524" y="3105"/>
                  </a:lnTo>
                  <a:lnTo>
                    <a:pt x="727" y="3131"/>
                  </a:lnTo>
                  <a:lnTo>
                    <a:pt x="842" y="3012"/>
                  </a:lnTo>
                  <a:lnTo>
                    <a:pt x="1115" y="2580"/>
                  </a:lnTo>
                  <a:lnTo>
                    <a:pt x="1137" y="3162"/>
                  </a:lnTo>
                  <a:lnTo>
                    <a:pt x="1115" y="3511"/>
                  </a:lnTo>
                  <a:lnTo>
                    <a:pt x="3405" y="3511"/>
                  </a:lnTo>
                  <a:lnTo>
                    <a:pt x="3237" y="3131"/>
                  </a:lnTo>
                  <a:lnTo>
                    <a:pt x="3158" y="2805"/>
                  </a:lnTo>
                  <a:lnTo>
                    <a:pt x="3136" y="2320"/>
                  </a:lnTo>
                  <a:lnTo>
                    <a:pt x="3268" y="2430"/>
                  </a:lnTo>
                  <a:lnTo>
                    <a:pt x="3405" y="2430"/>
                  </a:lnTo>
                  <a:lnTo>
                    <a:pt x="3594" y="2302"/>
                  </a:lnTo>
                  <a:lnTo>
                    <a:pt x="3718" y="2285"/>
                  </a:lnTo>
                  <a:lnTo>
                    <a:pt x="3797" y="2157"/>
                  </a:lnTo>
                  <a:lnTo>
                    <a:pt x="3850" y="1826"/>
                  </a:lnTo>
                  <a:lnTo>
                    <a:pt x="3965" y="1688"/>
                  </a:lnTo>
                  <a:lnTo>
                    <a:pt x="3908" y="1591"/>
                  </a:lnTo>
                  <a:lnTo>
                    <a:pt x="3819" y="1591"/>
                  </a:lnTo>
                  <a:lnTo>
                    <a:pt x="3753" y="1658"/>
                  </a:lnTo>
                  <a:lnTo>
                    <a:pt x="3687" y="1675"/>
                  </a:lnTo>
                  <a:lnTo>
                    <a:pt x="3608" y="1591"/>
                  </a:lnTo>
                  <a:lnTo>
                    <a:pt x="3506" y="1578"/>
                  </a:lnTo>
                  <a:lnTo>
                    <a:pt x="3330" y="1455"/>
                  </a:lnTo>
                  <a:lnTo>
                    <a:pt x="3215" y="1322"/>
                  </a:lnTo>
                  <a:lnTo>
                    <a:pt x="3193" y="1159"/>
                  </a:lnTo>
                  <a:lnTo>
                    <a:pt x="3215" y="1005"/>
                  </a:lnTo>
                  <a:lnTo>
                    <a:pt x="3290" y="877"/>
                  </a:lnTo>
                  <a:lnTo>
                    <a:pt x="3387" y="762"/>
                  </a:lnTo>
                  <a:lnTo>
                    <a:pt x="3378" y="560"/>
                  </a:lnTo>
                  <a:lnTo>
                    <a:pt x="3378" y="414"/>
                  </a:lnTo>
                  <a:lnTo>
                    <a:pt x="3330" y="308"/>
                  </a:lnTo>
                  <a:lnTo>
                    <a:pt x="3193" y="264"/>
                  </a:lnTo>
                  <a:lnTo>
                    <a:pt x="3149" y="238"/>
                  </a:lnTo>
                  <a:lnTo>
                    <a:pt x="3056" y="66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23"/>
                  </a:lnTo>
                  <a:lnTo>
                    <a:pt x="2677" y="176"/>
                  </a:lnTo>
                  <a:lnTo>
                    <a:pt x="2580" y="198"/>
                  </a:lnTo>
                  <a:lnTo>
                    <a:pt x="2470" y="198"/>
                  </a:lnTo>
                  <a:lnTo>
                    <a:pt x="2492" y="370"/>
                  </a:lnTo>
                  <a:lnTo>
                    <a:pt x="2492" y="586"/>
                  </a:lnTo>
                  <a:lnTo>
                    <a:pt x="2470" y="732"/>
                  </a:lnTo>
                  <a:lnTo>
                    <a:pt x="2373" y="903"/>
                  </a:lnTo>
                  <a:lnTo>
                    <a:pt x="2249" y="1168"/>
                  </a:lnTo>
                  <a:lnTo>
                    <a:pt x="2152" y="1486"/>
                  </a:lnTo>
                  <a:lnTo>
                    <a:pt x="2144" y="1675"/>
                  </a:lnTo>
                  <a:lnTo>
                    <a:pt x="2095" y="1839"/>
                  </a:lnTo>
                  <a:lnTo>
                    <a:pt x="2038" y="1998"/>
                  </a:lnTo>
                  <a:lnTo>
                    <a:pt x="2011" y="2254"/>
                  </a:lnTo>
                  <a:lnTo>
                    <a:pt x="2025" y="2466"/>
                  </a:lnTo>
                  <a:lnTo>
                    <a:pt x="2095" y="2712"/>
                  </a:lnTo>
                  <a:lnTo>
                    <a:pt x="2144" y="2805"/>
                  </a:lnTo>
                  <a:lnTo>
                    <a:pt x="2011" y="2898"/>
                  </a:lnTo>
                  <a:lnTo>
                    <a:pt x="1847" y="2955"/>
                  </a:lnTo>
                  <a:lnTo>
                    <a:pt x="1675" y="2973"/>
                  </a:lnTo>
                  <a:lnTo>
                    <a:pt x="1565" y="2973"/>
                  </a:lnTo>
                  <a:lnTo>
                    <a:pt x="1494" y="2937"/>
                  </a:lnTo>
                  <a:lnTo>
                    <a:pt x="1494" y="2730"/>
                  </a:lnTo>
                  <a:lnTo>
                    <a:pt x="1494" y="2417"/>
                  </a:lnTo>
                  <a:lnTo>
                    <a:pt x="1450" y="2113"/>
                  </a:lnTo>
                  <a:lnTo>
                    <a:pt x="1380" y="1839"/>
                  </a:lnTo>
                  <a:lnTo>
                    <a:pt x="1344" y="1618"/>
                  </a:lnTo>
                  <a:lnTo>
                    <a:pt x="1331" y="1305"/>
                  </a:lnTo>
                  <a:lnTo>
                    <a:pt x="1380" y="1036"/>
                  </a:lnTo>
                  <a:lnTo>
                    <a:pt x="1450" y="820"/>
                  </a:lnTo>
                  <a:lnTo>
                    <a:pt x="1459" y="687"/>
                  </a:lnTo>
                  <a:lnTo>
                    <a:pt x="1428" y="502"/>
                  </a:lnTo>
                  <a:lnTo>
                    <a:pt x="1428" y="357"/>
                  </a:lnTo>
                  <a:lnTo>
                    <a:pt x="1450" y="308"/>
                  </a:lnTo>
                  <a:lnTo>
                    <a:pt x="1428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51800" y="1427040"/>
              <a:ext cx="181440" cy="821160"/>
            </a:xfrm>
            <a:custGeom>
              <a:avLst/>
              <a:gdLst/>
              <a:ahLst/>
              <a:rect l="0" t="0" r="r" b="b"/>
              <a:pathLst>
                <a:path w="504" h="2281">
                  <a:moveTo>
                    <a:pt x="199" y="26"/>
                  </a:moveTo>
                  <a:lnTo>
                    <a:pt x="66" y="101"/>
                  </a:lnTo>
                  <a:lnTo>
                    <a:pt x="79" y="321"/>
                  </a:lnTo>
                  <a:lnTo>
                    <a:pt x="177" y="383"/>
                  </a:lnTo>
                  <a:lnTo>
                    <a:pt x="57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57" y="1368"/>
                  </a:lnTo>
                  <a:lnTo>
                    <a:pt x="105" y="1645"/>
                  </a:lnTo>
                  <a:lnTo>
                    <a:pt x="105" y="1805"/>
                  </a:lnTo>
                  <a:lnTo>
                    <a:pt x="57" y="2004"/>
                  </a:lnTo>
                  <a:lnTo>
                    <a:pt x="261" y="2281"/>
                  </a:lnTo>
                  <a:lnTo>
                    <a:pt x="344" y="2237"/>
                  </a:lnTo>
                  <a:lnTo>
                    <a:pt x="403" y="2043"/>
                  </a:lnTo>
                  <a:lnTo>
                    <a:pt x="495" y="1792"/>
                  </a:lnTo>
                  <a:lnTo>
                    <a:pt x="504" y="1659"/>
                  </a:lnTo>
                  <a:lnTo>
                    <a:pt x="425" y="1407"/>
                  </a:lnTo>
                  <a:lnTo>
                    <a:pt x="331" y="1165"/>
                  </a:lnTo>
                  <a:lnTo>
                    <a:pt x="296" y="993"/>
                  </a:lnTo>
                  <a:lnTo>
                    <a:pt x="296" y="830"/>
                  </a:lnTo>
                  <a:lnTo>
                    <a:pt x="331" y="680"/>
                  </a:lnTo>
                  <a:lnTo>
                    <a:pt x="403" y="498"/>
                  </a:lnTo>
                  <a:lnTo>
                    <a:pt x="403" y="423"/>
                  </a:lnTo>
                  <a:lnTo>
                    <a:pt x="367" y="352"/>
                  </a:lnTo>
                  <a:lnTo>
                    <a:pt x="460" y="260"/>
                  </a:lnTo>
                  <a:lnTo>
                    <a:pt x="460" y="171"/>
                  </a:lnTo>
                  <a:lnTo>
                    <a:pt x="331" y="0"/>
                  </a:lnTo>
                  <a:lnTo>
                    <a:pt x="438" y="171"/>
                  </a:lnTo>
                  <a:lnTo>
                    <a:pt x="438" y="246"/>
                  </a:lnTo>
                  <a:lnTo>
                    <a:pt x="344" y="321"/>
                  </a:lnTo>
                  <a:lnTo>
                    <a:pt x="381" y="423"/>
                  </a:lnTo>
                  <a:lnTo>
                    <a:pt x="367" y="498"/>
                  </a:lnTo>
                  <a:lnTo>
                    <a:pt x="274" y="710"/>
                  </a:lnTo>
                  <a:lnTo>
                    <a:pt x="261" y="913"/>
                  </a:lnTo>
                  <a:lnTo>
                    <a:pt x="283" y="1107"/>
                  </a:lnTo>
                  <a:lnTo>
                    <a:pt x="344" y="1381"/>
                  </a:lnTo>
                  <a:lnTo>
                    <a:pt x="425" y="1601"/>
                  </a:lnTo>
                  <a:lnTo>
                    <a:pt x="425" y="1779"/>
                  </a:lnTo>
                  <a:lnTo>
                    <a:pt x="381" y="2004"/>
                  </a:lnTo>
                  <a:lnTo>
                    <a:pt x="283" y="2237"/>
                  </a:lnTo>
                  <a:lnTo>
                    <a:pt x="164" y="2109"/>
                  </a:lnTo>
                  <a:lnTo>
                    <a:pt x="119" y="2004"/>
                  </a:lnTo>
                  <a:lnTo>
                    <a:pt x="128" y="1779"/>
                  </a:lnTo>
                  <a:lnTo>
                    <a:pt x="119" y="1553"/>
                  </a:lnTo>
                  <a:lnTo>
                    <a:pt x="57" y="1253"/>
                  </a:lnTo>
                  <a:lnTo>
                    <a:pt x="35" y="1046"/>
                  </a:lnTo>
                  <a:lnTo>
                    <a:pt x="57" y="812"/>
                  </a:lnTo>
                  <a:lnTo>
                    <a:pt x="105" y="591"/>
                  </a:lnTo>
                  <a:lnTo>
                    <a:pt x="212" y="366"/>
                  </a:lnTo>
                  <a:lnTo>
                    <a:pt x="119" y="273"/>
                  </a:lnTo>
                  <a:lnTo>
                    <a:pt x="105" y="114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66240" y="468360"/>
              <a:ext cx="284400" cy="398880"/>
            </a:xfrm>
            <a:custGeom>
              <a:avLst/>
              <a:gdLst/>
              <a:ahLst/>
              <a:rect l="0" t="0" r="r" b="b"/>
              <a:pathLst>
                <a:path w="790" h="1108">
                  <a:moveTo>
                    <a:pt x="132" y="283"/>
                  </a:moveTo>
                  <a:lnTo>
                    <a:pt x="246" y="260"/>
                  </a:lnTo>
                  <a:lnTo>
                    <a:pt x="361" y="268"/>
                  </a:lnTo>
                  <a:lnTo>
                    <a:pt x="455" y="314"/>
                  </a:lnTo>
                  <a:lnTo>
                    <a:pt x="503" y="375"/>
                  </a:lnTo>
                  <a:lnTo>
                    <a:pt x="530" y="433"/>
                  </a:lnTo>
                  <a:lnTo>
                    <a:pt x="530" y="490"/>
                  </a:lnTo>
                  <a:lnTo>
                    <a:pt x="499" y="525"/>
                  </a:lnTo>
                  <a:lnTo>
                    <a:pt x="450" y="552"/>
                  </a:lnTo>
                  <a:lnTo>
                    <a:pt x="392" y="556"/>
                  </a:lnTo>
                  <a:lnTo>
                    <a:pt x="321" y="538"/>
                  </a:lnTo>
                  <a:lnTo>
                    <a:pt x="251" y="494"/>
                  </a:lnTo>
                  <a:lnTo>
                    <a:pt x="198" y="450"/>
                  </a:lnTo>
                  <a:lnTo>
                    <a:pt x="176" y="591"/>
                  </a:lnTo>
                  <a:lnTo>
                    <a:pt x="132" y="693"/>
                  </a:lnTo>
                  <a:lnTo>
                    <a:pt x="0" y="928"/>
                  </a:lnTo>
                  <a:lnTo>
                    <a:pt x="189" y="1108"/>
                  </a:lnTo>
                  <a:lnTo>
                    <a:pt x="335" y="807"/>
                  </a:lnTo>
                  <a:lnTo>
                    <a:pt x="499" y="835"/>
                  </a:lnTo>
                  <a:lnTo>
                    <a:pt x="605" y="812"/>
                  </a:lnTo>
                  <a:lnTo>
                    <a:pt x="702" y="741"/>
                  </a:lnTo>
                  <a:lnTo>
                    <a:pt x="759" y="658"/>
                  </a:lnTo>
                  <a:lnTo>
                    <a:pt x="790" y="543"/>
                  </a:lnTo>
                  <a:lnTo>
                    <a:pt x="790" y="424"/>
                  </a:lnTo>
                  <a:lnTo>
                    <a:pt x="759" y="296"/>
                  </a:lnTo>
                  <a:lnTo>
                    <a:pt x="697" y="167"/>
                  </a:lnTo>
                  <a:lnTo>
                    <a:pt x="613" y="79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15480" y="855720"/>
              <a:ext cx="101880" cy="79560"/>
            </a:xfrm>
            <a:custGeom>
              <a:avLst/>
              <a:gdLst/>
              <a:ahLst/>
              <a:rect l="0" t="0" r="r" b="b"/>
              <a:pathLst>
                <a:path w="283" h="221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57" y="190"/>
                  </a:lnTo>
                  <a:lnTo>
                    <a:pt x="172" y="221"/>
                  </a:lnTo>
                  <a:lnTo>
                    <a:pt x="256" y="217"/>
                  </a:lnTo>
                  <a:lnTo>
                    <a:pt x="283" y="164"/>
                  </a:lnTo>
                  <a:lnTo>
                    <a:pt x="269" y="120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10666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35040" indent="-6350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five groups of effective budgeting princi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66680" y="99072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ste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3880" y="228600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master budget process for different types of organizations, and list the guidelines for prepar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144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budge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explain its role in the management cycle.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the basic principles of budg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master budget process for different types of organizations, and list the guidelines for prepar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3808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8080" y="30492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ste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219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master budget is a set of budgets that consolidate an organization’s financial information into budgeted financial statements for a future period of time. They include 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8080" y="411480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7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 expenditure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14400" y="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66680" y="160020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cause of the different activities and information needs of managers in manufacturing, retail, and service organizations, the master budget process in those settings differs in the preparation of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808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281952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materials purch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of goods manufactu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expe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14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budgets for a manufacturing organization include budget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8080" y="53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tail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95280" y="281952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3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products to s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stimated quantities to be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elling price for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71600" y="16002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of retail organizations must kn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1430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tail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297180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of goods sold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680" y="1676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budgets for retail organizations include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4240" y="1289160"/>
            <a:ext cx="778500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68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Preparation of a Master Budget for a Retai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660760" y="563256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ditur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660760" y="227952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chas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60760" y="144144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660760" y="479412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h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60760" y="395604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660760" y="311796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d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88920" y="2666880"/>
            <a:ext cx="1384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38240" y="5105520"/>
            <a:ext cx="1285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861160" y="2736720"/>
            <a:ext cx="245124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s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861160" y="479412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199224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830680"/>
            <a:ext cx="0" cy="293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66876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450684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809880" y="534024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16680" y="5105520"/>
            <a:ext cx="750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16680" y="594360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162920" y="534024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16680" y="434340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435456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16680" y="411480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162920" y="366408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62920" y="1682640"/>
            <a:ext cx="0" cy="1055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16680" y="167652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763640" y="144792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1459080"/>
            <a:ext cx="0" cy="128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763640" y="457200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3440160"/>
            <a:ext cx="0" cy="11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63640" y="472428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763640" y="617220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473544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5802480"/>
            <a:ext cx="0" cy="36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808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66680" y="3352680"/>
            <a:ext cx="72388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s to per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 hour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evel of expertise of employ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 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43000" y="144792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of service organizations must know the types and amount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8080" y="53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66680" y="2895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 reven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s overh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43000" y="160020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budgets for service organization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1960" y="1365120"/>
            <a:ext cx="801360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6668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Preparation of a Master Budget for a Service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336920" y="159372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2960" y="2514600"/>
            <a:ext cx="1384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12960" y="5029200"/>
            <a:ext cx="1285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699240" y="2508120"/>
            <a:ext cx="191772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s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156440" y="4565520"/>
            <a:ext cx="1536840" cy="851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432160" y="2508120"/>
            <a:ext cx="191772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5520" y="2508120"/>
            <a:ext cx="191772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2144880"/>
            <a:ext cx="0" cy="369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11560" y="2286000"/>
            <a:ext cx="4484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96080" y="2297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297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3440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11560" y="3657600"/>
            <a:ext cx="4484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3440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60960" y="3803760"/>
            <a:ext cx="2527200" cy="622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60960" y="4718160"/>
            <a:ext cx="2527200" cy="622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h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260960" y="5632560"/>
            <a:ext cx="2527200" cy="622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ditur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4430880"/>
            <a:ext cx="0" cy="2934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486400" y="5340240"/>
            <a:ext cx="0" cy="293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3440160"/>
            <a:ext cx="0" cy="369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92840" y="5029200"/>
            <a:ext cx="3700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92840" y="4114800"/>
            <a:ext cx="1055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92840" y="5943600"/>
            <a:ext cx="1055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48720" y="412596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848720" y="5416560"/>
            <a:ext cx="0" cy="5223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687680" y="464832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687680" y="624852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465948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57261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687680" y="449568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687680" y="152388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153504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3363840"/>
            <a:ext cx="0" cy="11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808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66680" y="259092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the budget is being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o will read and use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the information will be presen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re the informati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3000" y="137160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improve the quality of the budgets, managers need to kn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43000" y="144792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income statement and supporting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balance sheet.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 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discuss its relation to responsibility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8080" y="42670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666880" y="106668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62120" y="228600"/>
            <a:ext cx="2132280" cy="2132280"/>
            <a:chOff x="762120" y="228600"/>
            <a:chExt cx="2132280" cy="2132280"/>
          </a:xfrm>
        </p:grpSpPr>
        <p:sp>
          <p:nvSpPr>
            <p:cNvPr id="258" name=""/>
            <p:cNvSpPr/>
            <p:nvPr/>
          </p:nvSpPr>
          <p:spPr>
            <a:xfrm>
              <a:off x="768240" y="127476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32" y="1773"/>
                  </a:lnTo>
                  <a:lnTo>
                    <a:pt x="220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64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2" y="1822"/>
                  </a:lnTo>
                  <a:lnTo>
                    <a:pt x="768" y="1579"/>
                  </a:lnTo>
                  <a:lnTo>
                    <a:pt x="768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27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01680" y="157788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93840" y="1370160"/>
              <a:ext cx="383040" cy="325800"/>
            </a:xfrm>
            <a:custGeom>
              <a:avLst/>
              <a:gdLst/>
              <a:ahLst/>
              <a:rect l="0" t="0" r="r" b="b"/>
              <a:pathLst>
                <a:path w="1064" h="905">
                  <a:moveTo>
                    <a:pt x="437" y="0"/>
                  </a:moveTo>
                  <a:lnTo>
                    <a:pt x="437" y="145"/>
                  </a:lnTo>
                  <a:lnTo>
                    <a:pt x="477" y="274"/>
                  </a:lnTo>
                  <a:lnTo>
                    <a:pt x="684" y="490"/>
                  </a:lnTo>
                  <a:lnTo>
                    <a:pt x="1064" y="613"/>
                  </a:lnTo>
                  <a:lnTo>
                    <a:pt x="1011" y="888"/>
                  </a:lnTo>
                  <a:lnTo>
                    <a:pt x="684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47920" y="100188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19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8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4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6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71680" y="379440"/>
              <a:ext cx="582840" cy="918000"/>
            </a:xfrm>
            <a:custGeom>
              <a:avLst/>
              <a:gdLst/>
              <a:ahLst/>
              <a:rect l="0" t="0" r="r" b="b"/>
              <a:pathLst>
                <a:path w="1619" h="2550">
                  <a:moveTo>
                    <a:pt x="405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7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6" y="2339"/>
                  </a:lnTo>
                  <a:lnTo>
                    <a:pt x="771" y="2550"/>
                  </a:lnTo>
                  <a:lnTo>
                    <a:pt x="1099" y="2519"/>
                  </a:lnTo>
                  <a:lnTo>
                    <a:pt x="1257" y="2096"/>
                  </a:lnTo>
                  <a:lnTo>
                    <a:pt x="1293" y="1451"/>
                  </a:lnTo>
                  <a:lnTo>
                    <a:pt x="1619" y="1129"/>
                  </a:lnTo>
                  <a:lnTo>
                    <a:pt x="1601" y="1002"/>
                  </a:lnTo>
                  <a:lnTo>
                    <a:pt x="1566" y="940"/>
                  </a:lnTo>
                  <a:lnTo>
                    <a:pt x="1394" y="927"/>
                  </a:lnTo>
                  <a:lnTo>
                    <a:pt x="1447" y="759"/>
                  </a:lnTo>
                  <a:lnTo>
                    <a:pt x="1279" y="644"/>
                  </a:lnTo>
                  <a:lnTo>
                    <a:pt x="1204" y="277"/>
                  </a:lnTo>
                  <a:lnTo>
                    <a:pt x="701" y="0"/>
                  </a:lnTo>
                  <a:lnTo>
                    <a:pt x="436" y="260"/>
                  </a:lnTo>
                  <a:lnTo>
                    <a:pt x="405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14520" y="114444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6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399" y="97"/>
                  </a:lnTo>
                  <a:lnTo>
                    <a:pt x="1483" y="577"/>
                  </a:lnTo>
                  <a:lnTo>
                    <a:pt x="1054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38280" y="25884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71" y="769"/>
                  </a:moveTo>
                  <a:lnTo>
                    <a:pt x="370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6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66" y="230"/>
                  </a:lnTo>
                  <a:lnTo>
                    <a:pt x="935" y="114"/>
                  </a:lnTo>
                  <a:lnTo>
                    <a:pt x="816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65" y="0"/>
                  </a:lnTo>
                  <a:lnTo>
                    <a:pt x="502" y="83"/>
                  </a:lnTo>
                  <a:lnTo>
                    <a:pt x="273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71480" y="134784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25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5" y="1848"/>
                  </a:lnTo>
                  <a:lnTo>
                    <a:pt x="425" y="1544"/>
                  </a:lnTo>
                  <a:lnTo>
                    <a:pt x="318" y="1257"/>
                  </a:lnTo>
                  <a:lnTo>
                    <a:pt x="265" y="868"/>
                  </a:lnTo>
                  <a:lnTo>
                    <a:pt x="372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5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66800" y="106992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84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25680" y="68724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06480" y="65232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5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68440" y="44460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8" y="1015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72"/>
                  </a:lnTo>
                  <a:lnTo>
                    <a:pt x="1125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73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28" y="480"/>
                  </a:lnTo>
                  <a:lnTo>
                    <a:pt x="1301" y="251"/>
                  </a:lnTo>
                  <a:lnTo>
                    <a:pt x="1138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78" y="702"/>
                  </a:lnTo>
                  <a:lnTo>
                    <a:pt x="718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58880" y="91116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79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7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9080" y="77796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39" y="653"/>
                  </a:lnTo>
                  <a:lnTo>
                    <a:pt x="389" y="1016"/>
                  </a:lnTo>
                  <a:lnTo>
                    <a:pt x="481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8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2" y="163"/>
                  </a:lnTo>
                  <a:lnTo>
                    <a:pt x="424" y="198"/>
                  </a:lnTo>
                  <a:lnTo>
                    <a:pt x="547" y="189"/>
                  </a:lnTo>
                  <a:lnTo>
                    <a:pt x="671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31800" y="43164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0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28920" y="22860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63" y="662"/>
                  </a:lnTo>
                  <a:lnTo>
                    <a:pt x="145" y="556"/>
                  </a:lnTo>
                  <a:lnTo>
                    <a:pt x="176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5" y="141"/>
                  </a:lnTo>
                  <a:lnTo>
                    <a:pt x="582" y="282"/>
                  </a:lnTo>
                  <a:lnTo>
                    <a:pt x="762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10" y="464"/>
                  </a:lnTo>
                  <a:lnTo>
                    <a:pt x="1359" y="525"/>
                  </a:lnTo>
                  <a:lnTo>
                    <a:pt x="1125" y="600"/>
                  </a:lnTo>
                  <a:lnTo>
                    <a:pt x="1416" y="640"/>
                  </a:lnTo>
                  <a:lnTo>
                    <a:pt x="1072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26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4" y="260"/>
                  </a:lnTo>
                  <a:lnTo>
                    <a:pt x="1173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3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62120" y="39204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46280" y="101772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9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6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19280" y="72072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8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28" y="590"/>
                  </a:lnTo>
                  <a:lnTo>
                    <a:pt x="922" y="608"/>
                  </a:lnTo>
                  <a:lnTo>
                    <a:pt x="896" y="608"/>
                  </a:lnTo>
                  <a:lnTo>
                    <a:pt x="896" y="957"/>
                  </a:lnTo>
                  <a:lnTo>
                    <a:pt x="944" y="1209"/>
                  </a:lnTo>
                  <a:lnTo>
                    <a:pt x="944" y="1412"/>
                  </a:lnTo>
                  <a:lnTo>
                    <a:pt x="759" y="1619"/>
                  </a:lnTo>
                  <a:lnTo>
                    <a:pt x="502" y="1760"/>
                  </a:lnTo>
                  <a:lnTo>
                    <a:pt x="339" y="1760"/>
                  </a:lnTo>
                  <a:lnTo>
                    <a:pt x="260" y="1720"/>
                  </a:lnTo>
                  <a:lnTo>
                    <a:pt x="145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6" y="1412"/>
                  </a:lnTo>
                  <a:lnTo>
                    <a:pt x="238" y="1500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6" y="1328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4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32040" y="126684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38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53" y="568"/>
                  </a:lnTo>
                  <a:lnTo>
                    <a:pt x="666" y="687"/>
                  </a:lnTo>
                  <a:lnTo>
                    <a:pt x="790" y="670"/>
                  </a:lnTo>
                  <a:lnTo>
                    <a:pt x="944" y="776"/>
                  </a:lnTo>
                  <a:lnTo>
                    <a:pt x="993" y="909"/>
                  </a:lnTo>
                  <a:lnTo>
                    <a:pt x="993" y="1138"/>
                  </a:lnTo>
                  <a:lnTo>
                    <a:pt x="790" y="1487"/>
                  </a:lnTo>
                  <a:lnTo>
                    <a:pt x="724" y="1628"/>
                  </a:lnTo>
                  <a:lnTo>
                    <a:pt x="759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5" y="1107"/>
                  </a:lnTo>
                  <a:lnTo>
                    <a:pt x="640" y="1187"/>
                  </a:lnTo>
                  <a:lnTo>
                    <a:pt x="777" y="1293"/>
                  </a:lnTo>
                  <a:lnTo>
                    <a:pt x="847" y="1279"/>
                  </a:lnTo>
                  <a:lnTo>
                    <a:pt x="891" y="1222"/>
                  </a:lnTo>
                  <a:lnTo>
                    <a:pt x="944" y="1054"/>
                  </a:lnTo>
                  <a:lnTo>
                    <a:pt x="927" y="896"/>
                  </a:lnTo>
                  <a:lnTo>
                    <a:pt x="856" y="802"/>
                  </a:lnTo>
                  <a:lnTo>
                    <a:pt x="733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35" y="454"/>
                  </a:lnTo>
                  <a:lnTo>
                    <a:pt x="335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8" y="520"/>
                  </a:lnTo>
                  <a:lnTo>
                    <a:pt x="207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152568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21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7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89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7" y="737"/>
                  </a:lnTo>
                  <a:lnTo>
                    <a:pt x="389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36720" y="178920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3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8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30" y="349"/>
                  </a:lnTo>
                  <a:lnTo>
                    <a:pt x="133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16000" y="180180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13" y="534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67"/>
                  </a:lnTo>
                  <a:lnTo>
                    <a:pt x="213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46480" y="1006560"/>
              <a:ext cx="233640" cy="540000"/>
            </a:xfrm>
            <a:custGeom>
              <a:avLst/>
              <a:gdLst/>
              <a:ahLst/>
              <a:rect l="0" t="0" r="r" b="b"/>
              <a:pathLst>
                <a:path w="649" h="1500">
                  <a:moveTo>
                    <a:pt x="171" y="812"/>
                  </a:moveTo>
                  <a:lnTo>
                    <a:pt x="220" y="577"/>
                  </a:lnTo>
                  <a:lnTo>
                    <a:pt x="437" y="515"/>
                  </a:lnTo>
                  <a:lnTo>
                    <a:pt x="649" y="0"/>
                  </a:lnTo>
                  <a:lnTo>
                    <a:pt x="649" y="149"/>
                  </a:lnTo>
                  <a:lnTo>
                    <a:pt x="472" y="546"/>
                  </a:lnTo>
                  <a:lnTo>
                    <a:pt x="238" y="621"/>
                  </a:lnTo>
                  <a:lnTo>
                    <a:pt x="207" y="812"/>
                  </a:lnTo>
                  <a:lnTo>
                    <a:pt x="286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4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71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03440" y="100656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4" y="167"/>
                  </a:lnTo>
                  <a:lnTo>
                    <a:pt x="384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4" y="1456"/>
                  </a:lnTo>
                  <a:lnTo>
                    <a:pt x="905" y="1456"/>
                  </a:lnTo>
                  <a:lnTo>
                    <a:pt x="763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1003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27" y="918"/>
                  </a:lnTo>
                  <a:lnTo>
                    <a:pt x="569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32160" y="141768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4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8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9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89000" y="109692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0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8" y="1424"/>
                  </a:lnTo>
                  <a:lnTo>
                    <a:pt x="657" y="1750"/>
                  </a:lnTo>
                  <a:lnTo>
                    <a:pt x="586" y="2055"/>
                  </a:lnTo>
                  <a:lnTo>
                    <a:pt x="321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56" y="1591"/>
                  </a:lnTo>
                  <a:lnTo>
                    <a:pt x="3885" y="1658"/>
                  </a:lnTo>
                  <a:lnTo>
                    <a:pt x="3819" y="1675"/>
                  </a:lnTo>
                  <a:lnTo>
                    <a:pt x="3736" y="1591"/>
                  </a:lnTo>
                  <a:lnTo>
                    <a:pt x="3634" y="1578"/>
                  </a:lnTo>
                  <a:lnTo>
                    <a:pt x="3444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4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0" y="1839"/>
                  </a:lnTo>
                  <a:lnTo>
                    <a:pt x="2108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3" y="2955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65360" y="135108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8" y="26"/>
                  </a:moveTo>
                  <a:lnTo>
                    <a:pt x="70" y="101"/>
                  </a:lnTo>
                  <a:lnTo>
                    <a:pt x="79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3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8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75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75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3" y="1381"/>
                  </a:lnTo>
                  <a:lnTo>
                    <a:pt x="438" y="1601"/>
                  </a:lnTo>
                  <a:lnTo>
                    <a:pt x="438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19" y="2004"/>
                  </a:lnTo>
                  <a:lnTo>
                    <a:pt x="133" y="1779"/>
                  </a:lnTo>
                  <a:lnTo>
                    <a:pt x="119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19" y="273"/>
                  </a:lnTo>
                  <a:lnTo>
                    <a:pt x="110" y="114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97080" y="39204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1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8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44880" y="77940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 txBox="1"/>
          <p:nvPr/>
        </p:nvSpPr>
        <p:spPr>
          <a:xfrm>
            <a:off x="838080" y="2438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9160" indent="-74916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hree financial statements are included in the preparation of a master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066680" y="106668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perating Budg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905120" y="236232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income statement and supporting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62120" y="45720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ste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143000" y="2362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ailed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 expenditur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219320" y="16765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master budget consists of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808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perating Budg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1905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units and dolla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ion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uni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materials purchased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units and dolla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hours and dolla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expense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295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ailed operating budgets include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99072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07920" y="1441440"/>
            <a:ext cx="7937640" cy="4127400"/>
            <a:chOff x="907920" y="1441440"/>
            <a:chExt cx="7937640" cy="4127400"/>
          </a:xfrm>
        </p:grpSpPr>
        <p:sp>
          <p:nvSpPr>
            <p:cNvPr id="300" name=""/>
            <p:cNvSpPr/>
            <p:nvPr/>
          </p:nvSpPr>
          <p:spPr>
            <a:xfrm>
              <a:off x="907920" y="1441440"/>
              <a:ext cx="7937640" cy="41274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906720" y="167652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-Flyer Compa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4157640" y="1940040"/>
              <a:ext cx="144792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udg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2774880" y="2200320"/>
              <a:ext cx="421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Year Ended December 31, 20x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4911840" y="275904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57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4800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5943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7086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8077320" y="3219480"/>
              <a:ext cx="495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082520" y="3787920"/>
              <a:ext cx="14986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i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341964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455940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70060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684216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798192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1082520" y="4175280"/>
              <a:ext cx="1562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Selling Pr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082520" y="4437000"/>
              <a:ext cx="8636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 Un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322884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28840" y="4673520"/>
              <a:ext cx="884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437040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70400" y="4673520"/>
              <a:ext cx="884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551016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10160" y="4673520"/>
              <a:ext cx="8859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665172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51720" y="4673520"/>
              <a:ext cx="884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779148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91480" y="4673520"/>
              <a:ext cx="8859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1082520" y="4797360"/>
              <a:ext cx="1206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Sa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228840" y="4797360"/>
              <a:ext cx="890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4307040" y="4797360"/>
              <a:ext cx="954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5510160" y="4797360"/>
              <a:ext cx="890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6588000" y="4797360"/>
              <a:ext cx="954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0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7728120" y="4797360"/>
              <a:ext cx="954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4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87880" y="510552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30880" y="510552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32640" y="5105520"/>
              <a:ext cx="911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97560" y="5105520"/>
              <a:ext cx="903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83560" y="5105520"/>
              <a:ext cx="903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25560" y="266688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25560" y="365760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79600" y="3124080"/>
              <a:ext cx="426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9907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ion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07920" y="1289160"/>
            <a:ext cx="8013600" cy="4965840"/>
            <a:chOff x="907920" y="1289160"/>
            <a:chExt cx="8013600" cy="4965840"/>
          </a:xfrm>
        </p:grpSpPr>
        <p:sp>
          <p:nvSpPr>
            <p:cNvPr id="344" name=""/>
            <p:cNvSpPr/>
            <p:nvPr/>
          </p:nvSpPr>
          <p:spPr>
            <a:xfrm>
              <a:off x="907920" y="1289160"/>
              <a:ext cx="801360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3981600" y="137160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-Flyer Compa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3929040" y="1630440"/>
              <a:ext cx="205740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on Budg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2871720" y="1886040"/>
              <a:ext cx="421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Year Ended December 31, 20x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5638680" y="24382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72428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561960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651492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741060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8101080" y="2889360"/>
              <a:ext cx="495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1152360" y="3448080"/>
              <a:ext cx="14986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i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445284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534996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624528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714060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803592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1152360" y="3828960"/>
              <a:ext cx="30988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Desired Units of End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1152360" y="4087800"/>
              <a:ext cx="281952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ished Goods Inven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457848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7848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47380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7380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36912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6912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726444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6444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815976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5976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1152360" y="4440240"/>
              <a:ext cx="2082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ired Total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445284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534996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624528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714060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803592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1152360" y="4843440"/>
              <a:ext cx="2336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Desired Units o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1152360" y="5102280"/>
              <a:ext cx="2908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ginning Finished Goo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1152360" y="5357880"/>
              <a:ext cx="10288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n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457848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7848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547380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7380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636912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6912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726444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6444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815976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5976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1152360" y="5672160"/>
              <a:ext cx="2451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Productio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445284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534996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624528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714060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803592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04240" y="6019920"/>
              <a:ext cx="7588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25560" y="228600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25560" y="327672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54560" y="2819520"/>
              <a:ext cx="3646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51400" y="6019920"/>
              <a:ext cx="675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65800" y="6019920"/>
              <a:ext cx="675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37000" y="6019920"/>
              <a:ext cx="675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06840" y="6019920"/>
              <a:ext cx="674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92640" y="4278240"/>
              <a:ext cx="322200" cy="1055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45480" y="4278240"/>
              <a:ext cx="322200" cy="1055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07040" y="4278240"/>
              <a:ext cx="322200" cy="1055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907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rect Labo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831960" y="1289160"/>
            <a:ext cx="8089920" cy="4965840"/>
            <a:chOff x="831960" y="1289160"/>
            <a:chExt cx="8089920" cy="4965840"/>
          </a:xfrm>
        </p:grpSpPr>
        <p:sp>
          <p:nvSpPr>
            <p:cNvPr id="410" name=""/>
            <p:cNvSpPr/>
            <p:nvPr/>
          </p:nvSpPr>
          <p:spPr>
            <a:xfrm>
              <a:off x="831960" y="1289160"/>
              <a:ext cx="808992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3887640" y="137160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-Flyer Compa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3763800" y="1635120"/>
              <a:ext cx="21970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 Budg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2755800" y="1897200"/>
              <a:ext cx="421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Year Ended December 31, 20x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5410080" y="24382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426708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52722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627696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728172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8074080" y="2921040"/>
              <a:ext cx="495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1003320" y="3492360"/>
              <a:ext cx="2451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Productio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400536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501012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01488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702000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802476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003320" y="3879720"/>
              <a:ext cx="2387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Direct Labor Hou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1003320" y="4145040"/>
              <a:ext cx="990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 Un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451152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551664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652140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752616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853128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1003320" y="4565520"/>
              <a:ext cx="2679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Direct Labor Hou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413244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513720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614196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714708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7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815184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,0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1003320" y="4976640"/>
              <a:ext cx="2235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Direct Labor Co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1003320" y="5241960"/>
              <a:ext cx="1079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 H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406872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6872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507348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7348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607860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7860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708336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808848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8848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1003320" y="5599080"/>
              <a:ext cx="2451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Productio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3878280" y="55990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7,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4883040" y="5599080"/>
              <a:ext cx="826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6,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5888160" y="55990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7,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6892920" y="5599080"/>
              <a:ext cx="826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2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7897680" y="5599080"/>
              <a:ext cx="826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4,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35840" y="5943600"/>
              <a:ext cx="827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25560" y="228600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25560" y="327672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65400" y="2819520"/>
              <a:ext cx="3730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54760" y="594360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45480" y="594360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79800" y="5943600"/>
              <a:ext cx="911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89440" y="5943600"/>
              <a:ext cx="8348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9640" y="441972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31080" y="4419720"/>
              <a:ext cx="59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88480" y="4419720"/>
              <a:ext cx="59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21440" y="441972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40360" y="4419720"/>
              <a:ext cx="59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838080" y="3886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etailed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Capital expenditur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676520" y="12952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629400" y="304920"/>
            <a:ext cx="2208240" cy="2208600"/>
            <a:chOff x="6629400" y="304920"/>
            <a:chExt cx="2208240" cy="2208600"/>
          </a:xfrm>
        </p:grpSpPr>
        <p:sp>
          <p:nvSpPr>
            <p:cNvPr id="473" name=""/>
            <p:cNvSpPr/>
            <p:nvPr/>
          </p:nvSpPr>
          <p:spPr>
            <a:xfrm>
              <a:off x="6635880" y="138924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5" y="0"/>
                  </a:moveTo>
                  <a:lnTo>
                    <a:pt x="515" y="92"/>
                  </a:lnTo>
                  <a:lnTo>
                    <a:pt x="515" y="374"/>
                  </a:lnTo>
                  <a:lnTo>
                    <a:pt x="595" y="577"/>
                  </a:lnTo>
                  <a:lnTo>
                    <a:pt x="683" y="674"/>
                  </a:lnTo>
                  <a:lnTo>
                    <a:pt x="551" y="815"/>
                  </a:lnTo>
                  <a:lnTo>
                    <a:pt x="374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36" y="1835"/>
                  </a:lnTo>
                  <a:lnTo>
                    <a:pt x="224" y="1720"/>
                  </a:lnTo>
                  <a:lnTo>
                    <a:pt x="374" y="1442"/>
                  </a:lnTo>
                  <a:lnTo>
                    <a:pt x="463" y="1323"/>
                  </a:lnTo>
                  <a:lnTo>
                    <a:pt x="515" y="1509"/>
                  </a:lnTo>
                  <a:lnTo>
                    <a:pt x="480" y="1703"/>
                  </a:lnTo>
                  <a:lnTo>
                    <a:pt x="330" y="1989"/>
                  </a:lnTo>
                  <a:lnTo>
                    <a:pt x="374" y="2055"/>
                  </a:lnTo>
                  <a:lnTo>
                    <a:pt x="463" y="2033"/>
                  </a:lnTo>
                  <a:lnTo>
                    <a:pt x="648" y="1888"/>
                  </a:lnTo>
                  <a:lnTo>
                    <a:pt x="794" y="1637"/>
                  </a:lnTo>
                  <a:lnTo>
                    <a:pt x="794" y="2073"/>
                  </a:lnTo>
                  <a:lnTo>
                    <a:pt x="971" y="2144"/>
                  </a:lnTo>
                  <a:lnTo>
                    <a:pt x="1076" y="1875"/>
                  </a:lnTo>
                  <a:lnTo>
                    <a:pt x="1169" y="2126"/>
                  </a:lnTo>
                  <a:lnTo>
                    <a:pt x="1240" y="2055"/>
                  </a:lnTo>
                  <a:lnTo>
                    <a:pt x="1275" y="1557"/>
                  </a:lnTo>
                  <a:lnTo>
                    <a:pt x="1491" y="1090"/>
                  </a:lnTo>
                  <a:lnTo>
                    <a:pt x="1442" y="815"/>
                  </a:lnTo>
                  <a:lnTo>
                    <a:pt x="1288" y="714"/>
                  </a:lnTo>
                  <a:lnTo>
                    <a:pt x="1129" y="727"/>
                  </a:lnTo>
                  <a:lnTo>
                    <a:pt x="1076" y="507"/>
                  </a:lnTo>
                  <a:lnTo>
                    <a:pt x="913" y="458"/>
                  </a:lnTo>
                  <a:lnTo>
                    <a:pt x="768" y="388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085160" y="1701720"/>
              <a:ext cx="159120" cy="373320"/>
            </a:xfrm>
            <a:custGeom>
              <a:avLst/>
              <a:gdLst/>
              <a:ahLst/>
              <a:rect l="0" t="0" r="r" b="b"/>
              <a:pathLst>
                <a:path w="442" h="1037">
                  <a:moveTo>
                    <a:pt x="221" y="0"/>
                  </a:moveTo>
                  <a:lnTo>
                    <a:pt x="442" y="268"/>
                  </a:lnTo>
                  <a:lnTo>
                    <a:pt x="332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33" y="440"/>
                  </a:lnTo>
                  <a:lnTo>
                    <a:pt x="221" y="21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112240" y="148752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4" y="0"/>
                  </a:moveTo>
                  <a:lnTo>
                    <a:pt x="454" y="149"/>
                  </a:lnTo>
                  <a:lnTo>
                    <a:pt x="493" y="283"/>
                  </a:lnTo>
                  <a:lnTo>
                    <a:pt x="706" y="508"/>
                  </a:lnTo>
                  <a:lnTo>
                    <a:pt x="1103" y="631"/>
                  </a:lnTo>
                  <a:lnTo>
                    <a:pt x="1050" y="919"/>
                  </a:lnTo>
                  <a:lnTo>
                    <a:pt x="706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71000" y="1104840"/>
              <a:ext cx="552960" cy="743400"/>
            </a:xfrm>
            <a:custGeom>
              <a:avLst/>
              <a:gdLst/>
              <a:ahLst/>
              <a:rect l="0" t="0" r="r" b="b"/>
              <a:pathLst>
                <a:path w="1536" h="2065">
                  <a:moveTo>
                    <a:pt x="136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42" y="1513"/>
                  </a:lnTo>
                  <a:lnTo>
                    <a:pt x="260" y="2026"/>
                  </a:lnTo>
                  <a:lnTo>
                    <a:pt x="477" y="2026"/>
                  </a:lnTo>
                  <a:lnTo>
                    <a:pt x="464" y="1598"/>
                  </a:lnTo>
                  <a:lnTo>
                    <a:pt x="622" y="2048"/>
                  </a:lnTo>
                  <a:lnTo>
                    <a:pt x="728" y="2065"/>
                  </a:lnTo>
                  <a:lnTo>
                    <a:pt x="807" y="1915"/>
                  </a:lnTo>
                  <a:lnTo>
                    <a:pt x="821" y="1629"/>
                  </a:lnTo>
                  <a:lnTo>
                    <a:pt x="1059" y="1893"/>
                  </a:lnTo>
                  <a:lnTo>
                    <a:pt x="1151" y="1876"/>
                  </a:lnTo>
                  <a:lnTo>
                    <a:pt x="1129" y="1690"/>
                  </a:lnTo>
                  <a:lnTo>
                    <a:pt x="1041" y="1429"/>
                  </a:lnTo>
                  <a:lnTo>
                    <a:pt x="949" y="1257"/>
                  </a:lnTo>
                  <a:lnTo>
                    <a:pt x="984" y="1143"/>
                  </a:lnTo>
                  <a:lnTo>
                    <a:pt x="1041" y="1160"/>
                  </a:lnTo>
                  <a:lnTo>
                    <a:pt x="1254" y="1429"/>
                  </a:lnTo>
                  <a:lnTo>
                    <a:pt x="1488" y="1495"/>
                  </a:lnTo>
                  <a:lnTo>
                    <a:pt x="1536" y="1412"/>
                  </a:lnTo>
                  <a:lnTo>
                    <a:pt x="1501" y="1275"/>
                  </a:lnTo>
                  <a:lnTo>
                    <a:pt x="1072" y="856"/>
                  </a:lnTo>
                  <a:lnTo>
                    <a:pt x="728" y="728"/>
                  </a:lnTo>
                  <a:lnTo>
                    <a:pt x="688" y="498"/>
                  </a:lnTo>
                  <a:lnTo>
                    <a:pt x="807" y="286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61"/>
                  </a:lnTo>
                  <a:lnTo>
                    <a:pt x="242" y="644"/>
                  </a:lnTo>
                  <a:lnTo>
                    <a:pt x="189" y="794"/>
                  </a:lnTo>
                  <a:lnTo>
                    <a:pt x="136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64520" y="461880"/>
              <a:ext cx="603720" cy="949680"/>
            </a:xfrm>
            <a:custGeom>
              <a:avLst/>
              <a:gdLst/>
              <a:ahLst/>
              <a:rect l="0" t="0" r="r" b="b"/>
              <a:pathLst>
                <a:path w="1677" h="2638">
                  <a:moveTo>
                    <a:pt x="418" y="366"/>
                  </a:moveTo>
                  <a:lnTo>
                    <a:pt x="295" y="873"/>
                  </a:lnTo>
                  <a:lnTo>
                    <a:pt x="17" y="970"/>
                  </a:lnTo>
                  <a:lnTo>
                    <a:pt x="92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48" y="2170"/>
                  </a:lnTo>
                  <a:lnTo>
                    <a:pt x="455" y="2421"/>
                  </a:lnTo>
                  <a:lnTo>
                    <a:pt x="799" y="2638"/>
                  </a:lnTo>
                  <a:lnTo>
                    <a:pt x="1138" y="2602"/>
                  </a:lnTo>
                  <a:lnTo>
                    <a:pt x="1302" y="2170"/>
                  </a:lnTo>
                  <a:lnTo>
                    <a:pt x="1342" y="1500"/>
                  </a:lnTo>
                  <a:lnTo>
                    <a:pt x="1677" y="1168"/>
                  </a:lnTo>
                  <a:lnTo>
                    <a:pt x="1660" y="1036"/>
                  </a:lnTo>
                  <a:lnTo>
                    <a:pt x="1624" y="970"/>
                  </a:lnTo>
                  <a:lnTo>
                    <a:pt x="1448" y="956"/>
                  </a:lnTo>
                  <a:lnTo>
                    <a:pt x="1501" y="784"/>
                  </a:lnTo>
                  <a:lnTo>
                    <a:pt x="1324" y="665"/>
                  </a:lnTo>
                  <a:lnTo>
                    <a:pt x="1248" y="286"/>
                  </a:lnTo>
                  <a:lnTo>
                    <a:pt x="728" y="0"/>
                  </a:lnTo>
                  <a:lnTo>
                    <a:pt x="455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08800" y="125424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13" y="167"/>
                  </a:moveTo>
                  <a:lnTo>
                    <a:pt x="534" y="317"/>
                  </a:lnTo>
                  <a:lnTo>
                    <a:pt x="640" y="485"/>
                  </a:lnTo>
                  <a:lnTo>
                    <a:pt x="1254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90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06"/>
                  </a:lnTo>
                  <a:lnTo>
                    <a:pt x="207" y="317"/>
                  </a:lnTo>
                  <a:lnTo>
                    <a:pt x="313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32560" y="334800"/>
              <a:ext cx="516240" cy="300240"/>
            </a:xfrm>
            <a:custGeom>
              <a:avLst/>
              <a:gdLst/>
              <a:ahLst/>
              <a:rect l="0" t="0" r="r" b="b"/>
              <a:pathLst>
                <a:path w="1434" h="834">
                  <a:moveTo>
                    <a:pt x="176" y="794"/>
                  </a:moveTo>
                  <a:lnTo>
                    <a:pt x="388" y="574"/>
                  </a:lnTo>
                  <a:lnTo>
                    <a:pt x="520" y="538"/>
                  </a:lnTo>
                  <a:lnTo>
                    <a:pt x="520" y="561"/>
                  </a:lnTo>
                  <a:lnTo>
                    <a:pt x="586" y="538"/>
                  </a:lnTo>
                  <a:lnTo>
                    <a:pt x="67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09" y="750"/>
                  </a:lnTo>
                  <a:lnTo>
                    <a:pt x="1209" y="658"/>
                  </a:lnTo>
                  <a:lnTo>
                    <a:pt x="1434" y="561"/>
                  </a:lnTo>
                  <a:lnTo>
                    <a:pt x="1368" y="401"/>
                  </a:lnTo>
                  <a:lnTo>
                    <a:pt x="1151" y="388"/>
                  </a:lnTo>
                  <a:lnTo>
                    <a:pt x="1187" y="216"/>
                  </a:lnTo>
                  <a:lnTo>
                    <a:pt x="1006" y="238"/>
                  </a:lnTo>
                  <a:lnTo>
                    <a:pt x="971" y="119"/>
                  </a:lnTo>
                  <a:lnTo>
                    <a:pt x="847" y="119"/>
                  </a:lnTo>
                  <a:lnTo>
                    <a:pt x="759" y="185"/>
                  </a:lnTo>
                  <a:lnTo>
                    <a:pt x="674" y="185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6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72240" y="1463760"/>
              <a:ext cx="163800" cy="857520"/>
            </a:xfrm>
            <a:custGeom>
              <a:avLst/>
              <a:gdLst/>
              <a:ahLst/>
              <a:rect l="0" t="0" r="r" b="b"/>
              <a:pathLst>
                <a:path w="455" h="2382">
                  <a:moveTo>
                    <a:pt x="234" y="13"/>
                  </a:moveTo>
                  <a:lnTo>
                    <a:pt x="79" y="119"/>
                  </a:lnTo>
                  <a:lnTo>
                    <a:pt x="79" y="317"/>
                  </a:lnTo>
                  <a:lnTo>
                    <a:pt x="189" y="383"/>
                  </a:lnTo>
                  <a:lnTo>
                    <a:pt x="39" y="701"/>
                  </a:lnTo>
                  <a:lnTo>
                    <a:pt x="0" y="1115"/>
                  </a:lnTo>
                  <a:lnTo>
                    <a:pt x="114" y="1667"/>
                  </a:lnTo>
                  <a:lnTo>
                    <a:pt x="114" y="1897"/>
                  </a:lnTo>
                  <a:lnTo>
                    <a:pt x="52" y="2073"/>
                  </a:lnTo>
                  <a:lnTo>
                    <a:pt x="287" y="2382"/>
                  </a:lnTo>
                  <a:lnTo>
                    <a:pt x="437" y="1919"/>
                  </a:lnTo>
                  <a:lnTo>
                    <a:pt x="437" y="1601"/>
                  </a:lnTo>
                  <a:lnTo>
                    <a:pt x="327" y="1301"/>
                  </a:lnTo>
                  <a:lnTo>
                    <a:pt x="269" y="899"/>
                  </a:lnTo>
                  <a:lnTo>
                    <a:pt x="384" y="507"/>
                  </a:lnTo>
                  <a:lnTo>
                    <a:pt x="344" y="348"/>
                  </a:lnTo>
                  <a:lnTo>
                    <a:pt x="455" y="268"/>
                  </a:lnTo>
                  <a:lnTo>
                    <a:pt x="437" y="167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66120" y="1174680"/>
              <a:ext cx="133560" cy="79560"/>
            </a:xfrm>
            <a:custGeom>
              <a:avLst/>
              <a:gdLst/>
              <a:ahLst/>
              <a:rect l="0" t="0" r="r" b="b"/>
              <a:pathLst>
                <a:path w="371" h="221">
                  <a:moveTo>
                    <a:pt x="0" y="66"/>
                  </a:moveTo>
                  <a:lnTo>
                    <a:pt x="145" y="221"/>
                  </a:lnTo>
                  <a:lnTo>
                    <a:pt x="296" y="203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21400" y="779400"/>
              <a:ext cx="163800" cy="168480"/>
            </a:xfrm>
            <a:custGeom>
              <a:avLst/>
              <a:gdLst/>
              <a:ahLst/>
              <a:rect l="0" t="0" r="r" b="b"/>
              <a:pathLst>
                <a:path w="455" h="468">
                  <a:moveTo>
                    <a:pt x="0" y="52"/>
                  </a:moveTo>
                  <a:lnTo>
                    <a:pt x="314" y="468"/>
                  </a:lnTo>
                  <a:lnTo>
                    <a:pt x="455" y="433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10480" y="744480"/>
              <a:ext cx="143280" cy="167040"/>
            </a:xfrm>
            <a:custGeom>
              <a:avLst/>
              <a:gdLst/>
              <a:ahLst/>
              <a:rect l="0" t="0" r="r" b="b"/>
              <a:pathLst>
                <a:path w="398" h="464">
                  <a:moveTo>
                    <a:pt x="0" y="66"/>
                  </a:moveTo>
                  <a:lnTo>
                    <a:pt x="274" y="464"/>
                  </a:lnTo>
                  <a:lnTo>
                    <a:pt x="398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61280" y="528480"/>
              <a:ext cx="574920" cy="419400"/>
            </a:xfrm>
            <a:custGeom>
              <a:avLst/>
              <a:gdLst/>
              <a:ahLst/>
              <a:rect l="0" t="0" r="r" b="b"/>
              <a:pathLst>
                <a:path w="1597" h="1165">
                  <a:moveTo>
                    <a:pt x="732" y="693"/>
                  </a:moveTo>
                  <a:lnTo>
                    <a:pt x="586" y="649"/>
                  </a:lnTo>
                  <a:lnTo>
                    <a:pt x="714" y="542"/>
                  </a:lnTo>
                  <a:lnTo>
                    <a:pt x="665" y="489"/>
                  </a:lnTo>
                  <a:lnTo>
                    <a:pt x="502" y="627"/>
                  </a:lnTo>
                  <a:lnTo>
                    <a:pt x="202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4" y="1156"/>
                  </a:lnTo>
                  <a:lnTo>
                    <a:pt x="238" y="1165"/>
                  </a:lnTo>
                  <a:lnTo>
                    <a:pt x="66" y="803"/>
                  </a:lnTo>
                  <a:lnTo>
                    <a:pt x="330" y="693"/>
                  </a:lnTo>
                  <a:lnTo>
                    <a:pt x="502" y="693"/>
                  </a:lnTo>
                  <a:lnTo>
                    <a:pt x="630" y="763"/>
                  </a:lnTo>
                  <a:lnTo>
                    <a:pt x="665" y="860"/>
                  </a:lnTo>
                  <a:lnTo>
                    <a:pt x="665" y="1085"/>
                  </a:lnTo>
                  <a:lnTo>
                    <a:pt x="665" y="1156"/>
                  </a:lnTo>
                  <a:lnTo>
                    <a:pt x="740" y="1050"/>
                  </a:lnTo>
                  <a:lnTo>
                    <a:pt x="740" y="821"/>
                  </a:lnTo>
                  <a:lnTo>
                    <a:pt x="856" y="821"/>
                  </a:lnTo>
                  <a:lnTo>
                    <a:pt x="909" y="1085"/>
                  </a:lnTo>
                  <a:lnTo>
                    <a:pt x="971" y="1107"/>
                  </a:lnTo>
                  <a:lnTo>
                    <a:pt x="1165" y="1107"/>
                  </a:lnTo>
                  <a:lnTo>
                    <a:pt x="1363" y="1059"/>
                  </a:lnTo>
                  <a:lnTo>
                    <a:pt x="1500" y="962"/>
                  </a:lnTo>
                  <a:lnTo>
                    <a:pt x="1522" y="724"/>
                  </a:lnTo>
                  <a:lnTo>
                    <a:pt x="1597" y="627"/>
                  </a:lnTo>
                  <a:lnTo>
                    <a:pt x="1553" y="564"/>
                  </a:lnTo>
                  <a:lnTo>
                    <a:pt x="1376" y="498"/>
                  </a:lnTo>
                  <a:lnTo>
                    <a:pt x="1345" y="260"/>
                  </a:lnTo>
                  <a:lnTo>
                    <a:pt x="1178" y="260"/>
                  </a:lnTo>
                  <a:lnTo>
                    <a:pt x="979" y="0"/>
                  </a:lnTo>
                  <a:lnTo>
                    <a:pt x="1160" y="286"/>
                  </a:lnTo>
                  <a:lnTo>
                    <a:pt x="1222" y="286"/>
                  </a:lnTo>
                  <a:lnTo>
                    <a:pt x="1257" y="489"/>
                  </a:lnTo>
                  <a:lnTo>
                    <a:pt x="1032" y="564"/>
                  </a:lnTo>
                  <a:lnTo>
                    <a:pt x="869" y="507"/>
                  </a:lnTo>
                  <a:lnTo>
                    <a:pt x="843" y="564"/>
                  </a:lnTo>
                  <a:lnTo>
                    <a:pt x="931" y="627"/>
                  </a:lnTo>
                  <a:lnTo>
                    <a:pt x="931" y="680"/>
                  </a:lnTo>
                  <a:lnTo>
                    <a:pt x="1125" y="591"/>
                  </a:lnTo>
                  <a:lnTo>
                    <a:pt x="1284" y="577"/>
                  </a:lnTo>
                  <a:lnTo>
                    <a:pt x="1465" y="600"/>
                  </a:lnTo>
                  <a:lnTo>
                    <a:pt x="1465" y="636"/>
                  </a:lnTo>
                  <a:lnTo>
                    <a:pt x="1381" y="715"/>
                  </a:lnTo>
                  <a:lnTo>
                    <a:pt x="1345" y="821"/>
                  </a:lnTo>
                  <a:lnTo>
                    <a:pt x="1337" y="962"/>
                  </a:lnTo>
                  <a:lnTo>
                    <a:pt x="1231" y="1019"/>
                  </a:lnTo>
                  <a:lnTo>
                    <a:pt x="1076" y="1037"/>
                  </a:lnTo>
                  <a:lnTo>
                    <a:pt x="971" y="1037"/>
                  </a:lnTo>
                  <a:lnTo>
                    <a:pt x="935" y="993"/>
                  </a:lnTo>
                  <a:lnTo>
                    <a:pt x="909" y="724"/>
                  </a:lnTo>
                  <a:lnTo>
                    <a:pt x="740" y="724"/>
                  </a:lnTo>
                  <a:lnTo>
                    <a:pt x="732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58200" y="1011240"/>
              <a:ext cx="186120" cy="86040"/>
            </a:xfrm>
            <a:custGeom>
              <a:avLst/>
              <a:gdLst/>
              <a:ahLst/>
              <a:rect l="0" t="0" r="r" b="b"/>
              <a:pathLst>
                <a:path w="517" h="239">
                  <a:moveTo>
                    <a:pt x="0" y="0"/>
                  </a:moveTo>
                  <a:lnTo>
                    <a:pt x="83" y="110"/>
                  </a:lnTo>
                  <a:lnTo>
                    <a:pt x="305" y="110"/>
                  </a:lnTo>
                  <a:lnTo>
                    <a:pt x="398" y="35"/>
                  </a:lnTo>
                  <a:lnTo>
                    <a:pt x="517" y="35"/>
                  </a:lnTo>
                  <a:lnTo>
                    <a:pt x="495" y="70"/>
                  </a:lnTo>
                  <a:lnTo>
                    <a:pt x="495" y="110"/>
                  </a:lnTo>
                  <a:lnTo>
                    <a:pt x="287" y="239"/>
                  </a:lnTo>
                  <a:lnTo>
                    <a:pt x="172" y="239"/>
                  </a:lnTo>
                  <a:lnTo>
                    <a:pt x="110" y="190"/>
                  </a:lnTo>
                  <a:lnTo>
                    <a:pt x="4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51560" y="873000"/>
              <a:ext cx="281520" cy="452880"/>
            </a:xfrm>
            <a:custGeom>
              <a:avLst/>
              <a:gdLst/>
              <a:ahLst/>
              <a:rect l="0" t="0" r="r" b="b"/>
              <a:pathLst>
                <a:path w="782" h="1258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9"/>
                  </a:lnTo>
                  <a:lnTo>
                    <a:pt x="353" y="680"/>
                  </a:lnTo>
                  <a:lnTo>
                    <a:pt x="402" y="1055"/>
                  </a:lnTo>
                  <a:lnTo>
                    <a:pt x="494" y="1258"/>
                  </a:lnTo>
                  <a:lnTo>
                    <a:pt x="402" y="1113"/>
                  </a:lnTo>
                  <a:lnTo>
                    <a:pt x="367" y="954"/>
                  </a:lnTo>
                  <a:lnTo>
                    <a:pt x="305" y="530"/>
                  </a:lnTo>
                  <a:lnTo>
                    <a:pt x="239" y="556"/>
                  </a:lnTo>
                  <a:lnTo>
                    <a:pt x="163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1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5"/>
                  </a:lnTo>
                  <a:lnTo>
                    <a:pt x="203" y="353"/>
                  </a:lnTo>
                  <a:lnTo>
                    <a:pt x="203" y="123"/>
                  </a:lnTo>
                  <a:lnTo>
                    <a:pt x="296" y="171"/>
                  </a:lnTo>
                  <a:lnTo>
                    <a:pt x="437" y="202"/>
                  </a:lnTo>
                  <a:lnTo>
                    <a:pt x="569" y="194"/>
                  </a:lnTo>
                  <a:lnTo>
                    <a:pt x="694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26440" y="515880"/>
              <a:ext cx="86040" cy="240120"/>
            </a:xfrm>
            <a:custGeom>
              <a:avLst/>
              <a:gdLst/>
              <a:ahLst/>
              <a:rect l="0" t="0" r="r" b="b"/>
              <a:pathLst>
                <a:path w="239" h="667">
                  <a:moveTo>
                    <a:pt x="124" y="667"/>
                  </a:moveTo>
                  <a:lnTo>
                    <a:pt x="239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3" y="225"/>
                  </a:lnTo>
                  <a:lnTo>
                    <a:pt x="92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23200" y="30492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7" y="689"/>
                  </a:lnTo>
                  <a:lnTo>
                    <a:pt x="149" y="574"/>
                  </a:lnTo>
                  <a:lnTo>
                    <a:pt x="180" y="375"/>
                  </a:lnTo>
                  <a:lnTo>
                    <a:pt x="282" y="331"/>
                  </a:lnTo>
                  <a:lnTo>
                    <a:pt x="295" y="547"/>
                  </a:lnTo>
                  <a:lnTo>
                    <a:pt x="586" y="171"/>
                  </a:lnTo>
                  <a:lnTo>
                    <a:pt x="661" y="145"/>
                  </a:lnTo>
                  <a:lnTo>
                    <a:pt x="604" y="296"/>
                  </a:lnTo>
                  <a:lnTo>
                    <a:pt x="789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8"/>
                  </a:lnTo>
                  <a:lnTo>
                    <a:pt x="1151" y="375"/>
                  </a:lnTo>
                  <a:lnTo>
                    <a:pt x="1046" y="481"/>
                  </a:lnTo>
                  <a:lnTo>
                    <a:pt x="1407" y="547"/>
                  </a:lnTo>
                  <a:lnTo>
                    <a:pt x="1165" y="622"/>
                  </a:lnTo>
                  <a:lnTo>
                    <a:pt x="1465" y="663"/>
                  </a:lnTo>
                  <a:lnTo>
                    <a:pt x="1107" y="751"/>
                  </a:lnTo>
                  <a:lnTo>
                    <a:pt x="1187" y="817"/>
                  </a:lnTo>
                  <a:lnTo>
                    <a:pt x="1081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8" y="879"/>
                  </a:lnTo>
                  <a:lnTo>
                    <a:pt x="1407" y="738"/>
                  </a:lnTo>
                  <a:lnTo>
                    <a:pt x="1584" y="676"/>
                  </a:lnTo>
                  <a:lnTo>
                    <a:pt x="1456" y="609"/>
                  </a:lnTo>
                  <a:lnTo>
                    <a:pt x="1756" y="587"/>
                  </a:lnTo>
                  <a:lnTo>
                    <a:pt x="1500" y="446"/>
                  </a:lnTo>
                  <a:lnTo>
                    <a:pt x="1204" y="415"/>
                  </a:lnTo>
                  <a:lnTo>
                    <a:pt x="1438" y="269"/>
                  </a:lnTo>
                  <a:lnTo>
                    <a:pt x="1019" y="269"/>
                  </a:lnTo>
                  <a:lnTo>
                    <a:pt x="1218" y="132"/>
                  </a:lnTo>
                  <a:lnTo>
                    <a:pt x="918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26" y="424"/>
                  </a:lnTo>
                  <a:lnTo>
                    <a:pt x="295" y="261"/>
                  </a:lnTo>
                  <a:lnTo>
                    <a:pt x="132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61440" y="473040"/>
              <a:ext cx="178200" cy="95760"/>
            </a:xfrm>
            <a:custGeom>
              <a:avLst/>
              <a:gdLst/>
              <a:ahLst/>
              <a:rect l="0" t="0" r="r" b="b"/>
              <a:pathLst>
                <a:path w="495" h="266">
                  <a:moveTo>
                    <a:pt x="0" y="266"/>
                  </a:moveTo>
                  <a:lnTo>
                    <a:pt x="186" y="0"/>
                  </a:lnTo>
                  <a:lnTo>
                    <a:pt x="186" y="177"/>
                  </a:lnTo>
                  <a:lnTo>
                    <a:pt x="252" y="106"/>
                  </a:lnTo>
                  <a:lnTo>
                    <a:pt x="309" y="204"/>
                  </a:lnTo>
                  <a:lnTo>
                    <a:pt x="495" y="253"/>
                  </a:lnTo>
                  <a:lnTo>
                    <a:pt x="296" y="218"/>
                  </a:lnTo>
                  <a:lnTo>
                    <a:pt x="239" y="150"/>
                  </a:lnTo>
                  <a:lnTo>
                    <a:pt x="155" y="218"/>
                  </a:lnTo>
                  <a:lnTo>
                    <a:pt x="155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45240" y="1122480"/>
              <a:ext cx="214560" cy="141480"/>
            </a:xfrm>
            <a:custGeom>
              <a:avLst/>
              <a:gdLst/>
              <a:ahLst/>
              <a:rect l="0" t="0" r="r" b="b"/>
              <a:pathLst>
                <a:path w="596" h="393">
                  <a:moveTo>
                    <a:pt x="114" y="136"/>
                  </a:moveTo>
                  <a:lnTo>
                    <a:pt x="358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17"/>
                  </a:lnTo>
                  <a:lnTo>
                    <a:pt x="556" y="243"/>
                  </a:lnTo>
                  <a:lnTo>
                    <a:pt x="503" y="194"/>
                  </a:lnTo>
                  <a:lnTo>
                    <a:pt x="424" y="283"/>
                  </a:lnTo>
                  <a:lnTo>
                    <a:pt x="277" y="393"/>
                  </a:lnTo>
                  <a:lnTo>
                    <a:pt x="211" y="393"/>
                  </a:lnTo>
                  <a:lnTo>
                    <a:pt x="114" y="336"/>
                  </a:lnTo>
                  <a:lnTo>
                    <a:pt x="220" y="384"/>
                  </a:lnTo>
                  <a:lnTo>
                    <a:pt x="264" y="384"/>
                  </a:lnTo>
                  <a:lnTo>
                    <a:pt x="358" y="314"/>
                  </a:lnTo>
                  <a:lnTo>
                    <a:pt x="419" y="180"/>
                  </a:lnTo>
                  <a:lnTo>
                    <a:pt x="322" y="158"/>
                  </a:lnTo>
                  <a:lnTo>
                    <a:pt x="260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16800" y="814320"/>
              <a:ext cx="460800" cy="655920"/>
            </a:xfrm>
            <a:custGeom>
              <a:avLst/>
              <a:gdLst/>
              <a:ahLst/>
              <a:rect l="0" t="0" r="r" b="b"/>
              <a:pathLst>
                <a:path w="1280" h="1822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9"/>
                  </a:lnTo>
                  <a:lnTo>
                    <a:pt x="1174" y="471"/>
                  </a:lnTo>
                  <a:lnTo>
                    <a:pt x="1069" y="608"/>
                  </a:lnTo>
                  <a:lnTo>
                    <a:pt x="963" y="630"/>
                  </a:lnTo>
                  <a:lnTo>
                    <a:pt x="931" y="630"/>
                  </a:lnTo>
                  <a:lnTo>
                    <a:pt x="931" y="988"/>
                  </a:lnTo>
                  <a:lnTo>
                    <a:pt x="980" y="1248"/>
                  </a:lnTo>
                  <a:lnTo>
                    <a:pt x="980" y="1460"/>
                  </a:lnTo>
                  <a:lnTo>
                    <a:pt x="785" y="1676"/>
                  </a:lnTo>
                  <a:lnTo>
                    <a:pt x="521" y="1822"/>
                  </a:lnTo>
                  <a:lnTo>
                    <a:pt x="353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0" y="1566"/>
                  </a:lnTo>
                  <a:lnTo>
                    <a:pt x="636" y="1478"/>
                  </a:lnTo>
                  <a:lnTo>
                    <a:pt x="733" y="1372"/>
                  </a:lnTo>
                  <a:lnTo>
                    <a:pt x="838" y="1187"/>
                  </a:lnTo>
                  <a:lnTo>
                    <a:pt x="856" y="971"/>
                  </a:lnTo>
                  <a:lnTo>
                    <a:pt x="891" y="268"/>
                  </a:lnTo>
                  <a:lnTo>
                    <a:pt x="940" y="370"/>
                  </a:lnTo>
                  <a:lnTo>
                    <a:pt x="1064" y="242"/>
                  </a:lnTo>
                  <a:lnTo>
                    <a:pt x="1197" y="189"/>
                  </a:lnTo>
                  <a:lnTo>
                    <a:pt x="1232" y="114"/>
                  </a:lnTo>
                  <a:lnTo>
                    <a:pt x="1214" y="44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05440" y="1379520"/>
              <a:ext cx="370080" cy="606960"/>
            </a:xfrm>
            <a:custGeom>
              <a:avLst/>
              <a:gdLst/>
              <a:ahLst/>
              <a:rect l="0" t="0" r="r" b="b"/>
              <a:pathLst>
                <a:path w="1028" h="1686">
                  <a:moveTo>
                    <a:pt x="127" y="0"/>
                  </a:moveTo>
                  <a:lnTo>
                    <a:pt x="246" y="74"/>
                  </a:lnTo>
                  <a:lnTo>
                    <a:pt x="335" y="418"/>
                  </a:lnTo>
                  <a:lnTo>
                    <a:pt x="600" y="499"/>
                  </a:lnTo>
                  <a:lnTo>
                    <a:pt x="675" y="587"/>
                  </a:lnTo>
                  <a:lnTo>
                    <a:pt x="688" y="715"/>
                  </a:lnTo>
                  <a:lnTo>
                    <a:pt x="816" y="697"/>
                  </a:lnTo>
                  <a:lnTo>
                    <a:pt x="979" y="803"/>
                  </a:lnTo>
                  <a:lnTo>
                    <a:pt x="1028" y="940"/>
                  </a:lnTo>
                  <a:lnTo>
                    <a:pt x="1028" y="1178"/>
                  </a:lnTo>
                  <a:lnTo>
                    <a:pt x="816" y="1540"/>
                  </a:lnTo>
                  <a:lnTo>
                    <a:pt x="746" y="1686"/>
                  </a:lnTo>
                  <a:lnTo>
                    <a:pt x="785" y="1492"/>
                  </a:lnTo>
                  <a:lnTo>
                    <a:pt x="746" y="1417"/>
                  </a:lnTo>
                  <a:lnTo>
                    <a:pt x="622" y="1294"/>
                  </a:lnTo>
                  <a:lnTo>
                    <a:pt x="418" y="1147"/>
                  </a:lnTo>
                  <a:lnTo>
                    <a:pt x="662" y="1231"/>
                  </a:lnTo>
                  <a:lnTo>
                    <a:pt x="807" y="1342"/>
                  </a:lnTo>
                  <a:lnTo>
                    <a:pt x="878" y="1324"/>
                  </a:lnTo>
                  <a:lnTo>
                    <a:pt x="922" y="1262"/>
                  </a:lnTo>
                  <a:lnTo>
                    <a:pt x="979" y="1094"/>
                  </a:lnTo>
                  <a:lnTo>
                    <a:pt x="962" y="927"/>
                  </a:lnTo>
                  <a:lnTo>
                    <a:pt x="887" y="834"/>
                  </a:lnTo>
                  <a:lnTo>
                    <a:pt x="759" y="803"/>
                  </a:lnTo>
                  <a:lnTo>
                    <a:pt x="622" y="803"/>
                  </a:lnTo>
                  <a:lnTo>
                    <a:pt x="574" y="556"/>
                  </a:lnTo>
                  <a:lnTo>
                    <a:pt x="348" y="468"/>
                  </a:lnTo>
                  <a:lnTo>
                    <a:pt x="348" y="538"/>
                  </a:lnTo>
                  <a:lnTo>
                    <a:pt x="246" y="361"/>
                  </a:lnTo>
                  <a:lnTo>
                    <a:pt x="189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5"/>
                  </a:lnTo>
                  <a:lnTo>
                    <a:pt x="79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29400" y="1647720"/>
              <a:ext cx="244800" cy="486360"/>
            </a:xfrm>
            <a:custGeom>
              <a:avLst/>
              <a:gdLst/>
              <a:ahLst/>
              <a:rect l="0" t="0" r="r" b="b"/>
              <a:pathLst>
                <a:path w="680" h="1351">
                  <a:moveTo>
                    <a:pt x="680" y="0"/>
                  </a:moveTo>
                  <a:lnTo>
                    <a:pt x="538" y="88"/>
                  </a:lnTo>
                  <a:lnTo>
                    <a:pt x="375" y="415"/>
                  </a:lnTo>
                  <a:lnTo>
                    <a:pt x="211" y="631"/>
                  </a:lnTo>
                  <a:lnTo>
                    <a:pt x="17" y="887"/>
                  </a:lnTo>
                  <a:lnTo>
                    <a:pt x="0" y="1020"/>
                  </a:lnTo>
                  <a:lnTo>
                    <a:pt x="39" y="1139"/>
                  </a:lnTo>
                  <a:lnTo>
                    <a:pt x="132" y="1139"/>
                  </a:lnTo>
                  <a:lnTo>
                    <a:pt x="260" y="1020"/>
                  </a:lnTo>
                  <a:lnTo>
                    <a:pt x="362" y="777"/>
                  </a:lnTo>
                  <a:lnTo>
                    <a:pt x="499" y="631"/>
                  </a:lnTo>
                  <a:lnTo>
                    <a:pt x="499" y="825"/>
                  </a:lnTo>
                  <a:lnTo>
                    <a:pt x="477" y="1006"/>
                  </a:lnTo>
                  <a:lnTo>
                    <a:pt x="330" y="1241"/>
                  </a:lnTo>
                  <a:lnTo>
                    <a:pt x="330" y="1316"/>
                  </a:lnTo>
                  <a:lnTo>
                    <a:pt x="477" y="1351"/>
                  </a:lnTo>
                  <a:lnTo>
                    <a:pt x="375" y="1285"/>
                  </a:lnTo>
                  <a:lnTo>
                    <a:pt x="389" y="1241"/>
                  </a:lnTo>
                  <a:lnTo>
                    <a:pt x="490" y="1069"/>
                  </a:lnTo>
                  <a:lnTo>
                    <a:pt x="561" y="750"/>
                  </a:lnTo>
                  <a:lnTo>
                    <a:pt x="512" y="569"/>
                  </a:lnTo>
                  <a:lnTo>
                    <a:pt x="402" y="671"/>
                  </a:lnTo>
                  <a:lnTo>
                    <a:pt x="158" y="1077"/>
                  </a:lnTo>
                  <a:lnTo>
                    <a:pt x="97" y="1091"/>
                  </a:lnTo>
                  <a:lnTo>
                    <a:pt x="39" y="1047"/>
                  </a:lnTo>
                  <a:lnTo>
                    <a:pt x="39" y="922"/>
                  </a:lnTo>
                  <a:lnTo>
                    <a:pt x="132" y="763"/>
                  </a:lnTo>
                  <a:lnTo>
                    <a:pt x="402" y="437"/>
                  </a:lnTo>
                  <a:lnTo>
                    <a:pt x="561" y="123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10480" y="192240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59" y="158"/>
                  </a:lnTo>
                  <a:lnTo>
                    <a:pt x="337" y="587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4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6240" y="193356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71" y="92"/>
                  </a:lnTo>
                  <a:lnTo>
                    <a:pt x="137" y="552"/>
                  </a:lnTo>
                  <a:lnTo>
                    <a:pt x="222" y="552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0"/>
                  </a:lnTo>
                  <a:lnTo>
                    <a:pt x="222" y="583"/>
                  </a:lnTo>
                  <a:lnTo>
                    <a:pt x="111" y="583"/>
                  </a:lnTo>
                  <a:lnTo>
                    <a:pt x="61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69200" y="111132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6" y="843"/>
                  </a:moveTo>
                  <a:lnTo>
                    <a:pt x="224" y="595"/>
                  </a:lnTo>
                  <a:lnTo>
                    <a:pt x="455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86" y="568"/>
                  </a:lnTo>
                  <a:lnTo>
                    <a:pt x="246" y="643"/>
                  </a:lnTo>
                  <a:lnTo>
                    <a:pt x="211" y="843"/>
                  </a:lnTo>
                  <a:lnTo>
                    <a:pt x="295" y="843"/>
                  </a:lnTo>
                  <a:lnTo>
                    <a:pt x="88" y="927"/>
                  </a:lnTo>
                  <a:lnTo>
                    <a:pt x="39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1" y="847"/>
                  </a:lnTo>
                  <a:lnTo>
                    <a:pt x="176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32640" y="111132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8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1"/>
                  </a:lnTo>
                  <a:lnTo>
                    <a:pt x="273" y="512"/>
                  </a:lnTo>
                  <a:lnTo>
                    <a:pt x="299" y="671"/>
                  </a:lnTo>
                  <a:lnTo>
                    <a:pt x="675" y="847"/>
                  </a:lnTo>
                  <a:lnTo>
                    <a:pt x="1116" y="1320"/>
                  </a:lnTo>
                  <a:lnTo>
                    <a:pt x="1125" y="1448"/>
                  </a:lnTo>
                  <a:lnTo>
                    <a:pt x="1099" y="1505"/>
                  </a:lnTo>
                  <a:lnTo>
                    <a:pt x="935" y="1505"/>
                  </a:lnTo>
                  <a:lnTo>
                    <a:pt x="790" y="1417"/>
                  </a:lnTo>
                  <a:lnTo>
                    <a:pt x="666" y="1258"/>
                  </a:lnTo>
                  <a:lnTo>
                    <a:pt x="600" y="1170"/>
                  </a:lnTo>
                  <a:lnTo>
                    <a:pt x="520" y="1157"/>
                  </a:lnTo>
                  <a:lnTo>
                    <a:pt x="618" y="1157"/>
                  </a:lnTo>
                  <a:lnTo>
                    <a:pt x="803" y="1399"/>
                  </a:lnTo>
                  <a:lnTo>
                    <a:pt x="1037" y="1470"/>
                  </a:lnTo>
                  <a:lnTo>
                    <a:pt x="1085" y="1399"/>
                  </a:lnTo>
                  <a:lnTo>
                    <a:pt x="1063" y="1289"/>
                  </a:lnTo>
                  <a:lnTo>
                    <a:pt x="653" y="944"/>
                  </a:lnTo>
                  <a:lnTo>
                    <a:pt x="591" y="847"/>
                  </a:lnTo>
                  <a:lnTo>
                    <a:pt x="273" y="763"/>
                  </a:lnTo>
                  <a:lnTo>
                    <a:pt x="216" y="847"/>
                  </a:lnTo>
                  <a:lnTo>
                    <a:pt x="0" y="988"/>
                  </a:lnTo>
                  <a:lnTo>
                    <a:pt x="207" y="825"/>
                  </a:lnTo>
                  <a:lnTo>
                    <a:pt x="216" y="719"/>
                  </a:lnTo>
                  <a:lnTo>
                    <a:pt x="216" y="477"/>
                  </a:lnTo>
                  <a:lnTo>
                    <a:pt x="361" y="291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58120" y="1536840"/>
              <a:ext cx="344880" cy="321120"/>
            </a:xfrm>
            <a:custGeom>
              <a:avLst/>
              <a:gdLst/>
              <a:ahLst/>
              <a:rect l="0" t="0" r="r" b="b"/>
              <a:pathLst>
                <a:path w="958" h="892">
                  <a:moveTo>
                    <a:pt x="720" y="0"/>
                  </a:moveTo>
                  <a:lnTo>
                    <a:pt x="693" y="74"/>
                  </a:lnTo>
                  <a:lnTo>
                    <a:pt x="835" y="371"/>
                  </a:lnTo>
                  <a:lnTo>
                    <a:pt x="910" y="676"/>
                  </a:lnTo>
                  <a:lnTo>
                    <a:pt x="826" y="676"/>
                  </a:lnTo>
                  <a:lnTo>
                    <a:pt x="680" y="538"/>
                  </a:lnTo>
                  <a:lnTo>
                    <a:pt x="552" y="261"/>
                  </a:lnTo>
                  <a:lnTo>
                    <a:pt x="450" y="216"/>
                  </a:lnTo>
                  <a:lnTo>
                    <a:pt x="468" y="371"/>
                  </a:lnTo>
                  <a:lnTo>
                    <a:pt x="561" y="477"/>
                  </a:lnTo>
                  <a:lnTo>
                    <a:pt x="561" y="694"/>
                  </a:lnTo>
                  <a:lnTo>
                    <a:pt x="490" y="848"/>
                  </a:lnTo>
                  <a:lnTo>
                    <a:pt x="402" y="786"/>
                  </a:lnTo>
                  <a:lnTo>
                    <a:pt x="296" y="538"/>
                  </a:lnTo>
                  <a:lnTo>
                    <a:pt x="269" y="371"/>
                  </a:lnTo>
                  <a:lnTo>
                    <a:pt x="207" y="322"/>
                  </a:lnTo>
                  <a:lnTo>
                    <a:pt x="189" y="756"/>
                  </a:lnTo>
                  <a:lnTo>
                    <a:pt x="101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1" y="879"/>
                  </a:lnTo>
                  <a:lnTo>
                    <a:pt x="189" y="879"/>
                  </a:lnTo>
                  <a:lnTo>
                    <a:pt x="229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91" y="773"/>
                  </a:lnTo>
                  <a:lnTo>
                    <a:pt x="591" y="494"/>
                  </a:lnTo>
                  <a:lnTo>
                    <a:pt x="826" y="725"/>
                  </a:lnTo>
                  <a:lnTo>
                    <a:pt x="945" y="725"/>
                  </a:lnTo>
                  <a:lnTo>
                    <a:pt x="958" y="569"/>
                  </a:lnTo>
                  <a:lnTo>
                    <a:pt x="870" y="292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67440" y="1204920"/>
              <a:ext cx="1532160" cy="1308600"/>
            </a:xfrm>
            <a:custGeom>
              <a:avLst/>
              <a:gdLst/>
              <a:ahLst/>
              <a:rect l="0" t="0" r="r" b="b"/>
              <a:pathLst>
                <a:path w="4256" h="3635">
                  <a:moveTo>
                    <a:pt x="1530" y="308"/>
                  </a:moveTo>
                  <a:lnTo>
                    <a:pt x="1450" y="321"/>
                  </a:lnTo>
                  <a:lnTo>
                    <a:pt x="1336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09" y="586"/>
                  </a:lnTo>
                  <a:lnTo>
                    <a:pt x="630" y="873"/>
                  </a:lnTo>
                  <a:lnTo>
                    <a:pt x="652" y="997"/>
                  </a:lnTo>
                  <a:lnTo>
                    <a:pt x="564" y="1107"/>
                  </a:lnTo>
                  <a:lnTo>
                    <a:pt x="564" y="1200"/>
                  </a:lnTo>
                  <a:lnTo>
                    <a:pt x="670" y="1478"/>
                  </a:lnTo>
                  <a:lnTo>
                    <a:pt x="679" y="1813"/>
                  </a:lnTo>
                  <a:lnTo>
                    <a:pt x="608" y="2130"/>
                  </a:lnTo>
                  <a:lnTo>
                    <a:pt x="335" y="2320"/>
                  </a:lnTo>
                  <a:lnTo>
                    <a:pt x="299" y="2580"/>
                  </a:lnTo>
                  <a:lnTo>
                    <a:pt x="216" y="2580"/>
                  </a:lnTo>
                  <a:lnTo>
                    <a:pt x="171" y="2364"/>
                  </a:lnTo>
                  <a:lnTo>
                    <a:pt x="88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89" y="2969"/>
                  </a:lnTo>
                  <a:lnTo>
                    <a:pt x="321" y="2982"/>
                  </a:lnTo>
                  <a:lnTo>
                    <a:pt x="564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195" y="2668"/>
                  </a:lnTo>
                  <a:lnTo>
                    <a:pt x="1221" y="3274"/>
                  </a:lnTo>
                  <a:lnTo>
                    <a:pt x="1195" y="3635"/>
                  </a:lnTo>
                  <a:lnTo>
                    <a:pt x="3656" y="3635"/>
                  </a:lnTo>
                  <a:lnTo>
                    <a:pt x="3475" y="3243"/>
                  </a:lnTo>
                  <a:lnTo>
                    <a:pt x="3387" y="2908"/>
                  </a:lnTo>
                  <a:lnTo>
                    <a:pt x="3365" y="2404"/>
                  </a:lnTo>
                  <a:lnTo>
                    <a:pt x="3511" y="2518"/>
                  </a:lnTo>
                  <a:lnTo>
                    <a:pt x="3656" y="2518"/>
                  </a:lnTo>
                  <a:lnTo>
                    <a:pt x="3859" y="2386"/>
                  </a:lnTo>
                  <a:lnTo>
                    <a:pt x="3991" y="2364"/>
                  </a:lnTo>
                  <a:lnTo>
                    <a:pt x="4075" y="2232"/>
                  </a:lnTo>
                  <a:lnTo>
                    <a:pt x="4132" y="1888"/>
                  </a:lnTo>
                  <a:lnTo>
                    <a:pt x="4256" y="1751"/>
                  </a:lnTo>
                  <a:lnTo>
                    <a:pt x="4194" y="1645"/>
                  </a:lnTo>
                  <a:lnTo>
                    <a:pt x="4102" y="1645"/>
                  </a:lnTo>
                  <a:lnTo>
                    <a:pt x="4031" y="1716"/>
                  </a:lnTo>
                  <a:lnTo>
                    <a:pt x="3956" y="1738"/>
                  </a:lnTo>
                  <a:lnTo>
                    <a:pt x="3868" y="1645"/>
                  </a:lnTo>
                  <a:lnTo>
                    <a:pt x="3766" y="1632"/>
                  </a:lnTo>
                  <a:lnTo>
                    <a:pt x="3572" y="1504"/>
                  </a:lnTo>
                  <a:lnTo>
                    <a:pt x="3449" y="1368"/>
                  </a:lnTo>
                  <a:lnTo>
                    <a:pt x="3431" y="1200"/>
                  </a:lnTo>
                  <a:lnTo>
                    <a:pt x="3449" y="1041"/>
                  </a:lnTo>
                  <a:lnTo>
                    <a:pt x="3528" y="908"/>
                  </a:lnTo>
                  <a:lnTo>
                    <a:pt x="3634" y="789"/>
                  </a:lnTo>
                  <a:lnTo>
                    <a:pt x="3625" y="582"/>
                  </a:lnTo>
                  <a:lnTo>
                    <a:pt x="3625" y="432"/>
                  </a:lnTo>
                  <a:lnTo>
                    <a:pt x="3572" y="321"/>
                  </a:lnTo>
                  <a:lnTo>
                    <a:pt x="3431" y="273"/>
                  </a:lnTo>
                  <a:lnTo>
                    <a:pt x="3378" y="246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27"/>
                  </a:lnTo>
                  <a:lnTo>
                    <a:pt x="2876" y="185"/>
                  </a:lnTo>
                  <a:lnTo>
                    <a:pt x="2770" y="202"/>
                  </a:lnTo>
                  <a:lnTo>
                    <a:pt x="2651" y="202"/>
                  </a:lnTo>
                  <a:lnTo>
                    <a:pt x="2673" y="383"/>
                  </a:lnTo>
                  <a:lnTo>
                    <a:pt x="2673" y="604"/>
                  </a:lnTo>
                  <a:lnTo>
                    <a:pt x="2651" y="758"/>
                  </a:lnTo>
                  <a:lnTo>
                    <a:pt x="2549" y="935"/>
                  </a:lnTo>
                  <a:lnTo>
                    <a:pt x="2413" y="1213"/>
                  </a:lnTo>
                  <a:lnTo>
                    <a:pt x="2307" y="1539"/>
                  </a:lnTo>
                  <a:lnTo>
                    <a:pt x="2302" y="1738"/>
                  </a:lnTo>
                  <a:lnTo>
                    <a:pt x="2249" y="1901"/>
                  </a:lnTo>
                  <a:lnTo>
                    <a:pt x="2188" y="2069"/>
                  </a:lnTo>
                  <a:lnTo>
                    <a:pt x="2157" y="2333"/>
                  </a:lnTo>
                  <a:lnTo>
                    <a:pt x="2174" y="2549"/>
                  </a:lnTo>
                  <a:lnTo>
                    <a:pt x="2249" y="2806"/>
                  </a:lnTo>
                  <a:lnTo>
                    <a:pt x="2302" y="2908"/>
                  </a:lnTo>
                  <a:lnTo>
                    <a:pt x="2157" y="3000"/>
                  </a:lnTo>
                  <a:lnTo>
                    <a:pt x="1984" y="3057"/>
                  </a:lnTo>
                  <a:lnTo>
                    <a:pt x="1794" y="3075"/>
                  </a:lnTo>
                  <a:lnTo>
                    <a:pt x="1680" y="3075"/>
                  </a:lnTo>
                  <a:lnTo>
                    <a:pt x="1605" y="3044"/>
                  </a:lnTo>
                  <a:lnTo>
                    <a:pt x="1605" y="2824"/>
                  </a:lnTo>
                  <a:lnTo>
                    <a:pt x="1605" y="2505"/>
                  </a:lnTo>
                  <a:lnTo>
                    <a:pt x="1556" y="2188"/>
                  </a:lnTo>
                  <a:lnTo>
                    <a:pt x="1481" y="1901"/>
                  </a:lnTo>
                  <a:lnTo>
                    <a:pt x="1441" y="1676"/>
                  </a:lnTo>
                  <a:lnTo>
                    <a:pt x="1433" y="1354"/>
                  </a:lnTo>
                  <a:lnTo>
                    <a:pt x="1481" y="1076"/>
                  </a:lnTo>
                  <a:lnTo>
                    <a:pt x="1556" y="846"/>
                  </a:lnTo>
                  <a:lnTo>
                    <a:pt x="1565" y="714"/>
                  </a:lnTo>
                  <a:lnTo>
                    <a:pt x="1530" y="520"/>
                  </a:lnTo>
                  <a:lnTo>
                    <a:pt x="1530" y="370"/>
                  </a:lnTo>
                  <a:lnTo>
                    <a:pt x="1556" y="321"/>
                  </a:lnTo>
                  <a:lnTo>
                    <a:pt x="1530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64320" y="1467000"/>
              <a:ext cx="194040" cy="851400"/>
            </a:xfrm>
            <a:custGeom>
              <a:avLst/>
              <a:gdLst/>
              <a:ahLst/>
              <a:rect l="0" t="0" r="r" b="b"/>
              <a:pathLst>
                <a:path w="539" h="2365">
                  <a:moveTo>
                    <a:pt x="217" y="26"/>
                  </a:moveTo>
                  <a:lnTo>
                    <a:pt x="70" y="105"/>
                  </a:lnTo>
                  <a:lnTo>
                    <a:pt x="83" y="330"/>
                  </a:lnTo>
                  <a:lnTo>
                    <a:pt x="190" y="396"/>
                  </a:lnTo>
                  <a:lnTo>
                    <a:pt x="61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1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1" y="2074"/>
                  </a:lnTo>
                  <a:lnTo>
                    <a:pt x="278" y="2365"/>
                  </a:lnTo>
                  <a:lnTo>
                    <a:pt x="371" y="2317"/>
                  </a:lnTo>
                  <a:lnTo>
                    <a:pt x="429" y="2118"/>
                  </a:lnTo>
                  <a:lnTo>
                    <a:pt x="531" y="1858"/>
                  </a:lnTo>
                  <a:lnTo>
                    <a:pt x="539" y="1720"/>
                  </a:lnTo>
                  <a:lnTo>
                    <a:pt x="456" y="1460"/>
                  </a:lnTo>
                  <a:lnTo>
                    <a:pt x="353" y="1209"/>
                  </a:lnTo>
                  <a:lnTo>
                    <a:pt x="318" y="1028"/>
                  </a:lnTo>
                  <a:lnTo>
                    <a:pt x="318" y="856"/>
                  </a:lnTo>
                  <a:lnTo>
                    <a:pt x="353" y="706"/>
                  </a:lnTo>
                  <a:lnTo>
                    <a:pt x="429" y="515"/>
                  </a:lnTo>
                  <a:lnTo>
                    <a:pt x="429" y="440"/>
                  </a:lnTo>
                  <a:lnTo>
                    <a:pt x="393" y="366"/>
                  </a:lnTo>
                  <a:lnTo>
                    <a:pt x="495" y="268"/>
                  </a:lnTo>
                  <a:lnTo>
                    <a:pt x="495" y="180"/>
                  </a:lnTo>
                  <a:lnTo>
                    <a:pt x="353" y="0"/>
                  </a:lnTo>
                  <a:lnTo>
                    <a:pt x="469" y="180"/>
                  </a:lnTo>
                  <a:lnTo>
                    <a:pt x="469" y="255"/>
                  </a:lnTo>
                  <a:lnTo>
                    <a:pt x="367" y="330"/>
                  </a:lnTo>
                  <a:lnTo>
                    <a:pt x="407" y="440"/>
                  </a:lnTo>
                  <a:lnTo>
                    <a:pt x="393" y="515"/>
                  </a:lnTo>
                  <a:lnTo>
                    <a:pt x="292" y="733"/>
                  </a:lnTo>
                  <a:lnTo>
                    <a:pt x="278" y="949"/>
                  </a:lnTo>
                  <a:lnTo>
                    <a:pt x="305" y="1147"/>
                  </a:lnTo>
                  <a:lnTo>
                    <a:pt x="371" y="1429"/>
                  </a:lnTo>
                  <a:lnTo>
                    <a:pt x="456" y="1659"/>
                  </a:lnTo>
                  <a:lnTo>
                    <a:pt x="456" y="1845"/>
                  </a:lnTo>
                  <a:lnTo>
                    <a:pt x="407" y="2074"/>
                  </a:lnTo>
                  <a:lnTo>
                    <a:pt x="305" y="2317"/>
                  </a:lnTo>
                  <a:lnTo>
                    <a:pt x="177" y="2184"/>
                  </a:lnTo>
                  <a:lnTo>
                    <a:pt x="127" y="2074"/>
                  </a:lnTo>
                  <a:lnTo>
                    <a:pt x="137" y="1845"/>
                  </a:lnTo>
                  <a:lnTo>
                    <a:pt x="127" y="1610"/>
                  </a:lnTo>
                  <a:lnTo>
                    <a:pt x="61" y="1297"/>
                  </a:lnTo>
                  <a:lnTo>
                    <a:pt x="39" y="1085"/>
                  </a:lnTo>
                  <a:lnTo>
                    <a:pt x="61" y="843"/>
                  </a:lnTo>
                  <a:lnTo>
                    <a:pt x="114" y="613"/>
                  </a:lnTo>
                  <a:lnTo>
                    <a:pt x="225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115480" y="473040"/>
              <a:ext cx="305280" cy="414720"/>
            </a:xfrm>
            <a:custGeom>
              <a:avLst/>
              <a:gdLst/>
              <a:ahLst/>
              <a:rect l="0" t="0" r="r" b="b"/>
              <a:pathLst>
                <a:path w="848" h="1152">
                  <a:moveTo>
                    <a:pt x="141" y="296"/>
                  </a:moveTo>
                  <a:lnTo>
                    <a:pt x="265" y="268"/>
                  </a:lnTo>
                  <a:lnTo>
                    <a:pt x="384" y="277"/>
                  </a:lnTo>
                  <a:lnTo>
                    <a:pt x="486" y="327"/>
                  </a:lnTo>
                  <a:lnTo>
                    <a:pt x="543" y="389"/>
                  </a:lnTo>
                  <a:lnTo>
                    <a:pt x="565" y="450"/>
                  </a:lnTo>
                  <a:lnTo>
                    <a:pt x="565" y="508"/>
                  </a:lnTo>
                  <a:lnTo>
                    <a:pt x="538" y="543"/>
                  </a:lnTo>
                  <a:lnTo>
                    <a:pt x="481" y="574"/>
                  </a:lnTo>
                  <a:lnTo>
                    <a:pt x="419" y="578"/>
                  </a:lnTo>
                  <a:lnTo>
                    <a:pt x="344" y="561"/>
                  </a:lnTo>
                  <a:lnTo>
                    <a:pt x="269" y="512"/>
                  </a:lnTo>
                  <a:lnTo>
                    <a:pt x="211" y="468"/>
                  </a:lnTo>
                  <a:lnTo>
                    <a:pt x="189" y="618"/>
                  </a:lnTo>
                  <a:lnTo>
                    <a:pt x="141" y="719"/>
                  </a:lnTo>
                  <a:lnTo>
                    <a:pt x="0" y="963"/>
                  </a:lnTo>
                  <a:lnTo>
                    <a:pt x="207" y="1152"/>
                  </a:lnTo>
                  <a:lnTo>
                    <a:pt x="362" y="838"/>
                  </a:lnTo>
                  <a:lnTo>
                    <a:pt x="538" y="866"/>
                  </a:lnTo>
                  <a:lnTo>
                    <a:pt x="645" y="843"/>
                  </a:lnTo>
                  <a:lnTo>
                    <a:pt x="751" y="772"/>
                  </a:lnTo>
                  <a:lnTo>
                    <a:pt x="813" y="684"/>
                  </a:lnTo>
                  <a:lnTo>
                    <a:pt x="848" y="565"/>
                  </a:lnTo>
                  <a:lnTo>
                    <a:pt x="848" y="441"/>
                  </a:lnTo>
                  <a:lnTo>
                    <a:pt x="813" y="309"/>
                  </a:lnTo>
                  <a:lnTo>
                    <a:pt x="747" y="176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61480" y="876240"/>
              <a:ext cx="109800" cy="81360"/>
            </a:xfrm>
            <a:custGeom>
              <a:avLst/>
              <a:gdLst/>
              <a:ahLst/>
              <a:rect l="0" t="0" r="r" b="b"/>
              <a:pathLst>
                <a:path w="305" h="226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6"/>
                  </a:lnTo>
                  <a:lnTo>
                    <a:pt x="186" y="226"/>
                  </a:lnTo>
                  <a:lnTo>
                    <a:pt x="274" y="222"/>
                  </a:lnTo>
                  <a:lnTo>
                    <a:pt x="305" y="168"/>
                  </a:lnTo>
                  <a:lnTo>
                    <a:pt x="287" y="124"/>
                  </a:lnTo>
                  <a:lnTo>
                    <a:pt x="247" y="58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 txBox="1"/>
          <p:nvPr/>
        </p:nvSpPr>
        <p:spPr>
          <a:xfrm>
            <a:off x="83808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7240" indent="-6872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ur major sections of the master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990720" y="1371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Budg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362320" y="2666880"/>
            <a:ext cx="52578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8080" y="38088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ash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66680" y="2819520"/>
            <a:ext cx="63244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ginning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pay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ding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143000" y="1523880"/>
            <a:ext cx="7391520" cy="10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ash budget is a projection over a period of time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66680" y="106668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47920" y="236232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ing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explain its role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8080" y="304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ments of a Cash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79320" y="1212840"/>
            <a:ext cx="8242200" cy="5118120"/>
            <a:chOff x="679320" y="1212840"/>
            <a:chExt cx="8242200" cy="5118120"/>
          </a:xfrm>
        </p:grpSpPr>
        <p:sp>
          <p:nvSpPr>
            <p:cNvPr id="512" name=""/>
            <p:cNvSpPr/>
            <p:nvPr/>
          </p:nvSpPr>
          <p:spPr>
            <a:xfrm>
              <a:off x="679320" y="1212840"/>
              <a:ext cx="8242200" cy="51181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838080" y="1523880"/>
              <a:ext cx="1015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Activ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2133720" y="1523880"/>
              <a:ext cx="2209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Cash Receipts 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5668920" y="1523880"/>
              <a:ext cx="2133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Cash Payments F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838080" y="2057400"/>
              <a:ext cx="10796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2133720" y="2057400"/>
              <a:ext cx="1062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2133720" y="2362320"/>
              <a:ext cx="197640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collections o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dit car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5668920" y="2057400"/>
              <a:ext cx="2835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s of direct materi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5668920" y="2362320"/>
              <a:ext cx="3138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s of operating suppl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5668920" y="2666880"/>
              <a:ext cx="1128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5668920" y="2971800"/>
              <a:ext cx="241632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overhea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>
              <a:off x="5668920" y="3413160"/>
              <a:ext cx="1649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ling 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5668920" y="3718080"/>
              <a:ext cx="2394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tive 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838080" y="4105440"/>
              <a:ext cx="100332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2133720" y="4102200"/>
              <a:ext cx="1908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 of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2133720" y="4384800"/>
              <a:ext cx="2349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 of long-term asse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2133720" y="4664160"/>
              <a:ext cx="3252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income from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2133720" y="4944960"/>
              <a:ext cx="3252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dividends from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5668920" y="4102200"/>
              <a:ext cx="2405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f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5668920" y="4384800"/>
              <a:ext cx="2846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f long-term asse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838080" y="5369040"/>
              <a:ext cx="10796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2133720" y="5367240"/>
              <a:ext cx="1444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procee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 txBox="1"/>
            <p:nvPr/>
          </p:nvSpPr>
          <p:spPr>
            <a:xfrm>
              <a:off x="2133720" y="5648400"/>
              <a:ext cx="2709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eds from sale of stoc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2133720" y="5927760"/>
              <a:ext cx="27892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eds from sale of bo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5668920" y="5367240"/>
              <a:ext cx="1569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repay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5668920" y="5648400"/>
              <a:ext cx="1603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expen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5668920" y="5927760"/>
              <a:ext cx="30718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dividends to stockhold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685800" y="1974960"/>
              <a:ext cx="823428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066680" y="3733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828800" y="10666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38080" y="304920"/>
            <a:ext cx="2056320" cy="2055960"/>
            <a:chOff x="838080" y="304920"/>
            <a:chExt cx="2056320" cy="2055960"/>
          </a:xfrm>
        </p:grpSpPr>
        <p:sp>
          <p:nvSpPr>
            <p:cNvPr id="543" name=""/>
            <p:cNvSpPr/>
            <p:nvPr/>
          </p:nvSpPr>
          <p:spPr>
            <a:xfrm>
              <a:off x="844560" y="131436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6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63600" y="160488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19400" y="140508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67000" y="105084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22440" y="45072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63840" y="118908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85800" y="33336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2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16120" y="138276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9640" y="111600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74640" y="74772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44640" y="71424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19200" y="51264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3520" y="96372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09840" y="83520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81120" y="50148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77880" y="30492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46188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90560" y="106668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65360" y="77940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03320" y="130644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8080" y="155412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06560" y="180972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79360" y="182088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65200" y="105552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17840" y="105552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48000" y="145080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152360" y="114300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8200" y="138600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22640" y="46188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71520" y="83664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 txBox="1"/>
          <p:nvPr/>
        </p:nvSpPr>
        <p:spPr>
          <a:xfrm>
            <a:off x="10666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major activity classifications of a cash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990720" y="1143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dgeted Balance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295280" y="251460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219320" y="1676520"/>
            <a:ext cx="769608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formation from all other elements of a master budget is used to prepare a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533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dgeted Balance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219320" y="365760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dgeted balance sheet projects the financial position of an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1066680" y="304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ash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762120" y="243828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unications: Communication of expectations and targets to all key people in th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pport: Top management must appear willing to reward people for meeting the organization’s goals that are represented in the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38080" y="1219320"/>
            <a:ext cx="7924680" cy="10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success factors for implementing a budget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066680" y="4419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1720" indent="-80172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1720" indent="-80172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Sup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057400" y="114300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553080" y="228600"/>
            <a:ext cx="2284920" cy="2208600"/>
            <a:chOff x="6553080" y="228600"/>
            <a:chExt cx="2284920" cy="2208600"/>
          </a:xfrm>
        </p:grpSpPr>
        <p:sp>
          <p:nvSpPr>
            <p:cNvPr id="586" name=""/>
            <p:cNvSpPr/>
            <p:nvPr/>
          </p:nvSpPr>
          <p:spPr>
            <a:xfrm>
              <a:off x="6559560" y="1312920"/>
              <a:ext cx="554400" cy="771840"/>
            </a:xfrm>
            <a:custGeom>
              <a:avLst/>
              <a:gdLst/>
              <a:ahLst/>
              <a:rect l="0" t="0" r="r" b="b"/>
              <a:pathLst>
                <a:path w="1540" h="2144">
                  <a:moveTo>
                    <a:pt x="618" y="0"/>
                  </a:moveTo>
                  <a:lnTo>
                    <a:pt x="534" y="92"/>
                  </a:lnTo>
                  <a:lnTo>
                    <a:pt x="534" y="374"/>
                  </a:lnTo>
                  <a:lnTo>
                    <a:pt x="618" y="577"/>
                  </a:lnTo>
                  <a:lnTo>
                    <a:pt x="706" y="674"/>
                  </a:lnTo>
                  <a:lnTo>
                    <a:pt x="569" y="815"/>
                  </a:lnTo>
                  <a:lnTo>
                    <a:pt x="383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41" y="1835"/>
                  </a:lnTo>
                  <a:lnTo>
                    <a:pt x="233" y="1720"/>
                  </a:lnTo>
                  <a:lnTo>
                    <a:pt x="383" y="1442"/>
                  </a:lnTo>
                  <a:lnTo>
                    <a:pt x="477" y="1323"/>
                  </a:lnTo>
                  <a:lnTo>
                    <a:pt x="534" y="1509"/>
                  </a:lnTo>
                  <a:lnTo>
                    <a:pt x="494" y="1703"/>
                  </a:lnTo>
                  <a:lnTo>
                    <a:pt x="343" y="1989"/>
                  </a:lnTo>
                  <a:lnTo>
                    <a:pt x="383" y="2055"/>
                  </a:lnTo>
                  <a:lnTo>
                    <a:pt x="477" y="2033"/>
                  </a:lnTo>
                  <a:lnTo>
                    <a:pt x="666" y="1888"/>
                  </a:lnTo>
                  <a:lnTo>
                    <a:pt x="821" y="1637"/>
                  </a:lnTo>
                  <a:lnTo>
                    <a:pt x="821" y="2073"/>
                  </a:lnTo>
                  <a:lnTo>
                    <a:pt x="1002" y="2144"/>
                  </a:lnTo>
                  <a:lnTo>
                    <a:pt x="1112" y="1875"/>
                  </a:lnTo>
                  <a:lnTo>
                    <a:pt x="1205" y="2126"/>
                  </a:lnTo>
                  <a:lnTo>
                    <a:pt x="1280" y="2055"/>
                  </a:lnTo>
                  <a:lnTo>
                    <a:pt x="1316" y="1557"/>
                  </a:lnTo>
                  <a:lnTo>
                    <a:pt x="1540" y="1090"/>
                  </a:lnTo>
                  <a:lnTo>
                    <a:pt x="1488" y="815"/>
                  </a:lnTo>
                  <a:lnTo>
                    <a:pt x="1333" y="714"/>
                  </a:lnTo>
                  <a:lnTo>
                    <a:pt x="1166" y="727"/>
                  </a:lnTo>
                  <a:lnTo>
                    <a:pt x="1112" y="507"/>
                  </a:lnTo>
                  <a:lnTo>
                    <a:pt x="940" y="458"/>
                  </a:lnTo>
                  <a:lnTo>
                    <a:pt x="794" y="388"/>
                  </a:lnTo>
                  <a:lnTo>
                    <a:pt x="706" y="48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24680" y="1625760"/>
              <a:ext cx="165600" cy="373320"/>
            </a:xfrm>
            <a:custGeom>
              <a:avLst/>
              <a:gdLst/>
              <a:ahLst/>
              <a:rect l="0" t="0" r="r" b="b"/>
              <a:pathLst>
                <a:path w="460" h="1037">
                  <a:moveTo>
                    <a:pt x="230" y="0"/>
                  </a:moveTo>
                  <a:lnTo>
                    <a:pt x="460" y="268"/>
                  </a:lnTo>
                  <a:lnTo>
                    <a:pt x="344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42" y="440"/>
                  </a:lnTo>
                  <a:lnTo>
                    <a:pt x="230" y="21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88480" y="1411200"/>
              <a:ext cx="408240" cy="336960"/>
            </a:xfrm>
            <a:custGeom>
              <a:avLst/>
              <a:gdLst/>
              <a:ahLst/>
              <a:rect l="0" t="0" r="r" b="b"/>
              <a:pathLst>
                <a:path w="1134" h="936">
                  <a:moveTo>
                    <a:pt x="467" y="0"/>
                  </a:moveTo>
                  <a:lnTo>
                    <a:pt x="467" y="149"/>
                  </a:lnTo>
                  <a:lnTo>
                    <a:pt x="507" y="283"/>
                  </a:lnTo>
                  <a:lnTo>
                    <a:pt x="728" y="508"/>
                  </a:lnTo>
                  <a:lnTo>
                    <a:pt x="1134" y="631"/>
                  </a:lnTo>
                  <a:lnTo>
                    <a:pt x="1076" y="919"/>
                  </a:lnTo>
                  <a:lnTo>
                    <a:pt x="728" y="936"/>
                  </a:lnTo>
                  <a:lnTo>
                    <a:pt x="216" y="734"/>
                  </a:lnTo>
                  <a:lnTo>
                    <a:pt x="0" y="375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51920" y="1028880"/>
              <a:ext cx="572040" cy="743400"/>
            </a:xfrm>
            <a:custGeom>
              <a:avLst/>
              <a:gdLst/>
              <a:ahLst/>
              <a:rect l="0" t="0" r="r" b="b"/>
              <a:pathLst>
                <a:path w="1589" h="2065">
                  <a:moveTo>
                    <a:pt x="141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51" y="1513"/>
                  </a:lnTo>
                  <a:lnTo>
                    <a:pt x="268" y="2026"/>
                  </a:lnTo>
                  <a:lnTo>
                    <a:pt x="494" y="2026"/>
                  </a:lnTo>
                  <a:lnTo>
                    <a:pt x="477" y="1598"/>
                  </a:lnTo>
                  <a:lnTo>
                    <a:pt x="644" y="2048"/>
                  </a:lnTo>
                  <a:lnTo>
                    <a:pt x="755" y="2065"/>
                  </a:lnTo>
                  <a:lnTo>
                    <a:pt x="834" y="1915"/>
                  </a:lnTo>
                  <a:lnTo>
                    <a:pt x="852" y="1629"/>
                  </a:lnTo>
                  <a:lnTo>
                    <a:pt x="1094" y="1893"/>
                  </a:lnTo>
                  <a:lnTo>
                    <a:pt x="1191" y="1876"/>
                  </a:lnTo>
                  <a:lnTo>
                    <a:pt x="1169" y="1690"/>
                  </a:lnTo>
                  <a:lnTo>
                    <a:pt x="1076" y="1429"/>
                  </a:lnTo>
                  <a:lnTo>
                    <a:pt x="979" y="1257"/>
                  </a:lnTo>
                  <a:lnTo>
                    <a:pt x="1015" y="1143"/>
                  </a:lnTo>
                  <a:lnTo>
                    <a:pt x="1076" y="1160"/>
                  </a:lnTo>
                  <a:lnTo>
                    <a:pt x="1298" y="1429"/>
                  </a:lnTo>
                  <a:lnTo>
                    <a:pt x="1536" y="1495"/>
                  </a:lnTo>
                  <a:lnTo>
                    <a:pt x="1589" y="1412"/>
                  </a:lnTo>
                  <a:lnTo>
                    <a:pt x="1554" y="1275"/>
                  </a:lnTo>
                  <a:lnTo>
                    <a:pt x="1112" y="856"/>
                  </a:lnTo>
                  <a:lnTo>
                    <a:pt x="755" y="728"/>
                  </a:lnTo>
                  <a:lnTo>
                    <a:pt x="710" y="498"/>
                  </a:lnTo>
                  <a:lnTo>
                    <a:pt x="834" y="286"/>
                  </a:lnTo>
                  <a:lnTo>
                    <a:pt x="834" y="66"/>
                  </a:lnTo>
                  <a:lnTo>
                    <a:pt x="733" y="0"/>
                  </a:lnTo>
                  <a:lnTo>
                    <a:pt x="477" y="561"/>
                  </a:lnTo>
                  <a:lnTo>
                    <a:pt x="251" y="644"/>
                  </a:lnTo>
                  <a:lnTo>
                    <a:pt x="194" y="794"/>
                  </a:lnTo>
                  <a:lnTo>
                    <a:pt x="141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13760" y="385920"/>
              <a:ext cx="624240" cy="949680"/>
            </a:xfrm>
            <a:custGeom>
              <a:avLst/>
              <a:gdLst/>
              <a:ahLst/>
              <a:rect l="0" t="0" r="r" b="b"/>
              <a:pathLst>
                <a:path w="1734" h="2638">
                  <a:moveTo>
                    <a:pt x="432" y="366"/>
                  </a:moveTo>
                  <a:lnTo>
                    <a:pt x="304" y="873"/>
                  </a:lnTo>
                  <a:lnTo>
                    <a:pt x="17" y="970"/>
                  </a:lnTo>
                  <a:lnTo>
                    <a:pt x="97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41" y="1584"/>
                  </a:lnTo>
                  <a:lnTo>
                    <a:pt x="268" y="1584"/>
                  </a:lnTo>
                  <a:lnTo>
                    <a:pt x="361" y="2170"/>
                  </a:lnTo>
                  <a:lnTo>
                    <a:pt x="467" y="2421"/>
                  </a:lnTo>
                  <a:lnTo>
                    <a:pt x="824" y="2638"/>
                  </a:lnTo>
                  <a:lnTo>
                    <a:pt x="1178" y="2602"/>
                  </a:lnTo>
                  <a:lnTo>
                    <a:pt x="1345" y="2170"/>
                  </a:lnTo>
                  <a:lnTo>
                    <a:pt x="1385" y="1500"/>
                  </a:lnTo>
                  <a:lnTo>
                    <a:pt x="1734" y="1168"/>
                  </a:lnTo>
                  <a:lnTo>
                    <a:pt x="1716" y="1036"/>
                  </a:lnTo>
                  <a:lnTo>
                    <a:pt x="1676" y="970"/>
                  </a:lnTo>
                  <a:lnTo>
                    <a:pt x="1495" y="956"/>
                  </a:lnTo>
                  <a:lnTo>
                    <a:pt x="1553" y="784"/>
                  </a:lnTo>
                  <a:lnTo>
                    <a:pt x="1368" y="665"/>
                  </a:lnTo>
                  <a:lnTo>
                    <a:pt x="1293" y="286"/>
                  </a:lnTo>
                  <a:lnTo>
                    <a:pt x="749" y="0"/>
                  </a:lnTo>
                  <a:lnTo>
                    <a:pt x="467" y="268"/>
                  </a:lnTo>
                  <a:lnTo>
                    <a:pt x="432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59480" y="1177920"/>
              <a:ext cx="572040" cy="1134000"/>
            </a:xfrm>
            <a:custGeom>
              <a:avLst/>
              <a:gdLst/>
              <a:ahLst/>
              <a:rect l="0" t="0" r="r" b="b"/>
              <a:pathLst>
                <a:path w="1589" h="3150">
                  <a:moveTo>
                    <a:pt x="326" y="167"/>
                  </a:moveTo>
                  <a:lnTo>
                    <a:pt x="552" y="317"/>
                  </a:lnTo>
                  <a:lnTo>
                    <a:pt x="662" y="485"/>
                  </a:lnTo>
                  <a:lnTo>
                    <a:pt x="1298" y="0"/>
                  </a:lnTo>
                  <a:lnTo>
                    <a:pt x="1496" y="101"/>
                  </a:lnTo>
                  <a:lnTo>
                    <a:pt x="1589" y="595"/>
                  </a:lnTo>
                  <a:lnTo>
                    <a:pt x="1129" y="2047"/>
                  </a:lnTo>
                  <a:lnTo>
                    <a:pt x="1276" y="2846"/>
                  </a:lnTo>
                  <a:lnTo>
                    <a:pt x="675" y="3150"/>
                  </a:lnTo>
                  <a:lnTo>
                    <a:pt x="211" y="2978"/>
                  </a:lnTo>
                  <a:lnTo>
                    <a:pt x="211" y="2130"/>
                  </a:lnTo>
                  <a:lnTo>
                    <a:pt x="0" y="1306"/>
                  </a:lnTo>
                  <a:lnTo>
                    <a:pt x="211" y="317"/>
                  </a:lnTo>
                  <a:lnTo>
                    <a:pt x="326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85040" y="258840"/>
              <a:ext cx="532080" cy="300240"/>
            </a:xfrm>
            <a:custGeom>
              <a:avLst/>
              <a:gdLst/>
              <a:ahLst/>
              <a:rect l="0" t="0" r="r" b="b"/>
              <a:pathLst>
                <a:path w="1478" h="834">
                  <a:moveTo>
                    <a:pt x="180" y="794"/>
                  </a:moveTo>
                  <a:lnTo>
                    <a:pt x="396" y="574"/>
                  </a:lnTo>
                  <a:lnTo>
                    <a:pt x="537" y="538"/>
                  </a:lnTo>
                  <a:lnTo>
                    <a:pt x="537" y="561"/>
                  </a:lnTo>
                  <a:lnTo>
                    <a:pt x="608" y="538"/>
                  </a:lnTo>
                  <a:lnTo>
                    <a:pt x="696" y="605"/>
                  </a:lnTo>
                  <a:lnTo>
                    <a:pt x="869" y="640"/>
                  </a:lnTo>
                  <a:lnTo>
                    <a:pt x="1015" y="834"/>
                  </a:lnTo>
                  <a:lnTo>
                    <a:pt x="1244" y="750"/>
                  </a:lnTo>
                  <a:lnTo>
                    <a:pt x="1244" y="658"/>
                  </a:lnTo>
                  <a:lnTo>
                    <a:pt x="1478" y="561"/>
                  </a:lnTo>
                  <a:lnTo>
                    <a:pt x="1407" y="401"/>
                  </a:lnTo>
                  <a:lnTo>
                    <a:pt x="1187" y="388"/>
                  </a:lnTo>
                  <a:lnTo>
                    <a:pt x="1222" y="216"/>
                  </a:lnTo>
                  <a:lnTo>
                    <a:pt x="1037" y="238"/>
                  </a:lnTo>
                  <a:lnTo>
                    <a:pt x="1002" y="119"/>
                  </a:lnTo>
                  <a:lnTo>
                    <a:pt x="869" y="119"/>
                  </a:lnTo>
                  <a:lnTo>
                    <a:pt x="781" y="185"/>
                  </a:lnTo>
                  <a:lnTo>
                    <a:pt x="696" y="185"/>
                  </a:lnTo>
                  <a:lnTo>
                    <a:pt x="714" y="0"/>
                  </a:lnTo>
                  <a:lnTo>
                    <a:pt x="537" y="83"/>
                  </a:lnTo>
                  <a:lnTo>
                    <a:pt x="291" y="388"/>
                  </a:lnTo>
                  <a:lnTo>
                    <a:pt x="277" y="185"/>
                  </a:lnTo>
                  <a:lnTo>
                    <a:pt x="145" y="282"/>
                  </a:lnTo>
                  <a:lnTo>
                    <a:pt x="114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80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27960" y="1387440"/>
              <a:ext cx="170280" cy="857520"/>
            </a:xfrm>
            <a:custGeom>
              <a:avLst/>
              <a:gdLst/>
              <a:ahLst/>
              <a:rect l="0" t="0" r="r" b="b"/>
              <a:pathLst>
                <a:path w="473" h="2382">
                  <a:moveTo>
                    <a:pt x="243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195" y="383"/>
                  </a:lnTo>
                  <a:lnTo>
                    <a:pt x="44" y="701"/>
                  </a:lnTo>
                  <a:lnTo>
                    <a:pt x="0" y="1115"/>
                  </a:lnTo>
                  <a:lnTo>
                    <a:pt x="120" y="1667"/>
                  </a:lnTo>
                  <a:lnTo>
                    <a:pt x="120" y="1897"/>
                  </a:lnTo>
                  <a:lnTo>
                    <a:pt x="57" y="2073"/>
                  </a:lnTo>
                  <a:lnTo>
                    <a:pt x="300" y="2382"/>
                  </a:lnTo>
                  <a:lnTo>
                    <a:pt x="456" y="1919"/>
                  </a:lnTo>
                  <a:lnTo>
                    <a:pt x="456" y="1601"/>
                  </a:lnTo>
                  <a:lnTo>
                    <a:pt x="340" y="1301"/>
                  </a:lnTo>
                  <a:lnTo>
                    <a:pt x="283" y="899"/>
                  </a:lnTo>
                  <a:lnTo>
                    <a:pt x="398" y="507"/>
                  </a:lnTo>
                  <a:lnTo>
                    <a:pt x="359" y="348"/>
                  </a:lnTo>
                  <a:lnTo>
                    <a:pt x="473" y="268"/>
                  </a:lnTo>
                  <a:lnTo>
                    <a:pt x="456" y="167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21480" y="1098720"/>
              <a:ext cx="138600" cy="79560"/>
            </a:xfrm>
            <a:custGeom>
              <a:avLst/>
              <a:gdLst/>
              <a:ahLst/>
              <a:rect l="0" t="0" r="r" b="b"/>
              <a:pathLst>
                <a:path w="385" h="221">
                  <a:moveTo>
                    <a:pt x="0" y="66"/>
                  </a:moveTo>
                  <a:lnTo>
                    <a:pt x="155" y="221"/>
                  </a:lnTo>
                  <a:lnTo>
                    <a:pt x="306" y="203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72440" y="703440"/>
              <a:ext cx="170280" cy="168480"/>
            </a:xfrm>
            <a:custGeom>
              <a:avLst/>
              <a:gdLst/>
              <a:ahLst/>
              <a:rect l="0" t="0" r="r" b="b"/>
              <a:pathLst>
                <a:path w="473" h="468">
                  <a:moveTo>
                    <a:pt x="0" y="52"/>
                  </a:moveTo>
                  <a:lnTo>
                    <a:pt x="327" y="468"/>
                  </a:lnTo>
                  <a:lnTo>
                    <a:pt x="473" y="433"/>
                  </a:lnTo>
                  <a:lnTo>
                    <a:pt x="12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72320" y="668160"/>
              <a:ext cx="146520" cy="167040"/>
            </a:xfrm>
            <a:custGeom>
              <a:avLst/>
              <a:gdLst/>
              <a:ahLst/>
              <a:rect l="0" t="0" r="r" b="b"/>
              <a:pathLst>
                <a:path w="407" h="464">
                  <a:moveTo>
                    <a:pt x="0" y="66"/>
                  </a:moveTo>
                  <a:lnTo>
                    <a:pt x="283" y="464"/>
                  </a:lnTo>
                  <a:lnTo>
                    <a:pt x="407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308720" y="452520"/>
              <a:ext cx="595800" cy="419400"/>
            </a:xfrm>
            <a:custGeom>
              <a:avLst/>
              <a:gdLst/>
              <a:ahLst/>
              <a:rect l="0" t="0" r="r" b="b"/>
              <a:pathLst>
                <a:path w="1655" h="1165">
                  <a:moveTo>
                    <a:pt x="759" y="693"/>
                  </a:moveTo>
                  <a:lnTo>
                    <a:pt x="609" y="649"/>
                  </a:lnTo>
                  <a:lnTo>
                    <a:pt x="737" y="542"/>
                  </a:lnTo>
                  <a:lnTo>
                    <a:pt x="693" y="489"/>
                  </a:lnTo>
                  <a:lnTo>
                    <a:pt x="521" y="627"/>
                  </a:lnTo>
                  <a:lnTo>
                    <a:pt x="207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8" y="1156"/>
                  </a:lnTo>
                  <a:lnTo>
                    <a:pt x="246" y="1165"/>
                  </a:lnTo>
                  <a:lnTo>
                    <a:pt x="70" y="803"/>
                  </a:lnTo>
                  <a:lnTo>
                    <a:pt x="343" y="693"/>
                  </a:lnTo>
                  <a:lnTo>
                    <a:pt x="521" y="693"/>
                  </a:lnTo>
                  <a:lnTo>
                    <a:pt x="658" y="763"/>
                  </a:lnTo>
                  <a:lnTo>
                    <a:pt x="693" y="860"/>
                  </a:lnTo>
                  <a:lnTo>
                    <a:pt x="693" y="1085"/>
                  </a:lnTo>
                  <a:lnTo>
                    <a:pt x="693" y="1156"/>
                  </a:lnTo>
                  <a:lnTo>
                    <a:pt x="768" y="1050"/>
                  </a:lnTo>
                  <a:lnTo>
                    <a:pt x="768" y="821"/>
                  </a:lnTo>
                  <a:lnTo>
                    <a:pt x="887" y="821"/>
                  </a:lnTo>
                  <a:lnTo>
                    <a:pt x="944" y="1085"/>
                  </a:lnTo>
                  <a:lnTo>
                    <a:pt x="1006" y="1107"/>
                  </a:lnTo>
                  <a:lnTo>
                    <a:pt x="1209" y="1107"/>
                  </a:lnTo>
                  <a:lnTo>
                    <a:pt x="1413" y="1059"/>
                  </a:lnTo>
                  <a:lnTo>
                    <a:pt x="1554" y="962"/>
                  </a:lnTo>
                  <a:lnTo>
                    <a:pt x="1576" y="724"/>
                  </a:lnTo>
                  <a:lnTo>
                    <a:pt x="1655" y="627"/>
                  </a:lnTo>
                  <a:lnTo>
                    <a:pt x="1607" y="564"/>
                  </a:lnTo>
                  <a:lnTo>
                    <a:pt x="1426" y="498"/>
                  </a:lnTo>
                  <a:lnTo>
                    <a:pt x="1395" y="260"/>
                  </a:lnTo>
                  <a:lnTo>
                    <a:pt x="1222" y="260"/>
                  </a:lnTo>
                  <a:lnTo>
                    <a:pt x="1015" y="0"/>
                  </a:lnTo>
                  <a:lnTo>
                    <a:pt x="1204" y="286"/>
                  </a:lnTo>
                  <a:lnTo>
                    <a:pt x="1263" y="286"/>
                  </a:lnTo>
                  <a:lnTo>
                    <a:pt x="1302" y="489"/>
                  </a:lnTo>
                  <a:lnTo>
                    <a:pt x="1068" y="564"/>
                  </a:lnTo>
                  <a:lnTo>
                    <a:pt x="900" y="507"/>
                  </a:lnTo>
                  <a:lnTo>
                    <a:pt x="874" y="564"/>
                  </a:lnTo>
                  <a:lnTo>
                    <a:pt x="966" y="627"/>
                  </a:lnTo>
                  <a:lnTo>
                    <a:pt x="966" y="680"/>
                  </a:lnTo>
                  <a:lnTo>
                    <a:pt x="1165" y="591"/>
                  </a:lnTo>
                  <a:lnTo>
                    <a:pt x="1329" y="577"/>
                  </a:lnTo>
                  <a:lnTo>
                    <a:pt x="1518" y="600"/>
                  </a:lnTo>
                  <a:lnTo>
                    <a:pt x="1518" y="635"/>
                  </a:lnTo>
                  <a:lnTo>
                    <a:pt x="1430" y="715"/>
                  </a:lnTo>
                  <a:lnTo>
                    <a:pt x="1395" y="821"/>
                  </a:lnTo>
                  <a:lnTo>
                    <a:pt x="1386" y="962"/>
                  </a:lnTo>
                  <a:lnTo>
                    <a:pt x="1276" y="1019"/>
                  </a:lnTo>
                  <a:lnTo>
                    <a:pt x="1116" y="1037"/>
                  </a:lnTo>
                  <a:lnTo>
                    <a:pt x="1006" y="1037"/>
                  </a:lnTo>
                  <a:lnTo>
                    <a:pt x="966" y="993"/>
                  </a:lnTo>
                  <a:lnTo>
                    <a:pt x="944" y="724"/>
                  </a:lnTo>
                  <a:lnTo>
                    <a:pt x="768" y="724"/>
                  </a:lnTo>
                  <a:lnTo>
                    <a:pt x="759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13560" y="934920"/>
              <a:ext cx="192600" cy="86040"/>
            </a:xfrm>
            <a:custGeom>
              <a:avLst/>
              <a:gdLst/>
              <a:ahLst/>
              <a:rect l="0" t="0" r="r" b="b"/>
              <a:pathLst>
                <a:path w="535" h="239">
                  <a:moveTo>
                    <a:pt x="0" y="0"/>
                  </a:moveTo>
                  <a:lnTo>
                    <a:pt x="88" y="110"/>
                  </a:lnTo>
                  <a:lnTo>
                    <a:pt x="318" y="110"/>
                  </a:lnTo>
                  <a:lnTo>
                    <a:pt x="412" y="35"/>
                  </a:lnTo>
                  <a:lnTo>
                    <a:pt x="535" y="35"/>
                  </a:lnTo>
                  <a:lnTo>
                    <a:pt x="513" y="70"/>
                  </a:lnTo>
                  <a:lnTo>
                    <a:pt x="513" y="110"/>
                  </a:lnTo>
                  <a:lnTo>
                    <a:pt x="296" y="239"/>
                  </a:lnTo>
                  <a:lnTo>
                    <a:pt x="177" y="239"/>
                  </a:lnTo>
                  <a:lnTo>
                    <a:pt x="114" y="190"/>
                  </a:lnTo>
                  <a:lnTo>
                    <a:pt x="48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99360" y="797040"/>
              <a:ext cx="292320" cy="452880"/>
            </a:xfrm>
            <a:custGeom>
              <a:avLst/>
              <a:gdLst/>
              <a:ahLst/>
              <a:rect l="0" t="0" r="r" b="b"/>
              <a:pathLst>
                <a:path w="812" h="1258">
                  <a:moveTo>
                    <a:pt x="812" y="88"/>
                  </a:moveTo>
                  <a:lnTo>
                    <a:pt x="812" y="110"/>
                  </a:lnTo>
                  <a:lnTo>
                    <a:pt x="666" y="238"/>
                  </a:lnTo>
                  <a:lnTo>
                    <a:pt x="552" y="260"/>
                  </a:lnTo>
                  <a:lnTo>
                    <a:pt x="321" y="229"/>
                  </a:lnTo>
                  <a:lnTo>
                    <a:pt x="366" y="680"/>
                  </a:lnTo>
                  <a:lnTo>
                    <a:pt x="419" y="1055"/>
                  </a:lnTo>
                  <a:lnTo>
                    <a:pt x="516" y="1258"/>
                  </a:lnTo>
                  <a:lnTo>
                    <a:pt x="419" y="1113"/>
                  </a:lnTo>
                  <a:lnTo>
                    <a:pt x="379" y="954"/>
                  </a:lnTo>
                  <a:lnTo>
                    <a:pt x="313" y="530"/>
                  </a:lnTo>
                  <a:lnTo>
                    <a:pt x="246" y="556"/>
                  </a:lnTo>
                  <a:lnTo>
                    <a:pt x="171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5"/>
                  </a:lnTo>
                  <a:lnTo>
                    <a:pt x="66" y="57"/>
                  </a:lnTo>
                  <a:lnTo>
                    <a:pt x="48" y="149"/>
                  </a:lnTo>
                  <a:lnTo>
                    <a:pt x="57" y="268"/>
                  </a:lnTo>
                  <a:lnTo>
                    <a:pt x="163" y="375"/>
                  </a:lnTo>
                  <a:lnTo>
                    <a:pt x="207" y="353"/>
                  </a:lnTo>
                  <a:lnTo>
                    <a:pt x="207" y="123"/>
                  </a:lnTo>
                  <a:lnTo>
                    <a:pt x="304" y="171"/>
                  </a:lnTo>
                  <a:lnTo>
                    <a:pt x="455" y="202"/>
                  </a:lnTo>
                  <a:lnTo>
                    <a:pt x="591" y="194"/>
                  </a:lnTo>
                  <a:lnTo>
                    <a:pt x="719" y="123"/>
                  </a:lnTo>
                  <a:lnTo>
                    <a:pt x="81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378560" y="439560"/>
              <a:ext cx="87840" cy="240120"/>
            </a:xfrm>
            <a:custGeom>
              <a:avLst/>
              <a:gdLst/>
              <a:ahLst/>
              <a:rect l="0" t="0" r="r" b="b"/>
              <a:pathLst>
                <a:path w="244" h="667">
                  <a:moveTo>
                    <a:pt x="124" y="667"/>
                  </a:moveTo>
                  <a:lnTo>
                    <a:pt x="244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9" y="225"/>
                  </a:lnTo>
                  <a:lnTo>
                    <a:pt x="98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75680" y="228600"/>
              <a:ext cx="652680" cy="317880"/>
            </a:xfrm>
            <a:custGeom>
              <a:avLst/>
              <a:gdLst/>
              <a:ahLst/>
              <a:rect l="0" t="0" r="r" b="b"/>
              <a:pathLst>
                <a:path w="1813" h="883">
                  <a:moveTo>
                    <a:pt x="17" y="596"/>
                  </a:moveTo>
                  <a:lnTo>
                    <a:pt x="171" y="689"/>
                  </a:lnTo>
                  <a:lnTo>
                    <a:pt x="154" y="574"/>
                  </a:lnTo>
                  <a:lnTo>
                    <a:pt x="185" y="375"/>
                  </a:lnTo>
                  <a:lnTo>
                    <a:pt x="291" y="331"/>
                  </a:lnTo>
                  <a:lnTo>
                    <a:pt x="304" y="547"/>
                  </a:lnTo>
                  <a:lnTo>
                    <a:pt x="608" y="171"/>
                  </a:lnTo>
                  <a:lnTo>
                    <a:pt x="679" y="145"/>
                  </a:lnTo>
                  <a:lnTo>
                    <a:pt x="626" y="296"/>
                  </a:lnTo>
                  <a:lnTo>
                    <a:pt x="815" y="367"/>
                  </a:lnTo>
                  <a:lnTo>
                    <a:pt x="953" y="216"/>
                  </a:lnTo>
                  <a:lnTo>
                    <a:pt x="1028" y="261"/>
                  </a:lnTo>
                  <a:lnTo>
                    <a:pt x="962" y="389"/>
                  </a:lnTo>
                  <a:lnTo>
                    <a:pt x="1054" y="318"/>
                  </a:lnTo>
                  <a:lnTo>
                    <a:pt x="1187" y="375"/>
                  </a:lnTo>
                  <a:lnTo>
                    <a:pt x="1081" y="481"/>
                  </a:lnTo>
                  <a:lnTo>
                    <a:pt x="1451" y="547"/>
                  </a:lnTo>
                  <a:lnTo>
                    <a:pt x="1200" y="622"/>
                  </a:lnTo>
                  <a:lnTo>
                    <a:pt x="1513" y="663"/>
                  </a:lnTo>
                  <a:lnTo>
                    <a:pt x="1147" y="751"/>
                  </a:lnTo>
                  <a:lnTo>
                    <a:pt x="1222" y="817"/>
                  </a:lnTo>
                  <a:lnTo>
                    <a:pt x="1116" y="883"/>
                  </a:lnTo>
                  <a:lnTo>
                    <a:pt x="1306" y="883"/>
                  </a:lnTo>
                  <a:lnTo>
                    <a:pt x="1288" y="831"/>
                  </a:lnTo>
                  <a:lnTo>
                    <a:pt x="1482" y="879"/>
                  </a:lnTo>
                  <a:lnTo>
                    <a:pt x="1451" y="738"/>
                  </a:lnTo>
                  <a:lnTo>
                    <a:pt x="1637" y="676"/>
                  </a:lnTo>
                  <a:lnTo>
                    <a:pt x="1504" y="609"/>
                  </a:lnTo>
                  <a:lnTo>
                    <a:pt x="1813" y="587"/>
                  </a:lnTo>
                  <a:lnTo>
                    <a:pt x="1548" y="446"/>
                  </a:lnTo>
                  <a:lnTo>
                    <a:pt x="1244" y="415"/>
                  </a:lnTo>
                  <a:lnTo>
                    <a:pt x="1482" y="269"/>
                  </a:lnTo>
                  <a:lnTo>
                    <a:pt x="1054" y="269"/>
                  </a:lnTo>
                  <a:lnTo>
                    <a:pt x="1257" y="132"/>
                  </a:lnTo>
                  <a:lnTo>
                    <a:pt x="944" y="171"/>
                  </a:lnTo>
                  <a:lnTo>
                    <a:pt x="798" y="239"/>
                  </a:lnTo>
                  <a:lnTo>
                    <a:pt x="922" y="0"/>
                  </a:lnTo>
                  <a:lnTo>
                    <a:pt x="546" y="132"/>
                  </a:lnTo>
                  <a:lnTo>
                    <a:pt x="339" y="424"/>
                  </a:lnTo>
                  <a:lnTo>
                    <a:pt x="304" y="261"/>
                  </a:lnTo>
                  <a:lnTo>
                    <a:pt x="132" y="375"/>
                  </a:lnTo>
                  <a:lnTo>
                    <a:pt x="114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16800" y="396720"/>
              <a:ext cx="184680" cy="95760"/>
            </a:xfrm>
            <a:custGeom>
              <a:avLst/>
              <a:gdLst/>
              <a:ahLst/>
              <a:rect l="0" t="0" r="r" b="b"/>
              <a:pathLst>
                <a:path w="513" h="266">
                  <a:moveTo>
                    <a:pt x="0" y="266"/>
                  </a:moveTo>
                  <a:lnTo>
                    <a:pt x="190" y="0"/>
                  </a:lnTo>
                  <a:lnTo>
                    <a:pt x="190" y="177"/>
                  </a:lnTo>
                  <a:lnTo>
                    <a:pt x="261" y="106"/>
                  </a:lnTo>
                  <a:lnTo>
                    <a:pt x="322" y="204"/>
                  </a:lnTo>
                  <a:lnTo>
                    <a:pt x="513" y="253"/>
                  </a:lnTo>
                  <a:lnTo>
                    <a:pt x="309" y="218"/>
                  </a:lnTo>
                  <a:lnTo>
                    <a:pt x="247" y="150"/>
                  </a:lnTo>
                  <a:lnTo>
                    <a:pt x="159" y="218"/>
                  </a:lnTo>
                  <a:lnTo>
                    <a:pt x="159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99520" y="104616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119" y="136"/>
                  </a:moveTo>
                  <a:lnTo>
                    <a:pt x="371" y="119"/>
                  </a:lnTo>
                  <a:lnTo>
                    <a:pt x="490" y="145"/>
                  </a:lnTo>
                  <a:lnTo>
                    <a:pt x="552" y="88"/>
                  </a:lnTo>
                  <a:lnTo>
                    <a:pt x="618" y="217"/>
                  </a:lnTo>
                  <a:lnTo>
                    <a:pt x="574" y="243"/>
                  </a:lnTo>
                  <a:lnTo>
                    <a:pt x="521" y="194"/>
                  </a:lnTo>
                  <a:lnTo>
                    <a:pt x="441" y="283"/>
                  </a:lnTo>
                  <a:lnTo>
                    <a:pt x="286" y="393"/>
                  </a:lnTo>
                  <a:lnTo>
                    <a:pt x="216" y="393"/>
                  </a:lnTo>
                  <a:lnTo>
                    <a:pt x="119" y="336"/>
                  </a:lnTo>
                  <a:lnTo>
                    <a:pt x="229" y="384"/>
                  </a:lnTo>
                  <a:lnTo>
                    <a:pt x="273" y="384"/>
                  </a:lnTo>
                  <a:lnTo>
                    <a:pt x="371" y="314"/>
                  </a:lnTo>
                  <a:lnTo>
                    <a:pt x="437" y="180"/>
                  </a:lnTo>
                  <a:lnTo>
                    <a:pt x="336" y="158"/>
                  </a:lnTo>
                  <a:lnTo>
                    <a:pt x="268" y="145"/>
                  </a:lnTo>
                  <a:lnTo>
                    <a:pt x="105" y="171"/>
                  </a:lnTo>
                  <a:lnTo>
                    <a:pt x="101" y="274"/>
                  </a:lnTo>
                  <a:lnTo>
                    <a:pt x="48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19" y="105"/>
                  </a:lnTo>
                  <a:lnTo>
                    <a:pt x="119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2520" y="738360"/>
              <a:ext cx="475200" cy="655920"/>
            </a:xfrm>
            <a:custGeom>
              <a:avLst/>
              <a:gdLst/>
              <a:ahLst/>
              <a:rect l="0" t="0" r="r" b="b"/>
              <a:pathLst>
                <a:path w="1320" h="1822">
                  <a:moveTo>
                    <a:pt x="1113" y="0"/>
                  </a:moveTo>
                  <a:lnTo>
                    <a:pt x="1241" y="0"/>
                  </a:lnTo>
                  <a:lnTo>
                    <a:pt x="1320" y="88"/>
                  </a:lnTo>
                  <a:lnTo>
                    <a:pt x="1320" y="189"/>
                  </a:lnTo>
                  <a:lnTo>
                    <a:pt x="1210" y="471"/>
                  </a:lnTo>
                  <a:lnTo>
                    <a:pt x="1104" y="608"/>
                  </a:lnTo>
                  <a:lnTo>
                    <a:pt x="988" y="630"/>
                  </a:lnTo>
                  <a:lnTo>
                    <a:pt x="957" y="630"/>
                  </a:lnTo>
                  <a:lnTo>
                    <a:pt x="957" y="988"/>
                  </a:lnTo>
                  <a:lnTo>
                    <a:pt x="1011" y="1248"/>
                  </a:lnTo>
                  <a:lnTo>
                    <a:pt x="1011" y="1460"/>
                  </a:lnTo>
                  <a:lnTo>
                    <a:pt x="812" y="1676"/>
                  </a:lnTo>
                  <a:lnTo>
                    <a:pt x="538" y="1822"/>
                  </a:lnTo>
                  <a:lnTo>
                    <a:pt x="367" y="1822"/>
                  </a:lnTo>
                  <a:lnTo>
                    <a:pt x="277" y="1778"/>
                  </a:lnTo>
                  <a:lnTo>
                    <a:pt x="154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5" y="1460"/>
                  </a:lnTo>
                  <a:lnTo>
                    <a:pt x="255" y="1553"/>
                  </a:lnTo>
                  <a:lnTo>
                    <a:pt x="464" y="1566"/>
                  </a:lnTo>
                  <a:lnTo>
                    <a:pt x="658" y="1478"/>
                  </a:lnTo>
                  <a:lnTo>
                    <a:pt x="755" y="1372"/>
                  </a:lnTo>
                  <a:lnTo>
                    <a:pt x="865" y="1187"/>
                  </a:lnTo>
                  <a:lnTo>
                    <a:pt x="882" y="971"/>
                  </a:lnTo>
                  <a:lnTo>
                    <a:pt x="922" y="268"/>
                  </a:lnTo>
                  <a:lnTo>
                    <a:pt x="966" y="370"/>
                  </a:lnTo>
                  <a:lnTo>
                    <a:pt x="1100" y="242"/>
                  </a:lnTo>
                  <a:lnTo>
                    <a:pt x="1232" y="189"/>
                  </a:lnTo>
                  <a:lnTo>
                    <a:pt x="1267" y="114"/>
                  </a:lnTo>
                  <a:lnTo>
                    <a:pt x="1249" y="44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35600" y="1303200"/>
              <a:ext cx="383040" cy="606960"/>
            </a:xfrm>
            <a:custGeom>
              <a:avLst/>
              <a:gdLst/>
              <a:ahLst/>
              <a:rect l="0" t="0" r="r" b="b"/>
              <a:pathLst>
                <a:path w="1064" h="1686">
                  <a:moveTo>
                    <a:pt x="132" y="0"/>
                  </a:moveTo>
                  <a:lnTo>
                    <a:pt x="255" y="74"/>
                  </a:lnTo>
                  <a:lnTo>
                    <a:pt x="349" y="418"/>
                  </a:lnTo>
                  <a:lnTo>
                    <a:pt x="622" y="499"/>
                  </a:lnTo>
                  <a:lnTo>
                    <a:pt x="697" y="587"/>
                  </a:lnTo>
                  <a:lnTo>
                    <a:pt x="710" y="715"/>
                  </a:lnTo>
                  <a:lnTo>
                    <a:pt x="848" y="697"/>
                  </a:lnTo>
                  <a:lnTo>
                    <a:pt x="1011" y="803"/>
                  </a:lnTo>
                  <a:lnTo>
                    <a:pt x="1064" y="940"/>
                  </a:lnTo>
                  <a:lnTo>
                    <a:pt x="1064" y="1178"/>
                  </a:lnTo>
                  <a:lnTo>
                    <a:pt x="848" y="1540"/>
                  </a:lnTo>
                  <a:lnTo>
                    <a:pt x="772" y="1686"/>
                  </a:lnTo>
                  <a:lnTo>
                    <a:pt x="813" y="1492"/>
                  </a:lnTo>
                  <a:lnTo>
                    <a:pt x="772" y="1417"/>
                  </a:lnTo>
                  <a:lnTo>
                    <a:pt x="644" y="1294"/>
                  </a:lnTo>
                  <a:lnTo>
                    <a:pt x="433" y="1147"/>
                  </a:lnTo>
                  <a:lnTo>
                    <a:pt x="684" y="1231"/>
                  </a:lnTo>
                  <a:lnTo>
                    <a:pt x="835" y="1342"/>
                  </a:lnTo>
                  <a:lnTo>
                    <a:pt x="910" y="1324"/>
                  </a:lnTo>
                  <a:lnTo>
                    <a:pt x="954" y="1262"/>
                  </a:lnTo>
                  <a:lnTo>
                    <a:pt x="1011" y="1094"/>
                  </a:lnTo>
                  <a:lnTo>
                    <a:pt x="994" y="927"/>
                  </a:lnTo>
                  <a:lnTo>
                    <a:pt x="919" y="834"/>
                  </a:lnTo>
                  <a:lnTo>
                    <a:pt x="785" y="803"/>
                  </a:lnTo>
                  <a:lnTo>
                    <a:pt x="644" y="803"/>
                  </a:lnTo>
                  <a:lnTo>
                    <a:pt x="596" y="556"/>
                  </a:lnTo>
                  <a:lnTo>
                    <a:pt x="362" y="468"/>
                  </a:lnTo>
                  <a:lnTo>
                    <a:pt x="362" y="538"/>
                  </a:lnTo>
                  <a:lnTo>
                    <a:pt x="255" y="361"/>
                  </a:lnTo>
                  <a:lnTo>
                    <a:pt x="194" y="74"/>
                  </a:lnTo>
                  <a:lnTo>
                    <a:pt x="105" y="48"/>
                  </a:lnTo>
                  <a:lnTo>
                    <a:pt x="52" y="132"/>
                  </a:lnTo>
                  <a:lnTo>
                    <a:pt x="52" y="326"/>
                  </a:lnTo>
                  <a:lnTo>
                    <a:pt x="97" y="538"/>
                  </a:lnTo>
                  <a:lnTo>
                    <a:pt x="220" y="715"/>
                  </a:lnTo>
                  <a:lnTo>
                    <a:pt x="83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52" y="48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53080" y="1571760"/>
              <a:ext cx="252720" cy="486000"/>
            </a:xfrm>
            <a:custGeom>
              <a:avLst/>
              <a:gdLst/>
              <a:ahLst/>
              <a:rect l="0" t="0" r="r" b="b"/>
              <a:pathLst>
                <a:path w="702" h="1350">
                  <a:moveTo>
                    <a:pt x="702" y="0"/>
                  </a:moveTo>
                  <a:lnTo>
                    <a:pt x="556" y="88"/>
                  </a:lnTo>
                  <a:lnTo>
                    <a:pt x="384" y="414"/>
                  </a:lnTo>
                  <a:lnTo>
                    <a:pt x="220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36" y="1138"/>
                  </a:lnTo>
                  <a:lnTo>
                    <a:pt x="268" y="1019"/>
                  </a:lnTo>
                  <a:lnTo>
                    <a:pt x="371" y="777"/>
                  </a:lnTo>
                  <a:lnTo>
                    <a:pt x="516" y="630"/>
                  </a:lnTo>
                  <a:lnTo>
                    <a:pt x="516" y="825"/>
                  </a:lnTo>
                  <a:lnTo>
                    <a:pt x="494" y="1006"/>
                  </a:lnTo>
                  <a:lnTo>
                    <a:pt x="343" y="1240"/>
                  </a:lnTo>
                  <a:lnTo>
                    <a:pt x="343" y="1315"/>
                  </a:lnTo>
                  <a:lnTo>
                    <a:pt x="494" y="1350"/>
                  </a:lnTo>
                  <a:lnTo>
                    <a:pt x="384" y="1284"/>
                  </a:lnTo>
                  <a:lnTo>
                    <a:pt x="402" y="1240"/>
                  </a:lnTo>
                  <a:lnTo>
                    <a:pt x="508" y="1068"/>
                  </a:lnTo>
                  <a:lnTo>
                    <a:pt x="583" y="750"/>
                  </a:lnTo>
                  <a:lnTo>
                    <a:pt x="530" y="568"/>
                  </a:lnTo>
                  <a:lnTo>
                    <a:pt x="415" y="670"/>
                  </a:lnTo>
                  <a:lnTo>
                    <a:pt x="163" y="1076"/>
                  </a:lnTo>
                  <a:lnTo>
                    <a:pt x="101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36" y="763"/>
                  </a:lnTo>
                  <a:lnTo>
                    <a:pt x="415" y="436"/>
                  </a:lnTo>
                  <a:lnTo>
                    <a:pt x="583" y="123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40640" y="1846440"/>
              <a:ext cx="157680" cy="233640"/>
            </a:xfrm>
            <a:custGeom>
              <a:avLst/>
              <a:gdLst/>
              <a:ahLst/>
              <a:rect l="0" t="0" r="r" b="b"/>
              <a:pathLst>
                <a:path w="438" h="649">
                  <a:moveTo>
                    <a:pt x="0" y="574"/>
                  </a:moveTo>
                  <a:lnTo>
                    <a:pt x="146" y="406"/>
                  </a:lnTo>
                  <a:lnTo>
                    <a:pt x="172" y="242"/>
                  </a:lnTo>
                  <a:lnTo>
                    <a:pt x="337" y="0"/>
                  </a:lnTo>
                  <a:lnTo>
                    <a:pt x="372" y="158"/>
                  </a:lnTo>
                  <a:lnTo>
                    <a:pt x="350" y="587"/>
                  </a:lnTo>
                  <a:lnTo>
                    <a:pt x="438" y="649"/>
                  </a:lnTo>
                  <a:lnTo>
                    <a:pt x="309" y="600"/>
                  </a:lnTo>
                  <a:lnTo>
                    <a:pt x="243" y="362"/>
                  </a:lnTo>
                  <a:lnTo>
                    <a:pt x="146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32520" y="1857240"/>
              <a:ext cx="103680" cy="209880"/>
            </a:xfrm>
            <a:custGeom>
              <a:avLst/>
              <a:gdLst/>
              <a:ahLst/>
              <a:rect l="0" t="0" r="r" b="b"/>
              <a:pathLst>
                <a:path w="288" h="583">
                  <a:moveTo>
                    <a:pt x="0" y="437"/>
                  </a:moveTo>
                  <a:lnTo>
                    <a:pt x="13" y="220"/>
                  </a:lnTo>
                  <a:lnTo>
                    <a:pt x="75" y="92"/>
                  </a:lnTo>
                  <a:lnTo>
                    <a:pt x="142" y="552"/>
                  </a:lnTo>
                  <a:lnTo>
                    <a:pt x="226" y="552"/>
                  </a:lnTo>
                  <a:lnTo>
                    <a:pt x="266" y="66"/>
                  </a:lnTo>
                  <a:lnTo>
                    <a:pt x="288" y="0"/>
                  </a:lnTo>
                  <a:lnTo>
                    <a:pt x="266" y="380"/>
                  </a:lnTo>
                  <a:lnTo>
                    <a:pt x="226" y="583"/>
                  </a:lnTo>
                  <a:lnTo>
                    <a:pt x="115" y="583"/>
                  </a:lnTo>
                  <a:lnTo>
                    <a:pt x="66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50120" y="1035000"/>
              <a:ext cx="249480" cy="559080"/>
            </a:xfrm>
            <a:custGeom>
              <a:avLst/>
              <a:gdLst/>
              <a:ahLst/>
              <a:rect l="0" t="0" r="r" b="b"/>
              <a:pathLst>
                <a:path w="693" h="1553">
                  <a:moveTo>
                    <a:pt x="180" y="843"/>
                  </a:moveTo>
                  <a:lnTo>
                    <a:pt x="233" y="595"/>
                  </a:lnTo>
                  <a:lnTo>
                    <a:pt x="468" y="533"/>
                  </a:lnTo>
                  <a:lnTo>
                    <a:pt x="693" y="0"/>
                  </a:lnTo>
                  <a:lnTo>
                    <a:pt x="693" y="154"/>
                  </a:lnTo>
                  <a:lnTo>
                    <a:pt x="503" y="568"/>
                  </a:lnTo>
                  <a:lnTo>
                    <a:pt x="255" y="643"/>
                  </a:lnTo>
                  <a:lnTo>
                    <a:pt x="220" y="843"/>
                  </a:lnTo>
                  <a:lnTo>
                    <a:pt x="308" y="843"/>
                  </a:lnTo>
                  <a:lnTo>
                    <a:pt x="92" y="927"/>
                  </a:lnTo>
                  <a:lnTo>
                    <a:pt x="39" y="1094"/>
                  </a:lnTo>
                  <a:lnTo>
                    <a:pt x="52" y="1306"/>
                  </a:lnTo>
                  <a:lnTo>
                    <a:pt x="282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5" y="847"/>
                  </a:lnTo>
                  <a:lnTo>
                    <a:pt x="180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18600" y="1035000"/>
              <a:ext cx="419400" cy="541800"/>
            </a:xfrm>
            <a:custGeom>
              <a:avLst/>
              <a:gdLst/>
              <a:ahLst/>
              <a:rect l="0" t="0" r="r" b="b"/>
              <a:pathLst>
                <a:path w="1165" h="1505">
                  <a:moveTo>
                    <a:pt x="321" y="0"/>
                  </a:moveTo>
                  <a:lnTo>
                    <a:pt x="392" y="48"/>
                  </a:lnTo>
                  <a:lnTo>
                    <a:pt x="414" y="176"/>
                  </a:lnTo>
                  <a:lnTo>
                    <a:pt x="414" y="291"/>
                  </a:lnTo>
                  <a:lnTo>
                    <a:pt x="282" y="512"/>
                  </a:lnTo>
                  <a:lnTo>
                    <a:pt x="308" y="671"/>
                  </a:lnTo>
                  <a:lnTo>
                    <a:pt x="702" y="847"/>
                  </a:lnTo>
                  <a:lnTo>
                    <a:pt x="1156" y="1320"/>
                  </a:lnTo>
                  <a:lnTo>
                    <a:pt x="1165" y="1448"/>
                  </a:lnTo>
                  <a:lnTo>
                    <a:pt x="1138" y="1505"/>
                  </a:lnTo>
                  <a:lnTo>
                    <a:pt x="971" y="1505"/>
                  </a:lnTo>
                  <a:lnTo>
                    <a:pt x="816" y="1417"/>
                  </a:lnTo>
                  <a:lnTo>
                    <a:pt x="693" y="1258"/>
                  </a:lnTo>
                  <a:lnTo>
                    <a:pt x="622" y="1170"/>
                  </a:lnTo>
                  <a:lnTo>
                    <a:pt x="537" y="1157"/>
                  </a:lnTo>
                  <a:lnTo>
                    <a:pt x="640" y="1157"/>
                  </a:lnTo>
                  <a:lnTo>
                    <a:pt x="830" y="1399"/>
                  </a:lnTo>
                  <a:lnTo>
                    <a:pt x="1072" y="1470"/>
                  </a:lnTo>
                  <a:lnTo>
                    <a:pt x="1125" y="1399"/>
                  </a:lnTo>
                  <a:lnTo>
                    <a:pt x="1099" y="1289"/>
                  </a:lnTo>
                  <a:lnTo>
                    <a:pt x="675" y="944"/>
                  </a:lnTo>
                  <a:lnTo>
                    <a:pt x="613" y="847"/>
                  </a:lnTo>
                  <a:lnTo>
                    <a:pt x="282" y="763"/>
                  </a:lnTo>
                  <a:lnTo>
                    <a:pt x="224" y="847"/>
                  </a:lnTo>
                  <a:lnTo>
                    <a:pt x="0" y="988"/>
                  </a:lnTo>
                  <a:lnTo>
                    <a:pt x="211" y="825"/>
                  </a:lnTo>
                  <a:lnTo>
                    <a:pt x="224" y="719"/>
                  </a:lnTo>
                  <a:lnTo>
                    <a:pt x="224" y="477"/>
                  </a:lnTo>
                  <a:lnTo>
                    <a:pt x="374" y="291"/>
                  </a:lnTo>
                  <a:lnTo>
                    <a:pt x="374" y="61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42280" y="1460520"/>
              <a:ext cx="356040" cy="321120"/>
            </a:xfrm>
            <a:custGeom>
              <a:avLst/>
              <a:gdLst/>
              <a:ahLst/>
              <a:rect l="0" t="0" r="r" b="b"/>
              <a:pathLst>
                <a:path w="989" h="892">
                  <a:moveTo>
                    <a:pt x="741" y="0"/>
                  </a:moveTo>
                  <a:lnTo>
                    <a:pt x="715" y="74"/>
                  </a:lnTo>
                  <a:lnTo>
                    <a:pt x="866" y="371"/>
                  </a:lnTo>
                  <a:lnTo>
                    <a:pt x="936" y="676"/>
                  </a:lnTo>
                  <a:lnTo>
                    <a:pt x="853" y="676"/>
                  </a:lnTo>
                  <a:lnTo>
                    <a:pt x="702" y="538"/>
                  </a:lnTo>
                  <a:lnTo>
                    <a:pt x="569" y="261"/>
                  </a:lnTo>
                  <a:lnTo>
                    <a:pt x="464" y="216"/>
                  </a:lnTo>
                  <a:lnTo>
                    <a:pt x="481" y="371"/>
                  </a:lnTo>
                  <a:lnTo>
                    <a:pt x="578" y="477"/>
                  </a:lnTo>
                  <a:lnTo>
                    <a:pt x="578" y="694"/>
                  </a:lnTo>
                  <a:lnTo>
                    <a:pt x="508" y="848"/>
                  </a:lnTo>
                  <a:lnTo>
                    <a:pt x="415" y="786"/>
                  </a:lnTo>
                  <a:lnTo>
                    <a:pt x="305" y="538"/>
                  </a:lnTo>
                  <a:lnTo>
                    <a:pt x="278" y="371"/>
                  </a:lnTo>
                  <a:lnTo>
                    <a:pt x="211" y="322"/>
                  </a:lnTo>
                  <a:lnTo>
                    <a:pt x="194" y="756"/>
                  </a:lnTo>
                  <a:lnTo>
                    <a:pt x="105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6" y="879"/>
                  </a:lnTo>
                  <a:lnTo>
                    <a:pt x="194" y="879"/>
                  </a:lnTo>
                  <a:lnTo>
                    <a:pt x="238" y="773"/>
                  </a:lnTo>
                  <a:lnTo>
                    <a:pt x="265" y="437"/>
                  </a:lnTo>
                  <a:lnTo>
                    <a:pt x="287" y="569"/>
                  </a:lnTo>
                  <a:lnTo>
                    <a:pt x="397" y="857"/>
                  </a:lnTo>
                  <a:lnTo>
                    <a:pt x="521" y="892"/>
                  </a:lnTo>
                  <a:lnTo>
                    <a:pt x="613" y="773"/>
                  </a:lnTo>
                  <a:lnTo>
                    <a:pt x="613" y="494"/>
                  </a:lnTo>
                  <a:lnTo>
                    <a:pt x="853" y="725"/>
                  </a:lnTo>
                  <a:lnTo>
                    <a:pt x="976" y="725"/>
                  </a:lnTo>
                  <a:lnTo>
                    <a:pt x="989" y="569"/>
                  </a:lnTo>
                  <a:lnTo>
                    <a:pt x="897" y="292"/>
                  </a:lnTo>
                  <a:lnTo>
                    <a:pt x="741" y="61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902280" y="1128600"/>
              <a:ext cx="1586160" cy="1308600"/>
            </a:xfrm>
            <a:custGeom>
              <a:avLst/>
              <a:gdLst/>
              <a:ahLst/>
              <a:rect l="0" t="0" r="r" b="b"/>
              <a:pathLst>
                <a:path w="4406" h="3635">
                  <a:moveTo>
                    <a:pt x="1587" y="308"/>
                  </a:moveTo>
                  <a:lnTo>
                    <a:pt x="1503" y="321"/>
                  </a:lnTo>
                  <a:lnTo>
                    <a:pt x="1380" y="502"/>
                  </a:lnTo>
                  <a:lnTo>
                    <a:pt x="1336" y="370"/>
                  </a:lnTo>
                  <a:lnTo>
                    <a:pt x="1195" y="295"/>
                  </a:lnTo>
                  <a:lnTo>
                    <a:pt x="1089" y="348"/>
                  </a:lnTo>
                  <a:lnTo>
                    <a:pt x="1045" y="586"/>
                  </a:lnTo>
                  <a:lnTo>
                    <a:pt x="652" y="873"/>
                  </a:lnTo>
                  <a:lnTo>
                    <a:pt x="679" y="997"/>
                  </a:lnTo>
                  <a:lnTo>
                    <a:pt x="582" y="1107"/>
                  </a:lnTo>
                  <a:lnTo>
                    <a:pt x="582" y="1200"/>
                  </a:lnTo>
                  <a:lnTo>
                    <a:pt x="696" y="1478"/>
                  </a:lnTo>
                  <a:lnTo>
                    <a:pt x="705" y="1813"/>
                  </a:lnTo>
                  <a:lnTo>
                    <a:pt x="630" y="2130"/>
                  </a:lnTo>
                  <a:lnTo>
                    <a:pt x="348" y="2320"/>
                  </a:lnTo>
                  <a:lnTo>
                    <a:pt x="308" y="2580"/>
                  </a:lnTo>
                  <a:lnTo>
                    <a:pt x="220" y="2580"/>
                  </a:lnTo>
                  <a:lnTo>
                    <a:pt x="176" y="2364"/>
                  </a:lnTo>
                  <a:lnTo>
                    <a:pt x="92" y="2364"/>
                  </a:lnTo>
                  <a:lnTo>
                    <a:pt x="52" y="2593"/>
                  </a:lnTo>
                  <a:lnTo>
                    <a:pt x="0" y="2655"/>
                  </a:lnTo>
                  <a:lnTo>
                    <a:pt x="194" y="2969"/>
                  </a:lnTo>
                  <a:lnTo>
                    <a:pt x="335" y="2982"/>
                  </a:lnTo>
                  <a:lnTo>
                    <a:pt x="582" y="3212"/>
                  </a:lnTo>
                  <a:lnTo>
                    <a:pt x="806" y="3243"/>
                  </a:lnTo>
                  <a:lnTo>
                    <a:pt x="934" y="3119"/>
                  </a:lnTo>
                  <a:lnTo>
                    <a:pt x="1239" y="2668"/>
                  </a:lnTo>
                  <a:lnTo>
                    <a:pt x="1265" y="3274"/>
                  </a:lnTo>
                  <a:lnTo>
                    <a:pt x="1239" y="3635"/>
                  </a:lnTo>
                  <a:lnTo>
                    <a:pt x="3784" y="3635"/>
                  </a:lnTo>
                  <a:lnTo>
                    <a:pt x="3599" y="3243"/>
                  </a:lnTo>
                  <a:lnTo>
                    <a:pt x="3506" y="2908"/>
                  </a:lnTo>
                  <a:lnTo>
                    <a:pt x="3484" y="2404"/>
                  </a:lnTo>
                  <a:lnTo>
                    <a:pt x="3634" y="2518"/>
                  </a:lnTo>
                  <a:lnTo>
                    <a:pt x="3784" y="2518"/>
                  </a:lnTo>
                  <a:lnTo>
                    <a:pt x="3991" y="2386"/>
                  </a:lnTo>
                  <a:lnTo>
                    <a:pt x="4132" y="2364"/>
                  </a:lnTo>
                  <a:lnTo>
                    <a:pt x="4221" y="2232"/>
                  </a:lnTo>
                  <a:lnTo>
                    <a:pt x="4278" y="1888"/>
                  </a:lnTo>
                  <a:lnTo>
                    <a:pt x="4406" y="1751"/>
                  </a:lnTo>
                  <a:lnTo>
                    <a:pt x="4340" y="1645"/>
                  </a:lnTo>
                  <a:lnTo>
                    <a:pt x="4247" y="1645"/>
                  </a:lnTo>
                  <a:lnTo>
                    <a:pt x="4172" y="1716"/>
                  </a:lnTo>
                  <a:lnTo>
                    <a:pt x="4097" y="1738"/>
                  </a:lnTo>
                  <a:lnTo>
                    <a:pt x="4005" y="1645"/>
                  </a:lnTo>
                  <a:lnTo>
                    <a:pt x="3899" y="1632"/>
                  </a:lnTo>
                  <a:lnTo>
                    <a:pt x="3696" y="1504"/>
                  </a:lnTo>
                  <a:lnTo>
                    <a:pt x="3572" y="1368"/>
                  </a:lnTo>
                  <a:lnTo>
                    <a:pt x="3550" y="1200"/>
                  </a:lnTo>
                  <a:lnTo>
                    <a:pt x="3572" y="1041"/>
                  </a:lnTo>
                  <a:lnTo>
                    <a:pt x="3656" y="908"/>
                  </a:lnTo>
                  <a:lnTo>
                    <a:pt x="3762" y="789"/>
                  </a:lnTo>
                  <a:lnTo>
                    <a:pt x="3753" y="582"/>
                  </a:lnTo>
                  <a:lnTo>
                    <a:pt x="3753" y="432"/>
                  </a:lnTo>
                  <a:lnTo>
                    <a:pt x="3696" y="321"/>
                  </a:lnTo>
                  <a:lnTo>
                    <a:pt x="3550" y="273"/>
                  </a:lnTo>
                  <a:lnTo>
                    <a:pt x="3497" y="246"/>
                  </a:lnTo>
                  <a:lnTo>
                    <a:pt x="3392" y="66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5"/>
                  </a:lnTo>
                  <a:lnTo>
                    <a:pt x="3074" y="127"/>
                  </a:lnTo>
                  <a:lnTo>
                    <a:pt x="2977" y="185"/>
                  </a:lnTo>
                  <a:lnTo>
                    <a:pt x="2867" y="202"/>
                  </a:lnTo>
                  <a:lnTo>
                    <a:pt x="2748" y="202"/>
                  </a:lnTo>
                  <a:lnTo>
                    <a:pt x="2770" y="383"/>
                  </a:lnTo>
                  <a:lnTo>
                    <a:pt x="2770" y="604"/>
                  </a:lnTo>
                  <a:lnTo>
                    <a:pt x="2748" y="758"/>
                  </a:lnTo>
                  <a:lnTo>
                    <a:pt x="2638" y="935"/>
                  </a:lnTo>
                  <a:lnTo>
                    <a:pt x="2501" y="1213"/>
                  </a:lnTo>
                  <a:lnTo>
                    <a:pt x="2391" y="1539"/>
                  </a:lnTo>
                  <a:lnTo>
                    <a:pt x="2382" y="1738"/>
                  </a:lnTo>
                  <a:lnTo>
                    <a:pt x="2329" y="1901"/>
                  </a:lnTo>
                  <a:lnTo>
                    <a:pt x="2263" y="2069"/>
                  </a:lnTo>
                  <a:lnTo>
                    <a:pt x="2232" y="2333"/>
                  </a:lnTo>
                  <a:lnTo>
                    <a:pt x="2249" y="2549"/>
                  </a:lnTo>
                  <a:lnTo>
                    <a:pt x="2329" y="2806"/>
                  </a:lnTo>
                  <a:lnTo>
                    <a:pt x="2382" y="2908"/>
                  </a:lnTo>
                  <a:lnTo>
                    <a:pt x="2232" y="3000"/>
                  </a:lnTo>
                  <a:lnTo>
                    <a:pt x="2054" y="3057"/>
                  </a:lnTo>
                  <a:lnTo>
                    <a:pt x="1860" y="3075"/>
                  </a:lnTo>
                  <a:lnTo>
                    <a:pt x="1737" y="3075"/>
                  </a:lnTo>
                  <a:lnTo>
                    <a:pt x="1658" y="3044"/>
                  </a:lnTo>
                  <a:lnTo>
                    <a:pt x="1658" y="2824"/>
                  </a:lnTo>
                  <a:lnTo>
                    <a:pt x="1658" y="2505"/>
                  </a:lnTo>
                  <a:lnTo>
                    <a:pt x="1613" y="2188"/>
                  </a:lnTo>
                  <a:lnTo>
                    <a:pt x="1534" y="1901"/>
                  </a:lnTo>
                  <a:lnTo>
                    <a:pt x="1494" y="1676"/>
                  </a:lnTo>
                  <a:lnTo>
                    <a:pt x="1481" y="1354"/>
                  </a:lnTo>
                  <a:lnTo>
                    <a:pt x="1534" y="1076"/>
                  </a:lnTo>
                  <a:lnTo>
                    <a:pt x="1613" y="846"/>
                  </a:lnTo>
                  <a:lnTo>
                    <a:pt x="1618" y="714"/>
                  </a:lnTo>
                  <a:lnTo>
                    <a:pt x="1587" y="520"/>
                  </a:lnTo>
                  <a:lnTo>
                    <a:pt x="1587" y="370"/>
                  </a:lnTo>
                  <a:lnTo>
                    <a:pt x="1613" y="321"/>
                  </a:lnTo>
                  <a:lnTo>
                    <a:pt x="1587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20040" y="1390680"/>
              <a:ext cx="200520" cy="851400"/>
            </a:xfrm>
            <a:custGeom>
              <a:avLst/>
              <a:gdLst/>
              <a:ahLst/>
              <a:rect l="0" t="0" r="r" b="b"/>
              <a:pathLst>
                <a:path w="557" h="2365">
                  <a:moveTo>
                    <a:pt x="221" y="26"/>
                  </a:moveTo>
                  <a:lnTo>
                    <a:pt x="74" y="105"/>
                  </a:lnTo>
                  <a:lnTo>
                    <a:pt x="88" y="330"/>
                  </a:lnTo>
                  <a:lnTo>
                    <a:pt x="195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9" y="1707"/>
                  </a:lnTo>
                  <a:lnTo>
                    <a:pt x="119" y="1871"/>
                  </a:lnTo>
                  <a:lnTo>
                    <a:pt x="66" y="2074"/>
                  </a:lnTo>
                  <a:lnTo>
                    <a:pt x="287" y="2365"/>
                  </a:lnTo>
                  <a:lnTo>
                    <a:pt x="384" y="2317"/>
                  </a:lnTo>
                  <a:lnTo>
                    <a:pt x="442" y="2118"/>
                  </a:lnTo>
                  <a:lnTo>
                    <a:pt x="548" y="1858"/>
                  </a:lnTo>
                  <a:lnTo>
                    <a:pt x="557" y="1720"/>
                  </a:lnTo>
                  <a:lnTo>
                    <a:pt x="469" y="1460"/>
                  </a:lnTo>
                  <a:lnTo>
                    <a:pt x="367" y="1209"/>
                  </a:lnTo>
                  <a:lnTo>
                    <a:pt x="327" y="1028"/>
                  </a:lnTo>
                  <a:lnTo>
                    <a:pt x="327" y="856"/>
                  </a:lnTo>
                  <a:lnTo>
                    <a:pt x="367" y="706"/>
                  </a:lnTo>
                  <a:lnTo>
                    <a:pt x="442" y="515"/>
                  </a:lnTo>
                  <a:lnTo>
                    <a:pt x="442" y="440"/>
                  </a:lnTo>
                  <a:lnTo>
                    <a:pt x="406" y="366"/>
                  </a:lnTo>
                  <a:lnTo>
                    <a:pt x="509" y="268"/>
                  </a:lnTo>
                  <a:lnTo>
                    <a:pt x="509" y="180"/>
                  </a:lnTo>
                  <a:lnTo>
                    <a:pt x="367" y="0"/>
                  </a:lnTo>
                  <a:lnTo>
                    <a:pt x="482" y="180"/>
                  </a:lnTo>
                  <a:lnTo>
                    <a:pt x="482" y="255"/>
                  </a:lnTo>
                  <a:lnTo>
                    <a:pt x="380" y="330"/>
                  </a:lnTo>
                  <a:lnTo>
                    <a:pt x="420" y="440"/>
                  </a:lnTo>
                  <a:lnTo>
                    <a:pt x="406" y="515"/>
                  </a:lnTo>
                  <a:lnTo>
                    <a:pt x="300" y="733"/>
                  </a:lnTo>
                  <a:lnTo>
                    <a:pt x="287" y="949"/>
                  </a:lnTo>
                  <a:lnTo>
                    <a:pt x="314" y="1147"/>
                  </a:lnTo>
                  <a:lnTo>
                    <a:pt x="384" y="1429"/>
                  </a:lnTo>
                  <a:lnTo>
                    <a:pt x="469" y="1659"/>
                  </a:lnTo>
                  <a:lnTo>
                    <a:pt x="469" y="1845"/>
                  </a:lnTo>
                  <a:lnTo>
                    <a:pt x="420" y="2074"/>
                  </a:lnTo>
                  <a:lnTo>
                    <a:pt x="314" y="2317"/>
                  </a:lnTo>
                  <a:lnTo>
                    <a:pt x="181" y="2184"/>
                  </a:lnTo>
                  <a:lnTo>
                    <a:pt x="132" y="2074"/>
                  </a:lnTo>
                  <a:lnTo>
                    <a:pt x="142" y="1845"/>
                  </a:lnTo>
                  <a:lnTo>
                    <a:pt x="132" y="1610"/>
                  </a:lnTo>
                  <a:lnTo>
                    <a:pt x="66" y="1297"/>
                  </a:lnTo>
                  <a:lnTo>
                    <a:pt x="39" y="1085"/>
                  </a:lnTo>
                  <a:lnTo>
                    <a:pt x="66" y="843"/>
                  </a:lnTo>
                  <a:lnTo>
                    <a:pt x="119" y="613"/>
                  </a:lnTo>
                  <a:lnTo>
                    <a:pt x="234" y="379"/>
                  </a:lnTo>
                  <a:lnTo>
                    <a:pt x="132" y="282"/>
                  </a:lnTo>
                  <a:lnTo>
                    <a:pt x="119" y="119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091360" y="396720"/>
              <a:ext cx="314640" cy="414720"/>
            </a:xfrm>
            <a:custGeom>
              <a:avLst/>
              <a:gdLst/>
              <a:ahLst/>
              <a:rect l="0" t="0" r="r" b="b"/>
              <a:pathLst>
                <a:path w="874" h="1152">
                  <a:moveTo>
                    <a:pt x="145" y="296"/>
                  </a:moveTo>
                  <a:lnTo>
                    <a:pt x="273" y="268"/>
                  </a:lnTo>
                  <a:lnTo>
                    <a:pt x="396" y="277"/>
                  </a:lnTo>
                  <a:lnTo>
                    <a:pt x="503" y="327"/>
                  </a:lnTo>
                  <a:lnTo>
                    <a:pt x="556" y="389"/>
                  </a:lnTo>
                  <a:lnTo>
                    <a:pt x="583" y="450"/>
                  </a:lnTo>
                  <a:lnTo>
                    <a:pt x="583" y="508"/>
                  </a:lnTo>
                  <a:lnTo>
                    <a:pt x="552" y="543"/>
                  </a:lnTo>
                  <a:lnTo>
                    <a:pt x="499" y="574"/>
                  </a:lnTo>
                  <a:lnTo>
                    <a:pt x="432" y="578"/>
                  </a:lnTo>
                  <a:lnTo>
                    <a:pt x="352" y="561"/>
                  </a:lnTo>
                  <a:lnTo>
                    <a:pt x="277" y="512"/>
                  </a:lnTo>
                  <a:lnTo>
                    <a:pt x="220" y="468"/>
                  </a:lnTo>
                  <a:lnTo>
                    <a:pt x="194" y="618"/>
                  </a:lnTo>
                  <a:lnTo>
                    <a:pt x="145" y="719"/>
                  </a:lnTo>
                  <a:lnTo>
                    <a:pt x="0" y="963"/>
                  </a:lnTo>
                  <a:lnTo>
                    <a:pt x="211" y="1152"/>
                  </a:lnTo>
                  <a:lnTo>
                    <a:pt x="370" y="838"/>
                  </a:lnTo>
                  <a:lnTo>
                    <a:pt x="552" y="866"/>
                  </a:lnTo>
                  <a:lnTo>
                    <a:pt x="666" y="843"/>
                  </a:lnTo>
                  <a:lnTo>
                    <a:pt x="772" y="772"/>
                  </a:lnTo>
                  <a:lnTo>
                    <a:pt x="838" y="684"/>
                  </a:lnTo>
                  <a:lnTo>
                    <a:pt x="874" y="565"/>
                  </a:lnTo>
                  <a:lnTo>
                    <a:pt x="874" y="441"/>
                  </a:lnTo>
                  <a:lnTo>
                    <a:pt x="838" y="309"/>
                  </a:lnTo>
                  <a:lnTo>
                    <a:pt x="768" y="176"/>
                  </a:lnTo>
                  <a:lnTo>
                    <a:pt x="680" y="79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5"/>
                  </a:lnTo>
                  <a:lnTo>
                    <a:pt x="145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34480" y="800280"/>
              <a:ext cx="114840" cy="81360"/>
            </a:xfrm>
            <a:custGeom>
              <a:avLst/>
              <a:gdLst/>
              <a:ahLst/>
              <a:rect l="0" t="0" r="r" b="b"/>
              <a:pathLst>
                <a:path w="319" h="226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6"/>
                  </a:lnTo>
                  <a:lnTo>
                    <a:pt x="190" y="226"/>
                  </a:lnTo>
                  <a:lnTo>
                    <a:pt x="288" y="222"/>
                  </a:lnTo>
                  <a:lnTo>
                    <a:pt x="319" y="168"/>
                  </a:lnTo>
                  <a:lnTo>
                    <a:pt x="301" y="124"/>
                  </a:lnTo>
                  <a:lnTo>
                    <a:pt x="257" y="58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 txBox="1"/>
          <p:nvPr/>
        </p:nvSpPr>
        <p:spPr>
          <a:xfrm>
            <a:off x="1066680" y="2438280"/>
            <a:ext cx="777240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wo factors are needed for the successful implementation of a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914400" y="106668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447920" y="228600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discuss its relation to responsibility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838080" y="53352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14400" y="342900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9080" indent="-460440">
              <a:lnSpc>
                <a:spcPct val="13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lassifies financial data according to areas of responsi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9080" indent="-460440">
              <a:lnSpc>
                <a:spcPct val="13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s only controllable cost and revenue information for manag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90720" y="144792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 is an information system that doe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1066680" y="152388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center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838080" y="22860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Ce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6668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 focuses on the reporting, not on the recording, of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83808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Ce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914400" y="11430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profit center is a responsibility center whose manager is responsible for both revenues and costs, and for the resulting prof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914400" y="342900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investment center is a responsibility center whose manager is responsible for profit generation and makes significant decisions about the assets that the center u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29528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ing is the proces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66680" y="198108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th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mmari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44197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and nonfinancial information about an organization’s future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762120" y="533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rganizational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914400" y="167652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rporate organization chart determines the flow of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3352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1066680" y="434340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Cos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Profi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Investmen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752480" y="1066680"/>
            <a:ext cx="5562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629400" y="380880"/>
            <a:ext cx="2208240" cy="2132280"/>
            <a:chOff x="6629400" y="380880"/>
            <a:chExt cx="2208240" cy="2132280"/>
          </a:xfrm>
        </p:grpSpPr>
        <p:sp>
          <p:nvSpPr>
            <p:cNvPr id="635" name=""/>
            <p:cNvSpPr/>
            <p:nvPr/>
          </p:nvSpPr>
          <p:spPr>
            <a:xfrm>
              <a:off x="6635880" y="142704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85160" y="173052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112240" y="152244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271000" y="115416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64520" y="53172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08800" y="129708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32560" y="41112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72240" y="150012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566120" y="122220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21400" y="83988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10480" y="80496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61280" y="59688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58200" y="106380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51560" y="93024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26440" y="58428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3200" y="38088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61440" y="54468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117000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16800" y="87300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05440" y="141912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629400" y="167796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0480" y="194148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96240" y="195408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269200" y="115884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32640" y="115884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58120" y="156996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67440" y="124920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564320" y="150336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115480" y="54468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61480" y="93204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 txBox="1"/>
          <p:nvPr/>
        </p:nvSpPr>
        <p:spPr>
          <a:xfrm>
            <a:off x="1066680" y="2362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ree different classifications of responsibility cent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228600" y="304920"/>
            <a:ext cx="8674200" cy="6091200"/>
            <a:chOff x="228600" y="304920"/>
            <a:chExt cx="8674200" cy="6091200"/>
          </a:xfrm>
        </p:grpSpPr>
        <p:sp>
          <p:nvSpPr>
            <p:cNvPr id="66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312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4880" y="42908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0040" y="47815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42840" y="43657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70120" y="5078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22320" y="50515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33560" y="37846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50840" y="38862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03440" y="39290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24040" y="18432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54200" y="21286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c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04920" y="21574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05000" y="20718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919240" y="21924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81320" y="20588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25560" y="21924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58960" y="22114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25680" y="21207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58880" y="24494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81360" y="19209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54120" y="19828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911240" y="20638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97240" y="28494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78160" y="29685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25520" y="21178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53920" y="22082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04880" y="17002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501920" y="8240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25680" y="13892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17600" y="14079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0040" y="13701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989000" y="13906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01800" y="16095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24040" y="16128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14560" y="16318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763640" y="17622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87400" y="18432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98760" y="14508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65400" y="14605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69920" y="12952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58880" y="12938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12880" y="14191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698480" y="1398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73360" y="1405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08080" y="14144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92320" y="1420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736640" y="14097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043000" y="14270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23960" y="15908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71800" y="16416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11280" y="7588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12800" y="13287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52640" y="13510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74880" y="14097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25640" y="135108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523880" y="13334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43160" y="126360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90760" y="26859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481120" y="28083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571840" y="2824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71920" y="28004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32040" y="27273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62120" y="23176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95760" y="25369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41520" y="23763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2460600"/>
              <a:ext cx="6248520" cy="38354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338560" y="22795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674800" y="24764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550960" y="24512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46200" y="24573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12960" y="23670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2882880" y="2664000"/>
              <a:ext cx="5867280" cy="32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budget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explain its role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xplain the basic principles of budgeting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cribe the master budget process for different types of organizations, and list the guidelines for preparing budge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budgeted income statement and supporting operating budge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65" name="" descr=""/>
            <p:cNvPicPr/>
            <p:nvPr/>
          </p:nvPicPr>
          <p:blipFill>
            <a:blip r:embed="rId1"/>
            <a:stretch/>
          </p:blipFill>
          <p:spPr>
            <a:xfrm>
              <a:off x="2730600" y="304920"/>
              <a:ext cx="5618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 txBox="1"/>
            <p:nvPr/>
          </p:nvSpPr>
          <p:spPr>
            <a:xfrm>
              <a:off x="3290760" y="5461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304920" y="533520"/>
            <a:ext cx="8314920" cy="5940360"/>
            <a:chOff x="304920" y="533520"/>
            <a:chExt cx="8314920" cy="5940360"/>
          </a:xfrm>
        </p:grpSpPr>
        <p:sp>
          <p:nvSpPr>
            <p:cNvPr id="768" name=""/>
            <p:cNvSpPr/>
            <p:nvPr/>
          </p:nvSpPr>
          <p:spPr>
            <a:xfrm>
              <a:off x="7509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49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83280" y="1900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6320" y="45194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1480" y="50101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944640" y="45943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71560" y="53071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23760" y="52801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35000" y="40132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52640" y="41148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05240" y="41576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5480" y="20718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655640" y="23572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c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206360" y="23860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206800" y="23004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21040" y="24210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182760" y="22874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27360" y="24210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60760" y="24400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27120" y="23493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560680" y="26780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882800" y="21495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55920" y="22114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13040" y="22924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398680" y="30780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79600" y="31971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27320" y="23464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55720" y="24368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606680" y="19288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03360" y="10526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27120" y="16178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19400" y="16365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71480" y="15987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90800" y="16192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03240" y="18381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725480" y="18414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16000" y="18604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65440" y="19908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789200" y="20718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00200" y="16794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66840" y="16891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71720" y="15238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660680" y="15224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714680" y="16477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00280" y="16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74800" y="163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9880" y="16430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93760" y="16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738440" y="16383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044800" y="1655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625760" y="18194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3240" y="18702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519200" y="101916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614600" y="15573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954080" y="15796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76320" y="16383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27080" y="157968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525680" y="15620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244600" y="149220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92200" y="29145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82920" y="30369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573280" y="30528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73360" y="30290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33840" y="29559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63920" y="25462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797200" y="27655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443320" y="26049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66880" y="2739960"/>
              <a:ext cx="5952960" cy="24890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40000" y="25081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76600" y="27050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552760" y="26798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48000" y="26859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14760" y="25956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 txBox="1"/>
            <p:nvPr/>
          </p:nvSpPr>
          <p:spPr>
            <a:xfrm>
              <a:off x="2884320" y="2948040"/>
              <a:ext cx="5638680" cy="286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cash budge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budgeted balance shee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esponsibility account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discuss its relation to responsibility center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8" name="" descr=""/>
            <p:cNvPicPr/>
            <p:nvPr/>
          </p:nvPicPr>
          <p:blipFill>
            <a:blip r:embed="rId1"/>
            <a:stretch/>
          </p:blipFill>
          <p:spPr>
            <a:xfrm>
              <a:off x="2732040" y="533520"/>
              <a:ext cx="5618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"/>
            <p:cNvSpPr txBox="1"/>
            <p:nvPr/>
          </p:nvSpPr>
          <p:spPr>
            <a:xfrm>
              <a:off x="4038480" y="762120"/>
              <a:ext cx="263052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ALSO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8088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342900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udgeting process provides managers with the opportunity to carefully match the goals of the organization with the resources necessary to accomplish those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s are updated to accommodate  management’s needs for performance evaluation in some settings such as JIT or TQM enviro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89160" y="755640"/>
            <a:ext cx="7023240" cy="58039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Examples of Bu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825480"/>
            <a:ext cx="731844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66680" y="2286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37160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use the budgeting process throughout the management cycle to hel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971800"/>
            <a:ext cx="3200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ec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66680" y="50292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rganization’s financing, investing, and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066680" y="152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Budgeting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nd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826160" cy="433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6960" y="1292400"/>
            <a:ext cx="2673360" cy="12063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ate the organization’s long-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oals to its short-term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tribute resources and workl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e respon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lect performanc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t goals for bonuses and re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778800" y="5483160"/>
            <a:ext cx="2216160" cy="841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e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llenge &amp; motivate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cogniz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0880" y="2968560"/>
            <a:ext cx="25970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e budge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 continuous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87480" y="5483160"/>
            <a:ext cx="2063880" cy="10242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culate vari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aluate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tim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eate solutions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ous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