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8381880" y="6324480"/>
            <a:ext cx="587520" cy="451800"/>
          </a:xfrm>
          <a:prstGeom prst="rect">
            <a:avLst/>
          </a:prstGeom>
          <a:noFill/>
          <a:ln w="0">
            <a:noFill/>
          </a:ln>
        </p:spPr>
        <p:txBody>
          <a:bodyPr lIns="0" rIns="0" tIns="0" bIns="0" anchor="t">
            <a:noAutofit/>
          </a:bodyPr>
          <a:p>
            <a:pPr>
              <a:lnSpc>
                <a:spcPct val="100000"/>
              </a:lnSpc>
            </a:pPr>
            <a:r>
              <a:rPr b="0" lang="en-US" sz="1600" spc="-1" strike="noStrike">
                <a:solidFill>
                  <a:srgbClr val="fcffd8"/>
                </a:solidFill>
                <a:latin typeface="Arial"/>
                <a:ea typeface="Arial"/>
              </a:rPr>
              <a:t>5-</a:t>
            </a:r>
            <a:fld id="{BD1859FF-22D0-469F-AE7A-CB4006BE4C70}" type="slidenum">
              <a:rPr b="0" lang="en-US" sz="1600" spc="-1" strike="noStrike">
                <a:solidFill>
                  <a:srgbClr val="fcffd8"/>
                </a:solidFill>
                <a:latin typeface="Arial"/>
                <a:ea typeface="Arial"/>
              </a:rPr>
              <a:t>&lt;number&gt;</a:t>
            </a:fld>
            <a:endParaRPr b="0" lang="en-US" sz="1600" spc="-1" strike="noStrike">
              <a:solidFill>
                <a:srgbClr val="000000"/>
              </a:solidFill>
              <a:latin typeface="Arial"/>
            </a:endParaRPr>
          </a:p>
        </p:txBody>
      </p:sp>
      <p:sp>
        <p:nvSpPr>
          <p:cNvPr id="1" name=""/>
          <p:cNvSpPr txBox="1"/>
          <p:nvPr/>
        </p:nvSpPr>
        <p:spPr>
          <a:xfrm>
            <a:off x="3276720" y="6629400"/>
            <a:ext cx="2895480" cy="256680"/>
          </a:xfrm>
          <a:prstGeom prst="rect">
            <a:avLst/>
          </a:prstGeom>
          <a:noFill/>
          <a:ln w="0">
            <a:noFill/>
          </a:ln>
        </p:spPr>
        <p:txBody>
          <a:bodyPr lIns="0" rIns="0" tIns="0" bIns="0" anchor="t">
            <a:noAutofit/>
          </a:bodyPr>
          <a:p>
            <a:pPr algn="ctr">
              <a:lnSpc>
                <a:spcPct val="100000"/>
              </a:lnSpc>
            </a:pPr>
            <a:r>
              <a:rPr b="0" lang="en-US" sz="900" spc="-1" strike="noStrike">
                <a:solidFill>
                  <a:srgbClr val="ffcc66"/>
                </a:solidFill>
                <a:latin typeface="Arial"/>
                <a:ea typeface="Arial"/>
              </a:rPr>
              <a:t>Copyright</a:t>
            </a:r>
            <a:r>
              <a:rPr b="0" lang="en-US" sz="900" spc="-1" strike="noStrike">
                <a:solidFill>
                  <a:srgbClr val="ffcc66"/>
                </a:solidFill>
                <a:latin typeface="Symbol"/>
                <a:ea typeface="Symbol"/>
              </a:rPr>
              <a:t> ©</a:t>
            </a:r>
            <a:r>
              <a:rPr b="0" lang="en-US" sz="900" spc="-1" strike="noStrike">
                <a:solidFill>
                  <a:srgbClr val="ffcc66"/>
                </a:solidFill>
                <a:latin typeface="Arial"/>
                <a:ea typeface="Arial"/>
              </a:rPr>
              <a:t> Houghton Mifflin Company.  All rights reserved.</a:t>
            </a:r>
            <a:endParaRPr b="0" lang="en-US" sz="900" spc="-1" strike="noStrike">
              <a:solidFill>
                <a:srgbClr val="000000"/>
              </a:solidFill>
              <a:latin typeface="Arial"/>
            </a:endParaRPr>
          </a:p>
        </p:txBody>
      </p:sp>
      <p:sp>
        <p:nvSpPr>
          <p:cNvPr id="2" name=""/>
          <p:cNvSpPr/>
          <p:nvPr/>
        </p:nvSpPr>
        <p:spPr>
          <a:xfrm>
            <a:off x="374760" y="146160"/>
            <a:ext cx="8623440" cy="6489720"/>
          </a:xfrm>
          <a:prstGeom prst="rect">
            <a:avLst/>
          </a:prstGeom>
          <a:noFill/>
          <a:ln w="12600">
            <a:solidFill>
              <a:srgbClr val="333399"/>
            </a:solidFill>
            <a:round/>
          </a:ln>
        </p:spPr>
        <p:txBody>
          <a:bodyPr lIns="96120" rIns="96120" tIns="51120" bIns="51120" anchor="t">
            <a:noAutofit/>
          </a:bodyPr>
          <a:p>
            <a:endParaRPr b="0" lang="en-US" sz="1800" spc="-1" strike="noStrike">
              <a:solidFill>
                <a:srgbClr val="000000"/>
              </a:solidFill>
              <a:latin typeface="Arial"/>
            </a:endParaRPr>
          </a:p>
        </p:txBody>
      </p:sp>
      <p:sp>
        <p:nvSpPr>
          <p:cNvPr id="3" name=""/>
          <p:cNvSpPr/>
          <p:nvPr/>
        </p:nvSpPr>
        <p:spPr>
          <a:xfrm>
            <a:off x="-6480" y="-6480"/>
            <a:ext cx="622440" cy="6870600"/>
          </a:xfrm>
          <a:prstGeom prst="rect">
            <a:avLst/>
          </a:prstGeom>
          <a:blipFill rotWithShape="0">
            <a:blip r:embed="rId2"/>
            <a:tile tx="0" ty="0" sx="133018" sy="133018" algn="ctr"/>
          </a:blipFill>
          <a:ln w="12600">
            <a:solidFill>
              <a:srgbClr val="333399"/>
            </a:solidFill>
            <a:round/>
          </a:ln>
        </p:spPr>
        <p:txBody>
          <a:bodyPr lIns="96120" rIns="96120" tIns="51120" bIns="51120" anchor="t">
            <a:noAutofit/>
          </a:bodyPr>
          <a:p>
            <a:endParaRPr b="0" lang="en-US" sz="1800" spc="-1" strike="noStrike">
              <a:solidFill>
                <a:srgbClr val="000000"/>
              </a:solidFill>
              <a:latin typeface="Arial"/>
            </a:endParaRPr>
          </a:p>
        </p:txBody>
      </p:sp>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2" name=""/>
          <p:cNvSpPr txBox="1"/>
          <p:nvPr/>
        </p:nvSpPr>
        <p:spPr>
          <a:xfrm>
            <a:off x="990720" y="304920"/>
            <a:ext cx="7696080" cy="19051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hapter 5</a:t>
            </a:r>
            <a:br>
              <a:rPr sz="4400"/>
            </a:br>
            <a:r>
              <a:rPr b="1" lang="en-US" sz="4400" spc="-1" strike="noStrike">
                <a:solidFill>
                  <a:srgbClr val="ffcc66"/>
                </a:solidFill>
                <a:latin typeface="Arial"/>
                <a:ea typeface="Arial"/>
              </a:rPr>
              <a:t>Merchandising Operations</a:t>
            </a:r>
            <a:endParaRPr b="0" lang="en-US" sz="4400" spc="-1" strike="noStrike">
              <a:solidFill>
                <a:srgbClr val="ffffff"/>
              </a:solidFill>
              <a:latin typeface="Arial"/>
            </a:endParaRPr>
          </a:p>
        </p:txBody>
      </p:sp>
      <p:pic>
        <p:nvPicPr>
          <p:cNvPr id="43" name="" descr=""/>
          <p:cNvPicPr/>
          <p:nvPr/>
        </p:nvPicPr>
        <p:blipFill>
          <a:blip r:embed="rId1"/>
          <a:stretch/>
        </p:blipFill>
        <p:spPr>
          <a:xfrm>
            <a:off x="5029200" y="3200400"/>
            <a:ext cx="3822840" cy="2903400"/>
          </a:xfrm>
          <a:prstGeom prst="rect">
            <a:avLst/>
          </a:prstGeom>
          <a:ln w="0">
            <a:noFill/>
          </a:ln>
        </p:spPr>
      </p:pic>
      <p:sp>
        <p:nvSpPr>
          <p:cNvPr id="44" name=""/>
          <p:cNvSpPr txBox="1"/>
          <p:nvPr/>
        </p:nvSpPr>
        <p:spPr>
          <a:xfrm>
            <a:off x="914400" y="2590920"/>
            <a:ext cx="4267080" cy="3886200"/>
          </a:xfrm>
          <a:prstGeom prst="rect">
            <a:avLst/>
          </a:prstGeom>
          <a:noFill/>
          <a:ln w="0">
            <a:noFill/>
          </a:ln>
        </p:spPr>
        <p:txBody>
          <a:bodyPr lIns="0" rIns="0" tIns="0" bIns="0" anchor="t">
            <a:noAutofit/>
          </a:bodyPr>
          <a:p>
            <a:pPr marL="343080" indent="-343080" algn="ctr">
              <a:lnSpc>
                <a:spcPct val="100000"/>
              </a:lnSpc>
              <a:spcBef>
                <a:spcPts val="360"/>
              </a:spcBef>
            </a:pPr>
            <a:r>
              <a:rPr b="1" lang="en-US" sz="2400" spc="-1" strike="noStrike">
                <a:solidFill>
                  <a:srgbClr val="fc0128"/>
                </a:solidFill>
                <a:latin typeface="Arial"/>
                <a:ea typeface="Arial"/>
              </a:rPr>
              <a:t>Belverd E. Needles, Jr.</a:t>
            </a:r>
            <a:endParaRPr b="0" lang="en-US" sz="2400" spc="-1" strike="noStrike">
              <a:solidFill>
                <a:srgbClr val="ffffff"/>
              </a:solidFill>
              <a:latin typeface="Arial"/>
            </a:endParaRPr>
          </a:p>
          <a:p>
            <a:pPr marL="343080" indent="-343080" algn="ctr">
              <a:lnSpc>
                <a:spcPct val="100000"/>
              </a:lnSpc>
              <a:spcBef>
                <a:spcPts val="360"/>
              </a:spcBef>
            </a:pPr>
            <a:r>
              <a:rPr b="1" lang="en-US" sz="2400" spc="-1" strike="noStrike">
                <a:solidFill>
                  <a:srgbClr val="fc0128"/>
                </a:solidFill>
                <a:latin typeface="Arial"/>
                <a:ea typeface="Arial"/>
              </a:rPr>
              <a:t>Marian Powers</a:t>
            </a:r>
            <a:endParaRPr b="0" lang="en-US" sz="2400" spc="-1" strike="noStrike">
              <a:solidFill>
                <a:srgbClr val="ffffff"/>
              </a:solidFill>
              <a:latin typeface="Arial"/>
            </a:endParaRPr>
          </a:p>
          <a:p>
            <a:pPr marL="343080" indent="-343080" algn="ctr">
              <a:lnSpc>
                <a:spcPct val="100000"/>
              </a:lnSpc>
              <a:spcBef>
                <a:spcPts val="360"/>
              </a:spcBef>
            </a:pPr>
            <a:r>
              <a:rPr b="1" lang="en-US" sz="2400" spc="-1" strike="noStrike">
                <a:solidFill>
                  <a:srgbClr val="fc0128"/>
                </a:solidFill>
                <a:latin typeface="Arial"/>
                <a:ea typeface="Arial"/>
              </a:rPr>
              <a:t>Sherry K. Mills</a:t>
            </a:r>
            <a:endParaRPr b="0" lang="en-US" sz="2400" spc="-1" strike="noStrike">
              <a:solidFill>
                <a:srgbClr val="ffffff"/>
              </a:solidFill>
              <a:latin typeface="Arial"/>
            </a:endParaRPr>
          </a:p>
          <a:p>
            <a:pPr marL="343080" indent="-343080" algn="ctr">
              <a:lnSpc>
                <a:spcPct val="100000"/>
              </a:lnSpc>
              <a:spcBef>
                <a:spcPts val="360"/>
              </a:spcBef>
            </a:pPr>
            <a:r>
              <a:rPr b="1" lang="en-US" sz="2400" spc="-1" strike="noStrike">
                <a:solidFill>
                  <a:srgbClr val="fc0128"/>
                </a:solidFill>
                <a:latin typeface="Arial"/>
                <a:ea typeface="Arial"/>
              </a:rPr>
              <a:t>Henry R. Anderson</a:t>
            </a:r>
            <a:endParaRPr b="0" lang="en-US" sz="2400" spc="-1" strike="noStrike">
              <a:solidFill>
                <a:srgbClr val="ffffff"/>
              </a:solidFill>
              <a:latin typeface="Arial"/>
            </a:endParaRPr>
          </a:p>
          <a:p>
            <a:pPr marL="343080" indent="-343080" algn="ctr">
              <a:lnSpc>
                <a:spcPct val="100000"/>
              </a:lnSpc>
              <a:spcBef>
                <a:spcPts val="479"/>
              </a:spcBef>
            </a:pPr>
            <a:r>
              <a:rPr b="1" lang="en-US" sz="2000" spc="-1" strike="noStrike">
                <a:solidFill>
                  <a:srgbClr val="bc3700"/>
                </a:solidFill>
                <a:latin typeface="Arial"/>
                <a:ea typeface="Arial"/>
              </a:rPr>
              <a:t>- - - - - - - - - - -</a:t>
            </a:r>
            <a:endParaRPr b="0" lang="en-US" sz="2000" spc="-1" strike="noStrike">
              <a:solidFill>
                <a:srgbClr val="ffffff"/>
              </a:solidFill>
              <a:latin typeface="Arial"/>
            </a:endParaRPr>
          </a:p>
          <a:p>
            <a:pPr marL="343080" indent="-343080" algn="ctr">
              <a:lnSpc>
                <a:spcPct val="100000"/>
              </a:lnSpc>
              <a:spcBef>
                <a:spcPts val="479"/>
              </a:spcBef>
            </a:pPr>
            <a:r>
              <a:rPr b="1" lang="en-US" sz="2000" spc="-1" strike="noStrike">
                <a:solidFill>
                  <a:srgbClr val="fcffd8"/>
                </a:solidFill>
                <a:latin typeface="Arial"/>
                <a:ea typeface="Arial"/>
              </a:rPr>
              <a:t>Multimedia Slides by:</a:t>
            </a:r>
            <a:endParaRPr b="0" lang="en-US" sz="2000" spc="-1" strike="noStrike">
              <a:solidFill>
                <a:srgbClr val="ffffff"/>
              </a:solidFill>
              <a:latin typeface="Arial"/>
            </a:endParaRPr>
          </a:p>
          <a:p>
            <a:pPr marL="343080" indent="-343080" algn="ctr">
              <a:lnSpc>
                <a:spcPct val="100000"/>
              </a:lnSpc>
              <a:spcBef>
                <a:spcPts val="479"/>
              </a:spcBef>
            </a:pPr>
            <a:r>
              <a:rPr b="1" lang="en-US" sz="2000" spc="-1" strike="noStrike">
                <a:solidFill>
                  <a:srgbClr val="fcffd8"/>
                </a:solidFill>
                <a:latin typeface="Arial"/>
                <a:ea typeface="Arial"/>
              </a:rPr>
              <a:t>Dr. Paul J. Robertson</a:t>
            </a:r>
            <a:endParaRPr b="0" lang="en-US" sz="2000" spc="-1" strike="noStrike">
              <a:solidFill>
                <a:srgbClr val="ffffff"/>
              </a:solidFill>
              <a:latin typeface="Arial"/>
            </a:endParaRPr>
          </a:p>
          <a:p>
            <a:pPr marL="343080" indent="-343080" algn="ctr">
              <a:lnSpc>
                <a:spcPct val="100000"/>
              </a:lnSpc>
              <a:spcBef>
                <a:spcPts val="479"/>
              </a:spcBef>
            </a:pPr>
            <a:r>
              <a:rPr b="1" lang="en-US" sz="1800" spc="-1" strike="noStrike">
                <a:solidFill>
                  <a:srgbClr val="fcffd8"/>
                </a:solidFill>
                <a:latin typeface="Arial"/>
                <a:ea typeface="Arial"/>
              </a:rPr>
              <a:t>New Mexico State University</a:t>
            </a:r>
            <a:endParaRPr b="0" lang="en-US" sz="1800" spc="-1" strike="noStrike">
              <a:solidFill>
                <a:srgbClr val="ffffff"/>
              </a:solidFill>
              <a:latin typeface="Arial"/>
            </a:endParaRPr>
          </a:p>
          <a:p>
            <a:pPr marL="343080" indent="-343080" algn="ctr">
              <a:lnSpc>
                <a:spcPct val="100000"/>
              </a:lnSpc>
              <a:spcBef>
                <a:spcPts val="479"/>
              </a:spcBef>
            </a:pPr>
            <a:r>
              <a:rPr b="1" lang="en-US" sz="2000" spc="-1" strike="noStrike">
                <a:solidFill>
                  <a:srgbClr val="fcffd8"/>
                </a:solidFill>
                <a:latin typeface="Arial"/>
                <a:ea typeface="Arial"/>
              </a:rPr>
              <a:t>Steve Leask</a:t>
            </a:r>
            <a:endParaRPr b="0" lang="en-US" sz="2000" spc="-1" strike="noStrike">
              <a:solidFill>
                <a:srgbClr val="ffffff"/>
              </a:solidFill>
              <a:latin typeface="Arial"/>
            </a:endParaRPr>
          </a:p>
          <a:p>
            <a:pPr marL="343080" indent="-343080" algn="ctr">
              <a:lnSpc>
                <a:spcPct val="100000"/>
              </a:lnSpc>
              <a:spcBef>
                <a:spcPts val="479"/>
              </a:spcBef>
            </a:pPr>
            <a:r>
              <a:rPr b="1" lang="en-US" sz="1800" spc="-1" strike="noStrike">
                <a:solidFill>
                  <a:srgbClr val="fcffd8"/>
                </a:solidFill>
                <a:latin typeface="Arial"/>
                <a:ea typeface="Arial"/>
              </a:rPr>
              <a:t>New Mexico State Univers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14" name=""/>
          <p:cNvSpPr txBox="1"/>
          <p:nvPr/>
        </p:nvSpPr>
        <p:spPr>
          <a:xfrm>
            <a:off x="990720" y="1752480"/>
            <a:ext cx="7848720" cy="44197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Physically count inventory, usually at the end of the accounting period.</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No detailed records of the actual inventory are maintained during the accounting period.</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Less costly than perpetual inventory method, but provides less information.</a:t>
            </a:r>
            <a:endParaRPr b="0" lang="en-US" sz="3200" spc="-1" strike="noStrike">
              <a:solidFill>
                <a:srgbClr val="ffffff"/>
              </a:solidFill>
              <a:latin typeface="Arial"/>
            </a:endParaRPr>
          </a:p>
        </p:txBody>
      </p:sp>
      <p:sp>
        <p:nvSpPr>
          <p:cNvPr id="115" name=""/>
          <p:cNvSpPr txBox="1"/>
          <p:nvPr/>
        </p:nvSpPr>
        <p:spPr>
          <a:xfrm>
            <a:off x="990720" y="457200"/>
            <a:ext cx="7734240" cy="1250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Features of the Periodic Inventory System</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16" name=""/>
          <p:cNvSpPr txBox="1"/>
          <p:nvPr/>
        </p:nvSpPr>
        <p:spPr>
          <a:xfrm>
            <a:off x="914400" y="380880"/>
            <a:ext cx="7924680" cy="1295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Features of the Perpetual Inventory System</a:t>
            </a:r>
            <a:endParaRPr b="0" lang="en-US" sz="4400" spc="-1" strike="noStrike">
              <a:solidFill>
                <a:srgbClr val="ffffff"/>
              </a:solidFill>
              <a:latin typeface="Arial"/>
            </a:endParaRPr>
          </a:p>
        </p:txBody>
      </p:sp>
      <p:sp>
        <p:nvSpPr>
          <p:cNvPr id="117" name=""/>
          <p:cNvSpPr txBox="1"/>
          <p:nvPr/>
        </p:nvSpPr>
        <p:spPr>
          <a:xfrm>
            <a:off x="990720" y="1828800"/>
            <a:ext cx="7772400" cy="41148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Continuous records are kept of the quantity and, usually, the cost of individual items as they are bought and sold.</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More effective for providing information about quantities and ensuring optimal customer servi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18" name=""/>
          <p:cNvSpPr txBox="1"/>
          <p:nvPr/>
        </p:nvSpPr>
        <p:spPr>
          <a:xfrm>
            <a:off x="838080" y="349200"/>
            <a:ext cx="8001000" cy="1251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ontrol of Merchandising Operations</a:t>
            </a:r>
            <a:endParaRPr b="0" lang="en-US" sz="4400" spc="-1" strike="noStrike">
              <a:solidFill>
                <a:srgbClr val="ffffff"/>
              </a:solidFill>
              <a:latin typeface="Arial"/>
            </a:endParaRPr>
          </a:p>
        </p:txBody>
      </p:sp>
      <p:sp>
        <p:nvSpPr>
          <p:cNvPr id="119" name=""/>
          <p:cNvSpPr txBox="1"/>
          <p:nvPr/>
        </p:nvSpPr>
        <p:spPr>
          <a:xfrm>
            <a:off x="762120" y="1676520"/>
            <a:ext cx="8381880" cy="44956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Principal transactions of merchandising businesses are vulnerable to theft and embezzlement.</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3200" spc="-1" strike="noStrike">
                <a:solidFill>
                  <a:srgbClr val="fcffd8"/>
                </a:solidFill>
                <a:latin typeface="Arial"/>
                <a:ea typeface="Arial"/>
              </a:rPr>
              <a:t>Cash and inventory are easy to steal.</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3200" spc="-1" strike="noStrike">
                <a:solidFill>
                  <a:srgbClr val="fcffd8"/>
                </a:solidFill>
                <a:latin typeface="Arial"/>
                <a:ea typeface="Arial"/>
              </a:rPr>
              <a:t>These asset accounts are usually involved in a large number of transac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20" name=""/>
          <p:cNvSpPr txBox="1"/>
          <p:nvPr/>
        </p:nvSpPr>
        <p:spPr>
          <a:xfrm>
            <a:off x="762120" y="380880"/>
            <a:ext cx="8077320" cy="1327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ontrol of Merchandising Operations</a:t>
            </a:r>
            <a:endParaRPr b="0" lang="en-US" sz="4400" spc="-1" strike="noStrike">
              <a:solidFill>
                <a:srgbClr val="ffffff"/>
              </a:solidFill>
              <a:latin typeface="Arial"/>
            </a:endParaRPr>
          </a:p>
        </p:txBody>
      </p:sp>
      <p:sp>
        <p:nvSpPr>
          <p:cNvPr id="121" name=""/>
          <p:cNvSpPr txBox="1"/>
          <p:nvPr/>
        </p:nvSpPr>
        <p:spPr>
          <a:xfrm>
            <a:off x="762120" y="1828800"/>
            <a:ext cx="8077320" cy="40384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Management’s responsibility is to establish an environment, accounting systems, and control procedures that will protect the company’s assets.</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se systems and procedures are called the internal control structu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22" name=""/>
          <p:cNvSpPr txBox="1"/>
          <p:nvPr/>
        </p:nvSpPr>
        <p:spPr>
          <a:xfrm>
            <a:off x="1523880" y="762120"/>
            <a:ext cx="642636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sp>
        <p:nvSpPr>
          <p:cNvPr id="123" name=""/>
          <p:cNvSpPr txBox="1"/>
          <p:nvPr/>
        </p:nvSpPr>
        <p:spPr>
          <a:xfrm>
            <a:off x="609480" y="2057400"/>
            <a:ext cx="8153280" cy="4572000"/>
          </a:xfrm>
          <a:prstGeom prst="rect">
            <a:avLst/>
          </a:prstGeom>
          <a:noFill/>
          <a:ln w="0">
            <a:noFill/>
          </a:ln>
        </p:spPr>
        <p:txBody>
          <a:bodyPr lIns="0" rIns="0" tIns="0" bIns="0" anchor="t">
            <a:noAutofit/>
          </a:bodyPr>
          <a:p>
            <a:pPr marL="343080" indent="-343080">
              <a:lnSpc>
                <a:spcPct val="100000"/>
              </a:lnSpc>
              <a:spcBef>
                <a:spcPts val="479"/>
              </a:spcBef>
            </a:pPr>
            <a:r>
              <a:rPr b="1" lang="en-US" sz="2800" spc="-1" strike="noStrike">
                <a:solidFill>
                  <a:srgbClr val="fc0128"/>
                </a:solidFill>
                <a:latin typeface="Arial"/>
                <a:ea typeface="Arial"/>
              </a:rPr>
              <a:t>Q.</a:t>
            </a:r>
            <a:r>
              <a:rPr b="1" lang="en-US" sz="2800" spc="-1" strike="noStrike">
                <a:solidFill>
                  <a:srgbClr val="fc0128"/>
                </a:solidFill>
                <a:latin typeface="Arial"/>
                <a:ea typeface="Arial"/>
              </a:rPr>
              <a:t>	</a:t>
            </a:r>
            <a:r>
              <a:rPr b="1" lang="en-US" sz="2800" spc="-1" strike="noStrike">
                <a:solidFill>
                  <a:srgbClr val="fcffd8"/>
                </a:solidFill>
                <a:latin typeface="Arial"/>
                <a:ea typeface="Arial"/>
              </a:rPr>
              <a:t>What four issues must be faced by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managers of merchandising businesses?</a:t>
            </a:r>
            <a:endParaRPr b="0" lang="en-US" sz="2800" spc="-1" strike="noStrike">
              <a:solidFill>
                <a:srgbClr val="ffffff"/>
              </a:solidFill>
              <a:latin typeface="Arial"/>
            </a:endParaRPr>
          </a:p>
          <a:p>
            <a:pPr marL="343080" indent="-343080">
              <a:lnSpc>
                <a:spcPct val="100000"/>
              </a:lnSpc>
              <a:spcBef>
                <a:spcPts val="479"/>
              </a:spcBef>
            </a:pPr>
            <a:r>
              <a:rPr b="1" lang="en-US" sz="2800" spc="-1" strike="noStrike">
                <a:solidFill>
                  <a:srgbClr val="fc0128"/>
                </a:solidFill>
                <a:latin typeface="Arial"/>
                <a:ea typeface="Arial"/>
              </a:rPr>
              <a:t>A.</a:t>
            </a:r>
            <a:r>
              <a:rPr b="1" lang="en-US" sz="2800" spc="-1" strike="noStrike">
                <a:solidFill>
                  <a:srgbClr val="fc0128"/>
                </a:solidFill>
                <a:latin typeface="Arial"/>
                <a:ea typeface="Arial"/>
              </a:rPr>
              <a:t>	</a:t>
            </a:r>
            <a:r>
              <a:rPr b="1" lang="en-US" sz="2800" spc="-1" strike="noStrike">
                <a:solidFill>
                  <a:srgbClr val="fcffd8"/>
                </a:solidFill>
                <a:latin typeface="Arial"/>
                <a:ea typeface="Arial"/>
              </a:rPr>
              <a:t>The four issues that must be faced by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managers of merchandising businesses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are (1) cash flow management, (2)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profitability management, (3) choosing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between the periodic and the perpetual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inventory systems, and (4) establishing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an internal control structure that protects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the business’s assets.</a:t>
            </a:r>
            <a:endParaRPr b="0" lang="en-US" sz="2800" spc="-1" strike="noStrike">
              <a:solidFill>
                <a:srgbClr val="ffffff"/>
              </a:solidFill>
              <a:latin typeface="Arial"/>
            </a:endParaRPr>
          </a:p>
        </p:txBody>
      </p:sp>
      <p:grpSp>
        <p:nvGrpSpPr>
          <p:cNvPr id="124" name=""/>
          <p:cNvGrpSpPr/>
          <p:nvPr/>
        </p:nvGrpSpPr>
        <p:grpSpPr>
          <a:xfrm>
            <a:off x="7010280" y="228600"/>
            <a:ext cx="1903680" cy="1903680"/>
            <a:chOff x="7010280" y="228600"/>
            <a:chExt cx="1903680" cy="1903680"/>
          </a:xfrm>
        </p:grpSpPr>
        <p:sp>
          <p:nvSpPr>
            <p:cNvPr id="125" name=""/>
            <p:cNvSpPr/>
            <p:nvPr/>
          </p:nvSpPr>
          <p:spPr>
            <a:xfrm>
              <a:off x="7015320" y="1163520"/>
              <a:ext cx="464040" cy="663840"/>
            </a:xfrm>
            <a:custGeom>
              <a:avLst/>
              <a:gdLst/>
              <a:ahLst/>
              <a:rect l="0" t="0" r="r" b="b"/>
              <a:pathLst>
                <a:path w="1289" h="1844">
                  <a:moveTo>
                    <a:pt x="516" y="0"/>
                  </a:moveTo>
                  <a:lnTo>
                    <a:pt x="446" y="83"/>
                  </a:lnTo>
                  <a:lnTo>
                    <a:pt x="446" y="321"/>
                  </a:lnTo>
                  <a:lnTo>
                    <a:pt x="516" y="493"/>
                  </a:lnTo>
                  <a:lnTo>
                    <a:pt x="591" y="582"/>
                  </a:lnTo>
                  <a:lnTo>
                    <a:pt x="477" y="696"/>
                  </a:lnTo>
                  <a:lnTo>
                    <a:pt x="321" y="971"/>
                  </a:lnTo>
                  <a:lnTo>
                    <a:pt x="22" y="1394"/>
                  </a:lnTo>
                  <a:lnTo>
                    <a:pt x="0" y="1491"/>
                  </a:lnTo>
                  <a:lnTo>
                    <a:pt x="22" y="1579"/>
                  </a:lnTo>
                  <a:lnTo>
                    <a:pt x="119" y="1579"/>
                  </a:lnTo>
                  <a:lnTo>
                    <a:pt x="198" y="1482"/>
                  </a:lnTo>
                  <a:lnTo>
                    <a:pt x="321" y="1240"/>
                  </a:lnTo>
                  <a:lnTo>
                    <a:pt x="397" y="1143"/>
                  </a:lnTo>
                  <a:lnTo>
                    <a:pt x="446" y="1297"/>
                  </a:lnTo>
                  <a:lnTo>
                    <a:pt x="415" y="1465"/>
                  </a:lnTo>
                  <a:lnTo>
                    <a:pt x="286" y="1707"/>
                  </a:lnTo>
                  <a:lnTo>
                    <a:pt x="321" y="1764"/>
                  </a:lnTo>
                  <a:lnTo>
                    <a:pt x="397" y="1747"/>
                  </a:lnTo>
                  <a:lnTo>
                    <a:pt x="556" y="1623"/>
                  </a:lnTo>
                  <a:lnTo>
                    <a:pt x="688" y="1412"/>
                  </a:lnTo>
                  <a:lnTo>
                    <a:pt x="688" y="1782"/>
                  </a:lnTo>
                  <a:lnTo>
                    <a:pt x="843" y="1844"/>
                  </a:lnTo>
                  <a:lnTo>
                    <a:pt x="927" y="1614"/>
                  </a:lnTo>
                  <a:lnTo>
                    <a:pt x="1011" y="1826"/>
                  </a:lnTo>
                  <a:lnTo>
                    <a:pt x="1073" y="1764"/>
                  </a:lnTo>
                  <a:lnTo>
                    <a:pt x="1100" y="1341"/>
                  </a:lnTo>
                  <a:lnTo>
                    <a:pt x="1289" y="935"/>
                  </a:lnTo>
                  <a:lnTo>
                    <a:pt x="1245" y="696"/>
                  </a:lnTo>
                  <a:lnTo>
                    <a:pt x="1117" y="612"/>
                  </a:lnTo>
                  <a:lnTo>
                    <a:pt x="976" y="630"/>
                  </a:lnTo>
                  <a:lnTo>
                    <a:pt x="927" y="432"/>
                  </a:lnTo>
                  <a:lnTo>
                    <a:pt x="790" y="392"/>
                  </a:lnTo>
                  <a:lnTo>
                    <a:pt x="662" y="335"/>
                  </a:lnTo>
                  <a:lnTo>
                    <a:pt x="591" y="39"/>
                  </a:lnTo>
                  <a:lnTo>
                    <a:pt x="516"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7404120" y="1433520"/>
              <a:ext cx="136800" cy="321120"/>
            </a:xfrm>
            <a:custGeom>
              <a:avLst/>
              <a:gdLst/>
              <a:ahLst/>
              <a:rect l="0" t="0" r="r" b="b"/>
              <a:pathLst>
                <a:path w="380" h="892">
                  <a:moveTo>
                    <a:pt x="189" y="0"/>
                  </a:moveTo>
                  <a:lnTo>
                    <a:pt x="380" y="230"/>
                  </a:lnTo>
                  <a:lnTo>
                    <a:pt x="287" y="734"/>
                  </a:lnTo>
                  <a:lnTo>
                    <a:pt x="0" y="892"/>
                  </a:lnTo>
                  <a:lnTo>
                    <a:pt x="0" y="636"/>
                  </a:lnTo>
                  <a:lnTo>
                    <a:pt x="114" y="380"/>
                  </a:lnTo>
                  <a:lnTo>
                    <a:pt x="189" y="185"/>
                  </a:lnTo>
                  <a:lnTo>
                    <a:pt x="189"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8288280" y="1246320"/>
              <a:ext cx="341640" cy="292320"/>
            </a:xfrm>
            <a:custGeom>
              <a:avLst/>
              <a:gdLst/>
              <a:ahLst/>
              <a:rect l="0" t="0" r="r" b="b"/>
              <a:pathLst>
                <a:path w="949" h="812">
                  <a:moveTo>
                    <a:pt x="388" y="0"/>
                  </a:moveTo>
                  <a:lnTo>
                    <a:pt x="388" y="127"/>
                  </a:lnTo>
                  <a:lnTo>
                    <a:pt x="423" y="242"/>
                  </a:lnTo>
                  <a:lnTo>
                    <a:pt x="605" y="441"/>
                  </a:lnTo>
                  <a:lnTo>
                    <a:pt x="949" y="552"/>
                  </a:lnTo>
                  <a:lnTo>
                    <a:pt x="900" y="794"/>
                  </a:lnTo>
                  <a:lnTo>
                    <a:pt x="605" y="812"/>
                  </a:lnTo>
                  <a:lnTo>
                    <a:pt x="180" y="640"/>
                  </a:lnTo>
                  <a:lnTo>
                    <a:pt x="0" y="321"/>
                  </a:lnTo>
                  <a:lnTo>
                    <a:pt x="211" y="17"/>
                  </a:lnTo>
                  <a:lnTo>
                    <a:pt x="388"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8424720" y="919080"/>
              <a:ext cx="476640" cy="640080"/>
            </a:xfrm>
            <a:custGeom>
              <a:avLst/>
              <a:gdLst/>
              <a:ahLst/>
              <a:rect l="0" t="0" r="r" b="b"/>
              <a:pathLst>
                <a:path w="1324" h="1778">
                  <a:moveTo>
                    <a:pt x="119" y="758"/>
                  </a:moveTo>
                  <a:lnTo>
                    <a:pt x="0" y="881"/>
                  </a:lnTo>
                  <a:lnTo>
                    <a:pt x="22" y="1169"/>
                  </a:lnTo>
                  <a:lnTo>
                    <a:pt x="211" y="1301"/>
                  </a:lnTo>
                  <a:lnTo>
                    <a:pt x="224" y="1747"/>
                  </a:lnTo>
                  <a:lnTo>
                    <a:pt x="411" y="1747"/>
                  </a:lnTo>
                  <a:lnTo>
                    <a:pt x="397" y="1376"/>
                  </a:lnTo>
                  <a:lnTo>
                    <a:pt x="538" y="1760"/>
                  </a:lnTo>
                  <a:lnTo>
                    <a:pt x="627" y="1778"/>
                  </a:lnTo>
                  <a:lnTo>
                    <a:pt x="697" y="1650"/>
                  </a:lnTo>
                  <a:lnTo>
                    <a:pt x="710" y="1403"/>
                  </a:lnTo>
                  <a:lnTo>
                    <a:pt x="909" y="1628"/>
                  </a:lnTo>
                  <a:lnTo>
                    <a:pt x="994" y="1619"/>
                  </a:lnTo>
                  <a:lnTo>
                    <a:pt x="975" y="1456"/>
                  </a:lnTo>
                  <a:lnTo>
                    <a:pt x="896" y="1231"/>
                  </a:lnTo>
                  <a:lnTo>
                    <a:pt x="821" y="1090"/>
                  </a:lnTo>
                  <a:lnTo>
                    <a:pt x="847" y="984"/>
                  </a:lnTo>
                  <a:lnTo>
                    <a:pt x="896" y="1002"/>
                  </a:lnTo>
                  <a:lnTo>
                    <a:pt x="1086" y="1231"/>
                  </a:lnTo>
                  <a:lnTo>
                    <a:pt x="1280" y="1288"/>
                  </a:lnTo>
                  <a:lnTo>
                    <a:pt x="1324" y="1218"/>
                  </a:lnTo>
                  <a:lnTo>
                    <a:pt x="1294" y="1099"/>
                  </a:lnTo>
                  <a:lnTo>
                    <a:pt x="927" y="736"/>
                  </a:lnTo>
                  <a:lnTo>
                    <a:pt x="627" y="626"/>
                  </a:lnTo>
                  <a:lnTo>
                    <a:pt x="596" y="432"/>
                  </a:lnTo>
                  <a:lnTo>
                    <a:pt x="697" y="246"/>
                  </a:lnTo>
                  <a:lnTo>
                    <a:pt x="697" y="57"/>
                  </a:lnTo>
                  <a:lnTo>
                    <a:pt x="613" y="0"/>
                  </a:lnTo>
                  <a:lnTo>
                    <a:pt x="397" y="485"/>
                  </a:lnTo>
                  <a:lnTo>
                    <a:pt x="211" y="555"/>
                  </a:lnTo>
                  <a:lnTo>
                    <a:pt x="163" y="683"/>
                  </a:lnTo>
                  <a:lnTo>
                    <a:pt x="119" y="758"/>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7643880" y="363600"/>
              <a:ext cx="519480" cy="817920"/>
            </a:xfrm>
            <a:custGeom>
              <a:avLst/>
              <a:gdLst/>
              <a:ahLst/>
              <a:rect l="0" t="0" r="r" b="b"/>
              <a:pathLst>
                <a:path w="1443" h="2272">
                  <a:moveTo>
                    <a:pt x="357" y="313"/>
                  </a:moveTo>
                  <a:lnTo>
                    <a:pt x="255" y="754"/>
                  </a:lnTo>
                  <a:lnTo>
                    <a:pt x="13" y="837"/>
                  </a:lnTo>
                  <a:lnTo>
                    <a:pt x="79" y="978"/>
                  </a:lnTo>
                  <a:lnTo>
                    <a:pt x="0" y="1062"/>
                  </a:lnTo>
                  <a:lnTo>
                    <a:pt x="0" y="1218"/>
                  </a:lnTo>
                  <a:lnTo>
                    <a:pt x="114" y="1363"/>
                  </a:lnTo>
                  <a:lnTo>
                    <a:pt x="224" y="1363"/>
                  </a:lnTo>
                  <a:lnTo>
                    <a:pt x="299" y="1870"/>
                  </a:lnTo>
                  <a:lnTo>
                    <a:pt x="393" y="2086"/>
                  </a:lnTo>
                  <a:lnTo>
                    <a:pt x="684" y="2272"/>
                  </a:lnTo>
                  <a:lnTo>
                    <a:pt x="984" y="2241"/>
                  </a:lnTo>
                  <a:lnTo>
                    <a:pt x="1122" y="1870"/>
                  </a:lnTo>
                  <a:lnTo>
                    <a:pt x="1157" y="1293"/>
                  </a:lnTo>
                  <a:lnTo>
                    <a:pt x="1443" y="1005"/>
                  </a:lnTo>
                  <a:lnTo>
                    <a:pt x="1430" y="890"/>
                  </a:lnTo>
                  <a:lnTo>
                    <a:pt x="1395" y="837"/>
                  </a:lnTo>
                  <a:lnTo>
                    <a:pt x="1245" y="824"/>
                  </a:lnTo>
                  <a:lnTo>
                    <a:pt x="1294" y="674"/>
                  </a:lnTo>
                  <a:lnTo>
                    <a:pt x="1139" y="573"/>
                  </a:lnTo>
                  <a:lnTo>
                    <a:pt x="1072" y="246"/>
                  </a:lnTo>
                  <a:lnTo>
                    <a:pt x="627" y="0"/>
                  </a:lnTo>
                  <a:lnTo>
                    <a:pt x="393" y="233"/>
                  </a:lnTo>
                  <a:lnTo>
                    <a:pt x="357" y="313"/>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7682040" y="1046160"/>
              <a:ext cx="476640" cy="978120"/>
            </a:xfrm>
            <a:custGeom>
              <a:avLst/>
              <a:gdLst/>
              <a:ahLst/>
              <a:rect l="0" t="0" r="r" b="b"/>
              <a:pathLst>
                <a:path w="1324" h="2717">
                  <a:moveTo>
                    <a:pt x="273" y="145"/>
                  </a:moveTo>
                  <a:lnTo>
                    <a:pt x="459" y="273"/>
                  </a:lnTo>
                  <a:lnTo>
                    <a:pt x="552" y="418"/>
                  </a:lnTo>
                  <a:lnTo>
                    <a:pt x="1086" y="0"/>
                  </a:lnTo>
                  <a:lnTo>
                    <a:pt x="1249" y="88"/>
                  </a:lnTo>
                  <a:lnTo>
                    <a:pt x="1324" y="511"/>
                  </a:lnTo>
                  <a:lnTo>
                    <a:pt x="940" y="1764"/>
                  </a:lnTo>
                  <a:lnTo>
                    <a:pt x="1064" y="2457"/>
                  </a:lnTo>
                  <a:lnTo>
                    <a:pt x="565" y="2717"/>
                  </a:lnTo>
                  <a:lnTo>
                    <a:pt x="176" y="2567"/>
                  </a:lnTo>
                  <a:lnTo>
                    <a:pt x="176" y="1839"/>
                  </a:lnTo>
                  <a:lnTo>
                    <a:pt x="0" y="1128"/>
                  </a:lnTo>
                  <a:lnTo>
                    <a:pt x="176" y="273"/>
                  </a:lnTo>
                  <a:lnTo>
                    <a:pt x="273" y="145"/>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7702560" y="254160"/>
              <a:ext cx="444960" cy="259200"/>
            </a:xfrm>
            <a:custGeom>
              <a:avLst/>
              <a:gdLst/>
              <a:ahLst/>
              <a:rect l="0" t="0" r="r" b="b"/>
              <a:pathLst>
                <a:path w="1236" h="720">
                  <a:moveTo>
                    <a:pt x="154" y="689"/>
                  </a:moveTo>
                  <a:lnTo>
                    <a:pt x="336" y="494"/>
                  </a:lnTo>
                  <a:lnTo>
                    <a:pt x="450" y="464"/>
                  </a:lnTo>
                  <a:lnTo>
                    <a:pt x="450" y="486"/>
                  </a:lnTo>
                  <a:lnTo>
                    <a:pt x="508" y="464"/>
                  </a:lnTo>
                  <a:lnTo>
                    <a:pt x="583" y="521"/>
                  </a:lnTo>
                  <a:lnTo>
                    <a:pt x="728" y="557"/>
                  </a:lnTo>
                  <a:lnTo>
                    <a:pt x="847" y="720"/>
                  </a:lnTo>
                  <a:lnTo>
                    <a:pt x="1038" y="650"/>
                  </a:lnTo>
                  <a:lnTo>
                    <a:pt x="1038" y="566"/>
                  </a:lnTo>
                  <a:lnTo>
                    <a:pt x="1236" y="486"/>
                  </a:lnTo>
                  <a:lnTo>
                    <a:pt x="1179" y="349"/>
                  </a:lnTo>
                  <a:lnTo>
                    <a:pt x="998" y="336"/>
                  </a:lnTo>
                  <a:lnTo>
                    <a:pt x="1025" y="186"/>
                  </a:lnTo>
                  <a:lnTo>
                    <a:pt x="865" y="208"/>
                  </a:lnTo>
                  <a:lnTo>
                    <a:pt x="838" y="101"/>
                  </a:lnTo>
                  <a:lnTo>
                    <a:pt x="728" y="101"/>
                  </a:lnTo>
                  <a:lnTo>
                    <a:pt x="653" y="163"/>
                  </a:lnTo>
                  <a:lnTo>
                    <a:pt x="583" y="163"/>
                  </a:lnTo>
                  <a:lnTo>
                    <a:pt x="600" y="0"/>
                  </a:lnTo>
                  <a:lnTo>
                    <a:pt x="450" y="70"/>
                  </a:lnTo>
                  <a:lnTo>
                    <a:pt x="242" y="336"/>
                  </a:lnTo>
                  <a:lnTo>
                    <a:pt x="229" y="163"/>
                  </a:lnTo>
                  <a:lnTo>
                    <a:pt x="123" y="243"/>
                  </a:lnTo>
                  <a:lnTo>
                    <a:pt x="97" y="464"/>
                  </a:lnTo>
                  <a:lnTo>
                    <a:pt x="0" y="428"/>
                  </a:lnTo>
                  <a:lnTo>
                    <a:pt x="13" y="566"/>
                  </a:lnTo>
                  <a:lnTo>
                    <a:pt x="154" y="689"/>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7823160" y="1227240"/>
              <a:ext cx="141480" cy="740160"/>
            </a:xfrm>
            <a:custGeom>
              <a:avLst/>
              <a:gdLst/>
              <a:ahLst/>
              <a:rect l="0" t="0" r="r" b="b"/>
              <a:pathLst>
                <a:path w="393" h="2056">
                  <a:moveTo>
                    <a:pt x="203" y="13"/>
                  </a:moveTo>
                  <a:lnTo>
                    <a:pt x="66" y="101"/>
                  </a:lnTo>
                  <a:lnTo>
                    <a:pt x="66" y="273"/>
                  </a:lnTo>
                  <a:lnTo>
                    <a:pt x="163" y="330"/>
                  </a:lnTo>
                  <a:lnTo>
                    <a:pt x="39" y="605"/>
                  </a:lnTo>
                  <a:lnTo>
                    <a:pt x="0" y="966"/>
                  </a:lnTo>
                  <a:lnTo>
                    <a:pt x="97" y="1442"/>
                  </a:lnTo>
                  <a:lnTo>
                    <a:pt x="97" y="1638"/>
                  </a:lnTo>
                  <a:lnTo>
                    <a:pt x="48" y="1792"/>
                  </a:lnTo>
                  <a:lnTo>
                    <a:pt x="247" y="2056"/>
                  </a:lnTo>
                  <a:lnTo>
                    <a:pt x="380" y="1660"/>
                  </a:lnTo>
                  <a:lnTo>
                    <a:pt x="380" y="1385"/>
                  </a:lnTo>
                  <a:lnTo>
                    <a:pt x="283" y="1125"/>
                  </a:lnTo>
                  <a:lnTo>
                    <a:pt x="234" y="777"/>
                  </a:lnTo>
                  <a:lnTo>
                    <a:pt x="331" y="436"/>
                  </a:lnTo>
                  <a:lnTo>
                    <a:pt x="300" y="304"/>
                  </a:lnTo>
                  <a:lnTo>
                    <a:pt x="393" y="233"/>
                  </a:lnTo>
                  <a:lnTo>
                    <a:pt x="380" y="145"/>
                  </a:lnTo>
                  <a:lnTo>
                    <a:pt x="265" y="0"/>
                  </a:lnTo>
                  <a:lnTo>
                    <a:pt x="203"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7818480" y="979560"/>
              <a:ext cx="114840" cy="66960"/>
            </a:xfrm>
            <a:custGeom>
              <a:avLst/>
              <a:gdLst/>
              <a:ahLst/>
              <a:rect l="0" t="0" r="r" b="b"/>
              <a:pathLst>
                <a:path w="319" h="186">
                  <a:moveTo>
                    <a:pt x="0" y="57"/>
                  </a:moveTo>
                  <a:lnTo>
                    <a:pt x="124" y="186"/>
                  </a:lnTo>
                  <a:lnTo>
                    <a:pt x="257" y="168"/>
                  </a:lnTo>
                  <a:lnTo>
                    <a:pt x="319" y="17"/>
                  </a:lnTo>
                  <a:lnTo>
                    <a:pt x="177" y="0"/>
                  </a:lnTo>
                  <a:lnTo>
                    <a:pt x="35" y="17"/>
                  </a:lnTo>
                  <a:lnTo>
                    <a:pt x="0" y="57"/>
                  </a:lnTo>
                  <a:close/>
                </a:path>
              </a:pathLst>
            </a:custGeom>
            <a:solidFill>
              <a:srgbClr val="ffffff"/>
            </a:solidFill>
            <a:ln w="12600">
              <a:solidFill>
                <a:srgbClr val="ffffff"/>
              </a:solidFill>
              <a:round/>
            </a:ln>
          </p:spPr>
          <p:txBody>
            <a:bodyPr lIns="96120" rIns="96120" tIns="15840" bIns="15840" anchor="t">
              <a:noAutofit/>
            </a:bodyPr>
            <a:p>
              <a:endParaRPr b="0" lang="en-US" sz="1800" spc="-1" strike="noStrike">
                <a:solidFill>
                  <a:srgbClr val="000000"/>
                </a:solidFill>
                <a:latin typeface="Arial"/>
              </a:endParaRPr>
            </a:p>
          </p:txBody>
        </p:sp>
        <p:sp>
          <p:nvSpPr>
            <p:cNvPr id="134" name=""/>
            <p:cNvSpPr/>
            <p:nvPr/>
          </p:nvSpPr>
          <p:spPr>
            <a:xfrm>
              <a:off x="7691400" y="638280"/>
              <a:ext cx="143280" cy="143280"/>
            </a:xfrm>
            <a:custGeom>
              <a:avLst/>
              <a:gdLst/>
              <a:ahLst/>
              <a:rect l="0" t="0" r="r" b="b"/>
              <a:pathLst>
                <a:path w="398" h="398">
                  <a:moveTo>
                    <a:pt x="0" y="44"/>
                  </a:moveTo>
                  <a:lnTo>
                    <a:pt x="274" y="398"/>
                  </a:lnTo>
                  <a:lnTo>
                    <a:pt x="398" y="368"/>
                  </a:lnTo>
                  <a:lnTo>
                    <a:pt x="111" y="0"/>
                  </a:lnTo>
                  <a:lnTo>
                    <a:pt x="0" y="4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7942320" y="606600"/>
              <a:ext cx="122760" cy="144720"/>
            </a:xfrm>
            <a:custGeom>
              <a:avLst/>
              <a:gdLst/>
              <a:ahLst/>
              <a:rect l="0" t="0" r="r" b="b"/>
              <a:pathLst>
                <a:path w="341" h="402">
                  <a:moveTo>
                    <a:pt x="0" y="57"/>
                  </a:moveTo>
                  <a:lnTo>
                    <a:pt x="234" y="402"/>
                  </a:lnTo>
                  <a:lnTo>
                    <a:pt x="341" y="309"/>
                  </a:lnTo>
                  <a:lnTo>
                    <a:pt x="98" y="0"/>
                  </a:lnTo>
                  <a:lnTo>
                    <a:pt x="0" y="5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7640640" y="420840"/>
              <a:ext cx="495720" cy="360720"/>
            </a:xfrm>
            <a:custGeom>
              <a:avLst/>
              <a:gdLst/>
              <a:ahLst/>
              <a:rect l="0" t="0" r="r" b="b"/>
              <a:pathLst>
                <a:path w="1377" h="1002">
                  <a:moveTo>
                    <a:pt x="631" y="596"/>
                  </a:moveTo>
                  <a:lnTo>
                    <a:pt x="508" y="561"/>
                  </a:lnTo>
                  <a:lnTo>
                    <a:pt x="613" y="467"/>
                  </a:lnTo>
                  <a:lnTo>
                    <a:pt x="574" y="423"/>
                  </a:lnTo>
                  <a:lnTo>
                    <a:pt x="433" y="538"/>
                  </a:lnTo>
                  <a:lnTo>
                    <a:pt x="171" y="569"/>
                  </a:lnTo>
                  <a:lnTo>
                    <a:pt x="0" y="569"/>
                  </a:lnTo>
                  <a:lnTo>
                    <a:pt x="0" y="710"/>
                  </a:lnTo>
                  <a:lnTo>
                    <a:pt x="167" y="993"/>
                  </a:lnTo>
                  <a:lnTo>
                    <a:pt x="207" y="1002"/>
                  </a:lnTo>
                  <a:lnTo>
                    <a:pt x="57" y="693"/>
                  </a:lnTo>
                  <a:lnTo>
                    <a:pt x="286" y="596"/>
                  </a:lnTo>
                  <a:lnTo>
                    <a:pt x="433" y="596"/>
                  </a:lnTo>
                  <a:lnTo>
                    <a:pt x="547" y="658"/>
                  </a:lnTo>
                  <a:lnTo>
                    <a:pt x="574" y="741"/>
                  </a:lnTo>
                  <a:lnTo>
                    <a:pt x="574" y="935"/>
                  </a:lnTo>
                  <a:lnTo>
                    <a:pt x="574" y="993"/>
                  </a:lnTo>
                  <a:lnTo>
                    <a:pt x="640" y="904"/>
                  </a:lnTo>
                  <a:lnTo>
                    <a:pt x="640" y="706"/>
                  </a:lnTo>
                  <a:lnTo>
                    <a:pt x="737" y="706"/>
                  </a:lnTo>
                  <a:lnTo>
                    <a:pt x="785" y="935"/>
                  </a:lnTo>
                  <a:lnTo>
                    <a:pt x="838" y="953"/>
                  </a:lnTo>
                  <a:lnTo>
                    <a:pt x="1006" y="953"/>
                  </a:lnTo>
                  <a:lnTo>
                    <a:pt x="1174" y="909"/>
                  </a:lnTo>
                  <a:lnTo>
                    <a:pt x="1294" y="830"/>
                  </a:lnTo>
                  <a:lnTo>
                    <a:pt x="1316" y="622"/>
                  </a:lnTo>
                  <a:lnTo>
                    <a:pt x="1377" y="538"/>
                  </a:lnTo>
                  <a:lnTo>
                    <a:pt x="1338" y="485"/>
                  </a:lnTo>
                  <a:lnTo>
                    <a:pt x="1183" y="432"/>
                  </a:lnTo>
                  <a:lnTo>
                    <a:pt x="1161" y="224"/>
                  </a:lnTo>
                  <a:lnTo>
                    <a:pt x="1015" y="224"/>
                  </a:lnTo>
                  <a:lnTo>
                    <a:pt x="843" y="0"/>
                  </a:lnTo>
                  <a:lnTo>
                    <a:pt x="1002" y="246"/>
                  </a:lnTo>
                  <a:lnTo>
                    <a:pt x="1051" y="246"/>
                  </a:lnTo>
                  <a:lnTo>
                    <a:pt x="1086" y="423"/>
                  </a:lnTo>
                  <a:lnTo>
                    <a:pt x="887" y="485"/>
                  </a:lnTo>
                  <a:lnTo>
                    <a:pt x="750" y="436"/>
                  </a:lnTo>
                  <a:lnTo>
                    <a:pt x="728" y="485"/>
                  </a:lnTo>
                  <a:lnTo>
                    <a:pt x="799" y="538"/>
                  </a:lnTo>
                  <a:lnTo>
                    <a:pt x="799" y="583"/>
                  </a:lnTo>
                  <a:lnTo>
                    <a:pt x="971" y="508"/>
                  </a:lnTo>
                  <a:lnTo>
                    <a:pt x="1108" y="498"/>
                  </a:lnTo>
                  <a:lnTo>
                    <a:pt x="1263" y="516"/>
                  </a:lnTo>
                  <a:lnTo>
                    <a:pt x="1263" y="547"/>
                  </a:lnTo>
                  <a:lnTo>
                    <a:pt x="1192" y="618"/>
                  </a:lnTo>
                  <a:lnTo>
                    <a:pt x="1161" y="706"/>
                  </a:lnTo>
                  <a:lnTo>
                    <a:pt x="1157" y="830"/>
                  </a:lnTo>
                  <a:lnTo>
                    <a:pt x="1064" y="878"/>
                  </a:lnTo>
                  <a:lnTo>
                    <a:pt x="931" y="891"/>
                  </a:lnTo>
                  <a:lnTo>
                    <a:pt x="838" y="891"/>
                  </a:lnTo>
                  <a:lnTo>
                    <a:pt x="807" y="852"/>
                  </a:lnTo>
                  <a:lnTo>
                    <a:pt x="785" y="622"/>
                  </a:lnTo>
                  <a:lnTo>
                    <a:pt x="640" y="622"/>
                  </a:lnTo>
                  <a:lnTo>
                    <a:pt x="631" y="59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37" name=""/>
            <p:cNvSpPr/>
            <p:nvPr/>
          </p:nvSpPr>
          <p:spPr>
            <a:xfrm>
              <a:off x="7810560" y="838080"/>
              <a:ext cx="162360" cy="74880"/>
            </a:xfrm>
            <a:custGeom>
              <a:avLst/>
              <a:gdLst/>
              <a:ahLst/>
              <a:rect l="0" t="0" r="r" b="b"/>
              <a:pathLst>
                <a:path w="451" h="208">
                  <a:moveTo>
                    <a:pt x="0" y="0"/>
                  </a:moveTo>
                  <a:lnTo>
                    <a:pt x="70" y="97"/>
                  </a:lnTo>
                  <a:lnTo>
                    <a:pt x="265" y="97"/>
                  </a:lnTo>
                  <a:lnTo>
                    <a:pt x="350" y="30"/>
                  </a:lnTo>
                  <a:lnTo>
                    <a:pt x="451" y="30"/>
                  </a:lnTo>
                  <a:lnTo>
                    <a:pt x="434" y="61"/>
                  </a:lnTo>
                  <a:lnTo>
                    <a:pt x="434" y="97"/>
                  </a:lnTo>
                  <a:lnTo>
                    <a:pt x="252" y="208"/>
                  </a:lnTo>
                  <a:lnTo>
                    <a:pt x="150" y="208"/>
                  </a:lnTo>
                  <a:lnTo>
                    <a:pt x="97" y="168"/>
                  </a:lnTo>
                  <a:lnTo>
                    <a:pt x="39" y="168"/>
                  </a:lnTo>
                  <a:lnTo>
                    <a:pt x="0" y="0"/>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138" name=""/>
            <p:cNvSpPr/>
            <p:nvPr/>
          </p:nvSpPr>
          <p:spPr>
            <a:xfrm>
              <a:off x="7632720" y="719280"/>
              <a:ext cx="243360" cy="389160"/>
            </a:xfrm>
            <a:custGeom>
              <a:avLst/>
              <a:gdLst/>
              <a:ahLst/>
              <a:rect l="0" t="0" r="r" b="b"/>
              <a:pathLst>
                <a:path w="676" h="1081">
                  <a:moveTo>
                    <a:pt x="676" y="74"/>
                  </a:moveTo>
                  <a:lnTo>
                    <a:pt x="676" y="97"/>
                  </a:lnTo>
                  <a:lnTo>
                    <a:pt x="557" y="207"/>
                  </a:lnTo>
                  <a:lnTo>
                    <a:pt x="459" y="224"/>
                  </a:lnTo>
                  <a:lnTo>
                    <a:pt x="269" y="194"/>
                  </a:lnTo>
                  <a:lnTo>
                    <a:pt x="305" y="583"/>
                  </a:lnTo>
                  <a:lnTo>
                    <a:pt x="349" y="909"/>
                  </a:lnTo>
                  <a:lnTo>
                    <a:pt x="428" y="1081"/>
                  </a:lnTo>
                  <a:lnTo>
                    <a:pt x="349" y="957"/>
                  </a:lnTo>
                  <a:lnTo>
                    <a:pt x="318" y="821"/>
                  </a:lnTo>
                  <a:lnTo>
                    <a:pt x="261" y="454"/>
                  </a:lnTo>
                  <a:lnTo>
                    <a:pt x="208" y="476"/>
                  </a:lnTo>
                  <a:lnTo>
                    <a:pt x="141" y="440"/>
                  </a:lnTo>
                  <a:lnTo>
                    <a:pt x="13" y="242"/>
                  </a:lnTo>
                  <a:lnTo>
                    <a:pt x="0" y="136"/>
                  </a:lnTo>
                  <a:lnTo>
                    <a:pt x="0" y="66"/>
                  </a:lnTo>
                  <a:lnTo>
                    <a:pt x="30" y="22"/>
                  </a:lnTo>
                  <a:lnTo>
                    <a:pt x="105" y="0"/>
                  </a:lnTo>
                  <a:lnTo>
                    <a:pt x="114" y="30"/>
                  </a:lnTo>
                  <a:lnTo>
                    <a:pt x="52" y="48"/>
                  </a:lnTo>
                  <a:lnTo>
                    <a:pt x="39" y="127"/>
                  </a:lnTo>
                  <a:lnTo>
                    <a:pt x="48" y="233"/>
                  </a:lnTo>
                  <a:lnTo>
                    <a:pt x="136" y="321"/>
                  </a:lnTo>
                  <a:lnTo>
                    <a:pt x="172" y="304"/>
                  </a:lnTo>
                  <a:lnTo>
                    <a:pt x="172" y="105"/>
                  </a:lnTo>
                  <a:lnTo>
                    <a:pt x="256" y="149"/>
                  </a:lnTo>
                  <a:lnTo>
                    <a:pt x="375" y="171"/>
                  </a:lnTo>
                  <a:lnTo>
                    <a:pt x="490" y="167"/>
                  </a:lnTo>
                  <a:lnTo>
                    <a:pt x="597" y="105"/>
                  </a:lnTo>
                  <a:lnTo>
                    <a:pt x="676" y="7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39" name=""/>
            <p:cNvSpPr/>
            <p:nvPr/>
          </p:nvSpPr>
          <p:spPr>
            <a:xfrm>
              <a:off x="7697880" y="411120"/>
              <a:ext cx="71640" cy="206640"/>
            </a:xfrm>
            <a:custGeom>
              <a:avLst/>
              <a:gdLst/>
              <a:ahLst/>
              <a:rect l="0" t="0" r="r" b="b"/>
              <a:pathLst>
                <a:path w="199" h="574">
                  <a:moveTo>
                    <a:pt x="106" y="574"/>
                  </a:moveTo>
                  <a:lnTo>
                    <a:pt x="199" y="233"/>
                  </a:lnTo>
                  <a:lnTo>
                    <a:pt x="22" y="110"/>
                  </a:lnTo>
                  <a:lnTo>
                    <a:pt x="0" y="0"/>
                  </a:lnTo>
                  <a:lnTo>
                    <a:pt x="13" y="141"/>
                  </a:lnTo>
                  <a:lnTo>
                    <a:pt x="70" y="198"/>
                  </a:lnTo>
                  <a:lnTo>
                    <a:pt x="79" y="367"/>
                  </a:lnTo>
                  <a:lnTo>
                    <a:pt x="124" y="433"/>
                  </a:lnTo>
                  <a:lnTo>
                    <a:pt x="106" y="57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0" name=""/>
            <p:cNvSpPr/>
            <p:nvPr/>
          </p:nvSpPr>
          <p:spPr>
            <a:xfrm>
              <a:off x="7696080" y="228600"/>
              <a:ext cx="543240" cy="273240"/>
            </a:xfrm>
            <a:custGeom>
              <a:avLst/>
              <a:gdLst/>
              <a:ahLst/>
              <a:rect l="0" t="0" r="r" b="b"/>
              <a:pathLst>
                <a:path w="1509" h="759">
                  <a:moveTo>
                    <a:pt x="13" y="521"/>
                  </a:moveTo>
                  <a:lnTo>
                    <a:pt x="145" y="591"/>
                  </a:lnTo>
                  <a:lnTo>
                    <a:pt x="127" y="494"/>
                  </a:lnTo>
                  <a:lnTo>
                    <a:pt x="154" y="321"/>
                  </a:lnTo>
                  <a:lnTo>
                    <a:pt x="242" y="286"/>
                  </a:lnTo>
                  <a:lnTo>
                    <a:pt x="255" y="472"/>
                  </a:lnTo>
                  <a:lnTo>
                    <a:pt x="507" y="149"/>
                  </a:lnTo>
                  <a:lnTo>
                    <a:pt x="564" y="123"/>
                  </a:lnTo>
                  <a:lnTo>
                    <a:pt x="520" y="251"/>
                  </a:lnTo>
                  <a:lnTo>
                    <a:pt x="679" y="313"/>
                  </a:lnTo>
                  <a:lnTo>
                    <a:pt x="794" y="185"/>
                  </a:lnTo>
                  <a:lnTo>
                    <a:pt x="856" y="224"/>
                  </a:lnTo>
                  <a:lnTo>
                    <a:pt x="799" y="335"/>
                  </a:lnTo>
                  <a:lnTo>
                    <a:pt x="878" y="273"/>
                  </a:lnTo>
                  <a:lnTo>
                    <a:pt x="993" y="321"/>
                  </a:lnTo>
                  <a:lnTo>
                    <a:pt x="900" y="415"/>
                  </a:lnTo>
                  <a:lnTo>
                    <a:pt x="1213" y="472"/>
                  </a:lnTo>
                  <a:lnTo>
                    <a:pt x="1002" y="534"/>
                  </a:lnTo>
                  <a:lnTo>
                    <a:pt x="1257" y="569"/>
                  </a:lnTo>
                  <a:lnTo>
                    <a:pt x="953" y="649"/>
                  </a:lnTo>
                  <a:lnTo>
                    <a:pt x="1019" y="702"/>
                  </a:lnTo>
                  <a:lnTo>
                    <a:pt x="931" y="759"/>
                  </a:lnTo>
                  <a:lnTo>
                    <a:pt x="1085" y="759"/>
                  </a:lnTo>
                  <a:lnTo>
                    <a:pt x="1072" y="715"/>
                  </a:lnTo>
                  <a:lnTo>
                    <a:pt x="1235" y="755"/>
                  </a:lnTo>
                  <a:lnTo>
                    <a:pt x="1213" y="636"/>
                  </a:lnTo>
                  <a:lnTo>
                    <a:pt x="1359" y="583"/>
                  </a:lnTo>
                  <a:lnTo>
                    <a:pt x="1253" y="521"/>
                  </a:lnTo>
                  <a:lnTo>
                    <a:pt x="1509" y="508"/>
                  </a:lnTo>
                  <a:lnTo>
                    <a:pt x="1288" y="380"/>
                  </a:lnTo>
                  <a:lnTo>
                    <a:pt x="1032" y="357"/>
                  </a:lnTo>
                  <a:lnTo>
                    <a:pt x="1235" y="233"/>
                  </a:lnTo>
                  <a:lnTo>
                    <a:pt x="878" y="233"/>
                  </a:lnTo>
                  <a:lnTo>
                    <a:pt x="1050" y="110"/>
                  </a:lnTo>
                  <a:lnTo>
                    <a:pt x="785" y="149"/>
                  </a:lnTo>
                  <a:lnTo>
                    <a:pt x="665" y="202"/>
                  </a:lnTo>
                  <a:lnTo>
                    <a:pt x="772" y="0"/>
                  </a:lnTo>
                  <a:lnTo>
                    <a:pt x="454" y="110"/>
                  </a:lnTo>
                  <a:lnTo>
                    <a:pt x="282" y="366"/>
                  </a:lnTo>
                  <a:lnTo>
                    <a:pt x="255" y="224"/>
                  </a:lnTo>
                  <a:lnTo>
                    <a:pt x="110" y="321"/>
                  </a:lnTo>
                  <a:lnTo>
                    <a:pt x="97" y="508"/>
                  </a:lnTo>
                  <a:lnTo>
                    <a:pt x="0" y="472"/>
                  </a:lnTo>
                  <a:lnTo>
                    <a:pt x="35" y="636"/>
                  </a:lnTo>
                  <a:lnTo>
                    <a:pt x="13" y="52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1" name=""/>
            <p:cNvSpPr/>
            <p:nvPr/>
          </p:nvSpPr>
          <p:spPr>
            <a:xfrm>
              <a:off x="7815240" y="372960"/>
              <a:ext cx="151200" cy="84600"/>
            </a:xfrm>
            <a:custGeom>
              <a:avLst/>
              <a:gdLst/>
              <a:ahLst/>
              <a:rect l="0" t="0" r="r" b="b"/>
              <a:pathLst>
                <a:path w="420" h="235">
                  <a:moveTo>
                    <a:pt x="0" y="235"/>
                  </a:moveTo>
                  <a:lnTo>
                    <a:pt x="159" y="0"/>
                  </a:lnTo>
                  <a:lnTo>
                    <a:pt x="159" y="155"/>
                  </a:lnTo>
                  <a:lnTo>
                    <a:pt x="217" y="93"/>
                  </a:lnTo>
                  <a:lnTo>
                    <a:pt x="261" y="182"/>
                  </a:lnTo>
                  <a:lnTo>
                    <a:pt x="420" y="222"/>
                  </a:lnTo>
                  <a:lnTo>
                    <a:pt x="252" y="196"/>
                  </a:lnTo>
                  <a:lnTo>
                    <a:pt x="203" y="133"/>
                  </a:lnTo>
                  <a:lnTo>
                    <a:pt x="133" y="196"/>
                  </a:lnTo>
                  <a:lnTo>
                    <a:pt x="133" y="115"/>
                  </a:lnTo>
                  <a:lnTo>
                    <a:pt x="0" y="235"/>
                  </a:lnTo>
                  <a:close/>
                </a:path>
              </a:pathLst>
            </a:custGeom>
            <a:solidFill>
              <a:srgbClr val="000000"/>
            </a:solidFill>
            <a:ln w="12600">
              <a:solidFill>
                <a:srgbClr val="000000"/>
              </a:solidFill>
              <a:round/>
            </a:ln>
          </p:spPr>
          <p:txBody>
            <a:bodyPr lIns="96120" rIns="96120" tIns="33480" bIns="33480" anchor="t">
              <a:noAutofit/>
            </a:bodyPr>
            <a:p>
              <a:endParaRPr b="0" lang="en-US" sz="1800" spc="-1" strike="noStrike">
                <a:solidFill>
                  <a:srgbClr val="ffffff"/>
                </a:solidFill>
                <a:latin typeface="Arial"/>
              </a:endParaRPr>
            </a:p>
          </p:txBody>
        </p:sp>
        <p:sp>
          <p:nvSpPr>
            <p:cNvPr id="142" name=""/>
            <p:cNvSpPr/>
            <p:nvPr/>
          </p:nvSpPr>
          <p:spPr>
            <a:xfrm>
              <a:off x="7799400" y="932040"/>
              <a:ext cx="184680" cy="124200"/>
            </a:xfrm>
            <a:custGeom>
              <a:avLst/>
              <a:gdLst/>
              <a:ahLst/>
              <a:rect l="0" t="0" r="r" b="b"/>
              <a:pathLst>
                <a:path w="513" h="345">
                  <a:moveTo>
                    <a:pt x="97" y="120"/>
                  </a:moveTo>
                  <a:lnTo>
                    <a:pt x="305" y="106"/>
                  </a:lnTo>
                  <a:lnTo>
                    <a:pt x="407" y="128"/>
                  </a:lnTo>
                  <a:lnTo>
                    <a:pt x="460" y="79"/>
                  </a:lnTo>
                  <a:lnTo>
                    <a:pt x="513" y="190"/>
                  </a:lnTo>
                  <a:lnTo>
                    <a:pt x="478" y="212"/>
                  </a:lnTo>
                  <a:lnTo>
                    <a:pt x="438" y="172"/>
                  </a:lnTo>
                  <a:lnTo>
                    <a:pt x="362" y="247"/>
                  </a:lnTo>
                  <a:lnTo>
                    <a:pt x="239" y="345"/>
                  </a:lnTo>
                  <a:lnTo>
                    <a:pt x="181" y="345"/>
                  </a:lnTo>
                  <a:lnTo>
                    <a:pt x="97" y="297"/>
                  </a:lnTo>
                  <a:lnTo>
                    <a:pt x="190" y="337"/>
                  </a:lnTo>
                  <a:lnTo>
                    <a:pt x="230" y="337"/>
                  </a:lnTo>
                  <a:lnTo>
                    <a:pt x="305" y="270"/>
                  </a:lnTo>
                  <a:lnTo>
                    <a:pt x="362" y="159"/>
                  </a:lnTo>
                  <a:lnTo>
                    <a:pt x="278" y="142"/>
                  </a:lnTo>
                  <a:lnTo>
                    <a:pt x="225" y="128"/>
                  </a:lnTo>
                  <a:lnTo>
                    <a:pt x="83" y="150"/>
                  </a:lnTo>
                  <a:lnTo>
                    <a:pt x="79" y="243"/>
                  </a:lnTo>
                  <a:lnTo>
                    <a:pt x="39" y="181"/>
                  </a:lnTo>
                  <a:lnTo>
                    <a:pt x="0" y="262"/>
                  </a:lnTo>
                  <a:lnTo>
                    <a:pt x="4" y="93"/>
                  </a:lnTo>
                  <a:lnTo>
                    <a:pt x="52" y="0"/>
                  </a:lnTo>
                  <a:lnTo>
                    <a:pt x="97" y="93"/>
                  </a:lnTo>
                  <a:lnTo>
                    <a:pt x="97" y="12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3" name=""/>
            <p:cNvSpPr/>
            <p:nvPr/>
          </p:nvSpPr>
          <p:spPr>
            <a:xfrm>
              <a:off x="7777080" y="666720"/>
              <a:ext cx="395640" cy="567000"/>
            </a:xfrm>
            <a:custGeom>
              <a:avLst/>
              <a:gdLst/>
              <a:ahLst/>
              <a:rect l="0" t="0" r="r" b="b"/>
              <a:pathLst>
                <a:path w="1099" h="1575">
                  <a:moveTo>
                    <a:pt x="927" y="0"/>
                  </a:moveTo>
                  <a:lnTo>
                    <a:pt x="1037" y="0"/>
                  </a:lnTo>
                  <a:lnTo>
                    <a:pt x="1099" y="74"/>
                  </a:lnTo>
                  <a:lnTo>
                    <a:pt x="1099" y="163"/>
                  </a:lnTo>
                  <a:lnTo>
                    <a:pt x="1006" y="405"/>
                  </a:lnTo>
                  <a:lnTo>
                    <a:pt x="922" y="529"/>
                  </a:lnTo>
                  <a:lnTo>
                    <a:pt x="825" y="542"/>
                  </a:lnTo>
                  <a:lnTo>
                    <a:pt x="803" y="542"/>
                  </a:lnTo>
                  <a:lnTo>
                    <a:pt x="803" y="860"/>
                  </a:lnTo>
                  <a:lnTo>
                    <a:pt x="843" y="1081"/>
                  </a:lnTo>
                  <a:lnTo>
                    <a:pt x="843" y="1266"/>
                  </a:lnTo>
                  <a:lnTo>
                    <a:pt x="675" y="1451"/>
                  </a:lnTo>
                  <a:lnTo>
                    <a:pt x="449" y="1575"/>
                  </a:lnTo>
                  <a:lnTo>
                    <a:pt x="299" y="1575"/>
                  </a:lnTo>
                  <a:lnTo>
                    <a:pt x="229" y="1539"/>
                  </a:lnTo>
                  <a:lnTo>
                    <a:pt x="127" y="1323"/>
                  </a:lnTo>
                  <a:lnTo>
                    <a:pt x="39" y="1244"/>
                  </a:lnTo>
                  <a:lnTo>
                    <a:pt x="0" y="1187"/>
                  </a:lnTo>
                  <a:lnTo>
                    <a:pt x="123" y="1266"/>
                  </a:lnTo>
                  <a:lnTo>
                    <a:pt x="211" y="1341"/>
                  </a:lnTo>
                  <a:lnTo>
                    <a:pt x="388" y="1354"/>
                  </a:lnTo>
                  <a:lnTo>
                    <a:pt x="546" y="1275"/>
                  </a:lnTo>
                  <a:lnTo>
                    <a:pt x="627" y="1187"/>
                  </a:lnTo>
                  <a:lnTo>
                    <a:pt x="719" y="1028"/>
                  </a:lnTo>
                  <a:lnTo>
                    <a:pt x="733" y="838"/>
                  </a:lnTo>
                  <a:lnTo>
                    <a:pt x="768" y="233"/>
                  </a:lnTo>
                  <a:lnTo>
                    <a:pt x="807" y="317"/>
                  </a:lnTo>
                  <a:lnTo>
                    <a:pt x="918" y="211"/>
                  </a:lnTo>
                  <a:lnTo>
                    <a:pt x="1028" y="163"/>
                  </a:lnTo>
                  <a:lnTo>
                    <a:pt x="1054" y="101"/>
                  </a:lnTo>
                  <a:lnTo>
                    <a:pt x="1041" y="35"/>
                  </a:lnTo>
                  <a:lnTo>
                    <a:pt x="993" y="8"/>
                  </a:lnTo>
                  <a:lnTo>
                    <a:pt x="92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4" name=""/>
            <p:cNvSpPr/>
            <p:nvPr/>
          </p:nvSpPr>
          <p:spPr>
            <a:xfrm>
              <a:off x="7162920" y="1155600"/>
              <a:ext cx="319320" cy="522720"/>
            </a:xfrm>
            <a:custGeom>
              <a:avLst/>
              <a:gdLst/>
              <a:ahLst/>
              <a:rect l="0" t="0" r="r" b="b"/>
              <a:pathLst>
                <a:path w="887" h="1452">
                  <a:moveTo>
                    <a:pt x="110" y="0"/>
                  </a:moveTo>
                  <a:lnTo>
                    <a:pt x="216" y="66"/>
                  </a:lnTo>
                  <a:lnTo>
                    <a:pt x="286" y="361"/>
                  </a:lnTo>
                  <a:lnTo>
                    <a:pt x="516" y="433"/>
                  </a:lnTo>
                  <a:lnTo>
                    <a:pt x="583" y="508"/>
                  </a:lnTo>
                  <a:lnTo>
                    <a:pt x="596" y="613"/>
                  </a:lnTo>
                  <a:lnTo>
                    <a:pt x="706" y="600"/>
                  </a:lnTo>
                  <a:lnTo>
                    <a:pt x="843" y="693"/>
                  </a:lnTo>
                  <a:lnTo>
                    <a:pt x="887" y="807"/>
                  </a:lnTo>
                  <a:lnTo>
                    <a:pt x="887" y="1015"/>
                  </a:lnTo>
                  <a:lnTo>
                    <a:pt x="706" y="1329"/>
                  </a:lnTo>
                  <a:lnTo>
                    <a:pt x="649" y="1452"/>
                  </a:lnTo>
                  <a:lnTo>
                    <a:pt x="675" y="1285"/>
                  </a:lnTo>
                  <a:lnTo>
                    <a:pt x="649" y="1219"/>
                  </a:lnTo>
                  <a:lnTo>
                    <a:pt x="538" y="1117"/>
                  </a:lnTo>
                  <a:lnTo>
                    <a:pt x="366" y="988"/>
                  </a:lnTo>
                  <a:lnTo>
                    <a:pt x="569" y="1063"/>
                  </a:lnTo>
                  <a:lnTo>
                    <a:pt x="693" y="1157"/>
                  </a:lnTo>
                  <a:lnTo>
                    <a:pt x="759" y="1144"/>
                  </a:lnTo>
                  <a:lnTo>
                    <a:pt x="794" y="1085"/>
                  </a:lnTo>
                  <a:lnTo>
                    <a:pt x="843" y="940"/>
                  </a:lnTo>
                  <a:lnTo>
                    <a:pt x="830" y="794"/>
                  </a:lnTo>
                  <a:lnTo>
                    <a:pt x="768" y="719"/>
                  </a:lnTo>
                  <a:lnTo>
                    <a:pt x="658" y="693"/>
                  </a:lnTo>
                  <a:lnTo>
                    <a:pt x="538" y="693"/>
                  </a:lnTo>
                  <a:lnTo>
                    <a:pt x="499" y="481"/>
                  </a:lnTo>
                  <a:lnTo>
                    <a:pt x="299" y="402"/>
                  </a:lnTo>
                  <a:lnTo>
                    <a:pt x="299" y="464"/>
                  </a:lnTo>
                  <a:lnTo>
                    <a:pt x="216" y="313"/>
                  </a:lnTo>
                  <a:lnTo>
                    <a:pt x="163" y="66"/>
                  </a:lnTo>
                  <a:lnTo>
                    <a:pt x="88" y="39"/>
                  </a:lnTo>
                  <a:lnTo>
                    <a:pt x="44" y="110"/>
                  </a:lnTo>
                  <a:lnTo>
                    <a:pt x="44" y="282"/>
                  </a:lnTo>
                  <a:lnTo>
                    <a:pt x="79" y="464"/>
                  </a:lnTo>
                  <a:lnTo>
                    <a:pt x="185" y="613"/>
                  </a:lnTo>
                  <a:lnTo>
                    <a:pt x="66" y="521"/>
                  </a:lnTo>
                  <a:lnTo>
                    <a:pt x="8" y="361"/>
                  </a:lnTo>
                  <a:lnTo>
                    <a:pt x="0" y="158"/>
                  </a:lnTo>
                  <a:lnTo>
                    <a:pt x="44" y="39"/>
                  </a:lnTo>
                  <a:lnTo>
                    <a:pt x="11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5" name=""/>
            <p:cNvSpPr/>
            <p:nvPr/>
          </p:nvSpPr>
          <p:spPr>
            <a:xfrm>
              <a:off x="7010280" y="1386000"/>
              <a:ext cx="211320" cy="417960"/>
            </a:xfrm>
            <a:custGeom>
              <a:avLst/>
              <a:gdLst/>
              <a:ahLst/>
              <a:rect l="0" t="0" r="r" b="b"/>
              <a:pathLst>
                <a:path w="587" h="1161">
                  <a:moveTo>
                    <a:pt x="587" y="0"/>
                  </a:moveTo>
                  <a:lnTo>
                    <a:pt x="468" y="74"/>
                  </a:lnTo>
                  <a:lnTo>
                    <a:pt x="322" y="353"/>
                  </a:lnTo>
                  <a:lnTo>
                    <a:pt x="180" y="543"/>
                  </a:lnTo>
                  <a:lnTo>
                    <a:pt x="13" y="763"/>
                  </a:lnTo>
                  <a:lnTo>
                    <a:pt x="0" y="875"/>
                  </a:lnTo>
                  <a:lnTo>
                    <a:pt x="35" y="980"/>
                  </a:lnTo>
                  <a:lnTo>
                    <a:pt x="114" y="980"/>
                  </a:lnTo>
                  <a:lnTo>
                    <a:pt x="224" y="875"/>
                  </a:lnTo>
                  <a:lnTo>
                    <a:pt x="314" y="671"/>
                  </a:lnTo>
                  <a:lnTo>
                    <a:pt x="433" y="543"/>
                  </a:lnTo>
                  <a:lnTo>
                    <a:pt x="433" y="710"/>
                  </a:lnTo>
                  <a:lnTo>
                    <a:pt x="415" y="865"/>
                  </a:lnTo>
                  <a:lnTo>
                    <a:pt x="286" y="1069"/>
                  </a:lnTo>
                  <a:lnTo>
                    <a:pt x="286" y="1130"/>
                  </a:lnTo>
                  <a:lnTo>
                    <a:pt x="415" y="1161"/>
                  </a:lnTo>
                  <a:lnTo>
                    <a:pt x="322" y="1104"/>
                  </a:lnTo>
                  <a:lnTo>
                    <a:pt x="336" y="1069"/>
                  </a:lnTo>
                  <a:lnTo>
                    <a:pt x="424" y="919"/>
                  </a:lnTo>
                  <a:lnTo>
                    <a:pt x="486" y="644"/>
                  </a:lnTo>
                  <a:lnTo>
                    <a:pt x="441" y="490"/>
                  </a:lnTo>
                  <a:lnTo>
                    <a:pt x="344" y="578"/>
                  </a:lnTo>
                  <a:lnTo>
                    <a:pt x="141" y="928"/>
                  </a:lnTo>
                  <a:lnTo>
                    <a:pt x="83" y="941"/>
                  </a:lnTo>
                  <a:lnTo>
                    <a:pt x="35" y="901"/>
                  </a:lnTo>
                  <a:lnTo>
                    <a:pt x="35" y="794"/>
                  </a:lnTo>
                  <a:lnTo>
                    <a:pt x="114" y="658"/>
                  </a:lnTo>
                  <a:lnTo>
                    <a:pt x="344" y="375"/>
                  </a:lnTo>
                  <a:lnTo>
                    <a:pt x="486" y="105"/>
                  </a:lnTo>
                  <a:lnTo>
                    <a:pt x="58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6" name=""/>
            <p:cNvSpPr/>
            <p:nvPr/>
          </p:nvSpPr>
          <p:spPr>
            <a:xfrm>
              <a:off x="7167600" y="1622520"/>
              <a:ext cx="130680" cy="203400"/>
            </a:xfrm>
            <a:custGeom>
              <a:avLst/>
              <a:gdLst/>
              <a:ahLst/>
              <a:rect l="0" t="0" r="r" b="b"/>
              <a:pathLst>
                <a:path w="363" h="565">
                  <a:moveTo>
                    <a:pt x="0" y="499"/>
                  </a:moveTo>
                  <a:lnTo>
                    <a:pt x="120" y="358"/>
                  </a:lnTo>
                  <a:lnTo>
                    <a:pt x="142" y="211"/>
                  </a:lnTo>
                  <a:lnTo>
                    <a:pt x="279" y="0"/>
                  </a:lnTo>
                  <a:lnTo>
                    <a:pt x="310" y="141"/>
                  </a:lnTo>
                  <a:lnTo>
                    <a:pt x="293" y="512"/>
                  </a:lnTo>
                  <a:lnTo>
                    <a:pt x="363" y="565"/>
                  </a:lnTo>
                  <a:lnTo>
                    <a:pt x="256" y="525"/>
                  </a:lnTo>
                  <a:lnTo>
                    <a:pt x="203" y="314"/>
                  </a:lnTo>
                  <a:lnTo>
                    <a:pt x="120" y="415"/>
                  </a:lnTo>
                  <a:lnTo>
                    <a:pt x="0" y="49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7" name=""/>
            <p:cNvSpPr/>
            <p:nvPr/>
          </p:nvSpPr>
          <p:spPr>
            <a:xfrm>
              <a:off x="7326360" y="1633680"/>
              <a:ext cx="86040" cy="179640"/>
            </a:xfrm>
            <a:custGeom>
              <a:avLst/>
              <a:gdLst/>
              <a:ahLst/>
              <a:rect l="0" t="0" r="r" b="b"/>
              <a:pathLst>
                <a:path w="239" h="499">
                  <a:moveTo>
                    <a:pt x="0" y="375"/>
                  </a:moveTo>
                  <a:lnTo>
                    <a:pt x="8" y="189"/>
                  </a:lnTo>
                  <a:lnTo>
                    <a:pt x="61" y="79"/>
                  </a:lnTo>
                  <a:lnTo>
                    <a:pt x="114" y="472"/>
                  </a:lnTo>
                  <a:lnTo>
                    <a:pt x="190" y="472"/>
                  </a:lnTo>
                  <a:lnTo>
                    <a:pt x="221" y="57"/>
                  </a:lnTo>
                  <a:lnTo>
                    <a:pt x="239" y="0"/>
                  </a:lnTo>
                  <a:lnTo>
                    <a:pt x="221" y="327"/>
                  </a:lnTo>
                  <a:lnTo>
                    <a:pt x="190" y="499"/>
                  </a:lnTo>
                  <a:lnTo>
                    <a:pt x="97" y="499"/>
                  </a:lnTo>
                  <a:lnTo>
                    <a:pt x="52" y="158"/>
                  </a:lnTo>
                  <a:lnTo>
                    <a:pt x="26" y="207"/>
                  </a:lnTo>
                  <a:lnTo>
                    <a:pt x="0" y="37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8" name=""/>
            <p:cNvSpPr/>
            <p:nvPr/>
          </p:nvSpPr>
          <p:spPr>
            <a:xfrm>
              <a:off x="8424720" y="923760"/>
              <a:ext cx="208440" cy="481320"/>
            </a:xfrm>
            <a:custGeom>
              <a:avLst/>
              <a:gdLst/>
              <a:ahLst/>
              <a:rect l="0" t="0" r="r" b="b"/>
              <a:pathLst>
                <a:path w="579" h="1337">
                  <a:moveTo>
                    <a:pt x="155" y="724"/>
                  </a:moveTo>
                  <a:lnTo>
                    <a:pt x="199" y="511"/>
                  </a:lnTo>
                  <a:lnTo>
                    <a:pt x="389" y="458"/>
                  </a:lnTo>
                  <a:lnTo>
                    <a:pt x="579" y="0"/>
                  </a:lnTo>
                  <a:lnTo>
                    <a:pt x="579" y="132"/>
                  </a:lnTo>
                  <a:lnTo>
                    <a:pt x="419" y="489"/>
                  </a:lnTo>
                  <a:lnTo>
                    <a:pt x="212" y="555"/>
                  </a:lnTo>
                  <a:lnTo>
                    <a:pt x="181" y="724"/>
                  </a:lnTo>
                  <a:lnTo>
                    <a:pt x="256" y="724"/>
                  </a:lnTo>
                  <a:lnTo>
                    <a:pt x="74" y="799"/>
                  </a:lnTo>
                  <a:lnTo>
                    <a:pt x="35" y="944"/>
                  </a:lnTo>
                  <a:lnTo>
                    <a:pt x="44" y="1125"/>
                  </a:lnTo>
                  <a:lnTo>
                    <a:pt x="234" y="1337"/>
                  </a:lnTo>
                  <a:lnTo>
                    <a:pt x="35" y="1151"/>
                  </a:lnTo>
                  <a:lnTo>
                    <a:pt x="0" y="993"/>
                  </a:lnTo>
                  <a:lnTo>
                    <a:pt x="13" y="838"/>
                  </a:lnTo>
                  <a:lnTo>
                    <a:pt x="88" y="728"/>
                  </a:lnTo>
                  <a:lnTo>
                    <a:pt x="155" y="72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9" name=""/>
            <p:cNvSpPr/>
            <p:nvPr/>
          </p:nvSpPr>
          <p:spPr>
            <a:xfrm>
              <a:off x="8564400" y="923760"/>
              <a:ext cx="349560" cy="466920"/>
            </a:xfrm>
            <a:custGeom>
              <a:avLst/>
              <a:gdLst/>
              <a:ahLst/>
              <a:rect l="0" t="0" r="r" b="b"/>
              <a:pathLst>
                <a:path w="971" h="1297">
                  <a:moveTo>
                    <a:pt x="268" y="0"/>
                  </a:moveTo>
                  <a:lnTo>
                    <a:pt x="326" y="39"/>
                  </a:lnTo>
                  <a:lnTo>
                    <a:pt x="343" y="154"/>
                  </a:lnTo>
                  <a:lnTo>
                    <a:pt x="343" y="255"/>
                  </a:lnTo>
                  <a:lnTo>
                    <a:pt x="233" y="440"/>
                  </a:lnTo>
                  <a:lnTo>
                    <a:pt x="260" y="582"/>
                  </a:lnTo>
                  <a:lnTo>
                    <a:pt x="583" y="728"/>
                  </a:lnTo>
                  <a:lnTo>
                    <a:pt x="966" y="1138"/>
                  </a:lnTo>
                  <a:lnTo>
                    <a:pt x="971" y="1248"/>
                  </a:lnTo>
                  <a:lnTo>
                    <a:pt x="953" y="1297"/>
                  </a:lnTo>
                  <a:lnTo>
                    <a:pt x="807" y="1297"/>
                  </a:lnTo>
                  <a:lnTo>
                    <a:pt x="684" y="1218"/>
                  </a:lnTo>
                  <a:lnTo>
                    <a:pt x="578" y="1085"/>
                  </a:lnTo>
                  <a:lnTo>
                    <a:pt x="521" y="1010"/>
                  </a:lnTo>
                  <a:lnTo>
                    <a:pt x="449" y="997"/>
                  </a:lnTo>
                  <a:lnTo>
                    <a:pt x="534" y="997"/>
                  </a:lnTo>
                  <a:lnTo>
                    <a:pt x="693" y="1204"/>
                  </a:lnTo>
                  <a:lnTo>
                    <a:pt x="891" y="1266"/>
                  </a:lnTo>
                  <a:lnTo>
                    <a:pt x="935" y="1204"/>
                  </a:lnTo>
                  <a:lnTo>
                    <a:pt x="918" y="1107"/>
                  </a:lnTo>
                  <a:lnTo>
                    <a:pt x="561" y="812"/>
                  </a:lnTo>
                  <a:lnTo>
                    <a:pt x="508" y="728"/>
                  </a:lnTo>
                  <a:lnTo>
                    <a:pt x="233" y="658"/>
                  </a:lnTo>
                  <a:lnTo>
                    <a:pt x="185" y="728"/>
                  </a:lnTo>
                  <a:lnTo>
                    <a:pt x="0" y="856"/>
                  </a:lnTo>
                  <a:lnTo>
                    <a:pt x="176" y="710"/>
                  </a:lnTo>
                  <a:lnTo>
                    <a:pt x="185" y="617"/>
                  </a:lnTo>
                  <a:lnTo>
                    <a:pt x="185" y="414"/>
                  </a:lnTo>
                  <a:lnTo>
                    <a:pt x="313" y="255"/>
                  </a:lnTo>
                  <a:lnTo>
                    <a:pt x="313" y="52"/>
                  </a:lnTo>
                  <a:lnTo>
                    <a:pt x="26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50" name=""/>
            <p:cNvSpPr/>
            <p:nvPr/>
          </p:nvSpPr>
          <p:spPr>
            <a:xfrm>
              <a:off x="8501040" y="1292400"/>
              <a:ext cx="297360" cy="273240"/>
            </a:xfrm>
            <a:custGeom>
              <a:avLst/>
              <a:gdLst/>
              <a:ahLst/>
              <a:rect l="0" t="0" r="r" b="b"/>
              <a:pathLst>
                <a:path w="826" h="759">
                  <a:moveTo>
                    <a:pt x="618" y="0"/>
                  </a:moveTo>
                  <a:lnTo>
                    <a:pt x="600" y="66"/>
                  </a:lnTo>
                  <a:lnTo>
                    <a:pt x="720" y="313"/>
                  </a:lnTo>
                  <a:lnTo>
                    <a:pt x="782" y="574"/>
                  </a:lnTo>
                  <a:lnTo>
                    <a:pt x="711" y="574"/>
                  </a:lnTo>
                  <a:lnTo>
                    <a:pt x="587" y="464"/>
                  </a:lnTo>
                  <a:lnTo>
                    <a:pt x="477" y="224"/>
                  </a:lnTo>
                  <a:lnTo>
                    <a:pt x="389" y="185"/>
                  </a:lnTo>
                  <a:lnTo>
                    <a:pt x="402" y="313"/>
                  </a:lnTo>
                  <a:lnTo>
                    <a:pt x="481" y="411"/>
                  </a:lnTo>
                  <a:lnTo>
                    <a:pt x="481" y="591"/>
                  </a:lnTo>
                  <a:lnTo>
                    <a:pt x="424" y="724"/>
                  </a:lnTo>
                  <a:lnTo>
                    <a:pt x="349" y="666"/>
                  </a:lnTo>
                  <a:lnTo>
                    <a:pt x="256" y="464"/>
                  </a:lnTo>
                  <a:lnTo>
                    <a:pt x="230" y="313"/>
                  </a:lnTo>
                  <a:lnTo>
                    <a:pt x="176" y="277"/>
                  </a:lnTo>
                  <a:lnTo>
                    <a:pt x="163" y="644"/>
                  </a:lnTo>
                  <a:lnTo>
                    <a:pt x="88" y="697"/>
                  </a:lnTo>
                  <a:lnTo>
                    <a:pt x="22" y="644"/>
                  </a:lnTo>
                  <a:lnTo>
                    <a:pt x="8" y="330"/>
                  </a:lnTo>
                  <a:lnTo>
                    <a:pt x="0" y="636"/>
                  </a:lnTo>
                  <a:lnTo>
                    <a:pt x="52" y="746"/>
                  </a:lnTo>
                  <a:lnTo>
                    <a:pt x="163" y="746"/>
                  </a:lnTo>
                  <a:lnTo>
                    <a:pt x="202" y="658"/>
                  </a:lnTo>
                  <a:lnTo>
                    <a:pt x="221" y="370"/>
                  </a:lnTo>
                  <a:lnTo>
                    <a:pt x="239" y="481"/>
                  </a:lnTo>
                  <a:lnTo>
                    <a:pt x="336" y="728"/>
                  </a:lnTo>
                  <a:lnTo>
                    <a:pt x="437" y="759"/>
                  </a:lnTo>
                  <a:lnTo>
                    <a:pt x="512" y="658"/>
                  </a:lnTo>
                  <a:lnTo>
                    <a:pt x="512" y="419"/>
                  </a:lnTo>
                  <a:lnTo>
                    <a:pt x="711" y="613"/>
                  </a:lnTo>
                  <a:lnTo>
                    <a:pt x="817" y="613"/>
                  </a:lnTo>
                  <a:lnTo>
                    <a:pt x="826" y="481"/>
                  </a:lnTo>
                  <a:lnTo>
                    <a:pt x="751" y="246"/>
                  </a:lnTo>
                  <a:lnTo>
                    <a:pt x="618" y="52"/>
                  </a:lnTo>
                  <a:lnTo>
                    <a:pt x="61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51" name=""/>
            <p:cNvSpPr/>
            <p:nvPr/>
          </p:nvSpPr>
          <p:spPr>
            <a:xfrm>
              <a:off x="7302600" y="1003320"/>
              <a:ext cx="1319400" cy="1128960"/>
            </a:xfrm>
            <a:custGeom>
              <a:avLst/>
              <a:gdLst/>
              <a:ahLst/>
              <a:rect l="0" t="0" r="r" b="b"/>
              <a:pathLst>
                <a:path w="3665" h="3136">
                  <a:moveTo>
                    <a:pt x="1318" y="264"/>
                  </a:moveTo>
                  <a:lnTo>
                    <a:pt x="1247" y="277"/>
                  </a:lnTo>
                  <a:lnTo>
                    <a:pt x="1150" y="436"/>
                  </a:lnTo>
                  <a:lnTo>
                    <a:pt x="1111" y="317"/>
                  </a:lnTo>
                  <a:lnTo>
                    <a:pt x="996" y="255"/>
                  </a:lnTo>
                  <a:lnTo>
                    <a:pt x="903" y="299"/>
                  </a:lnTo>
                  <a:lnTo>
                    <a:pt x="873" y="507"/>
                  </a:lnTo>
                  <a:lnTo>
                    <a:pt x="542" y="758"/>
                  </a:lnTo>
                  <a:lnTo>
                    <a:pt x="564" y="859"/>
                  </a:lnTo>
                  <a:lnTo>
                    <a:pt x="485" y="952"/>
                  </a:lnTo>
                  <a:lnTo>
                    <a:pt x="485" y="1040"/>
                  </a:lnTo>
                  <a:lnTo>
                    <a:pt x="577" y="1270"/>
                  </a:lnTo>
                  <a:lnTo>
                    <a:pt x="586" y="1561"/>
                  </a:lnTo>
                  <a:lnTo>
                    <a:pt x="520" y="1835"/>
                  </a:lnTo>
                  <a:lnTo>
                    <a:pt x="286" y="2003"/>
                  </a:lnTo>
                  <a:lnTo>
                    <a:pt x="260" y="2223"/>
                  </a:lnTo>
                  <a:lnTo>
                    <a:pt x="180" y="2223"/>
                  </a:lnTo>
                  <a:lnTo>
                    <a:pt x="149" y="2042"/>
                  </a:lnTo>
                  <a:lnTo>
                    <a:pt x="74" y="2042"/>
                  </a:lnTo>
                  <a:lnTo>
                    <a:pt x="44" y="2241"/>
                  </a:lnTo>
                  <a:lnTo>
                    <a:pt x="0" y="2289"/>
                  </a:lnTo>
                  <a:lnTo>
                    <a:pt x="163" y="2558"/>
                  </a:lnTo>
                  <a:lnTo>
                    <a:pt x="277" y="2571"/>
                  </a:lnTo>
                  <a:lnTo>
                    <a:pt x="485" y="2770"/>
                  </a:lnTo>
                  <a:lnTo>
                    <a:pt x="670" y="2796"/>
                  </a:lnTo>
                  <a:lnTo>
                    <a:pt x="776" y="2695"/>
                  </a:lnTo>
                  <a:lnTo>
                    <a:pt x="1031" y="2302"/>
                  </a:lnTo>
                  <a:lnTo>
                    <a:pt x="1053" y="2827"/>
                  </a:lnTo>
                  <a:lnTo>
                    <a:pt x="1031" y="3136"/>
                  </a:lnTo>
                  <a:lnTo>
                    <a:pt x="3149" y="3136"/>
                  </a:lnTo>
                  <a:lnTo>
                    <a:pt x="2995" y="2796"/>
                  </a:lnTo>
                  <a:lnTo>
                    <a:pt x="2915" y="2510"/>
                  </a:lnTo>
                  <a:lnTo>
                    <a:pt x="2898" y="2077"/>
                  </a:lnTo>
                  <a:lnTo>
                    <a:pt x="3021" y="2170"/>
                  </a:lnTo>
                  <a:lnTo>
                    <a:pt x="3149" y="2170"/>
                  </a:lnTo>
                  <a:lnTo>
                    <a:pt x="3325" y="2055"/>
                  </a:lnTo>
                  <a:lnTo>
                    <a:pt x="3440" y="2042"/>
                  </a:lnTo>
                  <a:lnTo>
                    <a:pt x="3511" y="1928"/>
                  </a:lnTo>
                  <a:lnTo>
                    <a:pt x="3559" y="1632"/>
                  </a:lnTo>
                  <a:lnTo>
                    <a:pt x="3665" y="1508"/>
                  </a:lnTo>
                  <a:lnTo>
                    <a:pt x="3612" y="1419"/>
                  </a:lnTo>
                  <a:lnTo>
                    <a:pt x="3533" y="1419"/>
                  </a:lnTo>
                  <a:lnTo>
                    <a:pt x="3467" y="1481"/>
                  </a:lnTo>
                  <a:lnTo>
                    <a:pt x="3409" y="1499"/>
                  </a:lnTo>
                  <a:lnTo>
                    <a:pt x="3334" y="1419"/>
                  </a:lnTo>
                  <a:lnTo>
                    <a:pt x="3242" y="1402"/>
                  </a:lnTo>
                  <a:lnTo>
                    <a:pt x="3074" y="1300"/>
                  </a:lnTo>
                  <a:lnTo>
                    <a:pt x="2968" y="1177"/>
                  </a:lnTo>
                  <a:lnTo>
                    <a:pt x="2955" y="1040"/>
                  </a:lnTo>
                  <a:lnTo>
                    <a:pt x="2968" y="899"/>
                  </a:lnTo>
                  <a:lnTo>
                    <a:pt x="3043" y="784"/>
                  </a:lnTo>
                  <a:lnTo>
                    <a:pt x="3131" y="679"/>
                  </a:lnTo>
                  <a:lnTo>
                    <a:pt x="3123" y="502"/>
                  </a:lnTo>
                  <a:lnTo>
                    <a:pt x="3123" y="374"/>
                  </a:lnTo>
                  <a:lnTo>
                    <a:pt x="3074" y="277"/>
                  </a:lnTo>
                  <a:lnTo>
                    <a:pt x="2955" y="238"/>
                  </a:lnTo>
                  <a:lnTo>
                    <a:pt x="2911" y="211"/>
                  </a:lnTo>
                  <a:lnTo>
                    <a:pt x="2823" y="57"/>
                  </a:lnTo>
                  <a:lnTo>
                    <a:pt x="2748" y="13"/>
                  </a:lnTo>
                  <a:lnTo>
                    <a:pt x="2673" y="0"/>
                  </a:lnTo>
                  <a:lnTo>
                    <a:pt x="2611" y="30"/>
                  </a:lnTo>
                  <a:lnTo>
                    <a:pt x="2558" y="110"/>
                  </a:lnTo>
                  <a:lnTo>
                    <a:pt x="2479" y="163"/>
                  </a:lnTo>
                  <a:lnTo>
                    <a:pt x="2386" y="171"/>
                  </a:lnTo>
                  <a:lnTo>
                    <a:pt x="2285" y="171"/>
                  </a:lnTo>
                  <a:lnTo>
                    <a:pt x="2302" y="330"/>
                  </a:lnTo>
                  <a:lnTo>
                    <a:pt x="2302" y="520"/>
                  </a:lnTo>
                  <a:lnTo>
                    <a:pt x="2285" y="652"/>
                  </a:lnTo>
                  <a:lnTo>
                    <a:pt x="2192" y="806"/>
                  </a:lnTo>
                  <a:lnTo>
                    <a:pt x="2077" y="1045"/>
                  </a:lnTo>
                  <a:lnTo>
                    <a:pt x="1989" y="1327"/>
                  </a:lnTo>
                  <a:lnTo>
                    <a:pt x="1985" y="1499"/>
                  </a:lnTo>
                  <a:lnTo>
                    <a:pt x="1941" y="1641"/>
                  </a:lnTo>
                  <a:lnTo>
                    <a:pt x="1883" y="1782"/>
                  </a:lnTo>
                  <a:lnTo>
                    <a:pt x="1857" y="2016"/>
                  </a:lnTo>
                  <a:lnTo>
                    <a:pt x="1875" y="2201"/>
                  </a:lnTo>
                  <a:lnTo>
                    <a:pt x="1941" y="2421"/>
                  </a:lnTo>
                  <a:lnTo>
                    <a:pt x="1985" y="2510"/>
                  </a:lnTo>
                  <a:lnTo>
                    <a:pt x="1857" y="2589"/>
                  </a:lnTo>
                  <a:lnTo>
                    <a:pt x="1710" y="2638"/>
                  </a:lnTo>
                  <a:lnTo>
                    <a:pt x="1547" y="2655"/>
                  </a:lnTo>
                  <a:lnTo>
                    <a:pt x="1446" y="2655"/>
                  </a:lnTo>
                  <a:lnTo>
                    <a:pt x="1380" y="2629"/>
                  </a:lnTo>
                  <a:lnTo>
                    <a:pt x="1380" y="2435"/>
                  </a:lnTo>
                  <a:lnTo>
                    <a:pt x="1380" y="2157"/>
                  </a:lnTo>
                  <a:lnTo>
                    <a:pt x="1340" y="1883"/>
                  </a:lnTo>
                  <a:lnTo>
                    <a:pt x="1274" y="1641"/>
                  </a:lnTo>
                  <a:lnTo>
                    <a:pt x="1243" y="1446"/>
                  </a:lnTo>
                  <a:lnTo>
                    <a:pt x="1230" y="1168"/>
                  </a:lnTo>
                  <a:lnTo>
                    <a:pt x="1274" y="926"/>
                  </a:lnTo>
                  <a:lnTo>
                    <a:pt x="1340" y="727"/>
                  </a:lnTo>
                  <a:lnTo>
                    <a:pt x="1344" y="617"/>
                  </a:lnTo>
                  <a:lnTo>
                    <a:pt x="1318" y="445"/>
                  </a:lnTo>
                  <a:lnTo>
                    <a:pt x="1318" y="317"/>
                  </a:lnTo>
                  <a:lnTo>
                    <a:pt x="1340" y="277"/>
                  </a:lnTo>
                  <a:lnTo>
                    <a:pt x="1318" y="26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52" name=""/>
            <p:cNvSpPr/>
            <p:nvPr/>
          </p:nvSpPr>
          <p:spPr>
            <a:xfrm>
              <a:off x="7816680" y="1231920"/>
              <a:ext cx="165600" cy="730440"/>
            </a:xfrm>
            <a:custGeom>
              <a:avLst/>
              <a:gdLst/>
              <a:ahLst/>
              <a:rect l="0" t="0" r="r" b="b"/>
              <a:pathLst>
                <a:path w="460" h="2029">
                  <a:moveTo>
                    <a:pt x="181" y="22"/>
                  </a:moveTo>
                  <a:lnTo>
                    <a:pt x="61" y="92"/>
                  </a:lnTo>
                  <a:lnTo>
                    <a:pt x="70" y="286"/>
                  </a:lnTo>
                  <a:lnTo>
                    <a:pt x="164" y="339"/>
                  </a:lnTo>
                  <a:lnTo>
                    <a:pt x="52" y="555"/>
                  </a:lnTo>
                  <a:lnTo>
                    <a:pt x="0" y="789"/>
                  </a:lnTo>
                  <a:lnTo>
                    <a:pt x="0" y="1015"/>
                  </a:lnTo>
                  <a:lnTo>
                    <a:pt x="52" y="1218"/>
                  </a:lnTo>
                  <a:lnTo>
                    <a:pt x="97" y="1465"/>
                  </a:lnTo>
                  <a:lnTo>
                    <a:pt x="97" y="1601"/>
                  </a:lnTo>
                  <a:lnTo>
                    <a:pt x="52" y="1786"/>
                  </a:lnTo>
                  <a:lnTo>
                    <a:pt x="239" y="2029"/>
                  </a:lnTo>
                  <a:lnTo>
                    <a:pt x="314" y="1989"/>
                  </a:lnTo>
                  <a:lnTo>
                    <a:pt x="368" y="1817"/>
                  </a:lnTo>
                  <a:lnTo>
                    <a:pt x="456" y="1592"/>
                  </a:lnTo>
                  <a:lnTo>
                    <a:pt x="460" y="1473"/>
                  </a:lnTo>
                  <a:lnTo>
                    <a:pt x="390" y="1253"/>
                  </a:lnTo>
                  <a:lnTo>
                    <a:pt x="300" y="1037"/>
                  </a:lnTo>
                  <a:lnTo>
                    <a:pt x="269" y="881"/>
                  </a:lnTo>
                  <a:lnTo>
                    <a:pt x="269" y="736"/>
                  </a:lnTo>
                  <a:lnTo>
                    <a:pt x="300" y="608"/>
                  </a:lnTo>
                  <a:lnTo>
                    <a:pt x="368" y="440"/>
                  </a:lnTo>
                  <a:lnTo>
                    <a:pt x="368" y="379"/>
                  </a:lnTo>
                  <a:lnTo>
                    <a:pt x="336" y="313"/>
                  </a:lnTo>
                  <a:lnTo>
                    <a:pt x="420" y="233"/>
                  </a:lnTo>
                  <a:lnTo>
                    <a:pt x="420" y="158"/>
                  </a:lnTo>
                  <a:lnTo>
                    <a:pt x="300" y="0"/>
                  </a:lnTo>
                  <a:lnTo>
                    <a:pt x="398" y="158"/>
                  </a:lnTo>
                  <a:lnTo>
                    <a:pt x="398" y="220"/>
                  </a:lnTo>
                  <a:lnTo>
                    <a:pt x="309" y="286"/>
                  </a:lnTo>
                  <a:lnTo>
                    <a:pt x="344" y="379"/>
                  </a:lnTo>
                  <a:lnTo>
                    <a:pt x="336" y="440"/>
                  </a:lnTo>
                  <a:lnTo>
                    <a:pt x="247" y="630"/>
                  </a:lnTo>
                  <a:lnTo>
                    <a:pt x="239" y="811"/>
                  </a:lnTo>
                  <a:lnTo>
                    <a:pt x="256" y="978"/>
                  </a:lnTo>
                  <a:lnTo>
                    <a:pt x="314" y="1231"/>
                  </a:lnTo>
                  <a:lnTo>
                    <a:pt x="390" y="1420"/>
                  </a:lnTo>
                  <a:lnTo>
                    <a:pt x="390" y="1584"/>
                  </a:lnTo>
                  <a:lnTo>
                    <a:pt x="344" y="1786"/>
                  </a:lnTo>
                  <a:lnTo>
                    <a:pt x="256" y="1989"/>
                  </a:lnTo>
                  <a:lnTo>
                    <a:pt x="155" y="1875"/>
                  </a:lnTo>
                  <a:lnTo>
                    <a:pt x="110" y="1786"/>
                  </a:lnTo>
                  <a:lnTo>
                    <a:pt x="120" y="1584"/>
                  </a:lnTo>
                  <a:lnTo>
                    <a:pt x="110" y="1381"/>
                  </a:lnTo>
                  <a:lnTo>
                    <a:pt x="52" y="1116"/>
                  </a:lnTo>
                  <a:lnTo>
                    <a:pt x="35" y="926"/>
                  </a:lnTo>
                  <a:lnTo>
                    <a:pt x="52" y="723"/>
                  </a:lnTo>
                  <a:lnTo>
                    <a:pt x="97" y="520"/>
                  </a:lnTo>
                  <a:lnTo>
                    <a:pt x="195" y="326"/>
                  </a:lnTo>
                  <a:lnTo>
                    <a:pt x="110" y="242"/>
                  </a:lnTo>
                  <a:lnTo>
                    <a:pt x="97" y="101"/>
                  </a:lnTo>
                  <a:lnTo>
                    <a:pt x="181" y="2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53" name=""/>
            <p:cNvSpPr/>
            <p:nvPr/>
          </p:nvSpPr>
          <p:spPr>
            <a:xfrm>
              <a:off x="8292960" y="372960"/>
              <a:ext cx="262440" cy="357480"/>
            </a:xfrm>
            <a:custGeom>
              <a:avLst/>
              <a:gdLst/>
              <a:ahLst/>
              <a:rect l="0" t="0" r="r" b="b"/>
              <a:pathLst>
                <a:path w="729" h="993">
                  <a:moveTo>
                    <a:pt x="123" y="255"/>
                  </a:moveTo>
                  <a:lnTo>
                    <a:pt x="225" y="233"/>
                  </a:lnTo>
                  <a:lnTo>
                    <a:pt x="331" y="238"/>
                  </a:lnTo>
                  <a:lnTo>
                    <a:pt x="415" y="282"/>
                  </a:lnTo>
                  <a:lnTo>
                    <a:pt x="464" y="335"/>
                  </a:lnTo>
                  <a:lnTo>
                    <a:pt x="490" y="388"/>
                  </a:lnTo>
                  <a:lnTo>
                    <a:pt x="490" y="436"/>
                  </a:lnTo>
                  <a:lnTo>
                    <a:pt x="459" y="467"/>
                  </a:lnTo>
                  <a:lnTo>
                    <a:pt x="415" y="499"/>
                  </a:lnTo>
                  <a:lnTo>
                    <a:pt x="358" y="499"/>
                  </a:lnTo>
                  <a:lnTo>
                    <a:pt x="296" y="485"/>
                  </a:lnTo>
                  <a:lnTo>
                    <a:pt x="230" y="440"/>
                  </a:lnTo>
                  <a:lnTo>
                    <a:pt x="180" y="401"/>
                  </a:lnTo>
                  <a:lnTo>
                    <a:pt x="163" y="534"/>
                  </a:lnTo>
                  <a:lnTo>
                    <a:pt x="123" y="622"/>
                  </a:lnTo>
                  <a:lnTo>
                    <a:pt x="0" y="830"/>
                  </a:lnTo>
                  <a:lnTo>
                    <a:pt x="176" y="993"/>
                  </a:lnTo>
                  <a:lnTo>
                    <a:pt x="314" y="724"/>
                  </a:lnTo>
                  <a:lnTo>
                    <a:pt x="459" y="746"/>
                  </a:lnTo>
                  <a:lnTo>
                    <a:pt x="557" y="728"/>
                  </a:lnTo>
                  <a:lnTo>
                    <a:pt x="645" y="666"/>
                  </a:lnTo>
                  <a:lnTo>
                    <a:pt x="698" y="591"/>
                  </a:lnTo>
                  <a:lnTo>
                    <a:pt x="729" y="489"/>
                  </a:lnTo>
                  <a:lnTo>
                    <a:pt x="729" y="379"/>
                  </a:lnTo>
                  <a:lnTo>
                    <a:pt x="698" y="264"/>
                  </a:lnTo>
                  <a:lnTo>
                    <a:pt x="641" y="154"/>
                  </a:lnTo>
                  <a:lnTo>
                    <a:pt x="566" y="70"/>
                  </a:lnTo>
                  <a:lnTo>
                    <a:pt x="472" y="22"/>
                  </a:lnTo>
                  <a:lnTo>
                    <a:pt x="375" y="0"/>
                  </a:lnTo>
                  <a:lnTo>
                    <a:pt x="239" y="0"/>
                  </a:lnTo>
                  <a:lnTo>
                    <a:pt x="97" y="30"/>
                  </a:lnTo>
                  <a:lnTo>
                    <a:pt x="123" y="255"/>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8244000" y="720720"/>
              <a:ext cx="95760" cy="70200"/>
            </a:xfrm>
            <a:custGeom>
              <a:avLst/>
              <a:gdLst/>
              <a:ahLst/>
              <a:rect l="0" t="0" r="r" b="b"/>
              <a:pathLst>
                <a:path w="266" h="195">
                  <a:moveTo>
                    <a:pt x="106" y="0"/>
                  </a:moveTo>
                  <a:lnTo>
                    <a:pt x="39" y="0"/>
                  </a:lnTo>
                  <a:lnTo>
                    <a:pt x="0" y="26"/>
                  </a:lnTo>
                  <a:lnTo>
                    <a:pt x="0" y="98"/>
                  </a:lnTo>
                  <a:lnTo>
                    <a:pt x="52" y="164"/>
                  </a:lnTo>
                  <a:lnTo>
                    <a:pt x="159" y="195"/>
                  </a:lnTo>
                  <a:lnTo>
                    <a:pt x="240" y="190"/>
                  </a:lnTo>
                  <a:lnTo>
                    <a:pt x="266" y="146"/>
                  </a:lnTo>
                  <a:lnTo>
                    <a:pt x="253" y="106"/>
                  </a:lnTo>
                  <a:lnTo>
                    <a:pt x="218" y="48"/>
                  </a:lnTo>
                  <a:lnTo>
                    <a:pt x="150" y="8"/>
                  </a:lnTo>
                  <a:lnTo>
                    <a:pt x="106" y="0"/>
                  </a:lnTo>
                  <a:close/>
                </a:path>
              </a:pathLst>
            </a:custGeom>
            <a:solidFill>
              <a:srgbClr val="fc0128"/>
            </a:solidFill>
            <a:ln w="12600">
              <a:solidFill>
                <a:srgbClr val="000000"/>
              </a:solidFill>
              <a:round/>
            </a:ln>
          </p:spPr>
          <p:txBody>
            <a:bodyPr lIns="96120" rIns="96120" tIns="19080" bIns="190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55" name=""/>
          <p:cNvSpPr txBox="1"/>
          <p:nvPr/>
        </p:nvSpPr>
        <p:spPr>
          <a:xfrm>
            <a:off x="762120" y="609480"/>
            <a:ext cx="7958160" cy="18288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Merchandising Income Statement</a:t>
            </a:r>
            <a:endParaRPr b="0" lang="en-US" sz="4400" spc="-1" strike="noStrike">
              <a:solidFill>
                <a:srgbClr val="ffffff"/>
              </a:solidFill>
              <a:latin typeface="Arial"/>
            </a:endParaRPr>
          </a:p>
        </p:txBody>
      </p:sp>
      <p:sp>
        <p:nvSpPr>
          <p:cNvPr id="156" name=""/>
          <p:cNvSpPr txBox="1"/>
          <p:nvPr/>
        </p:nvSpPr>
        <p:spPr>
          <a:xfrm>
            <a:off x="1295280" y="2514600"/>
            <a:ext cx="7391520" cy="332892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
            </a:pPr>
            <a:r>
              <a:rPr b="1" lang="en-US" sz="3600" spc="-1" strike="noStrike">
                <a:solidFill>
                  <a:srgbClr val="fcffd8"/>
                </a:solidFill>
                <a:latin typeface="Arial"/>
                <a:ea typeface="Arial"/>
              </a:rPr>
              <a:t>OBJECTIVE 2</a:t>
            </a:r>
            <a:endParaRPr b="0" lang="en-US" sz="3600" spc="-1" strike="noStrike">
              <a:solidFill>
                <a:srgbClr val="ffffff"/>
              </a:solidFill>
              <a:latin typeface="Arial"/>
            </a:endParaRPr>
          </a:p>
          <a:p>
            <a:pPr marL="343080" indent="-343080">
              <a:lnSpc>
                <a:spcPct val="100000"/>
              </a:lnSpc>
              <a:spcBef>
                <a:spcPts val="479"/>
              </a:spcBef>
              <a:buClr>
                <a:srgbClr val="ffcc66"/>
              </a:buClr>
              <a:buFont typeface="Monotype Sorts"/>
              <a:buChar char=" "/>
            </a:pPr>
            <a:r>
              <a:rPr b="1" lang="en-US" sz="3200" spc="-1" strike="noStrike">
                <a:solidFill>
                  <a:srgbClr val="fcffd8"/>
                </a:solidFill>
                <a:latin typeface="Arial"/>
                <a:ea typeface="Arial"/>
              </a:rPr>
              <a:t>Compare the income statements for service and merchandising concerns, and define the components of the merchandising income statement.</a:t>
            </a:r>
            <a:endParaRPr b="0" lang="en-US" sz="3200" spc="-1" strike="noStrike">
              <a:solidFill>
                <a:srgbClr val="ffffff"/>
              </a:solidFill>
              <a:latin typeface="Arial"/>
            </a:endParaRPr>
          </a:p>
        </p:txBody>
      </p:sp>
      <p:pic>
        <p:nvPicPr>
          <p:cNvPr id="157" name="" descr=""/>
          <p:cNvPicPr/>
          <p:nvPr/>
        </p:nvPicPr>
        <p:blipFill>
          <a:blip r:embed="rId1"/>
          <a:stretch/>
        </p:blipFill>
        <p:spPr>
          <a:xfrm>
            <a:off x="0" y="0"/>
            <a:ext cx="812880" cy="6985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58" name=""/>
          <p:cNvSpPr txBox="1"/>
          <p:nvPr/>
        </p:nvSpPr>
        <p:spPr>
          <a:xfrm>
            <a:off x="914400" y="304920"/>
            <a:ext cx="777240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Merchandising Income Statement</a:t>
            </a:r>
            <a:endParaRPr b="0" lang="en-US" sz="4400" spc="-1" strike="noStrike">
              <a:solidFill>
                <a:srgbClr val="ffffff"/>
              </a:solidFill>
              <a:latin typeface="Arial"/>
            </a:endParaRPr>
          </a:p>
        </p:txBody>
      </p:sp>
      <p:sp>
        <p:nvSpPr>
          <p:cNvPr id="159" name=""/>
          <p:cNvSpPr txBox="1"/>
          <p:nvPr/>
        </p:nvSpPr>
        <p:spPr>
          <a:xfrm>
            <a:off x="914400" y="1828800"/>
            <a:ext cx="7924680" cy="43434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ncome statement consists of three major parts.</a:t>
            </a:r>
            <a:endParaRPr b="0" lang="en-US" sz="3200" spc="-1" strike="noStrike">
              <a:solidFill>
                <a:srgbClr val="ffffff"/>
              </a:solidFill>
              <a:latin typeface="Arial"/>
            </a:endParaRPr>
          </a:p>
          <a:p>
            <a:pPr marL="743040" indent="-285840">
              <a:lnSpc>
                <a:spcPct val="110000"/>
              </a:lnSpc>
              <a:spcBef>
                <a:spcPts val="479"/>
              </a:spcBef>
            </a:pPr>
            <a:r>
              <a:rPr b="1" lang="en-US" sz="3200" spc="-1" strike="noStrike">
                <a:solidFill>
                  <a:srgbClr val="fcffd8"/>
                </a:solidFill>
                <a:latin typeface="Arial"/>
                <a:ea typeface="Arial"/>
              </a:rPr>
              <a:t>1. Net sales.</a:t>
            </a:r>
            <a:endParaRPr b="0" lang="en-US" sz="3200" spc="-1" strike="noStrike">
              <a:solidFill>
                <a:srgbClr val="ffffff"/>
              </a:solidFill>
              <a:latin typeface="Arial"/>
            </a:endParaRPr>
          </a:p>
          <a:p>
            <a:pPr marL="743040" indent="-285840">
              <a:lnSpc>
                <a:spcPct val="110000"/>
              </a:lnSpc>
              <a:spcBef>
                <a:spcPts val="479"/>
              </a:spcBef>
            </a:pPr>
            <a:r>
              <a:rPr b="1" lang="en-US" sz="3200" spc="-1" strike="noStrike">
                <a:solidFill>
                  <a:srgbClr val="fcffd8"/>
                </a:solidFill>
                <a:latin typeface="Arial"/>
                <a:ea typeface="Arial"/>
              </a:rPr>
              <a:t>2. Cost of goods sold.</a:t>
            </a:r>
            <a:endParaRPr b="0" lang="en-US" sz="3200" spc="-1" strike="noStrike">
              <a:solidFill>
                <a:srgbClr val="ffffff"/>
              </a:solidFill>
              <a:latin typeface="Arial"/>
            </a:endParaRPr>
          </a:p>
          <a:p>
            <a:pPr marL="743040" indent="-285840">
              <a:lnSpc>
                <a:spcPct val="110000"/>
              </a:lnSpc>
              <a:spcBef>
                <a:spcPts val="479"/>
              </a:spcBef>
            </a:pPr>
            <a:r>
              <a:rPr b="1" lang="en-US" sz="3200" spc="-1" strike="noStrike">
                <a:solidFill>
                  <a:srgbClr val="fcffd8"/>
                </a:solidFill>
                <a:latin typeface="Arial"/>
                <a:ea typeface="Arial"/>
              </a:rPr>
              <a:t>3. Operating expenses.</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Gross margin represents net sales minus cost of goods sol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60" name=""/>
          <p:cNvSpPr txBox="1"/>
          <p:nvPr/>
        </p:nvSpPr>
        <p:spPr>
          <a:xfrm>
            <a:off x="990720" y="380880"/>
            <a:ext cx="7696080" cy="9907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Net Sales</a:t>
            </a:r>
            <a:endParaRPr b="0" lang="en-US" sz="4400" spc="-1" strike="noStrike">
              <a:solidFill>
                <a:srgbClr val="ffffff"/>
              </a:solidFill>
              <a:latin typeface="Arial"/>
            </a:endParaRPr>
          </a:p>
        </p:txBody>
      </p:sp>
      <p:sp>
        <p:nvSpPr>
          <p:cNvPr id="161" name=""/>
          <p:cNvSpPr txBox="1"/>
          <p:nvPr/>
        </p:nvSpPr>
        <p:spPr>
          <a:xfrm>
            <a:off x="762120" y="1219320"/>
            <a:ext cx="8305920" cy="50292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Net Sales consists of gross sales less sales returns and allowances.</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Gross sales is the total cash and credit sales occurring during the period.</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Sales returns and allowances is a contra-revenue account used to accumulate cash refunds, credits on account, and allowances to customers for defective merchandis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62" name=""/>
          <p:cNvSpPr txBox="1"/>
          <p:nvPr/>
        </p:nvSpPr>
        <p:spPr>
          <a:xfrm>
            <a:off x="990720" y="228600"/>
            <a:ext cx="7696080" cy="9144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ost of Goods Sold</a:t>
            </a:r>
            <a:endParaRPr b="0" lang="en-US" sz="4400" spc="-1" strike="noStrike">
              <a:solidFill>
                <a:srgbClr val="ffffff"/>
              </a:solidFill>
              <a:latin typeface="Arial"/>
            </a:endParaRPr>
          </a:p>
        </p:txBody>
      </p:sp>
      <p:sp>
        <p:nvSpPr>
          <p:cNvPr id="163" name=""/>
          <p:cNvSpPr txBox="1"/>
          <p:nvPr/>
        </p:nvSpPr>
        <p:spPr>
          <a:xfrm>
            <a:off x="914400" y="1066680"/>
            <a:ext cx="7924680" cy="52578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Cost of goods sold (COGS) is the amount a merchant paid for the merchandise sold during the period.</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Calculating COGS.</a:t>
            </a:r>
            <a:endParaRPr b="0" lang="en-US" sz="3200" spc="-1" strike="noStrike">
              <a:solidFill>
                <a:srgbClr val="ffffff"/>
              </a:solidFill>
              <a:latin typeface="Arial"/>
            </a:endParaRPr>
          </a:p>
          <a:p>
            <a:pPr marL="1143000" indent="-228600">
              <a:lnSpc>
                <a:spcPct val="110000"/>
              </a:lnSpc>
              <a:spcBef>
                <a:spcPts val="479"/>
              </a:spcBef>
            </a:pPr>
            <a:r>
              <a:rPr b="1" lang="en-US" sz="2400" spc="-1" strike="noStrike">
                <a:solidFill>
                  <a:srgbClr val="fcffd8"/>
                </a:solidFill>
                <a:latin typeface="Arial"/>
                <a:ea typeface="Arial"/>
              </a:rPr>
              <a:t>   </a:t>
            </a:r>
            <a:r>
              <a:rPr b="1" lang="en-US" sz="2800" spc="-1" strike="noStrike">
                <a:solidFill>
                  <a:srgbClr val="fcfeb9"/>
                </a:solidFill>
                <a:latin typeface="Arial"/>
                <a:ea typeface="Arial"/>
              </a:rPr>
              <a:t>Beginning inventory</a:t>
            </a:r>
            <a:endParaRPr b="0" lang="en-US" sz="2800" spc="-1" strike="noStrike">
              <a:solidFill>
                <a:srgbClr val="ffffff"/>
              </a:solidFill>
              <a:latin typeface="Arial"/>
            </a:endParaRPr>
          </a:p>
          <a:p>
            <a:pPr marL="1143000" indent="-228600">
              <a:lnSpc>
                <a:spcPct val="110000"/>
              </a:lnSpc>
              <a:spcBef>
                <a:spcPts val="479"/>
              </a:spcBef>
            </a:pPr>
            <a:r>
              <a:rPr b="1" lang="en-US" sz="2800" spc="-1" strike="noStrike">
                <a:solidFill>
                  <a:srgbClr val="fcfeb9"/>
                </a:solidFill>
                <a:latin typeface="Arial"/>
                <a:ea typeface="Arial"/>
              </a:rPr>
              <a:t>+ Net cost of purchases</a:t>
            </a:r>
            <a:endParaRPr b="0" lang="en-US" sz="2800" spc="-1" strike="noStrike">
              <a:solidFill>
                <a:srgbClr val="ffffff"/>
              </a:solidFill>
              <a:latin typeface="Arial"/>
            </a:endParaRPr>
          </a:p>
          <a:p>
            <a:pPr marL="1143000" indent="-228600">
              <a:lnSpc>
                <a:spcPct val="110000"/>
              </a:lnSpc>
              <a:spcBef>
                <a:spcPts val="479"/>
              </a:spcBef>
            </a:pPr>
            <a:r>
              <a:rPr b="1" lang="en-US" sz="2800" spc="-1" strike="noStrike">
                <a:solidFill>
                  <a:srgbClr val="fcfeb9"/>
                </a:solidFill>
                <a:latin typeface="Arial"/>
                <a:ea typeface="Arial"/>
              </a:rPr>
              <a:t>= Cost of goods available for sale</a:t>
            </a:r>
            <a:endParaRPr b="0" lang="en-US" sz="2800" spc="-1" strike="noStrike">
              <a:solidFill>
                <a:srgbClr val="ffffff"/>
              </a:solidFill>
              <a:latin typeface="Arial"/>
            </a:endParaRPr>
          </a:p>
          <a:p>
            <a:pPr marL="1143000" indent="-228600">
              <a:lnSpc>
                <a:spcPct val="110000"/>
              </a:lnSpc>
              <a:spcBef>
                <a:spcPts val="479"/>
              </a:spcBef>
            </a:pPr>
            <a:r>
              <a:rPr b="1" lang="en-US" sz="2800" spc="-1" strike="noStrike">
                <a:solidFill>
                  <a:srgbClr val="fcfeb9"/>
                </a:solidFill>
                <a:latin typeface="Arial"/>
                <a:ea typeface="Arial"/>
              </a:rPr>
              <a:t>-  Ending inventory</a:t>
            </a:r>
            <a:endParaRPr b="0" lang="en-US" sz="2800" spc="-1" strike="noStrike">
              <a:solidFill>
                <a:srgbClr val="ffffff"/>
              </a:solidFill>
              <a:latin typeface="Arial"/>
            </a:endParaRPr>
          </a:p>
          <a:p>
            <a:pPr marL="1143000" indent="-228600">
              <a:lnSpc>
                <a:spcPct val="110000"/>
              </a:lnSpc>
              <a:spcBef>
                <a:spcPts val="479"/>
              </a:spcBef>
            </a:pPr>
            <a:r>
              <a:rPr b="1" lang="en-US" sz="2800" spc="-1" strike="noStrike">
                <a:solidFill>
                  <a:srgbClr val="fcfeb9"/>
                </a:solidFill>
                <a:latin typeface="Arial"/>
                <a:ea typeface="Arial"/>
              </a:rPr>
              <a:t>= Cost of goods sol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64" name=""/>
          <p:cNvSpPr txBox="1"/>
          <p:nvPr/>
        </p:nvSpPr>
        <p:spPr>
          <a:xfrm>
            <a:off x="1066680" y="380880"/>
            <a:ext cx="7620120" cy="1295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ost of Goods Sold</a:t>
            </a:r>
            <a:endParaRPr b="0" lang="en-US" sz="4400" spc="-1" strike="noStrike">
              <a:solidFill>
                <a:srgbClr val="ffffff"/>
              </a:solidFill>
              <a:latin typeface="Arial"/>
            </a:endParaRPr>
          </a:p>
        </p:txBody>
      </p:sp>
      <p:sp>
        <p:nvSpPr>
          <p:cNvPr id="165" name=""/>
          <p:cNvSpPr txBox="1"/>
          <p:nvPr/>
        </p:nvSpPr>
        <p:spPr>
          <a:xfrm>
            <a:off x="838080" y="1523880"/>
            <a:ext cx="8001000" cy="46483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Net cost of purchases consists of net purchases plus any freight charges (transportation in) on the purchases.  </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Net purchases equals total purchases less any deductions, such as purchase returns and allowances and any discounts allowed by suppliers for early payment (discoun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5" name=""/>
          <p:cNvSpPr txBox="1"/>
          <p:nvPr/>
        </p:nvSpPr>
        <p:spPr>
          <a:xfrm>
            <a:off x="1143000" y="1295280"/>
            <a:ext cx="7391520" cy="4481640"/>
          </a:xfrm>
          <a:prstGeom prst="rect">
            <a:avLst/>
          </a:prstGeom>
          <a:noFill/>
          <a:ln w="0">
            <a:noFill/>
          </a:ln>
        </p:spPr>
        <p:txBody>
          <a:bodyPr lIns="0" rIns="0" tIns="0" bIns="0" anchor="t">
            <a:noAutofit/>
          </a:bodyPr>
          <a:p>
            <a:pPr marL="458640" indent="-458640">
              <a:lnSpc>
                <a:spcPct val="110000"/>
              </a:lnSpc>
              <a:spcBef>
                <a:spcPts val="479"/>
              </a:spcBef>
            </a:pPr>
            <a:r>
              <a:rPr b="1" lang="en-US" sz="2800" spc="-1" strike="noStrike">
                <a:solidFill>
                  <a:srgbClr val="fcffd8"/>
                </a:solidFill>
                <a:latin typeface="Arial"/>
                <a:ea typeface="Arial"/>
              </a:rPr>
              <a:t>1.</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Identify the management issues related to merchandising businesses.</a:t>
            </a:r>
            <a:endParaRPr b="0" lang="en-US" sz="2800" spc="-1" strike="noStrike">
              <a:solidFill>
                <a:srgbClr val="ffffff"/>
              </a:solidFill>
              <a:latin typeface="Arial"/>
            </a:endParaRPr>
          </a:p>
          <a:p>
            <a:pPr marL="458640" indent="-458640">
              <a:lnSpc>
                <a:spcPct val="110000"/>
              </a:lnSpc>
              <a:spcBef>
                <a:spcPts val="479"/>
              </a:spcBef>
            </a:pPr>
            <a:r>
              <a:rPr b="1" lang="en-US" sz="2800" spc="-1" strike="noStrike">
                <a:solidFill>
                  <a:srgbClr val="fcffd8"/>
                </a:solidFill>
                <a:latin typeface="Arial"/>
                <a:ea typeface="Arial"/>
              </a:rPr>
              <a:t>2.</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Compare the income statements for service and merchandising concerns, and define the components of the merchandising income statement.</a:t>
            </a:r>
            <a:endParaRPr b="0" lang="en-US" sz="2800" spc="-1" strike="noStrike">
              <a:solidFill>
                <a:srgbClr val="ffffff"/>
              </a:solidFill>
              <a:latin typeface="Arial"/>
            </a:endParaRPr>
          </a:p>
          <a:p>
            <a:pPr marL="458640" indent="-458640">
              <a:lnSpc>
                <a:spcPct val="110000"/>
              </a:lnSpc>
              <a:spcBef>
                <a:spcPts val="479"/>
              </a:spcBef>
            </a:pPr>
            <a:r>
              <a:rPr b="1" lang="en-US" sz="2800" spc="-1" strike="noStrike">
                <a:solidFill>
                  <a:srgbClr val="fcffd8"/>
                </a:solidFill>
                <a:latin typeface="Arial"/>
                <a:ea typeface="Arial"/>
              </a:rPr>
              <a:t>3.</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Distinguish between the periodic and the perpetual inventory systems, and explain the importance of taking a physical inventory.</a:t>
            </a:r>
            <a:endParaRPr b="0" lang="en-US" sz="2800" spc="-1" strike="noStrike">
              <a:solidFill>
                <a:srgbClr val="ffffff"/>
              </a:solidFill>
              <a:latin typeface="Arial"/>
            </a:endParaRPr>
          </a:p>
        </p:txBody>
      </p:sp>
      <p:pic>
        <p:nvPicPr>
          <p:cNvPr id="46" name="" descr=""/>
          <p:cNvPicPr/>
          <p:nvPr/>
        </p:nvPicPr>
        <p:blipFill>
          <a:blip r:embed="rId1"/>
          <a:stretch/>
        </p:blipFill>
        <p:spPr>
          <a:xfrm>
            <a:off x="0" y="0"/>
            <a:ext cx="812880" cy="6985080"/>
          </a:xfrm>
          <a:prstGeom prst="rect">
            <a:avLst/>
          </a:prstGeom>
          <a:ln w="0">
            <a:noFill/>
          </a:ln>
        </p:spPr>
      </p:pic>
      <p:sp>
        <p:nvSpPr>
          <p:cNvPr id="47" name=""/>
          <p:cNvSpPr txBox="1"/>
          <p:nvPr/>
        </p:nvSpPr>
        <p:spPr>
          <a:xfrm>
            <a:off x="1066680" y="228600"/>
            <a:ext cx="7620120" cy="1219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LEARNING OBJECTIVE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66" name=""/>
          <p:cNvSpPr txBox="1"/>
          <p:nvPr/>
        </p:nvSpPr>
        <p:spPr>
          <a:xfrm>
            <a:off x="304920" y="109440"/>
            <a:ext cx="9064800" cy="576360"/>
          </a:xfrm>
          <a:prstGeom prst="rect">
            <a:avLst/>
          </a:prstGeom>
          <a:noFill/>
          <a:ln w="0">
            <a:noFill/>
          </a:ln>
        </p:spPr>
        <p:txBody>
          <a:bodyPr lIns="0" rIns="0" tIns="0" bIns="0" anchor="t">
            <a:noAutofit/>
          </a:bodyPr>
          <a:p>
            <a:pPr algn="ctr">
              <a:lnSpc>
                <a:spcPct val="100000"/>
              </a:lnSpc>
            </a:pPr>
            <a:r>
              <a:rPr b="1" lang="en-US" sz="3200" spc="-1" strike="noStrike">
                <a:solidFill>
                  <a:srgbClr val="ffcc66"/>
                </a:solidFill>
                <a:latin typeface="Arial"/>
                <a:ea typeface="Arial"/>
              </a:rPr>
              <a:t>The Components of Cost of Goods Sold</a:t>
            </a:r>
            <a:endParaRPr b="0" lang="en-US" sz="3200" spc="-1" strike="noStrike">
              <a:solidFill>
                <a:srgbClr val="ffffff"/>
              </a:solidFill>
              <a:latin typeface="Arial"/>
            </a:endParaRPr>
          </a:p>
        </p:txBody>
      </p:sp>
      <p:grpSp>
        <p:nvGrpSpPr>
          <p:cNvPr id="167" name=""/>
          <p:cNvGrpSpPr/>
          <p:nvPr/>
        </p:nvGrpSpPr>
        <p:grpSpPr>
          <a:xfrm>
            <a:off x="704880" y="685800"/>
            <a:ext cx="8193240" cy="5645160"/>
            <a:chOff x="704880" y="685800"/>
            <a:chExt cx="8193240" cy="5645160"/>
          </a:xfrm>
        </p:grpSpPr>
        <p:sp>
          <p:nvSpPr>
            <p:cNvPr id="168" name=""/>
            <p:cNvSpPr/>
            <p:nvPr/>
          </p:nvSpPr>
          <p:spPr>
            <a:xfrm>
              <a:off x="704880" y="685800"/>
              <a:ext cx="8140680" cy="56451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2471760" y="5159520"/>
              <a:ext cx="141480" cy="141480"/>
            </a:xfrm>
            <a:custGeom>
              <a:avLst/>
              <a:gdLst/>
              <a:ahLst/>
              <a:rect l="0" t="0" r="r" b="b"/>
              <a:pathLst>
                <a:path fill="none" w="393" h="393">
                  <a:moveTo>
                    <a:pt x="0" y="393"/>
                  </a:moveTo>
                  <a:lnTo>
                    <a:pt x="39" y="393"/>
                  </a:lnTo>
                  <a:lnTo>
                    <a:pt x="79" y="384"/>
                  </a:lnTo>
                  <a:lnTo>
                    <a:pt x="110" y="375"/>
                  </a:lnTo>
                  <a:lnTo>
                    <a:pt x="145" y="367"/>
                  </a:lnTo>
                  <a:lnTo>
                    <a:pt x="189" y="349"/>
                  </a:lnTo>
                  <a:lnTo>
                    <a:pt x="212" y="327"/>
                  </a:lnTo>
                  <a:lnTo>
                    <a:pt x="243" y="296"/>
                  </a:lnTo>
                  <a:lnTo>
                    <a:pt x="269" y="278"/>
                  </a:lnTo>
                  <a:lnTo>
                    <a:pt x="296" y="247"/>
                  </a:lnTo>
                  <a:lnTo>
                    <a:pt x="318" y="208"/>
                  </a:lnTo>
                  <a:lnTo>
                    <a:pt x="331" y="185"/>
                  </a:lnTo>
                  <a:lnTo>
                    <a:pt x="349" y="154"/>
                  </a:lnTo>
                  <a:lnTo>
                    <a:pt x="362" y="114"/>
                  </a:lnTo>
                  <a:lnTo>
                    <a:pt x="371" y="74"/>
                  </a:lnTo>
                  <a:lnTo>
                    <a:pt x="384" y="39"/>
                  </a:lnTo>
                  <a:lnTo>
                    <a:pt x="393" y="0"/>
                  </a:lnTo>
                </a:path>
              </a:pathLst>
            </a:custGeom>
            <a:ln w="12600">
              <a:solidFill>
                <a:srgbClr val="ff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170" name=""/>
            <p:cNvSpPr/>
            <p:nvPr/>
          </p:nvSpPr>
          <p:spPr>
            <a:xfrm flipV="1">
              <a:off x="2612880" y="3382920"/>
              <a:ext cx="0" cy="1797120"/>
            </a:xfrm>
            <a:prstGeom prst="line">
              <a:avLst/>
            </a:prstGeom>
            <a:ln w="12600">
              <a:solidFill>
                <a:srgbClr val="ff00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1" name=""/>
            <p:cNvSpPr/>
            <p:nvPr/>
          </p:nvSpPr>
          <p:spPr>
            <a:xfrm>
              <a:off x="2612880" y="3301920"/>
              <a:ext cx="90720" cy="93960"/>
            </a:xfrm>
            <a:custGeom>
              <a:avLst/>
              <a:gdLst/>
              <a:ahLst/>
              <a:rect l="0" t="0" r="r" b="b"/>
              <a:pathLst>
                <a:path fill="none" w="252" h="261">
                  <a:moveTo>
                    <a:pt x="0" y="261"/>
                  </a:moveTo>
                  <a:lnTo>
                    <a:pt x="0" y="234"/>
                  </a:lnTo>
                  <a:lnTo>
                    <a:pt x="0" y="217"/>
                  </a:lnTo>
                  <a:lnTo>
                    <a:pt x="8" y="186"/>
                  </a:lnTo>
                  <a:lnTo>
                    <a:pt x="8" y="155"/>
                  </a:lnTo>
                  <a:lnTo>
                    <a:pt x="17" y="137"/>
                  </a:lnTo>
                  <a:lnTo>
                    <a:pt x="35" y="114"/>
                  </a:lnTo>
                  <a:lnTo>
                    <a:pt x="48" y="97"/>
                  </a:lnTo>
                  <a:lnTo>
                    <a:pt x="66" y="74"/>
                  </a:lnTo>
                  <a:lnTo>
                    <a:pt x="79" y="57"/>
                  </a:lnTo>
                  <a:lnTo>
                    <a:pt x="101" y="39"/>
                  </a:lnTo>
                  <a:lnTo>
                    <a:pt x="128" y="30"/>
                  </a:lnTo>
                  <a:lnTo>
                    <a:pt x="146" y="13"/>
                  </a:lnTo>
                  <a:lnTo>
                    <a:pt x="168" y="13"/>
                  </a:lnTo>
                  <a:lnTo>
                    <a:pt x="195" y="0"/>
                  </a:lnTo>
                  <a:lnTo>
                    <a:pt x="221" y="0"/>
                  </a:lnTo>
                  <a:lnTo>
                    <a:pt x="252" y="0"/>
                  </a:lnTo>
                </a:path>
              </a:pathLst>
            </a:custGeom>
            <a:ln w="12600">
              <a:solidFill>
                <a:srgbClr val="ff00ff"/>
              </a:solidFill>
              <a:round/>
            </a:ln>
          </p:spPr>
          <p:txBody>
            <a:bodyPr lIns="96120" rIns="96120" tIns="42840" bIns="42840" anchor="t">
              <a:noAutofit/>
            </a:bodyPr>
            <a:p>
              <a:endParaRPr b="0" lang="en-US" sz="1800" spc="-1" strike="noStrike">
                <a:solidFill>
                  <a:srgbClr val="ffffff"/>
                </a:solidFill>
                <a:latin typeface="Arial"/>
              </a:endParaRPr>
            </a:p>
          </p:txBody>
        </p:sp>
        <p:sp>
          <p:nvSpPr>
            <p:cNvPr id="172" name=""/>
            <p:cNvSpPr/>
            <p:nvPr/>
          </p:nvSpPr>
          <p:spPr>
            <a:xfrm>
              <a:off x="2612880" y="3201840"/>
              <a:ext cx="90720" cy="100440"/>
            </a:xfrm>
            <a:custGeom>
              <a:avLst/>
              <a:gdLst/>
              <a:ahLst/>
              <a:rect l="0" t="0" r="r" b="b"/>
              <a:pathLst>
                <a:path fill="none" w="252" h="279">
                  <a:moveTo>
                    <a:pt x="252" y="279"/>
                  </a:moveTo>
                  <a:lnTo>
                    <a:pt x="221" y="270"/>
                  </a:lnTo>
                  <a:lnTo>
                    <a:pt x="195" y="270"/>
                  </a:lnTo>
                  <a:lnTo>
                    <a:pt x="168" y="262"/>
                  </a:lnTo>
                  <a:lnTo>
                    <a:pt x="146" y="253"/>
                  </a:lnTo>
                  <a:lnTo>
                    <a:pt x="128" y="240"/>
                  </a:lnTo>
                  <a:lnTo>
                    <a:pt x="101" y="231"/>
                  </a:lnTo>
                  <a:lnTo>
                    <a:pt x="79" y="213"/>
                  </a:lnTo>
                  <a:lnTo>
                    <a:pt x="66" y="190"/>
                  </a:lnTo>
                  <a:lnTo>
                    <a:pt x="48" y="172"/>
                  </a:lnTo>
                  <a:lnTo>
                    <a:pt x="35" y="150"/>
                  </a:lnTo>
                  <a:lnTo>
                    <a:pt x="17" y="128"/>
                  </a:lnTo>
                  <a:lnTo>
                    <a:pt x="8" y="106"/>
                  </a:lnTo>
                  <a:lnTo>
                    <a:pt x="8" y="80"/>
                  </a:lnTo>
                  <a:lnTo>
                    <a:pt x="0" y="48"/>
                  </a:lnTo>
                  <a:lnTo>
                    <a:pt x="0" y="17"/>
                  </a:lnTo>
                  <a:lnTo>
                    <a:pt x="0" y="0"/>
                  </a:lnTo>
                </a:path>
              </a:pathLst>
            </a:custGeom>
            <a:ln w="12600">
              <a:solidFill>
                <a:srgbClr val="ff00ff"/>
              </a:solidFill>
              <a:round/>
            </a:ln>
          </p:spPr>
          <p:txBody>
            <a:bodyPr lIns="96120" rIns="96120" tIns="49320" bIns="49320" anchor="t">
              <a:noAutofit/>
            </a:bodyPr>
            <a:p>
              <a:endParaRPr b="0" lang="en-US" sz="1800" spc="-1" strike="noStrike">
                <a:solidFill>
                  <a:srgbClr val="ffffff"/>
                </a:solidFill>
                <a:latin typeface="Arial"/>
              </a:endParaRPr>
            </a:p>
          </p:txBody>
        </p:sp>
        <p:sp>
          <p:nvSpPr>
            <p:cNvPr id="173" name=""/>
            <p:cNvSpPr/>
            <p:nvPr/>
          </p:nvSpPr>
          <p:spPr>
            <a:xfrm flipV="1">
              <a:off x="2612880" y="1432080"/>
              <a:ext cx="0" cy="1792080"/>
            </a:xfrm>
            <a:prstGeom prst="line">
              <a:avLst/>
            </a:prstGeom>
            <a:ln w="12600">
              <a:solidFill>
                <a:srgbClr val="ff00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4" name=""/>
            <p:cNvSpPr/>
            <p:nvPr/>
          </p:nvSpPr>
          <p:spPr>
            <a:xfrm>
              <a:off x="2471760" y="1298520"/>
              <a:ext cx="141480" cy="144720"/>
            </a:xfrm>
            <a:custGeom>
              <a:avLst/>
              <a:gdLst/>
              <a:ahLst/>
              <a:rect l="0" t="0" r="r" b="b"/>
              <a:pathLst>
                <a:path fill="none" w="393" h="402">
                  <a:moveTo>
                    <a:pt x="393" y="402"/>
                  </a:moveTo>
                  <a:lnTo>
                    <a:pt x="384" y="353"/>
                  </a:lnTo>
                  <a:lnTo>
                    <a:pt x="371" y="314"/>
                  </a:lnTo>
                  <a:lnTo>
                    <a:pt x="362" y="274"/>
                  </a:lnTo>
                  <a:lnTo>
                    <a:pt x="349" y="247"/>
                  </a:lnTo>
                  <a:lnTo>
                    <a:pt x="331" y="208"/>
                  </a:lnTo>
                  <a:lnTo>
                    <a:pt x="318" y="171"/>
                  </a:lnTo>
                  <a:lnTo>
                    <a:pt x="296" y="145"/>
                  </a:lnTo>
                  <a:lnTo>
                    <a:pt x="269" y="114"/>
                  </a:lnTo>
                  <a:lnTo>
                    <a:pt x="243" y="83"/>
                  </a:lnTo>
                  <a:lnTo>
                    <a:pt x="212" y="57"/>
                  </a:lnTo>
                  <a:lnTo>
                    <a:pt x="189" y="44"/>
                  </a:lnTo>
                  <a:lnTo>
                    <a:pt x="145" y="26"/>
                  </a:lnTo>
                  <a:lnTo>
                    <a:pt x="110" y="8"/>
                  </a:lnTo>
                  <a:lnTo>
                    <a:pt x="79" y="0"/>
                  </a:lnTo>
                  <a:lnTo>
                    <a:pt x="39" y="0"/>
                  </a:lnTo>
                  <a:lnTo>
                    <a:pt x="0" y="0"/>
                  </a:lnTo>
                </a:path>
              </a:pathLst>
            </a:custGeom>
            <a:ln w="12600">
              <a:solidFill>
                <a:srgbClr val="ff00ff"/>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175" name=""/>
            <p:cNvGrpSpPr/>
            <p:nvPr/>
          </p:nvGrpSpPr>
          <p:grpSpPr>
            <a:xfrm>
              <a:off x="1004760" y="1282680"/>
              <a:ext cx="1427400" cy="4120920"/>
              <a:chOff x="1004760" y="1282680"/>
              <a:chExt cx="1427400" cy="4120920"/>
            </a:xfrm>
          </p:grpSpPr>
          <p:sp>
            <p:nvSpPr>
              <p:cNvPr id="176" name=""/>
              <p:cNvSpPr/>
              <p:nvPr/>
            </p:nvSpPr>
            <p:spPr>
              <a:xfrm>
                <a:off x="1004760" y="1365120"/>
                <a:ext cx="1336680" cy="4038480"/>
              </a:xfrm>
              <a:prstGeom prst="rect">
                <a:avLst/>
              </a:prstGeom>
              <a:solidFill>
                <a:srgbClr val="3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7" name=""/>
              <p:cNvSpPr/>
              <p:nvPr/>
            </p:nvSpPr>
            <p:spPr>
              <a:xfrm>
                <a:off x="1095480" y="1282680"/>
                <a:ext cx="1336680" cy="4037040"/>
              </a:xfrm>
              <a:prstGeom prst="rect">
                <a:avLst/>
              </a:prstGeom>
              <a:solidFill>
                <a:srgbClr val="ffbf9f"/>
              </a:solidFill>
              <a:ln w="12600">
                <a:solidFill>
                  <a:srgbClr val="ff00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78" name=""/>
            <p:cNvGrpSpPr/>
            <p:nvPr/>
          </p:nvGrpSpPr>
          <p:grpSpPr>
            <a:xfrm>
              <a:off x="1143000" y="1447920"/>
              <a:ext cx="1265400" cy="1212840"/>
              <a:chOff x="1143000" y="1447920"/>
              <a:chExt cx="1265400" cy="1212840"/>
            </a:xfrm>
          </p:grpSpPr>
          <p:sp>
            <p:nvSpPr>
              <p:cNvPr id="179" name=""/>
              <p:cNvSpPr txBox="1"/>
              <p:nvPr/>
            </p:nvSpPr>
            <p:spPr>
              <a:xfrm>
                <a:off x="1143000" y="1447920"/>
                <a:ext cx="1174680" cy="406440"/>
              </a:xfrm>
              <a:prstGeom prst="rect">
                <a:avLst/>
              </a:prstGeom>
              <a:noFill/>
              <a:ln w="0">
                <a:noFill/>
              </a:ln>
            </p:spPr>
            <p:txBody>
              <a:bodyPr lIns="0" rIns="0" tIns="0" bIns="0" anchor="t">
                <a:noAutofit/>
              </a:bodyPr>
              <a:p>
                <a:pPr>
                  <a:lnSpc>
                    <a:spcPct val="130000"/>
                  </a:lnSpc>
                </a:pPr>
                <a:r>
                  <a:rPr b="1" lang="en-US" sz="1600" spc="-1" strike="noStrike">
                    <a:solidFill>
                      <a:srgbClr val="000000"/>
                    </a:solidFill>
                    <a:latin typeface="Arial"/>
                    <a:ea typeface="Arial"/>
                  </a:rPr>
                  <a:t>Beginning</a:t>
                </a:r>
                <a:endParaRPr b="0" lang="en-US" sz="1600" spc="-1" strike="noStrike">
                  <a:solidFill>
                    <a:srgbClr val="ffffff"/>
                  </a:solidFill>
                  <a:latin typeface="Arial"/>
                </a:endParaRPr>
              </a:p>
            </p:txBody>
          </p:sp>
          <p:sp>
            <p:nvSpPr>
              <p:cNvPr id="180" name=""/>
              <p:cNvSpPr txBox="1"/>
              <p:nvPr/>
            </p:nvSpPr>
            <p:spPr>
              <a:xfrm>
                <a:off x="1143000" y="1649520"/>
                <a:ext cx="1095480" cy="406440"/>
              </a:xfrm>
              <a:prstGeom prst="rect">
                <a:avLst/>
              </a:prstGeom>
              <a:noFill/>
              <a:ln w="0">
                <a:noFill/>
              </a:ln>
            </p:spPr>
            <p:txBody>
              <a:bodyPr lIns="0" rIns="0" tIns="0" bIns="0" anchor="t">
                <a:noAutofit/>
              </a:bodyPr>
              <a:p>
                <a:pPr>
                  <a:lnSpc>
                    <a:spcPct val="130000"/>
                  </a:lnSpc>
                </a:pPr>
                <a:r>
                  <a:rPr b="1" lang="en-US" sz="1600" spc="-1" strike="noStrike">
                    <a:solidFill>
                      <a:srgbClr val="000000"/>
                    </a:solidFill>
                    <a:latin typeface="Arial"/>
                    <a:ea typeface="Arial"/>
                  </a:rPr>
                  <a:t>inventory</a:t>
                </a:r>
                <a:endParaRPr b="0" lang="en-US" sz="1600" spc="-1" strike="noStrike">
                  <a:solidFill>
                    <a:srgbClr val="ffffff"/>
                  </a:solidFill>
                  <a:latin typeface="Arial"/>
                </a:endParaRPr>
              </a:p>
            </p:txBody>
          </p:sp>
          <p:sp>
            <p:nvSpPr>
              <p:cNvPr id="181" name=""/>
              <p:cNvSpPr txBox="1"/>
              <p:nvPr/>
            </p:nvSpPr>
            <p:spPr>
              <a:xfrm>
                <a:off x="1143000" y="1849320"/>
                <a:ext cx="1265400" cy="406440"/>
              </a:xfrm>
              <a:prstGeom prst="rect">
                <a:avLst/>
              </a:prstGeom>
              <a:noFill/>
              <a:ln w="0">
                <a:noFill/>
              </a:ln>
            </p:spPr>
            <p:txBody>
              <a:bodyPr lIns="0" rIns="0" tIns="0" bIns="0" anchor="t">
                <a:noAutofit/>
              </a:bodyPr>
              <a:p>
                <a:pPr>
                  <a:lnSpc>
                    <a:spcPct val="130000"/>
                  </a:lnSpc>
                </a:pPr>
                <a:r>
                  <a:rPr b="1" lang="en-US" sz="1600" spc="-1" strike="noStrike">
                    <a:solidFill>
                      <a:srgbClr val="000000"/>
                    </a:solidFill>
                    <a:latin typeface="Arial"/>
                    <a:ea typeface="Arial"/>
                  </a:rPr>
                  <a:t>12/31/20x1:</a:t>
                </a:r>
                <a:endParaRPr b="0" lang="en-US" sz="1600" spc="-1" strike="noStrike">
                  <a:solidFill>
                    <a:srgbClr val="ffffff"/>
                  </a:solidFill>
                  <a:latin typeface="Arial"/>
                </a:endParaRPr>
              </a:p>
            </p:txBody>
          </p:sp>
          <p:sp>
            <p:nvSpPr>
              <p:cNvPr id="182" name=""/>
              <p:cNvSpPr txBox="1"/>
              <p:nvPr/>
            </p:nvSpPr>
            <p:spPr>
              <a:xfrm>
                <a:off x="1143000" y="2254320"/>
                <a:ext cx="915840" cy="406440"/>
              </a:xfrm>
              <a:prstGeom prst="rect">
                <a:avLst/>
              </a:prstGeom>
              <a:noFill/>
              <a:ln w="0">
                <a:noFill/>
              </a:ln>
            </p:spPr>
            <p:txBody>
              <a:bodyPr lIns="0" rIns="0" tIns="0" bIns="0" anchor="t">
                <a:noAutofit/>
              </a:bodyPr>
              <a:p>
                <a:pPr>
                  <a:lnSpc>
                    <a:spcPct val="130000"/>
                  </a:lnSpc>
                </a:pPr>
                <a:r>
                  <a:rPr b="1" lang="en-US" sz="1600" spc="-1" strike="noStrike">
                    <a:solidFill>
                      <a:srgbClr val="000000"/>
                    </a:solidFill>
                    <a:latin typeface="Arial"/>
                    <a:ea typeface="Arial"/>
                  </a:rPr>
                  <a:t>$52,800</a:t>
                </a:r>
                <a:endParaRPr b="0" lang="en-US" sz="1600" spc="-1" strike="noStrike">
                  <a:solidFill>
                    <a:srgbClr val="ffffff"/>
                  </a:solidFill>
                  <a:latin typeface="Arial"/>
                </a:endParaRPr>
              </a:p>
            </p:txBody>
          </p:sp>
        </p:grpSp>
        <p:sp>
          <p:nvSpPr>
            <p:cNvPr id="183" name=""/>
            <p:cNvSpPr/>
            <p:nvPr/>
          </p:nvSpPr>
          <p:spPr>
            <a:xfrm>
              <a:off x="1095480" y="2963880"/>
              <a:ext cx="1336680" cy="2354400"/>
            </a:xfrm>
            <a:prstGeom prst="rect">
              <a:avLst/>
            </a:prstGeom>
            <a:solidFill>
              <a:srgbClr val="bfdfdf"/>
            </a:solidFill>
            <a:ln w="12600">
              <a:solidFill>
                <a:srgbClr val="ff00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84" name=""/>
            <p:cNvGrpSpPr/>
            <p:nvPr/>
          </p:nvGrpSpPr>
          <p:grpSpPr>
            <a:xfrm>
              <a:off x="1143000" y="3276720"/>
              <a:ext cx="1230480" cy="1189080"/>
              <a:chOff x="1143000" y="3276720"/>
              <a:chExt cx="1230480" cy="1189080"/>
            </a:xfrm>
          </p:grpSpPr>
          <p:sp>
            <p:nvSpPr>
              <p:cNvPr id="185" name=""/>
              <p:cNvSpPr txBox="1"/>
              <p:nvPr/>
            </p:nvSpPr>
            <p:spPr>
              <a:xfrm>
                <a:off x="1143000" y="3276720"/>
                <a:ext cx="1230480" cy="382680"/>
              </a:xfrm>
              <a:prstGeom prst="rect">
                <a:avLst/>
              </a:prstGeom>
              <a:noFill/>
              <a:ln w="0">
                <a:noFill/>
              </a:ln>
            </p:spPr>
            <p:txBody>
              <a:bodyPr lIns="0" rIns="0" tIns="0" bIns="0" anchor="t">
                <a:noAutofit/>
              </a:bodyPr>
              <a:p>
                <a:pPr>
                  <a:lnSpc>
                    <a:spcPct val="120000"/>
                  </a:lnSpc>
                </a:pPr>
                <a:r>
                  <a:rPr b="1" lang="en-US" sz="1600" spc="-1" strike="noStrike">
                    <a:solidFill>
                      <a:srgbClr val="000000"/>
                    </a:solidFill>
                    <a:latin typeface="Arial"/>
                    <a:ea typeface="Arial"/>
                  </a:rPr>
                  <a:t>Net cost of</a:t>
                </a:r>
                <a:endParaRPr b="0" lang="en-US" sz="1600" spc="-1" strike="noStrike">
                  <a:solidFill>
                    <a:srgbClr val="ffffff"/>
                  </a:solidFill>
                  <a:latin typeface="Arial"/>
                </a:endParaRPr>
              </a:p>
            </p:txBody>
          </p:sp>
          <p:sp>
            <p:nvSpPr>
              <p:cNvPr id="186" name=""/>
              <p:cNvSpPr txBox="1"/>
              <p:nvPr/>
            </p:nvSpPr>
            <p:spPr>
              <a:xfrm>
                <a:off x="1143000" y="3479760"/>
                <a:ext cx="1197000" cy="382680"/>
              </a:xfrm>
              <a:prstGeom prst="rect">
                <a:avLst/>
              </a:prstGeom>
              <a:noFill/>
              <a:ln w="0">
                <a:noFill/>
              </a:ln>
            </p:spPr>
            <p:txBody>
              <a:bodyPr lIns="0" rIns="0" tIns="0" bIns="0" anchor="t">
                <a:noAutofit/>
              </a:bodyPr>
              <a:p>
                <a:pPr>
                  <a:lnSpc>
                    <a:spcPct val="120000"/>
                  </a:lnSpc>
                </a:pPr>
                <a:r>
                  <a:rPr b="1" lang="en-US" sz="1600" spc="-1" strike="noStrike">
                    <a:solidFill>
                      <a:srgbClr val="000000"/>
                    </a:solidFill>
                    <a:latin typeface="Arial"/>
                    <a:ea typeface="Arial"/>
                  </a:rPr>
                  <a:t>purchases</a:t>
                </a:r>
                <a:endParaRPr b="0" lang="en-US" sz="1600" spc="-1" strike="noStrike">
                  <a:solidFill>
                    <a:srgbClr val="ffffff"/>
                  </a:solidFill>
                  <a:latin typeface="Arial"/>
                </a:endParaRPr>
              </a:p>
            </p:txBody>
          </p:sp>
          <p:sp>
            <p:nvSpPr>
              <p:cNvPr id="187" name=""/>
              <p:cNvSpPr txBox="1"/>
              <p:nvPr/>
            </p:nvSpPr>
            <p:spPr>
              <a:xfrm>
                <a:off x="1143000" y="3678120"/>
                <a:ext cx="1028880" cy="382680"/>
              </a:xfrm>
              <a:prstGeom prst="rect">
                <a:avLst/>
              </a:prstGeom>
              <a:noFill/>
              <a:ln w="0">
                <a:noFill/>
              </a:ln>
            </p:spPr>
            <p:txBody>
              <a:bodyPr lIns="0" rIns="0" tIns="0" bIns="0" anchor="t">
                <a:noAutofit/>
              </a:bodyPr>
              <a:p>
                <a:pPr>
                  <a:lnSpc>
                    <a:spcPct val="120000"/>
                  </a:lnSpc>
                </a:pPr>
                <a:r>
                  <a:rPr b="1" lang="en-US" sz="1600" spc="-1" strike="noStrike">
                    <a:solidFill>
                      <a:srgbClr val="000000"/>
                    </a:solidFill>
                    <a:latin typeface="Arial"/>
                    <a:ea typeface="Arial"/>
                  </a:rPr>
                  <a:t>for 20x2:</a:t>
                </a:r>
                <a:endParaRPr b="0" lang="en-US" sz="1600" spc="-1" strike="noStrike">
                  <a:solidFill>
                    <a:srgbClr val="ffffff"/>
                  </a:solidFill>
                  <a:latin typeface="Arial"/>
                </a:endParaRPr>
              </a:p>
            </p:txBody>
          </p:sp>
          <p:sp>
            <p:nvSpPr>
              <p:cNvPr id="188" name=""/>
              <p:cNvSpPr txBox="1"/>
              <p:nvPr/>
            </p:nvSpPr>
            <p:spPr>
              <a:xfrm>
                <a:off x="1143000" y="4083120"/>
                <a:ext cx="1028880" cy="382680"/>
              </a:xfrm>
              <a:prstGeom prst="rect">
                <a:avLst/>
              </a:prstGeom>
              <a:noFill/>
              <a:ln w="0">
                <a:noFill/>
              </a:ln>
            </p:spPr>
            <p:txBody>
              <a:bodyPr lIns="0" rIns="0" tIns="0" bIns="0" anchor="t">
                <a:noAutofit/>
              </a:bodyPr>
              <a:p>
                <a:pPr>
                  <a:lnSpc>
                    <a:spcPct val="120000"/>
                  </a:lnSpc>
                </a:pPr>
                <a:r>
                  <a:rPr b="1" lang="en-US" sz="1600" spc="-1" strike="noStrike">
                    <a:solidFill>
                      <a:srgbClr val="000000"/>
                    </a:solidFill>
                    <a:latin typeface="Arial"/>
                    <a:ea typeface="Arial"/>
                  </a:rPr>
                  <a:t>$126,860</a:t>
                </a:r>
                <a:endParaRPr b="0" lang="en-US" sz="1600" spc="-1" strike="noStrike">
                  <a:solidFill>
                    <a:srgbClr val="ffffff"/>
                  </a:solidFill>
                  <a:latin typeface="Arial"/>
                </a:endParaRPr>
              </a:p>
            </p:txBody>
          </p:sp>
        </p:grpSp>
        <p:grpSp>
          <p:nvGrpSpPr>
            <p:cNvPr id="189" name=""/>
            <p:cNvGrpSpPr/>
            <p:nvPr/>
          </p:nvGrpSpPr>
          <p:grpSpPr>
            <a:xfrm>
              <a:off x="7000920" y="2276640"/>
              <a:ext cx="1897200" cy="536400"/>
              <a:chOff x="7000920" y="2276640"/>
              <a:chExt cx="1897200" cy="536400"/>
            </a:xfrm>
          </p:grpSpPr>
          <p:sp>
            <p:nvSpPr>
              <p:cNvPr id="190" name=""/>
              <p:cNvSpPr txBox="1"/>
              <p:nvPr/>
            </p:nvSpPr>
            <p:spPr>
              <a:xfrm>
                <a:off x="7000920" y="2276640"/>
                <a:ext cx="189720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Merchandise sold</a:t>
                </a:r>
                <a:endParaRPr b="0" lang="en-US" sz="1600" spc="-1" strike="noStrike">
                  <a:solidFill>
                    <a:srgbClr val="ffffff"/>
                  </a:solidFill>
                  <a:latin typeface="Arial"/>
                </a:endParaRPr>
              </a:p>
            </p:txBody>
          </p:sp>
          <p:sp>
            <p:nvSpPr>
              <p:cNvPr id="191" name=""/>
              <p:cNvSpPr txBox="1"/>
              <p:nvPr/>
            </p:nvSpPr>
            <p:spPr>
              <a:xfrm>
                <a:off x="7000920" y="2479680"/>
                <a:ext cx="145728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to customers</a:t>
                </a:r>
                <a:endParaRPr b="0" lang="en-US" sz="1600" spc="-1" strike="noStrike">
                  <a:solidFill>
                    <a:srgbClr val="ffffff"/>
                  </a:solidFill>
                  <a:latin typeface="Arial"/>
                </a:endParaRPr>
              </a:p>
            </p:txBody>
          </p:sp>
        </p:grpSp>
        <p:grpSp>
          <p:nvGrpSpPr>
            <p:cNvPr id="192" name=""/>
            <p:cNvGrpSpPr/>
            <p:nvPr/>
          </p:nvGrpSpPr>
          <p:grpSpPr>
            <a:xfrm>
              <a:off x="7000920" y="4179960"/>
              <a:ext cx="1424160" cy="736560"/>
              <a:chOff x="7000920" y="4179960"/>
              <a:chExt cx="1424160" cy="736560"/>
            </a:xfrm>
          </p:grpSpPr>
          <p:sp>
            <p:nvSpPr>
              <p:cNvPr id="193" name=""/>
              <p:cNvSpPr txBox="1"/>
              <p:nvPr/>
            </p:nvSpPr>
            <p:spPr>
              <a:xfrm>
                <a:off x="7000920" y="4179960"/>
                <a:ext cx="142416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Merchandise</a:t>
                </a:r>
                <a:endParaRPr b="0" lang="en-US" sz="1600" spc="-1" strike="noStrike">
                  <a:solidFill>
                    <a:srgbClr val="ffffff"/>
                  </a:solidFill>
                  <a:latin typeface="Arial"/>
                </a:endParaRPr>
              </a:p>
            </p:txBody>
          </p:sp>
          <p:sp>
            <p:nvSpPr>
              <p:cNvPr id="194" name=""/>
              <p:cNvSpPr txBox="1"/>
              <p:nvPr/>
            </p:nvSpPr>
            <p:spPr>
              <a:xfrm>
                <a:off x="7000920" y="4381560"/>
                <a:ext cx="134460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carried over</a:t>
                </a:r>
                <a:endParaRPr b="0" lang="en-US" sz="1600" spc="-1" strike="noStrike">
                  <a:solidFill>
                    <a:srgbClr val="ffffff"/>
                  </a:solidFill>
                  <a:latin typeface="Arial"/>
                </a:endParaRPr>
              </a:p>
            </p:txBody>
          </p:sp>
          <p:sp>
            <p:nvSpPr>
              <p:cNvPr id="195" name=""/>
              <p:cNvSpPr txBox="1"/>
              <p:nvPr/>
            </p:nvSpPr>
            <p:spPr>
              <a:xfrm>
                <a:off x="7000920" y="4583160"/>
                <a:ext cx="137808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to next year </a:t>
                </a:r>
                <a:endParaRPr b="0" lang="en-US" sz="1600" spc="-1" strike="noStrike">
                  <a:solidFill>
                    <a:srgbClr val="ffffff"/>
                  </a:solidFill>
                  <a:latin typeface="Arial"/>
                </a:endParaRPr>
              </a:p>
            </p:txBody>
          </p:sp>
        </p:grpSp>
        <p:sp>
          <p:nvSpPr>
            <p:cNvPr id="196" name=""/>
            <p:cNvSpPr/>
            <p:nvPr/>
          </p:nvSpPr>
          <p:spPr>
            <a:xfrm flipV="1">
              <a:off x="3772080" y="2187720"/>
              <a:ext cx="1209600" cy="99216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7" name=""/>
            <p:cNvSpPr/>
            <p:nvPr/>
          </p:nvSpPr>
          <p:spPr>
            <a:xfrm>
              <a:off x="4944960" y="2092320"/>
              <a:ext cx="230400" cy="194040"/>
            </a:xfrm>
            <a:custGeom>
              <a:avLst/>
              <a:gdLst/>
              <a:ahLst/>
              <a:rect l="0" t="0" r="r" b="b"/>
              <a:pathLst>
                <a:path w="640" h="539">
                  <a:moveTo>
                    <a:pt x="171" y="340"/>
                  </a:moveTo>
                  <a:lnTo>
                    <a:pt x="189" y="367"/>
                  </a:lnTo>
                  <a:lnTo>
                    <a:pt x="194" y="380"/>
                  </a:lnTo>
                  <a:lnTo>
                    <a:pt x="207" y="412"/>
                  </a:lnTo>
                  <a:lnTo>
                    <a:pt x="220" y="429"/>
                  </a:lnTo>
                  <a:lnTo>
                    <a:pt x="220" y="456"/>
                  </a:lnTo>
                  <a:lnTo>
                    <a:pt x="229" y="460"/>
                  </a:lnTo>
                  <a:lnTo>
                    <a:pt x="229" y="478"/>
                  </a:lnTo>
                  <a:lnTo>
                    <a:pt x="238" y="495"/>
                  </a:lnTo>
                  <a:lnTo>
                    <a:pt x="238" y="504"/>
                  </a:lnTo>
                  <a:lnTo>
                    <a:pt x="229" y="513"/>
                  </a:lnTo>
                  <a:lnTo>
                    <a:pt x="229" y="522"/>
                  </a:lnTo>
                  <a:lnTo>
                    <a:pt x="229" y="531"/>
                  </a:lnTo>
                  <a:lnTo>
                    <a:pt x="229" y="539"/>
                  </a:lnTo>
                  <a:lnTo>
                    <a:pt x="220" y="539"/>
                  </a:lnTo>
                  <a:lnTo>
                    <a:pt x="640" y="0"/>
                  </a:lnTo>
                  <a:lnTo>
                    <a:pt x="0" y="208"/>
                  </a:lnTo>
                  <a:lnTo>
                    <a:pt x="4" y="208"/>
                  </a:lnTo>
                  <a:lnTo>
                    <a:pt x="17" y="208"/>
                  </a:lnTo>
                  <a:lnTo>
                    <a:pt x="26" y="208"/>
                  </a:lnTo>
                  <a:lnTo>
                    <a:pt x="35" y="208"/>
                  </a:lnTo>
                  <a:lnTo>
                    <a:pt x="44" y="217"/>
                  </a:lnTo>
                  <a:lnTo>
                    <a:pt x="52" y="225"/>
                  </a:lnTo>
                  <a:lnTo>
                    <a:pt x="66" y="234"/>
                  </a:lnTo>
                  <a:lnTo>
                    <a:pt x="83" y="239"/>
                  </a:lnTo>
                  <a:lnTo>
                    <a:pt x="105" y="247"/>
                  </a:lnTo>
                  <a:lnTo>
                    <a:pt x="110" y="265"/>
                  </a:lnTo>
                  <a:lnTo>
                    <a:pt x="123" y="287"/>
                  </a:lnTo>
                  <a:lnTo>
                    <a:pt x="149" y="314"/>
                  </a:lnTo>
                  <a:lnTo>
                    <a:pt x="171" y="340"/>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8" name=""/>
            <p:cNvSpPr/>
            <p:nvPr/>
          </p:nvSpPr>
          <p:spPr>
            <a:xfrm>
              <a:off x="3780000" y="3514680"/>
              <a:ext cx="1222200" cy="84780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9" name=""/>
            <p:cNvSpPr/>
            <p:nvPr/>
          </p:nvSpPr>
          <p:spPr>
            <a:xfrm>
              <a:off x="4944960" y="4300560"/>
              <a:ext cx="230400" cy="195480"/>
            </a:xfrm>
            <a:custGeom>
              <a:avLst/>
              <a:gdLst/>
              <a:ahLst/>
              <a:rect l="0" t="0" r="r" b="b"/>
              <a:pathLst>
                <a:path w="640" h="543">
                  <a:moveTo>
                    <a:pt x="171" y="211"/>
                  </a:moveTo>
                  <a:lnTo>
                    <a:pt x="189" y="171"/>
                  </a:lnTo>
                  <a:lnTo>
                    <a:pt x="194" y="154"/>
                  </a:lnTo>
                  <a:lnTo>
                    <a:pt x="207" y="127"/>
                  </a:lnTo>
                  <a:lnTo>
                    <a:pt x="220" y="101"/>
                  </a:lnTo>
                  <a:lnTo>
                    <a:pt x="220" y="88"/>
                  </a:lnTo>
                  <a:lnTo>
                    <a:pt x="229" y="70"/>
                  </a:lnTo>
                  <a:lnTo>
                    <a:pt x="229" y="48"/>
                  </a:lnTo>
                  <a:lnTo>
                    <a:pt x="238" y="39"/>
                  </a:lnTo>
                  <a:lnTo>
                    <a:pt x="238" y="35"/>
                  </a:lnTo>
                  <a:lnTo>
                    <a:pt x="229" y="26"/>
                  </a:lnTo>
                  <a:lnTo>
                    <a:pt x="229" y="17"/>
                  </a:lnTo>
                  <a:lnTo>
                    <a:pt x="229" y="8"/>
                  </a:lnTo>
                  <a:lnTo>
                    <a:pt x="229" y="0"/>
                  </a:lnTo>
                  <a:lnTo>
                    <a:pt x="220" y="0"/>
                  </a:lnTo>
                  <a:lnTo>
                    <a:pt x="640" y="543"/>
                  </a:lnTo>
                  <a:lnTo>
                    <a:pt x="0" y="331"/>
                  </a:lnTo>
                  <a:lnTo>
                    <a:pt x="4" y="331"/>
                  </a:lnTo>
                  <a:lnTo>
                    <a:pt x="17" y="331"/>
                  </a:lnTo>
                  <a:lnTo>
                    <a:pt x="26" y="331"/>
                  </a:lnTo>
                  <a:lnTo>
                    <a:pt x="35" y="327"/>
                  </a:lnTo>
                  <a:lnTo>
                    <a:pt x="44" y="327"/>
                  </a:lnTo>
                  <a:lnTo>
                    <a:pt x="52" y="314"/>
                  </a:lnTo>
                  <a:lnTo>
                    <a:pt x="66" y="309"/>
                  </a:lnTo>
                  <a:lnTo>
                    <a:pt x="83" y="300"/>
                  </a:lnTo>
                  <a:lnTo>
                    <a:pt x="105" y="292"/>
                  </a:lnTo>
                  <a:lnTo>
                    <a:pt x="110" y="268"/>
                  </a:lnTo>
                  <a:lnTo>
                    <a:pt x="123" y="246"/>
                  </a:lnTo>
                  <a:lnTo>
                    <a:pt x="149" y="229"/>
                  </a:lnTo>
                  <a:lnTo>
                    <a:pt x="171" y="211"/>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0" name=""/>
            <p:cNvSpPr/>
            <p:nvPr/>
          </p:nvSpPr>
          <p:spPr>
            <a:xfrm>
              <a:off x="6727680" y="3554280"/>
              <a:ext cx="141480" cy="144720"/>
            </a:xfrm>
            <a:custGeom>
              <a:avLst/>
              <a:gdLst/>
              <a:ahLst/>
              <a:rect l="0" t="0" r="r" b="b"/>
              <a:pathLst>
                <a:path fill="none" w="393" h="402">
                  <a:moveTo>
                    <a:pt x="0" y="402"/>
                  </a:moveTo>
                  <a:lnTo>
                    <a:pt x="44" y="402"/>
                  </a:lnTo>
                  <a:lnTo>
                    <a:pt x="74" y="389"/>
                  </a:lnTo>
                  <a:lnTo>
                    <a:pt x="119" y="389"/>
                  </a:lnTo>
                  <a:lnTo>
                    <a:pt x="154" y="371"/>
                  </a:lnTo>
                  <a:lnTo>
                    <a:pt x="185" y="349"/>
                  </a:lnTo>
                  <a:lnTo>
                    <a:pt x="217" y="331"/>
                  </a:lnTo>
                  <a:lnTo>
                    <a:pt x="247" y="314"/>
                  </a:lnTo>
                  <a:lnTo>
                    <a:pt x="274" y="283"/>
                  </a:lnTo>
                  <a:lnTo>
                    <a:pt x="296" y="252"/>
                  </a:lnTo>
                  <a:lnTo>
                    <a:pt x="327" y="221"/>
                  </a:lnTo>
                  <a:lnTo>
                    <a:pt x="340" y="194"/>
                  </a:lnTo>
                  <a:lnTo>
                    <a:pt x="362" y="154"/>
                  </a:lnTo>
                  <a:lnTo>
                    <a:pt x="371" y="123"/>
                  </a:lnTo>
                  <a:lnTo>
                    <a:pt x="384" y="79"/>
                  </a:lnTo>
                  <a:lnTo>
                    <a:pt x="393" y="39"/>
                  </a:lnTo>
                  <a:lnTo>
                    <a:pt x="393" y="0"/>
                  </a:lnTo>
                </a:path>
              </a:pathLst>
            </a:custGeom>
            <a:ln w="12600">
              <a:solidFill>
                <a:srgbClr val="ff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201" name=""/>
            <p:cNvSpPr/>
            <p:nvPr/>
          </p:nvSpPr>
          <p:spPr>
            <a:xfrm flipV="1">
              <a:off x="6869160" y="2590920"/>
              <a:ext cx="0" cy="984240"/>
            </a:xfrm>
            <a:prstGeom prst="line">
              <a:avLst/>
            </a:prstGeom>
            <a:ln w="12600">
              <a:solidFill>
                <a:srgbClr val="ff00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2" name=""/>
            <p:cNvSpPr/>
            <p:nvPr/>
          </p:nvSpPr>
          <p:spPr>
            <a:xfrm>
              <a:off x="6869160" y="2505240"/>
              <a:ext cx="92520" cy="98640"/>
            </a:xfrm>
            <a:custGeom>
              <a:avLst/>
              <a:gdLst/>
              <a:ahLst/>
              <a:rect l="0" t="0" r="r" b="b"/>
              <a:pathLst>
                <a:path fill="none" w="257" h="274">
                  <a:moveTo>
                    <a:pt x="0" y="274"/>
                  </a:moveTo>
                  <a:lnTo>
                    <a:pt x="0" y="247"/>
                  </a:lnTo>
                  <a:lnTo>
                    <a:pt x="8" y="217"/>
                  </a:lnTo>
                  <a:lnTo>
                    <a:pt x="8" y="195"/>
                  </a:lnTo>
                  <a:lnTo>
                    <a:pt x="17" y="168"/>
                  </a:lnTo>
                  <a:lnTo>
                    <a:pt x="26" y="136"/>
                  </a:lnTo>
                  <a:lnTo>
                    <a:pt x="48" y="119"/>
                  </a:lnTo>
                  <a:lnTo>
                    <a:pt x="57" y="97"/>
                  </a:lnTo>
                  <a:lnTo>
                    <a:pt x="71" y="79"/>
                  </a:lnTo>
                  <a:lnTo>
                    <a:pt x="89" y="57"/>
                  </a:lnTo>
                  <a:lnTo>
                    <a:pt x="106" y="48"/>
                  </a:lnTo>
                  <a:lnTo>
                    <a:pt x="128" y="26"/>
                  </a:lnTo>
                  <a:lnTo>
                    <a:pt x="155" y="17"/>
                  </a:lnTo>
                  <a:lnTo>
                    <a:pt x="177" y="8"/>
                  </a:lnTo>
                  <a:lnTo>
                    <a:pt x="200" y="8"/>
                  </a:lnTo>
                  <a:lnTo>
                    <a:pt x="226" y="0"/>
                  </a:lnTo>
                  <a:lnTo>
                    <a:pt x="257" y="0"/>
                  </a:lnTo>
                </a:path>
              </a:pathLst>
            </a:custGeom>
            <a:ln w="12600">
              <a:solidFill>
                <a:srgbClr val="ff00ff"/>
              </a:solidFill>
              <a:round/>
            </a:ln>
          </p:spPr>
          <p:txBody>
            <a:bodyPr lIns="96120" rIns="96120" tIns="47520" bIns="47520" anchor="t">
              <a:noAutofit/>
            </a:bodyPr>
            <a:p>
              <a:endParaRPr b="0" lang="en-US" sz="1800" spc="-1" strike="noStrike">
                <a:solidFill>
                  <a:srgbClr val="ffffff"/>
                </a:solidFill>
                <a:latin typeface="Arial"/>
              </a:endParaRPr>
            </a:p>
          </p:txBody>
        </p:sp>
        <p:sp>
          <p:nvSpPr>
            <p:cNvPr id="203" name=""/>
            <p:cNvSpPr/>
            <p:nvPr/>
          </p:nvSpPr>
          <p:spPr>
            <a:xfrm>
              <a:off x="6869160" y="2406600"/>
              <a:ext cx="92520" cy="98640"/>
            </a:xfrm>
            <a:custGeom>
              <a:avLst/>
              <a:gdLst/>
              <a:ahLst/>
              <a:rect l="0" t="0" r="r" b="b"/>
              <a:pathLst>
                <a:path fill="none" w="257" h="274">
                  <a:moveTo>
                    <a:pt x="257" y="274"/>
                  </a:moveTo>
                  <a:lnTo>
                    <a:pt x="226" y="274"/>
                  </a:lnTo>
                  <a:lnTo>
                    <a:pt x="200" y="274"/>
                  </a:lnTo>
                  <a:lnTo>
                    <a:pt x="177" y="261"/>
                  </a:lnTo>
                  <a:lnTo>
                    <a:pt x="155" y="256"/>
                  </a:lnTo>
                  <a:lnTo>
                    <a:pt x="128" y="243"/>
                  </a:lnTo>
                  <a:lnTo>
                    <a:pt x="106" y="225"/>
                  </a:lnTo>
                  <a:lnTo>
                    <a:pt x="89" y="217"/>
                  </a:lnTo>
                  <a:lnTo>
                    <a:pt x="71" y="199"/>
                  </a:lnTo>
                  <a:lnTo>
                    <a:pt x="57" y="181"/>
                  </a:lnTo>
                  <a:lnTo>
                    <a:pt x="48" y="159"/>
                  </a:lnTo>
                  <a:lnTo>
                    <a:pt x="26" y="123"/>
                  </a:lnTo>
                  <a:lnTo>
                    <a:pt x="17" y="105"/>
                  </a:lnTo>
                  <a:lnTo>
                    <a:pt x="8" y="88"/>
                  </a:lnTo>
                  <a:lnTo>
                    <a:pt x="8" y="57"/>
                  </a:lnTo>
                  <a:lnTo>
                    <a:pt x="0" y="30"/>
                  </a:lnTo>
                  <a:lnTo>
                    <a:pt x="0" y="0"/>
                  </a:lnTo>
                </a:path>
              </a:pathLst>
            </a:custGeom>
            <a:ln w="12600">
              <a:solidFill>
                <a:srgbClr val="ff00ff"/>
              </a:solidFill>
              <a:round/>
            </a:ln>
          </p:spPr>
          <p:txBody>
            <a:bodyPr lIns="96120" rIns="96120" tIns="47520" bIns="47520" anchor="t">
              <a:noAutofit/>
            </a:bodyPr>
            <a:p>
              <a:endParaRPr b="0" lang="en-US" sz="1800" spc="-1" strike="noStrike">
                <a:solidFill>
                  <a:srgbClr val="ffffff"/>
                </a:solidFill>
                <a:latin typeface="Arial"/>
              </a:endParaRPr>
            </a:p>
          </p:txBody>
        </p:sp>
        <p:sp>
          <p:nvSpPr>
            <p:cNvPr id="204" name=""/>
            <p:cNvSpPr/>
            <p:nvPr/>
          </p:nvSpPr>
          <p:spPr>
            <a:xfrm flipV="1">
              <a:off x="6869160" y="1434960"/>
              <a:ext cx="0" cy="995400"/>
            </a:xfrm>
            <a:prstGeom prst="line">
              <a:avLst/>
            </a:prstGeom>
            <a:ln w="12600">
              <a:solidFill>
                <a:srgbClr val="ff00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5" name=""/>
            <p:cNvSpPr/>
            <p:nvPr/>
          </p:nvSpPr>
          <p:spPr>
            <a:xfrm>
              <a:off x="6727680" y="1300320"/>
              <a:ext cx="141480" cy="146520"/>
            </a:xfrm>
            <a:custGeom>
              <a:avLst/>
              <a:gdLst/>
              <a:ahLst/>
              <a:rect l="0" t="0" r="r" b="b"/>
              <a:pathLst>
                <a:path fill="none" w="393" h="407">
                  <a:moveTo>
                    <a:pt x="393" y="407"/>
                  </a:moveTo>
                  <a:lnTo>
                    <a:pt x="393" y="368"/>
                  </a:lnTo>
                  <a:lnTo>
                    <a:pt x="384" y="328"/>
                  </a:lnTo>
                  <a:lnTo>
                    <a:pt x="371" y="287"/>
                  </a:lnTo>
                  <a:lnTo>
                    <a:pt x="362" y="247"/>
                  </a:lnTo>
                  <a:lnTo>
                    <a:pt x="340" y="221"/>
                  </a:lnTo>
                  <a:lnTo>
                    <a:pt x="327" y="177"/>
                  </a:lnTo>
                  <a:lnTo>
                    <a:pt x="296" y="146"/>
                  </a:lnTo>
                  <a:lnTo>
                    <a:pt x="274" y="120"/>
                  </a:lnTo>
                  <a:lnTo>
                    <a:pt x="247" y="88"/>
                  </a:lnTo>
                  <a:lnTo>
                    <a:pt x="217" y="70"/>
                  </a:lnTo>
                  <a:lnTo>
                    <a:pt x="185" y="48"/>
                  </a:lnTo>
                  <a:lnTo>
                    <a:pt x="154" y="30"/>
                  </a:lnTo>
                  <a:lnTo>
                    <a:pt x="119" y="17"/>
                  </a:lnTo>
                  <a:lnTo>
                    <a:pt x="74" y="13"/>
                  </a:lnTo>
                  <a:lnTo>
                    <a:pt x="44" y="0"/>
                  </a:lnTo>
                  <a:lnTo>
                    <a:pt x="0" y="0"/>
                  </a:lnTo>
                </a:path>
              </a:pathLst>
            </a:custGeom>
            <a:ln w="12600">
              <a:solidFill>
                <a:srgbClr val="ff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206" name=""/>
            <p:cNvSpPr/>
            <p:nvPr/>
          </p:nvSpPr>
          <p:spPr>
            <a:xfrm>
              <a:off x="6727680" y="5172120"/>
              <a:ext cx="141480" cy="143280"/>
            </a:xfrm>
            <a:custGeom>
              <a:avLst/>
              <a:gdLst/>
              <a:ahLst/>
              <a:rect l="0" t="0" r="r" b="b"/>
              <a:pathLst>
                <a:path fill="none" w="393" h="398">
                  <a:moveTo>
                    <a:pt x="0" y="398"/>
                  </a:moveTo>
                  <a:lnTo>
                    <a:pt x="44" y="398"/>
                  </a:lnTo>
                  <a:lnTo>
                    <a:pt x="74" y="390"/>
                  </a:lnTo>
                  <a:lnTo>
                    <a:pt x="119" y="381"/>
                  </a:lnTo>
                  <a:lnTo>
                    <a:pt x="154" y="372"/>
                  </a:lnTo>
                  <a:lnTo>
                    <a:pt x="185" y="354"/>
                  </a:lnTo>
                  <a:lnTo>
                    <a:pt x="217" y="332"/>
                  </a:lnTo>
                  <a:lnTo>
                    <a:pt x="247" y="301"/>
                  </a:lnTo>
                  <a:lnTo>
                    <a:pt x="274" y="283"/>
                  </a:lnTo>
                  <a:lnTo>
                    <a:pt x="296" y="252"/>
                  </a:lnTo>
                  <a:lnTo>
                    <a:pt x="327" y="225"/>
                  </a:lnTo>
                  <a:lnTo>
                    <a:pt x="340" y="186"/>
                  </a:lnTo>
                  <a:lnTo>
                    <a:pt x="362" y="155"/>
                  </a:lnTo>
                  <a:lnTo>
                    <a:pt x="371" y="115"/>
                  </a:lnTo>
                  <a:lnTo>
                    <a:pt x="384" y="74"/>
                  </a:lnTo>
                  <a:lnTo>
                    <a:pt x="393" y="39"/>
                  </a:lnTo>
                  <a:lnTo>
                    <a:pt x="393" y="0"/>
                  </a:lnTo>
                </a:path>
              </a:pathLst>
            </a:custGeom>
            <a:ln w="12600">
              <a:solidFill>
                <a:srgbClr val="ff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207" name=""/>
            <p:cNvSpPr/>
            <p:nvPr/>
          </p:nvSpPr>
          <p:spPr>
            <a:xfrm flipV="1">
              <a:off x="6869160" y="4619520"/>
              <a:ext cx="0" cy="576360"/>
            </a:xfrm>
            <a:prstGeom prst="line">
              <a:avLst/>
            </a:prstGeom>
            <a:ln w="12600">
              <a:solidFill>
                <a:srgbClr val="ff00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8" name=""/>
            <p:cNvSpPr/>
            <p:nvPr/>
          </p:nvSpPr>
          <p:spPr>
            <a:xfrm>
              <a:off x="6869160" y="4532400"/>
              <a:ext cx="92520" cy="98640"/>
            </a:xfrm>
            <a:custGeom>
              <a:avLst/>
              <a:gdLst/>
              <a:ahLst/>
              <a:rect l="0" t="0" r="r" b="b"/>
              <a:pathLst>
                <a:path fill="none" w="257" h="274">
                  <a:moveTo>
                    <a:pt x="0" y="274"/>
                  </a:moveTo>
                  <a:lnTo>
                    <a:pt x="0" y="247"/>
                  </a:lnTo>
                  <a:lnTo>
                    <a:pt x="8" y="217"/>
                  </a:lnTo>
                  <a:lnTo>
                    <a:pt x="8" y="190"/>
                  </a:lnTo>
                  <a:lnTo>
                    <a:pt x="17" y="172"/>
                  </a:lnTo>
                  <a:lnTo>
                    <a:pt x="26" y="136"/>
                  </a:lnTo>
                  <a:lnTo>
                    <a:pt x="48" y="114"/>
                  </a:lnTo>
                  <a:lnTo>
                    <a:pt x="57" y="97"/>
                  </a:lnTo>
                  <a:lnTo>
                    <a:pt x="71" y="74"/>
                  </a:lnTo>
                  <a:lnTo>
                    <a:pt x="89" y="57"/>
                  </a:lnTo>
                  <a:lnTo>
                    <a:pt x="106" y="48"/>
                  </a:lnTo>
                  <a:lnTo>
                    <a:pt x="128" y="26"/>
                  </a:lnTo>
                  <a:lnTo>
                    <a:pt x="155" y="17"/>
                  </a:lnTo>
                  <a:lnTo>
                    <a:pt x="177" y="8"/>
                  </a:lnTo>
                  <a:lnTo>
                    <a:pt x="200" y="8"/>
                  </a:lnTo>
                  <a:lnTo>
                    <a:pt x="226" y="0"/>
                  </a:lnTo>
                  <a:lnTo>
                    <a:pt x="257" y="0"/>
                  </a:lnTo>
                </a:path>
              </a:pathLst>
            </a:custGeom>
            <a:ln w="12600">
              <a:solidFill>
                <a:srgbClr val="ff00ff"/>
              </a:solidFill>
              <a:round/>
            </a:ln>
          </p:spPr>
          <p:txBody>
            <a:bodyPr lIns="96120" rIns="96120" tIns="47520" bIns="47520" anchor="t">
              <a:noAutofit/>
            </a:bodyPr>
            <a:p>
              <a:endParaRPr b="0" lang="en-US" sz="1800" spc="-1" strike="noStrike">
                <a:solidFill>
                  <a:srgbClr val="ffffff"/>
                </a:solidFill>
                <a:latin typeface="Arial"/>
              </a:endParaRPr>
            </a:p>
          </p:txBody>
        </p:sp>
        <p:sp>
          <p:nvSpPr>
            <p:cNvPr id="209" name=""/>
            <p:cNvSpPr/>
            <p:nvPr/>
          </p:nvSpPr>
          <p:spPr>
            <a:xfrm>
              <a:off x="6869160" y="4433760"/>
              <a:ext cx="92520" cy="98640"/>
            </a:xfrm>
            <a:custGeom>
              <a:avLst/>
              <a:gdLst/>
              <a:ahLst/>
              <a:rect l="0" t="0" r="r" b="b"/>
              <a:pathLst>
                <a:path fill="none" w="257" h="274">
                  <a:moveTo>
                    <a:pt x="257" y="274"/>
                  </a:moveTo>
                  <a:lnTo>
                    <a:pt x="226" y="274"/>
                  </a:lnTo>
                  <a:lnTo>
                    <a:pt x="200" y="261"/>
                  </a:lnTo>
                  <a:lnTo>
                    <a:pt x="177" y="261"/>
                  </a:lnTo>
                  <a:lnTo>
                    <a:pt x="155" y="256"/>
                  </a:lnTo>
                  <a:lnTo>
                    <a:pt x="128" y="243"/>
                  </a:lnTo>
                  <a:lnTo>
                    <a:pt x="106" y="225"/>
                  </a:lnTo>
                  <a:lnTo>
                    <a:pt x="89" y="217"/>
                  </a:lnTo>
                  <a:lnTo>
                    <a:pt x="71" y="199"/>
                  </a:lnTo>
                  <a:lnTo>
                    <a:pt x="57" y="177"/>
                  </a:lnTo>
                  <a:lnTo>
                    <a:pt x="48" y="159"/>
                  </a:lnTo>
                  <a:lnTo>
                    <a:pt x="26" y="142"/>
                  </a:lnTo>
                  <a:lnTo>
                    <a:pt x="17" y="105"/>
                  </a:lnTo>
                  <a:lnTo>
                    <a:pt x="8" y="88"/>
                  </a:lnTo>
                  <a:lnTo>
                    <a:pt x="8" y="61"/>
                  </a:lnTo>
                  <a:lnTo>
                    <a:pt x="0" y="30"/>
                  </a:lnTo>
                  <a:lnTo>
                    <a:pt x="0" y="0"/>
                  </a:lnTo>
                </a:path>
              </a:pathLst>
            </a:custGeom>
            <a:ln w="12600">
              <a:solidFill>
                <a:srgbClr val="ff00ff"/>
              </a:solidFill>
              <a:round/>
            </a:ln>
          </p:spPr>
          <p:txBody>
            <a:bodyPr lIns="96120" rIns="96120" tIns="47520" bIns="47520" anchor="t">
              <a:noAutofit/>
            </a:bodyPr>
            <a:p>
              <a:endParaRPr b="0" lang="en-US" sz="1800" spc="-1" strike="noStrike">
                <a:solidFill>
                  <a:srgbClr val="ffffff"/>
                </a:solidFill>
                <a:latin typeface="Arial"/>
              </a:endParaRPr>
            </a:p>
          </p:txBody>
        </p:sp>
        <p:sp>
          <p:nvSpPr>
            <p:cNvPr id="210" name=""/>
            <p:cNvSpPr/>
            <p:nvPr/>
          </p:nvSpPr>
          <p:spPr>
            <a:xfrm flipV="1">
              <a:off x="6869160" y="3836880"/>
              <a:ext cx="0" cy="619200"/>
            </a:xfrm>
            <a:prstGeom prst="line">
              <a:avLst/>
            </a:prstGeom>
            <a:ln w="12600">
              <a:solidFill>
                <a:srgbClr val="ff00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1" name=""/>
            <p:cNvSpPr/>
            <p:nvPr/>
          </p:nvSpPr>
          <p:spPr>
            <a:xfrm>
              <a:off x="6727680" y="3705120"/>
              <a:ext cx="141480" cy="144720"/>
            </a:xfrm>
            <a:custGeom>
              <a:avLst/>
              <a:gdLst/>
              <a:ahLst/>
              <a:rect l="0" t="0" r="r" b="b"/>
              <a:pathLst>
                <a:path fill="none" w="393" h="402">
                  <a:moveTo>
                    <a:pt x="393" y="402"/>
                  </a:moveTo>
                  <a:lnTo>
                    <a:pt x="393" y="362"/>
                  </a:lnTo>
                  <a:lnTo>
                    <a:pt x="384" y="327"/>
                  </a:lnTo>
                  <a:lnTo>
                    <a:pt x="371" y="274"/>
                  </a:lnTo>
                  <a:lnTo>
                    <a:pt x="362" y="247"/>
                  </a:lnTo>
                  <a:lnTo>
                    <a:pt x="340" y="208"/>
                  </a:lnTo>
                  <a:lnTo>
                    <a:pt x="327" y="171"/>
                  </a:lnTo>
                  <a:lnTo>
                    <a:pt x="296" y="145"/>
                  </a:lnTo>
                  <a:lnTo>
                    <a:pt x="274" y="114"/>
                  </a:lnTo>
                  <a:lnTo>
                    <a:pt x="247" y="83"/>
                  </a:lnTo>
                  <a:lnTo>
                    <a:pt x="217" y="66"/>
                  </a:lnTo>
                  <a:lnTo>
                    <a:pt x="185" y="44"/>
                  </a:lnTo>
                  <a:lnTo>
                    <a:pt x="154" y="26"/>
                  </a:lnTo>
                  <a:lnTo>
                    <a:pt x="119" y="8"/>
                  </a:lnTo>
                  <a:lnTo>
                    <a:pt x="74" y="8"/>
                  </a:lnTo>
                  <a:lnTo>
                    <a:pt x="44" y="0"/>
                  </a:lnTo>
                  <a:lnTo>
                    <a:pt x="0" y="0"/>
                  </a:lnTo>
                </a:path>
              </a:pathLst>
            </a:custGeom>
            <a:ln w="12600">
              <a:solidFill>
                <a:srgbClr val="ff00ff"/>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212" name=""/>
            <p:cNvGrpSpPr/>
            <p:nvPr/>
          </p:nvGrpSpPr>
          <p:grpSpPr>
            <a:xfrm>
              <a:off x="5261040" y="1282680"/>
              <a:ext cx="1425600" cy="4120920"/>
              <a:chOff x="5261040" y="1282680"/>
              <a:chExt cx="1425600" cy="4120920"/>
            </a:xfrm>
          </p:grpSpPr>
          <p:sp>
            <p:nvSpPr>
              <p:cNvPr id="213" name=""/>
              <p:cNvSpPr/>
              <p:nvPr/>
            </p:nvSpPr>
            <p:spPr>
              <a:xfrm>
                <a:off x="5261040" y="1365120"/>
                <a:ext cx="1335240" cy="4038480"/>
              </a:xfrm>
              <a:prstGeom prst="rect">
                <a:avLst/>
              </a:prstGeom>
              <a:solidFill>
                <a:srgbClr val="3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4" name=""/>
              <p:cNvSpPr/>
              <p:nvPr/>
            </p:nvSpPr>
            <p:spPr>
              <a:xfrm>
                <a:off x="5351400" y="1282680"/>
                <a:ext cx="1335240" cy="4037040"/>
              </a:xfrm>
              <a:prstGeom prst="rect">
                <a:avLst/>
              </a:prstGeom>
              <a:solidFill>
                <a:srgbClr val="9fff9f"/>
              </a:solidFill>
              <a:ln w="12600">
                <a:solidFill>
                  <a:srgbClr val="ff00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15" name=""/>
            <p:cNvGrpSpPr/>
            <p:nvPr/>
          </p:nvGrpSpPr>
          <p:grpSpPr>
            <a:xfrm>
              <a:off x="5513400" y="1446120"/>
              <a:ext cx="1028880" cy="1341360"/>
              <a:chOff x="5513400" y="1446120"/>
              <a:chExt cx="1028880" cy="1341360"/>
            </a:xfrm>
          </p:grpSpPr>
          <p:sp>
            <p:nvSpPr>
              <p:cNvPr id="216" name=""/>
              <p:cNvSpPr txBox="1"/>
              <p:nvPr/>
            </p:nvSpPr>
            <p:spPr>
              <a:xfrm>
                <a:off x="5513400" y="1446120"/>
                <a:ext cx="88092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Cost of</a:t>
                </a:r>
                <a:endParaRPr b="0" lang="en-US" sz="1600" spc="-1" strike="noStrike">
                  <a:solidFill>
                    <a:srgbClr val="ffffff"/>
                  </a:solidFill>
                  <a:latin typeface="Arial"/>
                </a:endParaRPr>
              </a:p>
            </p:txBody>
          </p:sp>
          <p:sp>
            <p:nvSpPr>
              <p:cNvPr id="217" name=""/>
              <p:cNvSpPr txBox="1"/>
              <p:nvPr/>
            </p:nvSpPr>
            <p:spPr>
              <a:xfrm>
                <a:off x="5513400" y="1647720"/>
                <a:ext cx="79056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goods</a:t>
                </a:r>
                <a:endParaRPr b="0" lang="en-US" sz="1600" spc="-1" strike="noStrike">
                  <a:solidFill>
                    <a:srgbClr val="ffffff"/>
                  </a:solidFill>
                  <a:latin typeface="Arial"/>
                </a:endParaRPr>
              </a:p>
            </p:txBody>
          </p:sp>
          <p:sp>
            <p:nvSpPr>
              <p:cNvPr id="218" name=""/>
              <p:cNvSpPr txBox="1"/>
              <p:nvPr/>
            </p:nvSpPr>
            <p:spPr>
              <a:xfrm>
                <a:off x="5513400" y="1851120"/>
                <a:ext cx="59832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sold</a:t>
                </a:r>
                <a:endParaRPr b="0" lang="en-US" sz="1600" spc="-1" strike="noStrike">
                  <a:solidFill>
                    <a:srgbClr val="ffffff"/>
                  </a:solidFill>
                  <a:latin typeface="Arial"/>
                </a:endParaRPr>
              </a:p>
            </p:txBody>
          </p:sp>
          <p:sp>
            <p:nvSpPr>
              <p:cNvPr id="219" name=""/>
              <p:cNvSpPr txBox="1"/>
              <p:nvPr/>
            </p:nvSpPr>
            <p:spPr>
              <a:xfrm>
                <a:off x="5513400" y="2050920"/>
                <a:ext cx="93816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in 20x2:</a:t>
                </a:r>
                <a:endParaRPr b="0" lang="en-US" sz="1600" spc="-1" strike="noStrike">
                  <a:solidFill>
                    <a:srgbClr val="ffffff"/>
                  </a:solidFill>
                  <a:latin typeface="Arial"/>
                </a:endParaRPr>
              </a:p>
            </p:txBody>
          </p:sp>
          <p:sp>
            <p:nvSpPr>
              <p:cNvPr id="220" name=""/>
              <p:cNvSpPr txBox="1"/>
              <p:nvPr/>
            </p:nvSpPr>
            <p:spPr>
              <a:xfrm>
                <a:off x="5513400" y="2454120"/>
                <a:ext cx="102888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131,360</a:t>
                </a:r>
                <a:endParaRPr b="0" lang="en-US" sz="1600" spc="-1" strike="noStrike">
                  <a:solidFill>
                    <a:srgbClr val="ffffff"/>
                  </a:solidFill>
                  <a:latin typeface="Arial"/>
                </a:endParaRPr>
              </a:p>
            </p:txBody>
          </p:sp>
        </p:grpSp>
        <p:sp>
          <p:nvSpPr>
            <p:cNvPr id="221" name=""/>
            <p:cNvSpPr/>
            <p:nvPr/>
          </p:nvSpPr>
          <p:spPr>
            <a:xfrm>
              <a:off x="5351400" y="3708360"/>
              <a:ext cx="1335240" cy="1609560"/>
            </a:xfrm>
            <a:prstGeom prst="rect">
              <a:avLst/>
            </a:prstGeom>
            <a:solidFill>
              <a:srgbClr val="ffbfdf"/>
            </a:solidFill>
            <a:ln w="12600">
              <a:solidFill>
                <a:srgbClr val="ff00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22" name=""/>
            <p:cNvGrpSpPr/>
            <p:nvPr/>
          </p:nvGrpSpPr>
          <p:grpSpPr>
            <a:xfrm>
              <a:off x="5410080" y="3809880"/>
              <a:ext cx="1265400" cy="1139760"/>
              <a:chOff x="5410080" y="3809880"/>
              <a:chExt cx="1265400" cy="1139760"/>
            </a:xfrm>
          </p:grpSpPr>
          <p:sp>
            <p:nvSpPr>
              <p:cNvPr id="223" name=""/>
              <p:cNvSpPr txBox="1"/>
              <p:nvPr/>
            </p:nvSpPr>
            <p:spPr>
              <a:xfrm>
                <a:off x="5410080" y="3809880"/>
                <a:ext cx="87012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Ending</a:t>
                </a:r>
                <a:endParaRPr b="0" lang="en-US" sz="1600" spc="-1" strike="noStrike">
                  <a:solidFill>
                    <a:srgbClr val="ffffff"/>
                  </a:solidFill>
                  <a:latin typeface="Arial"/>
                </a:endParaRPr>
              </a:p>
            </p:txBody>
          </p:sp>
          <p:sp>
            <p:nvSpPr>
              <p:cNvPr id="224" name=""/>
              <p:cNvSpPr txBox="1"/>
              <p:nvPr/>
            </p:nvSpPr>
            <p:spPr>
              <a:xfrm>
                <a:off x="5410080" y="4013280"/>
                <a:ext cx="109548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inventory</a:t>
                </a:r>
                <a:endParaRPr b="0" lang="en-US" sz="1600" spc="-1" strike="noStrike">
                  <a:solidFill>
                    <a:srgbClr val="ffffff"/>
                  </a:solidFill>
                  <a:latin typeface="Arial"/>
                </a:endParaRPr>
              </a:p>
            </p:txBody>
          </p:sp>
          <p:sp>
            <p:nvSpPr>
              <p:cNvPr id="225" name=""/>
              <p:cNvSpPr txBox="1"/>
              <p:nvPr/>
            </p:nvSpPr>
            <p:spPr>
              <a:xfrm>
                <a:off x="5410080" y="4211640"/>
                <a:ext cx="126540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12/31/20x2:</a:t>
                </a:r>
                <a:endParaRPr b="0" lang="en-US" sz="1600" spc="-1" strike="noStrike">
                  <a:solidFill>
                    <a:srgbClr val="ffffff"/>
                  </a:solidFill>
                  <a:latin typeface="Arial"/>
                </a:endParaRPr>
              </a:p>
            </p:txBody>
          </p:sp>
          <p:sp>
            <p:nvSpPr>
              <p:cNvPr id="226" name=""/>
              <p:cNvSpPr txBox="1"/>
              <p:nvPr/>
            </p:nvSpPr>
            <p:spPr>
              <a:xfrm>
                <a:off x="5410080" y="4616280"/>
                <a:ext cx="91584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48,300</a:t>
                </a:r>
                <a:endParaRPr b="0" lang="en-US" sz="1600" spc="-1" strike="noStrike">
                  <a:solidFill>
                    <a:srgbClr val="ffffff"/>
                  </a:solidFill>
                  <a:latin typeface="Arial"/>
                </a:endParaRPr>
              </a:p>
            </p:txBody>
          </p:sp>
        </p:grpSp>
        <p:grpSp>
          <p:nvGrpSpPr>
            <p:cNvPr id="227" name=""/>
            <p:cNvGrpSpPr/>
            <p:nvPr/>
          </p:nvGrpSpPr>
          <p:grpSpPr>
            <a:xfrm>
              <a:off x="2701800" y="2590920"/>
              <a:ext cx="1081080" cy="1243080"/>
              <a:chOff x="2701800" y="2590920"/>
              <a:chExt cx="1081080" cy="1243080"/>
            </a:xfrm>
          </p:grpSpPr>
          <p:sp>
            <p:nvSpPr>
              <p:cNvPr id="228" name=""/>
              <p:cNvSpPr txBox="1"/>
              <p:nvPr/>
            </p:nvSpPr>
            <p:spPr>
              <a:xfrm>
                <a:off x="2743200" y="2590920"/>
                <a:ext cx="1039680" cy="97164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Arial"/>
                    <a:ea typeface="Arial"/>
                  </a:rPr>
                  <a:t>Cost of </a:t>
                </a:r>
                <a:endParaRPr b="0" lang="en-US" sz="1600" spc="-1" strike="noStrike">
                  <a:solidFill>
                    <a:srgbClr val="ffffff"/>
                  </a:solidFill>
                  <a:latin typeface="Arial"/>
                </a:endParaRPr>
              </a:p>
              <a:p>
                <a:pPr>
                  <a:lnSpc>
                    <a:spcPct val="90000"/>
                  </a:lnSpc>
                </a:pPr>
                <a:r>
                  <a:rPr b="1" lang="en-US" sz="1600" spc="-1" strike="noStrike">
                    <a:solidFill>
                      <a:srgbClr val="000000"/>
                    </a:solidFill>
                    <a:latin typeface="Arial"/>
                    <a:ea typeface="Arial"/>
                  </a:rPr>
                  <a:t>goods</a:t>
                </a:r>
                <a:endParaRPr b="0" lang="en-US" sz="1600" spc="-1" strike="noStrike">
                  <a:solidFill>
                    <a:srgbClr val="ffffff"/>
                  </a:solidFill>
                  <a:latin typeface="Arial"/>
                </a:endParaRPr>
              </a:p>
              <a:p>
                <a:pPr>
                  <a:lnSpc>
                    <a:spcPct val="90000"/>
                  </a:lnSpc>
                </a:pPr>
                <a:r>
                  <a:rPr b="1" lang="en-US" sz="1600" spc="-1" strike="noStrike">
                    <a:solidFill>
                      <a:srgbClr val="000000"/>
                    </a:solidFill>
                    <a:latin typeface="Arial"/>
                    <a:ea typeface="Arial"/>
                  </a:rPr>
                  <a:t>available</a:t>
                </a:r>
                <a:endParaRPr b="0" lang="en-US" sz="1600" spc="-1" strike="noStrike">
                  <a:solidFill>
                    <a:srgbClr val="ffffff"/>
                  </a:solidFill>
                  <a:latin typeface="Arial"/>
                </a:endParaRPr>
              </a:p>
              <a:p>
                <a:pPr>
                  <a:lnSpc>
                    <a:spcPct val="90000"/>
                  </a:lnSpc>
                </a:pPr>
                <a:r>
                  <a:rPr b="1" lang="en-US" sz="1600" spc="-1" strike="noStrike">
                    <a:solidFill>
                      <a:srgbClr val="000000"/>
                    </a:solidFill>
                    <a:latin typeface="Arial"/>
                    <a:ea typeface="Arial"/>
                  </a:rPr>
                  <a:t>for sale:</a:t>
                </a:r>
                <a:endParaRPr b="0" lang="en-US" sz="1600" spc="-1" strike="noStrike">
                  <a:solidFill>
                    <a:srgbClr val="ffffff"/>
                  </a:solidFill>
                  <a:latin typeface="Arial"/>
                </a:endParaRPr>
              </a:p>
            </p:txBody>
          </p:sp>
          <p:sp>
            <p:nvSpPr>
              <p:cNvPr id="229" name=""/>
              <p:cNvSpPr txBox="1"/>
              <p:nvPr/>
            </p:nvSpPr>
            <p:spPr>
              <a:xfrm>
                <a:off x="2701800" y="3451320"/>
                <a:ext cx="1028880" cy="382680"/>
              </a:xfrm>
              <a:prstGeom prst="rect">
                <a:avLst/>
              </a:prstGeom>
              <a:noFill/>
              <a:ln w="0">
                <a:noFill/>
              </a:ln>
            </p:spPr>
            <p:txBody>
              <a:bodyPr lIns="0" rIns="0" tIns="0" bIns="0" anchor="t">
                <a:noAutofit/>
              </a:bodyPr>
              <a:p>
                <a:pPr>
                  <a:lnSpc>
                    <a:spcPct val="120000"/>
                  </a:lnSpc>
                </a:pPr>
                <a:r>
                  <a:rPr b="1" lang="en-US" sz="1600" spc="-1" strike="noStrike">
                    <a:solidFill>
                      <a:srgbClr val="000000"/>
                    </a:solidFill>
                    <a:latin typeface="Arial"/>
                    <a:ea typeface="Arial"/>
                  </a:rPr>
                  <a:t>$179,660</a:t>
                </a:r>
                <a:endParaRPr b="0" lang="en-US" sz="1600" spc="-1" strike="noStrike">
                  <a:solidFill>
                    <a:srgbClr val="ffffff"/>
                  </a:solidFill>
                  <a:latin typeface="Arial"/>
                </a:endParaRPr>
              </a:p>
            </p:txBody>
          </p:sp>
        </p:grpSp>
        <p:sp>
          <p:nvSpPr>
            <p:cNvPr id="230" name=""/>
            <p:cNvSpPr/>
            <p:nvPr/>
          </p:nvSpPr>
          <p:spPr>
            <a:xfrm>
              <a:off x="1154160" y="2955960"/>
              <a:ext cx="12319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31" name=""/>
            <p:cNvSpPr/>
            <p:nvPr/>
          </p:nvSpPr>
          <p:spPr>
            <a:xfrm>
              <a:off x="5407200" y="3710160"/>
              <a:ext cx="12492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32" name=""/>
          <p:cNvSpPr txBox="1"/>
          <p:nvPr/>
        </p:nvSpPr>
        <p:spPr>
          <a:xfrm>
            <a:off x="914400" y="45720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Gross Margin</a:t>
            </a:r>
            <a:r>
              <a:rPr b="1" lang="en-US" sz="4400" spc="-1" strike="noStrike">
                <a:solidFill>
                  <a:srgbClr val="ffcc66"/>
                </a:solidFill>
                <a:latin typeface="Arial"/>
                <a:ea typeface="Arial"/>
              </a:rPr>
              <a:t>	</a:t>
            </a:r>
            <a:endParaRPr b="0" lang="en-US" sz="4400" spc="-1" strike="noStrike">
              <a:solidFill>
                <a:srgbClr val="ffffff"/>
              </a:solidFill>
              <a:latin typeface="Arial"/>
            </a:endParaRPr>
          </a:p>
        </p:txBody>
      </p:sp>
      <p:sp>
        <p:nvSpPr>
          <p:cNvPr id="233" name=""/>
          <p:cNvSpPr txBox="1"/>
          <p:nvPr/>
        </p:nvSpPr>
        <p:spPr>
          <a:xfrm>
            <a:off x="838080" y="1523880"/>
            <a:ext cx="7924680" cy="43434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Gross margin, or gross profit, is the difference between net sales and cost of goods sold.</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o be successful a firm must have gross margin sufficient enough to pay operating expenses and provide an adequate inco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34" name=""/>
          <p:cNvSpPr txBox="1"/>
          <p:nvPr/>
        </p:nvSpPr>
        <p:spPr>
          <a:xfrm>
            <a:off x="914400" y="22860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Operating Expenses</a:t>
            </a:r>
            <a:endParaRPr b="0" lang="en-US" sz="4400" spc="-1" strike="noStrike">
              <a:solidFill>
                <a:srgbClr val="ffffff"/>
              </a:solidFill>
              <a:latin typeface="Arial"/>
            </a:endParaRPr>
          </a:p>
        </p:txBody>
      </p:sp>
      <p:sp>
        <p:nvSpPr>
          <p:cNvPr id="235" name=""/>
          <p:cNvSpPr txBox="1"/>
          <p:nvPr/>
        </p:nvSpPr>
        <p:spPr>
          <a:xfrm>
            <a:off x="838080" y="1143000"/>
            <a:ext cx="8001000" cy="49528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Operating expenses represent the expenses other than cost of goods sold that are incurred in running a business.</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Operating expenses are classified as either:</a:t>
            </a:r>
            <a:endParaRPr b="0" lang="en-US" sz="3200" spc="-1" strike="noStrike">
              <a:solidFill>
                <a:srgbClr val="ffffff"/>
              </a:solidFill>
              <a:latin typeface="Arial"/>
            </a:endParaRPr>
          </a:p>
          <a:p>
            <a:pPr marL="743040" indent="-285840">
              <a:lnSpc>
                <a:spcPct val="110000"/>
              </a:lnSpc>
              <a:spcBef>
                <a:spcPts val="479"/>
              </a:spcBef>
            </a:pPr>
            <a:r>
              <a:rPr b="1" lang="en-US" sz="3200" spc="-1" strike="noStrike">
                <a:solidFill>
                  <a:srgbClr val="fcffd8"/>
                </a:solidFill>
                <a:latin typeface="Arial"/>
                <a:ea typeface="Arial"/>
              </a:rPr>
              <a:t>1.</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Selling expenses.</a:t>
            </a:r>
            <a:endParaRPr b="0" lang="en-US" sz="3200" spc="-1" strike="noStrike">
              <a:solidFill>
                <a:srgbClr val="ffffff"/>
              </a:solidFill>
              <a:latin typeface="Arial"/>
            </a:endParaRPr>
          </a:p>
          <a:p>
            <a:pPr marL="743040" indent="-285840">
              <a:lnSpc>
                <a:spcPct val="110000"/>
              </a:lnSpc>
              <a:spcBef>
                <a:spcPts val="479"/>
              </a:spcBef>
            </a:pPr>
            <a:r>
              <a:rPr b="1" lang="en-US" sz="3200" spc="-1" strike="noStrike">
                <a:solidFill>
                  <a:srgbClr val="fcffd8"/>
                </a:solidFill>
                <a:latin typeface="Arial"/>
                <a:ea typeface="Arial"/>
              </a:rPr>
              <a:t>2.</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General and administrative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expens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36" name=""/>
          <p:cNvSpPr txBox="1"/>
          <p:nvPr/>
        </p:nvSpPr>
        <p:spPr>
          <a:xfrm>
            <a:off x="990720" y="228600"/>
            <a:ext cx="7772400" cy="9907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Operating Expenses</a:t>
            </a:r>
            <a:endParaRPr b="0" lang="en-US" sz="4400" spc="-1" strike="noStrike">
              <a:solidFill>
                <a:srgbClr val="ffffff"/>
              </a:solidFill>
              <a:latin typeface="Arial"/>
            </a:endParaRPr>
          </a:p>
        </p:txBody>
      </p:sp>
      <p:sp>
        <p:nvSpPr>
          <p:cNvPr id="237" name=""/>
          <p:cNvSpPr txBox="1"/>
          <p:nvPr/>
        </p:nvSpPr>
        <p:spPr>
          <a:xfrm>
            <a:off x="914400" y="1143000"/>
            <a:ext cx="7924680" cy="487692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i="1" lang="en-US" sz="2800" spc="-1" strike="noStrike">
                <a:solidFill>
                  <a:srgbClr val="fcffd8"/>
                </a:solidFill>
                <a:latin typeface="Arial"/>
                <a:ea typeface="Arial"/>
              </a:rPr>
              <a:t>Selling expenses</a:t>
            </a:r>
            <a:r>
              <a:rPr b="1" lang="en-US" sz="2800" spc="-1" strike="noStrike">
                <a:solidFill>
                  <a:srgbClr val="fcffd8"/>
                </a:solidFill>
                <a:latin typeface="Arial"/>
                <a:ea typeface="Arial"/>
              </a:rPr>
              <a:t> include the costs of storing goods and preparing them for sale, displaying, advertising, and otherwise promoting sales and delivering goods to the buyer (freight out expense).</a:t>
            </a:r>
            <a:endParaRPr b="0" lang="en-US" sz="2800" spc="-1" strike="noStrike">
              <a:solidFill>
                <a:srgbClr val="ffffff"/>
              </a:solidFill>
              <a:latin typeface="Arial"/>
            </a:endParaRPr>
          </a:p>
          <a:p>
            <a:pPr marL="343080" indent="-343080">
              <a:lnSpc>
                <a:spcPct val="120000"/>
              </a:lnSpc>
              <a:spcBef>
                <a:spcPts val="479"/>
              </a:spcBef>
              <a:buClr>
                <a:srgbClr val="ffcc66"/>
              </a:buClr>
              <a:buFont typeface="Monotype Sorts"/>
              <a:buChar char=""/>
            </a:pPr>
            <a:r>
              <a:rPr b="1" i="1" lang="en-US" sz="2800" spc="-1" strike="noStrike">
                <a:solidFill>
                  <a:srgbClr val="fcffd8"/>
                </a:solidFill>
                <a:latin typeface="Arial"/>
                <a:ea typeface="Arial"/>
              </a:rPr>
              <a:t>General and Administrative expenses</a:t>
            </a:r>
            <a:r>
              <a:rPr b="1" lang="en-US" sz="2800" spc="-1" strike="noStrike">
                <a:solidFill>
                  <a:srgbClr val="fcffd8"/>
                </a:solidFill>
                <a:latin typeface="Arial"/>
                <a:ea typeface="Arial"/>
              </a:rPr>
              <a:t> include expenses for accounting, personnel, credit and collections, and any other expenses that apply to overall ope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38" name=""/>
          <p:cNvSpPr txBox="1"/>
          <p:nvPr/>
        </p:nvSpPr>
        <p:spPr>
          <a:xfrm>
            <a:off x="1371600" y="380880"/>
            <a:ext cx="693432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Net Income</a:t>
            </a:r>
            <a:endParaRPr b="0" lang="en-US" sz="4400" spc="-1" strike="noStrike">
              <a:solidFill>
                <a:srgbClr val="ffffff"/>
              </a:solidFill>
              <a:latin typeface="Arial"/>
            </a:endParaRPr>
          </a:p>
        </p:txBody>
      </p:sp>
      <p:sp>
        <p:nvSpPr>
          <p:cNvPr id="239" name=""/>
          <p:cNvSpPr txBox="1"/>
          <p:nvPr/>
        </p:nvSpPr>
        <p:spPr>
          <a:xfrm>
            <a:off x="762120" y="1447920"/>
            <a:ext cx="8153280" cy="47242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Net income is the final figure or “bottom line” of the income statement.</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Net income is what remains after operating expenses are deducted from gross margin.</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Net income represents the amount of business earnings that accrue to the owners during a period of ti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40" name=""/>
          <p:cNvSpPr txBox="1"/>
          <p:nvPr/>
        </p:nvSpPr>
        <p:spPr>
          <a:xfrm>
            <a:off x="2209680" y="1295280"/>
            <a:ext cx="642636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sp>
        <p:nvSpPr>
          <p:cNvPr id="241" name=""/>
          <p:cNvSpPr txBox="1"/>
          <p:nvPr/>
        </p:nvSpPr>
        <p:spPr>
          <a:xfrm>
            <a:off x="914400" y="2743200"/>
            <a:ext cx="7924680" cy="3352680"/>
          </a:xfrm>
          <a:prstGeom prst="rect">
            <a:avLst/>
          </a:prstGeom>
          <a:noFill/>
          <a:ln w="0">
            <a:noFill/>
          </a:ln>
        </p:spPr>
        <p:txBody>
          <a:bodyPr lIns="0" rIns="0" tIns="0" bIns="0" anchor="t">
            <a:noAutofit/>
          </a:bodyPr>
          <a:p>
            <a:pPr marL="343080" indent="-343080">
              <a:lnSpc>
                <a:spcPct val="110000"/>
              </a:lnSpc>
              <a:spcBef>
                <a:spcPts val="479"/>
              </a:spcBef>
            </a:pPr>
            <a:r>
              <a:rPr b="1" lang="en-US" sz="3200" spc="-1" strike="noStrike">
                <a:solidFill>
                  <a:srgbClr val="fc0128"/>
                </a:solidFill>
                <a:latin typeface="Arial"/>
                <a:ea typeface="Arial"/>
              </a:rPr>
              <a:t>Q.</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What are the three major parts of a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merchandiser’s income statement?</a:t>
            </a:r>
            <a:endParaRPr b="0" lang="en-US" sz="3200" spc="-1" strike="noStrike">
              <a:solidFill>
                <a:srgbClr val="ffffff"/>
              </a:solidFill>
              <a:latin typeface="Arial"/>
            </a:endParaRPr>
          </a:p>
          <a:p>
            <a:pPr marL="343080" indent="-343080">
              <a:lnSpc>
                <a:spcPct val="110000"/>
              </a:lnSpc>
              <a:spcBef>
                <a:spcPts val="479"/>
              </a:spcBef>
            </a:pPr>
            <a:r>
              <a:rPr b="1" lang="en-US" sz="3200" spc="-1" strike="noStrike">
                <a:solidFill>
                  <a:srgbClr val="fc0128"/>
                </a:solidFill>
                <a:latin typeface="Arial"/>
                <a:ea typeface="Arial"/>
              </a:rPr>
              <a:t>A.</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The three major parts are (1) ne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sales, (2) cost of goods sold, and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3) operating expenses.</a:t>
            </a:r>
            <a:endParaRPr b="0" lang="en-US" sz="3200" spc="-1" strike="noStrike">
              <a:solidFill>
                <a:srgbClr val="ffffff"/>
              </a:solidFill>
              <a:latin typeface="Arial"/>
            </a:endParaRPr>
          </a:p>
        </p:txBody>
      </p:sp>
      <p:grpSp>
        <p:nvGrpSpPr>
          <p:cNvPr id="242" name=""/>
          <p:cNvGrpSpPr/>
          <p:nvPr/>
        </p:nvGrpSpPr>
        <p:grpSpPr>
          <a:xfrm>
            <a:off x="920880" y="333360"/>
            <a:ext cx="2202120" cy="2180160"/>
            <a:chOff x="920880" y="333360"/>
            <a:chExt cx="2202120" cy="2180160"/>
          </a:xfrm>
        </p:grpSpPr>
        <p:sp>
          <p:nvSpPr>
            <p:cNvPr id="243" name=""/>
            <p:cNvSpPr/>
            <p:nvPr/>
          </p:nvSpPr>
          <p:spPr>
            <a:xfrm>
              <a:off x="927000" y="1403280"/>
              <a:ext cx="535320" cy="760680"/>
            </a:xfrm>
            <a:custGeom>
              <a:avLst/>
              <a:gdLst/>
              <a:ahLst/>
              <a:rect l="0" t="0" r="r" b="b"/>
              <a:pathLst>
                <a:path w="1487" h="2113">
                  <a:moveTo>
                    <a:pt x="595" y="0"/>
                  </a:moveTo>
                  <a:lnTo>
                    <a:pt x="515" y="92"/>
                  </a:lnTo>
                  <a:lnTo>
                    <a:pt x="515" y="370"/>
                  </a:lnTo>
                  <a:lnTo>
                    <a:pt x="595" y="568"/>
                  </a:lnTo>
                  <a:lnTo>
                    <a:pt x="683" y="665"/>
                  </a:lnTo>
                  <a:lnTo>
                    <a:pt x="546" y="798"/>
                  </a:lnTo>
                  <a:lnTo>
                    <a:pt x="370" y="1112"/>
                  </a:lnTo>
                  <a:lnTo>
                    <a:pt x="30" y="1592"/>
                  </a:lnTo>
                  <a:lnTo>
                    <a:pt x="0" y="1711"/>
                  </a:lnTo>
                  <a:lnTo>
                    <a:pt x="30" y="1808"/>
                  </a:lnTo>
                  <a:lnTo>
                    <a:pt x="136" y="1808"/>
                  </a:lnTo>
                  <a:lnTo>
                    <a:pt x="224" y="1698"/>
                  </a:lnTo>
                  <a:lnTo>
                    <a:pt x="370" y="1420"/>
                  </a:lnTo>
                  <a:lnTo>
                    <a:pt x="458" y="1306"/>
                  </a:lnTo>
                  <a:lnTo>
                    <a:pt x="515" y="1487"/>
                  </a:lnTo>
                  <a:lnTo>
                    <a:pt x="476" y="1676"/>
                  </a:lnTo>
                  <a:lnTo>
                    <a:pt x="330" y="1958"/>
                  </a:lnTo>
                  <a:lnTo>
                    <a:pt x="370" y="2025"/>
                  </a:lnTo>
                  <a:lnTo>
                    <a:pt x="458" y="2003"/>
                  </a:lnTo>
                  <a:lnTo>
                    <a:pt x="643" y="1861"/>
                  </a:lnTo>
                  <a:lnTo>
                    <a:pt x="790" y="1614"/>
                  </a:lnTo>
                  <a:lnTo>
                    <a:pt x="790" y="2042"/>
                  </a:lnTo>
                  <a:lnTo>
                    <a:pt x="966" y="2113"/>
                  </a:lnTo>
                  <a:lnTo>
                    <a:pt x="1072" y="1844"/>
                  </a:lnTo>
                  <a:lnTo>
                    <a:pt x="1165" y="2091"/>
                  </a:lnTo>
                  <a:lnTo>
                    <a:pt x="1235" y="2025"/>
                  </a:lnTo>
                  <a:lnTo>
                    <a:pt x="1271" y="1535"/>
                  </a:lnTo>
                  <a:lnTo>
                    <a:pt x="1487" y="1072"/>
                  </a:lnTo>
                  <a:lnTo>
                    <a:pt x="1438" y="798"/>
                  </a:lnTo>
                  <a:lnTo>
                    <a:pt x="1284" y="701"/>
                  </a:lnTo>
                  <a:lnTo>
                    <a:pt x="1125" y="718"/>
                  </a:lnTo>
                  <a:lnTo>
                    <a:pt x="1072" y="498"/>
                  </a:lnTo>
                  <a:lnTo>
                    <a:pt x="909" y="449"/>
                  </a:lnTo>
                  <a:lnTo>
                    <a:pt x="768" y="383"/>
                  </a:lnTo>
                  <a:lnTo>
                    <a:pt x="683" y="44"/>
                  </a:lnTo>
                  <a:lnTo>
                    <a:pt x="595"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a:off x="1376280" y="1711440"/>
              <a:ext cx="157680" cy="370080"/>
            </a:xfrm>
            <a:custGeom>
              <a:avLst/>
              <a:gdLst/>
              <a:ahLst/>
              <a:rect l="0" t="0" r="r" b="b"/>
              <a:pathLst>
                <a:path w="438" h="1028">
                  <a:moveTo>
                    <a:pt x="221" y="0"/>
                  </a:moveTo>
                  <a:lnTo>
                    <a:pt x="438" y="268"/>
                  </a:lnTo>
                  <a:lnTo>
                    <a:pt x="332" y="843"/>
                  </a:lnTo>
                  <a:lnTo>
                    <a:pt x="0" y="1028"/>
                  </a:lnTo>
                  <a:lnTo>
                    <a:pt x="0" y="733"/>
                  </a:lnTo>
                  <a:lnTo>
                    <a:pt x="133" y="436"/>
                  </a:lnTo>
                  <a:lnTo>
                    <a:pt x="221" y="216"/>
                  </a:lnTo>
                  <a:lnTo>
                    <a:pt x="221"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a:off x="2400480" y="1500120"/>
              <a:ext cx="394200" cy="333720"/>
            </a:xfrm>
            <a:custGeom>
              <a:avLst/>
              <a:gdLst/>
              <a:ahLst/>
              <a:rect l="0" t="0" r="r" b="b"/>
              <a:pathLst>
                <a:path w="1095" h="927">
                  <a:moveTo>
                    <a:pt x="450" y="0"/>
                  </a:moveTo>
                  <a:lnTo>
                    <a:pt x="450" y="149"/>
                  </a:lnTo>
                  <a:lnTo>
                    <a:pt x="490" y="282"/>
                  </a:lnTo>
                  <a:lnTo>
                    <a:pt x="702" y="503"/>
                  </a:lnTo>
                  <a:lnTo>
                    <a:pt x="1095" y="631"/>
                  </a:lnTo>
                  <a:lnTo>
                    <a:pt x="1042" y="904"/>
                  </a:lnTo>
                  <a:lnTo>
                    <a:pt x="702" y="927"/>
                  </a:lnTo>
                  <a:lnTo>
                    <a:pt x="207" y="728"/>
                  </a:lnTo>
                  <a:lnTo>
                    <a:pt x="0" y="366"/>
                  </a:lnTo>
                  <a:lnTo>
                    <a:pt x="246" y="22"/>
                  </a:lnTo>
                  <a:lnTo>
                    <a:pt x="450"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6" name=""/>
            <p:cNvSpPr/>
            <p:nvPr/>
          </p:nvSpPr>
          <p:spPr>
            <a:xfrm>
              <a:off x="2557440" y="1123920"/>
              <a:ext cx="551160" cy="733680"/>
            </a:xfrm>
            <a:custGeom>
              <a:avLst/>
              <a:gdLst/>
              <a:ahLst/>
              <a:rect l="0" t="0" r="r" b="b"/>
              <a:pathLst>
                <a:path w="1531" h="2038">
                  <a:moveTo>
                    <a:pt x="136" y="864"/>
                  </a:moveTo>
                  <a:lnTo>
                    <a:pt x="0" y="1009"/>
                  </a:lnTo>
                  <a:lnTo>
                    <a:pt x="30" y="1341"/>
                  </a:lnTo>
                  <a:lnTo>
                    <a:pt x="242" y="1495"/>
                  </a:lnTo>
                  <a:lnTo>
                    <a:pt x="260" y="2003"/>
                  </a:lnTo>
                  <a:lnTo>
                    <a:pt x="476" y="2003"/>
                  </a:lnTo>
                  <a:lnTo>
                    <a:pt x="458" y="1575"/>
                  </a:lnTo>
                  <a:lnTo>
                    <a:pt x="617" y="2016"/>
                  </a:lnTo>
                  <a:lnTo>
                    <a:pt x="727" y="2038"/>
                  </a:lnTo>
                  <a:lnTo>
                    <a:pt x="803" y="1888"/>
                  </a:lnTo>
                  <a:lnTo>
                    <a:pt x="821" y="1606"/>
                  </a:lnTo>
                  <a:lnTo>
                    <a:pt x="1054" y="1870"/>
                  </a:lnTo>
                  <a:lnTo>
                    <a:pt x="1147" y="1853"/>
                  </a:lnTo>
                  <a:lnTo>
                    <a:pt x="1125" y="1667"/>
                  </a:lnTo>
                  <a:lnTo>
                    <a:pt x="1037" y="1412"/>
                  </a:lnTo>
                  <a:lnTo>
                    <a:pt x="944" y="1244"/>
                  </a:lnTo>
                  <a:lnTo>
                    <a:pt x="979" y="1125"/>
                  </a:lnTo>
                  <a:lnTo>
                    <a:pt x="1037" y="1147"/>
                  </a:lnTo>
                  <a:lnTo>
                    <a:pt x="1253" y="1412"/>
                  </a:lnTo>
                  <a:lnTo>
                    <a:pt x="1482" y="1478"/>
                  </a:lnTo>
                  <a:lnTo>
                    <a:pt x="1531" y="1394"/>
                  </a:lnTo>
                  <a:lnTo>
                    <a:pt x="1495" y="1257"/>
                  </a:lnTo>
                  <a:lnTo>
                    <a:pt x="1072" y="842"/>
                  </a:lnTo>
                  <a:lnTo>
                    <a:pt x="727" y="723"/>
                  </a:lnTo>
                  <a:lnTo>
                    <a:pt x="687" y="489"/>
                  </a:lnTo>
                  <a:lnTo>
                    <a:pt x="803" y="286"/>
                  </a:lnTo>
                  <a:lnTo>
                    <a:pt x="803" y="66"/>
                  </a:lnTo>
                  <a:lnTo>
                    <a:pt x="705" y="0"/>
                  </a:lnTo>
                  <a:lnTo>
                    <a:pt x="458" y="551"/>
                  </a:lnTo>
                  <a:lnTo>
                    <a:pt x="242" y="635"/>
                  </a:lnTo>
                  <a:lnTo>
                    <a:pt x="189" y="784"/>
                  </a:lnTo>
                  <a:lnTo>
                    <a:pt x="136" y="864"/>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1654200" y="488880"/>
              <a:ext cx="601920" cy="935280"/>
            </a:xfrm>
            <a:custGeom>
              <a:avLst/>
              <a:gdLst/>
              <a:ahLst/>
              <a:rect l="0" t="0" r="r" b="b"/>
              <a:pathLst>
                <a:path w="1672" h="2598">
                  <a:moveTo>
                    <a:pt x="418" y="357"/>
                  </a:moveTo>
                  <a:lnTo>
                    <a:pt x="291" y="859"/>
                  </a:lnTo>
                  <a:lnTo>
                    <a:pt x="17" y="956"/>
                  </a:lnTo>
                  <a:lnTo>
                    <a:pt x="92" y="1115"/>
                  </a:lnTo>
                  <a:lnTo>
                    <a:pt x="0" y="1212"/>
                  </a:lnTo>
                  <a:lnTo>
                    <a:pt x="0" y="1394"/>
                  </a:lnTo>
                  <a:lnTo>
                    <a:pt x="132" y="1557"/>
                  </a:lnTo>
                  <a:lnTo>
                    <a:pt x="260" y="1557"/>
                  </a:lnTo>
                  <a:lnTo>
                    <a:pt x="348" y="2135"/>
                  </a:lnTo>
                  <a:lnTo>
                    <a:pt x="454" y="2382"/>
                  </a:lnTo>
                  <a:lnTo>
                    <a:pt x="793" y="2598"/>
                  </a:lnTo>
                  <a:lnTo>
                    <a:pt x="1134" y="2567"/>
                  </a:lnTo>
                  <a:lnTo>
                    <a:pt x="1297" y="2135"/>
                  </a:lnTo>
                  <a:lnTo>
                    <a:pt x="1337" y="1482"/>
                  </a:lnTo>
                  <a:lnTo>
                    <a:pt x="1672" y="1150"/>
                  </a:lnTo>
                  <a:lnTo>
                    <a:pt x="1654" y="1018"/>
                  </a:lnTo>
                  <a:lnTo>
                    <a:pt x="1619" y="956"/>
                  </a:lnTo>
                  <a:lnTo>
                    <a:pt x="1442" y="943"/>
                  </a:lnTo>
                  <a:lnTo>
                    <a:pt x="1495" y="771"/>
                  </a:lnTo>
                  <a:lnTo>
                    <a:pt x="1319" y="657"/>
                  </a:lnTo>
                  <a:lnTo>
                    <a:pt x="1244" y="286"/>
                  </a:lnTo>
                  <a:lnTo>
                    <a:pt x="723" y="0"/>
                  </a:lnTo>
                  <a:lnTo>
                    <a:pt x="454" y="264"/>
                  </a:lnTo>
                  <a:lnTo>
                    <a:pt x="418" y="357"/>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a:off x="1698480" y="1271520"/>
              <a:ext cx="551160" cy="1117800"/>
            </a:xfrm>
            <a:custGeom>
              <a:avLst/>
              <a:gdLst/>
              <a:ahLst/>
              <a:rect l="0" t="0" r="r" b="b"/>
              <a:pathLst>
                <a:path w="1531" h="3105">
                  <a:moveTo>
                    <a:pt x="313" y="163"/>
                  </a:moveTo>
                  <a:lnTo>
                    <a:pt x="529" y="313"/>
                  </a:lnTo>
                  <a:lnTo>
                    <a:pt x="639" y="476"/>
                  </a:lnTo>
                  <a:lnTo>
                    <a:pt x="1253" y="0"/>
                  </a:lnTo>
                  <a:lnTo>
                    <a:pt x="1442" y="97"/>
                  </a:lnTo>
                  <a:lnTo>
                    <a:pt x="1531" y="590"/>
                  </a:lnTo>
                  <a:lnTo>
                    <a:pt x="1090" y="2020"/>
                  </a:lnTo>
                  <a:lnTo>
                    <a:pt x="1231" y="2805"/>
                  </a:lnTo>
                  <a:lnTo>
                    <a:pt x="652" y="3105"/>
                  </a:lnTo>
                  <a:lnTo>
                    <a:pt x="202" y="2937"/>
                  </a:lnTo>
                  <a:lnTo>
                    <a:pt x="202" y="2100"/>
                  </a:lnTo>
                  <a:lnTo>
                    <a:pt x="0" y="1292"/>
                  </a:lnTo>
                  <a:lnTo>
                    <a:pt x="202" y="313"/>
                  </a:lnTo>
                  <a:lnTo>
                    <a:pt x="313" y="163"/>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9" name=""/>
            <p:cNvSpPr/>
            <p:nvPr/>
          </p:nvSpPr>
          <p:spPr>
            <a:xfrm>
              <a:off x="1722600" y="363600"/>
              <a:ext cx="513000" cy="297360"/>
            </a:xfrm>
            <a:custGeom>
              <a:avLst/>
              <a:gdLst/>
              <a:ahLst/>
              <a:rect l="0" t="0" r="r" b="b"/>
              <a:pathLst>
                <a:path w="1425" h="826">
                  <a:moveTo>
                    <a:pt x="176" y="791"/>
                  </a:moveTo>
                  <a:lnTo>
                    <a:pt x="383" y="569"/>
                  </a:lnTo>
                  <a:lnTo>
                    <a:pt x="515" y="534"/>
                  </a:lnTo>
                  <a:lnTo>
                    <a:pt x="515" y="552"/>
                  </a:lnTo>
                  <a:lnTo>
                    <a:pt x="586" y="534"/>
                  </a:lnTo>
                  <a:lnTo>
                    <a:pt x="674" y="600"/>
                  </a:lnTo>
                  <a:lnTo>
                    <a:pt x="838" y="637"/>
                  </a:lnTo>
                  <a:lnTo>
                    <a:pt x="979" y="826"/>
                  </a:lnTo>
                  <a:lnTo>
                    <a:pt x="1200" y="742"/>
                  </a:lnTo>
                  <a:lnTo>
                    <a:pt x="1200" y="650"/>
                  </a:lnTo>
                  <a:lnTo>
                    <a:pt x="1425" y="552"/>
                  </a:lnTo>
                  <a:lnTo>
                    <a:pt x="1359" y="402"/>
                  </a:lnTo>
                  <a:lnTo>
                    <a:pt x="1147" y="384"/>
                  </a:lnTo>
                  <a:lnTo>
                    <a:pt x="1178" y="217"/>
                  </a:lnTo>
                  <a:lnTo>
                    <a:pt x="997" y="234"/>
                  </a:lnTo>
                  <a:lnTo>
                    <a:pt x="966" y="119"/>
                  </a:lnTo>
                  <a:lnTo>
                    <a:pt x="838" y="119"/>
                  </a:lnTo>
                  <a:lnTo>
                    <a:pt x="755" y="185"/>
                  </a:lnTo>
                  <a:lnTo>
                    <a:pt x="674" y="185"/>
                  </a:lnTo>
                  <a:lnTo>
                    <a:pt x="687" y="0"/>
                  </a:lnTo>
                  <a:lnTo>
                    <a:pt x="515" y="83"/>
                  </a:lnTo>
                  <a:lnTo>
                    <a:pt x="277" y="384"/>
                  </a:lnTo>
                  <a:lnTo>
                    <a:pt x="268" y="185"/>
                  </a:lnTo>
                  <a:lnTo>
                    <a:pt x="141" y="283"/>
                  </a:lnTo>
                  <a:lnTo>
                    <a:pt x="110" y="534"/>
                  </a:lnTo>
                  <a:lnTo>
                    <a:pt x="0" y="486"/>
                  </a:lnTo>
                  <a:lnTo>
                    <a:pt x="17" y="650"/>
                  </a:lnTo>
                  <a:lnTo>
                    <a:pt x="176" y="791"/>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a:off x="1860480" y="1477800"/>
              <a:ext cx="163800" cy="844920"/>
            </a:xfrm>
            <a:custGeom>
              <a:avLst/>
              <a:gdLst/>
              <a:ahLst/>
              <a:rect l="0" t="0" r="r" b="b"/>
              <a:pathLst>
                <a:path w="455" h="2347">
                  <a:moveTo>
                    <a:pt x="234" y="13"/>
                  </a:moveTo>
                  <a:lnTo>
                    <a:pt x="79" y="119"/>
                  </a:lnTo>
                  <a:lnTo>
                    <a:pt x="79" y="313"/>
                  </a:lnTo>
                  <a:lnTo>
                    <a:pt x="189" y="379"/>
                  </a:lnTo>
                  <a:lnTo>
                    <a:pt x="39" y="693"/>
                  </a:lnTo>
                  <a:lnTo>
                    <a:pt x="0" y="1103"/>
                  </a:lnTo>
                  <a:lnTo>
                    <a:pt x="114" y="1645"/>
                  </a:lnTo>
                  <a:lnTo>
                    <a:pt x="114" y="1871"/>
                  </a:lnTo>
                  <a:lnTo>
                    <a:pt x="52" y="2043"/>
                  </a:lnTo>
                  <a:lnTo>
                    <a:pt x="287" y="2347"/>
                  </a:lnTo>
                  <a:lnTo>
                    <a:pt x="437" y="1889"/>
                  </a:lnTo>
                  <a:lnTo>
                    <a:pt x="437" y="1579"/>
                  </a:lnTo>
                  <a:lnTo>
                    <a:pt x="327" y="1279"/>
                  </a:lnTo>
                  <a:lnTo>
                    <a:pt x="269" y="887"/>
                  </a:lnTo>
                  <a:lnTo>
                    <a:pt x="384" y="498"/>
                  </a:lnTo>
                  <a:lnTo>
                    <a:pt x="344" y="343"/>
                  </a:lnTo>
                  <a:lnTo>
                    <a:pt x="455" y="264"/>
                  </a:lnTo>
                  <a:lnTo>
                    <a:pt x="437" y="163"/>
                  </a:lnTo>
                  <a:lnTo>
                    <a:pt x="305" y="0"/>
                  </a:lnTo>
                  <a:lnTo>
                    <a:pt x="234"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1854360" y="1193760"/>
              <a:ext cx="133560" cy="78120"/>
            </a:xfrm>
            <a:custGeom>
              <a:avLst/>
              <a:gdLst/>
              <a:ahLst/>
              <a:rect l="0" t="0" r="r" b="b"/>
              <a:pathLst>
                <a:path w="371" h="217">
                  <a:moveTo>
                    <a:pt x="0" y="66"/>
                  </a:moveTo>
                  <a:lnTo>
                    <a:pt x="145" y="217"/>
                  </a:lnTo>
                  <a:lnTo>
                    <a:pt x="296" y="195"/>
                  </a:lnTo>
                  <a:lnTo>
                    <a:pt x="371" y="22"/>
                  </a:lnTo>
                  <a:lnTo>
                    <a:pt x="208" y="0"/>
                  </a:lnTo>
                  <a:lnTo>
                    <a:pt x="39" y="22"/>
                  </a:lnTo>
                  <a:lnTo>
                    <a:pt x="0" y="66"/>
                  </a:lnTo>
                  <a:close/>
                </a:path>
              </a:pathLst>
            </a:custGeom>
            <a:solidFill>
              <a:srgbClr val="ffffff"/>
            </a:solidFill>
            <a:ln w="12600">
              <a:solidFill>
                <a:srgbClr val="ffffff"/>
              </a:solidFill>
              <a:round/>
            </a:ln>
          </p:spPr>
          <p:txBody>
            <a:bodyPr lIns="96120" rIns="96120" tIns="27000" bIns="27000" anchor="t">
              <a:noAutofit/>
            </a:bodyPr>
            <a:p>
              <a:endParaRPr b="0" lang="en-US" sz="1800" spc="-1" strike="noStrike">
                <a:solidFill>
                  <a:srgbClr val="000000"/>
                </a:solidFill>
                <a:latin typeface="Arial"/>
              </a:endParaRPr>
            </a:p>
          </p:txBody>
        </p:sp>
        <p:sp>
          <p:nvSpPr>
            <p:cNvPr id="252" name=""/>
            <p:cNvSpPr/>
            <p:nvPr/>
          </p:nvSpPr>
          <p:spPr>
            <a:xfrm>
              <a:off x="1709640" y="801720"/>
              <a:ext cx="163800" cy="165600"/>
            </a:xfrm>
            <a:custGeom>
              <a:avLst/>
              <a:gdLst/>
              <a:ahLst/>
              <a:rect l="0" t="0" r="r" b="b"/>
              <a:pathLst>
                <a:path w="455" h="460">
                  <a:moveTo>
                    <a:pt x="0" y="52"/>
                  </a:moveTo>
                  <a:lnTo>
                    <a:pt x="314" y="460"/>
                  </a:lnTo>
                  <a:lnTo>
                    <a:pt x="455" y="429"/>
                  </a:lnTo>
                  <a:lnTo>
                    <a:pt x="123" y="0"/>
                  </a:lnTo>
                  <a:lnTo>
                    <a:pt x="0" y="5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a:off x="1998720" y="766800"/>
              <a:ext cx="141480" cy="165600"/>
            </a:xfrm>
            <a:custGeom>
              <a:avLst/>
              <a:gdLst/>
              <a:ahLst/>
              <a:rect l="0" t="0" r="r" b="b"/>
              <a:pathLst>
                <a:path w="393" h="460">
                  <a:moveTo>
                    <a:pt x="0" y="66"/>
                  </a:moveTo>
                  <a:lnTo>
                    <a:pt x="274" y="460"/>
                  </a:lnTo>
                  <a:lnTo>
                    <a:pt x="393" y="354"/>
                  </a:lnTo>
                  <a:lnTo>
                    <a:pt x="110" y="0"/>
                  </a:lnTo>
                  <a:lnTo>
                    <a:pt x="0" y="6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a:off x="1649520" y="552600"/>
              <a:ext cx="574920" cy="414720"/>
            </a:xfrm>
            <a:custGeom>
              <a:avLst/>
              <a:gdLst/>
              <a:ahLst/>
              <a:rect l="0" t="0" r="r" b="b"/>
              <a:pathLst>
                <a:path w="1597" h="1152">
                  <a:moveTo>
                    <a:pt x="732" y="684"/>
                  </a:moveTo>
                  <a:lnTo>
                    <a:pt x="586" y="644"/>
                  </a:lnTo>
                  <a:lnTo>
                    <a:pt x="714" y="538"/>
                  </a:lnTo>
                  <a:lnTo>
                    <a:pt x="665" y="481"/>
                  </a:lnTo>
                  <a:lnTo>
                    <a:pt x="502" y="618"/>
                  </a:lnTo>
                  <a:lnTo>
                    <a:pt x="202" y="653"/>
                  </a:lnTo>
                  <a:lnTo>
                    <a:pt x="0" y="658"/>
                  </a:lnTo>
                  <a:lnTo>
                    <a:pt x="0" y="816"/>
                  </a:lnTo>
                  <a:lnTo>
                    <a:pt x="194" y="1144"/>
                  </a:lnTo>
                  <a:lnTo>
                    <a:pt x="238" y="1152"/>
                  </a:lnTo>
                  <a:lnTo>
                    <a:pt x="66" y="794"/>
                  </a:lnTo>
                  <a:lnTo>
                    <a:pt x="330" y="684"/>
                  </a:lnTo>
                  <a:lnTo>
                    <a:pt x="502" y="684"/>
                  </a:lnTo>
                  <a:lnTo>
                    <a:pt x="630" y="755"/>
                  </a:lnTo>
                  <a:lnTo>
                    <a:pt x="665" y="852"/>
                  </a:lnTo>
                  <a:lnTo>
                    <a:pt x="665" y="1073"/>
                  </a:lnTo>
                  <a:lnTo>
                    <a:pt x="665" y="1144"/>
                  </a:lnTo>
                  <a:lnTo>
                    <a:pt x="740" y="1038"/>
                  </a:lnTo>
                  <a:lnTo>
                    <a:pt x="740" y="812"/>
                  </a:lnTo>
                  <a:lnTo>
                    <a:pt x="856" y="812"/>
                  </a:lnTo>
                  <a:lnTo>
                    <a:pt x="909" y="1073"/>
                  </a:lnTo>
                  <a:lnTo>
                    <a:pt x="971" y="1095"/>
                  </a:lnTo>
                  <a:lnTo>
                    <a:pt x="1165" y="1095"/>
                  </a:lnTo>
                  <a:lnTo>
                    <a:pt x="1363" y="1051"/>
                  </a:lnTo>
                  <a:lnTo>
                    <a:pt x="1500" y="950"/>
                  </a:lnTo>
                  <a:lnTo>
                    <a:pt x="1522" y="715"/>
                  </a:lnTo>
                  <a:lnTo>
                    <a:pt x="1597" y="618"/>
                  </a:lnTo>
                  <a:lnTo>
                    <a:pt x="1553" y="556"/>
                  </a:lnTo>
                  <a:lnTo>
                    <a:pt x="1376" y="494"/>
                  </a:lnTo>
                  <a:lnTo>
                    <a:pt x="1345" y="255"/>
                  </a:lnTo>
                  <a:lnTo>
                    <a:pt x="1178" y="255"/>
                  </a:lnTo>
                  <a:lnTo>
                    <a:pt x="979" y="0"/>
                  </a:lnTo>
                  <a:lnTo>
                    <a:pt x="1160" y="286"/>
                  </a:lnTo>
                  <a:lnTo>
                    <a:pt x="1222" y="286"/>
                  </a:lnTo>
                  <a:lnTo>
                    <a:pt x="1257" y="481"/>
                  </a:lnTo>
                  <a:lnTo>
                    <a:pt x="1032" y="556"/>
                  </a:lnTo>
                  <a:lnTo>
                    <a:pt x="869" y="499"/>
                  </a:lnTo>
                  <a:lnTo>
                    <a:pt x="843" y="556"/>
                  </a:lnTo>
                  <a:lnTo>
                    <a:pt x="931" y="618"/>
                  </a:lnTo>
                  <a:lnTo>
                    <a:pt x="931" y="675"/>
                  </a:lnTo>
                  <a:lnTo>
                    <a:pt x="1125" y="587"/>
                  </a:lnTo>
                  <a:lnTo>
                    <a:pt x="1284" y="569"/>
                  </a:lnTo>
                  <a:lnTo>
                    <a:pt x="1465" y="596"/>
                  </a:lnTo>
                  <a:lnTo>
                    <a:pt x="1465" y="627"/>
                  </a:lnTo>
                  <a:lnTo>
                    <a:pt x="1381" y="710"/>
                  </a:lnTo>
                  <a:lnTo>
                    <a:pt x="1345" y="812"/>
                  </a:lnTo>
                  <a:lnTo>
                    <a:pt x="1337" y="950"/>
                  </a:lnTo>
                  <a:lnTo>
                    <a:pt x="1231" y="1007"/>
                  </a:lnTo>
                  <a:lnTo>
                    <a:pt x="1076" y="1025"/>
                  </a:lnTo>
                  <a:lnTo>
                    <a:pt x="971" y="1025"/>
                  </a:lnTo>
                  <a:lnTo>
                    <a:pt x="935" y="980"/>
                  </a:lnTo>
                  <a:lnTo>
                    <a:pt x="909" y="715"/>
                  </a:lnTo>
                  <a:lnTo>
                    <a:pt x="740" y="715"/>
                  </a:lnTo>
                  <a:lnTo>
                    <a:pt x="732" y="68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55" name=""/>
            <p:cNvSpPr/>
            <p:nvPr/>
          </p:nvSpPr>
          <p:spPr>
            <a:xfrm>
              <a:off x="1846440" y="1030320"/>
              <a:ext cx="186120" cy="86040"/>
            </a:xfrm>
            <a:custGeom>
              <a:avLst/>
              <a:gdLst/>
              <a:ahLst/>
              <a:rect l="0" t="0" r="r" b="b"/>
              <a:pathLst>
                <a:path w="517" h="239">
                  <a:moveTo>
                    <a:pt x="0" y="0"/>
                  </a:moveTo>
                  <a:lnTo>
                    <a:pt x="83" y="110"/>
                  </a:lnTo>
                  <a:lnTo>
                    <a:pt x="305" y="110"/>
                  </a:lnTo>
                  <a:lnTo>
                    <a:pt x="398" y="30"/>
                  </a:lnTo>
                  <a:lnTo>
                    <a:pt x="517" y="30"/>
                  </a:lnTo>
                  <a:lnTo>
                    <a:pt x="495" y="70"/>
                  </a:lnTo>
                  <a:lnTo>
                    <a:pt x="495" y="110"/>
                  </a:lnTo>
                  <a:lnTo>
                    <a:pt x="287" y="239"/>
                  </a:lnTo>
                  <a:lnTo>
                    <a:pt x="172" y="239"/>
                  </a:lnTo>
                  <a:lnTo>
                    <a:pt x="110" y="190"/>
                  </a:lnTo>
                  <a:lnTo>
                    <a:pt x="44" y="190"/>
                  </a:lnTo>
                  <a:lnTo>
                    <a:pt x="0" y="0"/>
                  </a:lnTo>
                  <a:close/>
                </a:path>
              </a:pathLst>
            </a:custGeom>
            <a:solidFill>
              <a:srgbClr val="000000"/>
            </a:solidFill>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256" name=""/>
            <p:cNvSpPr/>
            <p:nvPr/>
          </p:nvSpPr>
          <p:spPr>
            <a:xfrm>
              <a:off x="1639800" y="893880"/>
              <a:ext cx="281520" cy="448200"/>
            </a:xfrm>
            <a:custGeom>
              <a:avLst/>
              <a:gdLst/>
              <a:ahLst/>
              <a:rect l="0" t="0" r="r" b="b"/>
              <a:pathLst>
                <a:path w="782" h="1245">
                  <a:moveTo>
                    <a:pt x="782" y="88"/>
                  </a:moveTo>
                  <a:lnTo>
                    <a:pt x="782" y="105"/>
                  </a:lnTo>
                  <a:lnTo>
                    <a:pt x="645" y="238"/>
                  </a:lnTo>
                  <a:lnTo>
                    <a:pt x="530" y="255"/>
                  </a:lnTo>
                  <a:lnTo>
                    <a:pt x="309" y="224"/>
                  </a:lnTo>
                  <a:lnTo>
                    <a:pt x="353" y="675"/>
                  </a:lnTo>
                  <a:lnTo>
                    <a:pt x="402" y="1042"/>
                  </a:lnTo>
                  <a:lnTo>
                    <a:pt x="494" y="1245"/>
                  </a:lnTo>
                  <a:lnTo>
                    <a:pt x="402" y="1100"/>
                  </a:lnTo>
                  <a:lnTo>
                    <a:pt x="367" y="945"/>
                  </a:lnTo>
                  <a:lnTo>
                    <a:pt x="305" y="525"/>
                  </a:lnTo>
                  <a:lnTo>
                    <a:pt x="239" y="552"/>
                  </a:lnTo>
                  <a:lnTo>
                    <a:pt x="163" y="503"/>
                  </a:lnTo>
                  <a:lnTo>
                    <a:pt x="17" y="282"/>
                  </a:lnTo>
                  <a:lnTo>
                    <a:pt x="0" y="158"/>
                  </a:lnTo>
                  <a:lnTo>
                    <a:pt x="0" y="74"/>
                  </a:lnTo>
                  <a:lnTo>
                    <a:pt x="35" y="26"/>
                  </a:lnTo>
                  <a:lnTo>
                    <a:pt x="123" y="0"/>
                  </a:lnTo>
                  <a:lnTo>
                    <a:pt x="132" y="30"/>
                  </a:lnTo>
                  <a:lnTo>
                    <a:pt x="61" y="57"/>
                  </a:lnTo>
                  <a:lnTo>
                    <a:pt x="44" y="149"/>
                  </a:lnTo>
                  <a:lnTo>
                    <a:pt x="52" y="268"/>
                  </a:lnTo>
                  <a:lnTo>
                    <a:pt x="154" y="371"/>
                  </a:lnTo>
                  <a:lnTo>
                    <a:pt x="203" y="349"/>
                  </a:lnTo>
                  <a:lnTo>
                    <a:pt x="203" y="123"/>
                  </a:lnTo>
                  <a:lnTo>
                    <a:pt x="296" y="167"/>
                  </a:lnTo>
                  <a:lnTo>
                    <a:pt x="437" y="198"/>
                  </a:lnTo>
                  <a:lnTo>
                    <a:pt x="569" y="189"/>
                  </a:lnTo>
                  <a:lnTo>
                    <a:pt x="694" y="123"/>
                  </a:lnTo>
                  <a:lnTo>
                    <a:pt x="782" y="8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57" name=""/>
            <p:cNvSpPr/>
            <p:nvPr/>
          </p:nvSpPr>
          <p:spPr>
            <a:xfrm>
              <a:off x="1716120" y="541440"/>
              <a:ext cx="84600" cy="236880"/>
            </a:xfrm>
            <a:custGeom>
              <a:avLst/>
              <a:gdLst/>
              <a:ahLst/>
              <a:rect l="0" t="0" r="r" b="b"/>
              <a:pathLst>
                <a:path w="235" h="658">
                  <a:moveTo>
                    <a:pt x="120" y="658"/>
                  </a:moveTo>
                  <a:lnTo>
                    <a:pt x="235" y="273"/>
                  </a:lnTo>
                  <a:lnTo>
                    <a:pt x="30" y="127"/>
                  </a:lnTo>
                  <a:lnTo>
                    <a:pt x="0" y="0"/>
                  </a:lnTo>
                  <a:lnTo>
                    <a:pt x="17" y="158"/>
                  </a:lnTo>
                  <a:lnTo>
                    <a:pt x="84" y="224"/>
                  </a:lnTo>
                  <a:lnTo>
                    <a:pt x="93" y="419"/>
                  </a:lnTo>
                  <a:lnTo>
                    <a:pt x="142" y="499"/>
                  </a:lnTo>
                  <a:lnTo>
                    <a:pt x="120" y="65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58" name=""/>
            <p:cNvSpPr/>
            <p:nvPr/>
          </p:nvSpPr>
          <p:spPr>
            <a:xfrm>
              <a:off x="1712880" y="333360"/>
              <a:ext cx="630720" cy="313200"/>
            </a:xfrm>
            <a:custGeom>
              <a:avLst/>
              <a:gdLst/>
              <a:ahLst/>
              <a:rect l="0" t="0" r="r" b="b"/>
              <a:pathLst>
                <a:path w="1752" h="870">
                  <a:moveTo>
                    <a:pt x="17" y="591"/>
                  </a:moveTo>
                  <a:lnTo>
                    <a:pt x="167" y="681"/>
                  </a:lnTo>
                  <a:lnTo>
                    <a:pt x="149" y="565"/>
                  </a:lnTo>
                  <a:lnTo>
                    <a:pt x="180" y="371"/>
                  </a:lnTo>
                  <a:lnTo>
                    <a:pt x="282" y="331"/>
                  </a:lnTo>
                  <a:lnTo>
                    <a:pt x="291" y="538"/>
                  </a:lnTo>
                  <a:lnTo>
                    <a:pt x="587" y="167"/>
                  </a:lnTo>
                  <a:lnTo>
                    <a:pt x="658" y="145"/>
                  </a:lnTo>
                  <a:lnTo>
                    <a:pt x="605" y="287"/>
                  </a:lnTo>
                  <a:lnTo>
                    <a:pt x="790" y="362"/>
                  </a:lnTo>
                  <a:lnTo>
                    <a:pt x="922" y="216"/>
                  </a:lnTo>
                  <a:lnTo>
                    <a:pt x="993" y="256"/>
                  </a:lnTo>
                  <a:lnTo>
                    <a:pt x="931" y="384"/>
                  </a:lnTo>
                  <a:lnTo>
                    <a:pt x="1019" y="314"/>
                  </a:lnTo>
                  <a:lnTo>
                    <a:pt x="1147" y="371"/>
                  </a:lnTo>
                  <a:lnTo>
                    <a:pt x="1046" y="472"/>
                  </a:lnTo>
                  <a:lnTo>
                    <a:pt x="1404" y="538"/>
                  </a:lnTo>
                  <a:lnTo>
                    <a:pt x="1160" y="613"/>
                  </a:lnTo>
                  <a:lnTo>
                    <a:pt x="1466" y="654"/>
                  </a:lnTo>
                  <a:lnTo>
                    <a:pt x="1107" y="742"/>
                  </a:lnTo>
                  <a:lnTo>
                    <a:pt x="1182" y="804"/>
                  </a:lnTo>
                  <a:lnTo>
                    <a:pt x="1076" y="870"/>
                  </a:lnTo>
                  <a:lnTo>
                    <a:pt x="1262" y="870"/>
                  </a:lnTo>
                  <a:lnTo>
                    <a:pt x="1244" y="817"/>
                  </a:lnTo>
                  <a:lnTo>
                    <a:pt x="1435" y="866"/>
                  </a:lnTo>
                  <a:lnTo>
                    <a:pt x="1404" y="725"/>
                  </a:lnTo>
                  <a:lnTo>
                    <a:pt x="1580" y="663"/>
                  </a:lnTo>
                  <a:lnTo>
                    <a:pt x="1457" y="596"/>
                  </a:lnTo>
                  <a:lnTo>
                    <a:pt x="1752" y="583"/>
                  </a:lnTo>
                  <a:lnTo>
                    <a:pt x="1496" y="437"/>
                  </a:lnTo>
                  <a:lnTo>
                    <a:pt x="1204" y="406"/>
                  </a:lnTo>
                  <a:lnTo>
                    <a:pt x="1435" y="269"/>
                  </a:lnTo>
                  <a:lnTo>
                    <a:pt x="1019" y="269"/>
                  </a:lnTo>
                  <a:lnTo>
                    <a:pt x="1213" y="127"/>
                  </a:lnTo>
                  <a:lnTo>
                    <a:pt x="913" y="167"/>
                  </a:lnTo>
                  <a:lnTo>
                    <a:pt x="772" y="230"/>
                  </a:lnTo>
                  <a:lnTo>
                    <a:pt x="891" y="0"/>
                  </a:lnTo>
                  <a:lnTo>
                    <a:pt x="530" y="127"/>
                  </a:lnTo>
                  <a:lnTo>
                    <a:pt x="326" y="415"/>
                  </a:lnTo>
                  <a:lnTo>
                    <a:pt x="291" y="256"/>
                  </a:lnTo>
                  <a:lnTo>
                    <a:pt x="127" y="371"/>
                  </a:lnTo>
                  <a:lnTo>
                    <a:pt x="110" y="583"/>
                  </a:lnTo>
                  <a:lnTo>
                    <a:pt x="0" y="538"/>
                  </a:lnTo>
                  <a:lnTo>
                    <a:pt x="39" y="725"/>
                  </a:lnTo>
                  <a:lnTo>
                    <a:pt x="17" y="59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59" name=""/>
            <p:cNvSpPr/>
            <p:nvPr/>
          </p:nvSpPr>
          <p:spPr>
            <a:xfrm>
              <a:off x="1849320" y="500040"/>
              <a:ext cx="178200" cy="93960"/>
            </a:xfrm>
            <a:custGeom>
              <a:avLst/>
              <a:gdLst/>
              <a:ahLst/>
              <a:rect l="0" t="0" r="r" b="b"/>
              <a:pathLst>
                <a:path w="495" h="261">
                  <a:moveTo>
                    <a:pt x="0" y="261"/>
                  </a:moveTo>
                  <a:lnTo>
                    <a:pt x="186" y="0"/>
                  </a:lnTo>
                  <a:lnTo>
                    <a:pt x="186" y="172"/>
                  </a:lnTo>
                  <a:lnTo>
                    <a:pt x="252" y="101"/>
                  </a:lnTo>
                  <a:lnTo>
                    <a:pt x="309" y="199"/>
                  </a:lnTo>
                  <a:lnTo>
                    <a:pt x="495" y="243"/>
                  </a:lnTo>
                  <a:lnTo>
                    <a:pt x="296" y="212"/>
                  </a:lnTo>
                  <a:lnTo>
                    <a:pt x="239" y="146"/>
                  </a:lnTo>
                  <a:lnTo>
                    <a:pt x="155" y="212"/>
                  </a:lnTo>
                  <a:lnTo>
                    <a:pt x="155" y="133"/>
                  </a:lnTo>
                  <a:lnTo>
                    <a:pt x="0" y="261"/>
                  </a:lnTo>
                  <a:close/>
                </a:path>
              </a:pathLst>
            </a:custGeom>
            <a:solidFill>
              <a:srgbClr val="000000"/>
            </a:solidFill>
            <a:ln w="12600">
              <a:solidFill>
                <a:srgbClr val="000000"/>
              </a:solidFill>
              <a:round/>
            </a:ln>
          </p:spPr>
          <p:txBody>
            <a:bodyPr lIns="96120" rIns="96120" tIns="42840" bIns="42840" anchor="t">
              <a:noAutofit/>
            </a:bodyPr>
            <a:p>
              <a:endParaRPr b="0" lang="en-US" sz="1800" spc="-1" strike="noStrike">
                <a:solidFill>
                  <a:srgbClr val="ffffff"/>
                </a:solidFill>
                <a:latin typeface="Arial"/>
              </a:endParaRPr>
            </a:p>
          </p:txBody>
        </p:sp>
        <p:sp>
          <p:nvSpPr>
            <p:cNvPr id="260" name=""/>
            <p:cNvSpPr/>
            <p:nvPr/>
          </p:nvSpPr>
          <p:spPr>
            <a:xfrm>
              <a:off x="1833480" y="1139760"/>
              <a:ext cx="214560" cy="140040"/>
            </a:xfrm>
            <a:custGeom>
              <a:avLst/>
              <a:gdLst/>
              <a:ahLst/>
              <a:rect l="0" t="0" r="r" b="b"/>
              <a:pathLst>
                <a:path w="596" h="389">
                  <a:moveTo>
                    <a:pt x="114" y="136"/>
                  </a:moveTo>
                  <a:lnTo>
                    <a:pt x="358" y="119"/>
                  </a:lnTo>
                  <a:lnTo>
                    <a:pt x="472" y="141"/>
                  </a:lnTo>
                  <a:lnTo>
                    <a:pt x="534" y="88"/>
                  </a:lnTo>
                  <a:lnTo>
                    <a:pt x="596" y="217"/>
                  </a:lnTo>
                  <a:lnTo>
                    <a:pt x="556" y="239"/>
                  </a:lnTo>
                  <a:lnTo>
                    <a:pt x="503" y="195"/>
                  </a:lnTo>
                  <a:lnTo>
                    <a:pt x="424" y="283"/>
                  </a:lnTo>
                  <a:lnTo>
                    <a:pt x="277" y="389"/>
                  </a:lnTo>
                  <a:lnTo>
                    <a:pt x="211" y="389"/>
                  </a:lnTo>
                  <a:lnTo>
                    <a:pt x="114" y="331"/>
                  </a:lnTo>
                  <a:lnTo>
                    <a:pt x="220" y="380"/>
                  </a:lnTo>
                  <a:lnTo>
                    <a:pt x="264" y="380"/>
                  </a:lnTo>
                  <a:lnTo>
                    <a:pt x="358" y="305"/>
                  </a:lnTo>
                  <a:lnTo>
                    <a:pt x="419" y="176"/>
                  </a:lnTo>
                  <a:lnTo>
                    <a:pt x="322" y="158"/>
                  </a:lnTo>
                  <a:lnTo>
                    <a:pt x="260" y="141"/>
                  </a:lnTo>
                  <a:lnTo>
                    <a:pt x="101" y="167"/>
                  </a:lnTo>
                  <a:lnTo>
                    <a:pt x="97" y="269"/>
                  </a:lnTo>
                  <a:lnTo>
                    <a:pt x="44" y="203"/>
                  </a:lnTo>
                  <a:lnTo>
                    <a:pt x="0" y="296"/>
                  </a:lnTo>
                  <a:lnTo>
                    <a:pt x="4" y="101"/>
                  </a:lnTo>
                  <a:lnTo>
                    <a:pt x="61" y="0"/>
                  </a:lnTo>
                  <a:lnTo>
                    <a:pt x="114" y="101"/>
                  </a:lnTo>
                  <a:lnTo>
                    <a:pt x="114" y="13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61" name=""/>
            <p:cNvSpPr/>
            <p:nvPr/>
          </p:nvSpPr>
          <p:spPr>
            <a:xfrm>
              <a:off x="1806480" y="835200"/>
              <a:ext cx="457560" cy="648000"/>
            </a:xfrm>
            <a:custGeom>
              <a:avLst/>
              <a:gdLst/>
              <a:ahLst/>
              <a:rect l="0" t="0" r="r" b="b"/>
              <a:pathLst>
                <a:path w="1271" h="1800">
                  <a:moveTo>
                    <a:pt x="1072" y="0"/>
                  </a:moveTo>
                  <a:lnTo>
                    <a:pt x="1196" y="0"/>
                  </a:lnTo>
                  <a:lnTo>
                    <a:pt x="1271" y="88"/>
                  </a:lnTo>
                  <a:lnTo>
                    <a:pt x="1271" y="185"/>
                  </a:lnTo>
                  <a:lnTo>
                    <a:pt x="1165" y="467"/>
                  </a:lnTo>
                  <a:lnTo>
                    <a:pt x="1063" y="604"/>
                  </a:lnTo>
                  <a:lnTo>
                    <a:pt x="953" y="621"/>
                  </a:lnTo>
                  <a:lnTo>
                    <a:pt x="922" y="621"/>
                  </a:lnTo>
                  <a:lnTo>
                    <a:pt x="922" y="979"/>
                  </a:lnTo>
                  <a:lnTo>
                    <a:pt x="975" y="1235"/>
                  </a:lnTo>
                  <a:lnTo>
                    <a:pt x="975" y="1447"/>
                  </a:lnTo>
                  <a:lnTo>
                    <a:pt x="781" y="1654"/>
                  </a:lnTo>
                  <a:lnTo>
                    <a:pt x="515" y="1800"/>
                  </a:lnTo>
                  <a:lnTo>
                    <a:pt x="352" y="1800"/>
                  </a:lnTo>
                  <a:lnTo>
                    <a:pt x="268" y="1760"/>
                  </a:lnTo>
                  <a:lnTo>
                    <a:pt x="149" y="1513"/>
                  </a:lnTo>
                  <a:lnTo>
                    <a:pt x="39" y="1420"/>
                  </a:lnTo>
                  <a:lnTo>
                    <a:pt x="0" y="1354"/>
                  </a:lnTo>
                  <a:lnTo>
                    <a:pt x="141" y="1447"/>
                  </a:lnTo>
                  <a:lnTo>
                    <a:pt x="246" y="1531"/>
                  </a:lnTo>
                  <a:lnTo>
                    <a:pt x="445" y="1548"/>
                  </a:lnTo>
                  <a:lnTo>
                    <a:pt x="630" y="1460"/>
                  </a:lnTo>
                  <a:lnTo>
                    <a:pt x="728" y="1354"/>
                  </a:lnTo>
                  <a:lnTo>
                    <a:pt x="834" y="1173"/>
                  </a:lnTo>
                  <a:lnTo>
                    <a:pt x="847" y="957"/>
                  </a:lnTo>
                  <a:lnTo>
                    <a:pt x="887" y="264"/>
                  </a:lnTo>
                  <a:lnTo>
                    <a:pt x="931" y="361"/>
                  </a:lnTo>
                  <a:lnTo>
                    <a:pt x="1059" y="242"/>
                  </a:lnTo>
                  <a:lnTo>
                    <a:pt x="1187" y="185"/>
                  </a:lnTo>
                  <a:lnTo>
                    <a:pt x="1222" y="114"/>
                  </a:lnTo>
                  <a:lnTo>
                    <a:pt x="1204" y="39"/>
                  </a:lnTo>
                  <a:lnTo>
                    <a:pt x="1151" y="8"/>
                  </a:lnTo>
                  <a:lnTo>
                    <a:pt x="107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62" name=""/>
            <p:cNvSpPr/>
            <p:nvPr/>
          </p:nvSpPr>
          <p:spPr>
            <a:xfrm>
              <a:off x="1096920" y="1393920"/>
              <a:ext cx="368640" cy="598680"/>
            </a:xfrm>
            <a:custGeom>
              <a:avLst/>
              <a:gdLst/>
              <a:ahLst/>
              <a:rect l="0" t="0" r="r" b="b"/>
              <a:pathLst>
                <a:path w="1024" h="1663">
                  <a:moveTo>
                    <a:pt x="127" y="0"/>
                  </a:moveTo>
                  <a:lnTo>
                    <a:pt x="246" y="74"/>
                  </a:lnTo>
                  <a:lnTo>
                    <a:pt x="335" y="414"/>
                  </a:lnTo>
                  <a:lnTo>
                    <a:pt x="596" y="493"/>
                  </a:lnTo>
                  <a:lnTo>
                    <a:pt x="671" y="577"/>
                  </a:lnTo>
                  <a:lnTo>
                    <a:pt x="684" y="701"/>
                  </a:lnTo>
                  <a:lnTo>
                    <a:pt x="816" y="687"/>
                  </a:lnTo>
                  <a:lnTo>
                    <a:pt x="975" y="793"/>
                  </a:lnTo>
                  <a:lnTo>
                    <a:pt x="1024" y="931"/>
                  </a:lnTo>
                  <a:lnTo>
                    <a:pt x="1024" y="1165"/>
                  </a:lnTo>
                  <a:lnTo>
                    <a:pt x="816" y="1517"/>
                  </a:lnTo>
                  <a:lnTo>
                    <a:pt x="746" y="1663"/>
                  </a:lnTo>
                  <a:lnTo>
                    <a:pt x="781" y="1473"/>
                  </a:lnTo>
                  <a:lnTo>
                    <a:pt x="746" y="1394"/>
                  </a:lnTo>
                  <a:lnTo>
                    <a:pt x="618" y="1279"/>
                  </a:lnTo>
                  <a:lnTo>
                    <a:pt x="418" y="1129"/>
                  </a:lnTo>
                  <a:lnTo>
                    <a:pt x="662" y="1218"/>
                  </a:lnTo>
                  <a:lnTo>
                    <a:pt x="803" y="1323"/>
                  </a:lnTo>
                  <a:lnTo>
                    <a:pt x="874" y="1310"/>
                  </a:lnTo>
                  <a:lnTo>
                    <a:pt x="918" y="1248"/>
                  </a:lnTo>
                  <a:lnTo>
                    <a:pt x="975" y="1076"/>
                  </a:lnTo>
                  <a:lnTo>
                    <a:pt x="957" y="913"/>
                  </a:lnTo>
                  <a:lnTo>
                    <a:pt x="882" y="820"/>
                  </a:lnTo>
                  <a:lnTo>
                    <a:pt x="755" y="793"/>
                  </a:lnTo>
                  <a:lnTo>
                    <a:pt x="618" y="793"/>
                  </a:lnTo>
                  <a:lnTo>
                    <a:pt x="574" y="546"/>
                  </a:lnTo>
                  <a:lnTo>
                    <a:pt x="348" y="463"/>
                  </a:lnTo>
                  <a:lnTo>
                    <a:pt x="348" y="533"/>
                  </a:lnTo>
                  <a:lnTo>
                    <a:pt x="246" y="352"/>
                  </a:lnTo>
                  <a:lnTo>
                    <a:pt x="189" y="74"/>
                  </a:lnTo>
                  <a:lnTo>
                    <a:pt x="101" y="44"/>
                  </a:lnTo>
                  <a:lnTo>
                    <a:pt x="48" y="127"/>
                  </a:lnTo>
                  <a:lnTo>
                    <a:pt x="48" y="321"/>
                  </a:lnTo>
                  <a:lnTo>
                    <a:pt x="92" y="533"/>
                  </a:lnTo>
                  <a:lnTo>
                    <a:pt x="211" y="701"/>
                  </a:lnTo>
                  <a:lnTo>
                    <a:pt x="79" y="599"/>
                  </a:lnTo>
                  <a:lnTo>
                    <a:pt x="13" y="414"/>
                  </a:lnTo>
                  <a:lnTo>
                    <a:pt x="0" y="180"/>
                  </a:lnTo>
                  <a:lnTo>
                    <a:pt x="48" y="44"/>
                  </a:lnTo>
                  <a:lnTo>
                    <a:pt x="12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63" name=""/>
            <p:cNvSpPr/>
            <p:nvPr/>
          </p:nvSpPr>
          <p:spPr>
            <a:xfrm>
              <a:off x="920880" y="1658880"/>
              <a:ext cx="244800" cy="479880"/>
            </a:xfrm>
            <a:custGeom>
              <a:avLst/>
              <a:gdLst/>
              <a:ahLst/>
              <a:rect l="0" t="0" r="r" b="b"/>
              <a:pathLst>
                <a:path w="680" h="1333">
                  <a:moveTo>
                    <a:pt x="680" y="0"/>
                  </a:moveTo>
                  <a:lnTo>
                    <a:pt x="538" y="88"/>
                  </a:lnTo>
                  <a:lnTo>
                    <a:pt x="375" y="411"/>
                  </a:lnTo>
                  <a:lnTo>
                    <a:pt x="211" y="618"/>
                  </a:lnTo>
                  <a:lnTo>
                    <a:pt x="17" y="878"/>
                  </a:lnTo>
                  <a:lnTo>
                    <a:pt x="0" y="1007"/>
                  </a:lnTo>
                  <a:lnTo>
                    <a:pt x="39" y="1122"/>
                  </a:lnTo>
                  <a:lnTo>
                    <a:pt x="132" y="1122"/>
                  </a:lnTo>
                  <a:lnTo>
                    <a:pt x="260" y="1007"/>
                  </a:lnTo>
                  <a:lnTo>
                    <a:pt x="362" y="768"/>
                  </a:lnTo>
                  <a:lnTo>
                    <a:pt x="499" y="618"/>
                  </a:lnTo>
                  <a:lnTo>
                    <a:pt x="499" y="816"/>
                  </a:lnTo>
                  <a:lnTo>
                    <a:pt x="477" y="988"/>
                  </a:lnTo>
                  <a:lnTo>
                    <a:pt x="330" y="1223"/>
                  </a:lnTo>
                  <a:lnTo>
                    <a:pt x="330" y="1302"/>
                  </a:lnTo>
                  <a:lnTo>
                    <a:pt x="477" y="1333"/>
                  </a:lnTo>
                  <a:lnTo>
                    <a:pt x="375" y="1267"/>
                  </a:lnTo>
                  <a:lnTo>
                    <a:pt x="389" y="1223"/>
                  </a:lnTo>
                  <a:lnTo>
                    <a:pt x="490" y="1051"/>
                  </a:lnTo>
                  <a:lnTo>
                    <a:pt x="561" y="737"/>
                  </a:lnTo>
                  <a:lnTo>
                    <a:pt x="512" y="565"/>
                  </a:lnTo>
                  <a:lnTo>
                    <a:pt x="402" y="666"/>
                  </a:lnTo>
                  <a:lnTo>
                    <a:pt x="158" y="1060"/>
                  </a:lnTo>
                  <a:lnTo>
                    <a:pt x="97" y="1077"/>
                  </a:lnTo>
                  <a:lnTo>
                    <a:pt x="39" y="1038"/>
                  </a:lnTo>
                  <a:lnTo>
                    <a:pt x="39" y="913"/>
                  </a:lnTo>
                  <a:lnTo>
                    <a:pt x="132" y="755"/>
                  </a:lnTo>
                  <a:lnTo>
                    <a:pt x="402" y="433"/>
                  </a:lnTo>
                  <a:lnTo>
                    <a:pt x="561" y="123"/>
                  </a:lnTo>
                  <a:lnTo>
                    <a:pt x="68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64" name=""/>
            <p:cNvSpPr/>
            <p:nvPr/>
          </p:nvSpPr>
          <p:spPr>
            <a:xfrm>
              <a:off x="1101600" y="1930320"/>
              <a:ext cx="151200" cy="230400"/>
            </a:xfrm>
            <a:custGeom>
              <a:avLst/>
              <a:gdLst/>
              <a:ahLst/>
              <a:rect l="0" t="0" r="r" b="b"/>
              <a:pathLst>
                <a:path w="420" h="640">
                  <a:moveTo>
                    <a:pt x="0" y="561"/>
                  </a:moveTo>
                  <a:lnTo>
                    <a:pt x="137" y="406"/>
                  </a:lnTo>
                  <a:lnTo>
                    <a:pt x="164" y="238"/>
                  </a:lnTo>
                  <a:lnTo>
                    <a:pt x="323" y="0"/>
                  </a:lnTo>
                  <a:lnTo>
                    <a:pt x="359" y="158"/>
                  </a:lnTo>
                  <a:lnTo>
                    <a:pt x="337" y="578"/>
                  </a:lnTo>
                  <a:lnTo>
                    <a:pt x="420" y="640"/>
                  </a:lnTo>
                  <a:lnTo>
                    <a:pt x="296" y="591"/>
                  </a:lnTo>
                  <a:lnTo>
                    <a:pt x="234" y="353"/>
                  </a:lnTo>
                  <a:lnTo>
                    <a:pt x="137" y="472"/>
                  </a:lnTo>
                  <a:lnTo>
                    <a:pt x="0" y="56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65" name=""/>
            <p:cNvSpPr/>
            <p:nvPr/>
          </p:nvSpPr>
          <p:spPr>
            <a:xfrm>
              <a:off x="1287360" y="1940040"/>
              <a:ext cx="98640" cy="208440"/>
            </a:xfrm>
            <a:custGeom>
              <a:avLst/>
              <a:gdLst/>
              <a:ahLst/>
              <a:rect l="0" t="0" r="r" b="b"/>
              <a:pathLst>
                <a:path w="274" h="579">
                  <a:moveTo>
                    <a:pt x="0" y="433"/>
                  </a:moveTo>
                  <a:lnTo>
                    <a:pt x="13" y="221"/>
                  </a:lnTo>
                  <a:lnTo>
                    <a:pt x="70" y="92"/>
                  </a:lnTo>
                  <a:lnTo>
                    <a:pt x="132" y="553"/>
                  </a:lnTo>
                  <a:lnTo>
                    <a:pt x="217" y="553"/>
                  </a:lnTo>
                  <a:lnTo>
                    <a:pt x="252" y="66"/>
                  </a:lnTo>
                  <a:lnTo>
                    <a:pt x="274" y="0"/>
                  </a:lnTo>
                  <a:lnTo>
                    <a:pt x="252" y="375"/>
                  </a:lnTo>
                  <a:lnTo>
                    <a:pt x="217" y="579"/>
                  </a:lnTo>
                  <a:lnTo>
                    <a:pt x="105" y="579"/>
                  </a:lnTo>
                  <a:lnTo>
                    <a:pt x="61" y="181"/>
                  </a:lnTo>
                  <a:lnTo>
                    <a:pt x="35" y="239"/>
                  </a:lnTo>
                  <a:lnTo>
                    <a:pt x="0" y="43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66" name=""/>
            <p:cNvSpPr/>
            <p:nvPr/>
          </p:nvSpPr>
          <p:spPr>
            <a:xfrm>
              <a:off x="2556000" y="1128600"/>
              <a:ext cx="241560" cy="552960"/>
            </a:xfrm>
            <a:custGeom>
              <a:avLst/>
              <a:gdLst/>
              <a:ahLst/>
              <a:rect l="0" t="0" r="r" b="b"/>
              <a:pathLst>
                <a:path w="671" h="1536">
                  <a:moveTo>
                    <a:pt x="176" y="830"/>
                  </a:moveTo>
                  <a:lnTo>
                    <a:pt x="224" y="591"/>
                  </a:lnTo>
                  <a:lnTo>
                    <a:pt x="455" y="530"/>
                  </a:lnTo>
                  <a:lnTo>
                    <a:pt x="671" y="0"/>
                  </a:lnTo>
                  <a:lnTo>
                    <a:pt x="671" y="154"/>
                  </a:lnTo>
                  <a:lnTo>
                    <a:pt x="486" y="561"/>
                  </a:lnTo>
                  <a:lnTo>
                    <a:pt x="246" y="636"/>
                  </a:lnTo>
                  <a:lnTo>
                    <a:pt x="211" y="830"/>
                  </a:lnTo>
                  <a:lnTo>
                    <a:pt x="295" y="830"/>
                  </a:lnTo>
                  <a:lnTo>
                    <a:pt x="88" y="918"/>
                  </a:lnTo>
                  <a:lnTo>
                    <a:pt x="39" y="1081"/>
                  </a:lnTo>
                  <a:lnTo>
                    <a:pt x="48" y="1294"/>
                  </a:lnTo>
                  <a:lnTo>
                    <a:pt x="273" y="1536"/>
                  </a:lnTo>
                  <a:lnTo>
                    <a:pt x="39" y="1320"/>
                  </a:lnTo>
                  <a:lnTo>
                    <a:pt x="0" y="1138"/>
                  </a:lnTo>
                  <a:lnTo>
                    <a:pt x="17" y="966"/>
                  </a:lnTo>
                  <a:lnTo>
                    <a:pt x="101" y="838"/>
                  </a:lnTo>
                  <a:lnTo>
                    <a:pt x="176" y="83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67" name=""/>
            <p:cNvSpPr/>
            <p:nvPr/>
          </p:nvSpPr>
          <p:spPr>
            <a:xfrm>
              <a:off x="2719440" y="1128600"/>
              <a:ext cx="403560" cy="535320"/>
            </a:xfrm>
            <a:custGeom>
              <a:avLst/>
              <a:gdLst/>
              <a:ahLst/>
              <a:rect l="0" t="0" r="r" b="b"/>
              <a:pathLst>
                <a:path w="1121" h="1487">
                  <a:moveTo>
                    <a:pt x="308" y="0"/>
                  </a:moveTo>
                  <a:lnTo>
                    <a:pt x="374" y="44"/>
                  </a:lnTo>
                  <a:lnTo>
                    <a:pt x="396" y="171"/>
                  </a:lnTo>
                  <a:lnTo>
                    <a:pt x="396" y="291"/>
                  </a:lnTo>
                  <a:lnTo>
                    <a:pt x="273" y="507"/>
                  </a:lnTo>
                  <a:lnTo>
                    <a:pt x="295" y="665"/>
                  </a:lnTo>
                  <a:lnTo>
                    <a:pt x="675" y="834"/>
                  </a:lnTo>
                  <a:lnTo>
                    <a:pt x="1112" y="1306"/>
                  </a:lnTo>
                  <a:lnTo>
                    <a:pt x="1121" y="1429"/>
                  </a:lnTo>
                  <a:lnTo>
                    <a:pt x="1094" y="1487"/>
                  </a:lnTo>
                  <a:lnTo>
                    <a:pt x="931" y="1487"/>
                  </a:lnTo>
                  <a:lnTo>
                    <a:pt x="785" y="1398"/>
                  </a:lnTo>
                  <a:lnTo>
                    <a:pt x="666" y="1244"/>
                  </a:lnTo>
                  <a:lnTo>
                    <a:pt x="600" y="1151"/>
                  </a:lnTo>
                  <a:lnTo>
                    <a:pt x="520" y="1143"/>
                  </a:lnTo>
                  <a:lnTo>
                    <a:pt x="613" y="1143"/>
                  </a:lnTo>
                  <a:lnTo>
                    <a:pt x="799" y="1385"/>
                  </a:lnTo>
                  <a:lnTo>
                    <a:pt x="1032" y="1456"/>
                  </a:lnTo>
                  <a:lnTo>
                    <a:pt x="1085" y="1385"/>
                  </a:lnTo>
                  <a:lnTo>
                    <a:pt x="1059" y="1271"/>
                  </a:lnTo>
                  <a:lnTo>
                    <a:pt x="649" y="931"/>
                  </a:lnTo>
                  <a:lnTo>
                    <a:pt x="591" y="834"/>
                  </a:lnTo>
                  <a:lnTo>
                    <a:pt x="273" y="755"/>
                  </a:lnTo>
                  <a:lnTo>
                    <a:pt x="216" y="834"/>
                  </a:lnTo>
                  <a:lnTo>
                    <a:pt x="0" y="979"/>
                  </a:lnTo>
                  <a:lnTo>
                    <a:pt x="202" y="816"/>
                  </a:lnTo>
                  <a:lnTo>
                    <a:pt x="216" y="709"/>
                  </a:lnTo>
                  <a:lnTo>
                    <a:pt x="216" y="471"/>
                  </a:lnTo>
                  <a:lnTo>
                    <a:pt x="361" y="291"/>
                  </a:lnTo>
                  <a:lnTo>
                    <a:pt x="361" y="61"/>
                  </a:lnTo>
                  <a:lnTo>
                    <a:pt x="30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68" name=""/>
            <p:cNvSpPr/>
            <p:nvPr/>
          </p:nvSpPr>
          <p:spPr>
            <a:xfrm>
              <a:off x="2644920" y="1549440"/>
              <a:ext cx="344880" cy="316440"/>
            </a:xfrm>
            <a:custGeom>
              <a:avLst/>
              <a:gdLst/>
              <a:ahLst/>
              <a:rect l="0" t="0" r="r" b="b"/>
              <a:pathLst>
                <a:path w="958" h="879">
                  <a:moveTo>
                    <a:pt x="720" y="0"/>
                  </a:moveTo>
                  <a:lnTo>
                    <a:pt x="693" y="74"/>
                  </a:lnTo>
                  <a:lnTo>
                    <a:pt x="835" y="367"/>
                  </a:lnTo>
                  <a:lnTo>
                    <a:pt x="910" y="663"/>
                  </a:lnTo>
                  <a:lnTo>
                    <a:pt x="826" y="663"/>
                  </a:lnTo>
                  <a:lnTo>
                    <a:pt x="680" y="534"/>
                  </a:lnTo>
                  <a:lnTo>
                    <a:pt x="552" y="256"/>
                  </a:lnTo>
                  <a:lnTo>
                    <a:pt x="450" y="216"/>
                  </a:lnTo>
                  <a:lnTo>
                    <a:pt x="468" y="367"/>
                  </a:lnTo>
                  <a:lnTo>
                    <a:pt x="561" y="472"/>
                  </a:lnTo>
                  <a:lnTo>
                    <a:pt x="561" y="685"/>
                  </a:lnTo>
                  <a:lnTo>
                    <a:pt x="490" y="839"/>
                  </a:lnTo>
                  <a:lnTo>
                    <a:pt x="402" y="778"/>
                  </a:lnTo>
                  <a:lnTo>
                    <a:pt x="296" y="534"/>
                  </a:lnTo>
                  <a:lnTo>
                    <a:pt x="269" y="367"/>
                  </a:lnTo>
                  <a:lnTo>
                    <a:pt x="207" y="318"/>
                  </a:lnTo>
                  <a:lnTo>
                    <a:pt x="189" y="747"/>
                  </a:lnTo>
                  <a:lnTo>
                    <a:pt x="101" y="808"/>
                  </a:lnTo>
                  <a:lnTo>
                    <a:pt x="26" y="747"/>
                  </a:lnTo>
                  <a:lnTo>
                    <a:pt x="13" y="380"/>
                  </a:lnTo>
                  <a:lnTo>
                    <a:pt x="0" y="734"/>
                  </a:lnTo>
                  <a:lnTo>
                    <a:pt x="61" y="861"/>
                  </a:lnTo>
                  <a:lnTo>
                    <a:pt x="189" y="861"/>
                  </a:lnTo>
                  <a:lnTo>
                    <a:pt x="229" y="760"/>
                  </a:lnTo>
                  <a:lnTo>
                    <a:pt x="256" y="433"/>
                  </a:lnTo>
                  <a:lnTo>
                    <a:pt x="278" y="561"/>
                  </a:lnTo>
                  <a:lnTo>
                    <a:pt x="389" y="848"/>
                  </a:lnTo>
                  <a:lnTo>
                    <a:pt x="503" y="879"/>
                  </a:lnTo>
                  <a:lnTo>
                    <a:pt x="591" y="760"/>
                  </a:lnTo>
                  <a:lnTo>
                    <a:pt x="591" y="486"/>
                  </a:lnTo>
                  <a:lnTo>
                    <a:pt x="826" y="716"/>
                  </a:lnTo>
                  <a:lnTo>
                    <a:pt x="945" y="716"/>
                  </a:lnTo>
                  <a:lnTo>
                    <a:pt x="958" y="561"/>
                  </a:lnTo>
                  <a:lnTo>
                    <a:pt x="870" y="287"/>
                  </a:lnTo>
                  <a:lnTo>
                    <a:pt x="720" y="61"/>
                  </a:lnTo>
                  <a:lnTo>
                    <a:pt x="72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69" name=""/>
            <p:cNvSpPr/>
            <p:nvPr/>
          </p:nvSpPr>
          <p:spPr>
            <a:xfrm>
              <a:off x="1258920" y="1220760"/>
              <a:ext cx="1526040" cy="1292760"/>
            </a:xfrm>
            <a:custGeom>
              <a:avLst/>
              <a:gdLst/>
              <a:ahLst/>
              <a:rect l="0" t="0" r="r" b="b"/>
              <a:pathLst>
                <a:path w="4239" h="3591">
                  <a:moveTo>
                    <a:pt x="1526" y="304"/>
                  </a:moveTo>
                  <a:lnTo>
                    <a:pt x="1447" y="317"/>
                  </a:lnTo>
                  <a:lnTo>
                    <a:pt x="1328" y="498"/>
                  </a:lnTo>
                  <a:lnTo>
                    <a:pt x="1288" y="366"/>
                  </a:lnTo>
                  <a:lnTo>
                    <a:pt x="1151" y="291"/>
                  </a:lnTo>
                  <a:lnTo>
                    <a:pt x="1049" y="343"/>
                  </a:lnTo>
                  <a:lnTo>
                    <a:pt x="1005" y="577"/>
                  </a:lnTo>
                  <a:lnTo>
                    <a:pt x="626" y="864"/>
                  </a:lnTo>
                  <a:lnTo>
                    <a:pt x="652" y="984"/>
                  </a:lnTo>
                  <a:lnTo>
                    <a:pt x="560" y="1094"/>
                  </a:lnTo>
                  <a:lnTo>
                    <a:pt x="560" y="1191"/>
                  </a:lnTo>
                  <a:lnTo>
                    <a:pt x="670" y="1456"/>
                  </a:lnTo>
                  <a:lnTo>
                    <a:pt x="679" y="1791"/>
                  </a:lnTo>
                  <a:lnTo>
                    <a:pt x="604" y="2104"/>
                  </a:lnTo>
                  <a:lnTo>
                    <a:pt x="335" y="2294"/>
                  </a:lnTo>
                  <a:lnTo>
                    <a:pt x="295" y="2549"/>
                  </a:lnTo>
                  <a:lnTo>
                    <a:pt x="211" y="2549"/>
                  </a:lnTo>
                  <a:lnTo>
                    <a:pt x="171" y="2338"/>
                  </a:lnTo>
                  <a:lnTo>
                    <a:pt x="88" y="2338"/>
                  </a:lnTo>
                  <a:lnTo>
                    <a:pt x="48" y="2563"/>
                  </a:lnTo>
                  <a:lnTo>
                    <a:pt x="0" y="2620"/>
                  </a:lnTo>
                  <a:lnTo>
                    <a:pt x="189" y="2934"/>
                  </a:lnTo>
                  <a:lnTo>
                    <a:pt x="321" y="2943"/>
                  </a:lnTo>
                  <a:lnTo>
                    <a:pt x="560" y="3177"/>
                  </a:lnTo>
                  <a:lnTo>
                    <a:pt x="776" y="3199"/>
                  </a:lnTo>
                  <a:lnTo>
                    <a:pt x="899" y="3084"/>
                  </a:lnTo>
                  <a:lnTo>
                    <a:pt x="1191" y="2638"/>
                  </a:lnTo>
                  <a:lnTo>
                    <a:pt x="1218" y="3238"/>
                  </a:lnTo>
                  <a:lnTo>
                    <a:pt x="1191" y="3591"/>
                  </a:lnTo>
                  <a:lnTo>
                    <a:pt x="3644" y="3591"/>
                  </a:lnTo>
                  <a:lnTo>
                    <a:pt x="3463" y="3199"/>
                  </a:lnTo>
                  <a:lnTo>
                    <a:pt x="3375" y="2872"/>
                  </a:lnTo>
                  <a:lnTo>
                    <a:pt x="3353" y="2373"/>
                  </a:lnTo>
                  <a:lnTo>
                    <a:pt x="3494" y="2488"/>
                  </a:lnTo>
                  <a:lnTo>
                    <a:pt x="3644" y="2488"/>
                  </a:lnTo>
                  <a:lnTo>
                    <a:pt x="3842" y="2355"/>
                  </a:lnTo>
                  <a:lnTo>
                    <a:pt x="3975" y="2338"/>
                  </a:lnTo>
                  <a:lnTo>
                    <a:pt x="4058" y="2205"/>
                  </a:lnTo>
                  <a:lnTo>
                    <a:pt x="4120" y="1866"/>
                  </a:lnTo>
                  <a:lnTo>
                    <a:pt x="4239" y="1729"/>
                  </a:lnTo>
                  <a:lnTo>
                    <a:pt x="4178" y="1628"/>
                  </a:lnTo>
                  <a:lnTo>
                    <a:pt x="4085" y="1628"/>
                  </a:lnTo>
                  <a:lnTo>
                    <a:pt x="4014" y="1698"/>
                  </a:lnTo>
                  <a:lnTo>
                    <a:pt x="3944" y="1716"/>
                  </a:lnTo>
                  <a:lnTo>
                    <a:pt x="3856" y="1628"/>
                  </a:lnTo>
                  <a:lnTo>
                    <a:pt x="3750" y="1610"/>
                  </a:lnTo>
                  <a:lnTo>
                    <a:pt x="3560" y="1487"/>
                  </a:lnTo>
                  <a:lnTo>
                    <a:pt x="3437" y="1350"/>
                  </a:lnTo>
                  <a:lnTo>
                    <a:pt x="3415" y="1191"/>
                  </a:lnTo>
                  <a:lnTo>
                    <a:pt x="3437" y="1032"/>
                  </a:lnTo>
                  <a:lnTo>
                    <a:pt x="3516" y="895"/>
                  </a:lnTo>
                  <a:lnTo>
                    <a:pt x="3622" y="780"/>
                  </a:lnTo>
                  <a:lnTo>
                    <a:pt x="3613" y="573"/>
                  </a:lnTo>
                  <a:lnTo>
                    <a:pt x="3613" y="423"/>
                  </a:lnTo>
                  <a:lnTo>
                    <a:pt x="3560" y="317"/>
                  </a:lnTo>
                  <a:lnTo>
                    <a:pt x="3415" y="273"/>
                  </a:lnTo>
                  <a:lnTo>
                    <a:pt x="3366" y="242"/>
                  </a:lnTo>
                  <a:lnTo>
                    <a:pt x="3265" y="66"/>
                  </a:lnTo>
                  <a:lnTo>
                    <a:pt x="3181" y="13"/>
                  </a:lnTo>
                  <a:lnTo>
                    <a:pt x="3092" y="0"/>
                  </a:lnTo>
                  <a:lnTo>
                    <a:pt x="3017" y="30"/>
                  </a:lnTo>
                  <a:lnTo>
                    <a:pt x="2955" y="127"/>
                  </a:lnTo>
                  <a:lnTo>
                    <a:pt x="2862" y="185"/>
                  </a:lnTo>
                  <a:lnTo>
                    <a:pt x="2761" y="198"/>
                  </a:lnTo>
                  <a:lnTo>
                    <a:pt x="2642" y="198"/>
                  </a:lnTo>
                  <a:lnTo>
                    <a:pt x="2664" y="379"/>
                  </a:lnTo>
                  <a:lnTo>
                    <a:pt x="2664" y="599"/>
                  </a:lnTo>
                  <a:lnTo>
                    <a:pt x="2642" y="749"/>
                  </a:lnTo>
                  <a:lnTo>
                    <a:pt x="2536" y="922"/>
                  </a:lnTo>
                  <a:lnTo>
                    <a:pt x="2404" y="1196"/>
                  </a:lnTo>
                  <a:lnTo>
                    <a:pt x="2298" y="1517"/>
                  </a:lnTo>
                  <a:lnTo>
                    <a:pt x="2289" y="1716"/>
                  </a:lnTo>
                  <a:lnTo>
                    <a:pt x="2241" y="1879"/>
                  </a:lnTo>
                  <a:lnTo>
                    <a:pt x="2179" y="2042"/>
                  </a:lnTo>
                  <a:lnTo>
                    <a:pt x="2148" y="2302"/>
                  </a:lnTo>
                  <a:lnTo>
                    <a:pt x="2166" y="2518"/>
                  </a:lnTo>
                  <a:lnTo>
                    <a:pt x="2241" y="2775"/>
                  </a:lnTo>
                  <a:lnTo>
                    <a:pt x="2289" y="2872"/>
                  </a:lnTo>
                  <a:lnTo>
                    <a:pt x="2148" y="2965"/>
                  </a:lnTo>
                  <a:lnTo>
                    <a:pt x="1976" y="3022"/>
                  </a:lnTo>
                  <a:lnTo>
                    <a:pt x="1791" y="3040"/>
                  </a:lnTo>
                  <a:lnTo>
                    <a:pt x="1672" y="3040"/>
                  </a:lnTo>
                  <a:lnTo>
                    <a:pt x="1597" y="3005"/>
                  </a:lnTo>
                  <a:lnTo>
                    <a:pt x="1597" y="2788"/>
                  </a:lnTo>
                  <a:lnTo>
                    <a:pt x="1597" y="2470"/>
                  </a:lnTo>
                  <a:lnTo>
                    <a:pt x="1553" y="2157"/>
                  </a:lnTo>
                  <a:lnTo>
                    <a:pt x="1478" y="1879"/>
                  </a:lnTo>
                  <a:lnTo>
                    <a:pt x="1438" y="1659"/>
                  </a:lnTo>
                  <a:lnTo>
                    <a:pt x="1425" y="1337"/>
                  </a:lnTo>
                  <a:lnTo>
                    <a:pt x="1478" y="1063"/>
                  </a:lnTo>
                  <a:lnTo>
                    <a:pt x="1553" y="837"/>
                  </a:lnTo>
                  <a:lnTo>
                    <a:pt x="1562" y="705"/>
                  </a:lnTo>
                  <a:lnTo>
                    <a:pt x="1526" y="511"/>
                  </a:lnTo>
                  <a:lnTo>
                    <a:pt x="1526" y="366"/>
                  </a:lnTo>
                  <a:lnTo>
                    <a:pt x="1553" y="317"/>
                  </a:lnTo>
                  <a:lnTo>
                    <a:pt x="1526" y="30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70" name=""/>
            <p:cNvSpPr/>
            <p:nvPr/>
          </p:nvSpPr>
          <p:spPr>
            <a:xfrm>
              <a:off x="1852560" y="1481040"/>
              <a:ext cx="194040" cy="838440"/>
            </a:xfrm>
            <a:custGeom>
              <a:avLst/>
              <a:gdLst/>
              <a:ahLst/>
              <a:rect l="0" t="0" r="r" b="b"/>
              <a:pathLst>
                <a:path w="539" h="2329">
                  <a:moveTo>
                    <a:pt x="217" y="26"/>
                  </a:moveTo>
                  <a:lnTo>
                    <a:pt x="70" y="101"/>
                  </a:lnTo>
                  <a:lnTo>
                    <a:pt x="83" y="326"/>
                  </a:lnTo>
                  <a:lnTo>
                    <a:pt x="190" y="388"/>
                  </a:lnTo>
                  <a:lnTo>
                    <a:pt x="61" y="635"/>
                  </a:lnTo>
                  <a:lnTo>
                    <a:pt x="0" y="908"/>
                  </a:lnTo>
                  <a:lnTo>
                    <a:pt x="0" y="1165"/>
                  </a:lnTo>
                  <a:lnTo>
                    <a:pt x="61" y="1394"/>
                  </a:lnTo>
                  <a:lnTo>
                    <a:pt x="114" y="1681"/>
                  </a:lnTo>
                  <a:lnTo>
                    <a:pt x="114" y="1839"/>
                  </a:lnTo>
                  <a:lnTo>
                    <a:pt x="61" y="2047"/>
                  </a:lnTo>
                  <a:lnTo>
                    <a:pt x="278" y="2329"/>
                  </a:lnTo>
                  <a:lnTo>
                    <a:pt x="371" y="2280"/>
                  </a:lnTo>
                  <a:lnTo>
                    <a:pt x="429" y="2086"/>
                  </a:lnTo>
                  <a:lnTo>
                    <a:pt x="531" y="1831"/>
                  </a:lnTo>
                  <a:lnTo>
                    <a:pt x="539" y="1694"/>
                  </a:lnTo>
                  <a:lnTo>
                    <a:pt x="456" y="1438"/>
                  </a:lnTo>
                  <a:lnTo>
                    <a:pt x="353" y="1191"/>
                  </a:lnTo>
                  <a:lnTo>
                    <a:pt x="318" y="1009"/>
                  </a:lnTo>
                  <a:lnTo>
                    <a:pt x="318" y="846"/>
                  </a:lnTo>
                  <a:lnTo>
                    <a:pt x="353" y="696"/>
                  </a:lnTo>
                  <a:lnTo>
                    <a:pt x="429" y="507"/>
                  </a:lnTo>
                  <a:lnTo>
                    <a:pt x="429" y="436"/>
                  </a:lnTo>
                  <a:lnTo>
                    <a:pt x="393" y="357"/>
                  </a:lnTo>
                  <a:lnTo>
                    <a:pt x="495" y="264"/>
                  </a:lnTo>
                  <a:lnTo>
                    <a:pt x="495" y="180"/>
                  </a:lnTo>
                  <a:lnTo>
                    <a:pt x="353" y="0"/>
                  </a:lnTo>
                  <a:lnTo>
                    <a:pt x="469" y="180"/>
                  </a:lnTo>
                  <a:lnTo>
                    <a:pt x="469" y="251"/>
                  </a:lnTo>
                  <a:lnTo>
                    <a:pt x="367" y="326"/>
                  </a:lnTo>
                  <a:lnTo>
                    <a:pt x="407" y="436"/>
                  </a:lnTo>
                  <a:lnTo>
                    <a:pt x="393" y="507"/>
                  </a:lnTo>
                  <a:lnTo>
                    <a:pt x="292" y="723"/>
                  </a:lnTo>
                  <a:lnTo>
                    <a:pt x="278" y="934"/>
                  </a:lnTo>
                  <a:lnTo>
                    <a:pt x="305" y="1128"/>
                  </a:lnTo>
                  <a:lnTo>
                    <a:pt x="371" y="1412"/>
                  </a:lnTo>
                  <a:lnTo>
                    <a:pt x="456" y="1632"/>
                  </a:lnTo>
                  <a:lnTo>
                    <a:pt x="456" y="1817"/>
                  </a:lnTo>
                  <a:lnTo>
                    <a:pt x="407" y="2047"/>
                  </a:lnTo>
                  <a:lnTo>
                    <a:pt x="305" y="2280"/>
                  </a:lnTo>
                  <a:lnTo>
                    <a:pt x="177" y="2152"/>
                  </a:lnTo>
                  <a:lnTo>
                    <a:pt x="127" y="2047"/>
                  </a:lnTo>
                  <a:lnTo>
                    <a:pt x="137" y="1817"/>
                  </a:lnTo>
                  <a:lnTo>
                    <a:pt x="127" y="1584"/>
                  </a:lnTo>
                  <a:lnTo>
                    <a:pt x="61" y="1275"/>
                  </a:lnTo>
                  <a:lnTo>
                    <a:pt x="39" y="1067"/>
                  </a:lnTo>
                  <a:lnTo>
                    <a:pt x="61" y="829"/>
                  </a:lnTo>
                  <a:lnTo>
                    <a:pt x="114" y="599"/>
                  </a:lnTo>
                  <a:lnTo>
                    <a:pt x="225" y="374"/>
                  </a:lnTo>
                  <a:lnTo>
                    <a:pt x="127" y="282"/>
                  </a:lnTo>
                  <a:lnTo>
                    <a:pt x="114" y="119"/>
                  </a:lnTo>
                  <a:lnTo>
                    <a:pt x="217"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71" name=""/>
            <p:cNvSpPr/>
            <p:nvPr/>
          </p:nvSpPr>
          <p:spPr>
            <a:xfrm>
              <a:off x="2403360" y="500040"/>
              <a:ext cx="303480" cy="410040"/>
            </a:xfrm>
            <a:custGeom>
              <a:avLst/>
              <a:gdLst/>
              <a:ahLst/>
              <a:rect l="0" t="0" r="r" b="b"/>
              <a:pathLst>
                <a:path w="843" h="1139">
                  <a:moveTo>
                    <a:pt x="141" y="292"/>
                  </a:moveTo>
                  <a:lnTo>
                    <a:pt x="264" y="264"/>
                  </a:lnTo>
                  <a:lnTo>
                    <a:pt x="383" y="277"/>
                  </a:lnTo>
                  <a:lnTo>
                    <a:pt x="486" y="322"/>
                  </a:lnTo>
                  <a:lnTo>
                    <a:pt x="538" y="384"/>
                  </a:lnTo>
                  <a:lnTo>
                    <a:pt x="565" y="446"/>
                  </a:lnTo>
                  <a:lnTo>
                    <a:pt x="565" y="503"/>
                  </a:lnTo>
                  <a:lnTo>
                    <a:pt x="534" y="538"/>
                  </a:lnTo>
                  <a:lnTo>
                    <a:pt x="481" y="569"/>
                  </a:lnTo>
                  <a:lnTo>
                    <a:pt x="418" y="569"/>
                  </a:lnTo>
                  <a:lnTo>
                    <a:pt x="343" y="552"/>
                  </a:lnTo>
                  <a:lnTo>
                    <a:pt x="268" y="508"/>
                  </a:lnTo>
                  <a:lnTo>
                    <a:pt x="211" y="464"/>
                  </a:lnTo>
                  <a:lnTo>
                    <a:pt x="189" y="609"/>
                  </a:lnTo>
                  <a:lnTo>
                    <a:pt x="141" y="710"/>
                  </a:lnTo>
                  <a:lnTo>
                    <a:pt x="0" y="954"/>
                  </a:lnTo>
                  <a:lnTo>
                    <a:pt x="202" y="1139"/>
                  </a:lnTo>
                  <a:lnTo>
                    <a:pt x="357" y="830"/>
                  </a:lnTo>
                  <a:lnTo>
                    <a:pt x="534" y="857"/>
                  </a:lnTo>
                  <a:lnTo>
                    <a:pt x="644" y="834"/>
                  </a:lnTo>
                  <a:lnTo>
                    <a:pt x="746" y="763"/>
                  </a:lnTo>
                  <a:lnTo>
                    <a:pt x="807" y="675"/>
                  </a:lnTo>
                  <a:lnTo>
                    <a:pt x="843" y="561"/>
                  </a:lnTo>
                  <a:lnTo>
                    <a:pt x="843" y="437"/>
                  </a:lnTo>
                  <a:lnTo>
                    <a:pt x="807" y="305"/>
                  </a:lnTo>
                  <a:lnTo>
                    <a:pt x="741" y="171"/>
                  </a:lnTo>
                  <a:lnTo>
                    <a:pt x="653" y="83"/>
                  </a:lnTo>
                  <a:lnTo>
                    <a:pt x="552" y="26"/>
                  </a:lnTo>
                  <a:lnTo>
                    <a:pt x="428" y="0"/>
                  </a:lnTo>
                  <a:lnTo>
                    <a:pt x="277" y="0"/>
                  </a:lnTo>
                  <a:lnTo>
                    <a:pt x="114" y="30"/>
                  </a:lnTo>
                  <a:lnTo>
                    <a:pt x="141" y="292"/>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2" name=""/>
            <p:cNvSpPr/>
            <p:nvPr/>
          </p:nvSpPr>
          <p:spPr>
            <a:xfrm>
              <a:off x="2347920" y="896760"/>
              <a:ext cx="111600" cy="81360"/>
            </a:xfrm>
            <a:custGeom>
              <a:avLst/>
              <a:gdLst/>
              <a:ahLst/>
              <a:rect l="0" t="0" r="r" b="b"/>
              <a:pathLst>
                <a:path w="310" h="226">
                  <a:moveTo>
                    <a:pt x="124" y="0"/>
                  </a:moveTo>
                  <a:lnTo>
                    <a:pt x="44" y="0"/>
                  </a:lnTo>
                  <a:lnTo>
                    <a:pt x="0" y="30"/>
                  </a:lnTo>
                  <a:lnTo>
                    <a:pt x="0" y="111"/>
                  </a:lnTo>
                  <a:lnTo>
                    <a:pt x="61" y="196"/>
                  </a:lnTo>
                  <a:lnTo>
                    <a:pt x="186" y="226"/>
                  </a:lnTo>
                  <a:lnTo>
                    <a:pt x="279" y="222"/>
                  </a:lnTo>
                  <a:lnTo>
                    <a:pt x="310" y="168"/>
                  </a:lnTo>
                  <a:lnTo>
                    <a:pt x="293" y="124"/>
                  </a:lnTo>
                  <a:lnTo>
                    <a:pt x="253" y="58"/>
                  </a:lnTo>
                  <a:lnTo>
                    <a:pt x="172" y="8"/>
                  </a:lnTo>
                  <a:lnTo>
                    <a:pt x="124" y="0"/>
                  </a:lnTo>
                  <a:close/>
                </a:path>
              </a:pathLst>
            </a:custGeom>
            <a:solidFill>
              <a:srgbClr val="fc0128"/>
            </a:solid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73" name=""/>
          <p:cNvSpPr txBox="1"/>
          <p:nvPr/>
        </p:nvSpPr>
        <p:spPr>
          <a:xfrm>
            <a:off x="1371600" y="838080"/>
            <a:ext cx="6819840" cy="13716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Inventory Systems</a:t>
            </a:r>
            <a:endParaRPr b="0" lang="en-US" sz="4400" spc="-1" strike="noStrike">
              <a:solidFill>
                <a:srgbClr val="ffffff"/>
              </a:solidFill>
              <a:latin typeface="Arial"/>
            </a:endParaRPr>
          </a:p>
        </p:txBody>
      </p:sp>
      <p:sp>
        <p:nvSpPr>
          <p:cNvPr id="274" name=""/>
          <p:cNvSpPr txBox="1"/>
          <p:nvPr/>
        </p:nvSpPr>
        <p:spPr>
          <a:xfrm>
            <a:off x="1676520" y="2133720"/>
            <a:ext cx="6781680" cy="313704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
            </a:pPr>
            <a:r>
              <a:rPr b="1" lang="en-US" sz="3600" spc="-1" strike="noStrike">
                <a:solidFill>
                  <a:srgbClr val="fcffd8"/>
                </a:solidFill>
                <a:latin typeface="Arial"/>
                <a:ea typeface="Arial"/>
              </a:rPr>
              <a:t>OBJECTIVE 3</a:t>
            </a:r>
            <a:endParaRPr b="0" lang="en-US" sz="3600" spc="-1" strike="noStrike">
              <a:solidFill>
                <a:srgbClr val="ffffff"/>
              </a:solidFill>
              <a:latin typeface="Arial"/>
            </a:endParaRPr>
          </a:p>
          <a:p>
            <a:pPr marL="343080" indent="-343080">
              <a:lnSpc>
                <a:spcPct val="110000"/>
              </a:lnSpc>
              <a:spcBef>
                <a:spcPts val="479"/>
              </a:spcBef>
              <a:buClr>
                <a:srgbClr val="ffcc66"/>
              </a:buClr>
              <a:buFont typeface="Monotype Sorts"/>
              <a:buChar char=" "/>
            </a:pPr>
            <a:r>
              <a:rPr b="1" lang="en-US" sz="3200" spc="-1" strike="noStrike">
                <a:solidFill>
                  <a:srgbClr val="fcffd8"/>
                </a:solidFill>
                <a:latin typeface="Arial"/>
                <a:ea typeface="Arial"/>
              </a:rPr>
              <a:t>Distinguish between the periodic and the perpetual inventory systems, and explain the importance of taking a physical inventory.</a:t>
            </a:r>
            <a:endParaRPr b="0" lang="en-US" sz="3200" spc="-1" strike="noStrike">
              <a:solidFill>
                <a:srgbClr val="ffffff"/>
              </a:solidFill>
              <a:latin typeface="Arial"/>
            </a:endParaRPr>
          </a:p>
        </p:txBody>
      </p:sp>
      <p:pic>
        <p:nvPicPr>
          <p:cNvPr id="275" name="" descr=""/>
          <p:cNvPicPr/>
          <p:nvPr/>
        </p:nvPicPr>
        <p:blipFill>
          <a:blip r:embed="rId1"/>
          <a:stretch/>
        </p:blipFill>
        <p:spPr>
          <a:xfrm>
            <a:off x="0" y="0"/>
            <a:ext cx="812880" cy="6985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76" name=""/>
          <p:cNvSpPr txBox="1"/>
          <p:nvPr/>
        </p:nvSpPr>
        <p:spPr>
          <a:xfrm>
            <a:off x="838080" y="914400"/>
            <a:ext cx="8077320" cy="50392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Count inventory periodically, usually at the end of the accounting period.</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Do not maintain detailed records.</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Figure for inventory on hand is accurate only on the balance sheet date.</a:t>
            </a:r>
            <a:endParaRPr b="0" lang="en-US" sz="28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As soon as any sales or purchases are made, the figure becomes a historical amount until the end of the next accounting period.</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May be used in business to reduce clerical cost.</a:t>
            </a:r>
            <a:endParaRPr b="0" lang="en-US" sz="2800" spc="-1" strike="noStrike">
              <a:solidFill>
                <a:srgbClr val="ffffff"/>
              </a:solidFill>
              <a:latin typeface="Arial"/>
            </a:endParaRPr>
          </a:p>
        </p:txBody>
      </p:sp>
      <p:sp>
        <p:nvSpPr>
          <p:cNvPr id="277" name=""/>
          <p:cNvSpPr txBox="1"/>
          <p:nvPr/>
        </p:nvSpPr>
        <p:spPr>
          <a:xfrm>
            <a:off x="838080" y="39600"/>
            <a:ext cx="7967520" cy="10270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Periodic Inventory System</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78" name=""/>
          <p:cNvSpPr txBox="1"/>
          <p:nvPr/>
        </p:nvSpPr>
        <p:spPr>
          <a:xfrm>
            <a:off x="762120" y="838080"/>
            <a:ext cx="8077320" cy="54100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Records are kept of the quantity and, usually, the cost of individual items as they are bought or sold.</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This system provides useful information for management purposes.</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The cost of each item is recorded in the Merchandise Inventory account when purchased.</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As merchandise is sold, its cost is transferred from Merchandise Inventory account to the Cost of Goods Sold account.</a:t>
            </a:r>
            <a:endParaRPr b="0" lang="en-US" sz="2800" spc="-1" strike="noStrike">
              <a:solidFill>
                <a:srgbClr val="ffffff"/>
              </a:solidFill>
              <a:latin typeface="Arial"/>
            </a:endParaRPr>
          </a:p>
        </p:txBody>
      </p:sp>
      <p:sp>
        <p:nvSpPr>
          <p:cNvPr id="279" name=""/>
          <p:cNvSpPr txBox="1"/>
          <p:nvPr/>
        </p:nvSpPr>
        <p:spPr>
          <a:xfrm>
            <a:off x="762120" y="0"/>
            <a:ext cx="8292960" cy="10206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Perpetual Inventory System</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80" name=""/>
          <p:cNvSpPr txBox="1"/>
          <p:nvPr/>
        </p:nvSpPr>
        <p:spPr>
          <a:xfrm>
            <a:off x="914400" y="1295280"/>
            <a:ext cx="7772400" cy="487692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2800" spc="-1" strike="noStrike">
                <a:solidFill>
                  <a:srgbClr val="fcffd8"/>
                </a:solidFill>
                <a:latin typeface="Arial"/>
                <a:ea typeface="Arial"/>
              </a:rPr>
              <a:t>The balance of the Merchandise Inventory account equals the cost of goods on hand.</a:t>
            </a:r>
            <a:endParaRPr b="0" lang="en-US" sz="2800" spc="-1" strike="noStrike">
              <a:solidFill>
                <a:srgbClr val="ffffff"/>
              </a:solidFill>
              <a:latin typeface="Arial"/>
            </a:endParaRPr>
          </a:p>
          <a:p>
            <a:pPr marL="343080" indent="-343080">
              <a:lnSpc>
                <a:spcPct val="120000"/>
              </a:lnSpc>
              <a:spcBef>
                <a:spcPts val="479"/>
              </a:spcBef>
              <a:buClr>
                <a:srgbClr val="ffcc66"/>
              </a:buClr>
              <a:buFont typeface="Monotype Sorts"/>
              <a:buChar char=""/>
            </a:pPr>
            <a:r>
              <a:rPr b="1" lang="en-US" sz="2800" spc="-1" strike="noStrike">
                <a:solidFill>
                  <a:srgbClr val="fcffd8"/>
                </a:solidFill>
                <a:latin typeface="Arial"/>
                <a:ea typeface="Arial"/>
              </a:rPr>
              <a:t>The balance of the Cost of Goods Sold account equals the cost of the merchandise sold to customers.</a:t>
            </a:r>
            <a:endParaRPr b="0" lang="en-US" sz="2800" spc="-1" strike="noStrike">
              <a:solidFill>
                <a:srgbClr val="ffffff"/>
              </a:solidFill>
              <a:latin typeface="Arial"/>
            </a:endParaRPr>
          </a:p>
          <a:p>
            <a:pPr marL="343080" indent="-343080">
              <a:lnSpc>
                <a:spcPct val="120000"/>
              </a:lnSpc>
              <a:spcBef>
                <a:spcPts val="479"/>
              </a:spcBef>
              <a:buClr>
                <a:srgbClr val="ffcc66"/>
              </a:buClr>
              <a:buFont typeface="Monotype Sorts"/>
              <a:buChar char=""/>
            </a:pPr>
            <a:r>
              <a:rPr b="1" lang="en-US" sz="2800" spc="-1" strike="noStrike">
                <a:solidFill>
                  <a:srgbClr val="fcffd8"/>
                </a:solidFill>
                <a:latin typeface="Arial"/>
                <a:ea typeface="Arial"/>
              </a:rPr>
              <a:t>The Purchases account is not used.</a:t>
            </a:r>
            <a:endParaRPr b="0" lang="en-US" sz="2800" spc="-1" strike="noStrike">
              <a:solidFill>
                <a:srgbClr val="ffffff"/>
              </a:solidFill>
              <a:latin typeface="Arial"/>
            </a:endParaRPr>
          </a:p>
          <a:p>
            <a:pPr marL="343080" indent="-343080">
              <a:lnSpc>
                <a:spcPct val="120000"/>
              </a:lnSpc>
              <a:spcBef>
                <a:spcPts val="479"/>
              </a:spcBef>
              <a:buClr>
                <a:srgbClr val="ffcc66"/>
              </a:buClr>
              <a:buFont typeface="Monotype Sorts"/>
              <a:buChar char=""/>
            </a:pPr>
            <a:r>
              <a:rPr b="1" lang="en-US" sz="2800" spc="-1" strike="noStrike">
                <a:solidFill>
                  <a:srgbClr val="fcffd8"/>
                </a:solidFill>
                <a:latin typeface="Arial"/>
                <a:ea typeface="Arial"/>
              </a:rPr>
              <a:t>Due to the widespread use of computers, the distinction between which inventory system is most appropriate is blurred.</a:t>
            </a:r>
            <a:endParaRPr b="0" lang="en-US" sz="2800" spc="-1" strike="noStrike">
              <a:solidFill>
                <a:srgbClr val="ffffff"/>
              </a:solidFill>
              <a:latin typeface="Arial"/>
            </a:endParaRPr>
          </a:p>
        </p:txBody>
      </p:sp>
      <p:sp>
        <p:nvSpPr>
          <p:cNvPr id="281" name=""/>
          <p:cNvSpPr txBox="1"/>
          <p:nvPr/>
        </p:nvSpPr>
        <p:spPr>
          <a:xfrm>
            <a:off x="406440" y="304920"/>
            <a:ext cx="881388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Perpetual Inventory System</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8" name=""/>
          <p:cNvSpPr txBox="1"/>
          <p:nvPr/>
        </p:nvSpPr>
        <p:spPr>
          <a:xfrm>
            <a:off x="838080" y="990720"/>
            <a:ext cx="7924680" cy="5410080"/>
          </a:xfrm>
          <a:prstGeom prst="rect">
            <a:avLst/>
          </a:prstGeom>
          <a:noFill/>
          <a:ln w="0">
            <a:noFill/>
          </a:ln>
        </p:spPr>
        <p:txBody>
          <a:bodyPr lIns="0" rIns="0" tIns="0" bIns="0" anchor="t">
            <a:noAutofit/>
          </a:bodyPr>
          <a:p>
            <a:pPr marL="458640" indent="-458640">
              <a:lnSpc>
                <a:spcPct val="110000"/>
              </a:lnSpc>
              <a:spcBef>
                <a:spcPts val="479"/>
              </a:spcBef>
            </a:pPr>
            <a:r>
              <a:rPr b="1" lang="en-US" sz="2800" spc="-1" strike="noStrike">
                <a:solidFill>
                  <a:srgbClr val="fcffd8"/>
                </a:solidFill>
                <a:latin typeface="Arial"/>
                <a:ea typeface="Arial"/>
              </a:rPr>
              <a:t>4.</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Contrast and record transactions related to sales and purchases under the periodic and the perpetual inventory systems.</a:t>
            </a:r>
            <a:endParaRPr b="0" lang="en-US" sz="2800" spc="-1" strike="noStrike">
              <a:solidFill>
                <a:srgbClr val="ffffff"/>
              </a:solidFill>
              <a:latin typeface="Arial"/>
            </a:endParaRPr>
          </a:p>
          <a:p>
            <a:pPr marL="458640" indent="-458640">
              <a:lnSpc>
                <a:spcPct val="110000"/>
              </a:lnSpc>
              <a:spcBef>
                <a:spcPts val="479"/>
              </a:spcBef>
            </a:pPr>
            <a:r>
              <a:rPr b="1" lang="en-US" sz="2800" spc="-1" strike="noStrike">
                <a:solidFill>
                  <a:srgbClr val="fcffd8"/>
                </a:solidFill>
                <a:latin typeface="Arial"/>
                <a:ea typeface="Arial"/>
              </a:rPr>
              <a:t>5.</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Prepare a work sheet and closing entries for a merchandising concern using the periodic inventory system.</a:t>
            </a:r>
            <a:endParaRPr b="0" lang="en-US" sz="2800" spc="-1" strike="noStrike">
              <a:solidFill>
                <a:srgbClr val="ffffff"/>
              </a:solidFill>
              <a:latin typeface="Arial"/>
            </a:endParaRPr>
          </a:p>
          <a:p>
            <a:pPr marL="458640" indent="-458640">
              <a:lnSpc>
                <a:spcPct val="110000"/>
              </a:lnSpc>
              <a:spcBef>
                <a:spcPts val="479"/>
              </a:spcBef>
            </a:pPr>
            <a:r>
              <a:rPr b="1" lang="en-US" sz="2800" spc="-1" strike="noStrike">
                <a:solidFill>
                  <a:srgbClr val="fcffd8"/>
                </a:solidFill>
                <a:latin typeface="Arial"/>
                <a:ea typeface="Arial"/>
              </a:rPr>
              <a:t>6.</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Prepare a work sheet and closing entries for a merchandising concern using the perpetual inventory system.</a:t>
            </a:r>
            <a:endParaRPr b="0" lang="en-US" sz="2800" spc="-1" strike="noStrike">
              <a:solidFill>
                <a:srgbClr val="ffffff"/>
              </a:solidFill>
              <a:latin typeface="Arial"/>
            </a:endParaRPr>
          </a:p>
          <a:p>
            <a:pPr marL="458640" indent="-458640">
              <a:lnSpc>
                <a:spcPct val="110000"/>
              </a:lnSpc>
              <a:spcBef>
                <a:spcPts val="479"/>
              </a:spcBef>
            </a:pPr>
            <a:r>
              <a:rPr b="1" lang="en-US" sz="2800" spc="-1" strike="noStrike">
                <a:solidFill>
                  <a:srgbClr val="fcffd8"/>
                </a:solidFill>
                <a:latin typeface="Arial"/>
                <a:ea typeface="Arial"/>
              </a:rPr>
              <a:t>7.</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Apply sales and purchases discounts to merchandising transactions.</a:t>
            </a:r>
            <a:endParaRPr b="0" lang="en-US" sz="2800" spc="-1" strike="noStrike">
              <a:solidFill>
                <a:srgbClr val="ffffff"/>
              </a:solidFill>
              <a:latin typeface="Arial"/>
            </a:endParaRPr>
          </a:p>
        </p:txBody>
      </p:sp>
      <p:sp>
        <p:nvSpPr>
          <p:cNvPr id="49" name=""/>
          <p:cNvSpPr txBox="1"/>
          <p:nvPr/>
        </p:nvSpPr>
        <p:spPr>
          <a:xfrm>
            <a:off x="990720" y="0"/>
            <a:ext cx="7772400" cy="1295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LEARNING OBJECTIVES</a:t>
            </a:r>
            <a:endParaRPr b="0" lang="en-US" sz="4400" spc="-1" strike="noStrike">
              <a:solidFill>
                <a:srgbClr val="ffffff"/>
              </a:solidFill>
              <a:latin typeface="Arial"/>
            </a:endParaRPr>
          </a:p>
        </p:txBody>
      </p:sp>
      <p:pic>
        <p:nvPicPr>
          <p:cNvPr id="50" name="" descr=""/>
          <p:cNvPicPr/>
          <p:nvPr/>
        </p:nvPicPr>
        <p:blipFill>
          <a:blip r:embed="rId1"/>
          <a:stretch/>
        </p:blipFill>
        <p:spPr>
          <a:xfrm>
            <a:off x="0" y="0"/>
            <a:ext cx="812880" cy="6985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82" name=""/>
          <p:cNvSpPr txBox="1"/>
          <p:nvPr/>
        </p:nvSpPr>
        <p:spPr>
          <a:xfrm>
            <a:off x="990720" y="457200"/>
            <a:ext cx="7721640" cy="868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Taking a Physical Inventory</a:t>
            </a:r>
            <a:endParaRPr b="0" lang="en-US" sz="4400" spc="-1" strike="noStrike">
              <a:solidFill>
                <a:srgbClr val="ffffff"/>
              </a:solidFill>
              <a:latin typeface="Arial"/>
            </a:endParaRPr>
          </a:p>
        </p:txBody>
      </p:sp>
      <p:sp>
        <p:nvSpPr>
          <p:cNvPr id="283" name=""/>
          <p:cNvSpPr txBox="1"/>
          <p:nvPr/>
        </p:nvSpPr>
        <p:spPr>
          <a:xfrm>
            <a:off x="914400" y="1371600"/>
            <a:ext cx="7772400" cy="495288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A physical inventory means actually counting all merchandise on hand.</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It is easy to omit or double count items.</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It is done under both periodic and perpetual inventory systems.</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Merchandise inventory includes all goods intended for sale, regardless of where they are physically locat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84" name=""/>
          <p:cNvSpPr txBox="1"/>
          <p:nvPr/>
        </p:nvSpPr>
        <p:spPr>
          <a:xfrm>
            <a:off x="635040" y="304920"/>
            <a:ext cx="8508960" cy="10666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Taking a Physical</a:t>
            </a:r>
            <a:r>
              <a:rPr b="1" lang="en-US" sz="4000" spc="-1" strike="noStrike">
                <a:solidFill>
                  <a:srgbClr val="ffcc66"/>
                </a:solidFill>
                <a:latin typeface="Arial"/>
                <a:ea typeface="Arial"/>
              </a:rPr>
              <a:t> </a:t>
            </a:r>
            <a:r>
              <a:rPr b="1" lang="en-US" sz="4400" spc="-1" strike="noStrike">
                <a:solidFill>
                  <a:srgbClr val="ffcc66"/>
                </a:solidFill>
                <a:latin typeface="Arial"/>
                <a:ea typeface="Arial"/>
              </a:rPr>
              <a:t>Inventory</a:t>
            </a:r>
            <a:endParaRPr b="0" lang="en-US" sz="4400" spc="-1" strike="noStrike">
              <a:solidFill>
                <a:srgbClr val="ffffff"/>
              </a:solidFill>
              <a:latin typeface="Arial"/>
            </a:endParaRPr>
          </a:p>
        </p:txBody>
      </p:sp>
      <p:sp>
        <p:nvSpPr>
          <p:cNvPr id="285" name=""/>
          <p:cNvSpPr txBox="1"/>
          <p:nvPr/>
        </p:nvSpPr>
        <p:spPr>
          <a:xfrm>
            <a:off x="838080" y="1219320"/>
            <a:ext cx="7924680" cy="47242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 count does not include merchandise sold but not delivered or goods that cannot be sold.</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 actual count is usually taken after close of business on the last day of the fiscal year.</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Counting procedures must be carefully planned and may include the use of bar cod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86" name=""/>
          <p:cNvSpPr txBox="1"/>
          <p:nvPr/>
        </p:nvSpPr>
        <p:spPr>
          <a:xfrm>
            <a:off x="2133720" y="1523880"/>
            <a:ext cx="4432320" cy="126036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sp>
        <p:nvSpPr>
          <p:cNvPr id="287" name=""/>
          <p:cNvSpPr txBox="1"/>
          <p:nvPr/>
        </p:nvSpPr>
        <p:spPr>
          <a:xfrm>
            <a:off x="1066680" y="2743200"/>
            <a:ext cx="7620120" cy="2590920"/>
          </a:xfrm>
          <a:prstGeom prst="rect">
            <a:avLst/>
          </a:prstGeom>
          <a:noFill/>
          <a:ln w="0">
            <a:noFill/>
          </a:ln>
        </p:spPr>
        <p:txBody>
          <a:bodyPr lIns="0" rIns="0" tIns="0" bIns="0" anchor="t">
            <a:noAutofit/>
          </a:bodyPr>
          <a:p>
            <a:pPr marL="343080" indent="-343080">
              <a:lnSpc>
                <a:spcPct val="120000"/>
              </a:lnSpc>
              <a:spcBef>
                <a:spcPts val="479"/>
              </a:spcBef>
            </a:pPr>
            <a:r>
              <a:rPr b="1" lang="en-US" sz="3200" spc="-1" strike="noStrike">
                <a:solidFill>
                  <a:srgbClr val="fc0128"/>
                </a:solidFill>
                <a:latin typeface="Arial"/>
                <a:ea typeface="Arial"/>
              </a:rPr>
              <a:t>Q.</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What is the difference between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the periodic inventory system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and the perpetual inventory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system?</a:t>
            </a:r>
            <a:endParaRPr b="0" lang="en-US" sz="3200" spc="-1" strike="noStrike">
              <a:solidFill>
                <a:srgbClr val="ffffff"/>
              </a:solidFill>
              <a:latin typeface="Arial"/>
            </a:endParaRPr>
          </a:p>
        </p:txBody>
      </p:sp>
      <p:grpSp>
        <p:nvGrpSpPr>
          <p:cNvPr id="288" name=""/>
          <p:cNvGrpSpPr/>
          <p:nvPr/>
        </p:nvGrpSpPr>
        <p:grpSpPr>
          <a:xfrm>
            <a:off x="6400800" y="380880"/>
            <a:ext cx="2360880" cy="2284560"/>
            <a:chOff x="6400800" y="380880"/>
            <a:chExt cx="2360880" cy="2284560"/>
          </a:xfrm>
        </p:grpSpPr>
        <p:sp>
          <p:nvSpPr>
            <p:cNvPr id="289" name=""/>
            <p:cNvSpPr/>
            <p:nvPr/>
          </p:nvSpPr>
          <p:spPr>
            <a:xfrm>
              <a:off x="6407280" y="1501920"/>
              <a:ext cx="573480" cy="798840"/>
            </a:xfrm>
            <a:custGeom>
              <a:avLst/>
              <a:gdLst/>
              <a:ahLst/>
              <a:rect l="0" t="0" r="r" b="b"/>
              <a:pathLst>
                <a:path w="1593" h="2219">
                  <a:moveTo>
                    <a:pt x="636" y="0"/>
                  </a:moveTo>
                  <a:lnTo>
                    <a:pt x="552" y="97"/>
                  </a:lnTo>
                  <a:lnTo>
                    <a:pt x="552" y="388"/>
                  </a:lnTo>
                  <a:lnTo>
                    <a:pt x="636" y="595"/>
                  </a:lnTo>
                  <a:lnTo>
                    <a:pt x="733" y="701"/>
                  </a:lnTo>
                  <a:lnTo>
                    <a:pt x="587" y="842"/>
                  </a:lnTo>
                  <a:lnTo>
                    <a:pt x="396" y="1165"/>
                  </a:lnTo>
                  <a:lnTo>
                    <a:pt x="30" y="1676"/>
                  </a:lnTo>
                  <a:lnTo>
                    <a:pt x="0" y="1795"/>
                  </a:lnTo>
                  <a:lnTo>
                    <a:pt x="30" y="1901"/>
                  </a:lnTo>
                  <a:lnTo>
                    <a:pt x="149" y="1901"/>
                  </a:lnTo>
                  <a:lnTo>
                    <a:pt x="242" y="1782"/>
                  </a:lnTo>
                  <a:lnTo>
                    <a:pt x="396" y="1495"/>
                  </a:lnTo>
                  <a:lnTo>
                    <a:pt x="494" y="1372"/>
                  </a:lnTo>
                  <a:lnTo>
                    <a:pt x="552" y="1562"/>
                  </a:lnTo>
                  <a:lnTo>
                    <a:pt x="512" y="1764"/>
                  </a:lnTo>
                  <a:lnTo>
                    <a:pt x="352" y="2055"/>
                  </a:lnTo>
                  <a:lnTo>
                    <a:pt x="396" y="2126"/>
                  </a:lnTo>
                  <a:lnTo>
                    <a:pt x="494" y="2104"/>
                  </a:lnTo>
                  <a:lnTo>
                    <a:pt x="693" y="1954"/>
                  </a:lnTo>
                  <a:lnTo>
                    <a:pt x="847" y="1694"/>
                  </a:lnTo>
                  <a:lnTo>
                    <a:pt x="847" y="2144"/>
                  </a:lnTo>
                  <a:lnTo>
                    <a:pt x="1037" y="2219"/>
                  </a:lnTo>
                  <a:lnTo>
                    <a:pt x="1147" y="1941"/>
                  </a:lnTo>
                  <a:lnTo>
                    <a:pt x="1249" y="2197"/>
                  </a:lnTo>
                  <a:lnTo>
                    <a:pt x="1324" y="2126"/>
                  </a:lnTo>
                  <a:lnTo>
                    <a:pt x="1360" y="1610"/>
                  </a:lnTo>
                  <a:lnTo>
                    <a:pt x="1593" y="1125"/>
                  </a:lnTo>
                  <a:lnTo>
                    <a:pt x="1540" y="842"/>
                  </a:lnTo>
                  <a:lnTo>
                    <a:pt x="1377" y="740"/>
                  </a:lnTo>
                  <a:lnTo>
                    <a:pt x="1210" y="754"/>
                  </a:lnTo>
                  <a:lnTo>
                    <a:pt x="1147" y="524"/>
                  </a:lnTo>
                  <a:lnTo>
                    <a:pt x="975" y="476"/>
                  </a:lnTo>
                  <a:lnTo>
                    <a:pt x="821" y="401"/>
                  </a:lnTo>
                  <a:lnTo>
                    <a:pt x="733" y="48"/>
                  </a:lnTo>
                  <a:lnTo>
                    <a:pt x="636"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a:off x="6888240" y="1825560"/>
              <a:ext cx="170280" cy="387720"/>
            </a:xfrm>
            <a:custGeom>
              <a:avLst/>
              <a:gdLst/>
              <a:ahLst/>
              <a:rect l="0" t="0" r="r" b="b"/>
              <a:pathLst>
                <a:path w="473" h="1077">
                  <a:moveTo>
                    <a:pt x="239" y="0"/>
                  </a:moveTo>
                  <a:lnTo>
                    <a:pt x="473" y="278"/>
                  </a:lnTo>
                  <a:lnTo>
                    <a:pt x="353" y="883"/>
                  </a:lnTo>
                  <a:lnTo>
                    <a:pt x="0" y="1077"/>
                  </a:lnTo>
                  <a:lnTo>
                    <a:pt x="0" y="772"/>
                  </a:lnTo>
                  <a:lnTo>
                    <a:pt x="146" y="459"/>
                  </a:lnTo>
                  <a:lnTo>
                    <a:pt x="239" y="224"/>
                  </a:lnTo>
                  <a:lnTo>
                    <a:pt x="239"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1" name=""/>
            <p:cNvSpPr/>
            <p:nvPr/>
          </p:nvSpPr>
          <p:spPr>
            <a:xfrm>
              <a:off x="7986600" y="1604880"/>
              <a:ext cx="422640" cy="348120"/>
            </a:xfrm>
            <a:custGeom>
              <a:avLst/>
              <a:gdLst/>
              <a:ahLst/>
              <a:rect l="0" t="0" r="r" b="b"/>
              <a:pathLst>
                <a:path w="1174" h="967">
                  <a:moveTo>
                    <a:pt x="486" y="0"/>
                  </a:moveTo>
                  <a:lnTo>
                    <a:pt x="486" y="154"/>
                  </a:lnTo>
                  <a:lnTo>
                    <a:pt x="525" y="292"/>
                  </a:lnTo>
                  <a:lnTo>
                    <a:pt x="755" y="521"/>
                  </a:lnTo>
                  <a:lnTo>
                    <a:pt x="1174" y="653"/>
                  </a:lnTo>
                  <a:lnTo>
                    <a:pt x="1117" y="945"/>
                  </a:lnTo>
                  <a:lnTo>
                    <a:pt x="755" y="967"/>
                  </a:lnTo>
                  <a:lnTo>
                    <a:pt x="224" y="756"/>
                  </a:lnTo>
                  <a:lnTo>
                    <a:pt x="0" y="384"/>
                  </a:lnTo>
                  <a:lnTo>
                    <a:pt x="264" y="17"/>
                  </a:lnTo>
                  <a:lnTo>
                    <a:pt x="486"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a:off x="8156520" y="1209600"/>
              <a:ext cx="590760" cy="768600"/>
            </a:xfrm>
            <a:custGeom>
              <a:avLst/>
              <a:gdLst/>
              <a:ahLst/>
              <a:rect l="0" t="0" r="r" b="b"/>
              <a:pathLst>
                <a:path w="1641" h="2135">
                  <a:moveTo>
                    <a:pt x="149" y="903"/>
                  </a:moveTo>
                  <a:lnTo>
                    <a:pt x="0" y="1058"/>
                  </a:lnTo>
                  <a:lnTo>
                    <a:pt x="30" y="1407"/>
                  </a:lnTo>
                  <a:lnTo>
                    <a:pt x="260" y="1566"/>
                  </a:lnTo>
                  <a:lnTo>
                    <a:pt x="277" y="2095"/>
                  </a:lnTo>
                  <a:lnTo>
                    <a:pt x="511" y="2095"/>
                  </a:lnTo>
                  <a:lnTo>
                    <a:pt x="493" y="1650"/>
                  </a:lnTo>
                  <a:lnTo>
                    <a:pt x="661" y="2113"/>
                  </a:lnTo>
                  <a:lnTo>
                    <a:pt x="780" y="2135"/>
                  </a:lnTo>
                  <a:lnTo>
                    <a:pt x="860" y="1976"/>
                  </a:lnTo>
                  <a:lnTo>
                    <a:pt x="878" y="1685"/>
                  </a:lnTo>
                  <a:lnTo>
                    <a:pt x="1129" y="1958"/>
                  </a:lnTo>
                  <a:lnTo>
                    <a:pt x="1226" y="1936"/>
                  </a:lnTo>
                  <a:lnTo>
                    <a:pt x="1204" y="1747"/>
                  </a:lnTo>
                  <a:lnTo>
                    <a:pt x="1112" y="1478"/>
                  </a:lnTo>
                  <a:lnTo>
                    <a:pt x="1015" y="1301"/>
                  </a:lnTo>
                  <a:lnTo>
                    <a:pt x="1050" y="1178"/>
                  </a:lnTo>
                  <a:lnTo>
                    <a:pt x="1112" y="1200"/>
                  </a:lnTo>
                  <a:lnTo>
                    <a:pt x="1341" y="1478"/>
                  </a:lnTo>
                  <a:lnTo>
                    <a:pt x="1588" y="1548"/>
                  </a:lnTo>
                  <a:lnTo>
                    <a:pt x="1641" y="1460"/>
                  </a:lnTo>
                  <a:lnTo>
                    <a:pt x="1606" y="1319"/>
                  </a:lnTo>
                  <a:lnTo>
                    <a:pt x="1147" y="886"/>
                  </a:lnTo>
                  <a:lnTo>
                    <a:pt x="780" y="754"/>
                  </a:lnTo>
                  <a:lnTo>
                    <a:pt x="736" y="515"/>
                  </a:lnTo>
                  <a:lnTo>
                    <a:pt x="860" y="299"/>
                  </a:lnTo>
                  <a:lnTo>
                    <a:pt x="860" y="70"/>
                  </a:lnTo>
                  <a:lnTo>
                    <a:pt x="758" y="0"/>
                  </a:lnTo>
                  <a:lnTo>
                    <a:pt x="493" y="577"/>
                  </a:lnTo>
                  <a:lnTo>
                    <a:pt x="260" y="665"/>
                  </a:lnTo>
                  <a:lnTo>
                    <a:pt x="202" y="820"/>
                  </a:lnTo>
                  <a:lnTo>
                    <a:pt x="149" y="903"/>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7186680" y="542880"/>
              <a:ext cx="644760" cy="983160"/>
            </a:xfrm>
            <a:custGeom>
              <a:avLst/>
              <a:gdLst/>
              <a:ahLst/>
              <a:rect l="0" t="0" r="r" b="b"/>
              <a:pathLst>
                <a:path w="1791" h="2731">
                  <a:moveTo>
                    <a:pt x="449" y="379"/>
                  </a:moveTo>
                  <a:lnTo>
                    <a:pt x="313" y="900"/>
                  </a:lnTo>
                  <a:lnTo>
                    <a:pt x="17" y="1006"/>
                  </a:lnTo>
                  <a:lnTo>
                    <a:pt x="97" y="1173"/>
                  </a:lnTo>
                  <a:lnTo>
                    <a:pt x="0" y="1275"/>
                  </a:lnTo>
                  <a:lnTo>
                    <a:pt x="0" y="1465"/>
                  </a:lnTo>
                  <a:lnTo>
                    <a:pt x="145" y="1637"/>
                  </a:lnTo>
                  <a:lnTo>
                    <a:pt x="277" y="1637"/>
                  </a:lnTo>
                  <a:lnTo>
                    <a:pt x="370" y="2246"/>
                  </a:lnTo>
                  <a:lnTo>
                    <a:pt x="485" y="2506"/>
                  </a:lnTo>
                  <a:lnTo>
                    <a:pt x="851" y="2731"/>
                  </a:lnTo>
                  <a:lnTo>
                    <a:pt x="1218" y="2696"/>
                  </a:lnTo>
                  <a:lnTo>
                    <a:pt x="1390" y="2246"/>
                  </a:lnTo>
                  <a:lnTo>
                    <a:pt x="1434" y="1553"/>
                  </a:lnTo>
                  <a:lnTo>
                    <a:pt x="1791" y="1209"/>
                  </a:lnTo>
                  <a:lnTo>
                    <a:pt x="1773" y="1072"/>
                  </a:lnTo>
                  <a:lnTo>
                    <a:pt x="1734" y="1006"/>
                  </a:lnTo>
                  <a:lnTo>
                    <a:pt x="1544" y="988"/>
                  </a:lnTo>
                  <a:lnTo>
                    <a:pt x="1601" y="812"/>
                  </a:lnTo>
                  <a:lnTo>
                    <a:pt x="1416" y="693"/>
                  </a:lnTo>
                  <a:lnTo>
                    <a:pt x="1332" y="299"/>
                  </a:lnTo>
                  <a:lnTo>
                    <a:pt x="776" y="0"/>
                  </a:lnTo>
                  <a:lnTo>
                    <a:pt x="485" y="277"/>
                  </a:lnTo>
                  <a:lnTo>
                    <a:pt x="449" y="379"/>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294" name=""/>
            <p:cNvSpPr/>
            <p:nvPr/>
          </p:nvSpPr>
          <p:spPr>
            <a:xfrm>
              <a:off x="7234200" y="1362240"/>
              <a:ext cx="590760" cy="1173600"/>
            </a:xfrm>
            <a:custGeom>
              <a:avLst/>
              <a:gdLst/>
              <a:ahLst/>
              <a:rect l="0" t="0" r="r" b="b"/>
              <a:pathLst>
                <a:path w="1641" h="3260">
                  <a:moveTo>
                    <a:pt x="335" y="171"/>
                  </a:moveTo>
                  <a:lnTo>
                    <a:pt x="568" y="326"/>
                  </a:lnTo>
                  <a:lnTo>
                    <a:pt x="687" y="498"/>
                  </a:lnTo>
                  <a:lnTo>
                    <a:pt x="1341" y="0"/>
                  </a:lnTo>
                  <a:lnTo>
                    <a:pt x="1548" y="101"/>
                  </a:lnTo>
                  <a:lnTo>
                    <a:pt x="1641" y="617"/>
                  </a:lnTo>
                  <a:lnTo>
                    <a:pt x="1165" y="2117"/>
                  </a:lnTo>
                  <a:lnTo>
                    <a:pt x="1319" y="2947"/>
                  </a:lnTo>
                  <a:lnTo>
                    <a:pt x="701" y="3260"/>
                  </a:lnTo>
                  <a:lnTo>
                    <a:pt x="220" y="3084"/>
                  </a:lnTo>
                  <a:lnTo>
                    <a:pt x="220" y="2205"/>
                  </a:lnTo>
                  <a:lnTo>
                    <a:pt x="0" y="1354"/>
                  </a:lnTo>
                  <a:lnTo>
                    <a:pt x="220" y="326"/>
                  </a:lnTo>
                  <a:lnTo>
                    <a:pt x="335" y="171"/>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a:off x="7259760" y="412920"/>
              <a:ext cx="551160" cy="309960"/>
            </a:xfrm>
            <a:custGeom>
              <a:avLst/>
              <a:gdLst/>
              <a:ahLst/>
              <a:rect l="0" t="0" r="r" b="b"/>
              <a:pathLst>
                <a:path w="1531" h="861">
                  <a:moveTo>
                    <a:pt x="189" y="822"/>
                  </a:moveTo>
                  <a:lnTo>
                    <a:pt x="414" y="591"/>
                  </a:lnTo>
                  <a:lnTo>
                    <a:pt x="555" y="556"/>
                  </a:lnTo>
                  <a:lnTo>
                    <a:pt x="555" y="578"/>
                  </a:lnTo>
                  <a:lnTo>
                    <a:pt x="626" y="556"/>
                  </a:lnTo>
                  <a:lnTo>
                    <a:pt x="723" y="627"/>
                  </a:lnTo>
                  <a:lnTo>
                    <a:pt x="904" y="659"/>
                  </a:lnTo>
                  <a:lnTo>
                    <a:pt x="1050" y="861"/>
                  </a:lnTo>
                  <a:lnTo>
                    <a:pt x="1288" y="773"/>
                  </a:lnTo>
                  <a:lnTo>
                    <a:pt x="1288" y="681"/>
                  </a:lnTo>
                  <a:lnTo>
                    <a:pt x="1531" y="578"/>
                  </a:lnTo>
                  <a:lnTo>
                    <a:pt x="1460" y="415"/>
                  </a:lnTo>
                  <a:lnTo>
                    <a:pt x="1231" y="402"/>
                  </a:lnTo>
                  <a:lnTo>
                    <a:pt x="1266" y="225"/>
                  </a:lnTo>
                  <a:lnTo>
                    <a:pt x="1072" y="243"/>
                  </a:lnTo>
                  <a:lnTo>
                    <a:pt x="1037" y="123"/>
                  </a:lnTo>
                  <a:lnTo>
                    <a:pt x="904" y="123"/>
                  </a:lnTo>
                  <a:lnTo>
                    <a:pt x="807" y="189"/>
                  </a:lnTo>
                  <a:lnTo>
                    <a:pt x="723" y="189"/>
                  </a:lnTo>
                  <a:lnTo>
                    <a:pt x="740" y="0"/>
                  </a:lnTo>
                  <a:lnTo>
                    <a:pt x="555" y="88"/>
                  </a:lnTo>
                  <a:lnTo>
                    <a:pt x="299" y="402"/>
                  </a:lnTo>
                  <a:lnTo>
                    <a:pt x="286" y="189"/>
                  </a:lnTo>
                  <a:lnTo>
                    <a:pt x="154" y="292"/>
                  </a:lnTo>
                  <a:lnTo>
                    <a:pt x="114" y="556"/>
                  </a:lnTo>
                  <a:lnTo>
                    <a:pt x="0" y="508"/>
                  </a:lnTo>
                  <a:lnTo>
                    <a:pt x="17" y="681"/>
                  </a:lnTo>
                  <a:lnTo>
                    <a:pt x="189" y="822"/>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6" name=""/>
            <p:cNvSpPr/>
            <p:nvPr/>
          </p:nvSpPr>
          <p:spPr>
            <a:xfrm>
              <a:off x="7408800" y="1579680"/>
              <a:ext cx="176400" cy="887760"/>
            </a:xfrm>
            <a:custGeom>
              <a:avLst/>
              <a:gdLst/>
              <a:ahLst/>
              <a:rect l="0" t="0" r="r" b="b"/>
              <a:pathLst>
                <a:path w="490" h="2466">
                  <a:moveTo>
                    <a:pt x="252" y="13"/>
                  </a:moveTo>
                  <a:lnTo>
                    <a:pt x="83" y="123"/>
                  </a:lnTo>
                  <a:lnTo>
                    <a:pt x="83" y="326"/>
                  </a:lnTo>
                  <a:lnTo>
                    <a:pt x="202" y="396"/>
                  </a:lnTo>
                  <a:lnTo>
                    <a:pt x="44" y="723"/>
                  </a:lnTo>
                  <a:lnTo>
                    <a:pt x="0" y="1155"/>
                  </a:lnTo>
                  <a:lnTo>
                    <a:pt x="119" y="1725"/>
                  </a:lnTo>
                  <a:lnTo>
                    <a:pt x="119" y="1967"/>
                  </a:lnTo>
                  <a:lnTo>
                    <a:pt x="57" y="2148"/>
                  </a:lnTo>
                  <a:lnTo>
                    <a:pt x="309" y="2466"/>
                  </a:lnTo>
                  <a:lnTo>
                    <a:pt x="472" y="1985"/>
                  </a:lnTo>
                  <a:lnTo>
                    <a:pt x="472" y="1659"/>
                  </a:lnTo>
                  <a:lnTo>
                    <a:pt x="349" y="1350"/>
                  </a:lnTo>
                  <a:lnTo>
                    <a:pt x="292" y="930"/>
                  </a:lnTo>
                  <a:lnTo>
                    <a:pt x="415" y="524"/>
                  </a:lnTo>
                  <a:lnTo>
                    <a:pt x="375" y="361"/>
                  </a:lnTo>
                  <a:lnTo>
                    <a:pt x="490" y="277"/>
                  </a:lnTo>
                  <a:lnTo>
                    <a:pt x="472" y="171"/>
                  </a:lnTo>
                  <a:lnTo>
                    <a:pt x="327" y="0"/>
                  </a:lnTo>
                  <a:lnTo>
                    <a:pt x="252"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7" name=""/>
            <p:cNvSpPr/>
            <p:nvPr/>
          </p:nvSpPr>
          <p:spPr>
            <a:xfrm>
              <a:off x="7402680" y="1281240"/>
              <a:ext cx="141480" cy="82800"/>
            </a:xfrm>
            <a:custGeom>
              <a:avLst/>
              <a:gdLst/>
              <a:ahLst/>
              <a:rect l="0" t="0" r="r" b="b"/>
              <a:pathLst>
                <a:path w="393" h="230">
                  <a:moveTo>
                    <a:pt x="0" y="70"/>
                  </a:moveTo>
                  <a:lnTo>
                    <a:pt x="154" y="230"/>
                  </a:lnTo>
                  <a:lnTo>
                    <a:pt x="314" y="208"/>
                  </a:lnTo>
                  <a:lnTo>
                    <a:pt x="393" y="22"/>
                  </a:lnTo>
                  <a:lnTo>
                    <a:pt x="221" y="0"/>
                  </a:lnTo>
                  <a:lnTo>
                    <a:pt x="39" y="22"/>
                  </a:lnTo>
                  <a:lnTo>
                    <a:pt x="0" y="70"/>
                  </a:lnTo>
                  <a:close/>
                </a:path>
              </a:pathLst>
            </a:custGeom>
            <a:solidFill>
              <a:srgbClr val="ffffff"/>
            </a:solidFill>
            <a:ln w="12600">
              <a:solidFill>
                <a:srgbClr val="ffffff"/>
              </a:solidFill>
              <a:round/>
            </a:ln>
          </p:spPr>
          <p:txBody>
            <a:bodyPr lIns="96120" rIns="96120" tIns="31680" bIns="31680" anchor="t">
              <a:noAutofit/>
            </a:bodyPr>
            <a:p>
              <a:endParaRPr b="0" lang="en-US" sz="1800" spc="-1" strike="noStrike">
                <a:solidFill>
                  <a:srgbClr val="000000"/>
                </a:solidFill>
                <a:latin typeface="Arial"/>
              </a:endParaRPr>
            </a:p>
          </p:txBody>
        </p:sp>
        <p:sp>
          <p:nvSpPr>
            <p:cNvPr id="298" name=""/>
            <p:cNvSpPr/>
            <p:nvPr/>
          </p:nvSpPr>
          <p:spPr>
            <a:xfrm>
              <a:off x="7246800" y="873000"/>
              <a:ext cx="176400" cy="173520"/>
            </a:xfrm>
            <a:custGeom>
              <a:avLst/>
              <a:gdLst/>
              <a:ahLst/>
              <a:rect l="0" t="0" r="r" b="b"/>
              <a:pathLst>
                <a:path w="490" h="482">
                  <a:moveTo>
                    <a:pt x="0" y="52"/>
                  </a:moveTo>
                  <a:lnTo>
                    <a:pt x="336" y="482"/>
                  </a:lnTo>
                  <a:lnTo>
                    <a:pt x="490" y="447"/>
                  </a:lnTo>
                  <a:lnTo>
                    <a:pt x="136" y="0"/>
                  </a:lnTo>
                  <a:lnTo>
                    <a:pt x="0" y="5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a:off x="7556400" y="835200"/>
              <a:ext cx="152640" cy="173520"/>
            </a:xfrm>
            <a:custGeom>
              <a:avLst/>
              <a:gdLst/>
              <a:ahLst/>
              <a:rect l="0" t="0" r="r" b="b"/>
              <a:pathLst>
                <a:path w="424" h="482">
                  <a:moveTo>
                    <a:pt x="0" y="70"/>
                  </a:moveTo>
                  <a:lnTo>
                    <a:pt x="292" y="482"/>
                  </a:lnTo>
                  <a:lnTo>
                    <a:pt x="424" y="372"/>
                  </a:lnTo>
                  <a:lnTo>
                    <a:pt x="119" y="0"/>
                  </a:lnTo>
                  <a:lnTo>
                    <a:pt x="0" y="7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0" name=""/>
            <p:cNvSpPr/>
            <p:nvPr/>
          </p:nvSpPr>
          <p:spPr>
            <a:xfrm>
              <a:off x="7182000" y="611280"/>
              <a:ext cx="616320" cy="435240"/>
            </a:xfrm>
            <a:custGeom>
              <a:avLst/>
              <a:gdLst/>
              <a:ahLst/>
              <a:rect l="0" t="0" r="r" b="b"/>
              <a:pathLst>
                <a:path w="1712" h="1209">
                  <a:moveTo>
                    <a:pt x="785" y="719"/>
                  </a:moveTo>
                  <a:lnTo>
                    <a:pt x="631" y="675"/>
                  </a:lnTo>
                  <a:lnTo>
                    <a:pt x="763" y="564"/>
                  </a:lnTo>
                  <a:lnTo>
                    <a:pt x="715" y="507"/>
                  </a:lnTo>
                  <a:lnTo>
                    <a:pt x="538" y="649"/>
                  </a:lnTo>
                  <a:lnTo>
                    <a:pt x="216" y="684"/>
                  </a:lnTo>
                  <a:lnTo>
                    <a:pt x="0" y="693"/>
                  </a:lnTo>
                  <a:lnTo>
                    <a:pt x="0" y="860"/>
                  </a:lnTo>
                  <a:lnTo>
                    <a:pt x="207" y="1200"/>
                  </a:lnTo>
                  <a:lnTo>
                    <a:pt x="255" y="1209"/>
                  </a:lnTo>
                  <a:lnTo>
                    <a:pt x="70" y="834"/>
                  </a:lnTo>
                  <a:lnTo>
                    <a:pt x="352" y="719"/>
                  </a:lnTo>
                  <a:lnTo>
                    <a:pt x="538" y="719"/>
                  </a:lnTo>
                  <a:lnTo>
                    <a:pt x="680" y="790"/>
                  </a:lnTo>
                  <a:lnTo>
                    <a:pt x="715" y="896"/>
                  </a:lnTo>
                  <a:lnTo>
                    <a:pt x="715" y="1125"/>
                  </a:lnTo>
                  <a:lnTo>
                    <a:pt x="715" y="1200"/>
                  </a:lnTo>
                  <a:lnTo>
                    <a:pt x="794" y="1090"/>
                  </a:lnTo>
                  <a:lnTo>
                    <a:pt x="794" y="852"/>
                  </a:lnTo>
                  <a:lnTo>
                    <a:pt x="918" y="852"/>
                  </a:lnTo>
                  <a:lnTo>
                    <a:pt x="975" y="1125"/>
                  </a:lnTo>
                  <a:lnTo>
                    <a:pt x="1041" y="1151"/>
                  </a:lnTo>
                  <a:lnTo>
                    <a:pt x="1248" y="1151"/>
                  </a:lnTo>
                  <a:lnTo>
                    <a:pt x="1461" y="1099"/>
                  </a:lnTo>
                  <a:lnTo>
                    <a:pt x="1611" y="997"/>
                  </a:lnTo>
                  <a:lnTo>
                    <a:pt x="1633" y="750"/>
                  </a:lnTo>
                  <a:lnTo>
                    <a:pt x="1712" y="649"/>
                  </a:lnTo>
                  <a:lnTo>
                    <a:pt x="1664" y="582"/>
                  </a:lnTo>
                  <a:lnTo>
                    <a:pt x="1474" y="515"/>
                  </a:lnTo>
                  <a:lnTo>
                    <a:pt x="1443" y="268"/>
                  </a:lnTo>
                  <a:lnTo>
                    <a:pt x="1262" y="268"/>
                  </a:lnTo>
                  <a:lnTo>
                    <a:pt x="1050" y="0"/>
                  </a:lnTo>
                  <a:lnTo>
                    <a:pt x="1244" y="299"/>
                  </a:lnTo>
                  <a:lnTo>
                    <a:pt x="1307" y="299"/>
                  </a:lnTo>
                  <a:lnTo>
                    <a:pt x="1346" y="507"/>
                  </a:lnTo>
                  <a:lnTo>
                    <a:pt x="1107" y="582"/>
                  </a:lnTo>
                  <a:lnTo>
                    <a:pt x="931" y="524"/>
                  </a:lnTo>
                  <a:lnTo>
                    <a:pt x="904" y="582"/>
                  </a:lnTo>
                  <a:lnTo>
                    <a:pt x="997" y="649"/>
                  </a:lnTo>
                  <a:lnTo>
                    <a:pt x="997" y="706"/>
                  </a:lnTo>
                  <a:lnTo>
                    <a:pt x="1204" y="613"/>
                  </a:lnTo>
                  <a:lnTo>
                    <a:pt x="1377" y="599"/>
                  </a:lnTo>
                  <a:lnTo>
                    <a:pt x="1567" y="622"/>
                  </a:lnTo>
                  <a:lnTo>
                    <a:pt x="1567" y="658"/>
                  </a:lnTo>
                  <a:lnTo>
                    <a:pt x="1479" y="741"/>
                  </a:lnTo>
                  <a:lnTo>
                    <a:pt x="1443" y="852"/>
                  </a:lnTo>
                  <a:lnTo>
                    <a:pt x="1435" y="997"/>
                  </a:lnTo>
                  <a:lnTo>
                    <a:pt x="1320" y="1054"/>
                  </a:lnTo>
                  <a:lnTo>
                    <a:pt x="1156" y="1076"/>
                  </a:lnTo>
                  <a:lnTo>
                    <a:pt x="1041" y="1076"/>
                  </a:lnTo>
                  <a:lnTo>
                    <a:pt x="1002" y="1032"/>
                  </a:lnTo>
                  <a:lnTo>
                    <a:pt x="975" y="750"/>
                  </a:lnTo>
                  <a:lnTo>
                    <a:pt x="794" y="750"/>
                  </a:lnTo>
                  <a:lnTo>
                    <a:pt x="785" y="71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01" name=""/>
            <p:cNvSpPr/>
            <p:nvPr/>
          </p:nvSpPr>
          <p:spPr>
            <a:xfrm>
              <a:off x="7394400" y="1112760"/>
              <a:ext cx="198720" cy="87840"/>
            </a:xfrm>
            <a:custGeom>
              <a:avLst/>
              <a:gdLst/>
              <a:ahLst/>
              <a:rect l="0" t="0" r="r" b="b"/>
              <a:pathLst>
                <a:path w="552" h="244">
                  <a:moveTo>
                    <a:pt x="0" y="0"/>
                  </a:moveTo>
                  <a:lnTo>
                    <a:pt x="88" y="111"/>
                  </a:lnTo>
                  <a:lnTo>
                    <a:pt x="327" y="111"/>
                  </a:lnTo>
                  <a:lnTo>
                    <a:pt x="428" y="35"/>
                  </a:lnTo>
                  <a:lnTo>
                    <a:pt x="552" y="35"/>
                  </a:lnTo>
                  <a:lnTo>
                    <a:pt x="530" y="71"/>
                  </a:lnTo>
                  <a:lnTo>
                    <a:pt x="530" y="111"/>
                  </a:lnTo>
                  <a:lnTo>
                    <a:pt x="305" y="244"/>
                  </a:lnTo>
                  <a:lnTo>
                    <a:pt x="185" y="244"/>
                  </a:lnTo>
                  <a:lnTo>
                    <a:pt x="114" y="196"/>
                  </a:lnTo>
                  <a:lnTo>
                    <a:pt x="48" y="196"/>
                  </a:lnTo>
                  <a:lnTo>
                    <a:pt x="0" y="0"/>
                  </a:lnTo>
                  <a:close/>
                </a:path>
              </a:pathLst>
            </a:custGeom>
            <a:solidFill>
              <a:srgbClr val="000000"/>
            </a:solidFill>
            <a:ln w="12600">
              <a:solidFill>
                <a:srgbClr val="000000"/>
              </a:solidFill>
              <a:round/>
            </a:ln>
          </p:spPr>
          <p:txBody>
            <a:bodyPr lIns="96120" rIns="96120" tIns="36720" bIns="36720" anchor="t">
              <a:noAutofit/>
            </a:bodyPr>
            <a:p>
              <a:endParaRPr b="0" lang="en-US" sz="1800" spc="-1" strike="noStrike">
                <a:solidFill>
                  <a:srgbClr val="ffffff"/>
                </a:solidFill>
                <a:latin typeface="Arial"/>
              </a:endParaRPr>
            </a:p>
          </p:txBody>
        </p:sp>
        <p:sp>
          <p:nvSpPr>
            <p:cNvPr id="302" name=""/>
            <p:cNvSpPr/>
            <p:nvPr/>
          </p:nvSpPr>
          <p:spPr>
            <a:xfrm>
              <a:off x="7172280" y="969840"/>
              <a:ext cx="300240" cy="466920"/>
            </a:xfrm>
            <a:custGeom>
              <a:avLst/>
              <a:gdLst/>
              <a:ahLst/>
              <a:rect l="0" t="0" r="r" b="b"/>
              <a:pathLst>
                <a:path w="834" h="1297">
                  <a:moveTo>
                    <a:pt x="834" y="92"/>
                  </a:moveTo>
                  <a:lnTo>
                    <a:pt x="834" y="114"/>
                  </a:lnTo>
                  <a:lnTo>
                    <a:pt x="684" y="242"/>
                  </a:lnTo>
                  <a:lnTo>
                    <a:pt x="565" y="268"/>
                  </a:lnTo>
                  <a:lnTo>
                    <a:pt x="330" y="233"/>
                  </a:lnTo>
                  <a:lnTo>
                    <a:pt x="374" y="702"/>
                  </a:lnTo>
                  <a:lnTo>
                    <a:pt x="433" y="1085"/>
                  </a:lnTo>
                  <a:lnTo>
                    <a:pt x="530" y="1297"/>
                  </a:lnTo>
                  <a:lnTo>
                    <a:pt x="433" y="1147"/>
                  </a:lnTo>
                  <a:lnTo>
                    <a:pt x="388" y="984"/>
                  </a:lnTo>
                  <a:lnTo>
                    <a:pt x="321" y="546"/>
                  </a:lnTo>
                  <a:lnTo>
                    <a:pt x="255" y="573"/>
                  </a:lnTo>
                  <a:lnTo>
                    <a:pt x="176" y="524"/>
                  </a:lnTo>
                  <a:lnTo>
                    <a:pt x="17" y="295"/>
                  </a:lnTo>
                  <a:lnTo>
                    <a:pt x="0" y="167"/>
                  </a:lnTo>
                  <a:lnTo>
                    <a:pt x="0" y="79"/>
                  </a:lnTo>
                  <a:lnTo>
                    <a:pt x="35" y="26"/>
                  </a:lnTo>
                  <a:lnTo>
                    <a:pt x="127" y="0"/>
                  </a:lnTo>
                  <a:lnTo>
                    <a:pt x="145" y="35"/>
                  </a:lnTo>
                  <a:lnTo>
                    <a:pt x="66" y="57"/>
                  </a:lnTo>
                  <a:lnTo>
                    <a:pt x="48" y="154"/>
                  </a:lnTo>
                  <a:lnTo>
                    <a:pt x="57" y="277"/>
                  </a:lnTo>
                  <a:lnTo>
                    <a:pt x="167" y="388"/>
                  </a:lnTo>
                  <a:lnTo>
                    <a:pt x="216" y="361"/>
                  </a:lnTo>
                  <a:lnTo>
                    <a:pt x="216" y="127"/>
                  </a:lnTo>
                  <a:lnTo>
                    <a:pt x="313" y="176"/>
                  </a:lnTo>
                  <a:lnTo>
                    <a:pt x="468" y="211"/>
                  </a:lnTo>
                  <a:lnTo>
                    <a:pt x="605" y="198"/>
                  </a:lnTo>
                  <a:lnTo>
                    <a:pt x="741" y="127"/>
                  </a:lnTo>
                  <a:lnTo>
                    <a:pt x="834" y="9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03" name=""/>
            <p:cNvSpPr/>
            <p:nvPr/>
          </p:nvSpPr>
          <p:spPr>
            <a:xfrm>
              <a:off x="7253280" y="600120"/>
              <a:ext cx="90720" cy="248040"/>
            </a:xfrm>
            <a:custGeom>
              <a:avLst/>
              <a:gdLst/>
              <a:ahLst/>
              <a:rect l="0" t="0" r="r" b="b"/>
              <a:pathLst>
                <a:path w="252" h="689">
                  <a:moveTo>
                    <a:pt x="133" y="689"/>
                  </a:moveTo>
                  <a:lnTo>
                    <a:pt x="252" y="283"/>
                  </a:lnTo>
                  <a:lnTo>
                    <a:pt x="30" y="136"/>
                  </a:lnTo>
                  <a:lnTo>
                    <a:pt x="0" y="0"/>
                  </a:lnTo>
                  <a:lnTo>
                    <a:pt x="17" y="167"/>
                  </a:lnTo>
                  <a:lnTo>
                    <a:pt x="88" y="234"/>
                  </a:lnTo>
                  <a:lnTo>
                    <a:pt x="97" y="441"/>
                  </a:lnTo>
                  <a:lnTo>
                    <a:pt x="155" y="522"/>
                  </a:lnTo>
                  <a:lnTo>
                    <a:pt x="133" y="68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04" name=""/>
            <p:cNvSpPr/>
            <p:nvPr/>
          </p:nvSpPr>
          <p:spPr>
            <a:xfrm>
              <a:off x="7250040" y="380880"/>
              <a:ext cx="675000" cy="329040"/>
            </a:xfrm>
            <a:custGeom>
              <a:avLst/>
              <a:gdLst/>
              <a:ahLst/>
              <a:rect l="0" t="0" r="r" b="b"/>
              <a:pathLst>
                <a:path w="1875" h="914">
                  <a:moveTo>
                    <a:pt x="17" y="618"/>
                  </a:moveTo>
                  <a:lnTo>
                    <a:pt x="180" y="711"/>
                  </a:lnTo>
                  <a:lnTo>
                    <a:pt x="163" y="596"/>
                  </a:lnTo>
                  <a:lnTo>
                    <a:pt x="194" y="389"/>
                  </a:lnTo>
                  <a:lnTo>
                    <a:pt x="299" y="344"/>
                  </a:lnTo>
                  <a:lnTo>
                    <a:pt x="313" y="565"/>
                  </a:lnTo>
                  <a:lnTo>
                    <a:pt x="626" y="176"/>
                  </a:lnTo>
                  <a:lnTo>
                    <a:pt x="705" y="149"/>
                  </a:lnTo>
                  <a:lnTo>
                    <a:pt x="643" y="305"/>
                  </a:lnTo>
                  <a:lnTo>
                    <a:pt x="842" y="380"/>
                  </a:lnTo>
                  <a:lnTo>
                    <a:pt x="988" y="224"/>
                  </a:lnTo>
                  <a:lnTo>
                    <a:pt x="1063" y="269"/>
                  </a:lnTo>
                  <a:lnTo>
                    <a:pt x="997" y="402"/>
                  </a:lnTo>
                  <a:lnTo>
                    <a:pt x="1090" y="331"/>
                  </a:lnTo>
                  <a:lnTo>
                    <a:pt x="1231" y="389"/>
                  </a:lnTo>
                  <a:lnTo>
                    <a:pt x="1116" y="494"/>
                  </a:lnTo>
                  <a:lnTo>
                    <a:pt x="1504" y="565"/>
                  </a:lnTo>
                  <a:lnTo>
                    <a:pt x="1244" y="644"/>
                  </a:lnTo>
                  <a:lnTo>
                    <a:pt x="1566" y="689"/>
                  </a:lnTo>
                  <a:lnTo>
                    <a:pt x="1182" y="778"/>
                  </a:lnTo>
                  <a:lnTo>
                    <a:pt x="1266" y="844"/>
                  </a:lnTo>
                  <a:lnTo>
                    <a:pt x="1151" y="914"/>
                  </a:lnTo>
                  <a:lnTo>
                    <a:pt x="1350" y="914"/>
                  </a:lnTo>
                  <a:lnTo>
                    <a:pt x="1332" y="861"/>
                  </a:lnTo>
                  <a:lnTo>
                    <a:pt x="1535" y="910"/>
                  </a:lnTo>
                  <a:lnTo>
                    <a:pt x="1504" y="760"/>
                  </a:lnTo>
                  <a:lnTo>
                    <a:pt x="1689" y="698"/>
                  </a:lnTo>
                  <a:lnTo>
                    <a:pt x="1557" y="627"/>
                  </a:lnTo>
                  <a:lnTo>
                    <a:pt x="1875" y="609"/>
                  </a:lnTo>
                  <a:lnTo>
                    <a:pt x="1601" y="464"/>
                  </a:lnTo>
                  <a:lnTo>
                    <a:pt x="1288" y="428"/>
                  </a:lnTo>
                  <a:lnTo>
                    <a:pt x="1535" y="278"/>
                  </a:lnTo>
                  <a:lnTo>
                    <a:pt x="1090" y="278"/>
                  </a:lnTo>
                  <a:lnTo>
                    <a:pt x="1301" y="136"/>
                  </a:lnTo>
                  <a:lnTo>
                    <a:pt x="979" y="176"/>
                  </a:lnTo>
                  <a:lnTo>
                    <a:pt x="824" y="247"/>
                  </a:lnTo>
                  <a:lnTo>
                    <a:pt x="957" y="0"/>
                  </a:lnTo>
                  <a:lnTo>
                    <a:pt x="564" y="136"/>
                  </a:lnTo>
                  <a:lnTo>
                    <a:pt x="348" y="437"/>
                  </a:lnTo>
                  <a:lnTo>
                    <a:pt x="313" y="269"/>
                  </a:lnTo>
                  <a:lnTo>
                    <a:pt x="141" y="389"/>
                  </a:lnTo>
                  <a:lnTo>
                    <a:pt x="114" y="609"/>
                  </a:lnTo>
                  <a:lnTo>
                    <a:pt x="0" y="565"/>
                  </a:lnTo>
                  <a:lnTo>
                    <a:pt x="39" y="760"/>
                  </a:lnTo>
                  <a:lnTo>
                    <a:pt x="17" y="61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05" name=""/>
            <p:cNvSpPr/>
            <p:nvPr/>
          </p:nvSpPr>
          <p:spPr>
            <a:xfrm>
              <a:off x="7397640" y="555480"/>
              <a:ext cx="190800" cy="98640"/>
            </a:xfrm>
            <a:custGeom>
              <a:avLst/>
              <a:gdLst/>
              <a:ahLst/>
              <a:rect l="0" t="0" r="r" b="b"/>
              <a:pathLst>
                <a:path w="530" h="274">
                  <a:moveTo>
                    <a:pt x="0" y="274"/>
                  </a:moveTo>
                  <a:lnTo>
                    <a:pt x="198" y="0"/>
                  </a:lnTo>
                  <a:lnTo>
                    <a:pt x="198" y="181"/>
                  </a:lnTo>
                  <a:lnTo>
                    <a:pt x="269" y="105"/>
                  </a:lnTo>
                  <a:lnTo>
                    <a:pt x="331" y="212"/>
                  </a:lnTo>
                  <a:lnTo>
                    <a:pt x="530" y="261"/>
                  </a:lnTo>
                  <a:lnTo>
                    <a:pt x="318" y="225"/>
                  </a:lnTo>
                  <a:lnTo>
                    <a:pt x="255" y="155"/>
                  </a:lnTo>
                  <a:lnTo>
                    <a:pt x="167" y="225"/>
                  </a:lnTo>
                  <a:lnTo>
                    <a:pt x="167" y="142"/>
                  </a:lnTo>
                  <a:lnTo>
                    <a:pt x="0" y="274"/>
                  </a:lnTo>
                  <a:close/>
                </a:path>
              </a:pathLst>
            </a:custGeom>
            <a:solidFill>
              <a:srgbClr val="000000"/>
            </a:solidFill>
            <a:ln w="12600">
              <a:solidFill>
                <a:srgbClr val="000000"/>
              </a:solidFill>
              <a:round/>
            </a:ln>
          </p:spPr>
          <p:txBody>
            <a:bodyPr lIns="96120" rIns="96120" tIns="47520" bIns="47520" anchor="t">
              <a:noAutofit/>
            </a:bodyPr>
            <a:p>
              <a:endParaRPr b="0" lang="en-US" sz="1800" spc="-1" strike="noStrike">
                <a:solidFill>
                  <a:srgbClr val="ffffff"/>
                </a:solidFill>
                <a:latin typeface="Arial"/>
              </a:endParaRPr>
            </a:p>
          </p:txBody>
        </p:sp>
        <p:sp>
          <p:nvSpPr>
            <p:cNvPr id="306" name=""/>
            <p:cNvSpPr/>
            <p:nvPr/>
          </p:nvSpPr>
          <p:spPr>
            <a:xfrm>
              <a:off x="7378560" y="1227240"/>
              <a:ext cx="230400" cy="146520"/>
            </a:xfrm>
            <a:custGeom>
              <a:avLst/>
              <a:gdLst/>
              <a:ahLst/>
              <a:rect l="0" t="0" r="r" b="b"/>
              <a:pathLst>
                <a:path w="640" h="407">
                  <a:moveTo>
                    <a:pt x="123" y="142"/>
                  </a:moveTo>
                  <a:lnTo>
                    <a:pt x="384" y="124"/>
                  </a:lnTo>
                  <a:lnTo>
                    <a:pt x="508" y="150"/>
                  </a:lnTo>
                  <a:lnTo>
                    <a:pt x="574" y="92"/>
                  </a:lnTo>
                  <a:lnTo>
                    <a:pt x="640" y="225"/>
                  </a:lnTo>
                  <a:lnTo>
                    <a:pt x="596" y="247"/>
                  </a:lnTo>
                  <a:lnTo>
                    <a:pt x="543" y="199"/>
                  </a:lnTo>
                  <a:lnTo>
                    <a:pt x="455" y="292"/>
                  </a:lnTo>
                  <a:lnTo>
                    <a:pt x="295" y="407"/>
                  </a:lnTo>
                  <a:lnTo>
                    <a:pt x="224" y="407"/>
                  </a:lnTo>
                  <a:lnTo>
                    <a:pt x="123" y="350"/>
                  </a:lnTo>
                  <a:lnTo>
                    <a:pt x="238" y="398"/>
                  </a:lnTo>
                  <a:lnTo>
                    <a:pt x="282" y="398"/>
                  </a:lnTo>
                  <a:lnTo>
                    <a:pt x="384" y="323"/>
                  </a:lnTo>
                  <a:lnTo>
                    <a:pt x="450" y="186"/>
                  </a:lnTo>
                  <a:lnTo>
                    <a:pt x="349" y="168"/>
                  </a:lnTo>
                  <a:lnTo>
                    <a:pt x="277" y="150"/>
                  </a:lnTo>
                  <a:lnTo>
                    <a:pt x="110" y="177"/>
                  </a:lnTo>
                  <a:lnTo>
                    <a:pt x="101" y="283"/>
                  </a:lnTo>
                  <a:lnTo>
                    <a:pt x="48" y="217"/>
                  </a:lnTo>
                  <a:lnTo>
                    <a:pt x="0" y="310"/>
                  </a:lnTo>
                  <a:lnTo>
                    <a:pt x="4" y="106"/>
                  </a:lnTo>
                  <a:lnTo>
                    <a:pt x="66" y="0"/>
                  </a:lnTo>
                  <a:lnTo>
                    <a:pt x="123" y="106"/>
                  </a:lnTo>
                  <a:lnTo>
                    <a:pt x="123" y="14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07" name=""/>
            <p:cNvSpPr/>
            <p:nvPr/>
          </p:nvSpPr>
          <p:spPr>
            <a:xfrm>
              <a:off x="7350120" y="907920"/>
              <a:ext cx="491040" cy="679680"/>
            </a:xfrm>
            <a:custGeom>
              <a:avLst/>
              <a:gdLst/>
              <a:ahLst/>
              <a:rect l="0" t="0" r="r" b="b"/>
              <a:pathLst>
                <a:path w="1364" h="1888">
                  <a:moveTo>
                    <a:pt x="1148" y="0"/>
                  </a:moveTo>
                  <a:lnTo>
                    <a:pt x="1285" y="0"/>
                  </a:lnTo>
                  <a:lnTo>
                    <a:pt x="1364" y="92"/>
                  </a:lnTo>
                  <a:lnTo>
                    <a:pt x="1364" y="194"/>
                  </a:lnTo>
                  <a:lnTo>
                    <a:pt x="1254" y="489"/>
                  </a:lnTo>
                  <a:lnTo>
                    <a:pt x="1139" y="630"/>
                  </a:lnTo>
                  <a:lnTo>
                    <a:pt x="1025" y="652"/>
                  </a:lnTo>
                  <a:lnTo>
                    <a:pt x="993" y="652"/>
                  </a:lnTo>
                  <a:lnTo>
                    <a:pt x="993" y="1024"/>
                  </a:lnTo>
                  <a:lnTo>
                    <a:pt x="1047" y="1293"/>
                  </a:lnTo>
                  <a:lnTo>
                    <a:pt x="1047" y="1513"/>
                  </a:lnTo>
                  <a:lnTo>
                    <a:pt x="838" y="1734"/>
                  </a:lnTo>
                  <a:lnTo>
                    <a:pt x="556" y="1888"/>
                  </a:lnTo>
                  <a:lnTo>
                    <a:pt x="375" y="1888"/>
                  </a:lnTo>
                  <a:lnTo>
                    <a:pt x="286" y="1844"/>
                  </a:lnTo>
                  <a:lnTo>
                    <a:pt x="163" y="1584"/>
                  </a:lnTo>
                  <a:lnTo>
                    <a:pt x="44" y="1491"/>
                  </a:lnTo>
                  <a:lnTo>
                    <a:pt x="0" y="1420"/>
                  </a:lnTo>
                  <a:lnTo>
                    <a:pt x="154" y="1513"/>
                  </a:lnTo>
                  <a:lnTo>
                    <a:pt x="264" y="1610"/>
                  </a:lnTo>
                  <a:lnTo>
                    <a:pt x="481" y="1623"/>
                  </a:lnTo>
                  <a:lnTo>
                    <a:pt x="675" y="1531"/>
                  </a:lnTo>
                  <a:lnTo>
                    <a:pt x="781" y="1420"/>
                  </a:lnTo>
                  <a:lnTo>
                    <a:pt x="891" y="1231"/>
                  </a:lnTo>
                  <a:lnTo>
                    <a:pt x="909" y="1006"/>
                  </a:lnTo>
                  <a:lnTo>
                    <a:pt x="949" y="277"/>
                  </a:lnTo>
                  <a:lnTo>
                    <a:pt x="1002" y="383"/>
                  </a:lnTo>
                  <a:lnTo>
                    <a:pt x="1135" y="251"/>
                  </a:lnTo>
                  <a:lnTo>
                    <a:pt x="1276" y="194"/>
                  </a:lnTo>
                  <a:lnTo>
                    <a:pt x="1311" y="119"/>
                  </a:lnTo>
                  <a:lnTo>
                    <a:pt x="1294" y="44"/>
                  </a:lnTo>
                  <a:lnTo>
                    <a:pt x="1236" y="8"/>
                  </a:lnTo>
                  <a:lnTo>
                    <a:pt x="114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08" name=""/>
            <p:cNvSpPr/>
            <p:nvPr/>
          </p:nvSpPr>
          <p:spPr>
            <a:xfrm>
              <a:off x="6589800" y="1494000"/>
              <a:ext cx="395640" cy="627480"/>
            </a:xfrm>
            <a:custGeom>
              <a:avLst/>
              <a:gdLst/>
              <a:ahLst/>
              <a:rect l="0" t="0" r="r" b="b"/>
              <a:pathLst>
                <a:path w="1099" h="1743">
                  <a:moveTo>
                    <a:pt x="141" y="0"/>
                  </a:moveTo>
                  <a:lnTo>
                    <a:pt x="264" y="79"/>
                  </a:lnTo>
                  <a:lnTo>
                    <a:pt x="357" y="437"/>
                  </a:lnTo>
                  <a:lnTo>
                    <a:pt x="640" y="512"/>
                  </a:lnTo>
                  <a:lnTo>
                    <a:pt x="724" y="609"/>
                  </a:lnTo>
                  <a:lnTo>
                    <a:pt x="737" y="737"/>
                  </a:lnTo>
                  <a:lnTo>
                    <a:pt x="874" y="719"/>
                  </a:lnTo>
                  <a:lnTo>
                    <a:pt x="1046" y="834"/>
                  </a:lnTo>
                  <a:lnTo>
                    <a:pt x="1099" y="975"/>
                  </a:lnTo>
                  <a:lnTo>
                    <a:pt x="1099" y="1218"/>
                  </a:lnTo>
                  <a:lnTo>
                    <a:pt x="874" y="1593"/>
                  </a:lnTo>
                  <a:lnTo>
                    <a:pt x="799" y="1743"/>
                  </a:lnTo>
                  <a:lnTo>
                    <a:pt x="838" y="1540"/>
                  </a:lnTo>
                  <a:lnTo>
                    <a:pt x="799" y="1466"/>
                  </a:lnTo>
                  <a:lnTo>
                    <a:pt x="662" y="1338"/>
                  </a:lnTo>
                  <a:lnTo>
                    <a:pt x="449" y="1182"/>
                  </a:lnTo>
                  <a:lnTo>
                    <a:pt x="710" y="1270"/>
                  </a:lnTo>
                  <a:lnTo>
                    <a:pt x="860" y="1386"/>
                  </a:lnTo>
                  <a:lnTo>
                    <a:pt x="935" y="1373"/>
                  </a:lnTo>
                  <a:lnTo>
                    <a:pt x="988" y="1306"/>
                  </a:lnTo>
                  <a:lnTo>
                    <a:pt x="1046" y="1129"/>
                  </a:lnTo>
                  <a:lnTo>
                    <a:pt x="1028" y="957"/>
                  </a:lnTo>
                  <a:lnTo>
                    <a:pt x="944" y="860"/>
                  </a:lnTo>
                  <a:lnTo>
                    <a:pt x="812" y="834"/>
                  </a:lnTo>
                  <a:lnTo>
                    <a:pt x="662" y="834"/>
                  </a:lnTo>
                  <a:lnTo>
                    <a:pt x="613" y="574"/>
                  </a:lnTo>
                  <a:lnTo>
                    <a:pt x="370" y="486"/>
                  </a:lnTo>
                  <a:lnTo>
                    <a:pt x="370" y="556"/>
                  </a:lnTo>
                  <a:lnTo>
                    <a:pt x="264" y="370"/>
                  </a:lnTo>
                  <a:lnTo>
                    <a:pt x="202" y="79"/>
                  </a:lnTo>
                  <a:lnTo>
                    <a:pt x="105" y="48"/>
                  </a:lnTo>
                  <a:lnTo>
                    <a:pt x="52" y="136"/>
                  </a:lnTo>
                  <a:lnTo>
                    <a:pt x="52" y="339"/>
                  </a:lnTo>
                  <a:lnTo>
                    <a:pt x="97" y="556"/>
                  </a:lnTo>
                  <a:lnTo>
                    <a:pt x="229" y="737"/>
                  </a:lnTo>
                  <a:lnTo>
                    <a:pt x="83" y="627"/>
                  </a:lnTo>
                  <a:lnTo>
                    <a:pt x="13" y="437"/>
                  </a:lnTo>
                  <a:lnTo>
                    <a:pt x="0" y="185"/>
                  </a:lnTo>
                  <a:lnTo>
                    <a:pt x="52" y="48"/>
                  </a:lnTo>
                  <a:lnTo>
                    <a:pt x="141"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09" name=""/>
            <p:cNvSpPr/>
            <p:nvPr/>
          </p:nvSpPr>
          <p:spPr>
            <a:xfrm>
              <a:off x="6400800" y="1770120"/>
              <a:ext cx="262440" cy="501840"/>
            </a:xfrm>
            <a:custGeom>
              <a:avLst/>
              <a:gdLst/>
              <a:ahLst/>
              <a:rect l="0" t="0" r="r" b="b"/>
              <a:pathLst>
                <a:path w="729" h="1394">
                  <a:moveTo>
                    <a:pt x="729" y="0"/>
                  </a:moveTo>
                  <a:lnTo>
                    <a:pt x="575" y="92"/>
                  </a:lnTo>
                  <a:lnTo>
                    <a:pt x="402" y="432"/>
                  </a:lnTo>
                  <a:lnTo>
                    <a:pt x="230" y="648"/>
                  </a:lnTo>
                  <a:lnTo>
                    <a:pt x="17" y="913"/>
                  </a:lnTo>
                  <a:lnTo>
                    <a:pt x="0" y="1050"/>
                  </a:lnTo>
                  <a:lnTo>
                    <a:pt x="39" y="1173"/>
                  </a:lnTo>
                  <a:lnTo>
                    <a:pt x="145" y="1173"/>
                  </a:lnTo>
                  <a:lnTo>
                    <a:pt x="278" y="1050"/>
                  </a:lnTo>
                  <a:lnTo>
                    <a:pt x="389" y="803"/>
                  </a:lnTo>
                  <a:lnTo>
                    <a:pt x="534" y="648"/>
                  </a:lnTo>
                  <a:lnTo>
                    <a:pt x="534" y="852"/>
                  </a:lnTo>
                  <a:lnTo>
                    <a:pt x="512" y="1037"/>
                  </a:lnTo>
                  <a:lnTo>
                    <a:pt x="353" y="1279"/>
                  </a:lnTo>
                  <a:lnTo>
                    <a:pt x="353" y="1359"/>
                  </a:lnTo>
                  <a:lnTo>
                    <a:pt x="512" y="1394"/>
                  </a:lnTo>
                  <a:lnTo>
                    <a:pt x="402" y="1323"/>
                  </a:lnTo>
                  <a:lnTo>
                    <a:pt x="419" y="1279"/>
                  </a:lnTo>
                  <a:lnTo>
                    <a:pt x="525" y="1099"/>
                  </a:lnTo>
                  <a:lnTo>
                    <a:pt x="601" y="772"/>
                  </a:lnTo>
                  <a:lnTo>
                    <a:pt x="548" y="586"/>
                  </a:lnTo>
                  <a:lnTo>
                    <a:pt x="433" y="692"/>
                  </a:lnTo>
                  <a:lnTo>
                    <a:pt x="171" y="1112"/>
                  </a:lnTo>
                  <a:lnTo>
                    <a:pt x="101" y="1125"/>
                  </a:lnTo>
                  <a:lnTo>
                    <a:pt x="39" y="1081"/>
                  </a:lnTo>
                  <a:lnTo>
                    <a:pt x="39" y="953"/>
                  </a:lnTo>
                  <a:lnTo>
                    <a:pt x="145" y="785"/>
                  </a:lnTo>
                  <a:lnTo>
                    <a:pt x="433" y="449"/>
                  </a:lnTo>
                  <a:lnTo>
                    <a:pt x="601" y="127"/>
                  </a:lnTo>
                  <a:lnTo>
                    <a:pt x="72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0" name=""/>
            <p:cNvSpPr/>
            <p:nvPr/>
          </p:nvSpPr>
          <p:spPr>
            <a:xfrm>
              <a:off x="6594480" y="2054160"/>
              <a:ext cx="162360" cy="241560"/>
            </a:xfrm>
            <a:custGeom>
              <a:avLst/>
              <a:gdLst/>
              <a:ahLst/>
              <a:rect l="0" t="0" r="r" b="b"/>
              <a:pathLst>
                <a:path w="451" h="671">
                  <a:moveTo>
                    <a:pt x="0" y="591"/>
                  </a:moveTo>
                  <a:lnTo>
                    <a:pt x="150" y="419"/>
                  </a:lnTo>
                  <a:lnTo>
                    <a:pt x="177" y="251"/>
                  </a:lnTo>
                  <a:lnTo>
                    <a:pt x="350" y="0"/>
                  </a:lnTo>
                  <a:lnTo>
                    <a:pt x="385" y="167"/>
                  </a:lnTo>
                  <a:lnTo>
                    <a:pt x="363" y="605"/>
                  </a:lnTo>
                  <a:lnTo>
                    <a:pt x="451" y="671"/>
                  </a:lnTo>
                  <a:lnTo>
                    <a:pt x="318" y="622"/>
                  </a:lnTo>
                  <a:lnTo>
                    <a:pt x="252" y="371"/>
                  </a:lnTo>
                  <a:lnTo>
                    <a:pt x="150" y="494"/>
                  </a:lnTo>
                  <a:lnTo>
                    <a:pt x="0" y="59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1" name=""/>
            <p:cNvSpPr/>
            <p:nvPr/>
          </p:nvSpPr>
          <p:spPr>
            <a:xfrm>
              <a:off x="6792840" y="2065320"/>
              <a:ext cx="106560" cy="217800"/>
            </a:xfrm>
            <a:custGeom>
              <a:avLst/>
              <a:gdLst/>
              <a:ahLst/>
              <a:rect l="0" t="0" r="r" b="b"/>
              <a:pathLst>
                <a:path w="296" h="605">
                  <a:moveTo>
                    <a:pt x="0" y="450"/>
                  </a:moveTo>
                  <a:lnTo>
                    <a:pt x="13" y="229"/>
                  </a:lnTo>
                  <a:lnTo>
                    <a:pt x="74" y="97"/>
                  </a:lnTo>
                  <a:lnTo>
                    <a:pt x="141" y="574"/>
                  </a:lnTo>
                  <a:lnTo>
                    <a:pt x="234" y="574"/>
                  </a:lnTo>
                  <a:lnTo>
                    <a:pt x="274" y="70"/>
                  </a:lnTo>
                  <a:lnTo>
                    <a:pt x="296" y="0"/>
                  </a:lnTo>
                  <a:lnTo>
                    <a:pt x="274" y="393"/>
                  </a:lnTo>
                  <a:lnTo>
                    <a:pt x="234" y="605"/>
                  </a:lnTo>
                  <a:lnTo>
                    <a:pt x="114" y="605"/>
                  </a:lnTo>
                  <a:lnTo>
                    <a:pt x="66" y="185"/>
                  </a:lnTo>
                  <a:lnTo>
                    <a:pt x="35" y="246"/>
                  </a:lnTo>
                  <a:lnTo>
                    <a:pt x="0" y="45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2" name=""/>
            <p:cNvSpPr/>
            <p:nvPr/>
          </p:nvSpPr>
          <p:spPr>
            <a:xfrm>
              <a:off x="8155080" y="1214280"/>
              <a:ext cx="257400" cy="578160"/>
            </a:xfrm>
            <a:custGeom>
              <a:avLst/>
              <a:gdLst/>
              <a:ahLst/>
              <a:rect l="0" t="0" r="r" b="b"/>
              <a:pathLst>
                <a:path w="715" h="1606">
                  <a:moveTo>
                    <a:pt x="189" y="869"/>
                  </a:moveTo>
                  <a:lnTo>
                    <a:pt x="242" y="617"/>
                  </a:lnTo>
                  <a:lnTo>
                    <a:pt x="481" y="551"/>
                  </a:lnTo>
                  <a:lnTo>
                    <a:pt x="715" y="0"/>
                  </a:lnTo>
                  <a:lnTo>
                    <a:pt x="715" y="163"/>
                  </a:lnTo>
                  <a:lnTo>
                    <a:pt x="516" y="586"/>
                  </a:lnTo>
                  <a:lnTo>
                    <a:pt x="264" y="665"/>
                  </a:lnTo>
                  <a:lnTo>
                    <a:pt x="229" y="869"/>
                  </a:lnTo>
                  <a:lnTo>
                    <a:pt x="317" y="869"/>
                  </a:lnTo>
                  <a:lnTo>
                    <a:pt x="92" y="957"/>
                  </a:lnTo>
                  <a:lnTo>
                    <a:pt x="39" y="1129"/>
                  </a:lnTo>
                  <a:lnTo>
                    <a:pt x="52" y="1350"/>
                  </a:lnTo>
                  <a:lnTo>
                    <a:pt x="291" y="1606"/>
                  </a:lnTo>
                  <a:lnTo>
                    <a:pt x="39" y="1381"/>
                  </a:lnTo>
                  <a:lnTo>
                    <a:pt x="0" y="1196"/>
                  </a:lnTo>
                  <a:lnTo>
                    <a:pt x="17" y="1010"/>
                  </a:lnTo>
                  <a:lnTo>
                    <a:pt x="105" y="878"/>
                  </a:lnTo>
                  <a:lnTo>
                    <a:pt x="189" y="86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3" name=""/>
            <p:cNvSpPr/>
            <p:nvPr/>
          </p:nvSpPr>
          <p:spPr>
            <a:xfrm>
              <a:off x="8327880" y="1214280"/>
              <a:ext cx="433800" cy="560880"/>
            </a:xfrm>
            <a:custGeom>
              <a:avLst/>
              <a:gdLst/>
              <a:ahLst/>
              <a:rect l="0" t="0" r="r" b="b"/>
              <a:pathLst>
                <a:path w="1205" h="1558">
                  <a:moveTo>
                    <a:pt x="331" y="0"/>
                  </a:moveTo>
                  <a:lnTo>
                    <a:pt x="406" y="48"/>
                  </a:lnTo>
                  <a:lnTo>
                    <a:pt x="428" y="180"/>
                  </a:lnTo>
                  <a:lnTo>
                    <a:pt x="428" y="304"/>
                  </a:lnTo>
                  <a:lnTo>
                    <a:pt x="291" y="530"/>
                  </a:lnTo>
                  <a:lnTo>
                    <a:pt x="318" y="697"/>
                  </a:lnTo>
                  <a:lnTo>
                    <a:pt x="724" y="878"/>
                  </a:lnTo>
                  <a:lnTo>
                    <a:pt x="1197" y="1369"/>
                  </a:lnTo>
                  <a:lnTo>
                    <a:pt x="1205" y="1501"/>
                  </a:lnTo>
                  <a:lnTo>
                    <a:pt x="1179" y="1558"/>
                  </a:lnTo>
                  <a:lnTo>
                    <a:pt x="1003" y="1558"/>
                  </a:lnTo>
                  <a:lnTo>
                    <a:pt x="843" y="1466"/>
                  </a:lnTo>
                  <a:lnTo>
                    <a:pt x="715" y="1302"/>
                  </a:lnTo>
                  <a:lnTo>
                    <a:pt x="644" y="1210"/>
                  </a:lnTo>
                  <a:lnTo>
                    <a:pt x="556" y="1197"/>
                  </a:lnTo>
                  <a:lnTo>
                    <a:pt x="662" y="1197"/>
                  </a:lnTo>
                  <a:lnTo>
                    <a:pt x="860" y="1448"/>
                  </a:lnTo>
                  <a:lnTo>
                    <a:pt x="1113" y="1523"/>
                  </a:lnTo>
                  <a:lnTo>
                    <a:pt x="1166" y="1448"/>
                  </a:lnTo>
                  <a:lnTo>
                    <a:pt x="1139" y="1333"/>
                  </a:lnTo>
                  <a:lnTo>
                    <a:pt x="697" y="979"/>
                  </a:lnTo>
                  <a:lnTo>
                    <a:pt x="636" y="878"/>
                  </a:lnTo>
                  <a:lnTo>
                    <a:pt x="291" y="790"/>
                  </a:lnTo>
                  <a:lnTo>
                    <a:pt x="233" y="878"/>
                  </a:lnTo>
                  <a:lnTo>
                    <a:pt x="0" y="1024"/>
                  </a:lnTo>
                  <a:lnTo>
                    <a:pt x="220" y="852"/>
                  </a:lnTo>
                  <a:lnTo>
                    <a:pt x="233" y="746"/>
                  </a:lnTo>
                  <a:lnTo>
                    <a:pt x="233" y="494"/>
                  </a:lnTo>
                  <a:lnTo>
                    <a:pt x="389" y="304"/>
                  </a:lnTo>
                  <a:lnTo>
                    <a:pt x="389" y="61"/>
                  </a:lnTo>
                  <a:lnTo>
                    <a:pt x="331"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4" name=""/>
            <p:cNvSpPr/>
            <p:nvPr/>
          </p:nvSpPr>
          <p:spPr>
            <a:xfrm>
              <a:off x="8250120" y="1655640"/>
              <a:ext cx="367200" cy="332280"/>
            </a:xfrm>
            <a:custGeom>
              <a:avLst/>
              <a:gdLst/>
              <a:ahLst/>
              <a:rect l="0" t="0" r="r" b="b"/>
              <a:pathLst>
                <a:path w="1020" h="923">
                  <a:moveTo>
                    <a:pt x="763" y="0"/>
                  </a:moveTo>
                  <a:lnTo>
                    <a:pt x="737" y="79"/>
                  </a:lnTo>
                  <a:lnTo>
                    <a:pt x="892" y="384"/>
                  </a:lnTo>
                  <a:lnTo>
                    <a:pt x="967" y="698"/>
                  </a:lnTo>
                  <a:lnTo>
                    <a:pt x="879" y="698"/>
                  </a:lnTo>
                  <a:lnTo>
                    <a:pt x="724" y="561"/>
                  </a:lnTo>
                  <a:lnTo>
                    <a:pt x="587" y="269"/>
                  </a:lnTo>
                  <a:lnTo>
                    <a:pt x="477" y="224"/>
                  </a:lnTo>
                  <a:lnTo>
                    <a:pt x="494" y="384"/>
                  </a:lnTo>
                  <a:lnTo>
                    <a:pt x="596" y="494"/>
                  </a:lnTo>
                  <a:lnTo>
                    <a:pt x="596" y="716"/>
                  </a:lnTo>
                  <a:lnTo>
                    <a:pt x="525" y="879"/>
                  </a:lnTo>
                  <a:lnTo>
                    <a:pt x="428" y="813"/>
                  </a:lnTo>
                  <a:lnTo>
                    <a:pt x="314" y="561"/>
                  </a:lnTo>
                  <a:lnTo>
                    <a:pt x="287" y="384"/>
                  </a:lnTo>
                  <a:lnTo>
                    <a:pt x="220" y="336"/>
                  </a:lnTo>
                  <a:lnTo>
                    <a:pt x="202" y="782"/>
                  </a:lnTo>
                  <a:lnTo>
                    <a:pt x="105" y="844"/>
                  </a:lnTo>
                  <a:lnTo>
                    <a:pt x="26" y="782"/>
                  </a:lnTo>
                  <a:lnTo>
                    <a:pt x="13" y="397"/>
                  </a:lnTo>
                  <a:lnTo>
                    <a:pt x="0" y="769"/>
                  </a:lnTo>
                  <a:lnTo>
                    <a:pt x="66" y="910"/>
                  </a:lnTo>
                  <a:lnTo>
                    <a:pt x="202" y="910"/>
                  </a:lnTo>
                  <a:lnTo>
                    <a:pt x="246" y="800"/>
                  </a:lnTo>
                  <a:lnTo>
                    <a:pt x="274" y="450"/>
                  </a:lnTo>
                  <a:lnTo>
                    <a:pt x="296" y="587"/>
                  </a:lnTo>
                  <a:lnTo>
                    <a:pt x="411" y="888"/>
                  </a:lnTo>
                  <a:lnTo>
                    <a:pt x="538" y="923"/>
                  </a:lnTo>
                  <a:lnTo>
                    <a:pt x="631" y="800"/>
                  </a:lnTo>
                  <a:lnTo>
                    <a:pt x="631" y="512"/>
                  </a:lnTo>
                  <a:lnTo>
                    <a:pt x="879" y="751"/>
                  </a:lnTo>
                  <a:lnTo>
                    <a:pt x="1007" y="751"/>
                  </a:lnTo>
                  <a:lnTo>
                    <a:pt x="1020" y="587"/>
                  </a:lnTo>
                  <a:lnTo>
                    <a:pt x="928" y="300"/>
                  </a:lnTo>
                  <a:lnTo>
                    <a:pt x="763" y="61"/>
                  </a:lnTo>
                  <a:lnTo>
                    <a:pt x="76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5" name=""/>
            <p:cNvSpPr/>
            <p:nvPr/>
          </p:nvSpPr>
          <p:spPr>
            <a:xfrm>
              <a:off x="6762600" y="1311120"/>
              <a:ext cx="1636920" cy="1354320"/>
            </a:xfrm>
            <a:custGeom>
              <a:avLst/>
              <a:gdLst/>
              <a:ahLst/>
              <a:rect l="0" t="0" r="r" b="b"/>
              <a:pathLst>
                <a:path w="4547" h="3762">
                  <a:moveTo>
                    <a:pt x="1636" y="317"/>
                  </a:moveTo>
                  <a:lnTo>
                    <a:pt x="1552" y="335"/>
                  </a:lnTo>
                  <a:lnTo>
                    <a:pt x="1424" y="520"/>
                  </a:lnTo>
                  <a:lnTo>
                    <a:pt x="1380" y="383"/>
                  </a:lnTo>
                  <a:lnTo>
                    <a:pt x="1234" y="304"/>
                  </a:lnTo>
                  <a:lnTo>
                    <a:pt x="1124" y="361"/>
                  </a:lnTo>
                  <a:lnTo>
                    <a:pt x="1080" y="608"/>
                  </a:lnTo>
                  <a:lnTo>
                    <a:pt x="674" y="903"/>
                  </a:lnTo>
                  <a:lnTo>
                    <a:pt x="701" y="1031"/>
                  </a:lnTo>
                  <a:lnTo>
                    <a:pt x="599" y="1146"/>
                  </a:lnTo>
                  <a:lnTo>
                    <a:pt x="599" y="1243"/>
                  </a:lnTo>
                  <a:lnTo>
                    <a:pt x="718" y="1525"/>
                  </a:lnTo>
                  <a:lnTo>
                    <a:pt x="727" y="1874"/>
                  </a:lnTo>
                  <a:lnTo>
                    <a:pt x="648" y="2205"/>
                  </a:lnTo>
                  <a:lnTo>
                    <a:pt x="357" y="2399"/>
                  </a:lnTo>
                  <a:lnTo>
                    <a:pt x="317" y="2668"/>
                  </a:lnTo>
                  <a:lnTo>
                    <a:pt x="229" y="2668"/>
                  </a:lnTo>
                  <a:lnTo>
                    <a:pt x="185" y="2448"/>
                  </a:lnTo>
                  <a:lnTo>
                    <a:pt x="92" y="2448"/>
                  </a:lnTo>
                  <a:lnTo>
                    <a:pt x="52" y="2686"/>
                  </a:lnTo>
                  <a:lnTo>
                    <a:pt x="0" y="2748"/>
                  </a:lnTo>
                  <a:lnTo>
                    <a:pt x="202" y="3070"/>
                  </a:lnTo>
                  <a:lnTo>
                    <a:pt x="343" y="3087"/>
                  </a:lnTo>
                  <a:lnTo>
                    <a:pt x="599" y="3325"/>
                  </a:lnTo>
                  <a:lnTo>
                    <a:pt x="833" y="3356"/>
                  </a:lnTo>
                  <a:lnTo>
                    <a:pt x="965" y="3228"/>
                  </a:lnTo>
                  <a:lnTo>
                    <a:pt x="1278" y="2761"/>
                  </a:lnTo>
                  <a:lnTo>
                    <a:pt x="1305" y="3387"/>
                  </a:lnTo>
                  <a:lnTo>
                    <a:pt x="1278" y="3762"/>
                  </a:lnTo>
                  <a:lnTo>
                    <a:pt x="3908" y="3762"/>
                  </a:lnTo>
                  <a:lnTo>
                    <a:pt x="3713" y="3356"/>
                  </a:lnTo>
                  <a:lnTo>
                    <a:pt x="3621" y="3008"/>
                  </a:lnTo>
                  <a:lnTo>
                    <a:pt x="3594" y="2488"/>
                  </a:lnTo>
                  <a:lnTo>
                    <a:pt x="3749" y="2607"/>
                  </a:lnTo>
                  <a:lnTo>
                    <a:pt x="3908" y="2607"/>
                  </a:lnTo>
                  <a:lnTo>
                    <a:pt x="4119" y="2470"/>
                  </a:lnTo>
                  <a:lnTo>
                    <a:pt x="4265" y="2448"/>
                  </a:lnTo>
                  <a:lnTo>
                    <a:pt x="4353" y="2311"/>
                  </a:lnTo>
                  <a:lnTo>
                    <a:pt x="4415" y="1954"/>
                  </a:lnTo>
                  <a:lnTo>
                    <a:pt x="4547" y="1812"/>
                  </a:lnTo>
                  <a:lnTo>
                    <a:pt x="4481" y="1702"/>
                  </a:lnTo>
                  <a:lnTo>
                    <a:pt x="4379" y="1702"/>
                  </a:lnTo>
                  <a:lnTo>
                    <a:pt x="4304" y="1777"/>
                  </a:lnTo>
                  <a:lnTo>
                    <a:pt x="4229" y="1799"/>
                  </a:lnTo>
                  <a:lnTo>
                    <a:pt x="4132" y="1702"/>
                  </a:lnTo>
                  <a:lnTo>
                    <a:pt x="4022" y="1688"/>
                  </a:lnTo>
                  <a:lnTo>
                    <a:pt x="3815" y="1556"/>
                  </a:lnTo>
                  <a:lnTo>
                    <a:pt x="3687" y="1415"/>
                  </a:lnTo>
                  <a:lnTo>
                    <a:pt x="3665" y="1243"/>
                  </a:lnTo>
                  <a:lnTo>
                    <a:pt x="3687" y="1075"/>
                  </a:lnTo>
                  <a:lnTo>
                    <a:pt x="3771" y="939"/>
                  </a:lnTo>
                  <a:lnTo>
                    <a:pt x="3885" y="815"/>
                  </a:lnTo>
                  <a:lnTo>
                    <a:pt x="3872" y="604"/>
                  </a:lnTo>
                  <a:lnTo>
                    <a:pt x="3872" y="445"/>
                  </a:lnTo>
                  <a:lnTo>
                    <a:pt x="3815" y="335"/>
                  </a:lnTo>
                  <a:lnTo>
                    <a:pt x="3665" y="282"/>
                  </a:lnTo>
                  <a:lnTo>
                    <a:pt x="3608" y="255"/>
                  </a:lnTo>
                  <a:lnTo>
                    <a:pt x="3502" y="70"/>
                  </a:lnTo>
                  <a:lnTo>
                    <a:pt x="3414" y="13"/>
                  </a:lnTo>
                  <a:lnTo>
                    <a:pt x="3317" y="0"/>
                  </a:lnTo>
                  <a:lnTo>
                    <a:pt x="3237" y="35"/>
                  </a:lnTo>
                  <a:lnTo>
                    <a:pt x="3171" y="132"/>
                  </a:lnTo>
                  <a:lnTo>
                    <a:pt x="3070" y="189"/>
                  </a:lnTo>
                  <a:lnTo>
                    <a:pt x="2959" y="211"/>
                  </a:lnTo>
                  <a:lnTo>
                    <a:pt x="2836" y="211"/>
                  </a:lnTo>
                  <a:lnTo>
                    <a:pt x="2858" y="396"/>
                  </a:lnTo>
                  <a:lnTo>
                    <a:pt x="2858" y="626"/>
                  </a:lnTo>
                  <a:lnTo>
                    <a:pt x="2836" y="784"/>
                  </a:lnTo>
                  <a:lnTo>
                    <a:pt x="2721" y="970"/>
                  </a:lnTo>
                  <a:lnTo>
                    <a:pt x="2580" y="1252"/>
                  </a:lnTo>
                  <a:lnTo>
                    <a:pt x="2466" y="1591"/>
                  </a:lnTo>
                  <a:lnTo>
                    <a:pt x="2457" y="1799"/>
                  </a:lnTo>
                  <a:lnTo>
                    <a:pt x="2404" y="1967"/>
                  </a:lnTo>
                  <a:lnTo>
                    <a:pt x="2338" y="2139"/>
                  </a:lnTo>
                  <a:lnTo>
                    <a:pt x="2307" y="2413"/>
                  </a:lnTo>
                  <a:lnTo>
                    <a:pt x="2324" y="2642"/>
                  </a:lnTo>
                  <a:lnTo>
                    <a:pt x="2404" y="2907"/>
                  </a:lnTo>
                  <a:lnTo>
                    <a:pt x="2457" y="3008"/>
                  </a:lnTo>
                  <a:lnTo>
                    <a:pt x="2307" y="3105"/>
                  </a:lnTo>
                  <a:lnTo>
                    <a:pt x="2121" y="3162"/>
                  </a:lnTo>
                  <a:lnTo>
                    <a:pt x="1918" y="3184"/>
                  </a:lnTo>
                  <a:lnTo>
                    <a:pt x="1794" y="3184"/>
                  </a:lnTo>
                  <a:lnTo>
                    <a:pt x="1710" y="3149"/>
                  </a:lnTo>
                  <a:lnTo>
                    <a:pt x="1710" y="2924"/>
                  </a:lnTo>
                  <a:lnTo>
                    <a:pt x="1710" y="2589"/>
                  </a:lnTo>
                  <a:lnTo>
                    <a:pt x="1662" y="2263"/>
                  </a:lnTo>
                  <a:lnTo>
                    <a:pt x="1583" y="1967"/>
                  </a:lnTo>
                  <a:lnTo>
                    <a:pt x="1543" y="1733"/>
                  </a:lnTo>
                  <a:lnTo>
                    <a:pt x="1530" y="1402"/>
                  </a:lnTo>
                  <a:lnTo>
                    <a:pt x="1583" y="1111"/>
                  </a:lnTo>
                  <a:lnTo>
                    <a:pt x="1662" y="877"/>
                  </a:lnTo>
                  <a:lnTo>
                    <a:pt x="1671" y="740"/>
                  </a:lnTo>
                  <a:lnTo>
                    <a:pt x="1636" y="537"/>
                  </a:lnTo>
                  <a:lnTo>
                    <a:pt x="1636" y="383"/>
                  </a:lnTo>
                  <a:lnTo>
                    <a:pt x="1662" y="335"/>
                  </a:lnTo>
                  <a:lnTo>
                    <a:pt x="1636" y="31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6" name=""/>
            <p:cNvSpPr/>
            <p:nvPr/>
          </p:nvSpPr>
          <p:spPr>
            <a:xfrm>
              <a:off x="7400880" y="1582560"/>
              <a:ext cx="206640" cy="879840"/>
            </a:xfrm>
            <a:custGeom>
              <a:avLst/>
              <a:gdLst/>
              <a:ahLst/>
              <a:rect l="0" t="0" r="r" b="b"/>
              <a:pathLst>
                <a:path w="574" h="2444">
                  <a:moveTo>
                    <a:pt x="229" y="30"/>
                  </a:moveTo>
                  <a:lnTo>
                    <a:pt x="74" y="105"/>
                  </a:lnTo>
                  <a:lnTo>
                    <a:pt x="88" y="343"/>
                  </a:lnTo>
                  <a:lnTo>
                    <a:pt x="202" y="410"/>
                  </a:lnTo>
                  <a:lnTo>
                    <a:pt x="66" y="666"/>
                  </a:lnTo>
                  <a:lnTo>
                    <a:pt x="0" y="949"/>
                  </a:lnTo>
                  <a:lnTo>
                    <a:pt x="0" y="1218"/>
                  </a:lnTo>
                  <a:lnTo>
                    <a:pt x="66" y="1465"/>
                  </a:lnTo>
                  <a:lnTo>
                    <a:pt x="119" y="1764"/>
                  </a:lnTo>
                  <a:lnTo>
                    <a:pt x="119" y="1933"/>
                  </a:lnTo>
                  <a:lnTo>
                    <a:pt x="66" y="2145"/>
                  </a:lnTo>
                  <a:lnTo>
                    <a:pt x="296" y="2444"/>
                  </a:lnTo>
                  <a:lnTo>
                    <a:pt x="393" y="2396"/>
                  </a:lnTo>
                  <a:lnTo>
                    <a:pt x="459" y="2189"/>
                  </a:lnTo>
                  <a:lnTo>
                    <a:pt x="565" y="1920"/>
                  </a:lnTo>
                  <a:lnTo>
                    <a:pt x="574" y="1778"/>
                  </a:lnTo>
                  <a:lnTo>
                    <a:pt x="486" y="1509"/>
                  </a:lnTo>
                  <a:lnTo>
                    <a:pt x="375" y="1248"/>
                  </a:lnTo>
                  <a:lnTo>
                    <a:pt x="336" y="1063"/>
                  </a:lnTo>
                  <a:lnTo>
                    <a:pt x="336" y="887"/>
                  </a:lnTo>
                  <a:lnTo>
                    <a:pt x="375" y="728"/>
                  </a:lnTo>
                  <a:lnTo>
                    <a:pt x="459" y="533"/>
                  </a:lnTo>
                  <a:lnTo>
                    <a:pt x="459" y="454"/>
                  </a:lnTo>
                  <a:lnTo>
                    <a:pt x="415" y="374"/>
                  </a:lnTo>
                  <a:lnTo>
                    <a:pt x="525" y="277"/>
                  </a:lnTo>
                  <a:lnTo>
                    <a:pt x="525" y="185"/>
                  </a:lnTo>
                  <a:lnTo>
                    <a:pt x="375" y="0"/>
                  </a:lnTo>
                  <a:lnTo>
                    <a:pt x="499" y="185"/>
                  </a:lnTo>
                  <a:lnTo>
                    <a:pt x="499" y="264"/>
                  </a:lnTo>
                  <a:lnTo>
                    <a:pt x="389" y="343"/>
                  </a:lnTo>
                  <a:lnTo>
                    <a:pt x="428" y="454"/>
                  </a:lnTo>
                  <a:lnTo>
                    <a:pt x="415" y="533"/>
                  </a:lnTo>
                  <a:lnTo>
                    <a:pt x="309" y="759"/>
                  </a:lnTo>
                  <a:lnTo>
                    <a:pt x="296" y="979"/>
                  </a:lnTo>
                  <a:lnTo>
                    <a:pt x="322" y="1187"/>
                  </a:lnTo>
                  <a:lnTo>
                    <a:pt x="393" y="1478"/>
                  </a:lnTo>
                  <a:lnTo>
                    <a:pt x="486" y="1711"/>
                  </a:lnTo>
                  <a:lnTo>
                    <a:pt x="486" y="1907"/>
                  </a:lnTo>
                  <a:lnTo>
                    <a:pt x="428" y="2145"/>
                  </a:lnTo>
                  <a:lnTo>
                    <a:pt x="322" y="2396"/>
                  </a:lnTo>
                  <a:lnTo>
                    <a:pt x="189" y="2259"/>
                  </a:lnTo>
                  <a:lnTo>
                    <a:pt x="132" y="2145"/>
                  </a:lnTo>
                  <a:lnTo>
                    <a:pt x="149" y="1907"/>
                  </a:lnTo>
                  <a:lnTo>
                    <a:pt x="132" y="1663"/>
                  </a:lnTo>
                  <a:lnTo>
                    <a:pt x="66" y="1341"/>
                  </a:lnTo>
                  <a:lnTo>
                    <a:pt x="39" y="1121"/>
                  </a:lnTo>
                  <a:lnTo>
                    <a:pt x="66" y="874"/>
                  </a:lnTo>
                  <a:lnTo>
                    <a:pt x="119" y="631"/>
                  </a:lnTo>
                  <a:lnTo>
                    <a:pt x="242" y="392"/>
                  </a:lnTo>
                  <a:lnTo>
                    <a:pt x="132" y="295"/>
                  </a:lnTo>
                  <a:lnTo>
                    <a:pt x="119" y="123"/>
                  </a:lnTo>
                  <a:lnTo>
                    <a:pt x="229" y="3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7" name=""/>
            <p:cNvSpPr/>
            <p:nvPr/>
          </p:nvSpPr>
          <p:spPr>
            <a:xfrm>
              <a:off x="7989840" y="555480"/>
              <a:ext cx="325800" cy="429120"/>
            </a:xfrm>
            <a:custGeom>
              <a:avLst/>
              <a:gdLst/>
              <a:ahLst/>
              <a:rect l="0" t="0" r="r" b="b"/>
              <a:pathLst>
                <a:path w="905" h="1192">
                  <a:moveTo>
                    <a:pt x="154" y="305"/>
                  </a:moveTo>
                  <a:lnTo>
                    <a:pt x="283" y="277"/>
                  </a:lnTo>
                  <a:lnTo>
                    <a:pt x="411" y="291"/>
                  </a:lnTo>
                  <a:lnTo>
                    <a:pt x="521" y="340"/>
                  </a:lnTo>
                  <a:lnTo>
                    <a:pt x="578" y="402"/>
                  </a:lnTo>
                  <a:lnTo>
                    <a:pt x="605" y="468"/>
                  </a:lnTo>
                  <a:lnTo>
                    <a:pt x="605" y="525"/>
                  </a:lnTo>
                  <a:lnTo>
                    <a:pt x="574" y="565"/>
                  </a:lnTo>
                  <a:lnTo>
                    <a:pt x="516" y="591"/>
                  </a:lnTo>
                  <a:lnTo>
                    <a:pt x="446" y="596"/>
                  </a:lnTo>
                  <a:lnTo>
                    <a:pt x="367" y="578"/>
                  </a:lnTo>
                  <a:lnTo>
                    <a:pt x="287" y="530"/>
                  </a:lnTo>
                  <a:lnTo>
                    <a:pt x="230" y="486"/>
                  </a:lnTo>
                  <a:lnTo>
                    <a:pt x="202" y="636"/>
                  </a:lnTo>
                  <a:lnTo>
                    <a:pt x="154" y="746"/>
                  </a:lnTo>
                  <a:lnTo>
                    <a:pt x="0" y="994"/>
                  </a:lnTo>
                  <a:lnTo>
                    <a:pt x="220" y="1192"/>
                  </a:lnTo>
                  <a:lnTo>
                    <a:pt x="384" y="869"/>
                  </a:lnTo>
                  <a:lnTo>
                    <a:pt x="574" y="897"/>
                  </a:lnTo>
                  <a:lnTo>
                    <a:pt x="689" y="874"/>
                  </a:lnTo>
                  <a:lnTo>
                    <a:pt x="804" y="799"/>
                  </a:lnTo>
                  <a:lnTo>
                    <a:pt x="870" y="706"/>
                  </a:lnTo>
                  <a:lnTo>
                    <a:pt x="905" y="583"/>
                  </a:lnTo>
                  <a:lnTo>
                    <a:pt x="905" y="455"/>
                  </a:lnTo>
                  <a:lnTo>
                    <a:pt x="870" y="318"/>
                  </a:lnTo>
                  <a:lnTo>
                    <a:pt x="800" y="180"/>
                  </a:lnTo>
                  <a:lnTo>
                    <a:pt x="703" y="83"/>
                  </a:lnTo>
                  <a:lnTo>
                    <a:pt x="591" y="30"/>
                  </a:lnTo>
                  <a:lnTo>
                    <a:pt x="464" y="0"/>
                  </a:lnTo>
                  <a:lnTo>
                    <a:pt x="300" y="0"/>
                  </a:lnTo>
                  <a:lnTo>
                    <a:pt x="119" y="35"/>
                  </a:lnTo>
                  <a:lnTo>
                    <a:pt x="154" y="305"/>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a:off x="7931160" y="971640"/>
              <a:ext cx="117720" cy="84600"/>
            </a:xfrm>
            <a:custGeom>
              <a:avLst/>
              <a:gdLst/>
              <a:ahLst/>
              <a:rect l="0" t="0" r="r" b="b"/>
              <a:pathLst>
                <a:path w="327" h="235">
                  <a:moveTo>
                    <a:pt x="127" y="0"/>
                  </a:moveTo>
                  <a:lnTo>
                    <a:pt x="44" y="0"/>
                  </a:lnTo>
                  <a:lnTo>
                    <a:pt x="0" y="35"/>
                  </a:lnTo>
                  <a:lnTo>
                    <a:pt x="0" y="115"/>
                  </a:lnTo>
                  <a:lnTo>
                    <a:pt x="66" y="200"/>
                  </a:lnTo>
                  <a:lnTo>
                    <a:pt x="199" y="235"/>
                  </a:lnTo>
                  <a:lnTo>
                    <a:pt x="296" y="231"/>
                  </a:lnTo>
                  <a:lnTo>
                    <a:pt x="327" y="178"/>
                  </a:lnTo>
                  <a:lnTo>
                    <a:pt x="309" y="128"/>
                  </a:lnTo>
                  <a:lnTo>
                    <a:pt x="265" y="57"/>
                  </a:lnTo>
                  <a:lnTo>
                    <a:pt x="186" y="8"/>
                  </a:lnTo>
                  <a:lnTo>
                    <a:pt x="127" y="0"/>
                  </a:lnTo>
                  <a:close/>
                </a:path>
              </a:pathLst>
            </a:custGeom>
            <a:solidFill>
              <a:srgbClr val="fc0128"/>
            </a:solidFill>
            <a:ln w="12600">
              <a:solidFill>
                <a:srgbClr val="000000"/>
              </a:solidFill>
              <a:round/>
            </a:ln>
          </p:spPr>
          <p:txBody>
            <a:bodyPr lIns="96120" rIns="96120" tIns="33480" bIns="334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19" name=""/>
          <p:cNvSpPr txBox="1"/>
          <p:nvPr/>
        </p:nvSpPr>
        <p:spPr>
          <a:xfrm>
            <a:off x="1676520" y="380880"/>
            <a:ext cx="812880" cy="838080"/>
          </a:xfrm>
          <a:prstGeom prst="rect">
            <a:avLst/>
          </a:prstGeom>
          <a:noFill/>
          <a:ln w="0">
            <a:noFill/>
          </a:ln>
        </p:spPr>
        <p:txBody>
          <a:bodyPr lIns="0" rIns="0" tIns="0" bIns="0" anchor="t">
            <a:noAutofit/>
          </a:bodyPr>
          <a:p>
            <a:pPr algn="ctr">
              <a:lnSpc>
                <a:spcPct val="100000"/>
              </a:lnSpc>
            </a:pPr>
            <a:r>
              <a:rPr b="1" lang="en-US" sz="2800" spc="-1" strike="noStrike">
                <a:solidFill>
                  <a:srgbClr val="fc0128"/>
                </a:solidFill>
                <a:latin typeface="Arial"/>
                <a:ea typeface="Arial"/>
              </a:rPr>
              <a:t>A.</a:t>
            </a:r>
            <a:endParaRPr b="0" lang="en-US" sz="2800" spc="-1" strike="noStrike">
              <a:solidFill>
                <a:srgbClr val="ffffff"/>
              </a:solidFill>
              <a:latin typeface="Arial"/>
            </a:endParaRPr>
          </a:p>
        </p:txBody>
      </p:sp>
      <p:sp>
        <p:nvSpPr>
          <p:cNvPr id="320" name=""/>
          <p:cNvSpPr txBox="1"/>
          <p:nvPr/>
        </p:nvSpPr>
        <p:spPr>
          <a:xfrm>
            <a:off x="2209680" y="533520"/>
            <a:ext cx="6705720" cy="5715000"/>
          </a:xfrm>
          <a:prstGeom prst="rect">
            <a:avLst/>
          </a:prstGeom>
          <a:noFill/>
          <a:ln w="0">
            <a:noFill/>
          </a:ln>
        </p:spPr>
        <p:txBody>
          <a:bodyPr lIns="0" rIns="0" tIns="0" bIns="0" anchor="t">
            <a:noAutofit/>
          </a:bodyPr>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Under the periodic inventory system, the inventory on hand is counted periodically, usually at the end of the accounting period. No detailed records of the actual inventory on hand are maintained during the period. Under the perpetual inventory system, records are kept of the quantity and, usually, the cost of individual items of inventory as they are bought and sold.</a:t>
            </a:r>
            <a:endParaRPr b="0" lang="en-US" sz="2800" spc="-1" strike="noStrike">
              <a:solidFill>
                <a:srgbClr val="ffffff"/>
              </a:solidFill>
              <a:latin typeface="Arial"/>
            </a:endParaRPr>
          </a:p>
        </p:txBody>
      </p:sp>
      <p:grpSp>
        <p:nvGrpSpPr>
          <p:cNvPr id="321" name=""/>
          <p:cNvGrpSpPr/>
          <p:nvPr/>
        </p:nvGrpSpPr>
        <p:grpSpPr>
          <a:xfrm>
            <a:off x="762120" y="4419720"/>
            <a:ext cx="1675080" cy="2067120"/>
            <a:chOff x="762120" y="4419720"/>
            <a:chExt cx="1675080" cy="2067120"/>
          </a:xfrm>
        </p:grpSpPr>
        <p:sp>
          <p:nvSpPr>
            <p:cNvPr id="322" name=""/>
            <p:cNvSpPr/>
            <p:nvPr/>
          </p:nvSpPr>
          <p:spPr>
            <a:xfrm>
              <a:off x="1133640" y="4581360"/>
              <a:ext cx="614880" cy="948240"/>
            </a:xfrm>
            <a:custGeom>
              <a:avLst/>
              <a:gdLst/>
              <a:ahLst/>
              <a:rect l="0" t="0" r="r" b="b"/>
              <a:pathLst>
                <a:path w="1708" h="2634">
                  <a:moveTo>
                    <a:pt x="856" y="0"/>
                  </a:moveTo>
                  <a:lnTo>
                    <a:pt x="1050" y="573"/>
                  </a:lnTo>
                  <a:lnTo>
                    <a:pt x="1178" y="975"/>
                  </a:lnTo>
                  <a:lnTo>
                    <a:pt x="1160" y="1041"/>
                  </a:lnTo>
                  <a:lnTo>
                    <a:pt x="1032" y="1376"/>
                  </a:lnTo>
                  <a:lnTo>
                    <a:pt x="984" y="1442"/>
                  </a:lnTo>
                  <a:lnTo>
                    <a:pt x="997" y="1562"/>
                  </a:lnTo>
                  <a:lnTo>
                    <a:pt x="900" y="1610"/>
                  </a:lnTo>
                  <a:lnTo>
                    <a:pt x="816" y="1610"/>
                  </a:lnTo>
                  <a:lnTo>
                    <a:pt x="675" y="1562"/>
                  </a:lnTo>
                  <a:lnTo>
                    <a:pt x="666" y="1703"/>
                  </a:lnTo>
                  <a:lnTo>
                    <a:pt x="1244" y="1861"/>
                  </a:lnTo>
                  <a:lnTo>
                    <a:pt x="1213" y="1711"/>
                  </a:lnTo>
                  <a:lnTo>
                    <a:pt x="1231" y="1562"/>
                  </a:lnTo>
                  <a:lnTo>
                    <a:pt x="1294" y="1456"/>
                  </a:lnTo>
                  <a:lnTo>
                    <a:pt x="1395" y="1456"/>
                  </a:lnTo>
                  <a:lnTo>
                    <a:pt x="1554" y="1513"/>
                  </a:lnTo>
                  <a:lnTo>
                    <a:pt x="1708" y="1610"/>
                  </a:lnTo>
                  <a:lnTo>
                    <a:pt x="1554" y="1782"/>
                  </a:lnTo>
                  <a:lnTo>
                    <a:pt x="1143" y="2634"/>
                  </a:lnTo>
                  <a:lnTo>
                    <a:pt x="640" y="2625"/>
                  </a:lnTo>
                  <a:lnTo>
                    <a:pt x="101" y="1125"/>
                  </a:lnTo>
                  <a:lnTo>
                    <a:pt x="0" y="847"/>
                  </a:lnTo>
                  <a:lnTo>
                    <a:pt x="0" y="697"/>
                  </a:lnTo>
                  <a:lnTo>
                    <a:pt x="171" y="0"/>
                  </a:lnTo>
                  <a:lnTo>
                    <a:pt x="583" y="26"/>
                  </a:lnTo>
                  <a:lnTo>
                    <a:pt x="856"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1192320" y="4992840"/>
              <a:ext cx="63720" cy="55800"/>
            </a:xfrm>
            <a:custGeom>
              <a:avLst/>
              <a:gdLst/>
              <a:ahLst/>
              <a:rect l="0" t="0" r="r" b="b"/>
              <a:pathLst>
                <a:path w="177" h="155">
                  <a:moveTo>
                    <a:pt x="61" y="0"/>
                  </a:moveTo>
                  <a:lnTo>
                    <a:pt x="124" y="8"/>
                  </a:lnTo>
                  <a:lnTo>
                    <a:pt x="177" y="137"/>
                  </a:lnTo>
                  <a:lnTo>
                    <a:pt x="35" y="155"/>
                  </a:lnTo>
                  <a:lnTo>
                    <a:pt x="0" y="39"/>
                  </a:lnTo>
                  <a:lnTo>
                    <a:pt x="61" y="0"/>
                  </a:lnTo>
                  <a:close/>
                </a:path>
              </a:pathLst>
            </a:custGeom>
            <a:solidFill>
              <a:srgbClr val="ffff00"/>
            </a:solidFill>
            <a:ln w="12600">
              <a:solidFill>
                <a:srgbClr val="ffff00"/>
              </a:solidFill>
              <a:round/>
            </a:ln>
          </p:spPr>
          <p:txBody>
            <a:bodyPr lIns="96120" rIns="96120" tIns="4680" bIns="4680" anchor="t">
              <a:noAutofit/>
            </a:bodyPr>
            <a:p>
              <a:endParaRPr b="0" lang="en-US" sz="1800" spc="-1" strike="noStrike">
                <a:solidFill>
                  <a:srgbClr val="000000"/>
                </a:solidFill>
                <a:latin typeface="Arial"/>
              </a:endParaRPr>
            </a:p>
          </p:txBody>
        </p:sp>
        <p:sp>
          <p:nvSpPr>
            <p:cNvPr id="324" name=""/>
            <p:cNvSpPr/>
            <p:nvPr/>
          </p:nvSpPr>
          <p:spPr>
            <a:xfrm>
              <a:off x="1063800" y="4419720"/>
              <a:ext cx="454320" cy="444960"/>
            </a:xfrm>
            <a:custGeom>
              <a:avLst/>
              <a:gdLst/>
              <a:ahLst/>
              <a:rect l="0" t="0" r="r" b="b"/>
              <a:pathLst>
                <a:path w="1262" h="1236">
                  <a:moveTo>
                    <a:pt x="1262" y="132"/>
                  </a:moveTo>
                  <a:lnTo>
                    <a:pt x="1178" y="314"/>
                  </a:lnTo>
                  <a:lnTo>
                    <a:pt x="1125" y="384"/>
                  </a:lnTo>
                  <a:lnTo>
                    <a:pt x="1200" y="464"/>
                  </a:lnTo>
                  <a:lnTo>
                    <a:pt x="1257" y="1073"/>
                  </a:lnTo>
                  <a:lnTo>
                    <a:pt x="1094" y="618"/>
                  </a:lnTo>
                  <a:lnTo>
                    <a:pt x="940" y="477"/>
                  </a:lnTo>
                  <a:lnTo>
                    <a:pt x="621" y="547"/>
                  </a:lnTo>
                  <a:lnTo>
                    <a:pt x="392" y="530"/>
                  </a:lnTo>
                  <a:lnTo>
                    <a:pt x="357" y="719"/>
                  </a:lnTo>
                  <a:lnTo>
                    <a:pt x="366" y="1038"/>
                  </a:lnTo>
                  <a:lnTo>
                    <a:pt x="343" y="1236"/>
                  </a:lnTo>
                  <a:lnTo>
                    <a:pt x="216" y="1188"/>
                  </a:lnTo>
                  <a:lnTo>
                    <a:pt x="0" y="605"/>
                  </a:lnTo>
                  <a:lnTo>
                    <a:pt x="57" y="494"/>
                  </a:lnTo>
                  <a:lnTo>
                    <a:pt x="145" y="362"/>
                  </a:lnTo>
                  <a:lnTo>
                    <a:pt x="242" y="322"/>
                  </a:lnTo>
                  <a:lnTo>
                    <a:pt x="264" y="198"/>
                  </a:lnTo>
                  <a:lnTo>
                    <a:pt x="366" y="70"/>
                  </a:lnTo>
                  <a:lnTo>
                    <a:pt x="485" y="26"/>
                  </a:lnTo>
                  <a:lnTo>
                    <a:pt x="640" y="8"/>
                  </a:lnTo>
                  <a:lnTo>
                    <a:pt x="794" y="26"/>
                  </a:lnTo>
                  <a:lnTo>
                    <a:pt x="957" y="70"/>
                  </a:lnTo>
                  <a:lnTo>
                    <a:pt x="940" y="171"/>
                  </a:lnTo>
                  <a:lnTo>
                    <a:pt x="988" y="158"/>
                  </a:lnTo>
                  <a:lnTo>
                    <a:pt x="1010" y="0"/>
                  </a:lnTo>
                  <a:lnTo>
                    <a:pt x="1076" y="35"/>
                  </a:lnTo>
                  <a:lnTo>
                    <a:pt x="1024" y="233"/>
                  </a:lnTo>
                  <a:lnTo>
                    <a:pt x="1129" y="35"/>
                  </a:lnTo>
                  <a:lnTo>
                    <a:pt x="1076" y="264"/>
                  </a:lnTo>
                  <a:lnTo>
                    <a:pt x="1209" y="83"/>
                  </a:lnTo>
                  <a:lnTo>
                    <a:pt x="1107" y="314"/>
                  </a:lnTo>
                  <a:lnTo>
                    <a:pt x="1178" y="233"/>
                  </a:lnTo>
                  <a:lnTo>
                    <a:pt x="1213" y="149"/>
                  </a:lnTo>
                  <a:lnTo>
                    <a:pt x="1262" y="132"/>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325" name=""/>
            <p:cNvSpPr/>
            <p:nvPr/>
          </p:nvSpPr>
          <p:spPr>
            <a:xfrm>
              <a:off x="1484280" y="4630680"/>
              <a:ext cx="946440" cy="1140120"/>
            </a:xfrm>
            <a:custGeom>
              <a:avLst/>
              <a:gdLst/>
              <a:ahLst/>
              <a:rect l="0" t="0" r="r" b="b"/>
              <a:pathLst>
                <a:path w="2629" h="3167">
                  <a:moveTo>
                    <a:pt x="2629" y="802"/>
                  </a:moveTo>
                  <a:lnTo>
                    <a:pt x="2029" y="639"/>
                  </a:lnTo>
                  <a:lnTo>
                    <a:pt x="1469" y="357"/>
                  </a:lnTo>
                  <a:lnTo>
                    <a:pt x="912" y="0"/>
                  </a:lnTo>
                  <a:lnTo>
                    <a:pt x="811" y="388"/>
                  </a:lnTo>
                  <a:lnTo>
                    <a:pt x="555" y="1159"/>
                  </a:lnTo>
                  <a:lnTo>
                    <a:pt x="463" y="1322"/>
                  </a:lnTo>
                  <a:lnTo>
                    <a:pt x="573" y="1393"/>
                  </a:lnTo>
                  <a:lnTo>
                    <a:pt x="639" y="1481"/>
                  </a:lnTo>
                  <a:lnTo>
                    <a:pt x="590" y="1538"/>
                  </a:lnTo>
                  <a:lnTo>
                    <a:pt x="410" y="1556"/>
                  </a:lnTo>
                  <a:lnTo>
                    <a:pt x="326" y="1751"/>
                  </a:lnTo>
                  <a:lnTo>
                    <a:pt x="123" y="2082"/>
                  </a:lnTo>
                  <a:lnTo>
                    <a:pt x="0" y="2201"/>
                  </a:lnTo>
                  <a:lnTo>
                    <a:pt x="498" y="2413"/>
                  </a:lnTo>
                  <a:lnTo>
                    <a:pt x="930" y="2765"/>
                  </a:lnTo>
                  <a:lnTo>
                    <a:pt x="1363" y="3043"/>
                  </a:lnTo>
                  <a:lnTo>
                    <a:pt x="1544" y="3167"/>
                  </a:lnTo>
                  <a:lnTo>
                    <a:pt x="1861" y="2620"/>
                  </a:lnTo>
                  <a:lnTo>
                    <a:pt x="2148" y="1972"/>
                  </a:lnTo>
                  <a:lnTo>
                    <a:pt x="2382" y="1402"/>
                  </a:lnTo>
                  <a:lnTo>
                    <a:pt x="2558" y="987"/>
                  </a:lnTo>
                  <a:lnTo>
                    <a:pt x="2629" y="80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a:off x="1047600" y="5180040"/>
              <a:ext cx="619560" cy="489240"/>
            </a:xfrm>
            <a:custGeom>
              <a:avLst/>
              <a:gdLst/>
              <a:ahLst/>
              <a:rect l="0" t="0" r="r" b="b"/>
              <a:pathLst>
                <a:path w="1721" h="1359">
                  <a:moveTo>
                    <a:pt x="1488" y="198"/>
                  </a:moveTo>
                  <a:lnTo>
                    <a:pt x="1324" y="52"/>
                  </a:lnTo>
                  <a:lnTo>
                    <a:pt x="1103" y="70"/>
                  </a:lnTo>
                  <a:lnTo>
                    <a:pt x="1002" y="0"/>
                  </a:lnTo>
                  <a:lnTo>
                    <a:pt x="922" y="13"/>
                  </a:lnTo>
                  <a:lnTo>
                    <a:pt x="940" y="70"/>
                  </a:lnTo>
                  <a:lnTo>
                    <a:pt x="993" y="171"/>
                  </a:lnTo>
                  <a:lnTo>
                    <a:pt x="799" y="207"/>
                  </a:lnTo>
                  <a:lnTo>
                    <a:pt x="684" y="70"/>
                  </a:lnTo>
                  <a:lnTo>
                    <a:pt x="644" y="0"/>
                  </a:lnTo>
                  <a:lnTo>
                    <a:pt x="388" y="70"/>
                  </a:lnTo>
                  <a:lnTo>
                    <a:pt x="88" y="70"/>
                  </a:lnTo>
                  <a:lnTo>
                    <a:pt x="0" y="264"/>
                  </a:lnTo>
                  <a:lnTo>
                    <a:pt x="35" y="684"/>
                  </a:lnTo>
                  <a:lnTo>
                    <a:pt x="8" y="719"/>
                  </a:lnTo>
                  <a:lnTo>
                    <a:pt x="79" y="887"/>
                  </a:lnTo>
                  <a:lnTo>
                    <a:pt x="57" y="949"/>
                  </a:lnTo>
                  <a:lnTo>
                    <a:pt x="207" y="1359"/>
                  </a:lnTo>
                  <a:lnTo>
                    <a:pt x="1721" y="935"/>
                  </a:lnTo>
                  <a:lnTo>
                    <a:pt x="1417" y="759"/>
                  </a:lnTo>
                  <a:lnTo>
                    <a:pt x="1257" y="935"/>
                  </a:lnTo>
                  <a:lnTo>
                    <a:pt x="900" y="949"/>
                  </a:lnTo>
                  <a:lnTo>
                    <a:pt x="878" y="799"/>
                  </a:lnTo>
                  <a:lnTo>
                    <a:pt x="1103" y="710"/>
                  </a:lnTo>
                  <a:lnTo>
                    <a:pt x="1271" y="710"/>
                  </a:lnTo>
                  <a:lnTo>
                    <a:pt x="1204" y="674"/>
                  </a:lnTo>
                  <a:lnTo>
                    <a:pt x="1395" y="480"/>
                  </a:lnTo>
                  <a:lnTo>
                    <a:pt x="1501" y="246"/>
                  </a:lnTo>
                  <a:lnTo>
                    <a:pt x="1488" y="198"/>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7" name=""/>
            <p:cNvSpPr/>
            <p:nvPr/>
          </p:nvSpPr>
          <p:spPr>
            <a:xfrm>
              <a:off x="1376280" y="5237280"/>
              <a:ext cx="98640" cy="216360"/>
            </a:xfrm>
            <a:custGeom>
              <a:avLst/>
              <a:gdLst/>
              <a:ahLst/>
              <a:rect l="0" t="0" r="r" b="b"/>
              <a:pathLst>
                <a:path w="274" h="601">
                  <a:moveTo>
                    <a:pt x="88" y="0"/>
                  </a:moveTo>
                  <a:lnTo>
                    <a:pt x="221" y="327"/>
                  </a:lnTo>
                  <a:lnTo>
                    <a:pt x="274" y="553"/>
                  </a:lnTo>
                  <a:lnTo>
                    <a:pt x="105" y="601"/>
                  </a:lnTo>
                  <a:lnTo>
                    <a:pt x="0" y="265"/>
                  </a:lnTo>
                  <a:lnTo>
                    <a:pt x="88" y="0"/>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a:off x="1297080" y="5457960"/>
              <a:ext cx="111600" cy="54360"/>
            </a:xfrm>
            <a:custGeom>
              <a:avLst/>
              <a:gdLst/>
              <a:ahLst/>
              <a:rect l="0" t="0" r="r" b="b"/>
              <a:pathLst>
                <a:path w="310" h="151">
                  <a:moveTo>
                    <a:pt x="0" y="89"/>
                  </a:moveTo>
                  <a:lnTo>
                    <a:pt x="230" y="0"/>
                  </a:lnTo>
                  <a:lnTo>
                    <a:pt x="310" y="151"/>
                  </a:lnTo>
                  <a:lnTo>
                    <a:pt x="0" y="89"/>
                  </a:lnTo>
                  <a:close/>
                </a:path>
              </a:pathLst>
            </a:custGeom>
            <a:solidFill>
              <a:srgbClr val="ff0000"/>
            </a:solidFill>
            <a:ln w="12600">
              <a:solidFill>
                <a:srgbClr val="ff0000"/>
              </a:solidFill>
              <a:round/>
            </a:ln>
          </p:spPr>
          <p:txBody>
            <a:bodyPr lIns="96120" rIns="96120" tIns="3240" bIns="3240" anchor="t">
              <a:noAutofit/>
            </a:bodyPr>
            <a:p>
              <a:endParaRPr b="0" lang="en-US" sz="1800" spc="-1" strike="noStrike">
                <a:solidFill>
                  <a:srgbClr val="000000"/>
                </a:solidFill>
                <a:latin typeface="Arial"/>
              </a:endParaRPr>
            </a:p>
          </p:txBody>
        </p:sp>
        <p:sp>
          <p:nvSpPr>
            <p:cNvPr id="329" name=""/>
            <p:cNvSpPr/>
            <p:nvPr/>
          </p:nvSpPr>
          <p:spPr>
            <a:xfrm>
              <a:off x="1389240" y="5024520"/>
              <a:ext cx="108360" cy="51120"/>
            </a:xfrm>
            <a:custGeom>
              <a:avLst/>
              <a:gdLst/>
              <a:ahLst/>
              <a:rect l="0" t="0" r="r" b="b"/>
              <a:pathLst>
                <a:path w="301" h="142">
                  <a:moveTo>
                    <a:pt x="266" y="0"/>
                  </a:moveTo>
                  <a:lnTo>
                    <a:pt x="301" y="75"/>
                  </a:lnTo>
                  <a:lnTo>
                    <a:pt x="266" y="124"/>
                  </a:lnTo>
                  <a:lnTo>
                    <a:pt x="159" y="142"/>
                  </a:lnTo>
                  <a:lnTo>
                    <a:pt x="0" y="75"/>
                  </a:lnTo>
                  <a:lnTo>
                    <a:pt x="217" y="0"/>
                  </a:lnTo>
                  <a:lnTo>
                    <a:pt x="266" y="0"/>
                  </a:lnTo>
                  <a:close/>
                </a:path>
              </a:pathLst>
            </a:custGeom>
            <a:solidFill>
              <a:srgbClr val="ff0000"/>
            </a:solidFill>
            <a:ln w="12600">
              <a:solidFill>
                <a:srgbClr val="ff0000"/>
              </a:solidFill>
              <a:round/>
            </a:ln>
          </p:spPr>
          <p:txBody>
            <a:bodyPr lIns="96120" rIns="96120" tIns="0" bIns="0" anchor="t">
              <a:noAutofit/>
            </a:bodyPr>
            <a:p>
              <a:endParaRPr b="0" lang="en-US" sz="1800" spc="-1" strike="noStrike">
                <a:solidFill>
                  <a:srgbClr val="000000"/>
                </a:solidFill>
                <a:latin typeface="Arial"/>
              </a:endParaRPr>
            </a:p>
          </p:txBody>
        </p:sp>
        <p:sp>
          <p:nvSpPr>
            <p:cNvPr id="330" name=""/>
            <p:cNvSpPr/>
            <p:nvPr/>
          </p:nvSpPr>
          <p:spPr>
            <a:xfrm>
              <a:off x="1330200" y="4995720"/>
              <a:ext cx="147960" cy="70200"/>
            </a:xfrm>
            <a:custGeom>
              <a:avLst/>
              <a:gdLst/>
              <a:ahLst/>
              <a:rect l="0" t="0" r="r" b="b"/>
              <a:pathLst>
                <a:path w="411" h="195">
                  <a:moveTo>
                    <a:pt x="411" y="0"/>
                  </a:moveTo>
                  <a:lnTo>
                    <a:pt x="278" y="26"/>
                  </a:lnTo>
                  <a:lnTo>
                    <a:pt x="167" y="39"/>
                  </a:lnTo>
                  <a:lnTo>
                    <a:pt x="0" y="13"/>
                  </a:lnTo>
                  <a:lnTo>
                    <a:pt x="101" y="159"/>
                  </a:lnTo>
                  <a:lnTo>
                    <a:pt x="296" y="195"/>
                  </a:lnTo>
                  <a:lnTo>
                    <a:pt x="411" y="146"/>
                  </a:lnTo>
                  <a:lnTo>
                    <a:pt x="380" y="120"/>
                  </a:lnTo>
                  <a:lnTo>
                    <a:pt x="402" y="66"/>
                  </a:lnTo>
                  <a:lnTo>
                    <a:pt x="411" y="0"/>
                  </a:lnTo>
                  <a:close/>
                </a:path>
              </a:pathLst>
            </a:custGeom>
            <a:solidFill>
              <a:srgbClr val="ffffff"/>
            </a:solidFill>
            <a:ln w="12600">
              <a:solidFill>
                <a:srgbClr val="ffffff"/>
              </a:solidFill>
              <a:round/>
            </a:ln>
          </p:spPr>
          <p:txBody>
            <a:bodyPr lIns="96120" rIns="96120" tIns="19080" bIns="19080" anchor="t">
              <a:noAutofit/>
            </a:bodyPr>
            <a:p>
              <a:endParaRPr b="0" lang="en-US" sz="1800" spc="-1" strike="noStrike">
                <a:solidFill>
                  <a:srgbClr val="000000"/>
                </a:solidFill>
                <a:latin typeface="Arial"/>
              </a:endParaRPr>
            </a:p>
          </p:txBody>
        </p:sp>
        <p:sp>
          <p:nvSpPr>
            <p:cNvPr id="331" name=""/>
            <p:cNvSpPr/>
            <p:nvPr/>
          </p:nvSpPr>
          <p:spPr>
            <a:xfrm>
              <a:off x="1133640" y="5440320"/>
              <a:ext cx="730440" cy="265320"/>
            </a:xfrm>
            <a:custGeom>
              <a:avLst/>
              <a:gdLst/>
              <a:ahLst/>
              <a:rect l="0" t="0" r="r" b="b"/>
              <a:pathLst>
                <a:path w="2029" h="737">
                  <a:moveTo>
                    <a:pt x="1835" y="13"/>
                  </a:moveTo>
                  <a:lnTo>
                    <a:pt x="1487" y="44"/>
                  </a:lnTo>
                  <a:lnTo>
                    <a:pt x="1151" y="171"/>
                  </a:lnTo>
                  <a:lnTo>
                    <a:pt x="762" y="171"/>
                  </a:lnTo>
                  <a:lnTo>
                    <a:pt x="321" y="83"/>
                  </a:lnTo>
                  <a:lnTo>
                    <a:pt x="74" y="0"/>
                  </a:lnTo>
                  <a:lnTo>
                    <a:pt x="233" y="194"/>
                  </a:lnTo>
                  <a:lnTo>
                    <a:pt x="0" y="149"/>
                  </a:lnTo>
                  <a:lnTo>
                    <a:pt x="141" y="304"/>
                  </a:lnTo>
                  <a:lnTo>
                    <a:pt x="0" y="516"/>
                  </a:lnTo>
                  <a:lnTo>
                    <a:pt x="357" y="671"/>
                  </a:lnTo>
                  <a:lnTo>
                    <a:pt x="1910" y="737"/>
                  </a:lnTo>
                  <a:lnTo>
                    <a:pt x="2029" y="587"/>
                  </a:lnTo>
                  <a:lnTo>
                    <a:pt x="1853" y="441"/>
                  </a:lnTo>
                  <a:lnTo>
                    <a:pt x="1976" y="295"/>
                  </a:lnTo>
                  <a:lnTo>
                    <a:pt x="1778" y="255"/>
                  </a:lnTo>
                  <a:lnTo>
                    <a:pt x="1897" y="88"/>
                  </a:lnTo>
                  <a:lnTo>
                    <a:pt x="1778" y="127"/>
                  </a:lnTo>
                  <a:lnTo>
                    <a:pt x="1720" y="127"/>
                  </a:lnTo>
                  <a:lnTo>
                    <a:pt x="1835" y="13"/>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1965240" y="6305400"/>
              <a:ext cx="414720" cy="155880"/>
            </a:xfrm>
            <a:custGeom>
              <a:avLst/>
              <a:gdLst/>
              <a:ahLst/>
              <a:rect l="0" t="0" r="r" b="b"/>
              <a:pathLst>
                <a:path w="1152" h="433">
                  <a:moveTo>
                    <a:pt x="1152" y="217"/>
                  </a:moveTo>
                  <a:lnTo>
                    <a:pt x="640" y="0"/>
                  </a:lnTo>
                  <a:lnTo>
                    <a:pt x="375" y="239"/>
                  </a:lnTo>
                  <a:lnTo>
                    <a:pt x="0" y="327"/>
                  </a:lnTo>
                  <a:lnTo>
                    <a:pt x="123" y="411"/>
                  </a:lnTo>
                  <a:lnTo>
                    <a:pt x="888" y="433"/>
                  </a:lnTo>
                  <a:lnTo>
                    <a:pt x="1152" y="217"/>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a:off x="1195560" y="5681520"/>
              <a:ext cx="662400" cy="803520"/>
            </a:xfrm>
            <a:custGeom>
              <a:avLst/>
              <a:gdLst/>
              <a:ahLst/>
              <a:rect l="0" t="0" r="r" b="b"/>
              <a:pathLst>
                <a:path w="1840" h="2232">
                  <a:moveTo>
                    <a:pt x="1827" y="44"/>
                  </a:moveTo>
                  <a:lnTo>
                    <a:pt x="0" y="0"/>
                  </a:lnTo>
                  <a:lnTo>
                    <a:pt x="0" y="427"/>
                  </a:lnTo>
                  <a:lnTo>
                    <a:pt x="216" y="555"/>
                  </a:lnTo>
                  <a:lnTo>
                    <a:pt x="233" y="1914"/>
                  </a:lnTo>
                  <a:lnTo>
                    <a:pt x="436" y="1932"/>
                  </a:lnTo>
                  <a:lnTo>
                    <a:pt x="436" y="2192"/>
                  </a:lnTo>
                  <a:lnTo>
                    <a:pt x="1448" y="2232"/>
                  </a:lnTo>
                  <a:lnTo>
                    <a:pt x="1439" y="1888"/>
                  </a:lnTo>
                  <a:lnTo>
                    <a:pt x="1642" y="1888"/>
                  </a:lnTo>
                  <a:lnTo>
                    <a:pt x="1673" y="515"/>
                  </a:lnTo>
                  <a:lnTo>
                    <a:pt x="1814" y="383"/>
                  </a:lnTo>
                  <a:lnTo>
                    <a:pt x="1840" y="163"/>
                  </a:lnTo>
                  <a:lnTo>
                    <a:pt x="1827" y="44"/>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334" name=""/>
            <p:cNvSpPr/>
            <p:nvPr/>
          </p:nvSpPr>
          <p:spPr>
            <a:xfrm>
              <a:off x="1673280" y="5494320"/>
              <a:ext cx="28800" cy="203400"/>
            </a:xfrm>
            <a:custGeom>
              <a:avLst/>
              <a:gdLst/>
              <a:ahLst/>
              <a:rect l="0" t="0" r="r" b="b"/>
              <a:pathLst>
                <a:path w="80" h="565">
                  <a:moveTo>
                    <a:pt x="80" y="127"/>
                  </a:moveTo>
                  <a:lnTo>
                    <a:pt x="80" y="565"/>
                  </a:lnTo>
                  <a:lnTo>
                    <a:pt x="17" y="543"/>
                  </a:lnTo>
                  <a:lnTo>
                    <a:pt x="0" y="0"/>
                  </a:lnTo>
                  <a:lnTo>
                    <a:pt x="80" y="12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a:off x="779400" y="6297480"/>
              <a:ext cx="489240" cy="141480"/>
            </a:xfrm>
            <a:custGeom>
              <a:avLst/>
              <a:gdLst/>
              <a:ahLst/>
              <a:rect l="0" t="0" r="r" b="b"/>
              <a:pathLst>
                <a:path w="1359" h="393">
                  <a:moveTo>
                    <a:pt x="1359" y="287"/>
                  </a:moveTo>
                  <a:lnTo>
                    <a:pt x="1002" y="287"/>
                  </a:lnTo>
                  <a:lnTo>
                    <a:pt x="715" y="70"/>
                  </a:lnTo>
                  <a:lnTo>
                    <a:pt x="374" y="70"/>
                  </a:lnTo>
                  <a:lnTo>
                    <a:pt x="0" y="0"/>
                  </a:lnTo>
                  <a:lnTo>
                    <a:pt x="277" y="203"/>
                  </a:lnTo>
                  <a:lnTo>
                    <a:pt x="728" y="358"/>
                  </a:lnTo>
                  <a:lnTo>
                    <a:pt x="957" y="393"/>
                  </a:lnTo>
                  <a:lnTo>
                    <a:pt x="1359" y="28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a:off x="1870200" y="6340320"/>
              <a:ext cx="252720" cy="106560"/>
            </a:xfrm>
            <a:custGeom>
              <a:avLst/>
              <a:gdLst/>
              <a:ahLst/>
              <a:rect l="0" t="0" r="r" b="b"/>
              <a:pathLst>
                <a:path w="702" h="296">
                  <a:moveTo>
                    <a:pt x="702" y="110"/>
                  </a:moveTo>
                  <a:lnTo>
                    <a:pt x="353" y="110"/>
                  </a:lnTo>
                  <a:lnTo>
                    <a:pt x="0" y="0"/>
                  </a:lnTo>
                  <a:lnTo>
                    <a:pt x="57" y="208"/>
                  </a:lnTo>
                  <a:lnTo>
                    <a:pt x="339" y="296"/>
                  </a:lnTo>
                  <a:lnTo>
                    <a:pt x="574" y="190"/>
                  </a:lnTo>
                  <a:lnTo>
                    <a:pt x="702" y="11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a:off x="1716120" y="6297480"/>
              <a:ext cx="130680" cy="133560"/>
            </a:xfrm>
            <a:custGeom>
              <a:avLst/>
              <a:gdLst/>
              <a:ahLst/>
              <a:rect l="0" t="0" r="r" b="b"/>
              <a:pathLst>
                <a:path w="363" h="371">
                  <a:moveTo>
                    <a:pt x="30" y="0"/>
                  </a:moveTo>
                  <a:lnTo>
                    <a:pt x="239" y="136"/>
                  </a:lnTo>
                  <a:lnTo>
                    <a:pt x="332" y="243"/>
                  </a:lnTo>
                  <a:lnTo>
                    <a:pt x="363" y="371"/>
                  </a:lnTo>
                  <a:lnTo>
                    <a:pt x="315" y="371"/>
                  </a:lnTo>
                  <a:lnTo>
                    <a:pt x="269" y="261"/>
                  </a:lnTo>
                  <a:lnTo>
                    <a:pt x="164" y="158"/>
                  </a:lnTo>
                  <a:lnTo>
                    <a:pt x="0" y="44"/>
                  </a:lnTo>
                  <a:lnTo>
                    <a:pt x="3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a:off x="1425600" y="5967360"/>
              <a:ext cx="89280" cy="224280"/>
            </a:xfrm>
            <a:custGeom>
              <a:avLst/>
              <a:gdLst/>
              <a:ahLst/>
              <a:rect l="0" t="0" r="r" b="b"/>
              <a:pathLst>
                <a:path w="248" h="623">
                  <a:moveTo>
                    <a:pt x="89" y="66"/>
                  </a:moveTo>
                  <a:lnTo>
                    <a:pt x="115" y="336"/>
                  </a:lnTo>
                  <a:lnTo>
                    <a:pt x="248" y="557"/>
                  </a:lnTo>
                  <a:lnTo>
                    <a:pt x="231" y="623"/>
                  </a:lnTo>
                  <a:lnTo>
                    <a:pt x="89" y="446"/>
                  </a:lnTo>
                  <a:lnTo>
                    <a:pt x="0" y="168"/>
                  </a:lnTo>
                  <a:lnTo>
                    <a:pt x="22" y="0"/>
                  </a:lnTo>
                  <a:lnTo>
                    <a:pt x="89" y="6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1565280" y="5330880"/>
              <a:ext cx="214560" cy="489240"/>
            </a:xfrm>
            <a:custGeom>
              <a:avLst/>
              <a:gdLst/>
              <a:ahLst/>
              <a:rect l="0" t="0" r="r" b="b"/>
              <a:pathLst>
                <a:path w="596" h="1359">
                  <a:moveTo>
                    <a:pt x="512" y="1041"/>
                  </a:moveTo>
                  <a:lnTo>
                    <a:pt x="433" y="1204"/>
                  </a:lnTo>
                  <a:lnTo>
                    <a:pt x="0" y="1359"/>
                  </a:lnTo>
                  <a:lnTo>
                    <a:pt x="74" y="1248"/>
                  </a:lnTo>
                  <a:lnTo>
                    <a:pt x="464" y="1059"/>
                  </a:lnTo>
                  <a:lnTo>
                    <a:pt x="543" y="843"/>
                  </a:lnTo>
                  <a:lnTo>
                    <a:pt x="450" y="599"/>
                  </a:lnTo>
                  <a:lnTo>
                    <a:pt x="411" y="582"/>
                  </a:lnTo>
                  <a:lnTo>
                    <a:pt x="44" y="110"/>
                  </a:lnTo>
                  <a:lnTo>
                    <a:pt x="74" y="0"/>
                  </a:lnTo>
                  <a:lnTo>
                    <a:pt x="189" y="0"/>
                  </a:lnTo>
                  <a:lnTo>
                    <a:pt x="543" y="515"/>
                  </a:lnTo>
                  <a:lnTo>
                    <a:pt x="512" y="599"/>
                  </a:lnTo>
                  <a:lnTo>
                    <a:pt x="596" y="794"/>
                  </a:lnTo>
                  <a:lnTo>
                    <a:pt x="583" y="957"/>
                  </a:lnTo>
                  <a:lnTo>
                    <a:pt x="512" y="1041"/>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1581120" y="5324400"/>
              <a:ext cx="140040" cy="224280"/>
            </a:xfrm>
            <a:custGeom>
              <a:avLst/>
              <a:gdLst/>
              <a:ahLst/>
              <a:rect l="0" t="0" r="r" b="b"/>
              <a:pathLst>
                <a:path w="389" h="623">
                  <a:moveTo>
                    <a:pt x="83" y="0"/>
                  </a:moveTo>
                  <a:lnTo>
                    <a:pt x="30" y="22"/>
                  </a:lnTo>
                  <a:lnTo>
                    <a:pt x="17" y="66"/>
                  </a:lnTo>
                  <a:lnTo>
                    <a:pt x="0" y="110"/>
                  </a:lnTo>
                  <a:lnTo>
                    <a:pt x="30" y="168"/>
                  </a:lnTo>
                  <a:lnTo>
                    <a:pt x="362" y="623"/>
                  </a:lnTo>
                  <a:lnTo>
                    <a:pt x="349" y="557"/>
                  </a:lnTo>
                  <a:lnTo>
                    <a:pt x="362" y="513"/>
                  </a:lnTo>
                  <a:lnTo>
                    <a:pt x="389" y="495"/>
                  </a:lnTo>
                  <a:lnTo>
                    <a:pt x="336" y="406"/>
                  </a:lnTo>
                  <a:lnTo>
                    <a:pt x="287" y="455"/>
                  </a:lnTo>
                  <a:lnTo>
                    <a:pt x="83" y="168"/>
                  </a:lnTo>
                  <a:lnTo>
                    <a:pt x="83" y="110"/>
                  </a:lnTo>
                  <a:lnTo>
                    <a:pt x="114" y="83"/>
                  </a:lnTo>
                  <a:lnTo>
                    <a:pt x="8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41" name=""/>
            <p:cNvSpPr/>
            <p:nvPr/>
          </p:nvSpPr>
          <p:spPr>
            <a:xfrm>
              <a:off x="1157400" y="5424480"/>
              <a:ext cx="493920" cy="100440"/>
            </a:xfrm>
            <a:custGeom>
              <a:avLst/>
              <a:gdLst/>
              <a:ahLst/>
              <a:rect l="0" t="0" r="r" b="b"/>
              <a:pathLst>
                <a:path w="1372" h="279">
                  <a:moveTo>
                    <a:pt x="1372" y="150"/>
                  </a:moveTo>
                  <a:lnTo>
                    <a:pt x="1147" y="195"/>
                  </a:lnTo>
                  <a:lnTo>
                    <a:pt x="882" y="213"/>
                  </a:lnTo>
                  <a:lnTo>
                    <a:pt x="573" y="195"/>
                  </a:lnTo>
                  <a:lnTo>
                    <a:pt x="370" y="150"/>
                  </a:lnTo>
                  <a:lnTo>
                    <a:pt x="211" y="111"/>
                  </a:lnTo>
                  <a:lnTo>
                    <a:pt x="105" y="66"/>
                  </a:lnTo>
                  <a:lnTo>
                    <a:pt x="0" y="0"/>
                  </a:lnTo>
                  <a:lnTo>
                    <a:pt x="224" y="279"/>
                  </a:lnTo>
                  <a:lnTo>
                    <a:pt x="123" y="84"/>
                  </a:lnTo>
                  <a:lnTo>
                    <a:pt x="321" y="172"/>
                  </a:lnTo>
                  <a:lnTo>
                    <a:pt x="604" y="240"/>
                  </a:lnTo>
                  <a:lnTo>
                    <a:pt x="882" y="257"/>
                  </a:lnTo>
                  <a:lnTo>
                    <a:pt x="1147" y="213"/>
                  </a:lnTo>
                  <a:lnTo>
                    <a:pt x="1372" y="150"/>
                  </a:lnTo>
                  <a:close/>
                </a:path>
              </a:pathLst>
            </a:custGeom>
            <a:solidFill>
              <a:srgbClr val="000000"/>
            </a:solidFill>
            <a:ln w="12600">
              <a:solidFill>
                <a:srgbClr val="000000"/>
              </a:solidFill>
              <a:round/>
            </a:ln>
          </p:spPr>
          <p:txBody>
            <a:bodyPr lIns="96120" rIns="96120" tIns="49320" bIns="49320" anchor="t">
              <a:noAutofit/>
            </a:bodyPr>
            <a:p>
              <a:endParaRPr b="0" lang="en-US" sz="1800" spc="-1" strike="noStrike">
                <a:solidFill>
                  <a:srgbClr val="ffffff"/>
                </a:solidFill>
                <a:latin typeface="Arial"/>
              </a:endParaRPr>
            </a:p>
          </p:txBody>
        </p:sp>
        <p:sp>
          <p:nvSpPr>
            <p:cNvPr id="342" name=""/>
            <p:cNvSpPr/>
            <p:nvPr/>
          </p:nvSpPr>
          <p:spPr>
            <a:xfrm>
              <a:off x="1100160" y="5549760"/>
              <a:ext cx="567000" cy="294120"/>
            </a:xfrm>
            <a:custGeom>
              <a:avLst/>
              <a:gdLst/>
              <a:ahLst/>
              <a:rect l="0" t="0" r="r" b="b"/>
              <a:pathLst>
                <a:path w="1575" h="817">
                  <a:moveTo>
                    <a:pt x="79" y="110"/>
                  </a:moveTo>
                  <a:lnTo>
                    <a:pt x="48" y="327"/>
                  </a:lnTo>
                  <a:lnTo>
                    <a:pt x="0" y="619"/>
                  </a:lnTo>
                  <a:lnTo>
                    <a:pt x="264" y="707"/>
                  </a:lnTo>
                  <a:lnTo>
                    <a:pt x="282" y="817"/>
                  </a:lnTo>
                  <a:lnTo>
                    <a:pt x="295" y="795"/>
                  </a:lnTo>
                  <a:lnTo>
                    <a:pt x="295" y="393"/>
                  </a:lnTo>
                  <a:lnTo>
                    <a:pt x="1575" y="393"/>
                  </a:lnTo>
                  <a:lnTo>
                    <a:pt x="1575" y="327"/>
                  </a:lnTo>
                  <a:lnTo>
                    <a:pt x="282" y="305"/>
                  </a:lnTo>
                  <a:lnTo>
                    <a:pt x="383" y="261"/>
                  </a:lnTo>
                  <a:lnTo>
                    <a:pt x="141" y="212"/>
                  </a:lnTo>
                  <a:lnTo>
                    <a:pt x="308" y="212"/>
                  </a:lnTo>
                  <a:lnTo>
                    <a:pt x="154" y="127"/>
                  </a:lnTo>
                  <a:lnTo>
                    <a:pt x="370" y="127"/>
                  </a:lnTo>
                  <a:lnTo>
                    <a:pt x="220" y="0"/>
                  </a:lnTo>
                  <a:lnTo>
                    <a:pt x="79" y="11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43" name=""/>
            <p:cNvSpPr/>
            <p:nvPr/>
          </p:nvSpPr>
          <p:spPr>
            <a:xfrm>
              <a:off x="1139760" y="5494320"/>
              <a:ext cx="545040" cy="76680"/>
            </a:xfrm>
            <a:custGeom>
              <a:avLst/>
              <a:gdLst/>
              <a:ahLst/>
              <a:rect l="0" t="0" r="r" b="b"/>
              <a:pathLst>
                <a:path w="1514" h="213">
                  <a:moveTo>
                    <a:pt x="1439" y="62"/>
                  </a:moveTo>
                  <a:lnTo>
                    <a:pt x="949" y="106"/>
                  </a:lnTo>
                  <a:lnTo>
                    <a:pt x="591" y="106"/>
                  </a:lnTo>
                  <a:lnTo>
                    <a:pt x="343" y="84"/>
                  </a:lnTo>
                  <a:lnTo>
                    <a:pt x="92" y="17"/>
                  </a:lnTo>
                  <a:lnTo>
                    <a:pt x="0" y="0"/>
                  </a:lnTo>
                  <a:lnTo>
                    <a:pt x="92" y="62"/>
                  </a:lnTo>
                  <a:lnTo>
                    <a:pt x="419" y="128"/>
                  </a:lnTo>
                  <a:lnTo>
                    <a:pt x="852" y="155"/>
                  </a:lnTo>
                  <a:lnTo>
                    <a:pt x="158" y="155"/>
                  </a:lnTo>
                  <a:lnTo>
                    <a:pt x="799" y="191"/>
                  </a:lnTo>
                  <a:lnTo>
                    <a:pt x="1197" y="191"/>
                  </a:lnTo>
                  <a:lnTo>
                    <a:pt x="1514" y="213"/>
                  </a:lnTo>
                  <a:lnTo>
                    <a:pt x="1028" y="155"/>
                  </a:lnTo>
                  <a:lnTo>
                    <a:pt x="1439" y="62"/>
                  </a:lnTo>
                  <a:close/>
                </a:path>
              </a:pathLst>
            </a:cu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344" name=""/>
            <p:cNvSpPr/>
            <p:nvPr/>
          </p:nvSpPr>
          <p:spPr>
            <a:xfrm>
              <a:off x="1673280" y="5500800"/>
              <a:ext cx="22680" cy="197280"/>
            </a:xfrm>
            <a:custGeom>
              <a:avLst/>
              <a:gdLst/>
              <a:ahLst/>
              <a:rect l="0" t="0" r="r" b="b"/>
              <a:pathLst>
                <a:path w="63" h="548">
                  <a:moveTo>
                    <a:pt x="0" y="0"/>
                  </a:moveTo>
                  <a:lnTo>
                    <a:pt x="0" y="548"/>
                  </a:lnTo>
                  <a:lnTo>
                    <a:pt x="63" y="548"/>
                  </a:lnTo>
                  <a:lnTo>
                    <a:pt x="63" y="127"/>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45" name=""/>
            <p:cNvSpPr/>
            <p:nvPr/>
          </p:nvSpPr>
          <p:spPr>
            <a:xfrm>
              <a:off x="1317600" y="5540400"/>
              <a:ext cx="540000" cy="946440"/>
            </a:xfrm>
            <a:custGeom>
              <a:avLst/>
              <a:gdLst/>
              <a:ahLst/>
              <a:rect l="0" t="0" r="r" b="b"/>
              <a:pathLst>
                <a:path w="1500" h="2629">
                  <a:moveTo>
                    <a:pt x="1182" y="44"/>
                  </a:moveTo>
                  <a:lnTo>
                    <a:pt x="1284" y="189"/>
                  </a:lnTo>
                  <a:lnTo>
                    <a:pt x="1284" y="308"/>
                  </a:lnTo>
                  <a:lnTo>
                    <a:pt x="1253" y="410"/>
                  </a:lnTo>
                  <a:lnTo>
                    <a:pt x="1138" y="493"/>
                  </a:lnTo>
                  <a:lnTo>
                    <a:pt x="913" y="599"/>
                  </a:lnTo>
                  <a:lnTo>
                    <a:pt x="701" y="683"/>
                  </a:lnTo>
                  <a:lnTo>
                    <a:pt x="529" y="780"/>
                  </a:lnTo>
                  <a:lnTo>
                    <a:pt x="383" y="926"/>
                  </a:lnTo>
                  <a:lnTo>
                    <a:pt x="299" y="1102"/>
                  </a:lnTo>
                  <a:lnTo>
                    <a:pt x="282" y="1247"/>
                  </a:lnTo>
                  <a:lnTo>
                    <a:pt x="321" y="1465"/>
                  </a:lnTo>
                  <a:lnTo>
                    <a:pt x="427" y="1676"/>
                  </a:lnTo>
                  <a:lnTo>
                    <a:pt x="511" y="1813"/>
                  </a:lnTo>
                  <a:lnTo>
                    <a:pt x="670" y="1941"/>
                  </a:lnTo>
                  <a:lnTo>
                    <a:pt x="865" y="2042"/>
                  </a:lnTo>
                  <a:lnTo>
                    <a:pt x="1019" y="2126"/>
                  </a:lnTo>
                  <a:lnTo>
                    <a:pt x="1165" y="2201"/>
                  </a:lnTo>
                  <a:lnTo>
                    <a:pt x="1301" y="2280"/>
                  </a:lnTo>
                  <a:lnTo>
                    <a:pt x="1394" y="2395"/>
                  </a:lnTo>
                  <a:lnTo>
                    <a:pt x="1412" y="2474"/>
                  </a:lnTo>
                  <a:lnTo>
                    <a:pt x="1345" y="2518"/>
                  </a:lnTo>
                  <a:lnTo>
                    <a:pt x="1253" y="2501"/>
                  </a:lnTo>
                  <a:lnTo>
                    <a:pt x="1165" y="2461"/>
                  </a:lnTo>
                  <a:lnTo>
                    <a:pt x="1107" y="2461"/>
                  </a:lnTo>
                  <a:lnTo>
                    <a:pt x="1138" y="2280"/>
                  </a:lnTo>
                  <a:lnTo>
                    <a:pt x="74" y="2280"/>
                  </a:lnTo>
                  <a:lnTo>
                    <a:pt x="74" y="2545"/>
                  </a:lnTo>
                  <a:lnTo>
                    <a:pt x="0" y="2585"/>
                  </a:lnTo>
                  <a:lnTo>
                    <a:pt x="30" y="2629"/>
                  </a:lnTo>
                  <a:lnTo>
                    <a:pt x="1151" y="2629"/>
                  </a:lnTo>
                  <a:lnTo>
                    <a:pt x="1081" y="2563"/>
                  </a:lnTo>
                  <a:lnTo>
                    <a:pt x="110" y="2545"/>
                  </a:lnTo>
                  <a:lnTo>
                    <a:pt x="110" y="2501"/>
                  </a:lnTo>
                  <a:lnTo>
                    <a:pt x="1107" y="2501"/>
                  </a:lnTo>
                  <a:lnTo>
                    <a:pt x="1200" y="2518"/>
                  </a:lnTo>
                  <a:lnTo>
                    <a:pt x="1332" y="2563"/>
                  </a:lnTo>
                  <a:lnTo>
                    <a:pt x="1394" y="2585"/>
                  </a:lnTo>
                  <a:lnTo>
                    <a:pt x="1473" y="2545"/>
                  </a:lnTo>
                  <a:lnTo>
                    <a:pt x="1500" y="2501"/>
                  </a:lnTo>
                  <a:lnTo>
                    <a:pt x="1491" y="2417"/>
                  </a:lnTo>
                  <a:lnTo>
                    <a:pt x="1442" y="2351"/>
                  </a:lnTo>
                  <a:lnTo>
                    <a:pt x="1394" y="2369"/>
                  </a:lnTo>
                  <a:lnTo>
                    <a:pt x="1271" y="2241"/>
                  </a:lnTo>
                  <a:lnTo>
                    <a:pt x="1151" y="2170"/>
                  </a:lnTo>
                  <a:lnTo>
                    <a:pt x="1165" y="2126"/>
                  </a:lnTo>
                  <a:lnTo>
                    <a:pt x="1332" y="2223"/>
                  </a:lnTo>
                  <a:lnTo>
                    <a:pt x="1138" y="2082"/>
                  </a:lnTo>
                  <a:lnTo>
                    <a:pt x="878" y="1980"/>
                  </a:lnTo>
                  <a:lnTo>
                    <a:pt x="652" y="1835"/>
                  </a:lnTo>
                  <a:lnTo>
                    <a:pt x="467" y="1619"/>
                  </a:lnTo>
                  <a:lnTo>
                    <a:pt x="529" y="1729"/>
                  </a:lnTo>
                  <a:lnTo>
                    <a:pt x="480" y="1729"/>
                  </a:lnTo>
                  <a:lnTo>
                    <a:pt x="335" y="1442"/>
                  </a:lnTo>
                  <a:lnTo>
                    <a:pt x="335" y="1270"/>
                  </a:lnTo>
                  <a:lnTo>
                    <a:pt x="366" y="1247"/>
                  </a:lnTo>
                  <a:lnTo>
                    <a:pt x="410" y="1442"/>
                  </a:lnTo>
                  <a:lnTo>
                    <a:pt x="383" y="1186"/>
                  </a:lnTo>
                  <a:lnTo>
                    <a:pt x="410" y="1062"/>
                  </a:lnTo>
                  <a:lnTo>
                    <a:pt x="454" y="952"/>
                  </a:lnTo>
                  <a:lnTo>
                    <a:pt x="546" y="864"/>
                  </a:lnTo>
                  <a:lnTo>
                    <a:pt x="701" y="802"/>
                  </a:lnTo>
                  <a:lnTo>
                    <a:pt x="1094" y="639"/>
                  </a:lnTo>
                  <a:lnTo>
                    <a:pt x="749" y="780"/>
                  </a:lnTo>
                  <a:lnTo>
                    <a:pt x="803" y="683"/>
                  </a:lnTo>
                  <a:lnTo>
                    <a:pt x="1165" y="493"/>
                  </a:lnTo>
                  <a:lnTo>
                    <a:pt x="1182" y="555"/>
                  </a:lnTo>
                  <a:lnTo>
                    <a:pt x="1151" y="599"/>
                  </a:lnTo>
                  <a:lnTo>
                    <a:pt x="1253" y="476"/>
                  </a:lnTo>
                  <a:lnTo>
                    <a:pt x="1301" y="352"/>
                  </a:lnTo>
                  <a:lnTo>
                    <a:pt x="1315" y="216"/>
                  </a:lnTo>
                  <a:lnTo>
                    <a:pt x="1271" y="83"/>
                  </a:lnTo>
                  <a:lnTo>
                    <a:pt x="1182" y="0"/>
                  </a:lnTo>
                  <a:lnTo>
                    <a:pt x="1182" y="4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46" name=""/>
            <p:cNvSpPr/>
            <p:nvPr/>
          </p:nvSpPr>
          <p:spPr>
            <a:xfrm>
              <a:off x="1471680" y="5835600"/>
              <a:ext cx="375120" cy="470160"/>
            </a:xfrm>
            <a:custGeom>
              <a:avLst/>
              <a:gdLst/>
              <a:ahLst/>
              <a:rect l="0" t="0" r="r" b="b"/>
              <a:pathLst>
                <a:path w="1042" h="1306">
                  <a:moveTo>
                    <a:pt x="1042" y="0"/>
                  </a:moveTo>
                  <a:lnTo>
                    <a:pt x="322" y="0"/>
                  </a:lnTo>
                  <a:lnTo>
                    <a:pt x="88" y="110"/>
                  </a:lnTo>
                  <a:lnTo>
                    <a:pt x="0" y="251"/>
                  </a:lnTo>
                  <a:lnTo>
                    <a:pt x="39" y="277"/>
                  </a:lnTo>
                  <a:lnTo>
                    <a:pt x="88" y="515"/>
                  </a:lnTo>
                  <a:lnTo>
                    <a:pt x="105" y="746"/>
                  </a:lnTo>
                  <a:lnTo>
                    <a:pt x="136" y="949"/>
                  </a:lnTo>
                  <a:lnTo>
                    <a:pt x="154" y="790"/>
                  </a:lnTo>
                  <a:lnTo>
                    <a:pt x="136" y="577"/>
                  </a:lnTo>
                  <a:lnTo>
                    <a:pt x="123" y="405"/>
                  </a:lnTo>
                  <a:lnTo>
                    <a:pt x="105" y="277"/>
                  </a:lnTo>
                  <a:lnTo>
                    <a:pt x="105" y="216"/>
                  </a:lnTo>
                  <a:lnTo>
                    <a:pt x="167" y="171"/>
                  </a:lnTo>
                  <a:lnTo>
                    <a:pt x="198" y="238"/>
                  </a:lnTo>
                  <a:lnTo>
                    <a:pt x="224" y="560"/>
                  </a:lnTo>
                  <a:lnTo>
                    <a:pt x="224" y="988"/>
                  </a:lnTo>
                  <a:lnTo>
                    <a:pt x="224" y="299"/>
                  </a:lnTo>
                  <a:lnTo>
                    <a:pt x="486" y="321"/>
                  </a:lnTo>
                  <a:lnTo>
                    <a:pt x="516" y="449"/>
                  </a:lnTo>
                  <a:lnTo>
                    <a:pt x="530" y="790"/>
                  </a:lnTo>
                  <a:lnTo>
                    <a:pt x="547" y="1178"/>
                  </a:lnTo>
                  <a:lnTo>
                    <a:pt x="561" y="560"/>
                  </a:lnTo>
                  <a:lnTo>
                    <a:pt x="561" y="321"/>
                  </a:lnTo>
                  <a:lnTo>
                    <a:pt x="547" y="216"/>
                  </a:lnTo>
                  <a:lnTo>
                    <a:pt x="609" y="171"/>
                  </a:lnTo>
                  <a:lnTo>
                    <a:pt x="653" y="216"/>
                  </a:lnTo>
                  <a:lnTo>
                    <a:pt x="653" y="299"/>
                  </a:lnTo>
                  <a:lnTo>
                    <a:pt x="622" y="1116"/>
                  </a:lnTo>
                  <a:lnTo>
                    <a:pt x="693" y="321"/>
                  </a:lnTo>
                  <a:lnTo>
                    <a:pt x="772" y="321"/>
                  </a:lnTo>
                  <a:lnTo>
                    <a:pt x="844" y="339"/>
                  </a:lnTo>
                  <a:lnTo>
                    <a:pt x="875" y="366"/>
                  </a:lnTo>
                  <a:lnTo>
                    <a:pt x="888" y="1306"/>
                  </a:lnTo>
                  <a:lnTo>
                    <a:pt x="919" y="1306"/>
                  </a:lnTo>
                  <a:lnTo>
                    <a:pt x="950" y="110"/>
                  </a:lnTo>
                  <a:lnTo>
                    <a:pt x="104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47" name=""/>
            <p:cNvSpPr/>
            <p:nvPr/>
          </p:nvSpPr>
          <p:spPr>
            <a:xfrm>
              <a:off x="1201680" y="5829480"/>
              <a:ext cx="284400" cy="491040"/>
            </a:xfrm>
            <a:custGeom>
              <a:avLst/>
              <a:gdLst/>
              <a:ahLst/>
              <a:rect l="0" t="0" r="r" b="b"/>
              <a:pathLst>
                <a:path w="790" h="1364">
                  <a:moveTo>
                    <a:pt x="790" y="0"/>
                  </a:moveTo>
                  <a:lnTo>
                    <a:pt x="0" y="0"/>
                  </a:lnTo>
                  <a:lnTo>
                    <a:pt x="26" y="79"/>
                  </a:lnTo>
                  <a:lnTo>
                    <a:pt x="185" y="149"/>
                  </a:lnTo>
                  <a:lnTo>
                    <a:pt x="229" y="1364"/>
                  </a:lnTo>
                  <a:lnTo>
                    <a:pt x="229" y="362"/>
                  </a:lnTo>
                  <a:lnTo>
                    <a:pt x="291" y="335"/>
                  </a:lnTo>
                  <a:lnTo>
                    <a:pt x="388" y="362"/>
                  </a:lnTo>
                  <a:lnTo>
                    <a:pt x="468" y="927"/>
                  </a:lnTo>
                  <a:lnTo>
                    <a:pt x="525" y="1298"/>
                  </a:lnTo>
                  <a:lnTo>
                    <a:pt x="450" y="189"/>
                  </a:lnTo>
                  <a:lnTo>
                    <a:pt x="481" y="149"/>
                  </a:lnTo>
                  <a:lnTo>
                    <a:pt x="543" y="189"/>
                  </a:lnTo>
                  <a:lnTo>
                    <a:pt x="587" y="1241"/>
                  </a:lnTo>
                  <a:lnTo>
                    <a:pt x="605" y="295"/>
                  </a:lnTo>
                  <a:lnTo>
                    <a:pt x="675" y="123"/>
                  </a:lnTo>
                  <a:lnTo>
                    <a:pt x="759" y="17"/>
                  </a:lnTo>
                  <a:lnTo>
                    <a:pt x="79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48" name=""/>
            <p:cNvSpPr/>
            <p:nvPr/>
          </p:nvSpPr>
          <p:spPr>
            <a:xfrm>
              <a:off x="1768320" y="5726160"/>
              <a:ext cx="55800" cy="76680"/>
            </a:xfrm>
            <a:custGeom>
              <a:avLst/>
              <a:gdLst/>
              <a:ahLst/>
              <a:rect l="0" t="0" r="r" b="b"/>
              <a:pathLst>
                <a:path w="155" h="213">
                  <a:moveTo>
                    <a:pt x="155" y="213"/>
                  </a:moveTo>
                  <a:lnTo>
                    <a:pt x="155" y="0"/>
                  </a:lnTo>
                  <a:lnTo>
                    <a:pt x="0" y="0"/>
                  </a:lnTo>
                  <a:lnTo>
                    <a:pt x="111" y="39"/>
                  </a:lnTo>
                  <a:lnTo>
                    <a:pt x="155" y="213"/>
                  </a:lnTo>
                  <a:close/>
                </a:path>
              </a:pathLst>
            </a:cu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349" name=""/>
            <p:cNvSpPr/>
            <p:nvPr/>
          </p:nvSpPr>
          <p:spPr>
            <a:xfrm>
              <a:off x="1244520" y="5718240"/>
              <a:ext cx="416160" cy="76680"/>
            </a:xfrm>
            <a:custGeom>
              <a:avLst/>
              <a:gdLst/>
              <a:ahLst/>
              <a:rect l="0" t="0" r="r" b="b"/>
              <a:pathLst>
                <a:path w="1156" h="213">
                  <a:moveTo>
                    <a:pt x="1156" y="0"/>
                  </a:moveTo>
                  <a:lnTo>
                    <a:pt x="0" y="0"/>
                  </a:lnTo>
                  <a:lnTo>
                    <a:pt x="0" y="213"/>
                  </a:lnTo>
                  <a:lnTo>
                    <a:pt x="30" y="39"/>
                  </a:lnTo>
                  <a:lnTo>
                    <a:pt x="1129" y="39"/>
                  </a:lnTo>
                  <a:lnTo>
                    <a:pt x="1156" y="0"/>
                  </a:lnTo>
                  <a:close/>
                </a:path>
              </a:pathLst>
            </a:cu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350" name=""/>
            <p:cNvSpPr/>
            <p:nvPr/>
          </p:nvSpPr>
          <p:spPr>
            <a:xfrm>
              <a:off x="1284120" y="6356520"/>
              <a:ext cx="39960" cy="20880"/>
            </a:xfrm>
            <a:custGeom>
              <a:avLst/>
              <a:gdLst/>
              <a:ahLst/>
              <a:rect l="0" t="0" r="r" b="b"/>
              <a:pathLst>
                <a:path w="111" h="58">
                  <a:moveTo>
                    <a:pt x="93" y="0"/>
                  </a:moveTo>
                  <a:lnTo>
                    <a:pt x="0" y="0"/>
                  </a:lnTo>
                  <a:lnTo>
                    <a:pt x="0" y="58"/>
                  </a:lnTo>
                  <a:lnTo>
                    <a:pt x="111" y="58"/>
                  </a:lnTo>
                  <a:lnTo>
                    <a:pt x="93" y="0"/>
                  </a:lnTo>
                  <a:close/>
                </a:path>
              </a:pathLst>
            </a:custGeom>
            <a:solidFill>
              <a:srgbClr val="000000"/>
            </a:solidFill>
            <a:ln w="12600">
              <a:solidFill>
                <a:srgbClr val="000000"/>
              </a:solidFill>
              <a:round/>
            </a:ln>
          </p:spPr>
          <p:txBody>
            <a:bodyPr lIns="96120" rIns="96120" tIns="-30240" bIns="-30240" anchor="t">
              <a:noAutofit/>
            </a:bodyPr>
            <a:p>
              <a:endParaRPr b="0" lang="en-US" sz="1800" spc="-1" strike="noStrike">
                <a:solidFill>
                  <a:srgbClr val="ffffff"/>
                </a:solidFill>
                <a:latin typeface="Arial"/>
              </a:endParaRPr>
            </a:p>
          </p:txBody>
        </p:sp>
        <p:sp>
          <p:nvSpPr>
            <p:cNvPr id="351" name=""/>
            <p:cNvSpPr/>
            <p:nvPr/>
          </p:nvSpPr>
          <p:spPr>
            <a:xfrm>
              <a:off x="762120" y="6283440"/>
              <a:ext cx="528840" cy="173520"/>
            </a:xfrm>
            <a:custGeom>
              <a:avLst/>
              <a:gdLst/>
              <a:ahLst/>
              <a:rect l="0" t="0" r="r" b="b"/>
              <a:pathLst>
                <a:path w="1469" h="482">
                  <a:moveTo>
                    <a:pt x="1451" y="331"/>
                  </a:moveTo>
                  <a:lnTo>
                    <a:pt x="1222" y="353"/>
                  </a:lnTo>
                  <a:lnTo>
                    <a:pt x="1050" y="309"/>
                  </a:lnTo>
                  <a:lnTo>
                    <a:pt x="904" y="217"/>
                  </a:lnTo>
                  <a:lnTo>
                    <a:pt x="825" y="159"/>
                  </a:lnTo>
                  <a:lnTo>
                    <a:pt x="794" y="110"/>
                  </a:lnTo>
                  <a:lnTo>
                    <a:pt x="838" y="83"/>
                  </a:lnTo>
                  <a:lnTo>
                    <a:pt x="794" y="70"/>
                  </a:lnTo>
                  <a:lnTo>
                    <a:pt x="652" y="83"/>
                  </a:lnTo>
                  <a:lnTo>
                    <a:pt x="423" y="70"/>
                  </a:lnTo>
                  <a:lnTo>
                    <a:pt x="220" y="44"/>
                  </a:lnTo>
                  <a:lnTo>
                    <a:pt x="123" y="26"/>
                  </a:lnTo>
                  <a:lnTo>
                    <a:pt x="48" y="0"/>
                  </a:lnTo>
                  <a:lnTo>
                    <a:pt x="0" y="0"/>
                  </a:lnTo>
                  <a:lnTo>
                    <a:pt x="48" y="110"/>
                  </a:lnTo>
                  <a:lnTo>
                    <a:pt x="171" y="217"/>
                  </a:lnTo>
                  <a:lnTo>
                    <a:pt x="264" y="287"/>
                  </a:lnTo>
                  <a:lnTo>
                    <a:pt x="61" y="331"/>
                  </a:lnTo>
                  <a:lnTo>
                    <a:pt x="123" y="372"/>
                  </a:lnTo>
                  <a:lnTo>
                    <a:pt x="233" y="372"/>
                  </a:lnTo>
                  <a:lnTo>
                    <a:pt x="313" y="416"/>
                  </a:lnTo>
                  <a:lnTo>
                    <a:pt x="612" y="438"/>
                  </a:lnTo>
                  <a:lnTo>
                    <a:pt x="957" y="482"/>
                  </a:lnTo>
                  <a:lnTo>
                    <a:pt x="1037" y="482"/>
                  </a:lnTo>
                  <a:lnTo>
                    <a:pt x="1469" y="353"/>
                  </a:lnTo>
                  <a:lnTo>
                    <a:pt x="1002" y="438"/>
                  </a:lnTo>
                  <a:lnTo>
                    <a:pt x="683" y="372"/>
                  </a:lnTo>
                  <a:lnTo>
                    <a:pt x="471" y="309"/>
                  </a:lnTo>
                  <a:lnTo>
                    <a:pt x="295" y="217"/>
                  </a:lnTo>
                  <a:lnTo>
                    <a:pt x="171" y="137"/>
                  </a:lnTo>
                  <a:lnTo>
                    <a:pt x="123" y="70"/>
                  </a:lnTo>
                  <a:lnTo>
                    <a:pt x="326" y="110"/>
                  </a:lnTo>
                  <a:lnTo>
                    <a:pt x="586" y="137"/>
                  </a:lnTo>
                  <a:lnTo>
                    <a:pt x="794" y="137"/>
                  </a:lnTo>
                  <a:lnTo>
                    <a:pt x="904" y="203"/>
                  </a:lnTo>
                  <a:lnTo>
                    <a:pt x="1112" y="331"/>
                  </a:lnTo>
                  <a:lnTo>
                    <a:pt x="1451" y="33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52" name=""/>
            <p:cNvSpPr/>
            <p:nvPr/>
          </p:nvSpPr>
          <p:spPr>
            <a:xfrm>
              <a:off x="1852560" y="6305400"/>
              <a:ext cx="540000" cy="181440"/>
            </a:xfrm>
            <a:custGeom>
              <a:avLst/>
              <a:gdLst/>
              <a:ahLst/>
              <a:rect l="0" t="0" r="r" b="b"/>
              <a:pathLst>
                <a:path w="1500" h="504">
                  <a:moveTo>
                    <a:pt x="0" y="39"/>
                  </a:moveTo>
                  <a:lnTo>
                    <a:pt x="57" y="181"/>
                  </a:lnTo>
                  <a:lnTo>
                    <a:pt x="44" y="199"/>
                  </a:lnTo>
                  <a:lnTo>
                    <a:pt x="123" y="349"/>
                  </a:lnTo>
                  <a:lnTo>
                    <a:pt x="198" y="375"/>
                  </a:lnTo>
                  <a:lnTo>
                    <a:pt x="216" y="420"/>
                  </a:lnTo>
                  <a:lnTo>
                    <a:pt x="922" y="482"/>
                  </a:lnTo>
                  <a:lnTo>
                    <a:pt x="878" y="504"/>
                  </a:lnTo>
                  <a:lnTo>
                    <a:pt x="1103" y="482"/>
                  </a:lnTo>
                  <a:lnTo>
                    <a:pt x="1376" y="504"/>
                  </a:lnTo>
                  <a:lnTo>
                    <a:pt x="1297" y="394"/>
                  </a:lnTo>
                  <a:lnTo>
                    <a:pt x="1500" y="239"/>
                  </a:lnTo>
                  <a:lnTo>
                    <a:pt x="940" y="0"/>
                  </a:lnTo>
                  <a:lnTo>
                    <a:pt x="1451" y="239"/>
                  </a:lnTo>
                  <a:lnTo>
                    <a:pt x="1218" y="375"/>
                  </a:lnTo>
                  <a:lnTo>
                    <a:pt x="1028" y="394"/>
                  </a:lnTo>
                  <a:lnTo>
                    <a:pt x="1041" y="349"/>
                  </a:lnTo>
                  <a:lnTo>
                    <a:pt x="922" y="394"/>
                  </a:lnTo>
                  <a:lnTo>
                    <a:pt x="480" y="375"/>
                  </a:lnTo>
                  <a:lnTo>
                    <a:pt x="705" y="269"/>
                  </a:lnTo>
                  <a:lnTo>
                    <a:pt x="357" y="349"/>
                  </a:lnTo>
                  <a:lnTo>
                    <a:pt x="216" y="327"/>
                  </a:lnTo>
                  <a:lnTo>
                    <a:pt x="136" y="269"/>
                  </a:lnTo>
                  <a:lnTo>
                    <a:pt x="57" y="114"/>
                  </a:lnTo>
                  <a:lnTo>
                    <a:pt x="357" y="199"/>
                  </a:lnTo>
                  <a:lnTo>
                    <a:pt x="573" y="199"/>
                  </a:lnTo>
                  <a:lnTo>
                    <a:pt x="705" y="199"/>
                  </a:lnTo>
                  <a:lnTo>
                    <a:pt x="308" y="155"/>
                  </a:lnTo>
                  <a:lnTo>
                    <a:pt x="0" y="3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53" name=""/>
            <p:cNvSpPr/>
            <p:nvPr/>
          </p:nvSpPr>
          <p:spPr>
            <a:xfrm>
              <a:off x="2122560" y="6299280"/>
              <a:ext cx="93960" cy="87840"/>
            </a:xfrm>
            <a:custGeom>
              <a:avLst/>
              <a:gdLst/>
              <a:ahLst/>
              <a:rect l="0" t="0" r="r" b="b"/>
              <a:pathLst>
                <a:path w="261" h="244">
                  <a:moveTo>
                    <a:pt x="261" y="0"/>
                  </a:moveTo>
                  <a:lnTo>
                    <a:pt x="0" y="244"/>
                  </a:lnTo>
                  <a:lnTo>
                    <a:pt x="190" y="26"/>
                  </a:lnTo>
                  <a:lnTo>
                    <a:pt x="261" y="0"/>
                  </a:lnTo>
                  <a:close/>
                </a:path>
              </a:pathLst>
            </a:custGeom>
            <a:solidFill>
              <a:srgbClr val="000000"/>
            </a:solidFill>
            <a:ln w="12600">
              <a:solidFill>
                <a:srgbClr val="000000"/>
              </a:solidFill>
              <a:round/>
            </a:ln>
          </p:spPr>
          <p:txBody>
            <a:bodyPr lIns="96120" rIns="96120" tIns="36720" bIns="36720" anchor="t">
              <a:noAutofit/>
            </a:bodyPr>
            <a:p>
              <a:endParaRPr b="0" lang="en-US" sz="1800" spc="-1" strike="noStrike">
                <a:solidFill>
                  <a:srgbClr val="ffffff"/>
                </a:solidFill>
                <a:latin typeface="Arial"/>
              </a:endParaRPr>
            </a:p>
          </p:txBody>
        </p:sp>
        <p:sp>
          <p:nvSpPr>
            <p:cNvPr id="354" name=""/>
            <p:cNvSpPr/>
            <p:nvPr/>
          </p:nvSpPr>
          <p:spPr>
            <a:xfrm>
              <a:off x="1709640" y="5583240"/>
              <a:ext cx="57600" cy="33840"/>
            </a:xfrm>
            <a:custGeom>
              <a:avLst/>
              <a:gdLst/>
              <a:ahLst/>
              <a:rect l="0" t="0" r="r" b="b"/>
              <a:pathLst>
                <a:path w="160" h="94">
                  <a:moveTo>
                    <a:pt x="160" y="94"/>
                  </a:moveTo>
                  <a:lnTo>
                    <a:pt x="67" y="81"/>
                  </a:lnTo>
                  <a:lnTo>
                    <a:pt x="0" y="81"/>
                  </a:lnTo>
                  <a:lnTo>
                    <a:pt x="8" y="0"/>
                  </a:lnTo>
                  <a:lnTo>
                    <a:pt x="30" y="49"/>
                  </a:lnTo>
                  <a:lnTo>
                    <a:pt x="160" y="94"/>
                  </a:lnTo>
                  <a:close/>
                </a:path>
              </a:pathLst>
            </a:custGeom>
            <a:solidFill>
              <a:srgbClr val="000000"/>
            </a:solidFill>
            <a:ln w="12600">
              <a:solidFill>
                <a:srgbClr val="000000"/>
              </a:solidFill>
              <a:round/>
            </a:ln>
          </p:spPr>
          <p:txBody>
            <a:bodyPr lIns="96120" rIns="96120" tIns="-17280" bIns="-17280" anchor="t">
              <a:noAutofit/>
            </a:bodyPr>
            <a:p>
              <a:endParaRPr b="0" lang="en-US" sz="1800" spc="-1" strike="noStrike">
                <a:solidFill>
                  <a:srgbClr val="ffffff"/>
                </a:solidFill>
                <a:latin typeface="Arial"/>
              </a:endParaRPr>
            </a:p>
          </p:txBody>
        </p:sp>
        <p:sp>
          <p:nvSpPr>
            <p:cNvPr id="355" name=""/>
            <p:cNvSpPr/>
            <p:nvPr/>
          </p:nvSpPr>
          <p:spPr>
            <a:xfrm>
              <a:off x="1233360" y="5581800"/>
              <a:ext cx="437040" cy="19440"/>
            </a:xfrm>
            <a:custGeom>
              <a:avLst/>
              <a:gdLst/>
              <a:ahLst/>
              <a:rect l="0" t="0" r="r" b="b"/>
              <a:pathLst>
                <a:path w="1214" h="54">
                  <a:moveTo>
                    <a:pt x="1214" y="54"/>
                  </a:moveTo>
                  <a:lnTo>
                    <a:pt x="816" y="27"/>
                  </a:lnTo>
                  <a:lnTo>
                    <a:pt x="552" y="41"/>
                  </a:lnTo>
                  <a:lnTo>
                    <a:pt x="22" y="41"/>
                  </a:lnTo>
                  <a:lnTo>
                    <a:pt x="0" y="0"/>
                  </a:lnTo>
                  <a:lnTo>
                    <a:pt x="874" y="18"/>
                  </a:lnTo>
                  <a:lnTo>
                    <a:pt x="1214" y="54"/>
                  </a:lnTo>
                  <a:close/>
                </a:path>
              </a:pathLst>
            </a:custGeom>
            <a:solidFill>
              <a:srgbClr val="000000"/>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356" name=""/>
            <p:cNvSpPr/>
            <p:nvPr/>
          </p:nvSpPr>
          <p:spPr>
            <a:xfrm>
              <a:off x="1227240" y="5618160"/>
              <a:ext cx="397080" cy="20880"/>
            </a:xfrm>
            <a:custGeom>
              <a:avLst/>
              <a:gdLst/>
              <a:ahLst/>
              <a:rect l="0" t="0" r="r" b="b"/>
              <a:pathLst>
                <a:path w="1103" h="58">
                  <a:moveTo>
                    <a:pt x="1103" y="8"/>
                  </a:moveTo>
                  <a:lnTo>
                    <a:pt x="684" y="31"/>
                  </a:lnTo>
                  <a:lnTo>
                    <a:pt x="282" y="58"/>
                  </a:lnTo>
                  <a:lnTo>
                    <a:pt x="0" y="22"/>
                  </a:lnTo>
                  <a:lnTo>
                    <a:pt x="207" y="8"/>
                  </a:lnTo>
                  <a:lnTo>
                    <a:pt x="449" y="22"/>
                  </a:lnTo>
                  <a:lnTo>
                    <a:pt x="931" y="0"/>
                  </a:lnTo>
                  <a:lnTo>
                    <a:pt x="1103" y="8"/>
                  </a:lnTo>
                  <a:close/>
                </a:path>
              </a:pathLst>
            </a:custGeom>
            <a:solidFill>
              <a:srgbClr val="000000"/>
            </a:solidFill>
            <a:ln w="12600">
              <a:solidFill>
                <a:srgbClr val="000000"/>
              </a:solidFill>
              <a:round/>
            </a:ln>
          </p:spPr>
          <p:txBody>
            <a:bodyPr lIns="96120" rIns="96120" tIns="-30240" bIns="-30240" anchor="t">
              <a:noAutofit/>
            </a:bodyPr>
            <a:p>
              <a:endParaRPr b="0" lang="en-US" sz="1800" spc="-1" strike="noStrike">
                <a:solidFill>
                  <a:srgbClr val="ffffff"/>
                </a:solidFill>
                <a:latin typeface="Arial"/>
              </a:endParaRPr>
            </a:p>
          </p:txBody>
        </p:sp>
        <p:sp>
          <p:nvSpPr>
            <p:cNvPr id="357" name=""/>
            <p:cNvSpPr/>
            <p:nvPr/>
          </p:nvSpPr>
          <p:spPr>
            <a:xfrm>
              <a:off x="1709640" y="5640480"/>
              <a:ext cx="59040" cy="12960"/>
            </a:xfrm>
            <a:custGeom>
              <a:avLst/>
              <a:gdLst/>
              <a:ahLst/>
              <a:rect l="0" t="0" r="r" b="b"/>
              <a:pathLst>
                <a:path w="164" h="36">
                  <a:moveTo>
                    <a:pt x="164" y="36"/>
                  </a:moveTo>
                  <a:lnTo>
                    <a:pt x="0" y="0"/>
                  </a:lnTo>
                  <a:lnTo>
                    <a:pt x="0" y="31"/>
                  </a:lnTo>
                  <a:lnTo>
                    <a:pt x="164" y="36"/>
                  </a:lnTo>
                  <a:close/>
                </a:path>
              </a:pathLst>
            </a:custGeom>
            <a:solidFill>
              <a:srgbClr val="000000"/>
            </a:solidFill>
            <a:ln w="12600">
              <a:solidFill>
                <a:srgbClr val="000000"/>
              </a:solidFill>
              <a:round/>
            </a:ln>
          </p:spPr>
          <p:txBody>
            <a:bodyPr lIns="96120" rIns="96120" tIns="-38160" bIns="-38160" anchor="t">
              <a:noAutofit/>
            </a:bodyPr>
            <a:p>
              <a:endParaRPr b="0" lang="en-US" sz="1800" spc="-1" strike="noStrike">
                <a:solidFill>
                  <a:srgbClr val="ffffff"/>
                </a:solidFill>
                <a:latin typeface="Arial"/>
              </a:endParaRPr>
            </a:p>
          </p:txBody>
        </p:sp>
        <p:sp>
          <p:nvSpPr>
            <p:cNvPr id="358" name=""/>
            <p:cNvSpPr/>
            <p:nvPr/>
          </p:nvSpPr>
          <p:spPr>
            <a:xfrm>
              <a:off x="1150920" y="4429080"/>
              <a:ext cx="373320" cy="462240"/>
            </a:xfrm>
            <a:custGeom>
              <a:avLst/>
              <a:gdLst/>
              <a:ahLst/>
              <a:rect l="0" t="0" r="r" b="b"/>
              <a:pathLst>
                <a:path w="1037" h="1284">
                  <a:moveTo>
                    <a:pt x="171" y="396"/>
                  </a:moveTo>
                  <a:lnTo>
                    <a:pt x="282" y="436"/>
                  </a:lnTo>
                  <a:lnTo>
                    <a:pt x="410" y="449"/>
                  </a:lnTo>
                  <a:lnTo>
                    <a:pt x="538" y="414"/>
                  </a:lnTo>
                  <a:lnTo>
                    <a:pt x="618" y="379"/>
                  </a:lnTo>
                  <a:lnTo>
                    <a:pt x="605" y="352"/>
                  </a:lnTo>
                  <a:lnTo>
                    <a:pt x="697" y="317"/>
                  </a:lnTo>
                  <a:lnTo>
                    <a:pt x="803" y="216"/>
                  </a:lnTo>
                  <a:lnTo>
                    <a:pt x="852" y="119"/>
                  </a:lnTo>
                  <a:lnTo>
                    <a:pt x="874" y="17"/>
                  </a:lnTo>
                  <a:lnTo>
                    <a:pt x="913" y="0"/>
                  </a:lnTo>
                  <a:lnTo>
                    <a:pt x="874" y="154"/>
                  </a:lnTo>
                  <a:lnTo>
                    <a:pt x="816" y="233"/>
                  </a:lnTo>
                  <a:lnTo>
                    <a:pt x="710" y="352"/>
                  </a:lnTo>
                  <a:lnTo>
                    <a:pt x="838" y="246"/>
                  </a:lnTo>
                  <a:lnTo>
                    <a:pt x="896" y="154"/>
                  </a:lnTo>
                  <a:lnTo>
                    <a:pt x="927" y="70"/>
                  </a:lnTo>
                  <a:lnTo>
                    <a:pt x="975" y="70"/>
                  </a:lnTo>
                  <a:lnTo>
                    <a:pt x="900" y="189"/>
                  </a:lnTo>
                  <a:lnTo>
                    <a:pt x="825" y="286"/>
                  </a:lnTo>
                  <a:lnTo>
                    <a:pt x="719" y="379"/>
                  </a:lnTo>
                  <a:lnTo>
                    <a:pt x="852" y="335"/>
                  </a:lnTo>
                  <a:lnTo>
                    <a:pt x="949" y="233"/>
                  </a:lnTo>
                  <a:lnTo>
                    <a:pt x="988" y="167"/>
                  </a:lnTo>
                  <a:lnTo>
                    <a:pt x="1002" y="119"/>
                  </a:lnTo>
                  <a:lnTo>
                    <a:pt x="1037" y="132"/>
                  </a:lnTo>
                  <a:lnTo>
                    <a:pt x="975" y="233"/>
                  </a:lnTo>
                  <a:lnTo>
                    <a:pt x="896" y="335"/>
                  </a:lnTo>
                  <a:lnTo>
                    <a:pt x="816" y="396"/>
                  </a:lnTo>
                  <a:lnTo>
                    <a:pt x="737" y="414"/>
                  </a:lnTo>
                  <a:lnTo>
                    <a:pt x="697" y="449"/>
                  </a:lnTo>
                  <a:lnTo>
                    <a:pt x="697" y="507"/>
                  </a:lnTo>
                  <a:lnTo>
                    <a:pt x="653" y="555"/>
                  </a:lnTo>
                  <a:lnTo>
                    <a:pt x="552" y="573"/>
                  </a:lnTo>
                  <a:lnTo>
                    <a:pt x="458" y="590"/>
                  </a:lnTo>
                  <a:lnTo>
                    <a:pt x="348" y="573"/>
                  </a:lnTo>
                  <a:lnTo>
                    <a:pt x="238" y="555"/>
                  </a:lnTo>
                  <a:lnTo>
                    <a:pt x="171" y="520"/>
                  </a:lnTo>
                  <a:lnTo>
                    <a:pt x="132" y="604"/>
                  </a:lnTo>
                  <a:lnTo>
                    <a:pt x="123" y="733"/>
                  </a:lnTo>
                  <a:lnTo>
                    <a:pt x="110" y="918"/>
                  </a:lnTo>
                  <a:lnTo>
                    <a:pt x="123" y="1072"/>
                  </a:lnTo>
                  <a:lnTo>
                    <a:pt x="145" y="1151"/>
                  </a:lnTo>
                  <a:lnTo>
                    <a:pt x="145" y="1200"/>
                  </a:lnTo>
                  <a:lnTo>
                    <a:pt x="189" y="1248"/>
                  </a:lnTo>
                  <a:lnTo>
                    <a:pt x="189" y="1284"/>
                  </a:lnTo>
                  <a:lnTo>
                    <a:pt x="110" y="1218"/>
                  </a:lnTo>
                  <a:lnTo>
                    <a:pt x="0" y="1182"/>
                  </a:lnTo>
                  <a:lnTo>
                    <a:pt x="0" y="1165"/>
                  </a:lnTo>
                  <a:lnTo>
                    <a:pt x="74" y="1165"/>
                  </a:lnTo>
                  <a:lnTo>
                    <a:pt x="52" y="953"/>
                  </a:lnTo>
                  <a:lnTo>
                    <a:pt x="39" y="763"/>
                  </a:lnTo>
                  <a:lnTo>
                    <a:pt x="57" y="733"/>
                  </a:lnTo>
                  <a:lnTo>
                    <a:pt x="74" y="590"/>
                  </a:lnTo>
                  <a:lnTo>
                    <a:pt x="110" y="489"/>
                  </a:lnTo>
                  <a:lnTo>
                    <a:pt x="171" y="39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59" name=""/>
            <p:cNvSpPr/>
            <p:nvPr/>
          </p:nvSpPr>
          <p:spPr>
            <a:xfrm>
              <a:off x="1424160" y="4419720"/>
              <a:ext cx="24120" cy="81360"/>
            </a:xfrm>
            <a:custGeom>
              <a:avLst/>
              <a:gdLst/>
              <a:ahLst/>
              <a:rect l="0" t="0" r="r" b="b"/>
              <a:pathLst>
                <a:path w="67" h="226">
                  <a:moveTo>
                    <a:pt x="67" y="8"/>
                  </a:moveTo>
                  <a:lnTo>
                    <a:pt x="45" y="115"/>
                  </a:lnTo>
                  <a:lnTo>
                    <a:pt x="0" y="226"/>
                  </a:lnTo>
                  <a:lnTo>
                    <a:pt x="17" y="75"/>
                  </a:lnTo>
                  <a:lnTo>
                    <a:pt x="0" y="0"/>
                  </a:lnTo>
                  <a:lnTo>
                    <a:pt x="67" y="8"/>
                  </a:lnTo>
                  <a:close/>
                </a:path>
              </a:pathLst>
            </a:custGeom>
            <a:solidFill>
              <a:srgbClr val="000000"/>
            </a:solidFill>
            <a:ln w="12600">
              <a:solidFill>
                <a:srgbClr val="000000"/>
              </a:solidFill>
              <a:round/>
            </a:ln>
          </p:spPr>
          <p:txBody>
            <a:bodyPr lIns="96120" rIns="96120" tIns="30240" bIns="30240" anchor="t">
              <a:noAutofit/>
            </a:bodyPr>
            <a:p>
              <a:endParaRPr b="0" lang="en-US" sz="1800" spc="-1" strike="noStrike">
                <a:solidFill>
                  <a:srgbClr val="ffffff"/>
                </a:solidFill>
                <a:latin typeface="Arial"/>
              </a:endParaRPr>
            </a:p>
          </p:txBody>
        </p:sp>
        <p:sp>
          <p:nvSpPr>
            <p:cNvPr id="360" name=""/>
            <p:cNvSpPr/>
            <p:nvPr/>
          </p:nvSpPr>
          <p:spPr>
            <a:xfrm>
              <a:off x="1143000" y="4419720"/>
              <a:ext cx="267120" cy="159120"/>
            </a:xfrm>
            <a:custGeom>
              <a:avLst/>
              <a:gdLst/>
              <a:ahLst/>
              <a:rect l="0" t="0" r="r" b="b"/>
              <a:pathLst>
                <a:path w="742" h="442">
                  <a:moveTo>
                    <a:pt x="742" y="52"/>
                  </a:moveTo>
                  <a:lnTo>
                    <a:pt x="525" y="0"/>
                  </a:lnTo>
                  <a:lnTo>
                    <a:pt x="336" y="0"/>
                  </a:lnTo>
                  <a:lnTo>
                    <a:pt x="212" y="8"/>
                  </a:lnTo>
                  <a:lnTo>
                    <a:pt x="92" y="52"/>
                  </a:lnTo>
                  <a:lnTo>
                    <a:pt x="35" y="146"/>
                  </a:lnTo>
                  <a:lnTo>
                    <a:pt x="8" y="221"/>
                  </a:lnTo>
                  <a:lnTo>
                    <a:pt x="0" y="256"/>
                  </a:lnTo>
                  <a:lnTo>
                    <a:pt x="0" y="314"/>
                  </a:lnTo>
                  <a:lnTo>
                    <a:pt x="74" y="394"/>
                  </a:lnTo>
                  <a:lnTo>
                    <a:pt x="167" y="442"/>
                  </a:lnTo>
                  <a:lnTo>
                    <a:pt x="203" y="327"/>
                  </a:lnTo>
                  <a:lnTo>
                    <a:pt x="239" y="274"/>
                  </a:lnTo>
                  <a:lnTo>
                    <a:pt x="305" y="221"/>
                  </a:lnTo>
                  <a:lnTo>
                    <a:pt x="393" y="208"/>
                  </a:lnTo>
                  <a:lnTo>
                    <a:pt x="292" y="221"/>
                  </a:lnTo>
                  <a:lnTo>
                    <a:pt x="212" y="274"/>
                  </a:lnTo>
                  <a:lnTo>
                    <a:pt x="283" y="195"/>
                  </a:lnTo>
                  <a:lnTo>
                    <a:pt x="203" y="256"/>
                  </a:lnTo>
                  <a:lnTo>
                    <a:pt x="154" y="327"/>
                  </a:lnTo>
                  <a:lnTo>
                    <a:pt x="141" y="394"/>
                  </a:lnTo>
                  <a:lnTo>
                    <a:pt x="119" y="341"/>
                  </a:lnTo>
                  <a:lnTo>
                    <a:pt x="154" y="243"/>
                  </a:lnTo>
                  <a:lnTo>
                    <a:pt x="190" y="177"/>
                  </a:lnTo>
                  <a:lnTo>
                    <a:pt x="239" y="128"/>
                  </a:lnTo>
                  <a:lnTo>
                    <a:pt x="203" y="115"/>
                  </a:lnTo>
                  <a:lnTo>
                    <a:pt x="154" y="208"/>
                  </a:lnTo>
                  <a:lnTo>
                    <a:pt x="119" y="256"/>
                  </a:lnTo>
                  <a:lnTo>
                    <a:pt x="92" y="314"/>
                  </a:lnTo>
                  <a:lnTo>
                    <a:pt x="79" y="243"/>
                  </a:lnTo>
                  <a:lnTo>
                    <a:pt x="105" y="177"/>
                  </a:lnTo>
                  <a:lnTo>
                    <a:pt x="167" y="128"/>
                  </a:lnTo>
                  <a:lnTo>
                    <a:pt x="203" y="92"/>
                  </a:lnTo>
                  <a:lnTo>
                    <a:pt x="190" y="74"/>
                  </a:lnTo>
                  <a:lnTo>
                    <a:pt x="269" y="39"/>
                  </a:lnTo>
                  <a:lnTo>
                    <a:pt x="384" y="26"/>
                  </a:lnTo>
                  <a:lnTo>
                    <a:pt x="516" y="26"/>
                  </a:lnTo>
                  <a:lnTo>
                    <a:pt x="641" y="52"/>
                  </a:lnTo>
                  <a:lnTo>
                    <a:pt x="720" y="92"/>
                  </a:lnTo>
                  <a:lnTo>
                    <a:pt x="742" y="5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61" name=""/>
            <p:cNvSpPr/>
            <p:nvPr/>
          </p:nvSpPr>
          <p:spPr>
            <a:xfrm>
              <a:off x="1049400" y="4535640"/>
              <a:ext cx="425880" cy="670320"/>
            </a:xfrm>
            <a:custGeom>
              <a:avLst/>
              <a:gdLst/>
              <a:ahLst/>
              <a:rect l="0" t="0" r="r" b="b"/>
              <a:pathLst>
                <a:path w="1183" h="1862">
                  <a:moveTo>
                    <a:pt x="246" y="0"/>
                  </a:moveTo>
                  <a:lnTo>
                    <a:pt x="127" y="83"/>
                  </a:lnTo>
                  <a:lnTo>
                    <a:pt x="48" y="171"/>
                  </a:lnTo>
                  <a:lnTo>
                    <a:pt x="13" y="273"/>
                  </a:lnTo>
                  <a:lnTo>
                    <a:pt x="0" y="383"/>
                  </a:lnTo>
                  <a:lnTo>
                    <a:pt x="13" y="494"/>
                  </a:lnTo>
                  <a:lnTo>
                    <a:pt x="74" y="653"/>
                  </a:lnTo>
                  <a:lnTo>
                    <a:pt x="149" y="803"/>
                  </a:lnTo>
                  <a:lnTo>
                    <a:pt x="189" y="882"/>
                  </a:lnTo>
                  <a:lnTo>
                    <a:pt x="211" y="1002"/>
                  </a:lnTo>
                  <a:lnTo>
                    <a:pt x="246" y="1081"/>
                  </a:lnTo>
                  <a:lnTo>
                    <a:pt x="282" y="1165"/>
                  </a:lnTo>
                  <a:lnTo>
                    <a:pt x="305" y="1218"/>
                  </a:lnTo>
                  <a:lnTo>
                    <a:pt x="273" y="1328"/>
                  </a:lnTo>
                  <a:lnTo>
                    <a:pt x="246" y="1483"/>
                  </a:lnTo>
                  <a:lnTo>
                    <a:pt x="246" y="1598"/>
                  </a:lnTo>
                  <a:lnTo>
                    <a:pt x="238" y="1721"/>
                  </a:lnTo>
                  <a:lnTo>
                    <a:pt x="211" y="1823"/>
                  </a:lnTo>
                  <a:lnTo>
                    <a:pt x="176" y="1862"/>
                  </a:lnTo>
                  <a:lnTo>
                    <a:pt x="220" y="1862"/>
                  </a:lnTo>
                  <a:lnTo>
                    <a:pt x="246" y="1787"/>
                  </a:lnTo>
                  <a:lnTo>
                    <a:pt x="282" y="1673"/>
                  </a:lnTo>
                  <a:lnTo>
                    <a:pt x="295" y="1545"/>
                  </a:lnTo>
                  <a:lnTo>
                    <a:pt x="305" y="1686"/>
                  </a:lnTo>
                  <a:lnTo>
                    <a:pt x="295" y="1787"/>
                  </a:lnTo>
                  <a:lnTo>
                    <a:pt x="282" y="1836"/>
                  </a:lnTo>
                  <a:lnTo>
                    <a:pt x="260" y="1862"/>
                  </a:lnTo>
                  <a:lnTo>
                    <a:pt x="295" y="1862"/>
                  </a:lnTo>
                  <a:lnTo>
                    <a:pt x="336" y="1752"/>
                  </a:lnTo>
                  <a:lnTo>
                    <a:pt x="340" y="1862"/>
                  </a:lnTo>
                  <a:lnTo>
                    <a:pt x="415" y="1862"/>
                  </a:lnTo>
                  <a:lnTo>
                    <a:pt x="499" y="1845"/>
                  </a:lnTo>
                  <a:lnTo>
                    <a:pt x="609" y="1823"/>
                  </a:lnTo>
                  <a:lnTo>
                    <a:pt x="693" y="1823"/>
                  </a:lnTo>
                  <a:lnTo>
                    <a:pt x="693" y="1752"/>
                  </a:lnTo>
                  <a:lnTo>
                    <a:pt x="750" y="1739"/>
                  </a:lnTo>
                  <a:lnTo>
                    <a:pt x="834" y="1708"/>
                  </a:lnTo>
                  <a:lnTo>
                    <a:pt x="874" y="1686"/>
                  </a:lnTo>
                  <a:lnTo>
                    <a:pt x="980" y="1739"/>
                  </a:lnTo>
                  <a:lnTo>
                    <a:pt x="1082" y="1752"/>
                  </a:lnTo>
                  <a:lnTo>
                    <a:pt x="1144" y="1752"/>
                  </a:lnTo>
                  <a:lnTo>
                    <a:pt x="1183" y="1721"/>
                  </a:lnTo>
                  <a:lnTo>
                    <a:pt x="1095" y="1739"/>
                  </a:lnTo>
                  <a:lnTo>
                    <a:pt x="1095" y="1752"/>
                  </a:lnTo>
                  <a:lnTo>
                    <a:pt x="1016" y="1739"/>
                  </a:lnTo>
                  <a:lnTo>
                    <a:pt x="932" y="1686"/>
                  </a:lnTo>
                  <a:lnTo>
                    <a:pt x="812" y="1624"/>
                  </a:lnTo>
                  <a:lnTo>
                    <a:pt x="702" y="1514"/>
                  </a:lnTo>
                  <a:lnTo>
                    <a:pt x="631" y="1417"/>
                  </a:lnTo>
                  <a:lnTo>
                    <a:pt x="552" y="1345"/>
                  </a:lnTo>
                  <a:lnTo>
                    <a:pt x="530" y="1301"/>
                  </a:lnTo>
                  <a:lnTo>
                    <a:pt x="508" y="1301"/>
                  </a:lnTo>
                  <a:lnTo>
                    <a:pt x="530" y="1345"/>
                  </a:lnTo>
                  <a:lnTo>
                    <a:pt x="508" y="1381"/>
                  </a:lnTo>
                  <a:lnTo>
                    <a:pt x="464" y="1363"/>
                  </a:lnTo>
                  <a:lnTo>
                    <a:pt x="455" y="1328"/>
                  </a:lnTo>
                  <a:lnTo>
                    <a:pt x="464" y="1301"/>
                  </a:lnTo>
                  <a:lnTo>
                    <a:pt x="472" y="1284"/>
                  </a:lnTo>
                  <a:lnTo>
                    <a:pt x="393" y="1266"/>
                  </a:lnTo>
                  <a:lnTo>
                    <a:pt x="336" y="1200"/>
                  </a:lnTo>
                  <a:lnTo>
                    <a:pt x="295" y="1129"/>
                  </a:lnTo>
                  <a:lnTo>
                    <a:pt x="260" y="1050"/>
                  </a:lnTo>
                  <a:lnTo>
                    <a:pt x="238" y="988"/>
                  </a:lnTo>
                  <a:lnTo>
                    <a:pt x="246" y="931"/>
                  </a:lnTo>
                  <a:lnTo>
                    <a:pt x="322" y="966"/>
                  </a:lnTo>
                  <a:lnTo>
                    <a:pt x="371" y="1032"/>
                  </a:lnTo>
                  <a:lnTo>
                    <a:pt x="406" y="1081"/>
                  </a:lnTo>
                  <a:lnTo>
                    <a:pt x="428" y="1129"/>
                  </a:lnTo>
                  <a:lnTo>
                    <a:pt x="464" y="1182"/>
                  </a:lnTo>
                  <a:lnTo>
                    <a:pt x="455" y="1081"/>
                  </a:lnTo>
                  <a:lnTo>
                    <a:pt x="486" y="1068"/>
                  </a:lnTo>
                  <a:lnTo>
                    <a:pt x="428" y="988"/>
                  </a:lnTo>
                  <a:lnTo>
                    <a:pt x="336" y="931"/>
                  </a:lnTo>
                  <a:lnTo>
                    <a:pt x="282" y="918"/>
                  </a:lnTo>
                  <a:lnTo>
                    <a:pt x="282" y="882"/>
                  </a:lnTo>
                  <a:lnTo>
                    <a:pt x="340" y="900"/>
                  </a:lnTo>
                  <a:lnTo>
                    <a:pt x="305" y="803"/>
                  </a:lnTo>
                  <a:lnTo>
                    <a:pt x="295" y="671"/>
                  </a:lnTo>
                  <a:lnTo>
                    <a:pt x="273" y="516"/>
                  </a:lnTo>
                  <a:lnTo>
                    <a:pt x="282" y="383"/>
                  </a:lnTo>
                  <a:lnTo>
                    <a:pt x="305" y="286"/>
                  </a:lnTo>
                  <a:lnTo>
                    <a:pt x="336" y="216"/>
                  </a:lnTo>
                  <a:lnTo>
                    <a:pt x="273" y="410"/>
                  </a:lnTo>
                  <a:lnTo>
                    <a:pt x="295" y="189"/>
                  </a:lnTo>
                  <a:lnTo>
                    <a:pt x="211" y="530"/>
                  </a:lnTo>
                  <a:lnTo>
                    <a:pt x="238" y="202"/>
                  </a:lnTo>
                  <a:lnTo>
                    <a:pt x="176" y="432"/>
                  </a:lnTo>
                  <a:lnTo>
                    <a:pt x="176" y="238"/>
                  </a:lnTo>
                  <a:lnTo>
                    <a:pt x="127" y="383"/>
                  </a:lnTo>
                  <a:lnTo>
                    <a:pt x="114" y="251"/>
                  </a:lnTo>
                  <a:lnTo>
                    <a:pt x="74" y="352"/>
                  </a:lnTo>
                  <a:lnTo>
                    <a:pt x="83" y="216"/>
                  </a:lnTo>
                  <a:lnTo>
                    <a:pt x="127" y="149"/>
                  </a:lnTo>
                  <a:lnTo>
                    <a:pt x="189" y="97"/>
                  </a:lnTo>
                  <a:lnTo>
                    <a:pt x="24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62" name=""/>
            <p:cNvSpPr/>
            <p:nvPr/>
          </p:nvSpPr>
          <p:spPr>
            <a:xfrm>
              <a:off x="1409760" y="4540320"/>
              <a:ext cx="147960" cy="403560"/>
            </a:xfrm>
            <a:custGeom>
              <a:avLst/>
              <a:gdLst/>
              <a:ahLst/>
              <a:rect l="0" t="0" r="r" b="b"/>
              <a:pathLst>
                <a:path w="411" h="1121">
                  <a:moveTo>
                    <a:pt x="180" y="0"/>
                  </a:moveTo>
                  <a:lnTo>
                    <a:pt x="256" y="83"/>
                  </a:lnTo>
                  <a:lnTo>
                    <a:pt x="278" y="260"/>
                  </a:lnTo>
                  <a:lnTo>
                    <a:pt x="292" y="449"/>
                  </a:lnTo>
                  <a:lnTo>
                    <a:pt x="292" y="551"/>
                  </a:lnTo>
                  <a:lnTo>
                    <a:pt x="292" y="605"/>
                  </a:lnTo>
                  <a:lnTo>
                    <a:pt x="243" y="587"/>
                  </a:lnTo>
                  <a:lnTo>
                    <a:pt x="269" y="693"/>
                  </a:lnTo>
                  <a:lnTo>
                    <a:pt x="322" y="812"/>
                  </a:lnTo>
                  <a:lnTo>
                    <a:pt x="375" y="957"/>
                  </a:lnTo>
                  <a:lnTo>
                    <a:pt x="411" y="1090"/>
                  </a:lnTo>
                  <a:lnTo>
                    <a:pt x="397" y="1121"/>
                  </a:lnTo>
                  <a:lnTo>
                    <a:pt x="362" y="975"/>
                  </a:lnTo>
                  <a:lnTo>
                    <a:pt x="305" y="812"/>
                  </a:lnTo>
                  <a:lnTo>
                    <a:pt x="269" y="706"/>
                  </a:lnTo>
                  <a:lnTo>
                    <a:pt x="230" y="605"/>
                  </a:lnTo>
                  <a:lnTo>
                    <a:pt x="189" y="502"/>
                  </a:lnTo>
                  <a:lnTo>
                    <a:pt x="163" y="401"/>
                  </a:lnTo>
                  <a:lnTo>
                    <a:pt x="119" y="308"/>
                  </a:lnTo>
                  <a:lnTo>
                    <a:pt x="57" y="224"/>
                  </a:lnTo>
                  <a:lnTo>
                    <a:pt x="0" y="158"/>
                  </a:lnTo>
                  <a:lnTo>
                    <a:pt x="127" y="273"/>
                  </a:lnTo>
                  <a:lnTo>
                    <a:pt x="92" y="171"/>
                  </a:lnTo>
                  <a:lnTo>
                    <a:pt x="163" y="295"/>
                  </a:lnTo>
                  <a:lnTo>
                    <a:pt x="127" y="158"/>
                  </a:lnTo>
                  <a:lnTo>
                    <a:pt x="189" y="273"/>
                  </a:lnTo>
                  <a:lnTo>
                    <a:pt x="171" y="132"/>
                  </a:lnTo>
                  <a:lnTo>
                    <a:pt x="230" y="260"/>
                  </a:lnTo>
                  <a:lnTo>
                    <a:pt x="208" y="83"/>
                  </a:lnTo>
                  <a:lnTo>
                    <a:pt x="154" y="48"/>
                  </a:lnTo>
                  <a:lnTo>
                    <a:pt x="18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63" name=""/>
            <p:cNvSpPr/>
            <p:nvPr/>
          </p:nvSpPr>
          <p:spPr>
            <a:xfrm>
              <a:off x="1406520" y="4745160"/>
              <a:ext cx="71640" cy="18000"/>
            </a:xfrm>
            <a:custGeom>
              <a:avLst/>
              <a:gdLst/>
              <a:ahLst/>
              <a:rect l="0" t="0" r="r" b="b"/>
              <a:pathLst>
                <a:path w="199" h="50">
                  <a:moveTo>
                    <a:pt x="199" y="18"/>
                  </a:moveTo>
                  <a:lnTo>
                    <a:pt x="137" y="0"/>
                  </a:lnTo>
                  <a:lnTo>
                    <a:pt x="79" y="0"/>
                  </a:lnTo>
                  <a:lnTo>
                    <a:pt x="0" y="18"/>
                  </a:lnTo>
                  <a:lnTo>
                    <a:pt x="22" y="36"/>
                  </a:lnTo>
                  <a:lnTo>
                    <a:pt x="66" y="50"/>
                  </a:lnTo>
                  <a:lnTo>
                    <a:pt x="88" y="36"/>
                  </a:lnTo>
                  <a:lnTo>
                    <a:pt x="102" y="18"/>
                  </a:lnTo>
                  <a:lnTo>
                    <a:pt x="199" y="18"/>
                  </a:lnTo>
                  <a:close/>
                </a:path>
              </a:pathLst>
            </a:custGeom>
            <a:solidFill>
              <a:srgbClr val="000000"/>
            </a:solidFill>
            <a:ln w="12600">
              <a:solidFill>
                <a:srgbClr val="000000"/>
              </a:solidFill>
              <a:round/>
            </a:ln>
          </p:spPr>
          <p:txBody>
            <a:bodyPr lIns="96120" rIns="96120" tIns="-33120" bIns="-33120" anchor="t">
              <a:noAutofit/>
            </a:bodyPr>
            <a:p>
              <a:endParaRPr b="0" lang="en-US" sz="1800" spc="-1" strike="noStrike">
                <a:solidFill>
                  <a:srgbClr val="ffffff"/>
                </a:solidFill>
                <a:latin typeface="Arial"/>
              </a:endParaRPr>
            </a:p>
          </p:txBody>
        </p:sp>
        <p:sp>
          <p:nvSpPr>
            <p:cNvPr id="364" name=""/>
            <p:cNvSpPr/>
            <p:nvPr/>
          </p:nvSpPr>
          <p:spPr>
            <a:xfrm>
              <a:off x="1271520" y="4751280"/>
              <a:ext cx="92520" cy="32040"/>
            </a:xfrm>
            <a:custGeom>
              <a:avLst/>
              <a:gdLst/>
              <a:ahLst/>
              <a:rect l="0" t="0" r="r" b="b"/>
              <a:pathLst>
                <a:path w="257" h="89">
                  <a:moveTo>
                    <a:pt x="257" y="0"/>
                  </a:moveTo>
                  <a:lnTo>
                    <a:pt x="159" y="0"/>
                  </a:lnTo>
                  <a:lnTo>
                    <a:pt x="98" y="17"/>
                  </a:lnTo>
                  <a:lnTo>
                    <a:pt x="26" y="35"/>
                  </a:lnTo>
                  <a:lnTo>
                    <a:pt x="0" y="75"/>
                  </a:lnTo>
                  <a:lnTo>
                    <a:pt x="26" y="53"/>
                  </a:lnTo>
                  <a:lnTo>
                    <a:pt x="61" y="89"/>
                  </a:lnTo>
                  <a:lnTo>
                    <a:pt x="111" y="89"/>
                  </a:lnTo>
                  <a:lnTo>
                    <a:pt x="133" y="75"/>
                  </a:lnTo>
                  <a:lnTo>
                    <a:pt x="146" y="35"/>
                  </a:lnTo>
                  <a:lnTo>
                    <a:pt x="159" y="17"/>
                  </a:lnTo>
                  <a:lnTo>
                    <a:pt x="257" y="0"/>
                  </a:lnTo>
                  <a:close/>
                </a:path>
              </a:pathLst>
            </a:custGeom>
            <a:solidFill>
              <a:srgbClr val="000000"/>
            </a:solidFill>
            <a:ln w="12600">
              <a:solidFill>
                <a:srgbClr val="000000"/>
              </a:solidFill>
              <a:round/>
            </a:ln>
          </p:spPr>
          <p:txBody>
            <a:bodyPr lIns="96120" rIns="96120" tIns="-19080" bIns="-19080" anchor="t">
              <a:noAutofit/>
            </a:bodyPr>
            <a:p>
              <a:endParaRPr b="0" lang="en-US" sz="1800" spc="-1" strike="noStrike">
                <a:solidFill>
                  <a:srgbClr val="ffffff"/>
                </a:solidFill>
                <a:latin typeface="Arial"/>
              </a:endParaRPr>
            </a:p>
          </p:txBody>
        </p:sp>
        <p:sp>
          <p:nvSpPr>
            <p:cNvPr id="365" name=""/>
            <p:cNvSpPr/>
            <p:nvPr/>
          </p:nvSpPr>
          <p:spPr>
            <a:xfrm>
              <a:off x="1401840" y="4657680"/>
              <a:ext cx="36720" cy="18000"/>
            </a:xfrm>
            <a:custGeom>
              <a:avLst/>
              <a:gdLst/>
              <a:ahLst/>
              <a:rect l="0" t="0" r="r" b="b"/>
              <a:pathLst>
                <a:path w="102" h="50">
                  <a:moveTo>
                    <a:pt x="102" y="50"/>
                  </a:moveTo>
                  <a:lnTo>
                    <a:pt x="0" y="0"/>
                  </a:lnTo>
                  <a:lnTo>
                    <a:pt x="0" y="50"/>
                  </a:lnTo>
                  <a:lnTo>
                    <a:pt x="102" y="50"/>
                  </a:lnTo>
                  <a:close/>
                </a:path>
              </a:pathLst>
            </a:custGeom>
            <a:solidFill>
              <a:srgbClr val="000000"/>
            </a:solidFill>
            <a:ln w="12600">
              <a:solidFill>
                <a:srgbClr val="000000"/>
              </a:solidFill>
              <a:round/>
            </a:ln>
          </p:spPr>
          <p:txBody>
            <a:bodyPr lIns="96120" rIns="96120" tIns="-33120" bIns="-33120" anchor="t">
              <a:noAutofit/>
            </a:bodyPr>
            <a:p>
              <a:endParaRPr b="0" lang="en-US" sz="1800" spc="-1" strike="noStrike">
                <a:solidFill>
                  <a:srgbClr val="ffffff"/>
                </a:solidFill>
                <a:latin typeface="Arial"/>
              </a:endParaRPr>
            </a:p>
          </p:txBody>
        </p:sp>
        <p:sp>
          <p:nvSpPr>
            <p:cNvPr id="366" name=""/>
            <p:cNvSpPr/>
            <p:nvPr/>
          </p:nvSpPr>
          <p:spPr>
            <a:xfrm>
              <a:off x="1276200" y="4657680"/>
              <a:ext cx="43200" cy="28800"/>
            </a:xfrm>
            <a:custGeom>
              <a:avLst/>
              <a:gdLst/>
              <a:ahLst/>
              <a:rect l="0" t="0" r="r" b="b"/>
              <a:pathLst>
                <a:path w="120" h="80">
                  <a:moveTo>
                    <a:pt x="120" y="0"/>
                  </a:moveTo>
                  <a:lnTo>
                    <a:pt x="0" y="80"/>
                  </a:lnTo>
                  <a:lnTo>
                    <a:pt x="84" y="80"/>
                  </a:lnTo>
                  <a:lnTo>
                    <a:pt x="120" y="0"/>
                  </a:lnTo>
                  <a:close/>
                </a:path>
              </a:pathLst>
            </a:custGeom>
            <a:solidFill>
              <a:srgbClr val="000000"/>
            </a:solidFill>
            <a:ln w="12600">
              <a:solidFill>
                <a:srgbClr val="000000"/>
              </a:solidFill>
              <a:round/>
            </a:ln>
          </p:spPr>
          <p:txBody>
            <a:bodyPr lIns="96120" rIns="96120" tIns="-22320" bIns="-22320" anchor="t">
              <a:noAutofit/>
            </a:bodyPr>
            <a:p>
              <a:endParaRPr b="0" lang="en-US" sz="1800" spc="-1" strike="noStrike">
                <a:solidFill>
                  <a:srgbClr val="ffffff"/>
                </a:solidFill>
                <a:latin typeface="Arial"/>
              </a:endParaRPr>
            </a:p>
          </p:txBody>
        </p:sp>
        <p:sp>
          <p:nvSpPr>
            <p:cNvPr id="367" name=""/>
            <p:cNvSpPr/>
            <p:nvPr/>
          </p:nvSpPr>
          <p:spPr>
            <a:xfrm>
              <a:off x="1409760" y="4770360"/>
              <a:ext cx="116280" cy="187560"/>
            </a:xfrm>
            <a:custGeom>
              <a:avLst/>
              <a:gdLst/>
              <a:ahLst/>
              <a:rect l="0" t="0" r="r" b="b"/>
              <a:pathLst>
                <a:path w="323" h="521">
                  <a:moveTo>
                    <a:pt x="39" y="0"/>
                  </a:moveTo>
                  <a:lnTo>
                    <a:pt x="120" y="127"/>
                  </a:lnTo>
                  <a:lnTo>
                    <a:pt x="203" y="216"/>
                  </a:lnTo>
                  <a:lnTo>
                    <a:pt x="270" y="287"/>
                  </a:lnTo>
                  <a:lnTo>
                    <a:pt x="323" y="336"/>
                  </a:lnTo>
                  <a:lnTo>
                    <a:pt x="323" y="371"/>
                  </a:lnTo>
                  <a:lnTo>
                    <a:pt x="319" y="419"/>
                  </a:lnTo>
                  <a:lnTo>
                    <a:pt x="203" y="437"/>
                  </a:lnTo>
                  <a:lnTo>
                    <a:pt x="181" y="486"/>
                  </a:lnTo>
                  <a:lnTo>
                    <a:pt x="128" y="521"/>
                  </a:lnTo>
                  <a:lnTo>
                    <a:pt x="70" y="503"/>
                  </a:lnTo>
                  <a:lnTo>
                    <a:pt x="26" y="464"/>
                  </a:lnTo>
                  <a:lnTo>
                    <a:pt x="0" y="419"/>
                  </a:lnTo>
                  <a:lnTo>
                    <a:pt x="26" y="384"/>
                  </a:lnTo>
                  <a:lnTo>
                    <a:pt x="93" y="384"/>
                  </a:lnTo>
                  <a:lnTo>
                    <a:pt x="293" y="384"/>
                  </a:lnTo>
                  <a:lnTo>
                    <a:pt x="301" y="336"/>
                  </a:lnTo>
                  <a:lnTo>
                    <a:pt x="190" y="251"/>
                  </a:lnTo>
                  <a:lnTo>
                    <a:pt x="120" y="149"/>
                  </a:lnTo>
                  <a:lnTo>
                    <a:pt x="39" y="66"/>
                  </a:lnTo>
                  <a:lnTo>
                    <a:pt x="3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68" name=""/>
            <p:cNvSpPr/>
            <p:nvPr/>
          </p:nvSpPr>
          <p:spPr>
            <a:xfrm>
              <a:off x="1316160" y="4951440"/>
              <a:ext cx="194040" cy="130680"/>
            </a:xfrm>
            <a:custGeom>
              <a:avLst/>
              <a:gdLst/>
              <a:ahLst/>
              <a:rect l="0" t="0" r="r" b="b"/>
              <a:pathLst>
                <a:path w="539" h="363">
                  <a:moveTo>
                    <a:pt x="539" y="13"/>
                  </a:moveTo>
                  <a:lnTo>
                    <a:pt x="539" y="83"/>
                  </a:lnTo>
                  <a:lnTo>
                    <a:pt x="517" y="128"/>
                  </a:lnTo>
                  <a:lnTo>
                    <a:pt x="491" y="164"/>
                  </a:lnTo>
                  <a:lnTo>
                    <a:pt x="482" y="195"/>
                  </a:lnTo>
                  <a:lnTo>
                    <a:pt x="504" y="261"/>
                  </a:lnTo>
                  <a:lnTo>
                    <a:pt x="504" y="315"/>
                  </a:lnTo>
                  <a:lnTo>
                    <a:pt x="482" y="328"/>
                  </a:lnTo>
                  <a:lnTo>
                    <a:pt x="491" y="261"/>
                  </a:lnTo>
                  <a:lnTo>
                    <a:pt x="469" y="212"/>
                  </a:lnTo>
                  <a:lnTo>
                    <a:pt x="438" y="247"/>
                  </a:lnTo>
                  <a:lnTo>
                    <a:pt x="380" y="284"/>
                  </a:lnTo>
                  <a:lnTo>
                    <a:pt x="425" y="212"/>
                  </a:lnTo>
                  <a:lnTo>
                    <a:pt x="425" y="146"/>
                  </a:lnTo>
                  <a:lnTo>
                    <a:pt x="340" y="177"/>
                  </a:lnTo>
                  <a:lnTo>
                    <a:pt x="217" y="177"/>
                  </a:lnTo>
                  <a:lnTo>
                    <a:pt x="155" y="164"/>
                  </a:lnTo>
                  <a:lnTo>
                    <a:pt x="79" y="146"/>
                  </a:lnTo>
                  <a:lnTo>
                    <a:pt x="132" y="212"/>
                  </a:lnTo>
                  <a:lnTo>
                    <a:pt x="177" y="247"/>
                  </a:lnTo>
                  <a:lnTo>
                    <a:pt x="252" y="284"/>
                  </a:lnTo>
                  <a:lnTo>
                    <a:pt x="300" y="284"/>
                  </a:lnTo>
                  <a:lnTo>
                    <a:pt x="318" y="315"/>
                  </a:lnTo>
                  <a:lnTo>
                    <a:pt x="340" y="297"/>
                  </a:lnTo>
                  <a:lnTo>
                    <a:pt x="367" y="328"/>
                  </a:lnTo>
                  <a:lnTo>
                    <a:pt x="389" y="315"/>
                  </a:lnTo>
                  <a:lnTo>
                    <a:pt x="402" y="341"/>
                  </a:lnTo>
                  <a:lnTo>
                    <a:pt x="438" y="341"/>
                  </a:lnTo>
                  <a:lnTo>
                    <a:pt x="367" y="363"/>
                  </a:lnTo>
                  <a:lnTo>
                    <a:pt x="274" y="341"/>
                  </a:lnTo>
                  <a:lnTo>
                    <a:pt x="190" y="328"/>
                  </a:lnTo>
                  <a:lnTo>
                    <a:pt x="119" y="284"/>
                  </a:lnTo>
                  <a:lnTo>
                    <a:pt x="70" y="212"/>
                  </a:lnTo>
                  <a:lnTo>
                    <a:pt x="35" y="164"/>
                  </a:lnTo>
                  <a:lnTo>
                    <a:pt x="0" y="177"/>
                  </a:lnTo>
                  <a:lnTo>
                    <a:pt x="22" y="115"/>
                  </a:lnTo>
                  <a:lnTo>
                    <a:pt x="35" y="83"/>
                  </a:lnTo>
                  <a:lnTo>
                    <a:pt x="22" y="30"/>
                  </a:lnTo>
                  <a:lnTo>
                    <a:pt x="44" y="30"/>
                  </a:lnTo>
                  <a:lnTo>
                    <a:pt x="57" y="13"/>
                  </a:lnTo>
                  <a:lnTo>
                    <a:pt x="92" y="30"/>
                  </a:lnTo>
                  <a:lnTo>
                    <a:pt x="105" y="48"/>
                  </a:lnTo>
                  <a:lnTo>
                    <a:pt x="57" y="98"/>
                  </a:lnTo>
                  <a:lnTo>
                    <a:pt x="79" y="128"/>
                  </a:lnTo>
                  <a:lnTo>
                    <a:pt x="168" y="146"/>
                  </a:lnTo>
                  <a:lnTo>
                    <a:pt x="287" y="164"/>
                  </a:lnTo>
                  <a:lnTo>
                    <a:pt x="380" y="146"/>
                  </a:lnTo>
                  <a:lnTo>
                    <a:pt x="438" y="115"/>
                  </a:lnTo>
                  <a:lnTo>
                    <a:pt x="491" y="83"/>
                  </a:lnTo>
                  <a:lnTo>
                    <a:pt x="517" y="48"/>
                  </a:lnTo>
                  <a:lnTo>
                    <a:pt x="517" y="0"/>
                  </a:lnTo>
                  <a:lnTo>
                    <a:pt x="539" y="1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69" name=""/>
            <p:cNvSpPr/>
            <p:nvPr/>
          </p:nvSpPr>
          <p:spPr>
            <a:xfrm>
              <a:off x="1488960" y="4968720"/>
              <a:ext cx="59040" cy="163800"/>
            </a:xfrm>
            <a:custGeom>
              <a:avLst/>
              <a:gdLst/>
              <a:ahLst/>
              <a:rect l="0" t="0" r="r" b="b"/>
              <a:pathLst>
                <a:path w="164" h="455">
                  <a:moveTo>
                    <a:pt x="164" y="0"/>
                  </a:moveTo>
                  <a:lnTo>
                    <a:pt x="128" y="114"/>
                  </a:lnTo>
                  <a:lnTo>
                    <a:pt x="84" y="230"/>
                  </a:lnTo>
                  <a:lnTo>
                    <a:pt x="35" y="331"/>
                  </a:lnTo>
                  <a:lnTo>
                    <a:pt x="8" y="393"/>
                  </a:lnTo>
                  <a:lnTo>
                    <a:pt x="8" y="455"/>
                  </a:lnTo>
                  <a:lnTo>
                    <a:pt x="0" y="367"/>
                  </a:lnTo>
                  <a:lnTo>
                    <a:pt x="35" y="243"/>
                  </a:lnTo>
                  <a:lnTo>
                    <a:pt x="84" y="114"/>
                  </a:lnTo>
                  <a:lnTo>
                    <a:pt x="128" y="0"/>
                  </a:lnTo>
                  <a:lnTo>
                    <a:pt x="16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70" name=""/>
            <p:cNvSpPr/>
            <p:nvPr/>
          </p:nvSpPr>
          <p:spPr>
            <a:xfrm>
              <a:off x="1284120" y="5154480"/>
              <a:ext cx="184680" cy="303480"/>
            </a:xfrm>
            <a:custGeom>
              <a:avLst/>
              <a:gdLst/>
              <a:ahLst/>
              <a:rect l="0" t="0" r="r" b="b"/>
              <a:pathLst>
                <a:path w="513" h="843">
                  <a:moveTo>
                    <a:pt x="265" y="0"/>
                  </a:moveTo>
                  <a:lnTo>
                    <a:pt x="265" y="83"/>
                  </a:lnTo>
                  <a:lnTo>
                    <a:pt x="362" y="70"/>
                  </a:lnTo>
                  <a:lnTo>
                    <a:pt x="513" y="207"/>
                  </a:lnTo>
                  <a:lnTo>
                    <a:pt x="349" y="83"/>
                  </a:lnTo>
                  <a:lnTo>
                    <a:pt x="278" y="97"/>
                  </a:lnTo>
                  <a:lnTo>
                    <a:pt x="349" y="189"/>
                  </a:lnTo>
                  <a:lnTo>
                    <a:pt x="420" y="357"/>
                  </a:lnTo>
                  <a:lnTo>
                    <a:pt x="478" y="547"/>
                  </a:lnTo>
                  <a:lnTo>
                    <a:pt x="513" y="715"/>
                  </a:lnTo>
                  <a:lnTo>
                    <a:pt x="390" y="446"/>
                  </a:lnTo>
                  <a:lnTo>
                    <a:pt x="491" y="777"/>
                  </a:lnTo>
                  <a:lnTo>
                    <a:pt x="362" y="481"/>
                  </a:lnTo>
                  <a:lnTo>
                    <a:pt x="456" y="777"/>
                  </a:lnTo>
                  <a:lnTo>
                    <a:pt x="327" y="516"/>
                  </a:lnTo>
                  <a:lnTo>
                    <a:pt x="420" y="812"/>
                  </a:lnTo>
                  <a:lnTo>
                    <a:pt x="305" y="578"/>
                  </a:lnTo>
                  <a:lnTo>
                    <a:pt x="390" y="812"/>
                  </a:lnTo>
                  <a:lnTo>
                    <a:pt x="362" y="843"/>
                  </a:lnTo>
                  <a:lnTo>
                    <a:pt x="292" y="631"/>
                  </a:lnTo>
                  <a:lnTo>
                    <a:pt x="221" y="468"/>
                  </a:lnTo>
                  <a:lnTo>
                    <a:pt x="133" y="313"/>
                  </a:lnTo>
                  <a:lnTo>
                    <a:pt x="61" y="189"/>
                  </a:lnTo>
                  <a:lnTo>
                    <a:pt x="0" y="127"/>
                  </a:lnTo>
                  <a:lnTo>
                    <a:pt x="146" y="255"/>
                  </a:lnTo>
                  <a:lnTo>
                    <a:pt x="208" y="255"/>
                  </a:lnTo>
                  <a:lnTo>
                    <a:pt x="278" y="242"/>
                  </a:lnTo>
                  <a:lnTo>
                    <a:pt x="305" y="207"/>
                  </a:lnTo>
                  <a:lnTo>
                    <a:pt x="265" y="145"/>
                  </a:lnTo>
                  <a:lnTo>
                    <a:pt x="243" y="189"/>
                  </a:lnTo>
                  <a:lnTo>
                    <a:pt x="243" y="145"/>
                  </a:lnTo>
                  <a:lnTo>
                    <a:pt x="265"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71" name=""/>
            <p:cNvSpPr/>
            <p:nvPr/>
          </p:nvSpPr>
          <p:spPr>
            <a:xfrm>
              <a:off x="1224000" y="5211720"/>
              <a:ext cx="74880" cy="111600"/>
            </a:xfrm>
            <a:custGeom>
              <a:avLst/>
              <a:gdLst/>
              <a:ahLst/>
              <a:rect l="0" t="0" r="r" b="b"/>
              <a:pathLst>
                <a:path w="208" h="310">
                  <a:moveTo>
                    <a:pt x="30" y="0"/>
                  </a:moveTo>
                  <a:lnTo>
                    <a:pt x="30" y="102"/>
                  </a:lnTo>
                  <a:lnTo>
                    <a:pt x="208" y="244"/>
                  </a:lnTo>
                  <a:lnTo>
                    <a:pt x="111" y="310"/>
                  </a:lnTo>
                  <a:lnTo>
                    <a:pt x="159" y="262"/>
                  </a:lnTo>
                  <a:lnTo>
                    <a:pt x="30" y="155"/>
                  </a:lnTo>
                  <a:lnTo>
                    <a:pt x="44" y="120"/>
                  </a:lnTo>
                  <a:lnTo>
                    <a:pt x="0" y="66"/>
                  </a:lnTo>
                  <a:lnTo>
                    <a:pt x="3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72" name=""/>
            <p:cNvSpPr/>
            <p:nvPr/>
          </p:nvSpPr>
          <p:spPr>
            <a:xfrm>
              <a:off x="1258920" y="5327640"/>
              <a:ext cx="105120" cy="95760"/>
            </a:xfrm>
            <a:custGeom>
              <a:avLst/>
              <a:gdLst/>
              <a:ahLst/>
              <a:rect l="0" t="0" r="r" b="b"/>
              <a:pathLst>
                <a:path w="292" h="266">
                  <a:moveTo>
                    <a:pt x="292" y="231"/>
                  </a:moveTo>
                  <a:lnTo>
                    <a:pt x="168" y="115"/>
                  </a:lnTo>
                  <a:lnTo>
                    <a:pt x="70" y="48"/>
                  </a:lnTo>
                  <a:lnTo>
                    <a:pt x="0" y="0"/>
                  </a:lnTo>
                  <a:lnTo>
                    <a:pt x="168" y="150"/>
                  </a:lnTo>
                  <a:lnTo>
                    <a:pt x="239" y="231"/>
                  </a:lnTo>
                  <a:lnTo>
                    <a:pt x="278" y="266"/>
                  </a:lnTo>
                  <a:lnTo>
                    <a:pt x="292" y="231"/>
                  </a:lnTo>
                  <a:close/>
                </a:path>
              </a:pathLst>
            </a:custGeom>
            <a:solidFill>
              <a:srgbClr val="000000"/>
            </a:solidFill>
            <a:ln w="12600">
              <a:solidFill>
                <a:srgbClr val="000000"/>
              </a:solidFill>
              <a:round/>
            </a:ln>
          </p:spPr>
          <p:txBody>
            <a:bodyPr lIns="96120" rIns="96120" tIns="44640" bIns="44640" anchor="t">
              <a:noAutofit/>
            </a:bodyPr>
            <a:p>
              <a:endParaRPr b="0" lang="en-US" sz="1800" spc="-1" strike="noStrike">
                <a:solidFill>
                  <a:srgbClr val="ffffff"/>
                </a:solidFill>
                <a:latin typeface="Arial"/>
              </a:endParaRPr>
            </a:p>
          </p:txBody>
        </p:sp>
        <p:sp>
          <p:nvSpPr>
            <p:cNvPr id="373" name=""/>
            <p:cNvSpPr/>
            <p:nvPr/>
          </p:nvSpPr>
          <p:spPr>
            <a:xfrm>
              <a:off x="1044720" y="5207040"/>
              <a:ext cx="71640" cy="70200"/>
            </a:xfrm>
            <a:custGeom>
              <a:avLst/>
              <a:gdLst/>
              <a:ahLst/>
              <a:rect l="0" t="0" r="r" b="b"/>
              <a:pathLst>
                <a:path w="199" h="195">
                  <a:moveTo>
                    <a:pt x="199" y="0"/>
                  </a:moveTo>
                  <a:lnTo>
                    <a:pt x="70" y="0"/>
                  </a:lnTo>
                  <a:lnTo>
                    <a:pt x="26" y="115"/>
                  </a:lnTo>
                  <a:lnTo>
                    <a:pt x="0" y="195"/>
                  </a:lnTo>
                  <a:lnTo>
                    <a:pt x="52" y="195"/>
                  </a:lnTo>
                  <a:lnTo>
                    <a:pt x="61" y="115"/>
                  </a:lnTo>
                  <a:lnTo>
                    <a:pt x="97" y="35"/>
                  </a:lnTo>
                  <a:lnTo>
                    <a:pt x="199" y="0"/>
                  </a:lnTo>
                  <a:close/>
                </a:path>
              </a:pathLst>
            </a:custGeom>
            <a:solidFill>
              <a:srgbClr val="000000"/>
            </a:solidFill>
            <a:ln w="12600">
              <a:solidFill>
                <a:srgbClr val="000000"/>
              </a:solidFill>
              <a:round/>
            </a:ln>
          </p:spPr>
          <p:txBody>
            <a:bodyPr lIns="96120" rIns="96120" tIns="19080" bIns="19080" anchor="t">
              <a:noAutofit/>
            </a:bodyPr>
            <a:p>
              <a:endParaRPr b="0" lang="en-US" sz="1800" spc="-1" strike="noStrike">
                <a:solidFill>
                  <a:srgbClr val="ffffff"/>
                </a:solidFill>
                <a:latin typeface="Arial"/>
              </a:endParaRPr>
            </a:p>
          </p:txBody>
        </p:sp>
        <p:sp>
          <p:nvSpPr>
            <p:cNvPr id="374" name=""/>
            <p:cNvSpPr/>
            <p:nvPr/>
          </p:nvSpPr>
          <p:spPr>
            <a:xfrm>
              <a:off x="1084320" y="5235480"/>
              <a:ext cx="84600" cy="74880"/>
            </a:xfrm>
            <a:custGeom>
              <a:avLst/>
              <a:gdLst/>
              <a:ahLst/>
              <a:rect l="0" t="0" r="r" b="b"/>
              <a:pathLst>
                <a:path w="235" h="208">
                  <a:moveTo>
                    <a:pt x="235" y="208"/>
                  </a:moveTo>
                  <a:lnTo>
                    <a:pt x="89" y="70"/>
                  </a:lnTo>
                  <a:lnTo>
                    <a:pt x="0" y="0"/>
                  </a:lnTo>
                  <a:lnTo>
                    <a:pt x="0" y="52"/>
                  </a:lnTo>
                  <a:lnTo>
                    <a:pt x="235" y="208"/>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375" name=""/>
            <p:cNvSpPr/>
            <p:nvPr/>
          </p:nvSpPr>
          <p:spPr>
            <a:xfrm>
              <a:off x="1069920" y="5278320"/>
              <a:ext cx="93960" cy="55800"/>
            </a:xfrm>
            <a:custGeom>
              <a:avLst/>
              <a:gdLst/>
              <a:ahLst/>
              <a:rect l="0" t="0" r="r" b="b"/>
              <a:pathLst>
                <a:path w="261" h="155">
                  <a:moveTo>
                    <a:pt x="261" y="137"/>
                  </a:moveTo>
                  <a:lnTo>
                    <a:pt x="127" y="57"/>
                  </a:lnTo>
                  <a:lnTo>
                    <a:pt x="57" y="0"/>
                  </a:lnTo>
                  <a:lnTo>
                    <a:pt x="13" y="0"/>
                  </a:lnTo>
                  <a:lnTo>
                    <a:pt x="0" y="39"/>
                  </a:lnTo>
                  <a:lnTo>
                    <a:pt x="39" y="57"/>
                  </a:lnTo>
                  <a:lnTo>
                    <a:pt x="57" y="39"/>
                  </a:lnTo>
                  <a:lnTo>
                    <a:pt x="127" y="74"/>
                  </a:lnTo>
                  <a:lnTo>
                    <a:pt x="164" y="111"/>
                  </a:lnTo>
                  <a:lnTo>
                    <a:pt x="177" y="124"/>
                  </a:lnTo>
                  <a:lnTo>
                    <a:pt x="239" y="155"/>
                  </a:lnTo>
                  <a:lnTo>
                    <a:pt x="261" y="137"/>
                  </a:lnTo>
                  <a:close/>
                </a:path>
              </a:pathLst>
            </a:custGeom>
            <a:solidFill>
              <a:srgbClr val="000000"/>
            </a:solidFill>
            <a:ln w="12600">
              <a:solidFill>
                <a:srgbClr val="000000"/>
              </a:solidFill>
              <a:round/>
            </a:ln>
          </p:spPr>
          <p:txBody>
            <a:bodyPr lIns="96120" rIns="96120" tIns="4680" bIns="4680" anchor="t">
              <a:noAutofit/>
            </a:bodyPr>
            <a:p>
              <a:endParaRPr b="0" lang="en-US" sz="1800" spc="-1" strike="noStrike">
                <a:solidFill>
                  <a:srgbClr val="ffffff"/>
                </a:solidFill>
                <a:latin typeface="Arial"/>
              </a:endParaRPr>
            </a:p>
          </p:txBody>
        </p:sp>
        <p:sp>
          <p:nvSpPr>
            <p:cNvPr id="376" name=""/>
            <p:cNvSpPr/>
            <p:nvPr/>
          </p:nvSpPr>
          <p:spPr>
            <a:xfrm>
              <a:off x="1039680" y="5322960"/>
              <a:ext cx="103680" cy="184680"/>
            </a:xfrm>
            <a:custGeom>
              <a:avLst/>
              <a:gdLst/>
              <a:ahLst/>
              <a:rect l="0" t="0" r="r" b="b"/>
              <a:pathLst>
                <a:path w="288" h="513">
                  <a:moveTo>
                    <a:pt x="98" y="13"/>
                  </a:moveTo>
                  <a:lnTo>
                    <a:pt x="98" y="127"/>
                  </a:lnTo>
                  <a:lnTo>
                    <a:pt x="98" y="199"/>
                  </a:lnTo>
                  <a:lnTo>
                    <a:pt x="111" y="283"/>
                  </a:lnTo>
                  <a:lnTo>
                    <a:pt x="203" y="199"/>
                  </a:lnTo>
                  <a:lnTo>
                    <a:pt x="288" y="97"/>
                  </a:lnTo>
                  <a:lnTo>
                    <a:pt x="155" y="283"/>
                  </a:lnTo>
                  <a:lnTo>
                    <a:pt x="75" y="327"/>
                  </a:lnTo>
                  <a:lnTo>
                    <a:pt x="142" y="465"/>
                  </a:lnTo>
                  <a:lnTo>
                    <a:pt x="98" y="513"/>
                  </a:lnTo>
                  <a:lnTo>
                    <a:pt x="39" y="434"/>
                  </a:lnTo>
                  <a:lnTo>
                    <a:pt x="26" y="375"/>
                  </a:lnTo>
                  <a:lnTo>
                    <a:pt x="0" y="349"/>
                  </a:lnTo>
                  <a:lnTo>
                    <a:pt x="48" y="296"/>
                  </a:lnTo>
                  <a:lnTo>
                    <a:pt x="26" y="199"/>
                  </a:lnTo>
                  <a:lnTo>
                    <a:pt x="26" y="127"/>
                  </a:lnTo>
                  <a:lnTo>
                    <a:pt x="8" y="30"/>
                  </a:lnTo>
                  <a:lnTo>
                    <a:pt x="26" y="0"/>
                  </a:lnTo>
                  <a:lnTo>
                    <a:pt x="48" y="199"/>
                  </a:lnTo>
                  <a:lnTo>
                    <a:pt x="98" y="1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77" name=""/>
            <p:cNvSpPr/>
            <p:nvPr/>
          </p:nvSpPr>
          <p:spPr>
            <a:xfrm>
              <a:off x="1090440" y="5364000"/>
              <a:ext cx="103680" cy="190800"/>
            </a:xfrm>
            <a:custGeom>
              <a:avLst/>
              <a:gdLst/>
              <a:ahLst/>
              <a:rect l="0" t="0" r="r" b="b"/>
              <a:pathLst>
                <a:path w="288" h="530">
                  <a:moveTo>
                    <a:pt x="226" y="0"/>
                  </a:moveTo>
                  <a:lnTo>
                    <a:pt x="146" y="211"/>
                  </a:lnTo>
                  <a:lnTo>
                    <a:pt x="70" y="318"/>
                  </a:lnTo>
                  <a:lnTo>
                    <a:pt x="0" y="380"/>
                  </a:lnTo>
                  <a:lnTo>
                    <a:pt x="70" y="318"/>
                  </a:lnTo>
                  <a:lnTo>
                    <a:pt x="133" y="246"/>
                  </a:lnTo>
                  <a:lnTo>
                    <a:pt x="89" y="380"/>
                  </a:lnTo>
                  <a:lnTo>
                    <a:pt x="0" y="530"/>
                  </a:lnTo>
                  <a:lnTo>
                    <a:pt x="106" y="380"/>
                  </a:lnTo>
                  <a:lnTo>
                    <a:pt x="168" y="260"/>
                  </a:lnTo>
                  <a:lnTo>
                    <a:pt x="226" y="66"/>
                  </a:lnTo>
                  <a:lnTo>
                    <a:pt x="288" y="283"/>
                  </a:lnTo>
                  <a:lnTo>
                    <a:pt x="240" y="35"/>
                  </a:lnTo>
                  <a:lnTo>
                    <a:pt x="22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78" name=""/>
            <p:cNvSpPr/>
            <p:nvPr/>
          </p:nvSpPr>
          <p:spPr>
            <a:xfrm>
              <a:off x="1062000" y="5519880"/>
              <a:ext cx="46440" cy="114840"/>
            </a:xfrm>
            <a:custGeom>
              <a:avLst/>
              <a:gdLst/>
              <a:ahLst/>
              <a:rect l="0" t="0" r="r" b="b"/>
              <a:pathLst>
                <a:path w="129" h="319">
                  <a:moveTo>
                    <a:pt x="49" y="0"/>
                  </a:moveTo>
                  <a:lnTo>
                    <a:pt x="80" y="98"/>
                  </a:lnTo>
                  <a:lnTo>
                    <a:pt x="36" y="98"/>
                  </a:lnTo>
                  <a:lnTo>
                    <a:pt x="129" y="319"/>
                  </a:lnTo>
                  <a:lnTo>
                    <a:pt x="0" y="35"/>
                  </a:lnTo>
                  <a:lnTo>
                    <a:pt x="36" y="0"/>
                  </a:lnTo>
                  <a:lnTo>
                    <a:pt x="4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79" name=""/>
            <p:cNvSpPr/>
            <p:nvPr/>
          </p:nvSpPr>
          <p:spPr>
            <a:xfrm>
              <a:off x="1650960" y="4621320"/>
              <a:ext cx="786240" cy="1173600"/>
            </a:xfrm>
            <a:custGeom>
              <a:avLst/>
              <a:gdLst/>
              <a:ahLst/>
              <a:rect l="0" t="0" r="r" b="b"/>
              <a:pathLst>
                <a:path w="2184" h="3260">
                  <a:moveTo>
                    <a:pt x="26" y="1350"/>
                  </a:moveTo>
                  <a:lnTo>
                    <a:pt x="194" y="922"/>
                  </a:lnTo>
                  <a:lnTo>
                    <a:pt x="339" y="529"/>
                  </a:lnTo>
                  <a:lnTo>
                    <a:pt x="418" y="238"/>
                  </a:lnTo>
                  <a:lnTo>
                    <a:pt x="463" y="48"/>
                  </a:lnTo>
                  <a:lnTo>
                    <a:pt x="807" y="286"/>
                  </a:lnTo>
                  <a:lnTo>
                    <a:pt x="1191" y="507"/>
                  </a:lnTo>
                  <a:lnTo>
                    <a:pt x="1682" y="714"/>
                  </a:lnTo>
                  <a:lnTo>
                    <a:pt x="2162" y="847"/>
                  </a:lnTo>
                  <a:lnTo>
                    <a:pt x="1906" y="1363"/>
                  </a:lnTo>
                  <a:lnTo>
                    <a:pt x="1673" y="2007"/>
                  </a:lnTo>
                  <a:lnTo>
                    <a:pt x="1425" y="2599"/>
                  </a:lnTo>
                  <a:lnTo>
                    <a:pt x="1160" y="3049"/>
                  </a:lnTo>
                  <a:lnTo>
                    <a:pt x="1054" y="3190"/>
                  </a:lnTo>
                  <a:lnTo>
                    <a:pt x="768" y="2943"/>
                  </a:lnTo>
                  <a:lnTo>
                    <a:pt x="524" y="2815"/>
                  </a:lnTo>
                  <a:lnTo>
                    <a:pt x="427" y="2758"/>
                  </a:lnTo>
                  <a:lnTo>
                    <a:pt x="436" y="2793"/>
                  </a:lnTo>
                  <a:lnTo>
                    <a:pt x="706" y="2978"/>
                  </a:lnTo>
                  <a:lnTo>
                    <a:pt x="865" y="3128"/>
                  </a:lnTo>
                  <a:lnTo>
                    <a:pt x="944" y="3260"/>
                  </a:lnTo>
                  <a:lnTo>
                    <a:pt x="979" y="3177"/>
                  </a:lnTo>
                  <a:lnTo>
                    <a:pt x="1081" y="3225"/>
                  </a:lnTo>
                  <a:lnTo>
                    <a:pt x="1231" y="2978"/>
                  </a:lnTo>
                  <a:lnTo>
                    <a:pt x="1407" y="2683"/>
                  </a:lnTo>
                  <a:lnTo>
                    <a:pt x="1632" y="2183"/>
                  </a:lnTo>
                  <a:lnTo>
                    <a:pt x="1858" y="1623"/>
                  </a:lnTo>
                  <a:lnTo>
                    <a:pt x="2012" y="1328"/>
                  </a:lnTo>
                  <a:lnTo>
                    <a:pt x="2158" y="1156"/>
                  </a:lnTo>
                  <a:lnTo>
                    <a:pt x="2065" y="1107"/>
                  </a:lnTo>
                  <a:lnTo>
                    <a:pt x="2184" y="834"/>
                  </a:lnTo>
                  <a:lnTo>
                    <a:pt x="1748" y="701"/>
                  </a:lnTo>
                  <a:lnTo>
                    <a:pt x="1368" y="551"/>
                  </a:lnTo>
                  <a:lnTo>
                    <a:pt x="1006" y="370"/>
                  </a:lnTo>
                  <a:lnTo>
                    <a:pt x="688" y="176"/>
                  </a:lnTo>
                  <a:lnTo>
                    <a:pt x="436" y="0"/>
                  </a:lnTo>
                  <a:lnTo>
                    <a:pt x="330" y="440"/>
                  </a:lnTo>
                  <a:lnTo>
                    <a:pt x="154" y="988"/>
                  </a:lnTo>
                  <a:lnTo>
                    <a:pt x="0" y="1341"/>
                  </a:lnTo>
                  <a:lnTo>
                    <a:pt x="26" y="135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80" name=""/>
            <p:cNvSpPr/>
            <p:nvPr/>
          </p:nvSpPr>
          <p:spPr>
            <a:xfrm>
              <a:off x="1565280" y="5103720"/>
              <a:ext cx="154440" cy="187560"/>
            </a:xfrm>
            <a:custGeom>
              <a:avLst/>
              <a:gdLst/>
              <a:ahLst/>
              <a:rect l="0" t="0" r="r" b="b"/>
              <a:pathLst>
                <a:path w="429" h="521">
                  <a:moveTo>
                    <a:pt x="159" y="0"/>
                  </a:moveTo>
                  <a:lnTo>
                    <a:pt x="292" y="52"/>
                  </a:lnTo>
                  <a:lnTo>
                    <a:pt x="376" y="119"/>
                  </a:lnTo>
                  <a:lnTo>
                    <a:pt x="420" y="154"/>
                  </a:lnTo>
                  <a:lnTo>
                    <a:pt x="407" y="202"/>
                  </a:lnTo>
                  <a:lnTo>
                    <a:pt x="323" y="233"/>
                  </a:lnTo>
                  <a:lnTo>
                    <a:pt x="195" y="216"/>
                  </a:lnTo>
                  <a:lnTo>
                    <a:pt x="105" y="194"/>
                  </a:lnTo>
                  <a:lnTo>
                    <a:pt x="133" y="251"/>
                  </a:lnTo>
                  <a:lnTo>
                    <a:pt x="124" y="367"/>
                  </a:lnTo>
                  <a:lnTo>
                    <a:pt x="74" y="441"/>
                  </a:lnTo>
                  <a:lnTo>
                    <a:pt x="17" y="261"/>
                  </a:lnTo>
                  <a:lnTo>
                    <a:pt x="39" y="127"/>
                  </a:lnTo>
                  <a:lnTo>
                    <a:pt x="88" y="44"/>
                  </a:lnTo>
                  <a:lnTo>
                    <a:pt x="124" y="8"/>
                  </a:lnTo>
                  <a:lnTo>
                    <a:pt x="74" y="8"/>
                  </a:lnTo>
                  <a:lnTo>
                    <a:pt x="17" y="119"/>
                  </a:lnTo>
                  <a:lnTo>
                    <a:pt x="0" y="242"/>
                  </a:lnTo>
                  <a:lnTo>
                    <a:pt x="26" y="367"/>
                  </a:lnTo>
                  <a:lnTo>
                    <a:pt x="61" y="521"/>
                  </a:lnTo>
                  <a:lnTo>
                    <a:pt x="168" y="358"/>
                  </a:lnTo>
                  <a:lnTo>
                    <a:pt x="212" y="251"/>
                  </a:lnTo>
                  <a:lnTo>
                    <a:pt x="341" y="251"/>
                  </a:lnTo>
                  <a:lnTo>
                    <a:pt x="407" y="233"/>
                  </a:lnTo>
                  <a:lnTo>
                    <a:pt x="429" y="194"/>
                  </a:lnTo>
                  <a:lnTo>
                    <a:pt x="420" y="154"/>
                  </a:lnTo>
                  <a:lnTo>
                    <a:pt x="287" y="26"/>
                  </a:lnTo>
                  <a:lnTo>
                    <a:pt x="15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81" name=""/>
            <p:cNvSpPr/>
            <p:nvPr/>
          </p:nvSpPr>
          <p:spPr>
            <a:xfrm>
              <a:off x="1328760" y="5435640"/>
              <a:ext cx="224280" cy="68760"/>
            </a:xfrm>
            <a:custGeom>
              <a:avLst/>
              <a:gdLst/>
              <a:ahLst/>
              <a:rect l="0" t="0" r="r" b="b"/>
              <a:pathLst>
                <a:path w="623" h="191">
                  <a:moveTo>
                    <a:pt x="17" y="115"/>
                  </a:moveTo>
                  <a:lnTo>
                    <a:pt x="269" y="39"/>
                  </a:lnTo>
                  <a:lnTo>
                    <a:pt x="406" y="13"/>
                  </a:lnTo>
                  <a:lnTo>
                    <a:pt x="535" y="26"/>
                  </a:lnTo>
                  <a:lnTo>
                    <a:pt x="597" y="80"/>
                  </a:lnTo>
                  <a:lnTo>
                    <a:pt x="553" y="128"/>
                  </a:lnTo>
                  <a:lnTo>
                    <a:pt x="491" y="142"/>
                  </a:lnTo>
                  <a:lnTo>
                    <a:pt x="464" y="191"/>
                  </a:lnTo>
                  <a:lnTo>
                    <a:pt x="570" y="165"/>
                  </a:lnTo>
                  <a:lnTo>
                    <a:pt x="597" y="115"/>
                  </a:lnTo>
                  <a:lnTo>
                    <a:pt x="623" y="80"/>
                  </a:lnTo>
                  <a:lnTo>
                    <a:pt x="597" y="26"/>
                  </a:lnTo>
                  <a:lnTo>
                    <a:pt x="500" y="0"/>
                  </a:lnTo>
                  <a:lnTo>
                    <a:pt x="397" y="0"/>
                  </a:lnTo>
                  <a:lnTo>
                    <a:pt x="132" y="67"/>
                  </a:lnTo>
                  <a:lnTo>
                    <a:pt x="0" y="106"/>
                  </a:lnTo>
                  <a:lnTo>
                    <a:pt x="17" y="115"/>
                  </a:lnTo>
                  <a:close/>
                </a:path>
              </a:pathLst>
            </a:custGeom>
            <a:solidFill>
              <a:srgbClr val="000000"/>
            </a:solidFill>
            <a:ln w="12600">
              <a:solidFill>
                <a:srgbClr val="000000"/>
              </a:solidFill>
              <a:round/>
            </a:ln>
          </p:spPr>
          <p:txBody>
            <a:bodyPr lIns="96120" rIns="96120" tIns="17640" bIns="17640" anchor="t">
              <a:noAutofit/>
            </a:bodyPr>
            <a:p>
              <a:endParaRPr b="0" lang="en-US" sz="1800" spc="-1" strike="noStrike">
                <a:solidFill>
                  <a:srgbClr val="ffffff"/>
                </a:solidFill>
                <a:latin typeface="Arial"/>
              </a:endParaRPr>
            </a:p>
          </p:txBody>
        </p:sp>
        <p:sp>
          <p:nvSpPr>
            <p:cNvPr id="382" name=""/>
            <p:cNvSpPr/>
            <p:nvPr/>
          </p:nvSpPr>
          <p:spPr>
            <a:xfrm>
              <a:off x="1455840" y="5481720"/>
              <a:ext cx="41760" cy="9720"/>
            </a:xfrm>
            <a:custGeom>
              <a:avLst/>
              <a:gdLst/>
              <a:ahLst/>
              <a:rect l="0" t="0" r="r" b="b"/>
              <a:pathLst>
                <a:path w="116" h="27">
                  <a:moveTo>
                    <a:pt x="112" y="0"/>
                  </a:moveTo>
                  <a:lnTo>
                    <a:pt x="0" y="0"/>
                  </a:lnTo>
                  <a:lnTo>
                    <a:pt x="116" y="27"/>
                  </a:lnTo>
                  <a:lnTo>
                    <a:pt x="112" y="0"/>
                  </a:lnTo>
                  <a:close/>
                </a:path>
              </a:pathLst>
            </a:custGeom>
            <a:solidFill>
              <a:srgbClr val="000000"/>
            </a:solidFill>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383" name=""/>
            <p:cNvSpPr/>
            <p:nvPr/>
          </p:nvSpPr>
          <p:spPr>
            <a:xfrm>
              <a:off x="1616040" y="5316480"/>
              <a:ext cx="138600" cy="213120"/>
            </a:xfrm>
            <a:custGeom>
              <a:avLst/>
              <a:gdLst/>
              <a:ahLst/>
              <a:rect l="0" t="0" r="r" b="b"/>
              <a:pathLst>
                <a:path w="385" h="592">
                  <a:moveTo>
                    <a:pt x="35" y="0"/>
                  </a:moveTo>
                  <a:lnTo>
                    <a:pt x="381" y="517"/>
                  </a:lnTo>
                  <a:lnTo>
                    <a:pt x="385" y="592"/>
                  </a:lnTo>
                  <a:lnTo>
                    <a:pt x="332" y="557"/>
                  </a:lnTo>
                  <a:lnTo>
                    <a:pt x="332" y="517"/>
                  </a:lnTo>
                  <a:lnTo>
                    <a:pt x="0" y="0"/>
                  </a:lnTo>
                  <a:lnTo>
                    <a:pt x="35"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84" name=""/>
            <p:cNvSpPr/>
            <p:nvPr/>
          </p:nvSpPr>
          <p:spPr>
            <a:xfrm>
              <a:off x="1523880" y="5392800"/>
              <a:ext cx="78120" cy="51120"/>
            </a:xfrm>
            <a:custGeom>
              <a:avLst/>
              <a:gdLst/>
              <a:ahLst/>
              <a:rect l="0" t="0" r="r" b="b"/>
              <a:pathLst>
                <a:path w="217" h="142">
                  <a:moveTo>
                    <a:pt x="17" y="106"/>
                  </a:moveTo>
                  <a:lnTo>
                    <a:pt x="186" y="0"/>
                  </a:lnTo>
                  <a:lnTo>
                    <a:pt x="217" y="48"/>
                  </a:lnTo>
                  <a:lnTo>
                    <a:pt x="52" y="142"/>
                  </a:lnTo>
                  <a:lnTo>
                    <a:pt x="0" y="133"/>
                  </a:lnTo>
                  <a:lnTo>
                    <a:pt x="17" y="106"/>
                  </a:lnTo>
                  <a:close/>
                </a:path>
              </a:pathLst>
            </a:custGeom>
            <a:solidFill>
              <a:srgbClr val="000000"/>
            </a:solidFill>
            <a:ln w="12600">
              <a:solidFill>
                <a:srgbClr val="000000"/>
              </a:solidFill>
              <a:round/>
            </a:ln>
          </p:spPr>
          <p:txBody>
            <a:bodyPr lIns="96120" rIns="96120" tIns="0" bIns="0" anchor="t">
              <a:noAutofit/>
            </a:bodyPr>
            <a:p>
              <a:endParaRPr b="0" lang="en-US" sz="1800" spc="-1" strike="noStrike">
                <a:solidFill>
                  <a:srgbClr val="ffffff"/>
                </a:solidFill>
                <a:latin typeface="Arial"/>
              </a:endParaRPr>
            </a:p>
          </p:txBody>
        </p:sp>
        <p:sp>
          <p:nvSpPr>
            <p:cNvPr id="385" name=""/>
            <p:cNvSpPr/>
            <p:nvPr/>
          </p:nvSpPr>
          <p:spPr>
            <a:xfrm>
              <a:off x="1660680" y="5099040"/>
              <a:ext cx="381240" cy="271800"/>
            </a:xfrm>
            <a:custGeom>
              <a:avLst/>
              <a:gdLst/>
              <a:ahLst/>
              <a:rect l="0" t="0" r="r" b="b"/>
              <a:pathLst>
                <a:path w="1059" h="755">
                  <a:moveTo>
                    <a:pt x="0" y="706"/>
                  </a:moveTo>
                  <a:lnTo>
                    <a:pt x="1032" y="0"/>
                  </a:lnTo>
                  <a:lnTo>
                    <a:pt x="1059" y="17"/>
                  </a:lnTo>
                  <a:lnTo>
                    <a:pt x="1054" y="35"/>
                  </a:lnTo>
                  <a:lnTo>
                    <a:pt x="35" y="755"/>
                  </a:lnTo>
                  <a:lnTo>
                    <a:pt x="489" y="406"/>
                  </a:lnTo>
                  <a:lnTo>
                    <a:pt x="0" y="70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86" name=""/>
            <p:cNvSpPr/>
            <p:nvPr/>
          </p:nvSpPr>
          <p:spPr>
            <a:xfrm>
              <a:off x="1452600" y="5197320"/>
              <a:ext cx="176400" cy="284400"/>
            </a:xfrm>
            <a:custGeom>
              <a:avLst/>
              <a:gdLst/>
              <a:ahLst/>
              <a:rect l="0" t="0" r="r" b="b"/>
              <a:pathLst>
                <a:path w="490" h="790">
                  <a:moveTo>
                    <a:pt x="358" y="282"/>
                  </a:moveTo>
                  <a:lnTo>
                    <a:pt x="220" y="508"/>
                  </a:lnTo>
                  <a:lnTo>
                    <a:pt x="119" y="631"/>
                  </a:lnTo>
                  <a:lnTo>
                    <a:pt x="490" y="763"/>
                  </a:lnTo>
                  <a:lnTo>
                    <a:pt x="402" y="790"/>
                  </a:lnTo>
                  <a:lnTo>
                    <a:pt x="269" y="763"/>
                  </a:lnTo>
                  <a:lnTo>
                    <a:pt x="242" y="688"/>
                  </a:lnTo>
                  <a:lnTo>
                    <a:pt x="92" y="653"/>
                  </a:lnTo>
                  <a:lnTo>
                    <a:pt x="57" y="631"/>
                  </a:lnTo>
                  <a:lnTo>
                    <a:pt x="207" y="481"/>
                  </a:lnTo>
                  <a:lnTo>
                    <a:pt x="269" y="357"/>
                  </a:lnTo>
                  <a:lnTo>
                    <a:pt x="261" y="229"/>
                  </a:lnTo>
                  <a:lnTo>
                    <a:pt x="145" y="229"/>
                  </a:lnTo>
                  <a:lnTo>
                    <a:pt x="136" y="114"/>
                  </a:lnTo>
                  <a:lnTo>
                    <a:pt x="189" y="202"/>
                  </a:lnTo>
                  <a:lnTo>
                    <a:pt x="314" y="163"/>
                  </a:lnTo>
                  <a:lnTo>
                    <a:pt x="278" y="105"/>
                  </a:lnTo>
                  <a:lnTo>
                    <a:pt x="216" y="39"/>
                  </a:lnTo>
                  <a:lnTo>
                    <a:pt x="163" y="17"/>
                  </a:lnTo>
                  <a:lnTo>
                    <a:pt x="0" y="17"/>
                  </a:lnTo>
                  <a:lnTo>
                    <a:pt x="207" y="0"/>
                  </a:lnTo>
                  <a:lnTo>
                    <a:pt x="296" y="52"/>
                  </a:lnTo>
                  <a:lnTo>
                    <a:pt x="358" y="114"/>
                  </a:lnTo>
                  <a:lnTo>
                    <a:pt x="375" y="211"/>
                  </a:lnTo>
                  <a:lnTo>
                    <a:pt x="358" y="28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87" name=""/>
            <p:cNvSpPr/>
            <p:nvPr/>
          </p:nvSpPr>
          <p:spPr>
            <a:xfrm>
              <a:off x="1731960" y="5440320"/>
              <a:ext cx="120960" cy="165600"/>
            </a:xfrm>
            <a:custGeom>
              <a:avLst/>
              <a:gdLst/>
              <a:ahLst/>
              <a:rect l="0" t="0" r="r" b="b"/>
              <a:pathLst>
                <a:path w="336" h="460">
                  <a:moveTo>
                    <a:pt x="0" y="39"/>
                  </a:moveTo>
                  <a:lnTo>
                    <a:pt x="186" y="0"/>
                  </a:lnTo>
                  <a:lnTo>
                    <a:pt x="105" y="124"/>
                  </a:lnTo>
                  <a:lnTo>
                    <a:pt x="247" y="83"/>
                  </a:lnTo>
                  <a:lnTo>
                    <a:pt x="132" y="247"/>
                  </a:lnTo>
                  <a:lnTo>
                    <a:pt x="336" y="283"/>
                  </a:lnTo>
                  <a:lnTo>
                    <a:pt x="177" y="460"/>
                  </a:lnTo>
                  <a:lnTo>
                    <a:pt x="132" y="314"/>
                  </a:lnTo>
                  <a:lnTo>
                    <a:pt x="292" y="283"/>
                  </a:lnTo>
                  <a:lnTo>
                    <a:pt x="79" y="247"/>
                  </a:lnTo>
                  <a:lnTo>
                    <a:pt x="186" y="124"/>
                  </a:lnTo>
                  <a:lnTo>
                    <a:pt x="44" y="142"/>
                  </a:lnTo>
                  <a:lnTo>
                    <a:pt x="105" y="48"/>
                  </a:lnTo>
                  <a:lnTo>
                    <a:pt x="0" y="3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88" name=""/>
          <p:cNvSpPr txBox="1"/>
          <p:nvPr/>
        </p:nvSpPr>
        <p:spPr>
          <a:xfrm>
            <a:off x="685800" y="685800"/>
            <a:ext cx="845820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Merchandising Transactions</a:t>
            </a:r>
            <a:endParaRPr b="0" lang="en-US" sz="4400" spc="-1" strike="noStrike">
              <a:solidFill>
                <a:srgbClr val="ffffff"/>
              </a:solidFill>
              <a:latin typeface="Arial"/>
            </a:endParaRPr>
          </a:p>
        </p:txBody>
      </p:sp>
      <p:sp>
        <p:nvSpPr>
          <p:cNvPr id="389" name=""/>
          <p:cNvSpPr txBox="1"/>
          <p:nvPr/>
        </p:nvSpPr>
        <p:spPr>
          <a:xfrm>
            <a:off x="1371600" y="2155680"/>
            <a:ext cx="7162920" cy="32544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
            </a:pPr>
            <a:r>
              <a:rPr b="1" lang="en-US" sz="3600" spc="-1" strike="noStrike">
                <a:solidFill>
                  <a:srgbClr val="fcffd8"/>
                </a:solidFill>
                <a:latin typeface="Arial"/>
                <a:ea typeface="Arial"/>
              </a:rPr>
              <a:t>OBJECTIVE 4</a:t>
            </a:r>
            <a:endParaRPr b="0" lang="en-US" sz="3600" spc="-1" strike="noStrike">
              <a:solidFill>
                <a:srgbClr val="ffffff"/>
              </a:solidFill>
              <a:latin typeface="Arial"/>
            </a:endParaRPr>
          </a:p>
          <a:p>
            <a:pPr marL="343080" indent="-343080">
              <a:lnSpc>
                <a:spcPct val="110000"/>
              </a:lnSpc>
              <a:spcBef>
                <a:spcPts val="479"/>
              </a:spcBef>
              <a:buClr>
                <a:srgbClr val="ffcc66"/>
              </a:buClr>
              <a:buFont typeface="Monotype Sorts"/>
              <a:buChar char=" "/>
            </a:pPr>
            <a:r>
              <a:rPr b="1" lang="en-US" sz="3200" spc="-1" strike="noStrike">
                <a:solidFill>
                  <a:srgbClr val="fcffd8"/>
                </a:solidFill>
                <a:latin typeface="Arial"/>
                <a:ea typeface="Arial"/>
              </a:rPr>
              <a:t>Contrast and record transactions related to sales and purchases under the periodic and the perpetual inventory systems.</a:t>
            </a:r>
            <a:endParaRPr b="0" lang="en-US" sz="3200" spc="-1" strike="noStrike">
              <a:solidFill>
                <a:srgbClr val="ffffff"/>
              </a:solidFill>
              <a:latin typeface="Arial"/>
            </a:endParaRPr>
          </a:p>
        </p:txBody>
      </p:sp>
      <p:pic>
        <p:nvPicPr>
          <p:cNvPr id="390" name="" descr=""/>
          <p:cNvPicPr/>
          <p:nvPr/>
        </p:nvPicPr>
        <p:blipFill>
          <a:blip r:embed="rId1"/>
          <a:stretch/>
        </p:blipFill>
        <p:spPr>
          <a:xfrm>
            <a:off x="0" y="0"/>
            <a:ext cx="812880" cy="6985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91" name=""/>
          <p:cNvSpPr txBox="1"/>
          <p:nvPr/>
        </p:nvSpPr>
        <p:spPr>
          <a:xfrm>
            <a:off x="838080" y="1219320"/>
            <a:ext cx="8047080" cy="533412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Trade discount.</a:t>
            </a:r>
            <a:endParaRPr b="0" lang="en-US" sz="3200" spc="-1" strike="noStrike">
              <a:solidFill>
                <a:srgbClr val="ffffff"/>
              </a:solidFill>
              <a:latin typeface="Arial"/>
            </a:endParaRPr>
          </a:p>
          <a:p>
            <a:pPr lvl="1" marL="743040" indent="-285840">
              <a:lnSpc>
                <a:spcPct val="100000"/>
              </a:lnSpc>
              <a:spcBef>
                <a:spcPts val="479"/>
              </a:spcBef>
              <a:buClr>
                <a:srgbClr val="ffcc66"/>
              </a:buClr>
              <a:buFont typeface="Symbol"/>
              <a:buChar char=""/>
            </a:pPr>
            <a:r>
              <a:rPr b="1" lang="en-US" sz="3200" spc="-1" strike="noStrike">
                <a:solidFill>
                  <a:srgbClr val="fcffd8"/>
                </a:solidFill>
                <a:latin typeface="Arial"/>
                <a:ea typeface="Arial"/>
              </a:rPr>
              <a:t>A reduction of the list price.</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Sales discount.</a:t>
            </a:r>
            <a:endParaRPr b="0" lang="en-US" sz="3200" spc="-1" strike="noStrike">
              <a:solidFill>
                <a:srgbClr val="ffffff"/>
              </a:solidFill>
              <a:latin typeface="Arial"/>
            </a:endParaRPr>
          </a:p>
          <a:p>
            <a:pPr lvl="1" marL="743040" indent="-285840">
              <a:lnSpc>
                <a:spcPct val="100000"/>
              </a:lnSpc>
              <a:spcBef>
                <a:spcPts val="479"/>
              </a:spcBef>
              <a:buClr>
                <a:srgbClr val="ffcc66"/>
              </a:buClr>
              <a:buFont typeface="Symbol"/>
              <a:buChar char=""/>
            </a:pPr>
            <a:r>
              <a:rPr b="1" lang="en-US" sz="3200" spc="-1" strike="noStrike">
                <a:solidFill>
                  <a:srgbClr val="fcffd8"/>
                </a:solidFill>
                <a:latin typeface="Arial"/>
                <a:ea typeface="Arial"/>
              </a:rPr>
              <a:t>Discount given for early payment.</a:t>
            </a:r>
            <a:endParaRPr b="0" lang="en-US" sz="3200" spc="-1" strike="noStrike">
              <a:solidFill>
                <a:srgbClr val="ffffff"/>
              </a:solidFill>
              <a:latin typeface="Arial"/>
            </a:endParaRPr>
          </a:p>
          <a:p>
            <a:pPr lvl="1" marL="743040" indent="-285840">
              <a:lnSpc>
                <a:spcPct val="100000"/>
              </a:lnSpc>
              <a:spcBef>
                <a:spcPts val="479"/>
              </a:spcBef>
              <a:buClr>
                <a:srgbClr val="ffcc66"/>
              </a:buClr>
              <a:buFont typeface="Symbol"/>
              <a:buChar char=""/>
            </a:pPr>
            <a:r>
              <a:rPr b="1" lang="en-US" sz="3200" spc="-1" strike="noStrike">
                <a:solidFill>
                  <a:srgbClr val="fcffd8"/>
                </a:solidFill>
                <a:latin typeface="Arial"/>
                <a:ea typeface="Arial"/>
              </a:rPr>
              <a:t>Taken if payment is made within the terms of sale. For example, “2/10, n/30.”</a:t>
            </a:r>
            <a:endParaRPr b="0" lang="en-US" sz="3200" spc="-1" strike="noStrike">
              <a:solidFill>
                <a:srgbClr val="ffffff"/>
              </a:solidFill>
              <a:latin typeface="Arial"/>
            </a:endParaRPr>
          </a:p>
          <a:p>
            <a:pPr lvl="1" marL="743040" indent="-285840">
              <a:lnSpc>
                <a:spcPct val="100000"/>
              </a:lnSpc>
              <a:spcBef>
                <a:spcPts val="479"/>
              </a:spcBef>
              <a:buClr>
                <a:srgbClr val="ffcc66"/>
              </a:buClr>
              <a:buFont typeface="Symbol"/>
              <a:buChar char=""/>
            </a:pPr>
            <a:r>
              <a:rPr b="1" lang="en-US" sz="3200" spc="-1" strike="noStrike">
                <a:solidFill>
                  <a:srgbClr val="fcffd8"/>
                </a:solidFill>
                <a:latin typeface="Arial"/>
                <a:ea typeface="Arial"/>
              </a:rPr>
              <a:t>Practice of giving sales discounts has been declining.</a:t>
            </a:r>
            <a:endParaRPr b="0" lang="en-US" sz="3200" spc="-1" strike="noStrike">
              <a:solidFill>
                <a:srgbClr val="ffffff"/>
              </a:solidFill>
              <a:latin typeface="Arial"/>
            </a:endParaRPr>
          </a:p>
        </p:txBody>
      </p:sp>
      <p:sp>
        <p:nvSpPr>
          <p:cNvPr id="392" name=""/>
          <p:cNvSpPr txBox="1"/>
          <p:nvPr/>
        </p:nvSpPr>
        <p:spPr>
          <a:xfrm>
            <a:off x="1447920" y="380880"/>
            <a:ext cx="6894360" cy="868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ales Term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93" name=""/>
          <p:cNvSpPr txBox="1"/>
          <p:nvPr/>
        </p:nvSpPr>
        <p:spPr>
          <a:xfrm>
            <a:off x="1828800" y="1447920"/>
            <a:ext cx="6248520" cy="464832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FOB shipping point.</a:t>
            </a:r>
            <a:endParaRPr b="0" lang="en-US" sz="32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3200" spc="-1" strike="noStrike">
                <a:solidFill>
                  <a:srgbClr val="fcffd8"/>
                </a:solidFill>
                <a:latin typeface="Arial"/>
                <a:ea typeface="Arial"/>
              </a:rPr>
              <a:t>Title passes at origin.</a:t>
            </a:r>
            <a:endParaRPr b="0" lang="en-US" sz="32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3200" spc="-1" strike="noStrike">
                <a:solidFill>
                  <a:srgbClr val="fcffd8"/>
                </a:solidFill>
                <a:latin typeface="Arial"/>
                <a:ea typeface="Arial"/>
              </a:rPr>
              <a:t>Buyer pays the freight.</a:t>
            </a:r>
            <a:endParaRPr b="0" lang="en-US" sz="3200" spc="-1" strike="noStrike">
              <a:solidFill>
                <a:srgbClr val="ffffff"/>
              </a:solidFill>
              <a:latin typeface="Arial"/>
            </a:endParaRPr>
          </a:p>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FOB destination.</a:t>
            </a:r>
            <a:endParaRPr b="0" lang="en-US" sz="32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3200" spc="-1" strike="noStrike">
                <a:solidFill>
                  <a:srgbClr val="fcffd8"/>
                </a:solidFill>
                <a:latin typeface="Arial"/>
                <a:ea typeface="Arial"/>
              </a:rPr>
              <a:t>Title passes at destination.</a:t>
            </a:r>
            <a:endParaRPr b="0" lang="en-US" sz="32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3200" spc="-1" strike="noStrike">
                <a:solidFill>
                  <a:srgbClr val="fcffd8"/>
                </a:solidFill>
                <a:latin typeface="Arial"/>
                <a:ea typeface="Arial"/>
              </a:rPr>
              <a:t>Seller pays the freight.</a:t>
            </a:r>
            <a:endParaRPr b="0" lang="en-US" sz="3200" spc="-1" strike="noStrike">
              <a:solidFill>
                <a:srgbClr val="ffffff"/>
              </a:solidFill>
              <a:latin typeface="Arial"/>
            </a:endParaRPr>
          </a:p>
        </p:txBody>
      </p:sp>
      <p:sp>
        <p:nvSpPr>
          <p:cNvPr id="394" name=""/>
          <p:cNvSpPr txBox="1"/>
          <p:nvPr/>
        </p:nvSpPr>
        <p:spPr>
          <a:xfrm>
            <a:off x="914400" y="3808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ales Term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95" name=""/>
          <p:cNvSpPr txBox="1"/>
          <p:nvPr/>
        </p:nvSpPr>
        <p:spPr>
          <a:xfrm>
            <a:off x="1241280" y="380880"/>
            <a:ext cx="7292880" cy="1250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Purchases of Merchandise</a:t>
            </a:r>
            <a:br>
              <a:rPr sz="4400"/>
            </a:br>
            <a:r>
              <a:rPr b="1" lang="en-US" sz="4400" spc="-1" strike="noStrike">
                <a:solidFill>
                  <a:srgbClr val="ffcc66"/>
                </a:solidFill>
                <a:latin typeface="Arial"/>
                <a:ea typeface="Arial"/>
              </a:rPr>
              <a:t>on Credit</a:t>
            </a:r>
            <a:endParaRPr b="0" lang="en-US" sz="4400" spc="-1" strike="noStrike">
              <a:solidFill>
                <a:srgbClr val="ffffff"/>
              </a:solidFill>
              <a:latin typeface="Arial"/>
            </a:endParaRPr>
          </a:p>
        </p:txBody>
      </p:sp>
      <p:sp>
        <p:nvSpPr>
          <p:cNvPr id="396" name=""/>
          <p:cNvSpPr txBox="1"/>
          <p:nvPr/>
        </p:nvSpPr>
        <p:spPr>
          <a:xfrm>
            <a:off x="838080" y="1828800"/>
            <a:ext cx="8077320" cy="4343400"/>
          </a:xfrm>
          <a:prstGeom prst="rect">
            <a:avLst/>
          </a:prstGeom>
          <a:noFill/>
          <a:ln w="0">
            <a:noFill/>
          </a:ln>
        </p:spPr>
        <p:txBody>
          <a:bodyPr lIns="0" rIns="0" tIns="0" bIns="0" anchor="t">
            <a:noAutofit/>
          </a:bodyPr>
          <a:p>
            <a:pPr marL="343080" indent="-343080">
              <a:lnSpc>
                <a:spcPct val="130000"/>
              </a:lnSpc>
              <a:spcBef>
                <a:spcPts val="479"/>
              </a:spcBef>
            </a:pPr>
            <a:r>
              <a:rPr b="1" lang="en-US" sz="3200" spc="-1" strike="noStrike">
                <a:solidFill>
                  <a:srgbClr val="fcffd8"/>
                </a:solidFill>
                <a:latin typeface="Arial"/>
                <a:ea typeface="Arial"/>
              </a:rPr>
              <a:t>Periodic inventory system.</a:t>
            </a:r>
            <a:endParaRPr b="0" lang="en-US" sz="3200" spc="-1" strike="noStrike">
              <a:solidFill>
                <a:srgbClr val="ffffff"/>
              </a:solidFill>
              <a:latin typeface="Arial"/>
            </a:endParaRPr>
          </a:p>
          <a:p>
            <a:pPr marL="743040" indent="-285840">
              <a:lnSpc>
                <a:spcPct val="130000"/>
              </a:lnSpc>
              <a:spcBef>
                <a:spcPts val="479"/>
              </a:spcBef>
            </a:pPr>
            <a:r>
              <a:rPr b="1" lang="en-US" sz="2800" spc="-1" strike="noStrike">
                <a:solidFill>
                  <a:srgbClr val="fcfeb9"/>
                </a:solidFill>
                <a:latin typeface="Arial"/>
                <a:ea typeface="Arial"/>
              </a:rPr>
              <a:t>Oct. 3   Purchases</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4,890</a:t>
            </a:r>
            <a:endParaRPr b="0" lang="en-US" sz="2800" spc="-1" strike="noStrike">
              <a:solidFill>
                <a:srgbClr val="ffffff"/>
              </a:solidFill>
              <a:latin typeface="Arial"/>
            </a:endParaRPr>
          </a:p>
          <a:p>
            <a:pPr marL="743040" indent="-285840">
              <a:lnSpc>
                <a:spcPct val="130000"/>
              </a:lnSpc>
              <a:spcBef>
                <a:spcPts val="479"/>
              </a:spcBef>
            </a:pP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Accounts Payable</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4,890</a:t>
            </a:r>
            <a:endParaRPr b="0" lang="en-US" sz="2800" spc="-1" strike="noStrike">
              <a:solidFill>
                <a:srgbClr val="ffffff"/>
              </a:solidFill>
              <a:latin typeface="Arial"/>
            </a:endParaRPr>
          </a:p>
          <a:p>
            <a:pPr marL="343080" indent="-343080">
              <a:lnSpc>
                <a:spcPct val="130000"/>
              </a:lnSpc>
              <a:spcBef>
                <a:spcPts val="479"/>
              </a:spcBef>
            </a:pPr>
            <a:r>
              <a:rPr b="1" lang="en-US" sz="3200" spc="-1" strike="noStrike">
                <a:solidFill>
                  <a:srgbClr val="fcffd8"/>
                </a:solidFill>
                <a:latin typeface="Arial"/>
                <a:ea typeface="Arial"/>
              </a:rPr>
              <a:t>Perpetual inventory system.</a:t>
            </a:r>
            <a:endParaRPr b="0" lang="en-US" sz="3200" spc="-1" strike="noStrike">
              <a:solidFill>
                <a:srgbClr val="ffffff"/>
              </a:solidFill>
              <a:latin typeface="Arial"/>
            </a:endParaRPr>
          </a:p>
          <a:p>
            <a:pPr marL="743040" indent="-285840">
              <a:lnSpc>
                <a:spcPct val="130000"/>
              </a:lnSpc>
              <a:spcBef>
                <a:spcPts val="479"/>
              </a:spcBef>
            </a:pPr>
            <a:r>
              <a:rPr b="1" lang="en-US" sz="2800" spc="-1" strike="noStrike">
                <a:solidFill>
                  <a:srgbClr val="fcfeb9"/>
                </a:solidFill>
                <a:latin typeface="Arial"/>
                <a:ea typeface="Arial"/>
              </a:rPr>
              <a:t>Oct. 3   Merchandise Inventory    4,890</a:t>
            </a:r>
            <a:endParaRPr b="0" lang="en-US" sz="2800" spc="-1" strike="noStrike">
              <a:solidFill>
                <a:srgbClr val="ffffff"/>
              </a:solidFill>
              <a:latin typeface="Arial"/>
            </a:endParaRPr>
          </a:p>
          <a:p>
            <a:pPr marL="743040" indent="-285840">
              <a:lnSpc>
                <a:spcPct val="130000"/>
              </a:lnSpc>
              <a:spcBef>
                <a:spcPts val="479"/>
              </a:spcBef>
            </a:pP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Accounts Payable</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4,89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97" name=""/>
          <p:cNvSpPr txBox="1"/>
          <p:nvPr/>
        </p:nvSpPr>
        <p:spPr>
          <a:xfrm>
            <a:off x="914400" y="380880"/>
            <a:ext cx="8001000" cy="13716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Transportation Costs on Purchases</a:t>
            </a:r>
            <a:endParaRPr b="0" lang="en-US" sz="4400" spc="-1" strike="noStrike">
              <a:solidFill>
                <a:srgbClr val="ffffff"/>
              </a:solidFill>
              <a:latin typeface="Arial"/>
            </a:endParaRPr>
          </a:p>
        </p:txBody>
      </p:sp>
      <p:sp>
        <p:nvSpPr>
          <p:cNvPr id="398" name=""/>
          <p:cNvSpPr txBox="1"/>
          <p:nvPr/>
        </p:nvSpPr>
        <p:spPr>
          <a:xfrm>
            <a:off x="914400" y="1905120"/>
            <a:ext cx="8229600" cy="3962520"/>
          </a:xfrm>
          <a:prstGeom prst="rect">
            <a:avLst/>
          </a:prstGeom>
          <a:noFill/>
          <a:ln w="0">
            <a:noFill/>
          </a:ln>
        </p:spPr>
        <p:txBody>
          <a:bodyPr lIns="0" rIns="0" tIns="0" bIns="0" anchor="t">
            <a:noAutofit/>
          </a:bodyPr>
          <a:p>
            <a:pPr marL="343080" indent="-343080">
              <a:lnSpc>
                <a:spcPct val="130000"/>
              </a:lnSpc>
              <a:spcBef>
                <a:spcPts val="479"/>
              </a:spcBef>
            </a:pPr>
            <a:r>
              <a:rPr b="1" lang="en-US" sz="3200" spc="-1" strike="noStrike">
                <a:solidFill>
                  <a:srgbClr val="fcffd8"/>
                </a:solidFill>
                <a:latin typeface="Arial"/>
                <a:ea typeface="Arial"/>
              </a:rPr>
              <a:t>Periodic inventory system.</a:t>
            </a:r>
            <a:endParaRPr b="0" lang="en-US" sz="3200" spc="-1" strike="noStrike">
              <a:solidFill>
                <a:srgbClr val="ffffff"/>
              </a:solidFill>
              <a:latin typeface="Arial"/>
            </a:endParaRPr>
          </a:p>
          <a:p>
            <a:pPr marL="743040" indent="-285840">
              <a:lnSpc>
                <a:spcPct val="130000"/>
              </a:lnSpc>
              <a:spcBef>
                <a:spcPts val="479"/>
              </a:spcBef>
            </a:pPr>
            <a:r>
              <a:rPr b="1" lang="en-US" sz="2800" spc="-1" strike="noStrike">
                <a:solidFill>
                  <a:srgbClr val="fcfeb9"/>
                </a:solidFill>
                <a:latin typeface="Arial"/>
                <a:ea typeface="Arial"/>
              </a:rPr>
              <a:t>Oct. 4   Freight In</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160</a:t>
            </a:r>
            <a:endParaRPr b="0" lang="en-US" sz="2800" spc="-1" strike="noStrike">
              <a:solidFill>
                <a:srgbClr val="ffffff"/>
              </a:solidFill>
              <a:latin typeface="Arial"/>
            </a:endParaRPr>
          </a:p>
          <a:p>
            <a:pPr marL="743040" indent="-285840">
              <a:lnSpc>
                <a:spcPct val="130000"/>
              </a:lnSpc>
              <a:spcBef>
                <a:spcPts val="479"/>
              </a:spcBef>
            </a:pP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Accounts Payable</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160</a:t>
            </a:r>
            <a:endParaRPr b="0" lang="en-US" sz="2800" spc="-1" strike="noStrike">
              <a:solidFill>
                <a:srgbClr val="ffffff"/>
              </a:solidFill>
              <a:latin typeface="Arial"/>
            </a:endParaRPr>
          </a:p>
          <a:p>
            <a:pPr marL="343080" indent="-343080">
              <a:lnSpc>
                <a:spcPct val="130000"/>
              </a:lnSpc>
              <a:spcBef>
                <a:spcPts val="479"/>
              </a:spcBef>
            </a:pPr>
            <a:r>
              <a:rPr b="1" lang="en-US" sz="3200" spc="-1" strike="noStrike">
                <a:solidFill>
                  <a:srgbClr val="fcffd8"/>
                </a:solidFill>
                <a:latin typeface="Arial"/>
                <a:ea typeface="Arial"/>
              </a:rPr>
              <a:t>Perpetual inventory system.</a:t>
            </a:r>
            <a:endParaRPr b="0" lang="en-US" sz="3200" spc="-1" strike="noStrike">
              <a:solidFill>
                <a:srgbClr val="ffffff"/>
              </a:solidFill>
              <a:latin typeface="Arial"/>
            </a:endParaRPr>
          </a:p>
          <a:p>
            <a:pPr marL="743040" indent="-285840">
              <a:lnSpc>
                <a:spcPct val="130000"/>
              </a:lnSpc>
              <a:spcBef>
                <a:spcPts val="479"/>
              </a:spcBef>
            </a:pPr>
            <a:r>
              <a:rPr b="1" lang="en-US" sz="2800" spc="-1" strike="noStrike">
                <a:solidFill>
                  <a:srgbClr val="fcfeb9"/>
                </a:solidFill>
                <a:latin typeface="Arial"/>
                <a:ea typeface="Arial"/>
              </a:rPr>
              <a:t>Oct. 4   Freight In</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160</a:t>
            </a:r>
            <a:endParaRPr b="0" lang="en-US" sz="2800" spc="-1" strike="noStrike">
              <a:solidFill>
                <a:srgbClr val="ffffff"/>
              </a:solidFill>
              <a:latin typeface="Arial"/>
            </a:endParaRPr>
          </a:p>
          <a:p>
            <a:pPr marL="743040" indent="-285840">
              <a:lnSpc>
                <a:spcPct val="130000"/>
              </a:lnSpc>
              <a:spcBef>
                <a:spcPts val="479"/>
              </a:spcBef>
            </a:pP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Accounts Payable</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16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99" name=""/>
          <p:cNvSpPr txBox="1"/>
          <p:nvPr/>
        </p:nvSpPr>
        <p:spPr>
          <a:xfrm>
            <a:off x="1336680" y="380880"/>
            <a:ext cx="7197840" cy="13716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Purchases Returns and Allowances</a:t>
            </a:r>
            <a:endParaRPr b="0" lang="en-US" sz="4400" spc="-1" strike="noStrike">
              <a:solidFill>
                <a:srgbClr val="ffffff"/>
              </a:solidFill>
              <a:latin typeface="Arial"/>
            </a:endParaRPr>
          </a:p>
        </p:txBody>
      </p:sp>
      <p:sp>
        <p:nvSpPr>
          <p:cNvPr id="400" name=""/>
          <p:cNvSpPr txBox="1"/>
          <p:nvPr/>
        </p:nvSpPr>
        <p:spPr>
          <a:xfrm>
            <a:off x="762120" y="1828800"/>
            <a:ext cx="8174160" cy="4267080"/>
          </a:xfrm>
          <a:prstGeom prst="rect">
            <a:avLst/>
          </a:prstGeom>
          <a:noFill/>
          <a:ln w="0">
            <a:noFill/>
          </a:ln>
        </p:spPr>
        <p:txBody>
          <a:bodyPr lIns="0" rIns="0" tIns="0" bIns="0" anchor="t">
            <a:noAutofit/>
          </a:bodyPr>
          <a:p>
            <a:pPr marL="343080" indent="-343080">
              <a:lnSpc>
                <a:spcPct val="120000"/>
              </a:lnSpc>
              <a:spcBef>
                <a:spcPts val="479"/>
              </a:spcBef>
            </a:pPr>
            <a:r>
              <a:rPr b="1" lang="en-US" sz="3200" spc="-1" strike="noStrike">
                <a:solidFill>
                  <a:srgbClr val="fcffd8"/>
                </a:solidFill>
                <a:latin typeface="Arial"/>
                <a:ea typeface="Arial"/>
              </a:rPr>
              <a:t>Periodic inventory system.</a:t>
            </a:r>
            <a:endParaRPr b="0" lang="en-US" sz="3200" spc="-1" strike="noStrike">
              <a:solidFill>
                <a:srgbClr val="ffffff"/>
              </a:solidFill>
              <a:latin typeface="Arial"/>
            </a:endParaRPr>
          </a:p>
          <a:p>
            <a:pPr marL="743040" indent="-285840">
              <a:lnSpc>
                <a:spcPct val="120000"/>
              </a:lnSpc>
              <a:spcBef>
                <a:spcPts val="479"/>
              </a:spcBef>
            </a:pPr>
            <a:r>
              <a:rPr b="1" lang="en-US" sz="2800" spc="-1" strike="noStrike">
                <a:solidFill>
                  <a:srgbClr val="fcfeb9"/>
                </a:solidFill>
                <a:latin typeface="Arial"/>
                <a:ea typeface="Arial"/>
              </a:rPr>
              <a:t>Oct. 6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Accounts Payable</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480</a:t>
            </a:r>
            <a:endParaRPr b="0" lang="en-US" sz="2800" spc="-1" strike="noStrike">
              <a:solidFill>
                <a:srgbClr val="ffffff"/>
              </a:solidFill>
              <a:latin typeface="Arial"/>
            </a:endParaRPr>
          </a:p>
          <a:p>
            <a:pPr marL="743040" indent="-285840">
              <a:lnSpc>
                <a:spcPct val="120000"/>
              </a:lnSpc>
              <a:spcBef>
                <a:spcPts val="479"/>
              </a:spcBef>
            </a:pP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Purchase Returns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and Allowances</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480</a:t>
            </a:r>
            <a:endParaRPr b="0" lang="en-US" sz="2800" spc="-1" strike="noStrike">
              <a:solidFill>
                <a:srgbClr val="ffffff"/>
              </a:solidFill>
              <a:latin typeface="Arial"/>
            </a:endParaRPr>
          </a:p>
          <a:p>
            <a:pPr marL="343080" indent="-343080">
              <a:lnSpc>
                <a:spcPct val="120000"/>
              </a:lnSpc>
              <a:spcBef>
                <a:spcPts val="479"/>
              </a:spcBef>
            </a:pPr>
            <a:r>
              <a:rPr b="1" lang="en-US" sz="3200" spc="-1" strike="noStrike">
                <a:solidFill>
                  <a:srgbClr val="fcffd8"/>
                </a:solidFill>
                <a:latin typeface="Arial"/>
                <a:ea typeface="Arial"/>
              </a:rPr>
              <a:t>Perpetual inventory system.</a:t>
            </a:r>
            <a:endParaRPr b="0" lang="en-US" sz="3200" spc="-1" strike="noStrike">
              <a:solidFill>
                <a:srgbClr val="ffffff"/>
              </a:solidFill>
              <a:latin typeface="Arial"/>
            </a:endParaRPr>
          </a:p>
          <a:p>
            <a:pPr marL="743040" indent="-285840">
              <a:lnSpc>
                <a:spcPct val="120000"/>
              </a:lnSpc>
              <a:spcBef>
                <a:spcPts val="479"/>
              </a:spcBef>
            </a:pPr>
            <a:r>
              <a:rPr b="1" lang="en-US" sz="2800" spc="-1" strike="noStrike">
                <a:solidFill>
                  <a:srgbClr val="fcfeb9"/>
                </a:solidFill>
                <a:latin typeface="Arial"/>
                <a:ea typeface="Arial"/>
              </a:rPr>
              <a:t>Oct. 6</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Accounts Payable</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480</a:t>
            </a:r>
            <a:endParaRPr b="0" lang="en-US" sz="2800" spc="-1" strike="noStrike">
              <a:solidFill>
                <a:srgbClr val="ffffff"/>
              </a:solidFill>
              <a:latin typeface="Arial"/>
            </a:endParaRPr>
          </a:p>
          <a:p>
            <a:pPr marL="743040" indent="-285840">
              <a:lnSpc>
                <a:spcPct val="120000"/>
              </a:lnSpc>
              <a:spcBef>
                <a:spcPts val="479"/>
              </a:spcBef>
            </a:pP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Merchandise Inventory</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48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1" name=""/>
          <p:cNvSpPr txBox="1"/>
          <p:nvPr/>
        </p:nvSpPr>
        <p:spPr>
          <a:xfrm>
            <a:off x="584280" y="533520"/>
            <a:ext cx="8559720" cy="19051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Management Issues in </a:t>
            </a:r>
            <a:br>
              <a:rPr sz="4400"/>
            </a:br>
            <a:r>
              <a:rPr b="1" lang="en-US" sz="4400" spc="-1" strike="noStrike">
                <a:solidFill>
                  <a:srgbClr val="ffcc66"/>
                </a:solidFill>
                <a:latin typeface="Arial"/>
                <a:ea typeface="Arial"/>
              </a:rPr>
              <a:t>Merchandising Businesses</a:t>
            </a:r>
            <a:endParaRPr b="0" lang="en-US" sz="4400" spc="-1" strike="noStrike">
              <a:solidFill>
                <a:srgbClr val="ffffff"/>
              </a:solidFill>
              <a:latin typeface="Arial"/>
            </a:endParaRPr>
          </a:p>
        </p:txBody>
      </p:sp>
      <p:sp>
        <p:nvSpPr>
          <p:cNvPr id="52" name=""/>
          <p:cNvSpPr txBox="1"/>
          <p:nvPr/>
        </p:nvSpPr>
        <p:spPr>
          <a:xfrm>
            <a:off x="1523880" y="2590920"/>
            <a:ext cx="7086600" cy="260352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
            </a:pPr>
            <a:r>
              <a:rPr b="1" lang="en-US" sz="3600" spc="-1" strike="noStrike">
                <a:solidFill>
                  <a:srgbClr val="fcffd8"/>
                </a:solidFill>
                <a:latin typeface="Arial"/>
                <a:ea typeface="Arial"/>
              </a:rPr>
              <a:t>OBJECTIVE 1</a:t>
            </a:r>
            <a:endParaRPr b="0" lang="en-US" sz="3600" spc="-1" strike="noStrike">
              <a:solidFill>
                <a:srgbClr val="ffffff"/>
              </a:solidFill>
              <a:latin typeface="Arial"/>
            </a:endParaRPr>
          </a:p>
          <a:p>
            <a:pPr marL="343080" indent="-343080">
              <a:lnSpc>
                <a:spcPct val="100000"/>
              </a:lnSpc>
              <a:spcBef>
                <a:spcPts val="479"/>
              </a:spcBef>
              <a:buClr>
                <a:srgbClr val="ffcc66"/>
              </a:buClr>
              <a:buFont typeface="Monotype Sorts"/>
              <a:buChar char=" "/>
            </a:pPr>
            <a:r>
              <a:rPr b="1" lang="en-US" sz="3200" spc="-1" strike="noStrike">
                <a:solidFill>
                  <a:srgbClr val="fcffd8"/>
                </a:solidFill>
                <a:latin typeface="Arial"/>
                <a:ea typeface="Arial"/>
              </a:rPr>
              <a:t>Identify the management issues </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
            </a:pPr>
            <a:r>
              <a:rPr b="1" lang="en-US" sz="3200" spc="-1" strike="noStrike">
                <a:solidFill>
                  <a:srgbClr val="fcffd8"/>
                </a:solidFill>
                <a:latin typeface="Arial"/>
                <a:ea typeface="Arial"/>
              </a:rPr>
              <a:t>related to merchandising </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
            </a:pPr>
            <a:r>
              <a:rPr b="1" lang="en-US" sz="3200" spc="-1" strike="noStrike">
                <a:solidFill>
                  <a:srgbClr val="fcffd8"/>
                </a:solidFill>
                <a:latin typeface="Arial"/>
                <a:ea typeface="Arial"/>
              </a:rPr>
              <a:t>businesses.</a:t>
            </a:r>
            <a:endParaRPr b="0" lang="en-US" sz="3200" spc="-1" strike="noStrike">
              <a:solidFill>
                <a:srgbClr val="ffffff"/>
              </a:solidFill>
              <a:latin typeface="Arial"/>
            </a:endParaRPr>
          </a:p>
        </p:txBody>
      </p:sp>
      <p:pic>
        <p:nvPicPr>
          <p:cNvPr id="53" name="" descr=""/>
          <p:cNvPicPr/>
          <p:nvPr/>
        </p:nvPicPr>
        <p:blipFill>
          <a:blip r:embed="rId1"/>
          <a:stretch/>
        </p:blipFill>
        <p:spPr>
          <a:xfrm>
            <a:off x="0" y="0"/>
            <a:ext cx="812880" cy="6985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01" name=""/>
          <p:cNvSpPr txBox="1"/>
          <p:nvPr/>
        </p:nvSpPr>
        <p:spPr>
          <a:xfrm>
            <a:off x="1447920" y="609480"/>
            <a:ext cx="6894360" cy="8701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Payments on Account</a:t>
            </a:r>
            <a:endParaRPr b="0" lang="en-US" sz="4400" spc="-1" strike="noStrike">
              <a:solidFill>
                <a:srgbClr val="ffffff"/>
              </a:solidFill>
              <a:latin typeface="Arial"/>
            </a:endParaRPr>
          </a:p>
        </p:txBody>
      </p:sp>
      <p:sp>
        <p:nvSpPr>
          <p:cNvPr id="402" name=""/>
          <p:cNvSpPr txBox="1"/>
          <p:nvPr/>
        </p:nvSpPr>
        <p:spPr>
          <a:xfrm>
            <a:off x="762120" y="1676520"/>
            <a:ext cx="8158320" cy="3962520"/>
          </a:xfrm>
          <a:prstGeom prst="rect">
            <a:avLst/>
          </a:prstGeom>
          <a:noFill/>
          <a:ln w="0">
            <a:noFill/>
          </a:ln>
        </p:spPr>
        <p:txBody>
          <a:bodyPr lIns="0" rIns="0" tIns="0" bIns="0" anchor="t">
            <a:noAutofit/>
          </a:bodyPr>
          <a:p>
            <a:pPr marL="343080" indent="-343080">
              <a:lnSpc>
                <a:spcPct val="130000"/>
              </a:lnSpc>
              <a:spcBef>
                <a:spcPts val="479"/>
              </a:spcBef>
            </a:pPr>
            <a:r>
              <a:rPr b="1" lang="en-US" sz="3200" spc="-1" strike="noStrike">
                <a:solidFill>
                  <a:srgbClr val="fcffd8"/>
                </a:solidFill>
                <a:latin typeface="Arial"/>
                <a:ea typeface="Arial"/>
              </a:rPr>
              <a:t>Periodic inventory system.</a:t>
            </a:r>
            <a:endParaRPr b="0" lang="en-US" sz="3200" spc="-1" strike="noStrike">
              <a:solidFill>
                <a:srgbClr val="ffffff"/>
              </a:solidFill>
              <a:latin typeface="Arial"/>
            </a:endParaRPr>
          </a:p>
          <a:p>
            <a:pPr marL="743040" indent="-285840">
              <a:lnSpc>
                <a:spcPct val="130000"/>
              </a:lnSpc>
              <a:spcBef>
                <a:spcPts val="479"/>
              </a:spcBef>
            </a:pPr>
            <a:r>
              <a:rPr b="1" lang="en-US" sz="2800" spc="-1" strike="noStrike">
                <a:solidFill>
                  <a:srgbClr val="fcfeb9"/>
                </a:solidFill>
                <a:latin typeface="Arial"/>
                <a:ea typeface="Arial"/>
              </a:rPr>
              <a:t>Oct. 10</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ccounts Payable</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4,410</a:t>
            </a:r>
            <a:endParaRPr b="0" lang="en-US" sz="2800" spc="-1" strike="noStrike">
              <a:solidFill>
                <a:srgbClr val="ffffff"/>
              </a:solidFill>
              <a:latin typeface="Arial"/>
            </a:endParaRPr>
          </a:p>
          <a:p>
            <a:pPr marL="743040" indent="-285840">
              <a:lnSpc>
                <a:spcPct val="130000"/>
              </a:lnSpc>
              <a:spcBef>
                <a:spcPts val="479"/>
              </a:spcBef>
            </a:pP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Cash</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4,410</a:t>
            </a:r>
            <a:endParaRPr b="0" lang="en-US" sz="2800" spc="-1" strike="noStrike">
              <a:solidFill>
                <a:srgbClr val="ffffff"/>
              </a:solidFill>
              <a:latin typeface="Arial"/>
            </a:endParaRPr>
          </a:p>
          <a:p>
            <a:pPr marL="343080" indent="-343080">
              <a:lnSpc>
                <a:spcPct val="130000"/>
              </a:lnSpc>
              <a:spcBef>
                <a:spcPts val="479"/>
              </a:spcBef>
            </a:pPr>
            <a:r>
              <a:rPr b="1" lang="en-US" sz="3200" spc="-1" strike="noStrike">
                <a:solidFill>
                  <a:srgbClr val="fcffd8"/>
                </a:solidFill>
                <a:latin typeface="Arial"/>
                <a:ea typeface="Arial"/>
              </a:rPr>
              <a:t>Perpetual inventory system.</a:t>
            </a:r>
            <a:endParaRPr b="0" lang="en-US" sz="3200" spc="-1" strike="noStrike">
              <a:solidFill>
                <a:srgbClr val="ffffff"/>
              </a:solidFill>
              <a:latin typeface="Arial"/>
            </a:endParaRPr>
          </a:p>
          <a:p>
            <a:pPr marL="743040" indent="-285840">
              <a:lnSpc>
                <a:spcPct val="130000"/>
              </a:lnSpc>
              <a:spcBef>
                <a:spcPts val="479"/>
              </a:spcBef>
            </a:pPr>
            <a:r>
              <a:rPr b="1" lang="en-US" sz="2800" spc="-1" strike="noStrike">
                <a:solidFill>
                  <a:srgbClr val="fcfeb9"/>
                </a:solidFill>
                <a:latin typeface="Arial"/>
                <a:ea typeface="Arial"/>
              </a:rPr>
              <a:t>Oct. 10</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ccounts Payable</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4,410</a:t>
            </a:r>
            <a:endParaRPr b="0" lang="en-US" sz="2800" spc="-1" strike="noStrike">
              <a:solidFill>
                <a:srgbClr val="ffffff"/>
              </a:solidFill>
              <a:latin typeface="Arial"/>
            </a:endParaRPr>
          </a:p>
          <a:p>
            <a:pPr marL="743040" indent="-285840">
              <a:lnSpc>
                <a:spcPct val="130000"/>
              </a:lnSpc>
              <a:spcBef>
                <a:spcPts val="479"/>
              </a:spcBef>
            </a:pP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Cash</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4,41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03" name=""/>
          <p:cNvSpPr txBox="1"/>
          <p:nvPr/>
        </p:nvSpPr>
        <p:spPr>
          <a:xfrm>
            <a:off x="1523880" y="304920"/>
            <a:ext cx="6705720" cy="1250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ales of Merchandise on Credit</a:t>
            </a:r>
            <a:endParaRPr b="0" lang="en-US" sz="4400" spc="-1" strike="noStrike">
              <a:solidFill>
                <a:srgbClr val="ffffff"/>
              </a:solidFill>
              <a:latin typeface="Arial"/>
            </a:endParaRPr>
          </a:p>
        </p:txBody>
      </p:sp>
      <p:sp>
        <p:nvSpPr>
          <p:cNvPr id="404" name=""/>
          <p:cNvSpPr txBox="1"/>
          <p:nvPr/>
        </p:nvSpPr>
        <p:spPr>
          <a:xfrm>
            <a:off x="838080" y="1600200"/>
            <a:ext cx="8077320" cy="4648320"/>
          </a:xfrm>
          <a:prstGeom prst="rect">
            <a:avLst/>
          </a:prstGeom>
          <a:noFill/>
          <a:ln w="0">
            <a:noFill/>
          </a:ln>
        </p:spPr>
        <p:txBody>
          <a:bodyPr lIns="0" rIns="0" tIns="0" bIns="0" anchor="t">
            <a:noAutofit/>
          </a:bodyPr>
          <a:p>
            <a:pPr marL="343080" indent="-343080">
              <a:lnSpc>
                <a:spcPct val="110000"/>
              </a:lnSpc>
              <a:spcBef>
                <a:spcPts val="479"/>
              </a:spcBef>
            </a:pPr>
            <a:r>
              <a:rPr b="1" lang="en-US" sz="3200" spc="-1" strike="noStrike">
                <a:solidFill>
                  <a:srgbClr val="fcffd8"/>
                </a:solidFill>
                <a:latin typeface="Arial"/>
                <a:ea typeface="Arial"/>
              </a:rPr>
              <a:t>Periodic inventory system.</a:t>
            </a:r>
            <a:endParaRPr b="0" lang="en-US" sz="3200" spc="-1" strike="noStrike">
              <a:solidFill>
                <a:srgbClr val="ffffff"/>
              </a:solidFill>
              <a:latin typeface="Arial"/>
            </a:endParaRPr>
          </a:p>
          <a:p>
            <a:pPr marL="743040" indent="-285840">
              <a:lnSpc>
                <a:spcPct val="110000"/>
              </a:lnSpc>
              <a:spcBef>
                <a:spcPts val="479"/>
              </a:spcBef>
            </a:pPr>
            <a:r>
              <a:rPr b="1" lang="en-US" sz="2800" spc="-1" strike="noStrike">
                <a:solidFill>
                  <a:srgbClr val="fcfeb9"/>
                </a:solidFill>
                <a:latin typeface="Arial"/>
                <a:ea typeface="Arial"/>
              </a:rPr>
              <a:t>Oct. 7</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Accounts Receivable</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1,200</a:t>
            </a:r>
            <a:endParaRPr b="0" lang="en-US" sz="2800" spc="-1" strike="noStrike">
              <a:solidFill>
                <a:srgbClr val="ffffff"/>
              </a:solidFill>
              <a:latin typeface="Arial"/>
            </a:endParaRPr>
          </a:p>
          <a:p>
            <a:pPr marL="743040" indent="-285840">
              <a:lnSpc>
                <a:spcPct val="110000"/>
              </a:lnSpc>
              <a:spcBef>
                <a:spcPts val="479"/>
              </a:spcBef>
            </a:pP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Sales</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1,200</a:t>
            </a:r>
            <a:endParaRPr b="0" lang="en-US" sz="2800" spc="-1" strike="noStrike">
              <a:solidFill>
                <a:srgbClr val="ffffff"/>
              </a:solidFill>
              <a:latin typeface="Arial"/>
            </a:endParaRPr>
          </a:p>
          <a:p>
            <a:pPr marL="343080" indent="-343080">
              <a:lnSpc>
                <a:spcPct val="110000"/>
              </a:lnSpc>
              <a:spcBef>
                <a:spcPts val="479"/>
              </a:spcBef>
            </a:pPr>
            <a:r>
              <a:rPr b="1" lang="en-US" sz="3200" spc="-1" strike="noStrike">
                <a:solidFill>
                  <a:srgbClr val="fcffd8"/>
                </a:solidFill>
                <a:latin typeface="Arial"/>
                <a:ea typeface="Arial"/>
              </a:rPr>
              <a:t>Perpetual inventory system.</a:t>
            </a:r>
            <a:endParaRPr b="0" lang="en-US" sz="3200" spc="-1" strike="noStrike">
              <a:solidFill>
                <a:srgbClr val="ffffff"/>
              </a:solidFill>
              <a:latin typeface="Arial"/>
            </a:endParaRPr>
          </a:p>
          <a:p>
            <a:pPr marL="743040" indent="-285840">
              <a:lnSpc>
                <a:spcPct val="110000"/>
              </a:lnSpc>
              <a:spcBef>
                <a:spcPts val="479"/>
              </a:spcBef>
            </a:pPr>
            <a:r>
              <a:rPr b="1" lang="en-US" sz="2800" spc="-1" strike="noStrike">
                <a:solidFill>
                  <a:srgbClr val="fcfeb9"/>
                </a:solidFill>
                <a:latin typeface="Arial"/>
                <a:ea typeface="Arial"/>
              </a:rPr>
              <a:t>Oct. 7</a:t>
            </a:r>
            <a:r>
              <a:rPr b="1" lang="en-US" sz="2400" spc="-1" strike="noStrike">
                <a:solidFill>
                  <a:srgbClr val="fcfeb9"/>
                </a:solidFill>
                <a:latin typeface="Arial"/>
                <a:ea typeface="Arial"/>
              </a:rPr>
              <a:t>	</a:t>
            </a:r>
            <a:r>
              <a:rPr b="1" lang="en-US" sz="2800" spc="-1" strike="noStrike">
                <a:solidFill>
                  <a:srgbClr val="fcfeb9"/>
                </a:solidFill>
                <a:latin typeface="Arial"/>
                <a:ea typeface="Arial"/>
              </a:rPr>
              <a:t>Accounts Receivable</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1,200</a:t>
            </a:r>
            <a:endParaRPr b="0" lang="en-US" sz="2800" spc="-1" strike="noStrike">
              <a:solidFill>
                <a:srgbClr val="ffffff"/>
              </a:solidFill>
              <a:latin typeface="Arial"/>
            </a:endParaRPr>
          </a:p>
          <a:p>
            <a:pPr marL="743040" indent="-285840">
              <a:lnSpc>
                <a:spcPct val="110000"/>
              </a:lnSpc>
              <a:spcBef>
                <a:spcPts val="479"/>
              </a:spcBef>
            </a:pP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Sales</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1,200</a:t>
            </a:r>
            <a:endParaRPr b="0" lang="en-US" sz="2800" spc="-1" strike="noStrike">
              <a:solidFill>
                <a:srgbClr val="ffffff"/>
              </a:solidFill>
              <a:latin typeface="Arial"/>
            </a:endParaRPr>
          </a:p>
          <a:p>
            <a:pPr marL="743040" indent="-285840">
              <a:lnSpc>
                <a:spcPct val="110000"/>
              </a:lnSpc>
              <a:spcBef>
                <a:spcPts val="479"/>
              </a:spcBef>
            </a:pP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Cost of Goods Sold</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720</a:t>
            </a:r>
            <a:endParaRPr b="0" lang="en-US" sz="2800" spc="-1" strike="noStrike">
              <a:solidFill>
                <a:srgbClr val="ffffff"/>
              </a:solidFill>
              <a:latin typeface="Arial"/>
            </a:endParaRPr>
          </a:p>
          <a:p>
            <a:pPr marL="743040" indent="-285840">
              <a:lnSpc>
                <a:spcPct val="110000"/>
              </a:lnSpc>
              <a:spcBef>
                <a:spcPts val="479"/>
              </a:spcBef>
            </a:pP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Merchandise Inventory</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72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05" name=""/>
          <p:cNvSpPr txBox="1"/>
          <p:nvPr/>
        </p:nvSpPr>
        <p:spPr>
          <a:xfrm>
            <a:off x="990720" y="533520"/>
            <a:ext cx="7777080" cy="10666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Payment of Delivery Costs</a:t>
            </a:r>
            <a:endParaRPr b="0" lang="en-US" sz="4400" spc="-1" strike="noStrike">
              <a:solidFill>
                <a:srgbClr val="ffffff"/>
              </a:solidFill>
              <a:latin typeface="Arial"/>
            </a:endParaRPr>
          </a:p>
        </p:txBody>
      </p:sp>
      <p:sp>
        <p:nvSpPr>
          <p:cNvPr id="406" name=""/>
          <p:cNvSpPr txBox="1"/>
          <p:nvPr/>
        </p:nvSpPr>
        <p:spPr>
          <a:xfrm>
            <a:off x="762120" y="1523880"/>
            <a:ext cx="8118360" cy="4594320"/>
          </a:xfrm>
          <a:prstGeom prst="rect">
            <a:avLst/>
          </a:prstGeom>
          <a:noFill/>
          <a:ln w="0">
            <a:noFill/>
          </a:ln>
        </p:spPr>
        <p:txBody>
          <a:bodyPr lIns="0" rIns="0" tIns="0" bIns="0" anchor="t">
            <a:noAutofit/>
          </a:bodyPr>
          <a:p>
            <a:pPr marL="343080" indent="-343080">
              <a:lnSpc>
                <a:spcPct val="140000"/>
              </a:lnSpc>
              <a:spcBef>
                <a:spcPts val="479"/>
              </a:spcBef>
            </a:pPr>
            <a:r>
              <a:rPr b="1" lang="en-US" sz="3200" spc="-1" strike="noStrike">
                <a:solidFill>
                  <a:srgbClr val="fcffd8"/>
                </a:solidFill>
                <a:latin typeface="Arial"/>
                <a:ea typeface="Arial"/>
              </a:rPr>
              <a:t>Periodic inventory system.</a:t>
            </a:r>
            <a:endParaRPr b="0" lang="en-US" sz="3200" spc="-1" strike="noStrike">
              <a:solidFill>
                <a:srgbClr val="ffffff"/>
              </a:solidFill>
              <a:latin typeface="Arial"/>
            </a:endParaRPr>
          </a:p>
          <a:p>
            <a:pPr marL="743040" indent="-285840">
              <a:lnSpc>
                <a:spcPct val="140000"/>
              </a:lnSpc>
              <a:spcBef>
                <a:spcPts val="479"/>
              </a:spcBef>
            </a:pPr>
            <a:r>
              <a:rPr b="1" lang="en-US" sz="2800" spc="-1" strike="noStrike">
                <a:solidFill>
                  <a:srgbClr val="fcfeb9"/>
                </a:solidFill>
                <a:latin typeface="Arial"/>
                <a:ea typeface="Arial"/>
              </a:rPr>
              <a:t>Oct. 8</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Freight Out Expense</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78</a:t>
            </a:r>
            <a:endParaRPr b="0" lang="en-US" sz="2800" spc="-1" strike="noStrike">
              <a:solidFill>
                <a:srgbClr val="ffffff"/>
              </a:solidFill>
              <a:latin typeface="Arial"/>
            </a:endParaRPr>
          </a:p>
          <a:p>
            <a:pPr marL="743040" indent="-285840">
              <a:lnSpc>
                <a:spcPct val="140000"/>
              </a:lnSpc>
              <a:spcBef>
                <a:spcPts val="479"/>
              </a:spcBef>
            </a:pP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Cash</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78</a:t>
            </a:r>
            <a:endParaRPr b="0" lang="en-US" sz="2800" spc="-1" strike="noStrike">
              <a:solidFill>
                <a:srgbClr val="ffffff"/>
              </a:solidFill>
              <a:latin typeface="Arial"/>
            </a:endParaRPr>
          </a:p>
          <a:p>
            <a:pPr marL="343080" indent="-343080">
              <a:lnSpc>
                <a:spcPct val="140000"/>
              </a:lnSpc>
              <a:spcBef>
                <a:spcPts val="479"/>
              </a:spcBef>
            </a:pPr>
            <a:r>
              <a:rPr b="1" lang="en-US" sz="3200" spc="-1" strike="noStrike">
                <a:solidFill>
                  <a:srgbClr val="fcffd8"/>
                </a:solidFill>
                <a:latin typeface="Arial"/>
                <a:ea typeface="Arial"/>
              </a:rPr>
              <a:t>Perpetual inventory system.</a:t>
            </a:r>
            <a:endParaRPr b="0" lang="en-US" sz="3200" spc="-1" strike="noStrike">
              <a:solidFill>
                <a:srgbClr val="ffffff"/>
              </a:solidFill>
              <a:latin typeface="Arial"/>
            </a:endParaRPr>
          </a:p>
          <a:p>
            <a:pPr marL="743040" indent="-285840">
              <a:lnSpc>
                <a:spcPct val="140000"/>
              </a:lnSpc>
              <a:spcBef>
                <a:spcPts val="479"/>
              </a:spcBef>
            </a:pPr>
            <a:r>
              <a:rPr b="1" lang="en-US" sz="2800" spc="-1" strike="noStrike">
                <a:solidFill>
                  <a:srgbClr val="fcfeb9"/>
                </a:solidFill>
                <a:latin typeface="Arial"/>
                <a:ea typeface="Arial"/>
              </a:rPr>
              <a:t>Oct. 8</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Freight Out Expense</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78</a:t>
            </a:r>
            <a:endParaRPr b="0" lang="en-US" sz="2800" spc="-1" strike="noStrike">
              <a:solidFill>
                <a:srgbClr val="ffffff"/>
              </a:solidFill>
              <a:latin typeface="Arial"/>
            </a:endParaRPr>
          </a:p>
          <a:p>
            <a:pPr marL="743040" indent="-285840">
              <a:lnSpc>
                <a:spcPct val="140000"/>
              </a:lnSpc>
              <a:spcBef>
                <a:spcPts val="479"/>
              </a:spcBef>
            </a:pP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Cash</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78</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07" name=""/>
          <p:cNvSpPr txBox="1"/>
          <p:nvPr/>
        </p:nvSpPr>
        <p:spPr>
          <a:xfrm>
            <a:off x="1523880" y="304920"/>
            <a:ext cx="6834240" cy="1250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Returns of Merchandise Sold on Credit</a:t>
            </a:r>
            <a:endParaRPr b="0" lang="en-US" sz="4400" spc="-1" strike="noStrike">
              <a:solidFill>
                <a:srgbClr val="ffffff"/>
              </a:solidFill>
              <a:latin typeface="Arial"/>
            </a:endParaRPr>
          </a:p>
        </p:txBody>
      </p:sp>
      <p:sp>
        <p:nvSpPr>
          <p:cNvPr id="408" name=""/>
          <p:cNvSpPr txBox="1"/>
          <p:nvPr/>
        </p:nvSpPr>
        <p:spPr>
          <a:xfrm>
            <a:off x="655560" y="1600200"/>
            <a:ext cx="8564400" cy="4635360"/>
          </a:xfrm>
          <a:prstGeom prst="rect">
            <a:avLst/>
          </a:prstGeom>
          <a:noFill/>
          <a:ln w="0">
            <a:noFill/>
          </a:ln>
        </p:spPr>
        <p:txBody>
          <a:bodyPr lIns="0" rIns="0" tIns="0" bIns="0" anchor="t">
            <a:noAutofit/>
          </a:bodyPr>
          <a:p>
            <a:pPr marL="343080" indent="-343080">
              <a:lnSpc>
                <a:spcPct val="120000"/>
              </a:lnSpc>
              <a:spcBef>
                <a:spcPts val="479"/>
              </a:spcBef>
            </a:pPr>
            <a:r>
              <a:rPr b="1" lang="en-US" sz="3200" spc="-1" strike="noStrike">
                <a:solidFill>
                  <a:srgbClr val="fcffd8"/>
                </a:solidFill>
                <a:latin typeface="Arial"/>
                <a:ea typeface="Arial"/>
              </a:rPr>
              <a:t>Periodic inventory system.</a:t>
            </a:r>
            <a:endParaRPr b="0" lang="en-US" sz="3200" spc="-1" strike="noStrike">
              <a:solidFill>
                <a:srgbClr val="ffffff"/>
              </a:solidFill>
              <a:latin typeface="Arial"/>
            </a:endParaRPr>
          </a:p>
          <a:p>
            <a:pPr marL="743040" indent="-285840">
              <a:lnSpc>
                <a:spcPct val="120000"/>
              </a:lnSpc>
              <a:spcBef>
                <a:spcPts val="479"/>
              </a:spcBef>
            </a:pPr>
            <a:r>
              <a:rPr b="1" lang="en-US" sz="2400" spc="-1" strike="noStrike">
                <a:solidFill>
                  <a:srgbClr val="fcfeb9"/>
                </a:solidFill>
                <a:latin typeface="Arial"/>
                <a:ea typeface="Arial"/>
              </a:rPr>
              <a:t>Oct. 9</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Sales Returns and Allowances</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300</a:t>
            </a:r>
            <a:endParaRPr b="0" lang="en-US" sz="2400" spc="-1" strike="noStrike">
              <a:solidFill>
                <a:srgbClr val="ffffff"/>
              </a:solidFill>
              <a:latin typeface="Arial"/>
            </a:endParaRPr>
          </a:p>
          <a:p>
            <a:pPr marL="743040" indent="-285840">
              <a:lnSpc>
                <a:spcPct val="120000"/>
              </a:lnSpc>
              <a:spcBef>
                <a:spcPts val="479"/>
              </a:spcBef>
            </a:pP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Accounts Receivable</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300</a:t>
            </a:r>
            <a:endParaRPr b="0" lang="en-US" sz="2400" spc="-1" strike="noStrike">
              <a:solidFill>
                <a:srgbClr val="ffffff"/>
              </a:solidFill>
              <a:latin typeface="Arial"/>
            </a:endParaRPr>
          </a:p>
          <a:p>
            <a:pPr marL="343080" indent="-343080">
              <a:lnSpc>
                <a:spcPct val="120000"/>
              </a:lnSpc>
              <a:spcBef>
                <a:spcPts val="479"/>
              </a:spcBef>
            </a:pPr>
            <a:r>
              <a:rPr b="1" lang="en-US" sz="3200" spc="-1" strike="noStrike">
                <a:solidFill>
                  <a:srgbClr val="fcffd8"/>
                </a:solidFill>
                <a:latin typeface="Arial"/>
                <a:ea typeface="Arial"/>
              </a:rPr>
              <a:t>Perpetual inventory system.</a:t>
            </a:r>
            <a:endParaRPr b="0" lang="en-US" sz="3200" spc="-1" strike="noStrike">
              <a:solidFill>
                <a:srgbClr val="ffffff"/>
              </a:solidFill>
              <a:latin typeface="Arial"/>
            </a:endParaRPr>
          </a:p>
          <a:p>
            <a:pPr marL="743040" indent="-285840">
              <a:lnSpc>
                <a:spcPct val="120000"/>
              </a:lnSpc>
              <a:spcBef>
                <a:spcPts val="479"/>
              </a:spcBef>
            </a:pPr>
            <a:r>
              <a:rPr b="1" lang="en-US" sz="2400" spc="-1" strike="noStrike">
                <a:solidFill>
                  <a:srgbClr val="fcfeb9"/>
                </a:solidFill>
                <a:latin typeface="Arial"/>
                <a:ea typeface="Arial"/>
              </a:rPr>
              <a:t>Oct. 9</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Sales Returns and Allowances</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300</a:t>
            </a:r>
            <a:endParaRPr b="0" lang="en-US" sz="2400" spc="-1" strike="noStrike">
              <a:solidFill>
                <a:srgbClr val="ffffff"/>
              </a:solidFill>
              <a:latin typeface="Arial"/>
            </a:endParaRPr>
          </a:p>
          <a:p>
            <a:pPr marL="743040" indent="-285840">
              <a:lnSpc>
                <a:spcPct val="120000"/>
              </a:lnSpc>
              <a:spcBef>
                <a:spcPts val="479"/>
              </a:spcBef>
            </a:pP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Accounts Receivable</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300</a:t>
            </a:r>
            <a:endParaRPr b="0" lang="en-US" sz="2400" spc="-1" strike="noStrike">
              <a:solidFill>
                <a:srgbClr val="ffffff"/>
              </a:solidFill>
              <a:latin typeface="Arial"/>
            </a:endParaRPr>
          </a:p>
          <a:p>
            <a:pPr marL="743040" indent="-285840">
              <a:lnSpc>
                <a:spcPct val="120000"/>
              </a:lnSpc>
              <a:spcBef>
                <a:spcPts val="479"/>
              </a:spcBef>
            </a:pP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Merchandise Inventory</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180</a:t>
            </a:r>
            <a:endParaRPr b="0" lang="en-US" sz="2400" spc="-1" strike="noStrike">
              <a:solidFill>
                <a:srgbClr val="ffffff"/>
              </a:solidFill>
              <a:latin typeface="Arial"/>
            </a:endParaRPr>
          </a:p>
          <a:p>
            <a:pPr marL="743040" indent="-285840">
              <a:lnSpc>
                <a:spcPct val="120000"/>
              </a:lnSpc>
              <a:spcBef>
                <a:spcPts val="479"/>
              </a:spcBef>
            </a:pP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Cost of Goods Sold</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180</a:t>
            </a:r>
            <a:r>
              <a:rPr b="1" lang="en-US" sz="2800" spc="-1" strike="noStrike">
                <a:solidFill>
                  <a:srgbClr val="fcfeb9"/>
                </a:solidFill>
                <a:latin typeface="Arial"/>
                <a:ea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09" name=""/>
          <p:cNvSpPr txBox="1"/>
          <p:nvPr/>
        </p:nvSpPr>
        <p:spPr>
          <a:xfrm>
            <a:off x="990720" y="45720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Receipts on Account</a:t>
            </a:r>
            <a:endParaRPr b="0" lang="en-US" sz="4400" spc="-1" strike="noStrike">
              <a:solidFill>
                <a:srgbClr val="ffffff"/>
              </a:solidFill>
              <a:latin typeface="Arial"/>
            </a:endParaRPr>
          </a:p>
        </p:txBody>
      </p:sp>
      <p:sp>
        <p:nvSpPr>
          <p:cNvPr id="410" name=""/>
          <p:cNvSpPr txBox="1"/>
          <p:nvPr/>
        </p:nvSpPr>
        <p:spPr>
          <a:xfrm>
            <a:off x="838080" y="1600200"/>
            <a:ext cx="8153280" cy="4343400"/>
          </a:xfrm>
          <a:prstGeom prst="rect">
            <a:avLst/>
          </a:prstGeom>
          <a:noFill/>
          <a:ln w="0">
            <a:noFill/>
          </a:ln>
        </p:spPr>
        <p:txBody>
          <a:bodyPr lIns="0" rIns="0" tIns="0" bIns="0" anchor="t">
            <a:noAutofit/>
          </a:bodyPr>
          <a:p>
            <a:pPr marL="343080" indent="-343080">
              <a:lnSpc>
                <a:spcPct val="130000"/>
              </a:lnSpc>
              <a:spcBef>
                <a:spcPts val="479"/>
              </a:spcBef>
            </a:pPr>
            <a:r>
              <a:rPr b="1" lang="en-US" sz="3200" spc="-1" strike="noStrike">
                <a:solidFill>
                  <a:srgbClr val="fcffd8"/>
                </a:solidFill>
                <a:latin typeface="Arial"/>
                <a:ea typeface="Arial"/>
              </a:rPr>
              <a:t>Periodic inventory system.</a:t>
            </a:r>
            <a:endParaRPr b="0" lang="en-US" sz="3200" spc="-1" strike="noStrike">
              <a:solidFill>
                <a:srgbClr val="ffffff"/>
              </a:solidFill>
              <a:latin typeface="Arial"/>
            </a:endParaRPr>
          </a:p>
          <a:p>
            <a:pPr marL="743040" indent="-285840">
              <a:lnSpc>
                <a:spcPct val="130000"/>
              </a:lnSpc>
              <a:spcBef>
                <a:spcPts val="479"/>
              </a:spcBef>
            </a:pPr>
            <a:r>
              <a:rPr b="1" lang="en-US" sz="2800" spc="-1" strike="noStrike">
                <a:solidFill>
                  <a:srgbClr val="fcfeb9"/>
                </a:solidFill>
                <a:latin typeface="Arial"/>
                <a:ea typeface="Arial"/>
              </a:rPr>
              <a:t>Nov. 5</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Cash</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900</a:t>
            </a:r>
            <a:endParaRPr b="0" lang="en-US" sz="2800" spc="-1" strike="noStrike">
              <a:solidFill>
                <a:srgbClr val="ffffff"/>
              </a:solidFill>
              <a:latin typeface="Arial"/>
            </a:endParaRPr>
          </a:p>
          <a:p>
            <a:pPr marL="743040" indent="-285840">
              <a:lnSpc>
                <a:spcPct val="130000"/>
              </a:lnSpc>
              <a:spcBef>
                <a:spcPts val="479"/>
              </a:spcBef>
            </a:pP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Accounts Receivable</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900</a:t>
            </a:r>
            <a:endParaRPr b="0" lang="en-US" sz="2800" spc="-1" strike="noStrike">
              <a:solidFill>
                <a:srgbClr val="ffffff"/>
              </a:solidFill>
              <a:latin typeface="Arial"/>
            </a:endParaRPr>
          </a:p>
          <a:p>
            <a:pPr marL="343080" indent="-343080">
              <a:lnSpc>
                <a:spcPct val="130000"/>
              </a:lnSpc>
              <a:spcBef>
                <a:spcPts val="479"/>
              </a:spcBef>
            </a:pPr>
            <a:r>
              <a:rPr b="1" lang="en-US" sz="3200" spc="-1" strike="noStrike">
                <a:solidFill>
                  <a:srgbClr val="fcffd8"/>
                </a:solidFill>
                <a:latin typeface="Arial"/>
                <a:ea typeface="Arial"/>
              </a:rPr>
              <a:t>Perpetual inventory system.</a:t>
            </a:r>
            <a:endParaRPr b="0" lang="en-US" sz="3200" spc="-1" strike="noStrike">
              <a:solidFill>
                <a:srgbClr val="ffffff"/>
              </a:solidFill>
              <a:latin typeface="Arial"/>
            </a:endParaRPr>
          </a:p>
          <a:p>
            <a:pPr marL="743040" indent="-285840">
              <a:lnSpc>
                <a:spcPct val="130000"/>
              </a:lnSpc>
              <a:spcBef>
                <a:spcPts val="479"/>
              </a:spcBef>
            </a:pPr>
            <a:r>
              <a:rPr b="1" lang="en-US" sz="2800" spc="-1" strike="noStrike">
                <a:solidFill>
                  <a:srgbClr val="fcfeb9"/>
                </a:solidFill>
                <a:latin typeface="Arial"/>
                <a:ea typeface="Arial"/>
              </a:rPr>
              <a:t>Nov. 5</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Cash</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900</a:t>
            </a:r>
            <a:endParaRPr b="0" lang="en-US" sz="2800" spc="-1" strike="noStrike">
              <a:solidFill>
                <a:srgbClr val="ffffff"/>
              </a:solidFill>
              <a:latin typeface="Arial"/>
            </a:endParaRPr>
          </a:p>
          <a:p>
            <a:pPr marL="743040" indent="-285840">
              <a:lnSpc>
                <a:spcPct val="130000"/>
              </a:lnSpc>
              <a:spcBef>
                <a:spcPts val="479"/>
              </a:spcBef>
            </a:pP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Accounts Receivable</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90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11" name=""/>
          <p:cNvSpPr txBox="1"/>
          <p:nvPr/>
        </p:nvSpPr>
        <p:spPr>
          <a:xfrm>
            <a:off x="914400" y="45720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Inventory Losses</a:t>
            </a:r>
            <a:endParaRPr b="0" lang="en-US" sz="4400" spc="-1" strike="noStrike">
              <a:solidFill>
                <a:srgbClr val="ffffff"/>
              </a:solidFill>
              <a:latin typeface="Arial"/>
            </a:endParaRPr>
          </a:p>
        </p:txBody>
      </p:sp>
      <p:sp>
        <p:nvSpPr>
          <p:cNvPr id="412" name=""/>
          <p:cNvSpPr txBox="1"/>
          <p:nvPr/>
        </p:nvSpPr>
        <p:spPr>
          <a:xfrm>
            <a:off x="990720" y="1523880"/>
            <a:ext cx="7924680" cy="44197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nventory losses may be a result of spoilage, shoplifting, and employee pilferage.</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Periodic system provides no means of tracking them because the costs are automatically included in the cost of goods sol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13" name=""/>
          <p:cNvSpPr txBox="1"/>
          <p:nvPr/>
        </p:nvSpPr>
        <p:spPr>
          <a:xfrm>
            <a:off x="990720" y="3808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Inventory Losses</a:t>
            </a:r>
            <a:endParaRPr b="0" lang="en-US" sz="4400" spc="-1" strike="noStrike">
              <a:solidFill>
                <a:srgbClr val="ffffff"/>
              </a:solidFill>
              <a:latin typeface="Arial"/>
            </a:endParaRPr>
          </a:p>
        </p:txBody>
      </p:sp>
      <p:sp>
        <p:nvSpPr>
          <p:cNvPr id="414" name=""/>
          <p:cNvSpPr txBox="1"/>
          <p:nvPr/>
        </p:nvSpPr>
        <p:spPr>
          <a:xfrm>
            <a:off x="838080" y="1371600"/>
            <a:ext cx="8077320" cy="487692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2800" spc="-1" strike="noStrike">
                <a:solidFill>
                  <a:srgbClr val="fcffd8"/>
                </a:solidFill>
                <a:latin typeface="Arial"/>
                <a:ea typeface="Arial"/>
              </a:rPr>
              <a:t>Perpetual system makes it easier to identify such losses since the Merchandise Inventory account is continuously updated and losses will be detected when the physical inventory is taken.</a:t>
            </a:r>
            <a:endParaRPr b="0" lang="en-US" sz="2800" spc="-1" strike="noStrike">
              <a:solidFill>
                <a:srgbClr val="ffffff"/>
              </a:solidFill>
              <a:latin typeface="Arial"/>
            </a:endParaRPr>
          </a:p>
          <a:p>
            <a:pPr marL="343080" indent="-343080">
              <a:lnSpc>
                <a:spcPct val="120000"/>
              </a:lnSpc>
              <a:spcBef>
                <a:spcPts val="479"/>
              </a:spcBef>
              <a:buClr>
                <a:srgbClr val="ffcc66"/>
              </a:buClr>
              <a:buFont typeface="Monotype Sorts"/>
              <a:buChar char=""/>
            </a:pPr>
            <a:r>
              <a:rPr b="1" lang="en-US" sz="2800" spc="-1" strike="noStrike">
                <a:solidFill>
                  <a:srgbClr val="fcffd8"/>
                </a:solidFill>
                <a:latin typeface="Arial"/>
                <a:ea typeface="Arial"/>
              </a:rPr>
              <a:t>When losses are detected the ending inventory is updated by crediting the Merchandise Inventory account and the debit is usually to Cost of Goods Sol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15" name=""/>
          <p:cNvSpPr txBox="1"/>
          <p:nvPr/>
        </p:nvSpPr>
        <p:spPr>
          <a:xfrm>
            <a:off x="3124080" y="838080"/>
            <a:ext cx="4267080" cy="9144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sp>
        <p:nvSpPr>
          <p:cNvPr id="416" name=""/>
          <p:cNvSpPr txBox="1"/>
          <p:nvPr/>
        </p:nvSpPr>
        <p:spPr>
          <a:xfrm>
            <a:off x="762120" y="1981080"/>
            <a:ext cx="8077320" cy="4343400"/>
          </a:xfrm>
          <a:prstGeom prst="rect">
            <a:avLst/>
          </a:prstGeom>
          <a:noFill/>
          <a:ln w="0">
            <a:noFill/>
          </a:ln>
        </p:spPr>
        <p:txBody>
          <a:bodyPr lIns="0" rIns="0" tIns="0" bIns="0" anchor="t">
            <a:noAutofit/>
          </a:bodyPr>
          <a:p>
            <a:pPr marL="343080" indent="-343080">
              <a:lnSpc>
                <a:spcPct val="100000"/>
              </a:lnSpc>
              <a:spcBef>
                <a:spcPts val="479"/>
              </a:spcBef>
            </a:pPr>
            <a:r>
              <a:rPr b="1" lang="en-US" sz="2800" spc="-1" strike="noStrike">
                <a:solidFill>
                  <a:srgbClr val="fc0128"/>
                </a:solidFill>
                <a:latin typeface="Arial"/>
                <a:ea typeface="Arial"/>
              </a:rPr>
              <a:t>Q.</a:t>
            </a:r>
            <a:r>
              <a:rPr b="1" lang="en-US" sz="2800" spc="-1" strike="noStrike">
                <a:solidFill>
                  <a:srgbClr val="fc0128"/>
                </a:solidFill>
                <a:latin typeface="Arial"/>
                <a:ea typeface="Arial"/>
              </a:rPr>
              <a:t>	</a:t>
            </a:r>
            <a:r>
              <a:rPr b="1" lang="en-US" sz="2800" spc="-1" strike="noStrike">
                <a:solidFill>
                  <a:srgbClr val="fcffd8"/>
                </a:solidFill>
                <a:latin typeface="Arial"/>
                <a:ea typeface="Arial"/>
              </a:rPr>
              <a:t>What is the difference between a trade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discount and a sales discount?</a:t>
            </a:r>
            <a:endParaRPr b="0" lang="en-US" sz="2800" spc="-1" strike="noStrike">
              <a:solidFill>
                <a:srgbClr val="ffffff"/>
              </a:solidFill>
              <a:latin typeface="Arial"/>
            </a:endParaRPr>
          </a:p>
          <a:p>
            <a:pPr marL="343080" indent="-343080">
              <a:lnSpc>
                <a:spcPct val="100000"/>
              </a:lnSpc>
              <a:spcBef>
                <a:spcPts val="479"/>
              </a:spcBef>
            </a:pPr>
            <a:r>
              <a:rPr b="1" lang="en-US" sz="2800" spc="-1" strike="noStrike">
                <a:solidFill>
                  <a:srgbClr val="fc0128"/>
                </a:solidFill>
                <a:latin typeface="Arial"/>
                <a:ea typeface="Arial"/>
              </a:rPr>
              <a:t>A.</a:t>
            </a:r>
            <a:r>
              <a:rPr b="1" lang="en-US" sz="2800" spc="-1" strike="noStrike">
                <a:solidFill>
                  <a:srgbClr val="fc0128"/>
                </a:solidFill>
                <a:latin typeface="Arial"/>
                <a:ea typeface="Arial"/>
              </a:rPr>
              <a:t>	</a:t>
            </a:r>
            <a:r>
              <a:rPr b="1" lang="en-US" sz="2800" spc="-1" strike="noStrike">
                <a:solidFill>
                  <a:srgbClr val="fcffd8"/>
                </a:solidFill>
                <a:latin typeface="Arial"/>
                <a:ea typeface="Arial"/>
              </a:rPr>
              <a:t>When manufacturers and wholesalers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quote prices of merchandise at a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discount (usually 30% or more) off a lis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price printed in a catalogue, the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discounts are called trade discounts.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Small discounts given for early paymen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for purchases of merchandise are called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sales discounts.</a:t>
            </a:r>
            <a:endParaRPr b="0" lang="en-US" sz="2800" spc="-1" strike="noStrike">
              <a:solidFill>
                <a:srgbClr val="ffffff"/>
              </a:solidFill>
              <a:latin typeface="Arial"/>
            </a:endParaRPr>
          </a:p>
        </p:txBody>
      </p:sp>
      <p:grpSp>
        <p:nvGrpSpPr>
          <p:cNvPr id="417" name=""/>
          <p:cNvGrpSpPr/>
          <p:nvPr/>
        </p:nvGrpSpPr>
        <p:grpSpPr>
          <a:xfrm>
            <a:off x="838080" y="228600"/>
            <a:ext cx="1675440" cy="1751400"/>
            <a:chOff x="838080" y="228600"/>
            <a:chExt cx="1675440" cy="1751400"/>
          </a:xfrm>
        </p:grpSpPr>
        <p:sp>
          <p:nvSpPr>
            <p:cNvPr id="418" name=""/>
            <p:cNvSpPr/>
            <p:nvPr/>
          </p:nvSpPr>
          <p:spPr>
            <a:xfrm>
              <a:off x="843120" y="1087560"/>
              <a:ext cx="406800" cy="613080"/>
            </a:xfrm>
            <a:custGeom>
              <a:avLst/>
              <a:gdLst/>
              <a:ahLst/>
              <a:rect l="0" t="0" r="r" b="b"/>
              <a:pathLst>
                <a:path w="1130" h="1703">
                  <a:moveTo>
                    <a:pt x="455" y="0"/>
                  </a:moveTo>
                  <a:lnTo>
                    <a:pt x="393" y="74"/>
                  </a:lnTo>
                  <a:lnTo>
                    <a:pt x="393" y="295"/>
                  </a:lnTo>
                  <a:lnTo>
                    <a:pt x="455" y="458"/>
                  </a:lnTo>
                  <a:lnTo>
                    <a:pt x="521" y="537"/>
                  </a:lnTo>
                  <a:lnTo>
                    <a:pt x="419" y="648"/>
                  </a:lnTo>
                  <a:lnTo>
                    <a:pt x="283" y="896"/>
                  </a:lnTo>
                  <a:lnTo>
                    <a:pt x="22" y="1288"/>
                  </a:lnTo>
                  <a:lnTo>
                    <a:pt x="0" y="1381"/>
                  </a:lnTo>
                  <a:lnTo>
                    <a:pt x="22" y="1460"/>
                  </a:lnTo>
                  <a:lnTo>
                    <a:pt x="105" y="1460"/>
                  </a:lnTo>
                  <a:lnTo>
                    <a:pt x="171" y="1368"/>
                  </a:lnTo>
                  <a:lnTo>
                    <a:pt x="283" y="1147"/>
                  </a:lnTo>
                  <a:lnTo>
                    <a:pt x="349" y="1054"/>
                  </a:lnTo>
                  <a:lnTo>
                    <a:pt x="393" y="1200"/>
                  </a:lnTo>
                  <a:lnTo>
                    <a:pt x="362" y="1354"/>
                  </a:lnTo>
                  <a:lnTo>
                    <a:pt x="251" y="1579"/>
                  </a:lnTo>
                  <a:lnTo>
                    <a:pt x="283" y="1632"/>
                  </a:lnTo>
                  <a:lnTo>
                    <a:pt x="349" y="1619"/>
                  </a:lnTo>
                  <a:lnTo>
                    <a:pt x="490" y="1500"/>
                  </a:lnTo>
                  <a:lnTo>
                    <a:pt x="600" y="1301"/>
                  </a:lnTo>
                  <a:lnTo>
                    <a:pt x="600" y="1645"/>
                  </a:lnTo>
                  <a:lnTo>
                    <a:pt x="737" y="1703"/>
                  </a:lnTo>
                  <a:lnTo>
                    <a:pt x="816" y="1491"/>
                  </a:lnTo>
                  <a:lnTo>
                    <a:pt x="888" y="1689"/>
                  </a:lnTo>
                  <a:lnTo>
                    <a:pt x="941" y="1632"/>
                  </a:lnTo>
                  <a:lnTo>
                    <a:pt x="967" y="1235"/>
                  </a:lnTo>
                  <a:lnTo>
                    <a:pt x="1130" y="865"/>
                  </a:lnTo>
                  <a:lnTo>
                    <a:pt x="1095" y="648"/>
                  </a:lnTo>
                  <a:lnTo>
                    <a:pt x="980" y="568"/>
                  </a:lnTo>
                  <a:lnTo>
                    <a:pt x="857" y="577"/>
                  </a:lnTo>
                  <a:lnTo>
                    <a:pt x="816" y="401"/>
                  </a:lnTo>
                  <a:lnTo>
                    <a:pt x="693" y="366"/>
                  </a:lnTo>
                  <a:lnTo>
                    <a:pt x="583" y="308"/>
                  </a:lnTo>
                  <a:lnTo>
                    <a:pt x="521" y="39"/>
                  </a:lnTo>
                  <a:lnTo>
                    <a:pt x="455"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419" name=""/>
            <p:cNvSpPr/>
            <p:nvPr/>
          </p:nvSpPr>
          <p:spPr>
            <a:xfrm>
              <a:off x="1184400" y="1336680"/>
              <a:ext cx="119520" cy="295560"/>
            </a:xfrm>
            <a:custGeom>
              <a:avLst/>
              <a:gdLst/>
              <a:ahLst/>
              <a:rect l="0" t="0" r="r" b="b"/>
              <a:pathLst>
                <a:path w="332" h="821">
                  <a:moveTo>
                    <a:pt x="168" y="0"/>
                  </a:moveTo>
                  <a:lnTo>
                    <a:pt x="332" y="211"/>
                  </a:lnTo>
                  <a:lnTo>
                    <a:pt x="253" y="675"/>
                  </a:lnTo>
                  <a:lnTo>
                    <a:pt x="0" y="821"/>
                  </a:lnTo>
                  <a:lnTo>
                    <a:pt x="0" y="587"/>
                  </a:lnTo>
                  <a:lnTo>
                    <a:pt x="102" y="348"/>
                  </a:lnTo>
                  <a:lnTo>
                    <a:pt x="168" y="171"/>
                  </a:lnTo>
                  <a:lnTo>
                    <a:pt x="168"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0" name=""/>
            <p:cNvSpPr/>
            <p:nvPr/>
          </p:nvSpPr>
          <p:spPr>
            <a:xfrm>
              <a:off x="1963800" y="1166760"/>
              <a:ext cx="300240" cy="267120"/>
            </a:xfrm>
            <a:custGeom>
              <a:avLst/>
              <a:gdLst/>
              <a:ahLst/>
              <a:rect l="0" t="0" r="r" b="b"/>
              <a:pathLst>
                <a:path w="834" h="742">
                  <a:moveTo>
                    <a:pt x="343" y="0"/>
                  </a:moveTo>
                  <a:lnTo>
                    <a:pt x="343" y="119"/>
                  </a:lnTo>
                  <a:lnTo>
                    <a:pt x="374" y="225"/>
                  </a:lnTo>
                  <a:lnTo>
                    <a:pt x="534" y="402"/>
                  </a:lnTo>
                  <a:lnTo>
                    <a:pt x="834" y="503"/>
                  </a:lnTo>
                  <a:lnTo>
                    <a:pt x="794" y="729"/>
                  </a:lnTo>
                  <a:lnTo>
                    <a:pt x="534" y="742"/>
                  </a:lnTo>
                  <a:lnTo>
                    <a:pt x="158" y="584"/>
                  </a:lnTo>
                  <a:lnTo>
                    <a:pt x="0" y="296"/>
                  </a:lnTo>
                  <a:lnTo>
                    <a:pt x="189" y="13"/>
                  </a:lnTo>
                  <a:lnTo>
                    <a:pt x="343"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1" name=""/>
            <p:cNvSpPr/>
            <p:nvPr/>
          </p:nvSpPr>
          <p:spPr>
            <a:xfrm>
              <a:off x="2084400" y="863640"/>
              <a:ext cx="419400" cy="589320"/>
            </a:xfrm>
            <a:custGeom>
              <a:avLst/>
              <a:gdLst/>
              <a:ahLst/>
              <a:rect l="0" t="0" r="r" b="b"/>
              <a:pathLst>
                <a:path w="1165" h="1637">
                  <a:moveTo>
                    <a:pt x="105" y="692"/>
                  </a:moveTo>
                  <a:lnTo>
                    <a:pt x="0" y="811"/>
                  </a:lnTo>
                  <a:lnTo>
                    <a:pt x="22" y="1076"/>
                  </a:lnTo>
                  <a:lnTo>
                    <a:pt x="185" y="1200"/>
                  </a:lnTo>
                  <a:lnTo>
                    <a:pt x="198" y="1606"/>
                  </a:lnTo>
                  <a:lnTo>
                    <a:pt x="361" y="1606"/>
                  </a:lnTo>
                  <a:lnTo>
                    <a:pt x="348" y="1266"/>
                  </a:lnTo>
                  <a:lnTo>
                    <a:pt x="471" y="1623"/>
                  </a:lnTo>
                  <a:lnTo>
                    <a:pt x="555" y="1637"/>
                  </a:lnTo>
                  <a:lnTo>
                    <a:pt x="613" y="1517"/>
                  </a:lnTo>
                  <a:lnTo>
                    <a:pt x="627" y="1293"/>
                  </a:lnTo>
                  <a:lnTo>
                    <a:pt x="803" y="1504"/>
                  </a:lnTo>
                  <a:lnTo>
                    <a:pt x="874" y="1487"/>
                  </a:lnTo>
                  <a:lnTo>
                    <a:pt x="856" y="1341"/>
                  </a:lnTo>
                  <a:lnTo>
                    <a:pt x="790" y="1134"/>
                  </a:lnTo>
                  <a:lnTo>
                    <a:pt x="719" y="997"/>
                  </a:lnTo>
                  <a:lnTo>
                    <a:pt x="746" y="904"/>
                  </a:lnTo>
                  <a:lnTo>
                    <a:pt x="790" y="922"/>
                  </a:lnTo>
                  <a:lnTo>
                    <a:pt x="953" y="1134"/>
                  </a:lnTo>
                  <a:lnTo>
                    <a:pt x="1129" y="1187"/>
                  </a:lnTo>
                  <a:lnTo>
                    <a:pt x="1165" y="1121"/>
                  </a:lnTo>
                  <a:lnTo>
                    <a:pt x="1143" y="1010"/>
                  </a:lnTo>
                  <a:lnTo>
                    <a:pt x="816" y="679"/>
                  </a:lnTo>
                  <a:lnTo>
                    <a:pt x="555" y="577"/>
                  </a:lnTo>
                  <a:lnTo>
                    <a:pt x="520" y="392"/>
                  </a:lnTo>
                  <a:lnTo>
                    <a:pt x="613" y="229"/>
                  </a:lnTo>
                  <a:lnTo>
                    <a:pt x="613" y="52"/>
                  </a:lnTo>
                  <a:lnTo>
                    <a:pt x="537" y="0"/>
                  </a:lnTo>
                  <a:lnTo>
                    <a:pt x="348" y="440"/>
                  </a:lnTo>
                  <a:lnTo>
                    <a:pt x="185" y="511"/>
                  </a:lnTo>
                  <a:lnTo>
                    <a:pt x="141" y="630"/>
                  </a:lnTo>
                  <a:lnTo>
                    <a:pt x="105" y="692"/>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422" name=""/>
            <p:cNvSpPr/>
            <p:nvPr/>
          </p:nvSpPr>
          <p:spPr>
            <a:xfrm>
              <a:off x="1397160" y="352440"/>
              <a:ext cx="456120" cy="752760"/>
            </a:xfrm>
            <a:custGeom>
              <a:avLst/>
              <a:gdLst/>
              <a:ahLst/>
              <a:rect l="0" t="0" r="r" b="b"/>
              <a:pathLst>
                <a:path w="1267" h="2091">
                  <a:moveTo>
                    <a:pt x="318" y="291"/>
                  </a:moveTo>
                  <a:lnTo>
                    <a:pt x="220" y="692"/>
                  </a:lnTo>
                  <a:lnTo>
                    <a:pt x="13" y="771"/>
                  </a:lnTo>
                  <a:lnTo>
                    <a:pt x="70" y="895"/>
                  </a:lnTo>
                  <a:lnTo>
                    <a:pt x="0" y="974"/>
                  </a:lnTo>
                  <a:lnTo>
                    <a:pt x="0" y="1125"/>
                  </a:lnTo>
                  <a:lnTo>
                    <a:pt x="101" y="1253"/>
                  </a:lnTo>
                  <a:lnTo>
                    <a:pt x="198" y="1253"/>
                  </a:lnTo>
                  <a:lnTo>
                    <a:pt x="264" y="1720"/>
                  </a:lnTo>
                  <a:lnTo>
                    <a:pt x="344" y="1919"/>
                  </a:lnTo>
                  <a:lnTo>
                    <a:pt x="605" y="2091"/>
                  </a:lnTo>
                  <a:lnTo>
                    <a:pt x="860" y="2064"/>
                  </a:lnTo>
                  <a:lnTo>
                    <a:pt x="985" y="1720"/>
                  </a:lnTo>
                  <a:lnTo>
                    <a:pt x="1016" y="1191"/>
                  </a:lnTo>
                  <a:lnTo>
                    <a:pt x="1267" y="926"/>
                  </a:lnTo>
                  <a:lnTo>
                    <a:pt x="1254" y="820"/>
                  </a:lnTo>
                  <a:lnTo>
                    <a:pt x="1227" y="771"/>
                  </a:lnTo>
                  <a:lnTo>
                    <a:pt x="1095" y="758"/>
                  </a:lnTo>
                  <a:lnTo>
                    <a:pt x="1135" y="621"/>
                  </a:lnTo>
                  <a:lnTo>
                    <a:pt x="1003" y="529"/>
                  </a:lnTo>
                  <a:lnTo>
                    <a:pt x="944" y="229"/>
                  </a:lnTo>
                  <a:lnTo>
                    <a:pt x="552" y="0"/>
                  </a:lnTo>
                  <a:lnTo>
                    <a:pt x="344" y="216"/>
                  </a:lnTo>
                  <a:lnTo>
                    <a:pt x="318" y="291"/>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423" name=""/>
            <p:cNvSpPr/>
            <p:nvPr/>
          </p:nvSpPr>
          <p:spPr>
            <a:xfrm>
              <a:off x="1428840" y="981000"/>
              <a:ext cx="419400" cy="898920"/>
            </a:xfrm>
            <a:custGeom>
              <a:avLst/>
              <a:gdLst/>
              <a:ahLst/>
              <a:rect l="0" t="0" r="r" b="b"/>
              <a:pathLst>
                <a:path w="1165" h="2497">
                  <a:moveTo>
                    <a:pt x="238" y="132"/>
                  </a:moveTo>
                  <a:lnTo>
                    <a:pt x="405" y="251"/>
                  </a:lnTo>
                  <a:lnTo>
                    <a:pt x="485" y="383"/>
                  </a:lnTo>
                  <a:lnTo>
                    <a:pt x="953" y="0"/>
                  </a:lnTo>
                  <a:lnTo>
                    <a:pt x="1099" y="79"/>
                  </a:lnTo>
                  <a:lnTo>
                    <a:pt x="1165" y="471"/>
                  </a:lnTo>
                  <a:lnTo>
                    <a:pt x="830" y="1623"/>
                  </a:lnTo>
                  <a:lnTo>
                    <a:pt x="935" y="2259"/>
                  </a:lnTo>
                  <a:lnTo>
                    <a:pt x="498" y="2497"/>
                  </a:lnTo>
                  <a:lnTo>
                    <a:pt x="154" y="2361"/>
                  </a:lnTo>
                  <a:lnTo>
                    <a:pt x="154" y="1689"/>
                  </a:lnTo>
                  <a:lnTo>
                    <a:pt x="0" y="1037"/>
                  </a:lnTo>
                  <a:lnTo>
                    <a:pt x="154" y="251"/>
                  </a:lnTo>
                  <a:lnTo>
                    <a:pt x="238" y="132"/>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4" name=""/>
            <p:cNvSpPr/>
            <p:nvPr/>
          </p:nvSpPr>
          <p:spPr>
            <a:xfrm>
              <a:off x="1447920" y="252360"/>
              <a:ext cx="390960" cy="238320"/>
            </a:xfrm>
            <a:custGeom>
              <a:avLst/>
              <a:gdLst/>
              <a:ahLst/>
              <a:rect l="0" t="0" r="r" b="b"/>
              <a:pathLst>
                <a:path w="1086" h="662">
                  <a:moveTo>
                    <a:pt x="132" y="631"/>
                  </a:moveTo>
                  <a:lnTo>
                    <a:pt x="292" y="455"/>
                  </a:lnTo>
                  <a:lnTo>
                    <a:pt x="397" y="428"/>
                  </a:lnTo>
                  <a:lnTo>
                    <a:pt x="397" y="446"/>
                  </a:lnTo>
                  <a:lnTo>
                    <a:pt x="446" y="428"/>
                  </a:lnTo>
                  <a:lnTo>
                    <a:pt x="512" y="481"/>
                  </a:lnTo>
                  <a:lnTo>
                    <a:pt x="640" y="508"/>
                  </a:lnTo>
                  <a:lnTo>
                    <a:pt x="746" y="662"/>
                  </a:lnTo>
                  <a:lnTo>
                    <a:pt x="914" y="596"/>
                  </a:lnTo>
                  <a:lnTo>
                    <a:pt x="914" y="525"/>
                  </a:lnTo>
                  <a:lnTo>
                    <a:pt x="1086" y="446"/>
                  </a:lnTo>
                  <a:lnTo>
                    <a:pt x="1038" y="321"/>
                  </a:lnTo>
                  <a:lnTo>
                    <a:pt x="875" y="308"/>
                  </a:lnTo>
                  <a:lnTo>
                    <a:pt x="901" y="171"/>
                  </a:lnTo>
                  <a:lnTo>
                    <a:pt x="763" y="189"/>
                  </a:lnTo>
                  <a:lnTo>
                    <a:pt x="737" y="92"/>
                  </a:lnTo>
                  <a:lnTo>
                    <a:pt x="640" y="92"/>
                  </a:lnTo>
                  <a:lnTo>
                    <a:pt x="574" y="145"/>
                  </a:lnTo>
                  <a:lnTo>
                    <a:pt x="512" y="145"/>
                  </a:lnTo>
                  <a:lnTo>
                    <a:pt x="525" y="0"/>
                  </a:lnTo>
                  <a:lnTo>
                    <a:pt x="397" y="66"/>
                  </a:lnTo>
                  <a:lnTo>
                    <a:pt x="211" y="308"/>
                  </a:lnTo>
                  <a:lnTo>
                    <a:pt x="202" y="145"/>
                  </a:lnTo>
                  <a:lnTo>
                    <a:pt x="110" y="224"/>
                  </a:lnTo>
                  <a:lnTo>
                    <a:pt x="83" y="428"/>
                  </a:lnTo>
                  <a:lnTo>
                    <a:pt x="0" y="393"/>
                  </a:lnTo>
                  <a:lnTo>
                    <a:pt x="13" y="525"/>
                  </a:lnTo>
                  <a:lnTo>
                    <a:pt x="132" y="631"/>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5" name=""/>
            <p:cNvSpPr/>
            <p:nvPr/>
          </p:nvSpPr>
          <p:spPr>
            <a:xfrm>
              <a:off x="1552680" y="1147680"/>
              <a:ext cx="125640" cy="679680"/>
            </a:xfrm>
            <a:custGeom>
              <a:avLst/>
              <a:gdLst/>
              <a:ahLst/>
              <a:rect l="0" t="0" r="r" b="b"/>
              <a:pathLst>
                <a:path w="349" h="1888">
                  <a:moveTo>
                    <a:pt x="181" y="13"/>
                  </a:moveTo>
                  <a:lnTo>
                    <a:pt x="61" y="92"/>
                  </a:lnTo>
                  <a:lnTo>
                    <a:pt x="61" y="251"/>
                  </a:lnTo>
                  <a:lnTo>
                    <a:pt x="145" y="304"/>
                  </a:lnTo>
                  <a:lnTo>
                    <a:pt x="30" y="555"/>
                  </a:lnTo>
                  <a:lnTo>
                    <a:pt x="0" y="886"/>
                  </a:lnTo>
                  <a:lnTo>
                    <a:pt x="88" y="1323"/>
                  </a:lnTo>
                  <a:lnTo>
                    <a:pt x="88" y="1504"/>
                  </a:lnTo>
                  <a:lnTo>
                    <a:pt x="39" y="1645"/>
                  </a:lnTo>
                  <a:lnTo>
                    <a:pt x="221" y="1888"/>
                  </a:lnTo>
                  <a:lnTo>
                    <a:pt x="336" y="1522"/>
                  </a:lnTo>
                  <a:lnTo>
                    <a:pt x="336" y="1271"/>
                  </a:lnTo>
                  <a:lnTo>
                    <a:pt x="252" y="1032"/>
                  </a:lnTo>
                  <a:lnTo>
                    <a:pt x="208" y="714"/>
                  </a:lnTo>
                  <a:lnTo>
                    <a:pt x="296" y="401"/>
                  </a:lnTo>
                  <a:lnTo>
                    <a:pt x="265" y="277"/>
                  </a:lnTo>
                  <a:lnTo>
                    <a:pt x="349" y="216"/>
                  </a:lnTo>
                  <a:lnTo>
                    <a:pt x="336" y="132"/>
                  </a:lnTo>
                  <a:lnTo>
                    <a:pt x="234" y="0"/>
                  </a:lnTo>
                  <a:lnTo>
                    <a:pt x="181"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6" name=""/>
            <p:cNvSpPr/>
            <p:nvPr/>
          </p:nvSpPr>
          <p:spPr>
            <a:xfrm>
              <a:off x="1549440" y="919080"/>
              <a:ext cx="100440" cy="62280"/>
            </a:xfrm>
            <a:custGeom>
              <a:avLst/>
              <a:gdLst/>
              <a:ahLst/>
              <a:rect l="0" t="0" r="r" b="b"/>
              <a:pathLst>
                <a:path w="279" h="173">
                  <a:moveTo>
                    <a:pt x="0" y="53"/>
                  </a:moveTo>
                  <a:lnTo>
                    <a:pt x="111" y="173"/>
                  </a:lnTo>
                  <a:lnTo>
                    <a:pt x="222" y="160"/>
                  </a:lnTo>
                  <a:lnTo>
                    <a:pt x="279" y="13"/>
                  </a:lnTo>
                  <a:lnTo>
                    <a:pt x="155" y="0"/>
                  </a:lnTo>
                  <a:lnTo>
                    <a:pt x="26" y="13"/>
                  </a:lnTo>
                  <a:lnTo>
                    <a:pt x="0" y="53"/>
                  </a:lnTo>
                  <a:close/>
                </a:path>
              </a:pathLst>
            </a:custGeom>
            <a:solidFill>
              <a:srgbClr val="ffffff"/>
            </a:solidFill>
            <a:ln w="12600">
              <a:solidFill>
                <a:srgbClr val="ffffff"/>
              </a:solidFill>
              <a:round/>
            </a:ln>
          </p:spPr>
          <p:txBody>
            <a:bodyPr lIns="96120" rIns="96120" tIns="11160" bIns="11160" anchor="t">
              <a:noAutofit/>
            </a:bodyPr>
            <a:p>
              <a:endParaRPr b="0" lang="en-US" sz="1800" spc="-1" strike="noStrike">
                <a:solidFill>
                  <a:srgbClr val="000000"/>
                </a:solidFill>
                <a:latin typeface="Arial"/>
              </a:endParaRPr>
            </a:p>
          </p:txBody>
        </p:sp>
        <p:sp>
          <p:nvSpPr>
            <p:cNvPr id="427" name=""/>
            <p:cNvSpPr/>
            <p:nvPr/>
          </p:nvSpPr>
          <p:spPr>
            <a:xfrm>
              <a:off x="1438200" y="604800"/>
              <a:ext cx="125640" cy="133560"/>
            </a:xfrm>
            <a:custGeom>
              <a:avLst/>
              <a:gdLst/>
              <a:ahLst/>
              <a:rect l="0" t="0" r="r" b="b"/>
              <a:pathLst>
                <a:path w="349" h="371">
                  <a:moveTo>
                    <a:pt x="0" y="39"/>
                  </a:moveTo>
                  <a:lnTo>
                    <a:pt x="243" y="371"/>
                  </a:lnTo>
                  <a:lnTo>
                    <a:pt x="349" y="344"/>
                  </a:lnTo>
                  <a:lnTo>
                    <a:pt x="97" y="0"/>
                  </a:lnTo>
                  <a:lnTo>
                    <a:pt x="0" y="39"/>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8" name=""/>
            <p:cNvSpPr/>
            <p:nvPr/>
          </p:nvSpPr>
          <p:spPr>
            <a:xfrm>
              <a:off x="1658880" y="577800"/>
              <a:ext cx="106560" cy="132120"/>
            </a:xfrm>
            <a:custGeom>
              <a:avLst/>
              <a:gdLst/>
              <a:ahLst/>
              <a:rect l="0" t="0" r="r" b="b"/>
              <a:pathLst>
                <a:path w="296" h="367">
                  <a:moveTo>
                    <a:pt x="0" y="52"/>
                  </a:moveTo>
                  <a:lnTo>
                    <a:pt x="208" y="367"/>
                  </a:lnTo>
                  <a:lnTo>
                    <a:pt x="296" y="283"/>
                  </a:lnTo>
                  <a:lnTo>
                    <a:pt x="83" y="0"/>
                  </a:lnTo>
                  <a:lnTo>
                    <a:pt x="0" y="5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9" name=""/>
            <p:cNvSpPr/>
            <p:nvPr/>
          </p:nvSpPr>
          <p:spPr>
            <a:xfrm>
              <a:off x="1392120" y="406440"/>
              <a:ext cx="437040" cy="332280"/>
            </a:xfrm>
            <a:custGeom>
              <a:avLst/>
              <a:gdLst/>
              <a:ahLst/>
              <a:rect l="0" t="0" r="r" b="b"/>
              <a:pathLst>
                <a:path w="1214" h="923">
                  <a:moveTo>
                    <a:pt x="556" y="547"/>
                  </a:moveTo>
                  <a:lnTo>
                    <a:pt x="446" y="512"/>
                  </a:lnTo>
                  <a:lnTo>
                    <a:pt x="543" y="433"/>
                  </a:lnTo>
                  <a:lnTo>
                    <a:pt x="508" y="389"/>
                  </a:lnTo>
                  <a:lnTo>
                    <a:pt x="384" y="494"/>
                  </a:lnTo>
                  <a:lnTo>
                    <a:pt x="154" y="521"/>
                  </a:lnTo>
                  <a:lnTo>
                    <a:pt x="0" y="530"/>
                  </a:lnTo>
                  <a:lnTo>
                    <a:pt x="0" y="658"/>
                  </a:lnTo>
                  <a:lnTo>
                    <a:pt x="145" y="914"/>
                  </a:lnTo>
                  <a:lnTo>
                    <a:pt x="180" y="923"/>
                  </a:lnTo>
                  <a:lnTo>
                    <a:pt x="52" y="640"/>
                  </a:lnTo>
                  <a:lnTo>
                    <a:pt x="251" y="547"/>
                  </a:lnTo>
                  <a:lnTo>
                    <a:pt x="384" y="547"/>
                  </a:lnTo>
                  <a:lnTo>
                    <a:pt x="481" y="605"/>
                  </a:lnTo>
                  <a:lnTo>
                    <a:pt x="508" y="684"/>
                  </a:lnTo>
                  <a:lnTo>
                    <a:pt x="508" y="861"/>
                  </a:lnTo>
                  <a:lnTo>
                    <a:pt x="508" y="914"/>
                  </a:lnTo>
                  <a:lnTo>
                    <a:pt x="565" y="835"/>
                  </a:lnTo>
                  <a:lnTo>
                    <a:pt x="565" y="649"/>
                  </a:lnTo>
                  <a:lnTo>
                    <a:pt x="649" y="649"/>
                  </a:lnTo>
                  <a:lnTo>
                    <a:pt x="693" y="861"/>
                  </a:lnTo>
                  <a:lnTo>
                    <a:pt x="741" y="879"/>
                  </a:lnTo>
                  <a:lnTo>
                    <a:pt x="887" y="879"/>
                  </a:lnTo>
                  <a:lnTo>
                    <a:pt x="1038" y="839"/>
                  </a:lnTo>
                  <a:lnTo>
                    <a:pt x="1144" y="764"/>
                  </a:lnTo>
                  <a:lnTo>
                    <a:pt x="1157" y="574"/>
                  </a:lnTo>
                  <a:lnTo>
                    <a:pt x="1214" y="494"/>
                  </a:lnTo>
                  <a:lnTo>
                    <a:pt x="1179" y="446"/>
                  </a:lnTo>
                  <a:lnTo>
                    <a:pt x="1047" y="393"/>
                  </a:lnTo>
                  <a:lnTo>
                    <a:pt x="1025" y="207"/>
                  </a:lnTo>
                  <a:lnTo>
                    <a:pt x="896" y="207"/>
                  </a:lnTo>
                  <a:lnTo>
                    <a:pt x="746" y="0"/>
                  </a:lnTo>
                  <a:lnTo>
                    <a:pt x="882" y="229"/>
                  </a:lnTo>
                  <a:lnTo>
                    <a:pt x="928" y="229"/>
                  </a:lnTo>
                  <a:lnTo>
                    <a:pt x="958" y="389"/>
                  </a:lnTo>
                  <a:lnTo>
                    <a:pt x="785" y="446"/>
                  </a:lnTo>
                  <a:lnTo>
                    <a:pt x="662" y="402"/>
                  </a:lnTo>
                  <a:lnTo>
                    <a:pt x="640" y="446"/>
                  </a:lnTo>
                  <a:lnTo>
                    <a:pt x="706" y="494"/>
                  </a:lnTo>
                  <a:lnTo>
                    <a:pt x="706" y="538"/>
                  </a:lnTo>
                  <a:lnTo>
                    <a:pt x="856" y="468"/>
                  </a:lnTo>
                  <a:lnTo>
                    <a:pt x="976" y="459"/>
                  </a:lnTo>
                  <a:lnTo>
                    <a:pt x="1113" y="477"/>
                  </a:lnTo>
                  <a:lnTo>
                    <a:pt x="1113" y="503"/>
                  </a:lnTo>
                  <a:lnTo>
                    <a:pt x="1051" y="565"/>
                  </a:lnTo>
                  <a:lnTo>
                    <a:pt x="1025" y="649"/>
                  </a:lnTo>
                  <a:lnTo>
                    <a:pt x="1016" y="764"/>
                  </a:lnTo>
                  <a:lnTo>
                    <a:pt x="936" y="808"/>
                  </a:lnTo>
                  <a:lnTo>
                    <a:pt x="821" y="822"/>
                  </a:lnTo>
                  <a:lnTo>
                    <a:pt x="741" y="822"/>
                  </a:lnTo>
                  <a:lnTo>
                    <a:pt x="710" y="791"/>
                  </a:lnTo>
                  <a:lnTo>
                    <a:pt x="693" y="574"/>
                  </a:lnTo>
                  <a:lnTo>
                    <a:pt x="565" y="574"/>
                  </a:lnTo>
                  <a:lnTo>
                    <a:pt x="556" y="54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0" name=""/>
            <p:cNvSpPr/>
            <p:nvPr/>
          </p:nvSpPr>
          <p:spPr>
            <a:xfrm>
              <a:off x="1542960" y="789120"/>
              <a:ext cx="140040" cy="68760"/>
            </a:xfrm>
            <a:custGeom>
              <a:avLst/>
              <a:gdLst/>
              <a:ahLst/>
              <a:rect l="0" t="0" r="r" b="b"/>
              <a:pathLst>
                <a:path w="389" h="191">
                  <a:moveTo>
                    <a:pt x="0" y="0"/>
                  </a:moveTo>
                  <a:lnTo>
                    <a:pt x="61" y="89"/>
                  </a:lnTo>
                  <a:lnTo>
                    <a:pt x="230" y="89"/>
                  </a:lnTo>
                  <a:lnTo>
                    <a:pt x="300" y="26"/>
                  </a:lnTo>
                  <a:lnTo>
                    <a:pt x="389" y="26"/>
                  </a:lnTo>
                  <a:lnTo>
                    <a:pt x="375" y="58"/>
                  </a:lnTo>
                  <a:lnTo>
                    <a:pt x="375" y="89"/>
                  </a:lnTo>
                  <a:lnTo>
                    <a:pt x="217" y="191"/>
                  </a:lnTo>
                  <a:lnTo>
                    <a:pt x="127" y="191"/>
                  </a:lnTo>
                  <a:lnTo>
                    <a:pt x="83" y="156"/>
                  </a:lnTo>
                  <a:lnTo>
                    <a:pt x="35" y="156"/>
                  </a:lnTo>
                  <a:lnTo>
                    <a:pt x="0" y="0"/>
                  </a:lnTo>
                  <a:close/>
                </a:path>
              </a:pathLst>
            </a:custGeom>
            <a:solidFill>
              <a:srgbClr val="000000"/>
            </a:solidFill>
            <a:ln w="12600">
              <a:solidFill>
                <a:srgbClr val="000000"/>
              </a:solidFill>
              <a:round/>
            </a:ln>
          </p:spPr>
          <p:txBody>
            <a:bodyPr lIns="96120" rIns="96120" tIns="17640" bIns="17640" anchor="t">
              <a:noAutofit/>
            </a:bodyPr>
            <a:p>
              <a:endParaRPr b="0" lang="en-US" sz="1800" spc="-1" strike="noStrike">
                <a:solidFill>
                  <a:srgbClr val="ffffff"/>
                </a:solidFill>
                <a:latin typeface="Arial"/>
              </a:endParaRPr>
            </a:p>
          </p:txBody>
        </p:sp>
        <p:sp>
          <p:nvSpPr>
            <p:cNvPr id="431" name=""/>
            <p:cNvSpPr/>
            <p:nvPr/>
          </p:nvSpPr>
          <p:spPr>
            <a:xfrm>
              <a:off x="1386000" y="679320"/>
              <a:ext cx="213120" cy="359280"/>
            </a:xfrm>
            <a:custGeom>
              <a:avLst/>
              <a:gdLst/>
              <a:ahLst/>
              <a:rect l="0" t="0" r="r" b="b"/>
              <a:pathLst>
                <a:path w="592" h="998">
                  <a:moveTo>
                    <a:pt x="592" y="70"/>
                  </a:moveTo>
                  <a:lnTo>
                    <a:pt x="592" y="88"/>
                  </a:lnTo>
                  <a:lnTo>
                    <a:pt x="487" y="189"/>
                  </a:lnTo>
                  <a:lnTo>
                    <a:pt x="402" y="207"/>
                  </a:lnTo>
                  <a:lnTo>
                    <a:pt x="234" y="180"/>
                  </a:lnTo>
                  <a:lnTo>
                    <a:pt x="269" y="538"/>
                  </a:lnTo>
                  <a:lnTo>
                    <a:pt x="305" y="835"/>
                  </a:lnTo>
                  <a:lnTo>
                    <a:pt x="375" y="998"/>
                  </a:lnTo>
                  <a:lnTo>
                    <a:pt x="305" y="883"/>
                  </a:lnTo>
                  <a:lnTo>
                    <a:pt x="278" y="760"/>
                  </a:lnTo>
                  <a:lnTo>
                    <a:pt x="230" y="424"/>
                  </a:lnTo>
                  <a:lnTo>
                    <a:pt x="181" y="441"/>
                  </a:lnTo>
                  <a:lnTo>
                    <a:pt x="123" y="402"/>
                  </a:lnTo>
                  <a:lnTo>
                    <a:pt x="13" y="224"/>
                  </a:lnTo>
                  <a:lnTo>
                    <a:pt x="0" y="127"/>
                  </a:lnTo>
                  <a:lnTo>
                    <a:pt x="0" y="61"/>
                  </a:lnTo>
                  <a:lnTo>
                    <a:pt x="26" y="17"/>
                  </a:lnTo>
                  <a:lnTo>
                    <a:pt x="92" y="0"/>
                  </a:lnTo>
                  <a:lnTo>
                    <a:pt x="101" y="26"/>
                  </a:lnTo>
                  <a:lnTo>
                    <a:pt x="48" y="44"/>
                  </a:lnTo>
                  <a:lnTo>
                    <a:pt x="35" y="119"/>
                  </a:lnTo>
                  <a:lnTo>
                    <a:pt x="39" y="216"/>
                  </a:lnTo>
                  <a:lnTo>
                    <a:pt x="119" y="296"/>
                  </a:lnTo>
                  <a:lnTo>
                    <a:pt x="155" y="278"/>
                  </a:lnTo>
                  <a:lnTo>
                    <a:pt x="155" y="97"/>
                  </a:lnTo>
                  <a:lnTo>
                    <a:pt x="225" y="136"/>
                  </a:lnTo>
                  <a:lnTo>
                    <a:pt x="331" y="163"/>
                  </a:lnTo>
                  <a:lnTo>
                    <a:pt x="428" y="154"/>
                  </a:lnTo>
                  <a:lnTo>
                    <a:pt x="526" y="97"/>
                  </a:lnTo>
                  <a:lnTo>
                    <a:pt x="592" y="7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2" name=""/>
            <p:cNvSpPr/>
            <p:nvPr/>
          </p:nvSpPr>
          <p:spPr>
            <a:xfrm>
              <a:off x="1442880" y="396720"/>
              <a:ext cx="63720" cy="189360"/>
            </a:xfrm>
            <a:custGeom>
              <a:avLst/>
              <a:gdLst/>
              <a:ahLst/>
              <a:rect l="0" t="0" r="r" b="b"/>
              <a:pathLst>
                <a:path w="177" h="526">
                  <a:moveTo>
                    <a:pt x="93" y="526"/>
                  </a:moveTo>
                  <a:lnTo>
                    <a:pt x="177" y="217"/>
                  </a:lnTo>
                  <a:lnTo>
                    <a:pt x="22" y="105"/>
                  </a:lnTo>
                  <a:lnTo>
                    <a:pt x="0" y="0"/>
                  </a:lnTo>
                  <a:lnTo>
                    <a:pt x="13" y="127"/>
                  </a:lnTo>
                  <a:lnTo>
                    <a:pt x="61" y="181"/>
                  </a:lnTo>
                  <a:lnTo>
                    <a:pt x="70" y="336"/>
                  </a:lnTo>
                  <a:lnTo>
                    <a:pt x="106" y="398"/>
                  </a:lnTo>
                  <a:lnTo>
                    <a:pt x="93" y="5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3" name=""/>
            <p:cNvSpPr/>
            <p:nvPr/>
          </p:nvSpPr>
          <p:spPr>
            <a:xfrm>
              <a:off x="1441440" y="228600"/>
              <a:ext cx="478080" cy="251280"/>
            </a:xfrm>
            <a:custGeom>
              <a:avLst/>
              <a:gdLst/>
              <a:ahLst/>
              <a:rect l="0" t="0" r="r" b="b"/>
              <a:pathLst>
                <a:path w="1328" h="698">
                  <a:moveTo>
                    <a:pt x="13" y="472"/>
                  </a:moveTo>
                  <a:lnTo>
                    <a:pt x="127" y="544"/>
                  </a:lnTo>
                  <a:lnTo>
                    <a:pt x="114" y="455"/>
                  </a:lnTo>
                  <a:lnTo>
                    <a:pt x="136" y="296"/>
                  </a:lnTo>
                  <a:lnTo>
                    <a:pt x="211" y="265"/>
                  </a:lnTo>
                  <a:lnTo>
                    <a:pt x="220" y="433"/>
                  </a:lnTo>
                  <a:lnTo>
                    <a:pt x="445" y="136"/>
                  </a:lnTo>
                  <a:lnTo>
                    <a:pt x="498" y="114"/>
                  </a:lnTo>
                  <a:lnTo>
                    <a:pt x="458" y="234"/>
                  </a:lnTo>
                  <a:lnTo>
                    <a:pt x="599" y="287"/>
                  </a:lnTo>
                  <a:lnTo>
                    <a:pt x="702" y="171"/>
                  </a:lnTo>
                  <a:lnTo>
                    <a:pt x="755" y="208"/>
                  </a:lnTo>
                  <a:lnTo>
                    <a:pt x="706" y="309"/>
                  </a:lnTo>
                  <a:lnTo>
                    <a:pt x="772" y="252"/>
                  </a:lnTo>
                  <a:lnTo>
                    <a:pt x="869" y="296"/>
                  </a:lnTo>
                  <a:lnTo>
                    <a:pt x="790" y="380"/>
                  </a:lnTo>
                  <a:lnTo>
                    <a:pt x="1063" y="433"/>
                  </a:lnTo>
                  <a:lnTo>
                    <a:pt x="882" y="490"/>
                  </a:lnTo>
                  <a:lnTo>
                    <a:pt x="1112" y="526"/>
                  </a:lnTo>
                  <a:lnTo>
                    <a:pt x="838" y="592"/>
                  </a:lnTo>
                  <a:lnTo>
                    <a:pt x="896" y="645"/>
                  </a:lnTo>
                  <a:lnTo>
                    <a:pt x="816" y="698"/>
                  </a:lnTo>
                  <a:lnTo>
                    <a:pt x="957" y="698"/>
                  </a:lnTo>
                  <a:lnTo>
                    <a:pt x="944" y="659"/>
                  </a:lnTo>
                  <a:lnTo>
                    <a:pt x="1090" y="694"/>
                  </a:lnTo>
                  <a:lnTo>
                    <a:pt x="1063" y="584"/>
                  </a:lnTo>
                  <a:lnTo>
                    <a:pt x="1200" y="535"/>
                  </a:lnTo>
                  <a:lnTo>
                    <a:pt x="1103" y="481"/>
                  </a:lnTo>
                  <a:lnTo>
                    <a:pt x="1328" y="464"/>
                  </a:lnTo>
                  <a:lnTo>
                    <a:pt x="1134" y="353"/>
                  </a:lnTo>
                  <a:lnTo>
                    <a:pt x="913" y="327"/>
                  </a:lnTo>
                  <a:lnTo>
                    <a:pt x="1090" y="212"/>
                  </a:lnTo>
                  <a:lnTo>
                    <a:pt x="772" y="212"/>
                  </a:lnTo>
                  <a:lnTo>
                    <a:pt x="922" y="105"/>
                  </a:lnTo>
                  <a:lnTo>
                    <a:pt x="693" y="136"/>
                  </a:lnTo>
                  <a:lnTo>
                    <a:pt x="586" y="190"/>
                  </a:lnTo>
                  <a:lnTo>
                    <a:pt x="680" y="0"/>
                  </a:lnTo>
                  <a:lnTo>
                    <a:pt x="401" y="105"/>
                  </a:lnTo>
                  <a:lnTo>
                    <a:pt x="246" y="336"/>
                  </a:lnTo>
                  <a:lnTo>
                    <a:pt x="220" y="208"/>
                  </a:lnTo>
                  <a:lnTo>
                    <a:pt x="97" y="296"/>
                  </a:lnTo>
                  <a:lnTo>
                    <a:pt x="83" y="464"/>
                  </a:lnTo>
                  <a:lnTo>
                    <a:pt x="0" y="433"/>
                  </a:lnTo>
                  <a:lnTo>
                    <a:pt x="26" y="584"/>
                  </a:lnTo>
                  <a:lnTo>
                    <a:pt x="13" y="47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4" name=""/>
            <p:cNvSpPr/>
            <p:nvPr/>
          </p:nvSpPr>
          <p:spPr>
            <a:xfrm>
              <a:off x="1544760" y="361800"/>
              <a:ext cx="135360" cy="76680"/>
            </a:xfrm>
            <a:custGeom>
              <a:avLst/>
              <a:gdLst/>
              <a:ahLst/>
              <a:rect l="0" t="0" r="r" b="b"/>
              <a:pathLst>
                <a:path w="376" h="213">
                  <a:moveTo>
                    <a:pt x="0" y="213"/>
                  </a:moveTo>
                  <a:lnTo>
                    <a:pt x="142" y="0"/>
                  </a:lnTo>
                  <a:lnTo>
                    <a:pt x="142" y="142"/>
                  </a:lnTo>
                  <a:lnTo>
                    <a:pt x="190" y="84"/>
                  </a:lnTo>
                  <a:lnTo>
                    <a:pt x="234" y="165"/>
                  </a:lnTo>
                  <a:lnTo>
                    <a:pt x="376" y="204"/>
                  </a:lnTo>
                  <a:lnTo>
                    <a:pt x="225" y="178"/>
                  </a:lnTo>
                  <a:lnTo>
                    <a:pt x="181" y="124"/>
                  </a:lnTo>
                  <a:lnTo>
                    <a:pt x="120" y="178"/>
                  </a:lnTo>
                  <a:lnTo>
                    <a:pt x="120" y="111"/>
                  </a:lnTo>
                  <a:lnTo>
                    <a:pt x="0" y="213"/>
                  </a:lnTo>
                  <a:close/>
                </a:path>
              </a:pathLst>
            </a:cu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435" name=""/>
            <p:cNvSpPr/>
            <p:nvPr/>
          </p:nvSpPr>
          <p:spPr>
            <a:xfrm>
              <a:off x="1531800" y="878040"/>
              <a:ext cx="163800" cy="111600"/>
            </a:xfrm>
            <a:custGeom>
              <a:avLst/>
              <a:gdLst/>
              <a:ahLst/>
              <a:rect l="0" t="0" r="r" b="b"/>
              <a:pathLst>
                <a:path w="455" h="310">
                  <a:moveTo>
                    <a:pt x="88" y="111"/>
                  </a:moveTo>
                  <a:lnTo>
                    <a:pt x="274" y="93"/>
                  </a:lnTo>
                  <a:lnTo>
                    <a:pt x="362" y="115"/>
                  </a:lnTo>
                  <a:lnTo>
                    <a:pt x="406" y="70"/>
                  </a:lnTo>
                  <a:lnTo>
                    <a:pt x="455" y="172"/>
                  </a:lnTo>
                  <a:lnTo>
                    <a:pt x="424" y="190"/>
                  </a:lnTo>
                  <a:lnTo>
                    <a:pt x="384" y="155"/>
                  </a:lnTo>
                  <a:lnTo>
                    <a:pt x="322" y="225"/>
                  </a:lnTo>
                  <a:lnTo>
                    <a:pt x="211" y="310"/>
                  </a:lnTo>
                  <a:lnTo>
                    <a:pt x="158" y="310"/>
                  </a:lnTo>
                  <a:lnTo>
                    <a:pt x="88" y="266"/>
                  </a:lnTo>
                  <a:lnTo>
                    <a:pt x="171" y="301"/>
                  </a:lnTo>
                  <a:lnTo>
                    <a:pt x="202" y="301"/>
                  </a:lnTo>
                  <a:lnTo>
                    <a:pt x="274" y="248"/>
                  </a:lnTo>
                  <a:lnTo>
                    <a:pt x="322" y="142"/>
                  </a:lnTo>
                  <a:lnTo>
                    <a:pt x="247" y="128"/>
                  </a:lnTo>
                  <a:lnTo>
                    <a:pt x="198" y="115"/>
                  </a:lnTo>
                  <a:lnTo>
                    <a:pt x="74" y="133"/>
                  </a:lnTo>
                  <a:lnTo>
                    <a:pt x="74" y="217"/>
                  </a:lnTo>
                  <a:lnTo>
                    <a:pt x="35" y="164"/>
                  </a:lnTo>
                  <a:lnTo>
                    <a:pt x="0" y="235"/>
                  </a:lnTo>
                  <a:lnTo>
                    <a:pt x="4" y="84"/>
                  </a:lnTo>
                  <a:lnTo>
                    <a:pt x="48" y="0"/>
                  </a:lnTo>
                  <a:lnTo>
                    <a:pt x="88" y="84"/>
                  </a:lnTo>
                  <a:lnTo>
                    <a:pt x="88" y="11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6" name=""/>
            <p:cNvSpPr/>
            <p:nvPr/>
          </p:nvSpPr>
          <p:spPr>
            <a:xfrm>
              <a:off x="1511280" y="633240"/>
              <a:ext cx="349560" cy="519480"/>
            </a:xfrm>
            <a:custGeom>
              <a:avLst/>
              <a:gdLst/>
              <a:ahLst/>
              <a:rect l="0" t="0" r="r" b="b"/>
              <a:pathLst>
                <a:path w="971" h="1443">
                  <a:moveTo>
                    <a:pt x="816" y="0"/>
                  </a:moveTo>
                  <a:lnTo>
                    <a:pt x="913" y="0"/>
                  </a:lnTo>
                  <a:lnTo>
                    <a:pt x="971" y="70"/>
                  </a:lnTo>
                  <a:lnTo>
                    <a:pt x="971" y="149"/>
                  </a:lnTo>
                  <a:lnTo>
                    <a:pt x="891" y="375"/>
                  </a:lnTo>
                  <a:lnTo>
                    <a:pt x="812" y="486"/>
                  </a:lnTo>
                  <a:lnTo>
                    <a:pt x="728" y="499"/>
                  </a:lnTo>
                  <a:lnTo>
                    <a:pt x="706" y="499"/>
                  </a:lnTo>
                  <a:lnTo>
                    <a:pt x="706" y="785"/>
                  </a:lnTo>
                  <a:lnTo>
                    <a:pt x="746" y="988"/>
                  </a:lnTo>
                  <a:lnTo>
                    <a:pt x="746" y="1161"/>
                  </a:lnTo>
                  <a:lnTo>
                    <a:pt x="596" y="1329"/>
                  </a:lnTo>
                  <a:lnTo>
                    <a:pt x="396" y="1443"/>
                  </a:lnTo>
                  <a:lnTo>
                    <a:pt x="268" y="1443"/>
                  </a:lnTo>
                  <a:lnTo>
                    <a:pt x="202" y="1413"/>
                  </a:lnTo>
                  <a:lnTo>
                    <a:pt x="114" y="1210"/>
                  </a:lnTo>
                  <a:lnTo>
                    <a:pt x="30" y="1139"/>
                  </a:lnTo>
                  <a:lnTo>
                    <a:pt x="0" y="1086"/>
                  </a:lnTo>
                  <a:lnTo>
                    <a:pt x="110" y="1161"/>
                  </a:lnTo>
                  <a:lnTo>
                    <a:pt x="189" y="1232"/>
                  </a:lnTo>
                  <a:lnTo>
                    <a:pt x="343" y="1241"/>
                  </a:lnTo>
                  <a:lnTo>
                    <a:pt x="480" y="1170"/>
                  </a:lnTo>
                  <a:lnTo>
                    <a:pt x="556" y="1086"/>
                  </a:lnTo>
                  <a:lnTo>
                    <a:pt x="636" y="940"/>
                  </a:lnTo>
                  <a:lnTo>
                    <a:pt x="649" y="768"/>
                  </a:lnTo>
                  <a:lnTo>
                    <a:pt x="680" y="211"/>
                  </a:lnTo>
                  <a:lnTo>
                    <a:pt x="715" y="291"/>
                  </a:lnTo>
                  <a:lnTo>
                    <a:pt x="807" y="189"/>
                  </a:lnTo>
                  <a:lnTo>
                    <a:pt x="909" y="149"/>
                  </a:lnTo>
                  <a:lnTo>
                    <a:pt x="935" y="88"/>
                  </a:lnTo>
                  <a:lnTo>
                    <a:pt x="922" y="35"/>
                  </a:lnTo>
                  <a:lnTo>
                    <a:pt x="878" y="8"/>
                  </a:lnTo>
                  <a:lnTo>
                    <a:pt x="81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7" name=""/>
            <p:cNvSpPr/>
            <p:nvPr/>
          </p:nvSpPr>
          <p:spPr>
            <a:xfrm>
              <a:off x="971640" y="1081080"/>
              <a:ext cx="281520" cy="481320"/>
            </a:xfrm>
            <a:custGeom>
              <a:avLst/>
              <a:gdLst/>
              <a:ahLst/>
              <a:rect l="0" t="0" r="r" b="b"/>
              <a:pathLst>
                <a:path w="782" h="1337">
                  <a:moveTo>
                    <a:pt x="97" y="0"/>
                  </a:moveTo>
                  <a:lnTo>
                    <a:pt x="189" y="61"/>
                  </a:lnTo>
                  <a:lnTo>
                    <a:pt x="256" y="335"/>
                  </a:lnTo>
                  <a:lnTo>
                    <a:pt x="455" y="392"/>
                  </a:lnTo>
                  <a:lnTo>
                    <a:pt x="512" y="467"/>
                  </a:lnTo>
                  <a:lnTo>
                    <a:pt x="525" y="568"/>
                  </a:lnTo>
                  <a:lnTo>
                    <a:pt x="623" y="551"/>
                  </a:lnTo>
                  <a:lnTo>
                    <a:pt x="747" y="639"/>
                  </a:lnTo>
                  <a:lnTo>
                    <a:pt x="782" y="746"/>
                  </a:lnTo>
                  <a:lnTo>
                    <a:pt x="782" y="935"/>
                  </a:lnTo>
                  <a:lnTo>
                    <a:pt x="623" y="1222"/>
                  </a:lnTo>
                  <a:lnTo>
                    <a:pt x="569" y="1337"/>
                  </a:lnTo>
                  <a:lnTo>
                    <a:pt x="597" y="1182"/>
                  </a:lnTo>
                  <a:lnTo>
                    <a:pt x="569" y="1125"/>
                  </a:lnTo>
                  <a:lnTo>
                    <a:pt x="472" y="1024"/>
                  </a:lnTo>
                  <a:lnTo>
                    <a:pt x="318" y="909"/>
                  </a:lnTo>
                  <a:lnTo>
                    <a:pt x="503" y="975"/>
                  </a:lnTo>
                  <a:lnTo>
                    <a:pt x="614" y="1063"/>
                  </a:lnTo>
                  <a:lnTo>
                    <a:pt x="667" y="1050"/>
                  </a:lnTo>
                  <a:lnTo>
                    <a:pt x="703" y="1002"/>
                  </a:lnTo>
                  <a:lnTo>
                    <a:pt x="747" y="869"/>
                  </a:lnTo>
                  <a:lnTo>
                    <a:pt x="734" y="737"/>
                  </a:lnTo>
                  <a:lnTo>
                    <a:pt x="676" y="661"/>
                  </a:lnTo>
                  <a:lnTo>
                    <a:pt x="578" y="639"/>
                  </a:lnTo>
                  <a:lnTo>
                    <a:pt x="472" y="639"/>
                  </a:lnTo>
                  <a:lnTo>
                    <a:pt x="437" y="440"/>
                  </a:lnTo>
                  <a:lnTo>
                    <a:pt x="265" y="370"/>
                  </a:lnTo>
                  <a:lnTo>
                    <a:pt x="265" y="427"/>
                  </a:lnTo>
                  <a:lnTo>
                    <a:pt x="189" y="286"/>
                  </a:lnTo>
                  <a:lnTo>
                    <a:pt x="145" y="61"/>
                  </a:lnTo>
                  <a:lnTo>
                    <a:pt x="74" y="39"/>
                  </a:lnTo>
                  <a:lnTo>
                    <a:pt x="39" y="105"/>
                  </a:lnTo>
                  <a:lnTo>
                    <a:pt x="39" y="260"/>
                  </a:lnTo>
                  <a:lnTo>
                    <a:pt x="70" y="427"/>
                  </a:lnTo>
                  <a:lnTo>
                    <a:pt x="163" y="568"/>
                  </a:lnTo>
                  <a:lnTo>
                    <a:pt x="61" y="480"/>
                  </a:lnTo>
                  <a:lnTo>
                    <a:pt x="8" y="335"/>
                  </a:lnTo>
                  <a:lnTo>
                    <a:pt x="0" y="141"/>
                  </a:lnTo>
                  <a:lnTo>
                    <a:pt x="39" y="39"/>
                  </a:lnTo>
                  <a:lnTo>
                    <a:pt x="9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8" name=""/>
            <p:cNvSpPr/>
            <p:nvPr/>
          </p:nvSpPr>
          <p:spPr>
            <a:xfrm>
              <a:off x="838080" y="1293840"/>
              <a:ext cx="186120" cy="384480"/>
            </a:xfrm>
            <a:custGeom>
              <a:avLst/>
              <a:gdLst/>
              <a:ahLst/>
              <a:rect l="0" t="0" r="r" b="b"/>
              <a:pathLst>
                <a:path w="517" h="1068">
                  <a:moveTo>
                    <a:pt x="517" y="0"/>
                  </a:moveTo>
                  <a:lnTo>
                    <a:pt x="412" y="70"/>
                  </a:lnTo>
                  <a:lnTo>
                    <a:pt x="283" y="330"/>
                  </a:lnTo>
                  <a:lnTo>
                    <a:pt x="164" y="498"/>
                  </a:lnTo>
                  <a:lnTo>
                    <a:pt x="13" y="702"/>
                  </a:lnTo>
                  <a:lnTo>
                    <a:pt x="0" y="807"/>
                  </a:lnTo>
                  <a:lnTo>
                    <a:pt x="30" y="900"/>
                  </a:lnTo>
                  <a:lnTo>
                    <a:pt x="101" y="900"/>
                  </a:lnTo>
                  <a:lnTo>
                    <a:pt x="199" y="807"/>
                  </a:lnTo>
                  <a:lnTo>
                    <a:pt x="274" y="613"/>
                  </a:lnTo>
                  <a:lnTo>
                    <a:pt x="380" y="498"/>
                  </a:lnTo>
                  <a:lnTo>
                    <a:pt x="380" y="653"/>
                  </a:lnTo>
                  <a:lnTo>
                    <a:pt x="367" y="794"/>
                  </a:lnTo>
                  <a:lnTo>
                    <a:pt x="252" y="984"/>
                  </a:lnTo>
                  <a:lnTo>
                    <a:pt x="252" y="1041"/>
                  </a:lnTo>
                  <a:lnTo>
                    <a:pt x="367" y="1068"/>
                  </a:lnTo>
                  <a:lnTo>
                    <a:pt x="283" y="1015"/>
                  </a:lnTo>
                  <a:lnTo>
                    <a:pt x="296" y="984"/>
                  </a:lnTo>
                  <a:lnTo>
                    <a:pt x="375" y="843"/>
                  </a:lnTo>
                  <a:lnTo>
                    <a:pt x="429" y="591"/>
                  </a:lnTo>
                  <a:lnTo>
                    <a:pt x="390" y="449"/>
                  </a:lnTo>
                  <a:lnTo>
                    <a:pt x="305" y="533"/>
                  </a:lnTo>
                  <a:lnTo>
                    <a:pt x="123" y="852"/>
                  </a:lnTo>
                  <a:lnTo>
                    <a:pt x="74" y="860"/>
                  </a:lnTo>
                  <a:lnTo>
                    <a:pt x="30" y="830"/>
                  </a:lnTo>
                  <a:lnTo>
                    <a:pt x="30" y="733"/>
                  </a:lnTo>
                  <a:lnTo>
                    <a:pt x="101" y="605"/>
                  </a:lnTo>
                  <a:lnTo>
                    <a:pt x="305" y="343"/>
                  </a:lnTo>
                  <a:lnTo>
                    <a:pt x="429" y="97"/>
                  </a:lnTo>
                  <a:lnTo>
                    <a:pt x="51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9" name=""/>
            <p:cNvSpPr/>
            <p:nvPr/>
          </p:nvSpPr>
          <p:spPr>
            <a:xfrm>
              <a:off x="976320" y="1511280"/>
              <a:ext cx="114840" cy="184680"/>
            </a:xfrm>
            <a:custGeom>
              <a:avLst/>
              <a:gdLst/>
              <a:ahLst/>
              <a:rect l="0" t="0" r="r" b="b"/>
              <a:pathLst>
                <a:path w="319" h="513">
                  <a:moveTo>
                    <a:pt x="0" y="456"/>
                  </a:moveTo>
                  <a:lnTo>
                    <a:pt x="106" y="322"/>
                  </a:lnTo>
                  <a:lnTo>
                    <a:pt x="124" y="190"/>
                  </a:lnTo>
                  <a:lnTo>
                    <a:pt x="248" y="0"/>
                  </a:lnTo>
                  <a:lnTo>
                    <a:pt x="270" y="127"/>
                  </a:lnTo>
                  <a:lnTo>
                    <a:pt x="257" y="465"/>
                  </a:lnTo>
                  <a:lnTo>
                    <a:pt x="319" y="513"/>
                  </a:lnTo>
                  <a:lnTo>
                    <a:pt x="225" y="478"/>
                  </a:lnTo>
                  <a:lnTo>
                    <a:pt x="177" y="283"/>
                  </a:lnTo>
                  <a:lnTo>
                    <a:pt x="106" y="380"/>
                  </a:lnTo>
                  <a:lnTo>
                    <a:pt x="0" y="45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40" name=""/>
            <p:cNvSpPr/>
            <p:nvPr/>
          </p:nvSpPr>
          <p:spPr>
            <a:xfrm>
              <a:off x="1116000" y="1521000"/>
              <a:ext cx="76680" cy="165600"/>
            </a:xfrm>
            <a:custGeom>
              <a:avLst/>
              <a:gdLst/>
              <a:ahLst/>
              <a:rect l="0" t="0" r="r" b="b"/>
              <a:pathLst>
                <a:path w="213" h="460">
                  <a:moveTo>
                    <a:pt x="0" y="344"/>
                  </a:moveTo>
                  <a:lnTo>
                    <a:pt x="8" y="177"/>
                  </a:lnTo>
                  <a:lnTo>
                    <a:pt x="52" y="74"/>
                  </a:lnTo>
                  <a:lnTo>
                    <a:pt x="102" y="438"/>
                  </a:lnTo>
                  <a:lnTo>
                    <a:pt x="169" y="438"/>
                  </a:lnTo>
                  <a:lnTo>
                    <a:pt x="200" y="52"/>
                  </a:lnTo>
                  <a:lnTo>
                    <a:pt x="213" y="0"/>
                  </a:lnTo>
                  <a:lnTo>
                    <a:pt x="200" y="300"/>
                  </a:lnTo>
                  <a:lnTo>
                    <a:pt x="169" y="460"/>
                  </a:lnTo>
                  <a:lnTo>
                    <a:pt x="84" y="460"/>
                  </a:lnTo>
                  <a:lnTo>
                    <a:pt x="48" y="142"/>
                  </a:lnTo>
                  <a:lnTo>
                    <a:pt x="26" y="186"/>
                  </a:lnTo>
                  <a:lnTo>
                    <a:pt x="0" y="34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41" name=""/>
            <p:cNvSpPr/>
            <p:nvPr/>
          </p:nvSpPr>
          <p:spPr>
            <a:xfrm>
              <a:off x="2082960" y="868320"/>
              <a:ext cx="182880" cy="443160"/>
            </a:xfrm>
            <a:custGeom>
              <a:avLst/>
              <a:gdLst/>
              <a:ahLst/>
              <a:rect l="0" t="0" r="r" b="b"/>
              <a:pathLst>
                <a:path w="508" h="1231">
                  <a:moveTo>
                    <a:pt x="132" y="666"/>
                  </a:moveTo>
                  <a:lnTo>
                    <a:pt x="171" y="471"/>
                  </a:lnTo>
                  <a:lnTo>
                    <a:pt x="344" y="423"/>
                  </a:lnTo>
                  <a:lnTo>
                    <a:pt x="508" y="0"/>
                  </a:lnTo>
                  <a:lnTo>
                    <a:pt x="508" y="123"/>
                  </a:lnTo>
                  <a:lnTo>
                    <a:pt x="371" y="449"/>
                  </a:lnTo>
                  <a:lnTo>
                    <a:pt x="189" y="511"/>
                  </a:lnTo>
                  <a:lnTo>
                    <a:pt x="163" y="666"/>
                  </a:lnTo>
                  <a:lnTo>
                    <a:pt x="224" y="666"/>
                  </a:lnTo>
                  <a:lnTo>
                    <a:pt x="66" y="737"/>
                  </a:lnTo>
                  <a:lnTo>
                    <a:pt x="26" y="869"/>
                  </a:lnTo>
                  <a:lnTo>
                    <a:pt x="39" y="1037"/>
                  </a:lnTo>
                  <a:lnTo>
                    <a:pt x="207" y="1231"/>
                  </a:lnTo>
                  <a:lnTo>
                    <a:pt x="26" y="1059"/>
                  </a:lnTo>
                  <a:lnTo>
                    <a:pt x="0" y="918"/>
                  </a:lnTo>
                  <a:lnTo>
                    <a:pt x="13" y="772"/>
                  </a:lnTo>
                  <a:lnTo>
                    <a:pt x="74" y="671"/>
                  </a:lnTo>
                  <a:lnTo>
                    <a:pt x="132" y="66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42" name=""/>
            <p:cNvSpPr/>
            <p:nvPr/>
          </p:nvSpPr>
          <p:spPr>
            <a:xfrm>
              <a:off x="2206800" y="868320"/>
              <a:ext cx="306720" cy="428760"/>
            </a:xfrm>
            <a:custGeom>
              <a:avLst/>
              <a:gdLst/>
              <a:ahLst/>
              <a:rect l="0" t="0" r="r" b="b"/>
              <a:pathLst>
                <a:path w="852" h="1191">
                  <a:moveTo>
                    <a:pt x="233" y="0"/>
                  </a:moveTo>
                  <a:lnTo>
                    <a:pt x="286" y="35"/>
                  </a:lnTo>
                  <a:lnTo>
                    <a:pt x="304" y="136"/>
                  </a:lnTo>
                  <a:lnTo>
                    <a:pt x="304" y="233"/>
                  </a:lnTo>
                  <a:lnTo>
                    <a:pt x="207" y="405"/>
                  </a:lnTo>
                  <a:lnTo>
                    <a:pt x="224" y="533"/>
                  </a:lnTo>
                  <a:lnTo>
                    <a:pt x="512" y="671"/>
                  </a:lnTo>
                  <a:lnTo>
                    <a:pt x="847" y="1046"/>
                  </a:lnTo>
                  <a:lnTo>
                    <a:pt x="852" y="1147"/>
                  </a:lnTo>
                  <a:lnTo>
                    <a:pt x="834" y="1191"/>
                  </a:lnTo>
                  <a:lnTo>
                    <a:pt x="710" y="1191"/>
                  </a:lnTo>
                  <a:lnTo>
                    <a:pt x="600" y="1121"/>
                  </a:lnTo>
                  <a:lnTo>
                    <a:pt x="508" y="997"/>
                  </a:lnTo>
                  <a:lnTo>
                    <a:pt x="455" y="927"/>
                  </a:lnTo>
                  <a:lnTo>
                    <a:pt x="392" y="913"/>
                  </a:lnTo>
                  <a:lnTo>
                    <a:pt x="468" y="913"/>
                  </a:lnTo>
                  <a:lnTo>
                    <a:pt x="609" y="1107"/>
                  </a:lnTo>
                  <a:lnTo>
                    <a:pt x="785" y="1165"/>
                  </a:lnTo>
                  <a:lnTo>
                    <a:pt x="825" y="1107"/>
                  </a:lnTo>
                  <a:lnTo>
                    <a:pt x="803" y="1019"/>
                  </a:lnTo>
                  <a:lnTo>
                    <a:pt x="494" y="750"/>
                  </a:lnTo>
                  <a:lnTo>
                    <a:pt x="450" y="671"/>
                  </a:lnTo>
                  <a:lnTo>
                    <a:pt x="207" y="605"/>
                  </a:lnTo>
                  <a:lnTo>
                    <a:pt x="167" y="671"/>
                  </a:lnTo>
                  <a:lnTo>
                    <a:pt x="0" y="785"/>
                  </a:lnTo>
                  <a:lnTo>
                    <a:pt x="154" y="653"/>
                  </a:lnTo>
                  <a:lnTo>
                    <a:pt x="167" y="568"/>
                  </a:lnTo>
                  <a:lnTo>
                    <a:pt x="167" y="379"/>
                  </a:lnTo>
                  <a:lnTo>
                    <a:pt x="273" y="233"/>
                  </a:lnTo>
                  <a:lnTo>
                    <a:pt x="273" y="48"/>
                  </a:lnTo>
                  <a:lnTo>
                    <a:pt x="23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43" name=""/>
            <p:cNvSpPr/>
            <p:nvPr/>
          </p:nvSpPr>
          <p:spPr>
            <a:xfrm>
              <a:off x="2149560" y="1204920"/>
              <a:ext cx="262440" cy="254520"/>
            </a:xfrm>
            <a:custGeom>
              <a:avLst/>
              <a:gdLst/>
              <a:ahLst/>
              <a:rect l="0" t="0" r="r" b="b"/>
              <a:pathLst>
                <a:path w="729" h="707">
                  <a:moveTo>
                    <a:pt x="548" y="0"/>
                  </a:moveTo>
                  <a:lnTo>
                    <a:pt x="530" y="61"/>
                  </a:lnTo>
                  <a:lnTo>
                    <a:pt x="637" y="292"/>
                  </a:lnTo>
                  <a:lnTo>
                    <a:pt x="694" y="535"/>
                  </a:lnTo>
                  <a:lnTo>
                    <a:pt x="628" y="535"/>
                  </a:lnTo>
                  <a:lnTo>
                    <a:pt x="516" y="428"/>
                  </a:lnTo>
                  <a:lnTo>
                    <a:pt x="419" y="208"/>
                  </a:lnTo>
                  <a:lnTo>
                    <a:pt x="344" y="171"/>
                  </a:lnTo>
                  <a:lnTo>
                    <a:pt x="353" y="292"/>
                  </a:lnTo>
                  <a:lnTo>
                    <a:pt x="424" y="380"/>
                  </a:lnTo>
                  <a:lnTo>
                    <a:pt x="424" y="548"/>
                  </a:lnTo>
                  <a:lnTo>
                    <a:pt x="375" y="672"/>
                  </a:lnTo>
                  <a:lnTo>
                    <a:pt x="309" y="623"/>
                  </a:lnTo>
                  <a:lnTo>
                    <a:pt x="225" y="428"/>
                  </a:lnTo>
                  <a:lnTo>
                    <a:pt x="203" y="292"/>
                  </a:lnTo>
                  <a:lnTo>
                    <a:pt x="158" y="256"/>
                  </a:lnTo>
                  <a:lnTo>
                    <a:pt x="145" y="597"/>
                  </a:lnTo>
                  <a:lnTo>
                    <a:pt x="74" y="650"/>
                  </a:lnTo>
                  <a:lnTo>
                    <a:pt x="17" y="597"/>
                  </a:lnTo>
                  <a:lnTo>
                    <a:pt x="8" y="305"/>
                  </a:lnTo>
                  <a:lnTo>
                    <a:pt x="0" y="592"/>
                  </a:lnTo>
                  <a:lnTo>
                    <a:pt x="48" y="698"/>
                  </a:lnTo>
                  <a:lnTo>
                    <a:pt x="145" y="698"/>
                  </a:lnTo>
                  <a:lnTo>
                    <a:pt x="176" y="614"/>
                  </a:lnTo>
                  <a:lnTo>
                    <a:pt x="195" y="344"/>
                  </a:lnTo>
                  <a:lnTo>
                    <a:pt x="212" y="450"/>
                  </a:lnTo>
                  <a:lnTo>
                    <a:pt x="296" y="681"/>
                  </a:lnTo>
                  <a:lnTo>
                    <a:pt x="384" y="707"/>
                  </a:lnTo>
                  <a:lnTo>
                    <a:pt x="450" y="614"/>
                  </a:lnTo>
                  <a:lnTo>
                    <a:pt x="450" y="393"/>
                  </a:lnTo>
                  <a:lnTo>
                    <a:pt x="628" y="575"/>
                  </a:lnTo>
                  <a:lnTo>
                    <a:pt x="720" y="575"/>
                  </a:lnTo>
                  <a:lnTo>
                    <a:pt x="729" y="450"/>
                  </a:lnTo>
                  <a:lnTo>
                    <a:pt x="663" y="230"/>
                  </a:lnTo>
                  <a:lnTo>
                    <a:pt x="548" y="48"/>
                  </a:lnTo>
                  <a:lnTo>
                    <a:pt x="54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44" name=""/>
            <p:cNvSpPr/>
            <p:nvPr/>
          </p:nvSpPr>
          <p:spPr>
            <a:xfrm>
              <a:off x="1095480" y="941400"/>
              <a:ext cx="1161000" cy="1038600"/>
            </a:xfrm>
            <a:custGeom>
              <a:avLst/>
              <a:gdLst/>
              <a:ahLst/>
              <a:rect l="0" t="0" r="r" b="b"/>
              <a:pathLst>
                <a:path w="3225" h="2885">
                  <a:moveTo>
                    <a:pt x="1160" y="242"/>
                  </a:moveTo>
                  <a:lnTo>
                    <a:pt x="1103" y="255"/>
                  </a:lnTo>
                  <a:lnTo>
                    <a:pt x="1010" y="396"/>
                  </a:lnTo>
                  <a:lnTo>
                    <a:pt x="979" y="291"/>
                  </a:lnTo>
                  <a:lnTo>
                    <a:pt x="874" y="233"/>
                  </a:lnTo>
                  <a:lnTo>
                    <a:pt x="798" y="277"/>
                  </a:lnTo>
                  <a:lnTo>
                    <a:pt x="767" y="467"/>
                  </a:lnTo>
                  <a:lnTo>
                    <a:pt x="476" y="696"/>
                  </a:lnTo>
                  <a:lnTo>
                    <a:pt x="498" y="794"/>
                  </a:lnTo>
                  <a:lnTo>
                    <a:pt x="427" y="878"/>
                  </a:lnTo>
                  <a:lnTo>
                    <a:pt x="427" y="953"/>
                  </a:lnTo>
                  <a:lnTo>
                    <a:pt x="507" y="1173"/>
                  </a:lnTo>
                  <a:lnTo>
                    <a:pt x="515" y="1438"/>
                  </a:lnTo>
                  <a:lnTo>
                    <a:pt x="463" y="1689"/>
                  </a:lnTo>
                  <a:lnTo>
                    <a:pt x="255" y="1839"/>
                  </a:lnTo>
                  <a:lnTo>
                    <a:pt x="224" y="2047"/>
                  </a:lnTo>
                  <a:lnTo>
                    <a:pt x="163" y="2047"/>
                  </a:lnTo>
                  <a:lnTo>
                    <a:pt x="132" y="1879"/>
                  </a:lnTo>
                  <a:lnTo>
                    <a:pt x="66" y="1879"/>
                  </a:lnTo>
                  <a:lnTo>
                    <a:pt x="39" y="2060"/>
                  </a:lnTo>
                  <a:lnTo>
                    <a:pt x="0" y="2108"/>
                  </a:lnTo>
                  <a:lnTo>
                    <a:pt x="141" y="2356"/>
                  </a:lnTo>
                  <a:lnTo>
                    <a:pt x="246" y="2370"/>
                  </a:lnTo>
                  <a:lnTo>
                    <a:pt x="427" y="2550"/>
                  </a:lnTo>
                  <a:lnTo>
                    <a:pt x="590" y="2572"/>
                  </a:lnTo>
                  <a:lnTo>
                    <a:pt x="683" y="2475"/>
                  </a:lnTo>
                  <a:lnTo>
                    <a:pt x="909" y="2117"/>
                  </a:lnTo>
                  <a:lnTo>
                    <a:pt x="927" y="2599"/>
                  </a:lnTo>
                  <a:lnTo>
                    <a:pt x="909" y="2885"/>
                  </a:lnTo>
                  <a:lnTo>
                    <a:pt x="2771" y="2885"/>
                  </a:lnTo>
                  <a:lnTo>
                    <a:pt x="2634" y="2572"/>
                  </a:lnTo>
                  <a:lnTo>
                    <a:pt x="2568" y="2308"/>
                  </a:lnTo>
                  <a:lnTo>
                    <a:pt x="2550" y="1910"/>
                  </a:lnTo>
                  <a:lnTo>
                    <a:pt x="2661" y="1998"/>
                  </a:lnTo>
                  <a:lnTo>
                    <a:pt x="2771" y="1998"/>
                  </a:lnTo>
                  <a:lnTo>
                    <a:pt x="2925" y="1892"/>
                  </a:lnTo>
                  <a:lnTo>
                    <a:pt x="3027" y="1879"/>
                  </a:lnTo>
                  <a:lnTo>
                    <a:pt x="3088" y="1773"/>
                  </a:lnTo>
                  <a:lnTo>
                    <a:pt x="3132" y="1500"/>
                  </a:lnTo>
                  <a:lnTo>
                    <a:pt x="3225" y="1390"/>
                  </a:lnTo>
                  <a:lnTo>
                    <a:pt x="3176" y="1306"/>
                  </a:lnTo>
                  <a:lnTo>
                    <a:pt x="3110" y="1306"/>
                  </a:lnTo>
                  <a:lnTo>
                    <a:pt x="3053" y="1363"/>
                  </a:lnTo>
                  <a:lnTo>
                    <a:pt x="3000" y="1381"/>
                  </a:lnTo>
                  <a:lnTo>
                    <a:pt x="2934" y="1306"/>
                  </a:lnTo>
                  <a:lnTo>
                    <a:pt x="2855" y="1297"/>
                  </a:lnTo>
                  <a:lnTo>
                    <a:pt x="2709" y="1196"/>
                  </a:lnTo>
                  <a:lnTo>
                    <a:pt x="2616" y="1085"/>
                  </a:lnTo>
                  <a:lnTo>
                    <a:pt x="2599" y="953"/>
                  </a:lnTo>
                  <a:lnTo>
                    <a:pt x="2616" y="825"/>
                  </a:lnTo>
                  <a:lnTo>
                    <a:pt x="2678" y="724"/>
                  </a:lnTo>
                  <a:lnTo>
                    <a:pt x="2758" y="626"/>
                  </a:lnTo>
                  <a:lnTo>
                    <a:pt x="2749" y="463"/>
                  </a:lnTo>
                  <a:lnTo>
                    <a:pt x="2749" y="343"/>
                  </a:lnTo>
                  <a:lnTo>
                    <a:pt x="2709" y="255"/>
                  </a:lnTo>
                  <a:lnTo>
                    <a:pt x="2599" y="216"/>
                  </a:lnTo>
                  <a:lnTo>
                    <a:pt x="2564" y="194"/>
                  </a:lnTo>
                  <a:lnTo>
                    <a:pt x="2484" y="52"/>
                  </a:lnTo>
                  <a:lnTo>
                    <a:pt x="2422" y="13"/>
                  </a:lnTo>
                  <a:lnTo>
                    <a:pt x="2355" y="0"/>
                  </a:lnTo>
                  <a:lnTo>
                    <a:pt x="2298" y="26"/>
                  </a:lnTo>
                  <a:lnTo>
                    <a:pt x="2249" y="101"/>
                  </a:lnTo>
                  <a:lnTo>
                    <a:pt x="2179" y="145"/>
                  </a:lnTo>
                  <a:lnTo>
                    <a:pt x="2100" y="163"/>
                  </a:lnTo>
                  <a:lnTo>
                    <a:pt x="2011" y="163"/>
                  </a:lnTo>
                  <a:lnTo>
                    <a:pt x="2025" y="304"/>
                  </a:lnTo>
                  <a:lnTo>
                    <a:pt x="2025" y="480"/>
                  </a:lnTo>
                  <a:lnTo>
                    <a:pt x="2011" y="599"/>
                  </a:lnTo>
                  <a:lnTo>
                    <a:pt x="1932" y="746"/>
                  </a:lnTo>
                  <a:lnTo>
                    <a:pt x="1831" y="962"/>
                  </a:lnTo>
                  <a:lnTo>
                    <a:pt x="1751" y="1222"/>
                  </a:lnTo>
                  <a:lnTo>
                    <a:pt x="1742" y="1381"/>
                  </a:lnTo>
                  <a:lnTo>
                    <a:pt x="1707" y="1509"/>
                  </a:lnTo>
                  <a:lnTo>
                    <a:pt x="1659" y="1641"/>
                  </a:lnTo>
                  <a:lnTo>
                    <a:pt x="1637" y="1853"/>
                  </a:lnTo>
                  <a:lnTo>
                    <a:pt x="1650" y="2025"/>
                  </a:lnTo>
                  <a:lnTo>
                    <a:pt x="1707" y="2228"/>
                  </a:lnTo>
                  <a:lnTo>
                    <a:pt x="1742" y="2308"/>
                  </a:lnTo>
                  <a:lnTo>
                    <a:pt x="1637" y="2383"/>
                  </a:lnTo>
                  <a:lnTo>
                    <a:pt x="1504" y="2427"/>
                  </a:lnTo>
                  <a:lnTo>
                    <a:pt x="1363" y="2444"/>
                  </a:lnTo>
                  <a:lnTo>
                    <a:pt x="1271" y="2444"/>
                  </a:lnTo>
                  <a:lnTo>
                    <a:pt x="1213" y="2418"/>
                  </a:lnTo>
                  <a:lnTo>
                    <a:pt x="1213" y="2242"/>
                  </a:lnTo>
                  <a:lnTo>
                    <a:pt x="1213" y="1989"/>
                  </a:lnTo>
                  <a:lnTo>
                    <a:pt x="1182" y="1738"/>
                  </a:lnTo>
                  <a:lnTo>
                    <a:pt x="1125" y="1509"/>
                  </a:lnTo>
                  <a:lnTo>
                    <a:pt x="1094" y="1332"/>
                  </a:lnTo>
                  <a:lnTo>
                    <a:pt x="1085" y="1076"/>
                  </a:lnTo>
                  <a:lnTo>
                    <a:pt x="1125" y="852"/>
                  </a:lnTo>
                  <a:lnTo>
                    <a:pt x="1182" y="670"/>
                  </a:lnTo>
                  <a:lnTo>
                    <a:pt x="1187" y="568"/>
                  </a:lnTo>
                  <a:lnTo>
                    <a:pt x="1160" y="414"/>
                  </a:lnTo>
                  <a:lnTo>
                    <a:pt x="1160" y="291"/>
                  </a:lnTo>
                  <a:lnTo>
                    <a:pt x="1182" y="255"/>
                  </a:lnTo>
                  <a:lnTo>
                    <a:pt x="1160" y="24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45" name=""/>
            <p:cNvSpPr/>
            <p:nvPr/>
          </p:nvSpPr>
          <p:spPr>
            <a:xfrm>
              <a:off x="1547640" y="1150920"/>
              <a:ext cx="146520" cy="673560"/>
            </a:xfrm>
            <a:custGeom>
              <a:avLst/>
              <a:gdLst/>
              <a:ahLst/>
              <a:rect l="0" t="0" r="r" b="b"/>
              <a:pathLst>
                <a:path w="407" h="1871">
                  <a:moveTo>
                    <a:pt x="164" y="22"/>
                  </a:moveTo>
                  <a:lnTo>
                    <a:pt x="52" y="83"/>
                  </a:lnTo>
                  <a:lnTo>
                    <a:pt x="61" y="260"/>
                  </a:lnTo>
                  <a:lnTo>
                    <a:pt x="142" y="313"/>
                  </a:lnTo>
                  <a:lnTo>
                    <a:pt x="48" y="512"/>
                  </a:lnTo>
                  <a:lnTo>
                    <a:pt x="0" y="728"/>
                  </a:lnTo>
                  <a:lnTo>
                    <a:pt x="0" y="935"/>
                  </a:lnTo>
                  <a:lnTo>
                    <a:pt x="48" y="1121"/>
                  </a:lnTo>
                  <a:lnTo>
                    <a:pt x="83" y="1350"/>
                  </a:lnTo>
                  <a:lnTo>
                    <a:pt x="83" y="1483"/>
                  </a:lnTo>
                  <a:lnTo>
                    <a:pt x="48" y="1642"/>
                  </a:lnTo>
                  <a:lnTo>
                    <a:pt x="212" y="1871"/>
                  </a:lnTo>
                  <a:lnTo>
                    <a:pt x="278" y="1836"/>
                  </a:lnTo>
                  <a:lnTo>
                    <a:pt x="328" y="1677"/>
                  </a:lnTo>
                  <a:lnTo>
                    <a:pt x="403" y="1470"/>
                  </a:lnTo>
                  <a:lnTo>
                    <a:pt x="407" y="1363"/>
                  </a:lnTo>
                  <a:lnTo>
                    <a:pt x="345" y="1156"/>
                  </a:lnTo>
                  <a:lnTo>
                    <a:pt x="269" y="957"/>
                  </a:lnTo>
                  <a:lnTo>
                    <a:pt x="239" y="812"/>
                  </a:lnTo>
                  <a:lnTo>
                    <a:pt x="239" y="680"/>
                  </a:lnTo>
                  <a:lnTo>
                    <a:pt x="269" y="561"/>
                  </a:lnTo>
                  <a:lnTo>
                    <a:pt x="328" y="410"/>
                  </a:lnTo>
                  <a:lnTo>
                    <a:pt x="328" y="348"/>
                  </a:lnTo>
                  <a:lnTo>
                    <a:pt x="296" y="286"/>
                  </a:lnTo>
                  <a:lnTo>
                    <a:pt x="372" y="211"/>
                  </a:lnTo>
                  <a:lnTo>
                    <a:pt x="372" y="141"/>
                  </a:lnTo>
                  <a:lnTo>
                    <a:pt x="269" y="0"/>
                  </a:lnTo>
                  <a:lnTo>
                    <a:pt x="354" y="141"/>
                  </a:lnTo>
                  <a:lnTo>
                    <a:pt x="354" y="202"/>
                  </a:lnTo>
                  <a:lnTo>
                    <a:pt x="278" y="260"/>
                  </a:lnTo>
                  <a:lnTo>
                    <a:pt x="306" y="348"/>
                  </a:lnTo>
                  <a:lnTo>
                    <a:pt x="296" y="410"/>
                  </a:lnTo>
                  <a:lnTo>
                    <a:pt x="221" y="583"/>
                  </a:lnTo>
                  <a:lnTo>
                    <a:pt x="212" y="750"/>
                  </a:lnTo>
                  <a:lnTo>
                    <a:pt x="230" y="909"/>
                  </a:lnTo>
                  <a:lnTo>
                    <a:pt x="278" y="1134"/>
                  </a:lnTo>
                  <a:lnTo>
                    <a:pt x="345" y="1310"/>
                  </a:lnTo>
                  <a:lnTo>
                    <a:pt x="345" y="1461"/>
                  </a:lnTo>
                  <a:lnTo>
                    <a:pt x="306" y="1642"/>
                  </a:lnTo>
                  <a:lnTo>
                    <a:pt x="230" y="1836"/>
                  </a:lnTo>
                  <a:lnTo>
                    <a:pt x="133" y="1730"/>
                  </a:lnTo>
                  <a:lnTo>
                    <a:pt x="97" y="1642"/>
                  </a:lnTo>
                  <a:lnTo>
                    <a:pt x="106" y="1461"/>
                  </a:lnTo>
                  <a:lnTo>
                    <a:pt x="97" y="1275"/>
                  </a:lnTo>
                  <a:lnTo>
                    <a:pt x="48" y="1028"/>
                  </a:lnTo>
                  <a:lnTo>
                    <a:pt x="26" y="860"/>
                  </a:lnTo>
                  <a:lnTo>
                    <a:pt x="48" y="666"/>
                  </a:lnTo>
                  <a:lnTo>
                    <a:pt x="83" y="486"/>
                  </a:lnTo>
                  <a:lnTo>
                    <a:pt x="172" y="299"/>
                  </a:lnTo>
                  <a:lnTo>
                    <a:pt x="97" y="224"/>
                  </a:lnTo>
                  <a:lnTo>
                    <a:pt x="83" y="92"/>
                  </a:lnTo>
                  <a:lnTo>
                    <a:pt x="164" y="2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46" name=""/>
            <p:cNvSpPr/>
            <p:nvPr/>
          </p:nvSpPr>
          <p:spPr>
            <a:xfrm>
              <a:off x="1965240" y="361800"/>
              <a:ext cx="232200" cy="329040"/>
            </a:xfrm>
            <a:custGeom>
              <a:avLst/>
              <a:gdLst/>
              <a:ahLst/>
              <a:rect l="0" t="0" r="r" b="b"/>
              <a:pathLst>
                <a:path w="645" h="914">
                  <a:moveTo>
                    <a:pt x="110" y="234"/>
                  </a:moveTo>
                  <a:lnTo>
                    <a:pt x="203" y="216"/>
                  </a:lnTo>
                  <a:lnTo>
                    <a:pt x="296" y="220"/>
                  </a:lnTo>
                  <a:lnTo>
                    <a:pt x="371" y="261"/>
                  </a:lnTo>
                  <a:lnTo>
                    <a:pt x="411" y="309"/>
                  </a:lnTo>
                  <a:lnTo>
                    <a:pt x="433" y="358"/>
                  </a:lnTo>
                  <a:lnTo>
                    <a:pt x="433" y="402"/>
                  </a:lnTo>
                  <a:lnTo>
                    <a:pt x="411" y="433"/>
                  </a:lnTo>
                  <a:lnTo>
                    <a:pt x="367" y="455"/>
                  </a:lnTo>
                  <a:lnTo>
                    <a:pt x="318" y="459"/>
                  </a:lnTo>
                  <a:lnTo>
                    <a:pt x="261" y="446"/>
                  </a:lnTo>
                  <a:lnTo>
                    <a:pt x="203" y="406"/>
                  </a:lnTo>
                  <a:lnTo>
                    <a:pt x="164" y="371"/>
                  </a:lnTo>
                  <a:lnTo>
                    <a:pt x="145" y="490"/>
                  </a:lnTo>
                  <a:lnTo>
                    <a:pt x="110" y="574"/>
                  </a:lnTo>
                  <a:lnTo>
                    <a:pt x="0" y="764"/>
                  </a:lnTo>
                  <a:lnTo>
                    <a:pt x="154" y="914"/>
                  </a:lnTo>
                  <a:lnTo>
                    <a:pt x="274" y="666"/>
                  </a:lnTo>
                  <a:lnTo>
                    <a:pt x="411" y="689"/>
                  </a:lnTo>
                  <a:lnTo>
                    <a:pt x="495" y="671"/>
                  </a:lnTo>
                  <a:lnTo>
                    <a:pt x="575" y="613"/>
                  </a:lnTo>
                  <a:lnTo>
                    <a:pt x="619" y="543"/>
                  </a:lnTo>
                  <a:lnTo>
                    <a:pt x="645" y="446"/>
                  </a:lnTo>
                  <a:lnTo>
                    <a:pt x="645" y="349"/>
                  </a:lnTo>
                  <a:lnTo>
                    <a:pt x="619" y="243"/>
                  </a:lnTo>
                  <a:lnTo>
                    <a:pt x="570" y="141"/>
                  </a:lnTo>
                  <a:lnTo>
                    <a:pt x="504" y="61"/>
                  </a:lnTo>
                  <a:lnTo>
                    <a:pt x="424" y="22"/>
                  </a:lnTo>
                  <a:lnTo>
                    <a:pt x="331" y="0"/>
                  </a:lnTo>
                  <a:lnTo>
                    <a:pt x="217" y="0"/>
                  </a:lnTo>
                  <a:lnTo>
                    <a:pt x="88" y="26"/>
                  </a:lnTo>
                  <a:lnTo>
                    <a:pt x="110" y="234"/>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7" name=""/>
            <p:cNvSpPr/>
            <p:nvPr/>
          </p:nvSpPr>
          <p:spPr>
            <a:xfrm>
              <a:off x="1924200" y="681120"/>
              <a:ext cx="84600" cy="65520"/>
            </a:xfrm>
            <a:custGeom>
              <a:avLst/>
              <a:gdLst/>
              <a:ahLst/>
              <a:rect l="0" t="0" r="r" b="b"/>
              <a:pathLst>
                <a:path w="235" h="182">
                  <a:moveTo>
                    <a:pt x="93" y="0"/>
                  </a:moveTo>
                  <a:lnTo>
                    <a:pt x="30" y="0"/>
                  </a:lnTo>
                  <a:lnTo>
                    <a:pt x="0" y="26"/>
                  </a:lnTo>
                  <a:lnTo>
                    <a:pt x="0" y="93"/>
                  </a:lnTo>
                  <a:lnTo>
                    <a:pt x="48" y="156"/>
                  </a:lnTo>
                  <a:lnTo>
                    <a:pt x="142" y="182"/>
                  </a:lnTo>
                  <a:lnTo>
                    <a:pt x="213" y="178"/>
                  </a:lnTo>
                  <a:lnTo>
                    <a:pt x="235" y="138"/>
                  </a:lnTo>
                  <a:lnTo>
                    <a:pt x="222" y="98"/>
                  </a:lnTo>
                  <a:lnTo>
                    <a:pt x="191" y="44"/>
                  </a:lnTo>
                  <a:lnTo>
                    <a:pt x="133" y="8"/>
                  </a:lnTo>
                  <a:lnTo>
                    <a:pt x="93" y="0"/>
                  </a:lnTo>
                  <a:close/>
                </a:path>
              </a:pathLst>
            </a:custGeom>
            <a:solidFill>
              <a:srgbClr val="fc0128"/>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48" name=""/>
          <p:cNvSpPr txBox="1"/>
          <p:nvPr/>
        </p:nvSpPr>
        <p:spPr>
          <a:xfrm>
            <a:off x="1066680" y="533520"/>
            <a:ext cx="7543800" cy="2057400"/>
          </a:xfrm>
          <a:prstGeom prst="rect">
            <a:avLst/>
          </a:prstGeom>
          <a:noFill/>
          <a:ln w="0">
            <a:noFill/>
          </a:ln>
        </p:spPr>
        <p:txBody>
          <a:bodyPr lIns="0" rIns="0" tIns="0" bIns="0" anchor="t">
            <a:noAutofit/>
          </a:bodyPr>
          <a:p>
            <a:pPr algn="ctr">
              <a:lnSpc>
                <a:spcPct val="110000"/>
              </a:lnSpc>
            </a:pPr>
            <a:r>
              <a:rPr b="1" lang="en-US" sz="4400" spc="-1" strike="noStrike">
                <a:solidFill>
                  <a:srgbClr val="ffcc66"/>
                </a:solidFill>
                <a:latin typeface="Arial"/>
                <a:ea typeface="Arial"/>
              </a:rPr>
              <a:t>Merchandising Work Sheet and Closing Entries</a:t>
            </a:r>
            <a:endParaRPr b="0" lang="en-US" sz="4400" spc="-1" strike="noStrike">
              <a:solidFill>
                <a:srgbClr val="ffffff"/>
              </a:solidFill>
              <a:latin typeface="Arial"/>
            </a:endParaRPr>
          </a:p>
        </p:txBody>
      </p:sp>
      <p:sp>
        <p:nvSpPr>
          <p:cNvPr id="449" name=""/>
          <p:cNvSpPr txBox="1"/>
          <p:nvPr/>
        </p:nvSpPr>
        <p:spPr>
          <a:xfrm>
            <a:off x="990720" y="2666880"/>
            <a:ext cx="7848720" cy="278136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
            </a:pPr>
            <a:r>
              <a:rPr b="1" lang="en-US" sz="3600" spc="-1" strike="noStrike">
                <a:solidFill>
                  <a:srgbClr val="fcffd8"/>
                </a:solidFill>
                <a:latin typeface="Arial"/>
                <a:ea typeface="Arial"/>
              </a:rPr>
              <a:t>SUPPLEMENTAL OBJECTIVE 5</a:t>
            </a:r>
            <a:endParaRPr b="0" lang="en-US" sz="3600" spc="-1" strike="noStrike">
              <a:solidFill>
                <a:srgbClr val="ffffff"/>
              </a:solidFill>
              <a:latin typeface="Arial"/>
            </a:endParaRPr>
          </a:p>
          <a:p>
            <a:pPr marL="343080" indent="-343080">
              <a:lnSpc>
                <a:spcPct val="110000"/>
              </a:lnSpc>
              <a:spcBef>
                <a:spcPts val="479"/>
              </a:spcBef>
              <a:buClr>
                <a:srgbClr val="ffcc66"/>
              </a:buClr>
              <a:buFont typeface="Monotype Sorts"/>
              <a:buChar char=" "/>
            </a:pPr>
            <a:r>
              <a:rPr b="1" lang="en-US" sz="3200" spc="-1" strike="noStrike">
                <a:solidFill>
                  <a:srgbClr val="fcffd8"/>
                </a:solidFill>
                <a:latin typeface="Arial"/>
                <a:ea typeface="Arial"/>
              </a:rPr>
              <a:t>Prepare a work sheet and closing entries for a merchandising concern using the periodic inventory system.</a:t>
            </a:r>
            <a:endParaRPr b="0" lang="en-US" sz="3200" spc="-1" strike="noStrike">
              <a:solidFill>
                <a:srgbClr val="ffffff"/>
              </a:solidFill>
              <a:latin typeface="Arial"/>
            </a:endParaRPr>
          </a:p>
        </p:txBody>
      </p:sp>
      <p:pic>
        <p:nvPicPr>
          <p:cNvPr id="450" name="" descr=""/>
          <p:cNvPicPr/>
          <p:nvPr/>
        </p:nvPicPr>
        <p:blipFill>
          <a:blip r:embed="rId1"/>
          <a:stretch/>
        </p:blipFill>
        <p:spPr>
          <a:xfrm>
            <a:off x="0" y="0"/>
            <a:ext cx="812880" cy="69850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51" name=""/>
          <p:cNvSpPr txBox="1"/>
          <p:nvPr/>
        </p:nvSpPr>
        <p:spPr>
          <a:xfrm>
            <a:off x="990720" y="53352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Merchandising Work Sheet</a:t>
            </a:r>
            <a:endParaRPr b="0" lang="en-US" sz="4400" spc="-1" strike="noStrike">
              <a:solidFill>
                <a:srgbClr val="ffffff"/>
              </a:solidFill>
              <a:latin typeface="Arial"/>
            </a:endParaRPr>
          </a:p>
        </p:txBody>
      </p:sp>
      <p:sp>
        <p:nvSpPr>
          <p:cNvPr id="452" name=""/>
          <p:cNvSpPr txBox="1"/>
          <p:nvPr/>
        </p:nvSpPr>
        <p:spPr>
          <a:xfrm>
            <a:off x="838080" y="1600200"/>
            <a:ext cx="8077320" cy="453384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 work sheet for a merchandiser is basically the same as for a service business.</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Differences exist due to the handling of merchandise and the additional accounts required and whether a company is using the periodic or perpetual syste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4" name=""/>
          <p:cNvSpPr txBox="1"/>
          <p:nvPr/>
        </p:nvSpPr>
        <p:spPr>
          <a:xfrm>
            <a:off x="914400" y="1447920"/>
            <a:ext cx="7238880" cy="312408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Merchandising businesses differ from service businesses in that they have goods on hand for sale to customers and engage in a series of transactions called the operating cycle.</a:t>
            </a:r>
            <a:endParaRPr b="0" lang="en-US" sz="3200" spc="-1" strike="noStrike">
              <a:solidFill>
                <a:srgbClr val="ffffff"/>
              </a:solidFill>
              <a:latin typeface="Arial"/>
            </a:endParaRPr>
          </a:p>
        </p:txBody>
      </p:sp>
      <p:pic>
        <p:nvPicPr>
          <p:cNvPr id="55" name="" descr=""/>
          <p:cNvPicPr/>
          <p:nvPr/>
        </p:nvPicPr>
        <p:blipFill>
          <a:blip r:embed="rId1"/>
          <a:stretch/>
        </p:blipFill>
        <p:spPr>
          <a:xfrm>
            <a:off x="5181480" y="4114800"/>
            <a:ext cx="3238560" cy="2324160"/>
          </a:xfrm>
          <a:prstGeom prst="rect">
            <a:avLst/>
          </a:prstGeom>
          <a:ln w="0">
            <a:noFill/>
          </a:ln>
        </p:spPr>
      </p:pic>
      <p:sp>
        <p:nvSpPr>
          <p:cNvPr id="56" name=""/>
          <p:cNvSpPr txBox="1"/>
          <p:nvPr/>
        </p:nvSpPr>
        <p:spPr>
          <a:xfrm>
            <a:off x="685800" y="609480"/>
            <a:ext cx="8153280" cy="762120"/>
          </a:xfrm>
          <a:prstGeom prst="rect">
            <a:avLst/>
          </a:prstGeom>
          <a:noFill/>
          <a:ln w="0">
            <a:noFill/>
          </a:ln>
        </p:spPr>
        <p:txBody>
          <a:bodyPr lIns="0" rIns="0" tIns="0" bIns="0" anchor="t">
            <a:noAutofit/>
          </a:bodyPr>
          <a:p>
            <a:pPr algn="ctr">
              <a:lnSpc>
                <a:spcPct val="100000"/>
              </a:lnSpc>
              <a:spcBef>
                <a:spcPts val="1199"/>
              </a:spcBef>
            </a:pPr>
            <a:r>
              <a:rPr b="1" lang="en-US" sz="4400" spc="-1" strike="noStrike">
                <a:solidFill>
                  <a:srgbClr val="ffcc00"/>
                </a:solidFill>
                <a:latin typeface="Arial"/>
                <a:ea typeface="Arial"/>
              </a:rPr>
              <a:t>Merchandising Businesse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53" name=""/>
          <p:cNvSpPr txBox="1"/>
          <p:nvPr/>
        </p:nvSpPr>
        <p:spPr>
          <a:xfrm>
            <a:off x="914400" y="304920"/>
            <a:ext cx="7819920" cy="1295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Work Sheet:</a:t>
            </a:r>
            <a:br>
              <a:rPr sz="4400"/>
            </a:br>
            <a:r>
              <a:rPr b="1" lang="en-US" sz="4400" spc="-1" strike="noStrike">
                <a:solidFill>
                  <a:srgbClr val="ffcc66"/>
                </a:solidFill>
                <a:latin typeface="Arial"/>
                <a:ea typeface="Arial"/>
              </a:rPr>
              <a:t>Periodic Inventory System</a:t>
            </a:r>
            <a:endParaRPr b="0" lang="en-US" sz="4400" spc="-1" strike="noStrike">
              <a:solidFill>
                <a:srgbClr val="ffffff"/>
              </a:solidFill>
              <a:latin typeface="Arial"/>
            </a:endParaRPr>
          </a:p>
        </p:txBody>
      </p:sp>
      <p:sp>
        <p:nvSpPr>
          <p:cNvPr id="454" name=""/>
          <p:cNvSpPr txBox="1"/>
          <p:nvPr/>
        </p:nvSpPr>
        <p:spPr>
          <a:xfrm>
            <a:off x="609480" y="1676520"/>
            <a:ext cx="8534520" cy="464832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2800" spc="-1" strike="noStrike">
                <a:solidFill>
                  <a:srgbClr val="fcffd8"/>
                </a:solidFill>
                <a:latin typeface="Arial"/>
                <a:ea typeface="Arial"/>
              </a:rPr>
              <a:t>Accounts used in the periodic system include:</a:t>
            </a:r>
            <a:endParaRPr b="0" lang="en-US" sz="2800" spc="-1" strike="noStrike">
              <a:solidFill>
                <a:srgbClr val="ffffff"/>
              </a:solidFill>
              <a:latin typeface="Arial"/>
            </a:endParaRPr>
          </a:p>
          <a:p>
            <a:pPr marL="743040" indent="-285840">
              <a:lnSpc>
                <a:spcPct val="100000"/>
              </a:lnSpc>
              <a:spcBef>
                <a:spcPts val="479"/>
              </a:spcBef>
            </a:pPr>
            <a:r>
              <a:rPr b="1" lang="en-US" sz="2800" spc="-1" strike="noStrike">
                <a:solidFill>
                  <a:srgbClr val="fcffd8"/>
                </a:solidFill>
                <a:latin typeface="Arial"/>
                <a:ea typeface="Arial"/>
              </a:rPr>
              <a:t>1. Sales.</a:t>
            </a:r>
            <a:endParaRPr b="0" lang="en-US" sz="2800" spc="-1" strike="noStrike">
              <a:solidFill>
                <a:srgbClr val="ffffff"/>
              </a:solidFill>
              <a:latin typeface="Arial"/>
            </a:endParaRPr>
          </a:p>
          <a:p>
            <a:pPr marL="743040" indent="-285840">
              <a:lnSpc>
                <a:spcPct val="100000"/>
              </a:lnSpc>
              <a:spcBef>
                <a:spcPts val="479"/>
              </a:spcBef>
            </a:pPr>
            <a:r>
              <a:rPr b="1" lang="en-US" sz="2800" spc="-1" strike="noStrike">
                <a:solidFill>
                  <a:srgbClr val="fcffd8"/>
                </a:solidFill>
                <a:latin typeface="Arial"/>
                <a:ea typeface="Arial"/>
              </a:rPr>
              <a:t>2. Sales Returns and Allowances.</a:t>
            </a:r>
            <a:endParaRPr b="0" lang="en-US" sz="2800" spc="-1" strike="noStrike">
              <a:solidFill>
                <a:srgbClr val="ffffff"/>
              </a:solidFill>
              <a:latin typeface="Arial"/>
            </a:endParaRPr>
          </a:p>
          <a:p>
            <a:pPr marL="743040" indent="-285840">
              <a:lnSpc>
                <a:spcPct val="100000"/>
              </a:lnSpc>
              <a:spcBef>
                <a:spcPts val="479"/>
              </a:spcBef>
            </a:pPr>
            <a:r>
              <a:rPr b="1" lang="en-US" sz="2800" spc="-1" strike="noStrike">
                <a:solidFill>
                  <a:srgbClr val="fcffd8"/>
                </a:solidFill>
                <a:latin typeface="Arial"/>
                <a:ea typeface="Arial"/>
              </a:rPr>
              <a:t>3. Sales Discounts.</a:t>
            </a:r>
            <a:endParaRPr b="0" lang="en-US" sz="2800" spc="-1" strike="noStrike">
              <a:solidFill>
                <a:srgbClr val="ffffff"/>
              </a:solidFill>
              <a:latin typeface="Arial"/>
            </a:endParaRPr>
          </a:p>
          <a:p>
            <a:pPr marL="743040" indent="-285840">
              <a:lnSpc>
                <a:spcPct val="100000"/>
              </a:lnSpc>
              <a:spcBef>
                <a:spcPts val="479"/>
              </a:spcBef>
            </a:pPr>
            <a:r>
              <a:rPr b="1" lang="en-US" sz="2800" spc="-1" strike="noStrike">
                <a:solidFill>
                  <a:srgbClr val="fcffd8"/>
                </a:solidFill>
                <a:latin typeface="Arial"/>
                <a:ea typeface="Arial"/>
              </a:rPr>
              <a:t>4. Purchases.</a:t>
            </a:r>
            <a:endParaRPr b="0" lang="en-US" sz="2800" spc="-1" strike="noStrike">
              <a:solidFill>
                <a:srgbClr val="ffffff"/>
              </a:solidFill>
              <a:latin typeface="Arial"/>
            </a:endParaRPr>
          </a:p>
          <a:p>
            <a:pPr marL="743040" indent="-285840">
              <a:lnSpc>
                <a:spcPct val="100000"/>
              </a:lnSpc>
              <a:spcBef>
                <a:spcPts val="479"/>
              </a:spcBef>
            </a:pPr>
            <a:r>
              <a:rPr b="1" lang="en-US" sz="2800" spc="-1" strike="noStrike">
                <a:solidFill>
                  <a:srgbClr val="fcffd8"/>
                </a:solidFill>
                <a:latin typeface="Arial"/>
                <a:ea typeface="Arial"/>
              </a:rPr>
              <a:t>5. Purchases Returns and Allowances.</a:t>
            </a:r>
            <a:endParaRPr b="0" lang="en-US" sz="2800" spc="-1" strike="noStrike">
              <a:solidFill>
                <a:srgbClr val="ffffff"/>
              </a:solidFill>
              <a:latin typeface="Arial"/>
            </a:endParaRPr>
          </a:p>
          <a:p>
            <a:pPr marL="743040" indent="-285840">
              <a:lnSpc>
                <a:spcPct val="100000"/>
              </a:lnSpc>
              <a:spcBef>
                <a:spcPts val="479"/>
              </a:spcBef>
            </a:pPr>
            <a:r>
              <a:rPr b="1" lang="en-US" sz="2800" spc="-1" strike="noStrike">
                <a:solidFill>
                  <a:srgbClr val="fcffd8"/>
                </a:solidFill>
                <a:latin typeface="Arial"/>
                <a:ea typeface="Arial"/>
              </a:rPr>
              <a:t>6. Purchase Discounts.</a:t>
            </a:r>
            <a:endParaRPr b="0" lang="en-US" sz="2800" spc="-1" strike="noStrike">
              <a:solidFill>
                <a:srgbClr val="ffffff"/>
              </a:solidFill>
              <a:latin typeface="Arial"/>
            </a:endParaRPr>
          </a:p>
          <a:p>
            <a:pPr marL="743040" indent="-285840">
              <a:lnSpc>
                <a:spcPct val="100000"/>
              </a:lnSpc>
              <a:spcBef>
                <a:spcPts val="479"/>
              </a:spcBef>
            </a:pPr>
            <a:r>
              <a:rPr b="1" lang="en-US" sz="2800" spc="-1" strike="noStrike">
                <a:solidFill>
                  <a:srgbClr val="fcffd8"/>
                </a:solidFill>
                <a:latin typeface="Arial"/>
                <a:ea typeface="Arial"/>
              </a:rPr>
              <a:t>7. Freight In.</a:t>
            </a:r>
            <a:endParaRPr b="0" lang="en-US" sz="2800" spc="-1" strike="noStrike">
              <a:solidFill>
                <a:srgbClr val="ffffff"/>
              </a:solidFill>
              <a:latin typeface="Arial"/>
            </a:endParaRPr>
          </a:p>
          <a:p>
            <a:pPr marL="743040" indent="-285840">
              <a:lnSpc>
                <a:spcPct val="100000"/>
              </a:lnSpc>
              <a:spcBef>
                <a:spcPts val="479"/>
              </a:spcBef>
            </a:pPr>
            <a:r>
              <a:rPr b="1" lang="en-US" sz="2800" spc="-1" strike="noStrike">
                <a:solidFill>
                  <a:srgbClr val="fcffd8"/>
                </a:solidFill>
                <a:latin typeface="Arial"/>
                <a:ea typeface="Arial"/>
              </a:rPr>
              <a:t>8. Merchandise Invento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55" name=""/>
          <p:cNvSpPr txBox="1"/>
          <p:nvPr/>
        </p:nvSpPr>
        <p:spPr>
          <a:xfrm>
            <a:off x="990720" y="304920"/>
            <a:ext cx="7667640" cy="1295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Work Sheet:</a:t>
            </a:r>
            <a:br>
              <a:rPr sz="4400"/>
            </a:br>
            <a:r>
              <a:rPr b="1" lang="en-US" sz="4400" spc="-1" strike="noStrike">
                <a:solidFill>
                  <a:srgbClr val="ffcc66"/>
                </a:solidFill>
                <a:latin typeface="Arial"/>
                <a:ea typeface="Arial"/>
              </a:rPr>
              <a:t>Periodic Inventory System</a:t>
            </a:r>
            <a:endParaRPr b="0" lang="en-US" sz="4400" spc="-1" strike="noStrike">
              <a:solidFill>
                <a:srgbClr val="ffffff"/>
              </a:solidFill>
              <a:latin typeface="Arial"/>
            </a:endParaRPr>
          </a:p>
        </p:txBody>
      </p:sp>
      <p:sp>
        <p:nvSpPr>
          <p:cNvPr id="456" name=""/>
          <p:cNvSpPr txBox="1"/>
          <p:nvPr/>
        </p:nvSpPr>
        <p:spPr>
          <a:xfrm>
            <a:off x="838080" y="1600200"/>
            <a:ext cx="8305920" cy="44578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Except for Merchandise Inventory all accounts are extended to the income statement columns on work sheet similar to revenue and expense accounts for a service business.</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The Merchandise Inventory beginning balance is extended to the debit column of the income statement columns and the ending balance is extended to the credit colum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57" name=""/>
          <p:cNvSpPr txBox="1"/>
          <p:nvPr/>
        </p:nvSpPr>
        <p:spPr>
          <a:xfrm>
            <a:off x="914400" y="457200"/>
            <a:ext cx="7848720" cy="13716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losing Entries:</a:t>
            </a:r>
            <a:br>
              <a:rPr sz="4400"/>
            </a:br>
            <a:r>
              <a:rPr b="1" lang="en-US" sz="4400" spc="-1" strike="noStrike">
                <a:solidFill>
                  <a:srgbClr val="ffcc66"/>
                </a:solidFill>
                <a:latin typeface="Arial"/>
                <a:ea typeface="Arial"/>
              </a:rPr>
              <a:t>Periodic Inventory System</a:t>
            </a:r>
            <a:endParaRPr b="0" lang="en-US" sz="4400" spc="-1" strike="noStrike">
              <a:solidFill>
                <a:srgbClr val="ffffff"/>
              </a:solidFill>
              <a:latin typeface="Arial"/>
            </a:endParaRPr>
          </a:p>
        </p:txBody>
      </p:sp>
      <p:sp>
        <p:nvSpPr>
          <p:cNvPr id="458" name=""/>
          <p:cNvSpPr txBox="1"/>
          <p:nvPr/>
        </p:nvSpPr>
        <p:spPr>
          <a:xfrm>
            <a:off x="1066680" y="1981080"/>
            <a:ext cx="7696080" cy="361944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Since no changes are made during the period in the Merchandise Inventory account, the balance represents the beginning bala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59" name=""/>
          <p:cNvSpPr txBox="1"/>
          <p:nvPr/>
        </p:nvSpPr>
        <p:spPr>
          <a:xfrm>
            <a:off x="990720" y="380880"/>
            <a:ext cx="7848720" cy="13716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losing Entries:</a:t>
            </a:r>
            <a:br>
              <a:rPr sz="4400"/>
            </a:br>
            <a:r>
              <a:rPr b="1" lang="en-US" sz="4400" spc="-1" strike="noStrike">
                <a:solidFill>
                  <a:srgbClr val="ffcc66"/>
                </a:solidFill>
                <a:latin typeface="Arial"/>
                <a:ea typeface="Arial"/>
              </a:rPr>
              <a:t>Periodic Inventory System</a:t>
            </a:r>
            <a:endParaRPr b="0" lang="en-US" sz="4400" spc="-1" strike="noStrike">
              <a:solidFill>
                <a:srgbClr val="ffffff"/>
              </a:solidFill>
              <a:latin typeface="Arial"/>
            </a:endParaRPr>
          </a:p>
        </p:txBody>
      </p:sp>
      <p:sp>
        <p:nvSpPr>
          <p:cNvPr id="460" name=""/>
          <p:cNvSpPr txBox="1"/>
          <p:nvPr/>
        </p:nvSpPr>
        <p:spPr>
          <a:xfrm>
            <a:off x="838080" y="1790640"/>
            <a:ext cx="8001000" cy="44578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o calculate net income, the closing entries must:</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Remove the beginning inventory from the Merchandise Inventory account (credit).</a:t>
            </a:r>
            <a:endParaRPr b="0" lang="en-US" sz="28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Enter the ending inventory in the Merchandise Inventory account (debit).</a:t>
            </a:r>
            <a:endParaRPr b="0" lang="en-US" sz="28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Transfer both the inventory amounts to the Income Summary accou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61" name=""/>
          <p:cNvSpPr txBox="1"/>
          <p:nvPr/>
        </p:nvSpPr>
        <p:spPr>
          <a:xfrm>
            <a:off x="2895480" y="685800"/>
            <a:ext cx="4338720" cy="9558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sp>
        <p:nvSpPr>
          <p:cNvPr id="462" name=""/>
          <p:cNvSpPr txBox="1"/>
          <p:nvPr/>
        </p:nvSpPr>
        <p:spPr>
          <a:xfrm>
            <a:off x="762120" y="1752480"/>
            <a:ext cx="8077320" cy="4800600"/>
          </a:xfrm>
          <a:prstGeom prst="rect">
            <a:avLst/>
          </a:prstGeom>
          <a:noFill/>
          <a:ln w="0">
            <a:noFill/>
          </a:ln>
        </p:spPr>
        <p:txBody>
          <a:bodyPr lIns="0" rIns="0" tIns="0" bIns="0" anchor="t">
            <a:noAutofit/>
          </a:bodyPr>
          <a:p>
            <a:pPr marL="343080" indent="-343080">
              <a:lnSpc>
                <a:spcPct val="100000"/>
              </a:lnSpc>
              <a:spcBef>
                <a:spcPts val="479"/>
              </a:spcBef>
            </a:pPr>
            <a:r>
              <a:rPr b="1" lang="en-US" sz="2800" spc="-1" strike="noStrike">
                <a:solidFill>
                  <a:srgbClr val="fc0128"/>
                </a:solidFill>
                <a:latin typeface="Arial"/>
                <a:ea typeface="Arial"/>
              </a:rPr>
              <a:t>Q.</a:t>
            </a:r>
            <a:r>
              <a:rPr b="1" lang="en-US" sz="2800" spc="-1" strike="noStrike">
                <a:solidFill>
                  <a:srgbClr val="fc0128"/>
                </a:solidFill>
                <a:latin typeface="Arial"/>
                <a:ea typeface="Arial"/>
              </a:rPr>
              <a:t>	</a:t>
            </a:r>
            <a:r>
              <a:rPr b="1" lang="en-US" sz="2800" spc="-1" strike="noStrike">
                <a:solidFill>
                  <a:srgbClr val="fcffd8"/>
                </a:solidFill>
                <a:latin typeface="Arial"/>
                <a:ea typeface="Arial"/>
              </a:rPr>
              <a:t>During the closing process what entries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are required to be made to the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Merchandise Inventory account under a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periodic inventory system?</a:t>
            </a:r>
            <a:endParaRPr b="0" lang="en-US" sz="2800" spc="-1" strike="noStrike">
              <a:solidFill>
                <a:srgbClr val="ffffff"/>
              </a:solidFill>
              <a:latin typeface="Arial"/>
            </a:endParaRPr>
          </a:p>
          <a:p>
            <a:pPr marL="343080" indent="-343080">
              <a:lnSpc>
                <a:spcPct val="100000"/>
              </a:lnSpc>
              <a:spcBef>
                <a:spcPts val="479"/>
              </a:spcBef>
            </a:pPr>
            <a:r>
              <a:rPr b="1" lang="en-US" sz="2800" spc="-1" strike="noStrike">
                <a:solidFill>
                  <a:srgbClr val="fc0128"/>
                </a:solidFill>
                <a:latin typeface="Arial"/>
                <a:ea typeface="Arial"/>
              </a:rPr>
              <a:t>A.</a:t>
            </a:r>
            <a:r>
              <a:rPr b="1" lang="en-US" sz="2800" spc="-1" strike="noStrike">
                <a:solidFill>
                  <a:srgbClr val="fc0128"/>
                </a:solidFill>
                <a:latin typeface="Arial"/>
                <a:ea typeface="Arial"/>
              </a:rPr>
              <a:t>	</a:t>
            </a:r>
            <a:r>
              <a:rPr b="1" lang="en-US" sz="2800" spc="-1" strike="noStrike">
                <a:solidFill>
                  <a:srgbClr val="fcffd8"/>
                </a:solidFill>
                <a:latin typeface="Arial"/>
                <a:ea typeface="Arial"/>
              </a:rPr>
              <a:t>A credit entry is made in the amount of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the beginning balance and a debit entry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is made in the amount of the ending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balance.  As a result, net income is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correctly calculated and the balance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sheet presents the ending inventory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balance.</a:t>
            </a:r>
            <a:endParaRPr b="0" lang="en-US" sz="2800" spc="-1" strike="noStrike">
              <a:solidFill>
                <a:srgbClr val="ffffff"/>
              </a:solidFill>
              <a:latin typeface="Arial"/>
            </a:endParaRPr>
          </a:p>
        </p:txBody>
      </p:sp>
      <p:grpSp>
        <p:nvGrpSpPr>
          <p:cNvPr id="463" name=""/>
          <p:cNvGrpSpPr/>
          <p:nvPr/>
        </p:nvGrpSpPr>
        <p:grpSpPr>
          <a:xfrm>
            <a:off x="858960" y="123840"/>
            <a:ext cx="1578240" cy="1627560"/>
            <a:chOff x="858960" y="123840"/>
            <a:chExt cx="1578240" cy="1627560"/>
          </a:xfrm>
        </p:grpSpPr>
        <p:sp>
          <p:nvSpPr>
            <p:cNvPr id="464" name=""/>
            <p:cNvSpPr/>
            <p:nvPr/>
          </p:nvSpPr>
          <p:spPr>
            <a:xfrm>
              <a:off x="863640" y="922320"/>
              <a:ext cx="383040" cy="568800"/>
            </a:xfrm>
            <a:custGeom>
              <a:avLst/>
              <a:gdLst/>
              <a:ahLst/>
              <a:rect l="0" t="0" r="r" b="b"/>
              <a:pathLst>
                <a:path w="1064" h="1580">
                  <a:moveTo>
                    <a:pt x="428" y="0"/>
                  </a:moveTo>
                  <a:lnTo>
                    <a:pt x="371" y="70"/>
                  </a:lnTo>
                  <a:lnTo>
                    <a:pt x="371" y="273"/>
                  </a:lnTo>
                  <a:lnTo>
                    <a:pt x="428" y="424"/>
                  </a:lnTo>
                  <a:lnTo>
                    <a:pt x="490" y="499"/>
                  </a:lnTo>
                  <a:lnTo>
                    <a:pt x="393" y="600"/>
                  </a:lnTo>
                  <a:lnTo>
                    <a:pt x="264" y="830"/>
                  </a:lnTo>
                  <a:lnTo>
                    <a:pt x="22" y="1192"/>
                  </a:lnTo>
                  <a:lnTo>
                    <a:pt x="0" y="1280"/>
                  </a:lnTo>
                  <a:lnTo>
                    <a:pt x="22" y="1355"/>
                  </a:lnTo>
                  <a:lnTo>
                    <a:pt x="97" y="1355"/>
                  </a:lnTo>
                  <a:lnTo>
                    <a:pt x="163" y="1272"/>
                  </a:lnTo>
                  <a:lnTo>
                    <a:pt x="264" y="1063"/>
                  </a:lnTo>
                  <a:lnTo>
                    <a:pt x="331" y="975"/>
                  </a:lnTo>
                  <a:lnTo>
                    <a:pt x="371" y="1112"/>
                  </a:lnTo>
                  <a:lnTo>
                    <a:pt x="340" y="1258"/>
                  </a:lnTo>
                  <a:lnTo>
                    <a:pt x="238" y="1466"/>
                  </a:lnTo>
                  <a:lnTo>
                    <a:pt x="264" y="1514"/>
                  </a:lnTo>
                  <a:lnTo>
                    <a:pt x="331" y="1501"/>
                  </a:lnTo>
                  <a:lnTo>
                    <a:pt x="464" y="1395"/>
                  </a:lnTo>
                  <a:lnTo>
                    <a:pt x="565" y="1210"/>
                  </a:lnTo>
                  <a:lnTo>
                    <a:pt x="565" y="1527"/>
                  </a:lnTo>
                  <a:lnTo>
                    <a:pt x="693" y="1580"/>
                  </a:lnTo>
                  <a:lnTo>
                    <a:pt x="768" y="1382"/>
                  </a:lnTo>
                  <a:lnTo>
                    <a:pt x="835" y="1567"/>
                  </a:lnTo>
                  <a:lnTo>
                    <a:pt x="888" y="1514"/>
                  </a:lnTo>
                  <a:lnTo>
                    <a:pt x="910" y="1147"/>
                  </a:lnTo>
                  <a:lnTo>
                    <a:pt x="1064" y="803"/>
                  </a:lnTo>
                  <a:lnTo>
                    <a:pt x="1029" y="600"/>
                  </a:lnTo>
                  <a:lnTo>
                    <a:pt x="923" y="525"/>
                  </a:lnTo>
                  <a:lnTo>
                    <a:pt x="808" y="538"/>
                  </a:lnTo>
                  <a:lnTo>
                    <a:pt x="768" y="374"/>
                  </a:lnTo>
                  <a:lnTo>
                    <a:pt x="653" y="339"/>
                  </a:lnTo>
                  <a:lnTo>
                    <a:pt x="547" y="286"/>
                  </a:lnTo>
                  <a:lnTo>
                    <a:pt x="490" y="35"/>
                  </a:lnTo>
                  <a:lnTo>
                    <a:pt x="428"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465" name=""/>
            <p:cNvSpPr/>
            <p:nvPr/>
          </p:nvSpPr>
          <p:spPr>
            <a:xfrm>
              <a:off x="1184400" y="1154160"/>
              <a:ext cx="113040" cy="275040"/>
            </a:xfrm>
            <a:custGeom>
              <a:avLst/>
              <a:gdLst/>
              <a:ahLst/>
              <a:rect l="0" t="0" r="r" b="b"/>
              <a:pathLst>
                <a:path w="314" h="764">
                  <a:moveTo>
                    <a:pt x="159" y="0"/>
                  </a:moveTo>
                  <a:lnTo>
                    <a:pt x="314" y="199"/>
                  </a:lnTo>
                  <a:lnTo>
                    <a:pt x="239" y="628"/>
                  </a:lnTo>
                  <a:lnTo>
                    <a:pt x="0" y="764"/>
                  </a:lnTo>
                  <a:lnTo>
                    <a:pt x="0" y="547"/>
                  </a:lnTo>
                  <a:lnTo>
                    <a:pt x="97" y="327"/>
                  </a:lnTo>
                  <a:lnTo>
                    <a:pt x="159" y="158"/>
                  </a:lnTo>
                  <a:lnTo>
                    <a:pt x="159"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66" name=""/>
            <p:cNvSpPr/>
            <p:nvPr/>
          </p:nvSpPr>
          <p:spPr>
            <a:xfrm>
              <a:off x="1919160" y="995400"/>
              <a:ext cx="282960" cy="248040"/>
            </a:xfrm>
            <a:custGeom>
              <a:avLst/>
              <a:gdLst/>
              <a:ahLst/>
              <a:rect l="0" t="0" r="r" b="b"/>
              <a:pathLst>
                <a:path w="786" h="689">
                  <a:moveTo>
                    <a:pt x="327" y="0"/>
                  </a:moveTo>
                  <a:lnTo>
                    <a:pt x="327" y="110"/>
                  </a:lnTo>
                  <a:lnTo>
                    <a:pt x="353" y="208"/>
                  </a:lnTo>
                  <a:lnTo>
                    <a:pt x="503" y="371"/>
                  </a:lnTo>
                  <a:lnTo>
                    <a:pt x="786" y="468"/>
                  </a:lnTo>
                  <a:lnTo>
                    <a:pt x="747" y="676"/>
                  </a:lnTo>
                  <a:lnTo>
                    <a:pt x="503" y="689"/>
                  </a:lnTo>
                  <a:lnTo>
                    <a:pt x="149" y="539"/>
                  </a:lnTo>
                  <a:lnTo>
                    <a:pt x="0" y="274"/>
                  </a:lnTo>
                  <a:lnTo>
                    <a:pt x="176" y="13"/>
                  </a:lnTo>
                  <a:lnTo>
                    <a:pt x="327"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67" name=""/>
            <p:cNvSpPr/>
            <p:nvPr/>
          </p:nvSpPr>
          <p:spPr>
            <a:xfrm>
              <a:off x="2031840" y="714240"/>
              <a:ext cx="395640" cy="546480"/>
            </a:xfrm>
            <a:custGeom>
              <a:avLst/>
              <a:gdLst/>
              <a:ahLst/>
              <a:rect l="0" t="0" r="r" b="b"/>
              <a:pathLst>
                <a:path w="1099" h="1518">
                  <a:moveTo>
                    <a:pt x="97" y="644"/>
                  </a:moveTo>
                  <a:lnTo>
                    <a:pt x="0" y="755"/>
                  </a:lnTo>
                  <a:lnTo>
                    <a:pt x="22" y="1002"/>
                  </a:lnTo>
                  <a:lnTo>
                    <a:pt x="176" y="1116"/>
                  </a:lnTo>
                  <a:lnTo>
                    <a:pt x="185" y="1492"/>
                  </a:lnTo>
                  <a:lnTo>
                    <a:pt x="343" y="1492"/>
                  </a:lnTo>
                  <a:lnTo>
                    <a:pt x="330" y="1174"/>
                  </a:lnTo>
                  <a:lnTo>
                    <a:pt x="445" y="1505"/>
                  </a:lnTo>
                  <a:lnTo>
                    <a:pt x="524" y="1518"/>
                  </a:lnTo>
                  <a:lnTo>
                    <a:pt x="578" y="1408"/>
                  </a:lnTo>
                  <a:lnTo>
                    <a:pt x="591" y="1201"/>
                  </a:lnTo>
                  <a:lnTo>
                    <a:pt x="759" y="1395"/>
                  </a:lnTo>
                  <a:lnTo>
                    <a:pt x="825" y="1382"/>
                  </a:lnTo>
                  <a:lnTo>
                    <a:pt x="807" y="1245"/>
                  </a:lnTo>
                  <a:lnTo>
                    <a:pt x="746" y="1050"/>
                  </a:lnTo>
                  <a:lnTo>
                    <a:pt x="680" y="927"/>
                  </a:lnTo>
                  <a:lnTo>
                    <a:pt x="702" y="838"/>
                  </a:lnTo>
                  <a:lnTo>
                    <a:pt x="746" y="852"/>
                  </a:lnTo>
                  <a:lnTo>
                    <a:pt x="900" y="1050"/>
                  </a:lnTo>
                  <a:lnTo>
                    <a:pt x="1063" y="1099"/>
                  </a:lnTo>
                  <a:lnTo>
                    <a:pt x="1099" y="1037"/>
                  </a:lnTo>
                  <a:lnTo>
                    <a:pt x="1076" y="935"/>
                  </a:lnTo>
                  <a:lnTo>
                    <a:pt x="768" y="631"/>
                  </a:lnTo>
                  <a:lnTo>
                    <a:pt x="524" y="538"/>
                  </a:lnTo>
                  <a:lnTo>
                    <a:pt x="493" y="366"/>
                  </a:lnTo>
                  <a:lnTo>
                    <a:pt x="578" y="211"/>
                  </a:lnTo>
                  <a:lnTo>
                    <a:pt x="578" y="48"/>
                  </a:lnTo>
                  <a:lnTo>
                    <a:pt x="507" y="0"/>
                  </a:lnTo>
                  <a:lnTo>
                    <a:pt x="330" y="411"/>
                  </a:lnTo>
                  <a:lnTo>
                    <a:pt x="176" y="472"/>
                  </a:lnTo>
                  <a:lnTo>
                    <a:pt x="136" y="587"/>
                  </a:lnTo>
                  <a:lnTo>
                    <a:pt x="97" y="644"/>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468" name=""/>
            <p:cNvSpPr/>
            <p:nvPr/>
          </p:nvSpPr>
          <p:spPr>
            <a:xfrm>
              <a:off x="1384200" y="239760"/>
              <a:ext cx="430560" cy="698760"/>
            </a:xfrm>
            <a:custGeom>
              <a:avLst/>
              <a:gdLst/>
              <a:ahLst/>
              <a:rect l="0" t="0" r="r" b="b"/>
              <a:pathLst>
                <a:path w="1196" h="1941">
                  <a:moveTo>
                    <a:pt x="299" y="268"/>
                  </a:moveTo>
                  <a:lnTo>
                    <a:pt x="211" y="639"/>
                  </a:lnTo>
                  <a:lnTo>
                    <a:pt x="13" y="714"/>
                  </a:lnTo>
                  <a:lnTo>
                    <a:pt x="66" y="833"/>
                  </a:lnTo>
                  <a:lnTo>
                    <a:pt x="0" y="903"/>
                  </a:lnTo>
                  <a:lnTo>
                    <a:pt x="0" y="1041"/>
                  </a:lnTo>
                  <a:lnTo>
                    <a:pt x="97" y="1165"/>
                  </a:lnTo>
                  <a:lnTo>
                    <a:pt x="185" y="1165"/>
                  </a:lnTo>
                  <a:lnTo>
                    <a:pt x="246" y="1597"/>
                  </a:lnTo>
                  <a:lnTo>
                    <a:pt x="321" y="1782"/>
                  </a:lnTo>
                  <a:lnTo>
                    <a:pt x="568" y="1941"/>
                  </a:lnTo>
                  <a:lnTo>
                    <a:pt x="812" y="1919"/>
                  </a:lnTo>
                  <a:lnTo>
                    <a:pt x="931" y="1597"/>
                  </a:lnTo>
                  <a:lnTo>
                    <a:pt x="957" y="1107"/>
                  </a:lnTo>
                  <a:lnTo>
                    <a:pt x="1196" y="859"/>
                  </a:lnTo>
                  <a:lnTo>
                    <a:pt x="1187" y="762"/>
                  </a:lnTo>
                  <a:lnTo>
                    <a:pt x="1156" y="714"/>
                  </a:lnTo>
                  <a:lnTo>
                    <a:pt x="1032" y="705"/>
                  </a:lnTo>
                  <a:lnTo>
                    <a:pt x="1072" y="577"/>
                  </a:lnTo>
                  <a:lnTo>
                    <a:pt x="944" y="489"/>
                  </a:lnTo>
                  <a:lnTo>
                    <a:pt x="891" y="211"/>
                  </a:lnTo>
                  <a:lnTo>
                    <a:pt x="520" y="0"/>
                  </a:lnTo>
                  <a:lnTo>
                    <a:pt x="321" y="198"/>
                  </a:lnTo>
                  <a:lnTo>
                    <a:pt x="299" y="268"/>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469" name=""/>
            <p:cNvSpPr/>
            <p:nvPr/>
          </p:nvSpPr>
          <p:spPr>
            <a:xfrm>
              <a:off x="1415880" y="824040"/>
              <a:ext cx="395640" cy="833760"/>
            </a:xfrm>
            <a:custGeom>
              <a:avLst/>
              <a:gdLst/>
              <a:ahLst/>
              <a:rect l="0" t="0" r="r" b="b"/>
              <a:pathLst>
                <a:path w="1099" h="2316">
                  <a:moveTo>
                    <a:pt x="224" y="123"/>
                  </a:moveTo>
                  <a:lnTo>
                    <a:pt x="383" y="233"/>
                  </a:lnTo>
                  <a:lnTo>
                    <a:pt x="458" y="357"/>
                  </a:lnTo>
                  <a:lnTo>
                    <a:pt x="900" y="0"/>
                  </a:lnTo>
                  <a:lnTo>
                    <a:pt x="1037" y="74"/>
                  </a:lnTo>
                  <a:lnTo>
                    <a:pt x="1099" y="440"/>
                  </a:lnTo>
                  <a:lnTo>
                    <a:pt x="781" y="1504"/>
                  </a:lnTo>
                  <a:lnTo>
                    <a:pt x="882" y="2095"/>
                  </a:lnTo>
                  <a:lnTo>
                    <a:pt x="467" y="2316"/>
                  </a:lnTo>
                  <a:lnTo>
                    <a:pt x="145" y="2192"/>
                  </a:lnTo>
                  <a:lnTo>
                    <a:pt x="145" y="1566"/>
                  </a:lnTo>
                  <a:lnTo>
                    <a:pt x="0" y="961"/>
                  </a:lnTo>
                  <a:lnTo>
                    <a:pt x="145" y="233"/>
                  </a:lnTo>
                  <a:lnTo>
                    <a:pt x="224" y="123"/>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70" name=""/>
            <p:cNvSpPr/>
            <p:nvPr/>
          </p:nvSpPr>
          <p:spPr>
            <a:xfrm>
              <a:off x="1433520" y="146160"/>
              <a:ext cx="367200" cy="221040"/>
            </a:xfrm>
            <a:custGeom>
              <a:avLst/>
              <a:gdLst/>
              <a:ahLst/>
              <a:rect l="0" t="0" r="r" b="b"/>
              <a:pathLst>
                <a:path w="1020" h="614">
                  <a:moveTo>
                    <a:pt x="123" y="588"/>
                  </a:moveTo>
                  <a:lnTo>
                    <a:pt x="274" y="424"/>
                  </a:lnTo>
                  <a:lnTo>
                    <a:pt x="371" y="397"/>
                  </a:lnTo>
                  <a:lnTo>
                    <a:pt x="371" y="411"/>
                  </a:lnTo>
                  <a:lnTo>
                    <a:pt x="419" y="397"/>
                  </a:lnTo>
                  <a:lnTo>
                    <a:pt x="481" y="446"/>
                  </a:lnTo>
                  <a:lnTo>
                    <a:pt x="600" y="473"/>
                  </a:lnTo>
                  <a:lnTo>
                    <a:pt x="702" y="614"/>
                  </a:lnTo>
                  <a:lnTo>
                    <a:pt x="861" y="553"/>
                  </a:lnTo>
                  <a:lnTo>
                    <a:pt x="861" y="487"/>
                  </a:lnTo>
                  <a:lnTo>
                    <a:pt x="1020" y="411"/>
                  </a:lnTo>
                  <a:lnTo>
                    <a:pt x="972" y="296"/>
                  </a:lnTo>
                  <a:lnTo>
                    <a:pt x="822" y="287"/>
                  </a:lnTo>
                  <a:lnTo>
                    <a:pt x="844" y="159"/>
                  </a:lnTo>
                  <a:lnTo>
                    <a:pt x="715" y="177"/>
                  </a:lnTo>
                  <a:lnTo>
                    <a:pt x="693" y="88"/>
                  </a:lnTo>
                  <a:lnTo>
                    <a:pt x="600" y="88"/>
                  </a:lnTo>
                  <a:lnTo>
                    <a:pt x="538" y="136"/>
                  </a:lnTo>
                  <a:lnTo>
                    <a:pt x="481" y="136"/>
                  </a:lnTo>
                  <a:lnTo>
                    <a:pt x="494" y="0"/>
                  </a:lnTo>
                  <a:lnTo>
                    <a:pt x="371" y="61"/>
                  </a:lnTo>
                  <a:lnTo>
                    <a:pt x="198" y="287"/>
                  </a:lnTo>
                  <a:lnTo>
                    <a:pt x="189" y="136"/>
                  </a:lnTo>
                  <a:lnTo>
                    <a:pt x="101" y="208"/>
                  </a:lnTo>
                  <a:lnTo>
                    <a:pt x="79" y="397"/>
                  </a:lnTo>
                  <a:lnTo>
                    <a:pt x="0" y="362"/>
                  </a:lnTo>
                  <a:lnTo>
                    <a:pt x="13" y="487"/>
                  </a:lnTo>
                  <a:lnTo>
                    <a:pt x="123" y="588"/>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1" name=""/>
            <p:cNvSpPr/>
            <p:nvPr/>
          </p:nvSpPr>
          <p:spPr>
            <a:xfrm>
              <a:off x="1531800" y="977760"/>
              <a:ext cx="117720" cy="632160"/>
            </a:xfrm>
            <a:custGeom>
              <a:avLst/>
              <a:gdLst/>
              <a:ahLst/>
              <a:rect l="0" t="0" r="r" b="b"/>
              <a:pathLst>
                <a:path w="327" h="1756">
                  <a:moveTo>
                    <a:pt x="168" y="8"/>
                  </a:moveTo>
                  <a:lnTo>
                    <a:pt x="57" y="88"/>
                  </a:lnTo>
                  <a:lnTo>
                    <a:pt x="57" y="233"/>
                  </a:lnTo>
                  <a:lnTo>
                    <a:pt x="136" y="282"/>
                  </a:lnTo>
                  <a:lnTo>
                    <a:pt x="30" y="515"/>
                  </a:lnTo>
                  <a:lnTo>
                    <a:pt x="0" y="824"/>
                  </a:lnTo>
                  <a:lnTo>
                    <a:pt x="79" y="1231"/>
                  </a:lnTo>
                  <a:lnTo>
                    <a:pt x="79" y="1398"/>
                  </a:lnTo>
                  <a:lnTo>
                    <a:pt x="39" y="1531"/>
                  </a:lnTo>
                  <a:lnTo>
                    <a:pt x="208" y="1756"/>
                  </a:lnTo>
                  <a:lnTo>
                    <a:pt x="318" y="1416"/>
                  </a:lnTo>
                  <a:lnTo>
                    <a:pt x="318" y="1182"/>
                  </a:lnTo>
                  <a:lnTo>
                    <a:pt x="234" y="962"/>
                  </a:lnTo>
                  <a:lnTo>
                    <a:pt x="195" y="661"/>
                  </a:lnTo>
                  <a:lnTo>
                    <a:pt x="278" y="374"/>
                  </a:lnTo>
                  <a:lnTo>
                    <a:pt x="252" y="260"/>
                  </a:lnTo>
                  <a:lnTo>
                    <a:pt x="327" y="198"/>
                  </a:lnTo>
                  <a:lnTo>
                    <a:pt x="318" y="123"/>
                  </a:lnTo>
                  <a:lnTo>
                    <a:pt x="221" y="0"/>
                  </a:lnTo>
                  <a:lnTo>
                    <a:pt x="168" y="8"/>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2" name=""/>
            <p:cNvSpPr/>
            <p:nvPr/>
          </p:nvSpPr>
          <p:spPr>
            <a:xfrm>
              <a:off x="1528920" y="765000"/>
              <a:ext cx="93960" cy="57600"/>
            </a:xfrm>
            <a:custGeom>
              <a:avLst/>
              <a:gdLst/>
              <a:ahLst/>
              <a:rect l="0" t="0" r="r" b="b"/>
              <a:pathLst>
                <a:path w="261" h="160">
                  <a:moveTo>
                    <a:pt x="0" y="49"/>
                  </a:moveTo>
                  <a:lnTo>
                    <a:pt x="105" y="160"/>
                  </a:lnTo>
                  <a:lnTo>
                    <a:pt x="208" y="147"/>
                  </a:lnTo>
                  <a:lnTo>
                    <a:pt x="261" y="13"/>
                  </a:lnTo>
                  <a:lnTo>
                    <a:pt x="146" y="0"/>
                  </a:lnTo>
                  <a:lnTo>
                    <a:pt x="26" y="13"/>
                  </a:lnTo>
                  <a:lnTo>
                    <a:pt x="0" y="49"/>
                  </a:lnTo>
                  <a:close/>
                </a:path>
              </a:pathLst>
            </a:custGeom>
            <a:solidFill>
              <a:srgbClr val="ffffff"/>
            </a:solidFill>
            <a:ln w="12600">
              <a:solidFill>
                <a:srgbClr val="ffffff"/>
              </a:solidFill>
              <a:round/>
            </a:ln>
          </p:spPr>
          <p:txBody>
            <a:bodyPr lIns="96120" rIns="96120" tIns="6480" bIns="6480" anchor="t">
              <a:noAutofit/>
            </a:bodyPr>
            <a:p>
              <a:endParaRPr b="0" lang="en-US" sz="1800" spc="-1" strike="noStrike">
                <a:solidFill>
                  <a:srgbClr val="000000"/>
                </a:solidFill>
                <a:latin typeface="Arial"/>
              </a:endParaRPr>
            </a:p>
          </p:txBody>
        </p:sp>
        <p:sp>
          <p:nvSpPr>
            <p:cNvPr id="473" name=""/>
            <p:cNvSpPr/>
            <p:nvPr/>
          </p:nvSpPr>
          <p:spPr>
            <a:xfrm>
              <a:off x="1424160" y="474840"/>
              <a:ext cx="117720" cy="122760"/>
            </a:xfrm>
            <a:custGeom>
              <a:avLst/>
              <a:gdLst/>
              <a:ahLst/>
              <a:rect l="0" t="0" r="r" b="b"/>
              <a:pathLst>
                <a:path w="327" h="341">
                  <a:moveTo>
                    <a:pt x="0" y="39"/>
                  </a:moveTo>
                  <a:lnTo>
                    <a:pt x="225" y="341"/>
                  </a:lnTo>
                  <a:lnTo>
                    <a:pt x="327" y="319"/>
                  </a:lnTo>
                  <a:lnTo>
                    <a:pt x="88" y="0"/>
                  </a:lnTo>
                  <a:lnTo>
                    <a:pt x="0" y="39"/>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74" name=""/>
            <p:cNvSpPr/>
            <p:nvPr/>
          </p:nvSpPr>
          <p:spPr>
            <a:xfrm>
              <a:off x="1631880" y="447840"/>
              <a:ext cx="101880" cy="122760"/>
            </a:xfrm>
            <a:custGeom>
              <a:avLst/>
              <a:gdLst/>
              <a:ahLst/>
              <a:rect l="0" t="0" r="r" b="b"/>
              <a:pathLst>
                <a:path w="283" h="341">
                  <a:moveTo>
                    <a:pt x="0" y="48"/>
                  </a:moveTo>
                  <a:lnTo>
                    <a:pt x="195" y="341"/>
                  </a:lnTo>
                  <a:lnTo>
                    <a:pt x="283" y="266"/>
                  </a:lnTo>
                  <a:lnTo>
                    <a:pt x="79" y="0"/>
                  </a:lnTo>
                  <a:lnTo>
                    <a:pt x="0" y="4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75" name=""/>
            <p:cNvSpPr/>
            <p:nvPr/>
          </p:nvSpPr>
          <p:spPr>
            <a:xfrm>
              <a:off x="1380960" y="289080"/>
              <a:ext cx="411480" cy="308160"/>
            </a:xfrm>
            <a:custGeom>
              <a:avLst/>
              <a:gdLst/>
              <a:ahLst/>
              <a:rect l="0" t="0" r="r" b="b"/>
              <a:pathLst>
                <a:path w="1143" h="856">
                  <a:moveTo>
                    <a:pt x="524" y="508"/>
                  </a:moveTo>
                  <a:lnTo>
                    <a:pt x="418" y="477"/>
                  </a:lnTo>
                  <a:lnTo>
                    <a:pt x="511" y="401"/>
                  </a:lnTo>
                  <a:lnTo>
                    <a:pt x="476" y="357"/>
                  </a:lnTo>
                  <a:lnTo>
                    <a:pt x="361" y="459"/>
                  </a:lnTo>
                  <a:lnTo>
                    <a:pt x="145" y="486"/>
                  </a:lnTo>
                  <a:lnTo>
                    <a:pt x="0" y="490"/>
                  </a:lnTo>
                  <a:lnTo>
                    <a:pt x="0" y="609"/>
                  </a:lnTo>
                  <a:lnTo>
                    <a:pt x="136" y="852"/>
                  </a:lnTo>
                  <a:lnTo>
                    <a:pt x="171" y="856"/>
                  </a:lnTo>
                  <a:lnTo>
                    <a:pt x="48" y="591"/>
                  </a:lnTo>
                  <a:lnTo>
                    <a:pt x="238" y="508"/>
                  </a:lnTo>
                  <a:lnTo>
                    <a:pt x="361" y="508"/>
                  </a:lnTo>
                  <a:lnTo>
                    <a:pt x="454" y="561"/>
                  </a:lnTo>
                  <a:lnTo>
                    <a:pt x="476" y="636"/>
                  </a:lnTo>
                  <a:lnTo>
                    <a:pt x="476" y="799"/>
                  </a:lnTo>
                  <a:lnTo>
                    <a:pt x="476" y="852"/>
                  </a:lnTo>
                  <a:lnTo>
                    <a:pt x="529" y="772"/>
                  </a:lnTo>
                  <a:lnTo>
                    <a:pt x="529" y="605"/>
                  </a:lnTo>
                  <a:lnTo>
                    <a:pt x="613" y="605"/>
                  </a:lnTo>
                  <a:lnTo>
                    <a:pt x="653" y="799"/>
                  </a:lnTo>
                  <a:lnTo>
                    <a:pt x="697" y="816"/>
                  </a:lnTo>
                  <a:lnTo>
                    <a:pt x="834" y="816"/>
                  </a:lnTo>
                  <a:lnTo>
                    <a:pt x="975" y="781"/>
                  </a:lnTo>
                  <a:lnTo>
                    <a:pt x="1076" y="706"/>
                  </a:lnTo>
                  <a:lnTo>
                    <a:pt x="1090" y="534"/>
                  </a:lnTo>
                  <a:lnTo>
                    <a:pt x="1143" y="459"/>
                  </a:lnTo>
                  <a:lnTo>
                    <a:pt x="1112" y="414"/>
                  </a:lnTo>
                  <a:lnTo>
                    <a:pt x="984" y="366"/>
                  </a:lnTo>
                  <a:lnTo>
                    <a:pt x="962" y="189"/>
                  </a:lnTo>
                  <a:lnTo>
                    <a:pt x="843" y="189"/>
                  </a:lnTo>
                  <a:lnTo>
                    <a:pt x="702" y="0"/>
                  </a:lnTo>
                  <a:lnTo>
                    <a:pt x="834" y="211"/>
                  </a:lnTo>
                  <a:lnTo>
                    <a:pt x="874" y="211"/>
                  </a:lnTo>
                  <a:lnTo>
                    <a:pt x="900" y="357"/>
                  </a:lnTo>
                  <a:lnTo>
                    <a:pt x="737" y="414"/>
                  </a:lnTo>
                  <a:lnTo>
                    <a:pt x="622" y="370"/>
                  </a:lnTo>
                  <a:lnTo>
                    <a:pt x="605" y="414"/>
                  </a:lnTo>
                  <a:lnTo>
                    <a:pt x="666" y="459"/>
                  </a:lnTo>
                  <a:lnTo>
                    <a:pt x="666" y="503"/>
                  </a:lnTo>
                  <a:lnTo>
                    <a:pt x="803" y="437"/>
                  </a:lnTo>
                  <a:lnTo>
                    <a:pt x="918" y="423"/>
                  </a:lnTo>
                  <a:lnTo>
                    <a:pt x="1050" y="441"/>
                  </a:lnTo>
                  <a:lnTo>
                    <a:pt x="1050" y="468"/>
                  </a:lnTo>
                  <a:lnTo>
                    <a:pt x="988" y="525"/>
                  </a:lnTo>
                  <a:lnTo>
                    <a:pt x="962" y="605"/>
                  </a:lnTo>
                  <a:lnTo>
                    <a:pt x="957" y="706"/>
                  </a:lnTo>
                  <a:lnTo>
                    <a:pt x="882" y="750"/>
                  </a:lnTo>
                  <a:lnTo>
                    <a:pt x="772" y="763"/>
                  </a:lnTo>
                  <a:lnTo>
                    <a:pt x="697" y="763"/>
                  </a:lnTo>
                  <a:lnTo>
                    <a:pt x="671" y="733"/>
                  </a:lnTo>
                  <a:lnTo>
                    <a:pt x="653" y="534"/>
                  </a:lnTo>
                  <a:lnTo>
                    <a:pt x="529" y="534"/>
                  </a:lnTo>
                  <a:lnTo>
                    <a:pt x="524" y="50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76" name=""/>
            <p:cNvSpPr/>
            <p:nvPr/>
          </p:nvSpPr>
          <p:spPr>
            <a:xfrm>
              <a:off x="1522440" y="644400"/>
              <a:ext cx="133560" cy="63720"/>
            </a:xfrm>
            <a:custGeom>
              <a:avLst/>
              <a:gdLst/>
              <a:ahLst/>
              <a:rect l="0" t="0" r="r" b="b"/>
              <a:pathLst>
                <a:path w="371" h="177">
                  <a:moveTo>
                    <a:pt x="0" y="0"/>
                  </a:moveTo>
                  <a:lnTo>
                    <a:pt x="61" y="79"/>
                  </a:lnTo>
                  <a:lnTo>
                    <a:pt x="221" y="79"/>
                  </a:lnTo>
                  <a:lnTo>
                    <a:pt x="287" y="26"/>
                  </a:lnTo>
                  <a:lnTo>
                    <a:pt x="371" y="26"/>
                  </a:lnTo>
                  <a:lnTo>
                    <a:pt x="358" y="52"/>
                  </a:lnTo>
                  <a:lnTo>
                    <a:pt x="358" y="79"/>
                  </a:lnTo>
                  <a:lnTo>
                    <a:pt x="208" y="177"/>
                  </a:lnTo>
                  <a:lnTo>
                    <a:pt x="123" y="177"/>
                  </a:lnTo>
                  <a:lnTo>
                    <a:pt x="79" y="142"/>
                  </a:lnTo>
                  <a:lnTo>
                    <a:pt x="35" y="142"/>
                  </a:lnTo>
                  <a:lnTo>
                    <a:pt x="0" y="0"/>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477" name=""/>
            <p:cNvSpPr/>
            <p:nvPr/>
          </p:nvSpPr>
          <p:spPr>
            <a:xfrm>
              <a:off x="1374840" y="542880"/>
              <a:ext cx="200520" cy="333720"/>
            </a:xfrm>
            <a:custGeom>
              <a:avLst/>
              <a:gdLst/>
              <a:ahLst/>
              <a:rect l="0" t="0" r="r" b="b"/>
              <a:pathLst>
                <a:path w="557" h="927">
                  <a:moveTo>
                    <a:pt x="557" y="66"/>
                  </a:moveTo>
                  <a:lnTo>
                    <a:pt x="557" y="79"/>
                  </a:lnTo>
                  <a:lnTo>
                    <a:pt x="460" y="176"/>
                  </a:lnTo>
                  <a:lnTo>
                    <a:pt x="380" y="194"/>
                  </a:lnTo>
                  <a:lnTo>
                    <a:pt x="221" y="167"/>
                  </a:lnTo>
                  <a:lnTo>
                    <a:pt x="252" y="499"/>
                  </a:lnTo>
                  <a:lnTo>
                    <a:pt x="287" y="777"/>
                  </a:lnTo>
                  <a:lnTo>
                    <a:pt x="353" y="927"/>
                  </a:lnTo>
                  <a:lnTo>
                    <a:pt x="287" y="821"/>
                  </a:lnTo>
                  <a:lnTo>
                    <a:pt x="261" y="702"/>
                  </a:lnTo>
                  <a:lnTo>
                    <a:pt x="217" y="392"/>
                  </a:lnTo>
                  <a:lnTo>
                    <a:pt x="172" y="410"/>
                  </a:lnTo>
                  <a:lnTo>
                    <a:pt x="114" y="374"/>
                  </a:lnTo>
                  <a:lnTo>
                    <a:pt x="13" y="211"/>
                  </a:lnTo>
                  <a:lnTo>
                    <a:pt x="0" y="119"/>
                  </a:lnTo>
                  <a:lnTo>
                    <a:pt x="0" y="57"/>
                  </a:lnTo>
                  <a:lnTo>
                    <a:pt x="22" y="17"/>
                  </a:lnTo>
                  <a:lnTo>
                    <a:pt x="88" y="0"/>
                  </a:lnTo>
                  <a:lnTo>
                    <a:pt x="97" y="26"/>
                  </a:lnTo>
                  <a:lnTo>
                    <a:pt x="44" y="44"/>
                  </a:lnTo>
                  <a:lnTo>
                    <a:pt x="30" y="110"/>
                  </a:lnTo>
                  <a:lnTo>
                    <a:pt x="39" y="198"/>
                  </a:lnTo>
                  <a:lnTo>
                    <a:pt x="110" y="277"/>
                  </a:lnTo>
                  <a:lnTo>
                    <a:pt x="146" y="260"/>
                  </a:lnTo>
                  <a:lnTo>
                    <a:pt x="146" y="92"/>
                  </a:lnTo>
                  <a:lnTo>
                    <a:pt x="212" y="127"/>
                  </a:lnTo>
                  <a:lnTo>
                    <a:pt x="314" y="149"/>
                  </a:lnTo>
                  <a:lnTo>
                    <a:pt x="406" y="145"/>
                  </a:lnTo>
                  <a:lnTo>
                    <a:pt x="495" y="92"/>
                  </a:lnTo>
                  <a:lnTo>
                    <a:pt x="557" y="6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78" name=""/>
            <p:cNvSpPr/>
            <p:nvPr/>
          </p:nvSpPr>
          <p:spPr>
            <a:xfrm>
              <a:off x="1428840" y="279360"/>
              <a:ext cx="60840" cy="176400"/>
            </a:xfrm>
            <a:custGeom>
              <a:avLst/>
              <a:gdLst/>
              <a:ahLst/>
              <a:rect l="0" t="0" r="r" b="b"/>
              <a:pathLst>
                <a:path w="169" h="490">
                  <a:moveTo>
                    <a:pt x="89" y="490"/>
                  </a:moveTo>
                  <a:lnTo>
                    <a:pt x="169" y="202"/>
                  </a:lnTo>
                  <a:lnTo>
                    <a:pt x="22" y="97"/>
                  </a:lnTo>
                  <a:lnTo>
                    <a:pt x="0" y="0"/>
                  </a:lnTo>
                  <a:lnTo>
                    <a:pt x="13" y="119"/>
                  </a:lnTo>
                  <a:lnTo>
                    <a:pt x="62" y="167"/>
                  </a:lnTo>
                  <a:lnTo>
                    <a:pt x="67" y="314"/>
                  </a:lnTo>
                  <a:lnTo>
                    <a:pt x="102" y="371"/>
                  </a:lnTo>
                  <a:lnTo>
                    <a:pt x="89" y="49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79" name=""/>
            <p:cNvSpPr/>
            <p:nvPr/>
          </p:nvSpPr>
          <p:spPr>
            <a:xfrm>
              <a:off x="1427040" y="123840"/>
              <a:ext cx="451080" cy="233640"/>
            </a:xfrm>
            <a:custGeom>
              <a:avLst/>
              <a:gdLst/>
              <a:ahLst/>
              <a:rect l="0" t="0" r="r" b="b"/>
              <a:pathLst>
                <a:path w="1253" h="649">
                  <a:moveTo>
                    <a:pt x="13" y="441"/>
                  </a:moveTo>
                  <a:lnTo>
                    <a:pt x="119" y="508"/>
                  </a:lnTo>
                  <a:lnTo>
                    <a:pt x="105" y="424"/>
                  </a:lnTo>
                  <a:lnTo>
                    <a:pt x="127" y="277"/>
                  </a:lnTo>
                  <a:lnTo>
                    <a:pt x="202" y="242"/>
                  </a:lnTo>
                  <a:lnTo>
                    <a:pt x="211" y="402"/>
                  </a:lnTo>
                  <a:lnTo>
                    <a:pt x="418" y="123"/>
                  </a:lnTo>
                  <a:lnTo>
                    <a:pt x="471" y="110"/>
                  </a:lnTo>
                  <a:lnTo>
                    <a:pt x="432" y="216"/>
                  </a:lnTo>
                  <a:lnTo>
                    <a:pt x="564" y="268"/>
                  </a:lnTo>
                  <a:lnTo>
                    <a:pt x="662" y="158"/>
                  </a:lnTo>
                  <a:lnTo>
                    <a:pt x="710" y="194"/>
                  </a:lnTo>
                  <a:lnTo>
                    <a:pt x="666" y="286"/>
                  </a:lnTo>
                  <a:lnTo>
                    <a:pt x="728" y="233"/>
                  </a:lnTo>
                  <a:lnTo>
                    <a:pt x="821" y="277"/>
                  </a:lnTo>
                  <a:lnTo>
                    <a:pt x="746" y="353"/>
                  </a:lnTo>
                  <a:lnTo>
                    <a:pt x="1006" y="402"/>
                  </a:lnTo>
                  <a:lnTo>
                    <a:pt x="830" y="459"/>
                  </a:lnTo>
                  <a:lnTo>
                    <a:pt x="1046" y="490"/>
                  </a:lnTo>
                  <a:lnTo>
                    <a:pt x="794" y="552"/>
                  </a:lnTo>
                  <a:lnTo>
                    <a:pt x="847" y="600"/>
                  </a:lnTo>
                  <a:lnTo>
                    <a:pt x="772" y="649"/>
                  </a:lnTo>
                  <a:lnTo>
                    <a:pt x="904" y="649"/>
                  </a:lnTo>
                  <a:lnTo>
                    <a:pt x="891" y="613"/>
                  </a:lnTo>
                  <a:lnTo>
                    <a:pt x="1028" y="644"/>
                  </a:lnTo>
                  <a:lnTo>
                    <a:pt x="1006" y="543"/>
                  </a:lnTo>
                  <a:lnTo>
                    <a:pt x="1129" y="494"/>
                  </a:lnTo>
                  <a:lnTo>
                    <a:pt x="1041" y="446"/>
                  </a:lnTo>
                  <a:lnTo>
                    <a:pt x="1253" y="433"/>
                  </a:lnTo>
                  <a:lnTo>
                    <a:pt x="1072" y="327"/>
                  </a:lnTo>
                  <a:lnTo>
                    <a:pt x="860" y="304"/>
                  </a:lnTo>
                  <a:lnTo>
                    <a:pt x="1028" y="198"/>
                  </a:lnTo>
                  <a:lnTo>
                    <a:pt x="728" y="198"/>
                  </a:lnTo>
                  <a:lnTo>
                    <a:pt x="869" y="97"/>
                  </a:lnTo>
                  <a:lnTo>
                    <a:pt x="653" y="123"/>
                  </a:lnTo>
                  <a:lnTo>
                    <a:pt x="551" y="176"/>
                  </a:lnTo>
                  <a:lnTo>
                    <a:pt x="640" y="0"/>
                  </a:lnTo>
                  <a:lnTo>
                    <a:pt x="379" y="97"/>
                  </a:lnTo>
                  <a:lnTo>
                    <a:pt x="233" y="308"/>
                  </a:lnTo>
                  <a:lnTo>
                    <a:pt x="211" y="194"/>
                  </a:lnTo>
                  <a:lnTo>
                    <a:pt x="92" y="277"/>
                  </a:lnTo>
                  <a:lnTo>
                    <a:pt x="79" y="433"/>
                  </a:lnTo>
                  <a:lnTo>
                    <a:pt x="0" y="402"/>
                  </a:lnTo>
                  <a:lnTo>
                    <a:pt x="26" y="543"/>
                  </a:lnTo>
                  <a:lnTo>
                    <a:pt x="13" y="44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0" name=""/>
            <p:cNvSpPr/>
            <p:nvPr/>
          </p:nvSpPr>
          <p:spPr>
            <a:xfrm>
              <a:off x="1525680" y="247680"/>
              <a:ext cx="127440" cy="70200"/>
            </a:xfrm>
            <a:custGeom>
              <a:avLst/>
              <a:gdLst/>
              <a:ahLst/>
              <a:rect l="0" t="0" r="r" b="b"/>
              <a:pathLst>
                <a:path w="354" h="195">
                  <a:moveTo>
                    <a:pt x="0" y="195"/>
                  </a:moveTo>
                  <a:lnTo>
                    <a:pt x="133" y="0"/>
                  </a:lnTo>
                  <a:lnTo>
                    <a:pt x="133" y="128"/>
                  </a:lnTo>
                  <a:lnTo>
                    <a:pt x="181" y="74"/>
                  </a:lnTo>
                  <a:lnTo>
                    <a:pt x="221" y="150"/>
                  </a:lnTo>
                  <a:lnTo>
                    <a:pt x="354" y="186"/>
                  </a:lnTo>
                  <a:lnTo>
                    <a:pt x="212" y="159"/>
                  </a:lnTo>
                  <a:lnTo>
                    <a:pt x="172" y="111"/>
                  </a:lnTo>
                  <a:lnTo>
                    <a:pt x="111" y="159"/>
                  </a:lnTo>
                  <a:lnTo>
                    <a:pt x="111" y="102"/>
                  </a:lnTo>
                  <a:lnTo>
                    <a:pt x="0" y="195"/>
                  </a:lnTo>
                  <a:close/>
                </a:path>
              </a:pathLst>
            </a:custGeom>
            <a:solidFill>
              <a:srgbClr val="000000"/>
            </a:solidFill>
            <a:ln w="12600">
              <a:solidFill>
                <a:srgbClr val="000000"/>
              </a:solidFill>
              <a:round/>
            </a:ln>
          </p:spPr>
          <p:txBody>
            <a:bodyPr lIns="96120" rIns="96120" tIns="19080" bIns="19080" anchor="t">
              <a:noAutofit/>
            </a:bodyPr>
            <a:p>
              <a:endParaRPr b="0" lang="en-US" sz="1800" spc="-1" strike="noStrike">
                <a:solidFill>
                  <a:srgbClr val="ffffff"/>
                </a:solidFill>
                <a:latin typeface="Arial"/>
              </a:endParaRPr>
            </a:p>
          </p:txBody>
        </p:sp>
        <p:sp>
          <p:nvSpPr>
            <p:cNvPr id="481" name=""/>
            <p:cNvSpPr/>
            <p:nvPr/>
          </p:nvSpPr>
          <p:spPr>
            <a:xfrm>
              <a:off x="1512720" y="727200"/>
              <a:ext cx="152640" cy="103680"/>
            </a:xfrm>
            <a:custGeom>
              <a:avLst/>
              <a:gdLst/>
              <a:ahLst/>
              <a:rect l="0" t="0" r="r" b="b"/>
              <a:pathLst>
                <a:path w="424" h="288">
                  <a:moveTo>
                    <a:pt x="79" y="102"/>
                  </a:moveTo>
                  <a:lnTo>
                    <a:pt x="256" y="89"/>
                  </a:lnTo>
                  <a:lnTo>
                    <a:pt x="340" y="106"/>
                  </a:lnTo>
                  <a:lnTo>
                    <a:pt x="380" y="66"/>
                  </a:lnTo>
                  <a:lnTo>
                    <a:pt x="424" y="159"/>
                  </a:lnTo>
                  <a:lnTo>
                    <a:pt x="397" y="177"/>
                  </a:lnTo>
                  <a:lnTo>
                    <a:pt x="358" y="142"/>
                  </a:lnTo>
                  <a:lnTo>
                    <a:pt x="305" y="208"/>
                  </a:lnTo>
                  <a:lnTo>
                    <a:pt x="198" y="288"/>
                  </a:lnTo>
                  <a:lnTo>
                    <a:pt x="149" y="288"/>
                  </a:lnTo>
                  <a:lnTo>
                    <a:pt x="79" y="248"/>
                  </a:lnTo>
                  <a:lnTo>
                    <a:pt x="158" y="284"/>
                  </a:lnTo>
                  <a:lnTo>
                    <a:pt x="189" y="284"/>
                  </a:lnTo>
                  <a:lnTo>
                    <a:pt x="256" y="231"/>
                  </a:lnTo>
                  <a:lnTo>
                    <a:pt x="300" y="133"/>
                  </a:lnTo>
                  <a:lnTo>
                    <a:pt x="230" y="120"/>
                  </a:lnTo>
                  <a:lnTo>
                    <a:pt x="185" y="106"/>
                  </a:lnTo>
                  <a:lnTo>
                    <a:pt x="70" y="124"/>
                  </a:lnTo>
                  <a:lnTo>
                    <a:pt x="70" y="203"/>
                  </a:lnTo>
                  <a:lnTo>
                    <a:pt x="30" y="155"/>
                  </a:lnTo>
                  <a:lnTo>
                    <a:pt x="0" y="218"/>
                  </a:lnTo>
                  <a:lnTo>
                    <a:pt x="4" y="75"/>
                  </a:lnTo>
                  <a:lnTo>
                    <a:pt x="44" y="0"/>
                  </a:lnTo>
                  <a:lnTo>
                    <a:pt x="79" y="75"/>
                  </a:lnTo>
                  <a:lnTo>
                    <a:pt x="79" y="10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2" name=""/>
            <p:cNvSpPr/>
            <p:nvPr/>
          </p:nvSpPr>
          <p:spPr>
            <a:xfrm>
              <a:off x="1494000" y="500040"/>
              <a:ext cx="327240" cy="483120"/>
            </a:xfrm>
            <a:custGeom>
              <a:avLst/>
              <a:gdLst/>
              <a:ahLst/>
              <a:rect l="0" t="0" r="r" b="b"/>
              <a:pathLst>
                <a:path w="909" h="1342">
                  <a:moveTo>
                    <a:pt x="768" y="0"/>
                  </a:moveTo>
                  <a:lnTo>
                    <a:pt x="856" y="0"/>
                  </a:lnTo>
                  <a:lnTo>
                    <a:pt x="909" y="66"/>
                  </a:lnTo>
                  <a:lnTo>
                    <a:pt x="909" y="141"/>
                  </a:lnTo>
                  <a:lnTo>
                    <a:pt x="834" y="349"/>
                  </a:lnTo>
                  <a:lnTo>
                    <a:pt x="759" y="450"/>
                  </a:lnTo>
                  <a:lnTo>
                    <a:pt x="684" y="464"/>
                  </a:lnTo>
                  <a:lnTo>
                    <a:pt x="662" y="464"/>
                  </a:lnTo>
                  <a:lnTo>
                    <a:pt x="662" y="728"/>
                  </a:lnTo>
                  <a:lnTo>
                    <a:pt x="697" y="922"/>
                  </a:lnTo>
                  <a:lnTo>
                    <a:pt x="697" y="1077"/>
                  </a:lnTo>
                  <a:lnTo>
                    <a:pt x="561" y="1236"/>
                  </a:lnTo>
                  <a:lnTo>
                    <a:pt x="370" y="1342"/>
                  </a:lnTo>
                  <a:lnTo>
                    <a:pt x="251" y="1342"/>
                  </a:lnTo>
                  <a:lnTo>
                    <a:pt x="189" y="1311"/>
                  </a:lnTo>
                  <a:lnTo>
                    <a:pt x="105" y="1126"/>
                  </a:lnTo>
                  <a:lnTo>
                    <a:pt x="30" y="1060"/>
                  </a:lnTo>
                  <a:lnTo>
                    <a:pt x="0" y="1011"/>
                  </a:lnTo>
                  <a:lnTo>
                    <a:pt x="101" y="1077"/>
                  </a:lnTo>
                  <a:lnTo>
                    <a:pt x="176" y="1144"/>
                  </a:lnTo>
                  <a:lnTo>
                    <a:pt x="321" y="1157"/>
                  </a:lnTo>
                  <a:lnTo>
                    <a:pt x="449" y="1091"/>
                  </a:lnTo>
                  <a:lnTo>
                    <a:pt x="521" y="1011"/>
                  </a:lnTo>
                  <a:lnTo>
                    <a:pt x="596" y="874"/>
                  </a:lnTo>
                  <a:lnTo>
                    <a:pt x="609" y="715"/>
                  </a:lnTo>
                  <a:lnTo>
                    <a:pt x="636" y="198"/>
                  </a:lnTo>
                  <a:lnTo>
                    <a:pt x="666" y="273"/>
                  </a:lnTo>
                  <a:lnTo>
                    <a:pt x="759" y="176"/>
                  </a:lnTo>
                  <a:lnTo>
                    <a:pt x="852" y="141"/>
                  </a:lnTo>
                  <a:lnTo>
                    <a:pt x="874" y="83"/>
                  </a:lnTo>
                  <a:lnTo>
                    <a:pt x="860" y="30"/>
                  </a:lnTo>
                  <a:lnTo>
                    <a:pt x="825" y="8"/>
                  </a:lnTo>
                  <a:lnTo>
                    <a:pt x="76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3" name=""/>
            <p:cNvSpPr/>
            <p:nvPr/>
          </p:nvSpPr>
          <p:spPr>
            <a:xfrm>
              <a:off x="985680" y="915840"/>
              <a:ext cx="263880" cy="448200"/>
            </a:xfrm>
            <a:custGeom>
              <a:avLst/>
              <a:gdLst/>
              <a:ahLst/>
              <a:rect l="0" t="0" r="r" b="b"/>
              <a:pathLst>
                <a:path w="733" h="1245">
                  <a:moveTo>
                    <a:pt x="92" y="0"/>
                  </a:moveTo>
                  <a:lnTo>
                    <a:pt x="176" y="57"/>
                  </a:lnTo>
                  <a:lnTo>
                    <a:pt x="238" y="314"/>
                  </a:lnTo>
                  <a:lnTo>
                    <a:pt x="428" y="367"/>
                  </a:lnTo>
                  <a:lnTo>
                    <a:pt x="481" y="433"/>
                  </a:lnTo>
                  <a:lnTo>
                    <a:pt x="490" y="530"/>
                  </a:lnTo>
                  <a:lnTo>
                    <a:pt x="583" y="516"/>
                  </a:lnTo>
                  <a:lnTo>
                    <a:pt x="697" y="596"/>
                  </a:lnTo>
                  <a:lnTo>
                    <a:pt x="733" y="697"/>
                  </a:lnTo>
                  <a:lnTo>
                    <a:pt x="733" y="869"/>
                  </a:lnTo>
                  <a:lnTo>
                    <a:pt x="583" y="1139"/>
                  </a:lnTo>
                  <a:lnTo>
                    <a:pt x="534" y="1245"/>
                  </a:lnTo>
                  <a:lnTo>
                    <a:pt x="561" y="1104"/>
                  </a:lnTo>
                  <a:lnTo>
                    <a:pt x="534" y="1047"/>
                  </a:lnTo>
                  <a:lnTo>
                    <a:pt x="441" y="954"/>
                  </a:lnTo>
                  <a:lnTo>
                    <a:pt x="299" y="847"/>
                  </a:lnTo>
                  <a:lnTo>
                    <a:pt x="472" y="909"/>
                  </a:lnTo>
                  <a:lnTo>
                    <a:pt x="574" y="989"/>
                  </a:lnTo>
                  <a:lnTo>
                    <a:pt x="627" y="980"/>
                  </a:lnTo>
                  <a:lnTo>
                    <a:pt x="658" y="936"/>
                  </a:lnTo>
                  <a:lnTo>
                    <a:pt x="697" y="807"/>
                  </a:lnTo>
                  <a:lnTo>
                    <a:pt x="684" y="684"/>
                  </a:lnTo>
                  <a:lnTo>
                    <a:pt x="631" y="618"/>
                  </a:lnTo>
                  <a:lnTo>
                    <a:pt x="543" y="596"/>
                  </a:lnTo>
                  <a:lnTo>
                    <a:pt x="441" y="596"/>
                  </a:lnTo>
                  <a:lnTo>
                    <a:pt x="411" y="411"/>
                  </a:lnTo>
                  <a:lnTo>
                    <a:pt x="246" y="344"/>
                  </a:lnTo>
                  <a:lnTo>
                    <a:pt x="246" y="397"/>
                  </a:lnTo>
                  <a:lnTo>
                    <a:pt x="176" y="264"/>
                  </a:lnTo>
                  <a:lnTo>
                    <a:pt x="136" y="57"/>
                  </a:lnTo>
                  <a:lnTo>
                    <a:pt x="70" y="35"/>
                  </a:lnTo>
                  <a:lnTo>
                    <a:pt x="35" y="97"/>
                  </a:lnTo>
                  <a:lnTo>
                    <a:pt x="35" y="242"/>
                  </a:lnTo>
                  <a:lnTo>
                    <a:pt x="66" y="397"/>
                  </a:lnTo>
                  <a:lnTo>
                    <a:pt x="154" y="530"/>
                  </a:lnTo>
                  <a:lnTo>
                    <a:pt x="57" y="446"/>
                  </a:lnTo>
                  <a:lnTo>
                    <a:pt x="8" y="314"/>
                  </a:lnTo>
                  <a:lnTo>
                    <a:pt x="0" y="132"/>
                  </a:lnTo>
                  <a:lnTo>
                    <a:pt x="35" y="35"/>
                  </a:lnTo>
                  <a:lnTo>
                    <a:pt x="9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4" name=""/>
            <p:cNvSpPr/>
            <p:nvPr/>
          </p:nvSpPr>
          <p:spPr>
            <a:xfrm>
              <a:off x="858960" y="1112760"/>
              <a:ext cx="174960" cy="359280"/>
            </a:xfrm>
            <a:custGeom>
              <a:avLst/>
              <a:gdLst/>
              <a:ahLst/>
              <a:rect l="0" t="0" r="r" b="b"/>
              <a:pathLst>
                <a:path w="486" h="998">
                  <a:moveTo>
                    <a:pt x="486" y="0"/>
                  </a:moveTo>
                  <a:lnTo>
                    <a:pt x="384" y="66"/>
                  </a:lnTo>
                  <a:lnTo>
                    <a:pt x="269" y="309"/>
                  </a:lnTo>
                  <a:lnTo>
                    <a:pt x="154" y="468"/>
                  </a:lnTo>
                  <a:lnTo>
                    <a:pt x="13" y="653"/>
                  </a:lnTo>
                  <a:lnTo>
                    <a:pt x="0" y="756"/>
                  </a:lnTo>
                  <a:lnTo>
                    <a:pt x="26" y="839"/>
                  </a:lnTo>
                  <a:lnTo>
                    <a:pt x="97" y="839"/>
                  </a:lnTo>
                  <a:lnTo>
                    <a:pt x="185" y="756"/>
                  </a:lnTo>
                  <a:lnTo>
                    <a:pt x="261" y="574"/>
                  </a:lnTo>
                  <a:lnTo>
                    <a:pt x="358" y="468"/>
                  </a:lnTo>
                  <a:lnTo>
                    <a:pt x="358" y="609"/>
                  </a:lnTo>
                  <a:lnTo>
                    <a:pt x="344" y="741"/>
                  </a:lnTo>
                  <a:lnTo>
                    <a:pt x="238" y="919"/>
                  </a:lnTo>
                  <a:lnTo>
                    <a:pt x="238" y="976"/>
                  </a:lnTo>
                  <a:lnTo>
                    <a:pt x="344" y="998"/>
                  </a:lnTo>
                  <a:lnTo>
                    <a:pt x="269" y="950"/>
                  </a:lnTo>
                  <a:lnTo>
                    <a:pt x="278" y="919"/>
                  </a:lnTo>
                  <a:lnTo>
                    <a:pt x="353" y="791"/>
                  </a:lnTo>
                  <a:lnTo>
                    <a:pt x="402" y="552"/>
                  </a:lnTo>
                  <a:lnTo>
                    <a:pt x="367" y="419"/>
                  </a:lnTo>
                  <a:lnTo>
                    <a:pt x="287" y="499"/>
                  </a:lnTo>
                  <a:lnTo>
                    <a:pt x="114" y="795"/>
                  </a:lnTo>
                  <a:lnTo>
                    <a:pt x="70" y="808"/>
                  </a:lnTo>
                  <a:lnTo>
                    <a:pt x="26" y="773"/>
                  </a:lnTo>
                  <a:lnTo>
                    <a:pt x="26" y="684"/>
                  </a:lnTo>
                  <a:lnTo>
                    <a:pt x="97" y="565"/>
                  </a:lnTo>
                  <a:lnTo>
                    <a:pt x="287" y="322"/>
                  </a:lnTo>
                  <a:lnTo>
                    <a:pt x="402" y="92"/>
                  </a:lnTo>
                  <a:lnTo>
                    <a:pt x="48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5" name=""/>
            <p:cNvSpPr/>
            <p:nvPr/>
          </p:nvSpPr>
          <p:spPr>
            <a:xfrm>
              <a:off x="988920" y="1316160"/>
              <a:ext cx="106560" cy="171720"/>
            </a:xfrm>
            <a:custGeom>
              <a:avLst/>
              <a:gdLst/>
              <a:ahLst/>
              <a:rect l="0" t="0" r="r" b="b"/>
              <a:pathLst>
                <a:path w="296" h="477">
                  <a:moveTo>
                    <a:pt x="0" y="424"/>
                  </a:moveTo>
                  <a:lnTo>
                    <a:pt x="97" y="300"/>
                  </a:lnTo>
                  <a:lnTo>
                    <a:pt x="114" y="176"/>
                  </a:lnTo>
                  <a:lnTo>
                    <a:pt x="230" y="0"/>
                  </a:lnTo>
                  <a:lnTo>
                    <a:pt x="252" y="119"/>
                  </a:lnTo>
                  <a:lnTo>
                    <a:pt x="239" y="433"/>
                  </a:lnTo>
                  <a:lnTo>
                    <a:pt x="296" y="477"/>
                  </a:lnTo>
                  <a:lnTo>
                    <a:pt x="212" y="441"/>
                  </a:lnTo>
                  <a:lnTo>
                    <a:pt x="168" y="265"/>
                  </a:lnTo>
                  <a:lnTo>
                    <a:pt x="97" y="353"/>
                  </a:lnTo>
                  <a:lnTo>
                    <a:pt x="0" y="42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6" name=""/>
            <p:cNvSpPr/>
            <p:nvPr/>
          </p:nvSpPr>
          <p:spPr>
            <a:xfrm>
              <a:off x="1120680" y="1324080"/>
              <a:ext cx="71640" cy="154440"/>
            </a:xfrm>
            <a:custGeom>
              <a:avLst/>
              <a:gdLst/>
              <a:ahLst/>
              <a:rect l="0" t="0" r="r" b="b"/>
              <a:pathLst>
                <a:path w="199" h="429">
                  <a:moveTo>
                    <a:pt x="0" y="323"/>
                  </a:moveTo>
                  <a:lnTo>
                    <a:pt x="8" y="164"/>
                  </a:lnTo>
                  <a:lnTo>
                    <a:pt x="52" y="70"/>
                  </a:lnTo>
                  <a:lnTo>
                    <a:pt x="97" y="407"/>
                  </a:lnTo>
                  <a:lnTo>
                    <a:pt x="159" y="407"/>
                  </a:lnTo>
                  <a:lnTo>
                    <a:pt x="186" y="48"/>
                  </a:lnTo>
                  <a:lnTo>
                    <a:pt x="199" y="0"/>
                  </a:lnTo>
                  <a:lnTo>
                    <a:pt x="186" y="278"/>
                  </a:lnTo>
                  <a:lnTo>
                    <a:pt x="159" y="429"/>
                  </a:lnTo>
                  <a:lnTo>
                    <a:pt x="79" y="429"/>
                  </a:lnTo>
                  <a:lnTo>
                    <a:pt x="44" y="133"/>
                  </a:lnTo>
                  <a:lnTo>
                    <a:pt x="22" y="177"/>
                  </a:lnTo>
                  <a:lnTo>
                    <a:pt x="0" y="32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7" name=""/>
            <p:cNvSpPr/>
            <p:nvPr/>
          </p:nvSpPr>
          <p:spPr>
            <a:xfrm>
              <a:off x="2031840" y="717480"/>
              <a:ext cx="171720" cy="411480"/>
            </a:xfrm>
            <a:custGeom>
              <a:avLst/>
              <a:gdLst/>
              <a:ahLst/>
              <a:rect l="0" t="0" r="r" b="b"/>
              <a:pathLst>
                <a:path w="477" h="1143">
                  <a:moveTo>
                    <a:pt x="123" y="622"/>
                  </a:moveTo>
                  <a:lnTo>
                    <a:pt x="163" y="440"/>
                  </a:lnTo>
                  <a:lnTo>
                    <a:pt x="322" y="392"/>
                  </a:lnTo>
                  <a:lnTo>
                    <a:pt x="477" y="0"/>
                  </a:lnTo>
                  <a:lnTo>
                    <a:pt x="477" y="114"/>
                  </a:lnTo>
                  <a:lnTo>
                    <a:pt x="349" y="418"/>
                  </a:lnTo>
                  <a:lnTo>
                    <a:pt x="176" y="471"/>
                  </a:lnTo>
                  <a:lnTo>
                    <a:pt x="154" y="622"/>
                  </a:lnTo>
                  <a:lnTo>
                    <a:pt x="211" y="622"/>
                  </a:lnTo>
                  <a:lnTo>
                    <a:pt x="61" y="684"/>
                  </a:lnTo>
                  <a:lnTo>
                    <a:pt x="26" y="807"/>
                  </a:lnTo>
                  <a:lnTo>
                    <a:pt x="35" y="962"/>
                  </a:lnTo>
                  <a:lnTo>
                    <a:pt x="194" y="1143"/>
                  </a:lnTo>
                  <a:lnTo>
                    <a:pt x="26" y="984"/>
                  </a:lnTo>
                  <a:lnTo>
                    <a:pt x="0" y="852"/>
                  </a:lnTo>
                  <a:lnTo>
                    <a:pt x="13" y="719"/>
                  </a:lnTo>
                  <a:lnTo>
                    <a:pt x="70" y="622"/>
                  </a:lnTo>
                  <a:lnTo>
                    <a:pt x="123" y="62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8" name=""/>
            <p:cNvSpPr/>
            <p:nvPr/>
          </p:nvSpPr>
          <p:spPr>
            <a:xfrm>
              <a:off x="2147760" y="717480"/>
              <a:ext cx="289440" cy="400320"/>
            </a:xfrm>
            <a:custGeom>
              <a:avLst/>
              <a:gdLst/>
              <a:ahLst/>
              <a:rect l="0" t="0" r="r" b="b"/>
              <a:pathLst>
                <a:path w="804" h="1112">
                  <a:moveTo>
                    <a:pt x="221" y="0"/>
                  </a:moveTo>
                  <a:lnTo>
                    <a:pt x="269" y="35"/>
                  </a:lnTo>
                  <a:lnTo>
                    <a:pt x="287" y="127"/>
                  </a:lnTo>
                  <a:lnTo>
                    <a:pt x="287" y="216"/>
                  </a:lnTo>
                  <a:lnTo>
                    <a:pt x="194" y="379"/>
                  </a:lnTo>
                  <a:lnTo>
                    <a:pt x="212" y="498"/>
                  </a:lnTo>
                  <a:lnTo>
                    <a:pt x="486" y="627"/>
                  </a:lnTo>
                  <a:lnTo>
                    <a:pt x="800" y="975"/>
                  </a:lnTo>
                  <a:lnTo>
                    <a:pt x="804" y="1072"/>
                  </a:lnTo>
                  <a:lnTo>
                    <a:pt x="786" y="1112"/>
                  </a:lnTo>
                  <a:lnTo>
                    <a:pt x="672" y="1112"/>
                  </a:lnTo>
                  <a:lnTo>
                    <a:pt x="565" y="1046"/>
                  </a:lnTo>
                  <a:lnTo>
                    <a:pt x="477" y="931"/>
                  </a:lnTo>
                  <a:lnTo>
                    <a:pt x="428" y="865"/>
                  </a:lnTo>
                  <a:lnTo>
                    <a:pt x="371" y="856"/>
                  </a:lnTo>
                  <a:lnTo>
                    <a:pt x="441" y="856"/>
                  </a:lnTo>
                  <a:lnTo>
                    <a:pt x="574" y="1037"/>
                  </a:lnTo>
                  <a:lnTo>
                    <a:pt x="742" y="1090"/>
                  </a:lnTo>
                  <a:lnTo>
                    <a:pt x="778" y="1037"/>
                  </a:lnTo>
                  <a:lnTo>
                    <a:pt x="760" y="953"/>
                  </a:lnTo>
                  <a:lnTo>
                    <a:pt x="464" y="702"/>
                  </a:lnTo>
                  <a:lnTo>
                    <a:pt x="424" y="627"/>
                  </a:lnTo>
                  <a:lnTo>
                    <a:pt x="194" y="565"/>
                  </a:lnTo>
                  <a:lnTo>
                    <a:pt x="154" y="627"/>
                  </a:lnTo>
                  <a:lnTo>
                    <a:pt x="0" y="733"/>
                  </a:lnTo>
                  <a:lnTo>
                    <a:pt x="145" y="609"/>
                  </a:lnTo>
                  <a:lnTo>
                    <a:pt x="154" y="533"/>
                  </a:lnTo>
                  <a:lnTo>
                    <a:pt x="154" y="352"/>
                  </a:lnTo>
                  <a:lnTo>
                    <a:pt x="261" y="216"/>
                  </a:lnTo>
                  <a:lnTo>
                    <a:pt x="261" y="44"/>
                  </a:lnTo>
                  <a:lnTo>
                    <a:pt x="221"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9" name=""/>
            <p:cNvSpPr/>
            <p:nvPr/>
          </p:nvSpPr>
          <p:spPr>
            <a:xfrm>
              <a:off x="2095560" y="1031760"/>
              <a:ext cx="244800" cy="235440"/>
            </a:xfrm>
            <a:custGeom>
              <a:avLst/>
              <a:gdLst/>
              <a:ahLst/>
              <a:rect l="0" t="0" r="r" b="b"/>
              <a:pathLst>
                <a:path w="680" h="654">
                  <a:moveTo>
                    <a:pt x="512" y="0"/>
                  </a:moveTo>
                  <a:lnTo>
                    <a:pt x="494" y="57"/>
                  </a:lnTo>
                  <a:lnTo>
                    <a:pt x="596" y="269"/>
                  </a:lnTo>
                  <a:lnTo>
                    <a:pt x="644" y="495"/>
                  </a:lnTo>
                  <a:lnTo>
                    <a:pt x="587" y="495"/>
                  </a:lnTo>
                  <a:lnTo>
                    <a:pt x="486" y="397"/>
                  </a:lnTo>
                  <a:lnTo>
                    <a:pt x="393" y="190"/>
                  </a:lnTo>
                  <a:lnTo>
                    <a:pt x="317" y="158"/>
                  </a:lnTo>
                  <a:lnTo>
                    <a:pt x="330" y="269"/>
                  </a:lnTo>
                  <a:lnTo>
                    <a:pt x="397" y="353"/>
                  </a:lnTo>
                  <a:lnTo>
                    <a:pt x="397" y="509"/>
                  </a:lnTo>
                  <a:lnTo>
                    <a:pt x="349" y="623"/>
                  </a:lnTo>
                  <a:lnTo>
                    <a:pt x="286" y="579"/>
                  </a:lnTo>
                  <a:lnTo>
                    <a:pt x="207" y="397"/>
                  </a:lnTo>
                  <a:lnTo>
                    <a:pt x="189" y="269"/>
                  </a:lnTo>
                  <a:lnTo>
                    <a:pt x="145" y="239"/>
                  </a:lnTo>
                  <a:lnTo>
                    <a:pt x="132" y="553"/>
                  </a:lnTo>
                  <a:lnTo>
                    <a:pt x="70" y="601"/>
                  </a:lnTo>
                  <a:lnTo>
                    <a:pt x="17" y="553"/>
                  </a:lnTo>
                  <a:lnTo>
                    <a:pt x="8" y="283"/>
                  </a:lnTo>
                  <a:lnTo>
                    <a:pt x="0" y="548"/>
                  </a:lnTo>
                  <a:lnTo>
                    <a:pt x="44" y="645"/>
                  </a:lnTo>
                  <a:lnTo>
                    <a:pt x="132" y="645"/>
                  </a:lnTo>
                  <a:lnTo>
                    <a:pt x="163" y="570"/>
                  </a:lnTo>
                  <a:lnTo>
                    <a:pt x="180" y="322"/>
                  </a:lnTo>
                  <a:lnTo>
                    <a:pt x="198" y="419"/>
                  </a:lnTo>
                  <a:lnTo>
                    <a:pt x="273" y="632"/>
                  </a:lnTo>
                  <a:lnTo>
                    <a:pt x="358" y="654"/>
                  </a:lnTo>
                  <a:lnTo>
                    <a:pt x="419" y="570"/>
                  </a:lnTo>
                  <a:lnTo>
                    <a:pt x="419" y="362"/>
                  </a:lnTo>
                  <a:lnTo>
                    <a:pt x="587" y="535"/>
                  </a:lnTo>
                  <a:lnTo>
                    <a:pt x="671" y="535"/>
                  </a:lnTo>
                  <a:lnTo>
                    <a:pt x="680" y="419"/>
                  </a:lnTo>
                  <a:lnTo>
                    <a:pt x="618" y="212"/>
                  </a:lnTo>
                  <a:lnTo>
                    <a:pt x="512" y="44"/>
                  </a:lnTo>
                  <a:lnTo>
                    <a:pt x="51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90" name=""/>
            <p:cNvSpPr/>
            <p:nvPr/>
          </p:nvSpPr>
          <p:spPr>
            <a:xfrm>
              <a:off x="1100160" y="787320"/>
              <a:ext cx="1095840" cy="964080"/>
            </a:xfrm>
            <a:custGeom>
              <a:avLst/>
              <a:gdLst/>
              <a:ahLst/>
              <a:rect l="0" t="0" r="r" b="b"/>
              <a:pathLst>
                <a:path w="3044" h="2678">
                  <a:moveTo>
                    <a:pt x="1094" y="224"/>
                  </a:moveTo>
                  <a:lnTo>
                    <a:pt x="1041" y="238"/>
                  </a:lnTo>
                  <a:lnTo>
                    <a:pt x="953" y="370"/>
                  </a:lnTo>
                  <a:lnTo>
                    <a:pt x="927" y="273"/>
                  </a:lnTo>
                  <a:lnTo>
                    <a:pt x="825" y="216"/>
                  </a:lnTo>
                  <a:lnTo>
                    <a:pt x="754" y="260"/>
                  </a:lnTo>
                  <a:lnTo>
                    <a:pt x="723" y="432"/>
                  </a:lnTo>
                  <a:lnTo>
                    <a:pt x="449" y="643"/>
                  </a:lnTo>
                  <a:lnTo>
                    <a:pt x="467" y="737"/>
                  </a:lnTo>
                  <a:lnTo>
                    <a:pt x="401" y="816"/>
                  </a:lnTo>
                  <a:lnTo>
                    <a:pt x="401" y="887"/>
                  </a:lnTo>
                  <a:lnTo>
                    <a:pt x="480" y="1090"/>
                  </a:lnTo>
                  <a:lnTo>
                    <a:pt x="485" y="1337"/>
                  </a:lnTo>
                  <a:lnTo>
                    <a:pt x="436" y="1570"/>
                  </a:lnTo>
                  <a:lnTo>
                    <a:pt x="238" y="1707"/>
                  </a:lnTo>
                  <a:lnTo>
                    <a:pt x="211" y="1901"/>
                  </a:lnTo>
                  <a:lnTo>
                    <a:pt x="154" y="1901"/>
                  </a:lnTo>
                  <a:lnTo>
                    <a:pt x="123" y="1742"/>
                  </a:lnTo>
                  <a:lnTo>
                    <a:pt x="61" y="1742"/>
                  </a:lnTo>
                  <a:lnTo>
                    <a:pt x="35" y="1910"/>
                  </a:lnTo>
                  <a:lnTo>
                    <a:pt x="0" y="1958"/>
                  </a:lnTo>
                  <a:lnTo>
                    <a:pt x="136" y="2189"/>
                  </a:lnTo>
                  <a:lnTo>
                    <a:pt x="229" y="2198"/>
                  </a:lnTo>
                  <a:lnTo>
                    <a:pt x="401" y="2370"/>
                  </a:lnTo>
                  <a:lnTo>
                    <a:pt x="560" y="2392"/>
                  </a:lnTo>
                  <a:lnTo>
                    <a:pt x="643" y="2299"/>
                  </a:lnTo>
                  <a:lnTo>
                    <a:pt x="856" y="1967"/>
                  </a:lnTo>
                  <a:lnTo>
                    <a:pt x="874" y="2414"/>
                  </a:lnTo>
                  <a:lnTo>
                    <a:pt x="856" y="2678"/>
                  </a:lnTo>
                  <a:lnTo>
                    <a:pt x="2616" y="2678"/>
                  </a:lnTo>
                  <a:lnTo>
                    <a:pt x="2489" y="2392"/>
                  </a:lnTo>
                  <a:lnTo>
                    <a:pt x="2422" y="2140"/>
                  </a:lnTo>
                  <a:lnTo>
                    <a:pt x="2409" y="1773"/>
                  </a:lnTo>
                  <a:lnTo>
                    <a:pt x="2511" y="1857"/>
                  </a:lnTo>
                  <a:lnTo>
                    <a:pt x="2616" y="1857"/>
                  </a:lnTo>
                  <a:lnTo>
                    <a:pt x="2762" y="1756"/>
                  </a:lnTo>
                  <a:lnTo>
                    <a:pt x="2855" y="1742"/>
                  </a:lnTo>
                  <a:lnTo>
                    <a:pt x="2916" y="1645"/>
                  </a:lnTo>
                  <a:lnTo>
                    <a:pt x="2960" y="1390"/>
                  </a:lnTo>
                  <a:lnTo>
                    <a:pt x="3044" y="1293"/>
                  </a:lnTo>
                  <a:lnTo>
                    <a:pt x="3000" y="1213"/>
                  </a:lnTo>
                  <a:lnTo>
                    <a:pt x="2934" y="1213"/>
                  </a:lnTo>
                  <a:lnTo>
                    <a:pt x="2885" y="1266"/>
                  </a:lnTo>
                  <a:lnTo>
                    <a:pt x="2833" y="1279"/>
                  </a:lnTo>
                  <a:lnTo>
                    <a:pt x="2771" y="1213"/>
                  </a:lnTo>
                  <a:lnTo>
                    <a:pt x="2696" y="1204"/>
                  </a:lnTo>
                  <a:lnTo>
                    <a:pt x="2555" y="1107"/>
                  </a:lnTo>
                  <a:lnTo>
                    <a:pt x="2471" y="1006"/>
                  </a:lnTo>
                  <a:lnTo>
                    <a:pt x="2453" y="887"/>
                  </a:lnTo>
                  <a:lnTo>
                    <a:pt x="2471" y="768"/>
                  </a:lnTo>
                  <a:lnTo>
                    <a:pt x="2528" y="671"/>
                  </a:lnTo>
                  <a:lnTo>
                    <a:pt x="2603" y="582"/>
                  </a:lnTo>
                  <a:lnTo>
                    <a:pt x="2594" y="427"/>
                  </a:lnTo>
                  <a:lnTo>
                    <a:pt x="2594" y="317"/>
                  </a:lnTo>
                  <a:lnTo>
                    <a:pt x="2555" y="238"/>
                  </a:lnTo>
                  <a:lnTo>
                    <a:pt x="2453" y="202"/>
                  </a:lnTo>
                  <a:lnTo>
                    <a:pt x="2418" y="180"/>
                  </a:lnTo>
                  <a:lnTo>
                    <a:pt x="2347" y="48"/>
                  </a:lnTo>
                  <a:lnTo>
                    <a:pt x="2286" y="8"/>
                  </a:lnTo>
                  <a:lnTo>
                    <a:pt x="2223" y="0"/>
                  </a:lnTo>
                  <a:lnTo>
                    <a:pt x="2170" y="26"/>
                  </a:lnTo>
                  <a:lnTo>
                    <a:pt x="2122" y="92"/>
                  </a:lnTo>
                  <a:lnTo>
                    <a:pt x="2055" y="136"/>
                  </a:lnTo>
                  <a:lnTo>
                    <a:pt x="1980" y="149"/>
                  </a:lnTo>
                  <a:lnTo>
                    <a:pt x="1897" y="149"/>
                  </a:lnTo>
                  <a:lnTo>
                    <a:pt x="1914" y="282"/>
                  </a:lnTo>
                  <a:lnTo>
                    <a:pt x="1914" y="445"/>
                  </a:lnTo>
                  <a:lnTo>
                    <a:pt x="1897" y="560"/>
                  </a:lnTo>
                  <a:lnTo>
                    <a:pt x="1822" y="693"/>
                  </a:lnTo>
                  <a:lnTo>
                    <a:pt x="1725" y="891"/>
                  </a:lnTo>
                  <a:lnTo>
                    <a:pt x="1650" y="1134"/>
                  </a:lnTo>
                  <a:lnTo>
                    <a:pt x="1645" y="1279"/>
                  </a:lnTo>
                  <a:lnTo>
                    <a:pt x="1610" y="1403"/>
                  </a:lnTo>
                  <a:lnTo>
                    <a:pt x="1566" y="1526"/>
                  </a:lnTo>
                  <a:lnTo>
                    <a:pt x="1544" y="1720"/>
                  </a:lnTo>
                  <a:lnTo>
                    <a:pt x="1557" y="1879"/>
                  </a:lnTo>
                  <a:lnTo>
                    <a:pt x="1610" y="2070"/>
                  </a:lnTo>
                  <a:lnTo>
                    <a:pt x="1645" y="2140"/>
                  </a:lnTo>
                  <a:lnTo>
                    <a:pt x="1544" y="2211"/>
                  </a:lnTo>
                  <a:lnTo>
                    <a:pt x="1420" y="2255"/>
                  </a:lnTo>
                  <a:lnTo>
                    <a:pt x="1284" y="2268"/>
                  </a:lnTo>
                  <a:lnTo>
                    <a:pt x="1200" y="2268"/>
                  </a:lnTo>
                  <a:lnTo>
                    <a:pt x="1147" y="2242"/>
                  </a:lnTo>
                  <a:lnTo>
                    <a:pt x="1147" y="2083"/>
                  </a:lnTo>
                  <a:lnTo>
                    <a:pt x="1147" y="1844"/>
                  </a:lnTo>
                  <a:lnTo>
                    <a:pt x="1116" y="1610"/>
                  </a:lnTo>
                  <a:lnTo>
                    <a:pt x="1059" y="1403"/>
                  </a:lnTo>
                  <a:lnTo>
                    <a:pt x="1032" y="1235"/>
                  </a:lnTo>
                  <a:lnTo>
                    <a:pt x="1024" y="997"/>
                  </a:lnTo>
                  <a:lnTo>
                    <a:pt x="1059" y="790"/>
                  </a:lnTo>
                  <a:lnTo>
                    <a:pt x="1116" y="626"/>
                  </a:lnTo>
                  <a:lnTo>
                    <a:pt x="1121" y="524"/>
                  </a:lnTo>
                  <a:lnTo>
                    <a:pt x="1094" y="383"/>
                  </a:lnTo>
                  <a:lnTo>
                    <a:pt x="1094" y="273"/>
                  </a:lnTo>
                  <a:lnTo>
                    <a:pt x="1116" y="238"/>
                  </a:lnTo>
                  <a:lnTo>
                    <a:pt x="1094" y="22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91" name=""/>
            <p:cNvSpPr/>
            <p:nvPr/>
          </p:nvSpPr>
          <p:spPr>
            <a:xfrm>
              <a:off x="1527120" y="981000"/>
              <a:ext cx="138600" cy="625680"/>
            </a:xfrm>
            <a:custGeom>
              <a:avLst/>
              <a:gdLst/>
              <a:ahLst/>
              <a:rect l="0" t="0" r="r" b="b"/>
              <a:pathLst>
                <a:path w="385" h="1738">
                  <a:moveTo>
                    <a:pt x="155" y="22"/>
                  </a:moveTo>
                  <a:lnTo>
                    <a:pt x="52" y="74"/>
                  </a:lnTo>
                  <a:lnTo>
                    <a:pt x="61" y="242"/>
                  </a:lnTo>
                  <a:lnTo>
                    <a:pt x="137" y="291"/>
                  </a:lnTo>
                  <a:lnTo>
                    <a:pt x="44" y="471"/>
                  </a:lnTo>
                  <a:lnTo>
                    <a:pt x="0" y="674"/>
                  </a:lnTo>
                  <a:lnTo>
                    <a:pt x="0" y="868"/>
                  </a:lnTo>
                  <a:lnTo>
                    <a:pt x="44" y="1041"/>
                  </a:lnTo>
                  <a:lnTo>
                    <a:pt x="79" y="1253"/>
                  </a:lnTo>
                  <a:lnTo>
                    <a:pt x="79" y="1376"/>
                  </a:lnTo>
                  <a:lnTo>
                    <a:pt x="44" y="1526"/>
                  </a:lnTo>
                  <a:lnTo>
                    <a:pt x="199" y="1738"/>
                  </a:lnTo>
                  <a:lnTo>
                    <a:pt x="265" y="1703"/>
                  </a:lnTo>
                  <a:lnTo>
                    <a:pt x="310" y="1557"/>
                  </a:lnTo>
                  <a:lnTo>
                    <a:pt x="381" y="1368"/>
                  </a:lnTo>
                  <a:lnTo>
                    <a:pt x="385" y="1266"/>
                  </a:lnTo>
                  <a:lnTo>
                    <a:pt x="328" y="1072"/>
                  </a:lnTo>
                  <a:lnTo>
                    <a:pt x="252" y="887"/>
                  </a:lnTo>
                  <a:lnTo>
                    <a:pt x="225" y="754"/>
                  </a:lnTo>
                  <a:lnTo>
                    <a:pt x="225" y="630"/>
                  </a:lnTo>
                  <a:lnTo>
                    <a:pt x="252" y="520"/>
                  </a:lnTo>
                  <a:lnTo>
                    <a:pt x="310" y="379"/>
                  </a:lnTo>
                  <a:lnTo>
                    <a:pt x="310" y="321"/>
                  </a:lnTo>
                  <a:lnTo>
                    <a:pt x="278" y="268"/>
                  </a:lnTo>
                  <a:lnTo>
                    <a:pt x="354" y="198"/>
                  </a:lnTo>
                  <a:lnTo>
                    <a:pt x="354" y="132"/>
                  </a:lnTo>
                  <a:lnTo>
                    <a:pt x="252" y="0"/>
                  </a:lnTo>
                  <a:lnTo>
                    <a:pt x="337" y="132"/>
                  </a:lnTo>
                  <a:lnTo>
                    <a:pt x="337" y="189"/>
                  </a:lnTo>
                  <a:lnTo>
                    <a:pt x="261" y="242"/>
                  </a:lnTo>
                  <a:lnTo>
                    <a:pt x="287" y="321"/>
                  </a:lnTo>
                  <a:lnTo>
                    <a:pt x="278" y="379"/>
                  </a:lnTo>
                  <a:lnTo>
                    <a:pt x="208" y="537"/>
                  </a:lnTo>
                  <a:lnTo>
                    <a:pt x="199" y="696"/>
                  </a:lnTo>
                  <a:lnTo>
                    <a:pt x="217" y="842"/>
                  </a:lnTo>
                  <a:lnTo>
                    <a:pt x="265" y="1054"/>
                  </a:lnTo>
                  <a:lnTo>
                    <a:pt x="328" y="1218"/>
                  </a:lnTo>
                  <a:lnTo>
                    <a:pt x="328" y="1354"/>
                  </a:lnTo>
                  <a:lnTo>
                    <a:pt x="287" y="1526"/>
                  </a:lnTo>
                  <a:lnTo>
                    <a:pt x="217" y="1703"/>
                  </a:lnTo>
                  <a:lnTo>
                    <a:pt x="128" y="1606"/>
                  </a:lnTo>
                  <a:lnTo>
                    <a:pt x="88" y="1526"/>
                  </a:lnTo>
                  <a:lnTo>
                    <a:pt x="102" y="1354"/>
                  </a:lnTo>
                  <a:lnTo>
                    <a:pt x="88" y="1187"/>
                  </a:lnTo>
                  <a:lnTo>
                    <a:pt x="44" y="953"/>
                  </a:lnTo>
                  <a:lnTo>
                    <a:pt x="26" y="798"/>
                  </a:lnTo>
                  <a:lnTo>
                    <a:pt x="44" y="621"/>
                  </a:lnTo>
                  <a:lnTo>
                    <a:pt x="79" y="449"/>
                  </a:lnTo>
                  <a:lnTo>
                    <a:pt x="164" y="277"/>
                  </a:lnTo>
                  <a:lnTo>
                    <a:pt x="88" y="207"/>
                  </a:lnTo>
                  <a:lnTo>
                    <a:pt x="79" y="88"/>
                  </a:lnTo>
                  <a:lnTo>
                    <a:pt x="155" y="2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92" name=""/>
            <p:cNvSpPr/>
            <p:nvPr/>
          </p:nvSpPr>
          <p:spPr>
            <a:xfrm>
              <a:off x="1920960" y="247680"/>
              <a:ext cx="217800" cy="305280"/>
            </a:xfrm>
            <a:custGeom>
              <a:avLst/>
              <a:gdLst/>
              <a:ahLst/>
              <a:rect l="0" t="0" r="r" b="b"/>
              <a:pathLst>
                <a:path w="605" h="848">
                  <a:moveTo>
                    <a:pt x="101" y="217"/>
                  </a:moveTo>
                  <a:lnTo>
                    <a:pt x="189" y="198"/>
                  </a:lnTo>
                  <a:lnTo>
                    <a:pt x="277" y="207"/>
                  </a:lnTo>
                  <a:lnTo>
                    <a:pt x="349" y="243"/>
                  </a:lnTo>
                  <a:lnTo>
                    <a:pt x="389" y="287"/>
                  </a:lnTo>
                  <a:lnTo>
                    <a:pt x="406" y="331"/>
                  </a:lnTo>
                  <a:lnTo>
                    <a:pt x="406" y="375"/>
                  </a:lnTo>
                  <a:lnTo>
                    <a:pt x="384" y="402"/>
                  </a:lnTo>
                  <a:lnTo>
                    <a:pt x="344" y="424"/>
                  </a:lnTo>
                  <a:lnTo>
                    <a:pt x="299" y="424"/>
                  </a:lnTo>
                  <a:lnTo>
                    <a:pt x="246" y="411"/>
                  </a:lnTo>
                  <a:lnTo>
                    <a:pt x="194" y="375"/>
                  </a:lnTo>
                  <a:lnTo>
                    <a:pt x="154" y="344"/>
                  </a:lnTo>
                  <a:lnTo>
                    <a:pt x="136" y="455"/>
                  </a:lnTo>
                  <a:lnTo>
                    <a:pt x="101" y="530"/>
                  </a:lnTo>
                  <a:lnTo>
                    <a:pt x="0" y="711"/>
                  </a:lnTo>
                  <a:lnTo>
                    <a:pt x="145" y="848"/>
                  </a:lnTo>
                  <a:lnTo>
                    <a:pt x="255" y="618"/>
                  </a:lnTo>
                  <a:lnTo>
                    <a:pt x="384" y="641"/>
                  </a:lnTo>
                  <a:lnTo>
                    <a:pt x="464" y="622"/>
                  </a:lnTo>
                  <a:lnTo>
                    <a:pt x="538" y="569"/>
                  </a:lnTo>
                  <a:lnTo>
                    <a:pt x="583" y="503"/>
                  </a:lnTo>
                  <a:lnTo>
                    <a:pt x="605" y="415"/>
                  </a:lnTo>
                  <a:lnTo>
                    <a:pt x="605" y="327"/>
                  </a:lnTo>
                  <a:lnTo>
                    <a:pt x="583" y="225"/>
                  </a:lnTo>
                  <a:lnTo>
                    <a:pt x="534" y="127"/>
                  </a:lnTo>
                  <a:lnTo>
                    <a:pt x="472" y="57"/>
                  </a:lnTo>
                  <a:lnTo>
                    <a:pt x="397" y="22"/>
                  </a:lnTo>
                  <a:lnTo>
                    <a:pt x="309" y="0"/>
                  </a:lnTo>
                  <a:lnTo>
                    <a:pt x="202" y="0"/>
                  </a:lnTo>
                  <a:lnTo>
                    <a:pt x="79" y="26"/>
                  </a:lnTo>
                  <a:lnTo>
                    <a:pt x="101" y="217"/>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3" name=""/>
            <p:cNvSpPr/>
            <p:nvPr/>
          </p:nvSpPr>
          <p:spPr>
            <a:xfrm>
              <a:off x="1882800" y="544680"/>
              <a:ext cx="78120" cy="60840"/>
            </a:xfrm>
            <a:custGeom>
              <a:avLst/>
              <a:gdLst/>
              <a:ahLst/>
              <a:rect l="0" t="0" r="r" b="b"/>
              <a:pathLst>
                <a:path w="217" h="169">
                  <a:moveTo>
                    <a:pt x="88" y="0"/>
                  </a:moveTo>
                  <a:lnTo>
                    <a:pt x="30" y="0"/>
                  </a:lnTo>
                  <a:lnTo>
                    <a:pt x="0" y="26"/>
                  </a:lnTo>
                  <a:lnTo>
                    <a:pt x="0" y="84"/>
                  </a:lnTo>
                  <a:lnTo>
                    <a:pt x="44" y="147"/>
                  </a:lnTo>
                  <a:lnTo>
                    <a:pt x="133" y="169"/>
                  </a:lnTo>
                  <a:lnTo>
                    <a:pt x="199" y="165"/>
                  </a:lnTo>
                  <a:lnTo>
                    <a:pt x="217" y="129"/>
                  </a:lnTo>
                  <a:lnTo>
                    <a:pt x="208" y="93"/>
                  </a:lnTo>
                  <a:lnTo>
                    <a:pt x="177" y="45"/>
                  </a:lnTo>
                  <a:lnTo>
                    <a:pt x="124" y="8"/>
                  </a:lnTo>
                  <a:lnTo>
                    <a:pt x="88" y="0"/>
                  </a:lnTo>
                  <a:close/>
                </a:path>
              </a:pathLst>
            </a:custGeom>
            <a:solidFill>
              <a:srgbClr val="fc0128"/>
            </a:solidFill>
            <a:ln w="12600">
              <a:solidFill>
                <a:srgbClr val="000000"/>
              </a:solidFill>
              <a:round/>
            </a:ln>
          </p:spPr>
          <p:txBody>
            <a:bodyPr lIns="96120" rIns="96120" tIns="9720" bIns="97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94" name=""/>
          <p:cNvSpPr txBox="1"/>
          <p:nvPr/>
        </p:nvSpPr>
        <p:spPr>
          <a:xfrm>
            <a:off x="914400" y="533520"/>
            <a:ext cx="7734240" cy="2019240"/>
          </a:xfrm>
          <a:prstGeom prst="rect">
            <a:avLst/>
          </a:prstGeom>
          <a:noFill/>
          <a:ln w="0">
            <a:noFill/>
          </a:ln>
        </p:spPr>
        <p:txBody>
          <a:bodyPr lIns="0" rIns="0" tIns="0" bIns="0" anchor="t">
            <a:noAutofit/>
          </a:bodyPr>
          <a:p>
            <a:pPr algn="ctr">
              <a:lnSpc>
                <a:spcPct val="110000"/>
              </a:lnSpc>
            </a:pPr>
            <a:r>
              <a:rPr b="1" lang="en-US" sz="4400" spc="-1" strike="noStrike">
                <a:solidFill>
                  <a:srgbClr val="ffcc66"/>
                </a:solidFill>
                <a:latin typeface="Arial"/>
                <a:ea typeface="Arial"/>
              </a:rPr>
              <a:t>Merchandising Work Sheet and Closing Entries</a:t>
            </a:r>
            <a:endParaRPr b="0" lang="en-US" sz="4400" spc="-1" strike="noStrike">
              <a:solidFill>
                <a:srgbClr val="ffffff"/>
              </a:solidFill>
              <a:latin typeface="Arial"/>
            </a:endParaRPr>
          </a:p>
        </p:txBody>
      </p:sp>
      <p:sp>
        <p:nvSpPr>
          <p:cNvPr id="495" name=""/>
          <p:cNvSpPr txBox="1"/>
          <p:nvPr/>
        </p:nvSpPr>
        <p:spPr>
          <a:xfrm>
            <a:off x="990720" y="2590920"/>
            <a:ext cx="7772400" cy="314964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
            </a:pPr>
            <a:r>
              <a:rPr b="1" lang="en-US" sz="3600" spc="-1" strike="noStrike">
                <a:solidFill>
                  <a:srgbClr val="fcffd8"/>
                </a:solidFill>
                <a:latin typeface="Arial"/>
                <a:ea typeface="Arial"/>
              </a:rPr>
              <a:t>SUPPLEMENTAL OBJECTIVE 6</a:t>
            </a:r>
            <a:endParaRPr b="0" lang="en-US" sz="3600" spc="-1" strike="noStrike">
              <a:solidFill>
                <a:srgbClr val="ffffff"/>
              </a:solidFill>
              <a:latin typeface="Arial"/>
            </a:endParaRPr>
          </a:p>
          <a:p>
            <a:pPr marL="343080" indent="-343080">
              <a:lnSpc>
                <a:spcPct val="110000"/>
              </a:lnSpc>
              <a:spcBef>
                <a:spcPts val="479"/>
              </a:spcBef>
              <a:buClr>
                <a:srgbClr val="ffcc66"/>
              </a:buClr>
              <a:buFont typeface="Monotype Sorts"/>
              <a:buChar char=" "/>
            </a:pPr>
            <a:r>
              <a:rPr b="1" lang="en-US" sz="3200" spc="-1" strike="noStrike">
                <a:solidFill>
                  <a:srgbClr val="fcffd8"/>
                </a:solidFill>
                <a:latin typeface="Arial"/>
                <a:ea typeface="Arial"/>
              </a:rPr>
              <a:t>Prepare a work sheet and closing entries for a merchandising concern using the perpetual inventory system.</a:t>
            </a:r>
            <a:endParaRPr b="0" lang="en-US" sz="3200" spc="-1" strike="noStrike">
              <a:solidFill>
                <a:srgbClr val="ffffff"/>
              </a:solidFill>
              <a:latin typeface="Arial"/>
            </a:endParaRPr>
          </a:p>
        </p:txBody>
      </p:sp>
      <p:pic>
        <p:nvPicPr>
          <p:cNvPr id="496" name="" descr=""/>
          <p:cNvPicPr/>
          <p:nvPr/>
        </p:nvPicPr>
        <p:blipFill>
          <a:blip r:embed="rId1"/>
          <a:stretch/>
        </p:blipFill>
        <p:spPr>
          <a:xfrm>
            <a:off x="0" y="0"/>
            <a:ext cx="812880" cy="69850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97" name=""/>
          <p:cNvSpPr txBox="1"/>
          <p:nvPr/>
        </p:nvSpPr>
        <p:spPr>
          <a:xfrm>
            <a:off x="990720" y="457200"/>
            <a:ext cx="7772400" cy="9144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Perpetual Inventory System</a:t>
            </a:r>
            <a:endParaRPr b="0" lang="en-US" sz="4400" spc="-1" strike="noStrike">
              <a:solidFill>
                <a:srgbClr val="ffffff"/>
              </a:solidFill>
              <a:latin typeface="Arial"/>
            </a:endParaRPr>
          </a:p>
        </p:txBody>
      </p:sp>
      <p:sp>
        <p:nvSpPr>
          <p:cNvPr id="498" name=""/>
          <p:cNvSpPr txBox="1"/>
          <p:nvPr/>
        </p:nvSpPr>
        <p:spPr>
          <a:xfrm>
            <a:off x="990720" y="1371600"/>
            <a:ext cx="7772400" cy="48769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Under the perpetual inventory system, the Merchandise Inventory account is up to date at the end of the accounting period and therefore is involved in the closing process.</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The reason for this is that purchases are recorded directly in the Merchandise Inventory account and costs are transferred from the inventory account to the Cost of Goods Sold accou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99" name=""/>
          <p:cNvSpPr txBox="1"/>
          <p:nvPr/>
        </p:nvSpPr>
        <p:spPr>
          <a:xfrm>
            <a:off x="99072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Perpetual Inventory System</a:t>
            </a:r>
            <a:endParaRPr b="0" lang="en-US" sz="4400" spc="-1" strike="noStrike">
              <a:solidFill>
                <a:srgbClr val="ffffff"/>
              </a:solidFill>
              <a:latin typeface="Arial"/>
            </a:endParaRPr>
          </a:p>
        </p:txBody>
      </p:sp>
      <p:sp>
        <p:nvSpPr>
          <p:cNvPr id="500" name=""/>
          <p:cNvSpPr txBox="1"/>
          <p:nvPr/>
        </p:nvSpPr>
        <p:spPr>
          <a:xfrm>
            <a:off x="914400" y="1828800"/>
            <a:ext cx="8001000" cy="304812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The ending Merchandise Inventory account balance is placed in the trial balance and balance sheet columns (debit) on a work shee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01" name=""/>
          <p:cNvSpPr txBox="1"/>
          <p:nvPr/>
        </p:nvSpPr>
        <p:spPr>
          <a:xfrm>
            <a:off x="914400" y="380880"/>
            <a:ext cx="7743960" cy="1295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losing Entries:</a:t>
            </a:r>
            <a:br>
              <a:rPr sz="4400"/>
            </a:br>
            <a:r>
              <a:rPr b="1" lang="en-US" sz="4400" spc="-1" strike="noStrike">
                <a:solidFill>
                  <a:srgbClr val="ffcc66"/>
                </a:solidFill>
                <a:latin typeface="Arial"/>
                <a:ea typeface="Arial"/>
              </a:rPr>
              <a:t>Perpetual Inventory System</a:t>
            </a:r>
            <a:endParaRPr b="0" lang="en-US" sz="4400" spc="-1" strike="noStrike">
              <a:solidFill>
                <a:srgbClr val="ffffff"/>
              </a:solidFill>
              <a:latin typeface="Arial"/>
            </a:endParaRPr>
          </a:p>
        </p:txBody>
      </p:sp>
      <p:sp>
        <p:nvSpPr>
          <p:cNvPr id="502" name=""/>
          <p:cNvSpPr txBox="1"/>
          <p:nvPr/>
        </p:nvSpPr>
        <p:spPr>
          <a:xfrm>
            <a:off x="914400" y="1752480"/>
            <a:ext cx="8001000" cy="45720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Closing entries involve closing the Cost of Goods Sold account to the Income Summary along with other expense accounts since it has a normal debit balance.</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Revenue accounts and the Income Summary account are closed in the same manner as a service fir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03" name=""/>
          <p:cNvSpPr txBox="1"/>
          <p:nvPr/>
        </p:nvSpPr>
        <p:spPr>
          <a:xfrm>
            <a:off x="2590920" y="1371600"/>
            <a:ext cx="4033800" cy="9558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sp>
        <p:nvSpPr>
          <p:cNvPr id="504" name=""/>
          <p:cNvSpPr txBox="1"/>
          <p:nvPr/>
        </p:nvSpPr>
        <p:spPr>
          <a:xfrm>
            <a:off x="762120" y="2514600"/>
            <a:ext cx="8153280" cy="3675240"/>
          </a:xfrm>
          <a:prstGeom prst="rect">
            <a:avLst/>
          </a:prstGeom>
          <a:noFill/>
          <a:ln w="0">
            <a:noFill/>
          </a:ln>
        </p:spPr>
        <p:txBody>
          <a:bodyPr lIns="0" rIns="0" tIns="0" bIns="0" anchor="t">
            <a:noAutofit/>
          </a:bodyPr>
          <a:p>
            <a:pPr marL="343080" indent="-343080">
              <a:lnSpc>
                <a:spcPct val="110000"/>
              </a:lnSpc>
              <a:spcBef>
                <a:spcPts val="479"/>
              </a:spcBef>
            </a:pPr>
            <a:r>
              <a:rPr b="1" lang="en-US" sz="2800" spc="-1" strike="noStrike">
                <a:solidFill>
                  <a:srgbClr val="fc0128"/>
                </a:solidFill>
                <a:latin typeface="Arial"/>
                <a:ea typeface="Arial"/>
              </a:rPr>
              <a:t>Q.</a:t>
            </a:r>
            <a:r>
              <a:rPr b="1" lang="en-US" sz="2800" spc="-1" strike="noStrike">
                <a:solidFill>
                  <a:srgbClr val="fc0128"/>
                </a:solidFill>
                <a:latin typeface="Arial"/>
                <a:ea typeface="Arial"/>
              </a:rPr>
              <a:t>	</a:t>
            </a:r>
            <a:r>
              <a:rPr b="1" lang="en-US" sz="2800" spc="-1" strike="noStrike">
                <a:solidFill>
                  <a:srgbClr val="fcffd8"/>
                </a:solidFill>
                <a:latin typeface="Arial"/>
                <a:ea typeface="Arial"/>
              </a:rPr>
              <a:t>The ending balance in the Merchandise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Inventory account is placed in which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column(s) of the work sheet?</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0128"/>
                </a:solidFill>
                <a:latin typeface="Arial"/>
                <a:ea typeface="Arial"/>
              </a:rPr>
              <a:t>A.</a:t>
            </a:r>
            <a:r>
              <a:rPr b="1" lang="en-US" sz="2800" spc="-1" strike="noStrike">
                <a:solidFill>
                  <a:srgbClr val="fc0128"/>
                </a:solidFill>
                <a:latin typeface="Arial"/>
                <a:ea typeface="Arial"/>
              </a:rPr>
              <a:t>	</a:t>
            </a:r>
            <a:r>
              <a:rPr b="1" lang="en-US" sz="2800" spc="-1" strike="noStrike">
                <a:solidFill>
                  <a:srgbClr val="fcffd8"/>
                </a:solidFill>
                <a:latin typeface="Arial"/>
                <a:ea typeface="Arial"/>
              </a:rPr>
              <a:t>The ending balance in the Merchandise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Inventory account is placed in the debi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column of both the trial balance and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balance sheet columns of a work sheet.</a:t>
            </a:r>
            <a:endParaRPr b="0" lang="en-US" sz="2800" spc="-1" strike="noStrike">
              <a:solidFill>
                <a:srgbClr val="ffffff"/>
              </a:solidFill>
              <a:latin typeface="Arial"/>
            </a:endParaRPr>
          </a:p>
        </p:txBody>
      </p:sp>
      <p:grpSp>
        <p:nvGrpSpPr>
          <p:cNvPr id="505" name=""/>
          <p:cNvGrpSpPr/>
          <p:nvPr/>
        </p:nvGrpSpPr>
        <p:grpSpPr>
          <a:xfrm>
            <a:off x="6477120" y="304920"/>
            <a:ext cx="2284560" cy="2132280"/>
            <a:chOff x="6477120" y="304920"/>
            <a:chExt cx="2284560" cy="2132280"/>
          </a:xfrm>
        </p:grpSpPr>
        <p:sp>
          <p:nvSpPr>
            <p:cNvPr id="506" name=""/>
            <p:cNvSpPr/>
            <p:nvPr/>
          </p:nvSpPr>
          <p:spPr>
            <a:xfrm>
              <a:off x="6483240" y="1351080"/>
              <a:ext cx="554400" cy="744840"/>
            </a:xfrm>
            <a:custGeom>
              <a:avLst/>
              <a:gdLst/>
              <a:ahLst/>
              <a:rect l="0" t="0" r="r" b="b"/>
              <a:pathLst>
                <a:path w="1540" h="2069">
                  <a:moveTo>
                    <a:pt x="618" y="0"/>
                  </a:moveTo>
                  <a:lnTo>
                    <a:pt x="534" y="92"/>
                  </a:lnTo>
                  <a:lnTo>
                    <a:pt x="534" y="361"/>
                  </a:lnTo>
                  <a:lnTo>
                    <a:pt x="618" y="555"/>
                  </a:lnTo>
                  <a:lnTo>
                    <a:pt x="706" y="652"/>
                  </a:lnTo>
                  <a:lnTo>
                    <a:pt x="569" y="784"/>
                  </a:lnTo>
                  <a:lnTo>
                    <a:pt x="383" y="1085"/>
                  </a:lnTo>
                  <a:lnTo>
                    <a:pt x="30" y="1562"/>
                  </a:lnTo>
                  <a:lnTo>
                    <a:pt x="0" y="1676"/>
                  </a:lnTo>
                  <a:lnTo>
                    <a:pt x="30" y="1773"/>
                  </a:lnTo>
                  <a:lnTo>
                    <a:pt x="141" y="1773"/>
                  </a:lnTo>
                  <a:lnTo>
                    <a:pt x="233" y="1663"/>
                  </a:lnTo>
                  <a:lnTo>
                    <a:pt x="383" y="1394"/>
                  </a:lnTo>
                  <a:lnTo>
                    <a:pt x="477" y="1279"/>
                  </a:lnTo>
                  <a:lnTo>
                    <a:pt x="534" y="1456"/>
                  </a:lnTo>
                  <a:lnTo>
                    <a:pt x="494" y="1645"/>
                  </a:lnTo>
                  <a:lnTo>
                    <a:pt x="343" y="1919"/>
                  </a:lnTo>
                  <a:lnTo>
                    <a:pt x="383" y="1980"/>
                  </a:lnTo>
                  <a:lnTo>
                    <a:pt x="477" y="1963"/>
                  </a:lnTo>
                  <a:lnTo>
                    <a:pt x="666" y="1822"/>
                  </a:lnTo>
                  <a:lnTo>
                    <a:pt x="821" y="1579"/>
                  </a:lnTo>
                  <a:lnTo>
                    <a:pt x="821" y="1998"/>
                  </a:lnTo>
                  <a:lnTo>
                    <a:pt x="1002" y="2069"/>
                  </a:lnTo>
                  <a:lnTo>
                    <a:pt x="1112" y="1808"/>
                  </a:lnTo>
                  <a:lnTo>
                    <a:pt x="1205" y="2051"/>
                  </a:lnTo>
                  <a:lnTo>
                    <a:pt x="1280" y="1980"/>
                  </a:lnTo>
                  <a:lnTo>
                    <a:pt x="1316" y="1504"/>
                  </a:lnTo>
                  <a:lnTo>
                    <a:pt x="1540" y="1050"/>
                  </a:lnTo>
                  <a:lnTo>
                    <a:pt x="1488" y="784"/>
                  </a:lnTo>
                  <a:lnTo>
                    <a:pt x="1333" y="687"/>
                  </a:lnTo>
                  <a:lnTo>
                    <a:pt x="1166" y="701"/>
                  </a:lnTo>
                  <a:lnTo>
                    <a:pt x="1112" y="489"/>
                  </a:lnTo>
                  <a:lnTo>
                    <a:pt x="940" y="440"/>
                  </a:lnTo>
                  <a:lnTo>
                    <a:pt x="794" y="374"/>
                  </a:lnTo>
                  <a:lnTo>
                    <a:pt x="706" y="44"/>
                  </a:lnTo>
                  <a:lnTo>
                    <a:pt x="618"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507" name=""/>
            <p:cNvSpPr/>
            <p:nvPr/>
          </p:nvSpPr>
          <p:spPr>
            <a:xfrm>
              <a:off x="6948360" y="1654200"/>
              <a:ext cx="165600" cy="360720"/>
            </a:xfrm>
            <a:custGeom>
              <a:avLst/>
              <a:gdLst/>
              <a:ahLst/>
              <a:rect l="0" t="0" r="r" b="b"/>
              <a:pathLst>
                <a:path w="460" h="1002">
                  <a:moveTo>
                    <a:pt x="230" y="0"/>
                  </a:moveTo>
                  <a:lnTo>
                    <a:pt x="460" y="260"/>
                  </a:lnTo>
                  <a:lnTo>
                    <a:pt x="344" y="825"/>
                  </a:lnTo>
                  <a:lnTo>
                    <a:pt x="0" y="1002"/>
                  </a:lnTo>
                  <a:lnTo>
                    <a:pt x="0" y="719"/>
                  </a:lnTo>
                  <a:lnTo>
                    <a:pt x="142" y="423"/>
                  </a:lnTo>
                  <a:lnTo>
                    <a:pt x="230" y="211"/>
                  </a:lnTo>
                  <a:lnTo>
                    <a:pt x="230"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08" name=""/>
            <p:cNvSpPr/>
            <p:nvPr/>
          </p:nvSpPr>
          <p:spPr>
            <a:xfrm>
              <a:off x="8012160" y="1446120"/>
              <a:ext cx="408240" cy="325800"/>
            </a:xfrm>
            <a:custGeom>
              <a:avLst/>
              <a:gdLst/>
              <a:ahLst/>
              <a:rect l="0" t="0" r="r" b="b"/>
              <a:pathLst>
                <a:path w="1134" h="905">
                  <a:moveTo>
                    <a:pt x="467" y="0"/>
                  </a:moveTo>
                  <a:lnTo>
                    <a:pt x="467" y="145"/>
                  </a:lnTo>
                  <a:lnTo>
                    <a:pt x="507" y="274"/>
                  </a:lnTo>
                  <a:lnTo>
                    <a:pt x="728" y="490"/>
                  </a:lnTo>
                  <a:lnTo>
                    <a:pt x="1134" y="613"/>
                  </a:lnTo>
                  <a:lnTo>
                    <a:pt x="1076" y="888"/>
                  </a:lnTo>
                  <a:lnTo>
                    <a:pt x="728" y="905"/>
                  </a:lnTo>
                  <a:lnTo>
                    <a:pt x="216" y="707"/>
                  </a:lnTo>
                  <a:lnTo>
                    <a:pt x="0" y="362"/>
                  </a:lnTo>
                  <a:lnTo>
                    <a:pt x="255" y="17"/>
                  </a:lnTo>
                  <a:lnTo>
                    <a:pt x="467"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09" name=""/>
            <p:cNvSpPr/>
            <p:nvPr/>
          </p:nvSpPr>
          <p:spPr>
            <a:xfrm>
              <a:off x="8175600" y="1077840"/>
              <a:ext cx="572040" cy="717840"/>
            </a:xfrm>
            <a:custGeom>
              <a:avLst/>
              <a:gdLst/>
              <a:ahLst/>
              <a:rect l="0" t="0" r="r" b="b"/>
              <a:pathLst>
                <a:path w="1589" h="1994">
                  <a:moveTo>
                    <a:pt x="141" y="846"/>
                  </a:moveTo>
                  <a:lnTo>
                    <a:pt x="0" y="987"/>
                  </a:lnTo>
                  <a:lnTo>
                    <a:pt x="30" y="1315"/>
                  </a:lnTo>
                  <a:lnTo>
                    <a:pt x="251" y="1465"/>
                  </a:lnTo>
                  <a:lnTo>
                    <a:pt x="268" y="1958"/>
                  </a:lnTo>
                  <a:lnTo>
                    <a:pt x="494" y="1958"/>
                  </a:lnTo>
                  <a:lnTo>
                    <a:pt x="477" y="1539"/>
                  </a:lnTo>
                  <a:lnTo>
                    <a:pt x="644" y="1976"/>
                  </a:lnTo>
                  <a:lnTo>
                    <a:pt x="755" y="1994"/>
                  </a:lnTo>
                  <a:lnTo>
                    <a:pt x="834" y="1848"/>
                  </a:lnTo>
                  <a:lnTo>
                    <a:pt x="852" y="1575"/>
                  </a:lnTo>
                  <a:lnTo>
                    <a:pt x="1094" y="1831"/>
                  </a:lnTo>
                  <a:lnTo>
                    <a:pt x="1191" y="1808"/>
                  </a:lnTo>
                  <a:lnTo>
                    <a:pt x="1169" y="1632"/>
                  </a:lnTo>
                  <a:lnTo>
                    <a:pt x="1076" y="1381"/>
                  </a:lnTo>
                  <a:lnTo>
                    <a:pt x="979" y="1218"/>
                  </a:lnTo>
                  <a:lnTo>
                    <a:pt x="1015" y="1103"/>
                  </a:lnTo>
                  <a:lnTo>
                    <a:pt x="1076" y="1121"/>
                  </a:lnTo>
                  <a:lnTo>
                    <a:pt x="1298" y="1381"/>
                  </a:lnTo>
                  <a:lnTo>
                    <a:pt x="1536" y="1447"/>
                  </a:lnTo>
                  <a:lnTo>
                    <a:pt x="1589" y="1363"/>
                  </a:lnTo>
                  <a:lnTo>
                    <a:pt x="1554" y="1231"/>
                  </a:lnTo>
                  <a:lnTo>
                    <a:pt x="1112" y="829"/>
                  </a:lnTo>
                  <a:lnTo>
                    <a:pt x="755" y="705"/>
                  </a:lnTo>
                  <a:lnTo>
                    <a:pt x="710" y="480"/>
                  </a:lnTo>
                  <a:lnTo>
                    <a:pt x="834" y="277"/>
                  </a:lnTo>
                  <a:lnTo>
                    <a:pt x="834" y="66"/>
                  </a:lnTo>
                  <a:lnTo>
                    <a:pt x="733" y="0"/>
                  </a:lnTo>
                  <a:lnTo>
                    <a:pt x="477" y="537"/>
                  </a:lnTo>
                  <a:lnTo>
                    <a:pt x="251" y="621"/>
                  </a:lnTo>
                  <a:lnTo>
                    <a:pt x="194" y="767"/>
                  </a:lnTo>
                  <a:lnTo>
                    <a:pt x="141" y="846"/>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510" name=""/>
            <p:cNvSpPr/>
            <p:nvPr/>
          </p:nvSpPr>
          <p:spPr>
            <a:xfrm>
              <a:off x="7237440" y="455760"/>
              <a:ext cx="624240" cy="918000"/>
            </a:xfrm>
            <a:custGeom>
              <a:avLst/>
              <a:gdLst/>
              <a:ahLst/>
              <a:rect l="0" t="0" r="r" b="b"/>
              <a:pathLst>
                <a:path w="1734" h="2550">
                  <a:moveTo>
                    <a:pt x="432" y="352"/>
                  </a:moveTo>
                  <a:lnTo>
                    <a:pt x="304" y="843"/>
                  </a:lnTo>
                  <a:lnTo>
                    <a:pt x="17" y="940"/>
                  </a:lnTo>
                  <a:lnTo>
                    <a:pt x="97" y="1094"/>
                  </a:lnTo>
                  <a:lnTo>
                    <a:pt x="0" y="1191"/>
                  </a:lnTo>
                  <a:lnTo>
                    <a:pt x="0" y="1368"/>
                  </a:lnTo>
                  <a:lnTo>
                    <a:pt x="141" y="1531"/>
                  </a:lnTo>
                  <a:lnTo>
                    <a:pt x="268" y="1531"/>
                  </a:lnTo>
                  <a:lnTo>
                    <a:pt x="361" y="2096"/>
                  </a:lnTo>
                  <a:lnTo>
                    <a:pt x="467" y="2339"/>
                  </a:lnTo>
                  <a:lnTo>
                    <a:pt x="824" y="2550"/>
                  </a:lnTo>
                  <a:lnTo>
                    <a:pt x="1178" y="2519"/>
                  </a:lnTo>
                  <a:lnTo>
                    <a:pt x="1345" y="2096"/>
                  </a:lnTo>
                  <a:lnTo>
                    <a:pt x="1385" y="1451"/>
                  </a:lnTo>
                  <a:lnTo>
                    <a:pt x="1734" y="1129"/>
                  </a:lnTo>
                  <a:lnTo>
                    <a:pt x="1716" y="1002"/>
                  </a:lnTo>
                  <a:lnTo>
                    <a:pt x="1676" y="940"/>
                  </a:lnTo>
                  <a:lnTo>
                    <a:pt x="1495" y="927"/>
                  </a:lnTo>
                  <a:lnTo>
                    <a:pt x="1553" y="759"/>
                  </a:lnTo>
                  <a:lnTo>
                    <a:pt x="1368" y="644"/>
                  </a:lnTo>
                  <a:lnTo>
                    <a:pt x="1293" y="277"/>
                  </a:lnTo>
                  <a:lnTo>
                    <a:pt x="749" y="0"/>
                  </a:lnTo>
                  <a:lnTo>
                    <a:pt x="467" y="260"/>
                  </a:lnTo>
                  <a:lnTo>
                    <a:pt x="432" y="352"/>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511" name=""/>
            <p:cNvSpPr/>
            <p:nvPr/>
          </p:nvSpPr>
          <p:spPr>
            <a:xfrm>
              <a:off x="7283520" y="1220760"/>
              <a:ext cx="572040" cy="1094040"/>
            </a:xfrm>
            <a:custGeom>
              <a:avLst/>
              <a:gdLst/>
              <a:ahLst/>
              <a:rect l="0" t="0" r="r" b="b"/>
              <a:pathLst>
                <a:path w="1589" h="3039">
                  <a:moveTo>
                    <a:pt x="326" y="158"/>
                  </a:moveTo>
                  <a:lnTo>
                    <a:pt x="552" y="304"/>
                  </a:lnTo>
                  <a:lnTo>
                    <a:pt x="662" y="467"/>
                  </a:lnTo>
                  <a:lnTo>
                    <a:pt x="1298" y="0"/>
                  </a:lnTo>
                  <a:lnTo>
                    <a:pt x="1496" y="97"/>
                  </a:lnTo>
                  <a:lnTo>
                    <a:pt x="1589" y="577"/>
                  </a:lnTo>
                  <a:lnTo>
                    <a:pt x="1129" y="1976"/>
                  </a:lnTo>
                  <a:lnTo>
                    <a:pt x="1276" y="2748"/>
                  </a:lnTo>
                  <a:lnTo>
                    <a:pt x="675" y="3039"/>
                  </a:lnTo>
                  <a:lnTo>
                    <a:pt x="211" y="2876"/>
                  </a:lnTo>
                  <a:lnTo>
                    <a:pt x="211" y="2055"/>
                  </a:lnTo>
                  <a:lnTo>
                    <a:pt x="0" y="1261"/>
                  </a:lnTo>
                  <a:lnTo>
                    <a:pt x="211" y="304"/>
                  </a:lnTo>
                  <a:lnTo>
                    <a:pt x="326" y="158"/>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12" name=""/>
            <p:cNvSpPr/>
            <p:nvPr/>
          </p:nvSpPr>
          <p:spPr>
            <a:xfrm>
              <a:off x="7308720" y="334800"/>
              <a:ext cx="532080" cy="289440"/>
            </a:xfrm>
            <a:custGeom>
              <a:avLst/>
              <a:gdLst/>
              <a:ahLst/>
              <a:rect l="0" t="0" r="r" b="b"/>
              <a:pathLst>
                <a:path w="1478" h="804">
                  <a:moveTo>
                    <a:pt x="180" y="769"/>
                  </a:moveTo>
                  <a:lnTo>
                    <a:pt x="396" y="552"/>
                  </a:lnTo>
                  <a:lnTo>
                    <a:pt x="537" y="521"/>
                  </a:lnTo>
                  <a:lnTo>
                    <a:pt x="537" y="538"/>
                  </a:lnTo>
                  <a:lnTo>
                    <a:pt x="608" y="521"/>
                  </a:lnTo>
                  <a:lnTo>
                    <a:pt x="696" y="583"/>
                  </a:lnTo>
                  <a:lnTo>
                    <a:pt x="869" y="619"/>
                  </a:lnTo>
                  <a:lnTo>
                    <a:pt x="1015" y="804"/>
                  </a:lnTo>
                  <a:lnTo>
                    <a:pt x="1244" y="720"/>
                  </a:lnTo>
                  <a:lnTo>
                    <a:pt x="1244" y="637"/>
                  </a:lnTo>
                  <a:lnTo>
                    <a:pt x="1478" y="538"/>
                  </a:lnTo>
                  <a:lnTo>
                    <a:pt x="1407" y="389"/>
                  </a:lnTo>
                  <a:lnTo>
                    <a:pt x="1187" y="375"/>
                  </a:lnTo>
                  <a:lnTo>
                    <a:pt x="1222" y="212"/>
                  </a:lnTo>
                  <a:lnTo>
                    <a:pt x="1037" y="230"/>
                  </a:lnTo>
                  <a:lnTo>
                    <a:pt x="1002" y="114"/>
                  </a:lnTo>
                  <a:lnTo>
                    <a:pt x="869" y="114"/>
                  </a:lnTo>
                  <a:lnTo>
                    <a:pt x="781" y="176"/>
                  </a:lnTo>
                  <a:lnTo>
                    <a:pt x="696" y="176"/>
                  </a:lnTo>
                  <a:lnTo>
                    <a:pt x="714" y="0"/>
                  </a:lnTo>
                  <a:lnTo>
                    <a:pt x="537" y="83"/>
                  </a:lnTo>
                  <a:lnTo>
                    <a:pt x="291" y="375"/>
                  </a:lnTo>
                  <a:lnTo>
                    <a:pt x="277" y="176"/>
                  </a:lnTo>
                  <a:lnTo>
                    <a:pt x="145" y="274"/>
                  </a:lnTo>
                  <a:lnTo>
                    <a:pt x="114" y="521"/>
                  </a:lnTo>
                  <a:lnTo>
                    <a:pt x="0" y="477"/>
                  </a:lnTo>
                  <a:lnTo>
                    <a:pt x="17" y="637"/>
                  </a:lnTo>
                  <a:lnTo>
                    <a:pt x="180" y="769"/>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3" name=""/>
            <p:cNvSpPr/>
            <p:nvPr/>
          </p:nvSpPr>
          <p:spPr>
            <a:xfrm>
              <a:off x="7451640" y="1424160"/>
              <a:ext cx="170280" cy="827280"/>
            </a:xfrm>
            <a:custGeom>
              <a:avLst/>
              <a:gdLst/>
              <a:ahLst/>
              <a:rect l="0" t="0" r="r" b="b"/>
              <a:pathLst>
                <a:path w="473" h="2298">
                  <a:moveTo>
                    <a:pt x="243" y="13"/>
                  </a:moveTo>
                  <a:lnTo>
                    <a:pt x="83" y="114"/>
                  </a:lnTo>
                  <a:lnTo>
                    <a:pt x="83" y="304"/>
                  </a:lnTo>
                  <a:lnTo>
                    <a:pt x="195" y="370"/>
                  </a:lnTo>
                  <a:lnTo>
                    <a:pt x="44" y="674"/>
                  </a:lnTo>
                  <a:lnTo>
                    <a:pt x="0" y="1075"/>
                  </a:lnTo>
                  <a:lnTo>
                    <a:pt x="120" y="1610"/>
                  </a:lnTo>
                  <a:lnTo>
                    <a:pt x="120" y="1831"/>
                  </a:lnTo>
                  <a:lnTo>
                    <a:pt x="57" y="2003"/>
                  </a:lnTo>
                  <a:lnTo>
                    <a:pt x="300" y="2298"/>
                  </a:lnTo>
                  <a:lnTo>
                    <a:pt x="456" y="1848"/>
                  </a:lnTo>
                  <a:lnTo>
                    <a:pt x="456" y="1544"/>
                  </a:lnTo>
                  <a:lnTo>
                    <a:pt x="340" y="1257"/>
                  </a:lnTo>
                  <a:lnTo>
                    <a:pt x="283" y="868"/>
                  </a:lnTo>
                  <a:lnTo>
                    <a:pt x="398" y="489"/>
                  </a:lnTo>
                  <a:lnTo>
                    <a:pt x="359" y="339"/>
                  </a:lnTo>
                  <a:lnTo>
                    <a:pt x="473" y="260"/>
                  </a:lnTo>
                  <a:lnTo>
                    <a:pt x="456" y="158"/>
                  </a:lnTo>
                  <a:lnTo>
                    <a:pt x="318" y="0"/>
                  </a:lnTo>
                  <a:lnTo>
                    <a:pt x="243"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4" name=""/>
            <p:cNvSpPr/>
            <p:nvPr/>
          </p:nvSpPr>
          <p:spPr>
            <a:xfrm>
              <a:off x="7445520" y="1146240"/>
              <a:ext cx="138600" cy="74880"/>
            </a:xfrm>
            <a:custGeom>
              <a:avLst/>
              <a:gdLst/>
              <a:ahLst/>
              <a:rect l="0" t="0" r="r" b="b"/>
              <a:pathLst>
                <a:path w="385" h="208">
                  <a:moveTo>
                    <a:pt x="0" y="61"/>
                  </a:moveTo>
                  <a:lnTo>
                    <a:pt x="155" y="208"/>
                  </a:lnTo>
                  <a:lnTo>
                    <a:pt x="306" y="190"/>
                  </a:lnTo>
                  <a:lnTo>
                    <a:pt x="385" y="17"/>
                  </a:lnTo>
                  <a:lnTo>
                    <a:pt x="212" y="0"/>
                  </a:lnTo>
                  <a:lnTo>
                    <a:pt x="39" y="17"/>
                  </a:lnTo>
                  <a:lnTo>
                    <a:pt x="0" y="61"/>
                  </a:lnTo>
                  <a:close/>
                </a:path>
              </a:pathLst>
            </a:custGeom>
            <a:solidFill>
              <a:srgbClr val="ffffff"/>
            </a:solidFill>
            <a:ln w="12600">
              <a:solidFill>
                <a:srgbClr val="ffffff"/>
              </a:solidFill>
              <a:round/>
            </a:ln>
          </p:spPr>
          <p:txBody>
            <a:bodyPr lIns="96120" rIns="96120" tIns="23760" bIns="23760" anchor="t">
              <a:noAutofit/>
            </a:bodyPr>
            <a:p>
              <a:endParaRPr b="0" lang="en-US" sz="1800" spc="-1" strike="noStrike">
                <a:solidFill>
                  <a:srgbClr val="000000"/>
                </a:solidFill>
                <a:latin typeface="Arial"/>
              </a:endParaRPr>
            </a:p>
          </p:txBody>
        </p:sp>
        <p:sp>
          <p:nvSpPr>
            <p:cNvPr id="515" name=""/>
            <p:cNvSpPr/>
            <p:nvPr/>
          </p:nvSpPr>
          <p:spPr>
            <a:xfrm>
              <a:off x="7296120" y="763560"/>
              <a:ext cx="170280" cy="162360"/>
            </a:xfrm>
            <a:custGeom>
              <a:avLst/>
              <a:gdLst/>
              <a:ahLst/>
              <a:rect l="0" t="0" r="r" b="b"/>
              <a:pathLst>
                <a:path w="473" h="451">
                  <a:moveTo>
                    <a:pt x="0" y="48"/>
                  </a:moveTo>
                  <a:lnTo>
                    <a:pt x="327" y="451"/>
                  </a:lnTo>
                  <a:lnTo>
                    <a:pt x="473" y="420"/>
                  </a:lnTo>
                  <a:lnTo>
                    <a:pt x="128" y="0"/>
                  </a:lnTo>
                  <a:lnTo>
                    <a:pt x="0" y="4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16" name=""/>
            <p:cNvSpPr/>
            <p:nvPr/>
          </p:nvSpPr>
          <p:spPr>
            <a:xfrm>
              <a:off x="7596360" y="728640"/>
              <a:ext cx="146520" cy="162360"/>
            </a:xfrm>
            <a:custGeom>
              <a:avLst/>
              <a:gdLst/>
              <a:ahLst/>
              <a:rect l="0" t="0" r="r" b="b"/>
              <a:pathLst>
                <a:path w="407" h="451">
                  <a:moveTo>
                    <a:pt x="0" y="66"/>
                  </a:moveTo>
                  <a:lnTo>
                    <a:pt x="283" y="451"/>
                  </a:lnTo>
                  <a:lnTo>
                    <a:pt x="407" y="350"/>
                  </a:lnTo>
                  <a:lnTo>
                    <a:pt x="111" y="0"/>
                  </a:lnTo>
                  <a:lnTo>
                    <a:pt x="0" y="6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17" name=""/>
            <p:cNvSpPr/>
            <p:nvPr/>
          </p:nvSpPr>
          <p:spPr>
            <a:xfrm>
              <a:off x="7232760" y="520560"/>
              <a:ext cx="595800" cy="405000"/>
            </a:xfrm>
            <a:custGeom>
              <a:avLst/>
              <a:gdLst/>
              <a:ahLst/>
              <a:rect l="0" t="0" r="r" b="b"/>
              <a:pathLst>
                <a:path w="1655" h="1125">
                  <a:moveTo>
                    <a:pt x="759" y="666"/>
                  </a:moveTo>
                  <a:lnTo>
                    <a:pt x="609" y="627"/>
                  </a:lnTo>
                  <a:lnTo>
                    <a:pt x="737" y="524"/>
                  </a:lnTo>
                  <a:lnTo>
                    <a:pt x="693" y="471"/>
                  </a:lnTo>
                  <a:lnTo>
                    <a:pt x="521" y="605"/>
                  </a:lnTo>
                  <a:lnTo>
                    <a:pt x="207" y="636"/>
                  </a:lnTo>
                  <a:lnTo>
                    <a:pt x="0" y="644"/>
                  </a:lnTo>
                  <a:lnTo>
                    <a:pt x="0" y="799"/>
                  </a:lnTo>
                  <a:lnTo>
                    <a:pt x="198" y="1116"/>
                  </a:lnTo>
                  <a:lnTo>
                    <a:pt x="246" y="1125"/>
                  </a:lnTo>
                  <a:lnTo>
                    <a:pt x="70" y="777"/>
                  </a:lnTo>
                  <a:lnTo>
                    <a:pt x="343" y="666"/>
                  </a:lnTo>
                  <a:lnTo>
                    <a:pt x="521" y="666"/>
                  </a:lnTo>
                  <a:lnTo>
                    <a:pt x="658" y="737"/>
                  </a:lnTo>
                  <a:lnTo>
                    <a:pt x="693" y="834"/>
                  </a:lnTo>
                  <a:lnTo>
                    <a:pt x="693" y="1046"/>
                  </a:lnTo>
                  <a:lnTo>
                    <a:pt x="693" y="1116"/>
                  </a:lnTo>
                  <a:lnTo>
                    <a:pt x="768" y="1015"/>
                  </a:lnTo>
                  <a:lnTo>
                    <a:pt x="768" y="790"/>
                  </a:lnTo>
                  <a:lnTo>
                    <a:pt x="887" y="790"/>
                  </a:lnTo>
                  <a:lnTo>
                    <a:pt x="944" y="1046"/>
                  </a:lnTo>
                  <a:lnTo>
                    <a:pt x="1006" y="1072"/>
                  </a:lnTo>
                  <a:lnTo>
                    <a:pt x="1209" y="1072"/>
                  </a:lnTo>
                  <a:lnTo>
                    <a:pt x="1413" y="1024"/>
                  </a:lnTo>
                  <a:lnTo>
                    <a:pt x="1554" y="927"/>
                  </a:lnTo>
                  <a:lnTo>
                    <a:pt x="1576" y="702"/>
                  </a:lnTo>
                  <a:lnTo>
                    <a:pt x="1655" y="605"/>
                  </a:lnTo>
                  <a:lnTo>
                    <a:pt x="1607" y="542"/>
                  </a:lnTo>
                  <a:lnTo>
                    <a:pt x="1426" y="480"/>
                  </a:lnTo>
                  <a:lnTo>
                    <a:pt x="1395" y="251"/>
                  </a:lnTo>
                  <a:lnTo>
                    <a:pt x="1222" y="251"/>
                  </a:lnTo>
                  <a:lnTo>
                    <a:pt x="1015" y="0"/>
                  </a:lnTo>
                  <a:lnTo>
                    <a:pt x="1204" y="277"/>
                  </a:lnTo>
                  <a:lnTo>
                    <a:pt x="1263" y="277"/>
                  </a:lnTo>
                  <a:lnTo>
                    <a:pt x="1302" y="471"/>
                  </a:lnTo>
                  <a:lnTo>
                    <a:pt x="1068" y="542"/>
                  </a:lnTo>
                  <a:lnTo>
                    <a:pt x="900" y="489"/>
                  </a:lnTo>
                  <a:lnTo>
                    <a:pt x="874" y="542"/>
                  </a:lnTo>
                  <a:lnTo>
                    <a:pt x="966" y="605"/>
                  </a:lnTo>
                  <a:lnTo>
                    <a:pt x="966" y="658"/>
                  </a:lnTo>
                  <a:lnTo>
                    <a:pt x="1165" y="574"/>
                  </a:lnTo>
                  <a:lnTo>
                    <a:pt x="1329" y="555"/>
                  </a:lnTo>
                  <a:lnTo>
                    <a:pt x="1518" y="583"/>
                  </a:lnTo>
                  <a:lnTo>
                    <a:pt x="1518" y="613"/>
                  </a:lnTo>
                  <a:lnTo>
                    <a:pt x="1430" y="693"/>
                  </a:lnTo>
                  <a:lnTo>
                    <a:pt x="1395" y="790"/>
                  </a:lnTo>
                  <a:lnTo>
                    <a:pt x="1386" y="927"/>
                  </a:lnTo>
                  <a:lnTo>
                    <a:pt x="1276" y="984"/>
                  </a:lnTo>
                  <a:lnTo>
                    <a:pt x="1116" y="1002"/>
                  </a:lnTo>
                  <a:lnTo>
                    <a:pt x="1006" y="1002"/>
                  </a:lnTo>
                  <a:lnTo>
                    <a:pt x="966" y="962"/>
                  </a:lnTo>
                  <a:lnTo>
                    <a:pt x="944" y="702"/>
                  </a:lnTo>
                  <a:lnTo>
                    <a:pt x="768" y="702"/>
                  </a:lnTo>
                  <a:lnTo>
                    <a:pt x="759" y="66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18" name=""/>
            <p:cNvSpPr/>
            <p:nvPr/>
          </p:nvSpPr>
          <p:spPr>
            <a:xfrm>
              <a:off x="7437600" y="987480"/>
              <a:ext cx="192600" cy="82800"/>
            </a:xfrm>
            <a:custGeom>
              <a:avLst/>
              <a:gdLst/>
              <a:ahLst/>
              <a:rect l="0" t="0" r="r" b="b"/>
              <a:pathLst>
                <a:path w="535" h="230">
                  <a:moveTo>
                    <a:pt x="0" y="0"/>
                  </a:moveTo>
                  <a:lnTo>
                    <a:pt x="88" y="105"/>
                  </a:lnTo>
                  <a:lnTo>
                    <a:pt x="318" y="105"/>
                  </a:lnTo>
                  <a:lnTo>
                    <a:pt x="412" y="30"/>
                  </a:lnTo>
                  <a:lnTo>
                    <a:pt x="535" y="30"/>
                  </a:lnTo>
                  <a:lnTo>
                    <a:pt x="513" y="70"/>
                  </a:lnTo>
                  <a:lnTo>
                    <a:pt x="513" y="105"/>
                  </a:lnTo>
                  <a:lnTo>
                    <a:pt x="296" y="230"/>
                  </a:lnTo>
                  <a:lnTo>
                    <a:pt x="177" y="230"/>
                  </a:lnTo>
                  <a:lnTo>
                    <a:pt x="114" y="186"/>
                  </a:lnTo>
                  <a:lnTo>
                    <a:pt x="48" y="186"/>
                  </a:lnTo>
                  <a:lnTo>
                    <a:pt x="0" y="0"/>
                  </a:lnTo>
                  <a:close/>
                </a:path>
              </a:pathLst>
            </a:custGeom>
            <a:solidFill>
              <a:srgbClr val="000000"/>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519" name=""/>
            <p:cNvSpPr/>
            <p:nvPr/>
          </p:nvSpPr>
          <p:spPr>
            <a:xfrm>
              <a:off x="7223040" y="853920"/>
              <a:ext cx="292320" cy="437040"/>
            </a:xfrm>
            <a:custGeom>
              <a:avLst/>
              <a:gdLst/>
              <a:ahLst/>
              <a:rect l="0" t="0" r="r" b="b"/>
              <a:pathLst>
                <a:path w="812" h="1214">
                  <a:moveTo>
                    <a:pt x="812" y="88"/>
                  </a:moveTo>
                  <a:lnTo>
                    <a:pt x="812" y="105"/>
                  </a:lnTo>
                  <a:lnTo>
                    <a:pt x="666" y="229"/>
                  </a:lnTo>
                  <a:lnTo>
                    <a:pt x="552" y="251"/>
                  </a:lnTo>
                  <a:lnTo>
                    <a:pt x="321" y="220"/>
                  </a:lnTo>
                  <a:lnTo>
                    <a:pt x="366" y="653"/>
                  </a:lnTo>
                  <a:lnTo>
                    <a:pt x="419" y="1016"/>
                  </a:lnTo>
                  <a:lnTo>
                    <a:pt x="516" y="1214"/>
                  </a:lnTo>
                  <a:lnTo>
                    <a:pt x="419" y="1073"/>
                  </a:lnTo>
                  <a:lnTo>
                    <a:pt x="379" y="923"/>
                  </a:lnTo>
                  <a:lnTo>
                    <a:pt x="313" y="512"/>
                  </a:lnTo>
                  <a:lnTo>
                    <a:pt x="246" y="534"/>
                  </a:lnTo>
                  <a:lnTo>
                    <a:pt x="171" y="490"/>
                  </a:lnTo>
                  <a:lnTo>
                    <a:pt x="17" y="273"/>
                  </a:lnTo>
                  <a:lnTo>
                    <a:pt x="0" y="154"/>
                  </a:lnTo>
                  <a:lnTo>
                    <a:pt x="0" y="74"/>
                  </a:lnTo>
                  <a:lnTo>
                    <a:pt x="35" y="22"/>
                  </a:lnTo>
                  <a:lnTo>
                    <a:pt x="127" y="0"/>
                  </a:lnTo>
                  <a:lnTo>
                    <a:pt x="141" y="30"/>
                  </a:lnTo>
                  <a:lnTo>
                    <a:pt x="66" y="52"/>
                  </a:lnTo>
                  <a:lnTo>
                    <a:pt x="48" y="145"/>
                  </a:lnTo>
                  <a:lnTo>
                    <a:pt x="57" y="260"/>
                  </a:lnTo>
                  <a:lnTo>
                    <a:pt x="163" y="362"/>
                  </a:lnTo>
                  <a:lnTo>
                    <a:pt x="207" y="340"/>
                  </a:lnTo>
                  <a:lnTo>
                    <a:pt x="207" y="119"/>
                  </a:lnTo>
                  <a:lnTo>
                    <a:pt x="304" y="163"/>
                  </a:lnTo>
                  <a:lnTo>
                    <a:pt x="455" y="198"/>
                  </a:lnTo>
                  <a:lnTo>
                    <a:pt x="591" y="189"/>
                  </a:lnTo>
                  <a:lnTo>
                    <a:pt x="719" y="119"/>
                  </a:lnTo>
                  <a:lnTo>
                    <a:pt x="812" y="8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20" name=""/>
            <p:cNvSpPr/>
            <p:nvPr/>
          </p:nvSpPr>
          <p:spPr>
            <a:xfrm>
              <a:off x="7302600" y="507960"/>
              <a:ext cx="87840" cy="233640"/>
            </a:xfrm>
            <a:custGeom>
              <a:avLst/>
              <a:gdLst/>
              <a:ahLst/>
              <a:rect l="0" t="0" r="r" b="b"/>
              <a:pathLst>
                <a:path w="244" h="649">
                  <a:moveTo>
                    <a:pt x="124" y="649"/>
                  </a:moveTo>
                  <a:lnTo>
                    <a:pt x="244" y="264"/>
                  </a:lnTo>
                  <a:lnTo>
                    <a:pt x="30" y="127"/>
                  </a:lnTo>
                  <a:lnTo>
                    <a:pt x="0" y="0"/>
                  </a:lnTo>
                  <a:lnTo>
                    <a:pt x="17" y="154"/>
                  </a:lnTo>
                  <a:lnTo>
                    <a:pt x="89" y="220"/>
                  </a:lnTo>
                  <a:lnTo>
                    <a:pt x="98" y="415"/>
                  </a:lnTo>
                  <a:lnTo>
                    <a:pt x="146" y="494"/>
                  </a:lnTo>
                  <a:lnTo>
                    <a:pt x="124" y="64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21" name=""/>
            <p:cNvSpPr/>
            <p:nvPr/>
          </p:nvSpPr>
          <p:spPr>
            <a:xfrm>
              <a:off x="7299360" y="304920"/>
              <a:ext cx="652680" cy="306720"/>
            </a:xfrm>
            <a:custGeom>
              <a:avLst/>
              <a:gdLst/>
              <a:ahLst/>
              <a:rect l="0" t="0" r="r" b="b"/>
              <a:pathLst>
                <a:path w="1813" h="852">
                  <a:moveTo>
                    <a:pt x="17" y="578"/>
                  </a:moveTo>
                  <a:lnTo>
                    <a:pt x="171" y="662"/>
                  </a:lnTo>
                  <a:lnTo>
                    <a:pt x="154" y="556"/>
                  </a:lnTo>
                  <a:lnTo>
                    <a:pt x="185" y="361"/>
                  </a:lnTo>
                  <a:lnTo>
                    <a:pt x="291" y="321"/>
                  </a:lnTo>
                  <a:lnTo>
                    <a:pt x="304" y="525"/>
                  </a:lnTo>
                  <a:lnTo>
                    <a:pt x="608" y="163"/>
                  </a:lnTo>
                  <a:lnTo>
                    <a:pt x="679" y="141"/>
                  </a:lnTo>
                  <a:lnTo>
                    <a:pt x="626" y="282"/>
                  </a:lnTo>
                  <a:lnTo>
                    <a:pt x="815" y="352"/>
                  </a:lnTo>
                  <a:lnTo>
                    <a:pt x="953" y="211"/>
                  </a:lnTo>
                  <a:lnTo>
                    <a:pt x="1028" y="251"/>
                  </a:lnTo>
                  <a:lnTo>
                    <a:pt x="962" y="374"/>
                  </a:lnTo>
                  <a:lnTo>
                    <a:pt x="1054" y="308"/>
                  </a:lnTo>
                  <a:lnTo>
                    <a:pt x="1187" y="361"/>
                  </a:lnTo>
                  <a:lnTo>
                    <a:pt x="1081" y="464"/>
                  </a:lnTo>
                  <a:lnTo>
                    <a:pt x="1451" y="525"/>
                  </a:lnTo>
                  <a:lnTo>
                    <a:pt x="1200" y="600"/>
                  </a:lnTo>
                  <a:lnTo>
                    <a:pt x="1513" y="640"/>
                  </a:lnTo>
                  <a:lnTo>
                    <a:pt x="1147" y="724"/>
                  </a:lnTo>
                  <a:lnTo>
                    <a:pt x="1222" y="785"/>
                  </a:lnTo>
                  <a:lnTo>
                    <a:pt x="1116" y="852"/>
                  </a:lnTo>
                  <a:lnTo>
                    <a:pt x="1306" y="852"/>
                  </a:lnTo>
                  <a:lnTo>
                    <a:pt x="1288" y="803"/>
                  </a:lnTo>
                  <a:lnTo>
                    <a:pt x="1482" y="847"/>
                  </a:lnTo>
                  <a:lnTo>
                    <a:pt x="1451" y="710"/>
                  </a:lnTo>
                  <a:lnTo>
                    <a:pt x="1637" y="649"/>
                  </a:lnTo>
                  <a:lnTo>
                    <a:pt x="1504" y="587"/>
                  </a:lnTo>
                  <a:lnTo>
                    <a:pt x="1813" y="569"/>
                  </a:lnTo>
                  <a:lnTo>
                    <a:pt x="1548" y="433"/>
                  </a:lnTo>
                  <a:lnTo>
                    <a:pt x="1244" y="396"/>
                  </a:lnTo>
                  <a:lnTo>
                    <a:pt x="1482" y="260"/>
                  </a:lnTo>
                  <a:lnTo>
                    <a:pt x="1054" y="260"/>
                  </a:lnTo>
                  <a:lnTo>
                    <a:pt x="1257" y="127"/>
                  </a:lnTo>
                  <a:lnTo>
                    <a:pt x="944" y="163"/>
                  </a:lnTo>
                  <a:lnTo>
                    <a:pt x="798" y="229"/>
                  </a:lnTo>
                  <a:lnTo>
                    <a:pt x="922" y="0"/>
                  </a:lnTo>
                  <a:lnTo>
                    <a:pt x="546" y="127"/>
                  </a:lnTo>
                  <a:lnTo>
                    <a:pt x="339" y="405"/>
                  </a:lnTo>
                  <a:lnTo>
                    <a:pt x="304" y="251"/>
                  </a:lnTo>
                  <a:lnTo>
                    <a:pt x="132" y="361"/>
                  </a:lnTo>
                  <a:lnTo>
                    <a:pt x="114" y="569"/>
                  </a:lnTo>
                  <a:lnTo>
                    <a:pt x="0" y="525"/>
                  </a:lnTo>
                  <a:lnTo>
                    <a:pt x="39" y="710"/>
                  </a:lnTo>
                  <a:lnTo>
                    <a:pt x="17" y="57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22" name=""/>
            <p:cNvSpPr/>
            <p:nvPr/>
          </p:nvSpPr>
          <p:spPr>
            <a:xfrm>
              <a:off x="7440480" y="468360"/>
              <a:ext cx="184680" cy="92520"/>
            </a:xfrm>
            <a:custGeom>
              <a:avLst/>
              <a:gdLst/>
              <a:ahLst/>
              <a:rect l="0" t="0" r="r" b="b"/>
              <a:pathLst>
                <a:path w="513" h="257">
                  <a:moveTo>
                    <a:pt x="0" y="257"/>
                  </a:moveTo>
                  <a:lnTo>
                    <a:pt x="190" y="0"/>
                  </a:lnTo>
                  <a:lnTo>
                    <a:pt x="190" y="168"/>
                  </a:lnTo>
                  <a:lnTo>
                    <a:pt x="261" y="102"/>
                  </a:lnTo>
                  <a:lnTo>
                    <a:pt x="322" y="200"/>
                  </a:lnTo>
                  <a:lnTo>
                    <a:pt x="513" y="244"/>
                  </a:lnTo>
                  <a:lnTo>
                    <a:pt x="309" y="213"/>
                  </a:lnTo>
                  <a:lnTo>
                    <a:pt x="247" y="146"/>
                  </a:lnTo>
                  <a:lnTo>
                    <a:pt x="159" y="213"/>
                  </a:lnTo>
                  <a:lnTo>
                    <a:pt x="159" y="133"/>
                  </a:lnTo>
                  <a:lnTo>
                    <a:pt x="0" y="257"/>
                  </a:lnTo>
                  <a:close/>
                </a:path>
              </a:pathLst>
            </a:custGeom>
            <a:solidFill>
              <a:srgbClr val="000000"/>
            </a:solidFill>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523" name=""/>
            <p:cNvSpPr/>
            <p:nvPr/>
          </p:nvSpPr>
          <p:spPr>
            <a:xfrm>
              <a:off x="7423200" y="1093680"/>
              <a:ext cx="222480" cy="136800"/>
            </a:xfrm>
            <a:custGeom>
              <a:avLst/>
              <a:gdLst/>
              <a:ahLst/>
              <a:rect l="0" t="0" r="r" b="b"/>
              <a:pathLst>
                <a:path w="618" h="380">
                  <a:moveTo>
                    <a:pt x="119" y="132"/>
                  </a:moveTo>
                  <a:lnTo>
                    <a:pt x="371" y="114"/>
                  </a:lnTo>
                  <a:lnTo>
                    <a:pt x="490" y="141"/>
                  </a:lnTo>
                  <a:lnTo>
                    <a:pt x="552" y="88"/>
                  </a:lnTo>
                  <a:lnTo>
                    <a:pt x="618" y="212"/>
                  </a:lnTo>
                  <a:lnTo>
                    <a:pt x="574" y="234"/>
                  </a:lnTo>
                  <a:lnTo>
                    <a:pt x="521" y="185"/>
                  </a:lnTo>
                  <a:lnTo>
                    <a:pt x="441" y="274"/>
                  </a:lnTo>
                  <a:lnTo>
                    <a:pt x="286" y="380"/>
                  </a:lnTo>
                  <a:lnTo>
                    <a:pt x="216" y="380"/>
                  </a:lnTo>
                  <a:lnTo>
                    <a:pt x="119" y="327"/>
                  </a:lnTo>
                  <a:lnTo>
                    <a:pt x="229" y="371"/>
                  </a:lnTo>
                  <a:lnTo>
                    <a:pt x="273" y="371"/>
                  </a:lnTo>
                  <a:lnTo>
                    <a:pt x="371" y="300"/>
                  </a:lnTo>
                  <a:lnTo>
                    <a:pt x="437" y="171"/>
                  </a:lnTo>
                  <a:lnTo>
                    <a:pt x="336" y="154"/>
                  </a:lnTo>
                  <a:lnTo>
                    <a:pt x="268" y="141"/>
                  </a:lnTo>
                  <a:lnTo>
                    <a:pt x="105" y="163"/>
                  </a:lnTo>
                  <a:lnTo>
                    <a:pt x="101" y="265"/>
                  </a:lnTo>
                  <a:lnTo>
                    <a:pt x="48" y="203"/>
                  </a:lnTo>
                  <a:lnTo>
                    <a:pt x="0" y="287"/>
                  </a:lnTo>
                  <a:lnTo>
                    <a:pt x="4" y="101"/>
                  </a:lnTo>
                  <a:lnTo>
                    <a:pt x="66" y="0"/>
                  </a:lnTo>
                  <a:lnTo>
                    <a:pt x="119" y="101"/>
                  </a:lnTo>
                  <a:lnTo>
                    <a:pt x="119" y="13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24" name=""/>
            <p:cNvSpPr/>
            <p:nvPr/>
          </p:nvSpPr>
          <p:spPr>
            <a:xfrm>
              <a:off x="7396200" y="797040"/>
              <a:ext cx="475200" cy="633600"/>
            </a:xfrm>
            <a:custGeom>
              <a:avLst/>
              <a:gdLst/>
              <a:ahLst/>
              <a:rect l="0" t="0" r="r" b="b"/>
              <a:pathLst>
                <a:path w="1320" h="1760">
                  <a:moveTo>
                    <a:pt x="1113" y="0"/>
                  </a:moveTo>
                  <a:lnTo>
                    <a:pt x="1241" y="0"/>
                  </a:lnTo>
                  <a:lnTo>
                    <a:pt x="1320" y="88"/>
                  </a:lnTo>
                  <a:lnTo>
                    <a:pt x="1320" y="180"/>
                  </a:lnTo>
                  <a:lnTo>
                    <a:pt x="1210" y="458"/>
                  </a:lnTo>
                  <a:lnTo>
                    <a:pt x="1104" y="590"/>
                  </a:lnTo>
                  <a:lnTo>
                    <a:pt x="988" y="608"/>
                  </a:lnTo>
                  <a:lnTo>
                    <a:pt x="957" y="608"/>
                  </a:lnTo>
                  <a:lnTo>
                    <a:pt x="957" y="957"/>
                  </a:lnTo>
                  <a:lnTo>
                    <a:pt x="1011" y="1209"/>
                  </a:lnTo>
                  <a:lnTo>
                    <a:pt x="1011" y="1412"/>
                  </a:lnTo>
                  <a:lnTo>
                    <a:pt x="812" y="1619"/>
                  </a:lnTo>
                  <a:lnTo>
                    <a:pt x="538" y="1760"/>
                  </a:lnTo>
                  <a:lnTo>
                    <a:pt x="367" y="1760"/>
                  </a:lnTo>
                  <a:lnTo>
                    <a:pt x="277" y="1720"/>
                  </a:lnTo>
                  <a:lnTo>
                    <a:pt x="154" y="1478"/>
                  </a:lnTo>
                  <a:lnTo>
                    <a:pt x="44" y="1390"/>
                  </a:lnTo>
                  <a:lnTo>
                    <a:pt x="0" y="1328"/>
                  </a:lnTo>
                  <a:lnTo>
                    <a:pt x="145" y="1412"/>
                  </a:lnTo>
                  <a:lnTo>
                    <a:pt x="255" y="1500"/>
                  </a:lnTo>
                  <a:lnTo>
                    <a:pt x="464" y="1513"/>
                  </a:lnTo>
                  <a:lnTo>
                    <a:pt x="658" y="1425"/>
                  </a:lnTo>
                  <a:lnTo>
                    <a:pt x="755" y="1328"/>
                  </a:lnTo>
                  <a:lnTo>
                    <a:pt x="865" y="1147"/>
                  </a:lnTo>
                  <a:lnTo>
                    <a:pt x="882" y="935"/>
                  </a:lnTo>
                  <a:lnTo>
                    <a:pt x="922" y="260"/>
                  </a:lnTo>
                  <a:lnTo>
                    <a:pt x="966" y="357"/>
                  </a:lnTo>
                  <a:lnTo>
                    <a:pt x="1100" y="233"/>
                  </a:lnTo>
                  <a:lnTo>
                    <a:pt x="1232" y="180"/>
                  </a:lnTo>
                  <a:lnTo>
                    <a:pt x="1267" y="110"/>
                  </a:lnTo>
                  <a:lnTo>
                    <a:pt x="1249" y="39"/>
                  </a:lnTo>
                  <a:lnTo>
                    <a:pt x="1192" y="8"/>
                  </a:lnTo>
                  <a:lnTo>
                    <a:pt x="111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25" name=""/>
            <p:cNvSpPr/>
            <p:nvPr/>
          </p:nvSpPr>
          <p:spPr>
            <a:xfrm>
              <a:off x="6659640" y="1343160"/>
              <a:ext cx="383040" cy="586080"/>
            </a:xfrm>
            <a:custGeom>
              <a:avLst/>
              <a:gdLst/>
              <a:ahLst/>
              <a:rect l="0" t="0" r="r" b="b"/>
              <a:pathLst>
                <a:path w="1064" h="1628">
                  <a:moveTo>
                    <a:pt x="132" y="0"/>
                  </a:moveTo>
                  <a:lnTo>
                    <a:pt x="255" y="74"/>
                  </a:lnTo>
                  <a:lnTo>
                    <a:pt x="349" y="405"/>
                  </a:lnTo>
                  <a:lnTo>
                    <a:pt x="622" y="480"/>
                  </a:lnTo>
                  <a:lnTo>
                    <a:pt x="697" y="568"/>
                  </a:lnTo>
                  <a:lnTo>
                    <a:pt x="710" y="687"/>
                  </a:lnTo>
                  <a:lnTo>
                    <a:pt x="848" y="670"/>
                  </a:lnTo>
                  <a:lnTo>
                    <a:pt x="1011" y="776"/>
                  </a:lnTo>
                  <a:lnTo>
                    <a:pt x="1064" y="909"/>
                  </a:lnTo>
                  <a:lnTo>
                    <a:pt x="1064" y="1138"/>
                  </a:lnTo>
                  <a:lnTo>
                    <a:pt x="848" y="1487"/>
                  </a:lnTo>
                  <a:lnTo>
                    <a:pt x="772" y="1628"/>
                  </a:lnTo>
                  <a:lnTo>
                    <a:pt x="813" y="1438"/>
                  </a:lnTo>
                  <a:lnTo>
                    <a:pt x="772" y="1368"/>
                  </a:lnTo>
                  <a:lnTo>
                    <a:pt x="644" y="1248"/>
                  </a:lnTo>
                  <a:lnTo>
                    <a:pt x="433" y="1107"/>
                  </a:lnTo>
                  <a:lnTo>
                    <a:pt x="684" y="1187"/>
                  </a:lnTo>
                  <a:lnTo>
                    <a:pt x="835" y="1293"/>
                  </a:lnTo>
                  <a:lnTo>
                    <a:pt x="910" y="1279"/>
                  </a:lnTo>
                  <a:lnTo>
                    <a:pt x="954" y="1222"/>
                  </a:lnTo>
                  <a:lnTo>
                    <a:pt x="1011" y="1054"/>
                  </a:lnTo>
                  <a:lnTo>
                    <a:pt x="994" y="896"/>
                  </a:lnTo>
                  <a:lnTo>
                    <a:pt x="919" y="802"/>
                  </a:lnTo>
                  <a:lnTo>
                    <a:pt x="785" y="776"/>
                  </a:lnTo>
                  <a:lnTo>
                    <a:pt x="644" y="776"/>
                  </a:lnTo>
                  <a:lnTo>
                    <a:pt x="596" y="533"/>
                  </a:lnTo>
                  <a:lnTo>
                    <a:pt x="362" y="454"/>
                  </a:lnTo>
                  <a:lnTo>
                    <a:pt x="362" y="520"/>
                  </a:lnTo>
                  <a:lnTo>
                    <a:pt x="255" y="348"/>
                  </a:lnTo>
                  <a:lnTo>
                    <a:pt x="194" y="74"/>
                  </a:lnTo>
                  <a:lnTo>
                    <a:pt x="105" y="44"/>
                  </a:lnTo>
                  <a:lnTo>
                    <a:pt x="52" y="127"/>
                  </a:lnTo>
                  <a:lnTo>
                    <a:pt x="52" y="317"/>
                  </a:lnTo>
                  <a:lnTo>
                    <a:pt x="97" y="520"/>
                  </a:lnTo>
                  <a:lnTo>
                    <a:pt x="220" y="687"/>
                  </a:lnTo>
                  <a:lnTo>
                    <a:pt x="83" y="586"/>
                  </a:lnTo>
                  <a:lnTo>
                    <a:pt x="13" y="405"/>
                  </a:lnTo>
                  <a:lnTo>
                    <a:pt x="0" y="171"/>
                  </a:lnTo>
                  <a:lnTo>
                    <a:pt x="52" y="44"/>
                  </a:lnTo>
                  <a:lnTo>
                    <a:pt x="13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26" name=""/>
            <p:cNvSpPr/>
            <p:nvPr/>
          </p:nvSpPr>
          <p:spPr>
            <a:xfrm>
              <a:off x="6477120" y="1601640"/>
              <a:ext cx="252720" cy="468720"/>
            </a:xfrm>
            <a:custGeom>
              <a:avLst/>
              <a:gdLst/>
              <a:ahLst/>
              <a:rect l="0" t="0" r="r" b="b"/>
              <a:pathLst>
                <a:path w="702" h="1302">
                  <a:moveTo>
                    <a:pt x="702" y="0"/>
                  </a:moveTo>
                  <a:lnTo>
                    <a:pt x="556" y="88"/>
                  </a:lnTo>
                  <a:lnTo>
                    <a:pt x="384" y="402"/>
                  </a:lnTo>
                  <a:lnTo>
                    <a:pt x="220" y="609"/>
                  </a:lnTo>
                  <a:lnTo>
                    <a:pt x="17" y="856"/>
                  </a:lnTo>
                  <a:lnTo>
                    <a:pt x="0" y="985"/>
                  </a:lnTo>
                  <a:lnTo>
                    <a:pt x="39" y="1095"/>
                  </a:lnTo>
                  <a:lnTo>
                    <a:pt x="136" y="1095"/>
                  </a:lnTo>
                  <a:lnTo>
                    <a:pt x="268" y="985"/>
                  </a:lnTo>
                  <a:lnTo>
                    <a:pt x="371" y="750"/>
                  </a:lnTo>
                  <a:lnTo>
                    <a:pt x="516" y="609"/>
                  </a:lnTo>
                  <a:lnTo>
                    <a:pt x="516" y="794"/>
                  </a:lnTo>
                  <a:lnTo>
                    <a:pt x="494" y="966"/>
                  </a:lnTo>
                  <a:lnTo>
                    <a:pt x="343" y="1197"/>
                  </a:lnTo>
                  <a:lnTo>
                    <a:pt x="343" y="1272"/>
                  </a:lnTo>
                  <a:lnTo>
                    <a:pt x="494" y="1302"/>
                  </a:lnTo>
                  <a:lnTo>
                    <a:pt x="384" y="1236"/>
                  </a:lnTo>
                  <a:lnTo>
                    <a:pt x="402" y="1197"/>
                  </a:lnTo>
                  <a:lnTo>
                    <a:pt x="508" y="1029"/>
                  </a:lnTo>
                  <a:lnTo>
                    <a:pt x="583" y="724"/>
                  </a:lnTo>
                  <a:lnTo>
                    <a:pt x="530" y="547"/>
                  </a:lnTo>
                  <a:lnTo>
                    <a:pt x="415" y="649"/>
                  </a:lnTo>
                  <a:lnTo>
                    <a:pt x="163" y="1038"/>
                  </a:lnTo>
                  <a:lnTo>
                    <a:pt x="101" y="1051"/>
                  </a:lnTo>
                  <a:lnTo>
                    <a:pt x="39" y="1011"/>
                  </a:lnTo>
                  <a:lnTo>
                    <a:pt x="39" y="891"/>
                  </a:lnTo>
                  <a:lnTo>
                    <a:pt x="136" y="737"/>
                  </a:lnTo>
                  <a:lnTo>
                    <a:pt x="415" y="419"/>
                  </a:lnTo>
                  <a:lnTo>
                    <a:pt x="583" y="119"/>
                  </a:lnTo>
                  <a:lnTo>
                    <a:pt x="70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27" name=""/>
            <p:cNvSpPr/>
            <p:nvPr/>
          </p:nvSpPr>
          <p:spPr>
            <a:xfrm>
              <a:off x="6664320" y="1865160"/>
              <a:ext cx="157680" cy="225720"/>
            </a:xfrm>
            <a:custGeom>
              <a:avLst/>
              <a:gdLst/>
              <a:ahLst/>
              <a:rect l="0" t="0" r="r" b="b"/>
              <a:pathLst>
                <a:path w="438" h="627">
                  <a:moveTo>
                    <a:pt x="0" y="552"/>
                  </a:moveTo>
                  <a:lnTo>
                    <a:pt x="146" y="393"/>
                  </a:lnTo>
                  <a:lnTo>
                    <a:pt x="172" y="233"/>
                  </a:lnTo>
                  <a:lnTo>
                    <a:pt x="337" y="0"/>
                  </a:lnTo>
                  <a:lnTo>
                    <a:pt x="372" y="154"/>
                  </a:lnTo>
                  <a:lnTo>
                    <a:pt x="350" y="565"/>
                  </a:lnTo>
                  <a:lnTo>
                    <a:pt x="438" y="627"/>
                  </a:lnTo>
                  <a:lnTo>
                    <a:pt x="309" y="583"/>
                  </a:lnTo>
                  <a:lnTo>
                    <a:pt x="243" y="349"/>
                  </a:lnTo>
                  <a:lnTo>
                    <a:pt x="146" y="464"/>
                  </a:lnTo>
                  <a:lnTo>
                    <a:pt x="0" y="55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28" name=""/>
            <p:cNvSpPr/>
            <p:nvPr/>
          </p:nvSpPr>
          <p:spPr>
            <a:xfrm>
              <a:off x="6856560" y="1878120"/>
              <a:ext cx="103680" cy="201960"/>
            </a:xfrm>
            <a:custGeom>
              <a:avLst/>
              <a:gdLst/>
              <a:ahLst/>
              <a:rect l="0" t="0" r="r" b="b"/>
              <a:pathLst>
                <a:path w="288" h="561">
                  <a:moveTo>
                    <a:pt x="0" y="419"/>
                  </a:moveTo>
                  <a:lnTo>
                    <a:pt x="13" y="216"/>
                  </a:lnTo>
                  <a:lnTo>
                    <a:pt x="75" y="92"/>
                  </a:lnTo>
                  <a:lnTo>
                    <a:pt x="142" y="534"/>
                  </a:lnTo>
                  <a:lnTo>
                    <a:pt x="226" y="534"/>
                  </a:lnTo>
                  <a:lnTo>
                    <a:pt x="266" y="61"/>
                  </a:lnTo>
                  <a:lnTo>
                    <a:pt x="288" y="0"/>
                  </a:lnTo>
                  <a:lnTo>
                    <a:pt x="266" y="367"/>
                  </a:lnTo>
                  <a:lnTo>
                    <a:pt x="226" y="561"/>
                  </a:lnTo>
                  <a:lnTo>
                    <a:pt x="115" y="561"/>
                  </a:lnTo>
                  <a:lnTo>
                    <a:pt x="66" y="171"/>
                  </a:lnTo>
                  <a:lnTo>
                    <a:pt x="35" y="229"/>
                  </a:lnTo>
                  <a:lnTo>
                    <a:pt x="0" y="41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29" name=""/>
            <p:cNvSpPr/>
            <p:nvPr/>
          </p:nvSpPr>
          <p:spPr>
            <a:xfrm>
              <a:off x="8174160" y="1082520"/>
              <a:ext cx="249480" cy="540000"/>
            </a:xfrm>
            <a:custGeom>
              <a:avLst/>
              <a:gdLst/>
              <a:ahLst/>
              <a:rect l="0" t="0" r="r" b="b"/>
              <a:pathLst>
                <a:path w="693" h="1500">
                  <a:moveTo>
                    <a:pt x="180" y="812"/>
                  </a:moveTo>
                  <a:lnTo>
                    <a:pt x="233" y="577"/>
                  </a:lnTo>
                  <a:lnTo>
                    <a:pt x="468" y="515"/>
                  </a:lnTo>
                  <a:lnTo>
                    <a:pt x="693" y="0"/>
                  </a:lnTo>
                  <a:lnTo>
                    <a:pt x="693" y="149"/>
                  </a:lnTo>
                  <a:lnTo>
                    <a:pt x="503" y="546"/>
                  </a:lnTo>
                  <a:lnTo>
                    <a:pt x="255" y="621"/>
                  </a:lnTo>
                  <a:lnTo>
                    <a:pt x="220" y="812"/>
                  </a:lnTo>
                  <a:lnTo>
                    <a:pt x="308" y="812"/>
                  </a:lnTo>
                  <a:lnTo>
                    <a:pt x="92" y="896"/>
                  </a:lnTo>
                  <a:lnTo>
                    <a:pt x="39" y="1054"/>
                  </a:lnTo>
                  <a:lnTo>
                    <a:pt x="52" y="1262"/>
                  </a:lnTo>
                  <a:lnTo>
                    <a:pt x="282" y="1500"/>
                  </a:lnTo>
                  <a:lnTo>
                    <a:pt x="39" y="1288"/>
                  </a:lnTo>
                  <a:lnTo>
                    <a:pt x="0" y="1116"/>
                  </a:lnTo>
                  <a:lnTo>
                    <a:pt x="17" y="944"/>
                  </a:lnTo>
                  <a:lnTo>
                    <a:pt x="105" y="821"/>
                  </a:lnTo>
                  <a:lnTo>
                    <a:pt x="180" y="81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30" name=""/>
            <p:cNvSpPr/>
            <p:nvPr/>
          </p:nvSpPr>
          <p:spPr>
            <a:xfrm>
              <a:off x="8342280" y="1082520"/>
              <a:ext cx="419400" cy="524160"/>
            </a:xfrm>
            <a:custGeom>
              <a:avLst/>
              <a:gdLst/>
              <a:ahLst/>
              <a:rect l="0" t="0" r="r" b="b"/>
              <a:pathLst>
                <a:path w="1165" h="1456">
                  <a:moveTo>
                    <a:pt x="321" y="0"/>
                  </a:moveTo>
                  <a:lnTo>
                    <a:pt x="392" y="44"/>
                  </a:lnTo>
                  <a:lnTo>
                    <a:pt x="414" y="167"/>
                  </a:lnTo>
                  <a:lnTo>
                    <a:pt x="414" y="282"/>
                  </a:lnTo>
                  <a:lnTo>
                    <a:pt x="282" y="493"/>
                  </a:lnTo>
                  <a:lnTo>
                    <a:pt x="308" y="648"/>
                  </a:lnTo>
                  <a:lnTo>
                    <a:pt x="702" y="821"/>
                  </a:lnTo>
                  <a:lnTo>
                    <a:pt x="1156" y="1275"/>
                  </a:lnTo>
                  <a:lnTo>
                    <a:pt x="1165" y="1403"/>
                  </a:lnTo>
                  <a:lnTo>
                    <a:pt x="1138" y="1456"/>
                  </a:lnTo>
                  <a:lnTo>
                    <a:pt x="971" y="1456"/>
                  </a:lnTo>
                  <a:lnTo>
                    <a:pt x="816" y="1368"/>
                  </a:lnTo>
                  <a:lnTo>
                    <a:pt x="693" y="1218"/>
                  </a:lnTo>
                  <a:lnTo>
                    <a:pt x="622" y="1129"/>
                  </a:lnTo>
                  <a:lnTo>
                    <a:pt x="537" y="1116"/>
                  </a:lnTo>
                  <a:lnTo>
                    <a:pt x="640" y="1116"/>
                  </a:lnTo>
                  <a:lnTo>
                    <a:pt x="830" y="1354"/>
                  </a:lnTo>
                  <a:lnTo>
                    <a:pt x="1072" y="1425"/>
                  </a:lnTo>
                  <a:lnTo>
                    <a:pt x="1125" y="1354"/>
                  </a:lnTo>
                  <a:lnTo>
                    <a:pt x="1099" y="1244"/>
                  </a:lnTo>
                  <a:lnTo>
                    <a:pt x="675" y="918"/>
                  </a:lnTo>
                  <a:lnTo>
                    <a:pt x="613" y="821"/>
                  </a:lnTo>
                  <a:lnTo>
                    <a:pt x="282" y="737"/>
                  </a:lnTo>
                  <a:lnTo>
                    <a:pt x="224" y="821"/>
                  </a:lnTo>
                  <a:lnTo>
                    <a:pt x="0" y="957"/>
                  </a:lnTo>
                  <a:lnTo>
                    <a:pt x="211" y="799"/>
                  </a:lnTo>
                  <a:lnTo>
                    <a:pt x="224" y="696"/>
                  </a:lnTo>
                  <a:lnTo>
                    <a:pt x="224" y="463"/>
                  </a:lnTo>
                  <a:lnTo>
                    <a:pt x="374" y="282"/>
                  </a:lnTo>
                  <a:lnTo>
                    <a:pt x="374" y="57"/>
                  </a:lnTo>
                  <a:lnTo>
                    <a:pt x="321"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31" name=""/>
            <p:cNvSpPr/>
            <p:nvPr/>
          </p:nvSpPr>
          <p:spPr>
            <a:xfrm>
              <a:off x="8265960" y="1494000"/>
              <a:ext cx="356040" cy="309960"/>
            </a:xfrm>
            <a:custGeom>
              <a:avLst/>
              <a:gdLst/>
              <a:ahLst/>
              <a:rect l="0" t="0" r="r" b="b"/>
              <a:pathLst>
                <a:path w="989" h="861">
                  <a:moveTo>
                    <a:pt x="741" y="0"/>
                  </a:moveTo>
                  <a:lnTo>
                    <a:pt x="715" y="74"/>
                  </a:lnTo>
                  <a:lnTo>
                    <a:pt x="866" y="358"/>
                  </a:lnTo>
                  <a:lnTo>
                    <a:pt x="936" y="650"/>
                  </a:lnTo>
                  <a:lnTo>
                    <a:pt x="853" y="650"/>
                  </a:lnTo>
                  <a:lnTo>
                    <a:pt x="702" y="521"/>
                  </a:lnTo>
                  <a:lnTo>
                    <a:pt x="569" y="252"/>
                  </a:lnTo>
                  <a:lnTo>
                    <a:pt x="464" y="211"/>
                  </a:lnTo>
                  <a:lnTo>
                    <a:pt x="481" y="358"/>
                  </a:lnTo>
                  <a:lnTo>
                    <a:pt x="578" y="464"/>
                  </a:lnTo>
                  <a:lnTo>
                    <a:pt x="578" y="667"/>
                  </a:lnTo>
                  <a:lnTo>
                    <a:pt x="508" y="822"/>
                  </a:lnTo>
                  <a:lnTo>
                    <a:pt x="415" y="760"/>
                  </a:lnTo>
                  <a:lnTo>
                    <a:pt x="305" y="521"/>
                  </a:lnTo>
                  <a:lnTo>
                    <a:pt x="278" y="358"/>
                  </a:lnTo>
                  <a:lnTo>
                    <a:pt x="211" y="314"/>
                  </a:lnTo>
                  <a:lnTo>
                    <a:pt x="194" y="729"/>
                  </a:lnTo>
                  <a:lnTo>
                    <a:pt x="105" y="786"/>
                  </a:lnTo>
                  <a:lnTo>
                    <a:pt x="26" y="729"/>
                  </a:lnTo>
                  <a:lnTo>
                    <a:pt x="13" y="371"/>
                  </a:lnTo>
                  <a:lnTo>
                    <a:pt x="0" y="720"/>
                  </a:lnTo>
                  <a:lnTo>
                    <a:pt x="66" y="848"/>
                  </a:lnTo>
                  <a:lnTo>
                    <a:pt x="194" y="848"/>
                  </a:lnTo>
                  <a:lnTo>
                    <a:pt x="238" y="747"/>
                  </a:lnTo>
                  <a:lnTo>
                    <a:pt x="265" y="419"/>
                  </a:lnTo>
                  <a:lnTo>
                    <a:pt x="287" y="547"/>
                  </a:lnTo>
                  <a:lnTo>
                    <a:pt x="397" y="831"/>
                  </a:lnTo>
                  <a:lnTo>
                    <a:pt x="521" y="861"/>
                  </a:lnTo>
                  <a:lnTo>
                    <a:pt x="613" y="747"/>
                  </a:lnTo>
                  <a:lnTo>
                    <a:pt x="613" y="477"/>
                  </a:lnTo>
                  <a:lnTo>
                    <a:pt x="853" y="703"/>
                  </a:lnTo>
                  <a:lnTo>
                    <a:pt x="976" y="703"/>
                  </a:lnTo>
                  <a:lnTo>
                    <a:pt x="989" y="547"/>
                  </a:lnTo>
                  <a:lnTo>
                    <a:pt x="897" y="278"/>
                  </a:lnTo>
                  <a:lnTo>
                    <a:pt x="741" y="57"/>
                  </a:lnTo>
                  <a:lnTo>
                    <a:pt x="741"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32" name=""/>
            <p:cNvSpPr/>
            <p:nvPr/>
          </p:nvSpPr>
          <p:spPr>
            <a:xfrm>
              <a:off x="6826320" y="1173240"/>
              <a:ext cx="1586160" cy="1263960"/>
            </a:xfrm>
            <a:custGeom>
              <a:avLst/>
              <a:gdLst/>
              <a:ahLst/>
              <a:rect l="0" t="0" r="r" b="b"/>
              <a:pathLst>
                <a:path w="4406" h="3511">
                  <a:moveTo>
                    <a:pt x="1587" y="295"/>
                  </a:moveTo>
                  <a:lnTo>
                    <a:pt x="1503" y="308"/>
                  </a:lnTo>
                  <a:lnTo>
                    <a:pt x="1380" y="485"/>
                  </a:lnTo>
                  <a:lnTo>
                    <a:pt x="1336" y="357"/>
                  </a:lnTo>
                  <a:lnTo>
                    <a:pt x="1195" y="282"/>
                  </a:lnTo>
                  <a:lnTo>
                    <a:pt x="1089" y="339"/>
                  </a:lnTo>
                  <a:lnTo>
                    <a:pt x="1045" y="568"/>
                  </a:lnTo>
                  <a:lnTo>
                    <a:pt x="652" y="846"/>
                  </a:lnTo>
                  <a:lnTo>
                    <a:pt x="679" y="965"/>
                  </a:lnTo>
                  <a:lnTo>
                    <a:pt x="582" y="1071"/>
                  </a:lnTo>
                  <a:lnTo>
                    <a:pt x="582" y="1159"/>
                  </a:lnTo>
                  <a:lnTo>
                    <a:pt x="696" y="1424"/>
                  </a:lnTo>
                  <a:lnTo>
                    <a:pt x="705" y="1750"/>
                  </a:lnTo>
                  <a:lnTo>
                    <a:pt x="630" y="2055"/>
                  </a:lnTo>
                  <a:lnTo>
                    <a:pt x="348" y="2241"/>
                  </a:lnTo>
                  <a:lnTo>
                    <a:pt x="308" y="2492"/>
                  </a:lnTo>
                  <a:lnTo>
                    <a:pt x="220" y="2492"/>
                  </a:lnTo>
                  <a:lnTo>
                    <a:pt x="176" y="2285"/>
                  </a:lnTo>
                  <a:lnTo>
                    <a:pt x="92" y="2285"/>
                  </a:lnTo>
                  <a:lnTo>
                    <a:pt x="52" y="2505"/>
                  </a:lnTo>
                  <a:lnTo>
                    <a:pt x="0" y="2563"/>
                  </a:lnTo>
                  <a:lnTo>
                    <a:pt x="194" y="2867"/>
                  </a:lnTo>
                  <a:lnTo>
                    <a:pt x="335" y="2880"/>
                  </a:lnTo>
                  <a:lnTo>
                    <a:pt x="582" y="3105"/>
                  </a:lnTo>
                  <a:lnTo>
                    <a:pt x="806" y="3131"/>
                  </a:lnTo>
                  <a:lnTo>
                    <a:pt x="934" y="3012"/>
                  </a:lnTo>
                  <a:lnTo>
                    <a:pt x="1239" y="2580"/>
                  </a:lnTo>
                  <a:lnTo>
                    <a:pt x="1265" y="3162"/>
                  </a:lnTo>
                  <a:lnTo>
                    <a:pt x="1239" y="3511"/>
                  </a:lnTo>
                  <a:lnTo>
                    <a:pt x="3784" y="3511"/>
                  </a:lnTo>
                  <a:lnTo>
                    <a:pt x="3599" y="3131"/>
                  </a:lnTo>
                  <a:lnTo>
                    <a:pt x="3506" y="2805"/>
                  </a:lnTo>
                  <a:lnTo>
                    <a:pt x="3484" y="2320"/>
                  </a:lnTo>
                  <a:lnTo>
                    <a:pt x="3634" y="2430"/>
                  </a:lnTo>
                  <a:lnTo>
                    <a:pt x="3784" y="2430"/>
                  </a:lnTo>
                  <a:lnTo>
                    <a:pt x="3991" y="2302"/>
                  </a:lnTo>
                  <a:lnTo>
                    <a:pt x="4132" y="2285"/>
                  </a:lnTo>
                  <a:lnTo>
                    <a:pt x="4221" y="2157"/>
                  </a:lnTo>
                  <a:lnTo>
                    <a:pt x="4278" y="1826"/>
                  </a:lnTo>
                  <a:lnTo>
                    <a:pt x="4406" y="1688"/>
                  </a:lnTo>
                  <a:lnTo>
                    <a:pt x="4340" y="1591"/>
                  </a:lnTo>
                  <a:lnTo>
                    <a:pt x="4247" y="1591"/>
                  </a:lnTo>
                  <a:lnTo>
                    <a:pt x="4172" y="1658"/>
                  </a:lnTo>
                  <a:lnTo>
                    <a:pt x="4097" y="1675"/>
                  </a:lnTo>
                  <a:lnTo>
                    <a:pt x="4005" y="1591"/>
                  </a:lnTo>
                  <a:lnTo>
                    <a:pt x="3899" y="1578"/>
                  </a:lnTo>
                  <a:lnTo>
                    <a:pt x="3696" y="1455"/>
                  </a:lnTo>
                  <a:lnTo>
                    <a:pt x="3572" y="1322"/>
                  </a:lnTo>
                  <a:lnTo>
                    <a:pt x="3550" y="1159"/>
                  </a:lnTo>
                  <a:lnTo>
                    <a:pt x="3572" y="1005"/>
                  </a:lnTo>
                  <a:lnTo>
                    <a:pt x="3656" y="877"/>
                  </a:lnTo>
                  <a:lnTo>
                    <a:pt x="3762" y="762"/>
                  </a:lnTo>
                  <a:lnTo>
                    <a:pt x="3753" y="560"/>
                  </a:lnTo>
                  <a:lnTo>
                    <a:pt x="3753" y="414"/>
                  </a:lnTo>
                  <a:lnTo>
                    <a:pt x="3696" y="308"/>
                  </a:lnTo>
                  <a:lnTo>
                    <a:pt x="3550" y="264"/>
                  </a:lnTo>
                  <a:lnTo>
                    <a:pt x="3497" y="238"/>
                  </a:lnTo>
                  <a:lnTo>
                    <a:pt x="3392" y="66"/>
                  </a:lnTo>
                  <a:lnTo>
                    <a:pt x="3308" y="13"/>
                  </a:lnTo>
                  <a:lnTo>
                    <a:pt x="3215" y="0"/>
                  </a:lnTo>
                  <a:lnTo>
                    <a:pt x="3136" y="30"/>
                  </a:lnTo>
                  <a:lnTo>
                    <a:pt x="3074" y="123"/>
                  </a:lnTo>
                  <a:lnTo>
                    <a:pt x="2977" y="176"/>
                  </a:lnTo>
                  <a:lnTo>
                    <a:pt x="2867" y="198"/>
                  </a:lnTo>
                  <a:lnTo>
                    <a:pt x="2748" y="198"/>
                  </a:lnTo>
                  <a:lnTo>
                    <a:pt x="2770" y="370"/>
                  </a:lnTo>
                  <a:lnTo>
                    <a:pt x="2770" y="586"/>
                  </a:lnTo>
                  <a:lnTo>
                    <a:pt x="2748" y="732"/>
                  </a:lnTo>
                  <a:lnTo>
                    <a:pt x="2638" y="903"/>
                  </a:lnTo>
                  <a:lnTo>
                    <a:pt x="2501" y="1168"/>
                  </a:lnTo>
                  <a:lnTo>
                    <a:pt x="2391" y="1486"/>
                  </a:lnTo>
                  <a:lnTo>
                    <a:pt x="2382" y="1675"/>
                  </a:lnTo>
                  <a:lnTo>
                    <a:pt x="2329" y="1839"/>
                  </a:lnTo>
                  <a:lnTo>
                    <a:pt x="2263" y="1998"/>
                  </a:lnTo>
                  <a:lnTo>
                    <a:pt x="2232" y="2254"/>
                  </a:lnTo>
                  <a:lnTo>
                    <a:pt x="2249" y="2466"/>
                  </a:lnTo>
                  <a:lnTo>
                    <a:pt x="2329" y="2712"/>
                  </a:lnTo>
                  <a:lnTo>
                    <a:pt x="2382" y="2805"/>
                  </a:lnTo>
                  <a:lnTo>
                    <a:pt x="2232" y="2898"/>
                  </a:lnTo>
                  <a:lnTo>
                    <a:pt x="2054" y="2955"/>
                  </a:lnTo>
                  <a:lnTo>
                    <a:pt x="1860" y="2973"/>
                  </a:lnTo>
                  <a:lnTo>
                    <a:pt x="1737" y="2973"/>
                  </a:lnTo>
                  <a:lnTo>
                    <a:pt x="1658" y="2937"/>
                  </a:lnTo>
                  <a:lnTo>
                    <a:pt x="1658" y="2730"/>
                  </a:lnTo>
                  <a:lnTo>
                    <a:pt x="1658" y="2417"/>
                  </a:lnTo>
                  <a:lnTo>
                    <a:pt x="1613" y="2113"/>
                  </a:lnTo>
                  <a:lnTo>
                    <a:pt x="1534" y="1839"/>
                  </a:lnTo>
                  <a:lnTo>
                    <a:pt x="1494" y="1618"/>
                  </a:lnTo>
                  <a:lnTo>
                    <a:pt x="1481" y="1305"/>
                  </a:lnTo>
                  <a:lnTo>
                    <a:pt x="1534" y="1036"/>
                  </a:lnTo>
                  <a:lnTo>
                    <a:pt x="1613" y="820"/>
                  </a:lnTo>
                  <a:lnTo>
                    <a:pt x="1618" y="687"/>
                  </a:lnTo>
                  <a:lnTo>
                    <a:pt x="1587" y="502"/>
                  </a:lnTo>
                  <a:lnTo>
                    <a:pt x="1587" y="357"/>
                  </a:lnTo>
                  <a:lnTo>
                    <a:pt x="1613" y="308"/>
                  </a:lnTo>
                  <a:lnTo>
                    <a:pt x="1587" y="29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33" name=""/>
            <p:cNvSpPr/>
            <p:nvPr/>
          </p:nvSpPr>
          <p:spPr>
            <a:xfrm>
              <a:off x="7443720" y="1427040"/>
              <a:ext cx="200520" cy="821160"/>
            </a:xfrm>
            <a:custGeom>
              <a:avLst/>
              <a:gdLst/>
              <a:ahLst/>
              <a:rect l="0" t="0" r="r" b="b"/>
              <a:pathLst>
                <a:path w="557" h="2281">
                  <a:moveTo>
                    <a:pt x="221" y="26"/>
                  </a:moveTo>
                  <a:lnTo>
                    <a:pt x="74" y="101"/>
                  </a:lnTo>
                  <a:lnTo>
                    <a:pt x="88" y="321"/>
                  </a:lnTo>
                  <a:lnTo>
                    <a:pt x="195" y="383"/>
                  </a:lnTo>
                  <a:lnTo>
                    <a:pt x="66" y="622"/>
                  </a:lnTo>
                  <a:lnTo>
                    <a:pt x="0" y="887"/>
                  </a:lnTo>
                  <a:lnTo>
                    <a:pt x="0" y="1138"/>
                  </a:lnTo>
                  <a:lnTo>
                    <a:pt x="66" y="1368"/>
                  </a:lnTo>
                  <a:lnTo>
                    <a:pt x="119" y="1645"/>
                  </a:lnTo>
                  <a:lnTo>
                    <a:pt x="119" y="1805"/>
                  </a:lnTo>
                  <a:lnTo>
                    <a:pt x="66" y="2004"/>
                  </a:lnTo>
                  <a:lnTo>
                    <a:pt x="287" y="2281"/>
                  </a:lnTo>
                  <a:lnTo>
                    <a:pt x="384" y="2237"/>
                  </a:lnTo>
                  <a:lnTo>
                    <a:pt x="442" y="2043"/>
                  </a:lnTo>
                  <a:lnTo>
                    <a:pt x="548" y="1792"/>
                  </a:lnTo>
                  <a:lnTo>
                    <a:pt x="557" y="1659"/>
                  </a:lnTo>
                  <a:lnTo>
                    <a:pt x="469" y="1407"/>
                  </a:lnTo>
                  <a:lnTo>
                    <a:pt x="367" y="1165"/>
                  </a:lnTo>
                  <a:lnTo>
                    <a:pt x="327" y="993"/>
                  </a:lnTo>
                  <a:lnTo>
                    <a:pt x="327" y="830"/>
                  </a:lnTo>
                  <a:lnTo>
                    <a:pt x="367" y="680"/>
                  </a:lnTo>
                  <a:lnTo>
                    <a:pt x="442" y="498"/>
                  </a:lnTo>
                  <a:lnTo>
                    <a:pt x="442" y="423"/>
                  </a:lnTo>
                  <a:lnTo>
                    <a:pt x="406" y="352"/>
                  </a:lnTo>
                  <a:lnTo>
                    <a:pt x="509" y="260"/>
                  </a:lnTo>
                  <a:lnTo>
                    <a:pt x="509" y="171"/>
                  </a:lnTo>
                  <a:lnTo>
                    <a:pt x="367" y="0"/>
                  </a:lnTo>
                  <a:lnTo>
                    <a:pt x="482" y="171"/>
                  </a:lnTo>
                  <a:lnTo>
                    <a:pt x="482" y="246"/>
                  </a:lnTo>
                  <a:lnTo>
                    <a:pt x="380" y="321"/>
                  </a:lnTo>
                  <a:lnTo>
                    <a:pt x="420" y="423"/>
                  </a:lnTo>
                  <a:lnTo>
                    <a:pt x="406" y="498"/>
                  </a:lnTo>
                  <a:lnTo>
                    <a:pt x="300" y="710"/>
                  </a:lnTo>
                  <a:lnTo>
                    <a:pt x="287" y="913"/>
                  </a:lnTo>
                  <a:lnTo>
                    <a:pt x="314" y="1107"/>
                  </a:lnTo>
                  <a:lnTo>
                    <a:pt x="384" y="1381"/>
                  </a:lnTo>
                  <a:lnTo>
                    <a:pt x="469" y="1601"/>
                  </a:lnTo>
                  <a:lnTo>
                    <a:pt x="469" y="1779"/>
                  </a:lnTo>
                  <a:lnTo>
                    <a:pt x="420" y="2004"/>
                  </a:lnTo>
                  <a:lnTo>
                    <a:pt x="314" y="2237"/>
                  </a:lnTo>
                  <a:lnTo>
                    <a:pt x="181" y="2109"/>
                  </a:lnTo>
                  <a:lnTo>
                    <a:pt x="132" y="2004"/>
                  </a:lnTo>
                  <a:lnTo>
                    <a:pt x="142" y="1779"/>
                  </a:lnTo>
                  <a:lnTo>
                    <a:pt x="132" y="1553"/>
                  </a:lnTo>
                  <a:lnTo>
                    <a:pt x="66" y="1253"/>
                  </a:lnTo>
                  <a:lnTo>
                    <a:pt x="39" y="1046"/>
                  </a:lnTo>
                  <a:lnTo>
                    <a:pt x="66" y="812"/>
                  </a:lnTo>
                  <a:lnTo>
                    <a:pt x="119" y="591"/>
                  </a:lnTo>
                  <a:lnTo>
                    <a:pt x="234" y="366"/>
                  </a:lnTo>
                  <a:lnTo>
                    <a:pt x="132" y="273"/>
                  </a:lnTo>
                  <a:lnTo>
                    <a:pt x="119" y="114"/>
                  </a:lnTo>
                  <a:lnTo>
                    <a:pt x="221"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34" name=""/>
            <p:cNvSpPr/>
            <p:nvPr/>
          </p:nvSpPr>
          <p:spPr>
            <a:xfrm>
              <a:off x="8015400" y="468360"/>
              <a:ext cx="314640" cy="398880"/>
            </a:xfrm>
            <a:custGeom>
              <a:avLst/>
              <a:gdLst/>
              <a:ahLst/>
              <a:rect l="0" t="0" r="r" b="b"/>
              <a:pathLst>
                <a:path w="874" h="1108">
                  <a:moveTo>
                    <a:pt x="145" y="283"/>
                  </a:moveTo>
                  <a:lnTo>
                    <a:pt x="273" y="260"/>
                  </a:lnTo>
                  <a:lnTo>
                    <a:pt x="396" y="268"/>
                  </a:lnTo>
                  <a:lnTo>
                    <a:pt x="503" y="314"/>
                  </a:lnTo>
                  <a:lnTo>
                    <a:pt x="556" y="375"/>
                  </a:lnTo>
                  <a:lnTo>
                    <a:pt x="583" y="433"/>
                  </a:lnTo>
                  <a:lnTo>
                    <a:pt x="583" y="490"/>
                  </a:lnTo>
                  <a:lnTo>
                    <a:pt x="552" y="525"/>
                  </a:lnTo>
                  <a:lnTo>
                    <a:pt x="499" y="552"/>
                  </a:lnTo>
                  <a:lnTo>
                    <a:pt x="432" y="556"/>
                  </a:lnTo>
                  <a:lnTo>
                    <a:pt x="352" y="538"/>
                  </a:lnTo>
                  <a:lnTo>
                    <a:pt x="277" y="494"/>
                  </a:lnTo>
                  <a:lnTo>
                    <a:pt x="220" y="450"/>
                  </a:lnTo>
                  <a:lnTo>
                    <a:pt x="194" y="591"/>
                  </a:lnTo>
                  <a:lnTo>
                    <a:pt x="145" y="693"/>
                  </a:lnTo>
                  <a:lnTo>
                    <a:pt x="0" y="928"/>
                  </a:lnTo>
                  <a:lnTo>
                    <a:pt x="211" y="1108"/>
                  </a:lnTo>
                  <a:lnTo>
                    <a:pt x="370" y="807"/>
                  </a:lnTo>
                  <a:lnTo>
                    <a:pt x="552" y="835"/>
                  </a:lnTo>
                  <a:lnTo>
                    <a:pt x="666" y="812"/>
                  </a:lnTo>
                  <a:lnTo>
                    <a:pt x="772" y="741"/>
                  </a:lnTo>
                  <a:lnTo>
                    <a:pt x="838" y="658"/>
                  </a:lnTo>
                  <a:lnTo>
                    <a:pt x="874" y="543"/>
                  </a:lnTo>
                  <a:lnTo>
                    <a:pt x="874" y="424"/>
                  </a:lnTo>
                  <a:lnTo>
                    <a:pt x="838" y="296"/>
                  </a:lnTo>
                  <a:lnTo>
                    <a:pt x="768" y="167"/>
                  </a:lnTo>
                  <a:lnTo>
                    <a:pt x="680" y="79"/>
                  </a:lnTo>
                  <a:lnTo>
                    <a:pt x="569" y="26"/>
                  </a:lnTo>
                  <a:lnTo>
                    <a:pt x="446" y="0"/>
                  </a:lnTo>
                  <a:lnTo>
                    <a:pt x="291" y="0"/>
                  </a:lnTo>
                  <a:lnTo>
                    <a:pt x="114" y="30"/>
                  </a:lnTo>
                  <a:lnTo>
                    <a:pt x="145" y="283"/>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5" name=""/>
            <p:cNvSpPr/>
            <p:nvPr/>
          </p:nvSpPr>
          <p:spPr>
            <a:xfrm>
              <a:off x="7958160" y="855720"/>
              <a:ext cx="114840" cy="79560"/>
            </a:xfrm>
            <a:custGeom>
              <a:avLst/>
              <a:gdLst/>
              <a:ahLst/>
              <a:rect l="0" t="0" r="r" b="b"/>
              <a:pathLst>
                <a:path w="319" h="221">
                  <a:moveTo>
                    <a:pt x="128" y="0"/>
                  </a:moveTo>
                  <a:lnTo>
                    <a:pt x="44" y="0"/>
                  </a:lnTo>
                  <a:lnTo>
                    <a:pt x="0" y="30"/>
                  </a:lnTo>
                  <a:lnTo>
                    <a:pt x="0" y="111"/>
                  </a:lnTo>
                  <a:lnTo>
                    <a:pt x="66" y="190"/>
                  </a:lnTo>
                  <a:lnTo>
                    <a:pt x="190" y="221"/>
                  </a:lnTo>
                  <a:lnTo>
                    <a:pt x="288" y="217"/>
                  </a:lnTo>
                  <a:lnTo>
                    <a:pt x="319" y="164"/>
                  </a:lnTo>
                  <a:lnTo>
                    <a:pt x="301" y="120"/>
                  </a:lnTo>
                  <a:lnTo>
                    <a:pt x="257" y="52"/>
                  </a:lnTo>
                  <a:lnTo>
                    <a:pt x="177" y="8"/>
                  </a:lnTo>
                  <a:lnTo>
                    <a:pt x="128" y="0"/>
                  </a:lnTo>
                  <a:close/>
                </a:path>
              </a:pathLst>
            </a:custGeom>
            <a:solidFill>
              <a:srgbClr val="fc0128"/>
            </a:solidFill>
            <a:ln w="12600">
              <a:solidFill>
                <a:srgbClr val="000000"/>
              </a:solidFill>
              <a:round/>
            </a:ln>
          </p:spPr>
          <p:txBody>
            <a:bodyPr lIns="96120" rIns="96120" tIns="28440" bIns="2844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7" name=""/>
          <p:cNvSpPr txBox="1"/>
          <p:nvPr/>
        </p:nvSpPr>
        <p:spPr>
          <a:xfrm>
            <a:off x="295200" y="152280"/>
            <a:ext cx="9077400" cy="515880"/>
          </a:xfrm>
          <a:prstGeom prst="rect">
            <a:avLst/>
          </a:prstGeom>
          <a:noFill/>
          <a:ln w="0">
            <a:noFill/>
          </a:ln>
        </p:spPr>
        <p:txBody>
          <a:bodyPr lIns="0" rIns="0" tIns="0" bIns="0" anchor="t">
            <a:noAutofit/>
          </a:bodyPr>
          <a:p>
            <a:pPr algn="ctr">
              <a:lnSpc>
                <a:spcPct val="100000"/>
              </a:lnSpc>
            </a:pPr>
            <a:r>
              <a:rPr b="1" lang="en-US" sz="2800" spc="-1" strike="noStrike">
                <a:solidFill>
                  <a:srgbClr val="ffcc66"/>
                </a:solidFill>
                <a:latin typeface="Arial"/>
                <a:ea typeface="Arial"/>
              </a:rPr>
              <a:t>The Operating Cycle of Merchandising Concerns</a:t>
            </a:r>
            <a:endParaRPr b="0" lang="en-US" sz="2800" spc="-1" strike="noStrike">
              <a:solidFill>
                <a:srgbClr val="ffffff"/>
              </a:solidFill>
              <a:latin typeface="Arial"/>
            </a:endParaRPr>
          </a:p>
        </p:txBody>
      </p:sp>
      <p:grpSp>
        <p:nvGrpSpPr>
          <p:cNvPr id="58" name=""/>
          <p:cNvGrpSpPr/>
          <p:nvPr/>
        </p:nvGrpSpPr>
        <p:grpSpPr>
          <a:xfrm>
            <a:off x="609480" y="685800"/>
            <a:ext cx="8312400" cy="5645160"/>
            <a:chOff x="609480" y="685800"/>
            <a:chExt cx="8312400" cy="5645160"/>
          </a:xfrm>
        </p:grpSpPr>
        <p:sp>
          <p:nvSpPr>
            <p:cNvPr id="59" name=""/>
            <p:cNvSpPr/>
            <p:nvPr/>
          </p:nvSpPr>
          <p:spPr>
            <a:xfrm>
              <a:off x="704880" y="685800"/>
              <a:ext cx="8217000" cy="56451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0" name=""/>
            <p:cNvGrpSpPr/>
            <p:nvPr/>
          </p:nvGrpSpPr>
          <p:grpSpPr>
            <a:xfrm>
              <a:off x="5589720" y="1450800"/>
              <a:ext cx="1496880" cy="514800"/>
              <a:chOff x="5589720" y="1450800"/>
              <a:chExt cx="1496880" cy="514800"/>
            </a:xfrm>
          </p:grpSpPr>
          <p:sp>
            <p:nvSpPr>
              <p:cNvPr id="61" name=""/>
              <p:cNvSpPr/>
              <p:nvPr/>
            </p:nvSpPr>
            <p:spPr>
              <a:xfrm>
                <a:off x="5589720" y="1450800"/>
                <a:ext cx="1476720" cy="514800"/>
              </a:xfrm>
              <a:custGeom>
                <a:avLst/>
                <a:gdLst/>
                <a:ahLst/>
                <a:rect l="0" t="0" r="r" b="b"/>
                <a:pathLst>
                  <a:path fill="none" w="4102" h="1430">
                    <a:moveTo>
                      <a:pt x="4102" y="0"/>
                    </a:moveTo>
                    <a:lnTo>
                      <a:pt x="0" y="0"/>
                    </a:lnTo>
                    <a:lnTo>
                      <a:pt x="0" y="1430"/>
                    </a:lnTo>
                  </a:path>
                </a:pathLst>
              </a:custGeom>
              <a:ln w="25560">
                <a:solidFill>
                  <a:srgbClr val="ff00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62" name=""/>
              <p:cNvSpPr/>
              <p:nvPr/>
            </p:nvSpPr>
            <p:spPr>
              <a:xfrm>
                <a:off x="7086600" y="1450800"/>
                <a:ext cx="0" cy="295560"/>
              </a:xfrm>
              <a:prstGeom prst="line">
                <a:avLst/>
              </a:prstGeom>
              <a:ln w="25560">
                <a:solidFill>
                  <a:srgbClr val="fc0128"/>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63" name=""/>
            <p:cNvSpPr/>
            <p:nvPr/>
          </p:nvSpPr>
          <p:spPr>
            <a:xfrm>
              <a:off x="5589720" y="3017880"/>
              <a:ext cx="2119680" cy="956160"/>
            </a:xfrm>
            <a:custGeom>
              <a:avLst/>
              <a:gdLst/>
              <a:ahLst/>
              <a:rect l="0" t="0" r="r" b="b"/>
              <a:pathLst>
                <a:path fill="none" w="5888" h="2656">
                  <a:moveTo>
                    <a:pt x="5888" y="0"/>
                  </a:moveTo>
                  <a:lnTo>
                    <a:pt x="5888" y="2656"/>
                  </a:lnTo>
                  <a:lnTo>
                    <a:pt x="0" y="2656"/>
                  </a:lnTo>
                </a:path>
              </a:pathLst>
            </a:custGeom>
            <a:ln w="25560">
              <a:solidFill>
                <a:srgbClr val="ff0000"/>
              </a:solidFill>
              <a:round/>
            </a:ln>
          </p:spPr>
          <p:txBody>
            <a:bodyPr lIns="102600" rIns="102600" tIns="57600" bIns="57600" anchor="t">
              <a:noAutofit/>
            </a:bodyPr>
            <a:p>
              <a:endParaRPr b="0" lang="en-US" sz="1800" spc="-1" strike="noStrike">
                <a:solidFill>
                  <a:srgbClr val="ffffff"/>
                </a:solidFill>
                <a:latin typeface="Arial"/>
              </a:endParaRPr>
            </a:p>
          </p:txBody>
        </p:sp>
        <p:grpSp>
          <p:nvGrpSpPr>
            <p:cNvPr id="64" name=""/>
            <p:cNvGrpSpPr/>
            <p:nvPr/>
          </p:nvGrpSpPr>
          <p:grpSpPr>
            <a:xfrm>
              <a:off x="3606840" y="4876920"/>
              <a:ext cx="2355840" cy="1199880"/>
              <a:chOff x="3606840" y="4876920"/>
              <a:chExt cx="2355840" cy="1199880"/>
            </a:xfrm>
          </p:grpSpPr>
          <p:sp>
            <p:nvSpPr>
              <p:cNvPr id="65" name=""/>
              <p:cNvSpPr/>
              <p:nvPr/>
            </p:nvSpPr>
            <p:spPr>
              <a:xfrm>
                <a:off x="3606840" y="4940280"/>
                <a:ext cx="2289240" cy="1136520"/>
              </a:xfrm>
              <a:prstGeom prst="rect">
                <a:avLst/>
              </a:prstGeom>
              <a:solidFill>
                <a:srgbClr val="3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6" name=""/>
              <p:cNvSpPr/>
              <p:nvPr/>
            </p:nvSpPr>
            <p:spPr>
              <a:xfrm>
                <a:off x="3673440" y="4876920"/>
                <a:ext cx="2289240" cy="1135080"/>
              </a:xfrm>
              <a:prstGeom prst="rect">
                <a:avLst/>
              </a:prstGeom>
              <a:solidFill>
                <a:srgbClr val="ffdf9f"/>
              </a:solidFill>
              <a:ln w="12600">
                <a:solidFill>
                  <a:srgbClr val="ff00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67" name=""/>
            <p:cNvGrpSpPr/>
            <p:nvPr/>
          </p:nvGrpSpPr>
          <p:grpSpPr>
            <a:xfrm>
              <a:off x="4038480" y="5105520"/>
              <a:ext cx="1573200" cy="585720"/>
              <a:chOff x="4038480" y="5105520"/>
              <a:chExt cx="1573200" cy="585720"/>
            </a:xfrm>
          </p:grpSpPr>
          <p:sp>
            <p:nvSpPr>
              <p:cNvPr id="68" name=""/>
              <p:cNvSpPr txBox="1"/>
              <p:nvPr/>
            </p:nvSpPr>
            <p:spPr>
              <a:xfrm>
                <a:off x="4122720" y="5105520"/>
                <a:ext cx="1405080" cy="347760"/>
              </a:xfrm>
              <a:prstGeom prst="rect">
                <a:avLst/>
              </a:prstGeom>
              <a:noFill/>
              <a:ln w="0">
                <a:noFill/>
              </a:ln>
            </p:spPr>
            <p:txBody>
              <a:bodyPr lIns="0" rIns="0" tIns="0" bIns="0" anchor="t">
                <a:noAutofit/>
              </a:bodyPr>
              <a:p>
                <a:pPr>
                  <a:lnSpc>
                    <a:spcPct val="100000"/>
                  </a:lnSpc>
                </a:pPr>
                <a:r>
                  <a:rPr b="1" lang="en-US" sz="1700" spc="-1" strike="noStrike">
                    <a:solidFill>
                      <a:srgbClr val="000000"/>
                    </a:solidFill>
                    <a:latin typeface="Arial"/>
                    <a:ea typeface="Arial"/>
                  </a:rPr>
                  <a:t>ACCOUNTS</a:t>
                </a:r>
                <a:endParaRPr b="0" lang="en-US" sz="1700" spc="-1" strike="noStrike">
                  <a:solidFill>
                    <a:srgbClr val="ffffff"/>
                  </a:solidFill>
                  <a:latin typeface="Arial"/>
                </a:endParaRPr>
              </a:p>
            </p:txBody>
          </p:sp>
          <p:sp>
            <p:nvSpPr>
              <p:cNvPr id="69" name=""/>
              <p:cNvSpPr txBox="1"/>
              <p:nvPr/>
            </p:nvSpPr>
            <p:spPr>
              <a:xfrm>
                <a:off x="4038480" y="5343480"/>
                <a:ext cx="1573200" cy="347760"/>
              </a:xfrm>
              <a:prstGeom prst="rect">
                <a:avLst/>
              </a:prstGeom>
              <a:noFill/>
              <a:ln w="0">
                <a:noFill/>
              </a:ln>
            </p:spPr>
            <p:txBody>
              <a:bodyPr lIns="0" rIns="0" tIns="0" bIns="0" anchor="t">
                <a:noAutofit/>
              </a:bodyPr>
              <a:p>
                <a:pPr>
                  <a:lnSpc>
                    <a:spcPct val="100000"/>
                  </a:lnSpc>
                </a:pPr>
                <a:r>
                  <a:rPr b="1" lang="en-US" sz="1700" spc="-1" strike="noStrike">
                    <a:solidFill>
                      <a:srgbClr val="000000"/>
                    </a:solidFill>
                    <a:latin typeface="Arial"/>
                    <a:ea typeface="Arial"/>
                  </a:rPr>
                  <a:t>RECEIVABLE</a:t>
                </a:r>
                <a:endParaRPr b="0" lang="en-US" sz="1700" spc="-1" strike="noStrike">
                  <a:solidFill>
                    <a:srgbClr val="ffffff"/>
                  </a:solidFill>
                  <a:latin typeface="Arial"/>
                </a:endParaRPr>
              </a:p>
            </p:txBody>
          </p:sp>
        </p:grpSp>
        <p:sp>
          <p:nvSpPr>
            <p:cNvPr id="70" name=""/>
            <p:cNvSpPr/>
            <p:nvPr/>
          </p:nvSpPr>
          <p:spPr>
            <a:xfrm>
              <a:off x="609480" y="738360"/>
              <a:ext cx="189000" cy="2556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1" name=""/>
            <p:cNvSpPr/>
            <p:nvPr/>
          </p:nvSpPr>
          <p:spPr>
            <a:xfrm>
              <a:off x="5423040" y="981000"/>
              <a:ext cx="2291040" cy="630720"/>
            </a:xfrm>
            <a:custGeom>
              <a:avLst/>
              <a:gdLst/>
              <a:ahLst/>
              <a:rect l="0" t="0" r="r" b="b"/>
              <a:pathLst>
                <a:path fill="none" w="6364" h="1752">
                  <a:moveTo>
                    <a:pt x="0" y="0"/>
                  </a:moveTo>
                  <a:lnTo>
                    <a:pt x="6364" y="0"/>
                  </a:lnTo>
                  <a:lnTo>
                    <a:pt x="6364" y="1752"/>
                  </a:lnTo>
                </a:path>
              </a:pathLst>
            </a:custGeom>
            <a:ln w="25560">
              <a:solidFill>
                <a:srgbClr val="ff00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72" name=""/>
            <p:cNvSpPr/>
            <p:nvPr/>
          </p:nvSpPr>
          <p:spPr>
            <a:xfrm>
              <a:off x="7634160" y="1566720"/>
              <a:ext cx="140040" cy="235440"/>
            </a:xfrm>
            <a:custGeom>
              <a:avLst/>
              <a:gdLst/>
              <a:ahLst/>
              <a:rect l="0" t="0" r="r" b="b"/>
              <a:pathLst>
                <a:path w="389" h="654">
                  <a:moveTo>
                    <a:pt x="199" y="70"/>
                  </a:moveTo>
                  <a:lnTo>
                    <a:pt x="167" y="70"/>
                  </a:lnTo>
                  <a:lnTo>
                    <a:pt x="145" y="70"/>
                  </a:lnTo>
                  <a:lnTo>
                    <a:pt x="114" y="70"/>
                  </a:lnTo>
                  <a:lnTo>
                    <a:pt x="92" y="61"/>
                  </a:lnTo>
                  <a:lnTo>
                    <a:pt x="74" y="52"/>
                  </a:lnTo>
                  <a:lnTo>
                    <a:pt x="57" y="52"/>
                  </a:lnTo>
                  <a:lnTo>
                    <a:pt x="48" y="39"/>
                  </a:lnTo>
                  <a:lnTo>
                    <a:pt x="35" y="35"/>
                  </a:lnTo>
                  <a:lnTo>
                    <a:pt x="26" y="22"/>
                  </a:lnTo>
                  <a:lnTo>
                    <a:pt x="17" y="22"/>
                  </a:lnTo>
                  <a:lnTo>
                    <a:pt x="17" y="17"/>
                  </a:lnTo>
                  <a:lnTo>
                    <a:pt x="8" y="17"/>
                  </a:lnTo>
                  <a:lnTo>
                    <a:pt x="8" y="8"/>
                  </a:lnTo>
                  <a:lnTo>
                    <a:pt x="0" y="8"/>
                  </a:lnTo>
                  <a:lnTo>
                    <a:pt x="208" y="654"/>
                  </a:lnTo>
                  <a:lnTo>
                    <a:pt x="389" y="0"/>
                  </a:lnTo>
                  <a:lnTo>
                    <a:pt x="380" y="8"/>
                  </a:lnTo>
                  <a:lnTo>
                    <a:pt x="380" y="17"/>
                  </a:lnTo>
                  <a:lnTo>
                    <a:pt x="371" y="17"/>
                  </a:lnTo>
                  <a:lnTo>
                    <a:pt x="362" y="22"/>
                  </a:lnTo>
                  <a:lnTo>
                    <a:pt x="353" y="35"/>
                  </a:lnTo>
                  <a:lnTo>
                    <a:pt x="344" y="39"/>
                  </a:lnTo>
                  <a:lnTo>
                    <a:pt x="331" y="39"/>
                  </a:lnTo>
                  <a:lnTo>
                    <a:pt x="314" y="52"/>
                  </a:lnTo>
                  <a:lnTo>
                    <a:pt x="296" y="52"/>
                  </a:lnTo>
                  <a:lnTo>
                    <a:pt x="278" y="61"/>
                  </a:lnTo>
                  <a:lnTo>
                    <a:pt x="252" y="70"/>
                  </a:lnTo>
                  <a:lnTo>
                    <a:pt x="234" y="70"/>
                  </a:lnTo>
                  <a:lnTo>
                    <a:pt x="199" y="70"/>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3" name=""/>
            <p:cNvSpPr txBox="1"/>
            <p:nvPr/>
          </p:nvSpPr>
          <p:spPr>
            <a:xfrm>
              <a:off x="4164120" y="800280"/>
              <a:ext cx="1273320" cy="347760"/>
            </a:xfrm>
            <a:prstGeom prst="rect">
              <a:avLst/>
            </a:prstGeom>
            <a:noFill/>
            <a:ln w="0">
              <a:noFill/>
            </a:ln>
          </p:spPr>
          <p:txBody>
            <a:bodyPr lIns="0" rIns="0" tIns="0" bIns="0" anchor="t">
              <a:noAutofit/>
            </a:bodyPr>
            <a:p>
              <a:pPr>
                <a:lnSpc>
                  <a:spcPct val="100000"/>
                </a:lnSpc>
              </a:pPr>
              <a:r>
                <a:rPr b="1" lang="en-US" sz="1700" spc="-1" strike="noStrike">
                  <a:solidFill>
                    <a:srgbClr val="000000"/>
                  </a:solidFill>
                  <a:latin typeface="Arial"/>
                  <a:ea typeface="Arial"/>
                </a:rPr>
                <a:t>Purchases</a:t>
              </a:r>
              <a:endParaRPr b="0" lang="en-US" sz="1700" spc="-1" strike="noStrike">
                <a:solidFill>
                  <a:srgbClr val="ffffff"/>
                </a:solidFill>
                <a:latin typeface="Arial"/>
              </a:endParaRPr>
            </a:p>
          </p:txBody>
        </p:sp>
        <p:sp>
          <p:nvSpPr>
            <p:cNvPr id="74" name=""/>
            <p:cNvSpPr txBox="1"/>
            <p:nvPr/>
          </p:nvSpPr>
          <p:spPr>
            <a:xfrm>
              <a:off x="3992400" y="3781440"/>
              <a:ext cx="1644480" cy="347760"/>
            </a:xfrm>
            <a:prstGeom prst="rect">
              <a:avLst/>
            </a:prstGeom>
            <a:noFill/>
            <a:ln w="0">
              <a:noFill/>
            </a:ln>
          </p:spPr>
          <p:txBody>
            <a:bodyPr lIns="0" rIns="0" tIns="0" bIns="0" anchor="t">
              <a:noAutofit/>
            </a:bodyPr>
            <a:p>
              <a:pPr>
                <a:lnSpc>
                  <a:spcPct val="100000"/>
                </a:lnSpc>
              </a:pPr>
              <a:r>
                <a:rPr b="1" lang="en-US" sz="1700" spc="-1" strike="noStrike">
                  <a:solidFill>
                    <a:srgbClr val="000000"/>
                  </a:solidFill>
                  <a:latin typeface="Arial"/>
                  <a:ea typeface="Arial"/>
                </a:rPr>
                <a:t>Sales for cash</a:t>
              </a:r>
              <a:endParaRPr b="0" lang="en-US" sz="1700" spc="-1" strike="noStrike">
                <a:solidFill>
                  <a:srgbClr val="ffffff"/>
                </a:solidFill>
                <a:latin typeface="Arial"/>
              </a:endParaRPr>
            </a:p>
          </p:txBody>
        </p:sp>
        <p:sp>
          <p:nvSpPr>
            <p:cNvPr id="75" name=""/>
            <p:cNvSpPr txBox="1"/>
            <p:nvPr/>
          </p:nvSpPr>
          <p:spPr>
            <a:xfrm>
              <a:off x="1101600" y="4379760"/>
              <a:ext cx="1284120" cy="347760"/>
            </a:xfrm>
            <a:prstGeom prst="rect">
              <a:avLst/>
            </a:prstGeom>
            <a:noFill/>
            <a:ln w="0">
              <a:noFill/>
            </a:ln>
          </p:spPr>
          <p:txBody>
            <a:bodyPr lIns="0" rIns="0" tIns="0" bIns="0" anchor="t">
              <a:noAutofit/>
            </a:bodyPr>
            <a:p>
              <a:pPr>
                <a:lnSpc>
                  <a:spcPct val="100000"/>
                </a:lnSpc>
              </a:pPr>
              <a:r>
                <a:rPr b="1" lang="en-US" sz="1700" spc="-1" strike="noStrike">
                  <a:solidFill>
                    <a:srgbClr val="000000"/>
                  </a:solidFill>
                  <a:latin typeface="Arial"/>
                  <a:ea typeface="Arial"/>
                </a:rPr>
                <a:t>Collection </a:t>
              </a:r>
              <a:endParaRPr b="0" lang="en-US" sz="1700" spc="-1" strike="noStrike">
                <a:solidFill>
                  <a:srgbClr val="ffffff"/>
                </a:solidFill>
                <a:latin typeface="Arial"/>
              </a:endParaRPr>
            </a:p>
          </p:txBody>
        </p:sp>
        <p:sp>
          <p:nvSpPr>
            <p:cNvPr id="76" name=""/>
            <p:cNvSpPr txBox="1"/>
            <p:nvPr/>
          </p:nvSpPr>
          <p:spPr>
            <a:xfrm>
              <a:off x="1273320" y="4678200"/>
              <a:ext cx="936720" cy="347760"/>
            </a:xfrm>
            <a:prstGeom prst="rect">
              <a:avLst/>
            </a:prstGeom>
            <a:noFill/>
            <a:ln w="0">
              <a:noFill/>
            </a:ln>
          </p:spPr>
          <p:txBody>
            <a:bodyPr lIns="0" rIns="0" tIns="0" bIns="0" anchor="t">
              <a:noAutofit/>
            </a:bodyPr>
            <a:p>
              <a:pPr>
                <a:lnSpc>
                  <a:spcPct val="100000"/>
                </a:lnSpc>
              </a:pPr>
              <a:r>
                <a:rPr b="1" lang="en-US" sz="1700" spc="-1" strike="noStrike">
                  <a:solidFill>
                    <a:srgbClr val="000000"/>
                  </a:solidFill>
                  <a:latin typeface="Arial"/>
                  <a:ea typeface="Arial"/>
                </a:rPr>
                <a:t>of cash</a:t>
              </a:r>
              <a:endParaRPr b="0" lang="en-US" sz="1700" spc="-1" strike="noStrike">
                <a:solidFill>
                  <a:srgbClr val="ffffff"/>
                </a:solidFill>
                <a:latin typeface="Arial"/>
              </a:endParaRPr>
            </a:p>
          </p:txBody>
        </p:sp>
        <p:sp>
          <p:nvSpPr>
            <p:cNvPr id="77" name=""/>
            <p:cNvSpPr txBox="1"/>
            <p:nvPr/>
          </p:nvSpPr>
          <p:spPr>
            <a:xfrm>
              <a:off x="7151760" y="4361040"/>
              <a:ext cx="1128600" cy="347760"/>
            </a:xfrm>
            <a:prstGeom prst="rect">
              <a:avLst/>
            </a:prstGeom>
            <a:noFill/>
            <a:ln w="0">
              <a:noFill/>
            </a:ln>
          </p:spPr>
          <p:txBody>
            <a:bodyPr lIns="0" rIns="0" tIns="0" bIns="0" anchor="t">
              <a:noAutofit/>
            </a:bodyPr>
            <a:p>
              <a:pPr>
                <a:lnSpc>
                  <a:spcPct val="100000"/>
                </a:lnSpc>
              </a:pPr>
              <a:r>
                <a:rPr b="1" lang="en-US" sz="1700" spc="-1" strike="noStrike">
                  <a:solidFill>
                    <a:srgbClr val="000000"/>
                  </a:solidFill>
                  <a:latin typeface="Arial"/>
                  <a:ea typeface="Arial"/>
                </a:rPr>
                <a:t>Sales on </a:t>
              </a:r>
              <a:endParaRPr b="0" lang="en-US" sz="1700" spc="-1" strike="noStrike">
                <a:solidFill>
                  <a:srgbClr val="ffffff"/>
                </a:solidFill>
                <a:latin typeface="Arial"/>
              </a:endParaRPr>
            </a:p>
          </p:txBody>
        </p:sp>
        <p:sp>
          <p:nvSpPr>
            <p:cNvPr id="78" name=""/>
            <p:cNvSpPr txBox="1"/>
            <p:nvPr/>
          </p:nvSpPr>
          <p:spPr>
            <a:xfrm>
              <a:off x="7332840" y="4659480"/>
              <a:ext cx="768240" cy="347760"/>
            </a:xfrm>
            <a:prstGeom prst="rect">
              <a:avLst/>
            </a:prstGeom>
            <a:noFill/>
            <a:ln w="0">
              <a:noFill/>
            </a:ln>
          </p:spPr>
          <p:txBody>
            <a:bodyPr lIns="0" rIns="0" tIns="0" bIns="0" anchor="t">
              <a:noAutofit/>
            </a:bodyPr>
            <a:p>
              <a:pPr>
                <a:lnSpc>
                  <a:spcPct val="100000"/>
                </a:lnSpc>
              </a:pPr>
              <a:r>
                <a:rPr b="1" lang="en-US" sz="1700" spc="-1" strike="noStrike">
                  <a:solidFill>
                    <a:srgbClr val="000000"/>
                  </a:solidFill>
                  <a:latin typeface="Arial"/>
                  <a:ea typeface="Arial"/>
                </a:rPr>
                <a:t>credit</a:t>
              </a:r>
              <a:endParaRPr b="0" lang="en-US" sz="1700" spc="-1" strike="noStrike">
                <a:solidFill>
                  <a:srgbClr val="ffffff"/>
                </a:solidFill>
                <a:latin typeface="Arial"/>
              </a:endParaRPr>
            </a:p>
          </p:txBody>
        </p:sp>
        <p:sp>
          <p:nvSpPr>
            <p:cNvPr id="79" name=""/>
            <p:cNvSpPr/>
            <p:nvPr/>
          </p:nvSpPr>
          <p:spPr>
            <a:xfrm>
              <a:off x="7709040" y="3951360"/>
              <a:ext cx="0" cy="38736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0" name=""/>
            <p:cNvSpPr/>
            <p:nvPr/>
          </p:nvSpPr>
          <p:spPr>
            <a:xfrm>
              <a:off x="6167520" y="5064120"/>
              <a:ext cx="1543320" cy="435240"/>
            </a:xfrm>
            <a:custGeom>
              <a:avLst/>
              <a:gdLst/>
              <a:ahLst/>
              <a:rect l="0" t="0" r="r" b="b"/>
              <a:pathLst>
                <a:path fill="none" w="4287" h="1209">
                  <a:moveTo>
                    <a:pt x="4287" y="0"/>
                  </a:moveTo>
                  <a:lnTo>
                    <a:pt x="4287" y="1209"/>
                  </a:lnTo>
                  <a:lnTo>
                    <a:pt x="0" y="1209"/>
                  </a:lnTo>
                </a:path>
              </a:pathLst>
            </a:custGeom>
            <a:ln w="25560">
              <a:solidFill>
                <a:srgbClr val="ff00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81" name=""/>
            <p:cNvSpPr/>
            <p:nvPr/>
          </p:nvSpPr>
          <p:spPr>
            <a:xfrm>
              <a:off x="5959440" y="5421240"/>
              <a:ext cx="235440" cy="135360"/>
            </a:xfrm>
            <a:custGeom>
              <a:avLst/>
              <a:gdLst/>
              <a:ahLst/>
              <a:rect l="0" t="0" r="r" b="b"/>
              <a:pathLst>
                <a:path w="654" h="376">
                  <a:moveTo>
                    <a:pt x="588" y="186"/>
                  </a:moveTo>
                  <a:lnTo>
                    <a:pt x="588" y="164"/>
                  </a:lnTo>
                  <a:lnTo>
                    <a:pt x="588" y="128"/>
                  </a:lnTo>
                  <a:lnTo>
                    <a:pt x="588" y="106"/>
                  </a:lnTo>
                  <a:lnTo>
                    <a:pt x="592" y="92"/>
                  </a:lnTo>
                  <a:lnTo>
                    <a:pt x="592" y="66"/>
                  </a:lnTo>
                  <a:lnTo>
                    <a:pt x="601" y="57"/>
                  </a:lnTo>
                  <a:lnTo>
                    <a:pt x="610" y="44"/>
                  </a:lnTo>
                  <a:lnTo>
                    <a:pt x="619" y="35"/>
                  </a:lnTo>
                  <a:lnTo>
                    <a:pt x="619" y="17"/>
                  </a:lnTo>
                  <a:lnTo>
                    <a:pt x="628" y="17"/>
                  </a:lnTo>
                  <a:lnTo>
                    <a:pt x="632" y="8"/>
                  </a:lnTo>
                  <a:lnTo>
                    <a:pt x="632" y="0"/>
                  </a:lnTo>
                  <a:lnTo>
                    <a:pt x="645" y="0"/>
                  </a:lnTo>
                  <a:lnTo>
                    <a:pt x="654" y="0"/>
                  </a:lnTo>
                  <a:lnTo>
                    <a:pt x="0" y="186"/>
                  </a:lnTo>
                  <a:lnTo>
                    <a:pt x="654" y="376"/>
                  </a:lnTo>
                  <a:lnTo>
                    <a:pt x="645" y="376"/>
                  </a:lnTo>
                  <a:lnTo>
                    <a:pt x="632" y="376"/>
                  </a:lnTo>
                  <a:lnTo>
                    <a:pt x="632" y="372"/>
                  </a:lnTo>
                  <a:lnTo>
                    <a:pt x="628" y="359"/>
                  </a:lnTo>
                  <a:lnTo>
                    <a:pt x="619" y="354"/>
                  </a:lnTo>
                  <a:lnTo>
                    <a:pt x="619" y="345"/>
                  </a:lnTo>
                  <a:lnTo>
                    <a:pt x="610" y="337"/>
                  </a:lnTo>
                  <a:lnTo>
                    <a:pt x="601" y="323"/>
                  </a:lnTo>
                  <a:lnTo>
                    <a:pt x="592" y="301"/>
                  </a:lnTo>
                  <a:lnTo>
                    <a:pt x="592" y="288"/>
                  </a:lnTo>
                  <a:lnTo>
                    <a:pt x="588" y="274"/>
                  </a:lnTo>
                  <a:lnTo>
                    <a:pt x="588" y="247"/>
                  </a:lnTo>
                  <a:lnTo>
                    <a:pt x="588" y="225"/>
                  </a:lnTo>
                  <a:lnTo>
                    <a:pt x="588" y="186"/>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2" name=""/>
            <p:cNvSpPr/>
            <p:nvPr/>
          </p:nvSpPr>
          <p:spPr>
            <a:xfrm>
              <a:off x="1731960" y="5091120"/>
              <a:ext cx="1838520" cy="408240"/>
            </a:xfrm>
            <a:custGeom>
              <a:avLst/>
              <a:gdLst/>
              <a:ahLst/>
              <a:rect l="0" t="0" r="r" b="b"/>
              <a:pathLst>
                <a:path fill="none" w="5107" h="1134">
                  <a:moveTo>
                    <a:pt x="5107" y="1134"/>
                  </a:moveTo>
                  <a:lnTo>
                    <a:pt x="0" y="1134"/>
                  </a:lnTo>
                  <a:lnTo>
                    <a:pt x="0" y="0"/>
                  </a:lnTo>
                </a:path>
              </a:pathLst>
            </a:custGeom>
            <a:ln w="25560">
              <a:solidFill>
                <a:srgbClr val="ff00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83" name=""/>
            <p:cNvSpPr/>
            <p:nvPr/>
          </p:nvSpPr>
          <p:spPr>
            <a:xfrm flipV="1">
              <a:off x="1724040" y="3195720"/>
              <a:ext cx="0" cy="126360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4" name=""/>
            <p:cNvSpPr/>
            <p:nvPr/>
          </p:nvSpPr>
          <p:spPr>
            <a:xfrm>
              <a:off x="1658880" y="3009960"/>
              <a:ext cx="135360" cy="233640"/>
            </a:xfrm>
            <a:custGeom>
              <a:avLst/>
              <a:gdLst/>
              <a:ahLst/>
              <a:rect l="0" t="0" r="r" b="b"/>
              <a:pathLst>
                <a:path w="376" h="649">
                  <a:moveTo>
                    <a:pt x="190" y="578"/>
                  </a:moveTo>
                  <a:lnTo>
                    <a:pt x="212" y="578"/>
                  </a:lnTo>
                  <a:lnTo>
                    <a:pt x="243" y="578"/>
                  </a:lnTo>
                  <a:lnTo>
                    <a:pt x="269" y="591"/>
                  </a:lnTo>
                  <a:lnTo>
                    <a:pt x="284" y="596"/>
                  </a:lnTo>
                  <a:lnTo>
                    <a:pt x="306" y="596"/>
                  </a:lnTo>
                  <a:lnTo>
                    <a:pt x="319" y="609"/>
                  </a:lnTo>
                  <a:lnTo>
                    <a:pt x="332" y="609"/>
                  </a:lnTo>
                  <a:lnTo>
                    <a:pt x="341" y="618"/>
                  </a:lnTo>
                  <a:lnTo>
                    <a:pt x="350" y="627"/>
                  </a:lnTo>
                  <a:lnTo>
                    <a:pt x="363" y="631"/>
                  </a:lnTo>
                  <a:lnTo>
                    <a:pt x="368" y="631"/>
                  </a:lnTo>
                  <a:lnTo>
                    <a:pt x="376" y="644"/>
                  </a:lnTo>
                  <a:lnTo>
                    <a:pt x="376" y="649"/>
                  </a:lnTo>
                  <a:lnTo>
                    <a:pt x="190" y="0"/>
                  </a:lnTo>
                  <a:lnTo>
                    <a:pt x="0" y="649"/>
                  </a:lnTo>
                  <a:lnTo>
                    <a:pt x="0" y="644"/>
                  </a:lnTo>
                  <a:lnTo>
                    <a:pt x="8" y="631"/>
                  </a:lnTo>
                  <a:lnTo>
                    <a:pt x="13" y="627"/>
                  </a:lnTo>
                  <a:lnTo>
                    <a:pt x="26" y="618"/>
                  </a:lnTo>
                  <a:lnTo>
                    <a:pt x="35" y="609"/>
                  </a:lnTo>
                  <a:lnTo>
                    <a:pt x="48" y="609"/>
                  </a:lnTo>
                  <a:lnTo>
                    <a:pt x="66" y="596"/>
                  </a:lnTo>
                  <a:lnTo>
                    <a:pt x="79" y="596"/>
                  </a:lnTo>
                  <a:lnTo>
                    <a:pt x="106" y="591"/>
                  </a:lnTo>
                  <a:lnTo>
                    <a:pt x="133" y="578"/>
                  </a:lnTo>
                  <a:lnTo>
                    <a:pt x="159" y="578"/>
                  </a:lnTo>
                  <a:lnTo>
                    <a:pt x="190" y="578"/>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5" name=""/>
            <p:cNvSpPr/>
            <p:nvPr/>
          </p:nvSpPr>
          <p:spPr>
            <a:xfrm>
              <a:off x="2546280" y="3236760"/>
              <a:ext cx="1460880" cy="736920"/>
            </a:xfrm>
            <a:custGeom>
              <a:avLst/>
              <a:gdLst/>
              <a:ahLst/>
              <a:rect l="0" t="0" r="r" b="b"/>
              <a:pathLst>
                <a:path fill="none" w="4058" h="2047">
                  <a:moveTo>
                    <a:pt x="4058" y="2047"/>
                  </a:moveTo>
                  <a:lnTo>
                    <a:pt x="0" y="2047"/>
                  </a:lnTo>
                  <a:lnTo>
                    <a:pt x="0" y="0"/>
                  </a:lnTo>
                </a:path>
              </a:pathLst>
            </a:custGeom>
            <a:ln w="25560">
              <a:solidFill>
                <a:srgbClr val="ff00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86" name=""/>
            <p:cNvSpPr/>
            <p:nvPr/>
          </p:nvSpPr>
          <p:spPr>
            <a:xfrm>
              <a:off x="2476440" y="3014640"/>
              <a:ext cx="138600" cy="236880"/>
            </a:xfrm>
            <a:custGeom>
              <a:avLst/>
              <a:gdLst/>
              <a:ahLst/>
              <a:rect l="0" t="0" r="r" b="b"/>
              <a:pathLst>
                <a:path w="385" h="658">
                  <a:moveTo>
                    <a:pt x="195" y="587"/>
                  </a:moveTo>
                  <a:lnTo>
                    <a:pt x="212" y="587"/>
                  </a:lnTo>
                  <a:lnTo>
                    <a:pt x="247" y="587"/>
                  </a:lnTo>
                  <a:lnTo>
                    <a:pt x="274" y="587"/>
                  </a:lnTo>
                  <a:lnTo>
                    <a:pt x="293" y="596"/>
                  </a:lnTo>
                  <a:lnTo>
                    <a:pt x="310" y="596"/>
                  </a:lnTo>
                  <a:lnTo>
                    <a:pt x="323" y="605"/>
                  </a:lnTo>
                  <a:lnTo>
                    <a:pt x="341" y="613"/>
                  </a:lnTo>
                  <a:lnTo>
                    <a:pt x="350" y="622"/>
                  </a:lnTo>
                  <a:lnTo>
                    <a:pt x="359" y="622"/>
                  </a:lnTo>
                  <a:lnTo>
                    <a:pt x="368" y="636"/>
                  </a:lnTo>
                  <a:lnTo>
                    <a:pt x="376" y="636"/>
                  </a:lnTo>
                  <a:lnTo>
                    <a:pt x="385" y="649"/>
                  </a:lnTo>
                  <a:lnTo>
                    <a:pt x="385" y="658"/>
                  </a:lnTo>
                  <a:lnTo>
                    <a:pt x="195" y="0"/>
                  </a:lnTo>
                  <a:lnTo>
                    <a:pt x="0" y="658"/>
                  </a:lnTo>
                  <a:lnTo>
                    <a:pt x="0" y="649"/>
                  </a:lnTo>
                  <a:lnTo>
                    <a:pt x="0" y="636"/>
                  </a:lnTo>
                  <a:lnTo>
                    <a:pt x="8" y="636"/>
                  </a:lnTo>
                  <a:lnTo>
                    <a:pt x="17" y="622"/>
                  </a:lnTo>
                  <a:lnTo>
                    <a:pt x="26" y="622"/>
                  </a:lnTo>
                  <a:lnTo>
                    <a:pt x="44" y="613"/>
                  </a:lnTo>
                  <a:lnTo>
                    <a:pt x="48" y="605"/>
                  </a:lnTo>
                  <a:lnTo>
                    <a:pt x="66" y="596"/>
                  </a:lnTo>
                  <a:lnTo>
                    <a:pt x="79" y="596"/>
                  </a:lnTo>
                  <a:lnTo>
                    <a:pt x="111" y="587"/>
                  </a:lnTo>
                  <a:lnTo>
                    <a:pt x="137" y="587"/>
                  </a:lnTo>
                  <a:lnTo>
                    <a:pt x="164" y="587"/>
                  </a:lnTo>
                  <a:lnTo>
                    <a:pt x="195" y="587"/>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87" name=""/>
            <p:cNvGrpSpPr/>
            <p:nvPr/>
          </p:nvGrpSpPr>
          <p:grpSpPr>
            <a:xfrm>
              <a:off x="2773440" y="1447920"/>
              <a:ext cx="1493640" cy="457560"/>
              <a:chOff x="2773440" y="1447920"/>
              <a:chExt cx="1493640" cy="457560"/>
            </a:xfrm>
          </p:grpSpPr>
          <p:sp>
            <p:nvSpPr>
              <p:cNvPr id="88" name=""/>
              <p:cNvSpPr/>
              <p:nvPr/>
            </p:nvSpPr>
            <p:spPr>
              <a:xfrm>
                <a:off x="2773440" y="1447920"/>
                <a:ext cx="1489320" cy="457560"/>
              </a:xfrm>
              <a:custGeom>
                <a:avLst/>
                <a:gdLst/>
                <a:ahLst/>
                <a:rect l="0" t="0" r="r" b="b"/>
                <a:pathLst>
                  <a:path fill="none" w="4137" h="1271">
                    <a:moveTo>
                      <a:pt x="4137" y="0"/>
                    </a:moveTo>
                    <a:lnTo>
                      <a:pt x="0" y="0"/>
                    </a:lnTo>
                    <a:lnTo>
                      <a:pt x="0" y="1271"/>
                    </a:lnTo>
                  </a:path>
                </a:pathLst>
              </a:custGeom>
              <a:ln w="25560">
                <a:solidFill>
                  <a:srgbClr val="ff00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89" name=""/>
              <p:cNvSpPr/>
              <p:nvPr/>
            </p:nvSpPr>
            <p:spPr>
              <a:xfrm>
                <a:off x="4267080" y="1450800"/>
                <a:ext cx="0" cy="252720"/>
              </a:xfrm>
              <a:prstGeom prst="line">
                <a:avLst/>
              </a:prstGeom>
              <a:ln w="25560">
                <a:solidFill>
                  <a:srgbClr val="fc0128"/>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90" name=""/>
            <p:cNvSpPr/>
            <p:nvPr/>
          </p:nvSpPr>
          <p:spPr>
            <a:xfrm>
              <a:off x="2131920" y="981000"/>
              <a:ext cx="2068920" cy="837000"/>
            </a:xfrm>
            <a:custGeom>
              <a:avLst/>
              <a:gdLst/>
              <a:ahLst/>
              <a:rect l="0" t="0" r="r" b="b"/>
              <a:pathLst>
                <a:path fill="none" w="5747" h="2325">
                  <a:moveTo>
                    <a:pt x="0" y="2325"/>
                  </a:moveTo>
                  <a:lnTo>
                    <a:pt x="0" y="0"/>
                  </a:lnTo>
                  <a:lnTo>
                    <a:pt x="5747" y="0"/>
                  </a:lnTo>
                </a:path>
              </a:pathLst>
            </a:custGeom>
            <a:ln w="25560">
              <a:solidFill>
                <a:srgbClr val="ff0000"/>
              </a:solidFill>
              <a:round/>
            </a:ln>
          </p:spPr>
          <p:txBody>
            <a:bodyPr lIns="102600" rIns="102600" tIns="57600" bIns="57600" anchor="t">
              <a:noAutofit/>
            </a:bodyPr>
            <a:p>
              <a:endParaRPr b="0" lang="en-US" sz="1800" spc="-1" strike="noStrike">
                <a:solidFill>
                  <a:srgbClr val="ffffff"/>
                </a:solidFill>
                <a:latin typeface="Arial"/>
              </a:endParaRPr>
            </a:p>
          </p:txBody>
        </p:sp>
        <p:grpSp>
          <p:nvGrpSpPr>
            <p:cNvPr id="91" name=""/>
            <p:cNvGrpSpPr/>
            <p:nvPr/>
          </p:nvGrpSpPr>
          <p:grpSpPr>
            <a:xfrm>
              <a:off x="928800" y="1809720"/>
              <a:ext cx="2355840" cy="1201680"/>
              <a:chOff x="928800" y="1809720"/>
              <a:chExt cx="2355840" cy="1201680"/>
            </a:xfrm>
          </p:grpSpPr>
          <p:sp>
            <p:nvSpPr>
              <p:cNvPr id="92" name=""/>
              <p:cNvSpPr/>
              <p:nvPr/>
            </p:nvSpPr>
            <p:spPr>
              <a:xfrm>
                <a:off x="928800" y="1874880"/>
                <a:ext cx="2289240" cy="1136520"/>
              </a:xfrm>
              <a:prstGeom prst="rect">
                <a:avLst/>
              </a:prstGeom>
              <a:solidFill>
                <a:srgbClr val="3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3" name=""/>
              <p:cNvSpPr/>
              <p:nvPr/>
            </p:nvSpPr>
            <p:spPr>
              <a:xfrm>
                <a:off x="995400" y="1809720"/>
                <a:ext cx="2289240" cy="1136520"/>
              </a:xfrm>
              <a:prstGeom prst="rect">
                <a:avLst/>
              </a:prstGeom>
              <a:solidFill>
                <a:srgbClr val="bfdfff"/>
              </a:solidFill>
              <a:ln w="12600">
                <a:solidFill>
                  <a:srgbClr val="ff00ff"/>
                </a:solidFill>
                <a:round/>
              </a:ln>
            </p:spPr>
            <p:txBody>
              <a:bodyPr lIns="96120" rIns="96120" tIns="51120" bIns="51120" anchor="t">
                <a:noAutofit/>
              </a:bodyPr>
              <a:p>
                <a:endParaRPr b="0" lang="en-US" sz="1800" spc="-1" strike="noStrike">
                  <a:solidFill>
                    <a:srgbClr val="000000"/>
                  </a:solidFill>
                  <a:latin typeface="Arial"/>
                </a:endParaRPr>
              </a:p>
            </p:txBody>
          </p:sp>
          <p:sp>
            <p:nvSpPr>
              <p:cNvPr id="94" name=""/>
              <p:cNvSpPr txBox="1"/>
              <p:nvPr/>
            </p:nvSpPr>
            <p:spPr>
              <a:xfrm>
                <a:off x="1741320" y="2222640"/>
                <a:ext cx="792000" cy="347760"/>
              </a:xfrm>
              <a:prstGeom prst="rect">
                <a:avLst/>
              </a:prstGeom>
              <a:noFill/>
              <a:ln w="0">
                <a:noFill/>
              </a:ln>
            </p:spPr>
            <p:txBody>
              <a:bodyPr lIns="0" rIns="0" tIns="0" bIns="0" anchor="t">
                <a:noAutofit/>
              </a:bodyPr>
              <a:p>
                <a:pPr>
                  <a:lnSpc>
                    <a:spcPct val="100000"/>
                  </a:lnSpc>
                </a:pPr>
                <a:r>
                  <a:rPr b="1" lang="en-US" sz="1700" spc="-1" strike="noStrike">
                    <a:solidFill>
                      <a:srgbClr val="000000"/>
                    </a:solidFill>
                    <a:latin typeface="Arial"/>
                    <a:ea typeface="Arial"/>
                  </a:rPr>
                  <a:t>CASH</a:t>
                </a:r>
                <a:endParaRPr b="0" lang="en-US" sz="1700" spc="-1" strike="noStrike">
                  <a:solidFill>
                    <a:srgbClr val="ffffff"/>
                  </a:solidFill>
                  <a:latin typeface="Arial"/>
                </a:endParaRPr>
              </a:p>
            </p:txBody>
          </p:sp>
        </p:grpSp>
        <p:grpSp>
          <p:nvGrpSpPr>
            <p:cNvPr id="95" name=""/>
            <p:cNvGrpSpPr/>
            <p:nvPr/>
          </p:nvGrpSpPr>
          <p:grpSpPr>
            <a:xfrm>
              <a:off x="3630600" y="1790640"/>
              <a:ext cx="2359080" cy="1233720"/>
              <a:chOff x="3630600" y="1790640"/>
              <a:chExt cx="2359080" cy="1233720"/>
            </a:xfrm>
          </p:grpSpPr>
          <p:grpSp>
            <p:nvGrpSpPr>
              <p:cNvPr id="96" name=""/>
              <p:cNvGrpSpPr/>
              <p:nvPr/>
            </p:nvGrpSpPr>
            <p:grpSpPr>
              <a:xfrm>
                <a:off x="3630600" y="1790640"/>
                <a:ext cx="2359080" cy="1233720"/>
                <a:chOff x="3630600" y="1790640"/>
                <a:chExt cx="2359080" cy="1233720"/>
              </a:xfrm>
            </p:grpSpPr>
            <p:sp>
              <p:nvSpPr>
                <p:cNvPr id="97" name=""/>
                <p:cNvSpPr/>
                <p:nvPr/>
              </p:nvSpPr>
              <p:spPr>
                <a:xfrm>
                  <a:off x="3630600" y="1855800"/>
                  <a:ext cx="2292480" cy="1168560"/>
                </a:xfrm>
                <a:prstGeom prst="rect">
                  <a:avLst/>
                </a:prstGeom>
                <a:solidFill>
                  <a:srgbClr val="3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8" name=""/>
                <p:cNvSpPr/>
                <p:nvPr/>
              </p:nvSpPr>
              <p:spPr>
                <a:xfrm>
                  <a:off x="3697200" y="1790640"/>
                  <a:ext cx="2292480" cy="1168560"/>
                </a:xfrm>
                <a:prstGeom prst="rect">
                  <a:avLst/>
                </a:prstGeom>
                <a:solidFill>
                  <a:srgbClr val="ffbfbf"/>
                </a:solidFill>
                <a:ln w="12600">
                  <a:solidFill>
                    <a:srgbClr val="ff00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99" name=""/>
              <p:cNvSpPr txBox="1"/>
              <p:nvPr/>
            </p:nvSpPr>
            <p:spPr>
              <a:xfrm>
                <a:off x="4172040" y="2084400"/>
                <a:ext cx="1405080" cy="606600"/>
              </a:xfrm>
              <a:prstGeom prst="rect">
                <a:avLst/>
              </a:prstGeom>
              <a:noFill/>
              <a:ln w="0">
                <a:noFill/>
              </a:ln>
            </p:spPr>
            <p:txBody>
              <a:bodyPr lIns="0" rIns="0" tIns="0" bIns="0" anchor="t">
                <a:noAutofit/>
              </a:bodyPr>
              <a:p>
                <a:pPr>
                  <a:lnSpc>
                    <a:spcPct val="100000"/>
                  </a:lnSpc>
                </a:pPr>
                <a:r>
                  <a:rPr b="1" lang="en-US" sz="1700" spc="-1" strike="noStrike">
                    <a:solidFill>
                      <a:srgbClr val="000000"/>
                    </a:solidFill>
                    <a:latin typeface="Arial"/>
                    <a:ea typeface="Arial"/>
                  </a:rPr>
                  <a:t>ACCOUNTS</a:t>
                </a:r>
                <a:endParaRPr b="0" lang="en-US" sz="1700" spc="-1" strike="noStrike">
                  <a:solidFill>
                    <a:srgbClr val="ffffff"/>
                  </a:solidFill>
                  <a:latin typeface="Arial"/>
                </a:endParaRPr>
              </a:p>
              <a:p>
                <a:pPr>
                  <a:lnSpc>
                    <a:spcPct val="100000"/>
                  </a:lnSpc>
                </a:pPr>
                <a:r>
                  <a:rPr b="1" lang="en-US" sz="1700" spc="-1" strike="noStrike">
                    <a:solidFill>
                      <a:srgbClr val="000000"/>
                    </a:solidFill>
                    <a:latin typeface="Arial"/>
                    <a:ea typeface="Arial"/>
                  </a:rPr>
                  <a:t> </a:t>
                </a:r>
                <a:r>
                  <a:rPr b="1" lang="en-US" sz="1700" spc="-1" strike="noStrike">
                    <a:solidFill>
                      <a:srgbClr val="000000"/>
                    </a:solidFill>
                    <a:latin typeface="Arial"/>
                    <a:ea typeface="Arial"/>
                  </a:rPr>
                  <a:t>PAYABLE</a:t>
                </a:r>
                <a:endParaRPr b="0" lang="en-US" sz="1700" spc="-1" strike="noStrike">
                  <a:solidFill>
                    <a:srgbClr val="ffffff"/>
                  </a:solidFill>
                  <a:latin typeface="Arial"/>
                </a:endParaRPr>
              </a:p>
            </p:txBody>
          </p:sp>
        </p:grpSp>
        <p:grpSp>
          <p:nvGrpSpPr>
            <p:cNvPr id="100" name=""/>
            <p:cNvGrpSpPr/>
            <p:nvPr/>
          </p:nvGrpSpPr>
          <p:grpSpPr>
            <a:xfrm>
              <a:off x="6345360" y="1784520"/>
              <a:ext cx="2355840" cy="1260360"/>
              <a:chOff x="6345360" y="1784520"/>
              <a:chExt cx="2355840" cy="1260360"/>
            </a:xfrm>
          </p:grpSpPr>
          <p:sp>
            <p:nvSpPr>
              <p:cNvPr id="101" name=""/>
              <p:cNvSpPr/>
              <p:nvPr/>
            </p:nvSpPr>
            <p:spPr>
              <a:xfrm>
                <a:off x="6345360" y="1852560"/>
                <a:ext cx="2287440" cy="1192320"/>
              </a:xfrm>
              <a:prstGeom prst="rect">
                <a:avLst/>
              </a:prstGeom>
              <a:solidFill>
                <a:srgbClr val="3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2" name=""/>
              <p:cNvSpPr/>
              <p:nvPr/>
            </p:nvSpPr>
            <p:spPr>
              <a:xfrm>
                <a:off x="6411960" y="1784520"/>
                <a:ext cx="2289240" cy="1176480"/>
              </a:xfrm>
              <a:prstGeom prst="rect">
                <a:avLst/>
              </a:prstGeom>
              <a:solidFill>
                <a:srgbClr val="bfdfff"/>
              </a:solidFill>
              <a:ln w="12600">
                <a:solidFill>
                  <a:srgbClr val="ff00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03" name=""/>
              <p:cNvGrpSpPr/>
              <p:nvPr/>
            </p:nvGrpSpPr>
            <p:grpSpPr>
              <a:xfrm>
                <a:off x="6729480" y="2087640"/>
                <a:ext cx="1787400" cy="585720"/>
                <a:chOff x="6729480" y="2087640"/>
                <a:chExt cx="1787400" cy="585720"/>
              </a:xfrm>
            </p:grpSpPr>
            <p:sp>
              <p:nvSpPr>
                <p:cNvPr id="104" name=""/>
                <p:cNvSpPr txBox="1"/>
                <p:nvPr/>
              </p:nvSpPr>
              <p:spPr>
                <a:xfrm>
                  <a:off x="6729480" y="2087640"/>
                  <a:ext cx="1787400" cy="347760"/>
                </a:xfrm>
                <a:prstGeom prst="rect">
                  <a:avLst/>
                </a:prstGeom>
                <a:noFill/>
                <a:ln w="0">
                  <a:noFill/>
                </a:ln>
              </p:spPr>
              <p:txBody>
                <a:bodyPr lIns="0" rIns="0" tIns="0" bIns="0" anchor="t">
                  <a:noAutofit/>
                </a:bodyPr>
                <a:p>
                  <a:pPr>
                    <a:lnSpc>
                      <a:spcPct val="100000"/>
                    </a:lnSpc>
                  </a:pPr>
                  <a:r>
                    <a:rPr b="1" lang="en-US" sz="1700" spc="-1" strike="noStrike">
                      <a:solidFill>
                        <a:srgbClr val="000000"/>
                      </a:solidFill>
                      <a:latin typeface="Arial"/>
                      <a:ea typeface="Arial"/>
                    </a:rPr>
                    <a:t>MERCHANDISE</a:t>
                  </a:r>
                  <a:endParaRPr b="0" lang="en-US" sz="1700" spc="-1" strike="noStrike">
                    <a:solidFill>
                      <a:srgbClr val="ffffff"/>
                    </a:solidFill>
                    <a:latin typeface="Arial"/>
                  </a:endParaRPr>
                </a:p>
              </p:txBody>
            </p:sp>
            <p:sp>
              <p:nvSpPr>
                <p:cNvPr id="105" name=""/>
                <p:cNvSpPr txBox="1"/>
                <p:nvPr/>
              </p:nvSpPr>
              <p:spPr>
                <a:xfrm>
                  <a:off x="6907320" y="2325600"/>
                  <a:ext cx="1440000" cy="347760"/>
                </a:xfrm>
                <a:prstGeom prst="rect">
                  <a:avLst/>
                </a:prstGeom>
                <a:noFill/>
                <a:ln w="0">
                  <a:noFill/>
                </a:ln>
              </p:spPr>
              <p:txBody>
                <a:bodyPr lIns="0" rIns="0" tIns="0" bIns="0" anchor="t">
                  <a:noAutofit/>
                </a:bodyPr>
                <a:p>
                  <a:pPr>
                    <a:lnSpc>
                      <a:spcPct val="100000"/>
                    </a:lnSpc>
                  </a:pPr>
                  <a:r>
                    <a:rPr b="1" lang="en-US" sz="1700" spc="-1" strike="noStrike">
                      <a:solidFill>
                        <a:srgbClr val="000000"/>
                      </a:solidFill>
                      <a:latin typeface="Arial"/>
                      <a:ea typeface="Arial"/>
                    </a:rPr>
                    <a:t>INVENTORY</a:t>
                  </a:r>
                  <a:endParaRPr b="0" lang="en-US" sz="1700" spc="-1" strike="noStrike">
                    <a:solidFill>
                      <a:srgbClr val="ffffff"/>
                    </a:solidFill>
                    <a:latin typeface="Arial"/>
                  </a:endParaRPr>
                </a:p>
              </p:txBody>
            </p:sp>
          </p:grpSp>
        </p:grpSp>
        <p:sp>
          <p:nvSpPr>
            <p:cNvPr id="106" name=""/>
            <p:cNvSpPr txBox="1"/>
            <p:nvPr/>
          </p:nvSpPr>
          <p:spPr>
            <a:xfrm>
              <a:off x="3032280" y="1150920"/>
              <a:ext cx="1081080" cy="606600"/>
            </a:xfrm>
            <a:prstGeom prst="rect">
              <a:avLst/>
            </a:prstGeom>
            <a:noFill/>
            <a:ln w="0">
              <a:noFill/>
            </a:ln>
          </p:spPr>
          <p:txBody>
            <a:bodyPr lIns="0" rIns="0" tIns="0" bIns="0" anchor="t">
              <a:noAutofit/>
            </a:bodyPr>
            <a:p>
              <a:pPr>
                <a:lnSpc>
                  <a:spcPct val="100000"/>
                </a:lnSpc>
              </a:pPr>
              <a:r>
                <a:rPr b="1" lang="en-US" sz="1700" spc="-1" strike="noStrike">
                  <a:solidFill>
                    <a:srgbClr val="000000"/>
                  </a:solidFill>
                  <a:latin typeface="Arial"/>
                  <a:ea typeface="Arial"/>
                </a:rPr>
                <a:t>Payment</a:t>
              </a:r>
              <a:endParaRPr b="0" lang="en-US" sz="1700" spc="-1" strike="noStrike">
                <a:solidFill>
                  <a:srgbClr val="ffffff"/>
                </a:solidFill>
                <a:latin typeface="Arial"/>
              </a:endParaRPr>
            </a:p>
            <a:p>
              <a:pPr>
                <a:lnSpc>
                  <a:spcPct val="100000"/>
                </a:lnSpc>
              </a:pPr>
              <a:r>
                <a:rPr b="1" lang="en-US" sz="1700" spc="-1" strike="noStrike">
                  <a:solidFill>
                    <a:srgbClr val="000000"/>
                  </a:solidFill>
                  <a:latin typeface="Arial"/>
                  <a:ea typeface="Arial"/>
                </a:rPr>
                <a:t> </a:t>
              </a:r>
              <a:r>
                <a:rPr b="1" lang="en-US" sz="1700" spc="-1" strike="noStrike">
                  <a:solidFill>
                    <a:srgbClr val="000000"/>
                  </a:solidFill>
                  <a:latin typeface="Arial"/>
                  <a:ea typeface="Arial"/>
                </a:rPr>
                <a:t>of cash</a:t>
              </a:r>
              <a:endParaRPr b="0" lang="en-US" sz="1700" spc="-1" strike="noStrike">
                <a:solidFill>
                  <a:srgbClr val="ffffff"/>
                </a:solidFill>
                <a:latin typeface="Arial"/>
              </a:endParaRPr>
            </a:p>
          </p:txBody>
        </p:sp>
        <p:sp>
          <p:nvSpPr>
            <p:cNvPr id="107" name=""/>
            <p:cNvSpPr txBox="1"/>
            <p:nvPr/>
          </p:nvSpPr>
          <p:spPr>
            <a:xfrm>
              <a:off x="5813280" y="1165320"/>
              <a:ext cx="1152360" cy="606600"/>
            </a:xfrm>
            <a:prstGeom prst="rect">
              <a:avLst/>
            </a:prstGeom>
            <a:noFill/>
            <a:ln w="0">
              <a:noFill/>
            </a:ln>
          </p:spPr>
          <p:txBody>
            <a:bodyPr lIns="0" rIns="0" tIns="0" bIns="0" anchor="t">
              <a:noAutofit/>
            </a:bodyPr>
            <a:p>
              <a:pPr>
                <a:lnSpc>
                  <a:spcPct val="100000"/>
                </a:lnSpc>
              </a:pPr>
              <a:r>
                <a:rPr b="1" lang="en-US" sz="1700" spc="-1" strike="noStrike">
                  <a:solidFill>
                    <a:srgbClr val="000000"/>
                  </a:solidFill>
                  <a:latin typeface="Arial"/>
                  <a:ea typeface="Arial"/>
                </a:rPr>
                <a:t>Purchase</a:t>
              </a:r>
              <a:endParaRPr b="0" lang="en-US" sz="1700" spc="-1" strike="noStrike">
                <a:solidFill>
                  <a:srgbClr val="ffffff"/>
                </a:solidFill>
                <a:latin typeface="Arial"/>
              </a:endParaRPr>
            </a:p>
            <a:p>
              <a:pPr>
                <a:lnSpc>
                  <a:spcPct val="100000"/>
                </a:lnSpc>
              </a:pPr>
              <a:r>
                <a:rPr b="1" lang="en-US" sz="1700" spc="-1" strike="noStrike">
                  <a:solidFill>
                    <a:srgbClr val="000000"/>
                  </a:solidFill>
                  <a:latin typeface="Arial"/>
                  <a:ea typeface="Arial"/>
                </a:rPr>
                <a:t>on credit</a:t>
              </a:r>
              <a:endParaRPr b="0" lang="en-US" sz="17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36" name=""/>
          <p:cNvSpPr txBox="1"/>
          <p:nvPr/>
        </p:nvSpPr>
        <p:spPr>
          <a:xfrm>
            <a:off x="571680" y="647640"/>
            <a:ext cx="8559720" cy="19051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Accounting for Discounts</a:t>
            </a:r>
            <a:endParaRPr b="0" lang="en-US" sz="4400" spc="-1" strike="noStrike">
              <a:solidFill>
                <a:srgbClr val="ffffff"/>
              </a:solidFill>
              <a:latin typeface="Arial"/>
            </a:endParaRPr>
          </a:p>
        </p:txBody>
      </p:sp>
      <p:sp>
        <p:nvSpPr>
          <p:cNvPr id="537" name=""/>
          <p:cNvSpPr txBox="1"/>
          <p:nvPr/>
        </p:nvSpPr>
        <p:spPr>
          <a:xfrm>
            <a:off x="1066680" y="2362320"/>
            <a:ext cx="7543800" cy="247644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
            </a:pPr>
            <a:r>
              <a:rPr b="1" lang="en-US" sz="3600" spc="-1" strike="noStrike">
                <a:solidFill>
                  <a:srgbClr val="fcffd8"/>
                </a:solidFill>
                <a:latin typeface="Arial"/>
                <a:ea typeface="Arial"/>
              </a:rPr>
              <a:t>SUPPLEMENTAL OBJECTIVE 7</a:t>
            </a:r>
            <a:endParaRPr b="0" lang="en-US" sz="3600" spc="-1" strike="noStrike">
              <a:solidFill>
                <a:srgbClr val="ffffff"/>
              </a:solidFill>
              <a:latin typeface="Arial"/>
            </a:endParaRPr>
          </a:p>
          <a:p>
            <a:pPr marL="343080" indent="-343080">
              <a:lnSpc>
                <a:spcPct val="110000"/>
              </a:lnSpc>
              <a:spcBef>
                <a:spcPts val="479"/>
              </a:spcBef>
              <a:buClr>
                <a:srgbClr val="ffcc66"/>
              </a:buClr>
              <a:buFont typeface="Monotype Sorts"/>
              <a:buChar char=" "/>
            </a:pPr>
            <a:r>
              <a:rPr b="1" lang="en-US" sz="3200" spc="-1" strike="noStrike">
                <a:solidFill>
                  <a:srgbClr val="fcffd8"/>
                </a:solidFill>
                <a:latin typeface="Arial"/>
                <a:ea typeface="Arial"/>
              </a:rPr>
              <a:t>Apply sales and purchases discounts to merchandising transactions.</a:t>
            </a:r>
            <a:endParaRPr b="0" lang="en-US" sz="3200" spc="-1" strike="noStrike">
              <a:solidFill>
                <a:srgbClr val="ffffff"/>
              </a:solidFill>
              <a:latin typeface="Arial"/>
            </a:endParaRPr>
          </a:p>
        </p:txBody>
      </p:sp>
      <p:pic>
        <p:nvPicPr>
          <p:cNvPr id="538" name="" descr=""/>
          <p:cNvPicPr/>
          <p:nvPr/>
        </p:nvPicPr>
        <p:blipFill>
          <a:blip r:embed="rId1"/>
          <a:stretch/>
        </p:blipFill>
        <p:spPr>
          <a:xfrm>
            <a:off x="0" y="0"/>
            <a:ext cx="812880" cy="69850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39" name=""/>
          <p:cNvSpPr txBox="1"/>
          <p:nvPr/>
        </p:nvSpPr>
        <p:spPr>
          <a:xfrm>
            <a:off x="990720" y="0"/>
            <a:ext cx="7696080" cy="9144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ales Discounts</a:t>
            </a:r>
            <a:endParaRPr b="0" lang="en-US" sz="4400" spc="-1" strike="noStrike">
              <a:solidFill>
                <a:srgbClr val="ffffff"/>
              </a:solidFill>
              <a:latin typeface="Arial"/>
            </a:endParaRPr>
          </a:p>
        </p:txBody>
      </p:sp>
      <p:sp>
        <p:nvSpPr>
          <p:cNvPr id="540" name=""/>
          <p:cNvSpPr txBox="1"/>
          <p:nvPr/>
        </p:nvSpPr>
        <p:spPr>
          <a:xfrm>
            <a:off x="685800" y="762120"/>
            <a:ext cx="8381880" cy="51055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Sales discounts may be given for early payment from credit customers.</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Discount terms are typically stated as 2/10, n/60.</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eb9"/>
                </a:solidFill>
                <a:latin typeface="Arial"/>
                <a:ea typeface="Arial"/>
              </a:rPr>
              <a:t>where:</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2 is the % discount available.</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10 is the discount period in days.</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n/60 if discount not taken, then the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full invoice amount is due in 60 days.</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Thus, if payment is received within 10 days then the customer can take a 2% discount and satisfy the A/R with 98%.</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41" name=""/>
          <p:cNvSpPr txBox="1"/>
          <p:nvPr/>
        </p:nvSpPr>
        <p:spPr>
          <a:xfrm>
            <a:off x="790560" y="3808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ales Discounts</a:t>
            </a:r>
            <a:endParaRPr b="0" lang="en-US" sz="4400" spc="-1" strike="noStrike">
              <a:solidFill>
                <a:srgbClr val="ffffff"/>
              </a:solidFill>
              <a:latin typeface="Arial"/>
            </a:endParaRPr>
          </a:p>
        </p:txBody>
      </p:sp>
      <p:sp>
        <p:nvSpPr>
          <p:cNvPr id="542" name=""/>
          <p:cNvSpPr txBox="1"/>
          <p:nvPr/>
        </p:nvSpPr>
        <p:spPr>
          <a:xfrm>
            <a:off x="457200" y="1371600"/>
            <a:ext cx="8610480" cy="4876920"/>
          </a:xfrm>
          <a:prstGeom prst="rect">
            <a:avLst/>
          </a:prstGeom>
          <a:noFill/>
          <a:ln w="0">
            <a:noFill/>
          </a:ln>
        </p:spPr>
        <p:txBody>
          <a:bodyPr lIns="0" rIns="0" tIns="0" bIns="0" anchor="t">
            <a:noAutofit/>
          </a:bodyPr>
          <a:p>
            <a:pPr marL="343080" indent="-343080">
              <a:lnSpc>
                <a:spcPct val="12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Example: A company sells merchandise on September 20 for $300, with terms of 2/10, n/60.</a:t>
            </a:r>
            <a:endParaRPr b="0" lang="en-US" sz="3200" spc="-1" strike="noStrike">
              <a:solidFill>
                <a:srgbClr val="ffffff"/>
              </a:solidFill>
              <a:latin typeface="Arial"/>
            </a:endParaRPr>
          </a:p>
          <a:p>
            <a:pPr marL="343080" indent="-343080">
              <a:lnSpc>
                <a:spcPct val="12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Day of sale:</a:t>
            </a:r>
            <a:endParaRPr b="0" lang="en-US" sz="3200" spc="-1" strike="noStrike">
              <a:solidFill>
                <a:srgbClr val="ffffff"/>
              </a:solidFill>
              <a:latin typeface="Arial"/>
            </a:endParaRPr>
          </a:p>
          <a:p>
            <a:pPr marL="343080" indent="-343080">
              <a:lnSpc>
                <a:spcPct val="12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2800" spc="-1" strike="noStrike">
                <a:solidFill>
                  <a:srgbClr val="fcffd8"/>
                </a:solidFill>
                <a:latin typeface="Arial"/>
                <a:ea typeface="Arial"/>
              </a:rPr>
              <a:t>Accounts Receivable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300</a:t>
            </a:r>
            <a:endParaRPr b="0" lang="en-US" sz="2800" spc="-1" strike="noStrike">
              <a:solidFill>
                <a:srgbClr val="ffffff"/>
              </a:solidFill>
              <a:latin typeface="Arial"/>
            </a:endParaRPr>
          </a:p>
          <a:p>
            <a:pPr marL="343080" indent="-343080">
              <a:lnSpc>
                <a:spcPct val="12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Sales</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300</a:t>
            </a:r>
            <a:endParaRPr b="0" lang="en-US" sz="2800" spc="-1" strike="noStrike">
              <a:solidFill>
                <a:srgbClr val="ffffff"/>
              </a:solidFill>
              <a:latin typeface="Arial"/>
            </a:endParaRPr>
          </a:p>
          <a:p>
            <a:pPr marL="343080" indent="-343080">
              <a:lnSpc>
                <a:spcPct val="12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eb9"/>
                </a:solidFill>
                <a:latin typeface="Arial"/>
                <a:ea typeface="Arial"/>
              </a:rPr>
              <a:t>To record sale of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merchandise on cred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43" name=""/>
          <p:cNvSpPr txBox="1"/>
          <p:nvPr/>
        </p:nvSpPr>
        <p:spPr>
          <a:xfrm>
            <a:off x="990720" y="380880"/>
            <a:ext cx="7772400" cy="9144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ales Discounts</a:t>
            </a:r>
            <a:endParaRPr b="0" lang="en-US" sz="4400" spc="-1" strike="noStrike">
              <a:solidFill>
                <a:srgbClr val="ffffff"/>
              </a:solidFill>
              <a:latin typeface="Arial"/>
            </a:endParaRPr>
          </a:p>
        </p:txBody>
      </p:sp>
      <p:sp>
        <p:nvSpPr>
          <p:cNvPr id="544" name=""/>
          <p:cNvSpPr txBox="1"/>
          <p:nvPr/>
        </p:nvSpPr>
        <p:spPr>
          <a:xfrm>
            <a:off x="762120" y="1219320"/>
            <a:ext cx="8305920" cy="4876920"/>
          </a:xfrm>
          <a:prstGeom prst="rect">
            <a:avLst/>
          </a:prstGeom>
          <a:noFill/>
          <a:ln w="0">
            <a:noFill/>
          </a:ln>
        </p:spPr>
        <p:txBody>
          <a:bodyPr lIns="0" rIns="0" tIns="0" bIns="0" anchor="t">
            <a:noAutofit/>
          </a:bodyPr>
          <a:p>
            <a:pPr marL="343080" indent="-343080">
              <a:lnSpc>
                <a:spcPct val="110000"/>
              </a:lnSpc>
              <a:spcBef>
                <a:spcPts val="479"/>
              </a:spcBef>
            </a:pPr>
            <a:r>
              <a:rPr b="1" lang="en-US" sz="3200" spc="-1" strike="noStrike">
                <a:solidFill>
                  <a:srgbClr val="fcffd8"/>
                </a:solidFill>
                <a:latin typeface="Arial"/>
                <a:ea typeface="Arial"/>
              </a:rPr>
              <a:t>Payment made on September 29:</a:t>
            </a:r>
            <a:endParaRPr b="0" lang="en-US" sz="3200" spc="-1" strike="noStrike">
              <a:solidFill>
                <a:srgbClr val="ffffff"/>
              </a:solidFill>
              <a:latin typeface="Arial"/>
            </a:endParaRPr>
          </a:p>
          <a:p>
            <a:pPr marL="343080" indent="-343080">
              <a:lnSpc>
                <a:spcPct val="110000"/>
              </a:lnSpc>
              <a:spcBef>
                <a:spcPts val="479"/>
              </a:spcBef>
            </a:pPr>
            <a:r>
              <a:rPr b="1" lang="en-US" sz="3200" spc="-1" strike="noStrike">
                <a:solidFill>
                  <a:srgbClr val="fcffd8"/>
                </a:solidFill>
                <a:latin typeface="Arial"/>
                <a:ea typeface="Arial"/>
              </a:rPr>
              <a:t>	</a:t>
            </a:r>
            <a:r>
              <a:rPr b="1" lang="en-US" sz="2800" spc="-1" strike="noStrike">
                <a:solidFill>
                  <a:srgbClr val="fcffd8"/>
                </a:solidFill>
                <a:latin typeface="Arial"/>
                <a:ea typeface="Arial"/>
              </a:rPr>
              <a:t>Cash</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294</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Sales Discounts</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6</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Accounts Receivable</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300</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eb9"/>
                </a:solidFill>
                <a:latin typeface="Arial"/>
                <a:ea typeface="Arial"/>
              </a:rPr>
              <a:t>Customer payment within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discount period</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 Sales Discount account is a contra-revenue account and is deducted from gross sales on the income stat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45" name=""/>
          <p:cNvSpPr txBox="1"/>
          <p:nvPr/>
        </p:nvSpPr>
        <p:spPr>
          <a:xfrm>
            <a:off x="990720" y="380880"/>
            <a:ext cx="7696080" cy="9144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ales Discounts</a:t>
            </a:r>
            <a:endParaRPr b="0" lang="en-US" sz="4400" spc="-1" strike="noStrike">
              <a:solidFill>
                <a:srgbClr val="ffffff"/>
              </a:solidFill>
              <a:latin typeface="Arial"/>
            </a:endParaRPr>
          </a:p>
        </p:txBody>
      </p:sp>
      <p:sp>
        <p:nvSpPr>
          <p:cNvPr id="546" name=""/>
          <p:cNvSpPr txBox="1"/>
          <p:nvPr/>
        </p:nvSpPr>
        <p:spPr>
          <a:xfrm>
            <a:off x="914400" y="1219320"/>
            <a:ext cx="7772400" cy="5029200"/>
          </a:xfrm>
          <a:prstGeom prst="rect">
            <a:avLst/>
          </a:prstGeom>
          <a:noFill/>
          <a:ln w="0">
            <a:noFill/>
          </a:ln>
        </p:spPr>
        <p:txBody>
          <a:bodyPr lIns="0" rIns="0" tIns="0" bIns="0" anchor="t">
            <a:noAutofit/>
          </a:bodyPr>
          <a:p>
            <a:pPr marL="343080" indent="-343080">
              <a:lnSpc>
                <a:spcPct val="11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Payment made after the discount period on November 19:</a:t>
            </a:r>
            <a:endParaRPr b="0" lang="en-US" sz="3200" spc="-1" strike="noStrike">
              <a:solidFill>
                <a:srgbClr val="ffffff"/>
              </a:solidFill>
              <a:latin typeface="Arial"/>
            </a:endParaRPr>
          </a:p>
          <a:p>
            <a:pPr marL="343080" indent="-343080">
              <a:lnSpc>
                <a:spcPct val="110000"/>
              </a:lnSpc>
              <a:spcBef>
                <a:spcPts val="479"/>
              </a:spcBef>
            </a:pPr>
            <a:r>
              <a:rPr b="1" lang="en-US" sz="3200" spc="-1" strike="noStrike">
                <a:solidFill>
                  <a:srgbClr val="fcffd8"/>
                </a:solidFill>
                <a:latin typeface="Arial"/>
                <a:ea typeface="Arial"/>
              </a:rPr>
              <a:t>	</a:t>
            </a:r>
            <a:r>
              <a:rPr b="1" lang="en-US" sz="2800" spc="-1" strike="noStrike">
                <a:solidFill>
                  <a:srgbClr val="fcffd8"/>
                </a:solidFill>
                <a:latin typeface="Arial"/>
                <a:ea typeface="Arial"/>
              </a:rPr>
              <a:t>Cash</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300</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Accounts Receivable</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300</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eb9"/>
                </a:solidFill>
                <a:latin typeface="Arial"/>
                <a:ea typeface="Arial"/>
              </a:rPr>
              <a:t>Customer payment after</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discount period</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Since the discount period (10 days) has passed the customer must pay the full amou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47" name=""/>
          <p:cNvSpPr txBox="1"/>
          <p:nvPr/>
        </p:nvSpPr>
        <p:spPr>
          <a:xfrm>
            <a:off x="1066680" y="609480"/>
            <a:ext cx="7620120" cy="9907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Purchase Discounts</a:t>
            </a:r>
            <a:endParaRPr b="0" lang="en-US" sz="4400" spc="-1" strike="noStrike">
              <a:solidFill>
                <a:srgbClr val="ffffff"/>
              </a:solidFill>
              <a:latin typeface="Arial"/>
            </a:endParaRPr>
          </a:p>
        </p:txBody>
      </p:sp>
      <p:sp>
        <p:nvSpPr>
          <p:cNvPr id="548" name=""/>
          <p:cNvSpPr txBox="1"/>
          <p:nvPr/>
        </p:nvSpPr>
        <p:spPr>
          <a:xfrm>
            <a:off x="914400" y="1676520"/>
            <a:ext cx="7848720" cy="38862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Purchase discounts are discounts taken for early payment for merchandise purchased for resale on credit.</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y are to the buyer what sales discounts are to the sell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49" name=""/>
          <p:cNvSpPr txBox="1"/>
          <p:nvPr/>
        </p:nvSpPr>
        <p:spPr>
          <a:xfrm>
            <a:off x="990720" y="380880"/>
            <a:ext cx="7772400" cy="9907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Purchase Discounts</a:t>
            </a:r>
            <a:endParaRPr b="0" lang="en-US" sz="4400" spc="-1" strike="noStrike">
              <a:solidFill>
                <a:srgbClr val="ffffff"/>
              </a:solidFill>
              <a:latin typeface="Arial"/>
            </a:endParaRPr>
          </a:p>
        </p:txBody>
      </p:sp>
      <p:sp>
        <p:nvSpPr>
          <p:cNvPr id="550" name=""/>
          <p:cNvSpPr txBox="1"/>
          <p:nvPr/>
        </p:nvSpPr>
        <p:spPr>
          <a:xfrm>
            <a:off x="533520" y="1219320"/>
            <a:ext cx="8381880" cy="4991040"/>
          </a:xfrm>
          <a:prstGeom prst="rect">
            <a:avLst/>
          </a:prstGeom>
          <a:noFill/>
          <a:ln w="0">
            <a:noFill/>
          </a:ln>
        </p:spPr>
        <p:txBody>
          <a:bodyPr lIns="0" rIns="0" tIns="0" bIns="0" anchor="t">
            <a:noAutofit/>
          </a:bodyPr>
          <a:p>
            <a:pPr marL="343080" indent="-343080">
              <a:lnSpc>
                <a:spcPct val="12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Example: A company purchases merchandise on September 20 for $300, on terms of 2/10, n/60.</a:t>
            </a:r>
            <a:endParaRPr b="0" lang="en-US" sz="3200" spc="-1" strike="noStrike">
              <a:solidFill>
                <a:srgbClr val="ffffff"/>
              </a:solidFill>
              <a:latin typeface="Arial"/>
            </a:endParaRPr>
          </a:p>
          <a:p>
            <a:pPr marL="343080" indent="-343080">
              <a:lnSpc>
                <a:spcPct val="12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Day of purchase:</a:t>
            </a:r>
            <a:endParaRPr b="0" lang="en-US" sz="3200" spc="-1" strike="noStrike">
              <a:solidFill>
                <a:srgbClr val="ffffff"/>
              </a:solidFill>
              <a:latin typeface="Arial"/>
            </a:endParaRPr>
          </a:p>
          <a:p>
            <a:pPr marL="343080" indent="-343080">
              <a:lnSpc>
                <a:spcPct val="12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2800" spc="-1" strike="noStrike">
                <a:solidFill>
                  <a:srgbClr val="fcffd8"/>
                </a:solidFill>
                <a:latin typeface="Arial"/>
                <a:ea typeface="Arial"/>
              </a:rPr>
              <a:t>Purchases</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300</a:t>
            </a:r>
            <a:endParaRPr b="0" lang="en-US" sz="2800" spc="-1" strike="noStrike">
              <a:solidFill>
                <a:srgbClr val="ffffff"/>
              </a:solidFill>
              <a:latin typeface="Arial"/>
            </a:endParaRPr>
          </a:p>
          <a:p>
            <a:pPr marL="343080" indent="-343080">
              <a:lnSpc>
                <a:spcPct val="12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Accounts Payable</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300</a:t>
            </a:r>
            <a:endParaRPr b="0" lang="en-US" sz="2800" spc="-1" strike="noStrike">
              <a:solidFill>
                <a:srgbClr val="ffffff"/>
              </a:solidFill>
              <a:latin typeface="Arial"/>
            </a:endParaRPr>
          </a:p>
          <a:p>
            <a:pPr marL="343080" indent="-343080">
              <a:lnSpc>
                <a:spcPct val="12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eb9"/>
                </a:solidFill>
                <a:latin typeface="Arial"/>
                <a:ea typeface="Arial"/>
              </a:rPr>
              <a:t>To record purchase of</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merchandise on cred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51" name=""/>
          <p:cNvSpPr txBox="1"/>
          <p:nvPr/>
        </p:nvSpPr>
        <p:spPr>
          <a:xfrm>
            <a:off x="1523880" y="76320"/>
            <a:ext cx="6629400" cy="9144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Purchase Discounts</a:t>
            </a:r>
            <a:endParaRPr b="0" lang="en-US" sz="4400" spc="-1" strike="noStrike">
              <a:solidFill>
                <a:srgbClr val="ffffff"/>
              </a:solidFill>
              <a:latin typeface="Arial"/>
            </a:endParaRPr>
          </a:p>
        </p:txBody>
      </p:sp>
      <p:sp>
        <p:nvSpPr>
          <p:cNvPr id="552" name=""/>
          <p:cNvSpPr txBox="1"/>
          <p:nvPr/>
        </p:nvSpPr>
        <p:spPr>
          <a:xfrm>
            <a:off x="762120" y="838080"/>
            <a:ext cx="8153280" cy="5054760"/>
          </a:xfrm>
          <a:prstGeom prst="rect">
            <a:avLst/>
          </a:prstGeom>
          <a:noFill/>
          <a:ln w="0">
            <a:noFill/>
          </a:ln>
        </p:spPr>
        <p:txBody>
          <a:bodyPr lIns="0" rIns="0" tIns="0" bIns="0" anchor="t">
            <a:noAutofit/>
          </a:bodyPr>
          <a:p>
            <a:pPr marL="343080" indent="-343080">
              <a:lnSpc>
                <a:spcPct val="110000"/>
              </a:lnSpc>
              <a:spcBef>
                <a:spcPts val="479"/>
              </a:spcBef>
            </a:pPr>
            <a:r>
              <a:rPr b="1" lang="en-US" sz="3200" spc="-1" strike="noStrike">
                <a:solidFill>
                  <a:srgbClr val="fcffd8"/>
                </a:solidFill>
                <a:latin typeface="Arial"/>
                <a:ea typeface="Arial"/>
              </a:rPr>
              <a:t>Payment made on September 29:</a:t>
            </a:r>
            <a:endParaRPr b="0" lang="en-US" sz="3200" spc="-1" strike="noStrike">
              <a:solidFill>
                <a:srgbClr val="ffffff"/>
              </a:solidFill>
              <a:latin typeface="Arial"/>
            </a:endParaRPr>
          </a:p>
          <a:p>
            <a:pPr marL="343080" indent="-343080">
              <a:lnSpc>
                <a:spcPct val="110000"/>
              </a:lnSpc>
              <a:spcBef>
                <a:spcPts val="479"/>
              </a:spcBef>
            </a:pPr>
            <a:r>
              <a:rPr b="1" lang="en-US" sz="3200" spc="-1" strike="noStrike">
                <a:solidFill>
                  <a:srgbClr val="fcffd8"/>
                </a:solidFill>
                <a:latin typeface="Arial"/>
                <a:ea typeface="Arial"/>
              </a:rPr>
              <a:t>	</a:t>
            </a:r>
            <a:r>
              <a:rPr b="1" lang="en-US" sz="2800" spc="-1" strike="noStrike">
                <a:solidFill>
                  <a:srgbClr val="fcffd8"/>
                </a:solidFill>
                <a:latin typeface="Arial"/>
                <a:ea typeface="Arial"/>
              </a:rPr>
              <a:t>Accounts Payable</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300</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Cash</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294</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Purchase Discounts</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6</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eb9"/>
                </a:solidFill>
                <a:latin typeface="Arial"/>
                <a:ea typeface="Arial"/>
              </a:rPr>
              <a:t>Payment within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discount period</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 Purchase Discounts account is a contra-purchases account and is deducted from Purchases on the income stat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53" name=""/>
          <p:cNvSpPr txBox="1"/>
          <p:nvPr/>
        </p:nvSpPr>
        <p:spPr>
          <a:xfrm>
            <a:off x="1219320" y="304920"/>
            <a:ext cx="7210440" cy="10666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Purchase Discounts</a:t>
            </a:r>
            <a:endParaRPr b="0" lang="en-US" sz="4400" spc="-1" strike="noStrike">
              <a:solidFill>
                <a:srgbClr val="ffffff"/>
              </a:solidFill>
              <a:latin typeface="Arial"/>
            </a:endParaRPr>
          </a:p>
        </p:txBody>
      </p:sp>
      <p:sp>
        <p:nvSpPr>
          <p:cNvPr id="554" name=""/>
          <p:cNvSpPr txBox="1"/>
          <p:nvPr/>
        </p:nvSpPr>
        <p:spPr>
          <a:xfrm>
            <a:off x="609480" y="1219320"/>
            <a:ext cx="8381880" cy="5029200"/>
          </a:xfrm>
          <a:prstGeom prst="rect">
            <a:avLst/>
          </a:prstGeom>
          <a:noFill/>
          <a:ln w="0">
            <a:noFill/>
          </a:ln>
        </p:spPr>
        <p:txBody>
          <a:bodyPr lIns="0" rIns="0" tIns="0" bIns="0" anchor="t">
            <a:noAutofit/>
          </a:bodyPr>
          <a:p>
            <a:pPr marL="343080" indent="-343080">
              <a:lnSpc>
                <a:spcPct val="12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Payment made after the discount period on November 19:</a:t>
            </a:r>
            <a:endParaRPr b="0" lang="en-US" sz="3200" spc="-1" strike="noStrike">
              <a:solidFill>
                <a:srgbClr val="ffffff"/>
              </a:solidFill>
              <a:latin typeface="Arial"/>
            </a:endParaRPr>
          </a:p>
          <a:p>
            <a:pPr marL="343080" indent="-343080">
              <a:lnSpc>
                <a:spcPct val="120000"/>
              </a:lnSpc>
              <a:spcBef>
                <a:spcPts val="479"/>
              </a:spcBef>
            </a:pPr>
            <a:r>
              <a:rPr b="1" lang="en-US" sz="3200" spc="-1" strike="noStrike">
                <a:solidFill>
                  <a:srgbClr val="fcffd8"/>
                </a:solidFill>
                <a:latin typeface="Arial"/>
                <a:ea typeface="Arial"/>
              </a:rPr>
              <a:t>	</a:t>
            </a:r>
            <a:r>
              <a:rPr b="1" lang="en-US" sz="2800" spc="-1" strike="noStrike">
                <a:solidFill>
                  <a:srgbClr val="fcffd8"/>
                </a:solidFill>
                <a:latin typeface="Arial"/>
                <a:ea typeface="Arial"/>
              </a:rPr>
              <a:t>Accounts Payable</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300</a:t>
            </a:r>
            <a:endParaRPr b="0" lang="en-US" sz="2800" spc="-1" strike="noStrike">
              <a:solidFill>
                <a:srgbClr val="ffffff"/>
              </a:solidFill>
              <a:latin typeface="Arial"/>
            </a:endParaRPr>
          </a:p>
          <a:p>
            <a:pPr marL="343080" indent="-343080">
              <a:lnSpc>
                <a:spcPct val="12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Cash</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300</a:t>
            </a:r>
            <a:endParaRPr b="0" lang="en-US" sz="2800" spc="-1" strike="noStrike">
              <a:solidFill>
                <a:srgbClr val="ffffff"/>
              </a:solidFill>
              <a:latin typeface="Arial"/>
            </a:endParaRPr>
          </a:p>
          <a:p>
            <a:pPr marL="343080" indent="-343080">
              <a:lnSpc>
                <a:spcPct val="12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eb9"/>
                </a:solidFill>
                <a:latin typeface="Arial"/>
                <a:ea typeface="Arial"/>
              </a:rPr>
              <a:t>Payment after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discount period</a:t>
            </a:r>
            <a:endParaRPr b="0" lang="en-US" sz="2800" spc="-1" strike="noStrike">
              <a:solidFill>
                <a:srgbClr val="ffffff"/>
              </a:solidFill>
              <a:latin typeface="Arial"/>
            </a:endParaRPr>
          </a:p>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Since the discount period (10 days) has passed they must pay the full amou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grpSp>
        <p:nvGrpSpPr>
          <p:cNvPr id="555" name=""/>
          <p:cNvGrpSpPr/>
          <p:nvPr/>
        </p:nvGrpSpPr>
        <p:grpSpPr>
          <a:xfrm>
            <a:off x="2652840" y="1320840"/>
            <a:ext cx="6161040" cy="4673520"/>
            <a:chOff x="2652840" y="1320840"/>
            <a:chExt cx="6161040" cy="4673520"/>
          </a:xfrm>
        </p:grpSpPr>
        <p:sp>
          <p:nvSpPr>
            <p:cNvPr id="556" name=""/>
            <p:cNvSpPr/>
            <p:nvPr/>
          </p:nvSpPr>
          <p:spPr>
            <a:xfrm>
              <a:off x="2652840" y="1320840"/>
              <a:ext cx="6161040" cy="4673520"/>
            </a:xfrm>
            <a:prstGeom prst="rect">
              <a:avLst/>
            </a:prstGeom>
            <a:solidFill>
              <a:srgbClr val="ffffff"/>
            </a:solidFill>
            <a:ln w="152280">
              <a:solidFill>
                <a:srgbClr val="996633"/>
              </a:solidFill>
              <a:round/>
            </a:ln>
          </p:spPr>
          <p:txBody>
            <a:bodyPr lIns="165960" rIns="165960" tIns="120960" bIns="120960" anchor="t">
              <a:noAutofit/>
            </a:bodyPr>
            <a:p>
              <a:endParaRPr b="0" lang="en-US" sz="1800" spc="-1" strike="noStrike">
                <a:solidFill>
                  <a:srgbClr val="000000"/>
                </a:solidFill>
                <a:latin typeface="Arial"/>
              </a:endParaRPr>
            </a:p>
          </p:txBody>
        </p:sp>
        <p:sp>
          <p:nvSpPr>
            <p:cNvPr id="557" name=""/>
            <p:cNvSpPr/>
            <p:nvPr/>
          </p:nvSpPr>
          <p:spPr>
            <a:xfrm>
              <a:off x="2928960" y="1496880"/>
              <a:ext cx="5788080" cy="33037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grpSp>
      <p:grpSp>
        <p:nvGrpSpPr>
          <p:cNvPr id="558" name=""/>
          <p:cNvGrpSpPr/>
          <p:nvPr/>
        </p:nvGrpSpPr>
        <p:grpSpPr>
          <a:xfrm>
            <a:off x="1077840" y="254160"/>
            <a:ext cx="5118120" cy="1663560"/>
            <a:chOff x="1077840" y="254160"/>
            <a:chExt cx="5118120" cy="1663560"/>
          </a:xfrm>
        </p:grpSpPr>
        <p:pic>
          <p:nvPicPr>
            <p:cNvPr id="559" name="" descr=""/>
            <p:cNvPicPr/>
            <p:nvPr/>
          </p:nvPicPr>
          <p:blipFill>
            <a:blip r:embed="rId1"/>
            <a:stretch/>
          </p:blipFill>
          <p:spPr>
            <a:xfrm>
              <a:off x="1077840" y="254160"/>
              <a:ext cx="5118120" cy="1663560"/>
            </a:xfrm>
            <a:prstGeom prst="rect">
              <a:avLst/>
            </a:prstGeom>
            <a:ln w="0">
              <a:noFill/>
            </a:ln>
          </p:spPr>
        </p:pic>
        <p:sp>
          <p:nvSpPr>
            <p:cNvPr id="560" name=""/>
            <p:cNvSpPr txBox="1"/>
            <p:nvPr/>
          </p:nvSpPr>
          <p:spPr>
            <a:xfrm>
              <a:off x="1596960" y="533520"/>
              <a:ext cx="3718080" cy="515880"/>
            </a:xfrm>
            <a:prstGeom prst="rect">
              <a:avLst/>
            </a:prstGeom>
            <a:noFill/>
            <a:ln w="0">
              <a:noFill/>
            </a:ln>
          </p:spPr>
          <p:txBody>
            <a:bodyPr lIns="0" rIns="0" tIns="0" bIns="0" anchor="t">
              <a:noAutofit/>
            </a:bodyPr>
            <a:p>
              <a:pPr algn="ctr">
                <a:lnSpc>
                  <a:spcPct val="100000"/>
                </a:lnSpc>
              </a:pPr>
              <a:r>
                <a:rPr b="1" lang="en-US" sz="2800" spc="-1" strike="noStrike">
                  <a:solidFill>
                    <a:srgbClr val="000000"/>
                  </a:solidFill>
                  <a:latin typeface="Arial"/>
                  <a:ea typeface="Arial"/>
                </a:rPr>
                <a:t>OK, LET’S REVIEW...</a:t>
              </a:r>
              <a:endParaRPr b="0" lang="en-US" sz="2800" spc="-1" strike="noStrike">
                <a:solidFill>
                  <a:srgbClr val="ffffff"/>
                </a:solidFill>
                <a:latin typeface="Arial"/>
              </a:endParaRPr>
            </a:p>
          </p:txBody>
        </p:sp>
      </p:grpSp>
      <p:grpSp>
        <p:nvGrpSpPr>
          <p:cNvPr id="561" name=""/>
          <p:cNvGrpSpPr/>
          <p:nvPr/>
        </p:nvGrpSpPr>
        <p:grpSpPr>
          <a:xfrm>
            <a:off x="619200" y="1603440"/>
            <a:ext cx="1525680" cy="4901040"/>
            <a:chOff x="619200" y="1603440"/>
            <a:chExt cx="1525680" cy="4901040"/>
          </a:xfrm>
        </p:grpSpPr>
        <p:grpSp>
          <p:nvGrpSpPr>
            <p:cNvPr id="562" name=""/>
            <p:cNvGrpSpPr/>
            <p:nvPr/>
          </p:nvGrpSpPr>
          <p:grpSpPr>
            <a:xfrm>
              <a:off x="1098720" y="1603440"/>
              <a:ext cx="506880" cy="1373400"/>
              <a:chOff x="1098720" y="1603440"/>
              <a:chExt cx="506880" cy="1373400"/>
            </a:xfrm>
          </p:grpSpPr>
          <p:sp>
            <p:nvSpPr>
              <p:cNvPr id="563" name=""/>
              <p:cNvSpPr/>
              <p:nvPr/>
            </p:nvSpPr>
            <p:spPr>
              <a:xfrm>
                <a:off x="1163520" y="2171520"/>
                <a:ext cx="343440" cy="805320"/>
              </a:xfrm>
              <a:custGeom>
                <a:avLst/>
                <a:gdLst/>
                <a:ahLst/>
                <a:rect l="0" t="0" r="r" b="b"/>
                <a:pathLst>
                  <a:path w="954" h="2237">
                    <a:moveTo>
                      <a:pt x="171" y="0"/>
                    </a:moveTo>
                    <a:lnTo>
                      <a:pt x="158" y="101"/>
                    </a:lnTo>
                    <a:lnTo>
                      <a:pt x="132" y="207"/>
                    </a:lnTo>
                    <a:lnTo>
                      <a:pt x="0" y="471"/>
                    </a:lnTo>
                    <a:lnTo>
                      <a:pt x="441" y="2237"/>
                    </a:lnTo>
                    <a:lnTo>
                      <a:pt x="954" y="529"/>
                    </a:lnTo>
                    <a:lnTo>
                      <a:pt x="844" y="295"/>
                    </a:lnTo>
                    <a:lnTo>
                      <a:pt x="808" y="207"/>
                    </a:lnTo>
                    <a:lnTo>
                      <a:pt x="791" y="149"/>
                    </a:lnTo>
                    <a:lnTo>
                      <a:pt x="786" y="17"/>
                    </a:lnTo>
                    <a:lnTo>
                      <a:pt x="171"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64" name=""/>
              <p:cNvSpPr/>
              <p:nvPr/>
            </p:nvSpPr>
            <p:spPr>
              <a:xfrm>
                <a:off x="1231920" y="2187720"/>
                <a:ext cx="282960" cy="294120"/>
              </a:xfrm>
              <a:custGeom>
                <a:avLst/>
                <a:gdLst/>
                <a:ahLst/>
                <a:rect l="0" t="0" r="r" b="b"/>
                <a:pathLst>
                  <a:path w="786" h="817">
                    <a:moveTo>
                      <a:pt x="0" y="0"/>
                    </a:moveTo>
                    <a:lnTo>
                      <a:pt x="8" y="44"/>
                    </a:lnTo>
                    <a:lnTo>
                      <a:pt x="17" y="74"/>
                    </a:lnTo>
                    <a:lnTo>
                      <a:pt x="35" y="114"/>
                    </a:lnTo>
                    <a:lnTo>
                      <a:pt x="52" y="158"/>
                    </a:lnTo>
                    <a:lnTo>
                      <a:pt x="79" y="189"/>
                    </a:lnTo>
                    <a:lnTo>
                      <a:pt x="101" y="230"/>
                    </a:lnTo>
                    <a:lnTo>
                      <a:pt x="136" y="261"/>
                    </a:lnTo>
                    <a:lnTo>
                      <a:pt x="176" y="292"/>
                    </a:lnTo>
                    <a:lnTo>
                      <a:pt x="234" y="314"/>
                    </a:lnTo>
                    <a:lnTo>
                      <a:pt x="287" y="327"/>
                    </a:lnTo>
                    <a:lnTo>
                      <a:pt x="322" y="349"/>
                    </a:lnTo>
                    <a:lnTo>
                      <a:pt x="340" y="362"/>
                    </a:lnTo>
                    <a:lnTo>
                      <a:pt x="349" y="384"/>
                    </a:lnTo>
                    <a:lnTo>
                      <a:pt x="349" y="415"/>
                    </a:lnTo>
                    <a:lnTo>
                      <a:pt x="371" y="402"/>
                    </a:lnTo>
                    <a:lnTo>
                      <a:pt x="397" y="389"/>
                    </a:lnTo>
                    <a:lnTo>
                      <a:pt x="415" y="393"/>
                    </a:lnTo>
                    <a:lnTo>
                      <a:pt x="424" y="415"/>
                    </a:lnTo>
                    <a:lnTo>
                      <a:pt x="424" y="446"/>
                    </a:lnTo>
                    <a:lnTo>
                      <a:pt x="424" y="472"/>
                    </a:lnTo>
                    <a:lnTo>
                      <a:pt x="358" y="817"/>
                    </a:lnTo>
                    <a:lnTo>
                      <a:pt x="525" y="419"/>
                    </a:lnTo>
                    <a:lnTo>
                      <a:pt x="556" y="419"/>
                    </a:lnTo>
                    <a:lnTo>
                      <a:pt x="587" y="424"/>
                    </a:lnTo>
                    <a:lnTo>
                      <a:pt x="614" y="437"/>
                    </a:lnTo>
                    <a:lnTo>
                      <a:pt x="663" y="455"/>
                    </a:lnTo>
                    <a:lnTo>
                      <a:pt x="698" y="459"/>
                    </a:lnTo>
                    <a:lnTo>
                      <a:pt x="747" y="472"/>
                    </a:lnTo>
                    <a:lnTo>
                      <a:pt x="786" y="472"/>
                    </a:lnTo>
                    <a:lnTo>
                      <a:pt x="760" y="419"/>
                    </a:lnTo>
                    <a:lnTo>
                      <a:pt x="725" y="371"/>
                    </a:lnTo>
                    <a:lnTo>
                      <a:pt x="703" y="322"/>
                    </a:lnTo>
                    <a:lnTo>
                      <a:pt x="676" y="283"/>
                    </a:lnTo>
                    <a:lnTo>
                      <a:pt x="663" y="252"/>
                    </a:lnTo>
                    <a:lnTo>
                      <a:pt x="645" y="217"/>
                    </a:lnTo>
                    <a:lnTo>
                      <a:pt x="597" y="26"/>
                    </a:lnTo>
                    <a:lnTo>
                      <a:pt x="0" y="0"/>
                    </a:lnTo>
                    <a:close/>
                  </a:path>
                </a:pathLst>
              </a:custGeom>
              <a:blipFill rotWithShape="0">
                <a:blip r:embed="rId2"/>
                <a:tile tx="0" ty="0" sx="133018" sy="133018" algn="ctr"/>
              </a:blipFill>
              <a:ln w="12600">
                <a:solidFill>
                  <a:srgbClr val="fc5853"/>
                </a:solidFill>
                <a:round/>
              </a:ln>
            </p:spPr>
            <p:txBody>
              <a:bodyPr lIns="96120" rIns="96120" tIns="51120" bIns="51120" anchor="t">
                <a:noAutofit/>
              </a:bodyPr>
              <a:p>
                <a:endParaRPr b="0" lang="en-US" sz="1800" spc="-1" strike="noStrike">
                  <a:solidFill>
                    <a:srgbClr val="000000"/>
                  </a:solidFill>
                  <a:latin typeface="Arial"/>
                </a:endParaRPr>
              </a:p>
            </p:txBody>
          </p:sp>
          <p:sp>
            <p:nvSpPr>
              <p:cNvPr id="565" name=""/>
              <p:cNvSpPr/>
              <p:nvPr/>
            </p:nvSpPr>
            <p:spPr>
              <a:xfrm>
                <a:off x="1171440" y="1630440"/>
                <a:ext cx="360720" cy="619560"/>
              </a:xfrm>
              <a:custGeom>
                <a:avLst/>
                <a:gdLst/>
                <a:ahLst/>
                <a:rect l="0" t="0" r="r" b="b"/>
                <a:pathLst>
                  <a:path w="1002" h="1721">
                    <a:moveTo>
                      <a:pt x="971" y="922"/>
                    </a:moveTo>
                    <a:lnTo>
                      <a:pt x="962" y="1028"/>
                    </a:lnTo>
                    <a:lnTo>
                      <a:pt x="935" y="1121"/>
                    </a:lnTo>
                    <a:lnTo>
                      <a:pt x="931" y="1182"/>
                    </a:lnTo>
                    <a:lnTo>
                      <a:pt x="927" y="1240"/>
                    </a:lnTo>
                    <a:lnTo>
                      <a:pt x="904" y="1316"/>
                    </a:lnTo>
                    <a:lnTo>
                      <a:pt x="887" y="1408"/>
                    </a:lnTo>
                    <a:lnTo>
                      <a:pt x="865" y="1474"/>
                    </a:lnTo>
                    <a:lnTo>
                      <a:pt x="830" y="1523"/>
                    </a:lnTo>
                    <a:lnTo>
                      <a:pt x="790" y="1567"/>
                    </a:lnTo>
                    <a:lnTo>
                      <a:pt x="755" y="1624"/>
                    </a:lnTo>
                    <a:lnTo>
                      <a:pt x="688" y="1664"/>
                    </a:lnTo>
                    <a:lnTo>
                      <a:pt x="644" y="1699"/>
                    </a:lnTo>
                    <a:lnTo>
                      <a:pt x="578" y="1712"/>
                    </a:lnTo>
                    <a:lnTo>
                      <a:pt x="489" y="1721"/>
                    </a:lnTo>
                    <a:lnTo>
                      <a:pt x="410" y="1712"/>
                    </a:lnTo>
                    <a:lnTo>
                      <a:pt x="366" y="1690"/>
                    </a:lnTo>
                    <a:lnTo>
                      <a:pt x="299" y="1646"/>
                    </a:lnTo>
                    <a:lnTo>
                      <a:pt x="260" y="1607"/>
                    </a:lnTo>
                    <a:lnTo>
                      <a:pt x="211" y="1571"/>
                    </a:lnTo>
                    <a:lnTo>
                      <a:pt x="176" y="1536"/>
                    </a:lnTo>
                    <a:lnTo>
                      <a:pt x="132" y="1479"/>
                    </a:lnTo>
                    <a:lnTo>
                      <a:pt x="105" y="1435"/>
                    </a:lnTo>
                    <a:lnTo>
                      <a:pt x="97" y="1386"/>
                    </a:lnTo>
                    <a:lnTo>
                      <a:pt x="74" y="1338"/>
                    </a:lnTo>
                    <a:lnTo>
                      <a:pt x="70" y="1279"/>
                    </a:lnTo>
                    <a:lnTo>
                      <a:pt x="66" y="1226"/>
                    </a:lnTo>
                    <a:lnTo>
                      <a:pt x="52" y="1182"/>
                    </a:lnTo>
                    <a:lnTo>
                      <a:pt x="48" y="1125"/>
                    </a:lnTo>
                    <a:lnTo>
                      <a:pt x="30" y="1041"/>
                    </a:lnTo>
                    <a:lnTo>
                      <a:pt x="4" y="944"/>
                    </a:lnTo>
                    <a:lnTo>
                      <a:pt x="0" y="794"/>
                    </a:lnTo>
                    <a:lnTo>
                      <a:pt x="0" y="662"/>
                    </a:lnTo>
                    <a:lnTo>
                      <a:pt x="4" y="525"/>
                    </a:lnTo>
                    <a:lnTo>
                      <a:pt x="17" y="401"/>
                    </a:lnTo>
                    <a:lnTo>
                      <a:pt x="39" y="317"/>
                    </a:lnTo>
                    <a:lnTo>
                      <a:pt x="66" y="229"/>
                    </a:lnTo>
                    <a:lnTo>
                      <a:pt x="114" y="136"/>
                    </a:lnTo>
                    <a:lnTo>
                      <a:pt x="163" y="83"/>
                    </a:lnTo>
                    <a:lnTo>
                      <a:pt x="229" y="48"/>
                    </a:lnTo>
                    <a:lnTo>
                      <a:pt x="339" y="17"/>
                    </a:lnTo>
                    <a:lnTo>
                      <a:pt x="449" y="0"/>
                    </a:lnTo>
                    <a:lnTo>
                      <a:pt x="574" y="0"/>
                    </a:lnTo>
                    <a:lnTo>
                      <a:pt x="728" y="8"/>
                    </a:lnTo>
                    <a:lnTo>
                      <a:pt x="812" y="30"/>
                    </a:lnTo>
                    <a:lnTo>
                      <a:pt x="865" y="74"/>
                    </a:lnTo>
                    <a:lnTo>
                      <a:pt x="927" y="136"/>
                    </a:lnTo>
                    <a:lnTo>
                      <a:pt x="953" y="229"/>
                    </a:lnTo>
                    <a:lnTo>
                      <a:pt x="988" y="343"/>
                    </a:lnTo>
                    <a:lnTo>
                      <a:pt x="1002" y="472"/>
                    </a:lnTo>
                    <a:lnTo>
                      <a:pt x="1002" y="565"/>
                    </a:lnTo>
                    <a:lnTo>
                      <a:pt x="1002" y="737"/>
                    </a:lnTo>
                    <a:lnTo>
                      <a:pt x="988" y="856"/>
                    </a:lnTo>
                    <a:lnTo>
                      <a:pt x="971" y="922"/>
                    </a:lnTo>
                    <a:close/>
                  </a:path>
                </a:pathLst>
              </a:custGeom>
              <a:solidFill>
                <a:srgbClr val="ffd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66" name=""/>
              <p:cNvSpPr/>
              <p:nvPr/>
            </p:nvSpPr>
            <p:spPr>
              <a:xfrm>
                <a:off x="1433520" y="1662120"/>
                <a:ext cx="95760" cy="563760"/>
              </a:xfrm>
              <a:custGeom>
                <a:avLst/>
                <a:gdLst/>
                <a:ahLst/>
                <a:rect l="0" t="0" r="r" b="b"/>
                <a:pathLst>
                  <a:path w="266" h="1566">
                    <a:moveTo>
                      <a:pt x="240" y="847"/>
                    </a:moveTo>
                    <a:lnTo>
                      <a:pt x="231" y="944"/>
                    </a:lnTo>
                    <a:lnTo>
                      <a:pt x="209" y="1041"/>
                    </a:lnTo>
                    <a:lnTo>
                      <a:pt x="204" y="1103"/>
                    </a:lnTo>
                    <a:lnTo>
                      <a:pt x="195" y="1165"/>
                    </a:lnTo>
                    <a:lnTo>
                      <a:pt x="181" y="1240"/>
                    </a:lnTo>
                    <a:lnTo>
                      <a:pt x="172" y="1306"/>
                    </a:lnTo>
                    <a:lnTo>
                      <a:pt x="159" y="1368"/>
                    </a:lnTo>
                    <a:lnTo>
                      <a:pt x="133" y="1398"/>
                    </a:lnTo>
                    <a:lnTo>
                      <a:pt x="111" y="1447"/>
                    </a:lnTo>
                    <a:lnTo>
                      <a:pt x="61" y="1509"/>
                    </a:lnTo>
                    <a:lnTo>
                      <a:pt x="0" y="1566"/>
                    </a:lnTo>
                    <a:lnTo>
                      <a:pt x="35" y="1535"/>
                    </a:lnTo>
                    <a:lnTo>
                      <a:pt x="61" y="1478"/>
                    </a:lnTo>
                    <a:lnTo>
                      <a:pt x="80" y="1429"/>
                    </a:lnTo>
                    <a:lnTo>
                      <a:pt x="93" y="1385"/>
                    </a:lnTo>
                    <a:lnTo>
                      <a:pt x="93" y="1328"/>
                    </a:lnTo>
                    <a:lnTo>
                      <a:pt x="93" y="1293"/>
                    </a:lnTo>
                    <a:lnTo>
                      <a:pt x="75" y="1231"/>
                    </a:lnTo>
                    <a:lnTo>
                      <a:pt x="93" y="1218"/>
                    </a:lnTo>
                    <a:lnTo>
                      <a:pt x="124" y="1169"/>
                    </a:lnTo>
                    <a:lnTo>
                      <a:pt x="142" y="1129"/>
                    </a:lnTo>
                    <a:lnTo>
                      <a:pt x="159" y="1081"/>
                    </a:lnTo>
                    <a:lnTo>
                      <a:pt x="168" y="1015"/>
                    </a:lnTo>
                    <a:lnTo>
                      <a:pt x="177" y="957"/>
                    </a:lnTo>
                    <a:lnTo>
                      <a:pt x="177" y="913"/>
                    </a:lnTo>
                    <a:lnTo>
                      <a:pt x="177" y="878"/>
                    </a:lnTo>
                    <a:lnTo>
                      <a:pt x="168" y="847"/>
                    </a:lnTo>
                    <a:lnTo>
                      <a:pt x="146" y="816"/>
                    </a:lnTo>
                    <a:lnTo>
                      <a:pt x="159" y="790"/>
                    </a:lnTo>
                    <a:lnTo>
                      <a:pt x="168" y="762"/>
                    </a:lnTo>
                    <a:lnTo>
                      <a:pt x="177" y="709"/>
                    </a:lnTo>
                    <a:lnTo>
                      <a:pt x="137" y="670"/>
                    </a:lnTo>
                    <a:lnTo>
                      <a:pt x="120" y="661"/>
                    </a:lnTo>
                    <a:lnTo>
                      <a:pt x="133" y="630"/>
                    </a:lnTo>
                    <a:lnTo>
                      <a:pt x="142" y="586"/>
                    </a:lnTo>
                    <a:lnTo>
                      <a:pt x="146" y="551"/>
                    </a:lnTo>
                    <a:lnTo>
                      <a:pt x="142" y="493"/>
                    </a:lnTo>
                    <a:lnTo>
                      <a:pt x="133" y="463"/>
                    </a:lnTo>
                    <a:lnTo>
                      <a:pt x="120" y="414"/>
                    </a:lnTo>
                    <a:lnTo>
                      <a:pt x="67" y="343"/>
                    </a:lnTo>
                    <a:lnTo>
                      <a:pt x="35" y="299"/>
                    </a:lnTo>
                    <a:lnTo>
                      <a:pt x="0" y="242"/>
                    </a:lnTo>
                    <a:lnTo>
                      <a:pt x="8" y="171"/>
                    </a:lnTo>
                    <a:lnTo>
                      <a:pt x="35" y="105"/>
                    </a:lnTo>
                    <a:lnTo>
                      <a:pt x="75" y="22"/>
                    </a:lnTo>
                    <a:lnTo>
                      <a:pt x="137" y="0"/>
                    </a:lnTo>
                    <a:lnTo>
                      <a:pt x="186" y="52"/>
                    </a:lnTo>
                    <a:lnTo>
                      <a:pt x="222" y="145"/>
                    </a:lnTo>
                    <a:lnTo>
                      <a:pt x="253" y="264"/>
                    </a:lnTo>
                    <a:lnTo>
                      <a:pt x="262" y="388"/>
                    </a:lnTo>
                    <a:lnTo>
                      <a:pt x="266" y="485"/>
                    </a:lnTo>
                    <a:lnTo>
                      <a:pt x="262" y="652"/>
                    </a:lnTo>
                    <a:lnTo>
                      <a:pt x="253" y="771"/>
                    </a:lnTo>
                    <a:lnTo>
                      <a:pt x="240" y="847"/>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67" name=""/>
              <p:cNvSpPr/>
              <p:nvPr/>
            </p:nvSpPr>
            <p:spPr>
              <a:xfrm>
                <a:off x="1281240" y="2136600"/>
                <a:ext cx="149760" cy="32040"/>
              </a:xfrm>
              <a:custGeom>
                <a:avLst/>
                <a:gdLst/>
                <a:ahLst/>
                <a:rect l="0" t="0" r="r" b="b"/>
                <a:pathLst>
                  <a:path w="416" h="89">
                    <a:moveTo>
                      <a:pt x="0" y="4"/>
                    </a:moveTo>
                    <a:lnTo>
                      <a:pt x="22" y="8"/>
                    </a:lnTo>
                    <a:lnTo>
                      <a:pt x="57" y="8"/>
                    </a:lnTo>
                    <a:lnTo>
                      <a:pt x="92" y="4"/>
                    </a:lnTo>
                    <a:lnTo>
                      <a:pt x="115" y="4"/>
                    </a:lnTo>
                    <a:lnTo>
                      <a:pt x="137" y="4"/>
                    </a:lnTo>
                    <a:lnTo>
                      <a:pt x="164" y="4"/>
                    </a:lnTo>
                    <a:lnTo>
                      <a:pt x="186" y="4"/>
                    </a:lnTo>
                    <a:lnTo>
                      <a:pt x="212" y="4"/>
                    </a:lnTo>
                    <a:lnTo>
                      <a:pt x="225" y="4"/>
                    </a:lnTo>
                    <a:lnTo>
                      <a:pt x="247" y="4"/>
                    </a:lnTo>
                    <a:lnTo>
                      <a:pt x="283" y="0"/>
                    </a:lnTo>
                    <a:lnTo>
                      <a:pt x="309" y="0"/>
                    </a:lnTo>
                    <a:lnTo>
                      <a:pt x="328" y="0"/>
                    </a:lnTo>
                    <a:lnTo>
                      <a:pt x="363" y="4"/>
                    </a:lnTo>
                    <a:lnTo>
                      <a:pt x="381" y="4"/>
                    </a:lnTo>
                    <a:lnTo>
                      <a:pt x="416" y="4"/>
                    </a:lnTo>
                    <a:lnTo>
                      <a:pt x="372" y="26"/>
                    </a:lnTo>
                    <a:lnTo>
                      <a:pt x="354" y="39"/>
                    </a:lnTo>
                    <a:lnTo>
                      <a:pt x="328" y="62"/>
                    </a:lnTo>
                    <a:lnTo>
                      <a:pt x="305" y="71"/>
                    </a:lnTo>
                    <a:lnTo>
                      <a:pt x="292" y="80"/>
                    </a:lnTo>
                    <a:lnTo>
                      <a:pt x="269" y="89"/>
                    </a:lnTo>
                    <a:lnTo>
                      <a:pt x="234" y="89"/>
                    </a:lnTo>
                    <a:lnTo>
                      <a:pt x="199" y="89"/>
                    </a:lnTo>
                    <a:lnTo>
                      <a:pt x="159" y="80"/>
                    </a:lnTo>
                    <a:lnTo>
                      <a:pt x="128" y="71"/>
                    </a:lnTo>
                    <a:lnTo>
                      <a:pt x="97" y="62"/>
                    </a:lnTo>
                    <a:lnTo>
                      <a:pt x="66" y="45"/>
                    </a:lnTo>
                    <a:lnTo>
                      <a:pt x="30" y="26"/>
                    </a:lnTo>
                    <a:lnTo>
                      <a:pt x="0" y="4"/>
                    </a:lnTo>
                    <a:close/>
                  </a:path>
                </a:pathLst>
              </a:custGeom>
              <a:solidFill>
                <a:srgbClr val="ff001f"/>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568" name=""/>
              <p:cNvSpPr/>
              <p:nvPr/>
            </p:nvSpPr>
            <p:spPr>
              <a:xfrm>
                <a:off x="1281240" y="2136600"/>
                <a:ext cx="149760" cy="8280"/>
              </a:xfrm>
              <a:custGeom>
                <a:avLst/>
                <a:gdLst/>
                <a:ahLst/>
                <a:rect l="0" t="0" r="r" b="b"/>
                <a:pathLst>
                  <a:path w="416" h="23">
                    <a:moveTo>
                      <a:pt x="0" y="0"/>
                    </a:moveTo>
                    <a:lnTo>
                      <a:pt x="22" y="4"/>
                    </a:lnTo>
                    <a:lnTo>
                      <a:pt x="57" y="4"/>
                    </a:lnTo>
                    <a:lnTo>
                      <a:pt x="92" y="0"/>
                    </a:lnTo>
                    <a:lnTo>
                      <a:pt x="115" y="0"/>
                    </a:lnTo>
                    <a:lnTo>
                      <a:pt x="137" y="0"/>
                    </a:lnTo>
                    <a:lnTo>
                      <a:pt x="164" y="0"/>
                    </a:lnTo>
                    <a:lnTo>
                      <a:pt x="186" y="0"/>
                    </a:lnTo>
                    <a:lnTo>
                      <a:pt x="212" y="0"/>
                    </a:lnTo>
                    <a:lnTo>
                      <a:pt x="225" y="0"/>
                    </a:lnTo>
                    <a:lnTo>
                      <a:pt x="247" y="0"/>
                    </a:lnTo>
                    <a:lnTo>
                      <a:pt x="283" y="0"/>
                    </a:lnTo>
                    <a:lnTo>
                      <a:pt x="309" y="0"/>
                    </a:lnTo>
                    <a:lnTo>
                      <a:pt x="328" y="0"/>
                    </a:lnTo>
                    <a:lnTo>
                      <a:pt x="363" y="0"/>
                    </a:lnTo>
                    <a:lnTo>
                      <a:pt x="381" y="0"/>
                    </a:lnTo>
                    <a:lnTo>
                      <a:pt x="416" y="0"/>
                    </a:lnTo>
                    <a:lnTo>
                      <a:pt x="376" y="14"/>
                    </a:lnTo>
                    <a:lnTo>
                      <a:pt x="363" y="14"/>
                    </a:lnTo>
                    <a:lnTo>
                      <a:pt x="337" y="14"/>
                    </a:lnTo>
                    <a:lnTo>
                      <a:pt x="309" y="14"/>
                    </a:lnTo>
                    <a:lnTo>
                      <a:pt x="283" y="23"/>
                    </a:lnTo>
                    <a:lnTo>
                      <a:pt x="261" y="23"/>
                    </a:lnTo>
                    <a:lnTo>
                      <a:pt x="225" y="23"/>
                    </a:lnTo>
                    <a:lnTo>
                      <a:pt x="199" y="23"/>
                    </a:lnTo>
                    <a:lnTo>
                      <a:pt x="168" y="23"/>
                    </a:lnTo>
                    <a:lnTo>
                      <a:pt x="128" y="14"/>
                    </a:lnTo>
                    <a:lnTo>
                      <a:pt x="97" y="14"/>
                    </a:lnTo>
                    <a:lnTo>
                      <a:pt x="61" y="14"/>
                    </a:lnTo>
                    <a:lnTo>
                      <a:pt x="35" y="14"/>
                    </a:lnTo>
                    <a:lnTo>
                      <a:pt x="22" y="14"/>
                    </a:lnTo>
                    <a:lnTo>
                      <a:pt x="0" y="0"/>
                    </a:lnTo>
                    <a:close/>
                  </a:path>
                </a:pathLst>
              </a:custGeom>
              <a:solidFill>
                <a:srgbClr val="7f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569" name=""/>
              <p:cNvSpPr/>
              <p:nvPr/>
            </p:nvSpPr>
            <p:spPr>
              <a:xfrm>
                <a:off x="1335240" y="2165400"/>
                <a:ext cx="49680" cy="5040"/>
              </a:xfrm>
              <a:custGeom>
                <a:avLst/>
                <a:gdLst/>
                <a:ahLst/>
                <a:rect l="0" t="0" r="r" b="b"/>
                <a:pathLst>
                  <a:path w="138" h="14">
                    <a:moveTo>
                      <a:pt x="0" y="9"/>
                    </a:moveTo>
                    <a:lnTo>
                      <a:pt x="17" y="9"/>
                    </a:lnTo>
                    <a:lnTo>
                      <a:pt x="36" y="0"/>
                    </a:lnTo>
                    <a:lnTo>
                      <a:pt x="53" y="0"/>
                    </a:lnTo>
                    <a:lnTo>
                      <a:pt x="71" y="0"/>
                    </a:lnTo>
                    <a:lnTo>
                      <a:pt x="89" y="0"/>
                    </a:lnTo>
                    <a:lnTo>
                      <a:pt x="112" y="9"/>
                    </a:lnTo>
                    <a:lnTo>
                      <a:pt x="129" y="9"/>
                    </a:lnTo>
                    <a:lnTo>
                      <a:pt x="138" y="14"/>
                    </a:lnTo>
                    <a:lnTo>
                      <a:pt x="125" y="9"/>
                    </a:lnTo>
                    <a:lnTo>
                      <a:pt x="102" y="9"/>
                    </a:lnTo>
                    <a:lnTo>
                      <a:pt x="89" y="9"/>
                    </a:lnTo>
                    <a:lnTo>
                      <a:pt x="71" y="9"/>
                    </a:lnTo>
                    <a:lnTo>
                      <a:pt x="62" y="9"/>
                    </a:lnTo>
                    <a:lnTo>
                      <a:pt x="49" y="9"/>
                    </a:lnTo>
                    <a:lnTo>
                      <a:pt x="30" y="9"/>
                    </a:lnTo>
                    <a:lnTo>
                      <a:pt x="17" y="9"/>
                    </a:lnTo>
                    <a:lnTo>
                      <a:pt x="0" y="9"/>
                    </a:lnTo>
                    <a:close/>
                  </a:path>
                </a:pathLst>
              </a:custGeom>
              <a:solidFill>
                <a:srgbClr val="ffffff"/>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570" name=""/>
              <p:cNvSpPr/>
              <p:nvPr/>
            </p:nvSpPr>
            <p:spPr>
              <a:xfrm>
                <a:off x="1314360" y="1898640"/>
                <a:ext cx="179640" cy="200520"/>
              </a:xfrm>
              <a:custGeom>
                <a:avLst/>
                <a:gdLst/>
                <a:ahLst/>
                <a:rect l="0" t="0" r="r" b="b"/>
                <a:pathLst>
                  <a:path w="499" h="557">
                    <a:moveTo>
                      <a:pt x="4" y="456"/>
                    </a:moveTo>
                    <a:lnTo>
                      <a:pt x="4" y="478"/>
                    </a:lnTo>
                    <a:lnTo>
                      <a:pt x="8" y="491"/>
                    </a:lnTo>
                    <a:lnTo>
                      <a:pt x="26" y="504"/>
                    </a:lnTo>
                    <a:lnTo>
                      <a:pt x="35" y="504"/>
                    </a:lnTo>
                    <a:lnTo>
                      <a:pt x="52" y="504"/>
                    </a:lnTo>
                    <a:lnTo>
                      <a:pt x="66" y="504"/>
                    </a:lnTo>
                    <a:lnTo>
                      <a:pt x="74" y="509"/>
                    </a:lnTo>
                    <a:lnTo>
                      <a:pt x="79" y="531"/>
                    </a:lnTo>
                    <a:lnTo>
                      <a:pt x="88" y="531"/>
                    </a:lnTo>
                    <a:lnTo>
                      <a:pt x="110" y="531"/>
                    </a:lnTo>
                    <a:lnTo>
                      <a:pt x="132" y="531"/>
                    </a:lnTo>
                    <a:lnTo>
                      <a:pt x="141" y="531"/>
                    </a:lnTo>
                    <a:lnTo>
                      <a:pt x="158" y="517"/>
                    </a:lnTo>
                    <a:lnTo>
                      <a:pt x="158" y="504"/>
                    </a:lnTo>
                    <a:lnTo>
                      <a:pt x="185" y="491"/>
                    </a:lnTo>
                    <a:lnTo>
                      <a:pt x="207" y="491"/>
                    </a:lnTo>
                    <a:lnTo>
                      <a:pt x="220" y="491"/>
                    </a:lnTo>
                    <a:lnTo>
                      <a:pt x="229" y="478"/>
                    </a:lnTo>
                    <a:lnTo>
                      <a:pt x="229" y="465"/>
                    </a:lnTo>
                    <a:lnTo>
                      <a:pt x="224" y="429"/>
                    </a:lnTo>
                    <a:lnTo>
                      <a:pt x="220" y="397"/>
                    </a:lnTo>
                    <a:lnTo>
                      <a:pt x="207" y="384"/>
                    </a:lnTo>
                    <a:lnTo>
                      <a:pt x="185" y="469"/>
                    </a:lnTo>
                    <a:lnTo>
                      <a:pt x="185" y="438"/>
                    </a:lnTo>
                    <a:lnTo>
                      <a:pt x="185" y="429"/>
                    </a:lnTo>
                    <a:lnTo>
                      <a:pt x="171" y="406"/>
                    </a:lnTo>
                    <a:lnTo>
                      <a:pt x="158" y="397"/>
                    </a:lnTo>
                    <a:lnTo>
                      <a:pt x="158" y="384"/>
                    </a:lnTo>
                    <a:lnTo>
                      <a:pt x="145" y="199"/>
                    </a:lnTo>
                    <a:lnTo>
                      <a:pt x="158" y="159"/>
                    </a:lnTo>
                    <a:lnTo>
                      <a:pt x="163" y="127"/>
                    </a:lnTo>
                    <a:lnTo>
                      <a:pt x="176" y="114"/>
                    </a:lnTo>
                    <a:lnTo>
                      <a:pt x="189" y="88"/>
                    </a:lnTo>
                    <a:lnTo>
                      <a:pt x="211" y="61"/>
                    </a:lnTo>
                    <a:lnTo>
                      <a:pt x="233" y="35"/>
                    </a:lnTo>
                    <a:lnTo>
                      <a:pt x="261" y="26"/>
                    </a:lnTo>
                    <a:lnTo>
                      <a:pt x="287" y="8"/>
                    </a:lnTo>
                    <a:lnTo>
                      <a:pt x="340" y="0"/>
                    </a:lnTo>
                    <a:lnTo>
                      <a:pt x="305" y="26"/>
                    </a:lnTo>
                    <a:lnTo>
                      <a:pt x="287" y="61"/>
                    </a:lnTo>
                    <a:lnTo>
                      <a:pt x="283" y="74"/>
                    </a:lnTo>
                    <a:lnTo>
                      <a:pt x="292" y="92"/>
                    </a:lnTo>
                    <a:lnTo>
                      <a:pt x="305" y="114"/>
                    </a:lnTo>
                    <a:lnTo>
                      <a:pt x="340" y="83"/>
                    </a:lnTo>
                    <a:lnTo>
                      <a:pt x="367" y="88"/>
                    </a:lnTo>
                    <a:lnTo>
                      <a:pt x="393" y="83"/>
                    </a:lnTo>
                    <a:lnTo>
                      <a:pt x="428" y="88"/>
                    </a:lnTo>
                    <a:lnTo>
                      <a:pt x="455" y="88"/>
                    </a:lnTo>
                    <a:lnTo>
                      <a:pt x="477" y="83"/>
                    </a:lnTo>
                    <a:lnTo>
                      <a:pt x="499" y="61"/>
                    </a:lnTo>
                    <a:lnTo>
                      <a:pt x="499" y="83"/>
                    </a:lnTo>
                    <a:lnTo>
                      <a:pt x="486" y="114"/>
                    </a:lnTo>
                    <a:lnTo>
                      <a:pt x="468" y="142"/>
                    </a:lnTo>
                    <a:lnTo>
                      <a:pt x="446" y="159"/>
                    </a:lnTo>
                    <a:lnTo>
                      <a:pt x="428" y="177"/>
                    </a:lnTo>
                    <a:lnTo>
                      <a:pt x="229" y="168"/>
                    </a:lnTo>
                    <a:lnTo>
                      <a:pt x="220" y="168"/>
                    </a:lnTo>
                    <a:lnTo>
                      <a:pt x="198" y="186"/>
                    </a:lnTo>
                    <a:lnTo>
                      <a:pt x="189" y="199"/>
                    </a:lnTo>
                    <a:lnTo>
                      <a:pt x="185" y="208"/>
                    </a:lnTo>
                    <a:lnTo>
                      <a:pt x="185" y="239"/>
                    </a:lnTo>
                    <a:lnTo>
                      <a:pt x="185" y="252"/>
                    </a:lnTo>
                    <a:lnTo>
                      <a:pt x="189" y="261"/>
                    </a:lnTo>
                    <a:lnTo>
                      <a:pt x="198" y="269"/>
                    </a:lnTo>
                    <a:lnTo>
                      <a:pt x="211" y="278"/>
                    </a:lnTo>
                    <a:lnTo>
                      <a:pt x="233" y="300"/>
                    </a:lnTo>
                    <a:lnTo>
                      <a:pt x="252" y="300"/>
                    </a:lnTo>
                    <a:lnTo>
                      <a:pt x="185" y="269"/>
                    </a:lnTo>
                    <a:lnTo>
                      <a:pt x="185" y="300"/>
                    </a:lnTo>
                    <a:lnTo>
                      <a:pt x="185" y="331"/>
                    </a:lnTo>
                    <a:lnTo>
                      <a:pt x="189" y="380"/>
                    </a:lnTo>
                    <a:lnTo>
                      <a:pt x="198" y="380"/>
                    </a:lnTo>
                    <a:lnTo>
                      <a:pt x="211" y="389"/>
                    </a:lnTo>
                    <a:lnTo>
                      <a:pt x="224" y="411"/>
                    </a:lnTo>
                    <a:lnTo>
                      <a:pt x="233" y="447"/>
                    </a:lnTo>
                    <a:lnTo>
                      <a:pt x="233" y="469"/>
                    </a:lnTo>
                    <a:lnTo>
                      <a:pt x="233" y="491"/>
                    </a:lnTo>
                    <a:lnTo>
                      <a:pt x="224" y="504"/>
                    </a:lnTo>
                    <a:lnTo>
                      <a:pt x="216" y="504"/>
                    </a:lnTo>
                    <a:lnTo>
                      <a:pt x="211" y="509"/>
                    </a:lnTo>
                    <a:lnTo>
                      <a:pt x="189" y="509"/>
                    </a:lnTo>
                    <a:lnTo>
                      <a:pt x="176" y="513"/>
                    </a:lnTo>
                    <a:lnTo>
                      <a:pt x="158" y="531"/>
                    </a:lnTo>
                    <a:lnTo>
                      <a:pt x="154" y="553"/>
                    </a:lnTo>
                    <a:lnTo>
                      <a:pt x="136" y="557"/>
                    </a:lnTo>
                    <a:lnTo>
                      <a:pt x="123" y="557"/>
                    </a:lnTo>
                    <a:lnTo>
                      <a:pt x="114" y="557"/>
                    </a:lnTo>
                    <a:lnTo>
                      <a:pt x="88" y="557"/>
                    </a:lnTo>
                    <a:lnTo>
                      <a:pt x="83" y="548"/>
                    </a:lnTo>
                    <a:lnTo>
                      <a:pt x="66" y="531"/>
                    </a:lnTo>
                    <a:lnTo>
                      <a:pt x="57" y="517"/>
                    </a:lnTo>
                    <a:lnTo>
                      <a:pt x="44" y="517"/>
                    </a:lnTo>
                    <a:lnTo>
                      <a:pt x="26" y="517"/>
                    </a:lnTo>
                    <a:lnTo>
                      <a:pt x="13" y="509"/>
                    </a:lnTo>
                    <a:lnTo>
                      <a:pt x="4" y="504"/>
                    </a:lnTo>
                    <a:lnTo>
                      <a:pt x="0" y="491"/>
                    </a:lnTo>
                    <a:lnTo>
                      <a:pt x="4" y="456"/>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71" name=""/>
              <p:cNvSpPr/>
              <p:nvPr/>
            </p:nvSpPr>
            <p:spPr>
              <a:xfrm>
                <a:off x="1347840" y="2065320"/>
                <a:ext cx="1440" cy="1440"/>
              </a:xfrm>
              <a:prstGeom prst="ellipse">
                <a:avLst/>
              </a:prstGeom>
              <a:solidFill>
                <a:srgbClr val="ffffff"/>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572" name=""/>
              <p:cNvSpPr/>
              <p:nvPr/>
            </p:nvSpPr>
            <p:spPr>
              <a:xfrm>
                <a:off x="1098720" y="1603440"/>
                <a:ext cx="506880" cy="435240"/>
              </a:xfrm>
              <a:custGeom>
                <a:avLst/>
                <a:gdLst/>
                <a:ahLst/>
                <a:rect l="0" t="0" r="r" b="b"/>
                <a:pathLst>
                  <a:path w="1408" h="1209">
                    <a:moveTo>
                      <a:pt x="242" y="1209"/>
                    </a:moveTo>
                    <a:lnTo>
                      <a:pt x="224" y="1187"/>
                    </a:lnTo>
                    <a:lnTo>
                      <a:pt x="202" y="1151"/>
                    </a:lnTo>
                    <a:lnTo>
                      <a:pt x="194" y="1134"/>
                    </a:lnTo>
                    <a:lnTo>
                      <a:pt x="185" y="1112"/>
                    </a:lnTo>
                    <a:lnTo>
                      <a:pt x="176" y="1099"/>
                    </a:lnTo>
                    <a:lnTo>
                      <a:pt x="149" y="1085"/>
                    </a:lnTo>
                    <a:lnTo>
                      <a:pt x="127" y="1076"/>
                    </a:lnTo>
                    <a:lnTo>
                      <a:pt x="92" y="1050"/>
                    </a:lnTo>
                    <a:lnTo>
                      <a:pt x="88" y="1028"/>
                    </a:lnTo>
                    <a:lnTo>
                      <a:pt x="57" y="1006"/>
                    </a:lnTo>
                    <a:lnTo>
                      <a:pt x="48" y="988"/>
                    </a:lnTo>
                    <a:lnTo>
                      <a:pt x="39" y="949"/>
                    </a:lnTo>
                    <a:lnTo>
                      <a:pt x="35" y="922"/>
                    </a:lnTo>
                    <a:lnTo>
                      <a:pt x="26" y="887"/>
                    </a:lnTo>
                    <a:lnTo>
                      <a:pt x="13" y="852"/>
                    </a:lnTo>
                    <a:lnTo>
                      <a:pt x="13" y="759"/>
                    </a:lnTo>
                    <a:lnTo>
                      <a:pt x="8" y="666"/>
                    </a:lnTo>
                    <a:lnTo>
                      <a:pt x="0" y="577"/>
                    </a:lnTo>
                    <a:lnTo>
                      <a:pt x="13" y="542"/>
                    </a:lnTo>
                    <a:lnTo>
                      <a:pt x="26" y="498"/>
                    </a:lnTo>
                    <a:lnTo>
                      <a:pt x="35" y="454"/>
                    </a:lnTo>
                    <a:lnTo>
                      <a:pt x="48" y="401"/>
                    </a:lnTo>
                    <a:lnTo>
                      <a:pt x="88" y="317"/>
                    </a:lnTo>
                    <a:lnTo>
                      <a:pt x="132" y="255"/>
                    </a:lnTo>
                    <a:lnTo>
                      <a:pt x="167" y="220"/>
                    </a:lnTo>
                    <a:lnTo>
                      <a:pt x="198" y="180"/>
                    </a:lnTo>
                    <a:lnTo>
                      <a:pt x="273" y="136"/>
                    </a:lnTo>
                    <a:lnTo>
                      <a:pt x="343" y="92"/>
                    </a:lnTo>
                    <a:lnTo>
                      <a:pt x="428" y="44"/>
                    </a:lnTo>
                    <a:lnTo>
                      <a:pt x="521" y="17"/>
                    </a:lnTo>
                    <a:lnTo>
                      <a:pt x="618" y="13"/>
                    </a:lnTo>
                    <a:lnTo>
                      <a:pt x="702" y="0"/>
                    </a:lnTo>
                    <a:lnTo>
                      <a:pt x="781" y="0"/>
                    </a:lnTo>
                    <a:lnTo>
                      <a:pt x="887" y="4"/>
                    </a:lnTo>
                    <a:lnTo>
                      <a:pt x="944" y="44"/>
                    </a:lnTo>
                    <a:lnTo>
                      <a:pt x="993" y="57"/>
                    </a:lnTo>
                    <a:lnTo>
                      <a:pt x="1060" y="74"/>
                    </a:lnTo>
                    <a:lnTo>
                      <a:pt x="1108" y="92"/>
                    </a:lnTo>
                    <a:lnTo>
                      <a:pt x="1166" y="127"/>
                    </a:lnTo>
                    <a:lnTo>
                      <a:pt x="1223" y="194"/>
                    </a:lnTo>
                    <a:lnTo>
                      <a:pt x="1267" y="246"/>
                    </a:lnTo>
                    <a:lnTo>
                      <a:pt x="1298" y="286"/>
                    </a:lnTo>
                    <a:lnTo>
                      <a:pt x="1324" y="330"/>
                    </a:lnTo>
                    <a:lnTo>
                      <a:pt x="1360" y="388"/>
                    </a:lnTo>
                    <a:lnTo>
                      <a:pt x="1391" y="449"/>
                    </a:lnTo>
                    <a:lnTo>
                      <a:pt x="1399" y="542"/>
                    </a:lnTo>
                    <a:lnTo>
                      <a:pt x="1408" y="666"/>
                    </a:lnTo>
                    <a:lnTo>
                      <a:pt x="1399" y="719"/>
                    </a:lnTo>
                    <a:lnTo>
                      <a:pt x="1391" y="799"/>
                    </a:lnTo>
                    <a:lnTo>
                      <a:pt x="1373" y="860"/>
                    </a:lnTo>
                    <a:lnTo>
                      <a:pt x="1351" y="904"/>
                    </a:lnTo>
                    <a:lnTo>
                      <a:pt x="1311" y="957"/>
                    </a:lnTo>
                    <a:lnTo>
                      <a:pt x="1298" y="988"/>
                    </a:lnTo>
                    <a:lnTo>
                      <a:pt x="1236" y="1041"/>
                    </a:lnTo>
                    <a:lnTo>
                      <a:pt x="1201" y="1090"/>
                    </a:lnTo>
                    <a:lnTo>
                      <a:pt x="1174" y="1151"/>
                    </a:lnTo>
                    <a:lnTo>
                      <a:pt x="1139" y="1200"/>
                    </a:lnTo>
                    <a:lnTo>
                      <a:pt x="1166" y="1107"/>
                    </a:lnTo>
                    <a:lnTo>
                      <a:pt x="1166" y="1028"/>
                    </a:lnTo>
                    <a:lnTo>
                      <a:pt x="1174" y="927"/>
                    </a:lnTo>
                    <a:lnTo>
                      <a:pt x="1157" y="904"/>
                    </a:lnTo>
                    <a:lnTo>
                      <a:pt x="1144" y="860"/>
                    </a:lnTo>
                    <a:lnTo>
                      <a:pt x="1157" y="816"/>
                    </a:lnTo>
                    <a:lnTo>
                      <a:pt x="1157" y="781"/>
                    </a:lnTo>
                    <a:lnTo>
                      <a:pt x="1139" y="706"/>
                    </a:lnTo>
                    <a:lnTo>
                      <a:pt x="1135" y="662"/>
                    </a:lnTo>
                    <a:lnTo>
                      <a:pt x="1135" y="627"/>
                    </a:lnTo>
                    <a:lnTo>
                      <a:pt x="1113" y="577"/>
                    </a:lnTo>
                    <a:lnTo>
                      <a:pt x="1095" y="542"/>
                    </a:lnTo>
                    <a:lnTo>
                      <a:pt x="1077" y="502"/>
                    </a:lnTo>
                    <a:lnTo>
                      <a:pt x="1060" y="471"/>
                    </a:lnTo>
                    <a:lnTo>
                      <a:pt x="1006" y="449"/>
                    </a:lnTo>
                    <a:lnTo>
                      <a:pt x="971" y="401"/>
                    </a:lnTo>
                    <a:lnTo>
                      <a:pt x="927" y="388"/>
                    </a:lnTo>
                    <a:lnTo>
                      <a:pt x="887" y="388"/>
                    </a:lnTo>
                    <a:lnTo>
                      <a:pt x="896" y="348"/>
                    </a:lnTo>
                    <a:lnTo>
                      <a:pt x="852" y="357"/>
                    </a:lnTo>
                    <a:lnTo>
                      <a:pt x="816" y="374"/>
                    </a:lnTo>
                    <a:lnTo>
                      <a:pt x="781" y="388"/>
                    </a:lnTo>
                    <a:lnTo>
                      <a:pt x="733" y="396"/>
                    </a:lnTo>
                    <a:lnTo>
                      <a:pt x="693" y="388"/>
                    </a:lnTo>
                    <a:lnTo>
                      <a:pt x="653" y="379"/>
                    </a:lnTo>
                    <a:lnTo>
                      <a:pt x="618" y="361"/>
                    </a:lnTo>
                    <a:lnTo>
                      <a:pt x="569" y="357"/>
                    </a:lnTo>
                    <a:lnTo>
                      <a:pt x="543" y="357"/>
                    </a:lnTo>
                    <a:lnTo>
                      <a:pt x="521" y="379"/>
                    </a:lnTo>
                    <a:lnTo>
                      <a:pt x="499" y="401"/>
                    </a:lnTo>
                    <a:lnTo>
                      <a:pt x="472" y="436"/>
                    </a:lnTo>
                    <a:lnTo>
                      <a:pt x="459" y="485"/>
                    </a:lnTo>
                    <a:lnTo>
                      <a:pt x="428" y="524"/>
                    </a:lnTo>
                    <a:lnTo>
                      <a:pt x="415" y="586"/>
                    </a:lnTo>
                    <a:lnTo>
                      <a:pt x="393" y="693"/>
                    </a:lnTo>
                    <a:lnTo>
                      <a:pt x="371" y="799"/>
                    </a:lnTo>
                    <a:lnTo>
                      <a:pt x="343" y="860"/>
                    </a:lnTo>
                    <a:lnTo>
                      <a:pt x="268" y="1028"/>
                    </a:lnTo>
                    <a:lnTo>
                      <a:pt x="273" y="988"/>
                    </a:lnTo>
                    <a:lnTo>
                      <a:pt x="273" y="957"/>
                    </a:lnTo>
                    <a:lnTo>
                      <a:pt x="277" y="931"/>
                    </a:lnTo>
                    <a:lnTo>
                      <a:pt x="291" y="878"/>
                    </a:lnTo>
                    <a:lnTo>
                      <a:pt x="264" y="918"/>
                    </a:lnTo>
                    <a:lnTo>
                      <a:pt x="246" y="940"/>
                    </a:lnTo>
                    <a:lnTo>
                      <a:pt x="238" y="962"/>
                    </a:lnTo>
                    <a:lnTo>
                      <a:pt x="224" y="997"/>
                    </a:lnTo>
                    <a:lnTo>
                      <a:pt x="224" y="1015"/>
                    </a:lnTo>
                    <a:lnTo>
                      <a:pt x="216" y="1041"/>
                    </a:lnTo>
                    <a:lnTo>
                      <a:pt x="216" y="1085"/>
                    </a:lnTo>
                    <a:lnTo>
                      <a:pt x="224" y="1112"/>
                    </a:lnTo>
                    <a:lnTo>
                      <a:pt x="224" y="1138"/>
                    </a:lnTo>
                    <a:lnTo>
                      <a:pt x="233" y="1147"/>
                    </a:lnTo>
                    <a:lnTo>
                      <a:pt x="238" y="1187"/>
                    </a:lnTo>
                    <a:lnTo>
                      <a:pt x="242" y="1209"/>
                    </a:lnTo>
                    <a:close/>
                  </a:path>
                </a:pathLst>
              </a:custGeom>
              <a:solidFill>
                <a:srgbClr val="ff5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73" name=""/>
              <p:cNvSpPr/>
              <p:nvPr/>
            </p:nvSpPr>
            <p:spPr>
              <a:xfrm>
                <a:off x="1189080" y="1603440"/>
                <a:ext cx="416160" cy="430560"/>
              </a:xfrm>
              <a:custGeom>
                <a:avLst/>
                <a:gdLst/>
                <a:ahLst/>
                <a:rect l="0" t="0" r="r" b="b"/>
                <a:pathLst>
                  <a:path w="1156" h="1196">
                    <a:moveTo>
                      <a:pt x="35" y="825"/>
                    </a:moveTo>
                    <a:lnTo>
                      <a:pt x="22" y="763"/>
                    </a:lnTo>
                    <a:lnTo>
                      <a:pt x="17" y="693"/>
                    </a:lnTo>
                    <a:lnTo>
                      <a:pt x="4" y="627"/>
                    </a:lnTo>
                    <a:lnTo>
                      <a:pt x="0" y="560"/>
                    </a:lnTo>
                    <a:lnTo>
                      <a:pt x="0" y="471"/>
                    </a:lnTo>
                    <a:lnTo>
                      <a:pt x="4" y="388"/>
                    </a:lnTo>
                    <a:lnTo>
                      <a:pt x="48" y="273"/>
                    </a:lnTo>
                    <a:lnTo>
                      <a:pt x="79" y="207"/>
                    </a:lnTo>
                    <a:lnTo>
                      <a:pt x="127" y="136"/>
                    </a:lnTo>
                    <a:lnTo>
                      <a:pt x="185" y="97"/>
                    </a:lnTo>
                    <a:lnTo>
                      <a:pt x="273" y="30"/>
                    </a:lnTo>
                    <a:lnTo>
                      <a:pt x="357" y="0"/>
                    </a:lnTo>
                    <a:lnTo>
                      <a:pt x="454" y="0"/>
                    </a:lnTo>
                    <a:lnTo>
                      <a:pt x="533" y="0"/>
                    </a:lnTo>
                    <a:lnTo>
                      <a:pt x="640" y="4"/>
                    </a:lnTo>
                    <a:lnTo>
                      <a:pt x="697" y="44"/>
                    </a:lnTo>
                    <a:lnTo>
                      <a:pt x="741" y="119"/>
                    </a:lnTo>
                    <a:lnTo>
                      <a:pt x="741" y="194"/>
                    </a:lnTo>
                    <a:lnTo>
                      <a:pt x="733" y="264"/>
                    </a:lnTo>
                    <a:lnTo>
                      <a:pt x="706" y="326"/>
                    </a:lnTo>
                    <a:lnTo>
                      <a:pt x="768" y="291"/>
                    </a:lnTo>
                    <a:lnTo>
                      <a:pt x="821" y="273"/>
                    </a:lnTo>
                    <a:lnTo>
                      <a:pt x="887" y="255"/>
                    </a:lnTo>
                    <a:lnTo>
                      <a:pt x="953" y="273"/>
                    </a:lnTo>
                    <a:lnTo>
                      <a:pt x="1015" y="308"/>
                    </a:lnTo>
                    <a:lnTo>
                      <a:pt x="1046" y="299"/>
                    </a:lnTo>
                    <a:lnTo>
                      <a:pt x="1072" y="326"/>
                    </a:lnTo>
                    <a:lnTo>
                      <a:pt x="1107" y="388"/>
                    </a:lnTo>
                    <a:lnTo>
                      <a:pt x="1138" y="445"/>
                    </a:lnTo>
                    <a:lnTo>
                      <a:pt x="1147" y="537"/>
                    </a:lnTo>
                    <a:lnTo>
                      <a:pt x="1156" y="666"/>
                    </a:lnTo>
                    <a:lnTo>
                      <a:pt x="1147" y="715"/>
                    </a:lnTo>
                    <a:lnTo>
                      <a:pt x="1138" y="794"/>
                    </a:lnTo>
                    <a:lnTo>
                      <a:pt x="1121" y="860"/>
                    </a:lnTo>
                    <a:lnTo>
                      <a:pt x="1099" y="900"/>
                    </a:lnTo>
                    <a:lnTo>
                      <a:pt x="1059" y="957"/>
                    </a:lnTo>
                    <a:lnTo>
                      <a:pt x="1046" y="984"/>
                    </a:lnTo>
                    <a:lnTo>
                      <a:pt x="988" y="1037"/>
                    </a:lnTo>
                    <a:lnTo>
                      <a:pt x="949" y="1085"/>
                    </a:lnTo>
                    <a:lnTo>
                      <a:pt x="922" y="1151"/>
                    </a:lnTo>
                    <a:lnTo>
                      <a:pt x="891" y="1196"/>
                    </a:lnTo>
                    <a:lnTo>
                      <a:pt x="913" y="1103"/>
                    </a:lnTo>
                    <a:lnTo>
                      <a:pt x="913" y="1024"/>
                    </a:lnTo>
                    <a:lnTo>
                      <a:pt x="922" y="922"/>
                    </a:lnTo>
                    <a:lnTo>
                      <a:pt x="904" y="900"/>
                    </a:lnTo>
                    <a:lnTo>
                      <a:pt x="896" y="860"/>
                    </a:lnTo>
                    <a:lnTo>
                      <a:pt x="904" y="812"/>
                    </a:lnTo>
                    <a:lnTo>
                      <a:pt x="904" y="781"/>
                    </a:lnTo>
                    <a:lnTo>
                      <a:pt x="891" y="702"/>
                    </a:lnTo>
                    <a:lnTo>
                      <a:pt x="887" y="662"/>
                    </a:lnTo>
                    <a:lnTo>
                      <a:pt x="887" y="622"/>
                    </a:lnTo>
                    <a:lnTo>
                      <a:pt x="860" y="577"/>
                    </a:lnTo>
                    <a:lnTo>
                      <a:pt x="847" y="537"/>
                    </a:lnTo>
                    <a:lnTo>
                      <a:pt x="825" y="502"/>
                    </a:lnTo>
                    <a:lnTo>
                      <a:pt x="807" y="471"/>
                    </a:lnTo>
                    <a:lnTo>
                      <a:pt x="759" y="445"/>
                    </a:lnTo>
                    <a:lnTo>
                      <a:pt x="719" y="401"/>
                    </a:lnTo>
                    <a:lnTo>
                      <a:pt x="675" y="388"/>
                    </a:lnTo>
                    <a:lnTo>
                      <a:pt x="618" y="366"/>
                    </a:lnTo>
                    <a:lnTo>
                      <a:pt x="636" y="330"/>
                    </a:lnTo>
                    <a:lnTo>
                      <a:pt x="658" y="255"/>
                    </a:lnTo>
                    <a:lnTo>
                      <a:pt x="666" y="189"/>
                    </a:lnTo>
                    <a:lnTo>
                      <a:pt x="666" y="145"/>
                    </a:lnTo>
                    <a:lnTo>
                      <a:pt x="649" y="110"/>
                    </a:lnTo>
                    <a:lnTo>
                      <a:pt x="609" y="74"/>
                    </a:lnTo>
                    <a:lnTo>
                      <a:pt x="573" y="57"/>
                    </a:lnTo>
                    <a:lnTo>
                      <a:pt x="533" y="44"/>
                    </a:lnTo>
                    <a:lnTo>
                      <a:pt x="480" y="52"/>
                    </a:lnTo>
                    <a:lnTo>
                      <a:pt x="423" y="74"/>
                    </a:lnTo>
                    <a:lnTo>
                      <a:pt x="396" y="110"/>
                    </a:lnTo>
                    <a:lnTo>
                      <a:pt x="370" y="145"/>
                    </a:lnTo>
                    <a:lnTo>
                      <a:pt x="348" y="185"/>
                    </a:lnTo>
                    <a:lnTo>
                      <a:pt x="343" y="229"/>
                    </a:lnTo>
                    <a:lnTo>
                      <a:pt x="321" y="273"/>
                    </a:lnTo>
                    <a:lnTo>
                      <a:pt x="313" y="308"/>
                    </a:lnTo>
                    <a:lnTo>
                      <a:pt x="295" y="357"/>
                    </a:lnTo>
                    <a:lnTo>
                      <a:pt x="273" y="379"/>
                    </a:lnTo>
                    <a:lnTo>
                      <a:pt x="251" y="401"/>
                    </a:lnTo>
                    <a:lnTo>
                      <a:pt x="229" y="432"/>
                    </a:lnTo>
                    <a:lnTo>
                      <a:pt x="211" y="485"/>
                    </a:lnTo>
                    <a:lnTo>
                      <a:pt x="185" y="520"/>
                    </a:lnTo>
                    <a:lnTo>
                      <a:pt x="167" y="586"/>
                    </a:lnTo>
                    <a:lnTo>
                      <a:pt x="149" y="693"/>
                    </a:lnTo>
                    <a:lnTo>
                      <a:pt x="127" y="794"/>
                    </a:lnTo>
                    <a:lnTo>
                      <a:pt x="101" y="860"/>
                    </a:lnTo>
                    <a:lnTo>
                      <a:pt x="22" y="1024"/>
                    </a:lnTo>
                    <a:lnTo>
                      <a:pt x="30" y="984"/>
                    </a:lnTo>
                    <a:lnTo>
                      <a:pt x="30" y="957"/>
                    </a:lnTo>
                    <a:lnTo>
                      <a:pt x="35" y="927"/>
                    </a:lnTo>
                    <a:lnTo>
                      <a:pt x="48" y="878"/>
                    </a:lnTo>
                    <a:lnTo>
                      <a:pt x="35" y="825"/>
                    </a:lnTo>
                    <a:close/>
                  </a:path>
                </a:pathLst>
              </a:custGeom>
              <a:solidFill>
                <a:srgbClr val="ff9f1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74" name=""/>
              <p:cNvSpPr/>
              <p:nvPr/>
            </p:nvSpPr>
            <p:spPr>
              <a:xfrm>
                <a:off x="1508040" y="1989000"/>
                <a:ext cx="27360" cy="70200"/>
              </a:xfrm>
              <a:custGeom>
                <a:avLst/>
                <a:gdLst/>
                <a:ahLst/>
                <a:rect l="0" t="0" r="r" b="b"/>
                <a:pathLst>
                  <a:path w="76" h="195">
                    <a:moveTo>
                      <a:pt x="76" y="22"/>
                    </a:moveTo>
                    <a:lnTo>
                      <a:pt x="76" y="70"/>
                    </a:lnTo>
                    <a:lnTo>
                      <a:pt x="68" y="98"/>
                    </a:lnTo>
                    <a:lnTo>
                      <a:pt x="45" y="146"/>
                    </a:lnTo>
                    <a:lnTo>
                      <a:pt x="31" y="172"/>
                    </a:lnTo>
                    <a:lnTo>
                      <a:pt x="23" y="186"/>
                    </a:lnTo>
                    <a:lnTo>
                      <a:pt x="17" y="195"/>
                    </a:lnTo>
                    <a:lnTo>
                      <a:pt x="0" y="195"/>
                    </a:lnTo>
                    <a:lnTo>
                      <a:pt x="17" y="57"/>
                    </a:lnTo>
                    <a:lnTo>
                      <a:pt x="45" y="0"/>
                    </a:lnTo>
                    <a:lnTo>
                      <a:pt x="76" y="22"/>
                    </a:lnTo>
                    <a:close/>
                  </a:path>
                </a:pathLst>
              </a:custGeom>
              <a:solidFill>
                <a:srgbClr val="ffdfbf"/>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575" name=""/>
              <p:cNvSpPr/>
              <p:nvPr/>
            </p:nvSpPr>
            <p:spPr>
              <a:xfrm>
                <a:off x="1150920" y="1984320"/>
                <a:ext cx="28800" cy="66960"/>
              </a:xfrm>
              <a:custGeom>
                <a:avLst/>
                <a:gdLst/>
                <a:ahLst/>
                <a:rect l="0" t="0" r="r" b="b"/>
                <a:pathLst>
                  <a:path w="80" h="186">
                    <a:moveTo>
                      <a:pt x="0" y="22"/>
                    </a:moveTo>
                    <a:lnTo>
                      <a:pt x="8" y="66"/>
                    </a:lnTo>
                    <a:lnTo>
                      <a:pt x="13" y="92"/>
                    </a:lnTo>
                    <a:lnTo>
                      <a:pt x="35" y="142"/>
                    </a:lnTo>
                    <a:lnTo>
                      <a:pt x="49" y="168"/>
                    </a:lnTo>
                    <a:lnTo>
                      <a:pt x="58" y="177"/>
                    </a:lnTo>
                    <a:lnTo>
                      <a:pt x="71" y="186"/>
                    </a:lnTo>
                    <a:lnTo>
                      <a:pt x="80" y="186"/>
                    </a:lnTo>
                    <a:lnTo>
                      <a:pt x="62" y="57"/>
                    </a:lnTo>
                    <a:lnTo>
                      <a:pt x="35" y="0"/>
                    </a:lnTo>
                    <a:lnTo>
                      <a:pt x="0" y="22"/>
                    </a:lnTo>
                    <a:close/>
                  </a:path>
                </a:pathLst>
              </a:custGeom>
              <a:solidFill>
                <a:srgbClr val="ffdfbf"/>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576" name=""/>
              <p:cNvSpPr/>
              <p:nvPr/>
            </p:nvSpPr>
            <p:spPr>
              <a:xfrm>
                <a:off x="1430280" y="2125800"/>
                <a:ext cx="8280" cy="5040"/>
              </a:xfrm>
              <a:custGeom>
                <a:avLst/>
                <a:gdLst/>
                <a:ahLst/>
                <a:rect l="0" t="0" r="r" b="b"/>
                <a:pathLst>
                  <a:path w="23" h="14">
                    <a:moveTo>
                      <a:pt x="23" y="0"/>
                    </a:moveTo>
                    <a:lnTo>
                      <a:pt x="0" y="4"/>
                    </a:lnTo>
                    <a:lnTo>
                      <a:pt x="0" y="9"/>
                    </a:lnTo>
                    <a:lnTo>
                      <a:pt x="0" y="14"/>
                    </a:lnTo>
                    <a:lnTo>
                      <a:pt x="23" y="0"/>
                    </a:lnTo>
                    <a:close/>
                  </a:path>
                </a:pathLst>
              </a:custGeom>
              <a:solidFill>
                <a:srgbClr val="ff9f7f"/>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577" name=""/>
              <p:cNvSpPr/>
              <p:nvPr/>
            </p:nvSpPr>
            <p:spPr>
              <a:xfrm>
                <a:off x="1284120" y="1911240"/>
                <a:ext cx="38520" cy="44640"/>
              </a:xfrm>
              <a:custGeom>
                <a:avLst/>
                <a:gdLst/>
                <a:ahLst/>
                <a:rect l="0" t="0" r="r" b="b"/>
                <a:pathLst>
                  <a:path w="107" h="124">
                    <a:moveTo>
                      <a:pt x="67" y="26"/>
                    </a:moveTo>
                    <a:lnTo>
                      <a:pt x="85" y="39"/>
                    </a:lnTo>
                    <a:lnTo>
                      <a:pt x="99" y="71"/>
                    </a:lnTo>
                    <a:lnTo>
                      <a:pt x="103" y="84"/>
                    </a:lnTo>
                    <a:lnTo>
                      <a:pt x="107" y="111"/>
                    </a:lnTo>
                    <a:lnTo>
                      <a:pt x="107" y="124"/>
                    </a:lnTo>
                    <a:lnTo>
                      <a:pt x="85" y="111"/>
                    </a:lnTo>
                    <a:lnTo>
                      <a:pt x="75" y="102"/>
                    </a:lnTo>
                    <a:lnTo>
                      <a:pt x="53" y="102"/>
                    </a:lnTo>
                    <a:lnTo>
                      <a:pt x="31" y="89"/>
                    </a:lnTo>
                    <a:lnTo>
                      <a:pt x="0" y="80"/>
                    </a:lnTo>
                    <a:lnTo>
                      <a:pt x="0" y="71"/>
                    </a:lnTo>
                    <a:lnTo>
                      <a:pt x="8" y="57"/>
                    </a:lnTo>
                    <a:lnTo>
                      <a:pt x="13" y="44"/>
                    </a:lnTo>
                    <a:lnTo>
                      <a:pt x="17" y="17"/>
                    </a:lnTo>
                    <a:lnTo>
                      <a:pt x="8" y="0"/>
                    </a:lnTo>
                    <a:lnTo>
                      <a:pt x="67" y="26"/>
                    </a:lnTo>
                    <a:close/>
                  </a:path>
                </a:pathLst>
              </a:custGeom>
              <a:solidFill>
                <a:srgbClr val="ff9f7f"/>
              </a:solidFill>
              <a:ln w="0">
                <a:noFill/>
              </a:ln>
            </p:spPr>
            <p:txBody>
              <a:bodyPr lIns="90000" rIns="90000" tIns="-360" bIns="-360" anchor="t">
                <a:noAutofit/>
              </a:bodyPr>
              <a:p>
                <a:endParaRPr b="0" lang="en-US" sz="1800" spc="-1" strike="noStrike">
                  <a:solidFill>
                    <a:srgbClr val="000000"/>
                  </a:solidFill>
                  <a:latin typeface="Arial"/>
                </a:endParaRPr>
              </a:p>
            </p:txBody>
          </p:sp>
          <p:grpSp>
            <p:nvGrpSpPr>
              <p:cNvPr id="578" name=""/>
              <p:cNvGrpSpPr/>
              <p:nvPr/>
            </p:nvGrpSpPr>
            <p:grpSpPr>
              <a:xfrm>
                <a:off x="1201680" y="1893960"/>
                <a:ext cx="295920" cy="38520"/>
                <a:chOff x="1201680" y="1893960"/>
                <a:chExt cx="295920" cy="38520"/>
              </a:xfrm>
            </p:grpSpPr>
            <p:sp>
              <p:nvSpPr>
                <p:cNvPr id="579" name=""/>
                <p:cNvSpPr/>
                <p:nvPr/>
              </p:nvSpPr>
              <p:spPr>
                <a:xfrm>
                  <a:off x="1389240" y="1893960"/>
                  <a:ext cx="108360" cy="25920"/>
                </a:xfrm>
                <a:custGeom>
                  <a:avLst/>
                  <a:gdLst/>
                  <a:ahLst/>
                  <a:rect l="0" t="0" r="r" b="b"/>
                  <a:pathLst>
                    <a:path w="301" h="72">
                      <a:moveTo>
                        <a:pt x="22" y="53"/>
                      </a:moveTo>
                      <a:lnTo>
                        <a:pt x="39" y="40"/>
                      </a:lnTo>
                      <a:lnTo>
                        <a:pt x="57" y="31"/>
                      </a:lnTo>
                      <a:lnTo>
                        <a:pt x="74" y="23"/>
                      </a:lnTo>
                      <a:lnTo>
                        <a:pt x="102" y="8"/>
                      </a:lnTo>
                      <a:lnTo>
                        <a:pt x="137" y="8"/>
                      </a:lnTo>
                      <a:lnTo>
                        <a:pt x="168" y="0"/>
                      </a:lnTo>
                      <a:lnTo>
                        <a:pt x="190" y="0"/>
                      </a:lnTo>
                      <a:lnTo>
                        <a:pt x="221" y="8"/>
                      </a:lnTo>
                      <a:lnTo>
                        <a:pt x="235" y="8"/>
                      </a:lnTo>
                      <a:lnTo>
                        <a:pt x="262" y="23"/>
                      </a:lnTo>
                      <a:lnTo>
                        <a:pt x="284" y="40"/>
                      </a:lnTo>
                      <a:lnTo>
                        <a:pt x="301" y="63"/>
                      </a:lnTo>
                      <a:lnTo>
                        <a:pt x="275" y="45"/>
                      </a:lnTo>
                      <a:lnTo>
                        <a:pt x="248" y="36"/>
                      </a:lnTo>
                      <a:lnTo>
                        <a:pt x="203" y="27"/>
                      </a:lnTo>
                      <a:lnTo>
                        <a:pt x="186" y="27"/>
                      </a:lnTo>
                      <a:lnTo>
                        <a:pt x="168" y="27"/>
                      </a:lnTo>
                      <a:lnTo>
                        <a:pt x="146" y="27"/>
                      </a:lnTo>
                      <a:lnTo>
                        <a:pt x="124" y="31"/>
                      </a:lnTo>
                      <a:lnTo>
                        <a:pt x="98" y="40"/>
                      </a:lnTo>
                      <a:lnTo>
                        <a:pt x="84" y="53"/>
                      </a:lnTo>
                      <a:lnTo>
                        <a:pt x="61" y="63"/>
                      </a:lnTo>
                      <a:lnTo>
                        <a:pt x="44" y="68"/>
                      </a:lnTo>
                      <a:lnTo>
                        <a:pt x="39" y="72"/>
                      </a:lnTo>
                      <a:lnTo>
                        <a:pt x="22" y="72"/>
                      </a:lnTo>
                      <a:lnTo>
                        <a:pt x="0" y="68"/>
                      </a:lnTo>
                      <a:lnTo>
                        <a:pt x="22" y="53"/>
                      </a:lnTo>
                      <a:close/>
                    </a:path>
                  </a:pathLst>
                </a:custGeom>
                <a:solidFill>
                  <a:srgbClr val="bf7f3f"/>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580" name=""/>
                <p:cNvSpPr/>
                <p:nvPr/>
              </p:nvSpPr>
              <p:spPr>
                <a:xfrm>
                  <a:off x="1201680" y="1898640"/>
                  <a:ext cx="106560" cy="33840"/>
                </a:xfrm>
                <a:custGeom>
                  <a:avLst/>
                  <a:gdLst/>
                  <a:ahLst/>
                  <a:rect l="0" t="0" r="r" b="b"/>
                  <a:pathLst>
                    <a:path w="296" h="94">
                      <a:moveTo>
                        <a:pt x="296" y="58"/>
                      </a:moveTo>
                      <a:lnTo>
                        <a:pt x="283" y="27"/>
                      </a:lnTo>
                      <a:lnTo>
                        <a:pt x="265" y="13"/>
                      </a:lnTo>
                      <a:lnTo>
                        <a:pt x="239" y="8"/>
                      </a:lnTo>
                      <a:lnTo>
                        <a:pt x="203" y="0"/>
                      </a:lnTo>
                      <a:lnTo>
                        <a:pt x="159" y="0"/>
                      </a:lnTo>
                      <a:lnTo>
                        <a:pt x="114" y="0"/>
                      </a:lnTo>
                      <a:lnTo>
                        <a:pt x="66" y="8"/>
                      </a:lnTo>
                      <a:lnTo>
                        <a:pt x="22" y="58"/>
                      </a:lnTo>
                      <a:lnTo>
                        <a:pt x="0" y="94"/>
                      </a:lnTo>
                      <a:lnTo>
                        <a:pt x="39" y="49"/>
                      </a:lnTo>
                      <a:lnTo>
                        <a:pt x="83" y="36"/>
                      </a:lnTo>
                      <a:lnTo>
                        <a:pt x="123" y="27"/>
                      </a:lnTo>
                      <a:lnTo>
                        <a:pt x="177" y="27"/>
                      </a:lnTo>
                      <a:lnTo>
                        <a:pt x="217" y="40"/>
                      </a:lnTo>
                      <a:lnTo>
                        <a:pt x="252" y="49"/>
                      </a:lnTo>
                      <a:lnTo>
                        <a:pt x="296" y="58"/>
                      </a:lnTo>
                      <a:close/>
                    </a:path>
                  </a:pathLst>
                </a:custGeom>
                <a:solidFill>
                  <a:srgbClr val="bf7f3f"/>
                </a:solidFill>
                <a:ln w="0">
                  <a:noFill/>
                </a:ln>
              </p:spPr>
              <p:txBody>
                <a:bodyPr lIns="90000" rIns="90000" tIns="-11160" bIns="-11160" anchor="t">
                  <a:noAutofit/>
                </a:bodyPr>
                <a:p>
                  <a:endParaRPr b="0" lang="en-US" sz="1800" spc="-1" strike="noStrike">
                    <a:solidFill>
                      <a:srgbClr val="000000"/>
                    </a:solidFill>
                    <a:latin typeface="Arial"/>
                  </a:endParaRPr>
                </a:p>
              </p:txBody>
            </p:sp>
          </p:grpSp>
          <p:grpSp>
            <p:nvGrpSpPr>
              <p:cNvPr id="581" name=""/>
              <p:cNvGrpSpPr/>
              <p:nvPr/>
            </p:nvGrpSpPr>
            <p:grpSpPr>
              <a:xfrm>
                <a:off x="1398600" y="1933560"/>
                <a:ext cx="72000" cy="36720"/>
                <a:chOff x="1398600" y="1933560"/>
                <a:chExt cx="72000" cy="36720"/>
              </a:xfrm>
            </p:grpSpPr>
            <p:sp>
              <p:nvSpPr>
                <p:cNvPr id="582" name=""/>
                <p:cNvSpPr/>
                <p:nvPr/>
              </p:nvSpPr>
              <p:spPr>
                <a:xfrm>
                  <a:off x="1398600" y="1962000"/>
                  <a:ext cx="68760" cy="8280"/>
                </a:xfrm>
                <a:custGeom>
                  <a:avLst/>
                  <a:gdLst/>
                  <a:ahLst/>
                  <a:rect l="0" t="0" r="r" b="b"/>
                  <a:pathLst>
                    <a:path w="191" h="23">
                      <a:moveTo>
                        <a:pt x="8" y="4"/>
                      </a:moveTo>
                      <a:lnTo>
                        <a:pt x="26" y="8"/>
                      </a:lnTo>
                      <a:lnTo>
                        <a:pt x="58" y="8"/>
                      </a:lnTo>
                      <a:lnTo>
                        <a:pt x="93" y="8"/>
                      </a:lnTo>
                      <a:lnTo>
                        <a:pt x="111" y="8"/>
                      </a:lnTo>
                      <a:lnTo>
                        <a:pt x="137" y="8"/>
                      </a:lnTo>
                      <a:lnTo>
                        <a:pt x="156" y="8"/>
                      </a:lnTo>
                      <a:lnTo>
                        <a:pt x="173" y="8"/>
                      </a:lnTo>
                      <a:lnTo>
                        <a:pt x="191" y="0"/>
                      </a:lnTo>
                      <a:lnTo>
                        <a:pt x="173" y="14"/>
                      </a:lnTo>
                      <a:lnTo>
                        <a:pt x="160" y="18"/>
                      </a:lnTo>
                      <a:lnTo>
                        <a:pt x="151" y="23"/>
                      </a:lnTo>
                      <a:lnTo>
                        <a:pt x="133" y="23"/>
                      </a:lnTo>
                      <a:lnTo>
                        <a:pt x="111" y="23"/>
                      </a:lnTo>
                      <a:lnTo>
                        <a:pt x="98" y="23"/>
                      </a:lnTo>
                      <a:lnTo>
                        <a:pt x="80" y="18"/>
                      </a:lnTo>
                      <a:lnTo>
                        <a:pt x="67" y="14"/>
                      </a:lnTo>
                      <a:lnTo>
                        <a:pt x="44" y="14"/>
                      </a:lnTo>
                      <a:lnTo>
                        <a:pt x="30" y="14"/>
                      </a:lnTo>
                      <a:lnTo>
                        <a:pt x="17" y="8"/>
                      </a:lnTo>
                      <a:lnTo>
                        <a:pt x="8" y="8"/>
                      </a:lnTo>
                      <a:lnTo>
                        <a:pt x="0" y="8"/>
                      </a:lnTo>
                      <a:lnTo>
                        <a:pt x="8" y="4"/>
                      </a:lnTo>
                      <a:close/>
                    </a:path>
                  </a:pathLst>
                </a:custGeom>
                <a:solidFill>
                  <a:srgbClr val="ff9f7f"/>
                </a:solidFill>
                <a:ln w="0">
                  <a:noFill/>
                </a:ln>
              </p:spPr>
              <p:txBody>
                <a:bodyPr lIns="90000" rIns="90000" tIns="-36720" bIns="-36720" anchor="t">
                  <a:noAutofit/>
                </a:bodyPr>
                <a:p>
                  <a:endParaRPr b="0" lang="en-US" sz="1800" spc="-1" strike="noStrike">
                    <a:solidFill>
                      <a:srgbClr val="000000"/>
                    </a:solidFill>
                    <a:latin typeface="Arial"/>
                  </a:endParaRPr>
                </a:p>
              </p:txBody>
            </p:sp>
            <p:grpSp>
              <p:nvGrpSpPr>
                <p:cNvPr id="583" name=""/>
                <p:cNvGrpSpPr/>
                <p:nvPr/>
              </p:nvGrpSpPr>
              <p:grpSpPr>
                <a:xfrm>
                  <a:off x="1405080" y="1933560"/>
                  <a:ext cx="65520" cy="28800"/>
                  <a:chOff x="1405080" y="1933560"/>
                  <a:chExt cx="65520" cy="28800"/>
                </a:xfrm>
              </p:grpSpPr>
              <p:sp>
                <p:nvSpPr>
                  <p:cNvPr id="584" name=""/>
                  <p:cNvSpPr/>
                  <p:nvPr/>
                </p:nvSpPr>
                <p:spPr>
                  <a:xfrm>
                    <a:off x="1405080" y="1938240"/>
                    <a:ext cx="62280" cy="18000"/>
                  </a:xfrm>
                  <a:custGeom>
                    <a:avLst/>
                    <a:gdLst/>
                    <a:ahLst/>
                    <a:rect l="0" t="0" r="r" b="b"/>
                    <a:pathLst>
                      <a:path w="173" h="50">
                        <a:moveTo>
                          <a:pt x="0" y="41"/>
                        </a:moveTo>
                        <a:lnTo>
                          <a:pt x="17" y="27"/>
                        </a:lnTo>
                        <a:lnTo>
                          <a:pt x="30" y="18"/>
                        </a:lnTo>
                        <a:lnTo>
                          <a:pt x="45" y="8"/>
                        </a:lnTo>
                        <a:lnTo>
                          <a:pt x="58" y="0"/>
                        </a:lnTo>
                        <a:lnTo>
                          <a:pt x="75" y="0"/>
                        </a:lnTo>
                        <a:lnTo>
                          <a:pt x="98" y="0"/>
                        </a:lnTo>
                        <a:lnTo>
                          <a:pt x="106" y="8"/>
                        </a:lnTo>
                        <a:lnTo>
                          <a:pt x="120" y="8"/>
                        </a:lnTo>
                        <a:lnTo>
                          <a:pt x="134" y="18"/>
                        </a:lnTo>
                        <a:lnTo>
                          <a:pt x="143" y="18"/>
                        </a:lnTo>
                        <a:lnTo>
                          <a:pt x="156" y="27"/>
                        </a:lnTo>
                        <a:lnTo>
                          <a:pt x="173" y="31"/>
                        </a:lnTo>
                        <a:lnTo>
                          <a:pt x="173" y="41"/>
                        </a:lnTo>
                        <a:lnTo>
                          <a:pt x="156" y="50"/>
                        </a:lnTo>
                        <a:lnTo>
                          <a:pt x="134" y="50"/>
                        </a:lnTo>
                        <a:lnTo>
                          <a:pt x="106" y="50"/>
                        </a:lnTo>
                        <a:lnTo>
                          <a:pt x="71" y="50"/>
                        </a:lnTo>
                        <a:lnTo>
                          <a:pt x="39" y="50"/>
                        </a:lnTo>
                        <a:lnTo>
                          <a:pt x="22" y="50"/>
                        </a:lnTo>
                        <a:lnTo>
                          <a:pt x="0" y="41"/>
                        </a:lnTo>
                        <a:close/>
                      </a:path>
                    </a:pathLst>
                  </a:custGeom>
                  <a:solidFill>
                    <a:srgbClr val="ffffff"/>
                  </a:solidFill>
                  <a:ln w="0">
                    <a:noFill/>
                  </a:ln>
                </p:spPr>
                <p:txBody>
                  <a:bodyPr lIns="90000" rIns="90000" tIns="-27000" bIns="-27000" anchor="t">
                    <a:noAutofit/>
                  </a:bodyPr>
                  <a:p>
                    <a:endParaRPr b="0" lang="en-US" sz="1800" spc="-1" strike="noStrike">
                      <a:solidFill>
                        <a:srgbClr val="000000"/>
                      </a:solidFill>
                      <a:latin typeface="Arial"/>
                    </a:endParaRPr>
                  </a:p>
                </p:txBody>
              </p:sp>
              <p:grpSp>
                <p:nvGrpSpPr>
                  <p:cNvPr id="585" name=""/>
                  <p:cNvGrpSpPr/>
                  <p:nvPr/>
                </p:nvGrpSpPr>
                <p:grpSpPr>
                  <a:xfrm>
                    <a:off x="1422360" y="1936800"/>
                    <a:ext cx="30240" cy="25560"/>
                    <a:chOff x="1422360" y="1936800"/>
                    <a:chExt cx="30240" cy="25560"/>
                  </a:xfrm>
                </p:grpSpPr>
                <p:sp>
                  <p:nvSpPr>
                    <p:cNvPr id="586" name=""/>
                    <p:cNvSpPr/>
                    <p:nvPr/>
                  </p:nvSpPr>
                  <p:spPr>
                    <a:xfrm>
                      <a:off x="1422360" y="1936800"/>
                      <a:ext cx="30240" cy="25560"/>
                    </a:xfrm>
                    <a:prstGeom prst="ellipse">
                      <a:avLst/>
                    </a:prstGeom>
                    <a:solidFill>
                      <a:srgbClr val="005f7f"/>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587" name=""/>
                    <p:cNvSpPr/>
                    <p:nvPr/>
                  </p:nvSpPr>
                  <p:spPr>
                    <a:xfrm>
                      <a:off x="1424160" y="1938240"/>
                      <a:ext cx="25560" cy="23760"/>
                    </a:xfrm>
                    <a:prstGeom prst="ellipse">
                      <a:avLst/>
                    </a:prstGeom>
                    <a:solidFill>
                      <a:srgbClr val="00a4bb"/>
                    </a:solidFill>
                    <a:ln w="0">
                      <a:noFill/>
                    </a:ln>
                  </p:spPr>
                  <p:txBody>
                    <a:bodyPr lIns="90000" rIns="90000" tIns="-21240" bIns="-21240" anchor="t">
                      <a:noAutofit/>
                    </a:bodyPr>
                    <a:p>
                      <a:endParaRPr b="0" lang="en-US" sz="1800" spc="-1" strike="noStrike">
                        <a:solidFill>
                          <a:srgbClr val="000000"/>
                        </a:solidFill>
                        <a:latin typeface="Arial"/>
                      </a:endParaRPr>
                    </a:p>
                  </p:txBody>
                </p:sp>
                <p:sp>
                  <p:nvSpPr>
                    <p:cNvPr id="588" name=""/>
                    <p:cNvSpPr/>
                    <p:nvPr/>
                  </p:nvSpPr>
                  <p:spPr>
                    <a:xfrm>
                      <a:off x="1432080" y="1940040"/>
                      <a:ext cx="12600" cy="15840"/>
                    </a:xfrm>
                    <a:prstGeom prst="ellipse">
                      <a:avLst/>
                    </a:prstGeom>
                    <a:solidFill>
                      <a:srgbClr val="000000"/>
                    </a:solidFill>
                    <a:ln w="0">
                      <a:noFill/>
                    </a:ln>
                  </p:spPr>
                  <p:txBody>
                    <a:bodyPr lIns="90000" rIns="90000" tIns="-29160" bIns="-29160" anchor="t">
                      <a:noAutofit/>
                    </a:bodyPr>
                    <a:p>
                      <a:endParaRPr b="0" lang="en-US" sz="1800" spc="-1" strike="noStrike">
                        <a:solidFill>
                          <a:srgbClr val="ffffff"/>
                        </a:solidFill>
                        <a:latin typeface="Arial"/>
                      </a:endParaRPr>
                    </a:p>
                  </p:txBody>
                </p:sp>
                <p:sp>
                  <p:nvSpPr>
                    <p:cNvPr id="589" name=""/>
                    <p:cNvSpPr/>
                    <p:nvPr/>
                  </p:nvSpPr>
                  <p:spPr>
                    <a:xfrm>
                      <a:off x="1425600" y="1941480"/>
                      <a:ext cx="4680" cy="3240"/>
                    </a:xfrm>
                    <a:prstGeom prst="ellipse">
                      <a:avLst/>
                    </a:prstGeom>
                    <a:solidFill>
                      <a:srgbClr val="ffffff"/>
                    </a:solidFill>
                    <a:ln w="0">
                      <a:noFill/>
                    </a:ln>
                  </p:spPr>
                  <p:txBody>
                    <a:bodyPr lIns="90000" rIns="90000" tIns="-41760" bIns="-41760" anchor="t">
                      <a:noAutofit/>
                    </a:bodyPr>
                    <a:p>
                      <a:endParaRPr b="0" lang="en-US" sz="1800" spc="-1" strike="noStrike">
                        <a:solidFill>
                          <a:srgbClr val="000000"/>
                        </a:solidFill>
                        <a:latin typeface="Arial"/>
                      </a:endParaRPr>
                    </a:p>
                  </p:txBody>
                </p:sp>
              </p:grpSp>
              <p:sp>
                <p:nvSpPr>
                  <p:cNvPr id="590" name=""/>
                  <p:cNvSpPr/>
                  <p:nvPr/>
                </p:nvSpPr>
                <p:spPr>
                  <a:xfrm>
                    <a:off x="1428840" y="1962000"/>
                    <a:ext cx="41040" cy="0"/>
                  </a:xfrm>
                  <a:custGeom>
                    <a:avLst/>
                    <a:gdLst/>
                    <a:ahLst/>
                    <a:rect l="0" t="0" r="r" b="b"/>
                    <a:pathLst>
                      <a:path w="114" h="0">
                        <a:moveTo>
                          <a:pt x="0" y="0"/>
                        </a:moveTo>
                        <a:lnTo>
                          <a:pt x="17" y="0"/>
                        </a:lnTo>
                        <a:lnTo>
                          <a:pt x="35" y="0"/>
                        </a:lnTo>
                        <a:lnTo>
                          <a:pt x="57" y="0"/>
                        </a:lnTo>
                        <a:lnTo>
                          <a:pt x="74" y="0"/>
                        </a:lnTo>
                        <a:lnTo>
                          <a:pt x="88" y="0"/>
                        </a:lnTo>
                        <a:lnTo>
                          <a:pt x="105" y="0"/>
                        </a:lnTo>
                        <a:lnTo>
                          <a:pt x="110" y="0"/>
                        </a:lnTo>
                        <a:lnTo>
                          <a:pt x="114" y="0"/>
                        </a:lnTo>
                        <a:lnTo>
                          <a:pt x="110" y="0"/>
                        </a:lnTo>
                        <a:lnTo>
                          <a:pt x="114" y="0"/>
                        </a:lnTo>
                        <a:lnTo>
                          <a:pt x="101" y="0"/>
                        </a:lnTo>
                        <a:lnTo>
                          <a:pt x="110" y="0"/>
                        </a:lnTo>
                        <a:lnTo>
                          <a:pt x="88" y="0"/>
                        </a:lnTo>
                        <a:lnTo>
                          <a:pt x="97" y="0"/>
                        </a:lnTo>
                        <a:lnTo>
                          <a:pt x="83" y="0"/>
                        </a:lnTo>
                        <a:lnTo>
                          <a:pt x="88" y="0"/>
                        </a:lnTo>
                        <a:lnTo>
                          <a:pt x="74" y="0"/>
                        </a:lnTo>
                        <a:lnTo>
                          <a:pt x="61" y="0"/>
                        </a:lnTo>
                        <a:lnTo>
                          <a:pt x="39" y="0"/>
                        </a:lnTo>
                        <a:lnTo>
                          <a:pt x="17"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91" name=""/>
                  <p:cNvSpPr/>
                  <p:nvPr/>
                </p:nvSpPr>
                <p:spPr>
                  <a:xfrm>
                    <a:off x="1411200" y="1938240"/>
                    <a:ext cx="55800" cy="14760"/>
                  </a:xfrm>
                  <a:custGeom>
                    <a:avLst/>
                    <a:gdLst/>
                    <a:ahLst/>
                    <a:rect l="0" t="0" r="r" b="b"/>
                    <a:pathLst>
                      <a:path w="155" h="41">
                        <a:moveTo>
                          <a:pt x="0" y="27"/>
                        </a:moveTo>
                        <a:lnTo>
                          <a:pt x="17" y="18"/>
                        </a:lnTo>
                        <a:lnTo>
                          <a:pt x="26" y="14"/>
                        </a:lnTo>
                        <a:lnTo>
                          <a:pt x="39" y="8"/>
                        </a:lnTo>
                        <a:lnTo>
                          <a:pt x="57" y="8"/>
                        </a:lnTo>
                        <a:lnTo>
                          <a:pt x="70" y="8"/>
                        </a:lnTo>
                        <a:lnTo>
                          <a:pt x="80" y="8"/>
                        </a:lnTo>
                        <a:lnTo>
                          <a:pt x="98" y="14"/>
                        </a:lnTo>
                        <a:lnTo>
                          <a:pt x="115" y="23"/>
                        </a:lnTo>
                        <a:lnTo>
                          <a:pt x="124" y="27"/>
                        </a:lnTo>
                        <a:lnTo>
                          <a:pt x="137" y="32"/>
                        </a:lnTo>
                        <a:lnTo>
                          <a:pt x="155" y="41"/>
                        </a:lnTo>
                        <a:lnTo>
                          <a:pt x="146" y="32"/>
                        </a:lnTo>
                        <a:lnTo>
                          <a:pt x="133" y="27"/>
                        </a:lnTo>
                        <a:lnTo>
                          <a:pt x="115" y="14"/>
                        </a:lnTo>
                        <a:lnTo>
                          <a:pt x="98" y="8"/>
                        </a:lnTo>
                        <a:lnTo>
                          <a:pt x="80" y="8"/>
                        </a:lnTo>
                        <a:lnTo>
                          <a:pt x="66" y="0"/>
                        </a:lnTo>
                        <a:lnTo>
                          <a:pt x="48" y="0"/>
                        </a:lnTo>
                        <a:lnTo>
                          <a:pt x="39" y="8"/>
                        </a:lnTo>
                        <a:lnTo>
                          <a:pt x="26" y="8"/>
                        </a:lnTo>
                        <a:lnTo>
                          <a:pt x="17" y="14"/>
                        </a:lnTo>
                        <a:lnTo>
                          <a:pt x="0" y="27"/>
                        </a:lnTo>
                        <a:close/>
                      </a:path>
                    </a:pathLst>
                  </a:custGeom>
                  <a:solidFill>
                    <a:srgbClr val="9f9f9f"/>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92" name=""/>
                  <p:cNvSpPr/>
                  <p:nvPr/>
                </p:nvSpPr>
                <p:spPr>
                  <a:xfrm>
                    <a:off x="1413000" y="1938240"/>
                    <a:ext cx="57600" cy="9720"/>
                  </a:xfrm>
                  <a:custGeom>
                    <a:avLst/>
                    <a:gdLst/>
                    <a:ahLst/>
                    <a:rect l="0" t="0" r="r" b="b"/>
                    <a:pathLst>
                      <a:path w="160" h="27">
                        <a:moveTo>
                          <a:pt x="0" y="18"/>
                        </a:moveTo>
                        <a:lnTo>
                          <a:pt x="13" y="14"/>
                        </a:lnTo>
                        <a:lnTo>
                          <a:pt x="26" y="8"/>
                        </a:lnTo>
                        <a:lnTo>
                          <a:pt x="35" y="4"/>
                        </a:lnTo>
                        <a:lnTo>
                          <a:pt x="58" y="4"/>
                        </a:lnTo>
                        <a:lnTo>
                          <a:pt x="80" y="4"/>
                        </a:lnTo>
                        <a:lnTo>
                          <a:pt x="89" y="4"/>
                        </a:lnTo>
                        <a:lnTo>
                          <a:pt x="102" y="14"/>
                        </a:lnTo>
                        <a:lnTo>
                          <a:pt x="121" y="14"/>
                        </a:lnTo>
                        <a:lnTo>
                          <a:pt x="134" y="18"/>
                        </a:lnTo>
                        <a:lnTo>
                          <a:pt x="147" y="23"/>
                        </a:lnTo>
                        <a:lnTo>
                          <a:pt x="160" y="27"/>
                        </a:lnTo>
                        <a:lnTo>
                          <a:pt x="156" y="23"/>
                        </a:lnTo>
                        <a:lnTo>
                          <a:pt x="138" y="14"/>
                        </a:lnTo>
                        <a:lnTo>
                          <a:pt x="121" y="14"/>
                        </a:lnTo>
                        <a:lnTo>
                          <a:pt x="102" y="4"/>
                        </a:lnTo>
                        <a:lnTo>
                          <a:pt x="89" y="0"/>
                        </a:lnTo>
                        <a:lnTo>
                          <a:pt x="71" y="0"/>
                        </a:lnTo>
                        <a:lnTo>
                          <a:pt x="58" y="0"/>
                        </a:lnTo>
                        <a:lnTo>
                          <a:pt x="35" y="0"/>
                        </a:lnTo>
                        <a:lnTo>
                          <a:pt x="30" y="4"/>
                        </a:lnTo>
                        <a:lnTo>
                          <a:pt x="22" y="8"/>
                        </a:lnTo>
                        <a:lnTo>
                          <a:pt x="0" y="18"/>
                        </a:lnTo>
                        <a:close/>
                      </a:path>
                    </a:pathLst>
                  </a:custGeom>
                  <a:solidFill>
                    <a:srgbClr val="000000"/>
                  </a:solidFill>
                  <a:ln w="0">
                    <a:noFill/>
                  </a:ln>
                </p:spPr>
                <p:txBody>
                  <a:bodyPr lIns="90000" rIns="90000" tIns="-35280" bIns="-35280" anchor="t">
                    <a:noAutofit/>
                  </a:bodyPr>
                  <a:p>
                    <a:endParaRPr b="0" lang="en-US" sz="1800" spc="-1" strike="noStrike">
                      <a:solidFill>
                        <a:srgbClr val="ffffff"/>
                      </a:solidFill>
                      <a:latin typeface="Arial"/>
                    </a:endParaRPr>
                  </a:p>
                </p:txBody>
              </p:sp>
              <p:sp>
                <p:nvSpPr>
                  <p:cNvPr id="593" name=""/>
                  <p:cNvSpPr/>
                  <p:nvPr/>
                </p:nvSpPr>
                <p:spPr>
                  <a:xfrm>
                    <a:off x="1406520" y="1933560"/>
                    <a:ext cx="59040" cy="8280"/>
                  </a:xfrm>
                  <a:custGeom>
                    <a:avLst/>
                    <a:gdLst/>
                    <a:ahLst/>
                    <a:rect l="0" t="0" r="r" b="b"/>
                    <a:pathLst>
                      <a:path w="164" h="23">
                        <a:moveTo>
                          <a:pt x="0" y="23"/>
                        </a:moveTo>
                        <a:lnTo>
                          <a:pt x="26" y="14"/>
                        </a:lnTo>
                        <a:lnTo>
                          <a:pt x="39" y="4"/>
                        </a:lnTo>
                        <a:lnTo>
                          <a:pt x="52" y="4"/>
                        </a:lnTo>
                        <a:lnTo>
                          <a:pt x="70" y="0"/>
                        </a:lnTo>
                        <a:lnTo>
                          <a:pt x="93" y="4"/>
                        </a:lnTo>
                        <a:lnTo>
                          <a:pt x="115" y="4"/>
                        </a:lnTo>
                        <a:lnTo>
                          <a:pt x="128" y="8"/>
                        </a:lnTo>
                        <a:lnTo>
                          <a:pt x="142" y="14"/>
                        </a:lnTo>
                        <a:lnTo>
                          <a:pt x="164" y="23"/>
                        </a:lnTo>
                        <a:lnTo>
                          <a:pt x="142" y="14"/>
                        </a:lnTo>
                        <a:lnTo>
                          <a:pt x="133" y="8"/>
                        </a:lnTo>
                        <a:lnTo>
                          <a:pt x="115" y="4"/>
                        </a:lnTo>
                        <a:lnTo>
                          <a:pt x="102" y="0"/>
                        </a:lnTo>
                        <a:lnTo>
                          <a:pt x="84" y="0"/>
                        </a:lnTo>
                        <a:lnTo>
                          <a:pt x="70" y="0"/>
                        </a:lnTo>
                        <a:lnTo>
                          <a:pt x="52" y="4"/>
                        </a:lnTo>
                        <a:lnTo>
                          <a:pt x="44" y="4"/>
                        </a:lnTo>
                        <a:lnTo>
                          <a:pt x="35" y="8"/>
                        </a:lnTo>
                        <a:lnTo>
                          <a:pt x="22" y="14"/>
                        </a:lnTo>
                        <a:lnTo>
                          <a:pt x="0" y="23"/>
                        </a:lnTo>
                        <a:close/>
                      </a:path>
                    </a:pathLst>
                  </a:custGeom>
                  <a:solidFill>
                    <a:srgbClr val="bf7f3f"/>
                  </a:solidFill>
                  <a:ln w="0">
                    <a:noFill/>
                  </a:ln>
                </p:spPr>
                <p:txBody>
                  <a:bodyPr lIns="90000" rIns="90000" tIns="-36720" bIns="-36720" anchor="t">
                    <a:noAutofit/>
                  </a:bodyPr>
                  <a:p>
                    <a:endParaRPr b="0" lang="en-US" sz="1800" spc="-1" strike="noStrike">
                      <a:solidFill>
                        <a:srgbClr val="000000"/>
                      </a:solidFill>
                      <a:latin typeface="Arial"/>
                    </a:endParaRPr>
                  </a:p>
                </p:txBody>
              </p:sp>
            </p:grpSp>
          </p:grpSp>
          <p:grpSp>
            <p:nvGrpSpPr>
              <p:cNvPr id="594" name=""/>
              <p:cNvGrpSpPr/>
              <p:nvPr/>
            </p:nvGrpSpPr>
            <p:grpSpPr>
              <a:xfrm>
                <a:off x="1228680" y="1932120"/>
                <a:ext cx="70200" cy="38160"/>
                <a:chOff x="1228680" y="1932120"/>
                <a:chExt cx="70200" cy="38160"/>
              </a:xfrm>
            </p:grpSpPr>
            <p:sp>
              <p:nvSpPr>
                <p:cNvPr id="595" name=""/>
                <p:cNvSpPr/>
                <p:nvPr/>
              </p:nvSpPr>
              <p:spPr>
                <a:xfrm>
                  <a:off x="1231920" y="1960560"/>
                  <a:ext cx="66960" cy="9720"/>
                </a:xfrm>
                <a:custGeom>
                  <a:avLst/>
                  <a:gdLst/>
                  <a:ahLst/>
                  <a:rect l="0" t="0" r="r" b="b"/>
                  <a:pathLst>
                    <a:path w="186" h="27">
                      <a:moveTo>
                        <a:pt x="186" y="0"/>
                      </a:moveTo>
                      <a:lnTo>
                        <a:pt x="168" y="4"/>
                      </a:lnTo>
                      <a:lnTo>
                        <a:pt x="128" y="8"/>
                      </a:lnTo>
                      <a:lnTo>
                        <a:pt x="92" y="8"/>
                      </a:lnTo>
                      <a:lnTo>
                        <a:pt x="83" y="8"/>
                      </a:lnTo>
                      <a:lnTo>
                        <a:pt x="52" y="8"/>
                      </a:lnTo>
                      <a:lnTo>
                        <a:pt x="35" y="8"/>
                      </a:lnTo>
                      <a:lnTo>
                        <a:pt x="17" y="4"/>
                      </a:lnTo>
                      <a:lnTo>
                        <a:pt x="0" y="0"/>
                      </a:lnTo>
                      <a:lnTo>
                        <a:pt x="17" y="18"/>
                      </a:lnTo>
                      <a:lnTo>
                        <a:pt x="30" y="23"/>
                      </a:lnTo>
                      <a:lnTo>
                        <a:pt x="44" y="27"/>
                      </a:lnTo>
                      <a:lnTo>
                        <a:pt x="57" y="27"/>
                      </a:lnTo>
                      <a:lnTo>
                        <a:pt x="79" y="27"/>
                      </a:lnTo>
                      <a:lnTo>
                        <a:pt x="88" y="23"/>
                      </a:lnTo>
                      <a:lnTo>
                        <a:pt x="106" y="18"/>
                      </a:lnTo>
                      <a:lnTo>
                        <a:pt x="128" y="14"/>
                      </a:lnTo>
                      <a:lnTo>
                        <a:pt x="137" y="14"/>
                      </a:lnTo>
                      <a:lnTo>
                        <a:pt x="155" y="8"/>
                      </a:lnTo>
                      <a:lnTo>
                        <a:pt x="186" y="0"/>
                      </a:lnTo>
                      <a:close/>
                    </a:path>
                  </a:pathLst>
                </a:custGeom>
                <a:solidFill>
                  <a:srgbClr val="ff9f7f"/>
                </a:solidFill>
                <a:ln w="0">
                  <a:noFill/>
                </a:ln>
              </p:spPr>
              <p:txBody>
                <a:bodyPr lIns="90000" rIns="90000" tIns="-35280" bIns="-35280" anchor="t">
                  <a:noAutofit/>
                </a:bodyPr>
                <a:p>
                  <a:endParaRPr b="0" lang="en-US" sz="1800" spc="-1" strike="noStrike">
                    <a:solidFill>
                      <a:srgbClr val="000000"/>
                    </a:solidFill>
                    <a:latin typeface="Arial"/>
                  </a:endParaRPr>
                </a:p>
              </p:txBody>
            </p:sp>
            <p:grpSp>
              <p:nvGrpSpPr>
                <p:cNvPr id="596" name=""/>
                <p:cNvGrpSpPr/>
                <p:nvPr/>
              </p:nvGrpSpPr>
              <p:grpSpPr>
                <a:xfrm>
                  <a:off x="1228680" y="1932120"/>
                  <a:ext cx="66960" cy="30240"/>
                  <a:chOff x="1228680" y="1932120"/>
                  <a:chExt cx="66960" cy="30240"/>
                </a:xfrm>
              </p:grpSpPr>
              <p:sp>
                <p:nvSpPr>
                  <p:cNvPr id="597" name=""/>
                  <p:cNvSpPr/>
                  <p:nvPr/>
                </p:nvSpPr>
                <p:spPr>
                  <a:xfrm>
                    <a:off x="1231920" y="1938240"/>
                    <a:ext cx="63720" cy="18000"/>
                  </a:xfrm>
                  <a:custGeom>
                    <a:avLst/>
                    <a:gdLst/>
                    <a:ahLst/>
                    <a:rect l="0" t="0" r="r" b="b"/>
                    <a:pathLst>
                      <a:path w="177" h="50">
                        <a:moveTo>
                          <a:pt x="177" y="31"/>
                        </a:moveTo>
                        <a:lnTo>
                          <a:pt x="164" y="23"/>
                        </a:lnTo>
                        <a:lnTo>
                          <a:pt x="142" y="14"/>
                        </a:lnTo>
                        <a:lnTo>
                          <a:pt x="133" y="8"/>
                        </a:lnTo>
                        <a:lnTo>
                          <a:pt x="120" y="0"/>
                        </a:lnTo>
                        <a:lnTo>
                          <a:pt x="93" y="0"/>
                        </a:lnTo>
                        <a:lnTo>
                          <a:pt x="83" y="0"/>
                        </a:lnTo>
                        <a:lnTo>
                          <a:pt x="57" y="0"/>
                        </a:lnTo>
                        <a:lnTo>
                          <a:pt x="48" y="8"/>
                        </a:lnTo>
                        <a:lnTo>
                          <a:pt x="35" y="14"/>
                        </a:lnTo>
                        <a:lnTo>
                          <a:pt x="30" y="18"/>
                        </a:lnTo>
                        <a:lnTo>
                          <a:pt x="17" y="23"/>
                        </a:lnTo>
                        <a:lnTo>
                          <a:pt x="0" y="31"/>
                        </a:lnTo>
                        <a:lnTo>
                          <a:pt x="0" y="41"/>
                        </a:lnTo>
                        <a:lnTo>
                          <a:pt x="17" y="50"/>
                        </a:lnTo>
                        <a:lnTo>
                          <a:pt x="35" y="50"/>
                        </a:lnTo>
                        <a:lnTo>
                          <a:pt x="70" y="50"/>
                        </a:lnTo>
                        <a:lnTo>
                          <a:pt x="102" y="50"/>
                        </a:lnTo>
                        <a:lnTo>
                          <a:pt x="137" y="50"/>
                        </a:lnTo>
                        <a:lnTo>
                          <a:pt x="150" y="50"/>
                        </a:lnTo>
                        <a:lnTo>
                          <a:pt x="177" y="31"/>
                        </a:lnTo>
                        <a:close/>
                      </a:path>
                    </a:pathLst>
                  </a:custGeom>
                  <a:solidFill>
                    <a:srgbClr val="ffffff"/>
                  </a:solidFill>
                  <a:ln w="0">
                    <a:noFill/>
                  </a:ln>
                </p:spPr>
                <p:txBody>
                  <a:bodyPr lIns="90000" rIns="90000" tIns="-27000" bIns="-27000" anchor="t">
                    <a:noAutofit/>
                  </a:bodyPr>
                  <a:p>
                    <a:endParaRPr b="0" lang="en-US" sz="1800" spc="-1" strike="noStrike">
                      <a:solidFill>
                        <a:srgbClr val="000000"/>
                      </a:solidFill>
                      <a:latin typeface="Arial"/>
                    </a:endParaRPr>
                  </a:p>
                </p:txBody>
              </p:sp>
              <p:grpSp>
                <p:nvGrpSpPr>
                  <p:cNvPr id="598" name=""/>
                  <p:cNvGrpSpPr/>
                  <p:nvPr/>
                </p:nvGrpSpPr>
                <p:grpSpPr>
                  <a:xfrm>
                    <a:off x="1246320" y="1936800"/>
                    <a:ext cx="33480" cy="23760"/>
                    <a:chOff x="1246320" y="1936800"/>
                    <a:chExt cx="33480" cy="23760"/>
                  </a:xfrm>
                </p:grpSpPr>
                <p:sp>
                  <p:nvSpPr>
                    <p:cNvPr id="599" name=""/>
                    <p:cNvSpPr/>
                    <p:nvPr/>
                  </p:nvSpPr>
                  <p:spPr>
                    <a:xfrm>
                      <a:off x="1246320" y="1936800"/>
                      <a:ext cx="33480" cy="23760"/>
                    </a:xfrm>
                    <a:prstGeom prst="ellipse">
                      <a:avLst/>
                    </a:prstGeom>
                    <a:solidFill>
                      <a:srgbClr val="005f7f"/>
                    </a:solidFill>
                    <a:ln w="0">
                      <a:noFill/>
                    </a:ln>
                  </p:spPr>
                  <p:txBody>
                    <a:bodyPr lIns="90000" rIns="90000" tIns="-21240" bIns="-21240" anchor="t">
                      <a:noAutofit/>
                    </a:bodyPr>
                    <a:p>
                      <a:endParaRPr b="0" lang="en-US" sz="1800" spc="-1" strike="noStrike">
                        <a:solidFill>
                          <a:srgbClr val="000000"/>
                        </a:solidFill>
                        <a:latin typeface="Arial"/>
                      </a:endParaRPr>
                    </a:p>
                  </p:txBody>
                </p:sp>
                <p:sp>
                  <p:nvSpPr>
                    <p:cNvPr id="600" name=""/>
                    <p:cNvSpPr/>
                    <p:nvPr/>
                  </p:nvSpPr>
                  <p:spPr>
                    <a:xfrm>
                      <a:off x="1249200" y="1938240"/>
                      <a:ext cx="23760" cy="22320"/>
                    </a:xfrm>
                    <a:prstGeom prst="ellipse">
                      <a:avLst/>
                    </a:prstGeom>
                    <a:solidFill>
                      <a:srgbClr val="00a4bb"/>
                    </a:solidFill>
                    <a:ln w="0">
                      <a:noFill/>
                    </a:ln>
                  </p:spPr>
                  <p:txBody>
                    <a:bodyPr lIns="90000" rIns="90000" tIns="-22680" bIns="-22680" anchor="t">
                      <a:noAutofit/>
                    </a:bodyPr>
                    <a:p>
                      <a:endParaRPr b="0" lang="en-US" sz="1800" spc="-1" strike="noStrike">
                        <a:solidFill>
                          <a:srgbClr val="000000"/>
                        </a:solidFill>
                        <a:latin typeface="Arial"/>
                      </a:endParaRPr>
                    </a:p>
                  </p:txBody>
                </p:sp>
                <p:sp>
                  <p:nvSpPr>
                    <p:cNvPr id="601" name=""/>
                    <p:cNvSpPr/>
                    <p:nvPr/>
                  </p:nvSpPr>
                  <p:spPr>
                    <a:xfrm>
                      <a:off x="1255680" y="1938240"/>
                      <a:ext cx="12600" cy="17640"/>
                    </a:xfrm>
                    <a:prstGeom prst="ellipse">
                      <a:avLst/>
                    </a:prstGeom>
                    <a:solidFill>
                      <a:srgbClr val="000000"/>
                    </a:solidFill>
                    <a:ln w="0">
                      <a:noFill/>
                    </a:ln>
                  </p:spPr>
                  <p:txBody>
                    <a:bodyPr lIns="90000" rIns="90000" tIns="-27360" bIns="-27360" anchor="t">
                      <a:noAutofit/>
                    </a:bodyPr>
                    <a:p>
                      <a:endParaRPr b="0" lang="en-US" sz="1800" spc="-1" strike="noStrike">
                        <a:solidFill>
                          <a:srgbClr val="ffffff"/>
                        </a:solidFill>
                        <a:latin typeface="Arial"/>
                      </a:endParaRPr>
                    </a:p>
                  </p:txBody>
                </p:sp>
                <p:sp>
                  <p:nvSpPr>
                    <p:cNvPr id="602" name=""/>
                    <p:cNvSpPr/>
                    <p:nvPr/>
                  </p:nvSpPr>
                  <p:spPr>
                    <a:xfrm>
                      <a:off x="1252440" y="1940040"/>
                      <a:ext cx="1440" cy="4680"/>
                    </a:xfrm>
                    <a:prstGeom prst="ellipse">
                      <a:avLst/>
                    </a:prstGeom>
                    <a:solidFill>
                      <a:srgbClr val="ffffff"/>
                    </a:solidFill>
                    <a:ln w="0">
                      <a:noFill/>
                    </a:ln>
                  </p:spPr>
                  <p:txBody>
                    <a:bodyPr lIns="90000" rIns="90000" tIns="-40320" bIns="-40320" anchor="t">
                      <a:noAutofit/>
                    </a:bodyPr>
                    <a:p>
                      <a:endParaRPr b="0" lang="en-US" sz="1800" spc="-1" strike="noStrike">
                        <a:solidFill>
                          <a:srgbClr val="000000"/>
                        </a:solidFill>
                        <a:latin typeface="Arial"/>
                      </a:endParaRPr>
                    </a:p>
                  </p:txBody>
                </p:sp>
              </p:grpSp>
              <p:sp>
                <p:nvSpPr>
                  <p:cNvPr id="603" name=""/>
                  <p:cNvSpPr/>
                  <p:nvPr/>
                </p:nvSpPr>
                <p:spPr>
                  <a:xfrm>
                    <a:off x="1228680" y="1960560"/>
                    <a:ext cx="44640" cy="1800"/>
                  </a:xfrm>
                  <a:custGeom>
                    <a:avLst/>
                    <a:gdLst/>
                    <a:ahLst/>
                    <a:rect l="0" t="0" r="r" b="b"/>
                    <a:pathLst>
                      <a:path w="124" h="5">
                        <a:moveTo>
                          <a:pt x="124" y="0"/>
                        </a:moveTo>
                        <a:lnTo>
                          <a:pt x="106" y="0"/>
                        </a:lnTo>
                        <a:lnTo>
                          <a:pt x="84" y="0"/>
                        </a:lnTo>
                        <a:lnTo>
                          <a:pt x="61" y="0"/>
                        </a:lnTo>
                        <a:lnTo>
                          <a:pt x="39" y="0"/>
                        </a:lnTo>
                        <a:lnTo>
                          <a:pt x="26" y="0"/>
                        </a:lnTo>
                        <a:lnTo>
                          <a:pt x="13" y="5"/>
                        </a:lnTo>
                        <a:lnTo>
                          <a:pt x="8" y="5"/>
                        </a:lnTo>
                        <a:lnTo>
                          <a:pt x="0" y="5"/>
                        </a:lnTo>
                        <a:lnTo>
                          <a:pt x="8" y="5"/>
                        </a:lnTo>
                        <a:lnTo>
                          <a:pt x="4" y="0"/>
                        </a:lnTo>
                        <a:lnTo>
                          <a:pt x="13" y="0"/>
                        </a:lnTo>
                        <a:lnTo>
                          <a:pt x="8" y="0"/>
                        </a:lnTo>
                        <a:lnTo>
                          <a:pt x="22" y="0"/>
                        </a:lnTo>
                        <a:lnTo>
                          <a:pt x="35" y="0"/>
                        </a:lnTo>
                        <a:lnTo>
                          <a:pt x="26" y="0"/>
                        </a:lnTo>
                        <a:lnTo>
                          <a:pt x="39" y="0"/>
                        </a:lnTo>
                        <a:lnTo>
                          <a:pt x="48" y="0"/>
                        </a:lnTo>
                        <a:lnTo>
                          <a:pt x="57" y="0"/>
                        </a:lnTo>
                        <a:lnTo>
                          <a:pt x="84" y="0"/>
                        </a:lnTo>
                        <a:lnTo>
                          <a:pt x="102" y="0"/>
                        </a:lnTo>
                        <a:lnTo>
                          <a:pt x="124" y="0"/>
                        </a:lnTo>
                        <a:close/>
                      </a:path>
                    </a:pathLst>
                  </a:custGeom>
                  <a:solidFill>
                    <a:srgbClr val="00000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604" name=""/>
                  <p:cNvSpPr/>
                  <p:nvPr/>
                </p:nvSpPr>
                <p:spPr>
                  <a:xfrm>
                    <a:off x="1231920" y="1938240"/>
                    <a:ext cx="57600" cy="9720"/>
                  </a:xfrm>
                  <a:custGeom>
                    <a:avLst/>
                    <a:gdLst/>
                    <a:ahLst/>
                    <a:rect l="0" t="0" r="r" b="b"/>
                    <a:pathLst>
                      <a:path w="160" h="27">
                        <a:moveTo>
                          <a:pt x="160" y="14"/>
                        </a:moveTo>
                        <a:lnTo>
                          <a:pt x="147" y="14"/>
                        </a:lnTo>
                        <a:lnTo>
                          <a:pt x="129" y="8"/>
                        </a:lnTo>
                        <a:lnTo>
                          <a:pt x="115" y="4"/>
                        </a:lnTo>
                        <a:lnTo>
                          <a:pt x="102" y="4"/>
                        </a:lnTo>
                        <a:lnTo>
                          <a:pt x="84" y="4"/>
                        </a:lnTo>
                        <a:lnTo>
                          <a:pt x="71" y="4"/>
                        </a:lnTo>
                        <a:lnTo>
                          <a:pt x="58" y="8"/>
                        </a:lnTo>
                        <a:lnTo>
                          <a:pt x="39" y="14"/>
                        </a:lnTo>
                        <a:lnTo>
                          <a:pt x="35" y="18"/>
                        </a:lnTo>
                        <a:lnTo>
                          <a:pt x="17" y="23"/>
                        </a:lnTo>
                        <a:lnTo>
                          <a:pt x="0" y="27"/>
                        </a:lnTo>
                        <a:lnTo>
                          <a:pt x="13" y="23"/>
                        </a:lnTo>
                        <a:lnTo>
                          <a:pt x="22" y="14"/>
                        </a:lnTo>
                        <a:lnTo>
                          <a:pt x="35" y="14"/>
                        </a:lnTo>
                        <a:lnTo>
                          <a:pt x="58" y="4"/>
                        </a:lnTo>
                        <a:lnTo>
                          <a:pt x="71" y="0"/>
                        </a:lnTo>
                        <a:lnTo>
                          <a:pt x="84" y="0"/>
                        </a:lnTo>
                        <a:lnTo>
                          <a:pt x="102" y="0"/>
                        </a:lnTo>
                        <a:lnTo>
                          <a:pt x="115" y="0"/>
                        </a:lnTo>
                        <a:lnTo>
                          <a:pt x="125" y="4"/>
                        </a:lnTo>
                        <a:lnTo>
                          <a:pt x="138" y="8"/>
                        </a:lnTo>
                        <a:lnTo>
                          <a:pt x="160" y="14"/>
                        </a:lnTo>
                        <a:close/>
                      </a:path>
                    </a:pathLst>
                  </a:custGeom>
                  <a:solidFill>
                    <a:srgbClr val="9f9f9f"/>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05" name=""/>
                  <p:cNvSpPr/>
                  <p:nvPr/>
                </p:nvSpPr>
                <p:spPr>
                  <a:xfrm>
                    <a:off x="1230480" y="1938240"/>
                    <a:ext cx="54360" cy="8280"/>
                  </a:xfrm>
                  <a:custGeom>
                    <a:avLst/>
                    <a:gdLst/>
                    <a:ahLst/>
                    <a:rect l="0" t="0" r="r" b="b"/>
                    <a:pathLst>
                      <a:path w="151" h="23">
                        <a:moveTo>
                          <a:pt x="151" y="14"/>
                        </a:moveTo>
                        <a:lnTo>
                          <a:pt x="138" y="8"/>
                        </a:lnTo>
                        <a:lnTo>
                          <a:pt x="129" y="4"/>
                        </a:lnTo>
                        <a:lnTo>
                          <a:pt x="116" y="4"/>
                        </a:lnTo>
                        <a:lnTo>
                          <a:pt x="93" y="0"/>
                        </a:lnTo>
                        <a:lnTo>
                          <a:pt x="84" y="0"/>
                        </a:lnTo>
                        <a:lnTo>
                          <a:pt x="71" y="4"/>
                        </a:lnTo>
                        <a:lnTo>
                          <a:pt x="58" y="8"/>
                        </a:lnTo>
                        <a:lnTo>
                          <a:pt x="40" y="8"/>
                        </a:lnTo>
                        <a:lnTo>
                          <a:pt x="26" y="14"/>
                        </a:lnTo>
                        <a:lnTo>
                          <a:pt x="17" y="23"/>
                        </a:lnTo>
                        <a:lnTo>
                          <a:pt x="0" y="23"/>
                        </a:lnTo>
                        <a:lnTo>
                          <a:pt x="4" y="18"/>
                        </a:lnTo>
                        <a:lnTo>
                          <a:pt x="17" y="14"/>
                        </a:lnTo>
                        <a:lnTo>
                          <a:pt x="40" y="8"/>
                        </a:lnTo>
                        <a:lnTo>
                          <a:pt x="58" y="0"/>
                        </a:lnTo>
                        <a:lnTo>
                          <a:pt x="71" y="0"/>
                        </a:lnTo>
                        <a:lnTo>
                          <a:pt x="84" y="0"/>
                        </a:lnTo>
                        <a:lnTo>
                          <a:pt x="93" y="0"/>
                        </a:lnTo>
                        <a:lnTo>
                          <a:pt x="111" y="0"/>
                        </a:lnTo>
                        <a:lnTo>
                          <a:pt x="129" y="0"/>
                        </a:lnTo>
                        <a:lnTo>
                          <a:pt x="134" y="4"/>
                        </a:lnTo>
                        <a:lnTo>
                          <a:pt x="151" y="14"/>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606" name=""/>
                  <p:cNvSpPr/>
                  <p:nvPr/>
                </p:nvSpPr>
                <p:spPr>
                  <a:xfrm>
                    <a:off x="1235160" y="1932120"/>
                    <a:ext cx="59040" cy="6840"/>
                  </a:xfrm>
                  <a:custGeom>
                    <a:avLst/>
                    <a:gdLst/>
                    <a:ahLst/>
                    <a:rect l="0" t="0" r="r" b="b"/>
                    <a:pathLst>
                      <a:path w="164" h="19">
                        <a:moveTo>
                          <a:pt x="164" y="19"/>
                        </a:moveTo>
                        <a:lnTo>
                          <a:pt x="137" y="9"/>
                        </a:lnTo>
                        <a:lnTo>
                          <a:pt x="120" y="4"/>
                        </a:lnTo>
                        <a:lnTo>
                          <a:pt x="111" y="4"/>
                        </a:lnTo>
                        <a:lnTo>
                          <a:pt x="84" y="0"/>
                        </a:lnTo>
                        <a:lnTo>
                          <a:pt x="74" y="0"/>
                        </a:lnTo>
                        <a:lnTo>
                          <a:pt x="44" y="4"/>
                        </a:lnTo>
                        <a:lnTo>
                          <a:pt x="26" y="9"/>
                        </a:lnTo>
                        <a:lnTo>
                          <a:pt x="8" y="15"/>
                        </a:lnTo>
                        <a:lnTo>
                          <a:pt x="0" y="19"/>
                        </a:lnTo>
                        <a:lnTo>
                          <a:pt x="13" y="15"/>
                        </a:lnTo>
                        <a:lnTo>
                          <a:pt x="26" y="9"/>
                        </a:lnTo>
                        <a:lnTo>
                          <a:pt x="44" y="4"/>
                        </a:lnTo>
                        <a:lnTo>
                          <a:pt x="61" y="0"/>
                        </a:lnTo>
                        <a:lnTo>
                          <a:pt x="74" y="0"/>
                        </a:lnTo>
                        <a:lnTo>
                          <a:pt x="84" y="0"/>
                        </a:lnTo>
                        <a:lnTo>
                          <a:pt x="111" y="0"/>
                        </a:lnTo>
                        <a:lnTo>
                          <a:pt x="120" y="4"/>
                        </a:lnTo>
                        <a:lnTo>
                          <a:pt x="133" y="4"/>
                        </a:lnTo>
                        <a:lnTo>
                          <a:pt x="142" y="15"/>
                        </a:lnTo>
                        <a:lnTo>
                          <a:pt x="164" y="19"/>
                        </a:lnTo>
                        <a:close/>
                      </a:path>
                    </a:pathLst>
                  </a:custGeom>
                  <a:solidFill>
                    <a:srgbClr val="ff7f3f"/>
                  </a:solidFill>
                  <a:ln w="0">
                    <a:noFill/>
                  </a:ln>
                </p:spPr>
                <p:txBody>
                  <a:bodyPr lIns="90000" rIns="90000" tIns="-38160" bIns="-38160" anchor="t">
                    <a:noAutofit/>
                  </a:bodyPr>
                  <a:p>
                    <a:endParaRPr b="0" lang="en-US" sz="1800" spc="-1" strike="noStrike">
                      <a:solidFill>
                        <a:srgbClr val="000000"/>
                      </a:solidFill>
                      <a:latin typeface="Arial"/>
                    </a:endParaRPr>
                  </a:p>
                </p:txBody>
              </p:sp>
            </p:grpSp>
          </p:grpSp>
        </p:grpSp>
        <p:grpSp>
          <p:nvGrpSpPr>
            <p:cNvPr id="607" name=""/>
            <p:cNvGrpSpPr/>
            <p:nvPr/>
          </p:nvGrpSpPr>
          <p:grpSpPr>
            <a:xfrm>
              <a:off x="619200" y="2185920"/>
              <a:ext cx="1525680" cy="4318560"/>
              <a:chOff x="619200" y="2185920"/>
              <a:chExt cx="1525680" cy="4318560"/>
            </a:xfrm>
          </p:grpSpPr>
          <p:sp>
            <p:nvSpPr>
              <p:cNvPr id="608" name=""/>
              <p:cNvSpPr/>
              <p:nvPr/>
            </p:nvSpPr>
            <p:spPr>
              <a:xfrm flipV="1">
                <a:off x="1303200" y="3597120"/>
                <a:ext cx="0" cy="682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609" name=""/>
              <p:cNvGrpSpPr/>
              <p:nvPr/>
            </p:nvGrpSpPr>
            <p:grpSpPr>
              <a:xfrm>
                <a:off x="1077840" y="4983120"/>
                <a:ext cx="443520" cy="1521360"/>
                <a:chOff x="1077840" y="4983120"/>
                <a:chExt cx="443520" cy="1521360"/>
              </a:xfrm>
            </p:grpSpPr>
            <p:grpSp>
              <p:nvGrpSpPr>
                <p:cNvPr id="610" name=""/>
                <p:cNvGrpSpPr/>
                <p:nvPr/>
              </p:nvGrpSpPr>
              <p:grpSpPr>
                <a:xfrm>
                  <a:off x="1077840" y="4983120"/>
                  <a:ext cx="284400" cy="1394280"/>
                  <a:chOff x="1077840" y="4983120"/>
                  <a:chExt cx="284400" cy="1394280"/>
                </a:xfrm>
              </p:grpSpPr>
              <p:grpSp>
                <p:nvGrpSpPr>
                  <p:cNvPr id="611" name=""/>
                  <p:cNvGrpSpPr/>
                  <p:nvPr/>
                </p:nvGrpSpPr>
                <p:grpSpPr>
                  <a:xfrm>
                    <a:off x="1077840" y="4983120"/>
                    <a:ext cx="284400" cy="1244880"/>
                    <a:chOff x="1077840" y="4983120"/>
                    <a:chExt cx="284400" cy="1244880"/>
                  </a:xfrm>
                </p:grpSpPr>
                <p:sp>
                  <p:nvSpPr>
                    <p:cNvPr id="612" name=""/>
                    <p:cNvSpPr/>
                    <p:nvPr/>
                  </p:nvSpPr>
                  <p:spPr>
                    <a:xfrm>
                      <a:off x="1077840" y="4983120"/>
                      <a:ext cx="284400" cy="1244880"/>
                    </a:xfrm>
                    <a:custGeom>
                      <a:avLst/>
                      <a:gdLst/>
                      <a:ahLst/>
                      <a:rect l="0" t="0" r="r" b="b"/>
                      <a:pathLst>
                        <a:path w="790" h="3458">
                          <a:moveTo>
                            <a:pt x="0" y="22"/>
                          </a:moveTo>
                          <a:lnTo>
                            <a:pt x="0" y="277"/>
                          </a:lnTo>
                          <a:lnTo>
                            <a:pt x="22" y="489"/>
                          </a:lnTo>
                          <a:lnTo>
                            <a:pt x="35" y="696"/>
                          </a:lnTo>
                          <a:lnTo>
                            <a:pt x="57" y="864"/>
                          </a:lnTo>
                          <a:lnTo>
                            <a:pt x="79" y="1014"/>
                          </a:lnTo>
                          <a:lnTo>
                            <a:pt x="114" y="1172"/>
                          </a:lnTo>
                          <a:lnTo>
                            <a:pt x="141" y="1340"/>
                          </a:lnTo>
                          <a:lnTo>
                            <a:pt x="167" y="1446"/>
                          </a:lnTo>
                          <a:lnTo>
                            <a:pt x="194" y="1583"/>
                          </a:lnTo>
                          <a:lnTo>
                            <a:pt x="229" y="1734"/>
                          </a:lnTo>
                          <a:lnTo>
                            <a:pt x="251" y="1853"/>
                          </a:lnTo>
                          <a:lnTo>
                            <a:pt x="277" y="1954"/>
                          </a:lnTo>
                          <a:lnTo>
                            <a:pt x="299" y="2051"/>
                          </a:lnTo>
                          <a:lnTo>
                            <a:pt x="321" y="2179"/>
                          </a:lnTo>
                          <a:lnTo>
                            <a:pt x="352" y="2316"/>
                          </a:lnTo>
                          <a:lnTo>
                            <a:pt x="357" y="2413"/>
                          </a:lnTo>
                          <a:lnTo>
                            <a:pt x="370" y="2545"/>
                          </a:lnTo>
                          <a:lnTo>
                            <a:pt x="370" y="2668"/>
                          </a:lnTo>
                          <a:lnTo>
                            <a:pt x="370" y="2757"/>
                          </a:lnTo>
                          <a:lnTo>
                            <a:pt x="313" y="2920"/>
                          </a:lnTo>
                          <a:lnTo>
                            <a:pt x="286" y="3021"/>
                          </a:lnTo>
                          <a:lnTo>
                            <a:pt x="246" y="3158"/>
                          </a:lnTo>
                          <a:lnTo>
                            <a:pt x="229" y="3255"/>
                          </a:lnTo>
                          <a:lnTo>
                            <a:pt x="238" y="3370"/>
                          </a:lnTo>
                          <a:lnTo>
                            <a:pt x="291" y="3440"/>
                          </a:lnTo>
                          <a:lnTo>
                            <a:pt x="370" y="3453"/>
                          </a:lnTo>
                          <a:lnTo>
                            <a:pt x="499" y="3458"/>
                          </a:lnTo>
                          <a:lnTo>
                            <a:pt x="587" y="3436"/>
                          </a:lnTo>
                          <a:lnTo>
                            <a:pt x="636" y="3352"/>
                          </a:lnTo>
                          <a:lnTo>
                            <a:pt x="662" y="3264"/>
                          </a:lnTo>
                          <a:lnTo>
                            <a:pt x="671" y="3162"/>
                          </a:lnTo>
                          <a:lnTo>
                            <a:pt x="715" y="3065"/>
                          </a:lnTo>
                          <a:lnTo>
                            <a:pt x="733" y="2959"/>
                          </a:lnTo>
                          <a:lnTo>
                            <a:pt x="755" y="2862"/>
                          </a:lnTo>
                          <a:lnTo>
                            <a:pt x="741" y="2735"/>
                          </a:lnTo>
                          <a:lnTo>
                            <a:pt x="715" y="2633"/>
                          </a:lnTo>
                          <a:lnTo>
                            <a:pt x="693" y="2492"/>
                          </a:lnTo>
                          <a:lnTo>
                            <a:pt x="675" y="2373"/>
                          </a:lnTo>
                          <a:lnTo>
                            <a:pt x="671" y="2280"/>
                          </a:lnTo>
                          <a:lnTo>
                            <a:pt x="671" y="2170"/>
                          </a:lnTo>
                          <a:lnTo>
                            <a:pt x="666" y="2038"/>
                          </a:lnTo>
                          <a:lnTo>
                            <a:pt x="671" y="1950"/>
                          </a:lnTo>
                          <a:lnTo>
                            <a:pt x="671" y="1844"/>
                          </a:lnTo>
                          <a:lnTo>
                            <a:pt x="675" y="1715"/>
                          </a:lnTo>
                          <a:lnTo>
                            <a:pt x="684" y="1605"/>
                          </a:lnTo>
                          <a:lnTo>
                            <a:pt x="710" y="1508"/>
                          </a:lnTo>
                          <a:lnTo>
                            <a:pt x="724" y="1384"/>
                          </a:lnTo>
                          <a:lnTo>
                            <a:pt x="733" y="1300"/>
                          </a:lnTo>
                          <a:lnTo>
                            <a:pt x="746" y="1172"/>
                          </a:lnTo>
                          <a:lnTo>
                            <a:pt x="746" y="1067"/>
                          </a:lnTo>
                          <a:lnTo>
                            <a:pt x="746" y="952"/>
                          </a:lnTo>
                          <a:lnTo>
                            <a:pt x="746" y="745"/>
                          </a:lnTo>
                          <a:lnTo>
                            <a:pt x="746" y="626"/>
                          </a:lnTo>
                          <a:lnTo>
                            <a:pt x="755" y="533"/>
                          </a:lnTo>
                          <a:lnTo>
                            <a:pt x="781" y="436"/>
                          </a:lnTo>
                          <a:lnTo>
                            <a:pt x="790" y="352"/>
                          </a:lnTo>
                          <a:lnTo>
                            <a:pt x="781" y="251"/>
                          </a:lnTo>
                          <a:lnTo>
                            <a:pt x="772" y="0"/>
                          </a:lnTo>
                          <a:lnTo>
                            <a:pt x="0" y="22"/>
                          </a:lnTo>
                          <a:close/>
                        </a:path>
                      </a:pathLst>
                    </a:custGeom>
                    <a:solidFill>
                      <a:srgbClr val="ffdfb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3" name=""/>
                    <p:cNvSpPr/>
                    <p:nvPr/>
                  </p:nvSpPr>
                  <p:spPr>
                    <a:xfrm>
                      <a:off x="1081080" y="5100480"/>
                      <a:ext cx="157680" cy="190800"/>
                    </a:xfrm>
                    <a:custGeom>
                      <a:avLst/>
                      <a:gdLst/>
                      <a:ahLst/>
                      <a:rect l="0" t="0" r="r" b="b"/>
                      <a:pathLst>
                        <a:path w="438" h="530">
                          <a:moveTo>
                            <a:pt x="61" y="530"/>
                          </a:moveTo>
                          <a:lnTo>
                            <a:pt x="105" y="499"/>
                          </a:lnTo>
                          <a:lnTo>
                            <a:pt x="181" y="459"/>
                          </a:lnTo>
                          <a:lnTo>
                            <a:pt x="247" y="428"/>
                          </a:lnTo>
                          <a:lnTo>
                            <a:pt x="314" y="411"/>
                          </a:lnTo>
                          <a:lnTo>
                            <a:pt x="403" y="397"/>
                          </a:lnTo>
                          <a:lnTo>
                            <a:pt x="438" y="17"/>
                          </a:lnTo>
                          <a:lnTo>
                            <a:pt x="0" y="0"/>
                          </a:lnTo>
                          <a:lnTo>
                            <a:pt x="22" y="185"/>
                          </a:lnTo>
                          <a:lnTo>
                            <a:pt x="30" y="362"/>
                          </a:lnTo>
                          <a:lnTo>
                            <a:pt x="61" y="530"/>
                          </a:lnTo>
                          <a:close/>
                        </a:path>
                      </a:pathLst>
                    </a:custGeom>
                    <a:solidFill>
                      <a:srgbClr val="ff9f7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614" name=""/>
                  <p:cNvGrpSpPr/>
                  <p:nvPr/>
                </p:nvGrpSpPr>
                <p:grpSpPr>
                  <a:xfrm>
                    <a:off x="1104840" y="6032520"/>
                    <a:ext cx="240120" cy="344880"/>
                    <a:chOff x="1104840" y="6032520"/>
                    <a:chExt cx="240120" cy="344880"/>
                  </a:xfrm>
                </p:grpSpPr>
                <p:sp>
                  <p:nvSpPr>
                    <p:cNvPr id="615" name=""/>
                    <p:cNvSpPr/>
                    <p:nvPr/>
                  </p:nvSpPr>
                  <p:spPr>
                    <a:xfrm>
                      <a:off x="1104840" y="6032520"/>
                      <a:ext cx="240120" cy="344880"/>
                    </a:xfrm>
                    <a:custGeom>
                      <a:avLst/>
                      <a:gdLst/>
                      <a:ahLst/>
                      <a:rect l="0" t="0" r="r" b="b"/>
                      <a:pathLst>
                        <a:path w="667" h="958">
                          <a:moveTo>
                            <a:pt x="190" y="207"/>
                          </a:moveTo>
                          <a:lnTo>
                            <a:pt x="114" y="353"/>
                          </a:lnTo>
                          <a:lnTo>
                            <a:pt x="92" y="415"/>
                          </a:lnTo>
                          <a:lnTo>
                            <a:pt x="70" y="459"/>
                          </a:lnTo>
                          <a:lnTo>
                            <a:pt x="44" y="494"/>
                          </a:lnTo>
                          <a:lnTo>
                            <a:pt x="22" y="547"/>
                          </a:lnTo>
                          <a:lnTo>
                            <a:pt x="17" y="583"/>
                          </a:lnTo>
                          <a:lnTo>
                            <a:pt x="0" y="636"/>
                          </a:lnTo>
                          <a:lnTo>
                            <a:pt x="8" y="715"/>
                          </a:lnTo>
                          <a:lnTo>
                            <a:pt x="22" y="756"/>
                          </a:lnTo>
                          <a:lnTo>
                            <a:pt x="70" y="835"/>
                          </a:lnTo>
                          <a:lnTo>
                            <a:pt x="123" y="888"/>
                          </a:lnTo>
                          <a:lnTo>
                            <a:pt x="181" y="936"/>
                          </a:lnTo>
                          <a:lnTo>
                            <a:pt x="278" y="958"/>
                          </a:lnTo>
                          <a:lnTo>
                            <a:pt x="353" y="919"/>
                          </a:lnTo>
                          <a:lnTo>
                            <a:pt x="424" y="883"/>
                          </a:lnTo>
                          <a:lnTo>
                            <a:pt x="477" y="826"/>
                          </a:lnTo>
                          <a:lnTo>
                            <a:pt x="522" y="782"/>
                          </a:lnTo>
                          <a:lnTo>
                            <a:pt x="535" y="734"/>
                          </a:lnTo>
                          <a:lnTo>
                            <a:pt x="553" y="644"/>
                          </a:lnTo>
                          <a:lnTo>
                            <a:pt x="570" y="569"/>
                          </a:lnTo>
                          <a:lnTo>
                            <a:pt x="579" y="508"/>
                          </a:lnTo>
                          <a:lnTo>
                            <a:pt x="588" y="450"/>
                          </a:lnTo>
                          <a:lnTo>
                            <a:pt x="597" y="406"/>
                          </a:lnTo>
                          <a:lnTo>
                            <a:pt x="601" y="327"/>
                          </a:lnTo>
                          <a:lnTo>
                            <a:pt x="614" y="269"/>
                          </a:lnTo>
                          <a:lnTo>
                            <a:pt x="637" y="224"/>
                          </a:lnTo>
                          <a:lnTo>
                            <a:pt x="654" y="176"/>
                          </a:lnTo>
                          <a:lnTo>
                            <a:pt x="667" y="97"/>
                          </a:lnTo>
                          <a:lnTo>
                            <a:pt x="667" y="0"/>
                          </a:lnTo>
                          <a:lnTo>
                            <a:pt x="645" y="83"/>
                          </a:lnTo>
                          <a:lnTo>
                            <a:pt x="637" y="171"/>
                          </a:lnTo>
                          <a:lnTo>
                            <a:pt x="601" y="224"/>
                          </a:lnTo>
                          <a:lnTo>
                            <a:pt x="588" y="292"/>
                          </a:lnTo>
                          <a:lnTo>
                            <a:pt x="579" y="380"/>
                          </a:lnTo>
                          <a:lnTo>
                            <a:pt x="566" y="450"/>
                          </a:lnTo>
                          <a:lnTo>
                            <a:pt x="535" y="481"/>
                          </a:lnTo>
                          <a:lnTo>
                            <a:pt x="494" y="525"/>
                          </a:lnTo>
                          <a:lnTo>
                            <a:pt x="459" y="534"/>
                          </a:lnTo>
                          <a:lnTo>
                            <a:pt x="415" y="543"/>
                          </a:lnTo>
                          <a:lnTo>
                            <a:pt x="336" y="534"/>
                          </a:lnTo>
                          <a:lnTo>
                            <a:pt x="278" y="508"/>
                          </a:lnTo>
                          <a:lnTo>
                            <a:pt x="225" y="494"/>
                          </a:lnTo>
                          <a:lnTo>
                            <a:pt x="195" y="472"/>
                          </a:lnTo>
                          <a:lnTo>
                            <a:pt x="154" y="424"/>
                          </a:lnTo>
                          <a:lnTo>
                            <a:pt x="154" y="362"/>
                          </a:lnTo>
                          <a:lnTo>
                            <a:pt x="190" y="20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16" name=""/>
                    <p:cNvSpPr/>
                    <p:nvPr/>
                  </p:nvSpPr>
                  <p:spPr>
                    <a:xfrm>
                      <a:off x="1166760" y="6200640"/>
                      <a:ext cx="74520" cy="68400"/>
                    </a:xfrm>
                    <a:prstGeom prst="ellipse">
                      <a:avLst/>
                    </a:prstGeom>
                    <a:solidFill>
                      <a:srgbClr val="5f5f7f"/>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grpSp>
              <p:nvGrpSpPr>
                <p:cNvPr id="617" name=""/>
                <p:cNvGrpSpPr/>
                <p:nvPr/>
              </p:nvGrpSpPr>
              <p:grpSpPr>
                <a:xfrm>
                  <a:off x="1230480" y="5099040"/>
                  <a:ext cx="290880" cy="1405440"/>
                  <a:chOff x="1230480" y="5099040"/>
                  <a:chExt cx="290880" cy="1405440"/>
                </a:xfrm>
              </p:grpSpPr>
              <p:sp>
                <p:nvSpPr>
                  <p:cNvPr id="618" name=""/>
                  <p:cNvSpPr/>
                  <p:nvPr/>
                </p:nvSpPr>
                <p:spPr>
                  <a:xfrm>
                    <a:off x="1235160" y="5099040"/>
                    <a:ext cx="286200" cy="1249560"/>
                  </a:xfrm>
                  <a:custGeom>
                    <a:avLst/>
                    <a:gdLst/>
                    <a:ahLst/>
                    <a:rect l="0" t="0" r="r" b="b"/>
                    <a:pathLst>
                      <a:path w="795" h="3471">
                        <a:moveTo>
                          <a:pt x="795" y="22"/>
                        </a:moveTo>
                        <a:lnTo>
                          <a:pt x="747" y="286"/>
                        </a:lnTo>
                        <a:lnTo>
                          <a:pt x="725" y="480"/>
                        </a:lnTo>
                        <a:lnTo>
                          <a:pt x="711" y="709"/>
                        </a:lnTo>
                        <a:lnTo>
                          <a:pt x="689" y="881"/>
                        </a:lnTo>
                        <a:lnTo>
                          <a:pt x="659" y="1067"/>
                        </a:lnTo>
                        <a:lnTo>
                          <a:pt x="645" y="1199"/>
                        </a:lnTo>
                        <a:lnTo>
                          <a:pt x="619" y="1340"/>
                        </a:lnTo>
                        <a:lnTo>
                          <a:pt x="591" y="1494"/>
                        </a:lnTo>
                        <a:lnTo>
                          <a:pt x="561" y="1605"/>
                        </a:lnTo>
                        <a:lnTo>
                          <a:pt x="538" y="1742"/>
                        </a:lnTo>
                        <a:lnTo>
                          <a:pt x="512" y="1857"/>
                        </a:lnTo>
                        <a:lnTo>
                          <a:pt x="499" y="1976"/>
                        </a:lnTo>
                        <a:lnTo>
                          <a:pt x="494" y="2064"/>
                        </a:lnTo>
                        <a:lnTo>
                          <a:pt x="472" y="2192"/>
                        </a:lnTo>
                        <a:lnTo>
                          <a:pt x="446" y="2324"/>
                        </a:lnTo>
                        <a:lnTo>
                          <a:pt x="437" y="2421"/>
                        </a:lnTo>
                        <a:lnTo>
                          <a:pt x="428" y="2545"/>
                        </a:lnTo>
                        <a:lnTo>
                          <a:pt x="428" y="2682"/>
                        </a:lnTo>
                        <a:lnTo>
                          <a:pt x="428" y="2761"/>
                        </a:lnTo>
                        <a:lnTo>
                          <a:pt x="477" y="2929"/>
                        </a:lnTo>
                        <a:lnTo>
                          <a:pt x="508" y="3026"/>
                        </a:lnTo>
                        <a:lnTo>
                          <a:pt x="543" y="3176"/>
                        </a:lnTo>
                        <a:lnTo>
                          <a:pt x="561" y="3264"/>
                        </a:lnTo>
                        <a:lnTo>
                          <a:pt x="552" y="3383"/>
                        </a:lnTo>
                        <a:lnTo>
                          <a:pt x="499" y="3449"/>
                        </a:lnTo>
                        <a:lnTo>
                          <a:pt x="428" y="3462"/>
                        </a:lnTo>
                        <a:lnTo>
                          <a:pt x="296" y="3471"/>
                        </a:lnTo>
                        <a:lnTo>
                          <a:pt x="203" y="3440"/>
                        </a:lnTo>
                        <a:lnTo>
                          <a:pt x="149" y="3356"/>
                        </a:lnTo>
                        <a:lnTo>
                          <a:pt x="127" y="3273"/>
                        </a:lnTo>
                        <a:lnTo>
                          <a:pt x="119" y="3176"/>
                        </a:lnTo>
                        <a:lnTo>
                          <a:pt x="74" y="3074"/>
                        </a:lnTo>
                        <a:lnTo>
                          <a:pt x="52" y="2964"/>
                        </a:lnTo>
                        <a:lnTo>
                          <a:pt x="35" y="2867"/>
                        </a:lnTo>
                        <a:lnTo>
                          <a:pt x="48" y="2743"/>
                        </a:lnTo>
                        <a:lnTo>
                          <a:pt x="74" y="2642"/>
                        </a:lnTo>
                        <a:lnTo>
                          <a:pt x="88" y="2496"/>
                        </a:lnTo>
                        <a:lnTo>
                          <a:pt x="114" y="2377"/>
                        </a:lnTo>
                        <a:lnTo>
                          <a:pt x="119" y="2289"/>
                        </a:lnTo>
                        <a:lnTo>
                          <a:pt x="119" y="2174"/>
                        </a:lnTo>
                        <a:lnTo>
                          <a:pt x="119" y="2042"/>
                        </a:lnTo>
                        <a:lnTo>
                          <a:pt x="119" y="1950"/>
                        </a:lnTo>
                        <a:lnTo>
                          <a:pt x="119" y="1853"/>
                        </a:lnTo>
                        <a:lnTo>
                          <a:pt x="114" y="1724"/>
                        </a:lnTo>
                        <a:lnTo>
                          <a:pt x="101" y="1613"/>
                        </a:lnTo>
                        <a:lnTo>
                          <a:pt x="83" y="1516"/>
                        </a:lnTo>
                        <a:lnTo>
                          <a:pt x="57" y="1397"/>
                        </a:lnTo>
                        <a:lnTo>
                          <a:pt x="52" y="1314"/>
                        </a:lnTo>
                        <a:lnTo>
                          <a:pt x="39" y="1177"/>
                        </a:lnTo>
                        <a:lnTo>
                          <a:pt x="39" y="1071"/>
                        </a:lnTo>
                        <a:lnTo>
                          <a:pt x="39" y="952"/>
                        </a:lnTo>
                        <a:lnTo>
                          <a:pt x="39" y="749"/>
                        </a:lnTo>
                        <a:lnTo>
                          <a:pt x="39" y="643"/>
                        </a:lnTo>
                        <a:lnTo>
                          <a:pt x="35" y="542"/>
                        </a:lnTo>
                        <a:lnTo>
                          <a:pt x="8" y="445"/>
                        </a:lnTo>
                        <a:lnTo>
                          <a:pt x="0" y="357"/>
                        </a:lnTo>
                        <a:lnTo>
                          <a:pt x="8" y="255"/>
                        </a:lnTo>
                        <a:lnTo>
                          <a:pt x="17" y="0"/>
                        </a:lnTo>
                        <a:lnTo>
                          <a:pt x="795" y="22"/>
                        </a:lnTo>
                        <a:close/>
                      </a:path>
                    </a:pathLst>
                  </a:custGeom>
                  <a:solidFill>
                    <a:srgbClr val="ffdfb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9" name=""/>
                  <p:cNvSpPr/>
                  <p:nvPr/>
                </p:nvSpPr>
                <p:spPr>
                  <a:xfrm>
                    <a:off x="1230480" y="5114880"/>
                    <a:ext cx="276480" cy="146520"/>
                  </a:xfrm>
                  <a:custGeom>
                    <a:avLst/>
                    <a:gdLst/>
                    <a:ahLst/>
                    <a:rect l="0" t="0" r="r" b="b"/>
                    <a:pathLst>
                      <a:path w="768" h="407">
                        <a:moveTo>
                          <a:pt x="13" y="407"/>
                        </a:moveTo>
                        <a:lnTo>
                          <a:pt x="57" y="376"/>
                        </a:lnTo>
                        <a:lnTo>
                          <a:pt x="114" y="341"/>
                        </a:lnTo>
                        <a:lnTo>
                          <a:pt x="202" y="296"/>
                        </a:lnTo>
                        <a:lnTo>
                          <a:pt x="277" y="278"/>
                        </a:lnTo>
                        <a:lnTo>
                          <a:pt x="374" y="265"/>
                        </a:lnTo>
                        <a:lnTo>
                          <a:pt x="464" y="265"/>
                        </a:lnTo>
                        <a:lnTo>
                          <a:pt x="596" y="265"/>
                        </a:lnTo>
                        <a:lnTo>
                          <a:pt x="763" y="265"/>
                        </a:lnTo>
                        <a:lnTo>
                          <a:pt x="768" y="133"/>
                        </a:lnTo>
                        <a:lnTo>
                          <a:pt x="768" y="0"/>
                        </a:lnTo>
                        <a:lnTo>
                          <a:pt x="22" y="0"/>
                        </a:lnTo>
                        <a:lnTo>
                          <a:pt x="4" y="186"/>
                        </a:lnTo>
                        <a:lnTo>
                          <a:pt x="0" y="265"/>
                        </a:lnTo>
                        <a:lnTo>
                          <a:pt x="0" y="332"/>
                        </a:lnTo>
                        <a:lnTo>
                          <a:pt x="13" y="407"/>
                        </a:lnTo>
                        <a:close/>
                      </a:path>
                    </a:pathLst>
                  </a:custGeom>
                  <a:solidFill>
                    <a:srgbClr val="ff9f7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20" name=""/>
                  <p:cNvGrpSpPr/>
                  <p:nvPr/>
                </p:nvGrpSpPr>
                <p:grpSpPr>
                  <a:xfrm>
                    <a:off x="1247760" y="6148440"/>
                    <a:ext cx="244800" cy="356040"/>
                    <a:chOff x="1247760" y="6148440"/>
                    <a:chExt cx="244800" cy="356040"/>
                  </a:xfrm>
                </p:grpSpPr>
                <p:sp>
                  <p:nvSpPr>
                    <p:cNvPr id="621" name=""/>
                    <p:cNvSpPr/>
                    <p:nvPr/>
                  </p:nvSpPr>
                  <p:spPr>
                    <a:xfrm>
                      <a:off x="1247760" y="6148440"/>
                      <a:ext cx="244800" cy="356040"/>
                    </a:xfrm>
                    <a:custGeom>
                      <a:avLst/>
                      <a:gdLst/>
                      <a:ahLst/>
                      <a:rect l="0" t="0" r="r" b="b"/>
                      <a:pathLst>
                        <a:path w="680" h="989">
                          <a:moveTo>
                            <a:pt x="494" y="229"/>
                          </a:moveTo>
                          <a:lnTo>
                            <a:pt x="569" y="358"/>
                          </a:lnTo>
                          <a:lnTo>
                            <a:pt x="596" y="419"/>
                          </a:lnTo>
                          <a:lnTo>
                            <a:pt x="613" y="459"/>
                          </a:lnTo>
                          <a:lnTo>
                            <a:pt x="636" y="508"/>
                          </a:lnTo>
                          <a:lnTo>
                            <a:pt x="662" y="547"/>
                          </a:lnTo>
                          <a:lnTo>
                            <a:pt x="662" y="583"/>
                          </a:lnTo>
                          <a:lnTo>
                            <a:pt x="680" y="640"/>
                          </a:lnTo>
                          <a:lnTo>
                            <a:pt x="680" y="706"/>
                          </a:lnTo>
                          <a:lnTo>
                            <a:pt x="662" y="769"/>
                          </a:lnTo>
                          <a:lnTo>
                            <a:pt x="627" y="866"/>
                          </a:lnTo>
                          <a:lnTo>
                            <a:pt x="587" y="919"/>
                          </a:lnTo>
                          <a:lnTo>
                            <a:pt x="538" y="963"/>
                          </a:lnTo>
                          <a:lnTo>
                            <a:pt x="486" y="989"/>
                          </a:lnTo>
                          <a:lnTo>
                            <a:pt x="402" y="954"/>
                          </a:lnTo>
                          <a:lnTo>
                            <a:pt x="295" y="910"/>
                          </a:lnTo>
                          <a:lnTo>
                            <a:pt x="202" y="835"/>
                          </a:lnTo>
                          <a:lnTo>
                            <a:pt x="154" y="786"/>
                          </a:lnTo>
                          <a:lnTo>
                            <a:pt x="132" y="737"/>
                          </a:lnTo>
                          <a:lnTo>
                            <a:pt x="132" y="662"/>
                          </a:lnTo>
                          <a:lnTo>
                            <a:pt x="110" y="578"/>
                          </a:lnTo>
                          <a:lnTo>
                            <a:pt x="105" y="516"/>
                          </a:lnTo>
                          <a:lnTo>
                            <a:pt x="83" y="455"/>
                          </a:lnTo>
                          <a:lnTo>
                            <a:pt x="79" y="411"/>
                          </a:lnTo>
                          <a:lnTo>
                            <a:pt x="66" y="331"/>
                          </a:lnTo>
                          <a:lnTo>
                            <a:pt x="57" y="283"/>
                          </a:lnTo>
                          <a:lnTo>
                            <a:pt x="48" y="233"/>
                          </a:lnTo>
                          <a:lnTo>
                            <a:pt x="17" y="185"/>
                          </a:lnTo>
                          <a:lnTo>
                            <a:pt x="0" y="105"/>
                          </a:lnTo>
                          <a:lnTo>
                            <a:pt x="0" y="0"/>
                          </a:lnTo>
                          <a:lnTo>
                            <a:pt x="22" y="83"/>
                          </a:lnTo>
                          <a:lnTo>
                            <a:pt x="44" y="180"/>
                          </a:lnTo>
                          <a:lnTo>
                            <a:pt x="66" y="233"/>
                          </a:lnTo>
                          <a:lnTo>
                            <a:pt x="83" y="305"/>
                          </a:lnTo>
                          <a:lnTo>
                            <a:pt x="105" y="380"/>
                          </a:lnTo>
                          <a:lnTo>
                            <a:pt x="114" y="455"/>
                          </a:lnTo>
                          <a:lnTo>
                            <a:pt x="132" y="490"/>
                          </a:lnTo>
                          <a:lnTo>
                            <a:pt x="180" y="525"/>
                          </a:lnTo>
                          <a:lnTo>
                            <a:pt x="216" y="538"/>
                          </a:lnTo>
                          <a:lnTo>
                            <a:pt x="264" y="547"/>
                          </a:lnTo>
                          <a:lnTo>
                            <a:pt x="335" y="538"/>
                          </a:lnTo>
                          <a:lnTo>
                            <a:pt x="402" y="516"/>
                          </a:lnTo>
                          <a:lnTo>
                            <a:pt x="459" y="499"/>
                          </a:lnTo>
                          <a:lnTo>
                            <a:pt x="486" y="481"/>
                          </a:lnTo>
                          <a:lnTo>
                            <a:pt x="525" y="424"/>
                          </a:lnTo>
                          <a:lnTo>
                            <a:pt x="525" y="367"/>
                          </a:lnTo>
                          <a:lnTo>
                            <a:pt x="494" y="22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22" name=""/>
                    <p:cNvSpPr/>
                    <p:nvPr/>
                  </p:nvSpPr>
                  <p:spPr>
                    <a:xfrm>
                      <a:off x="1357200" y="6329520"/>
                      <a:ext cx="79200" cy="84240"/>
                    </a:xfrm>
                    <a:prstGeom prst="ellipse">
                      <a:avLst/>
                    </a:prstGeom>
                    <a:solidFill>
                      <a:srgbClr val="5f5f7f"/>
                    </a:solidFill>
                    <a:ln w="12600">
                      <a:solidFill>
                        <a:srgbClr val="000000"/>
                      </a:solidFill>
                      <a:round/>
                    </a:ln>
                  </p:spPr>
                  <p:txBody>
                    <a:bodyPr lIns="96120" rIns="96120" tIns="33120" bIns="33120" anchor="t">
                      <a:noAutofit/>
                    </a:bodyPr>
                    <a:p>
                      <a:endParaRPr b="0" lang="en-US" sz="1800" spc="-1" strike="noStrike">
                        <a:solidFill>
                          <a:srgbClr val="000000"/>
                        </a:solidFill>
                        <a:latin typeface="Arial"/>
                      </a:endParaRPr>
                    </a:p>
                  </p:txBody>
                </p:sp>
              </p:grpSp>
            </p:grpSp>
            <p:sp>
              <p:nvSpPr>
                <p:cNvPr id="623" name=""/>
                <p:cNvSpPr/>
                <p:nvPr/>
              </p:nvSpPr>
              <p:spPr>
                <a:xfrm>
                  <a:off x="1265400" y="5288040"/>
                  <a:ext cx="1440" cy="806400"/>
                </a:xfrm>
                <a:prstGeom prst="line">
                  <a:avLst/>
                </a:prstGeom>
                <a:ln w="12600">
                  <a:solidFill>
                    <a:srgbClr val="ff9f7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624" name=""/>
              <p:cNvGrpSpPr/>
              <p:nvPr/>
            </p:nvGrpSpPr>
            <p:grpSpPr>
              <a:xfrm>
                <a:off x="619200" y="2185920"/>
                <a:ext cx="1325880" cy="3011760"/>
                <a:chOff x="619200" y="2185920"/>
                <a:chExt cx="1325880" cy="3011760"/>
              </a:xfrm>
            </p:grpSpPr>
            <p:grpSp>
              <p:nvGrpSpPr>
                <p:cNvPr id="625" name=""/>
                <p:cNvGrpSpPr/>
                <p:nvPr/>
              </p:nvGrpSpPr>
              <p:grpSpPr>
                <a:xfrm>
                  <a:off x="619200" y="2185920"/>
                  <a:ext cx="1325880" cy="3011760"/>
                  <a:chOff x="619200" y="2185920"/>
                  <a:chExt cx="1325880" cy="3011760"/>
                </a:xfrm>
              </p:grpSpPr>
              <p:grpSp>
                <p:nvGrpSpPr>
                  <p:cNvPr id="626" name=""/>
                  <p:cNvGrpSpPr/>
                  <p:nvPr/>
                </p:nvGrpSpPr>
                <p:grpSpPr>
                  <a:xfrm>
                    <a:off x="878040" y="3794040"/>
                    <a:ext cx="817920" cy="1403640"/>
                    <a:chOff x="878040" y="3794040"/>
                    <a:chExt cx="817920" cy="1403640"/>
                  </a:xfrm>
                </p:grpSpPr>
                <p:sp>
                  <p:nvSpPr>
                    <p:cNvPr id="627" name=""/>
                    <p:cNvSpPr/>
                    <p:nvPr/>
                  </p:nvSpPr>
                  <p:spPr>
                    <a:xfrm>
                      <a:off x="878040" y="3794040"/>
                      <a:ext cx="817920" cy="1403640"/>
                    </a:xfrm>
                    <a:custGeom>
                      <a:avLst/>
                      <a:gdLst/>
                      <a:ahLst/>
                      <a:rect l="0" t="0" r="r" b="b"/>
                      <a:pathLst>
                        <a:path w="2272" h="3899">
                          <a:moveTo>
                            <a:pt x="0" y="0"/>
                          </a:moveTo>
                          <a:lnTo>
                            <a:pt x="17" y="1389"/>
                          </a:lnTo>
                          <a:lnTo>
                            <a:pt x="79" y="1838"/>
                          </a:lnTo>
                          <a:lnTo>
                            <a:pt x="145" y="2302"/>
                          </a:lnTo>
                          <a:lnTo>
                            <a:pt x="202" y="2642"/>
                          </a:lnTo>
                          <a:lnTo>
                            <a:pt x="268" y="3078"/>
                          </a:lnTo>
                          <a:lnTo>
                            <a:pt x="321" y="3511"/>
                          </a:lnTo>
                          <a:lnTo>
                            <a:pt x="427" y="3559"/>
                          </a:lnTo>
                          <a:lnTo>
                            <a:pt x="533" y="3625"/>
                          </a:lnTo>
                          <a:lnTo>
                            <a:pt x="661" y="3696"/>
                          </a:lnTo>
                          <a:lnTo>
                            <a:pt x="802" y="3775"/>
                          </a:lnTo>
                          <a:lnTo>
                            <a:pt x="1009" y="3824"/>
                          </a:lnTo>
                          <a:lnTo>
                            <a:pt x="1098" y="3824"/>
                          </a:lnTo>
                          <a:lnTo>
                            <a:pt x="1147" y="3833"/>
                          </a:lnTo>
                          <a:lnTo>
                            <a:pt x="1209" y="3850"/>
                          </a:lnTo>
                          <a:lnTo>
                            <a:pt x="1262" y="3899"/>
                          </a:lnTo>
                          <a:lnTo>
                            <a:pt x="1416" y="3899"/>
                          </a:lnTo>
                          <a:lnTo>
                            <a:pt x="1685" y="3850"/>
                          </a:lnTo>
                          <a:lnTo>
                            <a:pt x="1888" y="3775"/>
                          </a:lnTo>
                          <a:lnTo>
                            <a:pt x="2011" y="3683"/>
                          </a:lnTo>
                          <a:lnTo>
                            <a:pt x="2069" y="3145"/>
                          </a:lnTo>
                          <a:lnTo>
                            <a:pt x="2122" y="2585"/>
                          </a:lnTo>
                          <a:lnTo>
                            <a:pt x="2219" y="2069"/>
                          </a:lnTo>
                          <a:lnTo>
                            <a:pt x="2258" y="1561"/>
                          </a:lnTo>
                          <a:lnTo>
                            <a:pt x="2272" y="1049"/>
                          </a:lnTo>
                          <a:lnTo>
                            <a:pt x="2236" y="202"/>
                          </a:lnTo>
                          <a:lnTo>
                            <a:pt x="2232" y="17"/>
                          </a:lnTo>
                          <a:lnTo>
                            <a:pt x="0" y="0"/>
                          </a:lnTo>
                          <a:close/>
                        </a:path>
                      </a:pathLst>
                    </a:custGeom>
                    <a:solidFill>
                      <a:srgbClr val="5f5f7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8" name=""/>
                    <p:cNvSpPr/>
                    <p:nvPr/>
                  </p:nvSpPr>
                  <p:spPr>
                    <a:xfrm>
                      <a:off x="1249200" y="4233960"/>
                      <a:ext cx="343440" cy="776520"/>
                    </a:xfrm>
                    <a:custGeom>
                      <a:avLst/>
                      <a:gdLst/>
                      <a:ahLst/>
                      <a:rect l="0" t="0" r="r" b="b"/>
                      <a:pathLst>
                        <a:path w="954" h="2157">
                          <a:moveTo>
                            <a:pt x="261" y="405"/>
                          </a:moveTo>
                          <a:lnTo>
                            <a:pt x="202" y="533"/>
                          </a:lnTo>
                          <a:lnTo>
                            <a:pt x="158" y="661"/>
                          </a:lnTo>
                          <a:lnTo>
                            <a:pt x="145" y="820"/>
                          </a:lnTo>
                          <a:lnTo>
                            <a:pt x="22" y="2157"/>
                          </a:lnTo>
                          <a:lnTo>
                            <a:pt x="39" y="590"/>
                          </a:lnTo>
                          <a:lnTo>
                            <a:pt x="0" y="0"/>
                          </a:lnTo>
                          <a:lnTo>
                            <a:pt x="835" y="22"/>
                          </a:lnTo>
                          <a:lnTo>
                            <a:pt x="954" y="101"/>
                          </a:lnTo>
                          <a:lnTo>
                            <a:pt x="760" y="119"/>
                          </a:lnTo>
                          <a:lnTo>
                            <a:pt x="583" y="149"/>
                          </a:lnTo>
                          <a:lnTo>
                            <a:pt x="490" y="194"/>
                          </a:lnTo>
                          <a:lnTo>
                            <a:pt x="411" y="251"/>
                          </a:lnTo>
                          <a:lnTo>
                            <a:pt x="314" y="317"/>
                          </a:lnTo>
                          <a:lnTo>
                            <a:pt x="261" y="40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629" name=""/>
                  <p:cNvSpPr/>
                  <p:nvPr/>
                </p:nvSpPr>
                <p:spPr>
                  <a:xfrm>
                    <a:off x="619200" y="2185920"/>
                    <a:ext cx="1325880" cy="2092680"/>
                  </a:xfrm>
                  <a:custGeom>
                    <a:avLst/>
                    <a:gdLst/>
                    <a:ahLst/>
                    <a:rect l="0" t="0" r="r" b="b"/>
                    <a:pathLst>
                      <a:path w="3683" h="5813">
                        <a:moveTo>
                          <a:pt x="1680" y="0"/>
                        </a:moveTo>
                        <a:lnTo>
                          <a:pt x="1618" y="92"/>
                        </a:lnTo>
                        <a:lnTo>
                          <a:pt x="1569" y="145"/>
                        </a:lnTo>
                        <a:lnTo>
                          <a:pt x="1516" y="202"/>
                        </a:lnTo>
                        <a:lnTo>
                          <a:pt x="1441" y="273"/>
                        </a:lnTo>
                        <a:lnTo>
                          <a:pt x="1367" y="339"/>
                        </a:lnTo>
                        <a:lnTo>
                          <a:pt x="1212" y="392"/>
                        </a:lnTo>
                        <a:lnTo>
                          <a:pt x="1067" y="436"/>
                        </a:lnTo>
                        <a:lnTo>
                          <a:pt x="934" y="449"/>
                        </a:lnTo>
                        <a:lnTo>
                          <a:pt x="780" y="498"/>
                        </a:lnTo>
                        <a:lnTo>
                          <a:pt x="652" y="537"/>
                        </a:lnTo>
                        <a:lnTo>
                          <a:pt x="568" y="582"/>
                        </a:lnTo>
                        <a:lnTo>
                          <a:pt x="502" y="604"/>
                        </a:lnTo>
                        <a:lnTo>
                          <a:pt x="357" y="701"/>
                        </a:lnTo>
                        <a:lnTo>
                          <a:pt x="326" y="718"/>
                        </a:lnTo>
                        <a:lnTo>
                          <a:pt x="304" y="745"/>
                        </a:lnTo>
                        <a:lnTo>
                          <a:pt x="291" y="789"/>
                        </a:lnTo>
                        <a:lnTo>
                          <a:pt x="233" y="1018"/>
                        </a:lnTo>
                        <a:lnTo>
                          <a:pt x="207" y="1168"/>
                        </a:lnTo>
                        <a:lnTo>
                          <a:pt x="163" y="1380"/>
                        </a:lnTo>
                        <a:lnTo>
                          <a:pt x="123" y="1750"/>
                        </a:lnTo>
                        <a:lnTo>
                          <a:pt x="70" y="2046"/>
                        </a:lnTo>
                        <a:lnTo>
                          <a:pt x="48" y="2465"/>
                        </a:lnTo>
                        <a:lnTo>
                          <a:pt x="39" y="2610"/>
                        </a:lnTo>
                        <a:lnTo>
                          <a:pt x="0" y="2747"/>
                        </a:lnTo>
                        <a:lnTo>
                          <a:pt x="0" y="2848"/>
                        </a:lnTo>
                        <a:lnTo>
                          <a:pt x="0" y="2920"/>
                        </a:lnTo>
                        <a:lnTo>
                          <a:pt x="88" y="3092"/>
                        </a:lnTo>
                        <a:lnTo>
                          <a:pt x="216" y="3299"/>
                        </a:lnTo>
                        <a:lnTo>
                          <a:pt x="326" y="3361"/>
                        </a:lnTo>
                        <a:lnTo>
                          <a:pt x="608" y="3542"/>
                        </a:lnTo>
                        <a:lnTo>
                          <a:pt x="780" y="3630"/>
                        </a:lnTo>
                        <a:lnTo>
                          <a:pt x="701" y="4031"/>
                        </a:lnTo>
                        <a:lnTo>
                          <a:pt x="665" y="4304"/>
                        </a:lnTo>
                        <a:lnTo>
                          <a:pt x="648" y="4573"/>
                        </a:lnTo>
                        <a:lnTo>
                          <a:pt x="648" y="4900"/>
                        </a:lnTo>
                        <a:lnTo>
                          <a:pt x="665" y="5385"/>
                        </a:lnTo>
                        <a:lnTo>
                          <a:pt x="679" y="5746"/>
                        </a:lnTo>
                        <a:lnTo>
                          <a:pt x="1870" y="5813"/>
                        </a:lnTo>
                        <a:lnTo>
                          <a:pt x="1870" y="5746"/>
                        </a:lnTo>
                        <a:lnTo>
                          <a:pt x="2020" y="5764"/>
                        </a:lnTo>
                        <a:lnTo>
                          <a:pt x="2554" y="5804"/>
                        </a:lnTo>
                        <a:lnTo>
                          <a:pt x="2907" y="5764"/>
                        </a:lnTo>
                        <a:lnTo>
                          <a:pt x="3039" y="5689"/>
                        </a:lnTo>
                        <a:lnTo>
                          <a:pt x="3039" y="4900"/>
                        </a:lnTo>
                        <a:lnTo>
                          <a:pt x="3021" y="4613"/>
                        </a:lnTo>
                        <a:lnTo>
                          <a:pt x="2981" y="4304"/>
                        </a:lnTo>
                        <a:lnTo>
                          <a:pt x="2981" y="4128"/>
                        </a:lnTo>
                        <a:lnTo>
                          <a:pt x="2959" y="3877"/>
                        </a:lnTo>
                        <a:lnTo>
                          <a:pt x="3127" y="3806"/>
                        </a:lnTo>
                        <a:lnTo>
                          <a:pt x="3268" y="3696"/>
                        </a:lnTo>
                        <a:lnTo>
                          <a:pt x="3506" y="3497"/>
                        </a:lnTo>
                        <a:lnTo>
                          <a:pt x="3616" y="3449"/>
                        </a:lnTo>
                        <a:lnTo>
                          <a:pt x="3665" y="3343"/>
                        </a:lnTo>
                        <a:lnTo>
                          <a:pt x="3683" y="3184"/>
                        </a:lnTo>
                        <a:lnTo>
                          <a:pt x="3683" y="2920"/>
                        </a:lnTo>
                        <a:lnTo>
                          <a:pt x="3683" y="2222"/>
                        </a:lnTo>
                        <a:lnTo>
                          <a:pt x="3665" y="1746"/>
                        </a:lnTo>
                        <a:lnTo>
                          <a:pt x="3674" y="1283"/>
                        </a:lnTo>
                        <a:lnTo>
                          <a:pt x="3665" y="1146"/>
                        </a:lnTo>
                        <a:lnTo>
                          <a:pt x="3647" y="1075"/>
                        </a:lnTo>
                        <a:lnTo>
                          <a:pt x="3612" y="1031"/>
                        </a:lnTo>
                        <a:lnTo>
                          <a:pt x="3586" y="996"/>
                        </a:lnTo>
                        <a:lnTo>
                          <a:pt x="3409" y="886"/>
                        </a:lnTo>
                        <a:lnTo>
                          <a:pt x="3184" y="745"/>
                        </a:lnTo>
                        <a:lnTo>
                          <a:pt x="2959" y="630"/>
                        </a:lnTo>
                        <a:lnTo>
                          <a:pt x="2752" y="537"/>
                        </a:lnTo>
                        <a:lnTo>
                          <a:pt x="2615" y="485"/>
                        </a:lnTo>
                        <a:lnTo>
                          <a:pt x="2377" y="202"/>
                        </a:lnTo>
                        <a:lnTo>
                          <a:pt x="2302" y="92"/>
                        </a:lnTo>
                        <a:lnTo>
                          <a:pt x="2377" y="308"/>
                        </a:lnTo>
                        <a:lnTo>
                          <a:pt x="2404" y="348"/>
                        </a:lnTo>
                        <a:lnTo>
                          <a:pt x="2413" y="401"/>
                        </a:lnTo>
                        <a:lnTo>
                          <a:pt x="2430" y="454"/>
                        </a:lnTo>
                        <a:lnTo>
                          <a:pt x="2439" y="515"/>
                        </a:lnTo>
                        <a:lnTo>
                          <a:pt x="2413" y="626"/>
                        </a:lnTo>
                        <a:lnTo>
                          <a:pt x="2342" y="789"/>
                        </a:lnTo>
                        <a:lnTo>
                          <a:pt x="1932" y="2116"/>
                        </a:lnTo>
                        <a:lnTo>
                          <a:pt x="1728" y="1031"/>
                        </a:lnTo>
                        <a:lnTo>
                          <a:pt x="1591" y="573"/>
                        </a:lnTo>
                        <a:lnTo>
                          <a:pt x="1569" y="458"/>
                        </a:lnTo>
                        <a:lnTo>
                          <a:pt x="1569" y="348"/>
                        </a:lnTo>
                        <a:lnTo>
                          <a:pt x="1600" y="273"/>
                        </a:lnTo>
                        <a:lnTo>
                          <a:pt x="1680" y="0"/>
                        </a:lnTo>
                        <a:close/>
                      </a:path>
                    </a:pathLst>
                  </a:custGeom>
                  <a:solidFill>
                    <a:srgbClr val="5f5f7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630" name=""/>
                <p:cNvGrpSpPr/>
                <p:nvPr/>
              </p:nvGrpSpPr>
              <p:grpSpPr>
                <a:xfrm>
                  <a:off x="1084320" y="3176640"/>
                  <a:ext cx="456840" cy="766800"/>
                  <a:chOff x="1084320" y="3176640"/>
                  <a:chExt cx="456840" cy="766800"/>
                </a:xfrm>
              </p:grpSpPr>
              <p:sp>
                <p:nvSpPr>
                  <p:cNvPr id="631" name=""/>
                  <p:cNvSpPr/>
                  <p:nvPr/>
                </p:nvSpPr>
                <p:spPr>
                  <a:xfrm>
                    <a:off x="1403280" y="3894120"/>
                    <a:ext cx="30240" cy="39600"/>
                  </a:xfrm>
                  <a:prstGeom prst="ellipse">
                    <a:avLst/>
                  </a:prstGeom>
                  <a:solidFill>
                    <a:srgbClr val="000000"/>
                  </a:solidFill>
                  <a:ln w="12600">
                    <a:solidFill>
                      <a:srgbClr val="000000"/>
                    </a:solidFill>
                    <a:round/>
                  </a:ln>
                </p:spPr>
                <p:txBody>
                  <a:bodyPr lIns="96120" rIns="96120" tIns="-11520" bIns="-11520" anchor="t">
                    <a:noAutofit/>
                  </a:bodyPr>
                  <a:p>
                    <a:endParaRPr b="0" lang="en-US" sz="1800" spc="-1" strike="noStrike">
                      <a:solidFill>
                        <a:srgbClr val="ffffff"/>
                      </a:solidFill>
                      <a:latin typeface="Arial"/>
                    </a:endParaRPr>
                  </a:p>
                </p:txBody>
              </p:sp>
              <p:sp>
                <p:nvSpPr>
                  <p:cNvPr id="632" name=""/>
                  <p:cNvSpPr/>
                  <p:nvPr/>
                </p:nvSpPr>
                <p:spPr>
                  <a:xfrm>
                    <a:off x="1504800" y="3176640"/>
                    <a:ext cx="36360" cy="38160"/>
                  </a:xfrm>
                  <a:prstGeom prst="ellipse">
                    <a:avLst/>
                  </a:prstGeom>
                  <a:solidFill>
                    <a:srgbClr val="000000"/>
                  </a:solidFill>
                  <a:ln w="12600">
                    <a:solidFill>
                      <a:srgbClr val="000000"/>
                    </a:solidFill>
                    <a:round/>
                  </a:ln>
                </p:spPr>
                <p:txBody>
                  <a:bodyPr lIns="96120" rIns="96120" tIns="-12960" bIns="-12960" anchor="t">
                    <a:noAutofit/>
                  </a:bodyPr>
                  <a:p>
                    <a:endParaRPr b="0" lang="en-US" sz="1800" spc="-1" strike="noStrike">
                      <a:solidFill>
                        <a:srgbClr val="ffffff"/>
                      </a:solidFill>
                      <a:latin typeface="Arial"/>
                    </a:endParaRPr>
                  </a:p>
                </p:txBody>
              </p:sp>
              <p:sp>
                <p:nvSpPr>
                  <p:cNvPr id="633" name=""/>
                  <p:cNvSpPr/>
                  <p:nvPr/>
                </p:nvSpPr>
                <p:spPr>
                  <a:xfrm>
                    <a:off x="1084320" y="3903840"/>
                    <a:ext cx="33480" cy="39600"/>
                  </a:xfrm>
                  <a:prstGeom prst="ellipse">
                    <a:avLst/>
                  </a:prstGeom>
                  <a:solidFill>
                    <a:srgbClr val="000000"/>
                  </a:solidFill>
                  <a:ln w="12600">
                    <a:solidFill>
                      <a:srgbClr val="000000"/>
                    </a:solidFill>
                    <a:round/>
                  </a:ln>
                </p:spPr>
                <p:txBody>
                  <a:bodyPr lIns="96120" rIns="96120" tIns="-11520" bIns="-11520" anchor="t">
                    <a:noAutofit/>
                  </a:bodyPr>
                  <a:p>
                    <a:endParaRPr b="0" lang="en-US" sz="1800" spc="-1" strike="noStrike">
                      <a:solidFill>
                        <a:srgbClr val="ffffff"/>
                      </a:solidFill>
                      <a:latin typeface="Arial"/>
                    </a:endParaRPr>
                  </a:p>
                </p:txBody>
              </p:sp>
            </p:grpSp>
          </p:grpSp>
          <p:grpSp>
            <p:nvGrpSpPr>
              <p:cNvPr id="634" name=""/>
              <p:cNvGrpSpPr/>
              <p:nvPr/>
            </p:nvGrpSpPr>
            <p:grpSpPr>
              <a:xfrm>
                <a:off x="1014480" y="2297160"/>
                <a:ext cx="623880" cy="914760"/>
                <a:chOff x="1014480" y="2297160"/>
                <a:chExt cx="623880" cy="914760"/>
              </a:xfrm>
            </p:grpSpPr>
            <p:sp>
              <p:nvSpPr>
                <p:cNvPr id="635" name=""/>
                <p:cNvSpPr/>
                <p:nvPr/>
              </p:nvSpPr>
              <p:spPr>
                <a:xfrm>
                  <a:off x="1014480" y="2297160"/>
                  <a:ext cx="321120" cy="914760"/>
                </a:xfrm>
                <a:custGeom>
                  <a:avLst/>
                  <a:gdLst/>
                  <a:ahLst/>
                  <a:rect l="0" t="0" r="r" b="b"/>
                  <a:pathLst>
                    <a:path w="892" h="2541">
                      <a:moveTo>
                        <a:pt x="322" y="0"/>
                      </a:moveTo>
                      <a:lnTo>
                        <a:pt x="52" y="304"/>
                      </a:lnTo>
                      <a:lnTo>
                        <a:pt x="8" y="418"/>
                      </a:lnTo>
                      <a:lnTo>
                        <a:pt x="296" y="515"/>
                      </a:lnTo>
                      <a:lnTo>
                        <a:pt x="22" y="776"/>
                      </a:lnTo>
                      <a:lnTo>
                        <a:pt x="167" y="1071"/>
                      </a:lnTo>
                      <a:lnTo>
                        <a:pt x="397" y="1553"/>
                      </a:lnTo>
                      <a:lnTo>
                        <a:pt x="892" y="2541"/>
                      </a:lnTo>
                      <a:lnTo>
                        <a:pt x="0" y="789"/>
                      </a:lnTo>
                      <a:lnTo>
                        <a:pt x="265" y="529"/>
                      </a:lnTo>
                      <a:lnTo>
                        <a:pt x="0" y="432"/>
                      </a:lnTo>
                      <a:lnTo>
                        <a:pt x="52" y="304"/>
                      </a:lnTo>
                      <a:lnTo>
                        <a:pt x="32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36" name=""/>
                <p:cNvSpPr/>
                <p:nvPr/>
              </p:nvSpPr>
              <p:spPr>
                <a:xfrm>
                  <a:off x="1303200" y="2382840"/>
                  <a:ext cx="335160" cy="810000"/>
                </a:xfrm>
                <a:custGeom>
                  <a:avLst/>
                  <a:gdLst/>
                  <a:ahLst/>
                  <a:rect l="0" t="0" r="r" b="b"/>
                  <a:pathLst>
                    <a:path w="931" h="2250">
                      <a:moveTo>
                        <a:pt x="755" y="0"/>
                      </a:moveTo>
                      <a:lnTo>
                        <a:pt x="909" y="304"/>
                      </a:lnTo>
                      <a:lnTo>
                        <a:pt x="688" y="405"/>
                      </a:lnTo>
                      <a:lnTo>
                        <a:pt x="931" y="574"/>
                      </a:lnTo>
                      <a:lnTo>
                        <a:pt x="0" y="2250"/>
                      </a:lnTo>
                      <a:lnTo>
                        <a:pt x="900" y="574"/>
                      </a:lnTo>
                      <a:lnTo>
                        <a:pt x="671" y="405"/>
                      </a:lnTo>
                      <a:lnTo>
                        <a:pt x="900" y="299"/>
                      </a:lnTo>
                      <a:lnTo>
                        <a:pt x="755"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637" name=""/>
              <p:cNvGrpSpPr/>
              <p:nvPr/>
            </p:nvGrpSpPr>
            <p:grpSpPr>
              <a:xfrm>
                <a:off x="755640" y="2844720"/>
                <a:ext cx="1389240" cy="775440"/>
                <a:chOff x="755640" y="2844720"/>
                <a:chExt cx="1389240" cy="775440"/>
              </a:xfrm>
            </p:grpSpPr>
            <p:grpSp>
              <p:nvGrpSpPr>
                <p:cNvPr id="638" name=""/>
                <p:cNvGrpSpPr/>
                <p:nvPr/>
              </p:nvGrpSpPr>
              <p:grpSpPr>
                <a:xfrm>
                  <a:off x="755640" y="2844720"/>
                  <a:ext cx="1389240" cy="732240"/>
                  <a:chOff x="755640" y="2844720"/>
                  <a:chExt cx="1389240" cy="732240"/>
                </a:xfrm>
              </p:grpSpPr>
              <p:sp>
                <p:nvSpPr>
                  <p:cNvPr id="639" name=""/>
                  <p:cNvSpPr/>
                  <p:nvPr/>
                </p:nvSpPr>
                <p:spPr>
                  <a:xfrm>
                    <a:off x="755640" y="2844720"/>
                    <a:ext cx="1368720" cy="732240"/>
                  </a:xfrm>
                  <a:custGeom>
                    <a:avLst/>
                    <a:gdLst/>
                    <a:ahLst/>
                    <a:rect l="0" t="0" r="r" b="b"/>
                    <a:pathLst>
                      <a:path w="3802" h="2034">
                        <a:moveTo>
                          <a:pt x="0" y="680"/>
                        </a:moveTo>
                        <a:lnTo>
                          <a:pt x="868" y="0"/>
                        </a:lnTo>
                        <a:lnTo>
                          <a:pt x="917" y="0"/>
                        </a:lnTo>
                        <a:lnTo>
                          <a:pt x="2055" y="1465"/>
                        </a:lnTo>
                        <a:lnTo>
                          <a:pt x="2404" y="1341"/>
                        </a:lnTo>
                        <a:lnTo>
                          <a:pt x="2435" y="1288"/>
                        </a:lnTo>
                        <a:lnTo>
                          <a:pt x="2452" y="1235"/>
                        </a:lnTo>
                        <a:lnTo>
                          <a:pt x="3643" y="741"/>
                        </a:lnTo>
                        <a:lnTo>
                          <a:pt x="3722" y="706"/>
                        </a:lnTo>
                        <a:lnTo>
                          <a:pt x="3766" y="706"/>
                        </a:lnTo>
                        <a:lnTo>
                          <a:pt x="3775" y="719"/>
                        </a:lnTo>
                        <a:lnTo>
                          <a:pt x="3793" y="728"/>
                        </a:lnTo>
                        <a:lnTo>
                          <a:pt x="3802" y="750"/>
                        </a:lnTo>
                        <a:lnTo>
                          <a:pt x="3802" y="772"/>
                        </a:lnTo>
                        <a:lnTo>
                          <a:pt x="3802" y="816"/>
                        </a:lnTo>
                        <a:lnTo>
                          <a:pt x="3775" y="838"/>
                        </a:lnTo>
                        <a:lnTo>
                          <a:pt x="3722" y="878"/>
                        </a:lnTo>
                        <a:lnTo>
                          <a:pt x="3458" y="1019"/>
                        </a:lnTo>
                        <a:lnTo>
                          <a:pt x="2047" y="1571"/>
                        </a:lnTo>
                        <a:lnTo>
                          <a:pt x="1075" y="2034"/>
                        </a:lnTo>
                        <a:lnTo>
                          <a:pt x="1018" y="2017"/>
                        </a:lnTo>
                        <a:lnTo>
                          <a:pt x="970" y="1977"/>
                        </a:lnTo>
                        <a:lnTo>
                          <a:pt x="0" y="68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640" name=""/>
                  <p:cNvGrpSpPr/>
                  <p:nvPr/>
                </p:nvGrpSpPr>
                <p:grpSpPr>
                  <a:xfrm>
                    <a:off x="1130400" y="2900520"/>
                    <a:ext cx="1014480" cy="534960"/>
                    <a:chOff x="1130400" y="2900520"/>
                    <a:chExt cx="1014480" cy="534960"/>
                  </a:xfrm>
                </p:grpSpPr>
                <p:sp>
                  <p:nvSpPr>
                    <p:cNvPr id="641" name=""/>
                    <p:cNvSpPr/>
                    <p:nvPr/>
                  </p:nvSpPr>
                  <p:spPr>
                    <a:xfrm>
                      <a:off x="1130400" y="2900520"/>
                      <a:ext cx="331560" cy="465120"/>
                    </a:xfrm>
                    <a:prstGeom prst="line">
                      <a:avLst/>
                    </a:prstGeom>
                    <a:ln w="25560">
                      <a:solidFill>
                        <a:srgbClr val="3f3f3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nvGrpSpPr>
                    <p:cNvPr id="642" name=""/>
                    <p:cNvGrpSpPr/>
                    <p:nvPr/>
                  </p:nvGrpSpPr>
                  <p:grpSpPr>
                    <a:xfrm>
                      <a:off x="1544760" y="3103560"/>
                      <a:ext cx="600120" cy="331920"/>
                      <a:chOff x="1544760" y="3103560"/>
                      <a:chExt cx="600120" cy="331920"/>
                    </a:xfrm>
                  </p:grpSpPr>
                  <p:sp>
                    <p:nvSpPr>
                      <p:cNvPr id="643" name=""/>
                      <p:cNvSpPr/>
                      <p:nvPr/>
                    </p:nvSpPr>
                    <p:spPr>
                      <a:xfrm flipV="1">
                        <a:off x="1544760" y="3170160"/>
                        <a:ext cx="419040" cy="265320"/>
                      </a:xfrm>
                      <a:prstGeom prst="line">
                        <a:avLst/>
                      </a:prstGeom>
                      <a:ln w="25560">
                        <a:solidFill>
                          <a:srgbClr val="3f3f3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44" name=""/>
                      <p:cNvSpPr/>
                      <p:nvPr/>
                    </p:nvSpPr>
                    <p:spPr>
                      <a:xfrm flipV="1">
                        <a:off x="2055960" y="3103560"/>
                        <a:ext cx="27000" cy="127080"/>
                      </a:xfrm>
                      <a:prstGeom prst="line">
                        <a:avLst/>
                      </a:prstGeom>
                      <a:ln w="25560">
                        <a:solidFill>
                          <a:srgbClr val="3f3f3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45" name=""/>
                      <p:cNvSpPr/>
                      <p:nvPr/>
                    </p:nvSpPr>
                    <p:spPr>
                      <a:xfrm flipH="1">
                        <a:off x="1635120" y="3157560"/>
                        <a:ext cx="509760" cy="146160"/>
                      </a:xfrm>
                      <a:prstGeom prst="line">
                        <a:avLst/>
                      </a:prstGeom>
                      <a:ln w="12600">
                        <a:solidFill>
                          <a:srgbClr val="3f3f3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grpSp>
            <p:grpSp>
              <p:nvGrpSpPr>
                <p:cNvPr id="646" name=""/>
                <p:cNvGrpSpPr/>
                <p:nvPr/>
              </p:nvGrpSpPr>
              <p:grpSpPr>
                <a:xfrm>
                  <a:off x="1108080" y="3232080"/>
                  <a:ext cx="421200" cy="388080"/>
                  <a:chOff x="1108080" y="3232080"/>
                  <a:chExt cx="421200" cy="388080"/>
                </a:xfrm>
              </p:grpSpPr>
              <p:sp>
                <p:nvSpPr>
                  <p:cNvPr id="647" name=""/>
                  <p:cNvSpPr/>
                  <p:nvPr/>
                </p:nvSpPr>
                <p:spPr>
                  <a:xfrm>
                    <a:off x="1108080" y="3322800"/>
                    <a:ext cx="421200" cy="297360"/>
                  </a:xfrm>
                  <a:custGeom>
                    <a:avLst/>
                    <a:gdLst/>
                    <a:ahLst/>
                    <a:rect l="0" t="0" r="r" b="b"/>
                    <a:pathLst>
                      <a:path w="1170" h="826">
                        <a:moveTo>
                          <a:pt x="1108" y="499"/>
                        </a:moveTo>
                        <a:lnTo>
                          <a:pt x="1055" y="512"/>
                        </a:lnTo>
                        <a:lnTo>
                          <a:pt x="1011" y="499"/>
                        </a:lnTo>
                        <a:lnTo>
                          <a:pt x="976" y="472"/>
                        </a:lnTo>
                        <a:lnTo>
                          <a:pt x="928" y="464"/>
                        </a:lnTo>
                        <a:lnTo>
                          <a:pt x="888" y="393"/>
                        </a:lnTo>
                        <a:lnTo>
                          <a:pt x="856" y="367"/>
                        </a:lnTo>
                        <a:lnTo>
                          <a:pt x="834" y="375"/>
                        </a:lnTo>
                        <a:lnTo>
                          <a:pt x="812" y="389"/>
                        </a:lnTo>
                        <a:lnTo>
                          <a:pt x="794" y="402"/>
                        </a:lnTo>
                        <a:lnTo>
                          <a:pt x="781" y="428"/>
                        </a:lnTo>
                        <a:lnTo>
                          <a:pt x="777" y="450"/>
                        </a:lnTo>
                        <a:lnTo>
                          <a:pt x="750" y="464"/>
                        </a:lnTo>
                        <a:lnTo>
                          <a:pt x="680" y="490"/>
                        </a:lnTo>
                        <a:lnTo>
                          <a:pt x="605" y="499"/>
                        </a:lnTo>
                        <a:lnTo>
                          <a:pt x="569" y="486"/>
                        </a:lnTo>
                        <a:lnTo>
                          <a:pt x="538" y="464"/>
                        </a:lnTo>
                        <a:lnTo>
                          <a:pt x="512" y="464"/>
                        </a:lnTo>
                        <a:lnTo>
                          <a:pt x="464" y="402"/>
                        </a:lnTo>
                        <a:lnTo>
                          <a:pt x="428" y="375"/>
                        </a:lnTo>
                        <a:lnTo>
                          <a:pt x="375" y="269"/>
                        </a:lnTo>
                        <a:lnTo>
                          <a:pt x="336" y="194"/>
                        </a:lnTo>
                        <a:lnTo>
                          <a:pt x="314" y="145"/>
                        </a:lnTo>
                        <a:lnTo>
                          <a:pt x="282" y="74"/>
                        </a:lnTo>
                        <a:lnTo>
                          <a:pt x="264" y="44"/>
                        </a:lnTo>
                        <a:lnTo>
                          <a:pt x="238" y="35"/>
                        </a:lnTo>
                        <a:lnTo>
                          <a:pt x="211" y="35"/>
                        </a:lnTo>
                        <a:lnTo>
                          <a:pt x="198" y="57"/>
                        </a:lnTo>
                        <a:lnTo>
                          <a:pt x="207" y="105"/>
                        </a:lnTo>
                        <a:lnTo>
                          <a:pt x="220" y="145"/>
                        </a:lnTo>
                        <a:lnTo>
                          <a:pt x="238" y="194"/>
                        </a:lnTo>
                        <a:lnTo>
                          <a:pt x="238" y="234"/>
                        </a:lnTo>
                        <a:lnTo>
                          <a:pt x="189" y="149"/>
                        </a:lnTo>
                        <a:lnTo>
                          <a:pt x="180" y="105"/>
                        </a:lnTo>
                        <a:lnTo>
                          <a:pt x="158" y="52"/>
                        </a:lnTo>
                        <a:lnTo>
                          <a:pt x="141" y="17"/>
                        </a:lnTo>
                        <a:lnTo>
                          <a:pt x="114" y="0"/>
                        </a:lnTo>
                        <a:lnTo>
                          <a:pt x="88" y="0"/>
                        </a:lnTo>
                        <a:lnTo>
                          <a:pt x="61" y="13"/>
                        </a:lnTo>
                        <a:lnTo>
                          <a:pt x="48" y="30"/>
                        </a:lnTo>
                        <a:lnTo>
                          <a:pt x="88" y="114"/>
                        </a:lnTo>
                        <a:lnTo>
                          <a:pt x="61" y="101"/>
                        </a:lnTo>
                        <a:lnTo>
                          <a:pt x="35" y="101"/>
                        </a:lnTo>
                        <a:lnTo>
                          <a:pt x="13" y="110"/>
                        </a:lnTo>
                        <a:lnTo>
                          <a:pt x="0" y="123"/>
                        </a:lnTo>
                        <a:lnTo>
                          <a:pt x="61" y="239"/>
                        </a:lnTo>
                        <a:lnTo>
                          <a:pt x="88" y="331"/>
                        </a:lnTo>
                        <a:lnTo>
                          <a:pt x="61" y="309"/>
                        </a:lnTo>
                        <a:lnTo>
                          <a:pt x="35" y="300"/>
                        </a:lnTo>
                        <a:lnTo>
                          <a:pt x="8" y="309"/>
                        </a:lnTo>
                        <a:lnTo>
                          <a:pt x="0" y="331"/>
                        </a:lnTo>
                        <a:lnTo>
                          <a:pt x="48" y="397"/>
                        </a:lnTo>
                        <a:lnTo>
                          <a:pt x="61" y="433"/>
                        </a:lnTo>
                        <a:lnTo>
                          <a:pt x="61" y="464"/>
                        </a:lnTo>
                        <a:lnTo>
                          <a:pt x="88" y="499"/>
                        </a:lnTo>
                        <a:lnTo>
                          <a:pt x="105" y="538"/>
                        </a:lnTo>
                        <a:lnTo>
                          <a:pt x="123" y="587"/>
                        </a:lnTo>
                        <a:lnTo>
                          <a:pt x="141" y="609"/>
                        </a:lnTo>
                        <a:lnTo>
                          <a:pt x="149" y="623"/>
                        </a:lnTo>
                        <a:lnTo>
                          <a:pt x="167" y="637"/>
                        </a:lnTo>
                        <a:lnTo>
                          <a:pt x="336" y="729"/>
                        </a:lnTo>
                        <a:lnTo>
                          <a:pt x="389" y="769"/>
                        </a:lnTo>
                        <a:lnTo>
                          <a:pt x="406" y="791"/>
                        </a:lnTo>
                        <a:lnTo>
                          <a:pt x="446" y="808"/>
                        </a:lnTo>
                        <a:lnTo>
                          <a:pt x="472" y="822"/>
                        </a:lnTo>
                        <a:lnTo>
                          <a:pt x="499" y="826"/>
                        </a:lnTo>
                        <a:lnTo>
                          <a:pt x="631" y="808"/>
                        </a:lnTo>
                        <a:lnTo>
                          <a:pt x="750" y="800"/>
                        </a:lnTo>
                        <a:lnTo>
                          <a:pt x="860" y="786"/>
                        </a:lnTo>
                        <a:lnTo>
                          <a:pt x="972" y="769"/>
                        </a:lnTo>
                        <a:lnTo>
                          <a:pt x="1073" y="738"/>
                        </a:lnTo>
                        <a:lnTo>
                          <a:pt x="1170" y="659"/>
                        </a:lnTo>
                        <a:lnTo>
                          <a:pt x="1108" y="499"/>
                        </a:lnTo>
                        <a:close/>
                      </a:path>
                    </a:pathLst>
                  </a:custGeom>
                  <a:solidFill>
                    <a:srgbClr val="ffdfb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8" name=""/>
                  <p:cNvSpPr/>
                  <p:nvPr/>
                </p:nvSpPr>
                <p:spPr>
                  <a:xfrm>
                    <a:off x="1195560" y="3411360"/>
                    <a:ext cx="71640" cy="127440"/>
                  </a:xfrm>
                  <a:custGeom>
                    <a:avLst/>
                    <a:gdLst/>
                    <a:ahLst/>
                    <a:rect l="0" t="0" r="r" b="b"/>
                    <a:pathLst>
                      <a:path w="199" h="354">
                        <a:moveTo>
                          <a:pt x="0" y="0"/>
                        </a:moveTo>
                        <a:lnTo>
                          <a:pt x="57" y="146"/>
                        </a:lnTo>
                        <a:lnTo>
                          <a:pt x="115" y="243"/>
                        </a:lnTo>
                        <a:lnTo>
                          <a:pt x="155" y="284"/>
                        </a:lnTo>
                        <a:lnTo>
                          <a:pt x="168" y="332"/>
                        </a:lnTo>
                        <a:lnTo>
                          <a:pt x="172" y="350"/>
                        </a:lnTo>
                        <a:lnTo>
                          <a:pt x="199" y="354"/>
                        </a:lnTo>
                        <a:lnTo>
                          <a:pt x="172" y="354"/>
                        </a:lnTo>
                        <a:lnTo>
                          <a:pt x="164" y="332"/>
                        </a:lnTo>
                        <a:lnTo>
                          <a:pt x="155" y="301"/>
                        </a:lnTo>
                        <a:lnTo>
                          <a:pt x="79" y="195"/>
                        </a:lnTo>
                        <a:lnTo>
                          <a:pt x="48" y="128"/>
                        </a:lnTo>
                        <a:lnTo>
                          <a:pt x="0" y="0"/>
                        </a:lnTo>
                        <a:close/>
                      </a:path>
                    </a:pathLst>
                  </a:custGeom>
                  <a:solidFill>
                    <a:srgbClr val="ff7f3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9" name=""/>
                  <p:cNvSpPr/>
                  <p:nvPr/>
                </p:nvSpPr>
                <p:spPr>
                  <a:xfrm>
                    <a:off x="1139760" y="3368520"/>
                    <a:ext cx="109800" cy="194040"/>
                  </a:xfrm>
                  <a:custGeom>
                    <a:avLst/>
                    <a:gdLst/>
                    <a:ahLst/>
                    <a:rect l="0" t="0" r="r" b="b"/>
                    <a:pathLst>
                      <a:path w="305" h="539">
                        <a:moveTo>
                          <a:pt x="0" y="0"/>
                        </a:moveTo>
                        <a:lnTo>
                          <a:pt x="66" y="217"/>
                        </a:lnTo>
                        <a:lnTo>
                          <a:pt x="74" y="256"/>
                        </a:lnTo>
                        <a:lnTo>
                          <a:pt x="92" y="278"/>
                        </a:lnTo>
                        <a:lnTo>
                          <a:pt x="190" y="425"/>
                        </a:lnTo>
                        <a:lnTo>
                          <a:pt x="221" y="456"/>
                        </a:lnTo>
                        <a:lnTo>
                          <a:pt x="234" y="478"/>
                        </a:lnTo>
                        <a:lnTo>
                          <a:pt x="247" y="513"/>
                        </a:lnTo>
                        <a:lnTo>
                          <a:pt x="274" y="539"/>
                        </a:lnTo>
                        <a:lnTo>
                          <a:pt x="305" y="539"/>
                        </a:lnTo>
                        <a:lnTo>
                          <a:pt x="274" y="539"/>
                        </a:lnTo>
                        <a:lnTo>
                          <a:pt x="243" y="517"/>
                        </a:lnTo>
                        <a:lnTo>
                          <a:pt x="234" y="487"/>
                        </a:lnTo>
                        <a:lnTo>
                          <a:pt x="225" y="469"/>
                        </a:lnTo>
                        <a:lnTo>
                          <a:pt x="172" y="397"/>
                        </a:lnTo>
                        <a:lnTo>
                          <a:pt x="123" y="336"/>
                        </a:lnTo>
                        <a:lnTo>
                          <a:pt x="92" y="292"/>
                        </a:lnTo>
                        <a:lnTo>
                          <a:pt x="74" y="261"/>
                        </a:lnTo>
                        <a:lnTo>
                          <a:pt x="26" y="101"/>
                        </a:lnTo>
                        <a:lnTo>
                          <a:pt x="0" y="0"/>
                        </a:lnTo>
                        <a:close/>
                      </a:path>
                    </a:pathLst>
                  </a:custGeom>
                  <a:solidFill>
                    <a:srgbClr val="ff7f3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0" name=""/>
                  <p:cNvSpPr/>
                  <p:nvPr/>
                </p:nvSpPr>
                <p:spPr>
                  <a:xfrm>
                    <a:off x="1235160" y="3470400"/>
                    <a:ext cx="294120" cy="149760"/>
                  </a:xfrm>
                  <a:custGeom>
                    <a:avLst/>
                    <a:gdLst/>
                    <a:ahLst/>
                    <a:rect l="0" t="0" r="r" b="b"/>
                    <a:pathLst>
                      <a:path w="817" h="416">
                        <a:moveTo>
                          <a:pt x="756" y="101"/>
                        </a:moveTo>
                        <a:lnTo>
                          <a:pt x="703" y="115"/>
                        </a:lnTo>
                        <a:lnTo>
                          <a:pt x="659" y="101"/>
                        </a:lnTo>
                        <a:lnTo>
                          <a:pt x="628" y="79"/>
                        </a:lnTo>
                        <a:lnTo>
                          <a:pt x="578" y="70"/>
                        </a:lnTo>
                        <a:lnTo>
                          <a:pt x="538" y="0"/>
                        </a:lnTo>
                        <a:lnTo>
                          <a:pt x="525" y="13"/>
                        </a:lnTo>
                        <a:lnTo>
                          <a:pt x="516" y="26"/>
                        </a:lnTo>
                        <a:lnTo>
                          <a:pt x="503" y="48"/>
                        </a:lnTo>
                        <a:lnTo>
                          <a:pt x="472" y="52"/>
                        </a:lnTo>
                        <a:lnTo>
                          <a:pt x="455" y="52"/>
                        </a:lnTo>
                        <a:lnTo>
                          <a:pt x="433" y="35"/>
                        </a:lnTo>
                        <a:lnTo>
                          <a:pt x="428" y="57"/>
                        </a:lnTo>
                        <a:lnTo>
                          <a:pt x="402" y="70"/>
                        </a:lnTo>
                        <a:lnTo>
                          <a:pt x="336" y="92"/>
                        </a:lnTo>
                        <a:lnTo>
                          <a:pt x="371" y="97"/>
                        </a:lnTo>
                        <a:lnTo>
                          <a:pt x="428" y="79"/>
                        </a:lnTo>
                        <a:lnTo>
                          <a:pt x="450" y="92"/>
                        </a:lnTo>
                        <a:lnTo>
                          <a:pt x="464" y="115"/>
                        </a:lnTo>
                        <a:lnTo>
                          <a:pt x="441" y="124"/>
                        </a:lnTo>
                        <a:lnTo>
                          <a:pt x="486" y="133"/>
                        </a:lnTo>
                        <a:lnTo>
                          <a:pt x="450" y="142"/>
                        </a:lnTo>
                        <a:lnTo>
                          <a:pt x="486" y="142"/>
                        </a:lnTo>
                        <a:lnTo>
                          <a:pt x="468" y="159"/>
                        </a:lnTo>
                        <a:lnTo>
                          <a:pt x="486" y="155"/>
                        </a:lnTo>
                        <a:lnTo>
                          <a:pt x="503" y="159"/>
                        </a:lnTo>
                        <a:lnTo>
                          <a:pt x="503" y="181"/>
                        </a:lnTo>
                        <a:lnTo>
                          <a:pt x="472" y="208"/>
                        </a:lnTo>
                        <a:lnTo>
                          <a:pt x="446" y="212"/>
                        </a:lnTo>
                        <a:lnTo>
                          <a:pt x="393" y="230"/>
                        </a:lnTo>
                        <a:lnTo>
                          <a:pt x="349" y="230"/>
                        </a:lnTo>
                        <a:lnTo>
                          <a:pt x="300" y="230"/>
                        </a:lnTo>
                        <a:lnTo>
                          <a:pt x="256" y="212"/>
                        </a:lnTo>
                        <a:lnTo>
                          <a:pt x="217" y="199"/>
                        </a:lnTo>
                        <a:lnTo>
                          <a:pt x="189" y="208"/>
                        </a:lnTo>
                        <a:lnTo>
                          <a:pt x="167" y="217"/>
                        </a:lnTo>
                        <a:lnTo>
                          <a:pt x="136" y="230"/>
                        </a:lnTo>
                        <a:lnTo>
                          <a:pt x="101" y="212"/>
                        </a:lnTo>
                        <a:lnTo>
                          <a:pt x="114" y="239"/>
                        </a:lnTo>
                        <a:lnTo>
                          <a:pt x="101" y="256"/>
                        </a:lnTo>
                        <a:lnTo>
                          <a:pt x="101" y="269"/>
                        </a:lnTo>
                        <a:lnTo>
                          <a:pt x="83" y="296"/>
                        </a:lnTo>
                        <a:lnTo>
                          <a:pt x="57" y="305"/>
                        </a:lnTo>
                        <a:lnTo>
                          <a:pt x="35" y="296"/>
                        </a:lnTo>
                        <a:lnTo>
                          <a:pt x="22" y="315"/>
                        </a:lnTo>
                        <a:lnTo>
                          <a:pt x="0" y="323"/>
                        </a:lnTo>
                        <a:lnTo>
                          <a:pt x="44" y="359"/>
                        </a:lnTo>
                        <a:lnTo>
                          <a:pt x="61" y="381"/>
                        </a:lnTo>
                        <a:lnTo>
                          <a:pt x="101" y="398"/>
                        </a:lnTo>
                        <a:lnTo>
                          <a:pt x="127" y="412"/>
                        </a:lnTo>
                        <a:lnTo>
                          <a:pt x="154" y="416"/>
                        </a:lnTo>
                        <a:lnTo>
                          <a:pt x="287" y="398"/>
                        </a:lnTo>
                        <a:lnTo>
                          <a:pt x="402" y="390"/>
                        </a:lnTo>
                        <a:lnTo>
                          <a:pt x="512" y="376"/>
                        </a:lnTo>
                        <a:lnTo>
                          <a:pt x="623" y="359"/>
                        </a:lnTo>
                        <a:lnTo>
                          <a:pt x="720" y="332"/>
                        </a:lnTo>
                        <a:lnTo>
                          <a:pt x="817" y="252"/>
                        </a:lnTo>
                        <a:lnTo>
                          <a:pt x="756" y="101"/>
                        </a:lnTo>
                        <a:close/>
                      </a:path>
                    </a:pathLst>
                  </a:custGeom>
                  <a:solidFill>
                    <a:srgbClr val="ff9f7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1" name=""/>
                  <p:cNvSpPr/>
                  <p:nvPr/>
                </p:nvSpPr>
                <p:spPr>
                  <a:xfrm>
                    <a:off x="1139760" y="3448080"/>
                    <a:ext cx="89280" cy="127440"/>
                  </a:xfrm>
                  <a:custGeom>
                    <a:avLst/>
                    <a:gdLst/>
                    <a:ahLst/>
                    <a:rect l="0" t="0" r="r" b="b"/>
                    <a:pathLst>
                      <a:path w="248" h="354">
                        <a:moveTo>
                          <a:pt x="0" y="0"/>
                        </a:moveTo>
                        <a:lnTo>
                          <a:pt x="44" y="124"/>
                        </a:lnTo>
                        <a:lnTo>
                          <a:pt x="57" y="168"/>
                        </a:lnTo>
                        <a:lnTo>
                          <a:pt x="80" y="186"/>
                        </a:lnTo>
                        <a:lnTo>
                          <a:pt x="124" y="243"/>
                        </a:lnTo>
                        <a:lnTo>
                          <a:pt x="146" y="270"/>
                        </a:lnTo>
                        <a:lnTo>
                          <a:pt x="222" y="345"/>
                        </a:lnTo>
                        <a:lnTo>
                          <a:pt x="248" y="354"/>
                        </a:lnTo>
                        <a:lnTo>
                          <a:pt x="187" y="315"/>
                        </a:lnTo>
                        <a:lnTo>
                          <a:pt x="124" y="252"/>
                        </a:lnTo>
                        <a:lnTo>
                          <a:pt x="80" y="199"/>
                        </a:lnTo>
                        <a:lnTo>
                          <a:pt x="57" y="155"/>
                        </a:lnTo>
                        <a:lnTo>
                          <a:pt x="17" y="70"/>
                        </a:lnTo>
                        <a:lnTo>
                          <a:pt x="0" y="0"/>
                        </a:lnTo>
                        <a:close/>
                      </a:path>
                    </a:pathLst>
                  </a:custGeom>
                  <a:solidFill>
                    <a:srgbClr val="ff7f3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2" name=""/>
                  <p:cNvSpPr/>
                  <p:nvPr/>
                </p:nvSpPr>
                <p:spPr>
                  <a:xfrm>
                    <a:off x="1386000" y="3232080"/>
                    <a:ext cx="133560" cy="143280"/>
                  </a:xfrm>
                  <a:custGeom>
                    <a:avLst/>
                    <a:gdLst/>
                    <a:ahLst/>
                    <a:rect l="0" t="0" r="r" b="b"/>
                    <a:pathLst>
                      <a:path w="371" h="398">
                        <a:moveTo>
                          <a:pt x="0" y="0"/>
                        </a:moveTo>
                        <a:lnTo>
                          <a:pt x="119" y="17"/>
                        </a:lnTo>
                        <a:lnTo>
                          <a:pt x="186" y="39"/>
                        </a:lnTo>
                        <a:lnTo>
                          <a:pt x="239" y="61"/>
                        </a:lnTo>
                        <a:lnTo>
                          <a:pt x="269" y="88"/>
                        </a:lnTo>
                        <a:lnTo>
                          <a:pt x="287" y="102"/>
                        </a:lnTo>
                        <a:lnTo>
                          <a:pt x="300" y="120"/>
                        </a:lnTo>
                        <a:lnTo>
                          <a:pt x="305" y="137"/>
                        </a:lnTo>
                        <a:lnTo>
                          <a:pt x="300" y="159"/>
                        </a:lnTo>
                        <a:lnTo>
                          <a:pt x="296" y="177"/>
                        </a:lnTo>
                        <a:lnTo>
                          <a:pt x="274" y="190"/>
                        </a:lnTo>
                        <a:lnTo>
                          <a:pt x="256" y="190"/>
                        </a:lnTo>
                        <a:lnTo>
                          <a:pt x="243" y="199"/>
                        </a:lnTo>
                        <a:lnTo>
                          <a:pt x="256" y="203"/>
                        </a:lnTo>
                        <a:lnTo>
                          <a:pt x="274" y="212"/>
                        </a:lnTo>
                        <a:lnTo>
                          <a:pt x="305" y="225"/>
                        </a:lnTo>
                        <a:lnTo>
                          <a:pt x="314" y="247"/>
                        </a:lnTo>
                        <a:lnTo>
                          <a:pt x="327" y="261"/>
                        </a:lnTo>
                        <a:lnTo>
                          <a:pt x="331" y="269"/>
                        </a:lnTo>
                        <a:lnTo>
                          <a:pt x="322" y="292"/>
                        </a:lnTo>
                        <a:lnTo>
                          <a:pt x="349" y="306"/>
                        </a:lnTo>
                        <a:lnTo>
                          <a:pt x="367" y="323"/>
                        </a:lnTo>
                        <a:lnTo>
                          <a:pt x="371" y="328"/>
                        </a:lnTo>
                        <a:lnTo>
                          <a:pt x="371" y="359"/>
                        </a:lnTo>
                        <a:lnTo>
                          <a:pt x="367" y="372"/>
                        </a:lnTo>
                        <a:lnTo>
                          <a:pt x="305" y="398"/>
                        </a:lnTo>
                        <a:lnTo>
                          <a:pt x="0" y="0"/>
                        </a:lnTo>
                        <a:close/>
                      </a:path>
                    </a:pathLst>
                  </a:custGeom>
                  <a:solidFill>
                    <a:srgbClr val="ffdfb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3" name=""/>
                  <p:cNvSpPr/>
                  <p:nvPr/>
                </p:nvSpPr>
                <p:spPr>
                  <a:xfrm>
                    <a:off x="1447920" y="3295800"/>
                    <a:ext cx="22680" cy="3600"/>
                  </a:xfrm>
                  <a:custGeom>
                    <a:avLst/>
                    <a:gdLst/>
                    <a:ahLst/>
                    <a:rect l="0" t="0" r="r" b="b"/>
                    <a:pathLst>
                      <a:path w="63" h="10">
                        <a:moveTo>
                          <a:pt x="0" y="10"/>
                        </a:moveTo>
                        <a:lnTo>
                          <a:pt x="18" y="5"/>
                        </a:lnTo>
                        <a:lnTo>
                          <a:pt x="40" y="5"/>
                        </a:lnTo>
                        <a:lnTo>
                          <a:pt x="59" y="5"/>
                        </a:lnTo>
                        <a:lnTo>
                          <a:pt x="63" y="5"/>
                        </a:lnTo>
                        <a:lnTo>
                          <a:pt x="50" y="0"/>
                        </a:lnTo>
                        <a:lnTo>
                          <a:pt x="31" y="0"/>
                        </a:lnTo>
                        <a:lnTo>
                          <a:pt x="18" y="5"/>
                        </a:lnTo>
                        <a:lnTo>
                          <a:pt x="0" y="10"/>
                        </a:lnTo>
                        <a:close/>
                      </a:path>
                    </a:pathLst>
                  </a:custGeom>
                  <a:solidFill>
                    <a:srgbClr val="ff7f3f"/>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grpSp>
          </p:grpSp>
          <p:sp>
            <p:nvSpPr>
              <p:cNvPr id="654" name=""/>
              <p:cNvSpPr/>
              <p:nvPr/>
            </p:nvSpPr>
            <p:spPr>
              <a:xfrm>
                <a:off x="911160" y="4278240"/>
                <a:ext cx="773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sp>
        <p:nvSpPr>
          <p:cNvPr id="655" name=""/>
          <p:cNvSpPr txBox="1"/>
          <p:nvPr/>
        </p:nvSpPr>
        <p:spPr>
          <a:xfrm>
            <a:off x="2438280" y="1447920"/>
            <a:ext cx="6248520" cy="4363920"/>
          </a:xfrm>
          <a:prstGeom prst="rect">
            <a:avLst/>
          </a:prstGeom>
          <a:noFill/>
          <a:ln w="0">
            <a:noFill/>
          </a:ln>
        </p:spPr>
        <p:txBody>
          <a:bodyPr lIns="0" rIns="0" tIns="0" bIns="0" anchor="t">
            <a:noAutofit/>
          </a:bodyPr>
          <a:p>
            <a:pPr marL="457200">
              <a:lnSpc>
                <a:spcPct val="90000"/>
              </a:lnSpc>
            </a:pPr>
            <a:r>
              <a:rPr b="1" lang="en-US" sz="2400" spc="-1" strike="noStrike">
                <a:solidFill>
                  <a:srgbClr val="000000"/>
                </a:solidFill>
                <a:latin typeface="Arial"/>
                <a:ea typeface="Arial"/>
              </a:rPr>
              <a:t>1.</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Identify the managemen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issues related to merchandising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businesses.</a:t>
            </a:r>
            <a:endParaRPr b="0" lang="en-US" sz="2400" spc="-1" strike="noStrike">
              <a:solidFill>
                <a:srgbClr val="ffffff"/>
              </a:solidFill>
              <a:latin typeface="Arial"/>
            </a:endParaRPr>
          </a:p>
          <a:p>
            <a:pPr marL="457200">
              <a:lnSpc>
                <a:spcPct val="90000"/>
              </a:lnSpc>
            </a:pPr>
            <a:r>
              <a:rPr b="1" lang="en-US" sz="2400" spc="-1" strike="noStrike">
                <a:solidFill>
                  <a:srgbClr val="000000"/>
                </a:solidFill>
                <a:latin typeface="Arial"/>
                <a:ea typeface="Arial"/>
              </a:rPr>
              <a:t>2.</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Compare the income statements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for service and merchandising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concerns, and define the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components of the merchandising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income statement.</a:t>
            </a:r>
            <a:endParaRPr b="0" lang="en-US" sz="2400" spc="-1" strike="noStrike">
              <a:solidFill>
                <a:srgbClr val="ffffff"/>
              </a:solidFill>
              <a:latin typeface="Arial"/>
            </a:endParaRPr>
          </a:p>
          <a:p>
            <a:pPr marL="457200">
              <a:lnSpc>
                <a:spcPct val="90000"/>
              </a:lnSpc>
            </a:pPr>
            <a:r>
              <a:rPr b="1" lang="en-US" sz="2400" spc="-1" strike="noStrike">
                <a:solidFill>
                  <a:srgbClr val="000000"/>
                </a:solidFill>
                <a:latin typeface="Arial"/>
                <a:ea typeface="Arial"/>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Distinguish between the periodic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and the perpetual inventory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systems, and explain the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importance of taking a physical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inventor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08" name=""/>
          <p:cNvSpPr txBox="1"/>
          <p:nvPr/>
        </p:nvSpPr>
        <p:spPr>
          <a:xfrm>
            <a:off x="762120" y="1066680"/>
            <a:ext cx="8077320" cy="50292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Since purchases of merchandise are usually made on credit, the merchandiser must plan for cash flows from within the company or from borrowing to finance the inventory until it is sold and resulting revenue is collected.</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Operators of a merchandising business must carefully manage cash flows or liquidity. </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If a company can’t pay its bills when due, it may be forced out of business.</a:t>
            </a:r>
            <a:endParaRPr b="0" lang="en-US" sz="2800" spc="-1" strike="noStrike">
              <a:solidFill>
                <a:srgbClr val="ffffff"/>
              </a:solidFill>
              <a:latin typeface="Arial"/>
            </a:endParaRPr>
          </a:p>
        </p:txBody>
      </p:sp>
      <p:sp>
        <p:nvSpPr>
          <p:cNvPr id="109" name=""/>
          <p:cNvSpPr txBox="1"/>
          <p:nvPr/>
        </p:nvSpPr>
        <p:spPr>
          <a:xfrm>
            <a:off x="1447920" y="304920"/>
            <a:ext cx="6892920" cy="868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ash Flow Management</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grpSp>
        <p:nvGrpSpPr>
          <p:cNvPr id="656" name=""/>
          <p:cNvGrpSpPr/>
          <p:nvPr/>
        </p:nvGrpSpPr>
        <p:grpSpPr>
          <a:xfrm>
            <a:off x="2463840" y="1854360"/>
            <a:ext cx="6045120" cy="3378240"/>
            <a:chOff x="2463840" y="1854360"/>
            <a:chExt cx="6045120" cy="3378240"/>
          </a:xfrm>
        </p:grpSpPr>
        <p:sp>
          <p:nvSpPr>
            <p:cNvPr id="657" name=""/>
            <p:cNvSpPr/>
            <p:nvPr/>
          </p:nvSpPr>
          <p:spPr>
            <a:xfrm>
              <a:off x="2463840" y="1854360"/>
              <a:ext cx="6045120" cy="3378240"/>
            </a:xfrm>
            <a:prstGeom prst="rect">
              <a:avLst/>
            </a:prstGeom>
            <a:solidFill>
              <a:srgbClr val="ffffff"/>
            </a:solidFill>
            <a:ln w="152280">
              <a:solidFill>
                <a:srgbClr val="996633"/>
              </a:solidFill>
              <a:round/>
            </a:ln>
          </p:spPr>
          <p:txBody>
            <a:bodyPr lIns="165960" rIns="165960" tIns="120960" bIns="120960" anchor="t">
              <a:noAutofit/>
            </a:bodyPr>
            <a:p>
              <a:endParaRPr b="0" lang="en-US" sz="1800" spc="-1" strike="noStrike">
                <a:solidFill>
                  <a:srgbClr val="000000"/>
                </a:solidFill>
                <a:latin typeface="Arial"/>
              </a:endParaRPr>
            </a:p>
          </p:txBody>
        </p:sp>
        <p:sp>
          <p:nvSpPr>
            <p:cNvPr id="658" name=""/>
            <p:cNvSpPr/>
            <p:nvPr/>
          </p:nvSpPr>
          <p:spPr>
            <a:xfrm>
              <a:off x="2735280" y="1994040"/>
              <a:ext cx="5676840" cy="23684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grpSp>
      <p:grpSp>
        <p:nvGrpSpPr>
          <p:cNvPr id="659" name=""/>
          <p:cNvGrpSpPr/>
          <p:nvPr/>
        </p:nvGrpSpPr>
        <p:grpSpPr>
          <a:xfrm>
            <a:off x="1077840" y="166680"/>
            <a:ext cx="5118120" cy="1968480"/>
            <a:chOff x="1077840" y="166680"/>
            <a:chExt cx="5118120" cy="1968480"/>
          </a:xfrm>
        </p:grpSpPr>
        <p:pic>
          <p:nvPicPr>
            <p:cNvPr id="660" name="" descr=""/>
            <p:cNvPicPr/>
            <p:nvPr/>
          </p:nvPicPr>
          <p:blipFill>
            <a:blip r:embed="rId1"/>
            <a:stretch/>
          </p:blipFill>
          <p:spPr>
            <a:xfrm>
              <a:off x="1077840" y="166680"/>
              <a:ext cx="5118120" cy="1968480"/>
            </a:xfrm>
            <a:prstGeom prst="rect">
              <a:avLst/>
            </a:prstGeom>
            <a:ln w="0">
              <a:noFill/>
            </a:ln>
          </p:spPr>
        </p:pic>
        <p:sp>
          <p:nvSpPr>
            <p:cNvPr id="661" name=""/>
            <p:cNvSpPr txBox="1"/>
            <p:nvPr/>
          </p:nvSpPr>
          <p:spPr>
            <a:xfrm>
              <a:off x="1779480" y="334800"/>
              <a:ext cx="3421080" cy="942840"/>
            </a:xfrm>
            <a:prstGeom prst="rect">
              <a:avLst/>
            </a:prstGeom>
            <a:noFill/>
            <a:ln w="0">
              <a:noFill/>
            </a:ln>
          </p:spPr>
          <p:txBody>
            <a:bodyPr lIns="0" rIns="0" tIns="0" bIns="0" anchor="t">
              <a:noAutofit/>
            </a:bodyPr>
            <a:p>
              <a:pPr algn="ctr">
                <a:lnSpc>
                  <a:spcPct val="100000"/>
                </a:lnSpc>
              </a:pPr>
              <a:r>
                <a:rPr b="1" lang="en-US" sz="2800" spc="-1" strike="noStrike">
                  <a:solidFill>
                    <a:srgbClr val="000000"/>
                  </a:solidFill>
                  <a:latin typeface="Arial"/>
                  <a:ea typeface="Arial"/>
                </a:rPr>
                <a:t>CONTINUING OUR </a:t>
              </a:r>
              <a:br>
                <a:rPr sz="2800"/>
              </a:br>
              <a:r>
                <a:rPr b="1" lang="en-US" sz="2800" spc="-1" strike="noStrike">
                  <a:solidFill>
                    <a:srgbClr val="000000"/>
                  </a:solidFill>
                  <a:latin typeface="Arial"/>
                  <a:ea typeface="Arial"/>
                </a:rPr>
                <a:t>REVIEW . . .</a:t>
              </a:r>
              <a:endParaRPr b="0" lang="en-US" sz="2800" spc="-1" strike="noStrike">
                <a:solidFill>
                  <a:srgbClr val="ffffff"/>
                </a:solidFill>
                <a:latin typeface="Arial"/>
              </a:endParaRPr>
            </a:p>
          </p:txBody>
        </p:sp>
      </p:grpSp>
      <p:grpSp>
        <p:nvGrpSpPr>
          <p:cNvPr id="662" name=""/>
          <p:cNvGrpSpPr/>
          <p:nvPr/>
        </p:nvGrpSpPr>
        <p:grpSpPr>
          <a:xfrm>
            <a:off x="619200" y="1603440"/>
            <a:ext cx="1525680" cy="4901040"/>
            <a:chOff x="619200" y="1603440"/>
            <a:chExt cx="1525680" cy="4901040"/>
          </a:xfrm>
        </p:grpSpPr>
        <p:grpSp>
          <p:nvGrpSpPr>
            <p:cNvPr id="663" name=""/>
            <p:cNvGrpSpPr/>
            <p:nvPr/>
          </p:nvGrpSpPr>
          <p:grpSpPr>
            <a:xfrm>
              <a:off x="1098720" y="1603440"/>
              <a:ext cx="506880" cy="1373400"/>
              <a:chOff x="1098720" y="1603440"/>
              <a:chExt cx="506880" cy="1373400"/>
            </a:xfrm>
          </p:grpSpPr>
          <p:sp>
            <p:nvSpPr>
              <p:cNvPr id="664" name=""/>
              <p:cNvSpPr/>
              <p:nvPr/>
            </p:nvSpPr>
            <p:spPr>
              <a:xfrm>
                <a:off x="1163520" y="2171520"/>
                <a:ext cx="343440" cy="805320"/>
              </a:xfrm>
              <a:custGeom>
                <a:avLst/>
                <a:gdLst/>
                <a:ahLst/>
                <a:rect l="0" t="0" r="r" b="b"/>
                <a:pathLst>
                  <a:path w="954" h="2237">
                    <a:moveTo>
                      <a:pt x="171" y="0"/>
                    </a:moveTo>
                    <a:lnTo>
                      <a:pt x="158" y="101"/>
                    </a:lnTo>
                    <a:lnTo>
                      <a:pt x="132" y="207"/>
                    </a:lnTo>
                    <a:lnTo>
                      <a:pt x="0" y="471"/>
                    </a:lnTo>
                    <a:lnTo>
                      <a:pt x="441" y="2237"/>
                    </a:lnTo>
                    <a:lnTo>
                      <a:pt x="954" y="529"/>
                    </a:lnTo>
                    <a:lnTo>
                      <a:pt x="844" y="295"/>
                    </a:lnTo>
                    <a:lnTo>
                      <a:pt x="808" y="207"/>
                    </a:lnTo>
                    <a:lnTo>
                      <a:pt x="791" y="149"/>
                    </a:lnTo>
                    <a:lnTo>
                      <a:pt x="786" y="17"/>
                    </a:lnTo>
                    <a:lnTo>
                      <a:pt x="171"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65" name=""/>
              <p:cNvSpPr/>
              <p:nvPr/>
            </p:nvSpPr>
            <p:spPr>
              <a:xfrm>
                <a:off x="1231920" y="2187720"/>
                <a:ext cx="282960" cy="294120"/>
              </a:xfrm>
              <a:custGeom>
                <a:avLst/>
                <a:gdLst/>
                <a:ahLst/>
                <a:rect l="0" t="0" r="r" b="b"/>
                <a:pathLst>
                  <a:path w="786" h="817">
                    <a:moveTo>
                      <a:pt x="0" y="0"/>
                    </a:moveTo>
                    <a:lnTo>
                      <a:pt x="8" y="44"/>
                    </a:lnTo>
                    <a:lnTo>
                      <a:pt x="17" y="74"/>
                    </a:lnTo>
                    <a:lnTo>
                      <a:pt x="35" y="114"/>
                    </a:lnTo>
                    <a:lnTo>
                      <a:pt x="52" y="158"/>
                    </a:lnTo>
                    <a:lnTo>
                      <a:pt x="79" y="189"/>
                    </a:lnTo>
                    <a:lnTo>
                      <a:pt x="101" y="230"/>
                    </a:lnTo>
                    <a:lnTo>
                      <a:pt x="136" y="261"/>
                    </a:lnTo>
                    <a:lnTo>
                      <a:pt x="176" y="292"/>
                    </a:lnTo>
                    <a:lnTo>
                      <a:pt x="234" y="314"/>
                    </a:lnTo>
                    <a:lnTo>
                      <a:pt x="287" y="327"/>
                    </a:lnTo>
                    <a:lnTo>
                      <a:pt x="322" y="349"/>
                    </a:lnTo>
                    <a:lnTo>
                      <a:pt x="340" y="362"/>
                    </a:lnTo>
                    <a:lnTo>
                      <a:pt x="349" y="384"/>
                    </a:lnTo>
                    <a:lnTo>
                      <a:pt x="349" y="415"/>
                    </a:lnTo>
                    <a:lnTo>
                      <a:pt x="371" y="402"/>
                    </a:lnTo>
                    <a:lnTo>
                      <a:pt x="397" y="389"/>
                    </a:lnTo>
                    <a:lnTo>
                      <a:pt x="415" y="393"/>
                    </a:lnTo>
                    <a:lnTo>
                      <a:pt x="424" y="415"/>
                    </a:lnTo>
                    <a:lnTo>
                      <a:pt x="424" y="446"/>
                    </a:lnTo>
                    <a:lnTo>
                      <a:pt x="424" y="472"/>
                    </a:lnTo>
                    <a:lnTo>
                      <a:pt x="358" y="817"/>
                    </a:lnTo>
                    <a:lnTo>
                      <a:pt x="525" y="419"/>
                    </a:lnTo>
                    <a:lnTo>
                      <a:pt x="556" y="419"/>
                    </a:lnTo>
                    <a:lnTo>
                      <a:pt x="587" y="424"/>
                    </a:lnTo>
                    <a:lnTo>
                      <a:pt x="614" y="437"/>
                    </a:lnTo>
                    <a:lnTo>
                      <a:pt x="663" y="455"/>
                    </a:lnTo>
                    <a:lnTo>
                      <a:pt x="698" y="459"/>
                    </a:lnTo>
                    <a:lnTo>
                      <a:pt x="747" y="472"/>
                    </a:lnTo>
                    <a:lnTo>
                      <a:pt x="786" y="472"/>
                    </a:lnTo>
                    <a:lnTo>
                      <a:pt x="760" y="419"/>
                    </a:lnTo>
                    <a:lnTo>
                      <a:pt x="725" y="371"/>
                    </a:lnTo>
                    <a:lnTo>
                      <a:pt x="703" y="322"/>
                    </a:lnTo>
                    <a:lnTo>
                      <a:pt x="676" y="283"/>
                    </a:lnTo>
                    <a:lnTo>
                      <a:pt x="663" y="252"/>
                    </a:lnTo>
                    <a:lnTo>
                      <a:pt x="645" y="217"/>
                    </a:lnTo>
                    <a:lnTo>
                      <a:pt x="597" y="26"/>
                    </a:lnTo>
                    <a:lnTo>
                      <a:pt x="0" y="0"/>
                    </a:lnTo>
                    <a:close/>
                  </a:path>
                </a:pathLst>
              </a:custGeom>
              <a:blipFill rotWithShape="0">
                <a:blip r:embed="rId2"/>
                <a:tile tx="0" ty="0" sx="133018" sy="133018" algn="ctr"/>
              </a:blipFill>
              <a:ln w="12600">
                <a:solidFill>
                  <a:srgbClr val="fc5853"/>
                </a:solidFill>
                <a:round/>
              </a:ln>
            </p:spPr>
            <p:txBody>
              <a:bodyPr lIns="96120" rIns="96120" tIns="51120" bIns="51120" anchor="t">
                <a:noAutofit/>
              </a:bodyPr>
              <a:p>
                <a:endParaRPr b="0" lang="en-US" sz="1800" spc="-1" strike="noStrike">
                  <a:solidFill>
                    <a:srgbClr val="000000"/>
                  </a:solidFill>
                  <a:latin typeface="Arial"/>
                </a:endParaRPr>
              </a:p>
            </p:txBody>
          </p:sp>
          <p:sp>
            <p:nvSpPr>
              <p:cNvPr id="666" name=""/>
              <p:cNvSpPr/>
              <p:nvPr/>
            </p:nvSpPr>
            <p:spPr>
              <a:xfrm>
                <a:off x="1171440" y="1630440"/>
                <a:ext cx="360720" cy="619560"/>
              </a:xfrm>
              <a:custGeom>
                <a:avLst/>
                <a:gdLst/>
                <a:ahLst/>
                <a:rect l="0" t="0" r="r" b="b"/>
                <a:pathLst>
                  <a:path w="1002" h="1721">
                    <a:moveTo>
                      <a:pt x="971" y="922"/>
                    </a:moveTo>
                    <a:lnTo>
                      <a:pt x="962" y="1028"/>
                    </a:lnTo>
                    <a:lnTo>
                      <a:pt x="935" y="1121"/>
                    </a:lnTo>
                    <a:lnTo>
                      <a:pt x="931" y="1182"/>
                    </a:lnTo>
                    <a:lnTo>
                      <a:pt x="927" y="1240"/>
                    </a:lnTo>
                    <a:lnTo>
                      <a:pt x="904" y="1316"/>
                    </a:lnTo>
                    <a:lnTo>
                      <a:pt x="887" y="1408"/>
                    </a:lnTo>
                    <a:lnTo>
                      <a:pt x="865" y="1474"/>
                    </a:lnTo>
                    <a:lnTo>
                      <a:pt x="830" y="1523"/>
                    </a:lnTo>
                    <a:lnTo>
                      <a:pt x="790" y="1567"/>
                    </a:lnTo>
                    <a:lnTo>
                      <a:pt x="755" y="1624"/>
                    </a:lnTo>
                    <a:lnTo>
                      <a:pt x="688" y="1664"/>
                    </a:lnTo>
                    <a:lnTo>
                      <a:pt x="644" y="1699"/>
                    </a:lnTo>
                    <a:lnTo>
                      <a:pt x="578" y="1712"/>
                    </a:lnTo>
                    <a:lnTo>
                      <a:pt x="489" y="1721"/>
                    </a:lnTo>
                    <a:lnTo>
                      <a:pt x="410" y="1712"/>
                    </a:lnTo>
                    <a:lnTo>
                      <a:pt x="366" y="1690"/>
                    </a:lnTo>
                    <a:lnTo>
                      <a:pt x="299" y="1646"/>
                    </a:lnTo>
                    <a:lnTo>
                      <a:pt x="260" y="1607"/>
                    </a:lnTo>
                    <a:lnTo>
                      <a:pt x="211" y="1571"/>
                    </a:lnTo>
                    <a:lnTo>
                      <a:pt x="176" y="1536"/>
                    </a:lnTo>
                    <a:lnTo>
                      <a:pt x="132" y="1479"/>
                    </a:lnTo>
                    <a:lnTo>
                      <a:pt x="105" y="1435"/>
                    </a:lnTo>
                    <a:lnTo>
                      <a:pt x="97" y="1386"/>
                    </a:lnTo>
                    <a:lnTo>
                      <a:pt x="74" y="1338"/>
                    </a:lnTo>
                    <a:lnTo>
                      <a:pt x="70" y="1279"/>
                    </a:lnTo>
                    <a:lnTo>
                      <a:pt x="66" y="1226"/>
                    </a:lnTo>
                    <a:lnTo>
                      <a:pt x="52" y="1182"/>
                    </a:lnTo>
                    <a:lnTo>
                      <a:pt x="48" y="1125"/>
                    </a:lnTo>
                    <a:lnTo>
                      <a:pt x="30" y="1041"/>
                    </a:lnTo>
                    <a:lnTo>
                      <a:pt x="4" y="944"/>
                    </a:lnTo>
                    <a:lnTo>
                      <a:pt x="0" y="794"/>
                    </a:lnTo>
                    <a:lnTo>
                      <a:pt x="0" y="662"/>
                    </a:lnTo>
                    <a:lnTo>
                      <a:pt x="4" y="525"/>
                    </a:lnTo>
                    <a:lnTo>
                      <a:pt x="17" y="401"/>
                    </a:lnTo>
                    <a:lnTo>
                      <a:pt x="39" y="317"/>
                    </a:lnTo>
                    <a:lnTo>
                      <a:pt x="66" y="229"/>
                    </a:lnTo>
                    <a:lnTo>
                      <a:pt x="114" y="136"/>
                    </a:lnTo>
                    <a:lnTo>
                      <a:pt x="163" y="83"/>
                    </a:lnTo>
                    <a:lnTo>
                      <a:pt x="229" y="48"/>
                    </a:lnTo>
                    <a:lnTo>
                      <a:pt x="339" y="17"/>
                    </a:lnTo>
                    <a:lnTo>
                      <a:pt x="449" y="0"/>
                    </a:lnTo>
                    <a:lnTo>
                      <a:pt x="574" y="0"/>
                    </a:lnTo>
                    <a:lnTo>
                      <a:pt x="728" y="8"/>
                    </a:lnTo>
                    <a:lnTo>
                      <a:pt x="812" y="30"/>
                    </a:lnTo>
                    <a:lnTo>
                      <a:pt x="865" y="74"/>
                    </a:lnTo>
                    <a:lnTo>
                      <a:pt x="927" y="136"/>
                    </a:lnTo>
                    <a:lnTo>
                      <a:pt x="953" y="229"/>
                    </a:lnTo>
                    <a:lnTo>
                      <a:pt x="988" y="343"/>
                    </a:lnTo>
                    <a:lnTo>
                      <a:pt x="1002" y="472"/>
                    </a:lnTo>
                    <a:lnTo>
                      <a:pt x="1002" y="565"/>
                    </a:lnTo>
                    <a:lnTo>
                      <a:pt x="1002" y="737"/>
                    </a:lnTo>
                    <a:lnTo>
                      <a:pt x="988" y="856"/>
                    </a:lnTo>
                    <a:lnTo>
                      <a:pt x="971" y="922"/>
                    </a:lnTo>
                    <a:close/>
                  </a:path>
                </a:pathLst>
              </a:custGeom>
              <a:solidFill>
                <a:srgbClr val="ffd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67" name=""/>
              <p:cNvSpPr/>
              <p:nvPr/>
            </p:nvSpPr>
            <p:spPr>
              <a:xfrm>
                <a:off x="1433520" y="1662120"/>
                <a:ext cx="95760" cy="563760"/>
              </a:xfrm>
              <a:custGeom>
                <a:avLst/>
                <a:gdLst/>
                <a:ahLst/>
                <a:rect l="0" t="0" r="r" b="b"/>
                <a:pathLst>
                  <a:path w="266" h="1566">
                    <a:moveTo>
                      <a:pt x="240" y="847"/>
                    </a:moveTo>
                    <a:lnTo>
                      <a:pt x="231" y="944"/>
                    </a:lnTo>
                    <a:lnTo>
                      <a:pt x="209" y="1041"/>
                    </a:lnTo>
                    <a:lnTo>
                      <a:pt x="204" y="1103"/>
                    </a:lnTo>
                    <a:lnTo>
                      <a:pt x="195" y="1165"/>
                    </a:lnTo>
                    <a:lnTo>
                      <a:pt x="181" y="1240"/>
                    </a:lnTo>
                    <a:lnTo>
                      <a:pt x="172" y="1306"/>
                    </a:lnTo>
                    <a:lnTo>
                      <a:pt x="159" y="1368"/>
                    </a:lnTo>
                    <a:lnTo>
                      <a:pt x="133" y="1398"/>
                    </a:lnTo>
                    <a:lnTo>
                      <a:pt x="111" y="1447"/>
                    </a:lnTo>
                    <a:lnTo>
                      <a:pt x="61" y="1509"/>
                    </a:lnTo>
                    <a:lnTo>
                      <a:pt x="0" y="1566"/>
                    </a:lnTo>
                    <a:lnTo>
                      <a:pt x="35" y="1535"/>
                    </a:lnTo>
                    <a:lnTo>
                      <a:pt x="61" y="1478"/>
                    </a:lnTo>
                    <a:lnTo>
                      <a:pt x="80" y="1429"/>
                    </a:lnTo>
                    <a:lnTo>
                      <a:pt x="93" y="1385"/>
                    </a:lnTo>
                    <a:lnTo>
                      <a:pt x="93" y="1328"/>
                    </a:lnTo>
                    <a:lnTo>
                      <a:pt x="93" y="1293"/>
                    </a:lnTo>
                    <a:lnTo>
                      <a:pt x="75" y="1231"/>
                    </a:lnTo>
                    <a:lnTo>
                      <a:pt x="93" y="1218"/>
                    </a:lnTo>
                    <a:lnTo>
                      <a:pt x="124" y="1169"/>
                    </a:lnTo>
                    <a:lnTo>
                      <a:pt x="142" y="1129"/>
                    </a:lnTo>
                    <a:lnTo>
                      <a:pt x="159" y="1081"/>
                    </a:lnTo>
                    <a:lnTo>
                      <a:pt x="168" y="1015"/>
                    </a:lnTo>
                    <a:lnTo>
                      <a:pt x="177" y="957"/>
                    </a:lnTo>
                    <a:lnTo>
                      <a:pt x="177" y="913"/>
                    </a:lnTo>
                    <a:lnTo>
                      <a:pt x="177" y="878"/>
                    </a:lnTo>
                    <a:lnTo>
                      <a:pt x="168" y="847"/>
                    </a:lnTo>
                    <a:lnTo>
                      <a:pt x="146" y="816"/>
                    </a:lnTo>
                    <a:lnTo>
                      <a:pt x="159" y="790"/>
                    </a:lnTo>
                    <a:lnTo>
                      <a:pt x="168" y="762"/>
                    </a:lnTo>
                    <a:lnTo>
                      <a:pt x="177" y="709"/>
                    </a:lnTo>
                    <a:lnTo>
                      <a:pt x="137" y="670"/>
                    </a:lnTo>
                    <a:lnTo>
                      <a:pt x="120" y="661"/>
                    </a:lnTo>
                    <a:lnTo>
                      <a:pt x="133" y="630"/>
                    </a:lnTo>
                    <a:lnTo>
                      <a:pt x="142" y="586"/>
                    </a:lnTo>
                    <a:lnTo>
                      <a:pt x="146" y="551"/>
                    </a:lnTo>
                    <a:lnTo>
                      <a:pt x="142" y="493"/>
                    </a:lnTo>
                    <a:lnTo>
                      <a:pt x="133" y="463"/>
                    </a:lnTo>
                    <a:lnTo>
                      <a:pt x="120" y="414"/>
                    </a:lnTo>
                    <a:lnTo>
                      <a:pt x="67" y="343"/>
                    </a:lnTo>
                    <a:lnTo>
                      <a:pt x="35" y="299"/>
                    </a:lnTo>
                    <a:lnTo>
                      <a:pt x="0" y="242"/>
                    </a:lnTo>
                    <a:lnTo>
                      <a:pt x="8" y="171"/>
                    </a:lnTo>
                    <a:lnTo>
                      <a:pt x="35" y="105"/>
                    </a:lnTo>
                    <a:lnTo>
                      <a:pt x="75" y="22"/>
                    </a:lnTo>
                    <a:lnTo>
                      <a:pt x="137" y="0"/>
                    </a:lnTo>
                    <a:lnTo>
                      <a:pt x="186" y="52"/>
                    </a:lnTo>
                    <a:lnTo>
                      <a:pt x="222" y="145"/>
                    </a:lnTo>
                    <a:lnTo>
                      <a:pt x="253" y="264"/>
                    </a:lnTo>
                    <a:lnTo>
                      <a:pt x="262" y="388"/>
                    </a:lnTo>
                    <a:lnTo>
                      <a:pt x="266" y="485"/>
                    </a:lnTo>
                    <a:lnTo>
                      <a:pt x="262" y="652"/>
                    </a:lnTo>
                    <a:lnTo>
                      <a:pt x="253" y="771"/>
                    </a:lnTo>
                    <a:lnTo>
                      <a:pt x="240" y="847"/>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68" name=""/>
              <p:cNvSpPr/>
              <p:nvPr/>
            </p:nvSpPr>
            <p:spPr>
              <a:xfrm>
                <a:off x="1281240" y="2136600"/>
                <a:ext cx="149760" cy="32040"/>
              </a:xfrm>
              <a:custGeom>
                <a:avLst/>
                <a:gdLst/>
                <a:ahLst/>
                <a:rect l="0" t="0" r="r" b="b"/>
                <a:pathLst>
                  <a:path w="416" h="89">
                    <a:moveTo>
                      <a:pt x="0" y="4"/>
                    </a:moveTo>
                    <a:lnTo>
                      <a:pt x="22" y="8"/>
                    </a:lnTo>
                    <a:lnTo>
                      <a:pt x="57" y="8"/>
                    </a:lnTo>
                    <a:lnTo>
                      <a:pt x="92" y="4"/>
                    </a:lnTo>
                    <a:lnTo>
                      <a:pt x="115" y="4"/>
                    </a:lnTo>
                    <a:lnTo>
                      <a:pt x="137" y="4"/>
                    </a:lnTo>
                    <a:lnTo>
                      <a:pt x="164" y="4"/>
                    </a:lnTo>
                    <a:lnTo>
                      <a:pt x="186" y="4"/>
                    </a:lnTo>
                    <a:lnTo>
                      <a:pt x="212" y="4"/>
                    </a:lnTo>
                    <a:lnTo>
                      <a:pt x="225" y="4"/>
                    </a:lnTo>
                    <a:lnTo>
                      <a:pt x="247" y="4"/>
                    </a:lnTo>
                    <a:lnTo>
                      <a:pt x="283" y="0"/>
                    </a:lnTo>
                    <a:lnTo>
                      <a:pt x="309" y="0"/>
                    </a:lnTo>
                    <a:lnTo>
                      <a:pt x="328" y="0"/>
                    </a:lnTo>
                    <a:lnTo>
                      <a:pt x="363" y="4"/>
                    </a:lnTo>
                    <a:lnTo>
                      <a:pt x="381" y="4"/>
                    </a:lnTo>
                    <a:lnTo>
                      <a:pt x="416" y="4"/>
                    </a:lnTo>
                    <a:lnTo>
                      <a:pt x="372" y="26"/>
                    </a:lnTo>
                    <a:lnTo>
                      <a:pt x="354" y="39"/>
                    </a:lnTo>
                    <a:lnTo>
                      <a:pt x="328" y="62"/>
                    </a:lnTo>
                    <a:lnTo>
                      <a:pt x="305" y="71"/>
                    </a:lnTo>
                    <a:lnTo>
                      <a:pt x="292" y="80"/>
                    </a:lnTo>
                    <a:lnTo>
                      <a:pt x="269" y="89"/>
                    </a:lnTo>
                    <a:lnTo>
                      <a:pt x="234" y="89"/>
                    </a:lnTo>
                    <a:lnTo>
                      <a:pt x="199" y="89"/>
                    </a:lnTo>
                    <a:lnTo>
                      <a:pt x="159" y="80"/>
                    </a:lnTo>
                    <a:lnTo>
                      <a:pt x="128" y="71"/>
                    </a:lnTo>
                    <a:lnTo>
                      <a:pt x="97" y="62"/>
                    </a:lnTo>
                    <a:lnTo>
                      <a:pt x="66" y="45"/>
                    </a:lnTo>
                    <a:lnTo>
                      <a:pt x="30" y="26"/>
                    </a:lnTo>
                    <a:lnTo>
                      <a:pt x="0" y="4"/>
                    </a:lnTo>
                    <a:close/>
                  </a:path>
                </a:pathLst>
              </a:custGeom>
              <a:solidFill>
                <a:srgbClr val="ff001f"/>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669" name=""/>
              <p:cNvSpPr/>
              <p:nvPr/>
            </p:nvSpPr>
            <p:spPr>
              <a:xfrm>
                <a:off x="1281240" y="2136600"/>
                <a:ext cx="149760" cy="8280"/>
              </a:xfrm>
              <a:custGeom>
                <a:avLst/>
                <a:gdLst/>
                <a:ahLst/>
                <a:rect l="0" t="0" r="r" b="b"/>
                <a:pathLst>
                  <a:path w="416" h="23">
                    <a:moveTo>
                      <a:pt x="0" y="0"/>
                    </a:moveTo>
                    <a:lnTo>
                      <a:pt x="22" y="4"/>
                    </a:lnTo>
                    <a:lnTo>
                      <a:pt x="57" y="4"/>
                    </a:lnTo>
                    <a:lnTo>
                      <a:pt x="92" y="0"/>
                    </a:lnTo>
                    <a:lnTo>
                      <a:pt x="115" y="0"/>
                    </a:lnTo>
                    <a:lnTo>
                      <a:pt x="137" y="0"/>
                    </a:lnTo>
                    <a:lnTo>
                      <a:pt x="164" y="0"/>
                    </a:lnTo>
                    <a:lnTo>
                      <a:pt x="186" y="0"/>
                    </a:lnTo>
                    <a:lnTo>
                      <a:pt x="212" y="0"/>
                    </a:lnTo>
                    <a:lnTo>
                      <a:pt x="225" y="0"/>
                    </a:lnTo>
                    <a:lnTo>
                      <a:pt x="247" y="0"/>
                    </a:lnTo>
                    <a:lnTo>
                      <a:pt x="283" y="0"/>
                    </a:lnTo>
                    <a:lnTo>
                      <a:pt x="309" y="0"/>
                    </a:lnTo>
                    <a:lnTo>
                      <a:pt x="328" y="0"/>
                    </a:lnTo>
                    <a:lnTo>
                      <a:pt x="363" y="0"/>
                    </a:lnTo>
                    <a:lnTo>
                      <a:pt x="381" y="0"/>
                    </a:lnTo>
                    <a:lnTo>
                      <a:pt x="416" y="0"/>
                    </a:lnTo>
                    <a:lnTo>
                      <a:pt x="376" y="14"/>
                    </a:lnTo>
                    <a:lnTo>
                      <a:pt x="363" y="14"/>
                    </a:lnTo>
                    <a:lnTo>
                      <a:pt x="337" y="14"/>
                    </a:lnTo>
                    <a:lnTo>
                      <a:pt x="309" y="14"/>
                    </a:lnTo>
                    <a:lnTo>
                      <a:pt x="283" y="23"/>
                    </a:lnTo>
                    <a:lnTo>
                      <a:pt x="261" y="23"/>
                    </a:lnTo>
                    <a:lnTo>
                      <a:pt x="225" y="23"/>
                    </a:lnTo>
                    <a:lnTo>
                      <a:pt x="199" y="23"/>
                    </a:lnTo>
                    <a:lnTo>
                      <a:pt x="168" y="23"/>
                    </a:lnTo>
                    <a:lnTo>
                      <a:pt x="128" y="14"/>
                    </a:lnTo>
                    <a:lnTo>
                      <a:pt x="97" y="14"/>
                    </a:lnTo>
                    <a:lnTo>
                      <a:pt x="61" y="14"/>
                    </a:lnTo>
                    <a:lnTo>
                      <a:pt x="35" y="14"/>
                    </a:lnTo>
                    <a:lnTo>
                      <a:pt x="22" y="14"/>
                    </a:lnTo>
                    <a:lnTo>
                      <a:pt x="0" y="0"/>
                    </a:lnTo>
                    <a:close/>
                  </a:path>
                </a:pathLst>
              </a:custGeom>
              <a:solidFill>
                <a:srgbClr val="7f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670" name=""/>
              <p:cNvSpPr/>
              <p:nvPr/>
            </p:nvSpPr>
            <p:spPr>
              <a:xfrm>
                <a:off x="1335240" y="2165400"/>
                <a:ext cx="49680" cy="5040"/>
              </a:xfrm>
              <a:custGeom>
                <a:avLst/>
                <a:gdLst/>
                <a:ahLst/>
                <a:rect l="0" t="0" r="r" b="b"/>
                <a:pathLst>
                  <a:path w="138" h="14">
                    <a:moveTo>
                      <a:pt x="0" y="9"/>
                    </a:moveTo>
                    <a:lnTo>
                      <a:pt x="17" y="9"/>
                    </a:lnTo>
                    <a:lnTo>
                      <a:pt x="36" y="0"/>
                    </a:lnTo>
                    <a:lnTo>
                      <a:pt x="53" y="0"/>
                    </a:lnTo>
                    <a:lnTo>
                      <a:pt x="71" y="0"/>
                    </a:lnTo>
                    <a:lnTo>
                      <a:pt x="89" y="0"/>
                    </a:lnTo>
                    <a:lnTo>
                      <a:pt x="112" y="9"/>
                    </a:lnTo>
                    <a:lnTo>
                      <a:pt x="129" y="9"/>
                    </a:lnTo>
                    <a:lnTo>
                      <a:pt x="138" y="14"/>
                    </a:lnTo>
                    <a:lnTo>
                      <a:pt x="125" y="9"/>
                    </a:lnTo>
                    <a:lnTo>
                      <a:pt x="102" y="9"/>
                    </a:lnTo>
                    <a:lnTo>
                      <a:pt x="89" y="9"/>
                    </a:lnTo>
                    <a:lnTo>
                      <a:pt x="71" y="9"/>
                    </a:lnTo>
                    <a:lnTo>
                      <a:pt x="62" y="9"/>
                    </a:lnTo>
                    <a:lnTo>
                      <a:pt x="49" y="9"/>
                    </a:lnTo>
                    <a:lnTo>
                      <a:pt x="30" y="9"/>
                    </a:lnTo>
                    <a:lnTo>
                      <a:pt x="17" y="9"/>
                    </a:lnTo>
                    <a:lnTo>
                      <a:pt x="0" y="9"/>
                    </a:lnTo>
                    <a:close/>
                  </a:path>
                </a:pathLst>
              </a:custGeom>
              <a:solidFill>
                <a:srgbClr val="ffffff"/>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671" name=""/>
              <p:cNvSpPr/>
              <p:nvPr/>
            </p:nvSpPr>
            <p:spPr>
              <a:xfrm>
                <a:off x="1314360" y="1898640"/>
                <a:ext cx="179640" cy="200520"/>
              </a:xfrm>
              <a:custGeom>
                <a:avLst/>
                <a:gdLst/>
                <a:ahLst/>
                <a:rect l="0" t="0" r="r" b="b"/>
                <a:pathLst>
                  <a:path w="499" h="557">
                    <a:moveTo>
                      <a:pt x="4" y="456"/>
                    </a:moveTo>
                    <a:lnTo>
                      <a:pt x="4" y="478"/>
                    </a:lnTo>
                    <a:lnTo>
                      <a:pt x="8" y="491"/>
                    </a:lnTo>
                    <a:lnTo>
                      <a:pt x="26" y="504"/>
                    </a:lnTo>
                    <a:lnTo>
                      <a:pt x="35" y="504"/>
                    </a:lnTo>
                    <a:lnTo>
                      <a:pt x="52" y="504"/>
                    </a:lnTo>
                    <a:lnTo>
                      <a:pt x="66" y="504"/>
                    </a:lnTo>
                    <a:lnTo>
                      <a:pt x="74" y="509"/>
                    </a:lnTo>
                    <a:lnTo>
                      <a:pt x="79" y="531"/>
                    </a:lnTo>
                    <a:lnTo>
                      <a:pt x="88" y="531"/>
                    </a:lnTo>
                    <a:lnTo>
                      <a:pt x="110" y="531"/>
                    </a:lnTo>
                    <a:lnTo>
                      <a:pt x="132" y="531"/>
                    </a:lnTo>
                    <a:lnTo>
                      <a:pt x="141" y="531"/>
                    </a:lnTo>
                    <a:lnTo>
                      <a:pt x="158" y="517"/>
                    </a:lnTo>
                    <a:lnTo>
                      <a:pt x="158" y="504"/>
                    </a:lnTo>
                    <a:lnTo>
                      <a:pt x="185" y="491"/>
                    </a:lnTo>
                    <a:lnTo>
                      <a:pt x="207" y="491"/>
                    </a:lnTo>
                    <a:lnTo>
                      <a:pt x="220" y="491"/>
                    </a:lnTo>
                    <a:lnTo>
                      <a:pt x="229" y="478"/>
                    </a:lnTo>
                    <a:lnTo>
                      <a:pt x="229" y="465"/>
                    </a:lnTo>
                    <a:lnTo>
                      <a:pt x="224" y="429"/>
                    </a:lnTo>
                    <a:lnTo>
                      <a:pt x="220" y="397"/>
                    </a:lnTo>
                    <a:lnTo>
                      <a:pt x="207" y="384"/>
                    </a:lnTo>
                    <a:lnTo>
                      <a:pt x="185" y="469"/>
                    </a:lnTo>
                    <a:lnTo>
                      <a:pt x="185" y="438"/>
                    </a:lnTo>
                    <a:lnTo>
                      <a:pt x="185" y="429"/>
                    </a:lnTo>
                    <a:lnTo>
                      <a:pt x="171" y="406"/>
                    </a:lnTo>
                    <a:lnTo>
                      <a:pt x="158" y="397"/>
                    </a:lnTo>
                    <a:lnTo>
                      <a:pt x="158" y="384"/>
                    </a:lnTo>
                    <a:lnTo>
                      <a:pt x="145" y="199"/>
                    </a:lnTo>
                    <a:lnTo>
                      <a:pt x="158" y="159"/>
                    </a:lnTo>
                    <a:lnTo>
                      <a:pt x="163" y="127"/>
                    </a:lnTo>
                    <a:lnTo>
                      <a:pt x="176" y="114"/>
                    </a:lnTo>
                    <a:lnTo>
                      <a:pt x="189" y="88"/>
                    </a:lnTo>
                    <a:lnTo>
                      <a:pt x="211" y="61"/>
                    </a:lnTo>
                    <a:lnTo>
                      <a:pt x="233" y="35"/>
                    </a:lnTo>
                    <a:lnTo>
                      <a:pt x="261" y="26"/>
                    </a:lnTo>
                    <a:lnTo>
                      <a:pt x="287" y="8"/>
                    </a:lnTo>
                    <a:lnTo>
                      <a:pt x="340" y="0"/>
                    </a:lnTo>
                    <a:lnTo>
                      <a:pt x="305" y="26"/>
                    </a:lnTo>
                    <a:lnTo>
                      <a:pt x="287" y="61"/>
                    </a:lnTo>
                    <a:lnTo>
                      <a:pt x="283" y="74"/>
                    </a:lnTo>
                    <a:lnTo>
                      <a:pt x="292" y="92"/>
                    </a:lnTo>
                    <a:lnTo>
                      <a:pt x="305" y="114"/>
                    </a:lnTo>
                    <a:lnTo>
                      <a:pt x="340" y="83"/>
                    </a:lnTo>
                    <a:lnTo>
                      <a:pt x="367" y="88"/>
                    </a:lnTo>
                    <a:lnTo>
                      <a:pt x="393" y="83"/>
                    </a:lnTo>
                    <a:lnTo>
                      <a:pt x="428" y="88"/>
                    </a:lnTo>
                    <a:lnTo>
                      <a:pt x="455" y="88"/>
                    </a:lnTo>
                    <a:lnTo>
                      <a:pt x="477" y="83"/>
                    </a:lnTo>
                    <a:lnTo>
                      <a:pt x="499" y="61"/>
                    </a:lnTo>
                    <a:lnTo>
                      <a:pt x="499" y="83"/>
                    </a:lnTo>
                    <a:lnTo>
                      <a:pt x="486" y="114"/>
                    </a:lnTo>
                    <a:lnTo>
                      <a:pt x="468" y="142"/>
                    </a:lnTo>
                    <a:lnTo>
                      <a:pt x="446" y="159"/>
                    </a:lnTo>
                    <a:lnTo>
                      <a:pt x="428" y="177"/>
                    </a:lnTo>
                    <a:lnTo>
                      <a:pt x="229" y="168"/>
                    </a:lnTo>
                    <a:lnTo>
                      <a:pt x="220" y="168"/>
                    </a:lnTo>
                    <a:lnTo>
                      <a:pt x="198" y="186"/>
                    </a:lnTo>
                    <a:lnTo>
                      <a:pt x="189" y="199"/>
                    </a:lnTo>
                    <a:lnTo>
                      <a:pt x="185" y="208"/>
                    </a:lnTo>
                    <a:lnTo>
                      <a:pt x="185" y="239"/>
                    </a:lnTo>
                    <a:lnTo>
                      <a:pt x="185" y="252"/>
                    </a:lnTo>
                    <a:lnTo>
                      <a:pt x="189" y="261"/>
                    </a:lnTo>
                    <a:lnTo>
                      <a:pt x="198" y="269"/>
                    </a:lnTo>
                    <a:lnTo>
                      <a:pt x="211" y="278"/>
                    </a:lnTo>
                    <a:lnTo>
                      <a:pt x="233" y="300"/>
                    </a:lnTo>
                    <a:lnTo>
                      <a:pt x="252" y="300"/>
                    </a:lnTo>
                    <a:lnTo>
                      <a:pt x="185" y="269"/>
                    </a:lnTo>
                    <a:lnTo>
                      <a:pt x="185" y="300"/>
                    </a:lnTo>
                    <a:lnTo>
                      <a:pt x="185" y="331"/>
                    </a:lnTo>
                    <a:lnTo>
                      <a:pt x="189" y="380"/>
                    </a:lnTo>
                    <a:lnTo>
                      <a:pt x="198" y="380"/>
                    </a:lnTo>
                    <a:lnTo>
                      <a:pt x="211" y="389"/>
                    </a:lnTo>
                    <a:lnTo>
                      <a:pt x="224" y="411"/>
                    </a:lnTo>
                    <a:lnTo>
                      <a:pt x="233" y="447"/>
                    </a:lnTo>
                    <a:lnTo>
                      <a:pt x="233" y="469"/>
                    </a:lnTo>
                    <a:lnTo>
                      <a:pt x="233" y="491"/>
                    </a:lnTo>
                    <a:lnTo>
                      <a:pt x="224" y="504"/>
                    </a:lnTo>
                    <a:lnTo>
                      <a:pt x="216" y="504"/>
                    </a:lnTo>
                    <a:lnTo>
                      <a:pt x="211" y="509"/>
                    </a:lnTo>
                    <a:lnTo>
                      <a:pt x="189" y="509"/>
                    </a:lnTo>
                    <a:lnTo>
                      <a:pt x="176" y="513"/>
                    </a:lnTo>
                    <a:lnTo>
                      <a:pt x="158" y="531"/>
                    </a:lnTo>
                    <a:lnTo>
                      <a:pt x="154" y="553"/>
                    </a:lnTo>
                    <a:lnTo>
                      <a:pt x="136" y="557"/>
                    </a:lnTo>
                    <a:lnTo>
                      <a:pt x="123" y="557"/>
                    </a:lnTo>
                    <a:lnTo>
                      <a:pt x="114" y="557"/>
                    </a:lnTo>
                    <a:lnTo>
                      <a:pt x="88" y="557"/>
                    </a:lnTo>
                    <a:lnTo>
                      <a:pt x="83" y="548"/>
                    </a:lnTo>
                    <a:lnTo>
                      <a:pt x="66" y="531"/>
                    </a:lnTo>
                    <a:lnTo>
                      <a:pt x="57" y="517"/>
                    </a:lnTo>
                    <a:lnTo>
                      <a:pt x="44" y="517"/>
                    </a:lnTo>
                    <a:lnTo>
                      <a:pt x="26" y="517"/>
                    </a:lnTo>
                    <a:lnTo>
                      <a:pt x="13" y="509"/>
                    </a:lnTo>
                    <a:lnTo>
                      <a:pt x="4" y="504"/>
                    </a:lnTo>
                    <a:lnTo>
                      <a:pt x="0" y="491"/>
                    </a:lnTo>
                    <a:lnTo>
                      <a:pt x="4" y="456"/>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72" name=""/>
              <p:cNvSpPr/>
              <p:nvPr/>
            </p:nvSpPr>
            <p:spPr>
              <a:xfrm>
                <a:off x="1347840" y="2065320"/>
                <a:ext cx="1440" cy="1440"/>
              </a:xfrm>
              <a:prstGeom prst="ellipse">
                <a:avLst/>
              </a:prstGeom>
              <a:solidFill>
                <a:srgbClr val="ffffff"/>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673" name=""/>
              <p:cNvSpPr/>
              <p:nvPr/>
            </p:nvSpPr>
            <p:spPr>
              <a:xfrm>
                <a:off x="1098720" y="1603440"/>
                <a:ext cx="506880" cy="435240"/>
              </a:xfrm>
              <a:custGeom>
                <a:avLst/>
                <a:gdLst/>
                <a:ahLst/>
                <a:rect l="0" t="0" r="r" b="b"/>
                <a:pathLst>
                  <a:path w="1408" h="1209">
                    <a:moveTo>
                      <a:pt x="242" y="1209"/>
                    </a:moveTo>
                    <a:lnTo>
                      <a:pt x="224" y="1187"/>
                    </a:lnTo>
                    <a:lnTo>
                      <a:pt x="202" y="1151"/>
                    </a:lnTo>
                    <a:lnTo>
                      <a:pt x="194" y="1134"/>
                    </a:lnTo>
                    <a:lnTo>
                      <a:pt x="185" y="1112"/>
                    </a:lnTo>
                    <a:lnTo>
                      <a:pt x="176" y="1099"/>
                    </a:lnTo>
                    <a:lnTo>
                      <a:pt x="149" y="1085"/>
                    </a:lnTo>
                    <a:lnTo>
                      <a:pt x="127" y="1076"/>
                    </a:lnTo>
                    <a:lnTo>
                      <a:pt x="92" y="1050"/>
                    </a:lnTo>
                    <a:lnTo>
                      <a:pt x="88" y="1028"/>
                    </a:lnTo>
                    <a:lnTo>
                      <a:pt x="57" y="1006"/>
                    </a:lnTo>
                    <a:lnTo>
                      <a:pt x="48" y="988"/>
                    </a:lnTo>
                    <a:lnTo>
                      <a:pt x="39" y="949"/>
                    </a:lnTo>
                    <a:lnTo>
                      <a:pt x="35" y="922"/>
                    </a:lnTo>
                    <a:lnTo>
                      <a:pt x="26" y="887"/>
                    </a:lnTo>
                    <a:lnTo>
                      <a:pt x="13" y="852"/>
                    </a:lnTo>
                    <a:lnTo>
                      <a:pt x="13" y="759"/>
                    </a:lnTo>
                    <a:lnTo>
                      <a:pt x="8" y="666"/>
                    </a:lnTo>
                    <a:lnTo>
                      <a:pt x="0" y="577"/>
                    </a:lnTo>
                    <a:lnTo>
                      <a:pt x="13" y="542"/>
                    </a:lnTo>
                    <a:lnTo>
                      <a:pt x="26" y="498"/>
                    </a:lnTo>
                    <a:lnTo>
                      <a:pt x="35" y="454"/>
                    </a:lnTo>
                    <a:lnTo>
                      <a:pt x="48" y="401"/>
                    </a:lnTo>
                    <a:lnTo>
                      <a:pt x="88" y="317"/>
                    </a:lnTo>
                    <a:lnTo>
                      <a:pt x="132" y="255"/>
                    </a:lnTo>
                    <a:lnTo>
                      <a:pt x="167" y="220"/>
                    </a:lnTo>
                    <a:lnTo>
                      <a:pt x="198" y="180"/>
                    </a:lnTo>
                    <a:lnTo>
                      <a:pt x="273" y="136"/>
                    </a:lnTo>
                    <a:lnTo>
                      <a:pt x="343" y="92"/>
                    </a:lnTo>
                    <a:lnTo>
                      <a:pt x="428" y="44"/>
                    </a:lnTo>
                    <a:lnTo>
                      <a:pt x="521" y="17"/>
                    </a:lnTo>
                    <a:lnTo>
                      <a:pt x="618" y="13"/>
                    </a:lnTo>
                    <a:lnTo>
                      <a:pt x="702" y="0"/>
                    </a:lnTo>
                    <a:lnTo>
                      <a:pt x="781" y="0"/>
                    </a:lnTo>
                    <a:lnTo>
                      <a:pt x="887" y="4"/>
                    </a:lnTo>
                    <a:lnTo>
                      <a:pt x="944" y="44"/>
                    </a:lnTo>
                    <a:lnTo>
                      <a:pt x="993" y="57"/>
                    </a:lnTo>
                    <a:lnTo>
                      <a:pt x="1060" y="74"/>
                    </a:lnTo>
                    <a:lnTo>
                      <a:pt x="1108" y="92"/>
                    </a:lnTo>
                    <a:lnTo>
                      <a:pt x="1166" y="127"/>
                    </a:lnTo>
                    <a:lnTo>
                      <a:pt x="1223" y="194"/>
                    </a:lnTo>
                    <a:lnTo>
                      <a:pt x="1267" y="246"/>
                    </a:lnTo>
                    <a:lnTo>
                      <a:pt x="1298" y="286"/>
                    </a:lnTo>
                    <a:lnTo>
                      <a:pt x="1324" y="330"/>
                    </a:lnTo>
                    <a:lnTo>
                      <a:pt x="1360" y="388"/>
                    </a:lnTo>
                    <a:lnTo>
                      <a:pt x="1391" y="449"/>
                    </a:lnTo>
                    <a:lnTo>
                      <a:pt x="1399" y="542"/>
                    </a:lnTo>
                    <a:lnTo>
                      <a:pt x="1408" y="666"/>
                    </a:lnTo>
                    <a:lnTo>
                      <a:pt x="1399" y="719"/>
                    </a:lnTo>
                    <a:lnTo>
                      <a:pt x="1391" y="799"/>
                    </a:lnTo>
                    <a:lnTo>
                      <a:pt x="1373" y="860"/>
                    </a:lnTo>
                    <a:lnTo>
                      <a:pt x="1351" y="904"/>
                    </a:lnTo>
                    <a:lnTo>
                      <a:pt x="1311" y="957"/>
                    </a:lnTo>
                    <a:lnTo>
                      <a:pt x="1298" y="988"/>
                    </a:lnTo>
                    <a:lnTo>
                      <a:pt x="1236" y="1041"/>
                    </a:lnTo>
                    <a:lnTo>
                      <a:pt x="1201" y="1090"/>
                    </a:lnTo>
                    <a:lnTo>
                      <a:pt x="1174" y="1151"/>
                    </a:lnTo>
                    <a:lnTo>
                      <a:pt x="1139" y="1200"/>
                    </a:lnTo>
                    <a:lnTo>
                      <a:pt x="1166" y="1107"/>
                    </a:lnTo>
                    <a:lnTo>
                      <a:pt x="1166" y="1028"/>
                    </a:lnTo>
                    <a:lnTo>
                      <a:pt x="1174" y="927"/>
                    </a:lnTo>
                    <a:lnTo>
                      <a:pt x="1157" y="904"/>
                    </a:lnTo>
                    <a:lnTo>
                      <a:pt x="1144" y="860"/>
                    </a:lnTo>
                    <a:lnTo>
                      <a:pt x="1157" y="816"/>
                    </a:lnTo>
                    <a:lnTo>
                      <a:pt x="1157" y="781"/>
                    </a:lnTo>
                    <a:lnTo>
                      <a:pt x="1139" y="706"/>
                    </a:lnTo>
                    <a:lnTo>
                      <a:pt x="1135" y="662"/>
                    </a:lnTo>
                    <a:lnTo>
                      <a:pt x="1135" y="627"/>
                    </a:lnTo>
                    <a:lnTo>
                      <a:pt x="1113" y="577"/>
                    </a:lnTo>
                    <a:lnTo>
                      <a:pt x="1095" y="542"/>
                    </a:lnTo>
                    <a:lnTo>
                      <a:pt x="1077" y="502"/>
                    </a:lnTo>
                    <a:lnTo>
                      <a:pt x="1060" y="471"/>
                    </a:lnTo>
                    <a:lnTo>
                      <a:pt x="1006" y="449"/>
                    </a:lnTo>
                    <a:lnTo>
                      <a:pt x="971" y="401"/>
                    </a:lnTo>
                    <a:lnTo>
                      <a:pt x="927" y="388"/>
                    </a:lnTo>
                    <a:lnTo>
                      <a:pt x="887" y="388"/>
                    </a:lnTo>
                    <a:lnTo>
                      <a:pt x="896" y="348"/>
                    </a:lnTo>
                    <a:lnTo>
                      <a:pt x="852" y="357"/>
                    </a:lnTo>
                    <a:lnTo>
                      <a:pt x="816" y="374"/>
                    </a:lnTo>
                    <a:lnTo>
                      <a:pt x="781" y="388"/>
                    </a:lnTo>
                    <a:lnTo>
                      <a:pt x="733" y="396"/>
                    </a:lnTo>
                    <a:lnTo>
                      <a:pt x="693" y="388"/>
                    </a:lnTo>
                    <a:lnTo>
                      <a:pt x="653" y="379"/>
                    </a:lnTo>
                    <a:lnTo>
                      <a:pt x="618" y="361"/>
                    </a:lnTo>
                    <a:lnTo>
                      <a:pt x="569" y="357"/>
                    </a:lnTo>
                    <a:lnTo>
                      <a:pt x="543" y="357"/>
                    </a:lnTo>
                    <a:lnTo>
                      <a:pt x="521" y="379"/>
                    </a:lnTo>
                    <a:lnTo>
                      <a:pt x="499" y="401"/>
                    </a:lnTo>
                    <a:lnTo>
                      <a:pt x="472" y="436"/>
                    </a:lnTo>
                    <a:lnTo>
                      <a:pt x="459" y="485"/>
                    </a:lnTo>
                    <a:lnTo>
                      <a:pt x="428" y="524"/>
                    </a:lnTo>
                    <a:lnTo>
                      <a:pt x="415" y="586"/>
                    </a:lnTo>
                    <a:lnTo>
                      <a:pt x="393" y="693"/>
                    </a:lnTo>
                    <a:lnTo>
                      <a:pt x="371" y="799"/>
                    </a:lnTo>
                    <a:lnTo>
                      <a:pt x="343" y="860"/>
                    </a:lnTo>
                    <a:lnTo>
                      <a:pt x="268" y="1028"/>
                    </a:lnTo>
                    <a:lnTo>
                      <a:pt x="273" y="988"/>
                    </a:lnTo>
                    <a:lnTo>
                      <a:pt x="273" y="957"/>
                    </a:lnTo>
                    <a:lnTo>
                      <a:pt x="277" y="931"/>
                    </a:lnTo>
                    <a:lnTo>
                      <a:pt x="291" y="878"/>
                    </a:lnTo>
                    <a:lnTo>
                      <a:pt x="264" y="918"/>
                    </a:lnTo>
                    <a:lnTo>
                      <a:pt x="246" y="940"/>
                    </a:lnTo>
                    <a:lnTo>
                      <a:pt x="238" y="962"/>
                    </a:lnTo>
                    <a:lnTo>
                      <a:pt x="224" y="997"/>
                    </a:lnTo>
                    <a:lnTo>
                      <a:pt x="224" y="1015"/>
                    </a:lnTo>
                    <a:lnTo>
                      <a:pt x="216" y="1041"/>
                    </a:lnTo>
                    <a:lnTo>
                      <a:pt x="216" y="1085"/>
                    </a:lnTo>
                    <a:lnTo>
                      <a:pt x="224" y="1112"/>
                    </a:lnTo>
                    <a:lnTo>
                      <a:pt x="224" y="1138"/>
                    </a:lnTo>
                    <a:lnTo>
                      <a:pt x="233" y="1147"/>
                    </a:lnTo>
                    <a:lnTo>
                      <a:pt x="238" y="1187"/>
                    </a:lnTo>
                    <a:lnTo>
                      <a:pt x="242" y="1209"/>
                    </a:lnTo>
                    <a:close/>
                  </a:path>
                </a:pathLst>
              </a:custGeom>
              <a:solidFill>
                <a:srgbClr val="ff5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74" name=""/>
              <p:cNvSpPr/>
              <p:nvPr/>
            </p:nvSpPr>
            <p:spPr>
              <a:xfrm>
                <a:off x="1189080" y="1603440"/>
                <a:ext cx="416160" cy="430560"/>
              </a:xfrm>
              <a:custGeom>
                <a:avLst/>
                <a:gdLst/>
                <a:ahLst/>
                <a:rect l="0" t="0" r="r" b="b"/>
                <a:pathLst>
                  <a:path w="1156" h="1196">
                    <a:moveTo>
                      <a:pt x="35" y="825"/>
                    </a:moveTo>
                    <a:lnTo>
                      <a:pt x="22" y="763"/>
                    </a:lnTo>
                    <a:lnTo>
                      <a:pt x="17" y="693"/>
                    </a:lnTo>
                    <a:lnTo>
                      <a:pt x="4" y="627"/>
                    </a:lnTo>
                    <a:lnTo>
                      <a:pt x="0" y="560"/>
                    </a:lnTo>
                    <a:lnTo>
                      <a:pt x="0" y="471"/>
                    </a:lnTo>
                    <a:lnTo>
                      <a:pt x="4" y="388"/>
                    </a:lnTo>
                    <a:lnTo>
                      <a:pt x="48" y="273"/>
                    </a:lnTo>
                    <a:lnTo>
                      <a:pt x="79" y="207"/>
                    </a:lnTo>
                    <a:lnTo>
                      <a:pt x="127" y="136"/>
                    </a:lnTo>
                    <a:lnTo>
                      <a:pt x="185" y="97"/>
                    </a:lnTo>
                    <a:lnTo>
                      <a:pt x="273" y="30"/>
                    </a:lnTo>
                    <a:lnTo>
                      <a:pt x="357" y="0"/>
                    </a:lnTo>
                    <a:lnTo>
                      <a:pt x="454" y="0"/>
                    </a:lnTo>
                    <a:lnTo>
                      <a:pt x="533" y="0"/>
                    </a:lnTo>
                    <a:lnTo>
                      <a:pt x="640" y="4"/>
                    </a:lnTo>
                    <a:lnTo>
                      <a:pt x="697" y="44"/>
                    </a:lnTo>
                    <a:lnTo>
                      <a:pt x="741" y="119"/>
                    </a:lnTo>
                    <a:lnTo>
                      <a:pt x="741" y="194"/>
                    </a:lnTo>
                    <a:lnTo>
                      <a:pt x="733" y="264"/>
                    </a:lnTo>
                    <a:lnTo>
                      <a:pt x="706" y="326"/>
                    </a:lnTo>
                    <a:lnTo>
                      <a:pt x="768" y="291"/>
                    </a:lnTo>
                    <a:lnTo>
                      <a:pt x="821" y="273"/>
                    </a:lnTo>
                    <a:lnTo>
                      <a:pt x="887" y="255"/>
                    </a:lnTo>
                    <a:lnTo>
                      <a:pt x="953" y="273"/>
                    </a:lnTo>
                    <a:lnTo>
                      <a:pt x="1015" y="308"/>
                    </a:lnTo>
                    <a:lnTo>
                      <a:pt x="1046" y="299"/>
                    </a:lnTo>
                    <a:lnTo>
                      <a:pt x="1072" y="326"/>
                    </a:lnTo>
                    <a:lnTo>
                      <a:pt x="1107" y="388"/>
                    </a:lnTo>
                    <a:lnTo>
                      <a:pt x="1138" y="445"/>
                    </a:lnTo>
                    <a:lnTo>
                      <a:pt x="1147" y="537"/>
                    </a:lnTo>
                    <a:lnTo>
                      <a:pt x="1156" y="666"/>
                    </a:lnTo>
                    <a:lnTo>
                      <a:pt x="1147" y="715"/>
                    </a:lnTo>
                    <a:lnTo>
                      <a:pt x="1138" y="794"/>
                    </a:lnTo>
                    <a:lnTo>
                      <a:pt x="1121" y="860"/>
                    </a:lnTo>
                    <a:lnTo>
                      <a:pt x="1099" y="900"/>
                    </a:lnTo>
                    <a:lnTo>
                      <a:pt x="1059" y="957"/>
                    </a:lnTo>
                    <a:lnTo>
                      <a:pt x="1046" y="984"/>
                    </a:lnTo>
                    <a:lnTo>
                      <a:pt x="988" y="1037"/>
                    </a:lnTo>
                    <a:lnTo>
                      <a:pt x="949" y="1085"/>
                    </a:lnTo>
                    <a:lnTo>
                      <a:pt x="922" y="1151"/>
                    </a:lnTo>
                    <a:lnTo>
                      <a:pt x="891" y="1196"/>
                    </a:lnTo>
                    <a:lnTo>
                      <a:pt x="913" y="1103"/>
                    </a:lnTo>
                    <a:lnTo>
                      <a:pt x="913" y="1024"/>
                    </a:lnTo>
                    <a:lnTo>
                      <a:pt x="922" y="922"/>
                    </a:lnTo>
                    <a:lnTo>
                      <a:pt x="904" y="900"/>
                    </a:lnTo>
                    <a:lnTo>
                      <a:pt x="896" y="860"/>
                    </a:lnTo>
                    <a:lnTo>
                      <a:pt x="904" y="812"/>
                    </a:lnTo>
                    <a:lnTo>
                      <a:pt x="904" y="781"/>
                    </a:lnTo>
                    <a:lnTo>
                      <a:pt x="891" y="702"/>
                    </a:lnTo>
                    <a:lnTo>
                      <a:pt x="887" y="662"/>
                    </a:lnTo>
                    <a:lnTo>
                      <a:pt x="887" y="622"/>
                    </a:lnTo>
                    <a:lnTo>
                      <a:pt x="860" y="577"/>
                    </a:lnTo>
                    <a:lnTo>
                      <a:pt x="847" y="537"/>
                    </a:lnTo>
                    <a:lnTo>
                      <a:pt x="825" y="502"/>
                    </a:lnTo>
                    <a:lnTo>
                      <a:pt x="807" y="471"/>
                    </a:lnTo>
                    <a:lnTo>
                      <a:pt x="759" y="445"/>
                    </a:lnTo>
                    <a:lnTo>
                      <a:pt x="719" y="401"/>
                    </a:lnTo>
                    <a:lnTo>
                      <a:pt x="675" y="388"/>
                    </a:lnTo>
                    <a:lnTo>
                      <a:pt x="618" y="366"/>
                    </a:lnTo>
                    <a:lnTo>
                      <a:pt x="636" y="330"/>
                    </a:lnTo>
                    <a:lnTo>
                      <a:pt x="658" y="255"/>
                    </a:lnTo>
                    <a:lnTo>
                      <a:pt x="666" y="189"/>
                    </a:lnTo>
                    <a:lnTo>
                      <a:pt x="666" y="145"/>
                    </a:lnTo>
                    <a:lnTo>
                      <a:pt x="649" y="110"/>
                    </a:lnTo>
                    <a:lnTo>
                      <a:pt x="609" y="74"/>
                    </a:lnTo>
                    <a:lnTo>
                      <a:pt x="573" y="57"/>
                    </a:lnTo>
                    <a:lnTo>
                      <a:pt x="533" y="44"/>
                    </a:lnTo>
                    <a:lnTo>
                      <a:pt x="480" y="52"/>
                    </a:lnTo>
                    <a:lnTo>
                      <a:pt x="423" y="74"/>
                    </a:lnTo>
                    <a:lnTo>
                      <a:pt x="396" y="110"/>
                    </a:lnTo>
                    <a:lnTo>
                      <a:pt x="370" y="145"/>
                    </a:lnTo>
                    <a:lnTo>
                      <a:pt x="348" y="185"/>
                    </a:lnTo>
                    <a:lnTo>
                      <a:pt x="343" y="229"/>
                    </a:lnTo>
                    <a:lnTo>
                      <a:pt x="321" y="273"/>
                    </a:lnTo>
                    <a:lnTo>
                      <a:pt x="313" y="308"/>
                    </a:lnTo>
                    <a:lnTo>
                      <a:pt x="295" y="357"/>
                    </a:lnTo>
                    <a:lnTo>
                      <a:pt x="273" y="379"/>
                    </a:lnTo>
                    <a:lnTo>
                      <a:pt x="251" y="401"/>
                    </a:lnTo>
                    <a:lnTo>
                      <a:pt x="229" y="432"/>
                    </a:lnTo>
                    <a:lnTo>
                      <a:pt x="211" y="485"/>
                    </a:lnTo>
                    <a:lnTo>
                      <a:pt x="185" y="520"/>
                    </a:lnTo>
                    <a:lnTo>
                      <a:pt x="167" y="586"/>
                    </a:lnTo>
                    <a:lnTo>
                      <a:pt x="149" y="693"/>
                    </a:lnTo>
                    <a:lnTo>
                      <a:pt x="127" y="794"/>
                    </a:lnTo>
                    <a:lnTo>
                      <a:pt x="101" y="860"/>
                    </a:lnTo>
                    <a:lnTo>
                      <a:pt x="22" y="1024"/>
                    </a:lnTo>
                    <a:lnTo>
                      <a:pt x="30" y="984"/>
                    </a:lnTo>
                    <a:lnTo>
                      <a:pt x="30" y="957"/>
                    </a:lnTo>
                    <a:lnTo>
                      <a:pt x="35" y="927"/>
                    </a:lnTo>
                    <a:lnTo>
                      <a:pt x="48" y="878"/>
                    </a:lnTo>
                    <a:lnTo>
                      <a:pt x="35" y="825"/>
                    </a:lnTo>
                    <a:close/>
                  </a:path>
                </a:pathLst>
              </a:custGeom>
              <a:solidFill>
                <a:srgbClr val="ff9f1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75" name=""/>
              <p:cNvSpPr/>
              <p:nvPr/>
            </p:nvSpPr>
            <p:spPr>
              <a:xfrm>
                <a:off x="1508040" y="1989000"/>
                <a:ext cx="27360" cy="70200"/>
              </a:xfrm>
              <a:custGeom>
                <a:avLst/>
                <a:gdLst/>
                <a:ahLst/>
                <a:rect l="0" t="0" r="r" b="b"/>
                <a:pathLst>
                  <a:path w="76" h="195">
                    <a:moveTo>
                      <a:pt x="76" y="22"/>
                    </a:moveTo>
                    <a:lnTo>
                      <a:pt x="76" y="70"/>
                    </a:lnTo>
                    <a:lnTo>
                      <a:pt x="68" y="98"/>
                    </a:lnTo>
                    <a:lnTo>
                      <a:pt x="45" y="146"/>
                    </a:lnTo>
                    <a:lnTo>
                      <a:pt x="31" y="172"/>
                    </a:lnTo>
                    <a:lnTo>
                      <a:pt x="23" y="186"/>
                    </a:lnTo>
                    <a:lnTo>
                      <a:pt x="17" y="195"/>
                    </a:lnTo>
                    <a:lnTo>
                      <a:pt x="0" y="195"/>
                    </a:lnTo>
                    <a:lnTo>
                      <a:pt x="17" y="57"/>
                    </a:lnTo>
                    <a:lnTo>
                      <a:pt x="45" y="0"/>
                    </a:lnTo>
                    <a:lnTo>
                      <a:pt x="76" y="22"/>
                    </a:lnTo>
                    <a:close/>
                  </a:path>
                </a:pathLst>
              </a:custGeom>
              <a:solidFill>
                <a:srgbClr val="ffdfbf"/>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676" name=""/>
              <p:cNvSpPr/>
              <p:nvPr/>
            </p:nvSpPr>
            <p:spPr>
              <a:xfrm>
                <a:off x="1150920" y="1984320"/>
                <a:ext cx="28800" cy="66960"/>
              </a:xfrm>
              <a:custGeom>
                <a:avLst/>
                <a:gdLst/>
                <a:ahLst/>
                <a:rect l="0" t="0" r="r" b="b"/>
                <a:pathLst>
                  <a:path w="80" h="186">
                    <a:moveTo>
                      <a:pt x="0" y="22"/>
                    </a:moveTo>
                    <a:lnTo>
                      <a:pt x="8" y="66"/>
                    </a:lnTo>
                    <a:lnTo>
                      <a:pt x="13" y="92"/>
                    </a:lnTo>
                    <a:lnTo>
                      <a:pt x="35" y="142"/>
                    </a:lnTo>
                    <a:lnTo>
                      <a:pt x="49" y="168"/>
                    </a:lnTo>
                    <a:lnTo>
                      <a:pt x="58" y="177"/>
                    </a:lnTo>
                    <a:lnTo>
                      <a:pt x="71" y="186"/>
                    </a:lnTo>
                    <a:lnTo>
                      <a:pt x="80" y="186"/>
                    </a:lnTo>
                    <a:lnTo>
                      <a:pt x="62" y="57"/>
                    </a:lnTo>
                    <a:lnTo>
                      <a:pt x="35" y="0"/>
                    </a:lnTo>
                    <a:lnTo>
                      <a:pt x="0" y="22"/>
                    </a:lnTo>
                    <a:close/>
                  </a:path>
                </a:pathLst>
              </a:custGeom>
              <a:solidFill>
                <a:srgbClr val="ffdfbf"/>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677" name=""/>
              <p:cNvSpPr/>
              <p:nvPr/>
            </p:nvSpPr>
            <p:spPr>
              <a:xfrm>
                <a:off x="1430280" y="2125800"/>
                <a:ext cx="8280" cy="5040"/>
              </a:xfrm>
              <a:custGeom>
                <a:avLst/>
                <a:gdLst/>
                <a:ahLst/>
                <a:rect l="0" t="0" r="r" b="b"/>
                <a:pathLst>
                  <a:path w="23" h="14">
                    <a:moveTo>
                      <a:pt x="23" y="0"/>
                    </a:moveTo>
                    <a:lnTo>
                      <a:pt x="0" y="4"/>
                    </a:lnTo>
                    <a:lnTo>
                      <a:pt x="0" y="9"/>
                    </a:lnTo>
                    <a:lnTo>
                      <a:pt x="0" y="14"/>
                    </a:lnTo>
                    <a:lnTo>
                      <a:pt x="23" y="0"/>
                    </a:lnTo>
                    <a:close/>
                  </a:path>
                </a:pathLst>
              </a:custGeom>
              <a:solidFill>
                <a:srgbClr val="ff9f7f"/>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678" name=""/>
              <p:cNvSpPr/>
              <p:nvPr/>
            </p:nvSpPr>
            <p:spPr>
              <a:xfrm>
                <a:off x="1284120" y="1911240"/>
                <a:ext cx="38520" cy="44640"/>
              </a:xfrm>
              <a:custGeom>
                <a:avLst/>
                <a:gdLst/>
                <a:ahLst/>
                <a:rect l="0" t="0" r="r" b="b"/>
                <a:pathLst>
                  <a:path w="107" h="124">
                    <a:moveTo>
                      <a:pt x="67" y="26"/>
                    </a:moveTo>
                    <a:lnTo>
                      <a:pt x="85" y="39"/>
                    </a:lnTo>
                    <a:lnTo>
                      <a:pt x="99" y="71"/>
                    </a:lnTo>
                    <a:lnTo>
                      <a:pt x="103" y="84"/>
                    </a:lnTo>
                    <a:lnTo>
                      <a:pt x="107" y="111"/>
                    </a:lnTo>
                    <a:lnTo>
                      <a:pt x="107" y="124"/>
                    </a:lnTo>
                    <a:lnTo>
                      <a:pt x="85" y="111"/>
                    </a:lnTo>
                    <a:lnTo>
                      <a:pt x="75" y="102"/>
                    </a:lnTo>
                    <a:lnTo>
                      <a:pt x="53" y="102"/>
                    </a:lnTo>
                    <a:lnTo>
                      <a:pt x="31" y="89"/>
                    </a:lnTo>
                    <a:lnTo>
                      <a:pt x="0" y="80"/>
                    </a:lnTo>
                    <a:lnTo>
                      <a:pt x="0" y="71"/>
                    </a:lnTo>
                    <a:lnTo>
                      <a:pt x="8" y="57"/>
                    </a:lnTo>
                    <a:lnTo>
                      <a:pt x="13" y="44"/>
                    </a:lnTo>
                    <a:lnTo>
                      <a:pt x="17" y="17"/>
                    </a:lnTo>
                    <a:lnTo>
                      <a:pt x="8" y="0"/>
                    </a:lnTo>
                    <a:lnTo>
                      <a:pt x="67" y="26"/>
                    </a:lnTo>
                    <a:close/>
                  </a:path>
                </a:pathLst>
              </a:custGeom>
              <a:solidFill>
                <a:srgbClr val="ff9f7f"/>
              </a:solidFill>
              <a:ln w="0">
                <a:noFill/>
              </a:ln>
            </p:spPr>
            <p:txBody>
              <a:bodyPr lIns="90000" rIns="90000" tIns="-360" bIns="-360" anchor="t">
                <a:noAutofit/>
              </a:bodyPr>
              <a:p>
                <a:endParaRPr b="0" lang="en-US" sz="1800" spc="-1" strike="noStrike">
                  <a:solidFill>
                    <a:srgbClr val="000000"/>
                  </a:solidFill>
                  <a:latin typeface="Arial"/>
                </a:endParaRPr>
              </a:p>
            </p:txBody>
          </p:sp>
          <p:grpSp>
            <p:nvGrpSpPr>
              <p:cNvPr id="679" name=""/>
              <p:cNvGrpSpPr/>
              <p:nvPr/>
            </p:nvGrpSpPr>
            <p:grpSpPr>
              <a:xfrm>
                <a:off x="1201680" y="1893960"/>
                <a:ext cx="295920" cy="38520"/>
                <a:chOff x="1201680" y="1893960"/>
                <a:chExt cx="295920" cy="38520"/>
              </a:xfrm>
            </p:grpSpPr>
            <p:sp>
              <p:nvSpPr>
                <p:cNvPr id="680" name=""/>
                <p:cNvSpPr/>
                <p:nvPr/>
              </p:nvSpPr>
              <p:spPr>
                <a:xfrm>
                  <a:off x="1389240" y="1893960"/>
                  <a:ext cx="108360" cy="25920"/>
                </a:xfrm>
                <a:custGeom>
                  <a:avLst/>
                  <a:gdLst/>
                  <a:ahLst/>
                  <a:rect l="0" t="0" r="r" b="b"/>
                  <a:pathLst>
                    <a:path w="301" h="72">
                      <a:moveTo>
                        <a:pt x="22" y="53"/>
                      </a:moveTo>
                      <a:lnTo>
                        <a:pt x="39" y="40"/>
                      </a:lnTo>
                      <a:lnTo>
                        <a:pt x="57" y="31"/>
                      </a:lnTo>
                      <a:lnTo>
                        <a:pt x="74" y="23"/>
                      </a:lnTo>
                      <a:lnTo>
                        <a:pt x="102" y="8"/>
                      </a:lnTo>
                      <a:lnTo>
                        <a:pt x="137" y="8"/>
                      </a:lnTo>
                      <a:lnTo>
                        <a:pt x="168" y="0"/>
                      </a:lnTo>
                      <a:lnTo>
                        <a:pt x="190" y="0"/>
                      </a:lnTo>
                      <a:lnTo>
                        <a:pt x="221" y="8"/>
                      </a:lnTo>
                      <a:lnTo>
                        <a:pt x="235" y="8"/>
                      </a:lnTo>
                      <a:lnTo>
                        <a:pt x="262" y="23"/>
                      </a:lnTo>
                      <a:lnTo>
                        <a:pt x="284" y="40"/>
                      </a:lnTo>
                      <a:lnTo>
                        <a:pt x="301" y="63"/>
                      </a:lnTo>
                      <a:lnTo>
                        <a:pt x="275" y="45"/>
                      </a:lnTo>
                      <a:lnTo>
                        <a:pt x="248" y="36"/>
                      </a:lnTo>
                      <a:lnTo>
                        <a:pt x="203" y="27"/>
                      </a:lnTo>
                      <a:lnTo>
                        <a:pt x="186" y="27"/>
                      </a:lnTo>
                      <a:lnTo>
                        <a:pt x="168" y="27"/>
                      </a:lnTo>
                      <a:lnTo>
                        <a:pt x="146" y="27"/>
                      </a:lnTo>
                      <a:lnTo>
                        <a:pt x="124" y="31"/>
                      </a:lnTo>
                      <a:lnTo>
                        <a:pt x="98" y="40"/>
                      </a:lnTo>
                      <a:lnTo>
                        <a:pt x="84" y="53"/>
                      </a:lnTo>
                      <a:lnTo>
                        <a:pt x="61" y="63"/>
                      </a:lnTo>
                      <a:lnTo>
                        <a:pt x="44" y="68"/>
                      </a:lnTo>
                      <a:lnTo>
                        <a:pt x="39" y="72"/>
                      </a:lnTo>
                      <a:lnTo>
                        <a:pt x="22" y="72"/>
                      </a:lnTo>
                      <a:lnTo>
                        <a:pt x="0" y="68"/>
                      </a:lnTo>
                      <a:lnTo>
                        <a:pt x="22" y="53"/>
                      </a:lnTo>
                      <a:close/>
                    </a:path>
                  </a:pathLst>
                </a:custGeom>
                <a:solidFill>
                  <a:srgbClr val="bf7f3f"/>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681" name=""/>
                <p:cNvSpPr/>
                <p:nvPr/>
              </p:nvSpPr>
              <p:spPr>
                <a:xfrm>
                  <a:off x="1201680" y="1898640"/>
                  <a:ext cx="106560" cy="33840"/>
                </a:xfrm>
                <a:custGeom>
                  <a:avLst/>
                  <a:gdLst/>
                  <a:ahLst/>
                  <a:rect l="0" t="0" r="r" b="b"/>
                  <a:pathLst>
                    <a:path w="296" h="94">
                      <a:moveTo>
                        <a:pt x="296" y="58"/>
                      </a:moveTo>
                      <a:lnTo>
                        <a:pt x="283" y="27"/>
                      </a:lnTo>
                      <a:lnTo>
                        <a:pt x="265" y="13"/>
                      </a:lnTo>
                      <a:lnTo>
                        <a:pt x="239" y="8"/>
                      </a:lnTo>
                      <a:lnTo>
                        <a:pt x="203" y="0"/>
                      </a:lnTo>
                      <a:lnTo>
                        <a:pt x="159" y="0"/>
                      </a:lnTo>
                      <a:lnTo>
                        <a:pt x="114" y="0"/>
                      </a:lnTo>
                      <a:lnTo>
                        <a:pt x="66" y="8"/>
                      </a:lnTo>
                      <a:lnTo>
                        <a:pt x="22" y="58"/>
                      </a:lnTo>
                      <a:lnTo>
                        <a:pt x="0" y="94"/>
                      </a:lnTo>
                      <a:lnTo>
                        <a:pt x="39" y="49"/>
                      </a:lnTo>
                      <a:lnTo>
                        <a:pt x="83" y="36"/>
                      </a:lnTo>
                      <a:lnTo>
                        <a:pt x="123" y="27"/>
                      </a:lnTo>
                      <a:lnTo>
                        <a:pt x="177" y="27"/>
                      </a:lnTo>
                      <a:lnTo>
                        <a:pt x="217" y="40"/>
                      </a:lnTo>
                      <a:lnTo>
                        <a:pt x="252" y="49"/>
                      </a:lnTo>
                      <a:lnTo>
                        <a:pt x="296" y="58"/>
                      </a:lnTo>
                      <a:close/>
                    </a:path>
                  </a:pathLst>
                </a:custGeom>
                <a:solidFill>
                  <a:srgbClr val="bf7f3f"/>
                </a:solidFill>
                <a:ln w="0">
                  <a:noFill/>
                </a:ln>
              </p:spPr>
              <p:txBody>
                <a:bodyPr lIns="90000" rIns="90000" tIns="-11160" bIns="-11160" anchor="t">
                  <a:noAutofit/>
                </a:bodyPr>
                <a:p>
                  <a:endParaRPr b="0" lang="en-US" sz="1800" spc="-1" strike="noStrike">
                    <a:solidFill>
                      <a:srgbClr val="000000"/>
                    </a:solidFill>
                    <a:latin typeface="Arial"/>
                  </a:endParaRPr>
                </a:p>
              </p:txBody>
            </p:sp>
          </p:grpSp>
          <p:grpSp>
            <p:nvGrpSpPr>
              <p:cNvPr id="682" name=""/>
              <p:cNvGrpSpPr/>
              <p:nvPr/>
            </p:nvGrpSpPr>
            <p:grpSpPr>
              <a:xfrm>
                <a:off x="1398600" y="1933560"/>
                <a:ext cx="72000" cy="36720"/>
                <a:chOff x="1398600" y="1933560"/>
                <a:chExt cx="72000" cy="36720"/>
              </a:xfrm>
            </p:grpSpPr>
            <p:sp>
              <p:nvSpPr>
                <p:cNvPr id="683" name=""/>
                <p:cNvSpPr/>
                <p:nvPr/>
              </p:nvSpPr>
              <p:spPr>
                <a:xfrm>
                  <a:off x="1398600" y="1962000"/>
                  <a:ext cx="68760" cy="8280"/>
                </a:xfrm>
                <a:custGeom>
                  <a:avLst/>
                  <a:gdLst/>
                  <a:ahLst/>
                  <a:rect l="0" t="0" r="r" b="b"/>
                  <a:pathLst>
                    <a:path w="191" h="23">
                      <a:moveTo>
                        <a:pt x="8" y="4"/>
                      </a:moveTo>
                      <a:lnTo>
                        <a:pt x="26" y="8"/>
                      </a:lnTo>
                      <a:lnTo>
                        <a:pt x="58" y="8"/>
                      </a:lnTo>
                      <a:lnTo>
                        <a:pt x="93" y="8"/>
                      </a:lnTo>
                      <a:lnTo>
                        <a:pt x="111" y="8"/>
                      </a:lnTo>
                      <a:lnTo>
                        <a:pt x="137" y="8"/>
                      </a:lnTo>
                      <a:lnTo>
                        <a:pt x="156" y="8"/>
                      </a:lnTo>
                      <a:lnTo>
                        <a:pt x="173" y="8"/>
                      </a:lnTo>
                      <a:lnTo>
                        <a:pt x="191" y="0"/>
                      </a:lnTo>
                      <a:lnTo>
                        <a:pt x="173" y="14"/>
                      </a:lnTo>
                      <a:lnTo>
                        <a:pt x="160" y="18"/>
                      </a:lnTo>
                      <a:lnTo>
                        <a:pt x="151" y="23"/>
                      </a:lnTo>
                      <a:lnTo>
                        <a:pt x="133" y="23"/>
                      </a:lnTo>
                      <a:lnTo>
                        <a:pt x="111" y="23"/>
                      </a:lnTo>
                      <a:lnTo>
                        <a:pt x="98" y="23"/>
                      </a:lnTo>
                      <a:lnTo>
                        <a:pt x="80" y="18"/>
                      </a:lnTo>
                      <a:lnTo>
                        <a:pt x="67" y="14"/>
                      </a:lnTo>
                      <a:lnTo>
                        <a:pt x="44" y="14"/>
                      </a:lnTo>
                      <a:lnTo>
                        <a:pt x="30" y="14"/>
                      </a:lnTo>
                      <a:lnTo>
                        <a:pt x="17" y="8"/>
                      </a:lnTo>
                      <a:lnTo>
                        <a:pt x="8" y="8"/>
                      </a:lnTo>
                      <a:lnTo>
                        <a:pt x="0" y="8"/>
                      </a:lnTo>
                      <a:lnTo>
                        <a:pt x="8" y="4"/>
                      </a:lnTo>
                      <a:close/>
                    </a:path>
                  </a:pathLst>
                </a:custGeom>
                <a:solidFill>
                  <a:srgbClr val="ff9f7f"/>
                </a:solidFill>
                <a:ln w="0">
                  <a:noFill/>
                </a:ln>
              </p:spPr>
              <p:txBody>
                <a:bodyPr lIns="90000" rIns="90000" tIns="-36720" bIns="-36720" anchor="t">
                  <a:noAutofit/>
                </a:bodyPr>
                <a:p>
                  <a:endParaRPr b="0" lang="en-US" sz="1800" spc="-1" strike="noStrike">
                    <a:solidFill>
                      <a:srgbClr val="000000"/>
                    </a:solidFill>
                    <a:latin typeface="Arial"/>
                  </a:endParaRPr>
                </a:p>
              </p:txBody>
            </p:sp>
            <p:grpSp>
              <p:nvGrpSpPr>
                <p:cNvPr id="684" name=""/>
                <p:cNvGrpSpPr/>
                <p:nvPr/>
              </p:nvGrpSpPr>
              <p:grpSpPr>
                <a:xfrm>
                  <a:off x="1405080" y="1933560"/>
                  <a:ext cx="65520" cy="28800"/>
                  <a:chOff x="1405080" y="1933560"/>
                  <a:chExt cx="65520" cy="28800"/>
                </a:xfrm>
              </p:grpSpPr>
              <p:sp>
                <p:nvSpPr>
                  <p:cNvPr id="685" name=""/>
                  <p:cNvSpPr/>
                  <p:nvPr/>
                </p:nvSpPr>
                <p:spPr>
                  <a:xfrm>
                    <a:off x="1405080" y="1938240"/>
                    <a:ext cx="62280" cy="18000"/>
                  </a:xfrm>
                  <a:custGeom>
                    <a:avLst/>
                    <a:gdLst/>
                    <a:ahLst/>
                    <a:rect l="0" t="0" r="r" b="b"/>
                    <a:pathLst>
                      <a:path w="173" h="50">
                        <a:moveTo>
                          <a:pt x="0" y="41"/>
                        </a:moveTo>
                        <a:lnTo>
                          <a:pt x="17" y="27"/>
                        </a:lnTo>
                        <a:lnTo>
                          <a:pt x="30" y="18"/>
                        </a:lnTo>
                        <a:lnTo>
                          <a:pt x="45" y="8"/>
                        </a:lnTo>
                        <a:lnTo>
                          <a:pt x="58" y="0"/>
                        </a:lnTo>
                        <a:lnTo>
                          <a:pt x="75" y="0"/>
                        </a:lnTo>
                        <a:lnTo>
                          <a:pt x="98" y="0"/>
                        </a:lnTo>
                        <a:lnTo>
                          <a:pt x="106" y="8"/>
                        </a:lnTo>
                        <a:lnTo>
                          <a:pt x="120" y="8"/>
                        </a:lnTo>
                        <a:lnTo>
                          <a:pt x="134" y="18"/>
                        </a:lnTo>
                        <a:lnTo>
                          <a:pt x="143" y="18"/>
                        </a:lnTo>
                        <a:lnTo>
                          <a:pt x="156" y="27"/>
                        </a:lnTo>
                        <a:lnTo>
                          <a:pt x="173" y="31"/>
                        </a:lnTo>
                        <a:lnTo>
                          <a:pt x="173" y="41"/>
                        </a:lnTo>
                        <a:lnTo>
                          <a:pt x="156" y="50"/>
                        </a:lnTo>
                        <a:lnTo>
                          <a:pt x="134" y="50"/>
                        </a:lnTo>
                        <a:lnTo>
                          <a:pt x="106" y="50"/>
                        </a:lnTo>
                        <a:lnTo>
                          <a:pt x="71" y="50"/>
                        </a:lnTo>
                        <a:lnTo>
                          <a:pt x="39" y="50"/>
                        </a:lnTo>
                        <a:lnTo>
                          <a:pt x="22" y="50"/>
                        </a:lnTo>
                        <a:lnTo>
                          <a:pt x="0" y="41"/>
                        </a:lnTo>
                        <a:close/>
                      </a:path>
                    </a:pathLst>
                  </a:custGeom>
                  <a:solidFill>
                    <a:srgbClr val="ffffff"/>
                  </a:solidFill>
                  <a:ln w="0">
                    <a:noFill/>
                  </a:ln>
                </p:spPr>
                <p:txBody>
                  <a:bodyPr lIns="90000" rIns="90000" tIns="-27000" bIns="-27000" anchor="t">
                    <a:noAutofit/>
                  </a:bodyPr>
                  <a:p>
                    <a:endParaRPr b="0" lang="en-US" sz="1800" spc="-1" strike="noStrike">
                      <a:solidFill>
                        <a:srgbClr val="000000"/>
                      </a:solidFill>
                      <a:latin typeface="Arial"/>
                    </a:endParaRPr>
                  </a:p>
                </p:txBody>
              </p:sp>
              <p:grpSp>
                <p:nvGrpSpPr>
                  <p:cNvPr id="686" name=""/>
                  <p:cNvGrpSpPr/>
                  <p:nvPr/>
                </p:nvGrpSpPr>
                <p:grpSpPr>
                  <a:xfrm>
                    <a:off x="1422360" y="1936800"/>
                    <a:ext cx="30240" cy="25560"/>
                    <a:chOff x="1422360" y="1936800"/>
                    <a:chExt cx="30240" cy="25560"/>
                  </a:xfrm>
                </p:grpSpPr>
                <p:sp>
                  <p:nvSpPr>
                    <p:cNvPr id="687" name=""/>
                    <p:cNvSpPr/>
                    <p:nvPr/>
                  </p:nvSpPr>
                  <p:spPr>
                    <a:xfrm>
                      <a:off x="1422360" y="1936800"/>
                      <a:ext cx="30240" cy="25560"/>
                    </a:xfrm>
                    <a:prstGeom prst="ellipse">
                      <a:avLst/>
                    </a:prstGeom>
                    <a:solidFill>
                      <a:srgbClr val="005f7f"/>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688" name=""/>
                    <p:cNvSpPr/>
                    <p:nvPr/>
                  </p:nvSpPr>
                  <p:spPr>
                    <a:xfrm>
                      <a:off x="1424160" y="1938240"/>
                      <a:ext cx="25560" cy="23760"/>
                    </a:xfrm>
                    <a:prstGeom prst="ellipse">
                      <a:avLst/>
                    </a:prstGeom>
                    <a:solidFill>
                      <a:srgbClr val="00a4bb"/>
                    </a:solidFill>
                    <a:ln w="0">
                      <a:noFill/>
                    </a:ln>
                  </p:spPr>
                  <p:txBody>
                    <a:bodyPr lIns="90000" rIns="90000" tIns="-21240" bIns="-21240" anchor="t">
                      <a:noAutofit/>
                    </a:bodyPr>
                    <a:p>
                      <a:endParaRPr b="0" lang="en-US" sz="1800" spc="-1" strike="noStrike">
                        <a:solidFill>
                          <a:srgbClr val="000000"/>
                        </a:solidFill>
                        <a:latin typeface="Arial"/>
                      </a:endParaRPr>
                    </a:p>
                  </p:txBody>
                </p:sp>
                <p:sp>
                  <p:nvSpPr>
                    <p:cNvPr id="689" name=""/>
                    <p:cNvSpPr/>
                    <p:nvPr/>
                  </p:nvSpPr>
                  <p:spPr>
                    <a:xfrm>
                      <a:off x="1432080" y="1940040"/>
                      <a:ext cx="12600" cy="15840"/>
                    </a:xfrm>
                    <a:prstGeom prst="ellipse">
                      <a:avLst/>
                    </a:prstGeom>
                    <a:solidFill>
                      <a:srgbClr val="000000"/>
                    </a:solidFill>
                    <a:ln w="0">
                      <a:noFill/>
                    </a:ln>
                  </p:spPr>
                  <p:txBody>
                    <a:bodyPr lIns="90000" rIns="90000" tIns="-29160" bIns="-29160" anchor="t">
                      <a:noAutofit/>
                    </a:bodyPr>
                    <a:p>
                      <a:endParaRPr b="0" lang="en-US" sz="1800" spc="-1" strike="noStrike">
                        <a:solidFill>
                          <a:srgbClr val="ffffff"/>
                        </a:solidFill>
                        <a:latin typeface="Arial"/>
                      </a:endParaRPr>
                    </a:p>
                  </p:txBody>
                </p:sp>
                <p:sp>
                  <p:nvSpPr>
                    <p:cNvPr id="690" name=""/>
                    <p:cNvSpPr/>
                    <p:nvPr/>
                  </p:nvSpPr>
                  <p:spPr>
                    <a:xfrm>
                      <a:off x="1425600" y="1941480"/>
                      <a:ext cx="4680" cy="3240"/>
                    </a:xfrm>
                    <a:prstGeom prst="ellipse">
                      <a:avLst/>
                    </a:prstGeom>
                    <a:solidFill>
                      <a:srgbClr val="ffffff"/>
                    </a:solidFill>
                    <a:ln w="0">
                      <a:noFill/>
                    </a:ln>
                  </p:spPr>
                  <p:txBody>
                    <a:bodyPr lIns="90000" rIns="90000" tIns="-41760" bIns="-41760" anchor="t">
                      <a:noAutofit/>
                    </a:bodyPr>
                    <a:p>
                      <a:endParaRPr b="0" lang="en-US" sz="1800" spc="-1" strike="noStrike">
                        <a:solidFill>
                          <a:srgbClr val="000000"/>
                        </a:solidFill>
                        <a:latin typeface="Arial"/>
                      </a:endParaRPr>
                    </a:p>
                  </p:txBody>
                </p:sp>
              </p:grpSp>
              <p:sp>
                <p:nvSpPr>
                  <p:cNvPr id="691" name=""/>
                  <p:cNvSpPr/>
                  <p:nvPr/>
                </p:nvSpPr>
                <p:spPr>
                  <a:xfrm>
                    <a:off x="1428840" y="1962000"/>
                    <a:ext cx="41040" cy="0"/>
                  </a:xfrm>
                  <a:custGeom>
                    <a:avLst/>
                    <a:gdLst/>
                    <a:ahLst/>
                    <a:rect l="0" t="0" r="r" b="b"/>
                    <a:pathLst>
                      <a:path w="114" h="0">
                        <a:moveTo>
                          <a:pt x="0" y="0"/>
                        </a:moveTo>
                        <a:lnTo>
                          <a:pt x="17" y="0"/>
                        </a:lnTo>
                        <a:lnTo>
                          <a:pt x="35" y="0"/>
                        </a:lnTo>
                        <a:lnTo>
                          <a:pt x="57" y="0"/>
                        </a:lnTo>
                        <a:lnTo>
                          <a:pt x="74" y="0"/>
                        </a:lnTo>
                        <a:lnTo>
                          <a:pt x="88" y="0"/>
                        </a:lnTo>
                        <a:lnTo>
                          <a:pt x="105" y="0"/>
                        </a:lnTo>
                        <a:lnTo>
                          <a:pt x="110" y="0"/>
                        </a:lnTo>
                        <a:lnTo>
                          <a:pt x="114" y="0"/>
                        </a:lnTo>
                        <a:lnTo>
                          <a:pt x="110" y="0"/>
                        </a:lnTo>
                        <a:lnTo>
                          <a:pt x="114" y="0"/>
                        </a:lnTo>
                        <a:lnTo>
                          <a:pt x="101" y="0"/>
                        </a:lnTo>
                        <a:lnTo>
                          <a:pt x="110" y="0"/>
                        </a:lnTo>
                        <a:lnTo>
                          <a:pt x="88" y="0"/>
                        </a:lnTo>
                        <a:lnTo>
                          <a:pt x="97" y="0"/>
                        </a:lnTo>
                        <a:lnTo>
                          <a:pt x="83" y="0"/>
                        </a:lnTo>
                        <a:lnTo>
                          <a:pt x="88" y="0"/>
                        </a:lnTo>
                        <a:lnTo>
                          <a:pt x="74" y="0"/>
                        </a:lnTo>
                        <a:lnTo>
                          <a:pt x="61" y="0"/>
                        </a:lnTo>
                        <a:lnTo>
                          <a:pt x="39" y="0"/>
                        </a:lnTo>
                        <a:lnTo>
                          <a:pt x="17"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92" name=""/>
                  <p:cNvSpPr/>
                  <p:nvPr/>
                </p:nvSpPr>
                <p:spPr>
                  <a:xfrm>
                    <a:off x="1411200" y="1938240"/>
                    <a:ext cx="55800" cy="14760"/>
                  </a:xfrm>
                  <a:custGeom>
                    <a:avLst/>
                    <a:gdLst/>
                    <a:ahLst/>
                    <a:rect l="0" t="0" r="r" b="b"/>
                    <a:pathLst>
                      <a:path w="155" h="41">
                        <a:moveTo>
                          <a:pt x="0" y="27"/>
                        </a:moveTo>
                        <a:lnTo>
                          <a:pt x="17" y="18"/>
                        </a:lnTo>
                        <a:lnTo>
                          <a:pt x="26" y="14"/>
                        </a:lnTo>
                        <a:lnTo>
                          <a:pt x="39" y="8"/>
                        </a:lnTo>
                        <a:lnTo>
                          <a:pt x="57" y="8"/>
                        </a:lnTo>
                        <a:lnTo>
                          <a:pt x="70" y="8"/>
                        </a:lnTo>
                        <a:lnTo>
                          <a:pt x="80" y="8"/>
                        </a:lnTo>
                        <a:lnTo>
                          <a:pt x="98" y="14"/>
                        </a:lnTo>
                        <a:lnTo>
                          <a:pt x="115" y="23"/>
                        </a:lnTo>
                        <a:lnTo>
                          <a:pt x="124" y="27"/>
                        </a:lnTo>
                        <a:lnTo>
                          <a:pt x="137" y="32"/>
                        </a:lnTo>
                        <a:lnTo>
                          <a:pt x="155" y="41"/>
                        </a:lnTo>
                        <a:lnTo>
                          <a:pt x="146" y="32"/>
                        </a:lnTo>
                        <a:lnTo>
                          <a:pt x="133" y="27"/>
                        </a:lnTo>
                        <a:lnTo>
                          <a:pt x="115" y="14"/>
                        </a:lnTo>
                        <a:lnTo>
                          <a:pt x="98" y="8"/>
                        </a:lnTo>
                        <a:lnTo>
                          <a:pt x="80" y="8"/>
                        </a:lnTo>
                        <a:lnTo>
                          <a:pt x="66" y="0"/>
                        </a:lnTo>
                        <a:lnTo>
                          <a:pt x="48" y="0"/>
                        </a:lnTo>
                        <a:lnTo>
                          <a:pt x="39" y="8"/>
                        </a:lnTo>
                        <a:lnTo>
                          <a:pt x="26" y="8"/>
                        </a:lnTo>
                        <a:lnTo>
                          <a:pt x="17" y="14"/>
                        </a:lnTo>
                        <a:lnTo>
                          <a:pt x="0" y="27"/>
                        </a:lnTo>
                        <a:close/>
                      </a:path>
                    </a:pathLst>
                  </a:custGeom>
                  <a:solidFill>
                    <a:srgbClr val="9f9f9f"/>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693" name=""/>
                  <p:cNvSpPr/>
                  <p:nvPr/>
                </p:nvSpPr>
                <p:spPr>
                  <a:xfrm>
                    <a:off x="1413000" y="1938240"/>
                    <a:ext cx="57600" cy="9720"/>
                  </a:xfrm>
                  <a:custGeom>
                    <a:avLst/>
                    <a:gdLst/>
                    <a:ahLst/>
                    <a:rect l="0" t="0" r="r" b="b"/>
                    <a:pathLst>
                      <a:path w="160" h="27">
                        <a:moveTo>
                          <a:pt x="0" y="18"/>
                        </a:moveTo>
                        <a:lnTo>
                          <a:pt x="13" y="14"/>
                        </a:lnTo>
                        <a:lnTo>
                          <a:pt x="26" y="8"/>
                        </a:lnTo>
                        <a:lnTo>
                          <a:pt x="35" y="4"/>
                        </a:lnTo>
                        <a:lnTo>
                          <a:pt x="58" y="4"/>
                        </a:lnTo>
                        <a:lnTo>
                          <a:pt x="80" y="4"/>
                        </a:lnTo>
                        <a:lnTo>
                          <a:pt x="89" y="4"/>
                        </a:lnTo>
                        <a:lnTo>
                          <a:pt x="102" y="14"/>
                        </a:lnTo>
                        <a:lnTo>
                          <a:pt x="121" y="14"/>
                        </a:lnTo>
                        <a:lnTo>
                          <a:pt x="134" y="18"/>
                        </a:lnTo>
                        <a:lnTo>
                          <a:pt x="147" y="23"/>
                        </a:lnTo>
                        <a:lnTo>
                          <a:pt x="160" y="27"/>
                        </a:lnTo>
                        <a:lnTo>
                          <a:pt x="156" y="23"/>
                        </a:lnTo>
                        <a:lnTo>
                          <a:pt x="138" y="14"/>
                        </a:lnTo>
                        <a:lnTo>
                          <a:pt x="121" y="14"/>
                        </a:lnTo>
                        <a:lnTo>
                          <a:pt x="102" y="4"/>
                        </a:lnTo>
                        <a:lnTo>
                          <a:pt x="89" y="0"/>
                        </a:lnTo>
                        <a:lnTo>
                          <a:pt x="71" y="0"/>
                        </a:lnTo>
                        <a:lnTo>
                          <a:pt x="58" y="0"/>
                        </a:lnTo>
                        <a:lnTo>
                          <a:pt x="35" y="0"/>
                        </a:lnTo>
                        <a:lnTo>
                          <a:pt x="30" y="4"/>
                        </a:lnTo>
                        <a:lnTo>
                          <a:pt x="22" y="8"/>
                        </a:lnTo>
                        <a:lnTo>
                          <a:pt x="0" y="18"/>
                        </a:lnTo>
                        <a:close/>
                      </a:path>
                    </a:pathLst>
                  </a:custGeom>
                  <a:solidFill>
                    <a:srgbClr val="000000"/>
                  </a:solidFill>
                  <a:ln w="0">
                    <a:noFill/>
                  </a:ln>
                </p:spPr>
                <p:txBody>
                  <a:bodyPr lIns="90000" rIns="90000" tIns="-35280" bIns="-35280" anchor="t">
                    <a:noAutofit/>
                  </a:bodyPr>
                  <a:p>
                    <a:endParaRPr b="0" lang="en-US" sz="1800" spc="-1" strike="noStrike">
                      <a:solidFill>
                        <a:srgbClr val="ffffff"/>
                      </a:solidFill>
                      <a:latin typeface="Arial"/>
                    </a:endParaRPr>
                  </a:p>
                </p:txBody>
              </p:sp>
              <p:sp>
                <p:nvSpPr>
                  <p:cNvPr id="694" name=""/>
                  <p:cNvSpPr/>
                  <p:nvPr/>
                </p:nvSpPr>
                <p:spPr>
                  <a:xfrm>
                    <a:off x="1406520" y="1933560"/>
                    <a:ext cx="59040" cy="8280"/>
                  </a:xfrm>
                  <a:custGeom>
                    <a:avLst/>
                    <a:gdLst/>
                    <a:ahLst/>
                    <a:rect l="0" t="0" r="r" b="b"/>
                    <a:pathLst>
                      <a:path w="164" h="23">
                        <a:moveTo>
                          <a:pt x="0" y="23"/>
                        </a:moveTo>
                        <a:lnTo>
                          <a:pt x="26" y="14"/>
                        </a:lnTo>
                        <a:lnTo>
                          <a:pt x="39" y="4"/>
                        </a:lnTo>
                        <a:lnTo>
                          <a:pt x="52" y="4"/>
                        </a:lnTo>
                        <a:lnTo>
                          <a:pt x="70" y="0"/>
                        </a:lnTo>
                        <a:lnTo>
                          <a:pt x="93" y="4"/>
                        </a:lnTo>
                        <a:lnTo>
                          <a:pt x="115" y="4"/>
                        </a:lnTo>
                        <a:lnTo>
                          <a:pt x="128" y="8"/>
                        </a:lnTo>
                        <a:lnTo>
                          <a:pt x="142" y="14"/>
                        </a:lnTo>
                        <a:lnTo>
                          <a:pt x="164" y="23"/>
                        </a:lnTo>
                        <a:lnTo>
                          <a:pt x="142" y="14"/>
                        </a:lnTo>
                        <a:lnTo>
                          <a:pt x="133" y="8"/>
                        </a:lnTo>
                        <a:lnTo>
                          <a:pt x="115" y="4"/>
                        </a:lnTo>
                        <a:lnTo>
                          <a:pt x="102" y="0"/>
                        </a:lnTo>
                        <a:lnTo>
                          <a:pt x="84" y="0"/>
                        </a:lnTo>
                        <a:lnTo>
                          <a:pt x="70" y="0"/>
                        </a:lnTo>
                        <a:lnTo>
                          <a:pt x="52" y="4"/>
                        </a:lnTo>
                        <a:lnTo>
                          <a:pt x="44" y="4"/>
                        </a:lnTo>
                        <a:lnTo>
                          <a:pt x="35" y="8"/>
                        </a:lnTo>
                        <a:lnTo>
                          <a:pt x="22" y="14"/>
                        </a:lnTo>
                        <a:lnTo>
                          <a:pt x="0" y="23"/>
                        </a:lnTo>
                        <a:close/>
                      </a:path>
                    </a:pathLst>
                  </a:custGeom>
                  <a:solidFill>
                    <a:srgbClr val="bf7f3f"/>
                  </a:solidFill>
                  <a:ln w="0">
                    <a:noFill/>
                  </a:ln>
                </p:spPr>
                <p:txBody>
                  <a:bodyPr lIns="90000" rIns="90000" tIns="-36720" bIns="-36720" anchor="t">
                    <a:noAutofit/>
                  </a:bodyPr>
                  <a:p>
                    <a:endParaRPr b="0" lang="en-US" sz="1800" spc="-1" strike="noStrike">
                      <a:solidFill>
                        <a:srgbClr val="000000"/>
                      </a:solidFill>
                      <a:latin typeface="Arial"/>
                    </a:endParaRPr>
                  </a:p>
                </p:txBody>
              </p:sp>
            </p:grpSp>
          </p:grpSp>
          <p:grpSp>
            <p:nvGrpSpPr>
              <p:cNvPr id="695" name=""/>
              <p:cNvGrpSpPr/>
              <p:nvPr/>
            </p:nvGrpSpPr>
            <p:grpSpPr>
              <a:xfrm>
                <a:off x="1228680" y="1932120"/>
                <a:ext cx="70200" cy="38160"/>
                <a:chOff x="1228680" y="1932120"/>
                <a:chExt cx="70200" cy="38160"/>
              </a:xfrm>
            </p:grpSpPr>
            <p:sp>
              <p:nvSpPr>
                <p:cNvPr id="696" name=""/>
                <p:cNvSpPr/>
                <p:nvPr/>
              </p:nvSpPr>
              <p:spPr>
                <a:xfrm>
                  <a:off x="1231920" y="1960560"/>
                  <a:ext cx="66960" cy="9720"/>
                </a:xfrm>
                <a:custGeom>
                  <a:avLst/>
                  <a:gdLst/>
                  <a:ahLst/>
                  <a:rect l="0" t="0" r="r" b="b"/>
                  <a:pathLst>
                    <a:path w="186" h="27">
                      <a:moveTo>
                        <a:pt x="186" y="0"/>
                      </a:moveTo>
                      <a:lnTo>
                        <a:pt x="168" y="4"/>
                      </a:lnTo>
                      <a:lnTo>
                        <a:pt x="128" y="8"/>
                      </a:lnTo>
                      <a:lnTo>
                        <a:pt x="92" y="8"/>
                      </a:lnTo>
                      <a:lnTo>
                        <a:pt x="83" y="8"/>
                      </a:lnTo>
                      <a:lnTo>
                        <a:pt x="52" y="8"/>
                      </a:lnTo>
                      <a:lnTo>
                        <a:pt x="35" y="8"/>
                      </a:lnTo>
                      <a:lnTo>
                        <a:pt x="17" y="4"/>
                      </a:lnTo>
                      <a:lnTo>
                        <a:pt x="0" y="0"/>
                      </a:lnTo>
                      <a:lnTo>
                        <a:pt x="17" y="18"/>
                      </a:lnTo>
                      <a:lnTo>
                        <a:pt x="30" y="23"/>
                      </a:lnTo>
                      <a:lnTo>
                        <a:pt x="44" y="27"/>
                      </a:lnTo>
                      <a:lnTo>
                        <a:pt x="57" y="27"/>
                      </a:lnTo>
                      <a:lnTo>
                        <a:pt x="79" y="27"/>
                      </a:lnTo>
                      <a:lnTo>
                        <a:pt x="88" y="23"/>
                      </a:lnTo>
                      <a:lnTo>
                        <a:pt x="106" y="18"/>
                      </a:lnTo>
                      <a:lnTo>
                        <a:pt x="128" y="14"/>
                      </a:lnTo>
                      <a:lnTo>
                        <a:pt x="137" y="14"/>
                      </a:lnTo>
                      <a:lnTo>
                        <a:pt x="155" y="8"/>
                      </a:lnTo>
                      <a:lnTo>
                        <a:pt x="186" y="0"/>
                      </a:lnTo>
                      <a:close/>
                    </a:path>
                  </a:pathLst>
                </a:custGeom>
                <a:solidFill>
                  <a:srgbClr val="ff9f7f"/>
                </a:solidFill>
                <a:ln w="0">
                  <a:noFill/>
                </a:ln>
              </p:spPr>
              <p:txBody>
                <a:bodyPr lIns="90000" rIns="90000" tIns="-35280" bIns="-35280" anchor="t">
                  <a:noAutofit/>
                </a:bodyPr>
                <a:p>
                  <a:endParaRPr b="0" lang="en-US" sz="1800" spc="-1" strike="noStrike">
                    <a:solidFill>
                      <a:srgbClr val="000000"/>
                    </a:solidFill>
                    <a:latin typeface="Arial"/>
                  </a:endParaRPr>
                </a:p>
              </p:txBody>
            </p:sp>
            <p:grpSp>
              <p:nvGrpSpPr>
                <p:cNvPr id="697" name=""/>
                <p:cNvGrpSpPr/>
                <p:nvPr/>
              </p:nvGrpSpPr>
              <p:grpSpPr>
                <a:xfrm>
                  <a:off x="1228680" y="1932120"/>
                  <a:ext cx="66960" cy="30240"/>
                  <a:chOff x="1228680" y="1932120"/>
                  <a:chExt cx="66960" cy="30240"/>
                </a:xfrm>
              </p:grpSpPr>
              <p:sp>
                <p:nvSpPr>
                  <p:cNvPr id="698" name=""/>
                  <p:cNvSpPr/>
                  <p:nvPr/>
                </p:nvSpPr>
                <p:spPr>
                  <a:xfrm>
                    <a:off x="1231920" y="1938240"/>
                    <a:ext cx="63720" cy="18000"/>
                  </a:xfrm>
                  <a:custGeom>
                    <a:avLst/>
                    <a:gdLst/>
                    <a:ahLst/>
                    <a:rect l="0" t="0" r="r" b="b"/>
                    <a:pathLst>
                      <a:path w="177" h="50">
                        <a:moveTo>
                          <a:pt x="177" y="31"/>
                        </a:moveTo>
                        <a:lnTo>
                          <a:pt x="164" y="23"/>
                        </a:lnTo>
                        <a:lnTo>
                          <a:pt x="142" y="14"/>
                        </a:lnTo>
                        <a:lnTo>
                          <a:pt x="133" y="8"/>
                        </a:lnTo>
                        <a:lnTo>
                          <a:pt x="120" y="0"/>
                        </a:lnTo>
                        <a:lnTo>
                          <a:pt x="93" y="0"/>
                        </a:lnTo>
                        <a:lnTo>
                          <a:pt x="83" y="0"/>
                        </a:lnTo>
                        <a:lnTo>
                          <a:pt x="57" y="0"/>
                        </a:lnTo>
                        <a:lnTo>
                          <a:pt x="48" y="8"/>
                        </a:lnTo>
                        <a:lnTo>
                          <a:pt x="35" y="14"/>
                        </a:lnTo>
                        <a:lnTo>
                          <a:pt x="30" y="18"/>
                        </a:lnTo>
                        <a:lnTo>
                          <a:pt x="17" y="23"/>
                        </a:lnTo>
                        <a:lnTo>
                          <a:pt x="0" y="31"/>
                        </a:lnTo>
                        <a:lnTo>
                          <a:pt x="0" y="41"/>
                        </a:lnTo>
                        <a:lnTo>
                          <a:pt x="17" y="50"/>
                        </a:lnTo>
                        <a:lnTo>
                          <a:pt x="35" y="50"/>
                        </a:lnTo>
                        <a:lnTo>
                          <a:pt x="70" y="50"/>
                        </a:lnTo>
                        <a:lnTo>
                          <a:pt x="102" y="50"/>
                        </a:lnTo>
                        <a:lnTo>
                          <a:pt x="137" y="50"/>
                        </a:lnTo>
                        <a:lnTo>
                          <a:pt x="150" y="50"/>
                        </a:lnTo>
                        <a:lnTo>
                          <a:pt x="177" y="31"/>
                        </a:lnTo>
                        <a:close/>
                      </a:path>
                    </a:pathLst>
                  </a:custGeom>
                  <a:solidFill>
                    <a:srgbClr val="ffffff"/>
                  </a:solidFill>
                  <a:ln w="0">
                    <a:noFill/>
                  </a:ln>
                </p:spPr>
                <p:txBody>
                  <a:bodyPr lIns="90000" rIns="90000" tIns="-27000" bIns="-27000" anchor="t">
                    <a:noAutofit/>
                  </a:bodyPr>
                  <a:p>
                    <a:endParaRPr b="0" lang="en-US" sz="1800" spc="-1" strike="noStrike">
                      <a:solidFill>
                        <a:srgbClr val="000000"/>
                      </a:solidFill>
                      <a:latin typeface="Arial"/>
                    </a:endParaRPr>
                  </a:p>
                </p:txBody>
              </p:sp>
              <p:grpSp>
                <p:nvGrpSpPr>
                  <p:cNvPr id="699" name=""/>
                  <p:cNvGrpSpPr/>
                  <p:nvPr/>
                </p:nvGrpSpPr>
                <p:grpSpPr>
                  <a:xfrm>
                    <a:off x="1246320" y="1936800"/>
                    <a:ext cx="33480" cy="23760"/>
                    <a:chOff x="1246320" y="1936800"/>
                    <a:chExt cx="33480" cy="23760"/>
                  </a:xfrm>
                </p:grpSpPr>
                <p:sp>
                  <p:nvSpPr>
                    <p:cNvPr id="700" name=""/>
                    <p:cNvSpPr/>
                    <p:nvPr/>
                  </p:nvSpPr>
                  <p:spPr>
                    <a:xfrm>
                      <a:off x="1246320" y="1936800"/>
                      <a:ext cx="33480" cy="23760"/>
                    </a:xfrm>
                    <a:prstGeom prst="ellipse">
                      <a:avLst/>
                    </a:prstGeom>
                    <a:solidFill>
                      <a:srgbClr val="005f7f"/>
                    </a:solidFill>
                    <a:ln w="0">
                      <a:noFill/>
                    </a:ln>
                  </p:spPr>
                  <p:txBody>
                    <a:bodyPr lIns="90000" rIns="90000" tIns="-21240" bIns="-21240" anchor="t">
                      <a:noAutofit/>
                    </a:bodyPr>
                    <a:p>
                      <a:endParaRPr b="0" lang="en-US" sz="1800" spc="-1" strike="noStrike">
                        <a:solidFill>
                          <a:srgbClr val="000000"/>
                        </a:solidFill>
                        <a:latin typeface="Arial"/>
                      </a:endParaRPr>
                    </a:p>
                  </p:txBody>
                </p:sp>
                <p:sp>
                  <p:nvSpPr>
                    <p:cNvPr id="701" name=""/>
                    <p:cNvSpPr/>
                    <p:nvPr/>
                  </p:nvSpPr>
                  <p:spPr>
                    <a:xfrm>
                      <a:off x="1249200" y="1938240"/>
                      <a:ext cx="23760" cy="22320"/>
                    </a:xfrm>
                    <a:prstGeom prst="ellipse">
                      <a:avLst/>
                    </a:prstGeom>
                    <a:solidFill>
                      <a:srgbClr val="00a4bb"/>
                    </a:solidFill>
                    <a:ln w="0">
                      <a:noFill/>
                    </a:ln>
                  </p:spPr>
                  <p:txBody>
                    <a:bodyPr lIns="90000" rIns="90000" tIns="-22680" bIns="-22680" anchor="t">
                      <a:noAutofit/>
                    </a:bodyPr>
                    <a:p>
                      <a:endParaRPr b="0" lang="en-US" sz="1800" spc="-1" strike="noStrike">
                        <a:solidFill>
                          <a:srgbClr val="000000"/>
                        </a:solidFill>
                        <a:latin typeface="Arial"/>
                      </a:endParaRPr>
                    </a:p>
                  </p:txBody>
                </p:sp>
                <p:sp>
                  <p:nvSpPr>
                    <p:cNvPr id="702" name=""/>
                    <p:cNvSpPr/>
                    <p:nvPr/>
                  </p:nvSpPr>
                  <p:spPr>
                    <a:xfrm>
                      <a:off x="1255680" y="1938240"/>
                      <a:ext cx="12600" cy="17640"/>
                    </a:xfrm>
                    <a:prstGeom prst="ellipse">
                      <a:avLst/>
                    </a:prstGeom>
                    <a:solidFill>
                      <a:srgbClr val="000000"/>
                    </a:solidFill>
                    <a:ln w="0">
                      <a:noFill/>
                    </a:ln>
                  </p:spPr>
                  <p:txBody>
                    <a:bodyPr lIns="90000" rIns="90000" tIns="-27360" bIns="-27360" anchor="t">
                      <a:noAutofit/>
                    </a:bodyPr>
                    <a:p>
                      <a:endParaRPr b="0" lang="en-US" sz="1800" spc="-1" strike="noStrike">
                        <a:solidFill>
                          <a:srgbClr val="ffffff"/>
                        </a:solidFill>
                        <a:latin typeface="Arial"/>
                      </a:endParaRPr>
                    </a:p>
                  </p:txBody>
                </p:sp>
                <p:sp>
                  <p:nvSpPr>
                    <p:cNvPr id="703" name=""/>
                    <p:cNvSpPr/>
                    <p:nvPr/>
                  </p:nvSpPr>
                  <p:spPr>
                    <a:xfrm>
                      <a:off x="1252440" y="1940040"/>
                      <a:ext cx="1440" cy="4680"/>
                    </a:xfrm>
                    <a:prstGeom prst="ellipse">
                      <a:avLst/>
                    </a:prstGeom>
                    <a:solidFill>
                      <a:srgbClr val="ffffff"/>
                    </a:solidFill>
                    <a:ln w="0">
                      <a:noFill/>
                    </a:ln>
                  </p:spPr>
                  <p:txBody>
                    <a:bodyPr lIns="90000" rIns="90000" tIns="-40320" bIns="-40320" anchor="t">
                      <a:noAutofit/>
                    </a:bodyPr>
                    <a:p>
                      <a:endParaRPr b="0" lang="en-US" sz="1800" spc="-1" strike="noStrike">
                        <a:solidFill>
                          <a:srgbClr val="000000"/>
                        </a:solidFill>
                        <a:latin typeface="Arial"/>
                      </a:endParaRPr>
                    </a:p>
                  </p:txBody>
                </p:sp>
              </p:grpSp>
              <p:sp>
                <p:nvSpPr>
                  <p:cNvPr id="704" name=""/>
                  <p:cNvSpPr/>
                  <p:nvPr/>
                </p:nvSpPr>
                <p:spPr>
                  <a:xfrm>
                    <a:off x="1228680" y="1960560"/>
                    <a:ext cx="44640" cy="1800"/>
                  </a:xfrm>
                  <a:custGeom>
                    <a:avLst/>
                    <a:gdLst/>
                    <a:ahLst/>
                    <a:rect l="0" t="0" r="r" b="b"/>
                    <a:pathLst>
                      <a:path w="124" h="5">
                        <a:moveTo>
                          <a:pt x="124" y="0"/>
                        </a:moveTo>
                        <a:lnTo>
                          <a:pt x="106" y="0"/>
                        </a:lnTo>
                        <a:lnTo>
                          <a:pt x="84" y="0"/>
                        </a:lnTo>
                        <a:lnTo>
                          <a:pt x="61" y="0"/>
                        </a:lnTo>
                        <a:lnTo>
                          <a:pt x="39" y="0"/>
                        </a:lnTo>
                        <a:lnTo>
                          <a:pt x="26" y="0"/>
                        </a:lnTo>
                        <a:lnTo>
                          <a:pt x="13" y="5"/>
                        </a:lnTo>
                        <a:lnTo>
                          <a:pt x="8" y="5"/>
                        </a:lnTo>
                        <a:lnTo>
                          <a:pt x="0" y="5"/>
                        </a:lnTo>
                        <a:lnTo>
                          <a:pt x="8" y="5"/>
                        </a:lnTo>
                        <a:lnTo>
                          <a:pt x="4" y="0"/>
                        </a:lnTo>
                        <a:lnTo>
                          <a:pt x="13" y="0"/>
                        </a:lnTo>
                        <a:lnTo>
                          <a:pt x="8" y="0"/>
                        </a:lnTo>
                        <a:lnTo>
                          <a:pt x="22" y="0"/>
                        </a:lnTo>
                        <a:lnTo>
                          <a:pt x="35" y="0"/>
                        </a:lnTo>
                        <a:lnTo>
                          <a:pt x="26" y="0"/>
                        </a:lnTo>
                        <a:lnTo>
                          <a:pt x="39" y="0"/>
                        </a:lnTo>
                        <a:lnTo>
                          <a:pt x="48" y="0"/>
                        </a:lnTo>
                        <a:lnTo>
                          <a:pt x="57" y="0"/>
                        </a:lnTo>
                        <a:lnTo>
                          <a:pt x="84" y="0"/>
                        </a:lnTo>
                        <a:lnTo>
                          <a:pt x="102" y="0"/>
                        </a:lnTo>
                        <a:lnTo>
                          <a:pt x="124" y="0"/>
                        </a:lnTo>
                        <a:close/>
                      </a:path>
                    </a:pathLst>
                  </a:custGeom>
                  <a:solidFill>
                    <a:srgbClr val="00000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705" name=""/>
                  <p:cNvSpPr/>
                  <p:nvPr/>
                </p:nvSpPr>
                <p:spPr>
                  <a:xfrm>
                    <a:off x="1231920" y="1938240"/>
                    <a:ext cx="57600" cy="9720"/>
                  </a:xfrm>
                  <a:custGeom>
                    <a:avLst/>
                    <a:gdLst/>
                    <a:ahLst/>
                    <a:rect l="0" t="0" r="r" b="b"/>
                    <a:pathLst>
                      <a:path w="160" h="27">
                        <a:moveTo>
                          <a:pt x="160" y="14"/>
                        </a:moveTo>
                        <a:lnTo>
                          <a:pt x="147" y="14"/>
                        </a:lnTo>
                        <a:lnTo>
                          <a:pt x="129" y="8"/>
                        </a:lnTo>
                        <a:lnTo>
                          <a:pt x="115" y="4"/>
                        </a:lnTo>
                        <a:lnTo>
                          <a:pt x="102" y="4"/>
                        </a:lnTo>
                        <a:lnTo>
                          <a:pt x="84" y="4"/>
                        </a:lnTo>
                        <a:lnTo>
                          <a:pt x="71" y="4"/>
                        </a:lnTo>
                        <a:lnTo>
                          <a:pt x="58" y="8"/>
                        </a:lnTo>
                        <a:lnTo>
                          <a:pt x="39" y="14"/>
                        </a:lnTo>
                        <a:lnTo>
                          <a:pt x="35" y="18"/>
                        </a:lnTo>
                        <a:lnTo>
                          <a:pt x="17" y="23"/>
                        </a:lnTo>
                        <a:lnTo>
                          <a:pt x="0" y="27"/>
                        </a:lnTo>
                        <a:lnTo>
                          <a:pt x="13" y="23"/>
                        </a:lnTo>
                        <a:lnTo>
                          <a:pt x="22" y="14"/>
                        </a:lnTo>
                        <a:lnTo>
                          <a:pt x="35" y="14"/>
                        </a:lnTo>
                        <a:lnTo>
                          <a:pt x="58" y="4"/>
                        </a:lnTo>
                        <a:lnTo>
                          <a:pt x="71" y="0"/>
                        </a:lnTo>
                        <a:lnTo>
                          <a:pt x="84" y="0"/>
                        </a:lnTo>
                        <a:lnTo>
                          <a:pt x="102" y="0"/>
                        </a:lnTo>
                        <a:lnTo>
                          <a:pt x="115" y="0"/>
                        </a:lnTo>
                        <a:lnTo>
                          <a:pt x="125" y="4"/>
                        </a:lnTo>
                        <a:lnTo>
                          <a:pt x="138" y="8"/>
                        </a:lnTo>
                        <a:lnTo>
                          <a:pt x="160" y="14"/>
                        </a:lnTo>
                        <a:close/>
                      </a:path>
                    </a:pathLst>
                  </a:custGeom>
                  <a:solidFill>
                    <a:srgbClr val="9f9f9f"/>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706" name=""/>
                  <p:cNvSpPr/>
                  <p:nvPr/>
                </p:nvSpPr>
                <p:spPr>
                  <a:xfrm>
                    <a:off x="1230480" y="1938240"/>
                    <a:ext cx="54360" cy="8280"/>
                  </a:xfrm>
                  <a:custGeom>
                    <a:avLst/>
                    <a:gdLst/>
                    <a:ahLst/>
                    <a:rect l="0" t="0" r="r" b="b"/>
                    <a:pathLst>
                      <a:path w="151" h="23">
                        <a:moveTo>
                          <a:pt x="151" y="14"/>
                        </a:moveTo>
                        <a:lnTo>
                          <a:pt x="138" y="8"/>
                        </a:lnTo>
                        <a:lnTo>
                          <a:pt x="129" y="4"/>
                        </a:lnTo>
                        <a:lnTo>
                          <a:pt x="116" y="4"/>
                        </a:lnTo>
                        <a:lnTo>
                          <a:pt x="93" y="0"/>
                        </a:lnTo>
                        <a:lnTo>
                          <a:pt x="84" y="0"/>
                        </a:lnTo>
                        <a:lnTo>
                          <a:pt x="71" y="4"/>
                        </a:lnTo>
                        <a:lnTo>
                          <a:pt x="58" y="8"/>
                        </a:lnTo>
                        <a:lnTo>
                          <a:pt x="40" y="8"/>
                        </a:lnTo>
                        <a:lnTo>
                          <a:pt x="26" y="14"/>
                        </a:lnTo>
                        <a:lnTo>
                          <a:pt x="17" y="23"/>
                        </a:lnTo>
                        <a:lnTo>
                          <a:pt x="0" y="23"/>
                        </a:lnTo>
                        <a:lnTo>
                          <a:pt x="4" y="18"/>
                        </a:lnTo>
                        <a:lnTo>
                          <a:pt x="17" y="14"/>
                        </a:lnTo>
                        <a:lnTo>
                          <a:pt x="40" y="8"/>
                        </a:lnTo>
                        <a:lnTo>
                          <a:pt x="58" y="0"/>
                        </a:lnTo>
                        <a:lnTo>
                          <a:pt x="71" y="0"/>
                        </a:lnTo>
                        <a:lnTo>
                          <a:pt x="84" y="0"/>
                        </a:lnTo>
                        <a:lnTo>
                          <a:pt x="93" y="0"/>
                        </a:lnTo>
                        <a:lnTo>
                          <a:pt x="111" y="0"/>
                        </a:lnTo>
                        <a:lnTo>
                          <a:pt x="129" y="0"/>
                        </a:lnTo>
                        <a:lnTo>
                          <a:pt x="134" y="4"/>
                        </a:lnTo>
                        <a:lnTo>
                          <a:pt x="151" y="14"/>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707" name=""/>
                  <p:cNvSpPr/>
                  <p:nvPr/>
                </p:nvSpPr>
                <p:spPr>
                  <a:xfrm>
                    <a:off x="1235160" y="1932120"/>
                    <a:ext cx="59040" cy="6840"/>
                  </a:xfrm>
                  <a:custGeom>
                    <a:avLst/>
                    <a:gdLst/>
                    <a:ahLst/>
                    <a:rect l="0" t="0" r="r" b="b"/>
                    <a:pathLst>
                      <a:path w="164" h="19">
                        <a:moveTo>
                          <a:pt x="164" y="19"/>
                        </a:moveTo>
                        <a:lnTo>
                          <a:pt x="137" y="9"/>
                        </a:lnTo>
                        <a:lnTo>
                          <a:pt x="120" y="4"/>
                        </a:lnTo>
                        <a:lnTo>
                          <a:pt x="111" y="4"/>
                        </a:lnTo>
                        <a:lnTo>
                          <a:pt x="84" y="0"/>
                        </a:lnTo>
                        <a:lnTo>
                          <a:pt x="74" y="0"/>
                        </a:lnTo>
                        <a:lnTo>
                          <a:pt x="44" y="4"/>
                        </a:lnTo>
                        <a:lnTo>
                          <a:pt x="26" y="9"/>
                        </a:lnTo>
                        <a:lnTo>
                          <a:pt x="8" y="15"/>
                        </a:lnTo>
                        <a:lnTo>
                          <a:pt x="0" y="19"/>
                        </a:lnTo>
                        <a:lnTo>
                          <a:pt x="13" y="15"/>
                        </a:lnTo>
                        <a:lnTo>
                          <a:pt x="26" y="9"/>
                        </a:lnTo>
                        <a:lnTo>
                          <a:pt x="44" y="4"/>
                        </a:lnTo>
                        <a:lnTo>
                          <a:pt x="61" y="0"/>
                        </a:lnTo>
                        <a:lnTo>
                          <a:pt x="74" y="0"/>
                        </a:lnTo>
                        <a:lnTo>
                          <a:pt x="84" y="0"/>
                        </a:lnTo>
                        <a:lnTo>
                          <a:pt x="111" y="0"/>
                        </a:lnTo>
                        <a:lnTo>
                          <a:pt x="120" y="4"/>
                        </a:lnTo>
                        <a:lnTo>
                          <a:pt x="133" y="4"/>
                        </a:lnTo>
                        <a:lnTo>
                          <a:pt x="142" y="15"/>
                        </a:lnTo>
                        <a:lnTo>
                          <a:pt x="164" y="19"/>
                        </a:lnTo>
                        <a:close/>
                      </a:path>
                    </a:pathLst>
                  </a:custGeom>
                  <a:solidFill>
                    <a:srgbClr val="ff7f3f"/>
                  </a:solidFill>
                  <a:ln w="0">
                    <a:noFill/>
                  </a:ln>
                </p:spPr>
                <p:txBody>
                  <a:bodyPr lIns="90000" rIns="90000" tIns="-38160" bIns="-38160" anchor="t">
                    <a:noAutofit/>
                  </a:bodyPr>
                  <a:p>
                    <a:endParaRPr b="0" lang="en-US" sz="1800" spc="-1" strike="noStrike">
                      <a:solidFill>
                        <a:srgbClr val="000000"/>
                      </a:solidFill>
                      <a:latin typeface="Arial"/>
                    </a:endParaRPr>
                  </a:p>
                </p:txBody>
              </p:sp>
            </p:grpSp>
          </p:grpSp>
        </p:grpSp>
        <p:grpSp>
          <p:nvGrpSpPr>
            <p:cNvPr id="708" name=""/>
            <p:cNvGrpSpPr/>
            <p:nvPr/>
          </p:nvGrpSpPr>
          <p:grpSpPr>
            <a:xfrm>
              <a:off x="619200" y="2185920"/>
              <a:ext cx="1525680" cy="4318560"/>
              <a:chOff x="619200" y="2185920"/>
              <a:chExt cx="1525680" cy="4318560"/>
            </a:xfrm>
          </p:grpSpPr>
          <p:sp>
            <p:nvSpPr>
              <p:cNvPr id="709" name=""/>
              <p:cNvSpPr/>
              <p:nvPr/>
            </p:nvSpPr>
            <p:spPr>
              <a:xfrm flipV="1">
                <a:off x="1303200" y="3597120"/>
                <a:ext cx="0" cy="682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710" name=""/>
              <p:cNvGrpSpPr/>
              <p:nvPr/>
            </p:nvGrpSpPr>
            <p:grpSpPr>
              <a:xfrm>
                <a:off x="1077840" y="4983120"/>
                <a:ext cx="443520" cy="1521360"/>
                <a:chOff x="1077840" y="4983120"/>
                <a:chExt cx="443520" cy="1521360"/>
              </a:xfrm>
            </p:grpSpPr>
            <p:grpSp>
              <p:nvGrpSpPr>
                <p:cNvPr id="711" name=""/>
                <p:cNvGrpSpPr/>
                <p:nvPr/>
              </p:nvGrpSpPr>
              <p:grpSpPr>
                <a:xfrm>
                  <a:off x="1077840" y="4983120"/>
                  <a:ext cx="284400" cy="1394280"/>
                  <a:chOff x="1077840" y="4983120"/>
                  <a:chExt cx="284400" cy="1394280"/>
                </a:xfrm>
              </p:grpSpPr>
              <p:grpSp>
                <p:nvGrpSpPr>
                  <p:cNvPr id="712" name=""/>
                  <p:cNvGrpSpPr/>
                  <p:nvPr/>
                </p:nvGrpSpPr>
                <p:grpSpPr>
                  <a:xfrm>
                    <a:off x="1077840" y="4983120"/>
                    <a:ext cx="284400" cy="1244880"/>
                    <a:chOff x="1077840" y="4983120"/>
                    <a:chExt cx="284400" cy="1244880"/>
                  </a:xfrm>
                </p:grpSpPr>
                <p:sp>
                  <p:nvSpPr>
                    <p:cNvPr id="713" name=""/>
                    <p:cNvSpPr/>
                    <p:nvPr/>
                  </p:nvSpPr>
                  <p:spPr>
                    <a:xfrm>
                      <a:off x="1077840" y="4983120"/>
                      <a:ext cx="284400" cy="1244880"/>
                    </a:xfrm>
                    <a:custGeom>
                      <a:avLst/>
                      <a:gdLst/>
                      <a:ahLst/>
                      <a:rect l="0" t="0" r="r" b="b"/>
                      <a:pathLst>
                        <a:path w="790" h="3458">
                          <a:moveTo>
                            <a:pt x="0" y="22"/>
                          </a:moveTo>
                          <a:lnTo>
                            <a:pt x="0" y="277"/>
                          </a:lnTo>
                          <a:lnTo>
                            <a:pt x="22" y="489"/>
                          </a:lnTo>
                          <a:lnTo>
                            <a:pt x="35" y="696"/>
                          </a:lnTo>
                          <a:lnTo>
                            <a:pt x="57" y="864"/>
                          </a:lnTo>
                          <a:lnTo>
                            <a:pt x="79" y="1014"/>
                          </a:lnTo>
                          <a:lnTo>
                            <a:pt x="114" y="1172"/>
                          </a:lnTo>
                          <a:lnTo>
                            <a:pt x="141" y="1340"/>
                          </a:lnTo>
                          <a:lnTo>
                            <a:pt x="167" y="1446"/>
                          </a:lnTo>
                          <a:lnTo>
                            <a:pt x="194" y="1583"/>
                          </a:lnTo>
                          <a:lnTo>
                            <a:pt x="229" y="1734"/>
                          </a:lnTo>
                          <a:lnTo>
                            <a:pt x="251" y="1853"/>
                          </a:lnTo>
                          <a:lnTo>
                            <a:pt x="277" y="1954"/>
                          </a:lnTo>
                          <a:lnTo>
                            <a:pt x="299" y="2051"/>
                          </a:lnTo>
                          <a:lnTo>
                            <a:pt x="321" y="2179"/>
                          </a:lnTo>
                          <a:lnTo>
                            <a:pt x="352" y="2316"/>
                          </a:lnTo>
                          <a:lnTo>
                            <a:pt x="357" y="2413"/>
                          </a:lnTo>
                          <a:lnTo>
                            <a:pt x="370" y="2545"/>
                          </a:lnTo>
                          <a:lnTo>
                            <a:pt x="370" y="2668"/>
                          </a:lnTo>
                          <a:lnTo>
                            <a:pt x="370" y="2757"/>
                          </a:lnTo>
                          <a:lnTo>
                            <a:pt x="313" y="2920"/>
                          </a:lnTo>
                          <a:lnTo>
                            <a:pt x="286" y="3021"/>
                          </a:lnTo>
                          <a:lnTo>
                            <a:pt x="246" y="3158"/>
                          </a:lnTo>
                          <a:lnTo>
                            <a:pt x="229" y="3255"/>
                          </a:lnTo>
                          <a:lnTo>
                            <a:pt x="238" y="3370"/>
                          </a:lnTo>
                          <a:lnTo>
                            <a:pt x="291" y="3440"/>
                          </a:lnTo>
                          <a:lnTo>
                            <a:pt x="370" y="3453"/>
                          </a:lnTo>
                          <a:lnTo>
                            <a:pt x="499" y="3458"/>
                          </a:lnTo>
                          <a:lnTo>
                            <a:pt x="587" y="3436"/>
                          </a:lnTo>
                          <a:lnTo>
                            <a:pt x="636" y="3352"/>
                          </a:lnTo>
                          <a:lnTo>
                            <a:pt x="662" y="3264"/>
                          </a:lnTo>
                          <a:lnTo>
                            <a:pt x="671" y="3162"/>
                          </a:lnTo>
                          <a:lnTo>
                            <a:pt x="715" y="3065"/>
                          </a:lnTo>
                          <a:lnTo>
                            <a:pt x="733" y="2959"/>
                          </a:lnTo>
                          <a:lnTo>
                            <a:pt x="755" y="2862"/>
                          </a:lnTo>
                          <a:lnTo>
                            <a:pt x="741" y="2735"/>
                          </a:lnTo>
                          <a:lnTo>
                            <a:pt x="715" y="2633"/>
                          </a:lnTo>
                          <a:lnTo>
                            <a:pt x="693" y="2492"/>
                          </a:lnTo>
                          <a:lnTo>
                            <a:pt x="675" y="2373"/>
                          </a:lnTo>
                          <a:lnTo>
                            <a:pt x="671" y="2280"/>
                          </a:lnTo>
                          <a:lnTo>
                            <a:pt x="671" y="2170"/>
                          </a:lnTo>
                          <a:lnTo>
                            <a:pt x="666" y="2038"/>
                          </a:lnTo>
                          <a:lnTo>
                            <a:pt x="671" y="1950"/>
                          </a:lnTo>
                          <a:lnTo>
                            <a:pt x="671" y="1844"/>
                          </a:lnTo>
                          <a:lnTo>
                            <a:pt x="675" y="1715"/>
                          </a:lnTo>
                          <a:lnTo>
                            <a:pt x="684" y="1605"/>
                          </a:lnTo>
                          <a:lnTo>
                            <a:pt x="710" y="1508"/>
                          </a:lnTo>
                          <a:lnTo>
                            <a:pt x="724" y="1384"/>
                          </a:lnTo>
                          <a:lnTo>
                            <a:pt x="733" y="1300"/>
                          </a:lnTo>
                          <a:lnTo>
                            <a:pt x="746" y="1172"/>
                          </a:lnTo>
                          <a:lnTo>
                            <a:pt x="746" y="1067"/>
                          </a:lnTo>
                          <a:lnTo>
                            <a:pt x="746" y="952"/>
                          </a:lnTo>
                          <a:lnTo>
                            <a:pt x="746" y="745"/>
                          </a:lnTo>
                          <a:lnTo>
                            <a:pt x="746" y="626"/>
                          </a:lnTo>
                          <a:lnTo>
                            <a:pt x="755" y="533"/>
                          </a:lnTo>
                          <a:lnTo>
                            <a:pt x="781" y="436"/>
                          </a:lnTo>
                          <a:lnTo>
                            <a:pt x="790" y="352"/>
                          </a:lnTo>
                          <a:lnTo>
                            <a:pt x="781" y="251"/>
                          </a:lnTo>
                          <a:lnTo>
                            <a:pt x="772" y="0"/>
                          </a:lnTo>
                          <a:lnTo>
                            <a:pt x="0" y="22"/>
                          </a:lnTo>
                          <a:close/>
                        </a:path>
                      </a:pathLst>
                    </a:custGeom>
                    <a:solidFill>
                      <a:srgbClr val="ffdfb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4" name=""/>
                    <p:cNvSpPr/>
                    <p:nvPr/>
                  </p:nvSpPr>
                  <p:spPr>
                    <a:xfrm>
                      <a:off x="1081080" y="5100480"/>
                      <a:ext cx="157680" cy="190800"/>
                    </a:xfrm>
                    <a:custGeom>
                      <a:avLst/>
                      <a:gdLst/>
                      <a:ahLst/>
                      <a:rect l="0" t="0" r="r" b="b"/>
                      <a:pathLst>
                        <a:path w="438" h="530">
                          <a:moveTo>
                            <a:pt x="61" y="530"/>
                          </a:moveTo>
                          <a:lnTo>
                            <a:pt x="105" y="499"/>
                          </a:lnTo>
                          <a:lnTo>
                            <a:pt x="181" y="459"/>
                          </a:lnTo>
                          <a:lnTo>
                            <a:pt x="247" y="428"/>
                          </a:lnTo>
                          <a:lnTo>
                            <a:pt x="314" y="411"/>
                          </a:lnTo>
                          <a:lnTo>
                            <a:pt x="403" y="397"/>
                          </a:lnTo>
                          <a:lnTo>
                            <a:pt x="438" y="17"/>
                          </a:lnTo>
                          <a:lnTo>
                            <a:pt x="0" y="0"/>
                          </a:lnTo>
                          <a:lnTo>
                            <a:pt x="22" y="185"/>
                          </a:lnTo>
                          <a:lnTo>
                            <a:pt x="30" y="362"/>
                          </a:lnTo>
                          <a:lnTo>
                            <a:pt x="61" y="530"/>
                          </a:lnTo>
                          <a:close/>
                        </a:path>
                      </a:pathLst>
                    </a:custGeom>
                    <a:solidFill>
                      <a:srgbClr val="ff9f7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715" name=""/>
                  <p:cNvGrpSpPr/>
                  <p:nvPr/>
                </p:nvGrpSpPr>
                <p:grpSpPr>
                  <a:xfrm>
                    <a:off x="1104840" y="6032520"/>
                    <a:ext cx="240120" cy="344880"/>
                    <a:chOff x="1104840" y="6032520"/>
                    <a:chExt cx="240120" cy="344880"/>
                  </a:xfrm>
                </p:grpSpPr>
                <p:sp>
                  <p:nvSpPr>
                    <p:cNvPr id="716" name=""/>
                    <p:cNvSpPr/>
                    <p:nvPr/>
                  </p:nvSpPr>
                  <p:spPr>
                    <a:xfrm>
                      <a:off x="1104840" y="6032520"/>
                      <a:ext cx="240120" cy="344880"/>
                    </a:xfrm>
                    <a:custGeom>
                      <a:avLst/>
                      <a:gdLst/>
                      <a:ahLst/>
                      <a:rect l="0" t="0" r="r" b="b"/>
                      <a:pathLst>
                        <a:path w="667" h="958">
                          <a:moveTo>
                            <a:pt x="190" y="207"/>
                          </a:moveTo>
                          <a:lnTo>
                            <a:pt x="114" y="353"/>
                          </a:lnTo>
                          <a:lnTo>
                            <a:pt x="92" y="415"/>
                          </a:lnTo>
                          <a:lnTo>
                            <a:pt x="70" y="459"/>
                          </a:lnTo>
                          <a:lnTo>
                            <a:pt x="44" y="494"/>
                          </a:lnTo>
                          <a:lnTo>
                            <a:pt x="22" y="547"/>
                          </a:lnTo>
                          <a:lnTo>
                            <a:pt x="17" y="583"/>
                          </a:lnTo>
                          <a:lnTo>
                            <a:pt x="0" y="636"/>
                          </a:lnTo>
                          <a:lnTo>
                            <a:pt x="8" y="715"/>
                          </a:lnTo>
                          <a:lnTo>
                            <a:pt x="22" y="756"/>
                          </a:lnTo>
                          <a:lnTo>
                            <a:pt x="70" y="835"/>
                          </a:lnTo>
                          <a:lnTo>
                            <a:pt x="123" y="888"/>
                          </a:lnTo>
                          <a:lnTo>
                            <a:pt x="181" y="936"/>
                          </a:lnTo>
                          <a:lnTo>
                            <a:pt x="278" y="958"/>
                          </a:lnTo>
                          <a:lnTo>
                            <a:pt x="353" y="919"/>
                          </a:lnTo>
                          <a:lnTo>
                            <a:pt x="424" y="883"/>
                          </a:lnTo>
                          <a:lnTo>
                            <a:pt x="477" y="826"/>
                          </a:lnTo>
                          <a:lnTo>
                            <a:pt x="522" y="782"/>
                          </a:lnTo>
                          <a:lnTo>
                            <a:pt x="535" y="734"/>
                          </a:lnTo>
                          <a:lnTo>
                            <a:pt x="553" y="644"/>
                          </a:lnTo>
                          <a:lnTo>
                            <a:pt x="570" y="569"/>
                          </a:lnTo>
                          <a:lnTo>
                            <a:pt x="579" y="508"/>
                          </a:lnTo>
                          <a:lnTo>
                            <a:pt x="588" y="450"/>
                          </a:lnTo>
                          <a:lnTo>
                            <a:pt x="597" y="406"/>
                          </a:lnTo>
                          <a:lnTo>
                            <a:pt x="601" y="327"/>
                          </a:lnTo>
                          <a:lnTo>
                            <a:pt x="614" y="269"/>
                          </a:lnTo>
                          <a:lnTo>
                            <a:pt x="637" y="224"/>
                          </a:lnTo>
                          <a:lnTo>
                            <a:pt x="654" y="176"/>
                          </a:lnTo>
                          <a:lnTo>
                            <a:pt x="667" y="97"/>
                          </a:lnTo>
                          <a:lnTo>
                            <a:pt x="667" y="0"/>
                          </a:lnTo>
                          <a:lnTo>
                            <a:pt x="645" y="83"/>
                          </a:lnTo>
                          <a:lnTo>
                            <a:pt x="637" y="171"/>
                          </a:lnTo>
                          <a:lnTo>
                            <a:pt x="601" y="224"/>
                          </a:lnTo>
                          <a:lnTo>
                            <a:pt x="588" y="292"/>
                          </a:lnTo>
                          <a:lnTo>
                            <a:pt x="579" y="380"/>
                          </a:lnTo>
                          <a:lnTo>
                            <a:pt x="566" y="450"/>
                          </a:lnTo>
                          <a:lnTo>
                            <a:pt x="535" y="481"/>
                          </a:lnTo>
                          <a:lnTo>
                            <a:pt x="494" y="525"/>
                          </a:lnTo>
                          <a:lnTo>
                            <a:pt x="459" y="534"/>
                          </a:lnTo>
                          <a:lnTo>
                            <a:pt x="415" y="543"/>
                          </a:lnTo>
                          <a:lnTo>
                            <a:pt x="336" y="534"/>
                          </a:lnTo>
                          <a:lnTo>
                            <a:pt x="278" y="508"/>
                          </a:lnTo>
                          <a:lnTo>
                            <a:pt x="225" y="494"/>
                          </a:lnTo>
                          <a:lnTo>
                            <a:pt x="195" y="472"/>
                          </a:lnTo>
                          <a:lnTo>
                            <a:pt x="154" y="424"/>
                          </a:lnTo>
                          <a:lnTo>
                            <a:pt x="154" y="362"/>
                          </a:lnTo>
                          <a:lnTo>
                            <a:pt x="190" y="20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17" name=""/>
                    <p:cNvSpPr/>
                    <p:nvPr/>
                  </p:nvSpPr>
                  <p:spPr>
                    <a:xfrm>
                      <a:off x="1166760" y="6200640"/>
                      <a:ext cx="74520" cy="68400"/>
                    </a:xfrm>
                    <a:prstGeom prst="ellipse">
                      <a:avLst/>
                    </a:prstGeom>
                    <a:solidFill>
                      <a:srgbClr val="5f5f7f"/>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grpSp>
              <p:nvGrpSpPr>
                <p:cNvPr id="718" name=""/>
                <p:cNvGrpSpPr/>
                <p:nvPr/>
              </p:nvGrpSpPr>
              <p:grpSpPr>
                <a:xfrm>
                  <a:off x="1230480" y="5099040"/>
                  <a:ext cx="290880" cy="1405440"/>
                  <a:chOff x="1230480" y="5099040"/>
                  <a:chExt cx="290880" cy="1405440"/>
                </a:xfrm>
              </p:grpSpPr>
              <p:sp>
                <p:nvSpPr>
                  <p:cNvPr id="719" name=""/>
                  <p:cNvSpPr/>
                  <p:nvPr/>
                </p:nvSpPr>
                <p:spPr>
                  <a:xfrm>
                    <a:off x="1235160" y="5099040"/>
                    <a:ext cx="286200" cy="1249560"/>
                  </a:xfrm>
                  <a:custGeom>
                    <a:avLst/>
                    <a:gdLst/>
                    <a:ahLst/>
                    <a:rect l="0" t="0" r="r" b="b"/>
                    <a:pathLst>
                      <a:path w="795" h="3471">
                        <a:moveTo>
                          <a:pt x="795" y="22"/>
                        </a:moveTo>
                        <a:lnTo>
                          <a:pt x="747" y="286"/>
                        </a:lnTo>
                        <a:lnTo>
                          <a:pt x="725" y="480"/>
                        </a:lnTo>
                        <a:lnTo>
                          <a:pt x="711" y="709"/>
                        </a:lnTo>
                        <a:lnTo>
                          <a:pt x="689" y="881"/>
                        </a:lnTo>
                        <a:lnTo>
                          <a:pt x="659" y="1067"/>
                        </a:lnTo>
                        <a:lnTo>
                          <a:pt x="645" y="1199"/>
                        </a:lnTo>
                        <a:lnTo>
                          <a:pt x="619" y="1340"/>
                        </a:lnTo>
                        <a:lnTo>
                          <a:pt x="591" y="1494"/>
                        </a:lnTo>
                        <a:lnTo>
                          <a:pt x="561" y="1605"/>
                        </a:lnTo>
                        <a:lnTo>
                          <a:pt x="538" y="1742"/>
                        </a:lnTo>
                        <a:lnTo>
                          <a:pt x="512" y="1857"/>
                        </a:lnTo>
                        <a:lnTo>
                          <a:pt x="499" y="1976"/>
                        </a:lnTo>
                        <a:lnTo>
                          <a:pt x="494" y="2064"/>
                        </a:lnTo>
                        <a:lnTo>
                          <a:pt x="472" y="2192"/>
                        </a:lnTo>
                        <a:lnTo>
                          <a:pt x="446" y="2324"/>
                        </a:lnTo>
                        <a:lnTo>
                          <a:pt x="437" y="2421"/>
                        </a:lnTo>
                        <a:lnTo>
                          <a:pt x="428" y="2545"/>
                        </a:lnTo>
                        <a:lnTo>
                          <a:pt x="428" y="2682"/>
                        </a:lnTo>
                        <a:lnTo>
                          <a:pt x="428" y="2761"/>
                        </a:lnTo>
                        <a:lnTo>
                          <a:pt x="477" y="2929"/>
                        </a:lnTo>
                        <a:lnTo>
                          <a:pt x="508" y="3026"/>
                        </a:lnTo>
                        <a:lnTo>
                          <a:pt x="543" y="3176"/>
                        </a:lnTo>
                        <a:lnTo>
                          <a:pt x="561" y="3264"/>
                        </a:lnTo>
                        <a:lnTo>
                          <a:pt x="552" y="3383"/>
                        </a:lnTo>
                        <a:lnTo>
                          <a:pt x="499" y="3449"/>
                        </a:lnTo>
                        <a:lnTo>
                          <a:pt x="428" y="3462"/>
                        </a:lnTo>
                        <a:lnTo>
                          <a:pt x="296" y="3471"/>
                        </a:lnTo>
                        <a:lnTo>
                          <a:pt x="203" y="3440"/>
                        </a:lnTo>
                        <a:lnTo>
                          <a:pt x="149" y="3356"/>
                        </a:lnTo>
                        <a:lnTo>
                          <a:pt x="127" y="3273"/>
                        </a:lnTo>
                        <a:lnTo>
                          <a:pt x="119" y="3176"/>
                        </a:lnTo>
                        <a:lnTo>
                          <a:pt x="74" y="3074"/>
                        </a:lnTo>
                        <a:lnTo>
                          <a:pt x="52" y="2964"/>
                        </a:lnTo>
                        <a:lnTo>
                          <a:pt x="35" y="2867"/>
                        </a:lnTo>
                        <a:lnTo>
                          <a:pt x="48" y="2743"/>
                        </a:lnTo>
                        <a:lnTo>
                          <a:pt x="74" y="2642"/>
                        </a:lnTo>
                        <a:lnTo>
                          <a:pt x="88" y="2496"/>
                        </a:lnTo>
                        <a:lnTo>
                          <a:pt x="114" y="2377"/>
                        </a:lnTo>
                        <a:lnTo>
                          <a:pt x="119" y="2289"/>
                        </a:lnTo>
                        <a:lnTo>
                          <a:pt x="119" y="2174"/>
                        </a:lnTo>
                        <a:lnTo>
                          <a:pt x="119" y="2042"/>
                        </a:lnTo>
                        <a:lnTo>
                          <a:pt x="119" y="1950"/>
                        </a:lnTo>
                        <a:lnTo>
                          <a:pt x="119" y="1853"/>
                        </a:lnTo>
                        <a:lnTo>
                          <a:pt x="114" y="1724"/>
                        </a:lnTo>
                        <a:lnTo>
                          <a:pt x="101" y="1613"/>
                        </a:lnTo>
                        <a:lnTo>
                          <a:pt x="83" y="1516"/>
                        </a:lnTo>
                        <a:lnTo>
                          <a:pt x="57" y="1397"/>
                        </a:lnTo>
                        <a:lnTo>
                          <a:pt x="52" y="1314"/>
                        </a:lnTo>
                        <a:lnTo>
                          <a:pt x="39" y="1177"/>
                        </a:lnTo>
                        <a:lnTo>
                          <a:pt x="39" y="1071"/>
                        </a:lnTo>
                        <a:lnTo>
                          <a:pt x="39" y="952"/>
                        </a:lnTo>
                        <a:lnTo>
                          <a:pt x="39" y="749"/>
                        </a:lnTo>
                        <a:lnTo>
                          <a:pt x="39" y="643"/>
                        </a:lnTo>
                        <a:lnTo>
                          <a:pt x="35" y="542"/>
                        </a:lnTo>
                        <a:lnTo>
                          <a:pt x="8" y="445"/>
                        </a:lnTo>
                        <a:lnTo>
                          <a:pt x="0" y="357"/>
                        </a:lnTo>
                        <a:lnTo>
                          <a:pt x="8" y="255"/>
                        </a:lnTo>
                        <a:lnTo>
                          <a:pt x="17" y="0"/>
                        </a:lnTo>
                        <a:lnTo>
                          <a:pt x="795" y="22"/>
                        </a:lnTo>
                        <a:close/>
                      </a:path>
                    </a:pathLst>
                  </a:custGeom>
                  <a:solidFill>
                    <a:srgbClr val="ffdfb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0" name=""/>
                  <p:cNvSpPr/>
                  <p:nvPr/>
                </p:nvSpPr>
                <p:spPr>
                  <a:xfrm>
                    <a:off x="1230480" y="5114880"/>
                    <a:ext cx="276480" cy="146520"/>
                  </a:xfrm>
                  <a:custGeom>
                    <a:avLst/>
                    <a:gdLst/>
                    <a:ahLst/>
                    <a:rect l="0" t="0" r="r" b="b"/>
                    <a:pathLst>
                      <a:path w="768" h="407">
                        <a:moveTo>
                          <a:pt x="13" y="407"/>
                        </a:moveTo>
                        <a:lnTo>
                          <a:pt x="57" y="376"/>
                        </a:lnTo>
                        <a:lnTo>
                          <a:pt x="114" y="341"/>
                        </a:lnTo>
                        <a:lnTo>
                          <a:pt x="202" y="296"/>
                        </a:lnTo>
                        <a:lnTo>
                          <a:pt x="277" y="278"/>
                        </a:lnTo>
                        <a:lnTo>
                          <a:pt x="374" y="265"/>
                        </a:lnTo>
                        <a:lnTo>
                          <a:pt x="464" y="265"/>
                        </a:lnTo>
                        <a:lnTo>
                          <a:pt x="596" y="265"/>
                        </a:lnTo>
                        <a:lnTo>
                          <a:pt x="763" y="265"/>
                        </a:lnTo>
                        <a:lnTo>
                          <a:pt x="768" y="133"/>
                        </a:lnTo>
                        <a:lnTo>
                          <a:pt x="768" y="0"/>
                        </a:lnTo>
                        <a:lnTo>
                          <a:pt x="22" y="0"/>
                        </a:lnTo>
                        <a:lnTo>
                          <a:pt x="4" y="186"/>
                        </a:lnTo>
                        <a:lnTo>
                          <a:pt x="0" y="265"/>
                        </a:lnTo>
                        <a:lnTo>
                          <a:pt x="0" y="332"/>
                        </a:lnTo>
                        <a:lnTo>
                          <a:pt x="13" y="407"/>
                        </a:lnTo>
                        <a:close/>
                      </a:path>
                    </a:pathLst>
                  </a:custGeom>
                  <a:solidFill>
                    <a:srgbClr val="ff9f7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21" name=""/>
                  <p:cNvGrpSpPr/>
                  <p:nvPr/>
                </p:nvGrpSpPr>
                <p:grpSpPr>
                  <a:xfrm>
                    <a:off x="1247760" y="6148440"/>
                    <a:ext cx="244800" cy="356040"/>
                    <a:chOff x="1247760" y="6148440"/>
                    <a:chExt cx="244800" cy="356040"/>
                  </a:xfrm>
                </p:grpSpPr>
                <p:sp>
                  <p:nvSpPr>
                    <p:cNvPr id="722" name=""/>
                    <p:cNvSpPr/>
                    <p:nvPr/>
                  </p:nvSpPr>
                  <p:spPr>
                    <a:xfrm>
                      <a:off x="1247760" y="6148440"/>
                      <a:ext cx="244800" cy="356040"/>
                    </a:xfrm>
                    <a:custGeom>
                      <a:avLst/>
                      <a:gdLst/>
                      <a:ahLst/>
                      <a:rect l="0" t="0" r="r" b="b"/>
                      <a:pathLst>
                        <a:path w="680" h="989">
                          <a:moveTo>
                            <a:pt x="494" y="229"/>
                          </a:moveTo>
                          <a:lnTo>
                            <a:pt x="569" y="358"/>
                          </a:lnTo>
                          <a:lnTo>
                            <a:pt x="596" y="419"/>
                          </a:lnTo>
                          <a:lnTo>
                            <a:pt x="613" y="459"/>
                          </a:lnTo>
                          <a:lnTo>
                            <a:pt x="636" y="508"/>
                          </a:lnTo>
                          <a:lnTo>
                            <a:pt x="662" y="547"/>
                          </a:lnTo>
                          <a:lnTo>
                            <a:pt x="662" y="583"/>
                          </a:lnTo>
                          <a:lnTo>
                            <a:pt x="680" y="640"/>
                          </a:lnTo>
                          <a:lnTo>
                            <a:pt x="680" y="706"/>
                          </a:lnTo>
                          <a:lnTo>
                            <a:pt x="662" y="769"/>
                          </a:lnTo>
                          <a:lnTo>
                            <a:pt x="627" y="866"/>
                          </a:lnTo>
                          <a:lnTo>
                            <a:pt x="587" y="919"/>
                          </a:lnTo>
                          <a:lnTo>
                            <a:pt x="538" y="963"/>
                          </a:lnTo>
                          <a:lnTo>
                            <a:pt x="486" y="989"/>
                          </a:lnTo>
                          <a:lnTo>
                            <a:pt x="402" y="954"/>
                          </a:lnTo>
                          <a:lnTo>
                            <a:pt x="295" y="910"/>
                          </a:lnTo>
                          <a:lnTo>
                            <a:pt x="202" y="835"/>
                          </a:lnTo>
                          <a:lnTo>
                            <a:pt x="154" y="786"/>
                          </a:lnTo>
                          <a:lnTo>
                            <a:pt x="132" y="737"/>
                          </a:lnTo>
                          <a:lnTo>
                            <a:pt x="132" y="662"/>
                          </a:lnTo>
                          <a:lnTo>
                            <a:pt x="110" y="578"/>
                          </a:lnTo>
                          <a:lnTo>
                            <a:pt x="105" y="516"/>
                          </a:lnTo>
                          <a:lnTo>
                            <a:pt x="83" y="455"/>
                          </a:lnTo>
                          <a:lnTo>
                            <a:pt x="79" y="411"/>
                          </a:lnTo>
                          <a:lnTo>
                            <a:pt x="66" y="331"/>
                          </a:lnTo>
                          <a:lnTo>
                            <a:pt x="57" y="283"/>
                          </a:lnTo>
                          <a:lnTo>
                            <a:pt x="48" y="233"/>
                          </a:lnTo>
                          <a:lnTo>
                            <a:pt x="17" y="185"/>
                          </a:lnTo>
                          <a:lnTo>
                            <a:pt x="0" y="105"/>
                          </a:lnTo>
                          <a:lnTo>
                            <a:pt x="0" y="0"/>
                          </a:lnTo>
                          <a:lnTo>
                            <a:pt x="22" y="83"/>
                          </a:lnTo>
                          <a:lnTo>
                            <a:pt x="44" y="180"/>
                          </a:lnTo>
                          <a:lnTo>
                            <a:pt x="66" y="233"/>
                          </a:lnTo>
                          <a:lnTo>
                            <a:pt x="83" y="305"/>
                          </a:lnTo>
                          <a:lnTo>
                            <a:pt x="105" y="380"/>
                          </a:lnTo>
                          <a:lnTo>
                            <a:pt x="114" y="455"/>
                          </a:lnTo>
                          <a:lnTo>
                            <a:pt x="132" y="490"/>
                          </a:lnTo>
                          <a:lnTo>
                            <a:pt x="180" y="525"/>
                          </a:lnTo>
                          <a:lnTo>
                            <a:pt x="216" y="538"/>
                          </a:lnTo>
                          <a:lnTo>
                            <a:pt x="264" y="547"/>
                          </a:lnTo>
                          <a:lnTo>
                            <a:pt x="335" y="538"/>
                          </a:lnTo>
                          <a:lnTo>
                            <a:pt x="402" y="516"/>
                          </a:lnTo>
                          <a:lnTo>
                            <a:pt x="459" y="499"/>
                          </a:lnTo>
                          <a:lnTo>
                            <a:pt x="486" y="481"/>
                          </a:lnTo>
                          <a:lnTo>
                            <a:pt x="525" y="424"/>
                          </a:lnTo>
                          <a:lnTo>
                            <a:pt x="525" y="367"/>
                          </a:lnTo>
                          <a:lnTo>
                            <a:pt x="494" y="22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23" name=""/>
                    <p:cNvSpPr/>
                    <p:nvPr/>
                  </p:nvSpPr>
                  <p:spPr>
                    <a:xfrm>
                      <a:off x="1357200" y="6329520"/>
                      <a:ext cx="79200" cy="84240"/>
                    </a:xfrm>
                    <a:prstGeom prst="ellipse">
                      <a:avLst/>
                    </a:prstGeom>
                    <a:solidFill>
                      <a:srgbClr val="5f5f7f"/>
                    </a:solidFill>
                    <a:ln w="12600">
                      <a:solidFill>
                        <a:srgbClr val="000000"/>
                      </a:solidFill>
                      <a:round/>
                    </a:ln>
                  </p:spPr>
                  <p:txBody>
                    <a:bodyPr lIns="96120" rIns="96120" tIns="33120" bIns="33120" anchor="t">
                      <a:noAutofit/>
                    </a:bodyPr>
                    <a:p>
                      <a:endParaRPr b="0" lang="en-US" sz="1800" spc="-1" strike="noStrike">
                        <a:solidFill>
                          <a:srgbClr val="000000"/>
                        </a:solidFill>
                        <a:latin typeface="Arial"/>
                      </a:endParaRPr>
                    </a:p>
                  </p:txBody>
                </p:sp>
              </p:grpSp>
            </p:grpSp>
            <p:sp>
              <p:nvSpPr>
                <p:cNvPr id="724" name=""/>
                <p:cNvSpPr/>
                <p:nvPr/>
              </p:nvSpPr>
              <p:spPr>
                <a:xfrm>
                  <a:off x="1265400" y="5288040"/>
                  <a:ext cx="1440" cy="806400"/>
                </a:xfrm>
                <a:prstGeom prst="line">
                  <a:avLst/>
                </a:prstGeom>
                <a:ln w="12600">
                  <a:solidFill>
                    <a:srgbClr val="ff9f7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725" name=""/>
              <p:cNvGrpSpPr/>
              <p:nvPr/>
            </p:nvGrpSpPr>
            <p:grpSpPr>
              <a:xfrm>
                <a:off x="619200" y="2185920"/>
                <a:ext cx="1325880" cy="3011760"/>
                <a:chOff x="619200" y="2185920"/>
                <a:chExt cx="1325880" cy="3011760"/>
              </a:xfrm>
            </p:grpSpPr>
            <p:grpSp>
              <p:nvGrpSpPr>
                <p:cNvPr id="726" name=""/>
                <p:cNvGrpSpPr/>
                <p:nvPr/>
              </p:nvGrpSpPr>
              <p:grpSpPr>
                <a:xfrm>
                  <a:off x="619200" y="2185920"/>
                  <a:ext cx="1325880" cy="3011760"/>
                  <a:chOff x="619200" y="2185920"/>
                  <a:chExt cx="1325880" cy="3011760"/>
                </a:xfrm>
              </p:grpSpPr>
              <p:grpSp>
                <p:nvGrpSpPr>
                  <p:cNvPr id="727" name=""/>
                  <p:cNvGrpSpPr/>
                  <p:nvPr/>
                </p:nvGrpSpPr>
                <p:grpSpPr>
                  <a:xfrm>
                    <a:off x="878040" y="3794040"/>
                    <a:ext cx="817920" cy="1403640"/>
                    <a:chOff x="878040" y="3794040"/>
                    <a:chExt cx="817920" cy="1403640"/>
                  </a:xfrm>
                </p:grpSpPr>
                <p:sp>
                  <p:nvSpPr>
                    <p:cNvPr id="728" name=""/>
                    <p:cNvSpPr/>
                    <p:nvPr/>
                  </p:nvSpPr>
                  <p:spPr>
                    <a:xfrm>
                      <a:off x="878040" y="3794040"/>
                      <a:ext cx="817920" cy="1403640"/>
                    </a:xfrm>
                    <a:custGeom>
                      <a:avLst/>
                      <a:gdLst/>
                      <a:ahLst/>
                      <a:rect l="0" t="0" r="r" b="b"/>
                      <a:pathLst>
                        <a:path w="2272" h="3899">
                          <a:moveTo>
                            <a:pt x="0" y="0"/>
                          </a:moveTo>
                          <a:lnTo>
                            <a:pt x="17" y="1389"/>
                          </a:lnTo>
                          <a:lnTo>
                            <a:pt x="79" y="1838"/>
                          </a:lnTo>
                          <a:lnTo>
                            <a:pt x="145" y="2302"/>
                          </a:lnTo>
                          <a:lnTo>
                            <a:pt x="202" y="2642"/>
                          </a:lnTo>
                          <a:lnTo>
                            <a:pt x="268" y="3078"/>
                          </a:lnTo>
                          <a:lnTo>
                            <a:pt x="321" y="3511"/>
                          </a:lnTo>
                          <a:lnTo>
                            <a:pt x="427" y="3559"/>
                          </a:lnTo>
                          <a:lnTo>
                            <a:pt x="533" y="3625"/>
                          </a:lnTo>
                          <a:lnTo>
                            <a:pt x="661" y="3696"/>
                          </a:lnTo>
                          <a:lnTo>
                            <a:pt x="802" y="3775"/>
                          </a:lnTo>
                          <a:lnTo>
                            <a:pt x="1009" y="3824"/>
                          </a:lnTo>
                          <a:lnTo>
                            <a:pt x="1098" y="3824"/>
                          </a:lnTo>
                          <a:lnTo>
                            <a:pt x="1147" y="3833"/>
                          </a:lnTo>
                          <a:lnTo>
                            <a:pt x="1209" y="3850"/>
                          </a:lnTo>
                          <a:lnTo>
                            <a:pt x="1262" y="3899"/>
                          </a:lnTo>
                          <a:lnTo>
                            <a:pt x="1416" y="3899"/>
                          </a:lnTo>
                          <a:lnTo>
                            <a:pt x="1685" y="3850"/>
                          </a:lnTo>
                          <a:lnTo>
                            <a:pt x="1888" y="3775"/>
                          </a:lnTo>
                          <a:lnTo>
                            <a:pt x="2011" y="3683"/>
                          </a:lnTo>
                          <a:lnTo>
                            <a:pt x="2069" y="3145"/>
                          </a:lnTo>
                          <a:lnTo>
                            <a:pt x="2122" y="2585"/>
                          </a:lnTo>
                          <a:lnTo>
                            <a:pt x="2219" y="2069"/>
                          </a:lnTo>
                          <a:lnTo>
                            <a:pt x="2258" y="1561"/>
                          </a:lnTo>
                          <a:lnTo>
                            <a:pt x="2272" y="1049"/>
                          </a:lnTo>
                          <a:lnTo>
                            <a:pt x="2236" y="202"/>
                          </a:lnTo>
                          <a:lnTo>
                            <a:pt x="2232" y="17"/>
                          </a:lnTo>
                          <a:lnTo>
                            <a:pt x="0" y="0"/>
                          </a:lnTo>
                          <a:close/>
                        </a:path>
                      </a:pathLst>
                    </a:custGeom>
                    <a:solidFill>
                      <a:srgbClr val="5f5f7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9" name=""/>
                    <p:cNvSpPr/>
                    <p:nvPr/>
                  </p:nvSpPr>
                  <p:spPr>
                    <a:xfrm>
                      <a:off x="1249200" y="4233960"/>
                      <a:ext cx="343440" cy="776520"/>
                    </a:xfrm>
                    <a:custGeom>
                      <a:avLst/>
                      <a:gdLst/>
                      <a:ahLst/>
                      <a:rect l="0" t="0" r="r" b="b"/>
                      <a:pathLst>
                        <a:path w="954" h="2157">
                          <a:moveTo>
                            <a:pt x="261" y="405"/>
                          </a:moveTo>
                          <a:lnTo>
                            <a:pt x="202" y="533"/>
                          </a:lnTo>
                          <a:lnTo>
                            <a:pt x="158" y="661"/>
                          </a:lnTo>
                          <a:lnTo>
                            <a:pt x="145" y="820"/>
                          </a:lnTo>
                          <a:lnTo>
                            <a:pt x="22" y="2157"/>
                          </a:lnTo>
                          <a:lnTo>
                            <a:pt x="39" y="590"/>
                          </a:lnTo>
                          <a:lnTo>
                            <a:pt x="0" y="0"/>
                          </a:lnTo>
                          <a:lnTo>
                            <a:pt x="835" y="22"/>
                          </a:lnTo>
                          <a:lnTo>
                            <a:pt x="954" y="101"/>
                          </a:lnTo>
                          <a:lnTo>
                            <a:pt x="760" y="119"/>
                          </a:lnTo>
                          <a:lnTo>
                            <a:pt x="583" y="149"/>
                          </a:lnTo>
                          <a:lnTo>
                            <a:pt x="490" y="194"/>
                          </a:lnTo>
                          <a:lnTo>
                            <a:pt x="411" y="251"/>
                          </a:lnTo>
                          <a:lnTo>
                            <a:pt x="314" y="317"/>
                          </a:lnTo>
                          <a:lnTo>
                            <a:pt x="261" y="40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730" name=""/>
                  <p:cNvSpPr/>
                  <p:nvPr/>
                </p:nvSpPr>
                <p:spPr>
                  <a:xfrm>
                    <a:off x="619200" y="2185920"/>
                    <a:ext cx="1325880" cy="2092680"/>
                  </a:xfrm>
                  <a:custGeom>
                    <a:avLst/>
                    <a:gdLst/>
                    <a:ahLst/>
                    <a:rect l="0" t="0" r="r" b="b"/>
                    <a:pathLst>
                      <a:path w="3683" h="5813">
                        <a:moveTo>
                          <a:pt x="1680" y="0"/>
                        </a:moveTo>
                        <a:lnTo>
                          <a:pt x="1618" y="92"/>
                        </a:lnTo>
                        <a:lnTo>
                          <a:pt x="1569" y="145"/>
                        </a:lnTo>
                        <a:lnTo>
                          <a:pt x="1516" y="202"/>
                        </a:lnTo>
                        <a:lnTo>
                          <a:pt x="1441" y="273"/>
                        </a:lnTo>
                        <a:lnTo>
                          <a:pt x="1367" y="339"/>
                        </a:lnTo>
                        <a:lnTo>
                          <a:pt x="1212" y="392"/>
                        </a:lnTo>
                        <a:lnTo>
                          <a:pt x="1067" y="436"/>
                        </a:lnTo>
                        <a:lnTo>
                          <a:pt x="934" y="449"/>
                        </a:lnTo>
                        <a:lnTo>
                          <a:pt x="780" y="498"/>
                        </a:lnTo>
                        <a:lnTo>
                          <a:pt x="652" y="537"/>
                        </a:lnTo>
                        <a:lnTo>
                          <a:pt x="568" y="582"/>
                        </a:lnTo>
                        <a:lnTo>
                          <a:pt x="502" y="604"/>
                        </a:lnTo>
                        <a:lnTo>
                          <a:pt x="357" y="701"/>
                        </a:lnTo>
                        <a:lnTo>
                          <a:pt x="326" y="718"/>
                        </a:lnTo>
                        <a:lnTo>
                          <a:pt x="304" y="745"/>
                        </a:lnTo>
                        <a:lnTo>
                          <a:pt x="291" y="789"/>
                        </a:lnTo>
                        <a:lnTo>
                          <a:pt x="233" y="1018"/>
                        </a:lnTo>
                        <a:lnTo>
                          <a:pt x="207" y="1168"/>
                        </a:lnTo>
                        <a:lnTo>
                          <a:pt x="163" y="1380"/>
                        </a:lnTo>
                        <a:lnTo>
                          <a:pt x="123" y="1750"/>
                        </a:lnTo>
                        <a:lnTo>
                          <a:pt x="70" y="2046"/>
                        </a:lnTo>
                        <a:lnTo>
                          <a:pt x="48" y="2465"/>
                        </a:lnTo>
                        <a:lnTo>
                          <a:pt x="39" y="2610"/>
                        </a:lnTo>
                        <a:lnTo>
                          <a:pt x="0" y="2747"/>
                        </a:lnTo>
                        <a:lnTo>
                          <a:pt x="0" y="2848"/>
                        </a:lnTo>
                        <a:lnTo>
                          <a:pt x="0" y="2920"/>
                        </a:lnTo>
                        <a:lnTo>
                          <a:pt x="88" y="3092"/>
                        </a:lnTo>
                        <a:lnTo>
                          <a:pt x="216" y="3299"/>
                        </a:lnTo>
                        <a:lnTo>
                          <a:pt x="326" y="3361"/>
                        </a:lnTo>
                        <a:lnTo>
                          <a:pt x="608" y="3542"/>
                        </a:lnTo>
                        <a:lnTo>
                          <a:pt x="780" y="3630"/>
                        </a:lnTo>
                        <a:lnTo>
                          <a:pt x="701" y="4031"/>
                        </a:lnTo>
                        <a:lnTo>
                          <a:pt x="665" y="4304"/>
                        </a:lnTo>
                        <a:lnTo>
                          <a:pt x="648" y="4573"/>
                        </a:lnTo>
                        <a:lnTo>
                          <a:pt x="648" y="4900"/>
                        </a:lnTo>
                        <a:lnTo>
                          <a:pt x="665" y="5385"/>
                        </a:lnTo>
                        <a:lnTo>
                          <a:pt x="679" y="5746"/>
                        </a:lnTo>
                        <a:lnTo>
                          <a:pt x="1870" y="5813"/>
                        </a:lnTo>
                        <a:lnTo>
                          <a:pt x="1870" y="5746"/>
                        </a:lnTo>
                        <a:lnTo>
                          <a:pt x="2020" y="5764"/>
                        </a:lnTo>
                        <a:lnTo>
                          <a:pt x="2554" y="5804"/>
                        </a:lnTo>
                        <a:lnTo>
                          <a:pt x="2907" y="5764"/>
                        </a:lnTo>
                        <a:lnTo>
                          <a:pt x="3039" y="5689"/>
                        </a:lnTo>
                        <a:lnTo>
                          <a:pt x="3039" y="4900"/>
                        </a:lnTo>
                        <a:lnTo>
                          <a:pt x="3021" y="4613"/>
                        </a:lnTo>
                        <a:lnTo>
                          <a:pt x="2981" y="4304"/>
                        </a:lnTo>
                        <a:lnTo>
                          <a:pt x="2981" y="4128"/>
                        </a:lnTo>
                        <a:lnTo>
                          <a:pt x="2959" y="3877"/>
                        </a:lnTo>
                        <a:lnTo>
                          <a:pt x="3127" y="3806"/>
                        </a:lnTo>
                        <a:lnTo>
                          <a:pt x="3268" y="3696"/>
                        </a:lnTo>
                        <a:lnTo>
                          <a:pt x="3506" y="3497"/>
                        </a:lnTo>
                        <a:lnTo>
                          <a:pt x="3616" y="3449"/>
                        </a:lnTo>
                        <a:lnTo>
                          <a:pt x="3665" y="3343"/>
                        </a:lnTo>
                        <a:lnTo>
                          <a:pt x="3683" y="3184"/>
                        </a:lnTo>
                        <a:lnTo>
                          <a:pt x="3683" y="2920"/>
                        </a:lnTo>
                        <a:lnTo>
                          <a:pt x="3683" y="2222"/>
                        </a:lnTo>
                        <a:lnTo>
                          <a:pt x="3665" y="1746"/>
                        </a:lnTo>
                        <a:lnTo>
                          <a:pt x="3674" y="1283"/>
                        </a:lnTo>
                        <a:lnTo>
                          <a:pt x="3665" y="1146"/>
                        </a:lnTo>
                        <a:lnTo>
                          <a:pt x="3647" y="1075"/>
                        </a:lnTo>
                        <a:lnTo>
                          <a:pt x="3612" y="1031"/>
                        </a:lnTo>
                        <a:lnTo>
                          <a:pt x="3586" y="996"/>
                        </a:lnTo>
                        <a:lnTo>
                          <a:pt x="3409" y="886"/>
                        </a:lnTo>
                        <a:lnTo>
                          <a:pt x="3184" y="745"/>
                        </a:lnTo>
                        <a:lnTo>
                          <a:pt x="2959" y="630"/>
                        </a:lnTo>
                        <a:lnTo>
                          <a:pt x="2752" y="537"/>
                        </a:lnTo>
                        <a:lnTo>
                          <a:pt x="2615" y="485"/>
                        </a:lnTo>
                        <a:lnTo>
                          <a:pt x="2377" y="202"/>
                        </a:lnTo>
                        <a:lnTo>
                          <a:pt x="2302" y="92"/>
                        </a:lnTo>
                        <a:lnTo>
                          <a:pt x="2377" y="308"/>
                        </a:lnTo>
                        <a:lnTo>
                          <a:pt x="2404" y="348"/>
                        </a:lnTo>
                        <a:lnTo>
                          <a:pt x="2413" y="401"/>
                        </a:lnTo>
                        <a:lnTo>
                          <a:pt x="2430" y="454"/>
                        </a:lnTo>
                        <a:lnTo>
                          <a:pt x="2439" y="515"/>
                        </a:lnTo>
                        <a:lnTo>
                          <a:pt x="2413" y="626"/>
                        </a:lnTo>
                        <a:lnTo>
                          <a:pt x="2342" y="789"/>
                        </a:lnTo>
                        <a:lnTo>
                          <a:pt x="1932" y="2116"/>
                        </a:lnTo>
                        <a:lnTo>
                          <a:pt x="1728" y="1031"/>
                        </a:lnTo>
                        <a:lnTo>
                          <a:pt x="1591" y="573"/>
                        </a:lnTo>
                        <a:lnTo>
                          <a:pt x="1569" y="458"/>
                        </a:lnTo>
                        <a:lnTo>
                          <a:pt x="1569" y="348"/>
                        </a:lnTo>
                        <a:lnTo>
                          <a:pt x="1600" y="273"/>
                        </a:lnTo>
                        <a:lnTo>
                          <a:pt x="1680" y="0"/>
                        </a:lnTo>
                        <a:close/>
                      </a:path>
                    </a:pathLst>
                  </a:custGeom>
                  <a:solidFill>
                    <a:srgbClr val="5f5f7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731" name=""/>
                <p:cNvGrpSpPr/>
                <p:nvPr/>
              </p:nvGrpSpPr>
              <p:grpSpPr>
                <a:xfrm>
                  <a:off x="1084320" y="3176640"/>
                  <a:ext cx="456840" cy="766800"/>
                  <a:chOff x="1084320" y="3176640"/>
                  <a:chExt cx="456840" cy="766800"/>
                </a:xfrm>
              </p:grpSpPr>
              <p:sp>
                <p:nvSpPr>
                  <p:cNvPr id="732" name=""/>
                  <p:cNvSpPr/>
                  <p:nvPr/>
                </p:nvSpPr>
                <p:spPr>
                  <a:xfrm>
                    <a:off x="1403280" y="3894120"/>
                    <a:ext cx="30240" cy="39600"/>
                  </a:xfrm>
                  <a:prstGeom prst="ellipse">
                    <a:avLst/>
                  </a:prstGeom>
                  <a:solidFill>
                    <a:srgbClr val="000000"/>
                  </a:solidFill>
                  <a:ln w="12600">
                    <a:solidFill>
                      <a:srgbClr val="000000"/>
                    </a:solidFill>
                    <a:round/>
                  </a:ln>
                </p:spPr>
                <p:txBody>
                  <a:bodyPr lIns="96120" rIns="96120" tIns="-11520" bIns="-11520" anchor="t">
                    <a:noAutofit/>
                  </a:bodyPr>
                  <a:p>
                    <a:endParaRPr b="0" lang="en-US" sz="1800" spc="-1" strike="noStrike">
                      <a:solidFill>
                        <a:srgbClr val="ffffff"/>
                      </a:solidFill>
                      <a:latin typeface="Arial"/>
                    </a:endParaRPr>
                  </a:p>
                </p:txBody>
              </p:sp>
              <p:sp>
                <p:nvSpPr>
                  <p:cNvPr id="733" name=""/>
                  <p:cNvSpPr/>
                  <p:nvPr/>
                </p:nvSpPr>
                <p:spPr>
                  <a:xfrm>
                    <a:off x="1504800" y="3176640"/>
                    <a:ext cx="36360" cy="38160"/>
                  </a:xfrm>
                  <a:prstGeom prst="ellipse">
                    <a:avLst/>
                  </a:prstGeom>
                  <a:solidFill>
                    <a:srgbClr val="000000"/>
                  </a:solidFill>
                  <a:ln w="12600">
                    <a:solidFill>
                      <a:srgbClr val="000000"/>
                    </a:solidFill>
                    <a:round/>
                  </a:ln>
                </p:spPr>
                <p:txBody>
                  <a:bodyPr lIns="96120" rIns="96120" tIns="-12960" bIns="-12960" anchor="t">
                    <a:noAutofit/>
                  </a:bodyPr>
                  <a:p>
                    <a:endParaRPr b="0" lang="en-US" sz="1800" spc="-1" strike="noStrike">
                      <a:solidFill>
                        <a:srgbClr val="ffffff"/>
                      </a:solidFill>
                      <a:latin typeface="Arial"/>
                    </a:endParaRPr>
                  </a:p>
                </p:txBody>
              </p:sp>
              <p:sp>
                <p:nvSpPr>
                  <p:cNvPr id="734" name=""/>
                  <p:cNvSpPr/>
                  <p:nvPr/>
                </p:nvSpPr>
                <p:spPr>
                  <a:xfrm>
                    <a:off x="1084320" y="3903840"/>
                    <a:ext cx="33480" cy="39600"/>
                  </a:xfrm>
                  <a:prstGeom prst="ellipse">
                    <a:avLst/>
                  </a:prstGeom>
                  <a:solidFill>
                    <a:srgbClr val="000000"/>
                  </a:solidFill>
                  <a:ln w="12600">
                    <a:solidFill>
                      <a:srgbClr val="000000"/>
                    </a:solidFill>
                    <a:round/>
                  </a:ln>
                </p:spPr>
                <p:txBody>
                  <a:bodyPr lIns="96120" rIns="96120" tIns="-11520" bIns="-11520" anchor="t">
                    <a:noAutofit/>
                  </a:bodyPr>
                  <a:p>
                    <a:endParaRPr b="0" lang="en-US" sz="1800" spc="-1" strike="noStrike">
                      <a:solidFill>
                        <a:srgbClr val="ffffff"/>
                      </a:solidFill>
                      <a:latin typeface="Arial"/>
                    </a:endParaRPr>
                  </a:p>
                </p:txBody>
              </p:sp>
            </p:grpSp>
          </p:grpSp>
          <p:grpSp>
            <p:nvGrpSpPr>
              <p:cNvPr id="735" name=""/>
              <p:cNvGrpSpPr/>
              <p:nvPr/>
            </p:nvGrpSpPr>
            <p:grpSpPr>
              <a:xfrm>
                <a:off x="1014480" y="2297160"/>
                <a:ext cx="623880" cy="914760"/>
                <a:chOff x="1014480" y="2297160"/>
                <a:chExt cx="623880" cy="914760"/>
              </a:xfrm>
            </p:grpSpPr>
            <p:sp>
              <p:nvSpPr>
                <p:cNvPr id="736" name=""/>
                <p:cNvSpPr/>
                <p:nvPr/>
              </p:nvSpPr>
              <p:spPr>
                <a:xfrm>
                  <a:off x="1014480" y="2297160"/>
                  <a:ext cx="321120" cy="914760"/>
                </a:xfrm>
                <a:custGeom>
                  <a:avLst/>
                  <a:gdLst/>
                  <a:ahLst/>
                  <a:rect l="0" t="0" r="r" b="b"/>
                  <a:pathLst>
                    <a:path w="892" h="2541">
                      <a:moveTo>
                        <a:pt x="322" y="0"/>
                      </a:moveTo>
                      <a:lnTo>
                        <a:pt x="52" y="304"/>
                      </a:lnTo>
                      <a:lnTo>
                        <a:pt x="8" y="418"/>
                      </a:lnTo>
                      <a:lnTo>
                        <a:pt x="296" y="515"/>
                      </a:lnTo>
                      <a:lnTo>
                        <a:pt x="22" y="776"/>
                      </a:lnTo>
                      <a:lnTo>
                        <a:pt x="167" y="1071"/>
                      </a:lnTo>
                      <a:lnTo>
                        <a:pt x="397" y="1553"/>
                      </a:lnTo>
                      <a:lnTo>
                        <a:pt x="892" y="2541"/>
                      </a:lnTo>
                      <a:lnTo>
                        <a:pt x="0" y="789"/>
                      </a:lnTo>
                      <a:lnTo>
                        <a:pt x="265" y="529"/>
                      </a:lnTo>
                      <a:lnTo>
                        <a:pt x="0" y="432"/>
                      </a:lnTo>
                      <a:lnTo>
                        <a:pt x="52" y="304"/>
                      </a:lnTo>
                      <a:lnTo>
                        <a:pt x="32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37" name=""/>
                <p:cNvSpPr/>
                <p:nvPr/>
              </p:nvSpPr>
              <p:spPr>
                <a:xfrm>
                  <a:off x="1303200" y="2382840"/>
                  <a:ext cx="335160" cy="810000"/>
                </a:xfrm>
                <a:custGeom>
                  <a:avLst/>
                  <a:gdLst/>
                  <a:ahLst/>
                  <a:rect l="0" t="0" r="r" b="b"/>
                  <a:pathLst>
                    <a:path w="931" h="2250">
                      <a:moveTo>
                        <a:pt x="755" y="0"/>
                      </a:moveTo>
                      <a:lnTo>
                        <a:pt x="909" y="304"/>
                      </a:lnTo>
                      <a:lnTo>
                        <a:pt x="688" y="405"/>
                      </a:lnTo>
                      <a:lnTo>
                        <a:pt x="931" y="574"/>
                      </a:lnTo>
                      <a:lnTo>
                        <a:pt x="0" y="2250"/>
                      </a:lnTo>
                      <a:lnTo>
                        <a:pt x="900" y="574"/>
                      </a:lnTo>
                      <a:lnTo>
                        <a:pt x="671" y="405"/>
                      </a:lnTo>
                      <a:lnTo>
                        <a:pt x="900" y="299"/>
                      </a:lnTo>
                      <a:lnTo>
                        <a:pt x="755"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738" name=""/>
              <p:cNvGrpSpPr/>
              <p:nvPr/>
            </p:nvGrpSpPr>
            <p:grpSpPr>
              <a:xfrm>
                <a:off x="755640" y="2844720"/>
                <a:ext cx="1389240" cy="775440"/>
                <a:chOff x="755640" y="2844720"/>
                <a:chExt cx="1389240" cy="775440"/>
              </a:xfrm>
            </p:grpSpPr>
            <p:grpSp>
              <p:nvGrpSpPr>
                <p:cNvPr id="739" name=""/>
                <p:cNvGrpSpPr/>
                <p:nvPr/>
              </p:nvGrpSpPr>
              <p:grpSpPr>
                <a:xfrm>
                  <a:off x="755640" y="2844720"/>
                  <a:ext cx="1389240" cy="732240"/>
                  <a:chOff x="755640" y="2844720"/>
                  <a:chExt cx="1389240" cy="732240"/>
                </a:xfrm>
              </p:grpSpPr>
              <p:sp>
                <p:nvSpPr>
                  <p:cNvPr id="740" name=""/>
                  <p:cNvSpPr/>
                  <p:nvPr/>
                </p:nvSpPr>
                <p:spPr>
                  <a:xfrm>
                    <a:off x="755640" y="2844720"/>
                    <a:ext cx="1368720" cy="732240"/>
                  </a:xfrm>
                  <a:custGeom>
                    <a:avLst/>
                    <a:gdLst/>
                    <a:ahLst/>
                    <a:rect l="0" t="0" r="r" b="b"/>
                    <a:pathLst>
                      <a:path w="3802" h="2034">
                        <a:moveTo>
                          <a:pt x="0" y="680"/>
                        </a:moveTo>
                        <a:lnTo>
                          <a:pt x="868" y="0"/>
                        </a:lnTo>
                        <a:lnTo>
                          <a:pt x="917" y="0"/>
                        </a:lnTo>
                        <a:lnTo>
                          <a:pt x="2055" y="1465"/>
                        </a:lnTo>
                        <a:lnTo>
                          <a:pt x="2404" y="1341"/>
                        </a:lnTo>
                        <a:lnTo>
                          <a:pt x="2435" y="1288"/>
                        </a:lnTo>
                        <a:lnTo>
                          <a:pt x="2452" y="1235"/>
                        </a:lnTo>
                        <a:lnTo>
                          <a:pt x="3643" y="741"/>
                        </a:lnTo>
                        <a:lnTo>
                          <a:pt x="3722" y="706"/>
                        </a:lnTo>
                        <a:lnTo>
                          <a:pt x="3766" y="706"/>
                        </a:lnTo>
                        <a:lnTo>
                          <a:pt x="3775" y="719"/>
                        </a:lnTo>
                        <a:lnTo>
                          <a:pt x="3793" y="728"/>
                        </a:lnTo>
                        <a:lnTo>
                          <a:pt x="3802" y="750"/>
                        </a:lnTo>
                        <a:lnTo>
                          <a:pt x="3802" y="772"/>
                        </a:lnTo>
                        <a:lnTo>
                          <a:pt x="3802" y="816"/>
                        </a:lnTo>
                        <a:lnTo>
                          <a:pt x="3775" y="838"/>
                        </a:lnTo>
                        <a:lnTo>
                          <a:pt x="3722" y="878"/>
                        </a:lnTo>
                        <a:lnTo>
                          <a:pt x="3458" y="1019"/>
                        </a:lnTo>
                        <a:lnTo>
                          <a:pt x="2047" y="1571"/>
                        </a:lnTo>
                        <a:lnTo>
                          <a:pt x="1075" y="2034"/>
                        </a:lnTo>
                        <a:lnTo>
                          <a:pt x="1018" y="2017"/>
                        </a:lnTo>
                        <a:lnTo>
                          <a:pt x="970" y="1977"/>
                        </a:lnTo>
                        <a:lnTo>
                          <a:pt x="0" y="68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741" name=""/>
                  <p:cNvGrpSpPr/>
                  <p:nvPr/>
                </p:nvGrpSpPr>
                <p:grpSpPr>
                  <a:xfrm>
                    <a:off x="1130400" y="2900520"/>
                    <a:ext cx="1014480" cy="534960"/>
                    <a:chOff x="1130400" y="2900520"/>
                    <a:chExt cx="1014480" cy="534960"/>
                  </a:xfrm>
                </p:grpSpPr>
                <p:sp>
                  <p:nvSpPr>
                    <p:cNvPr id="742" name=""/>
                    <p:cNvSpPr/>
                    <p:nvPr/>
                  </p:nvSpPr>
                  <p:spPr>
                    <a:xfrm>
                      <a:off x="1130400" y="2900520"/>
                      <a:ext cx="331560" cy="465120"/>
                    </a:xfrm>
                    <a:prstGeom prst="line">
                      <a:avLst/>
                    </a:prstGeom>
                    <a:ln w="25560">
                      <a:solidFill>
                        <a:srgbClr val="3f3f3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nvGrpSpPr>
                    <p:cNvPr id="743" name=""/>
                    <p:cNvGrpSpPr/>
                    <p:nvPr/>
                  </p:nvGrpSpPr>
                  <p:grpSpPr>
                    <a:xfrm>
                      <a:off x="1544760" y="3103560"/>
                      <a:ext cx="600120" cy="331920"/>
                      <a:chOff x="1544760" y="3103560"/>
                      <a:chExt cx="600120" cy="331920"/>
                    </a:xfrm>
                  </p:grpSpPr>
                  <p:sp>
                    <p:nvSpPr>
                      <p:cNvPr id="744" name=""/>
                      <p:cNvSpPr/>
                      <p:nvPr/>
                    </p:nvSpPr>
                    <p:spPr>
                      <a:xfrm flipV="1">
                        <a:off x="1544760" y="3170160"/>
                        <a:ext cx="419040" cy="265320"/>
                      </a:xfrm>
                      <a:prstGeom prst="line">
                        <a:avLst/>
                      </a:prstGeom>
                      <a:ln w="25560">
                        <a:solidFill>
                          <a:srgbClr val="3f3f3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45" name=""/>
                      <p:cNvSpPr/>
                      <p:nvPr/>
                    </p:nvSpPr>
                    <p:spPr>
                      <a:xfrm flipV="1">
                        <a:off x="2055960" y="3103560"/>
                        <a:ext cx="27000" cy="127080"/>
                      </a:xfrm>
                      <a:prstGeom prst="line">
                        <a:avLst/>
                      </a:prstGeom>
                      <a:ln w="25560">
                        <a:solidFill>
                          <a:srgbClr val="3f3f3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46" name=""/>
                      <p:cNvSpPr/>
                      <p:nvPr/>
                    </p:nvSpPr>
                    <p:spPr>
                      <a:xfrm flipH="1">
                        <a:off x="1635120" y="3157560"/>
                        <a:ext cx="509760" cy="146160"/>
                      </a:xfrm>
                      <a:prstGeom prst="line">
                        <a:avLst/>
                      </a:prstGeom>
                      <a:ln w="12600">
                        <a:solidFill>
                          <a:srgbClr val="3f3f3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grpSp>
            <p:grpSp>
              <p:nvGrpSpPr>
                <p:cNvPr id="747" name=""/>
                <p:cNvGrpSpPr/>
                <p:nvPr/>
              </p:nvGrpSpPr>
              <p:grpSpPr>
                <a:xfrm>
                  <a:off x="1108080" y="3232080"/>
                  <a:ext cx="421200" cy="388080"/>
                  <a:chOff x="1108080" y="3232080"/>
                  <a:chExt cx="421200" cy="388080"/>
                </a:xfrm>
              </p:grpSpPr>
              <p:sp>
                <p:nvSpPr>
                  <p:cNvPr id="748" name=""/>
                  <p:cNvSpPr/>
                  <p:nvPr/>
                </p:nvSpPr>
                <p:spPr>
                  <a:xfrm>
                    <a:off x="1108080" y="3322800"/>
                    <a:ext cx="421200" cy="297360"/>
                  </a:xfrm>
                  <a:custGeom>
                    <a:avLst/>
                    <a:gdLst/>
                    <a:ahLst/>
                    <a:rect l="0" t="0" r="r" b="b"/>
                    <a:pathLst>
                      <a:path w="1170" h="826">
                        <a:moveTo>
                          <a:pt x="1108" y="499"/>
                        </a:moveTo>
                        <a:lnTo>
                          <a:pt x="1055" y="512"/>
                        </a:lnTo>
                        <a:lnTo>
                          <a:pt x="1011" y="499"/>
                        </a:lnTo>
                        <a:lnTo>
                          <a:pt x="976" y="472"/>
                        </a:lnTo>
                        <a:lnTo>
                          <a:pt x="928" y="464"/>
                        </a:lnTo>
                        <a:lnTo>
                          <a:pt x="888" y="393"/>
                        </a:lnTo>
                        <a:lnTo>
                          <a:pt x="856" y="367"/>
                        </a:lnTo>
                        <a:lnTo>
                          <a:pt x="834" y="375"/>
                        </a:lnTo>
                        <a:lnTo>
                          <a:pt x="812" y="389"/>
                        </a:lnTo>
                        <a:lnTo>
                          <a:pt x="794" y="402"/>
                        </a:lnTo>
                        <a:lnTo>
                          <a:pt x="781" y="428"/>
                        </a:lnTo>
                        <a:lnTo>
                          <a:pt x="777" y="450"/>
                        </a:lnTo>
                        <a:lnTo>
                          <a:pt x="750" y="464"/>
                        </a:lnTo>
                        <a:lnTo>
                          <a:pt x="680" y="490"/>
                        </a:lnTo>
                        <a:lnTo>
                          <a:pt x="605" y="499"/>
                        </a:lnTo>
                        <a:lnTo>
                          <a:pt x="569" y="486"/>
                        </a:lnTo>
                        <a:lnTo>
                          <a:pt x="538" y="464"/>
                        </a:lnTo>
                        <a:lnTo>
                          <a:pt x="512" y="464"/>
                        </a:lnTo>
                        <a:lnTo>
                          <a:pt x="464" y="402"/>
                        </a:lnTo>
                        <a:lnTo>
                          <a:pt x="428" y="375"/>
                        </a:lnTo>
                        <a:lnTo>
                          <a:pt x="375" y="269"/>
                        </a:lnTo>
                        <a:lnTo>
                          <a:pt x="336" y="194"/>
                        </a:lnTo>
                        <a:lnTo>
                          <a:pt x="314" y="145"/>
                        </a:lnTo>
                        <a:lnTo>
                          <a:pt x="282" y="74"/>
                        </a:lnTo>
                        <a:lnTo>
                          <a:pt x="264" y="44"/>
                        </a:lnTo>
                        <a:lnTo>
                          <a:pt x="238" y="35"/>
                        </a:lnTo>
                        <a:lnTo>
                          <a:pt x="211" y="35"/>
                        </a:lnTo>
                        <a:lnTo>
                          <a:pt x="198" y="57"/>
                        </a:lnTo>
                        <a:lnTo>
                          <a:pt x="207" y="105"/>
                        </a:lnTo>
                        <a:lnTo>
                          <a:pt x="220" y="145"/>
                        </a:lnTo>
                        <a:lnTo>
                          <a:pt x="238" y="194"/>
                        </a:lnTo>
                        <a:lnTo>
                          <a:pt x="238" y="234"/>
                        </a:lnTo>
                        <a:lnTo>
                          <a:pt x="189" y="149"/>
                        </a:lnTo>
                        <a:lnTo>
                          <a:pt x="180" y="105"/>
                        </a:lnTo>
                        <a:lnTo>
                          <a:pt x="158" y="52"/>
                        </a:lnTo>
                        <a:lnTo>
                          <a:pt x="141" y="17"/>
                        </a:lnTo>
                        <a:lnTo>
                          <a:pt x="114" y="0"/>
                        </a:lnTo>
                        <a:lnTo>
                          <a:pt x="88" y="0"/>
                        </a:lnTo>
                        <a:lnTo>
                          <a:pt x="61" y="13"/>
                        </a:lnTo>
                        <a:lnTo>
                          <a:pt x="48" y="30"/>
                        </a:lnTo>
                        <a:lnTo>
                          <a:pt x="88" y="114"/>
                        </a:lnTo>
                        <a:lnTo>
                          <a:pt x="61" y="101"/>
                        </a:lnTo>
                        <a:lnTo>
                          <a:pt x="35" y="101"/>
                        </a:lnTo>
                        <a:lnTo>
                          <a:pt x="13" y="110"/>
                        </a:lnTo>
                        <a:lnTo>
                          <a:pt x="0" y="123"/>
                        </a:lnTo>
                        <a:lnTo>
                          <a:pt x="61" y="239"/>
                        </a:lnTo>
                        <a:lnTo>
                          <a:pt x="88" y="331"/>
                        </a:lnTo>
                        <a:lnTo>
                          <a:pt x="61" y="309"/>
                        </a:lnTo>
                        <a:lnTo>
                          <a:pt x="35" y="300"/>
                        </a:lnTo>
                        <a:lnTo>
                          <a:pt x="8" y="309"/>
                        </a:lnTo>
                        <a:lnTo>
                          <a:pt x="0" y="331"/>
                        </a:lnTo>
                        <a:lnTo>
                          <a:pt x="48" y="397"/>
                        </a:lnTo>
                        <a:lnTo>
                          <a:pt x="61" y="433"/>
                        </a:lnTo>
                        <a:lnTo>
                          <a:pt x="61" y="464"/>
                        </a:lnTo>
                        <a:lnTo>
                          <a:pt x="88" y="499"/>
                        </a:lnTo>
                        <a:lnTo>
                          <a:pt x="105" y="538"/>
                        </a:lnTo>
                        <a:lnTo>
                          <a:pt x="123" y="587"/>
                        </a:lnTo>
                        <a:lnTo>
                          <a:pt x="141" y="609"/>
                        </a:lnTo>
                        <a:lnTo>
                          <a:pt x="149" y="623"/>
                        </a:lnTo>
                        <a:lnTo>
                          <a:pt x="167" y="637"/>
                        </a:lnTo>
                        <a:lnTo>
                          <a:pt x="336" y="729"/>
                        </a:lnTo>
                        <a:lnTo>
                          <a:pt x="389" y="769"/>
                        </a:lnTo>
                        <a:lnTo>
                          <a:pt x="406" y="791"/>
                        </a:lnTo>
                        <a:lnTo>
                          <a:pt x="446" y="808"/>
                        </a:lnTo>
                        <a:lnTo>
                          <a:pt x="472" y="822"/>
                        </a:lnTo>
                        <a:lnTo>
                          <a:pt x="499" y="826"/>
                        </a:lnTo>
                        <a:lnTo>
                          <a:pt x="631" y="808"/>
                        </a:lnTo>
                        <a:lnTo>
                          <a:pt x="750" y="800"/>
                        </a:lnTo>
                        <a:lnTo>
                          <a:pt x="860" y="786"/>
                        </a:lnTo>
                        <a:lnTo>
                          <a:pt x="972" y="769"/>
                        </a:lnTo>
                        <a:lnTo>
                          <a:pt x="1073" y="738"/>
                        </a:lnTo>
                        <a:lnTo>
                          <a:pt x="1170" y="659"/>
                        </a:lnTo>
                        <a:lnTo>
                          <a:pt x="1108" y="499"/>
                        </a:lnTo>
                        <a:close/>
                      </a:path>
                    </a:pathLst>
                  </a:custGeom>
                  <a:solidFill>
                    <a:srgbClr val="ffdfb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9" name=""/>
                  <p:cNvSpPr/>
                  <p:nvPr/>
                </p:nvSpPr>
                <p:spPr>
                  <a:xfrm>
                    <a:off x="1195560" y="3411360"/>
                    <a:ext cx="71640" cy="127440"/>
                  </a:xfrm>
                  <a:custGeom>
                    <a:avLst/>
                    <a:gdLst/>
                    <a:ahLst/>
                    <a:rect l="0" t="0" r="r" b="b"/>
                    <a:pathLst>
                      <a:path w="199" h="354">
                        <a:moveTo>
                          <a:pt x="0" y="0"/>
                        </a:moveTo>
                        <a:lnTo>
                          <a:pt x="57" y="146"/>
                        </a:lnTo>
                        <a:lnTo>
                          <a:pt x="115" y="243"/>
                        </a:lnTo>
                        <a:lnTo>
                          <a:pt x="155" y="284"/>
                        </a:lnTo>
                        <a:lnTo>
                          <a:pt x="168" y="332"/>
                        </a:lnTo>
                        <a:lnTo>
                          <a:pt x="172" y="350"/>
                        </a:lnTo>
                        <a:lnTo>
                          <a:pt x="199" y="354"/>
                        </a:lnTo>
                        <a:lnTo>
                          <a:pt x="172" y="354"/>
                        </a:lnTo>
                        <a:lnTo>
                          <a:pt x="164" y="332"/>
                        </a:lnTo>
                        <a:lnTo>
                          <a:pt x="155" y="301"/>
                        </a:lnTo>
                        <a:lnTo>
                          <a:pt x="79" y="195"/>
                        </a:lnTo>
                        <a:lnTo>
                          <a:pt x="48" y="128"/>
                        </a:lnTo>
                        <a:lnTo>
                          <a:pt x="0" y="0"/>
                        </a:lnTo>
                        <a:close/>
                      </a:path>
                    </a:pathLst>
                  </a:custGeom>
                  <a:solidFill>
                    <a:srgbClr val="ff7f3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0" name=""/>
                  <p:cNvSpPr/>
                  <p:nvPr/>
                </p:nvSpPr>
                <p:spPr>
                  <a:xfrm>
                    <a:off x="1139760" y="3368520"/>
                    <a:ext cx="109800" cy="194040"/>
                  </a:xfrm>
                  <a:custGeom>
                    <a:avLst/>
                    <a:gdLst/>
                    <a:ahLst/>
                    <a:rect l="0" t="0" r="r" b="b"/>
                    <a:pathLst>
                      <a:path w="305" h="539">
                        <a:moveTo>
                          <a:pt x="0" y="0"/>
                        </a:moveTo>
                        <a:lnTo>
                          <a:pt x="66" y="217"/>
                        </a:lnTo>
                        <a:lnTo>
                          <a:pt x="74" y="256"/>
                        </a:lnTo>
                        <a:lnTo>
                          <a:pt x="92" y="278"/>
                        </a:lnTo>
                        <a:lnTo>
                          <a:pt x="190" y="425"/>
                        </a:lnTo>
                        <a:lnTo>
                          <a:pt x="221" y="456"/>
                        </a:lnTo>
                        <a:lnTo>
                          <a:pt x="234" y="478"/>
                        </a:lnTo>
                        <a:lnTo>
                          <a:pt x="247" y="513"/>
                        </a:lnTo>
                        <a:lnTo>
                          <a:pt x="274" y="539"/>
                        </a:lnTo>
                        <a:lnTo>
                          <a:pt x="305" y="539"/>
                        </a:lnTo>
                        <a:lnTo>
                          <a:pt x="274" y="539"/>
                        </a:lnTo>
                        <a:lnTo>
                          <a:pt x="243" y="517"/>
                        </a:lnTo>
                        <a:lnTo>
                          <a:pt x="234" y="487"/>
                        </a:lnTo>
                        <a:lnTo>
                          <a:pt x="225" y="469"/>
                        </a:lnTo>
                        <a:lnTo>
                          <a:pt x="172" y="397"/>
                        </a:lnTo>
                        <a:lnTo>
                          <a:pt x="123" y="336"/>
                        </a:lnTo>
                        <a:lnTo>
                          <a:pt x="92" y="292"/>
                        </a:lnTo>
                        <a:lnTo>
                          <a:pt x="74" y="261"/>
                        </a:lnTo>
                        <a:lnTo>
                          <a:pt x="26" y="101"/>
                        </a:lnTo>
                        <a:lnTo>
                          <a:pt x="0" y="0"/>
                        </a:lnTo>
                        <a:close/>
                      </a:path>
                    </a:pathLst>
                  </a:custGeom>
                  <a:solidFill>
                    <a:srgbClr val="ff7f3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1" name=""/>
                  <p:cNvSpPr/>
                  <p:nvPr/>
                </p:nvSpPr>
                <p:spPr>
                  <a:xfrm>
                    <a:off x="1235160" y="3470400"/>
                    <a:ext cx="294120" cy="149760"/>
                  </a:xfrm>
                  <a:custGeom>
                    <a:avLst/>
                    <a:gdLst/>
                    <a:ahLst/>
                    <a:rect l="0" t="0" r="r" b="b"/>
                    <a:pathLst>
                      <a:path w="817" h="416">
                        <a:moveTo>
                          <a:pt x="756" y="101"/>
                        </a:moveTo>
                        <a:lnTo>
                          <a:pt x="703" y="115"/>
                        </a:lnTo>
                        <a:lnTo>
                          <a:pt x="659" y="101"/>
                        </a:lnTo>
                        <a:lnTo>
                          <a:pt x="628" y="79"/>
                        </a:lnTo>
                        <a:lnTo>
                          <a:pt x="578" y="70"/>
                        </a:lnTo>
                        <a:lnTo>
                          <a:pt x="538" y="0"/>
                        </a:lnTo>
                        <a:lnTo>
                          <a:pt x="525" y="13"/>
                        </a:lnTo>
                        <a:lnTo>
                          <a:pt x="516" y="26"/>
                        </a:lnTo>
                        <a:lnTo>
                          <a:pt x="503" y="48"/>
                        </a:lnTo>
                        <a:lnTo>
                          <a:pt x="472" y="52"/>
                        </a:lnTo>
                        <a:lnTo>
                          <a:pt x="455" y="52"/>
                        </a:lnTo>
                        <a:lnTo>
                          <a:pt x="433" y="35"/>
                        </a:lnTo>
                        <a:lnTo>
                          <a:pt x="428" y="57"/>
                        </a:lnTo>
                        <a:lnTo>
                          <a:pt x="402" y="70"/>
                        </a:lnTo>
                        <a:lnTo>
                          <a:pt x="336" y="92"/>
                        </a:lnTo>
                        <a:lnTo>
                          <a:pt x="371" y="97"/>
                        </a:lnTo>
                        <a:lnTo>
                          <a:pt x="428" y="79"/>
                        </a:lnTo>
                        <a:lnTo>
                          <a:pt x="450" y="92"/>
                        </a:lnTo>
                        <a:lnTo>
                          <a:pt x="464" y="115"/>
                        </a:lnTo>
                        <a:lnTo>
                          <a:pt x="441" y="124"/>
                        </a:lnTo>
                        <a:lnTo>
                          <a:pt x="486" y="133"/>
                        </a:lnTo>
                        <a:lnTo>
                          <a:pt x="450" y="142"/>
                        </a:lnTo>
                        <a:lnTo>
                          <a:pt x="486" y="142"/>
                        </a:lnTo>
                        <a:lnTo>
                          <a:pt x="468" y="159"/>
                        </a:lnTo>
                        <a:lnTo>
                          <a:pt x="486" y="155"/>
                        </a:lnTo>
                        <a:lnTo>
                          <a:pt x="503" y="159"/>
                        </a:lnTo>
                        <a:lnTo>
                          <a:pt x="503" y="181"/>
                        </a:lnTo>
                        <a:lnTo>
                          <a:pt x="472" y="208"/>
                        </a:lnTo>
                        <a:lnTo>
                          <a:pt x="446" y="212"/>
                        </a:lnTo>
                        <a:lnTo>
                          <a:pt x="393" y="230"/>
                        </a:lnTo>
                        <a:lnTo>
                          <a:pt x="349" y="230"/>
                        </a:lnTo>
                        <a:lnTo>
                          <a:pt x="300" y="230"/>
                        </a:lnTo>
                        <a:lnTo>
                          <a:pt x="256" y="212"/>
                        </a:lnTo>
                        <a:lnTo>
                          <a:pt x="217" y="199"/>
                        </a:lnTo>
                        <a:lnTo>
                          <a:pt x="189" y="208"/>
                        </a:lnTo>
                        <a:lnTo>
                          <a:pt x="167" y="217"/>
                        </a:lnTo>
                        <a:lnTo>
                          <a:pt x="136" y="230"/>
                        </a:lnTo>
                        <a:lnTo>
                          <a:pt x="101" y="212"/>
                        </a:lnTo>
                        <a:lnTo>
                          <a:pt x="114" y="239"/>
                        </a:lnTo>
                        <a:lnTo>
                          <a:pt x="101" y="256"/>
                        </a:lnTo>
                        <a:lnTo>
                          <a:pt x="101" y="269"/>
                        </a:lnTo>
                        <a:lnTo>
                          <a:pt x="83" y="296"/>
                        </a:lnTo>
                        <a:lnTo>
                          <a:pt x="57" y="305"/>
                        </a:lnTo>
                        <a:lnTo>
                          <a:pt x="35" y="296"/>
                        </a:lnTo>
                        <a:lnTo>
                          <a:pt x="22" y="315"/>
                        </a:lnTo>
                        <a:lnTo>
                          <a:pt x="0" y="323"/>
                        </a:lnTo>
                        <a:lnTo>
                          <a:pt x="44" y="359"/>
                        </a:lnTo>
                        <a:lnTo>
                          <a:pt x="61" y="381"/>
                        </a:lnTo>
                        <a:lnTo>
                          <a:pt x="101" y="398"/>
                        </a:lnTo>
                        <a:lnTo>
                          <a:pt x="127" y="412"/>
                        </a:lnTo>
                        <a:lnTo>
                          <a:pt x="154" y="416"/>
                        </a:lnTo>
                        <a:lnTo>
                          <a:pt x="287" y="398"/>
                        </a:lnTo>
                        <a:lnTo>
                          <a:pt x="402" y="390"/>
                        </a:lnTo>
                        <a:lnTo>
                          <a:pt x="512" y="376"/>
                        </a:lnTo>
                        <a:lnTo>
                          <a:pt x="623" y="359"/>
                        </a:lnTo>
                        <a:lnTo>
                          <a:pt x="720" y="332"/>
                        </a:lnTo>
                        <a:lnTo>
                          <a:pt x="817" y="252"/>
                        </a:lnTo>
                        <a:lnTo>
                          <a:pt x="756" y="101"/>
                        </a:lnTo>
                        <a:close/>
                      </a:path>
                    </a:pathLst>
                  </a:custGeom>
                  <a:solidFill>
                    <a:srgbClr val="ff9f7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2" name=""/>
                  <p:cNvSpPr/>
                  <p:nvPr/>
                </p:nvSpPr>
                <p:spPr>
                  <a:xfrm>
                    <a:off x="1139760" y="3448080"/>
                    <a:ext cx="89280" cy="127440"/>
                  </a:xfrm>
                  <a:custGeom>
                    <a:avLst/>
                    <a:gdLst/>
                    <a:ahLst/>
                    <a:rect l="0" t="0" r="r" b="b"/>
                    <a:pathLst>
                      <a:path w="248" h="354">
                        <a:moveTo>
                          <a:pt x="0" y="0"/>
                        </a:moveTo>
                        <a:lnTo>
                          <a:pt x="44" y="124"/>
                        </a:lnTo>
                        <a:lnTo>
                          <a:pt x="57" y="168"/>
                        </a:lnTo>
                        <a:lnTo>
                          <a:pt x="80" y="186"/>
                        </a:lnTo>
                        <a:lnTo>
                          <a:pt x="124" y="243"/>
                        </a:lnTo>
                        <a:lnTo>
                          <a:pt x="146" y="270"/>
                        </a:lnTo>
                        <a:lnTo>
                          <a:pt x="222" y="345"/>
                        </a:lnTo>
                        <a:lnTo>
                          <a:pt x="248" y="354"/>
                        </a:lnTo>
                        <a:lnTo>
                          <a:pt x="187" y="315"/>
                        </a:lnTo>
                        <a:lnTo>
                          <a:pt x="124" y="252"/>
                        </a:lnTo>
                        <a:lnTo>
                          <a:pt x="80" y="199"/>
                        </a:lnTo>
                        <a:lnTo>
                          <a:pt x="57" y="155"/>
                        </a:lnTo>
                        <a:lnTo>
                          <a:pt x="17" y="70"/>
                        </a:lnTo>
                        <a:lnTo>
                          <a:pt x="0" y="0"/>
                        </a:lnTo>
                        <a:close/>
                      </a:path>
                    </a:pathLst>
                  </a:custGeom>
                  <a:solidFill>
                    <a:srgbClr val="ff7f3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3" name=""/>
                  <p:cNvSpPr/>
                  <p:nvPr/>
                </p:nvSpPr>
                <p:spPr>
                  <a:xfrm>
                    <a:off x="1386000" y="3232080"/>
                    <a:ext cx="133560" cy="143280"/>
                  </a:xfrm>
                  <a:custGeom>
                    <a:avLst/>
                    <a:gdLst/>
                    <a:ahLst/>
                    <a:rect l="0" t="0" r="r" b="b"/>
                    <a:pathLst>
                      <a:path w="371" h="398">
                        <a:moveTo>
                          <a:pt x="0" y="0"/>
                        </a:moveTo>
                        <a:lnTo>
                          <a:pt x="119" y="17"/>
                        </a:lnTo>
                        <a:lnTo>
                          <a:pt x="186" y="39"/>
                        </a:lnTo>
                        <a:lnTo>
                          <a:pt x="239" y="61"/>
                        </a:lnTo>
                        <a:lnTo>
                          <a:pt x="269" y="88"/>
                        </a:lnTo>
                        <a:lnTo>
                          <a:pt x="287" y="102"/>
                        </a:lnTo>
                        <a:lnTo>
                          <a:pt x="300" y="120"/>
                        </a:lnTo>
                        <a:lnTo>
                          <a:pt x="305" y="137"/>
                        </a:lnTo>
                        <a:lnTo>
                          <a:pt x="300" y="159"/>
                        </a:lnTo>
                        <a:lnTo>
                          <a:pt x="296" y="177"/>
                        </a:lnTo>
                        <a:lnTo>
                          <a:pt x="274" y="190"/>
                        </a:lnTo>
                        <a:lnTo>
                          <a:pt x="256" y="190"/>
                        </a:lnTo>
                        <a:lnTo>
                          <a:pt x="243" y="199"/>
                        </a:lnTo>
                        <a:lnTo>
                          <a:pt x="256" y="203"/>
                        </a:lnTo>
                        <a:lnTo>
                          <a:pt x="274" y="212"/>
                        </a:lnTo>
                        <a:lnTo>
                          <a:pt x="305" y="225"/>
                        </a:lnTo>
                        <a:lnTo>
                          <a:pt x="314" y="247"/>
                        </a:lnTo>
                        <a:lnTo>
                          <a:pt x="327" y="261"/>
                        </a:lnTo>
                        <a:lnTo>
                          <a:pt x="331" y="269"/>
                        </a:lnTo>
                        <a:lnTo>
                          <a:pt x="322" y="292"/>
                        </a:lnTo>
                        <a:lnTo>
                          <a:pt x="349" y="306"/>
                        </a:lnTo>
                        <a:lnTo>
                          <a:pt x="367" y="323"/>
                        </a:lnTo>
                        <a:lnTo>
                          <a:pt x="371" y="328"/>
                        </a:lnTo>
                        <a:lnTo>
                          <a:pt x="371" y="359"/>
                        </a:lnTo>
                        <a:lnTo>
                          <a:pt x="367" y="372"/>
                        </a:lnTo>
                        <a:lnTo>
                          <a:pt x="305" y="398"/>
                        </a:lnTo>
                        <a:lnTo>
                          <a:pt x="0" y="0"/>
                        </a:lnTo>
                        <a:close/>
                      </a:path>
                    </a:pathLst>
                  </a:custGeom>
                  <a:solidFill>
                    <a:srgbClr val="ffdfb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4" name=""/>
                  <p:cNvSpPr/>
                  <p:nvPr/>
                </p:nvSpPr>
                <p:spPr>
                  <a:xfrm>
                    <a:off x="1447920" y="3295800"/>
                    <a:ext cx="22680" cy="3600"/>
                  </a:xfrm>
                  <a:custGeom>
                    <a:avLst/>
                    <a:gdLst/>
                    <a:ahLst/>
                    <a:rect l="0" t="0" r="r" b="b"/>
                    <a:pathLst>
                      <a:path w="63" h="10">
                        <a:moveTo>
                          <a:pt x="0" y="10"/>
                        </a:moveTo>
                        <a:lnTo>
                          <a:pt x="18" y="5"/>
                        </a:lnTo>
                        <a:lnTo>
                          <a:pt x="40" y="5"/>
                        </a:lnTo>
                        <a:lnTo>
                          <a:pt x="59" y="5"/>
                        </a:lnTo>
                        <a:lnTo>
                          <a:pt x="63" y="5"/>
                        </a:lnTo>
                        <a:lnTo>
                          <a:pt x="50" y="0"/>
                        </a:lnTo>
                        <a:lnTo>
                          <a:pt x="31" y="0"/>
                        </a:lnTo>
                        <a:lnTo>
                          <a:pt x="18" y="5"/>
                        </a:lnTo>
                        <a:lnTo>
                          <a:pt x="0" y="10"/>
                        </a:lnTo>
                        <a:close/>
                      </a:path>
                    </a:pathLst>
                  </a:custGeom>
                  <a:solidFill>
                    <a:srgbClr val="ff7f3f"/>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grpSp>
          </p:grpSp>
          <p:sp>
            <p:nvSpPr>
              <p:cNvPr id="755" name=""/>
              <p:cNvSpPr/>
              <p:nvPr/>
            </p:nvSpPr>
            <p:spPr>
              <a:xfrm>
                <a:off x="911160" y="4278240"/>
                <a:ext cx="773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sp>
        <p:nvSpPr>
          <p:cNvPr id="756" name=""/>
          <p:cNvSpPr txBox="1"/>
          <p:nvPr/>
        </p:nvSpPr>
        <p:spPr>
          <a:xfrm>
            <a:off x="2209680" y="1981080"/>
            <a:ext cx="6172200" cy="3378240"/>
          </a:xfrm>
          <a:prstGeom prst="rect">
            <a:avLst/>
          </a:prstGeom>
          <a:noFill/>
          <a:ln w="0">
            <a:noFill/>
          </a:ln>
        </p:spPr>
        <p:txBody>
          <a:bodyPr lIns="0" rIns="0" tIns="0" bIns="0" anchor="t">
            <a:noAutofit/>
          </a:bodyPr>
          <a:p>
            <a:pPr marL="457200">
              <a:lnSpc>
                <a:spcPct val="100000"/>
              </a:lnSpc>
            </a:pPr>
            <a:r>
              <a:rPr b="1" lang="en-US" sz="2400" spc="-1" strike="noStrike">
                <a:solidFill>
                  <a:srgbClr val="000000"/>
                </a:solidFill>
                <a:latin typeface="Arial"/>
                <a:ea typeface="Arial"/>
              </a:rPr>
              <a:t>4.</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Contrast and record transactions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related to sales and purchases</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under the periodic and the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perpetual inventory systems.</a:t>
            </a:r>
            <a:endParaRPr b="0" lang="en-US" sz="2400" spc="-1" strike="noStrike">
              <a:solidFill>
                <a:srgbClr val="ffffff"/>
              </a:solidFill>
              <a:latin typeface="Arial"/>
            </a:endParaRPr>
          </a:p>
          <a:p>
            <a:pPr marL="457200">
              <a:lnSpc>
                <a:spcPct val="100000"/>
              </a:lnSpc>
            </a:pPr>
            <a:r>
              <a:rPr b="1" lang="en-US" sz="2400" spc="-1" strike="noStrike">
                <a:solidFill>
                  <a:srgbClr val="000000"/>
                </a:solidFill>
                <a:latin typeface="Arial"/>
                <a:ea typeface="Arial"/>
              </a:rPr>
              <a:t>5.</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Prepare a work sheet and closing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entries for a merchandising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concern using the periodic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inventory syste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grpSp>
        <p:nvGrpSpPr>
          <p:cNvPr id="757" name=""/>
          <p:cNvGrpSpPr/>
          <p:nvPr/>
        </p:nvGrpSpPr>
        <p:grpSpPr>
          <a:xfrm>
            <a:off x="2454120" y="1830240"/>
            <a:ext cx="5978520" cy="3097080"/>
            <a:chOff x="2454120" y="1830240"/>
            <a:chExt cx="5978520" cy="3097080"/>
          </a:xfrm>
        </p:grpSpPr>
        <p:sp>
          <p:nvSpPr>
            <p:cNvPr id="758" name=""/>
            <p:cNvSpPr/>
            <p:nvPr/>
          </p:nvSpPr>
          <p:spPr>
            <a:xfrm>
              <a:off x="2454120" y="1830240"/>
              <a:ext cx="5978520" cy="3097080"/>
            </a:xfrm>
            <a:prstGeom prst="rect">
              <a:avLst/>
            </a:prstGeom>
            <a:solidFill>
              <a:srgbClr val="ffffff"/>
            </a:solidFill>
            <a:ln w="152280">
              <a:solidFill>
                <a:srgbClr val="996633"/>
              </a:solidFill>
              <a:round/>
            </a:ln>
          </p:spPr>
          <p:txBody>
            <a:bodyPr lIns="165960" rIns="165960" tIns="120960" bIns="120960" anchor="t">
              <a:noAutofit/>
            </a:bodyPr>
            <a:p>
              <a:endParaRPr b="0" lang="en-US" sz="1800" spc="-1" strike="noStrike">
                <a:solidFill>
                  <a:srgbClr val="000000"/>
                </a:solidFill>
                <a:latin typeface="Arial"/>
              </a:endParaRPr>
            </a:p>
          </p:txBody>
        </p:sp>
        <p:sp>
          <p:nvSpPr>
            <p:cNvPr id="759" name=""/>
            <p:cNvSpPr/>
            <p:nvPr/>
          </p:nvSpPr>
          <p:spPr>
            <a:xfrm>
              <a:off x="2724120" y="1963800"/>
              <a:ext cx="5613480" cy="21636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grpSp>
      <p:grpSp>
        <p:nvGrpSpPr>
          <p:cNvPr id="760" name=""/>
          <p:cNvGrpSpPr/>
          <p:nvPr/>
        </p:nvGrpSpPr>
        <p:grpSpPr>
          <a:xfrm>
            <a:off x="1077840" y="166680"/>
            <a:ext cx="5005440" cy="1649520"/>
            <a:chOff x="1077840" y="166680"/>
            <a:chExt cx="5005440" cy="1649520"/>
          </a:xfrm>
        </p:grpSpPr>
        <p:pic>
          <p:nvPicPr>
            <p:cNvPr id="761" name="" descr=""/>
            <p:cNvPicPr/>
            <p:nvPr/>
          </p:nvPicPr>
          <p:blipFill>
            <a:blip r:embed="rId1"/>
            <a:stretch/>
          </p:blipFill>
          <p:spPr>
            <a:xfrm>
              <a:off x="1077840" y="166680"/>
              <a:ext cx="5005440" cy="1649520"/>
            </a:xfrm>
            <a:prstGeom prst="rect">
              <a:avLst/>
            </a:prstGeom>
            <a:ln w="0">
              <a:noFill/>
            </a:ln>
          </p:spPr>
        </p:pic>
        <p:sp>
          <p:nvSpPr>
            <p:cNvPr id="762" name=""/>
            <p:cNvSpPr txBox="1"/>
            <p:nvPr/>
          </p:nvSpPr>
          <p:spPr>
            <a:xfrm>
              <a:off x="1981080" y="380880"/>
              <a:ext cx="3144960" cy="515880"/>
            </a:xfrm>
            <a:prstGeom prst="rect">
              <a:avLst/>
            </a:prstGeom>
            <a:noFill/>
            <a:ln w="0">
              <a:noFill/>
            </a:ln>
          </p:spPr>
          <p:txBody>
            <a:bodyPr lIns="0" rIns="0" tIns="0" bIns="0" anchor="t">
              <a:noAutofit/>
            </a:bodyPr>
            <a:p>
              <a:pPr algn="ctr">
                <a:lnSpc>
                  <a:spcPct val="100000"/>
                </a:lnSpc>
              </a:pPr>
              <a:r>
                <a:rPr b="1" lang="en-US" sz="2800" spc="-1" strike="noStrike">
                  <a:solidFill>
                    <a:srgbClr val="000000"/>
                  </a:solidFill>
                  <a:latin typeface="Arial"/>
                  <a:ea typeface="Arial"/>
                </a:rPr>
                <a:t>AND FINALLY . . .</a:t>
              </a:r>
              <a:endParaRPr b="0" lang="en-US" sz="2800" spc="-1" strike="noStrike">
                <a:solidFill>
                  <a:srgbClr val="ffffff"/>
                </a:solidFill>
                <a:latin typeface="Arial"/>
              </a:endParaRPr>
            </a:p>
          </p:txBody>
        </p:sp>
      </p:grpSp>
      <p:grpSp>
        <p:nvGrpSpPr>
          <p:cNvPr id="763" name=""/>
          <p:cNvGrpSpPr/>
          <p:nvPr/>
        </p:nvGrpSpPr>
        <p:grpSpPr>
          <a:xfrm>
            <a:off x="619200" y="1603440"/>
            <a:ext cx="1525680" cy="4901040"/>
            <a:chOff x="619200" y="1603440"/>
            <a:chExt cx="1525680" cy="4901040"/>
          </a:xfrm>
        </p:grpSpPr>
        <p:grpSp>
          <p:nvGrpSpPr>
            <p:cNvPr id="764" name=""/>
            <p:cNvGrpSpPr/>
            <p:nvPr/>
          </p:nvGrpSpPr>
          <p:grpSpPr>
            <a:xfrm>
              <a:off x="1098720" y="1603440"/>
              <a:ext cx="506880" cy="1373400"/>
              <a:chOff x="1098720" y="1603440"/>
              <a:chExt cx="506880" cy="1373400"/>
            </a:xfrm>
          </p:grpSpPr>
          <p:sp>
            <p:nvSpPr>
              <p:cNvPr id="765" name=""/>
              <p:cNvSpPr/>
              <p:nvPr/>
            </p:nvSpPr>
            <p:spPr>
              <a:xfrm>
                <a:off x="1163520" y="2171520"/>
                <a:ext cx="343440" cy="805320"/>
              </a:xfrm>
              <a:custGeom>
                <a:avLst/>
                <a:gdLst/>
                <a:ahLst/>
                <a:rect l="0" t="0" r="r" b="b"/>
                <a:pathLst>
                  <a:path w="954" h="2237">
                    <a:moveTo>
                      <a:pt x="171" y="0"/>
                    </a:moveTo>
                    <a:lnTo>
                      <a:pt x="158" y="101"/>
                    </a:lnTo>
                    <a:lnTo>
                      <a:pt x="132" y="207"/>
                    </a:lnTo>
                    <a:lnTo>
                      <a:pt x="0" y="471"/>
                    </a:lnTo>
                    <a:lnTo>
                      <a:pt x="441" y="2237"/>
                    </a:lnTo>
                    <a:lnTo>
                      <a:pt x="954" y="529"/>
                    </a:lnTo>
                    <a:lnTo>
                      <a:pt x="844" y="295"/>
                    </a:lnTo>
                    <a:lnTo>
                      <a:pt x="808" y="207"/>
                    </a:lnTo>
                    <a:lnTo>
                      <a:pt x="791" y="149"/>
                    </a:lnTo>
                    <a:lnTo>
                      <a:pt x="786" y="17"/>
                    </a:lnTo>
                    <a:lnTo>
                      <a:pt x="171"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66" name=""/>
              <p:cNvSpPr/>
              <p:nvPr/>
            </p:nvSpPr>
            <p:spPr>
              <a:xfrm>
                <a:off x="1231920" y="2187720"/>
                <a:ext cx="282960" cy="294120"/>
              </a:xfrm>
              <a:custGeom>
                <a:avLst/>
                <a:gdLst/>
                <a:ahLst/>
                <a:rect l="0" t="0" r="r" b="b"/>
                <a:pathLst>
                  <a:path w="786" h="817">
                    <a:moveTo>
                      <a:pt x="0" y="0"/>
                    </a:moveTo>
                    <a:lnTo>
                      <a:pt x="8" y="44"/>
                    </a:lnTo>
                    <a:lnTo>
                      <a:pt x="17" y="74"/>
                    </a:lnTo>
                    <a:lnTo>
                      <a:pt x="35" y="114"/>
                    </a:lnTo>
                    <a:lnTo>
                      <a:pt x="52" y="158"/>
                    </a:lnTo>
                    <a:lnTo>
                      <a:pt x="79" y="189"/>
                    </a:lnTo>
                    <a:lnTo>
                      <a:pt x="101" y="230"/>
                    </a:lnTo>
                    <a:lnTo>
                      <a:pt x="136" y="261"/>
                    </a:lnTo>
                    <a:lnTo>
                      <a:pt x="176" y="292"/>
                    </a:lnTo>
                    <a:lnTo>
                      <a:pt x="234" y="314"/>
                    </a:lnTo>
                    <a:lnTo>
                      <a:pt x="287" y="327"/>
                    </a:lnTo>
                    <a:lnTo>
                      <a:pt x="322" y="349"/>
                    </a:lnTo>
                    <a:lnTo>
                      <a:pt x="340" y="362"/>
                    </a:lnTo>
                    <a:lnTo>
                      <a:pt x="349" y="384"/>
                    </a:lnTo>
                    <a:lnTo>
                      <a:pt x="349" y="415"/>
                    </a:lnTo>
                    <a:lnTo>
                      <a:pt x="371" y="402"/>
                    </a:lnTo>
                    <a:lnTo>
                      <a:pt x="397" y="389"/>
                    </a:lnTo>
                    <a:lnTo>
                      <a:pt x="415" y="393"/>
                    </a:lnTo>
                    <a:lnTo>
                      <a:pt x="424" y="415"/>
                    </a:lnTo>
                    <a:lnTo>
                      <a:pt x="424" y="446"/>
                    </a:lnTo>
                    <a:lnTo>
                      <a:pt x="424" y="472"/>
                    </a:lnTo>
                    <a:lnTo>
                      <a:pt x="358" y="817"/>
                    </a:lnTo>
                    <a:lnTo>
                      <a:pt x="525" y="419"/>
                    </a:lnTo>
                    <a:lnTo>
                      <a:pt x="556" y="419"/>
                    </a:lnTo>
                    <a:lnTo>
                      <a:pt x="587" y="424"/>
                    </a:lnTo>
                    <a:lnTo>
                      <a:pt x="614" y="437"/>
                    </a:lnTo>
                    <a:lnTo>
                      <a:pt x="663" y="455"/>
                    </a:lnTo>
                    <a:lnTo>
                      <a:pt x="698" y="459"/>
                    </a:lnTo>
                    <a:lnTo>
                      <a:pt x="747" y="472"/>
                    </a:lnTo>
                    <a:lnTo>
                      <a:pt x="786" y="472"/>
                    </a:lnTo>
                    <a:lnTo>
                      <a:pt x="760" y="419"/>
                    </a:lnTo>
                    <a:lnTo>
                      <a:pt x="725" y="371"/>
                    </a:lnTo>
                    <a:lnTo>
                      <a:pt x="703" y="322"/>
                    </a:lnTo>
                    <a:lnTo>
                      <a:pt x="676" y="283"/>
                    </a:lnTo>
                    <a:lnTo>
                      <a:pt x="663" y="252"/>
                    </a:lnTo>
                    <a:lnTo>
                      <a:pt x="645" y="217"/>
                    </a:lnTo>
                    <a:lnTo>
                      <a:pt x="597" y="26"/>
                    </a:lnTo>
                    <a:lnTo>
                      <a:pt x="0" y="0"/>
                    </a:lnTo>
                    <a:close/>
                  </a:path>
                </a:pathLst>
              </a:custGeom>
              <a:blipFill rotWithShape="0">
                <a:blip r:embed="rId2"/>
                <a:tile tx="0" ty="0" sx="133018" sy="133018" algn="ctr"/>
              </a:blipFill>
              <a:ln w="12600">
                <a:solidFill>
                  <a:srgbClr val="fc5853"/>
                </a:solidFill>
                <a:round/>
              </a:ln>
            </p:spPr>
            <p:txBody>
              <a:bodyPr lIns="96120" rIns="96120" tIns="51120" bIns="51120" anchor="t">
                <a:noAutofit/>
              </a:bodyPr>
              <a:p>
                <a:endParaRPr b="0" lang="en-US" sz="1800" spc="-1" strike="noStrike">
                  <a:solidFill>
                    <a:srgbClr val="000000"/>
                  </a:solidFill>
                  <a:latin typeface="Arial"/>
                </a:endParaRPr>
              </a:p>
            </p:txBody>
          </p:sp>
          <p:sp>
            <p:nvSpPr>
              <p:cNvPr id="767" name=""/>
              <p:cNvSpPr/>
              <p:nvPr/>
            </p:nvSpPr>
            <p:spPr>
              <a:xfrm>
                <a:off x="1171440" y="1630440"/>
                <a:ext cx="360720" cy="619560"/>
              </a:xfrm>
              <a:custGeom>
                <a:avLst/>
                <a:gdLst/>
                <a:ahLst/>
                <a:rect l="0" t="0" r="r" b="b"/>
                <a:pathLst>
                  <a:path w="1002" h="1721">
                    <a:moveTo>
                      <a:pt x="971" y="922"/>
                    </a:moveTo>
                    <a:lnTo>
                      <a:pt x="962" y="1028"/>
                    </a:lnTo>
                    <a:lnTo>
                      <a:pt x="935" y="1121"/>
                    </a:lnTo>
                    <a:lnTo>
                      <a:pt x="931" y="1182"/>
                    </a:lnTo>
                    <a:lnTo>
                      <a:pt x="927" y="1240"/>
                    </a:lnTo>
                    <a:lnTo>
                      <a:pt x="904" y="1316"/>
                    </a:lnTo>
                    <a:lnTo>
                      <a:pt x="887" y="1408"/>
                    </a:lnTo>
                    <a:lnTo>
                      <a:pt x="865" y="1474"/>
                    </a:lnTo>
                    <a:lnTo>
                      <a:pt x="830" y="1523"/>
                    </a:lnTo>
                    <a:lnTo>
                      <a:pt x="790" y="1567"/>
                    </a:lnTo>
                    <a:lnTo>
                      <a:pt x="755" y="1624"/>
                    </a:lnTo>
                    <a:lnTo>
                      <a:pt x="688" y="1664"/>
                    </a:lnTo>
                    <a:lnTo>
                      <a:pt x="644" y="1699"/>
                    </a:lnTo>
                    <a:lnTo>
                      <a:pt x="578" y="1712"/>
                    </a:lnTo>
                    <a:lnTo>
                      <a:pt x="489" y="1721"/>
                    </a:lnTo>
                    <a:lnTo>
                      <a:pt x="410" y="1712"/>
                    </a:lnTo>
                    <a:lnTo>
                      <a:pt x="366" y="1690"/>
                    </a:lnTo>
                    <a:lnTo>
                      <a:pt x="299" y="1646"/>
                    </a:lnTo>
                    <a:lnTo>
                      <a:pt x="260" y="1607"/>
                    </a:lnTo>
                    <a:lnTo>
                      <a:pt x="211" y="1571"/>
                    </a:lnTo>
                    <a:lnTo>
                      <a:pt x="176" y="1536"/>
                    </a:lnTo>
                    <a:lnTo>
                      <a:pt x="132" y="1479"/>
                    </a:lnTo>
                    <a:lnTo>
                      <a:pt x="105" y="1435"/>
                    </a:lnTo>
                    <a:lnTo>
                      <a:pt x="97" y="1386"/>
                    </a:lnTo>
                    <a:lnTo>
                      <a:pt x="74" y="1338"/>
                    </a:lnTo>
                    <a:lnTo>
                      <a:pt x="70" y="1279"/>
                    </a:lnTo>
                    <a:lnTo>
                      <a:pt x="66" y="1226"/>
                    </a:lnTo>
                    <a:lnTo>
                      <a:pt x="52" y="1182"/>
                    </a:lnTo>
                    <a:lnTo>
                      <a:pt x="48" y="1125"/>
                    </a:lnTo>
                    <a:lnTo>
                      <a:pt x="30" y="1041"/>
                    </a:lnTo>
                    <a:lnTo>
                      <a:pt x="4" y="944"/>
                    </a:lnTo>
                    <a:lnTo>
                      <a:pt x="0" y="794"/>
                    </a:lnTo>
                    <a:lnTo>
                      <a:pt x="0" y="662"/>
                    </a:lnTo>
                    <a:lnTo>
                      <a:pt x="4" y="525"/>
                    </a:lnTo>
                    <a:lnTo>
                      <a:pt x="17" y="401"/>
                    </a:lnTo>
                    <a:lnTo>
                      <a:pt x="39" y="317"/>
                    </a:lnTo>
                    <a:lnTo>
                      <a:pt x="66" y="229"/>
                    </a:lnTo>
                    <a:lnTo>
                      <a:pt x="114" y="136"/>
                    </a:lnTo>
                    <a:lnTo>
                      <a:pt x="163" y="83"/>
                    </a:lnTo>
                    <a:lnTo>
                      <a:pt x="229" y="48"/>
                    </a:lnTo>
                    <a:lnTo>
                      <a:pt x="339" y="17"/>
                    </a:lnTo>
                    <a:lnTo>
                      <a:pt x="449" y="0"/>
                    </a:lnTo>
                    <a:lnTo>
                      <a:pt x="574" y="0"/>
                    </a:lnTo>
                    <a:lnTo>
                      <a:pt x="728" y="8"/>
                    </a:lnTo>
                    <a:lnTo>
                      <a:pt x="812" y="30"/>
                    </a:lnTo>
                    <a:lnTo>
                      <a:pt x="865" y="74"/>
                    </a:lnTo>
                    <a:lnTo>
                      <a:pt x="927" y="136"/>
                    </a:lnTo>
                    <a:lnTo>
                      <a:pt x="953" y="229"/>
                    </a:lnTo>
                    <a:lnTo>
                      <a:pt x="988" y="343"/>
                    </a:lnTo>
                    <a:lnTo>
                      <a:pt x="1002" y="472"/>
                    </a:lnTo>
                    <a:lnTo>
                      <a:pt x="1002" y="565"/>
                    </a:lnTo>
                    <a:lnTo>
                      <a:pt x="1002" y="737"/>
                    </a:lnTo>
                    <a:lnTo>
                      <a:pt x="988" y="856"/>
                    </a:lnTo>
                    <a:lnTo>
                      <a:pt x="971" y="922"/>
                    </a:lnTo>
                    <a:close/>
                  </a:path>
                </a:pathLst>
              </a:custGeom>
              <a:solidFill>
                <a:srgbClr val="ffd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68" name=""/>
              <p:cNvSpPr/>
              <p:nvPr/>
            </p:nvSpPr>
            <p:spPr>
              <a:xfrm>
                <a:off x="1433520" y="1662120"/>
                <a:ext cx="95760" cy="563760"/>
              </a:xfrm>
              <a:custGeom>
                <a:avLst/>
                <a:gdLst/>
                <a:ahLst/>
                <a:rect l="0" t="0" r="r" b="b"/>
                <a:pathLst>
                  <a:path w="266" h="1566">
                    <a:moveTo>
                      <a:pt x="240" y="847"/>
                    </a:moveTo>
                    <a:lnTo>
                      <a:pt x="231" y="944"/>
                    </a:lnTo>
                    <a:lnTo>
                      <a:pt x="209" y="1041"/>
                    </a:lnTo>
                    <a:lnTo>
                      <a:pt x="204" y="1103"/>
                    </a:lnTo>
                    <a:lnTo>
                      <a:pt x="195" y="1165"/>
                    </a:lnTo>
                    <a:lnTo>
                      <a:pt x="181" y="1240"/>
                    </a:lnTo>
                    <a:lnTo>
                      <a:pt x="172" y="1306"/>
                    </a:lnTo>
                    <a:lnTo>
                      <a:pt x="159" y="1368"/>
                    </a:lnTo>
                    <a:lnTo>
                      <a:pt x="133" y="1398"/>
                    </a:lnTo>
                    <a:lnTo>
                      <a:pt x="111" y="1447"/>
                    </a:lnTo>
                    <a:lnTo>
                      <a:pt x="61" y="1509"/>
                    </a:lnTo>
                    <a:lnTo>
                      <a:pt x="0" y="1566"/>
                    </a:lnTo>
                    <a:lnTo>
                      <a:pt x="35" y="1535"/>
                    </a:lnTo>
                    <a:lnTo>
                      <a:pt x="61" y="1478"/>
                    </a:lnTo>
                    <a:lnTo>
                      <a:pt x="80" y="1429"/>
                    </a:lnTo>
                    <a:lnTo>
                      <a:pt x="93" y="1385"/>
                    </a:lnTo>
                    <a:lnTo>
                      <a:pt x="93" y="1328"/>
                    </a:lnTo>
                    <a:lnTo>
                      <a:pt x="93" y="1293"/>
                    </a:lnTo>
                    <a:lnTo>
                      <a:pt x="75" y="1231"/>
                    </a:lnTo>
                    <a:lnTo>
                      <a:pt x="93" y="1218"/>
                    </a:lnTo>
                    <a:lnTo>
                      <a:pt x="124" y="1169"/>
                    </a:lnTo>
                    <a:lnTo>
                      <a:pt x="142" y="1129"/>
                    </a:lnTo>
                    <a:lnTo>
                      <a:pt x="159" y="1081"/>
                    </a:lnTo>
                    <a:lnTo>
                      <a:pt x="168" y="1015"/>
                    </a:lnTo>
                    <a:lnTo>
                      <a:pt x="177" y="957"/>
                    </a:lnTo>
                    <a:lnTo>
                      <a:pt x="177" y="913"/>
                    </a:lnTo>
                    <a:lnTo>
                      <a:pt x="177" y="878"/>
                    </a:lnTo>
                    <a:lnTo>
                      <a:pt x="168" y="847"/>
                    </a:lnTo>
                    <a:lnTo>
                      <a:pt x="146" y="816"/>
                    </a:lnTo>
                    <a:lnTo>
                      <a:pt x="159" y="790"/>
                    </a:lnTo>
                    <a:lnTo>
                      <a:pt x="168" y="762"/>
                    </a:lnTo>
                    <a:lnTo>
                      <a:pt x="177" y="709"/>
                    </a:lnTo>
                    <a:lnTo>
                      <a:pt x="137" y="670"/>
                    </a:lnTo>
                    <a:lnTo>
                      <a:pt x="120" y="661"/>
                    </a:lnTo>
                    <a:lnTo>
                      <a:pt x="133" y="630"/>
                    </a:lnTo>
                    <a:lnTo>
                      <a:pt x="142" y="586"/>
                    </a:lnTo>
                    <a:lnTo>
                      <a:pt x="146" y="551"/>
                    </a:lnTo>
                    <a:lnTo>
                      <a:pt x="142" y="493"/>
                    </a:lnTo>
                    <a:lnTo>
                      <a:pt x="133" y="463"/>
                    </a:lnTo>
                    <a:lnTo>
                      <a:pt x="120" y="414"/>
                    </a:lnTo>
                    <a:lnTo>
                      <a:pt x="67" y="343"/>
                    </a:lnTo>
                    <a:lnTo>
                      <a:pt x="35" y="299"/>
                    </a:lnTo>
                    <a:lnTo>
                      <a:pt x="0" y="242"/>
                    </a:lnTo>
                    <a:lnTo>
                      <a:pt x="8" y="171"/>
                    </a:lnTo>
                    <a:lnTo>
                      <a:pt x="35" y="105"/>
                    </a:lnTo>
                    <a:lnTo>
                      <a:pt x="75" y="22"/>
                    </a:lnTo>
                    <a:lnTo>
                      <a:pt x="137" y="0"/>
                    </a:lnTo>
                    <a:lnTo>
                      <a:pt x="186" y="52"/>
                    </a:lnTo>
                    <a:lnTo>
                      <a:pt x="222" y="145"/>
                    </a:lnTo>
                    <a:lnTo>
                      <a:pt x="253" y="264"/>
                    </a:lnTo>
                    <a:lnTo>
                      <a:pt x="262" y="388"/>
                    </a:lnTo>
                    <a:lnTo>
                      <a:pt x="266" y="485"/>
                    </a:lnTo>
                    <a:lnTo>
                      <a:pt x="262" y="652"/>
                    </a:lnTo>
                    <a:lnTo>
                      <a:pt x="253" y="771"/>
                    </a:lnTo>
                    <a:lnTo>
                      <a:pt x="240" y="847"/>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69" name=""/>
              <p:cNvSpPr/>
              <p:nvPr/>
            </p:nvSpPr>
            <p:spPr>
              <a:xfrm>
                <a:off x="1281240" y="2136600"/>
                <a:ext cx="149760" cy="32040"/>
              </a:xfrm>
              <a:custGeom>
                <a:avLst/>
                <a:gdLst/>
                <a:ahLst/>
                <a:rect l="0" t="0" r="r" b="b"/>
                <a:pathLst>
                  <a:path w="416" h="89">
                    <a:moveTo>
                      <a:pt x="0" y="4"/>
                    </a:moveTo>
                    <a:lnTo>
                      <a:pt x="22" y="8"/>
                    </a:lnTo>
                    <a:lnTo>
                      <a:pt x="57" y="8"/>
                    </a:lnTo>
                    <a:lnTo>
                      <a:pt x="92" y="4"/>
                    </a:lnTo>
                    <a:lnTo>
                      <a:pt x="115" y="4"/>
                    </a:lnTo>
                    <a:lnTo>
                      <a:pt x="137" y="4"/>
                    </a:lnTo>
                    <a:lnTo>
                      <a:pt x="164" y="4"/>
                    </a:lnTo>
                    <a:lnTo>
                      <a:pt x="186" y="4"/>
                    </a:lnTo>
                    <a:lnTo>
                      <a:pt x="212" y="4"/>
                    </a:lnTo>
                    <a:lnTo>
                      <a:pt x="225" y="4"/>
                    </a:lnTo>
                    <a:lnTo>
                      <a:pt x="247" y="4"/>
                    </a:lnTo>
                    <a:lnTo>
                      <a:pt x="283" y="0"/>
                    </a:lnTo>
                    <a:lnTo>
                      <a:pt x="309" y="0"/>
                    </a:lnTo>
                    <a:lnTo>
                      <a:pt x="328" y="0"/>
                    </a:lnTo>
                    <a:lnTo>
                      <a:pt x="363" y="4"/>
                    </a:lnTo>
                    <a:lnTo>
                      <a:pt x="381" y="4"/>
                    </a:lnTo>
                    <a:lnTo>
                      <a:pt x="416" y="4"/>
                    </a:lnTo>
                    <a:lnTo>
                      <a:pt x="372" y="26"/>
                    </a:lnTo>
                    <a:lnTo>
                      <a:pt x="354" y="39"/>
                    </a:lnTo>
                    <a:lnTo>
                      <a:pt x="328" y="62"/>
                    </a:lnTo>
                    <a:lnTo>
                      <a:pt x="305" y="71"/>
                    </a:lnTo>
                    <a:lnTo>
                      <a:pt x="292" y="80"/>
                    </a:lnTo>
                    <a:lnTo>
                      <a:pt x="269" y="89"/>
                    </a:lnTo>
                    <a:lnTo>
                      <a:pt x="234" y="89"/>
                    </a:lnTo>
                    <a:lnTo>
                      <a:pt x="199" y="89"/>
                    </a:lnTo>
                    <a:lnTo>
                      <a:pt x="159" y="80"/>
                    </a:lnTo>
                    <a:lnTo>
                      <a:pt x="128" y="71"/>
                    </a:lnTo>
                    <a:lnTo>
                      <a:pt x="97" y="62"/>
                    </a:lnTo>
                    <a:lnTo>
                      <a:pt x="66" y="45"/>
                    </a:lnTo>
                    <a:lnTo>
                      <a:pt x="30" y="26"/>
                    </a:lnTo>
                    <a:lnTo>
                      <a:pt x="0" y="4"/>
                    </a:lnTo>
                    <a:close/>
                  </a:path>
                </a:pathLst>
              </a:custGeom>
              <a:solidFill>
                <a:srgbClr val="ff001f"/>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770" name=""/>
              <p:cNvSpPr/>
              <p:nvPr/>
            </p:nvSpPr>
            <p:spPr>
              <a:xfrm>
                <a:off x="1281240" y="2136600"/>
                <a:ext cx="149760" cy="8280"/>
              </a:xfrm>
              <a:custGeom>
                <a:avLst/>
                <a:gdLst/>
                <a:ahLst/>
                <a:rect l="0" t="0" r="r" b="b"/>
                <a:pathLst>
                  <a:path w="416" h="23">
                    <a:moveTo>
                      <a:pt x="0" y="0"/>
                    </a:moveTo>
                    <a:lnTo>
                      <a:pt x="22" y="4"/>
                    </a:lnTo>
                    <a:lnTo>
                      <a:pt x="57" y="4"/>
                    </a:lnTo>
                    <a:lnTo>
                      <a:pt x="92" y="0"/>
                    </a:lnTo>
                    <a:lnTo>
                      <a:pt x="115" y="0"/>
                    </a:lnTo>
                    <a:lnTo>
                      <a:pt x="137" y="0"/>
                    </a:lnTo>
                    <a:lnTo>
                      <a:pt x="164" y="0"/>
                    </a:lnTo>
                    <a:lnTo>
                      <a:pt x="186" y="0"/>
                    </a:lnTo>
                    <a:lnTo>
                      <a:pt x="212" y="0"/>
                    </a:lnTo>
                    <a:lnTo>
                      <a:pt x="225" y="0"/>
                    </a:lnTo>
                    <a:lnTo>
                      <a:pt x="247" y="0"/>
                    </a:lnTo>
                    <a:lnTo>
                      <a:pt x="283" y="0"/>
                    </a:lnTo>
                    <a:lnTo>
                      <a:pt x="309" y="0"/>
                    </a:lnTo>
                    <a:lnTo>
                      <a:pt x="328" y="0"/>
                    </a:lnTo>
                    <a:lnTo>
                      <a:pt x="363" y="0"/>
                    </a:lnTo>
                    <a:lnTo>
                      <a:pt x="381" y="0"/>
                    </a:lnTo>
                    <a:lnTo>
                      <a:pt x="416" y="0"/>
                    </a:lnTo>
                    <a:lnTo>
                      <a:pt x="376" y="14"/>
                    </a:lnTo>
                    <a:lnTo>
                      <a:pt x="363" y="14"/>
                    </a:lnTo>
                    <a:lnTo>
                      <a:pt x="337" y="14"/>
                    </a:lnTo>
                    <a:lnTo>
                      <a:pt x="309" y="14"/>
                    </a:lnTo>
                    <a:lnTo>
                      <a:pt x="283" y="23"/>
                    </a:lnTo>
                    <a:lnTo>
                      <a:pt x="261" y="23"/>
                    </a:lnTo>
                    <a:lnTo>
                      <a:pt x="225" y="23"/>
                    </a:lnTo>
                    <a:lnTo>
                      <a:pt x="199" y="23"/>
                    </a:lnTo>
                    <a:lnTo>
                      <a:pt x="168" y="23"/>
                    </a:lnTo>
                    <a:lnTo>
                      <a:pt x="128" y="14"/>
                    </a:lnTo>
                    <a:lnTo>
                      <a:pt x="97" y="14"/>
                    </a:lnTo>
                    <a:lnTo>
                      <a:pt x="61" y="14"/>
                    </a:lnTo>
                    <a:lnTo>
                      <a:pt x="35" y="14"/>
                    </a:lnTo>
                    <a:lnTo>
                      <a:pt x="22" y="14"/>
                    </a:lnTo>
                    <a:lnTo>
                      <a:pt x="0" y="0"/>
                    </a:lnTo>
                    <a:close/>
                  </a:path>
                </a:pathLst>
              </a:custGeom>
              <a:solidFill>
                <a:srgbClr val="7f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771" name=""/>
              <p:cNvSpPr/>
              <p:nvPr/>
            </p:nvSpPr>
            <p:spPr>
              <a:xfrm>
                <a:off x="1335240" y="2165400"/>
                <a:ext cx="49680" cy="5040"/>
              </a:xfrm>
              <a:custGeom>
                <a:avLst/>
                <a:gdLst/>
                <a:ahLst/>
                <a:rect l="0" t="0" r="r" b="b"/>
                <a:pathLst>
                  <a:path w="138" h="14">
                    <a:moveTo>
                      <a:pt x="0" y="9"/>
                    </a:moveTo>
                    <a:lnTo>
                      <a:pt x="17" y="9"/>
                    </a:lnTo>
                    <a:lnTo>
                      <a:pt x="36" y="0"/>
                    </a:lnTo>
                    <a:lnTo>
                      <a:pt x="53" y="0"/>
                    </a:lnTo>
                    <a:lnTo>
                      <a:pt x="71" y="0"/>
                    </a:lnTo>
                    <a:lnTo>
                      <a:pt x="89" y="0"/>
                    </a:lnTo>
                    <a:lnTo>
                      <a:pt x="112" y="9"/>
                    </a:lnTo>
                    <a:lnTo>
                      <a:pt x="129" y="9"/>
                    </a:lnTo>
                    <a:lnTo>
                      <a:pt x="138" y="14"/>
                    </a:lnTo>
                    <a:lnTo>
                      <a:pt x="125" y="9"/>
                    </a:lnTo>
                    <a:lnTo>
                      <a:pt x="102" y="9"/>
                    </a:lnTo>
                    <a:lnTo>
                      <a:pt x="89" y="9"/>
                    </a:lnTo>
                    <a:lnTo>
                      <a:pt x="71" y="9"/>
                    </a:lnTo>
                    <a:lnTo>
                      <a:pt x="62" y="9"/>
                    </a:lnTo>
                    <a:lnTo>
                      <a:pt x="49" y="9"/>
                    </a:lnTo>
                    <a:lnTo>
                      <a:pt x="30" y="9"/>
                    </a:lnTo>
                    <a:lnTo>
                      <a:pt x="17" y="9"/>
                    </a:lnTo>
                    <a:lnTo>
                      <a:pt x="0" y="9"/>
                    </a:lnTo>
                    <a:close/>
                  </a:path>
                </a:pathLst>
              </a:custGeom>
              <a:solidFill>
                <a:srgbClr val="ffffff"/>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772" name=""/>
              <p:cNvSpPr/>
              <p:nvPr/>
            </p:nvSpPr>
            <p:spPr>
              <a:xfrm>
                <a:off x="1314360" y="1898640"/>
                <a:ext cx="179640" cy="200520"/>
              </a:xfrm>
              <a:custGeom>
                <a:avLst/>
                <a:gdLst/>
                <a:ahLst/>
                <a:rect l="0" t="0" r="r" b="b"/>
                <a:pathLst>
                  <a:path w="499" h="557">
                    <a:moveTo>
                      <a:pt x="4" y="456"/>
                    </a:moveTo>
                    <a:lnTo>
                      <a:pt x="4" y="478"/>
                    </a:lnTo>
                    <a:lnTo>
                      <a:pt x="8" y="491"/>
                    </a:lnTo>
                    <a:lnTo>
                      <a:pt x="26" y="504"/>
                    </a:lnTo>
                    <a:lnTo>
                      <a:pt x="35" y="504"/>
                    </a:lnTo>
                    <a:lnTo>
                      <a:pt x="52" y="504"/>
                    </a:lnTo>
                    <a:lnTo>
                      <a:pt x="66" y="504"/>
                    </a:lnTo>
                    <a:lnTo>
                      <a:pt x="74" y="509"/>
                    </a:lnTo>
                    <a:lnTo>
                      <a:pt x="79" y="531"/>
                    </a:lnTo>
                    <a:lnTo>
                      <a:pt x="88" y="531"/>
                    </a:lnTo>
                    <a:lnTo>
                      <a:pt x="110" y="531"/>
                    </a:lnTo>
                    <a:lnTo>
                      <a:pt x="132" y="531"/>
                    </a:lnTo>
                    <a:lnTo>
                      <a:pt x="141" y="531"/>
                    </a:lnTo>
                    <a:lnTo>
                      <a:pt x="158" y="517"/>
                    </a:lnTo>
                    <a:lnTo>
                      <a:pt x="158" y="504"/>
                    </a:lnTo>
                    <a:lnTo>
                      <a:pt x="185" y="491"/>
                    </a:lnTo>
                    <a:lnTo>
                      <a:pt x="207" y="491"/>
                    </a:lnTo>
                    <a:lnTo>
                      <a:pt x="220" y="491"/>
                    </a:lnTo>
                    <a:lnTo>
                      <a:pt x="229" y="478"/>
                    </a:lnTo>
                    <a:lnTo>
                      <a:pt x="229" y="465"/>
                    </a:lnTo>
                    <a:lnTo>
                      <a:pt x="224" y="429"/>
                    </a:lnTo>
                    <a:lnTo>
                      <a:pt x="220" y="397"/>
                    </a:lnTo>
                    <a:lnTo>
                      <a:pt x="207" y="384"/>
                    </a:lnTo>
                    <a:lnTo>
                      <a:pt x="185" y="469"/>
                    </a:lnTo>
                    <a:lnTo>
                      <a:pt x="185" y="438"/>
                    </a:lnTo>
                    <a:lnTo>
                      <a:pt x="185" y="429"/>
                    </a:lnTo>
                    <a:lnTo>
                      <a:pt x="171" y="406"/>
                    </a:lnTo>
                    <a:lnTo>
                      <a:pt x="158" y="397"/>
                    </a:lnTo>
                    <a:lnTo>
                      <a:pt x="158" y="384"/>
                    </a:lnTo>
                    <a:lnTo>
                      <a:pt x="145" y="199"/>
                    </a:lnTo>
                    <a:lnTo>
                      <a:pt x="158" y="159"/>
                    </a:lnTo>
                    <a:lnTo>
                      <a:pt x="163" y="127"/>
                    </a:lnTo>
                    <a:lnTo>
                      <a:pt x="176" y="114"/>
                    </a:lnTo>
                    <a:lnTo>
                      <a:pt x="189" y="88"/>
                    </a:lnTo>
                    <a:lnTo>
                      <a:pt x="211" y="61"/>
                    </a:lnTo>
                    <a:lnTo>
                      <a:pt x="233" y="35"/>
                    </a:lnTo>
                    <a:lnTo>
                      <a:pt x="261" y="26"/>
                    </a:lnTo>
                    <a:lnTo>
                      <a:pt x="287" y="8"/>
                    </a:lnTo>
                    <a:lnTo>
                      <a:pt x="340" y="0"/>
                    </a:lnTo>
                    <a:lnTo>
                      <a:pt x="305" y="26"/>
                    </a:lnTo>
                    <a:lnTo>
                      <a:pt x="287" y="61"/>
                    </a:lnTo>
                    <a:lnTo>
                      <a:pt x="283" y="74"/>
                    </a:lnTo>
                    <a:lnTo>
                      <a:pt x="292" y="92"/>
                    </a:lnTo>
                    <a:lnTo>
                      <a:pt x="305" y="114"/>
                    </a:lnTo>
                    <a:lnTo>
                      <a:pt x="340" y="83"/>
                    </a:lnTo>
                    <a:lnTo>
                      <a:pt x="367" y="88"/>
                    </a:lnTo>
                    <a:lnTo>
                      <a:pt x="393" y="83"/>
                    </a:lnTo>
                    <a:lnTo>
                      <a:pt x="428" y="88"/>
                    </a:lnTo>
                    <a:lnTo>
                      <a:pt x="455" y="88"/>
                    </a:lnTo>
                    <a:lnTo>
                      <a:pt x="477" y="83"/>
                    </a:lnTo>
                    <a:lnTo>
                      <a:pt x="499" y="61"/>
                    </a:lnTo>
                    <a:lnTo>
                      <a:pt x="499" y="83"/>
                    </a:lnTo>
                    <a:lnTo>
                      <a:pt x="486" y="114"/>
                    </a:lnTo>
                    <a:lnTo>
                      <a:pt x="468" y="142"/>
                    </a:lnTo>
                    <a:lnTo>
                      <a:pt x="446" y="159"/>
                    </a:lnTo>
                    <a:lnTo>
                      <a:pt x="428" y="177"/>
                    </a:lnTo>
                    <a:lnTo>
                      <a:pt x="229" y="168"/>
                    </a:lnTo>
                    <a:lnTo>
                      <a:pt x="220" y="168"/>
                    </a:lnTo>
                    <a:lnTo>
                      <a:pt x="198" y="186"/>
                    </a:lnTo>
                    <a:lnTo>
                      <a:pt x="189" y="199"/>
                    </a:lnTo>
                    <a:lnTo>
                      <a:pt x="185" y="208"/>
                    </a:lnTo>
                    <a:lnTo>
                      <a:pt x="185" y="239"/>
                    </a:lnTo>
                    <a:lnTo>
                      <a:pt x="185" y="252"/>
                    </a:lnTo>
                    <a:lnTo>
                      <a:pt x="189" y="261"/>
                    </a:lnTo>
                    <a:lnTo>
                      <a:pt x="198" y="269"/>
                    </a:lnTo>
                    <a:lnTo>
                      <a:pt x="211" y="278"/>
                    </a:lnTo>
                    <a:lnTo>
                      <a:pt x="233" y="300"/>
                    </a:lnTo>
                    <a:lnTo>
                      <a:pt x="252" y="300"/>
                    </a:lnTo>
                    <a:lnTo>
                      <a:pt x="185" y="269"/>
                    </a:lnTo>
                    <a:lnTo>
                      <a:pt x="185" y="300"/>
                    </a:lnTo>
                    <a:lnTo>
                      <a:pt x="185" y="331"/>
                    </a:lnTo>
                    <a:lnTo>
                      <a:pt x="189" y="380"/>
                    </a:lnTo>
                    <a:lnTo>
                      <a:pt x="198" y="380"/>
                    </a:lnTo>
                    <a:lnTo>
                      <a:pt x="211" y="389"/>
                    </a:lnTo>
                    <a:lnTo>
                      <a:pt x="224" y="411"/>
                    </a:lnTo>
                    <a:lnTo>
                      <a:pt x="233" y="447"/>
                    </a:lnTo>
                    <a:lnTo>
                      <a:pt x="233" y="469"/>
                    </a:lnTo>
                    <a:lnTo>
                      <a:pt x="233" y="491"/>
                    </a:lnTo>
                    <a:lnTo>
                      <a:pt x="224" y="504"/>
                    </a:lnTo>
                    <a:lnTo>
                      <a:pt x="216" y="504"/>
                    </a:lnTo>
                    <a:lnTo>
                      <a:pt x="211" y="509"/>
                    </a:lnTo>
                    <a:lnTo>
                      <a:pt x="189" y="509"/>
                    </a:lnTo>
                    <a:lnTo>
                      <a:pt x="176" y="513"/>
                    </a:lnTo>
                    <a:lnTo>
                      <a:pt x="158" y="531"/>
                    </a:lnTo>
                    <a:lnTo>
                      <a:pt x="154" y="553"/>
                    </a:lnTo>
                    <a:lnTo>
                      <a:pt x="136" y="557"/>
                    </a:lnTo>
                    <a:lnTo>
                      <a:pt x="123" y="557"/>
                    </a:lnTo>
                    <a:lnTo>
                      <a:pt x="114" y="557"/>
                    </a:lnTo>
                    <a:lnTo>
                      <a:pt x="88" y="557"/>
                    </a:lnTo>
                    <a:lnTo>
                      <a:pt x="83" y="548"/>
                    </a:lnTo>
                    <a:lnTo>
                      <a:pt x="66" y="531"/>
                    </a:lnTo>
                    <a:lnTo>
                      <a:pt x="57" y="517"/>
                    </a:lnTo>
                    <a:lnTo>
                      <a:pt x="44" y="517"/>
                    </a:lnTo>
                    <a:lnTo>
                      <a:pt x="26" y="517"/>
                    </a:lnTo>
                    <a:lnTo>
                      <a:pt x="13" y="509"/>
                    </a:lnTo>
                    <a:lnTo>
                      <a:pt x="4" y="504"/>
                    </a:lnTo>
                    <a:lnTo>
                      <a:pt x="0" y="491"/>
                    </a:lnTo>
                    <a:lnTo>
                      <a:pt x="4" y="456"/>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73" name=""/>
              <p:cNvSpPr/>
              <p:nvPr/>
            </p:nvSpPr>
            <p:spPr>
              <a:xfrm>
                <a:off x="1347840" y="2065320"/>
                <a:ext cx="1440" cy="1440"/>
              </a:xfrm>
              <a:prstGeom prst="ellipse">
                <a:avLst/>
              </a:prstGeom>
              <a:solidFill>
                <a:srgbClr val="ffffff"/>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774" name=""/>
              <p:cNvSpPr/>
              <p:nvPr/>
            </p:nvSpPr>
            <p:spPr>
              <a:xfrm>
                <a:off x="1098720" y="1603440"/>
                <a:ext cx="506880" cy="435240"/>
              </a:xfrm>
              <a:custGeom>
                <a:avLst/>
                <a:gdLst/>
                <a:ahLst/>
                <a:rect l="0" t="0" r="r" b="b"/>
                <a:pathLst>
                  <a:path w="1408" h="1209">
                    <a:moveTo>
                      <a:pt x="242" y="1209"/>
                    </a:moveTo>
                    <a:lnTo>
                      <a:pt x="224" y="1187"/>
                    </a:lnTo>
                    <a:lnTo>
                      <a:pt x="202" y="1151"/>
                    </a:lnTo>
                    <a:lnTo>
                      <a:pt x="194" y="1134"/>
                    </a:lnTo>
                    <a:lnTo>
                      <a:pt x="185" y="1112"/>
                    </a:lnTo>
                    <a:lnTo>
                      <a:pt x="176" y="1099"/>
                    </a:lnTo>
                    <a:lnTo>
                      <a:pt x="149" y="1085"/>
                    </a:lnTo>
                    <a:lnTo>
                      <a:pt x="127" y="1076"/>
                    </a:lnTo>
                    <a:lnTo>
                      <a:pt x="92" y="1050"/>
                    </a:lnTo>
                    <a:lnTo>
                      <a:pt x="88" y="1028"/>
                    </a:lnTo>
                    <a:lnTo>
                      <a:pt x="57" y="1006"/>
                    </a:lnTo>
                    <a:lnTo>
                      <a:pt x="48" y="988"/>
                    </a:lnTo>
                    <a:lnTo>
                      <a:pt x="39" y="949"/>
                    </a:lnTo>
                    <a:lnTo>
                      <a:pt x="35" y="922"/>
                    </a:lnTo>
                    <a:lnTo>
                      <a:pt x="26" y="887"/>
                    </a:lnTo>
                    <a:lnTo>
                      <a:pt x="13" y="852"/>
                    </a:lnTo>
                    <a:lnTo>
                      <a:pt x="13" y="759"/>
                    </a:lnTo>
                    <a:lnTo>
                      <a:pt x="8" y="666"/>
                    </a:lnTo>
                    <a:lnTo>
                      <a:pt x="0" y="577"/>
                    </a:lnTo>
                    <a:lnTo>
                      <a:pt x="13" y="542"/>
                    </a:lnTo>
                    <a:lnTo>
                      <a:pt x="26" y="498"/>
                    </a:lnTo>
                    <a:lnTo>
                      <a:pt x="35" y="454"/>
                    </a:lnTo>
                    <a:lnTo>
                      <a:pt x="48" y="401"/>
                    </a:lnTo>
                    <a:lnTo>
                      <a:pt x="88" y="317"/>
                    </a:lnTo>
                    <a:lnTo>
                      <a:pt x="132" y="255"/>
                    </a:lnTo>
                    <a:lnTo>
                      <a:pt x="167" y="220"/>
                    </a:lnTo>
                    <a:lnTo>
                      <a:pt x="198" y="180"/>
                    </a:lnTo>
                    <a:lnTo>
                      <a:pt x="273" y="136"/>
                    </a:lnTo>
                    <a:lnTo>
                      <a:pt x="343" y="92"/>
                    </a:lnTo>
                    <a:lnTo>
                      <a:pt x="428" y="44"/>
                    </a:lnTo>
                    <a:lnTo>
                      <a:pt x="521" y="17"/>
                    </a:lnTo>
                    <a:lnTo>
                      <a:pt x="618" y="13"/>
                    </a:lnTo>
                    <a:lnTo>
                      <a:pt x="702" y="0"/>
                    </a:lnTo>
                    <a:lnTo>
                      <a:pt x="781" y="0"/>
                    </a:lnTo>
                    <a:lnTo>
                      <a:pt x="887" y="4"/>
                    </a:lnTo>
                    <a:lnTo>
                      <a:pt x="944" y="44"/>
                    </a:lnTo>
                    <a:lnTo>
                      <a:pt x="993" y="57"/>
                    </a:lnTo>
                    <a:lnTo>
                      <a:pt x="1060" y="74"/>
                    </a:lnTo>
                    <a:lnTo>
                      <a:pt x="1108" y="92"/>
                    </a:lnTo>
                    <a:lnTo>
                      <a:pt x="1166" y="127"/>
                    </a:lnTo>
                    <a:lnTo>
                      <a:pt x="1223" y="194"/>
                    </a:lnTo>
                    <a:lnTo>
                      <a:pt x="1267" y="246"/>
                    </a:lnTo>
                    <a:lnTo>
                      <a:pt x="1298" y="286"/>
                    </a:lnTo>
                    <a:lnTo>
                      <a:pt x="1324" y="330"/>
                    </a:lnTo>
                    <a:lnTo>
                      <a:pt x="1360" y="388"/>
                    </a:lnTo>
                    <a:lnTo>
                      <a:pt x="1391" y="449"/>
                    </a:lnTo>
                    <a:lnTo>
                      <a:pt x="1399" y="542"/>
                    </a:lnTo>
                    <a:lnTo>
                      <a:pt x="1408" y="666"/>
                    </a:lnTo>
                    <a:lnTo>
                      <a:pt x="1399" y="719"/>
                    </a:lnTo>
                    <a:lnTo>
                      <a:pt x="1391" y="799"/>
                    </a:lnTo>
                    <a:lnTo>
                      <a:pt x="1373" y="860"/>
                    </a:lnTo>
                    <a:lnTo>
                      <a:pt x="1351" y="904"/>
                    </a:lnTo>
                    <a:lnTo>
                      <a:pt x="1311" y="957"/>
                    </a:lnTo>
                    <a:lnTo>
                      <a:pt x="1298" y="988"/>
                    </a:lnTo>
                    <a:lnTo>
                      <a:pt x="1236" y="1041"/>
                    </a:lnTo>
                    <a:lnTo>
                      <a:pt x="1201" y="1090"/>
                    </a:lnTo>
                    <a:lnTo>
                      <a:pt x="1174" y="1151"/>
                    </a:lnTo>
                    <a:lnTo>
                      <a:pt x="1139" y="1200"/>
                    </a:lnTo>
                    <a:lnTo>
                      <a:pt x="1166" y="1107"/>
                    </a:lnTo>
                    <a:lnTo>
                      <a:pt x="1166" y="1028"/>
                    </a:lnTo>
                    <a:lnTo>
                      <a:pt x="1174" y="927"/>
                    </a:lnTo>
                    <a:lnTo>
                      <a:pt x="1157" y="904"/>
                    </a:lnTo>
                    <a:lnTo>
                      <a:pt x="1144" y="860"/>
                    </a:lnTo>
                    <a:lnTo>
                      <a:pt x="1157" y="816"/>
                    </a:lnTo>
                    <a:lnTo>
                      <a:pt x="1157" y="781"/>
                    </a:lnTo>
                    <a:lnTo>
                      <a:pt x="1139" y="706"/>
                    </a:lnTo>
                    <a:lnTo>
                      <a:pt x="1135" y="662"/>
                    </a:lnTo>
                    <a:lnTo>
                      <a:pt x="1135" y="627"/>
                    </a:lnTo>
                    <a:lnTo>
                      <a:pt x="1113" y="577"/>
                    </a:lnTo>
                    <a:lnTo>
                      <a:pt x="1095" y="542"/>
                    </a:lnTo>
                    <a:lnTo>
                      <a:pt x="1077" y="502"/>
                    </a:lnTo>
                    <a:lnTo>
                      <a:pt x="1060" y="471"/>
                    </a:lnTo>
                    <a:lnTo>
                      <a:pt x="1006" y="449"/>
                    </a:lnTo>
                    <a:lnTo>
                      <a:pt x="971" y="401"/>
                    </a:lnTo>
                    <a:lnTo>
                      <a:pt x="927" y="388"/>
                    </a:lnTo>
                    <a:lnTo>
                      <a:pt x="887" y="388"/>
                    </a:lnTo>
                    <a:lnTo>
                      <a:pt x="896" y="348"/>
                    </a:lnTo>
                    <a:lnTo>
                      <a:pt x="852" y="357"/>
                    </a:lnTo>
                    <a:lnTo>
                      <a:pt x="816" y="374"/>
                    </a:lnTo>
                    <a:lnTo>
                      <a:pt x="781" y="388"/>
                    </a:lnTo>
                    <a:lnTo>
                      <a:pt x="733" y="396"/>
                    </a:lnTo>
                    <a:lnTo>
                      <a:pt x="693" y="388"/>
                    </a:lnTo>
                    <a:lnTo>
                      <a:pt x="653" y="379"/>
                    </a:lnTo>
                    <a:lnTo>
                      <a:pt x="618" y="361"/>
                    </a:lnTo>
                    <a:lnTo>
                      <a:pt x="569" y="357"/>
                    </a:lnTo>
                    <a:lnTo>
                      <a:pt x="543" y="357"/>
                    </a:lnTo>
                    <a:lnTo>
                      <a:pt x="521" y="379"/>
                    </a:lnTo>
                    <a:lnTo>
                      <a:pt x="499" y="401"/>
                    </a:lnTo>
                    <a:lnTo>
                      <a:pt x="472" y="436"/>
                    </a:lnTo>
                    <a:lnTo>
                      <a:pt x="459" y="485"/>
                    </a:lnTo>
                    <a:lnTo>
                      <a:pt x="428" y="524"/>
                    </a:lnTo>
                    <a:lnTo>
                      <a:pt x="415" y="586"/>
                    </a:lnTo>
                    <a:lnTo>
                      <a:pt x="393" y="693"/>
                    </a:lnTo>
                    <a:lnTo>
                      <a:pt x="371" y="799"/>
                    </a:lnTo>
                    <a:lnTo>
                      <a:pt x="343" y="860"/>
                    </a:lnTo>
                    <a:lnTo>
                      <a:pt x="268" y="1028"/>
                    </a:lnTo>
                    <a:lnTo>
                      <a:pt x="273" y="988"/>
                    </a:lnTo>
                    <a:lnTo>
                      <a:pt x="273" y="957"/>
                    </a:lnTo>
                    <a:lnTo>
                      <a:pt x="277" y="931"/>
                    </a:lnTo>
                    <a:lnTo>
                      <a:pt x="291" y="878"/>
                    </a:lnTo>
                    <a:lnTo>
                      <a:pt x="264" y="918"/>
                    </a:lnTo>
                    <a:lnTo>
                      <a:pt x="246" y="940"/>
                    </a:lnTo>
                    <a:lnTo>
                      <a:pt x="238" y="962"/>
                    </a:lnTo>
                    <a:lnTo>
                      <a:pt x="224" y="997"/>
                    </a:lnTo>
                    <a:lnTo>
                      <a:pt x="224" y="1015"/>
                    </a:lnTo>
                    <a:lnTo>
                      <a:pt x="216" y="1041"/>
                    </a:lnTo>
                    <a:lnTo>
                      <a:pt x="216" y="1085"/>
                    </a:lnTo>
                    <a:lnTo>
                      <a:pt x="224" y="1112"/>
                    </a:lnTo>
                    <a:lnTo>
                      <a:pt x="224" y="1138"/>
                    </a:lnTo>
                    <a:lnTo>
                      <a:pt x="233" y="1147"/>
                    </a:lnTo>
                    <a:lnTo>
                      <a:pt x="238" y="1187"/>
                    </a:lnTo>
                    <a:lnTo>
                      <a:pt x="242" y="1209"/>
                    </a:lnTo>
                    <a:close/>
                  </a:path>
                </a:pathLst>
              </a:custGeom>
              <a:solidFill>
                <a:srgbClr val="ff5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75" name=""/>
              <p:cNvSpPr/>
              <p:nvPr/>
            </p:nvSpPr>
            <p:spPr>
              <a:xfrm>
                <a:off x="1189080" y="1603440"/>
                <a:ext cx="416160" cy="430560"/>
              </a:xfrm>
              <a:custGeom>
                <a:avLst/>
                <a:gdLst/>
                <a:ahLst/>
                <a:rect l="0" t="0" r="r" b="b"/>
                <a:pathLst>
                  <a:path w="1156" h="1196">
                    <a:moveTo>
                      <a:pt x="35" y="825"/>
                    </a:moveTo>
                    <a:lnTo>
                      <a:pt x="22" y="763"/>
                    </a:lnTo>
                    <a:lnTo>
                      <a:pt x="17" y="693"/>
                    </a:lnTo>
                    <a:lnTo>
                      <a:pt x="4" y="627"/>
                    </a:lnTo>
                    <a:lnTo>
                      <a:pt x="0" y="560"/>
                    </a:lnTo>
                    <a:lnTo>
                      <a:pt x="0" y="471"/>
                    </a:lnTo>
                    <a:lnTo>
                      <a:pt x="4" y="388"/>
                    </a:lnTo>
                    <a:lnTo>
                      <a:pt x="48" y="273"/>
                    </a:lnTo>
                    <a:lnTo>
                      <a:pt x="79" y="207"/>
                    </a:lnTo>
                    <a:lnTo>
                      <a:pt x="127" y="136"/>
                    </a:lnTo>
                    <a:lnTo>
                      <a:pt x="185" y="97"/>
                    </a:lnTo>
                    <a:lnTo>
                      <a:pt x="273" y="30"/>
                    </a:lnTo>
                    <a:lnTo>
                      <a:pt x="357" y="0"/>
                    </a:lnTo>
                    <a:lnTo>
                      <a:pt x="454" y="0"/>
                    </a:lnTo>
                    <a:lnTo>
                      <a:pt x="533" y="0"/>
                    </a:lnTo>
                    <a:lnTo>
                      <a:pt x="640" y="4"/>
                    </a:lnTo>
                    <a:lnTo>
                      <a:pt x="697" y="44"/>
                    </a:lnTo>
                    <a:lnTo>
                      <a:pt x="741" y="119"/>
                    </a:lnTo>
                    <a:lnTo>
                      <a:pt x="741" y="194"/>
                    </a:lnTo>
                    <a:lnTo>
                      <a:pt x="733" y="264"/>
                    </a:lnTo>
                    <a:lnTo>
                      <a:pt x="706" y="326"/>
                    </a:lnTo>
                    <a:lnTo>
                      <a:pt x="768" y="291"/>
                    </a:lnTo>
                    <a:lnTo>
                      <a:pt x="821" y="273"/>
                    </a:lnTo>
                    <a:lnTo>
                      <a:pt x="887" y="255"/>
                    </a:lnTo>
                    <a:lnTo>
                      <a:pt x="953" y="273"/>
                    </a:lnTo>
                    <a:lnTo>
                      <a:pt x="1015" y="308"/>
                    </a:lnTo>
                    <a:lnTo>
                      <a:pt x="1046" y="299"/>
                    </a:lnTo>
                    <a:lnTo>
                      <a:pt x="1072" y="326"/>
                    </a:lnTo>
                    <a:lnTo>
                      <a:pt x="1107" y="388"/>
                    </a:lnTo>
                    <a:lnTo>
                      <a:pt x="1138" y="445"/>
                    </a:lnTo>
                    <a:lnTo>
                      <a:pt x="1147" y="537"/>
                    </a:lnTo>
                    <a:lnTo>
                      <a:pt x="1156" y="666"/>
                    </a:lnTo>
                    <a:lnTo>
                      <a:pt x="1147" y="715"/>
                    </a:lnTo>
                    <a:lnTo>
                      <a:pt x="1138" y="794"/>
                    </a:lnTo>
                    <a:lnTo>
                      <a:pt x="1121" y="860"/>
                    </a:lnTo>
                    <a:lnTo>
                      <a:pt x="1099" y="900"/>
                    </a:lnTo>
                    <a:lnTo>
                      <a:pt x="1059" y="957"/>
                    </a:lnTo>
                    <a:lnTo>
                      <a:pt x="1046" y="984"/>
                    </a:lnTo>
                    <a:lnTo>
                      <a:pt x="988" y="1037"/>
                    </a:lnTo>
                    <a:lnTo>
                      <a:pt x="949" y="1085"/>
                    </a:lnTo>
                    <a:lnTo>
                      <a:pt x="922" y="1151"/>
                    </a:lnTo>
                    <a:lnTo>
                      <a:pt x="891" y="1196"/>
                    </a:lnTo>
                    <a:lnTo>
                      <a:pt x="913" y="1103"/>
                    </a:lnTo>
                    <a:lnTo>
                      <a:pt x="913" y="1024"/>
                    </a:lnTo>
                    <a:lnTo>
                      <a:pt x="922" y="922"/>
                    </a:lnTo>
                    <a:lnTo>
                      <a:pt x="904" y="900"/>
                    </a:lnTo>
                    <a:lnTo>
                      <a:pt x="896" y="860"/>
                    </a:lnTo>
                    <a:lnTo>
                      <a:pt x="904" y="812"/>
                    </a:lnTo>
                    <a:lnTo>
                      <a:pt x="904" y="781"/>
                    </a:lnTo>
                    <a:lnTo>
                      <a:pt x="891" y="702"/>
                    </a:lnTo>
                    <a:lnTo>
                      <a:pt x="887" y="662"/>
                    </a:lnTo>
                    <a:lnTo>
                      <a:pt x="887" y="622"/>
                    </a:lnTo>
                    <a:lnTo>
                      <a:pt x="860" y="577"/>
                    </a:lnTo>
                    <a:lnTo>
                      <a:pt x="847" y="537"/>
                    </a:lnTo>
                    <a:lnTo>
                      <a:pt x="825" y="502"/>
                    </a:lnTo>
                    <a:lnTo>
                      <a:pt x="807" y="471"/>
                    </a:lnTo>
                    <a:lnTo>
                      <a:pt x="759" y="445"/>
                    </a:lnTo>
                    <a:lnTo>
                      <a:pt x="719" y="401"/>
                    </a:lnTo>
                    <a:lnTo>
                      <a:pt x="675" y="388"/>
                    </a:lnTo>
                    <a:lnTo>
                      <a:pt x="618" y="366"/>
                    </a:lnTo>
                    <a:lnTo>
                      <a:pt x="636" y="330"/>
                    </a:lnTo>
                    <a:lnTo>
                      <a:pt x="658" y="255"/>
                    </a:lnTo>
                    <a:lnTo>
                      <a:pt x="666" y="189"/>
                    </a:lnTo>
                    <a:lnTo>
                      <a:pt x="666" y="145"/>
                    </a:lnTo>
                    <a:lnTo>
                      <a:pt x="649" y="110"/>
                    </a:lnTo>
                    <a:lnTo>
                      <a:pt x="609" y="74"/>
                    </a:lnTo>
                    <a:lnTo>
                      <a:pt x="573" y="57"/>
                    </a:lnTo>
                    <a:lnTo>
                      <a:pt x="533" y="44"/>
                    </a:lnTo>
                    <a:lnTo>
                      <a:pt x="480" y="52"/>
                    </a:lnTo>
                    <a:lnTo>
                      <a:pt x="423" y="74"/>
                    </a:lnTo>
                    <a:lnTo>
                      <a:pt x="396" y="110"/>
                    </a:lnTo>
                    <a:lnTo>
                      <a:pt x="370" y="145"/>
                    </a:lnTo>
                    <a:lnTo>
                      <a:pt x="348" y="185"/>
                    </a:lnTo>
                    <a:lnTo>
                      <a:pt x="343" y="229"/>
                    </a:lnTo>
                    <a:lnTo>
                      <a:pt x="321" y="273"/>
                    </a:lnTo>
                    <a:lnTo>
                      <a:pt x="313" y="308"/>
                    </a:lnTo>
                    <a:lnTo>
                      <a:pt x="295" y="357"/>
                    </a:lnTo>
                    <a:lnTo>
                      <a:pt x="273" y="379"/>
                    </a:lnTo>
                    <a:lnTo>
                      <a:pt x="251" y="401"/>
                    </a:lnTo>
                    <a:lnTo>
                      <a:pt x="229" y="432"/>
                    </a:lnTo>
                    <a:lnTo>
                      <a:pt x="211" y="485"/>
                    </a:lnTo>
                    <a:lnTo>
                      <a:pt x="185" y="520"/>
                    </a:lnTo>
                    <a:lnTo>
                      <a:pt x="167" y="586"/>
                    </a:lnTo>
                    <a:lnTo>
                      <a:pt x="149" y="693"/>
                    </a:lnTo>
                    <a:lnTo>
                      <a:pt x="127" y="794"/>
                    </a:lnTo>
                    <a:lnTo>
                      <a:pt x="101" y="860"/>
                    </a:lnTo>
                    <a:lnTo>
                      <a:pt x="22" y="1024"/>
                    </a:lnTo>
                    <a:lnTo>
                      <a:pt x="30" y="984"/>
                    </a:lnTo>
                    <a:lnTo>
                      <a:pt x="30" y="957"/>
                    </a:lnTo>
                    <a:lnTo>
                      <a:pt x="35" y="927"/>
                    </a:lnTo>
                    <a:lnTo>
                      <a:pt x="48" y="878"/>
                    </a:lnTo>
                    <a:lnTo>
                      <a:pt x="35" y="825"/>
                    </a:lnTo>
                    <a:close/>
                  </a:path>
                </a:pathLst>
              </a:custGeom>
              <a:solidFill>
                <a:srgbClr val="ff9f1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76" name=""/>
              <p:cNvSpPr/>
              <p:nvPr/>
            </p:nvSpPr>
            <p:spPr>
              <a:xfrm>
                <a:off x="1508040" y="1989000"/>
                <a:ext cx="27360" cy="70200"/>
              </a:xfrm>
              <a:custGeom>
                <a:avLst/>
                <a:gdLst/>
                <a:ahLst/>
                <a:rect l="0" t="0" r="r" b="b"/>
                <a:pathLst>
                  <a:path w="76" h="195">
                    <a:moveTo>
                      <a:pt x="76" y="22"/>
                    </a:moveTo>
                    <a:lnTo>
                      <a:pt x="76" y="70"/>
                    </a:lnTo>
                    <a:lnTo>
                      <a:pt x="68" y="98"/>
                    </a:lnTo>
                    <a:lnTo>
                      <a:pt x="45" y="146"/>
                    </a:lnTo>
                    <a:lnTo>
                      <a:pt x="31" y="172"/>
                    </a:lnTo>
                    <a:lnTo>
                      <a:pt x="23" y="186"/>
                    </a:lnTo>
                    <a:lnTo>
                      <a:pt x="17" y="195"/>
                    </a:lnTo>
                    <a:lnTo>
                      <a:pt x="0" y="195"/>
                    </a:lnTo>
                    <a:lnTo>
                      <a:pt x="17" y="57"/>
                    </a:lnTo>
                    <a:lnTo>
                      <a:pt x="45" y="0"/>
                    </a:lnTo>
                    <a:lnTo>
                      <a:pt x="76" y="22"/>
                    </a:lnTo>
                    <a:close/>
                  </a:path>
                </a:pathLst>
              </a:custGeom>
              <a:solidFill>
                <a:srgbClr val="ffdfbf"/>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777" name=""/>
              <p:cNvSpPr/>
              <p:nvPr/>
            </p:nvSpPr>
            <p:spPr>
              <a:xfrm>
                <a:off x="1150920" y="1984320"/>
                <a:ext cx="28800" cy="66960"/>
              </a:xfrm>
              <a:custGeom>
                <a:avLst/>
                <a:gdLst/>
                <a:ahLst/>
                <a:rect l="0" t="0" r="r" b="b"/>
                <a:pathLst>
                  <a:path w="80" h="186">
                    <a:moveTo>
                      <a:pt x="0" y="22"/>
                    </a:moveTo>
                    <a:lnTo>
                      <a:pt x="8" y="66"/>
                    </a:lnTo>
                    <a:lnTo>
                      <a:pt x="13" y="92"/>
                    </a:lnTo>
                    <a:lnTo>
                      <a:pt x="35" y="142"/>
                    </a:lnTo>
                    <a:lnTo>
                      <a:pt x="49" y="168"/>
                    </a:lnTo>
                    <a:lnTo>
                      <a:pt x="58" y="177"/>
                    </a:lnTo>
                    <a:lnTo>
                      <a:pt x="71" y="186"/>
                    </a:lnTo>
                    <a:lnTo>
                      <a:pt x="80" y="186"/>
                    </a:lnTo>
                    <a:lnTo>
                      <a:pt x="62" y="57"/>
                    </a:lnTo>
                    <a:lnTo>
                      <a:pt x="35" y="0"/>
                    </a:lnTo>
                    <a:lnTo>
                      <a:pt x="0" y="22"/>
                    </a:lnTo>
                    <a:close/>
                  </a:path>
                </a:pathLst>
              </a:custGeom>
              <a:solidFill>
                <a:srgbClr val="ffdfbf"/>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778" name=""/>
              <p:cNvSpPr/>
              <p:nvPr/>
            </p:nvSpPr>
            <p:spPr>
              <a:xfrm>
                <a:off x="1430280" y="2125800"/>
                <a:ext cx="8280" cy="5040"/>
              </a:xfrm>
              <a:custGeom>
                <a:avLst/>
                <a:gdLst/>
                <a:ahLst/>
                <a:rect l="0" t="0" r="r" b="b"/>
                <a:pathLst>
                  <a:path w="23" h="14">
                    <a:moveTo>
                      <a:pt x="23" y="0"/>
                    </a:moveTo>
                    <a:lnTo>
                      <a:pt x="0" y="4"/>
                    </a:lnTo>
                    <a:lnTo>
                      <a:pt x="0" y="9"/>
                    </a:lnTo>
                    <a:lnTo>
                      <a:pt x="0" y="14"/>
                    </a:lnTo>
                    <a:lnTo>
                      <a:pt x="23" y="0"/>
                    </a:lnTo>
                    <a:close/>
                  </a:path>
                </a:pathLst>
              </a:custGeom>
              <a:solidFill>
                <a:srgbClr val="ff9f7f"/>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779" name=""/>
              <p:cNvSpPr/>
              <p:nvPr/>
            </p:nvSpPr>
            <p:spPr>
              <a:xfrm>
                <a:off x="1284120" y="1911240"/>
                <a:ext cx="38520" cy="44640"/>
              </a:xfrm>
              <a:custGeom>
                <a:avLst/>
                <a:gdLst/>
                <a:ahLst/>
                <a:rect l="0" t="0" r="r" b="b"/>
                <a:pathLst>
                  <a:path w="107" h="124">
                    <a:moveTo>
                      <a:pt x="67" y="26"/>
                    </a:moveTo>
                    <a:lnTo>
                      <a:pt x="85" y="39"/>
                    </a:lnTo>
                    <a:lnTo>
                      <a:pt x="99" y="71"/>
                    </a:lnTo>
                    <a:lnTo>
                      <a:pt x="103" y="84"/>
                    </a:lnTo>
                    <a:lnTo>
                      <a:pt x="107" y="111"/>
                    </a:lnTo>
                    <a:lnTo>
                      <a:pt x="107" y="124"/>
                    </a:lnTo>
                    <a:lnTo>
                      <a:pt x="85" y="111"/>
                    </a:lnTo>
                    <a:lnTo>
                      <a:pt x="75" y="102"/>
                    </a:lnTo>
                    <a:lnTo>
                      <a:pt x="53" y="102"/>
                    </a:lnTo>
                    <a:lnTo>
                      <a:pt x="31" y="89"/>
                    </a:lnTo>
                    <a:lnTo>
                      <a:pt x="0" y="80"/>
                    </a:lnTo>
                    <a:lnTo>
                      <a:pt x="0" y="71"/>
                    </a:lnTo>
                    <a:lnTo>
                      <a:pt x="8" y="57"/>
                    </a:lnTo>
                    <a:lnTo>
                      <a:pt x="13" y="44"/>
                    </a:lnTo>
                    <a:lnTo>
                      <a:pt x="17" y="17"/>
                    </a:lnTo>
                    <a:lnTo>
                      <a:pt x="8" y="0"/>
                    </a:lnTo>
                    <a:lnTo>
                      <a:pt x="67" y="26"/>
                    </a:lnTo>
                    <a:close/>
                  </a:path>
                </a:pathLst>
              </a:custGeom>
              <a:solidFill>
                <a:srgbClr val="ff9f7f"/>
              </a:solidFill>
              <a:ln w="0">
                <a:noFill/>
              </a:ln>
            </p:spPr>
            <p:txBody>
              <a:bodyPr lIns="90000" rIns="90000" tIns="-360" bIns="-360" anchor="t">
                <a:noAutofit/>
              </a:bodyPr>
              <a:p>
                <a:endParaRPr b="0" lang="en-US" sz="1800" spc="-1" strike="noStrike">
                  <a:solidFill>
                    <a:srgbClr val="000000"/>
                  </a:solidFill>
                  <a:latin typeface="Arial"/>
                </a:endParaRPr>
              </a:p>
            </p:txBody>
          </p:sp>
          <p:grpSp>
            <p:nvGrpSpPr>
              <p:cNvPr id="780" name=""/>
              <p:cNvGrpSpPr/>
              <p:nvPr/>
            </p:nvGrpSpPr>
            <p:grpSpPr>
              <a:xfrm>
                <a:off x="1201680" y="1893960"/>
                <a:ext cx="295920" cy="38520"/>
                <a:chOff x="1201680" y="1893960"/>
                <a:chExt cx="295920" cy="38520"/>
              </a:xfrm>
            </p:grpSpPr>
            <p:sp>
              <p:nvSpPr>
                <p:cNvPr id="781" name=""/>
                <p:cNvSpPr/>
                <p:nvPr/>
              </p:nvSpPr>
              <p:spPr>
                <a:xfrm>
                  <a:off x="1389240" y="1893960"/>
                  <a:ext cx="108360" cy="25920"/>
                </a:xfrm>
                <a:custGeom>
                  <a:avLst/>
                  <a:gdLst/>
                  <a:ahLst/>
                  <a:rect l="0" t="0" r="r" b="b"/>
                  <a:pathLst>
                    <a:path w="301" h="72">
                      <a:moveTo>
                        <a:pt x="22" y="53"/>
                      </a:moveTo>
                      <a:lnTo>
                        <a:pt x="39" y="40"/>
                      </a:lnTo>
                      <a:lnTo>
                        <a:pt x="57" y="31"/>
                      </a:lnTo>
                      <a:lnTo>
                        <a:pt x="74" y="23"/>
                      </a:lnTo>
                      <a:lnTo>
                        <a:pt x="102" y="8"/>
                      </a:lnTo>
                      <a:lnTo>
                        <a:pt x="137" y="8"/>
                      </a:lnTo>
                      <a:lnTo>
                        <a:pt x="168" y="0"/>
                      </a:lnTo>
                      <a:lnTo>
                        <a:pt x="190" y="0"/>
                      </a:lnTo>
                      <a:lnTo>
                        <a:pt x="221" y="8"/>
                      </a:lnTo>
                      <a:lnTo>
                        <a:pt x="235" y="8"/>
                      </a:lnTo>
                      <a:lnTo>
                        <a:pt x="262" y="23"/>
                      </a:lnTo>
                      <a:lnTo>
                        <a:pt x="284" y="40"/>
                      </a:lnTo>
                      <a:lnTo>
                        <a:pt x="301" y="63"/>
                      </a:lnTo>
                      <a:lnTo>
                        <a:pt x="275" y="45"/>
                      </a:lnTo>
                      <a:lnTo>
                        <a:pt x="248" y="36"/>
                      </a:lnTo>
                      <a:lnTo>
                        <a:pt x="203" y="27"/>
                      </a:lnTo>
                      <a:lnTo>
                        <a:pt x="186" y="27"/>
                      </a:lnTo>
                      <a:lnTo>
                        <a:pt x="168" y="27"/>
                      </a:lnTo>
                      <a:lnTo>
                        <a:pt x="146" y="27"/>
                      </a:lnTo>
                      <a:lnTo>
                        <a:pt x="124" y="31"/>
                      </a:lnTo>
                      <a:lnTo>
                        <a:pt x="98" y="40"/>
                      </a:lnTo>
                      <a:lnTo>
                        <a:pt x="84" y="53"/>
                      </a:lnTo>
                      <a:lnTo>
                        <a:pt x="61" y="63"/>
                      </a:lnTo>
                      <a:lnTo>
                        <a:pt x="44" y="68"/>
                      </a:lnTo>
                      <a:lnTo>
                        <a:pt x="39" y="72"/>
                      </a:lnTo>
                      <a:lnTo>
                        <a:pt x="22" y="72"/>
                      </a:lnTo>
                      <a:lnTo>
                        <a:pt x="0" y="68"/>
                      </a:lnTo>
                      <a:lnTo>
                        <a:pt x="22" y="53"/>
                      </a:lnTo>
                      <a:close/>
                    </a:path>
                  </a:pathLst>
                </a:custGeom>
                <a:solidFill>
                  <a:srgbClr val="bf7f3f"/>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782" name=""/>
                <p:cNvSpPr/>
                <p:nvPr/>
              </p:nvSpPr>
              <p:spPr>
                <a:xfrm>
                  <a:off x="1201680" y="1898640"/>
                  <a:ext cx="106560" cy="33840"/>
                </a:xfrm>
                <a:custGeom>
                  <a:avLst/>
                  <a:gdLst/>
                  <a:ahLst/>
                  <a:rect l="0" t="0" r="r" b="b"/>
                  <a:pathLst>
                    <a:path w="296" h="94">
                      <a:moveTo>
                        <a:pt x="296" y="58"/>
                      </a:moveTo>
                      <a:lnTo>
                        <a:pt x="283" y="27"/>
                      </a:lnTo>
                      <a:lnTo>
                        <a:pt x="265" y="13"/>
                      </a:lnTo>
                      <a:lnTo>
                        <a:pt x="239" y="8"/>
                      </a:lnTo>
                      <a:lnTo>
                        <a:pt x="203" y="0"/>
                      </a:lnTo>
                      <a:lnTo>
                        <a:pt x="159" y="0"/>
                      </a:lnTo>
                      <a:lnTo>
                        <a:pt x="114" y="0"/>
                      </a:lnTo>
                      <a:lnTo>
                        <a:pt x="66" y="8"/>
                      </a:lnTo>
                      <a:lnTo>
                        <a:pt x="22" y="58"/>
                      </a:lnTo>
                      <a:lnTo>
                        <a:pt x="0" y="94"/>
                      </a:lnTo>
                      <a:lnTo>
                        <a:pt x="39" y="49"/>
                      </a:lnTo>
                      <a:lnTo>
                        <a:pt x="83" y="36"/>
                      </a:lnTo>
                      <a:lnTo>
                        <a:pt x="123" y="27"/>
                      </a:lnTo>
                      <a:lnTo>
                        <a:pt x="177" y="27"/>
                      </a:lnTo>
                      <a:lnTo>
                        <a:pt x="217" y="40"/>
                      </a:lnTo>
                      <a:lnTo>
                        <a:pt x="252" y="49"/>
                      </a:lnTo>
                      <a:lnTo>
                        <a:pt x="296" y="58"/>
                      </a:lnTo>
                      <a:close/>
                    </a:path>
                  </a:pathLst>
                </a:custGeom>
                <a:solidFill>
                  <a:srgbClr val="bf7f3f"/>
                </a:solidFill>
                <a:ln w="0">
                  <a:noFill/>
                </a:ln>
              </p:spPr>
              <p:txBody>
                <a:bodyPr lIns="90000" rIns="90000" tIns="-11160" bIns="-11160" anchor="t">
                  <a:noAutofit/>
                </a:bodyPr>
                <a:p>
                  <a:endParaRPr b="0" lang="en-US" sz="1800" spc="-1" strike="noStrike">
                    <a:solidFill>
                      <a:srgbClr val="000000"/>
                    </a:solidFill>
                    <a:latin typeface="Arial"/>
                  </a:endParaRPr>
                </a:p>
              </p:txBody>
            </p:sp>
          </p:grpSp>
          <p:grpSp>
            <p:nvGrpSpPr>
              <p:cNvPr id="783" name=""/>
              <p:cNvGrpSpPr/>
              <p:nvPr/>
            </p:nvGrpSpPr>
            <p:grpSpPr>
              <a:xfrm>
                <a:off x="1398600" y="1933560"/>
                <a:ext cx="72000" cy="36720"/>
                <a:chOff x="1398600" y="1933560"/>
                <a:chExt cx="72000" cy="36720"/>
              </a:xfrm>
            </p:grpSpPr>
            <p:sp>
              <p:nvSpPr>
                <p:cNvPr id="784" name=""/>
                <p:cNvSpPr/>
                <p:nvPr/>
              </p:nvSpPr>
              <p:spPr>
                <a:xfrm>
                  <a:off x="1398600" y="1962000"/>
                  <a:ext cx="68760" cy="8280"/>
                </a:xfrm>
                <a:custGeom>
                  <a:avLst/>
                  <a:gdLst/>
                  <a:ahLst/>
                  <a:rect l="0" t="0" r="r" b="b"/>
                  <a:pathLst>
                    <a:path w="191" h="23">
                      <a:moveTo>
                        <a:pt x="8" y="4"/>
                      </a:moveTo>
                      <a:lnTo>
                        <a:pt x="26" y="8"/>
                      </a:lnTo>
                      <a:lnTo>
                        <a:pt x="58" y="8"/>
                      </a:lnTo>
                      <a:lnTo>
                        <a:pt x="93" y="8"/>
                      </a:lnTo>
                      <a:lnTo>
                        <a:pt x="111" y="8"/>
                      </a:lnTo>
                      <a:lnTo>
                        <a:pt x="137" y="8"/>
                      </a:lnTo>
                      <a:lnTo>
                        <a:pt x="156" y="8"/>
                      </a:lnTo>
                      <a:lnTo>
                        <a:pt x="173" y="8"/>
                      </a:lnTo>
                      <a:lnTo>
                        <a:pt x="191" y="0"/>
                      </a:lnTo>
                      <a:lnTo>
                        <a:pt x="173" y="14"/>
                      </a:lnTo>
                      <a:lnTo>
                        <a:pt x="160" y="18"/>
                      </a:lnTo>
                      <a:lnTo>
                        <a:pt x="151" y="23"/>
                      </a:lnTo>
                      <a:lnTo>
                        <a:pt x="133" y="23"/>
                      </a:lnTo>
                      <a:lnTo>
                        <a:pt x="111" y="23"/>
                      </a:lnTo>
                      <a:lnTo>
                        <a:pt x="98" y="23"/>
                      </a:lnTo>
                      <a:lnTo>
                        <a:pt x="80" y="18"/>
                      </a:lnTo>
                      <a:lnTo>
                        <a:pt x="67" y="14"/>
                      </a:lnTo>
                      <a:lnTo>
                        <a:pt x="44" y="14"/>
                      </a:lnTo>
                      <a:lnTo>
                        <a:pt x="30" y="14"/>
                      </a:lnTo>
                      <a:lnTo>
                        <a:pt x="17" y="8"/>
                      </a:lnTo>
                      <a:lnTo>
                        <a:pt x="8" y="8"/>
                      </a:lnTo>
                      <a:lnTo>
                        <a:pt x="0" y="8"/>
                      </a:lnTo>
                      <a:lnTo>
                        <a:pt x="8" y="4"/>
                      </a:lnTo>
                      <a:close/>
                    </a:path>
                  </a:pathLst>
                </a:custGeom>
                <a:solidFill>
                  <a:srgbClr val="ff9f7f"/>
                </a:solidFill>
                <a:ln w="0">
                  <a:noFill/>
                </a:ln>
              </p:spPr>
              <p:txBody>
                <a:bodyPr lIns="90000" rIns="90000" tIns="-36720" bIns="-36720" anchor="t">
                  <a:noAutofit/>
                </a:bodyPr>
                <a:p>
                  <a:endParaRPr b="0" lang="en-US" sz="1800" spc="-1" strike="noStrike">
                    <a:solidFill>
                      <a:srgbClr val="000000"/>
                    </a:solidFill>
                    <a:latin typeface="Arial"/>
                  </a:endParaRPr>
                </a:p>
              </p:txBody>
            </p:sp>
            <p:grpSp>
              <p:nvGrpSpPr>
                <p:cNvPr id="785" name=""/>
                <p:cNvGrpSpPr/>
                <p:nvPr/>
              </p:nvGrpSpPr>
              <p:grpSpPr>
                <a:xfrm>
                  <a:off x="1405080" y="1933560"/>
                  <a:ext cx="65520" cy="28800"/>
                  <a:chOff x="1405080" y="1933560"/>
                  <a:chExt cx="65520" cy="28800"/>
                </a:xfrm>
              </p:grpSpPr>
              <p:sp>
                <p:nvSpPr>
                  <p:cNvPr id="786" name=""/>
                  <p:cNvSpPr/>
                  <p:nvPr/>
                </p:nvSpPr>
                <p:spPr>
                  <a:xfrm>
                    <a:off x="1405080" y="1938240"/>
                    <a:ext cx="62280" cy="18000"/>
                  </a:xfrm>
                  <a:custGeom>
                    <a:avLst/>
                    <a:gdLst/>
                    <a:ahLst/>
                    <a:rect l="0" t="0" r="r" b="b"/>
                    <a:pathLst>
                      <a:path w="173" h="50">
                        <a:moveTo>
                          <a:pt x="0" y="41"/>
                        </a:moveTo>
                        <a:lnTo>
                          <a:pt x="17" y="27"/>
                        </a:lnTo>
                        <a:lnTo>
                          <a:pt x="30" y="18"/>
                        </a:lnTo>
                        <a:lnTo>
                          <a:pt x="45" y="8"/>
                        </a:lnTo>
                        <a:lnTo>
                          <a:pt x="58" y="0"/>
                        </a:lnTo>
                        <a:lnTo>
                          <a:pt x="75" y="0"/>
                        </a:lnTo>
                        <a:lnTo>
                          <a:pt x="98" y="0"/>
                        </a:lnTo>
                        <a:lnTo>
                          <a:pt x="106" y="8"/>
                        </a:lnTo>
                        <a:lnTo>
                          <a:pt x="120" y="8"/>
                        </a:lnTo>
                        <a:lnTo>
                          <a:pt x="134" y="18"/>
                        </a:lnTo>
                        <a:lnTo>
                          <a:pt x="143" y="18"/>
                        </a:lnTo>
                        <a:lnTo>
                          <a:pt x="156" y="27"/>
                        </a:lnTo>
                        <a:lnTo>
                          <a:pt x="173" y="31"/>
                        </a:lnTo>
                        <a:lnTo>
                          <a:pt x="173" y="41"/>
                        </a:lnTo>
                        <a:lnTo>
                          <a:pt x="156" y="50"/>
                        </a:lnTo>
                        <a:lnTo>
                          <a:pt x="134" y="50"/>
                        </a:lnTo>
                        <a:lnTo>
                          <a:pt x="106" y="50"/>
                        </a:lnTo>
                        <a:lnTo>
                          <a:pt x="71" y="50"/>
                        </a:lnTo>
                        <a:lnTo>
                          <a:pt x="39" y="50"/>
                        </a:lnTo>
                        <a:lnTo>
                          <a:pt x="22" y="50"/>
                        </a:lnTo>
                        <a:lnTo>
                          <a:pt x="0" y="41"/>
                        </a:lnTo>
                        <a:close/>
                      </a:path>
                    </a:pathLst>
                  </a:custGeom>
                  <a:solidFill>
                    <a:srgbClr val="ffffff"/>
                  </a:solidFill>
                  <a:ln w="0">
                    <a:noFill/>
                  </a:ln>
                </p:spPr>
                <p:txBody>
                  <a:bodyPr lIns="90000" rIns="90000" tIns="-27000" bIns="-27000" anchor="t">
                    <a:noAutofit/>
                  </a:bodyPr>
                  <a:p>
                    <a:endParaRPr b="0" lang="en-US" sz="1800" spc="-1" strike="noStrike">
                      <a:solidFill>
                        <a:srgbClr val="000000"/>
                      </a:solidFill>
                      <a:latin typeface="Arial"/>
                    </a:endParaRPr>
                  </a:p>
                </p:txBody>
              </p:sp>
              <p:grpSp>
                <p:nvGrpSpPr>
                  <p:cNvPr id="787" name=""/>
                  <p:cNvGrpSpPr/>
                  <p:nvPr/>
                </p:nvGrpSpPr>
                <p:grpSpPr>
                  <a:xfrm>
                    <a:off x="1422360" y="1936800"/>
                    <a:ext cx="30240" cy="25560"/>
                    <a:chOff x="1422360" y="1936800"/>
                    <a:chExt cx="30240" cy="25560"/>
                  </a:xfrm>
                </p:grpSpPr>
                <p:sp>
                  <p:nvSpPr>
                    <p:cNvPr id="788" name=""/>
                    <p:cNvSpPr/>
                    <p:nvPr/>
                  </p:nvSpPr>
                  <p:spPr>
                    <a:xfrm>
                      <a:off x="1422360" y="1936800"/>
                      <a:ext cx="30240" cy="25560"/>
                    </a:xfrm>
                    <a:prstGeom prst="ellipse">
                      <a:avLst/>
                    </a:prstGeom>
                    <a:solidFill>
                      <a:srgbClr val="005f7f"/>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789" name=""/>
                    <p:cNvSpPr/>
                    <p:nvPr/>
                  </p:nvSpPr>
                  <p:spPr>
                    <a:xfrm>
                      <a:off x="1424160" y="1938240"/>
                      <a:ext cx="25560" cy="23760"/>
                    </a:xfrm>
                    <a:prstGeom prst="ellipse">
                      <a:avLst/>
                    </a:prstGeom>
                    <a:solidFill>
                      <a:srgbClr val="00a4bb"/>
                    </a:solidFill>
                    <a:ln w="0">
                      <a:noFill/>
                    </a:ln>
                  </p:spPr>
                  <p:txBody>
                    <a:bodyPr lIns="90000" rIns="90000" tIns="-21240" bIns="-21240" anchor="t">
                      <a:noAutofit/>
                    </a:bodyPr>
                    <a:p>
                      <a:endParaRPr b="0" lang="en-US" sz="1800" spc="-1" strike="noStrike">
                        <a:solidFill>
                          <a:srgbClr val="000000"/>
                        </a:solidFill>
                        <a:latin typeface="Arial"/>
                      </a:endParaRPr>
                    </a:p>
                  </p:txBody>
                </p:sp>
                <p:sp>
                  <p:nvSpPr>
                    <p:cNvPr id="790" name=""/>
                    <p:cNvSpPr/>
                    <p:nvPr/>
                  </p:nvSpPr>
                  <p:spPr>
                    <a:xfrm>
                      <a:off x="1432080" y="1940040"/>
                      <a:ext cx="12600" cy="15840"/>
                    </a:xfrm>
                    <a:prstGeom prst="ellipse">
                      <a:avLst/>
                    </a:prstGeom>
                    <a:solidFill>
                      <a:srgbClr val="000000"/>
                    </a:solidFill>
                    <a:ln w="0">
                      <a:noFill/>
                    </a:ln>
                  </p:spPr>
                  <p:txBody>
                    <a:bodyPr lIns="90000" rIns="90000" tIns="-29160" bIns="-29160" anchor="t">
                      <a:noAutofit/>
                    </a:bodyPr>
                    <a:p>
                      <a:endParaRPr b="0" lang="en-US" sz="1800" spc="-1" strike="noStrike">
                        <a:solidFill>
                          <a:srgbClr val="ffffff"/>
                        </a:solidFill>
                        <a:latin typeface="Arial"/>
                      </a:endParaRPr>
                    </a:p>
                  </p:txBody>
                </p:sp>
                <p:sp>
                  <p:nvSpPr>
                    <p:cNvPr id="791" name=""/>
                    <p:cNvSpPr/>
                    <p:nvPr/>
                  </p:nvSpPr>
                  <p:spPr>
                    <a:xfrm>
                      <a:off x="1425600" y="1941480"/>
                      <a:ext cx="4680" cy="3240"/>
                    </a:xfrm>
                    <a:prstGeom prst="ellipse">
                      <a:avLst/>
                    </a:prstGeom>
                    <a:solidFill>
                      <a:srgbClr val="ffffff"/>
                    </a:solidFill>
                    <a:ln w="0">
                      <a:noFill/>
                    </a:ln>
                  </p:spPr>
                  <p:txBody>
                    <a:bodyPr lIns="90000" rIns="90000" tIns="-41760" bIns="-41760" anchor="t">
                      <a:noAutofit/>
                    </a:bodyPr>
                    <a:p>
                      <a:endParaRPr b="0" lang="en-US" sz="1800" spc="-1" strike="noStrike">
                        <a:solidFill>
                          <a:srgbClr val="000000"/>
                        </a:solidFill>
                        <a:latin typeface="Arial"/>
                      </a:endParaRPr>
                    </a:p>
                  </p:txBody>
                </p:sp>
              </p:grpSp>
              <p:sp>
                <p:nvSpPr>
                  <p:cNvPr id="792" name=""/>
                  <p:cNvSpPr/>
                  <p:nvPr/>
                </p:nvSpPr>
                <p:spPr>
                  <a:xfrm>
                    <a:off x="1428840" y="1962000"/>
                    <a:ext cx="41040" cy="0"/>
                  </a:xfrm>
                  <a:custGeom>
                    <a:avLst/>
                    <a:gdLst/>
                    <a:ahLst/>
                    <a:rect l="0" t="0" r="r" b="b"/>
                    <a:pathLst>
                      <a:path w="114" h="0">
                        <a:moveTo>
                          <a:pt x="0" y="0"/>
                        </a:moveTo>
                        <a:lnTo>
                          <a:pt x="17" y="0"/>
                        </a:lnTo>
                        <a:lnTo>
                          <a:pt x="35" y="0"/>
                        </a:lnTo>
                        <a:lnTo>
                          <a:pt x="57" y="0"/>
                        </a:lnTo>
                        <a:lnTo>
                          <a:pt x="74" y="0"/>
                        </a:lnTo>
                        <a:lnTo>
                          <a:pt x="88" y="0"/>
                        </a:lnTo>
                        <a:lnTo>
                          <a:pt x="105" y="0"/>
                        </a:lnTo>
                        <a:lnTo>
                          <a:pt x="110" y="0"/>
                        </a:lnTo>
                        <a:lnTo>
                          <a:pt x="114" y="0"/>
                        </a:lnTo>
                        <a:lnTo>
                          <a:pt x="110" y="0"/>
                        </a:lnTo>
                        <a:lnTo>
                          <a:pt x="114" y="0"/>
                        </a:lnTo>
                        <a:lnTo>
                          <a:pt x="101" y="0"/>
                        </a:lnTo>
                        <a:lnTo>
                          <a:pt x="110" y="0"/>
                        </a:lnTo>
                        <a:lnTo>
                          <a:pt x="88" y="0"/>
                        </a:lnTo>
                        <a:lnTo>
                          <a:pt x="97" y="0"/>
                        </a:lnTo>
                        <a:lnTo>
                          <a:pt x="83" y="0"/>
                        </a:lnTo>
                        <a:lnTo>
                          <a:pt x="88" y="0"/>
                        </a:lnTo>
                        <a:lnTo>
                          <a:pt x="74" y="0"/>
                        </a:lnTo>
                        <a:lnTo>
                          <a:pt x="61" y="0"/>
                        </a:lnTo>
                        <a:lnTo>
                          <a:pt x="39" y="0"/>
                        </a:lnTo>
                        <a:lnTo>
                          <a:pt x="17"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93" name=""/>
                  <p:cNvSpPr/>
                  <p:nvPr/>
                </p:nvSpPr>
                <p:spPr>
                  <a:xfrm>
                    <a:off x="1411200" y="1938240"/>
                    <a:ext cx="55800" cy="14760"/>
                  </a:xfrm>
                  <a:custGeom>
                    <a:avLst/>
                    <a:gdLst/>
                    <a:ahLst/>
                    <a:rect l="0" t="0" r="r" b="b"/>
                    <a:pathLst>
                      <a:path w="155" h="41">
                        <a:moveTo>
                          <a:pt x="0" y="27"/>
                        </a:moveTo>
                        <a:lnTo>
                          <a:pt x="17" y="18"/>
                        </a:lnTo>
                        <a:lnTo>
                          <a:pt x="26" y="14"/>
                        </a:lnTo>
                        <a:lnTo>
                          <a:pt x="39" y="8"/>
                        </a:lnTo>
                        <a:lnTo>
                          <a:pt x="57" y="8"/>
                        </a:lnTo>
                        <a:lnTo>
                          <a:pt x="70" y="8"/>
                        </a:lnTo>
                        <a:lnTo>
                          <a:pt x="80" y="8"/>
                        </a:lnTo>
                        <a:lnTo>
                          <a:pt x="98" y="14"/>
                        </a:lnTo>
                        <a:lnTo>
                          <a:pt x="115" y="23"/>
                        </a:lnTo>
                        <a:lnTo>
                          <a:pt x="124" y="27"/>
                        </a:lnTo>
                        <a:lnTo>
                          <a:pt x="137" y="32"/>
                        </a:lnTo>
                        <a:lnTo>
                          <a:pt x="155" y="41"/>
                        </a:lnTo>
                        <a:lnTo>
                          <a:pt x="146" y="32"/>
                        </a:lnTo>
                        <a:lnTo>
                          <a:pt x="133" y="27"/>
                        </a:lnTo>
                        <a:lnTo>
                          <a:pt x="115" y="14"/>
                        </a:lnTo>
                        <a:lnTo>
                          <a:pt x="98" y="8"/>
                        </a:lnTo>
                        <a:lnTo>
                          <a:pt x="80" y="8"/>
                        </a:lnTo>
                        <a:lnTo>
                          <a:pt x="66" y="0"/>
                        </a:lnTo>
                        <a:lnTo>
                          <a:pt x="48" y="0"/>
                        </a:lnTo>
                        <a:lnTo>
                          <a:pt x="39" y="8"/>
                        </a:lnTo>
                        <a:lnTo>
                          <a:pt x="26" y="8"/>
                        </a:lnTo>
                        <a:lnTo>
                          <a:pt x="17" y="14"/>
                        </a:lnTo>
                        <a:lnTo>
                          <a:pt x="0" y="27"/>
                        </a:lnTo>
                        <a:close/>
                      </a:path>
                    </a:pathLst>
                  </a:custGeom>
                  <a:solidFill>
                    <a:srgbClr val="9f9f9f"/>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794" name=""/>
                  <p:cNvSpPr/>
                  <p:nvPr/>
                </p:nvSpPr>
                <p:spPr>
                  <a:xfrm>
                    <a:off x="1413000" y="1938240"/>
                    <a:ext cx="57600" cy="9720"/>
                  </a:xfrm>
                  <a:custGeom>
                    <a:avLst/>
                    <a:gdLst/>
                    <a:ahLst/>
                    <a:rect l="0" t="0" r="r" b="b"/>
                    <a:pathLst>
                      <a:path w="160" h="27">
                        <a:moveTo>
                          <a:pt x="0" y="18"/>
                        </a:moveTo>
                        <a:lnTo>
                          <a:pt x="13" y="14"/>
                        </a:lnTo>
                        <a:lnTo>
                          <a:pt x="26" y="8"/>
                        </a:lnTo>
                        <a:lnTo>
                          <a:pt x="35" y="4"/>
                        </a:lnTo>
                        <a:lnTo>
                          <a:pt x="58" y="4"/>
                        </a:lnTo>
                        <a:lnTo>
                          <a:pt x="80" y="4"/>
                        </a:lnTo>
                        <a:lnTo>
                          <a:pt x="89" y="4"/>
                        </a:lnTo>
                        <a:lnTo>
                          <a:pt x="102" y="14"/>
                        </a:lnTo>
                        <a:lnTo>
                          <a:pt x="121" y="14"/>
                        </a:lnTo>
                        <a:lnTo>
                          <a:pt x="134" y="18"/>
                        </a:lnTo>
                        <a:lnTo>
                          <a:pt x="147" y="23"/>
                        </a:lnTo>
                        <a:lnTo>
                          <a:pt x="160" y="27"/>
                        </a:lnTo>
                        <a:lnTo>
                          <a:pt x="156" y="23"/>
                        </a:lnTo>
                        <a:lnTo>
                          <a:pt x="138" y="14"/>
                        </a:lnTo>
                        <a:lnTo>
                          <a:pt x="121" y="14"/>
                        </a:lnTo>
                        <a:lnTo>
                          <a:pt x="102" y="4"/>
                        </a:lnTo>
                        <a:lnTo>
                          <a:pt x="89" y="0"/>
                        </a:lnTo>
                        <a:lnTo>
                          <a:pt x="71" y="0"/>
                        </a:lnTo>
                        <a:lnTo>
                          <a:pt x="58" y="0"/>
                        </a:lnTo>
                        <a:lnTo>
                          <a:pt x="35" y="0"/>
                        </a:lnTo>
                        <a:lnTo>
                          <a:pt x="30" y="4"/>
                        </a:lnTo>
                        <a:lnTo>
                          <a:pt x="22" y="8"/>
                        </a:lnTo>
                        <a:lnTo>
                          <a:pt x="0" y="18"/>
                        </a:lnTo>
                        <a:close/>
                      </a:path>
                    </a:pathLst>
                  </a:custGeom>
                  <a:solidFill>
                    <a:srgbClr val="000000"/>
                  </a:solidFill>
                  <a:ln w="0">
                    <a:noFill/>
                  </a:ln>
                </p:spPr>
                <p:txBody>
                  <a:bodyPr lIns="90000" rIns="90000" tIns="-35280" bIns="-35280" anchor="t">
                    <a:noAutofit/>
                  </a:bodyPr>
                  <a:p>
                    <a:endParaRPr b="0" lang="en-US" sz="1800" spc="-1" strike="noStrike">
                      <a:solidFill>
                        <a:srgbClr val="ffffff"/>
                      </a:solidFill>
                      <a:latin typeface="Arial"/>
                    </a:endParaRPr>
                  </a:p>
                </p:txBody>
              </p:sp>
              <p:sp>
                <p:nvSpPr>
                  <p:cNvPr id="795" name=""/>
                  <p:cNvSpPr/>
                  <p:nvPr/>
                </p:nvSpPr>
                <p:spPr>
                  <a:xfrm>
                    <a:off x="1406520" y="1933560"/>
                    <a:ext cx="59040" cy="8280"/>
                  </a:xfrm>
                  <a:custGeom>
                    <a:avLst/>
                    <a:gdLst/>
                    <a:ahLst/>
                    <a:rect l="0" t="0" r="r" b="b"/>
                    <a:pathLst>
                      <a:path w="164" h="23">
                        <a:moveTo>
                          <a:pt x="0" y="23"/>
                        </a:moveTo>
                        <a:lnTo>
                          <a:pt x="26" y="14"/>
                        </a:lnTo>
                        <a:lnTo>
                          <a:pt x="39" y="4"/>
                        </a:lnTo>
                        <a:lnTo>
                          <a:pt x="52" y="4"/>
                        </a:lnTo>
                        <a:lnTo>
                          <a:pt x="70" y="0"/>
                        </a:lnTo>
                        <a:lnTo>
                          <a:pt x="93" y="4"/>
                        </a:lnTo>
                        <a:lnTo>
                          <a:pt x="115" y="4"/>
                        </a:lnTo>
                        <a:lnTo>
                          <a:pt x="128" y="8"/>
                        </a:lnTo>
                        <a:lnTo>
                          <a:pt x="142" y="14"/>
                        </a:lnTo>
                        <a:lnTo>
                          <a:pt x="164" y="23"/>
                        </a:lnTo>
                        <a:lnTo>
                          <a:pt x="142" y="14"/>
                        </a:lnTo>
                        <a:lnTo>
                          <a:pt x="133" y="8"/>
                        </a:lnTo>
                        <a:lnTo>
                          <a:pt x="115" y="4"/>
                        </a:lnTo>
                        <a:lnTo>
                          <a:pt x="102" y="0"/>
                        </a:lnTo>
                        <a:lnTo>
                          <a:pt x="84" y="0"/>
                        </a:lnTo>
                        <a:lnTo>
                          <a:pt x="70" y="0"/>
                        </a:lnTo>
                        <a:lnTo>
                          <a:pt x="52" y="4"/>
                        </a:lnTo>
                        <a:lnTo>
                          <a:pt x="44" y="4"/>
                        </a:lnTo>
                        <a:lnTo>
                          <a:pt x="35" y="8"/>
                        </a:lnTo>
                        <a:lnTo>
                          <a:pt x="22" y="14"/>
                        </a:lnTo>
                        <a:lnTo>
                          <a:pt x="0" y="23"/>
                        </a:lnTo>
                        <a:close/>
                      </a:path>
                    </a:pathLst>
                  </a:custGeom>
                  <a:solidFill>
                    <a:srgbClr val="bf7f3f"/>
                  </a:solidFill>
                  <a:ln w="0">
                    <a:noFill/>
                  </a:ln>
                </p:spPr>
                <p:txBody>
                  <a:bodyPr lIns="90000" rIns="90000" tIns="-36720" bIns="-36720" anchor="t">
                    <a:noAutofit/>
                  </a:bodyPr>
                  <a:p>
                    <a:endParaRPr b="0" lang="en-US" sz="1800" spc="-1" strike="noStrike">
                      <a:solidFill>
                        <a:srgbClr val="000000"/>
                      </a:solidFill>
                      <a:latin typeface="Arial"/>
                    </a:endParaRPr>
                  </a:p>
                </p:txBody>
              </p:sp>
            </p:grpSp>
          </p:grpSp>
          <p:grpSp>
            <p:nvGrpSpPr>
              <p:cNvPr id="796" name=""/>
              <p:cNvGrpSpPr/>
              <p:nvPr/>
            </p:nvGrpSpPr>
            <p:grpSpPr>
              <a:xfrm>
                <a:off x="1228680" y="1932120"/>
                <a:ext cx="70200" cy="38160"/>
                <a:chOff x="1228680" y="1932120"/>
                <a:chExt cx="70200" cy="38160"/>
              </a:xfrm>
            </p:grpSpPr>
            <p:sp>
              <p:nvSpPr>
                <p:cNvPr id="797" name=""/>
                <p:cNvSpPr/>
                <p:nvPr/>
              </p:nvSpPr>
              <p:spPr>
                <a:xfrm>
                  <a:off x="1231920" y="1960560"/>
                  <a:ext cx="66960" cy="9720"/>
                </a:xfrm>
                <a:custGeom>
                  <a:avLst/>
                  <a:gdLst/>
                  <a:ahLst/>
                  <a:rect l="0" t="0" r="r" b="b"/>
                  <a:pathLst>
                    <a:path w="186" h="27">
                      <a:moveTo>
                        <a:pt x="186" y="0"/>
                      </a:moveTo>
                      <a:lnTo>
                        <a:pt x="168" y="4"/>
                      </a:lnTo>
                      <a:lnTo>
                        <a:pt x="128" y="8"/>
                      </a:lnTo>
                      <a:lnTo>
                        <a:pt x="92" y="8"/>
                      </a:lnTo>
                      <a:lnTo>
                        <a:pt x="83" y="8"/>
                      </a:lnTo>
                      <a:lnTo>
                        <a:pt x="52" y="8"/>
                      </a:lnTo>
                      <a:lnTo>
                        <a:pt x="35" y="8"/>
                      </a:lnTo>
                      <a:lnTo>
                        <a:pt x="17" y="4"/>
                      </a:lnTo>
                      <a:lnTo>
                        <a:pt x="0" y="0"/>
                      </a:lnTo>
                      <a:lnTo>
                        <a:pt x="17" y="18"/>
                      </a:lnTo>
                      <a:lnTo>
                        <a:pt x="30" y="23"/>
                      </a:lnTo>
                      <a:lnTo>
                        <a:pt x="44" y="27"/>
                      </a:lnTo>
                      <a:lnTo>
                        <a:pt x="57" y="27"/>
                      </a:lnTo>
                      <a:lnTo>
                        <a:pt x="79" y="27"/>
                      </a:lnTo>
                      <a:lnTo>
                        <a:pt x="88" y="23"/>
                      </a:lnTo>
                      <a:lnTo>
                        <a:pt x="106" y="18"/>
                      </a:lnTo>
                      <a:lnTo>
                        <a:pt x="128" y="14"/>
                      </a:lnTo>
                      <a:lnTo>
                        <a:pt x="137" y="14"/>
                      </a:lnTo>
                      <a:lnTo>
                        <a:pt x="155" y="8"/>
                      </a:lnTo>
                      <a:lnTo>
                        <a:pt x="186" y="0"/>
                      </a:lnTo>
                      <a:close/>
                    </a:path>
                  </a:pathLst>
                </a:custGeom>
                <a:solidFill>
                  <a:srgbClr val="ff9f7f"/>
                </a:solidFill>
                <a:ln w="0">
                  <a:noFill/>
                </a:ln>
              </p:spPr>
              <p:txBody>
                <a:bodyPr lIns="90000" rIns="90000" tIns="-35280" bIns="-35280" anchor="t">
                  <a:noAutofit/>
                </a:bodyPr>
                <a:p>
                  <a:endParaRPr b="0" lang="en-US" sz="1800" spc="-1" strike="noStrike">
                    <a:solidFill>
                      <a:srgbClr val="000000"/>
                    </a:solidFill>
                    <a:latin typeface="Arial"/>
                  </a:endParaRPr>
                </a:p>
              </p:txBody>
            </p:sp>
            <p:grpSp>
              <p:nvGrpSpPr>
                <p:cNvPr id="798" name=""/>
                <p:cNvGrpSpPr/>
                <p:nvPr/>
              </p:nvGrpSpPr>
              <p:grpSpPr>
                <a:xfrm>
                  <a:off x="1228680" y="1932120"/>
                  <a:ext cx="66960" cy="30240"/>
                  <a:chOff x="1228680" y="1932120"/>
                  <a:chExt cx="66960" cy="30240"/>
                </a:xfrm>
              </p:grpSpPr>
              <p:sp>
                <p:nvSpPr>
                  <p:cNvPr id="799" name=""/>
                  <p:cNvSpPr/>
                  <p:nvPr/>
                </p:nvSpPr>
                <p:spPr>
                  <a:xfrm>
                    <a:off x="1231920" y="1938240"/>
                    <a:ext cx="63720" cy="18000"/>
                  </a:xfrm>
                  <a:custGeom>
                    <a:avLst/>
                    <a:gdLst/>
                    <a:ahLst/>
                    <a:rect l="0" t="0" r="r" b="b"/>
                    <a:pathLst>
                      <a:path w="177" h="50">
                        <a:moveTo>
                          <a:pt x="177" y="31"/>
                        </a:moveTo>
                        <a:lnTo>
                          <a:pt x="164" y="23"/>
                        </a:lnTo>
                        <a:lnTo>
                          <a:pt x="142" y="14"/>
                        </a:lnTo>
                        <a:lnTo>
                          <a:pt x="133" y="8"/>
                        </a:lnTo>
                        <a:lnTo>
                          <a:pt x="120" y="0"/>
                        </a:lnTo>
                        <a:lnTo>
                          <a:pt x="93" y="0"/>
                        </a:lnTo>
                        <a:lnTo>
                          <a:pt x="83" y="0"/>
                        </a:lnTo>
                        <a:lnTo>
                          <a:pt x="57" y="0"/>
                        </a:lnTo>
                        <a:lnTo>
                          <a:pt x="48" y="8"/>
                        </a:lnTo>
                        <a:lnTo>
                          <a:pt x="35" y="14"/>
                        </a:lnTo>
                        <a:lnTo>
                          <a:pt x="30" y="18"/>
                        </a:lnTo>
                        <a:lnTo>
                          <a:pt x="17" y="23"/>
                        </a:lnTo>
                        <a:lnTo>
                          <a:pt x="0" y="31"/>
                        </a:lnTo>
                        <a:lnTo>
                          <a:pt x="0" y="41"/>
                        </a:lnTo>
                        <a:lnTo>
                          <a:pt x="17" y="50"/>
                        </a:lnTo>
                        <a:lnTo>
                          <a:pt x="35" y="50"/>
                        </a:lnTo>
                        <a:lnTo>
                          <a:pt x="70" y="50"/>
                        </a:lnTo>
                        <a:lnTo>
                          <a:pt x="102" y="50"/>
                        </a:lnTo>
                        <a:lnTo>
                          <a:pt x="137" y="50"/>
                        </a:lnTo>
                        <a:lnTo>
                          <a:pt x="150" y="50"/>
                        </a:lnTo>
                        <a:lnTo>
                          <a:pt x="177" y="31"/>
                        </a:lnTo>
                        <a:close/>
                      </a:path>
                    </a:pathLst>
                  </a:custGeom>
                  <a:solidFill>
                    <a:srgbClr val="ffffff"/>
                  </a:solidFill>
                  <a:ln w="0">
                    <a:noFill/>
                  </a:ln>
                </p:spPr>
                <p:txBody>
                  <a:bodyPr lIns="90000" rIns="90000" tIns="-27000" bIns="-27000" anchor="t">
                    <a:noAutofit/>
                  </a:bodyPr>
                  <a:p>
                    <a:endParaRPr b="0" lang="en-US" sz="1800" spc="-1" strike="noStrike">
                      <a:solidFill>
                        <a:srgbClr val="000000"/>
                      </a:solidFill>
                      <a:latin typeface="Arial"/>
                    </a:endParaRPr>
                  </a:p>
                </p:txBody>
              </p:sp>
              <p:grpSp>
                <p:nvGrpSpPr>
                  <p:cNvPr id="800" name=""/>
                  <p:cNvGrpSpPr/>
                  <p:nvPr/>
                </p:nvGrpSpPr>
                <p:grpSpPr>
                  <a:xfrm>
                    <a:off x="1246320" y="1936800"/>
                    <a:ext cx="33480" cy="23760"/>
                    <a:chOff x="1246320" y="1936800"/>
                    <a:chExt cx="33480" cy="23760"/>
                  </a:xfrm>
                </p:grpSpPr>
                <p:sp>
                  <p:nvSpPr>
                    <p:cNvPr id="801" name=""/>
                    <p:cNvSpPr/>
                    <p:nvPr/>
                  </p:nvSpPr>
                  <p:spPr>
                    <a:xfrm>
                      <a:off x="1246320" y="1936800"/>
                      <a:ext cx="33480" cy="23760"/>
                    </a:xfrm>
                    <a:prstGeom prst="ellipse">
                      <a:avLst/>
                    </a:prstGeom>
                    <a:solidFill>
                      <a:srgbClr val="005f7f"/>
                    </a:solidFill>
                    <a:ln w="0">
                      <a:noFill/>
                    </a:ln>
                  </p:spPr>
                  <p:txBody>
                    <a:bodyPr lIns="90000" rIns="90000" tIns="-21240" bIns="-21240" anchor="t">
                      <a:noAutofit/>
                    </a:bodyPr>
                    <a:p>
                      <a:endParaRPr b="0" lang="en-US" sz="1800" spc="-1" strike="noStrike">
                        <a:solidFill>
                          <a:srgbClr val="000000"/>
                        </a:solidFill>
                        <a:latin typeface="Arial"/>
                      </a:endParaRPr>
                    </a:p>
                  </p:txBody>
                </p:sp>
                <p:sp>
                  <p:nvSpPr>
                    <p:cNvPr id="802" name=""/>
                    <p:cNvSpPr/>
                    <p:nvPr/>
                  </p:nvSpPr>
                  <p:spPr>
                    <a:xfrm>
                      <a:off x="1249200" y="1938240"/>
                      <a:ext cx="23760" cy="22320"/>
                    </a:xfrm>
                    <a:prstGeom prst="ellipse">
                      <a:avLst/>
                    </a:prstGeom>
                    <a:solidFill>
                      <a:srgbClr val="00a4bb"/>
                    </a:solidFill>
                    <a:ln w="0">
                      <a:noFill/>
                    </a:ln>
                  </p:spPr>
                  <p:txBody>
                    <a:bodyPr lIns="90000" rIns="90000" tIns="-22680" bIns="-22680" anchor="t">
                      <a:noAutofit/>
                    </a:bodyPr>
                    <a:p>
                      <a:endParaRPr b="0" lang="en-US" sz="1800" spc="-1" strike="noStrike">
                        <a:solidFill>
                          <a:srgbClr val="000000"/>
                        </a:solidFill>
                        <a:latin typeface="Arial"/>
                      </a:endParaRPr>
                    </a:p>
                  </p:txBody>
                </p:sp>
                <p:sp>
                  <p:nvSpPr>
                    <p:cNvPr id="803" name=""/>
                    <p:cNvSpPr/>
                    <p:nvPr/>
                  </p:nvSpPr>
                  <p:spPr>
                    <a:xfrm>
                      <a:off x="1255680" y="1938240"/>
                      <a:ext cx="12600" cy="17640"/>
                    </a:xfrm>
                    <a:prstGeom prst="ellipse">
                      <a:avLst/>
                    </a:prstGeom>
                    <a:solidFill>
                      <a:srgbClr val="000000"/>
                    </a:solidFill>
                    <a:ln w="0">
                      <a:noFill/>
                    </a:ln>
                  </p:spPr>
                  <p:txBody>
                    <a:bodyPr lIns="90000" rIns="90000" tIns="-27360" bIns="-27360" anchor="t">
                      <a:noAutofit/>
                    </a:bodyPr>
                    <a:p>
                      <a:endParaRPr b="0" lang="en-US" sz="1800" spc="-1" strike="noStrike">
                        <a:solidFill>
                          <a:srgbClr val="ffffff"/>
                        </a:solidFill>
                        <a:latin typeface="Arial"/>
                      </a:endParaRPr>
                    </a:p>
                  </p:txBody>
                </p:sp>
                <p:sp>
                  <p:nvSpPr>
                    <p:cNvPr id="804" name=""/>
                    <p:cNvSpPr/>
                    <p:nvPr/>
                  </p:nvSpPr>
                  <p:spPr>
                    <a:xfrm>
                      <a:off x="1252440" y="1940040"/>
                      <a:ext cx="1440" cy="4680"/>
                    </a:xfrm>
                    <a:prstGeom prst="ellipse">
                      <a:avLst/>
                    </a:prstGeom>
                    <a:solidFill>
                      <a:srgbClr val="ffffff"/>
                    </a:solidFill>
                    <a:ln w="0">
                      <a:noFill/>
                    </a:ln>
                  </p:spPr>
                  <p:txBody>
                    <a:bodyPr lIns="90000" rIns="90000" tIns="-40320" bIns="-40320" anchor="t">
                      <a:noAutofit/>
                    </a:bodyPr>
                    <a:p>
                      <a:endParaRPr b="0" lang="en-US" sz="1800" spc="-1" strike="noStrike">
                        <a:solidFill>
                          <a:srgbClr val="000000"/>
                        </a:solidFill>
                        <a:latin typeface="Arial"/>
                      </a:endParaRPr>
                    </a:p>
                  </p:txBody>
                </p:sp>
              </p:grpSp>
              <p:sp>
                <p:nvSpPr>
                  <p:cNvPr id="805" name=""/>
                  <p:cNvSpPr/>
                  <p:nvPr/>
                </p:nvSpPr>
                <p:spPr>
                  <a:xfrm>
                    <a:off x="1228680" y="1960560"/>
                    <a:ext cx="44640" cy="1800"/>
                  </a:xfrm>
                  <a:custGeom>
                    <a:avLst/>
                    <a:gdLst/>
                    <a:ahLst/>
                    <a:rect l="0" t="0" r="r" b="b"/>
                    <a:pathLst>
                      <a:path w="124" h="5">
                        <a:moveTo>
                          <a:pt x="124" y="0"/>
                        </a:moveTo>
                        <a:lnTo>
                          <a:pt x="106" y="0"/>
                        </a:lnTo>
                        <a:lnTo>
                          <a:pt x="84" y="0"/>
                        </a:lnTo>
                        <a:lnTo>
                          <a:pt x="61" y="0"/>
                        </a:lnTo>
                        <a:lnTo>
                          <a:pt x="39" y="0"/>
                        </a:lnTo>
                        <a:lnTo>
                          <a:pt x="26" y="0"/>
                        </a:lnTo>
                        <a:lnTo>
                          <a:pt x="13" y="5"/>
                        </a:lnTo>
                        <a:lnTo>
                          <a:pt x="8" y="5"/>
                        </a:lnTo>
                        <a:lnTo>
                          <a:pt x="0" y="5"/>
                        </a:lnTo>
                        <a:lnTo>
                          <a:pt x="8" y="5"/>
                        </a:lnTo>
                        <a:lnTo>
                          <a:pt x="4" y="0"/>
                        </a:lnTo>
                        <a:lnTo>
                          <a:pt x="13" y="0"/>
                        </a:lnTo>
                        <a:lnTo>
                          <a:pt x="8" y="0"/>
                        </a:lnTo>
                        <a:lnTo>
                          <a:pt x="22" y="0"/>
                        </a:lnTo>
                        <a:lnTo>
                          <a:pt x="35" y="0"/>
                        </a:lnTo>
                        <a:lnTo>
                          <a:pt x="26" y="0"/>
                        </a:lnTo>
                        <a:lnTo>
                          <a:pt x="39" y="0"/>
                        </a:lnTo>
                        <a:lnTo>
                          <a:pt x="48" y="0"/>
                        </a:lnTo>
                        <a:lnTo>
                          <a:pt x="57" y="0"/>
                        </a:lnTo>
                        <a:lnTo>
                          <a:pt x="84" y="0"/>
                        </a:lnTo>
                        <a:lnTo>
                          <a:pt x="102" y="0"/>
                        </a:lnTo>
                        <a:lnTo>
                          <a:pt x="124" y="0"/>
                        </a:lnTo>
                        <a:close/>
                      </a:path>
                    </a:pathLst>
                  </a:custGeom>
                  <a:solidFill>
                    <a:srgbClr val="00000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806" name=""/>
                  <p:cNvSpPr/>
                  <p:nvPr/>
                </p:nvSpPr>
                <p:spPr>
                  <a:xfrm>
                    <a:off x="1231920" y="1938240"/>
                    <a:ext cx="57600" cy="9720"/>
                  </a:xfrm>
                  <a:custGeom>
                    <a:avLst/>
                    <a:gdLst/>
                    <a:ahLst/>
                    <a:rect l="0" t="0" r="r" b="b"/>
                    <a:pathLst>
                      <a:path w="160" h="27">
                        <a:moveTo>
                          <a:pt x="160" y="14"/>
                        </a:moveTo>
                        <a:lnTo>
                          <a:pt x="147" y="14"/>
                        </a:lnTo>
                        <a:lnTo>
                          <a:pt x="129" y="8"/>
                        </a:lnTo>
                        <a:lnTo>
                          <a:pt x="115" y="4"/>
                        </a:lnTo>
                        <a:lnTo>
                          <a:pt x="102" y="4"/>
                        </a:lnTo>
                        <a:lnTo>
                          <a:pt x="84" y="4"/>
                        </a:lnTo>
                        <a:lnTo>
                          <a:pt x="71" y="4"/>
                        </a:lnTo>
                        <a:lnTo>
                          <a:pt x="58" y="8"/>
                        </a:lnTo>
                        <a:lnTo>
                          <a:pt x="39" y="14"/>
                        </a:lnTo>
                        <a:lnTo>
                          <a:pt x="35" y="18"/>
                        </a:lnTo>
                        <a:lnTo>
                          <a:pt x="17" y="23"/>
                        </a:lnTo>
                        <a:lnTo>
                          <a:pt x="0" y="27"/>
                        </a:lnTo>
                        <a:lnTo>
                          <a:pt x="13" y="23"/>
                        </a:lnTo>
                        <a:lnTo>
                          <a:pt x="22" y="14"/>
                        </a:lnTo>
                        <a:lnTo>
                          <a:pt x="35" y="14"/>
                        </a:lnTo>
                        <a:lnTo>
                          <a:pt x="58" y="4"/>
                        </a:lnTo>
                        <a:lnTo>
                          <a:pt x="71" y="0"/>
                        </a:lnTo>
                        <a:lnTo>
                          <a:pt x="84" y="0"/>
                        </a:lnTo>
                        <a:lnTo>
                          <a:pt x="102" y="0"/>
                        </a:lnTo>
                        <a:lnTo>
                          <a:pt x="115" y="0"/>
                        </a:lnTo>
                        <a:lnTo>
                          <a:pt x="125" y="4"/>
                        </a:lnTo>
                        <a:lnTo>
                          <a:pt x="138" y="8"/>
                        </a:lnTo>
                        <a:lnTo>
                          <a:pt x="160" y="14"/>
                        </a:lnTo>
                        <a:close/>
                      </a:path>
                    </a:pathLst>
                  </a:custGeom>
                  <a:solidFill>
                    <a:srgbClr val="9f9f9f"/>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807" name=""/>
                  <p:cNvSpPr/>
                  <p:nvPr/>
                </p:nvSpPr>
                <p:spPr>
                  <a:xfrm>
                    <a:off x="1230480" y="1938240"/>
                    <a:ext cx="54360" cy="8280"/>
                  </a:xfrm>
                  <a:custGeom>
                    <a:avLst/>
                    <a:gdLst/>
                    <a:ahLst/>
                    <a:rect l="0" t="0" r="r" b="b"/>
                    <a:pathLst>
                      <a:path w="151" h="23">
                        <a:moveTo>
                          <a:pt x="151" y="14"/>
                        </a:moveTo>
                        <a:lnTo>
                          <a:pt x="138" y="8"/>
                        </a:lnTo>
                        <a:lnTo>
                          <a:pt x="129" y="4"/>
                        </a:lnTo>
                        <a:lnTo>
                          <a:pt x="116" y="4"/>
                        </a:lnTo>
                        <a:lnTo>
                          <a:pt x="93" y="0"/>
                        </a:lnTo>
                        <a:lnTo>
                          <a:pt x="84" y="0"/>
                        </a:lnTo>
                        <a:lnTo>
                          <a:pt x="71" y="4"/>
                        </a:lnTo>
                        <a:lnTo>
                          <a:pt x="58" y="8"/>
                        </a:lnTo>
                        <a:lnTo>
                          <a:pt x="40" y="8"/>
                        </a:lnTo>
                        <a:lnTo>
                          <a:pt x="26" y="14"/>
                        </a:lnTo>
                        <a:lnTo>
                          <a:pt x="17" y="23"/>
                        </a:lnTo>
                        <a:lnTo>
                          <a:pt x="0" y="23"/>
                        </a:lnTo>
                        <a:lnTo>
                          <a:pt x="4" y="18"/>
                        </a:lnTo>
                        <a:lnTo>
                          <a:pt x="17" y="14"/>
                        </a:lnTo>
                        <a:lnTo>
                          <a:pt x="40" y="8"/>
                        </a:lnTo>
                        <a:lnTo>
                          <a:pt x="58" y="0"/>
                        </a:lnTo>
                        <a:lnTo>
                          <a:pt x="71" y="0"/>
                        </a:lnTo>
                        <a:lnTo>
                          <a:pt x="84" y="0"/>
                        </a:lnTo>
                        <a:lnTo>
                          <a:pt x="93" y="0"/>
                        </a:lnTo>
                        <a:lnTo>
                          <a:pt x="111" y="0"/>
                        </a:lnTo>
                        <a:lnTo>
                          <a:pt x="129" y="0"/>
                        </a:lnTo>
                        <a:lnTo>
                          <a:pt x="134" y="4"/>
                        </a:lnTo>
                        <a:lnTo>
                          <a:pt x="151" y="14"/>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808" name=""/>
                  <p:cNvSpPr/>
                  <p:nvPr/>
                </p:nvSpPr>
                <p:spPr>
                  <a:xfrm>
                    <a:off x="1235160" y="1932120"/>
                    <a:ext cx="59040" cy="6840"/>
                  </a:xfrm>
                  <a:custGeom>
                    <a:avLst/>
                    <a:gdLst/>
                    <a:ahLst/>
                    <a:rect l="0" t="0" r="r" b="b"/>
                    <a:pathLst>
                      <a:path w="164" h="19">
                        <a:moveTo>
                          <a:pt x="164" y="19"/>
                        </a:moveTo>
                        <a:lnTo>
                          <a:pt x="137" y="9"/>
                        </a:lnTo>
                        <a:lnTo>
                          <a:pt x="120" y="4"/>
                        </a:lnTo>
                        <a:lnTo>
                          <a:pt x="111" y="4"/>
                        </a:lnTo>
                        <a:lnTo>
                          <a:pt x="84" y="0"/>
                        </a:lnTo>
                        <a:lnTo>
                          <a:pt x="74" y="0"/>
                        </a:lnTo>
                        <a:lnTo>
                          <a:pt x="44" y="4"/>
                        </a:lnTo>
                        <a:lnTo>
                          <a:pt x="26" y="9"/>
                        </a:lnTo>
                        <a:lnTo>
                          <a:pt x="8" y="15"/>
                        </a:lnTo>
                        <a:lnTo>
                          <a:pt x="0" y="19"/>
                        </a:lnTo>
                        <a:lnTo>
                          <a:pt x="13" y="15"/>
                        </a:lnTo>
                        <a:lnTo>
                          <a:pt x="26" y="9"/>
                        </a:lnTo>
                        <a:lnTo>
                          <a:pt x="44" y="4"/>
                        </a:lnTo>
                        <a:lnTo>
                          <a:pt x="61" y="0"/>
                        </a:lnTo>
                        <a:lnTo>
                          <a:pt x="74" y="0"/>
                        </a:lnTo>
                        <a:lnTo>
                          <a:pt x="84" y="0"/>
                        </a:lnTo>
                        <a:lnTo>
                          <a:pt x="111" y="0"/>
                        </a:lnTo>
                        <a:lnTo>
                          <a:pt x="120" y="4"/>
                        </a:lnTo>
                        <a:lnTo>
                          <a:pt x="133" y="4"/>
                        </a:lnTo>
                        <a:lnTo>
                          <a:pt x="142" y="15"/>
                        </a:lnTo>
                        <a:lnTo>
                          <a:pt x="164" y="19"/>
                        </a:lnTo>
                        <a:close/>
                      </a:path>
                    </a:pathLst>
                  </a:custGeom>
                  <a:solidFill>
                    <a:srgbClr val="ff7f3f"/>
                  </a:solidFill>
                  <a:ln w="0">
                    <a:noFill/>
                  </a:ln>
                </p:spPr>
                <p:txBody>
                  <a:bodyPr lIns="90000" rIns="90000" tIns="-38160" bIns="-38160" anchor="t">
                    <a:noAutofit/>
                  </a:bodyPr>
                  <a:p>
                    <a:endParaRPr b="0" lang="en-US" sz="1800" spc="-1" strike="noStrike">
                      <a:solidFill>
                        <a:srgbClr val="000000"/>
                      </a:solidFill>
                      <a:latin typeface="Arial"/>
                    </a:endParaRPr>
                  </a:p>
                </p:txBody>
              </p:sp>
            </p:grpSp>
          </p:grpSp>
        </p:grpSp>
        <p:grpSp>
          <p:nvGrpSpPr>
            <p:cNvPr id="809" name=""/>
            <p:cNvGrpSpPr/>
            <p:nvPr/>
          </p:nvGrpSpPr>
          <p:grpSpPr>
            <a:xfrm>
              <a:off x="619200" y="2185920"/>
              <a:ext cx="1525680" cy="4318560"/>
              <a:chOff x="619200" y="2185920"/>
              <a:chExt cx="1525680" cy="4318560"/>
            </a:xfrm>
          </p:grpSpPr>
          <p:sp>
            <p:nvSpPr>
              <p:cNvPr id="810" name=""/>
              <p:cNvSpPr/>
              <p:nvPr/>
            </p:nvSpPr>
            <p:spPr>
              <a:xfrm flipV="1">
                <a:off x="1303200" y="3597120"/>
                <a:ext cx="0" cy="682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811" name=""/>
              <p:cNvGrpSpPr/>
              <p:nvPr/>
            </p:nvGrpSpPr>
            <p:grpSpPr>
              <a:xfrm>
                <a:off x="1077840" y="4983120"/>
                <a:ext cx="443520" cy="1521360"/>
                <a:chOff x="1077840" y="4983120"/>
                <a:chExt cx="443520" cy="1521360"/>
              </a:xfrm>
            </p:grpSpPr>
            <p:grpSp>
              <p:nvGrpSpPr>
                <p:cNvPr id="812" name=""/>
                <p:cNvGrpSpPr/>
                <p:nvPr/>
              </p:nvGrpSpPr>
              <p:grpSpPr>
                <a:xfrm>
                  <a:off x="1077840" y="4983120"/>
                  <a:ext cx="284400" cy="1394280"/>
                  <a:chOff x="1077840" y="4983120"/>
                  <a:chExt cx="284400" cy="1394280"/>
                </a:xfrm>
              </p:grpSpPr>
              <p:grpSp>
                <p:nvGrpSpPr>
                  <p:cNvPr id="813" name=""/>
                  <p:cNvGrpSpPr/>
                  <p:nvPr/>
                </p:nvGrpSpPr>
                <p:grpSpPr>
                  <a:xfrm>
                    <a:off x="1077840" y="4983120"/>
                    <a:ext cx="284400" cy="1244880"/>
                    <a:chOff x="1077840" y="4983120"/>
                    <a:chExt cx="284400" cy="1244880"/>
                  </a:xfrm>
                </p:grpSpPr>
                <p:sp>
                  <p:nvSpPr>
                    <p:cNvPr id="814" name=""/>
                    <p:cNvSpPr/>
                    <p:nvPr/>
                  </p:nvSpPr>
                  <p:spPr>
                    <a:xfrm>
                      <a:off x="1077840" y="4983120"/>
                      <a:ext cx="284400" cy="1244880"/>
                    </a:xfrm>
                    <a:custGeom>
                      <a:avLst/>
                      <a:gdLst/>
                      <a:ahLst/>
                      <a:rect l="0" t="0" r="r" b="b"/>
                      <a:pathLst>
                        <a:path w="790" h="3458">
                          <a:moveTo>
                            <a:pt x="0" y="22"/>
                          </a:moveTo>
                          <a:lnTo>
                            <a:pt x="0" y="277"/>
                          </a:lnTo>
                          <a:lnTo>
                            <a:pt x="22" y="489"/>
                          </a:lnTo>
                          <a:lnTo>
                            <a:pt x="35" y="696"/>
                          </a:lnTo>
                          <a:lnTo>
                            <a:pt x="57" y="864"/>
                          </a:lnTo>
                          <a:lnTo>
                            <a:pt x="79" y="1014"/>
                          </a:lnTo>
                          <a:lnTo>
                            <a:pt x="114" y="1172"/>
                          </a:lnTo>
                          <a:lnTo>
                            <a:pt x="141" y="1340"/>
                          </a:lnTo>
                          <a:lnTo>
                            <a:pt x="167" y="1446"/>
                          </a:lnTo>
                          <a:lnTo>
                            <a:pt x="194" y="1583"/>
                          </a:lnTo>
                          <a:lnTo>
                            <a:pt x="229" y="1734"/>
                          </a:lnTo>
                          <a:lnTo>
                            <a:pt x="251" y="1853"/>
                          </a:lnTo>
                          <a:lnTo>
                            <a:pt x="277" y="1954"/>
                          </a:lnTo>
                          <a:lnTo>
                            <a:pt x="299" y="2051"/>
                          </a:lnTo>
                          <a:lnTo>
                            <a:pt x="321" y="2179"/>
                          </a:lnTo>
                          <a:lnTo>
                            <a:pt x="352" y="2316"/>
                          </a:lnTo>
                          <a:lnTo>
                            <a:pt x="357" y="2413"/>
                          </a:lnTo>
                          <a:lnTo>
                            <a:pt x="370" y="2545"/>
                          </a:lnTo>
                          <a:lnTo>
                            <a:pt x="370" y="2668"/>
                          </a:lnTo>
                          <a:lnTo>
                            <a:pt x="370" y="2757"/>
                          </a:lnTo>
                          <a:lnTo>
                            <a:pt x="313" y="2920"/>
                          </a:lnTo>
                          <a:lnTo>
                            <a:pt x="286" y="3021"/>
                          </a:lnTo>
                          <a:lnTo>
                            <a:pt x="246" y="3158"/>
                          </a:lnTo>
                          <a:lnTo>
                            <a:pt x="229" y="3255"/>
                          </a:lnTo>
                          <a:lnTo>
                            <a:pt x="238" y="3370"/>
                          </a:lnTo>
                          <a:lnTo>
                            <a:pt x="291" y="3440"/>
                          </a:lnTo>
                          <a:lnTo>
                            <a:pt x="370" y="3453"/>
                          </a:lnTo>
                          <a:lnTo>
                            <a:pt x="499" y="3458"/>
                          </a:lnTo>
                          <a:lnTo>
                            <a:pt x="587" y="3436"/>
                          </a:lnTo>
                          <a:lnTo>
                            <a:pt x="636" y="3352"/>
                          </a:lnTo>
                          <a:lnTo>
                            <a:pt x="662" y="3264"/>
                          </a:lnTo>
                          <a:lnTo>
                            <a:pt x="671" y="3162"/>
                          </a:lnTo>
                          <a:lnTo>
                            <a:pt x="715" y="3065"/>
                          </a:lnTo>
                          <a:lnTo>
                            <a:pt x="733" y="2959"/>
                          </a:lnTo>
                          <a:lnTo>
                            <a:pt x="755" y="2862"/>
                          </a:lnTo>
                          <a:lnTo>
                            <a:pt x="741" y="2735"/>
                          </a:lnTo>
                          <a:lnTo>
                            <a:pt x="715" y="2633"/>
                          </a:lnTo>
                          <a:lnTo>
                            <a:pt x="693" y="2492"/>
                          </a:lnTo>
                          <a:lnTo>
                            <a:pt x="675" y="2373"/>
                          </a:lnTo>
                          <a:lnTo>
                            <a:pt x="671" y="2280"/>
                          </a:lnTo>
                          <a:lnTo>
                            <a:pt x="671" y="2170"/>
                          </a:lnTo>
                          <a:lnTo>
                            <a:pt x="666" y="2038"/>
                          </a:lnTo>
                          <a:lnTo>
                            <a:pt x="671" y="1950"/>
                          </a:lnTo>
                          <a:lnTo>
                            <a:pt x="671" y="1844"/>
                          </a:lnTo>
                          <a:lnTo>
                            <a:pt x="675" y="1715"/>
                          </a:lnTo>
                          <a:lnTo>
                            <a:pt x="684" y="1605"/>
                          </a:lnTo>
                          <a:lnTo>
                            <a:pt x="710" y="1508"/>
                          </a:lnTo>
                          <a:lnTo>
                            <a:pt x="724" y="1384"/>
                          </a:lnTo>
                          <a:lnTo>
                            <a:pt x="733" y="1300"/>
                          </a:lnTo>
                          <a:lnTo>
                            <a:pt x="746" y="1172"/>
                          </a:lnTo>
                          <a:lnTo>
                            <a:pt x="746" y="1067"/>
                          </a:lnTo>
                          <a:lnTo>
                            <a:pt x="746" y="952"/>
                          </a:lnTo>
                          <a:lnTo>
                            <a:pt x="746" y="745"/>
                          </a:lnTo>
                          <a:lnTo>
                            <a:pt x="746" y="626"/>
                          </a:lnTo>
                          <a:lnTo>
                            <a:pt x="755" y="533"/>
                          </a:lnTo>
                          <a:lnTo>
                            <a:pt x="781" y="436"/>
                          </a:lnTo>
                          <a:lnTo>
                            <a:pt x="790" y="352"/>
                          </a:lnTo>
                          <a:lnTo>
                            <a:pt x="781" y="251"/>
                          </a:lnTo>
                          <a:lnTo>
                            <a:pt x="772" y="0"/>
                          </a:lnTo>
                          <a:lnTo>
                            <a:pt x="0" y="22"/>
                          </a:lnTo>
                          <a:close/>
                        </a:path>
                      </a:pathLst>
                    </a:custGeom>
                    <a:solidFill>
                      <a:srgbClr val="ffdfb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5" name=""/>
                    <p:cNvSpPr/>
                    <p:nvPr/>
                  </p:nvSpPr>
                  <p:spPr>
                    <a:xfrm>
                      <a:off x="1081080" y="5100480"/>
                      <a:ext cx="157680" cy="190800"/>
                    </a:xfrm>
                    <a:custGeom>
                      <a:avLst/>
                      <a:gdLst/>
                      <a:ahLst/>
                      <a:rect l="0" t="0" r="r" b="b"/>
                      <a:pathLst>
                        <a:path w="438" h="530">
                          <a:moveTo>
                            <a:pt x="61" y="530"/>
                          </a:moveTo>
                          <a:lnTo>
                            <a:pt x="105" y="499"/>
                          </a:lnTo>
                          <a:lnTo>
                            <a:pt x="181" y="459"/>
                          </a:lnTo>
                          <a:lnTo>
                            <a:pt x="247" y="428"/>
                          </a:lnTo>
                          <a:lnTo>
                            <a:pt x="314" y="411"/>
                          </a:lnTo>
                          <a:lnTo>
                            <a:pt x="403" y="397"/>
                          </a:lnTo>
                          <a:lnTo>
                            <a:pt x="438" y="17"/>
                          </a:lnTo>
                          <a:lnTo>
                            <a:pt x="0" y="0"/>
                          </a:lnTo>
                          <a:lnTo>
                            <a:pt x="22" y="185"/>
                          </a:lnTo>
                          <a:lnTo>
                            <a:pt x="30" y="362"/>
                          </a:lnTo>
                          <a:lnTo>
                            <a:pt x="61" y="530"/>
                          </a:lnTo>
                          <a:close/>
                        </a:path>
                      </a:pathLst>
                    </a:custGeom>
                    <a:solidFill>
                      <a:srgbClr val="ff9f7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16" name=""/>
                  <p:cNvGrpSpPr/>
                  <p:nvPr/>
                </p:nvGrpSpPr>
                <p:grpSpPr>
                  <a:xfrm>
                    <a:off x="1104840" y="6032520"/>
                    <a:ext cx="240120" cy="344880"/>
                    <a:chOff x="1104840" y="6032520"/>
                    <a:chExt cx="240120" cy="344880"/>
                  </a:xfrm>
                </p:grpSpPr>
                <p:sp>
                  <p:nvSpPr>
                    <p:cNvPr id="817" name=""/>
                    <p:cNvSpPr/>
                    <p:nvPr/>
                  </p:nvSpPr>
                  <p:spPr>
                    <a:xfrm>
                      <a:off x="1104840" y="6032520"/>
                      <a:ext cx="240120" cy="344880"/>
                    </a:xfrm>
                    <a:custGeom>
                      <a:avLst/>
                      <a:gdLst/>
                      <a:ahLst/>
                      <a:rect l="0" t="0" r="r" b="b"/>
                      <a:pathLst>
                        <a:path w="667" h="958">
                          <a:moveTo>
                            <a:pt x="190" y="207"/>
                          </a:moveTo>
                          <a:lnTo>
                            <a:pt x="114" y="353"/>
                          </a:lnTo>
                          <a:lnTo>
                            <a:pt x="92" y="415"/>
                          </a:lnTo>
                          <a:lnTo>
                            <a:pt x="70" y="459"/>
                          </a:lnTo>
                          <a:lnTo>
                            <a:pt x="44" y="494"/>
                          </a:lnTo>
                          <a:lnTo>
                            <a:pt x="22" y="547"/>
                          </a:lnTo>
                          <a:lnTo>
                            <a:pt x="17" y="583"/>
                          </a:lnTo>
                          <a:lnTo>
                            <a:pt x="0" y="636"/>
                          </a:lnTo>
                          <a:lnTo>
                            <a:pt x="8" y="715"/>
                          </a:lnTo>
                          <a:lnTo>
                            <a:pt x="22" y="756"/>
                          </a:lnTo>
                          <a:lnTo>
                            <a:pt x="70" y="835"/>
                          </a:lnTo>
                          <a:lnTo>
                            <a:pt x="123" y="888"/>
                          </a:lnTo>
                          <a:lnTo>
                            <a:pt x="181" y="936"/>
                          </a:lnTo>
                          <a:lnTo>
                            <a:pt x="278" y="958"/>
                          </a:lnTo>
                          <a:lnTo>
                            <a:pt x="353" y="919"/>
                          </a:lnTo>
                          <a:lnTo>
                            <a:pt x="424" y="883"/>
                          </a:lnTo>
                          <a:lnTo>
                            <a:pt x="477" y="826"/>
                          </a:lnTo>
                          <a:lnTo>
                            <a:pt x="522" y="782"/>
                          </a:lnTo>
                          <a:lnTo>
                            <a:pt x="535" y="734"/>
                          </a:lnTo>
                          <a:lnTo>
                            <a:pt x="553" y="644"/>
                          </a:lnTo>
                          <a:lnTo>
                            <a:pt x="570" y="569"/>
                          </a:lnTo>
                          <a:lnTo>
                            <a:pt x="579" y="508"/>
                          </a:lnTo>
                          <a:lnTo>
                            <a:pt x="588" y="450"/>
                          </a:lnTo>
                          <a:lnTo>
                            <a:pt x="597" y="406"/>
                          </a:lnTo>
                          <a:lnTo>
                            <a:pt x="601" y="327"/>
                          </a:lnTo>
                          <a:lnTo>
                            <a:pt x="614" y="269"/>
                          </a:lnTo>
                          <a:lnTo>
                            <a:pt x="637" y="224"/>
                          </a:lnTo>
                          <a:lnTo>
                            <a:pt x="654" y="176"/>
                          </a:lnTo>
                          <a:lnTo>
                            <a:pt x="667" y="97"/>
                          </a:lnTo>
                          <a:lnTo>
                            <a:pt x="667" y="0"/>
                          </a:lnTo>
                          <a:lnTo>
                            <a:pt x="645" y="83"/>
                          </a:lnTo>
                          <a:lnTo>
                            <a:pt x="637" y="171"/>
                          </a:lnTo>
                          <a:lnTo>
                            <a:pt x="601" y="224"/>
                          </a:lnTo>
                          <a:lnTo>
                            <a:pt x="588" y="292"/>
                          </a:lnTo>
                          <a:lnTo>
                            <a:pt x="579" y="380"/>
                          </a:lnTo>
                          <a:lnTo>
                            <a:pt x="566" y="450"/>
                          </a:lnTo>
                          <a:lnTo>
                            <a:pt x="535" y="481"/>
                          </a:lnTo>
                          <a:lnTo>
                            <a:pt x="494" y="525"/>
                          </a:lnTo>
                          <a:lnTo>
                            <a:pt x="459" y="534"/>
                          </a:lnTo>
                          <a:lnTo>
                            <a:pt x="415" y="543"/>
                          </a:lnTo>
                          <a:lnTo>
                            <a:pt x="336" y="534"/>
                          </a:lnTo>
                          <a:lnTo>
                            <a:pt x="278" y="508"/>
                          </a:lnTo>
                          <a:lnTo>
                            <a:pt x="225" y="494"/>
                          </a:lnTo>
                          <a:lnTo>
                            <a:pt x="195" y="472"/>
                          </a:lnTo>
                          <a:lnTo>
                            <a:pt x="154" y="424"/>
                          </a:lnTo>
                          <a:lnTo>
                            <a:pt x="154" y="362"/>
                          </a:lnTo>
                          <a:lnTo>
                            <a:pt x="190" y="20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18" name=""/>
                    <p:cNvSpPr/>
                    <p:nvPr/>
                  </p:nvSpPr>
                  <p:spPr>
                    <a:xfrm>
                      <a:off x="1166760" y="6200640"/>
                      <a:ext cx="74520" cy="68400"/>
                    </a:xfrm>
                    <a:prstGeom prst="ellipse">
                      <a:avLst/>
                    </a:prstGeom>
                    <a:solidFill>
                      <a:srgbClr val="5f5f7f"/>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grpSp>
              <p:nvGrpSpPr>
                <p:cNvPr id="819" name=""/>
                <p:cNvGrpSpPr/>
                <p:nvPr/>
              </p:nvGrpSpPr>
              <p:grpSpPr>
                <a:xfrm>
                  <a:off x="1230480" y="5099040"/>
                  <a:ext cx="290880" cy="1405440"/>
                  <a:chOff x="1230480" y="5099040"/>
                  <a:chExt cx="290880" cy="1405440"/>
                </a:xfrm>
              </p:grpSpPr>
              <p:sp>
                <p:nvSpPr>
                  <p:cNvPr id="820" name=""/>
                  <p:cNvSpPr/>
                  <p:nvPr/>
                </p:nvSpPr>
                <p:spPr>
                  <a:xfrm>
                    <a:off x="1235160" y="5099040"/>
                    <a:ext cx="286200" cy="1249560"/>
                  </a:xfrm>
                  <a:custGeom>
                    <a:avLst/>
                    <a:gdLst/>
                    <a:ahLst/>
                    <a:rect l="0" t="0" r="r" b="b"/>
                    <a:pathLst>
                      <a:path w="795" h="3471">
                        <a:moveTo>
                          <a:pt x="795" y="22"/>
                        </a:moveTo>
                        <a:lnTo>
                          <a:pt x="747" y="286"/>
                        </a:lnTo>
                        <a:lnTo>
                          <a:pt x="725" y="480"/>
                        </a:lnTo>
                        <a:lnTo>
                          <a:pt x="711" y="709"/>
                        </a:lnTo>
                        <a:lnTo>
                          <a:pt x="689" y="881"/>
                        </a:lnTo>
                        <a:lnTo>
                          <a:pt x="659" y="1067"/>
                        </a:lnTo>
                        <a:lnTo>
                          <a:pt x="645" y="1199"/>
                        </a:lnTo>
                        <a:lnTo>
                          <a:pt x="619" y="1340"/>
                        </a:lnTo>
                        <a:lnTo>
                          <a:pt x="591" y="1494"/>
                        </a:lnTo>
                        <a:lnTo>
                          <a:pt x="561" y="1605"/>
                        </a:lnTo>
                        <a:lnTo>
                          <a:pt x="538" y="1742"/>
                        </a:lnTo>
                        <a:lnTo>
                          <a:pt x="512" y="1857"/>
                        </a:lnTo>
                        <a:lnTo>
                          <a:pt x="499" y="1976"/>
                        </a:lnTo>
                        <a:lnTo>
                          <a:pt x="494" y="2064"/>
                        </a:lnTo>
                        <a:lnTo>
                          <a:pt x="472" y="2192"/>
                        </a:lnTo>
                        <a:lnTo>
                          <a:pt x="446" y="2324"/>
                        </a:lnTo>
                        <a:lnTo>
                          <a:pt x="437" y="2421"/>
                        </a:lnTo>
                        <a:lnTo>
                          <a:pt x="428" y="2545"/>
                        </a:lnTo>
                        <a:lnTo>
                          <a:pt x="428" y="2682"/>
                        </a:lnTo>
                        <a:lnTo>
                          <a:pt x="428" y="2761"/>
                        </a:lnTo>
                        <a:lnTo>
                          <a:pt x="477" y="2929"/>
                        </a:lnTo>
                        <a:lnTo>
                          <a:pt x="508" y="3026"/>
                        </a:lnTo>
                        <a:lnTo>
                          <a:pt x="543" y="3176"/>
                        </a:lnTo>
                        <a:lnTo>
                          <a:pt x="561" y="3264"/>
                        </a:lnTo>
                        <a:lnTo>
                          <a:pt x="552" y="3383"/>
                        </a:lnTo>
                        <a:lnTo>
                          <a:pt x="499" y="3449"/>
                        </a:lnTo>
                        <a:lnTo>
                          <a:pt x="428" y="3462"/>
                        </a:lnTo>
                        <a:lnTo>
                          <a:pt x="296" y="3471"/>
                        </a:lnTo>
                        <a:lnTo>
                          <a:pt x="203" y="3440"/>
                        </a:lnTo>
                        <a:lnTo>
                          <a:pt x="149" y="3356"/>
                        </a:lnTo>
                        <a:lnTo>
                          <a:pt x="127" y="3273"/>
                        </a:lnTo>
                        <a:lnTo>
                          <a:pt x="119" y="3176"/>
                        </a:lnTo>
                        <a:lnTo>
                          <a:pt x="74" y="3074"/>
                        </a:lnTo>
                        <a:lnTo>
                          <a:pt x="52" y="2964"/>
                        </a:lnTo>
                        <a:lnTo>
                          <a:pt x="35" y="2867"/>
                        </a:lnTo>
                        <a:lnTo>
                          <a:pt x="48" y="2743"/>
                        </a:lnTo>
                        <a:lnTo>
                          <a:pt x="74" y="2642"/>
                        </a:lnTo>
                        <a:lnTo>
                          <a:pt x="88" y="2496"/>
                        </a:lnTo>
                        <a:lnTo>
                          <a:pt x="114" y="2377"/>
                        </a:lnTo>
                        <a:lnTo>
                          <a:pt x="119" y="2289"/>
                        </a:lnTo>
                        <a:lnTo>
                          <a:pt x="119" y="2174"/>
                        </a:lnTo>
                        <a:lnTo>
                          <a:pt x="119" y="2042"/>
                        </a:lnTo>
                        <a:lnTo>
                          <a:pt x="119" y="1950"/>
                        </a:lnTo>
                        <a:lnTo>
                          <a:pt x="119" y="1853"/>
                        </a:lnTo>
                        <a:lnTo>
                          <a:pt x="114" y="1724"/>
                        </a:lnTo>
                        <a:lnTo>
                          <a:pt x="101" y="1613"/>
                        </a:lnTo>
                        <a:lnTo>
                          <a:pt x="83" y="1516"/>
                        </a:lnTo>
                        <a:lnTo>
                          <a:pt x="57" y="1397"/>
                        </a:lnTo>
                        <a:lnTo>
                          <a:pt x="52" y="1314"/>
                        </a:lnTo>
                        <a:lnTo>
                          <a:pt x="39" y="1177"/>
                        </a:lnTo>
                        <a:lnTo>
                          <a:pt x="39" y="1071"/>
                        </a:lnTo>
                        <a:lnTo>
                          <a:pt x="39" y="952"/>
                        </a:lnTo>
                        <a:lnTo>
                          <a:pt x="39" y="749"/>
                        </a:lnTo>
                        <a:lnTo>
                          <a:pt x="39" y="643"/>
                        </a:lnTo>
                        <a:lnTo>
                          <a:pt x="35" y="542"/>
                        </a:lnTo>
                        <a:lnTo>
                          <a:pt x="8" y="445"/>
                        </a:lnTo>
                        <a:lnTo>
                          <a:pt x="0" y="357"/>
                        </a:lnTo>
                        <a:lnTo>
                          <a:pt x="8" y="255"/>
                        </a:lnTo>
                        <a:lnTo>
                          <a:pt x="17" y="0"/>
                        </a:lnTo>
                        <a:lnTo>
                          <a:pt x="795" y="22"/>
                        </a:lnTo>
                        <a:close/>
                      </a:path>
                    </a:pathLst>
                  </a:custGeom>
                  <a:solidFill>
                    <a:srgbClr val="ffdfb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1" name=""/>
                  <p:cNvSpPr/>
                  <p:nvPr/>
                </p:nvSpPr>
                <p:spPr>
                  <a:xfrm>
                    <a:off x="1230480" y="5114880"/>
                    <a:ext cx="276480" cy="146520"/>
                  </a:xfrm>
                  <a:custGeom>
                    <a:avLst/>
                    <a:gdLst/>
                    <a:ahLst/>
                    <a:rect l="0" t="0" r="r" b="b"/>
                    <a:pathLst>
                      <a:path w="768" h="407">
                        <a:moveTo>
                          <a:pt x="13" y="407"/>
                        </a:moveTo>
                        <a:lnTo>
                          <a:pt x="57" y="376"/>
                        </a:lnTo>
                        <a:lnTo>
                          <a:pt x="114" y="341"/>
                        </a:lnTo>
                        <a:lnTo>
                          <a:pt x="202" y="296"/>
                        </a:lnTo>
                        <a:lnTo>
                          <a:pt x="277" y="278"/>
                        </a:lnTo>
                        <a:lnTo>
                          <a:pt x="374" y="265"/>
                        </a:lnTo>
                        <a:lnTo>
                          <a:pt x="464" y="265"/>
                        </a:lnTo>
                        <a:lnTo>
                          <a:pt x="596" y="265"/>
                        </a:lnTo>
                        <a:lnTo>
                          <a:pt x="763" y="265"/>
                        </a:lnTo>
                        <a:lnTo>
                          <a:pt x="768" y="133"/>
                        </a:lnTo>
                        <a:lnTo>
                          <a:pt x="768" y="0"/>
                        </a:lnTo>
                        <a:lnTo>
                          <a:pt x="22" y="0"/>
                        </a:lnTo>
                        <a:lnTo>
                          <a:pt x="4" y="186"/>
                        </a:lnTo>
                        <a:lnTo>
                          <a:pt x="0" y="265"/>
                        </a:lnTo>
                        <a:lnTo>
                          <a:pt x="0" y="332"/>
                        </a:lnTo>
                        <a:lnTo>
                          <a:pt x="13" y="407"/>
                        </a:lnTo>
                        <a:close/>
                      </a:path>
                    </a:pathLst>
                  </a:custGeom>
                  <a:solidFill>
                    <a:srgbClr val="ff9f7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822" name=""/>
                  <p:cNvGrpSpPr/>
                  <p:nvPr/>
                </p:nvGrpSpPr>
                <p:grpSpPr>
                  <a:xfrm>
                    <a:off x="1247760" y="6148440"/>
                    <a:ext cx="244800" cy="356040"/>
                    <a:chOff x="1247760" y="6148440"/>
                    <a:chExt cx="244800" cy="356040"/>
                  </a:xfrm>
                </p:grpSpPr>
                <p:sp>
                  <p:nvSpPr>
                    <p:cNvPr id="823" name=""/>
                    <p:cNvSpPr/>
                    <p:nvPr/>
                  </p:nvSpPr>
                  <p:spPr>
                    <a:xfrm>
                      <a:off x="1247760" y="6148440"/>
                      <a:ext cx="244800" cy="356040"/>
                    </a:xfrm>
                    <a:custGeom>
                      <a:avLst/>
                      <a:gdLst/>
                      <a:ahLst/>
                      <a:rect l="0" t="0" r="r" b="b"/>
                      <a:pathLst>
                        <a:path w="680" h="989">
                          <a:moveTo>
                            <a:pt x="494" y="229"/>
                          </a:moveTo>
                          <a:lnTo>
                            <a:pt x="569" y="358"/>
                          </a:lnTo>
                          <a:lnTo>
                            <a:pt x="596" y="419"/>
                          </a:lnTo>
                          <a:lnTo>
                            <a:pt x="613" y="459"/>
                          </a:lnTo>
                          <a:lnTo>
                            <a:pt x="636" y="508"/>
                          </a:lnTo>
                          <a:lnTo>
                            <a:pt x="662" y="547"/>
                          </a:lnTo>
                          <a:lnTo>
                            <a:pt x="662" y="583"/>
                          </a:lnTo>
                          <a:lnTo>
                            <a:pt x="680" y="640"/>
                          </a:lnTo>
                          <a:lnTo>
                            <a:pt x="680" y="706"/>
                          </a:lnTo>
                          <a:lnTo>
                            <a:pt x="662" y="769"/>
                          </a:lnTo>
                          <a:lnTo>
                            <a:pt x="627" y="866"/>
                          </a:lnTo>
                          <a:lnTo>
                            <a:pt x="587" y="919"/>
                          </a:lnTo>
                          <a:lnTo>
                            <a:pt x="538" y="963"/>
                          </a:lnTo>
                          <a:lnTo>
                            <a:pt x="486" y="989"/>
                          </a:lnTo>
                          <a:lnTo>
                            <a:pt x="402" y="954"/>
                          </a:lnTo>
                          <a:lnTo>
                            <a:pt x="295" y="910"/>
                          </a:lnTo>
                          <a:lnTo>
                            <a:pt x="202" y="835"/>
                          </a:lnTo>
                          <a:lnTo>
                            <a:pt x="154" y="786"/>
                          </a:lnTo>
                          <a:lnTo>
                            <a:pt x="132" y="737"/>
                          </a:lnTo>
                          <a:lnTo>
                            <a:pt x="132" y="662"/>
                          </a:lnTo>
                          <a:lnTo>
                            <a:pt x="110" y="578"/>
                          </a:lnTo>
                          <a:lnTo>
                            <a:pt x="105" y="516"/>
                          </a:lnTo>
                          <a:lnTo>
                            <a:pt x="83" y="455"/>
                          </a:lnTo>
                          <a:lnTo>
                            <a:pt x="79" y="411"/>
                          </a:lnTo>
                          <a:lnTo>
                            <a:pt x="66" y="331"/>
                          </a:lnTo>
                          <a:lnTo>
                            <a:pt x="57" y="283"/>
                          </a:lnTo>
                          <a:lnTo>
                            <a:pt x="48" y="233"/>
                          </a:lnTo>
                          <a:lnTo>
                            <a:pt x="17" y="185"/>
                          </a:lnTo>
                          <a:lnTo>
                            <a:pt x="0" y="105"/>
                          </a:lnTo>
                          <a:lnTo>
                            <a:pt x="0" y="0"/>
                          </a:lnTo>
                          <a:lnTo>
                            <a:pt x="22" y="83"/>
                          </a:lnTo>
                          <a:lnTo>
                            <a:pt x="44" y="180"/>
                          </a:lnTo>
                          <a:lnTo>
                            <a:pt x="66" y="233"/>
                          </a:lnTo>
                          <a:lnTo>
                            <a:pt x="83" y="305"/>
                          </a:lnTo>
                          <a:lnTo>
                            <a:pt x="105" y="380"/>
                          </a:lnTo>
                          <a:lnTo>
                            <a:pt x="114" y="455"/>
                          </a:lnTo>
                          <a:lnTo>
                            <a:pt x="132" y="490"/>
                          </a:lnTo>
                          <a:lnTo>
                            <a:pt x="180" y="525"/>
                          </a:lnTo>
                          <a:lnTo>
                            <a:pt x="216" y="538"/>
                          </a:lnTo>
                          <a:lnTo>
                            <a:pt x="264" y="547"/>
                          </a:lnTo>
                          <a:lnTo>
                            <a:pt x="335" y="538"/>
                          </a:lnTo>
                          <a:lnTo>
                            <a:pt x="402" y="516"/>
                          </a:lnTo>
                          <a:lnTo>
                            <a:pt x="459" y="499"/>
                          </a:lnTo>
                          <a:lnTo>
                            <a:pt x="486" y="481"/>
                          </a:lnTo>
                          <a:lnTo>
                            <a:pt x="525" y="424"/>
                          </a:lnTo>
                          <a:lnTo>
                            <a:pt x="525" y="367"/>
                          </a:lnTo>
                          <a:lnTo>
                            <a:pt x="494" y="22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24" name=""/>
                    <p:cNvSpPr/>
                    <p:nvPr/>
                  </p:nvSpPr>
                  <p:spPr>
                    <a:xfrm>
                      <a:off x="1357200" y="6329520"/>
                      <a:ext cx="79200" cy="84240"/>
                    </a:xfrm>
                    <a:prstGeom prst="ellipse">
                      <a:avLst/>
                    </a:prstGeom>
                    <a:solidFill>
                      <a:srgbClr val="5f5f7f"/>
                    </a:solidFill>
                    <a:ln w="12600">
                      <a:solidFill>
                        <a:srgbClr val="000000"/>
                      </a:solidFill>
                      <a:round/>
                    </a:ln>
                  </p:spPr>
                  <p:txBody>
                    <a:bodyPr lIns="96120" rIns="96120" tIns="33120" bIns="33120" anchor="t">
                      <a:noAutofit/>
                    </a:bodyPr>
                    <a:p>
                      <a:endParaRPr b="0" lang="en-US" sz="1800" spc="-1" strike="noStrike">
                        <a:solidFill>
                          <a:srgbClr val="000000"/>
                        </a:solidFill>
                        <a:latin typeface="Arial"/>
                      </a:endParaRPr>
                    </a:p>
                  </p:txBody>
                </p:sp>
              </p:grpSp>
            </p:grpSp>
            <p:sp>
              <p:nvSpPr>
                <p:cNvPr id="825" name=""/>
                <p:cNvSpPr/>
                <p:nvPr/>
              </p:nvSpPr>
              <p:spPr>
                <a:xfrm>
                  <a:off x="1265400" y="5288040"/>
                  <a:ext cx="1440" cy="806400"/>
                </a:xfrm>
                <a:prstGeom prst="line">
                  <a:avLst/>
                </a:prstGeom>
                <a:ln w="12600">
                  <a:solidFill>
                    <a:srgbClr val="ff9f7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826" name=""/>
              <p:cNvGrpSpPr/>
              <p:nvPr/>
            </p:nvGrpSpPr>
            <p:grpSpPr>
              <a:xfrm>
                <a:off x="619200" y="2185920"/>
                <a:ext cx="1325880" cy="3011760"/>
                <a:chOff x="619200" y="2185920"/>
                <a:chExt cx="1325880" cy="3011760"/>
              </a:xfrm>
            </p:grpSpPr>
            <p:grpSp>
              <p:nvGrpSpPr>
                <p:cNvPr id="827" name=""/>
                <p:cNvGrpSpPr/>
                <p:nvPr/>
              </p:nvGrpSpPr>
              <p:grpSpPr>
                <a:xfrm>
                  <a:off x="619200" y="2185920"/>
                  <a:ext cx="1325880" cy="3011760"/>
                  <a:chOff x="619200" y="2185920"/>
                  <a:chExt cx="1325880" cy="3011760"/>
                </a:xfrm>
              </p:grpSpPr>
              <p:grpSp>
                <p:nvGrpSpPr>
                  <p:cNvPr id="828" name=""/>
                  <p:cNvGrpSpPr/>
                  <p:nvPr/>
                </p:nvGrpSpPr>
                <p:grpSpPr>
                  <a:xfrm>
                    <a:off x="878040" y="3794040"/>
                    <a:ext cx="817920" cy="1403640"/>
                    <a:chOff x="878040" y="3794040"/>
                    <a:chExt cx="817920" cy="1403640"/>
                  </a:xfrm>
                </p:grpSpPr>
                <p:sp>
                  <p:nvSpPr>
                    <p:cNvPr id="829" name=""/>
                    <p:cNvSpPr/>
                    <p:nvPr/>
                  </p:nvSpPr>
                  <p:spPr>
                    <a:xfrm>
                      <a:off x="878040" y="3794040"/>
                      <a:ext cx="817920" cy="1403640"/>
                    </a:xfrm>
                    <a:custGeom>
                      <a:avLst/>
                      <a:gdLst/>
                      <a:ahLst/>
                      <a:rect l="0" t="0" r="r" b="b"/>
                      <a:pathLst>
                        <a:path w="2272" h="3899">
                          <a:moveTo>
                            <a:pt x="0" y="0"/>
                          </a:moveTo>
                          <a:lnTo>
                            <a:pt x="17" y="1389"/>
                          </a:lnTo>
                          <a:lnTo>
                            <a:pt x="79" y="1838"/>
                          </a:lnTo>
                          <a:lnTo>
                            <a:pt x="145" y="2302"/>
                          </a:lnTo>
                          <a:lnTo>
                            <a:pt x="202" y="2642"/>
                          </a:lnTo>
                          <a:lnTo>
                            <a:pt x="268" y="3078"/>
                          </a:lnTo>
                          <a:lnTo>
                            <a:pt x="321" y="3511"/>
                          </a:lnTo>
                          <a:lnTo>
                            <a:pt x="427" y="3559"/>
                          </a:lnTo>
                          <a:lnTo>
                            <a:pt x="533" y="3625"/>
                          </a:lnTo>
                          <a:lnTo>
                            <a:pt x="661" y="3696"/>
                          </a:lnTo>
                          <a:lnTo>
                            <a:pt x="802" y="3775"/>
                          </a:lnTo>
                          <a:lnTo>
                            <a:pt x="1009" y="3824"/>
                          </a:lnTo>
                          <a:lnTo>
                            <a:pt x="1098" y="3824"/>
                          </a:lnTo>
                          <a:lnTo>
                            <a:pt x="1147" y="3833"/>
                          </a:lnTo>
                          <a:lnTo>
                            <a:pt x="1209" y="3850"/>
                          </a:lnTo>
                          <a:lnTo>
                            <a:pt x="1262" y="3899"/>
                          </a:lnTo>
                          <a:lnTo>
                            <a:pt x="1416" y="3899"/>
                          </a:lnTo>
                          <a:lnTo>
                            <a:pt x="1685" y="3850"/>
                          </a:lnTo>
                          <a:lnTo>
                            <a:pt x="1888" y="3775"/>
                          </a:lnTo>
                          <a:lnTo>
                            <a:pt x="2011" y="3683"/>
                          </a:lnTo>
                          <a:lnTo>
                            <a:pt x="2069" y="3145"/>
                          </a:lnTo>
                          <a:lnTo>
                            <a:pt x="2122" y="2585"/>
                          </a:lnTo>
                          <a:lnTo>
                            <a:pt x="2219" y="2069"/>
                          </a:lnTo>
                          <a:lnTo>
                            <a:pt x="2258" y="1561"/>
                          </a:lnTo>
                          <a:lnTo>
                            <a:pt x="2272" y="1049"/>
                          </a:lnTo>
                          <a:lnTo>
                            <a:pt x="2236" y="202"/>
                          </a:lnTo>
                          <a:lnTo>
                            <a:pt x="2232" y="17"/>
                          </a:lnTo>
                          <a:lnTo>
                            <a:pt x="0" y="0"/>
                          </a:lnTo>
                          <a:close/>
                        </a:path>
                      </a:pathLst>
                    </a:custGeom>
                    <a:solidFill>
                      <a:srgbClr val="5f5f7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0" name=""/>
                    <p:cNvSpPr/>
                    <p:nvPr/>
                  </p:nvSpPr>
                  <p:spPr>
                    <a:xfrm>
                      <a:off x="1249200" y="4233960"/>
                      <a:ext cx="343440" cy="776520"/>
                    </a:xfrm>
                    <a:custGeom>
                      <a:avLst/>
                      <a:gdLst/>
                      <a:ahLst/>
                      <a:rect l="0" t="0" r="r" b="b"/>
                      <a:pathLst>
                        <a:path w="954" h="2157">
                          <a:moveTo>
                            <a:pt x="261" y="405"/>
                          </a:moveTo>
                          <a:lnTo>
                            <a:pt x="202" y="533"/>
                          </a:lnTo>
                          <a:lnTo>
                            <a:pt x="158" y="661"/>
                          </a:lnTo>
                          <a:lnTo>
                            <a:pt x="145" y="820"/>
                          </a:lnTo>
                          <a:lnTo>
                            <a:pt x="22" y="2157"/>
                          </a:lnTo>
                          <a:lnTo>
                            <a:pt x="39" y="590"/>
                          </a:lnTo>
                          <a:lnTo>
                            <a:pt x="0" y="0"/>
                          </a:lnTo>
                          <a:lnTo>
                            <a:pt x="835" y="22"/>
                          </a:lnTo>
                          <a:lnTo>
                            <a:pt x="954" y="101"/>
                          </a:lnTo>
                          <a:lnTo>
                            <a:pt x="760" y="119"/>
                          </a:lnTo>
                          <a:lnTo>
                            <a:pt x="583" y="149"/>
                          </a:lnTo>
                          <a:lnTo>
                            <a:pt x="490" y="194"/>
                          </a:lnTo>
                          <a:lnTo>
                            <a:pt x="411" y="251"/>
                          </a:lnTo>
                          <a:lnTo>
                            <a:pt x="314" y="317"/>
                          </a:lnTo>
                          <a:lnTo>
                            <a:pt x="261" y="40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831" name=""/>
                  <p:cNvSpPr/>
                  <p:nvPr/>
                </p:nvSpPr>
                <p:spPr>
                  <a:xfrm>
                    <a:off x="619200" y="2185920"/>
                    <a:ext cx="1325880" cy="2092680"/>
                  </a:xfrm>
                  <a:custGeom>
                    <a:avLst/>
                    <a:gdLst/>
                    <a:ahLst/>
                    <a:rect l="0" t="0" r="r" b="b"/>
                    <a:pathLst>
                      <a:path w="3683" h="5813">
                        <a:moveTo>
                          <a:pt x="1680" y="0"/>
                        </a:moveTo>
                        <a:lnTo>
                          <a:pt x="1618" y="92"/>
                        </a:lnTo>
                        <a:lnTo>
                          <a:pt x="1569" y="145"/>
                        </a:lnTo>
                        <a:lnTo>
                          <a:pt x="1516" y="202"/>
                        </a:lnTo>
                        <a:lnTo>
                          <a:pt x="1441" y="273"/>
                        </a:lnTo>
                        <a:lnTo>
                          <a:pt x="1367" y="339"/>
                        </a:lnTo>
                        <a:lnTo>
                          <a:pt x="1212" y="392"/>
                        </a:lnTo>
                        <a:lnTo>
                          <a:pt x="1067" y="436"/>
                        </a:lnTo>
                        <a:lnTo>
                          <a:pt x="934" y="449"/>
                        </a:lnTo>
                        <a:lnTo>
                          <a:pt x="780" y="498"/>
                        </a:lnTo>
                        <a:lnTo>
                          <a:pt x="652" y="537"/>
                        </a:lnTo>
                        <a:lnTo>
                          <a:pt x="568" y="582"/>
                        </a:lnTo>
                        <a:lnTo>
                          <a:pt x="502" y="604"/>
                        </a:lnTo>
                        <a:lnTo>
                          <a:pt x="357" y="701"/>
                        </a:lnTo>
                        <a:lnTo>
                          <a:pt x="326" y="718"/>
                        </a:lnTo>
                        <a:lnTo>
                          <a:pt x="304" y="745"/>
                        </a:lnTo>
                        <a:lnTo>
                          <a:pt x="291" y="789"/>
                        </a:lnTo>
                        <a:lnTo>
                          <a:pt x="233" y="1018"/>
                        </a:lnTo>
                        <a:lnTo>
                          <a:pt x="207" y="1168"/>
                        </a:lnTo>
                        <a:lnTo>
                          <a:pt x="163" y="1380"/>
                        </a:lnTo>
                        <a:lnTo>
                          <a:pt x="123" y="1750"/>
                        </a:lnTo>
                        <a:lnTo>
                          <a:pt x="70" y="2046"/>
                        </a:lnTo>
                        <a:lnTo>
                          <a:pt x="48" y="2465"/>
                        </a:lnTo>
                        <a:lnTo>
                          <a:pt x="39" y="2610"/>
                        </a:lnTo>
                        <a:lnTo>
                          <a:pt x="0" y="2747"/>
                        </a:lnTo>
                        <a:lnTo>
                          <a:pt x="0" y="2848"/>
                        </a:lnTo>
                        <a:lnTo>
                          <a:pt x="0" y="2920"/>
                        </a:lnTo>
                        <a:lnTo>
                          <a:pt x="88" y="3092"/>
                        </a:lnTo>
                        <a:lnTo>
                          <a:pt x="216" y="3299"/>
                        </a:lnTo>
                        <a:lnTo>
                          <a:pt x="326" y="3361"/>
                        </a:lnTo>
                        <a:lnTo>
                          <a:pt x="608" y="3542"/>
                        </a:lnTo>
                        <a:lnTo>
                          <a:pt x="780" y="3630"/>
                        </a:lnTo>
                        <a:lnTo>
                          <a:pt x="701" y="4031"/>
                        </a:lnTo>
                        <a:lnTo>
                          <a:pt x="665" y="4304"/>
                        </a:lnTo>
                        <a:lnTo>
                          <a:pt x="648" y="4573"/>
                        </a:lnTo>
                        <a:lnTo>
                          <a:pt x="648" y="4900"/>
                        </a:lnTo>
                        <a:lnTo>
                          <a:pt x="665" y="5385"/>
                        </a:lnTo>
                        <a:lnTo>
                          <a:pt x="679" y="5746"/>
                        </a:lnTo>
                        <a:lnTo>
                          <a:pt x="1870" y="5813"/>
                        </a:lnTo>
                        <a:lnTo>
                          <a:pt x="1870" y="5746"/>
                        </a:lnTo>
                        <a:lnTo>
                          <a:pt x="2020" y="5764"/>
                        </a:lnTo>
                        <a:lnTo>
                          <a:pt x="2554" y="5804"/>
                        </a:lnTo>
                        <a:lnTo>
                          <a:pt x="2907" y="5764"/>
                        </a:lnTo>
                        <a:lnTo>
                          <a:pt x="3039" y="5689"/>
                        </a:lnTo>
                        <a:lnTo>
                          <a:pt x="3039" y="4900"/>
                        </a:lnTo>
                        <a:lnTo>
                          <a:pt x="3021" y="4613"/>
                        </a:lnTo>
                        <a:lnTo>
                          <a:pt x="2981" y="4304"/>
                        </a:lnTo>
                        <a:lnTo>
                          <a:pt x="2981" y="4128"/>
                        </a:lnTo>
                        <a:lnTo>
                          <a:pt x="2959" y="3877"/>
                        </a:lnTo>
                        <a:lnTo>
                          <a:pt x="3127" y="3806"/>
                        </a:lnTo>
                        <a:lnTo>
                          <a:pt x="3268" y="3696"/>
                        </a:lnTo>
                        <a:lnTo>
                          <a:pt x="3506" y="3497"/>
                        </a:lnTo>
                        <a:lnTo>
                          <a:pt x="3616" y="3449"/>
                        </a:lnTo>
                        <a:lnTo>
                          <a:pt x="3665" y="3343"/>
                        </a:lnTo>
                        <a:lnTo>
                          <a:pt x="3683" y="3184"/>
                        </a:lnTo>
                        <a:lnTo>
                          <a:pt x="3683" y="2920"/>
                        </a:lnTo>
                        <a:lnTo>
                          <a:pt x="3683" y="2222"/>
                        </a:lnTo>
                        <a:lnTo>
                          <a:pt x="3665" y="1746"/>
                        </a:lnTo>
                        <a:lnTo>
                          <a:pt x="3674" y="1283"/>
                        </a:lnTo>
                        <a:lnTo>
                          <a:pt x="3665" y="1146"/>
                        </a:lnTo>
                        <a:lnTo>
                          <a:pt x="3647" y="1075"/>
                        </a:lnTo>
                        <a:lnTo>
                          <a:pt x="3612" y="1031"/>
                        </a:lnTo>
                        <a:lnTo>
                          <a:pt x="3586" y="996"/>
                        </a:lnTo>
                        <a:lnTo>
                          <a:pt x="3409" y="886"/>
                        </a:lnTo>
                        <a:lnTo>
                          <a:pt x="3184" y="745"/>
                        </a:lnTo>
                        <a:lnTo>
                          <a:pt x="2959" y="630"/>
                        </a:lnTo>
                        <a:lnTo>
                          <a:pt x="2752" y="537"/>
                        </a:lnTo>
                        <a:lnTo>
                          <a:pt x="2615" y="485"/>
                        </a:lnTo>
                        <a:lnTo>
                          <a:pt x="2377" y="202"/>
                        </a:lnTo>
                        <a:lnTo>
                          <a:pt x="2302" y="92"/>
                        </a:lnTo>
                        <a:lnTo>
                          <a:pt x="2377" y="308"/>
                        </a:lnTo>
                        <a:lnTo>
                          <a:pt x="2404" y="348"/>
                        </a:lnTo>
                        <a:lnTo>
                          <a:pt x="2413" y="401"/>
                        </a:lnTo>
                        <a:lnTo>
                          <a:pt x="2430" y="454"/>
                        </a:lnTo>
                        <a:lnTo>
                          <a:pt x="2439" y="515"/>
                        </a:lnTo>
                        <a:lnTo>
                          <a:pt x="2413" y="626"/>
                        </a:lnTo>
                        <a:lnTo>
                          <a:pt x="2342" y="789"/>
                        </a:lnTo>
                        <a:lnTo>
                          <a:pt x="1932" y="2116"/>
                        </a:lnTo>
                        <a:lnTo>
                          <a:pt x="1728" y="1031"/>
                        </a:lnTo>
                        <a:lnTo>
                          <a:pt x="1591" y="573"/>
                        </a:lnTo>
                        <a:lnTo>
                          <a:pt x="1569" y="458"/>
                        </a:lnTo>
                        <a:lnTo>
                          <a:pt x="1569" y="348"/>
                        </a:lnTo>
                        <a:lnTo>
                          <a:pt x="1600" y="273"/>
                        </a:lnTo>
                        <a:lnTo>
                          <a:pt x="1680" y="0"/>
                        </a:lnTo>
                        <a:close/>
                      </a:path>
                    </a:pathLst>
                  </a:custGeom>
                  <a:solidFill>
                    <a:srgbClr val="5f5f7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32" name=""/>
                <p:cNvGrpSpPr/>
                <p:nvPr/>
              </p:nvGrpSpPr>
              <p:grpSpPr>
                <a:xfrm>
                  <a:off x="1084320" y="3176640"/>
                  <a:ext cx="456840" cy="766800"/>
                  <a:chOff x="1084320" y="3176640"/>
                  <a:chExt cx="456840" cy="766800"/>
                </a:xfrm>
              </p:grpSpPr>
              <p:sp>
                <p:nvSpPr>
                  <p:cNvPr id="833" name=""/>
                  <p:cNvSpPr/>
                  <p:nvPr/>
                </p:nvSpPr>
                <p:spPr>
                  <a:xfrm>
                    <a:off x="1403280" y="3894120"/>
                    <a:ext cx="30240" cy="39600"/>
                  </a:xfrm>
                  <a:prstGeom prst="ellipse">
                    <a:avLst/>
                  </a:prstGeom>
                  <a:solidFill>
                    <a:srgbClr val="000000"/>
                  </a:solidFill>
                  <a:ln w="12600">
                    <a:solidFill>
                      <a:srgbClr val="000000"/>
                    </a:solidFill>
                    <a:round/>
                  </a:ln>
                </p:spPr>
                <p:txBody>
                  <a:bodyPr lIns="96120" rIns="96120" tIns="-11520" bIns="-11520" anchor="t">
                    <a:noAutofit/>
                  </a:bodyPr>
                  <a:p>
                    <a:endParaRPr b="0" lang="en-US" sz="1800" spc="-1" strike="noStrike">
                      <a:solidFill>
                        <a:srgbClr val="ffffff"/>
                      </a:solidFill>
                      <a:latin typeface="Arial"/>
                    </a:endParaRPr>
                  </a:p>
                </p:txBody>
              </p:sp>
              <p:sp>
                <p:nvSpPr>
                  <p:cNvPr id="834" name=""/>
                  <p:cNvSpPr/>
                  <p:nvPr/>
                </p:nvSpPr>
                <p:spPr>
                  <a:xfrm>
                    <a:off x="1504800" y="3176640"/>
                    <a:ext cx="36360" cy="38160"/>
                  </a:xfrm>
                  <a:prstGeom prst="ellipse">
                    <a:avLst/>
                  </a:prstGeom>
                  <a:solidFill>
                    <a:srgbClr val="000000"/>
                  </a:solidFill>
                  <a:ln w="12600">
                    <a:solidFill>
                      <a:srgbClr val="000000"/>
                    </a:solidFill>
                    <a:round/>
                  </a:ln>
                </p:spPr>
                <p:txBody>
                  <a:bodyPr lIns="96120" rIns="96120" tIns="-12960" bIns="-12960" anchor="t">
                    <a:noAutofit/>
                  </a:bodyPr>
                  <a:p>
                    <a:endParaRPr b="0" lang="en-US" sz="1800" spc="-1" strike="noStrike">
                      <a:solidFill>
                        <a:srgbClr val="ffffff"/>
                      </a:solidFill>
                      <a:latin typeface="Arial"/>
                    </a:endParaRPr>
                  </a:p>
                </p:txBody>
              </p:sp>
              <p:sp>
                <p:nvSpPr>
                  <p:cNvPr id="835" name=""/>
                  <p:cNvSpPr/>
                  <p:nvPr/>
                </p:nvSpPr>
                <p:spPr>
                  <a:xfrm>
                    <a:off x="1084320" y="3903840"/>
                    <a:ext cx="33480" cy="39600"/>
                  </a:xfrm>
                  <a:prstGeom prst="ellipse">
                    <a:avLst/>
                  </a:prstGeom>
                  <a:solidFill>
                    <a:srgbClr val="000000"/>
                  </a:solidFill>
                  <a:ln w="12600">
                    <a:solidFill>
                      <a:srgbClr val="000000"/>
                    </a:solidFill>
                    <a:round/>
                  </a:ln>
                </p:spPr>
                <p:txBody>
                  <a:bodyPr lIns="96120" rIns="96120" tIns="-11520" bIns="-11520" anchor="t">
                    <a:noAutofit/>
                  </a:bodyPr>
                  <a:p>
                    <a:endParaRPr b="0" lang="en-US" sz="1800" spc="-1" strike="noStrike">
                      <a:solidFill>
                        <a:srgbClr val="ffffff"/>
                      </a:solidFill>
                      <a:latin typeface="Arial"/>
                    </a:endParaRPr>
                  </a:p>
                </p:txBody>
              </p:sp>
            </p:grpSp>
          </p:grpSp>
          <p:grpSp>
            <p:nvGrpSpPr>
              <p:cNvPr id="836" name=""/>
              <p:cNvGrpSpPr/>
              <p:nvPr/>
            </p:nvGrpSpPr>
            <p:grpSpPr>
              <a:xfrm>
                <a:off x="1014480" y="2297160"/>
                <a:ext cx="623880" cy="914760"/>
                <a:chOff x="1014480" y="2297160"/>
                <a:chExt cx="623880" cy="914760"/>
              </a:xfrm>
            </p:grpSpPr>
            <p:sp>
              <p:nvSpPr>
                <p:cNvPr id="837" name=""/>
                <p:cNvSpPr/>
                <p:nvPr/>
              </p:nvSpPr>
              <p:spPr>
                <a:xfrm>
                  <a:off x="1014480" y="2297160"/>
                  <a:ext cx="321120" cy="914760"/>
                </a:xfrm>
                <a:custGeom>
                  <a:avLst/>
                  <a:gdLst/>
                  <a:ahLst/>
                  <a:rect l="0" t="0" r="r" b="b"/>
                  <a:pathLst>
                    <a:path w="892" h="2541">
                      <a:moveTo>
                        <a:pt x="322" y="0"/>
                      </a:moveTo>
                      <a:lnTo>
                        <a:pt x="52" y="304"/>
                      </a:lnTo>
                      <a:lnTo>
                        <a:pt x="8" y="418"/>
                      </a:lnTo>
                      <a:lnTo>
                        <a:pt x="296" y="515"/>
                      </a:lnTo>
                      <a:lnTo>
                        <a:pt x="22" y="776"/>
                      </a:lnTo>
                      <a:lnTo>
                        <a:pt x="167" y="1071"/>
                      </a:lnTo>
                      <a:lnTo>
                        <a:pt x="397" y="1553"/>
                      </a:lnTo>
                      <a:lnTo>
                        <a:pt x="892" y="2541"/>
                      </a:lnTo>
                      <a:lnTo>
                        <a:pt x="0" y="789"/>
                      </a:lnTo>
                      <a:lnTo>
                        <a:pt x="265" y="529"/>
                      </a:lnTo>
                      <a:lnTo>
                        <a:pt x="0" y="432"/>
                      </a:lnTo>
                      <a:lnTo>
                        <a:pt x="52" y="304"/>
                      </a:lnTo>
                      <a:lnTo>
                        <a:pt x="32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38" name=""/>
                <p:cNvSpPr/>
                <p:nvPr/>
              </p:nvSpPr>
              <p:spPr>
                <a:xfrm>
                  <a:off x="1303200" y="2382840"/>
                  <a:ext cx="335160" cy="810000"/>
                </a:xfrm>
                <a:custGeom>
                  <a:avLst/>
                  <a:gdLst/>
                  <a:ahLst/>
                  <a:rect l="0" t="0" r="r" b="b"/>
                  <a:pathLst>
                    <a:path w="931" h="2250">
                      <a:moveTo>
                        <a:pt x="755" y="0"/>
                      </a:moveTo>
                      <a:lnTo>
                        <a:pt x="909" y="304"/>
                      </a:lnTo>
                      <a:lnTo>
                        <a:pt x="688" y="405"/>
                      </a:lnTo>
                      <a:lnTo>
                        <a:pt x="931" y="574"/>
                      </a:lnTo>
                      <a:lnTo>
                        <a:pt x="0" y="2250"/>
                      </a:lnTo>
                      <a:lnTo>
                        <a:pt x="900" y="574"/>
                      </a:lnTo>
                      <a:lnTo>
                        <a:pt x="671" y="405"/>
                      </a:lnTo>
                      <a:lnTo>
                        <a:pt x="900" y="299"/>
                      </a:lnTo>
                      <a:lnTo>
                        <a:pt x="755"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839" name=""/>
              <p:cNvGrpSpPr/>
              <p:nvPr/>
            </p:nvGrpSpPr>
            <p:grpSpPr>
              <a:xfrm>
                <a:off x="755640" y="2844720"/>
                <a:ext cx="1389240" cy="775440"/>
                <a:chOff x="755640" y="2844720"/>
                <a:chExt cx="1389240" cy="775440"/>
              </a:xfrm>
            </p:grpSpPr>
            <p:grpSp>
              <p:nvGrpSpPr>
                <p:cNvPr id="840" name=""/>
                <p:cNvGrpSpPr/>
                <p:nvPr/>
              </p:nvGrpSpPr>
              <p:grpSpPr>
                <a:xfrm>
                  <a:off x="755640" y="2844720"/>
                  <a:ext cx="1389240" cy="732240"/>
                  <a:chOff x="755640" y="2844720"/>
                  <a:chExt cx="1389240" cy="732240"/>
                </a:xfrm>
              </p:grpSpPr>
              <p:sp>
                <p:nvSpPr>
                  <p:cNvPr id="841" name=""/>
                  <p:cNvSpPr/>
                  <p:nvPr/>
                </p:nvSpPr>
                <p:spPr>
                  <a:xfrm>
                    <a:off x="755640" y="2844720"/>
                    <a:ext cx="1368720" cy="732240"/>
                  </a:xfrm>
                  <a:custGeom>
                    <a:avLst/>
                    <a:gdLst/>
                    <a:ahLst/>
                    <a:rect l="0" t="0" r="r" b="b"/>
                    <a:pathLst>
                      <a:path w="3802" h="2034">
                        <a:moveTo>
                          <a:pt x="0" y="680"/>
                        </a:moveTo>
                        <a:lnTo>
                          <a:pt x="868" y="0"/>
                        </a:lnTo>
                        <a:lnTo>
                          <a:pt x="917" y="0"/>
                        </a:lnTo>
                        <a:lnTo>
                          <a:pt x="2055" y="1465"/>
                        </a:lnTo>
                        <a:lnTo>
                          <a:pt x="2404" y="1341"/>
                        </a:lnTo>
                        <a:lnTo>
                          <a:pt x="2435" y="1288"/>
                        </a:lnTo>
                        <a:lnTo>
                          <a:pt x="2452" y="1235"/>
                        </a:lnTo>
                        <a:lnTo>
                          <a:pt x="3643" y="741"/>
                        </a:lnTo>
                        <a:lnTo>
                          <a:pt x="3722" y="706"/>
                        </a:lnTo>
                        <a:lnTo>
                          <a:pt x="3766" y="706"/>
                        </a:lnTo>
                        <a:lnTo>
                          <a:pt x="3775" y="719"/>
                        </a:lnTo>
                        <a:lnTo>
                          <a:pt x="3793" y="728"/>
                        </a:lnTo>
                        <a:lnTo>
                          <a:pt x="3802" y="750"/>
                        </a:lnTo>
                        <a:lnTo>
                          <a:pt x="3802" y="772"/>
                        </a:lnTo>
                        <a:lnTo>
                          <a:pt x="3802" y="816"/>
                        </a:lnTo>
                        <a:lnTo>
                          <a:pt x="3775" y="838"/>
                        </a:lnTo>
                        <a:lnTo>
                          <a:pt x="3722" y="878"/>
                        </a:lnTo>
                        <a:lnTo>
                          <a:pt x="3458" y="1019"/>
                        </a:lnTo>
                        <a:lnTo>
                          <a:pt x="2047" y="1571"/>
                        </a:lnTo>
                        <a:lnTo>
                          <a:pt x="1075" y="2034"/>
                        </a:lnTo>
                        <a:lnTo>
                          <a:pt x="1018" y="2017"/>
                        </a:lnTo>
                        <a:lnTo>
                          <a:pt x="970" y="1977"/>
                        </a:lnTo>
                        <a:lnTo>
                          <a:pt x="0" y="68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842" name=""/>
                  <p:cNvGrpSpPr/>
                  <p:nvPr/>
                </p:nvGrpSpPr>
                <p:grpSpPr>
                  <a:xfrm>
                    <a:off x="1130400" y="2900520"/>
                    <a:ext cx="1014480" cy="534960"/>
                    <a:chOff x="1130400" y="2900520"/>
                    <a:chExt cx="1014480" cy="534960"/>
                  </a:xfrm>
                </p:grpSpPr>
                <p:sp>
                  <p:nvSpPr>
                    <p:cNvPr id="843" name=""/>
                    <p:cNvSpPr/>
                    <p:nvPr/>
                  </p:nvSpPr>
                  <p:spPr>
                    <a:xfrm>
                      <a:off x="1130400" y="2900520"/>
                      <a:ext cx="331560" cy="465120"/>
                    </a:xfrm>
                    <a:prstGeom prst="line">
                      <a:avLst/>
                    </a:prstGeom>
                    <a:ln w="25560">
                      <a:solidFill>
                        <a:srgbClr val="3f3f3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nvGrpSpPr>
                    <p:cNvPr id="844" name=""/>
                    <p:cNvGrpSpPr/>
                    <p:nvPr/>
                  </p:nvGrpSpPr>
                  <p:grpSpPr>
                    <a:xfrm>
                      <a:off x="1544760" y="3103560"/>
                      <a:ext cx="600120" cy="331920"/>
                      <a:chOff x="1544760" y="3103560"/>
                      <a:chExt cx="600120" cy="331920"/>
                    </a:xfrm>
                  </p:grpSpPr>
                  <p:sp>
                    <p:nvSpPr>
                      <p:cNvPr id="845" name=""/>
                      <p:cNvSpPr/>
                      <p:nvPr/>
                    </p:nvSpPr>
                    <p:spPr>
                      <a:xfrm flipV="1">
                        <a:off x="1544760" y="3170160"/>
                        <a:ext cx="419040" cy="265320"/>
                      </a:xfrm>
                      <a:prstGeom prst="line">
                        <a:avLst/>
                      </a:prstGeom>
                      <a:ln w="25560">
                        <a:solidFill>
                          <a:srgbClr val="3f3f3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46" name=""/>
                      <p:cNvSpPr/>
                      <p:nvPr/>
                    </p:nvSpPr>
                    <p:spPr>
                      <a:xfrm flipV="1">
                        <a:off x="2055960" y="3103560"/>
                        <a:ext cx="27000" cy="127080"/>
                      </a:xfrm>
                      <a:prstGeom prst="line">
                        <a:avLst/>
                      </a:prstGeom>
                      <a:ln w="25560">
                        <a:solidFill>
                          <a:srgbClr val="3f3f3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47" name=""/>
                      <p:cNvSpPr/>
                      <p:nvPr/>
                    </p:nvSpPr>
                    <p:spPr>
                      <a:xfrm flipH="1">
                        <a:off x="1635120" y="3157560"/>
                        <a:ext cx="509760" cy="146160"/>
                      </a:xfrm>
                      <a:prstGeom prst="line">
                        <a:avLst/>
                      </a:prstGeom>
                      <a:ln w="12600">
                        <a:solidFill>
                          <a:srgbClr val="3f3f3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grpSp>
            <p:grpSp>
              <p:nvGrpSpPr>
                <p:cNvPr id="848" name=""/>
                <p:cNvGrpSpPr/>
                <p:nvPr/>
              </p:nvGrpSpPr>
              <p:grpSpPr>
                <a:xfrm>
                  <a:off x="1108080" y="3232080"/>
                  <a:ext cx="421200" cy="388080"/>
                  <a:chOff x="1108080" y="3232080"/>
                  <a:chExt cx="421200" cy="388080"/>
                </a:xfrm>
              </p:grpSpPr>
              <p:sp>
                <p:nvSpPr>
                  <p:cNvPr id="849" name=""/>
                  <p:cNvSpPr/>
                  <p:nvPr/>
                </p:nvSpPr>
                <p:spPr>
                  <a:xfrm>
                    <a:off x="1108080" y="3322800"/>
                    <a:ext cx="421200" cy="297360"/>
                  </a:xfrm>
                  <a:custGeom>
                    <a:avLst/>
                    <a:gdLst/>
                    <a:ahLst/>
                    <a:rect l="0" t="0" r="r" b="b"/>
                    <a:pathLst>
                      <a:path w="1170" h="826">
                        <a:moveTo>
                          <a:pt x="1108" y="499"/>
                        </a:moveTo>
                        <a:lnTo>
                          <a:pt x="1055" y="512"/>
                        </a:lnTo>
                        <a:lnTo>
                          <a:pt x="1011" y="499"/>
                        </a:lnTo>
                        <a:lnTo>
                          <a:pt x="976" y="472"/>
                        </a:lnTo>
                        <a:lnTo>
                          <a:pt x="928" y="464"/>
                        </a:lnTo>
                        <a:lnTo>
                          <a:pt x="888" y="393"/>
                        </a:lnTo>
                        <a:lnTo>
                          <a:pt x="856" y="367"/>
                        </a:lnTo>
                        <a:lnTo>
                          <a:pt x="834" y="375"/>
                        </a:lnTo>
                        <a:lnTo>
                          <a:pt x="812" y="389"/>
                        </a:lnTo>
                        <a:lnTo>
                          <a:pt x="794" y="402"/>
                        </a:lnTo>
                        <a:lnTo>
                          <a:pt x="781" y="428"/>
                        </a:lnTo>
                        <a:lnTo>
                          <a:pt x="777" y="450"/>
                        </a:lnTo>
                        <a:lnTo>
                          <a:pt x="750" y="464"/>
                        </a:lnTo>
                        <a:lnTo>
                          <a:pt x="680" y="490"/>
                        </a:lnTo>
                        <a:lnTo>
                          <a:pt x="605" y="499"/>
                        </a:lnTo>
                        <a:lnTo>
                          <a:pt x="569" y="486"/>
                        </a:lnTo>
                        <a:lnTo>
                          <a:pt x="538" y="464"/>
                        </a:lnTo>
                        <a:lnTo>
                          <a:pt x="512" y="464"/>
                        </a:lnTo>
                        <a:lnTo>
                          <a:pt x="464" y="402"/>
                        </a:lnTo>
                        <a:lnTo>
                          <a:pt x="428" y="375"/>
                        </a:lnTo>
                        <a:lnTo>
                          <a:pt x="375" y="269"/>
                        </a:lnTo>
                        <a:lnTo>
                          <a:pt x="336" y="194"/>
                        </a:lnTo>
                        <a:lnTo>
                          <a:pt x="314" y="145"/>
                        </a:lnTo>
                        <a:lnTo>
                          <a:pt x="282" y="74"/>
                        </a:lnTo>
                        <a:lnTo>
                          <a:pt x="264" y="44"/>
                        </a:lnTo>
                        <a:lnTo>
                          <a:pt x="238" y="35"/>
                        </a:lnTo>
                        <a:lnTo>
                          <a:pt x="211" y="35"/>
                        </a:lnTo>
                        <a:lnTo>
                          <a:pt x="198" y="57"/>
                        </a:lnTo>
                        <a:lnTo>
                          <a:pt x="207" y="105"/>
                        </a:lnTo>
                        <a:lnTo>
                          <a:pt x="220" y="145"/>
                        </a:lnTo>
                        <a:lnTo>
                          <a:pt x="238" y="194"/>
                        </a:lnTo>
                        <a:lnTo>
                          <a:pt x="238" y="234"/>
                        </a:lnTo>
                        <a:lnTo>
                          <a:pt x="189" y="149"/>
                        </a:lnTo>
                        <a:lnTo>
                          <a:pt x="180" y="105"/>
                        </a:lnTo>
                        <a:lnTo>
                          <a:pt x="158" y="52"/>
                        </a:lnTo>
                        <a:lnTo>
                          <a:pt x="141" y="17"/>
                        </a:lnTo>
                        <a:lnTo>
                          <a:pt x="114" y="0"/>
                        </a:lnTo>
                        <a:lnTo>
                          <a:pt x="88" y="0"/>
                        </a:lnTo>
                        <a:lnTo>
                          <a:pt x="61" y="13"/>
                        </a:lnTo>
                        <a:lnTo>
                          <a:pt x="48" y="30"/>
                        </a:lnTo>
                        <a:lnTo>
                          <a:pt x="88" y="114"/>
                        </a:lnTo>
                        <a:lnTo>
                          <a:pt x="61" y="101"/>
                        </a:lnTo>
                        <a:lnTo>
                          <a:pt x="35" y="101"/>
                        </a:lnTo>
                        <a:lnTo>
                          <a:pt x="13" y="110"/>
                        </a:lnTo>
                        <a:lnTo>
                          <a:pt x="0" y="123"/>
                        </a:lnTo>
                        <a:lnTo>
                          <a:pt x="61" y="239"/>
                        </a:lnTo>
                        <a:lnTo>
                          <a:pt x="88" y="331"/>
                        </a:lnTo>
                        <a:lnTo>
                          <a:pt x="61" y="309"/>
                        </a:lnTo>
                        <a:lnTo>
                          <a:pt x="35" y="300"/>
                        </a:lnTo>
                        <a:lnTo>
                          <a:pt x="8" y="309"/>
                        </a:lnTo>
                        <a:lnTo>
                          <a:pt x="0" y="331"/>
                        </a:lnTo>
                        <a:lnTo>
                          <a:pt x="48" y="397"/>
                        </a:lnTo>
                        <a:lnTo>
                          <a:pt x="61" y="433"/>
                        </a:lnTo>
                        <a:lnTo>
                          <a:pt x="61" y="464"/>
                        </a:lnTo>
                        <a:lnTo>
                          <a:pt x="88" y="499"/>
                        </a:lnTo>
                        <a:lnTo>
                          <a:pt x="105" y="538"/>
                        </a:lnTo>
                        <a:lnTo>
                          <a:pt x="123" y="587"/>
                        </a:lnTo>
                        <a:lnTo>
                          <a:pt x="141" y="609"/>
                        </a:lnTo>
                        <a:lnTo>
                          <a:pt x="149" y="623"/>
                        </a:lnTo>
                        <a:lnTo>
                          <a:pt x="167" y="637"/>
                        </a:lnTo>
                        <a:lnTo>
                          <a:pt x="336" y="729"/>
                        </a:lnTo>
                        <a:lnTo>
                          <a:pt x="389" y="769"/>
                        </a:lnTo>
                        <a:lnTo>
                          <a:pt x="406" y="791"/>
                        </a:lnTo>
                        <a:lnTo>
                          <a:pt x="446" y="808"/>
                        </a:lnTo>
                        <a:lnTo>
                          <a:pt x="472" y="822"/>
                        </a:lnTo>
                        <a:lnTo>
                          <a:pt x="499" y="826"/>
                        </a:lnTo>
                        <a:lnTo>
                          <a:pt x="631" y="808"/>
                        </a:lnTo>
                        <a:lnTo>
                          <a:pt x="750" y="800"/>
                        </a:lnTo>
                        <a:lnTo>
                          <a:pt x="860" y="786"/>
                        </a:lnTo>
                        <a:lnTo>
                          <a:pt x="972" y="769"/>
                        </a:lnTo>
                        <a:lnTo>
                          <a:pt x="1073" y="738"/>
                        </a:lnTo>
                        <a:lnTo>
                          <a:pt x="1170" y="659"/>
                        </a:lnTo>
                        <a:lnTo>
                          <a:pt x="1108" y="499"/>
                        </a:lnTo>
                        <a:close/>
                      </a:path>
                    </a:pathLst>
                  </a:custGeom>
                  <a:solidFill>
                    <a:srgbClr val="ffdfb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0" name=""/>
                  <p:cNvSpPr/>
                  <p:nvPr/>
                </p:nvSpPr>
                <p:spPr>
                  <a:xfrm>
                    <a:off x="1195560" y="3411360"/>
                    <a:ext cx="71640" cy="127440"/>
                  </a:xfrm>
                  <a:custGeom>
                    <a:avLst/>
                    <a:gdLst/>
                    <a:ahLst/>
                    <a:rect l="0" t="0" r="r" b="b"/>
                    <a:pathLst>
                      <a:path w="199" h="354">
                        <a:moveTo>
                          <a:pt x="0" y="0"/>
                        </a:moveTo>
                        <a:lnTo>
                          <a:pt x="57" y="146"/>
                        </a:lnTo>
                        <a:lnTo>
                          <a:pt x="115" y="243"/>
                        </a:lnTo>
                        <a:lnTo>
                          <a:pt x="155" y="284"/>
                        </a:lnTo>
                        <a:lnTo>
                          <a:pt x="168" y="332"/>
                        </a:lnTo>
                        <a:lnTo>
                          <a:pt x="172" y="350"/>
                        </a:lnTo>
                        <a:lnTo>
                          <a:pt x="199" y="354"/>
                        </a:lnTo>
                        <a:lnTo>
                          <a:pt x="172" y="354"/>
                        </a:lnTo>
                        <a:lnTo>
                          <a:pt x="164" y="332"/>
                        </a:lnTo>
                        <a:lnTo>
                          <a:pt x="155" y="301"/>
                        </a:lnTo>
                        <a:lnTo>
                          <a:pt x="79" y="195"/>
                        </a:lnTo>
                        <a:lnTo>
                          <a:pt x="48" y="128"/>
                        </a:lnTo>
                        <a:lnTo>
                          <a:pt x="0" y="0"/>
                        </a:lnTo>
                        <a:close/>
                      </a:path>
                    </a:pathLst>
                  </a:custGeom>
                  <a:solidFill>
                    <a:srgbClr val="ff7f3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1" name=""/>
                  <p:cNvSpPr/>
                  <p:nvPr/>
                </p:nvSpPr>
                <p:spPr>
                  <a:xfrm>
                    <a:off x="1139760" y="3368520"/>
                    <a:ext cx="109800" cy="194040"/>
                  </a:xfrm>
                  <a:custGeom>
                    <a:avLst/>
                    <a:gdLst/>
                    <a:ahLst/>
                    <a:rect l="0" t="0" r="r" b="b"/>
                    <a:pathLst>
                      <a:path w="305" h="539">
                        <a:moveTo>
                          <a:pt x="0" y="0"/>
                        </a:moveTo>
                        <a:lnTo>
                          <a:pt x="66" y="217"/>
                        </a:lnTo>
                        <a:lnTo>
                          <a:pt x="74" y="256"/>
                        </a:lnTo>
                        <a:lnTo>
                          <a:pt x="92" y="278"/>
                        </a:lnTo>
                        <a:lnTo>
                          <a:pt x="190" y="425"/>
                        </a:lnTo>
                        <a:lnTo>
                          <a:pt x="221" y="456"/>
                        </a:lnTo>
                        <a:lnTo>
                          <a:pt x="234" y="478"/>
                        </a:lnTo>
                        <a:lnTo>
                          <a:pt x="247" y="513"/>
                        </a:lnTo>
                        <a:lnTo>
                          <a:pt x="274" y="539"/>
                        </a:lnTo>
                        <a:lnTo>
                          <a:pt x="305" y="539"/>
                        </a:lnTo>
                        <a:lnTo>
                          <a:pt x="274" y="539"/>
                        </a:lnTo>
                        <a:lnTo>
                          <a:pt x="243" y="517"/>
                        </a:lnTo>
                        <a:lnTo>
                          <a:pt x="234" y="487"/>
                        </a:lnTo>
                        <a:lnTo>
                          <a:pt x="225" y="469"/>
                        </a:lnTo>
                        <a:lnTo>
                          <a:pt x="172" y="397"/>
                        </a:lnTo>
                        <a:lnTo>
                          <a:pt x="123" y="336"/>
                        </a:lnTo>
                        <a:lnTo>
                          <a:pt x="92" y="292"/>
                        </a:lnTo>
                        <a:lnTo>
                          <a:pt x="74" y="261"/>
                        </a:lnTo>
                        <a:lnTo>
                          <a:pt x="26" y="101"/>
                        </a:lnTo>
                        <a:lnTo>
                          <a:pt x="0" y="0"/>
                        </a:lnTo>
                        <a:close/>
                      </a:path>
                    </a:pathLst>
                  </a:custGeom>
                  <a:solidFill>
                    <a:srgbClr val="ff7f3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2" name=""/>
                  <p:cNvSpPr/>
                  <p:nvPr/>
                </p:nvSpPr>
                <p:spPr>
                  <a:xfrm>
                    <a:off x="1235160" y="3470400"/>
                    <a:ext cx="294120" cy="149760"/>
                  </a:xfrm>
                  <a:custGeom>
                    <a:avLst/>
                    <a:gdLst/>
                    <a:ahLst/>
                    <a:rect l="0" t="0" r="r" b="b"/>
                    <a:pathLst>
                      <a:path w="817" h="416">
                        <a:moveTo>
                          <a:pt x="756" y="101"/>
                        </a:moveTo>
                        <a:lnTo>
                          <a:pt x="703" y="115"/>
                        </a:lnTo>
                        <a:lnTo>
                          <a:pt x="659" y="101"/>
                        </a:lnTo>
                        <a:lnTo>
                          <a:pt x="628" y="79"/>
                        </a:lnTo>
                        <a:lnTo>
                          <a:pt x="578" y="70"/>
                        </a:lnTo>
                        <a:lnTo>
                          <a:pt x="538" y="0"/>
                        </a:lnTo>
                        <a:lnTo>
                          <a:pt x="525" y="13"/>
                        </a:lnTo>
                        <a:lnTo>
                          <a:pt x="516" y="26"/>
                        </a:lnTo>
                        <a:lnTo>
                          <a:pt x="503" y="48"/>
                        </a:lnTo>
                        <a:lnTo>
                          <a:pt x="472" y="52"/>
                        </a:lnTo>
                        <a:lnTo>
                          <a:pt x="455" y="52"/>
                        </a:lnTo>
                        <a:lnTo>
                          <a:pt x="433" y="35"/>
                        </a:lnTo>
                        <a:lnTo>
                          <a:pt x="428" y="57"/>
                        </a:lnTo>
                        <a:lnTo>
                          <a:pt x="402" y="70"/>
                        </a:lnTo>
                        <a:lnTo>
                          <a:pt x="336" y="92"/>
                        </a:lnTo>
                        <a:lnTo>
                          <a:pt x="371" y="97"/>
                        </a:lnTo>
                        <a:lnTo>
                          <a:pt x="428" y="79"/>
                        </a:lnTo>
                        <a:lnTo>
                          <a:pt x="450" y="92"/>
                        </a:lnTo>
                        <a:lnTo>
                          <a:pt x="464" y="115"/>
                        </a:lnTo>
                        <a:lnTo>
                          <a:pt x="441" y="124"/>
                        </a:lnTo>
                        <a:lnTo>
                          <a:pt x="486" y="133"/>
                        </a:lnTo>
                        <a:lnTo>
                          <a:pt x="450" y="142"/>
                        </a:lnTo>
                        <a:lnTo>
                          <a:pt x="486" y="142"/>
                        </a:lnTo>
                        <a:lnTo>
                          <a:pt x="468" y="159"/>
                        </a:lnTo>
                        <a:lnTo>
                          <a:pt x="486" y="155"/>
                        </a:lnTo>
                        <a:lnTo>
                          <a:pt x="503" y="159"/>
                        </a:lnTo>
                        <a:lnTo>
                          <a:pt x="503" y="181"/>
                        </a:lnTo>
                        <a:lnTo>
                          <a:pt x="472" y="208"/>
                        </a:lnTo>
                        <a:lnTo>
                          <a:pt x="446" y="212"/>
                        </a:lnTo>
                        <a:lnTo>
                          <a:pt x="393" y="230"/>
                        </a:lnTo>
                        <a:lnTo>
                          <a:pt x="349" y="230"/>
                        </a:lnTo>
                        <a:lnTo>
                          <a:pt x="300" y="230"/>
                        </a:lnTo>
                        <a:lnTo>
                          <a:pt x="256" y="212"/>
                        </a:lnTo>
                        <a:lnTo>
                          <a:pt x="217" y="199"/>
                        </a:lnTo>
                        <a:lnTo>
                          <a:pt x="189" y="208"/>
                        </a:lnTo>
                        <a:lnTo>
                          <a:pt x="167" y="217"/>
                        </a:lnTo>
                        <a:lnTo>
                          <a:pt x="136" y="230"/>
                        </a:lnTo>
                        <a:lnTo>
                          <a:pt x="101" y="212"/>
                        </a:lnTo>
                        <a:lnTo>
                          <a:pt x="114" y="239"/>
                        </a:lnTo>
                        <a:lnTo>
                          <a:pt x="101" y="256"/>
                        </a:lnTo>
                        <a:lnTo>
                          <a:pt x="101" y="269"/>
                        </a:lnTo>
                        <a:lnTo>
                          <a:pt x="83" y="296"/>
                        </a:lnTo>
                        <a:lnTo>
                          <a:pt x="57" y="305"/>
                        </a:lnTo>
                        <a:lnTo>
                          <a:pt x="35" y="296"/>
                        </a:lnTo>
                        <a:lnTo>
                          <a:pt x="22" y="315"/>
                        </a:lnTo>
                        <a:lnTo>
                          <a:pt x="0" y="323"/>
                        </a:lnTo>
                        <a:lnTo>
                          <a:pt x="44" y="359"/>
                        </a:lnTo>
                        <a:lnTo>
                          <a:pt x="61" y="381"/>
                        </a:lnTo>
                        <a:lnTo>
                          <a:pt x="101" y="398"/>
                        </a:lnTo>
                        <a:lnTo>
                          <a:pt x="127" y="412"/>
                        </a:lnTo>
                        <a:lnTo>
                          <a:pt x="154" y="416"/>
                        </a:lnTo>
                        <a:lnTo>
                          <a:pt x="287" y="398"/>
                        </a:lnTo>
                        <a:lnTo>
                          <a:pt x="402" y="390"/>
                        </a:lnTo>
                        <a:lnTo>
                          <a:pt x="512" y="376"/>
                        </a:lnTo>
                        <a:lnTo>
                          <a:pt x="623" y="359"/>
                        </a:lnTo>
                        <a:lnTo>
                          <a:pt x="720" y="332"/>
                        </a:lnTo>
                        <a:lnTo>
                          <a:pt x="817" y="252"/>
                        </a:lnTo>
                        <a:lnTo>
                          <a:pt x="756" y="101"/>
                        </a:lnTo>
                        <a:close/>
                      </a:path>
                    </a:pathLst>
                  </a:custGeom>
                  <a:solidFill>
                    <a:srgbClr val="ff9f7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3" name=""/>
                  <p:cNvSpPr/>
                  <p:nvPr/>
                </p:nvSpPr>
                <p:spPr>
                  <a:xfrm>
                    <a:off x="1139760" y="3448080"/>
                    <a:ext cx="89280" cy="127440"/>
                  </a:xfrm>
                  <a:custGeom>
                    <a:avLst/>
                    <a:gdLst/>
                    <a:ahLst/>
                    <a:rect l="0" t="0" r="r" b="b"/>
                    <a:pathLst>
                      <a:path w="248" h="354">
                        <a:moveTo>
                          <a:pt x="0" y="0"/>
                        </a:moveTo>
                        <a:lnTo>
                          <a:pt x="44" y="124"/>
                        </a:lnTo>
                        <a:lnTo>
                          <a:pt x="57" y="168"/>
                        </a:lnTo>
                        <a:lnTo>
                          <a:pt x="80" y="186"/>
                        </a:lnTo>
                        <a:lnTo>
                          <a:pt x="124" y="243"/>
                        </a:lnTo>
                        <a:lnTo>
                          <a:pt x="146" y="270"/>
                        </a:lnTo>
                        <a:lnTo>
                          <a:pt x="222" y="345"/>
                        </a:lnTo>
                        <a:lnTo>
                          <a:pt x="248" y="354"/>
                        </a:lnTo>
                        <a:lnTo>
                          <a:pt x="187" y="315"/>
                        </a:lnTo>
                        <a:lnTo>
                          <a:pt x="124" y="252"/>
                        </a:lnTo>
                        <a:lnTo>
                          <a:pt x="80" y="199"/>
                        </a:lnTo>
                        <a:lnTo>
                          <a:pt x="57" y="155"/>
                        </a:lnTo>
                        <a:lnTo>
                          <a:pt x="17" y="70"/>
                        </a:lnTo>
                        <a:lnTo>
                          <a:pt x="0" y="0"/>
                        </a:lnTo>
                        <a:close/>
                      </a:path>
                    </a:pathLst>
                  </a:custGeom>
                  <a:solidFill>
                    <a:srgbClr val="ff7f3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4" name=""/>
                  <p:cNvSpPr/>
                  <p:nvPr/>
                </p:nvSpPr>
                <p:spPr>
                  <a:xfrm>
                    <a:off x="1386000" y="3232080"/>
                    <a:ext cx="133560" cy="143280"/>
                  </a:xfrm>
                  <a:custGeom>
                    <a:avLst/>
                    <a:gdLst/>
                    <a:ahLst/>
                    <a:rect l="0" t="0" r="r" b="b"/>
                    <a:pathLst>
                      <a:path w="371" h="398">
                        <a:moveTo>
                          <a:pt x="0" y="0"/>
                        </a:moveTo>
                        <a:lnTo>
                          <a:pt x="119" y="17"/>
                        </a:lnTo>
                        <a:lnTo>
                          <a:pt x="186" y="39"/>
                        </a:lnTo>
                        <a:lnTo>
                          <a:pt x="239" y="61"/>
                        </a:lnTo>
                        <a:lnTo>
                          <a:pt x="269" y="88"/>
                        </a:lnTo>
                        <a:lnTo>
                          <a:pt x="287" y="102"/>
                        </a:lnTo>
                        <a:lnTo>
                          <a:pt x="300" y="120"/>
                        </a:lnTo>
                        <a:lnTo>
                          <a:pt x="305" y="137"/>
                        </a:lnTo>
                        <a:lnTo>
                          <a:pt x="300" y="159"/>
                        </a:lnTo>
                        <a:lnTo>
                          <a:pt x="296" y="177"/>
                        </a:lnTo>
                        <a:lnTo>
                          <a:pt x="274" y="190"/>
                        </a:lnTo>
                        <a:lnTo>
                          <a:pt x="256" y="190"/>
                        </a:lnTo>
                        <a:lnTo>
                          <a:pt x="243" y="199"/>
                        </a:lnTo>
                        <a:lnTo>
                          <a:pt x="256" y="203"/>
                        </a:lnTo>
                        <a:lnTo>
                          <a:pt x="274" y="212"/>
                        </a:lnTo>
                        <a:lnTo>
                          <a:pt x="305" y="225"/>
                        </a:lnTo>
                        <a:lnTo>
                          <a:pt x="314" y="247"/>
                        </a:lnTo>
                        <a:lnTo>
                          <a:pt x="327" y="261"/>
                        </a:lnTo>
                        <a:lnTo>
                          <a:pt x="331" y="269"/>
                        </a:lnTo>
                        <a:lnTo>
                          <a:pt x="322" y="292"/>
                        </a:lnTo>
                        <a:lnTo>
                          <a:pt x="349" y="306"/>
                        </a:lnTo>
                        <a:lnTo>
                          <a:pt x="367" y="323"/>
                        </a:lnTo>
                        <a:lnTo>
                          <a:pt x="371" y="328"/>
                        </a:lnTo>
                        <a:lnTo>
                          <a:pt x="371" y="359"/>
                        </a:lnTo>
                        <a:lnTo>
                          <a:pt x="367" y="372"/>
                        </a:lnTo>
                        <a:lnTo>
                          <a:pt x="305" y="398"/>
                        </a:lnTo>
                        <a:lnTo>
                          <a:pt x="0" y="0"/>
                        </a:lnTo>
                        <a:close/>
                      </a:path>
                    </a:pathLst>
                  </a:custGeom>
                  <a:solidFill>
                    <a:srgbClr val="ffdfb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5" name=""/>
                  <p:cNvSpPr/>
                  <p:nvPr/>
                </p:nvSpPr>
                <p:spPr>
                  <a:xfrm>
                    <a:off x="1447920" y="3295800"/>
                    <a:ext cx="22680" cy="3600"/>
                  </a:xfrm>
                  <a:custGeom>
                    <a:avLst/>
                    <a:gdLst/>
                    <a:ahLst/>
                    <a:rect l="0" t="0" r="r" b="b"/>
                    <a:pathLst>
                      <a:path w="63" h="10">
                        <a:moveTo>
                          <a:pt x="0" y="10"/>
                        </a:moveTo>
                        <a:lnTo>
                          <a:pt x="18" y="5"/>
                        </a:lnTo>
                        <a:lnTo>
                          <a:pt x="40" y="5"/>
                        </a:lnTo>
                        <a:lnTo>
                          <a:pt x="59" y="5"/>
                        </a:lnTo>
                        <a:lnTo>
                          <a:pt x="63" y="5"/>
                        </a:lnTo>
                        <a:lnTo>
                          <a:pt x="50" y="0"/>
                        </a:lnTo>
                        <a:lnTo>
                          <a:pt x="31" y="0"/>
                        </a:lnTo>
                        <a:lnTo>
                          <a:pt x="18" y="5"/>
                        </a:lnTo>
                        <a:lnTo>
                          <a:pt x="0" y="10"/>
                        </a:lnTo>
                        <a:close/>
                      </a:path>
                    </a:pathLst>
                  </a:custGeom>
                  <a:solidFill>
                    <a:srgbClr val="ff7f3f"/>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grpSp>
          </p:grpSp>
          <p:sp>
            <p:nvSpPr>
              <p:cNvPr id="856" name=""/>
              <p:cNvSpPr/>
              <p:nvPr/>
            </p:nvSpPr>
            <p:spPr>
              <a:xfrm>
                <a:off x="911160" y="4278240"/>
                <a:ext cx="773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sp>
        <p:nvSpPr>
          <p:cNvPr id="857" name=""/>
          <p:cNvSpPr txBox="1"/>
          <p:nvPr/>
        </p:nvSpPr>
        <p:spPr>
          <a:xfrm>
            <a:off x="2209680" y="1981080"/>
            <a:ext cx="6172200" cy="2647800"/>
          </a:xfrm>
          <a:prstGeom prst="rect">
            <a:avLst/>
          </a:prstGeom>
          <a:noFill/>
          <a:ln w="0">
            <a:noFill/>
          </a:ln>
        </p:spPr>
        <p:txBody>
          <a:bodyPr lIns="0" rIns="0" tIns="0" bIns="0" anchor="t">
            <a:noAutofit/>
          </a:bodyPr>
          <a:p>
            <a:pPr marL="457200">
              <a:lnSpc>
                <a:spcPct val="100000"/>
              </a:lnSpc>
            </a:pPr>
            <a:r>
              <a:rPr b="1" lang="en-US" sz="2400" spc="-1" strike="noStrike">
                <a:solidFill>
                  <a:srgbClr val="000000"/>
                </a:solidFill>
                <a:latin typeface="Arial"/>
                <a:ea typeface="Arial"/>
              </a:rPr>
              <a:t>6.</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Prepare a work sheet and closing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entries for a merchandising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concern using the perpetual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inventory system.</a:t>
            </a:r>
            <a:endParaRPr b="0" lang="en-US" sz="2400" spc="-1" strike="noStrike">
              <a:solidFill>
                <a:srgbClr val="ffffff"/>
              </a:solidFill>
              <a:latin typeface="Arial"/>
            </a:endParaRPr>
          </a:p>
          <a:p>
            <a:pPr marL="457200">
              <a:lnSpc>
                <a:spcPct val="100000"/>
              </a:lnSpc>
            </a:pPr>
            <a:r>
              <a:rPr b="1" lang="en-US" sz="2400" spc="-1" strike="noStrike">
                <a:solidFill>
                  <a:srgbClr val="000000"/>
                </a:solidFill>
                <a:latin typeface="Arial"/>
                <a:ea typeface="Arial"/>
              </a:rPr>
              <a:t>7.</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Apply sales and purchases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discounts to merchandising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transact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10" name=""/>
          <p:cNvSpPr txBox="1"/>
          <p:nvPr/>
        </p:nvSpPr>
        <p:spPr>
          <a:xfrm>
            <a:off x="838080" y="1676520"/>
            <a:ext cx="8001000" cy="35053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A company must sell its merchandise at a price that exceeds its cost by a sufficient margin to pay operating expenses and have enough left to provide sufficient net income or profitability.</a:t>
            </a:r>
            <a:endParaRPr b="0" lang="en-US" sz="3200" spc="-1" strike="noStrike">
              <a:solidFill>
                <a:srgbClr val="ffffff"/>
              </a:solidFill>
              <a:latin typeface="Arial"/>
            </a:endParaRPr>
          </a:p>
        </p:txBody>
      </p:sp>
      <p:sp>
        <p:nvSpPr>
          <p:cNvPr id="111" name=""/>
          <p:cNvSpPr txBox="1"/>
          <p:nvPr/>
        </p:nvSpPr>
        <p:spPr>
          <a:xfrm>
            <a:off x="1447920" y="609480"/>
            <a:ext cx="6892920" cy="868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Profitability Management</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12" name=""/>
          <p:cNvSpPr txBox="1"/>
          <p:nvPr/>
        </p:nvSpPr>
        <p:spPr>
          <a:xfrm>
            <a:off x="838080" y="1143000"/>
            <a:ext cx="8001000" cy="502920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2800" spc="-1" strike="noStrike">
                <a:solidFill>
                  <a:srgbClr val="fcffd8"/>
                </a:solidFill>
                <a:latin typeface="Arial"/>
                <a:ea typeface="Arial"/>
              </a:rPr>
              <a:t>Profitability management includes:</a:t>
            </a:r>
            <a:endParaRPr b="0" lang="en-US" sz="28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2800" spc="-1" strike="noStrike">
                <a:solidFill>
                  <a:srgbClr val="fcffd8"/>
                </a:solidFill>
                <a:latin typeface="Arial"/>
                <a:ea typeface="Arial"/>
              </a:rPr>
              <a:t>Setting appropriate prices for merchandise.</a:t>
            </a:r>
            <a:endParaRPr b="0" lang="en-US" sz="28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2800" spc="-1" strike="noStrike">
                <a:solidFill>
                  <a:srgbClr val="fcffd8"/>
                </a:solidFill>
                <a:latin typeface="Arial"/>
                <a:ea typeface="Arial"/>
              </a:rPr>
              <a:t>Purchasing merchandise at favorable prices and terms.</a:t>
            </a:r>
            <a:endParaRPr b="0" lang="en-US" sz="28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2800" spc="-1" strike="noStrike">
                <a:solidFill>
                  <a:srgbClr val="fcffd8"/>
                </a:solidFill>
                <a:latin typeface="Arial"/>
                <a:ea typeface="Arial"/>
              </a:rPr>
              <a:t>Maintaining acceptable levels of operating expenses.</a:t>
            </a:r>
            <a:endParaRPr b="0" lang="en-US" sz="2800" spc="-1" strike="noStrike">
              <a:solidFill>
                <a:srgbClr val="ffffff"/>
              </a:solidFill>
              <a:latin typeface="Arial"/>
            </a:endParaRPr>
          </a:p>
          <a:p>
            <a:pPr marL="343080" indent="-343080">
              <a:lnSpc>
                <a:spcPct val="120000"/>
              </a:lnSpc>
              <a:spcBef>
                <a:spcPts val="479"/>
              </a:spcBef>
              <a:buClr>
                <a:srgbClr val="ffcc66"/>
              </a:buClr>
              <a:buFont typeface="Monotype Sorts"/>
              <a:buChar char=""/>
            </a:pPr>
            <a:r>
              <a:rPr b="1" lang="en-US" sz="2800" spc="-1" strike="noStrike">
                <a:solidFill>
                  <a:srgbClr val="fcffd8"/>
                </a:solidFill>
                <a:latin typeface="Arial"/>
                <a:ea typeface="Arial"/>
              </a:rPr>
              <a:t>An effective tool for controlling expenses is the operating budget.</a:t>
            </a:r>
            <a:endParaRPr b="0" lang="en-US" sz="2800" spc="-1" strike="noStrike">
              <a:solidFill>
                <a:srgbClr val="ffffff"/>
              </a:solidFill>
              <a:latin typeface="Arial"/>
            </a:endParaRPr>
          </a:p>
        </p:txBody>
      </p:sp>
      <p:sp>
        <p:nvSpPr>
          <p:cNvPr id="113" name=""/>
          <p:cNvSpPr txBox="1"/>
          <p:nvPr/>
        </p:nvSpPr>
        <p:spPr>
          <a:xfrm>
            <a:off x="1447920" y="304920"/>
            <a:ext cx="6892920" cy="868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Profitability Management</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Needles &amp; Powers</dc:creator>
  <dc:description>chap 1 slides of financial acctg book</dc:description>
  <dc:language>en-US</dc:language>
  <cp:lastModifiedBy>HMCo User</cp:lastModifiedBy>
  <cp:revision>0</cp:revision>
  <dc:subject/>
  <dc:title>Chapter 1 Uses of Accounting Information and the Basic Financial Statements</dc:title>
</cp:coreProperties>
</file>