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81880" y="6324480"/>
            <a:ext cx="5875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-</a:t>
            </a:r>
            <a:fld id="{284668C1-9815-4612-8A12-8D97BE26B46B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  <a:ea typeface="Arial"/>
              </a:rPr>
              <a:t>Principles of Ac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67652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4419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32385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81080"/>
            <a:ext cx="495288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formation is communicated, through reports, to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86400" y="3505320"/>
            <a:ext cx="3238560" cy="298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066680" y="2286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38080" y="190512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ata about business activities are the input to the accounting system and useful information for decision makers is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238560" cy="2913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700200" y="968400"/>
            <a:ext cx="8231040" cy="5423040"/>
            <a:chOff x="700200" y="968400"/>
            <a:chExt cx="8231040" cy="5423040"/>
          </a:xfrm>
        </p:grpSpPr>
        <p:sp>
          <p:nvSpPr>
            <p:cNvPr id="73" name=""/>
            <p:cNvSpPr/>
            <p:nvPr/>
          </p:nvSpPr>
          <p:spPr>
            <a:xfrm>
              <a:off x="706320" y="976320"/>
              <a:ext cx="8132760" cy="534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166760" y="3781440"/>
              <a:ext cx="7216920" cy="2262240"/>
              <a:chOff x="1166760" y="3781440"/>
              <a:chExt cx="7216920" cy="2262240"/>
            </a:xfrm>
          </p:grpSpPr>
          <p:sp>
            <p:nvSpPr>
              <p:cNvPr id="75" name=""/>
              <p:cNvSpPr/>
              <p:nvPr/>
            </p:nvSpPr>
            <p:spPr>
              <a:xfrm>
                <a:off x="1166760" y="3781440"/>
                <a:ext cx="7216920" cy="2262240"/>
              </a:xfrm>
              <a:prstGeom prst="rect">
                <a:avLst/>
              </a:prstGeom>
              <a:solidFill>
                <a:srgbClr val="ffb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166760" y="3781440"/>
                <a:ext cx="7216920" cy="226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2176560" y="2638440"/>
              <a:ext cx="1440" cy="4269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76560" y="3301920"/>
              <a:ext cx="1440" cy="33192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534440" y="3309840"/>
              <a:ext cx="0" cy="4590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534440" y="2770200"/>
              <a:ext cx="0" cy="3063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1936800" y="3043080"/>
              <a:ext cx="41292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6940440" y="3062160"/>
              <a:ext cx="104760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11400" y="3568680"/>
              <a:ext cx="128880" cy="182880"/>
            </a:xfrm>
            <a:custGeom>
              <a:avLst/>
              <a:gdLst/>
              <a:ahLst/>
              <a:rect l="0" t="0" r="r" b="b"/>
              <a:pathLst>
                <a:path w="358" h="508">
                  <a:moveTo>
                    <a:pt x="181" y="52"/>
                  </a:moveTo>
                  <a:lnTo>
                    <a:pt x="154" y="52"/>
                  </a:lnTo>
                  <a:lnTo>
                    <a:pt x="119" y="52"/>
                  </a:lnTo>
                  <a:lnTo>
                    <a:pt x="97" y="48"/>
                  </a:lnTo>
                  <a:lnTo>
                    <a:pt x="79" y="48"/>
                  </a:lnTo>
                  <a:lnTo>
                    <a:pt x="66" y="39"/>
                  </a:lnTo>
                  <a:lnTo>
                    <a:pt x="52" y="35"/>
                  </a:lnTo>
                  <a:lnTo>
                    <a:pt x="39" y="35"/>
                  </a:lnTo>
                  <a:lnTo>
                    <a:pt x="30" y="26"/>
                  </a:lnTo>
                  <a:lnTo>
                    <a:pt x="22" y="22"/>
                  </a:lnTo>
                  <a:lnTo>
                    <a:pt x="13" y="13"/>
                  </a:lnTo>
                  <a:lnTo>
                    <a:pt x="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1" y="508"/>
                  </a:lnTo>
                  <a:lnTo>
                    <a:pt x="358" y="0"/>
                  </a:lnTo>
                  <a:lnTo>
                    <a:pt x="353" y="0"/>
                  </a:lnTo>
                  <a:lnTo>
                    <a:pt x="353" y="4"/>
                  </a:lnTo>
                  <a:lnTo>
                    <a:pt x="344" y="13"/>
                  </a:lnTo>
                  <a:lnTo>
                    <a:pt x="336" y="22"/>
                  </a:lnTo>
                  <a:lnTo>
                    <a:pt x="327" y="26"/>
                  </a:lnTo>
                  <a:lnTo>
                    <a:pt x="318" y="35"/>
                  </a:lnTo>
                  <a:lnTo>
                    <a:pt x="305" y="35"/>
                  </a:lnTo>
                  <a:lnTo>
                    <a:pt x="292" y="39"/>
                  </a:lnTo>
                  <a:lnTo>
                    <a:pt x="278" y="48"/>
                  </a:lnTo>
                  <a:lnTo>
                    <a:pt x="252" y="48"/>
                  </a:lnTo>
                  <a:lnTo>
                    <a:pt x="230" y="52"/>
                  </a:lnTo>
                  <a:lnTo>
                    <a:pt x="203" y="52"/>
                  </a:lnTo>
                  <a:lnTo>
                    <a:pt x="181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4159080" y="3875040"/>
              <a:ext cx="11192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13160" y="4979880"/>
              <a:ext cx="36972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97120" y="4930920"/>
              <a:ext cx="211320" cy="111600"/>
            </a:xfrm>
            <a:custGeom>
              <a:avLst/>
              <a:gdLst/>
              <a:ahLst/>
              <a:rect l="0" t="0" r="r" b="b"/>
              <a:pathLst>
                <a:path w="587" h="310">
                  <a:moveTo>
                    <a:pt x="61" y="155"/>
                  </a:moveTo>
                  <a:lnTo>
                    <a:pt x="52" y="177"/>
                  </a:lnTo>
                  <a:lnTo>
                    <a:pt x="52" y="195"/>
                  </a:lnTo>
                  <a:lnTo>
                    <a:pt x="52" y="217"/>
                  </a:lnTo>
                  <a:lnTo>
                    <a:pt x="44" y="240"/>
                  </a:lnTo>
                  <a:lnTo>
                    <a:pt x="44" y="253"/>
                  </a:lnTo>
                  <a:lnTo>
                    <a:pt x="39" y="266"/>
                  </a:lnTo>
                  <a:lnTo>
                    <a:pt x="30" y="275"/>
                  </a:lnTo>
                  <a:lnTo>
                    <a:pt x="30" y="284"/>
                  </a:lnTo>
                  <a:lnTo>
                    <a:pt x="22" y="288"/>
                  </a:lnTo>
                  <a:lnTo>
                    <a:pt x="13" y="297"/>
                  </a:lnTo>
                  <a:lnTo>
                    <a:pt x="4" y="297"/>
                  </a:lnTo>
                  <a:lnTo>
                    <a:pt x="4" y="301"/>
                  </a:lnTo>
                  <a:lnTo>
                    <a:pt x="0" y="301"/>
                  </a:lnTo>
                  <a:lnTo>
                    <a:pt x="0" y="310"/>
                  </a:lnTo>
                  <a:lnTo>
                    <a:pt x="587" y="155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13"/>
                  </a:lnTo>
                  <a:lnTo>
                    <a:pt x="13" y="13"/>
                  </a:lnTo>
                  <a:lnTo>
                    <a:pt x="22" y="17"/>
                  </a:lnTo>
                  <a:lnTo>
                    <a:pt x="30" y="26"/>
                  </a:lnTo>
                  <a:lnTo>
                    <a:pt x="30" y="35"/>
                  </a:lnTo>
                  <a:lnTo>
                    <a:pt x="39" y="44"/>
                  </a:lnTo>
                  <a:lnTo>
                    <a:pt x="44" y="57"/>
                  </a:lnTo>
                  <a:lnTo>
                    <a:pt x="44" y="70"/>
                  </a:lnTo>
                  <a:lnTo>
                    <a:pt x="52" y="93"/>
                  </a:lnTo>
                  <a:lnTo>
                    <a:pt x="52" y="115"/>
                  </a:lnTo>
                  <a:lnTo>
                    <a:pt x="52" y="133"/>
                  </a:lnTo>
                  <a:lnTo>
                    <a:pt x="61" y="1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70720" y="4979880"/>
              <a:ext cx="36648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62680" y="4930920"/>
              <a:ext cx="211320" cy="111600"/>
            </a:xfrm>
            <a:custGeom>
              <a:avLst/>
              <a:gdLst/>
              <a:ahLst/>
              <a:rect l="0" t="0" r="r" b="b"/>
              <a:pathLst>
                <a:path w="587" h="310">
                  <a:moveTo>
                    <a:pt x="61" y="155"/>
                  </a:moveTo>
                  <a:lnTo>
                    <a:pt x="61" y="177"/>
                  </a:lnTo>
                  <a:lnTo>
                    <a:pt x="61" y="195"/>
                  </a:lnTo>
                  <a:lnTo>
                    <a:pt x="52" y="217"/>
                  </a:lnTo>
                  <a:lnTo>
                    <a:pt x="52" y="240"/>
                  </a:lnTo>
                  <a:lnTo>
                    <a:pt x="48" y="253"/>
                  </a:lnTo>
                  <a:lnTo>
                    <a:pt x="39" y="266"/>
                  </a:lnTo>
                  <a:lnTo>
                    <a:pt x="30" y="275"/>
                  </a:lnTo>
                  <a:lnTo>
                    <a:pt x="30" y="284"/>
                  </a:lnTo>
                  <a:lnTo>
                    <a:pt x="22" y="288"/>
                  </a:lnTo>
                  <a:lnTo>
                    <a:pt x="13" y="297"/>
                  </a:lnTo>
                  <a:lnTo>
                    <a:pt x="8" y="301"/>
                  </a:lnTo>
                  <a:lnTo>
                    <a:pt x="0" y="301"/>
                  </a:lnTo>
                  <a:lnTo>
                    <a:pt x="0" y="310"/>
                  </a:lnTo>
                  <a:lnTo>
                    <a:pt x="587" y="155"/>
                  </a:lnTo>
                  <a:lnTo>
                    <a:pt x="0" y="0"/>
                  </a:lnTo>
                  <a:lnTo>
                    <a:pt x="0" y="4"/>
                  </a:lnTo>
                  <a:lnTo>
                    <a:pt x="8" y="4"/>
                  </a:lnTo>
                  <a:lnTo>
                    <a:pt x="13" y="13"/>
                  </a:lnTo>
                  <a:lnTo>
                    <a:pt x="22" y="17"/>
                  </a:lnTo>
                  <a:lnTo>
                    <a:pt x="30" y="26"/>
                  </a:lnTo>
                  <a:lnTo>
                    <a:pt x="30" y="35"/>
                  </a:lnTo>
                  <a:lnTo>
                    <a:pt x="39" y="44"/>
                  </a:lnTo>
                  <a:lnTo>
                    <a:pt x="48" y="57"/>
                  </a:lnTo>
                  <a:lnTo>
                    <a:pt x="52" y="70"/>
                  </a:lnTo>
                  <a:lnTo>
                    <a:pt x="52" y="93"/>
                  </a:lnTo>
                  <a:lnTo>
                    <a:pt x="61" y="115"/>
                  </a:lnTo>
                  <a:lnTo>
                    <a:pt x="61" y="133"/>
                  </a:lnTo>
                  <a:lnTo>
                    <a:pt x="61" y="1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251000" y="1251000"/>
              <a:ext cx="1805040" cy="1433520"/>
              <a:chOff x="1251000" y="1251000"/>
              <a:chExt cx="1805040" cy="1433520"/>
            </a:xfrm>
          </p:grpSpPr>
          <p:sp>
            <p:nvSpPr>
              <p:cNvPr id="90" name=""/>
              <p:cNvSpPr/>
              <p:nvPr/>
            </p:nvSpPr>
            <p:spPr>
              <a:xfrm>
                <a:off x="1251000" y="132876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41360" y="1251000"/>
                <a:ext cx="1714680" cy="13539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1731960" y="1655640"/>
                <a:ext cx="84456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INESS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1695600" y="1847880"/>
                <a:ext cx="9079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ITIES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595920" y="1257480"/>
              <a:ext cx="1803600" cy="1434960"/>
              <a:chOff x="6595920" y="1257480"/>
              <a:chExt cx="1803600" cy="1434960"/>
            </a:xfrm>
          </p:grpSpPr>
          <p:sp>
            <p:nvSpPr>
              <p:cNvPr id="95" name=""/>
              <p:cNvSpPr/>
              <p:nvPr/>
            </p:nvSpPr>
            <p:spPr>
              <a:xfrm>
                <a:off x="6595920" y="1336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84840" y="1257480"/>
                <a:ext cx="1714680" cy="13557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7101000" y="1663560"/>
                <a:ext cx="7984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ISION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7143840" y="1854360"/>
                <a:ext cx="7160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KERS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7472520" y="2714760"/>
              <a:ext cx="128880" cy="182880"/>
            </a:xfrm>
            <a:custGeom>
              <a:avLst/>
              <a:gdLst/>
              <a:ahLst/>
              <a:rect l="0" t="0" r="r" b="b"/>
              <a:pathLst>
                <a:path w="358" h="508">
                  <a:moveTo>
                    <a:pt x="181" y="450"/>
                  </a:moveTo>
                  <a:lnTo>
                    <a:pt x="154" y="450"/>
                  </a:lnTo>
                  <a:lnTo>
                    <a:pt x="123" y="450"/>
                  </a:lnTo>
                  <a:lnTo>
                    <a:pt x="97" y="459"/>
                  </a:lnTo>
                  <a:lnTo>
                    <a:pt x="83" y="459"/>
                  </a:lnTo>
                  <a:lnTo>
                    <a:pt x="66" y="468"/>
                  </a:lnTo>
                  <a:lnTo>
                    <a:pt x="52" y="472"/>
                  </a:lnTo>
                  <a:lnTo>
                    <a:pt x="39" y="472"/>
                  </a:lnTo>
                  <a:lnTo>
                    <a:pt x="30" y="481"/>
                  </a:lnTo>
                  <a:lnTo>
                    <a:pt x="22" y="486"/>
                  </a:lnTo>
                  <a:lnTo>
                    <a:pt x="13" y="494"/>
                  </a:lnTo>
                  <a:lnTo>
                    <a:pt x="4" y="494"/>
                  </a:lnTo>
                  <a:lnTo>
                    <a:pt x="0" y="499"/>
                  </a:lnTo>
                  <a:lnTo>
                    <a:pt x="0" y="508"/>
                  </a:lnTo>
                  <a:lnTo>
                    <a:pt x="181" y="0"/>
                  </a:lnTo>
                  <a:lnTo>
                    <a:pt x="358" y="508"/>
                  </a:lnTo>
                  <a:lnTo>
                    <a:pt x="353" y="508"/>
                  </a:lnTo>
                  <a:lnTo>
                    <a:pt x="353" y="499"/>
                  </a:lnTo>
                  <a:lnTo>
                    <a:pt x="344" y="494"/>
                  </a:lnTo>
                  <a:lnTo>
                    <a:pt x="336" y="486"/>
                  </a:lnTo>
                  <a:lnTo>
                    <a:pt x="327" y="481"/>
                  </a:lnTo>
                  <a:lnTo>
                    <a:pt x="318" y="472"/>
                  </a:lnTo>
                  <a:lnTo>
                    <a:pt x="305" y="472"/>
                  </a:lnTo>
                  <a:lnTo>
                    <a:pt x="292" y="468"/>
                  </a:lnTo>
                  <a:lnTo>
                    <a:pt x="278" y="459"/>
                  </a:lnTo>
                  <a:lnTo>
                    <a:pt x="252" y="459"/>
                  </a:lnTo>
                  <a:lnTo>
                    <a:pt x="230" y="450"/>
                  </a:lnTo>
                  <a:lnTo>
                    <a:pt x="203" y="450"/>
                  </a:lnTo>
                  <a:lnTo>
                    <a:pt x="181" y="4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535040" y="4308480"/>
              <a:ext cx="1803600" cy="1434960"/>
              <a:chOff x="1535040" y="4308480"/>
              <a:chExt cx="1803600" cy="1434960"/>
            </a:xfrm>
          </p:grpSpPr>
          <p:sp>
            <p:nvSpPr>
              <p:cNvPr id="101" name=""/>
              <p:cNvSpPr/>
              <p:nvPr/>
            </p:nvSpPr>
            <p:spPr>
              <a:xfrm>
                <a:off x="1535040" y="4387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23960" y="4308480"/>
                <a:ext cx="1714680" cy="13557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1765440" y="4384800"/>
                <a:ext cx="1293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ASUREMENT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817640" y="4695840"/>
              <a:ext cx="1201680" cy="577800"/>
              <a:chOff x="1817640" y="4695840"/>
              <a:chExt cx="1201680" cy="577800"/>
            </a:xfrm>
          </p:grpSpPr>
          <p:sp>
            <p:nvSpPr>
              <p:cNvPr id="105" name=""/>
              <p:cNvSpPr txBox="1"/>
              <p:nvPr/>
            </p:nvSpPr>
            <p:spPr>
              <a:xfrm>
                <a:off x="1817640" y="4695840"/>
                <a:ext cx="1128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mplishe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1817640" y="4886280"/>
                <a:ext cx="12016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y recording o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1817640" y="5075280"/>
                <a:ext cx="339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830760" y="4308480"/>
              <a:ext cx="1805040" cy="1434960"/>
              <a:chOff x="3830760" y="4308480"/>
              <a:chExt cx="1805040" cy="1434960"/>
            </a:xfrm>
          </p:grpSpPr>
          <p:sp>
            <p:nvSpPr>
              <p:cNvPr id="109" name=""/>
              <p:cNvSpPr/>
              <p:nvPr/>
            </p:nvSpPr>
            <p:spPr>
              <a:xfrm>
                <a:off x="3830760" y="4387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21120" y="4308480"/>
                <a:ext cx="1714680" cy="1355760"/>
              </a:xfrm>
              <a:prstGeom prst="rect">
                <a:avLst/>
              </a:prstGeom>
              <a:solidFill>
                <a:srgbClr val="9ff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4170240" y="4384800"/>
                <a:ext cx="110016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SSING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62240" y="4695840"/>
              <a:ext cx="1174680" cy="769680"/>
              <a:chOff x="4062240" y="4695840"/>
              <a:chExt cx="1174680" cy="769680"/>
            </a:xfrm>
          </p:grpSpPr>
          <p:sp>
            <p:nvSpPr>
              <p:cNvPr id="113" name=""/>
              <p:cNvSpPr txBox="1"/>
              <p:nvPr/>
            </p:nvSpPr>
            <p:spPr>
              <a:xfrm>
                <a:off x="4062240" y="4695840"/>
                <a:ext cx="1128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mplishe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4062240" y="4886280"/>
                <a:ext cx="11746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y storage an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4062240" y="5078520"/>
                <a:ext cx="11095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paration o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4062240" y="5267160"/>
                <a:ext cx="339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360600" y="4979880"/>
              <a:ext cx="37152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146640" y="4308480"/>
              <a:ext cx="1805040" cy="1434960"/>
              <a:chOff x="6146640" y="4308480"/>
              <a:chExt cx="1805040" cy="1434960"/>
            </a:xfrm>
          </p:grpSpPr>
          <p:sp>
            <p:nvSpPr>
              <p:cNvPr id="119" name=""/>
              <p:cNvSpPr/>
              <p:nvPr/>
            </p:nvSpPr>
            <p:spPr>
              <a:xfrm>
                <a:off x="6146640" y="4387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560" y="4308480"/>
                <a:ext cx="1716120" cy="13557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6404040" y="4384800"/>
                <a:ext cx="14860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UNICATION 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378480" y="4695840"/>
              <a:ext cx="1128600" cy="388800"/>
              <a:chOff x="6378480" y="4695840"/>
              <a:chExt cx="1128600" cy="388800"/>
            </a:xfrm>
          </p:grpSpPr>
          <p:sp>
            <p:nvSpPr>
              <p:cNvPr id="123" name=""/>
              <p:cNvSpPr txBox="1"/>
              <p:nvPr/>
            </p:nvSpPr>
            <p:spPr>
              <a:xfrm>
                <a:off x="6378480" y="4695840"/>
                <a:ext cx="1128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mplishe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6378480" y="4886280"/>
                <a:ext cx="9637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y reporting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700200" y="968400"/>
              <a:ext cx="8231040" cy="5423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0280" y="1030320"/>
              <a:ext cx="8034480" cy="530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687240" y="304920"/>
            <a:ext cx="8456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8080" y="4572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Goals, Activities, and Performance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is an economic unit that aims to sell goods and services to customers at prices that will provide an adequate return to its ow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es, though diverse, have similar goals and engage in similar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ability - A business must take in enough money to pay all the costs of doing business, with enough left over as profit for the owners to want to stay in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quidity - A business must have enough funds available to pay debts when they are d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usiness Goals and Activ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9320" y="830160"/>
            <a:ext cx="8166240" cy="5500800"/>
            <a:chOff x="679320" y="830160"/>
            <a:chExt cx="8166240" cy="5500800"/>
          </a:xfrm>
        </p:grpSpPr>
        <p:sp>
          <p:nvSpPr>
            <p:cNvPr id="134" name=""/>
            <p:cNvSpPr/>
            <p:nvPr/>
          </p:nvSpPr>
          <p:spPr>
            <a:xfrm>
              <a:off x="685800" y="838080"/>
              <a:ext cx="8155080" cy="548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4348080" y="2058840"/>
              <a:ext cx="4174920" cy="3600360"/>
              <a:chOff x="4348080" y="2058840"/>
              <a:chExt cx="4174920" cy="3600360"/>
            </a:xfrm>
          </p:grpSpPr>
          <p:sp>
            <p:nvSpPr>
              <p:cNvPr id="136" name=""/>
              <p:cNvSpPr/>
              <p:nvPr/>
            </p:nvSpPr>
            <p:spPr>
              <a:xfrm>
                <a:off x="4348080" y="2120760"/>
                <a:ext cx="4110120" cy="35384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4680" y="2058840"/>
                <a:ext cx="4108320" cy="3537000"/>
              </a:xfrm>
              <a:prstGeom prst="rect">
                <a:avLst/>
              </a:prstGeom>
              <a:solidFill>
                <a:srgbClr val="bff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944640" y="2035080"/>
              <a:ext cx="2359080" cy="3589200"/>
              <a:chOff x="944640" y="2035080"/>
              <a:chExt cx="2359080" cy="3589200"/>
            </a:xfrm>
          </p:grpSpPr>
          <p:sp>
            <p:nvSpPr>
              <p:cNvPr id="139" name=""/>
              <p:cNvSpPr/>
              <p:nvPr/>
            </p:nvSpPr>
            <p:spPr>
              <a:xfrm>
                <a:off x="944640" y="2097000"/>
                <a:ext cx="2292480" cy="35272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11240" y="2035080"/>
                <a:ext cx="2292480" cy="3527280"/>
              </a:xfrm>
              <a:prstGeom prst="rect">
                <a:avLst/>
              </a:prstGeom>
              <a:solidFill>
                <a:srgbClr val="bff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 txBox="1"/>
            <p:nvPr/>
          </p:nvSpPr>
          <p:spPr>
            <a:xfrm>
              <a:off x="1298520" y="1547640"/>
              <a:ext cx="1817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GO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5386320" y="1547640"/>
              <a:ext cx="22129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CTIVIT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67400" y="2390760"/>
              <a:ext cx="1651320" cy="1483200"/>
            </a:xfrm>
            <a:custGeom>
              <a:avLst/>
              <a:gdLst/>
              <a:ahLst/>
              <a:rect l="0" t="0" r="r" b="b"/>
              <a:pathLst>
                <a:path w="4587" h="4120">
                  <a:moveTo>
                    <a:pt x="2298" y="4120"/>
                  </a:moveTo>
                  <a:lnTo>
                    <a:pt x="2527" y="4103"/>
                  </a:lnTo>
                  <a:lnTo>
                    <a:pt x="2757" y="4072"/>
                  </a:lnTo>
                  <a:lnTo>
                    <a:pt x="2968" y="4023"/>
                  </a:lnTo>
                  <a:lnTo>
                    <a:pt x="3184" y="3948"/>
                  </a:lnTo>
                  <a:lnTo>
                    <a:pt x="3383" y="3869"/>
                  </a:lnTo>
                  <a:lnTo>
                    <a:pt x="3572" y="3767"/>
                  </a:lnTo>
                  <a:lnTo>
                    <a:pt x="3753" y="3644"/>
                  </a:lnTo>
                  <a:lnTo>
                    <a:pt x="3912" y="3512"/>
                  </a:lnTo>
                  <a:lnTo>
                    <a:pt x="4053" y="3366"/>
                  </a:lnTo>
                  <a:lnTo>
                    <a:pt x="4194" y="3212"/>
                  </a:lnTo>
                  <a:lnTo>
                    <a:pt x="4304" y="3030"/>
                  </a:lnTo>
                  <a:lnTo>
                    <a:pt x="4406" y="2858"/>
                  </a:lnTo>
                  <a:lnTo>
                    <a:pt x="4476" y="2664"/>
                  </a:lnTo>
                  <a:lnTo>
                    <a:pt x="4529" y="2470"/>
                  </a:lnTo>
                  <a:lnTo>
                    <a:pt x="4578" y="2267"/>
                  </a:lnTo>
                  <a:lnTo>
                    <a:pt x="4587" y="2060"/>
                  </a:lnTo>
                  <a:lnTo>
                    <a:pt x="4578" y="1839"/>
                  </a:lnTo>
                  <a:lnTo>
                    <a:pt x="4529" y="1641"/>
                  </a:lnTo>
                  <a:lnTo>
                    <a:pt x="4476" y="1438"/>
                  </a:lnTo>
                  <a:lnTo>
                    <a:pt x="4406" y="1257"/>
                  </a:lnTo>
                  <a:lnTo>
                    <a:pt x="4304" y="1081"/>
                  </a:lnTo>
                  <a:lnTo>
                    <a:pt x="4194" y="908"/>
                  </a:lnTo>
                  <a:lnTo>
                    <a:pt x="4053" y="749"/>
                  </a:lnTo>
                  <a:lnTo>
                    <a:pt x="3912" y="604"/>
                  </a:lnTo>
                  <a:lnTo>
                    <a:pt x="3753" y="467"/>
                  </a:lnTo>
                  <a:lnTo>
                    <a:pt x="3572" y="343"/>
                  </a:lnTo>
                  <a:lnTo>
                    <a:pt x="3383" y="251"/>
                  </a:lnTo>
                  <a:lnTo>
                    <a:pt x="3184" y="163"/>
                  </a:lnTo>
                  <a:lnTo>
                    <a:pt x="2968" y="88"/>
                  </a:lnTo>
                  <a:lnTo>
                    <a:pt x="2757" y="39"/>
                  </a:lnTo>
                  <a:lnTo>
                    <a:pt x="2527" y="8"/>
                  </a:lnTo>
                  <a:lnTo>
                    <a:pt x="2298" y="0"/>
                  </a:lnTo>
                  <a:lnTo>
                    <a:pt x="2059" y="8"/>
                  </a:lnTo>
                  <a:lnTo>
                    <a:pt x="1830" y="39"/>
                  </a:lnTo>
                  <a:lnTo>
                    <a:pt x="1605" y="88"/>
                  </a:lnTo>
                  <a:lnTo>
                    <a:pt x="1402" y="163"/>
                  </a:lnTo>
                  <a:lnTo>
                    <a:pt x="1190" y="251"/>
                  </a:lnTo>
                  <a:lnTo>
                    <a:pt x="1009" y="343"/>
                  </a:lnTo>
                  <a:lnTo>
                    <a:pt x="833" y="467"/>
                  </a:lnTo>
                  <a:lnTo>
                    <a:pt x="665" y="604"/>
                  </a:lnTo>
                  <a:lnTo>
                    <a:pt x="520" y="749"/>
                  </a:lnTo>
                  <a:lnTo>
                    <a:pt x="388" y="908"/>
                  </a:lnTo>
                  <a:lnTo>
                    <a:pt x="268" y="1081"/>
                  </a:lnTo>
                  <a:lnTo>
                    <a:pt x="180" y="1257"/>
                  </a:lnTo>
                  <a:lnTo>
                    <a:pt x="101" y="1438"/>
                  </a:lnTo>
                  <a:lnTo>
                    <a:pt x="44" y="1641"/>
                  </a:lnTo>
                  <a:lnTo>
                    <a:pt x="8" y="1839"/>
                  </a:lnTo>
                  <a:lnTo>
                    <a:pt x="0" y="2060"/>
                  </a:lnTo>
                  <a:lnTo>
                    <a:pt x="8" y="2267"/>
                  </a:lnTo>
                  <a:lnTo>
                    <a:pt x="44" y="2470"/>
                  </a:lnTo>
                  <a:lnTo>
                    <a:pt x="101" y="2664"/>
                  </a:lnTo>
                  <a:lnTo>
                    <a:pt x="180" y="2858"/>
                  </a:lnTo>
                  <a:lnTo>
                    <a:pt x="268" y="3030"/>
                  </a:lnTo>
                  <a:lnTo>
                    <a:pt x="388" y="3212"/>
                  </a:lnTo>
                  <a:lnTo>
                    <a:pt x="520" y="3366"/>
                  </a:lnTo>
                  <a:lnTo>
                    <a:pt x="665" y="3512"/>
                  </a:lnTo>
                  <a:lnTo>
                    <a:pt x="833" y="3644"/>
                  </a:lnTo>
                  <a:lnTo>
                    <a:pt x="1009" y="3767"/>
                  </a:lnTo>
                  <a:lnTo>
                    <a:pt x="1190" y="3869"/>
                  </a:lnTo>
                  <a:lnTo>
                    <a:pt x="1402" y="3948"/>
                  </a:lnTo>
                  <a:lnTo>
                    <a:pt x="1605" y="4023"/>
                  </a:lnTo>
                  <a:lnTo>
                    <a:pt x="1830" y="4072"/>
                  </a:lnTo>
                  <a:lnTo>
                    <a:pt x="2059" y="4103"/>
                  </a:lnTo>
                  <a:lnTo>
                    <a:pt x="2298" y="4120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4983120" y="2971800"/>
              <a:ext cx="98748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7960" y="2387520"/>
              <a:ext cx="1651320" cy="1484640"/>
            </a:xfrm>
            <a:custGeom>
              <a:avLst/>
              <a:gdLst/>
              <a:ahLst/>
              <a:rect l="0" t="0" r="r" b="b"/>
              <a:pathLst>
                <a:path w="4587" h="4124">
                  <a:moveTo>
                    <a:pt x="2298" y="4124"/>
                  </a:moveTo>
                  <a:lnTo>
                    <a:pt x="2532" y="4115"/>
                  </a:lnTo>
                  <a:lnTo>
                    <a:pt x="2757" y="4084"/>
                  </a:lnTo>
                  <a:lnTo>
                    <a:pt x="2968" y="4027"/>
                  </a:lnTo>
                  <a:lnTo>
                    <a:pt x="3189" y="3960"/>
                  </a:lnTo>
                  <a:lnTo>
                    <a:pt x="3383" y="3872"/>
                  </a:lnTo>
                  <a:lnTo>
                    <a:pt x="3572" y="3775"/>
                  </a:lnTo>
                  <a:lnTo>
                    <a:pt x="3753" y="3656"/>
                  </a:lnTo>
                  <a:lnTo>
                    <a:pt x="3916" y="3519"/>
                  </a:lnTo>
                  <a:lnTo>
                    <a:pt x="4066" y="3374"/>
                  </a:lnTo>
                  <a:lnTo>
                    <a:pt x="4194" y="3211"/>
                  </a:lnTo>
                  <a:lnTo>
                    <a:pt x="4309" y="3043"/>
                  </a:lnTo>
                  <a:lnTo>
                    <a:pt x="4406" y="2867"/>
                  </a:lnTo>
                  <a:lnTo>
                    <a:pt x="4481" y="2673"/>
                  </a:lnTo>
                  <a:lnTo>
                    <a:pt x="4543" y="2479"/>
                  </a:lnTo>
                  <a:lnTo>
                    <a:pt x="4578" y="2272"/>
                  </a:lnTo>
                  <a:lnTo>
                    <a:pt x="4587" y="2059"/>
                  </a:lnTo>
                  <a:lnTo>
                    <a:pt x="4578" y="1852"/>
                  </a:lnTo>
                  <a:lnTo>
                    <a:pt x="4543" y="1640"/>
                  </a:lnTo>
                  <a:lnTo>
                    <a:pt x="4481" y="1450"/>
                  </a:lnTo>
                  <a:lnTo>
                    <a:pt x="4406" y="1261"/>
                  </a:lnTo>
                  <a:lnTo>
                    <a:pt x="4309" y="1080"/>
                  </a:lnTo>
                  <a:lnTo>
                    <a:pt x="4194" y="908"/>
                  </a:lnTo>
                  <a:lnTo>
                    <a:pt x="4066" y="758"/>
                  </a:lnTo>
                  <a:lnTo>
                    <a:pt x="3916" y="599"/>
                  </a:lnTo>
                  <a:lnTo>
                    <a:pt x="3753" y="476"/>
                  </a:lnTo>
                  <a:lnTo>
                    <a:pt x="3572" y="352"/>
                  </a:lnTo>
                  <a:lnTo>
                    <a:pt x="3383" y="246"/>
                  </a:lnTo>
                  <a:lnTo>
                    <a:pt x="3189" y="163"/>
                  </a:lnTo>
                  <a:lnTo>
                    <a:pt x="2968" y="92"/>
                  </a:lnTo>
                  <a:lnTo>
                    <a:pt x="2757" y="48"/>
                  </a:lnTo>
                  <a:lnTo>
                    <a:pt x="2532" y="17"/>
                  </a:lnTo>
                  <a:lnTo>
                    <a:pt x="2298" y="0"/>
                  </a:lnTo>
                  <a:lnTo>
                    <a:pt x="2063" y="17"/>
                  </a:lnTo>
                  <a:lnTo>
                    <a:pt x="1830" y="48"/>
                  </a:lnTo>
                  <a:lnTo>
                    <a:pt x="1605" y="92"/>
                  </a:lnTo>
                  <a:lnTo>
                    <a:pt x="1397" y="163"/>
                  </a:lnTo>
                  <a:lnTo>
                    <a:pt x="1203" y="246"/>
                  </a:lnTo>
                  <a:lnTo>
                    <a:pt x="1005" y="352"/>
                  </a:lnTo>
                  <a:lnTo>
                    <a:pt x="833" y="476"/>
                  </a:lnTo>
                  <a:lnTo>
                    <a:pt x="670" y="599"/>
                  </a:lnTo>
                  <a:lnTo>
                    <a:pt x="520" y="758"/>
                  </a:lnTo>
                  <a:lnTo>
                    <a:pt x="383" y="908"/>
                  </a:lnTo>
                  <a:lnTo>
                    <a:pt x="277" y="1080"/>
                  </a:lnTo>
                  <a:lnTo>
                    <a:pt x="180" y="1261"/>
                  </a:lnTo>
                  <a:lnTo>
                    <a:pt x="97" y="1450"/>
                  </a:lnTo>
                  <a:lnTo>
                    <a:pt x="44" y="1640"/>
                  </a:lnTo>
                  <a:lnTo>
                    <a:pt x="8" y="1852"/>
                  </a:lnTo>
                  <a:lnTo>
                    <a:pt x="0" y="2059"/>
                  </a:lnTo>
                  <a:lnTo>
                    <a:pt x="8" y="2272"/>
                  </a:lnTo>
                  <a:lnTo>
                    <a:pt x="44" y="2479"/>
                  </a:lnTo>
                  <a:lnTo>
                    <a:pt x="97" y="2673"/>
                  </a:lnTo>
                  <a:lnTo>
                    <a:pt x="180" y="2867"/>
                  </a:lnTo>
                  <a:lnTo>
                    <a:pt x="277" y="3043"/>
                  </a:lnTo>
                  <a:lnTo>
                    <a:pt x="383" y="3211"/>
                  </a:lnTo>
                  <a:lnTo>
                    <a:pt x="520" y="3374"/>
                  </a:lnTo>
                  <a:lnTo>
                    <a:pt x="670" y="3519"/>
                  </a:lnTo>
                  <a:lnTo>
                    <a:pt x="833" y="3656"/>
                  </a:lnTo>
                  <a:lnTo>
                    <a:pt x="1005" y="3775"/>
                  </a:lnTo>
                  <a:lnTo>
                    <a:pt x="1203" y="3872"/>
                  </a:lnTo>
                  <a:lnTo>
                    <a:pt x="1397" y="3960"/>
                  </a:lnTo>
                  <a:lnTo>
                    <a:pt x="1605" y="4027"/>
                  </a:lnTo>
                  <a:lnTo>
                    <a:pt x="1830" y="4084"/>
                  </a:lnTo>
                  <a:lnTo>
                    <a:pt x="2063" y="4115"/>
                  </a:lnTo>
                  <a:lnTo>
                    <a:pt x="2298" y="4124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908760" y="2967120"/>
              <a:ext cx="10573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51640" y="3809880"/>
              <a:ext cx="1651320" cy="1483200"/>
            </a:xfrm>
            <a:custGeom>
              <a:avLst/>
              <a:gdLst/>
              <a:ahLst/>
              <a:rect l="0" t="0" r="r" b="b"/>
              <a:pathLst>
                <a:path w="4587" h="4120">
                  <a:moveTo>
                    <a:pt x="2288" y="4120"/>
                  </a:moveTo>
                  <a:lnTo>
                    <a:pt x="2523" y="4111"/>
                  </a:lnTo>
                  <a:lnTo>
                    <a:pt x="2743" y="4080"/>
                  </a:lnTo>
                  <a:lnTo>
                    <a:pt x="2968" y="4032"/>
                  </a:lnTo>
                  <a:lnTo>
                    <a:pt x="3180" y="3957"/>
                  </a:lnTo>
                  <a:lnTo>
                    <a:pt x="3383" y="3869"/>
                  </a:lnTo>
                  <a:lnTo>
                    <a:pt x="3572" y="3776"/>
                  </a:lnTo>
                  <a:lnTo>
                    <a:pt x="3744" y="3657"/>
                  </a:lnTo>
                  <a:lnTo>
                    <a:pt x="3908" y="3516"/>
                  </a:lnTo>
                  <a:lnTo>
                    <a:pt x="4057" y="3371"/>
                  </a:lnTo>
                  <a:lnTo>
                    <a:pt x="4194" y="3216"/>
                  </a:lnTo>
                  <a:lnTo>
                    <a:pt x="4309" y="3039"/>
                  </a:lnTo>
                  <a:lnTo>
                    <a:pt x="4397" y="2862"/>
                  </a:lnTo>
                  <a:lnTo>
                    <a:pt x="4481" y="2677"/>
                  </a:lnTo>
                  <a:lnTo>
                    <a:pt x="4529" y="2479"/>
                  </a:lnTo>
                  <a:lnTo>
                    <a:pt x="4565" y="2272"/>
                  </a:lnTo>
                  <a:lnTo>
                    <a:pt x="4587" y="2064"/>
                  </a:lnTo>
                  <a:lnTo>
                    <a:pt x="4565" y="1848"/>
                  </a:lnTo>
                  <a:lnTo>
                    <a:pt x="4529" y="1641"/>
                  </a:lnTo>
                  <a:lnTo>
                    <a:pt x="4481" y="1442"/>
                  </a:lnTo>
                  <a:lnTo>
                    <a:pt x="4397" y="1257"/>
                  </a:lnTo>
                  <a:lnTo>
                    <a:pt x="4309" y="1081"/>
                  </a:lnTo>
                  <a:lnTo>
                    <a:pt x="4194" y="912"/>
                  </a:lnTo>
                  <a:lnTo>
                    <a:pt x="4057" y="749"/>
                  </a:lnTo>
                  <a:lnTo>
                    <a:pt x="3908" y="604"/>
                  </a:lnTo>
                  <a:lnTo>
                    <a:pt x="3744" y="467"/>
                  </a:lnTo>
                  <a:lnTo>
                    <a:pt x="3572" y="352"/>
                  </a:lnTo>
                  <a:lnTo>
                    <a:pt x="3383" y="251"/>
                  </a:lnTo>
                  <a:lnTo>
                    <a:pt x="3180" y="163"/>
                  </a:lnTo>
                  <a:lnTo>
                    <a:pt x="2968" y="88"/>
                  </a:lnTo>
                  <a:lnTo>
                    <a:pt x="2743" y="39"/>
                  </a:lnTo>
                  <a:lnTo>
                    <a:pt x="2523" y="8"/>
                  </a:lnTo>
                  <a:lnTo>
                    <a:pt x="2288" y="0"/>
                  </a:lnTo>
                  <a:lnTo>
                    <a:pt x="2054" y="8"/>
                  </a:lnTo>
                  <a:lnTo>
                    <a:pt x="1821" y="39"/>
                  </a:lnTo>
                  <a:lnTo>
                    <a:pt x="1605" y="88"/>
                  </a:lnTo>
                  <a:lnTo>
                    <a:pt x="1389" y="163"/>
                  </a:lnTo>
                  <a:lnTo>
                    <a:pt x="1190" y="251"/>
                  </a:lnTo>
                  <a:lnTo>
                    <a:pt x="1005" y="352"/>
                  </a:lnTo>
                  <a:lnTo>
                    <a:pt x="824" y="467"/>
                  </a:lnTo>
                  <a:lnTo>
                    <a:pt x="661" y="604"/>
                  </a:lnTo>
                  <a:lnTo>
                    <a:pt x="515" y="749"/>
                  </a:lnTo>
                  <a:lnTo>
                    <a:pt x="383" y="912"/>
                  </a:lnTo>
                  <a:lnTo>
                    <a:pt x="268" y="1081"/>
                  </a:lnTo>
                  <a:lnTo>
                    <a:pt x="180" y="1257"/>
                  </a:lnTo>
                  <a:lnTo>
                    <a:pt x="97" y="1442"/>
                  </a:lnTo>
                  <a:lnTo>
                    <a:pt x="35" y="1641"/>
                  </a:lnTo>
                  <a:lnTo>
                    <a:pt x="8" y="1848"/>
                  </a:lnTo>
                  <a:lnTo>
                    <a:pt x="0" y="2064"/>
                  </a:lnTo>
                  <a:lnTo>
                    <a:pt x="8" y="2272"/>
                  </a:lnTo>
                  <a:lnTo>
                    <a:pt x="35" y="2479"/>
                  </a:lnTo>
                  <a:lnTo>
                    <a:pt x="97" y="2677"/>
                  </a:lnTo>
                  <a:lnTo>
                    <a:pt x="180" y="2862"/>
                  </a:lnTo>
                  <a:lnTo>
                    <a:pt x="268" y="3039"/>
                  </a:lnTo>
                  <a:lnTo>
                    <a:pt x="383" y="3216"/>
                  </a:lnTo>
                  <a:lnTo>
                    <a:pt x="515" y="3371"/>
                  </a:lnTo>
                  <a:lnTo>
                    <a:pt x="661" y="3516"/>
                  </a:lnTo>
                  <a:lnTo>
                    <a:pt x="824" y="3657"/>
                  </a:lnTo>
                  <a:lnTo>
                    <a:pt x="1005" y="3776"/>
                  </a:lnTo>
                  <a:lnTo>
                    <a:pt x="1190" y="3869"/>
                  </a:lnTo>
                  <a:lnTo>
                    <a:pt x="1389" y="3957"/>
                  </a:lnTo>
                  <a:lnTo>
                    <a:pt x="1605" y="4032"/>
                  </a:lnTo>
                  <a:lnTo>
                    <a:pt x="1821" y="4080"/>
                  </a:lnTo>
                  <a:lnTo>
                    <a:pt x="2054" y="4111"/>
                  </a:lnTo>
                  <a:lnTo>
                    <a:pt x="2288" y="4120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5964120" y="4379760"/>
              <a:ext cx="95868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14880" y="3027240"/>
              <a:ext cx="80640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5480" y="2959200"/>
              <a:ext cx="238320" cy="130680"/>
            </a:xfrm>
            <a:custGeom>
              <a:avLst/>
              <a:gdLst/>
              <a:ahLst/>
              <a:rect l="0" t="0" r="r" b="b"/>
              <a:pathLst>
                <a:path w="662" h="363">
                  <a:moveTo>
                    <a:pt x="70" y="177"/>
                  </a:moveTo>
                  <a:lnTo>
                    <a:pt x="70" y="212"/>
                  </a:lnTo>
                  <a:lnTo>
                    <a:pt x="70" y="230"/>
                  </a:lnTo>
                  <a:lnTo>
                    <a:pt x="61" y="256"/>
                  </a:lnTo>
                  <a:lnTo>
                    <a:pt x="61" y="279"/>
                  </a:lnTo>
                  <a:lnTo>
                    <a:pt x="52" y="293"/>
                  </a:lnTo>
                  <a:lnTo>
                    <a:pt x="52" y="310"/>
                  </a:lnTo>
                  <a:lnTo>
                    <a:pt x="44" y="323"/>
                  </a:lnTo>
                  <a:lnTo>
                    <a:pt x="35" y="332"/>
                  </a:lnTo>
                  <a:lnTo>
                    <a:pt x="30" y="337"/>
                  </a:lnTo>
                  <a:lnTo>
                    <a:pt x="30" y="350"/>
                  </a:lnTo>
                  <a:lnTo>
                    <a:pt x="17" y="350"/>
                  </a:lnTo>
                  <a:lnTo>
                    <a:pt x="8" y="354"/>
                  </a:lnTo>
                  <a:lnTo>
                    <a:pt x="0" y="354"/>
                  </a:lnTo>
                  <a:lnTo>
                    <a:pt x="0" y="363"/>
                  </a:lnTo>
                  <a:lnTo>
                    <a:pt x="662" y="186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30" y="13"/>
                  </a:lnTo>
                  <a:lnTo>
                    <a:pt x="30" y="26"/>
                  </a:lnTo>
                  <a:lnTo>
                    <a:pt x="35" y="30"/>
                  </a:lnTo>
                  <a:lnTo>
                    <a:pt x="44" y="39"/>
                  </a:lnTo>
                  <a:lnTo>
                    <a:pt x="52" y="52"/>
                  </a:lnTo>
                  <a:lnTo>
                    <a:pt x="52" y="70"/>
                  </a:lnTo>
                  <a:lnTo>
                    <a:pt x="61" y="83"/>
                  </a:lnTo>
                  <a:lnTo>
                    <a:pt x="61" y="102"/>
                  </a:lnTo>
                  <a:lnTo>
                    <a:pt x="70" y="124"/>
                  </a:lnTo>
                  <a:lnTo>
                    <a:pt x="70" y="155"/>
                  </a:lnTo>
                  <a:lnTo>
                    <a:pt x="70" y="1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64240" y="2401920"/>
              <a:ext cx="398880" cy="135360"/>
            </a:xfrm>
            <a:custGeom>
              <a:avLst/>
              <a:gdLst/>
              <a:ahLst/>
              <a:rect l="0" t="0" r="r" b="b"/>
              <a:pathLst>
                <a:path fill="none" w="1108" h="376">
                  <a:moveTo>
                    <a:pt x="1108" y="376"/>
                  </a:moveTo>
                  <a:lnTo>
                    <a:pt x="1100" y="368"/>
                  </a:lnTo>
                  <a:lnTo>
                    <a:pt x="1086" y="350"/>
                  </a:lnTo>
                  <a:lnTo>
                    <a:pt x="1073" y="337"/>
                  </a:lnTo>
                  <a:lnTo>
                    <a:pt x="1042" y="310"/>
                  </a:lnTo>
                  <a:lnTo>
                    <a:pt x="1007" y="288"/>
                  </a:lnTo>
                  <a:lnTo>
                    <a:pt x="963" y="252"/>
                  </a:lnTo>
                  <a:lnTo>
                    <a:pt x="910" y="221"/>
                  </a:lnTo>
                  <a:lnTo>
                    <a:pt x="848" y="190"/>
                  </a:lnTo>
                  <a:lnTo>
                    <a:pt x="772" y="146"/>
                  </a:lnTo>
                  <a:lnTo>
                    <a:pt x="702" y="115"/>
                  </a:lnTo>
                  <a:lnTo>
                    <a:pt x="613" y="88"/>
                  </a:lnTo>
                  <a:lnTo>
                    <a:pt x="503" y="57"/>
                  </a:lnTo>
                  <a:lnTo>
                    <a:pt x="397" y="35"/>
                  </a:lnTo>
                  <a:lnTo>
                    <a:pt x="268" y="17"/>
                  </a:lnTo>
                  <a:lnTo>
                    <a:pt x="145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951600" y="2529000"/>
              <a:ext cx="30240" cy="1908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564240" y="2382840"/>
              <a:ext cx="0" cy="4608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05680" y="2401920"/>
              <a:ext cx="359280" cy="70200"/>
            </a:xfrm>
            <a:custGeom>
              <a:avLst/>
              <a:gdLst/>
              <a:ahLst/>
              <a:rect l="0" t="0" r="r" b="b"/>
              <a:pathLst>
                <a:path fill="none" w="998" h="195">
                  <a:moveTo>
                    <a:pt x="998" y="0"/>
                  </a:moveTo>
                  <a:lnTo>
                    <a:pt x="844" y="0"/>
                  </a:lnTo>
                  <a:lnTo>
                    <a:pt x="719" y="0"/>
                  </a:lnTo>
                  <a:lnTo>
                    <a:pt x="605" y="8"/>
                  </a:lnTo>
                  <a:lnTo>
                    <a:pt x="490" y="17"/>
                  </a:lnTo>
                  <a:lnTo>
                    <a:pt x="393" y="35"/>
                  </a:lnTo>
                  <a:lnTo>
                    <a:pt x="322" y="57"/>
                  </a:lnTo>
                  <a:lnTo>
                    <a:pt x="242" y="74"/>
                  </a:lnTo>
                  <a:lnTo>
                    <a:pt x="189" y="88"/>
                  </a:lnTo>
                  <a:lnTo>
                    <a:pt x="132" y="106"/>
                  </a:lnTo>
                  <a:lnTo>
                    <a:pt x="97" y="133"/>
                  </a:lnTo>
                  <a:lnTo>
                    <a:pt x="61" y="146"/>
                  </a:lnTo>
                  <a:lnTo>
                    <a:pt x="35" y="164"/>
                  </a:lnTo>
                  <a:lnTo>
                    <a:pt x="22" y="168"/>
                  </a:lnTo>
                  <a:lnTo>
                    <a:pt x="0" y="186"/>
                  </a:lnTo>
                  <a:lnTo>
                    <a:pt x="0" y="195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6188040" y="2465280"/>
              <a:ext cx="44640" cy="270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40440" y="2394000"/>
              <a:ext cx="236880" cy="173520"/>
            </a:xfrm>
            <a:custGeom>
              <a:avLst/>
              <a:gdLst/>
              <a:ahLst/>
              <a:rect l="0" t="0" r="r" b="b"/>
              <a:pathLst>
                <a:path w="658" h="482">
                  <a:moveTo>
                    <a:pt x="486" y="190"/>
                  </a:moveTo>
                  <a:lnTo>
                    <a:pt x="468" y="164"/>
                  </a:lnTo>
                  <a:lnTo>
                    <a:pt x="459" y="142"/>
                  </a:lnTo>
                  <a:lnTo>
                    <a:pt x="441" y="114"/>
                  </a:lnTo>
                  <a:lnTo>
                    <a:pt x="437" y="101"/>
                  </a:lnTo>
                  <a:lnTo>
                    <a:pt x="424" y="83"/>
                  </a:lnTo>
                  <a:lnTo>
                    <a:pt x="424" y="70"/>
                  </a:lnTo>
                  <a:lnTo>
                    <a:pt x="424" y="52"/>
                  </a:lnTo>
                  <a:lnTo>
                    <a:pt x="424" y="39"/>
                  </a:lnTo>
                  <a:lnTo>
                    <a:pt x="415" y="35"/>
                  </a:lnTo>
                  <a:lnTo>
                    <a:pt x="424" y="26"/>
                  </a:lnTo>
                  <a:lnTo>
                    <a:pt x="424" y="17"/>
                  </a:lnTo>
                  <a:lnTo>
                    <a:pt x="424" y="8"/>
                  </a:lnTo>
                  <a:lnTo>
                    <a:pt x="424" y="0"/>
                  </a:lnTo>
                  <a:lnTo>
                    <a:pt x="437" y="0"/>
                  </a:lnTo>
                  <a:lnTo>
                    <a:pt x="0" y="482"/>
                  </a:lnTo>
                  <a:lnTo>
                    <a:pt x="658" y="305"/>
                  </a:lnTo>
                  <a:lnTo>
                    <a:pt x="649" y="305"/>
                  </a:lnTo>
                  <a:lnTo>
                    <a:pt x="644" y="305"/>
                  </a:lnTo>
                  <a:lnTo>
                    <a:pt x="631" y="305"/>
                  </a:lnTo>
                  <a:lnTo>
                    <a:pt x="622" y="305"/>
                  </a:lnTo>
                  <a:lnTo>
                    <a:pt x="613" y="296"/>
                  </a:lnTo>
                  <a:lnTo>
                    <a:pt x="609" y="296"/>
                  </a:lnTo>
                  <a:lnTo>
                    <a:pt x="600" y="287"/>
                  </a:lnTo>
                  <a:lnTo>
                    <a:pt x="578" y="283"/>
                  </a:lnTo>
                  <a:lnTo>
                    <a:pt x="574" y="274"/>
                  </a:lnTo>
                  <a:lnTo>
                    <a:pt x="552" y="256"/>
                  </a:lnTo>
                  <a:lnTo>
                    <a:pt x="538" y="239"/>
                  </a:lnTo>
                  <a:lnTo>
                    <a:pt x="521" y="225"/>
                  </a:lnTo>
                  <a:lnTo>
                    <a:pt x="503" y="208"/>
                  </a:lnTo>
                  <a:lnTo>
                    <a:pt x="486" y="1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99360" y="4255920"/>
              <a:ext cx="367200" cy="190800"/>
            </a:xfrm>
            <a:custGeom>
              <a:avLst/>
              <a:gdLst/>
              <a:ahLst/>
              <a:rect l="0" t="0" r="r" b="b"/>
              <a:pathLst>
                <a:path fill="none" w="1020" h="530">
                  <a:moveTo>
                    <a:pt x="0" y="530"/>
                  </a:moveTo>
                  <a:lnTo>
                    <a:pt x="17" y="530"/>
                  </a:lnTo>
                  <a:lnTo>
                    <a:pt x="44" y="521"/>
                  </a:lnTo>
                  <a:lnTo>
                    <a:pt x="88" y="521"/>
                  </a:lnTo>
                  <a:lnTo>
                    <a:pt x="132" y="512"/>
                  </a:lnTo>
                  <a:lnTo>
                    <a:pt x="189" y="503"/>
                  </a:lnTo>
                  <a:lnTo>
                    <a:pt x="251" y="490"/>
                  </a:lnTo>
                  <a:lnTo>
                    <a:pt x="314" y="464"/>
                  </a:lnTo>
                  <a:lnTo>
                    <a:pt x="393" y="441"/>
                  </a:lnTo>
                  <a:lnTo>
                    <a:pt x="472" y="402"/>
                  </a:lnTo>
                  <a:lnTo>
                    <a:pt x="552" y="358"/>
                  </a:lnTo>
                  <a:lnTo>
                    <a:pt x="644" y="305"/>
                  </a:lnTo>
                  <a:lnTo>
                    <a:pt x="733" y="246"/>
                  </a:lnTo>
                  <a:lnTo>
                    <a:pt x="826" y="176"/>
                  </a:lnTo>
                  <a:lnTo>
                    <a:pt x="923" y="92"/>
                  </a:lnTo>
                  <a:lnTo>
                    <a:pt x="102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299360" y="4427640"/>
              <a:ext cx="0" cy="4752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58280" y="4249800"/>
              <a:ext cx="39600" cy="28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66200" y="3960720"/>
              <a:ext cx="168480" cy="295560"/>
            </a:xfrm>
            <a:custGeom>
              <a:avLst/>
              <a:gdLst/>
              <a:ahLst/>
              <a:rect l="0" t="0" r="r" b="b"/>
              <a:pathLst>
                <a:path fill="none" w="468" h="821">
                  <a:moveTo>
                    <a:pt x="0" y="821"/>
                  </a:moveTo>
                  <a:lnTo>
                    <a:pt x="92" y="715"/>
                  </a:lnTo>
                  <a:lnTo>
                    <a:pt x="167" y="627"/>
                  </a:lnTo>
                  <a:lnTo>
                    <a:pt x="233" y="530"/>
                  </a:lnTo>
                  <a:lnTo>
                    <a:pt x="300" y="450"/>
                  </a:lnTo>
                  <a:lnTo>
                    <a:pt x="340" y="388"/>
                  </a:lnTo>
                  <a:lnTo>
                    <a:pt x="375" y="313"/>
                  </a:lnTo>
                  <a:lnTo>
                    <a:pt x="406" y="255"/>
                  </a:lnTo>
                  <a:lnTo>
                    <a:pt x="433" y="198"/>
                  </a:lnTo>
                  <a:lnTo>
                    <a:pt x="450" y="149"/>
                  </a:lnTo>
                  <a:lnTo>
                    <a:pt x="459" y="110"/>
                  </a:lnTo>
                  <a:lnTo>
                    <a:pt x="468" y="79"/>
                  </a:lnTo>
                  <a:lnTo>
                    <a:pt x="468" y="48"/>
                  </a:lnTo>
                  <a:lnTo>
                    <a:pt x="468" y="30"/>
                  </a:lnTo>
                  <a:lnTo>
                    <a:pt x="468" y="17"/>
                  </a:lnTo>
                  <a:lnTo>
                    <a:pt x="468" y="8"/>
                  </a:lnTo>
                  <a:lnTo>
                    <a:pt x="468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815240" y="3962520"/>
              <a:ext cx="4932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54760" y="3784680"/>
              <a:ext cx="141480" cy="216360"/>
            </a:xfrm>
            <a:custGeom>
              <a:avLst/>
              <a:gdLst/>
              <a:ahLst/>
              <a:rect l="0" t="0" r="r" b="b"/>
              <a:pathLst>
                <a:path w="393" h="601">
                  <a:moveTo>
                    <a:pt x="203" y="526"/>
                  </a:moveTo>
                  <a:lnTo>
                    <a:pt x="234" y="526"/>
                  </a:lnTo>
                  <a:lnTo>
                    <a:pt x="261" y="531"/>
                  </a:lnTo>
                  <a:lnTo>
                    <a:pt x="283" y="539"/>
                  </a:lnTo>
                  <a:lnTo>
                    <a:pt x="300" y="539"/>
                  </a:lnTo>
                  <a:lnTo>
                    <a:pt x="318" y="548"/>
                  </a:lnTo>
                  <a:lnTo>
                    <a:pt x="336" y="557"/>
                  </a:lnTo>
                  <a:lnTo>
                    <a:pt x="349" y="562"/>
                  </a:lnTo>
                  <a:lnTo>
                    <a:pt x="358" y="570"/>
                  </a:lnTo>
                  <a:lnTo>
                    <a:pt x="371" y="570"/>
                  </a:lnTo>
                  <a:lnTo>
                    <a:pt x="380" y="575"/>
                  </a:lnTo>
                  <a:lnTo>
                    <a:pt x="384" y="588"/>
                  </a:lnTo>
                  <a:lnTo>
                    <a:pt x="384" y="592"/>
                  </a:lnTo>
                  <a:lnTo>
                    <a:pt x="384" y="601"/>
                  </a:lnTo>
                  <a:lnTo>
                    <a:pt x="393" y="601"/>
                  </a:lnTo>
                  <a:lnTo>
                    <a:pt x="261" y="0"/>
                  </a:lnTo>
                  <a:lnTo>
                    <a:pt x="0" y="570"/>
                  </a:lnTo>
                  <a:lnTo>
                    <a:pt x="0" y="562"/>
                  </a:lnTo>
                  <a:lnTo>
                    <a:pt x="8" y="562"/>
                  </a:lnTo>
                  <a:lnTo>
                    <a:pt x="8" y="557"/>
                  </a:lnTo>
                  <a:lnTo>
                    <a:pt x="13" y="557"/>
                  </a:lnTo>
                  <a:lnTo>
                    <a:pt x="13" y="548"/>
                  </a:lnTo>
                  <a:lnTo>
                    <a:pt x="22" y="539"/>
                  </a:lnTo>
                  <a:lnTo>
                    <a:pt x="44" y="539"/>
                  </a:lnTo>
                  <a:lnTo>
                    <a:pt x="48" y="531"/>
                  </a:lnTo>
                  <a:lnTo>
                    <a:pt x="66" y="531"/>
                  </a:lnTo>
                  <a:lnTo>
                    <a:pt x="74" y="526"/>
                  </a:lnTo>
                  <a:lnTo>
                    <a:pt x="101" y="526"/>
                  </a:lnTo>
                  <a:lnTo>
                    <a:pt x="114" y="526"/>
                  </a:lnTo>
                  <a:lnTo>
                    <a:pt x="145" y="517"/>
                  </a:lnTo>
                  <a:lnTo>
                    <a:pt x="176" y="526"/>
                  </a:lnTo>
                  <a:lnTo>
                    <a:pt x="203" y="5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5520" y="3795840"/>
              <a:ext cx="101880" cy="373320"/>
            </a:xfrm>
            <a:custGeom>
              <a:avLst/>
              <a:gdLst/>
              <a:ahLst/>
              <a:rect l="0" t="0" r="r" b="b"/>
              <a:pathLst>
                <a:path fill="none" w="283" h="1037">
                  <a:moveTo>
                    <a:pt x="35" y="0"/>
                  </a:moveTo>
                  <a:lnTo>
                    <a:pt x="26" y="8"/>
                  </a:lnTo>
                  <a:lnTo>
                    <a:pt x="26" y="26"/>
                  </a:lnTo>
                  <a:lnTo>
                    <a:pt x="22" y="48"/>
                  </a:lnTo>
                  <a:lnTo>
                    <a:pt x="8" y="79"/>
                  </a:lnTo>
                  <a:lnTo>
                    <a:pt x="8" y="119"/>
                  </a:lnTo>
                  <a:lnTo>
                    <a:pt x="0" y="167"/>
                  </a:lnTo>
                  <a:lnTo>
                    <a:pt x="0" y="224"/>
                  </a:lnTo>
                  <a:lnTo>
                    <a:pt x="0" y="286"/>
                  </a:lnTo>
                  <a:lnTo>
                    <a:pt x="8" y="361"/>
                  </a:lnTo>
                  <a:lnTo>
                    <a:pt x="22" y="440"/>
                  </a:lnTo>
                  <a:lnTo>
                    <a:pt x="35" y="534"/>
                  </a:lnTo>
                  <a:lnTo>
                    <a:pt x="61" y="618"/>
                  </a:lnTo>
                  <a:lnTo>
                    <a:pt x="97" y="719"/>
                  </a:lnTo>
                  <a:lnTo>
                    <a:pt x="155" y="821"/>
                  </a:lnTo>
                  <a:lnTo>
                    <a:pt x="212" y="927"/>
                  </a:lnTo>
                  <a:lnTo>
                    <a:pt x="283" y="1037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0480" y="3797280"/>
              <a:ext cx="52560" cy="648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189400" y="4165560"/>
              <a:ext cx="34920" cy="144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07040" y="4168800"/>
              <a:ext cx="257400" cy="235440"/>
            </a:xfrm>
            <a:custGeom>
              <a:avLst/>
              <a:gdLst/>
              <a:ahLst/>
              <a:rect l="0" t="0" r="r" b="b"/>
              <a:pathLst>
                <a:path fill="none" w="715" h="654">
                  <a:moveTo>
                    <a:pt x="0" y="0"/>
                  </a:moveTo>
                  <a:lnTo>
                    <a:pt x="79" y="114"/>
                  </a:lnTo>
                  <a:lnTo>
                    <a:pt x="154" y="212"/>
                  </a:lnTo>
                  <a:lnTo>
                    <a:pt x="224" y="292"/>
                  </a:lnTo>
                  <a:lnTo>
                    <a:pt x="295" y="362"/>
                  </a:lnTo>
                  <a:lnTo>
                    <a:pt x="358" y="428"/>
                  </a:lnTo>
                  <a:lnTo>
                    <a:pt x="411" y="486"/>
                  </a:lnTo>
                  <a:lnTo>
                    <a:pt x="464" y="526"/>
                  </a:lnTo>
                  <a:lnTo>
                    <a:pt x="516" y="557"/>
                  </a:lnTo>
                  <a:lnTo>
                    <a:pt x="561" y="592"/>
                  </a:lnTo>
                  <a:lnTo>
                    <a:pt x="596" y="614"/>
                  </a:lnTo>
                  <a:lnTo>
                    <a:pt x="636" y="628"/>
                  </a:lnTo>
                  <a:lnTo>
                    <a:pt x="658" y="637"/>
                  </a:lnTo>
                  <a:lnTo>
                    <a:pt x="680" y="645"/>
                  </a:lnTo>
                  <a:lnTo>
                    <a:pt x="693" y="654"/>
                  </a:lnTo>
                  <a:lnTo>
                    <a:pt x="706" y="654"/>
                  </a:lnTo>
                  <a:lnTo>
                    <a:pt x="715" y="654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464080" y="4387680"/>
              <a:ext cx="1800" cy="4932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4240" y="4329000"/>
              <a:ext cx="249480" cy="141480"/>
            </a:xfrm>
            <a:custGeom>
              <a:avLst/>
              <a:gdLst/>
              <a:ahLst/>
              <a:rect l="0" t="0" r="r" b="b"/>
              <a:pathLst>
                <a:path w="693" h="393">
                  <a:moveTo>
                    <a:pt x="145" y="180"/>
                  </a:moveTo>
                  <a:lnTo>
                    <a:pt x="132" y="208"/>
                  </a:lnTo>
                  <a:lnTo>
                    <a:pt x="123" y="230"/>
                  </a:lnTo>
                  <a:lnTo>
                    <a:pt x="101" y="247"/>
                  </a:lnTo>
                  <a:lnTo>
                    <a:pt x="97" y="261"/>
                  </a:lnTo>
                  <a:lnTo>
                    <a:pt x="79" y="274"/>
                  </a:lnTo>
                  <a:lnTo>
                    <a:pt x="70" y="292"/>
                  </a:lnTo>
                  <a:lnTo>
                    <a:pt x="61" y="300"/>
                  </a:lnTo>
                  <a:lnTo>
                    <a:pt x="44" y="309"/>
                  </a:lnTo>
                  <a:lnTo>
                    <a:pt x="35" y="309"/>
                  </a:lnTo>
                  <a:lnTo>
                    <a:pt x="26" y="314"/>
                  </a:lnTo>
                  <a:lnTo>
                    <a:pt x="8" y="314"/>
                  </a:lnTo>
                  <a:lnTo>
                    <a:pt x="8" y="322"/>
                  </a:lnTo>
                  <a:lnTo>
                    <a:pt x="0" y="322"/>
                  </a:lnTo>
                  <a:lnTo>
                    <a:pt x="693" y="393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171" y="8"/>
                  </a:lnTo>
                  <a:lnTo>
                    <a:pt x="171" y="13"/>
                  </a:lnTo>
                  <a:lnTo>
                    <a:pt x="180" y="26"/>
                  </a:lnTo>
                  <a:lnTo>
                    <a:pt x="180" y="30"/>
                  </a:lnTo>
                  <a:lnTo>
                    <a:pt x="180" y="44"/>
                  </a:lnTo>
                  <a:lnTo>
                    <a:pt x="180" y="57"/>
                  </a:lnTo>
                  <a:lnTo>
                    <a:pt x="180" y="74"/>
                  </a:lnTo>
                  <a:lnTo>
                    <a:pt x="180" y="88"/>
                  </a:lnTo>
                  <a:lnTo>
                    <a:pt x="171" y="105"/>
                  </a:lnTo>
                  <a:lnTo>
                    <a:pt x="167" y="132"/>
                  </a:lnTo>
                  <a:lnTo>
                    <a:pt x="158" y="154"/>
                  </a:lnTo>
                  <a:lnTo>
                    <a:pt x="145" y="1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53960" y="2282760"/>
              <a:ext cx="1654560" cy="1484640"/>
            </a:xfrm>
            <a:custGeom>
              <a:avLst/>
              <a:gdLst/>
              <a:ahLst/>
              <a:rect l="0" t="0" r="r" b="b"/>
              <a:pathLst>
                <a:path w="4596" h="4124">
                  <a:moveTo>
                    <a:pt x="2298" y="4124"/>
                  </a:moveTo>
                  <a:lnTo>
                    <a:pt x="2532" y="4115"/>
                  </a:lnTo>
                  <a:lnTo>
                    <a:pt x="2752" y="4084"/>
                  </a:lnTo>
                  <a:lnTo>
                    <a:pt x="2977" y="4031"/>
                  </a:lnTo>
                  <a:lnTo>
                    <a:pt x="3189" y="3960"/>
                  </a:lnTo>
                  <a:lnTo>
                    <a:pt x="3392" y="3872"/>
                  </a:lnTo>
                  <a:lnTo>
                    <a:pt x="3582" y="3771"/>
                  </a:lnTo>
                  <a:lnTo>
                    <a:pt x="3754" y="3656"/>
                  </a:lnTo>
                  <a:lnTo>
                    <a:pt x="3917" y="3519"/>
                  </a:lnTo>
                  <a:lnTo>
                    <a:pt x="4063" y="3374"/>
                  </a:lnTo>
                  <a:lnTo>
                    <a:pt x="4204" y="3211"/>
                  </a:lnTo>
                  <a:lnTo>
                    <a:pt x="4314" y="3043"/>
                  </a:lnTo>
                  <a:lnTo>
                    <a:pt x="4407" y="2867"/>
                  </a:lnTo>
                  <a:lnTo>
                    <a:pt x="4491" y="2673"/>
                  </a:lnTo>
                  <a:lnTo>
                    <a:pt x="4539" y="2483"/>
                  </a:lnTo>
                  <a:lnTo>
                    <a:pt x="4574" y="2272"/>
                  </a:lnTo>
                  <a:lnTo>
                    <a:pt x="4596" y="2059"/>
                  </a:lnTo>
                  <a:lnTo>
                    <a:pt x="4574" y="1852"/>
                  </a:lnTo>
                  <a:lnTo>
                    <a:pt x="4539" y="1640"/>
                  </a:lnTo>
                  <a:lnTo>
                    <a:pt x="4491" y="1450"/>
                  </a:lnTo>
                  <a:lnTo>
                    <a:pt x="4407" y="1265"/>
                  </a:lnTo>
                  <a:lnTo>
                    <a:pt x="4314" y="1080"/>
                  </a:lnTo>
                  <a:lnTo>
                    <a:pt x="4204" y="908"/>
                  </a:lnTo>
                  <a:lnTo>
                    <a:pt x="4063" y="754"/>
                  </a:lnTo>
                  <a:lnTo>
                    <a:pt x="3917" y="604"/>
                  </a:lnTo>
                  <a:lnTo>
                    <a:pt x="3754" y="476"/>
                  </a:lnTo>
                  <a:lnTo>
                    <a:pt x="3582" y="352"/>
                  </a:lnTo>
                  <a:lnTo>
                    <a:pt x="3392" y="251"/>
                  </a:lnTo>
                  <a:lnTo>
                    <a:pt x="3189" y="163"/>
                  </a:lnTo>
                  <a:lnTo>
                    <a:pt x="2977" y="92"/>
                  </a:lnTo>
                  <a:lnTo>
                    <a:pt x="2752" y="48"/>
                  </a:lnTo>
                  <a:lnTo>
                    <a:pt x="2532" y="17"/>
                  </a:lnTo>
                  <a:lnTo>
                    <a:pt x="2298" y="0"/>
                  </a:lnTo>
                  <a:lnTo>
                    <a:pt x="2064" y="17"/>
                  </a:lnTo>
                  <a:lnTo>
                    <a:pt x="1831" y="48"/>
                  </a:lnTo>
                  <a:lnTo>
                    <a:pt x="1619" y="92"/>
                  </a:lnTo>
                  <a:lnTo>
                    <a:pt x="1398" y="163"/>
                  </a:lnTo>
                  <a:lnTo>
                    <a:pt x="1204" y="251"/>
                  </a:lnTo>
                  <a:lnTo>
                    <a:pt x="1014" y="352"/>
                  </a:lnTo>
                  <a:lnTo>
                    <a:pt x="833" y="476"/>
                  </a:lnTo>
                  <a:lnTo>
                    <a:pt x="670" y="604"/>
                  </a:lnTo>
                  <a:lnTo>
                    <a:pt x="520" y="754"/>
                  </a:lnTo>
                  <a:lnTo>
                    <a:pt x="392" y="908"/>
                  </a:lnTo>
                  <a:lnTo>
                    <a:pt x="277" y="1080"/>
                  </a:lnTo>
                  <a:lnTo>
                    <a:pt x="180" y="1265"/>
                  </a:lnTo>
                  <a:lnTo>
                    <a:pt x="105" y="1450"/>
                  </a:lnTo>
                  <a:lnTo>
                    <a:pt x="44" y="1640"/>
                  </a:lnTo>
                  <a:lnTo>
                    <a:pt x="8" y="1852"/>
                  </a:lnTo>
                  <a:lnTo>
                    <a:pt x="0" y="2059"/>
                  </a:lnTo>
                  <a:lnTo>
                    <a:pt x="8" y="2272"/>
                  </a:lnTo>
                  <a:lnTo>
                    <a:pt x="44" y="2483"/>
                  </a:lnTo>
                  <a:lnTo>
                    <a:pt x="105" y="2673"/>
                  </a:lnTo>
                  <a:lnTo>
                    <a:pt x="180" y="2867"/>
                  </a:lnTo>
                  <a:lnTo>
                    <a:pt x="277" y="3043"/>
                  </a:lnTo>
                  <a:lnTo>
                    <a:pt x="392" y="3211"/>
                  </a:lnTo>
                  <a:lnTo>
                    <a:pt x="520" y="3374"/>
                  </a:lnTo>
                  <a:lnTo>
                    <a:pt x="670" y="3519"/>
                  </a:lnTo>
                  <a:lnTo>
                    <a:pt x="833" y="3656"/>
                  </a:lnTo>
                  <a:lnTo>
                    <a:pt x="1014" y="3771"/>
                  </a:lnTo>
                  <a:lnTo>
                    <a:pt x="1204" y="3872"/>
                  </a:lnTo>
                  <a:lnTo>
                    <a:pt x="1398" y="3960"/>
                  </a:lnTo>
                  <a:lnTo>
                    <a:pt x="1619" y="4031"/>
                  </a:lnTo>
                  <a:lnTo>
                    <a:pt x="1831" y="4084"/>
                  </a:lnTo>
                  <a:lnTo>
                    <a:pt x="2064" y="4115"/>
                  </a:lnTo>
                  <a:lnTo>
                    <a:pt x="2298" y="4124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500120" y="2865600"/>
              <a:ext cx="13431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T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53960" y="3906720"/>
              <a:ext cx="1654560" cy="1483200"/>
            </a:xfrm>
            <a:custGeom>
              <a:avLst/>
              <a:gdLst/>
              <a:ahLst/>
              <a:rect l="0" t="0" r="r" b="b"/>
              <a:pathLst>
                <a:path w="4596" h="4120">
                  <a:moveTo>
                    <a:pt x="2298" y="4120"/>
                  </a:moveTo>
                  <a:lnTo>
                    <a:pt x="2532" y="4103"/>
                  </a:lnTo>
                  <a:lnTo>
                    <a:pt x="2752" y="4072"/>
                  </a:lnTo>
                  <a:lnTo>
                    <a:pt x="2977" y="4028"/>
                  </a:lnTo>
                  <a:lnTo>
                    <a:pt x="3189" y="3953"/>
                  </a:lnTo>
                  <a:lnTo>
                    <a:pt x="3392" y="3873"/>
                  </a:lnTo>
                  <a:lnTo>
                    <a:pt x="3582" y="3767"/>
                  </a:lnTo>
                  <a:lnTo>
                    <a:pt x="3754" y="3644"/>
                  </a:lnTo>
                  <a:lnTo>
                    <a:pt x="3917" y="3512"/>
                  </a:lnTo>
                  <a:lnTo>
                    <a:pt x="4063" y="3366"/>
                  </a:lnTo>
                  <a:lnTo>
                    <a:pt x="4204" y="3212"/>
                  </a:lnTo>
                  <a:lnTo>
                    <a:pt x="4314" y="3034"/>
                  </a:lnTo>
                  <a:lnTo>
                    <a:pt x="4407" y="2858"/>
                  </a:lnTo>
                  <a:lnTo>
                    <a:pt x="4491" y="2664"/>
                  </a:lnTo>
                  <a:lnTo>
                    <a:pt x="4539" y="2470"/>
                  </a:lnTo>
                  <a:lnTo>
                    <a:pt x="4574" y="2263"/>
                  </a:lnTo>
                  <a:lnTo>
                    <a:pt x="4596" y="2051"/>
                  </a:lnTo>
                  <a:lnTo>
                    <a:pt x="4574" y="1844"/>
                  </a:lnTo>
                  <a:lnTo>
                    <a:pt x="4539" y="1641"/>
                  </a:lnTo>
                  <a:lnTo>
                    <a:pt x="4491" y="1438"/>
                  </a:lnTo>
                  <a:lnTo>
                    <a:pt x="4407" y="1257"/>
                  </a:lnTo>
                  <a:lnTo>
                    <a:pt x="4314" y="1068"/>
                  </a:lnTo>
                  <a:lnTo>
                    <a:pt x="4204" y="912"/>
                  </a:lnTo>
                  <a:lnTo>
                    <a:pt x="4063" y="745"/>
                  </a:lnTo>
                  <a:lnTo>
                    <a:pt x="3917" y="604"/>
                  </a:lnTo>
                  <a:lnTo>
                    <a:pt x="3754" y="463"/>
                  </a:lnTo>
                  <a:lnTo>
                    <a:pt x="3582" y="343"/>
                  </a:lnTo>
                  <a:lnTo>
                    <a:pt x="3392" y="251"/>
                  </a:lnTo>
                  <a:lnTo>
                    <a:pt x="3189" y="163"/>
                  </a:lnTo>
                  <a:lnTo>
                    <a:pt x="2977" y="88"/>
                  </a:lnTo>
                  <a:lnTo>
                    <a:pt x="2752" y="39"/>
                  </a:lnTo>
                  <a:lnTo>
                    <a:pt x="2532" y="8"/>
                  </a:lnTo>
                  <a:lnTo>
                    <a:pt x="2298" y="0"/>
                  </a:lnTo>
                  <a:lnTo>
                    <a:pt x="2064" y="8"/>
                  </a:lnTo>
                  <a:lnTo>
                    <a:pt x="1831" y="39"/>
                  </a:lnTo>
                  <a:lnTo>
                    <a:pt x="1619" y="88"/>
                  </a:lnTo>
                  <a:lnTo>
                    <a:pt x="1398" y="163"/>
                  </a:lnTo>
                  <a:lnTo>
                    <a:pt x="1204" y="251"/>
                  </a:lnTo>
                  <a:lnTo>
                    <a:pt x="1014" y="343"/>
                  </a:lnTo>
                  <a:lnTo>
                    <a:pt x="833" y="463"/>
                  </a:lnTo>
                  <a:lnTo>
                    <a:pt x="670" y="604"/>
                  </a:lnTo>
                  <a:lnTo>
                    <a:pt x="520" y="745"/>
                  </a:lnTo>
                  <a:lnTo>
                    <a:pt x="392" y="912"/>
                  </a:lnTo>
                  <a:lnTo>
                    <a:pt x="277" y="1068"/>
                  </a:lnTo>
                  <a:lnTo>
                    <a:pt x="180" y="1257"/>
                  </a:lnTo>
                  <a:lnTo>
                    <a:pt x="105" y="1438"/>
                  </a:lnTo>
                  <a:lnTo>
                    <a:pt x="44" y="1641"/>
                  </a:lnTo>
                  <a:lnTo>
                    <a:pt x="8" y="1844"/>
                  </a:lnTo>
                  <a:lnTo>
                    <a:pt x="0" y="2051"/>
                  </a:lnTo>
                  <a:lnTo>
                    <a:pt x="8" y="2263"/>
                  </a:lnTo>
                  <a:lnTo>
                    <a:pt x="44" y="2470"/>
                  </a:lnTo>
                  <a:lnTo>
                    <a:pt x="105" y="2664"/>
                  </a:lnTo>
                  <a:lnTo>
                    <a:pt x="180" y="2858"/>
                  </a:lnTo>
                  <a:lnTo>
                    <a:pt x="277" y="3034"/>
                  </a:lnTo>
                  <a:lnTo>
                    <a:pt x="392" y="3212"/>
                  </a:lnTo>
                  <a:lnTo>
                    <a:pt x="520" y="3366"/>
                  </a:lnTo>
                  <a:lnTo>
                    <a:pt x="670" y="3512"/>
                  </a:lnTo>
                  <a:lnTo>
                    <a:pt x="833" y="3644"/>
                  </a:lnTo>
                  <a:lnTo>
                    <a:pt x="1014" y="3767"/>
                  </a:lnTo>
                  <a:lnTo>
                    <a:pt x="1204" y="3873"/>
                  </a:lnTo>
                  <a:lnTo>
                    <a:pt x="1398" y="3953"/>
                  </a:lnTo>
                  <a:lnTo>
                    <a:pt x="1619" y="4028"/>
                  </a:lnTo>
                  <a:lnTo>
                    <a:pt x="1831" y="4072"/>
                  </a:lnTo>
                  <a:lnTo>
                    <a:pt x="2064" y="4103"/>
                  </a:lnTo>
                  <a:lnTo>
                    <a:pt x="2298" y="4120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1731960" y="4497480"/>
              <a:ext cx="87948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QUID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97280" y="3914640"/>
              <a:ext cx="151200" cy="357480"/>
            </a:xfrm>
            <a:custGeom>
              <a:avLst/>
              <a:gdLst/>
              <a:ahLst/>
              <a:rect l="0" t="0" r="r" b="b"/>
              <a:pathLst>
                <a:path fill="none" w="420" h="993">
                  <a:moveTo>
                    <a:pt x="0" y="993"/>
                  </a:moveTo>
                  <a:lnTo>
                    <a:pt x="8" y="993"/>
                  </a:lnTo>
                  <a:lnTo>
                    <a:pt x="17" y="975"/>
                  </a:lnTo>
                  <a:lnTo>
                    <a:pt x="35" y="962"/>
                  </a:lnTo>
                  <a:lnTo>
                    <a:pt x="61" y="935"/>
                  </a:lnTo>
                  <a:lnTo>
                    <a:pt x="97" y="904"/>
                  </a:lnTo>
                  <a:lnTo>
                    <a:pt x="124" y="865"/>
                  </a:lnTo>
                  <a:lnTo>
                    <a:pt x="168" y="816"/>
                  </a:lnTo>
                  <a:lnTo>
                    <a:pt x="203" y="768"/>
                  </a:lnTo>
                  <a:lnTo>
                    <a:pt x="239" y="702"/>
                  </a:lnTo>
                  <a:lnTo>
                    <a:pt x="278" y="631"/>
                  </a:lnTo>
                  <a:lnTo>
                    <a:pt x="314" y="552"/>
                  </a:lnTo>
                  <a:lnTo>
                    <a:pt x="350" y="458"/>
                  </a:lnTo>
                  <a:lnTo>
                    <a:pt x="376" y="352"/>
                  </a:lnTo>
                  <a:lnTo>
                    <a:pt x="403" y="251"/>
                  </a:lnTo>
                  <a:lnTo>
                    <a:pt x="412" y="127"/>
                  </a:lnTo>
                  <a:lnTo>
                    <a:pt x="42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2886120" y="4255920"/>
              <a:ext cx="31680" cy="414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33720" y="3914640"/>
              <a:ext cx="5076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73240" y="3594240"/>
              <a:ext cx="74880" cy="321120"/>
            </a:xfrm>
            <a:custGeom>
              <a:avLst/>
              <a:gdLst/>
              <a:ahLst/>
              <a:rect l="0" t="0" r="r" b="b"/>
              <a:pathLst>
                <a:path fill="none" w="208" h="892">
                  <a:moveTo>
                    <a:pt x="208" y="892"/>
                  </a:moveTo>
                  <a:lnTo>
                    <a:pt x="208" y="764"/>
                  </a:lnTo>
                  <a:lnTo>
                    <a:pt x="208" y="640"/>
                  </a:lnTo>
                  <a:lnTo>
                    <a:pt x="199" y="538"/>
                  </a:lnTo>
                  <a:lnTo>
                    <a:pt x="181" y="441"/>
                  </a:lnTo>
                  <a:lnTo>
                    <a:pt x="172" y="362"/>
                  </a:lnTo>
                  <a:lnTo>
                    <a:pt x="155" y="283"/>
                  </a:lnTo>
                  <a:lnTo>
                    <a:pt x="124" y="225"/>
                  </a:lnTo>
                  <a:lnTo>
                    <a:pt x="111" y="171"/>
                  </a:lnTo>
                  <a:lnTo>
                    <a:pt x="88" y="119"/>
                  </a:lnTo>
                  <a:lnTo>
                    <a:pt x="70" y="88"/>
                  </a:lnTo>
                  <a:lnTo>
                    <a:pt x="48" y="57"/>
                  </a:lnTo>
                  <a:lnTo>
                    <a:pt x="35" y="30"/>
                  </a:lnTo>
                  <a:lnTo>
                    <a:pt x="17" y="17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960640" y="3578400"/>
              <a:ext cx="25560" cy="28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60560" y="3438360"/>
              <a:ext cx="192600" cy="217800"/>
            </a:xfrm>
            <a:custGeom>
              <a:avLst/>
              <a:gdLst/>
              <a:ahLst/>
              <a:rect l="0" t="0" r="r" b="b"/>
              <a:pathLst>
                <a:path w="535" h="605">
                  <a:moveTo>
                    <a:pt x="327" y="450"/>
                  </a:moveTo>
                  <a:lnTo>
                    <a:pt x="353" y="433"/>
                  </a:lnTo>
                  <a:lnTo>
                    <a:pt x="380" y="424"/>
                  </a:lnTo>
                  <a:lnTo>
                    <a:pt x="397" y="406"/>
                  </a:lnTo>
                  <a:lnTo>
                    <a:pt x="425" y="402"/>
                  </a:lnTo>
                  <a:lnTo>
                    <a:pt x="438" y="393"/>
                  </a:lnTo>
                  <a:lnTo>
                    <a:pt x="456" y="393"/>
                  </a:lnTo>
                  <a:lnTo>
                    <a:pt x="473" y="393"/>
                  </a:lnTo>
                  <a:lnTo>
                    <a:pt x="482" y="393"/>
                  </a:lnTo>
                  <a:lnTo>
                    <a:pt x="500" y="393"/>
                  </a:lnTo>
                  <a:lnTo>
                    <a:pt x="504" y="393"/>
                  </a:lnTo>
                  <a:lnTo>
                    <a:pt x="517" y="393"/>
                  </a:lnTo>
                  <a:lnTo>
                    <a:pt x="526" y="393"/>
                  </a:lnTo>
                  <a:lnTo>
                    <a:pt x="526" y="402"/>
                  </a:lnTo>
                  <a:lnTo>
                    <a:pt x="535" y="402"/>
                  </a:lnTo>
                  <a:lnTo>
                    <a:pt x="0" y="0"/>
                  </a:lnTo>
                  <a:lnTo>
                    <a:pt x="199" y="605"/>
                  </a:lnTo>
                  <a:lnTo>
                    <a:pt x="190" y="596"/>
                  </a:lnTo>
                  <a:lnTo>
                    <a:pt x="190" y="591"/>
                  </a:lnTo>
                  <a:lnTo>
                    <a:pt x="199" y="578"/>
                  </a:lnTo>
                  <a:lnTo>
                    <a:pt x="199" y="574"/>
                  </a:lnTo>
                  <a:lnTo>
                    <a:pt x="199" y="565"/>
                  </a:lnTo>
                  <a:lnTo>
                    <a:pt x="199" y="561"/>
                  </a:lnTo>
                  <a:lnTo>
                    <a:pt x="203" y="547"/>
                  </a:lnTo>
                  <a:lnTo>
                    <a:pt x="212" y="534"/>
                  </a:lnTo>
                  <a:lnTo>
                    <a:pt x="225" y="530"/>
                  </a:lnTo>
                  <a:lnTo>
                    <a:pt x="239" y="512"/>
                  </a:lnTo>
                  <a:lnTo>
                    <a:pt x="256" y="494"/>
                  </a:lnTo>
                  <a:lnTo>
                    <a:pt x="278" y="477"/>
                  </a:lnTo>
                  <a:lnTo>
                    <a:pt x="300" y="464"/>
                  </a:lnTo>
                  <a:lnTo>
                    <a:pt x="327" y="4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4360" y="3427560"/>
              <a:ext cx="170280" cy="351360"/>
            </a:xfrm>
            <a:custGeom>
              <a:avLst/>
              <a:gdLst/>
              <a:ahLst/>
              <a:rect l="0" t="0" r="r" b="b"/>
              <a:pathLst>
                <a:path fill="none" w="473" h="976">
                  <a:moveTo>
                    <a:pt x="473" y="0"/>
                  </a:moveTo>
                  <a:lnTo>
                    <a:pt x="473" y="8"/>
                  </a:lnTo>
                  <a:lnTo>
                    <a:pt x="456" y="17"/>
                  </a:lnTo>
                  <a:lnTo>
                    <a:pt x="438" y="30"/>
                  </a:lnTo>
                  <a:lnTo>
                    <a:pt x="412" y="57"/>
                  </a:lnTo>
                  <a:lnTo>
                    <a:pt x="376" y="88"/>
                  </a:lnTo>
                  <a:lnTo>
                    <a:pt x="340" y="119"/>
                  </a:lnTo>
                  <a:lnTo>
                    <a:pt x="305" y="167"/>
                  </a:lnTo>
                  <a:lnTo>
                    <a:pt x="256" y="224"/>
                  </a:lnTo>
                  <a:lnTo>
                    <a:pt x="217" y="283"/>
                  </a:lnTo>
                  <a:lnTo>
                    <a:pt x="181" y="353"/>
                  </a:lnTo>
                  <a:lnTo>
                    <a:pt x="133" y="433"/>
                  </a:lnTo>
                  <a:lnTo>
                    <a:pt x="97" y="521"/>
                  </a:lnTo>
                  <a:lnTo>
                    <a:pt x="61" y="622"/>
                  </a:lnTo>
                  <a:lnTo>
                    <a:pt x="35" y="724"/>
                  </a:lnTo>
                  <a:lnTo>
                    <a:pt x="17" y="848"/>
                  </a:lnTo>
                  <a:lnTo>
                    <a:pt x="0" y="976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81040" y="3417840"/>
              <a:ext cx="25560" cy="396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293840" y="3778200"/>
              <a:ext cx="5544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11120" y="3778200"/>
              <a:ext cx="57600" cy="325800"/>
            </a:xfrm>
            <a:custGeom>
              <a:avLst/>
              <a:gdLst/>
              <a:ahLst/>
              <a:rect l="0" t="0" r="r" b="b"/>
              <a:pathLst>
                <a:path fill="none" w="160" h="905">
                  <a:moveTo>
                    <a:pt x="4" y="0"/>
                  </a:moveTo>
                  <a:lnTo>
                    <a:pt x="0" y="127"/>
                  </a:lnTo>
                  <a:lnTo>
                    <a:pt x="0" y="243"/>
                  </a:lnTo>
                  <a:lnTo>
                    <a:pt x="0" y="353"/>
                  </a:lnTo>
                  <a:lnTo>
                    <a:pt x="4" y="455"/>
                  </a:lnTo>
                  <a:lnTo>
                    <a:pt x="17" y="534"/>
                  </a:lnTo>
                  <a:lnTo>
                    <a:pt x="35" y="609"/>
                  </a:lnTo>
                  <a:lnTo>
                    <a:pt x="39" y="671"/>
                  </a:lnTo>
                  <a:lnTo>
                    <a:pt x="62" y="729"/>
                  </a:lnTo>
                  <a:lnTo>
                    <a:pt x="80" y="778"/>
                  </a:lnTo>
                  <a:lnTo>
                    <a:pt x="98" y="817"/>
                  </a:lnTo>
                  <a:lnTo>
                    <a:pt x="115" y="848"/>
                  </a:lnTo>
                  <a:lnTo>
                    <a:pt x="134" y="875"/>
                  </a:lnTo>
                  <a:lnTo>
                    <a:pt x="143" y="888"/>
                  </a:lnTo>
                  <a:lnTo>
                    <a:pt x="151" y="897"/>
                  </a:lnTo>
                  <a:lnTo>
                    <a:pt x="160" y="905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360440" y="4094280"/>
              <a:ext cx="27000" cy="237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4120" y="4037040"/>
              <a:ext cx="179640" cy="217800"/>
            </a:xfrm>
            <a:custGeom>
              <a:avLst/>
              <a:gdLst/>
              <a:ahLst/>
              <a:rect l="0" t="0" r="r" b="b"/>
              <a:pathLst>
                <a:path w="499" h="605">
                  <a:moveTo>
                    <a:pt x="207" y="145"/>
                  </a:moveTo>
                  <a:lnTo>
                    <a:pt x="171" y="154"/>
                  </a:lnTo>
                  <a:lnTo>
                    <a:pt x="145" y="171"/>
                  </a:lnTo>
                  <a:lnTo>
                    <a:pt x="127" y="180"/>
                  </a:lnTo>
                  <a:lnTo>
                    <a:pt x="101" y="185"/>
                  </a:lnTo>
                  <a:lnTo>
                    <a:pt x="83" y="194"/>
                  </a:lnTo>
                  <a:lnTo>
                    <a:pt x="70" y="194"/>
                  </a:lnTo>
                  <a:lnTo>
                    <a:pt x="48" y="194"/>
                  </a:lnTo>
                  <a:lnTo>
                    <a:pt x="44" y="194"/>
                  </a:lnTo>
                  <a:lnTo>
                    <a:pt x="26" y="194"/>
                  </a:lnTo>
                  <a:lnTo>
                    <a:pt x="13" y="194"/>
                  </a:lnTo>
                  <a:lnTo>
                    <a:pt x="8" y="194"/>
                  </a:lnTo>
                  <a:lnTo>
                    <a:pt x="8" y="185"/>
                  </a:lnTo>
                  <a:lnTo>
                    <a:pt x="0" y="185"/>
                  </a:lnTo>
                  <a:lnTo>
                    <a:pt x="499" y="605"/>
                  </a:lnTo>
                  <a:lnTo>
                    <a:pt x="344" y="0"/>
                  </a:lnTo>
                  <a:lnTo>
                    <a:pt x="344" y="8"/>
                  </a:lnTo>
                  <a:lnTo>
                    <a:pt x="331" y="13"/>
                  </a:lnTo>
                  <a:lnTo>
                    <a:pt x="331" y="26"/>
                  </a:lnTo>
                  <a:lnTo>
                    <a:pt x="331" y="30"/>
                  </a:lnTo>
                  <a:lnTo>
                    <a:pt x="327" y="39"/>
                  </a:lnTo>
                  <a:lnTo>
                    <a:pt x="318" y="52"/>
                  </a:lnTo>
                  <a:lnTo>
                    <a:pt x="309" y="61"/>
                  </a:lnTo>
                  <a:lnTo>
                    <a:pt x="300" y="70"/>
                  </a:lnTo>
                  <a:lnTo>
                    <a:pt x="283" y="83"/>
                  </a:lnTo>
                  <a:lnTo>
                    <a:pt x="274" y="101"/>
                  </a:lnTo>
                  <a:lnTo>
                    <a:pt x="252" y="114"/>
                  </a:lnTo>
                  <a:lnTo>
                    <a:pt x="229" y="123"/>
                  </a:lnTo>
                  <a:lnTo>
                    <a:pt x="207" y="1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32320" y="4648320"/>
              <a:ext cx="80316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19560" y="4579920"/>
              <a:ext cx="238320" cy="125640"/>
            </a:xfrm>
            <a:custGeom>
              <a:avLst/>
              <a:gdLst/>
              <a:ahLst/>
              <a:rect l="0" t="0" r="r" b="b"/>
              <a:pathLst>
                <a:path w="662" h="349">
                  <a:moveTo>
                    <a:pt x="591" y="171"/>
                  </a:moveTo>
                  <a:lnTo>
                    <a:pt x="591" y="199"/>
                  </a:lnTo>
                  <a:lnTo>
                    <a:pt x="591" y="225"/>
                  </a:lnTo>
                  <a:lnTo>
                    <a:pt x="600" y="243"/>
                  </a:lnTo>
                  <a:lnTo>
                    <a:pt x="600" y="269"/>
                  </a:lnTo>
                  <a:lnTo>
                    <a:pt x="609" y="283"/>
                  </a:lnTo>
                  <a:lnTo>
                    <a:pt x="609" y="296"/>
                  </a:lnTo>
                  <a:lnTo>
                    <a:pt x="618" y="309"/>
                  </a:lnTo>
                  <a:lnTo>
                    <a:pt x="627" y="318"/>
                  </a:lnTo>
                  <a:lnTo>
                    <a:pt x="636" y="327"/>
                  </a:lnTo>
                  <a:lnTo>
                    <a:pt x="636" y="336"/>
                  </a:lnTo>
                  <a:lnTo>
                    <a:pt x="644" y="336"/>
                  </a:lnTo>
                  <a:lnTo>
                    <a:pt x="653" y="340"/>
                  </a:lnTo>
                  <a:lnTo>
                    <a:pt x="662" y="340"/>
                  </a:lnTo>
                  <a:lnTo>
                    <a:pt x="662" y="349"/>
                  </a:lnTo>
                  <a:lnTo>
                    <a:pt x="0" y="177"/>
                  </a:lnTo>
                  <a:lnTo>
                    <a:pt x="662" y="0"/>
                  </a:lnTo>
                  <a:lnTo>
                    <a:pt x="653" y="8"/>
                  </a:lnTo>
                  <a:lnTo>
                    <a:pt x="644" y="8"/>
                  </a:lnTo>
                  <a:lnTo>
                    <a:pt x="636" y="17"/>
                  </a:lnTo>
                  <a:lnTo>
                    <a:pt x="636" y="22"/>
                  </a:lnTo>
                  <a:lnTo>
                    <a:pt x="627" y="30"/>
                  </a:lnTo>
                  <a:lnTo>
                    <a:pt x="618" y="39"/>
                  </a:lnTo>
                  <a:lnTo>
                    <a:pt x="609" y="52"/>
                  </a:lnTo>
                  <a:lnTo>
                    <a:pt x="609" y="66"/>
                  </a:lnTo>
                  <a:lnTo>
                    <a:pt x="600" y="79"/>
                  </a:lnTo>
                  <a:lnTo>
                    <a:pt x="600" y="97"/>
                  </a:lnTo>
                  <a:lnTo>
                    <a:pt x="591" y="119"/>
                  </a:lnTo>
                  <a:lnTo>
                    <a:pt x="591" y="149"/>
                  </a:lnTo>
                  <a:lnTo>
                    <a:pt x="591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9320" y="830160"/>
              <a:ext cx="8166240" cy="550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1430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btaining capital from owners and cred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aying creditors and a return to ow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pending the capital it receives in ways that are productive and will help the business achieve its objec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ying and selling assets to be used in the bus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97000" y="228600"/>
            <a:ext cx="741348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066680" y="1676520"/>
            <a:ext cx="72946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of goods and services to custo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mploying managers and workers, buying and producing goods and services, and paying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19320" y="182880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cate whether managers are achieving the business goals and if they are managing business activitie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66680" y="5176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rformance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066680" y="1523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formance measure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arned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 of expenses to reven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 of money owed to total resources control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should understand these meas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66680" y="517680"/>
            <a:ext cx="76960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rformance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57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hapter 1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Uses of Accounting Information and the Financial Stat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66880"/>
            <a:ext cx="5105520" cy="35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48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8080" y="990720"/>
            <a:ext cx="7772400" cy="15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and Management Accounting</a:t>
            </a:r>
            <a:br>
              <a:rPr sz="1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400" y="167652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’s role of assisting decision makers by measuring, processing, and communicating information is usually divided into two categories: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accounting.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wo may be distinguished by the principal users of their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143000" y="144792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oriented toward the needs of internal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es managers and employees with information regarding how they have done in the past and what they can expect in the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38080" y="30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6668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oriented toward the needs of external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es information in the form of financial statements so that external decision makers can evaluate how well the business has achieved its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66680" y="3049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66680" y="14479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report directly on the goals of profitability and liquid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used extensively both inside and outside a business to evaluate the business’s 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447920" y="304920"/>
            <a:ext cx="680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ing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9320" y="2590920"/>
            <a:ext cx="708660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okkeep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s the mechanical and repetitive process of recording financial transactions and keeping financial reco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okkeeping is a small part of accoun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95280" y="1981080"/>
            <a:ext cx="6978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versus bookkee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523880" y="3049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ing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2362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includes the design of an information system that meets user’s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goals are the analysis, interpretation, and use of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rs are used extensively in accounting as a tool for the accoun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1752480"/>
            <a:ext cx="69278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versus bookkee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907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’s many information needs are organized into 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Information System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(MI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 MIS consists of various interconnected sub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ccounting Information System (AIS) is the most important sub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43000" y="457200"/>
            <a:ext cx="7184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ing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8080" y="243828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difference betwe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abilit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liquid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ability means earning enoug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to attract and hol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 capi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quidity means being able to pa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s when they fall d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676520" y="99072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53080" y="304920"/>
            <a:ext cx="2132640" cy="2055960"/>
            <a:chOff x="6553080" y="304920"/>
            <a:chExt cx="2132640" cy="2055960"/>
          </a:xfrm>
        </p:grpSpPr>
        <p:sp>
          <p:nvSpPr>
            <p:cNvPr id="215" name=""/>
            <p:cNvSpPr/>
            <p:nvPr/>
          </p:nvSpPr>
          <p:spPr>
            <a:xfrm>
              <a:off x="6559560" y="131436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8" y="0"/>
                  </a:moveTo>
                  <a:lnTo>
                    <a:pt x="499" y="88"/>
                  </a:lnTo>
                  <a:lnTo>
                    <a:pt x="499" y="348"/>
                  </a:lnTo>
                  <a:lnTo>
                    <a:pt x="578" y="533"/>
                  </a:lnTo>
                  <a:lnTo>
                    <a:pt x="658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9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1"/>
                  </a:lnTo>
                  <a:lnTo>
                    <a:pt x="362" y="1345"/>
                  </a:lnTo>
                  <a:lnTo>
                    <a:pt x="446" y="1235"/>
                  </a:lnTo>
                  <a:lnTo>
                    <a:pt x="499" y="1403"/>
                  </a:lnTo>
                  <a:lnTo>
                    <a:pt x="464" y="1588"/>
                  </a:lnTo>
                  <a:lnTo>
                    <a:pt x="321" y="1848"/>
                  </a:lnTo>
                  <a:lnTo>
                    <a:pt x="362" y="1910"/>
                  </a:lnTo>
                  <a:lnTo>
                    <a:pt x="446" y="1892"/>
                  </a:lnTo>
                  <a:lnTo>
                    <a:pt x="622" y="1756"/>
                  </a:lnTo>
                  <a:lnTo>
                    <a:pt x="763" y="1522"/>
                  </a:lnTo>
                  <a:lnTo>
                    <a:pt x="763" y="1928"/>
                  </a:lnTo>
                  <a:lnTo>
                    <a:pt x="935" y="1994"/>
                  </a:lnTo>
                  <a:lnTo>
                    <a:pt x="1041" y="1747"/>
                  </a:lnTo>
                  <a:lnTo>
                    <a:pt x="1126" y="1980"/>
                  </a:lnTo>
                  <a:lnTo>
                    <a:pt x="1197" y="1910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41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58" y="4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94440" y="1604880"/>
              <a:ext cx="151200" cy="349560"/>
            </a:xfrm>
            <a:custGeom>
              <a:avLst/>
              <a:gdLst/>
              <a:ahLst/>
              <a:rect l="0" t="0" r="r" b="b"/>
              <a:pathLst>
                <a:path w="420" h="971">
                  <a:moveTo>
                    <a:pt x="208" y="0"/>
                  </a:moveTo>
                  <a:lnTo>
                    <a:pt x="420" y="255"/>
                  </a:lnTo>
                  <a:lnTo>
                    <a:pt x="314" y="794"/>
                  </a:lnTo>
                  <a:lnTo>
                    <a:pt x="0" y="971"/>
                  </a:lnTo>
                  <a:lnTo>
                    <a:pt x="0" y="697"/>
                  </a:lnTo>
                  <a:lnTo>
                    <a:pt x="128" y="414"/>
                  </a:lnTo>
                  <a:lnTo>
                    <a:pt x="208" y="20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85160" y="140508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41" y="0"/>
                  </a:moveTo>
                  <a:lnTo>
                    <a:pt x="441" y="136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6" y="860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48"/>
                  </a:lnTo>
                  <a:lnTo>
                    <a:pt x="238" y="17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39240" y="1049400"/>
              <a:ext cx="533880" cy="694080"/>
            </a:xfrm>
            <a:custGeom>
              <a:avLst/>
              <a:gdLst/>
              <a:ahLst/>
              <a:rect l="0" t="0" r="r" b="b"/>
              <a:pathLst>
                <a:path w="1483" h="1928">
                  <a:moveTo>
                    <a:pt x="132" y="820"/>
                  </a:moveTo>
                  <a:lnTo>
                    <a:pt x="0" y="952"/>
                  </a:lnTo>
                  <a:lnTo>
                    <a:pt x="26" y="1266"/>
                  </a:lnTo>
                  <a:lnTo>
                    <a:pt x="233" y="1416"/>
                  </a:lnTo>
                  <a:lnTo>
                    <a:pt x="251" y="1892"/>
                  </a:lnTo>
                  <a:lnTo>
                    <a:pt x="464" y="1892"/>
                  </a:lnTo>
                  <a:lnTo>
                    <a:pt x="446" y="1491"/>
                  </a:lnTo>
                  <a:lnTo>
                    <a:pt x="600" y="1910"/>
                  </a:lnTo>
                  <a:lnTo>
                    <a:pt x="706" y="1928"/>
                  </a:lnTo>
                  <a:lnTo>
                    <a:pt x="777" y="1786"/>
                  </a:lnTo>
                  <a:lnTo>
                    <a:pt x="794" y="1522"/>
                  </a:lnTo>
                  <a:lnTo>
                    <a:pt x="1019" y="1769"/>
                  </a:lnTo>
                  <a:lnTo>
                    <a:pt x="1113" y="1751"/>
                  </a:lnTo>
                  <a:lnTo>
                    <a:pt x="1090" y="1579"/>
                  </a:lnTo>
                  <a:lnTo>
                    <a:pt x="1006" y="1337"/>
                  </a:lnTo>
                  <a:lnTo>
                    <a:pt x="913" y="1178"/>
                  </a:lnTo>
                  <a:lnTo>
                    <a:pt x="949" y="1068"/>
                  </a:lnTo>
                  <a:lnTo>
                    <a:pt x="1006" y="1081"/>
                  </a:lnTo>
                  <a:lnTo>
                    <a:pt x="1214" y="1337"/>
                  </a:lnTo>
                  <a:lnTo>
                    <a:pt x="1435" y="1394"/>
                  </a:lnTo>
                  <a:lnTo>
                    <a:pt x="1483" y="1315"/>
                  </a:lnTo>
                  <a:lnTo>
                    <a:pt x="1452" y="1187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2" y="463"/>
                  </a:lnTo>
                  <a:lnTo>
                    <a:pt x="777" y="268"/>
                  </a:lnTo>
                  <a:lnTo>
                    <a:pt x="777" y="61"/>
                  </a:lnTo>
                  <a:lnTo>
                    <a:pt x="688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45"/>
                  </a:lnTo>
                  <a:lnTo>
                    <a:pt x="132" y="82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62640" y="45072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07"/>
                  </a:lnTo>
                  <a:lnTo>
                    <a:pt x="17" y="904"/>
                  </a:lnTo>
                  <a:lnTo>
                    <a:pt x="92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9" y="2017"/>
                  </a:lnTo>
                  <a:lnTo>
                    <a:pt x="440" y="2250"/>
                  </a:lnTo>
                  <a:lnTo>
                    <a:pt x="771" y="2453"/>
                  </a:lnTo>
                  <a:lnTo>
                    <a:pt x="1103" y="2422"/>
                  </a:lnTo>
                  <a:lnTo>
                    <a:pt x="1257" y="2017"/>
                  </a:lnTo>
                  <a:lnTo>
                    <a:pt x="1293" y="1394"/>
                  </a:lnTo>
                  <a:lnTo>
                    <a:pt x="1619" y="1085"/>
                  </a:lnTo>
                  <a:lnTo>
                    <a:pt x="1606" y="962"/>
                  </a:lnTo>
                  <a:lnTo>
                    <a:pt x="1570" y="904"/>
                  </a:lnTo>
                  <a:lnTo>
                    <a:pt x="1394" y="887"/>
                  </a:lnTo>
                  <a:lnTo>
                    <a:pt x="1451" y="728"/>
                  </a:lnTo>
                  <a:lnTo>
                    <a:pt x="1279" y="622"/>
                  </a:lnTo>
                  <a:lnTo>
                    <a:pt x="1209" y="268"/>
                  </a:lnTo>
                  <a:lnTo>
                    <a:pt x="705" y="0"/>
                  </a:lnTo>
                  <a:lnTo>
                    <a:pt x="440" y="251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05840" y="1189080"/>
              <a:ext cx="533880" cy="1054440"/>
            </a:xfrm>
            <a:custGeom>
              <a:avLst/>
              <a:gdLst/>
              <a:ahLst/>
              <a:rect l="0" t="0" r="r" b="b"/>
              <a:pathLst>
                <a:path w="1483" h="2929">
                  <a:moveTo>
                    <a:pt x="299" y="154"/>
                  </a:moveTo>
                  <a:lnTo>
                    <a:pt x="512" y="291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0" y="1901"/>
                  </a:lnTo>
                  <a:lnTo>
                    <a:pt x="1192" y="2646"/>
                  </a:lnTo>
                  <a:lnTo>
                    <a:pt x="631" y="2929"/>
                  </a:lnTo>
                  <a:lnTo>
                    <a:pt x="198" y="2770"/>
                  </a:lnTo>
                  <a:lnTo>
                    <a:pt x="198" y="1980"/>
                  </a:lnTo>
                  <a:lnTo>
                    <a:pt x="0" y="1217"/>
                  </a:lnTo>
                  <a:lnTo>
                    <a:pt x="198" y="291"/>
                  </a:lnTo>
                  <a:lnTo>
                    <a:pt x="299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27800" y="333360"/>
              <a:ext cx="498960" cy="279720"/>
            </a:xfrm>
            <a:custGeom>
              <a:avLst/>
              <a:gdLst/>
              <a:ahLst/>
              <a:rect l="0" t="0" r="r" b="b"/>
              <a:pathLst>
                <a:path w="1386" h="777">
                  <a:moveTo>
                    <a:pt x="167" y="741"/>
                  </a:moveTo>
                  <a:lnTo>
                    <a:pt x="375" y="534"/>
                  </a:lnTo>
                  <a:lnTo>
                    <a:pt x="503" y="503"/>
                  </a:lnTo>
                  <a:lnTo>
                    <a:pt x="503" y="521"/>
                  </a:lnTo>
                  <a:lnTo>
                    <a:pt x="569" y="503"/>
                  </a:lnTo>
                  <a:lnTo>
                    <a:pt x="658" y="569"/>
                  </a:lnTo>
                  <a:lnTo>
                    <a:pt x="816" y="596"/>
                  </a:lnTo>
                  <a:lnTo>
                    <a:pt x="949" y="777"/>
                  </a:lnTo>
                  <a:lnTo>
                    <a:pt x="1166" y="697"/>
                  </a:lnTo>
                  <a:lnTo>
                    <a:pt x="1166" y="613"/>
                  </a:lnTo>
                  <a:lnTo>
                    <a:pt x="1386" y="521"/>
                  </a:lnTo>
                  <a:lnTo>
                    <a:pt x="1320" y="374"/>
                  </a:lnTo>
                  <a:lnTo>
                    <a:pt x="1117" y="361"/>
                  </a:lnTo>
                  <a:lnTo>
                    <a:pt x="1148" y="202"/>
                  </a:lnTo>
                  <a:lnTo>
                    <a:pt x="971" y="220"/>
                  </a:lnTo>
                  <a:lnTo>
                    <a:pt x="940" y="110"/>
                  </a:lnTo>
                  <a:lnTo>
                    <a:pt x="816" y="110"/>
                  </a:lnTo>
                  <a:lnTo>
                    <a:pt x="728" y="171"/>
                  </a:lnTo>
                  <a:lnTo>
                    <a:pt x="658" y="171"/>
                  </a:lnTo>
                  <a:lnTo>
                    <a:pt x="671" y="0"/>
                  </a:lnTo>
                  <a:lnTo>
                    <a:pt x="503" y="79"/>
                  </a:lnTo>
                  <a:lnTo>
                    <a:pt x="268" y="361"/>
                  </a:lnTo>
                  <a:lnTo>
                    <a:pt x="260" y="171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7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0" y="1384200"/>
              <a:ext cx="159120" cy="798840"/>
            </a:xfrm>
            <a:custGeom>
              <a:avLst/>
              <a:gdLst/>
              <a:ahLst/>
              <a:rect l="0" t="0" r="r" b="b"/>
              <a:pathLst>
                <a:path w="442" h="2219">
                  <a:moveTo>
                    <a:pt x="225" y="13"/>
                  </a:moveTo>
                  <a:lnTo>
                    <a:pt x="79" y="110"/>
                  </a:lnTo>
                  <a:lnTo>
                    <a:pt x="79" y="295"/>
                  </a:lnTo>
                  <a:lnTo>
                    <a:pt x="18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1" y="1553"/>
                  </a:lnTo>
                  <a:lnTo>
                    <a:pt x="111" y="1764"/>
                  </a:lnTo>
                  <a:lnTo>
                    <a:pt x="48" y="1932"/>
                  </a:lnTo>
                  <a:lnTo>
                    <a:pt x="283" y="2219"/>
                  </a:lnTo>
                  <a:lnTo>
                    <a:pt x="429" y="1786"/>
                  </a:lnTo>
                  <a:lnTo>
                    <a:pt x="429" y="1487"/>
                  </a:lnTo>
                  <a:lnTo>
                    <a:pt x="318" y="1209"/>
                  </a:lnTo>
                  <a:lnTo>
                    <a:pt x="261" y="837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1"/>
                  </a:lnTo>
                  <a:lnTo>
                    <a:pt x="429" y="154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56320" y="1116000"/>
              <a:ext cx="128880" cy="73440"/>
            </a:xfrm>
            <a:custGeom>
              <a:avLst/>
              <a:gdLst/>
              <a:ahLst/>
              <a:rect l="0" t="0" r="r" b="b"/>
              <a:pathLst>
                <a:path w="358" h="204">
                  <a:moveTo>
                    <a:pt x="0" y="67"/>
                  </a:moveTo>
                  <a:lnTo>
                    <a:pt x="141" y="204"/>
                  </a:lnTo>
                  <a:lnTo>
                    <a:pt x="283" y="191"/>
                  </a:lnTo>
                  <a:lnTo>
                    <a:pt x="358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6640" y="747720"/>
              <a:ext cx="160560" cy="155880"/>
            </a:xfrm>
            <a:custGeom>
              <a:avLst/>
              <a:gdLst/>
              <a:ahLst/>
              <a:rect l="0" t="0" r="r" b="b"/>
              <a:pathLst>
                <a:path w="446" h="433">
                  <a:moveTo>
                    <a:pt x="0" y="48"/>
                  </a:moveTo>
                  <a:lnTo>
                    <a:pt x="309" y="433"/>
                  </a:lnTo>
                  <a:lnTo>
                    <a:pt x="446" y="402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96360" y="714240"/>
              <a:ext cx="138600" cy="155880"/>
            </a:xfrm>
            <a:custGeom>
              <a:avLst/>
              <a:gdLst/>
              <a:ahLst/>
              <a:rect l="0" t="0" r="r" b="b"/>
              <a:pathLst>
                <a:path w="385" h="433">
                  <a:moveTo>
                    <a:pt x="0" y="57"/>
                  </a:moveTo>
                  <a:lnTo>
                    <a:pt x="265" y="433"/>
                  </a:lnTo>
                  <a:lnTo>
                    <a:pt x="385" y="336"/>
                  </a:lnTo>
                  <a:lnTo>
                    <a:pt x="106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59760" y="512640"/>
              <a:ext cx="554400" cy="390960"/>
            </a:xfrm>
            <a:custGeom>
              <a:avLst/>
              <a:gdLst/>
              <a:ahLst/>
              <a:rect l="0" t="0" r="r" b="b"/>
              <a:pathLst>
                <a:path w="1540" h="1086">
                  <a:moveTo>
                    <a:pt x="710" y="644"/>
                  </a:moveTo>
                  <a:lnTo>
                    <a:pt x="565" y="605"/>
                  </a:lnTo>
                  <a:lnTo>
                    <a:pt x="684" y="508"/>
                  </a:lnTo>
                  <a:lnTo>
                    <a:pt x="644" y="455"/>
                  </a:lnTo>
                  <a:lnTo>
                    <a:pt x="486" y="583"/>
                  </a:lnTo>
                  <a:lnTo>
                    <a:pt x="189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5" y="1077"/>
                  </a:lnTo>
                  <a:lnTo>
                    <a:pt x="229" y="1086"/>
                  </a:lnTo>
                  <a:lnTo>
                    <a:pt x="61" y="750"/>
                  </a:lnTo>
                  <a:lnTo>
                    <a:pt x="317" y="644"/>
                  </a:lnTo>
                  <a:lnTo>
                    <a:pt x="486" y="644"/>
                  </a:lnTo>
                  <a:lnTo>
                    <a:pt x="613" y="710"/>
                  </a:lnTo>
                  <a:lnTo>
                    <a:pt x="644" y="803"/>
                  </a:lnTo>
                  <a:lnTo>
                    <a:pt x="644" y="1011"/>
                  </a:lnTo>
                  <a:lnTo>
                    <a:pt x="644" y="1077"/>
                  </a:lnTo>
                  <a:lnTo>
                    <a:pt x="719" y="980"/>
                  </a:lnTo>
                  <a:lnTo>
                    <a:pt x="719" y="763"/>
                  </a:lnTo>
                  <a:lnTo>
                    <a:pt x="825" y="763"/>
                  </a:lnTo>
                  <a:lnTo>
                    <a:pt x="878" y="1011"/>
                  </a:lnTo>
                  <a:lnTo>
                    <a:pt x="935" y="1033"/>
                  </a:lnTo>
                  <a:lnTo>
                    <a:pt x="1125" y="1033"/>
                  </a:lnTo>
                  <a:lnTo>
                    <a:pt x="1316" y="994"/>
                  </a:lnTo>
                  <a:lnTo>
                    <a:pt x="1448" y="897"/>
                  </a:lnTo>
                  <a:lnTo>
                    <a:pt x="1466" y="675"/>
                  </a:lnTo>
                  <a:lnTo>
                    <a:pt x="1540" y="583"/>
                  </a:lnTo>
                  <a:lnTo>
                    <a:pt x="1496" y="525"/>
                  </a:lnTo>
                  <a:lnTo>
                    <a:pt x="1324" y="468"/>
                  </a:lnTo>
                  <a:lnTo>
                    <a:pt x="1298" y="242"/>
                  </a:lnTo>
                  <a:lnTo>
                    <a:pt x="1138" y="242"/>
                  </a:lnTo>
                  <a:lnTo>
                    <a:pt x="944" y="0"/>
                  </a:lnTo>
                  <a:lnTo>
                    <a:pt x="1121" y="268"/>
                  </a:lnTo>
                  <a:lnTo>
                    <a:pt x="1174" y="268"/>
                  </a:lnTo>
                  <a:lnTo>
                    <a:pt x="1210" y="455"/>
                  </a:lnTo>
                  <a:lnTo>
                    <a:pt x="997" y="525"/>
                  </a:lnTo>
                  <a:lnTo>
                    <a:pt x="834" y="472"/>
                  </a:lnTo>
                  <a:lnTo>
                    <a:pt x="812" y="525"/>
                  </a:lnTo>
                  <a:lnTo>
                    <a:pt x="896" y="583"/>
                  </a:lnTo>
                  <a:lnTo>
                    <a:pt x="896" y="636"/>
                  </a:lnTo>
                  <a:lnTo>
                    <a:pt x="1081" y="552"/>
                  </a:lnTo>
                  <a:lnTo>
                    <a:pt x="1241" y="538"/>
                  </a:lnTo>
                  <a:lnTo>
                    <a:pt x="1413" y="561"/>
                  </a:lnTo>
                  <a:lnTo>
                    <a:pt x="1413" y="591"/>
                  </a:lnTo>
                  <a:lnTo>
                    <a:pt x="1329" y="662"/>
                  </a:lnTo>
                  <a:lnTo>
                    <a:pt x="1298" y="763"/>
                  </a:lnTo>
                  <a:lnTo>
                    <a:pt x="1289" y="897"/>
                  </a:lnTo>
                  <a:lnTo>
                    <a:pt x="1188" y="945"/>
                  </a:lnTo>
                  <a:lnTo>
                    <a:pt x="1037" y="967"/>
                  </a:lnTo>
                  <a:lnTo>
                    <a:pt x="935" y="967"/>
                  </a:lnTo>
                  <a:lnTo>
                    <a:pt x="900" y="928"/>
                  </a:lnTo>
                  <a:lnTo>
                    <a:pt x="878" y="675"/>
                  </a:lnTo>
                  <a:lnTo>
                    <a:pt x="719" y="675"/>
                  </a:lnTo>
                  <a:lnTo>
                    <a:pt x="710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50200" y="963720"/>
              <a:ext cx="179640" cy="79560"/>
            </a:xfrm>
            <a:custGeom>
              <a:avLst/>
              <a:gdLst/>
              <a:ahLst/>
              <a:rect l="0" t="0" r="r" b="b"/>
              <a:pathLst>
                <a:path w="499" h="221">
                  <a:moveTo>
                    <a:pt x="0" y="0"/>
                  </a:moveTo>
                  <a:lnTo>
                    <a:pt x="83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81" y="66"/>
                  </a:lnTo>
                  <a:lnTo>
                    <a:pt x="481" y="101"/>
                  </a:lnTo>
                  <a:lnTo>
                    <a:pt x="274" y="221"/>
                  </a:lnTo>
                  <a:lnTo>
                    <a:pt x="163" y="221"/>
                  </a:lnTo>
                  <a:lnTo>
                    <a:pt x="105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50040" y="83520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20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43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88"/>
                  </a:lnTo>
                  <a:lnTo>
                    <a:pt x="291" y="494"/>
                  </a:lnTo>
                  <a:lnTo>
                    <a:pt x="233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9" y="349"/>
                  </a:lnTo>
                  <a:lnTo>
                    <a:pt x="198" y="327"/>
                  </a:lnTo>
                  <a:lnTo>
                    <a:pt x="198" y="114"/>
                  </a:lnTo>
                  <a:lnTo>
                    <a:pt x="282" y="158"/>
                  </a:lnTo>
                  <a:lnTo>
                    <a:pt x="419" y="189"/>
                  </a:lnTo>
                  <a:lnTo>
                    <a:pt x="547" y="180"/>
                  </a:lnTo>
                  <a:lnTo>
                    <a:pt x="666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23120" y="50148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2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4" y="212"/>
                  </a:lnTo>
                  <a:lnTo>
                    <a:pt x="89" y="397"/>
                  </a:lnTo>
                  <a:lnTo>
                    <a:pt x="137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19880" y="30492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58" y="640"/>
                  </a:lnTo>
                  <a:lnTo>
                    <a:pt x="145" y="534"/>
                  </a:lnTo>
                  <a:lnTo>
                    <a:pt x="171" y="348"/>
                  </a:lnTo>
                  <a:lnTo>
                    <a:pt x="268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41"/>
                  </a:lnTo>
                  <a:lnTo>
                    <a:pt x="586" y="273"/>
                  </a:lnTo>
                  <a:lnTo>
                    <a:pt x="758" y="339"/>
                  </a:lnTo>
                  <a:lnTo>
                    <a:pt x="891" y="202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1"/>
                  </a:lnTo>
                  <a:lnTo>
                    <a:pt x="1112" y="348"/>
                  </a:lnTo>
                  <a:lnTo>
                    <a:pt x="1006" y="446"/>
                  </a:lnTo>
                  <a:lnTo>
                    <a:pt x="1359" y="508"/>
                  </a:lnTo>
                  <a:lnTo>
                    <a:pt x="1121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6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16"/>
                  </a:lnTo>
                  <a:lnTo>
                    <a:pt x="1359" y="684"/>
                  </a:lnTo>
                  <a:lnTo>
                    <a:pt x="1531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1"/>
                  </a:lnTo>
                  <a:lnTo>
                    <a:pt x="1165" y="383"/>
                  </a:lnTo>
                  <a:lnTo>
                    <a:pt x="1385" y="251"/>
                  </a:lnTo>
                  <a:lnTo>
                    <a:pt x="984" y="251"/>
                  </a:lnTo>
                  <a:lnTo>
                    <a:pt x="1178" y="123"/>
                  </a:lnTo>
                  <a:lnTo>
                    <a:pt x="882" y="158"/>
                  </a:lnTo>
                  <a:lnTo>
                    <a:pt x="745" y="220"/>
                  </a:lnTo>
                  <a:lnTo>
                    <a:pt x="865" y="0"/>
                  </a:lnTo>
                  <a:lnTo>
                    <a:pt x="511" y="123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3440" y="461880"/>
              <a:ext cx="171720" cy="89280"/>
            </a:xfrm>
            <a:custGeom>
              <a:avLst/>
              <a:gdLst/>
              <a:ahLst/>
              <a:rect l="0" t="0" r="r" b="b"/>
              <a:pathLst>
                <a:path w="477" h="248">
                  <a:moveTo>
                    <a:pt x="0" y="248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8"/>
                  </a:lnTo>
                  <a:lnTo>
                    <a:pt x="296" y="187"/>
                  </a:lnTo>
                  <a:lnTo>
                    <a:pt x="477" y="235"/>
                  </a:lnTo>
                  <a:lnTo>
                    <a:pt x="287" y="204"/>
                  </a:lnTo>
                  <a:lnTo>
                    <a:pt x="229" y="142"/>
                  </a:lnTo>
                  <a:lnTo>
                    <a:pt x="149" y="204"/>
                  </a:lnTo>
                  <a:lnTo>
                    <a:pt x="14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37600" y="1065240"/>
              <a:ext cx="208440" cy="133560"/>
            </a:xfrm>
            <a:custGeom>
              <a:avLst/>
              <a:gdLst/>
              <a:ahLst/>
              <a:rect l="0" t="0" r="r" b="b"/>
              <a:pathLst>
                <a:path w="579" h="371">
                  <a:moveTo>
                    <a:pt x="110" y="127"/>
                  </a:moveTo>
                  <a:lnTo>
                    <a:pt x="344" y="110"/>
                  </a:lnTo>
                  <a:lnTo>
                    <a:pt x="460" y="141"/>
                  </a:lnTo>
                  <a:lnTo>
                    <a:pt x="517" y="83"/>
                  </a:lnTo>
                  <a:lnTo>
                    <a:pt x="579" y="203"/>
                  </a:lnTo>
                  <a:lnTo>
                    <a:pt x="539" y="230"/>
                  </a:lnTo>
                  <a:lnTo>
                    <a:pt x="491" y="186"/>
                  </a:lnTo>
                  <a:lnTo>
                    <a:pt x="415" y="269"/>
                  </a:lnTo>
                  <a:lnTo>
                    <a:pt x="269" y="371"/>
                  </a:lnTo>
                  <a:lnTo>
                    <a:pt x="203" y="371"/>
                  </a:lnTo>
                  <a:lnTo>
                    <a:pt x="110" y="314"/>
                  </a:lnTo>
                  <a:lnTo>
                    <a:pt x="217" y="362"/>
                  </a:lnTo>
                  <a:lnTo>
                    <a:pt x="256" y="362"/>
                  </a:lnTo>
                  <a:lnTo>
                    <a:pt x="344" y="296"/>
                  </a:lnTo>
                  <a:lnTo>
                    <a:pt x="411" y="171"/>
                  </a:lnTo>
                  <a:lnTo>
                    <a:pt x="314" y="149"/>
                  </a:lnTo>
                  <a:lnTo>
                    <a:pt x="252" y="141"/>
                  </a:lnTo>
                  <a:lnTo>
                    <a:pt x="97" y="158"/>
                  </a:lnTo>
                  <a:lnTo>
                    <a:pt x="92" y="261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10600" y="779400"/>
              <a:ext cx="443160" cy="609840"/>
            </a:xfrm>
            <a:custGeom>
              <a:avLst/>
              <a:gdLst/>
              <a:ahLst/>
              <a:rect l="0" t="0" r="r" b="b"/>
              <a:pathLst>
                <a:path w="1231" h="1694">
                  <a:moveTo>
                    <a:pt x="1037" y="0"/>
                  </a:moveTo>
                  <a:lnTo>
                    <a:pt x="1156" y="0"/>
                  </a:lnTo>
                  <a:lnTo>
                    <a:pt x="1231" y="83"/>
                  </a:lnTo>
                  <a:lnTo>
                    <a:pt x="1231" y="171"/>
                  </a:lnTo>
                  <a:lnTo>
                    <a:pt x="1129" y="440"/>
                  </a:lnTo>
                  <a:lnTo>
                    <a:pt x="1028" y="564"/>
                  </a:lnTo>
                  <a:lnTo>
                    <a:pt x="922" y="586"/>
                  </a:lnTo>
                  <a:lnTo>
                    <a:pt x="896" y="586"/>
                  </a:lnTo>
                  <a:lnTo>
                    <a:pt x="896" y="918"/>
                  </a:lnTo>
                  <a:lnTo>
                    <a:pt x="944" y="1160"/>
                  </a:lnTo>
                  <a:lnTo>
                    <a:pt x="944" y="1359"/>
                  </a:lnTo>
                  <a:lnTo>
                    <a:pt x="759" y="1557"/>
                  </a:lnTo>
                  <a:lnTo>
                    <a:pt x="502" y="1694"/>
                  </a:lnTo>
                  <a:lnTo>
                    <a:pt x="339" y="1694"/>
                  </a:lnTo>
                  <a:lnTo>
                    <a:pt x="260" y="1654"/>
                  </a:lnTo>
                  <a:lnTo>
                    <a:pt x="145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6" y="1359"/>
                  </a:lnTo>
                  <a:lnTo>
                    <a:pt x="238" y="1447"/>
                  </a:lnTo>
                  <a:lnTo>
                    <a:pt x="436" y="1456"/>
                  </a:lnTo>
                  <a:lnTo>
                    <a:pt x="612" y="1372"/>
                  </a:lnTo>
                  <a:lnTo>
                    <a:pt x="706" y="1275"/>
                  </a:lnTo>
                  <a:lnTo>
                    <a:pt x="807" y="1103"/>
                  </a:lnTo>
                  <a:lnTo>
                    <a:pt x="825" y="904"/>
                  </a:lnTo>
                  <a:lnTo>
                    <a:pt x="860" y="251"/>
                  </a:lnTo>
                  <a:lnTo>
                    <a:pt x="900" y="343"/>
                  </a:lnTo>
                  <a:lnTo>
                    <a:pt x="1024" y="224"/>
                  </a:lnTo>
                  <a:lnTo>
                    <a:pt x="1147" y="171"/>
                  </a:lnTo>
                  <a:lnTo>
                    <a:pt x="1182" y="105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24800" y="1305000"/>
              <a:ext cx="357480" cy="567000"/>
            </a:xfrm>
            <a:custGeom>
              <a:avLst/>
              <a:gdLst/>
              <a:ahLst/>
              <a:rect l="0" t="0" r="r" b="b"/>
              <a:pathLst>
                <a:path w="993" h="1575">
                  <a:moveTo>
                    <a:pt x="123" y="0"/>
                  </a:moveTo>
                  <a:lnTo>
                    <a:pt x="238" y="70"/>
                  </a:lnTo>
                  <a:lnTo>
                    <a:pt x="326" y="392"/>
                  </a:lnTo>
                  <a:lnTo>
                    <a:pt x="583" y="467"/>
                  </a:lnTo>
                  <a:lnTo>
                    <a:pt x="653" y="546"/>
                  </a:lnTo>
                  <a:lnTo>
                    <a:pt x="662" y="670"/>
                  </a:lnTo>
                  <a:lnTo>
                    <a:pt x="790" y="648"/>
                  </a:lnTo>
                  <a:lnTo>
                    <a:pt x="944" y="749"/>
                  </a:lnTo>
                  <a:lnTo>
                    <a:pt x="993" y="878"/>
                  </a:lnTo>
                  <a:lnTo>
                    <a:pt x="993" y="1103"/>
                  </a:lnTo>
                  <a:lnTo>
                    <a:pt x="790" y="1434"/>
                  </a:lnTo>
                  <a:lnTo>
                    <a:pt x="724" y="1575"/>
                  </a:lnTo>
                  <a:lnTo>
                    <a:pt x="759" y="1394"/>
                  </a:lnTo>
                  <a:lnTo>
                    <a:pt x="724" y="1319"/>
                  </a:lnTo>
                  <a:lnTo>
                    <a:pt x="600" y="1209"/>
                  </a:lnTo>
                  <a:lnTo>
                    <a:pt x="405" y="1072"/>
                  </a:lnTo>
                  <a:lnTo>
                    <a:pt x="640" y="1151"/>
                  </a:lnTo>
                  <a:lnTo>
                    <a:pt x="777" y="1253"/>
                  </a:lnTo>
                  <a:lnTo>
                    <a:pt x="847" y="1235"/>
                  </a:lnTo>
                  <a:lnTo>
                    <a:pt x="891" y="1182"/>
                  </a:lnTo>
                  <a:lnTo>
                    <a:pt x="944" y="1024"/>
                  </a:lnTo>
                  <a:lnTo>
                    <a:pt x="927" y="869"/>
                  </a:lnTo>
                  <a:lnTo>
                    <a:pt x="856" y="780"/>
                  </a:lnTo>
                  <a:lnTo>
                    <a:pt x="733" y="749"/>
                  </a:lnTo>
                  <a:lnTo>
                    <a:pt x="600" y="749"/>
                  </a:lnTo>
                  <a:lnTo>
                    <a:pt x="552" y="515"/>
                  </a:lnTo>
                  <a:lnTo>
                    <a:pt x="339" y="436"/>
                  </a:lnTo>
                  <a:lnTo>
                    <a:pt x="339" y="507"/>
                  </a:lnTo>
                  <a:lnTo>
                    <a:pt x="238" y="339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8" y="507"/>
                  </a:lnTo>
                  <a:lnTo>
                    <a:pt x="207" y="670"/>
                  </a:lnTo>
                  <a:lnTo>
                    <a:pt x="79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53080" y="1555920"/>
              <a:ext cx="235440" cy="451080"/>
            </a:xfrm>
            <a:custGeom>
              <a:avLst/>
              <a:gdLst/>
              <a:ahLst/>
              <a:rect l="0" t="0" r="r" b="b"/>
              <a:pathLst>
                <a:path w="654" h="1253">
                  <a:moveTo>
                    <a:pt x="654" y="0"/>
                  </a:moveTo>
                  <a:lnTo>
                    <a:pt x="517" y="83"/>
                  </a:lnTo>
                  <a:lnTo>
                    <a:pt x="362" y="388"/>
                  </a:lnTo>
                  <a:lnTo>
                    <a:pt x="208" y="582"/>
                  </a:lnTo>
                  <a:lnTo>
                    <a:pt x="17" y="821"/>
                  </a:lnTo>
                  <a:lnTo>
                    <a:pt x="0" y="944"/>
                  </a:lnTo>
                  <a:lnTo>
                    <a:pt x="35" y="1054"/>
                  </a:lnTo>
                  <a:lnTo>
                    <a:pt x="127" y="1054"/>
                  </a:lnTo>
                  <a:lnTo>
                    <a:pt x="252" y="944"/>
                  </a:lnTo>
                  <a:lnTo>
                    <a:pt x="349" y="724"/>
                  </a:lnTo>
                  <a:lnTo>
                    <a:pt x="481" y="582"/>
                  </a:lnTo>
                  <a:lnTo>
                    <a:pt x="481" y="768"/>
                  </a:lnTo>
                  <a:lnTo>
                    <a:pt x="464" y="931"/>
                  </a:lnTo>
                  <a:lnTo>
                    <a:pt x="318" y="1151"/>
                  </a:lnTo>
                  <a:lnTo>
                    <a:pt x="318" y="1222"/>
                  </a:lnTo>
                  <a:lnTo>
                    <a:pt x="464" y="1253"/>
                  </a:lnTo>
                  <a:lnTo>
                    <a:pt x="362" y="1191"/>
                  </a:lnTo>
                  <a:lnTo>
                    <a:pt x="375" y="1151"/>
                  </a:lnTo>
                  <a:lnTo>
                    <a:pt x="472" y="988"/>
                  </a:lnTo>
                  <a:lnTo>
                    <a:pt x="539" y="693"/>
                  </a:lnTo>
                  <a:lnTo>
                    <a:pt x="495" y="529"/>
                  </a:lnTo>
                  <a:lnTo>
                    <a:pt x="389" y="621"/>
                  </a:lnTo>
                  <a:lnTo>
                    <a:pt x="154" y="1002"/>
                  </a:lnTo>
                  <a:lnTo>
                    <a:pt x="92" y="1010"/>
                  </a:lnTo>
                  <a:lnTo>
                    <a:pt x="35" y="971"/>
                  </a:lnTo>
                  <a:lnTo>
                    <a:pt x="35" y="856"/>
                  </a:lnTo>
                  <a:lnTo>
                    <a:pt x="127" y="706"/>
                  </a:lnTo>
                  <a:lnTo>
                    <a:pt x="389" y="405"/>
                  </a:lnTo>
                  <a:lnTo>
                    <a:pt x="539" y="114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27680" y="1809720"/>
              <a:ext cx="146520" cy="217800"/>
            </a:xfrm>
            <a:custGeom>
              <a:avLst/>
              <a:gdLst/>
              <a:ahLst/>
              <a:rect l="0" t="0" r="r" b="b"/>
              <a:pathLst>
                <a:path w="407" h="605">
                  <a:moveTo>
                    <a:pt x="0" y="534"/>
                  </a:moveTo>
                  <a:lnTo>
                    <a:pt x="133" y="380"/>
                  </a:lnTo>
                  <a:lnTo>
                    <a:pt x="159" y="224"/>
                  </a:lnTo>
                  <a:lnTo>
                    <a:pt x="315" y="0"/>
                  </a:lnTo>
                  <a:lnTo>
                    <a:pt x="350" y="149"/>
                  </a:lnTo>
                  <a:lnTo>
                    <a:pt x="323" y="547"/>
                  </a:lnTo>
                  <a:lnTo>
                    <a:pt x="407" y="605"/>
                  </a:lnTo>
                  <a:lnTo>
                    <a:pt x="287" y="561"/>
                  </a:lnTo>
                  <a:lnTo>
                    <a:pt x="230" y="336"/>
                  </a:lnTo>
                  <a:lnTo>
                    <a:pt x="133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07320" y="1820880"/>
              <a:ext cx="97200" cy="195480"/>
            </a:xfrm>
            <a:custGeom>
              <a:avLst/>
              <a:gdLst/>
              <a:ahLst/>
              <a:rect l="0" t="0" r="r" b="b"/>
              <a:pathLst>
                <a:path w="270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33" y="516"/>
                  </a:lnTo>
                  <a:lnTo>
                    <a:pt x="218" y="516"/>
                  </a:lnTo>
                  <a:lnTo>
                    <a:pt x="253" y="61"/>
                  </a:lnTo>
                  <a:lnTo>
                    <a:pt x="270" y="0"/>
                  </a:lnTo>
                  <a:lnTo>
                    <a:pt x="253" y="353"/>
                  </a:lnTo>
                  <a:lnTo>
                    <a:pt x="218" y="543"/>
                  </a:lnTo>
                  <a:lnTo>
                    <a:pt x="106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37440" y="1055520"/>
              <a:ext cx="233640" cy="519480"/>
            </a:xfrm>
            <a:custGeom>
              <a:avLst/>
              <a:gdLst/>
              <a:ahLst/>
              <a:rect l="0" t="0" r="r" b="b"/>
              <a:pathLst>
                <a:path w="649" h="1443">
                  <a:moveTo>
                    <a:pt x="167" y="781"/>
                  </a:moveTo>
                  <a:lnTo>
                    <a:pt x="220" y="556"/>
                  </a:lnTo>
                  <a:lnTo>
                    <a:pt x="437" y="494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0"/>
                  </a:lnTo>
                  <a:lnTo>
                    <a:pt x="238" y="600"/>
                  </a:lnTo>
                  <a:lnTo>
                    <a:pt x="207" y="781"/>
                  </a:lnTo>
                  <a:lnTo>
                    <a:pt x="286" y="781"/>
                  </a:lnTo>
                  <a:lnTo>
                    <a:pt x="88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64" y="1443"/>
                  </a:lnTo>
                  <a:lnTo>
                    <a:pt x="35" y="1241"/>
                  </a:lnTo>
                  <a:lnTo>
                    <a:pt x="0" y="1076"/>
                  </a:lnTo>
                  <a:lnTo>
                    <a:pt x="17" y="909"/>
                  </a:lnTo>
                  <a:lnTo>
                    <a:pt x="97" y="790"/>
                  </a:lnTo>
                  <a:lnTo>
                    <a:pt x="167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94760" y="1055520"/>
              <a:ext cx="390960" cy="503640"/>
            </a:xfrm>
            <a:custGeom>
              <a:avLst/>
              <a:gdLst/>
              <a:ahLst/>
              <a:rect l="0" t="0" r="r" b="b"/>
              <a:pathLst>
                <a:path w="1086" h="1399">
                  <a:moveTo>
                    <a:pt x="296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77"/>
                  </a:lnTo>
                  <a:lnTo>
                    <a:pt x="287" y="627"/>
                  </a:lnTo>
                  <a:lnTo>
                    <a:pt x="649" y="790"/>
                  </a:lnTo>
                  <a:lnTo>
                    <a:pt x="1077" y="1232"/>
                  </a:lnTo>
                  <a:lnTo>
                    <a:pt x="1086" y="1346"/>
                  </a:lnTo>
                  <a:lnTo>
                    <a:pt x="1064" y="1399"/>
                  </a:lnTo>
                  <a:lnTo>
                    <a:pt x="901" y="1399"/>
                  </a:lnTo>
                  <a:lnTo>
                    <a:pt x="759" y="1316"/>
                  </a:lnTo>
                  <a:lnTo>
                    <a:pt x="644" y="1170"/>
                  </a:lnTo>
                  <a:lnTo>
                    <a:pt x="583" y="1086"/>
                  </a:lnTo>
                  <a:lnTo>
                    <a:pt x="503" y="1073"/>
                  </a:lnTo>
                  <a:lnTo>
                    <a:pt x="596" y="1073"/>
                  </a:lnTo>
                  <a:lnTo>
                    <a:pt x="772" y="1307"/>
                  </a:lnTo>
                  <a:lnTo>
                    <a:pt x="1003" y="1369"/>
                  </a:lnTo>
                  <a:lnTo>
                    <a:pt x="1051" y="1307"/>
                  </a:lnTo>
                  <a:lnTo>
                    <a:pt x="1025" y="1197"/>
                  </a:lnTo>
                  <a:lnTo>
                    <a:pt x="627" y="878"/>
                  </a:lnTo>
                  <a:lnTo>
                    <a:pt x="574" y="790"/>
                  </a:lnTo>
                  <a:lnTo>
                    <a:pt x="264" y="710"/>
                  </a:lnTo>
                  <a:lnTo>
                    <a:pt x="211" y="790"/>
                  </a:lnTo>
                  <a:lnTo>
                    <a:pt x="0" y="918"/>
                  </a:lnTo>
                  <a:lnTo>
                    <a:pt x="198" y="763"/>
                  </a:lnTo>
                  <a:lnTo>
                    <a:pt x="211" y="671"/>
                  </a:lnTo>
                  <a:lnTo>
                    <a:pt x="211" y="446"/>
                  </a:lnTo>
                  <a:lnTo>
                    <a:pt x="349" y="273"/>
                  </a:lnTo>
                  <a:lnTo>
                    <a:pt x="349" y="57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23120" y="1450800"/>
              <a:ext cx="332280" cy="298800"/>
            </a:xfrm>
            <a:custGeom>
              <a:avLst/>
              <a:gdLst/>
              <a:ahLst/>
              <a:rect l="0" t="0" r="r" b="b"/>
              <a:pathLst>
                <a:path w="923" h="830">
                  <a:moveTo>
                    <a:pt x="694" y="0"/>
                  </a:moveTo>
                  <a:lnTo>
                    <a:pt x="666" y="70"/>
                  </a:lnTo>
                  <a:lnTo>
                    <a:pt x="804" y="343"/>
                  </a:lnTo>
                  <a:lnTo>
                    <a:pt x="875" y="627"/>
                  </a:lnTo>
                  <a:lnTo>
                    <a:pt x="795" y="627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2"/>
                  </a:lnTo>
                  <a:lnTo>
                    <a:pt x="446" y="343"/>
                  </a:lnTo>
                  <a:lnTo>
                    <a:pt x="538" y="446"/>
                  </a:lnTo>
                  <a:lnTo>
                    <a:pt x="538" y="644"/>
                  </a:lnTo>
                  <a:lnTo>
                    <a:pt x="477" y="790"/>
                  </a:lnTo>
                  <a:lnTo>
                    <a:pt x="389" y="733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4" y="295"/>
                  </a:lnTo>
                  <a:lnTo>
                    <a:pt x="180" y="702"/>
                  </a:lnTo>
                  <a:lnTo>
                    <a:pt x="97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2"/>
                  </a:lnTo>
                  <a:lnTo>
                    <a:pt x="180" y="812"/>
                  </a:lnTo>
                  <a:lnTo>
                    <a:pt x="224" y="719"/>
                  </a:lnTo>
                  <a:lnTo>
                    <a:pt x="247" y="405"/>
                  </a:lnTo>
                  <a:lnTo>
                    <a:pt x="269" y="530"/>
                  </a:lnTo>
                  <a:lnTo>
                    <a:pt x="375" y="799"/>
                  </a:lnTo>
                  <a:lnTo>
                    <a:pt x="486" y="830"/>
                  </a:lnTo>
                  <a:lnTo>
                    <a:pt x="569" y="719"/>
                  </a:lnTo>
                  <a:lnTo>
                    <a:pt x="569" y="455"/>
                  </a:lnTo>
                  <a:lnTo>
                    <a:pt x="795" y="675"/>
                  </a:lnTo>
                  <a:lnTo>
                    <a:pt x="910" y="675"/>
                  </a:lnTo>
                  <a:lnTo>
                    <a:pt x="923" y="530"/>
                  </a:lnTo>
                  <a:lnTo>
                    <a:pt x="835" y="26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78520" y="1143000"/>
              <a:ext cx="1481400" cy="1217880"/>
            </a:xfrm>
            <a:custGeom>
              <a:avLst/>
              <a:gdLst/>
              <a:ahLst/>
              <a:rect l="0" t="0" r="r" b="b"/>
              <a:pathLst>
                <a:path w="4115" h="3383">
                  <a:moveTo>
                    <a:pt x="1481" y="286"/>
                  </a:moveTo>
                  <a:lnTo>
                    <a:pt x="1406" y="295"/>
                  </a:lnTo>
                  <a:lnTo>
                    <a:pt x="1292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8" y="326"/>
                  </a:lnTo>
                  <a:lnTo>
                    <a:pt x="978" y="546"/>
                  </a:lnTo>
                  <a:lnTo>
                    <a:pt x="608" y="811"/>
                  </a:lnTo>
                  <a:lnTo>
                    <a:pt x="630" y="926"/>
                  </a:lnTo>
                  <a:lnTo>
                    <a:pt x="542" y="1031"/>
                  </a:lnTo>
                  <a:lnTo>
                    <a:pt x="542" y="1120"/>
                  </a:lnTo>
                  <a:lnTo>
                    <a:pt x="648" y="1371"/>
                  </a:lnTo>
                  <a:lnTo>
                    <a:pt x="657" y="1684"/>
                  </a:lnTo>
                  <a:lnTo>
                    <a:pt x="590" y="1985"/>
                  </a:lnTo>
                  <a:lnTo>
                    <a:pt x="326" y="2157"/>
                  </a:lnTo>
                  <a:lnTo>
                    <a:pt x="286" y="2399"/>
                  </a:lnTo>
                  <a:lnTo>
                    <a:pt x="207" y="2399"/>
                  </a:lnTo>
                  <a:lnTo>
                    <a:pt x="163" y="2201"/>
                  </a:lnTo>
                  <a:lnTo>
                    <a:pt x="88" y="2201"/>
                  </a:lnTo>
                  <a:lnTo>
                    <a:pt x="48" y="2417"/>
                  </a:lnTo>
                  <a:lnTo>
                    <a:pt x="0" y="2470"/>
                  </a:lnTo>
                  <a:lnTo>
                    <a:pt x="185" y="2761"/>
                  </a:lnTo>
                  <a:lnTo>
                    <a:pt x="313" y="2779"/>
                  </a:lnTo>
                  <a:lnTo>
                    <a:pt x="542" y="2990"/>
                  </a:lnTo>
                  <a:lnTo>
                    <a:pt x="754" y="3017"/>
                  </a:lnTo>
                  <a:lnTo>
                    <a:pt x="873" y="2902"/>
                  </a:lnTo>
                  <a:lnTo>
                    <a:pt x="1159" y="2483"/>
                  </a:lnTo>
                  <a:lnTo>
                    <a:pt x="1181" y="3052"/>
                  </a:lnTo>
                  <a:lnTo>
                    <a:pt x="1159" y="3383"/>
                  </a:lnTo>
                  <a:lnTo>
                    <a:pt x="3533" y="3383"/>
                  </a:lnTo>
                  <a:lnTo>
                    <a:pt x="3361" y="3017"/>
                  </a:lnTo>
                  <a:lnTo>
                    <a:pt x="3277" y="2704"/>
                  </a:lnTo>
                  <a:lnTo>
                    <a:pt x="3255" y="2236"/>
                  </a:lnTo>
                  <a:lnTo>
                    <a:pt x="3392" y="2346"/>
                  </a:lnTo>
                  <a:lnTo>
                    <a:pt x="3533" y="2346"/>
                  </a:lnTo>
                  <a:lnTo>
                    <a:pt x="3731" y="2223"/>
                  </a:lnTo>
                  <a:lnTo>
                    <a:pt x="3859" y="2201"/>
                  </a:lnTo>
                  <a:lnTo>
                    <a:pt x="3943" y="2077"/>
                  </a:lnTo>
                  <a:lnTo>
                    <a:pt x="3996" y="1756"/>
                  </a:lnTo>
                  <a:lnTo>
                    <a:pt x="4115" y="1631"/>
                  </a:lnTo>
                  <a:lnTo>
                    <a:pt x="4053" y="1530"/>
                  </a:lnTo>
                  <a:lnTo>
                    <a:pt x="3965" y="1530"/>
                  </a:lnTo>
                  <a:lnTo>
                    <a:pt x="3894" y="1596"/>
                  </a:lnTo>
                  <a:lnTo>
                    <a:pt x="3828" y="1618"/>
                  </a:lnTo>
                  <a:lnTo>
                    <a:pt x="3744" y="1530"/>
                  </a:lnTo>
                  <a:lnTo>
                    <a:pt x="3639" y="1516"/>
                  </a:lnTo>
                  <a:lnTo>
                    <a:pt x="3458" y="1397"/>
                  </a:lnTo>
                  <a:lnTo>
                    <a:pt x="3339" y="1274"/>
                  </a:lnTo>
                  <a:lnTo>
                    <a:pt x="3312" y="1120"/>
                  </a:lnTo>
                  <a:lnTo>
                    <a:pt x="3339" y="965"/>
                  </a:lnTo>
                  <a:lnTo>
                    <a:pt x="3414" y="846"/>
                  </a:lnTo>
                  <a:lnTo>
                    <a:pt x="3515" y="732"/>
                  </a:lnTo>
                  <a:lnTo>
                    <a:pt x="3506" y="542"/>
                  </a:lnTo>
                  <a:lnTo>
                    <a:pt x="3506" y="401"/>
                  </a:lnTo>
                  <a:lnTo>
                    <a:pt x="3458" y="295"/>
                  </a:lnTo>
                  <a:lnTo>
                    <a:pt x="3312" y="255"/>
                  </a:lnTo>
                  <a:lnTo>
                    <a:pt x="3268" y="229"/>
                  </a:lnTo>
                  <a:lnTo>
                    <a:pt x="3171" y="57"/>
                  </a:lnTo>
                  <a:lnTo>
                    <a:pt x="3087" y="13"/>
                  </a:lnTo>
                  <a:lnTo>
                    <a:pt x="3004" y="0"/>
                  </a:lnTo>
                  <a:lnTo>
                    <a:pt x="2929" y="30"/>
                  </a:lnTo>
                  <a:lnTo>
                    <a:pt x="2871" y="119"/>
                  </a:lnTo>
                  <a:lnTo>
                    <a:pt x="2779" y="171"/>
                  </a:lnTo>
                  <a:lnTo>
                    <a:pt x="2677" y="189"/>
                  </a:lnTo>
                  <a:lnTo>
                    <a:pt x="2563" y="189"/>
                  </a:lnTo>
                  <a:lnTo>
                    <a:pt x="2585" y="357"/>
                  </a:lnTo>
                  <a:lnTo>
                    <a:pt x="2585" y="564"/>
                  </a:lnTo>
                  <a:lnTo>
                    <a:pt x="2563" y="705"/>
                  </a:lnTo>
                  <a:lnTo>
                    <a:pt x="2461" y="873"/>
                  </a:lnTo>
                  <a:lnTo>
                    <a:pt x="2333" y="1124"/>
                  </a:lnTo>
                  <a:lnTo>
                    <a:pt x="2232" y="1433"/>
                  </a:lnTo>
                  <a:lnTo>
                    <a:pt x="2223" y="1618"/>
                  </a:lnTo>
                  <a:lnTo>
                    <a:pt x="2174" y="1769"/>
                  </a:lnTo>
                  <a:lnTo>
                    <a:pt x="2113" y="1923"/>
                  </a:lnTo>
                  <a:lnTo>
                    <a:pt x="2086" y="2174"/>
                  </a:lnTo>
                  <a:lnTo>
                    <a:pt x="2100" y="2377"/>
                  </a:lnTo>
                  <a:lnTo>
                    <a:pt x="2174" y="2615"/>
                  </a:lnTo>
                  <a:lnTo>
                    <a:pt x="2223" y="2704"/>
                  </a:lnTo>
                  <a:lnTo>
                    <a:pt x="2086" y="2792"/>
                  </a:lnTo>
                  <a:lnTo>
                    <a:pt x="1918" y="2845"/>
                  </a:lnTo>
                  <a:lnTo>
                    <a:pt x="1737" y="2862"/>
                  </a:lnTo>
                  <a:lnTo>
                    <a:pt x="1622" y="2862"/>
                  </a:lnTo>
                  <a:lnTo>
                    <a:pt x="1552" y="2832"/>
                  </a:lnTo>
                  <a:lnTo>
                    <a:pt x="1552" y="2629"/>
                  </a:lnTo>
                  <a:lnTo>
                    <a:pt x="1552" y="2329"/>
                  </a:lnTo>
                  <a:lnTo>
                    <a:pt x="1503" y="2033"/>
                  </a:lnTo>
                  <a:lnTo>
                    <a:pt x="1433" y="1769"/>
                  </a:lnTo>
                  <a:lnTo>
                    <a:pt x="1397" y="1556"/>
                  </a:lnTo>
                  <a:lnTo>
                    <a:pt x="1380" y="1261"/>
                  </a:lnTo>
                  <a:lnTo>
                    <a:pt x="1433" y="1001"/>
                  </a:lnTo>
                  <a:lnTo>
                    <a:pt x="1503" y="789"/>
                  </a:lnTo>
                  <a:lnTo>
                    <a:pt x="1516" y="665"/>
                  </a:lnTo>
                  <a:lnTo>
                    <a:pt x="1481" y="485"/>
                  </a:lnTo>
                  <a:lnTo>
                    <a:pt x="1481" y="343"/>
                  </a:lnTo>
                  <a:lnTo>
                    <a:pt x="1503" y="295"/>
                  </a:lnTo>
                  <a:lnTo>
                    <a:pt x="1481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4880" y="1387440"/>
              <a:ext cx="189360" cy="790920"/>
            </a:xfrm>
            <a:custGeom>
              <a:avLst/>
              <a:gdLst/>
              <a:ahLst/>
              <a:rect l="0" t="0" r="r" b="b"/>
              <a:pathLst>
                <a:path w="526" h="2197">
                  <a:moveTo>
                    <a:pt x="208" y="26"/>
                  </a:moveTo>
                  <a:lnTo>
                    <a:pt x="70" y="97"/>
                  </a:lnTo>
                  <a:lnTo>
                    <a:pt x="83" y="308"/>
                  </a:lnTo>
                  <a:lnTo>
                    <a:pt x="186" y="370"/>
                  </a:lnTo>
                  <a:lnTo>
                    <a:pt x="61" y="599"/>
                  </a:lnTo>
                  <a:lnTo>
                    <a:pt x="0" y="851"/>
                  </a:lnTo>
                  <a:lnTo>
                    <a:pt x="0" y="1093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38"/>
                  </a:lnTo>
                  <a:lnTo>
                    <a:pt x="61" y="1928"/>
                  </a:lnTo>
                  <a:lnTo>
                    <a:pt x="274" y="2197"/>
                  </a:lnTo>
                  <a:lnTo>
                    <a:pt x="358" y="2152"/>
                  </a:lnTo>
                  <a:lnTo>
                    <a:pt x="420" y="1967"/>
                  </a:lnTo>
                  <a:lnTo>
                    <a:pt x="517" y="1725"/>
                  </a:lnTo>
                  <a:lnTo>
                    <a:pt x="526" y="1597"/>
                  </a:lnTo>
                  <a:lnTo>
                    <a:pt x="442" y="1359"/>
                  </a:lnTo>
                  <a:lnTo>
                    <a:pt x="344" y="1121"/>
                  </a:lnTo>
                  <a:lnTo>
                    <a:pt x="309" y="956"/>
                  </a:lnTo>
                  <a:lnTo>
                    <a:pt x="309" y="798"/>
                  </a:lnTo>
                  <a:lnTo>
                    <a:pt x="344" y="652"/>
                  </a:lnTo>
                  <a:lnTo>
                    <a:pt x="420" y="480"/>
                  </a:lnTo>
                  <a:lnTo>
                    <a:pt x="420" y="410"/>
                  </a:lnTo>
                  <a:lnTo>
                    <a:pt x="384" y="335"/>
                  </a:lnTo>
                  <a:lnTo>
                    <a:pt x="482" y="251"/>
                  </a:lnTo>
                  <a:lnTo>
                    <a:pt x="482" y="167"/>
                  </a:lnTo>
                  <a:lnTo>
                    <a:pt x="344" y="0"/>
                  </a:lnTo>
                  <a:lnTo>
                    <a:pt x="456" y="167"/>
                  </a:lnTo>
                  <a:lnTo>
                    <a:pt x="456" y="238"/>
                  </a:lnTo>
                  <a:lnTo>
                    <a:pt x="358" y="308"/>
                  </a:lnTo>
                  <a:lnTo>
                    <a:pt x="398" y="410"/>
                  </a:lnTo>
                  <a:lnTo>
                    <a:pt x="384" y="480"/>
                  </a:lnTo>
                  <a:lnTo>
                    <a:pt x="287" y="683"/>
                  </a:lnTo>
                  <a:lnTo>
                    <a:pt x="274" y="881"/>
                  </a:lnTo>
                  <a:lnTo>
                    <a:pt x="296" y="1067"/>
                  </a:lnTo>
                  <a:lnTo>
                    <a:pt x="358" y="1328"/>
                  </a:lnTo>
                  <a:lnTo>
                    <a:pt x="442" y="1544"/>
                  </a:lnTo>
                  <a:lnTo>
                    <a:pt x="442" y="1711"/>
                  </a:lnTo>
                  <a:lnTo>
                    <a:pt x="398" y="1928"/>
                  </a:lnTo>
                  <a:lnTo>
                    <a:pt x="296" y="2152"/>
                  </a:lnTo>
                  <a:lnTo>
                    <a:pt x="172" y="2029"/>
                  </a:lnTo>
                  <a:lnTo>
                    <a:pt x="123" y="1928"/>
                  </a:lnTo>
                  <a:lnTo>
                    <a:pt x="133" y="1711"/>
                  </a:lnTo>
                  <a:lnTo>
                    <a:pt x="123" y="1495"/>
                  </a:lnTo>
                  <a:lnTo>
                    <a:pt x="61" y="1204"/>
                  </a:lnTo>
                  <a:lnTo>
                    <a:pt x="35" y="1005"/>
                  </a:lnTo>
                  <a:lnTo>
                    <a:pt x="61" y="784"/>
                  </a:lnTo>
                  <a:lnTo>
                    <a:pt x="110" y="568"/>
                  </a:lnTo>
                  <a:lnTo>
                    <a:pt x="221" y="352"/>
                  </a:lnTo>
                  <a:lnTo>
                    <a:pt x="123" y="264"/>
                  </a:lnTo>
                  <a:lnTo>
                    <a:pt x="110" y="110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88400" y="461880"/>
              <a:ext cx="295560" cy="386280"/>
            </a:xfrm>
            <a:custGeom>
              <a:avLst/>
              <a:gdLst/>
              <a:ahLst/>
              <a:rect l="0" t="0" r="r" b="b"/>
              <a:pathLst>
                <a:path w="821" h="1073">
                  <a:moveTo>
                    <a:pt x="136" y="274"/>
                  </a:moveTo>
                  <a:lnTo>
                    <a:pt x="255" y="251"/>
                  </a:lnTo>
                  <a:lnTo>
                    <a:pt x="374" y="255"/>
                  </a:lnTo>
                  <a:lnTo>
                    <a:pt x="472" y="305"/>
                  </a:lnTo>
                  <a:lnTo>
                    <a:pt x="521" y="362"/>
                  </a:lnTo>
                  <a:lnTo>
                    <a:pt x="552" y="415"/>
                  </a:lnTo>
                  <a:lnTo>
                    <a:pt x="552" y="472"/>
                  </a:lnTo>
                  <a:lnTo>
                    <a:pt x="516" y="508"/>
                  </a:lnTo>
                  <a:lnTo>
                    <a:pt x="468" y="534"/>
                  </a:lnTo>
                  <a:lnTo>
                    <a:pt x="405" y="534"/>
                  </a:lnTo>
                  <a:lnTo>
                    <a:pt x="335" y="521"/>
                  </a:lnTo>
                  <a:lnTo>
                    <a:pt x="260" y="477"/>
                  </a:lnTo>
                  <a:lnTo>
                    <a:pt x="207" y="437"/>
                  </a:lnTo>
                  <a:lnTo>
                    <a:pt x="185" y="574"/>
                  </a:lnTo>
                  <a:lnTo>
                    <a:pt x="136" y="671"/>
                  </a:lnTo>
                  <a:lnTo>
                    <a:pt x="0" y="901"/>
                  </a:lnTo>
                  <a:lnTo>
                    <a:pt x="198" y="1073"/>
                  </a:lnTo>
                  <a:lnTo>
                    <a:pt x="348" y="781"/>
                  </a:lnTo>
                  <a:lnTo>
                    <a:pt x="516" y="808"/>
                  </a:lnTo>
                  <a:lnTo>
                    <a:pt x="627" y="785"/>
                  </a:lnTo>
                  <a:lnTo>
                    <a:pt x="728" y="719"/>
                  </a:lnTo>
                  <a:lnTo>
                    <a:pt x="790" y="636"/>
                  </a:lnTo>
                  <a:lnTo>
                    <a:pt x="821" y="525"/>
                  </a:lnTo>
                  <a:lnTo>
                    <a:pt x="821" y="411"/>
                  </a:lnTo>
                  <a:lnTo>
                    <a:pt x="790" y="287"/>
                  </a:lnTo>
                  <a:lnTo>
                    <a:pt x="724" y="163"/>
                  </a:lnTo>
                  <a:lnTo>
                    <a:pt x="636" y="74"/>
                  </a:lnTo>
                  <a:lnTo>
                    <a:pt x="538" y="26"/>
                  </a:lnTo>
                  <a:lnTo>
                    <a:pt x="419" y="0"/>
                  </a:lnTo>
                  <a:lnTo>
                    <a:pt x="268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35840" y="836640"/>
              <a:ext cx="106560" cy="76680"/>
            </a:xfrm>
            <a:custGeom>
              <a:avLst/>
              <a:gdLst/>
              <a:ahLst/>
              <a:rect l="0" t="0" r="r" b="b"/>
              <a:pathLst>
                <a:path w="296" h="213">
                  <a:moveTo>
                    <a:pt x="114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81" y="213"/>
                  </a:lnTo>
                  <a:lnTo>
                    <a:pt x="269" y="209"/>
                  </a:lnTo>
                  <a:lnTo>
                    <a:pt x="296" y="159"/>
                  </a:lnTo>
                  <a:lnTo>
                    <a:pt x="283" y="115"/>
                  </a:lnTo>
                  <a:lnTo>
                    <a:pt x="239" y="58"/>
                  </a:lnTo>
                  <a:lnTo>
                    <a:pt x="168" y="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295280" y="457200"/>
            <a:ext cx="7238880" cy="20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Maker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Users of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09680" y="2743200"/>
            <a:ext cx="57913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y users of accounting information in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133200"/>
            <a:ext cx="80010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The Users of Account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762120" y="762120"/>
            <a:ext cx="8153280" cy="5562720"/>
            <a:chOff x="762120" y="762120"/>
            <a:chExt cx="8153280" cy="5562720"/>
          </a:xfrm>
        </p:grpSpPr>
        <p:sp>
          <p:nvSpPr>
            <p:cNvPr id="250" name=""/>
            <p:cNvSpPr/>
            <p:nvPr/>
          </p:nvSpPr>
          <p:spPr>
            <a:xfrm>
              <a:off x="762120" y="762120"/>
              <a:ext cx="8153280" cy="556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6400800" y="2876400"/>
              <a:ext cx="2334960" cy="2287800"/>
              <a:chOff x="6400800" y="2876400"/>
              <a:chExt cx="2334960" cy="228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6400800" y="2936880"/>
                <a:ext cx="2268360" cy="22273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67400" y="2876400"/>
                <a:ext cx="2268360" cy="222264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 txBox="1"/>
            <p:nvPr/>
          </p:nvSpPr>
          <p:spPr>
            <a:xfrm>
              <a:off x="6575400" y="2919240"/>
              <a:ext cx="20541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OSE WITH INDIREC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6575400" y="3166920"/>
              <a:ext cx="18860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AL INTERES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6734160" y="3540240"/>
              <a:ext cx="13431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x Authoriti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734160" y="3767040"/>
              <a:ext cx="9777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ulato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734160" y="3994200"/>
              <a:ext cx="11955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 Union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6734160" y="4218120"/>
              <a:ext cx="9777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e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6734160" y="4441680"/>
              <a:ext cx="164952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conomic Planne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2060640" y="1941480"/>
              <a:ext cx="5556240" cy="951120"/>
              <a:chOff x="2060640" y="1941480"/>
              <a:chExt cx="5556240" cy="95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2060640" y="2449440"/>
                <a:ext cx="5556240" cy="42876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63960" y="1941480"/>
                <a:ext cx="1800" cy="951120"/>
              </a:xfrm>
              <a:prstGeom prst="line">
                <a:avLst/>
              </a:prstGeom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632040" y="2876400"/>
              <a:ext cx="2333880" cy="2287440"/>
              <a:chOff x="3632040" y="2876400"/>
              <a:chExt cx="2333880" cy="2287440"/>
            </a:xfrm>
          </p:grpSpPr>
          <p:sp>
            <p:nvSpPr>
              <p:cNvPr id="265" name=""/>
              <p:cNvSpPr/>
              <p:nvPr/>
            </p:nvSpPr>
            <p:spPr>
              <a:xfrm>
                <a:off x="3632040" y="2938320"/>
                <a:ext cx="2266920" cy="22255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99000" y="2876400"/>
                <a:ext cx="2266920" cy="2224080"/>
              </a:xfrm>
              <a:prstGeom prst="rect">
                <a:avLst/>
              </a:prstGeom>
              <a:solidFill>
                <a:srgbClr val="bfd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 txBox="1"/>
            <p:nvPr/>
          </p:nvSpPr>
          <p:spPr>
            <a:xfrm>
              <a:off x="4394160" y="3522600"/>
              <a:ext cx="83988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o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4394160" y="3746520"/>
              <a:ext cx="7905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dito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884760" y="2911320"/>
              <a:ext cx="18763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OSE WITH DIREC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884760" y="3159000"/>
              <a:ext cx="18860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AL INTERES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53920" y="2876400"/>
              <a:ext cx="2335320" cy="2268720"/>
              <a:chOff x="853920" y="2876400"/>
              <a:chExt cx="2335320" cy="2268720"/>
            </a:xfrm>
          </p:grpSpPr>
          <p:sp>
            <p:nvSpPr>
              <p:cNvPr id="272" name=""/>
              <p:cNvSpPr/>
              <p:nvPr/>
            </p:nvSpPr>
            <p:spPr>
              <a:xfrm>
                <a:off x="853920" y="2938320"/>
                <a:ext cx="2268360" cy="22068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20880" y="2876400"/>
                <a:ext cx="2268360" cy="2205000"/>
              </a:xfrm>
              <a:prstGeom prst="rect">
                <a:avLst/>
              </a:prstGeom>
              <a:solidFill>
                <a:srgbClr val="ffb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 txBox="1"/>
            <p:nvPr/>
          </p:nvSpPr>
          <p:spPr>
            <a:xfrm>
              <a:off x="1135080" y="3278160"/>
              <a:ext cx="7207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135080" y="3505320"/>
              <a:ext cx="13539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1235160" y="3730680"/>
              <a:ext cx="98748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135080" y="3956040"/>
              <a:ext cx="8888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etin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1135080" y="4183200"/>
              <a:ext cx="16113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man Resourc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135080" y="4408560"/>
              <a:ext cx="180828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 System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1135080" y="4632480"/>
              <a:ext cx="9777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1370160" y="2916360"/>
              <a:ext cx="12938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763800" y="1442880"/>
              <a:ext cx="2095920" cy="478080"/>
              <a:chOff x="3763800" y="1442880"/>
              <a:chExt cx="2095920" cy="478080"/>
            </a:xfrm>
          </p:grpSpPr>
          <p:sp>
            <p:nvSpPr>
              <p:cNvPr id="283" name=""/>
              <p:cNvSpPr/>
              <p:nvPr/>
            </p:nvSpPr>
            <p:spPr>
              <a:xfrm>
                <a:off x="3763800" y="1503360"/>
                <a:ext cx="2027160" cy="417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30760" y="1442880"/>
                <a:ext cx="2028960" cy="41436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3983040" y="1488960"/>
                <a:ext cx="1679400" cy="39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ISION MAKER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3000" y="9907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ccounting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identify business goals and activities, and describe the role of accounting in making informed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y users of accounting information in socie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plain the importance of business transactions, money measure, and separate entity to accounting measur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three basic forms of business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066680" y="-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8080" y="83808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eople who use accounting information to make decisions fall into three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utside users with a direct financi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ople, organizations, and agenci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ith an indirect financial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categories apply both to profit-oriented ventures as well as to government and not-for-profit organiz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44280"/>
            <a:ext cx="7924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Mak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8080" y="9907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ires financial information to carry out its basic fun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ing the resources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ing goods and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rketing goods and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ing employ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ing information to decis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90720" y="7632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14600" y="243828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Inves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Credi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2120" y="45720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utside Users with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 Direct Financial Inter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2514600" y="2438280"/>
            <a:ext cx="4724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x Autho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gulatory Agen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 Un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sto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Plan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0880" y="380880"/>
            <a:ext cx="87631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ople, Organizations, and Agencies with an Indirect Financial Inter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9548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 decision makers us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infor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286000" y="129528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838080" y="380880"/>
            <a:ext cx="2284920" cy="2208960"/>
            <a:chOff x="838080" y="380880"/>
            <a:chExt cx="2284920" cy="2208960"/>
          </a:xfrm>
        </p:grpSpPr>
        <p:sp>
          <p:nvSpPr>
            <p:cNvPr id="297" name=""/>
            <p:cNvSpPr/>
            <p:nvPr/>
          </p:nvSpPr>
          <p:spPr>
            <a:xfrm>
              <a:off x="844560" y="1465200"/>
              <a:ext cx="554400" cy="770400"/>
            </a:xfrm>
            <a:custGeom>
              <a:avLst/>
              <a:gdLst/>
              <a:ahLst/>
              <a:rect l="0" t="0" r="r" b="b"/>
              <a:pathLst>
                <a:path w="1540" h="2140">
                  <a:moveTo>
                    <a:pt x="618" y="0"/>
                  </a:moveTo>
                  <a:lnTo>
                    <a:pt x="534" y="97"/>
                  </a:lnTo>
                  <a:lnTo>
                    <a:pt x="534" y="374"/>
                  </a:lnTo>
                  <a:lnTo>
                    <a:pt x="618" y="574"/>
                  </a:lnTo>
                  <a:lnTo>
                    <a:pt x="706" y="675"/>
                  </a:lnTo>
                  <a:lnTo>
                    <a:pt x="569" y="812"/>
                  </a:lnTo>
                  <a:lnTo>
                    <a:pt x="383" y="1121"/>
                  </a:lnTo>
                  <a:lnTo>
                    <a:pt x="30" y="1615"/>
                  </a:lnTo>
                  <a:lnTo>
                    <a:pt x="0" y="1735"/>
                  </a:lnTo>
                  <a:lnTo>
                    <a:pt x="30" y="1836"/>
                  </a:lnTo>
                  <a:lnTo>
                    <a:pt x="141" y="1836"/>
                  </a:lnTo>
                  <a:lnTo>
                    <a:pt x="233" y="1721"/>
                  </a:lnTo>
                  <a:lnTo>
                    <a:pt x="383" y="1442"/>
                  </a:lnTo>
                  <a:lnTo>
                    <a:pt x="477" y="1323"/>
                  </a:lnTo>
                  <a:lnTo>
                    <a:pt x="534" y="1504"/>
                  </a:lnTo>
                  <a:lnTo>
                    <a:pt x="494" y="1704"/>
                  </a:lnTo>
                  <a:lnTo>
                    <a:pt x="343" y="1986"/>
                  </a:lnTo>
                  <a:lnTo>
                    <a:pt x="383" y="2048"/>
                  </a:lnTo>
                  <a:lnTo>
                    <a:pt x="477" y="2030"/>
                  </a:lnTo>
                  <a:lnTo>
                    <a:pt x="666" y="1884"/>
                  </a:lnTo>
                  <a:lnTo>
                    <a:pt x="821" y="1633"/>
                  </a:lnTo>
                  <a:lnTo>
                    <a:pt x="821" y="2065"/>
                  </a:lnTo>
                  <a:lnTo>
                    <a:pt x="1002" y="2140"/>
                  </a:lnTo>
                  <a:lnTo>
                    <a:pt x="1112" y="1871"/>
                  </a:lnTo>
                  <a:lnTo>
                    <a:pt x="1205" y="2123"/>
                  </a:lnTo>
                  <a:lnTo>
                    <a:pt x="1280" y="2048"/>
                  </a:lnTo>
                  <a:lnTo>
                    <a:pt x="1316" y="1557"/>
                  </a:lnTo>
                  <a:lnTo>
                    <a:pt x="1540" y="1085"/>
                  </a:lnTo>
                  <a:lnTo>
                    <a:pt x="1488" y="812"/>
                  </a:lnTo>
                  <a:lnTo>
                    <a:pt x="1333" y="710"/>
                  </a:lnTo>
                  <a:lnTo>
                    <a:pt x="1166" y="724"/>
                  </a:lnTo>
                  <a:lnTo>
                    <a:pt x="1112" y="507"/>
                  </a:lnTo>
                  <a:lnTo>
                    <a:pt x="940" y="454"/>
                  </a:lnTo>
                  <a:lnTo>
                    <a:pt x="794" y="388"/>
                  </a:lnTo>
                  <a:lnTo>
                    <a:pt x="706" y="4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09680" y="1778040"/>
              <a:ext cx="165600" cy="375120"/>
            </a:xfrm>
            <a:custGeom>
              <a:avLst/>
              <a:gdLst/>
              <a:ahLst/>
              <a:rect l="0" t="0" r="r" b="b"/>
              <a:pathLst>
                <a:path w="460" h="1042">
                  <a:moveTo>
                    <a:pt x="230" y="0"/>
                  </a:moveTo>
                  <a:lnTo>
                    <a:pt x="460" y="269"/>
                  </a:lnTo>
                  <a:lnTo>
                    <a:pt x="344" y="857"/>
                  </a:lnTo>
                  <a:lnTo>
                    <a:pt x="0" y="1042"/>
                  </a:lnTo>
                  <a:lnTo>
                    <a:pt x="0" y="746"/>
                  </a:lnTo>
                  <a:lnTo>
                    <a:pt x="142" y="441"/>
                  </a:lnTo>
                  <a:lnTo>
                    <a:pt x="230" y="22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3480" y="1563840"/>
              <a:ext cx="408240" cy="336960"/>
            </a:xfrm>
            <a:custGeom>
              <a:avLst/>
              <a:gdLst/>
              <a:ahLst/>
              <a:rect l="0" t="0" r="r" b="b"/>
              <a:pathLst>
                <a:path w="1134" h="936">
                  <a:moveTo>
                    <a:pt x="467" y="0"/>
                  </a:moveTo>
                  <a:lnTo>
                    <a:pt x="467" y="149"/>
                  </a:lnTo>
                  <a:lnTo>
                    <a:pt x="507" y="283"/>
                  </a:lnTo>
                  <a:lnTo>
                    <a:pt x="728" y="508"/>
                  </a:lnTo>
                  <a:lnTo>
                    <a:pt x="1134" y="636"/>
                  </a:lnTo>
                  <a:lnTo>
                    <a:pt x="1076" y="919"/>
                  </a:lnTo>
                  <a:lnTo>
                    <a:pt x="728" y="936"/>
                  </a:lnTo>
                  <a:lnTo>
                    <a:pt x="216" y="729"/>
                  </a:lnTo>
                  <a:lnTo>
                    <a:pt x="0" y="375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36920" y="1181160"/>
              <a:ext cx="572040" cy="744840"/>
            </a:xfrm>
            <a:custGeom>
              <a:avLst/>
              <a:gdLst/>
              <a:ahLst/>
              <a:rect l="0" t="0" r="r" b="b"/>
              <a:pathLst>
                <a:path w="1589" h="2069">
                  <a:moveTo>
                    <a:pt x="141" y="877"/>
                  </a:moveTo>
                  <a:lnTo>
                    <a:pt x="0" y="1023"/>
                  </a:lnTo>
                  <a:lnTo>
                    <a:pt x="30" y="1363"/>
                  </a:lnTo>
                  <a:lnTo>
                    <a:pt x="251" y="1517"/>
                  </a:lnTo>
                  <a:lnTo>
                    <a:pt x="268" y="2033"/>
                  </a:lnTo>
                  <a:lnTo>
                    <a:pt x="494" y="2033"/>
                  </a:lnTo>
                  <a:lnTo>
                    <a:pt x="477" y="1597"/>
                  </a:lnTo>
                  <a:lnTo>
                    <a:pt x="644" y="2051"/>
                  </a:lnTo>
                  <a:lnTo>
                    <a:pt x="755" y="2069"/>
                  </a:lnTo>
                  <a:lnTo>
                    <a:pt x="834" y="1919"/>
                  </a:lnTo>
                  <a:lnTo>
                    <a:pt x="852" y="1632"/>
                  </a:lnTo>
                  <a:lnTo>
                    <a:pt x="1094" y="1901"/>
                  </a:lnTo>
                  <a:lnTo>
                    <a:pt x="1191" y="1875"/>
                  </a:lnTo>
                  <a:lnTo>
                    <a:pt x="1169" y="1694"/>
                  </a:lnTo>
                  <a:lnTo>
                    <a:pt x="1076" y="1434"/>
                  </a:lnTo>
                  <a:lnTo>
                    <a:pt x="979" y="1262"/>
                  </a:lnTo>
                  <a:lnTo>
                    <a:pt x="1015" y="1143"/>
                  </a:lnTo>
                  <a:lnTo>
                    <a:pt x="1076" y="1165"/>
                  </a:lnTo>
                  <a:lnTo>
                    <a:pt x="1298" y="1434"/>
                  </a:lnTo>
                  <a:lnTo>
                    <a:pt x="1536" y="1500"/>
                  </a:lnTo>
                  <a:lnTo>
                    <a:pt x="1589" y="1416"/>
                  </a:lnTo>
                  <a:lnTo>
                    <a:pt x="1554" y="1275"/>
                  </a:lnTo>
                  <a:lnTo>
                    <a:pt x="1112" y="859"/>
                  </a:lnTo>
                  <a:lnTo>
                    <a:pt x="755" y="732"/>
                  </a:lnTo>
                  <a:lnTo>
                    <a:pt x="710" y="498"/>
                  </a:lnTo>
                  <a:lnTo>
                    <a:pt x="834" y="286"/>
                  </a:lnTo>
                  <a:lnTo>
                    <a:pt x="834" y="70"/>
                  </a:lnTo>
                  <a:lnTo>
                    <a:pt x="733" y="0"/>
                  </a:lnTo>
                  <a:lnTo>
                    <a:pt x="477" y="560"/>
                  </a:lnTo>
                  <a:lnTo>
                    <a:pt x="251" y="643"/>
                  </a:lnTo>
                  <a:lnTo>
                    <a:pt x="194" y="798"/>
                  </a:lnTo>
                  <a:lnTo>
                    <a:pt x="141" y="87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98760" y="536400"/>
              <a:ext cx="624240" cy="951120"/>
            </a:xfrm>
            <a:custGeom>
              <a:avLst/>
              <a:gdLst/>
              <a:ahLst/>
              <a:rect l="0" t="0" r="r" b="b"/>
              <a:pathLst>
                <a:path w="1734" h="2642">
                  <a:moveTo>
                    <a:pt x="432" y="366"/>
                  </a:moveTo>
                  <a:lnTo>
                    <a:pt x="304" y="873"/>
                  </a:lnTo>
                  <a:lnTo>
                    <a:pt x="17" y="974"/>
                  </a:lnTo>
                  <a:lnTo>
                    <a:pt x="97" y="1133"/>
                  </a:lnTo>
                  <a:lnTo>
                    <a:pt x="0" y="1234"/>
                  </a:lnTo>
                  <a:lnTo>
                    <a:pt x="0" y="1416"/>
                  </a:lnTo>
                  <a:lnTo>
                    <a:pt x="141" y="1588"/>
                  </a:lnTo>
                  <a:lnTo>
                    <a:pt x="268" y="1588"/>
                  </a:lnTo>
                  <a:lnTo>
                    <a:pt x="361" y="2170"/>
                  </a:lnTo>
                  <a:lnTo>
                    <a:pt x="467" y="2421"/>
                  </a:lnTo>
                  <a:lnTo>
                    <a:pt x="824" y="2642"/>
                  </a:lnTo>
                  <a:lnTo>
                    <a:pt x="1178" y="2611"/>
                  </a:lnTo>
                  <a:lnTo>
                    <a:pt x="1345" y="2170"/>
                  </a:lnTo>
                  <a:lnTo>
                    <a:pt x="1385" y="1504"/>
                  </a:lnTo>
                  <a:lnTo>
                    <a:pt x="1734" y="1168"/>
                  </a:lnTo>
                  <a:lnTo>
                    <a:pt x="1716" y="1036"/>
                  </a:lnTo>
                  <a:lnTo>
                    <a:pt x="1676" y="974"/>
                  </a:lnTo>
                  <a:lnTo>
                    <a:pt x="1495" y="961"/>
                  </a:lnTo>
                  <a:lnTo>
                    <a:pt x="1553" y="784"/>
                  </a:lnTo>
                  <a:lnTo>
                    <a:pt x="1368" y="665"/>
                  </a:lnTo>
                  <a:lnTo>
                    <a:pt x="1293" y="286"/>
                  </a:lnTo>
                  <a:lnTo>
                    <a:pt x="749" y="0"/>
                  </a:lnTo>
                  <a:lnTo>
                    <a:pt x="467" y="268"/>
                  </a:lnTo>
                  <a:lnTo>
                    <a:pt x="432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44480" y="1330200"/>
              <a:ext cx="572040" cy="1132200"/>
            </a:xfrm>
            <a:custGeom>
              <a:avLst/>
              <a:gdLst/>
              <a:ahLst/>
              <a:rect l="0" t="0" r="r" b="b"/>
              <a:pathLst>
                <a:path w="1589" h="3145">
                  <a:moveTo>
                    <a:pt x="326" y="163"/>
                  </a:moveTo>
                  <a:lnTo>
                    <a:pt x="552" y="313"/>
                  </a:lnTo>
                  <a:lnTo>
                    <a:pt x="662" y="485"/>
                  </a:lnTo>
                  <a:lnTo>
                    <a:pt x="1298" y="0"/>
                  </a:lnTo>
                  <a:lnTo>
                    <a:pt x="1496" y="101"/>
                  </a:lnTo>
                  <a:lnTo>
                    <a:pt x="1589" y="599"/>
                  </a:lnTo>
                  <a:lnTo>
                    <a:pt x="1129" y="2047"/>
                  </a:lnTo>
                  <a:lnTo>
                    <a:pt x="1276" y="2845"/>
                  </a:lnTo>
                  <a:lnTo>
                    <a:pt x="675" y="3145"/>
                  </a:lnTo>
                  <a:lnTo>
                    <a:pt x="211" y="2977"/>
                  </a:lnTo>
                  <a:lnTo>
                    <a:pt x="211" y="2126"/>
                  </a:lnTo>
                  <a:lnTo>
                    <a:pt x="0" y="1305"/>
                  </a:lnTo>
                  <a:lnTo>
                    <a:pt x="211" y="313"/>
                  </a:lnTo>
                  <a:lnTo>
                    <a:pt x="326" y="16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70040" y="412920"/>
              <a:ext cx="532080" cy="298800"/>
            </a:xfrm>
            <a:custGeom>
              <a:avLst/>
              <a:gdLst/>
              <a:ahLst/>
              <a:rect l="0" t="0" r="r" b="b"/>
              <a:pathLst>
                <a:path w="1478" h="830">
                  <a:moveTo>
                    <a:pt x="180" y="794"/>
                  </a:moveTo>
                  <a:lnTo>
                    <a:pt x="396" y="569"/>
                  </a:lnTo>
                  <a:lnTo>
                    <a:pt x="537" y="538"/>
                  </a:lnTo>
                  <a:lnTo>
                    <a:pt x="537" y="556"/>
                  </a:lnTo>
                  <a:lnTo>
                    <a:pt x="608" y="538"/>
                  </a:lnTo>
                  <a:lnTo>
                    <a:pt x="696" y="600"/>
                  </a:lnTo>
                  <a:lnTo>
                    <a:pt x="869" y="640"/>
                  </a:lnTo>
                  <a:lnTo>
                    <a:pt x="1015" y="830"/>
                  </a:lnTo>
                  <a:lnTo>
                    <a:pt x="1244" y="741"/>
                  </a:lnTo>
                  <a:lnTo>
                    <a:pt x="1244" y="658"/>
                  </a:lnTo>
                  <a:lnTo>
                    <a:pt x="1478" y="556"/>
                  </a:lnTo>
                  <a:lnTo>
                    <a:pt x="1407" y="401"/>
                  </a:lnTo>
                  <a:lnTo>
                    <a:pt x="1187" y="388"/>
                  </a:lnTo>
                  <a:lnTo>
                    <a:pt x="1222" y="220"/>
                  </a:lnTo>
                  <a:lnTo>
                    <a:pt x="1037" y="238"/>
                  </a:lnTo>
                  <a:lnTo>
                    <a:pt x="1002" y="119"/>
                  </a:lnTo>
                  <a:lnTo>
                    <a:pt x="869" y="119"/>
                  </a:lnTo>
                  <a:lnTo>
                    <a:pt x="781" y="180"/>
                  </a:lnTo>
                  <a:lnTo>
                    <a:pt x="696" y="180"/>
                  </a:lnTo>
                  <a:lnTo>
                    <a:pt x="714" y="0"/>
                  </a:lnTo>
                  <a:lnTo>
                    <a:pt x="537" y="88"/>
                  </a:lnTo>
                  <a:lnTo>
                    <a:pt x="291" y="388"/>
                  </a:lnTo>
                  <a:lnTo>
                    <a:pt x="277" y="180"/>
                  </a:lnTo>
                  <a:lnTo>
                    <a:pt x="145" y="282"/>
                  </a:lnTo>
                  <a:lnTo>
                    <a:pt x="114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80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12960" y="1539720"/>
              <a:ext cx="170280" cy="857520"/>
            </a:xfrm>
            <a:custGeom>
              <a:avLst/>
              <a:gdLst/>
              <a:ahLst/>
              <a:rect l="0" t="0" r="r" b="b"/>
              <a:pathLst>
                <a:path w="473" h="2382">
                  <a:moveTo>
                    <a:pt x="243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195" y="383"/>
                  </a:lnTo>
                  <a:lnTo>
                    <a:pt x="44" y="701"/>
                  </a:lnTo>
                  <a:lnTo>
                    <a:pt x="0" y="1115"/>
                  </a:lnTo>
                  <a:lnTo>
                    <a:pt x="120" y="1667"/>
                  </a:lnTo>
                  <a:lnTo>
                    <a:pt x="120" y="1897"/>
                  </a:lnTo>
                  <a:lnTo>
                    <a:pt x="57" y="2077"/>
                  </a:lnTo>
                  <a:lnTo>
                    <a:pt x="300" y="2382"/>
                  </a:lnTo>
                  <a:lnTo>
                    <a:pt x="456" y="1914"/>
                  </a:lnTo>
                  <a:lnTo>
                    <a:pt x="456" y="1601"/>
                  </a:lnTo>
                  <a:lnTo>
                    <a:pt x="340" y="1301"/>
                  </a:lnTo>
                  <a:lnTo>
                    <a:pt x="283" y="899"/>
                  </a:lnTo>
                  <a:lnTo>
                    <a:pt x="398" y="507"/>
                  </a:lnTo>
                  <a:lnTo>
                    <a:pt x="359" y="352"/>
                  </a:lnTo>
                  <a:lnTo>
                    <a:pt x="473" y="268"/>
                  </a:lnTo>
                  <a:lnTo>
                    <a:pt x="456" y="163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06480" y="1252440"/>
              <a:ext cx="138600" cy="78120"/>
            </a:xfrm>
            <a:custGeom>
              <a:avLst/>
              <a:gdLst/>
              <a:ahLst/>
              <a:rect l="0" t="0" r="r" b="b"/>
              <a:pathLst>
                <a:path w="385" h="217">
                  <a:moveTo>
                    <a:pt x="0" y="66"/>
                  </a:moveTo>
                  <a:lnTo>
                    <a:pt x="155" y="217"/>
                  </a:lnTo>
                  <a:lnTo>
                    <a:pt x="306" y="199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57440" y="855720"/>
              <a:ext cx="170280" cy="168480"/>
            </a:xfrm>
            <a:custGeom>
              <a:avLst/>
              <a:gdLst/>
              <a:ahLst/>
              <a:rect l="0" t="0" r="r" b="b"/>
              <a:pathLst>
                <a:path w="473" h="468">
                  <a:moveTo>
                    <a:pt x="0" y="48"/>
                  </a:moveTo>
                  <a:lnTo>
                    <a:pt x="327" y="468"/>
                  </a:lnTo>
                  <a:lnTo>
                    <a:pt x="473" y="437"/>
                  </a:lnTo>
                  <a:lnTo>
                    <a:pt x="12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57320" y="820800"/>
              <a:ext cx="146520" cy="167040"/>
            </a:xfrm>
            <a:custGeom>
              <a:avLst/>
              <a:gdLst/>
              <a:ahLst/>
              <a:rect l="0" t="0" r="r" b="b"/>
              <a:pathLst>
                <a:path w="407" h="464">
                  <a:moveTo>
                    <a:pt x="0" y="66"/>
                  </a:moveTo>
                  <a:lnTo>
                    <a:pt x="283" y="464"/>
                  </a:lnTo>
                  <a:lnTo>
                    <a:pt x="407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93720" y="604800"/>
              <a:ext cx="595800" cy="419400"/>
            </a:xfrm>
            <a:custGeom>
              <a:avLst/>
              <a:gdLst/>
              <a:ahLst/>
              <a:rect l="0" t="0" r="r" b="b"/>
              <a:pathLst>
                <a:path w="1655" h="1165">
                  <a:moveTo>
                    <a:pt x="759" y="688"/>
                  </a:moveTo>
                  <a:lnTo>
                    <a:pt x="609" y="649"/>
                  </a:lnTo>
                  <a:lnTo>
                    <a:pt x="737" y="542"/>
                  </a:lnTo>
                  <a:lnTo>
                    <a:pt x="693" y="489"/>
                  </a:lnTo>
                  <a:lnTo>
                    <a:pt x="521" y="627"/>
                  </a:lnTo>
                  <a:lnTo>
                    <a:pt x="207" y="658"/>
                  </a:lnTo>
                  <a:lnTo>
                    <a:pt x="0" y="666"/>
                  </a:lnTo>
                  <a:lnTo>
                    <a:pt x="0" y="825"/>
                  </a:lnTo>
                  <a:lnTo>
                    <a:pt x="198" y="1156"/>
                  </a:lnTo>
                  <a:lnTo>
                    <a:pt x="246" y="1165"/>
                  </a:lnTo>
                  <a:lnTo>
                    <a:pt x="70" y="803"/>
                  </a:lnTo>
                  <a:lnTo>
                    <a:pt x="343" y="688"/>
                  </a:lnTo>
                  <a:lnTo>
                    <a:pt x="521" y="688"/>
                  </a:lnTo>
                  <a:lnTo>
                    <a:pt x="658" y="763"/>
                  </a:lnTo>
                  <a:lnTo>
                    <a:pt x="693" y="865"/>
                  </a:lnTo>
                  <a:lnTo>
                    <a:pt x="693" y="1081"/>
                  </a:lnTo>
                  <a:lnTo>
                    <a:pt x="693" y="1156"/>
                  </a:lnTo>
                  <a:lnTo>
                    <a:pt x="768" y="1050"/>
                  </a:lnTo>
                  <a:lnTo>
                    <a:pt x="768" y="816"/>
                  </a:lnTo>
                  <a:lnTo>
                    <a:pt x="887" y="816"/>
                  </a:lnTo>
                  <a:lnTo>
                    <a:pt x="944" y="1081"/>
                  </a:lnTo>
                  <a:lnTo>
                    <a:pt x="1006" y="1112"/>
                  </a:lnTo>
                  <a:lnTo>
                    <a:pt x="1209" y="1112"/>
                  </a:lnTo>
                  <a:lnTo>
                    <a:pt x="1413" y="1059"/>
                  </a:lnTo>
                  <a:lnTo>
                    <a:pt x="1554" y="957"/>
                  </a:lnTo>
                  <a:lnTo>
                    <a:pt x="1576" y="728"/>
                  </a:lnTo>
                  <a:lnTo>
                    <a:pt x="1655" y="627"/>
                  </a:lnTo>
                  <a:lnTo>
                    <a:pt x="1607" y="560"/>
                  </a:lnTo>
                  <a:lnTo>
                    <a:pt x="1426" y="498"/>
                  </a:lnTo>
                  <a:lnTo>
                    <a:pt x="1395" y="260"/>
                  </a:lnTo>
                  <a:lnTo>
                    <a:pt x="1222" y="260"/>
                  </a:lnTo>
                  <a:lnTo>
                    <a:pt x="1015" y="0"/>
                  </a:lnTo>
                  <a:lnTo>
                    <a:pt x="1204" y="286"/>
                  </a:lnTo>
                  <a:lnTo>
                    <a:pt x="1263" y="286"/>
                  </a:lnTo>
                  <a:lnTo>
                    <a:pt x="1302" y="489"/>
                  </a:lnTo>
                  <a:lnTo>
                    <a:pt x="1068" y="560"/>
                  </a:lnTo>
                  <a:lnTo>
                    <a:pt x="900" y="507"/>
                  </a:lnTo>
                  <a:lnTo>
                    <a:pt x="874" y="560"/>
                  </a:lnTo>
                  <a:lnTo>
                    <a:pt x="966" y="627"/>
                  </a:lnTo>
                  <a:lnTo>
                    <a:pt x="966" y="680"/>
                  </a:lnTo>
                  <a:lnTo>
                    <a:pt x="1165" y="596"/>
                  </a:lnTo>
                  <a:lnTo>
                    <a:pt x="1329" y="573"/>
                  </a:lnTo>
                  <a:lnTo>
                    <a:pt x="1518" y="605"/>
                  </a:lnTo>
                  <a:lnTo>
                    <a:pt x="1518" y="636"/>
                  </a:lnTo>
                  <a:lnTo>
                    <a:pt x="1430" y="719"/>
                  </a:lnTo>
                  <a:lnTo>
                    <a:pt x="1395" y="816"/>
                  </a:lnTo>
                  <a:lnTo>
                    <a:pt x="1386" y="957"/>
                  </a:lnTo>
                  <a:lnTo>
                    <a:pt x="1276" y="1019"/>
                  </a:lnTo>
                  <a:lnTo>
                    <a:pt x="1116" y="1037"/>
                  </a:lnTo>
                  <a:lnTo>
                    <a:pt x="1006" y="1037"/>
                  </a:lnTo>
                  <a:lnTo>
                    <a:pt x="966" y="997"/>
                  </a:lnTo>
                  <a:lnTo>
                    <a:pt x="944" y="728"/>
                  </a:lnTo>
                  <a:lnTo>
                    <a:pt x="768" y="728"/>
                  </a:lnTo>
                  <a:lnTo>
                    <a:pt x="759" y="6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98560" y="1087560"/>
              <a:ext cx="192600" cy="86040"/>
            </a:xfrm>
            <a:custGeom>
              <a:avLst/>
              <a:gdLst/>
              <a:ahLst/>
              <a:rect l="0" t="0" r="r" b="b"/>
              <a:pathLst>
                <a:path w="535" h="239">
                  <a:moveTo>
                    <a:pt x="0" y="0"/>
                  </a:moveTo>
                  <a:lnTo>
                    <a:pt x="88" y="110"/>
                  </a:lnTo>
                  <a:lnTo>
                    <a:pt x="318" y="110"/>
                  </a:lnTo>
                  <a:lnTo>
                    <a:pt x="412" y="30"/>
                  </a:lnTo>
                  <a:lnTo>
                    <a:pt x="535" y="30"/>
                  </a:lnTo>
                  <a:lnTo>
                    <a:pt x="513" y="74"/>
                  </a:lnTo>
                  <a:lnTo>
                    <a:pt x="513" y="110"/>
                  </a:lnTo>
                  <a:lnTo>
                    <a:pt x="296" y="239"/>
                  </a:lnTo>
                  <a:lnTo>
                    <a:pt x="177" y="239"/>
                  </a:lnTo>
                  <a:lnTo>
                    <a:pt x="114" y="195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84360" y="949320"/>
              <a:ext cx="292320" cy="452880"/>
            </a:xfrm>
            <a:custGeom>
              <a:avLst/>
              <a:gdLst/>
              <a:ahLst/>
              <a:rect l="0" t="0" r="r" b="b"/>
              <a:pathLst>
                <a:path w="812" h="1258">
                  <a:moveTo>
                    <a:pt x="812" y="92"/>
                  </a:moveTo>
                  <a:lnTo>
                    <a:pt x="812" y="110"/>
                  </a:lnTo>
                  <a:lnTo>
                    <a:pt x="666" y="238"/>
                  </a:lnTo>
                  <a:lnTo>
                    <a:pt x="552" y="260"/>
                  </a:lnTo>
                  <a:lnTo>
                    <a:pt x="321" y="229"/>
                  </a:lnTo>
                  <a:lnTo>
                    <a:pt x="366" y="675"/>
                  </a:lnTo>
                  <a:lnTo>
                    <a:pt x="419" y="1051"/>
                  </a:lnTo>
                  <a:lnTo>
                    <a:pt x="516" y="1258"/>
                  </a:lnTo>
                  <a:lnTo>
                    <a:pt x="419" y="1113"/>
                  </a:lnTo>
                  <a:lnTo>
                    <a:pt x="379" y="958"/>
                  </a:lnTo>
                  <a:lnTo>
                    <a:pt x="313" y="530"/>
                  </a:lnTo>
                  <a:lnTo>
                    <a:pt x="246" y="552"/>
                  </a:lnTo>
                  <a:lnTo>
                    <a:pt x="171" y="508"/>
                  </a:lnTo>
                  <a:lnTo>
                    <a:pt x="17" y="282"/>
                  </a:lnTo>
                  <a:lnTo>
                    <a:pt x="0" y="158"/>
                  </a:lnTo>
                  <a:lnTo>
                    <a:pt x="0" y="79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0"/>
                  </a:lnTo>
                  <a:lnTo>
                    <a:pt x="66" y="52"/>
                  </a:lnTo>
                  <a:lnTo>
                    <a:pt x="48" y="149"/>
                  </a:lnTo>
                  <a:lnTo>
                    <a:pt x="57" y="268"/>
                  </a:lnTo>
                  <a:lnTo>
                    <a:pt x="163" y="375"/>
                  </a:lnTo>
                  <a:lnTo>
                    <a:pt x="207" y="353"/>
                  </a:lnTo>
                  <a:lnTo>
                    <a:pt x="207" y="123"/>
                  </a:lnTo>
                  <a:lnTo>
                    <a:pt x="304" y="167"/>
                  </a:lnTo>
                  <a:lnTo>
                    <a:pt x="455" y="207"/>
                  </a:lnTo>
                  <a:lnTo>
                    <a:pt x="591" y="198"/>
                  </a:lnTo>
                  <a:lnTo>
                    <a:pt x="719" y="123"/>
                  </a:lnTo>
                  <a:lnTo>
                    <a:pt x="812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63560" y="592200"/>
              <a:ext cx="87840" cy="241560"/>
            </a:xfrm>
            <a:custGeom>
              <a:avLst/>
              <a:gdLst/>
              <a:ahLst/>
              <a:rect l="0" t="0" r="r" b="b"/>
              <a:pathLst>
                <a:path w="244" h="671">
                  <a:moveTo>
                    <a:pt x="124" y="671"/>
                  </a:moveTo>
                  <a:lnTo>
                    <a:pt x="244" y="273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9" y="229"/>
                  </a:lnTo>
                  <a:lnTo>
                    <a:pt x="98" y="428"/>
                  </a:lnTo>
                  <a:lnTo>
                    <a:pt x="146" y="512"/>
                  </a:lnTo>
                  <a:lnTo>
                    <a:pt x="124" y="6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60680" y="380880"/>
              <a:ext cx="652680" cy="317880"/>
            </a:xfrm>
            <a:custGeom>
              <a:avLst/>
              <a:gdLst/>
              <a:ahLst/>
              <a:rect l="0" t="0" r="r" b="b"/>
              <a:pathLst>
                <a:path w="1813" h="883">
                  <a:moveTo>
                    <a:pt x="17" y="600"/>
                  </a:moveTo>
                  <a:lnTo>
                    <a:pt x="171" y="685"/>
                  </a:lnTo>
                  <a:lnTo>
                    <a:pt x="154" y="578"/>
                  </a:lnTo>
                  <a:lnTo>
                    <a:pt x="185" y="375"/>
                  </a:lnTo>
                  <a:lnTo>
                    <a:pt x="291" y="336"/>
                  </a:lnTo>
                  <a:lnTo>
                    <a:pt x="304" y="543"/>
                  </a:lnTo>
                  <a:lnTo>
                    <a:pt x="608" y="167"/>
                  </a:lnTo>
                  <a:lnTo>
                    <a:pt x="679" y="145"/>
                  </a:lnTo>
                  <a:lnTo>
                    <a:pt x="626" y="292"/>
                  </a:lnTo>
                  <a:lnTo>
                    <a:pt x="815" y="367"/>
                  </a:lnTo>
                  <a:lnTo>
                    <a:pt x="953" y="220"/>
                  </a:lnTo>
                  <a:lnTo>
                    <a:pt x="1028" y="261"/>
                  </a:lnTo>
                  <a:lnTo>
                    <a:pt x="962" y="389"/>
                  </a:lnTo>
                  <a:lnTo>
                    <a:pt x="1054" y="322"/>
                  </a:lnTo>
                  <a:lnTo>
                    <a:pt x="1187" y="375"/>
                  </a:lnTo>
                  <a:lnTo>
                    <a:pt x="1081" y="481"/>
                  </a:lnTo>
                  <a:lnTo>
                    <a:pt x="1451" y="543"/>
                  </a:lnTo>
                  <a:lnTo>
                    <a:pt x="1200" y="622"/>
                  </a:lnTo>
                  <a:lnTo>
                    <a:pt x="1513" y="663"/>
                  </a:lnTo>
                  <a:lnTo>
                    <a:pt x="1147" y="751"/>
                  </a:lnTo>
                  <a:lnTo>
                    <a:pt x="1222" y="813"/>
                  </a:lnTo>
                  <a:lnTo>
                    <a:pt x="1116" y="883"/>
                  </a:lnTo>
                  <a:lnTo>
                    <a:pt x="1306" y="883"/>
                  </a:lnTo>
                  <a:lnTo>
                    <a:pt x="1288" y="835"/>
                  </a:lnTo>
                  <a:lnTo>
                    <a:pt x="1482" y="879"/>
                  </a:lnTo>
                  <a:lnTo>
                    <a:pt x="1451" y="738"/>
                  </a:lnTo>
                  <a:lnTo>
                    <a:pt x="1637" y="672"/>
                  </a:lnTo>
                  <a:lnTo>
                    <a:pt x="1504" y="609"/>
                  </a:lnTo>
                  <a:lnTo>
                    <a:pt x="1813" y="591"/>
                  </a:lnTo>
                  <a:lnTo>
                    <a:pt x="1548" y="450"/>
                  </a:lnTo>
                  <a:lnTo>
                    <a:pt x="1244" y="411"/>
                  </a:lnTo>
                  <a:lnTo>
                    <a:pt x="1482" y="269"/>
                  </a:lnTo>
                  <a:lnTo>
                    <a:pt x="1054" y="269"/>
                  </a:lnTo>
                  <a:lnTo>
                    <a:pt x="1257" y="132"/>
                  </a:lnTo>
                  <a:lnTo>
                    <a:pt x="944" y="167"/>
                  </a:lnTo>
                  <a:lnTo>
                    <a:pt x="798" y="239"/>
                  </a:lnTo>
                  <a:lnTo>
                    <a:pt x="922" y="0"/>
                  </a:lnTo>
                  <a:lnTo>
                    <a:pt x="546" y="132"/>
                  </a:lnTo>
                  <a:lnTo>
                    <a:pt x="339" y="419"/>
                  </a:lnTo>
                  <a:lnTo>
                    <a:pt x="304" y="261"/>
                  </a:lnTo>
                  <a:lnTo>
                    <a:pt x="132" y="375"/>
                  </a:lnTo>
                  <a:lnTo>
                    <a:pt x="114" y="591"/>
                  </a:lnTo>
                  <a:lnTo>
                    <a:pt x="0" y="543"/>
                  </a:lnTo>
                  <a:lnTo>
                    <a:pt x="39" y="738"/>
                  </a:lnTo>
                  <a:lnTo>
                    <a:pt x="17" y="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1800" y="550800"/>
              <a:ext cx="184680" cy="95760"/>
            </a:xfrm>
            <a:custGeom>
              <a:avLst/>
              <a:gdLst/>
              <a:ahLst/>
              <a:rect l="0" t="0" r="r" b="b"/>
              <a:pathLst>
                <a:path w="513" h="266">
                  <a:moveTo>
                    <a:pt x="0" y="266"/>
                  </a:moveTo>
                  <a:lnTo>
                    <a:pt x="190" y="0"/>
                  </a:lnTo>
                  <a:lnTo>
                    <a:pt x="190" y="172"/>
                  </a:lnTo>
                  <a:lnTo>
                    <a:pt x="261" y="106"/>
                  </a:lnTo>
                  <a:lnTo>
                    <a:pt x="322" y="209"/>
                  </a:lnTo>
                  <a:lnTo>
                    <a:pt x="513" y="253"/>
                  </a:lnTo>
                  <a:lnTo>
                    <a:pt x="309" y="222"/>
                  </a:lnTo>
                  <a:lnTo>
                    <a:pt x="247" y="150"/>
                  </a:lnTo>
                  <a:lnTo>
                    <a:pt x="159" y="222"/>
                  </a:lnTo>
                  <a:lnTo>
                    <a:pt x="159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84520" y="119844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119" y="136"/>
                  </a:moveTo>
                  <a:lnTo>
                    <a:pt x="371" y="119"/>
                  </a:lnTo>
                  <a:lnTo>
                    <a:pt x="490" y="145"/>
                  </a:lnTo>
                  <a:lnTo>
                    <a:pt x="552" y="92"/>
                  </a:lnTo>
                  <a:lnTo>
                    <a:pt x="618" y="221"/>
                  </a:lnTo>
                  <a:lnTo>
                    <a:pt x="574" y="243"/>
                  </a:lnTo>
                  <a:lnTo>
                    <a:pt x="521" y="189"/>
                  </a:lnTo>
                  <a:lnTo>
                    <a:pt x="441" y="283"/>
                  </a:lnTo>
                  <a:lnTo>
                    <a:pt x="286" y="393"/>
                  </a:lnTo>
                  <a:lnTo>
                    <a:pt x="216" y="393"/>
                  </a:lnTo>
                  <a:lnTo>
                    <a:pt x="119" y="340"/>
                  </a:lnTo>
                  <a:lnTo>
                    <a:pt x="229" y="384"/>
                  </a:lnTo>
                  <a:lnTo>
                    <a:pt x="273" y="384"/>
                  </a:lnTo>
                  <a:lnTo>
                    <a:pt x="371" y="309"/>
                  </a:lnTo>
                  <a:lnTo>
                    <a:pt x="437" y="176"/>
                  </a:lnTo>
                  <a:lnTo>
                    <a:pt x="336" y="158"/>
                  </a:lnTo>
                  <a:lnTo>
                    <a:pt x="268" y="145"/>
                  </a:lnTo>
                  <a:lnTo>
                    <a:pt x="105" y="167"/>
                  </a:lnTo>
                  <a:lnTo>
                    <a:pt x="101" y="274"/>
                  </a:lnTo>
                  <a:lnTo>
                    <a:pt x="48" y="212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19" y="105"/>
                  </a:lnTo>
                  <a:lnTo>
                    <a:pt x="119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57520" y="890640"/>
              <a:ext cx="475200" cy="655920"/>
            </a:xfrm>
            <a:custGeom>
              <a:avLst/>
              <a:gdLst/>
              <a:ahLst/>
              <a:rect l="0" t="0" r="r" b="b"/>
              <a:pathLst>
                <a:path w="1320" h="1822">
                  <a:moveTo>
                    <a:pt x="1113" y="0"/>
                  </a:moveTo>
                  <a:lnTo>
                    <a:pt x="1241" y="0"/>
                  </a:lnTo>
                  <a:lnTo>
                    <a:pt x="1320" y="92"/>
                  </a:lnTo>
                  <a:lnTo>
                    <a:pt x="1320" y="185"/>
                  </a:lnTo>
                  <a:lnTo>
                    <a:pt x="1210" y="476"/>
                  </a:lnTo>
                  <a:lnTo>
                    <a:pt x="1104" y="612"/>
                  </a:lnTo>
                  <a:lnTo>
                    <a:pt x="988" y="630"/>
                  </a:lnTo>
                  <a:lnTo>
                    <a:pt x="957" y="630"/>
                  </a:lnTo>
                  <a:lnTo>
                    <a:pt x="957" y="993"/>
                  </a:lnTo>
                  <a:lnTo>
                    <a:pt x="1011" y="1253"/>
                  </a:lnTo>
                  <a:lnTo>
                    <a:pt x="1011" y="1460"/>
                  </a:lnTo>
                  <a:lnTo>
                    <a:pt x="812" y="1676"/>
                  </a:lnTo>
                  <a:lnTo>
                    <a:pt x="538" y="1822"/>
                  </a:lnTo>
                  <a:lnTo>
                    <a:pt x="367" y="1822"/>
                  </a:lnTo>
                  <a:lnTo>
                    <a:pt x="277" y="1782"/>
                  </a:lnTo>
                  <a:lnTo>
                    <a:pt x="154" y="1531"/>
                  </a:lnTo>
                  <a:lnTo>
                    <a:pt x="44" y="1438"/>
                  </a:lnTo>
                  <a:lnTo>
                    <a:pt x="0" y="1376"/>
                  </a:lnTo>
                  <a:lnTo>
                    <a:pt x="145" y="1460"/>
                  </a:lnTo>
                  <a:lnTo>
                    <a:pt x="255" y="1553"/>
                  </a:lnTo>
                  <a:lnTo>
                    <a:pt x="464" y="1566"/>
                  </a:lnTo>
                  <a:lnTo>
                    <a:pt x="658" y="1473"/>
                  </a:lnTo>
                  <a:lnTo>
                    <a:pt x="755" y="1376"/>
                  </a:lnTo>
                  <a:lnTo>
                    <a:pt x="865" y="1187"/>
                  </a:lnTo>
                  <a:lnTo>
                    <a:pt x="882" y="966"/>
                  </a:lnTo>
                  <a:lnTo>
                    <a:pt x="922" y="268"/>
                  </a:lnTo>
                  <a:lnTo>
                    <a:pt x="966" y="370"/>
                  </a:lnTo>
                  <a:lnTo>
                    <a:pt x="1100" y="242"/>
                  </a:lnTo>
                  <a:lnTo>
                    <a:pt x="1232" y="185"/>
                  </a:lnTo>
                  <a:lnTo>
                    <a:pt x="1267" y="114"/>
                  </a:lnTo>
                  <a:lnTo>
                    <a:pt x="1249" y="39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20600" y="1455840"/>
              <a:ext cx="383040" cy="608400"/>
            </a:xfrm>
            <a:custGeom>
              <a:avLst/>
              <a:gdLst/>
              <a:ahLst/>
              <a:rect l="0" t="0" r="r" b="b"/>
              <a:pathLst>
                <a:path w="1064" h="1690">
                  <a:moveTo>
                    <a:pt x="132" y="0"/>
                  </a:moveTo>
                  <a:lnTo>
                    <a:pt x="255" y="79"/>
                  </a:lnTo>
                  <a:lnTo>
                    <a:pt x="349" y="418"/>
                  </a:lnTo>
                  <a:lnTo>
                    <a:pt x="622" y="499"/>
                  </a:lnTo>
                  <a:lnTo>
                    <a:pt x="697" y="591"/>
                  </a:lnTo>
                  <a:lnTo>
                    <a:pt x="710" y="715"/>
                  </a:lnTo>
                  <a:lnTo>
                    <a:pt x="848" y="697"/>
                  </a:lnTo>
                  <a:lnTo>
                    <a:pt x="1011" y="807"/>
                  </a:lnTo>
                  <a:lnTo>
                    <a:pt x="1064" y="944"/>
                  </a:lnTo>
                  <a:lnTo>
                    <a:pt x="1064" y="1182"/>
                  </a:lnTo>
                  <a:lnTo>
                    <a:pt x="848" y="1545"/>
                  </a:lnTo>
                  <a:lnTo>
                    <a:pt x="772" y="1690"/>
                  </a:lnTo>
                  <a:lnTo>
                    <a:pt x="813" y="1492"/>
                  </a:lnTo>
                  <a:lnTo>
                    <a:pt x="772" y="1421"/>
                  </a:lnTo>
                  <a:lnTo>
                    <a:pt x="644" y="1298"/>
                  </a:lnTo>
                  <a:lnTo>
                    <a:pt x="433" y="1147"/>
                  </a:lnTo>
                  <a:lnTo>
                    <a:pt x="684" y="1231"/>
                  </a:lnTo>
                  <a:lnTo>
                    <a:pt x="835" y="1342"/>
                  </a:lnTo>
                  <a:lnTo>
                    <a:pt x="910" y="1329"/>
                  </a:lnTo>
                  <a:lnTo>
                    <a:pt x="954" y="1266"/>
                  </a:lnTo>
                  <a:lnTo>
                    <a:pt x="1011" y="1094"/>
                  </a:lnTo>
                  <a:lnTo>
                    <a:pt x="994" y="931"/>
                  </a:lnTo>
                  <a:lnTo>
                    <a:pt x="919" y="834"/>
                  </a:lnTo>
                  <a:lnTo>
                    <a:pt x="785" y="807"/>
                  </a:lnTo>
                  <a:lnTo>
                    <a:pt x="644" y="807"/>
                  </a:lnTo>
                  <a:lnTo>
                    <a:pt x="596" y="556"/>
                  </a:lnTo>
                  <a:lnTo>
                    <a:pt x="362" y="472"/>
                  </a:lnTo>
                  <a:lnTo>
                    <a:pt x="362" y="538"/>
                  </a:lnTo>
                  <a:lnTo>
                    <a:pt x="255" y="361"/>
                  </a:lnTo>
                  <a:lnTo>
                    <a:pt x="194" y="79"/>
                  </a:lnTo>
                  <a:lnTo>
                    <a:pt x="105" y="44"/>
                  </a:lnTo>
                  <a:lnTo>
                    <a:pt x="52" y="132"/>
                  </a:lnTo>
                  <a:lnTo>
                    <a:pt x="52" y="330"/>
                  </a:lnTo>
                  <a:lnTo>
                    <a:pt x="97" y="538"/>
                  </a:lnTo>
                  <a:lnTo>
                    <a:pt x="220" y="715"/>
                  </a:lnTo>
                  <a:lnTo>
                    <a:pt x="83" y="609"/>
                  </a:lnTo>
                  <a:lnTo>
                    <a:pt x="13" y="418"/>
                  </a:lnTo>
                  <a:lnTo>
                    <a:pt x="0" y="176"/>
                  </a:lnTo>
                  <a:lnTo>
                    <a:pt x="52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8080" y="1724040"/>
              <a:ext cx="252720" cy="486000"/>
            </a:xfrm>
            <a:custGeom>
              <a:avLst/>
              <a:gdLst/>
              <a:ahLst/>
              <a:rect l="0" t="0" r="r" b="b"/>
              <a:pathLst>
                <a:path w="702" h="1350">
                  <a:moveTo>
                    <a:pt x="702" y="0"/>
                  </a:moveTo>
                  <a:lnTo>
                    <a:pt x="556" y="92"/>
                  </a:lnTo>
                  <a:lnTo>
                    <a:pt x="384" y="414"/>
                  </a:lnTo>
                  <a:lnTo>
                    <a:pt x="220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4"/>
                  </a:lnTo>
                  <a:lnTo>
                    <a:pt x="136" y="1134"/>
                  </a:lnTo>
                  <a:lnTo>
                    <a:pt x="268" y="1019"/>
                  </a:lnTo>
                  <a:lnTo>
                    <a:pt x="371" y="777"/>
                  </a:lnTo>
                  <a:lnTo>
                    <a:pt x="516" y="630"/>
                  </a:lnTo>
                  <a:lnTo>
                    <a:pt x="516" y="825"/>
                  </a:lnTo>
                  <a:lnTo>
                    <a:pt x="494" y="1002"/>
                  </a:lnTo>
                  <a:lnTo>
                    <a:pt x="343" y="1240"/>
                  </a:lnTo>
                  <a:lnTo>
                    <a:pt x="343" y="1319"/>
                  </a:lnTo>
                  <a:lnTo>
                    <a:pt x="494" y="1350"/>
                  </a:lnTo>
                  <a:lnTo>
                    <a:pt x="384" y="1279"/>
                  </a:lnTo>
                  <a:lnTo>
                    <a:pt x="402" y="1240"/>
                  </a:lnTo>
                  <a:lnTo>
                    <a:pt x="508" y="1068"/>
                  </a:lnTo>
                  <a:lnTo>
                    <a:pt x="583" y="750"/>
                  </a:lnTo>
                  <a:lnTo>
                    <a:pt x="530" y="568"/>
                  </a:lnTo>
                  <a:lnTo>
                    <a:pt x="415" y="670"/>
                  </a:lnTo>
                  <a:lnTo>
                    <a:pt x="163" y="1076"/>
                  </a:lnTo>
                  <a:lnTo>
                    <a:pt x="101" y="1090"/>
                  </a:lnTo>
                  <a:lnTo>
                    <a:pt x="39" y="1050"/>
                  </a:lnTo>
                  <a:lnTo>
                    <a:pt x="39" y="927"/>
                  </a:lnTo>
                  <a:lnTo>
                    <a:pt x="136" y="763"/>
                  </a:lnTo>
                  <a:lnTo>
                    <a:pt x="415" y="436"/>
                  </a:lnTo>
                  <a:lnTo>
                    <a:pt x="583" y="123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25640" y="1996920"/>
              <a:ext cx="157680" cy="233640"/>
            </a:xfrm>
            <a:custGeom>
              <a:avLst/>
              <a:gdLst/>
              <a:ahLst/>
              <a:rect l="0" t="0" r="r" b="b"/>
              <a:pathLst>
                <a:path w="438" h="649">
                  <a:moveTo>
                    <a:pt x="0" y="569"/>
                  </a:moveTo>
                  <a:lnTo>
                    <a:pt x="146" y="406"/>
                  </a:lnTo>
                  <a:lnTo>
                    <a:pt x="172" y="242"/>
                  </a:lnTo>
                  <a:lnTo>
                    <a:pt x="337" y="0"/>
                  </a:lnTo>
                  <a:lnTo>
                    <a:pt x="372" y="158"/>
                  </a:lnTo>
                  <a:lnTo>
                    <a:pt x="350" y="583"/>
                  </a:lnTo>
                  <a:lnTo>
                    <a:pt x="438" y="649"/>
                  </a:lnTo>
                  <a:lnTo>
                    <a:pt x="309" y="605"/>
                  </a:lnTo>
                  <a:lnTo>
                    <a:pt x="243" y="362"/>
                  </a:lnTo>
                  <a:lnTo>
                    <a:pt x="146" y="481"/>
                  </a:lnTo>
                  <a:lnTo>
                    <a:pt x="0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17520" y="2009880"/>
              <a:ext cx="103680" cy="209880"/>
            </a:xfrm>
            <a:custGeom>
              <a:avLst/>
              <a:gdLst/>
              <a:ahLst/>
              <a:rect l="0" t="0" r="r" b="b"/>
              <a:pathLst>
                <a:path w="288" h="583">
                  <a:moveTo>
                    <a:pt x="0" y="437"/>
                  </a:moveTo>
                  <a:lnTo>
                    <a:pt x="13" y="224"/>
                  </a:lnTo>
                  <a:lnTo>
                    <a:pt x="75" y="97"/>
                  </a:lnTo>
                  <a:lnTo>
                    <a:pt x="142" y="556"/>
                  </a:lnTo>
                  <a:lnTo>
                    <a:pt x="226" y="556"/>
                  </a:lnTo>
                  <a:lnTo>
                    <a:pt x="266" y="66"/>
                  </a:lnTo>
                  <a:lnTo>
                    <a:pt x="288" y="0"/>
                  </a:lnTo>
                  <a:lnTo>
                    <a:pt x="266" y="380"/>
                  </a:lnTo>
                  <a:lnTo>
                    <a:pt x="226" y="583"/>
                  </a:lnTo>
                  <a:lnTo>
                    <a:pt x="115" y="583"/>
                  </a:lnTo>
                  <a:lnTo>
                    <a:pt x="66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5120" y="1187280"/>
              <a:ext cx="249480" cy="559080"/>
            </a:xfrm>
            <a:custGeom>
              <a:avLst/>
              <a:gdLst/>
              <a:ahLst/>
              <a:rect l="0" t="0" r="r" b="b"/>
              <a:pathLst>
                <a:path w="693" h="1553">
                  <a:moveTo>
                    <a:pt x="180" y="838"/>
                  </a:moveTo>
                  <a:lnTo>
                    <a:pt x="233" y="599"/>
                  </a:lnTo>
                  <a:lnTo>
                    <a:pt x="468" y="533"/>
                  </a:lnTo>
                  <a:lnTo>
                    <a:pt x="693" y="0"/>
                  </a:lnTo>
                  <a:lnTo>
                    <a:pt x="693" y="154"/>
                  </a:lnTo>
                  <a:lnTo>
                    <a:pt x="503" y="564"/>
                  </a:lnTo>
                  <a:lnTo>
                    <a:pt x="255" y="643"/>
                  </a:lnTo>
                  <a:lnTo>
                    <a:pt x="220" y="838"/>
                  </a:lnTo>
                  <a:lnTo>
                    <a:pt x="308" y="838"/>
                  </a:lnTo>
                  <a:lnTo>
                    <a:pt x="92" y="927"/>
                  </a:lnTo>
                  <a:lnTo>
                    <a:pt x="39" y="1090"/>
                  </a:lnTo>
                  <a:lnTo>
                    <a:pt x="52" y="1306"/>
                  </a:lnTo>
                  <a:lnTo>
                    <a:pt x="282" y="1553"/>
                  </a:lnTo>
                  <a:lnTo>
                    <a:pt x="39" y="1332"/>
                  </a:lnTo>
                  <a:lnTo>
                    <a:pt x="0" y="1156"/>
                  </a:lnTo>
                  <a:lnTo>
                    <a:pt x="17" y="979"/>
                  </a:lnTo>
                  <a:lnTo>
                    <a:pt x="105" y="852"/>
                  </a:lnTo>
                  <a:lnTo>
                    <a:pt x="180" y="83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03600" y="1187280"/>
              <a:ext cx="419400" cy="541800"/>
            </a:xfrm>
            <a:custGeom>
              <a:avLst/>
              <a:gdLst/>
              <a:ahLst/>
              <a:rect l="0" t="0" r="r" b="b"/>
              <a:pathLst>
                <a:path w="1165" h="1505">
                  <a:moveTo>
                    <a:pt x="321" y="0"/>
                  </a:moveTo>
                  <a:lnTo>
                    <a:pt x="392" y="44"/>
                  </a:lnTo>
                  <a:lnTo>
                    <a:pt x="414" y="171"/>
                  </a:lnTo>
                  <a:lnTo>
                    <a:pt x="414" y="291"/>
                  </a:lnTo>
                  <a:lnTo>
                    <a:pt x="282" y="512"/>
                  </a:lnTo>
                  <a:lnTo>
                    <a:pt x="308" y="671"/>
                  </a:lnTo>
                  <a:lnTo>
                    <a:pt x="702" y="847"/>
                  </a:lnTo>
                  <a:lnTo>
                    <a:pt x="1156" y="1320"/>
                  </a:lnTo>
                  <a:lnTo>
                    <a:pt x="1165" y="1452"/>
                  </a:lnTo>
                  <a:lnTo>
                    <a:pt x="1138" y="1505"/>
                  </a:lnTo>
                  <a:lnTo>
                    <a:pt x="971" y="1505"/>
                  </a:lnTo>
                  <a:lnTo>
                    <a:pt x="816" y="1413"/>
                  </a:lnTo>
                  <a:lnTo>
                    <a:pt x="693" y="1258"/>
                  </a:lnTo>
                  <a:lnTo>
                    <a:pt x="622" y="1170"/>
                  </a:lnTo>
                  <a:lnTo>
                    <a:pt x="537" y="1152"/>
                  </a:lnTo>
                  <a:lnTo>
                    <a:pt x="640" y="1152"/>
                  </a:lnTo>
                  <a:lnTo>
                    <a:pt x="830" y="1399"/>
                  </a:lnTo>
                  <a:lnTo>
                    <a:pt x="1072" y="1474"/>
                  </a:lnTo>
                  <a:lnTo>
                    <a:pt x="1125" y="1399"/>
                  </a:lnTo>
                  <a:lnTo>
                    <a:pt x="1099" y="1285"/>
                  </a:lnTo>
                  <a:lnTo>
                    <a:pt x="675" y="949"/>
                  </a:lnTo>
                  <a:lnTo>
                    <a:pt x="613" y="847"/>
                  </a:lnTo>
                  <a:lnTo>
                    <a:pt x="282" y="763"/>
                  </a:lnTo>
                  <a:lnTo>
                    <a:pt x="224" y="847"/>
                  </a:lnTo>
                  <a:lnTo>
                    <a:pt x="0" y="988"/>
                  </a:lnTo>
                  <a:lnTo>
                    <a:pt x="211" y="825"/>
                  </a:lnTo>
                  <a:lnTo>
                    <a:pt x="224" y="719"/>
                  </a:lnTo>
                  <a:lnTo>
                    <a:pt x="224" y="477"/>
                  </a:lnTo>
                  <a:lnTo>
                    <a:pt x="374" y="291"/>
                  </a:lnTo>
                  <a:lnTo>
                    <a:pt x="374" y="5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27280" y="1612800"/>
              <a:ext cx="356040" cy="321120"/>
            </a:xfrm>
            <a:custGeom>
              <a:avLst/>
              <a:gdLst/>
              <a:ahLst/>
              <a:rect l="0" t="0" r="r" b="b"/>
              <a:pathLst>
                <a:path w="989" h="892">
                  <a:moveTo>
                    <a:pt x="741" y="0"/>
                  </a:moveTo>
                  <a:lnTo>
                    <a:pt x="715" y="79"/>
                  </a:lnTo>
                  <a:lnTo>
                    <a:pt x="866" y="371"/>
                  </a:lnTo>
                  <a:lnTo>
                    <a:pt x="936" y="672"/>
                  </a:lnTo>
                  <a:lnTo>
                    <a:pt x="853" y="672"/>
                  </a:lnTo>
                  <a:lnTo>
                    <a:pt x="702" y="538"/>
                  </a:lnTo>
                  <a:lnTo>
                    <a:pt x="569" y="261"/>
                  </a:lnTo>
                  <a:lnTo>
                    <a:pt x="464" y="220"/>
                  </a:lnTo>
                  <a:lnTo>
                    <a:pt x="481" y="371"/>
                  </a:lnTo>
                  <a:lnTo>
                    <a:pt x="578" y="481"/>
                  </a:lnTo>
                  <a:lnTo>
                    <a:pt x="578" y="689"/>
                  </a:lnTo>
                  <a:lnTo>
                    <a:pt x="508" y="853"/>
                  </a:lnTo>
                  <a:lnTo>
                    <a:pt x="415" y="786"/>
                  </a:lnTo>
                  <a:lnTo>
                    <a:pt x="305" y="538"/>
                  </a:lnTo>
                  <a:lnTo>
                    <a:pt x="278" y="371"/>
                  </a:lnTo>
                  <a:lnTo>
                    <a:pt x="211" y="327"/>
                  </a:lnTo>
                  <a:lnTo>
                    <a:pt x="194" y="756"/>
                  </a:lnTo>
                  <a:lnTo>
                    <a:pt x="105" y="813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6" y="879"/>
                  </a:lnTo>
                  <a:lnTo>
                    <a:pt x="194" y="879"/>
                  </a:lnTo>
                  <a:lnTo>
                    <a:pt x="238" y="773"/>
                  </a:lnTo>
                  <a:lnTo>
                    <a:pt x="265" y="433"/>
                  </a:lnTo>
                  <a:lnTo>
                    <a:pt x="287" y="565"/>
                  </a:lnTo>
                  <a:lnTo>
                    <a:pt x="397" y="861"/>
                  </a:lnTo>
                  <a:lnTo>
                    <a:pt x="521" y="892"/>
                  </a:lnTo>
                  <a:lnTo>
                    <a:pt x="613" y="773"/>
                  </a:lnTo>
                  <a:lnTo>
                    <a:pt x="613" y="494"/>
                  </a:lnTo>
                  <a:lnTo>
                    <a:pt x="853" y="729"/>
                  </a:lnTo>
                  <a:lnTo>
                    <a:pt x="976" y="729"/>
                  </a:lnTo>
                  <a:lnTo>
                    <a:pt x="989" y="565"/>
                  </a:lnTo>
                  <a:lnTo>
                    <a:pt x="897" y="287"/>
                  </a:lnTo>
                  <a:lnTo>
                    <a:pt x="741" y="57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87280" y="1281240"/>
              <a:ext cx="1586160" cy="1308600"/>
            </a:xfrm>
            <a:custGeom>
              <a:avLst/>
              <a:gdLst/>
              <a:ahLst/>
              <a:rect l="0" t="0" r="r" b="b"/>
              <a:pathLst>
                <a:path w="4406" h="3635">
                  <a:moveTo>
                    <a:pt x="1587" y="304"/>
                  </a:moveTo>
                  <a:lnTo>
                    <a:pt x="1503" y="317"/>
                  </a:lnTo>
                  <a:lnTo>
                    <a:pt x="1380" y="502"/>
                  </a:lnTo>
                  <a:lnTo>
                    <a:pt x="1336" y="370"/>
                  </a:lnTo>
                  <a:lnTo>
                    <a:pt x="1195" y="291"/>
                  </a:lnTo>
                  <a:lnTo>
                    <a:pt x="1089" y="352"/>
                  </a:lnTo>
                  <a:lnTo>
                    <a:pt x="1045" y="590"/>
                  </a:lnTo>
                  <a:lnTo>
                    <a:pt x="652" y="877"/>
                  </a:lnTo>
                  <a:lnTo>
                    <a:pt x="679" y="1002"/>
                  </a:lnTo>
                  <a:lnTo>
                    <a:pt x="582" y="1112"/>
                  </a:lnTo>
                  <a:lnTo>
                    <a:pt x="582" y="1200"/>
                  </a:lnTo>
                  <a:lnTo>
                    <a:pt x="696" y="1473"/>
                  </a:lnTo>
                  <a:lnTo>
                    <a:pt x="705" y="1813"/>
                  </a:lnTo>
                  <a:lnTo>
                    <a:pt x="630" y="2126"/>
                  </a:lnTo>
                  <a:lnTo>
                    <a:pt x="348" y="2320"/>
                  </a:lnTo>
                  <a:lnTo>
                    <a:pt x="308" y="2580"/>
                  </a:lnTo>
                  <a:lnTo>
                    <a:pt x="220" y="2580"/>
                  </a:lnTo>
                  <a:lnTo>
                    <a:pt x="176" y="2364"/>
                  </a:lnTo>
                  <a:lnTo>
                    <a:pt x="92" y="2364"/>
                  </a:lnTo>
                  <a:lnTo>
                    <a:pt x="52" y="2593"/>
                  </a:lnTo>
                  <a:lnTo>
                    <a:pt x="0" y="2651"/>
                  </a:lnTo>
                  <a:lnTo>
                    <a:pt x="194" y="2969"/>
                  </a:lnTo>
                  <a:lnTo>
                    <a:pt x="335" y="2982"/>
                  </a:lnTo>
                  <a:lnTo>
                    <a:pt x="582" y="3216"/>
                  </a:lnTo>
                  <a:lnTo>
                    <a:pt x="806" y="3243"/>
                  </a:lnTo>
                  <a:lnTo>
                    <a:pt x="934" y="3119"/>
                  </a:lnTo>
                  <a:lnTo>
                    <a:pt x="1239" y="2673"/>
                  </a:lnTo>
                  <a:lnTo>
                    <a:pt x="1265" y="3274"/>
                  </a:lnTo>
                  <a:lnTo>
                    <a:pt x="1239" y="3635"/>
                  </a:lnTo>
                  <a:lnTo>
                    <a:pt x="3784" y="3635"/>
                  </a:lnTo>
                  <a:lnTo>
                    <a:pt x="3599" y="3243"/>
                  </a:lnTo>
                  <a:lnTo>
                    <a:pt x="3506" y="2903"/>
                  </a:lnTo>
                  <a:lnTo>
                    <a:pt x="3484" y="2399"/>
                  </a:lnTo>
                  <a:lnTo>
                    <a:pt x="3634" y="2514"/>
                  </a:lnTo>
                  <a:lnTo>
                    <a:pt x="3784" y="2514"/>
                  </a:lnTo>
                  <a:lnTo>
                    <a:pt x="3991" y="2382"/>
                  </a:lnTo>
                  <a:lnTo>
                    <a:pt x="4132" y="2364"/>
                  </a:lnTo>
                  <a:lnTo>
                    <a:pt x="4221" y="2232"/>
                  </a:lnTo>
                  <a:lnTo>
                    <a:pt x="4278" y="1892"/>
                  </a:lnTo>
                  <a:lnTo>
                    <a:pt x="4406" y="1747"/>
                  </a:lnTo>
                  <a:lnTo>
                    <a:pt x="4340" y="1650"/>
                  </a:lnTo>
                  <a:lnTo>
                    <a:pt x="4247" y="1650"/>
                  </a:lnTo>
                  <a:lnTo>
                    <a:pt x="4172" y="1716"/>
                  </a:lnTo>
                  <a:lnTo>
                    <a:pt x="4097" y="1734"/>
                  </a:lnTo>
                  <a:lnTo>
                    <a:pt x="4005" y="1650"/>
                  </a:lnTo>
                  <a:lnTo>
                    <a:pt x="3899" y="1637"/>
                  </a:lnTo>
                  <a:lnTo>
                    <a:pt x="3696" y="1509"/>
                  </a:lnTo>
                  <a:lnTo>
                    <a:pt x="3572" y="1372"/>
                  </a:lnTo>
                  <a:lnTo>
                    <a:pt x="3550" y="1200"/>
                  </a:lnTo>
                  <a:lnTo>
                    <a:pt x="3572" y="1041"/>
                  </a:lnTo>
                  <a:lnTo>
                    <a:pt x="3656" y="908"/>
                  </a:lnTo>
                  <a:lnTo>
                    <a:pt x="3762" y="789"/>
                  </a:lnTo>
                  <a:lnTo>
                    <a:pt x="3753" y="577"/>
                  </a:lnTo>
                  <a:lnTo>
                    <a:pt x="3753" y="427"/>
                  </a:lnTo>
                  <a:lnTo>
                    <a:pt x="3696" y="317"/>
                  </a:lnTo>
                  <a:lnTo>
                    <a:pt x="3550" y="273"/>
                  </a:lnTo>
                  <a:lnTo>
                    <a:pt x="3497" y="246"/>
                  </a:lnTo>
                  <a:lnTo>
                    <a:pt x="3392" y="70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0"/>
                  </a:lnTo>
                  <a:lnTo>
                    <a:pt x="3074" y="127"/>
                  </a:lnTo>
                  <a:lnTo>
                    <a:pt x="2977" y="180"/>
                  </a:lnTo>
                  <a:lnTo>
                    <a:pt x="2867" y="207"/>
                  </a:lnTo>
                  <a:lnTo>
                    <a:pt x="2748" y="207"/>
                  </a:lnTo>
                  <a:lnTo>
                    <a:pt x="2770" y="383"/>
                  </a:lnTo>
                  <a:lnTo>
                    <a:pt x="2770" y="608"/>
                  </a:lnTo>
                  <a:lnTo>
                    <a:pt x="2748" y="758"/>
                  </a:lnTo>
                  <a:lnTo>
                    <a:pt x="2638" y="935"/>
                  </a:lnTo>
                  <a:lnTo>
                    <a:pt x="2501" y="1209"/>
                  </a:lnTo>
                  <a:lnTo>
                    <a:pt x="2391" y="1539"/>
                  </a:lnTo>
                  <a:lnTo>
                    <a:pt x="2382" y="1734"/>
                  </a:lnTo>
                  <a:lnTo>
                    <a:pt x="2329" y="1905"/>
                  </a:lnTo>
                  <a:lnTo>
                    <a:pt x="2263" y="2069"/>
                  </a:lnTo>
                  <a:lnTo>
                    <a:pt x="2232" y="2333"/>
                  </a:lnTo>
                  <a:lnTo>
                    <a:pt x="2249" y="2554"/>
                  </a:lnTo>
                  <a:lnTo>
                    <a:pt x="2329" y="2810"/>
                  </a:lnTo>
                  <a:lnTo>
                    <a:pt x="2382" y="2903"/>
                  </a:lnTo>
                  <a:lnTo>
                    <a:pt x="2232" y="3000"/>
                  </a:lnTo>
                  <a:lnTo>
                    <a:pt x="2054" y="3062"/>
                  </a:lnTo>
                  <a:lnTo>
                    <a:pt x="1860" y="3079"/>
                  </a:lnTo>
                  <a:lnTo>
                    <a:pt x="1737" y="3079"/>
                  </a:lnTo>
                  <a:lnTo>
                    <a:pt x="1658" y="3040"/>
                  </a:lnTo>
                  <a:lnTo>
                    <a:pt x="1658" y="2828"/>
                  </a:lnTo>
                  <a:lnTo>
                    <a:pt x="1658" y="2501"/>
                  </a:lnTo>
                  <a:lnTo>
                    <a:pt x="1613" y="2188"/>
                  </a:lnTo>
                  <a:lnTo>
                    <a:pt x="1534" y="1905"/>
                  </a:lnTo>
                  <a:lnTo>
                    <a:pt x="1494" y="1676"/>
                  </a:lnTo>
                  <a:lnTo>
                    <a:pt x="1481" y="1350"/>
                  </a:lnTo>
                  <a:lnTo>
                    <a:pt x="1534" y="1072"/>
                  </a:lnTo>
                  <a:lnTo>
                    <a:pt x="1613" y="851"/>
                  </a:lnTo>
                  <a:lnTo>
                    <a:pt x="1618" y="709"/>
                  </a:lnTo>
                  <a:lnTo>
                    <a:pt x="1587" y="520"/>
                  </a:lnTo>
                  <a:lnTo>
                    <a:pt x="1587" y="370"/>
                  </a:lnTo>
                  <a:lnTo>
                    <a:pt x="1613" y="317"/>
                  </a:lnTo>
                  <a:lnTo>
                    <a:pt x="1587" y="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05040" y="1542960"/>
              <a:ext cx="200520" cy="851400"/>
            </a:xfrm>
            <a:custGeom>
              <a:avLst/>
              <a:gdLst/>
              <a:ahLst/>
              <a:rect l="0" t="0" r="r" b="b"/>
              <a:pathLst>
                <a:path w="557" h="2365">
                  <a:moveTo>
                    <a:pt x="221" y="26"/>
                  </a:moveTo>
                  <a:lnTo>
                    <a:pt x="74" y="105"/>
                  </a:lnTo>
                  <a:lnTo>
                    <a:pt x="88" y="335"/>
                  </a:lnTo>
                  <a:lnTo>
                    <a:pt x="195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9" y="1707"/>
                  </a:lnTo>
                  <a:lnTo>
                    <a:pt x="119" y="1871"/>
                  </a:lnTo>
                  <a:lnTo>
                    <a:pt x="66" y="2078"/>
                  </a:lnTo>
                  <a:lnTo>
                    <a:pt x="287" y="2365"/>
                  </a:lnTo>
                  <a:lnTo>
                    <a:pt x="384" y="2321"/>
                  </a:lnTo>
                  <a:lnTo>
                    <a:pt x="442" y="2118"/>
                  </a:lnTo>
                  <a:lnTo>
                    <a:pt x="548" y="1858"/>
                  </a:lnTo>
                  <a:lnTo>
                    <a:pt x="557" y="1720"/>
                  </a:lnTo>
                  <a:lnTo>
                    <a:pt x="469" y="1460"/>
                  </a:lnTo>
                  <a:lnTo>
                    <a:pt x="367" y="1209"/>
                  </a:lnTo>
                  <a:lnTo>
                    <a:pt x="327" y="1028"/>
                  </a:lnTo>
                  <a:lnTo>
                    <a:pt x="327" y="860"/>
                  </a:lnTo>
                  <a:lnTo>
                    <a:pt x="367" y="706"/>
                  </a:lnTo>
                  <a:lnTo>
                    <a:pt x="442" y="515"/>
                  </a:lnTo>
                  <a:lnTo>
                    <a:pt x="442" y="440"/>
                  </a:lnTo>
                  <a:lnTo>
                    <a:pt x="406" y="366"/>
                  </a:lnTo>
                  <a:lnTo>
                    <a:pt x="509" y="268"/>
                  </a:lnTo>
                  <a:lnTo>
                    <a:pt x="509" y="176"/>
                  </a:lnTo>
                  <a:lnTo>
                    <a:pt x="367" y="0"/>
                  </a:lnTo>
                  <a:lnTo>
                    <a:pt x="482" y="176"/>
                  </a:lnTo>
                  <a:lnTo>
                    <a:pt x="482" y="255"/>
                  </a:lnTo>
                  <a:lnTo>
                    <a:pt x="380" y="335"/>
                  </a:lnTo>
                  <a:lnTo>
                    <a:pt x="420" y="440"/>
                  </a:lnTo>
                  <a:lnTo>
                    <a:pt x="406" y="515"/>
                  </a:lnTo>
                  <a:lnTo>
                    <a:pt x="300" y="737"/>
                  </a:lnTo>
                  <a:lnTo>
                    <a:pt x="287" y="949"/>
                  </a:lnTo>
                  <a:lnTo>
                    <a:pt x="314" y="1147"/>
                  </a:lnTo>
                  <a:lnTo>
                    <a:pt x="384" y="1429"/>
                  </a:lnTo>
                  <a:lnTo>
                    <a:pt x="469" y="1659"/>
                  </a:lnTo>
                  <a:lnTo>
                    <a:pt x="469" y="1845"/>
                  </a:lnTo>
                  <a:lnTo>
                    <a:pt x="420" y="2078"/>
                  </a:lnTo>
                  <a:lnTo>
                    <a:pt x="314" y="2321"/>
                  </a:lnTo>
                  <a:lnTo>
                    <a:pt x="181" y="2189"/>
                  </a:lnTo>
                  <a:lnTo>
                    <a:pt x="132" y="2078"/>
                  </a:lnTo>
                  <a:lnTo>
                    <a:pt x="142" y="1845"/>
                  </a:lnTo>
                  <a:lnTo>
                    <a:pt x="132" y="1610"/>
                  </a:lnTo>
                  <a:lnTo>
                    <a:pt x="66" y="1297"/>
                  </a:lnTo>
                  <a:lnTo>
                    <a:pt x="39" y="1085"/>
                  </a:lnTo>
                  <a:lnTo>
                    <a:pt x="66" y="843"/>
                  </a:lnTo>
                  <a:lnTo>
                    <a:pt x="119" y="613"/>
                  </a:lnTo>
                  <a:lnTo>
                    <a:pt x="234" y="379"/>
                  </a:lnTo>
                  <a:lnTo>
                    <a:pt x="132" y="282"/>
                  </a:lnTo>
                  <a:lnTo>
                    <a:pt x="119" y="119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76360" y="550800"/>
              <a:ext cx="314640" cy="413280"/>
            </a:xfrm>
            <a:custGeom>
              <a:avLst/>
              <a:gdLst/>
              <a:ahLst/>
              <a:rect l="0" t="0" r="r" b="b"/>
              <a:pathLst>
                <a:path w="874" h="1148">
                  <a:moveTo>
                    <a:pt x="145" y="292"/>
                  </a:moveTo>
                  <a:lnTo>
                    <a:pt x="273" y="268"/>
                  </a:lnTo>
                  <a:lnTo>
                    <a:pt x="396" y="277"/>
                  </a:lnTo>
                  <a:lnTo>
                    <a:pt x="503" y="327"/>
                  </a:lnTo>
                  <a:lnTo>
                    <a:pt x="556" y="389"/>
                  </a:lnTo>
                  <a:lnTo>
                    <a:pt x="583" y="446"/>
                  </a:lnTo>
                  <a:lnTo>
                    <a:pt x="583" y="508"/>
                  </a:lnTo>
                  <a:lnTo>
                    <a:pt x="552" y="543"/>
                  </a:lnTo>
                  <a:lnTo>
                    <a:pt x="499" y="569"/>
                  </a:lnTo>
                  <a:lnTo>
                    <a:pt x="432" y="574"/>
                  </a:lnTo>
                  <a:lnTo>
                    <a:pt x="352" y="556"/>
                  </a:lnTo>
                  <a:lnTo>
                    <a:pt x="277" y="512"/>
                  </a:lnTo>
                  <a:lnTo>
                    <a:pt x="220" y="468"/>
                  </a:lnTo>
                  <a:lnTo>
                    <a:pt x="194" y="613"/>
                  </a:lnTo>
                  <a:lnTo>
                    <a:pt x="145" y="719"/>
                  </a:lnTo>
                  <a:lnTo>
                    <a:pt x="0" y="958"/>
                  </a:lnTo>
                  <a:lnTo>
                    <a:pt x="211" y="1148"/>
                  </a:lnTo>
                  <a:lnTo>
                    <a:pt x="370" y="838"/>
                  </a:lnTo>
                  <a:lnTo>
                    <a:pt x="552" y="866"/>
                  </a:lnTo>
                  <a:lnTo>
                    <a:pt x="666" y="843"/>
                  </a:lnTo>
                  <a:lnTo>
                    <a:pt x="772" y="768"/>
                  </a:lnTo>
                  <a:lnTo>
                    <a:pt x="838" y="680"/>
                  </a:lnTo>
                  <a:lnTo>
                    <a:pt x="874" y="561"/>
                  </a:lnTo>
                  <a:lnTo>
                    <a:pt x="874" y="437"/>
                  </a:lnTo>
                  <a:lnTo>
                    <a:pt x="838" y="305"/>
                  </a:lnTo>
                  <a:lnTo>
                    <a:pt x="768" y="171"/>
                  </a:lnTo>
                  <a:lnTo>
                    <a:pt x="680" y="83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0"/>
                  </a:lnTo>
                  <a:lnTo>
                    <a:pt x="145" y="29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19480" y="950760"/>
              <a:ext cx="114840" cy="82800"/>
            </a:xfrm>
            <a:custGeom>
              <a:avLst/>
              <a:gdLst/>
              <a:ahLst/>
              <a:rect l="0" t="0" r="r" b="b"/>
              <a:pathLst>
                <a:path w="319" h="230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4"/>
                  </a:lnTo>
                  <a:lnTo>
                    <a:pt x="66" y="199"/>
                  </a:lnTo>
                  <a:lnTo>
                    <a:pt x="190" y="230"/>
                  </a:lnTo>
                  <a:lnTo>
                    <a:pt x="288" y="225"/>
                  </a:lnTo>
                  <a:lnTo>
                    <a:pt x="319" y="168"/>
                  </a:lnTo>
                  <a:lnTo>
                    <a:pt x="301" y="124"/>
                  </a:lnTo>
                  <a:lnTo>
                    <a:pt x="257" y="52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8080" y="68580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ree groups of decision makers use accounting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who manage a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outside a busin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terprise who have a direc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interest in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people, organizations,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encies that have an indirec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interest in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066680" y="762120"/>
            <a:ext cx="77342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Measur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752480" y="220968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the importance of business transactions, money measure, and separate entity to accounting measur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219320" y="38088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ccountant’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our Basic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479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mea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should the measurement b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value should be placed on what is mea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what is measured be classifi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9144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 transactions as the object of measur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 transaction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re economic events that affect the financial position of a business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are the raw material of accounting rep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must relate directly to a business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3808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hat Is Measu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6668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ney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oney is the only factor common to all business trans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monetary unit a business uses depends on the country in which the business res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change rates translate one currency to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73280" y="5335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How Is It Measu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6668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financial position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state the accounting equation, and show how they are affected by simple trans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four financial stat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 the relationship of generally accepted accounting principles (GAAP) to financial statements and the independent CPA’s report, and identify the organizations that influence GA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thic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describe the ethical responsibilities of account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95280" y="167652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is a separate entity, distinct from its creditors and customers and from its owner or ow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38088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parate Ent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094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ell whether each of the follow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ords or phrases relates mos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osely to a:  (a) busin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, (b) separate entity,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c) money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Partner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U.S.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Payment of an exp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Corpo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 Sale of an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752480" y="60948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934320" y="228600"/>
            <a:ext cx="1675080" cy="1599120"/>
            <a:chOff x="6934320" y="228600"/>
            <a:chExt cx="1675080" cy="1599120"/>
          </a:xfrm>
        </p:grpSpPr>
        <p:sp>
          <p:nvSpPr>
            <p:cNvPr id="342" name=""/>
            <p:cNvSpPr/>
            <p:nvPr/>
          </p:nvSpPr>
          <p:spPr>
            <a:xfrm>
              <a:off x="6939000" y="1012680"/>
              <a:ext cx="405000" cy="559080"/>
            </a:xfrm>
            <a:custGeom>
              <a:avLst/>
              <a:gdLst/>
              <a:ahLst/>
              <a:rect l="0" t="0" r="r" b="b"/>
              <a:pathLst>
                <a:path w="1125" h="1553">
                  <a:moveTo>
                    <a:pt x="449" y="0"/>
                  </a:moveTo>
                  <a:lnTo>
                    <a:pt x="388" y="70"/>
                  </a:lnTo>
                  <a:lnTo>
                    <a:pt x="388" y="268"/>
                  </a:lnTo>
                  <a:lnTo>
                    <a:pt x="449" y="418"/>
                  </a:lnTo>
                  <a:lnTo>
                    <a:pt x="515" y="489"/>
                  </a:lnTo>
                  <a:lnTo>
                    <a:pt x="414" y="590"/>
                  </a:lnTo>
                  <a:lnTo>
                    <a:pt x="277" y="816"/>
                  </a:lnTo>
                  <a:lnTo>
                    <a:pt x="22" y="1173"/>
                  </a:lnTo>
                  <a:lnTo>
                    <a:pt x="0" y="1257"/>
                  </a:lnTo>
                  <a:lnTo>
                    <a:pt x="22" y="1332"/>
                  </a:lnTo>
                  <a:lnTo>
                    <a:pt x="105" y="1332"/>
                  </a:lnTo>
                  <a:lnTo>
                    <a:pt x="171" y="1248"/>
                  </a:lnTo>
                  <a:lnTo>
                    <a:pt x="277" y="1046"/>
                  </a:lnTo>
                  <a:lnTo>
                    <a:pt x="348" y="962"/>
                  </a:lnTo>
                  <a:lnTo>
                    <a:pt x="388" y="1094"/>
                  </a:lnTo>
                  <a:lnTo>
                    <a:pt x="361" y="1235"/>
                  </a:lnTo>
                  <a:lnTo>
                    <a:pt x="246" y="1442"/>
                  </a:lnTo>
                  <a:lnTo>
                    <a:pt x="277" y="1487"/>
                  </a:lnTo>
                  <a:lnTo>
                    <a:pt x="348" y="1473"/>
                  </a:lnTo>
                  <a:lnTo>
                    <a:pt x="489" y="1368"/>
                  </a:lnTo>
                  <a:lnTo>
                    <a:pt x="600" y="1187"/>
                  </a:lnTo>
                  <a:lnTo>
                    <a:pt x="600" y="1504"/>
                  </a:lnTo>
                  <a:lnTo>
                    <a:pt x="733" y="1553"/>
                  </a:lnTo>
                  <a:lnTo>
                    <a:pt x="812" y="1359"/>
                  </a:lnTo>
                  <a:lnTo>
                    <a:pt x="882" y="1539"/>
                  </a:lnTo>
                  <a:lnTo>
                    <a:pt x="935" y="1487"/>
                  </a:lnTo>
                  <a:lnTo>
                    <a:pt x="962" y="1129"/>
                  </a:lnTo>
                  <a:lnTo>
                    <a:pt x="1125" y="790"/>
                  </a:lnTo>
                  <a:lnTo>
                    <a:pt x="1090" y="590"/>
                  </a:lnTo>
                  <a:lnTo>
                    <a:pt x="975" y="515"/>
                  </a:lnTo>
                  <a:lnTo>
                    <a:pt x="856" y="529"/>
                  </a:lnTo>
                  <a:lnTo>
                    <a:pt x="812" y="366"/>
                  </a:lnTo>
                  <a:lnTo>
                    <a:pt x="688" y="330"/>
                  </a:lnTo>
                  <a:lnTo>
                    <a:pt x="583" y="282"/>
                  </a:lnTo>
                  <a:lnTo>
                    <a:pt x="515" y="35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80280" y="1239840"/>
              <a:ext cx="119520" cy="270360"/>
            </a:xfrm>
            <a:custGeom>
              <a:avLst/>
              <a:gdLst/>
              <a:ahLst/>
              <a:rect l="0" t="0" r="r" b="b"/>
              <a:pathLst>
                <a:path w="332" h="751">
                  <a:moveTo>
                    <a:pt x="168" y="0"/>
                  </a:moveTo>
                  <a:lnTo>
                    <a:pt x="332" y="195"/>
                  </a:lnTo>
                  <a:lnTo>
                    <a:pt x="247" y="619"/>
                  </a:lnTo>
                  <a:lnTo>
                    <a:pt x="0" y="751"/>
                  </a:lnTo>
                  <a:lnTo>
                    <a:pt x="0" y="538"/>
                  </a:lnTo>
                  <a:lnTo>
                    <a:pt x="102" y="318"/>
                  </a:lnTo>
                  <a:lnTo>
                    <a:pt x="168" y="158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58240" y="1084320"/>
              <a:ext cx="302040" cy="244800"/>
            </a:xfrm>
            <a:custGeom>
              <a:avLst/>
              <a:gdLst/>
              <a:ahLst/>
              <a:rect l="0" t="0" r="r" b="b"/>
              <a:pathLst>
                <a:path w="839" h="680">
                  <a:moveTo>
                    <a:pt x="344" y="0"/>
                  </a:moveTo>
                  <a:lnTo>
                    <a:pt x="344" y="110"/>
                  </a:lnTo>
                  <a:lnTo>
                    <a:pt x="375" y="207"/>
                  </a:lnTo>
                  <a:lnTo>
                    <a:pt x="538" y="367"/>
                  </a:lnTo>
                  <a:lnTo>
                    <a:pt x="839" y="459"/>
                  </a:lnTo>
                  <a:lnTo>
                    <a:pt x="800" y="666"/>
                  </a:lnTo>
                  <a:lnTo>
                    <a:pt x="538" y="680"/>
                  </a:lnTo>
                  <a:lnTo>
                    <a:pt x="158" y="534"/>
                  </a:lnTo>
                  <a:lnTo>
                    <a:pt x="0" y="273"/>
                  </a:lnTo>
                  <a:lnTo>
                    <a:pt x="189" y="13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78840" y="808200"/>
              <a:ext cx="421200" cy="538560"/>
            </a:xfrm>
            <a:custGeom>
              <a:avLst/>
              <a:gdLst/>
              <a:ahLst/>
              <a:rect l="0" t="0" r="r" b="b"/>
              <a:pathLst>
                <a:path w="1170" h="1496">
                  <a:moveTo>
                    <a:pt x="105" y="636"/>
                  </a:moveTo>
                  <a:lnTo>
                    <a:pt x="0" y="741"/>
                  </a:lnTo>
                  <a:lnTo>
                    <a:pt x="22" y="984"/>
                  </a:lnTo>
                  <a:lnTo>
                    <a:pt x="185" y="1099"/>
                  </a:lnTo>
                  <a:lnTo>
                    <a:pt x="198" y="1470"/>
                  </a:lnTo>
                  <a:lnTo>
                    <a:pt x="362" y="1470"/>
                  </a:lnTo>
                  <a:lnTo>
                    <a:pt x="353" y="1157"/>
                  </a:lnTo>
                  <a:lnTo>
                    <a:pt x="472" y="1483"/>
                  </a:lnTo>
                  <a:lnTo>
                    <a:pt x="556" y="1496"/>
                  </a:lnTo>
                  <a:lnTo>
                    <a:pt x="613" y="1386"/>
                  </a:lnTo>
                  <a:lnTo>
                    <a:pt x="627" y="1183"/>
                  </a:lnTo>
                  <a:lnTo>
                    <a:pt x="807" y="1373"/>
                  </a:lnTo>
                  <a:lnTo>
                    <a:pt x="874" y="1360"/>
                  </a:lnTo>
                  <a:lnTo>
                    <a:pt x="860" y="1227"/>
                  </a:lnTo>
                  <a:lnTo>
                    <a:pt x="794" y="1037"/>
                  </a:lnTo>
                  <a:lnTo>
                    <a:pt x="719" y="913"/>
                  </a:lnTo>
                  <a:lnTo>
                    <a:pt x="746" y="830"/>
                  </a:lnTo>
                  <a:lnTo>
                    <a:pt x="794" y="843"/>
                  </a:lnTo>
                  <a:lnTo>
                    <a:pt x="958" y="1037"/>
                  </a:lnTo>
                  <a:lnTo>
                    <a:pt x="1135" y="1085"/>
                  </a:lnTo>
                  <a:lnTo>
                    <a:pt x="1170" y="1024"/>
                  </a:lnTo>
                  <a:lnTo>
                    <a:pt x="1148" y="922"/>
                  </a:lnTo>
                  <a:lnTo>
                    <a:pt x="821" y="622"/>
                  </a:lnTo>
                  <a:lnTo>
                    <a:pt x="556" y="530"/>
                  </a:lnTo>
                  <a:lnTo>
                    <a:pt x="525" y="361"/>
                  </a:lnTo>
                  <a:lnTo>
                    <a:pt x="613" y="207"/>
                  </a:lnTo>
                  <a:lnTo>
                    <a:pt x="613" y="48"/>
                  </a:lnTo>
                  <a:lnTo>
                    <a:pt x="538" y="0"/>
                  </a:lnTo>
                  <a:lnTo>
                    <a:pt x="353" y="406"/>
                  </a:lnTo>
                  <a:lnTo>
                    <a:pt x="185" y="468"/>
                  </a:lnTo>
                  <a:lnTo>
                    <a:pt x="145" y="578"/>
                  </a:lnTo>
                  <a:lnTo>
                    <a:pt x="105" y="63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93040" y="343080"/>
              <a:ext cx="456120" cy="686160"/>
            </a:xfrm>
            <a:custGeom>
              <a:avLst/>
              <a:gdLst/>
              <a:ahLst/>
              <a:rect l="0" t="0" r="r" b="b"/>
              <a:pathLst>
                <a:path w="1267" h="1906">
                  <a:moveTo>
                    <a:pt x="318" y="264"/>
                  </a:moveTo>
                  <a:lnTo>
                    <a:pt x="220" y="630"/>
                  </a:lnTo>
                  <a:lnTo>
                    <a:pt x="13" y="701"/>
                  </a:lnTo>
                  <a:lnTo>
                    <a:pt x="66" y="815"/>
                  </a:lnTo>
                  <a:lnTo>
                    <a:pt x="0" y="890"/>
                  </a:lnTo>
                  <a:lnTo>
                    <a:pt x="0" y="1024"/>
                  </a:lnTo>
                  <a:lnTo>
                    <a:pt x="101" y="1143"/>
                  </a:lnTo>
                  <a:lnTo>
                    <a:pt x="198" y="1143"/>
                  </a:lnTo>
                  <a:lnTo>
                    <a:pt x="260" y="1566"/>
                  </a:lnTo>
                  <a:lnTo>
                    <a:pt x="344" y="1751"/>
                  </a:lnTo>
                  <a:lnTo>
                    <a:pt x="600" y="1906"/>
                  </a:lnTo>
                  <a:lnTo>
                    <a:pt x="860" y="1883"/>
                  </a:lnTo>
                  <a:lnTo>
                    <a:pt x="985" y="1566"/>
                  </a:lnTo>
                  <a:lnTo>
                    <a:pt x="1016" y="1085"/>
                  </a:lnTo>
                  <a:lnTo>
                    <a:pt x="1267" y="846"/>
                  </a:lnTo>
                  <a:lnTo>
                    <a:pt x="1254" y="749"/>
                  </a:lnTo>
                  <a:lnTo>
                    <a:pt x="1227" y="701"/>
                  </a:lnTo>
                  <a:lnTo>
                    <a:pt x="1095" y="692"/>
                  </a:lnTo>
                  <a:lnTo>
                    <a:pt x="1135" y="568"/>
                  </a:lnTo>
                  <a:lnTo>
                    <a:pt x="1003" y="480"/>
                  </a:lnTo>
                  <a:lnTo>
                    <a:pt x="944" y="207"/>
                  </a:lnTo>
                  <a:lnTo>
                    <a:pt x="552" y="0"/>
                  </a:lnTo>
                  <a:lnTo>
                    <a:pt x="344" y="194"/>
                  </a:lnTo>
                  <a:lnTo>
                    <a:pt x="318" y="26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720" y="915840"/>
              <a:ext cx="421200" cy="819360"/>
            </a:xfrm>
            <a:custGeom>
              <a:avLst/>
              <a:gdLst/>
              <a:ahLst/>
              <a:rect l="0" t="0" r="r" b="b"/>
              <a:pathLst>
                <a:path w="1170" h="2276">
                  <a:moveTo>
                    <a:pt x="238" y="119"/>
                  </a:moveTo>
                  <a:lnTo>
                    <a:pt x="406" y="229"/>
                  </a:lnTo>
                  <a:lnTo>
                    <a:pt x="490" y="348"/>
                  </a:lnTo>
                  <a:lnTo>
                    <a:pt x="958" y="0"/>
                  </a:lnTo>
                  <a:lnTo>
                    <a:pt x="1104" y="70"/>
                  </a:lnTo>
                  <a:lnTo>
                    <a:pt x="1170" y="432"/>
                  </a:lnTo>
                  <a:lnTo>
                    <a:pt x="830" y="1478"/>
                  </a:lnTo>
                  <a:lnTo>
                    <a:pt x="941" y="2060"/>
                  </a:lnTo>
                  <a:lnTo>
                    <a:pt x="499" y="2276"/>
                  </a:lnTo>
                  <a:lnTo>
                    <a:pt x="158" y="2152"/>
                  </a:lnTo>
                  <a:lnTo>
                    <a:pt x="158" y="1539"/>
                  </a:lnTo>
                  <a:lnTo>
                    <a:pt x="0" y="943"/>
                  </a:lnTo>
                  <a:lnTo>
                    <a:pt x="158" y="229"/>
                  </a:lnTo>
                  <a:lnTo>
                    <a:pt x="238" y="11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43800" y="250920"/>
              <a:ext cx="390960" cy="217800"/>
            </a:xfrm>
            <a:custGeom>
              <a:avLst/>
              <a:gdLst/>
              <a:ahLst/>
              <a:rect l="0" t="0" r="r" b="b"/>
              <a:pathLst>
                <a:path w="1086" h="605">
                  <a:moveTo>
                    <a:pt x="132" y="578"/>
                  </a:moveTo>
                  <a:lnTo>
                    <a:pt x="296" y="415"/>
                  </a:lnTo>
                  <a:lnTo>
                    <a:pt x="397" y="393"/>
                  </a:lnTo>
                  <a:lnTo>
                    <a:pt x="397" y="406"/>
                  </a:lnTo>
                  <a:lnTo>
                    <a:pt x="446" y="393"/>
                  </a:lnTo>
                  <a:lnTo>
                    <a:pt x="512" y="441"/>
                  </a:lnTo>
                  <a:lnTo>
                    <a:pt x="640" y="464"/>
                  </a:lnTo>
                  <a:lnTo>
                    <a:pt x="746" y="605"/>
                  </a:lnTo>
                  <a:lnTo>
                    <a:pt x="914" y="543"/>
                  </a:lnTo>
                  <a:lnTo>
                    <a:pt x="914" y="477"/>
                  </a:lnTo>
                  <a:lnTo>
                    <a:pt x="1086" y="406"/>
                  </a:lnTo>
                  <a:lnTo>
                    <a:pt x="1038" y="291"/>
                  </a:lnTo>
                  <a:lnTo>
                    <a:pt x="875" y="282"/>
                  </a:lnTo>
                  <a:lnTo>
                    <a:pt x="901" y="158"/>
                  </a:lnTo>
                  <a:lnTo>
                    <a:pt x="763" y="171"/>
                  </a:lnTo>
                  <a:lnTo>
                    <a:pt x="737" y="83"/>
                  </a:lnTo>
                  <a:lnTo>
                    <a:pt x="640" y="83"/>
                  </a:lnTo>
                  <a:lnTo>
                    <a:pt x="574" y="132"/>
                  </a:lnTo>
                  <a:lnTo>
                    <a:pt x="512" y="132"/>
                  </a:lnTo>
                  <a:lnTo>
                    <a:pt x="525" y="0"/>
                  </a:lnTo>
                  <a:lnTo>
                    <a:pt x="397" y="61"/>
                  </a:lnTo>
                  <a:lnTo>
                    <a:pt x="211" y="282"/>
                  </a:lnTo>
                  <a:lnTo>
                    <a:pt x="202" y="132"/>
                  </a:lnTo>
                  <a:lnTo>
                    <a:pt x="110" y="207"/>
                  </a:lnTo>
                  <a:lnTo>
                    <a:pt x="83" y="393"/>
                  </a:lnTo>
                  <a:lnTo>
                    <a:pt x="0" y="358"/>
                  </a:lnTo>
                  <a:lnTo>
                    <a:pt x="13" y="477"/>
                  </a:lnTo>
                  <a:lnTo>
                    <a:pt x="132" y="57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48560" y="1066680"/>
              <a:ext cx="125640" cy="621000"/>
            </a:xfrm>
            <a:custGeom>
              <a:avLst/>
              <a:gdLst/>
              <a:ahLst/>
              <a:rect l="0" t="0" r="r" b="b"/>
              <a:pathLst>
                <a:path w="349" h="1725">
                  <a:moveTo>
                    <a:pt x="181" y="8"/>
                  </a:moveTo>
                  <a:lnTo>
                    <a:pt x="57" y="83"/>
                  </a:lnTo>
                  <a:lnTo>
                    <a:pt x="57" y="229"/>
                  </a:lnTo>
                  <a:lnTo>
                    <a:pt x="145" y="277"/>
                  </a:lnTo>
                  <a:lnTo>
                    <a:pt x="30" y="507"/>
                  </a:lnTo>
                  <a:lnTo>
                    <a:pt x="0" y="811"/>
                  </a:lnTo>
                  <a:lnTo>
                    <a:pt x="83" y="1209"/>
                  </a:lnTo>
                  <a:lnTo>
                    <a:pt x="83" y="1376"/>
                  </a:lnTo>
                  <a:lnTo>
                    <a:pt x="39" y="1504"/>
                  </a:lnTo>
                  <a:lnTo>
                    <a:pt x="221" y="1725"/>
                  </a:lnTo>
                  <a:lnTo>
                    <a:pt x="336" y="1390"/>
                  </a:lnTo>
                  <a:lnTo>
                    <a:pt x="336" y="1160"/>
                  </a:lnTo>
                  <a:lnTo>
                    <a:pt x="247" y="944"/>
                  </a:lnTo>
                  <a:lnTo>
                    <a:pt x="208" y="652"/>
                  </a:lnTo>
                  <a:lnTo>
                    <a:pt x="296" y="366"/>
                  </a:lnTo>
                  <a:lnTo>
                    <a:pt x="269" y="255"/>
                  </a:lnTo>
                  <a:lnTo>
                    <a:pt x="349" y="194"/>
                  </a:lnTo>
                  <a:lnTo>
                    <a:pt x="336" y="119"/>
                  </a:lnTo>
                  <a:lnTo>
                    <a:pt x="234" y="0"/>
                  </a:lnTo>
                  <a:lnTo>
                    <a:pt x="181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45320" y="858960"/>
              <a:ext cx="100440" cy="57600"/>
            </a:xfrm>
            <a:custGeom>
              <a:avLst/>
              <a:gdLst/>
              <a:ahLst/>
              <a:rect l="0" t="0" r="r" b="b"/>
              <a:pathLst>
                <a:path w="279" h="160">
                  <a:moveTo>
                    <a:pt x="0" y="49"/>
                  </a:moveTo>
                  <a:lnTo>
                    <a:pt x="111" y="160"/>
                  </a:lnTo>
                  <a:lnTo>
                    <a:pt x="226" y="147"/>
                  </a:lnTo>
                  <a:lnTo>
                    <a:pt x="279" y="13"/>
                  </a:lnTo>
                  <a:lnTo>
                    <a:pt x="155" y="0"/>
                  </a:lnTo>
                  <a:lnTo>
                    <a:pt x="26" y="1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34440" y="573120"/>
              <a:ext cx="124200" cy="120960"/>
            </a:xfrm>
            <a:custGeom>
              <a:avLst/>
              <a:gdLst/>
              <a:ahLst/>
              <a:rect l="0" t="0" r="r" b="b"/>
              <a:pathLst>
                <a:path w="345" h="336">
                  <a:moveTo>
                    <a:pt x="0" y="39"/>
                  </a:moveTo>
                  <a:lnTo>
                    <a:pt x="234" y="336"/>
                  </a:lnTo>
                  <a:lnTo>
                    <a:pt x="345" y="314"/>
                  </a:lnTo>
                  <a:lnTo>
                    <a:pt x="98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54760" y="547560"/>
              <a:ext cx="106560" cy="119520"/>
            </a:xfrm>
            <a:custGeom>
              <a:avLst/>
              <a:gdLst/>
              <a:ahLst/>
              <a:rect l="0" t="0" r="r" b="b"/>
              <a:pathLst>
                <a:path w="296" h="332">
                  <a:moveTo>
                    <a:pt x="0" y="48"/>
                  </a:moveTo>
                  <a:lnTo>
                    <a:pt x="208" y="332"/>
                  </a:lnTo>
                  <a:lnTo>
                    <a:pt x="296" y="257"/>
                  </a:lnTo>
                  <a:lnTo>
                    <a:pt x="7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89800" y="390600"/>
              <a:ext cx="435240" cy="303480"/>
            </a:xfrm>
            <a:custGeom>
              <a:avLst/>
              <a:gdLst/>
              <a:ahLst/>
              <a:rect l="0" t="0" r="r" b="b"/>
              <a:pathLst>
                <a:path w="1209" h="843">
                  <a:moveTo>
                    <a:pt x="555" y="499"/>
                  </a:moveTo>
                  <a:lnTo>
                    <a:pt x="445" y="468"/>
                  </a:lnTo>
                  <a:lnTo>
                    <a:pt x="542" y="392"/>
                  </a:lnTo>
                  <a:lnTo>
                    <a:pt x="502" y="352"/>
                  </a:lnTo>
                  <a:lnTo>
                    <a:pt x="383" y="455"/>
                  </a:lnTo>
                  <a:lnTo>
                    <a:pt x="154" y="477"/>
                  </a:lnTo>
                  <a:lnTo>
                    <a:pt x="0" y="486"/>
                  </a:lnTo>
                  <a:lnTo>
                    <a:pt x="0" y="600"/>
                  </a:lnTo>
                  <a:lnTo>
                    <a:pt x="145" y="838"/>
                  </a:lnTo>
                  <a:lnTo>
                    <a:pt x="180" y="843"/>
                  </a:lnTo>
                  <a:lnTo>
                    <a:pt x="48" y="583"/>
                  </a:lnTo>
                  <a:lnTo>
                    <a:pt x="251" y="499"/>
                  </a:lnTo>
                  <a:lnTo>
                    <a:pt x="383" y="499"/>
                  </a:lnTo>
                  <a:lnTo>
                    <a:pt x="476" y="552"/>
                  </a:lnTo>
                  <a:lnTo>
                    <a:pt x="502" y="622"/>
                  </a:lnTo>
                  <a:lnTo>
                    <a:pt x="502" y="785"/>
                  </a:lnTo>
                  <a:lnTo>
                    <a:pt x="502" y="838"/>
                  </a:lnTo>
                  <a:lnTo>
                    <a:pt x="564" y="763"/>
                  </a:lnTo>
                  <a:lnTo>
                    <a:pt x="564" y="591"/>
                  </a:lnTo>
                  <a:lnTo>
                    <a:pt x="649" y="591"/>
                  </a:lnTo>
                  <a:lnTo>
                    <a:pt x="688" y="785"/>
                  </a:lnTo>
                  <a:lnTo>
                    <a:pt x="737" y="803"/>
                  </a:lnTo>
                  <a:lnTo>
                    <a:pt x="882" y="803"/>
                  </a:lnTo>
                  <a:lnTo>
                    <a:pt x="1032" y="768"/>
                  </a:lnTo>
                  <a:lnTo>
                    <a:pt x="1138" y="697"/>
                  </a:lnTo>
                  <a:lnTo>
                    <a:pt x="1156" y="525"/>
                  </a:lnTo>
                  <a:lnTo>
                    <a:pt x="1209" y="455"/>
                  </a:lnTo>
                  <a:lnTo>
                    <a:pt x="1178" y="410"/>
                  </a:lnTo>
                  <a:lnTo>
                    <a:pt x="1041" y="361"/>
                  </a:lnTo>
                  <a:lnTo>
                    <a:pt x="1019" y="189"/>
                  </a:lnTo>
                  <a:lnTo>
                    <a:pt x="891" y="189"/>
                  </a:lnTo>
                  <a:lnTo>
                    <a:pt x="746" y="0"/>
                  </a:lnTo>
                  <a:lnTo>
                    <a:pt x="878" y="207"/>
                  </a:lnTo>
                  <a:lnTo>
                    <a:pt x="927" y="207"/>
                  </a:lnTo>
                  <a:lnTo>
                    <a:pt x="953" y="352"/>
                  </a:lnTo>
                  <a:lnTo>
                    <a:pt x="781" y="410"/>
                  </a:lnTo>
                  <a:lnTo>
                    <a:pt x="658" y="366"/>
                  </a:lnTo>
                  <a:lnTo>
                    <a:pt x="640" y="410"/>
                  </a:lnTo>
                  <a:lnTo>
                    <a:pt x="702" y="455"/>
                  </a:lnTo>
                  <a:lnTo>
                    <a:pt x="702" y="494"/>
                  </a:lnTo>
                  <a:lnTo>
                    <a:pt x="852" y="428"/>
                  </a:lnTo>
                  <a:lnTo>
                    <a:pt x="971" y="418"/>
                  </a:lnTo>
                  <a:lnTo>
                    <a:pt x="1107" y="437"/>
                  </a:lnTo>
                  <a:lnTo>
                    <a:pt x="1107" y="459"/>
                  </a:lnTo>
                  <a:lnTo>
                    <a:pt x="1046" y="516"/>
                  </a:lnTo>
                  <a:lnTo>
                    <a:pt x="1019" y="591"/>
                  </a:lnTo>
                  <a:lnTo>
                    <a:pt x="1015" y="697"/>
                  </a:lnTo>
                  <a:lnTo>
                    <a:pt x="935" y="737"/>
                  </a:lnTo>
                  <a:lnTo>
                    <a:pt x="816" y="750"/>
                  </a:lnTo>
                  <a:lnTo>
                    <a:pt x="737" y="750"/>
                  </a:lnTo>
                  <a:lnTo>
                    <a:pt x="710" y="719"/>
                  </a:lnTo>
                  <a:lnTo>
                    <a:pt x="688" y="525"/>
                  </a:lnTo>
                  <a:lnTo>
                    <a:pt x="564" y="525"/>
                  </a:lnTo>
                  <a:lnTo>
                    <a:pt x="555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39200" y="741240"/>
              <a:ext cx="140040" cy="60840"/>
            </a:xfrm>
            <a:custGeom>
              <a:avLst/>
              <a:gdLst/>
              <a:ahLst/>
              <a:rect l="0" t="0" r="r" b="b"/>
              <a:pathLst>
                <a:path w="389" h="169">
                  <a:moveTo>
                    <a:pt x="0" y="0"/>
                  </a:moveTo>
                  <a:lnTo>
                    <a:pt x="61" y="80"/>
                  </a:lnTo>
                  <a:lnTo>
                    <a:pt x="230" y="80"/>
                  </a:lnTo>
                  <a:lnTo>
                    <a:pt x="305" y="22"/>
                  </a:lnTo>
                  <a:lnTo>
                    <a:pt x="389" y="22"/>
                  </a:lnTo>
                  <a:lnTo>
                    <a:pt x="375" y="49"/>
                  </a:lnTo>
                  <a:lnTo>
                    <a:pt x="375" y="80"/>
                  </a:lnTo>
                  <a:lnTo>
                    <a:pt x="217" y="169"/>
                  </a:lnTo>
                  <a:lnTo>
                    <a:pt x="132" y="169"/>
                  </a:lnTo>
                  <a:lnTo>
                    <a:pt x="79" y="138"/>
                  </a:lnTo>
                  <a:lnTo>
                    <a:pt x="35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83320" y="641520"/>
              <a:ext cx="211320" cy="325800"/>
            </a:xfrm>
            <a:custGeom>
              <a:avLst/>
              <a:gdLst/>
              <a:ahLst/>
              <a:rect l="0" t="0" r="r" b="b"/>
              <a:pathLst>
                <a:path w="587" h="905">
                  <a:moveTo>
                    <a:pt x="587" y="66"/>
                  </a:moveTo>
                  <a:lnTo>
                    <a:pt x="587" y="79"/>
                  </a:lnTo>
                  <a:lnTo>
                    <a:pt x="481" y="171"/>
                  </a:lnTo>
                  <a:lnTo>
                    <a:pt x="397" y="189"/>
                  </a:lnTo>
                  <a:lnTo>
                    <a:pt x="233" y="163"/>
                  </a:lnTo>
                  <a:lnTo>
                    <a:pt x="264" y="490"/>
                  </a:lnTo>
                  <a:lnTo>
                    <a:pt x="305" y="760"/>
                  </a:lnTo>
                  <a:lnTo>
                    <a:pt x="375" y="905"/>
                  </a:lnTo>
                  <a:lnTo>
                    <a:pt x="305" y="800"/>
                  </a:lnTo>
                  <a:lnTo>
                    <a:pt x="273" y="689"/>
                  </a:lnTo>
                  <a:lnTo>
                    <a:pt x="224" y="384"/>
                  </a:lnTo>
                  <a:lnTo>
                    <a:pt x="180" y="402"/>
                  </a:lnTo>
                  <a:lnTo>
                    <a:pt x="123" y="367"/>
                  </a:lnTo>
                  <a:lnTo>
                    <a:pt x="13" y="202"/>
                  </a:lnTo>
                  <a:lnTo>
                    <a:pt x="0" y="114"/>
                  </a:lnTo>
                  <a:lnTo>
                    <a:pt x="0" y="52"/>
                  </a:lnTo>
                  <a:lnTo>
                    <a:pt x="26" y="17"/>
                  </a:lnTo>
                  <a:lnTo>
                    <a:pt x="88" y="0"/>
                  </a:lnTo>
                  <a:lnTo>
                    <a:pt x="101" y="22"/>
                  </a:lnTo>
                  <a:lnTo>
                    <a:pt x="48" y="39"/>
                  </a:lnTo>
                  <a:lnTo>
                    <a:pt x="35" y="110"/>
                  </a:lnTo>
                  <a:lnTo>
                    <a:pt x="39" y="194"/>
                  </a:lnTo>
                  <a:lnTo>
                    <a:pt x="119" y="269"/>
                  </a:lnTo>
                  <a:lnTo>
                    <a:pt x="154" y="252"/>
                  </a:lnTo>
                  <a:lnTo>
                    <a:pt x="154" y="88"/>
                  </a:lnTo>
                  <a:lnTo>
                    <a:pt x="220" y="123"/>
                  </a:lnTo>
                  <a:lnTo>
                    <a:pt x="331" y="145"/>
                  </a:lnTo>
                  <a:lnTo>
                    <a:pt x="428" y="141"/>
                  </a:lnTo>
                  <a:lnTo>
                    <a:pt x="525" y="88"/>
                  </a:lnTo>
                  <a:lnTo>
                    <a:pt x="587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39120" y="380880"/>
              <a:ext cx="63720" cy="174960"/>
            </a:xfrm>
            <a:custGeom>
              <a:avLst/>
              <a:gdLst/>
              <a:ahLst/>
              <a:rect l="0" t="0" r="r" b="b"/>
              <a:pathLst>
                <a:path w="177" h="486">
                  <a:moveTo>
                    <a:pt x="89" y="486"/>
                  </a:moveTo>
                  <a:lnTo>
                    <a:pt x="177" y="198"/>
                  </a:lnTo>
                  <a:lnTo>
                    <a:pt x="22" y="97"/>
                  </a:lnTo>
                  <a:lnTo>
                    <a:pt x="0" y="0"/>
                  </a:lnTo>
                  <a:lnTo>
                    <a:pt x="13" y="119"/>
                  </a:lnTo>
                  <a:lnTo>
                    <a:pt x="61" y="167"/>
                  </a:lnTo>
                  <a:lnTo>
                    <a:pt x="66" y="309"/>
                  </a:lnTo>
                  <a:lnTo>
                    <a:pt x="111" y="371"/>
                  </a:lnTo>
                  <a:lnTo>
                    <a:pt x="89" y="4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35880" y="228600"/>
              <a:ext cx="479880" cy="228960"/>
            </a:xfrm>
            <a:custGeom>
              <a:avLst/>
              <a:gdLst/>
              <a:ahLst/>
              <a:rect l="0" t="0" r="r" b="b"/>
              <a:pathLst>
                <a:path w="1333" h="636">
                  <a:moveTo>
                    <a:pt x="13" y="433"/>
                  </a:moveTo>
                  <a:lnTo>
                    <a:pt x="127" y="494"/>
                  </a:lnTo>
                  <a:lnTo>
                    <a:pt x="114" y="415"/>
                  </a:lnTo>
                  <a:lnTo>
                    <a:pt x="136" y="268"/>
                  </a:lnTo>
                  <a:lnTo>
                    <a:pt x="211" y="238"/>
                  </a:lnTo>
                  <a:lnTo>
                    <a:pt x="220" y="393"/>
                  </a:lnTo>
                  <a:lnTo>
                    <a:pt x="450" y="123"/>
                  </a:lnTo>
                  <a:lnTo>
                    <a:pt x="503" y="105"/>
                  </a:lnTo>
                  <a:lnTo>
                    <a:pt x="459" y="211"/>
                  </a:lnTo>
                  <a:lnTo>
                    <a:pt x="600" y="264"/>
                  </a:lnTo>
                  <a:lnTo>
                    <a:pt x="702" y="158"/>
                  </a:lnTo>
                  <a:lnTo>
                    <a:pt x="759" y="189"/>
                  </a:lnTo>
                  <a:lnTo>
                    <a:pt x="706" y="282"/>
                  </a:lnTo>
                  <a:lnTo>
                    <a:pt x="777" y="229"/>
                  </a:lnTo>
                  <a:lnTo>
                    <a:pt x="874" y="268"/>
                  </a:lnTo>
                  <a:lnTo>
                    <a:pt x="794" y="344"/>
                  </a:lnTo>
                  <a:lnTo>
                    <a:pt x="1069" y="393"/>
                  </a:lnTo>
                  <a:lnTo>
                    <a:pt x="882" y="450"/>
                  </a:lnTo>
                  <a:lnTo>
                    <a:pt x="1117" y="481"/>
                  </a:lnTo>
                  <a:lnTo>
                    <a:pt x="843" y="543"/>
                  </a:lnTo>
                  <a:lnTo>
                    <a:pt x="900" y="587"/>
                  </a:lnTo>
                  <a:lnTo>
                    <a:pt x="821" y="636"/>
                  </a:lnTo>
                  <a:lnTo>
                    <a:pt x="962" y="636"/>
                  </a:lnTo>
                  <a:lnTo>
                    <a:pt x="949" y="600"/>
                  </a:lnTo>
                  <a:lnTo>
                    <a:pt x="1095" y="631"/>
                  </a:lnTo>
                  <a:lnTo>
                    <a:pt x="1069" y="530"/>
                  </a:lnTo>
                  <a:lnTo>
                    <a:pt x="1201" y="486"/>
                  </a:lnTo>
                  <a:lnTo>
                    <a:pt x="1108" y="437"/>
                  </a:lnTo>
                  <a:lnTo>
                    <a:pt x="1333" y="424"/>
                  </a:lnTo>
                  <a:lnTo>
                    <a:pt x="1139" y="322"/>
                  </a:lnTo>
                  <a:lnTo>
                    <a:pt x="913" y="295"/>
                  </a:lnTo>
                  <a:lnTo>
                    <a:pt x="1095" y="194"/>
                  </a:lnTo>
                  <a:lnTo>
                    <a:pt x="777" y="194"/>
                  </a:lnTo>
                  <a:lnTo>
                    <a:pt x="927" y="97"/>
                  </a:lnTo>
                  <a:lnTo>
                    <a:pt x="693" y="123"/>
                  </a:lnTo>
                  <a:lnTo>
                    <a:pt x="591" y="171"/>
                  </a:lnTo>
                  <a:lnTo>
                    <a:pt x="680" y="0"/>
                  </a:lnTo>
                  <a:lnTo>
                    <a:pt x="402" y="97"/>
                  </a:lnTo>
                  <a:lnTo>
                    <a:pt x="246" y="304"/>
                  </a:lnTo>
                  <a:lnTo>
                    <a:pt x="220" y="189"/>
                  </a:lnTo>
                  <a:lnTo>
                    <a:pt x="101" y="268"/>
                  </a:lnTo>
                  <a:lnTo>
                    <a:pt x="79" y="424"/>
                  </a:lnTo>
                  <a:lnTo>
                    <a:pt x="0" y="393"/>
                  </a:lnTo>
                  <a:lnTo>
                    <a:pt x="26" y="530"/>
                  </a:lnTo>
                  <a:lnTo>
                    <a:pt x="13" y="4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40640" y="351000"/>
              <a:ext cx="135360" cy="68760"/>
            </a:xfrm>
            <a:custGeom>
              <a:avLst/>
              <a:gdLst/>
              <a:ahLst/>
              <a:rect l="0" t="0" r="r" b="b"/>
              <a:pathLst>
                <a:path w="376" h="191">
                  <a:moveTo>
                    <a:pt x="0" y="191"/>
                  </a:moveTo>
                  <a:lnTo>
                    <a:pt x="142" y="0"/>
                  </a:lnTo>
                  <a:lnTo>
                    <a:pt x="142" y="128"/>
                  </a:lnTo>
                  <a:lnTo>
                    <a:pt x="190" y="75"/>
                  </a:lnTo>
                  <a:lnTo>
                    <a:pt x="234" y="147"/>
                  </a:lnTo>
                  <a:lnTo>
                    <a:pt x="376" y="182"/>
                  </a:lnTo>
                  <a:lnTo>
                    <a:pt x="225" y="160"/>
                  </a:lnTo>
                  <a:lnTo>
                    <a:pt x="181" y="111"/>
                  </a:lnTo>
                  <a:lnTo>
                    <a:pt x="120" y="160"/>
                  </a:lnTo>
                  <a:lnTo>
                    <a:pt x="120" y="98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9480" y="820800"/>
              <a:ext cx="160560" cy="101880"/>
            </a:xfrm>
            <a:custGeom>
              <a:avLst/>
              <a:gdLst/>
              <a:ahLst/>
              <a:rect l="0" t="0" r="r" b="b"/>
              <a:pathLst>
                <a:path w="446" h="283">
                  <a:moveTo>
                    <a:pt x="83" y="97"/>
                  </a:moveTo>
                  <a:lnTo>
                    <a:pt x="265" y="83"/>
                  </a:lnTo>
                  <a:lnTo>
                    <a:pt x="358" y="105"/>
                  </a:lnTo>
                  <a:lnTo>
                    <a:pt x="402" y="66"/>
                  </a:lnTo>
                  <a:lnTo>
                    <a:pt x="446" y="159"/>
                  </a:lnTo>
                  <a:lnTo>
                    <a:pt x="415" y="172"/>
                  </a:lnTo>
                  <a:lnTo>
                    <a:pt x="380" y="142"/>
                  </a:lnTo>
                  <a:lnTo>
                    <a:pt x="318" y="203"/>
                  </a:lnTo>
                  <a:lnTo>
                    <a:pt x="207" y="283"/>
                  </a:lnTo>
                  <a:lnTo>
                    <a:pt x="158" y="283"/>
                  </a:lnTo>
                  <a:lnTo>
                    <a:pt x="83" y="243"/>
                  </a:lnTo>
                  <a:lnTo>
                    <a:pt x="167" y="278"/>
                  </a:lnTo>
                  <a:lnTo>
                    <a:pt x="198" y="278"/>
                  </a:lnTo>
                  <a:lnTo>
                    <a:pt x="265" y="225"/>
                  </a:lnTo>
                  <a:lnTo>
                    <a:pt x="314" y="127"/>
                  </a:lnTo>
                  <a:lnTo>
                    <a:pt x="243" y="114"/>
                  </a:lnTo>
                  <a:lnTo>
                    <a:pt x="194" y="105"/>
                  </a:lnTo>
                  <a:lnTo>
                    <a:pt x="74" y="123"/>
                  </a:lnTo>
                  <a:lnTo>
                    <a:pt x="70" y="199"/>
                  </a:lnTo>
                  <a:lnTo>
                    <a:pt x="35" y="150"/>
                  </a:lnTo>
                  <a:lnTo>
                    <a:pt x="0" y="217"/>
                  </a:lnTo>
                  <a:lnTo>
                    <a:pt x="4" y="74"/>
                  </a:lnTo>
                  <a:lnTo>
                    <a:pt x="44" y="0"/>
                  </a:lnTo>
                  <a:lnTo>
                    <a:pt x="83" y="74"/>
                  </a:lnTo>
                  <a:lnTo>
                    <a:pt x="83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07160" y="596880"/>
              <a:ext cx="349560" cy="475200"/>
            </a:xfrm>
            <a:custGeom>
              <a:avLst/>
              <a:gdLst/>
              <a:ahLst/>
              <a:rect l="0" t="0" r="r" b="b"/>
              <a:pathLst>
                <a:path w="971" h="1320">
                  <a:moveTo>
                    <a:pt x="816" y="0"/>
                  </a:moveTo>
                  <a:lnTo>
                    <a:pt x="918" y="0"/>
                  </a:lnTo>
                  <a:lnTo>
                    <a:pt x="971" y="66"/>
                  </a:lnTo>
                  <a:lnTo>
                    <a:pt x="971" y="136"/>
                  </a:lnTo>
                  <a:lnTo>
                    <a:pt x="891" y="344"/>
                  </a:lnTo>
                  <a:lnTo>
                    <a:pt x="812" y="441"/>
                  </a:lnTo>
                  <a:lnTo>
                    <a:pt x="728" y="455"/>
                  </a:lnTo>
                  <a:lnTo>
                    <a:pt x="706" y="455"/>
                  </a:lnTo>
                  <a:lnTo>
                    <a:pt x="706" y="715"/>
                  </a:lnTo>
                  <a:lnTo>
                    <a:pt x="746" y="904"/>
                  </a:lnTo>
                  <a:lnTo>
                    <a:pt x="746" y="1060"/>
                  </a:lnTo>
                  <a:lnTo>
                    <a:pt x="600" y="1214"/>
                  </a:lnTo>
                  <a:lnTo>
                    <a:pt x="392" y="1320"/>
                  </a:lnTo>
                  <a:lnTo>
                    <a:pt x="268" y="1320"/>
                  </a:lnTo>
                  <a:lnTo>
                    <a:pt x="202" y="1289"/>
                  </a:lnTo>
                  <a:lnTo>
                    <a:pt x="114" y="1108"/>
                  </a:lnTo>
                  <a:lnTo>
                    <a:pt x="30" y="1042"/>
                  </a:lnTo>
                  <a:lnTo>
                    <a:pt x="0" y="994"/>
                  </a:lnTo>
                  <a:lnTo>
                    <a:pt x="110" y="1060"/>
                  </a:lnTo>
                  <a:lnTo>
                    <a:pt x="189" y="1126"/>
                  </a:lnTo>
                  <a:lnTo>
                    <a:pt x="339" y="1135"/>
                  </a:lnTo>
                  <a:lnTo>
                    <a:pt x="480" y="1069"/>
                  </a:lnTo>
                  <a:lnTo>
                    <a:pt x="556" y="994"/>
                  </a:lnTo>
                  <a:lnTo>
                    <a:pt x="636" y="860"/>
                  </a:lnTo>
                  <a:lnTo>
                    <a:pt x="649" y="702"/>
                  </a:lnTo>
                  <a:lnTo>
                    <a:pt x="675" y="194"/>
                  </a:lnTo>
                  <a:lnTo>
                    <a:pt x="710" y="268"/>
                  </a:lnTo>
                  <a:lnTo>
                    <a:pt x="807" y="176"/>
                  </a:lnTo>
                  <a:lnTo>
                    <a:pt x="909" y="136"/>
                  </a:lnTo>
                  <a:lnTo>
                    <a:pt x="935" y="83"/>
                  </a:lnTo>
                  <a:lnTo>
                    <a:pt x="922" y="30"/>
                  </a:lnTo>
                  <a:lnTo>
                    <a:pt x="878" y="8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67520" y="1006560"/>
              <a:ext cx="281520" cy="439920"/>
            </a:xfrm>
            <a:custGeom>
              <a:avLst/>
              <a:gdLst/>
              <a:ahLst/>
              <a:rect l="0" t="0" r="r" b="b"/>
              <a:pathLst>
                <a:path w="782" h="1222">
                  <a:moveTo>
                    <a:pt x="101" y="0"/>
                  </a:moveTo>
                  <a:lnTo>
                    <a:pt x="189" y="52"/>
                  </a:lnTo>
                  <a:lnTo>
                    <a:pt x="256" y="304"/>
                  </a:lnTo>
                  <a:lnTo>
                    <a:pt x="455" y="361"/>
                  </a:lnTo>
                  <a:lnTo>
                    <a:pt x="516" y="427"/>
                  </a:lnTo>
                  <a:lnTo>
                    <a:pt x="525" y="520"/>
                  </a:lnTo>
                  <a:lnTo>
                    <a:pt x="623" y="502"/>
                  </a:lnTo>
                  <a:lnTo>
                    <a:pt x="747" y="582"/>
                  </a:lnTo>
                  <a:lnTo>
                    <a:pt x="782" y="684"/>
                  </a:lnTo>
                  <a:lnTo>
                    <a:pt x="782" y="856"/>
                  </a:lnTo>
                  <a:lnTo>
                    <a:pt x="623" y="1116"/>
                  </a:lnTo>
                  <a:lnTo>
                    <a:pt x="569" y="1222"/>
                  </a:lnTo>
                  <a:lnTo>
                    <a:pt x="597" y="1081"/>
                  </a:lnTo>
                  <a:lnTo>
                    <a:pt x="569" y="1028"/>
                  </a:lnTo>
                  <a:lnTo>
                    <a:pt x="472" y="940"/>
                  </a:lnTo>
                  <a:lnTo>
                    <a:pt x="322" y="830"/>
                  </a:lnTo>
                  <a:lnTo>
                    <a:pt x="508" y="891"/>
                  </a:lnTo>
                  <a:lnTo>
                    <a:pt x="614" y="971"/>
                  </a:lnTo>
                  <a:lnTo>
                    <a:pt x="667" y="962"/>
                  </a:lnTo>
                  <a:lnTo>
                    <a:pt x="707" y="918"/>
                  </a:lnTo>
                  <a:lnTo>
                    <a:pt x="747" y="794"/>
                  </a:lnTo>
                  <a:lnTo>
                    <a:pt x="734" y="675"/>
                  </a:lnTo>
                  <a:lnTo>
                    <a:pt x="672" y="604"/>
                  </a:lnTo>
                  <a:lnTo>
                    <a:pt x="578" y="582"/>
                  </a:lnTo>
                  <a:lnTo>
                    <a:pt x="472" y="582"/>
                  </a:lnTo>
                  <a:lnTo>
                    <a:pt x="437" y="401"/>
                  </a:lnTo>
                  <a:lnTo>
                    <a:pt x="265" y="339"/>
                  </a:lnTo>
                  <a:lnTo>
                    <a:pt x="265" y="392"/>
                  </a:lnTo>
                  <a:lnTo>
                    <a:pt x="189" y="260"/>
                  </a:lnTo>
                  <a:lnTo>
                    <a:pt x="145" y="52"/>
                  </a:lnTo>
                  <a:lnTo>
                    <a:pt x="74" y="35"/>
                  </a:lnTo>
                  <a:lnTo>
                    <a:pt x="35" y="97"/>
                  </a:lnTo>
                  <a:lnTo>
                    <a:pt x="35" y="238"/>
                  </a:lnTo>
                  <a:lnTo>
                    <a:pt x="70" y="392"/>
                  </a:lnTo>
                  <a:lnTo>
                    <a:pt x="163" y="520"/>
                  </a:lnTo>
                  <a:lnTo>
                    <a:pt x="57" y="440"/>
                  </a:lnTo>
                  <a:lnTo>
                    <a:pt x="8" y="304"/>
                  </a:lnTo>
                  <a:lnTo>
                    <a:pt x="0" y="132"/>
                  </a:lnTo>
                  <a:lnTo>
                    <a:pt x="35" y="3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34320" y="1200240"/>
              <a:ext cx="186120" cy="352800"/>
            </a:xfrm>
            <a:custGeom>
              <a:avLst/>
              <a:gdLst/>
              <a:ahLst/>
              <a:rect l="0" t="0" r="r" b="b"/>
              <a:pathLst>
                <a:path w="517" h="980">
                  <a:moveTo>
                    <a:pt x="517" y="0"/>
                  </a:moveTo>
                  <a:lnTo>
                    <a:pt x="407" y="66"/>
                  </a:lnTo>
                  <a:lnTo>
                    <a:pt x="287" y="305"/>
                  </a:lnTo>
                  <a:lnTo>
                    <a:pt x="164" y="459"/>
                  </a:lnTo>
                  <a:lnTo>
                    <a:pt x="13" y="644"/>
                  </a:lnTo>
                  <a:lnTo>
                    <a:pt x="0" y="742"/>
                  </a:lnTo>
                  <a:lnTo>
                    <a:pt x="26" y="826"/>
                  </a:lnTo>
                  <a:lnTo>
                    <a:pt x="105" y="826"/>
                  </a:lnTo>
                  <a:lnTo>
                    <a:pt x="199" y="742"/>
                  </a:lnTo>
                  <a:lnTo>
                    <a:pt x="278" y="565"/>
                  </a:lnTo>
                  <a:lnTo>
                    <a:pt x="380" y="459"/>
                  </a:lnTo>
                  <a:lnTo>
                    <a:pt x="380" y="600"/>
                  </a:lnTo>
                  <a:lnTo>
                    <a:pt x="362" y="728"/>
                  </a:lnTo>
                  <a:lnTo>
                    <a:pt x="252" y="901"/>
                  </a:lnTo>
                  <a:lnTo>
                    <a:pt x="252" y="958"/>
                  </a:lnTo>
                  <a:lnTo>
                    <a:pt x="362" y="980"/>
                  </a:lnTo>
                  <a:lnTo>
                    <a:pt x="287" y="932"/>
                  </a:lnTo>
                  <a:lnTo>
                    <a:pt x="300" y="901"/>
                  </a:lnTo>
                  <a:lnTo>
                    <a:pt x="375" y="773"/>
                  </a:lnTo>
                  <a:lnTo>
                    <a:pt x="429" y="543"/>
                  </a:lnTo>
                  <a:lnTo>
                    <a:pt x="390" y="415"/>
                  </a:lnTo>
                  <a:lnTo>
                    <a:pt x="309" y="490"/>
                  </a:lnTo>
                  <a:lnTo>
                    <a:pt x="123" y="782"/>
                  </a:lnTo>
                  <a:lnTo>
                    <a:pt x="70" y="791"/>
                  </a:lnTo>
                  <a:lnTo>
                    <a:pt x="26" y="760"/>
                  </a:lnTo>
                  <a:lnTo>
                    <a:pt x="26" y="671"/>
                  </a:lnTo>
                  <a:lnTo>
                    <a:pt x="105" y="556"/>
                  </a:lnTo>
                  <a:lnTo>
                    <a:pt x="309" y="318"/>
                  </a:lnTo>
                  <a:lnTo>
                    <a:pt x="429" y="88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70760" y="1400040"/>
              <a:ext cx="116280" cy="168480"/>
            </a:xfrm>
            <a:custGeom>
              <a:avLst/>
              <a:gdLst/>
              <a:ahLst/>
              <a:rect l="0" t="0" r="r" b="b"/>
              <a:pathLst>
                <a:path w="323" h="468">
                  <a:moveTo>
                    <a:pt x="0" y="415"/>
                  </a:moveTo>
                  <a:lnTo>
                    <a:pt x="111" y="296"/>
                  </a:lnTo>
                  <a:lnTo>
                    <a:pt x="128" y="176"/>
                  </a:lnTo>
                  <a:lnTo>
                    <a:pt x="253" y="0"/>
                  </a:lnTo>
                  <a:lnTo>
                    <a:pt x="279" y="114"/>
                  </a:lnTo>
                  <a:lnTo>
                    <a:pt x="262" y="424"/>
                  </a:lnTo>
                  <a:lnTo>
                    <a:pt x="323" y="468"/>
                  </a:lnTo>
                  <a:lnTo>
                    <a:pt x="230" y="433"/>
                  </a:lnTo>
                  <a:lnTo>
                    <a:pt x="181" y="261"/>
                  </a:lnTo>
                  <a:lnTo>
                    <a:pt x="111" y="344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11880" y="1407960"/>
              <a:ext cx="76680" cy="151200"/>
            </a:xfrm>
            <a:custGeom>
              <a:avLst/>
              <a:gdLst/>
              <a:ahLst/>
              <a:rect l="0" t="0" r="r" b="b"/>
              <a:pathLst>
                <a:path w="213" h="420">
                  <a:moveTo>
                    <a:pt x="0" y="314"/>
                  </a:moveTo>
                  <a:lnTo>
                    <a:pt x="8" y="159"/>
                  </a:lnTo>
                  <a:lnTo>
                    <a:pt x="58" y="66"/>
                  </a:lnTo>
                  <a:lnTo>
                    <a:pt x="102" y="403"/>
                  </a:lnTo>
                  <a:lnTo>
                    <a:pt x="169" y="403"/>
                  </a:lnTo>
                  <a:lnTo>
                    <a:pt x="200" y="48"/>
                  </a:lnTo>
                  <a:lnTo>
                    <a:pt x="213" y="0"/>
                  </a:lnTo>
                  <a:lnTo>
                    <a:pt x="200" y="274"/>
                  </a:lnTo>
                  <a:lnTo>
                    <a:pt x="169" y="420"/>
                  </a:lnTo>
                  <a:lnTo>
                    <a:pt x="84" y="420"/>
                  </a:lnTo>
                  <a:lnTo>
                    <a:pt x="48" y="128"/>
                  </a:lnTo>
                  <a:lnTo>
                    <a:pt x="26" y="17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78840" y="812880"/>
              <a:ext cx="182880" cy="403560"/>
            </a:xfrm>
            <a:custGeom>
              <a:avLst/>
              <a:gdLst/>
              <a:ahLst/>
              <a:rect l="0" t="0" r="r" b="b"/>
              <a:pathLst>
                <a:path w="508" h="1121">
                  <a:moveTo>
                    <a:pt x="132" y="609"/>
                  </a:moveTo>
                  <a:lnTo>
                    <a:pt x="171" y="432"/>
                  </a:lnTo>
                  <a:lnTo>
                    <a:pt x="344" y="388"/>
                  </a:lnTo>
                  <a:lnTo>
                    <a:pt x="508" y="0"/>
                  </a:lnTo>
                  <a:lnTo>
                    <a:pt x="508" y="114"/>
                  </a:lnTo>
                  <a:lnTo>
                    <a:pt x="367" y="410"/>
                  </a:lnTo>
                  <a:lnTo>
                    <a:pt x="185" y="463"/>
                  </a:lnTo>
                  <a:lnTo>
                    <a:pt x="163" y="609"/>
                  </a:lnTo>
                  <a:lnTo>
                    <a:pt x="224" y="609"/>
                  </a:lnTo>
                  <a:lnTo>
                    <a:pt x="66" y="671"/>
                  </a:lnTo>
                  <a:lnTo>
                    <a:pt x="26" y="790"/>
                  </a:lnTo>
                  <a:lnTo>
                    <a:pt x="35" y="944"/>
                  </a:lnTo>
                  <a:lnTo>
                    <a:pt x="207" y="1121"/>
                  </a:lnTo>
                  <a:lnTo>
                    <a:pt x="26" y="966"/>
                  </a:lnTo>
                  <a:lnTo>
                    <a:pt x="0" y="834"/>
                  </a:lnTo>
                  <a:lnTo>
                    <a:pt x="13" y="706"/>
                  </a:lnTo>
                  <a:lnTo>
                    <a:pt x="74" y="613"/>
                  </a:lnTo>
                  <a:lnTo>
                    <a:pt x="132" y="6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2680" y="812880"/>
              <a:ext cx="306720" cy="392400"/>
            </a:xfrm>
            <a:custGeom>
              <a:avLst/>
              <a:gdLst/>
              <a:ahLst/>
              <a:rect l="0" t="0" r="r" b="b"/>
              <a:pathLst>
                <a:path w="852" h="1090">
                  <a:moveTo>
                    <a:pt x="233" y="0"/>
                  </a:moveTo>
                  <a:lnTo>
                    <a:pt x="286" y="35"/>
                  </a:lnTo>
                  <a:lnTo>
                    <a:pt x="304" y="127"/>
                  </a:lnTo>
                  <a:lnTo>
                    <a:pt x="304" y="211"/>
                  </a:lnTo>
                  <a:lnTo>
                    <a:pt x="207" y="370"/>
                  </a:lnTo>
                  <a:lnTo>
                    <a:pt x="224" y="485"/>
                  </a:lnTo>
                  <a:lnTo>
                    <a:pt x="512" y="613"/>
                  </a:lnTo>
                  <a:lnTo>
                    <a:pt x="847" y="957"/>
                  </a:lnTo>
                  <a:lnTo>
                    <a:pt x="852" y="1050"/>
                  </a:lnTo>
                  <a:lnTo>
                    <a:pt x="834" y="1090"/>
                  </a:lnTo>
                  <a:lnTo>
                    <a:pt x="710" y="1090"/>
                  </a:lnTo>
                  <a:lnTo>
                    <a:pt x="596" y="1024"/>
                  </a:lnTo>
                  <a:lnTo>
                    <a:pt x="508" y="913"/>
                  </a:lnTo>
                  <a:lnTo>
                    <a:pt x="455" y="847"/>
                  </a:lnTo>
                  <a:lnTo>
                    <a:pt x="392" y="838"/>
                  </a:lnTo>
                  <a:lnTo>
                    <a:pt x="468" y="838"/>
                  </a:lnTo>
                  <a:lnTo>
                    <a:pt x="609" y="1015"/>
                  </a:lnTo>
                  <a:lnTo>
                    <a:pt x="790" y="1068"/>
                  </a:lnTo>
                  <a:lnTo>
                    <a:pt x="825" y="1015"/>
                  </a:lnTo>
                  <a:lnTo>
                    <a:pt x="807" y="931"/>
                  </a:lnTo>
                  <a:lnTo>
                    <a:pt x="494" y="684"/>
                  </a:lnTo>
                  <a:lnTo>
                    <a:pt x="450" y="613"/>
                  </a:lnTo>
                  <a:lnTo>
                    <a:pt x="207" y="552"/>
                  </a:lnTo>
                  <a:lnTo>
                    <a:pt x="167" y="613"/>
                  </a:lnTo>
                  <a:lnTo>
                    <a:pt x="0" y="715"/>
                  </a:lnTo>
                  <a:lnTo>
                    <a:pt x="154" y="596"/>
                  </a:lnTo>
                  <a:lnTo>
                    <a:pt x="167" y="520"/>
                  </a:lnTo>
                  <a:lnTo>
                    <a:pt x="167" y="348"/>
                  </a:lnTo>
                  <a:lnTo>
                    <a:pt x="273" y="211"/>
                  </a:lnTo>
                  <a:lnTo>
                    <a:pt x="273" y="4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45440" y="1120680"/>
              <a:ext cx="260640" cy="232200"/>
            </a:xfrm>
            <a:custGeom>
              <a:avLst/>
              <a:gdLst/>
              <a:ahLst/>
              <a:rect l="0" t="0" r="r" b="b"/>
              <a:pathLst>
                <a:path w="724" h="645">
                  <a:moveTo>
                    <a:pt x="543" y="0"/>
                  </a:moveTo>
                  <a:lnTo>
                    <a:pt x="525" y="52"/>
                  </a:lnTo>
                  <a:lnTo>
                    <a:pt x="631" y="269"/>
                  </a:lnTo>
                  <a:lnTo>
                    <a:pt x="688" y="487"/>
                  </a:lnTo>
                  <a:lnTo>
                    <a:pt x="622" y="487"/>
                  </a:lnTo>
                  <a:lnTo>
                    <a:pt x="516" y="393"/>
                  </a:lnTo>
                  <a:lnTo>
                    <a:pt x="415" y="190"/>
                  </a:lnTo>
                  <a:lnTo>
                    <a:pt x="339" y="158"/>
                  </a:lnTo>
                  <a:lnTo>
                    <a:pt x="352" y="269"/>
                  </a:lnTo>
                  <a:lnTo>
                    <a:pt x="424" y="349"/>
                  </a:lnTo>
                  <a:lnTo>
                    <a:pt x="424" y="504"/>
                  </a:lnTo>
                  <a:lnTo>
                    <a:pt x="371" y="614"/>
                  </a:lnTo>
                  <a:lnTo>
                    <a:pt x="304" y="570"/>
                  </a:lnTo>
                  <a:lnTo>
                    <a:pt x="220" y="393"/>
                  </a:lnTo>
                  <a:lnTo>
                    <a:pt x="202" y="269"/>
                  </a:lnTo>
                  <a:lnTo>
                    <a:pt x="154" y="234"/>
                  </a:lnTo>
                  <a:lnTo>
                    <a:pt x="145" y="548"/>
                  </a:lnTo>
                  <a:lnTo>
                    <a:pt x="74" y="592"/>
                  </a:lnTo>
                  <a:lnTo>
                    <a:pt x="17" y="548"/>
                  </a:lnTo>
                  <a:lnTo>
                    <a:pt x="8" y="278"/>
                  </a:lnTo>
                  <a:lnTo>
                    <a:pt x="0" y="539"/>
                  </a:lnTo>
                  <a:lnTo>
                    <a:pt x="48" y="637"/>
                  </a:lnTo>
                  <a:lnTo>
                    <a:pt x="145" y="637"/>
                  </a:lnTo>
                  <a:lnTo>
                    <a:pt x="176" y="562"/>
                  </a:lnTo>
                  <a:lnTo>
                    <a:pt x="194" y="318"/>
                  </a:lnTo>
                  <a:lnTo>
                    <a:pt x="207" y="411"/>
                  </a:lnTo>
                  <a:lnTo>
                    <a:pt x="295" y="623"/>
                  </a:lnTo>
                  <a:lnTo>
                    <a:pt x="380" y="645"/>
                  </a:lnTo>
                  <a:lnTo>
                    <a:pt x="446" y="562"/>
                  </a:lnTo>
                  <a:lnTo>
                    <a:pt x="446" y="358"/>
                  </a:lnTo>
                  <a:lnTo>
                    <a:pt x="622" y="526"/>
                  </a:lnTo>
                  <a:lnTo>
                    <a:pt x="715" y="526"/>
                  </a:lnTo>
                  <a:lnTo>
                    <a:pt x="724" y="411"/>
                  </a:lnTo>
                  <a:lnTo>
                    <a:pt x="662" y="208"/>
                  </a:lnTo>
                  <a:lnTo>
                    <a:pt x="543" y="44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91360" y="879480"/>
              <a:ext cx="1161000" cy="948240"/>
            </a:xfrm>
            <a:custGeom>
              <a:avLst/>
              <a:gdLst/>
              <a:ahLst/>
              <a:rect l="0" t="0" r="r" b="b"/>
              <a:pathLst>
                <a:path w="3225" h="2634">
                  <a:moveTo>
                    <a:pt x="1160" y="224"/>
                  </a:moveTo>
                  <a:lnTo>
                    <a:pt x="1099" y="233"/>
                  </a:lnTo>
                  <a:lnTo>
                    <a:pt x="1015" y="361"/>
                  </a:lnTo>
                  <a:lnTo>
                    <a:pt x="979" y="268"/>
                  </a:lnTo>
                  <a:lnTo>
                    <a:pt x="874" y="211"/>
                  </a:lnTo>
                  <a:lnTo>
                    <a:pt x="798" y="255"/>
                  </a:lnTo>
                  <a:lnTo>
                    <a:pt x="767" y="423"/>
                  </a:lnTo>
                  <a:lnTo>
                    <a:pt x="480" y="635"/>
                  </a:lnTo>
                  <a:lnTo>
                    <a:pt x="498" y="724"/>
                  </a:lnTo>
                  <a:lnTo>
                    <a:pt x="423" y="803"/>
                  </a:lnTo>
                  <a:lnTo>
                    <a:pt x="423" y="874"/>
                  </a:lnTo>
                  <a:lnTo>
                    <a:pt x="511" y="1072"/>
                  </a:lnTo>
                  <a:lnTo>
                    <a:pt x="515" y="1315"/>
                  </a:lnTo>
                  <a:lnTo>
                    <a:pt x="463" y="1544"/>
                  </a:lnTo>
                  <a:lnTo>
                    <a:pt x="251" y="1681"/>
                  </a:lnTo>
                  <a:lnTo>
                    <a:pt x="224" y="1870"/>
                  </a:lnTo>
                  <a:lnTo>
                    <a:pt x="163" y="1870"/>
                  </a:lnTo>
                  <a:lnTo>
                    <a:pt x="132" y="1716"/>
                  </a:lnTo>
                  <a:lnTo>
                    <a:pt x="66" y="1716"/>
                  </a:lnTo>
                  <a:lnTo>
                    <a:pt x="35" y="1879"/>
                  </a:lnTo>
                  <a:lnTo>
                    <a:pt x="0" y="1923"/>
                  </a:lnTo>
                  <a:lnTo>
                    <a:pt x="145" y="2153"/>
                  </a:lnTo>
                  <a:lnTo>
                    <a:pt x="242" y="2162"/>
                  </a:lnTo>
                  <a:lnTo>
                    <a:pt x="423" y="2330"/>
                  </a:lnTo>
                  <a:lnTo>
                    <a:pt x="590" y="2352"/>
                  </a:lnTo>
                  <a:lnTo>
                    <a:pt x="683" y="2259"/>
                  </a:lnTo>
                  <a:lnTo>
                    <a:pt x="904" y="1936"/>
                  </a:lnTo>
                  <a:lnTo>
                    <a:pt x="927" y="2374"/>
                  </a:lnTo>
                  <a:lnTo>
                    <a:pt x="904" y="2634"/>
                  </a:lnTo>
                  <a:lnTo>
                    <a:pt x="2771" y="2634"/>
                  </a:lnTo>
                  <a:lnTo>
                    <a:pt x="2634" y="2352"/>
                  </a:lnTo>
                  <a:lnTo>
                    <a:pt x="2568" y="2105"/>
                  </a:lnTo>
                  <a:lnTo>
                    <a:pt x="2550" y="1742"/>
                  </a:lnTo>
                  <a:lnTo>
                    <a:pt x="2661" y="1826"/>
                  </a:lnTo>
                  <a:lnTo>
                    <a:pt x="2771" y="1826"/>
                  </a:lnTo>
                  <a:lnTo>
                    <a:pt x="2921" y="1729"/>
                  </a:lnTo>
                  <a:lnTo>
                    <a:pt x="3027" y="1716"/>
                  </a:lnTo>
                  <a:lnTo>
                    <a:pt x="3088" y="1619"/>
                  </a:lnTo>
                  <a:lnTo>
                    <a:pt x="3132" y="1368"/>
                  </a:lnTo>
                  <a:lnTo>
                    <a:pt x="3225" y="1271"/>
                  </a:lnTo>
                  <a:lnTo>
                    <a:pt x="3181" y="1196"/>
                  </a:lnTo>
                  <a:lnTo>
                    <a:pt x="3106" y="1196"/>
                  </a:lnTo>
                  <a:lnTo>
                    <a:pt x="3053" y="1244"/>
                  </a:lnTo>
                  <a:lnTo>
                    <a:pt x="3000" y="1257"/>
                  </a:lnTo>
                  <a:lnTo>
                    <a:pt x="2934" y="1196"/>
                  </a:lnTo>
                  <a:lnTo>
                    <a:pt x="2855" y="1182"/>
                  </a:lnTo>
                  <a:lnTo>
                    <a:pt x="2709" y="1090"/>
                  </a:lnTo>
                  <a:lnTo>
                    <a:pt x="2616" y="993"/>
                  </a:lnTo>
                  <a:lnTo>
                    <a:pt x="2599" y="874"/>
                  </a:lnTo>
                  <a:lnTo>
                    <a:pt x="2616" y="755"/>
                  </a:lnTo>
                  <a:lnTo>
                    <a:pt x="2678" y="657"/>
                  </a:lnTo>
                  <a:lnTo>
                    <a:pt x="2753" y="573"/>
                  </a:lnTo>
                  <a:lnTo>
                    <a:pt x="2749" y="423"/>
                  </a:lnTo>
                  <a:lnTo>
                    <a:pt x="2749" y="313"/>
                  </a:lnTo>
                  <a:lnTo>
                    <a:pt x="2709" y="233"/>
                  </a:lnTo>
                  <a:lnTo>
                    <a:pt x="2599" y="198"/>
                  </a:lnTo>
                  <a:lnTo>
                    <a:pt x="2559" y="176"/>
                  </a:lnTo>
                  <a:lnTo>
                    <a:pt x="2484" y="48"/>
                  </a:lnTo>
                  <a:lnTo>
                    <a:pt x="2417" y="8"/>
                  </a:lnTo>
                  <a:lnTo>
                    <a:pt x="2355" y="0"/>
                  </a:lnTo>
                  <a:lnTo>
                    <a:pt x="2298" y="22"/>
                  </a:lnTo>
                  <a:lnTo>
                    <a:pt x="2249" y="92"/>
                  </a:lnTo>
                  <a:lnTo>
                    <a:pt x="2179" y="132"/>
                  </a:lnTo>
                  <a:lnTo>
                    <a:pt x="2100" y="145"/>
                  </a:lnTo>
                  <a:lnTo>
                    <a:pt x="2011" y="145"/>
                  </a:lnTo>
                  <a:lnTo>
                    <a:pt x="2025" y="277"/>
                  </a:lnTo>
                  <a:lnTo>
                    <a:pt x="2025" y="440"/>
                  </a:lnTo>
                  <a:lnTo>
                    <a:pt x="2011" y="546"/>
                  </a:lnTo>
                  <a:lnTo>
                    <a:pt x="1932" y="680"/>
                  </a:lnTo>
                  <a:lnTo>
                    <a:pt x="1826" y="878"/>
                  </a:lnTo>
                  <a:lnTo>
                    <a:pt x="1751" y="1116"/>
                  </a:lnTo>
                  <a:lnTo>
                    <a:pt x="1742" y="1257"/>
                  </a:lnTo>
                  <a:lnTo>
                    <a:pt x="1707" y="1381"/>
                  </a:lnTo>
                  <a:lnTo>
                    <a:pt x="1654" y="1500"/>
                  </a:lnTo>
                  <a:lnTo>
                    <a:pt x="1637" y="1689"/>
                  </a:lnTo>
                  <a:lnTo>
                    <a:pt x="1645" y="1848"/>
                  </a:lnTo>
                  <a:lnTo>
                    <a:pt x="1707" y="2034"/>
                  </a:lnTo>
                  <a:lnTo>
                    <a:pt x="1742" y="2105"/>
                  </a:lnTo>
                  <a:lnTo>
                    <a:pt x="1637" y="2175"/>
                  </a:lnTo>
                  <a:lnTo>
                    <a:pt x="1504" y="2215"/>
                  </a:lnTo>
                  <a:lnTo>
                    <a:pt x="1363" y="2228"/>
                  </a:lnTo>
                  <a:lnTo>
                    <a:pt x="1271" y="2228"/>
                  </a:lnTo>
                  <a:lnTo>
                    <a:pt x="1218" y="2206"/>
                  </a:lnTo>
                  <a:lnTo>
                    <a:pt x="1218" y="2048"/>
                  </a:lnTo>
                  <a:lnTo>
                    <a:pt x="1218" y="1813"/>
                  </a:lnTo>
                  <a:lnTo>
                    <a:pt x="1182" y="1584"/>
                  </a:lnTo>
                  <a:lnTo>
                    <a:pt x="1121" y="1381"/>
                  </a:lnTo>
                  <a:lnTo>
                    <a:pt x="1094" y="1213"/>
                  </a:lnTo>
                  <a:lnTo>
                    <a:pt x="1085" y="979"/>
                  </a:lnTo>
                  <a:lnTo>
                    <a:pt x="1121" y="781"/>
                  </a:lnTo>
                  <a:lnTo>
                    <a:pt x="1182" y="612"/>
                  </a:lnTo>
                  <a:lnTo>
                    <a:pt x="1187" y="515"/>
                  </a:lnTo>
                  <a:lnTo>
                    <a:pt x="1160" y="379"/>
                  </a:lnTo>
                  <a:lnTo>
                    <a:pt x="1160" y="268"/>
                  </a:lnTo>
                  <a:lnTo>
                    <a:pt x="1182" y="233"/>
                  </a:lnTo>
                  <a:lnTo>
                    <a:pt x="1160" y="2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43880" y="1069920"/>
              <a:ext cx="146520" cy="616320"/>
            </a:xfrm>
            <a:custGeom>
              <a:avLst/>
              <a:gdLst/>
              <a:ahLst/>
              <a:rect l="0" t="0" r="r" b="b"/>
              <a:pathLst>
                <a:path w="407" h="1712">
                  <a:moveTo>
                    <a:pt x="164" y="22"/>
                  </a:moveTo>
                  <a:lnTo>
                    <a:pt x="52" y="74"/>
                  </a:lnTo>
                  <a:lnTo>
                    <a:pt x="61" y="238"/>
                  </a:lnTo>
                  <a:lnTo>
                    <a:pt x="146" y="286"/>
                  </a:lnTo>
                  <a:lnTo>
                    <a:pt x="48" y="468"/>
                  </a:lnTo>
                  <a:lnTo>
                    <a:pt x="0" y="666"/>
                  </a:lnTo>
                  <a:lnTo>
                    <a:pt x="0" y="856"/>
                  </a:lnTo>
                  <a:lnTo>
                    <a:pt x="48" y="1028"/>
                  </a:lnTo>
                  <a:lnTo>
                    <a:pt x="83" y="1235"/>
                  </a:lnTo>
                  <a:lnTo>
                    <a:pt x="83" y="1355"/>
                  </a:lnTo>
                  <a:lnTo>
                    <a:pt x="48" y="1505"/>
                  </a:lnTo>
                  <a:lnTo>
                    <a:pt x="212" y="1712"/>
                  </a:lnTo>
                  <a:lnTo>
                    <a:pt x="278" y="1677"/>
                  </a:lnTo>
                  <a:lnTo>
                    <a:pt x="328" y="1536"/>
                  </a:lnTo>
                  <a:lnTo>
                    <a:pt x="403" y="1346"/>
                  </a:lnTo>
                  <a:lnTo>
                    <a:pt x="407" y="1244"/>
                  </a:lnTo>
                  <a:lnTo>
                    <a:pt x="345" y="1059"/>
                  </a:lnTo>
                  <a:lnTo>
                    <a:pt x="265" y="874"/>
                  </a:lnTo>
                  <a:lnTo>
                    <a:pt x="239" y="746"/>
                  </a:lnTo>
                  <a:lnTo>
                    <a:pt x="239" y="622"/>
                  </a:lnTo>
                  <a:lnTo>
                    <a:pt x="265" y="512"/>
                  </a:lnTo>
                  <a:lnTo>
                    <a:pt x="328" y="374"/>
                  </a:lnTo>
                  <a:lnTo>
                    <a:pt x="328" y="317"/>
                  </a:lnTo>
                  <a:lnTo>
                    <a:pt x="296" y="264"/>
                  </a:lnTo>
                  <a:lnTo>
                    <a:pt x="376" y="194"/>
                  </a:lnTo>
                  <a:lnTo>
                    <a:pt x="376" y="132"/>
                  </a:lnTo>
                  <a:lnTo>
                    <a:pt x="265" y="0"/>
                  </a:lnTo>
                  <a:lnTo>
                    <a:pt x="354" y="132"/>
                  </a:lnTo>
                  <a:lnTo>
                    <a:pt x="354" y="185"/>
                  </a:lnTo>
                  <a:lnTo>
                    <a:pt x="274" y="238"/>
                  </a:lnTo>
                  <a:lnTo>
                    <a:pt x="306" y="317"/>
                  </a:lnTo>
                  <a:lnTo>
                    <a:pt x="296" y="374"/>
                  </a:lnTo>
                  <a:lnTo>
                    <a:pt x="221" y="534"/>
                  </a:lnTo>
                  <a:lnTo>
                    <a:pt x="212" y="688"/>
                  </a:lnTo>
                  <a:lnTo>
                    <a:pt x="230" y="830"/>
                  </a:lnTo>
                  <a:lnTo>
                    <a:pt x="278" y="1037"/>
                  </a:lnTo>
                  <a:lnTo>
                    <a:pt x="345" y="1200"/>
                  </a:lnTo>
                  <a:lnTo>
                    <a:pt x="345" y="1338"/>
                  </a:lnTo>
                  <a:lnTo>
                    <a:pt x="306" y="1505"/>
                  </a:lnTo>
                  <a:lnTo>
                    <a:pt x="230" y="1677"/>
                  </a:lnTo>
                  <a:lnTo>
                    <a:pt x="137" y="1585"/>
                  </a:lnTo>
                  <a:lnTo>
                    <a:pt x="92" y="1505"/>
                  </a:lnTo>
                  <a:lnTo>
                    <a:pt x="106" y="1338"/>
                  </a:lnTo>
                  <a:lnTo>
                    <a:pt x="92" y="1169"/>
                  </a:lnTo>
                  <a:lnTo>
                    <a:pt x="48" y="940"/>
                  </a:lnTo>
                  <a:lnTo>
                    <a:pt x="26" y="785"/>
                  </a:lnTo>
                  <a:lnTo>
                    <a:pt x="48" y="609"/>
                  </a:lnTo>
                  <a:lnTo>
                    <a:pt x="83" y="441"/>
                  </a:lnTo>
                  <a:lnTo>
                    <a:pt x="172" y="273"/>
                  </a:lnTo>
                  <a:lnTo>
                    <a:pt x="92" y="207"/>
                  </a:lnTo>
                  <a:lnTo>
                    <a:pt x="83" y="83"/>
                  </a:lnTo>
                  <a:lnTo>
                    <a:pt x="164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61480" y="351000"/>
              <a:ext cx="232200" cy="300240"/>
            </a:xfrm>
            <a:custGeom>
              <a:avLst/>
              <a:gdLst/>
              <a:ahLst/>
              <a:rect l="0" t="0" r="r" b="b"/>
              <a:pathLst>
                <a:path w="645" h="834">
                  <a:moveTo>
                    <a:pt x="110" y="211"/>
                  </a:moveTo>
                  <a:lnTo>
                    <a:pt x="199" y="194"/>
                  </a:lnTo>
                  <a:lnTo>
                    <a:pt x="296" y="202"/>
                  </a:lnTo>
                  <a:lnTo>
                    <a:pt x="371" y="238"/>
                  </a:lnTo>
                  <a:lnTo>
                    <a:pt x="415" y="282"/>
                  </a:lnTo>
                  <a:lnTo>
                    <a:pt x="433" y="326"/>
                  </a:lnTo>
                  <a:lnTo>
                    <a:pt x="433" y="366"/>
                  </a:lnTo>
                  <a:lnTo>
                    <a:pt x="411" y="396"/>
                  </a:lnTo>
                  <a:lnTo>
                    <a:pt x="367" y="414"/>
                  </a:lnTo>
                  <a:lnTo>
                    <a:pt x="318" y="419"/>
                  </a:lnTo>
                  <a:lnTo>
                    <a:pt x="265" y="405"/>
                  </a:lnTo>
                  <a:lnTo>
                    <a:pt x="203" y="370"/>
                  </a:lnTo>
                  <a:lnTo>
                    <a:pt x="164" y="339"/>
                  </a:lnTo>
                  <a:lnTo>
                    <a:pt x="145" y="446"/>
                  </a:lnTo>
                  <a:lnTo>
                    <a:pt x="110" y="521"/>
                  </a:lnTo>
                  <a:lnTo>
                    <a:pt x="0" y="697"/>
                  </a:lnTo>
                  <a:lnTo>
                    <a:pt x="158" y="834"/>
                  </a:lnTo>
                  <a:lnTo>
                    <a:pt x="278" y="609"/>
                  </a:lnTo>
                  <a:lnTo>
                    <a:pt x="411" y="627"/>
                  </a:lnTo>
                  <a:lnTo>
                    <a:pt x="491" y="613"/>
                  </a:lnTo>
                  <a:lnTo>
                    <a:pt x="575" y="561"/>
                  </a:lnTo>
                  <a:lnTo>
                    <a:pt x="623" y="494"/>
                  </a:lnTo>
                  <a:lnTo>
                    <a:pt x="645" y="410"/>
                  </a:lnTo>
                  <a:lnTo>
                    <a:pt x="645" y="317"/>
                  </a:lnTo>
                  <a:lnTo>
                    <a:pt x="623" y="224"/>
                  </a:lnTo>
                  <a:lnTo>
                    <a:pt x="566" y="127"/>
                  </a:lnTo>
                  <a:lnTo>
                    <a:pt x="504" y="57"/>
                  </a:lnTo>
                  <a:lnTo>
                    <a:pt x="424" y="22"/>
                  </a:lnTo>
                  <a:lnTo>
                    <a:pt x="331" y="0"/>
                  </a:lnTo>
                  <a:lnTo>
                    <a:pt x="212" y="0"/>
                  </a:lnTo>
                  <a:lnTo>
                    <a:pt x="88" y="22"/>
                  </a:lnTo>
                  <a:lnTo>
                    <a:pt x="110" y="21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20080" y="641520"/>
              <a:ext cx="84600" cy="59040"/>
            </a:xfrm>
            <a:custGeom>
              <a:avLst/>
              <a:gdLst/>
              <a:ahLst/>
              <a:rect l="0" t="0" r="r" b="b"/>
              <a:pathLst>
                <a:path w="235" h="164">
                  <a:moveTo>
                    <a:pt x="93" y="0"/>
                  </a:moveTo>
                  <a:lnTo>
                    <a:pt x="30" y="0"/>
                  </a:lnTo>
                  <a:lnTo>
                    <a:pt x="0" y="22"/>
                  </a:lnTo>
                  <a:lnTo>
                    <a:pt x="0" y="84"/>
                  </a:lnTo>
                  <a:lnTo>
                    <a:pt x="48" y="142"/>
                  </a:lnTo>
                  <a:lnTo>
                    <a:pt x="146" y="164"/>
                  </a:lnTo>
                  <a:lnTo>
                    <a:pt x="213" y="159"/>
                  </a:lnTo>
                  <a:lnTo>
                    <a:pt x="235" y="124"/>
                  </a:lnTo>
                  <a:lnTo>
                    <a:pt x="222" y="89"/>
                  </a:lnTo>
                  <a:lnTo>
                    <a:pt x="191" y="39"/>
                  </a:lnTo>
                  <a:lnTo>
                    <a:pt x="133" y="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267080" y="1066680"/>
            <a:ext cx="4648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rtnership: (b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.S. dollar: (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ment of an expense: 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rporation: (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 of an asset: 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1160" y="2587680"/>
            <a:ext cx="2749680" cy="361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(a) business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   transaction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(b) separate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   entity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(c) money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   measu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429000" y="990720"/>
            <a:ext cx="762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143000" y="6094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orms of Business Orga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828800" y="2666880"/>
            <a:ext cx="6553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three basic forms of business organiz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66960" y="380880"/>
            <a:ext cx="7567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ypes of Business Orga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438280" y="2362320"/>
            <a:ext cx="48769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le Proprietor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ner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rporation</a:t>
            </a: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90720" y="38088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ole Proprieto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143000" y="152388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owned by one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a separate legal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wner’s personal resources at st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fe is limited by choice or death of ow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 by owner establishes new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arate accounting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66680" y="30492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rtn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907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owned by more than one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a separate legal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rtners’ personal resources at st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fe is limited by choice or death of any part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anges in any partner’s % interest requires new partner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arate accounting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85800" y="45720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523880" y="175248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parate legal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y limited to amount of inves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fe of organization is inde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ship transfe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parate accounting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609480" y="122400"/>
            <a:ext cx="85345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Number and Receipts of U.S. Proprietorships, Partnerships, and Corporations,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09480" y="1136520"/>
            <a:ext cx="8236080" cy="5194440"/>
            <a:chOff x="609480" y="1136520"/>
            <a:chExt cx="8236080" cy="5194440"/>
          </a:xfrm>
        </p:grpSpPr>
        <p:sp>
          <p:nvSpPr>
            <p:cNvPr id="388" name=""/>
            <p:cNvSpPr/>
            <p:nvPr/>
          </p:nvSpPr>
          <p:spPr>
            <a:xfrm>
              <a:off x="704880" y="1136520"/>
              <a:ext cx="8140680" cy="519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480" y="1185840"/>
              <a:ext cx="1904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6692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7828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8784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9596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0876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1688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2788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692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7828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8784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9596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876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1688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2788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981000" y="1822320"/>
              <a:ext cx="13161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rieto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1193760" y="2298600"/>
              <a:ext cx="11127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ne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1166760" y="2759040"/>
              <a:ext cx="11383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por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3602160" y="1289160"/>
              <a:ext cx="21286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BER OF BUSINESS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8050320" y="1773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,15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8131320" y="223524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8131320" y="272412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3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60600" y="1803240"/>
              <a:ext cx="5521680" cy="333720"/>
            </a:xfrm>
            <a:custGeom>
              <a:avLst/>
              <a:gdLst/>
              <a:ahLst/>
              <a:rect l="0" t="0" r="r" b="b"/>
              <a:pathLst>
                <a:path w="15338" h="927">
                  <a:moveTo>
                    <a:pt x="15338" y="927"/>
                  </a:moveTo>
                  <a:lnTo>
                    <a:pt x="15338" y="0"/>
                  </a:lnTo>
                  <a:lnTo>
                    <a:pt x="0" y="0"/>
                  </a:lnTo>
                  <a:lnTo>
                    <a:pt x="0" y="927"/>
                  </a:lnTo>
                  <a:lnTo>
                    <a:pt x="15338" y="927"/>
                  </a:lnTo>
                  <a:close/>
                </a:path>
              </a:pathLst>
            </a:custGeom>
            <a:solidFill>
              <a:srgbClr val="fc58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79760" y="2443320"/>
              <a:ext cx="5132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70040" y="2921040"/>
              <a:ext cx="5132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60600" y="2273400"/>
              <a:ext cx="510120" cy="316440"/>
            </a:xfrm>
            <a:custGeom>
              <a:avLst/>
              <a:gdLst/>
              <a:ahLst/>
              <a:rect l="0" t="0" r="r" b="b"/>
              <a:pathLst>
                <a:path w="1417" h="879">
                  <a:moveTo>
                    <a:pt x="1417" y="879"/>
                  </a:moveTo>
                  <a:lnTo>
                    <a:pt x="1417" y="0"/>
                  </a:lnTo>
                  <a:lnTo>
                    <a:pt x="0" y="0"/>
                  </a:lnTo>
                  <a:lnTo>
                    <a:pt x="0" y="879"/>
                  </a:lnTo>
                  <a:lnTo>
                    <a:pt x="1417" y="879"/>
                  </a:lnTo>
                  <a:close/>
                </a:path>
              </a:pathLst>
            </a:custGeom>
            <a:solidFill>
              <a:srgbClr val="9dba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60600" y="2743200"/>
              <a:ext cx="1576800" cy="303480"/>
            </a:xfrm>
            <a:custGeom>
              <a:avLst/>
              <a:gdLst/>
              <a:ahLst/>
              <a:rect l="0" t="0" r="r" b="b"/>
              <a:pathLst>
                <a:path w="4380" h="843">
                  <a:moveTo>
                    <a:pt x="4380" y="843"/>
                  </a:moveTo>
                  <a:lnTo>
                    <a:pt x="4380" y="0"/>
                  </a:lnTo>
                  <a:lnTo>
                    <a:pt x="0" y="0"/>
                  </a:lnTo>
                  <a:lnTo>
                    <a:pt x="0" y="843"/>
                  </a:lnTo>
                  <a:lnTo>
                    <a:pt x="4380" y="843"/>
                  </a:lnTo>
                  <a:close/>
                </a:path>
              </a:pathLst>
            </a:custGeom>
            <a:solidFill>
              <a:srgbClr val="eab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232092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302436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372276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444672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515772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5821200" y="320688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6532560" y="320688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7253280" y="320688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7689960" y="3206880"/>
              <a:ext cx="747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l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981000" y="4438800"/>
              <a:ext cx="13161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rieto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193760" y="4889520"/>
              <a:ext cx="11127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ne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1166760" y="5386320"/>
              <a:ext cx="11383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por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3552840" y="3821040"/>
              <a:ext cx="2222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PTS OF BUSINESS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8008920" y="4400640"/>
              <a:ext cx="6890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79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8253360" y="4862520"/>
              <a:ext cx="4348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8050320" y="53499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,60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79760" y="5068800"/>
              <a:ext cx="507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70040" y="5545080"/>
              <a:ext cx="507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60600" y="4897440"/>
              <a:ext cx="281520" cy="359280"/>
            </a:xfrm>
            <a:custGeom>
              <a:avLst/>
              <a:gdLst/>
              <a:ahLst/>
              <a:rect l="0" t="0" r="r" b="b"/>
              <a:pathLst>
                <a:path w="782" h="998">
                  <a:moveTo>
                    <a:pt x="782" y="998"/>
                  </a:moveTo>
                  <a:lnTo>
                    <a:pt x="782" y="0"/>
                  </a:lnTo>
                  <a:lnTo>
                    <a:pt x="0" y="0"/>
                  </a:lnTo>
                  <a:lnTo>
                    <a:pt x="0" y="998"/>
                  </a:lnTo>
                  <a:lnTo>
                    <a:pt x="782" y="998"/>
                  </a:lnTo>
                  <a:close/>
                </a:path>
              </a:pathLst>
            </a:custGeom>
            <a:solidFill>
              <a:srgbClr val="9dba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60600" y="5369040"/>
              <a:ext cx="5158080" cy="344880"/>
            </a:xfrm>
            <a:custGeom>
              <a:avLst/>
              <a:gdLst/>
              <a:ahLst/>
              <a:rect l="0" t="0" r="r" b="b"/>
              <a:pathLst>
                <a:path w="14328" h="958">
                  <a:moveTo>
                    <a:pt x="14328" y="958"/>
                  </a:moveTo>
                  <a:lnTo>
                    <a:pt x="14328" y="0"/>
                  </a:lnTo>
                  <a:lnTo>
                    <a:pt x="0" y="0"/>
                  </a:lnTo>
                  <a:lnTo>
                    <a:pt x="0" y="958"/>
                  </a:lnTo>
                  <a:lnTo>
                    <a:pt x="14328" y="958"/>
                  </a:lnTo>
                  <a:close/>
                </a:path>
              </a:pathLst>
            </a:custGeom>
            <a:solidFill>
              <a:srgbClr val="eab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2259000" y="583236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$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285444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357660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428796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498960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5692680" y="5832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6354720" y="5832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7061040" y="5832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7756560" y="5832360"/>
              <a:ext cx="7318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04760" y="3751200"/>
              <a:ext cx="76089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79760" y="4603680"/>
              <a:ext cx="507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60600" y="4430880"/>
              <a:ext cx="281520" cy="368640"/>
            </a:xfrm>
            <a:custGeom>
              <a:avLst/>
              <a:gdLst/>
              <a:ahLst/>
              <a:rect l="0" t="0" r="r" b="b"/>
              <a:pathLst>
                <a:path w="782" h="1024">
                  <a:moveTo>
                    <a:pt x="782" y="1024"/>
                  </a:moveTo>
                  <a:lnTo>
                    <a:pt x="782" y="0"/>
                  </a:lnTo>
                  <a:lnTo>
                    <a:pt x="0" y="0"/>
                  </a:lnTo>
                  <a:lnTo>
                    <a:pt x="0" y="1024"/>
                  </a:lnTo>
                  <a:lnTo>
                    <a:pt x="782" y="1024"/>
                  </a:lnTo>
                  <a:close/>
                </a:path>
              </a:pathLst>
            </a:custGeom>
            <a:solidFill>
              <a:srgbClr val="fc58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6060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6060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762120" y="21337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ow do sole proprietorship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rtnerships, and corporations diff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sole proprietorship is a busines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wned by one individ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partnership is similar in most respec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 a proprietorship except that more tha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e owner is inv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rporation is an economic unit that 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egally separate from its ow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133720" y="914400"/>
            <a:ext cx="4648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705720" y="228600"/>
            <a:ext cx="2055960" cy="1980000"/>
            <a:chOff x="6705720" y="228600"/>
            <a:chExt cx="2055960" cy="1980000"/>
          </a:xfrm>
        </p:grpSpPr>
        <p:sp>
          <p:nvSpPr>
            <p:cNvPr id="453" name=""/>
            <p:cNvSpPr/>
            <p:nvPr/>
          </p:nvSpPr>
          <p:spPr>
            <a:xfrm>
              <a:off x="6711840" y="120024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2" y="0"/>
                  </a:moveTo>
                  <a:lnTo>
                    <a:pt x="481" y="88"/>
                  </a:lnTo>
                  <a:lnTo>
                    <a:pt x="481" y="335"/>
                  </a:lnTo>
                  <a:lnTo>
                    <a:pt x="552" y="521"/>
                  </a:lnTo>
                  <a:lnTo>
                    <a:pt x="636" y="605"/>
                  </a:lnTo>
                  <a:lnTo>
                    <a:pt x="512" y="733"/>
                  </a:lnTo>
                  <a:lnTo>
                    <a:pt x="343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51"/>
                  </a:lnTo>
                  <a:lnTo>
                    <a:pt x="127" y="1651"/>
                  </a:lnTo>
                  <a:lnTo>
                    <a:pt x="211" y="1545"/>
                  </a:lnTo>
                  <a:lnTo>
                    <a:pt x="343" y="1293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7"/>
                  </a:lnTo>
                  <a:lnTo>
                    <a:pt x="343" y="1840"/>
                  </a:lnTo>
                  <a:lnTo>
                    <a:pt x="428" y="1823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4" y="1924"/>
                  </a:lnTo>
                  <a:lnTo>
                    <a:pt x="997" y="1682"/>
                  </a:lnTo>
                  <a:lnTo>
                    <a:pt x="1086" y="1907"/>
                  </a:lnTo>
                  <a:lnTo>
                    <a:pt x="1152" y="1840"/>
                  </a:lnTo>
                  <a:lnTo>
                    <a:pt x="1183" y="1398"/>
                  </a:lnTo>
                  <a:lnTo>
                    <a:pt x="1386" y="979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8"/>
                  </a:lnTo>
                  <a:lnTo>
                    <a:pt x="997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30880" y="1481040"/>
              <a:ext cx="147960" cy="333720"/>
            </a:xfrm>
            <a:custGeom>
              <a:avLst/>
              <a:gdLst/>
              <a:ahLst/>
              <a:rect l="0" t="0" r="r" b="b"/>
              <a:pathLst>
                <a:path w="411" h="927">
                  <a:moveTo>
                    <a:pt x="208" y="0"/>
                  </a:moveTo>
                  <a:lnTo>
                    <a:pt x="411" y="238"/>
                  </a:lnTo>
                  <a:lnTo>
                    <a:pt x="309" y="763"/>
                  </a:lnTo>
                  <a:lnTo>
                    <a:pt x="0" y="927"/>
                  </a:lnTo>
                  <a:lnTo>
                    <a:pt x="0" y="666"/>
                  </a:lnTo>
                  <a:lnTo>
                    <a:pt x="123" y="392"/>
                  </a:lnTo>
                  <a:lnTo>
                    <a:pt x="208" y="19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86680" y="1287360"/>
              <a:ext cx="367200" cy="303480"/>
            </a:xfrm>
            <a:custGeom>
              <a:avLst/>
              <a:gdLst/>
              <a:ahLst/>
              <a:rect l="0" t="0" r="r" b="b"/>
              <a:pathLst>
                <a:path w="1020" h="843">
                  <a:moveTo>
                    <a:pt x="419" y="0"/>
                  </a:moveTo>
                  <a:lnTo>
                    <a:pt x="419" y="136"/>
                  </a:lnTo>
                  <a:lnTo>
                    <a:pt x="455" y="255"/>
                  </a:lnTo>
                  <a:lnTo>
                    <a:pt x="653" y="455"/>
                  </a:lnTo>
                  <a:lnTo>
                    <a:pt x="1020" y="569"/>
                  </a:lnTo>
                  <a:lnTo>
                    <a:pt x="967" y="825"/>
                  </a:lnTo>
                  <a:lnTo>
                    <a:pt x="653" y="843"/>
                  </a:lnTo>
                  <a:lnTo>
                    <a:pt x="198" y="662"/>
                  </a:lnTo>
                  <a:lnTo>
                    <a:pt x="0" y="339"/>
                  </a:lnTo>
                  <a:lnTo>
                    <a:pt x="229" y="17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234280" y="94608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9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29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5"/>
                  </a:lnTo>
                  <a:lnTo>
                    <a:pt x="984" y="1698"/>
                  </a:lnTo>
                  <a:lnTo>
                    <a:pt x="1073" y="1681"/>
                  </a:lnTo>
                  <a:lnTo>
                    <a:pt x="1050" y="1517"/>
                  </a:lnTo>
                  <a:lnTo>
                    <a:pt x="966" y="1284"/>
                  </a:lnTo>
                  <a:lnTo>
                    <a:pt x="887" y="1129"/>
                  </a:lnTo>
                  <a:lnTo>
                    <a:pt x="918" y="1028"/>
                  </a:lnTo>
                  <a:lnTo>
                    <a:pt x="966" y="1046"/>
                  </a:lnTo>
                  <a:lnTo>
                    <a:pt x="1170" y="1284"/>
                  </a:lnTo>
                  <a:lnTo>
                    <a:pt x="1382" y="1345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997" y="771"/>
                  </a:lnTo>
                  <a:lnTo>
                    <a:pt x="680" y="657"/>
                  </a:lnTo>
                  <a:lnTo>
                    <a:pt x="640" y="449"/>
                  </a:lnTo>
                  <a:lnTo>
                    <a:pt x="750" y="255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9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89720" y="369720"/>
              <a:ext cx="560880" cy="849600"/>
            </a:xfrm>
            <a:custGeom>
              <a:avLst/>
              <a:gdLst/>
              <a:ahLst/>
              <a:rect l="0" t="0" r="r" b="b"/>
              <a:pathLst>
                <a:path w="1558" h="2360">
                  <a:moveTo>
                    <a:pt x="388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09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36"/>
                  </a:lnTo>
                  <a:lnTo>
                    <a:pt x="424" y="2166"/>
                  </a:lnTo>
                  <a:lnTo>
                    <a:pt x="741" y="2360"/>
                  </a:lnTo>
                  <a:lnTo>
                    <a:pt x="1059" y="2333"/>
                  </a:lnTo>
                  <a:lnTo>
                    <a:pt x="1210" y="1936"/>
                  </a:lnTo>
                  <a:lnTo>
                    <a:pt x="1245" y="1345"/>
                  </a:lnTo>
                  <a:lnTo>
                    <a:pt x="1558" y="1049"/>
                  </a:lnTo>
                  <a:lnTo>
                    <a:pt x="1540" y="926"/>
                  </a:lnTo>
                  <a:lnTo>
                    <a:pt x="1505" y="868"/>
                  </a:lnTo>
                  <a:lnTo>
                    <a:pt x="1346" y="855"/>
                  </a:lnTo>
                  <a:lnTo>
                    <a:pt x="1395" y="705"/>
                  </a:lnTo>
                  <a:lnTo>
                    <a:pt x="1232" y="595"/>
                  </a:lnTo>
                  <a:lnTo>
                    <a:pt x="1160" y="255"/>
                  </a:lnTo>
                  <a:lnTo>
                    <a:pt x="680" y="0"/>
                  </a:lnTo>
                  <a:lnTo>
                    <a:pt x="424" y="238"/>
                  </a:lnTo>
                  <a:lnTo>
                    <a:pt x="388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1120" y="1079640"/>
              <a:ext cx="514800" cy="1014840"/>
            </a:xfrm>
            <a:custGeom>
              <a:avLst/>
              <a:gdLst/>
              <a:ahLst/>
              <a:rect l="0" t="0" r="r" b="b"/>
              <a:pathLst>
                <a:path w="1430" h="2819">
                  <a:moveTo>
                    <a:pt x="295" y="145"/>
                  </a:moveTo>
                  <a:lnTo>
                    <a:pt x="499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46" y="88"/>
                  </a:lnTo>
                  <a:lnTo>
                    <a:pt x="1430" y="533"/>
                  </a:lnTo>
                  <a:lnTo>
                    <a:pt x="1015" y="1831"/>
                  </a:lnTo>
                  <a:lnTo>
                    <a:pt x="1148" y="2550"/>
                  </a:lnTo>
                  <a:lnTo>
                    <a:pt x="609" y="2819"/>
                  </a:lnTo>
                  <a:lnTo>
                    <a:pt x="189" y="2665"/>
                  </a:lnTo>
                  <a:lnTo>
                    <a:pt x="189" y="1906"/>
                  </a:lnTo>
                  <a:lnTo>
                    <a:pt x="0" y="1169"/>
                  </a:lnTo>
                  <a:lnTo>
                    <a:pt x="189" y="282"/>
                  </a:lnTo>
                  <a:lnTo>
                    <a:pt x="295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53440" y="255600"/>
              <a:ext cx="481320" cy="270360"/>
            </a:xfrm>
            <a:custGeom>
              <a:avLst/>
              <a:gdLst/>
              <a:ahLst/>
              <a:rect l="0" t="0" r="r" b="b"/>
              <a:pathLst>
                <a:path w="1337" h="751">
                  <a:moveTo>
                    <a:pt x="167" y="716"/>
                  </a:moveTo>
                  <a:lnTo>
                    <a:pt x="361" y="512"/>
                  </a:lnTo>
                  <a:lnTo>
                    <a:pt x="485" y="486"/>
                  </a:lnTo>
                  <a:lnTo>
                    <a:pt x="485" y="503"/>
                  </a:lnTo>
                  <a:lnTo>
                    <a:pt x="546" y="486"/>
                  </a:lnTo>
                  <a:lnTo>
                    <a:pt x="630" y="547"/>
                  </a:lnTo>
                  <a:lnTo>
                    <a:pt x="785" y="575"/>
                  </a:lnTo>
                  <a:lnTo>
                    <a:pt x="918" y="751"/>
                  </a:lnTo>
                  <a:lnTo>
                    <a:pt x="1125" y="672"/>
                  </a:lnTo>
                  <a:lnTo>
                    <a:pt x="1125" y="592"/>
                  </a:lnTo>
                  <a:lnTo>
                    <a:pt x="1337" y="503"/>
                  </a:lnTo>
                  <a:lnTo>
                    <a:pt x="1275" y="362"/>
                  </a:lnTo>
                  <a:lnTo>
                    <a:pt x="1076" y="349"/>
                  </a:lnTo>
                  <a:lnTo>
                    <a:pt x="1107" y="199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6" y="163"/>
                  </a:lnTo>
                  <a:lnTo>
                    <a:pt x="630" y="163"/>
                  </a:lnTo>
                  <a:lnTo>
                    <a:pt x="648" y="0"/>
                  </a:lnTo>
                  <a:lnTo>
                    <a:pt x="485" y="74"/>
                  </a:lnTo>
                  <a:lnTo>
                    <a:pt x="264" y="349"/>
                  </a:lnTo>
                  <a:lnTo>
                    <a:pt x="246" y="163"/>
                  </a:lnTo>
                  <a:lnTo>
                    <a:pt x="136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7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83400" y="126684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8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5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52" y="1861"/>
                  </a:lnTo>
                  <a:lnTo>
                    <a:pt x="269" y="2135"/>
                  </a:lnTo>
                  <a:lnTo>
                    <a:pt x="406" y="1720"/>
                  </a:lnTo>
                  <a:lnTo>
                    <a:pt x="406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7" y="317"/>
                  </a:lnTo>
                  <a:lnTo>
                    <a:pt x="424" y="238"/>
                  </a:lnTo>
                  <a:lnTo>
                    <a:pt x="406" y="145"/>
                  </a:lnTo>
                  <a:lnTo>
                    <a:pt x="283" y="0"/>
                  </a:lnTo>
                  <a:lnTo>
                    <a:pt x="217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7280" y="100980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5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42280" y="655560"/>
              <a:ext cx="152640" cy="149760"/>
            </a:xfrm>
            <a:custGeom>
              <a:avLst/>
              <a:gdLst/>
              <a:ahLst/>
              <a:rect l="0" t="0" r="r" b="b"/>
              <a:pathLst>
                <a:path w="424" h="416">
                  <a:moveTo>
                    <a:pt x="0" y="48"/>
                  </a:moveTo>
                  <a:lnTo>
                    <a:pt x="296" y="416"/>
                  </a:lnTo>
                  <a:lnTo>
                    <a:pt x="424" y="390"/>
                  </a:lnTo>
                  <a:lnTo>
                    <a:pt x="11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711920" y="623880"/>
              <a:ext cx="132120" cy="147960"/>
            </a:xfrm>
            <a:custGeom>
              <a:avLst/>
              <a:gdLst/>
              <a:ahLst/>
              <a:rect l="0" t="0" r="r" b="b"/>
              <a:pathLst>
                <a:path w="367" h="411">
                  <a:moveTo>
                    <a:pt x="0" y="61"/>
                  </a:moveTo>
                  <a:lnTo>
                    <a:pt x="252" y="411"/>
                  </a:lnTo>
                  <a:lnTo>
                    <a:pt x="367" y="31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85040" y="428760"/>
              <a:ext cx="536760" cy="376560"/>
            </a:xfrm>
            <a:custGeom>
              <a:avLst/>
              <a:gdLst/>
              <a:ahLst/>
              <a:rect l="0" t="0" r="r" b="b"/>
              <a:pathLst>
                <a:path w="1491" h="1046">
                  <a:moveTo>
                    <a:pt x="683" y="618"/>
                  </a:moveTo>
                  <a:lnTo>
                    <a:pt x="551" y="578"/>
                  </a:lnTo>
                  <a:lnTo>
                    <a:pt x="665" y="485"/>
                  </a:lnTo>
                  <a:lnTo>
                    <a:pt x="621" y="436"/>
                  </a:lnTo>
                  <a:lnTo>
                    <a:pt x="467" y="565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41"/>
                  </a:lnTo>
                  <a:lnTo>
                    <a:pt x="224" y="1046"/>
                  </a:lnTo>
                  <a:lnTo>
                    <a:pt x="61" y="724"/>
                  </a:lnTo>
                  <a:lnTo>
                    <a:pt x="313" y="618"/>
                  </a:lnTo>
                  <a:lnTo>
                    <a:pt x="467" y="618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41"/>
                  </a:lnTo>
                  <a:lnTo>
                    <a:pt x="692" y="944"/>
                  </a:lnTo>
                  <a:lnTo>
                    <a:pt x="692" y="733"/>
                  </a:lnTo>
                  <a:lnTo>
                    <a:pt x="799" y="733"/>
                  </a:lnTo>
                  <a:lnTo>
                    <a:pt x="852" y="975"/>
                  </a:lnTo>
                  <a:lnTo>
                    <a:pt x="909" y="997"/>
                  </a:lnTo>
                  <a:lnTo>
                    <a:pt x="1090" y="997"/>
                  </a:lnTo>
                  <a:lnTo>
                    <a:pt x="1271" y="953"/>
                  </a:lnTo>
                  <a:lnTo>
                    <a:pt x="1403" y="865"/>
                  </a:lnTo>
                  <a:lnTo>
                    <a:pt x="1425" y="653"/>
                  </a:lnTo>
                  <a:lnTo>
                    <a:pt x="1491" y="565"/>
                  </a:lnTo>
                  <a:lnTo>
                    <a:pt x="1447" y="507"/>
                  </a:lnTo>
                  <a:lnTo>
                    <a:pt x="1284" y="449"/>
                  </a:lnTo>
                  <a:lnTo>
                    <a:pt x="1257" y="233"/>
                  </a:lnTo>
                  <a:lnTo>
                    <a:pt x="1103" y="233"/>
                  </a:lnTo>
                  <a:lnTo>
                    <a:pt x="913" y="0"/>
                  </a:lnTo>
                  <a:lnTo>
                    <a:pt x="1085" y="255"/>
                  </a:lnTo>
                  <a:lnTo>
                    <a:pt x="1138" y="255"/>
                  </a:lnTo>
                  <a:lnTo>
                    <a:pt x="1173" y="436"/>
                  </a:lnTo>
                  <a:lnTo>
                    <a:pt x="962" y="507"/>
                  </a:lnTo>
                  <a:lnTo>
                    <a:pt x="812" y="454"/>
                  </a:lnTo>
                  <a:lnTo>
                    <a:pt x="790" y="507"/>
                  </a:lnTo>
                  <a:lnTo>
                    <a:pt x="869" y="565"/>
                  </a:lnTo>
                  <a:lnTo>
                    <a:pt x="869" y="613"/>
                  </a:lnTo>
                  <a:lnTo>
                    <a:pt x="1050" y="530"/>
                  </a:lnTo>
                  <a:lnTo>
                    <a:pt x="1200" y="520"/>
                  </a:lnTo>
                  <a:lnTo>
                    <a:pt x="1368" y="543"/>
                  </a:lnTo>
                  <a:lnTo>
                    <a:pt x="1368" y="569"/>
                  </a:lnTo>
                  <a:lnTo>
                    <a:pt x="1288" y="640"/>
                  </a:lnTo>
                  <a:lnTo>
                    <a:pt x="1257" y="733"/>
                  </a:lnTo>
                  <a:lnTo>
                    <a:pt x="1253" y="865"/>
                  </a:lnTo>
                  <a:lnTo>
                    <a:pt x="1151" y="913"/>
                  </a:lnTo>
                  <a:lnTo>
                    <a:pt x="1006" y="931"/>
                  </a:lnTo>
                  <a:lnTo>
                    <a:pt x="909" y="931"/>
                  </a:lnTo>
                  <a:lnTo>
                    <a:pt x="874" y="891"/>
                  </a:lnTo>
                  <a:lnTo>
                    <a:pt x="852" y="653"/>
                  </a:lnTo>
                  <a:lnTo>
                    <a:pt x="692" y="653"/>
                  </a:lnTo>
                  <a:lnTo>
                    <a:pt x="683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70800" y="863640"/>
              <a:ext cx="173520" cy="74880"/>
            </a:xfrm>
            <a:custGeom>
              <a:avLst/>
              <a:gdLst/>
              <a:ahLst/>
              <a:rect l="0" t="0" r="r" b="b"/>
              <a:pathLst>
                <a:path w="482" h="208">
                  <a:moveTo>
                    <a:pt x="0" y="0"/>
                  </a:moveTo>
                  <a:lnTo>
                    <a:pt x="79" y="97"/>
                  </a:lnTo>
                  <a:lnTo>
                    <a:pt x="283" y="97"/>
                  </a:lnTo>
                  <a:lnTo>
                    <a:pt x="372" y="26"/>
                  </a:lnTo>
                  <a:lnTo>
                    <a:pt x="482" y="26"/>
                  </a:lnTo>
                  <a:lnTo>
                    <a:pt x="460" y="61"/>
                  </a:lnTo>
                  <a:lnTo>
                    <a:pt x="460" y="97"/>
                  </a:lnTo>
                  <a:lnTo>
                    <a:pt x="269" y="208"/>
                  </a:lnTo>
                  <a:lnTo>
                    <a:pt x="159" y="208"/>
                  </a:lnTo>
                  <a:lnTo>
                    <a:pt x="101" y="168"/>
                  </a:lnTo>
                  <a:lnTo>
                    <a:pt x="39" y="1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78560" y="739800"/>
              <a:ext cx="260640" cy="403560"/>
            </a:xfrm>
            <a:custGeom>
              <a:avLst/>
              <a:gdLst/>
              <a:ahLst/>
              <a:rect l="0" t="0" r="r" b="b"/>
              <a:pathLst>
                <a:path w="724" h="1121">
                  <a:moveTo>
                    <a:pt x="724" y="83"/>
                  </a:moveTo>
                  <a:lnTo>
                    <a:pt x="724" y="97"/>
                  </a:lnTo>
                  <a:lnTo>
                    <a:pt x="596" y="211"/>
                  </a:lnTo>
                  <a:lnTo>
                    <a:pt x="490" y="233"/>
                  </a:lnTo>
                  <a:lnTo>
                    <a:pt x="291" y="202"/>
                  </a:lnTo>
                  <a:lnTo>
                    <a:pt x="326" y="605"/>
                  </a:lnTo>
                  <a:lnTo>
                    <a:pt x="371" y="940"/>
                  </a:lnTo>
                  <a:lnTo>
                    <a:pt x="459" y="1121"/>
                  </a:lnTo>
                  <a:lnTo>
                    <a:pt x="371" y="988"/>
                  </a:lnTo>
                  <a:lnTo>
                    <a:pt x="339" y="852"/>
                  </a:lnTo>
                  <a:lnTo>
                    <a:pt x="277" y="476"/>
                  </a:lnTo>
                  <a:lnTo>
                    <a:pt x="220" y="498"/>
                  </a:lnTo>
                  <a:lnTo>
                    <a:pt x="149" y="454"/>
                  </a:lnTo>
                  <a:lnTo>
                    <a:pt x="17" y="251"/>
                  </a:lnTo>
                  <a:lnTo>
                    <a:pt x="0" y="141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26"/>
                  </a:lnTo>
                  <a:lnTo>
                    <a:pt x="57" y="48"/>
                  </a:lnTo>
                  <a:lnTo>
                    <a:pt x="39" y="136"/>
                  </a:lnTo>
                  <a:lnTo>
                    <a:pt x="52" y="238"/>
                  </a:lnTo>
                  <a:lnTo>
                    <a:pt x="145" y="335"/>
                  </a:lnTo>
                  <a:lnTo>
                    <a:pt x="185" y="313"/>
                  </a:lnTo>
                  <a:lnTo>
                    <a:pt x="185" y="110"/>
                  </a:lnTo>
                  <a:lnTo>
                    <a:pt x="273" y="154"/>
                  </a:lnTo>
                  <a:lnTo>
                    <a:pt x="402" y="180"/>
                  </a:lnTo>
                  <a:lnTo>
                    <a:pt x="525" y="176"/>
                  </a:lnTo>
                  <a:lnTo>
                    <a:pt x="640" y="110"/>
                  </a:lnTo>
                  <a:lnTo>
                    <a:pt x="72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17600"/>
              <a:ext cx="79560" cy="216360"/>
            </a:xfrm>
            <a:custGeom>
              <a:avLst/>
              <a:gdLst/>
              <a:ahLst/>
              <a:rect l="0" t="0" r="r" b="b"/>
              <a:pathLst>
                <a:path w="221" h="601">
                  <a:moveTo>
                    <a:pt x="115" y="601"/>
                  </a:moveTo>
                  <a:lnTo>
                    <a:pt x="221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8"/>
                  </a:lnTo>
                  <a:lnTo>
                    <a:pt x="88" y="380"/>
                  </a:lnTo>
                  <a:lnTo>
                    <a:pt x="137" y="460"/>
                  </a:lnTo>
                  <a:lnTo>
                    <a:pt x="115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45520" y="22860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8"/>
                  </a:moveTo>
                  <a:lnTo>
                    <a:pt x="154" y="613"/>
                  </a:lnTo>
                  <a:lnTo>
                    <a:pt x="141" y="516"/>
                  </a:lnTo>
                  <a:lnTo>
                    <a:pt x="167" y="335"/>
                  </a:lnTo>
                  <a:lnTo>
                    <a:pt x="264" y="295"/>
                  </a:lnTo>
                  <a:lnTo>
                    <a:pt x="273" y="486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7" y="326"/>
                  </a:lnTo>
                  <a:lnTo>
                    <a:pt x="860" y="198"/>
                  </a:lnTo>
                  <a:lnTo>
                    <a:pt x="927" y="233"/>
                  </a:lnTo>
                  <a:lnTo>
                    <a:pt x="865" y="348"/>
                  </a:lnTo>
                  <a:lnTo>
                    <a:pt x="949" y="286"/>
                  </a:lnTo>
                  <a:lnTo>
                    <a:pt x="1072" y="335"/>
                  </a:lnTo>
                  <a:lnTo>
                    <a:pt x="975" y="428"/>
                  </a:lnTo>
                  <a:lnTo>
                    <a:pt x="1311" y="486"/>
                  </a:lnTo>
                  <a:lnTo>
                    <a:pt x="1081" y="561"/>
                  </a:lnTo>
                  <a:lnTo>
                    <a:pt x="1364" y="596"/>
                  </a:lnTo>
                  <a:lnTo>
                    <a:pt x="1032" y="675"/>
                  </a:lnTo>
                  <a:lnTo>
                    <a:pt x="1103" y="728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6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0" y="605"/>
                  </a:lnTo>
                  <a:lnTo>
                    <a:pt x="1360" y="543"/>
                  </a:lnTo>
                  <a:lnTo>
                    <a:pt x="1633" y="525"/>
                  </a:lnTo>
                  <a:lnTo>
                    <a:pt x="1395" y="402"/>
                  </a:lnTo>
                  <a:lnTo>
                    <a:pt x="1121" y="366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86"/>
                  </a:lnTo>
                  <a:lnTo>
                    <a:pt x="35" y="658"/>
                  </a:lnTo>
                  <a:lnTo>
                    <a:pt x="17" y="53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74040" y="37944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9"/>
                  </a:lnTo>
                  <a:lnTo>
                    <a:pt x="225" y="137"/>
                  </a:lnTo>
                  <a:lnTo>
                    <a:pt x="146" y="199"/>
                  </a:lnTo>
                  <a:lnTo>
                    <a:pt x="146" y="120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56400" y="961920"/>
              <a:ext cx="200520" cy="125640"/>
            </a:xfrm>
            <a:custGeom>
              <a:avLst/>
              <a:gdLst/>
              <a:ahLst/>
              <a:rect l="0" t="0" r="r" b="b"/>
              <a:pathLst>
                <a:path w="557" h="349">
                  <a:moveTo>
                    <a:pt x="105" y="119"/>
                  </a:moveTo>
                  <a:lnTo>
                    <a:pt x="331" y="101"/>
                  </a:lnTo>
                  <a:lnTo>
                    <a:pt x="442" y="132"/>
                  </a:lnTo>
                  <a:lnTo>
                    <a:pt x="500" y="79"/>
                  </a:lnTo>
                  <a:lnTo>
                    <a:pt x="557" y="195"/>
                  </a:lnTo>
                  <a:lnTo>
                    <a:pt x="522" y="212"/>
                  </a:lnTo>
                  <a:lnTo>
                    <a:pt x="473" y="171"/>
                  </a:lnTo>
                  <a:lnTo>
                    <a:pt x="393" y="252"/>
                  </a:lnTo>
                  <a:lnTo>
                    <a:pt x="261" y="349"/>
                  </a:lnTo>
                  <a:lnTo>
                    <a:pt x="199" y="349"/>
                  </a:lnTo>
                  <a:lnTo>
                    <a:pt x="105" y="300"/>
                  </a:lnTo>
                  <a:lnTo>
                    <a:pt x="208" y="344"/>
                  </a:lnTo>
                  <a:lnTo>
                    <a:pt x="247" y="344"/>
                  </a:lnTo>
                  <a:lnTo>
                    <a:pt x="331" y="278"/>
                  </a:lnTo>
                  <a:lnTo>
                    <a:pt x="393" y="158"/>
                  </a:lnTo>
                  <a:lnTo>
                    <a:pt x="300" y="141"/>
                  </a:lnTo>
                  <a:lnTo>
                    <a:pt x="243" y="132"/>
                  </a:lnTo>
                  <a:lnTo>
                    <a:pt x="92" y="149"/>
                  </a:lnTo>
                  <a:lnTo>
                    <a:pt x="88" y="243"/>
                  </a:lnTo>
                  <a:lnTo>
                    <a:pt x="39" y="186"/>
                  </a:lnTo>
                  <a:lnTo>
                    <a:pt x="0" y="265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105" y="92"/>
                  </a:lnTo>
                  <a:lnTo>
                    <a:pt x="105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32640" y="684360"/>
              <a:ext cx="427320" cy="589320"/>
            </a:xfrm>
            <a:custGeom>
              <a:avLst/>
              <a:gdLst/>
              <a:ahLst/>
              <a:rect l="0" t="0" r="r" b="b"/>
              <a:pathLst>
                <a:path w="1187" h="1637">
                  <a:moveTo>
                    <a:pt x="1002" y="0"/>
                  </a:moveTo>
                  <a:lnTo>
                    <a:pt x="1121" y="0"/>
                  </a:lnTo>
                  <a:lnTo>
                    <a:pt x="1187" y="83"/>
                  </a:lnTo>
                  <a:lnTo>
                    <a:pt x="1187" y="167"/>
                  </a:lnTo>
                  <a:lnTo>
                    <a:pt x="1090" y="427"/>
                  </a:lnTo>
                  <a:lnTo>
                    <a:pt x="993" y="546"/>
                  </a:lnTo>
                  <a:lnTo>
                    <a:pt x="891" y="564"/>
                  </a:lnTo>
                  <a:lnTo>
                    <a:pt x="865" y="564"/>
                  </a:lnTo>
                  <a:lnTo>
                    <a:pt x="865" y="887"/>
                  </a:lnTo>
                  <a:lnTo>
                    <a:pt x="913" y="1121"/>
                  </a:lnTo>
                  <a:lnTo>
                    <a:pt x="913" y="1315"/>
                  </a:lnTo>
                  <a:lnTo>
                    <a:pt x="733" y="1504"/>
                  </a:lnTo>
                  <a:lnTo>
                    <a:pt x="485" y="1637"/>
                  </a:lnTo>
                  <a:lnTo>
                    <a:pt x="326" y="1637"/>
                  </a:lnTo>
                  <a:lnTo>
                    <a:pt x="246" y="1597"/>
                  </a:lnTo>
                  <a:lnTo>
                    <a:pt x="141" y="1372"/>
                  </a:lnTo>
                  <a:lnTo>
                    <a:pt x="39" y="1293"/>
                  </a:lnTo>
                  <a:lnTo>
                    <a:pt x="0" y="1231"/>
                  </a:lnTo>
                  <a:lnTo>
                    <a:pt x="136" y="1315"/>
                  </a:lnTo>
                  <a:lnTo>
                    <a:pt x="229" y="1394"/>
                  </a:lnTo>
                  <a:lnTo>
                    <a:pt x="418" y="1407"/>
                  </a:lnTo>
                  <a:lnTo>
                    <a:pt x="590" y="1323"/>
                  </a:lnTo>
                  <a:lnTo>
                    <a:pt x="680" y="1231"/>
                  </a:lnTo>
                  <a:lnTo>
                    <a:pt x="777" y="1068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5"/>
                  </a:lnTo>
                  <a:lnTo>
                    <a:pt x="988" y="220"/>
                  </a:lnTo>
                  <a:lnTo>
                    <a:pt x="1107" y="167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69160" y="1192320"/>
              <a:ext cx="346320" cy="545040"/>
            </a:xfrm>
            <a:custGeom>
              <a:avLst/>
              <a:gdLst/>
              <a:ahLst/>
              <a:rect l="0" t="0" r="r" b="b"/>
              <a:pathLst>
                <a:path w="962" h="1514">
                  <a:moveTo>
                    <a:pt x="119" y="0"/>
                  </a:moveTo>
                  <a:lnTo>
                    <a:pt x="233" y="66"/>
                  </a:lnTo>
                  <a:lnTo>
                    <a:pt x="313" y="374"/>
                  </a:lnTo>
                  <a:lnTo>
                    <a:pt x="561" y="446"/>
                  </a:lnTo>
                  <a:lnTo>
                    <a:pt x="636" y="530"/>
                  </a:lnTo>
                  <a:lnTo>
                    <a:pt x="644" y="644"/>
                  </a:lnTo>
                  <a:lnTo>
                    <a:pt x="763" y="622"/>
                  </a:lnTo>
                  <a:lnTo>
                    <a:pt x="913" y="719"/>
                  </a:lnTo>
                  <a:lnTo>
                    <a:pt x="962" y="847"/>
                  </a:lnTo>
                  <a:lnTo>
                    <a:pt x="962" y="1059"/>
                  </a:lnTo>
                  <a:lnTo>
                    <a:pt x="763" y="1382"/>
                  </a:lnTo>
                  <a:lnTo>
                    <a:pt x="702" y="1514"/>
                  </a:lnTo>
                  <a:lnTo>
                    <a:pt x="733" y="1338"/>
                  </a:lnTo>
                  <a:lnTo>
                    <a:pt x="702" y="1272"/>
                  </a:lnTo>
                  <a:lnTo>
                    <a:pt x="583" y="1166"/>
                  </a:lnTo>
                  <a:lnTo>
                    <a:pt x="392" y="1028"/>
                  </a:lnTo>
                  <a:lnTo>
                    <a:pt x="618" y="1103"/>
                  </a:lnTo>
                  <a:lnTo>
                    <a:pt x="755" y="1201"/>
                  </a:lnTo>
                  <a:lnTo>
                    <a:pt x="821" y="1192"/>
                  </a:lnTo>
                  <a:lnTo>
                    <a:pt x="860" y="1134"/>
                  </a:lnTo>
                  <a:lnTo>
                    <a:pt x="913" y="984"/>
                  </a:lnTo>
                  <a:lnTo>
                    <a:pt x="900" y="834"/>
                  </a:lnTo>
                  <a:lnTo>
                    <a:pt x="830" y="750"/>
                  </a:lnTo>
                  <a:lnTo>
                    <a:pt x="710" y="719"/>
                  </a:lnTo>
                  <a:lnTo>
                    <a:pt x="583" y="719"/>
                  </a:lnTo>
                  <a:lnTo>
                    <a:pt x="538" y="499"/>
                  </a:lnTo>
                  <a:lnTo>
                    <a:pt x="326" y="419"/>
                  </a:lnTo>
                  <a:lnTo>
                    <a:pt x="326" y="486"/>
                  </a:lnTo>
                  <a:lnTo>
                    <a:pt x="233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5"/>
                  </a:lnTo>
                  <a:lnTo>
                    <a:pt x="88" y="486"/>
                  </a:lnTo>
                  <a:lnTo>
                    <a:pt x="202" y="644"/>
                  </a:lnTo>
                  <a:lnTo>
                    <a:pt x="70" y="547"/>
                  </a:lnTo>
                  <a:lnTo>
                    <a:pt x="8" y="374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05720" y="1432080"/>
              <a:ext cx="227520" cy="437040"/>
            </a:xfrm>
            <a:custGeom>
              <a:avLst/>
              <a:gdLst/>
              <a:ahLst/>
              <a:rect l="0" t="0" r="r" b="b"/>
              <a:pathLst>
                <a:path w="632" h="1214">
                  <a:moveTo>
                    <a:pt x="632" y="0"/>
                  </a:moveTo>
                  <a:lnTo>
                    <a:pt x="504" y="83"/>
                  </a:lnTo>
                  <a:lnTo>
                    <a:pt x="344" y="375"/>
                  </a:lnTo>
                  <a:lnTo>
                    <a:pt x="195" y="569"/>
                  </a:lnTo>
                  <a:lnTo>
                    <a:pt x="17" y="799"/>
                  </a:lnTo>
                  <a:lnTo>
                    <a:pt x="0" y="919"/>
                  </a:lnTo>
                  <a:lnTo>
                    <a:pt x="35" y="1020"/>
                  </a:lnTo>
                  <a:lnTo>
                    <a:pt x="123" y="1020"/>
                  </a:lnTo>
                  <a:lnTo>
                    <a:pt x="243" y="919"/>
                  </a:lnTo>
                  <a:lnTo>
                    <a:pt x="336" y="697"/>
                  </a:lnTo>
                  <a:lnTo>
                    <a:pt x="464" y="569"/>
                  </a:lnTo>
                  <a:lnTo>
                    <a:pt x="464" y="741"/>
                  </a:lnTo>
                  <a:lnTo>
                    <a:pt x="446" y="900"/>
                  </a:lnTo>
                  <a:lnTo>
                    <a:pt x="309" y="1113"/>
                  </a:lnTo>
                  <a:lnTo>
                    <a:pt x="309" y="1188"/>
                  </a:lnTo>
                  <a:lnTo>
                    <a:pt x="446" y="1214"/>
                  </a:lnTo>
                  <a:lnTo>
                    <a:pt x="344" y="1152"/>
                  </a:lnTo>
                  <a:lnTo>
                    <a:pt x="362" y="1113"/>
                  </a:lnTo>
                  <a:lnTo>
                    <a:pt x="455" y="958"/>
                  </a:lnTo>
                  <a:lnTo>
                    <a:pt x="522" y="671"/>
                  </a:lnTo>
                  <a:lnTo>
                    <a:pt x="478" y="512"/>
                  </a:lnTo>
                  <a:lnTo>
                    <a:pt x="371" y="605"/>
                  </a:lnTo>
                  <a:lnTo>
                    <a:pt x="149" y="967"/>
                  </a:lnTo>
                  <a:lnTo>
                    <a:pt x="88" y="980"/>
                  </a:lnTo>
                  <a:lnTo>
                    <a:pt x="35" y="941"/>
                  </a:lnTo>
                  <a:lnTo>
                    <a:pt x="35" y="830"/>
                  </a:lnTo>
                  <a:lnTo>
                    <a:pt x="123" y="688"/>
                  </a:lnTo>
                  <a:lnTo>
                    <a:pt x="371" y="393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75640" y="1679400"/>
              <a:ext cx="140040" cy="208440"/>
            </a:xfrm>
            <a:custGeom>
              <a:avLst/>
              <a:gdLst/>
              <a:ahLst/>
              <a:rect l="0" t="0" r="r" b="b"/>
              <a:pathLst>
                <a:path w="389" h="579">
                  <a:moveTo>
                    <a:pt x="0" y="513"/>
                  </a:moveTo>
                  <a:lnTo>
                    <a:pt x="127" y="367"/>
                  </a:lnTo>
                  <a:lnTo>
                    <a:pt x="149" y="217"/>
                  </a:lnTo>
                  <a:lnTo>
                    <a:pt x="300" y="0"/>
                  </a:lnTo>
                  <a:lnTo>
                    <a:pt x="331" y="141"/>
                  </a:lnTo>
                  <a:lnTo>
                    <a:pt x="309" y="522"/>
                  </a:lnTo>
                  <a:lnTo>
                    <a:pt x="389" y="579"/>
                  </a:lnTo>
                  <a:lnTo>
                    <a:pt x="274" y="535"/>
                  </a:lnTo>
                  <a:lnTo>
                    <a:pt x="217" y="322"/>
                  </a:lnTo>
                  <a:lnTo>
                    <a:pt x="127" y="424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47000" y="168912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8" y="198"/>
                  </a:lnTo>
                  <a:lnTo>
                    <a:pt x="66" y="83"/>
                  </a:lnTo>
                  <a:lnTo>
                    <a:pt x="123" y="499"/>
                  </a:lnTo>
                  <a:lnTo>
                    <a:pt x="208" y="499"/>
                  </a:lnTo>
                  <a:lnTo>
                    <a:pt x="239" y="61"/>
                  </a:lnTo>
                  <a:lnTo>
                    <a:pt x="261" y="0"/>
                  </a:lnTo>
                  <a:lnTo>
                    <a:pt x="239" y="340"/>
                  </a:lnTo>
                  <a:lnTo>
                    <a:pt x="208" y="521"/>
                  </a:lnTo>
                  <a:lnTo>
                    <a:pt x="105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34280" y="952560"/>
              <a:ext cx="224280" cy="498960"/>
            </a:xfrm>
            <a:custGeom>
              <a:avLst/>
              <a:gdLst/>
              <a:ahLst/>
              <a:rect l="0" t="0" r="r" b="b"/>
              <a:pathLst>
                <a:path w="623" h="1386">
                  <a:moveTo>
                    <a:pt x="168" y="750"/>
                  </a:moveTo>
                  <a:lnTo>
                    <a:pt x="212" y="534"/>
                  </a:lnTo>
                  <a:lnTo>
                    <a:pt x="419" y="481"/>
                  </a:lnTo>
                  <a:lnTo>
                    <a:pt x="623" y="0"/>
                  </a:lnTo>
                  <a:lnTo>
                    <a:pt x="623" y="141"/>
                  </a:lnTo>
                  <a:lnTo>
                    <a:pt x="450" y="508"/>
                  </a:lnTo>
                  <a:lnTo>
                    <a:pt x="230" y="574"/>
                  </a:lnTo>
                  <a:lnTo>
                    <a:pt x="199" y="750"/>
                  </a:lnTo>
                  <a:lnTo>
                    <a:pt x="274" y="750"/>
                  </a:lnTo>
                  <a:lnTo>
                    <a:pt x="83" y="830"/>
                  </a:lnTo>
                  <a:lnTo>
                    <a:pt x="35" y="975"/>
                  </a:lnTo>
                  <a:lnTo>
                    <a:pt x="48" y="1166"/>
                  </a:lnTo>
                  <a:lnTo>
                    <a:pt x="256" y="1386"/>
                  </a:lnTo>
                  <a:lnTo>
                    <a:pt x="35" y="1197"/>
                  </a:lnTo>
                  <a:lnTo>
                    <a:pt x="0" y="1028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8" y="7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5120" y="95256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91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0"/>
                  </a:lnTo>
                  <a:lnTo>
                    <a:pt x="251" y="458"/>
                  </a:lnTo>
                  <a:lnTo>
                    <a:pt x="277" y="599"/>
                  </a:lnTo>
                  <a:lnTo>
                    <a:pt x="627" y="759"/>
                  </a:lnTo>
                  <a:lnTo>
                    <a:pt x="1041" y="1187"/>
                  </a:lnTo>
                  <a:lnTo>
                    <a:pt x="1046" y="1301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66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2" y="1323"/>
                  </a:lnTo>
                  <a:lnTo>
                    <a:pt x="1010" y="1257"/>
                  </a:lnTo>
                  <a:lnTo>
                    <a:pt x="988" y="1151"/>
                  </a:lnTo>
                  <a:lnTo>
                    <a:pt x="605" y="847"/>
                  </a:lnTo>
                  <a:lnTo>
                    <a:pt x="547" y="759"/>
                  </a:lnTo>
                  <a:lnTo>
                    <a:pt x="251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32"/>
                  </a:lnTo>
                  <a:lnTo>
                    <a:pt x="335" y="260"/>
                  </a:lnTo>
                  <a:lnTo>
                    <a:pt x="335" y="5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15280" y="133344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66" y="0"/>
                  </a:moveTo>
                  <a:lnTo>
                    <a:pt x="649" y="66"/>
                  </a:lnTo>
                  <a:lnTo>
                    <a:pt x="778" y="335"/>
                  </a:lnTo>
                  <a:lnTo>
                    <a:pt x="844" y="600"/>
                  </a:lnTo>
                  <a:lnTo>
                    <a:pt x="769" y="600"/>
                  </a:lnTo>
                  <a:lnTo>
                    <a:pt x="631" y="486"/>
                  </a:lnTo>
                  <a:lnTo>
                    <a:pt x="512" y="233"/>
                  </a:lnTo>
                  <a:lnTo>
                    <a:pt x="419" y="198"/>
                  </a:lnTo>
                  <a:lnTo>
                    <a:pt x="437" y="335"/>
                  </a:lnTo>
                  <a:lnTo>
                    <a:pt x="516" y="433"/>
                  </a:lnTo>
                  <a:lnTo>
                    <a:pt x="516" y="622"/>
                  </a:lnTo>
                  <a:lnTo>
                    <a:pt x="455" y="759"/>
                  </a:lnTo>
                  <a:lnTo>
                    <a:pt x="380" y="706"/>
                  </a:lnTo>
                  <a:lnTo>
                    <a:pt x="274" y="486"/>
                  </a:lnTo>
                  <a:lnTo>
                    <a:pt x="247" y="335"/>
                  </a:lnTo>
                  <a:lnTo>
                    <a:pt x="189" y="291"/>
                  </a:lnTo>
                  <a:lnTo>
                    <a:pt x="176" y="680"/>
                  </a:lnTo>
                  <a:lnTo>
                    <a:pt x="92" y="733"/>
                  </a:lnTo>
                  <a:lnTo>
                    <a:pt x="26" y="680"/>
                  </a:lnTo>
                  <a:lnTo>
                    <a:pt x="8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08"/>
                  </a:lnTo>
                  <a:lnTo>
                    <a:pt x="362" y="772"/>
                  </a:lnTo>
                  <a:lnTo>
                    <a:pt x="472" y="799"/>
                  </a:lnTo>
                  <a:lnTo>
                    <a:pt x="556" y="693"/>
                  </a:lnTo>
                  <a:lnTo>
                    <a:pt x="556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08"/>
                  </a:lnTo>
                  <a:lnTo>
                    <a:pt x="808" y="255"/>
                  </a:lnTo>
                  <a:lnTo>
                    <a:pt x="666" y="52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20000" y="103500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4" y="277"/>
                  </a:moveTo>
                  <a:lnTo>
                    <a:pt x="1353" y="291"/>
                  </a:lnTo>
                  <a:lnTo>
                    <a:pt x="1243" y="445"/>
                  </a:lnTo>
                  <a:lnTo>
                    <a:pt x="1203" y="330"/>
                  </a:lnTo>
                  <a:lnTo>
                    <a:pt x="1075" y="260"/>
                  </a:lnTo>
                  <a:lnTo>
                    <a:pt x="978" y="317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12" y="896"/>
                  </a:lnTo>
                  <a:lnTo>
                    <a:pt x="524" y="993"/>
                  </a:lnTo>
                  <a:lnTo>
                    <a:pt x="524" y="1081"/>
                  </a:lnTo>
                  <a:lnTo>
                    <a:pt x="626" y="1328"/>
                  </a:lnTo>
                  <a:lnTo>
                    <a:pt x="630" y="1628"/>
                  </a:lnTo>
                  <a:lnTo>
                    <a:pt x="564" y="1910"/>
                  </a:lnTo>
                  <a:lnTo>
                    <a:pt x="308" y="2077"/>
                  </a:lnTo>
                  <a:lnTo>
                    <a:pt x="277" y="2316"/>
                  </a:lnTo>
                  <a:lnTo>
                    <a:pt x="198" y="2316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5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3" y="2912"/>
                  </a:lnTo>
                  <a:lnTo>
                    <a:pt x="837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12"/>
                  </a:lnTo>
                  <a:lnTo>
                    <a:pt x="3158" y="2603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22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91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25" y="1350"/>
                  </a:lnTo>
                  <a:lnTo>
                    <a:pt x="3211" y="1226"/>
                  </a:lnTo>
                  <a:lnTo>
                    <a:pt x="3198" y="1081"/>
                  </a:lnTo>
                  <a:lnTo>
                    <a:pt x="3211" y="935"/>
                  </a:lnTo>
                  <a:lnTo>
                    <a:pt x="3290" y="811"/>
                  </a:lnTo>
                  <a:lnTo>
                    <a:pt x="3387" y="709"/>
                  </a:lnTo>
                  <a:lnTo>
                    <a:pt x="3378" y="524"/>
                  </a:lnTo>
                  <a:lnTo>
                    <a:pt x="3378" y="388"/>
                  </a:lnTo>
                  <a:lnTo>
                    <a:pt x="3325" y="291"/>
                  </a:lnTo>
                  <a:lnTo>
                    <a:pt x="3198" y="246"/>
                  </a:lnTo>
                  <a:lnTo>
                    <a:pt x="3149" y="216"/>
                  </a:lnTo>
                  <a:lnTo>
                    <a:pt x="3052" y="61"/>
                  </a:lnTo>
                  <a:lnTo>
                    <a:pt x="2973" y="8"/>
                  </a:lnTo>
                  <a:lnTo>
                    <a:pt x="2893" y="0"/>
                  </a:lnTo>
                  <a:lnTo>
                    <a:pt x="2823" y="26"/>
                  </a:lnTo>
                  <a:lnTo>
                    <a:pt x="2765" y="114"/>
                  </a:lnTo>
                  <a:lnTo>
                    <a:pt x="2677" y="163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6"/>
                  </a:lnTo>
                  <a:lnTo>
                    <a:pt x="2470" y="674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100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5"/>
                  </a:lnTo>
                  <a:lnTo>
                    <a:pt x="2100" y="2515"/>
                  </a:lnTo>
                  <a:lnTo>
                    <a:pt x="2144" y="2603"/>
                  </a:lnTo>
                  <a:lnTo>
                    <a:pt x="2011" y="2691"/>
                  </a:lnTo>
                  <a:lnTo>
                    <a:pt x="1847" y="2740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0" y="2731"/>
                  </a:lnTo>
                  <a:lnTo>
                    <a:pt x="1490" y="2533"/>
                  </a:lnTo>
                  <a:lnTo>
                    <a:pt x="1490" y="2245"/>
                  </a:lnTo>
                  <a:lnTo>
                    <a:pt x="1450" y="1958"/>
                  </a:lnTo>
                  <a:lnTo>
                    <a:pt x="1380" y="1707"/>
                  </a:lnTo>
                  <a:lnTo>
                    <a:pt x="1344" y="1500"/>
                  </a:lnTo>
                  <a:lnTo>
                    <a:pt x="1331" y="1213"/>
                  </a:lnTo>
                  <a:lnTo>
                    <a:pt x="1380" y="966"/>
                  </a:lnTo>
                  <a:lnTo>
                    <a:pt x="1450" y="758"/>
                  </a:lnTo>
                  <a:lnTo>
                    <a:pt x="1455" y="639"/>
                  </a:lnTo>
                  <a:lnTo>
                    <a:pt x="1424" y="467"/>
                  </a:lnTo>
                  <a:lnTo>
                    <a:pt x="1424" y="330"/>
                  </a:lnTo>
                  <a:lnTo>
                    <a:pt x="1450" y="291"/>
                  </a:lnTo>
                  <a:lnTo>
                    <a:pt x="1424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75480" y="1270080"/>
              <a:ext cx="179640" cy="763920"/>
            </a:xfrm>
            <a:custGeom>
              <a:avLst/>
              <a:gdLst/>
              <a:ahLst/>
              <a:rect l="0" t="0" r="r" b="b"/>
              <a:pathLst>
                <a:path w="499" h="2122">
                  <a:moveTo>
                    <a:pt x="198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6" y="357"/>
                  </a:lnTo>
                  <a:lnTo>
                    <a:pt x="57" y="577"/>
                  </a:lnTo>
                  <a:lnTo>
                    <a:pt x="0" y="824"/>
                  </a:lnTo>
                  <a:lnTo>
                    <a:pt x="0" y="1058"/>
                  </a:lnTo>
                  <a:lnTo>
                    <a:pt x="57" y="1275"/>
                  </a:lnTo>
                  <a:lnTo>
                    <a:pt x="105" y="1531"/>
                  </a:lnTo>
                  <a:lnTo>
                    <a:pt x="105" y="1676"/>
                  </a:lnTo>
                  <a:lnTo>
                    <a:pt x="57" y="1866"/>
                  </a:lnTo>
                  <a:lnTo>
                    <a:pt x="261" y="2122"/>
                  </a:lnTo>
                  <a:lnTo>
                    <a:pt x="344" y="2077"/>
                  </a:lnTo>
                  <a:lnTo>
                    <a:pt x="397" y="1901"/>
                  </a:lnTo>
                  <a:lnTo>
                    <a:pt x="494" y="1667"/>
                  </a:lnTo>
                  <a:lnTo>
                    <a:pt x="499" y="1539"/>
                  </a:lnTo>
                  <a:lnTo>
                    <a:pt x="419" y="1310"/>
                  </a:lnTo>
                  <a:lnTo>
                    <a:pt x="327" y="1081"/>
                  </a:lnTo>
                  <a:lnTo>
                    <a:pt x="292" y="921"/>
                  </a:lnTo>
                  <a:lnTo>
                    <a:pt x="292" y="771"/>
                  </a:lnTo>
                  <a:lnTo>
                    <a:pt x="327" y="635"/>
                  </a:lnTo>
                  <a:lnTo>
                    <a:pt x="397" y="463"/>
                  </a:lnTo>
                  <a:lnTo>
                    <a:pt x="397" y="392"/>
                  </a:lnTo>
                  <a:lnTo>
                    <a:pt x="362" y="326"/>
                  </a:lnTo>
                  <a:lnTo>
                    <a:pt x="455" y="242"/>
                  </a:lnTo>
                  <a:lnTo>
                    <a:pt x="455" y="163"/>
                  </a:lnTo>
                  <a:lnTo>
                    <a:pt x="327" y="0"/>
                  </a:lnTo>
                  <a:lnTo>
                    <a:pt x="433" y="163"/>
                  </a:lnTo>
                  <a:lnTo>
                    <a:pt x="433" y="229"/>
                  </a:lnTo>
                  <a:lnTo>
                    <a:pt x="336" y="295"/>
                  </a:lnTo>
                  <a:lnTo>
                    <a:pt x="375" y="392"/>
                  </a:lnTo>
                  <a:lnTo>
                    <a:pt x="362" y="463"/>
                  </a:lnTo>
                  <a:lnTo>
                    <a:pt x="269" y="661"/>
                  </a:lnTo>
                  <a:lnTo>
                    <a:pt x="261" y="851"/>
                  </a:lnTo>
                  <a:lnTo>
                    <a:pt x="278" y="1027"/>
                  </a:lnTo>
                  <a:lnTo>
                    <a:pt x="344" y="1284"/>
                  </a:lnTo>
                  <a:lnTo>
                    <a:pt x="419" y="1487"/>
                  </a:lnTo>
                  <a:lnTo>
                    <a:pt x="419" y="1654"/>
                  </a:lnTo>
                  <a:lnTo>
                    <a:pt x="375" y="1866"/>
                  </a:lnTo>
                  <a:lnTo>
                    <a:pt x="278" y="2077"/>
                  </a:lnTo>
                  <a:lnTo>
                    <a:pt x="167" y="1963"/>
                  </a:lnTo>
                  <a:lnTo>
                    <a:pt x="119" y="1866"/>
                  </a:lnTo>
                  <a:lnTo>
                    <a:pt x="127" y="1654"/>
                  </a:lnTo>
                  <a:lnTo>
                    <a:pt x="119" y="1447"/>
                  </a:lnTo>
                  <a:lnTo>
                    <a:pt x="57" y="1165"/>
                  </a:lnTo>
                  <a:lnTo>
                    <a:pt x="35" y="974"/>
                  </a:lnTo>
                  <a:lnTo>
                    <a:pt x="57" y="754"/>
                  </a:lnTo>
                  <a:lnTo>
                    <a:pt x="105" y="546"/>
                  </a:lnTo>
                  <a:lnTo>
                    <a:pt x="211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89920" y="379440"/>
              <a:ext cx="284400" cy="373320"/>
            </a:xfrm>
            <a:custGeom>
              <a:avLst/>
              <a:gdLst/>
              <a:ahLst/>
              <a:rect l="0" t="0" r="r" b="b"/>
              <a:pathLst>
                <a:path w="790" h="1037">
                  <a:moveTo>
                    <a:pt x="136" y="264"/>
                  </a:moveTo>
                  <a:lnTo>
                    <a:pt x="242" y="242"/>
                  </a:lnTo>
                  <a:lnTo>
                    <a:pt x="357" y="251"/>
                  </a:lnTo>
                  <a:lnTo>
                    <a:pt x="450" y="295"/>
                  </a:lnTo>
                  <a:lnTo>
                    <a:pt x="503" y="348"/>
                  </a:lnTo>
                  <a:lnTo>
                    <a:pt x="530" y="405"/>
                  </a:lnTo>
                  <a:lnTo>
                    <a:pt x="530" y="454"/>
                  </a:lnTo>
                  <a:lnTo>
                    <a:pt x="499" y="493"/>
                  </a:lnTo>
                  <a:lnTo>
                    <a:pt x="450" y="515"/>
                  </a:lnTo>
                  <a:lnTo>
                    <a:pt x="388" y="521"/>
                  </a:lnTo>
                  <a:lnTo>
                    <a:pt x="321" y="502"/>
                  </a:lnTo>
                  <a:lnTo>
                    <a:pt x="246" y="458"/>
                  </a:lnTo>
                  <a:lnTo>
                    <a:pt x="198" y="423"/>
                  </a:lnTo>
                  <a:lnTo>
                    <a:pt x="176" y="552"/>
                  </a:lnTo>
                  <a:lnTo>
                    <a:pt x="136" y="649"/>
                  </a:lnTo>
                  <a:lnTo>
                    <a:pt x="0" y="865"/>
                  </a:lnTo>
                  <a:lnTo>
                    <a:pt x="194" y="1037"/>
                  </a:lnTo>
                  <a:lnTo>
                    <a:pt x="335" y="755"/>
                  </a:lnTo>
                  <a:lnTo>
                    <a:pt x="499" y="777"/>
                  </a:lnTo>
                  <a:lnTo>
                    <a:pt x="600" y="763"/>
                  </a:lnTo>
                  <a:lnTo>
                    <a:pt x="702" y="697"/>
                  </a:lnTo>
                  <a:lnTo>
                    <a:pt x="759" y="613"/>
                  </a:lnTo>
                  <a:lnTo>
                    <a:pt x="790" y="511"/>
                  </a:lnTo>
                  <a:lnTo>
                    <a:pt x="790" y="392"/>
                  </a:lnTo>
                  <a:lnTo>
                    <a:pt x="759" y="277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2" y="26"/>
                  </a:lnTo>
                  <a:lnTo>
                    <a:pt x="406" y="0"/>
                  </a:lnTo>
                  <a:lnTo>
                    <a:pt x="260" y="0"/>
                  </a:lnTo>
                  <a:lnTo>
                    <a:pt x="105" y="26"/>
                  </a:lnTo>
                  <a:lnTo>
                    <a:pt x="136" y="26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37360" y="739800"/>
              <a:ext cx="103680" cy="73440"/>
            </a:xfrm>
            <a:custGeom>
              <a:avLst/>
              <a:gdLst/>
              <a:ahLst/>
              <a:rect l="0" t="0" r="r" b="b"/>
              <a:pathLst>
                <a:path w="288" h="204">
                  <a:moveTo>
                    <a:pt x="115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102"/>
                  </a:lnTo>
                  <a:lnTo>
                    <a:pt x="57" y="178"/>
                  </a:lnTo>
                  <a:lnTo>
                    <a:pt x="172" y="204"/>
                  </a:lnTo>
                  <a:lnTo>
                    <a:pt x="262" y="200"/>
                  </a:lnTo>
                  <a:lnTo>
                    <a:pt x="288" y="156"/>
                  </a:lnTo>
                  <a:lnTo>
                    <a:pt x="270" y="111"/>
                  </a:lnTo>
                  <a:lnTo>
                    <a:pt x="235" y="48"/>
                  </a:lnTo>
                  <a:lnTo>
                    <a:pt x="164" y="8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8001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52480" y="2362320"/>
            <a:ext cx="6781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dentify business goals and activities, and describe the role of accounting in making informed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838080" y="7621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Position and th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Eq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752480" y="2514600"/>
            <a:ext cx="6629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position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accounting equation, and show how they are affected by simple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1608120" y="380880"/>
            <a:ext cx="654516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38080" y="137160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= Equ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reditors’ Equities + 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 = Liabilities + 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914400" y="167652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 are economic resources owned by a business that are expected to benefit future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netary i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nmonetary physical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523880" y="533520"/>
            <a:ext cx="6575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1600" y="68580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447920" y="190512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the present obligations of a business to pay cash, transfer assets, or provide services to other entities in the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1440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 represents the claims by the owners of a business to the assets of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 is the residual equity that remains after deducting liabilities from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 = Assets -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 = Liabilities + 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66680" y="30492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wner’s Equ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1654200" y="228600"/>
            <a:ext cx="66517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Four Types of Transactions That Affect Owner’s Equ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762120" y="1295280"/>
            <a:ext cx="8153280" cy="5029200"/>
            <a:chOff x="762120" y="1295280"/>
            <a:chExt cx="8153280" cy="5029200"/>
          </a:xfrm>
        </p:grpSpPr>
        <p:sp>
          <p:nvSpPr>
            <p:cNvPr id="496" name=""/>
            <p:cNvSpPr/>
            <p:nvPr/>
          </p:nvSpPr>
          <p:spPr>
            <a:xfrm>
              <a:off x="762120" y="1295280"/>
              <a:ext cx="815328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1295280" y="2514600"/>
              <a:ext cx="1333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REA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7010280" y="2590920"/>
              <a:ext cx="1422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REA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27440" y="3657600"/>
              <a:ext cx="97776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57600" y="3581280"/>
              <a:ext cx="219600" cy="144720"/>
            </a:xfrm>
            <a:custGeom>
              <a:avLst/>
              <a:gdLst/>
              <a:ahLst/>
              <a:rect l="0" t="0" r="r" b="b"/>
              <a:pathLst>
                <a:path w="610" h="402">
                  <a:moveTo>
                    <a:pt x="66" y="198"/>
                  </a:moveTo>
                  <a:lnTo>
                    <a:pt x="57" y="225"/>
                  </a:lnTo>
                  <a:lnTo>
                    <a:pt x="57" y="252"/>
                  </a:lnTo>
                  <a:lnTo>
                    <a:pt x="57" y="278"/>
                  </a:lnTo>
                  <a:lnTo>
                    <a:pt x="48" y="305"/>
                  </a:lnTo>
                  <a:lnTo>
                    <a:pt x="48" y="327"/>
                  </a:lnTo>
                  <a:lnTo>
                    <a:pt x="39" y="340"/>
                  </a:lnTo>
                  <a:lnTo>
                    <a:pt x="30" y="349"/>
                  </a:lnTo>
                  <a:lnTo>
                    <a:pt x="30" y="367"/>
                  </a:lnTo>
                  <a:lnTo>
                    <a:pt x="22" y="380"/>
                  </a:lnTo>
                  <a:lnTo>
                    <a:pt x="17" y="389"/>
                  </a:lnTo>
                  <a:lnTo>
                    <a:pt x="8" y="393"/>
                  </a:lnTo>
                  <a:lnTo>
                    <a:pt x="0" y="393"/>
                  </a:lnTo>
                  <a:lnTo>
                    <a:pt x="0" y="402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22" y="13"/>
                  </a:lnTo>
                  <a:lnTo>
                    <a:pt x="30" y="22"/>
                  </a:lnTo>
                  <a:lnTo>
                    <a:pt x="30" y="35"/>
                  </a:lnTo>
                  <a:lnTo>
                    <a:pt x="39" y="52"/>
                  </a:lnTo>
                  <a:lnTo>
                    <a:pt x="48" y="70"/>
                  </a:lnTo>
                  <a:lnTo>
                    <a:pt x="48" y="83"/>
                  </a:lnTo>
                  <a:lnTo>
                    <a:pt x="57" y="114"/>
                  </a:lnTo>
                  <a:lnTo>
                    <a:pt x="57" y="136"/>
                  </a:lnTo>
                  <a:lnTo>
                    <a:pt x="57" y="163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27640" y="3533760"/>
              <a:ext cx="505080" cy="706680"/>
            </a:xfrm>
            <a:custGeom>
              <a:avLst/>
              <a:gdLst/>
              <a:ahLst/>
              <a:rect l="0" t="0" r="r" b="b"/>
              <a:pathLst>
                <a:path fill="none" w="1403" h="1963">
                  <a:moveTo>
                    <a:pt x="0" y="1963"/>
                  </a:moveTo>
                  <a:lnTo>
                    <a:pt x="0" y="0"/>
                  </a:lnTo>
                  <a:lnTo>
                    <a:pt x="1403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94560" y="3454560"/>
              <a:ext cx="219600" cy="144720"/>
            </a:xfrm>
            <a:custGeom>
              <a:avLst/>
              <a:gdLst/>
              <a:ahLst/>
              <a:rect l="0" t="0" r="r" b="b"/>
              <a:pathLst>
                <a:path w="610" h="402">
                  <a:moveTo>
                    <a:pt x="66" y="198"/>
                  </a:moveTo>
                  <a:lnTo>
                    <a:pt x="66" y="225"/>
                  </a:lnTo>
                  <a:lnTo>
                    <a:pt x="66" y="265"/>
                  </a:lnTo>
                  <a:lnTo>
                    <a:pt x="57" y="287"/>
                  </a:lnTo>
                  <a:lnTo>
                    <a:pt x="57" y="305"/>
                  </a:lnTo>
                  <a:lnTo>
                    <a:pt x="48" y="327"/>
                  </a:lnTo>
                  <a:lnTo>
                    <a:pt x="39" y="340"/>
                  </a:lnTo>
                  <a:lnTo>
                    <a:pt x="39" y="358"/>
                  </a:lnTo>
                  <a:lnTo>
                    <a:pt x="35" y="362"/>
                  </a:lnTo>
                  <a:lnTo>
                    <a:pt x="26" y="371"/>
                  </a:lnTo>
                  <a:lnTo>
                    <a:pt x="17" y="384"/>
                  </a:lnTo>
                  <a:lnTo>
                    <a:pt x="8" y="393"/>
                  </a:lnTo>
                  <a:lnTo>
                    <a:pt x="8" y="402"/>
                  </a:lnTo>
                  <a:lnTo>
                    <a:pt x="0" y="402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26" y="13"/>
                  </a:lnTo>
                  <a:lnTo>
                    <a:pt x="35" y="22"/>
                  </a:lnTo>
                  <a:lnTo>
                    <a:pt x="39" y="44"/>
                  </a:lnTo>
                  <a:lnTo>
                    <a:pt x="39" y="52"/>
                  </a:lnTo>
                  <a:lnTo>
                    <a:pt x="48" y="70"/>
                  </a:lnTo>
                  <a:lnTo>
                    <a:pt x="57" y="83"/>
                  </a:lnTo>
                  <a:lnTo>
                    <a:pt x="57" y="110"/>
                  </a:lnTo>
                  <a:lnTo>
                    <a:pt x="66" y="136"/>
                  </a:lnTo>
                  <a:lnTo>
                    <a:pt x="66" y="163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27640" y="4240080"/>
              <a:ext cx="505080" cy="584640"/>
            </a:xfrm>
            <a:custGeom>
              <a:avLst/>
              <a:gdLst/>
              <a:ahLst/>
              <a:rect l="0" t="0" r="r" b="b"/>
              <a:pathLst>
                <a:path fill="none" w="1403" h="1624">
                  <a:moveTo>
                    <a:pt x="0" y="0"/>
                  </a:moveTo>
                  <a:lnTo>
                    <a:pt x="0" y="1624"/>
                  </a:lnTo>
                  <a:lnTo>
                    <a:pt x="1403" y="1624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94560" y="4746600"/>
              <a:ext cx="219600" cy="147960"/>
            </a:xfrm>
            <a:custGeom>
              <a:avLst/>
              <a:gdLst/>
              <a:ahLst/>
              <a:rect l="0" t="0" r="r" b="b"/>
              <a:pathLst>
                <a:path w="610" h="411">
                  <a:moveTo>
                    <a:pt x="66" y="198"/>
                  </a:moveTo>
                  <a:lnTo>
                    <a:pt x="66" y="234"/>
                  </a:lnTo>
                  <a:lnTo>
                    <a:pt x="66" y="261"/>
                  </a:lnTo>
                  <a:lnTo>
                    <a:pt x="57" y="287"/>
                  </a:lnTo>
                  <a:lnTo>
                    <a:pt x="57" y="314"/>
                  </a:lnTo>
                  <a:lnTo>
                    <a:pt x="48" y="331"/>
                  </a:lnTo>
                  <a:lnTo>
                    <a:pt x="39" y="349"/>
                  </a:lnTo>
                  <a:lnTo>
                    <a:pt x="39" y="358"/>
                  </a:lnTo>
                  <a:lnTo>
                    <a:pt x="35" y="371"/>
                  </a:lnTo>
                  <a:lnTo>
                    <a:pt x="26" y="380"/>
                  </a:lnTo>
                  <a:lnTo>
                    <a:pt x="17" y="380"/>
                  </a:lnTo>
                  <a:lnTo>
                    <a:pt x="17" y="393"/>
                  </a:lnTo>
                  <a:lnTo>
                    <a:pt x="8" y="402"/>
                  </a:lnTo>
                  <a:lnTo>
                    <a:pt x="0" y="402"/>
                  </a:lnTo>
                  <a:lnTo>
                    <a:pt x="0" y="411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26" y="26"/>
                  </a:lnTo>
                  <a:lnTo>
                    <a:pt x="35" y="39"/>
                  </a:lnTo>
                  <a:lnTo>
                    <a:pt x="39" y="44"/>
                  </a:lnTo>
                  <a:lnTo>
                    <a:pt x="39" y="61"/>
                  </a:lnTo>
                  <a:lnTo>
                    <a:pt x="48" y="70"/>
                  </a:lnTo>
                  <a:lnTo>
                    <a:pt x="57" y="97"/>
                  </a:lnTo>
                  <a:lnTo>
                    <a:pt x="57" y="114"/>
                  </a:lnTo>
                  <a:lnTo>
                    <a:pt x="66" y="136"/>
                  </a:lnTo>
                  <a:lnTo>
                    <a:pt x="66" y="176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72080" y="4192560"/>
              <a:ext cx="66528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66680" y="3192480"/>
              <a:ext cx="1582560" cy="9270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55600" y="3117960"/>
              <a:ext cx="1584360" cy="925560"/>
            </a:xfrm>
            <a:prstGeom prst="rect">
              <a:avLst/>
            </a:prstGeom>
            <a:solidFill>
              <a:srgbClr val="ffdf7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1295280" y="3352680"/>
              <a:ext cx="124308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wn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3903840" y="3117960"/>
              <a:ext cx="1665000" cy="1987560"/>
              <a:chOff x="3903840" y="3117960"/>
              <a:chExt cx="1665000" cy="1987560"/>
            </a:xfrm>
          </p:grpSpPr>
          <p:sp>
            <p:nvSpPr>
              <p:cNvPr id="510" name=""/>
              <p:cNvSpPr/>
              <p:nvPr/>
            </p:nvSpPr>
            <p:spPr>
              <a:xfrm>
                <a:off x="3903840" y="3224160"/>
                <a:ext cx="1596960" cy="18813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971880" y="3117960"/>
                <a:ext cx="1596960" cy="1865160"/>
              </a:xfrm>
              <a:prstGeom prst="rect">
                <a:avLst/>
              </a:prstGeom>
              <a:solidFill>
                <a:srgbClr val="9ff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4302000" y="3684600"/>
                <a:ext cx="965160" cy="54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wner’s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quit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276800" y="4051440"/>
                <a:ext cx="1908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905520" y="3244680"/>
              <a:ext cx="1574640" cy="6667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72480" y="3191040"/>
              <a:ext cx="1576440" cy="663480"/>
            </a:xfrm>
            <a:prstGeom prst="rect">
              <a:avLst/>
            </a:prstGeom>
            <a:solidFill>
              <a:srgbClr val="9fbf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7162920" y="3276720"/>
              <a:ext cx="119700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wn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draw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05520" y="4510080"/>
              <a:ext cx="1552680" cy="6714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72480" y="4454640"/>
              <a:ext cx="1576440" cy="663480"/>
            </a:xfrm>
            <a:prstGeom prst="rect">
              <a:avLst/>
            </a:prstGeom>
            <a:solidFill>
              <a:srgbClr val="9fbf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7238880" y="4648320"/>
              <a:ext cx="94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1066680" y="4184640"/>
              <a:ext cx="1673280" cy="1001520"/>
              <a:chOff x="1066680" y="4184640"/>
              <a:chExt cx="1673280" cy="1001520"/>
            </a:xfrm>
          </p:grpSpPr>
          <p:sp>
            <p:nvSpPr>
              <p:cNvPr id="521" name=""/>
              <p:cNvSpPr/>
              <p:nvPr/>
            </p:nvSpPr>
            <p:spPr>
              <a:xfrm>
                <a:off x="1066680" y="4259160"/>
                <a:ext cx="1582560" cy="9270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155600" y="4184640"/>
                <a:ext cx="1584360" cy="9255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>
                <a:off x="1446120" y="4546440"/>
                <a:ext cx="9604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enue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2827440" y="4572000"/>
              <a:ext cx="97776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57600" y="4495680"/>
              <a:ext cx="219600" cy="144720"/>
            </a:xfrm>
            <a:custGeom>
              <a:avLst/>
              <a:gdLst/>
              <a:ahLst/>
              <a:rect l="0" t="0" r="r" b="b"/>
              <a:pathLst>
                <a:path w="610" h="402">
                  <a:moveTo>
                    <a:pt x="66" y="198"/>
                  </a:moveTo>
                  <a:lnTo>
                    <a:pt x="57" y="225"/>
                  </a:lnTo>
                  <a:lnTo>
                    <a:pt x="57" y="252"/>
                  </a:lnTo>
                  <a:lnTo>
                    <a:pt x="57" y="278"/>
                  </a:lnTo>
                  <a:lnTo>
                    <a:pt x="48" y="305"/>
                  </a:lnTo>
                  <a:lnTo>
                    <a:pt x="48" y="327"/>
                  </a:lnTo>
                  <a:lnTo>
                    <a:pt x="39" y="340"/>
                  </a:lnTo>
                  <a:lnTo>
                    <a:pt x="30" y="349"/>
                  </a:lnTo>
                  <a:lnTo>
                    <a:pt x="30" y="367"/>
                  </a:lnTo>
                  <a:lnTo>
                    <a:pt x="22" y="380"/>
                  </a:lnTo>
                  <a:lnTo>
                    <a:pt x="17" y="389"/>
                  </a:lnTo>
                  <a:lnTo>
                    <a:pt x="8" y="393"/>
                  </a:lnTo>
                  <a:lnTo>
                    <a:pt x="0" y="393"/>
                  </a:lnTo>
                  <a:lnTo>
                    <a:pt x="0" y="402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22" y="13"/>
                  </a:lnTo>
                  <a:lnTo>
                    <a:pt x="30" y="22"/>
                  </a:lnTo>
                  <a:lnTo>
                    <a:pt x="30" y="35"/>
                  </a:lnTo>
                  <a:lnTo>
                    <a:pt x="39" y="52"/>
                  </a:lnTo>
                  <a:lnTo>
                    <a:pt x="48" y="70"/>
                  </a:lnTo>
                  <a:lnTo>
                    <a:pt x="48" y="83"/>
                  </a:lnTo>
                  <a:lnTo>
                    <a:pt x="57" y="114"/>
                  </a:lnTo>
                  <a:lnTo>
                    <a:pt x="57" y="136"/>
                  </a:lnTo>
                  <a:lnTo>
                    <a:pt x="57" y="163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ome Illustrative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990720" y="457200"/>
            <a:ext cx="7728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1. Owner’s 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62120" y="1981080"/>
            <a:ext cx="7845480" cy="3633840"/>
            <a:chOff x="762120" y="1981080"/>
            <a:chExt cx="7845480" cy="3633840"/>
          </a:xfrm>
        </p:grpSpPr>
        <p:sp>
          <p:nvSpPr>
            <p:cNvPr id="529" name=""/>
            <p:cNvSpPr txBox="1"/>
            <p:nvPr/>
          </p:nvSpPr>
          <p:spPr>
            <a:xfrm>
              <a:off x="762120" y="1981080"/>
              <a:ext cx="78454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                   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Cash                  Capit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2413080" y="514188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0,000; L+OE = $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1066680" y="2957400"/>
              <a:ext cx="15937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1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4178160" y="2957400"/>
              <a:ext cx="13366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         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6769080" y="2957400"/>
              <a:ext cx="13366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         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03800" y="432756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03800" y="440388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94360" y="4327560"/>
              <a:ext cx="108612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94360" y="4403880"/>
              <a:ext cx="108612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685800" y="38088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2. Purchase of Asset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ith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2430360" y="502128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0,000; L+OE = $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2362320"/>
            <a:ext cx="597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977760" y="2378160"/>
            <a:ext cx="841068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Land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Bldg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50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         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2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-35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+10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+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5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0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63880" y="458784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92680" y="458784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92680" y="466416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21480" y="458784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521480" y="466416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63880" y="464832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609480" y="38088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3. Purchase of Assets by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urring a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914400" y="2438280"/>
            <a:ext cx="8585280" cy="3192480"/>
            <a:chOff x="914400" y="2438280"/>
            <a:chExt cx="8585280" cy="3192480"/>
          </a:xfrm>
        </p:grpSpPr>
        <p:sp>
          <p:nvSpPr>
            <p:cNvPr id="550" name=""/>
            <p:cNvSpPr txBox="1"/>
            <p:nvPr/>
          </p:nvSpPr>
          <p:spPr>
            <a:xfrm>
              <a:off x="2770200" y="5157720"/>
              <a:ext cx="456552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0,500; L+OE= $50,5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914400" y="2438280"/>
              <a:ext cx="85852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LIABILIT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Supplies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A/P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$    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$    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3.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5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      $5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$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80440" y="4648320"/>
              <a:ext cx="7491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41800" y="4648320"/>
              <a:ext cx="74952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5041800" y="4724280"/>
            <a:ext cx="7495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80440" y="4724280"/>
            <a:ext cx="749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66680" y="205740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day’s accountant focuses on the ultimate needs of decision makers who use accounting information, whether those decision makers are inside or outside the business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2860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1219320" y="380880"/>
            <a:ext cx="72500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4. Payment of a Liabilit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ith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533520" y="2362320"/>
            <a:ext cx="8410680" cy="3268440"/>
            <a:chOff x="533520" y="2362320"/>
            <a:chExt cx="8410680" cy="3268440"/>
          </a:xfrm>
        </p:grpSpPr>
        <p:sp>
          <p:nvSpPr>
            <p:cNvPr id="558" name=""/>
            <p:cNvSpPr txBox="1"/>
            <p:nvPr/>
          </p:nvSpPr>
          <p:spPr>
            <a:xfrm>
              <a:off x="2338560" y="515772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0,300; L+OE = $50,3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533520" y="2362320"/>
              <a:ext cx="84106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LIABILIT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Cash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A/P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4302000" y="3278160"/>
              <a:ext cx="13669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15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-      2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14,8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1068480" y="3278160"/>
              <a:ext cx="15937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4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>
              <a:off x="6580080" y="3278160"/>
              <a:ext cx="8920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-2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3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43880" y="464832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43880" y="472428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57880" y="464832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57880" y="472428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1143000" y="380880"/>
            <a:ext cx="73915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5. Revenues Earned Commission That Was Paid in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914400" y="2438280"/>
            <a:ext cx="7845480" cy="3633840"/>
            <a:chOff x="914400" y="2438280"/>
            <a:chExt cx="7845480" cy="3633840"/>
          </a:xfrm>
        </p:grpSpPr>
        <p:sp>
          <p:nvSpPr>
            <p:cNvPr id="569" name=""/>
            <p:cNvSpPr txBox="1"/>
            <p:nvPr/>
          </p:nvSpPr>
          <p:spPr>
            <a:xfrm>
              <a:off x="2260440" y="559908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1,800; L+OE = $51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914400" y="2438280"/>
              <a:ext cx="78454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                     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Cash                    Revenue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                        $14,800                   $       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5.            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 1,5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1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$16,300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$1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08640" y="464832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08640" y="472428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04120" y="464832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04120" y="47242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1143000" y="30492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6. Revenues Earned Commission with Deferred Recei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990720" y="2666880"/>
            <a:ext cx="7845480" cy="3054600"/>
            <a:chOff x="990720" y="2666880"/>
            <a:chExt cx="7845480" cy="3054600"/>
          </a:xfrm>
        </p:grpSpPr>
        <p:sp>
          <p:nvSpPr>
            <p:cNvPr id="577" name=""/>
            <p:cNvSpPr txBox="1"/>
            <p:nvPr/>
          </p:nvSpPr>
          <p:spPr>
            <a:xfrm>
              <a:off x="2336760" y="524844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3,800; L+OE = $53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990720" y="2666880"/>
              <a:ext cx="78454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                 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/R                  Revenu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                          $       0                 $1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6.             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2,0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2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  $2,000                 $3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37240" y="49528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37240" y="487692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51840" y="487692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51840" y="49528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589040" y="304920"/>
            <a:ext cx="664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7. Collection of 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490840" y="500544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3,800; L+OE = $53,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143000" y="2133720"/>
            <a:ext cx="7496280" cy="26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A/R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6,3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2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7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+  1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-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7,3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65840" y="43434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65840" y="441972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94640" y="4343400"/>
            <a:ext cx="93348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794640" y="4419720"/>
            <a:ext cx="93348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0880" y="38088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8. Paid Equipment Rental Expense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9. Paid Wages Expense with Ca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435400" y="548316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2,400; L+OE = $52,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914400" y="2362320"/>
            <a:ext cx="7770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                     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                    Exp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                       $ 17,300                    $3,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8.                                 -   1,000                     -1,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9.                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-      4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 -   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                       $15,900                    $2,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404120" y="50292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510080" y="508968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05560" y="508968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08640" y="50292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914400" y="4572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10. Paid Utility Expense Incurring a Current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14400" y="2286000"/>
            <a:ext cx="7845480" cy="3289320"/>
            <a:chOff x="914400" y="2286000"/>
            <a:chExt cx="7845480" cy="3289320"/>
          </a:xfrm>
        </p:grpSpPr>
        <p:sp>
          <p:nvSpPr>
            <p:cNvPr id="599" name=""/>
            <p:cNvSpPr txBox="1"/>
            <p:nvPr/>
          </p:nvSpPr>
          <p:spPr>
            <a:xfrm>
              <a:off x="2511360" y="510228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2,400; L+OE = $52,4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914400" y="2286000"/>
              <a:ext cx="78454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/P                    Expens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                          $300                     $2,1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10.           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3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-   3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  $600                      $1,8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37240" y="449568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37240" y="457200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27800" y="44956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27800" y="457200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1066680" y="6094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11. Owner Withdrew Cash for Personal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414520" y="531036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1,800; L+OE = $51,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15840" y="2530440"/>
            <a:ext cx="784548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                   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             Withdraw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                        $15,900                 $1,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11.              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 -     6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 -   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                       $15,300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$1,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33840" y="472428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533840" y="48006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277040" y="4724280"/>
            <a:ext cx="85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277040" y="4800600"/>
            <a:ext cx="85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1066680" y="266688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financial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position refers to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that belo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a company and the claim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ainst those resources at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oint in time.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209680" y="1371600"/>
            <a:ext cx="4648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553080" y="380880"/>
            <a:ext cx="2208600" cy="2284560"/>
            <a:chOff x="6553080" y="380880"/>
            <a:chExt cx="2208600" cy="2284560"/>
          </a:xfrm>
        </p:grpSpPr>
        <p:sp>
          <p:nvSpPr>
            <p:cNvPr id="615" name=""/>
            <p:cNvSpPr/>
            <p:nvPr/>
          </p:nvSpPr>
          <p:spPr>
            <a:xfrm>
              <a:off x="6558120" y="1501920"/>
              <a:ext cx="536760" cy="798840"/>
            </a:xfrm>
            <a:custGeom>
              <a:avLst/>
              <a:gdLst/>
              <a:ahLst/>
              <a:rect l="0" t="0" r="r" b="b"/>
              <a:pathLst>
                <a:path w="1491" h="2219">
                  <a:moveTo>
                    <a:pt x="599" y="0"/>
                  </a:moveTo>
                  <a:lnTo>
                    <a:pt x="515" y="101"/>
                  </a:lnTo>
                  <a:lnTo>
                    <a:pt x="515" y="388"/>
                  </a:lnTo>
                  <a:lnTo>
                    <a:pt x="599" y="595"/>
                  </a:lnTo>
                  <a:lnTo>
                    <a:pt x="683" y="701"/>
                  </a:lnTo>
                  <a:lnTo>
                    <a:pt x="551" y="842"/>
                  </a:lnTo>
                  <a:lnTo>
                    <a:pt x="374" y="1165"/>
                  </a:lnTo>
                  <a:lnTo>
                    <a:pt x="35" y="1681"/>
                  </a:lnTo>
                  <a:lnTo>
                    <a:pt x="0" y="1795"/>
                  </a:lnTo>
                  <a:lnTo>
                    <a:pt x="35" y="1897"/>
                  </a:lnTo>
                  <a:lnTo>
                    <a:pt x="136" y="1897"/>
                  </a:lnTo>
                  <a:lnTo>
                    <a:pt x="224" y="1782"/>
                  </a:lnTo>
                  <a:lnTo>
                    <a:pt x="374" y="1495"/>
                  </a:lnTo>
                  <a:lnTo>
                    <a:pt x="463" y="1372"/>
                  </a:lnTo>
                  <a:lnTo>
                    <a:pt x="515" y="1562"/>
                  </a:lnTo>
                  <a:lnTo>
                    <a:pt x="480" y="1764"/>
                  </a:lnTo>
                  <a:lnTo>
                    <a:pt x="330" y="2055"/>
                  </a:lnTo>
                  <a:lnTo>
                    <a:pt x="374" y="2122"/>
                  </a:lnTo>
                  <a:lnTo>
                    <a:pt x="463" y="2108"/>
                  </a:lnTo>
                  <a:lnTo>
                    <a:pt x="643" y="1954"/>
                  </a:lnTo>
                  <a:lnTo>
                    <a:pt x="799" y="1694"/>
                  </a:lnTo>
                  <a:lnTo>
                    <a:pt x="799" y="2148"/>
                  </a:lnTo>
                  <a:lnTo>
                    <a:pt x="975" y="2219"/>
                  </a:lnTo>
                  <a:lnTo>
                    <a:pt x="1072" y="1945"/>
                  </a:lnTo>
                  <a:lnTo>
                    <a:pt x="1169" y="2201"/>
                  </a:lnTo>
                  <a:lnTo>
                    <a:pt x="1240" y="2122"/>
                  </a:lnTo>
                  <a:lnTo>
                    <a:pt x="1271" y="1614"/>
                  </a:lnTo>
                  <a:lnTo>
                    <a:pt x="1491" y="1125"/>
                  </a:lnTo>
                  <a:lnTo>
                    <a:pt x="1442" y="842"/>
                  </a:lnTo>
                  <a:lnTo>
                    <a:pt x="1288" y="736"/>
                  </a:lnTo>
                  <a:lnTo>
                    <a:pt x="1129" y="758"/>
                  </a:lnTo>
                  <a:lnTo>
                    <a:pt x="1072" y="524"/>
                  </a:lnTo>
                  <a:lnTo>
                    <a:pt x="913" y="471"/>
                  </a:lnTo>
                  <a:lnTo>
                    <a:pt x="768" y="401"/>
                  </a:lnTo>
                  <a:lnTo>
                    <a:pt x="683" y="48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10280" y="1825560"/>
              <a:ext cx="157680" cy="387720"/>
            </a:xfrm>
            <a:custGeom>
              <a:avLst/>
              <a:gdLst/>
              <a:ahLst/>
              <a:rect l="0" t="0" r="r" b="b"/>
              <a:pathLst>
                <a:path w="438" h="1077">
                  <a:moveTo>
                    <a:pt x="217" y="0"/>
                  </a:moveTo>
                  <a:lnTo>
                    <a:pt x="438" y="283"/>
                  </a:lnTo>
                  <a:lnTo>
                    <a:pt x="327" y="883"/>
                  </a:lnTo>
                  <a:lnTo>
                    <a:pt x="0" y="1077"/>
                  </a:lnTo>
                  <a:lnTo>
                    <a:pt x="0" y="772"/>
                  </a:lnTo>
                  <a:lnTo>
                    <a:pt x="133" y="459"/>
                  </a:lnTo>
                  <a:lnTo>
                    <a:pt x="217" y="22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35920" y="1603440"/>
              <a:ext cx="397080" cy="349560"/>
            </a:xfrm>
            <a:custGeom>
              <a:avLst/>
              <a:gdLst/>
              <a:ahLst/>
              <a:rect l="0" t="0" r="r" b="b"/>
              <a:pathLst>
                <a:path w="1103" h="971">
                  <a:moveTo>
                    <a:pt x="454" y="0"/>
                  </a:moveTo>
                  <a:lnTo>
                    <a:pt x="454" y="154"/>
                  </a:lnTo>
                  <a:lnTo>
                    <a:pt x="493" y="295"/>
                  </a:lnTo>
                  <a:lnTo>
                    <a:pt x="710" y="525"/>
                  </a:lnTo>
                  <a:lnTo>
                    <a:pt x="1103" y="653"/>
                  </a:lnTo>
                  <a:lnTo>
                    <a:pt x="1050" y="953"/>
                  </a:lnTo>
                  <a:lnTo>
                    <a:pt x="710" y="971"/>
                  </a:lnTo>
                  <a:lnTo>
                    <a:pt x="207" y="763"/>
                  </a:lnTo>
                  <a:lnTo>
                    <a:pt x="0" y="383"/>
                  </a:lnTo>
                  <a:lnTo>
                    <a:pt x="246" y="22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194680" y="1209600"/>
              <a:ext cx="552960" cy="768600"/>
            </a:xfrm>
            <a:custGeom>
              <a:avLst/>
              <a:gdLst/>
              <a:ahLst/>
              <a:rect l="0" t="0" r="r" b="b"/>
              <a:pathLst>
                <a:path w="1536" h="2135">
                  <a:moveTo>
                    <a:pt x="136" y="908"/>
                  </a:moveTo>
                  <a:lnTo>
                    <a:pt x="0" y="1058"/>
                  </a:lnTo>
                  <a:lnTo>
                    <a:pt x="35" y="1403"/>
                  </a:lnTo>
                  <a:lnTo>
                    <a:pt x="246" y="1566"/>
                  </a:lnTo>
                  <a:lnTo>
                    <a:pt x="260" y="2095"/>
                  </a:lnTo>
                  <a:lnTo>
                    <a:pt x="477" y="2095"/>
                  </a:lnTo>
                  <a:lnTo>
                    <a:pt x="464" y="1650"/>
                  </a:lnTo>
                  <a:lnTo>
                    <a:pt x="627" y="2117"/>
                  </a:lnTo>
                  <a:lnTo>
                    <a:pt x="728" y="2135"/>
                  </a:lnTo>
                  <a:lnTo>
                    <a:pt x="807" y="1980"/>
                  </a:lnTo>
                  <a:lnTo>
                    <a:pt x="821" y="1681"/>
                  </a:lnTo>
                  <a:lnTo>
                    <a:pt x="1054" y="1958"/>
                  </a:lnTo>
                  <a:lnTo>
                    <a:pt x="1151" y="1941"/>
                  </a:lnTo>
                  <a:lnTo>
                    <a:pt x="1129" y="1747"/>
                  </a:lnTo>
                  <a:lnTo>
                    <a:pt x="1037" y="1478"/>
                  </a:lnTo>
                  <a:lnTo>
                    <a:pt x="949" y="1301"/>
                  </a:lnTo>
                  <a:lnTo>
                    <a:pt x="979" y="1182"/>
                  </a:lnTo>
                  <a:lnTo>
                    <a:pt x="1037" y="1200"/>
                  </a:lnTo>
                  <a:lnTo>
                    <a:pt x="1249" y="1478"/>
                  </a:lnTo>
                  <a:lnTo>
                    <a:pt x="1488" y="1544"/>
                  </a:lnTo>
                  <a:lnTo>
                    <a:pt x="1536" y="1460"/>
                  </a:lnTo>
                  <a:lnTo>
                    <a:pt x="1501" y="1315"/>
                  </a:lnTo>
                  <a:lnTo>
                    <a:pt x="1076" y="881"/>
                  </a:lnTo>
                  <a:lnTo>
                    <a:pt x="728" y="754"/>
                  </a:lnTo>
                  <a:lnTo>
                    <a:pt x="688" y="511"/>
                  </a:lnTo>
                  <a:lnTo>
                    <a:pt x="807" y="295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77"/>
                  </a:lnTo>
                  <a:lnTo>
                    <a:pt x="246" y="665"/>
                  </a:lnTo>
                  <a:lnTo>
                    <a:pt x="185" y="824"/>
                  </a:lnTo>
                  <a:lnTo>
                    <a:pt x="136" y="90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88200" y="544680"/>
              <a:ext cx="601920" cy="979920"/>
            </a:xfrm>
            <a:custGeom>
              <a:avLst/>
              <a:gdLst/>
              <a:ahLst/>
              <a:rect l="0" t="0" r="r" b="b"/>
              <a:pathLst>
                <a:path w="1672" h="2722">
                  <a:moveTo>
                    <a:pt x="423" y="374"/>
                  </a:moveTo>
                  <a:lnTo>
                    <a:pt x="295" y="900"/>
                  </a:lnTo>
                  <a:lnTo>
                    <a:pt x="13" y="1002"/>
                  </a:lnTo>
                  <a:lnTo>
                    <a:pt x="88" y="1169"/>
                  </a:lnTo>
                  <a:lnTo>
                    <a:pt x="0" y="1271"/>
                  </a:lnTo>
                  <a:lnTo>
                    <a:pt x="0" y="1460"/>
                  </a:lnTo>
                  <a:lnTo>
                    <a:pt x="132" y="1632"/>
                  </a:lnTo>
                  <a:lnTo>
                    <a:pt x="260" y="1632"/>
                  </a:lnTo>
                  <a:lnTo>
                    <a:pt x="343" y="2237"/>
                  </a:lnTo>
                  <a:lnTo>
                    <a:pt x="454" y="2497"/>
                  </a:lnTo>
                  <a:lnTo>
                    <a:pt x="798" y="2722"/>
                  </a:lnTo>
                  <a:lnTo>
                    <a:pt x="1134" y="2687"/>
                  </a:lnTo>
                  <a:lnTo>
                    <a:pt x="1297" y="2237"/>
                  </a:lnTo>
                  <a:lnTo>
                    <a:pt x="1337" y="1548"/>
                  </a:lnTo>
                  <a:lnTo>
                    <a:pt x="1672" y="1204"/>
                  </a:lnTo>
                  <a:lnTo>
                    <a:pt x="1659" y="1068"/>
                  </a:lnTo>
                  <a:lnTo>
                    <a:pt x="1619" y="1002"/>
                  </a:lnTo>
                  <a:lnTo>
                    <a:pt x="1442" y="988"/>
                  </a:lnTo>
                  <a:lnTo>
                    <a:pt x="1495" y="807"/>
                  </a:lnTo>
                  <a:lnTo>
                    <a:pt x="1319" y="688"/>
                  </a:lnTo>
                  <a:lnTo>
                    <a:pt x="1244" y="295"/>
                  </a:lnTo>
                  <a:lnTo>
                    <a:pt x="723" y="0"/>
                  </a:lnTo>
                  <a:lnTo>
                    <a:pt x="454" y="277"/>
                  </a:lnTo>
                  <a:lnTo>
                    <a:pt x="423" y="37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32840" y="1363680"/>
              <a:ext cx="552960" cy="1172160"/>
            </a:xfrm>
            <a:custGeom>
              <a:avLst/>
              <a:gdLst/>
              <a:ahLst/>
              <a:rect l="0" t="0" r="r" b="b"/>
              <a:pathLst>
                <a:path w="1536" h="3256">
                  <a:moveTo>
                    <a:pt x="313" y="171"/>
                  </a:moveTo>
                  <a:lnTo>
                    <a:pt x="530" y="326"/>
                  </a:lnTo>
                  <a:lnTo>
                    <a:pt x="640" y="502"/>
                  </a:lnTo>
                  <a:lnTo>
                    <a:pt x="1249" y="0"/>
                  </a:lnTo>
                  <a:lnTo>
                    <a:pt x="1452" y="105"/>
                  </a:lnTo>
                  <a:lnTo>
                    <a:pt x="1536" y="621"/>
                  </a:lnTo>
                  <a:lnTo>
                    <a:pt x="1094" y="2113"/>
                  </a:lnTo>
                  <a:lnTo>
                    <a:pt x="1236" y="2938"/>
                  </a:lnTo>
                  <a:lnTo>
                    <a:pt x="653" y="3256"/>
                  </a:lnTo>
                  <a:lnTo>
                    <a:pt x="207" y="3079"/>
                  </a:lnTo>
                  <a:lnTo>
                    <a:pt x="207" y="2201"/>
                  </a:lnTo>
                  <a:lnTo>
                    <a:pt x="0" y="1354"/>
                  </a:lnTo>
                  <a:lnTo>
                    <a:pt x="207" y="326"/>
                  </a:lnTo>
                  <a:lnTo>
                    <a:pt x="313" y="1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56600" y="412920"/>
              <a:ext cx="514800" cy="309960"/>
            </a:xfrm>
            <a:custGeom>
              <a:avLst/>
              <a:gdLst/>
              <a:ahLst/>
              <a:rect l="0" t="0" r="r" b="b"/>
              <a:pathLst>
                <a:path w="1430" h="861">
                  <a:moveTo>
                    <a:pt x="176" y="822"/>
                  </a:moveTo>
                  <a:lnTo>
                    <a:pt x="384" y="591"/>
                  </a:lnTo>
                  <a:lnTo>
                    <a:pt x="521" y="556"/>
                  </a:lnTo>
                  <a:lnTo>
                    <a:pt x="521" y="578"/>
                  </a:lnTo>
                  <a:lnTo>
                    <a:pt x="587" y="556"/>
                  </a:lnTo>
                  <a:lnTo>
                    <a:pt x="675" y="627"/>
                  </a:lnTo>
                  <a:lnTo>
                    <a:pt x="843" y="663"/>
                  </a:lnTo>
                  <a:lnTo>
                    <a:pt x="979" y="861"/>
                  </a:lnTo>
                  <a:lnTo>
                    <a:pt x="1210" y="773"/>
                  </a:lnTo>
                  <a:lnTo>
                    <a:pt x="1210" y="676"/>
                  </a:lnTo>
                  <a:lnTo>
                    <a:pt x="1430" y="578"/>
                  </a:lnTo>
                  <a:lnTo>
                    <a:pt x="1364" y="411"/>
                  </a:lnTo>
                  <a:lnTo>
                    <a:pt x="1152" y="402"/>
                  </a:lnTo>
                  <a:lnTo>
                    <a:pt x="1183" y="225"/>
                  </a:lnTo>
                  <a:lnTo>
                    <a:pt x="1002" y="243"/>
                  </a:lnTo>
                  <a:lnTo>
                    <a:pt x="971" y="123"/>
                  </a:lnTo>
                  <a:lnTo>
                    <a:pt x="843" y="123"/>
                  </a:lnTo>
                  <a:lnTo>
                    <a:pt x="759" y="194"/>
                  </a:lnTo>
                  <a:lnTo>
                    <a:pt x="675" y="194"/>
                  </a:lnTo>
                  <a:lnTo>
                    <a:pt x="693" y="0"/>
                  </a:lnTo>
                  <a:lnTo>
                    <a:pt x="521" y="88"/>
                  </a:lnTo>
                  <a:lnTo>
                    <a:pt x="282" y="402"/>
                  </a:lnTo>
                  <a:lnTo>
                    <a:pt x="264" y="194"/>
                  </a:lnTo>
                  <a:lnTo>
                    <a:pt x="141" y="292"/>
                  </a:lnTo>
                  <a:lnTo>
                    <a:pt x="110" y="556"/>
                  </a:lnTo>
                  <a:lnTo>
                    <a:pt x="0" y="508"/>
                  </a:lnTo>
                  <a:lnTo>
                    <a:pt x="13" y="676"/>
                  </a:lnTo>
                  <a:lnTo>
                    <a:pt x="176" y="822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94480" y="1579680"/>
              <a:ext cx="165600" cy="887760"/>
            </a:xfrm>
            <a:custGeom>
              <a:avLst/>
              <a:gdLst/>
              <a:ahLst/>
              <a:rect l="0" t="0" r="r" b="b"/>
              <a:pathLst>
                <a:path w="460" h="2466">
                  <a:moveTo>
                    <a:pt x="239" y="13"/>
                  </a:moveTo>
                  <a:lnTo>
                    <a:pt x="79" y="123"/>
                  </a:lnTo>
                  <a:lnTo>
                    <a:pt x="79" y="330"/>
                  </a:lnTo>
                  <a:lnTo>
                    <a:pt x="195" y="396"/>
                  </a:lnTo>
                  <a:lnTo>
                    <a:pt x="44" y="727"/>
                  </a:lnTo>
                  <a:lnTo>
                    <a:pt x="0" y="1159"/>
                  </a:lnTo>
                  <a:lnTo>
                    <a:pt x="114" y="1729"/>
                  </a:lnTo>
                  <a:lnTo>
                    <a:pt x="114" y="1963"/>
                  </a:lnTo>
                  <a:lnTo>
                    <a:pt x="52" y="2144"/>
                  </a:lnTo>
                  <a:lnTo>
                    <a:pt x="292" y="2466"/>
                  </a:lnTo>
                  <a:lnTo>
                    <a:pt x="442" y="1985"/>
                  </a:lnTo>
                  <a:lnTo>
                    <a:pt x="442" y="1654"/>
                  </a:lnTo>
                  <a:lnTo>
                    <a:pt x="331" y="1345"/>
                  </a:lnTo>
                  <a:lnTo>
                    <a:pt x="269" y="930"/>
                  </a:lnTo>
                  <a:lnTo>
                    <a:pt x="390" y="524"/>
                  </a:lnTo>
                  <a:lnTo>
                    <a:pt x="350" y="366"/>
                  </a:lnTo>
                  <a:lnTo>
                    <a:pt x="460" y="277"/>
                  </a:lnTo>
                  <a:lnTo>
                    <a:pt x="442" y="171"/>
                  </a:lnTo>
                  <a:lnTo>
                    <a:pt x="309" y="0"/>
                  </a:lnTo>
                  <a:lnTo>
                    <a:pt x="239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89800" y="1282680"/>
              <a:ext cx="133560" cy="81360"/>
            </a:xfrm>
            <a:custGeom>
              <a:avLst/>
              <a:gdLst/>
              <a:ahLst/>
              <a:rect l="0" t="0" r="r" b="b"/>
              <a:pathLst>
                <a:path w="371" h="226">
                  <a:moveTo>
                    <a:pt x="0" y="71"/>
                  </a:moveTo>
                  <a:lnTo>
                    <a:pt x="149" y="226"/>
                  </a:lnTo>
                  <a:lnTo>
                    <a:pt x="296" y="209"/>
                  </a:lnTo>
                  <a:lnTo>
                    <a:pt x="371" y="22"/>
                  </a:lnTo>
                  <a:lnTo>
                    <a:pt x="208" y="0"/>
                  </a:lnTo>
                  <a:lnTo>
                    <a:pt x="39" y="2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45440" y="873000"/>
              <a:ext cx="163800" cy="173520"/>
            </a:xfrm>
            <a:custGeom>
              <a:avLst/>
              <a:gdLst/>
              <a:ahLst/>
              <a:rect l="0" t="0" r="r" b="b"/>
              <a:pathLst>
                <a:path w="455" h="482">
                  <a:moveTo>
                    <a:pt x="0" y="57"/>
                  </a:moveTo>
                  <a:lnTo>
                    <a:pt x="314" y="482"/>
                  </a:lnTo>
                  <a:lnTo>
                    <a:pt x="455" y="447"/>
                  </a:lnTo>
                  <a:lnTo>
                    <a:pt x="123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35960" y="835200"/>
              <a:ext cx="141480" cy="173520"/>
            </a:xfrm>
            <a:custGeom>
              <a:avLst/>
              <a:gdLst/>
              <a:ahLst/>
              <a:rect l="0" t="0" r="r" b="b"/>
              <a:pathLst>
                <a:path w="393" h="482">
                  <a:moveTo>
                    <a:pt x="0" y="66"/>
                  </a:moveTo>
                  <a:lnTo>
                    <a:pt x="269" y="482"/>
                  </a:lnTo>
                  <a:lnTo>
                    <a:pt x="393" y="376"/>
                  </a:lnTo>
                  <a:lnTo>
                    <a:pt x="114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84960" y="611280"/>
              <a:ext cx="574920" cy="435240"/>
            </a:xfrm>
            <a:custGeom>
              <a:avLst/>
              <a:gdLst/>
              <a:ahLst/>
              <a:rect l="0" t="0" r="r" b="b"/>
              <a:pathLst>
                <a:path w="1597" h="1209">
                  <a:moveTo>
                    <a:pt x="732" y="719"/>
                  </a:moveTo>
                  <a:lnTo>
                    <a:pt x="586" y="675"/>
                  </a:lnTo>
                  <a:lnTo>
                    <a:pt x="709" y="560"/>
                  </a:lnTo>
                  <a:lnTo>
                    <a:pt x="661" y="502"/>
                  </a:lnTo>
                  <a:lnTo>
                    <a:pt x="507" y="653"/>
                  </a:lnTo>
                  <a:lnTo>
                    <a:pt x="202" y="684"/>
                  </a:lnTo>
                  <a:lnTo>
                    <a:pt x="0" y="693"/>
                  </a:lnTo>
                  <a:lnTo>
                    <a:pt x="0" y="860"/>
                  </a:lnTo>
                  <a:lnTo>
                    <a:pt x="189" y="1196"/>
                  </a:lnTo>
                  <a:lnTo>
                    <a:pt x="242" y="1209"/>
                  </a:lnTo>
                  <a:lnTo>
                    <a:pt x="70" y="830"/>
                  </a:lnTo>
                  <a:lnTo>
                    <a:pt x="330" y="719"/>
                  </a:lnTo>
                  <a:lnTo>
                    <a:pt x="507" y="719"/>
                  </a:lnTo>
                  <a:lnTo>
                    <a:pt x="635" y="790"/>
                  </a:lnTo>
                  <a:lnTo>
                    <a:pt x="661" y="891"/>
                  </a:lnTo>
                  <a:lnTo>
                    <a:pt x="661" y="1125"/>
                  </a:lnTo>
                  <a:lnTo>
                    <a:pt x="661" y="1196"/>
                  </a:lnTo>
                  <a:lnTo>
                    <a:pt x="740" y="1090"/>
                  </a:lnTo>
                  <a:lnTo>
                    <a:pt x="740" y="852"/>
                  </a:lnTo>
                  <a:lnTo>
                    <a:pt x="856" y="852"/>
                  </a:lnTo>
                  <a:lnTo>
                    <a:pt x="909" y="1125"/>
                  </a:lnTo>
                  <a:lnTo>
                    <a:pt x="971" y="1147"/>
                  </a:lnTo>
                  <a:lnTo>
                    <a:pt x="1165" y="1147"/>
                  </a:lnTo>
                  <a:lnTo>
                    <a:pt x="1359" y="1103"/>
                  </a:lnTo>
                  <a:lnTo>
                    <a:pt x="1500" y="997"/>
                  </a:lnTo>
                  <a:lnTo>
                    <a:pt x="1522" y="750"/>
                  </a:lnTo>
                  <a:lnTo>
                    <a:pt x="1597" y="653"/>
                  </a:lnTo>
                  <a:lnTo>
                    <a:pt x="1553" y="586"/>
                  </a:lnTo>
                  <a:lnTo>
                    <a:pt x="1372" y="520"/>
                  </a:lnTo>
                  <a:lnTo>
                    <a:pt x="1345" y="268"/>
                  </a:lnTo>
                  <a:lnTo>
                    <a:pt x="1173" y="268"/>
                  </a:lnTo>
                  <a:lnTo>
                    <a:pt x="979" y="0"/>
                  </a:lnTo>
                  <a:lnTo>
                    <a:pt x="1160" y="295"/>
                  </a:lnTo>
                  <a:lnTo>
                    <a:pt x="1218" y="295"/>
                  </a:lnTo>
                  <a:lnTo>
                    <a:pt x="1257" y="502"/>
                  </a:lnTo>
                  <a:lnTo>
                    <a:pt x="1032" y="586"/>
                  </a:lnTo>
                  <a:lnTo>
                    <a:pt x="869" y="524"/>
                  </a:lnTo>
                  <a:lnTo>
                    <a:pt x="838" y="586"/>
                  </a:lnTo>
                  <a:lnTo>
                    <a:pt x="935" y="653"/>
                  </a:lnTo>
                  <a:lnTo>
                    <a:pt x="935" y="710"/>
                  </a:lnTo>
                  <a:lnTo>
                    <a:pt x="1125" y="613"/>
                  </a:lnTo>
                  <a:lnTo>
                    <a:pt x="1284" y="599"/>
                  </a:lnTo>
                  <a:lnTo>
                    <a:pt x="1465" y="622"/>
                  </a:lnTo>
                  <a:lnTo>
                    <a:pt x="1465" y="658"/>
                  </a:lnTo>
                  <a:lnTo>
                    <a:pt x="1381" y="741"/>
                  </a:lnTo>
                  <a:lnTo>
                    <a:pt x="1345" y="852"/>
                  </a:lnTo>
                  <a:lnTo>
                    <a:pt x="1337" y="997"/>
                  </a:lnTo>
                  <a:lnTo>
                    <a:pt x="1235" y="1054"/>
                  </a:lnTo>
                  <a:lnTo>
                    <a:pt x="1081" y="1076"/>
                  </a:lnTo>
                  <a:lnTo>
                    <a:pt x="971" y="1076"/>
                  </a:lnTo>
                  <a:lnTo>
                    <a:pt x="940" y="1028"/>
                  </a:lnTo>
                  <a:lnTo>
                    <a:pt x="909" y="750"/>
                  </a:lnTo>
                  <a:lnTo>
                    <a:pt x="740" y="750"/>
                  </a:lnTo>
                  <a:lnTo>
                    <a:pt x="732" y="7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81880" y="1114560"/>
              <a:ext cx="187560" cy="87840"/>
            </a:xfrm>
            <a:custGeom>
              <a:avLst/>
              <a:gdLst/>
              <a:ahLst/>
              <a:rect l="0" t="0" r="r" b="b"/>
              <a:pathLst>
                <a:path w="521" h="244">
                  <a:moveTo>
                    <a:pt x="0" y="0"/>
                  </a:moveTo>
                  <a:lnTo>
                    <a:pt x="83" y="111"/>
                  </a:lnTo>
                  <a:lnTo>
                    <a:pt x="309" y="111"/>
                  </a:lnTo>
                  <a:lnTo>
                    <a:pt x="402" y="35"/>
                  </a:lnTo>
                  <a:lnTo>
                    <a:pt x="521" y="35"/>
                  </a:lnTo>
                  <a:lnTo>
                    <a:pt x="499" y="71"/>
                  </a:lnTo>
                  <a:lnTo>
                    <a:pt x="499" y="111"/>
                  </a:lnTo>
                  <a:lnTo>
                    <a:pt x="292" y="244"/>
                  </a:lnTo>
                  <a:lnTo>
                    <a:pt x="171" y="244"/>
                  </a:lnTo>
                  <a:lnTo>
                    <a:pt x="114" y="191"/>
                  </a:lnTo>
                  <a:lnTo>
                    <a:pt x="48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73800" y="971640"/>
              <a:ext cx="284400" cy="465480"/>
            </a:xfrm>
            <a:custGeom>
              <a:avLst/>
              <a:gdLst/>
              <a:ahLst/>
              <a:rect l="0" t="0" r="r" b="b"/>
              <a:pathLst>
                <a:path w="790" h="1293">
                  <a:moveTo>
                    <a:pt x="790" y="92"/>
                  </a:moveTo>
                  <a:lnTo>
                    <a:pt x="790" y="110"/>
                  </a:lnTo>
                  <a:lnTo>
                    <a:pt x="653" y="242"/>
                  </a:lnTo>
                  <a:lnTo>
                    <a:pt x="538" y="268"/>
                  </a:lnTo>
                  <a:lnTo>
                    <a:pt x="317" y="233"/>
                  </a:lnTo>
                  <a:lnTo>
                    <a:pt x="352" y="697"/>
                  </a:lnTo>
                  <a:lnTo>
                    <a:pt x="411" y="1085"/>
                  </a:lnTo>
                  <a:lnTo>
                    <a:pt x="499" y="1293"/>
                  </a:lnTo>
                  <a:lnTo>
                    <a:pt x="411" y="1143"/>
                  </a:lnTo>
                  <a:lnTo>
                    <a:pt x="370" y="975"/>
                  </a:lnTo>
                  <a:lnTo>
                    <a:pt x="304" y="542"/>
                  </a:lnTo>
                  <a:lnTo>
                    <a:pt x="242" y="568"/>
                  </a:lnTo>
                  <a:lnTo>
                    <a:pt x="167" y="524"/>
                  </a:lnTo>
                  <a:lnTo>
                    <a:pt x="13" y="291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6" y="61"/>
                  </a:lnTo>
                  <a:lnTo>
                    <a:pt x="48" y="154"/>
                  </a:lnTo>
                  <a:lnTo>
                    <a:pt x="52" y="277"/>
                  </a:lnTo>
                  <a:lnTo>
                    <a:pt x="158" y="388"/>
                  </a:lnTo>
                  <a:lnTo>
                    <a:pt x="202" y="361"/>
                  </a:lnTo>
                  <a:lnTo>
                    <a:pt x="202" y="127"/>
                  </a:lnTo>
                  <a:lnTo>
                    <a:pt x="295" y="176"/>
                  </a:lnTo>
                  <a:lnTo>
                    <a:pt x="441" y="207"/>
                  </a:lnTo>
                  <a:lnTo>
                    <a:pt x="574" y="198"/>
                  </a:lnTo>
                  <a:lnTo>
                    <a:pt x="706" y="127"/>
                  </a:lnTo>
                  <a:lnTo>
                    <a:pt x="790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51560" y="598320"/>
              <a:ext cx="84600" cy="249480"/>
            </a:xfrm>
            <a:custGeom>
              <a:avLst/>
              <a:gdLst/>
              <a:ahLst/>
              <a:rect l="0" t="0" r="r" b="b"/>
              <a:pathLst>
                <a:path w="235" h="693">
                  <a:moveTo>
                    <a:pt x="124" y="693"/>
                  </a:moveTo>
                  <a:lnTo>
                    <a:pt x="235" y="277"/>
                  </a:lnTo>
                  <a:lnTo>
                    <a:pt x="30" y="136"/>
                  </a:lnTo>
                  <a:lnTo>
                    <a:pt x="0" y="0"/>
                  </a:lnTo>
                  <a:lnTo>
                    <a:pt x="13" y="167"/>
                  </a:lnTo>
                  <a:lnTo>
                    <a:pt x="84" y="238"/>
                  </a:lnTo>
                  <a:lnTo>
                    <a:pt x="89" y="441"/>
                  </a:lnTo>
                  <a:lnTo>
                    <a:pt x="146" y="525"/>
                  </a:lnTo>
                  <a:lnTo>
                    <a:pt x="124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48680" y="380880"/>
              <a:ext cx="630720" cy="329040"/>
            </a:xfrm>
            <a:custGeom>
              <a:avLst/>
              <a:gdLst/>
              <a:ahLst/>
              <a:rect l="0" t="0" r="r" b="b"/>
              <a:pathLst>
                <a:path w="1752" h="914">
                  <a:moveTo>
                    <a:pt x="13" y="618"/>
                  </a:moveTo>
                  <a:lnTo>
                    <a:pt x="171" y="716"/>
                  </a:lnTo>
                  <a:lnTo>
                    <a:pt x="145" y="591"/>
                  </a:lnTo>
                  <a:lnTo>
                    <a:pt x="180" y="389"/>
                  </a:lnTo>
                  <a:lnTo>
                    <a:pt x="282" y="340"/>
                  </a:lnTo>
                  <a:lnTo>
                    <a:pt x="295" y="565"/>
                  </a:lnTo>
                  <a:lnTo>
                    <a:pt x="587" y="176"/>
                  </a:lnTo>
                  <a:lnTo>
                    <a:pt x="658" y="154"/>
                  </a:lnTo>
                  <a:lnTo>
                    <a:pt x="600" y="305"/>
                  </a:lnTo>
                  <a:lnTo>
                    <a:pt x="785" y="375"/>
                  </a:lnTo>
                  <a:lnTo>
                    <a:pt x="918" y="224"/>
                  </a:lnTo>
                  <a:lnTo>
                    <a:pt x="993" y="269"/>
                  </a:lnTo>
                  <a:lnTo>
                    <a:pt x="931" y="402"/>
                  </a:lnTo>
                  <a:lnTo>
                    <a:pt x="1019" y="327"/>
                  </a:lnTo>
                  <a:lnTo>
                    <a:pt x="1151" y="389"/>
                  </a:lnTo>
                  <a:lnTo>
                    <a:pt x="1041" y="499"/>
                  </a:lnTo>
                  <a:lnTo>
                    <a:pt x="1408" y="565"/>
                  </a:lnTo>
                  <a:lnTo>
                    <a:pt x="1160" y="644"/>
                  </a:lnTo>
                  <a:lnTo>
                    <a:pt x="1461" y="684"/>
                  </a:lnTo>
                  <a:lnTo>
                    <a:pt x="1107" y="778"/>
                  </a:lnTo>
                  <a:lnTo>
                    <a:pt x="1182" y="848"/>
                  </a:lnTo>
                  <a:lnTo>
                    <a:pt x="1076" y="914"/>
                  </a:lnTo>
                  <a:lnTo>
                    <a:pt x="1257" y="914"/>
                  </a:lnTo>
                  <a:lnTo>
                    <a:pt x="1244" y="857"/>
                  </a:lnTo>
                  <a:lnTo>
                    <a:pt x="1430" y="910"/>
                  </a:lnTo>
                  <a:lnTo>
                    <a:pt x="1408" y="764"/>
                  </a:lnTo>
                  <a:lnTo>
                    <a:pt x="1580" y="698"/>
                  </a:lnTo>
                  <a:lnTo>
                    <a:pt x="1452" y="631"/>
                  </a:lnTo>
                  <a:lnTo>
                    <a:pt x="1752" y="609"/>
                  </a:lnTo>
                  <a:lnTo>
                    <a:pt x="1496" y="459"/>
                  </a:lnTo>
                  <a:lnTo>
                    <a:pt x="1200" y="424"/>
                  </a:lnTo>
                  <a:lnTo>
                    <a:pt x="1430" y="283"/>
                  </a:lnTo>
                  <a:lnTo>
                    <a:pt x="1019" y="283"/>
                  </a:lnTo>
                  <a:lnTo>
                    <a:pt x="1213" y="136"/>
                  </a:lnTo>
                  <a:lnTo>
                    <a:pt x="913" y="176"/>
                  </a:lnTo>
                  <a:lnTo>
                    <a:pt x="772" y="243"/>
                  </a:lnTo>
                  <a:lnTo>
                    <a:pt x="896" y="0"/>
                  </a:lnTo>
                  <a:lnTo>
                    <a:pt x="525" y="136"/>
                  </a:lnTo>
                  <a:lnTo>
                    <a:pt x="326" y="437"/>
                  </a:lnTo>
                  <a:lnTo>
                    <a:pt x="295" y="269"/>
                  </a:lnTo>
                  <a:lnTo>
                    <a:pt x="127" y="389"/>
                  </a:lnTo>
                  <a:lnTo>
                    <a:pt x="105" y="609"/>
                  </a:lnTo>
                  <a:lnTo>
                    <a:pt x="0" y="565"/>
                  </a:lnTo>
                  <a:lnTo>
                    <a:pt x="39" y="764"/>
                  </a:lnTo>
                  <a:lnTo>
                    <a:pt x="13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86560" y="555480"/>
              <a:ext cx="178200" cy="100440"/>
            </a:xfrm>
            <a:custGeom>
              <a:avLst/>
              <a:gdLst/>
              <a:ahLst/>
              <a:rect l="0" t="0" r="r" b="b"/>
              <a:pathLst>
                <a:path w="495" h="279">
                  <a:moveTo>
                    <a:pt x="0" y="279"/>
                  </a:moveTo>
                  <a:lnTo>
                    <a:pt x="186" y="0"/>
                  </a:lnTo>
                  <a:lnTo>
                    <a:pt x="186" y="181"/>
                  </a:lnTo>
                  <a:lnTo>
                    <a:pt x="247" y="111"/>
                  </a:lnTo>
                  <a:lnTo>
                    <a:pt x="305" y="213"/>
                  </a:lnTo>
                  <a:lnTo>
                    <a:pt x="495" y="262"/>
                  </a:lnTo>
                  <a:lnTo>
                    <a:pt x="296" y="226"/>
                  </a:lnTo>
                  <a:lnTo>
                    <a:pt x="239" y="164"/>
                  </a:lnTo>
                  <a:lnTo>
                    <a:pt x="155" y="226"/>
                  </a:lnTo>
                  <a:lnTo>
                    <a:pt x="155" y="146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69280" y="1227240"/>
              <a:ext cx="214560" cy="147960"/>
            </a:xfrm>
            <a:custGeom>
              <a:avLst/>
              <a:gdLst/>
              <a:ahLst/>
              <a:rect l="0" t="0" r="r" b="b"/>
              <a:pathLst>
                <a:path w="596" h="411">
                  <a:moveTo>
                    <a:pt x="114" y="145"/>
                  </a:moveTo>
                  <a:lnTo>
                    <a:pt x="353" y="123"/>
                  </a:lnTo>
                  <a:lnTo>
                    <a:pt x="472" y="154"/>
                  </a:lnTo>
                  <a:lnTo>
                    <a:pt x="530" y="92"/>
                  </a:lnTo>
                  <a:lnTo>
                    <a:pt x="596" y="225"/>
                  </a:lnTo>
                  <a:lnTo>
                    <a:pt x="552" y="256"/>
                  </a:lnTo>
                  <a:lnTo>
                    <a:pt x="508" y="202"/>
                  </a:lnTo>
                  <a:lnTo>
                    <a:pt x="424" y="296"/>
                  </a:lnTo>
                  <a:lnTo>
                    <a:pt x="273" y="411"/>
                  </a:lnTo>
                  <a:lnTo>
                    <a:pt x="211" y="411"/>
                  </a:lnTo>
                  <a:lnTo>
                    <a:pt x="114" y="349"/>
                  </a:lnTo>
                  <a:lnTo>
                    <a:pt x="220" y="397"/>
                  </a:lnTo>
                  <a:lnTo>
                    <a:pt x="264" y="397"/>
                  </a:lnTo>
                  <a:lnTo>
                    <a:pt x="353" y="327"/>
                  </a:lnTo>
                  <a:lnTo>
                    <a:pt x="419" y="189"/>
                  </a:lnTo>
                  <a:lnTo>
                    <a:pt x="327" y="163"/>
                  </a:lnTo>
                  <a:lnTo>
                    <a:pt x="260" y="154"/>
                  </a:lnTo>
                  <a:lnTo>
                    <a:pt x="97" y="180"/>
                  </a:lnTo>
                  <a:lnTo>
                    <a:pt x="92" y="287"/>
                  </a:lnTo>
                  <a:lnTo>
                    <a:pt x="48" y="217"/>
                  </a:lnTo>
                  <a:lnTo>
                    <a:pt x="0" y="309"/>
                  </a:lnTo>
                  <a:lnTo>
                    <a:pt x="4" y="110"/>
                  </a:lnTo>
                  <a:lnTo>
                    <a:pt x="61" y="0"/>
                  </a:lnTo>
                  <a:lnTo>
                    <a:pt x="114" y="110"/>
                  </a:lnTo>
                  <a:lnTo>
                    <a:pt x="114" y="1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42280" y="907920"/>
              <a:ext cx="459000" cy="678240"/>
            </a:xfrm>
            <a:custGeom>
              <a:avLst/>
              <a:gdLst/>
              <a:ahLst/>
              <a:rect l="0" t="0" r="r" b="b"/>
              <a:pathLst>
                <a:path w="1275" h="1884">
                  <a:moveTo>
                    <a:pt x="1072" y="0"/>
                  </a:moveTo>
                  <a:lnTo>
                    <a:pt x="1200" y="0"/>
                  </a:lnTo>
                  <a:lnTo>
                    <a:pt x="1275" y="92"/>
                  </a:lnTo>
                  <a:lnTo>
                    <a:pt x="1275" y="194"/>
                  </a:lnTo>
                  <a:lnTo>
                    <a:pt x="1169" y="494"/>
                  </a:lnTo>
                  <a:lnTo>
                    <a:pt x="1068" y="631"/>
                  </a:lnTo>
                  <a:lnTo>
                    <a:pt x="953" y="653"/>
                  </a:lnTo>
                  <a:lnTo>
                    <a:pt x="931" y="653"/>
                  </a:lnTo>
                  <a:lnTo>
                    <a:pt x="931" y="1024"/>
                  </a:lnTo>
                  <a:lnTo>
                    <a:pt x="975" y="1293"/>
                  </a:lnTo>
                  <a:lnTo>
                    <a:pt x="975" y="1514"/>
                  </a:lnTo>
                  <a:lnTo>
                    <a:pt x="781" y="1735"/>
                  </a:lnTo>
                  <a:lnTo>
                    <a:pt x="520" y="1884"/>
                  </a:lnTo>
                  <a:lnTo>
                    <a:pt x="348" y="1884"/>
                  </a:lnTo>
                  <a:lnTo>
                    <a:pt x="264" y="1836"/>
                  </a:lnTo>
                  <a:lnTo>
                    <a:pt x="145" y="1580"/>
                  </a:lnTo>
                  <a:lnTo>
                    <a:pt x="44" y="1488"/>
                  </a:lnTo>
                  <a:lnTo>
                    <a:pt x="0" y="1421"/>
                  </a:lnTo>
                  <a:lnTo>
                    <a:pt x="141" y="1514"/>
                  </a:lnTo>
                  <a:lnTo>
                    <a:pt x="246" y="1607"/>
                  </a:lnTo>
                  <a:lnTo>
                    <a:pt x="445" y="1620"/>
                  </a:lnTo>
                  <a:lnTo>
                    <a:pt x="635" y="1523"/>
                  </a:lnTo>
                  <a:lnTo>
                    <a:pt x="728" y="1421"/>
                  </a:lnTo>
                  <a:lnTo>
                    <a:pt x="838" y="1226"/>
                  </a:lnTo>
                  <a:lnTo>
                    <a:pt x="852" y="1002"/>
                  </a:lnTo>
                  <a:lnTo>
                    <a:pt x="891" y="277"/>
                  </a:lnTo>
                  <a:lnTo>
                    <a:pt x="935" y="379"/>
                  </a:lnTo>
                  <a:lnTo>
                    <a:pt x="1063" y="246"/>
                  </a:lnTo>
                  <a:lnTo>
                    <a:pt x="1191" y="194"/>
                  </a:lnTo>
                  <a:lnTo>
                    <a:pt x="1226" y="114"/>
                  </a:lnTo>
                  <a:lnTo>
                    <a:pt x="1209" y="44"/>
                  </a:lnTo>
                  <a:lnTo>
                    <a:pt x="1151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0920" y="1492200"/>
              <a:ext cx="370080" cy="628920"/>
            </a:xfrm>
            <a:custGeom>
              <a:avLst/>
              <a:gdLst/>
              <a:ahLst/>
              <a:rect l="0" t="0" r="r" b="b"/>
              <a:pathLst>
                <a:path w="1028" h="1747">
                  <a:moveTo>
                    <a:pt x="127" y="0"/>
                  </a:moveTo>
                  <a:lnTo>
                    <a:pt x="251" y="74"/>
                  </a:lnTo>
                  <a:lnTo>
                    <a:pt x="335" y="432"/>
                  </a:lnTo>
                  <a:lnTo>
                    <a:pt x="600" y="520"/>
                  </a:lnTo>
                  <a:lnTo>
                    <a:pt x="675" y="604"/>
                  </a:lnTo>
                  <a:lnTo>
                    <a:pt x="688" y="740"/>
                  </a:lnTo>
                  <a:lnTo>
                    <a:pt x="821" y="723"/>
                  </a:lnTo>
                  <a:lnTo>
                    <a:pt x="979" y="829"/>
                  </a:lnTo>
                  <a:lnTo>
                    <a:pt x="1028" y="971"/>
                  </a:lnTo>
                  <a:lnTo>
                    <a:pt x="1028" y="1222"/>
                  </a:lnTo>
                  <a:lnTo>
                    <a:pt x="821" y="1592"/>
                  </a:lnTo>
                  <a:lnTo>
                    <a:pt x="746" y="1747"/>
                  </a:lnTo>
                  <a:lnTo>
                    <a:pt x="781" y="1548"/>
                  </a:lnTo>
                  <a:lnTo>
                    <a:pt x="746" y="1465"/>
                  </a:lnTo>
                  <a:lnTo>
                    <a:pt x="622" y="1337"/>
                  </a:lnTo>
                  <a:lnTo>
                    <a:pt x="423" y="1191"/>
                  </a:lnTo>
                  <a:lnTo>
                    <a:pt x="662" y="1279"/>
                  </a:lnTo>
                  <a:lnTo>
                    <a:pt x="803" y="1390"/>
                  </a:lnTo>
                  <a:lnTo>
                    <a:pt x="878" y="1368"/>
                  </a:lnTo>
                  <a:lnTo>
                    <a:pt x="918" y="1310"/>
                  </a:lnTo>
                  <a:lnTo>
                    <a:pt x="979" y="1134"/>
                  </a:lnTo>
                  <a:lnTo>
                    <a:pt x="962" y="962"/>
                  </a:lnTo>
                  <a:lnTo>
                    <a:pt x="887" y="864"/>
                  </a:lnTo>
                  <a:lnTo>
                    <a:pt x="763" y="829"/>
                  </a:lnTo>
                  <a:lnTo>
                    <a:pt x="622" y="829"/>
                  </a:lnTo>
                  <a:lnTo>
                    <a:pt x="574" y="568"/>
                  </a:lnTo>
                  <a:lnTo>
                    <a:pt x="343" y="485"/>
                  </a:lnTo>
                  <a:lnTo>
                    <a:pt x="343" y="560"/>
                  </a:lnTo>
                  <a:lnTo>
                    <a:pt x="251" y="374"/>
                  </a:lnTo>
                  <a:lnTo>
                    <a:pt x="185" y="74"/>
                  </a:lnTo>
                  <a:lnTo>
                    <a:pt x="101" y="48"/>
                  </a:lnTo>
                  <a:lnTo>
                    <a:pt x="48" y="136"/>
                  </a:lnTo>
                  <a:lnTo>
                    <a:pt x="48" y="335"/>
                  </a:lnTo>
                  <a:lnTo>
                    <a:pt x="88" y="560"/>
                  </a:lnTo>
                  <a:lnTo>
                    <a:pt x="211" y="740"/>
                  </a:lnTo>
                  <a:lnTo>
                    <a:pt x="79" y="626"/>
                  </a:lnTo>
                  <a:lnTo>
                    <a:pt x="8" y="432"/>
                  </a:lnTo>
                  <a:lnTo>
                    <a:pt x="0" y="189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553080" y="1770120"/>
              <a:ext cx="244800" cy="503640"/>
            </a:xfrm>
            <a:custGeom>
              <a:avLst/>
              <a:gdLst/>
              <a:ahLst/>
              <a:rect l="0" t="0" r="r" b="b"/>
              <a:pathLst>
                <a:path w="680" h="1399">
                  <a:moveTo>
                    <a:pt x="680" y="0"/>
                  </a:moveTo>
                  <a:lnTo>
                    <a:pt x="543" y="92"/>
                  </a:lnTo>
                  <a:lnTo>
                    <a:pt x="375" y="433"/>
                  </a:lnTo>
                  <a:lnTo>
                    <a:pt x="211" y="653"/>
                  </a:lnTo>
                  <a:lnTo>
                    <a:pt x="13" y="913"/>
                  </a:lnTo>
                  <a:lnTo>
                    <a:pt x="0" y="1060"/>
                  </a:lnTo>
                  <a:lnTo>
                    <a:pt x="39" y="1174"/>
                  </a:lnTo>
                  <a:lnTo>
                    <a:pt x="132" y="1174"/>
                  </a:lnTo>
                  <a:lnTo>
                    <a:pt x="260" y="1060"/>
                  </a:lnTo>
                  <a:lnTo>
                    <a:pt x="362" y="807"/>
                  </a:lnTo>
                  <a:lnTo>
                    <a:pt x="499" y="653"/>
                  </a:lnTo>
                  <a:lnTo>
                    <a:pt x="499" y="856"/>
                  </a:lnTo>
                  <a:lnTo>
                    <a:pt x="481" y="1037"/>
                  </a:lnTo>
                  <a:lnTo>
                    <a:pt x="330" y="1289"/>
                  </a:lnTo>
                  <a:lnTo>
                    <a:pt x="330" y="1364"/>
                  </a:lnTo>
                  <a:lnTo>
                    <a:pt x="481" y="1399"/>
                  </a:lnTo>
                  <a:lnTo>
                    <a:pt x="375" y="1333"/>
                  </a:lnTo>
                  <a:lnTo>
                    <a:pt x="389" y="1289"/>
                  </a:lnTo>
                  <a:lnTo>
                    <a:pt x="490" y="1104"/>
                  </a:lnTo>
                  <a:lnTo>
                    <a:pt x="561" y="772"/>
                  </a:lnTo>
                  <a:lnTo>
                    <a:pt x="512" y="591"/>
                  </a:lnTo>
                  <a:lnTo>
                    <a:pt x="397" y="697"/>
                  </a:lnTo>
                  <a:lnTo>
                    <a:pt x="163" y="1113"/>
                  </a:lnTo>
                  <a:lnTo>
                    <a:pt x="97" y="1130"/>
                  </a:lnTo>
                  <a:lnTo>
                    <a:pt x="39" y="1082"/>
                  </a:lnTo>
                  <a:lnTo>
                    <a:pt x="39" y="957"/>
                  </a:lnTo>
                  <a:lnTo>
                    <a:pt x="132" y="790"/>
                  </a:lnTo>
                  <a:lnTo>
                    <a:pt x="397" y="455"/>
                  </a:lnTo>
                  <a:lnTo>
                    <a:pt x="561" y="127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34160" y="2054160"/>
              <a:ext cx="152640" cy="240120"/>
            </a:xfrm>
            <a:custGeom>
              <a:avLst/>
              <a:gdLst/>
              <a:ahLst/>
              <a:rect l="0" t="0" r="r" b="b"/>
              <a:pathLst>
                <a:path w="424" h="667">
                  <a:moveTo>
                    <a:pt x="0" y="592"/>
                  </a:moveTo>
                  <a:lnTo>
                    <a:pt x="136" y="415"/>
                  </a:lnTo>
                  <a:lnTo>
                    <a:pt x="167" y="247"/>
                  </a:lnTo>
                  <a:lnTo>
                    <a:pt x="327" y="0"/>
                  </a:lnTo>
                  <a:lnTo>
                    <a:pt x="358" y="163"/>
                  </a:lnTo>
                  <a:lnTo>
                    <a:pt x="340" y="606"/>
                  </a:lnTo>
                  <a:lnTo>
                    <a:pt x="424" y="667"/>
                  </a:lnTo>
                  <a:lnTo>
                    <a:pt x="300" y="614"/>
                  </a:lnTo>
                  <a:lnTo>
                    <a:pt x="234" y="367"/>
                  </a:lnTo>
                  <a:lnTo>
                    <a:pt x="136" y="49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19920" y="2066760"/>
              <a:ext cx="100440" cy="216360"/>
            </a:xfrm>
            <a:custGeom>
              <a:avLst/>
              <a:gdLst/>
              <a:ahLst/>
              <a:rect l="0" t="0" r="r" b="b"/>
              <a:pathLst>
                <a:path w="279" h="601">
                  <a:moveTo>
                    <a:pt x="0" y="450"/>
                  </a:moveTo>
                  <a:lnTo>
                    <a:pt x="8" y="230"/>
                  </a:lnTo>
                  <a:lnTo>
                    <a:pt x="71" y="97"/>
                  </a:lnTo>
                  <a:lnTo>
                    <a:pt x="133" y="575"/>
                  </a:lnTo>
                  <a:lnTo>
                    <a:pt x="218" y="575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93"/>
                  </a:lnTo>
                  <a:lnTo>
                    <a:pt x="218" y="601"/>
                  </a:lnTo>
                  <a:lnTo>
                    <a:pt x="115" y="601"/>
                  </a:lnTo>
                  <a:lnTo>
                    <a:pt x="66" y="190"/>
                  </a:lnTo>
                  <a:lnTo>
                    <a:pt x="30" y="243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93240" y="1214280"/>
              <a:ext cx="243360" cy="578160"/>
            </a:xfrm>
            <a:custGeom>
              <a:avLst/>
              <a:gdLst/>
              <a:ahLst/>
              <a:rect l="0" t="0" r="r" b="b"/>
              <a:pathLst>
                <a:path w="676" h="1606">
                  <a:moveTo>
                    <a:pt x="177" y="874"/>
                  </a:moveTo>
                  <a:lnTo>
                    <a:pt x="230" y="617"/>
                  </a:lnTo>
                  <a:lnTo>
                    <a:pt x="455" y="551"/>
                  </a:lnTo>
                  <a:lnTo>
                    <a:pt x="676" y="0"/>
                  </a:lnTo>
                  <a:lnTo>
                    <a:pt x="676" y="158"/>
                  </a:lnTo>
                  <a:lnTo>
                    <a:pt x="494" y="590"/>
                  </a:lnTo>
                  <a:lnTo>
                    <a:pt x="252" y="665"/>
                  </a:lnTo>
                  <a:lnTo>
                    <a:pt x="212" y="874"/>
                  </a:lnTo>
                  <a:lnTo>
                    <a:pt x="300" y="874"/>
                  </a:lnTo>
                  <a:lnTo>
                    <a:pt x="88" y="957"/>
                  </a:lnTo>
                  <a:lnTo>
                    <a:pt x="39" y="1129"/>
                  </a:lnTo>
                  <a:lnTo>
                    <a:pt x="48" y="1350"/>
                  </a:lnTo>
                  <a:lnTo>
                    <a:pt x="269" y="1606"/>
                  </a:lnTo>
                  <a:lnTo>
                    <a:pt x="39" y="1381"/>
                  </a:lnTo>
                  <a:lnTo>
                    <a:pt x="0" y="1196"/>
                  </a:lnTo>
                  <a:lnTo>
                    <a:pt x="13" y="1010"/>
                  </a:lnTo>
                  <a:lnTo>
                    <a:pt x="101" y="878"/>
                  </a:lnTo>
                  <a:lnTo>
                    <a:pt x="177" y="8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56680" y="1214280"/>
              <a:ext cx="405000" cy="560880"/>
            </a:xfrm>
            <a:custGeom>
              <a:avLst/>
              <a:gdLst/>
              <a:ahLst/>
              <a:rect l="0" t="0" r="r" b="b"/>
              <a:pathLst>
                <a:path w="1125" h="1558">
                  <a:moveTo>
                    <a:pt x="308" y="0"/>
                  </a:moveTo>
                  <a:lnTo>
                    <a:pt x="379" y="48"/>
                  </a:lnTo>
                  <a:lnTo>
                    <a:pt x="396" y="180"/>
                  </a:lnTo>
                  <a:lnTo>
                    <a:pt x="396" y="304"/>
                  </a:lnTo>
                  <a:lnTo>
                    <a:pt x="268" y="530"/>
                  </a:lnTo>
                  <a:lnTo>
                    <a:pt x="299" y="697"/>
                  </a:lnTo>
                  <a:lnTo>
                    <a:pt x="680" y="874"/>
                  </a:lnTo>
                  <a:lnTo>
                    <a:pt x="1121" y="1369"/>
                  </a:lnTo>
                  <a:lnTo>
                    <a:pt x="1125" y="1496"/>
                  </a:lnTo>
                  <a:lnTo>
                    <a:pt x="1094" y="1558"/>
                  </a:lnTo>
                  <a:lnTo>
                    <a:pt x="940" y="1558"/>
                  </a:lnTo>
                  <a:lnTo>
                    <a:pt x="790" y="1461"/>
                  </a:lnTo>
                  <a:lnTo>
                    <a:pt x="666" y="1302"/>
                  </a:lnTo>
                  <a:lnTo>
                    <a:pt x="605" y="1210"/>
                  </a:lnTo>
                  <a:lnTo>
                    <a:pt x="520" y="1192"/>
                  </a:lnTo>
                  <a:lnTo>
                    <a:pt x="618" y="1192"/>
                  </a:lnTo>
                  <a:lnTo>
                    <a:pt x="807" y="1452"/>
                  </a:lnTo>
                  <a:lnTo>
                    <a:pt x="1041" y="1523"/>
                  </a:lnTo>
                  <a:lnTo>
                    <a:pt x="1085" y="1452"/>
                  </a:lnTo>
                  <a:lnTo>
                    <a:pt x="1059" y="1329"/>
                  </a:lnTo>
                  <a:lnTo>
                    <a:pt x="649" y="975"/>
                  </a:lnTo>
                  <a:lnTo>
                    <a:pt x="591" y="874"/>
                  </a:lnTo>
                  <a:lnTo>
                    <a:pt x="268" y="790"/>
                  </a:lnTo>
                  <a:lnTo>
                    <a:pt x="216" y="874"/>
                  </a:lnTo>
                  <a:lnTo>
                    <a:pt x="0" y="1024"/>
                  </a:lnTo>
                  <a:lnTo>
                    <a:pt x="207" y="852"/>
                  </a:lnTo>
                  <a:lnTo>
                    <a:pt x="216" y="741"/>
                  </a:lnTo>
                  <a:lnTo>
                    <a:pt x="216" y="499"/>
                  </a:lnTo>
                  <a:lnTo>
                    <a:pt x="361" y="304"/>
                  </a:lnTo>
                  <a:lnTo>
                    <a:pt x="361" y="66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83600" y="1655640"/>
              <a:ext cx="343440" cy="332280"/>
            </a:xfrm>
            <a:custGeom>
              <a:avLst/>
              <a:gdLst/>
              <a:ahLst/>
              <a:rect l="0" t="0" r="r" b="b"/>
              <a:pathLst>
                <a:path w="954" h="923">
                  <a:moveTo>
                    <a:pt x="710" y="0"/>
                  </a:moveTo>
                  <a:lnTo>
                    <a:pt x="693" y="74"/>
                  </a:lnTo>
                  <a:lnTo>
                    <a:pt x="831" y="380"/>
                  </a:lnTo>
                  <a:lnTo>
                    <a:pt x="905" y="694"/>
                  </a:lnTo>
                  <a:lnTo>
                    <a:pt x="822" y="694"/>
                  </a:lnTo>
                  <a:lnTo>
                    <a:pt x="680" y="556"/>
                  </a:lnTo>
                  <a:lnTo>
                    <a:pt x="552" y="269"/>
                  </a:lnTo>
                  <a:lnTo>
                    <a:pt x="446" y="224"/>
                  </a:lnTo>
                  <a:lnTo>
                    <a:pt x="464" y="380"/>
                  </a:lnTo>
                  <a:lnTo>
                    <a:pt x="561" y="494"/>
                  </a:lnTo>
                  <a:lnTo>
                    <a:pt x="561" y="720"/>
                  </a:lnTo>
                  <a:lnTo>
                    <a:pt x="490" y="875"/>
                  </a:lnTo>
                  <a:lnTo>
                    <a:pt x="397" y="817"/>
                  </a:lnTo>
                  <a:lnTo>
                    <a:pt x="296" y="556"/>
                  </a:lnTo>
                  <a:lnTo>
                    <a:pt x="265" y="380"/>
                  </a:lnTo>
                  <a:lnTo>
                    <a:pt x="207" y="331"/>
                  </a:lnTo>
                  <a:lnTo>
                    <a:pt x="185" y="778"/>
                  </a:lnTo>
                  <a:lnTo>
                    <a:pt x="101" y="844"/>
                  </a:lnTo>
                  <a:lnTo>
                    <a:pt x="26" y="778"/>
                  </a:lnTo>
                  <a:lnTo>
                    <a:pt x="8" y="397"/>
                  </a:lnTo>
                  <a:lnTo>
                    <a:pt x="0" y="773"/>
                  </a:lnTo>
                  <a:lnTo>
                    <a:pt x="61" y="905"/>
                  </a:lnTo>
                  <a:lnTo>
                    <a:pt x="185" y="905"/>
                  </a:lnTo>
                  <a:lnTo>
                    <a:pt x="229" y="800"/>
                  </a:lnTo>
                  <a:lnTo>
                    <a:pt x="256" y="455"/>
                  </a:lnTo>
                  <a:lnTo>
                    <a:pt x="274" y="591"/>
                  </a:lnTo>
                  <a:lnTo>
                    <a:pt x="384" y="888"/>
                  </a:lnTo>
                  <a:lnTo>
                    <a:pt x="499" y="923"/>
                  </a:lnTo>
                  <a:lnTo>
                    <a:pt x="591" y="800"/>
                  </a:lnTo>
                  <a:lnTo>
                    <a:pt x="591" y="508"/>
                  </a:lnTo>
                  <a:lnTo>
                    <a:pt x="822" y="751"/>
                  </a:lnTo>
                  <a:lnTo>
                    <a:pt x="945" y="751"/>
                  </a:lnTo>
                  <a:lnTo>
                    <a:pt x="954" y="591"/>
                  </a:lnTo>
                  <a:lnTo>
                    <a:pt x="870" y="296"/>
                  </a:lnTo>
                  <a:lnTo>
                    <a:pt x="710" y="66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91480" y="1311120"/>
              <a:ext cx="1532160" cy="1354320"/>
            </a:xfrm>
            <a:custGeom>
              <a:avLst/>
              <a:gdLst/>
              <a:ahLst/>
              <a:rect l="0" t="0" r="r" b="b"/>
              <a:pathLst>
                <a:path w="4256" h="3762">
                  <a:moveTo>
                    <a:pt x="1534" y="321"/>
                  </a:moveTo>
                  <a:lnTo>
                    <a:pt x="1455" y="330"/>
                  </a:lnTo>
                  <a:lnTo>
                    <a:pt x="1336" y="520"/>
                  </a:lnTo>
                  <a:lnTo>
                    <a:pt x="1292" y="383"/>
                  </a:lnTo>
                  <a:lnTo>
                    <a:pt x="1155" y="304"/>
                  </a:lnTo>
                  <a:lnTo>
                    <a:pt x="1053" y="366"/>
                  </a:lnTo>
                  <a:lnTo>
                    <a:pt x="1014" y="604"/>
                  </a:lnTo>
                  <a:lnTo>
                    <a:pt x="630" y="903"/>
                  </a:lnTo>
                  <a:lnTo>
                    <a:pt x="652" y="1031"/>
                  </a:lnTo>
                  <a:lnTo>
                    <a:pt x="564" y="1146"/>
                  </a:lnTo>
                  <a:lnTo>
                    <a:pt x="564" y="1247"/>
                  </a:lnTo>
                  <a:lnTo>
                    <a:pt x="670" y="1525"/>
                  </a:lnTo>
                  <a:lnTo>
                    <a:pt x="683" y="1874"/>
                  </a:lnTo>
                  <a:lnTo>
                    <a:pt x="604" y="2205"/>
                  </a:lnTo>
                  <a:lnTo>
                    <a:pt x="335" y="2399"/>
                  </a:lnTo>
                  <a:lnTo>
                    <a:pt x="299" y="2668"/>
                  </a:lnTo>
                  <a:lnTo>
                    <a:pt x="211" y="2668"/>
                  </a:lnTo>
                  <a:lnTo>
                    <a:pt x="171" y="2448"/>
                  </a:lnTo>
                  <a:lnTo>
                    <a:pt x="88" y="2448"/>
                  </a:lnTo>
                  <a:lnTo>
                    <a:pt x="48" y="2686"/>
                  </a:lnTo>
                  <a:lnTo>
                    <a:pt x="0" y="2748"/>
                  </a:lnTo>
                  <a:lnTo>
                    <a:pt x="185" y="3070"/>
                  </a:lnTo>
                  <a:lnTo>
                    <a:pt x="326" y="3087"/>
                  </a:lnTo>
                  <a:lnTo>
                    <a:pt x="564" y="3325"/>
                  </a:lnTo>
                  <a:lnTo>
                    <a:pt x="780" y="3352"/>
                  </a:lnTo>
                  <a:lnTo>
                    <a:pt x="899" y="3228"/>
                  </a:lnTo>
                  <a:lnTo>
                    <a:pt x="1199" y="2765"/>
                  </a:lnTo>
                  <a:lnTo>
                    <a:pt x="1221" y="3392"/>
                  </a:lnTo>
                  <a:lnTo>
                    <a:pt x="1199" y="3762"/>
                  </a:lnTo>
                  <a:lnTo>
                    <a:pt x="3661" y="3762"/>
                  </a:lnTo>
                  <a:lnTo>
                    <a:pt x="3480" y="3352"/>
                  </a:lnTo>
                  <a:lnTo>
                    <a:pt x="3383" y="3004"/>
                  </a:lnTo>
                  <a:lnTo>
                    <a:pt x="3365" y="2488"/>
                  </a:lnTo>
                  <a:lnTo>
                    <a:pt x="3506" y="2607"/>
                  </a:lnTo>
                  <a:lnTo>
                    <a:pt x="3661" y="2607"/>
                  </a:lnTo>
                  <a:lnTo>
                    <a:pt x="3855" y="2470"/>
                  </a:lnTo>
                  <a:lnTo>
                    <a:pt x="3996" y="2448"/>
                  </a:lnTo>
                  <a:lnTo>
                    <a:pt x="4075" y="2311"/>
                  </a:lnTo>
                  <a:lnTo>
                    <a:pt x="4132" y="1954"/>
                  </a:lnTo>
                  <a:lnTo>
                    <a:pt x="4256" y="1812"/>
                  </a:lnTo>
                  <a:lnTo>
                    <a:pt x="4190" y="1706"/>
                  </a:lnTo>
                  <a:lnTo>
                    <a:pt x="4102" y="1706"/>
                  </a:lnTo>
                  <a:lnTo>
                    <a:pt x="4031" y="1777"/>
                  </a:lnTo>
                  <a:lnTo>
                    <a:pt x="3956" y="1794"/>
                  </a:lnTo>
                  <a:lnTo>
                    <a:pt x="3872" y="1706"/>
                  </a:lnTo>
                  <a:lnTo>
                    <a:pt x="3762" y="1688"/>
                  </a:lnTo>
                  <a:lnTo>
                    <a:pt x="3572" y="1556"/>
                  </a:lnTo>
                  <a:lnTo>
                    <a:pt x="3449" y="1415"/>
                  </a:lnTo>
                  <a:lnTo>
                    <a:pt x="3427" y="1247"/>
                  </a:lnTo>
                  <a:lnTo>
                    <a:pt x="3449" y="1075"/>
                  </a:lnTo>
                  <a:lnTo>
                    <a:pt x="3533" y="943"/>
                  </a:lnTo>
                  <a:lnTo>
                    <a:pt x="3634" y="815"/>
                  </a:lnTo>
                  <a:lnTo>
                    <a:pt x="3625" y="599"/>
                  </a:lnTo>
                  <a:lnTo>
                    <a:pt x="3625" y="449"/>
                  </a:lnTo>
                  <a:lnTo>
                    <a:pt x="3572" y="330"/>
                  </a:lnTo>
                  <a:lnTo>
                    <a:pt x="3427" y="286"/>
                  </a:lnTo>
                  <a:lnTo>
                    <a:pt x="3374" y="255"/>
                  </a:lnTo>
                  <a:lnTo>
                    <a:pt x="3281" y="66"/>
                  </a:lnTo>
                  <a:lnTo>
                    <a:pt x="3193" y="17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32"/>
                  </a:lnTo>
                  <a:lnTo>
                    <a:pt x="2876" y="194"/>
                  </a:lnTo>
                  <a:lnTo>
                    <a:pt x="2770" y="207"/>
                  </a:lnTo>
                  <a:lnTo>
                    <a:pt x="2651" y="207"/>
                  </a:lnTo>
                  <a:lnTo>
                    <a:pt x="2673" y="396"/>
                  </a:lnTo>
                  <a:lnTo>
                    <a:pt x="2673" y="630"/>
                  </a:lnTo>
                  <a:lnTo>
                    <a:pt x="2651" y="784"/>
                  </a:lnTo>
                  <a:lnTo>
                    <a:pt x="2545" y="970"/>
                  </a:lnTo>
                  <a:lnTo>
                    <a:pt x="2413" y="1252"/>
                  </a:lnTo>
                  <a:lnTo>
                    <a:pt x="2307" y="1591"/>
                  </a:lnTo>
                  <a:lnTo>
                    <a:pt x="2302" y="1794"/>
                  </a:lnTo>
                  <a:lnTo>
                    <a:pt x="2249" y="1972"/>
                  </a:lnTo>
                  <a:lnTo>
                    <a:pt x="2188" y="2139"/>
                  </a:lnTo>
                  <a:lnTo>
                    <a:pt x="2157" y="2417"/>
                  </a:lnTo>
                  <a:lnTo>
                    <a:pt x="2174" y="2642"/>
                  </a:lnTo>
                  <a:lnTo>
                    <a:pt x="2249" y="2907"/>
                  </a:lnTo>
                  <a:lnTo>
                    <a:pt x="2302" y="3004"/>
                  </a:lnTo>
                  <a:lnTo>
                    <a:pt x="2157" y="3105"/>
                  </a:lnTo>
                  <a:lnTo>
                    <a:pt x="1988" y="3167"/>
                  </a:lnTo>
                  <a:lnTo>
                    <a:pt x="1794" y="3180"/>
                  </a:lnTo>
                  <a:lnTo>
                    <a:pt x="1675" y="3180"/>
                  </a:lnTo>
                  <a:lnTo>
                    <a:pt x="1605" y="3149"/>
                  </a:lnTo>
                  <a:lnTo>
                    <a:pt x="1605" y="2920"/>
                  </a:lnTo>
                  <a:lnTo>
                    <a:pt x="1605" y="2589"/>
                  </a:lnTo>
                  <a:lnTo>
                    <a:pt x="1552" y="2258"/>
                  </a:lnTo>
                  <a:lnTo>
                    <a:pt x="1481" y="1972"/>
                  </a:lnTo>
                  <a:lnTo>
                    <a:pt x="1441" y="1728"/>
                  </a:lnTo>
                  <a:lnTo>
                    <a:pt x="1433" y="1397"/>
                  </a:lnTo>
                  <a:lnTo>
                    <a:pt x="1481" y="1115"/>
                  </a:lnTo>
                  <a:lnTo>
                    <a:pt x="1552" y="877"/>
                  </a:lnTo>
                  <a:lnTo>
                    <a:pt x="1565" y="736"/>
                  </a:lnTo>
                  <a:lnTo>
                    <a:pt x="1534" y="537"/>
                  </a:lnTo>
                  <a:lnTo>
                    <a:pt x="1534" y="383"/>
                  </a:lnTo>
                  <a:lnTo>
                    <a:pt x="1552" y="330"/>
                  </a:lnTo>
                  <a:lnTo>
                    <a:pt x="1534" y="3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88360" y="1584360"/>
              <a:ext cx="194040" cy="879840"/>
            </a:xfrm>
            <a:custGeom>
              <a:avLst/>
              <a:gdLst/>
              <a:ahLst/>
              <a:rect l="0" t="0" r="r" b="b"/>
              <a:pathLst>
                <a:path w="539" h="2444">
                  <a:moveTo>
                    <a:pt x="212" y="26"/>
                  </a:moveTo>
                  <a:lnTo>
                    <a:pt x="70" y="110"/>
                  </a:lnTo>
                  <a:lnTo>
                    <a:pt x="83" y="339"/>
                  </a:lnTo>
                  <a:lnTo>
                    <a:pt x="195" y="410"/>
                  </a:lnTo>
                  <a:lnTo>
                    <a:pt x="66" y="666"/>
                  </a:lnTo>
                  <a:lnTo>
                    <a:pt x="0" y="949"/>
                  </a:lnTo>
                  <a:lnTo>
                    <a:pt x="0" y="1218"/>
                  </a:lnTo>
                  <a:lnTo>
                    <a:pt x="66" y="1465"/>
                  </a:lnTo>
                  <a:lnTo>
                    <a:pt x="114" y="1764"/>
                  </a:lnTo>
                  <a:lnTo>
                    <a:pt x="114" y="1933"/>
                  </a:lnTo>
                  <a:lnTo>
                    <a:pt x="66" y="2145"/>
                  </a:lnTo>
                  <a:lnTo>
                    <a:pt x="278" y="2444"/>
                  </a:lnTo>
                  <a:lnTo>
                    <a:pt x="371" y="2392"/>
                  </a:lnTo>
                  <a:lnTo>
                    <a:pt x="429" y="2189"/>
                  </a:lnTo>
                  <a:lnTo>
                    <a:pt x="535" y="1920"/>
                  </a:lnTo>
                  <a:lnTo>
                    <a:pt x="539" y="1778"/>
                  </a:lnTo>
                  <a:lnTo>
                    <a:pt x="456" y="1513"/>
                  </a:lnTo>
                  <a:lnTo>
                    <a:pt x="349" y="1248"/>
                  </a:lnTo>
                  <a:lnTo>
                    <a:pt x="318" y="1063"/>
                  </a:lnTo>
                  <a:lnTo>
                    <a:pt x="318" y="887"/>
                  </a:lnTo>
                  <a:lnTo>
                    <a:pt x="349" y="728"/>
                  </a:lnTo>
                  <a:lnTo>
                    <a:pt x="429" y="533"/>
                  </a:lnTo>
                  <a:lnTo>
                    <a:pt x="429" y="458"/>
                  </a:lnTo>
                  <a:lnTo>
                    <a:pt x="393" y="374"/>
                  </a:lnTo>
                  <a:lnTo>
                    <a:pt x="495" y="277"/>
                  </a:lnTo>
                  <a:lnTo>
                    <a:pt x="495" y="189"/>
                  </a:lnTo>
                  <a:lnTo>
                    <a:pt x="349" y="0"/>
                  </a:lnTo>
                  <a:lnTo>
                    <a:pt x="469" y="189"/>
                  </a:lnTo>
                  <a:lnTo>
                    <a:pt x="469" y="264"/>
                  </a:lnTo>
                  <a:lnTo>
                    <a:pt x="367" y="339"/>
                  </a:lnTo>
                  <a:lnTo>
                    <a:pt x="407" y="458"/>
                  </a:lnTo>
                  <a:lnTo>
                    <a:pt x="393" y="533"/>
                  </a:lnTo>
                  <a:lnTo>
                    <a:pt x="292" y="759"/>
                  </a:lnTo>
                  <a:lnTo>
                    <a:pt x="278" y="984"/>
                  </a:lnTo>
                  <a:lnTo>
                    <a:pt x="300" y="1187"/>
                  </a:lnTo>
                  <a:lnTo>
                    <a:pt x="371" y="1478"/>
                  </a:lnTo>
                  <a:lnTo>
                    <a:pt x="456" y="1716"/>
                  </a:lnTo>
                  <a:lnTo>
                    <a:pt x="456" y="1902"/>
                  </a:lnTo>
                  <a:lnTo>
                    <a:pt x="407" y="2145"/>
                  </a:lnTo>
                  <a:lnTo>
                    <a:pt x="300" y="2392"/>
                  </a:lnTo>
                  <a:lnTo>
                    <a:pt x="177" y="2255"/>
                  </a:lnTo>
                  <a:lnTo>
                    <a:pt x="127" y="2145"/>
                  </a:lnTo>
                  <a:lnTo>
                    <a:pt x="137" y="1902"/>
                  </a:lnTo>
                  <a:lnTo>
                    <a:pt x="127" y="1663"/>
                  </a:lnTo>
                  <a:lnTo>
                    <a:pt x="66" y="1337"/>
                  </a:lnTo>
                  <a:lnTo>
                    <a:pt x="39" y="1121"/>
                  </a:lnTo>
                  <a:lnTo>
                    <a:pt x="66" y="869"/>
                  </a:lnTo>
                  <a:lnTo>
                    <a:pt x="114" y="636"/>
                  </a:lnTo>
                  <a:lnTo>
                    <a:pt x="225" y="392"/>
                  </a:lnTo>
                  <a:lnTo>
                    <a:pt x="127" y="291"/>
                  </a:lnTo>
                  <a:lnTo>
                    <a:pt x="114" y="123"/>
                  </a:lnTo>
                  <a:lnTo>
                    <a:pt x="212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40600" y="555480"/>
              <a:ext cx="305280" cy="429120"/>
            </a:xfrm>
            <a:custGeom>
              <a:avLst/>
              <a:gdLst/>
              <a:ahLst/>
              <a:rect l="0" t="0" r="r" b="b"/>
              <a:pathLst>
                <a:path w="848" h="1192">
                  <a:moveTo>
                    <a:pt x="141" y="305"/>
                  </a:moveTo>
                  <a:lnTo>
                    <a:pt x="265" y="277"/>
                  </a:lnTo>
                  <a:lnTo>
                    <a:pt x="389" y="286"/>
                  </a:lnTo>
                  <a:lnTo>
                    <a:pt x="481" y="336"/>
                  </a:lnTo>
                  <a:lnTo>
                    <a:pt x="543" y="402"/>
                  </a:lnTo>
                  <a:lnTo>
                    <a:pt x="565" y="464"/>
                  </a:lnTo>
                  <a:lnTo>
                    <a:pt x="565" y="525"/>
                  </a:lnTo>
                  <a:lnTo>
                    <a:pt x="538" y="561"/>
                  </a:lnTo>
                  <a:lnTo>
                    <a:pt x="481" y="596"/>
                  </a:lnTo>
                  <a:lnTo>
                    <a:pt x="419" y="596"/>
                  </a:lnTo>
                  <a:lnTo>
                    <a:pt x="344" y="578"/>
                  </a:lnTo>
                  <a:lnTo>
                    <a:pt x="265" y="530"/>
                  </a:lnTo>
                  <a:lnTo>
                    <a:pt x="211" y="486"/>
                  </a:lnTo>
                  <a:lnTo>
                    <a:pt x="185" y="640"/>
                  </a:lnTo>
                  <a:lnTo>
                    <a:pt x="141" y="741"/>
                  </a:lnTo>
                  <a:lnTo>
                    <a:pt x="0" y="998"/>
                  </a:lnTo>
                  <a:lnTo>
                    <a:pt x="207" y="1192"/>
                  </a:lnTo>
                  <a:lnTo>
                    <a:pt x="358" y="865"/>
                  </a:lnTo>
                  <a:lnTo>
                    <a:pt x="538" y="901"/>
                  </a:lnTo>
                  <a:lnTo>
                    <a:pt x="645" y="869"/>
                  </a:lnTo>
                  <a:lnTo>
                    <a:pt x="751" y="799"/>
                  </a:lnTo>
                  <a:lnTo>
                    <a:pt x="813" y="706"/>
                  </a:lnTo>
                  <a:lnTo>
                    <a:pt x="848" y="587"/>
                  </a:lnTo>
                  <a:lnTo>
                    <a:pt x="848" y="459"/>
                  </a:lnTo>
                  <a:lnTo>
                    <a:pt x="813" y="322"/>
                  </a:lnTo>
                  <a:lnTo>
                    <a:pt x="742" y="180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30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83360" y="973080"/>
              <a:ext cx="113040" cy="82800"/>
            </a:xfrm>
            <a:custGeom>
              <a:avLst/>
              <a:gdLst/>
              <a:ahLst/>
              <a:rect l="0" t="0" r="r" b="b"/>
              <a:pathLst>
                <a:path w="314" h="230">
                  <a:moveTo>
                    <a:pt x="123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0"/>
                  </a:lnTo>
                  <a:lnTo>
                    <a:pt x="66" y="199"/>
                  </a:lnTo>
                  <a:lnTo>
                    <a:pt x="190" y="230"/>
                  </a:lnTo>
                  <a:lnTo>
                    <a:pt x="283" y="225"/>
                  </a:lnTo>
                  <a:lnTo>
                    <a:pt x="314" y="172"/>
                  </a:lnTo>
                  <a:lnTo>
                    <a:pt x="296" y="128"/>
                  </a:lnTo>
                  <a:lnTo>
                    <a:pt x="252" y="61"/>
                  </a:lnTo>
                  <a:lnTo>
                    <a:pt x="177" y="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800280" y="838080"/>
            <a:ext cx="7962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unication Through Financial Stat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2666880" y="274320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four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mportance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Stat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990720" y="175248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the primary means of communicating important accounting information to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represent models of the business enterprise because they show the business in financial te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not perfect pictures of the real 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066680" y="19810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“is not an end in itself,” but is an information system that measures, processes, and communicates financial information about an identifiable economic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66680" y="22860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990720" y="4572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ncome Stat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066680" y="1600200"/>
            <a:ext cx="7418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mmarizes revenues earned expenses incurre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ver a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considered by many to be the most important financial report because it shows whether a business achieved its profitability goal of earning an acceptable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1270080" y="633240"/>
            <a:ext cx="7316640" cy="182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[Entity]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Shannon Realty </a:t>
            </a:r>
            <a:br>
              <a:rPr sz="32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[Title]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ncome Statement</a:t>
            </a:r>
            <a:br>
              <a:rPr sz="32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[Period]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For the Month Ended December 31, 20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80880" y="2057400"/>
            <a:ext cx="8394840" cy="4395600"/>
            <a:chOff x="380880" y="2057400"/>
            <a:chExt cx="8394840" cy="4395600"/>
          </a:xfrm>
        </p:grpSpPr>
        <p:sp>
          <p:nvSpPr>
            <p:cNvPr id="654" name=""/>
            <p:cNvSpPr/>
            <p:nvPr/>
          </p:nvSpPr>
          <p:spPr>
            <a:xfrm>
              <a:off x="380880" y="2224080"/>
              <a:ext cx="59324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3192480" y="5614920"/>
              <a:ext cx="3316320" cy="8380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Trace to Statement 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wner’s Equit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710400" y="5567400"/>
              <a:ext cx="792000" cy="44928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853920" y="2057400"/>
              <a:ext cx="7921800" cy="319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venues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Commissions Earned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3,5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xpenses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Equipment Rental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1,000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Wages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400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Utilities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300</a:t>
              </a:r>
              <a:br>
                <a:rPr sz="18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Total Expenses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1,700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et Income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1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43640" y="5257800"/>
              <a:ext cx="901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43640" y="5334120"/>
              <a:ext cx="901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1371600" y="609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 Owner’s Equ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676520" y="2438280"/>
            <a:ext cx="651348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the changes in owner’s equity over a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838080" y="304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Owner’s Equi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351080" y="2890800"/>
            <a:ext cx="6565680" cy="3125880"/>
            <a:chOff x="1351080" y="2890800"/>
            <a:chExt cx="6565680" cy="3125880"/>
          </a:xfrm>
        </p:grpSpPr>
        <p:grpSp>
          <p:nvGrpSpPr>
            <p:cNvPr id="664" name=""/>
            <p:cNvGrpSpPr/>
            <p:nvPr/>
          </p:nvGrpSpPr>
          <p:grpSpPr>
            <a:xfrm>
              <a:off x="1351080" y="2890800"/>
              <a:ext cx="6565680" cy="3125880"/>
              <a:chOff x="1351080" y="2890800"/>
              <a:chExt cx="6565680" cy="3125880"/>
            </a:xfrm>
          </p:grpSpPr>
          <p:sp>
            <p:nvSpPr>
              <p:cNvPr id="665" name=""/>
              <p:cNvSpPr txBox="1"/>
              <p:nvPr/>
            </p:nvSpPr>
            <p:spPr>
              <a:xfrm>
                <a:off x="1351080" y="2890800"/>
                <a:ext cx="348948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wner’s Capital, 12/1/x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 txBox="1"/>
              <p:nvPr/>
            </p:nvSpPr>
            <p:spPr>
              <a:xfrm>
                <a:off x="6815160" y="2890800"/>
                <a:ext cx="110160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$         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 txBox="1"/>
              <p:nvPr/>
            </p:nvSpPr>
            <p:spPr>
              <a:xfrm>
                <a:off x="1351080" y="3265560"/>
                <a:ext cx="367524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et Income for the Month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>
                <a:off x="6815160" y="3265560"/>
                <a:ext cx="110160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   </a:t>
                </a: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1,8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 txBox="1"/>
              <p:nvPr/>
            </p:nvSpPr>
            <p:spPr>
              <a:xfrm>
                <a:off x="1351080" y="3638520"/>
                <a:ext cx="12193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btota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 txBox="1"/>
              <p:nvPr/>
            </p:nvSpPr>
            <p:spPr>
              <a:xfrm>
                <a:off x="6815160" y="3638520"/>
                <a:ext cx="110160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$  1,8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>
                <a:off x="1351080" y="4011480"/>
                <a:ext cx="257508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ess Withdrawal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6815160" y="4011480"/>
                <a:ext cx="110160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      </a:t>
                </a: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6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 txBox="1"/>
              <p:nvPr/>
            </p:nvSpPr>
            <p:spPr>
              <a:xfrm>
                <a:off x="1351080" y="4384800"/>
                <a:ext cx="365904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wner’s Capital, 12/31/x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 txBox="1"/>
              <p:nvPr/>
            </p:nvSpPr>
            <p:spPr>
              <a:xfrm>
                <a:off x="6815160" y="4384800"/>
                <a:ext cx="110160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$  1,2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 txBox="1"/>
              <p:nvPr/>
            </p:nvSpPr>
            <p:spPr>
              <a:xfrm>
                <a:off x="2967120" y="5178600"/>
                <a:ext cx="3841920" cy="838080"/>
              </a:xfrm>
              <a:prstGeom prst="rect">
                <a:avLst/>
              </a:prstGeom>
              <a:noFill/>
              <a:ln w="12600">
                <a:solidFill>
                  <a:srgbClr val="fcffd8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cffd8"/>
                    </a:solidFill>
                    <a:latin typeface="Arial"/>
                    <a:ea typeface="Arial"/>
                  </a:rPr>
                  <a:t>Trace to Owner’s Equ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cffd8"/>
                    </a:solidFill>
                    <a:latin typeface="Arial"/>
                    <a:ea typeface="Arial"/>
                  </a:rPr>
                  <a:t>Section of Balance Shee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86440" y="4786200"/>
                <a:ext cx="1009800" cy="0"/>
              </a:xfrm>
              <a:prstGeom prst="line">
                <a:avLst/>
              </a:prstGeom>
              <a:ln w="25560">
                <a:solidFill>
                  <a:srgbClr val="fff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886440" y="4862520"/>
                <a:ext cx="1009800" cy="0"/>
              </a:xfrm>
              <a:prstGeom prst="line">
                <a:avLst/>
              </a:prstGeom>
              <a:ln w="25560">
                <a:solidFill>
                  <a:srgbClr val="fff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 flipV="1">
              <a:off x="6967440" y="5032440"/>
              <a:ext cx="533520" cy="54612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533520" y="30492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alance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6668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financial positio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a point i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often called the statement of financial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sents a view of the business as the holder of resources, or assets, that are equal to the claims against thos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1589040" y="533520"/>
            <a:ext cx="664056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Balance Sheet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 of 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295280" y="2133720"/>
            <a:ext cx="736776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$15,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R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ppli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and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1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ilding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Asse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$51,800   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023240" y="5791320"/>
            <a:ext cx="12063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023240" y="5867280"/>
            <a:ext cx="12063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1654200" y="304920"/>
            <a:ext cx="6651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Balance Sheet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 of December 31, 19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295280" y="2362320"/>
            <a:ext cx="73152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LI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P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$     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OWNER’S EQU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John Shannon, Capital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51,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Liabilities and OE                 $51,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939000" y="5486400"/>
            <a:ext cx="13590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939000" y="5562720"/>
            <a:ext cx="13590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533520" y="22860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762120" y="121932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cuses on a company’s liquidity go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cash produced by operating a business as well as important financing and investing transactions that take place during an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derived from the income statement an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directly related to the other three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1295280" y="304920"/>
            <a:ext cx="708660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Cash Flows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 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90720" y="2514600"/>
            <a:ext cx="65041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990720" y="3048120"/>
            <a:ext cx="7866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1,800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oncash Expenses and Revenues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Included in Income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Increase in A/R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($1,000)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Increase in Suppl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(500)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Increase in A/P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  600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(9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Operating Activit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$900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1447920" y="380880"/>
            <a:ext cx="69343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Cash Flows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 December 31, 19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066680" y="2895480"/>
            <a:ext cx="7631280" cy="2659320"/>
            <a:chOff x="1066680" y="2895480"/>
            <a:chExt cx="7631280" cy="2659320"/>
          </a:xfrm>
        </p:grpSpPr>
        <p:sp>
          <p:nvSpPr>
            <p:cNvPr id="696" name=""/>
            <p:cNvSpPr txBox="1"/>
            <p:nvPr/>
          </p:nvSpPr>
          <p:spPr>
            <a:xfrm>
              <a:off x="1066680" y="3581280"/>
              <a:ext cx="29541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 of Land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5867280" y="3581280"/>
              <a:ext cx="1413000" cy="73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$10,000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1066680" y="4043520"/>
              <a:ext cx="34862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 of Building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5899320" y="4043520"/>
              <a:ext cx="1413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25,000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1066680" y="4495680"/>
              <a:ext cx="3835440" cy="79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 Cash Flows from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vesting Activitie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7467480" y="4816440"/>
              <a:ext cx="1230480" cy="73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35,000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 txBox="1"/>
            <p:nvPr/>
          </p:nvSpPr>
          <p:spPr>
            <a:xfrm>
              <a:off x="1066680" y="2895480"/>
              <a:ext cx="638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Flows from Investing Activit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066680" y="1905120"/>
            <a:ext cx="76960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provides a vital service by supplying the information decision makers need to make “reasoned choices among alternative uses of scarce resources in the conduct of  business and economic activiti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66680" y="22860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1371600" y="304920"/>
            <a:ext cx="693432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Cash Flows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 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981080" y="3276720"/>
            <a:ext cx="5946840" cy="3005280"/>
            <a:chOff x="1981080" y="3276720"/>
            <a:chExt cx="5946840" cy="3005280"/>
          </a:xfrm>
        </p:grpSpPr>
        <p:sp>
          <p:nvSpPr>
            <p:cNvPr id="705" name=""/>
            <p:cNvSpPr txBox="1"/>
            <p:nvPr/>
          </p:nvSpPr>
          <p:spPr>
            <a:xfrm>
              <a:off x="1981080" y="3276720"/>
              <a:ext cx="2781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vestments by Own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5943600" y="3276720"/>
              <a:ext cx="91764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$5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1981080" y="3643200"/>
              <a:ext cx="1566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thdrawa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5923080" y="3643200"/>
              <a:ext cx="1015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(600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1981080" y="4035600"/>
              <a:ext cx="31050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 Cash Flows fro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nancing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 txBox="1"/>
            <p:nvPr/>
          </p:nvSpPr>
          <p:spPr>
            <a:xfrm>
              <a:off x="7010280" y="4343400"/>
              <a:ext cx="91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49,4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2057400" y="4876920"/>
              <a:ext cx="386856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 Increase (Decrease) in Ca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7010280" y="4876920"/>
              <a:ext cx="91764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$15,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>
              <a:off x="1981080" y="5257800"/>
              <a:ext cx="3443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sh at Beginning of Mont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7010280" y="5257800"/>
              <a:ext cx="91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         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1981080" y="5715000"/>
              <a:ext cx="2681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sh at End of Mont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 txBox="1"/>
            <p:nvPr/>
          </p:nvSpPr>
          <p:spPr>
            <a:xfrm>
              <a:off x="7010280" y="5715000"/>
              <a:ext cx="91764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$15,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7" name=""/>
          <p:cNvSpPr txBox="1"/>
          <p:nvPr/>
        </p:nvSpPr>
        <p:spPr>
          <a:xfrm>
            <a:off x="1295280" y="2514600"/>
            <a:ext cx="65041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Financing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023240" y="6019920"/>
            <a:ext cx="901440" cy="0"/>
          </a:xfrm>
          <a:prstGeom prst="line">
            <a:avLst/>
          </a:prstGeom>
          <a:ln w="12600">
            <a:solidFill>
              <a:srgbClr val="ff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023240" y="6095880"/>
            <a:ext cx="901440" cy="0"/>
          </a:xfrm>
          <a:prstGeom prst="line">
            <a:avLst/>
          </a:prstGeom>
          <a:ln w="12600">
            <a:solidFill>
              <a:srgbClr val="ff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76212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is the balance sheet sometim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led the statement of financi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osi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position consists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that belong to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 and the claims agains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resources as of a certain date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is the information shown o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905120" y="76212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7010280" y="228600"/>
            <a:ext cx="1751400" cy="1751400"/>
            <a:chOff x="7010280" y="228600"/>
            <a:chExt cx="1751400" cy="1751400"/>
          </a:xfrm>
        </p:grpSpPr>
        <p:sp>
          <p:nvSpPr>
            <p:cNvPr id="723" name=""/>
            <p:cNvSpPr/>
            <p:nvPr/>
          </p:nvSpPr>
          <p:spPr>
            <a:xfrm>
              <a:off x="7015320" y="1087560"/>
              <a:ext cx="425880" cy="613080"/>
            </a:xfrm>
            <a:custGeom>
              <a:avLst/>
              <a:gdLst/>
              <a:ahLst/>
              <a:rect l="0" t="0" r="r" b="b"/>
              <a:pathLst>
                <a:path w="1183" h="1703">
                  <a:moveTo>
                    <a:pt x="472" y="0"/>
                  </a:moveTo>
                  <a:lnTo>
                    <a:pt x="411" y="74"/>
                  </a:lnTo>
                  <a:lnTo>
                    <a:pt x="411" y="295"/>
                  </a:lnTo>
                  <a:lnTo>
                    <a:pt x="472" y="458"/>
                  </a:lnTo>
                  <a:lnTo>
                    <a:pt x="543" y="537"/>
                  </a:lnTo>
                  <a:lnTo>
                    <a:pt x="437" y="648"/>
                  </a:lnTo>
                  <a:lnTo>
                    <a:pt x="295" y="896"/>
                  </a:lnTo>
                  <a:lnTo>
                    <a:pt x="22" y="1288"/>
                  </a:lnTo>
                  <a:lnTo>
                    <a:pt x="0" y="1381"/>
                  </a:lnTo>
                  <a:lnTo>
                    <a:pt x="22" y="1460"/>
                  </a:lnTo>
                  <a:lnTo>
                    <a:pt x="110" y="1460"/>
                  </a:lnTo>
                  <a:lnTo>
                    <a:pt x="180" y="1368"/>
                  </a:lnTo>
                  <a:lnTo>
                    <a:pt x="295" y="1147"/>
                  </a:lnTo>
                  <a:lnTo>
                    <a:pt x="367" y="1054"/>
                  </a:lnTo>
                  <a:lnTo>
                    <a:pt x="411" y="1200"/>
                  </a:lnTo>
                  <a:lnTo>
                    <a:pt x="380" y="1354"/>
                  </a:lnTo>
                  <a:lnTo>
                    <a:pt x="264" y="1579"/>
                  </a:lnTo>
                  <a:lnTo>
                    <a:pt x="295" y="1632"/>
                  </a:lnTo>
                  <a:lnTo>
                    <a:pt x="367" y="1619"/>
                  </a:lnTo>
                  <a:lnTo>
                    <a:pt x="512" y="1500"/>
                  </a:lnTo>
                  <a:lnTo>
                    <a:pt x="631" y="1301"/>
                  </a:lnTo>
                  <a:lnTo>
                    <a:pt x="631" y="1645"/>
                  </a:lnTo>
                  <a:lnTo>
                    <a:pt x="772" y="1703"/>
                  </a:lnTo>
                  <a:lnTo>
                    <a:pt x="852" y="1491"/>
                  </a:lnTo>
                  <a:lnTo>
                    <a:pt x="928" y="1689"/>
                  </a:lnTo>
                  <a:lnTo>
                    <a:pt x="985" y="1632"/>
                  </a:lnTo>
                  <a:lnTo>
                    <a:pt x="1011" y="1235"/>
                  </a:lnTo>
                  <a:lnTo>
                    <a:pt x="1183" y="865"/>
                  </a:lnTo>
                  <a:lnTo>
                    <a:pt x="1144" y="648"/>
                  </a:lnTo>
                  <a:lnTo>
                    <a:pt x="1025" y="568"/>
                  </a:lnTo>
                  <a:lnTo>
                    <a:pt x="897" y="577"/>
                  </a:lnTo>
                  <a:lnTo>
                    <a:pt x="852" y="401"/>
                  </a:lnTo>
                  <a:lnTo>
                    <a:pt x="724" y="366"/>
                  </a:lnTo>
                  <a:lnTo>
                    <a:pt x="609" y="308"/>
                  </a:lnTo>
                  <a:lnTo>
                    <a:pt x="543" y="39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372440" y="1336680"/>
              <a:ext cx="125640" cy="295560"/>
            </a:xfrm>
            <a:custGeom>
              <a:avLst/>
              <a:gdLst/>
              <a:ahLst/>
              <a:rect l="0" t="0" r="r" b="b"/>
              <a:pathLst>
                <a:path w="349" h="821">
                  <a:moveTo>
                    <a:pt x="177" y="0"/>
                  </a:moveTo>
                  <a:lnTo>
                    <a:pt x="349" y="211"/>
                  </a:lnTo>
                  <a:lnTo>
                    <a:pt x="265" y="675"/>
                  </a:lnTo>
                  <a:lnTo>
                    <a:pt x="0" y="821"/>
                  </a:lnTo>
                  <a:lnTo>
                    <a:pt x="0" y="587"/>
                  </a:lnTo>
                  <a:lnTo>
                    <a:pt x="105" y="348"/>
                  </a:lnTo>
                  <a:lnTo>
                    <a:pt x="177" y="17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186760" y="1166760"/>
              <a:ext cx="313200" cy="267120"/>
            </a:xfrm>
            <a:custGeom>
              <a:avLst/>
              <a:gdLst/>
              <a:ahLst/>
              <a:rect l="0" t="0" r="r" b="b"/>
              <a:pathLst>
                <a:path w="870" h="742">
                  <a:moveTo>
                    <a:pt x="358" y="0"/>
                  </a:moveTo>
                  <a:lnTo>
                    <a:pt x="358" y="119"/>
                  </a:lnTo>
                  <a:lnTo>
                    <a:pt x="389" y="225"/>
                  </a:lnTo>
                  <a:lnTo>
                    <a:pt x="556" y="402"/>
                  </a:lnTo>
                  <a:lnTo>
                    <a:pt x="870" y="503"/>
                  </a:lnTo>
                  <a:lnTo>
                    <a:pt x="826" y="729"/>
                  </a:lnTo>
                  <a:lnTo>
                    <a:pt x="556" y="742"/>
                  </a:lnTo>
                  <a:lnTo>
                    <a:pt x="167" y="584"/>
                  </a:lnTo>
                  <a:lnTo>
                    <a:pt x="0" y="296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312040" y="863640"/>
              <a:ext cx="438480" cy="589320"/>
            </a:xfrm>
            <a:custGeom>
              <a:avLst/>
              <a:gdLst/>
              <a:ahLst/>
              <a:rect l="0" t="0" r="r" b="b"/>
              <a:pathLst>
                <a:path w="1218" h="1637">
                  <a:moveTo>
                    <a:pt x="110" y="692"/>
                  </a:moveTo>
                  <a:lnTo>
                    <a:pt x="0" y="811"/>
                  </a:lnTo>
                  <a:lnTo>
                    <a:pt x="22" y="1076"/>
                  </a:lnTo>
                  <a:lnTo>
                    <a:pt x="194" y="1200"/>
                  </a:lnTo>
                  <a:lnTo>
                    <a:pt x="207" y="1606"/>
                  </a:lnTo>
                  <a:lnTo>
                    <a:pt x="379" y="1606"/>
                  </a:lnTo>
                  <a:lnTo>
                    <a:pt x="366" y="1266"/>
                  </a:lnTo>
                  <a:lnTo>
                    <a:pt x="493" y="1623"/>
                  </a:lnTo>
                  <a:lnTo>
                    <a:pt x="577" y="1637"/>
                  </a:lnTo>
                  <a:lnTo>
                    <a:pt x="640" y="1517"/>
                  </a:lnTo>
                  <a:lnTo>
                    <a:pt x="653" y="1293"/>
                  </a:lnTo>
                  <a:lnTo>
                    <a:pt x="838" y="1504"/>
                  </a:lnTo>
                  <a:lnTo>
                    <a:pt x="913" y="1487"/>
                  </a:lnTo>
                  <a:lnTo>
                    <a:pt x="896" y="1341"/>
                  </a:lnTo>
                  <a:lnTo>
                    <a:pt x="825" y="1134"/>
                  </a:lnTo>
                  <a:lnTo>
                    <a:pt x="755" y="997"/>
                  </a:lnTo>
                  <a:lnTo>
                    <a:pt x="781" y="904"/>
                  </a:lnTo>
                  <a:lnTo>
                    <a:pt x="825" y="922"/>
                  </a:lnTo>
                  <a:lnTo>
                    <a:pt x="997" y="1134"/>
                  </a:lnTo>
                  <a:lnTo>
                    <a:pt x="1178" y="1187"/>
                  </a:lnTo>
                  <a:lnTo>
                    <a:pt x="1218" y="1121"/>
                  </a:lnTo>
                  <a:lnTo>
                    <a:pt x="1191" y="1010"/>
                  </a:lnTo>
                  <a:lnTo>
                    <a:pt x="852" y="679"/>
                  </a:lnTo>
                  <a:lnTo>
                    <a:pt x="577" y="577"/>
                  </a:lnTo>
                  <a:lnTo>
                    <a:pt x="546" y="392"/>
                  </a:lnTo>
                  <a:lnTo>
                    <a:pt x="640" y="229"/>
                  </a:lnTo>
                  <a:lnTo>
                    <a:pt x="640" y="52"/>
                  </a:lnTo>
                  <a:lnTo>
                    <a:pt x="564" y="0"/>
                  </a:lnTo>
                  <a:lnTo>
                    <a:pt x="366" y="440"/>
                  </a:lnTo>
                  <a:lnTo>
                    <a:pt x="194" y="511"/>
                  </a:lnTo>
                  <a:lnTo>
                    <a:pt x="149" y="630"/>
                  </a:lnTo>
                  <a:lnTo>
                    <a:pt x="110" y="69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93120" y="352440"/>
              <a:ext cx="478080" cy="752760"/>
            </a:xfrm>
            <a:custGeom>
              <a:avLst/>
              <a:gdLst/>
              <a:ahLst/>
              <a:rect l="0" t="0" r="r" b="b"/>
              <a:pathLst>
                <a:path w="1328" h="2091">
                  <a:moveTo>
                    <a:pt x="330" y="291"/>
                  </a:moveTo>
                  <a:lnTo>
                    <a:pt x="233" y="692"/>
                  </a:lnTo>
                  <a:lnTo>
                    <a:pt x="13" y="771"/>
                  </a:lnTo>
                  <a:lnTo>
                    <a:pt x="74" y="895"/>
                  </a:lnTo>
                  <a:lnTo>
                    <a:pt x="0" y="974"/>
                  </a:lnTo>
                  <a:lnTo>
                    <a:pt x="0" y="1125"/>
                  </a:lnTo>
                  <a:lnTo>
                    <a:pt x="105" y="1253"/>
                  </a:lnTo>
                  <a:lnTo>
                    <a:pt x="207" y="1253"/>
                  </a:lnTo>
                  <a:lnTo>
                    <a:pt x="277" y="1720"/>
                  </a:lnTo>
                  <a:lnTo>
                    <a:pt x="361" y="1919"/>
                  </a:lnTo>
                  <a:lnTo>
                    <a:pt x="630" y="2091"/>
                  </a:lnTo>
                  <a:lnTo>
                    <a:pt x="904" y="2064"/>
                  </a:lnTo>
                  <a:lnTo>
                    <a:pt x="1032" y="1720"/>
                  </a:lnTo>
                  <a:lnTo>
                    <a:pt x="1063" y="1191"/>
                  </a:lnTo>
                  <a:lnTo>
                    <a:pt x="1328" y="926"/>
                  </a:lnTo>
                  <a:lnTo>
                    <a:pt x="1315" y="820"/>
                  </a:lnTo>
                  <a:lnTo>
                    <a:pt x="1284" y="771"/>
                  </a:lnTo>
                  <a:lnTo>
                    <a:pt x="1147" y="758"/>
                  </a:lnTo>
                  <a:lnTo>
                    <a:pt x="1191" y="621"/>
                  </a:lnTo>
                  <a:lnTo>
                    <a:pt x="1050" y="529"/>
                  </a:lnTo>
                  <a:lnTo>
                    <a:pt x="988" y="229"/>
                  </a:lnTo>
                  <a:lnTo>
                    <a:pt x="577" y="0"/>
                  </a:lnTo>
                  <a:lnTo>
                    <a:pt x="361" y="216"/>
                  </a:lnTo>
                  <a:lnTo>
                    <a:pt x="330" y="29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628040" y="981000"/>
              <a:ext cx="438480" cy="898920"/>
            </a:xfrm>
            <a:custGeom>
              <a:avLst/>
              <a:gdLst/>
              <a:ahLst/>
              <a:rect l="0" t="0" r="r" b="b"/>
              <a:pathLst>
                <a:path w="1218" h="2497">
                  <a:moveTo>
                    <a:pt x="251" y="132"/>
                  </a:moveTo>
                  <a:lnTo>
                    <a:pt x="423" y="251"/>
                  </a:lnTo>
                  <a:lnTo>
                    <a:pt x="507" y="383"/>
                  </a:lnTo>
                  <a:lnTo>
                    <a:pt x="997" y="0"/>
                  </a:lnTo>
                  <a:lnTo>
                    <a:pt x="1147" y="79"/>
                  </a:lnTo>
                  <a:lnTo>
                    <a:pt x="1218" y="471"/>
                  </a:lnTo>
                  <a:lnTo>
                    <a:pt x="865" y="1623"/>
                  </a:lnTo>
                  <a:lnTo>
                    <a:pt x="979" y="2259"/>
                  </a:lnTo>
                  <a:lnTo>
                    <a:pt x="520" y="2497"/>
                  </a:lnTo>
                  <a:lnTo>
                    <a:pt x="163" y="2361"/>
                  </a:lnTo>
                  <a:lnTo>
                    <a:pt x="163" y="1689"/>
                  </a:lnTo>
                  <a:lnTo>
                    <a:pt x="0" y="1037"/>
                  </a:lnTo>
                  <a:lnTo>
                    <a:pt x="163" y="251"/>
                  </a:lnTo>
                  <a:lnTo>
                    <a:pt x="251" y="1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47120" y="252360"/>
              <a:ext cx="410040" cy="238320"/>
            </a:xfrm>
            <a:custGeom>
              <a:avLst/>
              <a:gdLst/>
              <a:ahLst/>
              <a:rect l="0" t="0" r="r" b="b"/>
              <a:pathLst>
                <a:path w="1139" h="662">
                  <a:moveTo>
                    <a:pt x="141" y="631"/>
                  </a:moveTo>
                  <a:lnTo>
                    <a:pt x="309" y="455"/>
                  </a:lnTo>
                  <a:lnTo>
                    <a:pt x="415" y="428"/>
                  </a:lnTo>
                  <a:lnTo>
                    <a:pt x="415" y="446"/>
                  </a:lnTo>
                  <a:lnTo>
                    <a:pt x="468" y="428"/>
                  </a:lnTo>
                  <a:lnTo>
                    <a:pt x="538" y="481"/>
                  </a:lnTo>
                  <a:lnTo>
                    <a:pt x="671" y="508"/>
                  </a:lnTo>
                  <a:lnTo>
                    <a:pt x="781" y="662"/>
                  </a:lnTo>
                  <a:lnTo>
                    <a:pt x="958" y="596"/>
                  </a:lnTo>
                  <a:lnTo>
                    <a:pt x="958" y="525"/>
                  </a:lnTo>
                  <a:lnTo>
                    <a:pt x="1139" y="446"/>
                  </a:lnTo>
                  <a:lnTo>
                    <a:pt x="1086" y="321"/>
                  </a:lnTo>
                  <a:lnTo>
                    <a:pt x="919" y="308"/>
                  </a:lnTo>
                  <a:lnTo>
                    <a:pt x="945" y="171"/>
                  </a:lnTo>
                  <a:lnTo>
                    <a:pt x="799" y="189"/>
                  </a:lnTo>
                  <a:lnTo>
                    <a:pt x="772" y="92"/>
                  </a:lnTo>
                  <a:lnTo>
                    <a:pt x="671" y="92"/>
                  </a:lnTo>
                  <a:lnTo>
                    <a:pt x="600" y="145"/>
                  </a:lnTo>
                  <a:lnTo>
                    <a:pt x="538" y="145"/>
                  </a:lnTo>
                  <a:lnTo>
                    <a:pt x="552" y="0"/>
                  </a:lnTo>
                  <a:lnTo>
                    <a:pt x="415" y="66"/>
                  </a:lnTo>
                  <a:lnTo>
                    <a:pt x="224" y="308"/>
                  </a:lnTo>
                  <a:lnTo>
                    <a:pt x="211" y="145"/>
                  </a:lnTo>
                  <a:lnTo>
                    <a:pt x="114" y="224"/>
                  </a:lnTo>
                  <a:lnTo>
                    <a:pt x="88" y="428"/>
                  </a:lnTo>
                  <a:lnTo>
                    <a:pt x="0" y="393"/>
                  </a:lnTo>
                  <a:lnTo>
                    <a:pt x="13" y="525"/>
                  </a:lnTo>
                  <a:lnTo>
                    <a:pt x="141" y="63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758000" y="1147680"/>
              <a:ext cx="130680" cy="679680"/>
            </a:xfrm>
            <a:custGeom>
              <a:avLst/>
              <a:gdLst/>
              <a:ahLst/>
              <a:rect l="0" t="0" r="r" b="b"/>
              <a:pathLst>
                <a:path w="363" h="1888">
                  <a:moveTo>
                    <a:pt x="186" y="13"/>
                  </a:moveTo>
                  <a:lnTo>
                    <a:pt x="61" y="92"/>
                  </a:lnTo>
                  <a:lnTo>
                    <a:pt x="61" y="251"/>
                  </a:lnTo>
                  <a:lnTo>
                    <a:pt x="150" y="304"/>
                  </a:lnTo>
                  <a:lnTo>
                    <a:pt x="35" y="555"/>
                  </a:lnTo>
                  <a:lnTo>
                    <a:pt x="0" y="886"/>
                  </a:lnTo>
                  <a:lnTo>
                    <a:pt x="88" y="1323"/>
                  </a:lnTo>
                  <a:lnTo>
                    <a:pt x="88" y="1504"/>
                  </a:lnTo>
                  <a:lnTo>
                    <a:pt x="44" y="1645"/>
                  </a:lnTo>
                  <a:lnTo>
                    <a:pt x="230" y="1888"/>
                  </a:lnTo>
                  <a:lnTo>
                    <a:pt x="350" y="1522"/>
                  </a:lnTo>
                  <a:lnTo>
                    <a:pt x="350" y="1271"/>
                  </a:lnTo>
                  <a:lnTo>
                    <a:pt x="261" y="1032"/>
                  </a:lnTo>
                  <a:lnTo>
                    <a:pt x="217" y="714"/>
                  </a:lnTo>
                  <a:lnTo>
                    <a:pt x="306" y="401"/>
                  </a:lnTo>
                  <a:lnTo>
                    <a:pt x="279" y="277"/>
                  </a:lnTo>
                  <a:lnTo>
                    <a:pt x="363" y="216"/>
                  </a:lnTo>
                  <a:lnTo>
                    <a:pt x="350" y="132"/>
                  </a:lnTo>
                  <a:lnTo>
                    <a:pt x="243" y="0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53320" y="919080"/>
              <a:ext cx="105120" cy="62280"/>
            </a:xfrm>
            <a:custGeom>
              <a:avLst/>
              <a:gdLst/>
              <a:ahLst/>
              <a:rect l="0" t="0" r="r" b="b"/>
              <a:pathLst>
                <a:path w="292" h="173">
                  <a:moveTo>
                    <a:pt x="0" y="53"/>
                  </a:moveTo>
                  <a:lnTo>
                    <a:pt x="114" y="173"/>
                  </a:lnTo>
                  <a:lnTo>
                    <a:pt x="234" y="160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37400" y="604800"/>
              <a:ext cx="130680" cy="133560"/>
            </a:xfrm>
            <a:custGeom>
              <a:avLst/>
              <a:gdLst/>
              <a:ahLst/>
              <a:rect l="0" t="0" r="r" b="b"/>
              <a:pathLst>
                <a:path w="363" h="371">
                  <a:moveTo>
                    <a:pt x="0" y="39"/>
                  </a:moveTo>
                  <a:lnTo>
                    <a:pt x="252" y="371"/>
                  </a:lnTo>
                  <a:lnTo>
                    <a:pt x="363" y="344"/>
                  </a:lnTo>
                  <a:lnTo>
                    <a:pt x="10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67800" y="577800"/>
              <a:ext cx="113040" cy="132120"/>
            </a:xfrm>
            <a:custGeom>
              <a:avLst/>
              <a:gdLst/>
              <a:ahLst/>
              <a:rect l="0" t="0" r="r" b="b"/>
              <a:pathLst>
                <a:path w="314" h="367">
                  <a:moveTo>
                    <a:pt x="0" y="52"/>
                  </a:moveTo>
                  <a:lnTo>
                    <a:pt x="217" y="367"/>
                  </a:lnTo>
                  <a:lnTo>
                    <a:pt x="314" y="283"/>
                  </a:lnTo>
                  <a:lnTo>
                    <a:pt x="8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89880" y="406440"/>
              <a:ext cx="456120" cy="332280"/>
            </a:xfrm>
            <a:custGeom>
              <a:avLst/>
              <a:gdLst/>
              <a:ahLst/>
              <a:rect l="0" t="0" r="r" b="b"/>
              <a:pathLst>
                <a:path w="1267" h="923">
                  <a:moveTo>
                    <a:pt x="583" y="547"/>
                  </a:moveTo>
                  <a:lnTo>
                    <a:pt x="468" y="512"/>
                  </a:lnTo>
                  <a:lnTo>
                    <a:pt x="565" y="433"/>
                  </a:lnTo>
                  <a:lnTo>
                    <a:pt x="530" y="389"/>
                  </a:lnTo>
                  <a:lnTo>
                    <a:pt x="397" y="494"/>
                  </a:lnTo>
                  <a:lnTo>
                    <a:pt x="158" y="521"/>
                  </a:lnTo>
                  <a:lnTo>
                    <a:pt x="0" y="530"/>
                  </a:lnTo>
                  <a:lnTo>
                    <a:pt x="0" y="658"/>
                  </a:lnTo>
                  <a:lnTo>
                    <a:pt x="154" y="914"/>
                  </a:lnTo>
                  <a:lnTo>
                    <a:pt x="189" y="923"/>
                  </a:lnTo>
                  <a:lnTo>
                    <a:pt x="52" y="640"/>
                  </a:lnTo>
                  <a:lnTo>
                    <a:pt x="264" y="547"/>
                  </a:lnTo>
                  <a:lnTo>
                    <a:pt x="397" y="547"/>
                  </a:lnTo>
                  <a:lnTo>
                    <a:pt x="503" y="605"/>
                  </a:lnTo>
                  <a:lnTo>
                    <a:pt x="530" y="684"/>
                  </a:lnTo>
                  <a:lnTo>
                    <a:pt x="530" y="861"/>
                  </a:lnTo>
                  <a:lnTo>
                    <a:pt x="530" y="914"/>
                  </a:lnTo>
                  <a:lnTo>
                    <a:pt x="587" y="835"/>
                  </a:lnTo>
                  <a:lnTo>
                    <a:pt x="587" y="649"/>
                  </a:lnTo>
                  <a:lnTo>
                    <a:pt x="680" y="649"/>
                  </a:lnTo>
                  <a:lnTo>
                    <a:pt x="724" y="861"/>
                  </a:lnTo>
                  <a:lnTo>
                    <a:pt x="772" y="879"/>
                  </a:lnTo>
                  <a:lnTo>
                    <a:pt x="927" y="879"/>
                  </a:lnTo>
                  <a:lnTo>
                    <a:pt x="1082" y="839"/>
                  </a:lnTo>
                  <a:lnTo>
                    <a:pt x="1192" y="764"/>
                  </a:lnTo>
                  <a:lnTo>
                    <a:pt x="1210" y="574"/>
                  </a:lnTo>
                  <a:lnTo>
                    <a:pt x="1267" y="494"/>
                  </a:lnTo>
                  <a:lnTo>
                    <a:pt x="1232" y="446"/>
                  </a:lnTo>
                  <a:lnTo>
                    <a:pt x="1091" y="393"/>
                  </a:lnTo>
                  <a:lnTo>
                    <a:pt x="1069" y="207"/>
                  </a:lnTo>
                  <a:lnTo>
                    <a:pt x="935" y="207"/>
                  </a:lnTo>
                  <a:lnTo>
                    <a:pt x="777" y="0"/>
                  </a:lnTo>
                  <a:lnTo>
                    <a:pt x="922" y="229"/>
                  </a:lnTo>
                  <a:lnTo>
                    <a:pt x="967" y="229"/>
                  </a:lnTo>
                  <a:lnTo>
                    <a:pt x="998" y="389"/>
                  </a:lnTo>
                  <a:lnTo>
                    <a:pt x="816" y="446"/>
                  </a:lnTo>
                  <a:lnTo>
                    <a:pt x="688" y="402"/>
                  </a:lnTo>
                  <a:lnTo>
                    <a:pt x="671" y="446"/>
                  </a:lnTo>
                  <a:lnTo>
                    <a:pt x="737" y="494"/>
                  </a:lnTo>
                  <a:lnTo>
                    <a:pt x="737" y="538"/>
                  </a:lnTo>
                  <a:lnTo>
                    <a:pt x="891" y="468"/>
                  </a:lnTo>
                  <a:lnTo>
                    <a:pt x="1020" y="459"/>
                  </a:lnTo>
                  <a:lnTo>
                    <a:pt x="1161" y="477"/>
                  </a:lnTo>
                  <a:lnTo>
                    <a:pt x="1161" y="503"/>
                  </a:lnTo>
                  <a:lnTo>
                    <a:pt x="1095" y="565"/>
                  </a:lnTo>
                  <a:lnTo>
                    <a:pt x="1069" y="649"/>
                  </a:lnTo>
                  <a:lnTo>
                    <a:pt x="1064" y="764"/>
                  </a:lnTo>
                  <a:lnTo>
                    <a:pt x="980" y="808"/>
                  </a:lnTo>
                  <a:lnTo>
                    <a:pt x="856" y="822"/>
                  </a:lnTo>
                  <a:lnTo>
                    <a:pt x="772" y="822"/>
                  </a:lnTo>
                  <a:lnTo>
                    <a:pt x="741" y="791"/>
                  </a:lnTo>
                  <a:lnTo>
                    <a:pt x="724" y="574"/>
                  </a:lnTo>
                  <a:lnTo>
                    <a:pt x="587" y="574"/>
                  </a:lnTo>
                  <a:lnTo>
                    <a:pt x="583" y="5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746840" y="789120"/>
              <a:ext cx="147960" cy="68760"/>
            </a:xfrm>
            <a:custGeom>
              <a:avLst/>
              <a:gdLst/>
              <a:ahLst/>
              <a:rect l="0" t="0" r="r" b="b"/>
              <a:pathLst>
                <a:path w="411" h="191">
                  <a:moveTo>
                    <a:pt x="0" y="0"/>
                  </a:moveTo>
                  <a:lnTo>
                    <a:pt x="66" y="89"/>
                  </a:lnTo>
                  <a:lnTo>
                    <a:pt x="243" y="89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8"/>
                  </a:lnTo>
                  <a:lnTo>
                    <a:pt x="393" y="89"/>
                  </a:lnTo>
                  <a:lnTo>
                    <a:pt x="230" y="191"/>
                  </a:lnTo>
                  <a:lnTo>
                    <a:pt x="136" y="191"/>
                  </a:lnTo>
                  <a:lnTo>
                    <a:pt x="88" y="156"/>
                  </a:lnTo>
                  <a:lnTo>
                    <a:pt x="35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83400" y="679320"/>
              <a:ext cx="222480" cy="359280"/>
            </a:xfrm>
            <a:custGeom>
              <a:avLst/>
              <a:gdLst/>
              <a:ahLst/>
              <a:rect l="0" t="0" r="r" b="b"/>
              <a:pathLst>
                <a:path w="618" h="998">
                  <a:moveTo>
                    <a:pt x="618" y="70"/>
                  </a:moveTo>
                  <a:lnTo>
                    <a:pt x="618" y="88"/>
                  </a:lnTo>
                  <a:lnTo>
                    <a:pt x="508" y="189"/>
                  </a:lnTo>
                  <a:lnTo>
                    <a:pt x="419" y="207"/>
                  </a:lnTo>
                  <a:lnTo>
                    <a:pt x="246" y="180"/>
                  </a:lnTo>
                  <a:lnTo>
                    <a:pt x="277" y="538"/>
                  </a:lnTo>
                  <a:lnTo>
                    <a:pt x="318" y="835"/>
                  </a:lnTo>
                  <a:lnTo>
                    <a:pt x="393" y="998"/>
                  </a:lnTo>
                  <a:lnTo>
                    <a:pt x="318" y="883"/>
                  </a:lnTo>
                  <a:lnTo>
                    <a:pt x="291" y="760"/>
                  </a:lnTo>
                  <a:lnTo>
                    <a:pt x="238" y="424"/>
                  </a:lnTo>
                  <a:lnTo>
                    <a:pt x="189" y="441"/>
                  </a:lnTo>
                  <a:lnTo>
                    <a:pt x="127" y="402"/>
                  </a:lnTo>
                  <a:lnTo>
                    <a:pt x="13" y="224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4"/>
                  </a:lnTo>
                  <a:lnTo>
                    <a:pt x="35" y="119"/>
                  </a:lnTo>
                  <a:lnTo>
                    <a:pt x="44" y="216"/>
                  </a:lnTo>
                  <a:lnTo>
                    <a:pt x="123" y="296"/>
                  </a:lnTo>
                  <a:lnTo>
                    <a:pt x="158" y="278"/>
                  </a:lnTo>
                  <a:lnTo>
                    <a:pt x="158" y="97"/>
                  </a:lnTo>
                  <a:lnTo>
                    <a:pt x="233" y="136"/>
                  </a:lnTo>
                  <a:lnTo>
                    <a:pt x="344" y="163"/>
                  </a:lnTo>
                  <a:lnTo>
                    <a:pt x="450" y="154"/>
                  </a:lnTo>
                  <a:lnTo>
                    <a:pt x="547" y="97"/>
                  </a:lnTo>
                  <a:lnTo>
                    <a:pt x="618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42080" y="396720"/>
              <a:ext cx="66960" cy="189360"/>
            </a:xfrm>
            <a:custGeom>
              <a:avLst/>
              <a:gdLst/>
              <a:ahLst/>
              <a:rect l="0" t="0" r="r" b="b"/>
              <a:pathLst>
                <a:path w="186" h="526">
                  <a:moveTo>
                    <a:pt x="98" y="526"/>
                  </a:moveTo>
                  <a:lnTo>
                    <a:pt x="186" y="217"/>
                  </a:lnTo>
                  <a:lnTo>
                    <a:pt x="22" y="105"/>
                  </a:lnTo>
                  <a:lnTo>
                    <a:pt x="0" y="0"/>
                  </a:lnTo>
                  <a:lnTo>
                    <a:pt x="13" y="127"/>
                  </a:lnTo>
                  <a:lnTo>
                    <a:pt x="66" y="181"/>
                  </a:lnTo>
                  <a:lnTo>
                    <a:pt x="74" y="336"/>
                  </a:lnTo>
                  <a:lnTo>
                    <a:pt x="115" y="398"/>
                  </a:lnTo>
                  <a:lnTo>
                    <a:pt x="98" y="5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40640" y="228600"/>
              <a:ext cx="500400" cy="251280"/>
            </a:xfrm>
            <a:custGeom>
              <a:avLst/>
              <a:gdLst/>
              <a:ahLst/>
              <a:rect l="0" t="0" r="r" b="b"/>
              <a:pathLst>
                <a:path w="1390" h="698">
                  <a:moveTo>
                    <a:pt x="13" y="472"/>
                  </a:moveTo>
                  <a:lnTo>
                    <a:pt x="132" y="544"/>
                  </a:lnTo>
                  <a:lnTo>
                    <a:pt x="119" y="455"/>
                  </a:lnTo>
                  <a:lnTo>
                    <a:pt x="141" y="296"/>
                  </a:lnTo>
                  <a:lnTo>
                    <a:pt x="224" y="265"/>
                  </a:lnTo>
                  <a:lnTo>
                    <a:pt x="233" y="433"/>
                  </a:lnTo>
                  <a:lnTo>
                    <a:pt x="467" y="136"/>
                  </a:lnTo>
                  <a:lnTo>
                    <a:pt x="520" y="114"/>
                  </a:lnTo>
                  <a:lnTo>
                    <a:pt x="480" y="234"/>
                  </a:lnTo>
                  <a:lnTo>
                    <a:pt x="626" y="287"/>
                  </a:lnTo>
                  <a:lnTo>
                    <a:pt x="733" y="171"/>
                  </a:lnTo>
                  <a:lnTo>
                    <a:pt x="790" y="208"/>
                  </a:lnTo>
                  <a:lnTo>
                    <a:pt x="737" y="309"/>
                  </a:lnTo>
                  <a:lnTo>
                    <a:pt x="807" y="252"/>
                  </a:lnTo>
                  <a:lnTo>
                    <a:pt x="913" y="296"/>
                  </a:lnTo>
                  <a:lnTo>
                    <a:pt x="830" y="380"/>
                  </a:lnTo>
                  <a:lnTo>
                    <a:pt x="1116" y="433"/>
                  </a:lnTo>
                  <a:lnTo>
                    <a:pt x="922" y="490"/>
                  </a:lnTo>
                  <a:lnTo>
                    <a:pt x="1160" y="526"/>
                  </a:lnTo>
                  <a:lnTo>
                    <a:pt x="878" y="592"/>
                  </a:lnTo>
                  <a:lnTo>
                    <a:pt x="940" y="645"/>
                  </a:lnTo>
                  <a:lnTo>
                    <a:pt x="856" y="698"/>
                  </a:lnTo>
                  <a:lnTo>
                    <a:pt x="1002" y="698"/>
                  </a:lnTo>
                  <a:lnTo>
                    <a:pt x="988" y="659"/>
                  </a:lnTo>
                  <a:lnTo>
                    <a:pt x="1138" y="694"/>
                  </a:lnTo>
                  <a:lnTo>
                    <a:pt x="1116" y="584"/>
                  </a:lnTo>
                  <a:lnTo>
                    <a:pt x="1253" y="535"/>
                  </a:lnTo>
                  <a:lnTo>
                    <a:pt x="1156" y="481"/>
                  </a:lnTo>
                  <a:lnTo>
                    <a:pt x="1390" y="464"/>
                  </a:lnTo>
                  <a:lnTo>
                    <a:pt x="1187" y="353"/>
                  </a:lnTo>
                  <a:lnTo>
                    <a:pt x="953" y="327"/>
                  </a:lnTo>
                  <a:lnTo>
                    <a:pt x="1138" y="212"/>
                  </a:lnTo>
                  <a:lnTo>
                    <a:pt x="807" y="212"/>
                  </a:lnTo>
                  <a:lnTo>
                    <a:pt x="966" y="105"/>
                  </a:lnTo>
                  <a:lnTo>
                    <a:pt x="724" y="136"/>
                  </a:lnTo>
                  <a:lnTo>
                    <a:pt x="612" y="190"/>
                  </a:lnTo>
                  <a:lnTo>
                    <a:pt x="710" y="0"/>
                  </a:lnTo>
                  <a:lnTo>
                    <a:pt x="418" y="105"/>
                  </a:lnTo>
                  <a:lnTo>
                    <a:pt x="260" y="336"/>
                  </a:lnTo>
                  <a:lnTo>
                    <a:pt x="233" y="208"/>
                  </a:lnTo>
                  <a:lnTo>
                    <a:pt x="101" y="296"/>
                  </a:lnTo>
                  <a:lnTo>
                    <a:pt x="88" y="464"/>
                  </a:lnTo>
                  <a:lnTo>
                    <a:pt x="0" y="433"/>
                  </a:lnTo>
                  <a:lnTo>
                    <a:pt x="30" y="584"/>
                  </a:lnTo>
                  <a:lnTo>
                    <a:pt x="13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50080" y="361800"/>
              <a:ext cx="140040" cy="76680"/>
            </a:xfrm>
            <a:custGeom>
              <a:avLst/>
              <a:gdLst/>
              <a:ahLst/>
              <a:rect l="0" t="0" r="r" b="b"/>
              <a:pathLst>
                <a:path w="389" h="213">
                  <a:moveTo>
                    <a:pt x="0" y="213"/>
                  </a:moveTo>
                  <a:lnTo>
                    <a:pt x="145" y="0"/>
                  </a:lnTo>
                  <a:lnTo>
                    <a:pt x="145" y="142"/>
                  </a:lnTo>
                  <a:lnTo>
                    <a:pt x="199" y="84"/>
                  </a:lnTo>
                  <a:lnTo>
                    <a:pt x="243" y="165"/>
                  </a:lnTo>
                  <a:lnTo>
                    <a:pt x="389" y="204"/>
                  </a:lnTo>
                  <a:lnTo>
                    <a:pt x="234" y="178"/>
                  </a:lnTo>
                  <a:lnTo>
                    <a:pt x="189" y="124"/>
                  </a:lnTo>
                  <a:lnTo>
                    <a:pt x="123" y="178"/>
                  </a:lnTo>
                  <a:lnTo>
                    <a:pt x="123" y="111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36040" y="878040"/>
              <a:ext cx="170280" cy="111600"/>
            </a:xfrm>
            <a:custGeom>
              <a:avLst/>
              <a:gdLst/>
              <a:ahLst/>
              <a:rect l="0" t="0" r="r" b="b"/>
              <a:pathLst>
                <a:path w="473" h="310">
                  <a:moveTo>
                    <a:pt x="88" y="111"/>
                  </a:moveTo>
                  <a:lnTo>
                    <a:pt x="283" y="93"/>
                  </a:lnTo>
                  <a:lnTo>
                    <a:pt x="376" y="115"/>
                  </a:lnTo>
                  <a:lnTo>
                    <a:pt x="425" y="70"/>
                  </a:lnTo>
                  <a:lnTo>
                    <a:pt x="473" y="172"/>
                  </a:lnTo>
                  <a:lnTo>
                    <a:pt x="442" y="190"/>
                  </a:lnTo>
                  <a:lnTo>
                    <a:pt x="403" y="155"/>
                  </a:lnTo>
                  <a:lnTo>
                    <a:pt x="336" y="225"/>
                  </a:lnTo>
                  <a:lnTo>
                    <a:pt x="221" y="310"/>
                  </a:lnTo>
                  <a:lnTo>
                    <a:pt x="168" y="310"/>
                  </a:lnTo>
                  <a:lnTo>
                    <a:pt x="88" y="266"/>
                  </a:lnTo>
                  <a:lnTo>
                    <a:pt x="177" y="301"/>
                  </a:lnTo>
                  <a:lnTo>
                    <a:pt x="212" y="301"/>
                  </a:lnTo>
                  <a:lnTo>
                    <a:pt x="283" y="248"/>
                  </a:lnTo>
                  <a:lnTo>
                    <a:pt x="336" y="142"/>
                  </a:lnTo>
                  <a:lnTo>
                    <a:pt x="256" y="128"/>
                  </a:lnTo>
                  <a:lnTo>
                    <a:pt x="208" y="115"/>
                  </a:lnTo>
                  <a:lnTo>
                    <a:pt x="79" y="133"/>
                  </a:lnTo>
                  <a:lnTo>
                    <a:pt x="74" y="217"/>
                  </a:lnTo>
                  <a:lnTo>
                    <a:pt x="35" y="164"/>
                  </a:lnTo>
                  <a:lnTo>
                    <a:pt x="0" y="235"/>
                  </a:lnTo>
                  <a:lnTo>
                    <a:pt x="4" y="84"/>
                  </a:lnTo>
                  <a:lnTo>
                    <a:pt x="48" y="0"/>
                  </a:lnTo>
                  <a:lnTo>
                    <a:pt x="88" y="84"/>
                  </a:lnTo>
                  <a:lnTo>
                    <a:pt x="88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15160" y="633240"/>
              <a:ext cx="363960" cy="519480"/>
            </a:xfrm>
            <a:custGeom>
              <a:avLst/>
              <a:gdLst/>
              <a:ahLst/>
              <a:rect l="0" t="0" r="r" b="b"/>
              <a:pathLst>
                <a:path w="1011" h="1443">
                  <a:moveTo>
                    <a:pt x="853" y="0"/>
                  </a:moveTo>
                  <a:lnTo>
                    <a:pt x="954" y="0"/>
                  </a:lnTo>
                  <a:lnTo>
                    <a:pt x="1011" y="70"/>
                  </a:lnTo>
                  <a:lnTo>
                    <a:pt x="1011" y="149"/>
                  </a:lnTo>
                  <a:lnTo>
                    <a:pt x="928" y="375"/>
                  </a:lnTo>
                  <a:lnTo>
                    <a:pt x="848" y="486"/>
                  </a:lnTo>
                  <a:lnTo>
                    <a:pt x="760" y="499"/>
                  </a:lnTo>
                  <a:lnTo>
                    <a:pt x="737" y="499"/>
                  </a:lnTo>
                  <a:lnTo>
                    <a:pt x="737" y="785"/>
                  </a:lnTo>
                  <a:lnTo>
                    <a:pt x="778" y="988"/>
                  </a:lnTo>
                  <a:lnTo>
                    <a:pt x="778" y="1161"/>
                  </a:lnTo>
                  <a:lnTo>
                    <a:pt x="622" y="1329"/>
                  </a:lnTo>
                  <a:lnTo>
                    <a:pt x="415" y="1443"/>
                  </a:lnTo>
                  <a:lnTo>
                    <a:pt x="278" y="1443"/>
                  </a:lnTo>
                  <a:lnTo>
                    <a:pt x="211" y="1413"/>
                  </a:lnTo>
                  <a:lnTo>
                    <a:pt x="119" y="1210"/>
                  </a:lnTo>
                  <a:lnTo>
                    <a:pt x="35" y="1139"/>
                  </a:lnTo>
                  <a:lnTo>
                    <a:pt x="0" y="1086"/>
                  </a:lnTo>
                  <a:lnTo>
                    <a:pt x="114" y="1161"/>
                  </a:lnTo>
                  <a:lnTo>
                    <a:pt x="194" y="1232"/>
                  </a:lnTo>
                  <a:lnTo>
                    <a:pt x="358" y="1241"/>
                  </a:lnTo>
                  <a:lnTo>
                    <a:pt x="503" y="1170"/>
                  </a:lnTo>
                  <a:lnTo>
                    <a:pt x="578" y="1086"/>
                  </a:lnTo>
                  <a:lnTo>
                    <a:pt x="662" y="940"/>
                  </a:lnTo>
                  <a:lnTo>
                    <a:pt x="675" y="768"/>
                  </a:lnTo>
                  <a:lnTo>
                    <a:pt x="706" y="211"/>
                  </a:lnTo>
                  <a:lnTo>
                    <a:pt x="741" y="291"/>
                  </a:lnTo>
                  <a:lnTo>
                    <a:pt x="844" y="189"/>
                  </a:lnTo>
                  <a:lnTo>
                    <a:pt x="945" y="149"/>
                  </a:lnTo>
                  <a:lnTo>
                    <a:pt x="972" y="88"/>
                  </a:lnTo>
                  <a:lnTo>
                    <a:pt x="958" y="35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49960" y="1081080"/>
              <a:ext cx="294120" cy="481320"/>
            </a:xfrm>
            <a:custGeom>
              <a:avLst/>
              <a:gdLst/>
              <a:ahLst/>
              <a:rect l="0" t="0" r="r" b="b"/>
              <a:pathLst>
                <a:path w="817" h="1337">
                  <a:moveTo>
                    <a:pt x="101" y="0"/>
                  </a:moveTo>
                  <a:lnTo>
                    <a:pt x="198" y="61"/>
                  </a:lnTo>
                  <a:lnTo>
                    <a:pt x="265" y="335"/>
                  </a:lnTo>
                  <a:lnTo>
                    <a:pt x="477" y="392"/>
                  </a:lnTo>
                  <a:lnTo>
                    <a:pt x="538" y="467"/>
                  </a:lnTo>
                  <a:lnTo>
                    <a:pt x="547" y="568"/>
                  </a:lnTo>
                  <a:lnTo>
                    <a:pt x="650" y="551"/>
                  </a:lnTo>
                  <a:lnTo>
                    <a:pt x="778" y="639"/>
                  </a:lnTo>
                  <a:lnTo>
                    <a:pt x="817" y="746"/>
                  </a:lnTo>
                  <a:lnTo>
                    <a:pt x="817" y="935"/>
                  </a:lnTo>
                  <a:lnTo>
                    <a:pt x="650" y="1222"/>
                  </a:lnTo>
                  <a:lnTo>
                    <a:pt x="596" y="1337"/>
                  </a:lnTo>
                  <a:lnTo>
                    <a:pt x="623" y="1182"/>
                  </a:lnTo>
                  <a:lnTo>
                    <a:pt x="596" y="1125"/>
                  </a:lnTo>
                  <a:lnTo>
                    <a:pt x="494" y="1024"/>
                  </a:lnTo>
                  <a:lnTo>
                    <a:pt x="336" y="909"/>
                  </a:lnTo>
                  <a:lnTo>
                    <a:pt x="525" y="975"/>
                  </a:lnTo>
                  <a:lnTo>
                    <a:pt x="641" y="1063"/>
                  </a:lnTo>
                  <a:lnTo>
                    <a:pt x="698" y="1050"/>
                  </a:lnTo>
                  <a:lnTo>
                    <a:pt x="734" y="1002"/>
                  </a:lnTo>
                  <a:lnTo>
                    <a:pt x="778" y="869"/>
                  </a:lnTo>
                  <a:lnTo>
                    <a:pt x="764" y="737"/>
                  </a:lnTo>
                  <a:lnTo>
                    <a:pt x="707" y="661"/>
                  </a:lnTo>
                  <a:lnTo>
                    <a:pt x="605" y="639"/>
                  </a:lnTo>
                  <a:lnTo>
                    <a:pt x="494" y="639"/>
                  </a:lnTo>
                  <a:lnTo>
                    <a:pt x="459" y="440"/>
                  </a:lnTo>
                  <a:lnTo>
                    <a:pt x="278" y="370"/>
                  </a:lnTo>
                  <a:lnTo>
                    <a:pt x="278" y="427"/>
                  </a:lnTo>
                  <a:lnTo>
                    <a:pt x="198" y="286"/>
                  </a:lnTo>
                  <a:lnTo>
                    <a:pt x="149" y="61"/>
                  </a:lnTo>
                  <a:lnTo>
                    <a:pt x="79" y="39"/>
                  </a:lnTo>
                  <a:lnTo>
                    <a:pt x="39" y="105"/>
                  </a:lnTo>
                  <a:lnTo>
                    <a:pt x="39" y="260"/>
                  </a:lnTo>
                  <a:lnTo>
                    <a:pt x="74" y="427"/>
                  </a:lnTo>
                  <a:lnTo>
                    <a:pt x="171" y="568"/>
                  </a:lnTo>
                  <a:lnTo>
                    <a:pt x="61" y="480"/>
                  </a:lnTo>
                  <a:lnTo>
                    <a:pt x="8" y="335"/>
                  </a:lnTo>
                  <a:lnTo>
                    <a:pt x="0" y="141"/>
                  </a:lnTo>
                  <a:lnTo>
                    <a:pt x="39" y="3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010280" y="1293840"/>
              <a:ext cx="194040" cy="384480"/>
            </a:xfrm>
            <a:custGeom>
              <a:avLst/>
              <a:gdLst/>
              <a:ahLst/>
              <a:rect l="0" t="0" r="r" b="b"/>
              <a:pathLst>
                <a:path w="539" h="1068">
                  <a:moveTo>
                    <a:pt x="539" y="0"/>
                  </a:moveTo>
                  <a:lnTo>
                    <a:pt x="429" y="70"/>
                  </a:lnTo>
                  <a:lnTo>
                    <a:pt x="296" y="330"/>
                  </a:lnTo>
                  <a:lnTo>
                    <a:pt x="168" y="498"/>
                  </a:lnTo>
                  <a:lnTo>
                    <a:pt x="13" y="702"/>
                  </a:lnTo>
                  <a:lnTo>
                    <a:pt x="0" y="807"/>
                  </a:lnTo>
                  <a:lnTo>
                    <a:pt x="30" y="900"/>
                  </a:lnTo>
                  <a:lnTo>
                    <a:pt x="105" y="900"/>
                  </a:lnTo>
                  <a:lnTo>
                    <a:pt x="208" y="807"/>
                  </a:lnTo>
                  <a:lnTo>
                    <a:pt x="287" y="613"/>
                  </a:lnTo>
                  <a:lnTo>
                    <a:pt x="397" y="498"/>
                  </a:lnTo>
                  <a:lnTo>
                    <a:pt x="397" y="653"/>
                  </a:lnTo>
                  <a:lnTo>
                    <a:pt x="380" y="794"/>
                  </a:lnTo>
                  <a:lnTo>
                    <a:pt x="265" y="984"/>
                  </a:lnTo>
                  <a:lnTo>
                    <a:pt x="265" y="1041"/>
                  </a:lnTo>
                  <a:lnTo>
                    <a:pt x="380" y="1068"/>
                  </a:lnTo>
                  <a:lnTo>
                    <a:pt x="296" y="1015"/>
                  </a:lnTo>
                  <a:lnTo>
                    <a:pt x="309" y="984"/>
                  </a:lnTo>
                  <a:lnTo>
                    <a:pt x="389" y="843"/>
                  </a:lnTo>
                  <a:lnTo>
                    <a:pt x="447" y="591"/>
                  </a:lnTo>
                  <a:lnTo>
                    <a:pt x="407" y="449"/>
                  </a:lnTo>
                  <a:lnTo>
                    <a:pt x="318" y="533"/>
                  </a:lnTo>
                  <a:lnTo>
                    <a:pt x="127" y="852"/>
                  </a:lnTo>
                  <a:lnTo>
                    <a:pt x="74" y="860"/>
                  </a:lnTo>
                  <a:lnTo>
                    <a:pt x="30" y="830"/>
                  </a:lnTo>
                  <a:lnTo>
                    <a:pt x="30" y="733"/>
                  </a:lnTo>
                  <a:lnTo>
                    <a:pt x="105" y="605"/>
                  </a:lnTo>
                  <a:lnTo>
                    <a:pt x="318" y="343"/>
                  </a:lnTo>
                  <a:lnTo>
                    <a:pt x="447" y="97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55000" y="1511280"/>
              <a:ext cx="119520" cy="184680"/>
            </a:xfrm>
            <a:custGeom>
              <a:avLst/>
              <a:gdLst/>
              <a:ahLst/>
              <a:rect l="0" t="0" r="r" b="b"/>
              <a:pathLst>
                <a:path w="332" h="513">
                  <a:moveTo>
                    <a:pt x="0" y="456"/>
                  </a:moveTo>
                  <a:lnTo>
                    <a:pt x="111" y="322"/>
                  </a:lnTo>
                  <a:lnTo>
                    <a:pt x="128" y="190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65"/>
                  </a:lnTo>
                  <a:lnTo>
                    <a:pt x="332" y="513"/>
                  </a:lnTo>
                  <a:lnTo>
                    <a:pt x="234" y="478"/>
                  </a:lnTo>
                  <a:lnTo>
                    <a:pt x="186" y="283"/>
                  </a:lnTo>
                  <a:lnTo>
                    <a:pt x="111" y="380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00800" y="1521000"/>
              <a:ext cx="79560" cy="165600"/>
            </a:xfrm>
            <a:custGeom>
              <a:avLst/>
              <a:gdLst/>
              <a:ahLst/>
              <a:rect l="0" t="0" r="r" b="b"/>
              <a:pathLst>
                <a:path w="221" h="460">
                  <a:moveTo>
                    <a:pt x="0" y="344"/>
                  </a:moveTo>
                  <a:lnTo>
                    <a:pt x="8" y="177"/>
                  </a:lnTo>
                  <a:lnTo>
                    <a:pt x="57" y="74"/>
                  </a:lnTo>
                  <a:lnTo>
                    <a:pt x="105" y="438"/>
                  </a:lnTo>
                  <a:lnTo>
                    <a:pt x="177" y="438"/>
                  </a:lnTo>
                  <a:lnTo>
                    <a:pt x="203" y="52"/>
                  </a:lnTo>
                  <a:lnTo>
                    <a:pt x="221" y="0"/>
                  </a:lnTo>
                  <a:lnTo>
                    <a:pt x="203" y="300"/>
                  </a:lnTo>
                  <a:lnTo>
                    <a:pt x="177" y="460"/>
                  </a:lnTo>
                  <a:lnTo>
                    <a:pt x="88" y="460"/>
                  </a:lnTo>
                  <a:lnTo>
                    <a:pt x="48" y="142"/>
                  </a:lnTo>
                  <a:lnTo>
                    <a:pt x="26" y="186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12040" y="868320"/>
              <a:ext cx="190800" cy="443160"/>
            </a:xfrm>
            <a:custGeom>
              <a:avLst/>
              <a:gdLst/>
              <a:ahLst/>
              <a:rect l="0" t="0" r="r" b="b"/>
              <a:pathLst>
                <a:path w="530" h="1231">
                  <a:moveTo>
                    <a:pt x="141" y="666"/>
                  </a:moveTo>
                  <a:lnTo>
                    <a:pt x="180" y="471"/>
                  </a:lnTo>
                  <a:lnTo>
                    <a:pt x="358" y="423"/>
                  </a:lnTo>
                  <a:lnTo>
                    <a:pt x="530" y="0"/>
                  </a:lnTo>
                  <a:lnTo>
                    <a:pt x="530" y="123"/>
                  </a:lnTo>
                  <a:lnTo>
                    <a:pt x="384" y="449"/>
                  </a:lnTo>
                  <a:lnTo>
                    <a:pt x="194" y="511"/>
                  </a:lnTo>
                  <a:lnTo>
                    <a:pt x="167" y="666"/>
                  </a:lnTo>
                  <a:lnTo>
                    <a:pt x="233" y="666"/>
                  </a:lnTo>
                  <a:lnTo>
                    <a:pt x="70" y="737"/>
                  </a:lnTo>
                  <a:lnTo>
                    <a:pt x="30" y="869"/>
                  </a:lnTo>
                  <a:lnTo>
                    <a:pt x="39" y="1037"/>
                  </a:lnTo>
                  <a:lnTo>
                    <a:pt x="216" y="1231"/>
                  </a:lnTo>
                  <a:lnTo>
                    <a:pt x="30" y="1059"/>
                  </a:lnTo>
                  <a:lnTo>
                    <a:pt x="0" y="918"/>
                  </a:lnTo>
                  <a:lnTo>
                    <a:pt x="13" y="772"/>
                  </a:lnTo>
                  <a:lnTo>
                    <a:pt x="79" y="671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440560" y="868320"/>
              <a:ext cx="321120" cy="428760"/>
            </a:xfrm>
            <a:custGeom>
              <a:avLst/>
              <a:gdLst/>
              <a:ahLst/>
              <a:rect l="0" t="0" r="r" b="b"/>
              <a:pathLst>
                <a:path w="892" h="1191">
                  <a:moveTo>
                    <a:pt x="247" y="0"/>
                  </a:moveTo>
                  <a:lnTo>
                    <a:pt x="300" y="35"/>
                  </a:lnTo>
                  <a:lnTo>
                    <a:pt x="318" y="136"/>
                  </a:lnTo>
                  <a:lnTo>
                    <a:pt x="318" y="233"/>
                  </a:lnTo>
                  <a:lnTo>
                    <a:pt x="216" y="405"/>
                  </a:lnTo>
                  <a:lnTo>
                    <a:pt x="239" y="533"/>
                  </a:lnTo>
                  <a:lnTo>
                    <a:pt x="534" y="671"/>
                  </a:lnTo>
                  <a:lnTo>
                    <a:pt x="888" y="1046"/>
                  </a:lnTo>
                  <a:lnTo>
                    <a:pt x="892" y="1147"/>
                  </a:lnTo>
                  <a:lnTo>
                    <a:pt x="875" y="1191"/>
                  </a:lnTo>
                  <a:lnTo>
                    <a:pt x="742" y="1191"/>
                  </a:lnTo>
                  <a:lnTo>
                    <a:pt x="627" y="1121"/>
                  </a:lnTo>
                  <a:lnTo>
                    <a:pt x="530" y="997"/>
                  </a:lnTo>
                  <a:lnTo>
                    <a:pt x="477" y="927"/>
                  </a:lnTo>
                  <a:lnTo>
                    <a:pt x="415" y="913"/>
                  </a:lnTo>
                  <a:lnTo>
                    <a:pt x="490" y="913"/>
                  </a:lnTo>
                  <a:lnTo>
                    <a:pt x="636" y="1107"/>
                  </a:lnTo>
                  <a:lnTo>
                    <a:pt x="822" y="1165"/>
                  </a:lnTo>
                  <a:lnTo>
                    <a:pt x="861" y="1107"/>
                  </a:lnTo>
                  <a:lnTo>
                    <a:pt x="844" y="1019"/>
                  </a:lnTo>
                  <a:lnTo>
                    <a:pt x="516" y="750"/>
                  </a:lnTo>
                  <a:lnTo>
                    <a:pt x="468" y="671"/>
                  </a:lnTo>
                  <a:lnTo>
                    <a:pt x="216" y="605"/>
                  </a:lnTo>
                  <a:lnTo>
                    <a:pt x="171" y="671"/>
                  </a:lnTo>
                  <a:lnTo>
                    <a:pt x="0" y="785"/>
                  </a:lnTo>
                  <a:lnTo>
                    <a:pt x="163" y="653"/>
                  </a:lnTo>
                  <a:lnTo>
                    <a:pt x="171" y="568"/>
                  </a:lnTo>
                  <a:lnTo>
                    <a:pt x="171" y="379"/>
                  </a:lnTo>
                  <a:lnTo>
                    <a:pt x="287" y="233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381880" y="1204920"/>
              <a:ext cx="273240" cy="254520"/>
            </a:xfrm>
            <a:custGeom>
              <a:avLst/>
              <a:gdLst/>
              <a:ahLst/>
              <a:rect l="0" t="0" r="r" b="b"/>
              <a:pathLst>
                <a:path w="759" h="707">
                  <a:moveTo>
                    <a:pt x="569" y="0"/>
                  </a:moveTo>
                  <a:lnTo>
                    <a:pt x="552" y="61"/>
                  </a:lnTo>
                  <a:lnTo>
                    <a:pt x="662" y="292"/>
                  </a:lnTo>
                  <a:lnTo>
                    <a:pt x="719" y="535"/>
                  </a:lnTo>
                  <a:lnTo>
                    <a:pt x="653" y="535"/>
                  </a:lnTo>
                  <a:lnTo>
                    <a:pt x="538" y="428"/>
                  </a:lnTo>
                  <a:lnTo>
                    <a:pt x="437" y="208"/>
                  </a:lnTo>
                  <a:lnTo>
                    <a:pt x="357" y="171"/>
                  </a:lnTo>
                  <a:lnTo>
                    <a:pt x="370" y="292"/>
                  </a:lnTo>
                  <a:lnTo>
                    <a:pt x="441" y="380"/>
                  </a:lnTo>
                  <a:lnTo>
                    <a:pt x="441" y="548"/>
                  </a:lnTo>
                  <a:lnTo>
                    <a:pt x="389" y="672"/>
                  </a:lnTo>
                  <a:lnTo>
                    <a:pt x="321" y="623"/>
                  </a:lnTo>
                  <a:lnTo>
                    <a:pt x="233" y="428"/>
                  </a:lnTo>
                  <a:lnTo>
                    <a:pt x="211" y="292"/>
                  </a:lnTo>
                  <a:lnTo>
                    <a:pt x="163" y="256"/>
                  </a:lnTo>
                  <a:lnTo>
                    <a:pt x="149" y="597"/>
                  </a:lnTo>
                  <a:lnTo>
                    <a:pt x="79" y="650"/>
                  </a:lnTo>
                  <a:lnTo>
                    <a:pt x="22" y="597"/>
                  </a:lnTo>
                  <a:lnTo>
                    <a:pt x="8" y="305"/>
                  </a:lnTo>
                  <a:lnTo>
                    <a:pt x="0" y="592"/>
                  </a:lnTo>
                  <a:lnTo>
                    <a:pt x="48" y="698"/>
                  </a:lnTo>
                  <a:lnTo>
                    <a:pt x="149" y="698"/>
                  </a:lnTo>
                  <a:lnTo>
                    <a:pt x="185" y="614"/>
                  </a:lnTo>
                  <a:lnTo>
                    <a:pt x="202" y="344"/>
                  </a:lnTo>
                  <a:lnTo>
                    <a:pt x="220" y="450"/>
                  </a:lnTo>
                  <a:lnTo>
                    <a:pt x="308" y="681"/>
                  </a:lnTo>
                  <a:lnTo>
                    <a:pt x="402" y="707"/>
                  </a:lnTo>
                  <a:lnTo>
                    <a:pt x="472" y="614"/>
                  </a:lnTo>
                  <a:lnTo>
                    <a:pt x="472" y="393"/>
                  </a:lnTo>
                  <a:lnTo>
                    <a:pt x="653" y="575"/>
                  </a:lnTo>
                  <a:lnTo>
                    <a:pt x="750" y="575"/>
                  </a:lnTo>
                  <a:lnTo>
                    <a:pt x="759" y="450"/>
                  </a:lnTo>
                  <a:lnTo>
                    <a:pt x="688" y="230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78840" y="941400"/>
              <a:ext cx="1214640" cy="1038600"/>
            </a:xfrm>
            <a:custGeom>
              <a:avLst/>
              <a:gdLst/>
              <a:ahLst/>
              <a:rect l="0" t="0" r="r" b="b"/>
              <a:pathLst>
                <a:path w="3374" h="2885">
                  <a:moveTo>
                    <a:pt x="1212" y="242"/>
                  </a:moveTo>
                  <a:lnTo>
                    <a:pt x="1150" y="255"/>
                  </a:lnTo>
                  <a:lnTo>
                    <a:pt x="1058" y="396"/>
                  </a:lnTo>
                  <a:lnTo>
                    <a:pt x="1023" y="291"/>
                  </a:lnTo>
                  <a:lnTo>
                    <a:pt x="917" y="233"/>
                  </a:lnTo>
                  <a:lnTo>
                    <a:pt x="833" y="277"/>
                  </a:lnTo>
                  <a:lnTo>
                    <a:pt x="802" y="467"/>
                  </a:lnTo>
                  <a:lnTo>
                    <a:pt x="498" y="696"/>
                  </a:lnTo>
                  <a:lnTo>
                    <a:pt x="520" y="794"/>
                  </a:lnTo>
                  <a:lnTo>
                    <a:pt x="445" y="878"/>
                  </a:lnTo>
                  <a:lnTo>
                    <a:pt x="445" y="953"/>
                  </a:lnTo>
                  <a:lnTo>
                    <a:pt x="533" y="1173"/>
                  </a:lnTo>
                  <a:lnTo>
                    <a:pt x="537" y="1438"/>
                  </a:lnTo>
                  <a:lnTo>
                    <a:pt x="480" y="1689"/>
                  </a:lnTo>
                  <a:lnTo>
                    <a:pt x="264" y="1839"/>
                  </a:lnTo>
                  <a:lnTo>
                    <a:pt x="238" y="2047"/>
                  </a:lnTo>
                  <a:lnTo>
                    <a:pt x="167" y="2047"/>
                  </a:lnTo>
                  <a:lnTo>
                    <a:pt x="136" y="1879"/>
                  </a:lnTo>
                  <a:lnTo>
                    <a:pt x="70" y="1879"/>
                  </a:lnTo>
                  <a:lnTo>
                    <a:pt x="39" y="2060"/>
                  </a:lnTo>
                  <a:lnTo>
                    <a:pt x="0" y="2108"/>
                  </a:lnTo>
                  <a:lnTo>
                    <a:pt x="149" y="2356"/>
                  </a:lnTo>
                  <a:lnTo>
                    <a:pt x="255" y="2370"/>
                  </a:lnTo>
                  <a:lnTo>
                    <a:pt x="445" y="2550"/>
                  </a:lnTo>
                  <a:lnTo>
                    <a:pt x="617" y="2572"/>
                  </a:lnTo>
                  <a:lnTo>
                    <a:pt x="714" y="2475"/>
                  </a:lnTo>
                  <a:lnTo>
                    <a:pt x="948" y="2117"/>
                  </a:lnTo>
                  <a:lnTo>
                    <a:pt x="970" y="2599"/>
                  </a:lnTo>
                  <a:lnTo>
                    <a:pt x="948" y="2885"/>
                  </a:lnTo>
                  <a:lnTo>
                    <a:pt x="2898" y="2885"/>
                  </a:lnTo>
                  <a:lnTo>
                    <a:pt x="2757" y="2572"/>
                  </a:lnTo>
                  <a:lnTo>
                    <a:pt x="2686" y="2308"/>
                  </a:lnTo>
                  <a:lnTo>
                    <a:pt x="2668" y="1910"/>
                  </a:lnTo>
                  <a:lnTo>
                    <a:pt x="2783" y="1998"/>
                  </a:lnTo>
                  <a:lnTo>
                    <a:pt x="2898" y="1998"/>
                  </a:lnTo>
                  <a:lnTo>
                    <a:pt x="3061" y="1892"/>
                  </a:lnTo>
                  <a:lnTo>
                    <a:pt x="3167" y="1879"/>
                  </a:lnTo>
                  <a:lnTo>
                    <a:pt x="3233" y="1773"/>
                  </a:lnTo>
                  <a:lnTo>
                    <a:pt x="3277" y="1500"/>
                  </a:lnTo>
                  <a:lnTo>
                    <a:pt x="3374" y="1390"/>
                  </a:lnTo>
                  <a:lnTo>
                    <a:pt x="3325" y="1306"/>
                  </a:lnTo>
                  <a:lnTo>
                    <a:pt x="3250" y="1306"/>
                  </a:lnTo>
                  <a:lnTo>
                    <a:pt x="3193" y="1363"/>
                  </a:lnTo>
                  <a:lnTo>
                    <a:pt x="3140" y="1381"/>
                  </a:lnTo>
                  <a:lnTo>
                    <a:pt x="3070" y="1306"/>
                  </a:lnTo>
                  <a:lnTo>
                    <a:pt x="2986" y="1297"/>
                  </a:lnTo>
                  <a:lnTo>
                    <a:pt x="2832" y="1196"/>
                  </a:lnTo>
                  <a:lnTo>
                    <a:pt x="2735" y="1085"/>
                  </a:lnTo>
                  <a:lnTo>
                    <a:pt x="2721" y="953"/>
                  </a:lnTo>
                  <a:lnTo>
                    <a:pt x="2735" y="825"/>
                  </a:lnTo>
                  <a:lnTo>
                    <a:pt x="2801" y="724"/>
                  </a:lnTo>
                  <a:lnTo>
                    <a:pt x="2884" y="626"/>
                  </a:lnTo>
                  <a:lnTo>
                    <a:pt x="2876" y="463"/>
                  </a:lnTo>
                  <a:lnTo>
                    <a:pt x="2876" y="343"/>
                  </a:lnTo>
                  <a:lnTo>
                    <a:pt x="2832" y="255"/>
                  </a:lnTo>
                  <a:lnTo>
                    <a:pt x="2721" y="216"/>
                  </a:lnTo>
                  <a:lnTo>
                    <a:pt x="2682" y="194"/>
                  </a:lnTo>
                  <a:lnTo>
                    <a:pt x="2598" y="52"/>
                  </a:lnTo>
                  <a:lnTo>
                    <a:pt x="2532" y="13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101"/>
                  </a:lnTo>
                  <a:lnTo>
                    <a:pt x="2280" y="145"/>
                  </a:lnTo>
                  <a:lnTo>
                    <a:pt x="2197" y="163"/>
                  </a:lnTo>
                  <a:lnTo>
                    <a:pt x="2104" y="163"/>
                  </a:lnTo>
                  <a:lnTo>
                    <a:pt x="2122" y="304"/>
                  </a:lnTo>
                  <a:lnTo>
                    <a:pt x="2122" y="480"/>
                  </a:lnTo>
                  <a:lnTo>
                    <a:pt x="2104" y="599"/>
                  </a:lnTo>
                  <a:lnTo>
                    <a:pt x="2020" y="746"/>
                  </a:lnTo>
                  <a:lnTo>
                    <a:pt x="1914" y="962"/>
                  </a:lnTo>
                  <a:lnTo>
                    <a:pt x="1831" y="1222"/>
                  </a:lnTo>
                  <a:lnTo>
                    <a:pt x="1826" y="1381"/>
                  </a:lnTo>
                  <a:lnTo>
                    <a:pt x="1786" y="1509"/>
                  </a:lnTo>
                  <a:lnTo>
                    <a:pt x="1734" y="1641"/>
                  </a:lnTo>
                  <a:lnTo>
                    <a:pt x="1711" y="1853"/>
                  </a:lnTo>
                  <a:lnTo>
                    <a:pt x="1725" y="2025"/>
                  </a:lnTo>
                  <a:lnTo>
                    <a:pt x="1786" y="2228"/>
                  </a:lnTo>
                  <a:lnTo>
                    <a:pt x="1826" y="2308"/>
                  </a:lnTo>
                  <a:lnTo>
                    <a:pt x="1711" y="2383"/>
                  </a:lnTo>
                  <a:lnTo>
                    <a:pt x="1574" y="2427"/>
                  </a:lnTo>
                  <a:lnTo>
                    <a:pt x="1424" y="2444"/>
                  </a:lnTo>
                  <a:lnTo>
                    <a:pt x="1331" y="2444"/>
                  </a:lnTo>
                  <a:lnTo>
                    <a:pt x="1270" y="2418"/>
                  </a:lnTo>
                  <a:lnTo>
                    <a:pt x="1270" y="2242"/>
                  </a:lnTo>
                  <a:lnTo>
                    <a:pt x="1270" y="1989"/>
                  </a:lnTo>
                  <a:lnTo>
                    <a:pt x="1234" y="1738"/>
                  </a:lnTo>
                  <a:lnTo>
                    <a:pt x="1172" y="1509"/>
                  </a:lnTo>
                  <a:lnTo>
                    <a:pt x="1146" y="1332"/>
                  </a:lnTo>
                  <a:lnTo>
                    <a:pt x="1133" y="1076"/>
                  </a:lnTo>
                  <a:lnTo>
                    <a:pt x="1172" y="852"/>
                  </a:lnTo>
                  <a:lnTo>
                    <a:pt x="1234" y="670"/>
                  </a:lnTo>
                  <a:lnTo>
                    <a:pt x="1239" y="568"/>
                  </a:lnTo>
                  <a:lnTo>
                    <a:pt x="1212" y="414"/>
                  </a:lnTo>
                  <a:lnTo>
                    <a:pt x="1212" y="291"/>
                  </a:lnTo>
                  <a:lnTo>
                    <a:pt x="1234" y="255"/>
                  </a:lnTo>
                  <a:lnTo>
                    <a:pt x="1212" y="2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751880" y="1150920"/>
              <a:ext cx="152640" cy="673560"/>
            </a:xfrm>
            <a:custGeom>
              <a:avLst/>
              <a:gdLst/>
              <a:ahLst/>
              <a:rect l="0" t="0" r="r" b="b"/>
              <a:pathLst>
                <a:path w="424" h="1871">
                  <a:moveTo>
                    <a:pt x="167" y="22"/>
                  </a:moveTo>
                  <a:lnTo>
                    <a:pt x="57" y="83"/>
                  </a:lnTo>
                  <a:lnTo>
                    <a:pt x="66" y="260"/>
                  </a:lnTo>
                  <a:lnTo>
                    <a:pt x="149" y="313"/>
                  </a:lnTo>
                  <a:lnTo>
                    <a:pt x="48" y="512"/>
                  </a:lnTo>
                  <a:lnTo>
                    <a:pt x="0" y="728"/>
                  </a:lnTo>
                  <a:lnTo>
                    <a:pt x="0" y="935"/>
                  </a:lnTo>
                  <a:lnTo>
                    <a:pt x="48" y="1121"/>
                  </a:lnTo>
                  <a:lnTo>
                    <a:pt x="88" y="1350"/>
                  </a:lnTo>
                  <a:lnTo>
                    <a:pt x="88" y="1483"/>
                  </a:lnTo>
                  <a:lnTo>
                    <a:pt x="48" y="1642"/>
                  </a:lnTo>
                  <a:lnTo>
                    <a:pt x="221" y="1871"/>
                  </a:lnTo>
                  <a:lnTo>
                    <a:pt x="292" y="1836"/>
                  </a:lnTo>
                  <a:lnTo>
                    <a:pt x="340" y="1677"/>
                  </a:lnTo>
                  <a:lnTo>
                    <a:pt x="419" y="1470"/>
                  </a:lnTo>
                  <a:lnTo>
                    <a:pt x="424" y="1363"/>
                  </a:lnTo>
                  <a:lnTo>
                    <a:pt x="358" y="1156"/>
                  </a:lnTo>
                  <a:lnTo>
                    <a:pt x="278" y="957"/>
                  </a:lnTo>
                  <a:lnTo>
                    <a:pt x="247" y="812"/>
                  </a:lnTo>
                  <a:lnTo>
                    <a:pt x="247" y="680"/>
                  </a:lnTo>
                  <a:lnTo>
                    <a:pt x="278" y="561"/>
                  </a:lnTo>
                  <a:lnTo>
                    <a:pt x="340" y="410"/>
                  </a:lnTo>
                  <a:lnTo>
                    <a:pt x="340" y="348"/>
                  </a:lnTo>
                  <a:lnTo>
                    <a:pt x="309" y="286"/>
                  </a:lnTo>
                  <a:lnTo>
                    <a:pt x="389" y="211"/>
                  </a:lnTo>
                  <a:lnTo>
                    <a:pt x="389" y="141"/>
                  </a:lnTo>
                  <a:lnTo>
                    <a:pt x="278" y="0"/>
                  </a:lnTo>
                  <a:lnTo>
                    <a:pt x="367" y="141"/>
                  </a:lnTo>
                  <a:lnTo>
                    <a:pt x="367" y="202"/>
                  </a:lnTo>
                  <a:lnTo>
                    <a:pt x="287" y="260"/>
                  </a:lnTo>
                  <a:lnTo>
                    <a:pt x="318" y="348"/>
                  </a:lnTo>
                  <a:lnTo>
                    <a:pt x="309" y="410"/>
                  </a:lnTo>
                  <a:lnTo>
                    <a:pt x="230" y="583"/>
                  </a:lnTo>
                  <a:lnTo>
                    <a:pt x="221" y="750"/>
                  </a:lnTo>
                  <a:lnTo>
                    <a:pt x="239" y="909"/>
                  </a:lnTo>
                  <a:lnTo>
                    <a:pt x="292" y="1134"/>
                  </a:lnTo>
                  <a:lnTo>
                    <a:pt x="358" y="1310"/>
                  </a:lnTo>
                  <a:lnTo>
                    <a:pt x="358" y="1461"/>
                  </a:lnTo>
                  <a:lnTo>
                    <a:pt x="318" y="1642"/>
                  </a:lnTo>
                  <a:lnTo>
                    <a:pt x="239" y="1836"/>
                  </a:lnTo>
                  <a:lnTo>
                    <a:pt x="141" y="1730"/>
                  </a:lnTo>
                  <a:lnTo>
                    <a:pt x="101" y="1642"/>
                  </a:lnTo>
                  <a:lnTo>
                    <a:pt x="110" y="1461"/>
                  </a:lnTo>
                  <a:lnTo>
                    <a:pt x="101" y="1275"/>
                  </a:lnTo>
                  <a:lnTo>
                    <a:pt x="48" y="1028"/>
                  </a:lnTo>
                  <a:lnTo>
                    <a:pt x="30" y="860"/>
                  </a:lnTo>
                  <a:lnTo>
                    <a:pt x="48" y="666"/>
                  </a:lnTo>
                  <a:lnTo>
                    <a:pt x="88" y="486"/>
                  </a:lnTo>
                  <a:lnTo>
                    <a:pt x="180" y="299"/>
                  </a:lnTo>
                  <a:lnTo>
                    <a:pt x="101" y="224"/>
                  </a:lnTo>
                  <a:lnTo>
                    <a:pt x="88" y="92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190000" y="361800"/>
              <a:ext cx="241560" cy="329040"/>
            </a:xfrm>
            <a:custGeom>
              <a:avLst/>
              <a:gdLst/>
              <a:ahLst/>
              <a:rect l="0" t="0" r="r" b="b"/>
              <a:pathLst>
                <a:path w="671" h="914">
                  <a:moveTo>
                    <a:pt x="114" y="234"/>
                  </a:moveTo>
                  <a:lnTo>
                    <a:pt x="207" y="216"/>
                  </a:lnTo>
                  <a:lnTo>
                    <a:pt x="304" y="220"/>
                  </a:lnTo>
                  <a:lnTo>
                    <a:pt x="384" y="261"/>
                  </a:lnTo>
                  <a:lnTo>
                    <a:pt x="428" y="309"/>
                  </a:lnTo>
                  <a:lnTo>
                    <a:pt x="450" y="358"/>
                  </a:lnTo>
                  <a:lnTo>
                    <a:pt x="450" y="402"/>
                  </a:lnTo>
                  <a:lnTo>
                    <a:pt x="424" y="433"/>
                  </a:lnTo>
                  <a:lnTo>
                    <a:pt x="384" y="455"/>
                  </a:lnTo>
                  <a:lnTo>
                    <a:pt x="330" y="459"/>
                  </a:lnTo>
                  <a:lnTo>
                    <a:pt x="273" y="446"/>
                  </a:lnTo>
                  <a:lnTo>
                    <a:pt x="211" y="406"/>
                  </a:lnTo>
                  <a:lnTo>
                    <a:pt x="167" y="371"/>
                  </a:lnTo>
                  <a:lnTo>
                    <a:pt x="149" y="490"/>
                  </a:lnTo>
                  <a:lnTo>
                    <a:pt x="114" y="574"/>
                  </a:lnTo>
                  <a:lnTo>
                    <a:pt x="0" y="764"/>
                  </a:lnTo>
                  <a:lnTo>
                    <a:pt x="163" y="914"/>
                  </a:lnTo>
                  <a:lnTo>
                    <a:pt x="286" y="666"/>
                  </a:lnTo>
                  <a:lnTo>
                    <a:pt x="424" y="689"/>
                  </a:lnTo>
                  <a:lnTo>
                    <a:pt x="512" y="671"/>
                  </a:lnTo>
                  <a:lnTo>
                    <a:pt x="596" y="613"/>
                  </a:lnTo>
                  <a:lnTo>
                    <a:pt x="644" y="543"/>
                  </a:lnTo>
                  <a:lnTo>
                    <a:pt x="671" y="446"/>
                  </a:lnTo>
                  <a:lnTo>
                    <a:pt x="671" y="349"/>
                  </a:lnTo>
                  <a:lnTo>
                    <a:pt x="644" y="243"/>
                  </a:lnTo>
                  <a:lnTo>
                    <a:pt x="591" y="141"/>
                  </a:lnTo>
                  <a:lnTo>
                    <a:pt x="521" y="61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3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145360" y="681120"/>
              <a:ext cx="87840" cy="65520"/>
            </a:xfrm>
            <a:custGeom>
              <a:avLst/>
              <a:gdLst/>
              <a:ahLst/>
              <a:rect l="0" t="0" r="r" b="b"/>
              <a:pathLst>
                <a:path w="244" h="182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3"/>
                  </a:lnTo>
                  <a:lnTo>
                    <a:pt x="48" y="156"/>
                  </a:lnTo>
                  <a:lnTo>
                    <a:pt x="146" y="182"/>
                  </a:lnTo>
                  <a:lnTo>
                    <a:pt x="222" y="178"/>
                  </a:lnTo>
                  <a:lnTo>
                    <a:pt x="244" y="138"/>
                  </a:lnTo>
                  <a:lnTo>
                    <a:pt x="231" y="98"/>
                  </a:lnTo>
                  <a:lnTo>
                    <a:pt x="200" y="44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609480" y="5335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enerally Accep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Princi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295280" y="2133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relationship of generally accepted accounting principles (GAAP) to financial statements and the independent CPA’s report, and identify the organizations that influence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1219320" y="251460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cus on understandability of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compass the conventions, rules, and procedures necessary to define accepted accounting practice at a particular tim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762120" y="3049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enerally Accep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Principles (GAAP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990720" y="1905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the representations by management and may be bi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audited by independent CP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audit ascertains that the financial statements have been prepared in accordance with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09480" y="457200"/>
            <a:ext cx="8502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nancial Statements, GAAP, and the Independent CPA’s Re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276720" y="1981080"/>
            <a:ext cx="28954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FAS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AICP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GAS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IAS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I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36600" y="457200"/>
            <a:ext cx="8807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rganizations that Influenc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urrent Pract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990720" y="2286000"/>
            <a:ext cx="7805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GAAP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AP are generally accep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principles; they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“conventions, rules,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dures necessary to defin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epted accounting practice at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icular ti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1828800" y="106668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553080" y="380880"/>
            <a:ext cx="2208600" cy="2208960"/>
            <a:chOff x="6553080" y="380880"/>
            <a:chExt cx="2208600" cy="2208960"/>
          </a:xfrm>
        </p:grpSpPr>
        <p:sp>
          <p:nvSpPr>
            <p:cNvPr id="765" name=""/>
            <p:cNvSpPr/>
            <p:nvPr/>
          </p:nvSpPr>
          <p:spPr>
            <a:xfrm>
              <a:off x="6559560" y="146520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9" y="0"/>
                  </a:moveTo>
                  <a:lnTo>
                    <a:pt x="515" y="97"/>
                  </a:lnTo>
                  <a:lnTo>
                    <a:pt x="515" y="374"/>
                  </a:lnTo>
                  <a:lnTo>
                    <a:pt x="599" y="573"/>
                  </a:lnTo>
                  <a:lnTo>
                    <a:pt x="679" y="679"/>
                  </a:lnTo>
                  <a:lnTo>
                    <a:pt x="546" y="815"/>
                  </a:lnTo>
                  <a:lnTo>
                    <a:pt x="374" y="1125"/>
                  </a:lnTo>
                  <a:lnTo>
                    <a:pt x="26" y="1619"/>
                  </a:lnTo>
                  <a:lnTo>
                    <a:pt x="0" y="1734"/>
                  </a:lnTo>
                  <a:lnTo>
                    <a:pt x="26" y="1835"/>
                  </a:lnTo>
                  <a:lnTo>
                    <a:pt x="136" y="1835"/>
                  </a:lnTo>
                  <a:lnTo>
                    <a:pt x="229" y="1720"/>
                  </a:lnTo>
                  <a:lnTo>
                    <a:pt x="374" y="1447"/>
                  </a:lnTo>
                  <a:lnTo>
                    <a:pt x="463" y="1328"/>
                  </a:lnTo>
                  <a:lnTo>
                    <a:pt x="515" y="1509"/>
                  </a:lnTo>
                  <a:lnTo>
                    <a:pt x="480" y="1707"/>
                  </a:lnTo>
                  <a:lnTo>
                    <a:pt x="335" y="1985"/>
                  </a:lnTo>
                  <a:lnTo>
                    <a:pt x="374" y="2051"/>
                  </a:lnTo>
                  <a:lnTo>
                    <a:pt x="463" y="2033"/>
                  </a:lnTo>
                  <a:lnTo>
                    <a:pt x="643" y="1888"/>
                  </a:lnTo>
                  <a:lnTo>
                    <a:pt x="790" y="1637"/>
                  </a:lnTo>
                  <a:lnTo>
                    <a:pt x="790" y="2073"/>
                  </a:lnTo>
                  <a:lnTo>
                    <a:pt x="971" y="2144"/>
                  </a:lnTo>
                  <a:lnTo>
                    <a:pt x="1081" y="1875"/>
                  </a:lnTo>
                  <a:lnTo>
                    <a:pt x="1165" y="2126"/>
                  </a:lnTo>
                  <a:lnTo>
                    <a:pt x="1240" y="2051"/>
                  </a:lnTo>
                  <a:lnTo>
                    <a:pt x="1271" y="1562"/>
                  </a:lnTo>
                  <a:lnTo>
                    <a:pt x="1491" y="1085"/>
                  </a:lnTo>
                  <a:lnTo>
                    <a:pt x="1442" y="815"/>
                  </a:lnTo>
                  <a:lnTo>
                    <a:pt x="1288" y="709"/>
                  </a:lnTo>
                  <a:lnTo>
                    <a:pt x="1129" y="723"/>
                  </a:lnTo>
                  <a:lnTo>
                    <a:pt x="1081" y="507"/>
                  </a:lnTo>
                  <a:lnTo>
                    <a:pt x="909" y="454"/>
                  </a:lnTo>
                  <a:lnTo>
                    <a:pt x="768" y="388"/>
                  </a:lnTo>
                  <a:lnTo>
                    <a:pt x="679" y="48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10280" y="1778040"/>
              <a:ext cx="155880" cy="375120"/>
            </a:xfrm>
            <a:custGeom>
              <a:avLst/>
              <a:gdLst/>
              <a:ahLst/>
              <a:rect l="0" t="0" r="r" b="b"/>
              <a:pathLst>
                <a:path w="433" h="1042">
                  <a:moveTo>
                    <a:pt x="211" y="0"/>
                  </a:moveTo>
                  <a:lnTo>
                    <a:pt x="433" y="269"/>
                  </a:lnTo>
                  <a:lnTo>
                    <a:pt x="322" y="853"/>
                  </a:lnTo>
                  <a:lnTo>
                    <a:pt x="0" y="1042"/>
                  </a:lnTo>
                  <a:lnTo>
                    <a:pt x="0" y="741"/>
                  </a:lnTo>
                  <a:lnTo>
                    <a:pt x="132" y="446"/>
                  </a:lnTo>
                  <a:lnTo>
                    <a:pt x="211" y="216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035920" y="156384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8" y="0"/>
                  </a:moveTo>
                  <a:lnTo>
                    <a:pt x="458" y="149"/>
                  </a:lnTo>
                  <a:lnTo>
                    <a:pt x="493" y="287"/>
                  </a:lnTo>
                  <a:lnTo>
                    <a:pt x="710" y="508"/>
                  </a:lnTo>
                  <a:lnTo>
                    <a:pt x="1103" y="636"/>
                  </a:lnTo>
                  <a:lnTo>
                    <a:pt x="1054" y="919"/>
                  </a:lnTo>
                  <a:lnTo>
                    <a:pt x="710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196120" y="1181160"/>
              <a:ext cx="552960" cy="744840"/>
            </a:xfrm>
            <a:custGeom>
              <a:avLst/>
              <a:gdLst/>
              <a:ahLst/>
              <a:rect l="0" t="0" r="r" b="b"/>
              <a:pathLst>
                <a:path w="1536" h="2069">
                  <a:moveTo>
                    <a:pt x="136" y="877"/>
                  </a:moveTo>
                  <a:lnTo>
                    <a:pt x="0" y="1023"/>
                  </a:lnTo>
                  <a:lnTo>
                    <a:pt x="26" y="1359"/>
                  </a:lnTo>
                  <a:lnTo>
                    <a:pt x="242" y="1513"/>
                  </a:lnTo>
                  <a:lnTo>
                    <a:pt x="260" y="2029"/>
                  </a:lnTo>
                  <a:lnTo>
                    <a:pt x="481" y="2029"/>
                  </a:lnTo>
                  <a:lnTo>
                    <a:pt x="464" y="1601"/>
                  </a:lnTo>
                  <a:lnTo>
                    <a:pt x="622" y="2051"/>
                  </a:lnTo>
                  <a:lnTo>
                    <a:pt x="733" y="2069"/>
                  </a:lnTo>
                  <a:lnTo>
                    <a:pt x="803" y="1919"/>
                  </a:lnTo>
                  <a:lnTo>
                    <a:pt x="821" y="1628"/>
                  </a:lnTo>
                  <a:lnTo>
                    <a:pt x="1054" y="1897"/>
                  </a:lnTo>
                  <a:lnTo>
                    <a:pt x="1151" y="1879"/>
                  </a:lnTo>
                  <a:lnTo>
                    <a:pt x="1129" y="1694"/>
                  </a:lnTo>
                  <a:lnTo>
                    <a:pt x="1041" y="1434"/>
                  </a:lnTo>
                  <a:lnTo>
                    <a:pt x="944" y="1257"/>
                  </a:lnTo>
                  <a:lnTo>
                    <a:pt x="984" y="1143"/>
                  </a:lnTo>
                  <a:lnTo>
                    <a:pt x="1041" y="1165"/>
                  </a:lnTo>
                  <a:lnTo>
                    <a:pt x="1258" y="1434"/>
                  </a:lnTo>
                  <a:lnTo>
                    <a:pt x="1488" y="1495"/>
                  </a:lnTo>
                  <a:lnTo>
                    <a:pt x="1536" y="1416"/>
                  </a:lnTo>
                  <a:lnTo>
                    <a:pt x="1505" y="1275"/>
                  </a:lnTo>
                  <a:lnTo>
                    <a:pt x="1072" y="855"/>
                  </a:lnTo>
                  <a:lnTo>
                    <a:pt x="733" y="727"/>
                  </a:lnTo>
                  <a:lnTo>
                    <a:pt x="684" y="498"/>
                  </a:lnTo>
                  <a:lnTo>
                    <a:pt x="803" y="286"/>
                  </a:lnTo>
                  <a:lnTo>
                    <a:pt x="803" y="66"/>
                  </a:lnTo>
                  <a:lnTo>
                    <a:pt x="715" y="0"/>
                  </a:lnTo>
                  <a:lnTo>
                    <a:pt x="464" y="564"/>
                  </a:lnTo>
                  <a:lnTo>
                    <a:pt x="242" y="643"/>
                  </a:lnTo>
                  <a:lnTo>
                    <a:pt x="185" y="798"/>
                  </a:lnTo>
                  <a:lnTo>
                    <a:pt x="136" y="87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88200" y="538200"/>
              <a:ext cx="603720" cy="948240"/>
            </a:xfrm>
            <a:custGeom>
              <a:avLst/>
              <a:gdLst/>
              <a:ahLst/>
              <a:rect l="0" t="0" r="r" b="b"/>
              <a:pathLst>
                <a:path w="1677" h="2634">
                  <a:moveTo>
                    <a:pt x="418" y="366"/>
                  </a:moveTo>
                  <a:lnTo>
                    <a:pt x="291" y="874"/>
                  </a:lnTo>
                  <a:lnTo>
                    <a:pt x="17" y="971"/>
                  </a:lnTo>
                  <a:lnTo>
                    <a:pt x="97" y="1134"/>
                  </a:lnTo>
                  <a:lnTo>
                    <a:pt x="0" y="1231"/>
                  </a:lnTo>
                  <a:lnTo>
                    <a:pt x="0" y="1412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52" y="2167"/>
                  </a:lnTo>
                  <a:lnTo>
                    <a:pt x="459" y="2418"/>
                  </a:lnTo>
                  <a:lnTo>
                    <a:pt x="799" y="2634"/>
                  </a:lnTo>
                  <a:lnTo>
                    <a:pt x="1143" y="2599"/>
                  </a:lnTo>
                  <a:lnTo>
                    <a:pt x="1302" y="2167"/>
                  </a:lnTo>
                  <a:lnTo>
                    <a:pt x="1338" y="1500"/>
                  </a:lnTo>
                  <a:lnTo>
                    <a:pt x="1677" y="1165"/>
                  </a:lnTo>
                  <a:lnTo>
                    <a:pt x="1664" y="1032"/>
                  </a:lnTo>
                  <a:lnTo>
                    <a:pt x="1629" y="971"/>
                  </a:lnTo>
                  <a:lnTo>
                    <a:pt x="1443" y="957"/>
                  </a:lnTo>
                  <a:lnTo>
                    <a:pt x="1505" y="781"/>
                  </a:lnTo>
                  <a:lnTo>
                    <a:pt x="1324" y="662"/>
                  </a:lnTo>
                  <a:lnTo>
                    <a:pt x="1253" y="286"/>
                  </a:lnTo>
                  <a:lnTo>
                    <a:pt x="733" y="0"/>
                  </a:lnTo>
                  <a:lnTo>
                    <a:pt x="459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32840" y="133020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08" y="167"/>
                  </a:moveTo>
                  <a:lnTo>
                    <a:pt x="530" y="313"/>
                  </a:lnTo>
                  <a:lnTo>
                    <a:pt x="640" y="485"/>
                  </a:lnTo>
                  <a:lnTo>
                    <a:pt x="1258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85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10"/>
                  </a:lnTo>
                  <a:lnTo>
                    <a:pt x="207" y="313"/>
                  </a:lnTo>
                  <a:lnTo>
                    <a:pt x="308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54800" y="411120"/>
              <a:ext cx="518040" cy="300240"/>
            </a:xfrm>
            <a:custGeom>
              <a:avLst/>
              <a:gdLst/>
              <a:ahLst/>
              <a:rect l="0" t="0" r="r" b="b"/>
              <a:pathLst>
                <a:path w="1439" h="834">
                  <a:moveTo>
                    <a:pt x="171" y="794"/>
                  </a:moveTo>
                  <a:lnTo>
                    <a:pt x="389" y="574"/>
                  </a:lnTo>
                  <a:lnTo>
                    <a:pt x="521" y="538"/>
                  </a:lnTo>
                  <a:lnTo>
                    <a:pt x="521" y="561"/>
                  </a:lnTo>
                  <a:lnTo>
                    <a:pt x="591" y="538"/>
                  </a:lnTo>
                  <a:lnTo>
                    <a:pt x="68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10" y="750"/>
                  </a:lnTo>
                  <a:lnTo>
                    <a:pt x="1210" y="658"/>
                  </a:lnTo>
                  <a:lnTo>
                    <a:pt x="1439" y="561"/>
                  </a:lnTo>
                  <a:lnTo>
                    <a:pt x="1369" y="401"/>
                  </a:lnTo>
                  <a:lnTo>
                    <a:pt x="1161" y="388"/>
                  </a:lnTo>
                  <a:lnTo>
                    <a:pt x="1192" y="216"/>
                  </a:lnTo>
                  <a:lnTo>
                    <a:pt x="1006" y="238"/>
                  </a:lnTo>
                  <a:lnTo>
                    <a:pt x="975" y="119"/>
                  </a:lnTo>
                  <a:lnTo>
                    <a:pt x="847" y="119"/>
                  </a:lnTo>
                  <a:lnTo>
                    <a:pt x="755" y="185"/>
                  </a:lnTo>
                  <a:lnTo>
                    <a:pt x="684" y="185"/>
                  </a:lnTo>
                  <a:lnTo>
                    <a:pt x="697" y="0"/>
                  </a:lnTo>
                  <a:lnTo>
                    <a:pt x="521" y="83"/>
                  </a:lnTo>
                  <a:lnTo>
                    <a:pt x="277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1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94480" y="1538280"/>
              <a:ext cx="165600" cy="859320"/>
            </a:xfrm>
            <a:custGeom>
              <a:avLst/>
              <a:gdLst/>
              <a:ahLst/>
              <a:rect l="0" t="0" r="r" b="b"/>
              <a:pathLst>
                <a:path w="460" h="2387">
                  <a:moveTo>
                    <a:pt x="234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195" y="383"/>
                  </a:lnTo>
                  <a:lnTo>
                    <a:pt x="39" y="702"/>
                  </a:lnTo>
                  <a:lnTo>
                    <a:pt x="0" y="1121"/>
                  </a:lnTo>
                  <a:lnTo>
                    <a:pt x="114" y="1672"/>
                  </a:lnTo>
                  <a:lnTo>
                    <a:pt x="114" y="1902"/>
                  </a:lnTo>
                  <a:lnTo>
                    <a:pt x="48" y="2074"/>
                  </a:lnTo>
                  <a:lnTo>
                    <a:pt x="296" y="2387"/>
                  </a:lnTo>
                  <a:lnTo>
                    <a:pt x="447" y="1924"/>
                  </a:lnTo>
                  <a:lnTo>
                    <a:pt x="447" y="1601"/>
                  </a:lnTo>
                  <a:lnTo>
                    <a:pt x="331" y="1306"/>
                  </a:lnTo>
                  <a:lnTo>
                    <a:pt x="269" y="900"/>
                  </a:lnTo>
                  <a:lnTo>
                    <a:pt x="385" y="507"/>
                  </a:lnTo>
                  <a:lnTo>
                    <a:pt x="350" y="352"/>
                  </a:lnTo>
                  <a:lnTo>
                    <a:pt x="460" y="268"/>
                  </a:lnTo>
                  <a:lnTo>
                    <a:pt x="447" y="167"/>
                  </a:lnTo>
                  <a:lnTo>
                    <a:pt x="309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88360" y="1252440"/>
              <a:ext cx="133560" cy="78120"/>
            </a:xfrm>
            <a:custGeom>
              <a:avLst/>
              <a:gdLst/>
              <a:ahLst/>
              <a:rect l="0" t="0" r="r" b="b"/>
              <a:pathLst>
                <a:path w="371" h="217">
                  <a:moveTo>
                    <a:pt x="0" y="66"/>
                  </a:moveTo>
                  <a:lnTo>
                    <a:pt x="145" y="217"/>
                  </a:lnTo>
                  <a:lnTo>
                    <a:pt x="292" y="199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5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43640" y="855720"/>
              <a:ext cx="167040" cy="168480"/>
            </a:xfrm>
            <a:custGeom>
              <a:avLst/>
              <a:gdLst/>
              <a:ahLst/>
              <a:rect l="0" t="0" r="r" b="b"/>
              <a:pathLst>
                <a:path w="464" h="468">
                  <a:moveTo>
                    <a:pt x="0" y="52"/>
                  </a:moveTo>
                  <a:lnTo>
                    <a:pt x="322" y="468"/>
                  </a:lnTo>
                  <a:lnTo>
                    <a:pt x="464" y="433"/>
                  </a:lnTo>
                  <a:lnTo>
                    <a:pt x="127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32720" y="820800"/>
              <a:ext cx="144720" cy="167040"/>
            </a:xfrm>
            <a:custGeom>
              <a:avLst/>
              <a:gdLst/>
              <a:ahLst/>
              <a:rect l="0" t="0" r="r" b="b"/>
              <a:pathLst>
                <a:path w="402" h="464">
                  <a:moveTo>
                    <a:pt x="0" y="66"/>
                  </a:moveTo>
                  <a:lnTo>
                    <a:pt x="278" y="464"/>
                  </a:lnTo>
                  <a:lnTo>
                    <a:pt x="402" y="358"/>
                  </a:lnTo>
                  <a:lnTo>
                    <a:pt x="11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84960" y="604800"/>
              <a:ext cx="573480" cy="419400"/>
            </a:xfrm>
            <a:custGeom>
              <a:avLst/>
              <a:gdLst/>
              <a:ahLst/>
              <a:rect l="0" t="0" r="r" b="b"/>
              <a:pathLst>
                <a:path w="1593" h="1165">
                  <a:moveTo>
                    <a:pt x="737" y="693"/>
                  </a:moveTo>
                  <a:lnTo>
                    <a:pt x="583" y="649"/>
                  </a:lnTo>
                  <a:lnTo>
                    <a:pt x="706" y="542"/>
                  </a:lnTo>
                  <a:lnTo>
                    <a:pt x="666" y="489"/>
                  </a:lnTo>
                  <a:lnTo>
                    <a:pt x="503" y="627"/>
                  </a:lnTo>
                  <a:lnTo>
                    <a:pt x="194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89" y="1156"/>
                  </a:lnTo>
                  <a:lnTo>
                    <a:pt x="238" y="1165"/>
                  </a:lnTo>
                  <a:lnTo>
                    <a:pt x="61" y="803"/>
                  </a:lnTo>
                  <a:lnTo>
                    <a:pt x="326" y="693"/>
                  </a:lnTo>
                  <a:lnTo>
                    <a:pt x="503" y="693"/>
                  </a:lnTo>
                  <a:lnTo>
                    <a:pt x="636" y="763"/>
                  </a:lnTo>
                  <a:lnTo>
                    <a:pt x="666" y="860"/>
                  </a:lnTo>
                  <a:lnTo>
                    <a:pt x="666" y="1085"/>
                  </a:lnTo>
                  <a:lnTo>
                    <a:pt x="666" y="1156"/>
                  </a:lnTo>
                  <a:lnTo>
                    <a:pt x="746" y="1050"/>
                  </a:lnTo>
                  <a:lnTo>
                    <a:pt x="746" y="821"/>
                  </a:lnTo>
                  <a:lnTo>
                    <a:pt x="852" y="821"/>
                  </a:lnTo>
                  <a:lnTo>
                    <a:pt x="909" y="1085"/>
                  </a:lnTo>
                  <a:lnTo>
                    <a:pt x="966" y="1107"/>
                  </a:lnTo>
                  <a:lnTo>
                    <a:pt x="1165" y="1107"/>
                  </a:lnTo>
                  <a:lnTo>
                    <a:pt x="1360" y="1059"/>
                  </a:lnTo>
                  <a:lnTo>
                    <a:pt x="1496" y="962"/>
                  </a:lnTo>
                  <a:lnTo>
                    <a:pt x="1514" y="724"/>
                  </a:lnTo>
                  <a:lnTo>
                    <a:pt x="1593" y="627"/>
                  </a:lnTo>
                  <a:lnTo>
                    <a:pt x="1549" y="564"/>
                  </a:lnTo>
                  <a:lnTo>
                    <a:pt x="1369" y="498"/>
                  </a:lnTo>
                  <a:lnTo>
                    <a:pt x="1342" y="260"/>
                  </a:lnTo>
                  <a:lnTo>
                    <a:pt x="1178" y="260"/>
                  </a:lnTo>
                  <a:lnTo>
                    <a:pt x="975" y="0"/>
                  </a:lnTo>
                  <a:lnTo>
                    <a:pt x="1160" y="286"/>
                  </a:lnTo>
                  <a:lnTo>
                    <a:pt x="1214" y="286"/>
                  </a:lnTo>
                  <a:lnTo>
                    <a:pt x="1249" y="489"/>
                  </a:lnTo>
                  <a:lnTo>
                    <a:pt x="1032" y="564"/>
                  </a:lnTo>
                  <a:lnTo>
                    <a:pt x="860" y="507"/>
                  </a:lnTo>
                  <a:lnTo>
                    <a:pt x="838" y="564"/>
                  </a:lnTo>
                  <a:lnTo>
                    <a:pt x="927" y="627"/>
                  </a:lnTo>
                  <a:lnTo>
                    <a:pt x="927" y="680"/>
                  </a:lnTo>
                  <a:lnTo>
                    <a:pt x="1116" y="591"/>
                  </a:lnTo>
                  <a:lnTo>
                    <a:pt x="1285" y="577"/>
                  </a:lnTo>
                  <a:lnTo>
                    <a:pt x="1461" y="600"/>
                  </a:lnTo>
                  <a:lnTo>
                    <a:pt x="1461" y="636"/>
                  </a:lnTo>
                  <a:lnTo>
                    <a:pt x="1373" y="710"/>
                  </a:lnTo>
                  <a:lnTo>
                    <a:pt x="1342" y="821"/>
                  </a:lnTo>
                  <a:lnTo>
                    <a:pt x="1333" y="962"/>
                  </a:lnTo>
                  <a:lnTo>
                    <a:pt x="1227" y="1019"/>
                  </a:lnTo>
                  <a:lnTo>
                    <a:pt x="1072" y="1037"/>
                  </a:lnTo>
                  <a:lnTo>
                    <a:pt x="966" y="1037"/>
                  </a:lnTo>
                  <a:lnTo>
                    <a:pt x="931" y="993"/>
                  </a:lnTo>
                  <a:lnTo>
                    <a:pt x="909" y="724"/>
                  </a:lnTo>
                  <a:lnTo>
                    <a:pt x="746" y="724"/>
                  </a:lnTo>
                  <a:lnTo>
                    <a:pt x="737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481880" y="1087560"/>
              <a:ext cx="186120" cy="84600"/>
            </a:xfrm>
            <a:custGeom>
              <a:avLst/>
              <a:gdLst/>
              <a:ahLst/>
              <a:rect l="0" t="0" r="r" b="b"/>
              <a:pathLst>
                <a:path w="517" h="235">
                  <a:moveTo>
                    <a:pt x="0" y="0"/>
                  </a:moveTo>
                  <a:lnTo>
                    <a:pt x="88" y="106"/>
                  </a:lnTo>
                  <a:lnTo>
                    <a:pt x="305" y="106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500" y="71"/>
                  </a:lnTo>
                  <a:lnTo>
                    <a:pt x="500" y="106"/>
                  </a:lnTo>
                  <a:lnTo>
                    <a:pt x="283" y="235"/>
                  </a:lnTo>
                  <a:lnTo>
                    <a:pt x="168" y="235"/>
                  </a:lnTo>
                  <a:lnTo>
                    <a:pt x="110" y="187"/>
                  </a:lnTo>
                  <a:lnTo>
                    <a:pt x="44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75600" y="949320"/>
              <a:ext cx="281520" cy="451080"/>
            </a:xfrm>
            <a:custGeom>
              <a:avLst/>
              <a:gdLst/>
              <a:ahLst/>
              <a:rect l="0" t="0" r="r" b="b"/>
              <a:pathLst>
                <a:path w="782" h="1253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4"/>
                  </a:lnTo>
                  <a:lnTo>
                    <a:pt x="358" y="675"/>
                  </a:lnTo>
                  <a:lnTo>
                    <a:pt x="402" y="1050"/>
                  </a:lnTo>
                  <a:lnTo>
                    <a:pt x="499" y="1253"/>
                  </a:lnTo>
                  <a:lnTo>
                    <a:pt x="402" y="1107"/>
                  </a:lnTo>
                  <a:lnTo>
                    <a:pt x="367" y="949"/>
                  </a:lnTo>
                  <a:lnTo>
                    <a:pt x="300" y="529"/>
                  </a:lnTo>
                  <a:lnTo>
                    <a:pt x="243" y="551"/>
                  </a:lnTo>
                  <a:lnTo>
                    <a:pt x="163" y="507"/>
                  </a:lnTo>
                  <a:lnTo>
                    <a:pt x="17" y="282"/>
                  </a:lnTo>
                  <a:lnTo>
                    <a:pt x="0" y="158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57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4"/>
                  </a:lnTo>
                  <a:lnTo>
                    <a:pt x="208" y="348"/>
                  </a:lnTo>
                  <a:lnTo>
                    <a:pt x="208" y="123"/>
                  </a:lnTo>
                  <a:lnTo>
                    <a:pt x="292" y="171"/>
                  </a:lnTo>
                  <a:lnTo>
                    <a:pt x="433" y="202"/>
                  </a:lnTo>
                  <a:lnTo>
                    <a:pt x="565" y="194"/>
                  </a:lnTo>
                  <a:lnTo>
                    <a:pt x="689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50120" y="592200"/>
              <a:ext cx="84600" cy="241560"/>
            </a:xfrm>
            <a:custGeom>
              <a:avLst/>
              <a:gdLst/>
              <a:ahLst/>
              <a:rect l="0" t="0" r="r" b="b"/>
              <a:pathLst>
                <a:path w="235" h="671">
                  <a:moveTo>
                    <a:pt x="120" y="671"/>
                  </a:moveTo>
                  <a:lnTo>
                    <a:pt x="235" y="273"/>
                  </a:lnTo>
                  <a:lnTo>
                    <a:pt x="26" y="132"/>
                  </a:lnTo>
                  <a:lnTo>
                    <a:pt x="0" y="0"/>
                  </a:lnTo>
                  <a:lnTo>
                    <a:pt x="17" y="163"/>
                  </a:lnTo>
                  <a:lnTo>
                    <a:pt x="89" y="229"/>
                  </a:lnTo>
                  <a:lnTo>
                    <a:pt x="93" y="428"/>
                  </a:lnTo>
                  <a:lnTo>
                    <a:pt x="142" y="508"/>
                  </a:lnTo>
                  <a:lnTo>
                    <a:pt x="120" y="6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46880" y="38088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3" y="689"/>
                  </a:lnTo>
                  <a:lnTo>
                    <a:pt x="149" y="574"/>
                  </a:lnTo>
                  <a:lnTo>
                    <a:pt x="176" y="375"/>
                  </a:lnTo>
                  <a:lnTo>
                    <a:pt x="277" y="331"/>
                  </a:lnTo>
                  <a:lnTo>
                    <a:pt x="291" y="547"/>
                  </a:lnTo>
                  <a:lnTo>
                    <a:pt x="590" y="171"/>
                  </a:lnTo>
                  <a:lnTo>
                    <a:pt x="657" y="145"/>
                  </a:lnTo>
                  <a:lnTo>
                    <a:pt x="608" y="296"/>
                  </a:lnTo>
                  <a:lnTo>
                    <a:pt x="784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4"/>
                  </a:lnTo>
                  <a:lnTo>
                    <a:pt x="1151" y="375"/>
                  </a:lnTo>
                  <a:lnTo>
                    <a:pt x="1041" y="481"/>
                  </a:lnTo>
                  <a:lnTo>
                    <a:pt x="1407" y="547"/>
                  </a:lnTo>
                  <a:lnTo>
                    <a:pt x="1160" y="622"/>
                  </a:lnTo>
                  <a:lnTo>
                    <a:pt x="1469" y="663"/>
                  </a:lnTo>
                  <a:lnTo>
                    <a:pt x="1112" y="751"/>
                  </a:lnTo>
                  <a:lnTo>
                    <a:pt x="1182" y="817"/>
                  </a:lnTo>
                  <a:lnTo>
                    <a:pt x="1085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4" y="879"/>
                  </a:lnTo>
                  <a:lnTo>
                    <a:pt x="1407" y="738"/>
                  </a:lnTo>
                  <a:lnTo>
                    <a:pt x="1588" y="676"/>
                  </a:lnTo>
                  <a:lnTo>
                    <a:pt x="1460" y="609"/>
                  </a:lnTo>
                  <a:lnTo>
                    <a:pt x="1756" y="587"/>
                  </a:lnTo>
                  <a:lnTo>
                    <a:pt x="1500" y="441"/>
                  </a:lnTo>
                  <a:lnTo>
                    <a:pt x="1209" y="415"/>
                  </a:lnTo>
                  <a:lnTo>
                    <a:pt x="1434" y="269"/>
                  </a:lnTo>
                  <a:lnTo>
                    <a:pt x="1019" y="269"/>
                  </a:lnTo>
                  <a:lnTo>
                    <a:pt x="1222" y="132"/>
                  </a:lnTo>
                  <a:lnTo>
                    <a:pt x="913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30" y="424"/>
                  </a:lnTo>
                  <a:lnTo>
                    <a:pt x="291" y="261"/>
                  </a:lnTo>
                  <a:lnTo>
                    <a:pt x="127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5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85120" y="549360"/>
              <a:ext cx="178200" cy="97200"/>
            </a:xfrm>
            <a:custGeom>
              <a:avLst/>
              <a:gdLst/>
              <a:ahLst/>
              <a:rect l="0" t="0" r="r" b="b"/>
              <a:pathLst>
                <a:path w="495" h="270">
                  <a:moveTo>
                    <a:pt x="0" y="270"/>
                  </a:moveTo>
                  <a:lnTo>
                    <a:pt x="181" y="0"/>
                  </a:lnTo>
                  <a:lnTo>
                    <a:pt x="181" y="177"/>
                  </a:lnTo>
                  <a:lnTo>
                    <a:pt x="252" y="106"/>
                  </a:lnTo>
                  <a:lnTo>
                    <a:pt x="305" y="204"/>
                  </a:lnTo>
                  <a:lnTo>
                    <a:pt x="495" y="257"/>
                  </a:lnTo>
                  <a:lnTo>
                    <a:pt x="296" y="222"/>
                  </a:lnTo>
                  <a:lnTo>
                    <a:pt x="239" y="155"/>
                  </a:lnTo>
                  <a:lnTo>
                    <a:pt x="155" y="222"/>
                  </a:lnTo>
                  <a:lnTo>
                    <a:pt x="155" y="142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469280" y="1200240"/>
              <a:ext cx="216360" cy="141480"/>
            </a:xfrm>
            <a:custGeom>
              <a:avLst/>
              <a:gdLst/>
              <a:ahLst/>
              <a:rect l="0" t="0" r="r" b="b"/>
              <a:pathLst>
                <a:path w="601" h="393">
                  <a:moveTo>
                    <a:pt x="114" y="136"/>
                  </a:moveTo>
                  <a:lnTo>
                    <a:pt x="358" y="119"/>
                  </a:lnTo>
                  <a:lnTo>
                    <a:pt x="478" y="145"/>
                  </a:lnTo>
                  <a:lnTo>
                    <a:pt x="535" y="88"/>
                  </a:lnTo>
                  <a:lnTo>
                    <a:pt x="601" y="217"/>
                  </a:lnTo>
                  <a:lnTo>
                    <a:pt x="562" y="243"/>
                  </a:lnTo>
                  <a:lnTo>
                    <a:pt x="509" y="194"/>
                  </a:lnTo>
                  <a:lnTo>
                    <a:pt x="433" y="283"/>
                  </a:lnTo>
                  <a:lnTo>
                    <a:pt x="278" y="393"/>
                  </a:lnTo>
                  <a:lnTo>
                    <a:pt x="212" y="393"/>
                  </a:lnTo>
                  <a:lnTo>
                    <a:pt x="114" y="336"/>
                  </a:lnTo>
                  <a:lnTo>
                    <a:pt x="225" y="384"/>
                  </a:lnTo>
                  <a:lnTo>
                    <a:pt x="265" y="384"/>
                  </a:lnTo>
                  <a:lnTo>
                    <a:pt x="358" y="314"/>
                  </a:lnTo>
                  <a:lnTo>
                    <a:pt x="428" y="180"/>
                  </a:lnTo>
                  <a:lnTo>
                    <a:pt x="327" y="158"/>
                  </a:lnTo>
                  <a:lnTo>
                    <a:pt x="261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40480" y="890640"/>
              <a:ext cx="459000" cy="655920"/>
            </a:xfrm>
            <a:custGeom>
              <a:avLst/>
              <a:gdLst/>
              <a:ahLst/>
              <a:rect l="0" t="0" r="r" b="b"/>
              <a:pathLst>
                <a:path w="1275" h="1822">
                  <a:moveTo>
                    <a:pt x="1072" y="0"/>
                  </a:moveTo>
                  <a:lnTo>
                    <a:pt x="1196" y="0"/>
                  </a:lnTo>
                  <a:lnTo>
                    <a:pt x="1275" y="88"/>
                  </a:lnTo>
                  <a:lnTo>
                    <a:pt x="1275" y="185"/>
                  </a:lnTo>
                  <a:lnTo>
                    <a:pt x="1169" y="476"/>
                  </a:lnTo>
                  <a:lnTo>
                    <a:pt x="1063" y="612"/>
                  </a:lnTo>
                  <a:lnTo>
                    <a:pt x="953" y="630"/>
                  </a:lnTo>
                  <a:lnTo>
                    <a:pt x="927" y="630"/>
                  </a:lnTo>
                  <a:lnTo>
                    <a:pt x="927" y="993"/>
                  </a:lnTo>
                  <a:lnTo>
                    <a:pt x="979" y="1253"/>
                  </a:lnTo>
                  <a:lnTo>
                    <a:pt x="979" y="1460"/>
                  </a:lnTo>
                  <a:lnTo>
                    <a:pt x="785" y="1676"/>
                  </a:lnTo>
                  <a:lnTo>
                    <a:pt x="520" y="1822"/>
                  </a:lnTo>
                  <a:lnTo>
                    <a:pt x="352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39" y="1438"/>
                  </a:lnTo>
                  <a:lnTo>
                    <a:pt x="0" y="1376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4" y="1566"/>
                  </a:lnTo>
                  <a:lnTo>
                    <a:pt x="635" y="1473"/>
                  </a:lnTo>
                  <a:lnTo>
                    <a:pt x="733" y="1376"/>
                  </a:lnTo>
                  <a:lnTo>
                    <a:pt x="838" y="1187"/>
                  </a:lnTo>
                  <a:lnTo>
                    <a:pt x="856" y="966"/>
                  </a:lnTo>
                  <a:lnTo>
                    <a:pt x="891" y="268"/>
                  </a:lnTo>
                  <a:lnTo>
                    <a:pt x="931" y="370"/>
                  </a:lnTo>
                  <a:lnTo>
                    <a:pt x="1059" y="242"/>
                  </a:lnTo>
                  <a:lnTo>
                    <a:pt x="1187" y="185"/>
                  </a:lnTo>
                  <a:lnTo>
                    <a:pt x="1226" y="114"/>
                  </a:lnTo>
                  <a:lnTo>
                    <a:pt x="1204" y="44"/>
                  </a:lnTo>
                  <a:lnTo>
                    <a:pt x="1151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30920" y="1455840"/>
              <a:ext cx="370080" cy="608400"/>
            </a:xfrm>
            <a:custGeom>
              <a:avLst/>
              <a:gdLst/>
              <a:ahLst/>
              <a:rect l="0" t="0" r="r" b="b"/>
              <a:pathLst>
                <a:path w="1028" h="1690">
                  <a:moveTo>
                    <a:pt x="127" y="0"/>
                  </a:moveTo>
                  <a:lnTo>
                    <a:pt x="246" y="74"/>
                  </a:lnTo>
                  <a:lnTo>
                    <a:pt x="339" y="418"/>
                  </a:lnTo>
                  <a:lnTo>
                    <a:pt x="605" y="499"/>
                  </a:lnTo>
                  <a:lnTo>
                    <a:pt x="675" y="587"/>
                  </a:lnTo>
                  <a:lnTo>
                    <a:pt x="684" y="719"/>
                  </a:lnTo>
                  <a:lnTo>
                    <a:pt x="816" y="702"/>
                  </a:lnTo>
                  <a:lnTo>
                    <a:pt x="979" y="807"/>
                  </a:lnTo>
                  <a:lnTo>
                    <a:pt x="1028" y="949"/>
                  </a:lnTo>
                  <a:lnTo>
                    <a:pt x="1028" y="1182"/>
                  </a:lnTo>
                  <a:lnTo>
                    <a:pt x="816" y="1545"/>
                  </a:lnTo>
                  <a:lnTo>
                    <a:pt x="750" y="1690"/>
                  </a:lnTo>
                  <a:lnTo>
                    <a:pt x="785" y="1496"/>
                  </a:lnTo>
                  <a:lnTo>
                    <a:pt x="750" y="1421"/>
                  </a:lnTo>
                  <a:lnTo>
                    <a:pt x="622" y="1298"/>
                  </a:lnTo>
                  <a:lnTo>
                    <a:pt x="418" y="1147"/>
                  </a:lnTo>
                  <a:lnTo>
                    <a:pt x="662" y="1235"/>
                  </a:lnTo>
                  <a:lnTo>
                    <a:pt x="803" y="1346"/>
                  </a:lnTo>
                  <a:lnTo>
                    <a:pt x="878" y="1329"/>
                  </a:lnTo>
                  <a:lnTo>
                    <a:pt x="922" y="1262"/>
                  </a:lnTo>
                  <a:lnTo>
                    <a:pt x="979" y="1099"/>
                  </a:lnTo>
                  <a:lnTo>
                    <a:pt x="957" y="931"/>
                  </a:lnTo>
                  <a:lnTo>
                    <a:pt x="887" y="838"/>
                  </a:lnTo>
                  <a:lnTo>
                    <a:pt x="759" y="807"/>
                  </a:lnTo>
                  <a:lnTo>
                    <a:pt x="622" y="807"/>
                  </a:lnTo>
                  <a:lnTo>
                    <a:pt x="569" y="561"/>
                  </a:lnTo>
                  <a:lnTo>
                    <a:pt x="352" y="468"/>
                  </a:lnTo>
                  <a:lnTo>
                    <a:pt x="352" y="538"/>
                  </a:lnTo>
                  <a:lnTo>
                    <a:pt x="246" y="361"/>
                  </a:lnTo>
                  <a:lnTo>
                    <a:pt x="185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9"/>
                  </a:lnTo>
                  <a:lnTo>
                    <a:pt x="83" y="605"/>
                  </a:lnTo>
                  <a:lnTo>
                    <a:pt x="13" y="418"/>
                  </a:lnTo>
                  <a:lnTo>
                    <a:pt x="0" y="185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553080" y="1722600"/>
              <a:ext cx="243360" cy="486000"/>
            </a:xfrm>
            <a:custGeom>
              <a:avLst/>
              <a:gdLst/>
              <a:ahLst/>
              <a:rect l="0" t="0" r="r" b="b"/>
              <a:pathLst>
                <a:path w="676" h="1350">
                  <a:moveTo>
                    <a:pt x="676" y="0"/>
                  </a:moveTo>
                  <a:lnTo>
                    <a:pt x="535" y="88"/>
                  </a:lnTo>
                  <a:lnTo>
                    <a:pt x="375" y="414"/>
                  </a:lnTo>
                  <a:lnTo>
                    <a:pt x="217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5" y="1138"/>
                  </a:lnTo>
                  <a:lnTo>
                    <a:pt x="132" y="1138"/>
                  </a:lnTo>
                  <a:lnTo>
                    <a:pt x="261" y="1019"/>
                  </a:lnTo>
                  <a:lnTo>
                    <a:pt x="362" y="777"/>
                  </a:lnTo>
                  <a:lnTo>
                    <a:pt x="499" y="630"/>
                  </a:lnTo>
                  <a:lnTo>
                    <a:pt x="499" y="825"/>
                  </a:lnTo>
                  <a:lnTo>
                    <a:pt x="481" y="1006"/>
                  </a:lnTo>
                  <a:lnTo>
                    <a:pt x="327" y="1240"/>
                  </a:lnTo>
                  <a:lnTo>
                    <a:pt x="327" y="1315"/>
                  </a:lnTo>
                  <a:lnTo>
                    <a:pt x="481" y="1350"/>
                  </a:lnTo>
                  <a:lnTo>
                    <a:pt x="375" y="1284"/>
                  </a:lnTo>
                  <a:lnTo>
                    <a:pt x="389" y="1240"/>
                  </a:lnTo>
                  <a:lnTo>
                    <a:pt x="490" y="1068"/>
                  </a:lnTo>
                  <a:lnTo>
                    <a:pt x="557" y="750"/>
                  </a:lnTo>
                  <a:lnTo>
                    <a:pt x="513" y="568"/>
                  </a:lnTo>
                  <a:lnTo>
                    <a:pt x="402" y="670"/>
                  </a:lnTo>
                  <a:lnTo>
                    <a:pt x="158" y="1076"/>
                  </a:lnTo>
                  <a:lnTo>
                    <a:pt x="97" y="1090"/>
                  </a:lnTo>
                  <a:lnTo>
                    <a:pt x="35" y="1041"/>
                  </a:lnTo>
                  <a:lnTo>
                    <a:pt x="35" y="918"/>
                  </a:lnTo>
                  <a:lnTo>
                    <a:pt x="132" y="763"/>
                  </a:lnTo>
                  <a:lnTo>
                    <a:pt x="402" y="436"/>
                  </a:lnTo>
                  <a:lnTo>
                    <a:pt x="557" y="123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734160" y="199692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63" y="158"/>
                  </a:lnTo>
                  <a:lnTo>
                    <a:pt x="332" y="591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9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919920" y="200988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66" y="92"/>
                  </a:lnTo>
                  <a:lnTo>
                    <a:pt x="137" y="552"/>
                  </a:lnTo>
                  <a:lnTo>
                    <a:pt x="226" y="552"/>
                  </a:lnTo>
                  <a:lnTo>
                    <a:pt x="262" y="66"/>
                  </a:lnTo>
                  <a:lnTo>
                    <a:pt x="279" y="0"/>
                  </a:lnTo>
                  <a:lnTo>
                    <a:pt x="262" y="380"/>
                  </a:lnTo>
                  <a:lnTo>
                    <a:pt x="226" y="583"/>
                  </a:lnTo>
                  <a:lnTo>
                    <a:pt x="111" y="583"/>
                  </a:lnTo>
                  <a:lnTo>
                    <a:pt x="57" y="180"/>
                  </a:lnTo>
                  <a:lnTo>
                    <a:pt x="30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194680" y="118728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1" y="847"/>
                  </a:moveTo>
                  <a:lnTo>
                    <a:pt x="229" y="595"/>
                  </a:lnTo>
                  <a:lnTo>
                    <a:pt x="450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90" y="568"/>
                  </a:lnTo>
                  <a:lnTo>
                    <a:pt x="246" y="643"/>
                  </a:lnTo>
                  <a:lnTo>
                    <a:pt x="216" y="847"/>
                  </a:lnTo>
                  <a:lnTo>
                    <a:pt x="295" y="847"/>
                  </a:lnTo>
                  <a:lnTo>
                    <a:pt x="92" y="927"/>
                  </a:lnTo>
                  <a:lnTo>
                    <a:pt x="35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5" y="1337"/>
                  </a:lnTo>
                  <a:lnTo>
                    <a:pt x="0" y="1156"/>
                  </a:lnTo>
                  <a:lnTo>
                    <a:pt x="17" y="971"/>
                  </a:lnTo>
                  <a:lnTo>
                    <a:pt x="101" y="847"/>
                  </a:lnTo>
                  <a:lnTo>
                    <a:pt x="171" y="8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56680" y="118728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4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5"/>
                  </a:lnTo>
                  <a:lnTo>
                    <a:pt x="273" y="512"/>
                  </a:lnTo>
                  <a:lnTo>
                    <a:pt x="295" y="675"/>
                  </a:lnTo>
                  <a:lnTo>
                    <a:pt x="671" y="843"/>
                  </a:lnTo>
                  <a:lnTo>
                    <a:pt x="1116" y="1324"/>
                  </a:lnTo>
                  <a:lnTo>
                    <a:pt x="1125" y="1448"/>
                  </a:lnTo>
                  <a:lnTo>
                    <a:pt x="1103" y="1505"/>
                  </a:lnTo>
                  <a:lnTo>
                    <a:pt x="931" y="1505"/>
                  </a:lnTo>
                  <a:lnTo>
                    <a:pt x="785" y="1413"/>
                  </a:lnTo>
                  <a:lnTo>
                    <a:pt x="666" y="1258"/>
                  </a:lnTo>
                  <a:lnTo>
                    <a:pt x="605" y="1174"/>
                  </a:lnTo>
                  <a:lnTo>
                    <a:pt x="520" y="1152"/>
                  </a:lnTo>
                  <a:lnTo>
                    <a:pt x="618" y="1152"/>
                  </a:lnTo>
                  <a:lnTo>
                    <a:pt x="799" y="1399"/>
                  </a:lnTo>
                  <a:lnTo>
                    <a:pt x="1037" y="1470"/>
                  </a:lnTo>
                  <a:lnTo>
                    <a:pt x="1090" y="1399"/>
                  </a:lnTo>
                  <a:lnTo>
                    <a:pt x="1059" y="1285"/>
                  </a:lnTo>
                  <a:lnTo>
                    <a:pt x="649" y="944"/>
                  </a:lnTo>
                  <a:lnTo>
                    <a:pt x="596" y="843"/>
                  </a:lnTo>
                  <a:lnTo>
                    <a:pt x="273" y="763"/>
                  </a:lnTo>
                  <a:lnTo>
                    <a:pt x="220" y="843"/>
                  </a:lnTo>
                  <a:lnTo>
                    <a:pt x="0" y="988"/>
                  </a:lnTo>
                  <a:lnTo>
                    <a:pt x="207" y="821"/>
                  </a:lnTo>
                  <a:lnTo>
                    <a:pt x="220" y="715"/>
                  </a:lnTo>
                  <a:lnTo>
                    <a:pt x="220" y="477"/>
                  </a:lnTo>
                  <a:lnTo>
                    <a:pt x="361" y="295"/>
                  </a:lnTo>
                  <a:lnTo>
                    <a:pt x="361" y="61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283600" y="1614600"/>
              <a:ext cx="343440" cy="321120"/>
            </a:xfrm>
            <a:custGeom>
              <a:avLst/>
              <a:gdLst/>
              <a:ahLst/>
              <a:rect l="0" t="0" r="r" b="b"/>
              <a:pathLst>
                <a:path w="954" h="892">
                  <a:moveTo>
                    <a:pt x="716" y="0"/>
                  </a:moveTo>
                  <a:lnTo>
                    <a:pt x="688" y="74"/>
                  </a:lnTo>
                  <a:lnTo>
                    <a:pt x="831" y="371"/>
                  </a:lnTo>
                  <a:lnTo>
                    <a:pt x="905" y="676"/>
                  </a:lnTo>
                  <a:lnTo>
                    <a:pt x="822" y="676"/>
                  </a:lnTo>
                  <a:lnTo>
                    <a:pt x="680" y="538"/>
                  </a:lnTo>
                  <a:lnTo>
                    <a:pt x="547" y="261"/>
                  </a:lnTo>
                  <a:lnTo>
                    <a:pt x="446" y="216"/>
                  </a:lnTo>
                  <a:lnTo>
                    <a:pt x="459" y="371"/>
                  </a:lnTo>
                  <a:lnTo>
                    <a:pt x="556" y="477"/>
                  </a:lnTo>
                  <a:lnTo>
                    <a:pt x="556" y="694"/>
                  </a:lnTo>
                  <a:lnTo>
                    <a:pt x="494" y="848"/>
                  </a:lnTo>
                  <a:lnTo>
                    <a:pt x="402" y="786"/>
                  </a:lnTo>
                  <a:lnTo>
                    <a:pt x="292" y="538"/>
                  </a:lnTo>
                  <a:lnTo>
                    <a:pt x="269" y="371"/>
                  </a:lnTo>
                  <a:lnTo>
                    <a:pt x="198" y="318"/>
                  </a:lnTo>
                  <a:lnTo>
                    <a:pt x="185" y="756"/>
                  </a:lnTo>
                  <a:lnTo>
                    <a:pt x="101" y="817"/>
                  </a:lnTo>
                  <a:lnTo>
                    <a:pt x="22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57" y="879"/>
                  </a:lnTo>
                  <a:lnTo>
                    <a:pt x="185" y="879"/>
                  </a:lnTo>
                  <a:lnTo>
                    <a:pt x="233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87" y="773"/>
                  </a:lnTo>
                  <a:lnTo>
                    <a:pt x="587" y="494"/>
                  </a:lnTo>
                  <a:lnTo>
                    <a:pt x="822" y="725"/>
                  </a:lnTo>
                  <a:lnTo>
                    <a:pt x="941" y="725"/>
                  </a:lnTo>
                  <a:lnTo>
                    <a:pt x="954" y="569"/>
                  </a:lnTo>
                  <a:lnTo>
                    <a:pt x="861" y="292"/>
                  </a:lnTo>
                  <a:lnTo>
                    <a:pt x="716" y="61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889680" y="1281240"/>
              <a:ext cx="1535400" cy="1308600"/>
            </a:xfrm>
            <a:custGeom>
              <a:avLst/>
              <a:gdLst/>
              <a:ahLst/>
              <a:rect l="0" t="0" r="r" b="b"/>
              <a:pathLst>
                <a:path w="4265" h="3635">
                  <a:moveTo>
                    <a:pt x="1534" y="308"/>
                  </a:moveTo>
                  <a:lnTo>
                    <a:pt x="1459" y="317"/>
                  </a:lnTo>
                  <a:lnTo>
                    <a:pt x="1340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14" y="586"/>
                  </a:lnTo>
                  <a:lnTo>
                    <a:pt x="630" y="877"/>
                  </a:lnTo>
                  <a:lnTo>
                    <a:pt x="652" y="1002"/>
                  </a:lnTo>
                  <a:lnTo>
                    <a:pt x="560" y="1107"/>
                  </a:lnTo>
                  <a:lnTo>
                    <a:pt x="560" y="1200"/>
                  </a:lnTo>
                  <a:lnTo>
                    <a:pt x="670" y="1473"/>
                  </a:lnTo>
                  <a:lnTo>
                    <a:pt x="679" y="1813"/>
                  </a:lnTo>
                  <a:lnTo>
                    <a:pt x="612" y="2126"/>
                  </a:lnTo>
                  <a:lnTo>
                    <a:pt x="339" y="2320"/>
                  </a:lnTo>
                  <a:lnTo>
                    <a:pt x="295" y="2576"/>
                  </a:lnTo>
                  <a:lnTo>
                    <a:pt x="216" y="2576"/>
                  </a:lnTo>
                  <a:lnTo>
                    <a:pt x="167" y="2364"/>
                  </a:lnTo>
                  <a:lnTo>
                    <a:pt x="92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94" y="2965"/>
                  </a:lnTo>
                  <a:lnTo>
                    <a:pt x="326" y="2982"/>
                  </a:lnTo>
                  <a:lnTo>
                    <a:pt x="560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203" y="2673"/>
                  </a:lnTo>
                  <a:lnTo>
                    <a:pt x="1225" y="3274"/>
                  </a:lnTo>
                  <a:lnTo>
                    <a:pt x="1203" y="3635"/>
                  </a:lnTo>
                  <a:lnTo>
                    <a:pt x="3661" y="3635"/>
                  </a:lnTo>
                  <a:lnTo>
                    <a:pt x="3484" y="3243"/>
                  </a:lnTo>
                  <a:lnTo>
                    <a:pt x="3396" y="2903"/>
                  </a:lnTo>
                  <a:lnTo>
                    <a:pt x="3374" y="2408"/>
                  </a:lnTo>
                  <a:lnTo>
                    <a:pt x="3515" y="2514"/>
                  </a:lnTo>
                  <a:lnTo>
                    <a:pt x="3661" y="2514"/>
                  </a:lnTo>
                  <a:lnTo>
                    <a:pt x="3868" y="2382"/>
                  </a:lnTo>
                  <a:lnTo>
                    <a:pt x="4000" y="2364"/>
                  </a:lnTo>
                  <a:lnTo>
                    <a:pt x="4088" y="2232"/>
                  </a:lnTo>
                  <a:lnTo>
                    <a:pt x="4141" y="1892"/>
                  </a:lnTo>
                  <a:lnTo>
                    <a:pt x="4265" y="1747"/>
                  </a:lnTo>
                  <a:lnTo>
                    <a:pt x="4199" y="1650"/>
                  </a:lnTo>
                  <a:lnTo>
                    <a:pt x="4110" y="1650"/>
                  </a:lnTo>
                  <a:lnTo>
                    <a:pt x="4035" y="1716"/>
                  </a:lnTo>
                  <a:lnTo>
                    <a:pt x="3969" y="1734"/>
                  </a:lnTo>
                  <a:lnTo>
                    <a:pt x="3881" y="1650"/>
                  </a:lnTo>
                  <a:lnTo>
                    <a:pt x="3771" y="1637"/>
                  </a:lnTo>
                  <a:lnTo>
                    <a:pt x="3586" y="1509"/>
                  </a:lnTo>
                  <a:lnTo>
                    <a:pt x="3462" y="1368"/>
                  </a:lnTo>
                  <a:lnTo>
                    <a:pt x="3431" y="1200"/>
                  </a:lnTo>
                  <a:lnTo>
                    <a:pt x="3462" y="1041"/>
                  </a:lnTo>
                  <a:lnTo>
                    <a:pt x="3537" y="908"/>
                  </a:lnTo>
                  <a:lnTo>
                    <a:pt x="3643" y="789"/>
                  </a:lnTo>
                  <a:lnTo>
                    <a:pt x="3634" y="577"/>
                  </a:lnTo>
                  <a:lnTo>
                    <a:pt x="3634" y="432"/>
                  </a:lnTo>
                  <a:lnTo>
                    <a:pt x="3586" y="317"/>
                  </a:lnTo>
                  <a:lnTo>
                    <a:pt x="3431" y="273"/>
                  </a:lnTo>
                  <a:lnTo>
                    <a:pt x="3387" y="246"/>
                  </a:lnTo>
                  <a:lnTo>
                    <a:pt x="3286" y="61"/>
                  </a:lnTo>
                  <a:lnTo>
                    <a:pt x="3198" y="13"/>
                  </a:lnTo>
                  <a:lnTo>
                    <a:pt x="3114" y="0"/>
                  </a:lnTo>
                  <a:lnTo>
                    <a:pt x="3034" y="35"/>
                  </a:lnTo>
                  <a:lnTo>
                    <a:pt x="2977" y="127"/>
                  </a:lnTo>
                  <a:lnTo>
                    <a:pt x="2880" y="185"/>
                  </a:lnTo>
                  <a:lnTo>
                    <a:pt x="2774" y="202"/>
                  </a:lnTo>
                  <a:lnTo>
                    <a:pt x="2655" y="202"/>
                  </a:lnTo>
                  <a:lnTo>
                    <a:pt x="2677" y="383"/>
                  </a:lnTo>
                  <a:lnTo>
                    <a:pt x="2677" y="604"/>
                  </a:lnTo>
                  <a:lnTo>
                    <a:pt x="2655" y="758"/>
                  </a:lnTo>
                  <a:lnTo>
                    <a:pt x="2549" y="940"/>
                  </a:lnTo>
                  <a:lnTo>
                    <a:pt x="2417" y="1209"/>
                  </a:lnTo>
                  <a:lnTo>
                    <a:pt x="2311" y="1539"/>
                  </a:lnTo>
                  <a:lnTo>
                    <a:pt x="2302" y="1734"/>
                  </a:lnTo>
                  <a:lnTo>
                    <a:pt x="2254" y="1905"/>
                  </a:lnTo>
                  <a:lnTo>
                    <a:pt x="2188" y="2069"/>
                  </a:lnTo>
                  <a:lnTo>
                    <a:pt x="2161" y="2333"/>
                  </a:lnTo>
                  <a:lnTo>
                    <a:pt x="2174" y="2554"/>
                  </a:lnTo>
                  <a:lnTo>
                    <a:pt x="2254" y="2810"/>
                  </a:lnTo>
                  <a:lnTo>
                    <a:pt x="2302" y="2903"/>
                  </a:lnTo>
                  <a:lnTo>
                    <a:pt x="2161" y="3000"/>
                  </a:lnTo>
                  <a:lnTo>
                    <a:pt x="1988" y="3062"/>
                  </a:lnTo>
                  <a:lnTo>
                    <a:pt x="1799" y="3075"/>
                  </a:lnTo>
                  <a:lnTo>
                    <a:pt x="1680" y="3075"/>
                  </a:lnTo>
                  <a:lnTo>
                    <a:pt x="1609" y="3044"/>
                  </a:lnTo>
                  <a:lnTo>
                    <a:pt x="1609" y="2824"/>
                  </a:lnTo>
                  <a:lnTo>
                    <a:pt x="1609" y="2501"/>
                  </a:lnTo>
                  <a:lnTo>
                    <a:pt x="1556" y="2188"/>
                  </a:lnTo>
                  <a:lnTo>
                    <a:pt x="1486" y="1905"/>
                  </a:lnTo>
                  <a:lnTo>
                    <a:pt x="1450" y="1676"/>
                  </a:lnTo>
                  <a:lnTo>
                    <a:pt x="1428" y="1350"/>
                  </a:lnTo>
                  <a:lnTo>
                    <a:pt x="1486" y="1072"/>
                  </a:lnTo>
                  <a:lnTo>
                    <a:pt x="1556" y="846"/>
                  </a:lnTo>
                  <a:lnTo>
                    <a:pt x="1574" y="709"/>
                  </a:lnTo>
                  <a:lnTo>
                    <a:pt x="1534" y="520"/>
                  </a:lnTo>
                  <a:lnTo>
                    <a:pt x="1534" y="370"/>
                  </a:lnTo>
                  <a:lnTo>
                    <a:pt x="1556" y="317"/>
                  </a:lnTo>
                  <a:lnTo>
                    <a:pt x="1534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486560" y="1541520"/>
              <a:ext cx="197280" cy="851400"/>
            </a:xfrm>
            <a:custGeom>
              <a:avLst/>
              <a:gdLst/>
              <a:ahLst/>
              <a:rect l="0" t="0" r="r" b="b"/>
              <a:pathLst>
                <a:path w="548" h="2365">
                  <a:moveTo>
                    <a:pt x="217" y="26"/>
                  </a:moveTo>
                  <a:lnTo>
                    <a:pt x="74" y="105"/>
                  </a:lnTo>
                  <a:lnTo>
                    <a:pt x="88" y="330"/>
                  </a:lnTo>
                  <a:lnTo>
                    <a:pt x="195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6" y="2074"/>
                  </a:lnTo>
                  <a:lnTo>
                    <a:pt x="287" y="2365"/>
                  </a:lnTo>
                  <a:lnTo>
                    <a:pt x="371" y="2317"/>
                  </a:lnTo>
                  <a:lnTo>
                    <a:pt x="438" y="2118"/>
                  </a:lnTo>
                  <a:lnTo>
                    <a:pt x="539" y="1858"/>
                  </a:lnTo>
                  <a:lnTo>
                    <a:pt x="548" y="1720"/>
                  </a:lnTo>
                  <a:lnTo>
                    <a:pt x="460" y="1460"/>
                  </a:lnTo>
                  <a:lnTo>
                    <a:pt x="358" y="1209"/>
                  </a:lnTo>
                  <a:lnTo>
                    <a:pt x="322" y="1028"/>
                  </a:lnTo>
                  <a:lnTo>
                    <a:pt x="322" y="856"/>
                  </a:lnTo>
                  <a:lnTo>
                    <a:pt x="358" y="706"/>
                  </a:lnTo>
                  <a:lnTo>
                    <a:pt x="438" y="515"/>
                  </a:lnTo>
                  <a:lnTo>
                    <a:pt x="438" y="440"/>
                  </a:lnTo>
                  <a:lnTo>
                    <a:pt x="402" y="366"/>
                  </a:lnTo>
                  <a:lnTo>
                    <a:pt x="504" y="268"/>
                  </a:lnTo>
                  <a:lnTo>
                    <a:pt x="504" y="180"/>
                  </a:lnTo>
                  <a:lnTo>
                    <a:pt x="358" y="0"/>
                  </a:lnTo>
                  <a:lnTo>
                    <a:pt x="473" y="180"/>
                  </a:lnTo>
                  <a:lnTo>
                    <a:pt x="473" y="255"/>
                  </a:lnTo>
                  <a:lnTo>
                    <a:pt x="371" y="330"/>
                  </a:lnTo>
                  <a:lnTo>
                    <a:pt x="416" y="440"/>
                  </a:lnTo>
                  <a:lnTo>
                    <a:pt x="402" y="515"/>
                  </a:lnTo>
                  <a:lnTo>
                    <a:pt x="300" y="733"/>
                  </a:lnTo>
                  <a:lnTo>
                    <a:pt x="287" y="949"/>
                  </a:lnTo>
                  <a:lnTo>
                    <a:pt x="309" y="1147"/>
                  </a:lnTo>
                  <a:lnTo>
                    <a:pt x="371" y="1429"/>
                  </a:lnTo>
                  <a:lnTo>
                    <a:pt x="460" y="1659"/>
                  </a:lnTo>
                  <a:lnTo>
                    <a:pt x="460" y="1845"/>
                  </a:lnTo>
                  <a:lnTo>
                    <a:pt x="416" y="2074"/>
                  </a:lnTo>
                  <a:lnTo>
                    <a:pt x="309" y="2317"/>
                  </a:lnTo>
                  <a:lnTo>
                    <a:pt x="181" y="2180"/>
                  </a:lnTo>
                  <a:lnTo>
                    <a:pt x="127" y="2074"/>
                  </a:lnTo>
                  <a:lnTo>
                    <a:pt x="136" y="1845"/>
                  </a:lnTo>
                  <a:lnTo>
                    <a:pt x="127" y="1610"/>
                  </a:lnTo>
                  <a:lnTo>
                    <a:pt x="66" y="1297"/>
                  </a:lnTo>
                  <a:lnTo>
                    <a:pt x="35" y="1085"/>
                  </a:lnTo>
                  <a:lnTo>
                    <a:pt x="66" y="843"/>
                  </a:lnTo>
                  <a:lnTo>
                    <a:pt x="114" y="613"/>
                  </a:lnTo>
                  <a:lnTo>
                    <a:pt x="230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039160" y="549360"/>
              <a:ext cx="306720" cy="414720"/>
            </a:xfrm>
            <a:custGeom>
              <a:avLst/>
              <a:gdLst/>
              <a:ahLst/>
              <a:rect l="0" t="0" r="r" b="b"/>
              <a:pathLst>
                <a:path w="852" h="1152">
                  <a:moveTo>
                    <a:pt x="141" y="296"/>
                  </a:moveTo>
                  <a:lnTo>
                    <a:pt x="264" y="268"/>
                  </a:lnTo>
                  <a:lnTo>
                    <a:pt x="388" y="277"/>
                  </a:lnTo>
                  <a:lnTo>
                    <a:pt x="490" y="327"/>
                  </a:lnTo>
                  <a:lnTo>
                    <a:pt x="538" y="389"/>
                  </a:lnTo>
                  <a:lnTo>
                    <a:pt x="574" y="446"/>
                  </a:lnTo>
                  <a:lnTo>
                    <a:pt x="574" y="508"/>
                  </a:lnTo>
                  <a:lnTo>
                    <a:pt x="534" y="543"/>
                  </a:lnTo>
                  <a:lnTo>
                    <a:pt x="486" y="574"/>
                  </a:lnTo>
                  <a:lnTo>
                    <a:pt x="418" y="574"/>
                  </a:lnTo>
                  <a:lnTo>
                    <a:pt x="348" y="561"/>
                  </a:lnTo>
                  <a:lnTo>
                    <a:pt x="268" y="512"/>
                  </a:lnTo>
                  <a:lnTo>
                    <a:pt x="216" y="468"/>
                  </a:lnTo>
                  <a:lnTo>
                    <a:pt x="194" y="618"/>
                  </a:lnTo>
                  <a:lnTo>
                    <a:pt x="141" y="719"/>
                  </a:lnTo>
                  <a:lnTo>
                    <a:pt x="0" y="967"/>
                  </a:lnTo>
                  <a:lnTo>
                    <a:pt x="207" y="1152"/>
                  </a:lnTo>
                  <a:lnTo>
                    <a:pt x="361" y="838"/>
                  </a:lnTo>
                  <a:lnTo>
                    <a:pt x="534" y="866"/>
                  </a:lnTo>
                  <a:lnTo>
                    <a:pt x="649" y="843"/>
                  </a:lnTo>
                  <a:lnTo>
                    <a:pt x="755" y="772"/>
                  </a:lnTo>
                  <a:lnTo>
                    <a:pt x="821" y="684"/>
                  </a:lnTo>
                  <a:lnTo>
                    <a:pt x="852" y="565"/>
                  </a:lnTo>
                  <a:lnTo>
                    <a:pt x="852" y="441"/>
                  </a:lnTo>
                  <a:lnTo>
                    <a:pt x="821" y="309"/>
                  </a:lnTo>
                  <a:lnTo>
                    <a:pt x="750" y="176"/>
                  </a:lnTo>
                  <a:lnTo>
                    <a:pt x="658" y="79"/>
                  </a:lnTo>
                  <a:lnTo>
                    <a:pt x="561" y="26"/>
                  </a:lnTo>
                  <a:lnTo>
                    <a:pt x="437" y="0"/>
                  </a:lnTo>
                  <a:lnTo>
                    <a:pt x="277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85160" y="950760"/>
              <a:ext cx="111600" cy="81360"/>
            </a:xfrm>
            <a:custGeom>
              <a:avLst/>
              <a:gdLst/>
              <a:ahLst/>
              <a:rect l="0" t="0" r="r" b="b"/>
              <a:pathLst>
                <a:path w="310" h="226">
                  <a:moveTo>
                    <a:pt x="12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6"/>
                  </a:lnTo>
                  <a:lnTo>
                    <a:pt x="190" y="226"/>
                  </a:lnTo>
                  <a:lnTo>
                    <a:pt x="284" y="222"/>
                  </a:lnTo>
                  <a:lnTo>
                    <a:pt x="310" y="168"/>
                  </a:lnTo>
                  <a:lnTo>
                    <a:pt x="297" y="124"/>
                  </a:lnTo>
                  <a:lnTo>
                    <a:pt x="248" y="62"/>
                  </a:lnTo>
                  <a:lnTo>
                    <a:pt x="177" y="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914400" y="2666880"/>
            <a:ext cx="79297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are GAAP important to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aders of financial state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AP ensure that the financi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ments will be understandabl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their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981080" y="1219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553080" y="380880"/>
            <a:ext cx="2208600" cy="2284920"/>
            <a:chOff x="6553080" y="380880"/>
            <a:chExt cx="2208600" cy="2284920"/>
          </a:xfrm>
        </p:grpSpPr>
        <p:sp>
          <p:nvSpPr>
            <p:cNvPr id="798" name=""/>
            <p:cNvSpPr/>
            <p:nvPr/>
          </p:nvSpPr>
          <p:spPr>
            <a:xfrm>
              <a:off x="6559560" y="1503360"/>
              <a:ext cx="536760" cy="797400"/>
            </a:xfrm>
            <a:custGeom>
              <a:avLst/>
              <a:gdLst/>
              <a:ahLst/>
              <a:rect l="0" t="0" r="r" b="b"/>
              <a:pathLst>
                <a:path w="1491" h="2215">
                  <a:moveTo>
                    <a:pt x="595" y="0"/>
                  </a:moveTo>
                  <a:lnTo>
                    <a:pt x="515" y="97"/>
                  </a:lnTo>
                  <a:lnTo>
                    <a:pt x="515" y="388"/>
                  </a:lnTo>
                  <a:lnTo>
                    <a:pt x="595" y="591"/>
                  </a:lnTo>
                  <a:lnTo>
                    <a:pt x="683" y="702"/>
                  </a:lnTo>
                  <a:lnTo>
                    <a:pt x="551" y="843"/>
                  </a:lnTo>
                  <a:lnTo>
                    <a:pt x="374" y="1160"/>
                  </a:lnTo>
                  <a:lnTo>
                    <a:pt x="26" y="1673"/>
                  </a:lnTo>
                  <a:lnTo>
                    <a:pt x="0" y="1792"/>
                  </a:lnTo>
                  <a:lnTo>
                    <a:pt x="26" y="1898"/>
                  </a:lnTo>
                  <a:lnTo>
                    <a:pt x="136" y="1898"/>
                  </a:lnTo>
                  <a:lnTo>
                    <a:pt x="229" y="1779"/>
                  </a:lnTo>
                  <a:lnTo>
                    <a:pt x="374" y="1495"/>
                  </a:lnTo>
                  <a:lnTo>
                    <a:pt x="458" y="1372"/>
                  </a:lnTo>
                  <a:lnTo>
                    <a:pt x="515" y="1557"/>
                  </a:lnTo>
                  <a:lnTo>
                    <a:pt x="480" y="1765"/>
                  </a:lnTo>
                  <a:lnTo>
                    <a:pt x="330" y="2052"/>
                  </a:lnTo>
                  <a:lnTo>
                    <a:pt x="374" y="2123"/>
                  </a:lnTo>
                  <a:lnTo>
                    <a:pt x="458" y="2101"/>
                  </a:lnTo>
                  <a:lnTo>
                    <a:pt x="643" y="1951"/>
                  </a:lnTo>
                  <a:lnTo>
                    <a:pt x="799" y="1690"/>
                  </a:lnTo>
                  <a:lnTo>
                    <a:pt x="799" y="2140"/>
                  </a:lnTo>
                  <a:lnTo>
                    <a:pt x="971" y="2215"/>
                  </a:lnTo>
                  <a:lnTo>
                    <a:pt x="1072" y="1937"/>
                  </a:lnTo>
                  <a:lnTo>
                    <a:pt x="1169" y="2193"/>
                  </a:lnTo>
                  <a:lnTo>
                    <a:pt x="1240" y="2123"/>
                  </a:lnTo>
                  <a:lnTo>
                    <a:pt x="1271" y="1610"/>
                  </a:lnTo>
                  <a:lnTo>
                    <a:pt x="1491" y="1121"/>
                  </a:lnTo>
                  <a:lnTo>
                    <a:pt x="1438" y="843"/>
                  </a:lnTo>
                  <a:lnTo>
                    <a:pt x="1293" y="737"/>
                  </a:lnTo>
                  <a:lnTo>
                    <a:pt x="1129" y="750"/>
                  </a:lnTo>
                  <a:lnTo>
                    <a:pt x="1072" y="524"/>
                  </a:lnTo>
                  <a:lnTo>
                    <a:pt x="913" y="471"/>
                  </a:lnTo>
                  <a:lnTo>
                    <a:pt x="768" y="401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08840" y="1825560"/>
              <a:ext cx="160560" cy="389160"/>
            </a:xfrm>
            <a:custGeom>
              <a:avLst/>
              <a:gdLst/>
              <a:ahLst/>
              <a:rect l="0" t="0" r="r" b="b"/>
              <a:pathLst>
                <a:path w="446" h="1081">
                  <a:moveTo>
                    <a:pt x="220" y="0"/>
                  </a:moveTo>
                  <a:lnTo>
                    <a:pt x="446" y="277"/>
                  </a:lnTo>
                  <a:lnTo>
                    <a:pt x="336" y="882"/>
                  </a:lnTo>
                  <a:lnTo>
                    <a:pt x="0" y="1081"/>
                  </a:lnTo>
                  <a:lnTo>
                    <a:pt x="0" y="772"/>
                  </a:lnTo>
                  <a:lnTo>
                    <a:pt x="136" y="463"/>
                  </a:lnTo>
                  <a:lnTo>
                    <a:pt x="220" y="224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35920" y="1604880"/>
              <a:ext cx="397080" cy="348120"/>
            </a:xfrm>
            <a:custGeom>
              <a:avLst/>
              <a:gdLst/>
              <a:ahLst/>
              <a:rect l="0" t="0" r="r" b="b"/>
              <a:pathLst>
                <a:path w="1103" h="967">
                  <a:moveTo>
                    <a:pt x="449" y="0"/>
                  </a:moveTo>
                  <a:lnTo>
                    <a:pt x="449" y="158"/>
                  </a:lnTo>
                  <a:lnTo>
                    <a:pt x="493" y="296"/>
                  </a:lnTo>
                  <a:lnTo>
                    <a:pt x="710" y="525"/>
                  </a:lnTo>
                  <a:lnTo>
                    <a:pt x="1103" y="658"/>
                  </a:lnTo>
                  <a:lnTo>
                    <a:pt x="1046" y="945"/>
                  </a:lnTo>
                  <a:lnTo>
                    <a:pt x="710" y="967"/>
                  </a:lnTo>
                  <a:lnTo>
                    <a:pt x="207" y="756"/>
                  </a:lnTo>
                  <a:lnTo>
                    <a:pt x="0" y="389"/>
                  </a:lnTo>
                  <a:lnTo>
                    <a:pt x="246" y="17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94680" y="1208160"/>
              <a:ext cx="552960" cy="771840"/>
            </a:xfrm>
            <a:custGeom>
              <a:avLst/>
              <a:gdLst/>
              <a:ahLst/>
              <a:rect l="0" t="0" r="r" b="b"/>
              <a:pathLst>
                <a:path w="1536" h="2144">
                  <a:moveTo>
                    <a:pt x="136" y="908"/>
                  </a:moveTo>
                  <a:lnTo>
                    <a:pt x="0" y="1058"/>
                  </a:lnTo>
                  <a:lnTo>
                    <a:pt x="26" y="1407"/>
                  </a:lnTo>
                  <a:lnTo>
                    <a:pt x="242" y="1570"/>
                  </a:lnTo>
                  <a:lnTo>
                    <a:pt x="260" y="2104"/>
                  </a:lnTo>
                  <a:lnTo>
                    <a:pt x="477" y="2104"/>
                  </a:lnTo>
                  <a:lnTo>
                    <a:pt x="459" y="1659"/>
                  </a:lnTo>
                  <a:lnTo>
                    <a:pt x="622" y="2122"/>
                  </a:lnTo>
                  <a:lnTo>
                    <a:pt x="728" y="2144"/>
                  </a:lnTo>
                  <a:lnTo>
                    <a:pt x="807" y="1985"/>
                  </a:lnTo>
                  <a:lnTo>
                    <a:pt x="825" y="1685"/>
                  </a:lnTo>
                  <a:lnTo>
                    <a:pt x="1054" y="1967"/>
                  </a:lnTo>
                  <a:lnTo>
                    <a:pt x="1151" y="1945"/>
                  </a:lnTo>
                  <a:lnTo>
                    <a:pt x="1129" y="1756"/>
                  </a:lnTo>
                  <a:lnTo>
                    <a:pt x="1041" y="1487"/>
                  </a:lnTo>
                  <a:lnTo>
                    <a:pt x="953" y="1306"/>
                  </a:lnTo>
                  <a:lnTo>
                    <a:pt x="979" y="1182"/>
                  </a:lnTo>
                  <a:lnTo>
                    <a:pt x="1041" y="1209"/>
                  </a:lnTo>
                  <a:lnTo>
                    <a:pt x="1258" y="1487"/>
                  </a:lnTo>
                  <a:lnTo>
                    <a:pt x="1483" y="1548"/>
                  </a:lnTo>
                  <a:lnTo>
                    <a:pt x="1536" y="1465"/>
                  </a:lnTo>
                  <a:lnTo>
                    <a:pt x="1501" y="1319"/>
                  </a:lnTo>
                  <a:lnTo>
                    <a:pt x="1076" y="886"/>
                  </a:lnTo>
                  <a:lnTo>
                    <a:pt x="728" y="754"/>
                  </a:lnTo>
                  <a:lnTo>
                    <a:pt x="693" y="515"/>
                  </a:lnTo>
                  <a:lnTo>
                    <a:pt x="807" y="299"/>
                  </a:lnTo>
                  <a:lnTo>
                    <a:pt x="807" y="70"/>
                  </a:lnTo>
                  <a:lnTo>
                    <a:pt x="706" y="0"/>
                  </a:lnTo>
                  <a:lnTo>
                    <a:pt x="459" y="582"/>
                  </a:lnTo>
                  <a:lnTo>
                    <a:pt x="242" y="665"/>
                  </a:lnTo>
                  <a:lnTo>
                    <a:pt x="189" y="829"/>
                  </a:lnTo>
                  <a:lnTo>
                    <a:pt x="136" y="90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88200" y="542880"/>
              <a:ext cx="603720" cy="981360"/>
            </a:xfrm>
            <a:custGeom>
              <a:avLst/>
              <a:gdLst/>
              <a:ahLst/>
              <a:rect l="0" t="0" r="r" b="b"/>
              <a:pathLst>
                <a:path w="1677" h="2726">
                  <a:moveTo>
                    <a:pt x="424" y="379"/>
                  </a:moveTo>
                  <a:lnTo>
                    <a:pt x="295" y="899"/>
                  </a:lnTo>
                  <a:lnTo>
                    <a:pt x="17" y="1005"/>
                  </a:lnTo>
                  <a:lnTo>
                    <a:pt x="88" y="1172"/>
                  </a:lnTo>
                  <a:lnTo>
                    <a:pt x="0" y="1274"/>
                  </a:lnTo>
                  <a:lnTo>
                    <a:pt x="0" y="1460"/>
                  </a:lnTo>
                  <a:lnTo>
                    <a:pt x="132" y="1637"/>
                  </a:lnTo>
                  <a:lnTo>
                    <a:pt x="260" y="1637"/>
                  </a:lnTo>
                  <a:lnTo>
                    <a:pt x="343" y="2241"/>
                  </a:lnTo>
                  <a:lnTo>
                    <a:pt x="455" y="2501"/>
                  </a:lnTo>
                  <a:lnTo>
                    <a:pt x="799" y="2726"/>
                  </a:lnTo>
                  <a:lnTo>
                    <a:pt x="1138" y="2690"/>
                  </a:lnTo>
                  <a:lnTo>
                    <a:pt x="1302" y="2241"/>
                  </a:lnTo>
                  <a:lnTo>
                    <a:pt x="1342" y="1553"/>
                  </a:lnTo>
                  <a:lnTo>
                    <a:pt x="1677" y="1203"/>
                  </a:lnTo>
                  <a:lnTo>
                    <a:pt x="1660" y="1067"/>
                  </a:lnTo>
                  <a:lnTo>
                    <a:pt x="1620" y="1005"/>
                  </a:lnTo>
                  <a:lnTo>
                    <a:pt x="1443" y="987"/>
                  </a:lnTo>
                  <a:lnTo>
                    <a:pt x="1496" y="806"/>
                  </a:lnTo>
                  <a:lnTo>
                    <a:pt x="1329" y="687"/>
                  </a:lnTo>
                  <a:lnTo>
                    <a:pt x="1244" y="299"/>
                  </a:lnTo>
                  <a:lnTo>
                    <a:pt x="724" y="0"/>
                  </a:lnTo>
                  <a:lnTo>
                    <a:pt x="455" y="277"/>
                  </a:lnTo>
                  <a:lnTo>
                    <a:pt x="424" y="37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332840" y="1363680"/>
              <a:ext cx="552960" cy="1172160"/>
            </a:xfrm>
            <a:custGeom>
              <a:avLst/>
              <a:gdLst/>
              <a:ahLst/>
              <a:rect l="0" t="0" r="r" b="b"/>
              <a:pathLst>
                <a:path w="1536" h="3256">
                  <a:moveTo>
                    <a:pt x="317" y="171"/>
                  </a:moveTo>
                  <a:lnTo>
                    <a:pt x="534" y="321"/>
                  </a:lnTo>
                  <a:lnTo>
                    <a:pt x="640" y="498"/>
                  </a:lnTo>
                  <a:lnTo>
                    <a:pt x="1258" y="0"/>
                  </a:lnTo>
                  <a:lnTo>
                    <a:pt x="1452" y="101"/>
                  </a:lnTo>
                  <a:lnTo>
                    <a:pt x="1536" y="617"/>
                  </a:lnTo>
                  <a:lnTo>
                    <a:pt x="1090" y="2117"/>
                  </a:lnTo>
                  <a:lnTo>
                    <a:pt x="1232" y="2943"/>
                  </a:lnTo>
                  <a:lnTo>
                    <a:pt x="653" y="3256"/>
                  </a:lnTo>
                  <a:lnTo>
                    <a:pt x="202" y="3079"/>
                  </a:lnTo>
                  <a:lnTo>
                    <a:pt x="202" y="2201"/>
                  </a:lnTo>
                  <a:lnTo>
                    <a:pt x="0" y="1354"/>
                  </a:lnTo>
                  <a:lnTo>
                    <a:pt x="202" y="321"/>
                  </a:lnTo>
                  <a:lnTo>
                    <a:pt x="317" y="1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358040" y="412920"/>
              <a:ext cx="513000" cy="311400"/>
            </a:xfrm>
            <a:custGeom>
              <a:avLst/>
              <a:gdLst/>
              <a:ahLst/>
              <a:rect l="0" t="0" r="r" b="b"/>
              <a:pathLst>
                <a:path w="1425" h="865">
                  <a:moveTo>
                    <a:pt x="180" y="825"/>
                  </a:moveTo>
                  <a:lnTo>
                    <a:pt x="383" y="596"/>
                  </a:lnTo>
                  <a:lnTo>
                    <a:pt x="520" y="561"/>
                  </a:lnTo>
                  <a:lnTo>
                    <a:pt x="520" y="578"/>
                  </a:lnTo>
                  <a:lnTo>
                    <a:pt x="586" y="561"/>
                  </a:lnTo>
                  <a:lnTo>
                    <a:pt x="670" y="627"/>
                  </a:lnTo>
                  <a:lnTo>
                    <a:pt x="843" y="662"/>
                  </a:lnTo>
                  <a:lnTo>
                    <a:pt x="979" y="865"/>
                  </a:lnTo>
                  <a:lnTo>
                    <a:pt x="1204" y="777"/>
                  </a:lnTo>
                  <a:lnTo>
                    <a:pt x="1204" y="684"/>
                  </a:lnTo>
                  <a:lnTo>
                    <a:pt x="1425" y="578"/>
                  </a:lnTo>
                  <a:lnTo>
                    <a:pt x="1359" y="418"/>
                  </a:lnTo>
                  <a:lnTo>
                    <a:pt x="1147" y="401"/>
                  </a:lnTo>
                  <a:lnTo>
                    <a:pt x="1178" y="224"/>
                  </a:lnTo>
                  <a:lnTo>
                    <a:pt x="997" y="246"/>
                  </a:lnTo>
                  <a:lnTo>
                    <a:pt x="966" y="123"/>
                  </a:lnTo>
                  <a:lnTo>
                    <a:pt x="843" y="123"/>
                  </a:lnTo>
                  <a:lnTo>
                    <a:pt x="755" y="189"/>
                  </a:lnTo>
                  <a:lnTo>
                    <a:pt x="670" y="189"/>
                  </a:lnTo>
                  <a:lnTo>
                    <a:pt x="687" y="0"/>
                  </a:lnTo>
                  <a:lnTo>
                    <a:pt x="520" y="88"/>
                  </a:lnTo>
                  <a:lnTo>
                    <a:pt x="282" y="401"/>
                  </a:lnTo>
                  <a:lnTo>
                    <a:pt x="268" y="189"/>
                  </a:lnTo>
                  <a:lnTo>
                    <a:pt x="141" y="295"/>
                  </a:lnTo>
                  <a:lnTo>
                    <a:pt x="110" y="561"/>
                  </a:lnTo>
                  <a:lnTo>
                    <a:pt x="0" y="512"/>
                  </a:lnTo>
                  <a:lnTo>
                    <a:pt x="17" y="684"/>
                  </a:lnTo>
                  <a:lnTo>
                    <a:pt x="180" y="82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496280" y="1577880"/>
              <a:ext cx="163800" cy="887760"/>
            </a:xfrm>
            <a:custGeom>
              <a:avLst/>
              <a:gdLst/>
              <a:ahLst/>
              <a:rect l="0" t="0" r="r" b="b"/>
              <a:pathLst>
                <a:path w="455" h="2466">
                  <a:moveTo>
                    <a:pt x="234" y="13"/>
                  </a:moveTo>
                  <a:lnTo>
                    <a:pt x="74" y="123"/>
                  </a:lnTo>
                  <a:lnTo>
                    <a:pt x="74" y="326"/>
                  </a:lnTo>
                  <a:lnTo>
                    <a:pt x="185" y="396"/>
                  </a:lnTo>
                  <a:lnTo>
                    <a:pt x="44" y="723"/>
                  </a:lnTo>
                  <a:lnTo>
                    <a:pt x="0" y="1155"/>
                  </a:lnTo>
                  <a:lnTo>
                    <a:pt x="114" y="1725"/>
                  </a:lnTo>
                  <a:lnTo>
                    <a:pt x="114" y="1967"/>
                  </a:lnTo>
                  <a:lnTo>
                    <a:pt x="57" y="2144"/>
                  </a:lnTo>
                  <a:lnTo>
                    <a:pt x="287" y="2466"/>
                  </a:lnTo>
                  <a:lnTo>
                    <a:pt x="437" y="1985"/>
                  </a:lnTo>
                  <a:lnTo>
                    <a:pt x="437" y="1659"/>
                  </a:lnTo>
                  <a:lnTo>
                    <a:pt x="327" y="1350"/>
                  </a:lnTo>
                  <a:lnTo>
                    <a:pt x="274" y="930"/>
                  </a:lnTo>
                  <a:lnTo>
                    <a:pt x="384" y="524"/>
                  </a:lnTo>
                  <a:lnTo>
                    <a:pt x="344" y="361"/>
                  </a:lnTo>
                  <a:lnTo>
                    <a:pt x="455" y="277"/>
                  </a:lnTo>
                  <a:lnTo>
                    <a:pt x="437" y="171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91240" y="1282680"/>
              <a:ext cx="132120" cy="81360"/>
            </a:xfrm>
            <a:custGeom>
              <a:avLst/>
              <a:gdLst/>
              <a:ahLst/>
              <a:rect l="0" t="0" r="r" b="b"/>
              <a:pathLst>
                <a:path w="367" h="226">
                  <a:moveTo>
                    <a:pt x="0" y="67"/>
                  </a:moveTo>
                  <a:lnTo>
                    <a:pt x="145" y="226"/>
                  </a:lnTo>
                  <a:lnTo>
                    <a:pt x="296" y="204"/>
                  </a:lnTo>
                  <a:lnTo>
                    <a:pt x="367" y="17"/>
                  </a:lnTo>
                  <a:lnTo>
                    <a:pt x="203" y="0"/>
                  </a:lnTo>
                  <a:lnTo>
                    <a:pt x="39" y="1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343640" y="871560"/>
              <a:ext cx="165600" cy="174960"/>
            </a:xfrm>
            <a:custGeom>
              <a:avLst/>
              <a:gdLst/>
              <a:ahLst/>
              <a:rect l="0" t="0" r="r" b="b"/>
              <a:pathLst>
                <a:path w="460" h="486">
                  <a:moveTo>
                    <a:pt x="0" y="52"/>
                  </a:moveTo>
                  <a:lnTo>
                    <a:pt x="314" y="486"/>
                  </a:lnTo>
                  <a:lnTo>
                    <a:pt x="460" y="450"/>
                  </a:lnTo>
                  <a:lnTo>
                    <a:pt x="12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35960" y="836640"/>
              <a:ext cx="140040" cy="173520"/>
            </a:xfrm>
            <a:custGeom>
              <a:avLst/>
              <a:gdLst/>
              <a:ahLst/>
              <a:rect l="0" t="0" r="r" b="b"/>
              <a:pathLst>
                <a:path w="389" h="482">
                  <a:moveTo>
                    <a:pt x="0" y="70"/>
                  </a:moveTo>
                  <a:lnTo>
                    <a:pt x="269" y="482"/>
                  </a:lnTo>
                  <a:lnTo>
                    <a:pt x="389" y="372"/>
                  </a:lnTo>
                  <a:lnTo>
                    <a:pt x="11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284960" y="612720"/>
              <a:ext cx="576720" cy="433800"/>
            </a:xfrm>
            <a:custGeom>
              <a:avLst/>
              <a:gdLst/>
              <a:ahLst/>
              <a:rect l="0" t="0" r="r" b="b"/>
              <a:pathLst>
                <a:path w="1602" h="1205">
                  <a:moveTo>
                    <a:pt x="733" y="715"/>
                  </a:moveTo>
                  <a:lnTo>
                    <a:pt x="591" y="671"/>
                  </a:lnTo>
                  <a:lnTo>
                    <a:pt x="715" y="565"/>
                  </a:lnTo>
                  <a:lnTo>
                    <a:pt x="666" y="503"/>
                  </a:lnTo>
                  <a:lnTo>
                    <a:pt x="503" y="644"/>
                  </a:lnTo>
                  <a:lnTo>
                    <a:pt x="198" y="680"/>
                  </a:lnTo>
                  <a:lnTo>
                    <a:pt x="0" y="688"/>
                  </a:lnTo>
                  <a:lnTo>
                    <a:pt x="0" y="856"/>
                  </a:lnTo>
                  <a:lnTo>
                    <a:pt x="194" y="1197"/>
                  </a:lnTo>
                  <a:lnTo>
                    <a:pt x="238" y="1205"/>
                  </a:lnTo>
                  <a:lnTo>
                    <a:pt x="66" y="834"/>
                  </a:lnTo>
                  <a:lnTo>
                    <a:pt x="335" y="715"/>
                  </a:lnTo>
                  <a:lnTo>
                    <a:pt x="503" y="715"/>
                  </a:lnTo>
                  <a:lnTo>
                    <a:pt x="636" y="790"/>
                  </a:lnTo>
                  <a:lnTo>
                    <a:pt x="666" y="891"/>
                  </a:lnTo>
                  <a:lnTo>
                    <a:pt x="666" y="1122"/>
                  </a:lnTo>
                  <a:lnTo>
                    <a:pt x="666" y="1197"/>
                  </a:lnTo>
                  <a:lnTo>
                    <a:pt x="746" y="1086"/>
                  </a:lnTo>
                  <a:lnTo>
                    <a:pt x="746" y="847"/>
                  </a:lnTo>
                  <a:lnTo>
                    <a:pt x="856" y="847"/>
                  </a:lnTo>
                  <a:lnTo>
                    <a:pt x="909" y="1122"/>
                  </a:lnTo>
                  <a:lnTo>
                    <a:pt x="975" y="1148"/>
                  </a:lnTo>
                  <a:lnTo>
                    <a:pt x="1165" y="1148"/>
                  </a:lnTo>
                  <a:lnTo>
                    <a:pt x="1369" y="1095"/>
                  </a:lnTo>
                  <a:lnTo>
                    <a:pt x="1505" y="994"/>
                  </a:lnTo>
                  <a:lnTo>
                    <a:pt x="1532" y="750"/>
                  </a:lnTo>
                  <a:lnTo>
                    <a:pt x="1602" y="644"/>
                  </a:lnTo>
                  <a:lnTo>
                    <a:pt x="1554" y="583"/>
                  </a:lnTo>
                  <a:lnTo>
                    <a:pt x="1377" y="512"/>
                  </a:lnTo>
                  <a:lnTo>
                    <a:pt x="1351" y="268"/>
                  </a:lnTo>
                  <a:lnTo>
                    <a:pt x="1178" y="268"/>
                  </a:lnTo>
                  <a:lnTo>
                    <a:pt x="984" y="0"/>
                  </a:lnTo>
                  <a:lnTo>
                    <a:pt x="1165" y="299"/>
                  </a:lnTo>
                  <a:lnTo>
                    <a:pt x="1223" y="299"/>
                  </a:lnTo>
                  <a:lnTo>
                    <a:pt x="1267" y="503"/>
                  </a:lnTo>
                  <a:lnTo>
                    <a:pt x="1032" y="583"/>
                  </a:lnTo>
                  <a:lnTo>
                    <a:pt x="874" y="525"/>
                  </a:lnTo>
                  <a:lnTo>
                    <a:pt x="847" y="583"/>
                  </a:lnTo>
                  <a:lnTo>
                    <a:pt x="935" y="644"/>
                  </a:lnTo>
                  <a:lnTo>
                    <a:pt x="935" y="706"/>
                  </a:lnTo>
                  <a:lnTo>
                    <a:pt x="1129" y="613"/>
                  </a:lnTo>
                  <a:lnTo>
                    <a:pt x="1285" y="596"/>
                  </a:lnTo>
                  <a:lnTo>
                    <a:pt x="1470" y="622"/>
                  </a:lnTo>
                  <a:lnTo>
                    <a:pt x="1470" y="658"/>
                  </a:lnTo>
                  <a:lnTo>
                    <a:pt x="1386" y="733"/>
                  </a:lnTo>
                  <a:lnTo>
                    <a:pt x="1351" y="847"/>
                  </a:lnTo>
                  <a:lnTo>
                    <a:pt x="1342" y="994"/>
                  </a:lnTo>
                  <a:lnTo>
                    <a:pt x="1236" y="1055"/>
                  </a:lnTo>
                  <a:lnTo>
                    <a:pt x="1081" y="1073"/>
                  </a:lnTo>
                  <a:lnTo>
                    <a:pt x="975" y="1073"/>
                  </a:lnTo>
                  <a:lnTo>
                    <a:pt x="940" y="1029"/>
                  </a:lnTo>
                  <a:lnTo>
                    <a:pt x="909" y="750"/>
                  </a:lnTo>
                  <a:lnTo>
                    <a:pt x="746" y="750"/>
                  </a:lnTo>
                  <a:lnTo>
                    <a:pt x="733" y="7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481880" y="1111320"/>
              <a:ext cx="187560" cy="89280"/>
            </a:xfrm>
            <a:custGeom>
              <a:avLst/>
              <a:gdLst/>
              <a:ahLst/>
              <a:rect l="0" t="0" r="r" b="b"/>
              <a:pathLst>
                <a:path w="521" h="248">
                  <a:moveTo>
                    <a:pt x="0" y="0"/>
                  </a:moveTo>
                  <a:lnTo>
                    <a:pt x="79" y="115"/>
                  </a:lnTo>
                  <a:lnTo>
                    <a:pt x="309" y="115"/>
                  </a:lnTo>
                  <a:lnTo>
                    <a:pt x="402" y="35"/>
                  </a:lnTo>
                  <a:lnTo>
                    <a:pt x="521" y="35"/>
                  </a:lnTo>
                  <a:lnTo>
                    <a:pt x="499" y="75"/>
                  </a:lnTo>
                  <a:lnTo>
                    <a:pt x="499" y="115"/>
                  </a:lnTo>
                  <a:lnTo>
                    <a:pt x="292" y="248"/>
                  </a:lnTo>
                  <a:lnTo>
                    <a:pt x="176" y="248"/>
                  </a:lnTo>
                  <a:lnTo>
                    <a:pt x="110" y="200"/>
                  </a:lnTo>
                  <a:lnTo>
                    <a:pt x="48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73800" y="968400"/>
              <a:ext cx="282960" cy="468720"/>
            </a:xfrm>
            <a:custGeom>
              <a:avLst/>
              <a:gdLst/>
              <a:ahLst/>
              <a:rect l="0" t="0" r="r" b="b"/>
              <a:pathLst>
                <a:path w="786" h="1302">
                  <a:moveTo>
                    <a:pt x="786" y="92"/>
                  </a:moveTo>
                  <a:lnTo>
                    <a:pt x="786" y="114"/>
                  </a:lnTo>
                  <a:lnTo>
                    <a:pt x="650" y="246"/>
                  </a:lnTo>
                  <a:lnTo>
                    <a:pt x="534" y="268"/>
                  </a:lnTo>
                  <a:lnTo>
                    <a:pt x="314" y="233"/>
                  </a:lnTo>
                  <a:lnTo>
                    <a:pt x="353" y="702"/>
                  </a:lnTo>
                  <a:lnTo>
                    <a:pt x="406" y="1091"/>
                  </a:lnTo>
                  <a:lnTo>
                    <a:pt x="499" y="1302"/>
                  </a:lnTo>
                  <a:lnTo>
                    <a:pt x="406" y="1148"/>
                  </a:lnTo>
                  <a:lnTo>
                    <a:pt x="367" y="989"/>
                  </a:lnTo>
                  <a:lnTo>
                    <a:pt x="305" y="552"/>
                  </a:lnTo>
                  <a:lnTo>
                    <a:pt x="239" y="574"/>
                  </a:lnTo>
                  <a:lnTo>
                    <a:pt x="167" y="525"/>
                  </a:lnTo>
                  <a:lnTo>
                    <a:pt x="17" y="295"/>
                  </a:lnTo>
                  <a:lnTo>
                    <a:pt x="0" y="167"/>
                  </a:lnTo>
                  <a:lnTo>
                    <a:pt x="0" y="79"/>
                  </a:lnTo>
                  <a:lnTo>
                    <a:pt x="35" y="26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6" y="57"/>
                  </a:lnTo>
                  <a:lnTo>
                    <a:pt x="48" y="158"/>
                  </a:lnTo>
                  <a:lnTo>
                    <a:pt x="57" y="277"/>
                  </a:lnTo>
                  <a:lnTo>
                    <a:pt x="158" y="389"/>
                  </a:lnTo>
                  <a:lnTo>
                    <a:pt x="199" y="362"/>
                  </a:lnTo>
                  <a:lnTo>
                    <a:pt x="199" y="127"/>
                  </a:lnTo>
                  <a:lnTo>
                    <a:pt x="296" y="176"/>
                  </a:lnTo>
                  <a:lnTo>
                    <a:pt x="441" y="211"/>
                  </a:lnTo>
                  <a:lnTo>
                    <a:pt x="569" y="202"/>
                  </a:lnTo>
                  <a:lnTo>
                    <a:pt x="703" y="127"/>
                  </a:lnTo>
                  <a:lnTo>
                    <a:pt x="786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51560" y="600120"/>
              <a:ext cx="82800" cy="249480"/>
            </a:xfrm>
            <a:custGeom>
              <a:avLst/>
              <a:gdLst/>
              <a:ahLst/>
              <a:rect l="0" t="0" r="r" b="b"/>
              <a:pathLst>
                <a:path w="230" h="693">
                  <a:moveTo>
                    <a:pt x="114" y="693"/>
                  </a:moveTo>
                  <a:lnTo>
                    <a:pt x="230" y="286"/>
                  </a:lnTo>
                  <a:lnTo>
                    <a:pt x="26" y="136"/>
                  </a:lnTo>
                  <a:lnTo>
                    <a:pt x="0" y="0"/>
                  </a:lnTo>
                  <a:lnTo>
                    <a:pt x="17" y="167"/>
                  </a:lnTo>
                  <a:lnTo>
                    <a:pt x="79" y="233"/>
                  </a:lnTo>
                  <a:lnTo>
                    <a:pt x="88" y="441"/>
                  </a:lnTo>
                  <a:lnTo>
                    <a:pt x="142" y="525"/>
                  </a:lnTo>
                  <a:lnTo>
                    <a:pt x="114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348680" y="380880"/>
              <a:ext cx="630720" cy="329040"/>
            </a:xfrm>
            <a:custGeom>
              <a:avLst/>
              <a:gdLst/>
              <a:ahLst/>
              <a:rect l="0" t="0" r="r" b="b"/>
              <a:pathLst>
                <a:path w="1752" h="914">
                  <a:moveTo>
                    <a:pt x="17" y="618"/>
                  </a:moveTo>
                  <a:lnTo>
                    <a:pt x="171" y="711"/>
                  </a:lnTo>
                  <a:lnTo>
                    <a:pt x="149" y="596"/>
                  </a:lnTo>
                  <a:lnTo>
                    <a:pt x="185" y="389"/>
                  </a:lnTo>
                  <a:lnTo>
                    <a:pt x="282" y="344"/>
                  </a:lnTo>
                  <a:lnTo>
                    <a:pt x="295" y="565"/>
                  </a:lnTo>
                  <a:lnTo>
                    <a:pt x="587" y="176"/>
                  </a:lnTo>
                  <a:lnTo>
                    <a:pt x="658" y="149"/>
                  </a:lnTo>
                  <a:lnTo>
                    <a:pt x="600" y="305"/>
                  </a:lnTo>
                  <a:lnTo>
                    <a:pt x="790" y="380"/>
                  </a:lnTo>
                  <a:lnTo>
                    <a:pt x="922" y="224"/>
                  </a:lnTo>
                  <a:lnTo>
                    <a:pt x="993" y="269"/>
                  </a:lnTo>
                  <a:lnTo>
                    <a:pt x="931" y="402"/>
                  </a:lnTo>
                  <a:lnTo>
                    <a:pt x="1019" y="322"/>
                  </a:lnTo>
                  <a:lnTo>
                    <a:pt x="1151" y="389"/>
                  </a:lnTo>
                  <a:lnTo>
                    <a:pt x="1046" y="494"/>
                  </a:lnTo>
                  <a:lnTo>
                    <a:pt x="1408" y="565"/>
                  </a:lnTo>
                  <a:lnTo>
                    <a:pt x="1165" y="644"/>
                  </a:lnTo>
                  <a:lnTo>
                    <a:pt x="1461" y="689"/>
                  </a:lnTo>
                  <a:lnTo>
                    <a:pt x="1107" y="778"/>
                  </a:lnTo>
                  <a:lnTo>
                    <a:pt x="1182" y="844"/>
                  </a:lnTo>
                  <a:lnTo>
                    <a:pt x="1076" y="914"/>
                  </a:lnTo>
                  <a:lnTo>
                    <a:pt x="1262" y="914"/>
                  </a:lnTo>
                  <a:lnTo>
                    <a:pt x="1244" y="861"/>
                  </a:lnTo>
                  <a:lnTo>
                    <a:pt x="1435" y="910"/>
                  </a:lnTo>
                  <a:lnTo>
                    <a:pt x="1408" y="760"/>
                  </a:lnTo>
                  <a:lnTo>
                    <a:pt x="1576" y="698"/>
                  </a:lnTo>
                  <a:lnTo>
                    <a:pt x="1452" y="627"/>
                  </a:lnTo>
                  <a:lnTo>
                    <a:pt x="1752" y="609"/>
                  </a:lnTo>
                  <a:lnTo>
                    <a:pt x="1496" y="455"/>
                  </a:lnTo>
                  <a:lnTo>
                    <a:pt x="1200" y="428"/>
                  </a:lnTo>
                  <a:lnTo>
                    <a:pt x="1435" y="278"/>
                  </a:lnTo>
                  <a:lnTo>
                    <a:pt x="1019" y="278"/>
                  </a:lnTo>
                  <a:lnTo>
                    <a:pt x="1213" y="136"/>
                  </a:lnTo>
                  <a:lnTo>
                    <a:pt x="913" y="176"/>
                  </a:lnTo>
                  <a:lnTo>
                    <a:pt x="772" y="247"/>
                  </a:lnTo>
                  <a:lnTo>
                    <a:pt x="896" y="0"/>
                  </a:lnTo>
                  <a:lnTo>
                    <a:pt x="530" y="136"/>
                  </a:lnTo>
                  <a:lnTo>
                    <a:pt x="326" y="437"/>
                  </a:lnTo>
                  <a:lnTo>
                    <a:pt x="295" y="269"/>
                  </a:lnTo>
                  <a:lnTo>
                    <a:pt x="127" y="389"/>
                  </a:lnTo>
                  <a:lnTo>
                    <a:pt x="110" y="609"/>
                  </a:lnTo>
                  <a:lnTo>
                    <a:pt x="0" y="565"/>
                  </a:lnTo>
                  <a:lnTo>
                    <a:pt x="39" y="760"/>
                  </a:lnTo>
                  <a:lnTo>
                    <a:pt x="17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486560" y="555480"/>
              <a:ext cx="176400" cy="98640"/>
            </a:xfrm>
            <a:custGeom>
              <a:avLst/>
              <a:gdLst/>
              <a:ahLst/>
              <a:rect l="0" t="0" r="r" b="b"/>
              <a:pathLst>
                <a:path w="490" h="274">
                  <a:moveTo>
                    <a:pt x="0" y="274"/>
                  </a:moveTo>
                  <a:lnTo>
                    <a:pt x="185" y="0"/>
                  </a:lnTo>
                  <a:lnTo>
                    <a:pt x="185" y="181"/>
                  </a:lnTo>
                  <a:lnTo>
                    <a:pt x="252" y="105"/>
                  </a:lnTo>
                  <a:lnTo>
                    <a:pt x="309" y="203"/>
                  </a:lnTo>
                  <a:lnTo>
                    <a:pt x="490" y="261"/>
                  </a:lnTo>
                  <a:lnTo>
                    <a:pt x="296" y="225"/>
                  </a:lnTo>
                  <a:lnTo>
                    <a:pt x="233" y="155"/>
                  </a:lnTo>
                  <a:lnTo>
                    <a:pt x="154" y="225"/>
                  </a:lnTo>
                  <a:lnTo>
                    <a:pt x="154" y="142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69280" y="1227240"/>
              <a:ext cx="213120" cy="147960"/>
            </a:xfrm>
            <a:custGeom>
              <a:avLst/>
              <a:gdLst/>
              <a:ahLst/>
              <a:rect l="0" t="0" r="r" b="b"/>
              <a:pathLst>
                <a:path w="592" h="411">
                  <a:moveTo>
                    <a:pt x="114" y="141"/>
                  </a:moveTo>
                  <a:lnTo>
                    <a:pt x="353" y="123"/>
                  </a:lnTo>
                  <a:lnTo>
                    <a:pt x="473" y="154"/>
                  </a:lnTo>
                  <a:lnTo>
                    <a:pt x="531" y="92"/>
                  </a:lnTo>
                  <a:lnTo>
                    <a:pt x="592" y="225"/>
                  </a:lnTo>
                  <a:lnTo>
                    <a:pt x="548" y="252"/>
                  </a:lnTo>
                  <a:lnTo>
                    <a:pt x="504" y="202"/>
                  </a:lnTo>
                  <a:lnTo>
                    <a:pt x="419" y="296"/>
                  </a:lnTo>
                  <a:lnTo>
                    <a:pt x="274" y="411"/>
                  </a:lnTo>
                  <a:lnTo>
                    <a:pt x="208" y="411"/>
                  </a:lnTo>
                  <a:lnTo>
                    <a:pt x="114" y="349"/>
                  </a:lnTo>
                  <a:lnTo>
                    <a:pt x="221" y="402"/>
                  </a:lnTo>
                  <a:lnTo>
                    <a:pt x="265" y="402"/>
                  </a:lnTo>
                  <a:lnTo>
                    <a:pt x="353" y="327"/>
                  </a:lnTo>
                  <a:lnTo>
                    <a:pt x="415" y="189"/>
                  </a:lnTo>
                  <a:lnTo>
                    <a:pt x="322" y="167"/>
                  </a:lnTo>
                  <a:lnTo>
                    <a:pt x="261" y="154"/>
                  </a:lnTo>
                  <a:lnTo>
                    <a:pt x="97" y="176"/>
                  </a:lnTo>
                  <a:lnTo>
                    <a:pt x="92" y="287"/>
                  </a:lnTo>
                  <a:lnTo>
                    <a:pt x="48" y="217"/>
                  </a:lnTo>
                  <a:lnTo>
                    <a:pt x="0" y="309"/>
                  </a:lnTo>
                  <a:lnTo>
                    <a:pt x="4" y="110"/>
                  </a:lnTo>
                  <a:lnTo>
                    <a:pt x="61" y="0"/>
                  </a:lnTo>
                  <a:lnTo>
                    <a:pt x="114" y="110"/>
                  </a:lnTo>
                  <a:lnTo>
                    <a:pt x="114" y="14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442280" y="907920"/>
              <a:ext cx="459000" cy="678240"/>
            </a:xfrm>
            <a:custGeom>
              <a:avLst/>
              <a:gdLst/>
              <a:ahLst/>
              <a:rect l="0" t="0" r="r" b="b"/>
              <a:pathLst>
                <a:path w="1275" h="1884">
                  <a:moveTo>
                    <a:pt x="1076" y="0"/>
                  </a:moveTo>
                  <a:lnTo>
                    <a:pt x="1204" y="0"/>
                  </a:lnTo>
                  <a:lnTo>
                    <a:pt x="1275" y="92"/>
                  </a:lnTo>
                  <a:lnTo>
                    <a:pt x="1275" y="189"/>
                  </a:lnTo>
                  <a:lnTo>
                    <a:pt x="1169" y="490"/>
                  </a:lnTo>
                  <a:lnTo>
                    <a:pt x="1068" y="631"/>
                  </a:lnTo>
                  <a:lnTo>
                    <a:pt x="957" y="653"/>
                  </a:lnTo>
                  <a:lnTo>
                    <a:pt x="931" y="653"/>
                  </a:lnTo>
                  <a:lnTo>
                    <a:pt x="931" y="1024"/>
                  </a:lnTo>
                  <a:lnTo>
                    <a:pt x="975" y="1293"/>
                  </a:lnTo>
                  <a:lnTo>
                    <a:pt x="975" y="1510"/>
                  </a:lnTo>
                  <a:lnTo>
                    <a:pt x="785" y="1730"/>
                  </a:lnTo>
                  <a:lnTo>
                    <a:pt x="520" y="1884"/>
                  </a:lnTo>
                  <a:lnTo>
                    <a:pt x="348" y="1884"/>
                  </a:lnTo>
                  <a:lnTo>
                    <a:pt x="268" y="1840"/>
                  </a:lnTo>
                  <a:lnTo>
                    <a:pt x="149" y="1580"/>
                  </a:lnTo>
                  <a:lnTo>
                    <a:pt x="44" y="1488"/>
                  </a:lnTo>
                  <a:lnTo>
                    <a:pt x="0" y="1421"/>
                  </a:lnTo>
                  <a:lnTo>
                    <a:pt x="141" y="1510"/>
                  </a:lnTo>
                  <a:lnTo>
                    <a:pt x="246" y="1607"/>
                  </a:lnTo>
                  <a:lnTo>
                    <a:pt x="445" y="1620"/>
                  </a:lnTo>
                  <a:lnTo>
                    <a:pt x="635" y="1527"/>
                  </a:lnTo>
                  <a:lnTo>
                    <a:pt x="728" y="1421"/>
                  </a:lnTo>
                  <a:lnTo>
                    <a:pt x="834" y="1226"/>
                  </a:lnTo>
                  <a:lnTo>
                    <a:pt x="847" y="1002"/>
                  </a:lnTo>
                  <a:lnTo>
                    <a:pt x="891" y="277"/>
                  </a:lnTo>
                  <a:lnTo>
                    <a:pt x="940" y="383"/>
                  </a:lnTo>
                  <a:lnTo>
                    <a:pt x="1063" y="251"/>
                  </a:lnTo>
                  <a:lnTo>
                    <a:pt x="1196" y="189"/>
                  </a:lnTo>
                  <a:lnTo>
                    <a:pt x="1222" y="119"/>
                  </a:lnTo>
                  <a:lnTo>
                    <a:pt x="1209" y="44"/>
                  </a:lnTo>
                  <a:lnTo>
                    <a:pt x="1151" y="8"/>
                  </a:lnTo>
                  <a:lnTo>
                    <a:pt x="107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29480" y="1492200"/>
              <a:ext cx="370080" cy="630720"/>
            </a:xfrm>
            <a:custGeom>
              <a:avLst/>
              <a:gdLst/>
              <a:ahLst/>
              <a:rect l="0" t="0" r="r" b="b"/>
              <a:pathLst>
                <a:path w="1028" h="1752">
                  <a:moveTo>
                    <a:pt x="127" y="0"/>
                  </a:moveTo>
                  <a:lnTo>
                    <a:pt x="246" y="79"/>
                  </a:lnTo>
                  <a:lnTo>
                    <a:pt x="330" y="436"/>
                  </a:lnTo>
                  <a:lnTo>
                    <a:pt x="596" y="516"/>
                  </a:lnTo>
                  <a:lnTo>
                    <a:pt x="675" y="609"/>
                  </a:lnTo>
                  <a:lnTo>
                    <a:pt x="693" y="746"/>
                  </a:lnTo>
                  <a:lnTo>
                    <a:pt x="821" y="728"/>
                  </a:lnTo>
                  <a:lnTo>
                    <a:pt x="975" y="838"/>
                  </a:lnTo>
                  <a:lnTo>
                    <a:pt x="1028" y="979"/>
                  </a:lnTo>
                  <a:lnTo>
                    <a:pt x="1028" y="1226"/>
                  </a:lnTo>
                  <a:lnTo>
                    <a:pt x="821" y="1598"/>
                  </a:lnTo>
                  <a:lnTo>
                    <a:pt x="750" y="1752"/>
                  </a:lnTo>
                  <a:lnTo>
                    <a:pt x="785" y="1549"/>
                  </a:lnTo>
                  <a:lnTo>
                    <a:pt x="750" y="1474"/>
                  </a:lnTo>
                  <a:lnTo>
                    <a:pt x="622" y="1346"/>
                  </a:lnTo>
                  <a:lnTo>
                    <a:pt x="423" y="1187"/>
                  </a:lnTo>
                  <a:lnTo>
                    <a:pt x="662" y="1279"/>
                  </a:lnTo>
                  <a:lnTo>
                    <a:pt x="803" y="1395"/>
                  </a:lnTo>
                  <a:lnTo>
                    <a:pt x="878" y="1377"/>
                  </a:lnTo>
                  <a:lnTo>
                    <a:pt x="922" y="1310"/>
                  </a:lnTo>
                  <a:lnTo>
                    <a:pt x="975" y="1138"/>
                  </a:lnTo>
                  <a:lnTo>
                    <a:pt x="962" y="966"/>
                  </a:lnTo>
                  <a:lnTo>
                    <a:pt x="887" y="869"/>
                  </a:lnTo>
                  <a:lnTo>
                    <a:pt x="759" y="838"/>
                  </a:lnTo>
                  <a:lnTo>
                    <a:pt x="622" y="838"/>
                  </a:lnTo>
                  <a:lnTo>
                    <a:pt x="578" y="578"/>
                  </a:lnTo>
                  <a:lnTo>
                    <a:pt x="343" y="486"/>
                  </a:lnTo>
                  <a:lnTo>
                    <a:pt x="343" y="561"/>
                  </a:lnTo>
                  <a:lnTo>
                    <a:pt x="246" y="370"/>
                  </a:lnTo>
                  <a:lnTo>
                    <a:pt x="189" y="79"/>
                  </a:lnTo>
                  <a:lnTo>
                    <a:pt x="101" y="48"/>
                  </a:lnTo>
                  <a:lnTo>
                    <a:pt x="52" y="136"/>
                  </a:lnTo>
                  <a:lnTo>
                    <a:pt x="52" y="339"/>
                  </a:lnTo>
                  <a:lnTo>
                    <a:pt x="88" y="561"/>
                  </a:lnTo>
                  <a:lnTo>
                    <a:pt x="211" y="746"/>
                  </a:lnTo>
                  <a:lnTo>
                    <a:pt x="74" y="627"/>
                  </a:lnTo>
                  <a:lnTo>
                    <a:pt x="13" y="436"/>
                  </a:lnTo>
                  <a:lnTo>
                    <a:pt x="0" y="189"/>
                  </a:lnTo>
                  <a:lnTo>
                    <a:pt x="52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53080" y="1768320"/>
              <a:ext cx="246600" cy="503640"/>
            </a:xfrm>
            <a:custGeom>
              <a:avLst/>
              <a:gdLst/>
              <a:ahLst/>
              <a:rect l="0" t="0" r="r" b="b"/>
              <a:pathLst>
                <a:path w="685" h="1399">
                  <a:moveTo>
                    <a:pt x="685" y="0"/>
                  </a:moveTo>
                  <a:lnTo>
                    <a:pt x="544" y="92"/>
                  </a:lnTo>
                  <a:lnTo>
                    <a:pt x="375" y="433"/>
                  </a:lnTo>
                  <a:lnTo>
                    <a:pt x="212" y="653"/>
                  </a:lnTo>
                  <a:lnTo>
                    <a:pt x="17" y="918"/>
                  </a:lnTo>
                  <a:lnTo>
                    <a:pt x="0" y="1055"/>
                  </a:lnTo>
                  <a:lnTo>
                    <a:pt x="39" y="1179"/>
                  </a:lnTo>
                  <a:lnTo>
                    <a:pt x="132" y="1179"/>
                  </a:lnTo>
                  <a:lnTo>
                    <a:pt x="261" y="1055"/>
                  </a:lnTo>
                  <a:lnTo>
                    <a:pt x="362" y="803"/>
                  </a:lnTo>
                  <a:lnTo>
                    <a:pt x="503" y="653"/>
                  </a:lnTo>
                  <a:lnTo>
                    <a:pt x="503" y="852"/>
                  </a:lnTo>
                  <a:lnTo>
                    <a:pt x="481" y="1041"/>
                  </a:lnTo>
                  <a:lnTo>
                    <a:pt x="336" y="1285"/>
                  </a:lnTo>
                  <a:lnTo>
                    <a:pt x="336" y="1364"/>
                  </a:lnTo>
                  <a:lnTo>
                    <a:pt x="481" y="1399"/>
                  </a:lnTo>
                  <a:lnTo>
                    <a:pt x="375" y="1329"/>
                  </a:lnTo>
                  <a:lnTo>
                    <a:pt x="393" y="1285"/>
                  </a:lnTo>
                  <a:lnTo>
                    <a:pt x="494" y="1104"/>
                  </a:lnTo>
                  <a:lnTo>
                    <a:pt x="566" y="777"/>
                  </a:lnTo>
                  <a:lnTo>
                    <a:pt x="512" y="587"/>
                  </a:lnTo>
                  <a:lnTo>
                    <a:pt x="402" y="697"/>
                  </a:lnTo>
                  <a:lnTo>
                    <a:pt x="163" y="1113"/>
                  </a:lnTo>
                  <a:lnTo>
                    <a:pt x="97" y="1130"/>
                  </a:lnTo>
                  <a:lnTo>
                    <a:pt x="39" y="1082"/>
                  </a:lnTo>
                  <a:lnTo>
                    <a:pt x="39" y="953"/>
                  </a:lnTo>
                  <a:lnTo>
                    <a:pt x="132" y="790"/>
                  </a:lnTo>
                  <a:lnTo>
                    <a:pt x="402" y="450"/>
                  </a:lnTo>
                  <a:lnTo>
                    <a:pt x="566" y="127"/>
                  </a:lnTo>
                  <a:lnTo>
                    <a:pt x="68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734160" y="2052720"/>
              <a:ext cx="152640" cy="243360"/>
            </a:xfrm>
            <a:custGeom>
              <a:avLst/>
              <a:gdLst/>
              <a:ahLst/>
              <a:rect l="0" t="0" r="r" b="b"/>
              <a:pathLst>
                <a:path w="424" h="676">
                  <a:moveTo>
                    <a:pt x="0" y="597"/>
                  </a:moveTo>
                  <a:lnTo>
                    <a:pt x="136" y="424"/>
                  </a:lnTo>
                  <a:lnTo>
                    <a:pt x="167" y="252"/>
                  </a:lnTo>
                  <a:lnTo>
                    <a:pt x="327" y="0"/>
                  </a:lnTo>
                  <a:lnTo>
                    <a:pt x="358" y="167"/>
                  </a:lnTo>
                  <a:lnTo>
                    <a:pt x="344" y="614"/>
                  </a:lnTo>
                  <a:lnTo>
                    <a:pt x="424" y="676"/>
                  </a:lnTo>
                  <a:lnTo>
                    <a:pt x="300" y="628"/>
                  </a:lnTo>
                  <a:lnTo>
                    <a:pt x="239" y="375"/>
                  </a:lnTo>
                  <a:lnTo>
                    <a:pt x="136" y="499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19920" y="2065320"/>
              <a:ext cx="100440" cy="217800"/>
            </a:xfrm>
            <a:custGeom>
              <a:avLst/>
              <a:gdLst/>
              <a:ahLst/>
              <a:rect l="0" t="0" r="r" b="b"/>
              <a:pathLst>
                <a:path w="279" h="605">
                  <a:moveTo>
                    <a:pt x="0" y="450"/>
                  </a:moveTo>
                  <a:lnTo>
                    <a:pt x="13" y="229"/>
                  </a:lnTo>
                  <a:lnTo>
                    <a:pt x="71" y="97"/>
                  </a:lnTo>
                  <a:lnTo>
                    <a:pt x="137" y="574"/>
                  </a:lnTo>
                  <a:lnTo>
                    <a:pt x="218" y="574"/>
                  </a:lnTo>
                  <a:lnTo>
                    <a:pt x="257" y="70"/>
                  </a:lnTo>
                  <a:lnTo>
                    <a:pt x="279" y="0"/>
                  </a:lnTo>
                  <a:lnTo>
                    <a:pt x="257" y="393"/>
                  </a:lnTo>
                  <a:lnTo>
                    <a:pt x="218" y="605"/>
                  </a:lnTo>
                  <a:lnTo>
                    <a:pt x="111" y="605"/>
                  </a:lnTo>
                  <a:lnTo>
                    <a:pt x="66" y="185"/>
                  </a:lnTo>
                  <a:lnTo>
                    <a:pt x="30" y="24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193240" y="1216080"/>
              <a:ext cx="243360" cy="578160"/>
            </a:xfrm>
            <a:custGeom>
              <a:avLst/>
              <a:gdLst/>
              <a:ahLst/>
              <a:rect l="0" t="0" r="r" b="b"/>
              <a:pathLst>
                <a:path w="676" h="1606">
                  <a:moveTo>
                    <a:pt x="181" y="878"/>
                  </a:moveTo>
                  <a:lnTo>
                    <a:pt x="230" y="617"/>
                  </a:lnTo>
                  <a:lnTo>
                    <a:pt x="455" y="551"/>
                  </a:lnTo>
                  <a:lnTo>
                    <a:pt x="676" y="0"/>
                  </a:lnTo>
                  <a:lnTo>
                    <a:pt x="676" y="163"/>
                  </a:lnTo>
                  <a:lnTo>
                    <a:pt x="490" y="586"/>
                  </a:lnTo>
                  <a:lnTo>
                    <a:pt x="247" y="665"/>
                  </a:lnTo>
                  <a:lnTo>
                    <a:pt x="212" y="878"/>
                  </a:lnTo>
                  <a:lnTo>
                    <a:pt x="300" y="878"/>
                  </a:lnTo>
                  <a:lnTo>
                    <a:pt x="83" y="957"/>
                  </a:lnTo>
                  <a:lnTo>
                    <a:pt x="39" y="1129"/>
                  </a:lnTo>
                  <a:lnTo>
                    <a:pt x="52" y="1350"/>
                  </a:lnTo>
                  <a:lnTo>
                    <a:pt x="274" y="1606"/>
                  </a:lnTo>
                  <a:lnTo>
                    <a:pt x="39" y="1381"/>
                  </a:lnTo>
                  <a:lnTo>
                    <a:pt x="0" y="1196"/>
                  </a:lnTo>
                  <a:lnTo>
                    <a:pt x="17" y="1002"/>
                  </a:lnTo>
                  <a:lnTo>
                    <a:pt x="101" y="878"/>
                  </a:lnTo>
                  <a:lnTo>
                    <a:pt x="181" y="8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356680" y="1216080"/>
              <a:ext cx="405000" cy="559080"/>
            </a:xfrm>
            <a:custGeom>
              <a:avLst/>
              <a:gdLst/>
              <a:ahLst/>
              <a:rect l="0" t="0" r="r" b="b"/>
              <a:pathLst>
                <a:path w="1125" h="1553">
                  <a:moveTo>
                    <a:pt x="313" y="0"/>
                  </a:moveTo>
                  <a:lnTo>
                    <a:pt x="379" y="48"/>
                  </a:lnTo>
                  <a:lnTo>
                    <a:pt x="396" y="180"/>
                  </a:lnTo>
                  <a:lnTo>
                    <a:pt x="396" y="304"/>
                  </a:lnTo>
                  <a:lnTo>
                    <a:pt x="273" y="529"/>
                  </a:lnTo>
                  <a:lnTo>
                    <a:pt x="299" y="696"/>
                  </a:lnTo>
                  <a:lnTo>
                    <a:pt x="680" y="874"/>
                  </a:lnTo>
                  <a:lnTo>
                    <a:pt x="1116" y="1368"/>
                  </a:lnTo>
                  <a:lnTo>
                    <a:pt x="1125" y="1495"/>
                  </a:lnTo>
                  <a:lnTo>
                    <a:pt x="1103" y="1553"/>
                  </a:lnTo>
                  <a:lnTo>
                    <a:pt x="940" y="1553"/>
                  </a:lnTo>
                  <a:lnTo>
                    <a:pt x="794" y="1460"/>
                  </a:lnTo>
                  <a:lnTo>
                    <a:pt x="671" y="1297"/>
                  </a:lnTo>
                  <a:lnTo>
                    <a:pt x="600" y="1209"/>
                  </a:lnTo>
                  <a:lnTo>
                    <a:pt x="520" y="1191"/>
                  </a:lnTo>
                  <a:lnTo>
                    <a:pt x="618" y="1191"/>
                  </a:lnTo>
                  <a:lnTo>
                    <a:pt x="803" y="1442"/>
                  </a:lnTo>
                  <a:lnTo>
                    <a:pt x="1041" y="1517"/>
                  </a:lnTo>
                  <a:lnTo>
                    <a:pt x="1085" y="1442"/>
                  </a:lnTo>
                  <a:lnTo>
                    <a:pt x="1063" y="1328"/>
                  </a:lnTo>
                  <a:lnTo>
                    <a:pt x="649" y="975"/>
                  </a:lnTo>
                  <a:lnTo>
                    <a:pt x="587" y="874"/>
                  </a:lnTo>
                  <a:lnTo>
                    <a:pt x="273" y="790"/>
                  </a:lnTo>
                  <a:lnTo>
                    <a:pt x="216" y="874"/>
                  </a:lnTo>
                  <a:lnTo>
                    <a:pt x="0" y="1019"/>
                  </a:lnTo>
                  <a:lnTo>
                    <a:pt x="202" y="847"/>
                  </a:lnTo>
                  <a:lnTo>
                    <a:pt x="216" y="740"/>
                  </a:lnTo>
                  <a:lnTo>
                    <a:pt x="216" y="489"/>
                  </a:lnTo>
                  <a:lnTo>
                    <a:pt x="361" y="304"/>
                  </a:lnTo>
                  <a:lnTo>
                    <a:pt x="361" y="6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282160" y="1655640"/>
              <a:ext cx="344880" cy="332280"/>
            </a:xfrm>
            <a:custGeom>
              <a:avLst/>
              <a:gdLst/>
              <a:ahLst/>
              <a:rect l="0" t="0" r="r" b="b"/>
              <a:pathLst>
                <a:path w="958" h="923">
                  <a:moveTo>
                    <a:pt x="720" y="0"/>
                  </a:moveTo>
                  <a:lnTo>
                    <a:pt x="693" y="79"/>
                  </a:lnTo>
                  <a:lnTo>
                    <a:pt x="835" y="384"/>
                  </a:lnTo>
                  <a:lnTo>
                    <a:pt x="905" y="698"/>
                  </a:lnTo>
                  <a:lnTo>
                    <a:pt x="826" y="698"/>
                  </a:lnTo>
                  <a:lnTo>
                    <a:pt x="684" y="561"/>
                  </a:lnTo>
                  <a:lnTo>
                    <a:pt x="552" y="269"/>
                  </a:lnTo>
                  <a:lnTo>
                    <a:pt x="450" y="224"/>
                  </a:lnTo>
                  <a:lnTo>
                    <a:pt x="468" y="384"/>
                  </a:lnTo>
                  <a:lnTo>
                    <a:pt x="561" y="494"/>
                  </a:lnTo>
                  <a:lnTo>
                    <a:pt x="561" y="716"/>
                  </a:lnTo>
                  <a:lnTo>
                    <a:pt x="490" y="879"/>
                  </a:lnTo>
                  <a:lnTo>
                    <a:pt x="402" y="813"/>
                  </a:lnTo>
                  <a:lnTo>
                    <a:pt x="296" y="561"/>
                  </a:lnTo>
                  <a:lnTo>
                    <a:pt x="269" y="384"/>
                  </a:lnTo>
                  <a:lnTo>
                    <a:pt x="202" y="327"/>
                  </a:lnTo>
                  <a:lnTo>
                    <a:pt x="189" y="782"/>
                  </a:lnTo>
                  <a:lnTo>
                    <a:pt x="101" y="844"/>
                  </a:lnTo>
                  <a:lnTo>
                    <a:pt x="26" y="782"/>
                  </a:lnTo>
                  <a:lnTo>
                    <a:pt x="13" y="397"/>
                  </a:lnTo>
                  <a:lnTo>
                    <a:pt x="0" y="769"/>
                  </a:lnTo>
                  <a:lnTo>
                    <a:pt x="66" y="910"/>
                  </a:lnTo>
                  <a:lnTo>
                    <a:pt x="189" y="910"/>
                  </a:lnTo>
                  <a:lnTo>
                    <a:pt x="229" y="800"/>
                  </a:lnTo>
                  <a:lnTo>
                    <a:pt x="256" y="450"/>
                  </a:lnTo>
                  <a:lnTo>
                    <a:pt x="278" y="587"/>
                  </a:lnTo>
                  <a:lnTo>
                    <a:pt x="384" y="888"/>
                  </a:lnTo>
                  <a:lnTo>
                    <a:pt x="503" y="923"/>
                  </a:lnTo>
                  <a:lnTo>
                    <a:pt x="591" y="800"/>
                  </a:lnTo>
                  <a:lnTo>
                    <a:pt x="591" y="512"/>
                  </a:lnTo>
                  <a:lnTo>
                    <a:pt x="826" y="751"/>
                  </a:lnTo>
                  <a:lnTo>
                    <a:pt x="945" y="751"/>
                  </a:lnTo>
                  <a:lnTo>
                    <a:pt x="958" y="587"/>
                  </a:lnTo>
                  <a:lnTo>
                    <a:pt x="875" y="300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92920" y="1312920"/>
              <a:ext cx="1529280" cy="1352880"/>
            </a:xfrm>
            <a:custGeom>
              <a:avLst/>
              <a:gdLst/>
              <a:ahLst/>
              <a:rect l="0" t="0" r="r" b="b"/>
              <a:pathLst>
                <a:path w="4248" h="3758">
                  <a:moveTo>
                    <a:pt x="1531" y="317"/>
                  </a:moveTo>
                  <a:lnTo>
                    <a:pt x="1447" y="326"/>
                  </a:lnTo>
                  <a:lnTo>
                    <a:pt x="1332" y="520"/>
                  </a:lnTo>
                  <a:lnTo>
                    <a:pt x="1293" y="383"/>
                  </a:lnTo>
                  <a:lnTo>
                    <a:pt x="1156" y="304"/>
                  </a:lnTo>
                  <a:lnTo>
                    <a:pt x="1049" y="361"/>
                  </a:lnTo>
                  <a:lnTo>
                    <a:pt x="1009" y="608"/>
                  </a:lnTo>
                  <a:lnTo>
                    <a:pt x="630" y="903"/>
                  </a:lnTo>
                  <a:lnTo>
                    <a:pt x="652" y="1031"/>
                  </a:lnTo>
                  <a:lnTo>
                    <a:pt x="564" y="1146"/>
                  </a:lnTo>
                  <a:lnTo>
                    <a:pt x="564" y="1239"/>
                  </a:lnTo>
                  <a:lnTo>
                    <a:pt x="670" y="1521"/>
                  </a:lnTo>
                  <a:lnTo>
                    <a:pt x="683" y="1874"/>
                  </a:lnTo>
                  <a:lnTo>
                    <a:pt x="604" y="2201"/>
                  </a:lnTo>
                  <a:lnTo>
                    <a:pt x="330" y="2399"/>
                  </a:lnTo>
                  <a:lnTo>
                    <a:pt x="299" y="2664"/>
                  </a:lnTo>
                  <a:lnTo>
                    <a:pt x="211" y="2664"/>
                  </a:lnTo>
                  <a:lnTo>
                    <a:pt x="176" y="2443"/>
                  </a:lnTo>
                  <a:lnTo>
                    <a:pt x="83" y="2443"/>
                  </a:lnTo>
                  <a:lnTo>
                    <a:pt x="52" y="2682"/>
                  </a:lnTo>
                  <a:lnTo>
                    <a:pt x="0" y="2743"/>
                  </a:lnTo>
                  <a:lnTo>
                    <a:pt x="189" y="3065"/>
                  </a:lnTo>
                  <a:lnTo>
                    <a:pt x="321" y="3083"/>
                  </a:lnTo>
                  <a:lnTo>
                    <a:pt x="564" y="3321"/>
                  </a:lnTo>
                  <a:lnTo>
                    <a:pt x="780" y="3352"/>
                  </a:lnTo>
                  <a:lnTo>
                    <a:pt x="899" y="3224"/>
                  </a:lnTo>
                  <a:lnTo>
                    <a:pt x="1196" y="2761"/>
                  </a:lnTo>
                  <a:lnTo>
                    <a:pt x="1218" y="3383"/>
                  </a:lnTo>
                  <a:lnTo>
                    <a:pt x="1196" y="3758"/>
                  </a:lnTo>
                  <a:lnTo>
                    <a:pt x="3653" y="3758"/>
                  </a:lnTo>
                  <a:lnTo>
                    <a:pt x="3468" y="3352"/>
                  </a:lnTo>
                  <a:lnTo>
                    <a:pt x="3379" y="3004"/>
                  </a:lnTo>
                  <a:lnTo>
                    <a:pt x="3357" y="2488"/>
                  </a:lnTo>
                  <a:lnTo>
                    <a:pt x="3503" y="2602"/>
                  </a:lnTo>
                  <a:lnTo>
                    <a:pt x="3653" y="2602"/>
                  </a:lnTo>
                  <a:lnTo>
                    <a:pt x="3851" y="2466"/>
                  </a:lnTo>
                  <a:lnTo>
                    <a:pt x="3983" y="2443"/>
                  </a:lnTo>
                  <a:lnTo>
                    <a:pt x="4067" y="2307"/>
                  </a:lnTo>
                  <a:lnTo>
                    <a:pt x="4125" y="1954"/>
                  </a:lnTo>
                  <a:lnTo>
                    <a:pt x="4248" y="1807"/>
                  </a:lnTo>
                  <a:lnTo>
                    <a:pt x="4186" y="1706"/>
                  </a:lnTo>
                  <a:lnTo>
                    <a:pt x="4094" y="1706"/>
                  </a:lnTo>
                  <a:lnTo>
                    <a:pt x="4019" y="1772"/>
                  </a:lnTo>
                  <a:lnTo>
                    <a:pt x="3948" y="1794"/>
                  </a:lnTo>
                  <a:lnTo>
                    <a:pt x="3864" y="1706"/>
                  </a:lnTo>
                  <a:lnTo>
                    <a:pt x="3759" y="1688"/>
                  </a:lnTo>
                  <a:lnTo>
                    <a:pt x="3565" y="1556"/>
                  </a:lnTo>
                  <a:lnTo>
                    <a:pt x="3441" y="1415"/>
                  </a:lnTo>
                  <a:lnTo>
                    <a:pt x="3423" y="1239"/>
                  </a:lnTo>
                  <a:lnTo>
                    <a:pt x="3441" y="1075"/>
                  </a:lnTo>
                  <a:lnTo>
                    <a:pt x="3525" y="939"/>
                  </a:lnTo>
                  <a:lnTo>
                    <a:pt x="3626" y="815"/>
                  </a:lnTo>
                  <a:lnTo>
                    <a:pt x="3617" y="599"/>
                  </a:lnTo>
                  <a:lnTo>
                    <a:pt x="3617" y="445"/>
                  </a:lnTo>
                  <a:lnTo>
                    <a:pt x="3565" y="326"/>
                  </a:lnTo>
                  <a:lnTo>
                    <a:pt x="3423" y="282"/>
                  </a:lnTo>
                  <a:lnTo>
                    <a:pt x="3371" y="255"/>
                  </a:lnTo>
                  <a:lnTo>
                    <a:pt x="3274" y="61"/>
                  </a:lnTo>
                  <a:lnTo>
                    <a:pt x="3184" y="13"/>
                  </a:lnTo>
                  <a:lnTo>
                    <a:pt x="3096" y="0"/>
                  </a:lnTo>
                  <a:lnTo>
                    <a:pt x="3026" y="35"/>
                  </a:lnTo>
                  <a:lnTo>
                    <a:pt x="2959" y="132"/>
                  </a:lnTo>
                  <a:lnTo>
                    <a:pt x="2871" y="189"/>
                  </a:lnTo>
                  <a:lnTo>
                    <a:pt x="2765" y="211"/>
                  </a:lnTo>
                  <a:lnTo>
                    <a:pt x="2646" y="211"/>
                  </a:lnTo>
                  <a:lnTo>
                    <a:pt x="2668" y="396"/>
                  </a:lnTo>
                  <a:lnTo>
                    <a:pt x="2668" y="626"/>
                  </a:lnTo>
                  <a:lnTo>
                    <a:pt x="2646" y="784"/>
                  </a:lnTo>
                  <a:lnTo>
                    <a:pt x="2541" y="970"/>
                  </a:lnTo>
                  <a:lnTo>
                    <a:pt x="2408" y="1247"/>
                  </a:lnTo>
                  <a:lnTo>
                    <a:pt x="2307" y="1591"/>
                  </a:lnTo>
                  <a:lnTo>
                    <a:pt x="2298" y="1794"/>
                  </a:lnTo>
                  <a:lnTo>
                    <a:pt x="2245" y="1967"/>
                  </a:lnTo>
                  <a:lnTo>
                    <a:pt x="2183" y="2139"/>
                  </a:lnTo>
                  <a:lnTo>
                    <a:pt x="2152" y="2408"/>
                  </a:lnTo>
                  <a:lnTo>
                    <a:pt x="2174" y="2642"/>
                  </a:lnTo>
                  <a:lnTo>
                    <a:pt x="2245" y="2907"/>
                  </a:lnTo>
                  <a:lnTo>
                    <a:pt x="2298" y="3004"/>
                  </a:lnTo>
                  <a:lnTo>
                    <a:pt x="2152" y="3101"/>
                  </a:lnTo>
                  <a:lnTo>
                    <a:pt x="1980" y="3162"/>
                  </a:lnTo>
                  <a:lnTo>
                    <a:pt x="1795" y="3180"/>
                  </a:lnTo>
                  <a:lnTo>
                    <a:pt x="1676" y="3180"/>
                  </a:lnTo>
                  <a:lnTo>
                    <a:pt x="1601" y="3145"/>
                  </a:lnTo>
                  <a:lnTo>
                    <a:pt x="1601" y="2920"/>
                  </a:lnTo>
                  <a:lnTo>
                    <a:pt x="1601" y="2585"/>
                  </a:lnTo>
                  <a:lnTo>
                    <a:pt x="1557" y="2263"/>
                  </a:lnTo>
                  <a:lnTo>
                    <a:pt x="1478" y="1967"/>
                  </a:lnTo>
                  <a:lnTo>
                    <a:pt x="1438" y="1733"/>
                  </a:lnTo>
                  <a:lnTo>
                    <a:pt x="1429" y="1397"/>
                  </a:lnTo>
                  <a:lnTo>
                    <a:pt x="1478" y="1106"/>
                  </a:lnTo>
                  <a:lnTo>
                    <a:pt x="1557" y="877"/>
                  </a:lnTo>
                  <a:lnTo>
                    <a:pt x="1562" y="736"/>
                  </a:lnTo>
                  <a:lnTo>
                    <a:pt x="1531" y="537"/>
                  </a:lnTo>
                  <a:lnTo>
                    <a:pt x="1531" y="383"/>
                  </a:lnTo>
                  <a:lnTo>
                    <a:pt x="1557" y="326"/>
                  </a:lnTo>
                  <a:lnTo>
                    <a:pt x="1531" y="3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489800" y="1582560"/>
              <a:ext cx="190800" cy="879840"/>
            </a:xfrm>
            <a:custGeom>
              <a:avLst/>
              <a:gdLst/>
              <a:ahLst/>
              <a:rect l="0" t="0" r="r" b="b"/>
              <a:pathLst>
                <a:path w="530" h="2444">
                  <a:moveTo>
                    <a:pt x="211" y="30"/>
                  </a:moveTo>
                  <a:lnTo>
                    <a:pt x="70" y="105"/>
                  </a:lnTo>
                  <a:lnTo>
                    <a:pt x="79" y="343"/>
                  </a:lnTo>
                  <a:lnTo>
                    <a:pt x="185" y="410"/>
                  </a:lnTo>
                  <a:lnTo>
                    <a:pt x="61" y="666"/>
                  </a:lnTo>
                  <a:lnTo>
                    <a:pt x="0" y="949"/>
                  </a:lnTo>
                  <a:lnTo>
                    <a:pt x="0" y="1218"/>
                  </a:lnTo>
                  <a:lnTo>
                    <a:pt x="61" y="1465"/>
                  </a:lnTo>
                  <a:lnTo>
                    <a:pt x="114" y="1764"/>
                  </a:lnTo>
                  <a:lnTo>
                    <a:pt x="114" y="1933"/>
                  </a:lnTo>
                  <a:lnTo>
                    <a:pt x="61" y="2145"/>
                  </a:lnTo>
                  <a:lnTo>
                    <a:pt x="269" y="2444"/>
                  </a:lnTo>
                  <a:lnTo>
                    <a:pt x="362" y="2396"/>
                  </a:lnTo>
                  <a:lnTo>
                    <a:pt x="419" y="2189"/>
                  </a:lnTo>
                  <a:lnTo>
                    <a:pt x="521" y="1920"/>
                  </a:lnTo>
                  <a:lnTo>
                    <a:pt x="530" y="1778"/>
                  </a:lnTo>
                  <a:lnTo>
                    <a:pt x="450" y="1509"/>
                  </a:lnTo>
                  <a:lnTo>
                    <a:pt x="349" y="1248"/>
                  </a:lnTo>
                  <a:lnTo>
                    <a:pt x="314" y="1063"/>
                  </a:lnTo>
                  <a:lnTo>
                    <a:pt x="314" y="887"/>
                  </a:lnTo>
                  <a:lnTo>
                    <a:pt x="349" y="728"/>
                  </a:lnTo>
                  <a:lnTo>
                    <a:pt x="419" y="533"/>
                  </a:lnTo>
                  <a:lnTo>
                    <a:pt x="419" y="454"/>
                  </a:lnTo>
                  <a:lnTo>
                    <a:pt x="384" y="374"/>
                  </a:lnTo>
                  <a:lnTo>
                    <a:pt x="481" y="277"/>
                  </a:lnTo>
                  <a:lnTo>
                    <a:pt x="481" y="185"/>
                  </a:lnTo>
                  <a:lnTo>
                    <a:pt x="349" y="0"/>
                  </a:lnTo>
                  <a:lnTo>
                    <a:pt x="464" y="185"/>
                  </a:lnTo>
                  <a:lnTo>
                    <a:pt x="464" y="264"/>
                  </a:lnTo>
                  <a:lnTo>
                    <a:pt x="362" y="343"/>
                  </a:lnTo>
                  <a:lnTo>
                    <a:pt x="397" y="454"/>
                  </a:lnTo>
                  <a:lnTo>
                    <a:pt x="384" y="533"/>
                  </a:lnTo>
                  <a:lnTo>
                    <a:pt x="283" y="759"/>
                  </a:lnTo>
                  <a:lnTo>
                    <a:pt x="269" y="979"/>
                  </a:lnTo>
                  <a:lnTo>
                    <a:pt x="296" y="1187"/>
                  </a:lnTo>
                  <a:lnTo>
                    <a:pt x="362" y="1478"/>
                  </a:lnTo>
                  <a:lnTo>
                    <a:pt x="450" y="1711"/>
                  </a:lnTo>
                  <a:lnTo>
                    <a:pt x="450" y="1907"/>
                  </a:lnTo>
                  <a:lnTo>
                    <a:pt x="397" y="2145"/>
                  </a:lnTo>
                  <a:lnTo>
                    <a:pt x="296" y="2396"/>
                  </a:lnTo>
                  <a:lnTo>
                    <a:pt x="171" y="2255"/>
                  </a:lnTo>
                  <a:lnTo>
                    <a:pt x="123" y="2145"/>
                  </a:lnTo>
                  <a:lnTo>
                    <a:pt x="136" y="1907"/>
                  </a:lnTo>
                  <a:lnTo>
                    <a:pt x="123" y="1663"/>
                  </a:lnTo>
                  <a:lnTo>
                    <a:pt x="61" y="1341"/>
                  </a:lnTo>
                  <a:lnTo>
                    <a:pt x="39" y="1121"/>
                  </a:lnTo>
                  <a:lnTo>
                    <a:pt x="61" y="874"/>
                  </a:lnTo>
                  <a:lnTo>
                    <a:pt x="114" y="631"/>
                  </a:lnTo>
                  <a:lnTo>
                    <a:pt x="220" y="392"/>
                  </a:lnTo>
                  <a:lnTo>
                    <a:pt x="123" y="295"/>
                  </a:lnTo>
                  <a:lnTo>
                    <a:pt x="114" y="123"/>
                  </a:lnTo>
                  <a:lnTo>
                    <a:pt x="211" y="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040600" y="555480"/>
              <a:ext cx="303480" cy="429120"/>
            </a:xfrm>
            <a:custGeom>
              <a:avLst/>
              <a:gdLst/>
              <a:ahLst/>
              <a:rect l="0" t="0" r="r" b="b"/>
              <a:pathLst>
                <a:path w="843" h="1192">
                  <a:moveTo>
                    <a:pt x="141" y="305"/>
                  </a:moveTo>
                  <a:lnTo>
                    <a:pt x="264" y="277"/>
                  </a:lnTo>
                  <a:lnTo>
                    <a:pt x="383" y="291"/>
                  </a:lnTo>
                  <a:lnTo>
                    <a:pt x="481" y="340"/>
                  </a:lnTo>
                  <a:lnTo>
                    <a:pt x="538" y="402"/>
                  </a:lnTo>
                  <a:lnTo>
                    <a:pt x="565" y="459"/>
                  </a:lnTo>
                  <a:lnTo>
                    <a:pt x="565" y="525"/>
                  </a:lnTo>
                  <a:lnTo>
                    <a:pt x="534" y="565"/>
                  </a:lnTo>
                  <a:lnTo>
                    <a:pt x="477" y="591"/>
                  </a:lnTo>
                  <a:lnTo>
                    <a:pt x="418" y="591"/>
                  </a:lnTo>
                  <a:lnTo>
                    <a:pt x="339" y="578"/>
                  </a:lnTo>
                  <a:lnTo>
                    <a:pt x="268" y="530"/>
                  </a:lnTo>
                  <a:lnTo>
                    <a:pt x="211" y="486"/>
                  </a:lnTo>
                  <a:lnTo>
                    <a:pt x="185" y="636"/>
                  </a:lnTo>
                  <a:lnTo>
                    <a:pt x="141" y="746"/>
                  </a:lnTo>
                  <a:lnTo>
                    <a:pt x="0" y="1003"/>
                  </a:lnTo>
                  <a:lnTo>
                    <a:pt x="202" y="1192"/>
                  </a:lnTo>
                  <a:lnTo>
                    <a:pt x="361" y="869"/>
                  </a:lnTo>
                  <a:lnTo>
                    <a:pt x="534" y="897"/>
                  </a:lnTo>
                  <a:lnTo>
                    <a:pt x="644" y="874"/>
                  </a:lnTo>
                  <a:lnTo>
                    <a:pt x="746" y="799"/>
                  </a:lnTo>
                  <a:lnTo>
                    <a:pt x="807" y="706"/>
                  </a:lnTo>
                  <a:lnTo>
                    <a:pt x="843" y="583"/>
                  </a:lnTo>
                  <a:lnTo>
                    <a:pt x="843" y="455"/>
                  </a:lnTo>
                  <a:lnTo>
                    <a:pt x="807" y="318"/>
                  </a:lnTo>
                  <a:lnTo>
                    <a:pt x="741" y="180"/>
                  </a:lnTo>
                  <a:lnTo>
                    <a:pt x="658" y="83"/>
                  </a:lnTo>
                  <a:lnTo>
                    <a:pt x="547" y="30"/>
                  </a:lnTo>
                  <a:lnTo>
                    <a:pt x="428" y="0"/>
                  </a:lnTo>
                  <a:lnTo>
                    <a:pt x="277" y="0"/>
                  </a:lnTo>
                  <a:lnTo>
                    <a:pt x="114" y="35"/>
                  </a:lnTo>
                  <a:lnTo>
                    <a:pt x="141" y="30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985160" y="969840"/>
              <a:ext cx="109800" cy="86040"/>
            </a:xfrm>
            <a:custGeom>
              <a:avLst/>
              <a:gdLst/>
              <a:ahLst/>
              <a:rect l="0" t="0" r="r" b="b"/>
              <a:pathLst>
                <a:path w="305" h="239">
                  <a:moveTo>
                    <a:pt x="123" y="0"/>
                  </a:moveTo>
                  <a:lnTo>
                    <a:pt x="44" y="0"/>
                  </a:lnTo>
                  <a:lnTo>
                    <a:pt x="0" y="35"/>
                  </a:lnTo>
                  <a:lnTo>
                    <a:pt x="0" y="120"/>
                  </a:lnTo>
                  <a:lnTo>
                    <a:pt x="61" y="203"/>
                  </a:lnTo>
                  <a:lnTo>
                    <a:pt x="181" y="239"/>
                  </a:lnTo>
                  <a:lnTo>
                    <a:pt x="274" y="234"/>
                  </a:lnTo>
                  <a:lnTo>
                    <a:pt x="305" y="177"/>
                  </a:lnTo>
                  <a:lnTo>
                    <a:pt x="287" y="128"/>
                  </a:lnTo>
                  <a:lnTo>
                    <a:pt x="247" y="66"/>
                  </a:lnTo>
                  <a:lnTo>
                    <a:pt x="172" y="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990720" y="76212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fessional Ethics and the Accounting Prof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905120" y="2743200"/>
            <a:ext cx="6324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thic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describe the ethical responsibilities of accoun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6858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What Are Professional Eth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914400" y="114300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de of conduct that applies to the practice of a prof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de of conduct adopted by the AICPA and each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to the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gr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je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epen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e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144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is a link between business activities and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measures business activities by recording data about them for future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data are stored until needed and then processed to become useful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22860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762120" y="380880"/>
            <a:ext cx="80103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Institute of Management Accountants (IMA) Code of Professional Condu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1295280" y="228600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et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fidenti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g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voidance of conflicts of 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unication of information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jectively and without b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838080" y="2057400"/>
            <a:ext cx="830592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uss the importance of profession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thics in the accounting prof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fessional ethics forms a code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duct that applies to the practice of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fession.  As members of a profession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ants have a responsibility, no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ly to their employers and clients bu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lso to society as a whole, to uphold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ighest ethical stand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2590920" y="91440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838080" y="228600"/>
            <a:ext cx="1903680" cy="1827720"/>
            <a:chOff x="838080" y="228600"/>
            <a:chExt cx="1903680" cy="1827720"/>
          </a:xfrm>
        </p:grpSpPr>
        <p:sp>
          <p:nvSpPr>
            <p:cNvPr id="838" name=""/>
            <p:cNvSpPr/>
            <p:nvPr/>
          </p:nvSpPr>
          <p:spPr>
            <a:xfrm>
              <a:off x="844560" y="1125360"/>
              <a:ext cx="462240" cy="636840"/>
            </a:xfrm>
            <a:custGeom>
              <a:avLst/>
              <a:gdLst/>
              <a:ahLst/>
              <a:rect l="0" t="0" r="r" b="b"/>
              <a:pathLst>
                <a:path w="1284" h="1769">
                  <a:moveTo>
                    <a:pt x="511" y="0"/>
                  </a:moveTo>
                  <a:lnTo>
                    <a:pt x="445" y="79"/>
                  </a:lnTo>
                  <a:lnTo>
                    <a:pt x="445" y="308"/>
                  </a:lnTo>
                  <a:lnTo>
                    <a:pt x="511" y="476"/>
                  </a:lnTo>
                  <a:lnTo>
                    <a:pt x="590" y="555"/>
                  </a:lnTo>
                  <a:lnTo>
                    <a:pt x="471" y="670"/>
                  </a:lnTo>
                  <a:lnTo>
                    <a:pt x="321" y="927"/>
                  </a:lnTo>
                  <a:lnTo>
                    <a:pt x="22" y="1332"/>
                  </a:lnTo>
                  <a:lnTo>
                    <a:pt x="0" y="1434"/>
                  </a:lnTo>
                  <a:lnTo>
                    <a:pt x="22" y="1517"/>
                  </a:lnTo>
                  <a:lnTo>
                    <a:pt x="119" y="1517"/>
                  </a:lnTo>
                  <a:lnTo>
                    <a:pt x="198" y="1425"/>
                  </a:lnTo>
                  <a:lnTo>
                    <a:pt x="321" y="1191"/>
                  </a:lnTo>
                  <a:lnTo>
                    <a:pt x="396" y="1094"/>
                  </a:lnTo>
                  <a:lnTo>
                    <a:pt x="445" y="1244"/>
                  </a:lnTo>
                  <a:lnTo>
                    <a:pt x="414" y="1407"/>
                  </a:lnTo>
                  <a:lnTo>
                    <a:pt x="286" y="1645"/>
                  </a:lnTo>
                  <a:lnTo>
                    <a:pt x="321" y="1694"/>
                  </a:lnTo>
                  <a:lnTo>
                    <a:pt x="396" y="1681"/>
                  </a:lnTo>
                  <a:lnTo>
                    <a:pt x="555" y="1557"/>
                  </a:lnTo>
                  <a:lnTo>
                    <a:pt x="684" y="1350"/>
                  </a:lnTo>
                  <a:lnTo>
                    <a:pt x="684" y="1707"/>
                  </a:lnTo>
                  <a:lnTo>
                    <a:pt x="834" y="1769"/>
                  </a:lnTo>
                  <a:lnTo>
                    <a:pt x="927" y="1544"/>
                  </a:lnTo>
                  <a:lnTo>
                    <a:pt x="1006" y="1751"/>
                  </a:lnTo>
                  <a:lnTo>
                    <a:pt x="1068" y="1694"/>
                  </a:lnTo>
                  <a:lnTo>
                    <a:pt x="1094" y="1284"/>
                  </a:lnTo>
                  <a:lnTo>
                    <a:pt x="1284" y="900"/>
                  </a:lnTo>
                  <a:lnTo>
                    <a:pt x="1240" y="670"/>
                  </a:lnTo>
                  <a:lnTo>
                    <a:pt x="1112" y="590"/>
                  </a:lnTo>
                  <a:lnTo>
                    <a:pt x="975" y="599"/>
                  </a:lnTo>
                  <a:lnTo>
                    <a:pt x="927" y="418"/>
                  </a:lnTo>
                  <a:lnTo>
                    <a:pt x="785" y="379"/>
                  </a:lnTo>
                  <a:lnTo>
                    <a:pt x="662" y="321"/>
                  </a:lnTo>
                  <a:lnTo>
                    <a:pt x="590" y="35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30480" y="1384200"/>
              <a:ext cx="138600" cy="308160"/>
            </a:xfrm>
            <a:custGeom>
              <a:avLst/>
              <a:gdLst/>
              <a:ahLst/>
              <a:rect l="0" t="0" r="r" b="b"/>
              <a:pathLst>
                <a:path w="385" h="856">
                  <a:moveTo>
                    <a:pt x="195" y="0"/>
                  </a:moveTo>
                  <a:lnTo>
                    <a:pt x="385" y="224"/>
                  </a:lnTo>
                  <a:lnTo>
                    <a:pt x="293" y="706"/>
                  </a:lnTo>
                  <a:lnTo>
                    <a:pt x="0" y="856"/>
                  </a:lnTo>
                  <a:lnTo>
                    <a:pt x="0" y="618"/>
                  </a:lnTo>
                  <a:lnTo>
                    <a:pt x="120" y="361"/>
                  </a:lnTo>
                  <a:lnTo>
                    <a:pt x="195" y="18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116080" y="1208160"/>
              <a:ext cx="341640" cy="278280"/>
            </a:xfrm>
            <a:custGeom>
              <a:avLst/>
              <a:gdLst/>
              <a:ahLst/>
              <a:rect l="0" t="0" r="r" b="b"/>
              <a:pathLst>
                <a:path w="949" h="773">
                  <a:moveTo>
                    <a:pt x="388" y="0"/>
                  </a:moveTo>
                  <a:lnTo>
                    <a:pt x="388" y="127"/>
                  </a:lnTo>
                  <a:lnTo>
                    <a:pt x="423" y="234"/>
                  </a:lnTo>
                  <a:lnTo>
                    <a:pt x="609" y="419"/>
                  </a:lnTo>
                  <a:lnTo>
                    <a:pt x="949" y="525"/>
                  </a:lnTo>
                  <a:lnTo>
                    <a:pt x="900" y="756"/>
                  </a:lnTo>
                  <a:lnTo>
                    <a:pt x="609" y="773"/>
                  </a:lnTo>
                  <a:lnTo>
                    <a:pt x="180" y="601"/>
                  </a:lnTo>
                  <a:lnTo>
                    <a:pt x="0" y="309"/>
                  </a:lnTo>
                  <a:lnTo>
                    <a:pt x="211" y="17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54320" y="890640"/>
              <a:ext cx="476640" cy="616320"/>
            </a:xfrm>
            <a:custGeom>
              <a:avLst/>
              <a:gdLst/>
              <a:ahLst/>
              <a:rect l="0" t="0" r="r" b="b"/>
              <a:pathLst>
                <a:path w="1324" h="1712">
                  <a:moveTo>
                    <a:pt x="119" y="724"/>
                  </a:moveTo>
                  <a:lnTo>
                    <a:pt x="0" y="847"/>
                  </a:lnTo>
                  <a:lnTo>
                    <a:pt x="22" y="1125"/>
                  </a:lnTo>
                  <a:lnTo>
                    <a:pt x="207" y="1257"/>
                  </a:lnTo>
                  <a:lnTo>
                    <a:pt x="224" y="1686"/>
                  </a:lnTo>
                  <a:lnTo>
                    <a:pt x="415" y="1686"/>
                  </a:lnTo>
                  <a:lnTo>
                    <a:pt x="397" y="1324"/>
                  </a:lnTo>
                  <a:lnTo>
                    <a:pt x="534" y="1695"/>
                  </a:lnTo>
                  <a:lnTo>
                    <a:pt x="631" y="1712"/>
                  </a:lnTo>
                  <a:lnTo>
                    <a:pt x="693" y="1585"/>
                  </a:lnTo>
                  <a:lnTo>
                    <a:pt x="710" y="1351"/>
                  </a:lnTo>
                  <a:lnTo>
                    <a:pt x="909" y="1576"/>
                  </a:lnTo>
                  <a:lnTo>
                    <a:pt x="994" y="1554"/>
                  </a:lnTo>
                  <a:lnTo>
                    <a:pt x="975" y="1404"/>
                  </a:lnTo>
                  <a:lnTo>
                    <a:pt x="900" y="1187"/>
                  </a:lnTo>
                  <a:lnTo>
                    <a:pt x="821" y="1046"/>
                  </a:lnTo>
                  <a:lnTo>
                    <a:pt x="847" y="944"/>
                  </a:lnTo>
                  <a:lnTo>
                    <a:pt x="900" y="962"/>
                  </a:lnTo>
                  <a:lnTo>
                    <a:pt x="1086" y="1187"/>
                  </a:lnTo>
                  <a:lnTo>
                    <a:pt x="1280" y="1240"/>
                  </a:lnTo>
                  <a:lnTo>
                    <a:pt x="1324" y="1169"/>
                  </a:lnTo>
                  <a:lnTo>
                    <a:pt x="1298" y="1054"/>
                  </a:lnTo>
                  <a:lnTo>
                    <a:pt x="927" y="710"/>
                  </a:lnTo>
                  <a:lnTo>
                    <a:pt x="631" y="605"/>
                  </a:lnTo>
                  <a:lnTo>
                    <a:pt x="596" y="410"/>
                  </a:lnTo>
                  <a:lnTo>
                    <a:pt x="693" y="238"/>
                  </a:lnTo>
                  <a:lnTo>
                    <a:pt x="693" y="57"/>
                  </a:lnTo>
                  <a:lnTo>
                    <a:pt x="609" y="0"/>
                  </a:lnTo>
                  <a:lnTo>
                    <a:pt x="397" y="464"/>
                  </a:lnTo>
                  <a:lnTo>
                    <a:pt x="207" y="534"/>
                  </a:lnTo>
                  <a:lnTo>
                    <a:pt x="163" y="662"/>
                  </a:lnTo>
                  <a:lnTo>
                    <a:pt x="119" y="72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471680" y="357120"/>
              <a:ext cx="520920" cy="786240"/>
            </a:xfrm>
            <a:custGeom>
              <a:avLst/>
              <a:gdLst/>
              <a:ahLst/>
              <a:rect l="0" t="0" r="r" b="b"/>
              <a:pathLst>
                <a:path w="1447" h="2184">
                  <a:moveTo>
                    <a:pt x="361" y="299"/>
                  </a:moveTo>
                  <a:lnTo>
                    <a:pt x="251" y="719"/>
                  </a:lnTo>
                  <a:lnTo>
                    <a:pt x="17" y="807"/>
                  </a:lnTo>
                  <a:lnTo>
                    <a:pt x="79" y="935"/>
                  </a:lnTo>
                  <a:lnTo>
                    <a:pt x="0" y="1019"/>
                  </a:lnTo>
                  <a:lnTo>
                    <a:pt x="0" y="1169"/>
                  </a:lnTo>
                  <a:lnTo>
                    <a:pt x="114" y="1310"/>
                  </a:lnTo>
                  <a:lnTo>
                    <a:pt x="224" y="1310"/>
                  </a:lnTo>
                  <a:lnTo>
                    <a:pt x="299" y="1796"/>
                  </a:lnTo>
                  <a:lnTo>
                    <a:pt x="392" y="2004"/>
                  </a:lnTo>
                  <a:lnTo>
                    <a:pt x="687" y="2184"/>
                  </a:lnTo>
                  <a:lnTo>
                    <a:pt x="984" y="2162"/>
                  </a:lnTo>
                  <a:lnTo>
                    <a:pt x="1125" y="1796"/>
                  </a:lnTo>
                  <a:lnTo>
                    <a:pt x="1156" y="1244"/>
                  </a:lnTo>
                  <a:lnTo>
                    <a:pt x="1447" y="966"/>
                  </a:lnTo>
                  <a:lnTo>
                    <a:pt x="1434" y="860"/>
                  </a:lnTo>
                  <a:lnTo>
                    <a:pt x="1398" y="807"/>
                  </a:lnTo>
                  <a:lnTo>
                    <a:pt x="1248" y="794"/>
                  </a:lnTo>
                  <a:lnTo>
                    <a:pt x="1293" y="653"/>
                  </a:lnTo>
                  <a:lnTo>
                    <a:pt x="1143" y="552"/>
                  </a:lnTo>
                  <a:lnTo>
                    <a:pt x="1076" y="238"/>
                  </a:lnTo>
                  <a:lnTo>
                    <a:pt x="626" y="0"/>
                  </a:lnTo>
                  <a:lnTo>
                    <a:pt x="392" y="224"/>
                  </a:lnTo>
                  <a:lnTo>
                    <a:pt x="361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509840" y="1014480"/>
              <a:ext cx="476640" cy="937080"/>
            </a:xfrm>
            <a:custGeom>
              <a:avLst/>
              <a:gdLst/>
              <a:ahLst/>
              <a:rect l="0" t="0" r="r" b="b"/>
              <a:pathLst>
                <a:path w="1324" h="2603">
                  <a:moveTo>
                    <a:pt x="273" y="132"/>
                  </a:moveTo>
                  <a:lnTo>
                    <a:pt x="464" y="260"/>
                  </a:lnTo>
                  <a:lnTo>
                    <a:pt x="552" y="396"/>
                  </a:lnTo>
                  <a:lnTo>
                    <a:pt x="1086" y="0"/>
                  </a:lnTo>
                  <a:lnTo>
                    <a:pt x="1249" y="79"/>
                  </a:lnTo>
                  <a:lnTo>
                    <a:pt x="1324" y="498"/>
                  </a:lnTo>
                  <a:lnTo>
                    <a:pt x="940" y="1694"/>
                  </a:lnTo>
                  <a:lnTo>
                    <a:pt x="1064" y="2356"/>
                  </a:lnTo>
                  <a:lnTo>
                    <a:pt x="565" y="2603"/>
                  </a:lnTo>
                  <a:lnTo>
                    <a:pt x="176" y="2467"/>
                  </a:lnTo>
                  <a:lnTo>
                    <a:pt x="176" y="1760"/>
                  </a:lnTo>
                  <a:lnTo>
                    <a:pt x="0" y="1081"/>
                  </a:lnTo>
                  <a:lnTo>
                    <a:pt x="176" y="260"/>
                  </a:lnTo>
                  <a:lnTo>
                    <a:pt x="273" y="1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531800" y="255600"/>
              <a:ext cx="443160" cy="246600"/>
            </a:xfrm>
            <a:custGeom>
              <a:avLst/>
              <a:gdLst/>
              <a:ahLst/>
              <a:rect l="0" t="0" r="r" b="b"/>
              <a:pathLst>
                <a:path w="1231" h="685">
                  <a:moveTo>
                    <a:pt x="154" y="659"/>
                  </a:moveTo>
                  <a:lnTo>
                    <a:pt x="330" y="468"/>
                  </a:lnTo>
                  <a:lnTo>
                    <a:pt x="449" y="446"/>
                  </a:lnTo>
                  <a:lnTo>
                    <a:pt x="449" y="459"/>
                  </a:lnTo>
                  <a:lnTo>
                    <a:pt x="507" y="446"/>
                  </a:lnTo>
                  <a:lnTo>
                    <a:pt x="582" y="499"/>
                  </a:lnTo>
                  <a:lnTo>
                    <a:pt x="728" y="526"/>
                  </a:lnTo>
                  <a:lnTo>
                    <a:pt x="847" y="685"/>
                  </a:lnTo>
                  <a:lnTo>
                    <a:pt x="1037" y="614"/>
                  </a:lnTo>
                  <a:lnTo>
                    <a:pt x="1037" y="544"/>
                  </a:lnTo>
                  <a:lnTo>
                    <a:pt x="1231" y="459"/>
                  </a:lnTo>
                  <a:lnTo>
                    <a:pt x="1173" y="331"/>
                  </a:lnTo>
                  <a:lnTo>
                    <a:pt x="993" y="322"/>
                  </a:lnTo>
                  <a:lnTo>
                    <a:pt x="1019" y="181"/>
                  </a:lnTo>
                  <a:lnTo>
                    <a:pt x="860" y="195"/>
                  </a:lnTo>
                  <a:lnTo>
                    <a:pt x="834" y="97"/>
                  </a:lnTo>
                  <a:lnTo>
                    <a:pt x="728" y="97"/>
                  </a:lnTo>
                  <a:lnTo>
                    <a:pt x="649" y="149"/>
                  </a:lnTo>
                  <a:lnTo>
                    <a:pt x="582" y="149"/>
                  </a:lnTo>
                  <a:lnTo>
                    <a:pt x="595" y="0"/>
                  </a:lnTo>
                  <a:lnTo>
                    <a:pt x="449" y="74"/>
                  </a:lnTo>
                  <a:lnTo>
                    <a:pt x="242" y="322"/>
                  </a:lnTo>
                  <a:lnTo>
                    <a:pt x="233" y="149"/>
                  </a:lnTo>
                  <a:lnTo>
                    <a:pt x="123" y="234"/>
                  </a:lnTo>
                  <a:lnTo>
                    <a:pt x="92" y="446"/>
                  </a:lnTo>
                  <a:lnTo>
                    <a:pt x="0" y="406"/>
                  </a:lnTo>
                  <a:lnTo>
                    <a:pt x="17" y="544"/>
                  </a:lnTo>
                  <a:lnTo>
                    <a:pt x="154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50960" y="1187280"/>
              <a:ext cx="141480" cy="708480"/>
            </a:xfrm>
            <a:custGeom>
              <a:avLst/>
              <a:gdLst/>
              <a:ahLst/>
              <a:rect l="0" t="0" r="r" b="b"/>
              <a:pathLst>
                <a:path w="393" h="1968">
                  <a:moveTo>
                    <a:pt x="199" y="13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63" y="317"/>
                  </a:lnTo>
                  <a:lnTo>
                    <a:pt x="35" y="583"/>
                  </a:lnTo>
                  <a:lnTo>
                    <a:pt x="0" y="922"/>
                  </a:lnTo>
                  <a:lnTo>
                    <a:pt x="97" y="1372"/>
                  </a:lnTo>
                  <a:lnTo>
                    <a:pt x="97" y="1571"/>
                  </a:lnTo>
                  <a:lnTo>
                    <a:pt x="48" y="1717"/>
                  </a:lnTo>
                  <a:lnTo>
                    <a:pt x="247" y="1968"/>
                  </a:lnTo>
                  <a:lnTo>
                    <a:pt x="380" y="1585"/>
                  </a:lnTo>
                  <a:lnTo>
                    <a:pt x="380" y="1323"/>
                  </a:lnTo>
                  <a:lnTo>
                    <a:pt x="283" y="1072"/>
                  </a:lnTo>
                  <a:lnTo>
                    <a:pt x="234" y="746"/>
                  </a:lnTo>
                  <a:lnTo>
                    <a:pt x="331" y="418"/>
                  </a:lnTo>
                  <a:lnTo>
                    <a:pt x="300" y="286"/>
                  </a:lnTo>
                  <a:lnTo>
                    <a:pt x="393" y="224"/>
                  </a:lnTo>
                  <a:lnTo>
                    <a:pt x="380" y="132"/>
                  </a:lnTo>
                  <a:lnTo>
                    <a:pt x="265" y="0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46280" y="949320"/>
              <a:ext cx="113040" cy="65520"/>
            </a:xfrm>
            <a:custGeom>
              <a:avLst/>
              <a:gdLst/>
              <a:ahLst/>
              <a:rect l="0" t="0" r="r" b="b"/>
              <a:pathLst>
                <a:path w="314" h="182">
                  <a:moveTo>
                    <a:pt x="0" y="58"/>
                  </a:moveTo>
                  <a:lnTo>
                    <a:pt x="123" y="182"/>
                  </a:lnTo>
                  <a:lnTo>
                    <a:pt x="252" y="165"/>
                  </a:lnTo>
                  <a:lnTo>
                    <a:pt x="314" y="17"/>
                  </a:lnTo>
                  <a:lnTo>
                    <a:pt x="177" y="0"/>
                  </a:lnTo>
                  <a:lnTo>
                    <a:pt x="30" y="17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519200" y="620640"/>
              <a:ext cx="143280" cy="140040"/>
            </a:xfrm>
            <a:custGeom>
              <a:avLst/>
              <a:gdLst/>
              <a:ahLst/>
              <a:rect l="0" t="0" r="r" b="b"/>
              <a:pathLst>
                <a:path w="398" h="389">
                  <a:moveTo>
                    <a:pt x="0" y="39"/>
                  </a:moveTo>
                  <a:lnTo>
                    <a:pt x="274" y="389"/>
                  </a:lnTo>
                  <a:lnTo>
                    <a:pt x="398" y="367"/>
                  </a:lnTo>
                  <a:lnTo>
                    <a:pt x="111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771560" y="593640"/>
              <a:ext cx="120960" cy="136800"/>
            </a:xfrm>
            <a:custGeom>
              <a:avLst/>
              <a:gdLst/>
              <a:ahLst/>
              <a:rect l="0" t="0" r="r" b="b"/>
              <a:pathLst>
                <a:path w="336" h="380">
                  <a:moveTo>
                    <a:pt x="0" y="52"/>
                  </a:moveTo>
                  <a:lnTo>
                    <a:pt x="234" y="380"/>
                  </a:lnTo>
                  <a:lnTo>
                    <a:pt x="336" y="296"/>
                  </a:lnTo>
                  <a:lnTo>
                    <a:pt x="92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468440" y="412920"/>
              <a:ext cx="497160" cy="348120"/>
            </a:xfrm>
            <a:custGeom>
              <a:avLst/>
              <a:gdLst/>
              <a:ahLst/>
              <a:rect l="0" t="0" r="r" b="b"/>
              <a:pathLst>
                <a:path w="1381" h="967">
                  <a:moveTo>
                    <a:pt x="635" y="569"/>
                  </a:moveTo>
                  <a:lnTo>
                    <a:pt x="507" y="538"/>
                  </a:lnTo>
                  <a:lnTo>
                    <a:pt x="617" y="455"/>
                  </a:lnTo>
                  <a:lnTo>
                    <a:pt x="577" y="406"/>
                  </a:lnTo>
                  <a:lnTo>
                    <a:pt x="432" y="516"/>
                  </a:lnTo>
                  <a:lnTo>
                    <a:pt x="171" y="547"/>
                  </a:lnTo>
                  <a:lnTo>
                    <a:pt x="0" y="556"/>
                  </a:lnTo>
                  <a:lnTo>
                    <a:pt x="0" y="684"/>
                  </a:lnTo>
                  <a:lnTo>
                    <a:pt x="167" y="958"/>
                  </a:lnTo>
                  <a:lnTo>
                    <a:pt x="207" y="967"/>
                  </a:lnTo>
                  <a:lnTo>
                    <a:pt x="57" y="671"/>
                  </a:lnTo>
                  <a:lnTo>
                    <a:pt x="286" y="569"/>
                  </a:lnTo>
                  <a:lnTo>
                    <a:pt x="432" y="569"/>
                  </a:lnTo>
                  <a:lnTo>
                    <a:pt x="546" y="631"/>
                  </a:lnTo>
                  <a:lnTo>
                    <a:pt x="577" y="719"/>
                  </a:lnTo>
                  <a:lnTo>
                    <a:pt x="577" y="897"/>
                  </a:lnTo>
                  <a:lnTo>
                    <a:pt x="577" y="958"/>
                  </a:lnTo>
                  <a:lnTo>
                    <a:pt x="643" y="875"/>
                  </a:lnTo>
                  <a:lnTo>
                    <a:pt x="643" y="675"/>
                  </a:lnTo>
                  <a:lnTo>
                    <a:pt x="737" y="675"/>
                  </a:lnTo>
                  <a:lnTo>
                    <a:pt x="785" y="897"/>
                  </a:lnTo>
                  <a:lnTo>
                    <a:pt x="843" y="923"/>
                  </a:lnTo>
                  <a:lnTo>
                    <a:pt x="1006" y="923"/>
                  </a:lnTo>
                  <a:lnTo>
                    <a:pt x="1178" y="883"/>
                  </a:lnTo>
                  <a:lnTo>
                    <a:pt x="1297" y="795"/>
                  </a:lnTo>
                  <a:lnTo>
                    <a:pt x="1319" y="605"/>
                  </a:lnTo>
                  <a:lnTo>
                    <a:pt x="1381" y="516"/>
                  </a:lnTo>
                  <a:lnTo>
                    <a:pt x="1341" y="464"/>
                  </a:lnTo>
                  <a:lnTo>
                    <a:pt x="1187" y="411"/>
                  </a:lnTo>
                  <a:lnTo>
                    <a:pt x="1165" y="216"/>
                  </a:lnTo>
                  <a:lnTo>
                    <a:pt x="1019" y="216"/>
                  </a:lnTo>
                  <a:lnTo>
                    <a:pt x="847" y="0"/>
                  </a:lnTo>
                  <a:lnTo>
                    <a:pt x="1006" y="243"/>
                  </a:lnTo>
                  <a:lnTo>
                    <a:pt x="1054" y="243"/>
                  </a:lnTo>
                  <a:lnTo>
                    <a:pt x="1090" y="406"/>
                  </a:lnTo>
                  <a:lnTo>
                    <a:pt x="891" y="464"/>
                  </a:lnTo>
                  <a:lnTo>
                    <a:pt x="750" y="419"/>
                  </a:lnTo>
                  <a:lnTo>
                    <a:pt x="728" y="464"/>
                  </a:lnTo>
                  <a:lnTo>
                    <a:pt x="803" y="516"/>
                  </a:lnTo>
                  <a:lnTo>
                    <a:pt x="803" y="565"/>
                  </a:lnTo>
                  <a:lnTo>
                    <a:pt x="971" y="494"/>
                  </a:lnTo>
                  <a:lnTo>
                    <a:pt x="1107" y="477"/>
                  </a:lnTo>
                  <a:lnTo>
                    <a:pt x="1266" y="503"/>
                  </a:lnTo>
                  <a:lnTo>
                    <a:pt x="1266" y="525"/>
                  </a:lnTo>
                  <a:lnTo>
                    <a:pt x="1191" y="596"/>
                  </a:lnTo>
                  <a:lnTo>
                    <a:pt x="1165" y="675"/>
                  </a:lnTo>
                  <a:lnTo>
                    <a:pt x="1156" y="795"/>
                  </a:lnTo>
                  <a:lnTo>
                    <a:pt x="1068" y="844"/>
                  </a:lnTo>
                  <a:lnTo>
                    <a:pt x="931" y="861"/>
                  </a:lnTo>
                  <a:lnTo>
                    <a:pt x="843" y="861"/>
                  </a:lnTo>
                  <a:lnTo>
                    <a:pt x="807" y="831"/>
                  </a:lnTo>
                  <a:lnTo>
                    <a:pt x="785" y="605"/>
                  </a:lnTo>
                  <a:lnTo>
                    <a:pt x="643" y="605"/>
                  </a:lnTo>
                  <a:lnTo>
                    <a:pt x="635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38360" y="812880"/>
              <a:ext cx="160560" cy="71640"/>
            </a:xfrm>
            <a:custGeom>
              <a:avLst/>
              <a:gdLst/>
              <a:ahLst/>
              <a:rect l="0" t="0" r="r" b="b"/>
              <a:pathLst>
                <a:path w="446" h="199">
                  <a:moveTo>
                    <a:pt x="0" y="0"/>
                  </a:moveTo>
                  <a:lnTo>
                    <a:pt x="70" y="92"/>
                  </a:lnTo>
                  <a:lnTo>
                    <a:pt x="265" y="92"/>
                  </a:lnTo>
                  <a:lnTo>
                    <a:pt x="344" y="26"/>
                  </a:lnTo>
                  <a:lnTo>
                    <a:pt x="446" y="26"/>
                  </a:lnTo>
                  <a:lnTo>
                    <a:pt x="428" y="61"/>
                  </a:lnTo>
                  <a:lnTo>
                    <a:pt x="428" y="92"/>
                  </a:lnTo>
                  <a:lnTo>
                    <a:pt x="247" y="199"/>
                  </a:lnTo>
                  <a:lnTo>
                    <a:pt x="149" y="199"/>
                  </a:lnTo>
                  <a:lnTo>
                    <a:pt x="92" y="164"/>
                  </a:lnTo>
                  <a:lnTo>
                    <a:pt x="39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60520" y="698400"/>
              <a:ext cx="243360" cy="375120"/>
            </a:xfrm>
            <a:custGeom>
              <a:avLst/>
              <a:gdLst/>
              <a:ahLst/>
              <a:rect l="0" t="0" r="r" b="b"/>
              <a:pathLst>
                <a:path w="676" h="1042">
                  <a:moveTo>
                    <a:pt x="676" y="79"/>
                  </a:moveTo>
                  <a:lnTo>
                    <a:pt x="676" y="88"/>
                  </a:lnTo>
                  <a:lnTo>
                    <a:pt x="557" y="194"/>
                  </a:lnTo>
                  <a:lnTo>
                    <a:pt x="459" y="216"/>
                  </a:lnTo>
                  <a:lnTo>
                    <a:pt x="269" y="189"/>
                  </a:lnTo>
                  <a:lnTo>
                    <a:pt x="305" y="561"/>
                  </a:lnTo>
                  <a:lnTo>
                    <a:pt x="349" y="870"/>
                  </a:lnTo>
                  <a:lnTo>
                    <a:pt x="433" y="1042"/>
                  </a:lnTo>
                  <a:lnTo>
                    <a:pt x="349" y="919"/>
                  </a:lnTo>
                  <a:lnTo>
                    <a:pt x="318" y="795"/>
                  </a:lnTo>
                  <a:lnTo>
                    <a:pt x="261" y="441"/>
                  </a:lnTo>
                  <a:lnTo>
                    <a:pt x="208" y="459"/>
                  </a:lnTo>
                  <a:lnTo>
                    <a:pt x="141" y="419"/>
                  </a:lnTo>
                  <a:lnTo>
                    <a:pt x="17" y="233"/>
                  </a:lnTo>
                  <a:lnTo>
                    <a:pt x="0" y="132"/>
                  </a:lnTo>
                  <a:lnTo>
                    <a:pt x="0" y="66"/>
                  </a:lnTo>
                  <a:lnTo>
                    <a:pt x="26" y="22"/>
                  </a:lnTo>
                  <a:lnTo>
                    <a:pt x="105" y="0"/>
                  </a:lnTo>
                  <a:lnTo>
                    <a:pt x="114" y="26"/>
                  </a:lnTo>
                  <a:lnTo>
                    <a:pt x="57" y="44"/>
                  </a:lnTo>
                  <a:lnTo>
                    <a:pt x="39" y="127"/>
                  </a:lnTo>
                  <a:lnTo>
                    <a:pt x="48" y="224"/>
                  </a:lnTo>
                  <a:lnTo>
                    <a:pt x="132" y="309"/>
                  </a:lnTo>
                  <a:lnTo>
                    <a:pt x="172" y="292"/>
                  </a:lnTo>
                  <a:lnTo>
                    <a:pt x="172" y="101"/>
                  </a:lnTo>
                  <a:lnTo>
                    <a:pt x="252" y="136"/>
                  </a:lnTo>
                  <a:lnTo>
                    <a:pt x="380" y="171"/>
                  </a:lnTo>
                  <a:lnTo>
                    <a:pt x="490" y="163"/>
                  </a:lnTo>
                  <a:lnTo>
                    <a:pt x="601" y="101"/>
                  </a:lnTo>
                  <a:lnTo>
                    <a:pt x="676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525680" y="404640"/>
              <a:ext cx="71640" cy="197280"/>
            </a:xfrm>
            <a:custGeom>
              <a:avLst/>
              <a:gdLst/>
              <a:ahLst/>
              <a:rect l="0" t="0" r="r" b="b"/>
              <a:pathLst>
                <a:path w="199" h="548">
                  <a:moveTo>
                    <a:pt x="102" y="548"/>
                  </a:moveTo>
                  <a:lnTo>
                    <a:pt x="199" y="225"/>
                  </a:lnTo>
                  <a:lnTo>
                    <a:pt x="22" y="110"/>
                  </a:lnTo>
                  <a:lnTo>
                    <a:pt x="0" y="0"/>
                  </a:lnTo>
                  <a:lnTo>
                    <a:pt x="17" y="127"/>
                  </a:lnTo>
                  <a:lnTo>
                    <a:pt x="70" y="186"/>
                  </a:lnTo>
                  <a:lnTo>
                    <a:pt x="79" y="349"/>
                  </a:lnTo>
                  <a:lnTo>
                    <a:pt x="120" y="420"/>
                  </a:lnTo>
                  <a:lnTo>
                    <a:pt x="102" y="5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22440" y="228600"/>
              <a:ext cx="545040" cy="262440"/>
            </a:xfrm>
            <a:custGeom>
              <a:avLst/>
              <a:gdLst/>
              <a:ahLst/>
              <a:rect l="0" t="0" r="r" b="b"/>
              <a:pathLst>
                <a:path w="1514" h="729">
                  <a:moveTo>
                    <a:pt x="17" y="499"/>
                  </a:moveTo>
                  <a:lnTo>
                    <a:pt x="145" y="566"/>
                  </a:lnTo>
                  <a:lnTo>
                    <a:pt x="127" y="477"/>
                  </a:lnTo>
                  <a:lnTo>
                    <a:pt x="158" y="309"/>
                  </a:lnTo>
                  <a:lnTo>
                    <a:pt x="242" y="278"/>
                  </a:lnTo>
                  <a:lnTo>
                    <a:pt x="251" y="446"/>
                  </a:lnTo>
                  <a:lnTo>
                    <a:pt x="508" y="136"/>
                  </a:lnTo>
                  <a:lnTo>
                    <a:pt x="569" y="123"/>
                  </a:lnTo>
                  <a:lnTo>
                    <a:pt x="521" y="239"/>
                  </a:lnTo>
                  <a:lnTo>
                    <a:pt x="684" y="300"/>
                  </a:lnTo>
                  <a:lnTo>
                    <a:pt x="794" y="186"/>
                  </a:lnTo>
                  <a:lnTo>
                    <a:pt x="860" y="217"/>
                  </a:lnTo>
                  <a:lnTo>
                    <a:pt x="803" y="322"/>
                  </a:lnTo>
                  <a:lnTo>
                    <a:pt x="878" y="265"/>
                  </a:lnTo>
                  <a:lnTo>
                    <a:pt x="993" y="309"/>
                  </a:lnTo>
                  <a:lnTo>
                    <a:pt x="904" y="393"/>
                  </a:lnTo>
                  <a:lnTo>
                    <a:pt x="1214" y="446"/>
                  </a:lnTo>
                  <a:lnTo>
                    <a:pt x="1006" y="512"/>
                  </a:lnTo>
                  <a:lnTo>
                    <a:pt x="1267" y="548"/>
                  </a:lnTo>
                  <a:lnTo>
                    <a:pt x="957" y="619"/>
                  </a:lnTo>
                  <a:lnTo>
                    <a:pt x="1019" y="672"/>
                  </a:lnTo>
                  <a:lnTo>
                    <a:pt x="931" y="729"/>
                  </a:lnTo>
                  <a:lnTo>
                    <a:pt x="1094" y="729"/>
                  </a:lnTo>
                  <a:lnTo>
                    <a:pt x="1076" y="689"/>
                  </a:lnTo>
                  <a:lnTo>
                    <a:pt x="1241" y="725"/>
                  </a:lnTo>
                  <a:lnTo>
                    <a:pt x="1214" y="606"/>
                  </a:lnTo>
                  <a:lnTo>
                    <a:pt x="1364" y="553"/>
                  </a:lnTo>
                  <a:lnTo>
                    <a:pt x="1258" y="499"/>
                  </a:lnTo>
                  <a:lnTo>
                    <a:pt x="1514" y="490"/>
                  </a:lnTo>
                  <a:lnTo>
                    <a:pt x="1294" y="371"/>
                  </a:lnTo>
                  <a:lnTo>
                    <a:pt x="1041" y="340"/>
                  </a:lnTo>
                  <a:lnTo>
                    <a:pt x="1241" y="225"/>
                  </a:lnTo>
                  <a:lnTo>
                    <a:pt x="878" y="225"/>
                  </a:lnTo>
                  <a:lnTo>
                    <a:pt x="1050" y="110"/>
                  </a:lnTo>
                  <a:lnTo>
                    <a:pt x="790" y="136"/>
                  </a:lnTo>
                  <a:lnTo>
                    <a:pt x="666" y="195"/>
                  </a:lnTo>
                  <a:lnTo>
                    <a:pt x="772" y="0"/>
                  </a:lnTo>
                  <a:lnTo>
                    <a:pt x="459" y="110"/>
                  </a:lnTo>
                  <a:lnTo>
                    <a:pt x="282" y="344"/>
                  </a:lnTo>
                  <a:lnTo>
                    <a:pt x="251" y="217"/>
                  </a:lnTo>
                  <a:lnTo>
                    <a:pt x="110" y="309"/>
                  </a:lnTo>
                  <a:lnTo>
                    <a:pt x="92" y="490"/>
                  </a:lnTo>
                  <a:lnTo>
                    <a:pt x="0" y="446"/>
                  </a:lnTo>
                  <a:lnTo>
                    <a:pt x="30" y="606"/>
                  </a:lnTo>
                  <a:lnTo>
                    <a:pt x="17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41600" y="369720"/>
              <a:ext cx="154440" cy="76680"/>
            </a:xfrm>
            <a:custGeom>
              <a:avLst/>
              <a:gdLst/>
              <a:ahLst/>
              <a:rect l="0" t="0" r="r" b="b"/>
              <a:pathLst>
                <a:path w="429" h="213">
                  <a:moveTo>
                    <a:pt x="0" y="213"/>
                  </a:moveTo>
                  <a:lnTo>
                    <a:pt x="159" y="0"/>
                  </a:lnTo>
                  <a:lnTo>
                    <a:pt x="159" y="142"/>
                  </a:lnTo>
                  <a:lnTo>
                    <a:pt x="217" y="84"/>
                  </a:lnTo>
                  <a:lnTo>
                    <a:pt x="269" y="159"/>
                  </a:lnTo>
                  <a:lnTo>
                    <a:pt x="429" y="200"/>
                  </a:lnTo>
                  <a:lnTo>
                    <a:pt x="256" y="178"/>
                  </a:lnTo>
                  <a:lnTo>
                    <a:pt x="208" y="120"/>
                  </a:lnTo>
                  <a:lnTo>
                    <a:pt x="137" y="178"/>
                  </a:lnTo>
                  <a:lnTo>
                    <a:pt x="137" y="106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27200" y="905040"/>
              <a:ext cx="184680" cy="117720"/>
            </a:xfrm>
            <a:custGeom>
              <a:avLst/>
              <a:gdLst/>
              <a:ahLst/>
              <a:rect l="0" t="0" r="r" b="b"/>
              <a:pathLst>
                <a:path w="513" h="327">
                  <a:moveTo>
                    <a:pt x="97" y="114"/>
                  </a:moveTo>
                  <a:lnTo>
                    <a:pt x="309" y="97"/>
                  </a:lnTo>
                  <a:lnTo>
                    <a:pt x="412" y="123"/>
                  </a:lnTo>
                  <a:lnTo>
                    <a:pt x="460" y="79"/>
                  </a:lnTo>
                  <a:lnTo>
                    <a:pt x="513" y="186"/>
                  </a:lnTo>
                  <a:lnTo>
                    <a:pt x="478" y="199"/>
                  </a:lnTo>
                  <a:lnTo>
                    <a:pt x="434" y="158"/>
                  </a:lnTo>
                  <a:lnTo>
                    <a:pt x="367" y="239"/>
                  </a:lnTo>
                  <a:lnTo>
                    <a:pt x="239" y="327"/>
                  </a:lnTo>
                  <a:lnTo>
                    <a:pt x="181" y="327"/>
                  </a:lnTo>
                  <a:lnTo>
                    <a:pt x="97" y="283"/>
                  </a:lnTo>
                  <a:lnTo>
                    <a:pt x="195" y="318"/>
                  </a:lnTo>
                  <a:lnTo>
                    <a:pt x="230" y="318"/>
                  </a:lnTo>
                  <a:lnTo>
                    <a:pt x="309" y="256"/>
                  </a:lnTo>
                  <a:lnTo>
                    <a:pt x="362" y="145"/>
                  </a:lnTo>
                  <a:lnTo>
                    <a:pt x="278" y="136"/>
                  </a:lnTo>
                  <a:lnTo>
                    <a:pt x="225" y="123"/>
                  </a:lnTo>
                  <a:lnTo>
                    <a:pt x="88" y="136"/>
                  </a:lnTo>
                  <a:lnTo>
                    <a:pt x="83" y="230"/>
                  </a:lnTo>
                  <a:lnTo>
                    <a:pt x="39" y="177"/>
                  </a:lnTo>
                  <a:lnTo>
                    <a:pt x="0" y="247"/>
                  </a:lnTo>
                  <a:lnTo>
                    <a:pt x="4" y="83"/>
                  </a:lnTo>
                  <a:lnTo>
                    <a:pt x="57" y="0"/>
                  </a:lnTo>
                  <a:lnTo>
                    <a:pt x="97" y="83"/>
                  </a:lnTo>
                  <a:lnTo>
                    <a:pt x="97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03440" y="650880"/>
              <a:ext cx="395640" cy="541800"/>
            </a:xfrm>
            <a:custGeom>
              <a:avLst/>
              <a:gdLst/>
              <a:ahLst/>
              <a:rect l="0" t="0" r="r" b="b"/>
              <a:pathLst>
                <a:path w="1099" h="1505">
                  <a:moveTo>
                    <a:pt x="927" y="0"/>
                  </a:moveTo>
                  <a:lnTo>
                    <a:pt x="1037" y="0"/>
                  </a:lnTo>
                  <a:lnTo>
                    <a:pt x="1099" y="79"/>
                  </a:lnTo>
                  <a:lnTo>
                    <a:pt x="1099" y="154"/>
                  </a:lnTo>
                  <a:lnTo>
                    <a:pt x="1010" y="393"/>
                  </a:lnTo>
                  <a:lnTo>
                    <a:pt x="918" y="503"/>
                  </a:lnTo>
                  <a:lnTo>
                    <a:pt x="825" y="521"/>
                  </a:lnTo>
                  <a:lnTo>
                    <a:pt x="799" y="521"/>
                  </a:lnTo>
                  <a:lnTo>
                    <a:pt x="799" y="816"/>
                  </a:lnTo>
                  <a:lnTo>
                    <a:pt x="843" y="1032"/>
                  </a:lnTo>
                  <a:lnTo>
                    <a:pt x="843" y="1210"/>
                  </a:lnTo>
                  <a:lnTo>
                    <a:pt x="680" y="1382"/>
                  </a:lnTo>
                  <a:lnTo>
                    <a:pt x="449" y="1505"/>
                  </a:lnTo>
                  <a:lnTo>
                    <a:pt x="304" y="1505"/>
                  </a:lnTo>
                  <a:lnTo>
                    <a:pt x="233" y="1474"/>
                  </a:lnTo>
                  <a:lnTo>
                    <a:pt x="127" y="1267"/>
                  </a:lnTo>
                  <a:lnTo>
                    <a:pt x="35" y="1188"/>
                  </a:lnTo>
                  <a:lnTo>
                    <a:pt x="0" y="1130"/>
                  </a:lnTo>
                  <a:lnTo>
                    <a:pt x="123" y="1210"/>
                  </a:lnTo>
                  <a:lnTo>
                    <a:pt x="211" y="1280"/>
                  </a:lnTo>
                  <a:lnTo>
                    <a:pt x="383" y="1294"/>
                  </a:lnTo>
                  <a:lnTo>
                    <a:pt x="546" y="1223"/>
                  </a:lnTo>
                  <a:lnTo>
                    <a:pt x="631" y="1130"/>
                  </a:lnTo>
                  <a:lnTo>
                    <a:pt x="719" y="979"/>
                  </a:lnTo>
                  <a:lnTo>
                    <a:pt x="733" y="803"/>
                  </a:lnTo>
                  <a:lnTo>
                    <a:pt x="768" y="224"/>
                  </a:lnTo>
                  <a:lnTo>
                    <a:pt x="807" y="304"/>
                  </a:lnTo>
                  <a:lnTo>
                    <a:pt x="913" y="198"/>
                  </a:lnTo>
                  <a:lnTo>
                    <a:pt x="1028" y="154"/>
                  </a:lnTo>
                  <a:lnTo>
                    <a:pt x="1054" y="92"/>
                  </a:lnTo>
                  <a:lnTo>
                    <a:pt x="1041" y="30"/>
                  </a:lnTo>
                  <a:lnTo>
                    <a:pt x="993" y="8"/>
                  </a:lnTo>
                  <a:lnTo>
                    <a:pt x="9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0720" y="1117440"/>
              <a:ext cx="317880" cy="503640"/>
            </a:xfrm>
            <a:custGeom>
              <a:avLst/>
              <a:gdLst/>
              <a:ahLst/>
              <a:rect l="0" t="0" r="r" b="b"/>
              <a:pathLst>
                <a:path w="883" h="1399">
                  <a:moveTo>
                    <a:pt x="110" y="0"/>
                  </a:moveTo>
                  <a:lnTo>
                    <a:pt x="211" y="66"/>
                  </a:lnTo>
                  <a:lnTo>
                    <a:pt x="287" y="348"/>
                  </a:lnTo>
                  <a:lnTo>
                    <a:pt x="516" y="411"/>
                  </a:lnTo>
                  <a:lnTo>
                    <a:pt x="583" y="490"/>
                  </a:lnTo>
                  <a:lnTo>
                    <a:pt x="591" y="596"/>
                  </a:lnTo>
                  <a:lnTo>
                    <a:pt x="703" y="578"/>
                  </a:lnTo>
                  <a:lnTo>
                    <a:pt x="839" y="671"/>
                  </a:lnTo>
                  <a:lnTo>
                    <a:pt x="883" y="785"/>
                  </a:lnTo>
                  <a:lnTo>
                    <a:pt x="883" y="979"/>
                  </a:lnTo>
                  <a:lnTo>
                    <a:pt x="703" y="1276"/>
                  </a:lnTo>
                  <a:lnTo>
                    <a:pt x="644" y="1399"/>
                  </a:lnTo>
                  <a:lnTo>
                    <a:pt x="676" y="1236"/>
                  </a:lnTo>
                  <a:lnTo>
                    <a:pt x="644" y="1174"/>
                  </a:lnTo>
                  <a:lnTo>
                    <a:pt x="534" y="1073"/>
                  </a:lnTo>
                  <a:lnTo>
                    <a:pt x="362" y="949"/>
                  </a:lnTo>
                  <a:lnTo>
                    <a:pt x="569" y="1019"/>
                  </a:lnTo>
                  <a:lnTo>
                    <a:pt x="694" y="1113"/>
                  </a:lnTo>
                  <a:lnTo>
                    <a:pt x="756" y="1104"/>
                  </a:lnTo>
                  <a:lnTo>
                    <a:pt x="795" y="1051"/>
                  </a:lnTo>
                  <a:lnTo>
                    <a:pt x="839" y="909"/>
                  </a:lnTo>
                  <a:lnTo>
                    <a:pt x="826" y="772"/>
                  </a:lnTo>
                  <a:lnTo>
                    <a:pt x="764" y="693"/>
                  </a:lnTo>
                  <a:lnTo>
                    <a:pt x="653" y="671"/>
                  </a:lnTo>
                  <a:lnTo>
                    <a:pt x="534" y="671"/>
                  </a:lnTo>
                  <a:lnTo>
                    <a:pt x="494" y="459"/>
                  </a:lnTo>
                  <a:lnTo>
                    <a:pt x="300" y="393"/>
                  </a:lnTo>
                  <a:lnTo>
                    <a:pt x="300" y="446"/>
                  </a:lnTo>
                  <a:lnTo>
                    <a:pt x="211" y="295"/>
                  </a:lnTo>
                  <a:lnTo>
                    <a:pt x="158" y="66"/>
                  </a:lnTo>
                  <a:lnTo>
                    <a:pt x="88" y="35"/>
                  </a:lnTo>
                  <a:lnTo>
                    <a:pt x="44" y="110"/>
                  </a:lnTo>
                  <a:lnTo>
                    <a:pt x="44" y="273"/>
                  </a:lnTo>
                  <a:lnTo>
                    <a:pt x="79" y="446"/>
                  </a:lnTo>
                  <a:lnTo>
                    <a:pt x="185" y="596"/>
                  </a:lnTo>
                  <a:lnTo>
                    <a:pt x="66" y="503"/>
                  </a:lnTo>
                  <a:lnTo>
                    <a:pt x="13" y="348"/>
                  </a:lnTo>
                  <a:lnTo>
                    <a:pt x="0" y="145"/>
                  </a:lnTo>
                  <a:lnTo>
                    <a:pt x="44" y="3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8080" y="1339920"/>
              <a:ext cx="211320" cy="402120"/>
            </a:xfrm>
            <a:custGeom>
              <a:avLst/>
              <a:gdLst/>
              <a:ahLst/>
              <a:rect l="0" t="0" r="r" b="b"/>
              <a:pathLst>
                <a:path w="587" h="1117">
                  <a:moveTo>
                    <a:pt x="587" y="0"/>
                  </a:moveTo>
                  <a:lnTo>
                    <a:pt x="464" y="79"/>
                  </a:lnTo>
                  <a:lnTo>
                    <a:pt x="322" y="344"/>
                  </a:lnTo>
                  <a:lnTo>
                    <a:pt x="185" y="521"/>
                  </a:lnTo>
                  <a:lnTo>
                    <a:pt x="17" y="733"/>
                  </a:lnTo>
                  <a:lnTo>
                    <a:pt x="0" y="839"/>
                  </a:lnTo>
                  <a:lnTo>
                    <a:pt x="30" y="941"/>
                  </a:lnTo>
                  <a:lnTo>
                    <a:pt x="114" y="941"/>
                  </a:lnTo>
                  <a:lnTo>
                    <a:pt x="224" y="839"/>
                  </a:lnTo>
                  <a:lnTo>
                    <a:pt x="314" y="640"/>
                  </a:lnTo>
                  <a:lnTo>
                    <a:pt x="433" y="521"/>
                  </a:lnTo>
                  <a:lnTo>
                    <a:pt x="433" y="684"/>
                  </a:lnTo>
                  <a:lnTo>
                    <a:pt x="415" y="830"/>
                  </a:lnTo>
                  <a:lnTo>
                    <a:pt x="286" y="1029"/>
                  </a:lnTo>
                  <a:lnTo>
                    <a:pt x="286" y="1095"/>
                  </a:lnTo>
                  <a:lnTo>
                    <a:pt x="415" y="1117"/>
                  </a:lnTo>
                  <a:lnTo>
                    <a:pt x="322" y="1060"/>
                  </a:lnTo>
                  <a:lnTo>
                    <a:pt x="340" y="1029"/>
                  </a:lnTo>
                  <a:lnTo>
                    <a:pt x="424" y="883"/>
                  </a:lnTo>
                  <a:lnTo>
                    <a:pt x="486" y="618"/>
                  </a:lnTo>
                  <a:lnTo>
                    <a:pt x="441" y="472"/>
                  </a:lnTo>
                  <a:lnTo>
                    <a:pt x="349" y="556"/>
                  </a:lnTo>
                  <a:lnTo>
                    <a:pt x="136" y="892"/>
                  </a:lnTo>
                  <a:lnTo>
                    <a:pt x="83" y="901"/>
                  </a:lnTo>
                  <a:lnTo>
                    <a:pt x="30" y="870"/>
                  </a:lnTo>
                  <a:lnTo>
                    <a:pt x="30" y="768"/>
                  </a:lnTo>
                  <a:lnTo>
                    <a:pt x="114" y="631"/>
                  </a:lnTo>
                  <a:lnTo>
                    <a:pt x="349" y="362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993600" y="1566720"/>
              <a:ext cx="130680" cy="194040"/>
            </a:xfrm>
            <a:custGeom>
              <a:avLst/>
              <a:gdLst/>
              <a:ahLst/>
              <a:rect l="0" t="0" r="r" b="b"/>
              <a:pathLst>
                <a:path w="363" h="539">
                  <a:moveTo>
                    <a:pt x="0" y="473"/>
                  </a:moveTo>
                  <a:lnTo>
                    <a:pt x="120" y="340"/>
                  </a:lnTo>
                  <a:lnTo>
                    <a:pt x="142" y="199"/>
                  </a:lnTo>
                  <a:lnTo>
                    <a:pt x="279" y="0"/>
                  </a:lnTo>
                  <a:lnTo>
                    <a:pt x="310" y="132"/>
                  </a:lnTo>
                  <a:lnTo>
                    <a:pt x="293" y="487"/>
                  </a:lnTo>
                  <a:lnTo>
                    <a:pt x="363" y="539"/>
                  </a:lnTo>
                  <a:lnTo>
                    <a:pt x="256" y="504"/>
                  </a:lnTo>
                  <a:lnTo>
                    <a:pt x="203" y="300"/>
                  </a:lnTo>
                  <a:lnTo>
                    <a:pt x="120" y="402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154160" y="1576440"/>
              <a:ext cx="86040" cy="173520"/>
            </a:xfrm>
            <a:custGeom>
              <a:avLst/>
              <a:gdLst/>
              <a:ahLst/>
              <a:rect l="0" t="0" r="r" b="b"/>
              <a:pathLst>
                <a:path w="239" h="482">
                  <a:moveTo>
                    <a:pt x="0" y="363"/>
                  </a:moveTo>
                  <a:lnTo>
                    <a:pt x="13" y="186"/>
                  </a:lnTo>
                  <a:lnTo>
                    <a:pt x="61" y="79"/>
                  </a:lnTo>
                  <a:lnTo>
                    <a:pt x="120" y="460"/>
                  </a:lnTo>
                  <a:lnTo>
                    <a:pt x="190" y="460"/>
                  </a:lnTo>
                  <a:lnTo>
                    <a:pt x="221" y="57"/>
                  </a:lnTo>
                  <a:lnTo>
                    <a:pt x="239" y="0"/>
                  </a:lnTo>
                  <a:lnTo>
                    <a:pt x="221" y="314"/>
                  </a:lnTo>
                  <a:lnTo>
                    <a:pt x="190" y="482"/>
                  </a:lnTo>
                  <a:lnTo>
                    <a:pt x="92" y="482"/>
                  </a:lnTo>
                  <a:lnTo>
                    <a:pt x="52" y="150"/>
                  </a:lnTo>
                  <a:lnTo>
                    <a:pt x="26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252520" y="896760"/>
              <a:ext cx="208440" cy="462240"/>
            </a:xfrm>
            <a:custGeom>
              <a:avLst/>
              <a:gdLst/>
              <a:ahLst/>
              <a:rect l="0" t="0" r="r" b="b"/>
              <a:pathLst>
                <a:path w="579" h="1284">
                  <a:moveTo>
                    <a:pt x="155" y="693"/>
                  </a:moveTo>
                  <a:lnTo>
                    <a:pt x="199" y="493"/>
                  </a:lnTo>
                  <a:lnTo>
                    <a:pt x="389" y="440"/>
                  </a:lnTo>
                  <a:lnTo>
                    <a:pt x="579" y="0"/>
                  </a:lnTo>
                  <a:lnTo>
                    <a:pt x="579" y="127"/>
                  </a:lnTo>
                  <a:lnTo>
                    <a:pt x="419" y="467"/>
                  </a:lnTo>
                  <a:lnTo>
                    <a:pt x="212" y="533"/>
                  </a:lnTo>
                  <a:lnTo>
                    <a:pt x="186" y="693"/>
                  </a:lnTo>
                  <a:lnTo>
                    <a:pt x="256" y="693"/>
                  </a:lnTo>
                  <a:lnTo>
                    <a:pt x="74" y="768"/>
                  </a:lnTo>
                  <a:lnTo>
                    <a:pt x="30" y="900"/>
                  </a:lnTo>
                  <a:lnTo>
                    <a:pt x="44" y="1081"/>
                  </a:lnTo>
                  <a:lnTo>
                    <a:pt x="239" y="1284"/>
                  </a:lnTo>
                  <a:lnTo>
                    <a:pt x="30" y="1103"/>
                  </a:lnTo>
                  <a:lnTo>
                    <a:pt x="0" y="953"/>
                  </a:lnTo>
                  <a:lnTo>
                    <a:pt x="17" y="803"/>
                  </a:lnTo>
                  <a:lnTo>
                    <a:pt x="88" y="702"/>
                  </a:lnTo>
                  <a:lnTo>
                    <a:pt x="15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92200" y="896760"/>
              <a:ext cx="349560" cy="446400"/>
            </a:xfrm>
            <a:custGeom>
              <a:avLst/>
              <a:gdLst/>
              <a:ahLst/>
              <a:rect l="0" t="0" r="r" b="b"/>
              <a:pathLst>
                <a:path w="971" h="1240">
                  <a:moveTo>
                    <a:pt x="268" y="0"/>
                  </a:moveTo>
                  <a:lnTo>
                    <a:pt x="326" y="35"/>
                  </a:lnTo>
                  <a:lnTo>
                    <a:pt x="343" y="141"/>
                  </a:lnTo>
                  <a:lnTo>
                    <a:pt x="343" y="238"/>
                  </a:lnTo>
                  <a:lnTo>
                    <a:pt x="238" y="423"/>
                  </a:lnTo>
                  <a:lnTo>
                    <a:pt x="255" y="551"/>
                  </a:lnTo>
                  <a:lnTo>
                    <a:pt x="583" y="697"/>
                  </a:lnTo>
                  <a:lnTo>
                    <a:pt x="962" y="1090"/>
                  </a:lnTo>
                  <a:lnTo>
                    <a:pt x="971" y="1196"/>
                  </a:lnTo>
                  <a:lnTo>
                    <a:pt x="953" y="1240"/>
                  </a:lnTo>
                  <a:lnTo>
                    <a:pt x="807" y="1240"/>
                  </a:lnTo>
                  <a:lnTo>
                    <a:pt x="684" y="1165"/>
                  </a:lnTo>
                  <a:lnTo>
                    <a:pt x="578" y="1037"/>
                  </a:lnTo>
                  <a:lnTo>
                    <a:pt x="516" y="957"/>
                  </a:lnTo>
                  <a:lnTo>
                    <a:pt x="449" y="953"/>
                  </a:lnTo>
                  <a:lnTo>
                    <a:pt x="534" y="953"/>
                  </a:lnTo>
                  <a:lnTo>
                    <a:pt x="693" y="1156"/>
                  </a:lnTo>
                  <a:lnTo>
                    <a:pt x="896" y="1218"/>
                  </a:lnTo>
                  <a:lnTo>
                    <a:pt x="940" y="1156"/>
                  </a:lnTo>
                  <a:lnTo>
                    <a:pt x="918" y="1059"/>
                  </a:lnTo>
                  <a:lnTo>
                    <a:pt x="561" y="781"/>
                  </a:lnTo>
                  <a:lnTo>
                    <a:pt x="508" y="697"/>
                  </a:lnTo>
                  <a:lnTo>
                    <a:pt x="238" y="631"/>
                  </a:lnTo>
                  <a:lnTo>
                    <a:pt x="189" y="697"/>
                  </a:lnTo>
                  <a:lnTo>
                    <a:pt x="0" y="812"/>
                  </a:lnTo>
                  <a:lnTo>
                    <a:pt x="176" y="680"/>
                  </a:lnTo>
                  <a:lnTo>
                    <a:pt x="189" y="595"/>
                  </a:lnTo>
                  <a:lnTo>
                    <a:pt x="189" y="388"/>
                  </a:lnTo>
                  <a:lnTo>
                    <a:pt x="313" y="238"/>
                  </a:lnTo>
                  <a:lnTo>
                    <a:pt x="313" y="48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328840" y="1247760"/>
              <a:ext cx="297360" cy="265320"/>
            </a:xfrm>
            <a:custGeom>
              <a:avLst/>
              <a:gdLst/>
              <a:ahLst/>
              <a:rect l="0" t="0" r="r" b="b"/>
              <a:pathLst>
                <a:path w="826" h="737">
                  <a:moveTo>
                    <a:pt x="623" y="0"/>
                  </a:moveTo>
                  <a:lnTo>
                    <a:pt x="596" y="66"/>
                  </a:lnTo>
                  <a:lnTo>
                    <a:pt x="720" y="304"/>
                  </a:lnTo>
                  <a:lnTo>
                    <a:pt x="782" y="556"/>
                  </a:lnTo>
                  <a:lnTo>
                    <a:pt x="711" y="556"/>
                  </a:lnTo>
                  <a:lnTo>
                    <a:pt x="587" y="450"/>
                  </a:lnTo>
                  <a:lnTo>
                    <a:pt x="472" y="216"/>
                  </a:lnTo>
                  <a:lnTo>
                    <a:pt x="389" y="185"/>
                  </a:lnTo>
                  <a:lnTo>
                    <a:pt x="402" y="304"/>
                  </a:lnTo>
                  <a:lnTo>
                    <a:pt x="481" y="397"/>
                  </a:lnTo>
                  <a:lnTo>
                    <a:pt x="481" y="569"/>
                  </a:lnTo>
                  <a:lnTo>
                    <a:pt x="424" y="706"/>
                  </a:lnTo>
                  <a:lnTo>
                    <a:pt x="349" y="653"/>
                  </a:lnTo>
                  <a:lnTo>
                    <a:pt x="252" y="450"/>
                  </a:lnTo>
                  <a:lnTo>
                    <a:pt x="234" y="304"/>
                  </a:lnTo>
                  <a:lnTo>
                    <a:pt x="176" y="268"/>
                  </a:lnTo>
                  <a:lnTo>
                    <a:pt x="163" y="622"/>
                  </a:lnTo>
                  <a:lnTo>
                    <a:pt x="88" y="671"/>
                  </a:lnTo>
                  <a:lnTo>
                    <a:pt x="22" y="622"/>
                  </a:lnTo>
                  <a:lnTo>
                    <a:pt x="13" y="317"/>
                  </a:lnTo>
                  <a:lnTo>
                    <a:pt x="0" y="613"/>
                  </a:lnTo>
                  <a:lnTo>
                    <a:pt x="57" y="724"/>
                  </a:lnTo>
                  <a:lnTo>
                    <a:pt x="163" y="724"/>
                  </a:lnTo>
                  <a:lnTo>
                    <a:pt x="198" y="640"/>
                  </a:lnTo>
                  <a:lnTo>
                    <a:pt x="221" y="357"/>
                  </a:lnTo>
                  <a:lnTo>
                    <a:pt x="243" y="468"/>
                  </a:lnTo>
                  <a:lnTo>
                    <a:pt x="331" y="715"/>
                  </a:lnTo>
                  <a:lnTo>
                    <a:pt x="433" y="737"/>
                  </a:lnTo>
                  <a:lnTo>
                    <a:pt x="508" y="640"/>
                  </a:lnTo>
                  <a:lnTo>
                    <a:pt x="508" y="406"/>
                  </a:lnTo>
                  <a:lnTo>
                    <a:pt x="711" y="605"/>
                  </a:lnTo>
                  <a:lnTo>
                    <a:pt x="813" y="605"/>
                  </a:lnTo>
                  <a:lnTo>
                    <a:pt x="826" y="468"/>
                  </a:lnTo>
                  <a:lnTo>
                    <a:pt x="751" y="238"/>
                  </a:lnTo>
                  <a:lnTo>
                    <a:pt x="623" y="48"/>
                  </a:lnTo>
                  <a:lnTo>
                    <a:pt x="6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130400" y="974880"/>
              <a:ext cx="1319400" cy="1081440"/>
            </a:xfrm>
            <a:custGeom>
              <a:avLst/>
              <a:gdLst/>
              <a:ahLst/>
              <a:rect l="0" t="0" r="r" b="b"/>
              <a:pathLst>
                <a:path w="3665" h="3004">
                  <a:moveTo>
                    <a:pt x="1318" y="251"/>
                  </a:moveTo>
                  <a:lnTo>
                    <a:pt x="1252" y="264"/>
                  </a:lnTo>
                  <a:lnTo>
                    <a:pt x="1150" y="414"/>
                  </a:lnTo>
                  <a:lnTo>
                    <a:pt x="1115" y="304"/>
                  </a:lnTo>
                  <a:lnTo>
                    <a:pt x="996" y="238"/>
                  </a:lnTo>
                  <a:lnTo>
                    <a:pt x="903" y="291"/>
                  </a:lnTo>
                  <a:lnTo>
                    <a:pt x="868" y="489"/>
                  </a:lnTo>
                  <a:lnTo>
                    <a:pt x="542" y="723"/>
                  </a:lnTo>
                  <a:lnTo>
                    <a:pt x="564" y="824"/>
                  </a:lnTo>
                  <a:lnTo>
                    <a:pt x="485" y="917"/>
                  </a:lnTo>
                  <a:lnTo>
                    <a:pt x="485" y="992"/>
                  </a:lnTo>
                  <a:lnTo>
                    <a:pt x="577" y="1217"/>
                  </a:lnTo>
                  <a:lnTo>
                    <a:pt x="586" y="1499"/>
                  </a:lnTo>
                  <a:lnTo>
                    <a:pt x="524" y="1760"/>
                  </a:lnTo>
                  <a:lnTo>
                    <a:pt x="286" y="1919"/>
                  </a:lnTo>
                  <a:lnTo>
                    <a:pt x="255" y="2135"/>
                  </a:lnTo>
                  <a:lnTo>
                    <a:pt x="185" y="2135"/>
                  </a:lnTo>
                  <a:lnTo>
                    <a:pt x="149" y="1954"/>
                  </a:lnTo>
                  <a:lnTo>
                    <a:pt x="74" y="1954"/>
                  </a:lnTo>
                  <a:lnTo>
                    <a:pt x="44" y="2144"/>
                  </a:lnTo>
                  <a:lnTo>
                    <a:pt x="0" y="2192"/>
                  </a:lnTo>
                  <a:lnTo>
                    <a:pt x="163" y="2457"/>
                  </a:lnTo>
                  <a:lnTo>
                    <a:pt x="277" y="2461"/>
                  </a:lnTo>
                  <a:lnTo>
                    <a:pt x="485" y="2660"/>
                  </a:lnTo>
                  <a:lnTo>
                    <a:pt x="674" y="2677"/>
                  </a:lnTo>
                  <a:lnTo>
                    <a:pt x="776" y="2576"/>
                  </a:lnTo>
                  <a:lnTo>
                    <a:pt x="1031" y="2205"/>
                  </a:lnTo>
                  <a:lnTo>
                    <a:pt x="1049" y="2708"/>
                  </a:lnTo>
                  <a:lnTo>
                    <a:pt x="1031" y="3004"/>
                  </a:lnTo>
                  <a:lnTo>
                    <a:pt x="3149" y="3004"/>
                  </a:lnTo>
                  <a:lnTo>
                    <a:pt x="2990" y="2677"/>
                  </a:lnTo>
                  <a:lnTo>
                    <a:pt x="2915" y="2399"/>
                  </a:lnTo>
                  <a:lnTo>
                    <a:pt x="2898" y="1985"/>
                  </a:lnTo>
                  <a:lnTo>
                    <a:pt x="3026" y="2082"/>
                  </a:lnTo>
                  <a:lnTo>
                    <a:pt x="3149" y="2082"/>
                  </a:lnTo>
                  <a:lnTo>
                    <a:pt x="3321" y="1972"/>
                  </a:lnTo>
                  <a:lnTo>
                    <a:pt x="3436" y="1954"/>
                  </a:lnTo>
                  <a:lnTo>
                    <a:pt x="3511" y="1844"/>
                  </a:lnTo>
                  <a:lnTo>
                    <a:pt x="3559" y="1562"/>
                  </a:lnTo>
                  <a:lnTo>
                    <a:pt x="3665" y="1446"/>
                  </a:lnTo>
                  <a:lnTo>
                    <a:pt x="3612" y="1362"/>
                  </a:lnTo>
                  <a:lnTo>
                    <a:pt x="3533" y="1362"/>
                  </a:lnTo>
                  <a:lnTo>
                    <a:pt x="3467" y="1419"/>
                  </a:lnTo>
                  <a:lnTo>
                    <a:pt x="3409" y="1433"/>
                  </a:lnTo>
                  <a:lnTo>
                    <a:pt x="3334" y="1362"/>
                  </a:lnTo>
                  <a:lnTo>
                    <a:pt x="3246" y="1349"/>
                  </a:lnTo>
                  <a:lnTo>
                    <a:pt x="3074" y="1243"/>
                  </a:lnTo>
                  <a:lnTo>
                    <a:pt x="2973" y="1133"/>
                  </a:lnTo>
                  <a:lnTo>
                    <a:pt x="2955" y="992"/>
                  </a:lnTo>
                  <a:lnTo>
                    <a:pt x="2973" y="859"/>
                  </a:lnTo>
                  <a:lnTo>
                    <a:pt x="3039" y="754"/>
                  </a:lnTo>
                  <a:lnTo>
                    <a:pt x="3131" y="652"/>
                  </a:lnTo>
                  <a:lnTo>
                    <a:pt x="3123" y="480"/>
                  </a:lnTo>
                  <a:lnTo>
                    <a:pt x="3123" y="352"/>
                  </a:lnTo>
                  <a:lnTo>
                    <a:pt x="3074" y="264"/>
                  </a:lnTo>
                  <a:lnTo>
                    <a:pt x="2955" y="229"/>
                  </a:lnTo>
                  <a:lnTo>
                    <a:pt x="2911" y="202"/>
                  </a:lnTo>
                  <a:lnTo>
                    <a:pt x="2823" y="57"/>
                  </a:lnTo>
                  <a:lnTo>
                    <a:pt x="2752" y="13"/>
                  </a:lnTo>
                  <a:lnTo>
                    <a:pt x="2673" y="0"/>
                  </a:lnTo>
                  <a:lnTo>
                    <a:pt x="2611" y="26"/>
                  </a:lnTo>
                  <a:lnTo>
                    <a:pt x="2554" y="105"/>
                  </a:lnTo>
                  <a:lnTo>
                    <a:pt x="2479" y="149"/>
                  </a:lnTo>
                  <a:lnTo>
                    <a:pt x="2386" y="171"/>
                  </a:lnTo>
                  <a:lnTo>
                    <a:pt x="2285" y="171"/>
                  </a:lnTo>
                  <a:lnTo>
                    <a:pt x="2302" y="317"/>
                  </a:lnTo>
                  <a:lnTo>
                    <a:pt x="2302" y="502"/>
                  </a:lnTo>
                  <a:lnTo>
                    <a:pt x="2285" y="626"/>
                  </a:lnTo>
                  <a:lnTo>
                    <a:pt x="2192" y="771"/>
                  </a:lnTo>
                  <a:lnTo>
                    <a:pt x="2077" y="1001"/>
                  </a:lnTo>
                  <a:lnTo>
                    <a:pt x="1989" y="1270"/>
                  </a:lnTo>
                  <a:lnTo>
                    <a:pt x="1980" y="1433"/>
                  </a:lnTo>
                  <a:lnTo>
                    <a:pt x="1936" y="1575"/>
                  </a:lnTo>
                  <a:lnTo>
                    <a:pt x="1883" y="1711"/>
                  </a:lnTo>
                  <a:lnTo>
                    <a:pt x="1857" y="1928"/>
                  </a:lnTo>
                  <a:lnTo>
                    <a:pt x="1875" y="2108"/>
                  </a:lnTo>
                  <a:lnTo>
                    <a:pt x="1936" y="2320"/>
                  </a:lnTo>
                  <a:lnTo>
                    <a:pt x="1980" y="2399"/>
                  </a:lnTo>
                  <a:lnTo>
                    <a:pt x="1857" y="2479"/>
                  </a:lnTo>
                  <a:lnTo>
                    <a:pt x="1706" y="2527"/>
                  </a:lnTo>
                  <a:lnTo>
                    <a:pt x="1547" y="2545"/>
                  </a:lnTo>
                  <a:lnTo>
                    <a:pt x="1446" y="2545"/>
                  </a:lnTo>
                  <a:lnTo>
                    <a:pt x="1380" y="2514"/>
                  </a:lnTo>
                  <a:lnTo>
                    <a:pt x="1380" y="2338"/>
                  </a:lnTo>
                  <a:lnTo>
                    <a:pt x="1380" y="2069"/>
                  </a:lnTo>
                  <a:lnTo>
                    <a:pt x="1340" y="1808"/>
                  </a:lnTo>
                  <a:lnTo>
                    <a:pt x="1274" y="1575"/>
                  </a:lnTo>
                  <a:lnTo>
                    <a:pt x="1243" y="1384"/>
                  </a:lnTo>
                  <a:lnTo>
                    <a:pt x="1230" y="1115"/>
                  </a:lnTo>
                  <a:lnTo>
                    <a:pt x="1274" y="886"/>
                  </a:lnTo>
                  <a:lnTo>
                    <a:pt x="1340" y="701"/>
                  </a:lnTo>
                  <a:lnTo>
                    <a:pt x="1344" y="595"/>
                  </a:lnTo>
                  <a:lnTo>
                    <a:pt x="1318" y="432"/>
                  </a:lnTo>
                  <a:lnTo>
                    <a:pt x="1318" y="304"/>
                  </a:lnTo>
                  <a:lnTo>
                    <a:pt x="1340" y="264"/>
                  </a:lnTo>
                  <a:lnTo>
                    <a:pt x="1318" y="25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44480" y="1190520"/>
              <a:ext cx="165600" cy="703800"/>
            </a:xfrm>
            <a:custGeom>
              <a:avLst/>
              <a:gdLst/>
              <a:ahLst/>
              <a:rect l="0" t="0" r="r" b="b"/>
              <a:pathLst>
                <a:path w="460" h="1955">
                  <a:moveTo>
                    <a:pt x="186" y="26"/>
                  </a:moveTo>
                  <a:lnTo>
                    <a:pt x="61" y="83"/>
                  </a:lnTo>
                  <a:lnTo>
                    <a:pt x="70" y="277"/>
                  </a:lnTo>
                  <a:lnTo>
                    <a:pt x="159" y="330"/>
                  </a:lnTo>
                  <a:lnTo>
                    <a:pt x="52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2" y="1169"/>
                  </a:lnTo>
                  <a:lnTo>
                    <a:pt x="97" y="1412"/>
                  </a:lnTo>
                  <a:lnTo>
                    <a:pt x="97" y="1549"/>
                  </a:lnTo>
                  <a:lnTo>
                    <a:pt x="52" y="1721"/>
                  </a:lnTo>
                  <a:lnTo>
                    <a:pt x="234" y="1955"/>
                  </a:lnTo>
                  <a:lnTo>
                    <a:pt x="314" y="1920"/>
                  </a:lnTo>
                  <a:lnTo>
                    <a:pt x="368" y="1752"/>
                  </a:lnTo>
                  <a:lnTo>
                    <a:pt x="451" y="1536"/>
                  </a:lnTo>
                  <a:lnTo>
                    <a:pt x="460" y="1420"/>
                  </a:lnTo>
                  <a:lnTo>
                    <a:pt x="390" y="1209"/>
                  </a:lnTo>
                  <a:lnTo>
                    <a:pt x="305" y="1002"/>
                  </a:lnTo>
                  <a:lnTo>
                    <a:pt x="269" y="852"/>
                  </a:lnTo>
                  <a:lnTo>
                    <a:pt x="269" y="710"/>
                  </a:lnTo>
                  <a:lnTo>
                    <a:pt x="305" y="587"/>
                  </a:lnTo>
                  <a:lnTo>
                    <a:pt x="368" y="427"/>
                  </a:lnTo>
                  <a:lnTo>
                    <a:pt x="368" y="366"/>
                  </a:lnTo>
                  <a:lnTo>
                    <a:pt x="336" y="299"/>
                  </a:lnTo>
                  <a:lnTo>
                    <a:pt x="420" y="224"/>
                  </a:lnTo>
                  <a:lnTo>
                    <a:pt x="420" y="145"/>
                  </a:lnTo>
                  <a:lnTo>
                    <a:pt x="305" y="0"/>
                  </a:lnTo>
                  <a:lnTo>
                    <a:pt x="403" y="145"/>
                  </a:lnTo>
                  <a:lnTo>
                    <a:pt x="403" y="211"/>
                  </a:lnTo>
                  <a:lnTo>
                    <a:pt x="314" y="277"/>
                  </a:lnTo>
                  <a:lnTo>
                    <a:pt x="344" y="366"/>
                  </a:lnTo>
                  <a:lnTo>
                    <a:pt x="336" y="427"/>
                  </a:lnTo>
                  <a:lnTo>
                    <a:pt x="247" y="609"/>
                  </a:lnTo>
                  <a:lnTo>
                    <a:pt x="234" y="785"/>
                  </a:lnTo>
                  <a:lnTo>
                    <a:pt x="261" y="949"/>
                  </a:lnTo>
                  <a:lnTo>
                    <a:pt x="314" y="1182"/>
                  </a:lnTo>
                  <a:lnTo>
                    <a:pt x="390" y="1368"/>
                  </a:lnTo>
                  <a:lnTo>
                    <a:pt x="390" y="1523"/>
                  </a:lnTo>
                  <a:lnTo>
                    <a:pt x="344" y="1721"/>
                  </a:lnTo>
                  <a:lnTo>
                    <a:pt x="261" y="1920"/>
                  </a:lnTo>
                  <a:lnTo>
                    <a:pt x="150" y="1809"/>
                  </a:lnTo>
                  <a:lnTo>
                    <a:pt x="105" y="1721"/>
                  </a:lnTo>
                  <a:lnTo>
                    <a:pt x="120" y="1523"/>
                  </a:lnTo>
                  <a:lnTo>
                    <a:pt x="105" y="1332"/>
                  </a:lnTo>
                  <a:lnTo>
                    <a:pt x="52" y="1072"/>
                  </a:lnTo>
                  <a:lnTo>
                    <a:pt x="30" y="900"/>
                  </a:lnTo>
                  <a:lnTo>
                    <a:pt x="52" y="697"/>
                  </a:lnTo>
                  <a:lnTo>
                    <a:pt x="97" y="503"/>
                  </a:lnTo>
                  <a:lnTo>
                    <a:pt x="195" y="313"/>
                  </a:lnTo>
                  <a:lnTo>
                    <a:pt x="105" y="233"/>
                  </a:lnTo>
                  <a:lnTo>
                    <a:pt x="97" y="97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119320" y="369720"/>
              <a:ext cx="262440" cy="341640"/>
            </a:xfrm>
            <a:custGeom>
              <a:avLst/>
              <a:gdLst/>
              <a:ahLst/>
              <a:rect l="0" t="0" r="r" b="b"/>
              <a:pathLst>
                <a:path w="729" h="949">
                  <a:moveTo>
                    <a:pt x="123" y="238"/>
                  </a:moveTo>
                  <a:lnTo>
                    <a:pt x="230" y="224"/>
                  </a:lnTo>
                  <a:lnTo>
                    <a:pt x="331" y="229"/>
                  </a:lnTo>
                  <a:lnTo>
                    <a:pt x="419" y="273"/>
                  </a:lnTo>
                  <a:lnTo>
                    <a:pt x="464" y="321"/>
                  </a:lnTo>
                  <a:lnTo>
                    <a:pt x="490" y="374"/>
                  </a:lnTo>
                  <a:lnTo>
                    <a:pt x="490" y="418"/>
                  </a:lnTo>
                  <a:lnTo>
                    <a:pt x="459" y="449"/>
                  </a:lnTo>
                  <a:lnTo>
                    <a:pt x="415" y="471"/>
                  </a:lnTo>
                  <a:lnTo>
                    <a:pt x="362" y="471"/>
                  </a:lnTo>
                  <a:lnTo>
                    <a:pt x="296" y="458"/>
                  </a:lnTo>
                  <a:lnTo>
                    <a:pt x="234" y="423"/>
                  </a:lnTo>
                  <a:lnTo>
                    <a:pt x="186" y="388"/>
                  </a:lnTo>
                  <a:lnTo>
                    <a:pt x="163" y="508"/>
                  </a:lnTo>
                  <a:lnTo>
                    <a:pt x="123" y="596"/>
                  </a:lnTo>
                  <a:lnTo>
                    <a:pt x="0" y="790"/>
                  </a:lnTo>
                  <a:lnTo>
                    <a:pt x="176" y="949"/>
                  </a:lnTo>
                  <a:lnTo>
                    <a:pt x="314" y="693"/>
                  </a:lnTo>
                  <a:lnTo>
                    <a:pt x="459" y="715"/>
                  </a:lnTo>
                  <a:lnTo>
                    <a:pt x="557" y="697"/>
                  </a:lnTo>
                  <a:lnTo>
                    <a:pt x="645" y="635"/>
                  </a:lnTo>
                  <a:lnTo>
                    <a:pt x="703" y="561"/>
                  </a:lnTo>
                  <a:lnTo>
                    <a:pt x="729" y="463"/>
                  </a:lnTo>
                  <a:lnTo>
                    <a:pt x="729" y="361"/>
                  </a:lnTo>
                  <a:lnTo>
                    <a:pt x="703" y="251"/>
                  </a:lnTo>
                  <a:lnTo>
                    <a:pt x="641" y="141"/>
                  </a:lnTo>
                  <a:lnTo>
                    <a:pt x="570" y="70"/>
                  </a:lnTo>
                  <a:lnTo>
                    <a:pt x="477" y="26"/>
                  </a:lnTo>
                  <a:lnTo>
                    <a:pt x="371" y="0"/>
                  </a:lnTo>
                  <a:lnTo>
                    <a:pt x="239" y="0"/>
                  </a:lnTo>
                  <a:lnTo>
                    <a:pt x="97" y="26"/>
                  </a:lnTo>
                  <a:lnTo>
                    <a:pt x="123" y="238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073240" y="700200"/>
              <a:ext cx="93960" cy="68760"/>
            </a:xfrm>
            <a:custGeom>
              <a:avLst/>
              <a:gdLst/>
              <a:ahLst/>
              <a:rect l="0" t="0" r="r" b="b"/>
              <a:pathLst>
                <a:path w="261" h="191">
                  <a:moveTo>
                    <a:pt x="105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2" y="165"/>
                  </a:lnTo>
                  <a:lnTo>
                    <a:pt x="155" y="191"/>
                  </a:lnTo>
                  <a:lnTo>
                    <a:pt x="239" y="187"/>
                  </a:lnTo>
                  <a:lnTo>
                    <a:pt x="261" y="142"/>
                  </a:lnTo>
                  <a:lnTo>
                    <a:pt x="247" y="102"/>
                  </a:lnTo>
                  <a:lnTo>
                    <a:pt x="212" y="44"/>
                  </a:lnTo>
                  <a:lnTo>
                    <a:pt x="150" y="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165240" y="384120"/>
            <a:ext cx="8674200" cy="6091200"/>
            <a:chOff x="165240" y="384120"/>
            <a:chExt cx="8674200" cy="6091200"/>
          </a:xfrm>
        </p:grpSpPr>
        <p:sp>
          <p:nvSpPr>
            <p:cNvPr id="86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9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6524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1520" y="437040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06320" y="486108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79480" y="44449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06400" y="5157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58960" y="51307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69840" y="386388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87480" y="39654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40080" y="400860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0320" y="19224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90840" y="220824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141560" y="22366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41640" y="21510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55880" y="22716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17960" y="213840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62200" y="22716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595600" y="22906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62320" y="220032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95520" y="252900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817640" y="20001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490760" y="20620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847880" y="21430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33520" y="292896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14440" y="304812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62160" y="21970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90560" y="22874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1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41520" y="17794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438200" y="9032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61960" y="14684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54240" y="148752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06680" y="14493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25640" y="14698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738440" y="168912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60680" y="169236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951200" y="171144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00280" y="18414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724040" y="19224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35040" y="153036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01680" y="15397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6560" y="137484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595520" y="13730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49520" y="149868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35120" y="147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0964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44720" y="14940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28960" y="1500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73280" y="14889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79640" y="15066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60600" y="16700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08080" y="17208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447920" y="8380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549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8928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811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62280" y="143028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460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2179800" y="1360440"/>
              <a:ext cx="0" cy="1890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27400" y="276552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17760" y="28875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08120" y="29034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608200" y="28796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68680" y="28065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98760" y="239724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32040" y="26161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78160" y="245592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90920" y="2590920"/>
              <a:ext cx="6248520" cy="35812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74840" y="235908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611440" y="255600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87600" y="25304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82840" y="253692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49600" y="24462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2819520" y="2743200"/>
              <a:ext cx="5867280" cy="29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ccounting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identify business goals and activities, and describe the role of accounting in making informed decis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many users of accounting information in society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xplain the importance of business transactions, money measure, and separate entity to accounting measuremen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7" name="" descr=""/>
            <p:cNvPicPr/>
            <p:nvPr/>
          </p:nvPicPr>
          <p:blipFill>
            <a:blip r:embed="rId1"/>
            <a:stretch/>
          </p:blipFill>
          <p:spPr>
            <a:xfrm>
              <a:off x="2666880" y="384120"/>
              <a:ext cx="55926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 txBox="1"/>
            <p:nvPr/>
          </p:nvSpPr>
          <p:spPr>
            <a:xfrm>
              <a:off x="3227400" y="6253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165240" y="380880"/>
            <a:ext cx="8521560" cy="6475680"/>
            <a:chOff x="165240" y="380880"/>
            <a:chExt cx="8521560" cy="6475680"/>
          </a:xfrm>
        </p:grpSpPr>
        <p:sp>
          <p:nvSpPr>
            <p:cNvPr id="97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976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524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41520" y="47512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06320" y="524196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79480" y="482616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06400" y="553896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58960" y="551196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69840" y="424512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87480" y="434664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40080" y="438948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60320" y="230364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590840" y="25891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141560" y="261792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141640" y="253224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55880" y="265284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117960" y="25192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62200" y="265284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95600" y="267192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62320" y="25812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95520" y="290988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17640" y="238140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90760" y="244332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47880" y="25239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33520" y="33098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14440" y="342900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62160" y="25779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90560" y="266868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541520" y="216072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38200" y="12841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461960" y="18493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54240" y="18684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606680" y="18302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25640" y="185112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738440" y="20700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660680" y="20732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951200" y="209232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700280" y="222264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4040" y="230364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535040" y="19112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101680" y="192096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906560" y="17557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95520" y="175428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49520" y="18795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35120" y="1859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709640" y="1865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944720" y="18748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028960" y="18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73280" y="18702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979640" y="18874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560600" y="20509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008080" y="21016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54040" y="125100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549440" y="178920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889280" y="18111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811160" y="187020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862280" y="181116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460520" y="179388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2179800" y="1741320"/>
              <a:ext cx="0" cy="1890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27400" y="314640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417760" y="32688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508120" y="328464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608200" y="326088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68680" y="318780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498760" y="277812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732040" y="299736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78160" y="28368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02080" y="2971800"/>
              <a:ext cx="6084720" cy="297180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74840" y="27399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11440" y="293688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487600" y="29113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82840" y="291780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49600" y="282744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 txBox="1"/>
            <p:nvPr/>
          </p:nvSpPr>
          <p:spPr>
            <a:xfrm>
              <a:off x="2895480" y="317988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three basic forms of business organizat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financial position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state the accounting equation, and show how they are affected by simple transact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four financial statemen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8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5143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 txBox="1"/>
            <p:nvPr/>
          </p:nvSpPr>
          <p:spPr>
            <a:xfrm>
              <a:off x="3368520" y="54936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"/>
          <p:cNvGrpSpPr/>
          <p:nvPr/>
        </p:nvGrpSpPr>
        <p:grpSpPr>
          <a:xfrm>
            <a:off x="316080" y="460440"/>
            <a:ext cx="8345160" cy="5940360"/>
            <a:chOff x="316080" y="460440"/>
            <a:chExt cx="8345160" cy="5940360"/>
          </a:xfrm>
        </p:grpSpPr>
        <p:sp>
          <p:nvSpPr>
            <p:cNvPr id="1071" name=""/>
            <p:cNvSpPr/>
            <p:nvPr/>
          </p:nvSpPr>
          <p:spPr>
            <a:xfrm>
              <a:off x="762120" y="5410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6080" y="5560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94440" y="1827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7480" y="444672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82640" y="493704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955800" y="452124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82720" y="52340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934920" y="520704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046160" y="394020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63800" y="404172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516040" y="408456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6640" y="199872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5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66800" y="228456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217520" y="231300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17600" y="222732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932200" y="234792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193920" y="221472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38520" y="234792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71920" y="236700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438280" y="227664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71840" y="260496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893960" y="207648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566720" y="213840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24200" y="221940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409840" y="300528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90760" y="312408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338120" y="227340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66880" y="236376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617840" y="185580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514520" y="97956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38280" y="154476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30560" y="156384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82640" y="152568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001960" y="154620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814400" y="176544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736640" y="176832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027160" y="178740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776240" y="191772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800360" y="199872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11360" y="160668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178000" y="161604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982880" y="145080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71480" y="144936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725480" y="157464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711440" y="155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85960" y="1560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21040" y="156996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104920" y="1576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749600" y="1565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055960" y="15825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636560" y="174636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084400" y="179712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30360" y="9460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625760" y="148428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965240" y="150660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887480" y="156528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938240" y="150660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36840" y="148896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2255760" y="1436760"/>
              <a:ext cx="0" cy="1890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403360" y="284148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94080" y="29638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84440" y="297972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84520" y="295596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44640" y="288288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575080" y="247320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08360" y="269244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454120" y="25322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678040" y="2666880"/>
              <a:ext cx="5983200" cy="31748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351160" y="243540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87760" y="263196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563920" y="260676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459160" y="261288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25560" y="252252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 txBox="1"/>
            <p:nvPr/>
          </p:nvSpPr>
          <p:spPr>
            <a:xfrm>
              <a:off x="2895480" y="2874960"/>
              <a:ext cx="5638680" cy="286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tate the relationship of generally accepted accounting principles (GAAP) to financial statements and the independent CPA’s report, and identify the organizations that influence GAAP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thic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describe the ethical responsibilities of accountan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1" name="" descr=""/>
            <p:cNvPicPr/>
            <p:nvPr/>
          </p:nvPicPr>
          <p:blipFill>
            <a:blip r:embed="rId1"/>
            <a:stretch/>
          </p:blipFill>
          <p:spPr>
            <a:xfrm>
              <a:off x="2743200" y="460440"/>
              <a:ext cx="55926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 txBox="1"/>
            <p:nvPr/>
          </p:nvSpPr>
          <p:spPr>
            <a:xfrm>
              <a:off x="3303720" y="701640"/>
              <a:ext cx="3736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