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4FBAEC74-180F-4C5D-ACFF-E29B6DA5C097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Position account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inancial position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nly financial position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ffcc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ed and that only financia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 accounts show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rued Expenses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eb.  9    Accrued Expens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rued Expense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1   Accrued Expenses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2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3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4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9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6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Position Statement columns or the Perform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Performance Statement columns and the Position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8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 balances have been sorted into Performance and Position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4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66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Performance Stat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umns and the Position columns of the work sheet balance after the amounts from the Adjusted Trial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9-13T02:12:01Z</dcterms:modified>
  <cp:revision>2</cp:revision>
  <dc:subject/>
  <dc:title>Chapter 1 Uses of Accounting Information and the Basic Financial Statements</dc:title>
</cp:coreProperties>
</file>